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083C-A4E3-43C9-A21D-24223D671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84582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17080" y="2869920"/>
            <a:ext cx="84582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F2EB-448E-4C88-AF05-4679B5298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1120" y="130968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7080" y="286992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51120" y="286992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95F3-CCBE-46EF-B03F-B6E2E7F20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2723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076920" y="1309680"/>
            <a:ext cx="2723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37120" y="1309680"/>
            <a:ext cx="2723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17080" y="2869920"/>
            <a:ext cx="2723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076920" y="2869920"/>
            <a:ext cx="2723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37120" y="2869920"/>
            <a:ext cx="2723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83CC-09F3-4F51-93C4-6D74D62AC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17080" y="1309680"/>
            <a:ext cx="8458200" cy="29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8458200" cy="29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4127400" cy="29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51120" y="1309680"/>
            <a:ext cx="4127400" cy="29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17440" y="382680"/>
            <a:ext cx="85694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51120" y="1309680"/>
            <a:ext cx="4127400" cy="29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17080" y="286992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17080" y="1309680"/>
            <a:ext cx="8458200" cy="29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5EEB-41A7-4374-8301-41758D2F6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4127400" cy="29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51120" y="130968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51120" y="286992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51120" y="130968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17080" y="2869920"/>
            <a:ext cx="84582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84582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17080" y="2869920"/>
            <a:ext cx="84582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51120" y="130968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17080" y="286992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51120" y="286992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2723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76920" y="1309680"/>
            <a:ext cx="2723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37120" y="1309680"/>
            <a:ext cx="2723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17080" y="2869920"/>
            <a:ext cx="2723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076920" y="2869920"/>
            <a:ext cx="2723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37120" y="2869920"/>
            <a:ext cx="2723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8458200" cy="29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167A-437C-41CB-AF54-653E944D4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4127400" cy="29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1120" y="1309680"/>
            <a:ext cx="4127400" cy="29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FF76-67D3-4AC2-B470-A6754C8BD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5A6B-73CD-4DC5-A7A6-0B81FB9DF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17440" y="382680"/>
            <a:ext cx="85694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2885-EEF3-407D-BB9D-AC5281D65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51120" y="1309680"/>
            <a:ext cx="4127400" cy="29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7080" y="286992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05BD-472C-4C7D-BEE3-152A12616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4127400" cy="29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1120" y="130968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51120" y="286992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E8E3-6F0D-47CA-9E9B-04630BD47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7080" y="130968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51120" y="1309680"/>
            <a:ext cx="41274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17080" y="2869920"/>
            <a:ext cx="8458200" cy="14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AE4F-3063-4DF0-81CC-EF8D59510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080" y="1309680"/>
            <a:ext cx="8458200" cy="29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4320" y="525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resentation Tit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|  Presentation Subtitle  |  Confi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FA9B-F75F-4DC0-B90C-26D0822AD66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4320" y="525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2882880" y="6502320"/>
            <a:ext cx="3495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BM developerWorks Live!, New Orleans, April 9 – 12,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30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42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7944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6629400"/>
            <a:ext cx="219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6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7028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364600" y="147600"/>
            <a:ext cx="622080" cy="24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-60480" y="6435720"/>
          <a:ext cx="92473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60480" y="6435720"/>
                    <a:ext cx="92473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286240" y="6456240"/>
          <a:ext cx="3711600" cy="31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6456240"/>
                    <a:ext cx="37116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Mark1" descr=""/>
          <p:cNvPicPr/>
          <p:nvPr/>
        </p:nvPicPr>
        <p:blipFill>
          <a:blip r:embed="rId9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19080" y="5564160"/>
            <a:ext cx="9144000" cy="132552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132552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23920" y="6226200"/>
            <a:ext cx="4845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IBM developerWorks Live!; New Orleans, April 9 – 12, 200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75931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42160" y="562752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-19080" y="5564160"/>
            <a:ext cx="9144000" cy="132552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13827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23920" y="6226200"/>
            <a:ext cx="4845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IBM developerWorks Live!; New Orleans, April 9 – 12, 200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75931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842160" y="562752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470720" y="1312920"/>
            <a:ext cx="14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66880" y="3759120"/>
            <a:ext cx="1985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ak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23960" y="3797280"/>
            <a:ext cx="50961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g Bobak, e-Business Programmer/Analyst,  Cole Na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19080" y="5564160"/>
            <a:ext cx="9144000" cy="132552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13827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75931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6842160" y="562752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2040" y="2009880"/>
            <a:ext cx="795348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54440" y="3760920"/>
            <a:ext cx="60865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1680" y="1769760"/>
            <a:ext cx="795348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9999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8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4680" y="5194440"/>
            <a:ext cx="9142560" cy="377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876"/>
              </a:spcBef>
              <a:spcAft>
                <a:spcPts val="524"/>
              </a:spcAft>
              <a:buClr>
                <a:srgbClr val="2db6b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db6b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2db6b3"/>
              </a:buClr>
              <a:buSzPct val="5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382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Arial"/>
              </a:rPr>
              <a:t>Case Study:  </a:t>
            </a:r>
            <a:br>
              <a:rPr sz="3600"/>
            </a:br>
            <a:r>
              <a:rPr b="0" lang="en-US" sz="3600" spc="-1" strike="noStrike">
                <a:solidFill>
                  <a:srgbClr val="9999ff"/>
                </a:solidFill>
                <a:latin typeface="Arial"/>
              </a:rPr>
              <a:t>Secure Web Services at Things Remembered</a:t>
            </a:r>
            <a:r>
              <a:rPr b="0" i="1" lang="en-US" sz="20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99ff"/>
              </a:solidFill>
              <a:latin typeface="Arial"/>
            </a:endParaRPr>
          </a:p>
        </p:txBody>
      </p:sp>
      <p:pic>
        <p:nvPicPr>
          <p:cNvPr id="181" name="Mark1" descr=""/>
          <p:cNvPicPr/>
          <p:nvPr/>
        </p:nvPicPr>
        <p:blipFill>
          <a:blip r:embed="rId1"/>
          <a:stretch/>
        </p:blipFill>
        <p:spPr>
          <a:xfrm>
            <a:off x="228600" y="568440"/>
            <a:ext cx="129528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hat jStart Recommended…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458200" cy="243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 fontScale="99000"/>
          </a:bodyPr>
          <a:p>
            <a:pPr marL="226080" indent="-22608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the latest Web Services security proposal using digital sign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highly configurable and better performing version of SOA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Mark1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11DA-D292-437E-A044-36809A018B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Mark1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581280" y="2819520"/>
            <a:ext cx="1447920" cy="914400"/>
          </a:xfrm>
          <a:prstGeom prst="flowChartPredefinedProcess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Piv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819520"/>
            <a:ext cx="1371600" cy="990360"/>
          </a:xfrm>
          <a:prstGeom prst="flowChartProcess">
            <a:avLst/>
          </a:prstGeom>
          <a:solidFill>
            <a:srgbClr val="2db6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5181480"/>
            <a:ext cx="609480" cy="609840"/>
          </a:xfrm>
          <a:prstGeom prst="flowChartOffpageConnector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3733920"/>
            <a:ext cx="609840" cy="1447560"/>
          </a:xfrm>
          <a:custGeom>
            <a:avLst/>
            <a:gdLst/>
            <a:ahLst/>
            <a:rect l="l" t="t" r="r" b="b"/>
            <a:pathLst>
              <a:path w="384" h="912">
                <a:moveTo>
                  <a:pt x="192" y="0"/>
                </a:moveTo>
                <a:lnTo>
                  <a:pt x="0" y="480"/>
                </a:lnTo>
                <a:lnTo>
                  <a:pt x="96" y="432"/>
                </a:lnTo>
                <a:lnTo>
                  <a:pt x="240" y="384"/>
                </a:lnTo>
                <a:lnTo>
                  <a:pt x="96" y="912"/>
                </a:lnTo>
                <a:lnTo>
                  <a:pt x="384" y="192"/>
                </a:lnTo>
                <a:lnTo>
                  <a:pt x="96" y="336"/>
                </a:lnTo>
                <a:lnTo>
                  <a:pt x="192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1600200"/>
            <a:ext cx="914400" cy="457200"/>
          </a:xfrm>
          <a:prstGeom prst="flowChartManualInpu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1600200"/>
            <a:ext cx="914400" cy="457200"/>
          </a:xfrm>
          <a:prstGeom prst="flowChartManualInpu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5" idx="2"/>
            <a:endCxn id="211" idx="0"/>
          </p:cNvCxnSpPr>
          <p:nvPr/>
        </p:nvCxnSpPr>
        <p:spPr>
          <a:xfrm flipH="1" rot="16200000">
            <a:off x="3485880" y="1999800"/>
            <a:ext cx="762840" cy="876960"/>
          </a:xfrm>
          <a:prstGeom prst="bentConnector3">
            <a:avLst>
              <a:gd name="adj1" fmla="val 50000"/>
            </a:avLst>
          </a:prstGeom>
          <a:ln w="381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2"/>
            <a:endCxn id="211" idx="0"/>
          </p:cNvCxnSpPr>
          <p:nvPr/>
        </p:nvCxnSpPr>
        <p:spPr>
          <a:xfrm rot="5400000">
            <a:off x="4285440" y="2076120"/>
            <a:ext cx="762840" cy="724680"/>
          </a:xfrm>
          <a:prstGeom prst="bentConnector3">
            <a:avLst>
              <a:gd name="adj1" fmla="val 50000"/>
            </a:avLst>
          </a:prstGeom>
          <a:ln w="38160">
            <a:solidFill>
              <a:srgbClr val="99ccff"/>
            </a:solidFill>
            <a:miter/>
            <a:tailEnd len="med" type="triangle" w="med"/>
          </a:ln>
        </p:spPr>
      </p:cxn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Client Sid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12" idx="3"/>
            <a:endCxn id="211" idx="1"/>
          </p:cNvCxnSpPr>
          <p:nvPr/>
        </p:nvCxnSpPr>
        <p:spPr>
          <a:xfrm flipV="1">
            <a:off x="2209680" y="3276360"/>
            <a:ext cx="1372320" cy="38880"/>
          </a:xfrm>
          <a:prstGeom prst="straightConnector1">
            <a:avLst/>
          </a:prstGeom>
          <a:ln w="381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791320" y="1143000"/>
            <a:ext cx="312408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 receives service name and mess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digitally signed.  Handling is determined by the client-config.wsd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sent to the web service via HTTP or HTT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AFE4-ED11-4013-ADC5-929078B1B8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ent-config.wsd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1143000"/>
            <a:ext cx="35816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flow control for request, response and global configu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is highly configur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design and code re-use is easy and 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implementation simp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1371600"/>
            <a:ext cx="5334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eployment xmlns="http://xml.apache.org/axis/wsdd/" xmlns:java=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http://xml.apache.org/axis/wsdd/providers/java"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service name="RISLookUp" provider="java:RPC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&lt;requestFlow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handler type="java:com.ibm.cole.dsig.Signer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&lt;parameter name="keyStore" value="client.jks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&lt;parameter name="keyPswd" value="userPswd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&lt;parameter name="keyAlias" value="customer1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&lt;parameter name="keyStorePswd" value="123456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&lt;/handler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&lt;/requestFlow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&lt;parameter name="allowedMethods“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value="sendTransaction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&lt;parameter name="className“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value="tb.TransactionBroker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/servic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deploymen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965B-45D5-4729-941D-375F568347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ent-config.wsd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905120"/>
            <a:ext cx="81536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requestFlow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handler type="java:com.ibm.cole.dsig.Sign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&lt;parameter name="keyStore" value="client.jks"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&lt;parameter name="keyPswd" value="userPswd"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&lt;parameter name="keyAlias" value="customer1"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&lt;parameter name="keyStorePswd" value="123456"/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andler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requestFlow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9C54-5185-4F91-AF65-017C94C346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Digital Signer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505320" cy="475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security element to SOAP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X.509 certificate on client side to sign SOAP body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s key data into Security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s digital signature into Security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control to pivot program on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838080"/>
            <a:ext cx="56386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org.apache.axis.handlers.BasicHand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.security.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.security.cert.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x.xml.soap.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.apache.axis.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.apache.axis.handlers.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.apache.axis.message.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.ibm.crypto.provider.IBMJ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.ibm.xml.dsig.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4811-50CB-4756-8B0D-CE028B07A2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62864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271440" y="-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dgm3d592b4f01c5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-228600" y="0"/>
            <a:ext cx="9839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B5E9-65A4-4A0F-8E80-09D4A271FC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Security Elemen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9072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wsse:Security soapenv:actor="http://www.cole.com/actors#verifier" soapenv:mustUnderstand="1" xmlns:wsse="http://schemas.xmlsoap.org/ws/2002/04/secext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ignature xmlns="http://www.w3.org/2000/09/xmldsig#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ignedInfo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&lt;CanonicalizationMetho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Algorithm="http://www.w3.org/2001/10/xml-exc-c14n#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&lt;SignatureMetho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Algorithm="http://www.w3.org/2000/09/xmldsig#rsa-sha1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&lt;Reference URI="#sign_content_1046106198666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&lt;Transforms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&lt;Transform Algorithm="http://www.w3.org/2001/10/xml-exc-c14n#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&lt;/Transforms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igestMethod Algorithm="http://www.w3.org/2000/09/xmldsig#sha1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igestValue&gt;3hReyGjISpaYqv5r47RM5Npsm4Y=&lt;/DigestValu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54CD-CE8C-47F8-B9B0-EBA38EA422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Security Elemen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06668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SignedInfo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ignatureValue&gt;Y7/nU44/XzTpLoC+72rQtjItbsDCouH1zJPAaWADR2jd/sVK6UrsKVX8oeG9RN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SignatureValu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KeyInfo xmlns="http://www.w3.org/2000/09/xmldsig#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&lt;KeyValu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&lt;RSAKeyValu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&lt;Modulus&gt;2sW+eBjx5D2QMyr8o…&lt;/Modulus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&lt;Exponent&gt;AQAB&lt;/Exponent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&lt;/RSAKeyValu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&lt;/KeyValu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&lt;X509Data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&lt;X509IssuerSerial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&lt;X509IssuerName&gt;OU=Java,O=IBM,L=Unknown,ST=Oklahoma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C=US&lt;/X509Issuer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252D-9429-481F-8392-95B4F191B7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Security Elemen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1600200"/>
            <a:ext cx="8763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X509SerialNumber&gt;0&lt;/X509SerialNumber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&lt;/X509IssuerSerial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&lt;X509SubjectName&gt;CN=John Doe&lt;/X509SubjectNam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&lt;X509Certificate&gt;MIIB0TCCAToCAQAwDQYJKoZIhvcNAQEEBQ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AwTzELMAkGA1UEBhMCVVMxETAPBgNVBAgTCE9rbGFo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&lt;/X509Certificat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&lt;/X509Data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&lt;/KeyInfo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&lt;/Signatur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wsse:Securit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A327-9FC0-4B74-8390-ECF9457A56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Mark1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124080" y="3429000"/>
            <a:ext cx="1447920" cy="914400"/>
          </a:xfrm>
          <a:prstGeom prst="flowChartPredefinedProcess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Piv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4419720"/>
            <a:ext cx="1371600" cy="990360"/>
          </a:xfrm>
          <a:prstGeom prst="flowChartProcess">
            <a:avLst/>
          </a:prstGeom>
          <a:solidFill>
            <a:srgbClr val="2db6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1447920"/>
            <a:ext cx="609480" cy="609480"/>
          </a:xfrm>
          <a:prstGeom prst="flowChartOffpageConnector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2057400"/>
            <a:ext cx="609480" cy="1447920"/>
          </a:xfrm>
          <a:custGeom>
            <a:avLst/>
            <a:gdLst/>
            <a:ahLst/>
            <a:rect l="l" t="t" r="r" b="b"/>
            <a:pathLst>
              <a:path w="384" h="912">
                <a:moveTo>
                  <a:pt x="192" y="0"/>
                </a:moveTo>
                <a:lnTo>
                  <a:pt x="0" y="480"/>
                </a:lnTo>
                <a:lnTo>
                  <a:pt x="96" y="432"/>
                </a:lnTo>
                <a:lnTo>
                  <a:pt x="240" y="384"/>
                </a:lnTo>
                <a:lnTo>
                  <a:pt x="96" y="912"/>
                </a:lnTo>
                <a:lnTo>
                  <a:pt x="384" y="192"/>
                </a:lnTo>
                <a:lnTo>
                  <a:pt x="96" y="336"/>
                </a:lnTo>
                <a:lnTo>
                  <a:pt x="192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Server Sid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514600"/>
            <a:ext cx="1371600" cy="990720"/>
          </a:xfrm>
          <a:prstGeom prst="flowChartProcess">
            <a:avLst/>
          </a:prstGeom>
          <a:solidFill>
            <a:srgbClr val="2db6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0" idx="1"/>
            <a:endCxn id="245" idx="3"/>
          </p:cNvCxnSpPr>
          <p:nvPr/>
        </p:nvCxnSpPr>
        <p:spPr>
          <a:xfrm flipH="1" flipV="1">
            <a:off x="2056680" y="3009600"/>
            <a:ext cx="1067400" cy="876960"/>
          </a:xfrm>
          <a:prstGeom prst="straightConnector1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5" idx="2"/>
            <a:endCxn id="245" idx="2"/>
          </p:cNvCxnSpPr>
          <p:nvPr/>
        </p:nvCxnSpPr>
        <p:spPr>
          <a:xfrm>
            <a:off x="1371240" y="350496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48" name=""/>
          <p:cNvCxnSpPr>
            <a:stCxn id="245" idx="2"/>
            <a:endCxn id="241" idx="0"/>
          </p:cNvCxnSpPr>
          <p:nvPr/>
        </p:nvCxnSpPr>
        <p:spPr>
          <a:xfrm>
            <a:off x="1371240" y="3505320"/>
            <a:ext cx="1080" cy="915120"/>
          </a:xfrm>
          <a:prstGeom prst="straightConnector1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1" idx="3"/>
            <a:endCxn id="240" idx="1"/>
          </p:cNvCxnSpPr>
          <p:nvPr/>
        </p:nvCxnSpPr>
        <p:spPr>
          <a:xfrm flipV="1">
            <a:off x="2057040" y="3885840"/>
            <a:ext cx="1067400" cy="1029600"/>
          </a:xfrm>
          <a:prstGeom prst="straightConnector1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3657600" y="4343400"/>
            <a:ext cx="485640" cy="1214280"/>
          </a:xfrm>
          <a:prstGeom prst="upDownArrow">
            <a:avLst>
              <a:gd name="adj1" fmla="val 50000"/>
              <a:gd name="adj2" fmla="val 49776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56386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egacy 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685800"/>
            <a:ext cx="34290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b service receives the message via HTTP or HTT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ipt, flow is determined by the server-config.wsd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essages are logg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signature is verifi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is forwarded to legacy app via MQSe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9C9C-0042-47B4-AFA8-F439E4D226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ole National Corporation - Overview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315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e National Corp – name behind some of the most recognized brands in the $16B optical indu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e Managed Vision – the largest company-owned, operated provider of any vision network in the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logo_brands" descr=""/>
          <p:cNvPicPr/>
          <p:nvPr/>
        </p:nvPicPr>
        <p:blipFill>
          <a:blip r:embed="rId1"/>
          <a:stretch/>
        </p:blipFill>
        <p:spPr>
          <a:xfrm>
            <a:off x="-304920" y="5943600"/>
            <a:ext cx="9677520" cy="511200"/>
          </a:xfrm>
          <a:prstGeom prst="rect">
            <a:avLst/>
          </a:prstGeom>
          <a:ln w="0">
            <a:noFill/>
          </a:ln>
        </p:spPr>
      </p:pic>
      <p:pic>
        <p:nvPicPr>
          <p:cNvPr id="185" name="Mark1" descr=""/>
          <p:cNvPicPr/>
          <p:nvPr/>
        </p:nvPicPr>
        <p:blipFill>
          <a:blip r:embed="rId2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7596-8269-495B-AED0-03960B332A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Logger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458200" cy="25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s every message received by named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record of every request to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” of request.  Requester cannot repudiate request – it’s log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1 half of non-repu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Mark1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213D-C71F-4F82-AA7D-38C6F0F9A7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62864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271440" y="-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4308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dgm3d5921e6017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8049-36AD-47A2-B414-B3C175629D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Verifier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half of non-repu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s sign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 is based on the SOAP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s message was not tampered with in trans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rusted partners have “key” to sign doc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unlocks/verifies signature with same “ke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authentication or author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mply that message came from trusted source, how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Mark1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7262-7F59-47C2-9E74-950AE0D280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62864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271440" y="-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dgm3d592b4f01c5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-228600" y="0"/>
            <a:ext cx="9839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4874-1811-4688-8503-2045FDB457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rver-config.wsd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1143000"/>
            <a:ext cx="3505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flow control for request, response and global configu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is highly configur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design and code re-use is easy and si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889f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implementation is simp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371600"/>
            <a:ext cx="53341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?xml version="1.0" encoding="UTF-8"?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eployment xmlns="http://xml.apache.org/axis/wsdd/" xmlns:java=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http://xml.apache.org/axis/wsdd/providers/java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rvice name="RISLookUp" provider="java:RPC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&lt;requestFlow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ndler type="java:com.ibm.cole.log.LogHandl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ndler type="java:com.ibm.cole.dsig.Verifi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arameter name="keyStore" value="server.jks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&lt;parameter name="keyStorePswd" value="123456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&lt;parameter name="actor“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value="http://www.cole.com/actors#verifier"/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&lt;/handler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&lt;/requestFlow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&lt;parameter name="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edMetho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value="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dTrans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&lt;parameter name="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  value=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.cole.webservices.tb.TransactionBrok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/servic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3F30-052A-42B5-B35D-ACC1B5FB71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rver-config.wsd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838080"/>
            <a:ext cx="89154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eployment xmlns="http://xml.apache.org/axis/wsdd/" xmlns:java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http://xml.apache.org/axis/wsdd/providers/java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ervice name="RISLookUp" provider="java:RPC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&lt;requestFlow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r type="java:com.ibm.cole.log.LogHand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r type="java:com.ibm.cole.dsig.Verif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&lt;parameter name="keyStore" value="server.jks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&lt;parameter name="keyStorePswd" value="123456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&lt;parameter name="actor“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value="http://www.cole.com/actors#verifier"/&g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&lt;/handler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&lt;/requestFlow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&lt;parameter name=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edMeth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value=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Trans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&lt;parameter name=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value=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.cole.webservices.tb.TransactionBro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/servic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EDB6-1CF8-481B-900C-25E24E4CD0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References…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17080" y="1309320"/>
            <a:ext cx="8458200" cy="36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 fontScale="99000"/>
          </a:bodyPr>
          <a:p>
            <a:pPr marL="226080" indent="-22608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BM, Microsoft, &amp; Verisign Web Services Security Proposal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  <a:ea typeface="Times New Roman"/>
              </a:rPr>
              <a:t>http://www-106.ibm.com/developerworks/webservices/library/ws-secure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l Current Security Specs –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  <a:ea typeface="Times New Roman"/>
              </a:rPr>
              <a:t>http://www-3.ibm.com/software/solutions/webservices/ws_spec_sec.html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west Web Service Technologies -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  <a:ea typeface="Times New Roman"/>
              </a:rPr>
              <a:t>http://www.alphaworks.ibm.com/webservices</a:t>
            </a:r>
            <a:br>
              <a:rPr sz="2000"/>
            </a:b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gital Signature Syntax Processing – </a:t>
            </a:r>
            <a:br>
              <a:rPr sz="2000"/>
            </a:b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  <a:ea typeface="Times New Roman"/>
              </a:rPr>
              <a:t>http://www.w3.org/TR/2002/REC-xmldsig-core-2002021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Mark1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FCF7-E78A-491D-9168-53E2A03D0C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743200" y="91440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105520" y="4114800"/>
            <a:ext cx="2286000" cy="878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352680" y="5257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s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Mark1" descr=""/>
          <p:cNvPicPr/>
          <p:nvPr/>
        </p:nvPicPr>
        <p:blipFill>
          <a:blip r:embed="rId2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278" name="Mark1" descr="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2514600" y="4114800"/>
            <a:ext cx="1978200" cy="83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24C8-C489-47EC-B6F3-D43C0747C9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ings Remembered Overview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7574040" cy="53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876"/>
              </a:spcBef>
              <a:spcAft>
                <a:spcPts val="524"/>
              </a:spcAft>
              <a:buClr>
                <a:srgbClr val="2db6b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Remembered owns the specialty retail niche in personalized gi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876"/>
              </a:spcBef>
              <a:spcAft>
                <a:spcPts val="524"/>
              </a:spcAft>
              <a:buClr>
                <a:srgbClr val="2db6b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ve advantage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me day personalization nationw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year heritage, operating 774 stores in 46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3x3 segmentation strategy with synchronized channels of distrib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a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Mark1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57400" y="5029200"/>
            <a:ext cx="3352680" cy="1295280"/>
          </a:xfrm>
          <a:prstGeom prst="rect">
            <a:avLst/>
          </a:prstGeom>
          <a:noFill/>
          <a:ln w="38160">
            <a:solidFill>
              <a:srgbClr val="2db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2BDA-6498-4E42-8BE8-67F856E269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71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F785-BCF3-493D-8499-C98CF17626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266544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ings Remembered Partnership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6095880" cy="5468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2362320"/>
            <a:ext cx="2666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-800-flowers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rated shopping flow, single check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bSphere has enabled us to extend our core personalization process to Strategic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Mark1" descr=""/>
          <p:cNvPicPr/>
          <p:nvPr/>
        </p:nvPicPr>
        <p:blipFill>
          <a:blip r:embed="rId2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BC03-9A6D-4977-8349-6857B24EDA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82840" y="457200"/>
            <a:ext cx="56610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2280" y="2209680"/>
            <a:ext cx="3048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catalog and shopping experience  conducted on partner s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onalization process conducted on our WS Commerce site, integrated back into the partner’s shopping cart via WebSphere 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4080" y="871560"/>
            <a:ext cx="266544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Things Remembered Partner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Mark1" descr=""/>
          <p:cNvPicPr/>
          <p:nvPr/>
        </p:nvPicPr>
        <p:blipFill>
          <a:blip r:embed="rId2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BA62-FED1-411B-A5F6-6CE5874379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The Journey to Web Service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3454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 fontScale="99000"/>
          </a:bodyPr>
          <a:p>
            <a:pPr marL="226080" indent="-22608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001 – Moved to Websphere Commerce Suite 5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2001 – Added first online partner 1800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1001"/>
              </a:spcBef>
              <a:spcAft>
                <a:spcPts val="601"/>
              </a:spcAft>
              <a:buClr>
                <a:srgbClr val="2db6b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d information with servlets using HTTP P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spcBef>
                <a:spcPts val="1001"/>
              </a:spcBef>
              <a:spcAft>
                <a:spcPts val="601"/>
              </a:spcAft>
              <a:buClr>
                <a:srgbClr val="2db6b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t customer experience using ThingsRemembered.com pers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Mark1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B264-A15F-4E81-BB38-5054DE27F3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Journey to Web Service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523880"/>
            <a:ext cx="7620120" cy="31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2db6b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sonalization received real-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2db6b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ders not real-time.  Used proprietary system to retrieve orders later.  Exposes inventory problems.  No real- time integration to central fulfillment mo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B362-A120-4AB9-96A9-E10761DDC5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440" y="382680"/>
            <a:ext cx="8569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The Journey to Web Service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619760" cy="38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 fontScale="99000"/>
          </a:bodyPr>
          <a:p>
            <a:pPr marL="226080" indent="-22608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02 – Began exploring new partnerships. Had to guarantee inventory, so we needed to accept orders real-time to monitor inventory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02 – First contact with jStart at DeveloperWorksLive in San Francis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buClr>
                <a:srgbClr val="2db6b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002 – Engaged j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Mark1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FC60-5C02-44AF-A868-3022589071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23:20:50Z</dcterms:created>
  <dc:creator>Bill Holtshouser</dc:creator>
  <dc:description/>
  <dc:language>en-US</dc:language>
  <cp:lastModifiedBy>IBM_User</cp:lastModifiedBy>
  <dcterms:modified xsi:type="dcterms:W3CDTF">2003-05-27T15:22:01Z</dcterms:modified>
  <cp:revision>122</cp:revision>
  <dc:subject/>
  <dc:title>IBM WebSphere:  Partnering with Cole National</dc:title>
</cp:coreProperties>
</file>