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09F7-1899-4A9A-88AA-93661C035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F9D8-83B4-4203-8C85-971626433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2409-0EB9-462A-8CA3-F5621FE19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A780-E132-460F-A25A-1CA042BED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C878-E5AF-43F9-80CD-8ED161488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6B8E-9EEB-4CF9-BCF6-DBA547962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41B2-AC35-4C42-87EA-858B182BB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2732-EE01-4CAE-856A-5A4C4E89C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9136-8FC2-43E8-AC80-E4B9C238B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796A-CA26-4234-BB03-F04AF7A8A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7F24-7B50-460A-AB93-C38FF267E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89C8-051E-4AAE-8F05-FCD77DE5B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064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42200"/>
            <a:ext cx="914544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25600" y="123840"/>
            <a:ext cx="36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| WebSphere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27880" y="652932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DD22-8622-4113-A311-193078B8D21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53040"/>
            <a:ext cx="9144000" cy="17604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07160" y="5230800"/>
            <a:ext cx="2162160" cy="399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440" y="4776840"/>
            <a:ext cx="9141120" cy="37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-50638" b="-116850"/>
          <a:stretch/>
        </p:blipFill>
        <p:spPr>
          <a:xfrm>
            <a:off x="1895400" y="4159080"/>
            <a:ext cx="2946600" cy="65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74120" y="687240"/>
            <a:ext cx="1162080" cy="559440"/>
            <a:chOff x="7674120" y="687240"/>
            <a:chExt cx="1162080" cy="559440"/>
          </a:xfrm>
        </p:grpSpPr>
        <p:pic>
          <p:nvPicPr>
            <p:cNvPr id="51" name="" descr=""/>
            <p:cNvPicPr/>
            <p:nvPr/>
          </p:nvPicPr>
          <p:blipFill>
            <a:blip r:embed="rId5"/>
            <a:srcRect l="0" t="0" r="6463" b="0"/>
            <a:stretch/>
          </p:blipFill>
          <p:spPr>
            <a:xfrm>
              <a:off x="7674120" y="687240"/>
              <a:ext cx="1003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606160" y="96984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130176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874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0240" y="2494080"/>
            <a:ext cx="795492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phere Application Server for z/OS Sales Cheat-Sheet for Business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Value Proposi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532880"/>
            <a:ext cx="83818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BM WebSphere Application Server dominates the market.  It is widely deployed because of the key features it offers, such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lps increase your return on investment by leveraging J2EE 1.4 certified techn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s Oriented Architecture (SOA) platform designed for rapid integration of existing IT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sists in eliminating lost business opportunities with near continuous availability for your workloads and failover support provided by the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lp improve time to value with features enabling ease of use and an improved out-of-the-box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lps improve end-to-end security across the resources in you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s unified administration with the ability to administer WebSphere Application Server across versions and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otal cost of ownership by leveraging the zAAP or IFL specialized process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 and extend mainframe software assets and exploit the qualities of service of the platform, such as close proximity to data, intense scalability and stalwart secu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bSphere Application Server deployed in zSeries environments provides the additional benefit of leveraging the On Demand functionality available only on our premiere plat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ustomer Nee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4772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"I need to respond quickly to changes in the marketplace and minimize the risk to the organization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 need to comply with business controls and audit requirements while protecting security, integrity and privacy of dat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 need to consolidate and simplify my complex and sprawling IT infrastructur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 can’t respond quickly to requests to update and deploy new applications in response to emerging market opportunities or threa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 must contain and reduce costs by leveraging existing mainframe investments and ensuring staff can consistently support my enterpris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 want to extend the comfort of my mainframe quality of services into my new business transactions and ensure my mission critical applications are secure and reliable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 want to position my applications to take full advantage of my data residing on the mainfram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647360"/>
            <a:ext cx="828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rage existing mainframe investments and provide an end-to-end integration fabric using J2EE open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d quickly to a constantly changing environment by leveraging rapid application deployment and fine grained application modif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hensive system tracking capabilities capable of easily supporting Regulatory Comp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 robust IT infrastructure that provides the foundation of a Service Oriented Architectures (SOA) that provides businesses with the flexibility they need to become On Demand Busi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costs by leveraging zSeries innovation in the form of specialized processors designed to offload workload expenses – Integrated Facility for Linux (IFL) and zSeries Application Assist Processor (zAA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e your applications to run highly variable workloads intelligently with intense performance and secu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to ask to identify a proje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525320"/>
            <a:ext cx="8221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Would you like to save money by leveraging your existing assets into your new applications?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o you have the majority of your data on the mainfram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s your IT budget growing unwieldy as you try to maintain high availability and failover support between applications that have grown exponentially due to architecture inabilities of non-mainframes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s Regulatory Compliance important to your business now and into the future (Sarbanes-Oxley)?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o you have critical applications which are in danger of not meeting service level agreements?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re you looking at maximizing your investment in CICS transactions and expose these applications and data to meet new business opportunities?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o you have applications that require strict isolation and rollback support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o you have stringent security requirements for your transactions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etitors, Competitive Advantag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7800" y="3276360"/>
            <a:ext cx="57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WAS offers advanced J2E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Robust application hos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bility to integrate into the value of th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valiability on zSeries with z/OS platform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280" y="2666160"/>
            <a:ext cx="78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e Advantages of WebSphere Application Server Version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8280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in competitors a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ff-plat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ducts such a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A,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6:01:45Z</dcterms:created>
  <dc:creator>IBM_USER</dc:creator>
  <dc:description/>
  <dc:language>en-US</dc:language>
  <cp:lastModifiedBy>IBM_USER</cp:lastModifiedBy>
  <dcterms:modified xsi:type="dcterms:W3CDTF">2006-03-09T14:38:05Z</dcterms:modified>
  <cp:revision>2</cp:revision>
  <dc:subject/>
  <dc:title>Slide 1</dc:title>
</cp:coreProperties>
</file>