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png" ContentType="image/png"/>
  <Override PartName="/ppt/media/image34.png" ContentType="image/png"/>
  <Override PartName="/ppt/media/image28.png" ContentType="image/png"/>
  <Override PartName="/ppt/media/image38.jpeg" ContentType="image/jpeg"/>
  <Override PartName="/ppt/media/image13.png" ContentType="image/png"/>
  <Override PartName="/ppt/media/image50.jpeg" ContentType="image/jpeg"/>
  <Override PartName="/ppt/media/image8.wmf" ContentType="image/x-wmf"/>
  <Override PartName="/ppt/media/image41.jpeg" ContentType="image/jpeg"/>
  <Override PartName="/ppt/media/image30.png" ContentType="image/png"/>
  <Override PartName="/ppt/media/image42.png" ContentType="image/png"/>
  <Override PartName="/ppt/media/image44.png" ContentType="image/png"/>
  <Override PartName="/ppt/media/image40.jpeg" ContentType="image/jpeg"/>
  <Override PartName="/ppt/media/image45.wmf" ContentType="image/x-wmf"/>
  <Override PartName="/ppt/media/image46.wmf" ContentType="image/x-wmf"/>
  <Override PartName="/ppt/media/image51.jpeg" ContentType="image/jpeg"/>
  <Override PartName="/ppt/media/image43.png" ContentType="image/png"/>
  <Override PartName="/ppt/media/image53.jpeg" ContentType="image/jpeg"/>
  <Override PartName="/ppt/media/image52.jpeg" ContentType="image/jpeg"/>
  <Override PartName="/ppt/media/image9.png" ContentType="image/png"/>
  <Override PartName="/ppt/media/image39.png" ContentType="image/png"/>
  <Override PartName="/ppt/media/image49.png" ContentType="image/png"/>
  <Override PartName="/ppt/media/image12.png" ContentType="image/png"/>
  <Override PartName="/ppt/media/image37.png" ContentType="image/png"/>
  <Override PartName="/ppt/media/image7.png" ContentType="image/png"/>
  <Override PartName="/ppt/media/image48.png" ContentType="image/png"/>
  <Override PartName="/ppt/media/image11.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3" name="PlaceHolder 1"/>
          <p:cNvSpPr>
            <a:spLocks noGrp="1"/>
          </p:cNvSpPr>
          <p:nvPr>
            <p:ph type="hdr"/>
          </p:nvPr>
        </p:nvSpPr>
        <p:spPr>
          <a:xfrm>
            <a:off x="0" y="0"/>
            <a:ext cx="3038400" cy="463680"/>
          </a:xfrm>
          <a:prstGeom prst="rect">
            <a:avLst/>
          </a:prstGeom>
          <a:noFill/>
          <a:ln w="0">
            <a:noFill/>
          </a:ln>
        </p:spPr>
        <p:txBody>
          <a:bodyPr lIns="93600" rIns="93600" tIns="46800" bIns="4680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PlaceHolder 2"/>
          <p:cNvSpPr>
            <a:spLocks noGrp="1"/>
          </p:cNvSpPr>
          <p:nvPr>
            <p:ph type="dt" idx="6"/>
          </p:nvPr>
        </p:nvSpPr>
        <p:spPr>
          <a:xfrm>
            <a:off x="3970440" y="0"/>
            <a:ext cx="3038400" cy="463680"/>
          </a:xfrm>
          <a:prstGeom prst="rect">
            <a:avLst/>
          </a:prstGeom>
          <a:noFill/>
          <a:ln w="0">
            <a:noFill/>
          </a:ln>
        </p:spPr>
        <p:txBody>
          <a:bodyPr lIns="93600" rIns="93600" tIns="46800" bIns="4680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3"/>
          <p:cNvSpPr>
            <a:spLocks noGrp="1"/>
          </p:cNvSpPr>
          <p:nvPr>
            <p:ph type="sldImg"/>
          </p:nvPr>
        </p:nvSpPr>
        <p:spPr>
          <a:xfrm>
            <a:off x="1184400" y="694800"/>
            <a:ext cx="4643280" cy="3483000"/>
          </a:xfrm>
          <a:prstGeom prst="rect">
            <a:avLst/>
          </a:prstGeom>
          <a:solidFill>
            <a:srgbClr val="ffffff">
              <a:alpha val="90000"/>
            </a:srgbClr>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336" name="PlaceHolder 4"/>
          <p:cNvSpPr>
            <a:spLocks noGrp="1"/>
          </p:cNvSpPr>
          <p:nvPr>
            <p:ph type="body"/>
          </p:nvPr>
        </p:nvSpPr>
        <p:spPr>
          <a:xfrm>
            <a:off x="701280" y="4409640"/>
            <a:ext cx="5607000" cy="41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7" name="PlaceHolder 5"/>
          <p:cNvSpPr>
            <a:spLocks noGrp="1"/>
          </p:cNvSpPr>
          <p:nvPr>
            <p:ph type="ftr" idx="7"/>
          </p:nvPr>
        </p:nvSpPr>
        <p:spPr>
          <a:xfrm>
            <a:off x="0" y="8818560"/>
            <a:ext cx="3038400" cy="463680"/>
          </a:xfrm>
          <a:prstGeom prst="rect">
            <a:avLst/>
          </a:prstGeom>
          <a:noFill/>
          <a:ln w="0">
            <a:noFill/>
          </a:ln>
        </p:spPr>
        <p:txBody>
          <a:bodyPr lIns="93600" rIns="93600" tIns="46800" bIns="4680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PlaceHolder 6"/>
          <p:cNvSpPr>
            <a:spLocks noGrp="1"/>
          </p:cNvSpPr>
          <p:nvPr>
            <p:ph type="sldNum" idx="8"/>
          </p:nvPr>
        </p:nvSpPr>
        <p:spPr>
          <a:xfrm>
            <a:off x="3970440" y="8818560"/>
            <a:ext cx="3038400" cy="463680"/>
          </a:xfrm>
          <a:prstGeom prst="rect">
            <a:avLst/>
          </a:prstGeom>
          <a:noFill/>
          <a:ln w="0">
            <a:noFill/>
          </a:ln>
        </p:spPr>
        <p:txBody>
          <a:bodyPr lIns="93600" rIns="9360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29CC54-2E48-4AF9-88A9-675A75951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1184400" y="696960"/>
            <a:ext cx="4641840" cy="3481200"/>
          </a:xfrm>
          <a:prstGeom prst="rect">
            <a:avLst/>
          </a:prstGeom>
          <a:ln w="0">
            <a:noFill/>
          </a:ln>
        </p:spPr>
      </p:sp>
      <p:sp>
        <p:nvSpPr>
          <p:cNvPr id="2704" name="PlaceHolder 2"/>
          <p:cNvSpPr>
            <a:spLocks noGrp="1"/>
          </p:cNvSpPr>
          <p:nvPr>
            <p:ph type="body"/>
          </p:nvPr>
        </p:nvSpPr>
        <p:spPr>
          <a:xfrm>
            <a:off x="701280" y="4410000"/>
            <a:ext cx="5607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your applications conform to the Web Services standards, you may only need an ESB focused on the integration of these standards-bas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not all your applications conform to the SOA standards, you may need something more advanced that can mediate between the SOA standards and everything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1184400" y="696960"/>
            <a:ext cx="4641840" cy="3481200"/>
          </a:xfrm>
          <a:prstGeom prst="rect">
            <a:avLst/>
          </a:prstGeom>
          <a:ln w="0">
            <a:noFill/>
          </a:ln>
        </p:spPr>
      </p:sp>
      <p:sp>
        <p:nvSpPr>
          <p:cNvPr id="2706" name="PlaceHolder 2"/>
          <p:cNvSpPr>
            <a:spLocks noGrp="1"/>
          </p:cNvSpPr>
          <p:nvPr>
            <p:ph type="body"/>
          </p:nvPr>
        </p:nvSpPr>
        <p:spPr>
          <a:xfrm>
            <a:off x="701280" y="4410000"/>
            <a:ext cx="5607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your applications conform to the Web Services standards, you may only need an ESB focused on the integration of these standards-bas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not all your applications conform to the SOA standards, you may need something more advanced that can mediate between the SOA standards and everything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84400" y="696960"/>
            <a:ext cx="4641840" cy="3481200"/>
          </a:xfrm>
          <a:prstGeom prst="rect">
            <a:avLst/>
          </a:prstGeom>
          <a:ln w="0">
            <a:noFill/>
          </a:ln>
        </p:spPr>
      </p:sp>
      <p:sp>
        <p:nvSpPr>
          <p:cNvPr id="2708" name="PlaceHolder 2"/>
          <p:cNvSpPr>
            <a:spLocks noGrp="1"/>
          </p:cNvSpPr>
          <p:nvPr>
            <p:ph type="body"/>
          </p:nvPr>
        </p:nvSpPr>
        <p:spPr>
          <a:xfrm>
            <a:off x="701280" y="4410000"/>
            <a:ext cx="5607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your applications conform to the Web Services standards, you may only need an ESB focused on the integration of these standards-bas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not all your applications conform to the SOA standards, you may need something more advanced that can mediate between the SOA standards and everything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1184400" y="696960"/>
            <a:ext cx="4641840" cy="3481200"/>
          </a:xfrm>
          <a:prstGeom prst="rect">
            <a:avLst/>
          </a:prstGeom>
          <a:ln w="0">
            <a:noFill/>
          </a:ln>
        </p:spPr>
      </p:sp>
      <p:sp>
        <p:nvSpPr>
          <p:cNvPr id="2710" name="PlaceHolder 2"/>
          <p:cNvSpPr>
            <a:spLocks noGrp="1"/>
          </p:cNvSpPr>
          <p:nvPr>
            <p:ph type="body"/>
          </p:nvPr>
        </p:nvSpPr>
        <p:spPr>
          <a:xfrm>
            <a:off x="701280" y="4410000"/>
            <a:ext cx="5607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your applications conform to the Web Services standards, you may only need an ESB focused on the integration of these standards-bas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not all your applications conform to the SOA standards, you may need something more advanced that can mediate between the SOA standards and everything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phere MQ provides the core transport for connecting any applications in the enterpri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phere Application Server is embedded in WebSphere ESB, providing connectivity for the pure Web Services environ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PlaceHolder 1"/>
          <p:cNvSpPr>
            <a:spLocks noGrp="1"/>
          </p:cNvSpPr>
          <p:nvPr>
            <p:ph type="sldImg"/>
          </p:nvPr>
        </p:nvSpPr>
        <p:spPr>
          <a:xfrm>
            <a:off x="1187280" y="698400"/>
            <a:ext cx="4642200" cy="3481560"/>
          </a:xfrm>
          <a:prstGeom prst="rect">
            <a:avLst/>
          </a:prstGeom>
          <a:ln w="0">
            <a:noFill/>
          </a:ln>
        </p:spPr>
      </p:sp>
      <p:sp>
        <p:nvSpPr>
          <p:cNvPr id="2712" name="PlaceHolder 2"/>
          <p:cNvSpPr>
            <a:spLocks noGrp="1"/>
          </p:cNvSpPr>
          <p:nvPr>
            <p:ph type="body"/>
          </p:nvPr>
        </p:nvSpPr>
        <p:spPr>
          <a:xfrm>
            <a:off x="701280" y="4410000"/>
            <a:ext cx="5607000" cy="4175280"/>
          </a:xfrm>
          <a:prstGeom prst="rect">
            <a:avLst/>
          </a:prstGeom>
          <a:noFill/>
          <a:ln w="0">
            <a:noFill/>
          </a:ln>
        </p:spPr>
        <p:txBody>
          <a:bodyPr lIns="93600" rIns="93600" tIns="46800" bIns="46800" anchor="t">
            <a:noAutofit/>
          </a:bodyPr>
          <a:p>
            <a:pPr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ed to connect any type of application or service with any other application</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More than 80 platform configurations</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Supports transmission of ANY type of data</a:t>
            </a:r>
            <a:endParaRPr b="0" lang="en-US" sz="1000" spc="-1" strike="noStrike">
              <a:solidFill>
                <a:srgbClr val="000000"/>
              </a:solidFill>
              <a:latin typeface="Arial"/>
            </a:endParaRPr>
          </a:p>
          <a:p>
            <a:pPr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vity for your SOA Environment</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Supports latest Web Services standards and provides clustering, high availability, high performance, systems management, security.</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Bridges between any differing environments.</a:t>
            </a:r>
            <a:endParaRPr b="0" lang="en-US" sz="1000" spc="-1" strike="noStrike">
              <a:solidFill>
                <a:srgbClr val="000000"/>
              </a:solidFill>
              <a:latin typeface="Arial"/>
            </a:endParaRPr>
          </a:p>
          <a:p>
            <a:pPr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s a robust connectivity environment across all your systems and applications</a:t>
            </a:r>
            <a:endParaRPr b="0" lang="en-US" sz="1000" spc="-1" strike="noStrike">
              <a:solidFill>
                <a:srgbClr val="000000"/>
              </a:solidFill>
              <a:latin typeface="Arial"/>
            </a:endParaRPr>
          </a:p>
          <a:p>
            <a:pPr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Seamless integration with your WebSphere Application Server deployments</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Full transactional control end-to-end</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 core part of WebSphere Message Broker</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Supports multiple programming interfaces – MQI and JMS</a:t>
            </a:r>
            <a:endParaRPr b="0" lang="en-US" sz="1000" spc="-1" strike="noStrike">
              <a:solidFill>
                <a:srgbClr val="000000"/>
              </a:solidFill>
              <a:latin typeface="Arial"/>
            </a:endParaRPr>
          </a:p>
          <a:p>
            <a:pPr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y to use tooling for configuration and management</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Single console for managing entire environment </a:t>
            </a:r>
            <a:endParaRPr b="0" lang="en-US" sz="1000" spc="-1" strike="noStrike">
              <a:solidFill>
                <a:srgbClr val="000000"/>
              </a:solidFill>
              <a:latin typeface="Arial"/>
            </a:endParaRPr>
          </a:p>
          <a:p>
            <a:pPr lvl="1" marL="6858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Log all interactions for audit and tracking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87280" y="698400"/>
            <a:ext cx="4642200" cy="3481560"/>
          </a:xfrm>
          <a:prstGeom prst="rect">
            <a:avLst/>
          </a:prstGeom>
          <a:ln w="0">
            <a:noFill/>
          </a:ln>
        </p:spPr>
      </p:sp>
      <p:sp>
        <p:nvSpPr>
          <p:cNvPr id="2714" name="PlaceHolder 2"/>
          <p:cNvSpPr>
            <a:spLocks noGrp="1"/>
          </p:cNvSpPr>
          <p:nvPr>
            <p:ph type="body"/>
          </p:nvPr>
        </p:nvSpPr>
        <p:spPr>
          <a:xfrm>
            <a:off x="701280" y="4410000"/>
            <a:ext cx="5607000" cy="4175280"/>
          </a:xfrm>
          <a:prstGeom prst="rect">
            <a:avLst/>
          </a:prstGeom>
          <a:noFill/>
          <a:ln w="0">
            <a:noFill/>
          </a:ln>
        </p:spPr>
        <p:txBody>
          <a:bodyPr lIns="93600" rIns="93600" tIns="46800" bIns="46800" anchor="t">
            <a:noAutofit/>
          </a:bodyPr>
          <a:p>
            <a:pPr marL="2286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pecifically designed for Web Services connectivity, JMS messaging and service oriented integration</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XML data formats</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Web Services gateway</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Built-In UDDI Registry</a:t>
            </a:r>
            <a:endParaRPr b="0" lang="en-US" sz="700" spc="-1" strike="noStrike">
              <a:solidFill>
                <a:srgbClr val="000000"/>
              </a:solidFill>
              <a:latin typeface="Arial"/>
            </a:endParaRPr>
          </a:p>
          <a:p>
            <a:pPr marL="2286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mbedded SOA Hosting Environment</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Built on the WebSphere Application Server, inheriting the same qualities of service: clustering, fail-over, systems management, security.</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Host and mediate services in one platform.</a:t>
            </a:r>
            <a:endParaRPr b="0" lang="en-US" sz="700" spc="-1" strike="noStrike">
              <a:solidFill>
                <a:srgbClr val="000000"/>
              </a:solidFill>
              <a:latin typeface="Arial"/>
            </a:endParaRPr>
          </a:p>
          <a:p>
            <a:pPr marL="2286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Upgradeable to a full SOA process choreography system</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Embedded in WebSphere Process Server.</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Artifacts built using the same tooling as the WebSphere Process Server: WebSphere Integration Developer.</a:t>
            </a:r>
            <a:endParaRPr b="0" lang="en-US" sz="700" spc="-1" strike="noStrike">
              <a:solidFill>
                <a:srgbClr val="000000"/>
              </a:solidFill>
              <a:latin typeface="Arial"/>
            </a:endParaRPr>
          </a:p>
          <a:p>
            <a:pPr marL="2286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signed for ease of use</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Minimal programming skills – no need to learn Java </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Integrated, interactive, visual development </a:t>
            </a:r>
            <a:endParaRPr b="0" lang="en-US" sz="700" spc="-1" strike="noStrike">
              <a:solidFill>
                <a:srgbClr val="000000"/>
              </a:solidFill>
              <a:latin typeface="Arial"/>
            </a:endParaRPr>
          </a:p>
          <a:p>
            <a:pPr lvl="1"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be0e3"/>
                </a:solidFill>
                <a:latin typeface="Arial"/>
              </a:rPr>
              <a:t>Pre-built mediations – e.g., XSLT, Data Logger, Message Filter, Database Lookup, custom mediations. </a:t>
            </a:r>
            <a:endParaRPr b="0" lang="en-US" sz="700" spc="-1" strike="noStrike">
              <a:solidFill>
                <a:srgbClr val="000000"/>
              </a:solidFill>
              <a:latin typeface="Arial"/>
            </a:endParaRPr>
          </a:p>
          <a:p>
            <a:pPr marL="228600" indent="0">
              <a:lnSpc>
                <a:spcPct val="11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1184400" y="696960"/>
            <a:ext cx="4645080" cy="3483000"/>
          </a:xfrm>
          <a:prstGeom prst="rect">
            <a:avLst/>
          </a:prstGeom>
          <a:ln w="0">
            <a:noFill/>
          </a:ln>
        </p:spPr>
      </p:sp>
      <p:sp>
        <p:nvSpPr>
          <p:cNvPr id="2716" name="PlaceHolder 2"/>
          <p:cNvSpPr>
            <a:spLocks noGrp="1"/>
          </p:cNvSpPr>
          <p:nvPr>
            <p:ph type="body"/>
          </p:nvPr>
        </p:nvSpPr>
        <p:spPr>
          <a:xfrm>
            <a:off x="701280" y="4410000"/>
            <a:ext cx="5607000" cy="4176720"/>
          </a:xfrm>
          <a:prstGeom prst="rect">
            <a:avLst/>
          </a:prstGeom>
          <a:noFill/>
          <a:ln w="0">
            <a:noFill/>
          </a:ln>
        </p:spPr>
        <p:txBody>
          <a:bodyPr lIns="92160" rIns="92160" tIns="46080" bIns="46080" anchor="t">
            <a:noAutofit/>
          </a:bodyPr>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 previously stated, our ESB offering is WebSphere ESB and is focused on full J2EE, JMS, and Web Services focus.  Our </a:t>
            </a:r>
            <a:r>
              <a:rPr b="0" i="1" lang="en-US" sz="1400" spc="-1" strike="noStrike" u="sng">
                <a:solidFill>
                  <a:srgbClr val="000000"/>
                </a:solidFill>
                <a:uFillTx/>
                <a:latin typeface="Arial"/>
                <a:ea typeface="ＭＳ Ｐゴシック"/>
              </a:rPr>
              <a:t>advanced</a:t>
            </a:r>
            <a:r>
              <a:rPr b="0" lang="en-US" sz="1400" spc="-1" strike="noStrike">
                <a:solidFill>
                  <a:srgbClr val="000000"/>
                </a:solidFill>
                <a:latin typeface="Arial"/>
                <a:ea typeface="ＭＳ Ｐゴシック"/>
              </a:rPr>
              <a:t> ESB offering is WebSphere Message Broker and is focused on the integration of services with non-services applications.</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dvanced ESB can support everything you can do with the basic ESB as well as a few additions.  </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first advantage is the ability to natively transform non-XML formats without the use of adapters.  You can go directly from one format to another.  This is very useful if you have data in your enterprise today that does not conform to the XML standard.   </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econd is complex event processing.  Complex events are those that are formed by identifying several earlier ones.  By identifying complex business events your business can act and react much earlier that you might otherwise.</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urrently sensors and mobile devices don’t support the SOA standards, but they can be integrated into an SOA architecture using the Message Broker.</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roker also provides native integration of CICS and VSAM.</a:t>
            </a: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inally, many companies use a range of JMS services from different vendors within their organizations.  JMS is an open standard API but implementations from different vendors do not talk to one another.  The Broker can handle inputs from virtually all these 3rd-party JMS systems and work as an integration hub for different vendors.  Unlike other vendors, like Sonic and TIBCO, whose JMS implementations can works as transactional clients but not transaction managers, WebSphere Message Broker can act as a transaction manager.  This means that it is the only product on the market that can manage a transaction involving TIBCO, SONIC and WebSphere MQ.</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sldImg"/>
          </p:nvPr>
        </p:nvSpPr>
        <p:spPr>
          <a:xfrm>
            <a:off x="1189080" y="698400"/>
            <a:ext cx="4638600" cy="3479760"/>
          </a:xfrm>
          <a:prstGeom prst="rect">
            <a:avLst/>
          </a:prstGeom>
          <a:ln w="0">
            <a:noFill/>
          </a:ln>
        </p:spPr>
      </p:sp>
      <p:sp>
        <p:nvSpPr>
          <p:cNvPr id="2718" name="PlaceHolder 2"/>
          <p:cNvSpPr>
            <a:spLocks noGrp="1"/>
          </p:cNvSpPr>
          <p:nvPr>
            <p:ph type="body"/>
          </p:nvPr>
        </p:nvSpPr>
        <p:spPr>
          <a:xfrm>
            <a:off x="701280" y="4410000"/>
            <a:ext cx="5607000" cy="4175280"/>
          </a:xfrm>
          <a:prstGeom prst="rect">
            <a:avLst/>
          </a:prstGeom>
          <a:noFill/>
          <a:ln w="0">
            <a:noFill/>
          </a:ln>
        </p:spPr>
        <p:txBody>
          <a:bodyPr lIns="93600" rIns="93600" tIns="46800" bIns="468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1200" spc="-1" strike="noStrike">
                <a:solidFill>
                  <a:srgbClr val="000000"/>
                </a:solidFill>
                <a:latin typeface="Arial"/>
              </a:rPr>
              <a:t>Xerox Corporation</a:t>
            </a:r>
            <a:r>
              <a:rPr b="0" lang="en-US" sz="1200" spc="-1" strike="noStrike">
                <a:solidFill>
                  <a:srgbClr val="000000"/>
                </a:solidFill>
                <a:latin typeface="Arial"/>
              </a:rPr>
              <a:t>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Industry: </a:t>
            </a:r>
            <a:r>
              <a:rPr b="0" lang="en-US" sz="1200" spc="-1" strike="noStrike">
                <a:solidFill>
                  <a:srgbClr val="000000"/>
                </a:solidFill>
                <a:latin typeface="Arial"/>
              </a:rPr>
              <a:t>Electronic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Focus Area: </a:t>
            </a:r>
            <a:r>
              <a:rPr b="0" lang="en-US" sz="1200" spc="-1" strike="noStrike">
                <a:solidFill>
                  <a:srgbClr val="000000"/>
                </a:solidFill>
                <a:latin typeface="Arial"/>
              </a:rPr>
              <a:t>Customer Relationship Management, e-business infrastructure, Enterprise Resource Planning, Supply Chain Management, Business Integration </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1" lang="en-US" sz="1200" spc="-1" strike="noStrike">
                <a:solidFill>
                  <a:srgbClr val="000000"/>
                </a:solidFill>
                <a:latin typeface="Arial"/>
              </a:rPr>
              <a:t>Geograph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  </a:t>
            </a:r>
            <a:r>
              <a:rPr b="0" lang="en-US" sz="1200" spc="-1" strike="noStrike">
                <a:solidFill>
                  <a:srgbClr val="000000"/>
                </a:solidFill>
                <a:latin typeface="Arial"/>
              </a:rPr>
              <a:t>	</a:t>
            </a:r>
            <a:r>
              <a:rPr b="0"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1200" spc="-1" strike="noStrike">
                <a:solidFill>
                  <a:srgbClr val="000000"/>
                </a:solidFill>
                <a:latin typeface="Arial"/>
              </a:rPr>
              <a:t>Solution Synopsi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200" spc="-1" strike="noStrike">
                <a:solidFill>
                  <a:srgbClr val="000000"/>
                </a:solidFill>
                <a:latin typeface="Arial"/>
              </a:rPr>
              <a:t>An international document technology company speeds and improves enterprise application integration efforts and could potentially save US$720,000 annually when it deploys an IBM solution built on a suite of WebSphere software including IBM WebSphere Application Server - Network Deployment and IBM WebSphere Business Integration Message Broker software</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Customer Background:</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erox Corporation offers an innovative array of color and black-and-white digital printers, digital presses, multifunction devices and digital copiers, as well as a broad range of services, solutions and software. Its vision is to help people find better ways to do great work. Xerox does this by consistently leading in document technologies, products and services that improve work processes and business results.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Xerox has numerous business segments and divisions, including Integration Consulting and Solutions, Supplies, Office Solutions and Developing Markets Operations (DMO), which includes operations, production and office product sales in Latin America, the Middle East, India, Eurasia, Russia and Africa.</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Business Need:</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Integration Consulting and Solutions division at Xerox services different lines of business across multiple geographies. An independent competency center, this division's overall goal is to provide the corporation with a companywide, strategic enterprise application integration (EAI) platform for value chain partner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Xerox operated using a wide variety of heterogeneous business systems that did not interact. For example, the company's information technology (IT) environment in Rochester, New York, comprised more than 30 key business systems, several different mainframe systems, an Oracle 11i enterprise resource planning (ERP) system and a Siebel customer relationship management (CRM) system. Xerox also had to routinely interact with outside vendors and suppliers, such as Exel Corporation, which supplies Xerox with machine part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To integrate disparate systems and smooth interactions among company divisions and external partners, Xerox had developed many application interfaces. To develop these interfaces, the company had been using CORBA-based tools that required extreme levels of custom coding. As a result, making changes to applications was time-consuming and costly. Xerox wanted to find a flexible, cost-effective tool for integrating its enterprise applications - one that could be quickly adapted to varying needs.</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Solution Implementation:</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 deliver fast, flexible application integration throughout the enterprise, Xerox chose an IBM solution built with a suite of WebSphere software. The WebSphere software lets Xerox's IT developers quickly make application changes and does not require the same specialized processes as the previous solution.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The IBM solution includes the following software: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IBM WebSphere Application Server - Network Deployment V3.5.4 and V4.0.3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IBM WebSphere Studio Application Developer Integrated Edition V5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IBM WebSphere Business Integration Message Broker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IBM WebSphere MQ Integrator V2.1.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The new solution is built on Web services using WebSphere Application Server software in conjunction with IBM WebSphere MQ and WebSphere MQ Integrator software. The software creates customer lists, updates addresses and communicates with the mainframe to process messages. The WebSphere software also interacts with the existing Oracle database using a WebSphere MQ Integrator-based connection in conjunction with the WebSphere Application Server software. To develop the solution, Xerox used the WebSphere Studio software, and for the majority of its transactions, the company uses the WebSphere MQ application, which can route approximately 80 to 100 messages per second. This equates to approximately two million messages monthly.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Xerox has developed 50 solutions with the WebSphere integration software, and it plans to deploy additional solutions to Mexico and Europe in the future. Some of the enterprisewide integration solutions Xerox has developed relate to:</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The capture of printer usage profile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Service provider lookups for Xerox's customer support busines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Metered supplies eligibility for Xerox's Supplies division</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Credit authorizations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Customer call (problem) management for Xerox's Office Solutions division</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Parts fulfillment for Xerox's DMO division's supply chain busines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The IBM solution is built on industry-standard message formats. It supports data coherence and multiple architectural styles such as request/reply (including Web services) and publish/subscribe. Supporting a service-oriented architecture, the solution scales easily to accommodate a large number of concurrent users. Message delivery is now guaranteed, and event-driven integration is enabled to improve the company's responsiveness. The solution was designed to be fail-over capable as part of Xerox's disaster recovery plan.</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Benefits of the Solution:</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Web services solution from IBM, application changes that previously required 80 days to complete now take just 20 days. For these types of application changes, the former solution cost Xerox US$600 per day, or US$48,000. Now, these types of changes cost only US$12,000. With 15 to 20 change requests yearly, the overall cost savings could be as great as US$720,000 annually.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Because application changes are now faster and less expensive, Xerox can operate with fewer specialized developers. The new solution also:</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Promotes application reusability because information can be published once for several different target systems, requiring just one lookup for multiple client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Enables real-time data update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voids duplicate and potentially incorrect implementations by providing just one type of computing logic for each individual business transaction </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Reduces development and maintenance efforts by letting source and target systems use data in their native format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Minimizes the impact of business process changes by decoupling sources from targets</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Helps reduce the company's total integration cost of ownership.</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200" spc="-1" strike="noStrike">
                <a:solidFill>
                  <a:srgbClr val="000000"/>
                </a:solidFill>
                <a:latin typeface="Arial"/>
              </a:rPr>
              <a:t>Software:</a:t>
            </a:r>
            <a:endParaRPr b="0" lang="en-US" sz="1200" spc="-1" strike="noStrike">
              <a:solidFill>
                <a:srgbClr val="000000"/>
              </a:solidFill>
              <a:latin typeface="Arial"/>
            </a:endParaRPr>
          </a:p>
          <a:p>
            <a:pPr lvl="1" marL="48096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bSphere: WebSphere Application Server - Network Deployment, WebSphere Business Integration Message Brok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1185840" y="696960"/>
            <a:ext cx="4641840" cy="3481200"/>
          </a:xfrm>
          <a:prstGeom prst="rect">
            <a:avLst/>
          </a:prstGeom>
          <a:ln w="0">
            <a:noFill/>
          </a:ln>
        </p:spPr>
      </p:sp>
      <p:sp>
        <p:nvSpPr>
          <p:cNvPr id="2700" name="PlaceHolder 2"/>
          <p:cNvSpPr>
            <a:spLocks noGrp="1"/>
          </p:cNvSpPr>
          <p:nvPr>
            <p:ph type="body"/>
          </p:nvPr>
        </p:nvSpPr>
        <p:spPr>
          <a:xfrm>
            <a:off x="701280" y="4410000"/>
            <a:ext cx="5607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are interfaces so expensive to build and mai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interface logic is typically intertwined within application business logic.  This is usually due to the nature of the applications themselves.  The programming models don’t enable the separation of interface logic from the applications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tightly integrated the interface the more difficult the application is to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interfaces within a program, the more complex the application becomes.  Over time, and with enough separate connections, the interface logic can, in fact, exceed the business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ircumstances, re-use becomes difficult and imprac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is the methodology and architecture for solving this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85840" y="696960"/>
            <a:ext cx="4641840" cy="3481200"/>
          </a:xfrm>
          <a:prstGeom prst="rect">
            <a:avLst/>
          </a:prstGeom>
          <a:ln w="0">
            <a:noFill/>
          </a:ln>
        </p:spPr>
      </p:sp>
      <p:sp>
        <p:nvSpPr>
          <p:cNvPr id="2702" name="PlaceHolder 2"/>
          <p:cNvSpPr>
            <a:spLocks noGrp="1"/>
          </p:cNvSpPr>
          <p:nvPr>
            <p:ph type="body"/>
          </p:nvPr>
        </p:nvSpPr>
        <p:spPr>
          <a:xfrm>
            <a:off x="701280" y="4410000"/>
            <a:ext cx="5607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B allows you to focus on your core business.  It enables you to add new services faster and to change services with minimal impact to existing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22737-DDE2-4E1F-84BA-C7B74206A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D6C7C-2ED7-44C0-B30C-6EA73283C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7CD6F2-F90D-477C-9745-BACE67FCDD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4408B3-F4CF-479C-A11F-8F56A8ED7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61FF00-4EA2-4F6E-BEC3-4847C596CE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2"/>
          </p:nvPr>
        </p:nvSpPr>
        <p:spPr/>
        <p:txBody>
          <a:bodyPr/>
          <a:p>
            <a:fld id="{D24C9A05-E854-4DB3-A288-378C9FEAC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678991-C9BB-4F2C-B909-D289D40722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215714-FF02-4472-97F5-A79841F813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8819C17-FE57-47F5-AC54-9F0031F58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2"/>
          </p:nvPr>
        </p:nvSpPr>
        <p:spPr/>
        <p:txBody>
          <a:bodyPr/>
          <a:p>
            <a:fld id="{DEEF7C69-1F3A-454A-9167-D0CE03B8EB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CB126-1EAF-44C0-A025-3A8A26AF44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1"/>
          </p:nvPr>
        </p:nvSpPr>
        <p:spPr/>
        <p:txBody>
          <a:bodyPr/>
          <a:p>
            <a:fld id="{E27C8E3B-44A1-4B8C-9875-F235D624C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28D9D1-C2B4-483F-9C34-7E36C11E32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926373-8370-4889-9A15-88925C7CFF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36316-DF5E-44E1-B200-048EE39B3F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D8E047-2118-4DC2-9105-750C33519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4DC4DE-8906-4750-B14B-8922C30A36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8ED4EE-A4D7-493B-9A93-150B2DD0E5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1"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3"/>
          </p:nvPr>
        </p:nvSpPr>
        <p:spPr/>
        <p:txBody>
          <a:bodyPr/>
          <a:p>
            <a:fld id="{D0048AC9-6A45-44BF-B4AB-66A9603450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3"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1BCE5A-D365-4B93-872E-C60523F2FE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5"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D4B97E7D-3E11-4A4B-9266-CEA6C8633E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3"/>
          </p:nvPr>
        </p:nvSpPr>
        <p:spPr/>
        <p:txBody>
          <a:bodyPr/>
          <a:p>
            <a:fld id="{A8FE8B9B-00E0-4411-B301-F2BAEA58E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C96C-9CC4-40A0-AC24-16206C42E8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3"/>
          </p:nvPr>
        </p:nvSpPr>
        <p:spPr/>
        <p:txBody>
          <a:bodyPr/>
          <a:p>
            <a:fld id="{260BF1C7-8A24-454F-97A3-03F45A3ECD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C6DD53F4-ABCF-488F-AE47-C691EC5B57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4"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5319FF6D-251D-4DB6-ACED-E19E4A1329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8"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2DCB06DE-F083-412D-A899-03BE0E4176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2"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C1CBA01F-1C6F-44B9-B203-0BD507337F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5"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3"/>
          </p:nvPr>
        </p:nvSpPr>
        <p:spPr/>
        <p:txBody>
          <a:bodyPr/>
          <a:p>
            <a:fld id="{9C41604C-C4EC-4F0E-961F-C6968C05B2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0"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3"/>
          </p:nvPr>
        </p:nvSpPr>
        <p:spPr/>
        <p:txBody>
          <a:bodyPr/>
          <a:p>
            <a:fld id="{E3FFDCB9-DFB4-4129-8C90-84CB5EE2A8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02B062-6C03-4987-9FA9-15925EEE64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6"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4"/>
          </p:nvPr>
        </p:nvSpPr>
        <p:spPr/>
        <p:txBody>
          <a:bodyPr/>
          <a:p>
            <a:fld id="{3C5DBFA1-2F60-4C79-A2B2-9C1776D5C7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8"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F04145E-76EC-4F95-9855-7AA869A126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FA2499-16D2-4BF9-B1C2-54407DD86D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0"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6B8BE272-0A57-4295-A107-A15C24A166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4"/>
          </p:nvPr>
        </p:nvSpPr>
        <p:spPr/>
        <p:txBody>
          <a:bodyPr/>
          <a:p>
            <a:fld id="{9E696D5C-5CB0-451C-8832-FEEDD02BAD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4"/>
          </p:nvPr>
        </p:nvSpPr>
        <p:spPr/>
        <p:txBody>
          <a:bodyPr/>
          <a:p>
            <a:fld id="{385F4CA4-B07E-4AC4-8473-CB1DC07889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5"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E8CF05D3-77DB-4386-B617-05B50B9568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9"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F6E27267-FE98-4AAE-9A55-F3C9F9FA30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3"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25455AAA-9F84-4DC9-AB5E-9B1872042C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7"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89AAA1BC-3E18-41BE-9AC0-5954D16FC7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0"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4B5D6B3A-CB1D-49A9-BE7F-473C199E85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5"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83DC807E-CDF6-47B7-BB1C-0433A44D321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238CA83-489C-41BA-8C08-BE9D5E0053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4"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6"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8"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3"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7"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1"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5"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8"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1"/>
          </p:nvPr>
        </p:nvSpPr>
        <p:spPr/>
        <p:txBody>
          <a:bodyPr/>
          <a:p>
            <a:fld id="{8AF9E9BD-A744-42E5-8691-CA4C933630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3"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E02BA4-2D60-4C35-964F-18333C645A7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9"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5"/>
          </p:nvPr>
        </p:nvSpPr>
        <p:spPr/>
        <p:txBody>
          <a:bodyPr/>
          <a:p>
            <a:fld id="{4C8538E0-F3C9-4C21-B566-70D4277031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1"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5"/>
          </p:nvPr>
        </p:nvSpPr>
        <p:spPr/>
        <p:txBody>
          <a:bodyPr/>
          <a:p>
            <a:fld id="{930E79B5-C983-4E76-AE12-B12D92E975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3"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5"/>
          </p:nvPr>
        </p:nvSpPr>
        <p:spPr/>
        <p:txBody>
          <a:bodyPr/>
          <a:p>
            <a:fld id="{2A17C7A5-E0E2-4601-AD4F-5AB7FB25CF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5"/>
          </p:nvPr>
        </p:nvSpPr>
        <p:spPr/>
        <p:txBody>
          <a:bodyPr/>
          <a:p>
            <a:fld id="{870219C4-FFC5-455D-ABE3-FD6186A08C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5"/>
          </p:nvPr>
        </p:nvSpPr>
        <p:spPr/>
        <p:txBody>
          <a:bodyPr/>
          <a:p>
            <a:fld id="{0EE8EBB7-DBD7-4C06-B3E5-4D115A1FDA3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8"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711886FD-901D-4831-A542-540B80B3F7A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2"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B7011993-1D58-4507-9865-0D4DA8A6DD4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6"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D14B421C-D491-4BE9-BEC0-2A2722EDC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C41932-F704-4C2C-A0A5-537BB13E81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0"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5"/>
          </p:nvPr>
        </p:nvSpPr>
        <p:spPr/>
        <p:txBody>
          <a:bodyPr/>
          <a:p>
            <a:fld id="{708FDA35-0FE0-47B5-BFE9-F880A26EBC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3"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5"/>
          </p:nvPr>
        </p:nvSpPr>
        <p:spPr/>
        <p:txBody>
          <a:bodyPr/>
          <a:p>
            <a:fld id="{11EA0FE3-A8F4-4187-A850-03699FEFD7D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8"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5"/>
          </p:nvPr>
        </p:nvSpPr>
        <p:spPr/>
        <p:txBody>
          <a:bodyPr/>
          <a:p>
            <a:fld id="{8BF030A0-D6ED-4DC6-99FB-50EE98B8BE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7" name="PlaceHolder 2"/>
          <p:cNvSpPr>
            <a:spLocks noGrp="1"/>
          </p:cNvSpPr>
          <p:nvPr>
            <p:ph type="subTitle"/>
          </p:nvPr>
        </p:nvSpPr>
        <p:spPr>
          <a:xfrm>
            <a:off x="785880" y="137628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9"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1"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53720" y="5796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6"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3"/>
          <p:cNvSpPr>
            <a:spLocks noGrp="1"/>
          </p:cNvSpPr>
          <p:nvPr>
            <p:ph/>
          </p:nvPr>
        </p:nvSpPr>
        <p:spPr>
          <a:xfrm>
            <a:off x="46540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28E4A-E8DA-414F-A838-5A1486A52B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0" name="PlaceHolder 2"/>
          <p:cNvSpPr>
            <a:spLocks noGrp="1"/>
          </p:cNvSpPr>
          <p:nvPr>
            <p:ph/>
          </p:nvPr>
        </p:nvSpPr>
        <p:spPr>
          <a:xfrm>
            <a:off x="785880" y="137628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4"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8" name="PlaceHolder 2"/>
          <p:cNvSpPr>
            <a:spLocks noGrp="1"/>
          </p:cNvSpPr>
          <p:nvPr>
            <p:ph/>
          </p:nvPr>
        </p:nvSpPr>
        <p:spPr>
          <a:xfrm>
            <a:off x="785880" y="137628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1"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4"/>
          <p:cNvSpPr>
            <a:spLocks noGrp="1"/>
          </p:cNvSpPr>
          <p:nvPr>
            <p:ph/>
          </p:nvPr>
        </p:nvSpPr>
        <p:spPr>
          <a:xfrm>
            <a:off x="7858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p:nvPr>
        </p:nvSpPr>
        <p:spPr>
          <a:xfrm>
            <a:off x="4654080" y="381600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6" name="PlaceHolder 2"/>
          <p:cNvSpPr>
            <a:spLocks noGrp="1"/>
          </p:cNvSpPr>
          <p:nvPr>
            <p:ph/>
          </p:nvPr>
        </p:nvSpPr>
        <p:spPr>
          <a:xfrm>
            <a:off x="7858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33828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5890320" y="137628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p:nvPr>
        </p:nvSpPr>
        <p:spPr>
          <a:xfrm>
            <a:off x="7858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6"/>
          <p:cNvSpPr>
            <a:spLocks noGrp="1"/>
          </p:cNvSpPr>
          <p:nvPr>
            <p:ph/>
          </p:nvPr>
        </p:nvSpPr>
        <p:spPr>
          <a:xfrm>
            <a:off x="333828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7"/>
          <p:cNvSpPr>
            <a:spLocks noGrp="1"/>
          </p:cNvSpPr>
          <p:nvPr>
            <p:ph/>
          </p:nvPr>
        </p:nvSpPr>
        <p:spPr>
          <a:xfrm>
            <a:off x="5890320" y="381600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7858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54080" y="137628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85880" y="381600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C9284-4F28-4806-9FF3-5BD0119C9D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835200"/>
            <a:ext cx="6019920" cy="5648040"/>
          </a:xfrm>
          <a:custGeom>
            <a:avLst/>
            <a:gdLst/>
            <a:ahLst/>
            <a:rect l="l" t="t" r="r" b="b"/>
            <a:pathLst>
              <a:path w="5504" h="3474">
                <a:moveTo>
                  <a:pt x="3977" y="384"/>
                </a:moveTo>
                <a:lnTo>
                  <a:pt x="3748" y="0"/>
                </a:lnTo>
                <a:lnTo>
                  <a:pt x="5504" y="0"/>
                </a:lnTo>
                <a:lnTo>
                  <a:pt x="4635" y="1554"/>
                </a:lnTo>
                <a:lnTo>
                  <a:pt x="4407" y="1161"/>
                </a:lnTo>
                <a:lnTo>
                  <a:pt x="466" y="3474"/>
                </a:lnTo>
                <a:lnTo>
                  <a:pt x="0" y="3474"/>
                </a:lnTo>
                <a:lnTo>
                  <a:pt x="0" y="2706"/>
                </a:lnTo>
                <a:lnTo>
                  <a:pt x="3977" y="384"/>
                </a:lnTo>
                <a:close/>
              </a:path>
            </a:pathLst>
          </a:custGeom>
          <a:solidFill>
            <a:srgbClr val="ccccff"/>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53720" y="456840"/>
            <a:ext cx="876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 name="PlaceHolder 2"/>
          <p:cNvSpPr>
            <a:spLocks noGrp="1"/>
          </p:cNvSpPr>
          <p:nvPr>
            <p:ph type="body"/>
          </p:nvPr>
        </p:nvSpPr>
        <p:spPr>
          <a:xfrm>
            <a:off x="-360" y="1142640"/>
            <a:ext cx="8839080" cy="5257800"/>
          </a:xfrm>
          <a:prstGeom prst="rect">
            <a:avLst/>
          </a:prstGeom>
          <a:solidFill>
            <a:srgbClr val="ffffff">
              <a:alpha val="82000"/>
            </a:srgbClr>
          </a:solidFill>
          <a:ln w="9360">
            <a:solidFill>
              <a:srgbClr val="ccccff"/>
            </a:solidFill>
            <a:miter/>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1437480" y="52560"/>
            <a:ext cx="434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WG Sales Enablement and Sales Acceleration</a:t>
            </a:r>
            <a:endParaRPr b="0" lang="en-US" sz="1400" spc="-1" strike="noStrike">
              <a:solidFill>
                <a:srgbClr val="ffffff"/>
              </a:solidFill>
              <a:latin typeface="Arial"/>
            </a:endParaRPr>
          </a:p>
        </p:txBody>
      </p:sp>
      <p:sp>
        <p:nvSpPr>
          <p:cNvPr id="6"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BM Internal Use Only</a:t>
            </a:r>
            <a:endParaRPr b="0" lang="en-US" sz="1000" spc="-1" strike="noStrike">
              <a:solidFill>
                <a:srgbClr val="ffffff"/>
              </a:solidFill>
              <a:latin typeface="Arial"/>
            </a:endParaRPr>
          </a:p>
        </p:txBody>
      </p:sp>
      <p:sp>
        <p:nvSpPr>
          <p:cNvPr id="7"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Arial"/>
            </a:endParaRPr>
          </a:p>
        </p:txBody>
      </p:sp>
      <p:sp>
        <p:nvSpPr>
          <p:cNvPr id="8"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7C3F-B3C4-437E-9ADF-A0B20988A55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pic>
        <p:nvPicPr>
          <p:cNvPr id="9" name="" descr=""/>
          <p:cNvPicPr/>
          <p:nvPr/>
        </p:nvPicPr>
        <p:blipFill>
          <a:blip r:embed="rId2"/>
          <a:srcRect l="0" t="0" r="6654" b="0"/>
          <a:stretch/>
        </p:blipFill>
        <p:spPr>
          <a:xfrm>
            <a:off x="8461440" y="61920"/>
            <a:ext cx="622080" cy="247680"/>
          </a:xfrm>
          <a:prstGeom prst="rect">
            <a:avLst/>
          </a:prstGeom>
          <a:ln w="0">
            <a:noFill/>
          </a:ln>
        </p:spPr>
      </p:pic>
      <p:sp>
        <p:nvSpPr>
          <p:cNvPr id="10"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 name=""/>
          <p:cNvSpPr/>
          <p:nvPr/>
        </p:nvSpPr>
        <p:spPr>
          <a:xfrm flipV="1" rot="10800000">
            <a:off x="8070840" y="6636240"/>
            <a:ext cx="838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LB 041404</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676520"/>
            <a:ext cx="9144000" cy="4647960"/>
          </a:xfrm>
          <a:custGeom>
            <a:avLst/>
            <a:gdLst/>
            <a:ahLst/>
            <a:rect l="l" t="t" r="r" b="b"/>
            <a:pathLst>
              <a:path w="5504" h="3474">
                <a:moveTo>
                  <a:pt x="3977" y="384"/>
                </a:moveTo>
                <a:lnTo>
                  <a:pt x="3748" y="0"/>
                </a:lnTo>
                <a:lnTo>
                  <a:pt x="5504" y="0"/>
                </a:lnTo>
                <a:lnTo>
                  <a:pt x="4635" y="1554"/>
                </a:lnTo>
                <a:lnTo>
                  <a:pt x="4407" y="1161"/>
                </a:lnTo>
                <a:lnTo>
                  <a:pt x="466" y="3474"/>
                </a:lnTo>
                <a:lnTo>
                  <a:pt x="0" y="3474"/>
                </a:lnTo>
                <a:lnTo>
                  <a:pt x="0" y="2706"/>
                </a:lnTo>
                <a:lnTo>
                  <a:pt x="3977" y="384"/>
                </a:lnTo>
                <a:close/>
              </a:path>
            </a:pathLst>
          </a:custGeom>
          <a:solidFill>
            <a:srgbClr val="ccccff"/>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3" name="" descr=""/>
          <p:cNvPicPr/>
          <p:nvPr/>
        </p:nvPicPr>
        <p:blipFill>
          <a:blip r:embed="rId2"/>
          <a:srcRect l="0" t="0" r="6654" b="0"/>
          <a:stretch/>
        </p:blipFill>
        <p:spPr>
          <a:xfrm>
            <a:off x="7524720" y="687240"/>
            <a:ext cx="1001880" cy="400320"/>
          </a:xfrm>
          <a:prstGeom prst="rect">
            <a:avLst/>
          </a:prstGeom>
          <a:ln w="0">
            <a:noFill/>
          </a:ln>
        </p:spPr>
      </p:pic>
      <p:sp>
        <p:nvSpPr>
          <p:cNvPr id="54" name=""/>
          <p:cNvSpPr/>
          <p:nvPr/>
        </p:nvSpPr>
        <p:spPr>
          <a:xfrm>
            <a:off x="2006640" y="1378080"/>
            <a:ext cx="5613480" cy="2984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WG Sales Enablement and Sales Acceleration</a:t>
            </a:r>
            <a:endParaRPr b="0" lang="en-US" sz="1700" spc="-1" strike="noStrike">
              <a:solidFill>
                <a:srgbClr val="ffffff"/>
              </a:solidFill>
              <a:latin typeface="Arial"/>
            </a:endParaRPr>
          </a:p>
        </p:txBody>
      </p:sp>
      <p:sp>
        <p:nvSpPr>
          <p:cNvPr id="55"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Arial"/>
            </a:endParaRPr>
          </a:p>
        </p:txBody>
      </p:sp>
      <p:sp>
        <p:nvSpPr>
          <p:cNvPr id="56"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PlaceHolder 1"/>
          <p:cNvSpPr>
            <a:spLocks noGrp="1"/>
          </p:cNvSpPr>
          <p:nvPr>
            <p:ph type="title"/>
          </p:nvPr>
        </p:nvSpPr>
        <p:spPr>
          <a:xfrm>
            <a:off x="390240" y="2493720"/>
            <a:ext cx="7954920" cy="1469880"/>
          </a:xfrm>
          <a:prstGeom prst="rect">
            <a:avLst/>
          </a:prstGeom>
          <a:solidFill>
            <a:srgbClr val="ffffff">
              <a:alpha val="90000"/>
            </a:srgbClr>
          </a:solidFill>
          <a:ln w="9360">
            <a:solidFill>
              <a:srgbClr val="ccccff"/>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8" name="PlaceHolder 2"/>
          <p:cNvSpPr>
            <a:spLocks noGrp="1"/>
          </p:cNvSpPr>
          <p:nvPr>
            <p:ph type="sldNum" idx="2"/>
          </p:nvPr>
        </p:nvSpPr>
        <p:spPr>
          <a:xfrm>
            <a:off x="3505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6A0A-3145-48CE-AF0C-2B69EE118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835200"/>
            <a:ext cx="9144000" cy="5648040"/>
          </a:xfrm>
          <a:custGeom>
            <a:avLst/>
            <a:gdLst/>
            <a:ahLst/>
            <a:rect l="l" t="t" r="r" b="b"/>
            <a:pathLst>
              <a:path w="5504" h="3474">
                <a:moveTo>
                  <a:pt x="3977" y="384"/>
                </a:moveTo>
                <a:lnTo>
                  <a:pt x="3748" y="0"/>
                </a:lnTo>
                <a:lnTo>
                  <a:pt x="5504" y="0"/>
                </a:lnTo>
                <a:lnTo>
                  <a:pt x="4635" y="1554"/>
                </a:lnTo>
                <a:lnTo>
                  <a:pt x="4407" y="1161"/>
                </a:lnTo>
                <a:lnTo>
                  <a:pt x="466" y="3474"/>
                </a:lnTo>
                <a:lnTo>
                  <a:pt x="0" y="3474"/>
                </a:lnTo>
                <a:lnTo>
                  <a:pt x="0" y="2706"/>
                </a:lnTo>
                <a:lnTo>
                  <a:pt x="3977" y="384"/>
                </a:lnTo>
                <a:close/>
              </a:path>
            </a:pathLst>
          </a:custGeom>
          <a:solidFill>
            <a:srgbClr val="f1f3fd"/>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PlaceHolder 1"/>
          <p:cNvSpPr>
            <a:spLocks noGrp="1"/>
          </p:cNvSpPr>
          <p:nvPr>
            <p:ph type="title"/>
          </p:nvPr>
        </p:nvSpPr>
        <p:spPr>
          <a:xfrm>
            <a:off x="153720" y="456840"/>
            <a:ext cx="876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00" name="PlaceHolder 2"/>
          <p:cNvSpPr>
            <a:spLocks noGrp="1"/>
          </p:cNvSpPr>
          <p:nvPr>
            <p:ph type="body"/>
          </p:nvPr>
        </p:nvSpPr>
        <p:spPr>
          <a:xfrm>
            <a:off x="152280" y="1142640"/>
            <a:ext cx="8839440" cy="52578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1" name=""/>
          <p:cNvSpPr/>
          <p:nvPr/>
        </p:nvSpPr>
        <p:spPr>
          <a:xfrm>
            <a:off x="1437480" y="52560"/>
            <a:ext cx="434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WG Sales Enablement and Sales Acceleration</a:t>
            </a:r>
            <a:endParaRPr b="0" lang="en-US" sz="1400" spc="-1" strike="noStrike">
              <a:solidFill>
                <a:srgbClr val="ffffff"/>
              </a:solidFill>
              <a:latin typeface="Arial"/>
            </a:endParaRPr>
          </a:p>
        </p:txBody>
      </p:sp>
      <p:sp>
        <p:nvSpPr>
          <p:cNvPr id="102"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BM Internal Use Only</a:t>
            </a:r>
            <a:endParaRPr b="0" lang="en-US" sz="1000" spc="-1" strike="noStrike">
              <a:solidFill>
                <a:srgbClr val="ffffff"/>
              </a:solidFill>
              <a:latin typeface="Arial"/>
            </a:endParaRPr>
          </a:p>
        </p:txBody>
      </p:sp>
      <p:sp>
        <p:nvSpPr>
          <p:cNvPr id="1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Arial"/>
            </a:endParaRPr>
          </a:p>
        </p:txBody>
      </p:sp>
      <p:sp>
        <p:nvSpPr>
          <p:cNvPr id="1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253F-8002-46A9-90B1-D4F9BC91B28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pic>
        <p:nvPicPr>
          <p:cNvPr id="105" name="" descr=""/>
          <p:cNvPicPr/>
          <p:nvPr/>
        </p:nvPicPr>
        <p:blipFill>
          <a:blip r:embed="rId2"/>
          <a:srcRect l="0" t="0" r="6654" b="0"/>
          <a:stretch/>
        </p:blipFill>
        <p:spPr>
          <a:xfrm>
            <a:off x="8461440" y="61920"/>
            <a:ext cx="622080" cy="247680"/>
          </a:xfrm>
          <a:prstGeom prst="rect">
            <a:avLst/>
          </a:prstGeom>
          <a:ln w="0">
            <a:noFill/>
          </a:ln>
        </p:spPr>
      </p:pic>
      <p:sp>
        <p:nvSpPr>
          <p:cNvPr id="10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V="1" rot="10800000">
            <a:off x="8070840" y="6636240"/>
            <a:ext cx="838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LB 041404</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0" y="6442200"/>
            <a:ext cx="9145440" cy="304560"/>
          </a:xfrm>
          <a:prstGeom prst="rect">
            <a:avLst/>
          </a:prstGeom>
          <a:ln w="0">
            <a:noFill/>
          </a:ln>
        </p:spPr>
      </p:pic>
      <p:sp>
        <p:nvSpPr>
          <p:cNvPr id="148"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9" name="" descr=""/>
          <p:cNvPicPr/>
          <p:nvPr/>
        </p:nvPicPr>
        <p:blipFill>
          <a:blip r:embed="rId3"/>
          <a:srcRect l="0" t="0" r="6463" b="0"/>
          <a:stretch/>
        </p:blipFill>
        <p:spPr>
          <a:xfrm>
            <a:off x="8370720" y="100080"/>
            <a:ext cx="623880" cy="247680"/>
          </a:xfrm>
          <a:prstGeom prst="rect">
            <a:avLst/>
          </a:prstGeom>
          <a:ln w="0">
            <a:noFill/>
          </a:ln>
        </p:spPr>
      </p:pic>
      <p:sp>
        <p:nvSpPr>
          <p:cNvPr id="150" name="PlaceHolder 1"/>
          <p:cNvSpPr>
            <a:spLocks noGrp="1"/>
          </p:cNvSpPr>
          <p:nvPr>
            <p:ph type="title"/>
          </p:nvPr>
        </p:nvSpPr>
        <p:spPr>
          <a:xfrm>
            <a:off x="153720" y="456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51"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52" name=""/>
          <p:cNvSpPr/>
          <p:nvPr/>
        </p:nvSpPr>
        <p:spPr>
          <a:xfrm>
            <a:off x="1425600" y="123840"/>
            <a:ext cx="36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Arial"/>
            </a:endParaRPr>
          </a:p>
        </p:txBody>
      </p:sp>
      <p:sp>
        <p:nvSpPr>
          <p:cNvPr id="153" name="PlaceHolder 3"/>
          <p:cNvSpPr>
            <a:spLocks noGrp="1"/>
          </p:cNvSpPr>
          <p:nvPr>
            <p:ph type="sldNum" idx="4"/>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7082-D404-4A7C-BA18-76CE3B318A0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54"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2" name="" descr=""/>
          <p:cNvPicPr/>
          <p:nvPr/>
        </p:nvPicPr>
        <p:blipFill>
          <a:blip r:embed="rId2"/>
          <a:stretch/>
        </p:blipFill>
        <p:spPr>
          <a:xfrm>
            <a:off x="6707160" y="5230800"/>
            <a:ext cx="2162160" cy="399960"/>
          </a:xfrm>
          <a:prstGeom prst="rect">
            <a:avLst/>
          </a:prstGeom>
          <a:ln w="0">
            <a:noFill/>
          </a:ln>
        </p:spPr>
      </p:pic>
      <p:pic>
        <p:nvPicPr>
          <p:cNvPr id="193" name="" descr=""/>
          <p:cNvPicPr/>
          <p:nvPr/>
        </p:nvPicPr>
        <p:blipFill>
          <a:blip r:embed="rId3"/>
          <a:stretch/>
        </p:blipFill>
        <p:spPr>
          <a:xfrm>
            <a:off x="1440" y="4776840"/>
            <a:ext cx="9141120" cy="377640"/>
          </a:xfrm>
          <a:prstGeom prst="rect">
            <a:avLst/>
          </a:prstGeom>
          <a:ln w="0">
            <a:noFill/>
          </a:ln>
        </p:spPr>
      </p:pic>
      <p:pic>
        <p:nvPicPr>
          <p:cNvPr id="194" name="" descr=""/>
          <p:cNvPicPr/>
          <p:nvPr/>
        </p:nvPicPr>
        <p:blipFill>
          <a:blip r:embed="rId4"/>
          <a:srcRect l="0" t="0" r="-50638" b="-116850"/>
          <a:stretch/>
        </p:blipFill>
        <p:spPr>
          <a:xfrm>
            <a:off x="1895400" y="4159080"/>
            <a:ext cx="2946600" cy="654120"/>
          </a:xfrm>
          <a:prstGeom prst="rect">
            <a:avLst/>
          </a:prstGeom>
          <a:ln w="0">
            <a:noFill/>
          </a:ln>
        </p:spPr>
      </p:pic>
      <p:sp>
        <p:nvSpPr>
          <p:cNvPr id="19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6" name=""/>
          <p:cNvGrpSpPr/>
          <p:nvPr/>
        </p:nvGrpSpPr>
        <p:grpSpPr>
          <a:xfrm>
            <a:off x="7674120" y="687240"/>
            <a:ext cx="1162080" cy="559440"/>
            <a:chOff x="7674120" y="687240"/>
            <a:chExt cx="1162080" cy="559440"/>
          </a:xfrm>
        </p:grpSpPr>
        <p:pic>
          <p:nvPicPr>
            <p:cNvPr id="197" name="" descr=""/>
            <p:cNvPicPr/>
            <p:nvPr/>
          </p:nvPicPr>
          <p:blipFill>
            <a:blip r:embed="rId5"/>
            <a:srcRect l="0" t="0" r="6463" b="0"/>
            <a:stretch/>
          </p:blipFill>
          <p:spPr>
            <a:xfrm>
              <a:off x="7674120" y="687240"/>
              <a:ext cx="1003320" cy="400320"/>
            </a:xfrm>
            <a:prstGeom prst="rect">
              <a:avLst/>
            </a:prstGeom>
            <a:ln w="0">
              <a:noFill/>
            </a:ln>
          </p:spPr>
        </p:pic>
        <p:sp>
          <p:nvSpPr>
            <p:cNvPr id="198"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
        <p:nvSpPr>
          <p:cNvPr id="19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0"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ffffff"/>
              </a:solidFill>
              <a:latin typeface="Arial"/>
            </a:endParaRPr>
          </a:p>
        </p:txBody>
      </p:sp>
      <p:sp>
        <p:nvSpPr>
          <p:cNvPr id="201"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0" name="" descr=""/>
          <p:cNvPicPr/>
          <p:nvPr/>
        </p:nvPicPr>
        <p:blipFill>
          <a:blip r:embed="rId2"/>
          <a:stretch/>
        </p:blipFill>
        <p:spPr>
          <a:xfrm>
            <a:off x="0" y="6442200"/>
            <a:ext cx="9145440" cy="304560"/>
          </a:xfrm>
          <a:prstGeom prst="rect">
            <a:avLst/>
          </a:prstGeom>
          <a:ln w="0">
            <a:noFill/>
          </a:ln>
        </p:spPr>
      </p:pic>
      <p:sp>
        <p:nvSpPr>
          <p:cNvPr id="24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3"/>
          <a:srcRect l="0" t="0" r="6463" b="0"/>
          <a:stretch/>
        </p:blipFill>
        <p:spPr>
          <a:xfrm>
            <a:off x="8370720" y="100080"/>
            <a:ext cx="623880" cy="247680"/>
          </a:xfrm>
          <a:prstGeom prst="rect">
            <a:avLst/>
          </a:prstGeom>
          <a:ln w="0">
            <a:noFill/>
          </a:ln>
        </p:spPr>
      </p:pic>
      <p:sp>
        <p:nvSpPr>
          <p:cNvPr id="243"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44" name="PlaceHolder 2"/>
          <p:cNvSpPr>
            <a:spLocks noGrp="1"/>
          </p:cNvSpPr>
          <p:nvPr>
            <p:ph type="body"/>
          </p:nvPr>
        </p:nvSpPr>
        <p:spPr>
          <a:xfrm>
            <a:off x="785880" y="137628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45" name=""/>
          <p:cNvSpPr/>
          <p:nvPr/>
        </p:nvSpPr>
        <p:spPr>
          <a:xfrm>
            <a:off x="1425600" y="123840"/>
            <a:ext cx="36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Arial"/>
            </a:endParaRPr>
          </a:p>
        </p:txBody>
      </p:sp>
      <p:sp>
        <p:nvSpPr>
          <p:cNvPr id="246" name="PlaceHolder 3"/>
          <p:cNvSpPr>
            <a:spLocks noGrp="1"/>
          </p:cNvSpPr>
          <p:nvPr>
            <p:ph type="sldNum" idx="5"/>
          </p:nvPr>
        </p:nvSpPr>
        <p:spPr>
          <a:xfrm>
            <a:off x="8327880" y="6529320"/>
            <a:ext cx="673200" cy="30492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Page </a:t>
            </a:r>
            <a:fld id="{B2011FDE-D603-48BC-BD2F-F74C22BA9975}"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247"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5" name="" descr=""/>
          <p:cNvPicPr/>
          <p:nvPr/>
        </p:nvPicPr>
        <p:blipFill>
          <a:blip r:embed="rId2"/>
          <a:stretch/>
        </p:blipFill>
        <p:spPr>
          <a:xfrm>
            <a:off x="6707160" y="5230800"/>
            <a:ext cx="2162160" cy="399960"/>
          </a:xfrm>
          <a:prstGeom prst="rect">
            <a:avLst/>
          </a:prstGeom>
          <a:ln w="0">
            <a:noFill/>
          </a:ln>
        </p:spPr>
      </p:pic>
      <p:pic>
        <p:nvPicPr>
          <p:cNvPr id="286" name="" descr=""/>
          <p:cNvPicPr/>
          <p:nvPr/>
        </p:nvPicPr>
        <p:blipFill>
          <a:blip r:embed="rId3"/>
          <a:stretch/>
        </p:blipFill>
        <p:spPr>
          <a:xfrm>
            <a:off x="1440" y="4776840"/>
            <a:ext cx="9141120" cy="377640"/>
          </a:xfrm>
          <a:prstGeom prst="rect">
            <a:avLst/>
          </a:prstGeom>
          <a:ln w="0">
            <a:noFill/>
          </a:ln>
        </p:spPr>
      </p:pic>
      <p:pic>
        <p:nvPicPr>
          <p:cNvPr id="287" name="" descr=""/>
          <p:cNvPicPr/>
          <p:nvPr/>
        </p:nvPicPr>
        <p:blipFill>
          <a:blip r:embed="rId4"/>
          <a:srcRect l="0" t="0" r="-50638" b="-116850"/>
          <a:stretch/>
        </p:blipFill>
        <p:spPr>
          <a:xfrm>
            <a:off x="1895400" y="4159080"/>
            <a:ext cx="2946600" cy="654120"/>
          </a:xfrm>
          <a:prstGeom prst="rect">
            <a:avLst/>
          </a:prstGeom>
          <a:ln w="0">
            <a:noFill/>
          </a:ln>
        </p:spPr>
      </p:pic>
      <p:sp>
        <p:nvSpPr>
          <p:cNvPr id="28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9" name=""/>
          <p:cNvGrpSpPr/>
          <p:nvPr/>
        </p:nvGrpSpPr>
        <p:grpSpPr>
          <a:xfrm>
            <a:off x="7674120" y="687240"/>
            <a:ext cx="1162080" cy="559440"/>
            <a:chOff x="7674120" y="687240"/>
            <a:chExt cx="1162080" cy="559440"/>
          </a:xfrm>
        </p:grpSpPr>
        <p:pic>
          <p:nvPicPr>
            <p:cNvPr id="290" name="" descr=""/>
            <p:cNvPicPr/>
            <p:nvPr/>
          </p:nvPicPr>
          <p:blipFill>
            <a:blip r:embed="rId5"/>
            <a:srcRect l="0" t="0" r="6463" b="0"/>
            <a:stretch/>
          </p:blipFill>
          <p:spPr>
            <a:xfrm>
              <a:off x="7674120" y="687240"/>
              <a:ext cx="1003320" cy="400320"/>
            </a:xfrm>
            <a:prstGeom prst="rect">
              <a:avLst/>
            </a:prstGeom>
            <a:ln w="0">
              <a:noFill/>
            </a:ln>
          </p:spPr>
        </p:pic>
        <p:sp>
          <p:nvSpPr>
            <p:cNvPr id="291"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
        <p:nvSpPr>
          <p:cNvPr id="292"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3"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ffffff"/>
              </a:solidFill>
              <a:latin typeface="Arial"/>
            </a:endParaRPr>
          </a:p>
        </p:txBody>
      </p:sp>
      <p:sp>
        <p:nvSpPr>
          <p:cNvPr id="294"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oleObject" Target="../embeddings/oleObject6.bin"/><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oleObject" Target="../embeddings/oleObject7.bin"/><Relationship Id="rId16" Type="http://schemas.openxmlformats.org/officeDocument/2006/relationships/image" Target="../media/image30.png"/><Relationship Id="rId17" Type="http://schemas.openxmlformats.org/officeDocument/2006/relationships/oleObject" Target="../embeddings/oleObject8.bin"/><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hyperlink" Target="http://images.google.ca/imgres?imgurl=http://www.clipartheaven.com/clipart/time/hourglass_1.gif&amp;imgrefurl=http://www.clipartheaven.com/clipart/time/&amp;h=547&amp;w=490&amp;sz=16&amp;tbnid=aF7uOvBBRycJ:&amp;tbnh=130&amp;tbnw=116&amp;hl=en&amp;start=1&amp;prev=/images%3Fq%3Dtime%2Bclipart%26svnum%3D50%26hl%3Den%26lr%3D%26safe%3Doff%26rls%3DGGLG,GGLG:2005-27,GGLG:en" TargetMode="External"/><Relationship Id="rId21" Type="http://schemas.openxmlformats.org/officeDocument/2006/relationships/image" Target="../media/image33.jpeg"/><Relationship Id="rId22" Type="http://schemas.openxmlformats.org/officeDocument/2006/relationships/oleObject" Target="../embeddings/oleObject9.bin"/><Relationship Id="rId23" Type="http://schemas.openxmlformats.org/officeDocument/2006/relationships/image" Target="../media/image34.png"/><Relationship Id="rId24" Type="http://schemas.openxmlformats.org/officeDocument/2006/relationships/image" Target="../media/image35.png"/><Relationship Id="rId25" Type="http://schemas.openxmlformats.org/officeDocument/2006/relationships/oleObject" Target="../embeddings/oleObject10.bin"/><Relationship Id="rId26" Type="http://schemas.openxmlformats.org/officeDocument/2006/relationships/image" Target="../media/image36.png"/><Relationship Id="rId27" Type="http://schemas.openxmlformats.org/officeDocument/2006/relationships/oleObject" Target="../embeddings/oleObject11.bin"/><Relationship Id="rId28" Type="http://schemas.openxmlformats.org/officeDocument/2006/relationships/image" Target="../media/image37.png"/><Relationship Id="rId29" Type="http://schemas.openxmlformats.org/officeDocument/2006/relationships/image" Target="../media/image38.jpeg"/><Relationship Id="rId30" Type="http://schemas.openxmlformats.org/officeDocument/2006/relationships/oleObject" Target="../embeddings/oleObject12.bin"/><Relationship Id="rId31" Type="http://schemas.openxmlformats.org/officeDocument/2006/relationships/image" Target="../media/image39.png"/><Relationship Id="rId32" Type="http://schemas.openxmlformats.org/officeDocument/2006/relationships/hyperlink" Target="http://images.google.ca/imgres?imgurl=http://www.atcommunications.co.uk/images/colour%2520blackberry%2520above.JPG&amp;imgrefurl=http://www.atcommunications.co.uk/pr14.asp&amp;h=3216&amp;w=2612&amp;sz=890&amp;tbnid=dtoNro1arhoJ:&amp;tbnh=150&amp;tbnw=121&amp;hl=en&amp;start=2&amp;prev=/images%3Fq%3Dblackberry%26svnum%3D50%26hl%3Den%26lr%3D%26safe%3Doff%26rls%3DGGLG,GGLG:2005-27,GGLG:en" TargetMode="External"/><Relationship Id="rId33" Type="http://schemas.openxmlformats.org/officeDocument/2006/relationships/image" Target="../media/image40.jpeg"/><Relationship Id="rId34" Type="http://schemas.openxmlformats.org/officeDocument/2006/relationships/hyperlink" Target="http://images.google.ca/imgres?imgurl=http://previews.nvtech.com/05/tf05221/NVTech_vc026923.jpg&amp;imgrefurl=http://dir.coolclips.com/Technology/Communications/Communication_Towers/communication_towers3.html&amp;h=100&amp;w=90&amp;sz=5&amp;tbnid=UBJiSy3rXEgJ:&amp;tbnh=77&amp;tbnw=69&amp;hl=en&amp;start=20&amp;prev=/images%3Fq%3Dradio%2Btower%2Bclipart%26svnum%3D50%26hl%3Den%26lr%3D%26safe%3Doff%26rls%3DGGLG,GGLG:2005-27,GGLG:en" TargetMode="External"/><Relationship Id="rId35" Type="http://schemas.openxmlformats.org/officeDocument/2006/relationships/image" Target="../media/image41.jpeg"/><Relationship Id="rId36" Type="http://schemas.openxmlformats.org/officeDocument/2006/relationships/oleObject" Target="../embeddings/oleObject13.bin"/><Relationship Id="rId37" Type="http://schemas.openxmlformats.org/officeDocument/2006/relationships/image" Target="../media/image42.png"/><Relationship Id="rId38" Type="http://schemas.openxmlformats.org/officeDocument/2006/relationships/oleObject" Target="../embeddings/oleObject14.bin"/><Relationship Id="rId39" Type="http://schemas.openxmlformats.org/officeDocument/2006/relationships/image" Target="../media/image43.png"/><Relationship Id="rId40" Type="http://schemas.openxmlformats.org/officeDocument/2006/relationships/image" Target="../media/image44.png"/><Relationship Id="rId41" Type="http://schemas.openxmlformats.org/officeDocument/2006/relationships/image" Target="../media/image45.wmf"/><Relationship Id="rId42" Type="http://schemas.openxmlformats.org/officeDocument/2006/relationships/slideLayout" Target="../slideLayouts/slideLayout71.xml"/>
</Relationships>
</file>

<file path=ppt/slides/_rels/slide1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6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37.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hyperlink" Target="http://w3-103.ibm.com/software/xl/portal/!ut/p/_s.7_0_A/7_0_IP?type=doc&amp;docID=T132172U03068Q76&amp;srcID=null" TargetMode="External"/><Relationship Id="rId2" Type="http://schemas.openxmlformats.org/officeDocument/2006/relationships/hyperlink" Target="http://w3.ibm.com/software/xl/portal/viewcontent?type=doc&amp;srcID=xskc&amp;docID=J432860S02660T43" TargetMode="External"/><Relationship Id="rId3" Type="http://schemas.openxmlformats.org/officeDocument/2006/relationships/hyperlink" Target="http://www.ibm.com/software/integration/webcast11" TargetMode="External"/><Relationship Id="rId4" Type="http://schemas.openxmlformats.org/officeDocument/2006/relationships/hyperlink" Target="http://w3-103.ibm.com/software/xl/portal/!ut/p/_s.7_0_A/7_0_IP?type=doc&amp;srcID=XSKC&amp;docID=I925715G19601F63" TargetMode="External"/><Relationship Id="rId5" Type="http://schemas.openxmlformats.org/officeDocument/2006/relationships/hyperlink" Target="http://www-306.ibm.com/software/info1/websphere/index.jsp?tab=landings/appintegration" TargetMode="External"/><Relationship Id="rId6" Type="http://schemas.openxmlformats.org/officeDocument/2006/relationships/hyperlink" Target="http://www-306.ibm.com/software/info1/websphere/index.jsp?tab=landings/esb&amp;S_TACT=103BGW01&amp;S_CMP=campaign" TargetMode="External"/><Relationship Id="rId7" Type="http://schemas.openxmlformats.org/officeDocument/2006/relationships/hyperlink" Target="http://www-306.ibm.com/software/integration/wbimessagebroker/v6/faqs.html" TargetMode="External"/><Relationship Id="rId8" Type="http://schemas.openxmlformats.org/officeDocument/2006/relationships/hyperlink" Target="http://www-306.ibm.com/software/integration/wsesb/v6/faqs.html" TargetMode="External"/><Relationship Id="rId9" Type="http://schemas.openxmlformats.org/officeDocument/2006/relationships/hyperlink" Target="http://w3-103.ibm.com/software/xl/portal/!ut/p/_s.7_0_A/7_0_IP?type=doc&amp;srcID=XSKC&amp;docID=S259273K11504Y84" TargetMode="External"/><Relationship Id="rId10" Type="http://schemas.openxmlformats.org/officeDocument/2006/relationships/hyperlink" Target="http://w3-103.ibm.com/software/xl/portal?type=doc&amp;docID=J182891S26152O50&amp;srcID=null" TargetMode="External"/><Relationship Id="rId1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4.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12.png"/><Relationship Id="rId27" Type="http://schemas.openxmlformats.org/officeDocument/2006/relationships/image" Target="../media/image12.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1.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11.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9.png"/><Relationship Id="rId52" Type="http://schemas.openxmlformats.org/officeDocument/2006/relationships/image" Target="../media/image9.png"/><Relationship Id="rId53" Type="http://schemas.openxmlformats.org/officeDocument/2006/relationships/image" Target="../media/image11.png"/><Relationship Id="rId54" Type="http://schemas.openxmlformats.org/officeDocument/2006/relationships/image" Target="../media/image9.png"/><Relationship Id="rId55" Type="http://schemas.openxmlformats.org/officeDocument/2006/relationships/image" Target="../media/image9.png"/><Relationship Id="rId56" Type="http://schemas.openxmlformats.org/officeDocument/2006/relationships/image" Target="../media/image13.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2.png"/><Relationship Id="rId60" Type="http://schemas.openxmlformats.org/officeDocument/2006/relationships/image" Target="../media/image12.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9.png"/><Relationship Id="rId65" Type="http://schemas.openxmlformats.org/officeDocument/2006/relationships/image" Target="../media/image11.png"/><Relationship Id="rId66" Type="http://schemas.openxmlformats.org/officeDocument/2006/relationships/image" Target="../media/image9.png"/><Relationship Id="rId67" Type="http://schemas.openxmlformats.org/officeDocument/2006/relationships/image" Target="../media/image11.png"/><Relationship Id="rId68" Type="http://schemas.openxmlformats.org/officeDocument/2006/relationships/image" Target="../media/image9.png"/><Relationship Id="rId69" Type="http://schemas.openxmlformats.org/officeDocument/2006/relationships/image" Target="../media/image9.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9.png"/><Relationship Id="rId73" Type="http://schemas.openxmlformats.org/officeDocument/2006/relationships/image" Target="../media/image12.png"/><Relationship Id="rId74" Type="http://schemas.openxmlformats.org/officeDocument/2006/relationships/image" Target="../media/image9.png"/><Relationship Id="rId75" Type="http://schemas.openxmlformats.org/officeDocument/2006/relationships/image" Target="../media/image9.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9.png"/><Relationship Id="rId79" Type="http://schemas.openxmlformats.org/officeDocument/2006/relationships/image" Target="../media/image9.png"/><Relationship Id="rId80" Type="http://schemas.openxmlformats.org/officeDocument/2006/relationships/image" Target="../media/image12.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9.png"/><Relationship Id="rId84" Type="http://schemas.openxmlformats.org/officeDocument/2006/relationships/image" Target="../media/image12.png"/><Relationship Id="rId85" Type="http://schemas.openxmlformats.org/officeDocument/2006/relationships/image" Target="../media/image12.png"/><Relationship Id="rId86" Type="http://schemas.openxmlformats.org/officeDocument/2006/relationships/image" Target="../media/image9.png"/><Relationship Id="rId87" Type="http://schemas.openxmlformats.org/officeDocument/2006/relationships/image" Target="../media/image9.png"/><Relationship Id="rId88" Type="http://schemas.openxmlformats.org/officeDocument/2006/relationships/image" Target="../media/image9.png"/><Relationship Id="rId89" Type="http://schemas.openxmlformats.org/officeDocument/2006/relationships/image" Target="../media/image12.png"/><Relationship Id="rId90" Type="http://schemas.openxmlformats.org/officeDocument/2006/relationships/image" Target="../media/image9.png"/><Relationship Id="rId91" Type="http://schemas.openxmlformats.org/officeDocument/2006/relationships/image" Target="../media/image9.png"/><Relationship Id="rId92" Type="http://schemas.openxmlformats.org/officeDocument/2006/relationships/image" Target="../media/image12.png"/><Relationship Id="rId93" Type="http://schemas.openxmlformats.org/officeDocument/2006/relationships/image" Target="../media/image9.png"/><Relationship Id="rId94" Type="http://schemas.openxmlformats.org/officeDocument/2006/relationships/image" Target="../media/image9.png"/><Relationship Id="rId95" Type="http://schemas.openxmlformats.org/officeDocument/2006/relationships/image" Target="../media/image12.png"/><Relationship Id="rId96" Type="http://schemas.openxmlformats.org/officeDocument/2006/relationships/image" Target="../media/image11.png"/><Relationship Id="rId97" Type="http://schemas.openxmlformats.org/officeDocument/2006/relationships/image" Target="../media/image12.png"/><Relationship Id="rId98" Type="http://schemas.openxmlformats.org/officeDocument/2006/relationships/image" Target="../media/image9.png"/><Relationship Id="rId99" Type="http://schemas.openxmlformats.org/officeDocument/2006/relationships/image" Target="../media/image9.png"/><Relationship Id="rId100" Type="http://schemas.openxmlformats.org/officeDocument/2006/relationships/image" Target="../media/image9.png"/><Relationship Id="rId101" Type="http://schemas.openxmlformats.org/officeDocument/2006/relationships/image" Target="../media/image9.png"/><Relationship Id="rId102" Type="http://schemas.openxmlformats.org/officeDocument/2006/relationships/image" Target="../media/image11.png"/><Relationship Id="rId103" Type="http://schemas.openxmlformats.org/officeDocument/2006/relationships/image" Target="../media/image9.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0.png"/><Relationship Id="rId107" Type="http://schemas.openxmlformats.org/officeDocument/2006/relationships/image" Target="../media/image9.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1.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9.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1.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5.png"/><Relationship Id="rId123" Type="http://schemas.openxmlformats.org/officeDocument/2006/relationships/image" Target="../media/image15.png"/><Relationship Id="rId124" Type="http://schemas.openxmlformats.org/officeDocument/2006/relationships/image" Target="../media/image15.png"/><Relationship Id="rId125" Type="http://schemas.openxmlformats.org/officeDocument/2006/relationships/image" Target="../media/image15.png"/><Relationship Id="rId126" Type="http://schemas.openxmlformats.org/officeDocument/2006/relationships/image" Target="../media/image15.png"/><Relationship Id="rId127" Type="http://schemas.openxmlformats.org/officeDocument/2006/relationships/image" Target="../media/image15.png"/><Relationship Id="rId128" Type="http://schemas.openxmlformats.org/officeDocument/2006/relationships/image" Target="../media/image15.png"/><Relationship Id="rId129" Type="http://schemas.openxmlformats.org/officeDocument/2006/relationships/image" Target="../media/image15.png"/><Relationship Id="rId130" Type="http://schemas.openxmlformats.org/officeDocument/2006/relationships/image" Target="../media/image15.png"/><Relationship Id="rId131" Type="http://schemas.openxmlformats.org/officeDocument/2006/relationships/image" Target="../media/image15.png"/><Relationship Id="rId132" Type="http://schemas.openxmlformats.org/officeDocument/2006/relationships/image" Target="../media/image15.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1.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9.png"/><Relationship Id="rId143" Type="http://schemas.openxmlformats.org/officeDocument/2006/relationships/image" Target="../media/image12.png"/><Relationship Id="rId144" Type="http://schemas.openxmlformats.org/officeDocument/2006/relationships/image" Target="../media/image9.png"/><Relationship Id="rId145" Type="http://schemas.openxmlformats.org/officeDocument/2006/relationships/image" Target="../media/image11.png"/><Relationship Id="rId146" Type="http://schemas.openxmlformats.org/officeDocument/2006/relationships/image" Target="../media/image11.png"/><Relationship Id="rId147" Type="http://schemas.openxmlformats.org/officeDocument/2006/relationships/image" Target="../media/image11.png"/><Relationship Id="rId148"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590920"/>
            <a:ext cx="6391440" cy="1697040"/>
          </a:xfrm>
          <a:prstGeom prst="rect">
            <a:avLst/>
          </a:prstGeom>
          <a:solidFill>
            <a:srgbClr val="ffffff">
              <a:alpha val="90000"/>
            </a:srgbClr>
          </a:solidFill>
          <a:ln w="9360">
            <a:solidFill>
              <a:srgbClr val="ccccff"/>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889fb"/>
                </a:solidFill>
                <a:latin typeface="Arial"/>
              </a:rPr>
              <a:t>Sales Acceleration Plays</a:t>
            </a:r>
            <a:br>
              <a:rPr sz="3200"/>
            </a:br>
            <a:r>
              <a:rPr b="0" i="1" lang="en-US" sz="2800" spc="-1" strike="noStrike">
                <a:solidFill>
                  <a:srgbClr val="7889fb"/>
                </a:solidFill>
                <a:latin typeface="Arial"/>
              </a:rPr>
              <a:t>WESB, Message Broker, and MQ</a:t>
            </a:r>
            <a:br>
              <a:rPr sz="2800"/>
            </a:br>
            <a:br>
              <a:rPr sz="2800"/>
            </a:br>
            <a:r>
              <a:rPr b="0" i="1" lang="en-US" sz="2400" spc="-1" strike="noStrike">
                <a:solidFill>
                  <a:srgbClr val="7889fb"/>
                </a:solidFill>
                <a:latin typeface="Arial"/>
              </a:rPr>
              <a:t>03/07/06 </a:t>
            </a:r>
            <a:r>
              <a:rPr b="0" i="1" lang="en-US" sz="2800" spc="-1" strike="noStrike">
                <a:solidFill>
                  <a:srgbClr val="7889fb"/>
                </a:solidFill>
                <a:latin typeface="Arial"/>
              </a:rPr>
              <a:t> </a:t>
            </a:r>
            <a:endParaRPr b="0" lang="en-US" sz="2800" spc="-1" strike="noStrike">
              <a:solidFill>
                <a:srgbClr val="000000"/>
              </a:solidFill>
              <a:latin typeface="Arial"/>
            </a:endParaRPr>
          </a:p>
        </p:txBody>
      </p:sp>
      <p:pic>
        <p:nvPicPr>
          <p:cNvPr id="340" name="" descr=""/>
          <p:cNvPicPr/>
          <p:nvPr/>
        </p:nvPicPr>
        <p:blipFill>
          <a:blip r:embed="rId1"/>
          <a:stretch/>
        </p:blipFill>
        <p:spPr>
          <a:xfrm>
            <a:off x="2514600" y="5578560"/>
            <a:ext cx="3705120" cy="1279440"/>
          </a:xfrm>
          <a:prstGeom prst="rect">
            <a:avLst/>
          </a:prstGeom>
          <a:ln w="0">
            <a:noFill/>
          </a:ln>
        </p:spPr>
      </p:pic>
      <p:sp>
        <p:nvSpPr>
          <p:cNvPr id="3" name="PlaceHolder 2"/>
          <p:cNvSpPr>
            <a:spLocks noGrp="1"/>
          </p:cNvSpPr>
          <p:nvPr>
            <p:ph type="sldNum" idx="2"/>
          </p:nvPr>
        </p:nvSpPr>
        <p:spPr/>
        <p:txBody>
          <a:bodyPr/>
          <a:p>
            <a:fld id="{5AF4AC1F-338A-474C-A5D0-AA2FE6D72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flipH="1" flipV="1">
            <a:off x="209880" y="460620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99" name=""/>
          <p:cNvSpPr/>
          <p:nvPr/>
        </p:nvSpPr>
        <p:spPr>
          <a:xfrm>
            <a:off x="84240" y="536400"/>
            <a:ext cx="893124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ea typeface="Arial"/>
              </a:rPr>
              <a:t>How do you position WebSphere ESB v6?</a:t>
            </a:r>
            <a:endParaRPr b="0" lang="en-US" sz="2600" spc="-1" strike="noStrike">
              <a:solidFill>
                <a:srgbClr val="ffffff"/>
              </a:solidFill>
              <a:latin typeface="Arial"/>
            </a:endParaRPr>
          </a:p>
        </p:txBody>
      </p:sp>
      <p:sp>
        <p:nvSpPr>
          <p:cNvPr id="2100" name=""/>
          <p:cNvSpPr/>
          <p:nvPr/>
        </p:nvSpPr>
        <p:spPr>
          <a:xfrm>
            <a:off x="996840" y="1371600"/>
            <a:ext cx="3651480" cy="442800"/>
          </a:xfrm>
          <a:prstGeom prst="rect">
            <a:avLst/>
          </a:prstGeom>
          <a:noFill/>
          <a:ln w="0">
            <a:noFill/>
          </a:ln>
        </p:spPr>
        <p:style>
          <a:lnRef idx="0"/>
          <a:fillRef idx="0"/>
          <a:effectRef idx="0"/>
          <a:fontRef idx="minor"/>
        </p:style>
        <p:txBody>
          <a:bodyPr lIns="90000" rIns="90000" tIns="46800" bIns="46800" anchor="t">
            <a:normAutofit fontScale="6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f your focus is building, hosting, and mediating new Web Services…</a:t>
            </a:r>
            <a:endParaRPr b="0" lang="en-US" sz="1800" spc="-1" strike="noStrike">
              <a:solidFill>
                <a:srgbClr val="ffffff"/>
              </a:solidFill>
              <a:latin typeface="Arial"/>
            </a:endParaRPr>
          </a:p>
        </p:txBody>
      </p:sp>
      <p:sp>
        <p:nvSpPr>
          <p:cNvPr id="2101" name=""/>
          <p:cNvSpPr/>
          <p:nvPr/>
        </p:nvSpPr>
        <p:spPr>
          <a:xfrm>
            <a:off x="236520" y="5267160"/>
            <a:ext cx="4151160" cy="922680"/>
          </a:xfrm>
          <a:prstGeom prst="rect">
            <a:avLst/>
          </a:prstGeom>
          <a:noFill/>
          <a:ln w="0">
            <a:noFill/>
          </a:ln>
        </p:spPr>
        <p:style>
          <a:lnRef idx="0"/>
          <a:fillRef idx="0"/>
          <a:effectRef idx="0"/>
          <a:fontRef idx="minor"/>
        </p:style>
        <p:txBody>
          <a:bodyPr lIns="90000" rIns="90000" tIns="46800" bIns="46800" anchor="t">
            <a:norm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then what you require is an</a:t>
            </a:r>
            <a:r>
              <a:rPr b="1" lang="en-US" sz="1800" spc="-1" strike="noStrike">
                <a:solidFill>
                  <a:srgbClr val="ffffff"/>
                </a:solidFill>
                <a:latin typeface="Arial"/>
                <a:ea typeface="Arial"/>
              </a:rPr>
              <a:t> ESB </a:t>
            </a:r>
            <a:r>
              <a:rPr b="1" lang="en-US" sz="1800" spc="-1" strike="noStrike" u="sng">
                <a:solidFill>
                  <a:srgbClr val="ffffff"/>
                </a:solidFill>
                <a:uFillTx/>
                <a:latin typeface="Arial"/>
                <a:ea typeface="Arial"/>
              </a:rPr>
              <a:t>EMBEDDED</a:t>
            </a:r>
            <a:r>
              <a:rPr b="1" lang="en-US" sz="1800" spc="-1" strike="noStrike">
                <a:solidFill>
                  <a:srgbClr val="ffffff"/>
                </a:solidFill>
                <a:latin typeface="Arial"/>
                <a:ea typeface="Arial"/>
              </a:rPr>
              <a:t> with a Web Services hosting platform.</a:t>
            </a:r>
            <a:endParaRPr b="0" lang="en-US" sz="1800" spc="-1" strike="noStrike">
              <a:solidFill>
                <a:srgbClr val="ffffff"/>
              </a:solidFill>
              <a:latin typeface="Arial"/>
            </a:endParaRPr>
          </a:p>
        </p:txBody>
      </p:sp>
      <p:sp>
        <p:nvSpPr>
          <p:cNvPr id="2102" name=""/>
          <p:cNvSpPr/>
          <p:nvPr/>
        </p:nvSpPr>
        <p:spPr>
          <a:xfrm>
            <a:off x="200160" y="1371600"/>
            <a:ext cx="72864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3" name=""/>
          <p:cNvSpPr/>
          <p:nvPr/>
        </p:nvSpPr>
        <p:spPr>
          <a:xfrm>
            <a:off x="366840" y="14428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grpSp>
        <p:nvGrpSpPr>
          <p:cNvPr id="2104" name=""/>
          <p:cNvGrpSpPr/>
          <p:nvPr/>
        </p:nvGrpSpPr>
        <p:grpSpPr>
          <a:xfrm>
            <a:off x="185760" y="2373480"/>
            <a:ext cx="4314960" cy="2731680"/>
            <a:chOff x="185760" y="2373480"/>
            <a:chExt cx="4314960" cy="2731680"/>
          </a:xfrm>
        </p:grpSpPr>
        <p:sp>
          <p:nvSpPr>
            <p:cNvPr id="2105" name=""/>
            <p:cNvSpPr/>
            <p:nvPr/>
          </p:nvSpPr>
          <p:spPr>
            <a:xfrm flipH="1" flipV="1">
              <a:off x="343152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06" name=""/>
            <p:cNvSpPr/>
            <p:nvPr/>
          </p:nvSpPr>
          <p:spPr>
            <a:xfrm flipH="1" flipV="1">
              <a:off x="20556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07" name=""/>
            <p:cNvSpPr/>
            <p:nvPr/>
          </p:nvSpPr>
          <p:spPr>
            <a:xfrm flipH="1" flipV="1">
              <a:off x="235512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08" name=""/>
            <p:cNvSpPr/>
            <p:nvPr/>
          </p:nvSpPr>
          <p:spPr>
            <a:xfrm flipH="1" flipV="1">
              <a:off x="235512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09" name=""/>
            <p:cNvSpPr/>
            <p:nvPr/>
          </p:nvSpPr>
          <p:spPr>
            <a:xfrm flipH="1" flipV="1">
              <a:off x="1281240" y="4430880"/>
              <a:ext cx="90936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10" name=""/>
            <p:cNvSpPr/>
            <p:nvPr/>
          </p:nvSpPr>
          <p:spPr>
            <a:xfrm flipH="1" flipV="1">
              <a:off x="20556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11" name=""/>
            <p:cNvSpPr/>
            <p:nvPr/>
          </p:nvSpPr>
          <p:spPr>
            <a:xfrm flipH="1" flipV="1">
              <a:off x="343152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12" name=""/>
            <p:cNvSpPr/>
            <p:nvPr/>
          </p:nvSpPr>
          <p:spPr>
            <a:xfrm>
              <a:off x="190440" y="3557520"/>
              <a:ext cx="4310280" cy="36036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13" name=""/>
            <p:cNvSpPr/>
            <p:nvPr/>
          </p:nvSpPr>
          <p:spPr>
            <a:xfrm>
              <a:off x="66348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4" name=""/>
            <p:cNvSpPr/>
            <p:nvPr/>
          </p:nvSpPr>
          <p:spPr>
            <a:xfrm>
              <a:off x="281160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5" name=""/>
            <p:cNvSpPr/>
            <p:nvPr/>
          </p:nvSpPr>
          <p:spPr>
            <a:xfrm>
              <a:off x="387036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6" name=""/>
            <p:cNvSpPr/>
            <p:nvPr/>
          </p:nvSpPr>
          <p:spPr>
            <a:xfrm>
              <a:off x="66024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7" name=""/>
            <p:cNvSpPr/>
            <p:nvPr/>
          </p:nvSpPr>
          <p:spPr>
            <a:xfrm>
              <a:off x="173520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8" name=""/>
            <p:cNvSpPr/>
            <p:nvPr/>
          </p:nvSpPr>
          <p:spPr>
            <a:xfrm>
              <a:off x="280836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9" name=""/>
            <p:cNvSpPr/>
            <p:nvPr/>
          </p:nvSpPr>
          <p:spPr>
            <a:xfrm>
              <a:off x="386568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0" name=""/>
            <p:cNvSpPr/>
            <p:nvPr/>
          </p:nvSpPr>
          <p:spPr>
            <a:xfrm>
              <a:off x="1047960" y="3579840"/>
              <a:ext cx="24012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nterprise Service Bus</a:t>
              </a:r>
              <a:endParaRPr b="0" lang="en-US" sz="1600" spc="-1" strike="noStrike">
                <a:solidFill>
                  <a:srgbClr val="ffffff"/>
                </a:solidFill>
                <a:latin typeface="Arial"/>
              </a:endParaRPr>
            </a:p>
          </p:txBody>
        </p:sp>
        <p:sp>
          <p:nvSpPr>
            <p:cNvPr id="2121" name=""/>
            <p:cNvSpPr/>
            <p:nvPr/>
          </p:nvSpPr>
          <p:spPr>
            <a:xfrm flipH="1" flipV="1">
              <a:off x="1274040" y="295200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122" name=""/>
            <p:cNvSpPr/>
            <p:nvPr/>
          </p:nvSpPr>
          <p:spPr>
            <a:xfrm>
              <a:off x="1731960" y="305100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3" name=""/>
            <p:cNvSpPr/>
            <p:nvPr/>
          </p:nvSpPr>
          <p:spPr>
            <a:xfrm flipH="1" flipV="1">
              <a:off x="18540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4" name=""/>
            <p:cNvSpPr/>
            <p:nvPr/>
          </p:nvSpPr>
          <p:spPr>
            <a:xfrm flipH="1">
              <a:off x="204840" y="2466000"/>
              <a:ext cx="907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125" name=""/>
            <p:cNvSpPr/>
            <p:nvPr/>
          </p:nvSpPr>
          <p:spPr>
            <a:xfrm flipH="1" flipV="1">
              <a:off x="126684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6" name=""/>
            <p:cNvSpPr/>
            <p:nvPr/>
          </p:nvSpPr>
          <p:spPr>
            <a:xfrm flipH="1">
              <a:off x="1274040" y="2477160"/>
              <a:ext cx="8953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127" name=""/>
            <p:cNvSpPr/>
            <p:nvPr/>
          </p:nvSpPr>
          <p:spPr>
            <a:xfrm flipH="1" flipV="1">
              <a:off x="233856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8" name=""/>
            <p:cNvSpPr/>
            <p:nvPr/>
          </p:nvSpPr>
          <p:spPr>
            <a:xfrm flipH="1" flipV="1">
              <a:off x="340524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9" name=""/>
            <p:cNvSpPr/>
            <p:nvPr/>
          </p:nvSpPr>
          <p:spPr>
            <a:xfrm flipH="1">
              <a:off x="3480480" y="24526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130" name=""/>
            <p:cNvSpPr/>
            <p:nvPr/>
          </p:nvSpPr>
          <p:spPr>
            <a:xfrm flipH="1">
              <a:off x="2446920" y="2452680"/>
              <a:ext cx="734040" cy="50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31" name=""/>
            <p:cNvSpPr/>
            <p:nvPr/>
          </p:nvSpPr>
          <p:spPr>
            <a:xfrm flipH="1" flipV="1">
              <a:off x="236232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2" name=""/>
            <p:cNvSpPr/>
            <p:nvPr/>
          </p:nvSpPr>
          <p:spPr>
            <a:xfrm flipH="1" flipV="1">
              <a:off x="344340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3" name=""/>
            <p:cNvSpPr/>
            <p:nvPr/>
          </p:nvSpPr>
          <p:spPr>
            <a:xfrm flipH="1">
              <a:off x="2432520" y="46594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134" name=""/>
            <p:cNvSpPr/>
            <p:nvPr/>
          </p:nvSpPr>
          <p:spPr>
            <a:xfrm flipH="1">
              <a:off x="308520" y="46864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135" name=""/>
            <p:cNvSpPr/>
            <p:nvPr/>
          </p:nvSpPr>
          <p:spPr>
            <a:xfrm flipH="1">
              <a:off x="3523320" y="46594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136" name=""/>
            <p:cNvSpPr/>
            <p:nvPr/>
          </p:nvSpPr>
          <p:spPr>
            <a:xfrm flipH="1" flipV="1">
              <a:off x="1289880" y="460620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7" name=""/>
            <p:cNvSpPr/>
            <p:nvPr/>
          </p:nvSpPr>
          <p:spPr>
            <a:xfrm flipH="1">
              <a:off x="1369080" y="465120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sp>
        <p:nvSpPr>
          <p:cNvPr id="2138" name=""/>
          <p:cNvSpPr/>
          <p:nvPr/>
        </p:nvSpPr>
        <p:spPr>
          <a:xfrm>
            <a:off x="865080" y="6053040"/>
            <a:ext cx="27716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889fb"/>
                </a:solidFill>
                <a:latin typeface="Arial"/>
                <a:ea typeface="Arial"/>
              </a:rPr>
              <a:t>IBM WebSphere ESB v6</a:t>
            </a:r>
            <a:endParaRPr b="0" lang="en-US" sz="1800" spc="-1" strike="noStrike">
              <a:solidFill>
                <a:srgbClr val="ffffff"/>
              </a:solidFill>
              <a:latin typeface="Arial"/>
            </a:endParaRPr>
          </a:p>
        </p:txBody>
      </p:sp>
      <p:sp>
        <p:nvSpPr>
          <p:cNvPr id="2139" name=""/>
          <p:cNvSpPr/>
          <p:nvPr/>
        </p:nvSpPr>
        <p:spPr>
          <a:xfrm>
            <a:off x="5165640" y="1792440"/>
            <a:ext cx="30639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 single system for hosting and integrating native Web Services and/or JMS applications.</a:t>
            </a:r>
            <a:endParaRPr b="0" lang="en-US" sz="1800" spc="-1" strike="noStrike">
              <a:solidFill>
                <a:srgbClr val="ffffff"/>
              </a:solidFill>
              <a:latin typeface="Arial"/>
            </a:endParaRPr>
          </a:p>
        </p:txBody>
      </p:sp>
      <p:sp>
        <p:nvSpPr>
          <p:cNvPr id="2140" name=""/>
          <p:cNvSpPr/>
          <p:nvPr/>
        </p:nvSpPr>
        <p:spPr>
          <a:xfrm>
            <a:off x="5057640" y="5146560"/>
            <a:ext cx="3538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518a7"/>
                </a:solidFill>
                <a:latin typeface="Arial"/>
                <a:ea typeface="Arial"/>
              </a:rPr>
              <a:t>An embedded ESB</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518a7"/>
                </a:solidFill>
                <a:latin typeface="Arial"/>
                <a:ea typeface="Arial"/>
              </a:rPr>
              <a:t>for simplicity and manageability</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D54FFEA0-A569-45E0-8429-89D880ED51FD}" type="slidenum">
              <a:t>10</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138"/>
                                        </p:tgtEl>
                                        <p:attrNameLst>
                                          <p:attrName>style.visibility</p:attrName>
                                        </p:attrNameLst>
                                      </p:cBhvr>
                                      <p:to>
                                        <p:strVal val="visible"/>
                                      </p:to>
                                    </p:set>
                                    <p:animEffect filter="dissolve" transition="in">
                                      <p:cBhvr additive="repl">
                                        <p:cTn id="32" dur="500"/>
                                        <p:tgtEl>
                                          <p:spTgt spid="2138"/>
                                        </p:tgtEl>
                                      </p:cBhvr>
                                    </p:animEffect>
                                  </p:childTnLst>
                                </p:cTn>
                              </p:par>
                            </p:childTnLst>
                          </p:cTn>
                        </p:par>
                        <p:par>
                          <p:cTn id="33" fill="hold">
                            <p:stCondLst>
                              <p:cond delay="500"/>
                            </p:stCondLst>
                            <p:childTnLst>
                              <p:par>
                                <p:cTn id="34" nodeType="afterEffect" fill="hold" presetClass="path" presetID="0">
                                  <p:stCondLst>
                                    <p:cond delay="0"/>
                                  </p:stCondLst>
                                  <p:childTnLst>
                                    <p:animMotion origin="layout" path="M -5.55556E-007 -1.37835E-006 C 0.18646 -0.21068 0.37292 -0.42137 0.45486 -0.48196 C 0.53681 -0.54255 0.48524 -0.38413 0.49132 -0.36401 E">
                                      <p:cBhvr>
                                        <p:cTn id="35" dur="2000" fill="hold"/>
                                        <p:tgtEl>
                                          <p:spTgt spid="2138"/>
                                        </p:tgtEl>
                                      </p:cBhvr>
                                    </p:animMotion>
                                  </p:childTnLst>
                                </p:cTn>
                              </p:par>
                            </p:childTnLst>
                          </p:cTn>
                        </p:par>
                        <p:par>
                          <p:cTn id="36" fill="hold">
                            <p:stCondLst>
                              <p:cond delay="2500"/>
                            </p:stCondLst>
                            <p:childTnLst>
                              <p:par>
                                <p:cTn id="37" nodeType="afterEffect" fill="hold" presetClass="emph" presetID="6">
                                  <p:stCondLst>
                                    <p:cond delay="0"/>
                                  </p:stCondLst>
                                  <p:childTnLst>
                                    <p:animScale>
                                      <p:cBhvr>
                                        <p:cTn id="38" dur="2000" fill="hold"/>
                                        <p:tgtEl>
                                          <p:spTgt spid="2138"/>
                                        </p:tgtEl>
                                      </p:cBhvr>
                                      <p:to x="150000" y="150000"/>
                                    </p:animScale>
                                  </p:childTnLst>
                                </p:cTn>
                              </p:par>
                              <p:par>
                                <p:cTn id="39" nodeType="withEffect" fill="hold" presetClass="entr" presetID="4" presetSubtype="16">
                                  <p:stCondLst>
                                    <p:cond delay="0"/>
                                  </p:stCondLst>
                                  <p:childTnLst>
                                    <p:set>
                                      <p:cBhvr>
                                        <p:cTn id="40" dur="1" fill="hold">
                                          <p:stCondLst>
                                            <p:cond delay="0"/>
                                          </p:stCondLst>
                                        </p:cTn>
                                        <p:tgtEl>
                                          <p:spTgt spid="2139"/>
                                        </p:tgtEl>
                                        <p:attrNameLst>
                                          <p:attrName>style.visibility</p:attrName>
                                        </p:attrNameLst>
                                      </p:cBhvr>
                                      <p:to>
                                        <p:strVal val="visible"/>
                                      </p:to>
                                    </p:set>
                                    <p:animEffect filter="box(in)" transition="in">
                                      <p:cBhvr additive="repl">
                                        <p:cTn id="41" dur="500"/>
                                        <p:tgtEl>
                                          <p:spTgt spid="2139"/>
                                        </p:tgtEl>
                                      </p:cBhvr>
                                    </p:animEffect>
                                  </p:childTnLst>
                                </p:cTn>
                              </p:par>
                            </p:childTnLst>
                          </p:cTn>
                        </p:par>
                        <p:par>
                          <p:cTn id="42" fill="hold">
                            <p:stCondLst>
                              <p:cond delay="4500"/>
                            </p:stCondLst>
                            <p:childTnLst>
                              <p:par>
                                <p:cTn id="43" nodeType="afterEffect" fill="hold" presetClass="entr" presetID="1">
                                  <p:stCondLst>
                                    <p:cond delay="0"/>
                                  </p:stCondLst>
                                  <p:childTnLst>
                                    <p:set>
                                      <p:cBhvr>
                                        <p:cTn id="44" dur="1" fill="hold">
                                          <p:stCondLst>
                                            <p:cond delay="0"/>
                                          </p:stCondLst>
                                        </p:cTn>
                                        <p:tgtEl>
                                          <p:spTgt spid="2140"/>
                                        </p:tgtEl>
                                        <p:attrNameLst>
                                          <p:attrName>style.visibility</p:attrName>
                                        </p:attrNameLst>
                                      </p:cBhvr>
                                      <p:to>
                                        <p:strVal val="visible"/>
                                      </p:to>
                                    </p:set>
                                  </p:childTnLst>
                                </p:cTn>
                              </p:par>
                            </p:childTnLst>
                          </p:cTn>
                        </p:par>
                        <p:par>
                          <p:cTn id="45" fill="hold">
                            <p:stCondLst>
                              <p:cond delay="4500"/>
                            </p:stCondLst>
                            <p:childTnLst>
                              <p:par>
                                <p:cTn id="46" nodeType="afterEffect" fill="hold" presetClass="emph" presetID="6">
                                  <p:stCondLst>
                                    <p:cond delay="0"/>
                                  </p:stCondLst>
                                  <p:childTnLst>
                                    <p:animScale>
                                      <p:cBhvr>
                                        <p:cTn id="47" dur="2000" fill="hold"/>
                                        <p:tgtEl>
                                          <p:spTgt spid="214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5450040" y="1195560"/>
            <a:ext cx="3483000" cy="92232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f your focus is integrating existing enterprise applications as services, or with Web services…</a:t>
            </a:r>
            <a:endParaRPr b="0" lang="en-US" sz="1800" spc="-1" strike="noStrike">
              <a:solidFill>
                <a:srgbClr val="ffffff"/>
              </a:solidFill>
              <a:latin typeface="Arial"/>
            </a:endParaRPr>
          </a:p>
        </p:txBody>
      </p:sp>
      <p:sp>
        <p:nvSpPr>
          <p:cNvPr id="2142" name=""/>
          <p:cNvSpPr/>
          <p:nvPr/>
        </p:nvSpPr>
        <p:spPr>
          <a:xfrm>
            <a:off x="5451480" y="5353200"/>
            <a:ext cx="3662280" cy="617400"/>
          </a:xfrm>
          <a:prstGeom prst="rect">
            <a:avLst/>
          </a:prstGeom>
          <a:noFill/>
          <a:ln w="0">
            <a:noFill/>
          </a:ln>
        </p:spPr>
        <p:style>
          <a:lnRef idx="0"/>
          <a:fillRef idx="0"/>
          <a:effectRef idx="0"/>
          <a:fontRef idx="minor"/>
        </p:style>
        <p:txBody>
          <a:bodyPr lIns="90000" rIns="90000" tIns="46800" bIns="46800" anchor="t">
            <a:normAutofit fontScale="95000"/>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then you will require a more </a:t>
            </a:r>
            <a:r>
              <a:rPr b="1" lang="en-US" sz="1800" spc="-1" strike="noStrike">
                <a:solidFill>
                  <a:srgbClr val="ffffff"/>
                </a:solidFill>
                <a:latin typeface="Arial"/>
                <a:ea typeface="Arial"/>
              </a:rPr>
              <a:t>advanced ESB.</a:t>
            </a:r>
            <a:endParaRPr b="0" lang="en-US" sz="1800" spc="-1" strike="noStrike">
              <a:solidFill>
                <a:srgbClr val="ffffff"/>
              </a:solidFill>
              <a:latin typeface="Arial"/>
            </a:endParaRPr>
          </a:p>
        </p:txBody>
      </p:sp>
      <p:sp>
        <p:nvSpPr>
          <p:cNvPr id="2143" name=""/>
          <p:cNvSpPr/>
          <p:nvPr/>
        </p:nvSpPr>
        <p:spPr>
          <a:xfrm>
            <a:off x="4610160" y="1371600"/>
            <a:ext cx="72864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4" name=""/>
          <p:cNvSpPr/>
          <p:nvPr/>
        </p:nvSpPr>
        <p:spPr>
          <a:xfrm>
            <a:off x="4776840" y="14428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2145" name=""/>
          <p:cNvSpPr/>
          <p:nvPr/>
        </p:nvSpPr>
        <p:spPr>
          <a:xfrm flipH="1" flipV="1">
            <a:off x="8015400" y="2928240"/>
            <a:ext cx="909360" cy="24444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6" name=""/>
          <p:cNvSpPr/>
          <p:nvPr/>
        </p:nvSpPr>
        <p:spPr>
          <a:xfrm flipH="1" flipV="1">
            <a:off x="8009640" y="2336040"/>
            <a:ext cx="91764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7" name=""/>
          <p:cNvSpPr/>
          <p:nvPr/>
        </p:nvSpPr>
        <p:spPr>
          <a:xfrm flipH="1">
            <a:off x="8106120" y="24256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148" name=""/>
          <p:cNvSpPr/>
          <p:nvPr/>
        </p:nvSpPr>
        <p:spPr>
          <a:xfrm flipH="1" flipV="1">
            <a:off x="6938280" y="2928960"/>
            <a:ext cx="909720" cy="20808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9" name=""/>
          <p:cNvSpPr/>
          <p:nvPr/>
        </p:nvSpPr>
        <p:spPr>
          <a:xfrm flipH="1" flipV="1">
            <a:off x="6928560" y="2336040"/>
            <a:ext cx="92556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0" name=""/>
          <p:cNvSpPr/>
          <p:nvPr/>
        </p:nvSpPr>
        <p:spPr>
          <a:xfrm flipH="1">
            <a:off x="7015320" y="2436840"/>
            <a:ext cx="7459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PPL.</a:t>
            </a:r>
            <a:endParaRPr b="0" lang="en-US" sz="1000" spc="-1" strike="noStrike">
              <a:solidFill>
                <a:srgbClr val="ffffff"/>
              </a:solidFill>
              <a:latin typeface="Arial"/>
            </a:endParaRPr>
          </a:p>
        </p:txBody>
      </p:sp>
      <p:sp>
        <p:nvSpPr>
          <p:cNvPr id="2151" name=""/>
          <p:cNvSpPr/>
          <p:nvPr/>
        </p:nvSpPr>
        <p:spPr>
          <a:xfrm flipH="1" flipV="1">
            <a:off x="6934320" y="4594320"/>
            <a:ext cx="915840" cy="49824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2" name=""/>
          <p:cNvSpPr/>
          <p:nvPr/>
        </p:nvSpPr>
        <p:spPr>
          <a:xfrm flipH="1">
            <a:off x="7029720" y="467532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153" name=""/>
          <p:cNvSpPr/>
          <p:nvPr/>
        </p:nvSpPr>
        <p:spPr>
          <a:xfrm flipH="1" flipV="1">
            <a:off x="6938280" y="4211640"/>
            <a:ext cx="909720" cy="2793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4" name=""/>
          <p:cNvSpPr/>
          <p:nvPr/>
        </p:nvSpPr>
        <p:spPr>
          <a:xfrm flipH="1" flipV="1">
            <a:off x="5864400" y="4259160"/>
            <a:ext cx="909360" cy="23184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5" name=""/>
          <p:cNvSpPr/>
          <p:nvPr/>
        </p:nvSpPr>
        <p:spPr>
          <a:xfrm flipH="1" flipV="1">
            <a:off x="8009640" y="4594320"/>
            <a:ext cx="916200" cy="49824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6" name=""/>
          <p:cNvSpPr/>
          <p:nvPr/>
        </p:nvSpPr>
        <p:spPr>
          <a:xfrm flipH="1">
            <a:off x="8121960" y="4675320"/>
            <a:ext cx="708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157" name=""/>
          <p:cNvSpPr/>
          <p:nvPr/>
        </p:nvSpPr>
        <p:spPr>
          <a:xfrm flipH="1" flipV="1">
            <a:off x="8015400" y="4174560"/>
            <a:ext cx="909360" cy="3157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58" name=""/>
          <p:cNvSpPr/>
          <p:nvPr/>
        </p:nvSpPr>
        <p:spPr>
          <a:xfrm>
            <a:off x="7394400" y="313848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9" name=""/>
          <p:cNvSpPr/>
          <p:nvPr/>
        </p:nvSpPr>
        <p:spPr>
          <a:xfrm>
            <a:off x="8453520" y="317196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0" name=""/>
          <p:cNvSpPr/>
          <p:nvPr/>
        </p:nvSpPr>
        <p:spPr>
          <a:xfrm>
            <a:off x="6318360" y="3887640"/>
            <a:ext cx="0" cy="3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1" name=""/>
          <p:cNvSpPr/>
          <p:nvPr/>
        </p:nvSpPr>
        <p:spPr>
          <a:xfrm>
            <a:off x="7391520" y="3887640"/>
            <a:ext cx="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2" name=""/>
          <p:cNvSpPr/>
          <p:nvPr/>
        </p:nvSpPr>
        <p:spPr>
          <a:xfrm>
            <a:off x="8448840" y="3887640"/>
            <a:ext cx="0" cy="3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3" name=""/>
          <p:cNvSpPr/>
          <p:nvPr/>
        </p:nvSpPr>
        <p:spPr>
          <a:xfrm flipH="1" flipV="1">
            <a:off x="5857200" y="2925720"/>
            <a:ext cx="909720" cy="1605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64" name=""/>
          <p:cNvSpPr/>
          <p:nvPr/>
        </p:nvSpPr>
        <p:spPr>
          <a:xfrm flipH="1" flipV="1">
            <a:off x="5850720" y="2332800"/>
            <a:ext cx="91620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65" name=""/>
          <p:cNvSpPr/>
          <p:nvPr/>
        </p:nvSpPr>
        <p:spPr>
          <a:xfrm flipH="1">
            <a:off x="5858640" y="2374920"/>
            <a:ext cx="885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PPL.</a:t>
            </a:r>
            <a:endParaRPr b="0" lang="en-US" sz="1000" spc="-1" strike="noStrike">
              <a:solidFill>
                <a:srgbClr val="ffffff"/>
              </a:solidFill>
              <a:latin typeface="Arial"/>
            </a:endParaRPr>
          </a:p>
        </p:txBody>
      </p:sp>
      <p:sp>
        <p:nvSpPr>
          <p:cNvPr id="2166" name=""/>
          <p:cNvSpPr/>
          <p:nvPr/>
        </p:nvSpPr>
        <p:spPr>
          <a:xfrm>
            <a:off x="6315120" y="308448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7" name=""/>
          <p:cNvSpPr/>
          <p:nvPr/>
        </p:nvSpPr>
        <p:spPr>
          <a:xfrm flipH="1" flipV="1">
            <a:off x="5867280" y="4590360"/>
            <a:ext cx="912960" cy="49860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68" name=""/>
          <p:cNvSpPr/>
          <p:nvPr/>
        </p:nvSpPr>
        <p:spPr>
          <a:xfrm flipH="1">
            <a:off x="5969160" y="462600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grpSp>
        <p:nvGrpSpPr>
          <p:cNvPr id="2169" name=""/>
          <p:cNvGrpSpPr/>
          <p:nvPr/>
        </p:nvGrpSpPr>
        <p:grpSpPr>
          <a:xfrm>
            <a:off x="4766760" y="2344320"/>
            <a:ext cx="932040" cy="1162440"/>
            <a:chOff x="4766760" y="2344320"/>
            <a:chExt cx="932040" cy="1162440"/>
          </a:xfrm>
        </p:grpSpPr>
        <p:sp>
          <p:nvSpPr>
            <p:cNvPr id="2170" name=""/>
            <p:cNvSpPr/>
            <p:nvPr/>
          </p:nvSpPr>
          <p:spPr>
            <a:xfrm flipH="1" flipV="1">
              <a:off x="4788720" y="2928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71" name=""/>
            <p:cNvSpPr/>
            <p:nvPr/>
          </p:nvSpPr>
          <p:spPr>
            <a:xfrm>
              <a:off x="5246640" y="3027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2" name=""/>
            <p:cNvSpPr/>
            <p:nvPr/>
          </p:nvSpPr>
          <p:spPr>
            <a:xfrm flipH="1" flipV="1">
              <a:off x="4766400" y="234396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73" name=""/>
            <p:cNvSpPr/>
            <p:nvPr/>
          </p:nvSpPr>
          <p:spPr>
            <a:xfrm flipH="1">
              <a:off x="4785480" y="2437200"/>
              <a:ext cx="90828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grpSp>
      <p:grpSp>
        <p:nvGrpSpPr>
          <p:cNvPr id="2174" name=""/>
          <p:cNvGrpSpPr/>
          <p:nvPr/>
        </p:nvGrpSpPr>
        <p:grpSpPr>
          <a:xfrm>
            <a:off x="4789080" y="3887640"/>
            <a:ext cx="918000" cy="1223280"/>
            <a:chOff x="4789080" y="3887640"/>
            <a:chExt cx="918000" cy="1223280"/>
          </a:xfrm>
        </p:grpSpPr>
        <p:sp>
          <p:nvSpPr>
            <p:cNvPr id="2175" name=""/>
            <p:cNvSpPr/>
            <p:nvPr/>
          </p:nvSpPr>
          <p:spPr>
            <a:xfrm flipH="1" flipV="1">
              <a:off x="4788720" y="4403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176" name=""/>
            <p:cNvSpPr/>
            <p:nvPr/>
          </p:nvSpPr>
          <p:spPr>
            <a:xfrm>
              <a:off x="5243400" y="3887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7" name=""/>
            <p:cNvSpPr/>
            <p:nvPr/>
          </p:nvSpPr>
          <p:spPr>
            <a:xfrm flipH="1" flipV="1">
              <a:off x="479124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78" name=""/>
            <p:cNvSpPr/>
            <p:nvPr/>
          </p:nvSpPr>
          <p:spPr>
            <a:xfrm flipH="1">
              <a:off x="4864680" y="459108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grpSp>
        <p:nvGrpSpPr>
          <p:cNvPr id="2179" name=""/>
          <p:cNvGrpSpPr/>
          <p:nvPr/>
        </p:nvGrpSpPr>
        <p:grpSpPr>
          <a:xfrm>
            <a:off x="4495680" y="3390840"/>
            <a:ext cx="4432320" cy="609840"/>
            <a:chOff x="4495680" y="3390840"/>
            <a:chExt cx="4432320" cy="609840"/>
          </a:xfrm>
        </p:grpSpPr>
        <p:sp>
          <p:nvSpPr>
            <p:cNvPr id="2180" name=""/>
            <p:cNvSpPr/>
            <p:nvPr/>
          </p:nvSpPr>
          <p:spPr>
            <a:xfrm>
              <a:off x="4495680" y="3390840"/>
              <a:ext cx="4432320" cy="60984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81" name=""/>
            <p:cNvSpPr/>
            <p:nvPr/>
          </p:nvSpPr>
          <p:spPr>
            <a:xfrm>
              <a:off x="5001840" y="3552840"/>
              <a:ext cx="3663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ADVANCED</a:t>
              </a:r>
              <a:r>
                <a:rPr b="1" lang="en-US" sz="1600" spc="-1" strike="noStrike">
                  <a:solidFill>
                    <a:srgbClr val="ffffff"/>
                  </a:solidFill>
                  <a:latin typeface="Arial"/>
                  <a:ea typeface="Arial"/>
                </a:rPr>
                <a:t>  Enterprise Service Bus</a:t>
              </a:r>
              <a:endParaRPr b="0" lang="en-US" sz="1600" spc="-1" strike="noStrike">
                <a:solidFill>
                  <a:srgbClr val="ffffff"/>
                </a:solidFill>
                <a:latin typeface="Arial"/>
              </a:endParaRPr>
            </a:p>
          </p:txBody>
        </p:sp>
      </p:grpSp>
      <p:sp>
        <p:nvSpPr>
          <p:cNvPr id="2182" name=""/>
          <p:cNvSpPr/>
          <p:nvPr/>
        </p:nvSpPr>
        <p:spPr>
          <a:xfrm>
            <a:off x="4264200" y="6140520"/>
            <a:ext cx="3580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889fb"/>
                </a:solidFill>
                <a:latin typeface="Arial"/>
                <a:ea typeface="Arial"/>
              </a:rPr>
              <a:t>WebSphere Message Broker v6</a:t>
            </a:r>
            <a:endParaRPr b="0" lang="en-US" sz="1800" spc="-1" strike="noStrike">
              <a:solidFill>
                <a:srgbClr val="ffffff"/>
              </a:solidFill>
              <a:latin typeface="Arial"/>
            </a:endParaRPr>
          </a:p>
        </p:txBody>
      </p:sp>
      <p:sp>
        <p:nvSpPr>
          <p:cNvPr id="2183" name=""/>
          <p:cNvSpPr/>
          <p:nvPr/>
        </p:nvSpPr>
        <p:spPr>
          <a:xfrm>
            <a:off x="243000" y="2044800"/>
            <a:ext cx="4281480" cy="1594080"/>
          </a:xfrm>
          <a:prstGeom prst="rect">
            <a:avLst/>
          </a:prstGeom>
          <a:noFill/>
          <a:ln w="0">
            <a:noFill/>
          </a:ln>
        </p:spPr>
        <p:style>
          <a:lnRef idx="0"/>
          <a:fillRef idx="0"/>
          <a:effectRef idx="0"/>
          <a:fontRef idx="minor"/>
        </p:style>
        <p:txBody>
          <a:bodyPr lIns="90000" rIns="90000" tIns="46800" bIns="46800" anchor="t">
            <a:sp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niquely able to connect and integrate </a:t>
            </a:r>
            <a:r>
              <a:rPr b="1" lang="en-US" sz="1800" spc="-1" strike="noStrike">
                <a:solidFill>
                  <a:srgbClr val="ffffff"/>
                </a:solidFill>
                <a:latin typeface="Arial"/>
                <a:ea typeface="Arial"/>
              </a:rPr>
              <a:t>all</a:t>
            </a:r>
            <a:r>
              <a:rPr b="0" lang="en-US" sz="1800" spc="-1" strike="noStrike">
                <a:solidFill>
                  <a:srgbClr val="ffffff"/>
                </a:solidFill>
                <a:latin typeface="Arial"/>
                <a:ea typeface="Arial"/>
              </a:rPr>
              <a:t> applications across the enterprise, supporting </a:t>
            </a:r>
            <a:r>
              <a:rPr b="1" lang="en-US" sz="1800" spc="-1" strike="noStrike">
                <a:solidFill>
                  <a:srgbClr val="ffffff"/>
                </a:solidFill>
                <a:latin typeface="Arial"/>
                <a:ea typeface="Arial"/>
              </a:rPr>
              <a:t>all</a:t>
            </a:r>
            <a:r>
              <a:rPr b="0" lang="en-US" sz="1800" spc="-1" strike="noStrike">
                <a:solidFill>
                  <a:srgbClr val="ffffff"/>
                </a:solidFill>
                <a:latin typeface="Arial"/>
                <a:ea typeface="Arial"/>
              </a:rPr>
              <a:t> data types and most protocols.</a:t>
            </a:r>
            <a:endParaRPr b="0" lang="en-US" sz="1800" spc="-1" strike="noStrike">
              <a:solidFill>
                <a:srgbClr val="ffffff"/>
              </a:solidFill>
              <a:latin typeface="Arial"/>
            </a:endParaRPr>
          </a:p>
          <a:p>
            <a:pPr lvl="1" marL="114480">
              <a:lnSpc>
                <a:spcPct val="100000"/>
              </a:lnSpc>
              <a:spcBef>
                <a:spcPts val="1012"/>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84" name=""/>
          <p:cNvGrpSpPr/>
          <p:nvPr/>
        </p:nvGrpSpPr>
        <p:grpSpPr>
          <a:xfrm>
            <a:off x="2219400" y="1319040"/>
            <a:ext cx="2209680" cy="529920"/>
            <a:chOff x="2219400" y="1319040"/>
            <a:chExt cx="2209680" cy="529920"/>
          </a:xfrm>
        </p:grpSpPr>
        <p:grpSp>
          <p:nvGrpSpPr>
            <p:cNvPr id="2185" name=""/>
            <p:cNvGrpSpPr/>
            <p:nvPr/>
          </p:nvGrpSpPr>
          <p:grpSpPr>
            <a:xfrm>
              <a:off x="3513240" y="1323360"/>
              <a:ext cx="915840" cy="525600"/>
              <a:chOff x="3513240" y="1323360"/>
              <a:chExt cx="915840" cy="525600"/>
            </a:xfrm>
          </p:grpSpPr>
          <p:sp>
            <p:nvSpPr>
              <p:cNvPr id="2186" name=""/>
              <p:cNvSpPr/>
              <p:nvPr/>
            </p:nvSpPr>
            <p:spPr>
              <a:xfrm flipH="1" flipV="1">
                <a:off x="3513240" y="1323000"/>
                <a:ext cx="91584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87" name=""/>
              <p:cNvSpPr/>
              <p:nvPr/>
            </p:nvSpPr>
            <p:spPr>
              <a:xfrm flipH="1">
                <a:off x="3514680" y="1344600"/>
                <a:ext cx="9144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n-Web Services Application</a:t>
                </a:r>
                <a:endParaRPr b="0" lang="en-US" sz="1000" spc="-1" strike="noStrike">
                  <a:solidFill>
                    <a:srgbClr val="ffffff"/>
                  </a:solidFill>
                  <a:latin typeface="Arial"/>
                </a:endParaRPr>
              </a:p>
            </p:txBody>
          </p:sp>
        </p:grpSp>
        <p:sp>
          <p:nvSpPr>
            <p:cNvPr id="2188" name=""/>
            <p:cNvSpPr/>
            <p:nvPr/>
          </p:nvSpPr>
          <p:spPr>
            <a:xfrm flipH="1" flipV="1">
              <a:off x="2219400" y="1318680"/>
              <a:ext cx="915840" cy="50436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rot="10800000">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Services Application</a:t>
              </a:r>
              <a:endParaRPr b="0" lang="en-US" sz="1000" spc="-1" strike="noStrike">
                <a:solidFill>
                  <a:srgbClr val="ffffff"/>
                </a:solidFill>
                <a:latin typeface="Arial"/>
              </a:endParaRPr>
            </a:p>
          </p:txBody>
        </p:sp>
      </p:grpSp>
      <p:sp>
        <p:nvSpPr>
          <p:cNvPr id="2189" name=""/>
          <p:cNvSpPr/>
          <p:nvPr/>
        </p:nvSpPr>
        <p:spPr>
          <a:xfrm>
            <a:off x="84240" y="536400"/>
            <a:ext cx="893124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ea typeface="Arial"/>
              </a:rPr>
              <a:t>How do you position WebSphere Message Broker v6?</a:t>
            </a:r>
            <a:endParaRPr b="0" lang="en-US" sz="2600" spc="-1" strike="noStrike">
              <a:solidFill>
                <a:srgbClr val="ffffff"/>
              </a:solidFill>
              <a:latin typeface="Arial"/>
            </a:endParaRPr>
          </a:p>
        </p:txBody>
      </p:sp>
      <p:sp>
        <p:nvSpPr>
          <p:cNvPr id="2190" name=""/>
          <p:cNvSpPr/>
          <p:nvPr/>
        </p:nvSpPr>
        <p:spPr>
          <a:xfrm>
            <a:off x="816120" y="5141880"/>
            <a:ext cx="304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518a7"/>
                </a:solidFill>
                <a:latin typeface="Arial"/>
                <a:ea typeface="Arial"/>
              </a:rPr>
              <a:t>An advanced ESB</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518a7"/>
                </a:solidFill>
                <a:latin typeface="Arial"/>
                <a:ea typeface="Arial"/>
              </a:rPr>
              <a:t>for range and reach</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CEA54706-9059-41BA-BEA7-98DF1D2DD4F8}" type="slidenum">
              <a:t>11</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2169"/>
                                        </p:tgtEl>
                                        <p:attrNameLst>
                                          <p:attrName>style.visibility</p:attrName>
                                        </p:attrNameLst>
                                      </p:cBhvr>
                                      <p:to>
                                        <p:strVal val="visible"/>
                                      </p:to>
                                    </p:set>
                                    <p:anim calcmode="lin" valueType="num">
                                      <p:cBhvr additive="base">
                                        <p:cTn id="54" dur="2000" fill="hold"/>
                                        <p:tgtEl>
                                          <p:spTgt spid="2169"/>
                                        </p:tgtEl>
                                        <p:attrNameLst>
                                          <p:attrName>ppt_x</p:attrName>
                                        </p:attrNameLst>
                                      </p:cBhvr>
                                      <p:tavLst>
                                        <p:tav tm="0">
                                          <p:val>
                                            <p:strVal val="0-#ppt_w/2"/>
                                          </p:val>
                                        </p:tav>
                                        <p:tav tm="100000">
                                          <p:val>
                                            <p:strVal val="#ppt_x"/>
                                          </p:val>
                                        </p:tav>
                                      </p:tavLst>
                                    </p:anim>
                                    <p:anim calcmode="lin" valueType="num">
                                      <p:cBhvr additive="base">
                                        <p:cTn id="55" dur="2000" fill="hold"/>
                                        <p:tgtEl>
                                          <p:spTgt spid="2169"/>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2174"/>
                                        </p:tgtEl>
                                        <p:attrNameLst>
                                          <p:attrName>style.visibility</p:attrName>
                                        </p:attrNameLst>
                                      </p:cBhvr>
                                      <p:to>
                                        <p:strVal val="visible"/>
                                      </p:to>
                                    </p:set>
                                    <p:anim calcmode="lin" valueType="num">
                                      <p:cBhvr additive="base">
                                        <p:cTn id="58" dur="2000" fill="hold"/>
                                        <p:tgtEl>
                                          <p:spTgt spid="2174"/>
                                        </p:tgtEl>
                                        <p:attrNameLst>
                                          <p:attrName>ppt_x</p:attrName>
                                        </p:attrNameLst>
                                      </p:cBhvr>
                                      <p:tavLst>
                                        <p:tav tm="0">
                                          <p:val>
                                            <p:strVal val="0-#ppt_w/2"/>
                                          </p:val>
                                        </p:tav>
                                        <p:tav tm="100000">
                                          <p:val>
                                            <p:strVal val="#ppt_x"/>
                                          </p:val>
                                        </p:tav>
                                      </p:tavLst>
                                    </p:anim>
                                    <p:anim calcmode="lin" valueType="num">
                                      <p:cBhvr additive="base">
                                        <p:cTn id="59" dur="2000" fill="hold"/>
                                        <p:tgtEl>
                                          <p:spTgt spid="2174"/>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2184"/>
                                        </p:tgtEl>
                                        <p:attrNameLst>
                                          <p:attrName>style.visibility</p:attrName>
                                        </p:attrNameLst>
                                      </p:cBhvr>
                                      <p:to>
                                        <p:strVal val="visible"/>
                                      </p:to>
                                    </p:set>
                                    <p:animEffect filter="box(in)" transition="in">
                                      <p:cBhvr additive="repl">
                                        <p:cTn id="63" dur="500"/>
                                        <p:tgtEl>
                                          <p:spTgt spid="2184"/>
                                        </p:tgtEl>
                                      </p:cBhvr>
                                    </p:animEffect>
                                  </p:childTnLst>
                                </p:cTn>
                              </p:par>
                            </p:childTnLst>
                          </p:cTn>
                        </p:par>
                        <p:par>
                          <p:cTn id="64" fill="hold">
                            <p:stCondLst>
                              <p:cond delay="2500"/>
                            </p:stCondLst>
                            <p:childTnLst>
                              <p:par>
                                <p:cTn id="65" nodeType="afterEffect" fill="hold" presetClass="emph" presetID="26">
                                  <p:stCondLst>
                                    <p:cond delay="0"/>
                                  </p:stCondLst>
                                  <p:childTnLst>
                                    <p:animEffect filter="fade" transition="out">
                                      <p:cBhvr additive="repl">
                                        <p:cTn id="66" dur="500"/>
                                        <p:tgtEl>
                                          <p:spTgt spid="2169"/>
                                        </p:tgtEl>
                                      </p:cBhvr>
                                    </p:animEffect>
                                    <p:animScale>
                                      <p:cBhvr>
                                        <p:cTn id="67" dur="250" autoRev="1" fill="hold"/>
                                        <p:tgtEl>
                                          <p:spTgt spid="2169"/>
                                        </p:tgtEl>
                                      </p:cBhvr>
                                      <p:to x="105000" y="105000"/>
                                    </p:animScale>
                                  </p:childTnLst>
                                </p:cTn>
                              </p:par>
                              <p:par>
                                <p:cTn id="68" nodeType="withEffect" fill="hold" presetClass="emph" presetID="26">
                                  <p:stCondLst>
                                    <p:cond delay="0"/>
                                  </p:stCondLst>
                                  <p:childTnLst>
                                    <p:animEffect filter="fade" transition="out">
                                      <p:cBhvr additive="repl">
                                        <p:cTn id="69" dur="500"/>
                                        <p:tgtEl>
                                          <p:spTgt spid="2174"/>
                                        </p:tgtEl>
                                      </p:cBhvr>
                                    </p:animEffect>
                                    <p:animScale>
                                      <p:cBhvr>
                                        <p:cTn id="70" dur="250" autoRev="1" fill="hold"/>
                                        <p:tgtEl>
                                          <p:spTgt spid="2174"/>
                                        </p:tgtEl>
                                      </p:cBhvr>
                                      <p:to x="105000" y="105000"/>
                                    </p:animScale>
                                  </p:childTnLst>
                                </p:cTn>
                              </p:par>
                            </p:childTnLst>
                          </p:cTn>
                        </p:par>
                        <p:par>
                          <p:cTn id="71" fill="hold">
                            <p:stCondLst>
                              <p:cond delay="3000"/>
                            </p:stCondLst>
                            <p:childTnLst>
                              <p:par>
                                <p:cTn id="72" nodeType="afterEffect" fill="hold" presetClass="entr" presetID="16" presetSubtype="26">
                                  <p:stCondLst>
                                    <p:cond delay="0"/>
                                  </p:stCondLst>
                                  <p:childTnLst>
                                    <p:set>
                                      <p:cBhvr>
                                        <p:cTn id="73" dur="1" fill="hold">
                                          <p:stCondLst>
                                            <p:cond delay="0"/>
                                          </p:stCondLst>
                                        </p:cTn>
                                        <p:tgtEl>
                                          <p:spTgt spid="2179"/>
                                        </p:tgtEl>
                                        <p:attrNameLst>
                                          <p:attrName>style.visibility</p:attrName>
                                        </p:attrNameLst>
                                      </p:cBhvr>
                                      <p:to>
                                        <p:strVal val="visible"/>
                                      </p:to>
                                    </p:set>
                                    <p:animEffect filter="barn(inHorizontal)" transition="in">
                                      <p:cBhvr additive="repl">
                                        <p:cTn id="74" dur="500"/>
                                        <p:tgtEl>
                                          <p:spTgt spid="2179"/>
                                        </p:tgtEl>
                                      </p:cBhvr>
                                    </p:animEffect>
                                  </p:childTnLst>
                                </p:cTn>
                              </p:par>
                            </p:childTnLst>
                          </p:cTn>
                        </p:par>
                        <p:par>
                          <p:cTn id="75" fill="hold">
                            <p:stCondLst>
                              <p:cond delay="3500"/>
                            </p:stCondLst>
                            <p:childTnLst>
                              <p:par>
                                <p:cTn id="76" nodeType="afterEffect" fill="hold" presetClass="entr" presetID="9">
                                  <p:stCondLst>
                                    <p:cond delay="0"/>
                                  </p:stCondLst>
                                  <p:childTnLst>
                                    <p:set>
                                      <p:cBhvr>
                                        <p:cTn id="77" dur="1" fill="hold">
                                          <p:stCondLst>
                                            <p:cond delay="0"/>
                                          </p:stCondLst>
                                        </p:cTn>
                                        <p:tgtEl>
                                          <p:spTgt spid="2182"/>
                                        </p:tgtEl>
                                        <p:attrNameLst>
                                          <p:attrName>style.visibility</p:attrName>
                                        </p:attrNameLst>
                                      </p:cBhvr>
                                      <p:to>
                                        <p:strVal val="visible"/>
                                      </p:to>
                                    </p:set>
                                    <p:animEffect filter="dissolve" transition="in">
                                      <p:cBhvr additive="repl">
                                        <p:cTn id="78" dur="500"/>
                                        <p:tgtEl>
                                          <p:spTgt spid="2182"/>
                                        </p:tgtEl>
                                      </p:cBhvr>
                                    </p:animEffect>
                                  </p:childTnLst>
                                </p:cTn>
                              </p:par>
                            </p:childTnLst>
                          </p:cTn>
                        </p:par>
                        <p:par>
                          <p:cTn id="79" fill="hold">
                            <p:stCondLst>
                              <p:cond delay="4000"/>
                            </p:stCondLst>
                            <p:childTnLst>
                              <p:par>
                                <p:cTn id="80" nodeType="afterEffect" fill="hold" presetClass="path" presetID="0">
                                  <p:stCondLst>
                                    <p:cond delay="0"/>
                                  </p:stCondLst>
                                  <p:childTnLst>
                                    <p:animMotion origin="layout" path="M 0 0 C -0.01928 0.00324 -0.03889 0.00301 -0.05834 0.00555 C -0.17223 0.00254 -0.12848 0.00463 -0.18959 0.00139 C -0.21355 -0.00324 -0.23837 -0.00139 -0.2625 -0.00278 C -0.28386 -0.00695 -0.30556 -0.00764 -0.32709 -0.01111 C -0.33316 -0.01505 -0.34428 -0.01945 -0.35105 -0.02084 C -0.36042 -0.02709 -0.37049 -0.03079 -0.38021 -0.03611 C -0.39323 -0.04329 -0.40539 -0.05787 -0.41875 -0.06389 C -0.42518 -0.07084 -0.4323 -0.07639 -0.43855 -0.08334 C -0.44514 -0.09074 -0.43994 -0.08773 -0.44584 -0.09028 C -0.45487 -0.10232 -0.45053 -0.09977 -0.4573 -0.10278 C -0.46094 -0.10764 -0.46355 -0.11297 -0.46771 -0.11667 C -0.47084 -0.12894 -0.4783 -0.13935 -0.4823 -0.15139 C -0.49028 -0.17547 -0.4974 -0.19954 -0.50938 -0.22084 C -0.50973 -0.22222 -0.5099 -0.22384 -0.51042 -0.225 C -0.51337 -0.23172 -0.51754 -0.23727 -0.5198 -0.24445 C -0.52275 -0.25371 -0.52639 -0.26366 -0.53021 -0.27222 C -0.53212 -0.27662 -0.53438 -0.28056 -0.53646 -0.28472 C -0.53785 -0.2875 -0.54063 -0.29306 -0.54063 -0.29306 C -0.54237 -0.30278 -0.55105 -0.31945 -0.55105 -0.31945 C -0.55296 -0.32963 -0.55816 -0.34537 -0.5625 -0.35417 C -0.56476 -0.36597 -0.56754 -0.37685 -0.56875 -0.38889 C -0.56719 -0.40695 -0.56667 -0.43218 -0.5625 -0.44861 C -0.55938 -0.47778 -0.56459 -0.50972 -0.56771 -0.53889 C -0.56737 -0.55047 -0.56737 -0.56204 -0.56667 -0.57361 C -0.56563 -0.59028 -0.55903 -0.60347 -0.55313 -0.61806 C -0.54723 -0.63287 -0.54254 -0.64884 -0.53125 -0.65834 C -0.52518 -0.66343 -0.51632 -0.66435 -0.50938 -0.66806 C -0.49671 -0.66736 -0.48438 -0.67014 -0.47292 -0.6625 C -0.4632 -0.65602 -0.45816 -0.64699 -0.45105 -0.6375 C -0.44705 -0.63218 -0.44254 -0.62755 -0.43855 -0.62222 C -0.43091 -0.61204 -0.42362 -0.59213 -0.41875 -0.57917 C -0.41424 -0.56736 -0.41146 -0.5544 -0.40625 -0.54306 C -0.40521 -0.53403 -0.40278 -0.52431 -0.39896 -0.51667 C -0.39653 -0.49074 -0.39983 -0.51597 -0.39584 -0.5 C -0.39497 -0.4963 -0.39375 -0.48889 -0.39375 -0.48889 C -0.39428 -0.47709 -0.39237 -0.45903 -0.40105 -0.45139 C -0.4033 -0.44259 -0.40921 -0.43634 -0.41355 -0.42917 C -0.41511 -0.42662 -0.41563 -0.42269 -0.41771 -0.42084 C -0.42171 -0.41736 -0.42257 -0.41366 -0.42709 -0.40972 C -0.42813 -0.4088 -0.42917 -0.40787 -0.43021 -0.40695 C -0.4323 -0.40533 -0.43438 -0.4044 -0.43646 -0.40278 C -0.44185 -0.39861 -0.45209 -0.3875 -0.45834 -0.3875 E">
                                      <p:cBhvr>
                                        <p:cTn id="81" dur="2000" fill="hold"/>
                                        <p:tgtEl>
                                          <p:spTgt spid="2182"/>
                                        </p:tgtEl>
                                      </p:cBhvr>
                                    </p:animMotion>
                                  </p:childTnLst>
                                </p:cTn>
                              </p:par>
                            </p:childTnLst>
                          </p:cTn>
                        </p:par>
                        <p:par>
                          <p:cTn id="82" fill="hold">
                            <p:stCondLst>
                              <p:cond delay="6000"/>
                            </p:stCondLst>
                            <p:childTnLst>
                              <p:par>
                                <p:cTn id="83" nodeType="afterEffect" fill="hold" presetClass="entr" presetID="3" presetSubtype="10">
                                  <p:stCondLst>
                                    <p:cond delay="0"/>
                                  </p:stCondLst>
                                  <p:childTnLst>
                                    <p:set>
                                      <p:cBhvr>
                                        <p:cTn id="84" dur="1" fill="hold">
                                          <p:stCondLst>
                                            <p:cond delay="0"/>
                                          </p:stCondLst>
                                        </p:cTn>
                                        <p:tgtEl>
                                          <p:spTgt spid="2183"/>
                                        </p:tgtEl>
                                        <p:attrNameLst>
                                          <p:attrName>style.visibility</p:attrName>
                                        </p:attrNameLst>
                                      </p:cBhvr>
                                      <p:to>
                                        <p:strVal val="visible"/>
                                      </p:to>
                                    </p:set>
                                    <p:animEffect filter="blinds(horizontal)" transition="in">
                                      <p:cBhvr additive="repl">
                                        <p:cTn id="85" dur="1000"/>
                                        <p:tgtEl>
                                          <p:spTgt spid="2183"/>
                                        </p:tgtEl>
                                      </p:cBhvr>
                                    </p:animEffect>
                                  </p:childTnLst>
                                </p:cTn>
                              </p:par>
                            </p:childTnLst>
                          </p:cTn>
                        </p:par>
                        <p:par>
                          <p:cTn id="86" fill="hold">
                            <p:stCondLst>
                              <p:cond delay="7000"/>
                            </p:stCondLst>
                            <p:childTnLst>
                              <p:par>
                                <p:cTn id="87" nodeType="afterEffect" fill="hold" presetClass="entr" presetID="9">
                                  <p:stCondLst>
                                    <p:cond delay="0"/>
                                  </p:stCondLst>
                                  <p:childTnLst>
                                    <p:set>
                                      <p:cBhvr>
                                        <p:cTn id="88" dur="1" fill="hold">
                                          <p:stCondLst>
                                            <p:cond delay="0"/>
                                          </p:stCondLst>
                                        </p:cTn>
                                        <p:tgtEl>
                                          <p:spTgt spid="2190"/>
                                        </p:tgtEl>
                                        <p:attrNameLst>
                                          <p:attrName>style.visibility</p:attrName>
                                        </p:attrNameLst>
                                      </p:cBhvr>
                                      <p:to>
                                        <p:strVal val="visible"/>
                                      </p:to>
                                    </p:set>
                                    <p:animEffect filter="dissolve" transition="in">
                                      <p:cBhvr additive="repl">
                                        <p:cTn id="89" dur="500"/>
                                        <p:tgtEl>
                                          <p:spTgt spid="2190"/>
                                        </p:tgtEl>
                                      </p:cBhvr>
                                    </p:animEffect>
                                  </p:childTnLst>
                                </p:cTn>
                              </p:par>
                            </p:childTnLst>
                          </p:cTn>
                        </p:par>
                        <p:par>
                          <p:cTn id="90" fill="hold">
                            <p:stCondLst>
                              <p:cond delay="7500"/>
                            </p:stCondLst>
                            <p:childTnLst>
                              <p:par>
                                <p:cTn id="91" nodeType="afterEffect" fill="hold" presetClass="emph" presetID="6">
                                  <p:stCondLst>
                                    <p:cond delay="0"/>
                                  </p:stCondLst>
                                  <p:childTnLst>
                                    <p:animScale>
                                      <p:cBhvr>
                                        <p:cTn id="92" dur="2000" fill="hold"/>
                                        <p:tgtEl>
                                          <p:spTgt spid="21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
          <p:cNvSpPr/>
          <p:nvPr/>
        </p:nvSpPr>
        <p:spPr>
          <a:xfrm>
            <a:off x="4537080" y="5769000"/>
            <a:ext cx="4606920" cy="922320"/>
          </a:xfrm>
          <a:prstGeom prst="rect">
            <a:avLst/>
          </a:prstGeom>
          <a:noFill/>
          <a:ln w="0">
            <a:noFill/>
          </a:ln>
        </p:spPr>
        <p:style>
          <a:lnRef idx="0"/>
          <a:fillRef idx="0"/>
          <a:effectRef idx="0"/>
          <a:fontRef idx="minor"/>
        </p:style>
        <p:txBody>
          <a:bodyPr lIns="90000" rIns="90000" tIns="46800" bIns="46800" anchor="t">
            <a:normAutofit/>
          </a:bodyPr>
          <a:p>
            <a:pPr>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a:solidFill>
                  <a:srgbClr val="ffffff"/>
                </a:solidFill>
                <a:latin typeface="Arial"/>
                <a:ea typeface="Arial"/>
              </a:rPr>
              <a:t>then you will require a more </a:t>
            </a:r>
            <a:r>
              <a:rPr b="1" lang="en-US" sz="1400" spc="-1" strike="noStrike">
                <a:solidFill>
                  <a:srgbClr val="ffffff"/>
                </a:solidFill>
                <a:latin typeface="Arial"/>
                <a:ea typeface="Arial"/>
              </a:rPr>
              <a:t>advanced ESB</a:t>
            </a:r>
            <a:r>
              <a:rPr b="0" lang="en-US" sz="1400" spc="-1" strike="noStrike">
                <a:solidFill>
                  <a:srgbClr val="ffffff"/>
                </a:solidFill>
                <a:latin typeface="Arial"/>
                <a:ea typeface="Arial"/>
              </a:rPr>
              <a:t> focused on the integration of Web services with existing non-services applications.</a:t>
            </a:r>
            <a:endParaRPr b="0" lang="en-US" sz="1400" spc="-1" strike="noStrike">
              <a:solidFill>
                <a:srgbClr val="ffffff"/>
              </a:solidFill>
              <a:latin typeface="Arial"/>
            </a:endParaRPr>
          </a:p>
        </p:txBody>
      </p:sp>
      <p:grpSp>
        <p:nvGrpSpPr>
          <p:cNvPr id="2192" name=""/>
          <p:cNvGrpSpPr/>
          <p:nvPr/>
        </p:nvGrpSpPr>
        <p:grpSpPr>
          <a:xfrm>
            <a:off x="4610160" y="1752480"/>
            <a:ext cx="4138560" cy="922320"/>
            <a:chOff x="4610160" y="1752480"/>
            <a:chExt cx="4138560" cy="922320"/>
          </a:xfrm>
        </p:grpSpPr>
        <p:sp>
          <p:nvSpPr>
            <p:cNvPr id="2193" name=""/>
            <p:cNvSpPr/>
            <p:nvPr/>
          </p:nvSpPr>
          <p:spPr>
            <a:xfrm>
              <a:off x="5450040" y="1752480"/>
              <a:ext cx="3298680" cy="9223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f your focus is integrating existing enterprise applications into the world of Web Services…</a:t>
              </a:r>
              <a:endParaRPr b="0" lang="en-US" sz="1400" spc="-1" strike="noStrike">
                <a:solidFill>
                  <a:srgbClr val="ffffff"/>
                </a:solidFill>
                <a:latin typeface="Arial"/>
              </a:endParaRPr>
            </a:p>
          </p:txBody>
        </p:sp>
        <p:sp>
          <p:nvSpPr>
            <p:cNvPr id="2194" name=""/>
            <p:cNvSpPr/>
            <p:nvPr/>
          </p:nvSpPr>
          <p:spPr>
            <a:xfrm>
              <a:off x="4610160" y="1814400"/>
              <a:ext cx="72864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5" name=""/>
            <p:cNvSpPr/>
            <p:nvPr/>
          </p:nvSpPr>
          <p:spPr>
            <a:xfrm>
              <a:off x="4776840" y="1885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grpSp>
      <p:sp>
        <p:nvSpPr>
          <p:cNvPr id="2196" name=""/>
          <p:cNvSpPr/>
          <p:nvPr/>
        </p:nvSpPr>
        <p:spPr>
          <a:xfrm flipH="1" flipV="1">
            <a:off x="8015400" y="3317760"/>
            <a:ext cx="909360" cy="23040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7" name=""/>
          <p:cNvSpPr/>
          <p:nvPr/>
        </p:nvSpPr>
        <p:spPr>
          <a:xfrm flipH="1" flipV="1">
            <a:off x="8009640" y="2724840"/>
            <a:ext cx="91764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8" name=""/>
          <p:cNvSpPr/>
          <p:nvPr/>
        </p:nvSpPr>
        <p:spPr>
          <a:xfrm flipH="1">
            <a:off x="8104320" y="28144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199" name=""/>
          <p:cNvSpPr/>
          <p:nvPr/>
        </p:nvSpPr>
        <p:spPr>
          <a:xfrm flipH="1" flipV="1">
            <a:off x="6938280" y="3317760"/>
            <a:ext cx="909720" cy="20160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0" name=""/>
          <p:cNvSpPr/>
          <p:nvPr/>
        </p:nvSpPr>
        <p:spPr>
          <a:xfrm flipH="1" flipV="1">
            <a:off x="6928560" y="2724840"/>
            <a:ext cx="92556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1" name=""/>
          <p:cNvSpPr/>
          <p:nvPr/>
        </p:nvSpPr>
        <p:spPr>
          <a:xfrm flipH="1">
            <a:off x="7027920" y="28144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02" name=""/>
          <p:cNvSpPr/>
          <p:nvPr/>
        </p:nvSpPr>
        <p:spPr>
          <a:xfrm flipH="1" flipV="1">
            <a:off x="6934320" y="4982400"/>
            <a:ext cx="915840" cy="49860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3" name=""/>
          <p:cNvSpPr/>
          <p:nvPr/>
        </p:nvSpPr>
        <p:spPr>
          <a:xfrm flipH="1">
            <a:off x="7029720" y="506412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04" name=""/>
          <p:cNvSpPr/>
          <p:nvPr/>
        </p:nvSpPr>
        <p:spPr>
          <a:xfrm flipH="1" flipV="1">
            <a:off x="6938280" y="4659480"/>
            <a:ext cx="909720" cy="2203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5" name=""/>
          <p:cNvSpPr/>
          <p:nvPr/>
        </p:nvSpPr>
        <p:spPr>
          <a:xfrm flipH="1" flipV="1">
            <a:off x="5864400" y="4678200"/>
            <a:ext cx="909360" cy="20160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6" name=""/>
          <p:cNvSpPr/>
          <p:nvPr/>
        </p:nvSpPr>
        <p:spPr>
          <a:xfrm flipH="1" flipV="1">
            <a:off x="8009640" y="4982400"/>
            <a:ext cx="916200" cy="49860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7" name=""/>
          <p:cNvSpPr/>
          <p:nvPr/>
        </p:nvSpPr>
        <p:spPr>
          <a:xfrm flipH="1">
            <a:off x="8121960" y="5064120"/>
            <a:ext cx="708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08" name=""/>
          <p:cNvSpPr/>
          <p:nvPr/>
        </p:nvSpPr>
        <p:spPr>
          <a:xfrm flipH="1" flipV="1">
            <a:off x="8015400" y="4649040"/>
            <a:ext cx="909360" cy="23004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9" name=""/>
          <p:cNvSpPr/>
          <p:nvPr/>
        </p:nvSpPr>
        <p:spPr>
          <a:xfrm>
            <a:off x="7394400" y="3530520"/>
            <a:ext cx="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0" name=""/>
          <p:cNvSpPr/>
          <p:nvPr/>
        </p:nvSpPr>
        <p:spPr>
          <a:xfrm>
            <a:off x="8453520" y="3511440"/>
            <a:ext cx="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1" name=""/>
          <p:cNvSpPr/>
          <p:nvPr/>
        </p:nvSpPr>
        <p:spPr>
          <a:xfrm>
            <a:off x="6318360" y="4276800"/>
            <a:ext cx="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2" name=""/>
          <p:cNvSpPr/>
          <p:nvPr/>
        </p:nvSpPr>
        <p:spPr>
          <a:xfrm>
            <a:off x="7391520" y="4276800"/>
            <a:ext cx="0" cy="34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3" name=""/>
          <p:cNvSpPr/>
          <p:nvPr/>
        </p:nvSpPr>
        <p:spPr>
          <a:xfrm>
            <a:off x="8448840" y="427680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4" name=""/>
          <p:cNvSpPr/>
          <p:nvPr/>
        </p:nvSpPr>
        <p:spPr>
          <a:xfrm flipH="1" flipV="1">
            <a:off x="5857200" y="3314880"/>
            <a:ext cx="909720" cy="20160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15" name=""/>
          <p:cNvSpPr/>
          <p:nvPr/>
        </p:nvSpPr>
        <p:spPr>
          <a:xfrm flipH="1" flipV="1">
            <a:off x="5850720" y="2722680"/>
            <a:ext cx="916200" cy="49824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16" name=""/>
          <p:cNvSpPr/>
          <p:nvPr/>
        </p:nvSpPr>
        <p:spPr>
          <a:xfrm flipH="1">
            <a:off x="5879520" y="2743200"/>
            <a:ext cx="8283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PPL.</a:t>
            </a:r>
            <a:endParaRPr b="0" lang="en-US" sz="1000" spc="-1" strike="noStrike">
              <a:solidFill>
                <a:srgbClr val="ffffff"/>
              </a:solidFill>
              <a:latin typeface="Arial"/>
            </a:endParaRPr>
          </a:p>
        </p:txBody>
      </p:sp>
      <p:sp>
        <p:nvSpPr>
          <p:cNvPr id="2217" name=""/>
          <p:cNvSpPr/>
          <p:nvPr/>
        </p:nvSpPr>
        <p:spPr>
          <a:xfrm>
            <a:off x="6315120" y="3498840"/>
            <a:ext cx="0" cy="3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8" name=""/>
          <p:cNvSpPr/>
          <p:nvPr/>
        </p:nvSpPr>
        <p:spPr>
          <a:xfrm flipH="1" flipV="1">
            <a:off x="5867280" y="4979160"/>
            <a:ext cx="912960" cy="49860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19" name=""/>
          <p:cNvSpPr/>
          <p:nvPr/>
        </p:nvSpPr>
        <p:spPr>
          <a:xfrm flipH="1">
            <a:off x="5967720" y="499284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20" name=""/>
          <p:cNvSpPr/>
          <p:nvPr/>
        </p:nvSpPr>
        <p:spPr>
          <a:xfrm flipH="1" flipV="1">
            <a:off x="4788720" y="331704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221" name=""/>
          <p:cNvSpPr/>
          <p:nvPr/>
        </p:nvSpPr>
        <p:spPr>
          <a:xfrm>
            <a:off x="5246640" y="34164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2" name=""/>
          <p:cNvSpPr/>
          <p:nvPr/>
        </p:nvSpPr>
        <p:spPr>
          <a:xfrm flipH="1" flipV="1">
            <a:off x="4766400" y="2733840"/>
            <a:ext cx="91620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23" name=""/>
          <p:cNvSpPr/>
          <p:nvPr/>
        </p:nvSpPr>
        <p:spPr>
          <a:xfrm flipH="1">
            <a:off x="4785480" y="2826360"/>
            <a:ext cx="90828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grpSp>
        <p:nvGrpSpPr>
          <p:cNvPr id="2224" name=""/>
          <p:cNvGrpSpPr/>
          <p:nvPr/>
        </p:nvGrpSpPr>
        <p:grpSpPr>
          <a:xfrm>
            <a:off x="4789080" y="4276800"/>
            <a:ext cx="918000" cy="1223280"/>
            <a:chOff x="4789080" y="4276800"/>
            <a:chExt cx="918000" cy="1223280"/>
          </a:xfrm>
        </p:grpSpPr>
        <p:sp>
          <p:nvSpPr>
            <p:cNvPr id="2225" name=""/>
            <p:cNvSpPr/>
            <p:nvPr/>
          </p:nvSpPr>
          <p:spPr>
            <a:xfrm flipH="1" flipV="1">
              <a:off x="4788720" y="479304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26" name=""/>
            <p:cNvSpPr/>
            <p:nvPr/>
          </p:nvSpPr>
          <p:spPr>
            <a:xfrm>
              <a:off x="5243400" y="427680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7" name=""/>
            <p:cNvSpPr/>
            <p:nvPr/>
          </p:nvSpPr>
          <p:spPr>
            <a:xfrm flipH="1" flipV="1">
              <a:off x="4791240" y="498672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28" name=""/>
            <p:cNvSpPr/>
            <p:nvPr/>
          </p:nvSpPr>
          <p:spPr>
            <a:xfrm flipH="1">
              <a:off x="4861440" y="498024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sp>
        <p:nvSpPr>
          <p:cNvPr id="2229" name=""/>
          <p:cNvSpPr/>
          <p:nvPr/>
        </p:nvSpPr>
        <p:spPr>
          <a:xfrm>
            <a:off x="4495680" y="3780000"/>
            <a:ext cx="4432320" cy="60948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30" name=""/>
          <p:cNvSpPr/>
          <p:nvPr/>
        </p:nvSpPr>
        <p:spPr>
          <a:xfrm>
            <a:off x="5180040" y="3927600"/>
            <a:ext cx="33019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ebSphere MQ/Message Broker</a:t>
            </a:r>
            <a:endParaRPr b="0" lang="en-US" sz="1600" spc="-1" strike="noStrike">
              <a:solidFill>
                <a:srgbClr val="ffffff"/>
              </a:solidFill>
              <a:latin typeface="Arial"/>
            </a:endParaRPr>
          </a:p>
        </p:txBody>
      </p:sp>
      <p:sp>
        <p:nvSpPr>
          <p:cNvPr id="2231" name=""/>
          <p:cNvSpPr/>
          <p:nvPr/>
        </p:nvSpPr>
        <p:spPr>
          <a:xfrm flipH="1" flipV="1">
            <a:off x="3431520" y="334404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232" name=""/>
          <p:cNvSpPr/>
          <p:nvPr/>
        </p:nvSpPr>
        <p:spPr>
          <a:xfrm flipH="1" flipV="1">
            <a:off x="205560" y="334404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233" name=""/>
          <p:cNvSpPr/>
          <p:nvPr/>
        </p:nvSpPr>
        <p:spPr>
          <a:xfrm flipH="1" flipV="1">
            <a:off x="2355120" y="334404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234" name=""/>
          <p:cNvSpPr/>
          <p:nvPr/>
        </p:nvSpPr>
        <p:spPr>
          <a:xfrm flipH="1" flipV="1">
            <a:off x="2355120" y="48196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35" name=""/>
          <p:cNvSpPr/>
          <p:nvPr/>
        </p:nvSpPr>
        <p:spPr>
          <a:xfrm flipH="1" flipV="1">
            <a:off x="1281240" y="4819680"/>
            <a:ext cx="90936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36" name=""/>
          <p:cNvSpPr/>
          <p:nvPr/>
        </p:nvSpPr>
        <p:spPr>
          <a:xfrm flipH="1" flipV="1">
            <a:off x="205560" y="48196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37" name=""/>
          <p:cNvSpPr/>
          <p:nvPr/>
        </p:nvSpPr>
        <p:spPr>
          <a:xfrm flipH="1" flipV="1">
            <a:off x="3431520" y="48196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38" name=""/>
          <p:cNvSpPr/>
          <p:nvPr/>
        </p:nvSpPr>
        <p:spPr>
          <a:xfrm>
            <a:off x="190440" y="3946680"/>
            <a:ext cx="4310280" cy="36036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39" name=""/>
          <p:cNvSpPr/>
          <p:nvPr/>
        </p:nvSpPr>
        <p:spPr>
          <a:xfrm>
            <a:off x="663480" y="34434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0" name=""/>
          <p:cNvSpPr/>
          <p:nvPr/>
        </p:nvSpPr>
        <p:spPr>
          <a:xfrm>
            <a:off x="2811600" y="34434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1" name=""/>
          <p:cNvSpPr/>
          <p:nvPr/>
        </p:nvSpPr>
        <p:spPr>
          <a:xfrm>
            <a:off x="3870360" y="34434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2" name=""/>
          <p:cNvSpPr/>
          <p:nvPr/>
        </p:nvSpPr>
        <p:spPr>
          <a:xfrm>
            <a:off x="660240" y="43038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3" name=""/>
          <p:cNvSpPr/>
          <p:nvPr/>
        </p:nvSpPr>
        <p:spPr>
          <a:xfrm>
            <a:off x="1735200" y="43038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4" name=""/>
          <p:cNvSpPr/>
          <p:nvPr/>
        </p:nvSpPr>
        <p:spPr>
          <a:xfrm>
            <a:off x="2808360" y="43038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5" name=""/>
          <p:cNvSpPr/>
          <p:nvPr/>
        </p:nvSpPr>
        <p:spPr>
          <a:xfrm>
            <a:off x="3865680" y="4303800"/>
            <a:ext cx="0" cy="47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6" name=""/>
          <p:cNvSpPr/>
          <p:nvPr/>
        </p:nvSpPr>
        <p:spPr>
          <a:xfrm>
            <a:off x="1361880" y="4008600"/>
            <a:ext cx="1770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ebSphere ESB</a:t>
            </a:r>
            <a:endParaRPr b="0" lang="en-US" sz="1600" spc="-1" strike="noStrike">
              <a:solidFill>
                <a:srgbClr val="ffffff"/>
              </a:solidFill>
              <a:latin typeface="Arial"/>
            </a:endParaRPr>
          </a:p>
        </p:txBody>
      </p:sp>
      <p:sp>
        <p:nvSpPr>
          <p:cNvPr id="2247" name=""/>
          <p:cNvSpPr/>
          <p:nvPr/>
        </p:nvSpPr>
        <p:spPr>
          <a:xfrm flipH="1" flipV="1">
            <a:off x="1274040" y="334080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248" name=""/>
          <p:cNvSpPr/>
          <p:nvPr/>
        </p:nvSpPr>
        <p:spPr>
          <a:xfrm>
            <a:off x="1731960" y="344016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9" name=""/>
          <p:cNvSpPr/>
          <p:nvPr/>
        </p:nvSpPr>
        <p:spPr>
          <a:xfrm flipH="1" flipV="1">
            <a:off x="185400" y="276156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0" name=""/>
          <p:cNvSpPr/>
          <p:nvPr/>
        </p:nvSpPr>
        <p:spPr>
          <a:xfrm flipH="1">
            <a:off x="204840" y="2854800"/>
            <a:ext cx="907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251" name=""/>
          <p:cNvSpPr/>
          <p:nvPr/>
        </p:nvSpPr>
        <p:spPr>
          <a:xfrm flipH="1" flipV="1">
            <a:off x="1266840" y="276156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2" name=""/>
          <p:cNvSpPr/>
          <p:nvPr/>
        </p:nvSpPr>
        <p:spPr>
          <a:xfrm flipH="1">
            <a:off x="1274040" y="2865960"/>
            <a:ext cx="8953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253" name=""/>
          <p:cNvSpPr/>
          <p:nvPr/>
        </p:nvSpPr>
        <p:spPr>
          <a:xfrm flipH="1" flipV="1">
            <a:off x="2338560" y="276156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4" name=""/>
          <p:cNvSpPr/>
          <p:nvPr/>
        </p:nvSpPr>
        <p:spPr>
          <a:xfrm flipH="1" flipV="1">
            <a:off x="3405240" y="276156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5" name=""/>
          <p:cNvSpPr/>
          <p:nvPr/>
        </p:nvSpPr>
        <p:spPr>
          <a:xfrm flipH="1">
            <a:off x="3463560" y="2841480"/>
            <a:ext cx="7689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56" name=""/>
          <p:cNvSpPr/>
          <p:nvPr/>
        </p:nvSpPr>
        <p:spPr>
          <a:xfrm flipH="1">
            <a:off x="2430000" y="2841480"/>
            <a:ext cx="7689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57" name=""/>
          <p:cNvSpPr/>
          <p:nvPr/>
        </p:nvSpPr>
        <p:spPr>
          <a:xfrm flipH="1" flipV="1">
            <a:off x="194040" y="498564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8" name=""/>
          <p:cNvSpPr/>
          <p:nvPr/>
        </p:nvSpPr>
        <p:spPr>
          <a:xfrm flipH="1" flipV="1">
            <a:off x="2362320" y="498564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59" name=""/>
          <p:cNvSpPr/>
          <p:nvPr/>
        </p:nvSpPr>
        <p:spPr>
          <a:xfrm flipH="1" flipV="1">
            <a:off x="3443400" y="4985640"/>
            <a:ext cx="91584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0" name=""/>
          <p:cNvSpPr/>
          <p:nvPr/>
        </p:nvSpPr>
        <p:spPr>
          <a:xfrm flipH="1">
            <a:off x="2432520" y="50482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61" name=""/>
          <p:cNvSpPr/>
          <p:nvPr/>
        </p:nvSpPr>
        <p:spPr>
          <a:xfrm flipH="1">
            <a:off x="257760" y="497988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62" name=""/>
          <p:cNvSpPr/>
          <p:nvPr/>
        </p:nvSpPr>
        <p:spPr>
          <a:xfrm flipH="1">
            <a:off x="3520080" y="50482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63" name=""/>
          <p:cNvSpPr/>
          <p:nvPr/>
        </p:nvSpPr>
        <p:spPr>
          <a:xfrm flipH="1" flipV="1">
            <a:off x="1289880" y="499500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4" name=""/>
          <p:cNvSpPr/>
          <p:nvPr/>
        </p:nvSpPr>
        <p:spPr>
          <a:xfrm flipH="1">
            <a:off x="1367280" y="498960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265" name=""/>
          <p:cNvSpPr/>
          <p:nvPr/>
        </p:nvSpPr>
        <p:spPr>
          <a:xfrm>
            <a:off x="152280" y="1295280"/>
            <a:ext cx="8207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ea typeface="Arial"/>
              </a:rPr>
              <a:t>What makes IBM’s SOA vision different from other SOA and ESB vendors….</a:t>
            </a:r>
            <a:endParaRPr b="0" lang="en-US" sz="1800" spc="-1" strike="noStrike">
              <a:solidFill>
                <a:srgbClr val="ffffff"/>
              </a:solidFill>
              <a:latin typeface="Arial"/>
            </a:endParaRPr>
          </a:p>
        </p:txBody>
      </p:sp>
      <p:sp>
        <p:nvSpPr>
          <p:cNvPr id="2266" name=""/>
          <p:cNvSpPr/>
          <p:nvPr/>
        </p:nvSpPr>
        <p:spPr>
          <a:xfrm>
            <a:off x="84240" y="457200"/>
            <a:ext cx="8931240" cy="80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ea typeface="Arial"/>
              </a:rPr>
              <a:t>How do you position WebSphere ESB v6 and WebSphere Message Broker v6 together?</a:t>
            </a:r>
            <a:endParaRPr b="0" lang="en-US" sz="2600" spc="-1" strike="noStrike">
              <a:solidFill>
                <a:srgbClr val="ffffff"/>
              </a:solidFill>
              <a:latin typeface="Arial"/>
            </a:endParaRPr>
          </a:p>
        </p:txBody>
      </p:sp>
      <p:sp>
        <p:nvSpPr>
          <p:cNvPr id="2" name="PlaceHolder 1"/>
          <p:cNvSpPr>
            <a:spLocks noGrp="1"/>
          </p:cNvSpPr>
          <p:nvPr>
            <p:ph type="sldNum" idx="5"/>
          </p:nvPr>
        </p:nvSpPr>
        <p:spPr/>
        <p:txBody>
          <a:bodyPr/>
          <a:p>
            <a:fld id="{B0FAD6B8-62B1-4462-98DF-CBB224DC2065}" type="slidenum">
              <a:t>12</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xit" presetID="2" presetSubtype="2">
                                  <p:stCondLst>
                                    <p:cond delay="0"/>
                                  </p:stCondLst>
                                  <p:childTnLst>
                                    <p:anim calcmode="lin" valueType="num">
                                      <p:cBhvr additive="base">
                                        <p:cTn id="98" dur="1000"/>
                                        <p:tgtEl>
                                          <p:spTgt spid="2192"/>
                                        </p:tgtEl>
                                        <p:attrNameLst>
                                          <p:attrName>ppt_x</p:attrName>
                                        </p:attrNameLst>
                                      </p:cBhvr>
                                      <p:tavLst>
                                        <p:tav tm="0">
                                          <p:val>
                                            <p:strVal val="#ppt_x"/>
                                          </p:val>
                                        </p:tav>
                                        <p:tav tm="100000">
                                          <p:val>
                                            <p:strVal val="1+#ppt_w/2"/>
                                          </p:val>
                                        </p:tav>
                                      </p:tavLst>
                                    </p:anim>
                                    <p:anim calcmode="lin" valueType="num">
                                      <p:cBhvr additive="base">
                                        <p:cTn id="99" dur="1000"/>
                                        <p:tgtEl>
                                          <p:spTgt spid="2192"/>
                                        </p:tgtEl>
                                        <p:attrNameLst>
                                          <p:attrName>ppt_y</p:attrName>
                                        </p:attrNameLst>
                                      </p:cBhvr>
                                      <p:tavLst>
                                        <p:tav tm="0">
                                          <p:val>
                                            <p:strVal val="#ppt_y"/>
                                          </p:val>
                                        </p:tav>
                                        <p:tav tm="100000">
                                          <p:val>
                                            <p:strVal val="#ppt_y"/>
                                          </p:val>
                                        </p:tav>
                                      </p:tavLst>
                                    </p:anim>
                                    <p:set>
                                      <p:cBhvr>
                                        <p:cTn id="100" dur="1" fill="hold">
                                          <p:stCondLst>
                                            <p:cond delay="999"/>
                                          </p:stCondLst>
                                        </p:cTn>
                                        <p:tgtEl>
                                          <p:spTgt spid="2192"/>
                                        </p:tgtEl>
                                        <p:attrNameLst>
                                          <p:attrName>style.visibility</p:attrName>
                                        </p:attrNameLst>
                                      </p:cBhvr>
                                      <p:to>
                                        <p:strVal val="hidden"/>
                                      </p:to>
                                    </p:set>
                                  </p:childTnLst>
                                </p:cTn>
                              </p:par>
                              <p:par>
                                <p:cTn id="101" nodeType="withEffect" fill="hold" presetClass="exit" presetID="2" presetSubtype="4">
                                  <p:stCondLst>
                                    <p:cond delay="0"/>
                                  </p:stCondLst>
                                  <p:childTnLst>
                                    <p:anim calcmode="lin" valueType="num">
                                      <p:cBhvr additive="base">
                                        <p:cTn id="102" dur="1000"/>
                                        <p:tgtEl>
                                          <p:spTgt spid="2191"/>
                                        </p:tgtEl>
                                        <p:attrNameLst>
                                          <p:attrName>ppt_x</p:attrName>
                                        </p:attrNameLst>
                                      </p:cBhvr>
                                      <p:tavLst>
                                        <p:tav tm="0">
                                          <p:val>
                                            <p:strVal val="#ppt_x"/>
                                          </p:val>
                                        </p:tav>
                                        <p:tav tm="100000">
                                          <p:val>
                                            <p:strVal val="#ppt_x"/>
                                          </p:val>
                                        </p:tav>
                                      </p:tavLst>
                                    </p:anim>
                                    <p:anim calcmode="lin" valueType="num">
                                      <p:cBhvr additive="base">
                                        <p:cTn id="103" dur="1000"/>
                                        <p:tgtEl>
                                          <p:spTgt spid="2191"/>
                                        </p:tgtEl>
                                        <p:attrNameLst>
                                          <p:attrName>ppt_y</p:attrName>
                                        </p:attrNameLst>
                                      </p:cBhvr>
                                      <p:tavLst>
                                        <p:tav tm="0">
                                          <p:val>
                                            <p:strVal val="#ppt_y"/>
                                          </p:val>
                                        </p:tav>
                                        <p:tav tm="100000">
                                          <p:val>
                                            <p:strVal val="1+#ppt_h/2"/>
                                          </p:val>
                                        </p:tav>
                                      </p:tavLst>
                                    </p:anim>
                                    <p:set>
                                      <p:cBhvr>
                                        <p:cTn id="104" dur="1" fill="hold">
                                          <p:stCondLst>
                                            <p:cond delay="999"/>
                                          </p:stCondLst>
                                        </p:cTn>
                                        <p:tgtEl>
                                          <p:spTgt spid="2191"/>
                                        </p:tgtEl>
                                        <p:attrNameLst>
                                          <p:attrName>style.visibility</p:attrName>
                                        </p:attrNameLst>
                                      </p:cBhvr>
                                      <p:to>
                                        <p:strVal val="hidden"/>
                                      </p:to>
                                    </p:se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265"/>
                                        </p:tgtEl>
                                        <p:attrNameLst>
                                          <p:attrName>style.visibility</p:attrName>
                                        </p:attrNameLst>
                                      </p:cBhvr>
                                      <p:to>
                                        <p:strVal val="visible"/>
                                      </p:to>
                                    </p:set>
                                    <p:animEffect filter="dissolve" transition="in">
                                      <p:cBhvr additive="repl">
                                        <p:cTn id="108"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
          <p:cNvSpPr/>
          <p:nvPr/>
        </p:nvSpPr>
        <p:spPr>
          <a:xfrm flipH="1" flipV="1">
            <a:off x="8015400" y="2928240"/>
            <a:ext cx="909360" cy="1731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8" name=""/>
          <p:cNvSpPr/>
          <p:nvPr/>
        </p:nvSpPr>
        <p:spPr>
          <a:xfrm flipH="1" flipV="1">
            <a:off x="8009640" y="2336040"/>
            <a:ext cx="91764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9" name=""/>
          <p:cNvSpPr/>
          <p:nvPr/>
        </p:nvSpPr>
        <p:spPr>
          <a:xfrm flipH="1">
            <a:off x="8104320" y="24256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70" name=""/>
          <p:cNvSpPr/>
          <p:nvPr/>
        </p:nvSpPr>
        <p:spPr>
          <a:xfrm flipH="1" flipV="1">
            <a:off x="6938280" y="2928240"/>
            <a:ext cx="909720" cy="22068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1" name=""/>
          <p:cNvSpPr/>
          <p:nvPr/>
        </p:nvSpPr>
        <p:spPr>
          <a:xfrm flipH="1" flipV="1">
            <a:off x="6928560" y="2336040"/>
            <a:ext cx="92556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2" name=""/>
          <p:cNvSpPr/>
          <p:nvPr/>
        </p:nvSpPr>
        <p:spPr>
          <a:xfrm flipH="1">
            <a:off x="7027920" y="24256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73" name=""/>
          <p:cNvSpPr/>
          <p:nvPr/>
        </p:nvSpPr>
        <p:spPr>
          <a:xfrm flipH="1" flipV="1">
            <a:off x="6934320" y="4594320"/>
            <a:ext cx="915840" cy="49824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4" name=""/>
          <p:cNvSpPr/>
          <p:nvPr/>
        </p:nvSpPr>
        <p:spPr>
          <a:xfrm flipH="1">
            <a:off x="7029720" y="467532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75" name=""/>
          <p:cNvSpPr/>
          <p:nvPr/>
        </p:nvSpPr>
        <p:spPr>
          <a:xfrm flipH="1" flipV="1">
            <a:off x="6938280" y="4251240"/>
            <a:ext cx="909720" cy="2397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6" name=""/>
          <p:cNvSpPr/>
          <p:nvPr/>
        </p:nvSpPr>
        <p:spPr>
          <a:xfrm flipH="1" flipV="1">
            <a:off x="5864400" y="4264200"/>
            <a:ext cx="909360" cy="22680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7" name=""/>
          <p:cNvSpPr/>
          <p:nvPr/>
        </p:nvSpPr>
        <p:spPr>
          <a:xfrm flipH="1" flipV="1">
            <a:off x="8009640" y="4594320"/>
            <a:ext cx="916200" cy="49824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8" name=""/>
          <p:cNvSpPr/>
          <p:nvPr/>
        </p:nvSpPr>
        <p:spPr>
          <a:xfrm flipH="1">
            <a:off x="8121960" y="4675320"/>
            <a:ext cx="708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79" name=""/>
          <p:cNvSpPr/>
          <p:nvPr/>
        </p:nvSpPr>
        <p:spPr>
          <a:xfrm flipH="1" flipV="1">
            <a:off x="8015400" y="4269600"/>
            <a:ext cx="909360" cy="22068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80" name=""/>
          <p:cNvSpPr/>
          <p:nvPr/>
        </p:nvSpPr>
        <p:spPr>
          <a:xfrm>
            <a:off x="7394400" y="315108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1" name=""/>
          <p:cNvSpPr/>
          <p:nvPr/>
        </p:nvSpPr>
        <p:spPr>
          <a:xfrm>
            <a:off x="8453520" y="3112920"/>
            <a:ext cx="0" cy="3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2" name=""/>
          <p:cNvSpPr/>
          <p:nvPr/>
        </p:nvSpPr>
        <p:spPr>
          <a:xfrm>
            <a:off x="6318360" y="3887640"/>
            <a:ext cx="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3" name=""/>
          <p:cNvSpPr/>
          <p:nvPr/>
        </p:nvSpPr>
        <p:spPr>
          <a:xfrm>
            <a:off x="7391520" y="3887640"/>
            <a:ext cx="0" cy="34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4" name=""/>
          <p:cNvSpPr/>
          <p:nvPr/>
        </p:nvSpPr>
        <p:spPr>
          <a:xfrm>
            <a:off x="8448840" y="3887640"/>
            <a:ext cx="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5" name=""/>
          <p:cNvSpPr/>
          <p:nvPr/>
        </p:nvSpPr>
        <p:spPr>
          <a:xfrm flipH="1" flipV="1">
            <a:off x="5857200" y="2925720"/>
            <a:ext cx="909720" cy="16344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86" name=""/>
          <p:cNvSpPr/>
          <p:nvPr/>
        </p:nvSpPr>
        <p:spPr>
          <a:xfrm flipH="1" flipV="1">
            <a:off x="5850720" y="2332800"/>
            <a:ext cx="916200" cy="498600"/>
          </a:xfrm>
          <a:prstGeom prst="rect">
            <a:avLst/>
          </a:prstGeom>
          <a:gradFill rotWithShape="0">
            <a:gsLst>
              <a:gs pos="0">
                <a:srgbClr val="a1a1a1"/>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87" name=""/>
          <p:cNvSpPr/>
          <p:nvPr/>
        </p:nvSpPr>
        <p:spPr>
          <a:xfrm flipH="1">
            <a:off x="5932800" y="2367000"/>
            <a:ext cx="708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sp>
        <p:nvSpPr>
          <p:cNvPr id="2288" name=""/>
          <p:cNvSpPr/>
          <p:nvPr/>
        </p:nvSpPr>
        <p:spPr>
          <a:xfrm>
            <a:off x="6315120" y="307512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9" name=""/>
          <p:cNvSpPr/>
          <p:nvPr/>
        </p:nvSpPr>
        <p:spPr>
          <a:xfrm flipH="1" flipV="1">
            <a:off x="5867280" y="4590360"/>
            <a:ext cx="912960" cy="498600"/>
          </a:xfrm>
          <a:prstGeom prst="rect">
            <a:avLst/>
          </a:prstGeom>
          <a:gradFill rotWithShape="0">
            <a:gsLst>
              <a:gs pos="0">
                <a:srgbClr val="a9a9a9"/>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0" name=""/>
          <p:cNvSpPr/>
          <p:nvPr/>
        </p:nvSpPr>
        <p:spPr>
          <a:xfrm flipH="1">
            <a:off x="5967720" y="4603680"/>
            <a:ext cx="743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EGACY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PL.</a:t>
            </a:r>
            <a:endParaRPr b="0" lang="en-US" sz="1000" spc="-1" strike="noStrike">
              <a:solidFill>
                <a:srgbClr val="ffffff"/>
              </a:solidFill>
              <a:latin typeface="Arial"/>
            </a:endParaRPr>
          </a:p>
        </p:txBody>
      </p:sp>
      <p:grpSp>
        <p:nvGrpSpPr>
          <p:cNvPr id="2291" name=""/>
          <p:cNvGrpSpPr/>
          <p:nvPr/>
        </p:nvGrpSpPr>
        <p:grpSpPr>
          <a:xfrm>
            <a:off x="4766760" y="2344320"/>
            <a:ext cx="932040" cy="1162440"/>
            <a:chOff x="4766760" y="2344320"/>
            <a:chExt cx="932040" cy="1162440"/>
          </a:xfrm>
        </p:grpSpPr>
        <p:sp>
          <p:nvSpPr>
            <p:cNvPr id="2292" name=""/>
            <p:cNvSpPr/>
            <p:nvPr/>
          </p:nvSpPr>
          <p:spPr>
            <a:xfrm flipH="1" flipV="1">
              <a:off x="4788720" y="2928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93" name=""/>
            <p:cNvSpPr/>
            <p:nvPr/>
          </p:nvSpPr>
          <p:spPr>
            <a:xfrm>
              <a:off x="5246640" y="3027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4" name=""/>
            <p:cNvSpPr/>
            <p:nvPr/>
          </p:nvSpPr>
          <p:spPr>
            <a:xfrm flipH="1" flipV="1">
              <a:off x="4766400" y="234396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5" name=""/>
            <p:cNvSpPr/>
            <p:nvPr/>
          </p:nvSpPr>
          <p:spPr>
            <a:xfrm flipH="1">
              <a:off x="4785480" y="2437200"/>
              <a:ext cx="90828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grpSp>
        <p:nvGrpSpPr>
          <p:cNvPr id="2296" name=""/>
          <p:cNvGrpSpPr/>
          <p:nvPr/>
        </p:nvGrpSpPr>
        <p:grpSpPr>
          <a:xfrm>
            <a:off x="4789080" y="3887640"/>
            <a:ext cx="918000" cy="1223280"/>
            <a:chOff x="4789080" y="3887640"/>
            <a:chExt cx="918000" cy="1223280"/>
          </a:xfrm>
        </p:grpSpPr>
        <p:sp>
          <p:nvSpPr>
            <p:cNvPr id="2297" name=""/>
            <p:cNvSpPr/>
            <p:nvPr/>
          </p:nvSpPr>
          <p:spPr>
            <a:xfrm flipH="1" flipV="1">
              <a:off x="4788720" y="4403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298" name=""/>
            <p:cNvSpPr/>
            <p:nvPr/>
          </p:nvSpPr>
          <p:spPr>
            <a:xfrm>
              <a:off x="5243400" y="3887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9" name=""/>
            <p:cNvSpPr/>
            <p:nvPr/>
          </p:nvSpPr>
          <p:spPr>
            <a:xfrm flipH="1" flipV="1">
              <a:off x="479124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00" name=""/>
            <p:cNvSpPr/>
            <p:nvPr/>
          </p:nvSpPr>
          <p:spPr>
            <a:xfrm flipH="1">
              <a:off x="4864680" y="459108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grpSp>
        <p:nvGrpSpPr>
          <p:cNvPr id="2301" name=""/>
          <p:cNvGrpSpPr/>
          <p:nvPr/>
        </p:nvGrpSpPr>
        <p:grpSpPr>
          <a:xfrm>
            <a:off x="4495680" y="3390840"/>
            <a:ext cx="4432320" cy="609840"/>
            <a:chOff x="4495680" y="3390840"/>
            <a:chExt cx="4432320" cy="609840"/>
          </a:xfrm>
        </p:grpSpPr>
        <p:sp>
          <p:nvSpPr>
            <p:cNvPr id="2302" name=""/>
            <p:cNvSpPr/>
            <p:nvPr/>
          </p:nvSpPr>
          <p:spPr>
            <a:xfrm>
              <a:off x="4495680" y="3390840"/>
              <a:ext cx="4432320" cy="60984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03" name=""/>
            <p:cNvSpPr/>
            <p:nvPr/>
          </p:nvSpPr>
          <p:spPr>
            <a:xfrm>
              <a:off x="5383440" y="3552840"/>
              <a:ext cx="29192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WebSphere Message Broker</a:t>
              </a:r>
              <a:endParaRPr b="0" lang="en-US" sz="1600" spc="-1" strike="noStrike">
                <a:solidFill>
                  <a:srgbClr val="ffffff"/>
                </a:solidFill>
                <a:latin typeface="Arial"/>
              </a:endParaRPr>
            </a:p>
          </p:txBody>
        </p:sp>
      </p:grpSp>
      <p:sp>
        <p:nvSpPr>
          <p:cNvPr id="2304" name=""/>
          <p:cNvSpPr/>
          <p:nvPr/>
        </p:nvSpPr>
        <p:spPr>
          <a:xfrm flipH="1" flipV="1">
            <a:off x="343152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05" name=""/>
          <p:cNvSpPr/>
          <p:nvPr/>
        </p:nvSpPr>
        <p:spPr>
          <a:xfrm flipH="1" flipV="1">
            <a:off x="20556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06" name=""/>
          <p:cNvSpPr/>
          <p:nvPr/>
        </p:nvSpPr>
        <p:spPr>
          <a:xfrm flipH="1" flipV="1">
            <a:off x="2355120" y="295596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07" name=""/>
          <p:cNvSpPr/>
          <p:nvPr/>
        </p:nvSpPr>
        <p:spPr>
          <a:xfrm flipH="1" flipV="1">
            <a:off x="235512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08" name=""/>
          <p:cNvSpPr/>
          <p:nvPr/>
        </p:nvSpPr>
        <p:spPr>
          <a:xfrm flipH="1" flipV="1">
            <a:off x="1281240" y="4430880"/>
            <a:ext cx="90936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09" name=""/>
          <p:cNvSpPr/>
          <p:nvPr/>
        </p:nvSpPr>
        <p:spPr>
          <a:xfrm flipH="1" flipV="1">
            <a:off x="20556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10" name=""/>
          <p:cNvSpPr/>
          <p:nvPr/>
        </p:nvSpPr>
        <p:spPr>
          <a:xfrm flipH="1" flipV="1">
            <a:off x="3431520" y="4430880"/>
            <a:ext cx="909720" cy="87120"/>
          </a:xfrm>
          <a:prstGeom prst="rect">
            <a:avLst/>
          </a:prstGeom>
          <a:solidFill>
            <a:srgbClr val="7889fb"/>
          </a:solidFill>
          <a:ln w="31680">
            <a:solidFill>
              <a:srgbClr val="000000"/>
            </a:solidFill>
            <a:miter/>
          </a:ln>
        </p:spPr>
        <p:style>
          <a:lnRef idx="0"/>
          <a:fillRef idx="0"/>
          <a:effectRef idx="0"/>
          <a:fontRef idx="minor"/>
        </p:style>
        <p:txBody>
          <a:bodyPr lIns="90000" rIns="90000" tIns="40320" bIns="40320" anchor="ctr">
            <a:spAutoFit/>
          </a:bodyPr>
          <a:p>
            <a:endParaRPr b="0" lang="en-US" sz="1800" spc="-1" strike="noStrike">
              <a:solidFill>
                <a:srgbClr val="ffffff"/>
              </a:solidFill>
              <a:latin typeface="Arial"/>
            </a:endParaRPr>
          </a:p>
        </p:txBody>
      </p:sp>
      <p:sp>
        <p:nvSpPr>
          <p:cNvPr id="2311" name=""/>
          <p:cNvSpPr/>
          <p:nvPr/>
        </p:nvSpPr>
        <p:spPr>
          <a:xfrm>
            <a:off x="66348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2" name=""/>
          <p:cNvSpPr/>
          <p:nvPr/>
        </p:nvSpPr>
        <p:spPr>
          <a:xfrm>
            <a:off x="281160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3" name=""/>
          <p:cNvSpPr/>
          <p:nvPr/>
        </p:nvSpPr>
        <p:spPr>
          <a:xfrm>
            <a:off x="3870360" y="30542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4" name=""/>
          <p:cNvSpPr/>
          <p:nvPr/>
        </p:nvSpPr>
        <p:spPr>
          <a:xfrm>
            <a:off x="66024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5" name=""/>
          <p:cNvSpPr/>
          <p:nvPr/>
        </p:nvSpPr>
        <p:spPr>
          <a:xfrm>
            <a:off x="173520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6" name=""/>
          <p:cNvSpPr/>
          <p:nvPr/>
        </p:nvSpPr>
        <p:spPr>
          <a:xfrm>
            <a:off x="280836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7" name=""/>
          <p:cNvSpPr/>
          <p:nvPr/>
        </p:nvSpPr>
        <p:spPr>
          <a:xfrm>
            <a:off x="3865680" y="391464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8" name=""/>
          <p:cNvGrpSpPr/>
          <p:nvPr/>
        </p:nvGrpSpPr>
        <p:grpSpPr>
          <a:xfrm>
            <a:off x="190440" y="3557520"/>
            <a:ext cx="4310280" cy="360360"/>
            <a:chOff x="190440" y="3557520"/>
            <a:chExt cx="4310280" cy="360360"/>
          </a:xfrm>
        </p:grpSpPr>
        <p:sp>
          <p:nvSpPr>
            <p:cNvPr id="2319" name=""/>
            <p:cNvSpPr/>
            <p:nvPr/>
          </p:nvSpPr>
          <p:spPr>
            <a:xfrm>
              <a:off x="190440" y="3557520"/>
              <a:ext cx="4310280" cy="36036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0" name=""/>
            <p:cNvSpPr/>
            <p:nvPr/>
          </p:nvSpPr>
          <p:spPr>
            <a:xfrm>
              <a:off x="1368360" y="3579840"/>
              <a:ext cx="1770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ebSphere ESB</a:t>
              </a:r>
              <a:endParaRPr b="0" lang="en-US" sz="1600" spc="-1" strike="noStrike">
                <a:solidFill>
                  <a:srgbClr val="ffffff"/>
                </a:solidFill>
                <a:latin typeface="Arial"/>
              </a:endParaRPr>
            </a:p>
          </p:txBody>
        </p:sp>
      </p:grpSp>
      <p:sp>
        <p:nvSpPr>
          <p:cNvPr id="2321" name=""/>
          <p:cNvSpPr/>
          <p:nvPr/>
        </p:nvSpPr>
        <p:spPr>
          <a:xfrm flipH="1" flipV="1">
            <a:off x="1274040" y="2952000"/>
            <a:ext cx="909720" cy="87480"/>
          </a:xfrm>
          <a:prstGeom prst="rect">
            <a:avLst/>
          </a:prstGeom>
          <a:solidFill>
            <a:srgbClr val="7889fb"/>
          </a:solidFill>
          <a:ln w="31680">
            <a:solidFill>
              <a:srgbClr val="000000"/>
            </a:solidFill>
            <a:miter/>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2322" name=""/>
          <p:cNvSpPr/>
          <p:nvPr/>
        </p:nvSpPr>
        <p:spPr>
          <a:xfrm>
            <a:off x="1731960" y="3051000"/>
            <a:ext cx="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3" name=""/>
          <p:cNvSpPr/>
          <p:nvPr/>
        </p:nvSpPr>
        <p:spPr>
          <a:xfrm flipH="1" flipV="1">
            <a:off x="18540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4" name=""/>
          <p:cNvSpPr/>
          <p:nvPr/>
        </p:nvSpPr>
        <p:spPr>
          <a:xfrm flipH="1">
            <a:off x="204840" y="2466000"/>
            <a:ext cx="9079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325" name=""/>
          <p:cNvSpPr/>
          <p:nvPr/>
        </p:nvSpPr>
        <p:spPr>
          <a:xfrm flipH="1" flipV="1">
            <a:off x="126684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6" name=""/>
          <p:cNvSpPr/>
          <p:nvPr/>
        </p:nvSpPr>
        <p:spPr>
          <a:xfrm flipH="1">
            <a:off x="1274040" y="2477160"/>
            <a:ext cx="89532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a:t>
            </a:r>
            <a:endParaRPr b="0" lang="en-US" sz="1000" spc="-1" strike="noStrike">
              <a:solidFill>
                <a:srgbClr val="ffffff"/>
              </a:solidFill>
              <a:latin typeface="Arial"/>
            </a:endParaRPr>
          </a:p>
        </p:txBody>
      </p:sp>
      <p:sp>
        <p:nvSpPr>
          <p:cNvPr id="2327" name=""/>
          <p:cNvSpPr/>
          <p:nvPr/>
        </p:nvSpPr>
        <p:spPr>
          <a:xfrm flipH="1" flipV="1">
            <a:off x="233856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8" name=""/>
          <p:cNvSpPr/>
          <p:nvPr/>
        </p:nvSpPr>
        <p:spPr>
          <a:xfrm flipH="1" flipV="1">
            <a:off x="3405240" y="237348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9" name=""/>
          <p:cNvSpPr/>
          <p:nvPr/>
        </p:nvSpPr>
        <p:spPr>
          <a:xfrm flipH="1">
            <a:off x="3477240" y="24526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330" name=""/>
          <p:cNvSpPr/>
          <p:nvPr/>
        </p:nvSpPr>
        <p:spPr>
          <a:xfrm flipH="1">
            <a:off x="2430000" y="2452680"/>
            <a:ext cx="7689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331" name=""/>
          <p:cNvSpPr/>
          <p:nvPr/>
        </p:nvSpPr>
        <p:spPr>
          <a:xfrm flipH="1" flipV="1">
            <a:off x="194040" y="4597560"/>
            <a:ext cx="91620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32" name=""/>
          <p:cNvSpPr/>
          <p:nvPr/>
        </p:nvSpPr>
        <p:spPr>
          <a:xfrm flipH="1" flipV="1">
            <a:off x="236232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33" name=""/>
          <p:cNvSpPr/>
          <p:nvPr/>
        </p:nvSpPr>
        <p:spPr>
          <a:xfrm flipH="1" flipV="1">
            <a:off x="3443400" y="4597560"/>
            <a:ext cx="915840" cy="49824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34" name=""/>
          <p:cNvSpPr/>
          <p:nvPr/>
        </p:nvSpPr>
        <p:spPr>
          <a:xfrm flipH="1">
            <a:off x="2429280" y="46594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335" name=""/>
          <p:cNvSpPr/>
          <p:nvPr/>
        </p:nvSpPr>
        <p:spPr>
          <a:xfrm flipH="1">
            <a:off x="257760" y="459108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336" name=""/>
          <p:cNvSpPr/>
          <p:nvPr/>
        </p:nvSpPr>
        <p:spPr>
          <a:xfrm flipH="1">
            <a:off x="3520080" y="4659480"/>
            <a:ext cx="73404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sp>
        <p:nvSpPr>
          <p:cNvPr id="2337" name=""/>
          <p:cNvSpPr/>
          <p:nvPr/>
        </p:nvSpPr>
        <p:spPr>
          <a:xfrm flipH="1" flipV="1">
            <a:off x="1289880" y="4606200"/>
            <a:ext cx="916200" cy="4986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38" name=""/>
          <p:cNvSpPr/>
          <p:nvPr/>
        </p:nvSpPr>
        <p:spPr>
          <a:xfrm flipH="1">
            <a:off x="1369080" y="4600440"/>
            <a:ext cx="7340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a:t>
            </a:r>
            <a:endParaRPr b="0" lang="en-US" sz="1000" spc="-1" strike="noStrike">
              <a:solidFill>
                <a:srgbClr val="ffffff"/>
              </a:solidFill>
              <a:latin typeface="Arial"/>
            </a:endParaRPr>
          </a:p>
        </p:txBody>
      </p:sp>
      <p:grpSp>
        <p:nvGrpSpPr>
          <p:cNvPr id="2339" name=""/>
          <p:cNvGrpSpPr/>
          <p:nvPr/>
        </p:nvGrpSpPr>
        <p:grpSpPr>
          <a:xfrm>
            <a:off x="469800" y="3594240"/>
            <a:ext cx="8471160" cy="357840"/>
            <a:chOff x="469800" y="3594240"/>
            <a:chExt cx="8471160" cy="357840"/>
          </a:xfrm>
        </p:grpSpPr>
        <p:sp>
          <p:nvSpPr>
            <p:cNvPr id="2340" name=""/>
            <p:cNvSpPr/>
            <p:nvPr/>
          </p:nvSpPr>
          <p:spPr>
            <a:xfrm>
              <a:off x="469800" y="3594240"/>
              <a:ext cx="8471160" cy="29628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41" name=""/>
            <p:cNvSpPr/>
            <p:nvPr/>
          </p:nvSpPr>
          <p:spPr>
            <a:xfrm>
              <a:off x="547560" y="3639240"/>
              <a:ext cx="81788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eamless connectivity : WAS v6 + WebSphere MQ v6 </a:t>
              </a:r>
              <a:endParaRPr b="0" lang="en-US" sz="1600" spc="-1" strike="noStrike">
                <a:solidFill>
                  <a:srgbClr val="ffffff"/>
                </a:solidFill>
                <a:latin typeface="Arial"/>
              </a:endParaRPr>
            </a:p>
          </p:txBody>
        </p:sp>
      </p:grpSp>
      <p:sp>
        <p:nvSpPr>
          <p:cNvPr id="2342" name=""/>
          <p:cNvSpPr/>
          <p:nvPr/>
        </p:nvSpPr>
        <p:spPr>
          <a:xfrm>
            <a:off x="609480" y="5249880"/>
            <a:ext cx="5181840" cy="922320"/>
          </a:xfrm>
          <a:prstGeom prst="rect">
            <a:avLst/>
          </a:prstGeom>
          <a:noFill/>
          <a:ln w="0">
            <a:noFill/>
          </a:ln>
        </p:spPr>
        <p:style>
          <a:lnRef idx="0"/>
          <a:fillRef idx="0"/>
          <a:effectRef idx="0"/>
          <a:fontRef idx="minor"/>
        </p:style>
        <p:txBody>
          <a:bodyPr lIns="90000" rIns="90000" tIns="46800" bIns="46800" anchor="t">
            <a:normAutofit/>
          </a:bodyPr>
          <a:p>
            <a:pPr>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3" name=""/>
          <p:cNvGrpSpPr/>
          <p:nvPr/>
        </p:nvGrpSpPr>
        <p:grpSpPr>
          <a:xfrm>
            <a:off x="200160" y="1309680"/>
            <a:ext cx="7597440" cy="922320"/>
            <a:chOff x="200160" y="1309680"/>
            <a:chExt cx="7597440" cy="922320"/>
          </a:xfrm>
        </p:grpSpPr>
        <p:sp>
          <p:nvSpPr>
            <p:cNvPr id="2344" name=""/>
            <p:cNvSpPr/>
            <p:nvPr/>
          </p:nvSpPr>
          <p:spPr>
            <a:xfrm>
              <a:off x="2198880" y="1309680"/>
              <a:ext cx="5598720" cy="9223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nnectivity for the Enterprise Service Bus products is built using market leading IBM products, WebSphere MQ and WebSphere Application Server v6</a:t>
              </a:r>
              <a:endParaRPr b="0" lang="en-US" sz="1400" spc="-1" strike="noStrike">
                <a:solidFill>
                  <a:srgbClr val="ffffff"/>
                </a:solidFill>
                <a:latin typeface="Arial"/>
              </a:endParaRPr>
            </a:p>
          </p:txBody>
        </p:sp>
        <p:grpSp>
          <p:nvGrpSpPr>
            <p:cNvPr id="2345" name=""/>
            <p:cNvGrpSpPr/>
            <p:nvPr/>
          </p:nvGrpSpPr>
          <p:grpSpPr>
            <a:xfrm>
              <a:off x="1387440" y="1386000"/>
              <a:ext cx="810720" cy="671400"/>
              <a:chOff x="1387440" y="1386000"/>
              <a:chExt cx="810720" cy="671400"/>
            </a:xfrm>
          </p:grpSpPr>
          <p:sp>
            <p:nvSpPr>
              <p:cNvPr id="2346" name=""/>
              <p:cNvSpPr/>
              <p:nvPr/>
            </p:nvSpPr>
            <p:spPr>
              <a:xfrm>
                <a:off x="1387440" y="1386000"/>
                <a:ext cx="81072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p:cNvSpPr/>
              <p:nvPr/>
            </p:nvSpPr>
            <p:spPr>
              <a:xfrm>
                <a:off x="1572840" y="1457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grpSp>
        <p:grpSp>
          <p:nvGrpSpPr>
            <p:cNvPr id="2348" name=""/>
            <p:cNvGrpSpPr/>
            <p:nvPr/>
          </p:nvGrpSpPr>
          <p:grpSpPr>
            <a:xfrm>
              <a:off x="200160" y="1386000"/>
              <a:ext cx="810720" cy="671400"/>
              <a:chOff x="200160" y="1386000"/>
              <a:chExt cx="810720" cy="671400"/>
            </a:xfrm>
          </p:grpSpPr>
          <p:sp>
            <p:nvSpPr>
              <p:cNvPr id="2349" name=""/>
              <p:cNvSpPr/>
              <p:nvPr/>
            </p:nvSpPr>
            <p:spPr>
              <a:xfrm>
                <a:off x="200160" y="1386000"/>
                <a:ext cx="81072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0" name=""/>
              <p:cNvSpPr/>
              <p:nvPr/>
            </p:nvSpPr>
            <p:spPr>
              <a:xfrm>
                <a:off x="385560" y="1457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grpSp>
        <p:sp>
          <p:nvSpPr>
            <p:cNvPr id="2351" name=""/>
            <p:cNvSpPr/>
            <p:nvPr/>
          </p:nvSpPr>
          <p:spPr>
            <a:xfrm>
              <a:off x="1084320" y="155268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t>
              </a:r>
              <a:endParaRPr b="0" lang="en-US" sz="2000" spc="-1" strike="noStrike">
                <a:solidFill>
                  <a:srgbClr val="ffffff"/>
                </a:solidFill>
                <a:latin typeface="Arial"/>
              </a:endParaRPr>
            </a:p>
          </p:txBody>
        </p:sp>
      </p:grpSp>
      <p:sp>
        <p:nvSpPr>
          <p:cNvPr id="2352" name=""/>
          <p:cNvSpPr/>
          <p:nvPr/>
        </p:nvSpPr>
        <p:spPr>
          <a:xfrm>
            <a:off x="355680" y="5584680"/>
            <a:ext cx="83660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t>
            </a:r>
            <a:r>
              <a:rPr b="0" lang="en-GB" sz="2800" spc="-1" strike="noStrike">
                <a:solidFill>
                  <a:srgbClr val="ffffff"/>
                </a:solidFill>
                <a:latin typeface="Arial"/>
                <a:ea typeface="Arial"/>
              </a:rPr>
              <a:t>depth of capability and seamless connectivity.</a:t>
            </a:r>
            <a:endParaRPr b="0" lang="en-US" sz="2800" spc="-1" strike="noStrike">
              <a:solidFill>
                <a:srgbClr val="ffffff"/>
              </a:solidFill>
              <a:latin typeface="Arial"/>
            </a:endParaRPr>
          </a:p>
        </p:txBody>
      </p:sp>
      <p:sp>
        <p:nvSpPr>
          <p:cNvPr id="2353" name=""/>
          <p:cNvSpPr/>
          <p:nvPr/>
        </p:nvSpPr>
        <p:spPr>
          <a:xfrm>
            <a:off x="84240" y="536400"/>
            <a:ext cx="8931240" cy="80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ea typeface="Arial"/>
              </a:rPr>
              <a:t>How do you position WebSphere ESB v6 and WebSphere Message Broker v6?</a:t>
            </a:r>
            <a:endParaRPr b="0" lang="en-US" sz="2600" spc="-1" strike="noStrike">
              <a:solidFill>
                <a:srgbClr val="ffffff"/>
              </a:solidFill>
              <a:latin typeface="Arial"/>
            </a:endParaRPr>
          </a:p>
        </p:txBody>
      </p:sp>
      <p:sp>
        <p:nvSpPr>
          <p:cNvPr id="2" name="PlaceHolder 1"/>
          <p:cNvSpPr>
            <a:spLocks noGrp="1"/>
          </p:cNvSpPr>
          <p:nvPr>
            <p:ph type="sldNum" idx="5"/>
          </p:nvPr>
        </p:nvSpPr>
        <p:spPr/>
        <p:txBody>
          <a:bodyPr/>
          <a:p>
            <a:fld id="{B62D57EA-0680-42D4-98BC-A5A286548D5D}" type="slidenum">
              <a:t>13</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9">
                                  <p:stCondLst>
                                    <p:cond delay="0"/>
                                  </p:stCondLst>
                                  <p:childTnLst>
                                    <p:set>
                                      <p:cBhvr>
                                        <p:cTn id="114" dur="1" fill="hold">
                                          <p:stCondLst>
                                            <p:cond delay="0"/>
                                          </p:stCondLst>
                                        </p:cTn>
                                        <p:tgtEl>
                                          <p:spTgt spid="2352"/>
                                        </p:tgtEl>
                                        <p:attrNameLst>
                                          <p:attrName>style.visibility</p:attrName>
                                        </p:attrNameLst>
                                      </p:cBhvr>
                                      <p:to>
                                        <p:strVal val="visible"/>
                                      </p:to>
                                    </p:set>
                                    <p:animEffect filter="dissolve" transition="in">
                                      <p:cBhvr additive="repl">
                                        <p:cTn id="115" dur="1000"/>
                                        <p:tgtEl>
                                          <p:spTgt spid="2352"/>
                                        </p:tgtEl>
                                      </p:cBhvr>
                                    </p:animEffect>
                                  </p:childTnLst>
                                </p:cTn>
                              </p:par>
                            </p:childTnLst>
                          </p:cTn>
                        </p:par>
                        <p:par>
                          <p:cTn id="116" fill="hold">
                            <p:stCondLst>
                              <p:cond delay="1000"/>
                            </p:stCondLst>
                            <p:childTnLst>
                              <p:par>
                                <p:cTn id="117" nodeType="afterEffect" fill="hold" presetClass="exit" presetID="4" presetSubtype="16">
                                  <p:stCondLst>
                                    <p:cond delay="0"/>
                                  </p:stCondLst>
                                  <p:childTnLst>
                                    <p:animEffect filter="box(in)" transition="out">
                                      <p:cBhvr additive="repl">
                                        <p:cTn id="118" dur="500"/>
                                        <p:tgtEl>
                                          <p:spTgt spid="2301"/>
                                        </p:tgtEl>
                                      </p:cBhvr>
                                    </p:animEffect>
                                    <p:set>
                                      <p:cBhvr>
                                        <p:cTn id="119" dur="1" fill="hold">
                                          <p:stCondLst>
                                            <p:cond delay="499"/>
                                          </p:stCondLst>
                                        </p:cTn>
                                        <p:tgtEl>
                                          <p:spTgt spid="2301"/>
                                        </p:tgtEl>
                                        <p:attrNameLst>
                                          <p:attrName>style.visibility</p:attrName>
                                        </p:attrNameLst>
                                      </p:cBhvr>
                                      <p:to>
                                        <p:strVal val="hidden"/>
                                      </p:to>
                                    </p:set>
                                  </p:childTnLst>
                                </p:cTn>
                              </p:par>
                              <p:par>
                                <p:cTn id="120" nodeType="withEffect" fill="hold" presetClass="exit" presetID="4" presetSubtype="16">
                                  <p:stCondLst>
                                    <p:cond delay="0"/>
                                  </p:stCondLst>
                                  <p:childTnLst>
                                    <p:animEffect filter="box(in)" transition="out">
                                      <p:cBhvr additive="repl">
                                        <p:cTn id="121" dur="500"/>
                                        <p:tgtEl>
                                          <p:spTgt spid="2318"/>
                                        </p:tgtEl>
                                      </p:cBhvr>
                                    </p:animEffect>
                                    <p:set>
                                      <p:cBhvr>
                                        <p:cTn id="122" dur="1" fill="hold">
                                          <p:stCondLst>
                                            <p:cond delay="499"/>
                                          </p:stCondLst>
                                        </p:cTn>
                                        <p:tgtEl>
                                          <p:spTgt spid="2318"/>
                                        </p:tgtEl>
                                        <p:attrNameLst>
                                          <p:attrName>style.visibility</p:attrName>
                                        </p:attrNameLst>
                                      </p:cBhvr>
                                      <p:to>
                                        <p:strVal val="hidden"/>
                                      </p:to>
                                    </p:set>
                                  </p:childTnLst>
                                </p:cTn>
                              </p:par>
                              <p:par>
                                <p:cTn id="123" nodeType="withEffect" fill="hold" presetClass="entr" presetID="9">
                                  <p:stCondLst>
                                    <p:cond delay="0"/>
                                  </p:stCondLst>
                                  <p:endCondLst>
                                    <p:cond evt="begin"/>
                                  </p:endCondLst>
                                  <p:childTnLst>
                                    <p:set>
                                      <p:cBhvr>
                                        <p:cTn id="124" dur="1" fill="hold">
                                          <p:stCondLst>
                                            <p:cond delay="0"/>
                                          </p:stCondLst>
                                        </p:cTn>
                                        <p:tgtEl>
                                          <p:spTgt spid="2342"/>
                                        </p:tgtEl>
                                        <p:attrNameLst>
                                          <p:attrName>style.visibility</p:attrName>
                                        </p:attrNameLst>
                                      </p:cBhvr>
                                      <p:to>
                                        <p:strVal val="visible"/>
                                      </p:to>
                                    </p:set>
                                    <p:animEffect filter="dissolve" transition="in">
                                      <p:cBhvr additive="repl">
                                        <p:cTn id="125" dur="1000"/>
                                        <p:tgtEl>
                                          <p:spTgt spid="2342"/>
                                        </p:tgtEl>
                                      </p:cBhvr>
                                    </p:animEffect>
                                  </p:childTnLst>
                                </p:cTn>
                              </p:par>
                              <p:par>
                                <p:cTn id="126" nodeType="withEffect" fill="hold" presetClass="entr" presetID="9">
                                  <p:stCondLst>
                                    <p:cond delay="0"/>
                                  </p:stCondLst>
                                  <p:childTnLst>
                                    <p:set>
                                      <p:cBhvr>
                                        <p:cTn id="127" dur="1" fill="hold">
                                          <p:stCondLst>
                                            <p:cond delay="0"/>
                                          </p:stCondLst>
                                        </p:cTn>
                                        <p:tgtEl>
                                          <p:spTgt spid="2343"/>
                                        </p:tgtEl>
                                        <p:attrNameLst>
                                          <p:attrName>style.visibility</p:attrName>
                                        </p:attrNameLst>
                                      </p:cBhvr>
                                      <p:to>
                                        <p:strVal val="visible"/>
                                      </p:to>
                                    </p:set>
                                    <p:animEffect filter="dissolve" transition="in">
                                      <p:cBhvr additive="repl">
                                        <p:cTn id="128" dur="1000"/>
                                        <p:tgtEl>
                                          <p:spTgt spid="2343"/>
                                        </p:tgtEl>
                                      </p:cBhvr>
                                    </p:animEffect>
                                  </p:childTnLst>
                                </p:cTn>
                              </p:par>
                            </p:childTnLst>
                          </p:cTn>
                        </p:par>
                        <p:par>
                          <p:cTn id="129" fill="hold">
                            <p:stCondLst>
                              <p:cond delay="2000"/>
                            </p:stCondLst>
                            <p:childTnLst>
                              <p:par>
                                <p:cTn id="130" nodeType="afterEffect" fill="hold" presetClass="entr" presetID="4" presetSubtype="16">
                                  <p:stCondLst>
                                    <p:cond delay="0"/>
                                  </p:stCondLst>
                                  <p:childTnLst>
                                    <p:set>
                                      <p:cBhvr>
                                        <p:cTn id="131" dur="1" fill="hold">
                                          <p:stCondLst>
                                            <p:cond delay="0"/>
                                          </p:stCondLst>
                                        </p:cTn>
                                        <p:tgtEl>
                                          <p:spTgt spid="2339"/>
                                        </p:tgtEl>
                                        <p:attrNameLst>
                                          <p:attrName>style.visibility</p:attrName>
                                        </p:attrNameLst>
                                      </p:cBhvr>
                                      <p:to>
                                        <p:strVal val="visible"/>
                                      </p:to>
                                    </p:set>
                                    <p:animEffect filter="box(in)" transition="in">
                                      <p:cBhvr additive="repl">
                                        <p:cTn id="132" dur="500"/>
                                        <p:tgtEl>
                                          <p:spTgt spid="2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201600" y="550440"/>
            <a:ext cx="87487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Getting to ESB – It all starts with </a:t>
            </a:r>
            <a:r>
              <a:rPr b="1" lang="en-GB" sz="2400" spc="-1" strike="noStrike">
                <a:solidFill>
                  <a:srgbClr val="7889fb"/>
                </a:solidFill>
                <a:latin typeface="Arial"/>
              </a:rPr>
              <a:t>WebSphere MQ</a:t>
            </a:r>
            <a:endParaRPr b="0" lang="en-US" sz="2400" spc="-1" strike="noStrike">
              <a:solidFill>
                <a:srgbClr val="7889fb"/>
              </a:solidFill>
              <a:latin typeface="Arial"/>
            </a:endParaRPr>
          </a:p>
        </p:txBody>
      </p:sp>
      <p:graphicFrame>
        <p:nvGraphicFramePr>
          <p:cNvPr id="2355" name=""/>
          <p:cNvGraphicFramePr/>
          <p:nvPr/>
        </p:nvGraphicFramePr>
        <p:xfrm>
          <a:off x="1185840" y="2471760"/>
          <a:ext cx="6437160" cy="3187800"/>
        </p:xfrm>
        <a:graphic>
          <a:graphicData uri="http://schemas.openxmlformats.org/presentationml/2006/ole">
            <p:oleObj progId="Excel.Sheet.12" r:id="rId1" spid="">
              <p:embed/>
              <p:pic>
                <p:nvPicPr>
                  <p:cNvPr id="2356" name="" descr=""/>
                  <p:cNvPicPr/>
                  <p:nvPr/>
                </p:nvPicPr>
                <p:blipFill>
                  <a:blip r:embed="rId2"/>
                  <a:stretch/>
                </p:blipFill>
                <p:spPr>
                  <a:xfrm>
                    <a:off x="1185840" y="2471760"/>
                    <a:ext cx="6437160" cy="3187800"/>
                  </a:xfrm>
                  <a:prstGeom prst="rect">
                    <a:avLst/>
                  </a:prstGeom>
                  <a:ln w="0">
                    <a:noFill/>
                  </a:ln>
                </p:spPr>
              </p:pic>
            </p:oleObj>
          </a:graphicData>
        </a:graphic>
      </p:graphicFrame>
      <p:sp>
        <p:nvSpPr>
          <p:cNvPr id="2357" name=""/>
          <p:cNvSpPr/>
          <p:nvPr/>
        </p:nvSpPr>
        <p:spPr>
          <a:xfrm>
            <a:off x="826920" y="1096920"/>
            <a:ext cx="8021880" cy="1465560"/>
          </a:xfrm>
          <a:prstGeom prst="rect">
            <a:avLst/>
          </a:prstGeom>
          <a:noFill/>
          <a:ln w="0">
            <a:noFill/>
          </a:ln>
        </p:spPr>
        <p:style>
          <a:lnRef idx="0"/>
          <a:fillRef idx="0"/>
          <a:effectRef idx="0"/>
          <a:fontRef idx="minor"/>
        </p:style>
        <p:txBody>
          <a:bodyPr lIns="90000" rIns="90000" tIns="46800" bIns="46800" anchor="t">
            <a:sp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anies using IBM WebSphere MQ are </a:t>
            </a:r>
            <a:r>
              <a:rPr b="1" lang="en-GB" sz="1800" spc="-1" strike="noStrike">
                <a:solidFill>
                  <a:srgbClr val="ffffff"/>
                </a:solidFill>
                <a:latin typeface="Arial"/>
              </a:rPr>
              <a:t>3 times</a:t>
            </a:r>
            <a:r>
              <a:rPr b="0" lang="en-GB" sz="1800" spc="-1" strike="noStrike">
                <a:solidFill>
                  <a:srgbClr val="ffffff"/>
                </a:solidFill>
                <a:latin typeface="Arial"/>
              </a:rPr>
              <a:t> more likely to have an SOA today than those not using any Message Oriented Middleware (MOM)</a:t>
            </a:r>
            <a:endParaRPr b="0" lang="en-US" sz="1800" spc="-1" strike="noStrike">
              <a:solidFill>
                <a:srgbClr val="ffffff"/>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anies using IBM WebSphere MQ are </a:t>
            </a:r>
            <a:r>
              <a:rPr b="1" lang="en-GB" sz="1800" spc="-1" strike="noStrike">
                <a:solidFill>
                  <a:srgbClr val="ffffff"/>
                </a:solidFill>
                <a:latin typeface="Arial"/>
              </a:rPr>
              <a:t>2 times</a:t>
            </a:r>
            <a:r>
              <a:rPr b="0" lang="en-GB" sz="1800" spc="-1" strike="noStrike">
                <a:solidFill>
                  <a:srgbClr val="ffffff"/>
                </a:solidFill>
                <a:latin typeface="Arial"/>
              </a:rPr>
              <a:t> more likely to have an SOA today than those using any others vendors JMS product</a:t>
            </a:r>
            <a:endParaRPr b="0" lang="en-US" sz="1800" spc="-1" strike="noStrike">
              <a:solidFill>
                <a:srgbClr val="ffffff"/>
              </a:solidFill>
              <a:latin typeface="Arial"/>
            </a:endParaRPr>
          </a:p>
        </p:txBody>
      </p:sp>
      <p:sp>
        <p:nvSpPr>
          <p:cNvPr id="2358" name=""/>
          <p:cNvSpPr/>
          <p:nvPr/>
        </p:nvSpPr>
        <p:spPr>
          <a:xfrm>
            <a:off x="5513400" y="5299200"/>
            <a:ext cx="363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ased on Evans Data Web Services Developer Survey, 1H05</a:t>
            </a:r>
            <a:endParaRPr b="0" lang="en-US" sz="1000" spc="-1" strike="noStrike">
              <a:solidFill>
                <a:srgbClr val="ffffff"/>
              </a:solidFill>
              <a:latin typeface="Arial"/>
            </a:endParaRPr>
          </a:p>
        </p:txBody>
      </p:sp>
      <p:sp>
        <p:nvSpPr>
          <p:cNvPr id="2359" name=""/>
          <p:cNvSpPr/>
          <p:nvPr/>
        </p:nvSpPr>
        <p:spPr>
          <a:xfrm>
            <a:off x="228600" y="5602320"/>
            <a:ext cx="87487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ea typeface="Arial"/>
              </a:rPr>
              <a:t>Widening use of WMQ increases the take-up and scope of a SOA deployment throughout an enterprise</a:t>
            </a:r>
            <a:endParaRPr b="0" lang="en-US" sz="2800" spc="-1" strike="noStrike">
              <a:solidFill>
                <a:srgbClr val="ffffff"/>
              </a:solidFill>
              <a:latin typeface="Arial"/>
            </a:endParaRPr>
          </a:p>
        </p:txBody>
      </p:sp>
      <p:sp>
        <p:nvSpPr>
          <p:cNvPr id="3" name="PlaceHolder 2"/>
          <p:cNvSpPr>
            <a:spLocks noGrp="1"/>
          </p:cNvSpPr>
          <p:nvPr>
            <p:ph type="sldNum" idx="5"/>
          </p:nvPr>
        </p:nvSpPr>
        <p:spPr/>
        <p:txBody>
          <a:bodyPr/>
          <a:p>
            <a:fld id="{0A5BDA43-8828-47BD-9888-3B5538D8D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153720" y="609120"/>
            <a:ext cx="8870760" cy="724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MQ v6  </a:t>
            </a:r>
            <a:br>
              <a:rPr sz="2800"/>
            </a:br>
            <a:r>
              <a:rPr b="0" i="1" lang="en-US" sz="1800" spc="-1" strike="noStrike">
                <a:solidFill>
                  <a:srgbClr val="0518a7"/>
                </a:solidFill>
                <a:latin typeface="Arial"/>
              </a:rPr>
              <a:t>Core transport and connectivity for your business, as part of an ESB or by itself</a:t>
            </a:r>
            <a:endParaRPr b="0" lang="en-US" sz="1800" spc="-1" strike="noStrike">
              <a:solidFill>
                <a:srgbClr val="7889fb"/>
              </a:solidFill>
              <a:latin typeface="Arial"/>
            </a:endParaRPr>
          </a:p>
        </p:txBody>
      </p:sp>
      <p:sp>
        <p:nvSpPr>
          <p:cNvPr id="2361" name=""/>
          <p:cNvSpPr/>
          <p:nvPr/>
        </p:nvSpPr>
        <p:spPr>
          <a:xfrm>
            <a:off x="100080" y="3138480"/>
            <a:ext cx="8400960" cy="1287720"/>
          </a:xfrm>
          <a:prstGeom prst="rect">
            <a:avLst/>
          </a:prstGeom>
          <a:noFill/>
          <a:ln w="0">
            <a:noFill/>
          </a:ln>
        </p:spPr>
        <p:style>
          <a:lnRef idx="0"/>
          <a:fillRef idx="0"/>
          <a:effectRef idx="0"/>
          <a:fontRef idx="minor"/>
        </p:style>
        <p:txBody>
          <a:bodyPr lIns="90000" rIns="90000" tIns="46800" bIns="46800" anchor="t">
            <a:spAutoFit/>
          </a:bodyPr>
          <a:p>
            <a:pPr marL="173160" indent="-17316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uces programming</a:t>
            </a:r>
            <a:endParaRPr b="0" lang="en-US" sz="1800" spc="-1" strike="noStrike">
              <a:solidFill>
                <a:srgbClr val="ffffff"/>
              </a:solidFill>
              <a:latin typeface="Arial"/>
            </a:endParaRPr>
          </a:p>
          <a:p>
            <a:pPr lvl="1" marL="457200" indent="-169920">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l programming associated with communications is managed for you -- not by you </a:t>
            </a:r>
            <a:endParaRPr b="0" lang="en-US" sz="1400" spc="-1" strike="noStrike">
              <a:solidFill>
                <a:srgbClr val="ffffff"/>
              </a:solidFill>
              <a:latin typeface="Arial"/>
            </a:endParaRPr>
          </a:p>
          <a:p>
            <a:pPr lvl="1" marL="457200" indent="-169920">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imple, consistent de-facto standard MQI API – </a:t>
            </a:r>
            <a:r>
              <a:rPr b="0" i="1" lang="en-US" sz="1400" spc="-1" strike="noStrike">
                <a:solidFill>
                  <a:srgbClr val="ffffff"/>
                </a:solidFill>
                <a:latin typeface="Arial"/>
                <a:ea typeface="Arial"/>
              </a:rPr>
              <a:t>the same across 80+ system configurations</a:t>
            </a:r>
            <a:r>
              <a:rPr b="0" lang="en-US" sz="1400" spc="-1" strike="noStrike">
                <a:solidFill>
                  <a:srgbClr val="ffffff"/>
                </a:solidFill>
                <a:latin typeface="Arial"/>
                <a:ea typeface="Arial"/>
              </a:rPr>
              <a:t> – plus JMS API (for Java systems), .Net (for MS systems), and Web Services (SOAP/MQ).</a:t>
            </a:r>
            <a:endParaRPr b="0" lang="en-US" sz="1400" spc="-1" strike="noStrike">
              <a:solidFill>
                <a:srgbClr val="ffffff"/>
              </a:solidFill>
              <a:latin typeface="Arial"/>
            </a:endParaRPr>
          </a:p>
          <a:p>
            <a:pPr lvl="1" marL="457200" indent="-169920">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nages full transaction co-ordination and security across multiple systems</a:t>
            </a:r>
            <a:endParaRPr b="0" lang="en-US" sz="1400" spc="-1" strike="noStrike">
              <a:solidFill>
                <a:srgbClr val="ffffff"/>
              </a:solidFill>
              <a:latin typeface="Arial"/>
            </a:endParaRPr>
          </a:p>
        </p:txBody>
      </p:sp>
      <p:sp>
        <p:nvSpPr>
          <p:cNvPr id="2362" name=""/>
          <p:cNvSpPr/>
          <p:nvPr/>
        </p:nvSpPr>
        <p:spPr>
          <a:xfrm>
            <a:off x="3265560" y="5818320"/>
            <a:ext cx="5835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Arial"/>
              </a:rPr>
              <a:t>WebSphere MQ is platform independent</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Arial"/>
              </a:rPr>
              <a:t>– </a:t>
            </a:r>
            <a:r>
              <a:rPr b="0" i="1" lang="en-US" sz="1800" spc="-1" strike="noStrike">
                <a:solidFill>
                  <a:srgbClr val="808080"/>
                </a:solidFill>
                <a:latin typeface="Arial"/>
                <a:ea typeface="Arial"/>
              </a:rPr>
              <a:t>for  connecting all types of  environments</a:t>
            </a:r>
            <a:endParaRPr b="0" lang="en-US" sz="1800" spc="-1" strike="noStrike">
              <a:solidFill>
                <a:srgbClr val="ffffff"/>
              </a:solidFill>
              <a:latin typeface="Arial"/>
            </a:endParaRPr>
          </a:p>
        </p:txBody>
      </p:sp>
      <p:sp>
        <p:nvSpPr>
          <p:cNvPr id="2363" name=""/>
          <p:cNvSpPr/>
          <p:nvPr/>
        </p:nvSpPr>
        <p:spPr>
          <a:xfrm>
            <a:off x="100080" y="2236680"/>
            <a:ext cx="8345520" cy="894960"/>
          </a:xfrm>
          <a:prstGeom prst="rect">
            <a:avLst/>
          </a:prstGeom>
          <a:noFill/>
          <a:ln w="0">
            <a:noFill/>
          </a:ln>
        </p:spPr>
        <p:style>
          <a:lnRef idx="0"/>
          <a:fillRef idx="0"/>
          <a:effectRef idx="0"/>
          <a:fontRef idx="minor"/>
        </p:style>
        <p:txBody>
          <a:bodyPr lIns="90000" rIns="90000" tIns="46800" bIns="46800" anchor="t">
            <a:spAutoFit/>
          </a:bodyPr>
          <a:p>
            <a:pPr marL="173160" indent="-17316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ures communications</a:t>
            </a:r>
            <a:endParaRPr b="0" lang="en-US" sz="1800" spc="-1" strike="noStrike">
              <a:solidFill>
                <a:srgbClr val="ffffff"/>
              </a:solidFill>
              <a:latin typeface="Arial"/>
            </a:endParaRPr>
          </a:p>
          <a:p>
            <a:pPr lvl="1" marL="457200" indent="-169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ssages are stored in queues until the target application is available </a:t>
            </a:r>
            <a:endParaRPr b="0" lang="en-US" sz="1400" spc="-1" strike="noStrike">
              <a:solidFill>
                <a:srgbClr val="ffffff"/>
              </a:solidFill>
              <a:latin typeface="Arial"/>
            </a:endParaRPr>
          </a:p>
          <a:p>
            <a:pPr lvl="1" marL="457200" indent="-169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a network failure occurs, messages are stored and recovered – no risk of loss or duplicates</a:t>
            </a:r>
            <a:endParaRPr b="0" lang="en-US" sz="1400" spc="-1" strike="noStrike">
              <a:solidFill>
                <a:srgbClr val="ffffff"/>
              </a:solidFill>
              <a:latin typeface="Arial"/>
            </a:endParaRPr>
          </a:p>
        </p:txBody>
      </p:sp>
      <p:sp>
        <p:nvSpPr>
          <p:cNvPr id="2364" name=""/>
          <p:cNvSpPr/>
          <p:nvPr/>
        </p:nvSpPr>
        <p:spPr>
          <a:xfrm>
            <a:off x="100080" y="1384200"/>
            <a:ext cx="8569080" cy="894960"/>
          </a:xfrm>
          <a:prstGeom prst="rect">
            <a:avLst/>
          </a:prstGeom>
          <a:noFill/>
          <a:ln w="0">
            <a:noFill/>
          </a:ln>
        </p:spPr>
        <p:style>
          <a:lnRef idx="0"/>
          <a:fillRef idx="0"/>
          <a:effectRef idx="0"/>
          <a:fontRef idx="minor"/>
        </p:style>
        <p:txBody>
          <a:bodyPr lIns="90000" rIns="90000" tIns="46800" bIns="46800" anchor="t">
            <a:spAutoFit/>
          </a:bodyPr>
          <a:p>
            <a:pPr marL="173160" indent="-17316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kes application change more flexible </a:t>
            </a:r>
            <a:endParaRPr b="0" lang="en-US" sz="1800" spc="-1" strike="noStrike">
              <a:solidFill>
                <a:srgbClr val="ffffff"/>
              </a:solidFill>
              <a:latin typeface="Arial"/>
            </a:endParaRPr>
          </a:p>
          <a:p>
            <a:pPr lvl="1" marL="457200" indent="-169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pplications connect to queues, not to other applications</a:t>
            </a:r>
            <a:endParaRPr b="0" lang="en-US" sz="1400" spc="-1" strike="noStrike">
              <a:solidFill>
                <a:srgbClr val="ffffff"/>
              </a:solidFill>
              <a:latin typeface="Arial"/>
            </a:endParaRPr>
          </a:p>
          <a:p>
            <a:pPr lvl="1" marL="457200" indent="-169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anges to one application don’t affect others.</a:t>
            </a:r>
            <a:endParaRPr b="0" lang="en-US" sz="1400" spc="-1" strike="noStrike">
              <a:solidFill>
                <a:srgbClr val="ffffff"/>
              </a:solidFill>
              <a:latin typeface="Arial"/>
            </a:endParaRPr>
          </a:p>
        </p:txBody>
      </p:sp>
      <p:grpSp>
        <p:nvGrpSpPr>
          <p:cNvPr id="2365" name=""/>
          <p:cNvGrpSpPr/>
          <p:nvPr/>
        </p:nvGrpSpPr>
        <p:grpSpPr>
          <a:xfrm>
            <a:off x="536400" y="4519440"/>
            <a:ext cx="7918560" cy="1290960"/>
            <a:chOff x="536400" y="4519440"/>
            <a:chExt cx="7918560" cy="1290960"/>
          </a:xfrm>
        </p:grpSpPr>
        <p:grpSp>
          <p:nvGrpSpPr>
            <p:cNvPr id="2366" name=""/>
            <p:cNvGrpSpPr/>
            <p:nvPr/>
          </p:nvGrpSpPr>
          <p:grpSpPr>
            <a:xfrm>
              <a:off x="7151760" y="4944960"/>
              <a:ext cx="1303200" cy="439560"/>
              <a:chOff x="7151760" y="4944960"/>
              <a:chExt cx="1303200" cy="439560"/>
            </a:xfrm>
          </p:grpSpPr>
          <p:sp>
            <p:nvSpPr>
              <p:cNvPr id="2367" name=""/>
              <p:cNvSpPr/>
              <p:nvPr/>
            </p:nvSpPr>
            <p:spPr>
              <a:xfrm>
                <a:off x="7151760" y="4998240"/>
                <a:ext cx="1303200" cy="386280"/>
              </a:xfrm>
              <a:custGeom>
                <a:avLst/>
                <a:gdLst/>
                <a:ahLst/>
                <a:rect l="l" t="t" r="r" b="b"/>
                <a:pathLst>
                  <a:path w="990" h="299">
                    <a:moveTo>
                      <a:pt x="0" y="299"/>
                    </a:moveTo>
                    <a:lnTo>
                      <a:pt x="628" y="299"/>
                    </a:lnTo>
                    <a:lnTo>
                      <a:pt x="990" y="0"/>
                    </a:lnTo>
                    <a:lnTo>
                      <a:pt x="356"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8" name=""/>
              <p:cNvSpPr/>
              <p:nvPr/>
            </p:nvSpPr>
            <p:spPr>
              <a:xfrm>
                <a:off x="7151760" y="4944960"/>
                <a:ext cx="1303200" cy="385200"/>
              </a:xfrm>
              <a:custGeom>
                <a:avLst/>
                <a:gdLst/>
                <a:ahLst/>
                <a:rect l="l" t="t" r="r" b="b"/>
                <a:pathLst>
                  <a:path w="990" h="299">
                    <a:moveTo>
                      <a:pt x="0" y="299"/>
                    </a:moveTo>
                    <a:lnTo>
                      <a:pt x="628" y="299"/>
                    </a:lnTo>
                    <a:lnTo>
                      <a:pt x="990" y="0"/>
                    </a:lnTo>
                    <a:lnTo>
                      <a:pt x="356" y="0"/>
                    </a:lnTo>
                    <a:close/>
                  </a:path>
                </a:pathLst>
              </a:custGeom>
              <a:gradFill rotWithShape="0">
                <a:gsLst>
                  <a:gs pos="0">
                    <a:srgbClr val="66ccff"/>
                  </a:gs>
                  <a:gs pos="50000">
                    <a:srgbClr val="6666ff"/>
                  </a:gs>
                  <a:gs pos="100000">
                    <a:srgbClr val="66ccff"/>
                  </a:gs>
                </a:gsLst>
                <a:lin ang="135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9" name=""/>
              <p:cNvSpPr/>
              <p:nvPr/>
            </p:nvSpPr>
            <p:spPr>
              <a:xfrm>
                <a:off x="7712280" y="4977360"/>
                <a:ext cx="280080" cy="320400"/>
              </a:xfrm>
              <a:prstGeom prst="rect">
                <a:avLst/>
              </a:prstGeom>
              <a:noFill/>
              <a:ln w="0">
                <a:noFill/>
              </a:ln>
            </p:spPr>
            <p:style>
              <a:lnRef idx="0"/>
              <a:fillRef idx="0"/>
              <a:effectRef idx="0"/>
              <a:fontRef idx="minor"/>
            </p:style>
            <p:txBody>
              <a:bodyPr lIns="0" rIns="0" tIns="0" bIns="0" anchor="t">
                <a:spAutoFit/>
              </a:bodyPr>
              <a:p>
                <a:pPr>
                  <a:lnSpc>
                    <a:spcPct val="100000"/>
                  </a:lnSpc>
                  <a:spcAft>
                    <a:spcPts val="1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ea typeface="Arial"/>
                  </a:rPr>
                  <a:t>B</a:t>
                </a:r>
                <a:endParaRPr b="0" lang="en-US" sz="2100" spc="-1" strike="noStrike">
                  <a:solidFill>
                    <a:srgbClr val="ffffff"/>
                  </a:solidFill>
                  <a:latin typeface="Arial"/>
                </a:endParaRPr>
              </a:p>
            </p:txBody>
          </p:sp>
        </p:grpSp>
        <p:grpSp>
          <p:nvGrpSpPr>
            <p:cNvPr id="2370" name=""/>
            <p:cNvGrpSpPr/>
            <p:nvPr/>
          </p:nvGrpSpPr>
          <p:grpSpPr>
            <a:xfrm>
              <a:off x="536400" y="4944960"/>
              <a:ext cx="1303560" cy="439560"/>
              <a:chOff x="536400" y="4944960"/>
              <a:chExt cx="1303560" cy="439560"/>
            </a:xfrm>
          </p:grpSpPr>
          <p:sp>
            <p:nvSpPr>
              <p:cNvPr id="2371" name=""/>
              <p:cNvSpPr/>
              <p:nvPr/>
            </p:nvSpPr>
            <p:spPr>
              <a:xfrm>
                <a:off x="536400" y="4997880"/>
                <a:ext cx="1303560" cy="386640"/>
              </a:xfrm>
              <a:custGeom>
                <a:avLst/>
                <a:gdLst/>
                <a:ahLst/>
                <a:rect l="l" t="t" r="r" b="b"/>
                <a:pathLst>
                  <a:path w="992" h="300">
                    <a:moveTo>
                      <a:pt x="0" y="300"/>
                    </a:moveTo>
                    <a:lnTo>
                      <a:pt x="628" y="300"/>
                    </a:lnTo>
                    <a:lnTo>
                      <a:pt x="992" y="0"/>
                    </a:lnTo>
                    <a:lnTo>
                      <a:pt x="361"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2" name=""/>
              <p:cNvSpPr/>
              <p:nvPr/>
            </p:nvSpPr>
            <p:spPr>
              <a:xfrm>
                <a:off x="536400" y="4944960"/>
                <a:ext cx="1303560" cy="387720"/>
              </a:xfrm>
              <a:custGeom>
                <a:avLst/>
                <a:gdLst/>
                <a:ahLst/>
                <a:rect l="l" t="t" r="r" b="b"/>
                <a:pathLst>
                  <a:path w="992" h="301">
                    <a:moveTo>
                      <a:pt x="0" y="301"/>
                    </a:moveTo>
                    <a:lnTo>
                      <a:pt x="628" y="301"/>
                    </a:lnTo>
                    <a:lnTo>
                      <a:pt x="992" y="0"/>
                    </a:lnTo>
                    <a:lnTo>
                      <a:pt x="361" y="0"/>
                    </a:lnTo>
                    <a:close/>
                  </a:path>
                </a:pathLst>
              </a:custGeom>
              <a:gradFill rotWithShape="0">
                <a:gsLst>
                  <a:gs pos="0">
                    <a:srgbClr val="66ccff"/>
                  </a:gs>
                  <a:gs pos="50000">
                    <a:srgbClr val="6666ff"/>
                  </a:gs>
                  <a:gs pos="100000">
                    <a:srgbClr val="66ccff"/>
                  </a:gs>
                </a:gsLst>
                <a:lin ang="135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3" name=""/>
              <p:cNvSpPr/>
              <p:nvPr/>
            </p:nvSpPr>
            <p:spPr>
              <a:xfrm>
                <a:off x="1084320" y="4974120"/>
                <a:ext cx="282600" cy="320400"/>
              </a:xfrm>
              <a:prstGeom prst="rect">
                <a:avLst/>
              </a:prstGeom>
              <a:noFill/>
              <a:ln w="0">
                <a:noFill/>
              </a:ln>
            </p:spPr>
            <p:style>
              <a:lnRef idx="0"/>
              <a:fillRef idx="0"/>
              <a:effectRef idx="0"/>
              <a:fontRef idx="minor"/>
            </p:style>
            <p:txBody>
              <a:bodyPr lIns="0" rIns="0" tIns="0" bIns="0" anchor="t">
                <a:spAutoFit/>
              </a:bodyPr>
              <a:p>
                <a:pPr>
                  <a:lnSpc>
                    <a:spcPct val="100000"/>
                  </a:lnSpc>
                  <a:spcAft>
                    <a:spcPts val="1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ea typeface="Arial"/>
                  </a:rPr>
                  <a:t>A</a:t>
                </a:r>
                <a:endParaRPr b="0" lang="en-US" sz="2100" spc="-1" strike="noStrike">
                  <a:solidFill>
                    <a:srgbClr val="ffffff"/>
                  </a:solidFill>
                  <a:latin typeface="Arial"/>
                </a:endParaRPr>
              </a:p>
            </p:txBody>
          </p:sp>
        </p:grpSp>
        <p:grpSp>
          <p:nvGrpSpPr>
            <p:cNvPr id="2374" name=""/>
            <p:cNvGrpSpPr/>
            <p:nvPr/>
          </p:nvGrpSpPr>
          <p:grpSpPr>
            <a:xfrm>
              <a:off x="1984320" y="4525920"/>
              <a:ext cx="2274840" cy="1279440"/>
              <a:chOff x="1984320" y="4525920"/>
              <a:chExt cx="2274840" cy="1279440"/>
            </a:xfrm>
          </p:grpSpPr>
          <p:sp>
            <p:nvSpPr>
              <p:cNvPr id="2375" name=""/>
              <p:cNvSpPr/>
              <p:nvPr/>
            </p:nvSpPr>
            <p:spPr>
              <a:xfrm>
                <a:off x="1984320" y="4525920"/>
                <a:ext cx="2274840" cy="127944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376" name=""/>
              <p:cNvGrpSpPr/>
              <p:nvPr/>
            </p:nvGrpSpPr>
            <p:grpSpPr>
              <a:xfrm>
                <a:off x="2716200" y="4660920"/>
                <a:ext cx="771480" cy="364680"/>
                <a:chOff x="2716200" y="4660920"/>
                <a:chExt cx="771480" cy="364680"/>
              </a:xfrm>
            </p:grpSpPr>
            <p:sp>
              <p:nvSpPr>
                <p:cNvPr id="2377" name=""/>
                <p:cNvSpPr/>
                <p:nvPr/>
              </p:nvSpPr>
              <p:spPr>
                <a:xfrm>
                  <a:off x="2716200" y="4662000"/>
                  <a:ext cx="771480" cy="243720"/>
                </a:xfrm>
                <a:custGeom>
                  <a:avLst/>
                  <a:gdLst/>
                  <a:ahLst/>
                  <a:rect l="l" t="t" r="r" b="b"/>
                  <a:pathLst>
                    <a:path w="1575" h="732">
                      <a:moveTo>
                        <a:pt x="1137" y="0"/>
                      </a:moveTo>
                      <a:lnTo>
                        <a:pt x="1575" y="219"/>
                      </a:lnTo>
                      <a:lnTo>
                        <a:pt x="458" y="732"/>
                      </a:lnTo>
                      <a:lnTo>
                        <a:pt x="0" y="435"/>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close/>
                    </a:path>
                  </a:pathLst>
                </a:custGeom>
                <a:solidFill>
                  <a:srgbClr val="ffff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8" name=""/>
                <p:cNvSpPr/>
                <p:nvPr/>
              </p:nvSpPr>
              <p:spPr>
                <a:xfrm>
                  <a:off x="2875320" y="4662000"/>
                  <a:ext cx="593640" cy="243720"/>
                </a:xfrm>
                <a:custGeom>
                  <a:avLst/>
                  <a:gdLst/>
                  <a:ahLst/>
                  <a:rect l="l" t="t" r="r" b="b"/>
                  <a:pathLst>
                    <a:path w="1211" h="732">
                      <a:moveTo>
                        <a:pt x="811" y="291"/>
                      </a:moveTo>
                      <a:lnTo>
                        <a:pt x="0" y="653"/>
                      </a:lnTo>
                      <a:lnTo>
                        <a:pt x="125" y="732"/>
                      </a:lnTo>
                      <a:lnTo>
                        <a:pt x="1211" y="233"/>
                      </a:lnTo>
                      <a:lnTo>
                        <a:pt x="811" y="0"/>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close/>
                    </a:path>
                  </a:pathLst>
                </a:custGeom>
                <a:solidFill>
                  <a:srgbClr val="7fa25f"/>
                </a:solidFill>
                <a:ln w="1584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9" name=""/>
                <p:cNvSpPr/>
                <p:nvPr/>
              </p:nvSpPr>
              <p:spPr>
                <a:xfrm>
                  <a:off x="2716200" y="4662000"/>
                  <a:ext cx="558000" cy="266760"/>
                </a:xfrm>
                <a:custGeom>
                  <a:avLst/>
                  <a:gdLst/>
                  <a:ahLst/>
                  <a:rect l="l" t="t" r="r" b="b"/>
                  <a:pathLst>
                    <a:path w="1137" h="799">
                      <a:moveTo>
                        <a:pt x="1137" y="291"/>
                      </a:moveTo>
                      <a:lnTo>
                        <a:pt x="1137" y="0"/>
                      </a:lnTo>
                      <a:lnTo>
                        <a:pt x="3" y="432"/>
                      </a:lnTo>
                      <a:lnTo>
                        <a:pt x="0" y="794"/>
                      </a:lnTo>
                      <a:lnTo>
                        <a:pt x="3" y="799"/>
                      </a:lnTo>
                      <a:lnTo>
                        <a:pt x="3" y="799"/>
                      </a:lnTo>
                      <a:lnTo>
                        <a:pt x="1137" y="291"/>
                      </a:lnTo>
                      <a:lnTo>
                        <a:pt x="3" y="799"/>
                      </a:lnTo>
                      <a:lnTo>
                        <a:pt x="1137" y="291"/>
                      </a:lnTo>
                      <a:lnTo>
                        <a:pt x="3" y="799"/>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0" name=""/>
                <p:cNvSpPr/>
                <p:nvPr/>
              </p:nvSpPr>
              <p:spPr>
                <a:xfrm>
                  <a:off x="3274200" y="4660920"/>
                  <a:ext cx="212040" cy="122040"/>
                </a:xfrm>
                <a:custGeom>
                  <a:avLst/>
                  <a:gdLst/>
                  <a:ahLst/>
                  <a:rect l="l" t="t" r="r" b="b"/>
                  <a:pathLst>
                    <a:path w="435" h="365">
                      <a:moveTo>
                        <a:pt x="107" y="365"/>
                      </a:moveTo>
                      <a:lnTo>
                        <a:pt x="435" y="221"/>
                      </a:lnTo>
                      <a:lnTo>
                        <a:pt x="0" y="0"/>
                      </a:lnTo>
                      <a:lnTo>
                        <a:pt x="0" y="293"/>
                      </a:lnTo>
                      <a:lnTo>
                        <a:pt x="0" y="293"/>
                      </a:lnTo>
                      <a:lnTo>
                        <a:pt x="107" y="365"/>
                      </a:lnTo>
                      <a:lnTo>
                        <a:pt x="0" y="293"/>
                      </a:lnTo>
                      <a:lnTo>
                        <a:pt x="107" y="365"/>
                      </a:lnTo>
                      <a:lnTo>
                        <a:pt x="0" y="293"/>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1" name=""/>
                <p:cNvSpPr/>
                <p:nvPr/>
              </p:nvSpPr>
              <p:spPr>
                <a:xfrm>
                  <a:off x="2967480" y="4700880"/>
                  <a:ext cx="222840" cy="189360"/>
                </a:xfrm>
                <a:custGeom>
                  <a:avLst/>
                  <a:gdLst/>
                  <a:ahLst/>
                  <a:rect l="l" t="t" r="r" b="b"/>
                  <a:pathLst>
                    <a:path w="455" h="564">
                      <a:moveTo>
                        <a:pt x="455" y="564"/>
                      </a:moveTo>
                      <a:lnTo>
                        <a:pt x="455" y="274"/>
                      </a:lnTo>
                      <a:lnTo>
                        <a:pt x="0" y="0"/>
                      </a:lnTo>
                      <a:lnTo>
                        <a:pt x="0" y="362"/>
                      </a:lnTo>
                      <a:lnTo>
                        <a:pt x="0" y="362"/>
                      </a:lnTo>
                      <a:lnTo>
                        <a:pt x="455" y="564"/>
                      </a:lnTo>
                      <a:lnTo>
                        <a:pt x="0" y="362"/>
                      </a:lnTo>
                      <a:lnTo>
                        <a:pt x="455" y="564"/>
                      </a:lnTo>
                      <a:lnTo>
                        <a:pt x="0" y="362"/>
                      </a:lnTo>
                      <a:lnTo>
                        <a:pt x="455" y="564"/>
                      </a:lnTo>
                      <a:lnTo>
                        <a:pt x="0" y="362"/>
                      </a:lnTo>
                      <a:lnTo>
                        <a:pt x="455" y="564"/>
                      </a:lnTo>
                      <a:lnTo>
                        <a:pt x="0" y="362"/>
                      </a:lnTo>
                      <a:close/>
                    </a:path>
                  </a:pathLst>
                </a:custGeom>
                <a:solidFill>
                  <a:srgbClr val="4c4cd2"/>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2" name=""/>
                <p:cNvSpPr/>
                <p:nvPr/>
              </p:nvSpPr>
              <p:spPr>
                <a:xfrm>
                  <a:off x="2893680" y="4715640"/>
                  <a:ext cx="223200" cy="187920"/>
                </a:xfrm>
                <a:custGeom>
                  <a:avLst/>
                  <a:gdLst/>
                  <a:ahLst/>
                  <a:rect l="l" t="t" r="r" b="b"/>
                  <a:pathLst>
                    <a:path w="455" h="565">
                      <a:moveTo>
                        <a:pt x="455" y="565"/>
                      </a:moveTo>
                      <a:lnTo>
                        <a:pt x="455" y="276"/>
                      </a:lnTo>
                      <a:lnTo>
                        <a:pt x="0" y="0"/>
                      </a:lnTo>
                      <a:lnTo>
                        <a:pt x="0" y="364"/>
                      </a:lnTo>
                      <a:lnTo>
                        <a:pt x="0" y="364"/>
                      </a:lnTo>
                      <a:lnTo>
                        <a:pt x="455" y="565"/>
                      </a:lnTo>
                      <a:lnTo>
                        <a:pt x="0" y="364"/>
                      </a:lnTo>
                      <a:lnTo>
                        <a:pt x="455" y="565"/>
                      </a:lnTo>
                      <a:lnTo>
                        <a:pt x="0" y="364"/>
                      </a:lnTo>
                      <a:lnTo>
                        <a:pt x="455" y="565"/>
                      </a:lnTo>
                      <a:lnTo>
                        <a:pt x="0" y="364"/>
                      </a:lnTo>
                      <a:lnTo>
                        <a:pt x="455" y="565"/>
                      </a:lnTo>
                      <a:lnTo>
                        <a:pt x="0" y="364"/>
                      </a:lnTo>
                      <a:close/>
                    </a:path>
                  </a:pathLst>
                </a:custGeom>
                <a:solidFill>
                  <a:srgbClr val="969696"/>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3" name=""/>
                <p:cNvSpPr/>
                <p:nvPr/>
              </p:nvSpPr>
              <p:spPr>
                <a:xfrm>
                  <a:off x="2848320" y="4736160"/>
                  <a:ext cx="222840" cy="189360"/>
                </a:xfrm>
                <a:custGeom>
                  <a:avLst/>
                  <a:gdLst/>
                  <a:ahLst/>
                  <a:rect l="l" t="t" r="r" b="b"/>
                  <a:pathLst>
                    <a:path w="456" h="565">
                      <a:moveTo>
                        <a:pt x="456" y="565"/>
                      </a:moveTo>
                      <a:lnTo>
                        <a:pt x="456" y="274"/>
                      </a:lnTo>
                      <a:lnTo>
                        <a:pt x="0" y="0"/>
                      </a:lnTo>
                      <a:lnTo>
                        <a:pt x="0" y="363"/>
                      </a:lnTo>
                      <a:lnTo>
                        <a:pt x="0" y="363"/>
                      </a:lnTo>
                      <a:lnTo>
                        <a:pt x="456" y="565"/>
                      </a:lnTo>
                      <a:lnTo>
                        <a:pt x="0" y="363"/>
                      </a:lnTo>
                      <a:lnTo>
                        <a:pt x="456" y="565"/>
                      </a:lnTo>
                      <a:lnTo>
                        <a:pt x="0" y="363"/>
                      </a:lnTo>
                      <a:lnTo>
                        <a:pt x="456" y="565"/>
                      </a:lnTo>
                      <a:lnTo>
                        <a:pt x="0" y="363"/>
                      </a:lnTo>
                      <a:lnTo>
                        <a:pt x="456" y="565"/>
                      </a:lnTo>
                      <a:lnTo>
                        <a:pt x="0" y="363"/>
                      </a:lnTo>
                      <a:close/>
                    </a:path>
                  </a:pathLst>
                </a:custGeom>
                <a:solidFill>
                  <a:srgbClr val="000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4" name=""/>
                <p:cNvSpPr/>
                <p:nvPr/>
              </p:nvSpPr>
              <p:spPr>
                <a:xfrm>
                  <a:off x="2791800" y="4750920"/>
                  <a:ext cx="218160" cy="193680"/>
                </a:xfrm>
                <a:custGeom>
                  <a:avLst/>
                  <a:gdLst/>
                  <a:ahLst/>
                  <a:rect l="l" t="t" r="r" b="b"/>
                  <a:pathLst>
                    <a:path w="445" h="577">
                      <a:moveTo>
                        <a:pt x="442" y="577"/>
                      </a:moveTo>
                      <a:lnTo>
                        <a:pt x="445" y="272"/>
                      </a:lnTo>
                      <a:lnTo>
                        <a:pt x="3" y="0"/>
                      </a:lnTo>
                      <a:lnTo>
                        <a:pt x="0" y="34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close/>
                    </a:path>
                  </a:pathLst>
                </a:custGeom>
                <a:solidFill>
                  <a:srgbClr val="ffff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5" name=""/>
                <p:cNvSpPr/>
                <p:nvPr/>
              </p:nvSpPr>
              <p:spPr>
                <a:xfrm>
                  <a:off x="2724480" y="4773960"/>
                  <a:ext cx="220320" cy="206280"/>
                </a:xfrm>
                <a:custGeom>
                  <a:avLst/>
                  <a:gdLst/>
                  <a:ahLst/>
                  <a:rect l="l" t="t" r="r" b="b"/>
                  <a:pathLst>
                    <a:path w="452" h="617">
                      <a:moveTo>
                        <a:pt x="452" y="617"/>
                      </a:moveTo>
                      <a:lnTo>
                        <a:pt x="452" y="284"/>
                      </a:lnTo>
                      <a:lnTo>
                        <a:pt x="0" y="0"/>
                      </a:lnTo>
                      <a:lnTo>
                        <a:pt x="2" y="386"/>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close/>
                    </a:path>
                  </a:pathLst>
                </a:custGeom>
                <a:solidFill>
                  <a:srgbClr val="0000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6" name=""/>
                <p:cNvSpPr/>
                <p:nvPr/>
              </p:nvSpPr>
              <p:spPr>
                <a:xfrm>
                  <a:off x="2718360" y="4810320"/>
                  <a:ext cx="222120" cy="215280"/>
                </a:xfrm>
                <a:custGeom>
                  <a:avLst/>
                  <a:gdLst/>
                  <a:ahLst/>
                  <a:rect l="l" t="t" r="r" b="b"/>
                  <a:pathLst>
                    <a:path w="455" h="644">
                      <a:moveTo>
                        <a:pt x="0" y="350"/>
                      </a:moveTo>
                      <a:lnTo>
                        <a:pt x="455" y="644"/>
                      </a:lnTo>
                      <a:lnTo>
                        <a:pt x="455" y="288"/>
                      </a:lnTo>
                      <a:lnTo>
                        <a:pt x="0" y="0"/>
                      </a:lnTo>
                      <a:lnTo>
                        <a:pt x="0" y="89"/>
                      </a:lnTo>
                      <a:lnTo>
                        <a:pt x="0" y="52"/>
                      </a:lnTo>
                      <a:lnTo>
                        <a:pt x="0" y="52"/>
                      </a:lnTo>
                      <a:lnTo>
                        <a:pt x="0" y="350"/>
                      </a:lnTo>
                      <a:lnTo>
                        <a:pt x="0" y="52"/>
                      </a:lnTo>
                      <a:lnTo>
                        <a:pt x="0" y="350"/>
                      </a:lnTo>
                      <a:lnTo>
                        <a:pt x="0" y="52"/>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7" name=""/>
                <p:cNvSpPr/>
                <p:nvPr/>
              </p:nvSpPr>
              <p:spPr>
                <a:xfrm>
                  <a:off x="2936520" y="4735080"/>
                  <a:ext cx="550800" cy="288720"/>
                </a:xfrm>
                <a:custGeom>
                  <a:avLst/>
                  <a:gdLst/>
                  <a:ahLst/>
                  <a:rect l="l" t="t" r="r" b="b"/>
                  <a:pathLst>
                    <a:path w="1124" h="862">
                      <a:moveTo>
                        <a:pt x="0" y="862"/>
                      </a:moveTo>
                      <a:lnTo>
                        <a:pt x="0" y="515"/>
                      </a:lnTo>
                      <a:lnTo>
                        <a:pt x="1124" y="0"/>
                      </a:lnTo>
                      <a:lnTo>
                        <a:pt x="1124" y="330"/>
                      </a:lnTo>
                      <a:lnTo>
                        <a:pt x="1124" y="330"/>
                      </a:lnTo>
                      <a:lnTo>
                        <a:pt x="0" y="862"/>
                      </a:lnTo>
                      <a:lnTo>
                        <a:pt x="1124" y="330"/>
                      </a:lnTo>
                      <a:lnTo>
                        <a:pt x="0" y="862"/>
                      </a:lnTo>
                      <a:lnTo>
                        <a:pt x="1124" y="330"/>
                      </a:lnTo>
                      <a:lnTo>
                        <a:pt x="0" y="862"/>
                      </a:lnTo>
                      <a:lnTo>
                        <a:pt x="1124" y="330"/>
                      </a:lnTo>
                      <a:lnTo>
                        <a:pt x="0" y="862"/>
                      </a:lnTo>
                      <a:lnTo>
                        <a:pt x="1124" y="330"/>
                      </a:lnTo>
                      <a:lnTo>
                        <a:pt x="0" y="862"/>
                      </a:lnTo>
                      <a:lnTo>
                        <a:pt x="1124" y="330"/>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388" name=""/>
              <p:cNvGrpSpPr/>
              <p:nvPr/>
            </p:nvGrpSpPr>
            <p:grpSpPr>
              <a:xfrm>
                <a:off x="2698560" y="5189400"/>
                <a:ext cx="758880" cy="355320"/>
                <a:chOff x="2698560" y="5189400"/>
                <a:chExt cx="758880" cy="355320"/>
              </a:xfrm>
            </p:grpSpPr>
            <p:sp>
              <p:nvSpPr>
                <p:cNvPr id="2389" name=""/>
                <p:cNvSpPr/>
                <p:nvPr/>
              </p:nvSpPr>
              <p:spPr>
                <a:xfrm>
                  <a:off x="2698560" y="5205600"/>
                  <a:ext cx="758880" cy="227160"/>
                </a:xfrm>
                <a:custGeom>
                  <a:avLst/>
                  <a:gdLst/>
                  <a:ahLst/>
                  <a:rect l="l" t="t" r="r" b="b"/>
                  <a:pathLst>
                    <a:path w="617" h="174">
                      <a:moveTo>
                        <a:pt x="443" y="0"/>
                      </a:moveTo>
                      <a:lnTo>
                        <a:pt x="617" y="51"/>
                      </a:lnTo>
                      <a:lnTo>
                        <a:pt x="179" y="174"/>
                      </a:lnTo>
                      <a:lnTo>
                        <a:pt x="0" y="105"/>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0" name=""/>
                <p:cNvSpPr/>
                <p:nvPr/>
              </p:nvSpPr>
              <p:spPr>
                <a:xfrm>
                  <a:off x="2698560" y="5205600"/>
                  <a:ext cx="545040" cy="249120"/>
                </a:xfrm>
                <a:custGeom>
                  <a:avLst/>
                  <a:gdLst/>
                  <a:ahLst/>
                  <a:rect l="l" t="t" r="r" b="b"/>
                  <a:pathLst>
                    <a:path w="443" h="191">
                      <a:moveTo>
                        <a:pt x="443" y="70"/>
                      </a:moveTo>
                      <a:lnTo>
                        <a:pt x="443" y="0"/>
                      </a:lnTo>
                      <a:lnTo>
                        <a:pt x="1" y="104"/>
                      </a:lnTo>
                      <a:lnTo>
                        <a:pt x="0" y="188"/>
                      </a:lnTo>
                      <a:lnTo>
                        <a:pt x="1" y="191"/>
                      </a:lnTo>
                      <a:lnTo>
                        <a:pt x="1" y="191"/>
                      </a:lnTo>
                      <a:lnTo>
                        <a:pt x="443" y="70"/>
                      </a:lnTo>
                      <a:lnTo>
                        <a:pt x="1" y="191"/>
                      </a:lnTo>
                      <a:close/>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1" name=""/>
                <p:cNvSpPr/>
                <p:nvPr/>
              </p:nvSpPr>
              <p:spPr>
                <a:xfrm>
                  <a:off x="2699640" y="5342760"/>
                  <a:ext cx="219240" cy="201960"/>
                </a:xfrm>
                <a:custGeom>
                  <a:avLst/>
                  <a:gdLst/>
                  <a:ahLst/>
                  <a:rect l="l" t="t" r="r" b="b"/>
                  <a:pathLst>
                    <a:path w="178" h="155">
                      <a:moveTo>
                        <a:pt x="0" y="83"/>
                      </a:moveTo>
                      <a:lnTo>
                        <a:pt x="178" y="155"/>
                      </a:lnTo>
                      <a:lnTo>
                        <a:pt x="178" y="69"/>
                      </a:lnTo>
                      <a:lnTo>
                        <a:pt x="0" y="0"/>
                      </a:lnTo>
                      <a:lnTo>
                        <a:pt x="0" y="22"/>
                      </a:lnTo>
                      <a:lnTo>
                        <a:pt x="0" y="12"/>
                      </a:lnTo>
                      <a:lnTo>
                        <a:pt x="0" y="12"/>
                      </a:lnTo>
                      <a:lnTo>
                        <a:pt x="0" y="83"/>
                      </a:lnTo>
                      <a:lnTo>
                        <a:pt x="0" y="12"/>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2" name=""/>
                <p:cNvSpPr/>
                <p:nvPr/>
              </p:nvSpPr>
              <p:spPr>
                <a:xfrm>
                  <a:off x="2855520" y="5205600"/>
                  <a:ext cx="601560" cy="227160"/>
                </a:xfrm>
                <a:custGeom>
                  <a:avLst/>
                  <a:gdLst/>
                  <a:ahLst/>
                  <a:rect l="l" t="t" r="r" b="b"/>
                  <a:pathLst>
                    <a:path w="489" h="174">
                      <a:moveTo>
                        <a:pt x="315" y="70"/>
                      </a:moveTo>
                      <a:lnTo>
                        <a:pt x="0" y="155"/>
                      </a:lnTo>
                      <a:lnTo>
                        <a:pt x="50" y="174"/>
                      </a:lnTo>
                      <a:lnTo>
                        <a:pt x="489" y="51"/>
                      </a:lnTo>
                      <a:lnTo>
                        <a:pt x="315" y="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close/>
                    </a:path>
                  </a:pathLst>
                </a:custGeom>
                <a:solidFill>
                  <a:srgbClr val="7fa25f"/>
                </a:solidFill>
                <a:ln w="1260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3" name=""/>
                <p:cNvSpPr/>
                <p:nvPr/>
              </p:nvSpPr>
              <p:spPr>
                <a:xfrm>
                  <a:off x="3237840" y="5189400"/>
                  <a:ext cx="219240" cy="175320"/>
                </a:xfrm>
                <a:custGeom>
                  <a:avLst/>
                  <a:gdLst/>
                  <a:ahLst/>
                  <a:rect l="l" t="t" r="r" b="b"/>
                  <a:pathLst>
                    <a:path w="178" h="134">
                      <a:moveTo>
                        <a:pt x="178" y="134"/>
                      </a:moveTo>
                      <a:lnTo>
                        <a:pt x="178" y="53"/>
                      </a:lnTo>
                      <a:lnTo>
                        <a:pt x="0" y="0"/>
                      </a:lnTo>
                      <a:lnTo>
                        <a:pt x="0" y="87"/>
                      </a:lnTo>
                      <a:lnTo>
                        <a:pt x="0" y="87"/>
                      </a:lnTo>
                      <a:lnTo>
                        <a:pt x="178" y="134"/>
                      </a:lnTo>
                      <a:lnTo>
                        <a:pt x="0" y="8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4" name=""/>
                <p:cNvSpPr/>
                <p:nvPr/>
              </p:nvSpPr>
              <p:spPr>
                <a:xfrm>
                  <a:off x="3169440" y="5208480"/>
                  <a:ext cx="216000" cy="187200"/>
                </a:xfrm>
                <a:custGeom>
                  <a:avLst/>
                  <a:gdLst/>
                  <a:ahLst/>
                  <a:rect l="l" t="t" r="r" b="b"/>
                  <a:pathLst>
                    <a:path w="176" h="144">
                      <a:moveTo>
                        <a:pt x="174" y="144"/>
                      </a:moveTo>
                      <a:lnTo>
                        <a:pt x="176" y="55"/>
                      </a:lnTo>
                      <a:lnTo>
                        <a:pt x="0" y="0"/>
                      </a:lnTo>
                      <a:lnTo>
                        <a:pt x="0" y="88"/>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5" name=""/>
                <p:cNvSpPr/>
                <p:nvPr/>
              </p:nvSpPr>
              <p:spPr>
                <a:xfrm>
                  <a:off x="3093480" y="5223240"/>
                  <a:ext cx="222840" cy="191520"/>
                </a:xfrm>
                <a:custGeom>
                  <a:avLst/>
                  <a:gdLst/>
                  <a:ahLst/>
                  <a:rect l="l" t="t" r="r" b="b"/>
                  <a:pathLst>
                    <a:path w="181" h="147">
                      <a:moveTo>
                        <a:pt x="177" y="147"/>
                      </a:moveTo>
                      <a:lnTo>
                        <a:pt x="181" y="61"/>
                      </a:lnTo>
                      <a:lnTo>
                        <a:pt x="0" y="0"/>
                      </a:lnTo>
                      <a:lnTo>
                        <a:pt x="0" y="92"/>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close/>
                    </a:path>
                  </a:pathLst>
                </a:custGeom>
                <a:solidFill>
                  <a:srgbClr val="7889fb"/>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6" name=""/>
                <p:cNvSpPr/>
                <p:nvPr/>
              </p:nvSpPr>
              <p:spPr>
                <a:xfrm>
                  <a:off x="2917440" y="5271840"/>
                  <a:ext cx="539640" cy="272880"/>
                </a:xfrm>
                <a:custGeom>
                  <a:avLst/>
                  <a:gdLst/>
                  <a:ahLst/>
                  <a:rect l="l" t="t" r="r" b="b"/>
                  <a:pathLst>
                    <a:path w="439" h="209">
                      <a:moveTo>
                        <a:pt x="0" y="209"/>
                      </a:moveTo>
                      <a:lnTo>
                        <a:pt x="0" y="124"/>
                      </a:lnTo>
                      <a:lnTo>
                        <a:pt x="439" y="0"/>
                      </a:lnTo>
                      <a:lnTo>
                        <a:pt x="439" y="80"/>
                      </a:lnTo>
                      <a:lnTo>
                        <a:pt x="439" y="80"/>
                      </a:lnTo>
                      <a:lnTo>
                        <a:pt x="0" y="209"/>
                      </a:lnTo>
                      <a:lnTo>
                        <a:pt x="439" y="80"/>
                      </a:lnTo>
                      <a:lnTo>
                        <a:pt x="0" y="209"/>
                      </a:lnTo>
                      <a:lnTo>
                        <a:pt x="439" y="80"/>
                      </a:lnTo>
                      <a:lnTo>
                        <a:pt x="0" y="209"/>
                      </a:lnTo>
                      <a:lnTo>
                        <a:pt x="439" y="80"/>
                      </a:lnTo>
                      <a:lnTo>
                        <a:pt x="0" y="209"/>
                      </a:lnTo>
                      <a:lnTo>
                        <a:pt x="439" y="80"/>
                      </a:lnTo>
                      <a:lnTo>
                        <a:pt x="0" y="209"/>
                      </a:lnTo>
                      <a:lnTo>
                        <a:pt x="439" y="80"/>
                      </a:lnTo>
                      <a:lnTo>
                        <a:pt x="0" y="209"/>
                      </a:lnTo>
                      <a:lnTo>
                        <a:pt x="439" y="80"/>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397" name=""/>
              <p:cNvSpPr/>
              <p:nvPr/>
            </p:nvSpPr>
            <p:spPr>
              <a:xfrm>
                <a:off x="2457000" y="5521320"/>
                <a:ext cx="1381680" cy="2811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ffffff"/>
                    </a:solidFill>
                    <a:latin typeface="Arial"/>
                    <a:ea typeface="Arial"/>
                  </a:rPr>
                  <a:t>WebSphere MQ</a:t>
                </a:r>
                <a:endParaRPr b="0" lang="en-US" sz="1300" spc="-1" strike="noStrike">
                  <a:solidFill>
                    <a:srgbClr val="ffffff"/>
                  </a:solidFill>
                  <a:latin typeface="Arial"/>
                </a:endParaRPr>
              </a:p>
            </p:txBody>
          </p:sp>
        </p:grpSp>
        <p:sp>
          <p:nvSpPr>
            <p:cNvPr id="2398" name=""/>
            <p:cNvSpPr/>
            <p:nvPr/>
          </p:nvSpPr>
          <p:spPr>
            <a:xfrm>
              <a:off x="1125360" y="5486400"/>
              <a:ext cx="1505160" cy="324000"/>
            </a:xfrm>
            <a:custGeom>
              <a:avLst/>
              <a:gdLst/>
              <a:ahLst/>
              <a:rect l="l" t="t" r="r" b="b"/>
              <a:pathLst>
                <a:path w="948" h="204">
                  <a:moveTo>
                    <a:pt x="948" y="0"/>
                  </a:moveTo>
                  <a:cubicBezTo>
                    <a:pt x="842" y="34"/>
                    <a:pt x="477" y="204"/>
                    <a:pt x="319" y="204"/>
                  </a:cubicBezTo>
                  <a:cubicBezTo>
                    <a:pt x="161" y="204"/>
                    <a:pt x="67" y="42"/>
                    <a:pt x="0" y="0"/>
                  </a:cubicBezTo>
                </a:path>
              </a:pathLst>
            </a:custGeom>
            <a:noFill/>
            <a:ln w="25560">
              <a:solidFill>
                <a:srgbClr val="000000"/>
              </a:solidFill>
              <a:round/>
              <a:head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grpSp>
          <p:nvGrpSpPr>
            <p:cNvPr id="2399" name=""/>
            <p:cNvGrpSpPr/>
            <p:nvPr/>
          </p:nvGrpSpPr>
          <p:grpSpPr>
            <a:xfrm>
              <a:off x="4809960" y="4524480"/>
              <a:ext cx="2275200" cy="1279440"/>
              <a:chOff x="4809960" y="4524480"/>
              <a:chExt cx="2275200" cy="1279440"/>
            </a:xfrm>
          </p:grpSpPr>
          <p:sp>
            <p:nvSpPr>
              <p:cNvPr id="2400" name=""/>
              <p:cNvSpPr/>
              <p:nvPr/>
            </p:nvSpPr>
            <p:spPr>
              <a:xfrm>
                <a:off x="4809960" y="4524480"/>
                <a:ext cx="2275200" cy="127944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401" name=""/>
              <p:cNvGrpSpPr/>
              <p:nvPr/>
            </p:nvGrpSpPr>
            <p:grpSpPr>
              <a:xfrm>
                <a:off x="5541840" y="5137200"/>
                <a:ext cx="771480" cy="365040"/>
                <a:chOff x="5541840" y="5137200"/>
                <a:chExt cx="771480" cy="365040"/>
              </a:xfrm>
            </p:grpSpPr>
            <p:sp>
              <p:nvSpPr>
                <p:cNvPr id="2402" name=""/>
                <p:cNvSpPr/>
                <p:nvPr/>
              </p:nvSpPr>
              <p:spPr>
                <a:xfrm>
                  <a:off x="5541840" y="5138280"/>
                  <a:ext cx="771480" cy="244080"/>
                </a:xfrm>
                <a:custGeom>
                  <a:avLst/>
                  <a:gdLst/>
                  <a:ahLst/>
                  <a:rect l="l" t="t" r="r" b="b"/>
                  <a:pathLst>
                    <a:path w="1575" h="732">
                      <a:moveTo>
                        <a:pt x="1137" y="0"/>
                      </a:moveTo>
                      <a:lnTo>
                        <a:pt x="1575" y="219"/>
                      </a:lnTo>
                      <a:lnTo>
                        <a:pt x="458" y="732"/>
                      </a:lnTo>
                      <a:lnTo>
                        <a:pt x="0" y="435"/>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close/>
                    </a:path>
                  </a:pathLst>
                </a:custGeom>
                <a:solidFill>
                  <a:srgbClr val="ffff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3" name=""/>
                <p:cNvSpPr/>
                <p:nvPr/>
              </p:nvSpPr>
              <p:spPr>
                <a:xfrm>
                  <a:off x="5700960" y="5138280"/>
                  <a:ext cx="593640" cy="244080"/>
                </a:xfrm>
                <a:custGeom>
                  <a:avLst/>
                  <a:gdLst/>
                  <a:ahLst/>
                  <a:rect l="l" t="t" r="r" b="b"/>
                  <a:pathLst>
                    <a:path w="1211" h="732">
                      <a:moveTo>
                        <a:pt x="811" y="291"/>
                      </a:moveTo>
                      <a:lnTo>
                        <a:pt x="0" y="653"/>
                      </a:lnTo>
                      <a:lnTo>
                        <a:pt x="125" y="732"/>
                      </a:lnTo>
                      <a:lnTo>
                        <a:pt x="1211" y="233"/>
                      </a:lnTo>
                      <a:lnTo>
                        <a:pt x="811" y="0"/>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close/>
                    </a:path>
                  </a:pathLst>
                </a:custGeom>
                <a:solidFill>
                  <a:srgbClr val="7fa25f"/>
                </a:solidFill>
                <a:ln w="1584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4" name=""/>
                <p:cNvSpPr/>
                <p:nvPr/>
              </p:nvSpPr>
              <p:spPr>
                <a:xfrm>
                  <a:off x="5541840" y="5138280"/>
                  <a:ext cx="558000" cy="267120"/>
                </a:xfrm>
                <a:custGeom>
                  <a:avLst/>
                  <a:gdLst/>
                  <a:ahLst/>
                  <a:rect l="l" t="t" r="r" b="b"/>
                  <a:pathLst>
                    <a:path w="1137" h="799">
                      <a:moveTo>
                        <a:pt x="1137" y="291"/>
                      </a:moveTo>
                      <a:lnTo>
                        <a:pt x="1137" y="0"/>
                      </a:lnTo>
                      <a:lnTo>
                        <a:pt x="3" y="432"/>
                      </a:lnTo>
                      <a:lnTo>
                        <a:pt x="0" y="794"/>
                      </a:lnTo>
                      <a:lnTo>
                        <a:pt x="3" y="799"/>
                      </a:lnTo>
                      <a:lnTo>
                        <a:pt x="3" y="799"/>
                      </a:lnTo>
                      <a:lnTo>
                        <a:pt x="1137" y="291"/>
                      </a:lnTo>
                      <a:lnTo>
                        <a:pt x="3" y="799"/>
                      </a:lnTo>
                      <a:lnTo>
                        <a:pt x="1137" y="291"/>
                      </a:lnTo>
                      <a:lnTo>
                        <a:pt x="3" y="799"/>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5" name=""/>
                <p:cNvSpPr/>
                <p:nvPr/>
              </p:nvSpPr>
              <p:spPr>
                <a:xfrm>
                  <a:off x="6099840" y="5137200"/>
                  <a:ext cx="212040" cy="122040"/>
                </a:xfrm>
                <a:custGeom>
                  <a:avLst/>
                  <a:gdLst/>
                  <a:ahLst/>
                  <a:rect l="l" t="t" r="r" b="b"/>
                  <a:pathLst>
                    <a:path w="435" h="365">
                      <a:moveTo>
                        <a:pt x="107" y="365"/>
                      </a:moveTo>
                      <a:lnTo>
                        <a:pt x="435" y="221"/>
                      </a:lnTo>
                      <a:lnTo>
                        <a:pt x="0" y="0"/>
                      </a:lnTo>
                      <a:lnTo>
                        <a:pt x="0" y="293"/>
                      </a:lnTo>
                      <a:lnTo>
                        <a:pt x="0" y="293"/>
                      </a:lnTo>
                      <a:lnTo>
                        <a:pt x="107" y="365"/>
                      </a:lnTo>
                      <a:lnTo>
                        <a:pt x="0" y="293"/>
                      </a:lnTo>
                      <a:lnTo>
                        <a:pt x="107" y="365"/>
                      </a:lnTo>
                      <a:lnTo>
                        <a:pt x="0" y="293"/>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6" name=""/>
                <p:cNvSpPr/>
                <p:nvPr/>
              </p:nvSpPr>
              <p:spPr>
                <a:xfrm>
                  <a:off x="5793120" y="5177160"/>
                  <a:ext cx="222840" cy="189360"/>
                </a:xfrm>
                <a:custGeom>
                  <a:avLst/>
                  <a:gdLst/>
                  <a:ahLst/>
                  <a:rect l="l" t="t" r="r" b="b"/>
                  <a:pathLst>
                    <a:path w="455" h="564">
                      <a:moveTo>
                        <a:pt x="455" y="564"/>
                      </a:moveTo>
                      <a:lnTo>
                        <a:pt x="455" y="274"/>
                      </a:lnTo>
                      <a:lnTo>
                        <a:pt x="0" y="0"/>
                      </a:lnTo>
                      <a:lnTo>
                        <a:pt x="0" y="362"/>
                      </a:lnTo>
                      <a:lnTo>
                        <a:pt x="0" y="362"/>
                      </a:lnTo>
                      <a:lnTo>
                        <a:pt x="455" y="564"/>
                      </a:lnTo>
                      <a:lnTo>
                        <a:pt x="0" y="362"/>
                      </a:lnTo>
                      <a:lnTo>
                        <a:pt x="455" y="564"/>
                      </a:lnTo>
                      <a:lnTo>
                        <a:pt x="0" y="362"/>
                      </a:lnTo>
                      <a:lnTo>
                        <a:pt x="455" y="564"/>
                      </a:lnTo>
                      <a:lnTo>
                        <a:pt x="0" y="362"/>
                      </a:lnTo>
                      <a:lnTo>
                        <a:pt x="455" y="564"/>
                      </a:lnTo>
                      <a:lnTo>
                        <a:pt x="0" y="362"/>
                      </a:lnTo>
                      <a:close/>
                    </a:path>
                  </a:pathLst>
                </a:custGeom>
                <a:solidFill>
                  <a:srgbClr val="4c4cd2"/>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7" name=""/>
                <p:cNvSpPr/>
                <p:nvPr/>
              </p:nvSpPr>
              <p:spPr>
                <a:xfrm>
                  <a:off x="5719320" y="5191920"/>
                  <a:ext cx="223200" cy="188280"/>
                </a:xfrm>
                <a:custGeom>
                  <a:avLst/>
                  <a:gdLst/>
                  <a:ahLst/>
                  <a:rect l="l" t="t" r="r" b="b"/>
                  <a:pathLst>
                    <a:path w="455" h="565">
                      <a:moveTo>
                        <a:pt x="455" y="565"/>
                      </a:moveTo>
                      <a:lnTo>
                        <a:pt x="455" y="276"/>
                      </a:lnTo>
                      <a:lnTo>
                        <a:pt x="0" y="0"/>
                      </a:lnTo>
                      <a:lnTo>
                        <a:pt x="0" y="364"/>
                      </a:lnTo>
                      <a:lnTo>
                        <a:pt x="0" y="364"/>
                      </a:lnTo>
                      <a:lnTo>
                        <a:pt x="455" y="565"/>
                      </a:lnTo>
                      <a:lnTo>
                        <a:pt x="0" y="364"/>
                      </a:lnTo>
                      <a:lnTo>
                        <a:pt x="455" y="565"/>
                      </a:lnTo>
                      <a:lnTo>
                        <a:pt x="0" y="364"/>
                      </a:lnTo>
                      <a:lnTo>
                        <a:pt x="455" y="565"/>
                      </a:lnTo>
                      <a:lnTo>
                        <a:pt x="0" y="364"/>
                      </a:lnTo>
                      <a:lnTo>
                        <a:pt x="455" y="565"/>
                      </a:lnTo>
                      <a:lnTo>
                        <a:pt x="0" y="364"/>
                      </a:lnTo>
                      <a:close/>
                    </a:path>
                  </a:pathLst>
                </a:custGeom>
                <a:solidFill>
                  <a:srgbClr val="969696"/>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8" name=""/>
                <p:cNvSpPr/>
                <p:nvPr/>
              </p:nvSpPr>
              <p:spPr>
                <a:xfrm>
                  <a:off x="5673960" y="5212440"/>
                  <a:ext cx="222840" cy="189360"/>
                </a:xfrm>
                <a:custGeom>
                  <a:avLst/>
                  <a:gdLst/>
                  <a:ahLst/>
                  <a:rect l="l" t="t" r="r" b="b"/>
                  <a:pathLst>
                    <a:path w="456" h="565">
                      <a:moveTo>
                        <a:pt x="456" y="565"/>
                      </a:moveTo>
                      <a:lnTo>
                        <a:pt x="456" y="274"/>
                      </a:lnTo>
                      <a:lnTo>
                        <a:pt x="0" y="0"/>
                      </a:lnTo>
                      <a:lnTo>
                        <a:pt x="0" y="363"/>
                      </a:lnTo>
                      <a:lnTo>
                        <a:pt x="0" y="363"/>
                      </a:lnTo>
                      <a:lnTo>
                        <a:pt x="456" y="565"/>
                      </a:lnTo>
                      <a:lnTo>
                        <a:pt x="0" y="363"/>
                      </a:lnTo>
                      <a:lnTo>
                        <a:pt x="456" y="565"/>
                      </a:lnTo>
                      <a:lnTo>
                        <a:pt x="0" y="363"/>
                      </a:lnTo>
                      <a:lnTo>
                        <a:pt x="456" y="565"/>
                      </a:lnTo>
                      <a:lnTo>
                        <a:pt x="0" y="363"/>
                      </a:lnTo>
                      <a:lnTo>
                        <a:pt x="456" y="565"/>
                      </a:lnTo>
                      <a:lnTo>
                        <a:pt x="0" y="363"/>
                      </a:lnTo>
                      <a:close/>
                    </a:path>
                  </a:pathLst>
                </a:custGeom>
                <a:solidFill>
                  <a:srgbClr val="000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9" name=""/>
                <p:cNvSpPr/>
                <p:nvPr/>
              </p:nvSpPr>
              <p:spPr>
                <a:xfrm>
                  <a:off x="5617440" y="5227560"/>
                  <a:ext cx="218160" cy="193680"/>
                </a:xfrm>
                <a:custGeom>
                  <a:avLst/>
                  <a:gdLst/>
                  <a:ahLst/>
                  <a:rect l="l" t="t" r="r" b="b"/>
                  <a:pathLst>
                    <a:path w="445" h="577">
                      <a:moveTo>
                        <a:pt x="442" y="577"/>
                      </a:moveTo>
                      <a:lnTo>
                        <a:pt x="445" y="272"/>
                      </a:lnTo>
                      <a:lnTo>
                        <a:pt x="3" y="0"/>
                      </a:lnTo>
                      <a:lnTo>
                        <a:pt x="0" y="34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close/>
                    </a:path>
                  </a:pathLst>
                </a:custGeom>
                <a:solidFill>
                  <a:srgbClr val="ffff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0" name=""/>
                <p:cNvSpPr/>
                <p:nvPr/>
              </p:nvSpPr>
              <p:spPr>
                <a:xfrm>
                  <a:off x="5550120" y="5250240"/>
                  <a:ext cx="220320" cy="206640"/>
                </a:xfrm>
                <a:custGeom>
                  <a:avLst/>
                  <a:gdLst/>
                  <a:ahLst/>
                  <a:rect l="l" t="t" r="r" b="b"/>
                  <a:pathLst>
                    <a:path w="452" h="617">
                      <a:moveTo>
                        <a:pt x="452" y="617"/>
                      </a:moveTo>
                      <a:lnTo>
                        <a:pt x="452" y="284"/>
                      </a:lnTo>
                      <a:lnTo>
                        <a:pt x="0" y="0"/>
                      </a:lnTo>
                      <a:lnTo>
                        <a:pt x="2" y="386"/>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close/>
                    </a:path>
                  </a:pathLst>
                </a:custGeom>
                <a:solidFill>
                  <a:srgbClr val="0000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1" name=""/>
                <p:cNvSpPr/>
                <p:nvPr/>
              </p:nvSpPr>
              <p:spPr>
                <a:xfrm>
                  <a:off x="5544000" y="5286600"/>
                  <a:ext cx="222120" cy="215640"/>
                </a:xfrm>
                <a:custGeom>
                  <a:avLst/>
                  <a:gdLst/>
                  <a:ahLst/>
                  <a:rect l="l" t="t" r="r" b="b"/>
                  <a:pathLst>
                    <a:path w="455" h="644">
                      <a:moveTo>
                        <a:pt x="0" y="350"/>
                      </a:moveTo>
                      <a:lnTo>
                        <a:pt x="455" y="644"/>
                      </a:lnTo>
                      <a:lnTo>
                        <a:pt x="455" y="288"/>
                      </a:lnTo>
                      <a:lnTo>
                        <a:pt x="0" y="0"/>
                      </a:lnTo>
                      <a:lnTo>
                        <a:pt x="0" y="89"/>
                      </a:lnTo>
                      <a:lnTo>
                        <a:pt x="0" y="52"/>
                      </a:lnTo>
                      <a:lnTo>
                        <a:pt x="0" y="52"/>
                      </a:lnTo>
                      <a:lnTo>
                        <a:pt x="0" y="350"/>
                      </a:lnTo>
                      <a:lnTo>
                        <a:pt x="0" y="52"/>
                      </a:lnTo>
                      <a:lnTo>
                        <a:pt x="0" y="350"/>
                      </a:lnTo>
                      <a:lnTo>
                        <a:pt x="0" y="52"/>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2" name=""/>
                <p:cNvSpPr/>
                <p:nvPr/>
              </p:nvSpPr>
              <p:spPr>
                <a:xfrm>
                  <a:off x="5762160" y="5211360"/>
                  <a:ext cx="550800" cy="289080"/>
                </a:xfrm>
                <a:custGeom>
                  <a:avLst/>
                  <a:gdLst/>
                  <a:ahLst/>
                  <a:rect l="l" t="t" r="r" b="b"/>
                  <a:pathLst>
                    <a:path w="1124" h="862">
                      <a:moveTo>
                        <a:pt x="0" y="862"/>
                      </a:moveTo>
                      <a:lnTo>
                        <a:pt x="0" y="515"/>
                      </a:lnTo>
                      <a:lnTo>
                        <a:pt x="1124" y="0"/>
                      </a:lnTo>
                      <a:lnTo>
                        <a:pt x="1124" y="330"/>
                      </a:lnTo>
                      <a:lnTo>
                        <a:pt x="1124" y="330"/>
                      </a:lnTo>
                      <a:lnTo>
                        <a:pt x="0" y="862"/>
                      </a:lnTo>
                      <a:lnTo>
                        <a:pt x="1124" y="330"/>
                      </a:lnTo>
                      <a:lnTo>
                        <a:pt x="0" y="862"/>
                      </a:lnTo>
                      <a:lnTo>
                        <a:pt x="1124" y="330"/>
                      </a:lnTo>
                      <a:lnTo>
                        <a:pt x="0" y="862"/>
                      </a:lnTo>
                      <a:lnTo>
                        <a:pt x="1124" y="330"/>
                      </a:lnTo>
                      <a:lnTo>
                        <a:pt x="0" y="862"/>
                      </a:lnTo>
                      <a:lnTo>
                        <a:pt x="1124" y="330"/>
                      </a:lnTo>
                      <a:lnTo>
                        <a:pt x="0" y="862"/>
                      </a:lnTo>
                      <a:lnTo>
                        <a:pt x="1124" y="330"/>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413" name=""/>
              <p:cNvGrpSpPr/>
              <p:nvPr/>
            </p:nvGrpSpPr>
            <p:grpSpPr>
              <a:xfrm>
                <a:off x="5565960" y="4667400"/>
                <a:ext cx="758520" cy="355320"/>
                <a:chOff x="5565960" y="4667400"/>
                <a:chExt cx="758520" cy="355320"/>
              </a:xfrm>
            </p:grpSpPr>
            <p:sp>
              <p:nvSpPr>
                <p:cNvPr id="2414" name=""/>
                <p:cNvSpPr/>
                <p:nvPr/>
              </p:nvSpPr>
              <p:spPr>
                <a:xfrm>
                  <a:off x="5565960" y="4683600"/>
                  <a:ext cx="758520" cy="227160"/>
                </a:xfrm>
                <a:custGeom>
                  <a:avLst/>
                  <a:gdLst/>
                  <a:ahLst/>
                  <a:rect l="l" t="t" r="r" b="b"/>
                  <a:pathLst>
                    <a:path w="617" h="174">
                      <a:moveTo>
                        <a:pt x="443" y="0"/>
                      </a:moveTo>
                      <a:lnTo>
                        <a:pt x="617" y="51"/>
                      </a:lnTo>
                      <a:lnTo>
                        <a:pt x="179" y="174"/>
                      </a:lnTo>
                      <a:lnTo>
                        <a:pt x="0" y="105"/>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5" name=""/>
                <p:cNvSpPr/>
                <p:nvPr/>
              </p:nvSpPr>
              <p:spPr>
                <a:xfrm>
                  <a:off x="5565960" y="4683600"/>
                  <a:ext cx="544680" cy="249120"/>
                </a:xfrm>
                <a:custGeom>
                  <a:avLst/>
                  <a:gdLst/>
                  <a:ahLst/>
                  <a:rect l="l" t="t" r="r" b="b"/>
                  <a:pathLst>
                    <a:path w="443" h="191">
                      <a:moveTo>
                        <a:pt x="443" y="70"/>
                      </a:moveTo>
                      <a:lnTo>
                        <a:pt x="443" y="0"/>
                      </a:lnTo>
                      <a:lnTo>
                        <a:pt x="1" y="104"/>
                      </a:lnTo>
                      <a:lnTo>
                        <a:pt x="0" y="188"/>
                      </a:lnTo>
                      <a:lnTo>
                        <a:pt x="1" y="191"/>
                      </a:lnTo>
                      <a:lnTo>
                        <a:pt x="1" y="191"/>
                      </a:lnTo>
                      <a:lnTo>
                        <a:pt x="443" y="70"/>
                      </a:lnTo>
                      <a:lnTo>
                        <a:pt x="1" y="191"/>
                      </a:lnTo>
                      <a:close/>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6" name=""/>
                <p:cNvSpPr/>
                <p:nvPr/>
              </p:nvSpPr>
              <p:spPr>
                <a:xfrm>
                  <a:off x="5567040" y="4820760"/>
                  <a:ext cx="218880" cy="201960"/>
                </a:xfrm>
                <a:custGeom>
                  <a:avLst/>
                  <a:gdLst/>
                  <a:ahLst/>
                  <a:rect l="l" t="t" r="r" b="b"/>
                  <a:pathLst>
                    <a:path w="178" h="155">
                      <a:moveTo>
                        <a:pt x="0" y="83"/>
                      </a:moveTo>
                      <a:lnTo>
                        <a:pt x="178" y="155"/>
                      </a:lnTo>
                      <a:lnTo>
                        <a:pt x="178" y="69"/>
                      </a:lnTo>
                      <a:lnTo>
                        <a:pt x="0" y="0"/>
                      </a:lnTo>
                      <a:lnTo>
                        <a:pt x="0" y="22"/>
                      </a:lnTo>
                      <a:lnTo>
                        <a:pt x="0" y="12"/>
                      </a:lnTo>
                      <a:lnTo>
                        <a:pt x="0" y="12"/>
                      </a:lnTo>
                      <a:lnTo>
                        <a:pt x="0" y="83"/>
                      </a:lnTo>
                      <a:lnTo>
                        <a:pt x="0" y="12"/>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7" name=""/>
                <p:cNvSpPr/>
                <p:nvPr/>
              </p:nvSpPr>
              <p:spPr>
                <a:xfrm>
                  <a:off x="5722920" y="4683600"/>
                  <a:ext cx="601560" cy="227160"/>
                </a:xfrm>
                <a:custGeom>
                  <a:avLst/>
                  <a:gdLst/>
                  <a:ahLst/>
                  <a:rect l="l" t="t" r="r" b="b"/>
                  <a:pathLst>
                    <a:path w="489" h="174">
                      <a:moveTo>
                        <a:pt x="315" y="70"/>
                      </a:moveTo>
                      <a:lnTo>
                        <a:pt x="0" y="155"/>
                      </a:lnTo>
                      <a:lnTo>
                        <a:pt x="50" y="174"/>
                      </a:lnTo>
                      <a:lnTo>
                        <a:pt x="489" y="51"/>
                      </a:lnTo>
                      <a:lnTo>
                        <a:pt x="315" y="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close/>
                    </a:path>
                  </a:pathLst>
                </a:custGeom>
                <a:solidFill>
                  <a:srgbClr val="7fa25f"/>
                </a:solidFill>
                <a:ln w="1260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8" name=""/>
                <p:cNvSpPr/>
                <p:nvPr/>
              </p:nvSpPr>
              <p:spPr>
                <a:xfrm>
                  <a:off x="6105240" y="4667400"/>
                  <a:ext cx="218880" cy="175320"/>
                </a:xfrm>
                <a:custGeom>
                  <a:avLst/>
                  <a:gdLst/>
                  <a:ahLst/>
                  <a:rect l="l" t="t" r="r" b="b"/>
                  <a:pathLst>
                    <a:path w="178" h="134">
                      <a:moveTo>
                        <a:pt x="178" y="134"/>
                      </a:moveTo>
                      <a:lnTo>
                        <a:pt x="178" y="53"/>
                      </a:lnTo>
                      <a:lnTo>
                        <a:pt x="0" y="0"/>
                      </a:lnTo>
                      <a:lnTo>
                        <a:pt x="0" y="87"/>
                      </a:lnTo>
                      <a:lnTo>
                        <a:pt x="0" y="87"/>
                      </a:lnTo>
                      <a:lnTo>
                        <a:pt x="178" y="134"/>
                      </a:lnTo>
                      <a:lnTo>
                        <a:pt x="0" y="8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9" name=""/>
                <p:cNvSpPr/>
                <p:nvPr/>
              </p:nvSpPr>
              <p:spPr>
                <a:xfrm>
                  <a:off x="6036480" y="4686480"/>
                  <a:ext cx="216000" cy="187200"/>
                </a:xfrm>
                <a:custGeom>
                  <a:avLst/>
                  <a:gdLst/>
                  <a:ahLst/>
                  <a:rect l="l" t="t" r="r" b="b"/>
                  <a:pathLst>
                    <a:path w="176" h="144">
                      <a:moveTo>
                        <a:pt x="174" y="144"/>
                      </a:moveTo>
                      <a:lnTo>
                        <a:pt x="176" y="55"/>
                      </a:lnTo>
                      <a:lnTo>
                        <a:pt x="0" y="0"/>
                      </a:lnTo>
                      <a:lnTo>
                        <a:pt x="0" y="88"/>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0" name=""/>
                <p:cNvSpPr/>
                <p:nvPr/>
              </p:nvSpPr>
              <p:spPr>
                <a:xfrm>
                  <a:off x="5960880" y="4701240"/>
                  <a:ext cx="222840" cy="191520"/>
                </a:xfrm>
                <a:custGeom>
                  <a:avLst/>
                  <a:gdLst/>
                  <a:ahLst/>
                  <a:rect l="l" t="t" r="r" b="b"/>
                  <a:pathLst>
                    <a:path w="181" h="147">
                      <a:moveTo>
                        <a:pt x="177" y="147"/>
                      </a:moveTo>
                      <a:lnTo>
                        <a:pt x="181" y="61"/>
                      </a:lnTo>
                      <a:lnTo>
                        <a:pt x="0" y="0"/>
                      </a:lnTo>
                      <a:lnTo>
                        <a:pt x="0" y="92"/>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close/>
                    </a:path>
                  </a:pathLst>
                </a:custGeom>
                <a:solidFill>
                  <a:srgbClr val="7889fb"/>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1" name=""/>
                <p:cNvSpPr/>
                <p:nvPr/>
              </p:nvSpPr>
              <p:spPr>
                <a:xfrm>
                  <a:off x="5784840" y="4749840"/>
                  <a:ext cx="539640" cy="272880"/>
                </a:xfrm>
                <a:custGeom>
                  <a:avLst/>
                  <a:gdLst/>
                  <a:ahLst/>
                  <a:rect l="l" t="t" r="r" b="b"/>
                  <a:pathLst>
                    <a:path w="439" h="209">
                      <a:moveTo>
                        <a:pt x="0" y="209"/>
                      </a:moveTo>
                      <a:lnTo>
                        <a:pt x="0" y="124"/>
                      </a:lnTo>
                      <a:lnTo>
                        <a:pt x="439" y="0"/>
                      </a:lnTo>
                      <a:lnTo>
                        <a:pt x="439" y="80"/>
                      </a:lnTo>
                      <a:lnTo>
                        <a:pt x="439" y="80"/>
                      </a:lnTo>
                      <a:lnTo>
                        <a:pt x="0" y="209"/>
                      </a:lnTo>
                      <a:lnTo>
                        <a:pt x="439" y="80"/>
                      </a:lnTo>
                      <a:lnTo>
                        <a:pt x="0" y="209"/>
                      </a:lnTo>
                      <a:lnTo>
                        <a:pt x="439" y="80"/>
                      </a:lnTo>
                      <a:lnTo>
                        <a:pt x="0" y="209"/>
                      </a:lnTo>
                      <a:lnTo>
                        <a:pt x="439" y="80"/>
                      </a:lnTo>
                      <a:lnTo>
                        <a:pt x="0" y="209"/>
                      </a:lnTo>
                      <a:lnTo>
                        <a:pt x="439" y="80"/>
                      </a:lnTo>
                      <a:lnTo>
                        <a:pt x="0" y="209"/>
                      </a:lnTo>
                      <a:lnTo>
                        <a:pt x="439" y="80"/>
                      </a:lnTo>
                      <a:lnTo>
                        <a:pt x="0" y="209"/>
                      </a:lnTo>
                      <a:lnTo>
                        <a:pt x="439" y="80"/>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422" name=""/>
              <p:cNvSpPr/>
              <p:nvPr/>
            </p:nvSpPr>
            <p:spPr>
              <a:xfrm>
                <a:off x="5283000" y="5519880"/>
                <a:ext cx="1381680" cy="2811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ffffff"/>
                    </a:solidFill>
                    <a:latin typeface="Arial"/>
                    <a:ea typeface="Arial"/>
                  </a:rPr>
                  <a:t>WebSphere MQ</a:t>
                </a:r>
                <a:endParaRPr b="0" lang="en-US" sz="1300" spc="-1" strike="noStrike">
                  <a:solidFill>
                    <a:srgbClr val="ffffff"/>
                  </a:solidFill>
                  <a:latin typeface="Arial"/>
                </a:endParaRPr>
              </a:p>
            </p:txBody>
          </p:sp>
        </p:grpSp>
        <p:sp>
          <p:nvSpPr>
            <p:cNvPr id="2423" name=""/>
            <p:cNvSpPr/>
            <p:nvPr/>
          </p:nvSpPr>
          <p:spPr>
            <a:xfrm>
              <a:off x="1324080" y="4519440"/>
              <a:ext cx="1463400" cy="376560"/>
            </a:xfrm>
            <a:custGeom>
              <a:avLst/>
              <a:gdLst/>
              <a:ahLst/>
              <a:rect l="l" t="t" r="r" b="b"/>
              <a:pathLst>
                <a:path w="922" h="237">
                  <a:moveTo>
                    <a:pt x="922" y="95"/>
                  </a:moveTo>
                  <a:cubicBezTo>
                    <a:pt x="798" y="83"/>
                    <a:pt x="331" y="0"/>
                    <a:pt x="177" y="24"/>
                  </a:cubicBezTo>
                  <a:cubicBezTo>
                    <a:pt x="23" y="48"/>
                    <a:pt x="37" y="193"/>
                    <a:pt x="0" y="237"/>
                  </a:cubicBezTo>
                </a:path>
              </a:pathLst>
            </a:custGeom>
            <a:noFill/>
            <a:ln w="25560">
              <a:solidFill>
                <a:srgbClr val="000000"/>
              </a:solidFill>
              <a:round/>
              <a:tail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2424" name=""/>
            <p:cNvSpPr/>
            <p:nvPr/>
          </p:nvSpPr>
          <p:spPr>
            <a:xfrm>
              <a:off x="6372360" y="5373720"/>
              <a:ext cx="1252440" cy="363600"/>
            </a:xfrm>
            <a:custGeom>
              <a:avLst/>
              <a:gdLst/>
              <a:ahLst/>
              <a:rect l="l" t="t" r="r" b="b"/>
              <a:pathLst>
                <a:path w="789" h="229">
                  <a:moveTo>
                    <a:pt x="789" y="44"/>
                  </a:moveTo>
                  <a:cubicBezTo>
                    <a:pt x="748" y="72"/>
                    <a:pt x="672" y="229"/>
                    <a:pt x="541" y="222"/>
                  </a:cubicBezTo>
                  <a:cubicBezTo>
                    <a:pt x="410" y="215"/>
                    <a:pt x="113" y="46"/>
                    <a:pt x="0" y="0"/>
                  </a:cubicBezTo>
                </a:path>
              </a:pathLst>
            </a:custGeom>
            <a:noFill/>
            <a:ln w="25560">
              <a:solidFill>
                <a:srgbClr val="000000"/>
              </a:solidFill>
              <a:round/>
              <a:head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2425" name=""/>
            <p:cNvSpPr/>
            <p:nvPr/>
          </p:nvSpPr>
          <p:spPr>
            <a:xfrm>
              <a:off x="6472080" y="4589640"/>
              <a:ext cx="1409760" cy="325440"/>
            </a:xfrm>
            <a:custGeom>
              <a:avLst/>
              <a:gdLst/>
              <a:ahLst/>
              <a:rect l="l" t="t" r="r" b="b"/>
              <a:pathLst>
                <a:path w="888" h="205">
                  <a:moveTo>
                    <a:pt x="0" y="60"/>
                  </a:moveTo>
                  <a:cubicBezTo>
                    <a:pt x="114" y="54"/>
                    <a:pt x="543" y="0"/>
                    <a:pt x="691" y="24"/>
                  </a:cubicBezTo>
                  <a:cubicBezTo>
                    <a:pt x="839" y="48"/>
                    <a:pt x="847" y="167"/>
                    <a:pt x="888" y="205"/>
                  </a:cubicBezTo>
                </a:path>
              </a:pathLst>
            </a:custGeom>
            <a:noFill/>
            <a:ln w="25560">
              <a:solidFill>
                <a:srgbClr val="000000"/>
              </a:solidFill>
              <a:round/>
              <a:head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2426" name=""/>
            <p:cNvSpPr/>
            <p:nvPr/>
          </p:nvSpPr>
          <p:spPr>
            <a:xfrm>
              <a:off x="3687840" y="4568760"/>
              <a:ext cx="2263680" cy="115920"/>
            </a:xfrm>
            <a:custGeom>
              <a:avLst/>
              <a:gdLst/>
              <a:ahLst/>
              <a:rect l="l" t="t" r="r" b="b"/>
              <a:pathLst>
                <a:path w="1426" h="73">
                  <a:moveTo>
                    <a:pt x="1426" y="64"/>
                  </a:moveTo>
                  <a:cubicBezTo>
                    <a:pt x="1287" y="52"/>
                    <a:pt x="831" y="0"/>
                    <a:pt x="593" y="2"/>
                  </a:cubicBezTo>
                  <a:cubicBezTo>
                    <a:pt x="355" y="4"/>
                    <a:pt x="124" y="58"/>
                    <a:pt x="0" y="73"/>
                  </a:cubicBezTo>
                </a:path>
              </a:pathLst>
            </a:custGeom>
            <a:noFill/>
            <a:ln w="25560">
              <a:solidFill>
                <a:srgbClr val="000000"/>
              </a:solidFill>
              <a:round/>
              <a:tail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2427" name=""/>
            <p:cNvSpPr/>
            <p:nvPr/>
          </p:nvSpPr>
          <p:spPr>
            <a:xfrm>
              <a:off x="3403440" y="5025960"/>
              <a:ext cx="2068560" cy="193680"/>
            </a:xfrm>
            <a:custGeom>
              <a:avLst/>
              <a:gdLst/>
              <a:ahLst/>
              <a:rect l="l" t="t" r="r" b="b"/>
              <a:pathLst>
                <a:path w="1303" h="122">
                  <a:moveTo>
                    <a:pt x="1303" y="122"/>
                  </a:moveTo>
                  <a:cubicBezTo>
                    <a:pt x="1163" y="103"/>
                    <a:pt x="678" y="12"/>
                    <a:pt x="461" y="6"/>
                  </a:cubicBezTo>
                  <a:cubicBezTo>
                    <a:pt x="244" y="0"/>
                    <a:pt x="96" y="69"/>
                    <a:pt x="0" y="86"/>
                  </a:cubicBezTo>
                </a:path>
              </a:pathLst>
            </a:custGeom>
            <a:noFill/>
            <a:ln w="25560">
              <a:solidFill>
                <a:srgbClr val="000000"/>
              </a:solidFill>
              <a:round/>
              <a:headEnd len="lg" type="stealth" w="med"/>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2428" name=""/>
            <p:cNvSpPr/>
            <p:nvPr/>
          </p:nvSpPr>
          <p:spPr>
            <a:xfrm>
              <a:off x="1937520" y="4708440"/>
              <a:ext cx="819360" cy="2505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ffffff"/>
                  </a:solidFill>
                  <a:latin typeface="Arial"/>
                  <a:ea typeface="Arial"/>
                </a:rPr>
                <a:t>Queue A1</a:t>
              </a:r>
              <a:endParaRPr b="0" lang="en-US" sz="1100" spc="-1" strike="noStrike">
                <a:solidFill>
                  <a:srgbClr val="ffffff"/>
                </a:solidFill>
                <a:latin typeface="Arial"/>
              </a:endParaRPr>
            </a:p>
          </p:txBody>
        </p:sp>
        <p:sp>
          <p:nvSpPr>
            <p:cNvPr id="2429" name=""/>
            <p:cNvSpPr/>
            <p:nvPr/>
          </p:nvSpPr>
          <p:spPr>
            <a:xfrm>
              <a:off x="1917000" y="5141880"/>
              <a:ext cx="819360" cy="2505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ffffff"/>
                  </a:solidFill>
                  <a:latin typeface="Arial"/>
                  <a:ea typeface="Arial"/>
                </a:rPr>
                <a:t>Queue A2</a:t>
              </a:r>
              <a:endParaRPr b="0" lang="en-US" sz="1100" spc="-1" strike="noStrike">
                <a:solidFill>
                  <a:srgbClr val="ffffff"/>
                </a:solidFill>
                <a:latin typeface="Arial"/>
              </a:endParaRPr>
            </a:p>
          </p:txBody>
        </p:sp>
        <p:sp>
          <p:nvSpPr>
            <p:cNvPr id="2430" name=""/>
            <p:cNvSpPr/>
            <p:nvPr/>
          </p:nvSpPr>
          <p:spPr>
            <a:xfrm>
              <a:off x="6295320" y="4732200"/>
              <a:ext cx="819360" cy="2505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ffffff"/>
                  </a:solidFill>
                  <a:latin typeface="Arial"/>
                  <a:ea typeface="Arial"/>
                </a:rPr>
                <a:t>Queue B2</a:t>
              </a:r>
              <a:endParaRPr b="0" lang="en-US" sz="1100" spc="-1" strike="noStrike">
                <a:solidFill>
                  <a:srgbClr val="ffffff"/>
                </a:solidFill>
                <a:latin typeface="Arial"/>
              </a:endParaRPr>
            </a:p>
          </p:txBody>
        </p:sp>
        <p:sp>
          <p:nvSpPr>
            <p:cNvPr id="2431" name=""/>
            <p:cNvSpPr/>
            <p:nvPr/>
          </p:nvSpPr>
          <p:spPr>
            <a:xfrm>
              <a:off x="6274800" y="5165640"/>
              <a:ext cx="819360" cy="25056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ffffff"/>
                  </a:solidFill>
                  <a:latin typeface="Arial"/>
                  <a:ea typeface="Arial"/>
                </a:rPr>
                <a:t>Queue B1</a:t>
              </a:r>
              <a:endParaRPr b="0" lang="en-US" sz="1100" spc="-1" strike="noStrike">
                <a:solidFill>
                  <a:srgbClr val="ffffff"/>
                </a:solidFill>
                <a:latin typeface="Arial"/>
              </a:endParaRPr>
            </a:p>
          </p:txBody>
        </p:sp>
      </p:grpSp>
      <p:sp>
        <p:nvSpPr>
          <p:cNvPr id="3" name="PlaceHolder 2"/>
          <p:cNvSpPr>
            <a:spLocks noGrp="1"/>
          </p:cNvSpPr>
          <p:nvPr>
            <p:ph type="sldNum" idx="5"/>
          </p:nvPr>
        </p:nvSpPr>
        <p:spPr/>
        <p:txBody>
          <a:bodyPr/>
          <a:p>
            <a:fld id="{E6877C65-DF1F-4871-949D-8E1E4B9B6F6C}" type="slidenum">
              <a:t>15</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364">
                                            <p:txEl>
                                              <p:pRg st="0" end="0"/>
                                            </p:txEl>
                                          </p:spTgt>
                                        </p:tgtEl>
                                        <p:attrNameLst>
                                          <p:attrName>style.visibility</p:attrName>
                                        </p:attrNameLst>
                                      </p:cBhvr>
                                      <p:to>
                                        <p:strVal val="visible"/>
                                      </p:to>
                                    </p:set>
                                    <p:animEffect filter="blinds(horizontal)" transition="in">
                                      <p:cBhvr additive="repl">
                                        <p:cTn id="139" dur="500"/>
                                        <p:tgtEl>
                                          <p:spTgt spid="2364">
                                            <p:txEl>
                                              <p:pRg st="0" end="0"/>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2364">
                                            <p:txEl>
                                              <p:pRg st="1" end="1"/>
                                            </p:txEl>
                                          </p:spTgt>
                                        </p:tgtEl>
                                        <p:attrNameLst>
                                          <p:attrName>style.visibility</p:attrName>
                                        </p:attrNameLst>
                                      </p:cBhvr>
                                      <p:to>
                                        <p:strVal val="visible"/>
                                      </p:to>
                                    </p:set>
                                    <p:animEffect filter="blinds(horizontal)" transition="in">
                                      <p:cBhvr additive="repl">
                                        <p:cTn id="142" dur="500"/>
                                        <p:tgtEl>
                                          <p:spTgt spid="2364">
                                            <p:txEl>
                                              <p:pRg st="1" end="1"/>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2364">
                                            <p:txEl>
                                              <p:pRg st="2" end="2"/>
                                            </p:txEl>
                                          </p:spTgt>
                                        </p:tgtEl>
                                        <p:attrNameLst>
                                          <p:attrName>style.visibility</p:attrName>
                                        </p:attrNameLst>
                                      </p:cBhvr>
                                      <p:to>
                                        <p:strVal val="visible"/>
                                      </p:to>
                                    </p:set>
                                    <p:animEffect filter="blinds(horizontal)" transition="in">
                                      <p:cBhvr additive="repl">
                                        <p:cTn id="145" dur="500"/>
                                        <p:tgtEl>
                                          <p:spTgt spid="236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2364">
                                            <p:txEl>
                                              <p:pRg st="1" end="1"/>
                                            </p:txEl>
                                          </p:spTgt>
                                        </p:tgtEl>
                                      </p:cBhvr>
                                    </p:animEffect>
                                    <p:set>
                                      <p:cBhvr>
                                        <p:cTn id="150" dur="1" fill="hold">
                                          <p:stCondLst>
                                            <p:cond delay="499"/>
                                          </p:stCondLst>
                                        </p:cTn>
                                        <p:tgtEl>
                                          <p:spTgt spid="2364">
                                            <p:txEl>
                                              <p:pRg st="1" end="1"/>
                                            </p:txEl>
                                          </p:spTgt>
                                        </p:tgtEl>
                                        <p:attrNameLst>
                                          <p:attrName>style.visibility</p:attrName>
                                        </p:attrNameLst>
                                      </p:cBhvr>
                                      <p:to>
                                        <p:strVal val="hidden"/>
                                      </p:to>
                                    </p:set>
                                  </p:childTnLst>
                                </p:cTn>
                              </p:par>
                              <p:par>
                                <p:cTn id="151" nodeType="withEffect" fill="hold" presetClass="exit" presetID="3" presetSubtype="10">
                                  <p:stCondLst>
                                    <p:cond delay="0"/>
                                  </p:stCondLst>
                                  <p:childTnLst>
                                    <p:animEffect filter="blinds(horizontal)" transition="out">
                                      <p:cBhvr additive="repl">
                                        <p:cTn id="152" dur="500"/>
                                        <p:tgtEl>
                                          <p:spTgt spid="2364">
                                            <p:txEl>
                                              <p:pRg st="2" end="2"/>
                                            </p:txEl>
                                          </p:spTgt>
                                        </p:tgtEl>
                                      </p:cBhvr>
                                    </p:animEffect>
                                    <p:set>
                                      <p:cBhvr>
                                        <p:cTn id="153" dur="1" fill="hold">
                                          <p:stCondLst>
                                            <p:cond delay="499"/>
                                          </p:stCondLst>
                                        </p:cTn>
                                        <p:tgtEl>
                                          <p:spTgt spid="2364">
                                            <p:txEl>
                                              <p:pRg st="2" end="2"/>
                                            </p:txEl>
                                          </p:spTgt>
                                        </p:tgtEl>
                                        <p:attrNameLst>
                                          <p:attrName>style.visibility</p:attrName>
                                        </p:attrNameLst>
                                      </p:cBhvr>
                                      <p:to>
                                        <p:strVal val="hidden"/>
                                      </p:to>
                                    </p:set>
                                  </p:childTnLst>
                                </p:cTn>
                              </p:par>
                              <p:par>
                                <p:cTn id="154" nodeType="withEffect" fill="hold" presetClass="entr" presetID="3" presetSubtype="10">
                                  <p:stCondLst>
                                    <p:cond delay="0"/>
                                  </p:stCondLst>
                                  <p:childTnLst>
                                    <p:set>
                                      <p:cBhvr>
                                        <p:cTn id="155" dur="1" fill="hold">
                                          <p:stCondLst>
                                            <p:cond delay="0"/>
                                          </p:stCondLst>
                                        </p:cTn>
                                        <p:tgtEl>
                                          <p:spTgt spid="2363">
                                            <p:txEl>
                                              <p:pRg st="0" end="0"/>
                                            </p:txEl>
                                          </p:spTgt>
                                        </p:tgtEl>
                                        <p:attrNameLst>
                                          <p:attrName>style.visibility</p:attrName>
                                        </p:attrNameLst>
                                      </p:cBhvr>
                                      <p:to>
                                        <p:strVal val="visible"/>
                                      </p:to>
                                    </p:set>
                                    <p:animEffect filter="blinds(horizontal)" transition="in">
                                      <p:cBhvr additive="repl">
                                        <p:cTn id="156" dur="500"/>
                                        <p:tgtEl>
                                          <p:spTgt spid="2363">
                                            <p:txEl>
                                              <p:pRg st="0" end="0"/>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2363">
                                            <p:txEl>
                                              <p:pRg st="1" end="1"/>
                                            </p:txEl>
                                          </p:spTgt>
                                        </p:tgtEl>
                                        <p:attrNameLst>
                                          <p:attrName>style.visibility</p:attrName>
                                        </p:attrNameLst>
                                      </p:cBhvr>
                                      <p:to>
                                        <p:strVal val="visible"/>
                                      </p:to>
                                    </p:set>
                                    <p:animEffect filter="blinds(horizontal)" transition="in">
                                      <p:cBhvr additive="repl">
                                        <p:cTn id="159" dur="500"/>
                                        <p:tgtEl>
                                          <p:spTgt spid="2363">
                                            <p:txEl>
                                              <p:pRg st="1" end="1"/>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2363">
                                            <p:txEl>
                                              <p:pRg st="2" end="2"/>
                                            </p:txEl>
                                          </p:spTgt>
                                        </p:tgtEl>
                                        <p:attrNameLst>
                                          <p:attrName>style.visibility</p:attrName>
                                        </p:attrNameLst>
                                      </p:cBhvr>
                                      <p:to>
                                        <p:strVal val="visible"/>
                                      </p:to>
                                    </p:set>
                                    <p:animEffect filter="blinds(horizontal)" transition="in">
                                      <p:cBhvr additive="repl">
                                        <p:cTn id="162" dur="500"/>
                                        <p:tgtEl>
                                          <p:spTgt spid="2363">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3" presetSubtype="10">
                                  <p:stCondLst>
                                    <p:cond delay="0"/>
                                  </p:stCondLst>
                                  <p:childTnLst>
                                    <p:animEffect filter="blinds(horizontal)" transition="out">
                                      <p:cBhvr additive="repl">
                                        <p:cTn id="166" dur="500"/>
                                        <p:tgtEl>
                                          <p:spTgt spid="2363">
                                            <p:txEl>
                                              <p:pRg st="1" end="1"/>
                                            </p:txEl>
                                          </p:spTgt>
                                        </p:tgtEl>
                                      </p:cBhvr>
                                    </p:animEffect>
                                    <p:set>
                                      <p:cBhvr>
                                        <p:cTn id="167" dur="1" fill="hold">
                                          <p:stCondLst>
                                            <p:cond delay="499"/>
                                          </p:stCondLst>
                                        </p:cTn>
                                        <p:tgtEl>
                                          <p:spTgt spid="2363">
                                            <p:txEl>
                                              <p:pRg st="1" end="1"/>
                                            </p:txEl>
                                          </p:spTgt>
                                        </p:tgtEl>
                                        <p:attrNameLst>
                                          <p:attrName>style.visibility</p:attrName>
                                        </p:attrNameLst>
                                      </p:cBhvr>
                                      <p:to>
                                        <p:strVal val="hidden"/>
                                      </p:to>
                                    </p:set>
                                  </p:childTnLst>
                                </p:cTn>
                              </p:par>
                              <p:par>
                                <p:cTn id="168" nodeType="withEffect" fill="hold" presetClass="exit" presetID="3" presetSubtype="10">
                                  <p:stCondLst>
                                    <p:cond delay="0"/>
                                  </p:stCondLst>
                                  <p:childTnLst>
                                    <p:animEffect filter="blinds(horizontal)" transition="out">
                                      <p:cBhvr additive="repl">
                                        <p:cTn id="169" dur="500"/>
                                        <p:tgtEl>
                                          <p:spTgt spid="2363">
                                            <p:txEl>
                                              <p:pRg st="2" end="2"/>
                                            </p:txEl>
                                          </p:spTgt>
                                        </p:tgtEl>
                                      </p:cBhvr>
                                    </p:animEffect>
                                    <p:set>
                                      <p:cBhvr>
                                        <p:cTn id="170" dur="1" fill="hold">
                                          <p:stCondLst>
                                            <p:cond delay="499"/>
                                          </p:stCondLst>
                                        </p:cTn>
                                        <p:tgtEl>
                                          <p:spTgt spid="2363">
                                            <p:txEl>
                                              <p:pRg st="2" end="2"/>
                                            </p:txEl>
                                          </p:spTgt>
                                        </p:tgtEl>
                                        <p:attrNameLst>
                                          <p:attrName>style.visibility</p:attrName>
                                        </p:attrNameLst>
                                      </p:cBhvr>
                                      <p:to>
                                        <p:strVal val="hidden"/>
                                      </p:to>
                                    </p:set>
                                  </p:childTnLst>
                                </p:cTn>
                              </p:par>
                              <p:par>
                                <p:cTn id="171" nodeType="withEffect" fill="hold" presetClass="entr" presetID="3" presetSubtype="10">
                                  <p:stCondLst>
                                    <p:cond delay="0"/>
                                  </p:stCondLst>
                                  <p:childTnLst>
                                    <p:set>
                                      <p:cBhvr>
                                        <p:cTn id="172" dur="1" fill="hold">
                                          <p:stCondLst>
                                            <p:cond delay="0"/>
                                          </p:stCondLst>
                                        </p:cTn>
                                        <p:tgtEl>
                                          <p:spTgt spid="2361"/>
                                        </p:tgtEl>
                                        <p:attrNameLst>
                                          <p:attrName>style.visibility</p:attrName>
                                        </p:attrNameLst>
                                      </p:cBhvr>
                                      <p:to>
                                        <p:strVal val="visible"/>
                                      </p:to>
                                    </p:set>
                                    <p:animEffect filter="blinds(horizontal)" transition="in">
                                      <p:cBhvr additive="repl">
                                        <p:cTn id="173" dur="500"/>
                                        <p:tgtEl>
                                          <p:spTgt spid="2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53720" y="479160"/>
            <a:ext cx="846756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WebSphere Message Broker v6</a:t>
            </a:r>
            <a:br>
              <a:rPr sz="2400"/>
            </a:br>
            <a:r>
              <a:rPr b="1" i="1" lang="en-GB" sz="1800" spc="-1" strike="noStrike">
                <a:solidFill>
                  <a:srgbClr val="0518a7"/>
                </a:solidFill>
                <a:latin typeface="Arial"/>
              </a:rPr>
              <a:t>The Advanced ESB for Range and Reach</a:t>
            </a:r>
            <a:r>
              <a:rPr b="0" lang="en-GB" sz="2400" spc="-1" strike="noStrike">
                <a:solidFill>
                  <a:srgbClr val="7889fb"/>
                </a:solidFill>
                <a:latin typeface="Arial"/>
              </a:rPr>
              <a:t> </a:t>
            </a:r>
            <a:endParaRPr b="0" lang="en-US" sz="2400" spc="-1" strike="noStrike">
              <a:solidFill>
                <a:srgbClr val="7889fb"/>
              </a:solidFill>
              <a:latin typeface="Arial"/>
            </a:endParaRPr>
          </a:p>
        </p:txBody>
      </p:sp>
      <p:grpSp>
        <p:nvGrpSpPr>
          <p:cNvPr id="2433" name=""/>
          <p:cNvGrpSpPr/>
          <p:nvPr/>
        </p:nvGrpSpPr>
        <p:grpSpPr>
          <a:xfrm>
            <a:off x="1120680" y="2763720"/>
            <a:ext cx="6954840" cy="2906640"/>
            <a:chOff x="1120680" y="2763720"/>
            <a:chExt cx="6954840" cy="2906640"/>
          </a:xfrm>
        </p:grpSpPr>
        <p:grpSp>
          <p:nvGrpSpPr>
            <p:cNvPr id="2434" name=""/>
            <p:cNvGrpSpPr/>
            <p:nvPr/>
          </p:nvGrpSpPr>
          <p:grpSpPr>
            <a:xfrm>
              <a:off x="1120680" y="2763720"/>
              <a:ext cx="6954840" cy="2906640"/>
              <a:chOff x="1120680" y="2763720"/>
              <a:chExt cx="6954840" cy="2906640"/>
            </a:xfrm>
          </p:grpSpPr>
          <p:grpSp>
            <p:nvGrpSpPr>
              <p:cNvPr id="2435" name=""/>
              <p:cNvGrpSpPr/>
              <p:nvPr/>
            </p:nvGrpSpPr>
            <p:grpSpPr>
              <a:xfrm>
                <a:off x="1120680" y="2763720"/>
                <a:ext cx="6954840" cy="2906640"/>
                <a:chOff x="1120680" y="2763720"/>
                <a:chExt cx="6954840" cy="2906640"/>
              </a:xfrm>
            </p:grpSpPr>
            <p:grpSp>
              <p:nvGrpSpPr>
                <p:cNvPr id="2436" name=""/>
                <p:cNvGrpSpPr/>
                <p:nvPr/>
              </p:nvGrpSpPr>
              <p:grpSpPr>
                <a:xfrm>
                  <a:off x="1120680" y="2763720"/>
                  <a:ext cx="6954840" cy="2906640"/>
                  <a:chOff x="1120680" y="2763720"/>
                  <a:chExt cx="6954840" cy="2906640"/>
                </a:xfrm>
              </p:grpSpPr>
              <p:sp>
                <p:nvSpPr>
                  <p:cNvPr id="2437" name=""/>
                  <p:cNvSpPr/>
                  <p:nvPr/>
                </p:nvSpPr>
                <p:spPr>
                  <a:xfrm>
                    <a:off x="1120680" y="2763720"/>
                    <a:ext cx="6954840" cy="2906640"/>
                  </a:xfrm>
                  <a:prstGeom prst="rect">
                    <a:avLst/>
                  </a:prstGeom>
                  <a:solidFill>
                    <a:srgbClr val="bdc5fd"/>
                  </a:solidFill>
                  <a:ln w="38160">
                    <a:solidFill>
                      <a:srgbClr val="5c5cb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8" name=""/>
                  <p:cNvSpPr/>
                  <p:nvPr/>
                </p:nvSpPr>
                <p:spPr>
                  <a:xfrm>
                    <a:off x="3019320" y="2776320"/>
                    <a:ext cx="3186000" cy="32652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a:ea typeface="Arial"/>
                      </a:rPr>
                      <a:t>WebSphere Message Broker v6</a:t>
                    </a:r>
                    <a:endParaRPr b="0" lang="en-US" sz="1600" spc="-1" strike="noStrike">
                      <a:solidFill>
                        <a:srgbClr val="ffffff"/>
                      </a:solidFill>
                      <a:latin typeface="Arial"/>
                    </a:endParaRPr>
                  </a:p>
                </p:txBody>
              </p:sp>
            </p:grpSp>
            <p:sp>
              <p:nvSpPr>
                <p:cNvPr id="2439" name=""/>
                <p:cNvSpPr/>
                <p:nvPr/>
              </p:nvSpPr>
              <p:spPr>
                <a:xfrm>
                  <a:off x="3092400" y="3147840"/>
                  <a:ext cx="3032280" cy="2031840"/>
                </a:xfrm>
                <a:prstGeom prst="rect">
                  <a:avLst/>
                </a:prstGeom>
                <a:solidFill>
                  <a:srgbClr val="8ca4e8"/>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440" name=""/>
              <p:cNvGrpSpPr/>
              <p:nvPr/>
            </p:nvGrpSpPr>
            <p:grpSpPr>
              <a:xfrm>
                <a:off x="1262160" y="5225760"/>
                <a:ext cx="6678360" cy="344520"/>
                <a:chOff x="1262160" y="5225760"/>
                <a:chExt cx="6678360" cy="344520"/>
              </a:xfrm>
            </p:grpSpPr>
            <p:sp>
              <p:nvSpPr>
                <p:cNvPr id="2441" name=""/>
                <p:cNvSpPr/>
                <p:nvPr/>
              </p:nvSpPr>
              <p:spPr>
                <a:xfrm>
                  <a:off x="1262160" y="5233680"/>
                  <a:ext cx="6678360" cy="33660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442" name=""/>
                <p:cNvGrpSpPr/>
                <p:nvPr/>
              </p:nvGrpSpPr>
              <p:grpSpPr>
                <a:xfrm>
                  <a:off x="6800760" y="5276520"/>
                  <a:ext cx="573120" cy="252360"/>
                  <a:chOff x="6800760" y="5276520"/>
                  <a:chExt cx="573120" cy="252360"/>
                </a:xfrm>
              </p:grpSpPr>
              <p:sp>
                <p:nvSpPr>
                  <p:cNvPr id="2443" name=""/>
                  <p:cNvSpPr/>
                  <p:nvPr/>
                </p:nvSpPr>
                <p:spPr>
                  <a:xfrm>
                    <a:off x="6800760" y="5277240"/>
                    <a:ext cx="573120" cy="168480"/>
                  </a:xfrm>
                  <a:custGeom>
                    <a:avLst/>
                    <a:gdLst/>
                    <a:ahLst/>
                    <a:rect l="l" t="t" r="r" b="b"/>
                    <a:pathLst>
                      <a:path w="1575" h="732">
                        <a:moveTo>
                          <a:pt x="1137" y="0"/>
                        </a:moveTo>
                        <a:lnTo>
                          <a:pt x="1575" y="219"/>
                        </a:lnTo>
                        <a:lnTo>
                          <a:pt x="458" y="732"/>
                        </a:lnTo>
                        <a:lnTo>
                          <a:pt x="0" y="435"/>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close/>
                      </a:path>
                    </a:pathLst>
                  </a:custGeom>
                  <a:solidFill>
                    <a:srgbClr val="ffff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4" name=""/>
                  <p:cNvSpPr/>
                  <p:nvPr/>
                </p:nvSpPr>
                <p:spPr>
                  <a:xfrm>
                    <a:off x="6919200" y="5277240"/>
                    <a:ext cx="441000" cy="168480"/>
                  </a:xfrm>
                  <a:custGeom>
                    <a:avLst/>
                    <a:gdLst/>
                    <a:ahLst/>
                    <a:rect l="l" t="t" r="r" b="b"/>
                    <a:pathLst>
                      <a:path w="1211" h="732">
                        <a:moveTo>
                          <a:pt x="811" y="291"/>
                        </a:moveTo>
                        <a:lnTo>
                          <a:pt x="0" y="653"/>
                        </a:lnTo>
                        <a:lnTo>
                          <a:pt x="125" y="732"/>
                        </a:lnTo>
                        <a:lnTo>
                          <a:pt x="1211" y="233"/>
                        </a:lnTo>
                        <a:lnTo>
                          <a:pt x="811" y="0"/>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close/>
                      </a:path>
                    </a:pathLst>
                  </a:custGeom>
                  <a:solidFill>
                    <a:srgbClr val="7fa25f"/>
                  </a:solidFill>
                  <a:ln w="1584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5" name=""/>
                  <p:cNvSpPr/>
                  <p:nvPr/>
                </p:nvSpPr>
                <p:spPr>
                  <a:xfrm>
                    <a:off x="6800760" y="5277240"/>
                    <a:ext cx="414360" cy="184680"/>
                  </a:xfrm>
                  <a:custGeom>
                    <a:avLst/>
                    <a:gdLst/>
                    <a:ahLst/>
                    <a:rect l="l" t="t" r="r" b="b"/>
                    <a:pathLst>
                      <a:path w="1137" h="799">
                        <a:moveTo>
                          <a:pt x="1137" y="291"/>
                        </a:moveTo>
                        <a:lnTo>
                          <a:pt x="1137" y="0"/>
                        </a:lnTo>
                        <a:lnTo>
                          <a:pt x="3" y="432"/>
                        </a:lnTo>
                        <a:lnTo>
                          <a:pt x="0" y="794"/>
                        </a:lnTo>
                        <a:lnTo>
                          <a:pt x="3" y="799"/>
                        </a:lnTo>
                        <a:lnTo>
                          <a:pt x="3" y="799"/>
                        </a:lnTo>
                        <a:lnTo>
                          <a:pt x="1137" y="291"/>
                        </a:lnTo>
                        <a:lnTo>
                          <a:pt x="3" y="799"/>
                        </a:lnTo>
                        <a:lnTo>
                          <a:pt x="1137" y="291"/>
                        </a:lnTo>
                        <a:lnTo>
                          <a:pt x="3" y="799"/>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6" name=""/>
                  <p:cNvSpPr/>
                  <p:nvPr/>
                </p:nvSpPr>
                <p:spPr>
                  <a:xfrm>
                    <a:off x="7215120" y="5276520"/>
                    <a:ext cx="157680" cy="84240"/>
                  </a:xfrm>
                  <a:custGeom>
                    <a:avLst/>
                    <a:gdLst/>
                    <a:ahLst/>
                    <a:rect l="l" t="t" r="r" b="b"/>
                    <a:pathLst>
                      <a:path w="435" h="365">
                        <a:moveTo>
                          <a:pt x="107" y="365"/>
                        </a:moveTo>
                        <a:lnTo>
                          <a:pt x="435" y="221"/>
                        </a:lnTo>
                        <a:lnTo>
                          <a:pt x="0" y="0"/>
                        </a:lnTo>
                        <a:lnTo>
                          <a:pt x="0" y="293"/>
                        </a:lnTo>
                        <a:lnTo>
                          <a:pt x="0" y="293"/>
                        </a:lnTo>
                        <a:lnTo>
                          <a:pt x="107" y="365"/>
                        </a:lnTo>
                        <a:lnTo>
                          <a:pt x="0" y="293"/>
                        </a:lnTo>
                        <a:lnTo>
                          <a:pt x="107" y="365"/>
                        </a:lnTo>
                        <a:lnTo>
                          <a:pt x="0" y="293"/>
                        </a:lnTo>
                        <a:close/>
                      </a:path>
                    </a:pathLst>
                  </a:custGeom>
                  <a:solidFill>
                    <a:srgbClr val="008000"/>
                  </a:solidFill>
                  <a:ln w="1584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447" name=""/>
                  <p:cNvSpPr/>
                  <p:nvPr/>
                </p:nvSpPr>
                <p:spPr>
                  <a:xfrm>
                    <a:off x="6987600" y="5304240"/>
                    <a:ext cx="165600" cy="130680"/>
                  </a:xfrm>
                  <a:custGeom>
                    <a:avLst/>
                    <a:gdLst/>
                    <a:ahLst/>
                    <a:rect l="l" t="t" r="r" b="b"/>
                    <a:pathLst>
                      <a:path w="455" h="564">
                        <a:moveTo>
                          <a:pt x="455" y="564"/>
                        </a:moveTo>
                        <a:lnTo>
                          <a:pt x="455" y="274"/>
                        </a:lnTo>
                        <a:lnTo>
                          <a:pt x="0" y="0"/>
                        </a:lnTo>
                        <a:lnTo>
                          <a:pt x="0" y="362"/>
                        </a:lnTo>
                        <a:lnTo>
                          <a:pt x="0" y="362"/>
                        </a:lnTo>
                        <a:lnTo>
                          <a:pt x="455" y="564"/>
                        </a:lnTo>
                        <a:lnTo>
                          <a:pt x="0" y="362"/>
                        </a:lnTo>
                        <a:lnTo>
                          <a:pt x="455" y="564"/>
                        </a:lnTo>
                        <a:lnTo>
                          <a:pt x="0" y="362"/>
                        </a:lnTo>
                        <a:lnTo>
                          <a:pt x="455" y="564"/>
                        </a:lnTo>
                        <a:lnTo>
                          <a:pt x="0" y="362"/>
                        </a:lnTo>
                        <a:lnTo>
                          <a:pt x="455" y="564"/>
                        </a:lnTo>
                        <a:lnTo>
                          <a:pt x="0" y="362"/>
                        </a:lnTo>
                        <a:close/>
                      </a:path>
                    </a:pathLst>
                  </a:custGeom>
                  <a:solidFill>
                    <a:srgbClr val="4c4cd2"/>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8" name=""/>
                  <p:cNvSpPr/>
                  <p:nvPr/>
                </p:nvSpPr>
                <p:spPr>
                  <a:xfrm>
                    <a:off x="6932520" y="5314320"/>
                    <a:ext cx="165960" cy="129960"/>
                  </a:xfrm>
                  <a:custGeom>
                    <a:avLst/>
                    <a:gdLst/>
                    <a:ahLst/>
                    <a:rect l="l" t="t" r="r" b="b"/>
                    <a:pathLst>
                      <a:path w="455" h="565">
                        <a:moveTo>
                          <a:pt x="455" y="565"/>
                        </a:moveTo>
                        <a:lnTo>
                          <a:pt x="455" y="276"/>
                        </a:lnTo>
                        <a:lnTo>
                          <a:pt x="0" y="0"/>
                        </a:lnTo>
                        <a:lnTo>
                          <a:pt x="0" y="364"/>
                        </a:lnTo>
                        <a:lnTo>
                          <a:pt x="0" y="364"/>
                        </a:lnTo>
                        <a:lnTo>
                          <a:pt x="455" y="565"/>
                        </a:lnTo>
                        <a:lnTo>
                          <a:pt x="0" y="364"/>
                        </a:lnTo>
                        <a:lnTo>
                          <a:pt x="455" y="565"/>
                        </a:lnTo>
                        <a:lnTo>
                          <a:pt x="0" y="364"/>
                        </a:lnTo>
                        <a:lnTo>
                          <a:pt x="455" y="565"/>
                        </a:lnTo>
                        <a:lnTo>
                          <a:pt x="0" y="364"/>
                        </a:lnTo>
                        <a:lnTo>
                          <a:pt x="455" y="565"/>
                        </a:lnTo>
                        <a:lnTo>
                          <a:pt x="0" y="364"/>
                        </a:lnTo>
                        <a:close/>
                      </a:path>
                    </a:pathLst>
                  </a:custGeom>
                  <a:solidFill>
                    <a:srgbClr val="969696"/>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9" name=""/>
                  <p:cNvSpPr/>
                  <p:nvPr/>
                </p:nvSpPr>
                <p:spPr>
                  <a:xfrm>
                    <a:off x="6899040" y="5328360"/>
                    <a:ext cx="165600" cy="130680"/>
                  </a:xfrm>
                  <a:custGeom>
                    <a:avLst/>
                    <a:gdLst/>
                    <a:ahLst/>
                    <a:rect l="l" t="t" r="r" b="b"/>
                    <a:pathLst>
                      <a:path w="456" h="565">
                        <a:moveTo>
                          <a:pt x="456" y="565"/>
                        </a:moveTo>
                        <a:lnTo>
                          <a:pt x="456" y="274"/>
                        </a:lnTo>
                        <a:lnTo>
                          <a:pt x="0" y="0"/>
                        </a:lnTo>
                        <a:lnTo>
                          <a:pt x="0" y="363"/>
                        </a:lnTo>
                        <a:lnTo>
                          <a:pt x="0" y="363"/>
                        </a:lnTo>
                        <a:lnTo>
                          <a:pt x="456" y="565"/>
                        </a:lnTo>
                        <a:lnTo>
                          <a:pt x="0" y="363"/>
                        </a:lnTo>
                        <a:lnTo>
                          <a:pt x="456" y="565"/>
                        </a:lnTo>
                        <a:lnTo>
                          <a:pt x="0" y="363"/>
                        </a:lnTo>
                        <a:lnTo>
                          <a:pt x="456" y="565"/>
                        </a:lnTo>
                        <a:lnTo>
                          <a:pt x="0" y="363"/>
                        </a:lnTo>
                        <a:lnTo>
                          <a:pt x="456" y="565"/>
                        </a:lnTo>
                        <a:lnTo>
                          <a:pt x="0" y="363"/>
                        </a:lnTo>
                        <a:close/>
                      </a:path>
                    </a:pathLst>
                  </a:custGeom>
                  <a:solidFill>
                    <a:srgbClr val="000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0" name=""/>
                  <p:cNvSpPr/>
                  <p:nvPr/>
                </p:nvSpPr>
                <p:spPr>
                  <a:xfrm>
                    <a:off x="6856920" y="5338800"/>
                    <a:ext cx="162000" cy="133920"/>
                  </a:xfrm>
                  <a:custGeom>
                    <a:avLst/>
                    <a:gdLst/>
                    <a:ahLst/>
                    <a:rect l="l" t="t" r="r" b="b"/>
                    <a:pathLst>
                      <a:path w="445" h="577">
                        <a:moveTo>
                          <a:pt x="442" y="577"/>
                        </a:moveTo>
                        <a:lnTo>
                          <a:pt x="445" y="272"/>
                        </a:lnTo>
                        <a:lnTo>
                          <a:pt x="3" y="0"/>
                        </a:lnTo>
                        <a:lnTo>
                          <a:pt x="0" y="34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close/>
                      </a:path>
                    </a:pathLst>
                  </a:custGeom>
                  <a:solidFill>
                    <a:srgbClr val="ffff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1" name=""/>
                  <p:cNvSpPr/>
                  <p:nvPr/>
                </p:nvSpPr>
                <p:spPr>
                  <a:xfrm>
                    <a:off x="6806880" y="5354640"/>
                    <a:ext cx="163800" cy="142560"/>
                  </a:xfrm>
                  <a:custGeom>
                    <a:avLst/>
                    <a:gdLst/>
                    <a:ahLst/>
                    <a:rect l="l" t="t" r="r" b="b"/>
                    <a:pathLst>
                      <a:path w="452" h="617">
                        <a:moveTo>
                          <a:pt x="452" y="617"/>
                        </a:moveTo>
                        <a:lnTo>
                          <a:pt x="452" y="284"/>
                        </a:lnTo>
                        <a:lnTo>
                          <a:pt x="0" y="0"/>
                        </a:lnTo>
                        <a:lnTo>
                          <a:pt x="2" y="386"/>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close/>
                      </a:path>
                    </a:pathLst>
                  </a:custGeom>
                  <a:solidFill>
                    <a:srgbClr val="0000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2" name=""/>
                  <p:cNvSpPr/>
                  <p:nvPr/>
                </p:nvSpPr>
                <p:spPr>
                  <a:xfrm>
                    <a:off x="6802200" y="5379840"/>
                    <a:ext cx="164880" cy="149040"/>
                  </a:xfrm>
                  <a:custGeom>
                    <a:avLst/>
                    <a:gdLst/>
                    <a:ahLst/>
                    <a:rect l="l" t="t" r="r" b="b"/>
                    <a:pathLst>
                      <a:path w="455" h="644">
                        <a:moveTo>
                          <a:pt x="0" y="350"/>
                        </a:moveTo>
                        <a:lnTo>
                          <a:pt x="455" y="644"/>
                        </a:lnTo>
                        <a:lnTo>
                          <a:pt x="455" y="288"/>
                        </a:lnTo>
                        <a:lnTo>
                          <a:pt x="0" y="0"/>
                        </a:lnTo>
                        <a:lnTo>
                          <a:pt x="0" y="89"/>
                        </a:lnTo>
                        <a:lnTo>
                          <a:pt x="0" y="52"/>
                        </a:lnTo>
                        <a:lnTo>
                          <a:pt x="0" y="52"/>
                        </a:lnTo>
                        <a:lnTo>
                          <a:pt x="0" y="350"/>
                        </a:lnTo>
                        <a:lnTo>
                          <a:pt x="0" y="52"/>
                        </a:lnTo>
                        <a:lnTo>
                          <a:pt x="0" y="350"/>
                        </a:lnTo>
                        <a:lnTo>
                          <a:pt x="0" y="52"/>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3" name=""/>
                  <p:cNvSpPr/>
                  <p:nvPr/>
                </p:nvSpPr>
                <p:spPr>
                  <a:xfrm>
                    <a:off x="6964560" y="5327640"/>
                    <a:ext cx="409320" cy="199440"/>
                  </a:xfrm>
                  <a:custGeom>
                    <a:avLst/>
                    <a:gdLst/>
                    <a:ahLst/>
                    <a:rect l="l" t="t" r="r" b="b"/>
                    <a:pathLst>
                      <a:path w="1124" h="862">
                        <a:moveTo>
                          <a:pt x="0" y="862"/>
                        </a:moveTo>
                        <a:lnTo>
                          <a:pt x="0" y="515"/>
                        </a:lnTo>
                        <a:lnTo>
                          <a:pt x="1124" y="0"/>
                        </a:lnTo>
                        <a:lnTo>
                          <a:pt x="1124" y="330"/>
                        </a:lnTo>
                        <a:lnTo>
                          <a:pt x="1124" y="330"/>
                        </a:lnTo>
                        <a:lnTo>
                          <a:pt x="0" y="862"/>
                        </a:lnTo>
                        <a:lnTo>
                          <a:pt x="1124" y="330"/>
                        </a:lnTo>
                        <a:lnTo>
                          <a:pt x="0" y="862"/>
                        </a:lnTo>
                        <a:lnTo>
                          <a:pt x="1124" y="330"/>
                        </a:lnTo>
                        <a:lnTo>
                          <a:pt x="0" y="862"/>
                        </a:lnTo>
                        <a:lnTo>
                          <a:pt x="1124" y="330"/>
                        </a:lnTo>
                        <a:lnTo>
                          <a:pt x="0" y="862"/>
                        </a:lnTo>
                        <a:lnTo>
                          <a:pt x="1124" y="330"/>
                        </a:lnTo>
                        <a:lnTo>
                          <a:pt x="0" y="862"/>
                        </a:lnTo>
                        <a:lnTo>
                          <a:pt x="1124" y="330"/>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454" name=""/>
                <p:cNvSpPr/>
                <p:nvPr/>
              </p:nvSpPr>
              <p:spPr>
                <a:xfrm>
                  <a:off x="3762360" y="5225760"/>
                  <a:ext cx="1663560" cy="32652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a:ea typeface="Arial"/>
                    </a:rPr>
                    <a:t>WebSphere MQ</a:t>
                  </a:r>
                  <a:endParaRPr b="0" lang="en-US" sz="1600" spc="-1" strike="noStrike">
                    <a:solidFill>
                      <a:srgbClr val="ffffff"/>
                    </a:solidFill>
                    <a:latin typeface="Arial"/>
                  </a:endParaRPr>
                </a:p>
              </p:txBody>
            </p:sp>
            <p:grpSp>
              <p:nvGrpSpPr>
                <p:cNvPr id="2455" name=""/>
                <p:cNvGrpSpPr/>
                <p:nvPr/>
              </p:nvGrpSpPr>
              <p:grpSpPr>
                <a:xfrm>
                  <a:off x="1773360" y="5281200"/>
                  <a:ext cx="574560" cy="242640"/>
                  <a:chOff x="1773360" y="5281200"/>
                  <a:chExt cx="574560" cy="242640"/>
                </a:xfrm>
              </p:grpSpPr>
              <p:sp>
                <p:nvSpPr>
                  <p:cNvPr id="2456" name=""/>
                  <p:cNvSpPr/>
                  <p:nvPr/>
                </p:nvSpPr>
                <p:spPr>
                  <a:xfrm>
                    <a:off x="1773360" y="5292360"/>
                    <a:ext cx="574560" cy="155160"/>
                  </a:xfrm>
                  <a:custGeom>
                    <a:avLst/>
                    <a:gdLst/>
                    <a:ahLst/>
                    <a:rect l="l" t="t" r="r" b="b"/>
                    <a:pathLst>
                      <a:path w="617" h="174">
                        <a:moveTo>
                          <a:pt x="443" y="0"/>
                        </a:moveTo>
                        <a:lnTo>
                          <a:pt x="617" y="51"/>
                        </a:lnTo>
                        <a:lnTo>
                          <a:pt x="179" y="174"/>
                        </a:lnTo>
                        <a:lnTo>
                          <a:pt x="0" y="105"/>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7" name=""/>
                  <p:cNvSpPr/>
                  <p:nvPr/>
                </p:nvSpPr>
                <p:spPr>
                  <a:xfrm>
                    <a:off x="1773360" y="5292360"/>
                    <a:ext cx="412560" cy="170280"/>
                  </a:xfrm>
                  <a:custGeom>
                    <a:avLst/>
                    <a:gdLst/>
                    <a:ahLst/>
                    <a:rect l="l" t="t" r="r" b="b"/>
                    <a:pathLst>
                      <a:path w="443" h="191">
                        <a:moveTo>
                          <a:pt x="443" y="70"/>
                        </a:moveTo>
                        <a:lnTo>
                          <a:pt x="443" y="0"/>
                        </a:lnTo>
                        <a:lnTo>
                          <a:pt x="1" y="104"/>
                        </a:lnTo>
                        <a:lnTo>
                          <a:pt x="0" y="188"/>
                        </a:lnTo>
                        <a:lnTo>
                          <a:pt x="1" y="191"/>
                        </a:lnTo>
                        <a:lnTo>
                          <a:pt x="1" y="191"/>
                        </a:lnTo>
                        <a:lnTo>
                          <a:pt x="443" y="70"/>
                        </a:lnTo>
                        <a:lnTo>
                          <a:pt x="1" y="191"/>
                        </a:lnTo>
                        <a:close/>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8" name=""/>
                  <p:cNvSpPr/>
                  <p:nvPr/>
                </p:nvSpPr>
                <p:spPr>
                  <a:xfrm>
                    <a:off x="1774080" y="5385960"/>
                    <a:ext cx="165960" cy="137880"/>
                  </a:xfrm>
                  <a:custGeom>
                    <a:avLst/>
                    <a:gdLst/>
                    <a:ahLst/>
                    <a:rect l="l" t="t" r="r" b="b"/>
                    <a:pathLst>
                      <a:path w="178" h="155">
                        <a:moveTo>
                          <a:pt x="0" y="83"/>
                        </a:moveTo>
                        <a:lnTo>
                          <a:pt x="178" y="155"/>
                        </a:lnTo>
                        <a:lnTo>
                          <a:pt x="178" y="69"/>
                        </a:lnTo>
                        <a:lnTo>
                          <a:pt x="0" y="0"/>
                        </a:lnTo>
                        <a:lnTo>
                          <a:pt x="0" y="22"/>
                        </a:lnTo>
                        <a:lnTo>
                          <a:pt x="0" y="12"/>
                        </a:lnTo>
                        <a:lnTo>
                          <a:pt x="0" y="12"/>
                        </a:lnTo>
                        <a:lnTo>
                          <a:pt x="0" y="83"/>
                        </a:lnTo>
                        <a:lnTo>
                          <a:pt x="0" y="12"/>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9" name=""/>
                  <p:cNvSpPr/>
                  <p:nvPr/>
                </p:nvSpPr>
                <p:spPr>
                  <a:xfrm>
                    <a:off x="1892160" y="5292360"/>
                    <a:ext cx="455400" cy="155160"/>
                  </a:xfrm>
                  <a:custGeom>
                    <a:avLst/>
                    <a:gdLst/>
                    <a:ahLst/>
                    <a:rect l="l" t="t" r="r" b="b"/>
                    <a:pathLst>
                      <a:path w="489" h="174">
                        <a:moveTo>
                          <a:pt x="315" y="70"/>
                        </a:moveTo>
                        <a:lnTo>
                          <a:pt x="0" y="155"/>
                        </a:lnTo>
                        <a:lnTo>
                          <a:pt x="50" y="174"/>
                        </a:lnTo>
                        <a:lnTo>
                          <a:pt x="489" y="51"/>
                        </a:lnTo>
                        <a:lnTo>
                          <a:pt x="315" y="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close/>
                      </a:path>
                    </a:pathLst>
                  </a:custGeom>
                  <a:solidFill>
                    <a:srgbClr val="7fa25f"/>
                  </a:solidFill>
                  <a:ln w="1260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0" name=""/>
                  <p:cNvSpPr/>
                  <p:nvPr/>
                </p:nvSpPr>
                <p:spPr>
                  <a:xfrm>
                    <a:off x="2181600" y="5281200"/>
                    <a:ext cx="165960" cy="119880"/>
                  </a:xfrm>
                  <a:custGeom>
                    <a:avLst/>
                    <a:gdLst/>
                    <a:ahLst/>
                    <a:rect l="l" t="t" r="r" b="b"/>
                    <a:pathLst>
                      <a:path w="178" h="134">
                        <a:moveTo>
                          <a:pt x="178" y="134"/>
                        </a:moveTo>
                        <a:lnTo>
                          <a:pt x="178" y="53"/>
                        </a:lnTo>
                        <a:lnTo>
                          <a:pt x="0" y="0"/>
                        </a:lnTo>
                        <a:lnTo>
                          <a:pt x="0" y="87"/>
                        </a:lnTo>
                        <a:lnTo>
                          <a:pt x="0" y="87"/>
                        </a:lnTo>
                        <a:lnTo>
                          <a:pt x="178" y="134"/>
                        </a:lnTo>
                        <a:lnTo>
                          <a:pt x="0" y="8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1" name=""/>
                  <p:cNvSpPr/>
                  <p:nvPr/>
                </p:nvSpPr>
                <p:spPr>
                  <a:xfrm>
                    <a:off x="2129760" y="5294160"/>
                    <a:ext cx="163440" cy="127800"/>
                  </a:xfrm>
                  <a:custGeom>
                    <a:avLst/>
                    <a:gdLst/>
                    <a:ahLst/>
                    <a:rect l="l" t="t" r="r" b="b"/>
                    <a:pathLst>
                      <a:path w="176" h="144">
                        <a:moveTo>
                          <a:pt x="174" y="144"/>
                        </a:moveTo>
                        <a:lnTo>
                          <a:pt x="176" y="55"/>
                        </a:lnTo>
                        <a:lnTo>
                          <a:pt x="0" y="0"/>
                        </a:lnTo>
                        <a:lnTo>
                          <a:pt x="0" y="88"/>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2" name=""/>
                  <p:cNvSpPr/>
                  <p:nvPr/>
                </p:nvSpPr>
                <p:spPr>
                  <a:xfrm>
                    <a:off x="2072520" y="5304240"/>
                    <a:ext cx="168840" cy="131040"/>
                  </a:xfrm>
                  <a:custGeom>
                    <a:avLst/>
                    <a:gdLst/>
                    <a:ahLst/>
                    <a:rect l="l" t="t" r="r" b="b"/>
                    <a:pathLst>
                      <a:path w="181" h="147">
                        <a:moveTo>
                          <a:pt x="177" y="147"/>
                        </a:moveTo>
                        <a:lnTo>
                          <a:pt x="181" y="61"/>
                        </a:lnTo>
                        <a:lnTo>
                          <a:pt x="0" y="0"/>
                        </a:lnTo>
                        <a:lnTo>
                          <a:pt x="0" y="92"/>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close/>
                      </a:path>
                    </a:pathLst>
                  </a:custGeom>
                  <a:solidFill>
                    <a:srgbClr val="7889fb"/>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3" name=""/>
                  <p:cNvSpPr/>
                  <p:nvPr/>
                </p:nvSpPr>
                <p:spPr>
                  <a:xfrm>
                    <a:off x="1938960" y="5337360"/>
                    <a:ext cx="408600" cy="186480"/>
                  </a:xfrm>
                  <a:custGeom>
                    <a:avLst/>
                    <a:gdLst/>
                    <a:ahLst/>
                    <a:rect l="l" t="t" r="r" b="b"/>
                    <a:pathLst>
                      <a:path w="439" h="209">
                        <a:moveTo>
                          <a:pt x="0" y="209"/>
                        </a:moveTo>
                        <a:lnTo>
                          <a:pt x="0" y="124"/>
                        </a:lnTo>
                        <a:lnTo>
                          <a:pt x="439" y="0"/>
                        </a:lnTo>
                        <a:lnTo>
                          <a:pt x="439" y="80"/>
                        </a:lnTo>
                        <a:lnTo>
                          <a:pt x="439" y="80"/>
                        </a:lnTo>
                        <a:lnTo>
                          <a:pt x="0" y="209"/>
                        </a:lnTo>
                        <a:lnTo>
                          <a:pt x="439" y="80"/>
                        </a:lnTo>
                        <a:lnTo>
                          <a:pt x="0" y="209"/>
                        </a:lnTo>
                        <a:lnTo>
                          <a:pt x="439" y="80"/>
                        </a:lnTo>
                        <a:lnTo>
                          <a:pt x="0" y="209"/>
                        </a:lnTo>
                        <a:lnTo>
                          <a:pt x="439" y="80"/>
                        </a:lnTo>
                        <a:lnTo>
                          <a:pt x="0" y="209"/>
                        </a:lnTo>
                        <a:lnTo>
                          <a:pt x="439" y="80"/>
                        </a:lnTo>
                        <a:lnTo>
                          <a:pt x="0" y="209"/>
                        </a:lnTo>
                        <a:lnTo>
                          <a:pt x="439" y="80"/>
                        </a:lnTo>
                        <a:lnTo>
                          <a:pt x="0" y="209"/>
                        </a:lnTo>
                        <a:lnTo>
                          <a:pt x="439" y="80"/>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grpSp>
          <p:nvGrpSpPr>
            <p:cNvPr id="2464" name=""/>
            <p:cNvGrpSpPr/>
            <p:nvPr/>
          </p:nvGrpSpPr>
          <p:grpSpPr>
            <a:xfrm>
              <a:off x="2440080" y="3705120"/>
              <a:ext cx="3845880" cy="1401480"/>
              <a:chOff x="2440080" y="3705120"/>
              <a:chExt cx="3845880" cy="1401480"/>
            </a:xfrm>
          </p:grpSpPr>
          <p:grpSp>
            <p:nvGrpSpPr>
              <p:cNvPr id="2465" name=""/>
              <p:cNvGrpSpPr/>
              <p:nvPr/>
            </p:nvGrpSpPr>
            <p:grpSpPr>
              <a:xfrm>
                <a:off x="3922200" y="4719240"/>
                <a:ext cx="2258640" cy="382320"/>
                <a:chOff x="3922200" y="4719240"/>
                <a:chExt cx="2258640" cy="382320"/>
              </a:xfrm>
            </p:grpSpPr>
            <p:graphicFrame>
              <p:nvGraphicFramePr>
                <p:cNvPr id="2466" name=""/>
                <p:cNvGraphicFramePr/>
                <p:nvPr/>
              </p:nvGraphicFramePr>
              <p:xfrm>
                <a:off x="5591160" y="4741200"/>
                <a:ext cx="360360" cy="360360"/>
              </p:xfrm>
              <a:graphic>
                <a:graphicData uri="http://schemas.openxmlformats.org/presentationml/2006/ole">
                  <p:oleObj r:id="rId1" spid="">
                    <p:embed/>
                    <p:pic>
                      <p:nvPicPr>
                        <p:cNvPr id="2467" name="" descr=""/>
                        <p:cNvPicPr/>
                        <p:nvPr/>
                      </p:nvPicPr>
                      <p:blipFill>
                        <a:blip r:embed="rId2"/>
                        <a:stretch/>
                      </p:blipFill>
                      <p:spPr>
                        <a:xfrm>
                          <a:off x="5591160" y="4741200"/>
                          <a:ext cx="360360" cy="360360"/>
                        </a:xfrm>
                        <a:prstGeom prst="rect">
                          <a:avLst/>
                        </a:prstGeom>
                        <a:ln w="0">
                          <a:noFill/>
                        </a:ln>
                      </p:spPr>
                    </p:pic>
                  </p:oleObj>
                </a:graphicData>
              </a:graphic>
            </p:graphicFrame>
            <p:sp>
              <p:nvSpPr>
                <p:cNvPr id="2468" name=""/>
                <p:cNvSpPr/>
                <p:nvPr/>
              </p:nvSpPr>
              <p:spPr>
                <a:xfrm>
                  <a:off x="3922200" y="4719240"/>
                  <a:ext cx="225864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Enrich</a:t>
                  </a:r>
                  <a:endParaRPr b="0" lang="en-US" sz="1600" spc="-1" strike="noStrike">
                    <a:solidFill>
                      <a:srgbClr val="ffffff"/>
                    </a:solidFill>
                    <a:latin typeface="Arial"/>
                  </a:endParaRPr>
                </a:p>
              </p:txBody>
            </p:sp>
          </p:grpSp>
          <p:grpSp>
            <p:nvGrpSpPr>
              <p:cNvPr id="2469" name=""/>
              <p:cNvGrpSpPr/>
              <p:nvPr/>
            </p:nvGrpSpPr>
            <p:grpSpPr>
              <a:xfrm>
                <a:off x="2512800" y="4198680"/>
                <a:ext cx="2021040" cy="374400"/>
                <a:chOff x="2512800" y="4198680"/>
                <a:chExt cx="2021040" cy="374400"/>
              </a:xfrm>
            </p:grpSpPr>
            <p:graphicFrame>
              <p:nvGraphicFramePr>
                <p:cNvPr id="2470" name=""/>
                <p:cNvGraphicFramePr/>
                <p:nvPr/>
              </p:nvGraphicFramePr>
              <p:xfrm>
                <a:off x="4000320" y="4215960"/>
                <a:ext cx="357120" cy="357120"/>
              </p:xfrm>
              <a:graphic>
                <a:graphicData uri="http://schemas.openxmlformats.org/presentationml/2006/ole">
                  <p:oleObj r:id="rId3" spid="">
                    <p:embed/>
                    <p:pic>
                      <p:nvPicPr>
                        <p:cNvPr id="2471" name="" descr=""/>
                        <p:cNvPicPr/>
                        <p:nvPr/>
                      </p:nvPicPr>
                      <p:blipFill>
                        <a:blip r:embed="rId4"/>
                        <a:stretch/>
                      </p:blipFill>
                      <p:spPr>
                        <a:xfrm>
                          <a:off x="4000320" y="4215960"/>
                          <a:ext cx="357120" cy="357120"/>
                        </a:xfrm>
                        <a:prstGeom prst="rect">
                          <a:avLst/>
                        </a:prstGeom>
                        <a:ln w="0">
                          <a:noFill/>
                        </a:ln>
                      </p:spPr>
                    </p:pic>
                  </p:oleObj>
                </a:graphicData>
              </a:graphic>
            </p:graphicFrame>
            <p:sp>
              <p:nvSpPr>
                <p:cNvPr id="2472" name=""/>
                <p:cNvSpPr/>
                <p:nvPr/>
              </p:nvSpPr>
              <p:spPr>
                <a:xfrm>
                  <a:off x="2512800" y="4198680"/>
                  <a:ext cx="202104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33"/>
                      </a:solidFill>
                      <a:latin typeface="Arial"/>
                      <a:ea typeface="Arial"/>
                    </a:rPr>
                    <a:t>Log</a:t>
                  </a:r>
                  <a:endParaRPr b="0" lang="en-US" sz="1600" spc="-1" strike="noStrike">
                    <a:solidFill>
                      <a:srgbClr val="ffffff"/>
                    </a:solidFill>
                    <a:latin typeface="Arial"/>
                  </a:endParaRPr>
                </a:p>
              </p:txBody>
            </p:sp>
          </p:grpSp>
          <p:grpSp>
            <p:nvGrpSpPr>
              <p:cNvPr id="2473" name=""/>
              <p:cNvGrpSpPr/>
              <p:nvPr/>
            </p:nvGrpSpPr>
            <p:grpSpPr>
              <a:xfrm>
                <a:off x="2440080" y="4724280"/>
                <a:ext cx="2223720" cy="382320"/>
                <a:chOff x="2440080" y="4724280"/>
                <a:chExt cx="2223720" cy="382320"/>
              </a:xfrm>
            </p:grpSpPr>
            <p:graphicFrame>
              <p:nvGraphicFramePr>
                <p:cNvPr id="2474" name=""/>
                <p:cNvGraphicFramePr/>
                <p:nvPr/>
              </p:nvGraphicFramePr>
              <p:xfrm>
                <a:off x="3978000" y="4748040"/>
                <a:ext cx="354240" cy="358560"/>
              </p:xfrm>
              <a:graphic>
                <a:graphicData uri="http://schemas.openxmlformats.org/presentationml/2006/ole">
                  <p:oleObj r:id="rId5" spid="">
                    <p:embed/>
                    <p:pic>
                      <p:nvPicPr>
                        <p:cNvPr id="2475" name="" descr=""/>
                        <p:cNvPicPr/>
                        <p:nvPr/>
                      </p:nvPicPr>
                      <p:blipFill>
                        <a:blip r:embed="rId6"/>
                        <a:stretch/>
                      </p:blipFill>
                      <p:spPr>
                        <a:xfrm>
                          <a:off x="3978000" y="4748040"/>
                          <a:ext cx="354240" cy="358560"/>
                        </a:xfrm>
                        <a:prstGeom prst="rect">
                          <a:avLst/>
                        </a:prstGeom>
                        <a:ln w="0">
                          <a:noFill/>
                        </a:ln>
                      </p:spPr>
                    </p:pic>
                  </p:oleObj>
                </a:graphicData>
              </a:graphic>
            </p:graphicFrame>
            <p:sp>
              <p:nvSpPr>
                <p:cNvPr id="2476" name=""/>
                <p:cNvSpPr/>
                <p:nvPr/>
              </p:nvSpPr>
              <p:spPr>
                <a:xfrm>
                  <a:off x="2440080" y="4724280"/>
                  <a:ext cx="222372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ea typeface="Arial"/>
                    </a:rPr>
                    <a:t>Route</a:t>
                  </a:r>
                  <a:endParaRPr b="0" lang="en-US" sz="1600" spc="-1" strike="noStrike">
                    <a:solidFill>
                      <a:srgbClr val="ffffff"/>
                    </a:solidFill>
                    <a:latin typeface="Arial"/>
                  </a:endParaRPr>
                </a:p>
              </p:txBody>
            </p:sp>
          </p:grpSp>
          <p:grpSp>
            <p:nvGrpSpPr>
              <p:cNvPr id="2477" name=""/>
              <p:cNvGrpSpPr/>
              <p:nvPr/>
            </p:nvGrpSpPr>
            <p:grpSpPr>
              <a:xfrm>
                <a:off x="3667680" y="4182840"/>
                <a:ext cx="2618280" cy="385560"/>
                <a:chOff x="3667680" y="4182840"/>
                <a:chExt cx="2618280" cy="385560"/>
              </a:xfrm>
            </p:grpSpPr>
            <p:graphicFrame>
              <p:nvGraphicFramePr>
                <p:cNvPr id="2478" name=""/>
                <p:cNvGraphicFramePr/>
                <p:nvPr/>
              </p:nvGraphicFramePr>
              <p:xfrm>
                <a:off x="5567040" y="4182840"/>
                <a:ext cx="385560" cy="385560"/>
              </p:xfrm>
              <a:graphic>
                <a:graphicData uri="http://schemas.openxmlformats.org/presentationml/2006/ole">
                  <p:oleObj r:id="rId7" spid="">
                    <p:embed/>
                    <p:pic>
                      <p:nvPicPr>
                        <p:cNvPr id="2479" name="" descr=""/>
                        <p:cNvPicPr/>
                        <p:nvPr/>
                      </p:nvPicPr>
                      <p:blipFill>
                        <a:blip r:embed="rId8"/>
                        <a:stretch/>
                      </p:blipFill>
                      <p:spPr>
                        <a:xfrm>
                          <a:off x="5567040" y="4182840"/>
                          <a:ext cx="385560" cy="385560"/>
                        </a:xfrm>
                        <a:prstGeom prst="rect">
                          <a:avLst/>
                        </a:prstGeom>
                        <a:ln w="0">
                          <a:noFill/>
                        </a:ln>
                      </p:spPr>
                    </p:pic>
                  </p:oleObj>
                </a:graphicData>
              </a:graphic>
            </p:graphicFrame>
            <p:sp>
              <p:nvSpPr>
                <p:cNvPr id="2480" name=""/>
                <p:cNvSpPr/>
                <p:nvPr/>
              </p:nvSpPr>
              <p:spPr>
                <a:xfrm>
                  <a:off x="3667680" y="4200120"/>
                  <a:ext cx="261828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Arial"/>
                      <a:ea typeface="Arial"/>
                    </a:rPr>
                    <a:t>Aggregate</a:t>
                  </a:r>
                  <a:endParaRPr b="0" lang="en-US" sz="1600" spc="-1" strike="noStrike">
                    <a:solidFill>
                      <a:srgbClr val="ffffff"/>
                    </a:solidFill>
                    <a:latin typeface="Arial"/>
                  </a:endParaRPr>
                </a:p>
              </p:txBody>
            </p:sp>
          </p:grpSp>
          <p:grpSp>
            <p:nvGrpSpPr>
              <p:cNvPr id="2481" name=""/>
              <p:cNvGrpSpPr/>
              <p:nvPr/>
            </p:nvGrpSpPr>
            <p:grpSpPr>
              <a:xfrm>
                <a:off x="2457360" y="3705120"/>
                <a:ext cx="2350080" cy="347040"/>
                <a:chOff x="2457360" y="3705120"/>
                <a:chExt cx="2350080" cy="347040"/>
              </a:xfrm>
            </p:grpSpPr>
            <p:graphicFrame>
              <p:nvGraphicFramePr>
                <p:cNvPr id="2482" name=""/>
                <p:cNvGraphicFramePr/>
                <p:nvPr/>
              </p:nvGraphicFramePr>
              <p:xfrm>
                <a:off x="4108680" y="3709800"/>
                <a:ext cx="342720" cy="342360"/>
              </p:xfrm>
              <a:graphic>
                <a:graphicData uri="http://schemas.openxmlformats.org/presentationml/2006/ole">
                  <p:oleObj r:id="rId9" spid="">
                    <p:embed/>
                    <p:pic>
                      <p:nvPicPr>
                        <p:cNvPr id="2483" name="" descr=""/>
                        <p:cNvPicPr/>
                        <p:nvPr/>
                      </p:nvPicPr>
                      <p:blipFill>
                        <a:blip r:embed="rId10"/>
                        <a:stretch/>
                      </p:blipFill>
                      <p:spPr>
                        <a:xfrm>
                          <a:off x="4108680" y="3709800"/>
                          <a:ext cx="342720" cy="342360"/>
                        </a:xfrm>
                        <a:prstGeom prst="rect">
                          <a:avLst/>
                        </a:prstGeom>
                        <a:ln w="0">
                          <a:noFill/>
                        </a:ln>
                      </p:spPr>
                    </p:pic>
                  </p:oleObj>
                </a:graphicData>
              </a:graphic>
            </p:graphicFrame>
            <p:sp>
              <p:nvSpPr>
                <p:cNvPr id="2484" name=""/>
                <p:cNvSpPr/>
                <p:nvPr/>
              </p:nvSpPr>
              <p:spPr>
                <a:xfrm>
                  <a:off x="2457360" y="3705120"/>
                  <a:ext cx="235008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Arial"/>
                    </a:rPr>
                    <a:t>Publish</a:t>
                  </a:r>
                  <a:endParaRPr b="0" lang="en-US" sz="1600" spc="-1" strike="noStrike">
                    <a:solidFill>
                      <a:srgbClr val="ffffff"/>
                    </a:solidFill>
                    <a:latin typeface="Arial"/>
                  </a:endParaRPr>
                </a:p>
              </p:txBody>
            </p:sp>
          </p:grpSp>
        </p:grpSp>
      </p:grpSp>
      <p:grpSp>
        <p:nvGrpSpPr>
          <p:cNvPr id="2485" name=""/>
          <p:cNvGrpSpPr/>
          <p:nvPr/>
        </p:nvGrpSpPr>
        <p:grpSpPr>
          <a:xfrm>
            <a:off x="241200" y="3390840"/>
            <a:ext cx="2667240" cy="1719360"/>
            <a:chOff x="241200" y="3390840"/>
            <a:chExt cx="2667240" cy="1719360"/>
          </a:xfrm>
        </p:grpSpPr>
        <p:grpSp>
          <p:nvGrpSpPr>
            <p:cNvPr id="2486" name=""/>
            <p:cNvGrpSpPr/>
            <p:nvPr/>
          </p:nvGrpSpPr>
          <p:grpSpPr>
            <a:xfrm>
              <a:off x="241200" y="3390840"/>
              <a:ext cx="2667240" cy="774720"/>
              <a:chOff x="241200" y="3390840"/>
              <a:chExt cx="2667240" cy="774720"/>
            </a:xfrm>
          </p:grpSpPr>
          <p:pic>
            <p:nvPicPr>
              <p:cNvPr id="2487" name="EAITibInput84" descr=""/>
              <p:cNvPicPr/>
              <p:nvPr/>
            </p:nvPicPr>
            <p:blipFill>
              <a:blip r:embed="rId11"/>
              <a:stretch/>
            </p:blipFill>
            <p:spPr>
              <a:xfrm>
                <a:off x="2487600" y="3390840"/>
                <a:ext cx="420840" cy="420840"/>
              </a:xfrm>
              <a:prstGeom prst="rect">
                <a:avLst/>
              </a:prstGeom>
              <a:ln w="0">
                <a:noFill/>
              </a:ln>
            </p:spPr>
          </p:pic>
          <p:graphicFrame>
            <p:nvGraphicFramePr>
              <p:cNvPr id="2488" name=""/>
              <p:cNvGraphicFramePr/>
              <p:nvPr/>
            </p:nvGraphicFramePr>
            <p:xfrm>
              <a:off x="2538360" y="3840120"/>
              <a:ext cx="319320" cy="319320"/>
            </p:xfrm>
            <a:graphic>
              <a:graphicData uri="http://schemas.openxmlformats.org/presentationml/2006/ole">
                <p:oleObj r:id="rId12" spid="">
                  <p:embed/>
                  <p:pic>
                    <p:nvPicPr>
                      <p:cNvPr id="2489" name="" descr=""/>
                      <p:cNvPicPr/>
                      <p:nvPr/>
                    </p:nvPicPr>
                    <p:blipFill>
                      <a:blip r:embed="rId13"/>
                      <a:stretch/>
                    </p:blipFill>
                    <p:spPr>
                      <a:xfrm>
                        <a:off x="2538360" y="3840120"/>
                        <a:ext cx="319320" cy="319320"/>
                      </a:xfrm>
                      <a:prstGeom prst="rect">
                        <a:avLst/>
                      </a:prstGeom>
                      <a:ln w="0">
                        <a:noFill/>
                      </a:ln>
                    </p:spPr>
                  </p:pic>
                </p:oleObj>
              </a:graphicData>
            </a:graphic>
          </p:graphicFrame>
          <p:sp>
            <p:nvSpPr>
              <p:cNvPr id="2490" name=""/>
              <p:cNvSpPr/>
              <p:nvPr/>
            </p:nvSpPr>
            <p:spPr>
              <a:xfrm>
                <a:off x="1127160" y="3495600"/>
                <a:ext cx="1158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TIBCO RV</a:t>
                </a:r>
                <a:endParaRPr b="0" lang="en-US" sz="1400" spc="-1" strike="noStrike">
                  <a:solidFill>
                    <a:srgbClr val="ffffff"/>
                  </a:solidFill>
                  <a:latin typeface="Arial"/>
                </a:endParaRPr>
              </a:p>
            </p:txBody>
          </p:sp>
          <p:sp>
            <p:nvSpPr>
              <p:cNvPr id="2491" name=""/>
              <p:cNvSpPr/>
              <p:nvPr/>
            </p:nvSpPr>
            <p:spPr>
              <a:xfrm>
                <a:off x="1127160" y="3880080"/>
                <a:ext cx="5572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JMS</a:t>
                </a:r>
                <a:endParaRPr b="0" lang="en-US" sz="1400" spc="-1" strike="noStrike">
                  <a:solidFill>
                    <a:srgbClr val="ffffff"/>
                  </a:solidFill>
                  <a:latin typeface="Arial"/>
                </a:endParaRPr>
              </a:p>
            </p:txBody>
          </p:sp>
          <p:pic>
            <p:nvPicPr>
              <p:cNvPr id="2492" name="" descr=""/>
              <p:cNvPicPr/>
              <p:nvPr/>
            </p:nvPicPr>
            <p:blipFill>
              <a:blip r:embed="rId14"/>
              <a:srcRect l="0" t="0" r="0" b="35549"/>
              <a:stretch/>
            </p:blipFill>
            <p:spPr>
              <a:xfrm>
                <a:off x="241200" y="3684600"/>
                <a:ext cx="760680" cy="219240"/>
              </a:xfrm>
              <a:prstGeom prst="rect">
                <a:avLst/>
              </a:prstGeom>
              <a:ln w="0">
                <a:noFill/>
              </a:ln>
            </p:spPr>
          </p:pic>
        </p:grpSp>
        <p:grpSp>
          <p:nvGrpSpPr>
            <p:cNvPr id="2493" name=""/>
            <p:cNvGrpSpPr/>
            <p:nvPr/>
          </p:nvGrpSpPr>
          <p:grpSpPr>
            <a:xfrm>
              <a:off x="352440" y="4226040"/>
              <a:ext cx="2525760" cy="884160"/>
              <a:chOff x="352440" y="4226040"/>
              <a:chExt cx="2525760" cy="884160"/>
            </a:xfrm>
          </p:grpSpPr>
          <p:graphicFrame>
            <p:nvGraphicFramePr>
              <p:cNvPr id="2494" name=""/>
              <p:cNvGraphicFramePr/>
              <p:nvPr/>
            </p:nvGraphicFramePr>
            <p:xfrm>
              <a:off x="2533680" y="4605480"/>
              <a:ext cx="344520" cy="344520"/>
            </p:xfrm>
            <a:graphic>
              <a:graphicData uri="http://schemas.openxmlformats.org/presentationml/2006/ole">
                <p:oleObj r:id="rId15" spid="">
                  <p:embed/>
                  <p:pic>
                    <p:nvPicPr>
                      <p:cNvPr id="2495" name="" descr=""/>
                      <p:cNvPicPr/>
                      <p:nvPr/>
                    </p:nvPicPr>
                    <p:blipFill>
                      <a:blip r:embed="rId16"/>
                      <a:stretch/>
                    </p:blipFill>
                    <p:spPr>
                      <a:xfrm>
                        <a:off x="2533680" y="4605480"/>
                        <a:ext cx="344520" cy="344520"/>
                      </a:xfrm>
                      <a:prstGeom prst="rect">
                        <a:avLst/>
                      </a:prstGeom>
                      <a:ln w="0">
                        <a:noFill/>
                      </a:ln>
                    </p:spPr>
                  </p:pic>
                </p:oleObj>
              </a:graphicData>
            </a:graphic>
          </p:graphicFrame>
          <p:sp>
            <p:nvSpPr>
              <p:cNvPr id="2496" name=""/>
              <p:cNvSpPr/>
              <p:nvPr/>
            </p:nvSpPr>
            <p:spPr>
              <a:xfrm>
                <a:off x="1127160" y="4648320"/>
                <a:ext cx="1185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Real-time IP</a:t>
                </a:r>
                <a:endParaRPr b="0" lang="en-US" sz="1400" spc="-1" strike="noStrike">
                  <a:solidFill>
                    <a:srgbClr val="ffffff"/>
                  </a:solidFill>
                  <a:latin typeface="Arial"/>
                </a:endParaRPr>
              </a:p>
            </p:txBody>
          </p:sp>
          <p:sp>
            <p:nvSpPr>
              <p:cNvPr id="2497" name=""/>
              <p:cNvSpPr/>
              <p:nvPr/>
            </p:nvSpPr>
            <p:spPr>
              <a:xfrm>
                <a:off x="1127160" y="4264200"/>
                <a:ext cx="11714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Telemetry</a:t>
                </a:r>
                <a:endParaRPr b="0" lang="en-US" sz="1400" spc="-1" strike="noStrike">
                  <a:solidFill>
                    <a:srgbClr val="ffffff"/>
                  </a:solidFill>
                  <a:latin typeface="Arial"/>
                </a:endParaRPr>
              </a:p>
            </p:txBody>
          </p:sp>
          <p:graphicFrame>
            <p:nvGraphicFramePr>
              <p:cNvPr id="2498" name=""/>
              <p:cNvGraphicFramePr/>
              <p:nvPr/>
            </p:nvGraphicFramePr>
            <p:xfrm>
              <a:off x="2533680" y="4226040"/>
              <a:ext cx="344520" cy="344520"/>
            </p:xfrm>
            <a:graphic>
              <a:graphicData uri="http://schemas.openxmlformats.org/presentationml/2006/ole">
                <p:oleObj r:id="rId17" spid="">
                  <p:embed/>
                  <p:pic>
                    <p:nvPicPr>
                      <p:cNvPr id="2499" name="" descr=""/>
                      <p:cNvPicPr/>
                      <p:nvPr/>
                    </p:nvPicPr>
                    <p:blipFill>
                      <a:blip r:embed="rId18"/>
                      <a:stretch/>
                    </p:blipFill>
                    <p:spPr>
                      <a:xfrm>
                        <a:off x="2533680" y="4226040"/>
                        <a:ext cx="344520" cy="344520"/>
                      </a:xfrm>
                      <a:prstGeom prst="rect">
                        <a:avLst/>
                      </a:prstGeom>
                      <a:ln w="0">
                        <a:noFill/>
                      </a:ln>
                    </p:spPr>
                  </p:pic>
                </p:oleObj>
              </a:graphicData>
            </a:graphic>
          </p:graphicFrame>
          <p:pic>
            <p:nvPicPr>
              <p:cNvPr id="2500" name="" descr=""/>
              <p:cNvPicPr/>
              <p:nvPr/>
            </p:nvPicPr>
            <p:blipFill>
              <a:blip r:embed="rId19"/>
              <a:srcRect l="0" t="0" r="0" b="22614"/>
              <a:stretch/>
            </p:blipFill>
            <p:spPr>
              <a:xfrm>
                <a:off x="352440" y="4280040"/>
                <a:ext cx="635040" cy="223920"/>
              </a:xfrm>
              <a:prstGeom prst="rect">
                <a:avLst/>
              </a:prstGeom>
              <a:ln w="0">
                <a:noFill/>
              </a:ln>
            </p:spPr>
          </p:pic>
          <p:pic>
            <p:nvPicPr>
              <p:cNvPr id="2501" name="" descr="">
                <a:hlinkClick r:id="rId20"/>
              </p:cNvPr>
              <p:cNvPicPr/>
              <p:nvPr/>
            </p:nvPicPr>
            <p:blipFill>
              <a:blip r:embed="rId21"/>
              <a:stretch/>
            </p:blipFill>
            <p:spPr>
              <a:xfrm>
                <a:off x="460440" y="4626000"/>
                <a:ext cx="431640" cy="484200"/>
              </a:xfrm>
              <a:prstGeom prst="rect">
                <a:avLst/>
              </a:prstGeom>
              <a:ln w="0">
                <a:noFill/>
              </a:ln>
            </p:spPr>
          </p:pic>
        </p:grpSp>
      </p:grpSp>
      <p:grpSp>
        <p:nvGrpSpPr>
          <p:cNvPr id="2502" name=""/>
          <p:cNvGrpSpPr/>
          <p:nvPr/>
        </p:nvGrpSpPr>
        <p:grpSpPr>
          <a:xfrm>
            <a:off x="3765960" y="3697200"/>
            <a:ext cx="2606040" cy="414360"/>
            <a:chOff x="3765960" y="3697200"/>
            <a:chExt cx="2606040" cy="414360"/>
          </a:xfrm>
        </p:grpSpPr>
        <p:sp>
          <p:nvSpPr>
            <p:cNvPr id="2503" name=""/>
            <p:cNvSpPr/>
            <p:nvPr/>
          </p:nvSpPr>
          <p:spPr>
            <a:xfrm>
              <a:off x="3765960" y="3697200"/>
              <a:ext cx="260604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ea typeface="Arial"/>
                </a:rPr>
                <a:t>Transform</a:t>
              </a:r>
              <a:endParaRPr b="0" lang="en-US" sz="1600" spc="-1" strike="noStrike">
                <a:solidFill>
                  <a:srgbClr val="ffffff"/>
                </a:solidFill>
                <a:latin typeface="Arial"/>
              </a:endParaRPr>
            </a:p>
          </p:txBody>
        </p:sp>
        <p:graphicFrame>
          <p:nvGraphicFramePr>
            <p:cNvPr id="2504" name=""/>
            <p:cNvGraphicFramePr/>
            <p:nvPr/>
          </p:nvGraphicFramePr>
          <p:xfrm>
            <a:off x="5721480" y="3752640"/>
            <a:ext cx="358560" cy="358920"/>
          </p:xfrm>
          <a:graphic>
            <a:graphicData uri="http://schemas.openxmlformats.org/presentationml/2006/ole">
              <p:oleObj r:id="rId22" spid="">
                <p:embed/>
                <p:pic>
                  <p:nvPicPr>
                    <p:cNvPr id="2505" name="" descr=""/>
                    <p:cNvPicPr/>
                    <p:nvPr/>
                  </p:nvPicPr>
                  <p:blipFill>
                    <a:blip r:embed="rId23"/>
                    <a:stretch/>
                  </p:blipFill>
                  <p:spPr>
                    <a:xfrm>
                      <a:off x="5721480" y="3752640"/>
                      <a:ext cx="358560" cy="358920"/>
                    </a:xfrm>
                    <a:prstGeom prst="rect">
                      <a:avLst/>
                    </a:prstGeom>
                    <a:ln w="0">
                      <a:noFill/>
                    </a:ln>
                  </p:spPr>
                </p:pic>
              </p:oleObj>
            </a:graphicData>
          </a:graphic>
        </p:graphicFrame>
      </p:grpSp>
      <p:grpSp>
        <p:nvGrpSpPr>
          <p:cNvPr id="2506" name=""/>
          <p:cNvGrpSpPr/>
          <p:nvPr/>
        </p:nvGrpSpPr>
        <p:grpSpPr>
          <a:xfrm>
            <a:off x="3777480" y="3236760"/>
            <a:ext cx="2516400" cy="355680"/>
            <a:chOff x="3777480" y="3236760"/>
            <a:chExt cx="2516400" cy="355680"/>
          </a:xfrm>
        </p:grpSpPr>
        <p:pic>
          <p:nvPicPr>
            <p:cNvPr id="2507" name="" descr=""/>
            <p:cNvPicPr/>
            <p:nvPr/>
          </p:nvPicPr>
          <p:blipFill>
            <a:blip r:embed="rId24"/>
            <a:srcRect l="38029" t="12179" r="54496" b="75994"/>
            <a:stretch/>
          </p:blipFill>
          <p:spPr>
            <a:xfrm>
              <a:off x="5643360" y="3241440"/>
              <a:ext cx="412920" cy="351000"/>
            </a:xfrm>
            <a:prstGeom prst="rect">
              <a:avLst/>
            </a:prstGeom>
            <a:ln w="0">
              <a:noFill/>
            </a:ln>
          </p:spPr>
        </p:pic>
        <p:sp>
          <p:nvSpPr>
            <p:cNvPr id="2508" name=""/>
            <p:cNvSpPr/>
            <p:nvPr/>
          </p:nvSpPr>
          <p:spPr>
            <a:xfrm>
              <a:off x="3777480" y="3236760"/>
              <a:ext cx="251640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18213"/>
                  </a:solidFill>
                  <a:latin typeface="Arial"/>
                  <a:ea typeface="Arial"/>
                </a:rPr>
                <a:t>Correlate</a:t>
              </a:r>
              <a:endParaRPr b="0" lang="en-US" sz="1600" spc="-1" strike="noStrike">
                <a:solidFill>
                  <a:srgbClr val="ffffff"/>
                </a:solidFill>
                <a:latin typeface="Arial"/>
              </a:endParaRPr>
            </a:p>
          </p:txBody>
        </p:sp>
      </p:grpSp>
      <p:grpSp>
        <p:nvGrpSpPr>
          <p:cNvPr id="2509" name=""/>
          <p:cNvGrpSpPr/>
          <p:nvPr/>
        </p:nvGrpSpPr>
        <p:grpSpPr>
          <a:xfrm>
            <a:off x="2498400" y="3187800"/>
            <a:ext cx="2269440" cy="377640"/>
            <a:chOff x="2498400" y="3187800"/>
            <a:chExt cx="2269440" cy="377640"/>
          </a:xfrm>
        </p:grpSpPr>
        <p:graphicFrame>
          <p:nvGraphicFramePr>
            <p:cNvPr id="2510" name=""/>
            <p:cNvGraphicFramePr/>
            <p:nvPr/>
          </p:nvGraphicFramePr>
          <p:xfrm>
            <a:off x="4066920" y="3187800"/>
            <a:ext cx="378000" cy="377640"/>
          </p:xfrm>
          <a:graphic>
            <a:graphicData uri="http://schemas.openxmlformats.org/presentationml/2006/ole">
              <p:oleObj r:id="rId25" spid="">
                <p:embed/>
                <p:pic>
                  <p:nvPicPr>
                    <p:cNvPr id="2511" name="" descr=""/>
                    <p:cNvPicPr/>
                    <p:nvPr/>
                  </p:nvPicPr>
                  <p:blipFill>
                    <a:blip r:embed="rId26"/>
                    <a:stretch/>
                  </p:blipFill>
                  <p:spPr>
                    <a:xfrm>
                      <a:off x="4066920" y="3187800"/>
                      <a:ext cx="378000" cy="377640"/>
                    </a:xfrm>
                    <a:prstGeom prst="rect">
                      <a:avLst/>
                    </a:prstGeom>
                    <a:ln w="0">
                      <a:noFill/>
                    </a:ln>
                  </p:spPr>
                </p:pic>
              </p:oleObj>
            </a:graphicData>
          </a:graphic>
        </p:graphicFrame>
        <p:sp>
          <p:nvSpPr>
            <p:cNvPr id="2512" name=""/>
            <p:cNvSpPr/>
            <p:nvPr/>
          </p:nvSpPr>
          <p:spPr>
            <a:xfrm>
              <a:off x="2498400" y="3217680"/>
              <a:ext cx="2269440" cy="337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750960" indent="-750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0080"/>
                  </a:solidFill>
                  <a:latin typeface="Arial"/>
                  <a:ea typeface="Arial"/>
                </a:rPr>
                <a:t>WSDL</a:t>
              </a:r>
              <a:endParaRPr b="0" lang="en-US" sz="1600" spc="-1" strike="noStrike">
                <a:solidFill>
                  <a:srgbClr val="ffffff"/>
                </a:solidFill>
                <a:latin typeface="Arial"/>
              </a:endParaRPr>
            </a:p>
          </p:txBody>
        </p:sp>
      </p:grpSp>
      <p:grpSp>
        <p:nvGrpSpPr>
          <p:cNvPr id="2513" name=""/>
          <p:cNvGrpSpPr/>
          <p:nvPr/>
        </p:nvGrpSpPr>
        <p:grpSpPr>
          <a:xfrm>
            <a:off x="210960" y="5776920"/>
            <a:ext cx="8693280" cy="669600"/>
            <a:chOff x="210960" y="5776920"/>
            <a:chExt cx="8693280" cy="669600"/>
          </a:xfrm>
        </p:grpSpPr>
        <p:grpSp>
          <p:nvGrpSpPr>
            <p:cNvPr id="2514" name=""/>
            <p:cNvGrpSpPr/>
            <p:nvPr/>
          </p:nvGrpSpPr>
          <p:grpSpPr>
            <a:xfrm>
              <a:off x="1241280" y="5776920"/>
              <a:ext cx="1663560" cy="669600"/>
              <a:chOff x="1241280" y="5776920"/>
              <a:chExt cx="1663560" cy="669600"/>
            </a:xfrm>
          </p:grpSpPr>
          <p:sp>
            <p:nvSpPr>
              <p:cNvPr id="2515" name=""/>
              <p:cNvSpPr/>
              <p:nvPr/>
            </p:nvSpPr>
            <p:spPr>
              <a:xfrm>
                <a:off x="1262160" y="5776920"/>
                <a:ext cx="1636560" cy="66060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516" name=""/>
              <p:cNvGrpSpPr/>
              <p:nvPr/>
            </p:nvGrpSpPr>
            <p:grpSpPr>
              <a:xfrm>
                <a:off x="1787400" y="5877000"/>
                <a:ext cx="573120" cy="252360"/>
                <a:chOff x="1787400" y="5877000"/>
                <a:chExt cx="573120" cy="252360"/>
              </a:xfrm>
            </p:grpSpPr>
            <p:sp>
              <p:nvSpPr>
                <p:cNvPr id="2517" name=""/>
                <p:cNvSpPr/>
                <p:nvPr/>
              </p:nvSpPr>
              <p:spPr>
                <a:xfrm>
                  <a:off x="1787400" y="5877720"/>
                  <a:ext cx="573120" cy="168480"/>
                </a:xfrm>
                <a:custGeom>
                  <a:avLst/>
                  <a:gdLst/>
                  <a:ahLst/>
                  <a:rect l="l" t="t" r="r" b="b"/>
                  <a:pathLst>
                    <a:path w="1575" h="732">
                      <a:moveTo>
                        <a:pt x="1137" y="0"/>
                      </a:moveTo>
                      <a:lnTo>
                        <a:pt x="1575" y="219"/>
                      </a:lnTo>
                      <a:lnTo>
                        <a:pt x="458" y="732"/>
                      </a:lnTo>
                      <a:lnTo>
                        <a:pt x="0" y="435"/>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close/>
                    </a:path>
                  </a:pathLst>
                </a:custGeom>
                <a:solidFill>
                  <a:srgbClr val="ffff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8" name=""/>
                <p:cNvSpPr/>
                <p:nvPr/>
              </p:nvSpPr>
              <p:spPr>
                <a:xfrm>
                  <a:off x="1905840" y="5877720"/>
                  <a:ext cx="441000" cy="168480"/>
                </a:xfrm>
                <a:custGeom>
                  <a:avLst/>
                  <a:gdLst/>
                  <a:ahLst/>
                  <a:rect l="l" t="t" r="r" b="b"/>
                  <a:pathLst>
                    <a:path w="1211" h="732">
                      <a:moveTo>
                        <a:pt x="811" y="291"/>
                      </a:moveTo>
                      <a:lnTo>
                        <a:pt x="0" y="653"/>
                      </a:lnTo>
                      <a:lnTo>
                        <a:pt x="125" y="732"/>
                      </a:lnTo>
                      <a:lnTo>
                        <a:pt x="1211" y="233"/>
                      </a:lnTo>
                      <a:lnTo>
                        <a:pt x="811" y="0"/>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close/>
                    </a:path>
                  </a:pathLst>
                </a:custGeom>
                <a:solidFill>
                  <a:srgbClr val="7fa25f"/>
                </a:solidFill>
                <a:ln w="1584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9" name=""/>
                <p:cNvSpPr/>
                <p:nvPr/>
              </p:nvSpPr>
              <p:spPr>
                <a:xfrm>
                  <a:off x="1787400" y="5877720"/>
                  <a:ext cx="414360" cy="184680"/>
                </a:xfrm>
                <a:custGeom>
                  <a:avLst/>
                  <a:gdLst/>
                  <a:ahLst/>
                  <a:rect l="l" t="t" r="r" b="b"/>
                  <a:pathLst>
                    <a:path w="1137" h="799">
                      <a:moveTo>
                        <a:pt x="1137" y="291"/>
                      </a:moveTo>
                      <a:lnTo>
                        <a:pt x="1137" y="0"/>
                      </a:lnTo>
                      <a:lnTo>
                        <a:pt x="3" y="432"/>
                      </a:lnTo>
                      <a:lnTo>
                        <a:pt x="0" y="794"/>
                      </a:lnTo>
                      <a:lnTo>
                        <a:pt x="3" y="799"/>
                      </a:lnTo>
                      <a:lnTo>
                        <a:pt x="3" y="799"/>
                      </a:lnTo>
                      <a:lnTo>
                        <a:pt x="1137" y="291"/>
                      </a:lnTo>
                      <a:lnTo>
                        <a:pt x="3" y="799"/>
                      </a:lnTo>
                      <a:lnTo>
                        <a:pt x="1137" y="291"/>
                      </a:lnTo>
                      <a:lnTo>
                        <a:pt x="3" y="799"/>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0" name=""/>
                <p:cNvSpPr/>
                <p:nvPr/>
              </p:nvSpPr>
              <p:spPr>
                <a:xfrm>
                  <a:off x="2201760" y="5877000"/>
                  <a:ext cx="157680" cy="84240"/>
                </a:xfrm>
                <a:custGeom>
                  <a:avLst/>
                  <a:gdLst/>
                  <a:ahLst/>
                  <a:rect l="l" t="t" r="r" b="b"/>
                  <a:pathLst>
                    <a:path w="435" h="365">
                      <a:moveTo>
                        <a:pt x="107" y="365"/>
                      </a:moveTo>
                      <a:lnTo>
                        <a:pt x="435" y="221"/>
                      </a:lnTo>
                      <a:lnTo>
                        <a:pt x="0" y="0"/>
                      </a:lnTo>
                      <a:lnTo>
                        <a:pt x="0" y="293"/>
                      </a:lnTo>
                      <a:lnTo>
                        <a:pt x="0" y="293"/>
                      </a:lnTo>
                      <a:lnTo>
                        <a:pt x="107" y="365"/>
                      </a:lnTo>
                      <a:lnTo>
                        <a:pt x="0" y="293"/>
                      </a:lnTo>
                      <a:lnTo>
                        <a:pt x="107" y="365"/>
                      </a:lnTo>
                      <a:lnTo>
                        <a:pt x="0" y="293"/>
                      </a:lnTo>
                      <a:close/>
                    </a:path>
                  </a:pathLst>
                </a:custGeom>
                <a:solidFill>
                  <a:srgbClr val="008000"/>
                </a:solidFill>
                <a:ln w="1584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521" name=""/>
                <p:cNvSpPr/>
                <p:nvPr/>
              </p:nvSpPr>
              <p:spPr>
                <a:xfrm>
                  <a:off x="1974240" y="5904720"/>
                  <a:ext cx="165600" cy="130680"/>
                </a:xfrm>
                <a:custGeom>
                  <a:avLst/>
                  <a:gdLst/>
                  <a:ahLst/>
                  <a:rect l="l" t="t" r="r" b="b"/>
                  <a:pathLst>
                    <a:path w="455" h="564">
                      <a:moveTo>
                        <a:pt x="455" y="564"/>
                      </a:moveTo>
                      <a:lnTo>
                        <a:pt x="455" y="274"/>
                      </a:lnTo>
                      <a:lnTo>
                        <a:pt x="0" y="0"/>
                      </a:lnTo>
                      <a:lnTo>
                        <a:pt x="0" y="362"/>
                      </a:lnTo>
                      <a:lnTo>
                        <a:pt x="0" y="362"/>
                      </a:lnTo>
                      <a:lnTo>
                        <a:pt x="455" y="564"/>
                      </a:lnTo>
                      <a:lnTo>
                        <a:pt x="0" y="362"/>
                      </a:lnTo>
                      <a:lnTo>
                        <a:pt x="455" y="564"/>
                      </a:lnTo>
                      <a:lnTo>
                        <a:pt x="0" y="362"/>
                      </a:lnTo>
                      <a:lnTo>
                        <a:pt x="455" y="564"/>
                      </a:lnTo>
                      <a:lnTo>
                        <a:pt x="0" y="362"/>
                      </a:lnTo>
                      <a:lnTo>
                        <a:pt x="455" y="564"/>
                      </a:lnTo>
                      <a:lnTo>
                        <a:pt x="0" y="362"/>
                      </a:lnTo>
                      <a:close/>
                    </a:path>
                  </a:pathLst>
                </a:custGeom>
                <a:solidFill>
                  <a:srgbClr val="4c4cd2"/>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2" name=""/>
                <p:cNvSpPr/>
                <p:nvPr/>
              </p:nvSpPr>
              <p:spPr>
                <a:xfrm>
                  <a:off x="1919160" y="5914800"/>
                  <a:ext cx="165960" cy="129960"/>
                </a:xfrm>
                <a:custGeom>
                  <a:avLst/>
                  <a:gdLst/>
                  <a:ahLst/>
                  <a:rect l="l" t="t" r="r" b="b"/>
                  <a:pathLst>
                    <a:path w="455" h="565">
                      <a:moveTo>
                        <a:pt x="455" y="565"/>
                      </a:moveTo>
                      <a:lnTo>
                        <a:pt x="455" y="276"/>
                      </a:lnTo>
                      <a:lnTo>
                        <a:pt x="0" y="0"/>
                      </a:lnTo>
                      <a:lnTo>
                        <a:pt x="0" y="364"/>
                      </a:lnTo>
                      <a:lnTo>
                        <a:pt x="0" y="364"/>
                      </a:lnTo>
                      <a:lnTo>
                        <a:pt x="455" y="565"/>
                      </a:lnTo>
                      <a:lnTo>
                        <a:pt x="0" y="364"/>
                      </a:lnTo>
                      <a:lnTo>
                        <a:pt x="455" y="565"/>
                      </a:lnTo>
                      <a:lnTo>
                        <a:pt x="0" y="364"/>
                      </a:lnTo>
                      <a:lnTo>
                        <a:pt x="455" y="565"/>
                      </a:lnTo>
                      <a:lnTo>
                        <a:pt x="0" y="364"/>
                      </a:lnTo>
                      <a:lnTo>
                        <a:pt x="455" y="565"/>
                      </a:lnTo>
                      <a:lnTo>
                        <a:pt x="0" y="364"/>
                      </a:lnTo>
                      <a:close/>
                    </a:path>
                  </a:pathLst>
                </a:custGeom>
                <a:solidFill>
                  <a:srgbClr val="969696"/>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3" name=""/>
                <p:cNvSpPr/>
                <p:nvPr/>
              </p:nvSpPr>
              <p:spPr>
                <a:xfrm>
                  <a:off x="1885680" y="5928840"/>
                  <a:ext cx="165600" cy="130680"/>
                </a:xfrm>
                <a:custGeom>
                  <a:avLst/>
                  <a:gdLst/>
                  <a:ahLst/>
                  <a:rect l="l" t="t" r="r" b="b"/>
                  <a:pathLst>
                    <a:path w="456" h="565">
                      <a:moveTo>
                        <a:pt x="456" y="565"/>
                      </a:moveTo>
                      <a:lnTo>
                        <a:pt x="456" y="274"/>
                      </a:lnTo>
                      <a:lnTo>
                        <a:pt x="0" y="0"/>
                      </a:lnTo>
                      <a:lnTo>
                        <a:pt x="0" y="363"/>
                      </a:lnTo>
                      <a:lnTo>
                        <a:pt x="0" y="363"/>
                      </a:lnTo>
                      <a:lnTo>
                        <a:pt x="456" y="565"/>
                      </a:lnTo>
                      <a:lnTo>
                        <a:pt x="0" y="363"/>
                      </a:lnTo>
                      <a:lnTo>
                        <a:pt x="456" y="565"/>
                      </a:lnTo>
                      <a:lnTo>
                        <a:pt x="0" y="363"/>
                      </a:lnTo>
                      <a:lnTo>
                        <a:pt x="456" y="565"/>
                      </a:lnTo>
                      <a:lnTo>
                        <a:pt x="0" y="363"/>
                      </a:lnTo>
                      <a:lnTo>
                        <a:pt x="456" y="565"/>
                      </a:lnTo>
                      <a:lnTo>
                        <a:pt x="0" y="363"/>
                      </a:lnTo>
                      <a:close/>
                    </a:path>
                  </a:pathLst>
                </a:custGeom>
                <a:solidFill>
                  <a:srgbClr val="000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4" name=""/>
                <p:cNvSpPr/>
                <p:nvPr/>
              </p:nvSpPr>
              <p:spPr>
                <a:xfrm>
                  <a:off x="1843560" y="5939280"/>
                  <a:ext cx="162000" cy="133920"/>
                </a:xfrm>
                <a:custGeom>
                  <a:avLst/>
                  <a:gdLst/>
                  <a:ahLst/>
                  <a:rect l="l" t="t" r="r" b="b"/>
                  <a:pathLst>
                    <a:path w="445" h="577">
                      <a:moveTo>
                        <a:pt x="442" y="577"/>
                      </a:moveTo>
                      <a:lnTo>
                        <a:pt x="445" y="272"/>
                      </a:lnTo>
                      <a:lnTo>
                        <a:pt x="3" y="0"/>
                      </a:lnTo>
                      <a:lnTo>
                        <a:pt x="0" y="34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close/>
                    </a:path>
                  </a:pathLst>
                </a:custGeom>
                <a:solidFill>
                  <a:srgbClr val="ffff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5" name=""/>
                <p:cNvSpPr/>
                <p:nvPr/>
              </p:nvSpPr>
              <p:spPr>
                <a:xfrm>
                  <a:off x="1793520" y="5955120"/>
                  <a:ext cx="163800" cy="142560"/>
                </a:xfrm>
                <a:custGeom>
                  <a:avLst/>
                  <a:gdLst/>
                  <a:ahLst/>
                  <a:rect l="l" t="t" r="r" b="b"/>
                  <a:pathLst>
                    <a:path w="452" h="617">
                      <a:moveTo>
                        <a:pt x="452" y="617"/>
                      </a:moveTo>
                      <a:lnTo>
                        <a:pt x="452" y="284"/>
                      </a:lnTo>
                      <a:lnTo>
                        <a:pt x="0" y="0"/>
                      </a:lnTo>
                      <a:lnTo>
                        <a:pt x="2" y="386"/>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close/>
                    </a:path>
                  </a:pathLst>
                </a:custGeom>
                <a:solidFill>
                  <a:srgbClr val="0000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6" name=""/>
                <p:cNvSpPr/>
                <p:nvPr/>
              </p:nvSpPr>
              <p:spPr>
                <a:xfrm>
                  <a:off x="1788840" y="5980320"/>
                  <a:ext cx="164880" cy="149040"/>
                </a:xfrm>
                <a:custGeom>
                  <a:avLst/>
                  <a:gdLst/>
                  <a:ahLst/>
                  <a:rect l="l" t="t" r="r" b="b"/>
                  <a:pathLst>
                    <a:path w="455" h="644">
                      <a:moveTo>
                        <a:pt x="0" y="350"/>
                      </a:moveTo>
                      <a:lnTo>
                        <a:pt x="455" y="644"/>
                      </a:lnTo>
                      <a:lnTo>
                        <a:pt x="455" y="288"/>
                      </a:lnTo>
                      <a:lnTo>
                        <a:pt x="0" y="0"/>
                      </a:lnTo>
                      <a:lnTo>
                        <a:pt x="0" y="89"/>
                      </a:lnTo>
                      <a:lnTo>
                        <a:pt x="0" y="52"/>
                      </a:lnTo>
                      <a:lnTo>
                        <a:pt x="0" y="52"/>
                      </a:lnTo>
                      <a:lnTo>
                        <a:pt x="0" y="350"/>
                      </a:lnTo>
                      <a:lnTo>
                        <a:pt x="0" y="52"/>
                      </a:lnTo>
                      <a:lnTo>
                        <a:pt x="0" y="350"/>
                      </a:lnTo>
                      <a:lnTo>
                        <a:pt x="0" y="52"/>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7" name=""/>
                <p:cNvSpPr/>
                <p:nvPr/>
              </p:nvSpPr>
              <p:spPr>
                <a:xfrm>
                  <a:off x="1951200" y="5928120"/>
                  <a:ext cx="409320" cy="199440"/>
                </a:xfrm>
                <a:custGeom>
                  <a:avLst/>
                  <a:gdLst/>
                  <a:ahLst/>
                  <a:rect l="l" t="t" r="r" b="b"/>
                  <a:pathLst>
                    <a:path w="1124" h="862">
                      <a:moveTo>
                        <a:pt x="0" y="862"/>
                      </a:moveTo>
                      <a:lnTo>
                        <a:pt x="0" y="515"/>
                      </a:lnTo>
                      <a:lnTo>
                        <a:pt x="1124" y="0"/>
                      </a:lnTo>
                      <a:lnTo>
                        <a:pt x="1124" y="330"/>
                      </a:lnTo>
                      <a:lnTo>
                        <a:pt x="1124" y="330"/>
                      </a:lnTo>
                      <a:lnTo>
                        <a:pt x="0" y="862"/>
                      </a:lnTo>
                      <a:lnTo>
                        <a:pt x="1124" y="330"/>
                      </a:lnTo>
                      <a:lnTo>
                        <a:pt x="0" y="862"/>
                      </a:lnTo>
                      <a:lnTo>
                        <a:pt x="1124" y="330"/>
                      </a:lnTo>
                      <a:lnTo>
                        <a:pt x="0" y="862"/>
                      </a:lnTo>
                      <a:lnTo>
                        <a:pt x="1124" y="330"/>
                      </a:lnTo>
                      <a:lnTo>
                        <a:pt x="0" y="862"/>
                      </a:lnTo>
                      <a:lnTo>
                        <a:pt x="1124" y="330"/>
                      </a:lnTo>
                      <a:lnTo>
                        <a:pt x="0" y="862"/>
                      </a:lnTo>
                      <a:lnTo>
                        <a:pt x="1124" y="330"/>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528" name=""/>
              <p:cNvSpPr/>
              <p:nvPr/>
            </p:nvSpPr>
            <p:spPr>
              <a:xfrm>
                <a:off x="1241280" y="6120000"/>
                <a:ext cx="1663560" cy="32652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a:ea typeface="Arial"/>
                  </a:rPr>
                  <a:t>WebSphere MQ</a:t>
                </a:r>
                <a:endParaRPr b="0" lang="en-US" sz="1600" spc="-1" strike="noStrike">
                  <a:solidFill>
                    <a:srgbClr val="ffffff"/>
                  </a:solidFill>
                  <a:latin typeface="Arial"/>
                </a:endParaRPr>
              </a:p>
            </p:txBody>
          </p:sp>
        </p:grpSp>
        <p:grpSp>
          <p:nvGrpSpPr>
            <p:cNvPr id="2529" name=""/>
            <p:cNvGrpSpPr/>
            <p:nvPr/>
          </p:nvGrpSpPr>
          <p:grpSpPr>
            <a:xfrm>
              <a:off x="210960" y="5781600"/>
              <a:ext cx="7743960" cy="663120"/>
              <a:chOff x="210960" y="5781600"/>
              <a:chExt cx="7743960" cy="663120"/>
            </a:xfrm>
          </p:grpSpPr>
          <p:grpSp>
            <p:nvGrpSpPr>
              <p:cNvPr id="2530" name=""/>
              <p:cNvGrpSpPr/>
              <p:nvPr/>
            </p:nvGrpSpPr>
            <p:grpSpPr>
              <a:xfrm>
                <a:off x="210960" y="5857920"/>
                <a:ext cx="641520" cy="439920"/>
                <a:chOff x="210960" y="5857920"/>
                <a:chExt cx="641520" cy="439920"/>
              </a:xfrm>
            </p:grpSpPr>
            <p:sp>
              <p:nvSpPr>
                <p:cNvPr id="2531" name=""/>
                <p:cNvSpPr/>
                <p:nvPr/>
              </p:nvSpPr>
              <p:spPr>
                <a:xfrm>
                  <a:off x="210960" y="5911920"/>
                  <a:ext cx="641520" cy="385920"/>
                </a:xfrm>
                <a:custGeom>
                  <a:avLst/>
                  <a:gdLst/>
                  <a:ahLst/>
                  <a:rect l="l" t="t" r="r" b="b"/>
                  <a:pathLst>
                    <a:path w="992" h="300">
                      <a:moveTo>
                        <a:pt x="0" y="300"/>
                      </a:moveTo>
                      <a:lnTo>
                        <a:pt x="628" y="300"/>
                      </a:lnTo>
                      <a:lnTo>
                        <a:pt x="992" y="0"/>
                      </a:lnTo>
                      <a:lnTo>
                        <a:pt x="361"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2" name=""/>
                <p:cNvSpPr/>
                <p:nvPr/>
              </p:nvSpPr>
              <p:spPr>
                <a:xfrm>
                  <a:off x="210960" y="5857920"/>
                  <a:ext cx="641520" cy="387360"/>
                </a:xfrm>
                <a:custGeom>
                  <a:avLst/>
                  <a:gdLst/>
                  <a:ahLst/>
                  <a:rect l="l" t="t" r="r" b="b"/>
                  <a:pathLst>
                    <a:path w="992" h="301">
                      <a:moveTo>
                        <a:pt x="0" y="301"/>
                      </a:moveTo>
                      <a:lnTo>
                        <a:pt x="628" y="301"/>
                      </a:lnTo>
                      <a:lnTo>
                        <a:pt x="992" y="0"/>
                      </a:lnTo>
                      <a:lnTo>
                        <a:pt x="361" y="0"/>
                      </a:lnTo>
                      <a:close/>
                    </a:path>
                  </a:pathLst>
                </a:custGeom>
                <a:gradFill rotWithShape="0">
                  <a:gsLst>
                    <a:gs pos="0">
                      <a:srgbClr val="66ccff"/>
                    </a:gs>
                    <a:gs pos="50000">
                      <a:srgbClr val="6666ff"/>
                    </a:gs>
                    <a:gs pos="100000">
                      <a:srgbClr val="66ccff"/>
                    </a:gs>
                  </a:gsLst>
                  <a:lin ang="135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3" name=""/>
                <p:cNvSpPr/>
                <p:nvPr/>
              </p:nvSpPr>
              <p:spPr>
                <a:xfrm>
                  <a:off x="438120" y="5888160"/>
                  <a:ext cx="137880" cy="320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1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ea typeface="Arial"/>
                    </a:rPr>
                    <a:t>A</a:t>
                  </a:r>
                  <a:endParaRPr b="0" lang="en-US" sz="2100" spc="-1" strike="noStrike">
                    <a:solidFill>
                      <a:srgbClr val="ffffff"/>
                    </a:solidFill>
                    <a:latin typeface="Arial"/>
                  </a:endParaRPr>
                </a:p>
              </p:txBody>
            </p:sp>
          </p:grpSp>
          <p:grpSp>
            <p:nvGrpSpPr>
              <p:cNvPr id="2534" name=""/>
              <p:cNvGrpSpPr/>
              <p:nvPr/>
            </p:nvGrpSpPr>
            <p:grpSpPr>
              <a:xfrm>
                <a:off x="6291360" y="5781600"/>
                <a:ext cx="1663560" cy="663120"/>
                <a:chOff x="6291360" y="5781600"/>
                <a:chExt cx="1663560" cy="663120"/>
              </a:xfrm>
            </p:grpSpPr>
            <p:sp>
              <p:nvSpPr>
                <p:cNvPr id="2535" name=""/>
                <p:cNvSpPr/>
                <p:nvPr/>
              </p:nvSpPr>
              <p:spPr>
                <a:xfrm>
                  <a:off x="6296040" y="5781600"/>
                  <a:ext cx="1636560" cy="66060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6" name=""/>
                <p:cNvSpPr/>
                <p:nvPr/>
              </p:nvSpPr>
              <p:spPr>
                <a:xfrm>
                  <a:off x="6291360" y="6118200"/>
                  <a:ext cx="1663560" cy="326520"/>
                </a:xfrm>
                <a:prstGeom prst="rect">
                  <a:avLst/>
                </a:prstGeom>
                <a:noFill/>
                <a:ln w="0">
                  <a:noFill/>
                </a:ln>
              </p:spPr>
              <p:style>
                <a:lnRef idx="0"/>
                <a:fillRef idx="0"/>
                <a:effectRef idx="0"/>
                <a:fontRef idx="minor"/>
              </p:style>
              <p:txBody>
                <a:bodyPr wrap="none"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a:ea typeface="Arial"/>
                    </a:rPr>
                    <a:t>WebSphere MQ</a:t>
                  </a:r>
                  <a:endParaRPr b="0" lang="en-US" sz="1600" spc="-1" strike="noStrike">
                    <a:solidFill>
                      <a:srgbClr val="ffffff"/>
                    </a:solidFill>
                    <a:latin typeface="Arial"/>
                  </a:endParaRPr>
                </a:p>
              </p:txBody>
            </p:sp>
            <p:grpSp>
              <p:nvGrpSpPr>
                <p:cNvPr id="2537" name=""/>
                <p:cNvGrpSpPr/>
                <p:nvPr/>
              </p:nvGrpSpPr>
              <p:grpSpPr>
                <a:xfrm>
                  <a:off x="6821640" y="5870520"/>
                  <a:ext cx="574560" cy="242640"/>
                  <a:chOff x="6821640" y="5870520"/>
                  <a:chExt cx="574560" cy="242640"/>
                </a:xfrm>
              </p:grpSpPr>
              <p:sp>
                <p:nvSpPr>
                  <p:cNvPr id="2538" name=""/>
                  <p:cNvSpPr/>
                  <p:nvPr/>
                </p:nvSpPr>
                <p:spPr>
                  <a:xfrm>
                    <a:off x="6821640" y="5881680"/>
                    <a:ext cx="574560" cy="155160"/>
                  </a:xfrm>
                  <a:custGeom>
                    <a:avLst/>
                    <a:gdLst/>
                    <a:ahLst/>
                    <a:rect l="l" t="t" r="r" b="b"/>
                    <a:pathLst>
                      <a:path w="617" h="174">
                        <a:moveTo>
                          <a:pt x="443" y="0"/>
                        </a:moveTo>
                        <a:lnTo>
                          <a:pt x="617" y="51"/>
                        </a:lnTo>
                        <a:lnTo>
                          <a:pt x="179" y="174"/>
                        </a:lnTo>
                        <a:lnTo>
                          <a:pt x="0" y="105"/>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lnTo>
                          <a:pt x="443" y="0"/>
                        </a:lnTo>
                        <a:lnTo>
                          <a:pt x="0" y="10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9" name=""/>
                  <p:cNvSpPr/>
                  <p:nvPr/>
                </p:nvSpPr>
                <p:spPr>
                  <a:xfrm>
                    <a:off x="6821640" y="5881680"/>
                    <a:ext cx="412560" cy="170280"/>
                  </a:xfrm>
                  <a:custGeom>
                    <a:avLst/>
                    <a:gdLst/>
                    <a:ahLst/>
                    <a:rect l="l" t="t" r="r" b="b"/>
                    <a:pathLst>
                      <a:path w="443" h="191">
                        <a:moveTo>
                          <a:pt x="443" y="70"/>
                        </a:moveTo>
                        <a:lnTo>
                          <a:pt x="443" y="0"/>
                        </a:lnTo>
                        <a:lnTo>
                          <a:pt x="1" y="104"/>
                        </a:lnTo>
                        <a:lnTo>
                          <a:pt x="0" y="188"/>
                        </a:lnTo>
                        <a:lnTo>
                          <a:pt x="1" y="191"/>
                        </a:lnTo>
                        <a:lnTo>
                          <a:pt x="1" y="191"/>
                        </a:lnTo>
                        <a:lnTo>
                          <a:pt x="443" y="70"/>
                        </a:lnTo>
                        <a:lnTo>
                          <a:pt x="1" y="191"/>
                        </a:lnTo>
                        <a:close/>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0" name=""/>
                  <p:cNvSpPr/>
                  <p:nvPr/>
                </p:nvSpPr>
                <p:spPr>
                  <a:xfrm>
                    <a:off x="6822360" y="5975280"/>
                    <a:ext cx="165960" cy="137880"/>
                  </a:xfrm>
                  <a:custGeom>
                    <a:avLst/>
                    <a:gdLst/>
                    <a:ahLst/>
                    <a:rect l="l" t="t" r="r" b="b"/>
                    <a:pathLst>
                      <a:path w="178" h="155">
                        <a:moveTo>
                          <a:pt x="0" y="83"/>
                        </a:moveTo>
                        <a:lnTo>
                          <a:pt x="178" y="155"/>
                        </a:lnTo>
                        <a:lnTo>
                          <a:pt x="178" y="69"/>
                        </a:lnTo>
                        <a:lnTo>
                          <a:pt x="0" y="0"/>
                        </a:lnTo>
                        <a:lnTo>
                          <a:pt x="0" y="22"/>
                        </a:lnTo>
                        <a:lnTo>
                          <a:pt x="0" y="12"/>
                        </a:lnTo>
                        <a:lnTo>
                          <a:pt x="0" y="12"/>
                        </a:lnTo>
                        <a:lnTo>
                          <a:pt x="0" y="83"/>
                        </a:lnTo>
                        <a:lnTo>
                          <a:pt x="0" y="12"/>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1" name=""/>
                  <p:cNvSpPr/>
                  <p:nvPr/>
                </p:nvSpPr>
                <p:spPr>
                  <a:xfrm>
                    <a:off x="6940440" y="5881680"/>
                    <a:ext cx="455400" cy="155160"/>
                  </a:xfrm>
                  <a:custGeom>
                    <a:avLst/>
                    <a:gdLst/>
                    <a:ahLst/>
                    <a:rect l="l" t="t" r="r" b="b"/>
                    <a:pathLst>
                      <a:path w="489" h="174">
                        <a:moveTo>
                          <a:pt x="315" y="70"/>
                        </a:moveTo>
                        <a:lnTo>
                          <a:pt x="0" y="155"/>
                        </a:lnTo>
                        <a:lnTo>
                          <a:pt x="50" y="174"/>
                        </a:lnTo>
                        <a:lnTo>
                          <a:pt x="489" y="51"/>
                        </a:lnTo>
                        <a:lnTo>
                          <a:pt x="315" y="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lnTo>
                          <a:pt x="315" y="70"/>
                        </a:lnTo>
                        <a:lnTo>
                          <a:pt x="315" y="0"/>
                        </a:lnTo>
                        <a:close/>
                      </a:path>
                    </a:pathLst>
                  </a:custGeom>
                  <a:solidFill>
                    <a:srgbClr val="7fa25f"/>
                  </a:solidFill>
                  <a:ln w="1260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2" name=""/>
                  <p:cNvSpPr/>
                  <p:nvPr/>
                </p:nvSpPr>
                <p:spPr>
                  <a:xfrm>
                    <a:off x="7229880" y="5870520"/>
                    <a:ext cx="165960" cy="119880"/>
                  </a:xfrm>
                  <a:custGeom>
                    <a:avLst/>
                    <a:gdLst/>
                    <a:ahLst/>
                    <a:rect l="l" t="t" r="r" b="b"/>
                    <a:pathLst>
                      <a:path w="178" h="134">
                        <a:moveTo>
                          <a:pt x="178" y="134"/>
                        </a:moveTo>
                        <a:lnTo>
                          <a:pt x="178" y="53"/>
                        </a:lnTo>
                        <a:lnTo>
                          <a:pt x="0" y="0"/>
                        </a:lnTo>
                        <a:lnTo>
                          <a:pt x="0" y="87"/>
                        </a:lnTo>
                        <a:lnTo>
                          <a:pt x="0" y="87"/>
                        </a:lnTo>
                        <a:lnTo>
                          <a:pt x="178" y="134"/>
                        </a:lnTo>
                        <a:lnTo>
                          <a:pt x="0" y="8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3" name=""/>
                  <p:cNvSpPr/>
                  <p:nvPr/>
                </p:nvSpPr>
                <p:spPr>
                  <a:xfrm>
                    <a:off x="7178040" y="5883480"/>
                    <a:ext cx="163440" cy="127800"/>
                  </a:xfrm>
                  <a:custGeom>
                    <a:avLst/>
                    <a:gdLst/>
                    <a:ahLst/>
                    <a:rect l="l" t="t" r="r" b="b"/>
                    <a:pathLst>
                      <a:path w="176" h="144">
                        <a:moveTo>
                          <a:pt x="174" y="144"/>
                        </a:moveTo>
                        <a:lnTo>
                          <a:pt x="176" y="55"/>
                        </a:lnTo>
                        <a:lnTo>
                          <a:pt x="0" y="0"/>
                        </a:lnTo>
                        <a:lnTo>
                          <a:pt x="0" y="88"/>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lnTo>
                          <a:pt x="174" y="144"/>
                        </a:lnTo>
                        <a:lnTo>
                          <a:pt x="0" y="88"/>
                        </a:lnTo>
                        <a:close/>
                      </a:path>
                    </a:pathLst>
                  </a:custGeom>
                  <a:solidFill>
                    <a:srgbClr val="ffff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4" name=""/>
                  <p:cNvSpPr/>
                  <p:nvPr/>
                </p:nvSpPr>
                <p:spPr>
                  <a:xfrm>
                    <a:off x="7120800" y="5893560"/>
                    <a:ext cx="168840" cy="131040"/>
                  </a:xfrm>
                  <a:custGeom>
                    <a:avLst/>
                    <a:gdLst/>
                    <a:ahLst/>
                    <a:rect l="l" t="t" r="r" b="b"/>
                    <a:pathLst>
                      <a:path w="181" h="147">
                        <a:moveTo>
                          <a:pt x="177" y="147"/>
                        </a:moveTo>
                        <a:lnTo>
                          <a:pt x="181" y="61"/>
                        </a:lnTo>
                        <a:lnTo>
                          <a:pt x="0" y="0"/>
                        </a:lnTo>
                        <a:lnTo>
                          <a:pt x="0" y="92"/>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lnTo>
                          <a:pt x="177" y="147"/>
                        </a:lnTo>
                        <a:lnTo>
                          <a:pt x="0" y="92"/>
                        </a:lnTo>
                        <a:close/>
                      </a:path>
                    </a:pathLst>
                  </a:custGeom>
                  <a:solidFill>
                    <a:srgbClr val="7889fb"/>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5" name=""/>
                  <p:cNvSpPr/>
                  <p:nvPr/>
                </p:nvSpPr>
                <p:spPr>
                  <a:xfrm>
                    <a:off x="6987240" y="5926680"/>
                    <a:ext cx="408600" cy="186480"/>
                  </a:xfrm>
                  <a:custGeom>
                    <a:avLst/>
                    <a:gdLst/>
                    <a:ahLst/>
                    <a:rect l="l" t="t" r="r" b="b"/>
                    <a:pathLst>
                      <a:path w="439" h="209">
                        <a:moveTo>
                          <a:pt x="0" y="209"/>
                        </a:moveTo>
                        <a:lnTo>
                          <a:pt x="0" y="124"/>
                        </a:lnTo>
                        <a:lnTo>
                          <a:pt x="439" y="0"/>
                        </a:lnTo>
                        <a:lnTo>
                          <a:pt x="439" y="80"/>
                        </a:lnTo>
                        <a:lnTo>
                          <a:pt x="439" y="80"/>
                        </a:lnTo>
                        <a:lnTo>
                          <a:pt x="0" y="209"/>
                        </a:lnTo>
                        <a:lnTo>
                          <a:pt x="439" y="80"/>
                        </a:lnTo>
                        <a:lnTo>
                          <a:pt x="0" y="209"/>
                        </a:lnTo>
                        <a:lnTo>
                          <a:pt x="439" y="80"/>
                        </a:lnTo>
                        <a:lnTo>
                          <a:pt x="0" y="209"/>
                        </a:lnTo>
                        <a:lnTo>
                          <a:pt x="439" y="80"/>
                        </a:lnTo>
                        <a:lnTo>
                          <a:pt x="0" y="209"/>
                        </a:lnTo>
                        <a:lnTo>
                          <a:pt x="439" y="80"/>
                        </a:lnTo>
                        <a:lnTo>
                          <a:pt x="0" y="209"/>
                        </a:lnTo>
                        <a:lnTo>
                          <a:pt x="439" y="80"/>
                        </a:lnTo>
                        <a:lnTo>
                          <a:pt x="0" y="209"/>
                        </a:lnTo>
                        <a:lnTo>
                          <a:pt x="439" y="80"/>
                        </a:lnTo>
                        <a:close/>
                      </a:path>
                    </a:pathLst>
                  </a:custGeom>
                  <a:solidFill>
                    <a:srgbClr val="00ce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546" name=""/>
              <p:cNvSpPr/>
              <p:nvPr/>
            </p:nvSpPr>
            <p:spPr>
              <a:xfrm flipV="1">
                <a:off x="839880" y="6039000"/>
                <a:ext cx="758880" cy="55440"/>
              </a:xfrm>
              <a:prstGeom prst="line">
                <a:avLst/>
              </a:prstGeom>
              <a:ln w="28440">
                <a:solidFill>
                  <a:srgbClr val="000000"/>
                </a:solidFill>
                <a:miter/>
                <a:tailEnd len="med" type="triangle" w="med"/>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grpSp>
        <p:grpSp>
          <p:nvGrpSpPr>
            <p:cNvPr id="2547" name=""/>
            <p:cNvGrpSpPr/>
            <p:nvPr/>
          </p:nvGrpSpPr>
          <p:grpSpPr>
            <a:xfrm>
              <a:off x="7684920" y="5857920"/>
              <a:ext cx="1219320" cy="439560"/>
              <a:chOff x="7684920" y="5857920"/>
              <a:chExt cx="1219320" cy="439560"/>
            </a:xfrm>
          </p:grpSpPr>
          <p:grpSp>
            <p:nvGrpSpPr>
              <p:cNvPr id="2548" name=""/>
              <p:cNvGrpSpPr/>
              <p:nvPr/>
            </p:nvGrpSpPr>
            <p:grpSpPr>
              <a:xfrm>
                <a:off x="8263080" y="5857920"/>
                <a:ext cx="641160" cy="439560"/>
                <a:chOff x="8263080" y="5857920"/>
                <a:chExt cx="641160" cy="439560"/>
              </a:xfrm>
            </p:grpSpPr>
            <p:sp>
              <p:nvSpPr>
                <p:cNvPr id="2549" name=""/>
                <p:cNvSpPr/>
                <p:nvPr/>
              </p:nvSpPr>
              <p:spPr>
                <a:xfrm>
                  <a:off x="8263080" y="5911560"/>
                  <a:ext cx="641160" cy="385920"/>
                </a:xfrm>
                <a:custGeom>
                  <a:avLst/>
                  <a:gdLst/>
                  <a:ahLst/>
                  <a:rect l="l" t="t" r="r" b="b"/>
                  <a:pathLst>
                    <a:path w="990" h="299">
                      <a:moveTo>
                        <a:pt x="0" y="299"/>
                      </a:moveTo>
                      <a:lnTo>
                        <a:pt x="628" y="299"/>
                      </a:lnTo>
                      <a:lnTo>
                        <a:pt x="990" y="0"/>
                      </a:lnTo>
                      <a:lnTo>
                        <a:pt x="356"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0" name=""/>
                <p:cNvSpPr/>
                <p:nvPr/>
              </p:nvSpPr>
              <p:spPr>
                <a:xfrm>
                  <a:off x="8263080" y="5857920"/>
                  <a:ext cx="641160" cy="384120"/>
                </a:xfrm>
                <a:custGeom>
                  <a:avLst/>
                  <a:gdLst/>
                  <a:ahLst/>
                  <a:rect l="l" t="t" r="r" b="b"/>
                  <a:pathLst>
                    <a:path w="990" h="299">
                      <a:moveTo>
                        <a:pt x="0" y="299"/>
                      </a:moveTo>
                      <a:lnTo>
                        <a:pt x="628" y="299"/>
                      </a:lnTo>
                      <a:lnTo>
                        <a:pt x="990" y="0"/>
                      </a:lnTo>
                      <a:lnTo>
                        <a:pt x="356" y="0"/>
                      </a:lnTo>
                      <a:close/>
                    </a:path>
                  </a:pathLst>
                </a:custGeom>
                <a:gradFill rotWithShape="0">
                  <a:gsLst>
                    <a:gs pos="0">
                      <a:srgbClr val="66ccff"/>
                    </a:gs>
                    <a:gs pos="50000">
                      <a:srgbClr val="6666ff"/>
                    </a:gs>
                    <a:gs pos="100000">
                      <a:srgbClr val="66ccff"/>
                    </a:gs>
                  </a:gsLst>
                  <a:lin ang="135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1" name=""/>
                <p:cNvSpPr/>
                <p:nvPr/>
              </p:nvSpPr>
              <p:spPr>
                <a:xfrm>
                  <a:off x="8481960" y="5889600"/>
                  <a:ext cx="138240" cy="320400"/>
                </a:xfrm>
                <a:prstGeom prst="rect">
                  <a:avLst/>
                </a:prstGeom>
                <a:noFill/>
                <a:ln w="0">
                  <a:noFill/>
                </a:ln>
              </p:spPr>
              <p:style>
                <a:lnRef idx="0"/>
                <a:fillRef idx="0"/>
                <a:effectRef idx="0"/>
                <a:fontRef idx="minor"/>
              </p:style>
              <p:txBody>
                <a:bodyPr lIns="0" rIns="0" tIns="0" bIns="0" anchor="t">
                  <a:spAutoFit/>
                </a:bodyPr>
                <a:p>
                  <a:pPr>
                    <a:lnSpc>
                      <a:spcPct val="100000"/>
                    </a:lnSpc>
                    <a:spcAft>
                      <a:spcPts val="1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ea typeface="Arial"/>
                    </a:rPr>
                    <a:t>B</a:t>
                  </a:r>
                  <a:endParaRPr b="0" lang="en-US" sz="2100" spc="-1" strike="noStrike">
                    <a:solidFill>
                      <a:srgbClr val="ffffff"/>
                    </a:solidFill>
                    <a:latin typeface="Arial"/>
                  </a:endParaRPr>
                </a:p>
              </p:txBody>
            </p:sp>
          </p:grpSp>
          <p:sp>
            <p:nvSpPr>
              <p:cNvPr id="2552" name=""/>
              <p:cNvSpPr/>
              <p:nvPr/>
            </p:nvSpPr>
            <p:spPr>
              <a:xfrm>
                <a:off x="7684920" y="5999400"/>
                <a:ext cx="600120" cy="45720"/>
              </a:xfrm>
              <a:prstGeom prst="line">
                <a:avLst/>
              </a:prstGeom>
              <a:ln w="28440">
                <a:solidFill>
                  <a:srgbClr val="000000"/>
                </a:solidFill>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ffffff"/>
                  </a:solidFill>
                  <a:latin typeface="Arial"/>
                </a:endParaRPr>
              </a:p>
            </p:txBody>
          </p:sp>
        </p:grpSp>
      </p:grpSp>
      <p:grpSp>
        <p:nvGrpSpPr>
          <p:cNvPr id="2553" name=""/>
          <p:cNvGrpSpPr/>
          <p:nvPr/>
        </p:nvGrpSpPr>
        <p:grpSpPr>
          <a:xfrm>
            <a:off x="6367320" y="3322800"/>
            <a:ext cx="2548080" cy="1395360"/>
            <a:chOff x="6367320" y="3322800"/>
            <a:chExt cx="2548080" cy="1395360"/>
          </a:xfrm>
        </p:grpSpPr>
        <p:grpSp>
          <p:nvGrpSpPr>
            <p:cNvPr id="2554" name=""/>
            <p:cNvGrpSpPr/>
            <p:nvPr/>
          </p:nvGrpSpPr>
          <p:grpSpPr>
            <a:xfrm>
              <a:off x="6383160" y="3322800"/>
              <a:ext cx="2532240" cy="485640"/>
              <a:chOff x="6383160" y="3322800"/>
              <a:chExt cx="2532240" cy="485640"/>
            </a:xfrm>
          </p:grpSpPr>
          <p:graphicFrame>
            <p:nvGraphicFramePr>
              <p:cNvPr id="2555" name=""/>
              <p:cNvGraphicFramePr/>
              <p:nvPr/>
            </p:nvGraphicFramePr>
            <p:xfrm>
              <a:off x="6383160" y="3451320"/>
              <a:ext cx="304920" cy="304920"/>
            </p:xfrm>
            <a:graphic>
              <a:graphicData uri="http://schemas.openxmlformats.org/presentationml/2006/ole">
                <p:oleObj r:id="rId27" spid="">
                  <p:embed/>
                  <p:pic>
                    <p:nvPicPr>
                      <p:cNvPr id="2556" name="" descr=""/>
                      <p:cNvPicPr/>
                      <p:nvPr/>
                    </p:nvPicPr>
                    <p:blipFill>
                      <a:blip r:embed="rId28"/>
                      <a:stretch/>
                    </p:blipFill>
                    <p:spPr>
                      <a:xfrm>
                        <a:off x="6383160" y="3451320"/>
                        <a:ext cx="304920" cy="304920"/>
                      </a:xfrm>
                      <a:prstGeom prst="rect">
                        <a:avLst/>
                      </a:prstGeom>
                      <a:ln w="0">
                        <a:noFill/>
                      </a:ln>
                    </p:spPr>
                  </p:pic>
                </p:oleObj>
              </a:graphicData>
            </a:graphic>
          </p:graphicFrame>
          <p:sp>
            <p:nvSpPr>
              <p:cNvPr id="2557" name=""/>
              <p:cNvSpPr/>
              <p:nvPr/>
            </p:nvSpPr>
            <p:spPr>
              <a:xfrm>
                <a:off x="6669000" y="3475080"/>
                <a:ext cx="5572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JMS</a:t>
                </a:r>
                <a:endParaRPr b="0" lang="en-US" sz="1400" spc="-1" strike="noStrike">
                  <a:solidFill>
                    <a:srgbClr val="ffffff"/>
                  </a:solidFill>
                  <a:latin typeface="Arial"/>
                </a:endParaRPr>
              </a:p>
            </p:txBody>
          </p:sp>
          <p:pic>
            <p:nvPicPr>
              <p:cNvPr id="2558" name="" descr=""/>
              <p:cNvPicPr/>
              <p:nvPr/>
            </p:nvPicPr>
            <p:blipFill>
              <a:blip r:embed="rId29"/>
              <a:srcRect l="0" t="5466" r="85225" b="58635"/>
              <a:stretch/>
            </p:blipFill>
            <p:spPr>
              <a:xfrm>
                <a:off x="8136000" y="3322800"/>
                <a:ext cx="779400" cy="485640"/>
              </a:xfrm>
              <a:prstGeom prst="rect">
                <a:avLst/>
              </a:prstGeom>
              <a:ln w="0">
                <a:noFill/>
              </a:ln>
            </p:spPr>
          </p:pic>
        </p:grpSp>
        <p:grpSp>
          <p:nvGrpSpPr>
            <p:cNvPr id="2559" name=""/>
            <p:cNvGrpSpPr/>
            <p:nvPr/>
          </p:nvGrpSpPr>
          <p:grpSpPr>
            <a:xfrm>
              <a:off x="6367320" y="3768840"/>
              <a:ext cx="2382840" cy="949320"/>
              <a:chOff x="6367320" y="3768840"/>
              <a:chExt cx="2382840" cy="949320"/>
            </a:xfrm>
          </p:grpSpPr>
          <p:grpSp>
            <p:nvGrpSpPr>
              <p:cNvPr id="2560" name=""/>
              <p:cNvGrpSpPr/>
              <p:nvPr/>
            </p:nvGrpSpPr>
            <p:grpSpPr>
              <a:xfrm>
                <a:off x="6367320" y="3768840"/>
                <a:ext cx="2349720" cy="441360"/>
                <a:chOff x="6367320" y="3768840"/>
                <a:chExt cx="2349720" cy="441360"/>
              </a:xfrm>
            </p:grpSpPr>
            <p:graphicFrame>
              <p:nvGraphicFramePr>
                <p:cNvPr id="2561" name=""/>
                <p:cNvGraphicFramePr/>
                <p:nvPr/>
              </p:nvGraphicFramePr>
              <p:xfrm>
                <a:off x="6367320" y="3834000"/>
                <a:ext cx="335160" cy="335160"/>
              </p:xfrm>
              <a:graphic>
                <a:graphicData uri="http://schemas.openxmlformats.org/presentationml/2006/ole">
                  <p:oleObj r:id="rId30" spid="">
                    <p:embed/>
                    <p:pic>
                      <p:nvPicPr>
                        <p:cNvPr id="2562" name="" descr=""/>
                        <p:cNvPicPr/>
                        <p:nvPr/>
                      </p:nvPicPr>
                      <p:blipFill>
                        <a:blip r:embed="rId31"/>
                        <a:stretch/>
                      </p:blipFill>
                      <p:spPr>
                        <a:xfrm>
                          <a:off x="6367320" y="3834000"/>
                          <a:ext cx="335160" cy="335160"/>
                        </a:xfrm>
                        <a:prstGeom prst="rect">
                          <a:avLst/>
                        </a:prstGeom>
                        <a:ln w="0">
                          <a:noFill/>
                        </a:ln>
                      </p:spPr>
                    </p:pic>
                  </p:oleObj>
                </a:graphicData>
              </a:graphic>
            </p:graphicFrame>
            <p:sp>
              <p:nvSpPr>
                <p:cNvPr id="2563" name=""/>
                <p:cNvSpPr/>
                <p:nvPr/>
              </p:nvSpPr>
              <p:spPr>
                <a:xfrm>
                  <a:off x="6669000" y="3875400"/>
                  <a:ext cx="14814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obile Devices</a:t>
                  </a:r>
                  <a:endParaRPr b="0" lang="en-US" sz="1400" spc="-1" strike="noStrike">
                    <a:solidFill>
                      <a:srgbClr val="ffffff"/>
                    </a:solidFill>
                    <a:latin typeface="Arial"/>
                  </a:endParaRPr>
                </a:p>
              </p:txBody>
            </p:sp>
            <p:pic>
              <p:nvPicPr>
                <p:cNvPr id="2564" name="" descr="">
                  <a:hlinkClick r:id="rId32"/>
                </p:cNvPr>
                <p:cNvPicPr/>
                <p:nvPr/>
              </p:nvPicPr>
              <p:blipFill>
                <a:blip r:embed="rId33"/>
                <a:stretch/>
              </p:blipFill>
              <p:spPr>
                <a:xfrm>
                  <a:off x="8361360" y="3768840"/>
                  <a:ext cx="355680" cy="441360"/>
                </a:xfrm>
                <a:prstGeom prst="rect">
                  <a:avLst/>
                </a:prstGeom>
                <a:ln w="0">
                  <a:noFill/>
                </a:ln>
              </p:spPr>
            </p:pic>
          </p:grpSp>
          <p:grpSp>
            <p:nvGrpSpPr>
              <p:cNvPr id="2565" name=""/>
              <p:cNvGrpSpPr/>
              <p:nvPr/>
            </p:nvGrpSpPr>
            <p:grpSpPr>
              <a:xfrm>
                <a:off x="6386400" y="4262760"/>
                <a:ext cx="2363760" cy="455400"/>
                <a:chOff x="6386400" y="4262760"/>
                <a:chExt cx="2363760" cy="455400"/>
              </a:xfrm>
            </p:grpSpPr>
            <p:sp>
              <p:nvSpPr>
                <p:cNvPr id="2566" name=""/>
                <p:cNvSpPr/>
                <p:nvPr/>
              </p:nvSpPr>
              <p:spPr>
                <a:xfrm>
                  <a:off x="6669000" y="4267440"/>
                  <a:ext cx="1168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ulticast </a:t>
                  </a:r>
                  <a:endParaRPr b="0" lang="en-US" sz="1400" spc="-1" strike="noStrike">
                    <a:solidFill>
                      <a:srgbClr val="ffffff"/>
                    </a:solidFill>
                    <a:latin typeface="Arial"/>
                  </a:endParaRPr>
                </a:p>
              </p:txBody>
            </p:sp>
            <p:pic>
              <p:nvPicPr>
                <p:cNvPr id="2567" name="" descr="">
                  <a:hlinkClick r:id="rId34"/>
                </p:cNvPr>
                <p:cNvPicPr/>
                <p:nvPr/>
              </p:nvPicPr>
              <p:blipFill>
                <a:blip r:embed="rId35"/>
                <a:srcRect l="0" t="0" r="9474" b="0"/>
                <a:stretch/>
              </p:blipFill>
              <p:spPr>
                <a:xfrm>
                  <a:off x="8408880" y="4297680"/>
                  <a:ext cx="341280" cy="420480"/>
                </a:xfrm>
                <a:prstGeom prst="rect">
                  <a:avLst/>
                </a:prstGeom>
                <a:ln w="0">
                  <a:noFill/>
                </a:ln>
              </p:spPr>
            </p:pic>
            <p:graphicFrame>
              <p:nvGraphicFramePr>
                <p:cNvPr id="2568" name=""/>
                <p:cNvGraphicFramePr/>
                <p:nvPr/>
              </p:nvGraphicFramePr>
              <p:xfrm>
                <a:off x="6386400" y="4262760"/>
                <a:ext cx="304920" cy="304920"/>
              </p:xfrm>
              <a:graphic>
                <a:graphicData uri="http://schemas.openxmlformats.org/presentationml/2006/ole">
                  <p:oleObj r:id="rId36" spid="">
                    <p:embed/>
                    <p:pic>
                      <p:nvPicPr>
                        <p:cNvPr id="2569" name="" descr=""/>
                        <p:cNvPicPr/>
                        <p:nvPr/>
                      </p:nvPicPr>
                      <p:blipFill>
                        <a:blip r:embed="rId37"/>
                        <a:stretch/>
                      </p:blipFill>
                      <p:spPr>
                        <a:xfrm>
                          <a:off x="6386400" y="4262760"/>
                          <a:ext cx="304920" cy="304920"/>
                        </a:xfrm>
                        <a:prstGeom prst="rect">
                          <a:avLst/>
                        </a:prstGeom>
                        <a:ln w="0">
                          <a:noFill/>
                        </a:ln>
                      </p:spPr>
                    </p:pic>
                  </p:oleObj>
                </a:graphicData>
              </a:graphic>
            </p:graphicFrame>
          </p:grpSp>
        </p:grpSp>
      </p:grpSp>
      <p:sp>
        <p:nvSpPr>
          <p:cNvPr id="2570" name=""/>
          <p:cNvSpPr/>
          <p:nvPr/>
        </p:nvSpPr>
        <p:spPr>
          <a:xfrm>
            <a:off x="69840" y="1125360"/>
            <a:ext cx="9058320" cy="5616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 framework for WebSphere MQ communications </a:t>
            </a:r>
            <a:endParaRPr b="0" lang="en-US" sz="1600" spc="-1" strike="noStrike">
              <a:solidFill>
                <a:srgbClr val="ffffff"/>
              </a:solidFill>
              <a:latin typeface="Arial"/>
            </a:endParaRPr>
          </a:p>
          <a:p>
            <a:pPr lvl="1" marL="528480" indent="-18252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duces programming with pre-built mediation capabilities</a:t>
            </a:r>
            <a:endParaRPr b="0" lang="en-US" sz="1400" spc="-1" strike="noStrike">
              <a:solidFill>
                <a:srgbClr val="ffffff"/>
              </a:solidFill>
              <a:latin typeface="Arial"/>
            </a:endParaRPr>
          </a:p>
        </p:txBody>
      </p:sp>
      <p:sp>
        <p:nvSpPr>
          <p:cNvPr id="2571" name=""/>
          <p:cNvSpPr/>
          <p:nvPr/>
        </p:nvSpPr>
        <p:spPr>
          <a:xfrm>
            <a:off x="85680" y="1604880"/>
            <a:ext cx="9058320" cy="337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vides universal data transformation for any kind of data – beyond just XML</a:t>
            </a:r>
            <a:endParaRPr b="0" lang="en-US" sz="1600" spc="-1" strike="noStrike">
              <a:solidFill>
                <a:srgbClr val="ffffff"/>
              </a:solidFill>
              <a:latin typeface="Arial"/>
            </a:endParaRPr>
          </a:p>
        </p:txBody>
      </p:sp>
      <p:sp>
        <p:nvSpPr>
          <p:cNvPr id="2572" name=""/>
          <p:cNvSpPr/>
          <p:nvPr/>
        </p:nvSpPr>
        <p:spPr>
          <a:xfrm>
            <a:off x="85680" y="2116080"/>
            <a:ext cx="9058320" cy="337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Enables correlation and processing of complex events</a:t>
            </a:r>
            <a:endParaRPr b="0" lang="en-US" sz="1600" spc="-1" strike="noStrike">
              <a:solidFill>
                <a:srgbClr val="ffffff"/>
              </a:solidFill>
              <a:latin typeface="Arial"/>
            </a:endParaRPr>
          </a:p>
        </p:txBody>
      </p:sp>
      <p:sp>
        <p:nvSpPr>
          <p:cNvPr id="2573" name=""/>
          <p:cNvSpPr/>
          <p:nvPr/>
        </p:nvSpPr>
        <p:spPr>
          <a:xfrm>
            <a:off x="85680" y="2367000"/>
            <a:ext cx="9058320" cy="337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Offers performance and scalability of traditional transaction processing environments.</a:t>
            </a:r>
            <a:endParaRPr b="0" lang="en-US" sz="1600" spc="-1" strike="noStrike">
              <a:solidFill>
                <a:srgbClr val="ffffff"/>
              </a:solidFill>
              <a:latin typeface="Arial"/>
            </a:endParaRPr>
          </a:p>
        </p:txBody>
      </p:sp>
      <p:sp>
        <p:nvSpPr>
          <p:cNvPr id="2574" name=""/>
          <p:cNvSpPr/>
          <p:nvPr/>
        </p:nvSpPr>
        <p:spPr>
          <a:xfrm>
            <a:off x="2654280" y="5964120"/>
            <a:ext cx="39798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575" name=""/>
          <p:cNvSpPr/>
          <p:nvPr/>
        </p:nvSpPr>
        <p:spPr>
          <a:xfrm>
            <a:off x="85680" y="1871640"/>
            <a:ext cx="9464760" cy="337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s an advanced ESB for all types of transports – including 3rd-parties</a:t>
            </a:r>
            <a:endParaRPr b="0" lang="en-US" sz="1600" spc="-1" strike="noStrike">
              <a:solidFill>
                <a:srgbClr val="ffffff"/>
              </a:solidFill>
              <a:latin typeface="Arial"/>
            </a:endParaRPr>
          </a:p>
        </p:txBody>
      </p:sp>
      <p:sp>
        <p:nvSpPr>
          <p:cNvPr id="2576" name=""/>
          <p:cNvSpPr/>
          <p:nvPr/>
        </p:nvSpPr>
        <p:spPr>
          <a:xfrm flipV="1">
            <a:off x="2021040" y="5522760"/>
            <a:ext cx="4680" cy="31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7" name=""/>
          <p:cNvSpPr/>
          <p:nvPr/>
        </p:nvSpPr>
        <p:spPr>
          <a:xfrm flipH="1">
            <a:off x="7117920" y="5499000"/>
            <a:ext cx="9720" cy="320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78" name=""/>
          <p:cNvGrpSpPr/>
          <p:nvPr/>
        </p:nvGrpSpPr>
        <p:grpSpPr>
          <a:xfrm>
            <a:off x="6359400" y="4641840"/>
            <a:ext cx="2371680" cy="384120"/>
            <a:chOff x="6359400" y="4641840"/>
            <a:chExt cx="2371680" cy="384120"/>
          </a:xfrm>
        </p:grpSpPr>
        <p:graphicFrame>
          <p:nvGraphicFramePr>
            <p:cNvPr id="2579" name=""/>
            <p:cNvGraphicFramePr/>
            <p:nvPr/>
          </p:nvGraphicFramePr>
          <p:xfrm>
            <a:off x="6359400" y="4641840"/>
            <a:ext cx="351000" cy="351000"/>
          </p:xfrm>
          <a:graphic>
            <a:graphicData uri="http://schemas.openxmlformats.org/presentationml/2006/ole">
              <p:oleObj r:id="rId38" spid="">
                <p:embed/>
                <p:pic>
                  <p:nvPicPr>
                    <p:cNvPr id="2580" name="" descr=""/>
                    <p:cNvPicPr/>
                    <p:nvPr/>
                  </p:nvPicPr>
                  <p:blipFill>
                    <a:blip r:embed="rId39"/>
                    <a:stretch/>
                  </p:blipFill>
                  <p:spPr>
                    <a:xfrm>
                      <a:off x="6359400" y="4641840"/>
                      <a:ext cx="351000" cy="351000"/>
                    </a:xfrm>
                    <a:prstGeom prst="rect">
                      <a:avLst/>
                    </a:prstGeom>
                    <a:ln w="0">
                      <a:noFill/>
                    </a:ln>
                  </p:spPr>
                </p:pic>
              </p:oleObj>
            </a:graphicData>
          </a:graphic>
        </p:graphicFrame>
        <p:sp>
          <p:nvSpPr>
            <p:cNvPr id="2581" name=""/>
            <p:cNvSpPr/>
            <p:nvPr/>
          </p:nvSpPr>
          <p:spPr>
            <a:xfrm>
              <a:off x="6669000" y="4710240"/>
              <a:ext cx="76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TTP</a:t>
              </a:r>
              <a:endParaRPr b="0" lang="en-US" sz="1400" spc="-1" strike="noStrike">
                <a:solidFill>
                  <a:srgbClr val="ffffff"/>
                </a:solidFill>
                <a:latin typeface="Arial"/>
              </a:endParaRPr>
            </a:p>
          </p:txBody>
        </p:sp>
        <p:pic>
          <p:nvPicPr>
            <p:cNvPr id="2582" name="" descr=""/>
            <p:cNvPicPr/>
            <p:nvPr/>
          </p:nvPicPr>
          <p:blipFill>
            <a:blip r:embed="rId40"/>
            <a:stretch/>
          </p:blipFill>
          <p:spPr>
            <a:xfrm>
              <a:off x="8350200" y="4645080"/>
              <a:ext cx="380880" cy="380880"/>
            </a:xfrm>
            <a:prstGeom prst="rect">
              <a:avLst/>
            </a:prstGeom>
            <a:ln w="0">
              <a:noFill/>
            </a:ln>
          </p:spPr>
        </p:pic>
      </p:grpSp>
      <p:grpSp>
        <p:nvGrpSpPr>
          <p:cNvPr id="2583" name=""/>
          <p:cNvGrpSpPr/>
          <p:nvPr/>
        </p:nvGrpSpPr>
        <p:grpSpPr>
          <a:xfrm>
            <a:off x="2104920" y="4121280"/>
            <a:ext cx="4964040" cy="1102680"/>
            <a:chOff x="2104920" y="4121280"/>
            <a:chExt cx="4964040" cy="1102680"/>
          </a:xfrm>
        </p:grpSpPr>
        <p:sp>
          <p:nvSpPr>
            <p:cNvPr id="2584" name=""/>
            <p:cNvSpPr/>
            <p:nvPr/>
          </p:nvSpPr>
          <p:spPr>
            <a:xfrm flipV="1">
              <a:off x="2104920" y="4135320"/>
              <a:ext cx="0" cy="108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5" name=""/>
            <p:cNvSpPr/>
            <p:nvPr/>
          </p:nvSpPr>
          <p:spPr>
            <a:xfrm>
              <a:off x="2133720" y="4135320"/>
              <a:ext cx="92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6" name=""/>
            <p:cNvSpPr/>
            <p:nvPr/>
          </p:nvSpPr>
          <p:spPr>
            <a:xfrm>
              <a:off x="6138720" y="4121280"/>
              <a:ext cx="930240" cy="14040"/>
            </a:xfrm>
            <a:prstGeom prst="line">
              <a:avLst/>
            </a:prstGeom>
            <a:ln w="2844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sp>
          <p:nvSpPr>
            <p:cNvPr id="2587" name=""/>
            <p:cNvSpPr/>
            <p:nvPr/>
          </p:nvSpPr>
          <p:spPr>
            <a:xfrm>
              <a:off x="7068960" y="4149360"/>
              <a:ext cx="0" cy="106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2588" name="" descr=""/>
          <p:cNvPicPr/>
          <p:nvPr/>
        </p:nvPicPr>
        <p:blipFill>
          <a:blip r:embed="rId41"/>
          <a:stretch/>
        </p:blipFill>
        <p:spPr>
          <a:xfrm flipH="1">
            <a:off x="3268440" y="2978280"/>
            <a:ext cx="2560680" cy="2579400"/>
          </a:xfrm>
          <a:prstGeom prst="rect">
            <a:avLst/>
          </a:prstGeom>
          <a:ln w="0">
            <a:noFill/>
          </a:ln>
        </p:spPr>
      </p:pic>
      <p:sp>
        <p:nvSpPr>
          <p:cNvPr id="3" name="PlaceHolder 2"/>
          <p:cNvSpPr>
            <a:spLocks noGrp="1"/>
          </p:cNvSpPr>
          <p:nvPr>
            <p:ph type="sldNum" idx="5"/>
          </p:nvPr>
        </p:nvSpPr>
        <p:spPr/>
        <p:txBody>
          <a:bodyPr/>
          <a:p>
            <a:fld id="{B9F36FD7-633B-464F-B000-BF5034953AC3}" type="slidenum">
              <a:t>16</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2570">
                                            <p:txEl>
                                              <p:pRg st="0" end="0"/>
                                            </p:txEl>
                                          </p:spTgt>
                                        </p:tgtEl>
                                        <p:attrNameLst>
                                          <p:attrName>style.visibility</p:attrName>
                                        </p:attrNameLst>
                                      </p:cBhvr>
                                      <p:to>
                                        <p:strVal val="visible"/>
                                      </p:to>
                                    </p:set>
                                    <p:animEffect filter="fade" transition="in">
                                      <p:cBhvr additive="repl">
                                        <p:cTn id="180" dur="385"/>
                                        <p:tgtEl>
                                          <p:spTgt spid="2570">
                                            <p:txEl>
                                              <p:pRg st="0" end="0"/>
                                            </p:txEl>
                                          </p:spTgt>
                                        </p:tgtEl>
                                      </p:cBhvr>
                                    </p:animEffect>
                                    <p:animScale>
                                      <p:cBhvr>
                                        <p:cTn id="181" dur="385" fill="hold"/>
                                        <p:tgtEl>
                                          <p:spTgt spid="2570">
                                            <p:txEl>
                                              <p:pRg st="0" end="0"/>
                                            </p:txEl>
                                          </p:spTgt>
                                        </p:tgtEl>
                                      </p:cBhvr>
                                      <p:from x="10000" y="10000"/>
                                      <p:to x="200000" y="450000"/>
                                    </p:animScale>
                                    <p:animScale>
                                      <p:cBhvr>
                                        <p:cTn id="182" dur="615" fill="hold">
                                          <p:stCondLst>
                                            <p:cond delay="385"/>
                                          </p:stCondLst>
                                        </p:cTn>
                                        <p:tgtEl>
                                          <p:spTgt spid="2570">
                                            <p:txEl>
                                              <p:pRg st="0" end="0"/>
                                            </p:txEl>
                                          </p:spTgt>
                                        </p:tgtEl>
                                      </p:cBhvr>
                                      <p:from x="200000" y="450000"/>
                                      <p:to x="100000" y="100000"/>
                                    </p:animScale>
                                    <p:set>
                                      <p:cBhvr>
                                        <p:cTn id="183" dur="385" fill="hold"/>
                                        <p:tgtEl>
                                          <p:spTgt spid="2570">
                                            <p:txEl>
                                              <p:pRg st="0" end="0"/>
                                            </p:txEl>
                                          </p:spTgt>
                                        </p:tgtEl>
                                        <p:attrNameLst>
                                          <p:attrName>ppt_x</p:attrName>
                                        </p:attrNameLst>
                                      </p:cBhvr>
                                      <p:to>
                                        <p:strVal val="(0.5)"/>
                                      </p:to>
                                    </p:set>
                                    <p:anim calcmode="lin" valueType="num" from="(0.5)" to="(#ppt_x)">
                                      <p:cBhvr additive="repl">
                                        <p:cTn id="184" dur="615" fill="hold">
                                          <p:stCondLst>
                                            <p:cond delay="385"/>
                                          </p:stCondLst>
                                        </p:cTn>
                                        <p:tgtEl>
                                          <p:spTgt spid="2570">
                                            <p:txEl>
                                              <p:pRg st="0" end="0"/>
                                            </p:txEl>
                                          </p:spTgt>
                                        </p:tgtEl>
                                        <p:attrNameLst>
                                          <p:attrName>ppt_x</p:attrName>
                                        </p:attrNameLst>
                                      </p:cBhvr>
                                    </p:anim>
                                    <p:set>
                                      <p:cBhvr>
                                        <p:cTn id="185" dur="385" fill="hold"/>
                                        <p:tgtEl>
                                          <p:spTgt spid="2570">
                                            <p:txEl>
                                              <p:pRg st="0" end="0"/>
                                            </p:txEl>
                                          </p:spTgt>
                                        </p:tgtEl>
                                        <p:attrNameLst>
                                          <p:attrName>ppt_y</p:attrName>
                                        </p:attrNameLst>
                                      </p:cBhvr>
                                      <p:to>
                                        <p:strVal val="(#ppt_y+0.4)"/>
                                      </p:to>
                                    </p:set>
                                    <p:anim calcmode="lin" valueType="num" from="(#ppt_y+0.4)" to="(#ppt_y)">
                                      <p:cBhvr additive="repl">
                                        <p:cTn id="186" dur="615" fill="hold">
                                          <p:stCondLst>
                                            <p:cond delay="385"/>
                                          </p:stCondLst>
                                        </p:cTn>
                                        <p:tgtEl>
                                          <p:spTgt spid="2570">
                                            <p:txEl>
                                              <p:pRg st="0" end="0"/>
                                            </p:txEl>
                                          </p:spTgt>
                                        </p:tgtEl>
                                        <p:attrNameLst>
                                          <p:attrName>ppt_y</p:attrName>
                                        </p:attrNameLst>
                                      </p:cBhvr>
                                    </p:anim>
                                  </p:childTnLst>
                                </p:cTn>
                              </p:par>
                              <p:par>
                                <p:cTn id="187" nodeType="withEffect" fill="hold" presetClass="emph" presetID="5" presetSubtype="1">
                                  <p:stCondLst>
                                    <p:cond delay="0"/>
                                  </p:stCondLst>
                                  <p:childTnLst>
                                    <p:set>
                                      <p:cBhvr>
                                        <p:cTn id="188" dur="indefinite"/>
                                        <p:tgtEl>
                                          <p:spTgt spid="2570">
                                            <p:txEl>
                                              <p:pRg st="0" end="0"/>
                                            </p:txEl>
                                          </p:spTgt>
                                        </p:tgtEl>
                                        <p:attrNameLst>
                                          <p:attrName>style.fontStyle</p:attrName>
                                        </p:attrNameLst>
                                      </p:cBhvr>
                                      <p:to>
                                        <p:strVal val="normal"/>
                                      </p:to>
                                    </p:set>
                                    <p:set>
                                      <p:cBhvr>
                                        <p:cTn id="189" dur="indefinite"/>
                                        <p:tgtEl>
                                          <p:spTgt spid="2570">
                                            <p:txEl>
                                              <p:pRg st="0" end="0"/>
                                            </p:txEl>
                                          </p:spTgt>
                                        </p:tgtEl>
                                        <p:attrNameLst>
                                          <p:attrName>style.fontWeight</p:attrName>
                                        </p:attrNameLst>
                                      </p:cBhvr>
                                      <p:to>
                                        <p:strVal val="bold"/>
                                      </p:to>
                                    </p:set>
                                    <p:set>
                                      <p:cBhvr>
                                        <p:cTn id="190" dur="indefinite"/>
                                        <p:tgtEl>
                                          <p:spTgt spid="2570">
                                            <p:txEl>
                                              <p:pRg st="0" end="0"/>
                                            </p:txEl>
                                          </p:spTgt>
                                        </p:tgtEl>
                                        <p:attrNameLst>
                                          <p:attrName>style.textDecorationUnderline</p:attrName>
                                        </p:attrNameLst>
                                      </p:cBhvr>
                                      <p:to>
                                        <p:strVal val="false"/>
                                      </p:to>
                                    </p:set>
                                  </p:childTnLst>
                                </p:cTn>
                              </p:par>
                              <p:par>
                                <p:cTn id="191" nodeType="withEffect" fill="hold" presetClass="entr" presetID="51">
                                  <p:stCondLst>
                                    <p:cond delay="0"/>
                                  </p:stCondLst>
                                  <p:childTnLst>
                                    <p:set>
                                      <p:cBhvr>
                                        <p:cTn id="192" dur="1" fill="hold">
                                          <p:stCondLst>
                                            <p:cond delay="0"/>
                                          </p:stCondLst>
                                        </p:cTn>
                                        <p:tgtEl>
                                          <p:spTgt spid="2570">
                                            <p:txEl>
                                              <p:pRg st="1" end="1"/>
                                            </p:txEl>
                                          </p:spTgt>
                                        </p:tgtEl>
                                        <p:attrNameLst>
                                          <p:attrName>style.visibility</p:attrName>
                                        </p:attrNameLst>
                                      </p:cBhvr>
                                      <p:to>
                                        <p:strVal val="visible"/>
                                      </p:to>
                                    </p:set>
                                    <p:animEffect filter="fade" transition="in">
                                      <p:cBhvr additive="repl">
                                        <p:cTn id="193" dur="385"/>
                                        <p:tgtEl>
                                          <p:spTgt spid="2570">
                                            <p:txEl>
                                              <p:pRg st="1" end="1"/>
                                            </p:txEl>
                                          </p:spTgt>
                                        </p:tgtEl>
                                      </p:cBhvr>
                                    </p:animEffect>
                                    <p:animScale>
                                      <p:cBhvr>
                                        <p:cTn id="194" dur="385" fill="hold"/>
                                        <p:tgtEl>
                                          <p:spTgt spid="2570">
                                            <p:txEl>
                                              <p:pRg st="1" end="1"/>
                                            </p:txEl>
                                          </p:spTgt>
                                        </p:tgtEl>
                                      </p:cBhvr>
                                      <p:from x="10000" y="10000"/>
                                      <p:to x="200000" y="450000"/>
                                    </p:animScale>
                                    <p:animScale>
                                      <p:cBhvr>
                                        <p:cTn id="195" dur="615" fill="hold">
                                          <p:stCondLst>
                                            <p:cond delay="385"/>
                                          </p:stCondLst>
                                        </p:cTn>
                                        <p:tgtEl>
                                          <p:spTgt spid="2570">
                                            <p:txEl>
                                              <p:pRg st="1" end="1"/>
                                            </p:txEl>
                                          </p:spTgt>
                                        </p:tgtEl>
                                      </p:cBhvr>
                                      <p:from x="200000" y="450000"/>
                                      <p:to x="100000" y="100000"/>
                                    </p:animScale>
                                    <p:set>
                                      <p:cBhvr>
                                        <p:cTn id="196" dur="385" fill="hold"/>
                                        <p:tgtEl>
                                          <p:spTgt spid="2570">
                                            <p:txEl>
                                              <p:pRg st="1" end="1"/>
                                            </p:txEl>
                                          </p:spTgt>
                                        </p:tgtEl>
                                        <p:attrNameLst>
                                          <p:attrName>ppt_x</p:attrName>
                                        </p:attrNameLst>
                                      </p:cBhvr>
                                      <p:to>
                                        <p:strVal val="(0.5)"/>
                                      </p:to>
                                    </p:set>
                                    <p:anim calcmode="lin" valueType="num" from="(0.5)" to="(#ppt_x)">
                                      <p:cBhvr additive="repl">
                                        <p:cTn id="197" dur="615" fill="hold">
                                          <p:stCondLst>
                                            <p:cond delay="385"/>
                                          </p:stCondLst>
                                        </p:cTn>
                                        <p:tgtEl>
                                          <p:spTgt spid="2570">
                                            <p:txEl>
                                              <p:pRg st="1" end="1"/>
                                            </p:txEl>
                                          </p:spTgt>
                                        </p:tgtEl>
                                        <p:attrNameLst>
                                          <p:attrName>ppt_x</p:attrName>
                                        </p:attrNameLst>
                                      </p:cBhvr>
                                    </p:anim>
                                    <p:set>
                                      <p:cBhvr>
                                        <p:cTn id="198" dur="385" fill="hold"/>
                                        <p:tgtEl>
                                          <p:spTgt spid="2570">
                                            <p:txEl>
                                              <p:pRg st="1" end="1"/>
                                            </p:txEl>
                                          </p:spTgt>
                                        </p:tgtEl>
                                        <p:attrNameLst>
                                          <p:attrName>ppt_y</p:attrName>
                                        </p:attrNameLst>
                                      </p:cBhvr>
                                      <p:to>
                                        <p:strVal val="(#ppt_y+0.4)"/>
                                      </p:to>
                                    </p:set>
                                    <p:anim calcmode="lin" valueType="num" from="(#ppt_y+0.4)" to="(#ppt_y)">
                                      <p:cBhvr additive="repl">
                                        <p:cTn id="199" dur="615" fill="hold">
                                          <p:stCondLst>
                                            <p:cond delay="385"/>
                                          </p:stCondLst>
                                        </p:cTn>
                                        <p:tgtEl>
                                          <p:spTgt spid="2570">
                                            <p:txEl>
                                              <p:pRg st="1" end="1"/>
                                            </p:txEl>
                                          </p:spTgt>
                                        </p:tgtEl>
                                        <p:attrNameLst>
                                          <p:attrName>ppt_y</p:attrName>
                                        </p:attrNameLst>
                                      </p:cBhvr>
                                    </p:anim>
                                  </p:childTnLst>
                                </p:cTn>
                              </p:par>
                              <p:par>
                                <p:cTn id="200" nodeType="withEffect" fill="hold" presetClass="emph" presetID="5" presetSubtype="1">
                                  <p:stCondLst>
                                    <p:cond delay="0"/>
                                  </p:stCondLst>
                                  <p:childTnLst>
                                    <p:set>
                                      <p:cBhvr>
                                        <p:cTn id="201" dur="indefinite"/>
                                        <p:tgtEl>
                                          <p:spTgt spid="2570">
                                            <p:txEl>
                                              <p:pRg st="1" end="1"/>
                                            </p:txEl>
                                          </p:spTgt>
                                        </p:tgtEl>
                                        <p:attrNameLst>
                                          <p:attrName>style.fontStyle</p:attrName>
                                        </p:attrNameLst>
                                      </p:cBhvr>
                                      <p:to>
                                        <p:strVal val="normal"/>
                                      </p:to>
                                    </p:set>
                                    <p:set>
                                      <p:cBhvr>
                                        <p:cTn id="202" dur="indefinite"/>
                                        <p:tgtEl>
                                          <p:spTgt spid="2570">
                                            <p:txEl>
                                              <p:pRg st="1" end="1"/>
                                            </p:txEl>
                                          </p:spTgt>
                                        </p:tgtEl>
                                        <p:attrNameLst>
                                          <p:attrName>style.fontWeight</p:attrName>
                                        </p:attrNameLst>
                                      </p:cBhvr>
                                      <p:to>
                                        <p:strVal val="bold"/>
                                      </p:to>
                                    </p:set>
                                    <p:set>
                                      <p:cBhvr>
                                        <p:cTn id="203" dur="indefinite"/>
                                        <p:tgtEl>
                                          <p:spTgt spid="2570">
                                            <p:txEl>
                                              <p:pRg st="1" end="1"/>
                                            </p:txEl>
                                          </p:spTgt>
                                        </p:tgtEl>
                                        <p:attrNameLst>
                                          <p:attrName>style.textDecorationUnderline</p:attrName>
                                        </p:attrNameLst>
                                      </p:cBhvr>
                                      <p:to>
                                        <p:strVal val="false"/>
                                      </p:to>
                                    </p:set>
                                  </p:childTnLst>
                                </p:cTn>
                              </p:par>
                              <p:par>
                                <p:cTn id="204" nodeType="withEffect" fill="hold" presetClass="entr" presetID="51">
                                  <p:stCondLst>
                                    <p:cond delay="0"/>
                                  </p:stCondLst>
                                  <p:childTnLst>
                                    <p:set>
                                      <p:cBhvr>
                                        <p:cTn id="205" dur="1" fill="hold">
                                          <p:stCondLst>
                                            <p:cond delay="0"/>
                                          </p:stCondLst>
                                        </p:cTn>
                                        <p:tgtEl>
                                          <p:spTgt spid="2433"/>
                                        </p:tgtEl>
                                        <p:attrNameLst>
                                          <p:attrName>style.visibility</p:attrName>
                                        </p:attrNameLst>
                                      </p:cBhvr>
                                      <p:to>
                                        <p:strVal val="visible"/>
                                      </p:to>
                                    </p:set>
                                    <p:animEffect filter="fade" transition="in">
                                      <p:cBhvr additive="repl">
                                        <p:cTn id="206" dur="385"/>
                                        <p:tgtEl>
                                          <p:spTgt spid="2433"/>
                                        </p:tgtEl>
                                      </p:cBhvr>
                                    </p:animEffect>
                                    <p:animScale>
                                      <p:cBhvr>
                                        <p:cTn id="207" dur="385" fill="hold"/>
                                        <p:tgtEl>
                                          <p:spTgt spid="2433"/>
                                        </p:tgtEl>
                                      </p:cBhvr>
                                      <p:from x="10000" y="10000"/>
                                      <p:to x="200000" y="450000"/>
                                    </p:animScale>
                                    <p:animScale>
                                      <p:cBhvr>
                                        <p:cTn id="208" dur="615" fill="hold">
                                          <p:stCondLst>
                                            <p:cond delay="385"/>
                                          </p:stCondLst>
                                        </p:cTn>
                                        <p:tgtEl>
                                          <p:spTgt spid="2433"/>
                                        </p:tgtEl>
                                      </p:cBhvr>
                                      <p:from x="200000" y="450000"/>
                                      <p:to x="100000" y="100000"/>
                                    </p:animScale>
                                    <p:set>
                                      <p:cBhvr>
                                        <p:cTn id="209" dur="385" fill="hold"/>
                                        <p:tgtEl>
                                          <p:spTgt spid="2433"/>
                                        </p:tgtEl>
                                        <p:attrNameLst>
                                          <p:attrName>ppt_x</p:attrName>
                                        </p:attrNameLst>
                                      </p:cBhvr>
                                      <p:to>
                                        <p:strVal val="(0.5)"/>
                                      </p:to>
                                    </p:set>
                                    <p:anim calcmode="lin" valueType="num" from="(0.5)" to="(#ppt_x)">
                                      <p:cBhvr additive="repl">
                                        <p:cTn id="210" dur="615" fill="hold">
                                          <p:stCondLst>
                                            <p:cond delay="385"/>
                                          </p:stCondLst>
                                        </p:cTn>
                                        <p:tgtEl>
                                          <p:spTgt spid="2433"/>
                                        </p:tgtEl>
                                        <p:attrNameLst>
                                          <p:attrName>ppt_x</p:attrName>
                                        </p:attrNameLst>
                                      </p:cBhvr>
                                    </p:anim>
                                    <p:set>
                                      <p:cBhvr>
                                        <p:cTn id="211" dur="385" fill="hold"/>
                                        <p:tgtEl>
                                          <p:spTgt spid="2433"/>
                                        </p:tgtEl>
                                        <p:attrNameLst>
                                          <p:attrName>ppt_y</p:attrName>
                                        </p:attrNameLst>
                                      </p:cBhvr>
                                      <p:to>
                                        <p:strVal val="(#ppt_y+0.4)"/>
                                      </p:to>
                                    </p:set>
                                    <p:anim calcmode="lin" valueType="num" from="(#ppt_y+0.4)" to="(#ppt_y)">
                                      <p:cBhvr additive="repl">
                                        <p:cTn id="212" dur="615" fill="hold">
                                          <p:stCondLst>
                                            <p:cond delay="385"/>
                                          </p:stCondLst>
                                        </p:cTn>
                                        <p:tgtEl>
                                          <p:spTgt spid="2433"/>
                                        </p:tgtEl>
                                        <p:attrNameLst>
                                          <p:attrName>ppt_y</p:attrName>
                                        </p:attrNameLst>
                                      </p:cBhvr>
                                    </p:anim>
                                  </p:childTnLst>
                                </p:cTn>
                              </p:par>
                              <p:par>
                                <p:cTn id="213" nodeType="withEffect" fill="hold" presetClass="entr" presetID="9">
                                  <p:stCondLst>
                                    <p:cond delay="0"/>
                                  </p:stCondLst>
                                  <p:childTnLst>
                                    <p:set>
                                      <p:cBhvr>
                                        <p:cTn id="214" dur="1" fill="hold">
                                          <p:stCondLst>
                                            <p:cond delay="0"/>
                                          </p:stCondLst>
                                        </p:cTn>
                                        <p:tgtEl>
                                          <p:spTgt spid="2583"/>
                                        </p:tgtEl>
                                        <p:attrNameLst>
                                          <p:attrName>style.visibility</p:attrName>
                                        </p:attrNameLst>
                                      </p:cBhvr>
                                      <p:to>
                                        <p:strVal val="visible"/>
                                      </p:to>
                                    </p:set>
                                    <p:animEffect filter="dissolve" transition="in">
                                      <p:cBhvr additive="repl">
                                        <p:cTn id="215" dur="500"/>
                                        <p:tgtEl>
                                          <p:spTgt spid="2583"/>
                                        </p:tgtEl>
                                      </p:cBhvr>
                                    </p:animEffect>
                                  </p:childTnLst>
                                </p:cTn>
                              </p:par>
                            </p:childTnLst>
                          </p:cTn>
                        </p:par>
                        <p:par>
                          <p:cTn id="216" fill="hold">
                            <p:stCondLst>
                              <p:cond delay="1000"/>
                            </p:stCondLst>
                            <p:childTnLst>
                              <p:par>
                                <p:cTn id="217" nodeType="afterEffect" fill="hold" presetClass="exit" presetID="9">
                                  <p:stCondLst>
                                    <p:cond delay="0"/>
                                  </p:stCondLst>
                                  <p:childTnLst>
                                    <p:animEffect filter="dissolve" transition="out">
                                      <p:cBhvr additive="repl">
                                        <p:cTn id="218" dur="1000"/>
                                        <p:tgtEl>
                                          <p:spTgt spid="2574"/>
                                        </p:tgtEl>
                                      </p:cBhvr>
                                    </p:animEffect>
                                    <p:set>
                                      <p:cBhvr>
                                        <p:cTn id="219" dur="1" fill="hold">
                                          <p:stCondLst>
                                            <p:cond delay="999"/>
                                          </p:stCondLst>
                                        </p:cTn>
                                        <p:tgtEl>
                                          <p:spTgt spid="2574"/>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9">
                                  <p:stCondLst>
                                    <p:cond delay="0"/>
                                  </p:stCondLst>
                                  <p:childTnLst>
                                    <p:animEffect filter="dissolve" transition="out">
                                      <p:cBhvr additive="repl">
                                        <p:cTn id="223" dur="500"/>
                                        <p:tgtEl>
                                          <p:spTgt spid="2570">
                                            <p:txEl>
                                              <p:pRg st="1" end="1"/>
                                            </p:txEl>
                                          </p:spTgt>
                                        </p:tgtEl>
                                      </p:cBhvr>
                                    </p:animEffect>
                                    <p:set>
                                      <p:cBhvr>
                                        <p:cTn id="224" dur="1" fill="hold">
                                          <p:stCondLst>
                                            <p:cond delay="499"/>
                                          </p:stCondLst>
                                        </p:cTn>
                                        <p:tgtEl>
                                          <p:spTgt spid="2570">
                                            <p:txEl>
                                              <p:pRg st="1" end="1"/>
                                            </p:txEl>
                                          </p:spTgt>
                                        </p:tgtEl>
                                        <p:attrNameLst>
                                          <p:attrName>style.visibility</p:attrName>
                                        </p:attrNameLst>
                                      </p:cBhvr>
                                      <p:to>
                                        <p:strVal val="hidden"/>
                                      </p:to>
                                    </p:set>
                                  </p:childTnLst>
                                </p:cTn>
                              </p:par>
                              <p:par>
                                <p:cTn id="225" nodeType="withEffect" fill="hold" presetClass="entr" presetID="9">
                                  <p:stCondLst>
                                    <p:cond delay="0"/>
                                  </p:stCondLst>
                                  <p:childTnLst>
                                    <p:set>
                                      <p:cBhvr>
                                        <p:cTn id="226" dur="1" fill="hold">
                                          <p:stCondLst>
                                            <p:cond delay="0"/>
                                          </p:stCondLst>
                                        </p:cTn>
                                        <p:tgtEl>
                                          <p:spTgt spid="2577"/>
                                        </p:tgtEl>
                                        <p:attrNameLst>
                                          <p:attrName>style.visibility</p:attrName>
                                        </p:attrNameLst>
                                      </p:cBhvr>
                                      <p:to>
                                        <p:strVal val="visible"/>
                                      </p:to>
                                    </p:set>
                                    <p:animEffect filter="dissolve" transition="in">
                                      <p:cBhvr additive="repl">
                                        <p:cTn id="227" dur="500"/>
                                        <p:tgtEl>
                                          <p:spTgt spid="2577"/>
                                        </p:tgtEl>
                                      </p:cBhvr>
                                    </p:animEffect>
                                  </p:childTnLst>
                                </p:cTn>
                              </p:par>
                              <p:par>
                                <p:cTn id="228" nodeType="withEffect" fill="hold" presetClass="entr" presetID="9">
                                  <p:stCondLst>
                                    <p:cond delay="0"/>
                                  </p:stCondLst>
                                  <p:childTnLst>
                                    <p:set>
                                      <p:cBhvr>
                                        <p:cTn id="229" dur="1" fill="hold">
                                          <p:stCondLst>
                                            <p:cond delay="0"/>
                                          </p:stCondLst>
                                        </p:cTn>
                                        <p:tgtEl>
                                          <p:spTgt spid="2576"/>
                                        </p:tgtEl>
                                        <p:attrNameLst>
                                          <p:attrName>style.visibility</p:attrName>
                                        </p:attrNameLst>
                                      </p:cBhvr>
                                      <p:to>
                                        <p:strVal val="visible"/>
                                      </p:to>
                                    </p:set>
                                    <p:animEffect filter="dissolve" transition="in">
                                      <p:cBhvr additive="repl">
                                        <p:cTn id="230" dur="500"/>
                                        <p:tgtEl>
                                          <p:spTgt spid="2576"/>
                                        </p:tgtEl>
                                      </p:cBhvr>
                                    </p:animEffect>
                                  </p:childTnLst>
                                </p:cTn>
                              </p:par>
                            </p:childTnLst>
                          </p:cTn>
                        </p:par>
                        <p:par>
                          <p:cTn id="231" fill="hold">
                            <p:stCondLst>
                              <p:cond delay="500"/>
                            </p:stCondLst>
                            <p:childTnLst>
                              <p:par>
                                <p:cTn id="232" nodeType="afterEffect" fill="hold" presetClass="emph" presetID="5">
                                  <p:stCondLst>
                                    <p:cond delay="0"/>
                                  </p:stCondLst>
                                  <p:childTnLst>
                                    <p:set>
                                      <p:cBhvr>
                                        <p:cTn id="233" dur="indefinite"/>
                                        <p:tgtEl>
                                          <p:spTgt spid="2570">
                                            <p:txEl>
                                              <p:pRg st="0" end="0"/>
                                            </p:txEl>
                                          </p:spTgt>
                                        </p:tgtEl>
                                        <p:attrNameLst>
                                          <p:attrName>style.fontStyle</p:attrName>
                                        </p:attrNameLst>
                                      </p:cBhvr>
                                      <p:to>
                                        <p:strVal val="normal"/>
                                      </p:to>
                                    </p:set>
                                    <p:set>
                                      <p:cBhvr>
                                        <p:cTn id="234" dur="indefinite"/>
                                        <p:tgtEl>
                                          <p:spTgt spid="2570">
                                            <p:txEl>
                                              <p:pRg st="0" end="0"/>
                                            </p:txEl>
                                          </p:spTgt>
                                        </p:tgtEl>
                                        <p:attrNameLst>
                                          <p:attrName>style.fontWeight</p:attrName>
                                        </p:attrNameLst>
                                      </p:cBhvr>
                                      <p:to>
                                        <p:strVal val="normal"/>
                                      </p:to>
                                    </p:set>
                                    <p:set>
                                      <p:cBhvr>
                                        <p:cTn id="235" dur="indefinite"/>
                                        <p:tgtEl>
                                          <p:spTgt spid="2570">
                                            <p:txEl>
                                              <p:pRg st="0" end="0"/>
                                            </p:txEl>
                                          </p:spTgt>
                                        </p:tgtEl>
                                        <p:attrNameLst>
                                          <p:attrName>style.textDecorationUnderline</p:attrName>
                                        </p:attrNameLst>
                                      </p:cBhvr>
                                      <p:to>
                                        <p:strVal val="false"/>
                                      </p:to>
                                    </p:set>
                                  </p:childTnLst>
                                </p:cTn>
                              </p:par>
                              <p:par>
                                <p:cTn id="236" nodeType="withEffect" fill="hold" presetClass="entr" presetID="51">
                                  <p:stCondLst>
                                    <p:cond delay="0"/>
                                  </p:stCondLst>
                                  <p:childTnLst>
                                    <p:set>
                                      <p:cBhvr>
                                        <p:cTn id="237" dur="1" fill="hold">
                                          <p:stCondLst>
                                            <p:cond delay="0"/>
                                          </p:stCondLst>
                                        </p:cTn>
                                        <p:tgtEl>
                                          <p:spTgt spid="2509"/>
                                        </p:tgtEl>
                                        <p:attrNameLst>
                                          <p:attrName>style.visibility</p:attrName>
                                        </p:attrNameLst>
                                      </p:cBhvr>
                                      <p:to>
                                        <p:strVal val="visible"/>
                                      </p:to>
                                    </p:set>
                                    <p:animEffect filter="fade" transition="in">
                                      <p:cBhvr additive="repl">
                                        <p:cTn id="238" dur="385"/>
                                        <p:tgtEl>
                                          <p:spTgt spid="2509"/>
                                        </p:tgtEl>
                                      </p:cBhvr>
                                    </p:animEffect>
                                    <p:animScale>
                                      <p:cBhvr>
                                        <p:cTn id="239" dur="385" fill="hold"/>
                                        <p:tgtEl>
                                          <p:spTgt spid="2509"/>
                                        </p:tgtEl>
                                      </p:cBhvr>
                                      <p:from x="10000" y="10000"/>
                                      <p:to x="200000" y="450000"/>
                                    </p:animScale>
                                    <p:animScale>
                                      <p:cBhvr>
                                        <p:cTn id="240" dur="615" fill="hold">
                                          <p:stCondLst>
                                            <p:cond delay="385"/>
                                          </p:stCondLst>
                                        </p:cTn>
                                        <p:tgtEl>
                                          <p:spTgt spid="2509"/>
                                        </p:tgtEl>
                                      </p:cBhvr>
                                      <p:from x="200000" y="450000"/>
                                      <p:to x="100000" y="100000"/>
                                    </p:animScale>
                                    <p:set>
                                      <p:cBhvr>
                                        <p:cTn id="241" dur="385" fill="hold"/>
                                        <p:tgtEl>
                                          <p:spTgt spid="2509"/>
                                        </p:tgtEl>
                                        <p:attrNameLst>
                                          <p:attrName>ppt_x</p:attrName>
                                        </p:attrNameLst>
                                      </p:cBhvr>
                                      <p:to>
                                        <p:strVal val="(0.5)"/>
                                      </p:to>
                                    </p:set>
                                    <p:anim calcmode="lin" valueType="num" from="(0.5)" to="(#ppt_x)">
                                      <p:cBhvr additive="repl">
                                        <p:cTn id="242" dur="615" fill="hold">
                                          <p:stCondLst>
                                            <p:cond delay="385"/>
                                          </p:stCondLst>
                                        </p:cTn>
                                        <p:tgtEl>
                                          <p:spTgt spid="2509"/>
                                        </p:tgtEl>
                                        <p:attrNameLst>
                                          <p:attrName>ppt_x</p:attrName>
                                        </p:attrNameLst>
                                      </p:cBhvr>
                                    </p:anim>
                                    <p:set>
                                      <p:cBhvr>
                                        <p:cTn id="243" dur="385" fill="hold"/>
                                        <p:tgtEl>
                                          <p:spTgt spid="2509"/>
                                        </p:tgtEl>
                                        <p:attrNameLst>
                                          <p:attrName>ppt_y</p:attrName>
                                        </p:attrNameLst>
                                      </p:cBhvr>
                                      <p:to>
                                        <p:strVal val="(#ppt_y+0.4)"/>
                                      </p:to>
                                    </p:set>
                                    <p:anim calcmode="lin" valueType="num" from="(#ppt_y+0.4)" to="(#ppt_y)">
                                      <p:cBhvr additive="repl">
                                        <p:cTn id="244" dur="615" fill="hold">
                                          <p:stCondLst>
                                            <p:cond delay="385"/>
                                          </p:stCondLst>
                                        </p:cTn>
                                        <p:tgtEl>
                                          <p:spTgt spid="2509"/>
                                        </p:tgtEl>
                                        <p:attrNameLst>
                                          <p:attrName>ppt_y</p:attrName>
                                        </p:attrNameLst>
                                      </p:cBhvr>
                                    </p:anim>
                                  </p:childTnLst>
                                </p:cTn>
                              </p:par>
                              <p:par>
                                <p:cTn id="245" nodeType="withEffect" fill="hold" presetClass="entr" presetID="51">
                                  <p:stCondLst>
                                    <p:cond delay="0"/>
                                  </p:stCondLst>
                                  <p:childTnLst>
                                    <p:set>
                                      <p:cBhvr>
                                        <p:cTn id="246" dur="1" fill="hold">
                                          <p:stCondLst>
                                            <p:cond delay="0"/>
                                          </p:stCondLst>
                                        </p:cTn>
                                        <p:tgtEl>
                                          <p:spTgt spid="2578"/>
                                        </p:tgtEl>
                                        <p:attrNameLst>
                                          <p:attrName>style.visibility</p:attrName>
                                        </p:attrNameLst>
                                      </p:cBhvr>
                                      <p:to>
                                        <p:strVal val="visible"/>
                                      </p:to>
                                    </p:set>
                                    <p:animEffect filter="fade" transition="in">
                                      <p:cBhvr additive="repl">
                                        <p:cTn id="247" dur="385"/>
                                        <p:tgtEl>
                                          <p:spTgt spid="2578"/>
                                        </p:tgtEl>
                                      </p:cBhvr>
                                    </p:animEffect>
                                    <p:animScale>
                                      <p:cBhvr>
                                        <p:cTn id="248" dur="385" fill="hold"/>
                                        <p:tgtEl>
                                          <p:spTgt spid="2578"/>
                                        </p:tgtEl>
                                      </p:cBhvr>
                                      <p:from x="10000" y="10000"/>
                                      <p:to x="200000" y="450000"/>
                                    </p:animScale>
                                    <p:animScale>
                                      <p:cBhvr>
                                        <p:cTn id="249" dur="615" fill="hold">
                                          <p:stCondLst>
                                            <p:cond delay="385"/>
                                          </p:stCondLst>
                                        </p:cTn>
                                        <p:tgtEl>
                                          <p:spTgt spid="2578"/>
                                        </p:tgtEl>
                                      </p:cBhvr>
                                      <p:from x="200000" y="450000"/>
                                      <p:to x="100000" y="100000"/>
                                    </p:animScale>
                                    <p:set>
                                      <p:cBhvr>
                                        <p:cTn id="250" dur="385" fill="hold"/>
                                        <p:tgtEl>
                                          <p:spTgt spid="2578"/>
                                        </p:tgtEl>
                                        <p:attrNameLst>
                                          <p:attrName>ppt_x</p:attrName>
                                        </p:attrNameLst>
                                      </p:cBhvr>
                                      <p:to>
                                        <p:strVal val="(0.5)"/>
                                      </p:to>
                                    </p:set>
                                    <p:anim calcmode="lin" valueType="num" from="(0.5)" to="(#ppt_x)">
                                      <p:cBhvr additive="repl">
                                        <p:cTn id="251" dur="615" fill="hold">
                                          <p:stCondLst>
                                            <p:cond delay="385"/>
                                          </p:stCondLst>
                                        </p:cTn>
                                        <p:tgtEl>
                                          <p:spTgt spid="2578"/>
                                        </p:tgtEl>
                                        <p:attrNameLst>
                                          <p:attrName>ppt_x</p:attrName>
                                        </p:attrNameLst>
                                      </p:cBhvr>
                                    </p:anim>
                                    <p:set>
                                      <p:cBhvr>
                                        <p:cTn id="252" dur="385" fill="hold"/>
                                        <p:tgtEl>
                                          <p:spTgt spid="2578"/>
                                        </p:tgtEl>
                                        <p:attrNameLst>
                                          <p:attrName>ppt_y</p:attrName>
                                        </p:attrNameLst>
                                      </p:cBhvr>
                                      <p:to>
                                        <p:strVal val="(#ppt_y+0.4)"/>
                                      </p:to>
                                    </p:set>
                                    <p:anim calcmode="lin" valueType="num" from="(#ppt_y+0.4)" to="(#ppt_y)">
                                      <p:cBhvr additive="repl">
                                        <p:cTn id="253" dur="615" fill="hold">
                                          <p:stCondLst>
                                            <p:cond delay="385"/>
                                          </p:stCondLst>
                                        </p:cTn>
                                        <p:tgtEl>
                                          <p:spTgt spid="2578"/>
                                        </p:tgtEl>
                                        <p:attrNameLst>
                                          <p:attrName>ppt_y</p:attrName>
                                        </p:attrNameLst>
                                      </p:cBhvr>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9">
                                  <p:stCondLst>
                                    <p:cond delay="0"/>
                                  </p:stCondLst>
                                  <p:childTnLst>
                                    <p:animEffect filter="dissolve" transition="out">
                                      <p:cBhvr additive="repl">
                                        <p:cTn id="257" dur="500"/>
                                        <p:tgtEl>
                                          <p:spTgt spid="2583"/>
                                        </p:tgtEl>
                                      </p:cBhvr>
                                    </p:animEffect>
                                    <p:set>
                                      <p:cBhvr>
                                        <p:cTn id="258" dur="1" fill="hold">
                                          <p:stCondLst>
                                            <p:cond delay="499"/>
                                          </p:stCondLst>
                                        </p:cTn>
                                        <p:tgtEl>
                                          <p:spTgt spid="2583"/>
                                        </p:tgtEl>
                                        <p:attrNameLst>
                                          <p:attrName>style.visibility</p:attrName>
                                        </p:attrNameLst>
                                      </p:cBhvr>
                                      <p:to>
                                        <p:strVal val="hidden"/>
                                      </p:to>
                                    </p:set>
                                  </p:childTnLst>
                                </p:cTn>
                              </p:par>
                              <p:par>
                                <p:cTn id="259" nodeType="withEffect" fill="hold" presetClass="entr" presetID="51">
                                  <p:stCondLst>
                                    <p:cond delay="0"/>
                                  </p:stCondLst>
                                  <p:childTnLst>
                                    <p:set>
                                      <p:cBhvr>
                                        <p:cTn id="260" dur="1" fill="hold">
                                          <p:stCondLst>
                                            <p:cond delay="0"/>
                                          </p:stCondLst>
                                        </p:cTn>
                                        <p:tgtEl>
                                          <p:spTgt spid="2571">
                                            <p:txEl>
                                              <p:pRg st="0" end="0"/>
                                            </p:txEl>
                                          </p:spTgt>
                                        </p:tgtEl>
                                        <p:attrNameLst>
                                          <p:attrName>style.visibility</p:attrName>
                                        </p:attrNameLst>
                                      </p:cBhvr>
                                      <p:to>
                                        <p:strVal val="visible"/>
                                      </p:to>
                                    </p:set>
                                    <p:animEffect filter="fade" transition="in">
                                      <p:cBhvr additive="repl">
                                        <p:cTn id="261" dur="385"/>
                                        <p:tgtEl>
                                          <p:spTgt spid="2571">
                                            <p:txEl>
                                              <p:pRg st="0" end="0"/>
                                            </p:txEl>
                                          </p:spTgt>
                                        </p:tgtEl>
                                      </p:cBhvr>
                                    </p:animEffect>
                                    <p:animScale>
                                      <p:cBhvr>
                                        <p:cTn id="262" dur="385" fill="hold"/>
                                        <p:tgtEl>
                                          <p:spTgt spid="2571">
                                            <p:txEl>
                                              <p:pRg st="0" end="0"/>
                                            </p:txEl>
                                          </p:spTgt>
                                        </p:tgtEl>
                                      </p:cBhvr>
                                      <p:from x="10000" y="10000"/>
                                      <p:to x="200000" y="450000"/>
                                    </p:animScale>
                                    <p:animScale>
                                      <p:cBhvr>
                                        <p:cTn id="263" dur="615" fill="hold">
                                          <p:stCondLst>
                                            <p:cond delay="385"/>
                                          </p:stCondLst>
                                        </p:cTn>
                                        <p:tgtEl>
                                          <p:spTgt spid="2571">
                                            <p:txEl>
                                              <p:pRg st="0" end="0"/>
                                            </p:txEl>
                                          </p:spTgt>
                                        </p:tgtEl>
                                      </p:cBhvr>
                                      <p:from x="200000" y="450000"/>
                                      <p:to x="100000" y="100000"/>
                                    </p:animScale>
                                    <p:set>
                                      <p:cBhvr>
                                        <p:cTn id="264" dur="385" fill="hold"/>
                                        <p:tgtEl>
                                          <p:spTgt spid="2571">
                                            <p:txEl>
                                              <p:pRg st="0" end="0"/>
                                            </p:txEl>
                                          </p:spTgt>
                                        </p:tgtEl>
                                        <p:attrNameLst>
                                          <p:attrName>ppt_x</p:attrName>
                                        </p:attrNameLst>
                                      </p:cBhvr>
                                      <p:to>
                                        <p:strVal val="(0.5)"/>
                                      </p:to>
                                    </p:set>
                                    <p:anim calcmode="lin" valueType="num" from="(0.5)" to="(#ppt_x)">
                                      <p:cBhvr additive="repl">
                                        <p:cTn id="265" dur="615" fill="hold">
                                          <p:stCondLst>
                                            <p:cond delay="385"/>
                                          </p:stCondLst>
                                        </p:cTn>
                                        <p:tgtEl>
                                          <p:spTgt spid="2571">
                                            <p:txEl>
                                              <p:pRg st="0" end="0"/>
                                            </p:txEl>
                                          </p:spTgt>
                                        </p:tgtEl>
                                        <p:attrNameLst>
                                          <p:attrName>ppt_x</p:attrName>
                                        </p:attrNameLst>
                                      </p:cBhvr>
                                    </p:anim>
                                    <p:set>
                                      <p:cBhvr>
                                        <p:cTn id="266" dur="385" fill="hold"/>
                                        <p:tgtEl>
                                          <p:spTgt spid="2571">
                                            <p:txEl>
                                              <p:pRg st="0" end="0"/>
                                            </p:txEl>
                                          </p:spTgt>
                                        </p:tgtEl>
                                        <p:attrNameLst>
                                          <p:attrName>ppt_y</p:attrName>
                                        </p:attrNameLst>
                                      </p:cBhvr>
                                      <p:to>
                                        <p:strVal val="(#ppt_y+0.4)"/>
                                      </p:to>
                                    </p:set>
                                    <p:anim calcmode="lin" valueType="num" from="(#ppt_y+0.4)" to="(#ppt_y)">
                                      <p:cBhvr additive="repl">
                                        <p:cTn id="267" dur="615" fill="hold">
                                          <p:stCondLst>
                                            <p:cond delay="385"/>
                                          </p:stCondLst>
                                        </p:cTn>
                                        <p:tgtEl>
                                          <p:spTgt spid="2571">
                                            <p:txEl>
                                              <p:pRg st="0" end="0"/>
                                            </p:txEl>
                                          </p:spTgt>
                                        </p:tgtEl>
                                        <p:attrNameLst>
                                          <p:attrName>ppt_y</p:attrName>
                                        </p:attrNameLst>
                                      </p:cBhvr>
                                    </p:anim>
                                  </p:childTnLst>
                                </p:cTn>
                              </p:par>
                              <p:par>
                                <p:cTn id="268" nodeType="withEffect" fill="hold" presetClass="emph" presetID="5" presetSubtype="1">
                                  <p:stCondLst>
                                    <p:cond delay="0"/>
                                  </p:stCondLst>
                                  <p:childTnLst>
                                    <p:set>
                                      <p:cBhvr>
                                        <p:cTn id="269" dur="indefinite"/>
                                        <p:tgtEl>
                                          <p:spTgt spid="2571">
                                            <p:txEl>
                                              <p:pRg st="0" end="0"/>
                                            </p:txEl>
                                          </p:spTgt>
                                        </p:tgtEl>
                                        <p:attrNameLst>
                                          <p:attrName>style.fontStyle</p:attrName>
                                        </p:attrNameLst>
                                      </p:cBhvr>
                                      <p:to>
                                        <p:strVal val="normal"/>
                                      </p:to>
                                    </p:set>
                                    <p:set>
                                      <p:cBhvr>
                                        <p:cTn id="270" dur="indefinite"/>
                                        <p:tgtEl>
                                          <p:spTgt spid="2571">
                                            <p:txEl>
                                              <p:pRg st="0" end="0"/>
                                            </p:txEl>
                                          </p:spTgt>
                                        </p:tgtEl>
                                        <p:attrNameLst>
                                          <p:attrName>style.fontWeight</p:attrName>
                                        </p:attrNameLst>
                                      </p:cBhvr>
                                      <p:to>
                                        <p:strVal val="bold"/>
                                      </p:to>
                                    </p:set>
                                    <p:set>
                                      <p:cBhvr>
                                        <p:cTn id="271" dur="indefinite"/>
                                        <p:tgtEl>
                                          <p:spTgt spid="2571">
                                            <p:txEl>
                                              <p:pRg st="0" end="0"/>
                                            </p:txEl>
                                          </p:spTgt>
                                        </p:tgtEl>
                                        <p:attrNameLst>
                                          <p:attrName>style.textDecorationUnderline</p:attrName>
                                        </p:attrNameLst>
                                      </p:cBhvr>
                                      <p:to>
                                        <p:strVal val="false"/>
                                      </p:to>
                                    </p:set>
                                  </p:childTnLst>
                                </p:cTn>
                              </p:par>
                              <p:par>
                                <p:cTn id="272" nodeType="withEffect" fill="hold" presetClass="entr" presetID="51">
                                  <p:stCondLst>
                                    <p:cond delay="0"/>
                                  </p:stCondLst>
                                  <p:childTnLst>
                                    <p:set>
                                      <p:cBhvr>
                                        <p:cTn id="273" dur="1" fill="hold">
                                          <p:stCondLst>
                                            <p:cond delay="0"/>
                                          </p:stCondLst>
                                        </p:cTn>
                                        <p:tgtEl>
                                          <p:spTgt spid="2502"/>
                                        </p:tgtEl>
                                        <p:attrNameLst>
                                          <p:attrName>style.visibility</p:attrName>
                                        </p:attrNameLst>
                                      </p:cBhvr>
                                      <p:to>
                                        <p:strVal val="visible"/>
                                      </p:to>
                                    </p:set>
                                    <p:animEffect filter="fade" transition="in">
                                      <p:cBhvr additive="repl">
                                        <p:cTn id="274" dur="385"/>
                                        <p:tgtEl>
                                          <p:spTgt spid="2502"/>
                                        </p:tgtEl>
                                      </p:cBhvr>
                                    </p:animEffect>
                                    <p:animScale>
                                      <p:cBhvr>
                                        <p:cTn id="275" dur="385" fill="hold"/>
                                        <p:tgtEl>
                                          <p:spTgt spid="2502"/>
                                        </p:tgtEl>
                                      </p:cBhvr>
                                      <p:from x="10000" y="10000"/>
                                      <p:to x="200000" y="450000"/>
                                    </p:animScale>
                                    <p:animScale>
                                      <p:cBhvr>
                                        <p:cTn id="276" dur="615" fill="hold">
                                          <p:stCondLst>
                                            <p:cond delay="385"/>
                                          </p:stCondLst>
                                        </p:cTn>
                                        <p:tgtEl>
                                          <p:spTgt spid="2502"/>
                                        </p:tgtEl>
                                      </p:cBhvr>
                                      <p:from x="200000" y="450000"/>
                                      <p:to x="100000" y="100000"/>
                                    </p:animScale>
                                    <p:set>
                                      <p:cBhvr>
                                        <p:cTn id="277" dur="385" fill="hold"/>
                                        <p:tgtEl>
                                          <p:spTgt spid="2502"/>
                                        </p:tgtEl>
                                        <p:attrNameLst>
                                          <p:attrName>ppt_x</p:attrName>
                                        </p:attrNameLst>
                                      </p:cBhvr>
                                      <p:to>
                                        <p:strVal val="(0.5)"/>
                                      </p:to>
                                    </p:set>
                                    <p:anim calcmode="lin" valueType="num" from="(0.5)" to="(#ppt_x)">
                                      <p:cBhvr additive="repl">
                                        <p:cTn id="278" dur="615" fill="hold">
                                          <p:stCondLst>
                                            <p:cond delay="385"/>
                                          </p:stCondLst>
                                        </p:cTn>
                                        <p:tgtEl>
                                          <p:spTgt spid="2502"/>
                                        </p:tgtEl>
                                        <p:attrNameLst>
                                          <p:attrName>ppt_x</p:attrName>
                                        </p:attrNameLst>
                                      </p:cBhvr>
                                    </p:anim>
                                    <p:set>
                                      <p:cBhvr>
                                        <p:cTn id="279" dur="385" fill="hold"/>
                                        <p:tgtEl>
                                          <p:spTgt spid="2502"/>
                                        </p:tgtEl>
                                        <p:attrNameLst>
                                          <p:attrName>ppt_y</p:attrName>
                                        </p:attrNameLst>
                                      </p:cBhvr>
                                      <p:to>
                                        <p:strVal val="(#ppt_y+0.4)"/>
                                      </p:to>
                                    </p:set>
                                    <p:anim calcmode="lin" valueType="num" from="(#ppt_y+0.4)" to="(#ppt_y)">
                                      <p:cBhvr additive="repl">
                                        <p:cTn id="280" dur="615" fill="hold">
                                          <p:stCondLst>
                                            <p:cond delay="385"/>
                                          </p:stCondLst>
                                        </p:cTn>
                                        <p:tgtEl>
                                          <p:spTgt spid="2502"/>
                                        </p:tgtEl>
                                        <p:attrNameLst>
                                          <p:attrName>ppt_y</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5">
                                  <p:stCondLst>
                                    <p:cond delay="0"/>
                                  </p:stCondLst>
                                  <p:childTnLst>
                                    <p:set>
                                      <p:cBhvr>
                                        <p:cTn id="284" dur="indefinite"/>
                                        <p:tgtEl>
                                          <p:spTgt spid="2571">
                                            <p:txEl>
                                              <p:pRg st="0" end="0"/>
                                            </p:txEl>
                                          </p:spTgt>
                                        </p:tgtEl>
                                        <p:attrNameLst>
                                          <p:attrName>style.fontStyle</p:attrName>
                                        </p:attrNameLst>
                                      </p:cBhvr>
                                      <p:to>
                                        <p:strVal val="normal"/>
                                      </p:to>
                                    </p:set>
                                    <p:set>
                                      <p:cBhvr>
                                        <p:cTn id="285" dur="indefinite"/>
                                        <p:tgtEl>
                                          <p:spTgt spid="2571">
                                            <p:txEl>
                                              <p:pRg st="0" end="0"/>
                                            </p:txEl>
                                          </p:spTgt>
                                        </p:tgtEl>
                                        <p:attrNameLst>
                                          <p:attrName>style.fontWeight</p:attrName>
                                        </p:attrNameLst>
                                      </p:cBhvr>
                                      <p:to>
                                        <p:strVal val="normal"/>
                                      </p:to>
                                    </p:set>
                                    <p:set>
                                      <p:cBhvr>
                                        <p:cTn id="286" dur="indefinite"/>
                                        <p:tgtEl>
                                          <p:spTgt spid="2571">
                                            <p:txEl>
                                              <p:pRg st="0" end="0"/>
                                            </p:txEl>
                                          </p:spTgt>
                                        </p:tgtEl>
                                        <p:attrNameLst>
                                          <p:attrName>style.textDecorationUnderline</p:attrName>
                                        </p:attrNameLst>
                                      </p:cBhvr>
                                      <p:to>
                                        <p:strVal val="false"/>
                                      </p:to>
                                    </p:set>
                                  </p:childTnLst>
                                </p:cTn>
                              </p:par>
                              <p:par>
                                <p:cTn id="287" nodeType="withEffect" fill="hold" presetClass="entr" presetID="51">
                                  <p:stCondLst>
                                    <p:cond delay="0"/>
                                  </p:stCondLst>
                                  <p:childTnLst>
                                    <p:set>
                                      <p:cBhvr>
                                        <p:cTn id="288" dur="1" fill="hold">
                                          <p:stCondLst>
                                            <p:cond delay="0"/>
                                          </p:stCondLst>
                                        </p:cTn>
                                        <p:tgtEl>
                                          <p:spTgt spid="2575">
                                            <p:txEl>
                                              <p:pRg st="0" end="0"/>
                                            </p:txEl>
                                          </p:spTgt>
                                        </p:tgtEl>
                                        <p:attrNameLst>
                                          <p:attrName>style.visibility</p:attrName>
                                        </p:attrNameLst>
                                      </p:cBhvr>
                                      <p:to>
                                        <p:strVal val="visible"/>
                                      </p:to>
                                    </p:set>
                                    <p:animEffect filter="fade" transition="in">
                                      <p:cBhvr additive="repl">
                                        <p:cTn id="289" dur="385"/>
                                        <p:tgtEl>
                                          <p:spTgt spid="2575">
                                            <p:txEl>
                                              <p:pRg st="0" end="0"/>
                                            </p:txEl>
                                          </p:spTgt>
                                        </p:tgtEl>
                                      </p:cBhvr>
                                    </p:animEffect>
                                    <p:animScale>
                                      <p:cBhvr>
                                        <p:cTn id="290" dur="385" fill="hold"/>
                                        <p:tgtEl>
                                          <p:spTgt spid="2575">
                                            <p:txEl>
                                              <p:pRg st="0" end="0"/>
                                            </p:txEl>
                                          </p:spTgt>
                                        </p:tgtEl>
                                      </p:cBhvr>
                                      <p:from x="10000" y="10000"/>
                                      <p:to x="200000" y="450000"/>
                                    </p:animScale>
                                    <p:animScale>
                                      <p:cBhvr>
                                        <p:cTn id="291" dur="615" fill="hold">
                                          <p:stCondLst>
                                            <p:cond delay="385"/>
                                          </p:stCondLst>
                                        </p:cTn>
                                        <p:tgtEl>
                                          <p:spTgt spid="2575">
                                            <p:txEl>
                                              <p:pRg st="0" end="0"/>
                                            </p:txEl>
                                          </p:spTgt>
                                        </p:tgtEl>
                                      </p:cBhvr>
                                      <p:from x="200000" y="450000"/>
                                      <p:to x="100000" y="100000"/>
                                    </p:animScale>
                                    <p:set>
                                      <p:cBhvr>
                                        <p:cTn id="292" dur="385" fill="hold"/>
                                        <p:tgtEl>
                                          <p:spTgt spid="2575">
                                            <p:txEl>
                                              <p:pRg st="0" end="0"/>
                                            </p:txEl>
                                          </p:spTgt>
                                        </p:tgtEl>
                                        <p:attrNameLst>
                                          <p:attrName>ppt_x</p:attrName>
                                        </p:attrNameLst>
                                      </p:cBhvr>
                                      <p:to>
                                        <p:strVal val="(0.5)"/>
                                      </p:to>
                                    </p:set>
                                    <p:anim calcmode="lin" valueType="num" from="(0.5)" to="(#ppt_x)">
                                      <p:cBhvr additive="repl">
                                        <p:cTn id="293" dur="615" fill="hold">
                                          <p:stCondLst>
                                            <p:cond delay="385"/>
                                          </p:stCondLst>
                                        </p:cTn>
                                        <p:tgtEl>
                                          <p:spTgt spid="2575">
                                            <p:txEl>
                                              <p:pRg st="0" end="0"/>
                                            </p:txEl>
                                          </p:spTgt>
                                        </p:tgtEl>
                                        <p:attrNameLst>
                                          <p:attrName>ppt_x</p:attrName>
                                        </p:attrNameLst>
                                      </p:cBhvr>
                                    </p:anim>
                                    <p:set>
                                      <p:cBhvr>
                                        <p:cTn id="294" dur="385" fill="hold"/>
                                        <p:tgtEl>
                                          <p:spTgt spid="2575">
                                            <p:txEl>
                                              <p:pRg st="0" end="0"/>
                                            </p:txEl>
                                          </p:spTgt>
                                        </p:tgtEl>
                                        <p:attrNameLst>
                                          <p:attrName>ppt_y</p:attrName>
                                        </p:attrNameLst>
                                      </p:cBhvr>
                                      <p:to>
                                        <p:strVal val="(#ppt_y+0.4)"/>
                                      </p:to>
                                    </p:set>
                                    <p:anim calcmode="lin" valueType="num" from="(#ppt_y+0.4)" to="(#ppt_y)">
                                      <p:cBhvr additive="repl">
                                        <p:cTn id="295" dur="615" fill="hold">
                                          <p:stCondLst>
                                            <p:cond delay="385"/>
                                          </p:stCondLst>
                                        </p:cTn>
                                        <p:tgtEl>
                                          <p:spTgt spid="2575">
                                            <p:txEl>
                                              <p:pRg st="0" end="0"/>
                                            </p:txEl>
                                          </p:spTgt>
                                        </p:tgtEl>
                                        <p:attrNameLst>
                                          <p:attrName>ppt_y</p:attrName>
                                        </p:attrNameLst>
                                      </p:cBhvr>
                                    </p:anim>
                                  </p:childTnLst>
                                </p:cTn>
                              </p:par>
                              <p:par>
                                <p:cTn id="296" nodeType="withEffect" fill="hold" presetClass="emph" presetID="5" presetSubtype="1">
                                  <p:stCondLst>
                                    <p:cond delay="0"/>
                                  </p:stCondLst>
                                  <p:childTnLst>
                                    <p:set>
                                      <p:cBhvr>
                                        <p:cTn id="297" dur="indefinite"/>
                                        <p:tgtEl>
                                          <p:spTgt spid="2575">
                                            <p:txEl>
                                              <p:pRg st="0" end="0"/>
                                            </p:txEl>
                                          </p:spTgt>
                                        </p:tgtEl>
                                        <p:attrNameLst>
                                          <p:attrName>style.fontStyle</p:attrName>
                                        </p:attrNameLst>
                                      </p:cBhvr>
                                      <p:to>
                                        <p:strVal val="normal"/>
                                      </p:to>
                                    </p:set>
                                    <p:set>
                                      <p:cBhvr>
                                        <p:cTn id="298" dur="indefinite"/>
                                        <p:tgtEl>
                                          <p:spTgt spid="2575">
                                            <p:txEl>
                                              <p:pRg st="0" end="0"/>
                                            </p:txEl>
                                          </p:spTgt>
                                        </p:tgtEl>
                                        <p:attrNameLst>
                                          <p:attrName>style.fontWeight</p:attrName>
                                        </p:attrNameLst>
                                      </p:cBhvr>
                                      <p:to>
                                        <p:strVal val="bold"/>
                                      </p:to>
                                    </p:set>
                                    <p:set>
                                      <p:cBhvr>
                                        <p:cTn id="299" dur="indefinite"/>
                                        <p:tgtEl>
                                          <p:spTgt spid="2575">
                                            <p:txEl>
                                              <p:pRg st="0" end="0"/>
                                            </p:txEl>
                                          </p:spTgt>
                                        </p:tgtEl>
                                        <p:attrNameLst>
                                          <p:attrName>style.textDecorationUnderline</p:attrName>
                                        </p:attrNameLst>
                                      </p:cBhvr>
                                      <p:to>
                                        <p:strVal val="false"/>
                                      </p:to>
                                    </p:set>
                                  </p:childTnLst>
                                </p:cTn>
                              </p:par>
                              <p:par>
                                <p:cTn id="300" nodeType="withEffect" fill="hold" presetClass="entr" presetID="51">
                                  <p:stCondLst>
                                    <p:cond delay="0"/>
                                  </p:stCondLst>
                                  <p:childTnLst>
                                    <p:set>
                                      <p:cBhvr>
                                        <p:cTn id="301" dur="1" fill="hold">
                                          <p:stCondLst>
                                            <p:cond delay="0"/>
                                          </p:stCondLst>
                                        </p:cTn>
                                        <p:tgtEl>
                                          <p:spTgt spid="2485"/>
                                        </p:tgtEl>
                                        <p:attrNameLst>
                                          <p:attrName>style.visibility</p:attrName>
                                        </p:attrNameLst>
                                      </p:cBhvr>
                                      <p:to>
                                        <p:strVal val="visible"/>
                                      </p:to>
                                    </p:set>
                                    <p:animEffect filter="fade" transition="in">
                                      <p:cBhvr additive="repl">
                                        <p:cTn id="302" dur="385"/>
                                        <p:tgtEl>
                                          <p:spTgt spid="2485"/>
                                        </p:tgtEl>
                                      </p:cBhvr>
                                    </p:animEffect>
                                    <p:animScale>
                                      <p:cBhvr>
                                        <p:cTn id="303" dur="385" fill="hold"/>
                                        <p:tgtEl>
                                          <p:spTgt spid="2485"/>
                                        </p:tgtEl>
                                      </p:cBhvr>
                                      <p:from x="10000" y="10000"/>
                                      <p:to x="200000" y="450000"/>
                                    </p:animScale>
                                    <p:animScale>
                                      <p:cBhvr>
                                        <p:cTn id="304" dur="615" fill="hold">
                                          <p:stCondLst>
                                            <p:cond delay="385"/>
                                          </p:stCondLst>
                                        </p:cTn>
                                        <p:tgtEl>
                                          <p:spTgt spid="2485"/>
                                        </p:tgtEl>
                                      </p:cBhvr>
                                      <p:from x="200000" y="450000"/>
                                      <p:to x="100000" y="100000"/>
                                    </p:animScale>
                                    <p:set>
                                      <p:cBhvr>
                                        <p:cTn id="305" dur="385" fill="hold"/>
                                        <p:tgtEl>
                                          <p:spTgt spid="2485"/>
                                        </p:tgtEl>
                                        <p:attrNameLst>
                                          <p:attrName>ppt_x</p:attrName>
                                        </p:attrNameLst>
                                      </p:cBhvr>
                                      <p:to>
                                        <p:strVal val="(0.5)"/>
                                      </p:to>
                                    </p:set>
                                    <p:anim calcmode="lin" valueType="num" from="(0.5)" to="(#ppt_x)">
                                      <p:cBhvr additive="repl">
                                        <p:cTn id="306" dur="615" fill="hold">
                                          <p:stCondLst>
                                            <p:cond delay="385"/>
                                          </p:stCondLst>
                                        </p:cTn>
                                        <p:tgtEl>
                                          <p:spTgt spid="2485"/>
                                        </p:tgtEl>
                                        <p:attrNameLst>
                                          <p:attrName>ppt_x</p:attrName>
                                        </p:attrNameLst>
                                      </p:cBhvr>
                                    </p:anim>
                                    <p:set>
                                      <p:cBhvr>
                                        <p:cTn id="307" dur="385" fill="hold"/>
                                        <p:tgtEl>
                                          <p:spTgt spid="2485"/>
                                        </p:tgtEl>
                                        <p:attrNameLst>
                                          <p:attrName>ppt_y</p:attrName>
                                        </p:attrNameLst>
                                      </p:cBhvr>
                                      <p:to>
                                        <p:strVal val="(#ppt_y+0.4)"/>
                                      </p:to>
                                    </p:set>
                                    <p:anim calcmode="lin" valueType="num" from="(#ppt_y+0.4)" to="(#ppt_y)">
                                      <p:cBhvr additive="repl">
                                        <p:cTn id="308" dur="615" fill="hold">
                                          <p:stCondLst>
                                            <p:cond delay="385"/>
                                          </p:stCondLst>
                                        </p:cTn>
                                        <p:tgtEl>
                                          <p:spTgt spid="2485"/>
                                        </p:tgtEl>
                                        <p:attrNameLst>
                                          <p:attrName>ppt_y</p:attrName>
                                        </p:attrNameLst>
                                      </p:cBhvr>
                                    </p:anim>
                                  </p:childTnLst>
                                </p:cTn>
                              </p:par>
                              <p:par>
                                <p:cTn id="309" nodeType="withEffect" fill="hold" presetClass="entr" presetID="51">
                                  <p:stCondLst>
                                    <p:cond delay="0"/>
                                  </p:stCondLst>
                                  <p:childTnLst>
                                    <p:set>
                                      <p:cBhvr>
                                        <p:cTn id="310" dur="1" fill="hold">
                                          <p:stCondLst>
                                            <p:cond delay="0"/>
                                          </p:stCondLst>
                                        </p:cTn>
                                        <p:tgtEl>
                                          <p:spTgt spid="2553"/>
                                        </p:tgtEl>
                                        <p:attrNameLst>
                                          <p:attrName>style.visibility</p:attrName>
                                        </p:attrNameLst>
                                      </p:cBhvr>
                                      <p:to>
                                        <p:strVal val="visible"/>
                                      </p:to>
                                    </p:set>
                                    <p:animEffect filter="fade" transition="in">
                                      <p:cBhvr additive="repl">
                                        <p:cTn id="311" dur="385"/>
                                        <p:tgtEl>
                                          <p:spTgt spid="2553"/>
                                        </p:tgtEl>
                                      </p:cBhvr>
                                    </p:animEffect>
                                    <p:animScale>
                                      <p:cBhvr>
                                        <p:cTn id="312" dur="385" fill="hold"/>
                                        <p:tgtEl>
                                          <p:spTgt spid="2553"/>
                                        </p:tgtEl>
                                      </p:cBhvr>
                                      <p:from x="10000" y="10000"/>
                                      <p:to x="200000" y="450000"/>
                                    </p:animScale>
                                    <p:animScale>
                                      <p:cBhvr>
                                        <p:cTn id="313" dur="615" fill="hold">
                                          <p:stCondLst>
                                            <p:cond delay="385"/>
                                          </p:stCondLst>
                                        </p:cTn>
                                        <p:tgtEl>
                                          <p:spTgt spid="2553"/>
                                        </p:tgtEl>
                                      </p:cBhvr>
                                      <p:from x="200000" y="450000"/>
                                      <p:to x="100000" y="100000"/>
                                    </p:animScale>
                                    <p:set>
                                      <p:cBhvr>
                                        <p:cTn id="314" dur="385" fill="hold"/>
                                        <p:tgtEl>
                                          <p:spTgt spid="2553"/>
                                        </p:tgtEl>
                                        <p:attrNameLst>
                                          <p:attrName>ppt_x</p:attrName>
                                        </p:attrNameLst>
                                      </p:cBhvr>
                                      <p:to>
                                        <p:strVal val="(0.5)"/>
                                      </p:to>
                                    </p:set>
                                    <p:anim calcmode="lin" valueType="num" from="(0.5)" to="(#ppt_x)">
                                      <p:cBhvr additive="repl">
                                        <p:cTn id="315" dur="615" fill="hold">
                                          <p:stCondLst>
                                            <p:cond delay="385"/>
                                          </p:stCondLst>
                                        </p:cTn>
                                        <p:tgtEl>
                                          <p:spTgt spid="2553"/>
                                        </p:tgtEl>
                                        <p:attrNameLst>
                                          <p:attrName>ppt_x</p:attrName>
                                        </p:attrNameLst>
                                      </p:cBhvr>
                                    </p:anim>
                                    <p:set>
                                      <p:cBhvr>
                                        <p:cTn id="316" dur="385" fill="hold"/>
                                        <p:tgtEl>
                                          <p:spTgt spid="2553"/>
                                        </p:tgtEl>
                                        <p:attrNameLst>
                                          <p:attrName>ppt_y</p:attrName>
                                        </p:attrNameLst>
                                      </p:cBhvr>
                                      <p:to>
                                        <p:strVal val="(#ppt_y+0.4)"/>
                                      </p:to>
                                    </p:set>
                                    <p:anim calcmode="lin" valueType="num" from="(#ppt_y+0.4)" to="(#ppt_y)">
                                      <p:cBhvr additive="repl">
                                        <p:cTn id="317" dur="615" fill="hold">
                                          <p:stCondLst>
                                            <p:cond delay="385"/>
                                          </p:stCondLst>
                                        </p:cTn>
                                        <p:tgtEl>
                                          <p:spTgt spid="2553"/>
                                        </p:tgtEl>
                                        <p:attrNameLst>
                                          <p:attrName>ppt_y</p:attrName>
                                        </p:attrNameLst>
                                      </p:cBhvr>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mph" presetID="5">
                                  <p:stCondLst>
                                    <p:cond delay="0"/>
                                  </p:stCondLst>
                                  <p:childTnLst>
                                    <p:set>
                                      <p:cBhvr>
                                        <p:cTn id="321" dur="indefinite"/>
                                        <p:tgtEl>
                                          <p:spTgt spid="2575">
                                            <p:txEl>
                                              <p:pRg st="0" end="0"/>
                                            </p:txEl>
                                          </p:spTgt>
                                        </p:tgtEl>
                                        <p:attrNameLst>
                                          <p:attrName>style.fontStyle</p:attrName>
                                        </p:attrNameLst>
                                      </p:cBhvr>
                                      <p:to>
                                        <p:strVal val="normal"/>
                                      </p:to>
                                    </p:set>
                                    <p:set>
                                      <p:cBhvr>
                                        <p:cTn id="322" dur="indefinite"/>
                                        <p:tgtEl>
                                          <p:spTgt spid="2575">
                                            <p:txEl>
                                              <p:pRg st="0" end="0"/>
                                            </p:txEl>
                                          </p:spTgt>
                                        </p:tgtEl>
                                        <p:attrNameLst>
                                          <p:attrName>style.fontWeight</p:attrName>
                                        </p:attrNameLst>
                                      </p:cBhvr>
                                      <p:to>
                                        <p:strVal val="normal"/>
                                      </p:to>
                                    </p:set>
                                    <p:set>
                                      <p:cBhvr>
                                        <p:cTn id="323" dur="indefinite"/>
                                        <p:tgtEl>
                                          <p:spTgt spid="2575">
                                            <p:txEl>
                                              <p:pRg st="0" end="0"/>
                                            </p:txEl>
                                          </p:spTgt>
                                        </p:tgtEl>
                                        <p:attrNameLst>
                                          <p:attrName>style.textDecorationUnderline</p:attrName>
                                        </p:attrNameLst>
                                      </p:cBhvr>
                                      <p:to>
                                        <p:strVal val="false"/>
                                      </p:to>
                                    </p:set>
                                  </p:childTnLst>
                                </p:cTn>
                              </p:par>
                              <p:par>
                                <p:cTn id="324" nodeType="withEffect" fill="hold" presetClass="entr" presetID="51">
                                  <p:stCondLst>
                                    <p:cond delay="0"/>
                                  </p:stCondLst>
                                  <p:childTnLst>
                                    <p:set>
                                      <p:cBhvr>
                                        <p:cTn id="325" dur="1" fill="hold">
                                          <p:stCondLst>
                                            <p:cond delay="0"/>
                                          </p:stCondLst>
                                        </p:cTn>
                                        <p:tgtEl>
                                          <p:spTgt spid="2572">
                                            <p:txEl>
                                              <p:pRg st="0" end="0"/>
                                            </p:txEl>
                                          </p:spTgt>
                                        </p:tgtEl>
                                        <p:attrNameLst>
                                          <p:attrName>style.visibility</p:attrName>
                                        </p:attrNameLst>
                                      </p:cBhvr>
                                      <p:to>
                                        <p:strVal val="visible"/>
                                      </p:to>
                                    </p:set>
                                    <p:animEffect filter="fade" transition="in">
                                      <p:cBhvr additive="repl">
                                        <p:cTn id="326" dur="385"/>
                                        <p:tgtEl>
                                          <p:spTgt spid="2572">
                                            <p:txEl>
                                              <p:pRg st="0" end="0"/>
                                            </p:txEl>
                                          </p:spTgt>
                                        </p:tgtEl>
                                      </p:cBhvr>
                                    </p:animEffect>
                                    <p:animScale>
                                      <p:cBhvr>
                                        <p:cTn id="327" dur="385" fill="hold"/>
                                        <p:tgtEl>
                                          <p:spTgt spid="2572">
                                            <p:txEl>
                                              <p:pRg st="0" end="0"/>
                                            </p:txEl>
                                          </p:spTgt>
                                        </p:tgtEl>
                                      </p:cBhvr>
                                      <p:from x="10000" y="10000"/>
                                      <p:to x="200000" y="450000"/>
                                    </p:animScale>
                                    <p:animScale>
                                      <p:cBhvr>
                                        <p:cTn id="328" dur="615" fill="hold">
                                          <p:stCondLst>
                                            <p:cond delay="385"/>
                                          </p:stCondLst>
                                        </p:cTn>
                                        <p:tgtEl>
                                          <p:spTgt spid="2572">
                                            <p:txEl>
                                              <p:pRg st="0" end="0"/>
                                            </p:txEl>
                                          </p:spTgt>
                                        </p:tgtEl>
                                      </p:cBhvr>
                                      <p:from x="200000" y="450000"/>
                                      <p:to x="100000" y="100000"/>
                                    </p:animScale>
                                    <p:set>
                                      <p:cBhvr>
                                        <p:cTn id="329" dur="385" fill="hold"/>
                                        <p:tgtEl>
                                          <p:spTgt spid="2572">
                                            <p:txEl>
                                              <p:pRg st="0" end="0"/>
                                            </p:txEl>
                                          </p:spTgt>
                                        </p:tgtEl>
                                        <p:attrNameLst>
                                          <p:attrName>ppt_x</p:attrName>
                                        </p:attrNameLst>
                                      </p:cBhvr>
                                      <p:to>
                                        <p:strVal val="(0.5)"/>
                                      </p:to>
                                    </p:set>
                                    <p:anim calcmode="lin" valueType="num" from="(0.5)" to="(#ppt_x)">
                                      <p:cBhvr additive="repl">
                                        <p:cTn id="330" dur="615" fill="hold">
                                          <p:stCondLst>
                                            <p:cond delay="385"/>
                                          </p:stCondLst>
                                        </p:cTn>
                                        <p:tgtEl>
                                          <p:spTgt spid="2572">
                                            <p:txEl>
                                              <p:pRg st="0" end="0"/>
                                            </p:txEl>
                                          </p:spTgt>
                                        </p:tgtEl>
                                        <p:attrNameLst>
                                          <p:attrName>ppt_x</p:attrName>
                                        </p:attrNameLst>
                                      </p:cBhvr>
                                    </p:anim>
                                    <p:set>
                                      <p:cBhvr>
                                        <p:cTn id="331" dur="385" fill="hold"/>
                                        <p:tgtEl>
                                          <p:spTgt spid="2572">
                                            <p:txEl>
                                              <p:pRg st="0" end="0"/>
                                            </p:txEl>
                                          </p:spTgt>
                                        </p:tgtEl>
                                        <p:attrNameLst>
                                          <p:attrName>ppt_y</p:attrName>
                                        </p:attrNameLst>
                                      </p:cBhvr>
                                      <p:to>
                                        <p:strVal val="(#ppt_y+0.4)"/>
                                      </p:to>
                                    </p:set>
                                    <p:anim calcmode="lin" valueType="num" from="(#ppt_y+0.4)" to="(#ppt_y)">
                                      <p:cBhvr additive="repl">
                                        <p:cTn id="332" dur="615" fill="hold">
                                          <p:stCondLst>
                                            <p:cond delay="385"/>
                                          </p:stCondLst>
                                        </p:cTn>
                                        <p:tgtEl>
                                          <p:spTgt spid="2572">
                                            <p:txEl>
                                              <p:pRg st="0" end="0"/>
                                            </p:txEl>
                                          </p:spTgt>
                                        </p:tgtEl>
                                        <p:attrNameLst>
                                          <p:attrName>ppt_y</p:attrName>
                                        </p:attrNameLst>
                                      </p:cBhvr>
                                    </p:anim>
                                  </p:childTnLst>
                                </p:cTn>
                              </p:par>
                              <p:par>
                                <p:cTn id="333" nodeType="withEffect" fill="hold" presetClass="emph" presetID="5" presetSubtype="1">
                                  <p:stCondLst>
                                    <p:cond delay="0"/>
                                  </p:stCondLst>
                                  <p:childTnLst>
                                    <p:set>
                                      <p:cBhvr>
                                        <p:cTn id="334" dur="indefinite"/>
                                        <p:tgtEl>
                                          <p:spTgt spid="2572">
                                            <p:txEl>
                                              <p:pRg st="0" end="0"/>
                                            </p:txEl>
                                          </p:spTgt>
                                        </p:tgtEl>
                                        <p:attrNameLst>
                                          <p:attrName>style.fontStyle</p:attrName>
                                        </p:attrNameLst>
                                      </p:cBhvr>
                                      <p:to>
                                        <p:strVal val="normal"/>
                                      </p:to>
                                    </p:set>
                                    <p:set>
                                      <p:cBhvr>
                                        <p:cTn id="335" dur="indefinite"/>
                                        <p:tgtEl>
                                          <p:spTgt spid="2572">
                                            <p:txEl>
                                              <p:pRg st="0" end="0"/>
                                            </p:txEl>
                                          </p:spTgt>
                                        </p:tgtEl>
                                        <p:attrNameLst>
                                          <p:attrName>style.fontWeight</p:attrName>
                                        </p:attrNameLst>
                                      </p:cBhvr>
                                      <p:to>
                                        <p:strVal val="bold"/>
                                      </p:to>
                                    </p:set>
                                    <p:set>
                                      <p:cBhvr>
                                        <p:cTn id="336" dur="indefinite"/>
                                        <p:tgtEl>
                                          <p:spTgt spid="2572">
                                            <p:txEl>
                                              <p:pRg st="0" end="0"/>
                                            </p:txEl>
                                          </p:spTgt>
                                        </p:tgtEl>
                                        <p:attrNameLst>
                                          <p:attrName>style.textDecorationUnderline</p:attrName>
                                        </p:attrNameLst>
                                      </p:cBhvr>
                                      <p:to>
                                        <p:strVal val="false"/>
                                      </p:to>
                                    </p:set>
                                  </p:childTnLst>
                                </p:cTn>
                              </p:par>
                              <p:par>
                                <p:cTn id="337" nodeType="withEffect" fill="hold" presetClass="entr" presetID="51">
                                  <p:stCondLst>
                                    <p:cond delay="0"/>
                                  </p:stCondLst>
                                  <p:childTnLst>
                                    <p:set>
                                      <p:cBhvr>
                                        <p:cTn id="338" dur="1" fill="hold">
                                          <p:stCondLst>
                                            <p:cond delay="0"/>
                                          </p:stCondLst>
                                        </p:cTn>
                                        <p:tgtEl>
                                          <p:spTgt spid="2506"/>
                                        </p:tgtEl>
                                        <p:attrNameLst>
                                          <p:attrName>style.visibility</p:attrName>
                                        </p:attrNameLst>
                                      </p:cBhvr>
                                      <p:to>
                                        <p:strVal val="visible"/>
                                      </p:to>
                                    </p:set>
                                    <p:animEffect filter="fade" transition="in">
                                      <p:cBhvr additive="repl">
                                        <p:cTn id="339" dur="385"/>
                                        <p:tgtEl>
                                          <p:spTgt spid="2506"/>
                                        </p:tgtEl>
                                      </p:cBhvr>
                                    </p:animEffect>
                                    <p:animScale>
                                      <p:cBhvr>
                                        <p:cTn id="340" dur="385" fill="hold"/>
                                        <p:tgtEl>
                                          <p:spTgt spid="2506"/>
                                        </p:tgtEl>
                                      </p:cBhvr>
                                      <p:from x="10000" y="10000"/>
                                      <p:to x="200000" y="450000"/>
                                    </p:animScale>
                                    <p:animScale>
                                      <p:cBhvr>
                                        <p:cTn id="341" dur="615" fill="hold">
                                          <p:stCondLst>
                                            <p:cond delay="385"/>
                                          </p:stCondLst>
                                        </p:cTn>
                                        <p:tgtEl>
                                          <p:spTgt spid="2506"/>
                                        </p:tgtEl>
                                      </p:cBhvr>
                                      <p:from x="200000" y="450000"/>
                                      <p:to x="100000" y="100000"/>
                                    </p:animScale>
                                    <p:set>
                                      <p:cBhvr>
                                        <p:cTn id="342" dur="385" fill="hold"/>
                                        <p:tgtEl>
                                          <p:spTgt spid="2506"/>
                                        </p:tgtEl>
                                        <p:attrNameLst>
                                          <p:attrName>ppt_x</p:attrName>
                                        </p:attrNameLst>
                                      </p:cBhvr>
                                      <p:to>
                                        <p:strVal val="(0.5)"/>
                                      </p:to>
                                    </p:set>
                                    <p:anim calcmode="lin" valueType="num" from="(0.5)" to="(#ppt_x)">
                                      <p:cBhvr additive="repl">
                                        <p:cTn id="343" dur="615" fill="hold">
                                          <p:stCondLst>
                                            <p:cond delay="385"/>
                                          </p:stCondLst>
                                        </p:cTn>
                                        <p:tgtEl>
                                          <p:spTgt spid="2506"/>
                                        </p:tgtEl>
                                        <p:attrNameLst>
                                          <p:attrName>ppt_x</p:attrName>
                                        </p:attrNameLst>
                                      </p:cBhvr>
                                    </p:anim>
                                    <p:set>
                                      <p:cBhvr>
                                        <p:cTn id="344" dur="385" fill="hold"/>
                                        <p:tgtEl>
                                          <p:spTgt spid="2506"/>
                                        </p:tgtEl>
                                        <p:attrNameLst>
                                          <p:attrName>ppt_y</p:attrName>
                                        </p:attrNameLst>
                                      </p:cBhvr>
                                      <p:to>
                                        <p:strVal val="(#ppt_y+0.4)"/>
                                      </p:to>
                                    </p:set>
                                    <p:anim calcmode="lin" valueType="num" from="(#ppt_y+0.4)" to="(#ppt_y)">
                                      <p:cBhvr additive="repl">
                                        <p:cTn id="345" dur="615" fill="hold">
                                          <p:stCondLst>
                                            <p:cond delay="385"/>
                                          </p:stCondLst>
                                        </p:cTn>
                                        <p:tgtEl>
                                          <p:spTgt spid="2506"/>
                                        </p:tgtEl>
                                        <p:attrNameLst>
                                          <p:attrName>ppt_y</p:attrName>
                                        </p:attrNameLst>
                                      </p:cBhvr>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5">
                                  <p:stCondLst>
                                    <p:cond delay="0"/>
                                  </p:stCondLst>
                                  <p:childTnLst>
                                    <p:set>
                                      <p:cBhvr>
                                        <p:cTn id="349" dur="indefinite"/>
                                        <p:tgtEl>
                                          <p:spTgt spid="2572">
                                            <p:txEl>
                                              <p:pRg st="0" end="0"/>
                                            </p:txEl>
                                          </p:spTgt>
                                        </p:tgtEl>
                                        <p:attrNameLst>
                                          <p:attrName>style.fontStyle</p:attrName>
                                        </p:attrNameLst>
                                      </p:cBhvr>
                                      <p:to>
                                        <p:strVal val="normal"/>
                                      </p:to>
                                    </p:set>
                                    <p:set>
                                      <p:cBhvr>
                                        <p:cTn id="350" dur="indefinite"/>
                                        <p:tgtEl>
                                          <p:spTgt spid="2572">
                                            <p:txEl>
                                              <p:pRg st="0" end="0"/>
                                            </p:txEl>
                                          </p:spTgt>
                                        </p:tgtEl>
                                        <p:attrNameLst>
                                          <p:attrName>style.fontWeight</p:attrName>
                                        </p:attrNameLst>
                                      </p:cBhvr>
                                      <p:to>
                                        <p:strVal val="normal"/>
                                      </p:to>
                                    </p:set>
                                    <p:set>
                                      <p:cBhvr>
                                        <p:cTn id="351" dur="indefinite"/>
                                        <p:tgtEl>
                                          <p:spTgt spid="2572">
                                            <p:txEl>
                                              <p:pRg st="0" end="0"/>
                                            </p:txEl>
                                          </p:spTgt>
                                        </p:tgtEl>
                                        <p:attrNameLst>
                                          <p:attrName>style.textDecorationUnderline</p:attrName>
                                        </p:attrNameLst>
                                      </p:cBhvr>
                                      <p:to>
                                        <p:strVal val="false"/>
                                      </p:to>
                                    </p:set>
                                  </p:childTnLst>
                                </p:cTn>
                              </p:par>
                              <p:par>
                                <p:cTn id="352" nodeType="withEffect" fill="hold" presetClass="entr" presetID="51">
                                  <p:stCondLst>
                                    <p:cond delay="0"/>
                                  </p:stCondLst>
                                  <p:childTnLst>
                                    <p:set>
                                      <p:cBhvr>
                                        <p:cTn id="353" dur="1" fill="hold">
                                          <p:stCondLst>
                                            <p:cond delay="0"/>
                                          </p:stCondLst>
                                        </p:cTn>
                                        <p:tgtEl>
                                          <p:spTgt spid="2573">
                                            <p:txEl>
                                              <p:pRg st="0" end="0"/>
                                            </p:txEl>
                                          </p:spTgt>
                                        </p:tgtEl>
                                        <p:attrNameLst>
                                          <p:attrName>style.visibility</p:attrName>
                                        </p:attrNameLst>
                                      </p:cBhvr>
                                      <p:to>
                                        <p:strVal val="visible"/>
                                      </p:to>
                                    </p:set>
                                    <p:animEffect filter="fade" transition="in">
                                      <p:cBhvr additive="repl">
                                        <p:cTn id="354" dur="385"/>
                                        <p:tgtEl>
                                          <p:spTgt spid="2573">
                                            <p:txEl>
                                              <p:pRg st="0" end="0"/>
                                            </p:txEl>
                                          </p:spTgt>
                                        </p:tgtEl>
                                      </p:cBhvr>
                                    </p:animEffect>
                                    <p:animScale>
                                      <p:cBhvr>
                                        <p:cTn id="355" dur="385" fill="hold"/>
                                        <p:tgtEl>
                                          <p:spTgt spid="2573">
                                            <p:txEl>
                                              <p:pRg st="0" end="0"/>
                                            </p:txEl>
                                          </p:spTgt>
                                        </p:tgtEl>
                                      </p:cBhvr>
                                      <p:from x="10000" y="10000"/>
                                      <p:to x="200000" y="450000"/>
                                    </p:animScale>
                                    <p:animScale>
                                      <p:cBhvr>
                                        <p:cTn id="356" dur="615" fill="hold">
                                          <p:stCondLst>
                                            <p:cond delay="385"/>
                                          </p:stCondLst>
                                        </p:cTn>
                                        <p:tgtEl>
                                          <p:spTgt spid="2573">
                                            <p:txEl>
                                              <p:pRg st="0" end="0"/>
                                            </p:txEl>
                                          </p:spTgt>
                                        </p:tgtEl>
                                      </p:cBhvr>
                                      <p:from x="200000" y="450000"/>
                                      <p:to x="100000" y="100000"/>
                                    </p:animScale>
                                    <p:set>
                                      <p:cBhvr>
                                        <p:cTn id="357" dur="385" fill="hold"/>
                                        <p:tgtEl>
                                          <p:spTgt spid="2573">
                                            <p:txEl>
                                              <p:pRg st="0" end="0"/>
                                            </p:txEl>
                                          </p:spTgt>
                                        </p:tgtEl>
                                        <p:attrNameLst>
                                          <p:attrName>ppt_x</p:attrName>
                                        </p:attrNameLst>
                                      </p:cBhvr>
                                      <p:to>
                                        <p:strVal val="(0.5)"/>
                                      </p:to>
                                    </p:set>
                                    <p:anim calcmode="lin" valueType="num" from="(0.5)" to="(#ppt_x)">
                                      <p:cBhvr additive="repl">
                                        <p:cTn id="358" dur="615" fill="hold">
                                          <p:stCondLst>
                                            <p:cond delay="385"/>
                                          </p:stCondLst>
                                        </p:cTn>
                                        <p:tgtEl>
                                          <p:spTgt spid="2573">
                                            <p:txEl>
                                              <p:pRg st="0" end="0"/>
                                            </p:txEl>
                                          </p:spTgt>
                                        </p:tgtEl>
                                        <p:attrNameLst>
                                          <p:attrName>ppt_x</p:attrName>
                                        </p:attrNameLst>
                                      </p:cBhvr>
                                    </p:anim>
                                    <p:set>
                                      <p:cBhvr>
                                        <p:cTn id="359" dur="385" fill="hold"/>
                                        <p:tgtEl>
                                          <p:spTgt spid="2573">
                                            <p:txEl>
                                              <p:pRg st="0" end="0"/>
                                            </p:txEl>
                                          </p:spTgt>
                                        </p:tgtEl>
                                        <p:attrNameLst>
                                          <p:attrName>ppt_y</p:attrName>
                                        </p:attrNameLst>
                                      </p:cBhvr>
                                      <p:to>
                                        <p:strVal val="(#ppt_y+0.4)"/>
                                      </p:to>
                                    </p:set>
                                    <p:anim calcmode="lin" valueType="num" from="(#ppt_y+0.4)" to="(#ppt_y)">
                                      <p:cBhvr additive="repl">
                                        <p:cTn id="360" dur="615" fill="hold">
                                          <p:stCondLst>
                                            <p:cond delay="385"/>
                                          </p:stCondLst>
                                        </p:cTn>
                                        <p:tgtEl>
                                          <p:spTgt spid="2573">
                                            <p:txEl>
                                              <p:pRg st="0" end="0"/>
                                            </p:txEl>
                                          </p:spTgt>
                                        </p:tgtEl>
                                        <p:attrNameLst>
                                          <p:attrName>ppt_y</p:attrName>
                                        </p:attrNameLst>
                                      </p:cBhvr>
                                    </p:anim>
                                  </p:childTnLst>
                                </p:cTn>
                              </p:par>
                              <p:par>
                                <p:cTn id="361" nodeType="withEffect" fill="remove" presetClass="emph" presetID="5" presetSubtype="1" repeatCount="1000">
                                  <p:stCondLst>
                                    <p:cond delay="0"/>
                                  </p:stCondLst>
                                  <p:childTnLst>
                                    <p:set>
                                      <p:cBhvr>
                                        <p:cTn id="362" dur="indefinite"/>
                                        <p:tgtEl>
                                          <p:spTgt spid="2573">
                                            <p:txEl>
                                              <p:pRg st="0" end="0"/>
                                            </p:txEl>
                                          </p:spTgt>
                                        </p:tgtEl>
                                        <p:attrNameLst>
                                          <p:attrName>style.fontStyle</p:attrName>
                                        </p:attrNameLst>
                                      </p:cBhvr>
                                      <p:to>
                                        <p:strVal val="normal"/>
                                      </p:to>
                                    </p:set>
                                    <p:set>
                                      <p:cBhvr>
                                        <p:cTn id="363" dur="indefinite"/>
                                        <p:tgtEl>
                                          <p:spTgt spid="2573">
                                            <p:txEl>
                                              <p:pRg st="0" end="0"/>
                                            </p:txEl>
                                          </p:spTgt>
                                        </p:tgtEl>
                                        <p:attrNameLst>
                                          <p:attrName>style.fontWeight</p:attrName>
                                        </p:attrNameLst>
                                      </p:cBhvr>
                                      <p:to>
                                        <p:strVal val="bold"/>
                                      </p:to>
                                    </p:set>
                                    <p:set>
                                      <p:cBhvr>
                                        <p:cTn id="364" dur="indefinite"/>
                                        <p:tgtEl>
                                          <p:spTgt spid="2573">
                                            <p:txEl>
                                              <p:pRg st="0" end="0"/>
                                            </p:txEl>
                                          </p:spTgt>
                                        </p:tgtEl>
                                        <p:attrNameLst>
                                          <p:attrName>style.textDecorationUnderline</p:attrName>
                                        </p:attrNameLst>
                                      </p:cBhvr>
                                      <p:to>
                                        <p:strVal val="false"/>
                                      </p:to>
                                    </p:set>
                                  </p:childTnLst>
                                </p:cTn>
                              </p:par>
                              <p:par>
                                <p:cTn id="365" nodeType="withEffect" fill="hold" presetClass="entr" presetID="51">
                                  <p:stCondLst>
                                    <p:cond delay="0"/>
                                  </p:stCondLst>
                                  <p:childTnLst>
                                    <p:set>
                                      <p:cBhvr>
                                        <p:cTn id="366" dur="1" fill="hold">
                                          <p:stCondLst>
                                            <p:cond delay="0"/>
                                          </p:stCondLst>
                                        </p:cTn>
                                        <p:tgtEl>
                                          <p:spTgt spid="2588"/>
                                        </p:tgtEl>
                                        <p:attrNameLst>
                                          <p:attrName>style.visibility</p:attrName>
                                        </p:attrNameLst>
                                      </p:cBhvr>
                                      <p:to>
                                        <p:strVal val="visible"/>
                                      </p:to>
                                    </p:set>
                                    <p:animEffect filter="fade" transition="in">
                                      <p:cBhvr additive="repl">
                                        <p:cTn id="367" dur="385"/>
                                        <p:tgtEl>
                                          <p:spTgt spid="2588"/>
                                        </p:tgtEl>
                                      </p:cBhvr>
                                    </p:animEffect>
                                    <p:animScale>
                                      <p:cBhvr>
                                        <p:cTn id="368" dur="385" fill="hold"/>
                                        <p:tgtEl>
                                          <p:spTgt spid="2588"/>
                                        </p:tgtEl>
                                      </p:cBhvr>
                                      <p:from x="10000" y="10000"/>
                                      <p:to x="200000" y="450000"/>
                                    </p:animScale>
                                    <p:animScale>
                                      <p:cBhvr>
                                        <p:cTn id="369" dur="615" fill="hold">
                                          <p:stCondLst>
                                            <p:cond delay="385"/>
                                          </p:stCondLst>
                                        </p:cTn>
                                        <p:tgtEl>
                                          <p:spTgt spid="2588"/>
                                        </p:tgtEl>
                                      </p:cBhvr>
                                      <p:from x="200000" y="450000"/>
                                      <p:to x="100000" y="100000"/>
                                    </p:animScale>
                                    <p:set>
                                      <p:cBhvr>
                                        <p:cTn id="370" dur="385" fill="hold"/>
                                        <p:tgtEl>
                                          <p:spTgt spid="2588"/>
                                        </p:tgtEl>
                                        <p:attrNameLst>
                                          <p:attrName>ppt_x</p:attrName>
                                        </p:attrNameLst>
                                      </p:cBhvr>
                                      <p:to>
                                        <p:strVal val="(0.5)"/>
                                      </p:to>
                                    </p:set>
                                    <p:anim calcmode="lin" valueType="num" from="(0.5)" to="(#ppt_x)">
                                      <p:cBhvr additive="repl">
                                        <p:cTn id="371" dur="615" fill="hold">
                                          <p:stCondLst>
                                            <p:cond delay="385"/>
                                          </p:stCondLst>
                                        </p:cTn>
                                        <p:tgtEl>
                                          <p:spTgt spid="2588"/>
                                        </p:tgtEl>
                                        <p:attrNameLst>
                                          <p:attrName>ppt_x</p:attrName>
                                        </p:attrNameLst>
                                      </p:cBhvr>
                                    </p:anim>
                                    <p:set>
                                      <p:cBhvr>
                                        <p:cTn id="372" dur="385" fill="hold"/>
                                        <p:tgtEl>
                                          <p:spTgt spid="2588"/>
                                        </p:tgtEl>
                                        <p:attrNameLst>
                                          <p:attrName>ppt_y</p:attrName>
                                        </p:attrNameLst>
                                      </p:cBhvr>
                                      <p:to>
                                        <p:strVal val="(#ppt_y+0.4)"/>
                                      </p:to>
                                    </p:set>
                                    <p:anim calcmode="lin" valueType="num" from="(#ppt_y+0.4)" to="(#ppt_y)">
                                      <p:cBhvr additive="repl">
                                        <p:cTn id="373" dur="615" fill="hold">
                                          <p:stCondLst>
                                            <p:cond delay="385"/>
                                          </p:stCondLst>
                                        </p:cTn>
                                        <p:tgtEl>
                                          <p:spTgt spid="25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9" name="PlaceHolder 1"/>
          <p:cNvSpPr>
            <a:spLocks noGrp="1"/>
          </p:cNvSpPr>
          <p:nvPr>
            <p:ph type="title"/>
          </p:nvPr>
        </p:nvSpPr>
        <p:spPr>
          <a:xfrm>
            <a:off x="154080" y="512640"/>
            <a:ext cx="804384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ESB v6  </a:t>
            </a:r>
            <a:br>
              <a:rPr sz="2800"/>
            </a:br>
            <a:r>
              <a:rPr b="1" i="1" lang="en-US" sz="1800" spc="-1" strike="noStrike">
                <a:solidFill>
                  <a:srgbClr val="0518a7"/>
                </a:solidFill>
                <a:latin typeface="Arial"/>
              </a:rPr>
              <a:t>An embedded ESB for simplicity and manageability</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2590" name=""/>
          <p:cNvSpPr/>
          <p:nvPr/>
        </p:nvSpPr>
        <p:spPr>
          <a:xfrm>
            <a:off x="182520" y="1339920"/>
            <a:ext cx="5361120" cy="44078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lly designed for Web Services connectivity, JMS messaging and service oriented integration</a:t>
            </a: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uilt on and inherits the qualities of service of WebSphere Application Server (upgradeable from WAS ND v6)</a:t>
            </a: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bedded in and upgradeable to a full SOA process choreography system (WebSphere Process Server v6)</a:t>
            </a: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signed for ease of use and minimal programming skills</a:t>
            </a:r>
            <a:endParaRPr b="0" lang="en-US" sz="1800" spc="-1" strike="noStrike">
              <a:solidFill>
                <a:srgbClr val="ffffff"/>
              </a:solidFill>
              <a:latin typeface="Arial"/>
            </a:endParaRPr>
          </a:p>
          <a:p>
            <a:pPr marL="173160" indent="-173160">
              <a:spcBef>
                <a:spcPts val="2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1" name=""/>
          <p:cNvSpPr/>
          <p:nvPr/>
        </p:nvSpPr>
        <p:spPr>
          <a:xfrm>
            <a:off x="6858000" y="59436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WebSphere ESB</a:t>
            </a:r>
            <a:endParaRPr b="0" lang="en-US" sz="1800" spc="-1" strike="noStrike">
              <a:solidFill>
                <a:srgbClr val="ffffff"/>
              </a:solidFill>
              <a:latin typeface="Arial"/>
            </a:endParaRPr>
          </a:p>
        </p:txBody>
      </p:sp>
      <p:grpSp>
        <p:nvGrpSpPr>
          <p:cNvPr id="2592" name=""/>
          <p:cNvGrpSpPr/>
          <p:nvPr/>
        </p:nvGrpSpPr>
        <p:grpSpPr>
          <a:xfrm>
            <a:off x="5931000" y="1494000"/>
            <a:ext cx="2892240" cy="4327200"/>
            <a:chOff x="5931000" y="1494000"/>
            <a:chExt cx="2892240" cy="4327200"/>
          </a:xfrm>
        </p:grpSpPr>
        <p:sp>
          <p:nvSpPr>
            <p:cNvPr id="2593" name=""/>
            <p:cNvSpPr/>
            <p:nvPr/>
          </p:nvSpPr>
          <p:spPr>
            <a:xfrm>
              <a:off x="6080040" y="2894040"/>
              <a:ext cx="2625840" cy="28335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4" name=""/>
            <p:cNvSpPr/>
            <p:nvPr/>
          </p:nvSpPr>
          <p:spPr>
            <a:xfrm>
              <a:off x="6154560" y="3914640"/>
              <a:ext cx="2473560" cy="1690920"/>
            </a:xfrm>
            <a:prstGeom prst="rect">
              <a:avLst/>
            </a:prstGeom>
            <a:gradFill rotWithShape="0">
              <a:gsLst>
                <a:gs pos="0">
                  <a:srgbClr val="ffffff"/>
                </a:gs>
                <a:gs pos="50000">
                  <a:srgbClr val="ffc17d"/>
                </a:gs>
                <a:gs pos="100000">
                  <a:srgbClr val="ffffff"/>
                </a:gs>
              </a:gsLst>
              <a:lin ang="81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595" name=""/>
            <p:cNvGrpSpPr/>
            <p:nvPr/>
          </p:nvGrpSpPr>
          <p:grpSpPr>
            <a:xfrm>
              <a:off x="6291360" y="4060800"/>
              <a:ext cx="771480" cy="364680"/>
              <a:chOff x="6291360" y="4060800"/>
              <a:chExt cx="771480" cy="364680"/>
            </a:xfrm>
          </p:grpSpPr>
          <p:sp>
            <p:nvSpPr>
              <p:cNvPr id="2596" name=""/>
              <p:cNvSpPr/>
              <p:nvPr/>
            </p:nvSpPr>
            <p:spPr>
              <a:xfrm>
                <a:off x="6291360" y="4061880"/>
                <a:ext cx="771480" cy="243720"/>
              </a:xfrm>
              <a:custGeom>
                <a:avLst/>
                <a:gdLst/>
                <a:ahLst/>
                <a:rect l="l" t="t" r="r" b="b"/>
                <a:pathLst>
                  <a:path w="1575" h="732">
                    <a:moveTo>
                      <a:pt x="1137" y="0"/>
                    </a:moveTo>
                    <a:lnTo>
                      <a:pt x="1575" y="219"/>
                    </a:lnTo>
                    <a:lnTo>
                      <a:pt x="458" y="732"/>
                    </a:lnTo>
                    <a:lnTo>
                      <a:pt x="0" y="435"/>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lnTo>
                      <a:pt x="1137" y="0"/>
                    </a:lnTo>
                    <a:lnTo>
                      <a:pt x="0" y="435"/>
                    </a:lnTo>
                    <a:close/>
                  </a:path>
                </a:pathLst>
              </a:custGeom>
              <a:solidFill>
                <a:srgbClr val="ffff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7" name=""/>
              <p:cNvSpPr/>
              <p:nvPr/>
            </p:nvSpPr>
            <p:spPr>
              <a:xfrm>
                <a:off x="6450480" y="4061880"/>
                <a:ext cx="593640" cy="243720"/>
              </a:xfrm>
              <a:custGeom>
                <a:avLst/>
                <a:gdLst/>
                <a:ahLst/>
                <a:rect l="l" t="t" r="r" b="b"/>
                <a:pathLst>
                  <a:path w="1211" h="732">
                    <a:moveTo>
                      <a:pt x="811" y="291"/>
                    </a:moveTo>
                    <a:lnTo>
                      <a:pt x="0" y="653"/>
                    </a:lnTo>
                    <a:lnTo>
                      <a:pt x="125" y="732"/>
                    </a:lnTo>
                    <a:lnTo>
                      <a:pt x="1211" y="233"/>
                    </a:lnTo>
                    <a:lnTo>
                      <a:pt x="811" y="0"/>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lnTo>
                      <a:pt x="811" y="291"/>
                    </a:lnTo>
                    <a:lnTo>
                      <a:pt x="811" y="0"/>
                    </a:lnTo>
                    <a:close/>
                  </a:path>
                </a:pathLst>
              </a:custGeom>
              <a:solidFill>
                <a:srgbClr val="7fa25f"/>
              </a:solidFill>
              <a:ln w="15840">
                <a:solidFill>
                  <a:srgbClr val="7fa25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8" name=""/>
              <p:cNvSpPr/>
              <p:nvPr/>
            </p:nvSpPr>
            <p:spPr>
              <a:xfrm>
                <a:off x="6291360" y="4061880"/>
                <a:ext cx="558000" cy="266760"/>
              </a:xfrm>
              <a:custGeom>
                <a:avLst/>
                <a:gdLst/>
                <a:ahLst/>
                <a:rect l="l" t="t" r="r" b="b"/>
                <a:pathLst>
                  <a:path w="1137" h="799">
                    <a:moveTo>
                      <a:pt x="1137" y="291"/>
                    </a:moveTo>
                    <a:lnTo>
                      <a:pt x="1137" y="0"/>
                    </a:lnTo>
                    <a:lnTo>
                      <a:pt x="3" y="432"/>
                    </a:lnTo>
                    <a:lnTo>
                      <a:pt x="0" y="794"/>
                    </a:lnTo>
                    <a:lnTo>
                      <a:pt x="3" y="799"/>
                    </a:lnTo>
                    <a:lnTo>
                      <a:pt x="3" y="799"/>
                    </a:lnTo>
                    <a:lnTo>
                      <a:pt x="1137" y="291"/>
                    </a:lnTo>
                    <a:lnTo>
                      <a:pt x="3" y="799"/>
                    </a:lnTo>
                    <a:lnTo>
                      <a:pt x="1137" y="291"/>
                    </a:lnTo>
                    <a:lnTo>
                      <a:pt x="3" y="799"/>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9" name=""/>
              <p:cNvSpPr/>
              <p:nvPr/>
            </p:nvSpPr>
            <p:spPr>
              <a:xfrm>
                <a:off x="6849360" y="4060800"/>
                <a:ext cx="212040" cy="122040"/>
              </a:xfrm>
              <a:custGeom>
                <a:avLst/>
                <a:gdLst/>
                <a:ahLst/>
                <a:rect l="l" t="t" r="r" b="b"/>
                <a:pathLst>
                  <a:path w="435" h="365">
                    <a:moveTo>
                      <a:pt x="107" y="365"/>
                    </a:moveTo>
                    <a:lnTo>
                      <a:pt x="435" y="221"/>
                    </a:lnTo>
                    <a:lnTo>
                      <a:pt x="0" y="0"/>
                    </a:lnTo>
                    <a:lnTo>
                      <a:pt x="0" y="293"/>
                    </a:lnTo>
                    <a:lnTo>
                      <a:pt x="0" y="293"/>
                    </a:lnTo>
                    <a:lnTo>
                      <a:pt x="107" y="365"/>
                    </a:lnTo>
                    <a:lnTo>
                      <a:pt x="0" y="293"/>
                    </a:lnTo>
                    <a:lnTo>
                      <a:pt x="107" y="365"/>
                    </a:lnTo>
                    <a:lnTo>
                      <a:pt x="0" y="293"/>
                    </a:lnTo>
                    <a:close/>
                  </a:path>
                </a:pathLst>
              </a:custGeom>
              <a:solidFill>
                <a:srgbClr val="008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0" name=""/>
              <p:cNvSpPr/>
              <p:nvPr/>
            </p:nvSpPr>
            <p:spPr>
              <a:xfrm>
                <a:off x="6542640" y="4100760"/>
                <a:ext cx="222840" cy="189360"/>
              </a:xfrm>
              <a:custGeom>
                <a:avLst/>
                <a:gdLst/>
                <a:ahLst/>
                <a:rect l="l" t="t" r="r" b="b"/>
                <a:pathLst>
                  <a:path w="455" h="564">
                    <a:moveTo>
                      <a:pt x="455" y="564"/>
                    </a:moveTo>
                    <a:lnTo>
                      <a:pt x="455" y="274"/>
                    </a:lnTo>
                    <a:lnTo>
                      <a:pt x="0" y="0"/>
                    </a:lnTo>
                    <a:lnTo>
                      <a:pt x="0" y="362"/>
                    </a:lnTo>
                    <a:lnTo>
                      <a:pt x="0" y="362"/>
                    </a:lnTo>
                    <a:lnTo>
                      <a:pt x="455" y="564"/>
                    </a:lnTo>
                    <a:lnTo>
                      <a:pt x="0" y="362"/>
                    </a:lnTo>
                    <a:lnTo>
                      <a:pt x="455" y="564"/>
                    </a:lnTo>
                    <a:lnTo>
                      <a:pt x="0" y="362"/>
                    </a:lnTo>
                    <a:lnTo>
                      <a:pt x="455" y="564"/>
                    </a:lnTo>
                    <a:lnTo>
                      <a:pt x="0" y="362"/>
                    </a:lnTo>
                    <a:lnTo>
                      <a:pt x="455" y="564"/>
                    </a:lnTo>
                    <a:lnTo>
                      <a:pt x="0" y="362"/>
                    </a:lnTo>
                    <a:close/>
                  </a:path>
                </a:pathLst>
              </a:custGeom>
              <a:solidFill>
                <a:srgbClr val="4c4cd2"/>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1" name=""/>
              <p:cNvSpPr/>
              <p:nvPr/>
            </p:nvSpPr>
            <p:spPr>
              <a:xfrm>
                <a:off x="6468840" y="4115520"/>
                <a:ext cx="223200" cy="187920"/>
              </a:xfrm>
              <a:custGeom>
                <a:avLst/>
                <a:gdLst/>
                <a:ahLst/>
                <a:rect l="l" t="t" r="r" b="b"/>
                <a:pathLst>
                  <a:path w="455" h="565">
                    <a:moveTo>
                      <a:pt x="455" y="565"/>
                    </a:moveTo>
                    <a:lnTo>
                      <a:pt x="455" y="276"/>
                    </a:lnTo>
                    <a:lnTo>
                      <a:pt x="0" y="0"/>
                    </a:lnTo>
                    <a:lnTo>
                      <a:pt x="0" y="364"/>
                    </a:lnTo>
                    <a:lnTo>
                      <a:pt x="0" y="364"/>
                    </a:lnTo>
                    <a:lnTo>
                      <a:pt x="455" y="565"/>
                    </a:lnTo>
                    <a:lnTo>
                      <a:pt x="0" y="364"/>
                    </a:lnTo>
                    <a:lnTo>
                      <a:pt x="455" y="565"/>
                    </a:lnTo>
                    <a:lnTo>
                      <a:pt x="0" y="364"/>
                    </a:lnTo>
                    <a:lnTo>
                      <a:pt x="455" y="565"/>
                    </a:lnTo>
                    <a:lnTo>
                      <a:pt x="0" y="364"/>
                    </a:lnTo>
                    <a:lnTo>
                      <a:pt x="455" y="565"/>
                    </a:lnTo>
                    <a:lnTo>
                      <a:pt x="0" y="364"/>
                    </a:lnTo>
                    <a:close/>
                  </a:path>
                </a:pathLst>
              </a:custGeom>
              <a:solidFill>
                <a:srgbClr val="969696"/>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2" name=""/>
              <p:cNvSpPr/>
              <p:nvPr/>
            </p:nvSpPr>
            <p:spPr>
              <a:xfrm>
                <a:off x="6423480" y="4136040"/>
                <a:ext cx="222840" cy="189360"/>
              </a:xfrm>
              <a:custGeom>
                <a:avLst/>
                <a:gdLst/>
                <a:ahLst/>
                <a:rect l="l" t="t" r="r" b="b"/>
                <a:pathLst>
                  <a:path w="456" h="565">
                    <a:moveTo>
                      <a:pt x="456" y="565"/>
                    </a:moveTo>
                    <a:lnTo>
                      <a:pt x="456" y="274"/>
                    </a:lnTo>
                    <a:lnTo>
                      <a:pt x="0" y="0"/>
                    </a:lnTo>
                    <a:lnTo>
                      <a:pt x="0" y="363"/>
                    </a:lnTo>
                    <a:lnTo>
                      <a:pt x="0" y="363"/>
                    </a:lnTo>
                    <a:lnTo>
                      <a:pt x="456" y="565"/>
                    </a:lnTo>
                    <a:lnTo>
                      <a:pt x="0" y="363"/>
                    </a:lnTo>
                    <a:lnTo>
                      <a:pt x="456" y="565"/>
                    </a:lnTo>
                    <a:lnTo>
                      <a:pt x="0" y="363"/>
                    </a:lnTo>
                    <a:lnTo>
                      <a:pt x="456" y="565"/>
                    </a:lnTo>
                    <a:lnTo>
                      <a:pt x="0" y="363"/>
                    </a:lnTo>
                    <a:lnTo>
                      <a:pt x="456" y="565"/>
                    </a:lnTo>
                    <a:lnTo>
                      <a:pt x="0" y="363"/>
                    </a:lnTo>
                    <a:close/>
                  </a:path>
                </a:pathLst>
              </a:custGeom>
              <a:solidFill>
                <a:srgbClr val="0000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3" name=""/>
              <p:cNvSpPr/>
              <p:nvPr/>
            </p:nvSpPr>
            <p:spPr>
              <a:xfrm>
                <a:off x="6366960" y="4150800"/>
                <a:ext cx="218160" cy="193680"/>
              </a:xfrm>
              <a:custGeom>
                <a:avLst/>
                <a:gdLst/>
                <a:ahLst/>
                <a:rect l="l" t="t" r="r" b="b"/>
                <a:pathLst>
                  <a:path w="445" h="577">
                    <a:moveTo>
                      <a:pt x="442" y="577"/>
                    </a:moveTo>
                    <a:lnTo>
                      <a:pt x="445" y="272"/>
                    </a:lnTo>
                    <a:lnTo>
                      <a:pt x="3" y="0"/>
                    </a:lnTo>
                    <a:lnTo>
                      <a:pt x="0" y="34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lnTo>
                      <a:pt x="442" y="577"/>
                    </a:lnTo>
                    <a:lnTo>
                      <a:pt x="0" y="347"/>
                    </a:lnTo>
                    <a:close/>
                  </a:path>
                </a:pathLst>
              </a:custGeom>
              <a:solidFill>
                <a:srgbClr val="ffff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4" name=""/>
              <p:cNvSpPr/>
              <p:nvPr/>
            </p:nvSpPr>
            <p:spPr>
              <a:xfrm>
                <a:off x="6299640" y="4173840"/>
                <a:ext cx="220320" cy="206280"/>
              </a:xfrm>
              <a:custGeom>
                <a:avLst/>
                <a:gdLst/>
                <a:ahLst/>
                <a:rect l="l" t="t" r="r" b="b"/>
                <a:pathLst>
                  <a:path w="452" h="617">
                    <a:moveTo>
                      <a:pt x="452" y="617"/>
                    </a:moveTo>
                    <a:lnTo>
                      <a:pt x="452" y="284"/>
                    </a:lnTo>
                    <a:lnTo>
                      <a:pt x="0" y="0"/>
                    </a:lnTo>
                    <a:lnTo>
                      <a:pt x="2" y="386"/>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lnTo>
                      <a:pt x="452" y="617"/>
                    </a:lnTo>
                    <a:lnTo>
                      <a:pt x="2" y="386"/>
                    </a:lnTo>
                    <a:close/>
                  </a:path>
                </a:pathLst>
              </a:custGeom>
              <a:solidFill>
                <a:srgbClr val="0000ff"/>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5" name=""/>
              <p:cNvSpPr/>
              <p:nvPr/>
            </p:nvSpPr>
            <p:spPr>
              <a:xfrm>
                <a:off x="6293520" y="4210200"/>
                <a:ext cx="222120" cy="215280"/>
              </a:xfrm>
              <a:custGeom>
                <a:avLst/>
                <a:gdLst/>
                <a:ahLst/>
                <a:rect l="l" t="t" r="r" b="b"/>
                <a:pathLst>
                  <a:path w="455" h="644">
                    <a:moveTo>
                      <a:pt x="0" y="350"/>
                    </a:moveTo>
                    <a:lnTo>
                      <a:pt x="455" y="644"/>
                    </a:lnTo>
                    <a:lnTo>
                      <a:pt x="455" y="288"/>
                    </a:lnTo>
                    <a:lnTo>
                      <a:pt x="0" y="0"/>
                    </a:lnTo>
                    <a:lnTo>
                      <a:pt x="0" y="89"/>
                    </a:lnTo>
                    <a:lnTo>
                      <a:pt x="0" y="52"/>
                    </a:lnTo>
                    <a:lnTo>
                      <a:pt x="0" y="52"/>
                    </a:lnTo>
                    <a:lnTo>
                      <a:pt x="0" y="350"/>
                    </a:lnTo>
                    <a:lnTo>
                      <a:pt x="0" y="52"/>
                    </a:lnTo>
                    <a:lnTo>
                      <a:pt x="0" y="350"/>
                    </a:lnTo>
                    <a:lnTo>
                      <a:pt x="0" y="52"/>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6" name=""/>
              <p:cNvSpPr/>
              <p:nvPr/>
            </p:nvSpPr>
            <p:spPr>
              <a:xfrm>
                <a:off x="6511680" y="4134960"/>
                <a:ext cx="550800" cy="288720"/>
              </a:xfrm>
              <a:custGeom>
                <a:avLst/>
                <a:gdLst/>
                <a:ahLst/>
                <a:rect l="l" t="t" r="r" b="b"/>
                <a:pathLst>
                  <a:path w="1124" h="862">
                    <a:moveTo>
                      <a:pt x="0" y="862"/>
                    </a:moveTo>
                    <a:lnTo>
                      <a:pt x="0" y="515"/>
                    </a:lnTo>
                    <a:lnTo>
                      <a:pt x="1124" y="0"/>
                    </a:lnTo>
                    <a:lnTo>
                      <a:pt x="1124" y="330"/>
                    </a:lnTo>
                    <a:lnTo>
                      <a:pt x="1124" y="330"/>
                    </a:lnTo>
                    <a:lnTo>
                      <a:pt x="0" y="862"/>
                    </a:lnTo>
                    <a:lnTo>
                      <a:pt x="1124" y="330"/>
                    </a:lnTo>
                    <a:lnTo>
                      <a:pt x="0" y="862"/>
                    </a:lnTo>
                    <a:lnTo>
                      <a:pt x="1124" y="330"/>
                    </a:lnTo>
                    <a:lnTo>
                      <a:pt x="0" y="862"/>
                    </a:lnTo>
                    <a:lnTo>
                      <a:pt x="1124" y="330"/>
                    </a:lnTo>
                    <a:lnTo>
                      <a:pt x="0" y="862"/>
                    </a:lnTo>
                    <a:lnTo>
                      <a:pt x="1124" y="330"/>
                    </a:lnTo>
                    <a:lnTo>
                      <a:pt x="0" y="862"/>
                    </a:lnTo>
                    <a:lnTo>
                      <a:pt x="1124" y="330"/>
                    </a:lnTo>
                    <a:close/>
                  </a:path>
                </a:pathLst>
              </a:custGeom>
              <a:solidFill>
                <a:srgbClr val="00ce00"/>
              </a:solid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607" name=""/>
            <p:cNvSpPr/>
            <p:nvPr/>
          </p:nvSpPr>
          <p:spPr>
            <a:xfrm>
              <a:off x="7012080" y="3959280"/>
              <a:ext cx="1601640" cy="539640"/>
            </a:xfrm>
            <a:prstGeom prst="rect">
              <a:avLst/>
            </a:prstGeom>
            <a:noFill/>
            <a:ln w="0">
              <a:noFill/>
            </a:ln>
          </p:spPr>
          <p:style>
            <a:lnRef idx="0"/>
            <a:fillRef idx="0"/>
            <a:effectRef idx="0"/>
            <a:fontRef idx="minor"/>
          </p:style>
          <p:txBody>
            <a:bodyPr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Built-in (JMS &amp; WS) messaging</a:t>
              </a:r>
              <a:endParaRPr b="0" lang="en-US" sz="1500" spc="-1" strike="noStrike">
                <a:solidFill>
                  <a:srgbClr val="ffffff"/>
                </a:solidFill>
                <a:latin typeface="Arial"/>
              </a:endParaRPr>
            </a:p>
          </p:txBody>
        </p:sp>
        <p:sp>
          <p:nvSpPr>
            <p:cNvPr id="2608" name=""/>
            <p:cNvSpPr/>
            <p:nvPr/>
          </p:nvSpPr>
          <p:spPr>
            <a:xfrm>
              <a:off x="7338960" y="2946240"/>
              <a:ext cx="1430280" cy="996120"/>
            </a:xfrm>
            <a:prstGeom prst="rect">
              <a:avLst/>
            </a:prstGeom>
            <a:noFill/>
            <a:ln w="0">
              <a:noFill/>
            </a:ln>
          </p:spPr>
          <p:style>
            <a:lnRef idx="0"/>
            <a:fillRef idx="0"/>
            <a:effectRef idx="0"/>
            <a:fontRef idx="minor"/>
          </p:style>
          <p:txBody>
            <a:bodyPr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Built-in</a:t>
              </a:r>
              <a:endParaRPr b="0" lang="en-US" sz="1500" spc="-1" strike="noStrike">
                <a:solidFill>
                  <a:srgbClr val="ffffff"/>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XSLT (XML) mediation, plus more…</a:t>
              </a:r>
              <a:endParaRPr b="0" lang="en-US" sz="1500" spc="-1" strike="noStrike">
                <a:solidFill>
                  <a:srgbClr val="ffffff"/>
                </a:solidFill>
                <a:latin typeface="Arial"/>
              </a:endParaRPr>
            </a:p>
          </p:txBody>
        </p:sp>
        <p:grpSp>
          <p:nvGrpSpPr>
            <p:cNvPr id="2609" name=""/>
            <p:cNvGrpSpPr/>
            <p:nvPr/>
          </p:nvGrpSpPr>
          <p:grpSpPr>
            <a:xfrm>
              <a:off x="6246720" y="4541760"/>
              <a:ext cx="2347920" cy="996120"/>
              <a:chOff x="6246720" y="4541760"/>
              <a:chExt cx="2347920" cy="996120"/>
            </a:xfrm>
          </p:grpSpPr>
          <p:sp>
            <p:nvSpPr>
              <p:cNvPr id="2610" name=""/>
              <p:cNvSpPr/>
              <p:nvPr/>
            </p:nvSpPr>
            <p:spPr>
              <a:xfrm>
                <a:off x="6246720" y="4573440"/>
                <a:ext cx="2317680" cy="927000"/>
              </a:xfrm>
              <a:prstGeom prst="rect">
                <a:avLst/>
              </a:prstGeom>
              <a:solidFill>
                <a:srgbClr val="8bab7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2611" name="" descr=""/>
              <p:cNvPicPr/>
              <p:nvPr/>
            </p:nvPicPr>
            <p:blipFill>
              <a:blip r:embed="rId1"/>
              <a:stretch/>
            </p:blipFill>
            <p:spPr>
              <a:xfrm>
                <a:off x="6303960" y="4633920"/>
                <a:ext cx="747720" cy="772920"/>
              </a:xfrm>
              <a:prstGeom prst="rect">
                <a:avLst/>
              </a:prstGeom>
              <a:ln w="0">
                <a:noFill/>
              </a:ln>
            </p:spPr>
          </p:pic>
          <p:sp>
            <p:nvSpPr>
              <p:cNvPr id="2612" name=""/>
              <p:cNvSpPr/>
              <p:nvPr/>
            </p:nvSpPr>
            <p:spPr>
              <a:xfrm>
                <a:off x="6927840" y="4541760"/>
                <a:ext cx="1666800" cy="996120"/>
              </a:xfrm>
              <a:prstGeom prst="rect">
                <a:avLst/>
              </a:prstGeom>
              <a:noFill/>
              <a:ln w="0">
                <a:noFill/>
              </a:ln>
            </p:spPr>
            <p:style>
              <a:lnRef idx="0"/>
              <a:fillRef idx="0"/>
              <a:effectRef idx="0"/>
              <a:fontRef idx="minor"/>
            </p:style>
            <p:txBody>
              <a:bodyPr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Built-in</a:t>
                </a:r>
                <a:endParaRPr b="0" lang="en-US" sz="1500" spc="-1" strike="noStrike">
                  <a:solidFill>
                    <a:srgbClr val="ffffff"/>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WebSphere Application Server ND v6</a:t>
                </a:r>
                <a:endParaRPr b="0" lang="en-US" sz="1500" spc="-1" strike="noStrike">
                  <a:solidFill>
                    <a:srgbClr val="ffffff"/>
                  </a:solidFill>
                  <a:latin typeface="Arial"/>
                </a:endParaRPr>
              </a:p>
            </p:txBody>
          </p:sp>
        </p:grpSp>
        <p:sp>
          <p:nvSpPr>
            <p:cNvPr id="2613" name=""/>
            <p:cNvSpPr/>
            <p:nvPr/>
          </p:nvSpPr>
          <p:spPr>
            <a:xfrm>
              <a:off x="5931000" y="1494000"/>
              <a:ext cx="2892240" cy="4327200"/>
            </a:xfrm>
            <a:prstGeom prst="rect">
              <a:avLst/>
            </a:prstGeom>
            <a:noFill/>
            <a:ln w="2844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14" name=""/>
            <p:cNvSpPr/>
            <p:nvPr/>
          </p:nvSpPr>
          <p:spPr>
            <a:xfrm>
              <a:off x="6103800" y="2048040"/>
              <a:ext cx="2587680" cy="767880"/>
            </a:xfrm>
            <a:prstGeom prst="rect">
              <a:avLst/>
            </a:prstGeom>
            <a:noFill/>
            <a:ln w="0">
              <a:noFill/>
            </a:ln>
          </p:spPr>
          <p:style>
            <a:lnRef idx="0"/>
            <a:fillRef idx="0"/>
            <a:effectRef idx="0"/>
            <a:fontRef idx="minor"/>
          </p:style>
          <p:txBody>
            <a:bodyPr lIns="82440" rIns="82440" tIns="41400" bIns="41400" anchor="t" anchorCtr="1">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ffffff"/>
                  </a:solidFill>
                  <a:latin typeface="Arial"/>
                  <a:ea typeface="Arial"/>
                </a:rPr>
                <a:t>Upgradeable to a full WebSphere Process Server v6</a:t>
              </a:r>
              <a:endParaRPr b="0" lang="en-US" sz="1500" spc="-1" strike="noStrike">
                <a:solidFill>
                  <a:srgbClr val="ffffff"/>
                </a:solidFill>
                <a:latin typeface="Arial"/>
              </a:endParaRPr>
            </a:p>
          </p:txBody>
        </p:sp>
        <p:grpSp>
          <p:nvGrpSpPr>
            <p:cNvPr id="2615" name=""/>
            <p:cNvGrpSpPr/>
            <p:nvPr/>
          </p:nvGrpSpPr>
          <p:grpSpPr>
            <a:xfrm>
              <a:off x="6014880" y="1685880"/>
              <a:ext cx="2746440" cy="304920"/>
              <a:chOff x="6014880" y="1685880"/>
              <a:chExt cx="2746440" cy="304920"/>
            </a:xfrm>
          </p:grpSpPr>
          <p:sp>
            <p:nvSpPr>
              <p:cNvPr id="2616" name=""/>
              <p:cNvSpPr/>
              <p:nvPr/>
            </p:nvSpPr>
            <p:spPr>
              <a:xfrm>
                <a:off x="6014880" y="1685880"/>
                <a:ext cx="290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17" name=""/>
              <p:cNvSpPr/>
              <p:nvPr/>
            </p:nvSpPr>
            <p:spPr>
              <a:xfrm>
                <a:off x="6343560" y="1838160"/>
                <a:ext cx="2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8" name=""/>
              <p:cNvSpPr/>
              <p:nvPr/>
            </p:nvSpPr>
            <p:spPr>
              <a:xfrm>
                <a:off x="6627960" y="1685880"/>
                <a:ext cx="290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19" name=""/>
              <p:cNvSpPr/>
              <p:nvPr/>
            </p:nvSpPr>
            <p:spPr>
              <a:xfrm>
                <a:off x="7242120" y="1685880"/>
                <a:ext cx="290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20" name=""/>
              <p:cNvSpPr/>
              <p:nvPr/>
            </p:nvSpPr>
            <p:spPr>
              <a:xfrm>
                <a:off x="7856640" y="1685880"/>
                <a:ext cx="290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21" name=""/>
              <p:cNvSpPr/>
              <p:nvPr/>
            </p:nvSpPr>
            <p:spPr>
              <a:xfrm>
                <a:off x="7572240" y="1838160"/>
                <a:ext cx="2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2" name=""/>
              <p:cNvSpPr/>
              <p:nvPr/>
            </p:nvSpPr>
            <p:spPr>
              <a:xfrm>
                <a:off x="8470800" y="1685880"/>
                <a:ext cx="290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23" name=""/>
              <p:cNvSpPr/>
              <p:nvPr/>
            </p:nvSpPr>
            <p:spPr>
              <a:xfrm>
                <a:off x="8186760" y="1838160"/>
                <a:ext cx="2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4" name=""/>
              <p:cNvSpPr/>
              <p:nvPr/>
            </p:nvSpPr>
            <p:spPr>
              <a:xfrm>
                <a:off x="6958080" y="1838160"/>
                <a:ext cx="2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5" name=""/>
            <p:cNvSpPr/>
            <p:nvPr/>
          </p:nvSpPr>
          <p:spPr>
            <a:xfrm>
              <a:off x="6078240" y="3160800"/>
              <a:ext cx="6195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AB</a:t>
              </a:r>
              <a:endParaRPr b="0" lang="en-US" sz="2400" spc="-1" strike="noStrike">
                <a:solidFill>
                  <a:srgbClr val="ffffff"/>
                </a:solidFill>
                <a:latin typeface="Arial"/>
              </a:endParaRPr>
            </a:p>
          </p:txBody>
        </p:sp>
        <p:sp>
          <p:nvSpPr>
            <p:cNvPr id="2626" name=""/>
            <p:cNvSpPr/>
            <p:nvPr/>
          </p:nvSpPr>
          <p:spPr>
            <a:xfrm>
              <a:off x="6836040" y="3132000"/>
              <a:ext cx="6530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imes New Roman"/>
                  <a:ea typeface="Times New Roman"/>
                </a:rPr>
                <a:t>BA</a:t>
              </a:r>
              <a:endParaRPr b="0" lang="en-US" sz="2800" spc="-1" strike="noStrike">
                <a:solidFill>
                  <a:srgbClr val="ffffff"/>
                </a:solidFill>
                <a:latin typeface="Arial"/>
              </a:endParaRPr>
            </a:p>
          </p:txBody>
        </p:sp>
        <p:sp>
          <p:nvSpPr>
            <p:cNvPr id="2627" name=""/>
            <p:cNvSpPr/>
            <p:nvPr/>
          </p:nvSpPr>
          <p:spPr>
            <a:xfrm>
              <a:off x="6661080" y="3370320"/>
              <a:ext cx="21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5"/>
          </p:nvPr>
        </p:nvSpPr>
        <p:spPr/>
        <p:txBody>
          <a:bodyPr/>
          <a:p>
            <a:fld id="{04D0850C-A358-46F9-8319-C9BA4DE51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
          <p:cNvSpPr/>
          <p:nvPr/>
        </p:nvSpPr>
        <p:spPr>
          <a:xfrm>
            <a:off x="4586400" y="1922400"/>
            <a:ext cx="1942920" cy="4390920"/>
          </a:xfrm>
          <a:prstGeom prst="rect">
            <a:avLst/>
          </a:prstGeom>
          <a:blipFill rotWithShape="0">
            <a:blip r:embed="rId1"/>
            <a:srcRect/>
            <a:stretch/>
          </a:blipFill>
          <a:ln w="284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9" name="PlaceHolder 1"/>
          <p:cNvSpPr>
            <a:spLocks noGrp="1"/>
          </p:cNvSpPr>
          <p:nvPr>
            <p:ph type="title"/>
          </p:nvPr>
        </p:nvSpPr>
        <p:spPr>
          <a:xfrm>
            <a:off x="42480" y="442440"/>
            <a:ext cx="8753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Selecting your ESB depends on your requirements</a:t>
            </a:r>
            <a:endParaRPr b="0" lang="en-US" sz="2800" spc="-1" strike="noStrike">
              <a:solidFill>
                <a:srgbClr val="7889fb"/>
              </a:solidFill>
              <a:latin typeface="Arial"/>
            </a:endParaRPr>
          </a:p>
        </p:txBody>
      </p:sp>
      <p:sp>
        <p:nvSpPr>
          <p:cNvPr id="2630" name=""/>
          <p:cNvSpPr/>
          <p:nvPr/>
        </p:nvSpPr>
        <p:spPr>
          <a:xfrm>
            <a:off x="4568760" y="1866960"/>
            <a:ext cx="1925640" cy="595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B</a:t>
            </a:r>
            <a:endParaRPr b="0" lang="en-US" sz="1600" spc="-1" strike="noStrike">
              <a:solidFill>
                <a:srgbClr val="ffffff"/>
              </a:solidFill>
              <a:latin typeface="Arial"/>
            </a:endParaRPr>
          </a:p>
        </p:txBody>
      </p:sp>
      <p:sp>
        <p:nvSpPr>
          <p:cNvPr id="2631" name=""/>
          <p:cNvSpPr/>
          <p:nvPr/>
        </p:nvSpPr>
        <p:spPr>
          <a:xfrm>
            <a:off x="268200" y="2478240"/>
            <a:ext cx="4532400" cy="37303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Web Services Support</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Message Transport &amp; Protocol Switching</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Intelligent Routing &amp; Message Logging</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Event Driven Processing</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Native transformation of XML data formats</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ve transformation of non-XML data formats</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speed and high volume throughput</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lex event stream processing</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sor &amp; device Integration </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ve integration with CICS &amp; VSAM</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actional integration of 3rd party JMS</a:t>
            </a:r>
            <a:endParaRPr b="0" lang="en-US" sz="1600" spc="-1" strike="noStrike">
              <a:solidFill>
                <a:srgbClr val="ffffff"/>
              </a:solidFill>
              <a:latin typeface="Arial"/>
            </a:endParaRPr>
          </a:p>
        </p:txBody>
      </p:sp>
      <p:sp>
        <p:nvSpPr>
          <p:cNvPr id="2632" name=""/>
          <p:cNvSpPr/>
          <p:nvPr/>
        </p:nvSpPr>
        <p:spPr>
          <a:xfrm>
            <a:off x="6681960" y="1933560"/>
            <a:ext cx="1971360" cy="4388040"/>
          </a:xfrm>
          <a:prstGeom prst="rect">
            <a:avLst/>
          </a:prstGeom>
          <a:blipFill rotWithShape="0">
            <a:blip r:embed="rId2"/>
            <a:srcRect/>
            <a:stretch/>
          </a:blipFill>
          <a:ln w="284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3" name=""/>
          <p:cNvSpPr/>
          <p:nvPr/>
        </p:nvSpPr>
        <p:spPr>
          <a:xfrm>
            <a:off x="6692760" y="1839960"/>
            <a:ext cx="1970280" cy="628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MQ / </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ssage Broker</a:t>
            </a:r>
            <a:endParaRPr b="0" lang="en-US" sz="1600" spc="-1" strike="noStrike">
              <a:solidFill>
                <a:srgbClr val="ffffff"/>
              </a:solidFill>
              <a:latin typeface="Arial"/>
            </a:endParaRPr>
          </a:p>
        </p:txBody>
      </p:sp>
      <p:sp>
        <p:nvSpPr>
          <p:cNvPr id="2634" name=""/>
          <p:cNvSpPr/>
          <p:nvPr/>
        </p:nvSpPr>
        <p:spPr>
          <a:xfrm rot="10800000">
            <a:off x="6642000" y="929880"/>
            <a:ext cx="2013120" cy="944640"/>
          </a:xfrm>
          <a:prstGeom prst="upArrowCallout">
            <a:avLst>
              <a:gd name="adj1" fmla="val 53282"/>
              <a:gd name="adj2" fmla="val 53277"/>
              <a:gd name="adj3" fmla="val 16667"/>
              <a:gd name="adj4" fmla="val 66660"/>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5" name=""/>
          <p:cNvSpPr/>
          <p:nvPr/>
        </p:nvSpPr>
        <p:spPr>
          <a:xfrm>
            <a:off x="6564240" y="907920"/>
            <a:ext cx="2200320" cy="675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ffff"/>
                </a:solidFill>
                <a:uFillTx/>
                <a:latin typeface="Arial"/>
                <a:ea typeface="Arial"/>
              </a:rPr>
              <a:t>Focus</a:t>
            </a:r>
            <a:r>
              <a:rPr b="1" lang="en-US" sz="1500" spc="-1" strike="noStrike">
                <a:solidFill>
                  <a:srgbClr val="ffffff"/>
                </a:solidFill>
                <a:latin typeface="Arial"/>
                <a:ea typeface="Arial"/>
              </a:rPr>
              <a:t>: Integration of  Non-Web Services Assets for SOA</a:t>
            </a:r>
            <a:endParaRPr b="0" lang="en-US" sz="1500" spc="-1" strike="noStrike">
              <a:solidFill>
                <a:srgbClr val="ffffff"/>
              </a:solidFill>
              <a:latin typeface="Arial"/>
            </a:endParaRPr>
          </a:p>
        </p:txBody>
      </p:sp>
      <p:sp>
        <p:nvSpPr>
          <p:cNvPr id="2636" name=""/>
          <p:cNvSpPr/>
          <p:nvPr/>
        </p:nvSpPr>
        <p:spPr>
          <a:xfrm rot="10800000">
            <a:off x="4506840" y="933120"/>
            <a:ext cx="2070000" cy="944640"/>
          </a:xfrm>
          <a:prstGeom prst="upArrowCallout">
            <a:avLst>
              <a:gd name="adj1" fmla="val 54788"/>
              <a:gd name="adj2" fmla="val 54783"/>
              <a:gd name="adj3" fmla="val 16667"/>
              <a:gd name="adj4" fmla="val 66660"/>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p:cNvSpPr/>
          <p:nvPr/>
        </p:nvSpPr>
        <p:spPr>
          <a:xfrm>
            <a:off x="4429080" y="898560"/>
            <a:ext cx="21970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ffff"/>
                </a:solidFill>
                <a:uFillTx/>
                <a:latin typeface="Arial"/>
                <a:ea typeface="Arial"/>
              </a:rPr>
              <a:t>Focus</a:t>
            </a:r>
            <a:r>
              <a:rPr b="1" lang="en-US" sz="1500" spc="-1" strike="noStrike">
                <a:solidFill>
                  <a:srgbClr val="ffffff"/>
                </a:solidFill>
                <a:latin typeface="Arial"/>
                <a:ea typeface="Arial"/>
              </a:rPr>
              <a:t>: Integrated Web Services Platform</a:t>
            </a:r>
            <a:endParaRPr b="0" lang="en-US" sz="1500" spc="-1" strike="noStrike">
              <a:solidFill>
                <a:srgbClr val="ffffff"/>
              </a:solidFill>
              <a:latin typeface="Arial"/>
            </a:endParaRPr>
          </a:p>
        </p:txBody>
      </p:sp>
      <p:sp>
        <p:nvSpPr>
          <p:cNvPr id="2638" name=""/>
          <p:cNvSpPr/>
          <p:nvPr/>
        </p:nvSpPr>
        <p:spPr>
          <a:xfrm>
            <a:off x="290520" y="5308560"/>
            <a:ext cx="8361360" cy="1800"/>
          </a:xfrm>
          <a:prstGeom prst="line">
            <a:avLst/>
          </a:prstGeom>
          <a:ln w="9360">
            <a:solidFill>
              <a:srgbClr val="c0c0c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639" name=""/>
          <p:cNvSpPr/>
          <p:nvPr/>
        </p:nvSpPr>
        <p:spPr>
          <a:xfrm>
            <a:off x="325440" y="3100320"/>
            <a:ext cx="8319960" cy="1800"/>
          </a:xfrm>
          <a:prstGeom prst="line">
            <a:avLst/>
          </a:prstGeom>
          <a:ln w="9360">
            <a:solidFill>
              <a:srgbClr val="c0c0c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640" name=""/>
          <p:cNvSpPr/>
          <p:nvPr/>
        </p:nvSpPr>
        <p:spPr>
          <a:xfrm>
            <a:off x="325440" y="3471840"/>
            <a:ext cx="831996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1" name=""/>
          <p:cNvSpPr/>
          <p:nvPr/>
        </p:nvSpPr>
        <p:spPr>
          <a:xfrm>
            <a:off x="325440" y="4199040"/>
            <a:ext cx="83199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42" name=""/>
          <p:cNvSpPr/>
          <p:nvPr/>
        </p:nvSpPr>
        <p:spPr>
          <a:xfrm>
            <a:off x="325440" y="3832200"/>
            <a:ext cx="833436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3" name=""/>
          <p:cNvSpPr/>
          <p:nvPr/>
        </p:nvSpPr>
        <p:spPr>
          <a:xfrm>
            <a:off x="325440" y="4578480"/>
            <a:ext cx="833292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44" name=""/>
          <p:cNvSpPr/>
          <p:nvPr/>
        </p:nvSpPr>
        <p:spPr>
          <a:xfrm>
            <a:off x="333360" y="2738520"/>
            <a:ext cx="831996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5" name=""/>
          <p:cNvSpPr/>
          <p:nvPr/>
        </p:nvSpPr>
        <p:spPr>
          <a:xfrm>
            <a:off x="343080" y="2376360"/>
            <a:ext cx="831996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6" name=""/>
          <p:cNvSpPr/>
          <p:nvPr/>
        </p:nvSpPr>
        <p:spPr>
          <a:xfrm>
            <a:off x="303120" y="5659560"/>
            <a:ext cx="83613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47" name=""/>
          <p:cNvSpPr/>
          <p:nvPr/>
        </p:nvSpPr>
        <p:spPr>
          <a:xfrm>
            <a:off x="314280" y="5987880"/>
            <a:ext cx="83440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8" name=""/>
          <p:cNvSpPr/>
          <p:nvPr/>
        </p:nvSpPr>
        <p:spPr>
          <a:xfrm>
            <a:off x="7367760" y="234648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49" name=""/>
          <p:cNvSpPr/>
          <p:nvPr/>
        </p:nvSpPr>
        <p:spPr>
          <a:xfrm>
            <a:off x="7367760" y="270504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50" name=""/>
          <p:cNvSpPr/>
          <p:nvPr/>
        </p:nvSpPr>
        <p:spPr>
          <a:xfrm>
            <a:off x="7367760" y="307980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51" name=""/>
          <p:cNvSpPr/>
          <p:nvPr/>
        </p:nvSpPr>
        <p:spPr>
          <a:xfrm>
            <a:off x="7367760" y="343836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52" name=""/>
          <p:cNvSpPr/>
          <p:nvPr/>
        </p:nvSpPr>
        <p:spPr>
          <a:xfrm>
            <a:off x="7367760" y="379728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53" name=""/>
          <p:cNvSpPr/>
          <p:nvPr/>
        </p:nvSpPr>
        <p:spPr>
          <a:xfrm>
            <a:off x="7367760" y="416232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2654" name=""/>
          <p:cNvSpPr/>
          <p:nvPr/>
        </p:nvSpPr>
        <p:spPr>
          <a:xfrm>
            <a:off x="7367760" y="453060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2655" name=""/>
          <p:cNvSpPr/>
          <p:nvPr/>
        </p:nvSpPr>
        <p:spPr>
          <a:xfrm>
            <a:off x="7367760" y="488628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2656" name=""/>
          <p:cNvSpPr/>
          <p:nvPr/>
        </p:nvSpPr>
        <p:spPr>
          <a:xfrm>
            <a:off x="7367760" y="525780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2657" name=""/>
          <p:cNvSpPr/>
          <p:nvPr/>
        </p:nvSpPr>
        <p:spPr>
          <a:xfrm>
            <a:off x="7367760" y="559764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2658" name=""/>
          <p:cNvSpPr/>
          <p:nvPr/>
        </p:nvSpPr>
        <p:spPr>
          <a:xfrm>
            <a:off x="5249880" y="233676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59" name=""/>
          <p:cNvSpPr/>
          <p:nvPr/>
        </p:nvSpPr>
        <p:spPr>
          <a:xfrm>
            <a:off x="5249880" y="272736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60" name=""/>
          <p:cNvSpPr/>
          <p:nvPr/>
        </p:nvSpPr>
        <p:spPr>
          <a:xfrm>
            <a:off x="5249880" y="307008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61" name=""/>
          <p:cNvSpPr/>
          <p:nvPr/>
        </p:nvSpPr>
        <p:spPr>
          <a:xfrm>
            <a:off x="5249880" y="342900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62" name=""/>
          <p:cNvSpPr/>
          <p:nvPr/>
        </p:nvSpPr>
        <p:spPr>
          <a:xfrm>
            <a:off x="5249880" y="379728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Wingdings 2"/>
                <a:ea typeface="Wingdings 2"/>
              </a:rPr>
              <a:t></a:t>
            </a:r>
            <a:endParaRPr b="0" lang="en-US" sz="2800" spc="-1" strike="noStrike">
              <a:solidFill>
                <a:srgbClr val="ffffff"/>
              </a:solidFill>
              <a:latin typeface="Arial"/>
            </a:endParaRPr>
          </a:p>
        </p:txBody>
      </p:sp>
      <p:sp>
        <p:nvSpPr>
          <p:cNvPr id="2663" name=""/>
          <p:cNvSpPr/>
          <p:nvPr/>
        </p:nvSpPr>
        <p:spPr>
          <a:xfrm>
            <a:off x="299880" y="4968720"/>
            <a:ext cx="8361360" cy="1800"/>
          </a:xfrm>
          <a:prstGeom prst="line">
            <a:avLst/>
          </a:prstGeom>
          <a:ln w="9360">
            <a:solidFill>
              <a:srgbClr val="c0c0c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664" name=""/>
          <p:cNvSpPr/>
          <p:nvPr/>
        </p:nvSpPr>
        <p:spPr>
          <a:xfrm>
            <a:off x="7364520" y="5937120"/>
            <a:ext cx="520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endParaRPr b="0" lang="en-US" sz="2800" spc="-1" strike="noStrike">
              <a:solidFill>
                <a:srgbClr val="ffffff"/>
              </a:solidFill>
              <a:latin typeface="Arial"/>
            </a:endParaRPr>
          </a:p>
        </p:txBody>
      </p:sp>
      <p:sp>
        <p:nvSpPr>
          <p:cNvPr id="3" name="PlaceHolder 2"/>
          <p:cNvSpPr>
            <a:spLocks noGrp="1"/>
          </p:cNvSpPr>
          <p:nvPr>
            <p:ph type="sldNum" idx="5"/>
          </p:nvPr>
        </p:nvSpPr>
        <p:spPr/>
        <p:txBody>
          <a:bodyPr/>
          <a:p>
            <a:fld id="{0C636D26-E119-40F4-A9D9-86A83AECDC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2782800" y="2438280"/>
            <a:ext cx="6170760" cy="3737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Solution</a:t>
            </a:r>
            <a:r>
              <a:rPr b="1" lang="en-US" sz="1800" spc="-1" strike="noStrike">
                <a:solidFill>
                  <a:srgbClr val="ffffff"/>
                </a:solidFill>
                <a:latin typeface="Arial"/>
                <a:ea typeface="Arial"/>
              </a:rPr>
              <a:t>:</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lvl="1" marL="365040" indent="-185760">
              <a:lnSpc>
                <a:spcPct val="9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lemented an ESB that enables the integration of back-end databases with decoupled front-ends without embedded custom coding.</a:t>
            </a:r>
            <a:endParaRPr b="0" lang="en-US" sz="1800" spc="-1" strike="noStrike">
              <a:solidFill>
                <a:srgbClr val="ffffff"/>
              </a:solidFill>
              <a:latin typeface="Arial"/>
            </a:endParaRPr>
          </a:p>
          <a:p>
            <a:pPr lvl="1" marL="365040" indent="-185760">
              <a:lnSpc>
                <a:spcPct val="9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Application Server ND for new service deployments; WebSphere Message Broker and WebSphere MQ for integration of existing systems as services.</a:t>
            </a:r>
            <a:endParaRPr b="0" lang="en-US" sz="18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Result: </a:t>
            </a:r>
            <a:endParaRPr b="0" lang="en-US" sz="1800" spc="-1" strike="noStrike">
              <a:solidFill>
                <a:srgbClr val="ffffff"/>
              </a:solidFill>
              <a:latin typeface="Arial"/>
            </a:endParaRPr>
          </a:p>
          <a:p>
            <a:pPr lvl="1" marL="365040" indent="-185760">
              <a:lnSpc>
                <a:spcPct val="9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100% payback in 24 months</a:t>
            </a:r>
            <a:r>
              <a:rPr b="0" lang="en-US" sz="1800" spc="-1" strike="noStrike">
                <a:solidFill>
                  <a:srgbClr val="000000"/>
                </a:solidFill>
                <a:latin typeface="Arial"/>
                <a:ea typeface="Arial"/>
              </a:rPr>
              <a:t>; </a:t>
            </a:r>
            <a:r>
              <a:rPr b="1" lang="en-US" sz="1800" spc="-1" strike="noStrike">
                <a:solidFill>
                  <a:srgbClr val="000099"/>
                </a:solidFill>
                <a:latin typeface="Arial"/>
                <a:ea typeface="Arial"/>
              </a:rPr>
              <a:t>savings of</a:t>
            </a:r>
            <a:r>
              <a:rPr b="0" lang="en-US" sz="1800" spc="-1" strike="noStrike">
                <a:solidFill>
                  <a:srgbClr val="000000"/>
                </a:solidFill>
                <a:latin typeface="Arial"/>
                <a:ea typeface="Arial"/>
              </a:rPr>
              <a:t> </a:t>
            </a:r>
            <a:r>
              <a:rPr b="1" lang="en-US" sz="1800" spc="-1" strike="noStrike">
                <a:solidFill>
                  <a:srgbClr val="000099"/>
                </a:solidFill>
                <a:latin typeface="Arial"/>
                <a:ea typeface="Arial"/>
              </a:rPr>
              <a:t>$720,000/year</a:t>
            </a:r>
            <a:r>
              <a:rPr b="0" lang="en-US" sz="1800" spc="-1" strike="noStrike">
                <a:solidFill>
                  <a:srgbClr val="000000"/>
                </a:solidFill>
                <a:latin typeface="Arial"/>
                <a:ea typeface="Arial"/>
              </a:rPr>
              <a:t> in deployment costs; development and implementation of </a:t>
            </a:r>
            <a:r>
              <a:rPr b="1" lang="en-US" sz="1800" spc="-1" strike="noStrike">
                <a:solidFill>
                  <a:srgbClr val="000099"/>
                </a:solidFill>
                <a:latin typeface="Arial"/>
                <a:ea typeface="Arial"/>
              </a:rPr>
              <a:t>new applications in 25% of the time</a:t>
            </a:r>
            <a:r>
              <a:rPr b="0" lang="en-US" sz="1800" spc="-1" strike="noStrike">
                <a:solidFill>
                  <a:srgbClr val="000000"/>
                </a:solidFill>
                <a:latin typeface="Arial"/>
                <a:ea typeface="Arial"/>
              </a:rPr>
              <a:t> it took previously. </a:t>
            </a:r>
            <a:endParaRPr b="0" lang="en-US" sz="1800" spc="-1" strike="noStrike">
              <a:solidFill>
                <a:srgbClr val="ffffff"/>
              </a:solidFill>
              <a:latin typeface="Arial"/>
            </a:endParaRPr>
          </a:p>
          <a:p>
            <a:pPr lvl="1" marL="365040" indent="-185760">
              <a:lnSpc>
                <a:spcPct val="9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24x7 availability</a:t>
            </a:r>
            <a:r>
              <a:rPr b="0" lang="en-US" sz="1800" spc="-1" strike="noStrike">
                <a:solidFill>
                  <a:srgbClr val="000000"/>
                </a:solidFill>
                <a:latin typeface="Arial"/>
                <a:ea typeface="Arial"/>
              </a:rPr>
              <a:t> and </a:t>
            </a:r>
            <a:r>
              <a:rPr b="1" lang="en-US" sz="1800" spc="-1" strike="noStrike">
                <a:solidFill>
                  <a:srgbClr val="000099"/>
                </a:solidFill>
                <a:latin typeface="Arial"/>
                <a:ea typeface="Arial"/>
              </a:rPr>
              <a:t>failover</a:t>
            </a:r>
            <a:r>
              <a:rPr b="0" lang="en-US" sz="1800" spc="-1" strike="noStrike">
                <a:solidFill>
                  <a:srgbClr val="000000"/>
                </a:solidFill>
                <a:latin typeface="Arial"/>
                <a:ea typeface="Arial"/>
              </a:rPr>
              <a:t> capability.</a:t>
            </a:r>
            <a:endParaRPr b="0" lang="en-US" sz="1800" spc="-1" strike="noStrike">
              <a:solidFill>
                <a:srgbClr val="ffffff"/>
              </a:solidFill>
              <a:latin typeface="Arial"/>
            </a:endParaRPr>
          </a:p>
        </p:txBody>
      </p:sp>
      <p:sp>
        <p:nvSpPr>
          <p:cNvPr id="2666" name=""/>
          <p:cNvSpPr/>
          <p:nvPr/>
        </p:nvSpPr>
        <p:spPr>
          <a:xfrm>
            <a:off x="291960" y="1143000"/>
            <a:ext cx="8535960" cy="5100480"/>
          </a:xfrm>
          <a:prstGeom prst="rect">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PlaceHolder 1"/>
          <p:cNvSpPr>
            <a:spLocks noGrp="1"/>
          </p:cNvSpPr>
          <p:nvPr>
            <p:ph type="title"/>
          </p:nvPr>
        </p:nvSpPr>
        <p:spPr>
          <a:xfrm>
            <a:off x="142920" y="477360"/>
            <a:ext cx="75326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erox Implements its Roadmap to SOA</a:t>
            </a:r>
            <a:endParaRPr b="0" lang="en-US" sz="2800" spc="-1" strike="noStrike">
              <a:solidFill>
                <a:srgbClr val="7889fb"/>
              </a:solidFill>
              <a:latin typeface="Arial"/>
            </a:endParaRPr>
          </a:p>
        </p:txBody>
      </p:sp>
      <p:grpSp>
        <p:nvGrpSpPr>
          <p:cNvPr id="2668" name=""/>
          <p:cNvGrpSpPr/>
          <p:nvPr/>
        </p:nvGrpSpPr>
        <p:grpSpPr>
          <a:xfrm>
            <a:off x="2600280" y="4548240"/>
            <a:ext cx="255600" cy="255600"/>
            <a:chOff x="2600280" y="4548240"/>
            <a:chExt cx="255600" cy="255600"/>
          </a:xfrm>
        </p:grpSpPr>
        <p:sp>
          <p:nvSpPr>
            <p:cNvPr id="2669" name=""/>
            <p:cNvSpPr/>
            <p:nvPr/>
          </p:nvSpPr>
          <p:spPr>
            <a:xfrm>
              <a:off x="2600280" y="4548240"/>
              <a:ext cx="255600" cy="255600"/>
            </a:xfrm>
            <a:prstGeom prst="ellipse">
              <a:avLst/>
            </a:prstGeom>
            <a:solidFill>
              <a:srgbClr val="5378b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0" name=""/>
            <p:cNvSpPr/>
            <p:nvPr/>
          </p:nvSpPr>
          <p:spPr>
            <a:xfrm rot="5400000">
              <a:off x="2667240" y="4599720"/>
              <a:ext cx="1764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grpSp>
      <p:grpSp>
        <p:nvGrpSpPr>
          <p:cNvPr id="2671" name=""/>
          <p:cNvGrpSpPr/>
          <p:nvPr/>
        </p:nvGrpSpPr>
        <p:grpSpPr>
          <a:xfrm>
            <a:off x="2600280" y="2490840"/>
            <a:ext cx="255600" cy="255600"/>
            <a:chOff x="2600280" y="2490840"/>
            <a:chExt cx="255600" cy="255600"/>
          </a:xfrm>
        </p:grpSpPr>
        <p:sp>
          <p:nvSpPr>
            <p:cNvPr id="2672" name=""/>
            <p:cNvSpPr/>
            <p:nvPr/>
          </p:nvSpPr>
          <p:spPr>
            <a:xfrm>
              <a:off x="2600280" y="2490840"/>
              <a:ext cx="255600" cy="255600"/>
            </a:xfrm>
            <a:prstGeom prst="ellipse">
              <a:avLst/>
            </a:prstGeom>
            <a:solidFill>
              <a:srgbClr val="5378b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3" name=""/>
            <p:cNvSpPr/>
            <p:nvPr/>
          </p:nvSpPr>
          <p:spPr>
            <a:xfrm rot="5400000">
              <a:off x="2667240" y="2542320"/>
              <a:ext cx="1764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grpSp>
      <p:pic>
        <p:nvPicPr>
          <p:cNvPr id="2674" name="" descr=""/>
          <p:cNvPicPr/>
          <p:nvPr/>
        </p:nvPicPr>
        <p:blipFill>
          <a:blip r:embed="rId1"/>
          <a:stretch/>
        </p:blipFill>
        <p:spPr>
          <a:xfrm>
            <a:off x="2471760" y="1176480"/>
            <a:ext cx="237960" cy="9360"/>
          </a:xfrm>
          <a:prstGeom prst="rect">
            <a:avLst/>
          </a:prstGeom>
          <a:ln w="0">
            <a:noFill/>
          </a:ln>
        </p:spPr>
      </p:pic>
      <p:pic>
        <p:nvPicPr>
          <p:cNvPr id="2675" name="" descr=""/>
          <p:cNvPicPr/>
          <p:nvPr/>
        </p:nvPicPr>
        <p:blipFill>
          <a:blip r:embed="rId2"/>
          <a:stretch/>
        </p:blipFill>
        <p:spPr>
          <a:xfrm>
            <a:off x="2471760" y="1176480"/>
            <a:ext cx="237960" cy="9360"/>
          </a:xfrm>
          <a:prstGeom prst="rect">
            <a:avLst/>
          </a:prstGeom>
          <a:ln w="0">
            <a:noFill/>
          </a:ln>
        </p:spPr>
      </p:pic>
      <p:pic>
        <p:nvPicPr>
          <p:cNvPr id="2676" name="" descr=""/>
          <p:cNvPicPr/>
          <p:nvPr/>
        </p:nvPicPr>
        <p:blipFill>
          <a:blip r:embed="rId3"/>
          <a:stretch/>
        </p:blipFill>
        <p:spPr>
          <a:xfrm>
            <a:off x="2471760" y="1176480"/>
            <a:ext cx="237960" cy="9360"/>
          </a:xfrm>
          <a:prstGeom prst="rect">
            <a:avLst/>
          </a:prstGeom>
          <a:ln w="0">
            <a:noFill/>
          </a:ln>
        </p:spPr>
      </p:pic>
      <p:pic>
        <p:nvPicPr>
          <p:cNvPr id="2677" name="" descr=""/>
          <p:cNvPicPr/>
          <p:nvPr/>
        </p:nvPicPr>
        <p:blipFill>
          <a:blip r:embed="rId4"/>
          <a:stretch/>
        </p:blipFill>
        <p:spPr>
          <a:xfrm>
            <a:off x="2471760" y="1176480"/>
            <a:ext cx="237960" cy="9360"/>
          </a:xfrm>
          <a:prstGeom prst="rect">
            <a:avLst/>
          </a:prstGeom>
          <a:ln w="0">
            <a:noFill/>
          </a:ln>
        </p:spPr>
      </p:pic>
      <p:sp>
        <p:nvSpPr>
          <p:cNvPr id="2678" name=""/>
          <p:cNvSpPr/>
          <p:nvPr/>
        </p:nvSpPr>
        <p:spPr>
          <a:xfrm>
            <a:off x="369720" y="1238400"/>
            <a:ext cx="8393400" cy="1170000"/>
          </a:xfrm>
          <a:prstGeom prst="rect">
            <a:avLst/>
          </a:prstGeom>
          <a:solidFill>
            <a:srgbClr val="5378b3"/>
          </a:solidFill>
          <a:ln w="9360">
            <a:solidFill>
              <a:srgbClr val="5378b3"/>
            </a:solidFill>
            <a:miter/>
          </a:ln>
        </p:spPr>
        <p:style>
          <a:lnRef idx="0"/>
          <a:fillRef idx="0"/>
          <a:effectRef idx="0"/>
          <a:fontRef idx="minor"/>
        </p:style>
        <p:txBody>
          <a:bodyPr lIns="45720" rIns="4572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9" name=""/>
          <p:cNvSpPr/>
          <p:nvPr/>
        </p:nvSpPr>
        <p:spPr>
          <a:xfrm>
            <a:off x="3306600" y="1312920"/>
            <a:ext cx="5392800" cy="736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hallenge:</a:t>
            </a:r>
            <a:r>
              <a:rPr b="0" lang="en-US" sz="2000" spc="-1" strike="noStrike">
                <a:solidFill>
                  <a:srgbClr val="ffffff"/>
                </a:solidFill>
                <a:latin typeface="Arial"/>
                <a:ea typeface="Arial"/>
              </a:rPr>
              <a:t> Custom coding for new and updated applications was slowing production and raising costs.</a:t>
            </a:r>
            <a:endParaRPr b="0" lang="en-US" sz="2000" spc="-1" strike="noStrike">
              <a:solidFill>
                <a:srgbClr val="ffffff"/>
              </a:solidFill>
              <a:latin typeface="Arial"/>
            </a:endParaRPr>
          </a:p>
        </p:txBody>
      </p:sp>
      <p:grpSp>
        <p:nvGrpSpPr>
          <p:cNvPr id="2680" name=""/>
          <p:cNvGrpSpPr/>
          <p:nvPr/>
        </p:nvGrpSpPr>
        <p:grpSpPr>
          <a:xfrm>
            <a:off x="446040" y="1292400"/>
            <a:ext cx="2448000" cy="1044360"/>
            <a:chOff x="446040" y="1292400"/>
            <a:chExt cx="2448000" cy="1044360"/>
          </a:xfrm>
        </p:grpSpPr>
        <p:sp>
          <p:nvSpPr>
            <p:cNvPr id="2681" name=""/>
            <p:cNvSpPr/>
            <p:nvPr/>
          </p:nvSpPr>
          <p:spPr>
            <a:xfrm>
              <a:off x="446040" y="1292400"/>
              <a:ext cx="2448000" cy="1044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2682" name="" descr=""/>
            <p:cNvPicPr/>
            <p:nvPr/>
          </p:nvPicPr>
          <p:blipFill>
            <a:blip r:embed="rId5"/>
            <a:stretch/>
          </p:blipFill>
          <p:spPr>
            <a:xfrm>
              <a:off x="509760" y="1364040"/>
              <a:ext cx="2304360" cy="912960"/>
            </a:xfrm>
            <a:prstGeom prst="rect">
              <a:avLst/>
            </a:prstGeom>
            <a:ln w="0">
              <a:noFill/>
            </a:ln>
          </p:spPr>
        </p:pic>
      </p:grpSp>
      <p:grpSp>
        <p:nvGrpSpPr>
          <p:cNvPr id="2683" name=""/>
          <p:cNvGrpSpPr/>
          <p:nvPr/>
        </p:nvGrpSpPr>
        <p:grpSpPr>
          <a:xfrm>
            <a:off x="3060720" y="1349280"/>
            <a:ext cx="255600" cy="255600"/>
            <a:chOff x="3060720" y="1349280"/>
            <a:chExt cx="255600" cy="255600"/>
          </a:xfrm>
        </p:grpSpPr>
        <p:sp>
          <p:nvSpPr>
            <p:cNvPr id="2684" name=""/>
            <p:cNvSpPr/>
            <p:nvPr/>
          </p:nvSpPr>
          <p:spPr>
            <a:xfrm>
              <a:off x="3060720" y="1349280"/>
              <a:ext cx="255600" cy="255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5" name=""/>
            <p:cNvSpPr/>
            <p:nvPr/>
          </p:nvSpPr>
          <p:spPr>
            <a:xfrm rot="5400000">
              <a:off x="3127680" y="1400760"/>
              <a:ext cx="176400" cy="152280"/>
            </a:xfrm>
            <a:prstGeom prst="triangle">
              <a:avLst>
                <a:gd name="adj" fmla="val 50000"/>
              </a:avLst>
            </a:prstGeom>
            <a:solidFill>
              <a:srgbClr val="5378b3"/>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grpSp>
      <p:pic>
        <p:nvPicPr>
          <p:cNvPr id="2686" name="" descr=""/>
          <p:cNvPicPr/>
          <p:nvPr/>
        </p:nvPicPr>
        <p:blipFill>
          <a:blip r:embed="rId6"/>
          <a:stretch/>
        </p:blipFill>
        <p:spPr>
          <a:xfrm>
            <a:off x="1065240" y="3117960"/>
            <a:ext cx="1666800" cy="666720"/>
          </a:xfrm>
          <a:prstGeom prst="rect">
            <a:avLst/>
          </a:prstGeom>
          <a:ln w="0">
            <a:noFill/>
          </a:ln>
        </p:spPr>
      </p:pic>
      <p:pic>
        <p:nvPicPr>
          <p:cNvPr id="2687" name="" descr=""/>
          <p:cNvPicPr/>
          <p:nvPr/>
        </p:nvPicPr>
        <p:blipFill>
          <a:blip r:embed="rId7"/>
          <a:stretch/>
        </p:blipFill>
        <p:spPr>
          <a:xfrm>
            <a:off x="399960" y="4054320"/>
            <a:ext cx="1666800" cy="667080"/>
          </a:xfrm>
          <a:prstGeom prst="rect">
            <a:avLst/>
          </a:prstGeom>
          <a:ln w="0">
            <a:noFill/>
          </a:ln>
        </p:spPr>
      </p:pic>
      <p:pic>
        <p:nvPicPr>
          <p:cNvPr id="2688" name="" descr=""/>
          <p:cNvPicPr/>
          <p:nvPr/>
        </p:nvPicPr>
        <p:blipFill>
          <a:blip r:embed="rId8"/>
          <a:stretch/>
        </p:blipFill>
        <p:spPr>
          <a:xfrm>
            <a:off x="1036800" y="4967280"/>
            <a:ext cx="1666800" cy="666720"/>
          </a:xfrm>
          <a:prstGeom prst="rect">
            <a:avLst/>
          </a:prstGeom>
          <a:ln w="0">
            <a:noFill/>
          </a:ln>
        </p:spPr>
      </p:pic>
      <p:sp>
        <p:nvSpPr>
          <p:cNvPr id="3" name="PlaceHolder 2"/>
          <p:cNvSpPr>
            <a:spLocks noGrp="1"/>
          </p:cNvSpPr>
          <p:nvPr>
            <p:ph type="sldNum" idx="4"/>
          </p:nvPr>
        </p:nvSpPr>
        <p:spPr/>
        <p:txBody>
          <a:bodyPr/>
          <a:p>
            <a:fld id="{7EAD85BC-61F8-478B-99F5-C1208A727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6440" y="54900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lay: WESB, Message Broker, and MQ  Overview</a:t>
            </a:r>
            <a:endParaRPr b="0" lang="en-US" sz="2800" spc="-1" strike="noStrike">
              <a:solidFill>
                <a:srgbClr val="7889fb"/>
              </a:solidFill>
              <a:latin typeface="Arial"/>
            </a:endParaRPr>
          </a:p>
        </p:txBody>
      </p:sp>
      <p:sp>
        <p:nvSpPr>
          <p:cNvPr id="342" name="PlaceHolder 2"/>
          <p:cNvSpPr>
            <a:spLocks noGrp="1"/>
          </p:cNvSpPr>
          <p:nvPr>
            <p:ph/>
          </p:nvPr>
        </p:nvSpPr>
        <p:spPr>
          <a:xfrm>
            <a:off x="250560" y="1196640"/>
            <a:ext cx="8569080" cy="5247720"/>
          </a:xfrm>
          <a:prstGeom prst="rect">
            <a:avLst/>
          </a:prstGeom>
          <a:noFill/>
          <a:ln w="12600">
            <a:solidFill>
              <a:srgbClr val="333399"/>
            </a:solidFill>
            <a:miter/>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blem? Customers spend </a:t>
            </a:r>
            <a:r>
              <a:rPr b="1" lang="en-US" sz="2000" spc="-1" strike="noStrike">
                <a:solidFill>
                  <a:srgbClr val="000099"/>
                </a:solidFill>
                <a:latin typeface="Arial"/>
              </a:rPr>
              <a:t>73%</a:t>
            </a:r>
            <a:r>
              <a:rPr b="1" lang="en-US" sz="2000" spc="-1" strike="noStrike">
                <a:solidFill>
                  <a:srgbClr val="000000"/>
                </a:solidFill>
                <a:latin typeface="Arial"/>
              </a:rPr>
              <a:t> of I.T. budgets on maintenance!  Managing interfaces, not applications</a:t>
            </a:r>
            <a:endParaRPr b="0" lang="en-US" sz="2000" spc="-1" strike="noStrike">
              <a:solidFill>
                <a:srgbClr val="000000"/>
              </a:solidFill>
              <a:latin typeface="Arial"/>
            </a:endParaRPr>
          </a:p>
          <a:p>
            <a:pPr marL="226080" indent="0">
              <a:spcBef>
                <a:spcPts val="249"/>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lution?  An Enterprise Service Bus</a:t>
            </a:r>
            <a:endParaRPr b="0" lang="en-US" sz="20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complexity, size, number of interfaces</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evelopment and maintenance costs</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the time and risk of integration projects </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T to be more responsive and flexible to the changing demands of the business </a:t>
            </a:r>
            <a:endParaRPr b="0" lang="en-US" sz="1800" spc="-1" strike="noStrike">
              <a:solidFill>
                <a:srgbClr val="000000"/>
              </a:solidFill>
              <a:latin typeface="Arial"/>
            </a:endParaRPr>
          </a:p>
          <a:p>
            <a:pPr lvl="3" marL="903600" indent="0">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an ESB do?  Flexible connectivity infrastructure for integration applications and services</a:t>
            </a:r>
            <a:r>
              <a:rPr b="0" lang="en-US" sz="2000" spc="-1" strike="noStrike">
                <a:solidFill>
                  <a:srgbClr val="000000"/>
                </a:solidFill>
                <a:latin typeface="Arial"/>
              </a:rPr>
              <a:t> </a:t>
            </a:r>
            <a:endParaRPr b="0" lang="en-US" sz="20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MATCHES &amp; ROUTES</a:t>
            </a:r>
            <a:r>
              <a:rPr b="0" lang="en-US" sz="1800" spc="-1" strike="noStrike">
                <a:solidFill>
                  <a:srgbClr val="000000"/>
                </a:solidFill>
                <a:latin typeface="Arial"/>
              </a:rPr>
              <a:t> messages between services</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CONVERTS</a:t>
            </a:r>
            <a:r>
              <a:rPr b="0" lang="en-US" sz="1800" spc="-1" strike="noStrike">
                <a:solidFill>
                  <a:srgbClr val="000000"/>
                </a:solidFill>
                <a:latin typeface="Arial"/>
              </a:rPr>
              <a:t> transport protocols between requestor and service</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RANSFORMS</a:t>
            </a:r>
            <a:r>
              <a:rPr b="0" lang="en-US" sz="1800" spc="-1" strike="noStrike">
                <a:solidFill>
                  <a:srgbClr val="000000"/>
                </a:solidFill>
                <a:latin typeface="Arial"/>
              </a:rPr>
              <a:t> message format between requestor and service</a:t>
            </a:r>
            <a:endParaRPr b="0" lang="en-US" sz="1800" spc="-1" strike="noStrike">
              <a:solidFill>
                <a:srgbClr val="000000"/>
              </a:solidFill>
              <a:latin typeface="Arial"/>
            </a:endParaRPr>
          </a:p>
          <a:p>
            <a:pPr lvl="3" marL="903600" indent="-226080">
              <a:lnSpc>
                <a:spcPct val="110000"/>
              </a:lnSpc>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DISTRIBUTES</a:t>
            </a:r>
            <a:r>
              <a:rPr b="0" lang="en-US" sz="1800" spc="-1" strike="noStrike">
                <a:solidFill>
                  <a:srgbClr val="000000"/>
                </a:solidFill>
                <a:latin typeface="Arial"/>
              </a:rPr>
              <a:t> business events from/to disparate sources.</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0DE00BA-51EB-4C54-AE67-6F892F712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9"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tional References and Case Studies</a:t>
            </a:r>
            <a:endParaRPr b="0" lang="en-US" sz="2800" spc="-1" strike="noStrike">
              <a:solidFill>
                <a:srgbClr val="7889fb"/>
              </a:solidFill>
              <a:latin typeface="Arial"/>
            </a:endParaRPr>
          </a:p>
        </p:txBody>
      </p:sp>
      <p:sp>
        <p:nvSpPr>
          <p:cNvPr id="2690" name="PlaceHolder 2"/>
          <p:cNvSpPr>
            <a:spLocks noGrp="1"/>
          </p:cNvSpPr>
          <p:nvPr>
            <p:ph/>
          </p:nvPr>
        </p:nvSpPr>
        <p:spPr>
          <a:xfrm>
            <a:off x="785880" y="137628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n Ope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AP; Segment=SMB; Industry: Media &amp; Entertainment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Company </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LA; Segment=SMB; Industry: Petrochemica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Natural Group</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EMEA; Segment=LE; Industry: Energy &amp; Utiliti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Lif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EMEA; Segment=LE; Industry: Insurance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WW; Segment=LE; Industry: Electronics</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5"/>
          </p:nvPr>
        </p:nvSpPr>
        <p:spPr/>
        <p:txBody>
          <a:bodyPr/>
          <a:p>
            <a:fld id="{C2E80324-D473-4043-A234-0E29E34C33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Summary</a:t>
            </a:r>
            <a:endParaRPr b="0" lang="en-US" sz="2800" spc="-1" strike="noStrike">
              <a:solidFill>
                <a:srgbClr val="7889fb"/>
              </a:solidFill>
              <a:latin typeface="Arial"/>
            </a:endParaRPr>
          </a:p>
        </p:txBody>
      </p:sp>
      <p:sp>
        <p:nvSpPr>
          <p:cNvPr id="2692" name="PlaceHolder 2"/>
          <p:cNvSpPr>
            <a:spLocks noGrp="1"/>
          </p:cNvSpPr>
          <p:nvPr>
            <p:ph/>
          </p:nvPr>
        </p:nvSpPr>
        <p:spPr>
          <a:xfrm>
            <a:off x="799920" y="1370160"/>
            <a:ext cx="7543800" cy="4541760"/>
          </a:xfrm>
          <a:prstGeom prst="rect">
            <a:avLst/>
          </a:prstGeom>
          <a:noFill/>
          <a:ln w="0">
            <a:noFill/>
          </a:ln>
        </p:spPr>
        <p:txBody>
          <a:bodyPr lIns="90000" rIns="90000" tIns="46800" bIns="46800" anchor="t">
            <a:normAutofit/>
          </a:bodyPr>
          <a:p>
            <a:pPr marL="228600" indent="-228600">
              <a:spcBef>
                <a:spcPts val="1001"/>
              </a:spcBef>
              <a:spcAft>
                <a:spcPts val="6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terprise Service Bus (ESB) is the latest stage in the </a:t>
            </a:r>
            <a:r>
              <a:rPr b="1" lang="en-US" sz="2000" spc="-1" strike="noStrike">
                <a:solidFill>
                  <a:srgbClr val="7889fb"/>
                </a:solidFill>
                <a:latin typeface="Arial"/>
              </a:rPr>
              <a:t>evolution of</a:t>
            </a:r>
            <a:r>
              <a:rPr b="1" lang="en-US" sz="2000" spc="-1" strike="noStrike">
                <a:solidFill>
                  <a:srgbClr val="000000"/>
                </a:solidFill>
                <a:latin typeface="Arial"/>
              </a:rPr>
              <a:t> </a:t>
            </a:r>
            <a:r>
              <a:rPr b="1" lang="en-US" sz="2000" spc="-1" strike="noStrike">
                <a:solidFill>
                  <a:srgbClr val="7889fb"/>
                </a:solidFill>
                <a:latin typeface="Arial"/>
              </a:rPr>
              <a:t>IBM’s</a:t>
            </a:r>
            <a:r>
              <a:rPr b="0" lang="en-US" sz="2000" spc="-1" strike="noStrike">
                <a:solidFill>
                  <a:srgbClr val="7889fb"/>
                </a:solidFill>
                <a:latin typeface="Arial"/>
              </a:rPr>
              <a:t> </a:t>
            </a:r>
            <a:r>
              <a:rPr b="1" lang="en-US" sz="2000" spc="-1" strike="noStrike">
                <a:solidFill>
                  <a:srgbClr val="7889fb"/>
                </a:solidFill>
                <a:latin typeface="Arial"/>
              </a:rPr>
              <a:t>application connectivity and integration</a:t>
            </a:r>
            <a:r>
              <a:rPr b="0" lang="en-US" sz="2000" spc="-1" strike="noStrike">
                <a:solidFill>
                  <a:srgbClr val="000000"/>
                </a:solidFill>
                <a:latin typeface="Arial"/>
              </a:rPr>
              <a:t> </a:t>
            </a:r>
            <a:r>
              <a:rPr b="1" lang="en-US" sz="2000" spc="-1" strike="noStrike">
                <a:solidFill>
                  <a:srgbClr val="7889fb"/>
                </a:solidFill>
                <a:latin typeface="Arial"/>
              </a:rPr>
              <a:t>technologies.</a:t>
            </a:r>
            <a:endParaRPr b="0" lang="en-US" sz="2000" spc="-1" strike="noStrike">
              <a:solidFill>
                <a:srgbClr val="000000"/>
              </a:solidFill>
              <a:latin typeface="Arial"/>
            </a:endParaRPr>
          </a:p>
          <a:p>
            <a:pPr marL="228600" indent="-228600">
              <a:spcBef>
                <a:spcPts val="1001"/>
              </a:spcBef>
              <a:spcAft>
                <a:spcPts val="6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a:t>
            </a:r>
            <a:r>
              <a:rPr b="1" lang="en-US" sz="2000" spc="-1" strike="noStrike">
                <a:solidFill>
                  <a:srgbClr val="7889fb"/>
                </a:solidFill>
                <a:latin typeface="Arial"/>
              </a:rPr>
              <a:t>value</a:t>
            </a:r>
            <a:r>
              <a:rPr b="0" lang="en-US" sz="2000" spc="-1" strike="noStrike">
                <a:solidFill>
                  <a:srgbClr val="000000"/>
                </a:solidFill>
                <a:latin typeface="Arial"/>
              </a:rPr>
              <a:t> of an ESB is </a:t>
            </a:r>
            <a:endParaRPr b="0" lang="en-US" sz="2000" spc="-1" strike="noStrike">
              <a:solidFill>
                <a:srgbClr val="000000"/>
              </a:solidFill>
              <a:latin typeface="Arial"/>
            </a:endParaRPr>
          </a:p>
          <a:p>
            <a:pPr lvl="1" marL="457200" indent="-227160">
              <a:spcBef>
                <a:spcPts val="901"/>
              </a:spcBef>
              <a:spcAft>
                <a:spcPts val="56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t>
            </a:r>
            <a:r>
              <a:rPr b="1" lang="en-US" sz="1800" spc="-1" strike="noStrike">
                <a:solidFill>
                  <a:srgbClr val="7889fb"/>
                </a:solidFill>
                <a:latin typeface="Arial"/>
              </a:rPr>
              <a:t>reduce your costs</a:t>
            </a:r>
            <a:r>
              <a:rPr b="1" lang="en-US" sz="1800" spc="-1" strike="noStrike">
                <a:solidFill>
                  <a:srgbClr val="000000"/>
                </a:solidFill>
                <a:latin typeface="Arial"/>
              </a:rPr>
              <a:t> </a:t>
            </a:r>
            <a:r>
              <a:rPr b="0" lang="en-US" sz="1800" spc="-1" strike="noStrike">
                <a:solidFill>
                  <a:srgbClr val="000000"/>
                </a:solidFill>
                <a:latin typeface="Arial"/>
              </a:rPr>
              <a:t>of development and maintenance and </a:t>
            </a:r>
            <a:endParaRPr b="0" lang="en-US" sz="1800" spc="-1" strike="noStrike">
              <a:solidFill>
                <a:srgbClr val="000000"/>
              </a:solidFill>
              <a:latin typeface="Arial"/>
            </a:endParaRPr>
          </a:p>
          <a:p>
            <a:pPr lvl="1" marL="457200" indent="-227160">
              <a:spcBef>
                <a:spcPts val="901"/>
              </a:spcBef>
              <a:spcAft>
                <a:spcPts val="56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a:t>
            </a:r>
            <a:r>
              <a:rPr b="1" lang="en-US" sz="1800" spc="-1" strike="noStrike">
                <a:solidFill>
                  <a:srgbClr val="7889fb"/>
                </a:solidFill>
                <a:latin typeface="Arial"/>
              </a:rPr>
              <a:t>greater business flexibility</a:t>
            </a:r>
            <a:r>
              <a:rPr b="0" lang="en-US" sz="1800" spc="-1" strike="noStrike">
                <a:solidFill>
                  <a:srgbClr val="000000"/>
                </a:solidFill>
                <a:latin typeface="Arial"/>
              </a:rPr>
              <a:t> by allowing you to make changes to your I.T. with as little disruption as possible. </a:t>
            </a:r>
            <a:endParaRPr b="0" lang="en-US" sz="1800" spc="-1" strike="noStrike">
              <a:solidFill>
                <a:srgbClr val="000000"/>
              </a:solidFill>
              <a:latin typeface="Arial"/>
            </a:endParaRPr>
          </a:p>
          <a:p>
            <a:pPr marL="228600" indent="-228600">
              <a:spcBef>
                <a:spcPts val="1001"/>
              </a:spcBef>
              <a:spcAft>
                <a:spcPts val="6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s ESB is </a:t>
            </a:r>
            <a:r>
              <a:rPr b="1" lang="en-US" sz="2000" spc="-1" strike="noStrike">
                <a:solidFill>
                  <a:srgbClr val="7889fb"/>
                </a:solidFill>
                <a:latin typeface="Arial"/>
              </a:rPr>
              <a:t>better </a:t>
            </a:r>
            <a:r>
              <a:rPr b="0" lang="en-US" sz="2000" spc="-1" strike="noStrike">
                <a:solidFill>
                  <a:srgbClr val="000000"/>
                </a:solidFill>
                <a:latin typeface="Arial"/>
              </a:rPr>
              <a:t>in two ways:</a:t>
            </a:r>
            <a:endParaRPr b="0" lang="en-US" sz="2000" spc="-1" strike="noStrike">
              <a:solidFill>
                <a:srgbClr val="000000"/>
              </a:solidFill>
              <a:latin typeface="Arial"/>
            </a:endParaRPr>
          </a:p>
          <a:p>
            <a:pPr lvl="1" marL="457200" indent="-227160">
              <a:spcBef>
                <a:spcPts val="901"/>
              </a:spcBef>
              <a:spcAft>
                <a:spcPts val="56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s offering are </a:t>
            </a:r>
            <a:r>
              <a:rPr b="1" lang="en-US" sz="1800" spc="-1" strike="noStrike">
                <a:solidFill>
                  <a:srgbClr val="7889fb"/>
                </a:solidFill>
                <a:latin typeface="Arial"/>
              </a:rPr>
              <a:t>more comprehensive</a:t>
            </a:r>
            <a:r>
              <a:rPr b="0" lang="en-US" sz="1800" spc="-1" strike="noStrike">
                <a:solidFill>
                  <a:srgbClr val="000000"/>
                </a:solidFill>
                <a:latin typeface="Arial"/>
              </a:rPr>
              <a:t> and </a:t>
            </a:r>
            <a:endParaRPr b="0" lang="en-US" sz="1800" spc="-1" strike="noStrike">
              <a:solidFill>
                <a:srgbClr val="000000"/>
              </a:solidFill>
              <a:latin typeface="Arial"/>
            </a:endParaRPr>
          </a:p>
          <a:p>
            <a:pPr lvl="1" marL="457200" indent="-227160">
              <a:spcBef>
                <a:spcPts val="901"/>
              </a:spcBef>
              <a:spcAft>
                <a:spcPts val="56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enabling </a:t>
            </a:r>
            <a:r>
              <a:rPr b="1" lang="en-US" sz="1800" spc="-1" strike="noStrike">
                <a:solidFill>
                  <a:srgbClr val="7889fb"/>
                </a:solidFill>
                <a:latin typeface="Arial"/>
              </a:rPr>
              <a:t>every kind of application – not just Web services – to participate in SOA.</a:t>
            </a:r>
            <a:endParaRPr b="0" lang="en-US" sz="1800" spc="-1" strike="noStrike">
              <a:solidFill>
                <a:srgbClr val="000000"/>
              </a:solidFill>
              <a:latin typeface="Arial"/>
            </a:endParaRPr>
          </a:p>
        </p:txBody>
      </p:sp>
      <p:sp>
        <p:nvSpPr>
          <p:cNvPr id="4" name="PlaceHolder 3"/>
          <p:cNvSpPr>
            <a:spLocks noGrp="1"/>
          </p:cNvSpPr>
          <p:nvPr>
            <p:ph type="sldNum" idx="5"/>
          </p:nvPr>
        </p:nvSpPr>
        <p:spPr/>
        <p:txBody>
          <a:bodyPr/>
          <a:p>
            <a:fld id="{560D7A16-90F7-4926-9DAD-CB8D3AAB6D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154080" y="609480"/>
            <a:ext cx="846756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Useful links</a:t>
            </a:r>
            <a:endParaRPr b="0" lang="en-US" sz="2600" spc="-1" strike="noStrike">
              <a:solidFill>
                <a:srgbClr val="ffffff"/>
              </a:solidFill>
              <a:latin typeface="Arial"/>
            </a:endParaRPr>
          </a:p>
        </p:txBody>
      </p:sp>
      <p:sp>
        <p:nvSpPr>
          <p:cNvPr id="2694" name=""/>
          <p:cNvSpPr/>
          <p:nvPr/>
        </p:nvSpPr>
        <p:spPr>
          <a:xfrm>
            <a:off x="304920" y="1071720"/>
            <a:ext cx="8381880" cy="46702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TERNAL</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1"/>
              </a:rPr>
              <a:t>Link to most recent WebSphere ESB &amp; WebSphere Message Broker presentations</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2"/>
              </a:rPr>
              <a:t>Technical Overview for WebSphere ESB</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3"/>
              </a:rPr>
              <a:t>Webcast: Power Your SOA with an ESB </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4"/>
              </a:rPr>
              <a:t>Demo of WebSphere ESB and WebSphere Message Broker</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5"/>
              </a:rPr>
              <a:t>Application Integration landing page</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6"/>
              </a:rPr>
              <a:t>ESB landing page</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7"/>
              </a:rPr>
              <a:t>Link to external Message Broker FAQ</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8"/>
              </a:rPr>
              <a:t>Link to external WebSphere ESB FAQ</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8600" indent="-2286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duct kits  </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9"/>
              </a:rPr>
              <a:t>Message Broker V6 SMI </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Arial"/>
                <a:ea typeface="Arial"/>
                <a:hlinkClick r:id="rId10"/>
              </a:rPr>
              <a:t>WS ESB V6.0.1 SMI</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ebSphere MQ V6 SMI</a:t>
            </a:r>
            <a:endParaRPr b="0" lang="en-US" sz="1400" spc="-1" strike="noStrike">
              <a:solidFill>
                <a:srgbClr val="ffffff"/>
              </a:solidFill>
              <a:latin typeface="Arial"/>
            </a:endParaRPr>
          </a:p>
          <a:p>
            <a:pPr marL="228600" indent="-228600">
              <a:spcBef>
                <a:spcPts val="5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95" name=""/>
          <p:cNvSpPr/>
          <p:nvPr/>
        </p:nvSpPr>
        <p:spPr>
          <a:xfrm>
            <a:off x="5562720" y="4191120"/>
            <a:ext cx="18396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571A0403-8AD8-416A-BEED-D6C26833D5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Key acronyms for this space</a:t>
            </a:r>
            <a:endParaRPr b="0" lang="en-US" sz="2800" spc="-1" strike="noStrike">
              <a:solidFill>
                <a:srgbClr val="7889fb"/>
              </a:solidFill>
              <a:latin typeface="Arial"/>
            </a:endParaRPr>
          </a:p>
        </p:txBody>
      </p:sp>
      <p:sp>
        <p:nvSpPr>
          <p:cNvPr id="2697" name="PlaceHolder 2"/>
          <p:cNvSpPr>
            <a:spLocks noGrp="1"/>
          </p:cNvSpPr>
          <p:nvPr>
            <p:ph/>
          </p:nvPr>
        </p:nvSpPr>
        <p:spPr>
          <a:xfrm>
            <a:off x="785880" y="1376280"/>
            <a:ext cx="3697200" cy="4670640"/>
          </a:xfrm>
          <a:prstGeom prst="rect">
            <a:avLst/>
          </a:prstGeom>
          <a:noFill/>
          <a:ln w="0">
            <a:noFill/>
          </a:ln>
        </p:spPr>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A – Service Oriented Architectur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MS – Java Message Servic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TP – File Transfer Protocol</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FT – Managed File Transfer</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ML – eXtensible Mark-up Languag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AP – Simple Object Access Protocol</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DDI – Universal Description, Discovery and Integration</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SDL – Web Services Description Languag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PEL – Business Process Execution Languag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A – Service Component Architecture</a:t>
            </a:r>
            <a:endParaRPr b="0" lang="en-US" sz="1400" spc="-1" strike="noStrike">
              <a:solidFill>
                <a:srgbClr val="000000"/>
              </a:solidFill>
              <a:latin typeface="Arial"/>
            </a:endParaRPr>
          </a:p>
        </p:txBody>
      </p:sp>
      <p:sp>
        <p:nvSpPr>
          <p:cNvPr id="2698" name="PlaceHolder 3"/>
          <p:cNvSpPr>
            <a:spLocks noGrp="1"/>
          </p:cNvSpPr>
          <p:nvPr>
            <p:ph/>
          </p:nvPr>
        </p:nvSpPr>
        <p:spPr>
          <a:xfrm>
            <a:off x="4635000" y="1376280"/>
            <a:ext cx="3699000" cy="4670640"/>
          </a:xfrm>
          <a:prstGeom prst="rect">
            <a:avLst/>
          </a:prstGeom>
          <a:noFill/>
          <a:ln w="0">
            <a:noFill/>
          </a:ln>
        </p:spPr>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ADA – Supervisory Control and Data Acquisition</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DBC – Java Database Connectivity</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M – Message Oriented Middlewar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VM – Java Virtual Machine</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2EE – Java 2 Platform Enterprise Edition</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GM – Pragmatic General Multicast</a:t>
            </a: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24707786-1091-4D49-8FEA-656F80728603}"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254400" y="187632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3790800" y="28828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1403280" y="410832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6" name=""/>
          <p:cNvGrpSpPr/>
          <p:nvPr/>
        </p:nvGrpSpPr>
        <p:grpSpPr>
          <a:xfrm>
            <a:off x="3530520" y="1805040"/>
            <a:ext cx="5307120" cy="4184640"/>
            <a:chOff x="3530520" y="1805040"/>
            <a:chExt cx="5307120" cy="4184640"/>
          </a:xfrm>
        </p:grpSpPr>
        <p:sp>
          <p:nvSpPr>
            <p:cNvPr id="347" name=""/>
            <p:cNvSpPr/>
            <p:nvPr/>
          </p:nvSpPr>
          <p:spPr>
            <a:xfrm>
              <a:off x="3591000" y="5621400"/>
              <a:ext cx="51991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Actual application topology for a company</a:t>
              </a:r>
              <a:endParaRPr b="0" lang="en-US" sz="1800" spc="-1" strike="noStrike">
                <a:solidFill>
                  <a:srgbClr val="ffffff"/>
                </a:solidFill>
                <a:latin typeface="Arial"/>
              </a:endParaRPr>
            </a:p>
          </p:txBody>
        </p:sp>
        <p:grpSp>
          <p:nvGrpSpPr>
            <p:cNvPr id="348" name=""/>
            <p:cNvGrpSpPr/>
            <p:nvPr/>
          </p:nvGrpSpPr>
          <p:grpSpPr>
            <a:xfrm>
              <a:off x="3530520" y="1805040"/>
              <a:ext cx="5307120" cy="3859200"/>
              <a:chOff x="3530520" y="1805040"/>
              <a:chExt cx="5307120" cy="3859200"/>
            </a:xfrm>
          </p:grpSpPr>
          <p:sp>
            <p:nvSpPr>
              <p:cNvPr id="349" name=""/>
              <p:cNvSpPr/>
              <p:nvPr/>
            </p:nvSpPr>
            <p:spPr>
              <a:xfrm>
                <a:off x="3530520" y="1805040"/>
                <a:ext cx="5307120" cy="38592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73240" y="2837520"/>
                <a:ext cx="207360" cy="13212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624360" y="2886840"/>
                <a:ext cx="78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DFK</a:t>
                </a:r>
                <a:endParaRPr b="0" lang="en-US" sz="300" spc="-1" strike="noStrike">
                  <a:solidFill>
                    <a:srgbClr val="ffffff"/>
                  </a:solidFill>
                  <a:latin typeface="Arial"/>
                </a:endParaRPr>
              </a:p>
            </p:txBody>
          </p:sp>
          <p:sp>
            <p:nvSpPr>
              <p:cNvPr id="352" name=""/>
              <p:cNvSpPr/>
              <p:nvPr/>
            </p:nvSpPr>
            <p:spPr>
              <a:xfrm>
                <a:off x="3750480" y="5142960"/>
                <a:ext cx="337680" cy="327240"/>
              </a:xfrm>
              <a:custGeom>
                <a:avLst/>
                <a:gdLst/>
                <a:ahLst/>
                <a:rect l="l" t="t" r="r" b="b"/>
                <a:pathLst>
                  <a:path w="319" h="245">
                    <a:moveTo>
                      <a:pt x="0" y="31"/>
                    </a:moveTo>
                    <a:lnTo>
                      <a:pt x="0" y="214"/>
                    </a:lnTo>
                    <a:lnTo>
                      <a:pt x="0" y="216"/>
                    </a:lnTo>
                    <a:lnTo>
                      <a:pt x="1" y="218"/>
                    </a:lnTo>
                    <a:lnTo>
                      <a:pt x="3" y="220"/>
                    </a:lnTo>
                    <a:lnTo>
                      <a:pt x="5" y="222"/>
                    </a:lnTo>
                    <a:lnTo>
                      <a:pt x="9" y="224"/>
                    </a:lnTo>
                    <a:lnTo>
                      <a:pt x="12" y="226"/>
                    </a:lnTo>
                    <a:lnTo>
                      <a:pt x="17" y="228"/>
                    </a:lnTo>
                    <a:lnTo>
                      <a:pt x="22" y="229"/>
                    </a:lnTo>
                    <a:lnTo>
                      <a:pt x="28" y="231"/>
                    </a:lnTo>
                    <a:lnTo>
                      <a:pt x="34" y="233"/>
                    </a:lnTo>
                    <a:lnTo>
                      <a:pt x="41" y="234"/>
                    </a:lnTo>
                    <a:lnTo>
                      <a:pt x="48" y="236"/>
                    </a:lnTo>
                    <a:lnTo>
                      <a:pt x="56" y="237"/>
                    </a:lnTo>
                    <a:lnTo>
                      <a:pt x="65" y="239"/>
                    </a:lnTo>
                    <a:lnTo>
                      <a:pt x="73" y="240"/>
                    </a:lnTo>
                    <a:lnTo>
                      <a:pt x="83" y="241"/>
                    </a:lnTo>
                    <a:lnTo>
                      <a:pt x="92" y="242"/>
                    </a:lnTo>
                    <a:lnTo>
                      <a:pt x="102" y="243"/>
                    </a:lnTo>
                    <a:lnTo>
                      <a:pt x="112" y="243"/>
                    </a:lnTo>
                    <a:lnTo>
                      <a:pt x="122" y="244"/>
                    </a:lnTo>
                    <a:lnTo>
                      <a:pt x="133" y="244"/>
                    </a:lnTo>
                    <a:lnTo>
                      <a:pt x="143" y="244"/>
                    </a:lnTo>
                    <a:lnTo>
                      <a:pt x="154" y="245"/>
                    </a:lnTo>
                    <a:lnTo>
                      <a:pt x="165" y="245"/>
                    </a:lnTo>
                    <a:lnTo>
                      <a:pt x="175" y="244"/>
                    </a:lnTo>
                    <a:lnTo>
                      <a:pt x="186" y="244"/>
                    </a:lnTo>
                    <a:lnTo>
                      <a:pt x="196" y="244"/>
                    </a:lnTo>
                    <a:lnTo>
                      <a:pt x="207" y="243"/>
                    </a:lnTo>
                    <a:lnTo>
                      <a:pt x="217" y="243"/>
                    </a:lnTo>
                    <a:lnTo>
                      <a:pt x="227" y="242"/>
                    </a:lnTo>
                    <a:lnTo>
                      <a:pt x="236" y="241"/>
                    </a:lnTo>
                    <a:lnTo>
                      <a:pt x="245" y="240"/>
                    </a:lnTo>
                    <a:lnTo>
                      <a:pt x="254" y="239"/>
                    </a:lnTo>
                    <a:lnTo>
                      <a:pt x="262" y="237"/>
                    </a:lnTo>
                    <a:lnTo>
                      <a:pt x="270" y="236"/>
                    </a:lnTo>
                    <a:lnTo>
                      <a:pt x="278" y="234"/>
                    </a:lnTo>
                    <a:lnTo>
                      <a:pt x="285" y="233"/>
                    </a:lnTo>
                    <a:lnTo>
                      <a:pt x="291" y="231"/>
                    </a:lnTo>
                    <a:lnTo>
                      <a:pt x="297" y="229"/>
                    </a:lnTo>
                    <a:lnTo>
                      <a:pt x="302" y="228"/>
                    </a:lnTo>
                    <a:lnTo>
                      <a:pt x="306" y="226"/>
                    </a:lnTo>
                    <a:lnTo>
                      <a:pt x="310" y="224"/>
                    </a:lnTo>
                    <a:lnTo>
                      <a:pt x="313" y="222"/>
                    </a:lnTo>
                    <a:lnTo>
                      <a:pt x="316" y="220"/>
                    </a:lnTo>
                    <a:lnTo>
                      <a:pt x="318" y="218"/>
                    </a:lnTo>
                    <a:lnTo>
                      <a:pt x="319" y="216"/>
                    </a:lnTo>
                    <a:lnTo>
                      <a:pt x="319" y="214"/>
                    </a:lnTo>
                    <a:lnTo>
                      <a:pt x="319" y="31"/>
                    </a:lnTo>
                    <a:lnTo>
                      <a:pt x="319" y="29"/>
                    </a:lnTo>
                    <a:lnTo>
                      <a:pt x="318" y="27"/>
                    </a:lnTo>
                    <a:lnTo>
                      <a:pt x="316" y="25"/>
                    </a:lnTo>
                    <a:lnTo>
                      <a:pt x="313" y="23"/>
                    </a:lnTo>
                    <a:lnTo>
                      <a:pt x="310" y="21"/>
                    </a:lnTo>
                    <a:lnTo>
                      <a:pt x="306" y="19"/>
                    </a:lnTo>
                    <a:lnTo>
                      <a:pt x="302" y="17"/>
                    </a:lnTo>
                    <a:lnTo>
                      <a:pt x="297" y="15"/>
                    </a:lnTo>
                    <a:lnTo>
                      <a:pt x="291" y="14"/>
                    </a:lnTo>
                    <a:lnTo>
                      <a:pt x="285" y="12"/>
                    </a:lnTo>
                    <a:lnTo>
                      <a:pt x="278" y="10"/>
                    </a:lnTo>
                    <a:lnTo>
                      <a:pt x="270" y="9"/>
                    </a:lnTo>
                    <a:lnTo>
                      <a:pt x="262" y="7"/>
                    </a:lnTo>
                    <a:lnTo>
                      <a:pt x="254" y="6"/>
                    </a:lnTo>
                    <a:lnTo>
                      <a:pt x="245" y="5"/>
                    </a:lnTo>
                    <a:lnTo>
                      <a:pt x="236" y="4"/>
                    </a:lnTo>
                    <a:lnTo>
                      <a:pt x="227" y="3"/>
                    </a:lnTo>
                    <a:lnTo>
                      <a:pt x="217" y="2"/>
                    </a:lnTo>
                    <a:lnTo>
                      <a:pt x="207" y="2"/>
                    </a:lnTo>
                    <a:lnTo>
                      <a:pt x="196" y="1"/>
                    </a:lnTo>
                    <a:lnTo>
                      <a:pt x="186" y="1"/>
                    </a:lnTo>
                    <a:lnTo>
                      <a:pt x="175" y="0"/>
                    </a:lnTo>
                    <a:lnTo>
                      <a:pt x="165" y="0"/>
                    </a:lnTo>
                    <a:lnTo>
                      <a:pt x="154" y="0"/>
                    </a:lnTo>
                    <a:lnTo>
                      <a:pt x="143" y="0"/>
                    </a:lnTo>
                    <a:lnTo>
                      <a:pt x="133" y="1"/>
                    </a:lnTo>
                    <a:lnTo>
                      <a:pt x="122" y="1"/>
                    </a:lnTo>
                    <a:lnTo>
                      <a:pt x="112" y="2"/>
                    </a:lnTo>
                    <a:lnTo>
                      <a:pt x="102" y="2"/>
                    </a:lnTo>
                    <a:lnTo>
                      <a:pt x="92" y="3"/>
                    </a:lnTo>
                    <a:lnTo>
                      <a:pt x="83" y="4"/>
                    </a:lnTo>
                    <a:lnTo>
                      <a:pt x="73" y="5"/>
                    </a:lnTo>
                    <a:lnTo>
                      <a:pt x="65" y="6"/>
                    </a:lnTo>
                    <a:lnTo>
                      <a:pt x="56" y="7"/>
                    </a:lnTo>
                    <a:lnTo>
                      <a:pt x="48" y="9"/>
                    </a:lnTo>
                    <a:lnTo>
                      <a:pt x="41" y="10"/>
                    </a:lnTo>
                    <a:lnTo>
                      <a:pt x="34" y="12"/>
                    </a:lnTo>
                    <a:lnTo>
                      <a:pt x="28" y="14"/>
                    </a:lnTo>
                    <a:lnTo>
                      <a:pt x="22" y="15"/>
                    </a:lnTo>
                    <a:lnTo>
                      <a:pt x="17" y="17"/>
                    </a:lnTo>
                    <a:lnTo>
                      <a:pt x="12" y="19"/>
                    </a:lnTo>
                    <a:lnTo>
                      <a:pt x="9" y="21"/>
                    </a:lnTo>
                    <a:lnTo>
                      <a:pt x="5" y="23"/>
                    </a:lnTo>
                    <a:lnTo>
                      <a:pt x="3" y="25"/>
                    </a:lnTo>
                    <a:lnTo>
                      <a:pt x="1" y="27"/>
                    </a:lnTo>
                    <a:lnTo>
                      <a:pt x="0" y="29"/>
                    </a:lnTo>
                    <a:lnTo>
                      <a:pt x="0" y="31"/>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750480" y="5184720"/>
                <a:ext cx="337680" cy="41400"/>
              </a:xfrm>
              <a:custGeom>
                <a:avLst/>
                <a:gdLst/>
                <a:ahLst/>
                <a:rect l="l" t="t" r="r" b="b"/>
                <a:pathLst>
                  <a:path w="319" h="31">
                    <a:moveTo>
                      <a:pt x="0" y="0"/>
                    </a:moveTo>
                    <a:lnTo>
                      <a:pt x="0" y="2"/>
                    </a:lnTo>
                    <a:lnTo>
                      <a:pt x="1" y="4"/>
                    </a:lnTo>
                    <a:lnTo>
                      <a:pt x="3" y="6"/>
                    </a:lnTo>
                    <a:lnTo>
                      <a:pt x="5" y="8"/>
                    </a:lnTo>
                    <a:lnTo>
                      <a:pt x="9" y="10"/>
                    </a:lnTo>
                    <a:lnTo>
                      <a:pt x="12" y="12"/>
                    </a:lnTo>
                    <a:lnTo>
                      <a:pt x="17" y="14"/>
                    </a:lnTo>
                    <a:lnTo>
                      <a:pt x="22" y="16"/>
                    </a:lnTo>
                    <a:lnTo>
                      <a:pt x="28" y="17"/>
                    </a:lnTo>
                    <a:lnTo>
                      <a:pt x="34" y="19"/>
                    </a:lnTo>
                    <a:lnTo>
                      <a:pt x="41" y="21"/>
                    </a:lnTo>
                    <a:lnTo>
                      <a:pt x="48" y="22"/>
                    </a:lnTo>
                    <a:lnTo>
                      <a:pt x="56" y="24"/>
                    </a:lnTo>
                    <a:lnTo>
                      <a:pt x="65" y="25"/>
                    </a:lnTo>
                    <a:lnTo>
                      <a:pt x="73" y="26"/>
                    </a:lnTo>
                    <a:lnTo>
                      <a:pt x="83" y="27"/>
                    </a:lnTo>
                    <a:lnTo>
                      <a:pt x="92" y="28"/>
                    </a:lnTo>
                    <a:lnTo>
                      <a:pt x="102" y="29"/>
                    </a:lnTo>
                    <a:lnTo>
                      <a:pt x="112" y="29"/>
                    </a:lnTo>
                    <a:lnTo>
                      <a:pt x="122" y="30"/>
                    </a:lnTo>
                    <a:lnTo>
                      <a:pt x="133" y="30"/>
                    </a:lnTo>
                    <a:lnTo>
                      <a:pt x="143" y="31"/>
                    </a:lnTo>
                    <a:lnTo>
                      <a:pt x="154" y="31"/>
                    </a:lnTo>
                    <a:lnTo>
                      <a:pt x="165" y="31"/>
                    </a:lnTo>
                    <a:lnTo>
                      <a:pt x="175" y="31"/>
                    </a:lnTo>
                    <a:lnTo>
                      <a:pt x="186" y="30"/>
                    </a:lnTo>
                    <a:lnTo>
                      <a:pt x="196" y="30"/>
                    </a:lnTo>
                    <a:lnTo>
                      <a:pt x="207" y="29"/>
                    </a:lnTo>
                    <a:lnTo>
                      <a:pt x="217" y="29"/>
                    </a:lnTo>
                    <a:lnTo>
                      <a:pt x="227" y="28"/>
                    </a:lnTo>
                    <a:lnTo>
                      <a:pt x="236" y="27"/>
                    </a:lnTo>
                    <a:lnTo>
                      <a:pt x="245" y="26"/>
                    </a:lnTo>
                    <a:lnTo>
                      <a:pt x="254" y="25"/>
                    </a:lnTo>
                    <a:lnTo>
                      <a:pt x="262" y="24"/>
                    </a:lnTo>
                    <a:lnTo>
                      <a:pt x="270" y="22"/>
                    </a:lnTo>
                    <a:lnTo>
                      <a:pt x="278" y="21"/>
                    </a:lnTo>
                    <a:lnTo>
                      <a:pt x="285" y="19"/>
                    </a:lnTo>
                    <a:lnTo>
                      <a:pt x="291" y="17"/>
                    </a:lnTo>
                    <a:lnTo>
                      <a:pt x="297" y="16"/>
                    </a:lnTo>
                    <a:lnTo>
                      <a:pt x="302" y="14"/>
                    </a:lnTo>
                    <a:lnTo>
                      <a:pt x="306" y="12"/>
                    </a:lnTo>
                    <a:lnTo>
                      <a:pt x="310" y="10"/>
                    </a:lnTo>
                    <a:lnTo>
                      <a:pt x="313" y="8"/>
                    </a:lnTo>
                    <a:lnTo>
                      <a:pt x="316" y="6"/>
                    </a:lnTo>
                    <a:lnTo>
                      <a:pt x="318" y="4"/>
                    </a:lnTo>
                    <a:lnTo>
                      <a:pt x="319" y="2"/>
                    </a:lnTo>
                    <a:lnTo>
                      <a:pt x="3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54" name=""/>
              <p:cNvSpPr/>
              <p:nvPr/>
            </p:nvSpPr>
            <p:spPr>
              <a:xfrm>
                <a:off x="3806640" y="5265000"/>
                <a:ext cx="299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Data Warehouse</a:t>
                </a:r>
                <a:endParaRPr b="0" lang="en-US" sz="300" spc="-1" strike="noStrike">
                  <a:solidFill>
                    <a:srgbClr val="ffffff"/>
                  </a:solidFill>
                  <a:latin typeface="Arial"/>
                </a:endParaRPr>
              </a:p>
            </p:txBody>
          </p:sp>
          <p:sp>
            <p:nvSpPr>
              <p:cNvPr id="355" name=""/>
              <p:cNvSpPr/>
              <p:nvPr/>
            </p:nvSpPr>
            <p:spPr>
              <a:xfrm>
                <a:off x="4755240" y="4232160"/>
                <a:ext cx="248400" cy="165600"/>
              </a:xfrm>
              <a:prstGeom prst="rect">
                <a:avLst/>
              </a:pr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784760" y="4281480"/>
                <a:ext cx="153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General</a:t>
                </a:r>
                <a:endParaRPr b="0" lang="en-US" sz="300" spc="-1" strike="noStrike">
                  <a:solidFill>
                    <a:srgbClr val="ffffff"/>
                  </a:solidFill>
                  <a:latin typeface="Arial"/>
                </a:endParaRPr>
              </a:p>
            </p:txBody>
          </p:sp>
          <p:sp>
            <p:nvSpPr>
              <p:cNvPr id="357" name=""/>
              <p:cNvSpPr/>
              <p:nvPr/>
            </p:nvSpPr>
            <p:spPr>
              <a:xfrm>
                <a:off x="4829400" y="4314960"/>
                <a:ext cx="12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Ledger</a:t>
                </a:r>
                <a:endParaRPr b="0" lang="en-US" sz="300" spc="-1" strike="noStrike">
                  <a:solidFill>
                    <a:srgbClr val="ffffff"/>
                  </a:solidFill>
                  <a:latin typeface="Arial"/>
                </a:endParaRPr>
              </a:p>
            </p:txBody>
          </p:sp>
          <p:sp>
            <p:nvSpPr>
              <p:cNvPr id="358" name=""/>
              <p:cNvSpPr/>
              <p:nvPr/>
            </p:nvSpPr>
            <p:spPr>
              <a:xfrm>
                <a:off x="4887360" y="4718520"/>
                <a:ext cx="459360" cy="205560"/>
              </a:xfrm>
              <a:prstGeom prst="rect">
                <a:avLst/>
              </a:pr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058360" y="480096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AP</a:t>
                </a:r>
                <a:endParaRPr b="0" lang="en-US" sz="300" spc="-1" strike="noStrike">
                  <a:solidFill>
                    <a:srgbClr val="ffffff"/>
                  </a:solidFill>
                  <a:latin typeface="Arial"/>
                </a:endParaRPr>
              </a:p>
            </p:txBody>
          </p:sp>
          <p:sp>
            <p:nvSpPr>
              <p:cNvPr id="360" name=""/>
              <p:cNvSpPr/>
              <p:nvPr/>
            </p:nvSpPr>
            <p:spPr>
              <a:xfrm>
                <a:off x="5840280" y="2203200"/>
                <a:ext cx="329040" cy="104040"/>
              </a:xfrm>
              <a:prstGeom prst="rect">
                <a:avLst/>
              </a:pr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925960" y="2224440"/>
                <a:ext cx="101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ales</a:t>
                </a:r>
                <a:endParaRPr b="0" lang="en-US" sz="300" spc="-1" strike="noStrike">
                  <a:solidFill>
                    <a:srgbClr val="ffffff"/>
                  </a:solidFill>
                  <a:latin typeface="Arial"/>
                </a:endParaRPr>
              </a:p>
            </p:txBody>
          </p:sp>
          <p:sp>
            <p:nvSpPr>
              <p:cNvPr id="362" name=""/>
              <p:cNvSpPr/>
              <p:nvPr/>
            </p:nvSpPr>
            <p:spPr>
              <a:xfrm>
                <a:off x="5922360" y="2253960"/>
                <a:ext cx="214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rrections</a:t>
                </a:r>
                <a:endParaRPr b="0" lang="en-US" sz="300" spc="-1" strike="noStrike">
                  <a:solidFill>
                    <a:srgbClr val="ffffff"/>
                  </a:solidFill>
                  <a:latin typeface="Arial"/>
                </a:endParaRPr>
              </a:p>
            </p:txBody>
          </p:sp>
          <p:sp>
            <p:nvSpPr>
              <p:cNvPr id="363" name=""/>
              <p:cNvSpPr/>
              <p:nvPr/>
            </p:nvSpPr>
            <p:spPr>
              <a:xfrm>
                <a:off x="7563960" y="3696480"/>
                <a:ext cx="271800" cy="94680"/>
              </a:xfrm>
              <a:prstGeom prst="rect">
                <a:avLst/>
              </a:prstGeom>
              <a:blipFill rotWithShape="0">
                <a:blip r:embed="rId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651440" y="3709800"/>
                <a:ext cx="55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a:t>
                </a:r>
                <a:endParaRPr b="0" lang="en-US" sz="300" spc="-1" strike="noStrike">
                  <a:solidFill>
                    <a:srgbClr val="ffffff"/>
                  </a:solidFill>
                  <a:latin typeface="Arial"/>
                </a:endParaRPr>
              </a:p>
            </p:txBody>
          </p:sp>
          <p:sp>
            <p:nvSpPr>
              <p:cNvPr id="365" name=""/>
              <p:cNvSpPr/>
              <p:nvPr/>
            </p:nvSpPr>
            <p:spPr>
              <a:xfrm>
                <a:off x="7630200" y="3743280"/>
                <a:ext cx="180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ceiving</a:t>
                </a:r>
                <a:endParaRPr b="0" lang="en-US" sz="300" spc="-1" strike="noStrike">
                  <a:solidFill>
                    <a:srgbClr val="ffffff"/>
                  </a:solidFill>
                  <a:latin typeface="Arial"/>
                </a:endParaRPr>
              </a:p>
            </p:txBody>
          </p:sp>
          <p:sp>
            <p:nvSpPr>
              <p:cNvPr id="366" name=""/>
              <p:cNvSpPr/>
              <p:nvPr/>
            </p:nvSpPr>
            <p:spPr>
              <a:xfrm>
                <a:off x="6855840" y="2586240"/>
                <a:ext cx="226440" cy="102960"/>
              </a:xfrm>
              <a:prstGeom prst="rect">
                <a:avLst/>
              </a:prstGeom>
              <a:blipFill rotWithShape="0">
                <a:blip r:embed="rId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6882480" y="2606400"/>
                <a:ext cx="168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turn to</a:t>
                </a:r>
                <a:endParaRPr b="0" lang="en-US" sz="300" spc="-1" strike="noStrike">
                  <a:solidFill>
                    <a:srgbClr val="ffffff"/>
                  </a:solidFill>
                  <a:latin typeface="Arial"/>
                </a:endParaRPr>
              </a:p>
            </p:txBody>
          </p:sp>
          <p:sp>
            <p:nvSpPr>
              <p:cNvPr id="368" name=""/>
              <p:cNvSpPr/>
              <p:nvPr/>
            </p:nvSpPr>
            <p:spPr>
              <a:xfrm>
                <a:off x="6921720" y="2637360"/>
                <a:ext cx="131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Vendor</a:t>
                </a:r>
                <a:endParaRPr b="0" lang="en-US" sz="300" spc="-1" strike="noStrike">
                  <a:solidFill>
                    <a:srgbClr val="ffffff"/>
                  </a:solidFill>
                  <a:latin typeface="Arial"/>
                </a:endParaRPr>
              </a:p>
            </p:txBody>
          </p:sp>
          <p:sp>
            <p:nvSpPr>
              <p:cNvPr id="369" name=""/>
              <p:cNvSpPr/>
              <p:nvPr/>
            </p:nvSpPr>
            <p:spPr>
              <a:xfrm>
                <a:off x="8209800" y="2261880"/>
                <a:ext cx="323640" cy="157320"/>
              </a:xfrm>
              <a:prstGeom prst="rect">
                <a:avLst/>
              </a:prstGeom>
              <a:blipFill rotWithShape="0">
                <a:blip r:embed="rId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270280" y="2307240"/>
                <a:ext cx="206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Warehouse</a:t>
                </a:r>
                <a:endParaRPr b="0" lang="en-US" sz="300" spc="-1" strike="noStrike">
                  <a:solidFill>
                    <a:srgbClr val="ffffff"/>
                  </a:solidFill>
                  <a:latin typeface="Arial"/>
                </a:endParaRPr>
              </a:p>
            </p:txBody>
          </p:sp>
          <p:sp>
            <p:nvSpPr>
              <p:cNvPr id="371" name=""/>
              <p:cNvSpPr/>
              <p:nvPr/>
            </p:nvSpPr>
            <p:spPr>
              <a:xfrm>
                <a:off x="8285040" y="2343600"/>
                <a:ext cx="232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nagement</a:t>
                </a:r>
                <a:endParaRPr b="0" lang="en-US" sz="300" spc="-1" strike="noStrike">
                  <a:solidFill>
                    <a:srgbClr val="ffffff"/>
                  </a:solidFill>
                  <a:latin typeface="Arial"/>
                </a:endParaRPr>
              </a:p>
            </p:txBody>
          </p:sp>
          <p:sp>
            <p:nvSpPr>
              <p:cNvPr id="372" name=""/>
              <p:cNvSpPr/>
              <p:nvPr/>
            </p:nvSpPr>
            <p:spPr>
              <a:xfrm>
                <a:off x="4488480" y="2482200"/>
                <a:ext cx="38880" cy="691560"/>
              </a:xfrm>
              <a:custGeom>
                <a:avLst/>
                <a:gdLst/>
                <a:ahLst/>
                <a:rect l="l" t="t" r="r" b="b"/>
                <a:pathLst>
                  <a:path w="37" h="518">
                    <a:moveTo>
                      <a:pt x="0" y="0"/>
                    </a:moveTo>
                    <a:lnTo>
                      <a:pt x="37" y="0"/>
                    </a:lnTo>
                    <a:lnTo>
                      <a:pt x="37" y="518"/>
                    </a:lnTo>
                    <a:lnTo>
                      <a:pt x="28" y="5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4505400" y="3167280"/>
                <a:ext cx="1476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74" name=""/>
              <p:cNvSpPr/>
              <p:nvPr/>
            </p:nvSpPr>
            <p:spPr>
              <a:xfrm>
                <a:off x="4061880" y="2705400"/>
                <a:ext cx="150120" cy="433800"/>
              </a:xfrm>
              <a:custGeom>
                <a:avLst/>
                <a:gdLst/>
                <a:ahLst/>
                <a:rect l="l" t="t" r="r" b="b"/>
                <a:pathLst>
                  <a:path w="142" h="325">
                    <a:moveTo>
                      <a:pt x="142" y="0"/>
                    </a:moveTo>
                    <a:lnTo>
                      <a:pt x="142" y="15"/>
                    </a:lnTo>
                    <a:lnTo>
                      <a:pt x="0" y="15"/>
                    </a:lnTo>
                    <a:lnTo>
                      <a:pt x="0" y="325"/>
                    </a:lnTo>
                    <a:lnTo>
                      <a:pt x="92" y="325"/>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157280" y="313416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76" name=""/>
              <p:cNvSpPr/>
              <p:nvPr/>
            </p:nvSpPr>
            <p:spPr>
              <a:xfrm>
                <a:off x="3836160" y="2960640"/>
                <a:ext cx="322560" cy="147960"/>
              </a:xfrm>
              <a:custGeom>
                <a:avLst/>
                <a:gdLst/>
                <a:ahLst/>
                <a:rect l="l" t="t" r="r" b="b"/>
                <a:pathLst>
                  <a:path w="305" h="111">
                    <a:moveTo>
                      <a:pt x="0" y="0"/>
                    </a:moveTo>
                    <a:lnTo>
                      <a:pt x="0" y="23"/>
                    </a:lnTo>
                    <a:lnTo>
                      <a:pt x="76" y="23"/>
                    </a:lnTo>
                    <a:lnTo>
                      <a:pt x="76" y="111"/>
                    </a:lnTo>
                    <a:lnTo>
                      <a:pt x="208" y="111"/>
                    </a:lnTo>
                    <a:lnTo>
                      <a:pt x="209" y="110"/>
                    </a:lnTo>
                    <a:lnTo>
                      <a:pt x="210" y="109"/>
                    </a:lnTo>
                    <a:lnTo>
                      <a:pt x="211" y="108"/>
                    </a:lnTo>
                    <a:lnTo>
                      <a:pt x="213" y="108"/>
                    </a:lnTo>
                    <a:lnTo>
                      <a:pt x="214" y="108"/>
                    </a:lnTo>
                    <a:lnTo>
                      <a:pt x="216" y="109"/>
                    </a:lnTo>
                    <a:lnTo>
                      <a:pt x="217" y="110"/>
                    </a:lnTo>
                    <a:lnTo>
                      <a:pt x="217" y="111"/>
                    </a:lnTo>
                    <a:lnTo>
                      <a:pt x="305" y="1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830040" y="2948400"/>
                <a:ext cx="12600" cy="14760"/>
              </a:xfrm>
              <a:custGeom>
                <a:avLst/>
                <a:gdLst/>
                <a:ahLst/>
                <a:rect l="l" t="t" r="r" b="b"/>
                <a:pathLst>
                  <a:path w="12" h="11">
                    <a:moveTo>
                      <a:pt x="0" y="9"/>
                    </a:moveTo>
                    <a:lnTo>
                      <a:pt x="6" y="0"/>
                    </a:lnTo>
                    <a:lnTo>
                      <a:pt x="12" y="9"/>
                    </a:lnTo>
                    <a:lnTo>
                      <a:pt x="9" y="10"/>
                    </a:lnTo>
                    <a:lnTo>
                      <a:pt x="6" y="11"/>
                    </a:lnTo>
                    <a:lnTo>
                      <a:pt x="3" y="10"/>
                    </a:lnTo>
                    <a:lnTo>
                      <a:pt x="0"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78" name=""/>
              <p:cNvSpPr/>
              <p:nvPr/>
            </p:nvSpPr>
            <p:spPr>
              <a:xfrm>
                <a:off x="4157280" y="310212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379" name=""/>
              <p:cNvSpPr/>
              <p:nvPr/>
            </p:nvSpPr>
            <p:spPr>
              <a:xfrm>
                <a:off x="7603200" y="2614680"/>
                <a:ext cx="288720" cy="99720"/>
              </a:xfrm>
              <a:prstGeom prst="rect">
                <a:avLst/>
              </a:prstGeom>
              <a:blipFill rotWithShape="0">
                <a:blip r:embed="rId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637760" y="2646720"/>
                <a:ext cx="194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redit App</a:t>
                </a:r>
                <a:endParaRPr b="0" lang="en-US" sz="300" spc="-1" strike="noStrike">
                  <a:solidFill>
                    <a:srgbClr val="ffffff"/>
                  </a:solidFill>
                  <a:latin typeface="Arial"/>
                </a:endParaRPr>
              </a:p>
            </p:txBody>
          </p:sp>
          <p:sp>
            <p:nvSpPr>
              <p:cNvPr id="381" name=""/>
              <p:cNvSpPr/>
              <p:nvPr/>
            </p:nvSpPr>
            <p:spPr>
              <a:xfrm>
                <a:off x="4289400" y="3045960"/>
                <a:ext cx="720" cy="46440"/>
              </a:xfrm>
              <a:custGeom>
                <a:avLst/>
                <a:gdLst/>
                <a:ahLst/>
                <a:rect l="l" t="t" r="r" b="b"/>
                <a:pathLst>
                  <a:path w="1" h="35">
                    <a:moveTo>
                      <a:pt x="1" y="0"/>
                    </a:moveTo>
                    <a:lnTo>
                      <a:pt x="1" y="7"/>
                    </a:lnTo>
                    <a:lnTo>
                      <a:pt x="0" y="7"/>
                    </a:lnTo>
                    <a:lnTo>
                      <a:pt x="0" y="35"/>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82" name=""/>
              <p:cNvSpPr/>
              <p:nvPr/>
            </p:nvSpPr>
            <p:spPr>
              <a:xfrm>
                <a:off x="4284360" y="30337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383" name=""/>
              <p:cNvSpPr/>
              <p:nvPr/>
            </p:nvSpPr>
            <p:spPr>
              <a:xfrm>
                <a:off x="4282920" y="30913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84" name=""/>
              <p:cNvSpPr/>
              <p:nvPr/>
            </p:nvSpPr>
            <p:spPr>
              <a:xfrm>
                <a:off x="4161240" y="2768040"/>
                <a:ext cx="277200" cy="125280"/>
              </a:xfrm>
              <a:prstGeom prst="rect">
                <a:avLst/>
              </a:pr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169160" y="2796120"/>
                <a:ext cx="191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Employee</a:t>
                </a:r>
                <a:endParaRPr b="0" lang="en-US" sz="300" spc="-1" strike="noStrike">
                  <a:solidFill>
                    <a:srgbClr val="ffffff"/>
                  </a:solidFill>
                  <a:latin typeface="Arial"/>
                </a:endParaRPr>
              </a:p>
            </p:txBody>
          </p:sp>
          <p:sp>
            <p:nvSpPr>
              <p:cNvPr id="386" name=""/>
              <p:cNvSpPr/>
              <p:nvPr/>
            </p:nvSpPr>
            <p:spPr>
              <a:xfrm>
                <a:off x="4201560" y="2829600"/>
                <a:ext cx="26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hange Notice</a:t>
                </a:r>
                <a:endParaRPr b="0" lang="en-US" sz="300" spc="-1" strike="noStrike">
                  <a:solidFill>
                    <a:srgbClr val="ffffff"/>
                  </a:solidFill>
                  <a:latin typeface="Arial"/>
                </a:endParaRPr>
              </a:p>
            </p:txBody>
          </p:sp>
          <p:sp>
            <p:nvSpPr>
              <p:cNvPr id="387" name=""/>
              <p:cNvSpPr/>
              <p:nvPr/>
            </p:nvSpPr>
            <p:spPr>
              <a:xfrm>
                <a:off x="7075800" y="4953600"/>
                <a:ext cx="339840" cy="132120"/>
              </a:xfrm>
              <a:prstGeom prst="rect">
                <a:avLst/>
              </a:pr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144920" y="4956120"/>
                <a:ext cx="23220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u="sng">
                    <a:solidFill>
                      <a:srgbClr val="000000"/>
                    </a:solidFill>
                    <a:uFillTx/>
                    <a:latin typeface="Arial"/>
                    <a:ea typeface="Arial"/>
                  </a:rPr>
                  <a:t>OTHER  APPS - PC</a:t>
                </a:r>
                <a:endParaRPr b="0" lang="en-US" sz="200" spc="-1" strike="noStrike">
                  <a:solidFill>
                    <a:srgbClr val="ffffff"/>
                  </a:solidFill>
                  <a:latin typeface="Arial"/>
                </a:endParaRPr>
              </a:p>
            </p:txBody>
          </p:sp>
          <p:sp>
            <p:nvSpPr>
              <p:cNvPr id="389" name=""/>
              <p:cNvSpPr/>
              <p:nvPr/>
            </p:nvSpPr>
            <p:spPr>
              <a:xfrm>
                <a:off x="8371800" y="4902840"/>
                <a:ext cx="289800" cy="78480"/>
              </a:xfrm>
              <a:prstGeom prst="rect">
                <a:avLst/>
              </a:pr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390" name=""/>
              <p:cNvSpPr/>
              <p:nvPr/>
            </p:nvSpPr>
            <p:spPr>
              <a:xfrm>
                <a:off x="8390880" y="4906800"/>
                <a:ext cx="29196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u="sng">
                    <a:solidFill>
                      <a:srgbClr val="000000"/>
                    </a:solidFill>
                    <a:uFillTx/>
                    <a:latin typeface="Arial"/>
                    <a:ea typeface="Arial"/>
                  </a:rPr>
                  <a:t>ACCTS REC  APPS - PC</a:t>
                </a:r>
                <a:endParaRPr b="0" lang="en-US" sz="200" spc="-1" strike="noStrike">
                  <a:solidFill>
                    <a:srgbClr val="ffffff"/>
                  </a:solidFill>
                  <a:latin typeface="Arial"/>
                </a:endParaRPr>
              </a:p>
            </p:txBody>
          </p:sp>
          <p:sp>
            <p:nvSpPr>
              <p:cNvPr id="391" name=""/>
              <p:cNvSpPr/>
              <p:nvPr/>
            </p:nvSpPr>
            <p:spPr>
              <a:xfrm>
                <a:off x="7498440" y="4900320"/>
                <a:ext cx="391320" cy="70560"/>
              </a:xfrm>
              <a:prstGeom prst="rect">
                <a:avLst/>
              </a:pr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92" name=""/>
              <p:cNvSpPr/>
              <p:nvPr/>
            </p:nvSpPr>
            <p:spPr>
              <a:xfrm>
                <a:off x="7511040" y="4906800"/>
                <a:ext cx="4168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u="sng">
                    <a:solidFill>
                      <a:srgbClr val="000000"/>
                    </a:solidFill>
                    <a:uFillTx/>
                    <a:latin typeface="Arial"/>
                    <a:ea typeface="Arial"/>
                  </a:rPr>
                  <a:t>INVENTORY CONTROL APPS - PC</a:t>
                </a:r>
                <a:endParaRPr b="0" lang="en-US" sz="200" spc="-1" strike="noStrike">
                  <a:solidFill>
                    <a:srgbClr val="ffffff"/>
                  </a:solidFill>
                  <a:latin typeface="Arial"/>
                </a:endParaRPr>
              </a:p>
            </p:txBody>
          </p:sp>
          <p:sp>
            <p:nvSpPr>
              <p:cNvPr id="393" name=""/>
              <p:cNvSpPr/>
              <p:nvPr/>
            </p:nvSpPr>
            <p:spPr>
              <a:xfrm>
                <a:off x="7922880" y="4901400"/>
                <a:ext cx="415080" cy="70560"/>
              </a:xfrm>
              <a:prstGeom prst="rect">
                <a:avLst/>
              </a:pr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94" name=""/>
              <p:cNvSpPr/>
              <p:nvPr/>
            </p:nvSpPr>
            <p:spPr>
              <a:xfrm>
                <a:off x="7949520" y="4906800"/>
                <a:ext cx="4168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u="sng">
                    <a:solidFill>
                      <a:srgbClr val="000000"/>
                    </a:solidFill>
                    <a:uFillTx/>
                    <a:latin typeface="Arial"/>
                    <a:ea typeface="Arial"/>
                  </a:rPr>
                  <a:t>INVENTORY CONTROL APPS - PC</a:t>
                </a:r>
                <a:endParaRPr b="0" lang="en-US" sz="200" spc="-1" strike="noStrike">
                  <a:solidFill>
                    <a:srgbClr val="ffffff"/>
                  </a:solidFill>
                  <a:latin typeface="Arial"/>
                </a:endParaRPr>
              </a:p>
            </p:txBody>
          </p:sp>
          <p:sp>
            <p:nvSpPr>
              <p:cNvPr id="395" name=""/>
              <p:cNvSpPr/>
              <p:nvPr/>
            </p:nvSpPr>
            <p:spPr>
              <a:xfrm>
                <a:off x="7442280" y="4759920"/>
                <a:ext cx="950400" cy="77400"/>
              </a:xfrm>
              <a:prstGeom prst="rect">
                <a:avLst/>
              </a:pr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96" name=""/>
              <p:cNvSpPr/>
              <p:nvPr/>
            </p:nvSpPr>
            <p:spPr>
              <a:xfrm>
                <a:off x="7771320" y="4781160"/>
                <a:ext cx="39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Journal Entry Tool Kit</a:t>
                </a:r>
                <a:endParaRPr b="0" lang="en-US" sz="300" spc="-1" strike="noStrike">
                  <a:solidFill>
                    <a:srgbClr val="ffffff"/>
                  </a:solidFill>
                  <a:latin typeface="Arial"/>
                </a:endParaRPr>
              </a:p>
            </p:txBody>
          </p:sp>
          <p:sp>
            <p:nvSpPr>
              <p:cNvPr id="397" name=""/>
              <p:cNvSpPr/>
              <p:nvPr/>
            </p:nvSpPr>
            <p:spPr>
              <a:xfrm>
                <a:off x="8143200" y="4849200"/>
                <a:ext cx="10440" cy="50760"/>
              </a:xfrm>
              <a:custGeom>
                <a:avLst/>
                <a:gdLst/>
                <a:ahLst/>
                <a:rect l="l" t="t" r="r" b="b"/>
                <a:pathLst>
                  <a:path w="10" h="38">
                    <a:moveTo>
                      <a:pt x="0" y="38"/>
                    </a:moveTo>
                    <a:lnTo>
                      <a:pt x="0" y="23"/>
                    </a:lnTo>
                    <a:lnTo>
                      <a:pt x="10" y="23"/>
                    </a:lnTo>
                    <a:lnTo>
                      <a:pt x="10" y="0"/>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
              <p:cNvSpPr/>
              <p:nvPr/>
            </p:nvSpPr>
            <p:spPr>
              <a:xfrm>
                <a:off x="8147520" y="4837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399" name=""/>
              <p:cNvSpPr/>
              <p:nvPr/>
            </p:nvSpPr>
            <p:spPr>
              <a:xfrm>
                <a:off x="8398080" y="4793040"/>
                <a:ext cx="118440" cy="109440"/>
              </a:xfrm>
              <a:custGeom>
                <a:avLst/>
                <a:gdLst/>
                <a:ahLst/>
                <a:rect l="l" t="t" r="r" b="b"/>
                <a:pathLst>
                  <a:path w="112" h="82">
                    <a:moveTo>
                      <a:pt x="0" y="3"/>
                    </a:moveTo>
                    <a:lnTo>
                      <a:pt x="4" y="3"/>
                    </a:lnTo>
                    <a:lnTo>
                      <a:pt x="5" y="2"/>
                    </a:lnTo>
                    <a:lnTo>
                      <a:pt x="6" y="1"/>
                    </a:lnTo>
                    <a:lnTo>
                      <a:pt x="7" y="0"/>
                    </a:lnTo>
                    <a:lnTo>
                      <a:pt x="9" y="0"/>
                    </a:lnTo>
                    <a:lnTo>
                      <a:pt x="11" y="0"/>
                    </a:lnTo>
                    <a:lnTo>
                      <a:pt x="12" y="1"/>
                    </a:lnTo>
                    <a:lnTo>
                      <a:pt x="13" y="2"/>
                    </a:lnTo>
                    <a:lnTo>
                      <a:pt x="13" y="3"/>
                    </a:lnTo>
                    <a:lnTo>
                      <a:pt x="112" y="3"/>
                    </a:lnTo>
                    <a:lnTo>
                      <a:pt x="112" y="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8398080" y="479052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01" name=""/>
              <p:cNvSpPr/>
              <p:nvPr/>
            </p:nvSpPr>
            <p:spPr>
              <a:xfrm>
                <a:off x="7245360" y="4849200"/>
                <a:ext cx="232560" cy="104040"/>
              </a:xfrm>
              <a:custGeom>
                <a:avLst/>
                <a:gdLst/>
                <a:ahLst/>
                <a:rect l="l" t="t" r="r" b="b"/>
                <a:pathLst>
                  <a:path w="220" h="78">
                    <a:moveTo>
                      <a:pt x="0" y="78"/>
                    </a:moveTo>
                    <a:lnTo>
                      <a:pt x="0" y="62"/>
                    </a:lnTo>
                    <a:lnTo>
                      <a:pt x="220" y="62"/>
                    </a:lnTo>
                    <a:lnTo>
                      <a:pt x="22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7471800" y="4837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03" name=""/>
              <p:cNvSpPr/>
              <p:nvPr/>
            </p:nvSpPr>
            <p:spPr>
              <a:xfrm>
                <a:off x="3773880" y="3728520"/>
                <a:ext cx="254880" cy="70560"/>
              </a:xfrm>
              <a:prstGeom prst="rect">
                <a:avLst/>
              </a:pr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404" name=""/>
              <p:cNvSpPr/>
              <p:nvPr/>
            </p:nvSpPr>
            <p:spPr>
              <a:xfrm>
                <a:off x="3795120" y="3751200"/>
                <a:ext cx="198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corecard </a:t>
                </a:r>
                <a:endParaRPr b="0" lang="en-US" sz="300" spc="-1" strike="noStrike">
                  <a:solidFill>
                    <a:srgbClr val="ffffff"/>
                  </a:solidFill>
                  <a:latin typeface="Arial"/>
                </a:endParaRPr>
              </a:p>
            </p:txBody>
          </p:sp>
          <p:sp>
            <p:nvSpPr>
              <p:cNvPr id="405" name=""/>
              <p:cNvSpPr/>
              <p:nvPr/>
            </p:nvSpPr>
            <p:spPr>
              <a:xfrm>
                <a:off x="3713400" y="2821320"/>
                <a:ext cx="245520" cy="126720"/>
              </a:xfrm>
              <a:prstGeom prst="rect">
                <a:avLst/>
              </a:pr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3741480" y="2833560"/>
                <a:ext cx="174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source</a:t>
                </a:r>
                <a:endParaRPr b="0" lang="en-US" sz="300" spc="-1" strike="noStrike">
                  <a:solidFill>
                    <a:srgbClr val="ffffff"/>
                  </a:solidFill>
                  <a:latin typeface="Arial"/>
                </a:endParaRPr>
              </a:p>
            </p:txBody>
          </p:sp>
          <p:sp>
            <p:nvSpPr>
              <p:cNvPr id="407" name=""/>
              <p:cNvSpPr/>
              <p:nvPr/>
            </p:nvSpPr>
            <p:spPr>
              <a:xfrm>
                <a:off x="3760200" y="2869560"/>
                <a:ext cx="204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cheduling</a:t>
                </a:r>
                <a:endParaRPr b="0" lang="en-US" sz="300" spc="-1" strike="noStrike">
                  <a:solidFill>
                    <a:srgbClr val="ffffff"/>
                  </a:solidFill>
                  <a:latin typeface="Arial"/>
                </a:endParaRPr>
              </a:p>
            </p:txBody>
          </p:sp>
          <p:sp>
            <p:nvSpPr>
              <p:cNvPr id="408" name=""/>
              <p:cNvSpPr/>
              <p:nvPr/>
            </p:nvSpPr>
            <p:spPr>
              <a:xfrm>
                <a:off x="4170960" y="3106080"/>
                <a:ext cx="334080" cy="134640"/>
              </a:xfrm>
              <a:prstGeom prst="rect">
                <a:avLst/>
              </a:pr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270320" y="3139560"/>
                <a:ext cx="18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09 -  P17</a:t>
                </a:r>
                <a:endParaRPr b="0" lang="en-US" sz="300" spc="-1" strike="noStrike">
                  <a:solidFill>
                    <a:srgbClr val="ffffff"/>
                  </a:solidFill>
                  <a:latin typeface="Arial"/>
                </a:endParaRPr>
              </a:p>
            </p:txBody>
          </p:sp>
          <p:sp>
            <p:nvSpPr>
              <p:cNvPr id="410" name=""/>
              <p:cNvSpPr/>
              <p:nvPr/>
            </p:nvSpPr>
            <p:spPr>
              <a:xfrm>
                <a:off x="4286880" y="3175560"/>
                <a:ext cx="83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yb.</a:t>
                </a:r>
                <a:endParaRPr b="0" lang="en-US" sz="300" spc="-1" strike="noStrike">
                  <a:solidFill>
                    <a:srgbClr val="ffffff"/>
                  </a:solidFill>
                  <a:latin typeface="Arial"/>
                </a:endParaRPr>
              </a:p>
            </p:txBody>
          </p:sp>
          <p:sp>
            <p:nvSpPr>
              <p:cNvPr id="411" name=""/>
              <p:cNvSpPr/>
              <p:nvPr/>
            </p:nvSpPr>
            <p:spPr>
              <a:xfrm>
                <a:off x="3950640" y="2762640"/>
                <a:ext cx="311040" cy="329760"/>
              </a:xfrm>
              <a:custGeom>
                <a:avLst/>
                <a:gdLst/>
                <a:ahLst/>
                <a:rect l="l" t="t" r="r" b="b"/>
                <a:pathLst>
                  <a:path w="294" h="247">
                    <a:moveTo>
                      <a:pt x="294" y="247"/>
                    </a:moveTo>
                    <a:lnTo>
                      <a:pt x="294" y="214"/>
                    </a:lnTo>
                    <a:lnTo>
                      <a:pt x="184" y="214"/>
                    </a:lnTo>
                    <a:lnTo>
                      <a:pt x="184" y="4"/>
                    </a:lnTo>
                    <a:lnTo>
                      <a:pt x="109" y="4"/>
                    </a:lnTo>
                    <a:lnTo>
                      <a:pt x="109" y="2"/>
                    </a:lnTo>
                    <a:lnTo>
                      <a:pt x="108" y="1"/>
                    </a:lnTo>
                    <a:lnTo>
                      <a:pt x="107" y="0"/>
                    </a:lnTo>
                    <a:lnTo>
                      <a:pt x="105" y="0"/>
                    </a:lnTo>
                    <a:lnTo>
                      <a:pt x="103" y="0"/>
                    </a:lnTo>
                    <a:lnTo>
                      <a:pt x="102" y="1"/>
                    </a:lnTo>
                    <a:lnTo>
                      <a:pt x="101" y="2"/>
                    </a:lnTo>
                    <a:lnTo>
                      <a:pt x="100" y="4"/>
                    </a:lnTo>
                    <a:lnTo>
                      <a:pt x="25" y="4"/>
                    </a:lnTo>
                    <a:lnTo>
                      <a:pt x="25" y="2"/>
                    </a:lnTo>
                    <a:lnTo>
                      <a:pt x="24" y="1"/>
                    </a:lnTo>
                    <a:lnTo>
                      <a:pt x="23" y="0"/>
                    </a:lnTo>
                    <a:lnTo>
                      <a:pt x="21" y="0"/>
                    </a:lnTo>
                    <a:lnTo>
                      <a:pt x="19" y="0"/>
                    </a:lnTo>
                    <a:lnTo>
                      <a:pt x="17" y="1"/>
                    </a:lnTo>
                    <a:lnTo>
                      <a:pt x="17" y="2"/>
                    </a:lnTo>
                    <a:lnTo>
                      <a:pt x="16" y="4"/>
                    </a:lnTo>
                    <a:lnTo>
                      <a:pt x="0" y="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55560" y="30913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13" name=""/>
              <p:cNvSpPr/>
              <p:nvPr/>
            </p:nvSpPr>
            <p:spPr>
              <a:xfrm>
                <a:off x="3938040" y="2761560"/>
                <a:ext cx="1440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4" name=""/>
              <p:cNvSpPr/>
              <p:nvPr/>
            </p:nvSpPr>
            <p:spPr>
              <a:xfrm>
                <a:off x="4143240" y="2614680"/>
                <a:ext cx="348120" cy="97200"/>
              </a:xfrm>
              <a:prstGeom prst="rect">
                <a:avLst/>
              </a:pr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4203720" y="264528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Mill.</a:t>
                </a:r>
                <a:endParaRPr b="0" lang="en-US" sz="300" spc="-1" strike="noStrike">
                  <a:solidFill>
                    <a:srgbClr val="ffffff"/>
                  </a:solidFill>
                  <a:latin typeface="Arial"/>
                </a:endParaRPr>
              </a:p>
            </p:txBody>
          </p:sp>
          <p:sp>
            <p:nvSpPr>
              <p:cNvPr id="416" name=""/>
              <p:cNvSpPr/>
              <p:nvPr/>
            </p:nvSpPr>
            <p:spPr>
              <a:xfrm>
                <a:off x="4116960" y="2464920"/>
                <a:ext cx="371520" cy="104040"/>
              </a:xfrm>
              <a:prstGeom prst="rect">
                <a:avLst/>
              </a:prstGeom>
              <a:blipFill rotWithShape="0">
                <a:blip r:embed="rId2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164840" y="2504880"/>
                <a:ext cx="262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illennuim 3.0</a:t>
                </a:r>
                <a:endParaRPr b="0" lang="en-US" sz="300" spc="-1" strike="noStrike">
                  <a:solidFill>
                    <a:srgbClr val="ffffff"/>
                  </a:solidFill>
                  <a:latin typeface="Arial"/>
                </a:endParaRPr>
              </a:p>
            </p:txBody>
          </p:sp>
          <p:sp>
            <p:nvSpPr>
              <p:cNvPr id="418" name=""/>
              <p:cNvSpPr/>
              <p:nvPr/>
            </p:nvSpPr>
            <p:spPr>
              <a:xfrm>
                <a:off x="3748320" y="3353040"/>
                <a:ext cx="397080" cy="72000"/>
              </a:xfrm>
              <a:prstGeom prst="rect">
                <a:avLst/>
              </a:prstGeom>
              <a:blipFill rotWithShape="0">
                <a:blip r:embed="rId21"/>
                <a:srcRect/>
                <a:tile tx="0" ty="0" sx="100000" sy="100000" algn="ctr"/>
              </a:blip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419" name=""/>
              <p:cNvSpPr/>
              <p:nvPr/>
            </p:nvSpPr>
            <p:spPr>
              <a:xfrm>
                <a:off x="3783240" y="3357360"/>
                <a:ext cx="43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anks - ACH and Pos to</a:t>
                </a:r>
                <a:endParaRPr b="0" lang="en-US" sz="300" spc="-1" strike="noStrike">
                  <a:solidFill>
                    <a:srgbClr val="ffffff"/>
                  </a:solidFill>
                  <a:latin typeface="Arial"/>
                </a:endParaRPr>
              </a:p>
            </p:txBody>
          </p:sp>
          <p:sp>
            <p:nvSpPr>
              <p:cNvPr id="420" name=""/>
              <p:cNvSpPr/>
              <p:nvPr/>
            </p:nvSpPr>
            <p:spPr>
              <a:xfrm>
                <a:off x="3920760" y="3389040"/>
                <a:ext cx="69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ay</a:t>
                </a:r>
                <a:endParaRPr b="0" lang="en-US" sz="300" spc="-1" strike="noStrike">
                  <a:solidFill>
                    <a:srgbClr val="ffffff"/>
                  </a:solidFill>
                  <a:latin typeface="Arial"/>
                </a:endParaRPr>
              </a:p>
            </p:txBody>
          </p:sp>
          <p:sp>
            <p:nvSpPr>
              <p:cNvPr id="421" name=""/>
              <p:cNvSpPr/>
              <p:nvPr/>
            </p:nvSpPr>
            <p:spPr>
              <a:xfrm>
                <a:off x="4126320" y="3186360"/>
                <a:ext cx="44280" cy="157320"/>
              </a:xfrm>
              <a:custGeom>
                <a:avLst/>
                <a:gdLst/>
                <a:ahLst/>
                <a:rect l="l" t="t" r="r" b="b"/>
                <a:pathLst>
                  <a:path w="42" h="118">
                    <a:moveTo>
                      <a:pt x="42" y="0"/>
                    </a:moveTo>
                    <a:lnTo>
                      <a:pt x="0" y="0"/>
                    </a:lnTo>
                    <a:lnTo>
                      <a:pt x="0" y="1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119840" y="3342600"/>
                <a:ext cx="11520" cy="13320"/>
              </a:xfrm>
              <a:custGeom>
                <a:avLst/>
                <a:gdLst/>
                <a:ahLst/>
                <a:rect l="l" t="t" r="r" b="b"/>
                <a:pathLst>
                  <a:path w="11" h="10">
                    <a:moveTo>
                      <a:pt x="11" y="1"/>
                    </a:moveTo>
                    <a:lnTo>
                      <a:pt x="6" y="10"/>
                    </a:lnTo>
                    <a:lnTo>
                      <a:pt x="0" y="1"/>
                    </a:lnTo>
                    <a:lnTo>
                      <a:pt x="2" y="0"/>
                    </a:lnTo>
                    <a:lnTo>
                      <a:pt x="6"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23" name=""/>
              <p:cNvSpPr/>
              <p:nvPr/>
            </p:nvSpPr>
            <p:spPr>
              <a:xfrm>
                <a:off x="3738960" y="3143520"/>
                <a:ext cx="198720" cy="62640"/>
              </a:xfrm>
              <a:prstGeom prst="rect">
                <a:avLst/>
              </a:prstGeom>
              <a:blipFill rotWithShape="0">
                <a:blip r:embed="rId22"/>
                <a:srcRect/>
                <a:tile tx="0" ty="0" sx="100000" sy="100000" algn="ctr"/>
              </a:blip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424" name=""/>
              <p:cNvSpPr/>
              <p:nvPr/>
            </p:nvSpPr>
            <p:spPr>
              <a:xfrm>
                <a:off x="3794760" y="3158280"/>
                <a:ext cx="110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bra</a:t>
                </a:r>
                <a:endParaRPr b="0" lang="en-US" sz="300" spc="-1" strike="noStrike">
                  <a:solidFill>
                    <a:srgbClr val="ffffff"/>
                  </a:solidFill>
                  <a:latin typeface="Arial"/>
                </a:endParaRPr>
              </a:p>
            </p:txBody>
          </p:sp>
          <p:sp>
            <p:nvSpPr>
              <p:cNvPr id="425" name=""/>
              <p:cNvSpPr/>
              <p:nvPr/>
            </p:nvSpPr>
            <p:spPr>
              <a:xfrm>
                <a:off x="3950640" y="3155760"/>
                <a:ext cx="219960" cy="19800"/>
              </a:xfrm>
              <a:custGeom>
                <a:avLst/>
                <a:gdLst/>
                <a:ahLst/>
                <a:rect l="l" t="t" r="r" b="b"/>
                <a:pathLst>
                  <a:path w="208" h="15">
                    <a:moveTo>
                      <a:pt x="208" y="0"/>
                    </a:moveTo>
                    <a:lnTo>
                      <a:pt x="69" y="0"/>
                    </a:lnTo>
                    <a:lnTo>
                      <a:pt x="69" y="15"/>
                    </a:lnTo>
                    <a:lnTo>
                      <a:pt x="0" y="15"/>
                    </a:lnTo>
                  </a:path>
                </a:pathLst>
              </a:custGeom>
              <a:noFill/>
              <a:ln w="144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426" name=""/>
              <p:cNvSpPr/>
              <p:nvPr/>
            </p:nvSpPr>
            <p:spPr>
              <a:xfrm>
                <a:off x="3938040" y="3169080"/>
                <a:ext cx="14400" cy="1152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27" name=""/>
              <p:cNvSpPr/>
              <p:nvPr/>
            </p:nvSpPr>
            <p:spPr>
              <a:xfrm>
                <a:off x="4404600" y="2905560"/>
                <a:ext cx="70920" cy="186840"/>
              </a:xfrm>
              <a:custGeom>
                <a:avLst/>
                <a:gdLst/>
                <a:ahLst/>
                <a:rect l="l" t="t" r="r" b="b"/>
                <a:pathLst>
                  <a:path w="67" h="140">
                    <a:moveTo>
                      <a:pt x="0" y="0"/>
                    </a:moveTo>
                    <a:lnTo>
                      <a:pt x="0" y="6"/>
                    </a:lnTo>
                    <a:lnTo>
                      <a:pt x="48" y="6"/>
                    </a:lnTo>
                    <a:lnTo>
                      <a:pt x="48" y="5"/>
                    </a:lnTo>
                    <a:lnTo>
                      <a:pt x="49" y="4"/>
                    </a:lnTo>
                    <a:lnTo>
                      <a:pt x="51" y="3"/>
                    </a:lnTo>
                    <a:lnTo>
                      <a:pt x="52" y="3"/>
                    </a:lnTo>
                    <a:lnTo>
                      <a:pt x="54" y="3"/>
                    </a:lnTo>
                    <a:lnTo>
                      <a:pt x="56" y="4"/>
                    </a:lnTo>
                    <a:lnTo>
                      <a:pt x="56" y="5"/>
                    </a:lnTo>
                    <a:lnTo>
                      <a:pt x="57" y="6"/>
                    </a:lnTo>
                    <a:lnTo>
                      <a:pt x="67" y="6"/>
                    </a:lnTo>
                    <a:lnTo>
                      <a:pt x="67" y="14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398480" y="28936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29" name=""/>
              <p:cNvSpPr/>
              <p:nvPr/>
            </p:nvSpPr>
            <p:spPr>
              <a:xfrm>
                <a:off x="4469400" y="30913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30" name=""/>
              <p:cNvSpPr/>
              <p:nvPr/>
            </p:nvSpPr>
            <p:spPr>
              <a:xfrm>
                <a:off x="4041720" y="3241080"/>
                <a:ext cx="258120" cy="523440"/>
              </a:xfrm>
              <a:custGeom>
                <a:avLst/>
                <a:gdLst/>
                <a:ahLst/>
                <a:rect l="l" t="t" r="r" b="b"/>
                <a:pathLst>
                  <a:path w="244" h="392">
                    <a:moveTo>
                      <a:pt x="244" y="0"/>
                    </a:moveTo>
                    <a:lnTo>
                      <a:pt x="244" y="256"/>
                    </a:lnTo>
                    <a:lnTo>
                      <a:pt x="177" y="256"/>
                    </a:lnTo>
                    <a:lnTo>
                      <a:pt x="177" y="255"/>
                    </a:lnTo>
                    <a:lnTo>
                      <a:pt x="176" y="253"/>
                    </a:lnTo>
                    <a:lnTo>
                      <a:pt x="174" y="253"/>
                    </a:lnTo>
                    <a:lnTo>
                      <a:pt x="172" y="252"/>
                    </a:lnTo>
                    <a:lnTo>
                      <a:pt x="171" y="253"/>
                    </a:lnTo>
                    <a:lnTo>
                      <a:pt x="169" y="253"/>
                    </a:lnTo>
                    <a:lnTo>
                      <a:pt x="168" y="255"/>
                    </a:lnTo>
                    <a:lnTo>
                      <a:pt x="168" y="256"/>
                    </a:lnTo>
                    <a:lnTo>
                      <a:pt x="71" y="256"/>
                    </a:lnTo>
                    <a:lnTo>
                      <a:pt x="71" y="392"/>
                    </a:lnTo>
                    <a:lnTo>
                      <a:pt x="62" y="392"/>
                    </a:lnTo>
                    <a:lnTo>
                      <a:pt x="62" y="390"/>
                    </a:lnTo>
                    <a:lnTo>
                      <a:pt x="61" y="388"/>
                    </a:lnTo>
                    <a:lnTo>
                      <a:pt x="59" y="387"/>
                    </a:lnTo>
                    <a:lnTo>
                      <a:pt x="58" y="386"/>
                    </a:lnTo>
                    <a:lnTo>
                      <a:pt x="55" y="386"/>
                    </a:lnTo>
                    <a:lnTo>
                      <a:pt x="53" y="386"/>
                    </a:lnTo>
                    <a:lnTo>
                      <a:pt x="51" y="386"/>
                    </a:lnTo>
                    <a:lnTo>
                      <a:pt x="49" y="387"/>
                    </a:lnTo>
                    <a:lnTo>
                      <a:pt x="48" y="388"/>
                    </a:lnTo>
                    <a:lnTo>
                      <a:pt x="47" y="390"/>
                    </a:lnTo>
                    <a:lnTo>
                      <a:pt x="46" y="392"/>
                    </a:lnTo>
                    <a:lnTo>
                      <a:pt x="38" y="392"/>
                    </a:lnTo>
                    <a:lnTo>
                      <a:pt x="38" y="390"/>
                    </a:lnTo>
                    <a:lnTo>
                      <a:pt x="37" y="389"/>
                    </a:lnTo>
                    <a:lnTo>
                      <a:pt x="36" y="388"/>
                    </a:lnTo>
                    <a:lnTo>
                      <a:pt x="34" y="388"/>
                    </a:lnTo>
                    <a:lnTo>
                      <a:pt x="32" y="388"/>
                    </a:lnTo>
                    <a:lnTo>
                      <a:pt x="31" y="389"/>
                    </a:lnTo>
                    <a:lnTo>
                      <a:pt x="30" y="390"/>
                    </a:lnTo>
                    <a:lnTo>
                      <a:pt x="29" y="392"/>
                    </a:lnTo>
                    <a:lnTo>
                      <a:pt x="22" y="392"/>
                    </a:lnTo>
                    <a:lnTo>
                      <a:pt x="21" y="390"/>
                    </a:lnTo>
                    <a:lnTo>
                      <a:pt x="20" y="389"/>
                    </a:lnTo>
                    <a:lnTo>
                      <a:pt x="19" y="388"/>
                    </a:lnTo>
                    <a:lnTo>
                      <a:pt x="17" y="388"/>
                    </a:lnTo>
                    <a:lnTo>
                      <a:pt x="15" y="388"/>
                    </a:lnTo>
                    <a:lnTo>
                      <a:pt x="14" y="389"/>
                    </a:lnTo>
                    <a:lnTo>
                      <a:pt x="13" y="390"/>
                    </a:lnTo>
                    <a:lnTo>
                      <a:pt x="13" y="392"/>
                    </a:lnTo>
                    <a:lnTo>
                      <a:pt x="0" y="39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029120" y="37576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32" name=""/>
              <p:cNvSpPr/>
              <p:nvPr/>
            </p:nvSpPr>
            <p:spPr>
              <a:xfrm>
                <a:off x="3975120" y="2920680"/>
                <a:ext cx="185040" cy="63720"/>
              </a:xfrm>
              <a:custGeom>
                <a:avLst/>
                <a:gdLst/>
                <a:ahLst/>
                <a:rect l="l" t="t" r="r" b="b"/>
                <a:pathLst>
                  <a:path w="175" h="48">
                    <a:moveTo>
                      <a:pt x="175" y="48"/>
                    </a:moveTo>
                    <a:lnTo>
                      <a:pt x="166" y="48"/>
                    </a:lnTo>
                    <a:lnTo>
                      <a:pt x="165" y="47"/>
                    </a:lnTo>
                    <a:lnTo>
                      <a:pt x="164" y="46"/>
                    </a:lnTo>
                    <a:lnTo>
                      <a:pt x="163" y="45"/>
                    </a:lnTo>
                    <a:lnTo>
                      <a:pt x="161" y="45"/>
                    </a:lnTo>
                    <a:lnTo>
                      <a:pt x="159" y="45"/>
                    </a:lnTo>
                    <a:lnTo>
                      <a:pt x="158" y="46"/>
                    </a:lnTo>
                    <a:lnTo>
                      <a:pt x="157" y="47"/>
                    </a:lnTo>
                    <a:lnTo>
                      <a:pt x="157" y="48"/>
                    </a:lnTo>
                    <a:lnTo>
                      <a:pt x="86" y="48"/>
                    </a:lnTo>
                    <a:lnTo>
                      <a:pt x="86" y="47"/>
                    </a:lnTo>
                    <a:lnTo>
                      <a:pt x="85" y="46"/>
                    </a:lnTo>
                    <a:lnTo>
                      <a:pt x="84" y="45"/>
                    </a:lnTo>
                    <a:lnTo>
                      <a:pt x="82" y="45"/>
                    </a:lnTo>
                    <a:lnTo>
                      <a:pt x="80" y="45"/>
                    </a:lnTo>
                    <a:lnTo>
                      <a:pt x="79" y="46"/>
                    </a:lnTo>
                    <a:lnTo>
                      <a:pt x="78" y="47"/>
                    </a:lnTo>
                    <a:lnTo>
                      <a:pt x="77" y="48"/>
                    </a:lnTo>
                    <a:lnTo>
                      <a:pt x="51" y="48"/>
                    </a:lnTo>
                    <a:lnTo>
                      <a:pt x="50" y="47"/>
                    </a:lnTo>
                    <a:lnTo>
                      <a:pt x="49" y="46"/>
                    </a:lnTo>
                    <a:lnTo>
                      <a:pt x="48" y="45"/>
                    </a:lnTo>
                    <a:lnTo>
                      <a:pt x="46" y="45"/>
                    </a:lnTo>
                    <a:lnTo>
                      <a:pt x="45" y="45"/>
                    </a:lnTo>
                    <a:lnTo>
                      <a:pt x="43" y="46"/>
                    </a:lnTo>
                    <a:lnTo>
                      <a:pt x="42" y="47"/>
                    </a:lnTo>
                    <a:lnTo>
                      <a:pt x="42" y="48"/>
                    </a:lnTo>
                    <a:lnTo>
                      <a:pt x="6" y="48"/>
                    </a:lnTo>
                    <a:lnTo>
                      <a:pt x="6" y="0"/>
                    </a:lnTo>
                    <a:lnTo>
                      <a:pt x="0" y="0"/>
                    </a:lnTo>
                  </a:path>
                </a:pathLst>
              </a:custGeom>
              <a:noFill/>
              <a:ln w="1440">
                <a:solidFill>
                  <a:srgbClr val="00ff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33" name=""/>
              <p:cNvSpPr/>
              <p:nvPr/>
            </p:nvSpPr>
            <p:spPr>
              <a:xfrm>
                <a:off x="3963600" y="29149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ff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34" name=""/>
              <p:cNvSpPr/>
              <p:nvPr/>
            </p:nvSpPr>
            <p:spPr>
              <a:xfrm>
                <a:off x="3971880" y="2885760"/>
                <a:ext cx="230400" cy="28080"/>
              </a:xfrm>
              <a:custGeom>
                <a:avLst/>
                <a:gdLst/>
                <a:ahLst/>
                <a:rect l="l" t="t" r="r" b="b"/>
                <a:pathLst>
                  <a:path w="218" h="21">
                    <a:moveTo>
                      <a:pt x="218" y="6"/>
                    </a:moveTo>
                    <a:lnTo>
                      <a:pt x="218" y="21"/>
                    </a:lnTo>
                    <a:lnTo>
                      <a:pt x="169" y="21"/>
                    </a:lnTo>
                    <a:lnTo>
                      <a:pt x="168" y="20"/>
                    </a:lnTo>
                    <a:lnTo>
                      <a:pt x="167" y="19"/>
                    </a:lnTo>
                    <a:lnTo>
                      <a:pt x="166" y="18"/>
                    </a:lnTo>
                    <a:lnTo>
                      <a:pt x="164" y="18"/>
                    </a:lnTo>
                    <a:lnTo>
                      <a:pt x="162" y="18"/>
                    </a:lnTo>
                    <a:lnTo>
                      <a:pt x="161" y="19"/>
                    </a:lnTo>
                    <a:lnTo>
                      <a:pt x="160" y="20"/>
                    </a:lnTo>
                    <a:lnTo>
                      <a:pt x="160" y="21"/>
                    </a:lnTo>
                    <a:lnTo>
                      <a:pt x="89" y="21"/>
                    </a:lnTo>
                    <a:lnTo>
                      <a:pt x="89" y="20"/>
                    </a:lnTo>
                    <a:lnTo>
                      <a:pt x="88" y="19"/>
                    </a:lnTo>
                    <a:lnTo>
                      <a:pt x="87" y="18"/>
                    </a:lnTo>
                    <a:lnTo>
                      <a:pt x="85" y="18"/>
                    </a:lnTo>
                    <a:lnTo>
                      <a:pt x="83" y="18"/>
                    </a:lnTo>
                    <a:lnTo>
                      <a:pt x="82" y="19"/>
                    </a:lnTo>
                    <a:lnTo>
                      <a:pt x="81" y="20"/>
                    </a:lnTo>
                    <a:lnTo>
                      <a:pt x="80" y="21"/>
                    </a:lnTo>
                    <a:lnTo>
                      <a:pt x="54" y="21"/>
                    </a:lnTo>
                    <a:lnTo>
                      <a:pt x="53" y="20"/>
                    </a:lnTo>
                    <a:lnTo>
                      <a:pt x="52" y="19"/>
                    </a:lnTo>
                    <a:lnTo>
                      <a:pt x="51" y="18"/>
                    </a:lnTo>
                    <a:lnTo>
                      <a:pt x="49" y="18"/>
                    </a:lnTo>
                    <a:lnTo>
                      <a:pt x="48" y="18"/>
                    </a:lnTo>
                    <a:lnTo>
                      <a:pt x="46" y="19"/>
                    </a:lnTo>
                    <a:lnTo>
                      <a:pt x="45" y="20"/>
                    </a:lnTo>
                    <a:lnTo>
                      <a:pt x="45" y="21"/>
                    </a:lnTo>
                    <a:lnTo>
                      <a:pt x="22" y="21"/>
                    </a:lnTo>
                    <a:lnTo>
                      <a:pt x="22" y="0"/>
                    </a:lnTo>
                    <a:lnTo>
                      <a:pt x="0"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35" name=""/>
              <p:cNvSpPr/>
              <p:nvPr/>
            </p:nvSpPr>
            <p:spPr>
              <a:xfrm>
                <a:off x="3959280" y="2878920"/>
                <a:ext cx="1476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36" name=""/>
              <p:cNvSpPr/>
              <p:nvPr/>
            </p:nvSpPr>
            <p:spPr>
              <a:xfrm>
                <a:off x="5560920" y="3453480"/>
                <a:ext cx="222120" cy="118800"/>
              </a:xfrm>
              <a:prstGeom prst="rect">
                <a:avLst/>
              </a:prstGeom>
              <a:blipFill rotWithShape="0">
                <a:blip r:embed="rId2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593320" y="3478680"/>
                <a:ext cx="104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ck</a:t>
                </a:r>
                <a:endParaRPr b="0" lang="en-US" sz="300" spc="-1" strike="noStrike">
                  <a:solidFill>
                    <a:srgbClr val="ffffff"/>
                  </a:solidFill>
                  <a:latin typeface="Arial"/>
                </a:endParaRPr>
              </a:p>
            </p:txBody>
          </p:sp>
          <p:sp>
            <p:nvSpPr>
              <p:cNvPr id="438" name=""/>
              <p:cNvSpPr/>
              <p:nvPr/>
            </p:nvSpPr>
            <p:spPr>
              <a:xfrm>
                <a:off x="5628600" y="3515040"/>
                <a:ext cx="116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atus</a:t>
                </a:r>
                <a:endParaRPr b="0" lang="en-US" sz="300" spc="-1" strike="noStrike">
                  <a:solidFill>
                    <a:srgbClr val="ffffff"/>
                  </a:solidFill>
                  <a:latin typeface="Arial"/>
                </a:endParaRPr>
              </a:p>
            </p:txBody>
          </p:sp>
          <p:sp>
            <p:nvSpPr>
              <p:cNvPr id="439" name=""/>
              <p:cNvSpPr/>
              <p:nvPr/>
            </p:nvSpPr>
            <p:spPr>
              <a:xfrm>
                <a:off x="4424760" y="3823560"/>
                <a:ext cx="221040" cy="117360"/>
              </a:xfrm>
              <a:prstGeom prst="rect">
                <a:avLst/>
              </a:prstGeom>
              <a:blipFill rotWithShape="0">
                <a:blip r:embed="rId2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57160" y="3866400"/>
                <a:ext cx="12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lling</a:t>
                </a:r>
                <a:endParaRPr b="0" lang="en-US" sz="300" spc="-1" strike="noStrike">
                  <a:solidFill>
                    <a:srgbClr val="ffffff"/>
                  </a:solidFill>
                  <a:latin typeface="Arial"/>
                </a:endParaRPr>
              </a:p>
            </p:txBody>
          </p:sp>
          <p:sp>
            <p:nvSpPr>
              <p:cNvPr id="441" name=""/>
              <p:cNvSpPr/>
              <p:nvPr/>
            </p:nvSpPr>
            <p:spPr>
              <a:xfrm>
                <a:off x="4160160" y="2935080"/>
                <a:ext cx="260280" cy="98640"/>
              </a:xfrm>
              <a:prstGeom prst="rect">
                <a:avLst/>
              </a:prstGeom>
              <a:blipFill rotWithShape="0">
                <a:blip r:embed="rId2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177800" y="2951280"/>
                <a:ext cx="218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On-line New</a:t>
                </a:r>
                <a:endParaRPr b="0" lang="en-US" sz="300" spc="-1" strike="noStrike">
                  <a:solidFill>
                    <a:srgbClr val="ffffff"/>
                  </a:solidFill>
                  <a:latin typeface="Arial"/>
                </a:endParaRPr>
              </a:p>
            </p:txBody>
          </p:sp>
          <p:sp>
            <p:nvSpPr>
              <p:cNvPr id="443" name=""/>
              <p:cNvSpPr/>
              <p:nvPr/>
            </p:nvSpPr>
            <p:spPr>
              <a:xfrm>
                <a:off x="4219200" y="298332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Hire Entry</a:t>
                </a:r>
                <a:endParaRPr b="0" lang="en-US" sz="300" spc="-1" strike="noStrike">
                  <a:solidFill>
                    <a:srgbClr val="ffffff"/>
                  </a:solidFill>
                  <a:latin typeface="Arial"/>
                </a:endParaRPr>
              </a:p>
            </p:txBody>
          </p:sp>
          <p:sp>
            <p:nvSpPr>
              <p:cNvPr id="444" name=""/>
              <p:cNvSpPr/>
              <p:nvPr/>
            </p:nvSpPr>
            <p:spPr>
              <a:xfrm>
                <a:off x="7644240" y="4849200"/>
                <a:ext cx="10440" cy="50760"/>
              </a:xfrm>
              <a:custGeom>
                <a:avLst/>
                <a:gdLst/>
                <a:ahLst/>
                <a:rect l="l" t="t" r="r" b="b"/>
                <a:pathLst>
                  <a:path w="10" h="38">
                    <a:moveTo>
                      <a:pt x="10" y="38"/>
                    </a:moveTo>
                    <a:lnTo>
                      <a:pt x="10" y="22"/>
                    </a:lnTo>
                    <a:lnTo>
                      <a:pt x="0" y="22"/>
                    </a:lnTo>
                    <a:lnTo>
                      <a:pt x="0" y="0"/>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 name=""/>
              <p:cNvSpPr/>
              <p:nvPr/>
            </p:nvSpPr>
            <p:spPr>
              <a:xfrm>
                <a:off x="7638120" y="4837320"/>
                <a:ext cx="11520" cy="13320"/>
              </a:xfrm>
              <a:custGeom>
                <a:avLst/>
                <a:gdLst/>
                <a:ahLst/>
                <a:rect l="l" t="t" r="r" b="b"/>
                <a:pathLst>
                  <a:path w="11" h="10">
                    <a:moveTo>
                      <a:pt x="0" y="9"/>
                    </a:moveTo>
                    <a:lnTo>
                      <a:pt x="6" y="0"/>
                    </a:lnTo>
                    <a:lnTo>
                      <a:pt x="11" y="9"/>
                    </a:lnTo>
                    <a:lnTo>
                      <a:pt x="9" y="10"/>
                    </a:lnTo>
                    <a:lnTo>
                      <a:pt x="6" y="10"/>
                    </a:lnTo>
                    <a:lnTo>
                      <a:pt x="2"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46" name=""/>
              <p:cNvSpPr/>
              <p:nvPr/>
            </p:nvSpPr>
            <p:spPr>
              <a:xfrm>
                <a:off x="3950640" y="3194280"/>
                <a:ext cx="103680" cy="55800"/>
              </a:xfrm>
              <a:prstGeom prst="rect">
                <a:avLst/>
              </a:prstGeom>
              <a:blipFill rotWithShape="0">
                <a:blip r:embed="rId26"/>
                <a:srcRect/>
                <a:tile tx="0" ty="0" sx="100000" sy="100000" algn="ctr"/>
              </a:blip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7" name=""/>
              <p:cNvSpPr/>
              <p:nvPr/>
            </p:nvSpPr>
            <p:spPr>
              <a:xfrm>
                <a:off x="3975840" y="3203640"/>
                <a:ext cx="77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TS</a:t>
                </a:r>
                <a:endParaRPr b="0" lang="en-US" sz="300" spc="-1" strike="noStrike">
                  <a:solidFill>
                    <a:srgbClr val="ffffff"/>
                  </a:solidFill>
                  <a:latin typeface="Arial"/>
                </a:endParaRPr>
              </a:p>
            </p:txBody>
          </p:sp>
          <p:sp>
            <p:nvSpPr>
              <p:cNvPr id="448" name=""/>
              <p:cNvSpPr/>
              <p:nvPr/>
            </p:nvSpPr>
            <p:spPr>
              <a:xfrm>
                <a:off x="4067280" y="3171600"/>
                <a:ext cx="103680" cy="43920"/>
              </a:xfrm>
              <a:custGeom>
                <a:avLst/>
                <a:gdLst/>
                <a:ahLst/>
                <a:rect l="l" t="t" r="r" b="b"/>
                <a:pathLst>
                  <a:path w="98" h="33">
                    <a:moveTo>
                      <a:pt x="0" y="33"/>
                    </a:moveTo>
                    <a:lnTo>
                      <a:pt x="8" y="33"/>
                    </a:lnTo>
                    <a:lnTo>
                      <a:pt x="8" y="0"/>
                    </a:lnTo>
                    <a:lnTo>
                      <a:pt x="98" y="0"/>
                    </a:lnTo>
                  </a:path>
                </a:pathLst>
              </a:custGeom>
              <a:noFill/>
              <a:ln w="1440">
                <a:solidFill>
                  <a:srgbClr val="ff00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9" name=""/>
              <p:cNvSpPr/>
              <p:nvPr/>
            </p:nvSpPr>
            <p:spPr>
              <a:xfrm>
                <a:off x="4055400" y="3209040"/>
                <a:ext cx="13680" cy="11880"/>
              </a:xfrm>
              <a:custGeom>
                <a:avLst/>
                <a:gdLst/>
                <a:ahLst/>
                <a:rect l="l" t="t" r="r" b="b"/>
                <a:pathLst>
                  <a:path w="13" h="9">
                    <a:moveTo>
                      <a:pt x="11" y="9"/>
                    </a:moveTo>
                    <a:lnTo>
                      <a:pt x="0" y="5"/>
                    </a:lnTo>
                    <a:lnTo>
                      <a:pt x="11" y="0"/>
                    </a:lnTo>
                    <a:lnTo>
                      <a:pt x="12" y="2"/>
                    </a:lnTo>
                    <a:lnTo>
                      <a:pt x="13" y="5"/>
                    </a:lnTo>
                    <a:lnTo>
                      <a:pt x="12" y="7"/>
                    </a:lnTo>
                    <a:lnTo>
                      <a:pt x="11"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50" name=""/>
              <p:cNvSpPr/>
              <p:nvPr/>
            </p:nvSpPr>
            <p:spPr>
              <a:xfrm>
                <a:off x="3737880" y="3444120"/>
                <a:ext cx="298440" cy="145440"/>
              </a:xfrm>
              <a:prstGeom prst="rect">
                <a:avLst/>
              </a:prstGeom>
              <a:blipFill rotWithShape="0">
                <a:blip r:embed="rId2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750480" y="3450600"/>
                <a:ext cx="361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lan Administrators</a:t>
                </a:r>
                <a:endParaRPr b="0" lang="en-US" sz="300" spc="-1" strike="noStrike">
                  <a:solidFill>
                    <a:srgbClr val="ffffff"/>
                  </a:solidFill>
                  <a:latin typeface="Arial"/>
                </a:endParaRPr>
              </a:p>
            </p:txBody>
          </p:sp>
          <p:sp>
            <p:nvSpPr>
              <p:cNvPr id="452" name=""/>
              <p:cNvSpPr/>
              <p:nvPr/>
            </p:nvSpPr>
            <p:spPr>
              <a:xfrm>
                <a:off x="3771360" y="3481560"/>
                <a:ext cx="30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401K, PCS, Life)</a:t>
                </a:r>
                <a:endParaRPr b="0" lang="en-US" sz="300" spc="-1" strike="noStrike">
                  <a:solidFill>
                    <a:srgbClr val="ffffff"/>
                  </a:solidFill>
                  <a:latin typeface="Arial"/>
                </a:endParaRPr>
              </a:p>
            </p:txBody>
          </p:sp>
          <p:sp>
            <p:nvSpPr>
              <p:cNvPr id="453" name=""/>
              <p:cNvSpPr/>
              <p:nvPr/>
            </p:nvSpPr>
            <p:spPr>
              <a:xfrm>
                <a:off x="4050000" y="3241080"/>
                <a:ext cx="185040" cy="257760"/>
              </a:xfrm>
              <a:custGeom>
                <a:avLst/>
                <a:gdLst/>
                <a:ahLst/>
                <a:rect l="l" t="t" r="r" b="b"/>
                <a:pathLst>
                  <a:path w="175" h="193">
                    <a:moveTo>
                      <a:pt x="175" y="0"/>
                    </a:moveTo>
                    <a:lnTo>
                      <a:pt x="175" y="193"/>
                    </a:lnTo>
                    <a:lnTo>
                      <a:pt x="169" y="193"/>
                    </a:lnTo>
                    <a:lnTo>
                      <a:pt x="169" y="191"/>
                    </a:lnTo>
                    <a:lnTo>
                      <a:pt x="168" y="190"/>
                    </a:lnTo>
                    <a:lnTo>
                      <a:pt x="166" y="189"/>
                    </a:lnTo>
                    <a:lnTo>
                      <a:pt x="164" y="189"/>
                    </a:lnTo>
                    <a:lnTo>
                      <a:pt x="163" y="189"/>
                    </a:lnTo>
                    <a:lnTo>
                      <a:pt x="161" y="190"/>
                    </a:lnTo>
                    <a:lnTo>
                      <a:pt x="160" y="191"/>
                    </a:lnTo>
                    <a:lnTo>
                      <a:pt x="160" y="193"/>
                    </a:lnTo>
                    <a:lnTo>
                      <a:pt x="151" y="193"/>
                    </a:lnTo>
                    <a:lnTo>
                      <a:pt x="150" y="191"/>
                    </a:lnTo>
                    <a:lnTo>
                      <a:pt x="149" y="190"/>
                    </a:lnTo>
                    <a:lnTo>
                      <a:pt x="148" y="189"/>
                    </a:lnTo>
                    <a:lnTo>
                      <a:pt x="146" y="189"/>
                    </a:lnTo>
                    <a:lnTo>
                      <a:pt x="144" y="189"/>
                    </a:lnTo>
                    <a:lnTo>
                      <a:pt x="143" y="190"/>
                    </a:lnTo>
                    <a:lnTo>
                      <a:pt x="142" y="191"/>
                    </a:lnTo>
                    <a:lnTo>
                      <a:pt x="142" y="193"/>
                    </a:lnTo>
                    <a:lnTo>
                      <a:pt x="30" y="193"/>
                    </a:lnTo>
                    <a:lnTo>
                      <a:pt x="30" y="191"/>
                    </a:lnTo>
                    <a:lnTo>
                      <a:pt x="29" y="190"/>
                    </a:lnTo>
                    <a:lnTo>
                      <a:pt x="28" y="189"/>
                    </a:lnTo>
                    <a:lnTo>
                      <a:pt x="26" y="189"/>
                    </a:lnTo>
                    <a:lnTo>
                      <a:pt x="24" y="189"/>
                    </a:lnTo>
                    <a:lnTo>
                      <a:pt x="23" y="190"/>
                    </a:lnTo>
                    <a:lnTo>
                      <a:pt x="22" y="191"/>
                    </a:lnTo>
                    <a:lnTo>
                      <a:pt x="21" y="193"/>
                    </a:lnTo>
                    <a:lnTo>
                      <a:pt x="0" y="19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4037400" y="3492000"/>
                <a:ext cx="1476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55" name=""/>
              <p:cNvSpPr/>
              <p:nvPr/>
            </p:nvSpPr>
            <p:spPr>
              <a:xfrm>
                <a:off x="5160600" y="2599560"/>
                <a:ext cx="241200" cy="133560"/>
              </a:xfrm>
              <a:prstGeom prst="rect">
                <a:avLst/>
              </a:prstGeom>
              <a:blipFill rotWithShape="0">
                <a:blip r:embed="rId2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183640" y="263304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st Load</a:t>
                </a:r>
                <a:endParaRPr b="0" lang="en-US" sz="300" spc="-1" strike="noStrike">
                  <a:solidFill>
                    <a:srgbClr val="ffffff"/>
                  </a:solidFill>
                  <a:latin typeface="Arial"/>
                </a:endParaRPr>
              </a:p>
            </p:txBody>
          </p:sp>
          <p:sp>
            <p:nvSpPr>
              <p:cNvPr id="457" name=""/>
              <p:cNvSpPr/>
              <p:nvPr/>
            </p:nvSpPr>
            <p:spPr>
              <a:xfrm>
                <a:off x="5237640" y="2667960"/>
                <a:ext cx="116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illing</a:t>
                </a:r>
                <a:endParaRPr b="0" lang="en-US" sz="300" spc="-1" strike="noStrike">
                  <a:solidFill>
                    <a:srgbClr val="ffffff"/>
                  </a:solidFill>
                  <a:latin typeface="Arial"/>
                </a:endParaRPr>
              </a:p>
            </p:txBody>
          </p:sp>
          <p:sp>
            <p:nvSpPr>
              <p:cNvPr id="458" name=""/>
              <p:cNvSpPr/>
              <p:nvPr/>
            </p:nvSpPr>
            <p:spPr>
              <a:xfrm>
                <a:off x="6092640" y="3189960"/>
                <a:ext cx="225360" cy="130680"/>
              </a:xfrm>
              <a:prstGeom prst="rect">
                <a:avLst/>
              </a:prstGeom>
              <a:blipFill rotWithShape="0">
                <a:blip r:embed="rId2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139800" y="3223800"/>
                <a:ext cx="105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Home</a:t>
                </a:r>
                <a:endParaRPr b="0" lang="en-US" sz="300" spc="-1" strike="noStrike">
                  <a:solidFill>
                    <a:srgbClr val="ffffff"/>
                  </a:solidFill>
                  <a:latin typeface="Arial"/>
                </a:endParaRPr>
              </a:p>
            </p:txBody>
          </p:sp>
          <p:sp>
            <p:nvSpPr>
              <p:cNvPr id="460" name=""/>
              <p:cNvSpPr/>
              <p:nvPr/>
            </p:nvSpPr>
            <p:spPr>
              <a:xfrm>
                <a:off x="6133680" y="3254400"/>
                <a:ext cx="18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Deliveries</a:t>
                </a:r>
                <a:endParaRPr b="0" lang="en-US" sz="300" spc="-1" strike="noStrike">
                  <a:solidFill>
                    <a:srgbClr val="ffffff"/>
                  </a:solidFill>
                  <a:latin typeface="Arial"/>
                </a:endParaRPr>
              </a:p>
            </p:txBody>
          </p:sp>
          <p:sp>
            <p:nvSpPr>
              <p:cNvPr id="461" name=""/>
              <p:cNvSpPr/>
              <p:nvPr/>
            </p:nvSpPr>
            <p:spPr>
              <a:xfrm>
                <a:off x="7749360" y="3325320"/>
                <a:ext cx="199800" cy="110520"/>
              </a:xfrm>
              <a:prstGeom prst="rect">
                <a:avLst/>
              </a:prstGeom>
              <a:blipFill rotWithShape="0">
                <a:blip r:embed="rId3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22080" y="3349080"/>
                <a:ext cx="12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t>
                </a:r>
                <a:endParaRPr b="0" lang="en-US" sz="300" spc="-1" strike="noStrike">
                  <a:solidFill>
                    <a:srgbClr val="ffffff"/>
                  </a:solidFill>
                  <a:latin typeface="Arial"/>
                </a:endParaRPr>
              </a:p>
            </p:txBody>
          </p:sp>
          <p:sp>
            <p:nvSpPr>
              <p:cNvPr id="463" name=""/>
              <p:cNvSpPr/>
              <p:nvPr/>
            </p:nvSpPr>
            <p:spPr>
              <a:xfrm>
                <a:off x="7781760" y="3381120"/>
                <a:ext cx="174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ransfers</a:t>
                </a:r>
                <a:endParaRPr b="0" lang="en-US" sz="300" spc="-1" strike="noStrike">
                  <a:solidFill>
                    <a:srgbClr val="ffffff"/>
                  </a:solidFill>
                  <a:latin typeface="Arial"/>
                </a:endParaRPr>
              </a:p>
            </p:txBody>
          </p:sp>
          <p:sp>
            <p:nvSpPr>
              <p:cNvPr id="464" name=""/>
              <p:cNvSpPr/>
              <p:nvPr/>
            </p:nvSpPr>
            <p:spPr>
              <a:xfrm>
                <a:off x="8246880" y="4006440"/>
                <a:ext cx="278280" cy="127800"/>
              </a:xfrm>
              <a:prstGeom prst="rect">
                <a:avLst/>
              </a:prstGeom>
              <a:blipFill rotWithShape="0">
                <a:blip r:embed="rId3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80000" y="4051800"/>
                <a:ext cx="160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lanning</a:t>
                </a:r>
                <a:endParaRPr b="0" lang="en-US" sz="300" spc="-1" strike="noStrike">
                  <a:solidFill>
                    <a:srgbClr val="ffffff"/>
                  </a:solidFill>
                  <a:latin typeface="Arial"/>
                </a:endParaRPr>
              </a:p>
            </p:txBody>
          </p:sp>
          <p:sp>
            <p:nvSpPr>
              <p:cNvPr id="466" name=""/>
              <p:cNvSpPr/>
              <p:nvPr/>
            </p:nvSpPr>
            <p:spPr>
              <a:xfrm>
                <a:off x="7248600" y="4133520"/>
                <a:ext cx="271800" cy="205560"/>
              </a:xfrm>
              <a:prstGeom prst="rect">
                <a:avLst/>
              </a:prstGeom>
              <a:blipFill rotWithShape="0">
                <a:blip r:embed="rId3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294320" y="4206600"/>
                <a:ext cx="172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urchase</a:t>
                </a:r>
                <a:endParaRPr b="0" lang="en-US" sz="300" spc="-1" strike="noStrike">
                  <a:solidFill>
                    <a:srgbClr val="ffffff"/>
                  </a:solidFill>
                  <a:latin typeface="Arial"/>
                </a:endParaRPr>
              </a:p>
            </p:txBody>
          </p:sp>
          <p:sp>
            <p:nvSpPr>
              <p:cNvPr id="468" name=""/>
              <p:cNvSpPr/>
              <p:nvPr/>
            </p:nvSpPr>
            <p:spPr>
              <a:xfrm>
                <a:off x="7344360" y="4235040"/>
                <a:ext cx="104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Order</a:t>
                </a:r>
                <a:endParaRPr b="0" lang="en-US" sz="300" spc="-1" strike="noStrike">
                  <a:solidFill>
                    <a:srgbClr val="ffffff"/>
                  </a:solidFill>
                  <a:latin typeface="Arial"/>
                </a:endParaRPr>
              </a:p>
            </p:txBody>
          </p:sp>
          <p:sp>
            <p:nvSpPr>
              <p:cNvPr id="469" name=""/>
              <p:cNvSpPr/>
              <p:nvPr/>
            </p:nvSpPr>
            <p:spPr>
              <a:xfrm>
                <a:off x="5747400" y="2725560"/>
                <a:ext cx="329040" cy="196200"/>
              </a:xfrm>
              <a:prstGeom prst="rect">
                <a:avLst/>
              </a:prstGeom>
              <a:blipFill rotWithShape="0">
                <a:blip r:embed="rId3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792400" y="2789280"/>
                <a:ext cx="151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olution</a:t>
                </a:r>
                <a:endParaRPr b="0" lang="en-US" sz="300" spc="-1" strike="noStrike">
                  <a:solidFill>
                    <a:srgbClr val="ffffff"/>
                  </a:solidFill>
                  <a:latin typeface="Arial"/>
                </a:endParaRPr>
              </a:p>
            </p:txBody>
          </p:sp>
          <p:sp>
            <p:nvSpPr>
              <p:cNvPr id="471" name=""/>
              <p:cNvSpPr/>
              <p:nvPr/>
            </p:nvSpPr>
            <p:spPr>
              <a:xfrm>
                <a:off x="5851080" y="2821320"/>
                <a:ext cx="160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oftware</a:t>
                </a:r>
                <a:endParaRPr b="0" lang="en-US" sz="300" spc="-1" strike="noStrike">
                  <a:solidFill>
                    <a:srgbClr val="ffffff"/>
                  </a:solidFill>
                  <a:latin typeface="Arial"/>
                </a:endParaRPr>
              </a:p>
            </p:txBody>
          </p:sp>
          <p:sp>
            <p:nvSpPr>
              <p:cNvPr id="472" name=""/>
              <p:cNvSpPr/>
              <p:nvPr/>
            </p:nvSpPr>
            <p:spPr>
              <a:xfrm>
                <a:off x="5526000" y="3772800"/>
                <a:ext cx="397800" cy="253800"/>
              </a:xfrm>
              <a:prstGeom prst="rect">
                <a:avLst/>
              </a:prstGeom>
              <a:blipFill rotWithShape="0">
                <a:blip r:embed="rId3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632200" y="3897000"/>
                <a:ext cx="250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ventory Info</a:t>
                </a:r>
                <a:endParaRPr b="0" lang="en-US" sz="300" spc="-1" strike="noStrike">
                  <a:solidFill>
                    <a:srgbClr val="ffffff"/>
                  </a:solidFill>
                  <a:latin typeface="Arial"/>
                </a:endParaRPr>
              </a:p>
            </p:txBody>
          </p:sp>
          <p:sp>
            <p:nvSpPr>
              <p:cNvPr id="474" name=""/>
              <p:cNvSpPr/>
              <p:nvPr/>
            </p:nvSpPr>
            <p:spPr>
              <a:xfrm>
                <a:off x="5198760" y="2324520"/>
                <a:ext cx="214560" cy="166680"/>
              </a:xfrm>
              <a:prstGeom prst="rect">
                <a:avLst/>
              </a:prstGeom>
              <a:blipFill rotWithShape="0">
                <a:blip r:embed="rId3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225040" y="2408760"/>
                <a:ext cx="159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terface</a:t>
                </a:r>
                <a:endParaRPr b="0" lang="en-US" sz="300" spc="-1" strike="noStrike">
                  <a:solidFill>
                    <a:srgbClr val="ffffff"/>
                  </a:solidFill>
                  <a:latin typeface="Arial"/>
                </a:endParaRPr>
              </a:p>
            </p:txBody>
          </p:sp>
          <p:sp>
            <p:nvSpPr>
              <p:cNvPr id="476" name=""/>
              <p:cNvSpPr/>
              <p:nvPr/>
            </p:nvSpPr>
            <p:spPr>
              <a:xfrm>
                <a:off x="6293520" y="2495520"/>
                <a:ext cx="340560" cy="112320"/>
              </a:xfrm>
              <a:prstGeom prst="rect">
                <a:avLst/>
              </a:prstGeom>
              <a:blipFill rotWithShape="0">
                <a:blip r:embed="rId36"/>
                <a:srcRect/>
                <a:tile tx="0" ty="0" sx="100000" sy="100000" algn="ctr"/>
              </a:blip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330960" y="2532960"/>
                <a:ext cx="26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Sales Posting</a:t>
                </a:r>
                <a:endParaRPr b="0" lang="en-US" sz="300" spc="-1" strike="noStrike">
                  <a:solidFill>
                    <a:srgbClr val="ffffff"/>
                  </a:solidFill>
                  <a:latin typeface="Arial"/>
                </a:endParaRPr>
              </a:p>
            </p:txBody>
          </p:sp>
          <p:sp>
            <p:nvSpPr>
              <p:cNvPr id="478" name=""/>
              <p:cNvSpPr/>
              <p:nvPr/>
            </p:nvSpPr>
            <p:spPr>
              <a:xfrm>
                <a:off x="4799520" y="3840840"/>
                <a:ext cx="332280" cy="125280"/>
              </a:xfrm>
              <a:prstGeom prst="rect">
                <a:avLst/>
              </a:prstGeom>
              <a:blipFill rotWithShape="0">
                <a:blip r:embed="rId3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808880" y="3868560"/>
                <a:ext cx="33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ce Management</a:t>
                </a:r>
                <a:endParaRPr b="0" lang="en-US" sz="300" spc="-1" strike="noStrike">
                  <a:solidFill>
                    <a:srgbClr val="ffffff"/>
                  </a:solidFill>
                  <a:latin typeface="Arial"/>
                </a:endParaRPr>
              </a:p>
            </p:txBody>
          </p:sp>
          <p:sp>
            <p:nvSpPr>
              <p:cNvPr id="480" name=""/>
              <p:cNvSpPr/>
              <p:nvPr/>
            </p:nvSpPr>
            <p:spPr>
              <a:xfrm>
                <a:off x="4913640" y="390348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481" name=""/>
              <p:cNvSpPr/>
              <p:nvPr/>
            </p:nvSpPr>
            <p:spPr>
              <a:xfrm>
                <a:off x="6691320" y="3115440"/>
                <a:ext cx="342720" cy="239040"/>
              </a:xfrm>
              <a:prstGeom prst="rect">
                <a:avLst/>
              </a:prstGeom>
              <a:blipFill rotWithShape="0">
                <a:blip r:embed="rId3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737040" y="3198240"/>
                <a:ext cx="26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ycle Physical</a:t>
                </a:r>
                <a:endParaRPr b="0" lang="en-US" sz="300" spc="-1" strike="noStrike">
                  <a:solidFill>
                    <a:srgbClr val="ffffff"/>
                  </a:solidFill>
                  <a:latin typeface="Arial"/>
                </a:endParaRPr>
              </a:p>
            </p:txBody>
          </p:sp>
          <p:sp>
            <p:nvSpPr>
              <p:cNvPr id="483" name=""/>
              <p:cNvSpPr/>
              <p:nvPr/>
            </p:nvSpPr>
            <p:spPr>
              <a:xfrm>
                <a:off x="6796440" y="3234240"/>
                <a:ext cx="17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ventory</a:t>
                </a:r>
                <a:endParaRPr b="0" lang="en-US" sz="300" spc="-1" strike="noStrike">
                  <a:solidFill>
                    <a:srgbClr val="ffffff"/>
                  </a:solidFill>
                  <a:latin typeface="Arial"/>
                </a:endParaRPr>
              </a:p>
            </p:txBody>
          </p:sp>
          <p:sp>
            <p:nvSpPr>
              <p:cNvPr id="484" name=""/>
              <p:cNvSpPr/>
              <p:nvPr/>
            </p:nvSpPr>
            <p:spPr>
              <a:xfrm>
                <a:off x="6092640" y="4161240"/>
                <a:ext cx="197640" cy="125640"/>
              </a:xfrm>
              <a:prstGeom prst="rect">
                <a:avLst/>
              </a:prstGeom>
              <a:blipFill rotWithShape="0">
                <a:blip r:embed="rId3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134760" y="4190760"/>
                <a:ext cx="8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KU</a:t>
                </a:r>
                <a:endParaRPr b="0" lang="en-US" sz="300" spc="-1" strike="noStrike">
                  <a:solidFill>
                    <a:srgbClr val="ffffff"/>
                  </a:solidFill>
                  <a:latin typeface="Arial"/>
                </a:endParaRPr>
              </a:p>
            </p:txBody>
          </p:sp>
          <p:sp>
            <p:nvSpPr>
              <p:cNvPr id="486" name=""/>
              <p:cNvSpPr/>
              <p:nvPr/>
            </p:nvSpPr>
            <p:spPr>
              <a:xfrm>
                <a:off x="6113160" y="4225680"/>
                <a:ext cx="208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formation</a:t>
                </a:r>
                <a:endParaRPr b="0" lang="en-US" sz="300" spc="-1" strike="noStrike">
                  <a:solidFill>
                    <a:srgbClr val="ffffff"/>
                  </a:solidFill>
                  <a:latin typeface="Arial"/>
                </a:endParaRPr>
              </a:p>
            </p:txBody>
          </p:sp>
          <p:sp>
            <p:nvSpPr>
              <p:cNvPr id="487" name=""/>
              <p:cNvSpPr/>
              <p:nvPr/>
            </p:nvSpPr>
            <p:spPr>
              <a:xfrm>
                <a:off x="6555240" y="3993120"/>
                <a:ext cx="261360" cy="133560"/>
              </a:xfrm>
              <a:prstGeom prst="rect">
                <a:avLst/>
              </a:prstGeom>
              <a:blipFill rotWithShape="0">
                <a:blip r:embed="rId4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570000" y="4041000"/>
                <a:ext cx="30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ustomer Repair</a:t>
                </a:r>
                <a:endParaRPr b="0" lang="en-US" sz="300" spc="-1" strike="noStrike">
                  <a:solidFill>
                    <a:srgbClr val="ffffff"/>
                  </a:solidFill>
                  <a:latin typeface="Arial"/>
                </a:endParaRPr>
              </a:p>
            </p:txBody>
          </p:sp>
          <p:sp>
            <p:nvSpPr>
              <p:cNvPr id="489" name=""/>
              <p:cNvSpPr/>
              <p:nvPr/>
            </p:nvSpPr>
            <p:spPr>
              <a:xfrm>
                <a:off x="6624720" y="4074840"/>
                <a:ext cx="159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racking</a:t>
                </a:r>
                <a:endParaRPr b="0" lang="en-US" sz="300" spc="-1" strike="noStrike">
                  <a:solidFill>
                    <a:srgbClr val="ffffff"/>
                  </a:solidFill>
                  <a:latin typeface="Arial"/>
                </a:endParaRPr>
              </a:p>
            </p:txBody>
          </p:sp>
          <p:sp>
            <p:nvSpPr>
              <p:cNvPr id="490" name=""/>
              <p:cNvSpPr/>
              <p:nvPr/>
            </p:nvSpPr>
            <p:spPr>
              <a:xfrm>
                <a:off x="7652880" y="4018320"/>
                <a:ext cx="339840" cy="146880"/>
              </a:xfrm>
              <a:prstGeom prst="rect">
                <a:avLst/>
              </a:prstGeom>
              <a:blipFill rotWithShape="0">
                <a:blip r:embed="rId4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7701840" y="4059720"/>
                <a:ext cx="322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35 Early Warning</a:t>
                </a:r>
                <a:endParaRPr b="0" lang="en-US" sz="300" spc="-1" strike="noStrike">
                  <a:solidFill>
                    <a:srgbClr val="ffffff"/>
                  </a:solidFill>
                  <a:latin typeface="Arial"/>
                </a:endParaRPr>
              </a:p>
            </p:txBody>
          </p:sp>
          <p:sp>
            <p:nvSpPr>
              <p:cNvPr id="492" name=""/>
              <p:cNvSpPr/>
              <p:nvPr/>
            </p:nvSpPr>
            <p:spPr>
              <a:xfrm>
                <a:off x="7770960" y="409176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493" name=""/>
              <p:cNvSpPr/>
              <p:nvPr/>
            </p:nvSpPr>
            <p:spPr>
              <a:xfrm>
                <a:off x="5554440" y="4515480"/>
                <a:ext cx="247680" cy="146880"/>
              </a:xfrm>
              <a:prstGeom prst="rect">
                <a:avLst/>
              </a:prstGeom>
              <a:blipFill rotWithShape="0">
                <a:blip r:embed="rId4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5559840" y="4554360"/>
                <a:ext cx="23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erchandise</a:t>
                </a:r>
                <a:endParaRPr b="0" lang="en-US" sz="300" spc="-1" strike="noStrike">
                  <a:solidFill>
                    <a:srgbClr val="ffffff"/>
                  </a:solidFill>
                  <a:latin typeface="Arial"/>
                </a:endParaRPr>
              </a:p>
            </p:txBody>
          </p:sp>
          <p:sp>
            <p:nvSpPr>
              <p:cNvPr id="495" name=""/>
              <p:cNvSpPr/>
              <p:nvPr/>
            </p:nvSpPr>
            <p:spPr>
              <a:xfrm>
                <a:off x="5617800" y="4586040"/>
                <a:ext cx="15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nalysis</a:t>
                </a:r>
                <a:endParaRPr b="0" lang="en-US" sz="300" spc="-1" strike="noStrike">
                  <a:solidFill>
                    <a:srgbClr val="ffffff"/>
                  </a:solidFill>
                  <a:latin typeface="Arial"/>
                </a:endParaRPr>
              </a:p>
            </p:txBody>
          </p:sp>
          <p:sp>
            <p:nvSpPr>
              <p:cNvPr id="496" name=""/>
              <p:cNvSpPr/>
              <p:nvPr/>
            </p:nvSpPr>
            <p:spPr>
              <a:xfrm>
                <a:off x="7087680" y="2074680"/>
                <a:ext cx="294120" cy="188280"/>
              </a:xfrm>
              <a:prstGeom prst="rect">
                <a:avLst/>
              </a:prstGeom>
              <a:blipFill rotWithShape="0">
                <a:blip r:embed="rId4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174080" y="213228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uto</a:t>
                </a:r>
                <a:endParaRPr b="0" lang="en-US" sz="300" spc="-1" strike="noStrike">
                  <a:solidFill>
                    <a:srgbClr val="ffffff"/>
                  </a:solidFill>
                  <a:latin typeface="Arial"/>
                </a:endParaRPr>
              </a:p>
            </p:txBody>
          </p:sp>
          <p:sp>
            <p:nvSpPr>
              <p:cNvPr id="498" name=""/>
              <p:cNvSpPr/>
              <p:nvPr/>
            </p:nvSpPr>
            <p:spPr>
              <a:xfrm>
                <a:off x="7132320" y="2168280"/>
                <a:ext cx="27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lenishment</a:t>
                </a:r>
                <a:endParaRPr b="0" lang="en-US" sz="300" spc="-1" strike="noStrike">
                  <a:solidFill>
                    <a:srgbClr val="ffffff"/>
                  </a:solidFill>
                  <a:latin typeface="Arial"/>
                </a:endParaRPr>
              </a:p>
            </p:txBody>
          </p:sp>
          <p:sp>
            <p:nvSpPr>
              <p:cNvPr id="499" name=""/>
              <p:cNvSpPr/>
              <p:nvPr/>
            </p:nvSpPr>
            <p:spPr>
              <a:xfrm>
                <a:off x="5568480" y="3290400"/>
                <a:ext cx="225360" cy="93600"/>
              </a:xfrm>
              <a:prstGeom prst="rect">
                <a:avLst/>
              </a:prstGeom>
              <a:blipFill rotWithShape="0">
                <a:blip r:embed="rId4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5610240" y="3321000"/>
                <a:ext cx="79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TO</a:t>
                </a:r>
                <a:endParaRPr b="0" lang="en-US" sz="300" spc="-1" strike="noStrike">
                  <a:solidFill>
                    <a:srgbClr val="ffffff"/>
                  </a:solidFill>
                  <a:latin typeface="Arial"/>
                </a:endParaRPr>
              </a:p>
            </p:txBody>
          </p:sp>
          <p:sp>
            <p:nvSpPr>
              <p:cNvPr id="501" name=""/>
              <p:cNvSpPr/>
              <p:nvPr/>
            </p:nvSpPr>
            <p:spPr>
              <a:xfrm>
                <a:off x="4131720" y="3596400"/>
                <a:ext cx="185040" cy="55800"/>
              </a:xfrm>
              <a:prstGeom prst="rect">
                <a:avLst/>
              </a:prstGeom>
              <a:blipFill rotWithShape="0">
                <a:blip r:embed="rId45"/>
                <a:srcRect/>
                <a:tile tx="0" ty="0" sx="100000" sy="100000" algn="ctr"/>
              </a:blip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02" name=""/>
              <p:cNvSpPr/>
              <p:nvPr/>
            </p:nvSpPr>
            <p:spPr>
              <a:xfrm>
                <a:off x="4163400" y="3608640"/>
                <a:ext cx="160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tercept</a:t>
                </a:r>
                <a:endParaRPr b="0" lang="en-US" sz="300" spc="-1" strike="noStrike">
                  <a:solidFill>
                    <a:srgbClr val="ffffff"/>
                  </a:solidFill>
                  <a:latin typeface="Arial"/>
                </a:endParaRPr>
              </a:p>
            </p:txBody>
          </p:sp>
          <p:sp>
            <p:nvSpPr>
              <p:cNvPr id="503" name=""/>
              <p:cNvSpPr/>
              <p:nvPr/>
            </p:nvSpPr>
            <p:spPr>
              <a:xfrm>
                <a:off x="6084000" y="3504240"/>
                <a:ext cx="257040" cy="126720"/>
              </a:xfrm>
              <a:prstGeom prst="rect">
                <a:avLst/>
              </a:prstGeom>
              <a:blipFill rotWithShape="0">
                <a:blip r:embed="rId4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6096240" y="3549600"/>
                <a:ext cx="141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Counts</a:t>
                </a:r>
                <a:endParaRPr b="0" lang="en-US" sz="300" spc="-1" strike="noStrike">
                  <a:solidFill>
                    <a:srgbClr val="ffffff"/>
                  </a:solidFill>
                  <a:latin typeface="Arial"/>
                </a:endParaRPr>
              </a:p>
            </p:txBody>
          </p:sp>
          <p:sp>
            <p:nvSpPr>
              <p:cNvPr id="505" name=""/>
              <p:cNvSpPr/>
              <p:nvPr/>
            </p:nvSpPr>
            <p:spPr>
              <a:xfrm>
                <a:off x="3783240" y="3621960"/>
                <a:ext cx="218880" cy="79920"/>
              </a:xfrm>
              <a:prstGeom prst="rect">
                <a:avLst/>
              </a:prstGeom>
              <a:blipFill rotWithShape="0">
                <a:blip r:embed="rId47"/>
                <a:srcRect/>
                <a:tile tx="0" ty="0" sx="100000" sy="100000" algn="ctr"/>
              </a:blipFill>
              <a:ln w="0">
                <a:solidFill>
                  <a:srgbClr val="000000"/>
                </a:solid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506" name=""/>
              <p:cNvSpPr/>
              <p:nvPr/>
            </p:nvSpPr>
            <p:spPr>
              <a:xfrm>
                <a:off x="3794400" y="3628440"/>
                <a:ext cx="180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Employee</a:t>
                </a:r>
                <a:endParaRPr b="0" lang="en-US" sz="300" spc="-1" strike="noStrike">
                  <a:solidFill>
                    <a:srgbClr val="ffffff"/>
                  </a:solidFill>
                  <a:latin typeface="Arial"/>
                </a:endParaRPr>
              </a:p>
            </p:txBody>
          </p:sp>
          <p:sp>
            <p:nvSpPr>
              <p:cNvPr id="507" name=""/>
              <p:cNvSpPr/>
              <p:nvPr/>
            </p:nvSpPr>
            <p:spPr>
              <a:xfrm>
                <a:off x="3825720" y="3660480"/>
                <a:ext cx="172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urchase</a:t>
                </a:r>
                <a:endParaRPr b="0" lang="en-US" sz="300" spc="-1" strike="noStrike">
                  <a:solidFill>
                    <a:srgbClr val="ffffff"/>
                  </a:solidFill>
                  <a:latin typeface="Arial"/>
                </a:endParaRPr>
              </a:p>
            </p:txBody>
          </p:sp>
          <p:sp>
            <p:nvSpPr>
              <p:cNvPr id="508" name=""/>
              <p:cNvSpPr/>
              <p:nvPr/>
            </p:nvSpPr>
            <p:spPr>
              <a:xfrm>
                <a:off x="4002480" y="3254400"/>
                <a:ext cx="329040" cy="433800"/>
              </a:xfrm>
              <a:custGeom>
                <a:avLst/>
                <a:gdLst/>
                <a:ahLst/>
                <a:rect l="l" t="t" r="r" b="b"/>
                <a:pathLst>
                  <a:path w="311" h="325">
                    <a:moveTo>
                      <a:pt x="0" y="325"/>
                    </a:moveTo>
                    <a:lnTo>
                      <a:pt x="66" y="325"/>
                    </a:lnTo>
                    <a:lnTo>
                      <a:pt x="67" y="323"/>
                    </a:lnTo>
                    <a:lnTo>
                      <a:pt x="68" y="322"/>
                    </a:lnTo>
                    <a:lnTo>
                      <a:pt x="69" y="321"/>
                    </a:lnTo>
                    <a:lnTo>
                      <a:pt x="71" y="321"/>
                    </a:lnTo>
                    <a:lnTo>
                      <a:pt x="73" y="321"/>
                    </a:lnTo>
                    <a:lnTo>
                      <a:pt x="74" y="322"/>
                    </a:lnTo>
                    <a:lnTo>
                      <a:pt x="75" y="323"/>
                    </a:lnTo>
                    <a:lnTo>
                      <a:pt x="75" y="325"/>
                    </a:lnTo>
                    <a:lnTo>
                      <a:pt x="90" y="325"/>
                    </a:lnTo>
                    <a:lnTo>
                      <a:pt x="90" y="323"/>
                    </a:lnTo>
                    <a:lnTo>
                      <a:pt x="91" y="322"/>
                    </a:lnTo>
                    <a:lnTo>
                      <a:pt x="93" y="321"/>
                    </a:lnTo>
                    <a:lnTo>
                      <a:pt x="95" y="321"/>
                    </a:lnTo>
                    <a:lnTo>
                      <a:pt x="96" y="321"/>
                    </a:lnTo>
                    <a:lnTo>
                      <a:pt x="98" y="322"/>
                    </a:lnTo>
                    <a:lnTo>
                      <a:pt x="99" y="323"/>
                    </a:lnTo>
                    <a:lnTo>
                      <a:pt x="99" y="325"/>
                    </a:lnTo>
                    <a:lnTo>
                      <a:pt x="104" y="325"/>
                    </a:lnTo>
                    <a:lnTo>
                      <a:pt x="104" y="323"/>
                    </a:lnTo>
                    <a:lnTo>
                      <a:pt x="105" y="322"/>
                    </a:lnTo>
                    <a:lnTo>
                      <a:pt x="106" y="321"/>
                    </a:lnTo>
                    <a:lnTo>
                      <a:pt x="108" y="321"/>
                    </a:lnTo>
                    <a:lnTo>
                      <a:pt x="110" y="321"/>
                    </a:lnTo>
                    <a:lnTo>
                      <a:pt x="111" y="322"/>
                    </a:lnTo>
                    <a:lnTo>
                      <a:pt x="112" y="323"/>
                    </a:lnTo>
                    <a:lnTo>
                      <a:pt x="113" y="325"/>
                    </a:lnTo>
                    <a:lnTo>
                      <a:pt x="142" y="325"/>
                    </a:lnTo>
                    <a:lnTo>
                      <a:pt x="142" y="323"/>
                    </a:lnTo>
                    <a:lnTo>
                      <a:pt x="144" y="322"/>
                    </a:lnTo>
                    <a:lnTo>
                      <a:pt x="145" y="321"/>
                    </a:lnTo>
                    <a:lnTo>
                      <a:pt x="147" y="321"/>
                    </a:lnTo>
                    <a:lnTo>
                      <a:pt x="148" y="321"/>
                    </a:lnTo>
                    <a:lnTo>
                      <a:pt x="150" y="322"/>
                    </a:lnTo>
                    <a:lnTo>
                      <a:pt x="151" y="323"/>
                    </a:lnTo>
                    <a:lnTo>
                      <a:pt x="151" y="325"/>
                    </a:lnTo>
                    <a:lnTo>
                      <a:pt x="174" y="325"/>
                    </a:lnTo>
                    <a:lnTo>
                      <a:pt x="174" y="323"/>
                    </a:lnTo>
                    <a:lnTo>
                      <a:pt x="175" y="322"/>
                    </a:lnTo>
                    <a:lnTo>
                      <a:pt x="176" y="321"/>
                    </a:lnTo>
                    <a:lnTo>
                      <a:pt x="178" y="321"/>
                    </a:lnTo>
                    <a:lnTo>
                      <a:pt x="180" y="321"/>
                    </a:lnTo>
                    <a:lnTo>
                      <a:pt x="181" y="322"/>
                    </a:lnTo>
                    <a:lnTo>
                      <a:pt x="182" y="323"/>
                    </a:lnTo>
                    <a:lnTo>
                      <a:pt x="183" y="325"/>
                    </a:lnTo>
                    <a:lnTo>
                      <a:pt x="199" y="325"/>
                    </a:lnTo>
                    <a:lnTo>
                      <a:pt x="199" y="323"/>
                    </a:lnTo>
                    <a:lnTo>
                      <a:pt x="200" y="322"/>
                    </a:lnTo>
                    <a:lnTo>
                      <a:pt x="202" y="321"/>
                    </a:lnTo>
                    <a:lnTo>
                      <a:pt x="203" y="321"/>
                    </a:lnTo>
                    <a:lnTo>
                      <a:pt x="205" y="321"/>
                    </a:lnTo>
                    <a:lnTo>
                      <a:pt x="206" y="322"/>
                    </a:lnTo>
                    <a:lnTo>
                      <a:pt x="207" y="323"/>
                    </a:lnTo>
                    <a:lnTo>
                      <a:pt x="208" y="325"/>
                    </a:lnTo>
                    <a:lnTo>
                      <a:pt x="274" y="325"/>
                    </a:lnTo>
                    <a:lnTo>
                      <a:pt x="274" y="323"/>
                    </a:lnTo>
                    <a:lnTo>
                      <a:pt x="275" y="322"/>
                    </a:lnTo>
                    <a:lnTo>
                      <a:pt x="277" y="321"/>
                    </a:lnTo>
                    <a:lnTo>
                      <a:pt x="278" y="321"/>
                    </a:lnTo>
                    <a:lnTo>
                      <a:pt x="280" y="321"/>
                    </a:lnTo>
                    <a:lnTo>
                      <a:pt x="282" y="322"/>
                    </a:lnTo>
                    <a:lnTo>
                      <a:pt x="283" y="323"/>
                    </a:lnTo>
                    <a:lnTo>
                      <a:pt x="283" y="325"/>
                    </a:lnTo>
                    <a:lnTo>
                      <a:pt x="311" y="325"/>
                    </a:lnTo>
                    <a:lnTo>
                      <a:pt x="311" y="29"/>
                    </a:lnTo>
                    <a:lnTo>
                      <a:pt x="285" y="29"/>
                    </a:lnTo>
                    <a:lnTo>
                      <a:pt x="285" y="28"/>
                    </a:lnTo>
                    <a:lnTo>
                      <a:pt x="284" y="27"/>
                    </a:lnTo>
                    <a:lnTo>
                      <a:pt x="283" y="26"/>
                    </a:lnTo>
                    <a:lnTo>
                      <a:pt x="281" y="26"/>
                    </a:lnTo>
                    <a:lnTo>
                      <a:pt x="279" y="26"/>
                    </a:lnTo>
                    <a:lnTo>
                      <a:pt x="278" y="27"/>
                    </a:lnTo>
                    <a:lnTo>
                      <a:pt x="277" y="28"/>
                    </a:lnTo>
                    <a:lnTo>
                      <a:pt x="276" y="29"/>
                    </a:lnTo>
                    <a:lnTo>
                      <a:pt x="255" y="29"/>
                    </a:lnTo>
                    <a:lnTo>
                      <a:pt x="25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266360" y="324108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10" name=""/>
              <p:cNvSpPr/>
              <p:nvPr/>
            </p:nvSpPr>
            <p:spPr>
              <a:xfrm>
                <a:off x="3716640" y="4379040"/>
                <a:ext cx="201960" cy="68040"/>
              </a:xfrm>
              <a:prstGeom prst="rect">
                <a:avLst/>
              </a:prstGeom>
              <a:blipFill rotWithShape="0">
                <a:blip r:embed="rId48"/>
                <a:srcRect/>
                <a:tile tx="0" ty="0" sx="100000" sy="100000" algn="ctr"/>
              </a:blip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11" name=""/>
              <p:cNvSpPr/>
              <p:nvPr/>
            </p:nvSpPr>
            <p:spPr>
              <a:xfrm>
                <a:off x="3744000" y="4395240"/>
                <a:ext cx="104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ex A</a:t>
                </a:r>
                <a:endParaRPr b="0" lang="en-US" sz="300" spc="-1" strike="noStrike">
                  <a:solidFill>
                    <a:srgbClr val="ffffff"/>
                  </a:solidFill>
                  <a:latin typeface="Arial"/>
                </a:endParaRPr>
              </a:p>
            </p:txBody>
          </p:sp>
          <p:sp>
            <p:nvSpPr>
              <p:cNvPr id="512" name=""/>
              <p:cNvSpPr/>
              <p:nvPr/>
            </p:nvSpPr>
            <p:spPr>
              <a:xfrm>
                <a:off x="3748320" y="3249000"/>
                <a:ext cx="150480" cy="69480"/>
              </a:xfrm>
              <a:prstGeom prst="rect">
                <a:avLst/>
              </a:prstGeom>
              <a:blipFill rotWithShape="0">
                <a:blip r:embed="rId49"/>
                <a:srcRect/>
                <a:tile tx="0" ty="0" sx="100000" sy="100000" algn="ctr"/>
              </a:blip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13" name=""/>
              <p:cNvSpPr/>
              <p:nvPr/>
            </p:nvSpPr>
            <p:spPr>
              <a:xfrm>
                <a:off x="3791160" y="3249000"/>
                <a:ext cx="83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CH</a:t>
                </a:r>
                <a:endParaRPr b="0" lang="en-US" sz="300" spc="-1" strike="noStrike">
                  <a:solidFill>
                    <a:srgbClr val="ffffff"/>
                  </a:solidFill>
                  <a:latin typeface="Arial"/>
                </a:endParaRPr>
              </a:p>
            </p:txBody>
          </p:sp>
          <p:sp>
            <p:nvSpPr>
              <p:cNvPr id="514" name=""/>
              <p:cNvSpPr/>
              <p:nvPr/>
            </p:nvSpPr>
            <p:spPr>
              <a:xfrm>
                <a:off x="3723120" y="3283560"/>
                <a:ext cx="25200" cy="82440"/>
              </a:xfrm>
              <a:custGeom>
                <a:avLst/>
                <a:gdLst/>
                <a:ahLst/>
                <a:rect l="l" t="t" r="r" b="b"/>
                <a:pathLst>
                  <a:path w="24" h="62">
                    <a:moveTo>
                      <a:pt x="24" y="0"/>
                    </a:moveTo>
                    <a:lnTo>
                      <a:pt x="0" y="0"/>
                    </a:lnTo>
                    <a:lnTo>
                      <a:pt x="0" y="62"/>
                    </a:lnTo>
                    <a:lnTo>
                      <a:pt x="12" y="62"/>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15" name=""/>
              <p:cNvSpPr/>
              <p:nvPr/>
            </p:nvSpPr>
            <p:spPr>
              <a:xfrm>
                <a:off x="3734640" y="335988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16" name=""/>
              <p:cNvSpPr/>
              <p:nvPr/>
            </p:nvSpPr>
            <p:spPr>
              <a:xfrm>
                <a:off x="3709080" y="2725560"/>
                <a:ext cx="228600" cy="83880"/>
              </a:xfrm>
              <a:prstGeom prst="rect">
                <a:avLst/>
              </a:prstGeom>
              <a:blipFill rotWithShape="0">
                <a:blip r:embed="rId50"/>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17" name=""/>
              <p:cNvSpPr/>
              <p:nvPr/>
            </p:nvSpPr>
            <p:spPr>
              <a:xfrm>
                <a:off x="3728880" y="2752200"/>
                <a:ext cx="256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ck Options</a:t>
                </a:r>
                <a:endParaRPr b="0" lang="en-US" sz="300" spc="-1" strike="noStrike">
                  <a:solidFill>
                    <a:srgbClr val="ffffff"/>
                  </a:solidFill>
                  <a:latin typeface="Arial"/>
                </a:endParaRPr>
              </a:p>
            </p:txBody>
          </p:sp>
          <p:sp>
            <p:nvSpPr>
              <p:cNvPr id="518" name=""/>
              <p:cNvSpPr/>
              <p:nvPr/>
            </p:nvSpPr>
            <p:spPr>
              <a:xfrm>
                <a:off x="8156880" y="1994760"/>
                <a:ext cx="345600" cy="104040"/>
              </a:xfrm>
              <a:prstGeom prst="rect">
                <a:avLst/>
              </a:prstGeom>
              <a:blipFill rotWithShape="0">
                <a:blip r:embed="rId5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167680" y="2010960"/>
                <a:ext cx="369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ustomer Perceived</a:t>
                </a:r>
                <a:endParaRPr b="0" lang="en-US" sz="300" spc="-1" strike="noStrike">
                  <a:solidFill>
                    <a:srgbClr val="ffffff"/>
                  </a:solidFill>
                  <a:latin typeface="Arial"/>
                </a:endParaRPr>
              </a:p>
            </p:txBody>
          </p:sp>
          <p:sp>
            <p:nvSpPr>
              <p:cNvPr id="520" name=""/>
              <p:cNvSpPr/>
              <p:nvPr/>
            </p:nvSpPr>
            <p:spPr>
              <a:xfrm>
                <a:off x="8272440" y="2050920"/>
                <a:ext cx="150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Stock</a:t>
                </a:r>
                <a:endParaRPr b="0" lang="en-US" sz="300" spc="-1" strike="noStrike">
                  <a:solidFill>
                    <a:srgbClr val="ffffff"/>
                  </a:solidFill>
                  <a:latin typeface="Arial"/>
                </a:endParaRPr>
              </a:p>
            </p:txBody>
          </p:sp>
          <p:sp>
            <p:nvSpPr>
              <p:cNvPr id="521" name=""/>
              <p:cNvSpPr/>
              <p:nvPr/>
            </p:nvSpPr>
            <p:spPr>
              <a:xfrm>
                <a:off x="3727080" y="4516560"/>
                <a:ext cx="203040" cy="138960"/>
              </a:xfrm>
              <a:prstGeom prst="rect">
                <a:avLst/>
              </a:prstGeom>
              <a:blipFill rotWithShape="0">
                <a:blip r:embed="rId5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50120" y="4568760"/>
                <a:ext cx="45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x</a:t>
                </a:r>
                <a:endParaRPr b="0" lang="en-US" sz="300" spc="-1" strike="noStrike">
                  <a:solidFill>
                    <a:srgbClr val="ffffff"/>
                  </a:solidFill>
                  <a:latin typeface="Arial"/>
                </a:endParaRPr>
              </a:p>
            </p:txBody>
          </p:sp>
          <p:sp>
            <p:nvSpPr>
              <p:cNvPr id="523" name=""/>
              <p:cNvSpPr/>
              <p:nvPr/>
            </p:nvSpPr>
            <p:spPr>
              <a:xfrm>
                <a:off x="5166000" y="5196600"/>
                <a:ext cx="187200" cy="83880"/>
              </a:xfrm>
              <a:prstGeom prst="rect">
                <a:avLst/>
              </a:prstGeom>
              <a:blipFill rotWithShape="0">
                <a:blip r:embed="rId53"/>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4" name=""/>
              <p:cNvSpPr/>
              <p:nvPr/>
            </p:nvSpPr>
            <p:spPr>
              <a:xfrm>
                <a:off x="5199840" y="5220720"/>
                <a:ext cx="52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S</a:t>
                </a:r>
                <a:endParaRPr b="0" lang="en-US" sz="300" spc="-1" strike="noStrike">
                  <a:solidFill>
                    <a:srgbClr val="ffffff"/>
                  </a:solidFill>
                  <a:latin typeface="Arial"/>
                </a:endParaRPr>
              </a:p>
            </p:txBody>
          </p:sp>
          <p:sp>
            <p:nvSpPr>
              <p:cNvPr id="525" name=""/>
              <p:cNvSpPr/>
              <p:nvPr/>
            </p:nvSpPr>
            <p:spPr>
              <a:xfrm>
                <a:off x="5002920" y="4933440"/>
                <a:ext cx="162720" cy="304200"/>
              </a:xfrm>
              <a:custGeom>
                <a:avLst/>
                <a:gdLst/>
                <a:ahLst/>
                <a:rect l="l" t="t" r="r" b="b"/>
                <a:pathLst>
                  <a:path w="154" h="228">
                    <a:moveTo>
                      <a:pt x="154" y="228"/>
                    </a:moveTo>
                    <a:lnTo>
                      <a:pt x="0" y="228"/>
                    </a:lnTo>
                    <a:lnTo>
                      <a:pt x="0"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4996440" y="4924080"/>
                <a:ext cx="12600" cy="11880"/>
              </a:xfrm>
              <a:custGeom>
                <a:avLst/>
                <a:gdLst/>
                <a:ahLst/>
                <a:rect l="l" t="t" r="r" b="b"/>
                <a:pathLst>
                  <a:path w="12" h="9">
                    <a:moveTo>
                      <a:pt x="6" y="0"/>
                    </a:moveTo>
                    <a:lnTo>
                      <a:pt x="12" y="9"/>
                    </a:lnTo>
                    <a:lnTo>
                      <a:pt x="9" y="8"/>
                    </a:lnTo>
                    <a:lnTo>
                      <a:pt x="6" y="8"/>
                    </a:lnTo>
                    <a:lnTo>
                      <a:pt x="3" y="8"/>
                    </a:lnTo>
                    <a:lnTo>
                      <a:pt x="0" y="9"/>
                    </a:lnTo>
                    <a:lnTo>
                      <a:pt x="6"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7" name=""/>
              <p:cNvSpPr/>
              <p:nvPr/>
            </p:nvSpPr>
            <p:spPr>
              <a:xfrm>
                <a:off x="4480200" y="3241080"/>
                <a:ext cx="394560" cy="1538640"/>
              </a:xfrm>
              <a:custGeom>
                <a:avLst/>
                <a:gdLst/>
                <a:ahLst/>
                <a:rect l="l" t="t" r="r" b="b"/>
                <a:pathLst>
                  <a:path w="373" h="1152">
                    <a:moveTo>
                      <a:pt x="0" y="0"/>
                    </a:moveTo>
                    <a:lnTo>
                      <a:pt x="0" y="34"/>
                    </a:lnTo>
                    <a:lnTo>
                      <a:pt x="33" y="34"/>
                    </a:lnTo>
                    <a:lnTo>
                      <a:pt x="34" y="33"/>
                    </a:lnTo>
                    <a:lnTo>
                      <a:pt x="35" y="32"/>
                    </a:lnTo>
                    <a:lnTo>
                      <a:pt x="36" y="31"/>
                    </a:lnTo>
                    <a:lnTo>
                      <a:pt x="38" y="31"/>
                    </a:lnTo>
                    <a:lnTo>
                      <a:pt x="40" y="31"/>
                    </a:lnTo>
                    <a:lnTo>
                      <a:pt x="41" y="32"/>
                    </a:lnTo>
                    <a:lnTo>
                      <a:pt x="42" y="33"/>
                    </a:lnTo>
                    <a:lnTo>
                      <a:pt x="43" y="34"/>
                    </a:lnTo>
                    <a:lnTo>
                      <a:pt x="61" y="34"/>
                    </a:lnTo>
                    <a:lnTo>
                      <a:pt x="61" y="33"/>
                    </a:lnTo>
                    <a:lnTo>
                      <a:pt x="62" y="32"/>
                    </a:lnTo>
                    <a:lnTo>
                      <a:pt x="63" y="31"/>
                    </a:lnTo>
                    <a:lnTo>
                      <a:pt x="65" y="31"/>
                    </a:lnTo>
                    <a:lnTo>
                      <a:pt x="67" y="31"/>
                    </a:lnTo>
                    <a:lnTo>
                      <a:pt x="68" y="32"/>
                    </a:lnTo>
                    <a:lnTo>
                      <a:pt x="69" y="33"/>
                    </a:lnTo>
                    <a:lnTo>
                      <a:pt x="70" y="34"/>
                    </a:lnTo>
                    <a:lnTo>
                      <a:pt x="77" y="34"/>
                    </a:lnTo>
                    <a:lnTo>
                      <a:pt x="77" y="33"/>
                    </a:lnTo>
                    <a:lnTo>
                      <a:pt x="78" y="32"/>
                    </a:lnTo>
                    <a:lnTo>
                      <a:pt x="80" y="31"/>
                    </a:lnTo>
                    <a:lnTo>
                      <a:pt x="81" y="31"/>
                    </a:lnTo>
                    <a:lnTo>
                      <a:pt x="83" y="31"/>
                    </a:lnTo>
                    <a:lnTo>
                      <a:pt x="85" y="32"/>
                    </a:lnTo>
                    <a:lnTo>
                      <a:pt x="86" y="33"/>
                    </a:lnTo>
                    <a:lnTo>
                      <a:pt x="86" y="34"/>
                    </a:lnTo>
                    <a:lnTo>
                      <a:pt x="100" y="34"/>
                    </a:lnTo>
                    <a:lnTo>
                      <a:pt x="101" y="33"/>
                    </a:lnTo>
                    <a:lnTo>
                      <a:pt x="101" y="32"/>
                    </a:lnTo>
                    <a:lnTo>
                      <a:pt x="103" y="31"/>
                    </a:lnTo>
                    <a:lnTo>
                      <a:pt x="105" y="31"/>
                    </a:lnTo>
                    <a:lnTo>
                      <a:pt x="106" y="31"/>
                    </a:lnTo>
                    <a:lnTo>
                      <a:pt x="108" y="32"/>
                    </a:lnTo>
                    <a:lnTo>
                      <a:pt x="109" y="33"/>
                    </a:lnTo>
                    <a:lnTo>
                      <a:pt x="109" y="34"/>
                    </a:lnTo>
                    <a:lnTo>
                      <a:pt x="114" y="34"/>
                    </a:lnTo>
                    <a:lnTo>
                      <a:pt x="114" y="33"/>
                    </a:lnTo>
                    <a:lnTo>
                      <a:pt x="115" y="32"/>
                    </a:lnTo>
                    <a:lnTo>
                      <a:pt x="116" y="31"/>
                    </a:lnTo>
                    <a:lnTo>
                      <a:pt x="118" y="31"/>
                    </a:lnTo>
                    <a:lnTo>
                      <a:pt x="120" y="31"/>
                    </a:lnTo>
                    <a:lnTo>
                      <a:pt x="121" y="32"/>
                    </a:lnTo>
                    <a:lnTo>
                      <a:pt x="122" y="33"/>
                    </a:lnTo>
                    <a:lnTo>
                      <a:pt x="122" y="34"/>
                    </a:lnTo>
                    <a:lnTo>
                      <a:pt x="133" y="34"/>
                    </a:lnTo>
                    <a:lnTo>
                      <a:pt x="133" y="32"/>
                    </a:lnTo>
                    <a:lnTo>
                      <a:pt x="134" y="31"/>
                    </a:lnTo>
                    <a:lnTo>
                      <a:pt x="136" y="29"/>
                    </a:lnTo>
                    <a:lnTo>
                      <a:pt x="138" y="28"/>
                    </a:lnTo>
                    <a:lnTo>
                      <a:pt x="140" y="28"/>
                    </a:lnTo>
                    <a:lnTo>
                      <a:pt x="142" y="28"/>
                    </a:lnTo>
                    <a:lnTo>
                      <a:pt x="145" y="28"/>
                    </a:lnTo>
                    <a:lnTo>
                      <a:pt x="147" y="29"/>
                    </a:lnTo>
                    <a:lnTo>
                      <a:pt x="148" y="31"/>
                    </a:lnTo>
                    <a:lnTo>
                      <a:pt x="149" y="32"/>
                    </a:lnTo>
                    <a:lnTo>
                      <a:pt x="149" y="34"/>
                    </a:lnTo>
                    <a:lnTo>
                      <a:pt x="156" y="34"/>
                    </a:lnTo>
                    <a:lnTo>
                      <a:pt x="156" y="33"/>
                    </a:lnTo>
                    <a:lnTo>
                      <a:pt x="157" y="32"/>
                    </a:lnTo>
                    <a:lnTo>
                      <a:pt x="159" y="31"/>
                    </a:lnTo>
                    <a:lnTo>
                      <a:pt x="160" y="31"/>
                    </a:lnTo>
                    <a:lnTo>
                      <a:pt x="162" y="31"/>
                    </a:lnTo>
                    <a:lnTo>
                      <a:pt x="164" y="32"/>
                    </a:lnTo>
                    <a:lnTo>
                      <a:pt x="164" y="33"/>
                    </a:lnTo>
                    <a:lnTo>
                      <a:pt x="165" y="34"/>
                    </a:lnTo>
                    <a:lnTo>
                      <a:pt x="165" y="34"/>
                    </a:lnTo>
                    <a:lnTo>
                      <a:pt x="166" y="33"/>
                    </a:lnTo>
                    <a:lnTo>
                      <a:pt x="167" y="32"/>
                    </a:lnTo>
                    <a:lnTo>
                      <a:pt x="168" y="31"/>
                    </a:lnTo>
                    <a:lnTo>
                      <a:pt x="170" y="31"/>
                    </a:lnTo>
                    <a:lnTo>
                      <a:pt x="171" y="31"/>
                    </a:lnTo>
                    <a:lnTo>
                      <a:pt x="173" y="32"/>
                    </a:lnTo>
                    <a:lnTo>
                      <a:pt x="174" y="33"/>
                    </a:lnTo>
                    <a:lnTo>
                      <a:pt x="174" y="34"/>
                    </a:lnTo>
                    <a:lnTo>
                      <a:pt x="177" y="34"/>
                    </a:lnTo>
                    <a:lnTo>
                      <a:pt x="177" y="1152"/>
                    </a:lnTo>
                    <a:lnTo>
                      <a:pt x="269" y="1152"/>
                    </a:lnTo>
                    <a:lnTo>
                      <a:pt x="269" y="1151"/>
                    </a:lnTo>
                    <a:lnTo>
                      <a:pt x="271" y="1150"/>
                    </a:lnTo>
                    <a:lnTo>
                      <a:pt x="272" y="1149"/>
                    </a:lnTo>
                    <a:lnTo>
                      <a:pt x="274" y="1149"/>
                    </a:lnTo>
                    <a:lnTo>
                      <a:pt x="275" y="1149"/>
                    </a:lnTo>
                    <a:lnTo>
                      <a:pt x="277" y="1150"/>
                    </a:lnTo>
                    <a:lnTo>
                      <a:pt x="278" y="1151"/>
                    </a:lnTo>
                    <a:lnTo>
                      <a:pt x="278" y="1152"/>
                    </a:lnTo>
                    <a:lnTo>
                      <a:pt x="314" y="1152"/>
                    </a:lnTo>
                    <a:lnTo>
                      <a:pt x="314" y="1151"/>
                    </a:lnTo>
                    <a:lnTo>
                      <a:pt x="315" y="1150"/>
                    </a:lnTo>
                    <a:lnTo>
                      <a:pt x="317" y="1149"/>
                    </a:lnTo>
                    <a:lnTo>
                      <a:pt x="318" y="1149"/>
                    </a:lnTo>
                    <a:lnTo>
                      <a:pt x="320" y="1149"/>
                    </a:lnTo>
                    <a:lnTo>
                      <a:pt x="322" y="1150"/>
                    </a:lnTo>
                    <a:lnTo>
                      <a:pt x="323" y="1151"/>
                    </a:lnTo>
                    <a:lnTo>
                      <a:pt x="323" y="1152"/>
                    </a:lnTo>
                    <a:lnTo>
                      <a:pt x="373" y="1152"/>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872960" y="4774320"/>
                <a:ext cx="14400" cy="11880"/>
              </a:xfrm>
              <a:custGeom>
                <a:avLst/>
                <a:gdLst/>
                <a:ahLst/>
                <a:rect l="l" t="t" r="r" b="b"/>
                <a:pathLst>
                  <a:path w="14" h="9">
                    <a:moveTo>
                      <a:pt x="2" y="0"/>
                    </a:moveTo>
                    <a:lnTo>
                      <a:pt x="14" y="4"/>
                    </a:lnTo>
                    <a:lnTo>
                      <a:pt x="2" y="9"/>
                    </a:lnTo>
                    <a:lnTo>
                      <a:pt x="1" y="6"/>
                    </a:lnTo>
                    <a:lnTo>
                      <a:pt x="0" y="4"/>
                    </a:lnTo>
                    <a:lnTo>
                      <a:pt x="1" y="2"/>
                    </a:lnTo>
                    <a:lnTo>
                      <a:pt x="2"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9" name=""/>
              <p:cNvSpPr/>
              <p:nvPr/>
            </p:nvSpPr>
            <p:spPr>
              <a:xfrm>
                <a:off x="5182920" y="2921760"/>
                <a:ext cx="1380240" cy="1784520"/>
              </a:xfrm>
              <a:custGeom>
                <a:avLst/>
                <a:gdLst/>
                <a:ahLst/>
                <a:rect l="l" t="t" r="r" b="b"/>
                <a:pathLst>
                  <a:path w="1304" h="1336">
                    <a:moveTo>
                      <a:pt x="1304" y="5"/>
                    </a:moveTo>
                    <a:lnTo>
                      <a:pt x="1287" y="5"/>
                    </a:lnTo>
                    <a:lnTo>
                      <a:pt x="1287" y="4"/>
                    </a:lnTo>
                    <a:lnTo>
                      <a:pt x="1286" y="2"/>
                    </a:lnTo>
                    <a:lnTo>
                      <a:pt x="1285" y="2"/>
                    </a:lnTo>
                    <a:lnTo>
                      <a:pt x="1283" y="2"/>
                    </a:lnTo>
                    <a:lnTo>
                      <a:pt x="1281" y="2"/>
                    </a:lnTo>
                    <a:lnTo>
                      <a:pt x="1280" y="2"/>
                    </a:lnTo>
                    <a:lnTo>
                      <a:pt x="1279" y="4"/>
                    </a:lnTo>
                    <a:lnTo>
                      <a:pt x="1278" y="5"/>
                    </a:lnTo>
                    <a:lnTo>
                      <a:pt x="1269" y="5"/>
                    </a:lnTo>
                    <a:lnTo>
                      <a:pt x="1268" y="4"/>
                    </a:lnTo>
                    <a:lnTo>
                      <a:pt x="1267" y="2"/>
                    </a:lnTo>
                    <a:lnTo>
                      <a:pt x="1266" y="2"/>
                    </a:lnTo>
                    <a:lnTo>
                      <a:pt x="1264" y="2"/>
                    </a:lnTo>
                    <a:lnTo>
                      <a:pt x="1263" y="2"/>
                    </a:lnTo>
                    <a:lnTo>
                      <a:pt x="1261" y="2"/>
                    </a:lnTo>
                    <a:lnTo>
                      <a:pt x="1260" y="4"/>
                    </a:lnTo>
                    <a:lnTo>
                      <a:pt x="1260" y="5"/>
                    </a:lnTo>
                    <a:lnTo>
                      <a:pt x="1254" y="5"/>
                    </a:lnTo>
                    <a:lnTo>
                      <a:pt x="1253" y="4"/>
                    </a:lnTo>
                    <a:lnTo>
                      <a:pt x="1252" y="2"/>
                    </a:lnTo>
                    <a:lnTo>
                      <a:pt x="1251" y="2"/>
                    </a:lnTo>
                    <a:lnTo>
                      <a:pt x="1249" y="2"/>
                    </a:lnTo>
                    <a:lnTo>
                      <a:pt x="1247" y="2"/>
                    </a:lnTo>
                    <a:lnTo>
                      <a:pt x="1246" y="2"/>
                    </a:lnTo>
                    <a:lnTo>
                      <a:pt x="1245" y="4"/>
                    </a:lnTo>
                    <a:lnTo>
                      <a:pt x="1245" y="5"/>
                    </a:lnTo>
                    <a:lnTo>
                      <a:pt x="1234" y="5"/>
                    </a:lnTo>
                    <a:lnTo>
                      <a:pt x="1234" y="4"/>
                    </a:lnTo>
                    <a:lnTo>
                      <a:pt x="1233" y="2"/>
                    </a:lnTo>
                    <a:lnTo>
                      <a:pt x="1231" y="2"/>
                    </a:lnTo>
                    <a:lnTo>
                      <a:pt x="1230" y="2"/>
                    </a:lnTo>
                    <a:lnTo>
                      <a:pt x="1228" y="2"/>
                    </a:lnTo>
                    <a:lnTo>
                      <a:pt x="1227" y="2"/>
                    </a:lnTo>
                    <a:lnTo>
                      <a:pt x="1225" y="4"/>
                    </a:lnTo>
                    <a:lnTo>
                      <a:pt x="1225" y="5"/>
                    </a:lnTo>
                    <a:lnTo>
                      <a:pt x="1214" y="5"/>
                    </a:lnTo>
                    <a:lnTo>
                      <a:pt x="1214" y="4"/>
                    </a:lnTo>
                    <a:lnTo>
                      <a:pt x="1213" y="2"/>
                    </a:lnTo>
                    <a:lnTo>
                      <a:pt x="1212" y="2"/>
                    </a:lnTo>
                    <a:lnTo>
                      <a:pt x="1210" y="2"/>
                    </a:lnTo>
                    <a:lnTo>
                      <a:pt x="1208" y="2"/>
                    </a:lnTo>
                    <a:lnTo>
                      <a:pt x="1207" y="2"/>
                    </a:lnTo>
                    <a:lnTo>
                      <a:pt x="1206" y="4"/>
                    </a:lnTo>
                    <a:lnTo>
                      <a:pt x="1205" y="5"/>
                    </a:lnTo>
                    <a:lnTo>
                      <a:pt x="1193" y="5"/>
                    </a:lnTo>
                    <a:lnTo>
                      <a:pt x="1192" y="4"/>
                    </a:lnTo>
                    <a:lnTo>
                      <a:pt x="1191" y="2"/>
                    </a:lnTo>
                    <a:lnTo>
                      <a:pt x="1190" y="2"/>
                    </a:lnTo>
                    <a:lnTo>
                      <a:pt x="1188" y="2"/>
                    </a:lnTo>
                    <a:lnTo>
                      <a:pt x="1187" y="2"/>
                    </a:lnTo>
                    <a:lnTo>
                      <a:pt x="1185" y="2"/>
                    </a:lnTo>
                    <a:lnTo>
                      <a:pt x="1184" y="4"/>
                    </a:lnTo>
                    <a:lnTo>
                      <a:pt x="1184" y="5"/>
                    </a:lnTo>
                    <a:lnTo>
                      <a:pt x="1169" y="5"/>
                    </a:lnTo>
                    <a:lnTo>
                      <a:pt x="1169" y="4"/>
                    </a:lnTo>
                    <a:lnTo>
                      <a:pt x="1168" y="2"/>
                    </a:lnTo>
                    <a:lnTo>
                      <a:pt x="1166" y="2"/>
                    </a:lnTo>
                    <a:lnTo>
                      <a:pt x="1165" y="2"/>
                    </a:lnTo>
                    <a:lnTo>
                      <a:pt x="1163" y="2"/>
                    </a:lnTo>
                    <a:lnTo>
                      <a:pt x="1161" y="2"/>
                    </a:lnTo>
                    <a:lnTo>
                      <a:pt x="1161" y="4"/>
                    </a:lnTo>
                    <a:lnTo>
                      <a:pt x="1160" y="5"/>
                    </a:lnTo>
                    <a:lnTo>
                      <a:pt x="1149" y="5"/>
                    </a:lnTo>
                    <a:lnTo>
                      <a:pt x="1149" y="4"/>
                    </a:lnTo>
                    <a:lnTo>
                      <a:pt x="1148" y="2"/>
                    </a:lnTo>
                    <a:lnTo>
                      <a:pt x="1146" y="2"/>
                    </a:lnTo>
                    <a:lnTo>
                      <a:pt x="1144" y="2"/>
                    </a:lnTo>
                    <a:lnTo>
                      <a:pt x="1143" y="2"/>
                    </a:lnTo>
                    <a:lnTo>
                      <a:pt x="1141" y="2"/>
                    </a:lnTo>
                    <a:lnTo>
                      <a:pt x="1140" y="4"/>
                    </a:lnTo>
                    <a:lnTo>
                      <a:pt x="1140" y="5"/>
                    </a:lnTo>
                    <a:lnTo>
                      <a:pt x="1133" y="5"/>
                    </a:lnTo>
                    <a:lnTo>
                      <a:pt x="1133" y="3"/>
                    </a:lnTo>
                    <a:lnTo>
                      <a:pt x="1132" y="2"/>
                    </a:lnTo>
                    <a:lnTo>
                      <a:pt x="1130" y="1"/>
                    </a:lnTo>
                    <a:lnTo>
                      <a:pt x="1129" y="0"/>
                    </a:lnTo>
                    <a:lnTo>
                      <a:pt x="1126" y="0"/>
                    </a:lnTo>
                    <a:lnTo>
                      <a:pt x="1124" y="0"/>
                    </a:lnTo>
                    <a:lnTo>
                      <a:pt x="1122" y="1"/>
                    </a:lnTo>
                    <a:lnTo>
                      <a:pt x="1121" y="2"/>
                    </a:lnTo>
                    <a:lnTo>
                      <a:pt x="1120" y="3"/>
                    </a:lnTo>
                    <a:lnTo>
                      <a:pt x="1120" y="5"/>
                    </a:lnTo>
                    <a:lnTo>
                      <a:pt x="1051" y="5"/>
                    </a:lnTo>
                    <a:lnTo>
                      <a:pt x="1051" y="34"/>
                    </a:lnTo>
                    <a:lnTo>
                      <a:pt x="1034" y="34"/>
                    </a:lnTo>
                    <a:lnTo>
                      <a:pt x="1033" y="32"/>
                    </a:lnTo>
                    <a:lnTo>
                      <a:pt x="1032" y="31"/>
                    </a:lnTo>
                    <a:lnTo>
                      <a:pt x="1031" y="29"/>
                    </a:lnTo>
                    <a:lnTo>
                      <a:pt x="1029" y="28"/>
                    </a:lnTo>
                    <a:lnTo>
                      <a:pt x="1027" y="28"/>
                    </a:lnTo>
                    <a:lnTo>
                      <a:pt x="1025" y="28"/>
                    </a:lnTo>
                    <a:lnTo>
                      <a:pt x="1022" y="28"/>
                    </a:lnTo>
                    <a:lnTo>
                      <a:pt x="1021" y="29"/>
                    </a:lnTo>
                    <a:lnTo>
                      <a:pt x="1019" y="31"/>
                    </a:lnTo>
                    <a:lnTo>
                      <a:pt x="1018" y="32"/>
                    </a:lnTo>
                    <a:lnTo>
                      <a:pt x="1018" y="34"/>
                    </a:lnTo>
                    <a:lnTo>
                      <a:pt x="1004" y="34"/>
                    </a:lnTo>
                    <a:lnTo>
                      <a:pt x="1003" y="33"/>
                    </a:lnTo>
                    <a:lnTo>
                      <a:pt x="1002" y="32"/>
                    </a:lnTo>
                    <a:lnTo>
                      <a:pt x="1001" y="31"/>
                    </a:lnTo>
                    <a:lnTo>
                      <a:pt x="999" y="31"/>
                    </a:lnTo>
                    <a:lnTo>
                      <a:pt x="997" y="31"/>
                    </a:lnTo>
                    <a:lnTo>
                      <a:pt x="996" y="32"/>
                    </a:lnTo>
                    <a:lnTo>
                      <a:pt x="995" y="33"/>
                    </a:lnTo>
                    <a:lnTo>
                      <a:pt x="995" y="34"/>
                    </a:lnTo>
                    <a:lnTo>
                      <a:pt x="987" y="34"/>
                    </a:lnTo>
                    <a:lnTo>
                      <a:pt x="986" y="33"/>
                    </a:lnTo>
                    <a:lnTo>
                      <a:pt x="986" y="32"/>
                    </a:lnTo>
                    <a:lnTo>
                      <a:pt x="984" y="31"/>
                    </a:lnTo>
                    <a:lnTo>
                      <a:pt x="982" y="31"/>
                    </a:lnTo>
                    <a:lnTo>
                      <a:pt x="981" y="31"/>
                    </a:lnTo>
                    <a:lnTo>
                      <a:pt x="979" y="32"/>
                    </a:lnTo>
                    <a:lnTo>
                      <a:pt x="978" y="33"/>
                    </a:lnTo>
                    <a:lnTo>
                      <a:pt x="978" y="34"/>
                    </a:lnTo>
                    <a:lnTo>
                      <a:pt x="970" y="34"/>
                    </a:lnTo>
                    <a:lnTo>
                      <a:pt x="969" y="33"/>
                    </a:lnTo>
                    <a:lnTo>
                      <a:pt x="969" y="32"/>
                    </a:lnTo>
                    <a:lnTo>
                      <a:pt x="967" y="31"/>
                    </a:lnTo>
                    <a:lnTo>
                      <a:pt x="965" y="31"/>
                    </a:lnTo>
                    <a:lnTo>
                      <a:pt x="964" y="31"/>
                    </a:lnTo>
                    <a:lnTo>
                      <a:pt x="962" y="32"/>
                    </a:lnTo>
                    <a:lnTo>
                      <a:pt x="961" y="33"/>
                    </a:lnTo>
                    <a:lnTo>
                      <a:pt x="961" y="34"/>
                    </a:lnTo>
                    <a:lnTo>
                      <a:pt x="956" y="34"/>
                    </a:lnTo>
                    <a:lnTo>
                      <a:pt x="956" y="32"/>
                    </a:lnTo>
                    <a:lnTo>
                      <a:pt x="955" y="31"/>
                    </a:lnTo>
                    <a:lnTo>
                      <a:pt x="954" y="29"/>
                    </a:lnTo>
                    <a:lnTo>
                      <a:pt x="952" y="28"/>
                    </a:lnTo>
                    <a:lnTo>
                      <a:pt x="950" y="28"/>
                    </a:lnTo>
                    <a:lnTo>
                      <a:pt x="947" y="28"/>
                    </a:lnTo>
                    <a:lnTo>
                      <a:pt x="945" y="28"/>
                    </a:lnTo>
                    <a:lnTo>
                      <a:pt x="943" y="29"/>
                    </a:lnTo>
                    <a:lnTo>
                      <a:pt x="942" y="31"/>
                    </a:lnTo>
                    <a:lnTo>
                      <a:pt x="941" y="32"/>
                    </a:lnTo>
                    <a:lnTo>
                      <a:pt x="941" y="34"/>
                    </a:lnTo>
                    <a:lnTo>
                      <a:pt x="926" y="34"/>
                    </a:lnTo>
                    <a:lnTo>
                      <a:pt x="926" y="33"/>
                    </a:lnTo>
                    <a:lnTo>
                      <a:pt x="925" y="32"/>
                    </a:lnTo>
                    <a:lnTo>
                      <a:pt x="923" y="31"/>
                    </a:lnTo>
                    <a:lnTo>
                      <a:pt x="922" y="31"/>
                    </a:lnTo>
                    <a:lnTo>
                      <a:pt x="920" y="31"/>
                    </a:lnTo>
                    <a:lnTo>
                      <a:pt x="918" y="32"/>
                    </a:lnTo>
                    <a:lnTo>
                      <a:pt x="917" y="33"/>
                    </a:lnTo>
                    <a:lnTo>
                      <a:pt x="917" y="34"/>
                    </a:lnTo>
                    <a:lnTo>
                      <a:pt x="894" y="34"/>
                    </a:lnTo>
                    <a:lnTo>
                      <a:pt x="893" y="33"/>
                    </a:lnTo>
                    <a:lnTo>
                      <a:pt x="892" y="32"/>
                    </a:lnTo>
                    <a:lnTo>
                      <a:pt x="891" y="31"/>
                    </a:lnTo>
                    <a:lnTo>
                      <a:pt x="889" y="31"/>
                    </a:lnTo>
                    <a:lnTo>
                      <a:pt x="887" y="31"/>
                    </a:lnTo>
                    <a:lnTo>
                      <a:pt x="886" y="32"/>
                    </a:lnTo>
                    <a:lnTo>
                      <a:pt x="885" y="33"/>
                    </a:lnTo>
                    <a:lnTo>
                      <a:pt x="885" y="34"/>
                    </a:lnTo>
                    <a:lnTo>
                      <a:pt x="880" y="34"/>
                    </a:lnTo>
                    <a:lnTo>
                      <a:pt x="880" y="33"/>
                    </a:lnTo>
                    <a:lnTo>
                      <a:pt x="879" y="32"/>
                    </a:lnTo>
                    <a:lnTo>
                      <a:pt x="877" y="31"/>
                    </a:lnTo>
                    <a:lnTo>
                      <a:pt x="875" y="31"/>
                    </a:lnTo>
                    <a:lnTo>
                      <a:pt x="874" y="31"/>
                    </a:lnTo>
                    <a:lnTo>
                      <a:pt x="872" y="32"/>
                    </a:lnTo>
                    <a:lnTo>
                      <a:pt x="871" y="33"/>
                    </a:lnTo>
                    <a:lnTo>
                      <a:pt x="871" y="34"/>
                    </a:lnTo>
                    <a:lnTo>
                      <a:pt x="866" y="34"/>
                    </a:lnTo>
                    <a:lnTo>
                      <a:pt x="866" y="33"/>
                    </a:lnTo>
                    <a:lnTo>
                      <a:pt x="865" y="32"/>
                    </a:lnTo>
                    <a:lnTo>
                      <a:pt x="864" y="31"/>
                    </a:lnTo>
                    <a:lnTo>
                      <a:pt x="862" y="31"/>
                    </a:lnTo>
                    <a:lnTo>
                      <a:pt x="860" y="31"/>
                    </a:lnTo>
                    <a:lnTo>
                      <a:pt x="859" y="32"/>
                    </a:lnTo>
                    <a:lnTo>
                      <a:pt x="858" y="33"/>
                    </a:lnTo>
                    <a:lnTo>
                      <a:pt x="857" y="34"/>
                    </a:lnTo>
                    <a:lnTo>
                      <a:pt x="833" y="34"/>
                    </a:lnTo>
                    <a:lnTo>
                      <a:pt x="832" y="33"/>
                    </a:lnTo>
                    <a:lnTo>
                      <a:pt x="831" y="32"/>
                    </a:lnTo>
                    <a:lnTo>
                      <a:pt x="830" y="31"/>
                    </a:lnTo>
                    <a:lnTo>
                      <a:pt x="828" y="31"/>
                    </a:lnTo>
                    <a:lnTo>
                      <a:pt x="826" y="31"/>
                    </a:lnTo>
                    <a:lnTo>
                      <a:pt x="825" y="32"/>
                    </a:lnTo>
                    <a:lnTo>
                      <a:pt x="824" y="33"/>
                    </a:lnTo>
                    <a:lnTo>
                      <a:pt x="824" y="34"/>
                    </a:lnTo>
                    <a:lnTo>
                      <a:pt x="808" y="34"/>
                    </a:lnTo>
                    <a:lnTo>
                      <a:pt x="808" y="33"/>
                    </a:lnTo>
                    <a:lnTo>
                      <a:pt x="807" y="32"/>
                    </a:lnTo>
                    <a:lnTo>
                      <a:pt x="806" y="31"/>
                    </a:lnTo>
                    <a:lnTo>
                      <a:pt x="804" y="31"/>
                    </a:lnTo>
                    <a:lnTo>
                      <a:pt x="802" y="31"/>
                    </a:lnTo>
                    <a:lnTo>
                      <a:pt x="801" y="32"/>
                    </a:lnTo>
                    <a:lnTo>
                      <a:pt x="800" y="33"/>
                    </a:lnTo>
                    <a:lnTo>
                      <a:pt x="799" y="34"/>
                    </a:lnTo>
                    <a:lnTo>
                      <a:pt x="776" y="34"/>
                    </a:lnTo>
                    <a:lnTo>
                      <a:pt x="775" y="32"/>
                    </a:lnTo>
                    <a:lnTo>
                      <a:pt x="775" y="31"/>
                    </a:lnTo>
                    <a:lnTo>
                      <a:pt x="773" y="30"/>
                    </a:lnTo>
                    <a:lnTo>
                      <a:pt x="771" y="29"/>
                    </a:lnTo>
                    <a:lnTo>
                      <a:pt x="769" y="29"/>
                    </a:lnTo>
                    <a:lnTo>
                      <a:pt x="767" y="29"/>
                    </a:lnTo>
                    <a:lnTo>
                      <a:pt x="765" y="30"/>
                    </a:lnTo>
                    <a:lnTo>
                      <a:pt x="764" y="31"/>
                    </a:lnTo>
                    <a:lnTo>
                      <a:pt x="763" y="32"/>
                    </a:lnTo>
                    <a:lnTo>
                      <a:pt x="763" y="34"/>
                    </a:lnTo>
                    <a:lnTo>
                      <a:pt x="754" y="34"/>
                    </a:lnTo>
                    <a:lnTo>
                      <a:pt x="754" y="33"/>
                    </a:lnTo>
                    <a:lnTo>
                      <a:pt x="753" y="32"/>
                    </a:lnTo>
                    <a:lnTo>
                      <a:pt x="751" y="31"/>
                    </a:lnTo>
                    <a:lnTo>
                      <a:pt x="749" y="31"/>
                    </a:lnTo>
                    <a:lnTo>
                      <a:pt x="748" y="31"/>
                    </a:lnTo>
                    <a:lnTo>
                      <a:pt x="746" y="32"/>
                    </a:lnTo>
                    <a:lnTo>
                      <a:pt x="745" y="33"/>
                    </a:lnTo>
                    <a:lnTo>
                      <a:pt x="745" y="34"/>
                    </a:lnTo>
                    <a:lnTo>
                      <a:pt x="715" y="34"/>
                    </a:lnTo>
                    <a:lnTo>
                      <a:pt x="714" y="33"/>
                    </a:lnTo>
                    <a:lnTo>
                      <a:pt x="713" y="32"/>
                    </a:lnTo>
                    <a:lnTo>
                      <a:pt x="712" y="31"/>
                    </a:lnTo>
                    <a:lnTo>
                      <a:pt x="710" y="31"/>
                    </a:lnTo>
                    <a:lnTo>
                      <a:pt x="708" y="31"/>
                    </a:lnTo>
                    <a:lnTo>
                      <a:pt x="707" y="32"/>
                    </a:lnTo>
                    <a:lnTo>
                      <a:pt x="706" y="33"/>
                    </a:lnTo>
                    <a:lnTo>
                      <a:pt x="706" y="34"/>
                    </a:lnTo>
                    <a:lnTo>
                      <a:pt x="663" y="34"/>
                    </a:lnTo>
                    <a:lnTo>
                      <a:pt x="662" y="33"/>
                    </a:lnTo>
                    <a:lnTo>
                      <a:pt x="661" y="32"/>
                    </a:lnTo>
                    <a:lnTo>
                      <a:pt x="660" y="31"/>
                    </a:lnTo>
                    <a:lnTo>
                      <a:pt x="658" y="31"/>
                    </a:lnTo>
                    <a:lnTo>
                      <a:pt x="656" y="31"/>
                    </a:lnTo>
                    <a:lnTo>
                      <a:pt x="655" y="32"/>
                    </a:lnTo>
                    <a:lnTo>
                      <a:pt x="654" y="33"/>
                    </a:lnTo>
                    <a:lnTo>
                      <a:pt x="654" y="34"/>
                    </a:lnTo>
                    <a:lnTo>
                      <a:pt x="643" y="34"/>
                    </a:lnTo>
                    <a:lnTo>
                      <a:pt x="642" y="33"/>
                    </a:lnTo>
                    <a:lnTo>
                      <a:pt x="641" y="32"/>
                    </a:lnTo>
                    <a:lnTo>
                      <a:pt x="640" y="31"/>
                    </a:lnTo>
                    <a:lnTo>
                      <a:pt x="638" y="31"/>
                    </a:lnTo>
                    <a:lnTo>
                      <a:pt x="636" y="31"/>
                    </a:lnTo>
                    <a:lnTo>
                      <a:pt x="635" y="32"/>
                    </a:lnTo>
                    <a:lnTo>
                      <a:pt x="634" y="33"/>
                    </a:lnTo>
                    <a:lnTo>
                      <a:pt x="634" y="34"/>
                    </a:lnTo>
                    <a:lnTo>
                      <a:pt x="599" y="34"/>
                    </a:lnTo>
                    <a:lnTo>
                      <a:pt x="599" y="33"/>
                    </a:lnTo>
                    <a:lnTo>
                      <a:pt x="598" y="32"/>
                    </a:lnTo>
                    <a:lnTo>
                      <a:pt x="596" y="31"/>
                    </a:lnTo>
                    <a:lnTo>
                      <a:pt x="595" y="31"/>
                    </a:lnTo>
                    <a:lnTo>
                      <a:pt x="593" y="31"/>
                    </a:lnTo>
                    <a:lnTo>
                      <a:pt x="591" y="32"/>
                    </a:lnTo>
                    <a:lnTo>
                      <a:pt x="591" y="33"/>
                    </a:lnTo>
                    <a:lnTo>
                      <a:pt x="590" y="34"/>
                    </a:lnTo>
                    <a:lnTo>
                      <a:pt x="517" y="34"/>
                    </a:lnTo>
                    <a:lnTo>
                      <a:pt x="517" y="33"/>
                    </a:lnTo>
                    <a:lnTo>
                      <a:pt x="516" y="32"/>
                    </a:lnTo>
                    <a:lnTo>
                      <a:pt x="515" y="31"/>
                    </a:lnTo>
                    <a:lnTo>
                      <a:pt x="513" y="31"/>
                    </a:lnTo>
                    <a:lnTo>
                      <a:pt x="511" y="31"/>
                    </a:lnTo>
                    <a:lnTo>
                      <a:pt x="510" y="32"/>
                    </a:lnTo>
                    <a:lnTo>
                      <a:pt x="509" y="33"/>
                    </a:lnTo>
                    <a:lnTo>
                      <a:pt x="508" y="34"/>
                    </a:lnTo>
                    <a:lnTo>
                      <a:pt x="448" y="34"/>
                    </a:lnTo>
                    <a:lnTo>
                      <a:pt x="448" y="33"/>
                    </a:lnTo>
                    <a:lnTo>
                      <a:pt x="447" y="32"/>
                    </a:lnTo>
                    <a:lnTo>
                      <a:pt x="445" y="31"/>
                    </a:lnTo>
                    <a:lnTo>
                      <a:pt x="444" y="31"/>
                    </a:lnTo>
                    <a:lnTo>
                      <a:pt x="442" y="31"/>
                    </a:lnTo>
                    <a:lnTo>
                      <a:pt x="440" y="32"/>
                    </a:lnTo>
                    <a:lnTo>
                      <a:pt x="439" y="33"/>
                    </a:lnTo>
                    <a:lnTo>
                      <a:pt x="439" y="34"/>
                    </a:lnTo>
                    <a:lnTo>
                      <a:pt x="417" y="34"/>
                    </a:lnTo>
                    <a:lnTo>
                      <a:pt x="417" y="33"/>
                    </a:lnTo>
                    <a:lnTo>
                      <a:pt x="416" y="32"/>
                    </a:lnTo>
                    <a:lnTo>
                      <a:pt x="414" y="31"/>
                    </a:lnTo>
                    <a:lnTo>
                      <a:pt x="412" y="31"/>
                    </a:lnTo>
                    <a:lnTo>
                      <a:pt x="411" y="31"/>
                    </a:lnTo>
                    <a:lnTo>
                      <a:pt x="409" y="32"/>
                    </a:lnTo>
                    <a:lnTo>
                      <a:pt x="408" y="33"/>
                    </a:lnTo>
                    <a:lnTo>
                      <a:pt x="408" y="34"/>
                    </a:lnTo>
                    <a:lnTo>
                      <a:pt x="402" y="34"/>
                    </a:lnTo>
                    <a:lnTo>
                      <a:pt x="402" y="33"/>
                    </a:lnTo>
                    <a:lnTo>
                      <a:pt x="401" y="32"/>
                    </a:lnTo>
                    <a:lnTo>
                      <a:pt x="400" y="31"/>
                    </a:lnTo>
                    <a:lnTo>
                      <a:pt x="398" y="31"/>
                    </a:lnTo>
                    <a:lnTo>
                      <a:pt x="396" y="31"/>
                    </a:lnTo>
                    <a:lnTo>
                      <a:pt x="395" y="32"/>
                    </a:lnTo>
                    <a:lnTo>
                      <a:pt x="394" y="33"/>
                    </a:lnTo>
                    <a:lnTo>
                      <a:pt x="393" y="34"/>
                    </a:lnTo>
                    <a:lnTo>
                      <a:pt x="337" y="34"/>
                    </a:lnTo>
                    <a:lnTo>
                      <a:pt x="336" y="33"/>
                    </a:lnTo>
                    <a:lnTo>
                      <a:pt x="335" y="32"/>
                    </a:lnTo>
                    <a:lnTo>
                      <a:pt x="334" y="31"/>
                    </a:lnTo>
                    <a:lnTo>
                      <a:pt x="332" y="31"/>
                    </a:lnTo>
                    <a:lnTo>
                      <a:pt x="330" y="31"/>
                    </a:lnTo>
                    <a:lnTo>
                      <a:pt x="329" y="32"/>
                    </a:lnTo>
                    <a:lnTo>
                      <a:pt x="328" y="33"/>
                    </a:lnTo>
                    <a:lnTo>
                      <a:pt x="328" y="34"/>
                    </a:lnTo>
                    <a:lnTo>
                      <a:pt x="309" y="34"/>
                    </a:lnTo>
                    <a:lnTo>
                      <a:pt x="308" y="33"/>
                    </a:lnTo>
                    <a:lnTo>
                      <a:pt x="308" y="32"/>
                    </a:lnTo>
                    <a:lnTo>
                      <a:pt x="306" y="31"/>
                    </a:lnTo>
                    <a:lnTo>
                      <a:pt x="304" y="31"/>
                    </a:lnTo>
                    <a:lnTo>
                      <a:pt x="303" y="31"/>
                    </a:lnTo>
                    <a:lnTo>
                      <a:pt x="301" y="32"/>
                    </a:lnTo>
                    <a:lnTo>
                      <a:pt x="300" y="33"/>
                    </a:lnTo>
                    <a:lnTo>
                      <a:pt x="300" y="34"/>
                    </a:lnTo>
                    <a:lnTo>
                      <a:pt x="285" y="34"/>
                    </a:lnTo>
                    <a:lnTo>
                      <a:pt x="285" y="32"/>
                    </a:lnTo>
                    <a:lnTo>
                      <a:pt x="284" y="30"/>
                    </a:lnTo>
                    <a:lnTo>
                      <a:pt x="283" y="29"/>
                    </a:lnTo>
                    <a:lnTo>
                      <a:pt x="281" y="28"/>
                    </a:lnTo>
                    <a:lnTo>
                      <a:pt x="278" y="28"/>
                    </a:lnTo>
                    <a:lnTo>
                      <a:pt x="276" y="28"/>
                    </a:lnTo>
                    <a:lnTo>
                      <a:pt x="274" y="28"/>
                    </a:lnTo>
                    <a:lnTo>
                      <a:pt x="272" y="29"/>
                    </a:lnTo>
                    <a:lnTo>
                      <a:pt x="270" y="30"/>
                    </a:lnTo>
                    <a:lnTo>
                      <a:pt x="269" y="32"/>
                    </a:lnTo>
                    <a:lnTo>
                      <a:pt x="269" y="34"/>
                    </a:lnTo>
                    <a:lnTo>
                      <a:pt x="265" y="34"/>
                    </a:lnTo>
                    <a:lnTo>
                      <a:pt x="264" y="32"/>
                    </a:lnTo>
                    <a:lnTo>
                      <a:pt x="263" y="30"/>
                    </a:lnTo>
                    <a:lnTo>
                      <a:pt x="262" y="29"/>
                    </a:lnTo>
                    <a:lnTo>
                      <a:pt x="259" y="28"/>
                    </a:lnTo>
                    <a:lnTo>
                      <a:pt x="257" y="27"/>
                    </a:lnTo>
                    <a:lnTo>
                      <a:pt x="255" y="27"/>
                    </a:lnTo>
                    <a:lnTo>
                      <a:pt x="252" y="28"/>
                    </a:lnTo>
                    <a:lnTo>
                      <a:pt x="250" y="29"/>
                    </a:lnTo>
                    <a:lnTo>
                      <a:pt x="249" y="30"/>
                    </a:lnTo>
                    <a:lnTo>
                      <a:pt x="248" y="32"/>
                    </a:lnTo>
                    <a:lnTo>
                      <a:pt x="247" y="34"/>
                    </a:lnTo>
                    <a:lnTo>
                      <a:pt x="245" y="34"/>
                    </a:lnTo>
                    <a:lnTo>
                      <a:pt x="245" y="33"/>
                    </a:lnTo>
                    <a:lnTo>
                      <a:pt x="244" y="32"/>
                    </a:lnTo>
                    <a:lnTo>
                      <a:pt x="243" y="31"/>
                    </a:lnTo>
                    <a:lnTo>
                      <a:pt x="241" y="31"/>
                    </a:lnTo>
                    <a:lnTo>
                      <a:pt x="239" y="31"/>
                    </a:lnTo>
                    <a:lnTo>
                      <a:pt x="238" y="32"/>
                    </a:lnTo>
                    <a:lnTo>
                      <a:pt x="237" y="33"/>
                    </a:lnTo>
                    <a:lnTo>
                      <a:pt x="237" y="34"/>
                    </a:lnTo>
                    <a:lnTo>
                      <a:pt x="236" y="34"/>
                    </a:lnTo>
                    <a:lnTo>
                      <a:pt x="236" y="33"/>
                    </a:lnTo>
                    <a:lnTo>
                      <a:pt x="235" y="32"/>
                    </a:lnTo>
                    <a:lnTo>
                      <a:pt x="233" y="31"/>
                    </a:lnTo>
                    <a:lnTo>
                      <a:pt x="231" y="31"/>
                    </a:lnTo>
                    <a:lnTo>
                      <a:pt x="230" y="31"/>
                    </a:lnTo>
                    <a:lnTo>
                      <a:pt x="228" y="32"/>
                    </a:lnTo>
                    <a:lnTo>
                      <a:pt x="227" y="33"/>
                    </a:lnTo>
                    <a:lnTo>
                      <a:pt x="227" y="34"/>
                    </a:lnTo>
                    <a:lnTo>
                      <a:pt x="225" y="34"/>
                    </a:lnTo>
                    <a:lnTo>
                      <a:pt x="225" y="33"/>
                    </a:lnTo>
                    <a:lnTo>
                      <a:pt x="223" y="32"/>
                    </a:lnTo>
                    <a:lnTo>
                      <a:pt x="222" y="31"/>
                    </a:lnTo>
                    <a:lnTo>
                      <a:pt x="220" y="31"/>
                    </a:lnTo>
                    <a:lnTo>
                      <a:pt x="219" y="31"/>
                    </a:lnTo>
                    <a:lnTo>
                      <a:pt x="217" y="32"/>
                    </a:lnTo>
                    <a:lnTo>
                      <a:pt x="216" y="33"/>
                    </a:lnTo>
                    <a:lnTo>
                      <a:pt x="216" y="34"/>
                    </a:lnTo>
                    <a:lnTo>
                      <a:pt x="205" y="34"/>
                    </a:lnTo>
                    <a:lnTo>
                      <a:pt x="205" y="33"/>
                    </a:lnTo>
                    <a:lnTo>
                      <a:pt x="204" y="32"/>
                    </a:lnTo>
                    <a:lnTo>
                      <a:pt x="202" y="31"/>
                    </a:lnTo>
                    <a:lnTo>
                      <a:pt x="200" y="31"/>
                    </a:lnTo>
                    <a:lnTo>
                      <a:pt x="199" y="31"/>
                    </a:lnTo>
                    <a:lnTo>
                      <a:pt x="197" y="32"/>
                    </a:lnTo>
                    <a:lnTo>
                      <a:pt x="196" y="33"/>
                    </a:lnTo>
                    <a:lnTo>
                      <a:pt x="196" y="34"/>
                    </a:lnTo>
                    <a:lnTo>
                      <a:pt x="152" y="34"/>
                    </a:lnTo>
                    <a:lnTo>
                      <a:pt x="151" y="33"/>
                    </a:lnTo>
                    <a:lnTo>
                      <a:pt x="150" y="32"/>
                    </a:lnTo>
                    <a:lnTo>
                      <a:pt x="149" y="31"/>
                    </a:lnTo>
                    <a:lnTo>
                      <a:pt x="147" y="31"/>
                    </a:lnTo>
                    <a:lnTo>
                      <a:pt x="145" y="31"/>
                    </a:lnTo>
                    <a:lnTo>
                      <a:pt x="144" y="32"/>
                    </a:lnTo>
                    <a:lnTo>
                      <a:pt x="143" y="33"/>
                    </a:lnTo>
                    <a:lnTo>
                      <a:pt x="143" y="34"/>
                    </a:lnTo>
                    <a:lnTo>
                      <a:pt x="22" y="34"/>
                    </a:lnTo>
                    <a:lnTo>
                      <a:pt x="21" y="33"/>
                    </a:lnTo>
                    <a:lnTo>
                      <a:pt x="20" y="32"/>
                    </a:lnTo>
                    <a:lnTo>
                      <a:pt x="19" y="31"/>
                    </a:lnTo>
                    <a:lnTo>
                      <a:pt x="17" y="31"/>
                    </a:lnTo>
                    <a:lnTo>
                      <a:pt x="15" y="31"/>
                    </a:lnTo>
                    <a:lnTo>
                      <a:pt x="14" y="32"/>
                    </a:lnTo>
                    <a:lnTo>
                      <a:pt x="13" y="33"/>
                    </a:lnTo>
                    <a:lnTo>
                      <a:pt x="13" y="34"/>
                    </a:lnTo>
                    <a:lnTo>
                      <a:pt x="0" y="34"/>
                    </a:lnTo>
                    <a:lnTo>
                      <a:pt x="0" y="1309"/>
                    </a:lnTo>
                    <a:lnTo>
                      <a:pt x="13" y="1309"/>
                    </a:lnTo>
                    <a:lnTo>
                      <a:pt x="14" y="1307"/>
                    </a:lnTo>
                    <a:lnTo>
                      <a:pt x="15" y="1306"/>
                    </a:lnTo>
                    <a:lnTo>
                      <a:pt x="16" y="1305"/>
                    </a:lnTo>
                    <a:lnTo>
                      <a:pt x="18" y="1305"/>
                    </a:lnTo>
                    <a:lnTo>
                      <a:pt x="19" y="1305"/>
                    </a:lnTo>
                    <a:lnTo>
                      <a:pt x="21" y="1306"/>
                    </a:lnTo>
                    <a:lnTo>
                      <a:pt x="22" y="1307"/>
                    </a:lnTo>
                    <a:lnTo>
                      <a:pt x="22" y="1309"/>
                    </a:lnTo>
                    <a:lnTo>
                      <a:pt x="53" y="1309"/>
                    </a:lnTo>
                    <a:lnTo>
                      <a:pt x="53" y="1307"/>
                    </a:lnTo>
                    <a:lnTo>
                      <a:pt x="54" y="1306"/>
                    </a:lnTo>
                    <a:lnTo>
                      <a:pt x="56" y="1305"/>
                    </a:lnTo>
                    <a:lnTo>
                      <a:pt x="58" y="1305"/>
                    </a:lnTo>
                    <a:lnTo>
                      <a:pt x="59" y="1305"/>
                    </a:lnTo>
                    <a:lnTo>
                      <a:pt x="61" y="1306"/>
                    </a:lnTo>
                    <a:lnTo>
                      <a:pt x="62" y="1307"/>
                    </a:lnTo>
                    <a:lnTo>
                      <a:pt x="62" y="1309"/>
                    </a:lnTo>
                    <a:lnTo>
                      <a:pt x="98" y="1309"/>
                    </a:lnTo>
                    <a:lnTo>
                      <a:pt x="98" y="133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560280" y="2921760"/>
                <a:ext cx="12600" cy="13320"/>
              </a:xfrm>
              <a:custGeom>
                <a:avLst/>
                <a:gdLst/>
                <a:ahLst/>
                <a:rect l="l" t="t" r="r" b="b"/>
                <a:pathLst>
                  <a:path w="12" h="10">
                    <a:moveTo>
                      <a:pt x="12" y="5"/>
                    </a:moveTo>
                    <a:lnTo>
                      <a:pt x="0" y="10"/>
                    </a:lnTo>
                    <a:lnTo>
                      <a:pt x="1" y="7"/>
                    </a:lnTo>
                    <a:lnTo>
                      <a:pt x="2" y="5"/>
                    </a:lnTo>
                    <a:lnTo>
                      <a:pt x="1" y="3"/>
                    </a:lnTo>
                    <a:lnTo>
                      <a:pt x="0" y="0"/>
                    </a:lnTo>
                    <a:lnTo>
                      <a:pt x="12" y="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31" name=""/>
              <p:cNvSpPr/>
              <p:nvPr/>
            </p:nvSpPr>
            <p:spPr>
              <a:xfrm>
                <a:off x="5280120" y="4705200"/>
                <a:ext cx="11520" cy="13320"/>
              </a:xfrm>
              <a:custGeom>
                <a:avLst/>
                <a:gdLst/>
                <a:ahLst/>
                <a:rect l="l" t="t" r="r" b="b"/>
                <a:pathLst>
                  <a:path w="11" h="10">
                    <a:moveTo>
                      <a:pt x="11" y="1"/>
                    </a:moveTo>
                    <a:lnTo>
                      <a:pt x="6" y="10"/>
                    </a:lnTo>
                    <a:lnTo>
                      <a:pt x="0" y="1"/>
                    </a:lnTo>
                    <a:lnTo>
                      <a:pt x="2" y="0"/>
                    </a:lnTo>
                    <a:lnTo>
                      <a:pt x="6"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32" name=""/>
              <p:cNvSpPr/>
              <p:nvPr/>
            </p:nvSpPr>
            <p:spPr>
              <a:xfrm>
                <a:off x="5359680" y="3762000"/>
                <a:ext cx="2203920" cy="997560"/>
              </a:xfrm>
              <a:custGeom>
                <a:avLst/>
                <a:gdLst/>
                <a:ahLst/>
                <a:rect l="l" t="t" r="r" b="b"/>
                <a:pathLst>
                  <a:path w="2082" h="747">
                    <a:moveTo>
                      <a:pt x="2082" y="6"/>
                    </a:moveTo>
                    <a:lnTo>
                      <a:pt x="2073" y="6"/>
                    </a:lnTo>
                    <a:lnTo>
                      <a:pt x="2072" y="5"/>
                    </a:lnTo>
                    <a:lnTo>
                      <a:pt x="2072" y="3"/>
                    </a:lnTo>
                    <a:lnTo>
                      <a:pt x="2070" y="2"/>
                    </a:lnTo>
                    <a:lnTo>
                      <a:pt x="2068" y="1"/>
                    </a:lnTo>
                    <a:lnTo>
                      <a:pt x="2066" y="1"/>
                    </a:lnTo>
                    <a:lnTo>
                      <a:pt x="2064" y="1"/>
                    </a:lnTo>
                    <a:lnTo>
                      <a:pt x="2062" y="2"/>
                    </a:lnTo>
                    <a:lnTo>
                      <a:pt x="2061" y="3"/>
                    </a:lnTo>
                    <a:lnTo>
                      <a:pt x="2060" y="5"/>
                    </a:lnTo>
                    <a:lnTo>
                      <a:pt x="2059" y="6"/>
                    </a:lnTo>
                    <a:lnTo>
                      <a:pt x="2057" y="6"/>
                    </a:lnTo>
                    <a:lnTo>
                      <a:pt x="2057" y="5"/>
                    </a:lnTo>
                    <a:lnTo>
                      <a:pt x="2056" y="4"/>
                    </a:lnTo>
                    <a:lnTo>
                      <a:pt x="2054" y="3"/>
                    </a:lnTo>
                    <a:lnTo>
                      <a:pt x="2053" y="3"/>
                    </a:lnTo>
                    <a:lnTo>
                      <a:pt x="2051" y="3"/>
                    </a:lnTo>
                    <a:lnTo>
                      <a:pt x="2049" y="4"/>
                    </a:lnTo>
                    <a:lnTo>
                      <a:pt x="2048" y="5"/>
                    </a:lnTo>
                    <a:lnTo>
                      <a:pt x="2048" y="6"/>
                    </a:lnTo>
                    <a:lnTo>
                      <a:pt x="2041" y="6"/>
                    </a:lnTo>
                    <a:lnTo>
                      <a:pt x="2040" y="5"/>
                    </a:lnTo>
                    <a:lnTo>
                      <a:pt x="2039" y="4"/>
                    </a:lnTo>
                    <a:lnTo>
                      <a:pt x="2038" y="3"/>
                    </a:lnTo>
                    <a:lnTo>
                      <a:pt x="2036" y="3"/>
                    </a:lnTo>
                    <a:lnTo>
                      <a:pt x="2034" y="3"/>
                    </a:lnTo>
                    <a:lnTo>
                      <a:pt x="2033" y="4"/>
                    </a:lnTo>
                    <a:lnTo>
                      <a:pt x="2032" y="5"/>
                    </a:lnTo>
                    <a:lnTo>
                      <a:pt x="2032" y="6"/>
                    </a:lnTo>
                    <a:lnTo>
                      <a:pt x="2025" y="6"/>
                    </a:lnTo>
                    <a:lnTo>
                      <a:pt x="2025" y="5"/>
                    </a:lnTo>
                    <a:lnTo>
                      <a:pt x="2024" y="3"/>
                    </a:lnTo>
                    <a:lnTo>
                      <a:pt x="2022" y="2"/>
                    </a:lnTo>
                    <a:lnTo>
                      <a:pt x="2020" y="1"/>
                    </a:lnTo>
                    <a:lnTo>
                      <a:pt x="2018" y="0"/>
                    </a:lnTo>
                    <a:lnTo>
                      <a:pt x="2016" y="0"/>
                    </a:lnTo>
                    <a:lnTo>
                      <a:pt x="2014" y="1"/>
                    </a:lnTo>
                    <a:lnTo>
                      <a:pt x="2012" y="2"/>
                    </a:lnTo>
                    <a:lnTo>
                      <a:pt x="2011" y="3"/>
                    </a:lnTo>
                    <a:lnTo>
                      <a:pt x="2010" y="5"/>
                    </a:lnTo>
                    <a:lnTo>
                      <a:pt x="2010" y="6"/>
                    </a:lnTo>
                    <a:lnTo>
                      <a:pt x="2009" y="6"/>
                    </a:lnTo>
                    <a:lnTo>
                      <a:pt x="2008" y="5"/>
                    </a:lnTo>
                    <a:lnTo>
                      <a:pt x="2007" y="4"/>
                    </a:lnTo>
                    <a:lnTo>
                      <a:pt x="2006" y="3"/>
                    </a:lnTo>
                    <a:lnTo>
                      <a:pt x="2004" y="3"/>
                    </a:lnTo>
                    <a:lnTo>
                      <a:pt x="2002" y="3"/>
                    </a:lnTo>
                    <a:lnTo>
                      <a:pt x="2001" y="4"/>
                    </a:lnTo>
                    <a:lnTo>
                      <a:pt x="2000" y="5"/>
                    </a:lnTo>
                    <a:lnTo>
                      <a:pt x="2000" y="6"/>
                    </a:lnTo>
                    <a:lnTo>
                      <a:pt x="1993" y="6"/>
                    </a:lnTo>
                    <a:lnTo>
                      <a:pt x="1992" y="5"/>
                    </a:lnTo>
                    <a:lnTo>
                      <a:pt x="1991" y="4"/>
                    </a:lnTo>
                    <a:lnTo>
                      <a:pt x="1990" y="3"/>
                    </a:lnTo>
                    <a:lnTo>
                      <a:pt x="1988" y="3"/>
                    </a:lnTo>
                    <a:lnTo>
                      <a:pt x="1986" y="3"/>
                    </a:lnTo>
                    <a:lnTo>
                      <a:pt x="1985" y="4"/>
                    </a:lnTo>
                    <a:lnTo>
                      <a:pt x="1984" y="5"/>
                    </a:lnTo>
                    <a:lnTo>
                      <a:pt x="1984" y="6"/>
                    </a:lnTo>
                    <a:lnTo>
                      <a:pt x="1769" y="6"/>
                    </a:lnTo>
                    <a:lnTo>
                      <a:pt x="1768" y="5"/>
                    </a:lnTo>
                    <a:lnTo>
                      <a:pt x="1767" y="4"/>
                    </a:lnTo>
                    <a:lnTo>
                      <a:pt x="1766" y="3"/>
                    </a:lnTo>
                    <a:lnTo>
                      <a:pt x="1764" y="3"/>
                    </a:lnTo>
                    <a:lnTo>
                      <a:pt x="1763" y="3"/>
                    </a:lnTo>
                    <a:lnTo>
                      <a:pt x="1761" y="4"/>
                    </a:lnTo>
                    <a:lnTo>
                      <a:pt x="1760" y="5"/>
                    </a:lnTo>
                    <a:lnTo>
                      <a:pt x="1760" y="6"/>
                    </a:lnTo>
                    <a:lnTo>
                      <a:pt x="1745" y="6"/>
                    </a:lnTo>
                    <a:lnTo>
                      <a:pt x="1745" y="5"/>
                    </a:lnTo>
                    <a:lnTo>
                      <a:pt x="1744" y="4"/>
                    </a:lnTo>
                    <a:lnTo>
                      <a:pt x="1742" y="3"/>
                    </a:lnTo>
                    <a:lnTo>
                      <a:pt x="1741" y="3"/>
                    </a:lnTo>
                    <a:lnTo>
                      <a:pt x="1739" y="3"/>
                    </a:lnTo>
                    <a:lnTo>
                      <a:pt x="1737" y="4"/>
                    </a:lnTo>
                    <a:lnTo>
                      <a:pt x="1737" y="5"/>
                    </a:lnTo>
                    <a:lnTo>
                      <a:pt x="1736" y="6"/>
                    </a:lnTo>
                    <a:lnTo>
                      <a:pt x="1733" y="6"/>
                    </a:lnTo>
                    <a:lnTo>
                      <a:pt x="1732" y="4"/>
                    </a:lnTo>
                    <a:lnTo>
                      <a:pt x="1732" y="3"/>
                    </a:lnTo>
                    <a:lnTo>
                      <a:pt x="1730" y="1"/>
                    </a:lnTo>
                    <a:lnTo>
                      <a:pt x="1728" y="0"/>
                    </a:lnTo>
                    <a:lnTo>
                      <a:pt x="1726" y="0"/>
                    </a:lnTo>
                    <a:lnTo>
                      <a:pt x="1723" y="0"/>
                    </a:lnTo>
                    <a:lnTo>
                      <a:pt x="1721" y="0"/>
                    </a:lnTo>
                    <a:lnTo>
                      <a:pt x="1719" y="1"/>
                    </a:lnTo>
                    <a:lnTo>
                      <a:pt x="1717" y="3"/>
                    </a:lnTo>
                    <a:lnTo>
                      <a:pt x="1716" y="4"/>
                    </a:lnTo>
                    <a:lnTo>
                      <a:pt x="1716" y="6"/>
                    </a:lnTo>
                    <a:lnTo>
                      <a:pt x="1707" y="6"/>
                    </a:lnTo>
                    <a:lnTo>
                      <a:pt x="1707" y="5"/>
                    </a:lnTo>
                    <a:lnTo>
                      <a:pt x="1706" y="4"/>
                    </a:lnTo>
                    <a:lnTo>
                      <a:pt x="1704" y="3"/>
                    </a:lnTo>
                    <a:lnTo>
                      <a:pt x="1703" y="3"/>
                    </a:lnTo>
                    <a:lnTo>
                      <a:pt x="1701" y="3"/>
                    </a:lnTo>
                    <a:lnTo>
                      <a:pt x="1699" y="4"/>
                    </a:lnTo>
                    <a:lnTo>
                      <a:pt x="1698" y="5"/>
                    </a:lnTo>
                    <a:lnTo>
                      <a:pt x="1698" y="6"/>
                    </a:lnTo>
                    <a:lnTo>
                      <a:pt x="1693" y="6"/>
                    </a:lnTo>
                    <a:lnTo>
                      <a:pt x="1692" y="5"/>
                    </a:lnTo>
                    <a:lnTo>
                      <a:pt x="1692" y="4"/>
                    </a:lnTo>
                    <a:lnTo>
                      <a:pt x="1690" y="3"/>
                    </a:lnTo>
                    <a:lnTo>
                      <a:pt x="1688" y="3"/>
                    </a:lnTo>
                    <a:lnTo>
                      <a:pt x="1687" y="3"/>
                    </a:lnTo>
                    <a:lnTo>
                      <a:pt x="1685" y="4"/>
                    </a:lnTo>
                    <a:lnTo>
                      <a:pt x="1684" y="5"/>
                    </a:lnTo>
                    <a:lnTo>
                      <a:pt x="1684" y="6"/>
                    </a:lnTo>
                    <a:lnTo>
                      <a:pt x="1640" y="6"/>
                    </a:lnTo>
                    <a:lnTo>
                      <a:pt x="1640" y="5"/>
                    </a:lnTo>
                    <a:lnTo>
                      <a:pt x="1639" y="4"/>
                    </a:lnTo>
                    <a:lnTo>
                      <a:pt x="1638" y="3"/>
                    </a:lnTo>
                    <a:lnTo>
                      <a:pt x="1636" y="3"/>
                    </a:lnTo>
                    <a:lnTo>
                      <a:pt x="1634" y="3"/>
                    </a:lnTo>
                    <a:lnTo>
                      <a:pt x="1633" y="4"/>
                    </a:lnTo>
                    <a:lnTo>
                      <a:pt x="1632" y="5"/>
                    </a:lnTo>
                    <a:lnTo>
                      <a:pt x="1631" y="6"/>
                    </a:lnTo>
                    <a:lnTo>
                      <a:pt x="1620" y="6"/>
                    </a:lnTo>
                    <a:lnTo>
                      <a:pt x="1620" y="5"/>
                    </a:lnTo>
                    <a:lnTo>
                      <a:pt x="1619" y="4"/>
                    </a:lnTo>
                    <a:lnTo>
                      <a:pt x="1617" y="3"/>
                    </a:lnTo>
                    <a:lnTo>
                      <a:pt x="1616" y="3"/>
                    </a:lnTo>
                    <a:lnTo>
                      <a:pt x="1614" y="3"/>
                    </a:lnTo>
                    <a:lnTo>
                      <a:pt x="1612" y="4"/>
                    </a:lnTo>
                    <a:lnTo>
                      <a:pt x="1612" y="5"/>
                    </a:lnTo>
                    <a:lnTo>
                      <a:pt x="1611" y="6"/>
                    </a:lnTo>
                    <a:lnTo>
                      <a:pt x="1607" y="6"/>
                    </a:lnTo>
                    <a:lnTo>
                      <a:pt x="1606" y="5"/>
                    </a:lnTo>
                    <a:lnTo>
                      <a:pt x="1605" y="4"/>
                    </a:lnTo>
                    <a:lnTo>
                      <a:pt x="1604" y="3"/>
                    </a:lnTo>
                    <a:lnTo>
                      <a:pt x="1602" y="3"/>
                    </a:lnTo>
                    <a:lnTo>
                      <a:pt x="1600" y="3"/>
                    </a:lnTo>
                    <a:lnTo>
                      <a:pt x="1599" y="4"/>
                    </a:lnTo>
                    <a:lnTo>
                      <a:pt x="1598" y="5"/>
                    </a:lnTo>
                    <a:lnTo>
                      <a:pt x="1598" y="6"/>
                    </a:lnTo>
                    <a:lnTo>
                      <a:pt x="1573" y="6"/>
                    </a:lnTo>
                    <a:lnTo>
                      <a:pt x="1572" y="5"/>
                    </a:lnTo>
                    <a:lnTo>
                      <a:pt x="1572" y="4"/>
                    </a:lnTo>
                    <a:lnTo>
                      <a:pt x="1570" y="3"/>
                    </a:lnTo>
                    <a:lnTo>
                      <a:pt x="1568" y="3"/>
                    </a:lnTo>
                    <a:lnTo>
                      <a:pt x="1567" y="3"/>
                    </a:lnTo>
                    <a:lnTo>
                      <a:pt x="1565" y="4"/>
                    </a:lnTo>
                    <a:lnTo>
                      <a:pt x="1564" y="5"/>
                    </a:lnTo>
                    <a:lnTo>
                      <a:pt x="1564" y="6"/>
                    </a:lnTo>
                    <a:lnTo>
                      <a:pt x="1558" y="6"/>
                    </a:lnTo>
                    <a:lnTo>
                      <a:pt x="1557" y="5"/>
                    </a:lnTo>
                    <a:lnTo>
                      <a:pt x="1556" y="4"/>
                    </a:lnTo>
                    <a:lnTo>
                      <a:pt x="1555" y="3"/>
                    </a:lnTo>
                    <a:lnTo>
                      <a:pt x="1553" y="3"/>
                    </a:lnTo>
                    <a:lnTo>
                      <a:pt x="1551" y="3"/>
                    </a:lnTo>
                    <a:lnTo>
                      <a:pt x="1550" y="4"/>
                    </a:lnTo>
                    <a:lnTo>
                      <a:pt x="1549" y="5"/>
                    </a:lnTo>
                    <a:lnTo>
                      <a:pt x="1549" y="6"/>
                    </a:lnTo>
                    <a:lnTo>
                      <a:pt x="1545" y="6"/>
                    </a:lnTo>
                    <a:lnTo>
                      <a:pt x="1544" y="5"/>
                    </a:lnTo>
                    <a:lnTo>
                      <a:pt x="1543" y="4"/>
                    </a:lnTo>
                    <a:lnTo>
                      <a:pt x="1542" y="3"/>
                    </a:lnTo>
                    <a:lnTo>
                      <a:pt x="1540" y="3"/>
                    </a:lnTo>
                    <a:lnTo>
                      <a:pt x="1538" y="3"/>
                    </a:lnTo>
                    <a:lnTo>
                      <a:pt x="1537" y="4"/>
                    </a:lnTo>
                    <a:lnTo>
                      <a:pt x="1536" y="5"/>
                    </a:lnTo>
                    <a:lnTo>
                      <a:pt x="1536" y="6"/>
                    </a:lnTo>
                    <a:lnTo>
                      <a:pt x="1507" y="6"/>
                    </a:lnTo>
                    <a:lnTo>
                      <a:pt x="1507" y="4"/>
                    </a:lnTo>
                    <a:lnTo>
                      <a:pt x="1506" y="3"/>
                    </a:lnTo>
                    <a:lnTo>
                      <a:pt x="1504" y="1"/>
                    </a:lnTo>
                    <a:lnTo>
                      <a:pt x="1502" y="0"/>
                    </a:lnTo>
                    <a:lnTo>
                      <a:pt x="1500" y="0"/>
                    </a:lnTo>
                    <a:lnTo>
                      <a:pt x="1497" y="0"/>
                    </a:lnTo>
                    <a:lnTo>
                      <a:pt x="1495" y="0"/>
                    </a:lnTo>
                    <a:lnTo>
                      <a:pt x="1493" y="1"/>
                    </a:lnTo>
                    <a:lnTo>
                      <a:pt x="1491" y="3"/>
                    </a:lnTo>
                    <a:lnTo>
                      <a:pt x="1490" y="4"/>
                    </a:lnTo>
                    <a:lnTo>
                      <a:pt x="1490" y="6"/>
                    </a:lnTo>
                    <a:lnTo>
                      <a:pt x="1466" y="6"/>
                    </a:lnTo>
                    <a:lnTo>
                      <a:pt x="1466" y="5"/>
                    </a:lnTo>
                    <a:lnTo>
                      <a:pt x="1465" y="4"/>
                    </a:lnTo>
                    <a:lnTo>
                      <a:pt x="1464" y="3"/>
                    </a:lnTo>
                    <a:lnTo>
                      <a:pt x="1462" y="3"/>
                    </a:lnTo>
                    <a:lnTo>
                      <a:pt x="1460" y="3"/>
                    </a:lnTo>
                    <a:lnTo>
                      <a:pt x="1459" y="4"/>
                    </a:lnTo>
                    <a:lnTo>
                      <a:pt x="1458" y="5"/>
                    </a:lnTo>
                    <a:lnTo>
                      <a:pt x="1458" y="6"/>
                    </a:lnTo>
                    <a:lnTo>
                      <a:pt x="1423" y="6"/>
                    </a:lnTo>
                    <a:lnTo>
                      <a:pt x="1422" y="5"/>
                    </a:lnTo>
                    <a:lnTo>
                      <a:pt x="1421" y="4"/>
                    </a:lnTo>
                    <a:lnTo>
                      <a:pt x="1420" y="3"/>
                    </a:lnTo>
                    <a:lnTo>
                      <a:pt x="1418" y="3"/>
                    </a:lnTo>
                    <a:lnTo>
                      <a:pt x="1416" y="3"/>
                    </a:lnTo>
                    <a:lnTo>
                      <a:pt x="1415" y="4"/>
                    </a:lnTo>
                    <a:lnTo>
                      <a:pt x="1414" y="5"/>
                    </a:lnTo>
                    <a:lnTo>
                      <a:pt x="1414" y="6"/>
                    </a:lnTo>
                    <a:lnTo>
                      <a:pt x="1171" y="6"/>
                    </a:lnTo>
                    <a:lnTo>
                      <a:pt x="1170" y="5"/>
                    </a:lnTo>
                    <a:lnTo>
                      <a:pt x="1170" y="4"/>
                    </a:lnTo>
                    <a:lnTo>
                      <a:pt x="1168" y="3"/>
                    </a:lnTo>
                    <a:lnTo>
                      <a:pt x="1166" y="3"/>
                    </a:lnTo>
                    <a:lnTo>
                      <a:pt x="1165" y="3"/>
                    </a:lnTo>
                    <a:lnTo>
                      <a:pt x="1163" y="4"/>
                    </a:lnTo>
                    <a:lnTo>
                      <a:pt x="1162" y="5"/>
                    </a:lnTo>
                    <a:lnTo>
                      <a:pt x="1162" y="6"/>
                    </a:lnTo>
                    <a:lnTo>
                      <a:pt x="1098" y="6"/>
                    </a:lnTo>
                    <a:lnTo>
                      <a:pt x="1098" y="5"/>
                    </a:lnTo>
                    <a:lnTo>
                      <a:pt x="1097" y="4"/>
                    </a:lnTo>
                    <a:lnTo>
                      <a:pt x="1096" y="3"/>
                    </a:lnTo>
                    <a:lnTo>
                      <a:pt x="1094" y="3"/>
                    </a:lnTo>
                    <a:lnTo>
                      <a:pt x="1092" y="3"/>
                    </a:lnTo>
                    <a:lnTo>
                      <a:pt x="1091" y="4"/>
                    </a:lnTo>
                    <a:lnTo>
                      <a:pt x="1090" y="5"/>
                    </a:lnTo>
                    <a:lnTo>
                      <a:pt x="1089" y="6"/>
                    </a:lnTo>
                    <a:lnTo>
                      <a:pt x="1087" y="6"/>
                    </a:lnTo>
                    <a:lnTo>
                      <a:pt x="1086" y="5"/>
                    </a:lnTo>
                    <a:lnTo>
                      <a:pt x="1085" y="4"/>
                    </a:lnTo>
                    <a:lnTo>
                      <a:pt x="1084" y="3"/>
                    </a:lnTo>
                    <a:lnTo>
                      <a:pt x="1082" y="3"/>
                    </a:lnTo>
                    <a:lnTo>
                      <a:pt x="1080" y="3"/>
                    </a:lnTo>
                    <a:lnTo>
                      <a:pt x="1079" y="4"/>
                    </a:lnTo>
                    <a:lnTo>
                      <a:pt x="1078" y="5"/>
                    </a:lnTo>
                    <a:lnTo>
                      <a:pt x="1078" y="6"/>
                    </a:lnTo>
                    <a:lnTo>
                      <a:pt x="1026" y="6"/>
                    </a:lnTo>
                    <a:lnTo>
                      <a:pt x="1025" y="5"/>
                    </a:lnTo>
                    <a:lnTo>
                      <a:pt x="1024" y="4"/>
                    </a:lnTo>
                    <a:lnTo>
                      <a:pt x="1023" y="3"/>
                    </a:lnTo>
                    <a:lnTo>
                      <a:pt x="1021" y="3"/>
                    </a:lnTo>
                    <a:lnTo>
                      <a:pt x="1020" y="3"/>
                    </a:lnTo>
                    <a:lnTo>
                      <a:pt x="1018" y="4"/>
                    </a:lnTo>
                    <a:lnTo>
                      <a:pt x="1017" y="5"/>
                    </a:lnTo>
                    <a:lnTo>
                      <a:pt x="1017" y="6"/>
                    </a:lnTo>
                    <a:lnTo>
                      <a:pt x="972" y="6"/>
                    </a:lnTo>
                    <a:lnTo>
                      <a:pt x="971" y="5"/>
                    </a:lnTo>
                    <a:lnTo>
                      <a:pt x="970" y="4"/>
                    </a:lnTo>
                    <a:lnTo>
                      <a:pt x="969" y="3"/>
                    </a:lnTo>
                    <a:lnTo>
                      <a:pt x="967" y="3"/>
                    </a:lnTo>
                    <a:lnTo>
                      <a:pt x="965" y="3"/>
                    </a:lnTo>
                    <a:lnTo>
                      <a:pt x="964" y="4"/>
                    </a:lnTo>
                    <a:lnTo>
                      <a:pt x="963" y="5"/>
                    </a:lnTo>
                    <a:lnTo>
                      <a:pt x="963" y="6"/>
                    </a:lnTo>
                    <a:lnTo>
                      <a:pt x="962" y="6"/>
                    </a:lnTo>
                    <a:lnTo>
                      <a:pt x="961" y="5"/>
                    </a:lnTo>
                    <a:lnTo>
                      <a:pt x="960" y="3"/>
                    </a:lnTo>
                    <a:lnTo>
                      <a:pt x="959" y="2"/>
                    </a:lnTo>
                    <a:lnTo>
                      <a:pt x="957" y="1"/>
                    </a:lnTo>
                    <a:lnTo>
                      <a:pt x="955" y="1"/>
                    </a:lnTo>
                    <a:lnTo>
                      <a:pt x="953" y="1"/>
                    </a:lnTo>
                    <a:lnTo>
                      <a:pt x="951" y="2"/>
                    </a:lnTo>
                    <a:lnTo>
                      <a:pt x="949" y="3"/>
                    </a:lnTo>
                    <a:lnTo>
                      <a:pt x="948" y="5"/>
                    </a:lnTo>
                    <a:lnTo>
                      <a:pt x="948" y="6"/>
                    </a:lnTo>
                    <a:lnTo>
                      <a:pt x="945" y="6"/>
                    </a:lnTo>
                    <a:lnTo>
                      <a:pt x="944" y="5"/>
                    </a:lnTo>
                    <a:lnTo>
                      <a:pt x="943" y="4"/>
                    </a:lnTo>
                    <a:lnTo>
                      <a:pt x="942" y="3"/>
                    </a:lnTo>
                    <a:lnTo>
                      <a:pt x="940" y="3"/>
                    </a:lnTo>
                    <a:lnTo>
                      <a:pt x="938" y="3"/>
                    </a:lnTo>
                    <a:lnTo>
                      <a:pt x="937" y="4"/>
                    </a:lnTo>
                    <a:lnTo>
                      <a:pt x="936" y="5"/>
                    </a:lnTo>
                    <a:lnTo>
                      <a:pt x="936" y="6"/>
                    </a:lnTo>
                    <a:lnTo>
                      <a:pt x="928" y="6"/>
                    </a:lnTo>
                    <a:lnTo>
                      <a:pt x="928" y="747"/>
                    </a:lnTo>
                    <a:lnTo>
                      <a:pt x="625" y="747"/>
                    </a:lnTo>
                    <a:lnTo>
                      <a:pt x="625" y="746"/>
                    </a:lnTo>
                    <a:lnTo>
                      <a:pt x="624" y="745"/>
                    </a:lnTo>
                    <a:lnTo>
                      <a:pt x="622" y="744"/>
                    </a:lnTo>
                    <a:lnTo>
                      <a:pt x="621" y="744"/>
                    </a:lnTo>
                    <a:lnTo>
                      <a:pt x="619" y="744"/>
                    </a:lnTo>
                    <a:lnTo>
                      <a:pt x="617" y="745"/>
                    </a:lnTo>
                    <a:lnTo>
                      <a:pt x="616" y="746"/>
                    </a:lnTo>
                    <a:lnTo>
                      <a:pt x="616" y="747"/>
                    </a:lnTo>
                    <a:lnTo>
                      <a:pt x="571" y="747"/>
                    </a:lnTo>
                    <a:lnTo>
                      <a:pt x="571" y="746"/>
                    </a:lnTo>
                    <a:lnTo>
                      <a:pt x="570" y="745"/>
                    </a:lnTo>
                    <a:lnTo>
                      <a:pt x="568" y="744"/>
                    </a:lnTo>
                    <a:lnTo>
                      <a:pt x="567" y="744"/>
                    </a:lnTo>
                    <a:lnTo>
                      <a:pt x="565" y="744"/>
                    </a:lnTo>
                    <a:lnTo>
                      <a:pt x="563" y="745"/>
                    </a:lnTo>
                    <a:lnTo>
                      <a:pt x="562" y="746"/>
                    </a:lnTo>
                    <a:lnTo>
                      <a:pt x="562" y="747"/>
                    </a:lnTo>
                    <a:lnTo>
                      <a:pt x="519" y="747"/>
                    </a:lnTo>
                    <a:lnTo>
                      <a:pt x="519" y="746"/>
                    </a:lnTo>
                    <a:lnTo>
                      <a:pt x="518" y="745"/>
                    </a:lnTo>
                    <a:lnTo>
                      <a:pt x="516" y="744"/>
                    </a:lnTo>
                    <a:lnTo>
                      <a:pt x="515" y="744"/>
                    </a:lnTo>
                    <a:lnTo>
                      <a:pt x="513" y="744"/>
                    </a:lnTo>
                    <a:lnTo>
                      <a:pt x="512" y="745"/>
                    </a:lnTo>
                    <a:lnTo>
                      <a:pt x="511" y="746"/>
                    </a:lnTo>
                    <a:lnTo>
                      <a:pt x="510" y="747"/>
                    </a:lnTo>
                    <a:lnTo>
                      <a:pt x="426" y="747"/>
                    </a:lnTo>
                    <a:lnTo>
                      <a:pt x="426" y="746"/>
                    </a:lnTo>
                    <a:lnTo>
                      <a:pt x="425" y="745"/>
                    </a:lnTo>
                    <a:lnTo>
                      <a:pt x="424" y="744"/>
                    </a:lnTo>
                    <a:lnTo>
                      <a:pt x="422" y="744"/>
                    </a:lnTo>
                    <a:lnTo>
                      <a:pt x="420" y="744"/>
                    </a:lnTo>
                    <a:lnTo>
                      <a:pt x="419" y="745"/>
                    </a:lnTo>
                    <a:lnTo>
                      <a:pt x="418" y="746"/>
                    </a:lnTo>
                    <a:lnTo>
                      <a:pt x="417" y="747"/>
                    </a:lnTo>
                    <a:lnTo>
                      <a:pt x="330" y="747"/>
                    </a:lnTo>
                    <a:lnTo>
                      <a:pt x="330" y="746"/>
                    </a:lnTo>
                    <a:lnTo>
                      <a:pt x="329" y="745"/>
                    </a:lnTo>
                    <a:lnTo>
                      <a:pt x="327" y="744"/>
                    </a:lnTo>
                    <a:lnTo>
                      <a:pt x="326" y="744"/>
                    </a:lnTo>
                    <a:lnTo>
                      <a:pt x="324" y="744"/>
                    </a:lnTo>
                    <a:lnTo>
                      <a:pt x="322" y="745"/>
                    </a:lnTo>
                    <a:lnTo>
                      <a:pt x="321" y="746"/>
                    </a:lnTo>
                    <a:lnTo>
                      <a:pt x="321" y="747"/>
                    </a:lnTo>
                    <a:lnTo>
                      <a:pt x="249" y="747"/>
                    </a:lnTo>
                    <a:lnTo>
                      <a:pt x="249" y="746"/>
                    </a:lnTo>
                    <a:lnTo>
                      <a:pt x="248" y="745"/>
                    </a:lnTo>
                    <a:lnTo>
                      <a:pt x="246" y="744"/>
                    </a:lnTo>
                    <a:lnTo>
                      <a:pt x="244" y="744"/>
                    </a:lnTo>
                    <a:lnTo>
                      <a:pt x="243" y="744"/>
                    </a:lnTo>
                    <a:lnTo>
                      <a:pt x="241" y="745"/>
                    </a:lnTo>
                    <a:lnTo>
                      <a:pt x="240" y="746"/>
                    </a:lnTo>
                    <a:lnTo>
                      <a:pt x="240" y="747"/>
                    </a:lnTo>
                    <a:lnTo>
                      <a:pt x="98" y="747"/>
                    </a:lnTo>
                    <a:lnTo>
                      <a:pt x="97" y="746"/>
                    </a:lnTo>
                    <a:lnTo>
                      <a:pt x="96" y="745"/>
                    </a:lnTo>
                    <a:lnTo>
                      <a:pt x="95" y="744"/>
                    </a:lnTo>
                    <a:lnTo>
                      <a:pt x="93" y="744"/>
                    </a:lnTo>
                    <a:lnTo>
                      <a:pt x="91" y="744"/>
                    </a:lnTo>
                    <a:lnTo>
                      <a:pt x="90" y="745"/>
                    </a:lnTo>
                    <a:lnTo>
                      <a:pt x="89" y="746"/>
                    </a:lnTo>
                    <a:lnTo>
                      <a:pt x="89" y="747"/>
                    </a:lnTo>
                    <a:lnTo>
                      <a:pt x="69" y="747"/>
                    </a:lnTo>
                    <a:lnTo>
                      <a:pt x="69" y="746"/>
                    </a:lnTo>
                    <a:lnTo>
                      <a:pt x="68" y="745"/>
                    </a:lnTo>
                    <a:lnTo>
                      <a:pt x="66" y="744"/>
                    </a:lnTo>
                    <a:lnTo>
                      <a:pt x="64" y="744"/>
                    </a:lnTo>
                    <a:lnTo>
                      <a:pt x="63" y="744"/>
                    </a:lnTo>
                    <a:lnTo>
                      <a:pt x="61" y="745"/>
                    </a:lnTo>
                    <a:lnTo>
                      <a:pt x="60" y="746"/>
                    </a:lnTo>
                    <a:lnTo>
                      <a:pt x="60" y="747"/>
                    </a:lnTo>
                    <a:lnTo>
                      <a:pt x="26" y="747"/>
                    </a:lnTo>
                    <a:lnTo>
                      <a:pt x="26" y="746"/>
                    </a:lnTo>
                    <a:lnTo>
                      <a:pt x="25" y="745"/>
                    </a:lnTo>
                    <a:lnTo>
                      <a:pt x="23" y="744"/>
                    </a:lnTo>
                    <a:lnTo>
                      <a:pt x="22" y="744"/>
                    </a:lnTo>
                    <a:lnTo>
                      <a:pt x="20" y="744"/>
                    </a:lnTo>
                    <a:lnTo>
                      <a:pt x="18" y="745"/>
                    </a:lnTo>
                    <a:lnTo>
                      <a:pt x="18" y="746"/>
                    </a:lnTo>
                    <a:lnTo>
                      <a:pt x="17" y="747"/>
                    </a:lnTo>
                    <a:lnTo>
                      <a:pt x="0" y="747"/>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9200" y="3764880"/>
                <a:ext cx="14760" cy="1152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ff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34" name=""/>
              <p:cNvSpPr/>
              <p:nvPr/>
            </p:nvSpPr>
            <p:spPr>
              <a:xfrm>
                <a:off x="5347080" y="47545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35" name=""/>
              <p:cNvSpPr/>
              <p:nvPr/>
            </p:nvSpPr>
            <p:spPr>
              <a:xfrm>
                <a:off x="5244120" y="4350960"/>
                <a:ext cx="2022120" cy="367200"/>
              </a:xfrm>
              <a:custGeom>
                <a:avLst/>
                <a:gdLst/>
                <a:ahLst/>
                <a:rect l="l" t="t" r="r" b="b"/>
                <a:pathLst>
                  <a:path w="1910" h="275">
                    <a:moveTo>
                      <a:pt x="0" y="275"/>
                    </a:moveTo>
                    <a:lnTo>
                      <a:pt x="0" y="6"/>
                    </a:lnTo>
                    <a:lnTo>
                      <a:pt x="66" y="6"/>
                    </a:lnTo>
                    <a:lnTo>
                      <a:pt x="67" y="5"/>
                    </a:lnTo>
                    <a:lnTo>
                      <a:pt x="67" y="3"/>
                    </a:lnTo>
                    <a:lnTo>
                      <a:pt x="69" y="2"/>
                    </a:lnTo>
                    <a:lnTo>
                      <a:pt x="71" y="1"/>
                    </a:lnTo>
                    <a:lnTo>
                      <a:pt x="73" y="1"/>
                    </a:lnTo>
                    <a:lnTo>
                      <a:pt x="75" y="1"/>
                    </a:lnTo>
                    <a:lnTo>
                      <a:pt x="77" y="1"/>
                    </a:lnTo>
                    <a:lnTo>
                      <a:pt x="79" y="2"/>
                    </a:lnTo>
                    <a:lnTo>
                      <a:pt x="80" y="3"/>
                    </a:lnTo>
                    <a:lnTo>
                      <a:pt x="81" y="5"/>
                    </a:lnTo>
                    <a:lnTo>
                      <a:pt x="81" y="6"/>
                    </a:lnTo>
                    <a:lnTo>
                      <a:pt x="106" y="6"/>
                    </a:lnTo>
                    <a:lnTo>
                      <a:pt x="106" y="5"/>
                    </a:lnTo>
                    <a:lnTo>
                      <a:pt x="107" y="3"/>
                    </a:lnTo>
                    <a:lnTo>
                      <a:pt x="109" y="2"/>
                    </a:lnTo>
                    <a:lnTo>
                      <a:pt x="111" y="1"/>
                    </a:lnTo>
                    <a:lnTo>
                      <a:pt x="113" y="0"/>
                    </a:lnTo>
                    <a:lnTo>
                      <a:pt x="115" y="0"/>
                    </a:lnTo>
                    <a:lnTo>
                      <a:pt x="117" y="1"/>
                    </a:lnTo>
                    <a:lnTo>
                      <a:pt x="119" y="2"/>
                    </a:lnTo>
                    <a:lnTo>
                      <a:pt x="120" y="3"/>
                    </a:lnTo>
                    <a:lnTo>
                      <a:pt x="121" y="5"/>
                    </a:lnTo>
                    <a:lnTo>
                      <a:pt x="121" y="6"/>
                    </a:lnTo>
                    <a:lnTo>
                      <a:pt x="126" y="6"/>
                    </a:lnTo>
                    <a:lnTo>
                      <a:pt x="127" y="5"/>
                    </a:lnTo>
                    <a:lnTo>
                      <a:pt x="127" y="4"/>
                    </a:lnTo>
                    <a:lnTo>
                      <a:pt x="129" y="3"/>
                    </a:lnTo>
                    <a:lnTo>
                      <a:pt x="131" y="3"/>
                    </a:lnTo>
                    <a:lnTo>
                      <a:pt x="132" y="3"/>
                    </a:lnTo>
                    <a:lnTo>
                      <a:pt x="134" y="4"/>
                    </a:lnTo>
                    <a:lnTo>
                      <a:pt x="135" y="5"/>
                    </a:lnTo>
                    <a:lnTo>
                      <a:pt x="135" y="6"/>
                    </a:lnTo>
                    <a:lnTo>
                      <a:pt x="169" y="6"/>
                    </a:lnTo>
                    <a:lnTo>
                      <a:pt x="169" y="5"/>
                    </a:lnTo>
                    <a:lnTo>
                      <a:pt x="170" y="4"/>
                    </a:lnTo>
                    <a:lnTo>
                      <a:pt x="172" y="3"/>
                    </a:lnTo>
                    <a:lnTo>
                      <a:pt x="173" y="3"/>
                    </a:lnTo>
                    <a:lnTo>
                      <a:pt x="175" y="3"/>
                    </a:lnTo>
                    <a:lnTo>
                      <a:pt x="177" y="4"/>
                    </a:lnTo>
                    <a:lnTo>
                      <a:pt x="178" y="5"/>
                    </a:lnTo>
                    <a:lnTo>
                      <a:pt x="178" y="6"/>
                    </a:lnTo>
                    <a:lnTo>
                      <a:pt x="189" y="6"/>
                    </a:lnTo>
                    <a:lnTo>
                      <a:pt x="190" y="5"/>
                    </a:lnTo>
                    <a:lnTo>
                      <a:pt x="191" y="3"/>
                    </a:lnTo>
                    <a:lnTo>
                      <a:pt x="192" y="1"/>
                    </a:lnTo>
                    <a:lnTo>
                      <a:pt x="194" y="0"/>
                    </a:lnTo>
                    <a:lnTo>
                      <a:pt x="197" y="0"/>
                    </a:lnTo>
                    <a:lnTo>
                      <a:pt x="199" y="0"/>
                    </a:lnTo>
                    <a:lnTo>
                      <a:pt x="201" y="0"/>
                    </a:lnTo>
                    <a:lnTo>
                      <a:pt x="204" y="1"/>
                    </a:lnTo>
                    <a:lnTo>
                      <a:pt x="205" y="3"/>
                    </a:lnTo>
                    <a:lnTo>
                      <a:pt x="206" y="5"/>
                    </a:lnTo>
                    <a:lnTo>
                      <a:pt x="207" y="6"/>
                    </a:lnTo>
                    <a:lnTo>
                      <a:pt x="218" y="6"/>
                    </a:lnTo>
                    <a:lnTo>
                      <a:pt x="219" y="5"/>
                    </a:lnTo>
                    <a:lnTo>
                      <a:pt x="220" y="4"/>
                    </a:lnTo>
                    <a:lnTo>
                      <a:pt x="221" y="3"/>
                    </a:lnTo>
                    <a:lnTo>
                      <a:pt x="223" y="3"/>
                    </a:lnTo>
                    <a:lnTo>
                      <a:pt x="225" y="3"/>
                    </a:lnTo>
                    <a:lnTo>
                      <a:pt x="226" y="4"/>
                    </a:lnTo>
                    <a:lnTo>
                      <a:pt x="227" y="5"/>
                    </a:lnTo>
                    <a:lnTo>
                      <a:pt x="227" y="6"/>
                    </a:lnTo>
                    <a:lnTo>
                      <a:pt x="318" y="6"/>
                    </a:lnTo>
                    <a:lnTo>
                      <a:pt x="318" y="5"/>
                    </a:lnTo>
                    <a:lnTo>
                      <a:pt x="319" y="4"/>
                    </a:lnTo>
                    <a:lnTo>
                      <a:pt x="321" y="3"/>
                    </a:lnTo>
                    <a:lnTo>
                      <a:pt x="322" y="3"/>
                    </a:lnTo>
                    <a:lnTo>
                      <a:pt x="324" y="3"/>
                    </a:lnTo>
                    <a:lnTo>
                      <a:pt x="325" y="4"/>
                    </a:lnTo>
                    <a:lnTo>
                      <a:pt x="326" y="5"/>
                    </a:lnTo>
                    <a:lnTo>
                      <a:pt x="327" y="6"/>
                    </a:lnTo>
                    <a:lnTo>
                      <a:pt x="342" y="6"/>
                    </a:lnTo>
                    <a:lnTo>
                      <a:pt x="343" y="5"/>
                    </a:lnTo>
                    <a:lnTo>
                      <a:pt x="344" y="4"/>
                    </a:lnTo>
                    <a:lnTo>
                      <a:pt x="345" y="3"/>
                    </a:lnTo>
                    <a:lnTo>
                      <a:pt x="347" y="3"/>
                    </a:lnTo>
                    <a:lnTo>
                      <a:pt x="348" y="3"/>
                    </a:lnTo>
                    <a:lnTo>
                      <a:pt x="350" y="4"/>
                    </a:lnTo>
                    <a:lnTo>
                      <a:pt x="351" y="5"/>
                    </a:lnTo>
                    <a:lnTo>
                      <a:pt x="351" y="6"/>
                    </a:lnTo>
                    <a:lnTo>
                      <a:pt x="406" y="6"/>
                    </a:lnTo>
                    <a:lnTo>
                      <a:pt x="406" y="5"/>
                    </a:lnTo>
                    <a:lnTo>
                      <a:pt x="407" y="4"/>
                    </a:lnTo>
                    <a:lnTo>
                      <a:pt x="408" y="3"/>
                    </a:lnTo>
                    <a:lnTo>
                      <a:pt x="410" y="3"/>
                    </a:lnTo>
                    <a:lnTo>
                      <a:pt x="412" y="3"/>
                    </a:lnTo>
                    <a:lnTo>
                      <a:pt x="413" y="4"/>
                    </a:lnTo>
                    <a:lnTo>
                      <a:pt x="414" y="5"/>
                    </a:lnTo>
                    <a:lnTo>
                      <a:pt x="415" y="6"/>
                    </a:lnTo>
                    <a:lnTo>
                      <a:pt x="435" y="6"/>
                    </a:lnTo>
                    <a:lnTo>
                      <a:pt x="435" y="5"/>
                    </a:lnTo>
                    <a:lnTo>
                      <a:pt x="436" y="4"/>
                    </a:lnTo>
                    <a:lnTo>
                      <a:pt x="438" y="3"/>
                    </a:lnTo>
                    <a:lnTo>
                      <a:pt x="439" y="3"/>
                    </a:lnTo>
                    <a:lnTo>
                      <a:pt x="441" y="3"/>
                    </a:lnTo>
                    <a:lnTo>
                      <a:pt x="443" y="4"/>
                    </a:lnTo>
                    <a:lnTo>
                      <a:pt x="444" y="5"/>
                    </a:lnTo>
                    <a:lnTo>
                      <a:pt x="444" y="6"/>
                    </a:lnTo>
                    <a:lnTo>
                      <a:pt x="464" y="6"/>
                    </a:lnTo>
                    <a:lnTo>
                      <a:pt x="465" y="5"/>
                    </a:lnTo>
                    <a:lnTo>
                      <a:pt x="466" y="4"/>
                    </a:lnTo>
                    <a:lnTo>
                      <a:pt x="467" y="3"/>
                    </a:lnTo>
                    <a:lnTo>
                      <a:pt x="469" y="3"/>
                    </a:lnTo>
                    <a:lnTo>
                      <a:pt x="471" y="3"/>
                    </a:lnTo>
                    <a:lnTo>
                      <a:pt x="472" y="4"/>
                    </a:lnTo>
                    <a:lnTo>
                      <a:pt x="473" y="5"/>
                    </a:lnTo>
                    <a:lnTo>
                      <a:pt x="473" y="6"/>
                    </a:lnTo>
                    <a:lnTo>
                      <a:pt x="484" y="6"/>
                    </a:lnTo>
                    <a:lnTo>
                      <a:pt x="485" y="5"/>
                    </a:lnTo>
                    <a:lnTo>
                      <a:pt x="486" y="4"/>
                    </a:lnTo>
                    <a:lnTo>
                      <a:pt x="487" y="3"/>
                    </a:lnTo>
                    <a:lnTo>
                      <a:pt x="489" y="3"/>
                    </a:lnTo>
                    <a:lnTo>
                      <a:pt x="491" y="3"/>
                    </a:lnTo>
                    <a:lnTo>
                      <a:pt x="492" y="4"/>
                    </a:lnTo>
                    <a:lnTo>
                      <a:pt x="493" y="5"/>
                    </a:lnTo>
                    <a:lnTo>
                      <a:pt x="493" y="6"/>
                    </a:lnTo>
                    <a:lnTo>
                      <a:pt x="547" y="6"/>
                    </a:lnTo>
                    <a:lnTo>
                      <a:pt x="547" y="5"/>
                    </a:lnTo>
                    <a:lnTo>
                      <a:pt x="548" y="4"/>
                    </a:lnTo>
                    <a:lnTo>
                      <a:pt x="550" y="3"/>
                    </a:lnTo>
                    <a:lnTo>
                      <a:pt x="551" y="3"/>
                    </a:lnTo>
                    <a:lnTo>
                      <a:pt x="553" y="3"/>
                    </a:lnTo>
                    <a:lnTo>
                      <a:pt x="555" y="4"/>
                    </a:lnTo>
                    <a:lnTo>
                      <a:pt x="556" y="5"/>
                    </a:lnTo>
                    <a:lnTo>
                      <a:pt x="556" y="6"/>
                    </a:lnTo>
                    <a:lnTo>
                      <a:pt x="619" y="6"/>
                    </a:lnTo>
                    <a:lnTo>
                      <a:pt x="620" y="5"/>
                    </a:lnTo>
                    <a:lnTo>
                      <a:pt x="621" y="4"/>
                    </a:lnTo>
                    <a:lnTo>
                      <a:pt x="622" y="3"/>
                    </a:lnTo>
                    <a:lnTo>
                      <a:pt x="624" y="3"/>
                    </a:lnTo>
                    <a:lnTo>
                      <a:pt x="625" y="3"/>
                    </a:lnTo>
                    <a:lnTo>
                      <a:pt x="627" y="4"/>
                    </a:lnTo>
                    <a:lnTo>
                      <a:pt x="628" y="5"/>
                    </a:lnTo>
                    <a:lnTo>
                      <a:pt x="628" y="6"/>
                    </a:lnTo>
                    <a:lnTo>
                      <a:pt x="671" y="6"/>
                    </a:lnTo>
                    <a:lnTo>
                      <a:pt x="671" y="5"/>
                    </a:lnTo>
                    <a:lnTo>
                      <a:pt x="672" y="4"/>
                    </a:lnTo>
                    <a:lnTo>
                      <a:pt x="674" y="3"/>
                    </a:lnTo>
                    <a:lnTo>
                      <a:pt x="676" y="3"/>
                    </a:lnTo>
                    <a:lnTo>
                      <a:pt x="677" y="3"/>
                    </a:lnTo>
                    <a:lnTo>
                      <a:pt x="679" y="4"/>
                    </a:lnTo>
                    <a:lnTo>
                      <a:pt x="680" y="5"/>
                    </a:lnTo>
                    <a:lnTo>
                      <a:pt x="680" y="6"/>
                    </a:lnTo>
                    <a:lnTo>
                      <a:pt x="694" y="6"/>
                    </a:lnTo>
                    <a:lnTo>
                      <a:pt x="694" y="5"/>
                    </a:lnTo>
                    <a:lnTo>
                      <a:pt x="695" y="4"/>
                    </a:lnTo>
                    <a:lnTo>
                      <a:pt x="696" y="3"/>
                    </a:lnTo>
                    <a:lnTo>
                      <a:pt x="698" y="3"/>
                    </a:lnTo>
                    <a:lnTo>
                      <a:pt x="700" y="3"/>
                    </a:lnTo>
                    <a:lnTo>
                      <a:pt x="701" y="4"/>
                    </a:lnTo>
                    <a:lnTo>
                      <a:pt x="702" y="5"/>
                    </a:lnTo>
                    <a:lnTo>
                      <a:pt x="703" y="6"/>
                    </a:lnTo>
                    <a:lnTo>
                      <a:pt x="757" y="6"/>
                    </a:lnTo>
                    <a:lnTo>
                      <a:pt x="757" y="5"/>
                    </a:lnTo>
                    <a:lnTo>
                      <a:pt x="758" y="4"/>
                    </a:lnTo>
                    <a:lnTo>
                      <a:pt x="760" y="3"/>
                    </a:lnTo>
                    <a:lnTo>
                      <a:pt x="761" y="3"/>
                    </a:lnTo>
                    <a:lnTo>
                      <a:pt x="763" y="3"/>
                    </a:lnTo>
                    <a:lnTo>
                      <a:pt x="765" y="4"/>
                    </a:lnTo>
                    <a:lnTo>
                      <a:pt x="766" y="5"/>
                    </a:lnTo>
                    <a:lnTo>
                      <a:pt x="766" y="6"/>
                    </a:lnTo>
                    <a:lnTo>
                      <a:pt x="858" y="6"/>
                    </a:lnTo>
                    <a:lnTo>
                      <a:pt x="858" y="5"/>
                    </a:lnTo>
                    <a:lnTo>
                      <a:pt x="859" y="4"/>
                    </a:lnTo>
                    <a:lnTo>
                      <a:pt x="861" y="3"/>
                    </a:lnTo>
                    <a:lnTo>
                      <a:pt x="862" y="3"/>
                    </a:lnTo>
                    <a:lnTo>
                      <a:pt x="864" y="3"/>
                    </a:lnTo>
                    <a:lnTo>
                      <a:pt x="865" y="4"/>
                    </a:lnTo>
                    <a:lnTo>
                      <a:pt x="866" y="5"/>
                    </a:lnTo>
                    <a:lnTo>
                      <a:pt x="867" y="6"/>
                    </a:lnTo>
                    <a:lnTo>
                      <a:pt x="1032" y="6"/>
                    </a:lnTo>
                    <a:lnTo>
                      <a:pt x="1033" y="5"/>
                    </a:lnTo>
                    <a:lnTo>
                      <a:pt x="1033" y="4"/>
                    </a:lnTo>
                    <a:lnTo>
                      <a:pt x="1035" y="3"/>
                    </a:lnTo>
                    <a:lnTo>
                      <a:pt x="1037" y="3"/>
                    </a:lnTo>
                    <a:lnTo>
                      <a:pt x="1038" y="3"/>
                    </a:lnTo>
                    <a:lnTo>
                      <a:pt x="1040" y="4"/>
                    </a:lnTo>
                    <a:lnTo>
                      <a:pt x="1041" y="5"/>
                    </a:lnTo>
                    <a:lnTo>
                      <a:pt x="1041" y="6"/>
                    </a:lnTo>
                    <a:lnTo>
                      <a:pt x="1149" y="6"/>
                    </a:lnTo>
                    <a:lnTo>
                      <a:pt x="1150" y="5"/>
                    </a:lnTo>
                    <a:lnTo>
                      <a:pt x="1151" y="4"/>
                    </a:lnTo>
                    <a:lnTo>
                      <a:pt x="1152" y="3"/>
                    </a:lnTo>
                    <a:lnTo>
                      <a:pt x="1154" y="3"/>
                    </a:lnTo>
                    <a:lnTo>
                      <a:pt x="1156" y="3"/>
                    </a:lnTo>
                    <a:lnTo>
                      <a:pt x="1157" y="4"/>
                    </a:lnTo>
                    <a:lnTo>
                      <a:pt x="1158" y="5"/>
                    </a:lnTo>
                    <a:lnTo>
                      <a:pt x="1158" y="6"/>
                    </a:lnTo>
                    <a:lnTo>
                      <a:pt x="1187" y="6"/>
                    </a:lnTo>
                    <a:lnTo>
                      <a:pt x="1187" y="5"/>
                    </a:lnTo>
                    <a:lnTo>
                      <a:pt x="1188" y="4"/>
                    </a:lnTo>
                    <a:lnTo>
                      <a:pt x="1189" y="3"/>
                    </a:lnTo>
                    <a:lnTo>
                      <a:pt x="1191" y="3"/>
                    </a:lnTo>
                    <a:lnTo>
                      <a:pt x="1193" y="3"/>
                    </a:lnTo>
                    <a:lnTo>
                      <a:pt x="1194" y="4"/>
                    </a:lnTo>
                    <a:lnTo>
                      <a:pt x="1195" y="5"/>
                    </a:lnTo>
                    <a:lnTo>
                      <a:pt x="1196" y="6"/>
                    </a:lnTo>
                    <a:lnTo>
                      <a:pt x="1244" y="6"/>
                    </a:lnTo>
                    <a:lnTo>
                      <a:pt x="1244" y="5"/>
                    </a:lnTo>
                    <a:lnTo>
                      <a:pt x="1245" y="4"/>
                    </a:lnTo>
                    <a:lnTo>
                      <a:pt x="1247" y="3"/>
                    </a:lnTo>
                    <a:lnTo>
                      <a:pt x="1248" y="3"/>
                    </a:lnTo>
                    <a:lnTo>
                      <a:pt x="1250" y="3"/>
                    </a:lnTo>
                    <a:lnTo>
                      <a:pt x="1252" y="4"/>
                    </a:lnTo>
                    <a:lnTo>
                      <a:pt x="1253" y="5"/>
                    </a:lnTo>
                    <a:lnTo>
                      <a:pt x="1253" y="6"/>
                    </a:lnTo>
                    <a:lnTo>
                      <a:pt x="1407" y="6"/>
                    </a:lnTo>
                    <a:lnTo>
                      <a:pt x="1407" y="5"/>
                    </a:lnTo>
                    <a:lnTo>
                      <a:pt x="1408" y="4"/>
                    </a:lnTo>
                    <a:lnTo>
                      <a:pt x="1410" y="3"/>
                    </a:lnTo>
                    <a:lnTo>
                      <a:pt x="1411" y="3"/>
                    </a:lnTo>
                    <a:lnTo>
                      <a:pt x="1413" y="3"/>
                    </a:lnTo>
                    <a:lnTo>
                      <a:pt x="1415" y="4"/>
                    </a:lnTo>
                    <a:lnTo>
                      <a:pt x="1416" y="5"/>
                    </a:lnTo>
                    <a:lnTo>
                      <a:pt x="1416" y="6"/>
                    </a:lnTo>
                    <a:lnTo>
                      <a:pt x="1451" y="6"/>
                    </a:lnTo>
                    <a:lnTo>
                      <a:pt x="1451" y="5"/>
                    </a:lnTo>
                    <a:lnTo>
                      <a:pt x="1452" y="4"/>
                    </a:lnTo>
                    <a:lnTo>
                      <a:pt x="1454" y="3"/>
                    </a:lnTo>
                    <a:lnTo>
                      <a:pt x="1455" y="3"/>
                    </a:lnTo>
                    <a:lnTo>
                      <a:pt x="1457" y="3"/>
                    </a:lnTo>
                    <a:lnTo>
                      <a:pt x="1459" y="4"/>
                    </a:lnTo>
                    <a:lnTo>
                      <a:pt x="1459" y="5"/>
                    </a:lnTo>
                    <a:lnTo>
                      <a:pt x="1460" y="6"/>
                    </a:lnTo>
                    <a:lnTo>
                      <a:pt x="1658" y="6"/>
                    </a:lnTo>
                    <a:lnTo>
                      <a:pt x="1658" y="5"/>
                    </a:lnTo>
                    <a:lnTo>
                      <a:pt x="1659" y="4"/>
                    </a:lnTo>
                    <a:lnTo>
                      <a:pt x="1660" y="3"/>
                    </a:lnTo>
                    <a:lnTo>
                      <a:pt x="1662" y="3"/>
                    </a:lnTo>
                    <a:lnTo>
                      <a:pt x="1664" y="3"/>
                    </a:lnTo>
                    <a:lnTo>
                      <a:pt x="1665" y="4"/>
                    </a:lnTo>
                    <a:lnTo>
                      <a:pt x="1666" y="5"/>
                    </a:lnTo>
                    <a:lnTo>
                      <a:pt x="1667" y="6"/>
                    </a:lnTo>
                    <a:lnTo>
                      <a:pt x="1720" y="6"/>
                    </a:lnTo>
                    <a:lnTo>
                      <a:pt x="1721" y="5"/>
                    </a:lnTo>
                    <a:lnTo>
                      <a:pt x="1721" y="4"/>
                    </a:lnTo>
                    <a:lnTo>
                      <a:pt x="1723" y="3"/>
                    </a:lnTo>
                    <a:lnTo>
                      <a:pt x="1725" y="3"/>
                    </a:lnTo>
                    <a:lnTo>
                      <a:pt x="1726" y="3"/>
                    </a:lnTo>
                    <a:lnTo>
                      <a:pt x="1728" y="4"/>
                    </a:lnTo>
                    <a:lnTo>
                      <a:pt x="1729" y="5"/>
                    </a:lnTo>
                    <a:lnTo>
                      <a:pt x="1729" y="6"/>
                    </a:lnTo>
                    <a:lnTo>
                      <a:pt x="1740" y="6"/>
                    </a:lnTo>
                    <a:lnTo>
                      <a:pt x="1741" y="5"/>
                    </a:lnTo>
                    <a:lnTo>
                      <a:pt x="1742" y="4"/>
                    </a:lnTo>
                    <a:lnTo>
                      <a:pt x="1743" y="3"/>
                    </a:lnTo>
                    <a:lnTo>
                      <a:pt x="1745" y="3"/>
                    </a:lnTo>
                    <a:lnTo>
                      <a:pt x="1747" y="3"/>
                    </a:lnTo>
                    <a:lnTo>
                      <a:pt x="1748" y="4"/>
                    </a:lnTo>
                    <a:lnTo>
                      <a:pt x="1749" y="5"/>
                    </a:lnTo>
                    <a:lnTo>
                      <a:pt x="1749" y="6"/>
                    </a:lnTo>
                    <a:lnTo>
                      <a:pt x="1774" y="6"/>
                    </a:lnTo>
                    <a:lnTo>
                      <a:pt x="1775" y="5"/>
                    </a:lnTo>
                    <a:lnTo>
                      <a:pt x="1776" y="4"/>
                    </a:lnTo>
                    <a:lnTo>
                      <a:pt x="1777" y="3"/>
                    </a:lnTo>
                    <a:lnTo>
                      <a:pt x="1779" y="3"/>
                    </a:lnTo>
                    <a:lnTo>
                      <a:pt x="1780" y="3"/>
                    </a:lnTo>
                    <a:lnTo>
                      <a:pt x="1782" y="4"/>
                    </a:lnTo>
                    <a:lnTo>
                      <a:pt x="1783" y="5"/>
                    </a:lnTo>
                    <a:lnTo>
                      <a:pt x="1783" y="6"/>
                    </a:lnTo>
                    <a:lnTo>
                      <a:pt x="1793" y="6"/>
                    </a:lnTo>
                    <a:lnTo>
                      <a:pt x="1793" y="5"/>
                    </a:lnTo>
                    <a:lnTo>
                      <a:pt x="1794" y="4"/>
                    </a:lnTo>
                    <a:lnTo>
                      <a:pt x="1796" y="3"/>
                    </a:lnTo>
                    <a:lnTo>
                      <a:pt x="1797" y="3"/>
                    </a:lnTo>
                    <a:lnTo>
                      <a:pt x="1799" y="3"/>
                    </a:lnTo>
                    <a:lnTo>
                      <a:pt x="1800" y="4"/>
                    </a:lnTo>
                    <a:lnTo>
                      <a:pt x="1801" y="5"/>
                    </a:lnTo>
                    <a:lnTo>
                      <a:pt x="1802" y="6"/>
                    </a:lnTo>
                    <a:lnTo>
                      <a:pt x="1833" y="6"/>
                    </a:lnTo>
                    <a:lnTo>
                      <a:pt x="1833" y="5"/>
                    </a:lnTo>
                    <a:lnTo>
                      <a:pt x="1834" y="4"/>
                    </a:lnTo>
                    <a:lnTo>
                      <a:pt x="1836" y="3"/>
                    </a:lnTo>
                    <a:lnTo>
                      <a:pt x="1837" y="3"/>
                    </a:lnTo>
                    <a:lnTo>
                      <a:pt x="1839" y="3"/>
                    </a:lnTo>
                    <a:lnTo>
                      <a:pt x="1841" y="4"/>
                    </a:lnTo>
                    <a:lnTo>
                      <a:pt x="1841" y="5"/>
                    </a:lnTo>
                    <a:lnTo>
                      <a:pt x="1842" y="6"/>
                    </a:lnTo>
                    <a:lnTo>
                      <a:pt x="1864" y="6"/>
                    </a:lnTo>
                    <a:lnTo>
                      <a:pt x="1864" y="5"/>
                    </a:lnTo>
                    <a:lnTo>
                      <a:pt x="1865" y="4"/>
                    </a:lnTo>
                    <a:lnTo>
                      <a:pt x="1866" y="3"/>
                    </a:lnTo>
                    <a:lnTo>
                      <a:pt x="1868" y="3"/>
                    </a:lnTo>
                    <a:lnTo>
                      <a:pt x="1870" y="3"/>
                    </a:lnTo>
                    <a:lnTo>
                      <a:pt x="1871" y="4"/>
                    </a:lnTo>
                    <a:lnTo>
                      <a:pt x="1872" y="5"/>
                    </a:lnTo>
                    <a:lnTo>
                      <a:pt x="1873" y="6"/>
                    </a:lnTo>
                    <a:lnTo>
                      <a:pt x="1910" y="6"/>
                    </a:lnTo>
                    <a:lnTo>
                      <a:pt x="1910"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7260120" y="43390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37" name=""/>
              <p:cNvSpPr/>
              <p:nvPr/>
            </p:nvSpPr>
            <p:spPr>
              <a:xfrm>
                <a:off x="5361840" y="2288520"/>
                <a:ext cx="3221640" cy="2609640"/>
              </a:xfrm>
              <a:custGeom>
                <a:avLst/>
                <a:gdLst/>
                <a:ahLst/>
                <a:rect l="l" t="t" r="r" b="b"/>
                <a:pathLst>
                  <a:path w="3043" h="1954">
                    <a:moveTo>
                      <a:pt x="2996" y="0"/>
                    </a:moveTo>
                    <a:lnTo>
                      <a:pt x="3043" y="0"/>
                    </a:lnTo>
                    <a:lnTo>
                      <a:pt x="3043" y="1845"/>
                    </a:lnTo>
                    <a:lnTo>
                      <a:pt x="2881" y="1845"/>
                    </a:lnTo>
                    <a:lnTo>
                      <a:pt x="2881" y="1844"/>
                    </a:lnTo>
                    <a:lnTo>
                      <a:pt x="2880" y="1843"/>
                    </a:lnTo>
                    <a:lnTo>
                      <a:pt x="2879" y="1842"/>
                    </a:lnTo>
                    <a:lnTo>
                      <a:pt x="2877" y="1841"/>
                    </a:lnTo>
                    <a:lnTo>
                      <a:pt x="2875" y="1842"/>
                    </a:lnTo>
                    <a:lnTo>
                      <a:pt x="2874" y="1843"/>
                    </a:lnTo>
                    <a:lnTo>
                      <a:pt x="2873" y="1844"/>
                    </a:lnTo>
                    <a:lnTo>
                      <a:pt x="2872" y="1845"/>
                    </a:lnTo>
                    <a:lnTo>
                      <a:pt x="1986" y="1845"/>
                    </a:lnTo>
                    <a:lnTo>
                      <a:pt x="1986" y="1844"/>
                    </a:lnTo>
                    <a:lnTo>
                      <a:pt x="1985" y="1843"/>
                    </a:lnTo>
                    <a:lnTo>
                      <a:pt x="1983" y="1842"/>
                    </a:lnTo>
                    <a:lnTo>
                      <a:pt x="1982" y="1841"/>
                    </a:lnTo>
                    <a:lnTo>
                      <a:pt x="1980" y="1842"/>
                    </a:lnTo>
                    <a:lnTo>
                      <a:pt x="1979" y="1843"/>
                    </a:lnTo>
                    <a:lnTo>
                      <a:pt x="1978" y="1844"/>
                    </a:lnTo>
                    <a:lnTo>
                      <a:pt x="1977" y="1845"/>
                    </a:lnTo>
                    <a:lnTo>
                      <a:pt x="1795" y="1845"/>
                    </a:lnTo>
                    <a:lnTo>
                      <a:pt x="1795" y="1844"/>
                    </a:lnTo>
                    <a:lnTo>
                      <a:pt x="1794" y="1843"/>
                    </a:lnTo>
                    <a:lnTo>
                      <a:pt x="1793" y="1842"/>
                    </a:lnTo>
                    <a:lnTo>
                      <a:pt x="1791" y="1841"/>
                    </a:lnTo>
                    <a:lnTo>
                      <a:pt x="1789" y="1842"/>
                    </a:lnTo>
                    <a:lnTo>
                      <a:pt x="1788" y="1843"/>
                    </a:lnTo>
                    <a:lnTo>
                      <a:pt x="1787" y="1844"/>
                    </a:lnTo>
                    <a:lnTo>
                      <a:pt x="1786" y="1845"/>
                    </a:lnTo>
                    <a:lnTo>
                      <a:pt x="1762" y="1845"/>
                    </a:lnTo>
                    <a:lnTo>
                      <a:pt x="1761" y="1844"/>
                    </a:lnTo>
                    <a:lnTo>
                      <a:pt x="1760" y="1843"/>
                    </a:lnTo>
                    <a:lnTo>
                      <a:pt x="1759" y="1842"/>
                    </a:lnTo>
                    <a:lnTo>
                      <a:pt x="1757" y="1841"/>
                    </a:lnTo>
                    <a:lnTo>
                      <a:pt x="1755" y="1842"/>
                    </a:lnTo>
                    <a:lnTo>
                      <a:pt x="1754" y="1843"/>
                    </a:lnTo>
                    <a:lnTo>
                      <a:pt x="1753" y="1844"/>
                    </a:lnTo>
                    <a:lnTo>
                      <a:pt x="1753" y="1845"/>
                    </a:lnTo>
                    <a:lnTo>
                      <a:pt x="1691" y="1845"/>
                    </a:lnTo>
                    <a:lnTo>
                      <a:pt x="1690" y="1844"/>
                    </a:lnTo>
                    <a:lnTo>
                      <a:pt x="1690" y="1843"/>
                    </a:lnTo>
                    <a:lnTo>
                      <a:pt x="1688" y="1842"/>
                    </a:lnTo>
                    <a:lnTo>
                      <a:pt x="1686" y="1841"/>
                    </a:lnTo>
                    <a:lnTo>
                      <a:pt x="1685" y="1842"/>
                    </a:lnTo>
                    <a:lnTo>
                      <a:pt x="1683" y="1843"/>
                    </a:lnTo>
                    <a:lnTo>
                      <a:pt x="1682" y="1844"/>
                    </a:lnTo>
                    <a:lnTo>
                      <a:pt x="1682" y="1845"/>
                    </a:lnTo>
                    <a:lnTo>
                      <a:pt x="1638" y="1845"/>
                    </a:lnTo>
                    <a:lnTo>
                      <a:pt x="1638" y="1844"/>
                    </a:lnTo>
                    <a:lnTo>
                      <a:pt x="1637" y="1843"/>
                    </a:lnTo>
                    <a:lnTo>
                      <a:pt x="1636" y="1842"/>
                    </a:lnTo>
                    <a:lnTo>
                      <a:pt x="1634" y="1841"/>
                    </a:lnTo>
                    <a:lnTo>
                      <a:pt x="1632" y="1842"/>
                    </a:lnTo>
                    <a:lnTo>
                      <a:pt x="1631" y="1843"/>
                    </a:lnTo>
                    <a:lnTo>
                      <a:pt x="1630" y="1844"/>
                    </a:lnTo>
                    <a:lnTo>
                      <a:pt x="1629" y="1845"/>
                    </a:lnTo>
                    <a:lnTo>
                      <a:pt x="1409" y="1845"/>
                    </a:lnTo>
                    <a:lnTo>
                      <a:pt x="1408" y="1843"/>
                    </a:lnTo>
                    <a:lnTo>
                      <a:pt x="1407" y="1842"/>
                    </a:lnTo>
                    <a:lnTo>
                      <a:pt x="1406" y="1841"/>
                    </a:lnTo>
                    <a:lnTo>
                      <a:pt x="1404" y="1840"/>
                    </a:lnTo>
                    <a:lnTo>
                      <a:pt x="1402" y="1840"/>
                    </a:lnTo>
                    <a:lnTo>
                      <a:pt x="1400" y="1840"/>
                    </a:lnTo>
                    <a:lnTo>
                      <a:pt x="1398" y="1841"/>
                    </a:lnTo>
                    <a:lnTo>
                      <a:pt x="1396" y="1842"/>
                    </a:lnTo>
                    <a:lnTo>
                      <a:pt x="1395" y="1843"/>
                    </a:lnTo>
                    <a:lnTo>
                      <a:pt x="1395" y="1845"/>
                    </a:lnTo>
                    <a:lnTo>
                      <a:pt x="1118" y="1845"/>
                    </a:lnTo>
                    <a:lnTo>
                      <a:pt x="1117" y="1844"/>
                    </a:lnTo>
                    <a:lnTo>
                      <a:pt x="1116" y="1843"/>
                    </a:lnTo>
                    <a:lnTo>
                      <a:pt x="1115" y="1842"/>
                    </a:lnTo>
                    <a:lnTo>
                      <a:pt x="1113" y="1841"/>
                    </a:lnTo>
                    <a:lnTo>
                      <a:pt x="1112" y="1842"/>
                    </a:lnTo>
                    <a:lnTo>
                      <a:pt x="1110" y="1843"/>
                    </a:lnTo>
                    <a:lnTo>
                      <a:pt x="1109" y="1844"/>
                    </a:lnTo>
                    <a:lnTo>
                      <a:pt x="1109" y="1845"/>
                    </a:lnTo>
                    <a:lnTo>
                      <a:pt x="930" y="1845"/>
                    </a:lnTo>
                    <a:lnTo>
                      <a:pt x="930" y="1844"/>
                    </a:lnTo>
                    <a:lnTo>
                      <a:pt x="929" y="1843"/>
                    </a:lnTo>
                    <a:lnTo>
                      <a:pt x="927" y="1842"/>
                    </a:lnTo>
                    <a:lnTo>
                      <a:pt x="926" y="1841"/>
                    </a:lnTo>
                    <a:lnTo>
                      <a:pt x="924" y="1842"/>
                    </a:lnTo>
                    <a:lnTo>
                      <a:pt x="922" y="1843"/>
                    </a:lnTo>
                    <a:lnTo>
                      <a:pt x="922" y="1844"/>
                    </a:lnTo>
                    <a:lnTo>
                      <a:pt x="921" y="1845"/>
                    </a:lnTo>
                    <a:lnTo>
                      <a:pt x="623" y="1845"/>
                    </a:lnTo>
                    <a:lnTo>
                      <a:pt x="623" y="1844"/>
                    </a:lnTo>
                    <a:lnTo>
                      <a:pt x="622" y="1843"/>
                    </a:lnTo>
                    <a:lnTo>
                      <a:pt x="620" y="1842"/>
                    </a:lnTo>
                    <a:lnTo>
                      <a:pt x="619" y="1841"/>
                    </a:lnTo>
                    <a:lnTo>
                      <a:pt x="617" y="1842"/>
                    </a:lnTo>
                    <a:lnTo>
                      <a:pt x="615" y="1843"/>
                    </a:lnTo>
                    <a:lnTo>
                      <a:pt x="614" y="1844"/>
                    </a:lnTo>
                    <a:lnTo>
                      <a:pt x="614" y="1845"/>
                    </a:lnTo>
                    <a:lnTo>
                      <a:pt x="569" y="1845"/>
                    </a:lnTo>
                    <a:lnTo>
                      <a:pt x="569" y="1844"/>
                    </a:lnTo>
                    <a:lnTo>
                      <a:pt x="568" y="1843"/>
                    </a:lnTo>
                    <a:lnTo>
                      <a:pt x="566" y="1842"/>
                    </a:lnTo>
                    <a:lnTo>
                      <a:pt x="565" y="1841"/>
                    </a:lnTo>
                    <a:lnTo>
                      <a:pt x="563" y="1842"/>
                    </a:lnTo>
                    <a:lnTo>
                      <a:pt x="561" y="1843"/>
                    </a:lnTo>
                    <a:lnTo>
                      <a:pt x="560" y="1844"/>
                    </a:lnTo>
                    <a:lnTo>
                      <a:pt x="560" y="1845"/>
                    </a:lnTo>
                    <a:lnTo>
                      <a:pt x="517" y="1845"/>
                    </a:lnTo>
                    <a:lnTo>
                      <a:pt x="517" y="1844"/>
                    </a:lnTo>
                    <a:lnTo>
                      <a:pt x="516" y="1843"/>
                    </a:lnTo>
                    <a:lnTo>
                      <a:pt x="514" y="1842"/>
                    </a:lnTo>
                    <a:lnTo>
                      <a:pt x="513" y="1841"/>
                    </a:lnTo>
                    <a:lnTo>
                      <a:pt x="511" y="1842"/>
                    </a:lnTo>
                    <a:lnTo>
                      <a:pt x="510" y="1843"/>
                    </a:lnTo>
                    <a:lnTo>
                      <a:pt x="509" y="1844"/>
                    </a:lnTo>
                    <a:lnTo>
                      <a:pt x="508" y="1845"/>
                    </a:lnTo>
                    <a:lnTo>
                      <a:pt x="424" y="1845"/>
                    </a:lnTo>
                    <a:lnTo>
                      <a:pt x="424" y="1844"/>
                    </a:lnTo>
                    <a:lnTo>
                      <a:pt x="423" y="1843"/>
                    </a:lnTo>
                    <a:lnTo>
                      <a:pt x="422" y="1842"/>
                    </a:lnTo>
                    <a:lnTo>
                      <a:pt x="420" y="1841"/>
                    </a:lnTo>
                    <a:lnTo>
                      <a:pt x="418" y="1842"/>
                    </a:lnTo>
                    <a:lnTo>
                      <a:pt x="417" y="1843"/>
                    </a:lnTo>
                    <a:lnTo>
                      <a:pt x="416" y="1844"/>
                    </a:lnTo>
                    <a:lnTo>
                      <a:pt x="415" y="1845"/>
                    </a:lnTo>
                    <a:lnTo>
                      <a:pt x="324" y="1845"/>
                    </a:lnTo>
                    <a:lnTo>
                      <a:pt x="324" y="1954"/>
                    </a:lnTo>
                    <a:lnTo>
                      <a:pt x="247" y="1954"/>
                    </a:lnTo>
                    <a:lnTo>
                      <a:pt x="247" y="1952"/>
                    </a:lnTo>
                    <a:lnTo>
                      <a:pt x="246" y="1951"/>
                    </a:lnTo>
                    <a:lnTo>
                      <a:pt x="244" y="1950"/>
                    </a:lnTo>
                    <a:lnTo>
                      <a:pt x="242" y="1950"/>
                    </a:lnTo>
                    <a:lnTo>
                      <a:pt x="241" y="1950"/>
                    </a:lnTo>
                    <a:lnTo>
                      <a:pt x="239" y="1951"/>
                    </a:lnTo>
                    <a:lnTo>
                      <a:pt x="238" y="1952"/>
                    </a:lnTo>
                    <a:lnTo>
                      <a:pt x="238" y="1954"/>
                    </a:lnTo>
                    <a:lnTo>
                      <a:pt x="96" y="1954"/>
                    </a:lnTo>
                    <a:lnTo>
                      <a:pt x="95" y="1952"/>
                    </a:lnTo>
                    <a:lnTo>
                      <a:pt x="94" y="1951"/>
                    </a:lnTo>
                    <a:lnTo>
                      <a:pt x="93" y="1950"/>
                    </a:lnTo>
                    <a:lnTo>
                      <a:pt x="91" y="1950"/>
                    </a:lnTo>
                    <a:lnTo>
                      <a:pt x="89" y="1950"/>
                    </a:lnTo>
                    <a:lnTo>
                      <a:pt x="88" y="1951"/>
                    </a:lnTo>
                    <a:lnTo>
                      <a:pt x="87" y="1952"/>
                    </a:lnTo>
                    <a:lnTo>
                      <a:pt x="87" y="1954"/>
                    </a:lnTo>
                    <a:lnTo>
                      <a:pt x="24" y="1954"/>
                    </a:lnTo>
                    <a:lnTo>
                      <a:pt x="24" y="1952"/>
                    </a:lnTo>
                    <a:lnTo>
                      <a:pt x="23" y="1951"/>
                    </a:lnTo>
                    <a:lnTo>
                      <a:pt x="21" y="1950"/>
                    </a:lnTo>
                    <a:lnTo>
                      <a:pt x="20" y="1950"/>
                    </a:lnTo>
                    <a:lnTo>
                      <a:pt x="18" y="1950"/>
                    </a:lnTo>
                    <a:lnTo>
                      <a:pt x="16" y="1951"/>
                    </a:lnTo>
                    <a:lnTo>
                      <a:pt x="16" y="1952"/>
                    </a:lnTo>
                    <a:lnTo>
                      <a:pt x="15" y="1954"/>
                    </a:lnTo>
                    <a:lnTo>
                      <a:pt x="0" y="1954"/>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49240" y="489204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39" name=""/>
              <p:cNvSpPr/>
              <p:nvPr/>
            </p:nvSpPr>
            <p:spPr>
              <a:xfrm>
                <a:off x="4688640" y="5112360"/>
                <a:ext cx="243360" cy="117360"/>
              </a:xfrm>
              <a:prstGeom prst="rect">
                <a:avLst/>
              </a:prstGeom>
              <a:blipFill rotWithShape="0">
                <a:blip r:embed="rId5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4724640" y="5136480"/>
                <a:ext cx="137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Capital</a:t>
                </a:r>
                <a:endParaRPr b="0" lang="en-US" sz="300" spc="-1" strike="noStrike">
                  <a:solidFill>
                    <a:srgbClr val="ffffff"/>
                  </a:solidFill>
                  <a:latin typeface="Arial"/>
                </a:endParaRPr>
              </a:p>
            </p:txBody>
          </p:sp>
          <p:sp>
            <p:nvSpPr>
              <p:cNvPr id="541" name=""/>
              <p:cNvSpPr/>
              <p:nvPr/>
            </p:nvSpPr>
            <p:spPr>
              <a:xfrm>
                <a:off x="4753080" y="5169960"/>
                <a:ext cx="151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ojects</a:t>
                </a:r>
                <a:endParaRPr b="0" lang="en-US" sz="300" spc="-1" strike="noStrike">
                  <a:solidFill>
                    <a:srgbClr val="ffffff"/>
                  </a:solidFill>
                  <a:latin typeface="Arial"/>
                </a:endParaRPr>
              </a:p>
            </p:txBody>
          </p:sp>
          <p:sp>
            <p:nvSpPr>
              <p:cNvPr id="542" name=""/>
              <p:cNvSpPr/>
              <p:nvPr/>
            </p:nvSpPr>
            <p:spPr>
              <a:xfrm>
                <a:off x="4903200" y="4924080"/>
                <a:ext cx="19080" cy="174960"/>
              </a:xfrm>
              <a:custGeom>
                <a:avLst/>
                <a:gdLst/>
                <a:ahLst/>
                <a:rect l="l" t="t" r="r" b="b"/>
                <a:pathLst>
                  <a:path w="18" h="131">
                    <a:moveTo>
                      <a:pt x="18" y="0"/>
                    </a:moveTo>
                    <a:lnTo>
                      <a:pt x="18" y="15"/>
                    </a:lnTo>
                    <a:lnTo>
                      <a:pt x="0" y="15"/>
                    </a:lnTo>
                    <a:lnTo>
                      <a:pt x="0" y="13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4897080" y="509760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ff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44" name=""/>
              <p:cNvSpPr/>
              <p:nvPr/>
            </p:nvSpPr>
            <p:spPr>
              <a:xfrm>
                <a:off x="4682160" y="5303520"/>
                <a:ext cx="242280" cy="119880"/>
              </a:xfrm>
              <a:prstGeom prst="rect">
                <a:avLst/>
              </a:prstGeom>
              <a:blipFill rotWithShape="0">
                <a:blip r:embed="rId5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731120" y="5333040"/>
                <a:ext cx="110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Fixed</a:t>
                </a:r>
                <a:endParaRPr b="0" lang="en-US" sz="300" spc="-1" strike="noStrike">
                  <a:solidFill>
                    <a:srgbClr val="ffffff"/>
                  </a:solidFill>
                  <a:latin typeface="Arial"/>
                </a:endParaRPr>
              </a:p>
            </p:txBody>
          </p:sp>
          <p:sp>
            <p:nvSpPr>
              <p:cNvPr id="546" name=""/>
              <p:cNvSpPr/>
              <p:nvPr/>
            </p:nvSpPr>
            <p:spPr>
              <a:xfrm>
                <a:off x="4755960" y="5366520"/>
                <a:ext cx="12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ssets</a:t>
                </a:r>
                <a:endParaRPr b="0" lang="en-US" sz="300" spc="-1" strike="noStrike">
                  <a:solidFill>
                    <a:srgbClr val="ffffff"/>
                  </a:solidFill>
                  <a:latin typeface="Arial"/>
                </a:endParaRPr>
              </a:p>
            </p:txBody>
          </p:sp>
          <p:sp>
            <p:nvSpPr>
              <p:cNvPr id="547" name=""/>
              <p:cNvSpPr/>
              <p:nvPr/>
            </p:nvSpPr>
            <p:spPr>
              <a:xfrm>
                <a:off x="4937400" y="4924080"/>
                <a:ext cx="23040" cy="439200"/>
              </a:xfrm>
              <a:custGeom>
                <a:avLst/>
                <a:gdLst/>
                <a:ahLst/>
                <a:rect l="l" t="t" r="r" b="b"/>
                <a:pathLst>
                  <a:path w="22" h="329">
                    <a:moveTo>
                      <a:pt x="10" y="0"/>
                    </a:moveTo>
                    <a:lnTo>
                      <a:pt x="10" y="82"/>
                    </a:lnTo>
                    <a:lnTo>
                      <a:pt x="22" y="82"/>
                    </a:lnTo>
                    <a:lnTo>
                      <a:pt x="22" y="329"/>
                    </a:lnTo>
                    <a:lnTo>
                      <a:pt x="13" y="329"/>
                    </a:lnTo>
                    <a:lnTo>
                      <a:pt x="13" y="328"/>
                    </a:lnTo>
                    <a:lnTo>
                      <a:pt x="12" y="327"/>
                    </a:lnTo>
                    <a:lnTo>
                      <a:pt x="10" y="326"/>
                    </a:lnTo>
                    <a:lnTo>
                      <a:pt x="9" y="326"/>
                    </a:lnTo>
                    <a:lnTo>
                      <a:pt x="7" y="326"/>
                    </a:lnTo>
                    <a:lnTo>
                      <a:pt x="6" y="327"/>
                    </a:lnTo>
                    <a:lnTo>
                      <a:pt x="4" y="328"/>
                    </a:lnTo>
                    <a:lnTo>
                      <a:pt x="4" y="329"/>
                    </a:lnTo>
                    <a:lnTo>
                      <a:pt x="0" y="32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4924800" y="5358240"/>
                <a:ext cx="14400" cy="11880"/>
              </a:xfrm>
              <a:custGeom>
                <a:avLst/>
                <a:gdLst/>
                <a:ahLst/>
                <a:rect l="l" t="t" r="r" b="b"/>
                <a:pathLst>
                  <a:path w="14" h="9">
                    <a:moveTo>
                      <a:pt x="12" y="9"/>
                    </a:moveTo>
                    <a:lnTo>
                      <a:pt x="0" y="4"/>
                    </a:lnTo>
                    <a:lnTo>
                      <a:pt x="12" y="0"/>
                    </a:lnTo>
                    <a:lnTo>
                      <a:pt x="13" y="2"/>
                    </a:lnTo>
                    <a:lnTo>
                      <a:pt x="14" y="4"/>
                    </a:lnTo>
                    <a:lnTo>
                      <a:pt x="13" y="6"/>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49" name=""/>
              <p:cNvSpPr/>
              <p:nvPr/>
            </p:nvSpPr>
            <p:spPr>
              <a:xfrm>
                <a:off x="5396760" y="5060520"/>
                <a:ext cx="264600" cy="98640"/>
              </a:xfrm>
              <a:prstGeom prst="rect">
                <a:avLst/>
              </a:prstGeom>
              <a:blipFill rotWithShape="0">
                <a:blip r:embed="rId5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5422320" y="5077800"/>
                <a:ext cx="116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con</a:t>
                </a:r>
                <a:endParaRPr b="0" lang="en-US" sz="300" spc="-1" strike="noStrike">
                  <a:solidFill>
                    <a:srgbClr val="ffffff"/>
                  </a:solidFill>
                  <a:latin typeface="Arial"/>
                </a:endParaRPr>
              </a:p>
            </p:txBody>
          </p:sp>
          <p:sp>
            <p:nvSpPr>
              <p:cNvPr id="551" name=""/>
              <p:cNvSpPr/>
              <p:nvPr/>
            </p:nvSpPr>
            <p:spPr>
              <a:xfrm>
                <a:off x="5504760" y="5109840"/>
                <a:ext cx="66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File</a:t>
                </a:r>
                <a:endParaRPr b="0" lang="en-US" sz="300" spc="-1" strike="noStrike">
                  <a:solidFill>
                    <a:srgbClr val="ffffff"/>
                  </a:solidFill>
                  <a:latin typeface="Arial"/>
                </a:endParaRPr>
              </a:p>
            </p:txBody>
          </p:sp>
          <p:sp>
            <p:nvSpPr>
              <p:cNvPr id="552" name=""/>
              <p:cNvSpPr/>
              <p:nvPr/>
            </p:nvSpPr>
            <p:spPr>
              <a:xfrm>
                <a:off x="5202000" y="4924080"/>
                <a:ext cx="181800" cy="169560"/>
              </a:xfrm>
              <a:custGeom>
                <a:avLst/>
                <a:gdLst/>
                <a:ahLst/>
                <a:rect l="l" t="t" r="r" b="b"/>
                <a:pathLst>
                  <a:path w="172" h="127">
                    <a:moveTo>
                      <a:pt x="172" y="127"/>
                    </a:moveTo>
                    <a:lnTo>
                      <a:pt x="85" y="127"/>
                    </a:lnTo>
                    <a:lnTo>
                      <a:pt x="85" y="77"/>
                    </a:lnTo>
                    <a:lnTo>
                      <a:pt x="0" y="77"/>
                    </a:lnTo>
                    <a:lnTo>
                      <a:pt x="0"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5383080" y="508716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54" name=""/>
              <p:cNvSpPr/>
              <p:nvPr/>
            </p:nvSpPr>
            <p:spPr>
              <a:xfrm>
                <a:off x="4396320" y="5378040"/>
                <a:ext cx="263520" cy="99000"/>
              </a:xfrm>
              <a:prstGeom prst="rect">
                <a:avLst/>
              </a:prstGeom>
              <a:blipFill rotWithShape="0">
                <a:blip r:embed="rId5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451400" y="5410440"/>
                <a:ext cx="119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air</a:t>
                </a:r>
                <a:endParaRPr b="0" lang="en-US" sz="300" spc="-1" strike="noStrike">
                  <a:solidFill>
                    <a:srgbClr val="ffffff"/>
                  </a:solidFill>
                  <a:latin typeface="Arial"/>
                </a:endParaRPr>
              </a:p>
            </p:txBody>
          </p:sp>
          <p:sp>
            <p:nvSpPr>
              <p:cNvPr id="556" name=""/>
              <p:cNvSpPr/>
              <p:nvPr/>
            </p:nvSpPr>
            <p:spPr>
              <a:xfrm>
                <a:off x="4672800" y="4936320"/>
                <a:ext cx="302400" cy="515520"/>
              </a:xfrm>
              <a:custGeom>
                <a:avLst/>
                <a:gdLst/>
                <a:ahLst/>
                <a:rect l="l" t="t" r="r" b="b"/>
                <a:pathLst>
                  <a:path w="286" h="386">
                    <a:moveTo>
                      <a:pt x="0" y="386"/>
                    </a:moveTo>
                    <a:lnTo>
                      <a:pt x="286" y="386"/>
                    </a:lnTo>
                    <a:lnTo>
                      <a:pt x="286"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659840" y="5446440"/>
                <a:ext cx="1476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58" name=""/>
              <p:cNvSpPr/>
              <p:nvPr/>
            </p:nvSpPr>
            <p:spPr>
              <a:xfrm>
                <a:off x="4969080" y="49240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59" name=""/>
              <p:cNvSpPr/>
              <p:nvPr/>
            </p:nvSpPr>
            <p:spPr>
              <a:xfrm>
                <a:off x="6427080" y="4642200"/>
                <a:ext cx="227520" cy="85320"/>
              </a:xfrm>
              <a:prstGeom prst="rect">
                <a:avLst/>
              </a:prstGeom>
              <a:blipFill rotWithShape="0">
                <a:blip r:embed="rId58"/>
                <a:srcRect/>
                <a:tile tx="0" ty="0" sx="100000" sy="100000" algn="ctr"/>
              </a:blipFill>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560" name=""/>
              <p:cNvSpPr/>
              <p:nvPr/>
            </p:nvSpPr>
            <p:spPr>
              <a:xfrm>
                <a:off x="6516360" y="465300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EDI</a:t>
                </a:r>
                <a:endParaRPr b="0" lang="en-US" sz="300" spc="-1" strike="noStrike">
                  <a:solidFill>
                    <a:srgbClr val="ffffff"/>
                  </a:solidFill>
                  <a:latin typeface="Arial"/>
                </a:endParaRPr>
              </a:p>
            </p:txBody>
          </p:sp>
          <p:sp>
            <p:nvSpPr>
              <p:cNvPr id="561" name=""/>
              <p:cNvSpPr/>
              <p:nvPr/>
            </p:nvSpPr>
            <p:spPr>
              <a:xfrm>
                <a:off x="6460560" y="4683600"/>
                <a:ext cx="21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ordinator</a:t>
                </a:r>
                <a:endParaRPr b="0" lang="en-US" sz="300" spc="-1" strike="noStrike">
                  <a:solidFill>
                    <a:srgbClr val="ffffff"/>
                  </a:solidFill>
                  <a:latin typeface="Arial"/>
                </a:endParaRPr>
              </a:p>
            </p:txBody>
          </p:sp>
          <p:sp>
            <p:nvSpPr>
              <p:cNvPr id="562" name=""/>
              <p:cNvSpPr/>
              <p:nvPr/>
            </p:nvSpPr>
            <p:spPr>
              <a:xfrm>
                <a:off x="5347080" y="4735800"/>
                <a:ext cx="1193040" cy="43920"/>
              </a:xfrm>
              <a:custGeom>
                <a:avLst/>
                <a:gdLst/>
                <a:ahLst/>
                <a:rect l="l" t="t" r="r" b="b"/>
                <a:pathLst>
                  <a:path w="1127" h="33">
                    <a:moveTo>
                      <a:pt x="1127" y="0"/>
                    </a:moveTo>
                    <a:lnTo>
                      <a:pt x="1127" y="26"/>
                    </a:lnTo>
                    <a:lnTo>
                      <a:pt x="637" y="26"/>
                    </a:lnTo>
                    <a:lnTo>
                      <a:pt x="637" y="25"/>
                    </a:lnTo>
                    <a:lnTo>
                      <a:pt x="636" y="24"/>
                    </a:lnTo>
                    <a:lnTo>
                      <a:pt x="634" y="23"/>
                    </a:lnTo>
                    <a:lnTo>
                      <a:pt x="633" y="23"/>
                    </a:lnTo>
                    <a:lnTo>
                      <a:pt x="631" y="23"/>
                    </a:lnTo>
                    <a:lnTo>
                      <a:pt x="629" y="24"/>
                    </a:lnTo>
                    <a:lnTo>
                      <a:pt x="628" y="25"/>
                    </a:lnTo>
                    <a:lnTo>
                      <a:pt x="628" y="26"/>
                    </a:lnTo>
                    <a:lnTo>
                      <a:pt x="583" y="26"/>
                    </a:lnTo>
                    <a:lnTo>
                      <a:pt x="583" y="25"/>
                    </a:lnTo>
                    <a:lnTo>
                      <a:pt x="582" y="24"/>
                    </a:lnTo>
                    <a:lnTo>
                      <a:pt x="580" y="23"/>
                    </a:lnTo>
                    <a:lnTo>
                      <a:pt x="579" y="23"/>
                    </a:lnTo>
                    <a:lnTo>
                      <a:pt x="577" y="23"/>
                    </a:lnTo>
                    <a:lnTo>
                      <a:pt x="575" y="24"/>
                    </a:lnTo>
                    <a:lnTo>
                      <a:pt x="574" y="25"/>
                    </a:lnTo>
                    <a:lnTo>
                      <a:pt x="574" y="26"/>
                    </a:lnTo>
                    <a:lnTo>
                      <a:pt x="531" y="26"/>
                    </a:lnTo>
                    <a:lnTo>
                      <a:pt x="531" y="25"/>
                    </a:lnTo>
                    <a:lnTo>
                      <a:pt x="530" y="24"/>
                    </a:lnTo>
                    <a:lnTo>
                      <a:pt x="528" y="23"/>
                    </a:lnTo>
                    <a:lnTo>
                      <a:pt x="527" y="23"/>
                    </a:lnTo>
                    <a:lnTo>
                      <a:pt x="525" y="23"/>
                    </a:lnTo>
                    <a:lnTo>
                      <a:pt x="524" y="24"/>
                    </a:lnTo>
                    <a:lnTo>
                      <a:pt x="523" y="25"/>
                    </a:lnTo>
                    <a:lnTo>
                      <a:pt x="522" y="26"/>
                    </a:lnTo>
                    <a:lnTo>
                      <a:pt x="438" y="26"/>
                    </a:lnTo>
                    <a:lnTo>
                      <a:pt x="438" y="25"/>
                    </a:lnTo>
                    <a:lnTo>
                      <a:pt x="437" y="24"/>
                    </a:lnTo>
                    <a:lnTo>
                      <a:pt x="436" y="23"/>
                    </a:lnTo>
                    <a:lnTo>
                      <a:pt x="434" y="23"/>
                    </a:lnTo>
                    <a:lnTo>
                      <a:pt x="432" y="23"/>
                    </a:lnTo>
                    <a:lnTo>
                      <a:pt x="431" y="24"/>
                    </a:lnTo>
                    <a:lnTo>
                      <a:pt x="430" y="25"/>
                    </a:lnTo>
                    <a:lnTo>
                      <a:pt x="429" y="26"/>
                    </a:lnTo>
                    <a:lnTo>
                      <a:pt x="342" y="26"/>
                    </a:lnTo>
                    <a:lnTo>
                      <a:pt x="342" y="25"/>
                    </a:lnTo>
                    <a:lnTo>
                      <a:pt x="341" y="24"/>
                    </a:lnTo>
                    <a:lnTo>
                      <a:pt x="339" y="23"/>
                    </a:lnTo>
                    <a:lnTo>
                      <a:pt x="338" y="23"/>
                    </a:lnTo>
                    <a:lnTo>
                      <a:pt x="336" y="23"/>
                    </a:lnTo>
                    <a:lnTo>
                      <a:pt x="334" y="24"/>
                    </a:lnTo>
                    <a:lnTo>
                      <a:pt x="333" y="25"/>
                    </a:lnTo>
                    <a:lnTo>
                      <a:pt x="333" y="26"/>
                    </a:lnTo>
                    <a:lnTo>
                      <a:pt x="282" y="26"/>
                    </a:lnTo>
                    <a:lnTo>
                      <a:pt x="282" y="33"/>
                    </a:lnTo>
                    <a:lnTo>
                      <a:pt x="261" y="33"/>
                    </a:lnTo>
                    <a:lnTo>
                      <a:pt x="261" y="32"/>
                    </a:lnTo>
                    <a:lnTo>
                      <a:pt x="260" y="31"/>
                    </a:lnTo>
                    <a:lnTo>
                      <a:pt x="258" y="30"/>
                    </a:lnTo>
                    <a:lnTo>
                      <a:pt x="256" y="30"/>
                    </a:lnTo>
                    <a:lnTo>
                      <a:pt x="255" y="30"/>
                    </a:lnTo>
                    <a:lnTo>
                      <a:pt x="253" y="31"/>
                    </a:lnTo>
                    <a:lnTo>
                      <a:pt x="252" y="32"/>
                    </a:lnTo>
                    <a:lnTo>
                      <a:pt x="252" y="33"/>
                    </a:lnTo>
                    <a:lnTo>
                      <a:pt x="110" y="33"/>
                    </a:lnTo>
                    <a:lnTo>
                      <a:pt x="109" y="32"/>
                    </a:lnTo>
                    <a:lnTo>
                      <a:pt x="108" y="31"/>
                    </a:lnTo>
                    <a:lnTo>
                      <a:pt x="107" y="30"/>
                    </a:lnTo>
                    <a:lnTo>
                      <a:pt x="105" y="30"/>
                    </a:lnTo>
                    <a:lnTo>
                      <a:pt x="103" y="30"/>
                    </a:lnTo>
                    <a:lnTo>
                      <a:pt x="102" y="31"/>
                    </a:lnTo>
                    <a:lnTo>
                      <a:pt x="101" y="32"/>
                    </a:lnTo>
                    <a:lnTo>
                      <a:pt x="101" y="33"/>
                    </a:lnTo>
                    <a:lnTo>
                      <a:pt x="81" y="33"/>
                    </a:lnTo>
                    <a:lnTo>
                      <a:pt x="81" y="32"/>
                    </a:lnTo>
                    <a:lnTo>
                      <a:pt x="80" y="31"/>
                    </a:lnTo>
                    <a:lnTo>
                      <a:pt x="78" y="30"/>
                    </a:lnTo>
                    <a:lnTo>
                      <a:pt x="76" y="30"/>
                    </a:lnTo>
                    <a:lnTo>
                      <a:pt x="75" y="30"/>
                    </a:lnTo>
                    <a:lnTo>
                      <a:pt x="73" y="31"/>
                    </a:lnTo>
                    <a:lnTo>
                      <a:pt x="72" y="32"/>
                    </a:lnTo>
                    <a:lnTo>
                      <a:pt x="72" y="33"/>
                    </a:lnTo>
                    <a:lnTo>
                      <a:pt x="38" y="33"/>
                    </a:lnTo>
                    <a:lnTo>
                      <a:pt x="38" y="32"/>
                    </a:lnTo>
                    <a:lnTo>
                      <a:pt x="37" y="31"/>
                    </a:lnTo>
                    <a:lnTo>
                      <a:pt x="35" y="30"/>
                    </a:lnTo>
                    <a:lnTo>
                      <a:pt x="34" y="30"/>
                    </a:lnTo>
                    <a:lnTo>
                      <a:pt x="32" y="30"/>
                    </a:lnTo>
                    <a:lnTo>
                      <a:pt x="30" y="31"/>
                    </a:lnTo>
                    <a:lnTo>
                      <a:pt x="30" y="32"/>
                    </a:lnTo>
                    <a:lnTo>
                      <a:pt x="29" y="33"/>
                    </a:lnTo>
                    <a:lnTo>
                      <a:pt x="0" y="33"/>
                    </a:lnTo>
                  </a:path>
                </a:pathLst>
              </a:custGeom>
              <a:noFill/>
              <a:ln w="1440">
                <a:solidFill>
                  <a:srgbClr val="ff00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3" name=""/>
              <p:cNvSpPr/>
              <p:nvPr/>
            </p:nvSpPr>
            <p:spPr>
              <a:xfrm>
                <a:off x="6537240" y="4727880"/>
                <a:ext cx="7200" cy="9360"/>
              </a:xfrm>
              <a:custGeom>
                <a:avLst/>
                <a:gdLst/>
                <a:ahLst/>
                <a:rect l="l" t="t" r="r" b="b"/>
                <a:pathLst>
                  <a:path w="7" h="7">
                    <a:moveTo>
                      <a:pt x="0" y="6"/>
                    </a:moveTo>
                    <a:lnTo>
                      <a:pt x="3" y="0"/>
                    </a:lnTo>
                    <a:lnTo>
                      <a:pt x="7" y="6"/>
                    </a:lnTo>
                    <a:lnTo>
                      <a:pt x="5" y="7"/>
                    </a:lnTo>
                    <a:lnTo>
                      <a:pt x="3" y="7"/>
                    </a:lnTo>
                    <a:lnTo>
                      <a:pt x="1" y="7"/>
                    </a:lnTo>
                    <a:lnTo>
                      <a:pt x="0" y="6"/>
                    </a:lnTo>
                    <a:close/>
                  </a:path>
                </a:pathLst>
              </a:custGeom>
              <a:solidFill>
                <a:srgbClr val="ff00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4" name=""/>
              <p:cNvSpPr/>
              <p:nvPr/>
            </p:nvSpPr>
            <p:spPr>
              <a:xfrm>
                <a:off x="5347080" y="3540240"/>
                <a:ext cx="206280" cy="1184400"/>
              </a:xfrm>
              <a:custGeom>
                <a:avLst/>
                <a:gdLst/>
                <a:ahLst/>
                <a:rect l="l" t="t" r="r" b="b"/>
                <a:pathLst>
                  <a:path w="195" h="887">
                    <a:moveTo>
                      <a:pt x="195" y="6"/>
                    </a:moveTo>
                    <a:lnTo>
                      <a:pt x="182" y="6"/>
                    </a:lnTo>
                    <a:lnTo>
                      <a:pt x="181" y="5"/>
                    </a:lnTo>
                    <a:lnTo>
                      <a:pt x="180" y="4"/>
                    </a:lnTo>
                    <a:lnTo>
                      <a:pt x="179" y="3"/>
                    </a:lnTo>
                    <a:lnTo>
                      <a:pt x="177" y="3"/>
                    </a:lnTo>
                    <a:lnTo>
                      <a:pt x="175" y="3"/>
                    </a:lnTo>
                    <a:lnTo>
                      <a:pt x="174" y="4"/>
                    </a:lnTo>
                    <a:lnTo>
                      <a:pt x="173" y="5"/>
                    </a:lnTo>
                    <a:lnTo>
                      <a:pt x="173" y="6"/>
                    </a:lnTo>
                    <a:lnTo>
                      <a:pt x="170" y="6"/>
                    </a:lnTo>
                    <a:lnTo>
                      <a:pt x="169" y="5"/>
                    </a:lnTo>
                    <a:lnTo>
                      <a:pt x="169" y="4"/>
                    </a:lnTo>
                    <a:lnTo>
                      <a:pt x="167" y="3"/>
                    </a:lnTo>
                    <a:lnTo>
                      <a:pt x="165" y="3"/>
                    </a:lnTo>
                    <a:lnTo>
                      <a:pt x="164" y="3"/>
                    </a:lnTo>
                    <a:lnTo>
                      <a:pt x="162" y="4"/>
                    </a:lnTo>
                    <a:lnTo>
                      <a:pt x="161" y="5"/>
                    </a:lnTo>
                    <a:lnTo>
                      <a:pt x="161" y="6"/>
                    </a:lnTo>
                    <a:lnTo>
                      <a:pt x="154" y="6"/>
                    </a:lnTo>
                    <a:lnTo>
                      <a:pt x="153" y="5"/>
                    </a:lnTo>
                    <a:lnTo>
                      <a:pt x="153" y="4"/>
                    </a:lnTo>
                    <a:lnTo>
                      <a:pt x="151" y="3"/>
                    </a:lnTo>
                    <a:lnTo>
                      <a:pt x="149" y="3"/>
                    </a:lnTo>
                    <a:lnTo>
                      <a:pt x="148" y="3"/>
                    </a:lnTo>
                    <a:lnTo>
                      <a:pt x="146" y="4"/>
                    </a:lnTo>
                    <a:lnTo>
                      <a:pt x="145" y="5"/>
                    </a:lnTo>
                    <a:lnTo>
                      <a:pt x="145" y="6"/>
                    </a:lnTo>
                    <a:lnTo>
                      <a:pt x="130" y="6"/>
                    </a:lnTo>
                    <a:lnTo>
                      <a:pt x="130" y="5"/>
                    </a:lnTo>
                    <a:lnTo>
                      <a:pt x="129" y="3"/>
                    </a:lnTo>
                    <a:lnTo>
                      <a:pt x="128" y="1"/>
                    </a:lnTo>
                    <a:lnTo>
                      <a:pt x="126" y="1"/>
                    </a:lnTo>
                    <a:lnTo>
                      <a:pt x="123" y="0"/>
                    </a:lnTo>
                    <a:lnTo>
                      <a:pt x="121" y="0"/>
                    </a:lnTo>
                    <a:lnTo>
                      <a:pt x="119" y="1"/>
                    </a:lnTo>
                    <a:lnTo>
                      <a:pt x="117" y="1"/>
                    </a:lnTo>
                    <a:lnTo>
                      <a:pt x="115" y="3"/>
                    </a:lnTo>
                    <a:lnTo>
                      <a:pt x="114" y="5"/>
                    </a:lnTo>
                    <a:lnTo>
                      <a:pt x="114" y="6"/>
                    </a:lnTo>
                    <a:lnTo>
                      <a:pt x="110" y="6"/>
                    </a:lnTo>
                    <a:lnTo>
                      <a:pt x="109" y="4"/>
                    </a:lnTo>
                    <a:lnTo>
                      <a:pt x="108" y="3"/>
                    </a:lnTo>
                    <a:lnTo>
                      <a:pt x="107" y="1"/>
                    </a:lnTo>
                    <a:lnTo>
                      <a:pt x="104" y="0"/>
                    </a:lnTo>
                    <a:lnTo>
                      <a:pt x="102" y="0"/>
                    </a:lnTo>
                    <a:lnTo>
                      <a:pt x="100" y="0"/>
                    </a:lnTo>
                    <a:lnTo>
                      <a:pt x="97" y="0"/>
                    </a:lnTo>
                    <a:lnTo>
                      <a:pt x="95" y="1"/>
                    </a:lnTo>
                    <a:lnTo>
                      <a:pt x="94" y="3"/>
                    </a:lnTo>
                    <a:lnTo>
                      <a:pt x="93" y="4"/>
                    </a:lnTo>
                    <a:lnTo>
                      <a:pt x="92" y="6"/>
                    </a:lnTo>
                    <a:lnTo>
                      <a:pt x="90" y="6"/>
                    </a:lnTo>
                    <a:lnTo>
                      <a:pt x="90" y="5"/>
                    </a:lnTo>
                    <a:lnTo>
                      <a:pt x="89" y="4"/>
                    </a:lnTo>
                    <a:lnTo>
                      <a:pt x="88" y="3"/>
                    </a:lnTo>
                    <a:lnTo>
                      <a:pt x="86" y="3"/>
                    </a:lnTo>
                    <a:lnTo>
                      <a:pt x="84" y="3"/>
                    </a:lnTo>
                    <a:lnTo>
                      <a:pt x="83" y="4"/>
                    </a:lnTo>
                    <a:lnTo>
                      <a:pt x="82" y="5"/>
                    </a:lnTo>
                    <a:lnTo>
                      <a:pt x="82" y="6"/>
                    </a:lnTo>
                    <a:lnTo>
                      <a:pt x="81" y="6"/>
                    </a:lnTo>
                    <a:lnTo>
                      <a:pt x="81" y="5"/>
                    </a:lnTo>
                    <a:lnTo>
                      <a:pt x="80" y="4"/>
                    </a:lnTo>
                    <a:lnTo>
                      <a:pt x="78" y="3"/>
                    </a:lnTo>
                    <a:lnTo>
                      <a:pt x="76" y="3"/>
                    </a:lnTo>
                    <a:lnTo>
                      <a:pt x="75" y="3"/>
                    </a:lnTo>
                    <a:lnTo>
                      <a:pt x="73" y="4"/>
                    </a:lnTo>
                    <a:lnTo>
                      <a:pt x="72" y="5"/>
                    </a:lnTo>
                    <a:lnTo>
                      <a:pt x="72" y="6"/>
                    </a:lnTo>
                    <a:lnTo>
                      <a:pt x="70" y="6"/>
                    </a:lnTo>
                    <a:lnTo>
                      <a:pt x="70" y="5"/>
                    </a:lnTo>
                    <a:lnTo>
                      <a:pt x="68" y="4"/>
                    </a:lnTo>
                    <a:lnTo>
                      <a:pt x="67" y="3"/>
                    </a:lnTo>
                    <a:lnTo>
                      <a:pt x="65" y="3"/>
                    </a:lnTo>
                    <a:lnTo>
                      <a:pt x="64" y="3"/>
                    </a:lnTo>
                    <a:lnTo>
                      <a:pt x="62" y="4"/>
                    </a:lnTo>
                    <a:lnTo>
                      <a:pt x="61" y="5"/>
                    </a:lnTo>
                    <a:lnTo>
                      <a:pt x="61" y="6"/>
                    </a:lnTo>
                    <a:lnTo>
                      <a:pt x="50" y="6"/>
                    </a:lnTo>
                    <a:lnTo>
                      <a:pt x="50" y="5"/>
                    </a:lnTo>
                    <a:lnTo>
                      <a:pt x="49" y="4"/>
                    </a:lnTo>
                    <a:lnTo>
                      <a:pt x="47" y="3"/>
                    </a:lnTo>
                    <a:lnTo>
                      <a:pt x="45" y="3"/>
                    </a:lnTo>
                    <a:lnTo>
                      <a:pt x="44" y="3"/>
                    </a:lnTo>
                    <a:lnTo>
                      <a:pt x="42" y="4"/>
                    </a:lnTo>
                    <a:lnTo>
                      <a:pt x="41" y="5"/>
                    </a:lnTo>
                    <a:lnTo>
                      <a:pt x="41" y="6"/>
                    </a:lnTo>
                    <a:lnTo>
                      <a:pt x="20" y="6"/>
                    </a:lnTo>
                    <a:lnTo>
                      <a:pt x="20" y="887"/>
                    </a:lnTo>
                    <a:lnTo>
                      <a:pt x="18" y="887"/>
                    </a:lnTo>
                    <a:lnTo>
                      <a:pt x="17" y="886"/>
                    </a:lnTo>
                    <a:lnTo>
                      <a:pt x="17" y="885"/>
                    </a:lnTo>
                    <a:lnTo>
                      <a:pt x="15" y="884"/>
                    </a:lnTo>
                    <a:lnTo>
                      <a:pt x="13" y="884"/>
                    </a:lnTo>
                    <a:lnTo>
                      <a:pt x="12" y="884"/>
                    </a:lnTo>
                    <a:lnTo>
                      <a:pt x="10" y="885"/>
                    </a:lnTo>
                    <a:lnTo>
                      <a:pt x="9" y="886"/>
                    </a:lnTo>
                    <a:lnTo>
                      <a:pt x="9" y="887"/>
                    </a:lnTo>
                    <a:lnTo>
                      <a:pt x="0" y="887"/>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552640" y="3544200"/>
                <a:ext cx="8280" cy="7560"/>
              </a:xfrm>
              <a:custGeom>
                <a:avLst/>
                <a:gdLst/>
                <a:ahLst/>
                <a:rect l="l" t="t" r="r" b="b"/>
                <a:pathLst>
                  <a:path w="8" h="6">
                    <a:moveTo>
                      <a:pt x="1" y="0"/>
                    </a:moveTo>
                    <a:lnTo>
                      <a:pt x="8" y="3"/>
                    </a:lnTo>
                    <a:lnTo>
                      <a:pt x="1" y="6"/>
                    </a:lnTo>
                    <a:lnTo>
                      <a:pt x="0" y="5"/>
                    </a:lnTo>
                    <a:lnTo>
                      <a:pt x="0" y="3"/>
                    </a:lnTo>
                    <a:lnTo>
                      <a:pt x="0" y="2"/>
                    </a:lnTo>
                    <a:lnTo>
                      <a:pt x="1" y="0"/>
                    </a:lnTo>
                    <a:close/>
                  </a:path>
                </a:pathLst>
              </a:custGeom>
              <a:solidFill>
                <a:srgbClr val="ff00f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66" name=""/>
              <p:cNvSpPr/>
              <p:nvPr/>
            </p:nvSpPr>
            <p:spPr>
              <a:xfrm>
                <a:off x="5159880" y="2408760"/>
                <a:ext cx="289800" cy="2309400"/>
              </a:xfrm>
              <a:custGeom>
                <a:avLst/>
                <a:gdLst/>
                <a:ahLst/>
                <a:rect l="l" t="t" r="r" b="b"/>
                <a:pathLst>
                  <a:path w="274" h="1729">
                    <a:moveTo>
                      <a:pt x="240" y="6"/>
                    </a:moveTo>
                    <a:lnTo>
                      <a:pt x="249" y="6"/>
                    </a:lnTo>
                    <a:lnTo>
                      <a:pt x="249" y="4"/>
                    </a:lnTo>
                    <a:lnTo>
                      <a:pt x="250" y="2"/>
                    </a:lnTo>
                    <a:lnTo>
                      <a:pt x="252" y="1"/>
                    </a:lnTo>
                    <a:lnTo>
                      <a:pt x="254" y="0"/>
                    </a:lnTo>
                    <a:lnTo>
                      <a:pt x="256" y="0"/>
                    </a:lnTo>
                    <a:lnTo>
                      <a:pt x="258" y="0"/>
                    </a:lnTo>
                    <a:lnTo>
                      <a:pt x="260" y="0"/>
                    </a:lnTo>
                    <a:lnTo>
                      <a:pt x="262" y="1"/>
                    </a:lnTo>
                    <a:lnTo>
                      <a:pt x="263" y="2"/>
                    </a:lnTo>
                    <a:lnTo>
                      <a:pt x="264" y="4"/>
                    </a:lnTo>
                    <a:lnTo>
                      <a:pt x="265" y="6"/>
                    </a:lnTo>
                    <a:lnTo>
                      <a:pt x="274" y="6"/>
                    </a:lnTo>
                    <a:lnTo>
                      <a:pt x="274" y="1646"/>
                    </a:lnTo>
                    <a:lnTo>
                      <a:pt x="258" y="1646"/>
                    </a:lnTo>
                    <a:lnTo>
                      <a:pt x="258" y="1644"/>
                    </a:lnTo>
                    <a:lnTo>
                      <a:pt x="257" y="1643"/>
                    </a:lnTo>
                    <a:lnTo>
                      <a:pt x="255" y="1642"/>
                    </a:lnTo>
                    <a:lnTo>
                      <a:pt x="253" y="1642"/>
                    </a:lnTo>
                    <a:lnTo>
                      <a:pt x="252" y="1642"/>
                    </a:lnTo>
                    <a:lnTo>
                      <a:pt x="250" y="1643"/>
                    </a:lnTo>
                    <a:lnTo>
                      <a:pt x="249" y="1644"/>
                    </a:lnTo>
                    <a:lnTo>
                      <a:pt x="249" y="1646"/>
                    </a:lnTo>
                    <a:lnTo>
                      <a:pt x="215" y="1646"/>
                    </a:lnTo>
                    <a:lnTo>
                      <a:pt x="215" y="1644"/>
                    </a:lnTo>
                    <a:lnTo>
                      <a:pt x="214" y="1643"/>
                    </a:lnTo>
                    <a:lnTo>
                      <a:pt x="212" y="1642"/>
                    </a:lnTo>
                    <a:lnTo>
                      <a:pt x="211" y="1642"/>
                    </a:lnTo>
                    <a:lnTo>
                      <a:pt x="209" y="1642"/>
                    </a:lnTo>
                    <a:lnTo>
                      <a:pt x="207" y="1643"/>
                    </a:lnTo>
                    <a:lnTo>
                      <a:pt x="207" y="1644"/>
                    </a:lnTo>
                    <a:lnTo>
                      <a:pt x="206" y="1646"/>
                    </a:lnTo>
                    <a:lnTo>
                      <a:pt x="202" y="1646"/>
                    </a:lnTo>
                    <a:lnTo>
                      <a:pt x="201" y="1644"/>
                    </a:lnTo>
                    <a:lnTo>
                      <a:pt x="200" y="1642"/>
                    </a:lnTo>
                    <a:lnTo>
                      <a:pt x="199" y="1641"/>
                    </a:lnTo>
                    <a:lnTo>
                      <a:pt x="197" y="1640"/>
                    </a:lnTo>
                    <a:lnTo>
                      <a:pt x="195" y="1640"/>
                    </a:lnTo>
                    <a:lnTo>
                      <a:pt x="193" y="1640"/>
                    </a:lnTo>
                    <a:lnTo>
                      <a:pt x="191" y="1640"/>
                    </a:lnTo>
                    <a:lnTo>
                      <a:pt x="189" y="1641"/>
                    </a:lnTo>
                    <a:lnTo>
                      <a:pt x="187" y="1642"/>
                    </a:lnTo>
                    <a:lnTo>
                      <a:pt x="186" y="1644"/>
                    </a:lnTo>
                    <a:lnTo>
                      <a:pt x="186" y="1646"/>
                    </a:lnTo>
                    <a:lnTo>
                      <a:pt x="161" y="1646"/>
                    </a:lnTo>
                    <a:lnTo>
                      <a:pt x="161" y="1644"/>
                    </a:lnTo>
                    <a:lnTo>
                      <a:pt x="160" y="1642"/>
                    </a:lnTo>
                    <a:lnTo>
                      <a:pt x="158" y="1641"/>
                    </a:lnTo>
                    <a:lnTo>
                      <a:pt x="157" y="1640"/>
                    </a:lnTo>
                    <a:lnTo>
                      <a:pt x="155" y="1640"/>
                    </a:lnTo>
                    <a:lnTo>
                      <a:pt x="153" y="1640"/>
                    </a:lnTo>
                    <a:lnTo>
                      <a:pt x="151" y="1640"/>
                    </a:lnTo>
                    <a:lnTo>
                      <a:pt x="149" y="1641"/>
                    </a:lnTo>
                    <a:lnTo>
                      <a:pt x="147" y="1642"/>
                    </a:lnTo>
                    <a:lnTo>
                      <a:pt x="147" y="1644"/>
                    </a:lnTo>
                    <a:lnTo>
                      <a:pt x="146" y="1646"/>
                    </a:lnTo>
                    <a:lnTo>
                      <a:pt x="84" y="1646"/>
                    </a:lnTo>
                    <a:lnTo>
                      <a:pt x="84" y="1644"/>
                    </a:lnTo>
                    <a:lnTo>
                      <a:pt x="83" y="1643"/>
                    </a:lnTo>
                    <a:lnTo>
                      <a:pt x="81" y="1642"/>
                    </a:lnTo>
                    <a:lnTo>
                      <a:pt x="80" y="1642"/>
                    </a:lnTo>
                    <a:lnTo>
                      <a:pt x="78" y="1642"/>
                    </a:lnTo>
                    <a:lnTo>
                      <a:pt x="76" y="1643"/>
                    </a:lnTo>
                    <a:lnTo>
                      <a:pt x="75" y="1644"/>
                    </a:lnTo>
                    <a:lnTo>
                      <a:pt x="75" y="1646"/>
                    </a:lnTo>
                    <a:lnTo>
                      <a:pt x="44" y="1646"/>
                    </a:lnTo>
                    <a:lnTo>
                      <a:pt x="44" y="1644"/>
                    </a:lnTo>
                    <a:lnTo>
                      <a:pt x="43" y="1643"/>
                    </a:lnTo>
                    <a:lnTo>
                      <a:pt x="41" y="1642"/>
                    </a:lnTo>
                    <a:lnTo>
                      <a:pt x="40" y="1642"/>
                    </a:lnTo>
                    <a:lnTo>
                      <a:pt x="38" y="1642"/>
                    </a:lnTo>
                    <a:lnTo>
                      <a:pt x="37" y="1643"/>
                    </a:lnTo>
                    <a:lnTo>
                      <a:pt x="36" y="1644"/>
                    </a:lnTo>
                    <a:lnTo>
                      <a:pt x="35" y="1646"/>
                    </a:lnTo>
                    <a:lnTo>
                      <a:pt x="26" y="1646"/>
                    </a:lnTo>
                    <a:lnTo>
                      <a:pt x="26" y="1644"/>
                    </a:lnTo>
                    <a:lnTo>
                      <a:pt x="25" y="1643"/>
                    </a:lnTo>
                    <a:lnTo>
                      <a:pt x="23" y="1642"/>
                    </a:lnTo>
                    <a:lnTo>
                      <a:pt x="22" y="1642"/>
                    </a:lnTo>
                    <a:lnTo>
                      <a:pt x="20" y="1642"/>
                    </a:lnTo>
                    <a:lnTo>
                      <a:pt x="18" y="1643"/>
                    </a:lnTo>
                    <a:lnTo>
                      <a:pt x="17" y="1644"/>
                    </a:lnTo>
                    <a:lnTo>
                      <a:pt x="17" y="1646"/>
                    </a:lnTo>
                    <a:lnTo>
                      <a:pt x="0" y="1646"/>
                    </a:lnTo>
                    <a:lnTo>
                      <a:pt x="0" y="1729"/>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413680" y="241020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68" name=""/>
              <p:cNvSpPr/>
              <p:nvPr/>
            </p:nvSpPr>
            <p:spPr>
              <a:xfrm>
                <a:off x="5349240" y="4177440"/>
                <a:ext cx="2473920" cy="675720"/>
              </a:xfrm>
              <a:custGeom>
                <a:avLst/>
                <a:gdLst/>
                <a:ahLst/>
                <a:rect l="l" t="t" r="r" b="b"/>
                <a:pathLst>
                  <a:path w="2337" h="506">
                    <a:moveTo>
                      <a:pt x="2337" y="0"/>
                    </a:moveTo>
                    <a:lnTo>
                      <a:pt x="2337" y="225"/>
                    </a:lnTo>
                    <a:lnTo>
                      <a:pt x="2275" y="225"/>
                    </a:lnTo>
                    <a:lnTo>
                      <a:pt x="2275" y="224"/>
                    </a:lnTo>
                    <a:lnTo>
                      <a:pt x="2274" y="223"/>
                    </a:lnTo>
                    <a:lnTo>
                      <a:pt x="2273" y="222"/>
                    </a:lnTo>
                    <a:lnTo>
                      <a:pt x="2271" y="222"/>
                    </a:lnTo>
                    <a:lnTo>
                      <a:pt x="2269" y="222"/>
                    </a:lnTo>
                    <a:lnTo>
                      <a:pt x="2268" y="223"/>
                    </a:lnTo>
                    <a:lnTo>
                      <a:pt x="2267" y="224"/>
                    </a:lnTo>
                    <a:lnTo>
                      <a:pt x="2266" y="225"/>
                    </a:lnTo>
                    <a:lnTo>
                      <a:pt x="2150" y="225"/>
                    </a:lnTo>
                    <a:lnTo>
                      <a:pt x="2150" y="224"/>
                    </a:lnTo>
                    <a:lnTo>
                      <a:pt x="2149" y="223"/>
                    </a:lnTo>
                    <a:lnTo>
                      <a:pt x="2148" y="222"/>
                    </a:lnTo>
                    <a:lnTo>
                      <a:pt x="2146" y="222"/>
                    </a:lnTo>
                    <a:lnTo>
                      <a:pt x="2144" y="222"/>
                    </a:lnTo>
                    <a:lnTo>
                      <a:pt x="2143" y="223"/>
                    </a:lnTo>
                    <a:lnTo>
                      <a:pt x="2142" y="224"/>
                    </a:lnTo>
                    <a:lnTo>
                      <a:pt x="2141" y="225"/>
                    </a:lnTo>
                    <a:lnTo>
                      <a:pt x="1803" y="225"/>
                    </a:lnTo>
                    <a:lnTo>
                      <a:pt x="1803" y="506"/>
                    </a:lnTo>
                    <a:lnTo>
                      <a:pt x="1421" y="506"/>
                    </a:lnTo>
                    <a:lnTo>
                      <a:pt x="1420" y="504"/>
                    </a:lnTo>
                    <a:lnTo>
                      <a:pt x="1419" y="503"/>
                    </a:lnTo>
                    <a:lnTo>
                      <a:pt x="1418" y="502"/>
                    </a:lnTo>
                    <a:lnTo>
                      <a:pt x="1416" y="501"/>
                    </a:lnTo>
                    <a:lnTo>
                      <a:pt x="1414" y="501"/>
                    </a:lnTo>
                    <a:lnTo>
                      <a:pt x="1412" y="501"/>
                    </a:lnTo>
                    <a:lnTo>
                      <a:pt x="1410" y="502"/>
                    </a:lnTo>
                    <a:lnTo>
                      <a:pt x="1408" y="503"/>
                    </a:lnTo>
                    <a:lnTo>
                      <a:pt x="1407" y="504"/>
                    </a:lnTo>
                    <a:lnTo>
                      <a:pt x="1407" y="506"/>
                    </a:lnTo>
                    <a:lnTo>
                      <a:pt x="1279" y="506"/>
                    </a:lnTo>
                    <a:lnTo>
                      <a:pt x="1279" y="505"/>
                    </a:lnTo>
                    <a:lnTo>
                      <a:pt x="1278" y="503"/>
                    </a:lnTo>
                    <a:lnTo>
                      <a:pt x="1276" y="503"/>
                    </a:lnTo>
                    <a:lnTo>
                      <a:pt x="1274" y="502"/>
                    </a:lnTo>
                    <a:lnTo>
                      <a:pt x="1273" y="503"/>
                    </a:lnTo>
                    <a:lnTo>
                      <a:pt x="1271" y="503"/>
                    </a:lnTo>
                    <a:lnTo>
                      <a:pt x="1270" y="505"/>
                    </a:lnTo>
                    <a:lnTo>
                      <a:pt x="1270" y="506"/>
                    </a:lnTo>
                    <a:lnTo>
                      <a:pt x="1259" y="506"/>
                    </a:lnTo>
                    <a:lnTo>
                      <a:pt x="1258" y="505"/>
                    </a:lnTo>
                    <a:lnTo>
                      <a:pt x="1257" y="503"/>
                    </a:lnTo>
                    <a:lnTo>
                      <a:pt x="1256" y="503"/>
                    </a:lnTo>
                    <a:lnTo>
                      <a:pt x="1254" y="502"/>
                    </a:lnTo>
                    <a:lnTo>
                      <a:pt x="1253" y="503"/>
                    </a:lnTo>
                    <a:lnTo>
                      <a:pt x="1251" y="503"/>
                    </a:lnTo>
                    <a:lnTo>
                      <a:pt x="1250" y="505"/>
                    </a:lnTo>
                    <a:lnTo>
                      <a:pt x="1250" y="506"/>
                    </a:lnTo>
                    <a:lnTo>
                      <a:pt x="1009" y="506"/>
                    </a:lnTo>
                    <a:lnTo>
                      <a:pt x="1008" y="505"/>
                    </a:lnTo>
                    <a:lnTo>
                      <a:pt x="1007" y="503"/>
                    </a:lnTo>
                    <a:lnTo>
                      <a:pt x="1006" y="503"/>
                    </a:lnTo>
                    <a:lnTo>
                      <a:pt x="1004" y="502"/>
                    </a:lnTo>
                    <a:lnTo>
                      <a:pt x="1003" y="503"/>
                    </a:lnTo>
                    <a:lnTo>
                      <a:pt x="1001" y="503"/>
                    </a:lnTo>
                    <a:lnTo>
                      <a:pt x="1000" y="505"/>
                    </a:lnTo>
                    <a:lnTo>
                      <a:pt x="1000" y="506"/>
                    </a:lnTo>
                    <a:lnTo>
                      <a:pt x="887" y="506"/>
                    </a:lnTo>
                    <a:lnTo>
                      <a:pt x="887" y="505"/>
                    </a:lnTo>
                    <a:lnTo>
                      <a:pt x="886" y="503"/>
                    </a:lnTo>
                    <a:lnTo>
                      <a:pt x="884" y="503"/>
                    </a:lnTo>
                    <a:lnTo>
                      <a:pt x="883" y="502"/>
                    </a:lnTo>
                    <a:lnTo>
                      <a:pt x="881" y="503"/>
                    </a:lnTo>
                    <a:lnTo>
                      <a:pt x="879" y="503"/>
                    </a:lnTo>
                    <a:lnTo>
                      <a:pt x="879" y="505"/>
                    </a:lnTo>
                    <a:lnTo>
                      <a:pt x="878" y="506"/>
                    </a:lnTo>
                    <a:lnTo>
                      <a:pt x="635" y="506"/>
                    </a:lnTo>
                    <a:lnTo>
                      <a:pt x="635" y="505"/>
                    </a:lnTo>
                    <a:lnTo>
                      <a:pt x="634" y="503"/>
                    </a:lnTo>
                    <a:lnTo>
                      <a:pt x="632" y="503"/>
                    </a:lnTo>
                    <a:lnTo>
                      <a:pt x="631" y="502"/>
                    </a:lnTo>
                    <a:lnTo>
                      <a:pt x="629" y="503"/>
                    </a:lnTo>
                    <a:lnTo>
                      <a:pt x="627" y="503"/>
                    </a:lnTo>
                    <a:lnTo>
                      <a:pt x="626" y="505"/>
                    </a:lnTo>
                    <a:lnTo>
                      <a:pt x="626" y="506"/>
                    </a:lnTo>
                    <a:lnTo>
                      <a:pt x="581" y="506"/>
                    </a:lnTo>
                    <a:lnTo>
                      <a:pt x="581" y="505"/>
                    </a:lnTo>
                    <a:lnTo>
                      <a:pt x="580" y="503"/>
                    </a:lnTo>
                    <a:lnTo>
                      <a:pt x="578" y="503"/>
                    </a:lnTo>
                    <a:lnTo>
                      <a:pt x="577" y="502"/>
                    </a:lnTo>
                    <a:lnTo>
                      <a:pt x="575" y="503"/>
                    </a:lnTo>
                    <a:lnTo>
                      <a:pt x="573" y="503"/>
                    </a:lnTo>
                    <a:lnTo>
                      <a:pt x="572" y="505"/>
                    </a:lnTo>
                    <a:lnTo>
                      <a:pt x="572" y="506"/>
                    </a:lnTo>
                    <a:lnTo>
                      <a:pt x="529" y="506"/>
                    </a:lnTo>
                    <a:lnTo>
                      <a:pt x="529" y="505"/>
                    </a:lnTo>
                    <a:lnTo>
                      <a:pt x="528" y="503"/>
                    </a:lnTo>
                    <a:lnTo>
                      <a:pt x="526" y="503"/>
                    </a:lnTo>
                    <a:lnTo>
                      <a:pt x="525" y="502"/>
                    </a:lnTo>
                    <a:lnTo>
                      <a:pt x="523" y="503"/>
                    </a:lnTo>
                    <a:lnTo>
                      <a:pt x="522" y="503"/>
                    </a:lnTo>
                    <a:lnTo>
                      <a:pt x="521" y="505"/>
                    </a:lnTo>
                    <a:lnTo>
                      <a:pt x="520" y="506"/>
                    </a:lnTo>
                    <a:lnTo>
                      <a:pt x="484" y="506"/>
                    </a:lnTo>
                    <a:lnTo>
                      <a:pt x="483" y="505"/>
                    </a:lnTo>
                    <a:lnTo>
                      <a:pt x="482" y="503"/>
                    </a:lnTo>
                    <a:lnTo>
                      <a:pt x="481" y="503"/>
                    </a:lnTo>
                    <a:lnTo>
                      <a:pt x="479" y="502"/>
                    </a:lnTo>
                    <a:lnTo>
                      <a:pt x="477" y="503"/>
                    </a:lnTo>
                    <a:lnTo>
                      <a:pt x="476" y="503"/>
                    </a:lnTo>
                    <a:lnTo>
                      <a:pt x="475" y="505"/>
                    </a:lnTo>
                    <a:lnTo>
                      <a:pt x="475" y="506"/>
                    </a:lnTo>
                    <a:lnTo>
                      <a:pt x="436" y="506"/>
                    </a:lnTo>
                    <a:lnTo>
                      <a:pt x="436" y="505"/>
                    </a:lnTo>
                    <a:lnTo>
                      <a:pt x="435" y="503"/>
                    </a:lnTo>
                    <a:lnTo>
                      <a:pt x="434" y="503"/>
                    </a:lnTo>
                    <a:lnTo>
                      <a:pt x="432" y="502"/>
                    </a:lnTo>
                    <a:lnTo>
                      <a:pt x="430" y="503"/>
                    </a:lnTo>
                    <a:lnTo>
                      <a:pt x="429" y="503"/>
                    </a:lnTo>
                    <a:lnTo>
                      <a:pt x="428" y="505"/>
                    </a:lnTo>
                    <a:lnTo>
                      <a:pt x="427" y="506"/>
                    </a:lnTo>
                    <a:lnTo>
                      <a:pt x="340" y="506"/>
                    </a:lnTo>
                    <a:lnTo>
                      <a:pt x="340" y="505"/>
                    </a:lnTo>
                    <a:lnTo>
                      <a:pt x="339" y="503"/>
                    </a:lnTo>
                    <a:lnTo>
                      <a:pt x="337" y="503"/>
                    </a:lnTo>
                    <a:lnTo>
                      <a:pt x="336" y="502"/>
                    </a:lnTo>
                    <a:lnTo>
                      <a:pt x="334" y="503"/>
                    </a:lnTo>
                    <a:lnTo>
                      <a:pt x="332" y="503"/>
                    </a:lnTo>
                    <a:lnTo>
                      <a:pt x="331" y="505"/>
                    </a:lnTo>
                    <a:lnTo>
                      <a:pt x="331" y="506"/>
                    </a:lnTo>
                    <a:lnTo>
                      <a:pt x="259" y="506"/>
                    </a:lnTo>
                    <a:lnTo>
                      <a:pt x="259" y="505"/>
                    </a:lnTo>
                    <a:lnTo>
                      <a:pt x="258" y="503"/>
                    </a:lnTo>
                    <a:lnTo>
                      <a:pt x="256" y="503"/>
                    </a:lnTo>
                    <a:lnTo>
                      <a:pt x="254" y="502"/>
                    </a:lnTo>
                    <a:lnTo>
                      <a:pt x="253" y="503"/>
                    </a:lnTo>
                    <a:lnTo>
                      <a:pt x="251" y="503"/>
                    </a:lnTo>
                    <a:lnTo>
                      <a:pt x="250" y="505"/>
                    </a:lnTo>
                    <a:lnTo>
                      <a:pt x="250" y="506"/>
                    </a:lnTo>
                    <a:lnTo>
                      <a:pt x="108" y="506"/>
                    </a:lnTo>
                    <a:lnTo>
                      <a:pt x="107" y="505"/>
                    </a:lnTo>
                    <a:lnTo>
                      <a:pt x="106" y="503"/>
                    </a:lnTo>
                    <a:lnTo>
                      <a:pt x="105" y="503"/>
                    </a:lnTo>
                    <a:lnTo>
                      <a:pt x="103" y="502"/>
                    </a:lnTo>
                    <a:lnTo>
                      <a:pt x="101" y="503"/>
                    </a:lnTo>
                    <a:lnTo>
                      <a:pt x="100" y="503"/>
                    </a:lnTo>
                    <a:lnTo>
                      <a:pt x="99" y="505"/>
                    </a:lnTo>
                    <a:lnTo>
                      <a:pt x="99" y="506"/>
                    </a:lnTo>
                    <a:lnTo>
                      <a:pt x="36" y="506"/>
                    </a:lnTo>
                    <a:lnTo>
                      <a:pt x="36" y="505"/>
                    </a:lnTo>
                    <a:lnTo>
                      <a:pt x="35" y="503"/>
                    </a:lnTo>
                    <a:lnTo>
                      <a:pt x="33" y="503"/>
                    </a:lnTo>
                    <a:lnTo>
                      <a:pt x="32" y="502"/>
                    </a:lnTo>
                    <a:lnTo>
                      <a:pt x="30" y="503"/>
                    </a:lnTo>
                    <a:lnTo>
                      <a:pt x="28" y="503"/>
                    </a:lnTo>
                    <a:lnTo>
                      <a:pt x="28" y="505"/>
                    </a:lnTo>
                    <a:lnTo>
                      <a:pt x="27" y="506"/>
                    </a:lnTo>
                    <a:lnTo>
                      <a:pt x="0" y="506"/>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817040" y="41652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70" name=""/>
              <p:cNvSpPr/>
              <p:nvPr/>
            </p:nvSpPr>
            <p:spPr>
              <a:xfrm>
                <a:off x="5319360" y="4298760"/>
                <a:ext cx="799200" cy="419400"/>
              </a:xfrm>
              <a:custGeom>
                <a:avLst/>
                <a:gdLst/>
                <a:ahLst/>
                <a:rect l="l" t="t" r="r" b="b"/>
                <a:pathLst>
                  <a:path w="755" h="314">
                    <a:moveTo>
                      <a:pt x="755" y="0"/>
                    </a:moveTo>
                    <a:lnTo>
                      <a:pt x="755" y="6"/>
                    </a:lnTo>
                    <a:lnTo>
                      <a:pt x="695" y="6"/>
                    </a:lnTo>
                    <a:lnTo>
                      <a:pt x="695" y="5"/>
                    </a:lnTo>
                    <a:lnTo>
                      <a:pt x="694" y="4"/>
                    </a:lnTo>
                    <a:lnTo>
                      <a:pt x="692" y="3"/>
                    </a:lnTo>
                    <a:lnTo>
                      <a:pt x="690" y="3"/>
                    </a:lnTo>
                    <a:lnTo>
                      <a:pt x="689" y="3"/>
                    </a:lnTo>
                    <a:lnTo>
                      <a:pt x="687" y="4"/>
                    </a:lnTo>
                    <a:lnTo>
                      <a:pt x="686" y="5"/>
                    </a:lnTo>
                    <a:lnTo>
                      <a:pt x="686" y="6"/>
                    </a:lnTo>
                    <a:lnTo>
                      <a:pt x="632" y="6"/>
                    </a:lnTo>
                    <a:lnTo>
                      <a:pt x="631" y="5"/>
                    </a:lnTo>
                    <a:lnTo>
                      <a:pt x="630" y="4"/>
                    </a:lnTo>
                    <a:lnTo>
                      <a:pt x="629" y="3"/>
                    </a:lnTo>
                    <a:lnTo>
                      <a:pt x="627" y="3"/>
                    </a:lnTo>
                    <a:lnTo>
                      <a:pt x="625" y="3"/>
                    </a:lnTo>
                    <a:lnTo>
                      <a:pt x="624" y="4"/>
                    </a:lnTo>
                    <a:lnTo>
                      <a:pt x="623" y="5"/>
                    </a:lnTo>
                    <a:lnTo>
                      <a:pt x="623" y="6"/>
                    </a:lnTo>
                    <a:lnTo>
                      <a:pt x="609" y="6"/>
                    </a:lnTo>
                    <a:lnTo>
                      <a:pt x="609" y="5"/>
                    </a:lnTo>
                    <a:lnTo>
                      <a:pt x="608" y="4"/>
                    </a:lnTo>
                    <a:lnTo>
                      <a:pt x="606" y="3"/>
                    </a:lnTo>
                    <a:lnTo>
                      <a:pt x="605" y="3"/>
                    </a:lnTo>
                    <a:lnTo>
                      <a:pt x="603" y="3"/>
                    </a:lnTo>
                    <a:lnTo>
                      <a:pt x="601" y="4"/>
                    </a:lnTo>
                    <a:lnTo>
                      <a:pt x="600" y="5"/>
                    </a:lnTo>
                    <a:lnTo>
                      <a:pt x="600" y="6"/>
                    </a:lnTo>
                    <a:lnTo>
                      <a:pt x="485" y="6"/>
                    </a:lnTo>
                    <a:lnTo>
                      <a:pt x="485" y="5"/>
                    </a:lnTo>
                    <a:lnTo>
                      <a:pt x="484" y="4"/>
                    </a:lnTo>
                    <a:lnTo>
                      <a:pt x="482" y="3"/>
                    </a:lnTo>
                    <a:lnTo>
                      <a:pt x="480" y="3"/>
                    </a:lnTo>
                    <a:lnTo>
                      <a:pt x="479" y="3"/>
                    </a:lnTo>
                    <a:lnTo>
                      <a:pt x="477" y="4"/>
                    </a:lnTo>
                    <a:lnTo>
                      <a:pt x="476" y="5"/>
                    </a:lnTo>
                    <a:lnTo>
                      <a:pt x="476" y="6"/>
                    </a:lnTo>
                    <a:lnTo>
                      <a:pt x="422" y="6"/>
                    </a:lnTo>
                    <a:lnTo>
                      <a:pt x="422" y="5"/>
                    </a:lnTo>
                    <a:lnTo>
                      <a:pt x="421" y="4"/>
                    </a:lnTo>
                    <a:lnTo>
                      <a:pt x="420" y="3"/>
                    </a:lnTo>
                    <a:lnTo>
                      <a:pt x="418" y="3"/>
                    </a:lnTo>
                    <a:lnTo>
                      <a:pt x="416" y="3"/>
                    </a:lnTo>
                    <a:lnTo>
                      <a:pt x="415" y="4"/>
                    </a:lnTo>
                    <a:lnTo>
                      <a:pt x="414" y="5"/>
                    </a:lnTo>
                    <a:lnTo>
                      <a:pt x="413" y="6"/>
                    </a:lnTo>
                    <a:lnTo>
                      <a:pt x="402" y="6"/>
                    </a:lnTo>
                    <a:lnTo>
                      <a:pt x="402" y="5"/>
                    </a:lnTo>
                    <a:lnTo>
                      <a:pt x="401" y="4"/>
                    </a:lnTo>
                    <a:lnTo>
                      <a:pt x="400" y="3"/>
                    </a:lnTo>
                    <a:lnTo>
                      <a:pt x="398" y="3"/>
                    </a:lnTo>
                    <a:lnTo>
                      <a:pt x="396" y="3"/>
                    </a:lnTo>
                    <a:lnTo>
                      <a:pt x="395" y="4"/>
                    </a:lnTo>
                    <a:lnTo>
                      <a:pt x="394" y="5"/>
                    </a:lnTo>
                    <a:lnTo>
                      <a:pt x="393" y="6"/>
                    </a:lnTo>
                    <a:lnTo>
                      <a:pt x="344" y="6"/>
                    </a:lnTo>
                    <a:lnTo>
                      <a:pt x="343" y="5"/>
                    </a:lnTo>
                    <a:lnTo>
                      <a:pt x="342" y="4"/>
                    </a:lnTo>
                    <a:lnTo>
                      <a:pt x="341" y="3"/>
                    </a:lnTo>
                    <a:lnTo>
                      <a:pt x="339" y="3"/>
                    </a:lnTo>
                    <a:lnTo>
                      <a:pt x="337" y="3"/>
                    </a:lnTo>
                    <a:lnTo>
                      <a:pt x="336" y="4"/>
                    </a:lnTo>
                    <a:lnTo>
                      <a:pt x="335" y="5"/>
                    </a:lnTo>
                    <a:lnTo>
                      <a:pt x="335" y="6"/>
                    </a:lnTo>
                    <a:lnTo>
                      <a:pt x="280" y="6"/>
                    </a:lnTo>
                    <a:lnTo>
                      <a:pt x="280" y="5"/>
                    </a:lnTo>
                    <a:lnTo>
                      <a:pt x="279" y="4"/>
                    </a:lnTo>
                    <a:lnTo>
                      <a:pt x="277" y="3"/>
                    </a:lnTo>
                    <a:lnTo>
                      <a:pt x="276" y="3"/>
                    </a:lnTo>
                    <a:lnTo>
                      <a:pt x="274" y="3"/>
                    </a:lnTo>
                    <a:lnTo>
                      <a:pt x="273" y="4"/>
                    </a:lnTo>
                    <a:lnTo>
                      <a:pt x="272" y="5"/>
                    </a:lnTo>
                    <a:lnTo>
                      <a:pt x="271" y="6"/>
                    </a:lnTo>
                    <a:lnTo>
                      <a:pt x="256" y="6"/>
                    </a:lnTo>
                    <a:lnTo>
                      <a:pt x="255" y="5"/>
                    </a:lnTo>
                    <a:lnTo>
                      <a:pt x="254" y="4"/>
                    </a:lnTo>
                    <a:lnTo>
                      <a:pt x="253" y="3"/>
                    </a:lnTo>
                    <a:lnTo>
                      <a:pt x="251" y="3"/>
                    </a:lnTo>
                    <a:lnTo>
                      <a:pt x="249" y="3"/>
                    </a:lnTo>
                    <a:lnTo>
                      <a:pt x="248" y="4"/>
                    </a:lnTo>
                    <a:lnTo>
                      <a:pt x="247" y="5"/>
                    </a:lnTo>
                    <a:lnTo>
                      <a:pt x="247" y="6"/>
                    </a:lnTo>
                    <a:lnTo>
                      <a:pt x="156" y="6"/>
                    </a:lnTo>
                    <a:lnTo>
                      <a:pt x="156" y="5"/>
                    </a:lnTo>
                    <a:lnTo>
                      <a:pt x="155" y="4"/>
                    </a:lnTo>
                    <a:lnTo>
                      <a:pt x="154" y="3"/>
                    </a:lnTo>
                    <a:lnTo>
                      <a:pt x="152" y="3"/>
                    </a:lnTo>
                    <a:lnTo>
                      <a:pt x="150" y="3"/>
                    </a:lnTo>
                    <a:lnTo>
                      <a:pt x="149" y="4"/>
                    </a:lnTo>
                    <a:lnTo>
                      <a:pt x="148" y="5"/>
                    </a:lnTo>
                    <a:lnTo>
                      <a:pt x="147" y="6"/>
                    </a:lnTo>
                    <a:lnTo>
                      <a:pt x="136" y="6"/>
                    </a:lnTo>
                    <a:lnTo>
                      <a:pt x="135" y="4"/>
                    </a:lnTo>
                    <a:lnTo>
                      <a:pt x="134" y="3"/>
                    </a:lnTo>
                    <a:lnTo>
                      <a:pt x="133" y="1"/>
                    </a:lnTo>
                    <a:lnTo>
                      <a:pt x="130" y="0"/>
                    </a:lnTo>
                    <a:lnTo>
                      <a:pt x="128" y="0"/>
                    </a:lnTo>
                    <a:lnTo>
                      <a:pt x="126" y="0"/>
                    </a:lnTo>
                    <a:lnTo>
                      <a:pt x="123" y="0"/>
                    </a:lnTo>
                    <a:lnTo>
                      <a:pt x="121" y="1"/>
                    </a:lnTo>
                    <a:lnTo>
                      <a:pt x="120" y="3"/>
                    </a:lnTo>
                    <a:lnTo>
                      <a:pt x="119" y="4"/>
                    </a:lnTo>
                    <a:lnTo>
                      <a:pt x="118" y="6"/>
                    </a:lnTo>
                    <a:lnTo>
                      <a:pt x="107" y="6"/>
                    </a:lnTo>
                    <a:lnTo>
                      <a:pt x="107" y="5"/>
                    </a:lnTo>
                    <a:lnTo>
                      <a:pt x="106" y="4"/>
                    </a:lnTo>
                    <a:lnTo>
                      <a:pt x="104" y="3"/>
                    </a:lnTo>
                    <a:lnTo>
                      <a:pt x="102" y="3"/>
                    </a:lnTo>
                    <a:lnTo>
                      <a:pt x="101" y="3"/>
                    </a:lnTo>
                    <a:lnTo>
                      <a:pt x="99" y="4"/>
                    </a:lnTo>
                    <a:lnTo>
                      <a:pt x="98" y="5"/>
                    </a:lnTo>
                    <a:lnTo>
                      <a:pt x="98" y="6"/>
                    </a:lnTo>
                    <a:lnTo>
                      <a:pt x="64" y="6"/>
                    </a:lnTo>
                    <a:lnTo>
                      <a:pt x="64" y="5"/>
                    </a:lnTo>
                    <a:lnTo>
                      <a:pt x="63" y="4"/>
                    </a:lnTo>
                    <a:lnTo>
                      <a:pt x="61" y="3"/>
                    </a:lnTo>
                    <a:lnTo>
                      <a:pt x="60" y="3"/>
                    </a:lnTo>
                    <a:lnTo>
                      <a:pt x="58" y="3"/>
                    </a:lnTo>
                    <a:lnTo>
                      <a:pt x="56" y="4"/>
                    </a:lnTo>
                    <a:lnTo>
                      <a:pt x="56" y="5"/>
                    </a:lnTo>
                    <a:lnTo>
                      <a:pt x="55" y="6"/>
                    </a:lnTo>
                    <a:lnTo>
                      <a:pt x="51" y="6"/>
                    </a:lnTo>
                    <a:lnTo>
                      <a:pt x="50" y="5"/>
                    </a:lnTo>
                    <a:lnTo>
                      <a:pt x="49" y="3"/>
                    </a:lnTo>
                    <a:lnTo>
                      <a:pt x="48" y="2"/>
                    </a:lnTo>
                    <a:lnTo>
                      <a:pt x="46" y="1"/>
                    </a:lnTo>
                    <a:lnTo>
                      <a:pt x="44" y="0"/>
                    </a:lnTo>
                    <a:lnTo>
                      <a:pt x="42" y="0"/>
                    </a:lnTo>
                    <a:lnTo>
                      <a:pt x="40" y="1"/>
                    </a:lnTo>
                    <a:lnTo>
                      <a:pt x="38" y="2"/>
                    </a:lnTo>
                    <a:lnTo>
                      <a:pt x="36" y="3"/>
                    </a:lnTo>
                    <a:lnTo>
                      <a:pt x="35" y="5"/>
                    </a:lnTo>
                    <a:lnTo>
                      <a:pt x="35" y="6"/>
                    </a:lnTo>
                    <a:lnTo>
                      <a:pt x="10" y="6"/>
                    </a:lnTo>
                    <a:lnTo>
                      <a:pt x="10" y="5"/>
                    </a:lnTo>
                    <a:lnTo>
                      <a:pt x="9" y="4"/>
                    </a:lnTo>
                    <a:lnTo>
                      <a:pt x="7" y="3"/>
                    </a:lnTo>
                    <a:lnTo>
                      <a:pt x="6" y="3"/>
                    </a:lnTo>
                    <a:lnTo>
                      <a:pt x="4" y="3"/>
                    </a:lnTo>
                    <a:lnTo>
                      <a:pt x="2" y="4"/>
                    </a:lnTo>
                    <a:lnTo>
                      <a:pt x="1" y="5"/>
                    </a:lnTo>
                    <a:lnTo>
                      <a:pt x="1" y="6"/>
                    </a:lnTo>
                    <a:lnTo>
                      <a:pt x="0" y="6"/>
                    </a:lnTo>
                    <a:lnTo>
                      <a:pt x="0" y="314"/>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112440" y="42868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72" name=""/>
              <p:cNvSpPr/>
              <p:nvPr/>
            </p:nvSpPr>
            <p:spPr>
              <a:xfrm>
                <a:off x="5202000" y="4095720"/>
                <a:ext cx="1341000" cy="622440"/>
              </a:xfrm>
              <a:custGeom>
                <a:avLst/>
                <a:gdLst/>
                <a:ahLst/>
                <a:rect l="l" t="t" r="r" b="b"/>
                <a:pathLst>
                  <a:path w="1267" h="466">
                    <a:moveTo>
                      <a:pt x="0" y="466"/>
                    </a:moveTo>
                    <a:lnTo>
                      <a:pt x="0" y="7"/>
                    </a:lnTo>
                    <a:lnTo>
                      <a:pt x="24" y="7"/>
                    </a:lnTo>
                    <a:lnTo>
                      <a:pt x="24" y="5"/>
                    </a:lnTo>
                    <a:lnTo>
                      <a:pt x="25" y="4"/>
                    </a:lnTo>
                    <a:lnTo>
                      <a:pt x="27" y="4"/>
                    </a:lnTo>
                    <a:lnTo>
                      <a:pt x="29" y="3"/>
                    </a:lnTo>
                    <a:lnTo>
                      <a:pt x="30" y="4"/>
                    </a:lnTo>
                    <a:lnTo>
                      <a:pt x="32" y="4"/>
                    </a:lnTo>
                    <a:lnTo>
                      <a:pt x="33" y="5"/>
                    </a:lnTo>
                    <a:lnTo>
                      <a:pt x="33" y="7"/>
                    </a:lnTo>
                    <a:lnTo>
                      <a:pt x="68" y="7"/>
                    </a:lnTo>
                    <a:lnTo>
                      <a:pt x="69" y="5"/>
                    </a:lnTo>
                    <a:lnTo>
                      <a:pt x="69" y="4"/>
                    </a:lnTo>
                    <a:lnTo>
                      <a:pt x="71" y="4"/>
                    </a:lnTo>
                    <a:lnTo>
                      <a:pt x="73" y="3"/>
                    </a:lnTo>
                    <a:lnTo>
                      <a:pt x="74" y="4"/>
                    </a:lnTo>
                    <a:lnTo>
                      <a:pt x="76" y="4"/>
                    </a:lnTo>
                    <a:lnTo>
                      <a:pt x="77" y="5"/>
                    </a:lnTo>
                    <a:lnTo>
                      <a:pt x="77" y="7"/>
                    </a:lnTo>
                    <a:lnTo>
                      <a:pt x="112" y="7"/>
                    </a:lnTo>
                    <a:lnTo>
                      <a:pt x="112" y="5"/>
                    </a:lnTo>
                    <a:lnTo>
                      <a:pt x="113" y="4"/>
                    </a:lnTo>
                    <a:lnTo>
                      <a:pt x="115" y="4"/>
                    </a:lnTo>
                    <a:lnTo>
                      <a:pt x="117" y="3"/>
                    </a:lnTo>
                    <a:lnTo>
                      <a:pt x="118" y="4"/>
                    </a:lnTo>
                    <a:lnTo>
                      <a:pt x="120" y="4"/>
                    </a:lnTo>
                    <a:lnTo>
                      <a:pt x="121" y="5"/>
                    </a:lnTo>
                    <a:lnTo>
                      <a:pt x="121" y="7"/>
                    </a:lnTo>
                    <a:lnTo>
                      <a:pt x="146" y="7"/>
                    </a:lnTo>
                    <a:lnTo>
                      <a:pt x="146" y="5"/>
                    </a:lnTo>
                    <a:lnTo>
                      <a:pt x="147" y="4"/>
                    </a:lnTo>
                    <a:lnTo>
                      <a:pt x="149" y="2"/>
                    </a:lnTo>
                    <a:lnTo>
                      <a:pt x="151" y="1"/>
                    </a:lnTo>
                    <a:lnTo>
                      <a:pt x="153" y="1"/>
                    </a:lnTo>
                    <a:lnTo>
                      <a:pt x="155" y="1"/>
                    </a:lnTo>
                    <a:lnTo>
                      <a:pt x="157" y="1"/>
                    </a:lnTo>
                    <a:lnTo>
                      <a:pt x="159" y="2"/>
                    </a:lnTo>
                    <a:lnTo>
                      <a:pt x="160" y="4"/>
                    </a:lnTo>
                    <a:lnTo>
                      <a:pt x="161" y="5"/>
                    </a:lnTo>
                    <a:lnTo>
                      <a:pt x="161" y="7"/>
                    </a:lnTo>
                    <a:lnTo>
                      <a:pt x="166" y="7"/>
                    </a:lnTo>
                    <a:lnTo>
                      <a:pt x="167" y="5"/>
                    </a:lnTo>
                    <a:lnTo>
                      <a:pt x="167" y="4"/>
                    </a:lnTo>
                    <a:lnTo>
                      <a:pt x="169" y="4"/>
                    </a:lnTo>
                    <a:lnTo>
                      <a:pt x="171" y="3"/>
                    </a:lnTo>
                    <a:lnTo>
                      <a:pt x="172" y="4"/>
                    </a:lnTo>
                    <a:lnTo>
                      <a:pt x="174" y="4"/>
                    </a:lnTo>
                    <a:lnTo>
                      <a:pt x="175" y="5"/>
                    </a:lnTo>
                    <a:lnTo>
                      <a:pt x="175" y="7"/>
                    </a:lnTo>
                    <a:lnTo>
                      <a:pt x="209" y="7"/>
                    </a:lnTo>
                    <a:lnTo>
                      <a:pt x="209" y="5"/>
                    </a:lnTo>
                    <a:lnTo>
                      <a:pt x="210" y="4"/>
                    </a:lnTo>
                    <a:lnTo>
                      <a:pt x="212" y="4"/>
                    </a:lnTo>
                    <a:lnTo>
                      <a:pt x="213" y="3"/>
                    </a:lnTo>
                    <a:lnTo>
                      <a:pt x="215" y="4"/>
                    </a:lnTo>
                    <a:lnTo>
                      <a:pt x="217" y="4"/>
                    </a:lnTo>
                    <a:lnTo>
                      <a:pt x="218" y="5"/>
                    </a:lnTo>
                    <a:lnTo>
                      <a:pt x="218" y="7"/>
                    </a:lnTo>
                    <a:lnTo>
                      <a:pt x="218" y="7"/>
                    </a:lnTo>
                    <a:lnTo>
                      <a:pt x="219" y="5"/>
                    </a:lnTo>
                    <a:lnTo>
                      <a:pt x="220" y="4"/>
                    </a:lnTo>
                    <a:lnTo>
                      <a:pt x="221" y="4"/>
                    </a:lnTo>
                    <a:lnTo>
                      <a:pt x="223" y="3"/>
                    </a:lnTo>
                    <a:lnTo>
                      <a:pt x="225" y="4"/>
                    </a:lnTo>
                    <a:lnTo>
                      <a:pt x="226" y="4"/>
                    </a:lnTo>
                    <a:lnTo>
                      <a:pt x="227" y="5"/>
                    </a:lnTo>
                    <a:lnTo>
                      <a:pt x="227" y="7"/>
                    </a:lnTo>
                    <a:lnTo>
                      <a:pt x="229" y="7"/>
                    </a:lnTo>
                    <a:lnTo>
                      <a:pt x="230" y="5"/>
                    </a:lnTo>
                    <a:lnTo>
                      <a:pt x="231" y="3"/>
                    </a:lnTo>
                    <a:lnTo>
                      <a:pt x="232" y="2"/>
                    </a:lnTo>
                    <a:lnTo>
                      <a:pt x="234" y="1"/>
                    </a:lnTo>
                    <a:lnTo>
                      <a:pt x="237" y="0"/>
                    </a:lnTo>
                    <a:lnTo>
                      <a:pt x="239" y="0"/>
                    </a:lnTo>
                    <a:lnTo>
                      <a:pt x="241" y="1"/>
                    </a:lnTo>
                    <a:lnTo>
                      <a:pt x="244" y="2"/>
                    </a:lnTo>
                    <a:lnTo>
                      <a:pt x="245" y="3"/>
                    </a:lnTo>
                    <a:lnTo>
                      <a:pt x="246" y="5"/>
                    </a:lnTo>
                    <a:lnTo>
                      <a:pt x="247" y="7"/>
                    </a:lnTo>
                    <a:lnTo>
                      <a:pt x="251" y="7"/>
                    </a:lnTo>
                    <a:lnTo>
                      <a:pt x="251" y="5"/>
                    </a:lnTo>
                    <a:lnTo>
                      <a:pt x="252" y="3"/>
                    </a:lnTo>
                    <a:lnTo>
                      <a:pt x="254" y="2"/>
                    </a:lnTo>
                    <a:lnTo>
                      <a:pt x="256" y="1"/>
                    </a:lnTo>
                    <a:lnTo>
                      <a:pt x="258" y="0"/>
                    </a:lnTo>
                    <a:lnTo>
                      <a:pt x="260" y="0"/>
                    </a:lnTo>
                    <a:lnTo>
                      <a:pt x="263" y="1"/>
                    </a:lnTo>
                    <a:lnTo>
                      <a:pt x="265" y="2"/>
                    </a:lnTo>
                    <a:lnTo>
                      <a:pt x="266" y="3"/>
                    </a:lnTo>
                    <a:lnTo>
                      <a:pt x="267" y="5"/>
                    </a:lnTo>
                    <a:lnTo>
                      <a:pt x="267" y="7"/>
                    </a:lnTo>
                    <a:lnTo>
                      <a:pt x="358" y="7"/>
                    </a:lnTo>
                    <a:lnTo>
                      <a:pt x="358" y="5"/>
                    </a:lnTo>
                    <a:lnTo>
                      <a:pt x="359" y="4"/>
                    </a:lnTo>
                    <a:lnTo>
                      <a:pt x="360" y="4"/>
                    </a:lnTo>
                    <a:lnTo>
                      <a:pt x="362" y="3"/>
                    </a:lnTo>
                    <a:lnTo>
                      <a:pt x="364" y="4"/>
                    </a:lnTo>
                    <a:lnTo>
                      <a:pt x="365" y="4"/>
                    </a:lnTo>
                    <a:lnTo>
                      <a:pt x="366" y="5"/>
                    </a:lnTo>
                    <a:lnTo>
                      <a:pt x="367" y="7"/>
                    </a:lnTo>
                    <a:lnTo>
                      <a:pt x="446" y="7"/>
                    </a:lnTo>
                    <a:lnTo>
                      <a:pt x="446" y="5"/>
                    </a:lnTo>
                    <a:lnTo>
                      <a:pt x="447" y="4"/>
                    </a:lnTo>
                    <a:lnTo>
                      <a:pt x="448" y="4"/>
                    </a:lnTo>
                    <a:lnTo>
                      <a:pt x="450" y="3"/>
                    </a:lnTo>
                    <a:lnTo>
                      <a:pt x="452" y="4"/>
                    </a:lnTo>
                    <a:lnTo>
                      <a:pt x="453" y="4"/>
                    </a:lnTo>
                    <a:lnTo>
                      <a:pt x="454" y="5"/>
                    </a:lnTo>
                    <a:lnTo>
                      <a:pt x="455" y="7"/>
                    </a:lnTo>
                    <a:lnTo>
                      <a:pt x="524" y="7"/>
                    </a:lnTo>
                    <a:lnTo>
                      <a:pt x="525" y="5"/>
                    </a:lnTo>
                    <a:lnTo>
                      <a:pt x="526" y="4"/>
                    </a:lnTo>
                    <a:lnTo>
                      <a:pt x="527" y="4"/>
                    </a:lnTo>
                    <a:lnTo>
                      <a:pt x="529" y="3"/>
                    </a:lnTo>
                    <a:lnTo>
                      <a:pt x="531" y="4"/>
                    </a:lnTo>
                    <a:lnTo>
                      <a:pt x="532" y="4"/>
                    </a:lnTo>
                    <a:lnTo>
                      <a:pt x="533" y="5"/>
                    </a:lnTo>
                    <a:lnTo>
                      <a:pt x="533" y="7"/>
                    </a:lnTo>
                    <a:lnTo>
                      <a:pt x="552" y="7"/>
                    </a:lnTo>
                    <a:lnTo>
                      <a:pt x="553" y="5"/>
                    </a:lnTo>
                    <a:lnTo>
                      <a:pt x="553" y="4"/>
                    </a:lnTo>
                    <a:lnTo>
                      <a:pt x="555" y="4"/>
                    </a:lnTo>
                    <a:lnTo>
                      <a:pt x="557" y="3"/>
                    </a:lnTo>
                    <a:lnTo>
                      <a:pt x="558" y="4"/>
                    </a:lnTo>
                    <a:lnTo>
                      <a:pt x="560" y="4"/>
                    </a:lnTo>
                    <a:lnTo>
                      <a:pt x="561" y="5"/>
                    </a:lnTo>
                    <a:lnTo>
                      <a:pt x="561" y="7"/>
                    </a:lnTo>
                    <a:lnTo>
                      <a:pt x="587" y="7"/>
                    </a:lnTo>
                    <a:lnTo>
                      <a:pt x="587" y="5"/>
                    </a:lnTo>
                    <a:lnTo>
                      <a:pt x="588" y="4"/>
                    </a:lnTo>
                    <a:lnTo>
                      <a:pt x="590" y="4"/>
                    </a:lnTo>
                    <a:lnTo>
                      <a:pt x="591" y="3"/>
                    </a:lnTo>
                    <a:lnTo>
                      <a:pt x="593" y="4"/>
                    </a:lnTo>
                    <a:lnTo>
                      <a:pt x="594" y="4"/>
                    </a:lnTo>
                    <a:lnTo>
                      <a:pt x="596" y="5"/>
                    </a:lnTo>
                    <a:lnTo>
                      <a:pt x="596" y="7"/>
                    </a:lnTo>
                    <a:lnTo>
                      <a:pt x="622" y="7"/>
                    </a:lnTo>
                    <a:lnTo>
                      <a:pt x="622" y="5"/>
                    </a:lnTo>
                    <a:lnTo>
                      <a:pt x="623" y="4"/>
                    </a:lnTo>
                    <a:lnTo>
                      <a:pt x="624" y="4"/>
                    </a:lnTo>
                    <a:lnTo>
                      <a:pt x="626" y="3"/>
                    </a:lnTo>
                    <a:lnTo>
                      <a:pt x="628" y="4"/>
                    </a:lnTo>
                    <a:lnTo>
                      <a:pt x="629" y="4"/>
                    </a:lnTo>
                    <a:lnTo>
                      <a:pt x="630" y="5"/>
                    </a:lnTo>
                    <a:lnTo>
                      <a:pt x="631" y="7"/>
                    </a:lnTo>
                    <a:lnTo>
                      <a:pt x="693" y="7"/>
                    </a:lnTo>
                    <a:lnTo>
                      <a:pt x="693" y="5"/>
                    </a:lnTo>
                    <a:lnTo>
                      <a:pt x="694" y="4"/>
                    </a:lnTo>
                    <a:lnTo>
                      <a:pt x="696" y="4"/>
                    </a:lnTo>
                    <a:lnTo>
                      <a:pt x="698" y="3"/>
                    </a:lnTo>
                    <a:lnTo>
                      <a:pt x="699" y="4"/>
                    </a:lnTo>
                    <a:lnTo>
                      <a:pt x="701" y="4"/>
                    </a:lnTo>
                    <a:lnTo>
                      <a:pt x="702" y="5"/>
                    </a:lnTo>
                    <a:lnTo>
                      <a:pt x="702" y="7"/>
                    </a:lnTo>
                    <a:lnTo>
                      <a:pt x="711" y="7"/>
                    </a:lnTo>
                    <a:lnTo>
                      <a:pt x="711" y="5"/>
                    </a:lnTo>
                    <a:lnTo>
                      <a:pt x="712" y="4"/>
                    </a:lnTo>
                    <a:lnTo>
                      <a:pt x="714" y="4"/>
                    </a:lnTo>
                    <a:lnTo>
                      <a:pt x="716" y="3"/>
                    </a:lnTo>
                    <a:lnTo>
                      <a:pt x="717" y="4"/>
                    </a:lnTo>
                    <a:lnTo>
                      <a:pt x="719" y="4"/>
                    </a:lnTo>
                    <a:lnTo>
                      <a:pt x="720" y="5"/>
                    </a:lnTo>
                    <a:lnTo>
                      <a:pt x="720" y="7"/>
                    </a:lnTo>
                    <a:lnTo>
                      <a:pt x="734" y="7"/>
                    </a:lnTo>
                    <a:lnTo>
                      <a:pt x="734" y="5"/>
                    </a:lnTo>
                    <a:lnTo>
                      <a:pt x="735" y="4"/>
                    </a:lnTo>
                    <a:lnTo>
                      <a:pt x="736" y="4"/>
                    </a:lnTo>
                    <a:lnTo>
                      <a:pt x="738" y="3"/>
                    </a:lnTo>
                    <a:lnTo>
                      <a:pt x="740" y="4"/>
                    </a:lnTo>
                    <a:lnTo>
                      <a:pt x="741" y="4"/>
                    </a:lnTo>
                    <a:lnTo>
                      <a:pt x="742" y="5"/>
                    </a:lnTo>
                    <a:lnTo>
                      <a:pt x="743" y="7"/>
                    </a:lnTo>
                    <a:lnTo>
                      <a:pt x="797" y="7"/>
                    </a:lnTo>
                    <a:lnTo>
                      <a:pt x="797" y="5"/>
                    </a:lnTo>
                    <a:lnTo>
                      <a:pt x="798" y="4"/>
                    </a:lnTo>
                    <a:lnTo>
                      <a:pt x="800" y="4"/>
                    </a:lnTo>
                    <a:lnTo>
                      <a:pt x="801" y="3"/>
                    </a:lnTo>
                    <a:lnTo>
                      <a:pt x="803" y="4"/>
                    </a:lnTo>
                    <a:lnTo>
                      <a:pt x="805" y="4"/>
                    </a:lnTo>
                    <a:lnTo>
                      <a:pt x="806" y="5"/>
                    </a:lnTo>
                    <a:lnTo>
                      <a:pt x="806" y="7"/>
                    </a:lnTo>
                    <a:lnTo>
                      <a:pt x="901" y="7"/>
                    </a:lnTo>
                    <a:lnTo>
                      <a:pt x="902" y="5"/>
                    </a:lnTo>
                    <a:lnTo>
                      <a:pt x="903" y="4"/>
                    </a:lnTo>
                    <a:lnTo>
                      <a:pt x="904" y="4"/>
                    </a:lnTo>
                    <a:lnTo>
                      <a:pt x="906" y="3"/>
                    </a:lnTo>
                    <a:lnTo>
                      <a:pt x="908" y="4"/>
                    </a:lnTo>
                    <a:lnTo>
                      <a:pt x="909" y="4"/>
                    </a:lnTo>
                    <a:lnTo>
                      <a:pt x="910" y="5"/>
                    </a:lnTo>
                    <a:lnTo>
                      <a:pt x="910" y="7"/>
                    </a:lnTo>
                    <a:lnTo>
                      <a:pt x="966" y="7"/>
                    </a:lnTo>
                    <a:lnTo>
                      <a:pt x="967" y="5"/>
                    </a:lnTo>
                    <a:lnTo>
                      <a:pt x="968" y="4"/>
                    </a:lnTo>
                    <a:lnTo>
                      <a:pt x="969" y="4"/>
                    </a:lnTo>
                    <a:lnTo>
                      <a:pt x="971" y="3"/>
                    </a:lnTo>
                    <a:lnTo>
                      <a:pt x="973" y="4"/>
                    </a:lnTo>
                    <a:lnTo>
                      <a:pt x="974" y="4"/>
                    </a:lnTo>
                    <a:lnTo>
                      <a:pt x="975" y="5"/>
                    </a:lnTo>
                    <a:lnTo>
                      <a:pt x="975" y="7"/>
                    </a:lnTo>
                    <a:lnTo>
                      <a:pt x="1058" y="7"/>
                    </a:lnTo>
                    <a:lnTo>
                      <a:pt x="1058" y="5"/>
                    </a:lnTo>
                    <a:lnTo>
                      <a:pt x="1059" y="4"/>
                    </a:lnTo>
                    <a:lnTo>
                      <a:pt x="1060" y="4"/>
                    </a:lnTo>
                    <a:lnTo>
                      <a:pt x="1062" y="3"/>
                    </a:lnTo>
                    <a:lnTo>
                      <a:pt x="1064" y="4"/>
                    </a:lnTo>
                    <a:lnTo>
                      <a:pt x="1065" y="4"/>
                    </a:lnTo>
                    <a:lnTo>
                      <a:pt x="1066" y="5"/>
                    </a:lnTo>
                    <a:lnTo>
                      <a:pt x="1067" y="7"/>
                    </a:lnTo>
                    <a:lnTo>
                      <a:pt x="1072" y="7"/>
                    </a:lnTo>
                    <a:lnTo>
                      <a:pt x="1073" y="5"/>
                    </a:lnTo>
                    <a:lnTo>
                      <a:pt x="1073" y="4"/>
                    </a:lnTo>
                    <a:lnTo>
                      <a:pt x="1075" y="4"/>
                    </a:lnTo>
                    <a:lnTo>
                      <a:pt x="1077" y="3"/>
                    </a:lnTo>
                    <a:lnTo>
                      <a:pt x="1078" y="4"/>
                    </a:lnTo>
                    <a:lnTo>
                      <a:pt x="1080" y="4"/>
                    </a:lnTo>
                    <a:lnTo>
                      <a:pt x="1081" y="5"/>
                    </a:lnTo>
                    <a:lnTo>
                      <a:pt x="1081" y="7"/>
                    </a:lnTo>
                    <a:lnTo>
                      <a:pt x="1097" y="7"/>
                    </a:lnTo>
                    <a:lnTo>
                      <a:pt x="1097" y="5"/>
                    </a:lnTo>
                    <a:lnTo>
                      <a:pt x="1098" y="4"/>
                    </a:lnTo>
                    <a:lnTo>
                      <a:pt x="1099" y="4"/>
                    </a:lnTo>
                    <a:lnTo>
                      <a:pt x="1101" y="3"/>
                    </a:lnTo>
                    <a:lnTo>
                      <a:pt x="1103" y="4"/>
                    </a:lnTo>
                    <a:lnTo>
                      <a:pt x="1104" y="4"/>
                    </a:lnTo>
                    <a:lnTo>
                      <a:pt x="1105" y="5"/>
                    </a:lnTo>
                    <a:lnTo>
                      <a:pt x="1105" y="7"/>
                    </a:lnTo>
                    <a:lnTo>
                      <a:pt x="1227" y="7"/>
                    </a:lnTo>
                    <a:lnTo>
                      <a:pt x="1227" y="5"/>
                    </a:lnTo>
                    <a:lnTo>
                      <a:pt x="1228" y="4"/>
                    </a:lnTo>
                    <a:lnTo>
                      <a:pt x="1229" y="4"/>
                    </a:lnTo>
                    <a:lnTo>
                      <a:pt x="1231" y="3"/>
                    </a:lnTo>
                    <a:lnTo>
                      <a:pt x="1233" y="4"/>
                    </a:lnTo>
                    <a:lnTo>
                      <a:pt x="1234" y="4"/>
                    </a:lnTo>
                    <a:lnTo>
                      <a:pt x="1235" y="5"/>
                    </a:lnTo>
                    <a:lnTo>
                      <a:pt x="1236" y="7"/>
                    </a:lnTo>
                    <a:lnTo>
                      <a:pt x="1238" y="7"/>
                    </a:lnTo>
                    <a:lnTo>
                      <a:pt x="1239" y="5"/>
                    </a:lnTo>
                    <a:lnTo>
                      <a:pt x="1240" y="4"/>
                    </a:lnTo>
                    <a:lnTo>
                      <a:pt x="1241" y="4"/>
                    </a:lnTo>
                    <a:lnTo>
                      <a:pt x="1243" y="3"/>
                    </a:lnTo>
                    <a:lnTo>
                      <a:pt x="1245" y="4"/>
                    </a:lnTo>
                    <a:lnTo>
                      <a:pt x="1246" y="4"/>
                    </a:lnTo>
                    <a:lnTo>
                      <a:pt x="1247" y="5"/>
                    </a:lnTo>
                    <a:lnTo>
                      <a:pt x="1247" y="7"/>
                    </a:lnTo>
                    <a:lnTo>
                      <a:pt x="1267" y="7"/>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6541200" y="4098600"/>
                <a:ext cx="13680" cy="11880"/>
              </a:xfrm>
              <a:custGeom>
                <a:avLst/>
                <a:gdLst/>
                <a:ahLst/>
                <a:rect l="l" t="t" r="r" b="b"/>
                <a:pathLst>
                  <a:path w="13" h="9">
                    <a:moveTo>
                      <a:pt x="2" y="0"/>
                    </a:moveTo>
                    <a:lnTo>
                      <a:pt x="13" y="5"/>
                    </a:lnTo>
                    <a:lnTo>
                      <a:pt x="2" y="9"/>
                    </a:lnTo>
                    <a:lnTo>
                      <a:pt x="0" y="7"/>
                    </a:lnTo>
                    <a:lnTo>
                      <a:pt x="0" y="5"/>
                    </a:lnTo>
                    <a:lnTo>
                      <a:pt x="0" y="3"/>
                    </a:lnTo>
                    <a:lnTo>
                      <a:pt x="2"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74" name=""/>
              <p:cNvSpPr/>
              <p:nvPr/>
            </p:nvSpPr>
            <p:spPr>
              <a:xfrm>
                <a:off x="7063200" y="2263320"/>
                <a:ext cx="69840" cy="311040"/>
              </a:xfrm>
              <a:custGeom>
                <a:avLst/>
                <a:gdLst/>
                <a:ahLst/>
                <a:rect l="l" t="t" r="r" b="b"/>
                <a:pathLst>
                  <a:path w="66" h="233">
                    <a:moveTo>
                      <a:pt x="0" y="233"/>
                    </a:moveTo>
                    <a:lnTo>
                      <a:pt x="0" y="112"/>
                    </a:lnTo>
                    <a:lnTo>
                      <a:pt x="37" y="112"/>
                    </a:lnTo>
                    <a:lnTo>
                      <a:pt x="38" y="110"/>
                    </a:lnTo>
                    <a:lnTo>
                      <a:pt x="38" y="109"/>
                    </a:lnTo>
                    <a:lnTo>
                      <a:pt x="40" y="109"/>
                    </a:lnTo>
                    <a:lnTo>
                      <a:pt x="42" y="108"/>
                    </a:lnTo>
                    <a:lnTo>
                      <a:pt x="43" y="109"/>
                    </a:lnTo>
                    <a:lnTo>
                      <a:pt x="45" y="109"/>
                    </a:lnTo>
                    <a:lnTo>
                      <a:pt x="46" y="110"/>
                    </a:lnTo>
                    <a:lnTo>
                      <a:pt x="46" y="112"/>
                    </a:lnTo>
                    <a:lnTo>
                      <a:pt x="66" y="112"/>
                    </a:lnTo>
                    <a:lnTo>
                      <a:pt x="6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056720" y="2572920"/>
                <a:ext cx="11520" cy="13320"/>
              </a:xfrm>
              <a:custGeom>
                <a:avLst/>
                <a:gdLst/>
                <a:ahLst/>
                <a:rect l="l" t="t" r="r" b="b"/>
                <a:pathLst>
                  <a:path w="11" h="10">
                    <a:moveTo>
                      <a:pt x="11" y="1"/>
                    </a:moveTo>
                    <a:lnTo>
                      <a:pt x="6" y="10"/>
                    </a:lnTo>
                    <a:lnTo>
                      <a:pt x="0" y="1"/>
                    </a:lnTo>
                    <a:lnTo>
                      <a:pt x="2" y="0"/>
                    </a:lnTo>
                    <a:lnTo>
                      <a:pt x="6"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76" name=""/>
              <p:cNvSpPr/>
              <p:nvPr/>
            </p:nvSpPr>
            <p:spPr>
              <a:xfrm>
                <a:off x="7263360" y="2275200"/>
                <a:ext cx="485640" cy="1077480"/>
              </a:xfrm>
              <a:custGeom>
                <a:avLst/>
                <a:gdLst/>
                <a:ahLst/>
                <a:rect l="l" t="t" r="r" b="b"/>
                <a:pathLst>
                  <a:path w="459" h="807">
                    <a:moveTo>
                      <a:pt x="459" y="807"/>
                    </a:moveTo>
                    <a:lnTo>
                      <a:pt x="417" y="807"/>
                    </a:lnTo>
                    <a:lnTo>
                      <a:pt x="416" y="806"/>
                    </a:lnTo>
                    <a:lnTo>
                      <a:pt x="415" y="804"/>
                    </a:lnTo>
                    <a:lnTo>
                      <a:pt x="414" y="804"/>
                    </a:lnTo>
                    <a:lnTo>
                      <a:pt x="412" y="803"/>
                    </a:lnTo>
                    <a:lnTo>
                      <a:pt x="410" y="804"/>
                    </a:lnTo>
                    <a:lnTo>
                      <a:pt x="409" y="804"/>
                    </a:lnTo>
                    <a:lnTo>
                      <a:pt x="408" y="806"/>
                    </a:lnTo>
                    <a:lnTo>
                      <a:pt x="408" y="807"/>
                    </a:lnTo>
                    <a:lnTo>
                      <a:pt x="405" y="807"/>
                    </a:lnTo>
                    <a:lnTo>
                      <a:pt x="404" y="806"/>
                    </a:lnTo>
                    <a:lnTo>
                      <a:pt x="403" y="804"/>
                    </a:lnTo>
                    <a:lnTo>
                      <a:pt x="402" y="804"/>
                    </a:lnTo>
                    <a:lnTo>
                      <a:pt x="400" y="803"/>
                    </a:lnTo>
                    <a:lnTo>
                      <a:pt x="399" y="804"/>
                    </a:lnTo>
                    <a:lnTo>
                      <a:pt x="397" y="804"/>
                    </a:lnTo>
                    <a:lnTo>
                      <a:pt x="396" y="806"/>
                    </a:lnTo>
                    <a:lnTo>
                      <a:pt x="396" y="807"/>
                    </a:lnTo>
                    <a:lnTo>
                      <a:pt x="366" y="807"/>
                    </a:lnTo>
                    <a:lnTo>
                      <a:pt x="366" y="806"/>
                    </a:lnTo>
                    <a:lnTo>
                      <a:pt x="365" y="804"/>
                    </a:lnTo>
                    <a:lnTo>
                      <a:pt x="363" y="804"/>
                    </a:lnTo>
                    <a:lnTo>
                      <a:pt x="361" y="803"/>
                    </a:lnTo>
                    <a:lnTo>
                      <a:pt x="360" y="804"/>
                    </a:lnTo>
                    <a:lnTo>
                      <a:pt x="358" y="804"/>
                    </a:lnTo>
                    <a:lnTo>
                      <a:pt x="357" y="806"/>
                    </a:lnTo>
                    <a:lnTo>
                      <a:pt x="357" y="807"/>
                    </a:lnTo>
                    <a:lnTo>
                      <a:pt x="329" y="807"/>
                    </a:lnTo>
                    <a:lnTo>
                      <a:pt x="328" y="806"/>
                    </a:lnTo>
                    <a:lnTo>
                      <a:pt x="327" y="804"/>
                    </a:lnTo>
                    <a:lnTo>
                      <a:pt x="326" y="804"/>
                    </a:lnTo>
                    <a:lnTo>
                      <a:pt x="324" y="803"/>
                    </a:lnTo>
                    <a:lnTo>
                      <a:pt x="323" y="804"/>
                    </a:lnTo>
                    <a:lnTo>
                      <a:pt x="321" y="804"/>
                    </a:lnTo>
                    <a:lnTo>
                      <a:pt x="320" y="806"/>
                    </a:lnTo>
                    <a:lnTo>
                      <a:pt x="320" y="807"/>
                    </a:lnTo>
                    <a:lnTo>
                      <a:pt x="302" y="807"/>
                    </a:lnTo>
                    <a:lnTo>
                      <a:pt x="302" y="806"/>
                    </a:lnTo>
                    <a:lnTo>
                      <a:pt x="300" y="804"/>
                    </a:lnTo>
                    <a:lnTo>
                      <a:pt x="299" y="804"/>
                    </a:lnTo>
                    <a:lnTo>
                      <a:pt x="297" y="803"/>
                    </a:lnTo>
                    <a:lnTo>
                      <a:pt x="296" y="804"/>
                    </a:lnTo>
                    <a:lnTo>
                      <a:pt x="294" y="804"/>
                    </a:lnTo>
                    <a:lnTo>
                      <a:pt x="293" y="806"/>
                    </a:lnTo>
                    <a:lnTo>
                      <a:pt x="293" y="807"/>
                    </a:lnTo>
                    <a:lnTo>
                      <a:pt x="288" y="807"/>
                    </a:lnTo>
                    <a:lnTo>
                      <a:pt x="288" y="806"/>
                    </a:lnTo>
                    <a:lnTo>
                      <a:pt x="287" y="804"/>
                    </a:lnTo>
                    <a:lnTo>
                      <a:pt x="285" y="804"/>
                    </a:lnTo>
                    <a:lnTo>
                      <a:pt x="284" y="803"/>
                    </a:lnTo>
                    <a:lnTo>
                      <a:pt x="282" y="804"/>
                    </a:lnTo>
                    <a:lnTo>
                      <a:pt x="281" y="804"/>
                    </a:lnTo>
                    <a:lnTo>
                      <a:pt x="280" y="806"/>
                    </a:lnTo>
                    <a:lnTo>
                      <a:pt x="279" y="807"/>
                    </a:lnTo>
                    <a:lnTo>
                      <a:pt x="275" y="807"/>
                    </a:lnTo>
                    <a:lnTo>
                      <a:pt x="274" y="806"/>
                    </a:lnTo>
                    <a:lnTo>
                      <a:pt x="273" y="804"/>
                    </a:lnTo>
                    <a:lnTo>
                      <a:pt x="272" y="804"/>
                    </a:lnTo>
                    <a:lnTo>
                      <a:pt x="270" y="803"/>
                    </a:lnTo>
                    <a:lnTo>
                      <a:pt x="269" y="804"/>
                    </a:lnTo>
                    <a:lnTo>
                      <a:pt x="267" y="804"/>
                    </a:lnTo>
                    <a:lnTo>
                      <a:pt x="266" y="806"/>
                    </a:lnTo>
                    <a:lnTo>
                      <a:pt x="266" y="807"/>
                    </a:lnTo>
                    <a:lnTo>
                      <a:pt x="211" y="807"/>
                    </a:lnTo>
                    <a:lnTo>
                      <a:pt x="210" y="806"/>
                    </a:lnTo>
                    <a:lnTo>
                      <a:pt x="209" y="804"/>
                    </a:lnTo>
                    <a:lnTo>
                      <a:pt x="208" y="804"/>
                    </a:lnTo>
                    <a:lnTo>
                      <a:pt x="206" y="803"/>
                    </a:lnTo>
                    <a:lnTo>
                      <a:pt x="204" y="804"/>
                    </a:lnTo>
                    <a:lnTo>
                      <a:pt x="203" y="804"/>
                    </a:lnTo>
                    <a:lnTo>
                      <a:pt x="202" y="806"/>
                    </a:lnTo>
                    <a:lnTo>
                      <a:pt x="202" y="807"/>
                    </a:lnTo>
                    <a:lnTo>
                      <a:pt x="195" y="807"/>
                    </a:lnTo>
                    <a:lnTo>
                      <a:pt x="194" y="806"/>
                    </a:lnTo>
                    <a:lnTo>
                      <a:pt x="193" y="804"/>
                    </a:lnTo>
                    <a:lnTo>
                      <a:pt x="192" y="804"/>
                    </a:lnTo>
                    <a:lnTo>
                      <a:pt x="190" y="803"/>
                    </a:lnTo>
                    <a:lnTo>
                      <a:pt x="188" y="804"/>
                    </a:lnTo>
                    <a:lnTo>
                      <a:pt x="187" y="804"/>
                    </a:lnTo>
                    <a:lnTo>
                      <a:pt x="186" y="806"/>
                    </a:lnTo>
                    <a:lnTo>
                      <a:pt x="186" y="807"/>
                    </a:lnTo>
                    <a:lnTo>
                      <a:pt x="153" y="807"/>
                    </a:lnTo>
                    <a:lnTo>
                      <a:pt x="153" y="806"/>
                    </a:lnTo>
                    <a:lnTo>
                      <a:pt x="152" y="804"/>
                    </a:lnTo>
                    <a:lnTo>
                      <a:pt x="150" y="804"/>
                    </a:lnTo>
                    <a:lnTo>
                      <a:pt x="149" y="803"/>
                    </a:lnTo>
                    <a:lnTo>
                      <a:pt x="147" y="804"/>
                    </a:lnTo>
                    <a:lnTo>
                      <a:pt x="146" y="804"/>
                    </a:lnTo>
                    <a:lnTo>
                      <a:pt x="144" y="806"/>
                    </a:lnTo>
                    <a:lnTo>
                      <a:pt x="144" y="807"/>
                    </a:lnTo>
                    <a:lnTo>
                      <a:pt x="65" y="807"/>
                    </a:lnTo>
                    <a:lnTo>
                      <a:pt x="65" y="806"/>
                    </a:lnTo>
                    <a:lnTo>
                      <a:pt x="64" y="804"/>
                    </a:lnTo>
                    <a:lnTo>
                      <a:pt x="62" y="804"/>
                    </a:lnTo>
                    <a:lnTo>
                      <a:pt x="61" y="803"/>
                    </a:lnTo>
                    <a:lnTo>
                      <a:pt x="59" y="804"/>
                    </a:lnTo>
                    <a:lnTo>
                      <a:pt x="58" y="804"/>
                    </a:lnTo>
                    <a:lnTo>
                      <a:pt x="57" y="806"/>
                    </a:lnTo>
                    <a:lnTo>
                      <a:pt x="56" y="807"/>
                    </a:lnTo>
                    <a:lnTo>
                      <a:pt x="0" y="807"/>
                    </a:lnTo>
                    <a:lnTo>
                      <a:pt x="0" y="17"/>
                    </a:lnTo>
                    <a:lnTo>
                      <a:pt x="16" y="17"/>
                    </a:lnTo>
                    <a:lnTo>
                      <a:pt x="1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273800" y="2263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78" name=""/>
              <p:cNvSpPr/>
              <p:nvPr/>
            </p:nvSpPr>
            <p:spPr>
              <a:xfrm>
                <a:off x="5365080" y="2140200"/>
                <a:ext cx="1709640" cy="172080"/>
              </a:xfrm>
              <a:custGeom>
                <a:avLst/>
                <a:gdLst/>
                <a:ahLst/>
                <a:rect l="l" t="t" r="r" b="b"/>
                <a:pathLst>
                  <a:path w="1615" h="129">
                    <a:moveTo>
                      <a:pt x="0" y="129"/>
                    </a:moveTo>
                    <a:lnTo>
                      <a:pt x="0" y="6"/>
                    </a:lnTo>
                    <a:lnTo>
                      <a:pt x="304" y="6"/>
                    </a:lnTo>
                    <a:lnTo>
                      <a:pt x="304" y="4"/>
                    </a:lnTo>
                    <a:lnTo>
                      <a:pt x="305" y="3"/>
                    </a:lnTo>
                    <a:lnTo>
                      <a:pt x="306" y="2"/>
                    </a:lnTo>
                    <a:lnTo>
                      <a:pt x="308" y="2"/>
                    </a:lnTo>
                    <a:lnTo>
                      <a:pt x="310" y="2"/>
                    </a:lnTo>
                    <a:lnTo>
                      <a:pt x="311" y="3"/>
                    </a:lnTo>
                    <a:lnTo>
                      <a:pt x="312" y="4"/>
                    </a:lnTo>
                    <a:lnTo>
                      <a:pt x="313" y="6"/>
                    </a:lnTo>
                    <a:lnTo>
                      <a:pt x="418" y="6"/>
                    </a:lnTo>
                    <a:lnTo>
                      <a:pt x="418" y="4"/>
                    </a:lnTo>
                    <a:lnTo>
                      <a:pt x="419" y="3"/>
                    </a:lnTo>
                    <a:lnTo>
                      <a:pt x="421" y="2"/>
                    </a:lnTo>
                    <a:lnTo>
                      <a:pt x="422" y="2"/>
                    </a:lnTo>
                    <a:lnTo>
                      <a:pt x="424" y="2"/>
                    </a:lnTo>
                    <a:lnTo>
                      <a:pt x="426" y="3"/>
                    </a:lnTo>
                    <a:lnTo>
                      <a:pt x="426" y="4"/>
                    </a:lnTo>
                    <a:lnTo>
                      <a:pt x="427" y="6"/>
                    </a:lnTo>
                    <a:lnTo>
                      <a:pt x="465" y="6"/>
                    </a:lnTo>
                    <a:lnTo>
                      <a:pt x="465" y="4"/>
                    </a:lnTo>
                    <a:lnTo>
                      <a:pt x="466" y="3"/>
                    </a:lnTo>
                    <a:lnTo>
                      <a:pt x="468" y="2"/>
                    </a:lnTo>
                    <a:lnTo>
                      <a:pt x="469" y="2"/>
                    </a:lnTo>
                    <a:lnTo>
                      <a:pt x="471" y="2"/>
                    </a:lnTo>
                    <a:lnTo>
                      <a:pt x="472" y="3"/>
                    </a:lnTo>
                    <a:lnTo>
                      <a:pt x="473" y="4"/>
                    </a:lnTo>
                    <a:lnTo>
                      <a:pt x="474" y="6"/>
                    </a:lnTo>
                    <a:lnTo>
                      <a:pt x="812" y="6"/>
                    </a:lnTo>
                    <a:lnTo>
                      <a:pt x="813" y="4"/>
                    </a:lnTo>
                    <a:lnTo>
                      <a:pt x="814" y="3"/>
                    </a:lnTo>
                    <a:lnTo>
                      <a:pt x="815" y="2"/>
                    </a:lnTo>
                    <a:lnTo>
                      <a:pt x="817" y="2"/>
                    </a:lnTo>
                    <a:lnTo>
                      <a:pt x="819" y="2"/>
                    </a:lnTo>
                    <a:lnTo>
                      <a:pt x="820" y="3"/>
                    </a:lnTo>
                    <a:lnTo>
                      <a:pt x="821" y="4"/>
                    </a:lnTo>
                    <a:lnTo>
                      <a:pt x="821" y="6"/>
                    </a:lnTo>
                    <a:lnTo>
                      <a:pt x="1299" y="6"/>
                    </a:lnTo>
                    <a:lnTo>
                      <a:pt x="1299" y="4"/>
                    </a:lnTo>
                    <a:lnTo>
                      <a:pt x="1300" y="3"/>
                    </a:lnTo>
                    <a:lnTo>
                      <a:pt x="1302" y="2"/>
                    </a:lnTo>
                    <a:lnTo>
                      <a:pt x="1303" y="2"/>
                    </a:lnTo>
                    <a:lnTo>
                      <a:pt x="1305" y="2"/>
                    </a:lnTo>
                    <a:lnTo>
                      <a:pt x="1306" y="3"/>
                    </a:lnTo>
                    <a:lnTo>
                      <a:pt x="1308" y="4"/>
                    </a:lnTo>
                    <a:lnTo>
                      <a:pt x="1308" y="6"/>
                    </a:lnTo>
                    <a:lnTo>
                      <a:pt x="1607" y="6"/>
                    </a:lnTo>
                    <a:lnTo>
                      <a:pt x="1607" y="0"/>
                    </a:lnTo>
                    <a:lnTo>
                      <a:pt x="1615"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358960" y="230976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80" name=""/>
              <p:cNvSpPr/>
              <p:nvPr/>
            </p:nvSpPr>
            <p:spPr>
              <a:xfrm>
                <a:off x="7073640" y="213336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1" name=""/>
              <p:cNvSpPr/>
              <p:nvPr/>
            </p:nvSpPr>
            <p:spPr>
              <a:xfrm>
                <a:off x="5802120" y="2275200"/>
                <a:ext cx="1386720" cy="2310480"/>
              </a:xfrm>
              <a:custGeom>
                <a:avLst/>
                <a:gdLst/>
                <a:ahLst/>
                <a:rect l="l" t="t" r="r" b="b"/>
                <a:pathLst>
                  <a:path w="1310" h="1730">
                    <a:moveTo>
                      <a:pt x="0" y="1717"/>
                    </a:moveTo>
                    <a:lnTo>
                      <a:pt x="82" y="1717"/>
                    </a:lnTo>
                    <a:lnTo>
                      <a:pt x="82" y="1725"/>
                    </a:lnTo>
                    <a:lnTo>
                      <a:pt x="92" y="1725"/>
                    </a:lnTo>
                    <a:lnTo>
                      <a:pt x="93" y="1723"/>
                    </a:lnTo>
                    <a:lnTo>
                      <a:pt x="94" y="1722"/>
                    </a:lnTo>
                    <a:lnTo>
                      <a:pt x="95" y="1721"/>
                    </a:lnTo>
                    <a:lnTo>
                      <a:pt x="97" y="1721"/>
                    </a:lnTo>
                    <a:lnTo>
                      <a:pt x="98" y="1721"/>
                    </a:lnTo>
                    <a:lnTo>
                      <a:pt x="100" y="1722"/>
                    </a:lnTo>
                    <a:lnTo>
                      <a:pt x="101" y="1723"/>
                    </a:lnTo>
                    <a:lnTo>
                      <a:pt x="101" y="1725"/>
                    </a:lnTo>
                    <a:lnTo>
                      <a:pt x="144" y="1725"/>
                    </a:lnTo>
                    <a:lnTo>
                      <a:pt x="144" y="1723"/>
                    </a:lnTo>
                    <a:lnTo>
                      <a:pt x="145" y="1722"/>
                    </a:lnTo>
                    <a:lnTo>
                      <a:pt x="147" y="1721"/>
                    </a:lnTo>
                    <a:lnTo>
                      <a:pt x="149" y="1721"/>
                    </a:lnTo>
                    <a:lnTo>
                      <a:pt x="150" y="1721"/>
                    </a:lnTo>
                    <a:lnTo>
                      <a:pt x="152" y="1722"/>
                    </a:lnTo>
                    <a:lnTo>
                      <a:pt x="153" y="1723"/>
                    </a:lnTo>
                    <a:lnTo>
                      <a:pt x="153" y="1725"/>
                    </a:lnTo>
                    <a:lnTo>
                      <a:pt x="167" y="1725"/>
                    </a:lnTo>
                    <a:lnTo>
                      <a:pt x="167" y="1723"/>
                    </a:lnTo>
                    <a:lnTo>
                      <a:pt x="168" y="1722"/>
                    </a:lnTo>
                    <a:lnTo>
                      <a:pt x="169" y="1721"/>
                    </a:lnTo>
                    <a:lnTo>
                      <a:pt x="171" y="1721"/>
                    </a:lnTo>
                    <a:lnTo>
                      <a:pt x="173" y="1721"/>
                    </a:lnTo>
                    <a:lnTo>
                      <a:pt x="174" y="1722"/>
                    </a:lnTo>
                    <a:lnTo>
                      <a:pt x="175" y="1723"/>
                    </a:lnTo>
                    <a:lnTo>
                      <a:pt x="176" y="1725"/>
                    </a:lnTo>
                    <a:lnTo>
                      <a:pt x="198" y="1725"/>
                    </a:lnTo>
                    <a:lnTo>
                      <a:pt x="198" y="1723"/>
                    </a:lnTo>
                    <a:lnTo>
                      <a:pt x="199" y="1722"/>
                    </a:lnTo>
                    <a:lnTo>
                      <a:pt x="201" y="1721"/>
                    </a:lnTo>
                    <a:lnTo>
                      <a:pt x="203" y="1721"/>
                    </a:lnTo>
                    <a:lnTo>
                      <a:pt x="204" y="1721"/>
                    </a:lnTo>
                    <a:lnTo>
                      <a:pt x="206" y="1722"/>
                    </a:lnTo>
                    <a:lnTo>
                      <a:pt x="207" y="1723"/>
                    </a:lnTo>
                    <a:lnTo>
                      <a:pt x="207" y="1725"/>
                    </a:lnTo>
                    <a:lnTo>
                      <a:pt x="328" y="1725"/>
                    </a:lnTo>
                    <a:lnTo>
                      <a:pt x="328" y="1730"/>
                    </a:lnTo>
                    <a:lnTo>
                      <a:pt x="331" y="1730"/>
                    </a:lnTo>
                    <a:lnTo>
                      <a:pt x="331" y="1729"/>
                    </a:lnTo>
                    <a:lnTo>
                      <a:pt x="332" y="1727"/>
                    </a:lnTo>
                    <a:lnTo>
                      <a:pt x="334" y="1727"/>
                    </a:lnTo>
                    <a:lnTo>
                      <a:pt x="335" y="1726"/>
                    </a:lnTo>
                    <a:lnTo>
                      <a:pt x="337" y="1727"/>
                    </a:lnTo>
                    <a:lnTo>
                      <a:pt x="338" y="1727"/>
                    </a:lnTo>
                    <a:lnTo>
                      <a:pt x="339" y="1729"/>
                    </a:lnTo>
                    <a:lnTo>
                      <a:pt x="340" y="1730"/>
                    </a:lnTo>
                    <a:lnTo>
                      <a:pt x="505" y="1730"/>
                    </a:lnTo>
                    <a:lnTo>
                      <a:pt x="506" y="1729"/>
                    </a:lnTo>
                    <a:lnTo>
                      <a:pt x="506" y="1727"/>
                    </a:lnTo>
                    <a:lnTo>
                      <a:pt x="508" y="1727"/>
                    </a:lnTo>
                    <a:lnTo>
                      <a:pt x="510" y="1726"/>
                    </a:lnTo>
                    <a:lnTo>
                      <a:pt x="511" y="1727"/>
                    </a:lnTo>
                    <a:lnTo>
                      <a:pt x="513" y="1727"/>
                    </a:lnTo>
                    <a:lnTo>
                      <a:pt x="514" y="1729"/>
                    </a:lnTo>
                    <a:lnTo>
                      <a:pt x="514" y="1730"/>
                    </a:lnTo>
                    <a:lnTo>
                      <a:pt x="693" y="1730"/>
                    </a:lnTo>
                    <a:lnTo>
                      <a:pt x="693" y="1729"/>
                    </a:lnTo>
                    <a:lnTo>
                      <a:pt x="694" y="1727"/>
                    </a:lnTo>
                    <a:lnTo>
                      <a:pt x="696" y="1727"/>
                    </a:lnTo>
                    <a:lnTo>
                      <a:pt x="697" y="1726"/>
                    </a:lnTo>
                    <a:lnTo>
                      <a:pt x="699" y="1727"/>
                    </a:lnTo>
                    <a:lnTo>
                      <a:pt x="700" y="1727"/>
                    </a:lnTo>
                    <a:lnTo>
                      <a:pt x="701" y="1729"/>
                    </a:lnTo>
                    <a:lnTo>
                      <a:pt x="702" y="1730"/>
                    </a:lnTo>
                    <a:lnTo>
                      <a:pt x="984" y="1730"/>
                    </a:lnTo>
                    <a:lnTo>
                      <a:pt x="984" y="1729"/>
                    </a:lnTo>
                    <a:lnTo>
                      <a:pt x="985" y="1727"/>
                    </a:lnTo>
                    <a:lnTo>
                      <a:pt x="987" y="1727"/>
                    </a:lnTo>
                    <a:lnTo>
                      <a:pt x="988" y="1726"/>
                    </a:lnTo>
                    <a:lnTo>
                      <a:pt x="990" y="1727"/>
                    </a:lnTo>
                    <a:lnTo>
                      <a:pt x="991" y="1727"/>
                    </a:lnTo>
                    <a:lnTo>
                      <a:pt x="992" y="1729"/>
                    </a:lnTo>
                    <a:lnTo>
                      <a:pt x="993" y="1730"/>
                    </a:lnTo>
                    <a:lnTo>
                      <a:pt x="1193" y="1730"/>
                    </a:lnTo>
                    <a:lnTo>
                      <a:pt x="1194" y="1729"/>
                    </a:lnTo>
                    <a:lnTo>
                      <a:pt x="1194" y="1727"/>
                    </a:lnTo>
                    <a:lnTo>
                      <a:pt x="1196" y="1727"/>
                    </a:lnTo>
                    <a:lnTo>
                      <a:pt x="1198" y="1726"/>
                    </a:lnTo>
                    <a:lnTo>
                      <a:pt x="1199" y="1727"/>
                    </a:lnTo>
                    <a:lnTo>
                      <a:pt x="1201" y="1727"/>
                    </a:lnTo>
                    <a:lnTo>
                      <a:pt x="1202" y="1729"/>
                    </a:lnTo>
                    <a:lnTo>
                      <a:pt x="1202" y="1730"/>
                    </a:lnTo>
                    <a:lnTo>
                      <a:pt x="1213" y="1730"/>
                    </a:lnTo>
                    <a:lnTo>
                      <a:pt x="1214" y="1729"/>
                    </a:lnTo>
                    <a:lnTo>
                      <a:pt x="1215" y="1727"/>
                    </a:lnTo>
                    <a:lnTo>
                      <a:pt x="1216" y="1727"/>
                    </a:lnTo>
                    <a:lnTo>
                      <a:pt x="1218" y="1726"/>
                    </a:lnTo>
                    <a:lnTo>
                      <a:pt x="1220" y="1727"/>
                    </a:lnTo>
                    <a:lnTo>
                      <a:pt x="1221" y="1727"/>
                    </a:lnTo>
                    <a:lnTo>
                      <a:pt x="1222" y="1729"/>
                    </a:lnTo>
                    <a:lnTo>
                      <a:pt x="1222" y="1730"/>
                    </a:lnTo>
                    <a:lnTo>
                      <a:pt x="1247" y="1730"/>
                    </a:lnTo>
                    <a:lnTo>
                      <a:pt x="1248" y="1729"/>
                    </a:lnTo>
                    <a:lnTo>
                      <a:pt x="1249" y="1727"/>
                    </a:lnTo>
                    <a:lnTo>
                      <a:pt x="1250" y="1727"/>
                    </a:lnTo>
                    <a:lnTo>
                      <a:pt x="1252" y="1726"/>
                    </a:lnTo>
                    <a:lnTo>
                      <a:pt x="1253" y="1727"/>
                    </a:lnTo>
                    <a:lnTo>
                      <a:pt x="1255" y="1727"/>
                    </a:lnTo>
                    <a:lnTo>
                      <a:pt x="1256" y="1729"/>
                    </a:lnTo>
                    <a:lnTo>
                      <a:pt x="1256" y="1730"/>
                    </a:lnTo>
                    <a:lnTo>
                      <a:pt x="1266" y="1730"/>
                    </a:lnTo>
                    <a:lnTo>
                      <a:pt x="1266" y="1729"/>
                    </a:lnTo>
                    <a:lnTo>
                      <a:pt x="1267" y="1727"/>
                    </a:lnTo>
                    <a:lnTo>
                      <a:pt x="1269" y="1727"/>
                    </a:lnTo>
                    <a:lnTo>
                      <a:pt x="1270" y="1726"/>
                    </a:lnTo>
                    <a:lnTo>
                      <a:pt x="1272" y="1727"/>
                    </a:lnTo>
                    <a:lnTo>
                      <a:pt x="1274" y="1727"/>
                    </a:lnTo>
                    <a:lnTo>
                      <a:pt x="1274" y="1729"/>
                    </a:lnTo>
                    <a:lnTo>
                      <a:pt x="1275" y="1730"/>
                    </a:lnTo>
                    <a:lnTo>
                      <a:pt x="1310" y="1730"/>
                    </a:lnTo>
                    <a:lnTo>
                      <a:pt x="1310"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183080" y="226332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83" name=""/>
              <p:cNvSpPr/>
              <p:nvPr/>
            </p:nvSpPr>
            <p:spPr>
              <a:xfrm>
                <a:off x="7394760" y="2190960"/>
                <a:ext cx="839160" cy="58680"/>
              </a:xfrm>
              <a:custGeom>
                <a:avLst/>
                <a:gdLst/>
                <a:ahLst/>
                <a:rect l="l" t="t" r="r" b="b"/>
                <a:pathLst>
                  <a:path w="793" h="44">
                    <a:moveTo>
                      <a:pt x="0" y="4"/>
                    </a:moveTo>
                    <a:lnTo>
                      <a:pt x="130" y="4"/>
                    </a:lnTo>
                    <a:lnTo>
                      <a:pt x="130" y="3"/>
                    </a:lnTo>
                    <a:lnTo>
                      <a:pt x="131" y="2"/>
                    </a:lnTo>
                    <a:lnTo>
                      <a:pt x="133" y="1"/>
                    </a:lnTo>
                    <a:lnTo>
                      <a:pt x="134" y="1"/>
                    </a:lnTo>
                    <a:lnTo>
                      <a:pt x="136" y="1"/>
                    </a:lnTo>
                    <a:lnTo>
                      <a:pt x="138" y="2"/>
                    </a:lnTo>
                    <a:lnTo>
                      <a:pt x="139" y="3"/>
                    </a:lnTo>
                    <a:lnTo>
                      <a:pt x="139" y="4"/>
                    </a:lnTo>
                    <a:lnTo>
                      <a:pt x="162" y="4"/>
                    </a:lnTo>
                    <a:lnTo>
                      <a:pt x="162" y="3"/>
                    </a:lnTo>
                    <a:lnTo>
                      <a:pt x="163" y="2"/>
                    </a:lnTo>
                    <a:lnTo>
                      <a:pt x="165" y="1"/>
                    </a:lnTo>
                    <a:lnTo>
                      <a:pt x="167" y="1"/>
                    </a:lnTo>
                    <a:lnTo>
                      <a:pt x="168" y="1"/>
                    </a:lnTo>
                    <a:lnTo>
                      <a:pt x="170" y="2"/>
                    </a:lnTo>
                    <a:lnTo>
                      <a:pt x="171" y="3"/>
                    </a:lnTo>
                    <a:lnTo>
                      <a:pt x="171" y="4"/>
                    </a:lnTo>
                    <a:lnTo>
                      <a:pt x="364" y="4"/>
                    </a:lnTo>
                    <a:lnTo>
                      <a:pt x="364" y="3"/>
                    </a:lnTo>
                    <a:lnTo>
                      <a:pt x="365" y="2"/>
                    </a:lnTo>
                    <a:lnTo>
                      <a:pt x="366" y="1"/>
                    </a:lnTo>
                    <a:lnTo>
                      <a:pt x="368" y="1"/>
                    </a:lnTo>
                    <a:lnTo>
                      <a:pt x="370" y="1"/>
                    </a:lnTo>
                    <a:lnTo>
                      <a:pt x="371" y="2"/>
                    </a:lnTo>
                    <a:lnTo>
                      <a:pt x="372" y="3"/>
                    </a:lnTo>
                    <a:lnTo>
                      <a:pt x="373" y="4"/>
                    </a:lnTo>
                    <a:lnTo>
                      <a:pt x="506" y="4"/>
                    </a:lnTo>
                    <a:lnTo>
                      <a:pt x="507" y="3"/>
                    </a:lnTo>
                    <a:lnTo>
                      <a:pt x="508" y="2"/>
                    </a:lnTo>
                    <a:lnTo>
                      <a:pt x="509" y="1"/>
                    </a:lnTo>
                    <a:lnTo>
                      <a:pt x="511" y="1"/>
                    </a:lnTo>
                    <a:lnTo>
                      <a:pt x="513" y="1"/>
                    </a:lnTo>
                    <a:lnTo>
                      <a:pt x="514" y="2"/>
                    </a:lnTo>
                    <a:lnTo>
                      <a:pt x="515" y="3"/>
                    </a:lnTo>
                    <a:lnTo>
                      <a:pt x="515" y="4"/>
                    </a:lnTo>
                    <a:lnTo>
                      <a:pt x="635" y="4"/>
                    </a:lnTo>
                    <a:lnTo>
                      <a:pt x="635" y="3"/>
                    </a:lnTo>
                    <a:lnTo>
                      <a:pt x="636" y="2"/>
                    </a:lnTo>
                    <a:lnTo>
                      <a:pt x="638" y="1"/>
                    </a:lnTo>
                    <a:lnTo>
                      <a:pt x="639" y="1"/>
                    </a:lnTo>
                    <a:lnTo>
                      <a:pt x="641" y="1"/>
                    </a:lnTo>
                    <a:lnTo>
                      <a:pt x="642" y="2"/>
                    </a:lnTo>
                    <a:lnTo>
                      <a:pt x="643" y="3"/>
                    </a:lnTo>
                    <a:lnTo>
                      <a:pt x="644" y="4"/>
                    </a:lnTo>
                    <a:lnTo>
                      <a:pt x="690" y="4"/>
                    </a:lnTo>
                    <a:lnTo>
                      <a:pt x="691" y="3"/>
                    </a:lnTo>
                    <a:lnTo>
                      <a:pt x="692" y="2"/>
                    </a:lnTo>
                    <a:lnTo>
                      <a:pt x="693" y="1"/>
                    </a:lnTo>
                    <a:lnTo>
                      <a:pt x="695" y="1"/>
                    </a:lnTo>
                    <a:lnTo>
                      <a:pt x="697" y="1"/>
                    </a:lnTo>
                    <a:lnTo>
                      <a:pt x="698" y="2"/>
                    </a:lnTo>
                    <a:lnTo>
                      <a:pt x="699" y="3"/>
                    </a:lnTo>
                    <a:lnTo>
                      <a:pt x="699" y="4"/>
                    </a:lnTo>
                    <a:lnTo>
                      <a:pt x="742" y="4"/>
                    </a:lnTo>
                    <a:lnTo>
                      <a:pt x="743" y="3"/>
                    </a:lnTo>
                    <a:lnTo>
                      <a:pt x="743" y="2"/>
                    </a:lnTo>
                    <a:lnTo>
                      <a:pt x="745" y="1"/>
                    </a:lnTo>
                    <a:lnTo>
                      <a:pt x="747" y="0"/>
                    </a:lnTo>
                    <a:lnTo>
                      <a:pt x="748" y="0"/>
                    </a:lnTo>
                    <a:lnTo>
                      <a:pt x="750" y="1"/>
                    </a:lnTo>
                    <a:lnTo>
                      <a:pt x="751" y="2"/>
                    </a:lnTo>
                    <a:lnTo>
                      <a:pt x="752" y="3"/>
                    </a:lnTo>
                    <a:lnTo>
                      <a:pt x="752" y="4"/>
                    </a:lnTo>
                    <a:lnTo>
                      <a:pt x="793" y="4"/>
                    </a:lnTo>
                    <a:lnTo>
                      <a:pt x="793" y="44"/>
                    </a:lnTo>
                  </a:path>
                </a:pathLst>
              </a:custGeom>
              <a:noFill/>
              <a:ln w="1440">
                <a:solidFill>
                  <a:srgbClr val="ff00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4" name=""/>
              <p:cNvSpPr/>
              <p:nvPr/>
            </p:nvSpPr>
            <p:spPr>
              <a:xfrm>
                <a:off x="7381800" y="219096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5" name=""/>
              <p:cNvSpPr/>
              <p:nvPr/>
            </p:nvSpPr>
            <p:spPr>
              <a:xfrm>
                <a:off x="8227800" y="22482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86" name=""/>
              <p:cNvSpPr/>
              <p:nvPr/>
            </p:nvSpPr>
            <p:spPr>
              <a:xfrm>
                <a:off x="7394760" y="2168280"/>
                <a:ext cx="540720" cy="663840"/>
              </a:xfrm>
              <a:custGeom>
                <a:avLst/>
                <a:gdLst/>
                <a:ahLst/>
                <a:rect l="l" t="t" r="r" b="b"/>
                <a:pathLst>
                  <a:path w="511" h="497">
                    <a:moveTo>
                      <a:pt x="511" y="497"/>
                    </a:moveTo>
                    <a:lnTo>
                      <a:pt x="511" y="3"/>
                    </a:lnTo>
                    <a:lnTo>
                      <a:pt x="373" y="3"/>
                    </a:lnTo>
                    <a:lnTo>
                      <a:pt x="372" y="2"/>
                    </a:lnTo>
                    <a:lnTo>
                      <a:pt x="371" y="1"/>
                    </a:lnTo>
                    <a:lnTo>
                      <a:pt x="370" y="0"/>
                    </a:lnTo>
                    <a:lnTo>
                      <a:pt x="368" y="0"/>
                    </a:lnTo>
                    <a:lnTo>
                      <a:pt x="366" y="0"/>
                    </a:lnTo>
                    <a:lnTo>
                      <a:pt x="365" y="1"/>
                    </a:lnTo>
                    <a:lnTo>
                      <a:pt x="364" y="2"/>
                    </a:lnTo>
                    <a:lnTo>
                      <a:pt x="364" y="3"/>
                    </a:lnTo>
                    <a:lnTo>
                      <a:pt x="139" y="3"/>
                    </a:lnTo>
                    <a:lnTo>
                      <a:pt x="139" y="2"/>
                    </a:lnTo>
                    <a:lnTo>
                      <a:pt x="138" y="1"/>
                    </a:lnTo>
                    <a:lnTo>
                      <a:pt x="136" y="0"/>
                    </a:lnTo>
                    <a:lnTo>
                      <a:pt x="134" y="0"/>
                    </a:lnTo>
                    <a:lnTo>
                      <a:pt x="133" y="0"/>
                    </a:lnTo>
                    <a:lnTo>
                      <a:pt x="131" y="1"/>
                    </a:lnTo>
                    <a:lnTo>
                      <a:pt x="130" y="2"/>
                    </a:lnTo>
                    <a:lnTo>
                      <a:pt x="130" y="3"/>
                    </a:lnTo>
                    <a:lnTo>
                      <a:pt x="0"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7929000" y="28310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88" name=""/>
              <p:cNvSpPr/>
              <p:nvPr/>
            </p:nvSpPr>
            <p:spPr>
              <a:xfrm>
                <a:off x="7381800" y="21668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9" name=""/>
              <p:cNvSpPr/>
              <p:nvPr/>
            </p:nvSpPr>
            <p:spPr>
              <a:xfrm>
                <a:off x="6501240" y="2237760"/>
                <a:ext cx="586440" cy="257760"/>
              </a:xfrm>
              <a:custGeom>
                <a:avLst/>
                <a:gdLst/>
                <a:ahLst/>
                <a:rect l="l" t="t" r="r" b="b"/>
                <a:pathLst>
                  <a:path w="554" h="193">
                    <a:moveTo>
                      <a:pt x="0" y="193"/>
                    </a:moveTo>
                    <a:lnTo>
                      <a:pt x="0" y="16"/>
                    </a:lnTo>
                    <a:lnTo>
                      <a:pt x="49" y="16"/>
                    </a:lnTo>
                    <a:lnTo>
                      <a:pt x="49" y="15"/>
                    </a:lnTo>
                    <a:lnTo>
                      <a:pt x="50" y="14"/>
                    </a:lnTo>
                    <a:lnTo>
                      <a:pt x="51" y="13"/>
                    </a:lnTo>
                    <a:lnTo>
                      <a:pt x="53" y="13"/>
                    </a:lnTo>
                    <a:lnTo>
                      <a:pt x="55" y="13"/>
                    </a:lnTo>
                    <a:lnTo>
                      <a:pt x="56" y="14"/>
                    </a:lnTo>
                    <a:lnTo>
                      <a:pt x="57" y="15"/>
                    </a:lnTo>
                    <a:lnTo>
                      <a:pt x="58" y="16"/>
                    </a:lnTo>
                    <a:lnTo>
                      <a:pt x="77" y="16"/>
                    </a:lnTo>
                    <a:lnTo>
                      <a:pt x="78" y="15"/>
                    </a:lnTo>
                    <a:lnTo>
                      <a:pt x="79" y="14"/>
                    </a:lnTo>
                    <a:lnTo>
                      <a:pt x="80" y="13"/>
                    </a:lnTo>
                    <a:lnTo>
                      <a:pt x="82" y="13"/>
                    </a:lnTo>
                    <a:lnTo>
                      <a:pt x="83" y="13"/>
                    </a:lnTo>
                    <a:lnTo>
                      <a:pt x="85" y="14"/>
                    </a:lnTo>
                    <a:lnTo>
                      <a:pt x="86" y="15"/>
                    </a:lnTo>
                    <a:lnTo>
                      <a:pt x="86" y="16"/>
                    </a:lnTo>
                    <a:lnTo>
                      <a:pt x="110" y="16"/>
                    </a:lnTo>
                    <a:lnTo>
                      <a:pt x="110" y="3"/>
                    </a:lnTo>
                    <a:lnTo>
                      <a:pt x="119" y="3"/>
                    </a:lnTo>
                    <a:lnTo>
                      <a:pt x="120" y="2"/>
                    </a:lnTo>
                    <a:lnTo>
                      <a:pt x="121" y="1"/>
                    </a:lnTo>
                    <a:lnTo>
                      <a:pt x="122" y="0"/>
                    </a:lnTo>
                    <a:lnTo>
                      <a:pt x="124" y="0"/>
                    </a:lnTo>
                    <a:lnTo>
                      <a:pt x="126" y="0"/>
                    </a:lnTo>
                    <a:lnTo>
                      <a:pt x="127" y="1"/>
                    </a:lnTo>
                    <a:lnTo>
                      <a:pt x="128" y="2"/>
                    </a:lnTo>
                    <a:lnTo>
                      <a:pt x="128" y="3"/>
                    </a:lnTo>
                    <a:lnTo>
                      <a:pt x="140" y="3"/>
                    </a:lnTo>
                    <a:lnTo>
                      <a:pt x="140" y="2"/>
                    </a:lnTo>
                    <a:lnTo>
                      <a:pt x="141" y="1"/>
                    </a:lnTo>
                    <a:lnTo>
                      <a:pt x="143" y="0"/>
                    </a:lnTo>
                    <a:lnTo>
                      <a:pt x="144" y="0"/>
                    </a:lnTo>
                    <a:lnTo>
                      <a:pt x="146" y="0"/>
                    </a:lnTo>
                    <a:lnTo>
                      <a:pt x="147" y="1"/>
                    </a:lnTo>
                    <a:lnTo>
                      <a:pt x="148" y="2"/>
                    </a:lnTo>
                    <a:lnTo>
                      <a:pt x="149" y="3"/>
                    </a:lnTo>
                    <a:lnTo>
                      <a:pt x="226" y="3"/>
                    </a:lnTo>
                    <a:lnTo>
                      <a:pt x="226" y="2"/>
                    </a:lnTo>
                    <a:lnTo>
                      <a:pt x="227" y="1"/>
                    </a:lnTo>
                    <a:lnTo>
                      <a:pt x="229" y="0"/>
                    </a:lnTo>
                    <a:lnTo>
                      <a:pt x="230" y="0"/>
                    </a:lnTo>
                    <a:lnTo>
                      <a:pt x="232" y="0"/>
                    </a:lnTo>
                    <a:lnTo>
                      <a:pt x="233" y="1"/>
                    </a:lnTo>
                    <a:lnTo>
                      <a:pt x="235" y="2"/>
                    </a:lnTo>
                    <a:lnTo>
                      <a:pt x="235" y="3"/>
                    </a:lnTo>
                    <a:lnTo>
                      <a:pt x="256" y="3"/>
                    </a:lnTo>
                    <a:lnTo>
                      <a:pt x="257" y="2"/>
                    </a:lnTo>
                    <a:lnTo>
                      <a:pt x="258" y="1"/>
                    </a:lnTo>
                    <a:lnTo>
                      <a:pt x="259" y="0"/>
                    </a:lnTo>
                    <a:lnTo>
                      <a:pt x="261" y="0"/>
                    </a:lnTo>
                    <a:lnTo>
                      <a:pt x="262" y="0"/>
                    </a:lnTo>
                    <a:lnTo>
                      <a:pt x="264" y="1"/>
                    </a:lnTo>
                    <a:lnTo>
                      <a:pt x="265" y="2"/>
                    </a:lnTo>
                    <a:lnTo>
                      <a:pt x="265" y="3"/>
                    </a:lnTo>
                    <a:lnTo>
                      <a:pt x="279" y="3"/>
                    </a:lnTo>
                    <a:lnTo>
                      <a:pt x="279" y="2"/>
                    </a:lnTo>
                    <a:lnTo>
                      <a:pt x="280" y="1"/>
                    </a:lnTo>
                    <a:lnTo>
                      <a:pt x="282" y="0"/>
                    </a:lnTo>
                    <a:lnTo>
                      <a:pt x="283" y="0"/>
                    </a:lnTo>
                    <a:lnTo>
                      <a:pt x="285" y="0"/>
                    </a:lnTo>
                    <a:lnTo>
                      <a:pt x="286" y="1"/>
                    </a:lnTo>
                    <a:lnTo>
                      <a:pt x="287" y="2"/>
                    </a:lnTo>
                    <a:lnTo>
                      <a:pt x="288" y="3"/>
                    </a:lnTo>
                    <a:lnTo>
                      <a:pt x="523" y="3"/>
                    </a:lnTo>
                    <a:lnTo>
                      <a:pt x="523" y="2"/>
                    </a:lnTo>
                    <a:lnTo>
                      <a:pt x="524" y="1"/>
                    </a:lnTo>
                    <a:lnTo>
                      <a:pt x="525" y="0"/>
                    </a:lnTo>
                    <a:lnTo>
                      <a:pt x="527" y="0"/>
                    </a:lnTo>
                    <a:lnTo>
                      <a:pt x="529" y="0"/>
                    </a:lnTo>
                    <a:lnTo>
                      <a:pt x="530" y="1"/>
                    </a:lnTo>
                    <a:lnTo>
                      <a:pt x="531" y="2"/>
                    </a:lnTo>
                    <a:lnTo>
                      <a:pt x="532" y="3"/>
                    </a:lnTo>
                    <a:lnTo>
                      <a:pt x="536" y="3"/>
                    </a:lnTo>
                    <a:lnTo>
                      <a:pt x="537" y="2"/>
                    </a:lnTo>
                    <a:lnTo>
                      <a:pt x="538" y="1"/>
                    </a:lnTo>
                    <a:lnTo>
                      <a:pt x="539" y="0"/>
                    </a:lnTo>
                    <a:lnTo>
                      <a:pt x="541" y="0"/>
                    </a:lnTo>
                    <a:lnTo>
                      <a:pt x="542" y="0"/>
                    </a:lnTo>
                    <a:lnTo>
                      <a:pt x="544" y="1"/>
                    </a:lnTo>
                    <a:lnTo>
                      <a:pt x="545" y="2"/>
                    </a:lnTo>
                    <a:lnTo>
                      <a:pt x="545" y="3"/>
                    </a:lnTo>
                    <a:lnTo>
                      <a:pt x="554"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7073640" y="2236680"/>
                <a:ext cx="13680" cy="1152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1" name=""/>
              <p:cNvSpPr/>
              <p:nvPr/>
            </p:nvSpPr>
            <p:spPr>
              <a:xfrm>
                <a:off x="6634440" y="2981880"/>
                <a:ext cx="602280" cy="1234080"/>
              </a:xfrm>
              <a:custGeom>
                <a:avLst/>
                <a:gdLst/>
                <a:ahLst/>
                <a:rect l="l" t="t" r="r" b="b"/>
                <a:pathLst>
                  <a:path w="569" h="924">
                    <a:moveTo>
                      <a:pt x="569" y="924"/>
                    </a:moveTo>
                    <a:lnTo>
                      <a:pt x="560" y="924"/>
                    </a:lnTo>
                    <a:lnTo>
                      <a:pt x="559" y="923"/>
                    </a:lnTo>
                    <a:lnTo>
                      <a:pt x="558" y="922"/>
                    </a:lnTo>
                    <a:lnTo>
                      <a:pt x="557" y="921"/>
                    </a:lnTo>
                    <a:lnTo>
                      <a:pt x="555" y="921"/>
                    </a:lnTo>
                    <a:lnTo>
                      <a:pt x="553" y="921"/>
                    </a:lnTo>
                    <a:lnTo>
                      <a:pt x="552" y="922"/>
                    </a:lnTo>
                    <a:lnTo>
                      <a:pt x="551" y="923"/>
                    </a:lnTo>
                    <a:lnTo>
                      <a:pt x="551" y="924"/>
                    </a:lnTo>
                    <a:lnTo>
                      <a:pt x="541" y="924"/>
                    </a:lnTo>
                    <a:lnTo>
                      <a:pt x="541" y="923"/>
                    </a:lnTo>
                    <a:lnTo>
                      <a:pt x="540" y="922"/>
                    </a:lnTo>
                    <a:lnTo>
                      <a:pt x="538" y="921"/>
                    </a:lnTo>
                    <a:lnTo>
                      <a:pt x="537" y="921"/>
                    </a:lnTo>
                    <a:lnTo>
                      <a:pt x="535" y="921"/>
                    </a:lnTo>
                    <a:lnTo>
                      <a:pt x="533" y="922"/>
                    </a:lnTo>
                    <a:lnTo>
                      <a:pt x="533" y="923"/>
                    </a:lnTo>
                    <a:lnTo>
                      <a:pt x="532" y="924"/>
                    </a:lnTo>
                    <a:lnTo>
                      <a:pt x="529" y="924"/>
                    </a:lnTo>
                    <a:lnTo>
                      <a:pt x="528" y="923"/>
                    </a:lnTo>
                    <a:lnTo>
                      <a:pt x="528" y="922"/>
                    </a:lnTo>
                    <a:lnTo>
                      <a:pt x="526" y="921"/>
                    </a:lnTo>
                    <a:lnTo>
                      <a:pt x="524" y="921"/>
                    </a:lnTo>
                    <a:lnTo>
                      <a:pt x="523" y="921"/>
                    </a:lnTo>
                    <a:lnTo>
                      <a:pt x="521" y="922"/>
                    </a:lnTo>
                    <a:lnTo>
                      <a:pt x="520" y="923"/>
                    </a:lnTo>
                    <a:lnTo>
                      <a:pt x="520" y="924"/>
                    </a:lnTo>
                    <a:lnTo>
                      <a:pt x="489" y="924"/>
                    </a:lnTo>
                    <a:lnTo>
                      <a:pt x="488" y="923"/>
                    </a:lnTo>
                    <a:lnTo>
                      <a:pt x="488" y="922"/>
                    </a:lnTo>
                    <a:lnTo>
                      <a:pt x="486" y="921"/>
                    </a:lnTo>
                    <a:lnTo>
                      <a:pt x="484" y="921"/>
                    </a:lnTo>
                    <a:lnTo>
                      <a:pt x="483" y="921"/>
                    </a:lnTo>
                    <a:lnTo>
                      <a:pt x="481" y="922"/>
                    </a:lnTo>
                    <a:lnTo>
                      <a:pt x="480" y="923"/>
                    </a:lnTo>
                    <a:lnTo>
                      <a:pt x="480" y="924"/>
                    </a:lnTo>
                    <a:lnTo>
                      <a:pt x="436" y="924"/>
                    </a:lnTo>
                    <a:lnTo>
                      <a:pt x="436" y="923"/>
                    </a:lnTo>
                    <a:lnTo>
                      <a:pt x="435" y="922"/>
                    </a:lnTo>
                    <a:lnTo>
                      <a:pt x="434" y="921"/>
                    </a:lnTo>
                    <a:lnTo>
                      <a:pt x="432" y="921"/>
                    </a:lnTo>
                    <a:lnTo>
                      <a:pt x="430" y="921"/>
                    </a:lnTo>
                    <a:lnTo>
                      <a:pt x="429" y="922"/>
                    </a:lnTo>
                    <a:lnTo>
                      <a:pt x="428" y="923"/>
                    </a:lnTo>
                    <a:lnTo>
                      <a:pt x="427" y="924"/>
                    </a:lnTo>
                    <a:lnTo>
                      <a:pt x="416" y="924"/>
                    </a:lnTo>
                    <a:lnTo>
                      <a:pt x="416" y="923"/>
                    </a:lnTo>
                    <a:lnTo>
                      <a:pt x="415" y="922"/>
                    </a:lnTo>
                    <a:lnTo>
                      <a:pt x="413" y="921"/>
                    </a:lnTo>
                    <a:lnTo>
                      <a:pt x="412" y="921"/>
                    </a:lnTo>
                    <a:lnTo>
                      <a:pt x="410" y="921"/>
                    </a:lnTo>
                    <a:lnTo>
                      <a:pt x="408" y="922"/>
                    </a:lnTo>
                    <a:lnTo>
                      <a:pt x="408" y="923"/>
                    </a:lnTo>
                    <a:lnTo>
                      <a:pt x="407" y="924"/>
                    </a:lnTo>
                    <a:lnTo>
                      <a:pt x="369" y="924"/>
                    </a:lnTo>
                    <a:lnTo>
                      <a:pt x="368" y="923"/>
                    </a:lnTo>
                    <a:lnTo>
                      <a:pt x="368" y="922"/>
                    </a:lnTo>
                    <a:lnTo>
                      <a:pt x="366" y="921"/>
                    </a:lnTo>
                    <a:lnTo>
                      <a:pt x="364" y="921"/>
                    </a:lnTo>
                    <a:lnTo>
                      <a:pt x="363" y="921"/>
                    </a:lnTo>
                    <a:lnTo>
                      <a:pt x="361" y="922"/>
                    </a:lnTo>
                    <a:lnTo>
                      <a:pt x="360" y="923"/>
                    </a:lnTo>
                    <a:lnTo>
                      <a:pt x="360" y="924"/>
                    </a:lnTo>
                    <a:lnTo>
                      <a:pt x="354" y="924"/>
                    </a:lnTo>
                    <a:lnTo>
                      <a:pt x="353" y="923"/>
                    </a:lnTo>
                    <a:lnTo>
                      <a:pt x="352" y="922"/>
                    </a:lnTo>
                    <a:lnTo>
                      <a:pt x="351" y="921"/>
                    </a:lnTo>
                    <a:lnTo>
                      <a:pt x="349" y="921"/>
                    </a:lnTo>
                    <a:lnTo>
                      <a:pt x="347" y="921"/>
                    </a:lnTo>
                    <a:lnTo>
                      <a:pt x="346" y="922"/>
                    </a:lnTo>
                    <a:lnTo>
                      <a:pt x="345" y="923"/>
                    </a:lnTo>
                    <a:lnTo>
                      <a:pt x="345" y="924"/>
                    </a:lnTo>
                    <a:lnTo>
                      <a:pt x="214" y="924"/>
                    </a:lnTo>
                    <a:lnTo>
                      <a:pt x="214" y="330"/>
                    </a:lnTo>
                    <a:lnTo>
                      <a:pt x="199" y="330"/>
                    </a:lnTo>
                    <a:lnTo>
                      <a:pt x="199" y="329"/>
                    </a:lnTo>
                    <a:lnTo>
                      <a:pt x="198" y="328"/>
                    </a:lnTo>
                    <a:lnTo>
                      <a:pt x="196" y="327"/>
                    </a:lnTo>
                    <a:lnTo>
                      <a:pt x="195" y="326"/>
                    </a:lnTo>
                    <a:lnTo>
                      <a:pt x="193" y="327"/>
                    </a:lnTo>
                    <a:lnTo>
                      <a:pt x="192" y="328"/>
                    </a:lnTo>
                    <a:lnTo>
                      <a:pt x="191" y="329"/>
                    </a:lnTo>
                    <a:lnTo>
                      <a:pt x="190" y="330"/>
                    </a:lnTo>
                    <a:lnTo>
                      <a:pt x="94" y="330"/>
                    </a:lnTo>
                    <a:lnTo>
                      <a:pt x="93" y="329"/>
                    </a:lnTo>
                    <a:lnTo>
                      <a:pt x="92" y="328"/>
                    </a:lnTo>
                    <a:lnTo>
                      <a:pt x="91" y="327"/>
                    </a:lnTo>
                    <a:lnTo>
                      <a:pt x="89" y="326"/>
                    </a:lnTo>
                    <a:lnTo>
                      <a:pt x="88" y="327"/>
                    </a:lnTo>
                    <a:lnTo>
                      <a:pt x="86" y="328"/>
                    </a:lnTo>
                    <a:lnTo>
                      <a:pt x="85" y="329"/>
                    </a:lnTo>
                    <a:lnTo>
                      <a:pt x="85" y="330"/>
                    </a:lnTo>
                    <a:lnTo>
                      <a:pt x="38" y="330"/>
                    </a:lnTo>
                    <a:lnTo>
                      <a:pt x="38" y="329"/>
                    </a:lnTo>
                    <a:lnTo>
                      <a:pt x="37" y="328"/>
                    </a:lnTo>
                    <a:lnTo>
                      <a:pt x="35" y="327"/>
                    </a:lnTo>
                    <a:lnTo>
                      <a:pt x="33" y="326"/>
                    </a:lnTo>
                    <a:lnTo>
                      <a:pt x="32" y="327"/>
                    </a:lnTo>
                    <a:lnTo>
                      <a:pt x="30" y="328"/>
                    </a:lnTo>
                    <a:lnTo>
                      <a:pt x="29" y="329"/>
                    </a:lnTo>
                    <a:lnTo>
                      <a:pt x="29" y="330"/>
                    </a:lnTo>
                    <a:lnTo>
                      <a:pt x="0" y="330"/>
                    </a:lnTo>
                    <a:lnTo>
                      <a:pt x="0" y="48"/>
                    </a:lnTo>
                    <a:lnTo>
                      <a:pt x="36" y="48"/>
                    </a:lnTo>
                    <a:lnTo>
                      <a:pt x="36" y="47"/>
                    </a:lnTo>
                    <a:lnTo>
                      <a:pt x="37" y="46"/>
                    </a:lnTo>
                    <a:lnTo>
                      <a:pt x="39" y="45"/>
                    </a:lnTo>
                    <a:lnTo>
                      <a:pt x="40" y="45"/>
                    </a:lnTo>
                    <a:lnTo>
                      <a:pt x="42" y="45"/>
                    </a:lnTo>
                    <a:lnTo>
                      <a:pt x="43" y="46"/>
                    </a:lnTo>
                    <a:lnTo>
                      <a:pt x="44" y="47"/>
                    </a:lnTo>
                    <a:lnTo>
                      <a:pt x="45" y="48"/>
                    </a:lnTo>
                    <a:lnTo>
                      <a:pt x="108" y="48"/>
                    </a:lnTo>
                    <a:lnTo>
                      <a:pt x="1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7234920" y="4210560"/>
                <a:ext cx="13680" cy="11880"/>
              </a:xfrm>
              <a:custGeom>
                <a:avLst/>
                <a:gdLst/>
                <a:ahLst/>
                <a:rect l="l" t="t" r="r" b="b"/>
                <a:pathLst>
                  <a:path w="13" h="9">
                    <a:moveTo>
                      <a:pt x="2" y="0"/>
                    </a:moveTo>
                    <a:lnTo>
                      <a:pt x="13"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93" name=""/>
              <p:cNvSpPr/>
              <p:nvPr/>
            </p:nvSpPr>
            <p:spPr>
              <a:xfrm>
                <a:off x="6742440" y="29700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94" name=""/>
              <p:cNvSpPr/>
              <p:nvPr/>
            </p:nvSpPr>
            <p:spPr>
              <a:xfrm>
                <a:off x="5426640" y="2344680"/>
                <a:ext cx="2122200" cy="1776600"/>
              </a:xfrm>
              <a:custGeom>
                <a:avLst/>
                <a:gdLst/>
                <a:ahLst/>
                <a:rect l="l" t="t" r="r" b="b"/>
                <a:pathLst>
                  <a:path w="2005" h="1330">
                    <a:moveTo>
                      <a:pt x="0" y="6"/>
                    </a:moveTo>
                    <a:lnTo>
                      <a:pt x="4" y="6"/>
                    </a:lnTo>
                    <a:lnTo>
                      <a:pt x="4" y="4"/>
                    </a:lnTo>
                    <a:lnTo>
                      <a:pt x="5" y="3"/>
                    </a:lnTo>
                    <a:lnTo>
                      <a:pt x="6" y="2"/>
                    </a:lnTo>
                    <a:lnTo>
                      <a:pt x="8" y="2"/>
                    </a:lnTo>
                    <a:lnTo>
                      <a:pt x="10" y="2"/>
                    </a:lnTo>
                    <a:lnTo>
                      <a:pt x="11" y="3"/>
                    </a:lnTo>
                    <a:lnTo>
                      <a:pt x="12" y="4"/>
                    </a:lnTo>
                    <a:lnTo>
                      <a:pt x="13" y="6"/>
                    </a:lnTo>
                    <a:lnTo>
                      <a:pt x="70" y="6"/>
                    </a:lnTo>
                    <a:lnTo>
                      <a:pt x="70" y="4"/>
                    </a:lnTo>
                    <a:lnTo>
                      <a:pt x="71" y="3"/>
                    </a:lnTo>
                    <a:lnTo>
                      <a:pt x="73" y="2"/>
                    </a:lnTo>
                    <a:lnTo>
                      <a:pt x="74" y="2"/>
                    </a:lnTo>
                    <a:lnTo>
                      <a:pt x="76" y="2"/>
                    </a:lnTo>
                    <a:lnTo>
                      <a:pt x="78" y="3"/>
                    </a:lnTo>
                    <a:lnTo>
                      <a:pt x="78" y="4"/>
                    </a:lnTo>
                    <a:lnTo>
                      <a:pt x="79" y="6"/>
                    </a:lnTo>
                    <a:lnTo>
                      <a:pt x="169" y="6"/>
                    </a:lnTo>
                    <a:lnTo>
                      <a:pt x="169" y="4"/>
                    </a:lnTo>
                    <a:lnTo>
                      <a:pt x="170" y="3"/>
                    </a:lnTo>
                    <a:lnTo>
                      <a:pt x="171" y="2"/>
                    </a:lnTo>
                    <a:lnTo>
                      <a:pt x="173" y="2"/>
                    </a:lnTo>
                    <a:lnTo>
                      <a:pt x="175" y="2"/>
                    </a:lnTo>
                    <a:lnTo>
                      <a:pt x="176" y="3"/>
                    </a:lnTo>
                    <a:lnTo>
                      <a:pt x="177" y="4"/>
                    </a:lnTo>
                    <a:lnTo>
                      <a:pt x="178" y="6"/>
                    </a:lnTo>
                    <a:lnTo>
                      <a:pt x="246" y="6"/>
                    </a:lnTo>
                    <a:lnTo>
                      <a:pt x="246" y="4"/>
                    </a:lnTo>
                    <a:lnTo>
                      <a:pt x="247" y="3"/>
                    </a:lnTo>
                    <a:lnTo>
                      <a:pt x="248" y="2"/>
                    </a:lnTo>
                    <a:lnTo>
                      <a:pt x="250" y="2"/>
                    </a:lnTo>
                    <a:lnTo>
                      <a:pt x="252" y="2"/>
                    </a:lnTo>
                    <a:lnTo>
                      <a:pt x="253" y="3"/>
                    </a:lnTo>
                    <a:lnTo>
                      <a:pt x="254" y="4"/>
                    </a:lnTo>
                    <a:lnTo>
                      <a:pt x="254" y="6"/>
                    </a:lnTo>
                    <a:lnTo>
                      <a:pt x="335" y="6"/>
                    </a:lnTo>
                    <a:lnTo>
                      <a:pt x="336" y="4"/>
                    </a:lnTo>
                    <a:lnTo>
                      <a:pt x="337" y="3"/>
                    </a:lnTo>
                    <a:lnTo>
                      <a:pt x="338" y="2"/>
                    </a:lnTo>
                    <a:lnTo>
                      <a:pt x="340" y="2"/>
                    </a:lnTo>
                    <a:lnTo>
                      <a:pt x="342" y="2"/>
                    </a:lnTo>
                    <a:lnTo>
                      <a:pt x="343" y="3"/>
                    </a:lnTo>
                    <a:lnTo>
                      <a:pt x="344" y="4"/>
                    </a:lnTo>
                    <a:lnTo>
                      <a:pt x="344" y="6"/>
                    </a:lnTo>
                    <a:lnTo>
                      <a:pt x="360" y="6"/>
                    </a:lnTo>
                    <a:lnTo>
                      <a:pt x="360" y="4"/>
                    </a:lnTo>
                    <a:lnTo>
                      <a:pt x="361" y="3"/>
                    </a:lnTo>
                    <a:lnTo>
                      <a:pt x="363" y="2"/>
                    </a:lnTo>
                    <a:lnTo>
                      <a:pt x="364" y="2"/>
                    </a:lnTo>
                    <a:lnTo>
                      <a:pt x="366" y="2"/>
                    </a:lnTo>
                    <a:lnTo>
                      <a:pt x="368" y="3"/>
                    </a:lnTo>
                    <a:lnTo>
                      <a:pt x="368" y="4"/>
                    </a:lnTo>
                    <a:lnTo>
                      <a:pt x="369" y="6"/>
                    </a:lnTo>
                    <a:lnTo>
                      <a:pt x="421" y="6"/>
                    </a:lnTo>
                    <a:lnTo>
                      <a:pt x="421" y="4"/>
                    </a:lnTo>
                    <a:lnTo>
                      <a:pt x="422" y="3"/>
                    </a:lnTo>
                    <a:lnTo>
                      <a:pt x="424" y="2"/>
                    </a:lnTo>
                    <a:lnTo>
                      <a:pt x="425" y="2"/>
                    </a:lnTo>
                    <a:lnTo>
                      <a:pt x="427" y="2"/>
                    </a:lnTo>
                    <a:lnTo>
                      <a:pt x="429" y="3"/>
                    </a:lnTo>
                    <a:lnTo>
                      <a:pt x="430" y="4"/>
                    </a:lnTo>
                    <a:lnTo>
                      <a:pt x="430" y="6"/>
                    </a:lnTo>
                    <a:lnTo>
                      <a:pt x="447" y="6"/>
                    </a:lnTo>
                    <a:lnTo>
                      <a:pt x="448" y="4"/>
                    </a:lnTo>
                    <a:lnTo>
                      <a:pt x="449" y="3"/>
                    </a:lnTo>
                    <a:lnTo>
                      <a:pt x="450" y="2"/>
                    </a:lnTo>
                    <a:lnTo>
                      <a:pt x="452" y="2"/>
                    </a:lnTo>
                    <a:lnTo>
                      <a:pt x="453" y="2"/>
                    </a:lnTo>
                    <a:lnTo>
                      <a:pt x="455" y="3"/>
                    </a:lnTo>
                    <a:lnTo>
                      <a:pt x="456" y="4"/>
                    </a:lnTo>
                    <a:lnTo>
                      <a:pt x="456" y="6"/>
                    </a:lnTo>
                    <a:lnTo>
                      <a:pt x="481" y="6"/>
                    </a:lnTo>
                    <a:lnTo>
                      <a:pt x="482" y="4"/>
                    </a:lnTo>
                    <a:lnTo>
                      <a:pt x="483" y="3"/>
                    </a:lnTo>
                    <a:lnTo>
                      <a:pt x="484" y="2"/>
                    </a:lnTo>
                    <a:lnTo>
                      <a:pt x="486" y="2"/>
                    </a:lnTo>
                    <a:lnTo>
                      <a:pt x="488" y="2"/>
                    </a:lnTo>
                    <a:lnTo>
                      <a:pt x="489" y="3"/>
                    </a:lnTo>
                    <a:lnTo>
                      <a:pt x="490" y="4"/>
                    </a:lnTo>
                    <a:lnTo>
                      <a:pt x="490" y="6"/>
                    </a:lnTo>
                    <a:lnTo>
                      <a:pt x="515" y="6"/>
                    </a:lnTo>
                    <a:lnTo>
                      <a:pt x="515" y="4"/>
                    </a:lnTo>
                    <a:lnTo>
                      <a:pt x="516" y="3"/>
                    </a:lnTo>
                    <a:lnTo>
                      <a:pt x="518" y="2"/>
                    </a:lnTo>
                    <a:lnTo>
                      <a:pt x="519" y="2"/>
                    </a:lnTo>
                    <a:lnTo>
                      <a:pt x="521" y="2"/>
                    </a:lnTo>
                    <a:lnTo>
                      <a:pt x="522" y="3"/>
                    </a:lnTo>
                    <a:lnTo>
                      <a:pt x="523" y="4"/>
                    </a:lnTo>
                    <a:lnTo>
                      <a:pt x="524" y="6"/>
                    </a:lnTo>
                    <a:lnTo>
                      <a:pt x="542" y="6"/>
                    </a:lnTo>
                    <a:lnTo>
                      <a:pt x="542" y="4"/>
                    </a:lnTo>
                    <a:lnTo>
                      <a:pt x="543" y="3"/>
                    </a:lnTo>
                    <a:lnTo>
                      <a:pt x="545" y="2"/>
                    </a:lnTo>
                    <a:lnTo>
                      <a:pt x="546" y="2"/>
                    </a:lnTo>
                    <a:lnTo>
                      <a:pt x="548" y="2"/>
                    </a:lnTo>
                    <a:lnTo>
                      <a:pt x="549" y="3"/>
                    </a:lnTo>
                    <a:lnTo>
                      <a:pt x="550" y="4"/>
                    </a:lnTo>
                    <a:lnTo>
                      <a:pt x="551" y="6"/>
                    </a:lnTo>
                    <a:lnTo>
                      <a:pt x="585" y="6"/>
                    </a:lnTo>
                    <a:lnTo>
                      <a:pt x="585" y="4"/>
                    </a:lnTo>
                    <a:lnTo>
                      <a:pt x="586" y="3"/>
                    </a:lnTo>
                    <a:lnTo>
                      <a:pt x="588" y="2"/>
                    </a:lnTo>
                    <a:lnTo>
                      <a:pt x="589" y="2"/>
                    </a:lnTo>
                    <a:lnTo>
                      <a:pt x="591" y="2"/>
                    </a:lnTo>
                    <a:lnTo>
                      <a:pt x="593" y="3"/>
                    </a:lnTo>
                    <a:lnTo>
                      <a:pt x="594" y="4"/>
                    </a:lnTo>
                    <a:lnTo>
                      <a:pt x="594" y="6"/>
                    </a:lnTo>
                    <a:lnTo>
                      <a:pt x="609" y="6"/>
                    </a:lnTo>
                    <a:lnTo>
                      <a:pt x="610" y="4"/>
                    </a:lnTo>
                    <a:lnTo>
                      <a:pt x="611" y="3"/>
                    </a:lnTo>
                    <a:lnTo>
                      <a:pt x="612" y="2"/>
                    </a:lnTo>
                    <a:lnTo>
                      <a:pt x="614" y="2"/>
                    </a:lnTo>
                    <a:lnTo>
                      <a:pt x="616" y="2"/>
                    </a:lnTo>
                    <a:lnTo>
                      <a:pt x="617" y="3"/>
                    </a:lnTo>
                    <a:lnTo>
                      <a:pt x="618" y="4"/>
                    </a:lnTo>
                    <a:lnTo>
                      <a:pt x="618" y="6"/>
                    </a:lnTo>
                    <a:lnTo>
                      <a:pt x="637" y="6"/>
                    </a:lnTo>
                    <a:lnTo>
                      <a:pt x="637" y="4"/>
                    </a:lnTo>
                    <a:lnTo>
                      <a:pt x="638" y="3"/>
                    </a:lnTo>
                    <a:lnTo>
                      <a:pt x="640" y="2"/>
                    </a:lnTo>
                    <a:lnTo>
                      <a:pt x="641" y="2"/>
                    </a:lnTo>
                    <a:lnTo>
                      <a:pt x="643" y="2"/>
                    </a:lnTo>
                    <a:lnTo>
                      <a:pt x="644" y="3"/>
                    </a:lnTo>
                    <a:lnTo>
                      <a:pt x="645" y="4"/>
                    </a:lnTo>
                    <a:lnTo>
                      <a:pt x="646" y="6"/>
                    </a:lnTo>
                    <a:lnTo>
                      <a:pt x="663" y="6"/>
                    </a:lnTo>
                    <a:lnTo>
                      <a:pt x="663" y="4"/>
                    </a:lnTo>
                    <a:lnTo>
                      <a:pt x="664" y="3"/>
                    </a:lnTo>
                    <a:lnTo>
                      <a:pt x="665" y="2"/>
                    </a:lnTo>
                    <a:lnTo>
                      <a:pt x="667" y="2"/>
                    </a:lnTo>
                    <a:lnTo>
                      <a:pt x="669" y="2"/>
                    </a:lnTo>
                    <a:lnTo>
                      <a:pt x="670" y="3"/>
                    </a:lnTo>
                    <a:lnTo>
                      <a:pt x="671" y="4"/>
                    </a:lnTo>
                    <a:lnTo>
                      <a:pt x="671" y="6"/>
                    </a:lnTo>
                    <a:lnTo>
                      <a:pt x="711" y="6"/>
                    </a:lnTo>
                    <a:lnTo>
                      <a:pt x="711" y="4"/>
                    </a:lnTo>
                    <a:lnTo>
                      <a:pt x="712" y="2"/>
                    </a:lnTo>
                    <a:lnTo>
                      <a:pt x="713" y="1"/>
                    </a:lnTo>
                    <a:lnTo>
                      <a:pt x="715" y="0"/>
                    </a:lnTo>
                    <a:lnTo>
                      <a:pt x="717" y="0"/>
                    </a:lnTo>
                    <a:lnTo>
                      <a:pt x="719" y="0"/>
                    </a:lnTo>
                    <a:lnTo>
                      <a:pt x="722" y="0"/>
                    </a:lnTo>
                    <a:lnTo>
                      <a:pt x="724" y="1"/>
                    </a:lnTo>
                    <a:lnTo>
                      <a:pt x="725" y="2"/>
                    </a:lnTo>
                    <a:lnTo>
                      <a:pt x="726" y="4"/>
                    </a:lnTo>
                    <a:lnTo>
                      <a:pt x="726" y="6"/>
                    </a:lnTo>
                    <a:lnTo>
                      <a:pt x="731" y="6"/>
                    </a:lnTo>
                    <a:lnTo>
                      <a:pt x="731" y="4"/>
                    </a:lnTo>
                    <a:lnTo>
                      <a:pt x="732" y="2"/>
                    </a:lnTo>
                    <a:lnTo>
                      <a:pt x="734" y="1"/>
                    </a:lnTo>
                    <a:lnTo>
                      <a:pt x="736" y="0"/>
                    </a:lnTo>
                    <a:lnTo>
                      <a:pt x="738" y="0"/>
                    </a:lnTo>
                    <a:lnTo>
                      <a:pt x="740" y="0"/>
                    </a:lnTo>
                    <a:lnTo>
                      <a:pt x="742" y="0"/>
                    </a:lnTo>
                    <a:lnTo>
                      <a:pt x="744" y="1"/>
                    </a:lnTo>
                    <a:lnTo>
                      <a:pt x="745" y="2"/>
                    </a:lnTo>
                    <a:lnTo>
                      <a:pt x="746" y="4"/>
                    </a:lnTo>
                    <a:lnTo>
                      <a:pt x="747" y="6"/>
                    </a:lnTo>
                    <a:lnTo>
                      <a:pt x="754" y="6"/>
                    </a:lnTo>
                    <a:lnTo>
                      <a:pt x="755" y="4"/>
                    </a:lnTo>
                    <a:lnTo>
                      <a:pt x="756" y="3"/>
                    </a:lnTo>
                    <a:lnTo>
                      <a:pt x="757" y="2"/>
                    </a:lnTo>
                    <a:lnTo>
                      <a:pt x="759" y="2"/>
                    </a:lnTo>
                    <a:lnTo>
                      <a:pt x="761" y="2"/>
                    </a:lnTo>
                    <a:lnTo>
                      <a:pt x="762" y="3"/>
                    </a:lnTo>
                    <a:lnTo>
                      <a:pt x="763" y="4"/>
                    </a:lnTo>
                    <a:lnTo>
                      <a:pt x="763" y="6"/>
                    </a:lnTo>
                    <a:lnTo>
                      <a:pt x="788" y="6"/>
                    </a:lnTo>
                    <a:lnTo>
                      <a:pt x="788" y="4"/>
                    </a:lnTo>
                    <a:lnTo>
                      <a:pt x="789" y="3"/>
                    </a:lnTo>
                    <a:lnTo>
                      <a:pt x="791" y="2"/>
                    </a:lnTo>
                    <a:lnTo>
                      <a:pt x="792" y="2"/>
                    </a:lnTo>
                    <a:lnTo>
                      <a:pt x="794" y="2"/>
                    </a:lnTo>
                    <a:lnTo>
                      <a:pt x="796" y="3"/>
                    </a:lnTo>
                    <a:lnTo>
                      <a:pt x="796" y="4"/>
                    </a:lnTo>
                    <a:lnTo>
                      <a:pt x="797" y="6"/>
                    </a:lnTo>
                    <a:lnTo>
                      <a:pt x="825" y="6"/>
                    </a:lnTo>
                    <a:lnTo>
                      <a:pt x="826" y="4"/>
                    </a:lnTo>
                    <a:lnTo>
                      <a:pt x="827" y="3"/>
                    </a:lnTo>
                    <a:lnTo>
                      <a:pt x="828" y="2"/>
                    </a:lnTo>
                    <a:lnTo>
                      <a:pt x="830" y="2"/>
                    </a:lnTo>
                    <a:lnTo>
                      <a:pt x="832" y="2"/>
                    </a:lnTo>
                    <a:lnTo>
                      <a:pt x="833" y="3"/>
                    </a:lnTo>
                    <a:lnTo>
                      <a:pt x="834" y="4"/>
                    </a:lnTo>
                    <a:lnTo>
                      <a:pt x="834" y="6"/>
                    </a:lnTo>
                    <a:lnTo>
                      <a:pt x="868" y="6"/>
                    </a:lnTo>
                    <a:lnTo>
                      <a:pt x="868" y="4"/>
                    </a:lnTo>
                    <a:lnTo>
                      <a:pt x="869" y="3"/>
                    </a:lnTo>
                    <a:lnTo>
                      <a:pt x="870" y="2"/>
                    </a:lnTo>
                    <a:lnTo>
                      <a:pt x="872" y="2"/>
                    </a:lnTo>
                    <a:lnTo>
                      <a:pt x="874" y="2"/>
                    </a:lnTo>
                    <a:lnTo>
                      <a:pt x="875" y="3"/>
                    </a:lnTo>
                    <a:lnTo>
                      <a:pt x="876" y="4"/>
                    </a:lnTo>
                    <a:lnTo>
                      <a:pt x="877" y="6"/>
                    </a:lnTo>
                    <a:lnTo>
                      <a:pt x="1010" y="6"/>
                    </a:lnTo>
                    <a:lnTo>
                      <a:pt x="1011" y="4"/>
                    </a:lnTo>
                    <a:lnTo>
                      <a:pt x="1012" y="3"/>
                    </a:lnTo>
                    <a:lnTo>
                      <a:pt x="1013" y="2"/>
                    </a:lnTo>
                    <a:lnTo>
                      <a:pt x="1015" y="2"/>
                    </a:lnTo>
                    <a:lnTo>
                      <a:pt x="1017" y="2"/>
                    </a:lnTo>
                    <a:lnTo>
                      <a:pt x="1018" y="3"/>
                    </a:lnTo>
                    <a:lnTo>
                      <a:pt x="1019" y="4"/>
                    </a:lnTo>
                    <a:lnTo>
                      <a:pt x="1019" y="6"/>
                    </a:lnTo>
                    <a:lnTo>
                      <a:pt x="1110" y="6"/>
                    </a:lnTo>
                    <a:lnTo>
                      <a:pt x="1111" y="4"/>
                    </a:lnTo>
                    <a:lnTo>
                      <a:pt x="1111" y="3"/>
                    </a:lnTo>
                    <a:lnTo>
                      <a:pt x="1113" y="2"/>
                    </a:lnTo>
                    <a:lnTo>
                      <a:pt x="1115" y="2"/>
                    </a:lnTo>
                    <a:lnTo>
                      <a:pt x="1116" y="2"/>
                    </a:lnTo>
                    <a:lnTo>
                      <a:pt x="1118" y="3"/>
                    </a:lnTo>
                    <a:lnTo>
                      <a:pt x="1119" y="4"/>
                    </a:lnTo>
                    <a:lnTo>
                      <a:pt x="1119" y="6"/>
                    </a:lnTo>
                    <a:lnTo>
                      <a:pt x="1134" y="6"/>
                    </a:lnTo>
                    <a:lnTo>
                      <a:pt x="1135" y="4"/>
                    </a:lnTo>
                    <a:lnTo>
                      <a:pt x="1136" y="3"/>
                    </a:lnTo>
                    <a:lnTo>
                      <a:pt x="1137" y="2"/>
                    </a:lnTo>
                    <a:lnTo>
                      <a:pt x="1139" y="2"/>
                    </a:lnTo>
                    <a:lnTo>
                      <a:pt x="1141" y="2"/>
                    </a:lnTo>
                    <a:lnTo>
                      <a:pt x="1142" y="3"/>
                    </a:lnTo>
                    <a:lnTo>
                      <a:pt x="1143" y="4"/>
                    </a:lnTo>
                    <a:lnTo>
                      <a:pt x="1143" y="6"/>
                    </a:lnTo>
                    <a:lnTo>
                      <a:pt x="1155" y="6"/>
                    </a:lnTo>
                    <a:lnTo>
                      <a:pt x="1155" y="4"/>
                    </a:lnTo>
                    <a:lnTo>
                      <a:pt x="1156" y="3"/>
                    </a:lnTo>
                    <a:lnTo>
                      <a:pt x="1158" y="2"/>
                    </a:lnTo>
                    <a:lnTo>
                      <a:pt x="1159" y="2"/>
                    </a:lnTo>
                    <a:lnTo>
                      <a:pt x="1161" y="2"/>
                    </a:lnTo>
                    <a:lnTo>
                      <a:pt x="1162" y="3"/>
                    </a:lnTo>
                    <a:lnTo>
                      <a:pt x="1163" y="4"/>
                    </a:lnTo>
                    <a:lnTo>
                      <a:pt x="1164" y="6"/>
                    </a:lnTo>
                    <a:lnTo>
                      <a:pt x="1176" y="6"/>
                    </a:lnTo>
                    <a:lnTo>
                      <a:pt x="1177" y="4"/>
                    </a:lnTo>
                    <a:lnTo>
                      <a:pt x="1178" y="3"/>
                    </a:lnTo>
                    <a:lnTo>
                      <a:pt x="1179" y="2"/>
                    </a:lnTo>
                    <a:lnTo>
                      <a:pt x="1181" y="2"/>
                    </a:lnTo>
                    <a:lnTo>
                      <a:pt x="1183" y="2"/>
                    </a:lnTo>
                    <a:lnTo>
                      <a:pt x="1184" y="3"/>
                    </a:lnTo>
                    <a:lnTo>
                      <a:pt x="1185" y="4"/>
                    </a:lnTo>
                    <a:lnTo>
                      <a:pt x="1185" y="6"/>
                    </a:lnTo>
                    <a:lnTo>
                      <a:pt x="1241" y="6"/>
                    </a:lnTo>
                    <a:lnTo>
                      <a:pt x="1241" y="4"/>
                    </a:lnTo>
                    <a:lnTo>
                      <a:pt x="1242" y="3"/>
                    </a:lnTo>
                    <a:lnTo>
                      <a:pt x="1244" y="2"/>
                    </a:lnTo>
                    <a:lnTo>
                      <a:pt x="1245" y="2"/>
                    </a:lnTo>
                    <a:lnTo>
                      <a:pt x="1247" y="2"/>
                    </a:lnTo>
                    <a:lnTo>
                      <a:pt x="1248" y="3"/>
                    </a:lnTo>
                    <a:lnTo>
                      <a:pt x="1250" y="4"/>
                    </a:lnTo>
                    <a:lnTo>
                      <a:pt x="1250" y="6"/>
                    </a:lnTo>
                    <a:lnTo>
                      <a:pt x="1271" y="6"/>
                    </a:lnTo>
                    <a:lnTo>
                      <a:pt x="1272" y="4"/>
                    </a:lnTo>
                    <a:lnTo>
                      <a:pt x="1273" y="3"/>
                    </a:lnTo>
                    <a:lnTo>
                      <a:pt x="1274" y="2"/>
                    </a:lnTo>
                    <a:lnTo>
                      <a:pt x="1276" y="2"/>
                    </a:lnTo>
                    <a:lnTo>
                      <a:pt x="1277" y="2"/>
                    </a:lnTo>
                    <a:lnTo>
                      <a:pt x="1279" y="3"/>
                    </a:lnTo>
                    <a:lnTo>
                      <a:pt x="1280" y="4"/>
                    </a:lnTo>
                    <a:lnTo>
                      <a:pt x="1280" y="6"/>
                    </a:lnTo>
                    <a:lnTo>
                      <a:pt x="1294" y="6"/>
                    </a:lnTo>
                    <a:lnTo>
                      <a:pt x="1294" y="4"/>
                    </a:lnTo>
                    <a:lnTo>
                      <a:pt x="1295" y="3"/>
                    </a:lnTo>
                    <a:lnTo>
                      <a:pt x="1297" y="2"/>
                    </a:lnTo>
                    <a:lnTo>
                      <a:pt x="1298" y="2"/>
                    </a:lnTo>
                    <a:lnTo>
                      <a:pt x="1300" y="2"/>
                    </a:lnTo>
                    <a:lnTo>
                      <a:pt x="1301" y="3"/>
                    </a:lnTo>
                    <a:lnTo>
                      <a:pt x="1302" y="4"/>
                    </a:lnTo>
                    <a:lnTo>
                      <a:pt x="1303" y="6"/>
                    </a:lnTo>
                    <a:lnTo>
                      <a:pt x="1583" y="6"/>
                    </a:lnTo>
                    <a:lnTo>
                      <a:pt x="1584" y="4"/>
                    </a:lnTo>
                    <a:lnTo>
                      <a:pt x="1584" y="3"/>
                    </a:lnTo>
                    <a:lnTo>
                      <a:pt x="1586" y="2"/>
                    </a:lnTo>
                    <a:lnTo>
                      <a:pt x="1588" y="2"/>
                    </a:lnTo>
                    <a:lnTo>
                      <a:pt x="1589" y="2"/>
                    </a:lnTo>
                    <a:lnTo>
                      <a:pt x="1591" y="3"/>
                    </a:lnTo>
                    <a:lnTo>
                      <a:pt x="1592" y="4"/>
                    </a:lnTo>
                    <a:lnTo>
                      <a:pt x="1592" y="6"/>
                    </a:lnTo>
                    <a:lnTo>
                      <a:pt x="1607" y="6"/>
                    </a:lnTo>
                    <a:lnTo>
                      <a:pt x="1608" y="4"/>
                    </a:lnTo>
                    <a:lnTo>
                      <a:pt x="1609" y="3"/>
                    </a:lnTo>
                    <a:lnTo>
                      <a:pt x="1610" y="2"/>
                    </a:lnTo>
                    <a:lnTo>
                      <a:pt x="1612" y="2"/>
                    </a:lnTo>
                    <a:lnTo>
                      <a:pt x="1614" y="2"/>
                    </a:lnTo>
                    <a:lnTo>
                      <a:pt x="1615" y="3"/>
                    </a:lnTo>
                    <a:lnTo>
                      <a:pt x="1616" y="4"/>
                    </a:lnTo>
                    <a:lnTo>
                      <a:pt x="1616" y="6"/>
                    </a:lnTo>
                    <a:lnTo>
                      <a:pt x="1635" y="6"/>
                    </a:lnTo>
                    <a:lnTo>
                      <a:pt x="1635" y="4"/>
                    </a:lnTo>
                    <a:lnTo>
                      <a:pt x="1636" y="3"/>
                    </a:lnTo>
                    <a:lnTo>
                      <a:pt x="1638" y="2"/>
                    </a:lnTo>
                    <a:lnTo>
                      <a:pt x="1640" y="2"/>
                    </a:lnTo>
                    <a:lnTo>
                      <a:pt x="1641" y="2"/>
                    </a:lnTo>
                    <a:lnTo>
                      <a:pt x="1643" y="3"/>
                    </a:lnTo>
                    <a:lnTo>
                      <a:pt x="1644" y="4"/>
                    </a:lnTo>
                    <a:lnTo>
                      <a:pt x="1644" y="6"/>
                    </a:lnTo>
                    <a:lnTo>
                      <a:pt x="1661" y="6"/>
                    </a:lnTo>
                    <a:lnTo>
                      <a:pt x="1661" y="4"/>
                    </a:lnTo>
                    <a:lnTo>
                      <a:pt x="1662" y="3"/>
                    </a:lnTo>
                    <a:lnTo>
                      <a:pt x="1664" y="2"/>
                    </a:lnTo>
                    <a:lnTo>
                      <a:pt x="1665" y="2"/>
                    </a:lnTo>
                    <a:lnTo>
                      <a:pt x="1667" y="2"/>
                    </a:lnTo>
                    <a:lnTo>
                      <a:pt x="1669" y="3"/>
                    </a:lnTo>
                    <a:lnTo>
                      <a:pt x="1669" y="4"/>
                    </a:lnTo>
                    <a:lnTo>
                      <a:pt x="1670" y="6"/>
                    </a:lnTo>
                    <a:lnTo>
                      <a:pt x="1683" y="6"/>
                    </a:lnTo>
                    <a:lnTo>
                      <a:pt x="1683" y="4"/>
                    </a:lnTo>
                    <a:lnTo>
                      <a:pt x="1684" y="3"/>
                    </a:lnTo>
                    <a:lnTo>
                      <a:pt x="1686" y="2"/>
                    </a:lnTo>
                    <a:lnTo>
                      <a:pt x="1687" y="2"/>
                    </a:lnTo>
                    <a:lnTo>
                      <a:pt x="1689" y="2"/>
                    </a:lnTo>
                    <a:lnTo>
                      <a:pt x="1691" y="3"/>
                    </a:lnTo>
                    <a:lnTo>
                      <a:pt x="1691" y="4"/>
                    </a:lnTo>
                    <a:lnTo>
                      <a:pt x="1692" y="6"/>
                    </a:lnTo>
                    <a:lnTo>
                      <a:pt x="1703" y="6"/>
                    </a:lnTo>
                    <a:lnTo>
                      <a:pt x="1704" y="4"/>
                    </a:lnTo>
                    <a:lnTo>
                      <a:pt x="1705" y="3"/>
                    </a:lnTo>
                    <a:lnTo>
                      <a:pt x="1706" y="2"/>
                    </a:lnTo>
                    <a:lnTo>
                      <a:pt x="1708" y="2"/>
                    </a:lnTo>
                    <a:lnTo>
                      <a:pt x="1710" y="2"/>
                    </a:lnTo>
                    <a:lnTo>
                      <a:pt x="1711" y="3"/>
                    </a:lnTo>
                    <a:lnTo>
                      <a:pt x="1712" y="4"/>
                    </a:lnTo>
                    <a:lnTo>
                      <a:pt x="1712" y="6"/>
                    </a:lnTo>
                    <a:lnTo>
                      <a:pt x="1730" y="6"/>
                    </a:lnTo>
                    <a:lnTo>
                      <a:pt x="1731" y="4"/>
                    </a:lnTo>
                    <a:lnTo>
                      <a:pt x="1732" y="3"/>
                    </a:lnTo>
                    <a:lnTo>
                      <a:pt x="1733" y="2"/>
                    </a:lnTo>
                    <a:lnTo>
                      <a:pt x="1735" y="2"/>
                    </a:lnTo>
                    <a:lnTo>
                      <a:pt x="1737" y="2"/>
                    </a:lnTo>
                    <a:lnTo>
                      <a:pt x="1738" y="3"/>
                    </a:lnTo>
                    <a:lnTo>
                      <a:pt x="1739" y="4"/>
                    </a:lnTo>
                    <a:lnTo>
                      <a:pt x="1740" y="6"/>
                    </a:lnTo>
                    <a:lnTo>
                      <a:pt x="1771" y="6"/>
                    </a:lnTo>
                    <a:lnTo>
                      <a:pt x="1772" y="4"/>
                    </a:lnTo>
                    <a:lnTo>
                      <a:pt x="1772" y="3"/>
                    </a:lnTo>
                    <a:lnTo>
                      <a:pt x="1774" y="2"/>
                    </a:lnTo>
                    <a:lnTo>
                      <a:pt x="1776" y="2"/>
                    </a:lnTo>
                    <a:lnTo>
                      <a:pt x="1777" y="2"/>
                    </a:lnTo>
                    <a:lnTo>
                      <a:pt x="1779" y="3"/>
                    </a:lnTo>
                    <a:lnTo>
                      <a:pt x="1780" y="4"/>
                    </a:lnTo>
                    <a:lnTo>
                      <a:pt x="1780" y="6"/>
                    </a:lnTo>
                    <a:lnTo>
                      <a:pt x="1805" y="6"/>
                    </a:lnTo>
                    <a:lnTo>
                      <a:pt x="1805" y="4"/>
                    </a:lnTo>
                    <a:lnTo>
                      <a:pt x="1806" y="3"/>
                    </a:lnTo>
                    <a:lnTo>
                      <a:pt x="1808" y="2"/>
                    </a:lnTo>
                    <a:lnTo>
                      <a:pt x="1809" y="2"/>
                    </a:lnTo>
                    <a:lnTo>
                      <a:pt x="1811" y="2"/>
                    </a:lnTo>
                    <a:lnTo>
                      <a:pt x="1812" y="3"/>
                    </a:lnTo>
                    <a:lnTo>
                      <a:pt x="1814" y="4"/>
                    </a:lnTo>
                    <a:lnTo>
                      <a:pt x="1814" y="6"/>
                    </a:lnTo>
                    <a:lnTo>
                      <a:pt x="1836" y="6"/>
                    </a:lnTo>
                    <a:lnTo>
                      <a:pt x="1836" y="198"/>
                    </a:lnTo>
                    <a:lnTo>
                      <a:pt x="1866" y="198"/>
                    </a:lnTo>
                    <a:lnTo>
                      <a:pt x="1866" y="197"/>
                    </a:lnTo>
                    <a:lnTo>
                      <a:pt x="1867" y="196"/>
                    </a:lnTo>
                    <a:lnTo>
                      <a:pt x="1868" y="195"/>
                    </a:lnTo>
                    <a:lnTo>
                      <a:pt x="1870" y="195"/>
                    </a:lnTo>
                    <a:lnTo>
                      <a:pt x="1872" y="195"/>
                    </a:lnTo>
                    <a:lnTo>
                      <a:pt x="1873" y="196"/>
                    </a:lnTo>
                    <a:lnTo>
                      <a:pt x="1874" y="197"/>
                    </a:lnTo>
                    <a:lnTo>
                      <a:pt x="1875" y="198"/>
                    </a:lnTo>
                    <a:lnTo>
                      <a:pt x="1989" y="198"/>
                    </a:lnTo>
                    <a:lnTo>
                      <a:pt x="1989" y="197"/>
                    </a:lnTo>
                    <a:lnTo>
                      <a:pt x="1990" y="196"/>
                    </a:lnTo>
                    <a:lnTo>
                      <a:pt x="1992" y="195"/>
                    </a:lnTo>
                    <a:lnTo>
                      <a:pt x="1993" y="195"/>
                    </a:lnTo>
                    <a:lnTo>
                      <a:pt x="1995" y="195"/>
                    </a:lnTo>
                    <a:lnTo>
                      <a:pt x="1997" y="196"/>
                    </a:lnTo>
                    <a:lnTo>
                      <a:pt x="1998" y="197"/>
                    </a:lnTo>
                    <a:lnTo>
                      <a:pt x="1998" y="198"/>
                    </a:lnTo>
                    <a:lnTo>
                      <a:pt x="2005" y="198"/>
                    </a:lnTo>
                    <a:lnTo>
                      <a:pt x="2005" y="1262"/>
                    </a:lnTo>
                    <a:lnTo>
                      <a:pt x="1994" y="1262"/>
                    </a:lnTo>
                    <a:lnTo>
                      <a:pt x="1994" y="1261"/>
                    </a:lnTo>
                    <a:lnTo>
                      <a:pt x="1993" y="1259"/>
                    </a:lnTo>
                    <a:lnTo>
                      <a:pt x="1991" y="1259"/>
                    </a:lnTo>
                    <a:lnTo>
                      <a:pt x="1990" y="1258"/>
                    </a:lnTo>
                    <a:lnTo>
                      <a:pt x="1988" y="1259"/>
                    </a:lnTo>
                    <a:lnTo>
                      <a:pt x="1986" y="1259"/>
                    </a:lnTo>
                    <a:lnTo>
                      <a:pt x="1985" y="1261"/>
                    </a:lnTo>
                    <a:lnTo>
                      <a:pt x="1985" y="1262"/>
                    </a:lnTo>
                    <a:lnTo>
                      <a:pt x="1962" y="1262"/>
                    </a:lnTo>
                    <a:lnTo>
                      <a:pt x="1962" y="1261"/>
                    </a:lnTo>
                    <a:lnTo>
                      <a:pt x="1961" y="1259"/>
                    </a:lnTo>
                    <a:lnTo>
                      <a:pt x="1959" y="1259"/>
                    </a:lnTo>
                    <a:lnTo>
                      <a:pt x="1957" y="1258"/>
                    </a:lnTo>
                    <a:lnTo>
                      <a:pt x="1956" y="1259"/>
                    </a:lnTo>
                    <a:lnTo>
                      <a:pt x="1954" y="1259"/>
                    </a:lnTo>
                    <a:lnTo>
                      <a:pt x="1953" y="1261"/>
                    </a:lnTo>
                    <a:lnTo>
                      <a:pt x="1953" y="1262"/>
                    </a:lnTo>
                    <a:lnTo>
                      <a:pt x="1946" y="1262"/>
                    </a:lnTo>
                    <a:lnTo>
                      <a:pt x="1945" y="1261"/>
                    </a:lnTo>
                    <a:lnTo>
                      <a:pt x="1944" y="1259"/>
                    </a:lnTo>
                    <a:lnTo>
                      <a:pt x="1943" y="1259"/>
                    </a:lnTo>
                    <a:lnTo>
                      <a:pt x="1941" y="1258"/>
                    </a:lnTo>
                    <a:lnTo>
                      <a:pt x="1939" y="1259"/>
                    </a:lnTo>
                    <a:lnTo>
                      <a:pt x="1938" y="1259"/>
                    </a:lnTo>
                    <a:lnTo>
                      <a:pt x="1937" y="1261"/>
                    </a:lnTo>
                    <a:lnTo>
                      <a:pt x="1937" y="1262"/>
                    </a:lnTo>
                    <a:lnTo>
                      <a:pt x="1897" y="1262"/>
                    </a:lnTo>
                    <a:lnTo>
                      <a:pt x="1897" y="133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5413680" y="234576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96" name=""/>
              <p:cNvSpPr/>
              <p:nvPr/>
            </p:nvSpPr>
            <p:spPr>
              <a:xfrm>
                <a:off x="7428600" y="41202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97" name=""/>
              <p:cNvSpPr/>
              <p:nvPr/>
            </p:nvSpPr>
            <p:spPr>
              <a:xfrm>
                <a:off x="7520400" y="2340720"/>
                <a:ext cx="1049040" cy="1883160"/>
              </a:xfrm>
              <a:custGeom>
                <a:avLst/>
                <a:gdLst/>
                <a:ahLst/>
                <a:rect l="l" t="t" r="r" b="b"/>
                <a:pathLst>
                  <a:path w="991" h="1410">
                    <a:moveTo>
                      <a:pt x="0" y="1410"/>
                    </a:moveTo>
                    <a:lnTo>
                      <a:pt x="18" y="1410"/>
                    </a:lnTo>
                    <a:lnTo>
                      <a:pt x="19" y="1408"/>
                    </a:lnTo>
                    <a:lnTo>
                      <a:pt x="20" y="1407"/>
                    </a:lnTo>
                    <a:lnTo>
                      <a:pt x="21" y="1407"/>
                    </a:lnTo>
                    <a:lnTo>
                      <a:pt x="23" y="1406"/>
                    </a:lnTo>
                    <a:lnTo>
                      <a:pt x="25" y="1407"/>
                    </a:lnTo>
                    <a:lnTo>
                      <a:pt x="26" y="1407"/>
                    </a:lnTo>
                    <a:lnTo>
                      <a:pt x="27" y="1408"/>
                    </a:lnTo>
                    <a:lnTo>
                      <a:pt x="27" y="1410"/>
                    </a:lnTo>
                    <a:lnTo>
                      <a:pt x="90" y="1410"/>
                    </a:lnTo>
                    <a:lnTo>
                      <a:pt x="91" y="1408"/>
                    </a:lnTo>
                    <a:lnTo>
                      <a:pt x="92" y="1407"/>
                    </a:lnTo>
                    <a:lnTo>
                      <a:pt x="93" y="1407"/>
                    </a:lnTo>
                    <a:lnTo>
                      <a:pt x="95" y="1406"/>
                    </a:lnTo>
                    <a:lnTo>
                      <a:pt x="97" y="1407"/>
                    </a:lnTo>
                    <a:lnTo>
                      <a:pt x="98" y="1407"/>
                    </a:lnTo>
                    <a:lnTo>
                      <a:pt x="99" y="1408"/>
                    </a:lnTo>
                    <a:lnTo>
                      <a:pt x="99" y="1410"/>
                    </a:lnTo>
                    <a:lnTo>
                      <a:pt x="104" y="1410"/>
                    </a:lnTo>
                    <a:lnTo>
                      <a:pt x="104" y="1408"/>
                    </a:lnTo>
                    <a:lnTo>
                      <a:pt x="105" y="1407"/>
                    </a:lnTo>
                    <a:lnTo>
                      <a:pt x="106" y="1407"/>
                    </a:lnTo>
                    <a:lnTo>
                      <a:pt x="108" y="1406"/>
                    </a:lnTo>
                    <a:lnTo>
                      <a:pt x="110" y="1407"/>
                    </a:lnTo>
                    <a:lnTo>
                      <a:pt x="111" y="1407"/>
                    </a:lnTo>
                    <a:lnTo>
                      <a:pt x="112" y="1408"/>
                    </a:lnTo>
                    <a:lnTo>
                      <a:pt x="113" y="1410"/>
                    </a:lnTo>
                    <a:lnTo>
                      <a:pt x="281" y="1410"/>
                    </a:lnTo>
                    <a:lnTo>
                      <a:pt x="282" y="1408"/>
                    </a:lnTo>
                    <a:lnTo>
                      <a:pt x="282" y="1407"/>
                    </a:lnTo>
                    <a:lnTo>
                      <a:pt x="284" y="1407"/>
                    </a:lnTo>
                    <a:lnTo>
                      <a:pt x="286" y="1406"/>
                    </a:lnTo>
                    <a:lnTo>
                      <a:pt x="287" y="1407"/>
                    </a:lnTo>
                    <a:lnTo>
                      <a:pt x="289" y="1407"/>
                    </a:lnTo>
                    <a:lnTo>
                      <a:pt x="290" y="1408"/>
                    </a:lnTo>
                    <a:lnTo>
                      <a:pt x="290" y="1410"/>
                    </a:lnTo>
                    <a:lnTo>
                      <a:pt x="467" y="1410"/>
                    </a:lnTo>
                    <a:lnTo>
                      <a:pt x="467" y="1408"/>
                    </a:lnTo>
                    <a:lnTo>
                      <a:pt x="468" y="1407"/>
                    </a:lnTo>
                    <a:lnTo>
                      <a:pt x="470" y="1407"/>
                    </a:lnTo>
                    <a:lnTo>
                      <a:pt x="471" y="1406"/>
                    </a:lnTo>
                    <a:lnTo>
                      <a:pt x="473" y="1407"/>
                    </a:lnTo>
                    <a:lnTo>
                      <a:pt x="475" y="1407"/>
                    </a:lnTo>
                    <a:lnTo>
                      <a:pt x="475" y="1408"/>
                    </a:lnTo>
                    <a:lnTo>
                      <a:pt x="476" y="1410"/>
                    </a:lnTo>
                    <a:lnTo>
                      <a:pt x="502" y="1410"/>
                    </a:lnTo>
                    <a:lnTo>
                      <a:pt x="503" y="1408"/>
                    </a:lnTo>
                    <a:lnTo>
                      <a:pt x="504" y="1407"/>
                    </a:lnTo>
                    <a:lnTo>
                      <a:pt x="505" y="1407"/>
                    </a:lnTo>
                    <a:lnTo>
                      <a:pt x="507" y="1406"/>
                    </a:lnTo>
                    <a:lnTo>
                      <a:pt x="508" y="1407"/>
                    </a:lnTo>
                    <a:lnTo>
                      <a:pt x="510" y="1407"/>
                    </a:lnTo>
                    <a:lnTo>
                      <a:pt x="511" y="1408"/>
                    </a:lnTo>
                    <a:lnTo>
                      <a:pt x="511" y="1410"/>
                    </a:lnTo>
                    <a:lnTo>
                      <a:pt x="521" y="1410"/>
                    </a:lnTo>
                    <a:lnTo>
                      <a:pt x="521" y="1408"/>
                    </a:lnTo>
                    <a:lnTo>
                      <a:pt x="522" y="1407"/>
                    </a:lnTo>
                    <a:lnTo>
                      <a:pt x="524" y="1407"/>
                    </a:lnTo>
                    <a:lnTo>
                      <a:pt x="525" y="1406"/>
                    </a:lnTo>
                    <a:lnTo>
                      <a:pt x="527" y="1407"/>
                    </a:lnTo>
                    <a:lnTo>
                      <a:pt x="529" y="1407"/>
                    </a:lnTo>
                    <a:lnTo>
                      <a:pt x="530" y="1408"/>
                    </a:lnTo>
                    <a:lnTo>
                      <a:pt x="530" y="1410"/>
                    </a:lnTo>
                    <a:lnTo>
                      <a:pt x="530" y="1410"/>
                    </a:lnTo>
                    <a:lnTo>
                      <a:pt x="530" y="1408"/>
                    </a:lnTo>
                    <a:lnTo>
                      <a:pt x="531" y="1407"/>
                    </a:lnTo>
                    <a:lnTo>
                      <a:pt x="533" y="1407"/>
                    </a:lnTo>
                    <a:lnTo>
                      <a:pt x="534" y="1406"/>
                    </a:lnTo>
                    <a:lnTo>
                      <a:pt x="536" y="1407"/>
                    </a:lnTo>
                    <a:lnTo>
                      <a:pt x="538" y="1407"/>
                    </a:lnTo>
                    <a:lnTo>
                      <a:pt x="539" y="1408"/>
                    </a:lnTo>
                    <a:lnTo>
                      <a:pt x="539" y="1410"/>
                    </a:lnTo>
                    <a:lnTo>
                      <a:pt x="557" y="1410"/>
                    </a:lnTo>
                    <a:lnTo>
                      <a:pt x="557" y="1408"/>
                    </a:lnTo>
                    <a:lnTo>
                      <a:pt x="558" y="1407"/>
                    </a:lnTo>
                    <a:lnTo>
                      <a:pt x="560" y="1407"/>
                    </a:lnTo>
                    <a:lnTo>
                      <a:pt x="562" y="1406"/>
                    </a:lnTo>
                    <a:lnTo>
                      <a:pt x="563" y="1407"/>
                    </a:lnTo>
                    <a:lnTo>
                      <a:pt x="565" y="1407"/>
                    </a:lnTo>
                    <a:lnTo>
                      <a:pt x="566" y="1408"/>
                    </a:lnTo>
                    <a:lnTo>
                      <a:pt x="566" y="1410"/>
                    </a:lnTo>
                    <a:lnTo>
                      <a:pt x="571" y="1410"/>
                    </a:lnTo>
                    <a:lnTo>
                      <a:pt x="572" y="1408"/>
                    </a:lnTo>
                    <a:lnTo>
                      <a:pt x="573" y="1407"/>
                    </a:lnTo>
                    <a:lnTo>
                      <a:pt x="574" y="1407"/>
                    </a:lnTo>
                    <a:lnTo>
                      <a:pt x="576" y="1406"/>
                    </a:lnTo>
                    <a:lnTo>
                      <a:pt x="578" y="1407"/>
                    </a:lnTo>
                    <a:lnTo>
                      <a:pt x="579" y="1407"/>
                    </a:lnTo>
                    <a:lnTo>
                      <a:pt x="580" y="1408"/>
                    </a:lnTo>
                    <a:lnTo>
                      <a:pt x="580" y="1410"/>
                    </a:lnTo>
                    <a:lnTo>
                      <a:pt x="655" y="1410"/>
                    </a:lnTo>
                    <a:lnTo>
                      <a:pt x="655" y="1381"/>
                    </a:lnTo>
                    <a:lnTo>
                      <a:pt x="754" y="1381"/>
                    </a:lnTo>
                    <a:lnTo>
                      <a:pt x="754" y="1380"/>
                    </a:lnTo>
                    <a:lnTo>
                      <a:pt x="755" y="1379"/>
                    </a:lnTo>
                    <a:lnTo>
                      <a:pt x="757" y="1378"/>
                    </a:lnTo>
                    <a:lnTo>
                      <a:pt x="758" y="1378"/>
                    </a:lnTo>
                    <a:lnTo>
                      <a:pt x="760" y="1378"/>
                    </a:lnTo>
                    <a:lnTo>
                      <a:pt x="762" y="1379"/>
                    </a:lnTo>
                    <a:lnTo>
                      <a:pt x="763" y="1380"/>
                    </a:lnTo>
                    <a:lnTo>
                      <a:pt x="763" y="1381"/>
                    </a:lnTo>
                    <a:lnTo>
                      <a:pt x="883" y="1381"/>
                    </a:lnTo>
                    <a:lnTo>
                      <a:pt x="883" y="1380"/>
                    </a:lnTo>
                    <a:lnTo>
                      <a:pt x="884" y="1379"/>
                    </a:lnTo>
                    <a:lnTo>
                      <a:pt x="886" y="1378"/>
                    </a:lnTo>
                    <a:lnTo>
                      <a:pt x="887" y="1378"/>
                    </a:lnTo>
                    <a:lnTo>
                      <a:pt x="889" y="1378"/>
                    </a:lnTo>
                    <a:lnTo>
                      <a:pt x="891" y="1379"/>
                    </a:lnTo>
                    <a:lnTo>
                      <a:pt x="892" y="1380"/>
                    </a:lnTo>
                    <a:lnTo>
                      <a:pt x="892" y="1381"/>
                    </a:lnTo>
                    <a:lnTo>
                      <a:pt x="928" y="1381"/>
                    </a:lnTo>
                    <a:lnTo>
                      <a:pt x="928" y="1380"/>
                    </a:lnTo>
                    <a:lnTo>
                      <a:pt x="929" y="1379"/>
                    </a:lnTo>
                    <a:lnTo>
                      <a:pt x="931" y="1378"/>
                    </a:lnTo>
                    <a:lnTo>
                      <a:pt x="933" y="1378"/>
                    </a:lnTo>
                    <a:lnTo>
                      <a:pt x="934" y="1378"/>
                    </a:lnTo>
                    <a:lnTo>
                      <a:pt x="936" y="1379"/>
                    </a:lnTo>
                    <a:lnTo>
                      <a:pt x="937" y="1380"/>
                    </a:lnTo>
                    <a:lnTo>
                      <a:pt x="937" y="1381"/>
                    </a:lnTo>
                    <a:lnTo>
                      <a:pt x="961" y="1381"/>
                    </a:lnTo>
                    <a:lnTo>
                      <a:pt x="961" y="1380"/>
                    </a:lnTo>
                    <a:lnTo>
                      <a:pt x="963" y="1379"/>
                    </a:lnTo>
                    <a:lnTo>
                      <a:pt x="964" y="1378"/>
                    </a:lnTo>
                    <a:lnTo>
                      <a:pt x="966" y="1378"/>
                    </a:lnTo>
                    <a:lnTo>
                      <a:pt x="967" y="1378"/>
                    </a:lnTo>
                    <a:lnTo>
                      <a:pt x="969" y="1379"/>
                    </a:lnTo>
                    <a:lnTo>
                      <a:pt x="970" y="1380"/>
                    </a:lnTo>
                    <a:lnTo>
                      <a:pt x="970" y="1381"/>
                    </a:lnTo>
                    <a:lnTo>
                      <a:pt x="991" y="1381"/>
                    </a:lnTo>
                    <a:lnTo>
                      <a:pt x="991" y="0"/>
                    </a:lnTo>
                    <a:lnTo>
                      <a:pt x="96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33800" y="233424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99" name=""/>
              <p:cNvSpPr/>
              <p:nvPr/>
            </p:nvSpPr>
            <p:spPr>
              <a:xfrm>
                <a:off x="6990120" y="3366360"/>
                <a:ext cx="258120" cy="785160"/>
              </a:xfrm>
              <a:custGeom>
                <a:avLst/>
                <a:gdLst/>
                <a:ahLst/>
                <a:rect l="l" t="t" r="r" b="b"/>
                <a:pathLst>
                  <a:path w="244" h="588">
                    <a:moveTo>
                      <a:pt x="244" y="588"/>
                    </a:moveTo>
                    <a:lnTo>
                      <a:pt x="224" y="588"/>
                    </a:lnTo>
                    <a:lnTo>
                      <a:pt x="223" y="587"/>
                    </a:lnTo>
                    <a:lnTo>
                      <a:pt x="222" y="585"/>
                    </a:lnTo>
                    <a:lnTo>
                      <a:pt x="221" y="585"/>
                    </a:lnTo>
                    <a:lnTo>
                      <a:pt x="219" y="584"/>
                    </a:lnTo>
                    <a:lnTo>
                      <a:pt x="217" y="585"/>
                    </a:lnTo>
                    <a:lnTo>
                      <a:pt x="216" y="585"/>
                    </a:lnTo>
                    <a:lnTo>
                      <a:pt x="215" y="587"/>
                    </a:lnTo>
                    <a:lnTo>
                      <a:pt x="215" y="588"/>
                    </a:lnTo>
                    <a:lnTo>
                      <a:pt x="205" y="588"/>
                    </a:lnTo>
                    <a:lnTo>
                      <a:pt x="205" y="587"/>
                    </a:lnTo>
                    <a:lnTo>
                      <a:pt x="204" y="585"/>
                    </a:lnTo>
                    <a:lnTo>
                      <a:pt x="202" y="585"/>
                    </a:lnTo>
                    <a:lnTo>
                      <a:pt x="201" y="584"/>
                    </a:lnTo>
                    <a:lnTo>
                      <a:pt x="199" y="585"/>
                    </a:lnTo>
                    <a:lnTo>
                      <a:pt x="197" y="585"/>
                    </a:lnTo>
                    <a:lnTo>
                      <a:pt x="197" y="587"/>
                    </a:lnTo>
                    <a:lnTo>
                      <a:pt x="196" y="588"/>
                    </a:lnTo>
                    <a:lnTo>
                      <a:pt x="193" y="588"/>
                    </a:lnTo>
                    <a:lnTo>
                      <a:pt x="192" y="587"/>
                    </a:lnTo>
                    <a:lnTo>
                      <a:pt x="192" y="585"/>
                    </a:lnTo>
                    <a:lnTo>
                      <a:pt x="190" y="585"/>
                    </a:lnTo>
                    <a:lnTo>
                      <a:pt x="188" y="584"/>
                    </a:lnTo>
                    <a:lnTo>
                      <a:pt x="187" y="585"/>
                    </a:lnTo>
                    <a:lnTo>
                      <a:pt x="185" y="585"/>
                    </a:lnTo>
                    <a:lnTo>
                      <a:pt x="184" y="587"/>
                    </a:lnTo>
                    <a:lnTo>
                      <a:pt x="184" y="588"/>
                    </a:lnTo>
                    <a:lnTo>
                      <a:pt x="153" y="588"/>
                    </a:lnTo>
                    <a:lnTo>
                      <a:pt x="152" y="587"/>
                    </a:lnTo>
                    <a:lnTo>
                      <a:pt x="152" y="585"/>
                    </a:lnTo>
                    <a:lnTo>
                      <a:pt x="150" y="585"/>
                    </a:lnTo>
                    <a:lnTo>
                      <a:pt x="148" y="584"/>
                    </a:lnTo>
                    <a:lnTo>
                      <a:pt x="147" y="585"/>
                    </a:lnTo>
                    <a:lnTo>
                      <a:pt x="145" y="585"/>
                    </a:lnTo>
                    <a:lnTo>
                      <a:pt x="144" y="587"/>
                    </a:lnTo>
                    <a:lnTo>
                      <a:pt x="144" y="588"/>
                    </a:lnTo>
                    <a:lnTo>
                      <a:pt x="100" y="588"/>
                    </a:lnTo>
                    <a:lnTo>
                      <a:pt x="100" y="587"/>
                    </a:lnTo>
                    <a:lnTo>
                      <a:pt x="99" y="585"/>
                    </a:lnTo>
                    <a:lnTo>
                      <a:pt x="98" y="585"/>
                    </a:lnTo>
                    <a:lnTo>
                      <a:pt x="96" y="584"/>
                    </a:lnTo>
                    <a:lnTo>
                      <a:pt x="94" y="585"/>
                    </a:lnTo>
                    <a:lnTo>
                      <a:pt x="93" y="585"/>
                    </a:lnTo>
                    <a:lnTo>
                      <a:pt x="92" y="587"/>
                    </a:lnTo>
                    <a:lnTo>
                      <a:pt x="91" y="588"/>
                    </a:lnTo>
                    <a:lnTo>
                      <a:pt x="80" y="588"/>
                    </a:lnTo>
                    <a:lnTo>
                      <a:pt x="80" y="587"/>
                    </a:lnTo>
                    <a:lnTo>
                      <a:pt x="79" y="585"/>
                    </a:lnTo>
                    <a:lnTo>
                      <a:pt x="77" y="585"/>
                    </a:lnTo>
                    <a:lnTo>
                      <a:pt x="76" y="584"/>
                    </a:lnTo>
                    <a:lnTo>
                      <a:pt x="74" y="585"/>
                    </a:lnTo>
                    <a:lnTo>
                      <a:pt x="72" y="585"/>
                    </a:lnTo>
                    <a:lnTo>
                      <a:pt x="72" y="587"/>
                    </a:lnTo>
                    <a:lnTo>
                      <a:pt x="71" y="588"/>
                    </a:lnTo>
                    <a:lnTo>
                      <a:pt x="33" y="588"/>
                    </a:lnTo>
                    <a:lnTo>
                      <a:pt x="32" y="587"/>
                    </a:lnTo>
                    <a:lnTo>
                      <a:pt x="32" y="585"/>
                    </a:lnTo>
                    <a:lnTo>
                      <a:pt x="30" y="585"/>
                    </a:lnTo>
                    <a:lnTo>
                      <a:pt x="28" y="584"/>
                    </a:lnTo>
                    <a:lnTo>
                      <a:pt x="27" y="585"/>
                    </a:lnTo>
                    <a:lnTo>
                      <a:pt x="25" y="585"/>
                    </a:lnTo>
                    <a:lnTo>
                      <a:pt x="24" y="587"/>
                    </a:lnTo>
                    <a:lnTo>
                      <a:pt x="24" y="588"/>
                    </a:lnTo>
                    <a:lnTo>
                      <a:pt x="18" y="588"/>
                    </a:lnTo>
                    <a:lnTo>
                      <a:pt x="17" y="587"/>
                    </a:lnTo>
                    <a:lnTo>
                      <a:pt x="16" y="585"/>
                    </a:lnTo>
                    <a:lnTo>
                      <a:pt x="15" y="585"/>
                    </a:lnTo>
                    <a:lnTo>
                      <a:pt x="13" y="584"/>
                    </a:lnTo>
                    <a:lnTo>
                      <a:pt x="11" y="585"/>
                    </a:lnTo>
                    <a:lnTo>
                      <a:pt x="10" y="585"/>
                    </a:lnTo>
                    <a:lnTo>
                      <a:pt x="9" y="587"/>
                    </a:lnTo>
                    <a:lnTo>
                      <a:pt x="9" y="588"/>
                    </a:lnTo>
                    <a:lnTo>
                      <a:pt x="0" y="588"/>
                    </a:lnTo>
                    <a:lnTo>
                      <a:pt x="0"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984000" y="335448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1" name=""/>
              <p:cNvSpPr/>
              <p:nvPr/>
            </p:nvSpPr>
            <p:spPr>
              <a:xfrm>
                <a:off x="6225840" y="4246560"/>
                <a:ext cx="1010880" cy="60120"/>
              </a:xfrm>
              <a:custGeom>
                <a:avLst/>
                <a:gdLst/>
                <a:ahLst/>
                <a:rect l="l" t="t" r="r" b="b"/>
                <a:pathLst>
                  <a:path w="955" h="45">
                    <a:moveTo>
                      <a:pt x="955" y="4"/>
                    </a:moveTo>
                    <a:lnTo>
                      <a:pt x="946" y="4"/>
                    </a:lnTo>
                    <a:lnTo>
                      <a:pt x="945" y="2"/>
                    </a:lnTo>
                    <a:lnTo>
                      <a:pt x="944" y="1"/>
                    </a:lnTo>
                    <a:lnTo>
                      <a:pt x="943" y="0"/>
                    </a:lnTo>
                    <a:lnTo>
                      <a:pt x="941" y="0"/>
                    </a:lnTo>
                    <a:lnTo>
                      <a:pt x="939" y="0"/>
                    </a:lnTo>
                    <a:lnTo>
                      <a:pt x="938" y="1"/>
                    </a:lnTo>
                    <a:lnTo>
                      <a:pt x="937" y="2"/>
                    </a:lnTo>
                    <a:lnTo>
                      <a:pt x="937" y="4"/>
                    </a:lnTo>
                    <a:lnTo>
                      <a:pt x="927" y="4"/>
                    </a:lnTo>
                    <a:lnTo>
                      <a:pt x="927" y="2"/>
                    </a:lnTo>
                    <a:lnTo>
                      <a:pt x="926" y="1"/>
                    </a:lnTo>
                    <a:lnTo>
                      <a:pt x="924" y="0"/>
                    </a:lnTo>
                    <a:lnTo>
                      <a:pt x="923" y="0"/>
                    </a:lnTo>
                    <a:lnTo>
                      <a:pt x="921" y="0"/>
                    </a:lnTo>
                    <a:lnTo>
                      <a:pt x="919" y="1"/>
                    </a:lnTo>
                    <a:lnTo>
                      <a:pt x="919" y="2"/>
                    </a:lnTo>
                    <a:lnTo>
                      <a:pt x="918" y="4"/>
                    </a:lnTo>
                    <a:lnTo>
                      <a:pt x="915" y="4"/>
                    </a:lnTo>
                    <a:lnTo>
                      <a:pt x="914" y="2"/>
                    </a:lnTo>
                    <a:lnTo>
                      <a:pt x="914" y="1"/>
                    </a:lnTo>
                    <a:lnTo>
                      <a:pt x="912" y="0"/>
                    </a:lnTo>
                    <a:lnTo>
                      <a:pt x="910" y="0"/>
                    </a:lnTo>
                    <a:lnTo>
                      <a:pt x="909" y="0"/>
                    </a:lnTo>
                    <a:lnTo>
                      <a:pt x="907" y="1"/>
                    </a:lnTo>
                    <a:lnTo>
                      <a:pt x="906" y="2"/>
                    </a:lnTo>
                    <a:lnTo>
                      <a:pt x="906" y="4"/>
                    </a:lnTo>
                    <a:lnTo>
                      <a:pt x="875" y="4"/>
                    </a:lnTo>
                    <a:lnTo>
                      <a:pt x="874" y="2"/>
                    </a:lnTo>
                    <a:lnTo>
                      <a:pt x="874" y="1"/>
                    </a:lnTo>
                    <a:lnTo>
                      <a:pt x="872" y="0"/>
                    </a:lnTo>
                    <a:lnTo>
                      <a:pt x="870" y="0"/>
                    </a:lnTo>
                    <a:lnTo>
                      <a:pt x="869" y="0"/>
                    </a:lnTo>
                    <a:lnTo>
                      <a:pt x="867" y="1"/>
                    </a:lnTo>
                    <a:lnTo>
                      <a:pt x="866" y="2"/>
                    </a:lnTo>
                    <a:lnTo>
                      <a:pt x="866" y="4"/>
                    </a:lnTo>
                    <a:lnTo>
                      <a:pt x="822" y="4"/>
                    </a:lnTo>
                    <a:lnTo>
                      <a:pt x="822" y="2"/>
                    </a:lnTo>
                    <a:lnTo>
                      <a:pt x="821" y="1"/>
                    </a:lnTo>
                    <a:lnTo>
                      <a:pt x="820" y="0"/>
                    </a:lnTo>
                    <a:lnTo>
                      <a:pt x="818" y="0"/>
                    </a:lnTo>
                    <a:lnTo>
                      <a:pt x="816" y="0"/>
                    </a:lnTo>
                    <a:lnTo>
                      <a:pt x="815" y="1"/>
                    </a:lnTo>
                    <a:lnTo>
                      <a:pt x="814" y="2"/>
                    </a:lnTo>
                    <a:lnTo>
                      <a:pt x="813" y="4"/>
                    </a:lnTo>
                    <a:lnTo>
                      <a:pt x="802" y="4"/>
                    </a:lnTo>
                    <a:lnTo>
                      <a:pt x="802" y="2"/>
                    </a:lnTo>
                    <a:lnTo>
                      <a:pt x="801" y="1"/>
                    </a:lnTo>
                    <a:lnTo>
                      <a:pt x="799" y="0"/>
                    </a:lnTo>
                    <a:lnTo>
                      <a:pt x="798" y="0"/>
                    </a:lnTo>
                    <a:lnTo>
                      <a:pt x="796" y="0"/>
                    </a:lnTo>
                    <a:lnTo>
                      <a:pt x="794" y="1"/>
                    </a:lnTo>
                    <a:lnTo>
                      <a:pt x="794" y="2"/>
                    </a:lnTo>
                    <a:lnTo>
                      <a:pt x="793" y="4"/>
                    </a:lnTo>
                    <a:lnTo>
                      <a:pt x="755" y="4"/>
                    </a:lnTo>
                    <a:lnTo>
                      <a:pt x="754" y="2"/>
                    </a:lnTo>
                    <a:lnTo>
                      <a:pt x="754" y="1"/>
                    </a:lnTo>
                    <a:lnTo>
                      <a:pt x="752" y="0"/>
                    </a:lnTo>
                    <a:lnTo>
                      <a:pt x="750" y="0"/>
                    </a:lnTo>
                    <a:lnTo>
                      <a:pt x="749" y="0"/>
                    </a:lnTo>
                    <a:lnTo>
                      <a:pt x="747" y="1"/>
                    </a:lnTo>
                    <a:lnTo>
                      <a:pt x="746" y="2"/>
                    </a:lnTo>
                    <a:lnTo>
                      <a:pt x="746" y="4"/>
                    </a:lnTo>
                    <a:lnTo>
                      <a:pt x="740" y="4"/>
                    </a:lnTo>
                    <a:lnTo>
                      <a:pt x="739" y="2"/>
                    </a:lnTo>
                    <a:lnTo>
                      <a:pt x="738" y="1"/>
                    </a:lnTo>
                    <a:lnTo>
                      <a:pt x="737" y="0"/>
                    </a:lnTo>
                    <a:lnTo>
                      <a:pt x="735" y="0"/>
                    </a:lnTo>
                    <a:lnTo>
                      <a:pt x="733" y="0"/>
                    </a:lnTo>
                    <a:lnTo>
                      <a:pt x="732" y="1"/>
                    </a:lnTo>
                    <a:lnTo>
                      <a:pt x="731" y="2"/>
                    </a:lnTo>
                    <a:lnTo>
                      <a:pt x="731" y="4"/>
                    </a:lnTo>
                    <a:lnTo>
                      <a:pt x="649" y="4"/>
                    </a:lnTo>
                    <a:lnTo>
                      <a:pt x="649" y="45"/>
                    </a:lnTo>
                    <a:lnTo>
                      <a:pt x="489" y="45"/>
                    </a:lnTo>
                    <a:lnTo>
                      <a:pt x="489" y="44"/>
                    </a:lnTo>
                    <a:lnTo>
                      <a:pt x="488" y="43"/>
                    </a:lnTo>
                    <a:lnTo>
                      <a:pt x="486" y="42"/>
                    </a:lnTo>
                    <a:lnTo>
                      <a:pt x="485" y="42"/>
                    </a:lnTo>
                    <a:lnTo>
                      <a:pt x="483" y="42"/>
                    </a:lnTo>
                    <a:lnTo>
                      <a:pt x="481" y="43"/>
                    </a:lnTo>
                    <a:lnTo>
                      <a:pt x="481" y="44"/>
                    </a:lnTo>
                    <a:lnTo>
                      <a:pt x="480" y="45"/>
                    </a:lnTo>
                    <a:lnTo>
                      <a:pt x="326" y="45"/>
                    </a:lnTo>
                    <a:lnTo>
                      <a:pt x="326" y="44"/>
                    </a:lnTo>
                    <a:lnTo>
                      <a:pt x="325" y="43"/>
                    </a:lnTo>
                    <a:lnTo>
                      <a:pt x="323" y="42"/>
                    </a:lnTo>
                    <a:lnTo>
                      <a:pt x="321" y="42"/>
                    </a:lnTo>
                    <a:lnTo>
                      <a:pt x="320" y="42"/>
                    </a:lnTo>
                    <a:lnTo>
                      <a:pt x="318" y="43"/>
                    </a:lnTo>
                    <a:lnTo>
                      <a:pt x="317" y="44"/>
                    </a:lnTo>
                    <a:lnTo>
                      <a:pt x="317" y="45"/>
                    </a:lnTo>
                    <a:lnTo>
                      <a:pt x="269" y="45"/>
                    </a:lnTo>
                    <a:lnTo>
                      <a:pt x="268" y="44"/>
                    </a:lnTo>
                    <a:lnTo>
                      <a:pt x="267" y="43"/>
                    </a:lnTo>
                    <a:lnTo>
                      <a:pt x="266" y="42"/>
                    </a:lnTo>
                    <a:lnTo>
                      <a:pt x="264" y="42"/>
                    </a:lnTo>
                    <a:lnTo>
                      <a:pt x="262" y="42"/>
                    </a:lnTo>
                    <a:lnTo>
                      <a:pt x="261" y="43"/>
                    </a:lnTo>
                    <a:lnTo>
                      <a:pt x="260" y="44"/>
                    </a:lnTo>
                    <a:lnTo>
                      <a:pt x="260" y="45"/>
                    </a:lnTo>
                    <a:lnTo>
                      <a:pt x="231" y="45"/>
                    </a:lnTo>
                    <a:lnTo>
                      <a:pt x="231" y="44"/>
                    </a:lnTo>
                    <a:lnTo>
                      <a:pt x="230" y="43"/>
                    </a:lnTo>
                    <a:lnTo>
                      <a:pt x="229" y="42"/>
                    </a:lnTo>
                    <a:lnTo>
                      <a:pt x="227" y="42"/>
                    </a:lnTo>
                    <a:lnTo>
                      <a:pt x="225" y="42"/>
                    </a:lnTo>
                    <a:lnTo>
                      <a:pt x="224" y="43"/>
                    </a:lnTo>
                    <a:lnTo>
                      <a:pt x="223" y="44"/>
                    </a:lnTo>
                    <a:lnTo>
                      <a:pt x="222" y="45"/>
                    </a:lnTo>
                    <a:lnTo>
                      <a:pt x="114" y="45"/>
                    </a:lnTo>
                    <a:lnTo>
                      <a:pt x="114" y="44"/>
                    </a:lnTo>
                    <a:lnTo>
                      <a:pt x="113" y="43"/>
                    </a:lnTo>
                    <a:lnTo>
                      <a:pt x="111" y="42"/>
                    </a:lnTo>
                    <a:lnTo>
                      <a:pt x="110" y="42"/>
                    </a:lnTo>
                    <a:lnTo>
                      <a:pt x="108" y="42"/>
                    </a:lnTo>
                    <a:lnTo>
                      <a:pt x="106" y="43"/>
                    </a:lnTo>
                    <a:lnTo>
                      <a:pt x="106" y="44"/>
                    </a:lnTo>
                    <a:lnTo>
                      <a:pt x="105" y="45"/>
                    </a:lnTo>
                    <a:lnTo>
                      <a:pt x="0" y="45"/>
                    </a:lnTo>
                    <a:lnTo>
                      <a:pt x="0" y="39"/>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2" name=""/>
              <p:cNvSpPr/>
              <p:nvPr/>
            </p:nvSpPr>
            <p:spPr>
              <a:xfrm>
                <a:off x="7234920" y="4245480"/>
                <a:ext cx="13680" cy="11880"/>
              </a:xfrm>
              <a:custGeom>
                <a:avLst/>
                <a:gdLst/>
                <a:ahLst/>
                <a:rect l="l" t="t" r="r" b="b"/>
                <a:pathLst>
                  <a:path w="13" h="9">
                    <a:moveTo>
                      <a:pt x="2" y="0"/>
                    </a:moveTo>
                    <a:lnTo>
                      <a:pt x="13"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03" name=""/>
              <p:cNvSpPr/>
              <p:nvPr/>
            </p:nvSpPr>
            <p:spPr>
              <a:xfrm>
                <a:off x="6219360" y="42868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4" name=""/>
              <p:cNvSpPr/>
              <p:nvPr/>
            </p:nvSpPr>
            <p:spPr>
              <a:xfrm>
                <a:off x="7481520" y="2714400"/>
                <a:ext cx="266400" cy="1406520"/>
              </a:xfrm>
              <a:custGeom>
                <a:avLst/>
                <a:gdLst/>
                <a:ahLst/>
                <a:rect l="l" t="t" r="r" b="b"/>
                <a:pathLst>
                  <a:path w="252" h="1053">
                    <a:moveTo>
                      <a:pt x="0" y="1053"/>
                    </a:moveTo>
                    <a:lnTo>
                      <a:pt x="0" y="410"/>
                    </a:lnTo>
                    <a:lnTo>
                      <a:pt x="60" y="410"/>
                    </a:lnTo>
                    <a:lnTo>
                      <a:pt x="60" y="409"/>
                    </a:lnTo>
                    <a:lnTo>
                      <a:pt x="61" y="408"/>
                    </a:lnTo>
                    <a:lnTo>
                      <a:pt x="63" y="407"/>
                    </a:lnTo>
                    <a:lnTo>
                      <a:pt x="64" y="407"/>
                    </a:lnTo>
                    <a:lnTo>
                      <a:pt x="66" y="407"/>
                    </a:lnTo>
                    <a:lnTo>
                      <a:pt x="67" y="408"/>
                    </a:lnTo>
                    <a:lnTo>
                      <a:pt x="68" y="409"/>
                    </a:lnTo>
                    <a:lnTo>
                      <a:pt x="69" y="410"/>
                    </a:lnTo>
                    <a:lnTo>
                      <a:pt x="73" y="410"/>
                    </a:lnTo>
                    <a:lnTo>
                      <a:pt x="74" y="409"/>
                    </a:lnTo>
                    <a:lnTo>
                      <a:pt x="75" y="408"/>
                    </a:lnTo>
                    <a:lnTo>
                      <a:pt x="76" y="407"/>
                    </a:lnTo>
                    <a:lnTo>
                      <a:pt x="78" y="407"/>
                    </a:lnTo>
                    <a:lnTo>
                      <a:pt x="79" y="407"/>
                    </a:lnTo>
                    <a:lnTo>
                      <a:pt x="81" y="408"/>
                    </a:lnTo>
                    <a:lnTo>
                      <a:pt x="82" y="409"/>
                    </a:lnTo>
                    <a:lnTo>
                      <a:pt x="82" y="410"/>
                    </a:lnTo>
                    <a:lnTo>
                      <a:pt x="87" y="410"/>
                    </a:lnTo>
                    <a:lnTo>
                      <a:pt x="87" y="409"/>
                    </a:lnTo>
                    <a:lnTo>
                      <a:pt x="88" y="408"/>
                    </a:lnTo>
                    <a:lnTo>
                      <a:pt x="90" y="407"/>
                    </a:lnTo>
                    <a:lnTo>
                      <a:pt x="91" y="407"/>
                    </a:lnTo>
                    <a:lnTo>
                      <a:pt x="93" y="407"/>
                    </a:lnTo>
                    <a:lnTo>
                      <a:pt x="94" y="408"/>
                    </a:lnTo>
                    <a:lnTo>
                      <a:pt x="95" y="409"/>
                    </a:lnTo>
                    <a:lnTo>
                      <a:pt x="96" y="410"/>
                    </a:lnTo>
                    <a:lnTo>
                      <a:pt x="114" y="410"/>
                    </a:lnTo>
                    <a:lnTo>
                      <a:pt x="114" y="409"/>
                    </a:lnTo>
                    <a:lnTo>
                      <a:pt x="115" y="408"/>
                    </a:lnTo>
                    <a:lnTo>
                      <a:pt x="117" y="407"/>
                    </a:lnTo>
                    <a:lnTo>
                      <a:pt x="118" y="407"/>
                    </a:lnTo>
                    <a:lnTo>
                      <a:pt x="120" y="407"/>
                    </a:lnTo>
                    <a:lnTo>
                      <a:pt x="121" y="408"/>
                    </a:lnTo>
                    <a:lnTo>
                      <a:pt x="122" y="409"/>
                    </a:lnTo>
                    <a:lnTo>
                      <a:pt x="123" y="410"/>
                    </a:lnTo>
                    <a:lnTo>
                      <a:pt x="151" y="410"/>
                    </a:lnTo>
                    <a:lnTo>
                      <a:pt x="151" y="409"/>
                    </a:lnTo>
                    <a:lnTo>
                      <a:pt x="152" y="408"/>
                    </a:lnTo>
                    <a:lnTo>
                      <a:pt x="154" y="407"/>
                    </a:lnTo>
                    <a:lnTo>
                      <a:pt x="155" y="407"/>
                    </a:lnTo>
                    <a:lnTo>
                      <a:pt x="157" y="407"/>
                    </a:lnTo>
                    <a:lnTo>
                      <a:pt x="159" y="408"/>
                    </a:lnTo>
                    <a:lnTo>
                      <a:pt x="160" y="409"/>
                    </a:lnTo>
                    <a:lnTo>
                      <a:pt x="160" y="410"/>
                    </a:lnTo>
                    <a:lnTo>
                      <a:pt x="190" y="410"/>
                    </a:lnTo>
                    <a:lnTo>
                      <a:pt x="190" y="409"/>
                    </a:lnTo>
                    <a:lnTo>
                      <a:pt x="191" y="408"/>
                    </a:lnTo>
                    <a:lnTo>
                      <a:pt x="193" y="407"/>
                    </a:lnTo>
                    <a:lnTo>
                      <a:pt x="194" y="407"/>
                    </a:lnTo>
                    <a:lnTo>
                      <a:pt x="196" y="407"/>
                    </a:lnTo>
                    <a:lnTo>
                      <a:pt x="197" y="408"/>
                    </a:lnTo>
                    <a:lnTo>
                      <a:pt x="198" y="409"/>
                    </a:lnTo>
                    <a:lnTo>
                      <a:pt x="199" y="410"/>
                    </a:lnTo>
                    <a:lnTo>
                      <a:pt x="202" y="410"/>
                    </a:lnTo>
                    <a:lnTo>
                      <a:pt x="202" y="409"/>
                    </a:lnTo>
                    <a:lnTo>
                      <a:pt x="203" y="408"/>
                    </a:lnTo>
                    <a:lnTo>
                      <a:pt x="204" y="407"/>
                    </a:lnTo>
                    <a:lnTo>
                      <a:pt x="206" y="407"/>
                    </a:lnTo>
                    <a:lnTo>
                      <a:pt x="208" y="407"/>
                    </a:lnTo>
                    <a:lnTo>
                      <a:pt x="209" y="408"/>
                    </a:lnTo>
                    <a:lnTo>
                      <a:pt x="210" y="409"/>
                    </a:lnTo>
                    <a:lnTo>
                      <a:pt x="211" y="410"/>
                    </a:lnTo>
                    <a:lnTo>
                      <a:pt x="252" y="410"/>
                    </a:lnTo>
                    <a:lnTo>
                      <a:pt x="25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7475040" y="41202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6" name=""/>
              <p:cNvSpPr/>
              <p:nvPr/>
            </p:nvSpPr>
            <p:spPr>
              <a:xfrm>
                <a:off x="7520400" y="4146840"/>
                <a:ext cx="758880" cy="125280"/>
              </a:xfrm>
              <a:custGeom>
                <a:avLst/>
                <a:gdLst/>
                <a:ahLst/>
                <a:rect l="l" t="t" r="r" b="b"/>
                <a:pathLst>
                  <a:path w="717" h="94">
                    <a:moveTo>
                      <a:pt x="0" y="94"/>
                    </a:moveTo>
                    <a:lnTo>
                      <a:pt x="18" y="94"/>
                    </a:lnTo>
                    <a:lnTo>
                      <a:pt x="19" y="93"/>
                    </a:lnTo>
                    <a:lnTo>
                      <a:pt x="20" y="92"/>
                    </a:lnTo>
                    <a:lnTo>
                      <a:pt x="21" y="91"/>
                    </a:lnTo>
                    <a:lnTo>
                      <a:pt x="23" y="91"/>
                    </a:lnTo>
                    <a:lnTo>
                      <a:pt x="25" y="91"/>
                    </a:lnTo>
                    <a:lnTo>
                      <a:pt x="26" y="92"/>
                    </a:lnTo>
                    <a:lnTo>
                      <a:pt x="27" y="93"/>
                    </a:lnTo>
                    <a:lnTo>
                      <a:pt x="27" y="94"/>
                    </a:lnTo>
                    <a:lnTo>
                      <a:pt x="90" y="94"/>
                    </a:lnTo>
                    <a:lnTo>
                      <a:pt x="91" y="93"/>
                    </a:lnTo>
                    <a:lnTo>
                      <a:pt x="92" y="92"/>
                    </a:lnTo>
                    <a:lnTo>
                      <a:pt x="93" y="91"/>
                    </a:lnTo>
                    <a:lnTo>
                      <a:pt x="95" y="91"/>
                    </a:lnTo>
                    <a:lnTo>
                      <a:pt x="97" y="91"/>
                    </a:lnTo>
                    <a:lnTo>
                      <a:pt x="98" y="92"/>
                    </a:lnTo>
                    <a:lnTo>
                      <a:pt x="99" y="93"/>
                    </a:lnTo>
                    <a:lnTo>
                      <a:pt x="99" y="94"/>
                    </a:lnTo>
                    <a:lnTo>
                      <a:pt x="104" y="94"/>
                    </a:lnTo>
                    <a:lnTo>
                      <a:pt x="104" y="93"/>
                    </a:lnTo>
                    <a:lnTo>
                      <a:pt x="105" y="92"/>
                    </a:lnTo>
                    <a:lnTo>
                      <a:pt x="106" y="91"/>
                    </a:lnTo>
                    <a:lnTo>
                      <a:pt x="108" y="91"/>
                    </a:lnTo>
                    <a:lnTo>
                      <a:pt x="110" y="91"/>
                    </a:lnTo>
                    <a:lnTo>
                      <a:pt x="111" y="92"/>
                    </a:lnTo>
                    <a:lnTo>
                      <a:pt x="112" y="93"/>
                    </a:lnTo>
                    <a:lnTo>
                      <a:pt x="113" y="94"/>
                    </a:lnTo>
                    <a:lnTo>
                      <a:pt x="281" y="94"/>
                    </a:lnTo>
                    <a:lnTo>
                      <a:pt x="282" y="93"/>
                    </a:lnTo>
                    <a:lnTo>
                      <a:pt x="282" y="92"/>
                    </a:lnTo>
                    <a:lnTo>
                      <a:pt x="284" y="91"/>
                    </a:lnTo>
                    <a:lnTo>
                      <a:pt x="286" y="91"/>
                    </a:lnTo>
                    <a:lnTo>
                      <a:pt x="287" y="91"/>
                    </a:lnTo>
                    <a:lnTo>
                      <a:pt x="289" y="92"/>
                    </a:lnTo>
                    <a:lnTo>
                      <a:pt x="290" y="93"/>
                    </a:lnTo>
                    <a:lnTo>
                      <a:pt x="290" y="94"/>
                    </a:lnTo>
                    <a:lnTo>
                      <a:pt x="471" y="94"/>
                    </a:lnTo>
                    <a:lnTo>
                      <a:pt x="471" y="15"/>
                    </a:lnTo>
                    <a:lnTo>
                      <a:pt x="502" y="15"/>
                    </a:lnTo>
                    <a:lnTo>
                      <a:pt x="503" y="13"/>
                    </a:lnTo>
                    <a:lnTo>
                      <a:pt x="504" y="12"/>
                    </a:lnTo>
                    <a:lnTo>
                      <a:pt x="505" y="11"/>
                    </a:lnTo>
                    <a:lnTo>
                      <a:pt x="507" y="11"/>
                    </a:lnTo>
                    <a:lnTo>
                      <a:pt x="508" y="11"/>
                    </a:lnTo>
                    <a:lnTo>
                      <a:pt x="510" y="12"/>
                    </a:lnTo>
                    <a:lnTo>
                      <a:pt x="511" y="13"/>
                    </a:lnTo>
                    <a:lnTo>
                      <a:pt x="511" y="15"/>
                    </a:lnTo>
                    <a:lnTo>
                      <a:pt x="521" y="15"/>
                    </a:lnTo>
                    <a:lnTo>
                      <a:pt x="521" y="13"/>
                    </a:lnTo>
                    <a:lnTo>
                      <a:pt x="522" y="12"/>
                    </a:lnTo>
                    <a:lnTo>
                      <a:pt x="524" y="11"/>
                    </a:lnTo>
                    <a:lnTo>
                      <a:pt x="525" y="11"/>
                    </a:lnTo>
                    <a:lnTo>
                      <a:pt x="527" y="11"/>
                    </a:lnTo>
                    <a:lnTo>
                      <a:pt x="528" y="12"/>
                    </a:lnTo>
                    <a:lnTo>
                      <a:pt x="530" y="13"/>
                    </a:lnTo>
                    <a:lnTo>
                      <a:pt x="530" y="15"/>
                    </a:lnTo>
                    <a:lnTo>
                      <a:pt x="530" y="15"/>
                    </a:lnTo>
                    <a:lnTo>
                      <a:pt x="530" y="13"/>
                    </a:lnTo>
                    <a:lnTo>
                      <a:pt x="531" y="12"/>
                    </a:lnTo>
                    <a:lnTo>
                      <a:pt x="533" y="11"/>
                    </a:lnTo>
                    <a:lnTo>
                      <a:pt x="534" y="11"/>
                    </a:lnTo>
                    <a:lnTo>
                      <a:pt x="536" y="11"/>
                    </a:lnTo>
                    <a:lnTo>
                      <a:pt x="538" y="12"/>
                    </a:lnTo>
                    <a:lnTo>
                      <a:pt x="539" y="13"/>
                    </a:lnTo>
                    <a:lnTo>
                      <a:pt x="539" y="15"/>
                    </a:lnTo>
                    <a:lnTo>
                      <a:pt x="557" y="15"/>
                    </a:lnTo>
                    <a:lnTo>
                      <a:pt x="557" y="13"/>
                    </a:lnTo>
                    <a:lnTo>
                      <a:pt x="558" y="12"/>
                    </a:lnTo>
                    <a:lnTo>
                      <a:pt x="560" y="11"/>
                    </a:lnTo>
                    <a:lnTo>
                      <a:pt x="562" y="11"/>
                    </a:lnTo>
                    <a:lnTo>
                      <a:pt x="563" y="11"/>
                    </a:lnTo>
                    <a:lnTo>
                      <a:pt x="565" y="12"/>
                    </a:lnTo>
                    <a:lnTo>
                      <a:pt x="566" y="13"/>
                    </a:lnTo>
                    <a:lnTo>
                      <a:pt x="566" y="15"/>
                    </a:lnTo>
                    <a:lnTo>
                      <a:pt x="571" y="15"/>
                    </a:lnTo>
                    <a:lnTo>
                      <a:pt x="572" y="13"/>
                    </a:lnTo>
                    <a:lnTo>
                      <a:pt x="573" y="12"/>
                    </a:lnTo>
                    <a:lnTo>
                      <a:pt x="574" y="11"/>
                    </a:lnTo>
                    <a:lnTo>
                      <a:pt x="576" y="11"/>
                    </a:lnTo>
                    <a:lnTo>
                      <a:pt x="578" y="11"/>
                    </a:lnTo>
                    <a:lnTo>
                      <a:pt x="579" y="12"/>
                    </a:lnTo>
                    <a:lnTo>
                      <a:pt x="580" y="13"/>
                    </a:lnTo>
                    <a:lnTo>
                      <a:pt x="580" y="15"/>
                    </a:lnTo>
                    <a:lnTo>
                      <a:pt x="717" y="15"/>
                    </a:lnTo>
                    <a:lnTo>
                      <a:pt x="717"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273520" y="413460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8" name=""/>
              <p:cNvSpPr/>
              <p:nvPr/>
            </p:nvSpPr>
            <p:spPr>
              <a:xfrm>
                <a:off x="5577840" y="2070720"/>
                <a:ext cx="174600" cy="53280"/>
              </a:xfrm>
              <a:prstGeom prst="rect">
                <a:avLst/>
              </a:prstGeom>
              <a:blipFill rotWithShape="0">
                <a:blip r:embed="rId59"/>
                <a:srcRect/>
                <a:tile tx="0" ty="0" sx="100000" sy="100000" algn="ctr"/>
              </a:blip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09" name=""/>
              <p:cNvSpPr/>
              <p:nvPr/>
            </p:nvSpPr>
            <p:spPr>
              <a:xfrm>
                <a:off x="5609520" y="2084040"/>
                <a:ext cx="12564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Mesa Data</a:t>
                </a:r>
                <a:endParaRPr b="0" lang="en-US" sz="200" spc="-1" strike="noStrike">
                  <a:solidFill>
                    <a:srgbClr val="ffffff"/>
                  </a:solidFill>
                  <a:latin typeface="Arial"/>
                </a:endParaRPr>
              </a:p>
            </p:txBody>
          </p:sp>
          <p:sp>
            <p:nvSpPr>
              <p:cNvPr id="610" name=""/>
              <p:cNvSpPr/>
              <p:nvPr/>
            </p:nvSpPr>
            <p:spPr>
              <a:xfrm>
                <a:off x="5895360" y="2038680"/>
                <a:ext cx="290160" cy="94680"/>
              </a:xfrm>
              <a:prstGeom prst="rect">
                <a:avLst/>
              </a:prstGeom>
              <a:blipFill rotWithShape="0">
                <a:blip r:embed="rId6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953680" y="2068200"/>
                <a:ext cx="20196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NEW Soundscan</a:t>
                </a:r>
                <a:endParaRPr b="0" lang="en-US" sz="200" spc="-1" strike="noStrike">
                  <a:solidFill>
                    <a:srgbClr val="ffffff"/>
                  </a:solidFill>
                  <a:latin typeface="Arial"/>
                </a:endParaRPr>
              </a:p>
            </p:txBody>
          </p:sp>
          <p:sp>
            <p:nvSpPr>
              <p:cNvPr id="612" name=""/>
              <p:cNvSpPr/>
              <p:nvPr/>
            </p:nvSpPr>
            <p:spPr>
              <a:xfrm>
                <a:off x="5691240" y="2124000"/>
                <a:ext cx="72000" cy="587880"/>
              </a:xfrm>
              <a:custGeom>
                <a:avLst/>
                <a:gdLst/>
                <a:ahLst/>
                <a:rect l="l" t="t" r="r" b="b"/>
                <a:pathLst>
                  <a:path w="68" h="440">
                    <a:moveTo>
                      <a:pt x="68" y="440"/>
                    </a:moveTo>
                    <a:lnTo>
                      <a:pt x="68" y="188"/>
                    </a:lnTo>
                    <a:lnTo>
                      <a:pt x="0" y="188"/>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756760" y="27104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14" name=""/>
              <p:cNvSpPr/>
              <p:nvPr/>
            </p:nvSpPr>
            <p:spPr>
              <a:xfrm>
                <a:off x="5811840" y="2070720"/>
                <a:ext cx="100440" cy="654480"/>
              </a:xfrm>
              <a:custGeom>
                <a:avLst/>
                <a:gdLst/>
                <a:ahLst/>
                <a:rect l="l" t="t" r="r" b="b"/>
                <a:pathLst>
                  <a:path w="95" h="490">
                    <a:moveTo>
                      <a:pt x="70" y="0"/>
                    </a:moveTo>
                    <a:lnTo>
                      <a:pt x="0" y="0"/>
                    </a:lnTo>
                    <a:lnTo>
                      <a:pt x="0" y="319"/>
                    </a:lnTo>
                    <a:lnTo>
                      <a:pt x="57" y="319"/>
                    </a:lnTo>
                    <a:lnTo>
                      <a:pt x="57" y="318"/>
                    </a:lnTo>
                    <a:lnTo>
                      <a:pt x="58" y="317"/>
                    </a:lnTo>
                    <a:lnTo>
                      <a:pt x="60" y="316"/>
                    </a:lnTo>
                    <a:lnTo>
                      <a:pt x="62" y="316"/>
                    </a:lnTo>
                    <a:lnTo>
                      <a:pt x="63" y="316"/>
                    </a:lnTo>
                    <a:lnTo>
                      <a:pt x="65" y="317"/>
                    </a:lnTo>
                    <a:lnTo>
                      <a:pt x="66" y="318"/>
                    </a:lnTo>
                    <a:lnTo>
                      <a:pt x="66" y="319"/>
                    </a:lnTo>
                    <a:lnTo>
                      <a:pt x="72" y="319"/>
                    </a:lnTo>
                    <a:lnTo>
                      <a:pt x="72" y="318"/>
                    </a:lnTo>
                    <a:lnTo>
                      <a:pt x="73" y="317"/>
                    </a:lnTo>
                    <a:lnTo>
                      <a:pt x="75" y="316"/>
                    </a:lnTo>
                    <a:lnTo>
                      <a:pt x="76" y="316"/>
                    </a:lnTo>
                    <a:lnTo>
                      <a:pt x="78" y="316"/>
                    </a:lnTo>
                    <a:lnTo>
                      <a:pt x="80" y="317"/>
                    </a:lnTo>
                    <a:lnTo>
                      <a:pt x="81" y="318"/>
                    </a:lnTo>
                    <a:lnTo>
                      <a:pt x="81" y="319"/>
                    </a:lnTo>
                    <a:lnTo>
                      <a:pt x="95" y="319"/>
                    </a:lnTo>
                    <a:lnTo>
                      <a:pt x="95" y="4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882760" y="2064240"/>
                <a:ext cx="12600" cy="11880"/>
              </a:xfrm>
              <a:custGeom>
                <a:avLst/>
                <a:gdLst/>
                <a:ahLst/>
                <a:rect l="l" t="t" r="r" b="b"/>
                <a:pathLst>
                  <a:path w="12" h="9">
                    <a:moveTo>
                      <a:pt x="12" y="5"/>
                    </a:moveTo>
                    <a:lnTo>
                      <a:pt x="0" y="9"/>
                    </a:lnTo>
                    <a:lnTo>
                      <a:pt x="1" y="7"/>
                    </a:lnTo>
                    <a:lnTo>
                      <a:pt x="1" y="5"/>
                    </a:lnTo>
                    <a:lnTo>
                      <a:pt x="1" y="2"/>
                    </a:lnTo>
                    <a:lnTo>
                      <a:pt x="0" y="0"/>
                    </a:lnTo>
                    <a:lnTo>
                      <a:pt x="12"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16" name=""/>
              <p:cNvSpPr/>
              <p:nvPr/>
            </p:nvSpPr>
            <p:spPr>
              <a:xfrm>
                <a:off x="3716640" y="3004560"/>
                <a:ext cx="185040" cy="69480"/>
              </a:xfrm>
              <a:prstGeom prst="rect">
                <a:avLst/>
              </a:prstGeom>
              <a:blipFill rotWithShape="0">
                <a:blip r:embed="rId61"/>
                <a:srcRect/>
                <a:tile tx="0" ty="0" sx="100000" sy="100000" algn="ctr"/>
              </a:blip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7" name=""/>
              <p:cNvSpPr/>
              <p:nvPr/>
            </p:nvSpPr>
            <p:spPr>
              <a:xfrm>
                <a:off x="3749760" y="3024720"/>
                <a:ext cx="159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sumix</a:t>
                </a:r>
                <a:endParaRPr b="0" lang="en-US" sz="300" spc="-1" strike="noStrike">
                  <a:solidFill>
                    <a:srgbClr val="ffffff"/>
                  </a:solidFill>
                  <a:latin typeface="Arial"/>
                </a:endParaRPr>
              </a:p>
            </p:txBody>
          </p:sp>
          <p:sp>
            <p:nvSpPr>
              <p:cNvPr id="618" name=""/>
              <p:cNvSpPr/>
              <p:nvPr/>
            </p:nvSpPr>
            <p:spPr>
              <a:xfrm>
                <a:off x="3875400" y="3085920"/>
                <a:ext cx="295200" cy="38520"/>
              </a:xfrm>
              <a:custGeom>
                <a:avLst/>
                <a:gdLst/>
                <a:ahLst/>
                <a:rect l="l" t="t" r="r" b="b"/>
                <a:pathLst>
                  <a:path w="279" h="29">
                    <a:moveTo>
                      <a:pt x="0" y="0"/>
                    </a:moveTo>
                    <a:lnTo>
                      <a:pt x="0" y="29"/>
                    </a:lnTo>
                    <a:lnTo>
                      <a:pt x="171" y="29"/>
                    </a:lnTo>
                    <a:lnTo>
                      <a:pt x="172" y="27"/>
                    </a:lnTo>
                    <a:lnTo>
                      <a:pt x="173" y="26"/>
                    </a:lnTo>
                    <a:lnTo>
                      <a:pt x="174" y="26"/>
                    </a:lnTo>
                    <a:lnTo>
                      <a:pt x="176" y="25"/>
                    </a:lnTo>
                    <a:lnTo>
                      <a:pt x="177" y="26"/>
                    </a:lnTo>
                    <a:lnTo>
                      <a:pt x="179" y="26"/>
                    </a:lnTo>
                    <a:lnTo>
                      <a:pt x="180" y="27"/>
                    </a:lnTo>
                    <a:lnTo>
                      <a:pt x="180" y="29"/>
                    </a:lnTo>
                    <a:lnTo>
                      <a:pt x="279" y="29"/>
                    </a:lnTo>
                  </a:path>
                </a:pathLst>
              </a:custGeom>
              <a:noFill/>
              <a:ln w="1440">
                <a:solidFill>
                  <a:srgbClr val="ff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19" name=""/>
              <p:cNvSpPr/>
              <p:nvPr/>
            </p:nvSpPr>
            <p:spPr>
              <a:xfrm>
                <a:off x="3868920" y="30740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0" name=""/>
              <p:cNvSpPr/>
              <p:nvPr/>
            </p:nvSpPr>
            <p:spPr>
              <a:xfrm>
                <a:off x="5125680" y="5064480"/>
                <a:ext cx="160920" cy="83880"/>
              </a:xfrm>
              <a:prstGeom prst="rect">
                <a:avLst/>
              </a:prstGeom>
              <a:blipFill rotWithShape="0">
                <a:blip r:embed="rId62"/>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21" name=""/>
              <p:cNvSpPr/>
              <p:nvPr/>
            </p:nvSpPr>
            <p:spPr>
              <a:xfrm>
                <a:off x="5163120" y="5089680"/>
                <a:ext cx="63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Op.</a:t>
                </a:r>
                <a:endParaRPr b="0" lang="en-US" sz="300" spc="-1" strike="noStrike">
                  <a:solidFill>
                    <a:srgbClr val="ffffff"/>
                  </a:solidFill>
                  <a:latin typeface="Arial"/>
                </a:endParaRPr>
              </a:p>
            </p:txBody>
          </p:sp>
          <p:sp>
            <p:nvSpPr>
              <p:cNvPr id="622" name=""/>
              <p:cNvSpPr/>
              <p:nvPr/>
            </p:nvSpPr>
            <p:spPr>
              <a:xfrm>
                <a:off x="5117400" y="4936320"/>
                <a:ext cx="88920" cy="115920"/>
              </a:xfrm>
              <a:custGeom>
                <a:avLst/>
                <a:gdLst/>
                <a:ahLst/>
                <a:rect l="l" t="t" r="r" b="b"/>
                <a:pathLst>
                  <a:path w="84" h="87">
                    <a:moveTo>
                      <a:pt x="84" y="87"/>
                    </a:moveTo>
                    <a:lnTo>
                      <a:pt x="84" y="80"/>
                    </a:lnTo>
                    <a:lnTo>
                      <a:pt x="0" y="80"/>
                    </a:lnTo>
                    <a:lnTo>
                      <a:pt x="0"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199840" y="5051160"/>
                <a:ext cx="11520" cy="13320"/>
              </a:xfrm>
              <a:custGeom>
                <a:avLst/>
                <a:gdLst/>
                <a:ahLst/>
                <a:rect l="l" t="t" r="r" b="b"/>
                <a:pathLst>
                  <a:path w="11" h="10">
                    <a:moveTo>
                      <a:pt x="11" y="1"/>
                    </a:moveTo>
                    <a:lnTo>
                      <a:pt x="6" y="10"/>
                    </a:lnTo>
                    <a:lnTo>
                      <a:pt x="0" y="1"/>
                    </a:lnTo>
                    <a:lnTo>
                      <a:pt x="2" y="0"/>
                    </a:lnTo>
                    <a:lnTo>
                      <a:pt x="6" y="0"/>
                    </a:lnTo>
                    <a:lnTo>
                      <a:pt x="9" y="0"/>
                    </a:lnTo>
                    <a:lnTo>
                      <a:pt x="11"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4" name=""/>
              <p:cNvSpPr/>
              <p:nvPr/>
            </p:nvSpPr>
            <p:spPr>
              <a:xfrm>
                <a:off x="5110920" y="49240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5" name=""/>
              <p:cNvSpPr/>
              <p:nvPr/>
            </p:nvSpPr>
            <p:spPr>
              <a:xfrm>
                <a:off x="8264880" y="4453920"/>
                <a:ext cx="221040" cy="95760"/>
              </a:xfrm>
              <a:prstGeom prst="rect">
                <a:avLst/>
              </a:prstGeom>
              <a:blipFill rotWithShape="0">
                <a:blip r:embed="rId6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8285760" y="4466160"/>
                <a:ext cx="238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re Budget</a:t>
                </a:r>
                <a:endParaRPr b="0" lang="en-US" sz="300" spc="-1" strike="noStrike">
                  <a:solidFill>
                    <a:srgbClr val="ffffff"/>
                  </a:solidFill>
                  <a:latin typeface="Arial"/>
                </a:endParaRPr>
              </a:p>
            </p:txBody>
          </p:sp>
          <p:sp>
            <p:nvSpPr>
              <p:cNvPr id="627" name=""/>
              <p:cNvSpPr/>
              <p:nvPr/>
            </p:nvSpPr>
            <p:spPr>
              <a:xfrm>
                <a:off x="8310240" y="4502160"/>
                <a:ext cx="17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orting</a:t>
                </a:r>
                <a:endParaRPr b="0" lang="en-US" sz="300" spc="-1" strike="noStrike">
                  <a:solidFill>
                    <a:srgbClr val="ffffff"/>
                  </a:solidFill>
                  <a:latin typeface="Arial"/>
                </a:endParaRPr>
              </a:p>
            </p:txBody>
          </p:sp>
          <p:sp>
            <p:nvSpPr>
              <p:cNvPr id="628" name=""/>
              <p:cNvSpPr/>
              <p:nvPr/>
            </p:nvSpPr>
            <p:spPr>
              <a:xfrm>
                <a:off x="8483760" y="4134600"/>
                <a:ext cx="24480" cy="367200"/>
              </a:xfrm>
              <a:custGeom>
                <a:avLst/>
                <a:gdLst/>
                <a:ahLst/>
                <a:rect l="l" t="t" r="r" b="b"/>
                <a:pathLst>
                  <a:path w="23" h="275">
                    <a:moveTo>
                      <a:pt x="14" y="275"/>
                    </a:moveTo>
                    <a:lnTo>
                      <a:pt x="23" y="275"/>
                    </a:lnTo>
                    <a:lnTo>
                      <a:pt x="23" y="16"/>
                    </a:lnTo>
                    <a:lnTo>
                      <a:pt x="0" y="1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8486280" y="4495320"/>
                <a:ext cx="13680" cy="1152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0" name=""/>
              <p:cNvSpPr/>
              <p:nvPr/>
            </p:nvSpPr>
            <p:spPr>
              <a:xfrm>
                <a:off x="4803120" y="5230080"/>
                <a:ext cx="7200" cy="61200"/>
              </a:xfrm>
              <a:custGeom>
                <a:avLst/>
                <a:gdLst/>
                <a:ahLst/>
                <a:rect l="l" t="t" r="r" b="b"/>
                <a:pathLst>
                  <a:path w="7" h="46">
                    <a:moveTo>
                      <a:pt x="7" y="0"/>
                    </a:moveTo>
                    <a:lnTo>
                      <a:pt x="7" y="16"/>
                    </a:lnTo>
                    <a:lnTo>
                      <a:pt x="0" y="16"/>
                    </a:lnTo>
                    <a:lnTo>
                      <a:pt x="0" y="46"/>
                    </a:lnTo>
                  </a:path>
                </a:pathLst>
              </a:custGeom>
              <a:noFill/>
              <a:ln w="14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31" name=""/>
              <p:cNvSpPr/>
              <p:nvPr/>
            </p:nvSpPr>
            <p:spPr>
              <a:xfrm>
                <a:off x="4797360" y="528984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32" name=""/>
              <p:cNvSpPr/>
              <p:nvPr/>
            </p:nvSpPr>
            <p:spPr>
              <a:xfrm>
                <a:off x="3701880" y="2582640"/>
                <a:ext cx="293040" cy="101160"/>
              </a:xfrm>
              <a:prstGeom prst="rect">
                <a:avLst/>
              </a:prstGeom>
              <a:blipFill rotWithShape="0">
                <a:blip r:embed="rId6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734640" y="2617200"/>
                <a:ext cx="212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Tally Sheet</a:t>
                </a:r>
                <a:endParaRPr b="0" lang="en-US" sz="300" spc="-1" strike="noStrike">
                  <a:solidFill>
                    <a:srgbClr val="ffffff"/>
                  </a:solidFill>
                  <a:latin typeface="Arial"/>
                </a:endParaRPr>
              </a:p>
            </p:txBody>
          </p:sp>
          <p:sp>
            <p:nvSpPr>
              <p:cNvPr id="634" name=""/>
              <p:cNvSpPr/>
              <p:nvPr/>
            </p:nvSpPr>
            <p:spPr>
              <a:xfrm>
                <a:off x="3972960" y="2696040"/>
                <a:ext cx="236880" cy="396360"/>
              </a:xfrm>
              <a:custGeom>
                <a:avLst/>
                <a:gdLst/>
                <a:ahLst/>
                <a:rect l="l" t="t" r="r" b="b"/>
                <a:pathLst>
                  <a:path w="224" h="297">
                    <a:moveTo>
                      <a:pt x="0" y="0"/>
                    </a:moveTo>
                    <a:lnTo>
                      <a:pt x="0" y="66"/>
                    </a:lnTo>
                    <a:lnTo>
                      <a:pt x="48" y="66"/>
                    </a:lnTo>
                    <a:lnTo>
                      <a:pt x="48" y="291"/>
                    </a:lnTo>
                    <a:lnTo>
                      <a:pt x="79" y="291"/>
                    </a:lnTo>
                    <a:lnTo>
                      <a:pt x="80" y="290"/>
                    </a:lnTo>
                    <a:lnTo>
                      <a:pt x="81" y="289"/>
                    </a:lnTo>
                    <a:lnTo>
                      <a:pt x="82" y="288"/>
                    </a:lnTo>
                    <a:lnTo>
                      <a:pt x="84" y="287"/>
                    </a:lnTo>
                    <a:lnTo>
                      <a:pt x="86" y="288"/>
                    </a:lnTo>
                    <a:lnTo>
                      <a:pt x="87" y="289"/>
                    </a:lnTo>
                    <a:lnTo>
                      <a:pt x="88" y="290"/>
                    </a:lnTo>
                    <a:lnTo>
                      <a:pt x="88" y="291"/>
                    </a:lnTo>
                    <a:lnTo>
                      <a:pt x="224" y="291"/>
                    </a:lnTo>
                    <a:lnTo>
                      <a:pt x="224" y="29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966480" y="26838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36" name=""/>
              <p:cNvSpPr/>
              <p:nvPr/>
            </p:nvSpPr>
            <p:spPr>
              <a:xfrm>
                <a:off x="4203720" y="30913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37" name=""/>
              <p:cNvSpPr/>
              <p:nvPr/>
            </p:nvSpPr>
            <p:spPr>
              <a:xfrm>
                <a:off x="3995280" y="2617200"/>
                <a:ext cx="135360" cy="78480"/>
              </a:xfrm>
              <a:custGeom>
                <a:avLst/>
                <a:gdLst/>
                <a:ahLst/>
                <a:rect l="l" t="t" r="r" b="b"/>
                <a:pathLst>
                  <a:path w="128" h="59">
                    <a:moveTo>
                      <a:pt x="0" y="0"/>
                    </a:moveTo>
                    <a:lnTo>
                      <a:pt x="20" y="0"/>
                    </a:lnTo>
                    <a:lnTo>
                      <a:pt x="20" y="59"/>
                    </a:lnTo>
                    <a:lnTo>
                      <a:pt x="29" y="59"/>
                    </a:lnTo>
                    <a:lnTo>
                      <a:pt x="30" y="57"/>
                    </a:lnTo>
                    <a:lnTo>
                      <a:pt x="31" y="56"/>
                    </a:lnTo>
                    <a:lnTo>
                      <a:pt x="32" y="56"/>
                    </a:lnTo>
                    <a:lnTo>
                      <a:pt x="34" y="55"/>
                    </a:lnTo>
                    <a:lnTo>
                      <a:pt x="36" y="56"/>
                    </a:lnTo>
                    <a:lnTo>
                      <a:pt x="37" y="56"/>
                    </a:lnTo>
                    <a:lnTo>
                      <a:pt x="38" y="57"/>
                    </a:lnTo>
                    <a:lnTo>
                      <a:pt x="38" y="59"/>
                    </a:lnTo>
                    <a:lnTo>
                      <a:pt x="43" y="59"/>
                    </a:lnTo>
                    <a:lnTo>
                      <a:pt x="43" y="57"/>
                    </a:lnTo>
                    <a:lnTo>
                      <a:pt x="44" y="56"/>
                    </a:lnTo>
                    <a:lnTo>
                      <a:pt x="46" y="56"/>
                    </a:lnTo>
                    <a:lnTo>
                      <a:pt x="48" y="55"/>
                    </a:lnTo>
                    <a:lnTo>
                      <a:pt x="49" y="56"/>
                    </a:lnTo>
                    <a:lnTo>
                      <a:pt x="51" y="56"/>
                    </a:lnTo>
                    <a:lnTo>
                      <a:pt x="52" y="57"/>
                    </a:lnTo>
                    <a:lnTo>
                      <a:pt x="52" y="59"/>
                    </a:lnTo>
                    <a:lnTo>
                      <a:pt x="128" y="59"/>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38" name=""/>
              <p:cNvSpPr/>
              <p:nvPr/>
            </p:nvSpPr>
            <p:spPr>
              <a:xfrm>
                <a:off x="4128480" y="2689560"/>
                <a:ext cx="14400" cy="11520"/>
              </a:xfrm>
              <a:custGeom>
                <a:avLst/>
                <a:gdLst/>
                <a:ahLst/>
                <a:rect l="l" t="t" r="r" b="b"/>
                <a:pathLst>
                  <a:path w="14" h="9">
                    <a:moveTo>
                      <a:pt x="2" y="0"/>
                    </a:moveTo>
                    <a:lnTo>
                      <a:pt x="14" y="5"/>
                    </a:lnTo>
                    <a:lnTo>
                      <a:pt x="2" y="9"/>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9" name=""/>
              <p:cNvSpPr/>
              <p:nvPr/>
            </p:nvSpPr>
            <p:spPr>
              <a:xfrm>
                <a:off x="3972960" y="2551680"/>
                <a:ext cx="131040" cy="30600"/>
              </a:xfrm>
              <a:custGeom>
                <a:avLst/>
                <a:gdLst/>
                <a:ahLst/>
                <a:rect l="l" t="t" r="r" b="b"/>
                <a:pathLst>
                  <a:path w="124" h="23">
                    <a:moveTo>
                      <a:pt x="0" y="23"/>
                    </a:moveTo>
                    <a:lnTo>
                      <a:pt x="0" y="0"/>
                    </a:lnTo>
                    <a:lnTo>
                      <a:pt x="124" y="0"/>
                    </a:lnTo>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40" name=""/>
              <p:cNvSpPr/>
              <p:nvPr/>
            </p:nvSpPr>
            <p:spPr>
              <a:xfrm>
                <a:off x="4103280" y="254484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41" name=""/>
              <p:cNvSpPr/>
              <p:nvPr/>
            </p:nvSpPr>
            <p:spPr>
              <a:xfrm>
                <a:off x="6497640" y="5272560"/>
                <a:ext cx="329040" cy="104040"/>
              </a:xfrm>
              <a:prstGeom prst="rect">
                <a:avLst/>
              </a:prstGeom>
              <a:blipFill rotWithShape="0">
                <a:blip r:embed="rId6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518880" y="5308920"/>
                <a:ext cx="383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ash Receipts/Credit</a:t>
                </a:r>
                <a:endParaRPr b="0" lang="en-US" sz="300" spc="-1" strike="noStrike">
                  <a:solidFill>
                    <a:srgbClr val="ffffff"/>
                  </a:solidFill>
                  <a:latin typeface="Arial"/>
                </a:endParaRPr>
              </a:p>
            </p:txBody>
          </p:sp>
          <p:sp>
            <p:nvSpPr>
              <p:cNvPr id="643" name=""/>
              <p:cNvSpPr/>
              <p:nvPr/>
            </p:nvSpPr>
            <p:spPr>
              <a:xfrm>
                <a:off x="5981400" y="4948200"/>
                <a:ext cx="234720" cy="131760"/>
              </a:xfrm>
              <a:prstGeom prst="rect">
                <a:avLst/>
              </a:prstGeom>
              <a:blipFill rotWithShape="0">
                <a:blip r:embed="rId6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15960" y="4980240"/>
                <a:ext cx="127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House</a:t>
                </a:r>
                <a:endParaRPr b="0" lang="en-US" sz="300" spc="-1" strike="noStrike">
                  <a:solidFill>
                    <a:srgbClr val="ffffff"/>
                  </a:solidFill>
                  <a:latin typeface="Arial"/>
                </a:endParaRPr>
              </a:p>
            </p:txBody>
          </p:sp>
          <p:sp>
            <p:nvSpPr>
              <p:cNvPr id="645" name=""/>
              <p:cNvSpPr/>
              <p:nvPr/>
            </p:nvSpPr>
            <p:spPr>
              <a:xfrm>
                <a:off x="6040800" y="5012280"/>
                <a:ext cx="15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harges</a:t>
                </a:r>
                <a:endParaRPr b="0" lang="en-US" sz="300" spc="-1" strike="noStrike">
                  <a:solidFill>
                    <a:srgbClr val="ffffff"/>
                  </a:solidFill>
                  <a:latin typeface="Arial"/>
                </a:endParaRPr>
              </a:p>
            </p:txBody>
          </p:sp>
          <p:sp>
            <p:nvSpPr>
              <p:cNvPr id="646" name=""/>
              <p:cNvSpPr/>
              <p:nvPr/>
            </p:nvSpPr>
            <p:spPr>
              <a:xfrm>
                <a:off x="6228000" y="5044320"/>
                <a:ext cx="257040" cy="280440"/>
              </a:xfrm>
              <a:custGeom>
                <a:avLst/>
                <a:gdLst/>
                <a:ahLst/>
                <a:rect l="l" t="t" r="r" b="b"/>
                <a:pathLst>
                  <a:path w="243" h="210">
                    <a:moveTo>
                      <a:pt x="243" y="210"/>
                    </a:moveTo>
                    <a:lnTo>
                      <a:pt x="235" y="210"/>
                    </a:lnTo>
                    <a:lnTo>
                      <a:pt x="235" y="4"/>
                    </a:lnTo>
                    <a:lnTo>
                      <a:pt x="57" y="4"/>
                    </a:lnTo>
                    <a:lnTo>
                      <a:pt x="57" y="2"/>
                    </a:lnTo>
                    <a:lnTo>
                      <a:pt x="56" y="1"/>
                    </a:lnTo>
                    <a:lnTo>
                      <a:pt x="54" y="0"/>
                    </a:lnTo>
                    <a:lnTo>
                      <a:pt x="53" y="0"/>
                    </a:lnTo>
                    <a:lnTo>
                      <a:pt x="51" y="0"/>
                    </a:lnTo>
                    <a:lnTo>
                      <a:pt x="49" y="1"/>
                    </a:lnTo>
                    <a:lnTo>
                      <a:pt x="49" y="2"/>
                    </a:lnTo>
                    <a:lnTo>
                      <a:pt x="48" y="4"/>
                    </a:lnTo>
                    <a:lnTo>
                      <a:pt x="0" y="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483960" y="531828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48" name=""/>
              <p:cNvSpPr/>
              <p:nvPr/>
            </p:nvSpPr>
            <p:spPr>
              <a:xfrm>
                <a:off x="6216120" y="5043240"/>
                <a:ext cx="13680" cy="11520"/>
              </a:xfrm>
              <a:custGeom>
                <a:avLst/>
                <a:gdLst/>
                <a:ahLst/>
                <a:rect l="l" t="t" r="r" b="b"/>
                <a:pathLst>
                  <a:path w="13" h="9">
                    <a:moveTo>
                      <a:pt x="11" y="9"/>
                    </a:moveTo>
                    <a:lnTo>
                      <a:pt x="0" y="5"/>
                    </a:lnTo>
                    <a:lnTo>
                      <a:pt x="11" y="0"/>
                    </a:lnTo>
                    <a:lnTo>
                      <a:pt x="12" y="2"/>
                    </a:lnTo>
                    <a:lnTo>
                      <a:pt x="13" y="5"/>
                    </a:lnTo>
                    <a:lnTo>
                      <a:pt x="12" y="7"/>
                    </a:lnTo>
                    <a:lnTo>
                      <a:pt x="11"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9" name=""/>
              <p:cNvSpPr/>
              <p:nvPr/>
            </p:nvSpPr>
            <p:spPr>
              <a:xfrm>
                <a:off x="6662880" y="4822560"/>
                <a:ext cx="779040" cy="436680"/>
              </a:xfrm>
              <a:custGeom>
                <a:avLst/>
                <a:gdLst/>
                <a:ahLst/>
                <a:rect l="l" t="t" r="r" b="b"/>
                <a:pathLst>
                  <a:path w="736" h="327">
                    <a:moveTo>
                      <a:pt x="736" y="5"/>
                    </a:moveTo>
                    <a:lnTo>
                      <a:pt x="566" y="5"/>
                    </a:lnTo>
                    <a:lnTo>
                      <a:pt x="566" y="4"/>
                    </a:lnTo>
                    <a:lnTo>
                      <a:pt x="565" y="3"/>
                    </a:lnTo>
                    <a:lnTo>
                      <a:pt x="564" y="2"/>
                    </a:lnTo>
                    <a:lnTo>
                      <a:pt x="562" y="2"/>
                    </a:lnTo>
                    <a:lnTo>
                      <a:pt x="560" y="2"/>
                    </a:lnTo>
                    <a:lnTo>
                      <a:pt x="559" y="3"/>
                    </a:lnTo>
                    <a:lnTo>
                      <a:pt x="558" y="4"/>
                    </a:lnTo>
                    <a:lnTo>
                      <a:pt x="557" y="5"/>
                    </a:lnTo>
                    <a:lnTo>
                      <a:pt x="180" y="5"/>
                    </a:lnTo>
                    <a:lnTo>
                      <a:pt x="179" y="4"/>
                    </a:lnTo>
                    <a:lnTo>
                      <a:pt x="178" y="2"/>
                    </a:lnTo>
                    <a:lnTo>
                      <a:pt x="177" y="1"/>
                    </a:lnTo>
                    <a:lnTo>
                      <a:pt x="175" y="0"/>
                    </a:lnTo>
                    <a:lnTo>
                      <a:pt x="173" y="0"/>
                    </a:lnTo>
                    <a:lnTo>
                      <a:pt x="171" y="0"/>
                    </a:lnTo>
                    <a:lnTo>
                      <a:pt x="169" y="1"/>
                    </a:lnTo>
                    <a:lnTo>
                      <a:pt x="167" y="2"/>
                    </a:lnTo>
                    <a:lnTo>
                      <a:pt x="166" y="4"/>
                    </a:lnTo>
                    <a:lnTo>
                      <a:pt x="166" y="5"/>
                    </a:lnTo>
                    <a:lnTo>
                      <a:pt x="33" y="5"/>
                    </a:lnTo>
                    <a:lnTo>
                      <a:pt x="33" y="321"/>
                    </a:lnTo>
                    <a:lnTo>
                      <a:pt x="0" y="321"/>
                    </a:lnTo>
                    <a:lnTo>
                      <a:pt x="0" y="3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0" name=""/>
              <p:cNvGrpSpPr/>
              <p:nvPr/>
            </p:nvGrpSpPr>
            <p:grpSpPr>
              <a:xfrm>
                <a:off x="3716640" y="2040120"/>
                <a:ext cx="4917240" cy="3337920"/>
                <a:chOff x="3716640" y="2040120"/>
                <a:chExt cx="4917240" cy="3337920"/>
              </a:xfrm>
            </p:grpSpPr>
            <p:sp>
              <p:nvSpPr>
                <p:cNvPr id="651" name=""/>
                <p:cNvSpPr/>
                <p:nvPr/>
              </p:nvSpPr>
              <p:spPr>
                <a:xfrm>
                  <a:off x="6656040" y="525780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52" name=""/>
                <p:cNvSpPr/>
                <p:nvPr/>
              </p:nvSpPr>
              <p:spPr>
                <a:xfrm>
                  <a:off x="8228520" y="4226760"/>
                  <a:ext cx="216720" cy="59760"/>
                </a:xfrm>
                <a:prstGeom prst="rect">
                  <a:avLst/>
                </a:prstGeom>
                <a:blipFill rotWithShape="0">
                  <a:blip r:embed="rId67"/>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653" name=""/>
                <p:cNvSpPr/>
                <p:nvPr/>
              </p:nvSpPr>
              <p:spPr>
                <a:xfrm>
                  <a:off x="8254080" y="4241160"/>
                  <a:ext cx="218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d Expense</a:t>
                  </a:r>
                  <a:endParaRPr b="0" lang="en-US" sz="300" spc="-1" strike="noStrike">
                    <a:solidFill>
                      <a:srgbClr val="ffffff"/>
                    </a:solidFill>
                    <a:latin typeface="Arial"/>
                  </a:endParaRPr>
                </a:p>
              </p:txBody>
            </p:sp>
            <p:sp>
              <p:nvSpPr>
                <p:cNvPr id="654" name=""/>
                <p:cNvSpPr/>
                <p:nvPr/>
              </p:nvSpPr>
              <p:spPr>
                <a:xfrm>
                  <a:off x="8323560" y="4146480"/>
                  <a:ext cx="12600" cy="79920"/>
                </a:xfrm>
                <a:custGeom>
                  <a:avLst/>
                  <a:gdLst/>
                  <a:ahLst/>
                  <a:rect l="l" t="t" r="r" b="b"/>
                  <a:pathLst>
                    <a:path w="12" h="60">
                      <a:moveTo>
                        <a:pt x="12" y="60"/>
                      </a:moveTo>
                      <a:lnTo>
                        <a:pt x="12" y="45"/>
                      </a:lnTo>
                      <a:lnTo>
                        <a:pt x="0" y="45"/>
                      </a:lnTo>
                      <a:lnTo>
                        <a:pt x="0" y="0"/>
                      </a:lnTo>
                    </a:path>
                  </a:pathLst>
                </a:custGeom>
                <a:noFill/>
                <a:ln w="14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55" name=""/>
                <p:cNvSpPr/>
                <p:nvPr/>
              </p:nvSpPr>
              <p:spPr>
                <a:xfrm>
                  <a:off x="8317080" y="4134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56" name=""/>
                <p:cNvSpPr/>
                <p:nvPr/>
              </p:nvSpPr>
              <p:spPr>
                <a:xfrm>
                  <a:off x="7777440" y="2844000"/>
                  <a:ext cx="193680" cy="108000"/>
                </a:xfrm>
                <a:prstGeom prst="rect">
                  <a:avLst/>
                </a:prstGeom>
                <a:blipFill rotWithShape="0">
                  <a:blip r:embed="rId6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801560" y="2861280"/>
                  <a:ext cx="133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omo</a:t>
                  </a:r>
                  <a:endParaRPr b="0" lang="en-US" sz="300" spc="-1" strike="noStrike">
                    <a:solidFill>
                      <a:srgbClr val="ffffff"/>
                    </a:solidFill>
                    <a:latin typeface="Arial"/>
                  </a:endParaRPr>
                </a:p>
              </p:txBody>
            </p:sp>
            <p:sp>
              <p:nvSpPr>
                <p:cNvPr id="658" name=""/>
                <p:cNvSpPr/>
                <p:nvPr/>
              </p:nvSpPr>
              <p:spPr>
                <a:xfrm>
                  <a:off x="7813080" y="2898720"/>
                  <a:ext cx="15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nalysis</a:t>
                  </a:r>
                  <a:endParaRPr b="0" lang="en-US" sz="300" spc="-1" strike="noStrike">
                    <a:solidFill>
                      <a:srgbClr val="ffffff"/>
                    </a:solidFill>
                    <a:latin typeface="Arial"/>
                  </a:endParaRPr>
                </a:p>
              </p:txBody>
            </p:sp>
            <p:sp>
              <p:nvSpPr>
                <p:cNvPr id="659" name=""/>
                <p:cNvSpPr/>
                <p:nvPr/>
              </p:nvSpPr>
              <p:spPr>
                <a:xfrm>
                  <a:off x="7777440" y="2997720"/>
                  <a:ext cx="199800" cy="117360"/>
                </a:xfrm>
                <a:prstGeom prst="rect">
                  <a:avLst/>
                </a:prstGeom>
                <a:blipFill rotWithShape="0">
                  <a:blip r:embed="rId6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7812720" y="3007080"/>
                  <a:ext cx="95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ce</a:t>
                  </a:r>
                  <a:endParaRPr b="0" lang="en-US" sz="300" spc="-1" strike="noStrike">
                    <a:solidFill>
                      <a:srgbClr val="ffffff"/>
                    </a:solidFill>
                    <a:latin typeface="Arial"/>
                  </a:endParaRPr>
                </a:p>
              </p:txBody>
            </p:sp>
            <p:sp>
              <p:nvSpPr>
                <p:cNvPr id="661" name=""/>
                <p:cNvSpPr/>
                <p:nvPr/>
              </p:nvSpPr>
              <p:spPr>
                <a:xfrm>
                  <a:off x="7813800" y="3037680"/>
                  <a:ext cx="180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rketing</a:t>
                  </a:r>
                  <a:endParaRPr b="0" lang="en-US" sz="300" spc="-1" strike="noStrike">
                    <a:solidFill>
                      <a:srgbClr val="ffffff"/>
                    </a:solidFill>
                    <a:latin typeface="Arial"/>
                  </a:endParaRPr>
                </a:p>
              </p:txBody>
            </p:sp>
            <p:sp>
              <p:nvSpPr>
                <p:cNvPr id="662" name=""/>
                <p:cNvSpPr/>
                <p:nvPr/>
              </p:nvSpPr>
              <p:spPr>
                <a:xfrm>
                  <a:off x="7824960" y="3073680"/>
                  <a:ext cx="145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upport</a:t>
                  </a:r>
                  <a:endParaRPr b="0" lang="en-US" sz="300" spc="-1" strike="noStrike">
                    <a:solidFill>
                      <a:srgbClr val="ffffff"/>
                    </a:solidFill>
                    <a:latin typeface="Arial"/>
                  </a:endParaRPr>
                </a:p>
              </p:txBody>
            </p:sp>
            <p:sp>
              <p:nvSpPr>
                <p:cNvPr id="663" name=""/>
                <p:cNvSpPr/>
                <p:nvPr/>
              </p:nvSpPr>
              <p:spPr>
                <a:xfrm>
                  <a:off x="7874640" y="2964240"/>
                  <a:ext cx="2880" cy="33480"/>
                </a:xfrm>
                <a:custGeom>
                  <a:avLst/>
                  <a:gdLst/>
                  <a:ahLst/>
                  <a:rect l="l" t="t" r="r" b="b"/>
                  <a:pathLst>
                    <a:path w="3" h="25">
                      <a:moveTo>
                        <a:pt x="0" y="0"/>
                      </a:moveTo>
                      <a:lnTo>
                        <a:pt x="0" y="7"/>
                      </a:lnTo>
                      <a:lnTo>
                        <a:pt x="3" y="7"/>
                      </a:lnTo>
                      <a:lnTo>
                        <a:pt x="3" y="25"/>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4" name=""/>
                <p:cNvSpPr/>
                <p:nvPr/>
              </p:nvSpPr>
              <p:spPr>
                <a:xfrm>
                  <a:off x="7868160" y="29523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5" name=""/>
                <p:cNvSpPr/>
                <p:nvPr/>
              </p:nvSpPr>
              <p:spPr>
                <a:xfrm>
                  <a:off x="6634080" y="2565000"/>
                  <a:ext cx="1272240" cy="267120"/>
                </a:xfrm>
                <a:custGeom>
                  <a:avLst/>
                  <a:gdLst/>
                  <a:ahLst/>
                  <a:rect l="l" t="t" r="r" b="b"/>
                  <a:pathLst>
                    <a:path w="1202" h="200">
                      <a:moveTo>
                        <a:pt x="0" y="3"/>
                      </a:moveTo>
                      <a:lnTo>
                        <a:pt x="35" y="3"/>
                      </a:lnTo>
                      <a:lnTo>
                        <a:pt x="36" y="2"/>
                      </a:lnTo>
                      <a:lnTo>
                        <a:pt x="37" y="1"/>
                      </a:lnTo>
                      <a:lnTo>
                        <a:pt x="38" y="0"/>
                      </a:lnTo>
                      <a:lnTo>
                        <a:pt x="40" y="0"/>
                      </a:lnTo>
                      <a:lnTo>
                        <a:pt x="42" y="0"/>
                      </a:lnTo>
                      <a:lnTo>
                        <a:pt x="43" y="1"/>
                      </a:lnTo>
                      <a:lnTo>
                        <a:pt x="44" y="2"/>
                      </a:lnTo>
                      <a:lnTo>
                        <a:pt x="44" y="3"/>
                      </a:lnTo>
                      <a:lnTo>
                        <a:pt x="56" y="3"/>
                      </a:lnTo>
                      <a:lnTo>
                        <a:pt x="56" y="2"/>
                      </a:lnTo>
                      <a:lnTo>
                        <a:pt x="57" y="1"/>
                      </a:lnTo>
                      <a:lnTo>
                        <a:pt x="59" y="0"/>
                      </a:lnTo>
                      <a:lnTo>
                        <a:pt x="60" y="0"/>
                      </a:lnTo>
                      <a:lnTo>
                        <a:pt x="62" y="0"/>
                      </a:lnTo>
                      <a:lnTo>
                        <a:pt x="64" y="1"/>
                      </a:lnTo>
                      <a:lnTo>
                        <a:pt x="65" y="2"/>
                      </a:lnTo>
                      <a:lnTo>
                        <a:pt x="65" y="3"/>
                      </a:lnTo>
                      <a:lnTo>
                        <a:pt x="78" y="3"/>
                      </a:lnTo>
                      <a:lnTo>
                        <a:pt x="79" y="2"/>
                      </a:lnTo>
                      <a:lnTo>
                        <a:pt x="80" y="1"/>
                      </a:lnTo>
                      <a:lnTo>
                        <a:pt x="81" y="0"/>
                      </a:lnTo>
                      <a:lnTo>
                        <a:pt x="83" y="0"/>
                      </a:lnTo>
                      <a:lnTo>
                        <a:pt x="85" y="0"/>
                      </a:lnTo>
                      <a:lnTo>
                        <a:pt x="86" y="1"/>
                      </a:lnTo>
                      <a:lnTo>
                        <a:pt x="87" y="2"/>
                      </a:lnTo>
                      <a:lnTo>
                        <a:pt x="88" y="3"/>
                      </a:lnTo>
                      <a:lnTo>
                        <a:pt x="100" y="3"/>
                      </a:lnTo>
                      <a:lnTo>
                        <a:pt x="100" y="2"/>
                      </a:lnTo>
                      <a:lnTo>
                        <a:pt x="101" y="1"/>
                      </a:lnTo>
                      <a:lnTo>
                        <a:pt x="103" y="0"/>
                      </a:lnTo>
                      <a:lnTo>
                        <a:pt x="104" y="0"/>
                      </a:lnTo>
                      <a:lnTo>
                        <a:pt x="106" y="0"/>
                      </a:lnTo>
                      <a:lnTo>
                        <a:pt x="107" y="1"/>
                      </a:lnTo>
                      <a:lnTo>
                        <a:pt x="109" y="2"/>
                      </a:lnTo>
                      <a:lnTo>
                        <a:pt x="109" y="3"/>
                      </a:lnTo>
                      <a:lnTo>
                        <a:pt x="130" y="3"/>
                      </a:lnTo>
                      <a:lnTo>
                        <a:pt x="131" y="2"/>
                      </a:lnTo>
                      <a:lnTo>
                        <a:pt x="132" y="1"/>
                      </a:lnTo>
                      <a:lnTo>
                        <a:pt x="133" y="0"/>
                      </a:lnTo>
                      <a:lnTo>
                        <a:pt x="135" y="0"/>
                      </a:lnTo>
                      <a:lnTo>
                        <a:pt x="136" y="0"/>
                      </a:lnTo>
                      <a:lnTo>
                        <a:pt x="138" y="1"/>
                      </a:lnTo>
                      <a:lnTo>
                        <a:pt x="139" y="2"/>
                      </a:lnTo>
                      <a:lnTo>
                        <a:pt x="139" y="3"/>
                      </a:lnTo>
                      <a:lnTo>
                        <a:pt x="153" y="3"/>
                      </a:lnTo>
                      <a:lnTo>
                        <a:pt x="153" y="2"/>
                      </a:lnTo>
                      <a:lnTo>
                        <a:pt x="154" y="1"/>
                      </a:lnTo>
                      <a:lnTo>
                        <a:pt x="156" y="0"/>
                      </a:lnTo>
                      <a:lnTo>
                        <a:pt x="157" y="0"/>
                      </a:lnTo>
                      <a:lnTo>
                        <a:pt x="159" y="0"/>
                      </a:lnTo>
                      <a:lnTo>
                        <a:pt x="160" y="1"/>
                      </a:lnTo>
                      <a:lnTo>
                        <a:pt x="161" y="2"/>
                      </a:lnTo>
                      <a:lnTo>
                        <a:pt x="162" y="3"/>
                      </a:lnTo>
                      <a:lnTo>
                        <a:pt x="400" y="3"/>
                      </a:lnTo>
                      <a:lnTo>
                        <a:pt x="400" y="2"/>
                      </a:lnTo>
                      <a:lnTo>
                        <a:pt x="401" y="1"/>
                      </a:lnTo>
                      <a:lnTo>
                        <a:pt x="403" y="0"/>
                      </a:lnTo>
                      <a:lnTo>
                        <a:pt x="405" y="0"/>
                      </a:lnTo>
                      <a:lnTo>
                        <a:pt x="406" y="0"/>
                      </a:lnTo>
                      <a:lnTo>
                        <a:pt x="408" y="1"/>
                      </a:lnTo>
                      <a:lnTo>
                        <a:pt x="409" y="2"/>
                      </a:lnTo>
                      <a:lnTo>
                        <a:pt x="409" y="3"/>
                      </a:lnTo>
                      <a:lnTo>
                        <a:pt x="442" y="3"/>
                      </a:lnTo>
                      <a:lnTo>
                        <a:pt x="443" y="2"/>
                      </a:lnTo>
                      <a:lnTo>
                        <a:pt x="443" y="1"/>
                      </a:lnTo>
                      <a:lnTo>
                        <a:pt x="445" y="0"/>
                      </a:lnTo>
                      <a:lnTo>
                        <a:pt x="447" y="0"/>
                      </a:lnTo>
                      <a:lnTo>
                        <a:pt x="448" y="0"/>
                      </a:lnTo>
                      <a:lnTo>
                        <a:pt x="450" y="1"/>
                      </a:lnTo>
                      <a:lnTo>
                        <a:pt x="451" y="2"/>
                      </a:lnTo>
                      <a:lnTo>
                        <a:pt x="451" y="3"/>
                      </a:lnTo>
                      <a:lnTo>
                        <a:pt x="475" y="3"/>
                      </a:lnTo>
                      <a:lnTo>
                        <a:pt x="475" y="2"/>
                      </a:lnTo>
                      <a:lnTo>
                        <a:pt x="476" y="1"/>
                      </a:lnTo>
                      <a:lnTo>
                        <a:pt x="477" y="0"/>
                      </a:lnTo>
                      <a:lnTo>
                        <a:pt x="479" y="0"/>
                      </a:lnTo>
                      <a:lnTo>
                        <a:pt x="481" y="0"/>
                      </a:lnTo>
                      <a:lnTo>
                        <a:pt x="482" y="1"/>
                      </a:lnTo>
                      <a:lnTo>
                        <a:pt x="483" y="2"/>
                      </a:lnTo>
                      <a:lnTo>
                        <a:pt x="484" y="3"/>
                      </a:lnTo>
                      <a:lnTo>
                        <a:pt x="494" y="3"/>
                      </a:lnTo>
                      <a:lnTo>
                        <a:pt x="494" y="2"/>
                      </a:lnTo>
                      <a:lnTo>
                        <a:pt x="495" y="1"/>
                      </a:lnTo>
                      <a:lnTo>
                        <a:pt x="497" y="0"/>
                      </a:lnTo>
                      <a:lnTo>
                        <a:pt x="499" y="0"/>
                      </a:lnTo>
                      <a:lnTo>
                        <a:pt x="500" y="0"/>
                      </a:lnTo>
                      <a:lnTo>
                        <a:pt x="502" y="1"/>
                      </a:lnTo>
                      <a:lnTo>
                        <a:pt x="503" y="2"/>
                      </a:lnTo>
                      <a:lnTo>
                        <a:pt x="503" y="3"/>
                      </a:lnTo>
                      <a:lnTo>
                        <a:pt x="520" y="3"/>
                      </a:lnTo>
                      <a:lnTo>
                        <a:pt x="520" y="2"/>
                      </a:lnTo>
                      <a:lnTo>
                        <a:pt x="521" y="1"/>
                      </a:lnTo>
                      <a:lnTo>
                        <a:pt x="523" y="0"/>
                      </a:lnTo>
                      <a:lnTo>
                        <a:pt x="524" y="0"/>
                      </a:lnTo>
                      <a:lnTo>
                        <a:pt x="526" y="0"/>
                      </a:lnTo>
                      <a:lnTo>
                        <a:pt x="528" y="1"/>
                      </a:lnTo>
                      <a:lnTo>
                        <a:pt x="528" y="2"/>
                      </a:lnTo>
                      <a:lnTo>
                        <a:pt x="529" y="3"/>
                      </a:lnTo>
                      <a:lnTo>
                        <a:pt x="542" y="3"/>
                      </a:lnTo>
                      <a:lnTo>
                        <a:pt x="542" y="2"/>
                      </a:lnTo>
                      <a:lnTo>
                        <a:pt x="543" y="1"/>
                      </a:lnTo>
                      <a:lnTo>
                        <a:pt x="544" y="0"/>
                      </a:lnTo>
                      <a:lnTo>
                        <a:pt x="546" y="0"/>
                      </a:lnTo>
                      <a:lnTo>
                        <a:pt x="548" y="0"/>
                      </a:lnTo>
                      <a:lnTo>
                        <a:pt x="550" y="1"/>
                      </a:lnTo>
                      <a:lnTo>
                        <a:pt x="550" y="2"/>
                      </a:lnTo>
                      <a:lnTo>
                        <a:pt x="551" y="3"/>
                      </a:lnTo>
                      <a:lnTo>
                        <a:pt x="562" y="3"/>
                      </a:lnTo>
                      <a:lnTo>
                        <a:pt x="563" y="2"/>
                      </a:lnTo>
                      <a:lnTo>
                        <a:pt x="564" y="1"/>
                      </a:lnTo>
                      <a:lnTo>
                        <a:pt x="565" y="0"/>
                      </a:lnTo>
                      <a:lnTo>
                        <a:pt x="567" y="0"/>
                      </a:lnTo>
                      <a:lnTo>
                        <a:pt x="569" y="0"/>
                      </a:lnTo>
                      <a:lnTo>
                        <a:pt x="570" y="1"/>
                      </a:lnTo>
                      <a:lnTo>
                        <a:pt x="571" y="2"/>
                      </a:lnTo>
                      <a:lnTo>
                        <a:pt x="571" y="3"/>
                      </a:lnTo>
                      <a:lnTo>
                        <a:pt x="576" y="3"/>
                      </a:lnTo>
                      <a:lnTo>
                        <a:pt x="576" y="2"/>
                      </a:lnTo>
                      <a:lnTo>
                        <a:pt x="577" y="1"/>
                      </a:lnTo>
                      <a:lnTo>
                        <a:pt x="579" y="0"/>
                      </a:lnTo>
                      <a:lnTo>
                        <a:pt x="580" y="0"/>
                      </a:lnTo>
                      <a:lnTo>
                        <a:pt x="582" y="0"/>
                      </a:lnTo>
                      <a:lnTo>
                        <a:pt x="584" y="1"/>
                      </a:lnTo>
                      <a:lnTo>
                        <a:pt x="585" y="2"/>
                      </a:lnTo>
                      <a:lnTo>
                        <a:pt x="585" y="3"/>
                      </a:lnTo>
                      <a:lnTo>
                        <a:pt x="589" y="3"/>
                      </a:lnTo>
                      <a:lnTo>
                        <a:pt x="590" y="2"/>
                      </a:lnTo>
                      <a:lnTo>
                        <a:pt x="591" y="1"/>
                      </a:lnTo>
                      <a:lnTo>
                        <a:pt x="592" y="0"/>
                      </a:lnTo>
                      <a:lnTo>
                        <a:pt x="594" y="0"/>
                      </a:lnTo>
                      <a:lnTo>
                        <a:pt x="596" y="0"/>
                      </a:lnTo>
                      <a:lnTo>
                        <a:pt x="597" y="1"/>
                      </a:lnTo>
                      <a:lnTo>
                        <a:pt x="598" y="2"/>
                      </a:lnTo>
                      <a:lnTo>
                        <a:pt x="599" y="3"/>
                      </a:lnTo>
                      <a:lnTo>
                        <a:pt x="630" y="3"/>
                      </a:lnTo>
                      <a:lnTo>
                        <a:pt x="630" y="2"/>
                      </a:lnTo>
                      <a:lnTo>
                        <a:pt x="631" y="1"/>
                      </a:lnTo>
                      <a:lnTo>
                        <a:pt x="633" y="0"/>
                      </a:lnTo>
                      <a:lnTo>
                        <a:pt x="635" y="0"/>
                      </a:lnTo>
                      <a:lnTo>
                        <a:pt x="636" y="0"/>
                      </a:lnTo>
                      <a:lnTo>
                        <a:pt x="638" y="1"/>
                      </a:lnTo>
                      <a:lnTo>
                        <a:pt x="639" y="2"/>
                      </a:lnTo>
                      <a:lnTo>
                        <a:pt x="639" y="3"/>
                      </a:lnTo>
                      <a:lnTo>
                        <a:pt x="664" y="3"/>
                      </a:lnTo>
                      <a:lnTo>
                        <a:pt x="664" y="2"/>
                      </a:lnTo>
                      <a:lnTo>
                        <a:pt x="665" y="1"/>
                      </a:lnTo>
                      <a:lnTo>
                        <a:pt x="667" y="0"/>
                      </a:lnTo>
                      <a:lnTo>
                        <a:pt x="668" y="0"/>
                      </a:lnTo>
                      <a:lnTo>
                        <a:pt x="670" y="0"/>
                      </a:lnTo>
                      <a:lnTo>
                        <a:pt x="671" y="1"/>
                      </a:lnTo>
                      <a:lnTo>
                        <a:pt x="673" y="2"/>
                      </a:lnTo>
                      <a:lnTo>
                        <a:pt x="673" y="3"/>
                      </a:lnTo>
                      <a:lnTo>
                        <a:pt x="691" y="3"/>
                      </a:lnTo>
                      <a:lnTo>
                        <a:pt x="691" y="2"/>
                      </a:lnTo>
                      <a:lnTo>
                        <a:pt x="692" y="1"/>
                      </a:lnTo>
                      <a:lnTo>
                        <a:pt x="694" y="0"/>
                      </a:lnTo>
                      <a:lnTo>
                        <a:pt x="695" y="0"/>
                      </a:lnTo>
                      <a:lnTo>
                        <a:pt x="697" y="0"/>
                      </a:lnTo>
                      <a:lnTo>
                        <a:pt x="698" y="1"/>
                      </a:lnTo>
                      <a:lnTo>
                        <a:pt x="700" y="2"/>
                      </a:lnTo>
                      <a:lnTo>
                        <a:pt x="700" y="3"/>
                      </a:lnTo>
                      <a:lnTo>
                        <a:pt x="725" y="3"/>
                      </a:lnTo>
                      <a:lnTo>
                        <a:pt x="725" y="2"/>
                      </a:lnTo>
                      <a:lnTo>
                        <a:pt x="726" y="1"/>
                      </a:lnTo>
                      <a:lnTo>
                        <a:pt x="727" y="0"/>
                      </a:lnTo>
                      <a:lnTo>
                        <a:pt x="729" y="0"/>
                      </a:lnTo>
                      <a:lnTo>
                        <a:pt x="731" y="0"/>
                      </a:lnTo>
                      <a:lnTo>
                        <a:pt x="732" y="1"/>
                      </a:lnTo>
                      <a:lnTo>
                        <a:pt x="733" y="2"/>
                      </a:lnTo>
                      <a:lnTo>
                        <a:pt x="734" y="3"/>
                      </a:lnTo>
                      <a:lnTo>
                        <a:pt x="848" y="3"/>
                      </a:lnTo>
                      <a:lnTo>
                        <a:pt x="848" y="2"/>
                      </a:lnTo>
                      <a:lnTo>
                        <a:pt x="849" y="1"/>
                      </a:lnTo>
                      <a:lnTo>
                        <a:pt x="851" y="0"/>
                      </a:lnTo>
                      <a:lnTo>
                        <a:pt x="852" y="0"/>
                      </a:lnTo>
                      <a:lnTo>
                        <a:pt x="854" y="0"/>
                      </a:lnTo>
                      <a:lnTo>
                        <a:pt x="856" y="1"/>
                      </a:lnTo>
                      <a:lnTo>
                        <a:pt x="856" y="2"/>
                      </a:lnTo>
                      <a:lnTo>
                        <a:pt x="857" y="3"/>
                      </a:lnTo>
                      <a:lnTo>
                        <a:pt x="1047" y="3"/>
                      </a:lnTo>
                      <a:lnTo>
                        <a:pt x="1048" y="2"/>
                      </a:lnTo>
                      <a:lnTo>
                        <a:pt x="1049" y="1"/>
                      </a:lnTo>
                      <a:lnTo>
                        <a:pt x="1050" y="0"/>
                      </a:lnTo>
                      <a:lnTo>
                        <a:pt x="1052" y="0"/>
                      </a:lnTo>
                      <a:lnTo>
                        <a:pt x="1054" y="0"/>
                      </a:lnTo>
                      <a:lnTo>
                        <a:pt x="1055" y="1"/>
                      </a:lnTo>
                      <a:lnTo>
                        <a:pt x="1056" y="2"/>
                      </a:lnTo>
                      <a:lnTo>
                        <a:pt x="1056" y="3"/>
                      </a:lnTo>
                      <a:lnTo>
                        <a:pt x="1202" y="3"/>
                      </a:lnTo>
                      <a:lnTo>
                        <a:pt x="1202" y="193"/>
                      </a:lnTo>
                      <a:lnTo>
                        <a:pt x="1172" y="193"/>
                      </a:lnTo>
                      <a:lnTo>
                        <a:pt x="1172" y="20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868160" y="28306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7" name=""/>
                <p:cNvSpPr/>
                <p:nvPr/>
              </p:nvSpPr>
              <p:spPr>
                <a:xfrm>
                  <a:off x="7081920" y="2633040"/>
                  <a:ext cx="1454400" cy="1360800"/>
                </a:xfrm>
                <a:custGeom>
                  <a:avLst/>
                  <a:gdLst/>
                  <a:ahLst/>
                  <a:rect l="l" t="t" r="r" b="b"/>
                  <a:pathLst>
                    <a:path w="1374" h="1019">
                      <a:moveTo>
                        <a:pt x="0" y="3"/>
                      </a:moveTo>
                      <a:lnTo>
                        <a:pt x="19" y="3"/>
                      </a:lnTo>
                      <a:lnTo>
                        <a:pt x="20" y="2"/>
                      </a:lnTo>
                      <a:lnTo>
                        <a:pt x="20" y="1"/>
                      </a:lnTo>
                      <a:lnTo>
                        <a:pt x="22" y="0"/>
                      </a:lnTo>
                      <a:lnTo>
                        <a:pt x="24" y="0"/>
                      </a:lnTo>
                      <a:lnTo>
                        <a:pt x="25" y="0"/>
                      </a:lnTo>
                      <a:lnTo>
                        <a:pt x="27" y="1"/>
                      </a:lnTo>
                      <a:lnTo>
                        <a:pt x="28" y="2"/>
                      </a:lnTo>
                      <a:lnTo>
                        <a:pt x="28" y="3"/>
                      </a:lnTo>
                      <a:lnTo>
                        <a:pt x="36" y="3"/>
                      </a:lnTo>
                      <a:lnTo>
                        <a:pt x="37" y="2"/>
                      </a:lnTo>
                      <a:lnTo>
                        <a:pt x="38" y="1"/>
                      </a:lnTo>
                      <a:lnTo>
                        <a:pt x="39" y="0"/>
                      </a:lnTo>
                      <a:lnTo>
                        <a:pt x="41" y="0"/>
                      </a:lnTo>
                      <a:lnTo>
                        <a:pt x="43" y="0"/>
                      </a:lnTo>
                      <a:lnTo>
                        <a:pt x="44" y="1"/>
                      </a:lnTo>
                      <a:lnTo>
                        <a:pt x="45" y="2"/>
                      </a:lnTo>
                      <a:lnTo>
                        <a:pt x="45" y="3"/>
                      </a:lnTo>
                      <a:lnTo>
                        <a:pt x="52" y="3"/>
                      </a:lnTo>
                      <a:lnTo>
                        <a:pt x="52" y="2"/>
                      </a:lnTo>
                      <a:lnTo>
                        <a:pt x="53" y="1"/>
                      </a:lnTo>
                      <a:lnTo>
                        <a:pt x="54" y="0"/>
                      </a:lnTo>
                      <a:lnTo>
                        <a:pt x="56" y="0"/>
                      </a:lnTo>
                      <a:lnTo>
                        <a:pt x="58" y="0"/>
                      </a:lnTo>
                      <a:lnTo>
                        <a:pt x="59" y="1"/>
                      </a:lnTo>
                      <a:lnTo>
                        <a:pt x="60" y="2"/>
                      </a:lnTo>
                      <a:lnTo>
                        <a:pt x="61" y="3"/>
                      </a:lnTo>
                      <a:lnTo>
                        <a:pt x="71" y="3"/>
                      </a:lnTo>
                      <a:lnTo>
                        <a:pt x="71" y="2"/>
                      </a:lnTo>
                      <a:lnTo>
                        <a:pt x="72" y="1"/>
                      </a:lnTo>
                      <a:lnTo>
                        <a:pt x="74" y="0"/>
                      </a:lnTo>
                      <a:lnTo>
                        <a:pt x="75" y="0"/>
                      </a:lnTo>
                      <a:lnTo>
                        <a:pt x="77" y="0"/>
                      </a:lnTo>
                      <a:lnTo>
                        <a:pt x="79" y="1"/>
                      </a:lnTo>
                      <a:lnTo>
                        <a:pt x="79" y="2"/>
                      </a:lnTo>
                      <a:lnTo>
                        <a:pt x="80" y="3"/>
                      </a:lnTo>
                      <a:lnTo>
                        <a:pt x="97" y="3"/>
                      </a:lnTo>
                      <a:lnTo>
                        <a:pt x="97" y="2"/>
                      </a:lnTo>
                      <a:lnTo>
                        <a:pt x="98" y="1"/>
                      </a:lnTo>
                      <a:lnTo>
                        <a:pt x="100" y="0"/>
                      </a:lnTo>
                      <a:lnTo>
                        <a:pt x="101" y="0"/>
                      </a:lnTo>
                      <a:lnTo>
                        <a:pt x="103" y="0"/>
                      </a:lnTo>
                      <a:lnTo>
                        <a:pt x="105" y="1"/>
                      </a:lnTo>
                      <a:lnTo>
                        <a:pt x="105" y="2"/>
                      </a:lnTo>
                      <a:lnTo>
                        <a:pt x="106" y="3"/>
                      </a:lnTo>
                      <a:lnTo>
                        <a:pt x="119" y="3"/>
                      </a:lnTo>
                      <a:lnTo>
                        <a:pt x="119" y="2"/>
                      </a:lnTo>
                      <a:lnTo>
                        <a:pt x="120" y="1"/>
                      </a:lnTo>
                      <a:lnTo>
                        <a:pt x="121" y="0"/>
                      </a:lnTo>
                      <a:lnTo>
                        <a:pt x="123" y="0"/>
                      </a:lnTo>
                      <a:lnTo>
                        <a:pt x="125" y="0"/>
                      </a:lnTo>
                      <a:lnTo>
                        <a:pt x="127" y="1"/>
                      </a:lnTo>
                      <a:lnTo>
                        <a:pt x="127" y="2"/>
                      </a:lnTo>
                      <a:lnTo>
                        <a:pt x="128" y="3"/>
                      </a:lnTo>
                      <a:lnTo>
                        <a:pt x="139" y="3"/>
                      </a:lnTo>
                      <a:lnTo>
                        <a:pt x="140" y="2"/>
                      </a:lnTo>
                      <a:lnTo>
                        <a:pt x="141" y="1"/>
                      </a:lnTo>
                      <a:lnTo>
                        <a:pt x="142" y="0"/>
                      </a:lnTo>
                      <a:lnTo>
                        <a:pt x="144" y="0"/>
                      </a:lnTo>
                      <a:lnTo>
                        <a:pt x="146" y="0"/>
                      </a:lnTo>
                      <a:lnTo>
                        <a:pt x="147" y="1"/>
                      </a:lnTo>
                      <a:lnTo>
                        <a:pt x="148" y="2"/>
                      </a:lnTo>
                      <a:lnTo>
                        <a:pt x="148" y="3"/>
                      </a:lnTo>
                      <a:lnTo>
                        <a:pt x="153" y="3"/>
                      </a:lnTo>
                      <a:lnTo>
                        <a:pt x="153" y="2"/>
                      </a:lnTo>
                      <a:lnTo>
                        <a:pt x="154" y="1"/>
                      </a:lnTo>
                      <a:lnTo>
                        <a:pt x="156" y="0"/>
                      </a:lnTo>
                      <a:lnTo>
                        <a:pt x="157" y="0"/>
                      </a:lnTo>
                      <a:lnTo>
                        <a:pt x="159" y="0"/>
                      </a:lnTo>
                      <a:lnTo>
                        <a:pt x="161" y="1"/>
                      </a:lnTo>
                      <a:lnTo>
                        <a:pt x="162" y="2"/>
                      </a:lnTo>
                      <a:lnTo>
                        <a:pt x="162" y="3"/>
                      </a:lnTo>
                      <a:lnTo>
                        <a:pt x="166" y="3"/>
                      </a:lnTo>
                      <a:lnTo>
                        <a:pt x="167" y="2"/>
                      </a:lnTo>
                      <a:lnTo>
                        <a:pt x="168" y="1"/>
                      </a:lnTo>
                      <a:lnTo>
                        <a:pt x="169" y="0"/>
                      </a:lnTo>
                      <a:lnTo>
                        <a:pt x="171" y="0"/>
                      </a:lnTo>
                      <a:lnTo>
                        <a:pt x="173" y="0"/>
                      </a:lnTo>
                      <a:lnTo>
                        <a:pt x="174" y="1"/>
                      </a:lnTo>
                      <a:lnTo>
                        <a:pt x="175" y="2"/>
                      </a:lnTo>
                      <a:lnTo>
                        <a:pt x="176" y="3"/>
                      </a:lnTo>
                      <a:lnTo>
                        <a:pt x="207" y="3"/>
                      </a:lnTo>
                      <a:lnTo>
                        <a:pt x="207" y="2"/>
                      </a:lnTo>
                      <a:lnTo>
                        <a:pt x="208" y="1"/>
                      </a:lnTo>
                      <a:lnTo>
                        <a:pt x="210" y="0"/>
                      </a:lnTo>
                      <a:lnTo>
                        <a:pt x="212" y="0"/>
                      </a:lnTo>
                      <a:lnTo>
                        <a:pt x="213" y="0"/>
                      </a:lnTo>
                      <a:lnTo>
                        <a:pt x="215" y="1"/>
                      </a:lnTo>
                      <a:lnTo>
                        <a:pt x="216" y="2"/>
                      </a:lnTo>
                      <a:lnTo>
                        <a:pt x="216" y="3"/>
                      </a:lnTo>
                      <a:lnTo>
                        <a:pt x="241" y="3"/>
                      </a:lnTo>
                      <a:lnTo>
                        <a:pt x="241" y="2"/>
                      </a:lnTo>
                      <a:lnTo>
                        <a:pt x="242" y="1"/>
                      </a:lnTo>
                      <a:lnTo>
                        <a:pt x="244" y="0"/>
                      </a:lnTo>
                      <a:lnTo>
                        <a:pt x="245" y="0"/>
                      </a:lnTo>
                      <a:lnTo>
                        <a:pt x="247" y="0"/>
                      </a:lnTo>
                      <a:lnTo>
                        <a:pt x="248" y="1"/>
                      </a:lnTo>
                      <a:lnTo>
                        <a:pt x="250" y="2"/>
                      </a:lnTo>
                      <a:lnTo>
                        <a:pt x="250" y="3"/>
                      </a:lnTo>
                      <a:lnTo>
                        <a:pt x="302" y="3"/>
                      </a:lnTo>
                      <a:lnTo>
                        <a:pt x="302" y="2"/>
                      </a:lnTo>
                      <a:lnTo>
                        <a:pt x="303" y="1"/>
                      </a:lnTo>
                      <a:lnTo>
                        <a:pt x="304" y="0"/>
                      </a:lnTo>
                      <a:lnTo>
                        <a:pt x="306" y="0"/>
                      </a:lnTo>
                      <a:lnTo>
                        <a:pt x="308" y="0"/>
                      </a:lnTo>
                      <a:lnTo>
                        <a:pt x="309" y="1"/>
                      </a:lnTo>
                      <a:lnTo>
                        <a:pt x="310" y="2"/>
                      </a:lnTo>
                      <a:lnTo>
                        <a:pt x="311" y="3"/>
                      </a:lnTo>
                      <a:lnTo>
                        <a:pt x="425" y="3"/>
                      </a:lnTo>
                      <a:lnTo>
                        <a:pt x="425" y="2"/>
                      </a:lnTo>
                      <a:lnTo>
                        <a:pt x="426" y="1"/>
                      </a:lnTo>
                      <a:lnTo>
                        <a:pt x="428" y="0"/>
                      </a:lnTo>
                      <a:lnTo>
                        <a:pt x="429" y="0"/>
                      </a:lnTo>
                      <a:lnTo>
                        <a:pt x="431" y="0"/>
                      </a:lnTo>
                      <a:lnTo>
                        <a:pt x="433" y="1"/>
                      </a:lnTo>
                      <a:lnTo>
                        <a:pt x="433" y="2"/>
                      </a:lnTo>
                      <a:lnTo>
                        <a:pt x="434" y="3"/>
                      </a:lnTo>
                      <a:lnTo>
                        <a:pt x="437" y="3"/>
                      </a:lnTo>
                      <a:lnTo>
                        <a:pt x="437" y="2"/>
                      </a:lnTo>
                      <a:lnTo>
                        <a:pt x="438" y="1"/>
                      </a:lnTo>
                      <a:lnTo>
                        <a:pt x="440" y="0"/>
                      </a:lnTo>
                      <a:lnTo>
                        <a:pt x="441" y="0"/>
                      </a:lnTo>
                      <a:lnTo>
                        <a:pt x="443" y="0"/>
                      </a:lnTo>
                      <a:lnTo>
                        <a:pt x="444" y="1"/>
                      </a:lnTo>
                      <a:lnTo>
                        <a:pt x="445" y="2"/>
                      </a:lnTo>
                      <a:lnTo>
                        <a:pt x="446" y="3"/>
                      </a:lnTo>
                      <a:lnTo>
                        <a:pt x="479" y="3"/>
                      </a:lnTo>
                      <a:lnTo>
                        <a:pt x="479" y="111"/>
                      </a:lnTo>
                      <a:lnTo>
                        <a:pt x="579" y="111"/>
                      </a:lnTo>
                      <a:lnTo>
                        <a:pt x="579" y="110"/>
                      </a:lnTo>
                      <a:lnTo>
                        <a:pt x="580" y="109"/>
                      </a:lnTo>
                      <a:lnTo>
                        <a:pt x="581" y="108"/>
                      </a:lnTo>
                      <a:lnTo>
                        <a:pt x="583" y="108"/>
                      </a:lnTo>
                      <a:lnTo>
                        <a:pt x="585" y="108"/>
                      </a:lnTo>
                      <a:lnTo>
                        <a:pt x="586" y="109"/>
                      </a:lnTo>
                      <a:lnTo>
                        <a:pt x="587" y="110"/>
                      </a:lnTo>
                      <a:lnTo>
                        <a:pt x="588" y="111"/>
                      </a:lnTo>
                      <a:lnTo>
                        <a:pt x="624" y="111"/>
                      </a:lnTo>
                      <a:lnTo>
                        <a:pt x="625" y="110"/>
                      </a:lnTo>
                      <a:lnTo>
                        <a:pt x="626" y="109"/>
                      </a:lnTo>
                      <a:lnTo>
                        <a:pt x="627" y="108"/>
                      </a:lnTo>
                      <a:lnTo>
                        <a:pt x="629" y="108"/>
                      </a:lnTo>
                      <a:lnTo>
                        <a:pt x="631" y="108"/>
                      </a:lnTo>
                      <a:lnTo>
                        <a:pt x="632" y="109"/>
                      </a:lnTo>
                      <a:lnTo>
                        <a:pt x="633" y="110"/>
                      </a:lnTo>
                      <a:lnTo>
                        <a:pt x="633" y="111"/>
                      </a:lnTo>
                      <a:lnTo>
                        <a:pt x="706" y="111"/>
                      </a:lnTo>
                      <a:lnTo>
                        <a:pt x="706" y="110"/>
                      </a:lnTo>
                      <a:lnTo>
                        <a:pt x="707" y="109"/>
                      </a:lnTo>
                      <a:lnTo>
                        <a:pt x="708" y="108"/>
                      </a:lnTo>
                      <a:lnTo>
                        <a:pt x="710" y="108"/>
                      </a:lnTo>
                      <a:lnTo>
                        <a:pt x="712" y="108"/>
                      </a:lnTo>
                      <a:lnTo>
                        <a:pt x="713" y="109"/>
                      </a:lnTo>
                      <a:lnTo>
                        <a:pt x="714" y="110"/>
                      </a:lnTo>
                      <a:lnTo>
                        <a:pt x="715" y="111"/>
                      </a:lnTo>
                      <a:lnTo>
                        <a:pt x="774" y="111"/>
                      </a:lnTo>
                      <a:lnTo>
                        <a:pt x="775" y="110"/>
                      </a:lnTo>
                      <a:lnTo>
                        <a:pt x="776" y="109"/>
                      </a:lnTo>
                      <a:lnTo>
                        <a:pt x="777" y="108"/>
                      </a:lnTo>
                      <a:lnTo>
                        <a:pt x="779" y="108"/>
                      </a:lnTo>
                      <a:lnTo>
                        <a:pt x="781" y="108"/>
                      </a:lnTo>
                      <a:lnTo>
                        <a:pt x="782" y="109"/>
                      </a:lnTo>
                      <a:lnTo>
                        <a:pt x="783" y="110"/>
                      </a:lnTo>
                      <a:lnTo>
                        <a:pt x="783" y="111"/>
                      </a:lnTo>
                      <a:lnTo>
                        <a:pt x="801" y="111"/>
                      </a:lnTo>
                      <a:lnTo>
                        <a:pt x="802" y="110"/>
                      </a:lnTo>
                      <a:lnTo>
                        <a:pt x="803" y="109"/>
                      </a:lnTo>
                      <a:lnTo>
                        <a:pt x="804" y="108"/>
                      </a:lnTo>
                      <a:lnTo>
                        <a:pt x="806" y="108"/>
                      </a:lnTo>
                      <a:lnTo>
                        <a:pt x="808" y="108"/>
                      </a:lnTo>
                      <a:lnTo>
                        <a:pt x="809" y="109"/>
                      </a:lnTo>
                      <a:lnTo>
                        <a:pt x="810" y="110"/>
                      </a:lnTo>
                      <a:lnTo>
                        <a:pt x="810" y="111"/>
                      </a:lnTo>
                      <a:lnTo>
                        <a:pt x="876" y="111"/>
                      </a:lnTo>
                      <a:lnTo>
                        <a:pt x="876" y="110"/>
                      </a:lnTo>
                      <a:lnTo>
                        <a:pt x="877" y="109"/>
                      </a:lnTo>
                      <a:lnTo>
                        <a:pt x="879" y="108"/>
                      </a:lnTo>
                      <a:lnTo>
                        <a:pt x="880" y="108"/>
                      </a:lnTo>
                      <a:lnTo>
                        <a:pt x="882" y="108"/>
                      </a:lnTo>
                      <a:lnTo>
                        <a:pt x="883" y="109"/>
                      </a:lnTo>
                      <a:lnTo>
                        <a:pt x="884" y="110"/>
                      </a:lnTo>
                      <a:lnTo>
                        <a:pt x="885" y="111"/>
                      </a:lnTo>
                      <a:lnTo>
                        <a:pt x="889" y="111"/>
                      </a:lnTo>
                      <a:lnTo>
                        <a:pt x="890" y="110"/>
                      </a:lnTo>
                      <a:lnTo>
                        <a:pt x="891" y="109"/>
                      </a:lnTo>
                      <a:lnTo>
                        <a:pt x="892" y="108"/>
                      </a:lnTo>
                      <a:lnTo>
                        <a:pt x="894" y="108"/>
                      </a:lnTo>
                      <a:lnTo>
                        <a:pt x="895" y="108"/>
                      </a:lnTo>
                      <a:lnTo>
                        <a:pt x="897" y="109"/>
                      </a:lnTo>
                      <a:lnTo>
                        <a:pt x="898" y="110"/>
                      </a:lnTo>
                      <a:lnTo>
                        <a:pt x="898" y="111"/>
                      </a:lnTo>
                      <a:lnTo>
                        <a:pt x="985" y="111"/>
                      </a:lnTo>
                      <a:lnTo>
                        <a:pt x="986" y="110"/>
                      </a:lnTo>
                      <a:lnTo>
                        <a:pt x="987" y="109"/>
                      </a:lnTo>
                      <a:lnTo>
                        <a:pt x="988" y="108"/>
                      </a:lnTo>
                      <a:lnTo>
                        <a:pt x="990" y="108"/>
                      </a:lnTo>
                      <a:lnTo>
                        <a:pt x="992" y="108"/>
                      </a:lnTo>
                      <a:lnTo>
                        <a:pt x="993" y="109"/>
                      </a:lnTo>
                      <a:lnTo>
                        <a:pt x="994" y="110"/>
                      </a:lnTo>
                      <a:lnTo>
                        <a:pt x="994" y="111"/>
                      </a:lnTo>
                      <a:lnTo>
                        <a:pt x="1013" y="111"/>
                      </a:lnTo>
                      <a:lnTo>
                        <a:pt x="1013" y="110"/>
                      </a:lnTo>
                      <a:lnTo>
                        <a:pt x="1014" y="109"/>
                      </a:lnTo>
                      <a:lnTo>
                        <a:pt x="1015" y="108"/>
                      </a:lnTo>
                      <a:lnTo>
                        <a:pt x="1017" y="108"/>
                      </a:lnTo>
                      <a:lnTo>
                        <a:pt x="1019" y="108"/>
                      </a:lnTo>
                      <a:lnTo>
                        <a:pt x="1020" y="109"/>
                      </a:lnTo>
                      <a:lnTo>
                        <a:pt x="1021" y="110"/>
                      </a:lnTo>
                      <a:lnTo>
                        <a:pt x="1022" y="111"/>
                      </a:lnTo>
                      <a:lnTo>
                        <a:pt x="1037" y="111"/>
                      </a:lnTo>
                      <a:lnTo>
                        <a:pt x="1038" y="110"/>
                      </a:lnTo>
                      <a:lnTo>
                        <a:pt x="1039" y="109"/>
                      </a:lnTo>
                      <a:lnTo>
                        <a:pt x="1040" y="108"/>
                      </a:lnTo>
                      <a:lnTo>
                        <a:pt x="1042" y="108"/>
                      </a:lnTo>
                      <a:lnTo>
                        <a:pt x="1043" y="108"/>
                      </a:lnTo>
                      <a:lnTo>
                        <a:pt x="1045" y="109"/>
                      </a:lnTo>
                      <a:lnTo>
                        <a:pt x="1046" y="110"/>
                      </a:lnTo>
                      <a:lnTo>
                        <a:pt x="1046" y="111"/>
                      </a:lnTo>
                      <a:lnTo>
                        <a:pt x="1051" y="111"/>
                      </a:lnTo>
                      <a:lnTo>
                        <a:pt x="1052" y="110"/>
                      </a:lnTo>
                      <a:lnTo>
                        <a:pt x="1053" y="109"/>
                      </a:lnTo>
                      <a:lnTo>
                        <a:pt x="1054" y="108"/>
                      </a:lnTo>
                      <a:lnTo>
                        <a:pt x="1056" y="108"/>
                      </a:lnTo>
                      <a:lnTo>
                        <a:pt x="1058" y="108"/>
                      </a:lnTo>
                      <a:lnTo>
                        <a:pt x="1059" y="109"/>
                      </a:lnTo>
                      <a:lnTo>
                        <a:pt x="1060" y="110"/>
                      </a:lnTo>
                      <a:lnTo>
                        <a:pt x="1060" y="111"/>
                      </a:lnTo>
                      <a:lnTo>
                        <a:pt x="1122" y="111"/>
                      </a:lnTo>
                      <a:lnTo>
                        <a:pt x="1122" y="110"/>
                      </a:lnTo>
                      <a:lnTo>
                        <a:pt x="1123" y="109"/>
                      </a:lnTo>
                      <a:lnTo>
                        <a:pt x="1125" y="108"/>
                      </a:lnTo>
                      <a:lnTo>
                        <a:pt x="1126" y="108"/>
                      </a:lnTo>
                      <a:lnTo>
                        <a:pt x="1128" y="108"/>
                      </a:lnTo>
                      <a:lnTo>
                        <a:pt x="1129" y="109"/>
                      </a:lnTo>
                      <a:lnTo>
                        <a:pt x="1130" y="110"/>
                      </a:lnTo>
                      <a:lnTo>
                        <a:pt x="1131" y="111"/>
                      </a:lnTo>
                      <a:lnTo>
                        <a:pt x="1214" y="111"/>
                      </a:lnTo>
                      <a:lnTo>
                        <a:pt x="1214" y="110"/>
                      </a:lnTo>
                      <a:lnTo>
                        <a:pt x="1215" y="109"/>
                      </a:lnTo>
                      <a:lnTo>
                        <a:pt x="1216" y="108"/>
                      </a:lnTo>
                      <a:lnTo>
                        <a:pt x="1218" y="108"/>
                      </a:lnTo>
                      <a:lnTo>
                        <a:pt x="1220" y="108"/>
                      </a:lnTo>
                      <a:lnTo>
                        <a:pt x="1221" y="109"/>
                      </a:lnTo>
                      <a:lnTo>
                        <a:pt x="1222" y="110"/>
                      </a:lnTo>
                      <a:lnTo>
                        <a:pt x="1223" y="111"/>
                      </a:lnTo>
                      <a:lnTo>
                        <a:pt x="1374" y="111"/>
                      </a:lnTo>
                      <a:lnTo>
                        <a:pt x="1374" y="1012"/>
                      </a:lnTo>
                      <a:lnTo>
                        <a:pt x="1324" y="1012"/>
                      </a:lnTo>
                      <a:lnTo>
                        <a:pt x="1324" y="10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478000" y="399276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9" name=""/>
                <p:cNvSpPr/>
                <p:nvPr/>
              </p:nvSpPr>
              <p:spPr>
                <a:xfrm>
                  <a:off x="7992000" y="4102200"/>
                  <a:ext cx="237960" cy="37440"/>
                </a:xfrm>
                <a:custGeom>
                  <a:avLst/>
                  <a:gdLst/>
                  <a:ahLst/>
                  <a:rect l="l" t="t" r="r" b="b"/>
                  <a:pathLst>
                    <a:path w="225" h="28">
                      <a:moveTo>
                        <a:pt x="0" y="28"/>
                      </a:moveTo>
                      <a:lnTo>
                        <a:pt x="20" y="28"/>
                      </a:lnTo>
                      <a:lnTo>
                        <a:pt x="20" y="3"/>
                      </a:lnTo>
                      <a:lnTo>
                        <a:pt x="56" y="3"/>
                      </a:lnTo>
                      <a:lnTo>
                        <a:pt x="57" y="2"/>
                      </a:lnTo>
                      <a:lnTo>
                        <a:pt x="58" y="1"/>
                      </a:lnTo>
                      <a:lnTo>
                        <a:pt x="59" y="0"/>
                      </a:lnTo>
                      <a:lnTo>
                        <a:pt x="61" y="0"/>
                      </a:lnTo>
                      <a:lnTo>
                        <a:pt x="62" y="0"/>
                      </a:lnTo>
                      <a:lnTo>
                        <a:pt x="64" y="1"/>
                      </a:lnTo>
                      <a:lnTo>
                        <a:pt x="65" y="2"/>
                      </a:lnTo>
                      <a:lnTo>
                        <a:pt x="65" y="3"/>
                      </a:lnTo>
                      <a:lnTo>
                        <a:pt x="75" y="3"/>
                      </a:lnTo>
                      <a:lnTo>
                        <a:pt x="75" y="2"/>
                      </a:lnTo>
                      <a:lnTo>
                        <a:pt x="76" y="1"/>
                      </a:lnTo>
                      <a:lnTo>
                        <a:pt x="78" y="0"/>
                      </a:lnTo>
                      <a:lnTo>
                        <a:pt x="79" y="0"/>
                      </a:lnTo>
                      <a:lnTo>
                        <a:pt x="81" y="0"/>
                      </a:lnTo>
                      <a:lnTo>
                        <a:pt x="83" y="1"/>
                      </a:lnTo>
                      <a:lnTo>
                        <a:pt x="84" y="2"/>
                      </a:lnTo>
                      <a:lnTo>
                        <a:pt x="84" y="3"/>
                      </a:lnTo>
                      <a:lnTo>
                        <a:pt x="84" y="3"/>
                      </a:lnTo>
                      <a:lnTo>
                        <a:pt x="84" y="2"/>
                      </a:lnTo>
                      <a:lnTo>
                        <a:pt x="85" y="1"/>
                      </a:lnTo>
                      <a:lnTo>
                        <a:pt x="87" y="0"/>
                      </a:lnTo>
                      <a:lnTo>
                        <a:pt x="88" y="0"/>
                      </a:lnTo>
                      <a:lnTo>
                        <a:pt x="90" y="0"/>
                      </a:lnTo>
                      <a:lnTo>
                        <a:pt x="92" y="1"/>
                      </a:lnTo>
                      <a:lnTo>
                        <a:pt x="93" y="2"/>
                      </a:lnTo>
                      <a:lnTo>
                        <a:pt x="93" y="3"/>
                      </a:lnTo>
                      <a:lnTo>
                        <a:pt x="111" y="3"/>
                      </a:lnTo>
                      <a:lnTo>
                        <a:pt x="111" y="2"/>
                      </a:lnTo>
                      <a:lnTo>
                        <a:pt x="112" y="1"/>
                      </a:lnTo>
                      <a:lnTo>
                        <a:pt x="114" y="0"/>
                      </a:lnTo>
                      <a:lnTo>
                        <a:pt x="116" y="0"/>
                      </a:lnTo>
                      <a:lnTo>
                        <a:pt x="117" y="0"/>
                      </a:lnTo>
                      <a:lnTo>
                        <a:pt x="119" y="1"/>
                      </a:lnTo>
                      <a:lnTo>
                        <a:pt x="120" y="2"/>
                      </a:lnTo>
                      <a:lnTo>
                        <a:pt x="120" y="3"/>
                      </a:lnTo>
                      <a:lnTo>
                        <a:pt x="125" y="3"/>
                      </a:lnTo>
                      <a:lnTo>
                        <a:pt x="126" y="2"/>
                      </a:lnTo>
                      <a:lnTo>
                        <a:pt x="127" y="1"/>
                      </a:lnTo>
                      <a:lnTo>
                        <a:pt x="128" y="0"/>
                      </a:lnTo>
                      <a:lnTo>
                        <a:pt x="130" y="0"/>
                      </a:lnTo>
                      <a:lnTo>
                        <a:pt x="132" y="0"/>
                      </a:lnTo>
                      <a:lnTo>
                        <a:pt x="133" y="1"/>
                      </a:lnTo>
                      <a:lnTo>
                        <a:pt x="134" y="2"/>
                      </a:lnTo>
                      <a:lnTo>
                        <a:pt x="134" y="3"/>
                      </a:lnTo>
                      <a:lnTo>
                        <a:pt x="225" y="3"/>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70" name=""/>
                <p:cNvSpPr/>
                <p:nvPr/>
              </p:nvSpPr>
              <p:spPr>
                <a:xfrm>
                  <a:off x="8228520" y="4100760"/>
                  <a:ext cx="13680" cy="11880"/>
                </a:xfrm>
                <a:custGeom>
                  <a:avLst/>
                  <a:gdLst/>
                  <a:ahLst/>
                  <a:rect l="l" t="t" r="r" b="b"/>
                  <a:pathLst>
                    <a:path w="13" h="9">
                      <a:moveTo>
                        <a:pt x="2" y="0"/>
                      </a:moveTo>
                      <a:lnTo>
                        <a:pt x="13" y="4"/>
                      </a:lnTo>
                      <a:lnTo>
                        <a:pt x="2" y="9"/>
                      </a:lnTo>
                      <a:lnTo>
                        <a:pt x="0" y="7"/>
                      </a:lnTo>
                      <a:lnTo>
                        <a:pt x="0" y="4"/>
                      </a:lnTo>
                      <a:lnTo>
                        <a:pt x="0"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71" name=""/>
                <p:cNvSpPr/>
                <p:nvPr/>
              </p:nvSpPr>
              <p:spPr>
                <a:xfrm>
                  <a:off x="8245080" y="4572360"/>
                  <a:ext cx="276120" cy="110520"/>
                </a:xfrm>
                <a:prstGeom prst="rect">
                  <a:avLst/>
                </a:prstGeom>
                <a:blipFill rotWithShape="0">
                  <a:blip r:embed="rId7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8311680" y="4596480"/>
                  <a:ext cx="191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MP - Bus</a:t>
                  </a:r>
                  <a:endParaRPr b="0" lang="en-US" sz="300" spc="-1" strike="noStrike">
                    <a:solidFill>
                      <a:srgbClr val="ffffff"/>
                    </a:solidFill>
                    <a:latin typeface="Arial"/>
                  </a:endParaRPr>
                </a:p>
              </p:txBody>
            </p:sp>
            <p:sp>
              <p:nvSpPr>
                <p:cNvPr id="673" name=""/>
                <p:cNvSpPr/>
                <p:nvPr/>
              </p:nvSpPr>
              <p:spPr>
                <a:xfrm>
                  <a:off x="8260920" y="4627080"/>
                  <a:ext cx="331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erformance Mngt</a:t>
                  </a:r>
                  <a:endParaRPr b="0" lang="en-US" sz="300" spc="-1" strike="noStrike">
                    <a:solidFill>
                      <a:srgbClr val="ffffff"/>
                    </a:solidFill>
                    <a:latin typeface="Arial"/>
                  </a:endParaRPr>
                </a:p>
              </p:txBody>
            </p:sp>
            <p:sp>
              <p:nvSpPr>
                <p:cNvPr id="674" name=""/>
                <p:cNvSpPr/>
                <p:nvPr/>
              </p:nvSpPr>
              <p:spPr>
                <a:xfrm>
                  <a:off x="8213400" y="4327920"/>
                  <a:ext cx="204120" cy="90720"/>
                </a:xfrm>
                <a:prstGeom prst="rect">
                  <a:avLst/>
                </a:prstGeom>
                <a:blipFill rotWithShape="0">
                  <a:blip r:embed="rId71"/>
                  <a:srcRect/>
                  <a:tile tx="0" ty="0" sx="100000" sy="100000" algn="ctr"/>
                </a:blip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75" name=""/>
                <p:cNvSpPr/>
                <p:nvPr/>
              </p:nvSpPr>
              <p:spPr>
                <a:xfrm>
                  <a:off x="8279280" y="4333320"/>
                  <a:ext cx="98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re</a:t>
                  </a:r>
                  <a:endParaRPr b="0" lang="en-US" sz="300" spc="-1" strike="noStrike">
                    <a:solidFill>
                      <a:srgbClr val="ffffff"/>
                    </a:solidFill>
                    <a:latin typeface="Arial"/>
                  </a:endParaRPr>
                </a:p>
              </p:txBody>
            </p:sp>
            <p:sp>
              <p:nvSpPr>
                <p:cNvPr id="676" name=""/>
                <p:cNvSpPr/>
                <p:nvPr/>
              </p:nvSpPr>
              <p:spPr>
                <a:xfrm>
                  <a:off x="8246520" y="4365360"/>
                  <a:ext cx="188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corecard</a:t>
                  </a:r>
                  <a:endParaRPr b="0" lang="en-US" sz="300" spc="-1" strike="noStrike">
                    <a:solidFill>
                      <a:srgbClr val="ffffff"/>
                    </a:solidFill>
                    <a:latin typeface="Arial"/>
                  </a:endParaRPr>
                </a:p>
              </p:txBody>
            </p:sp>
            <p:sp>
              <p:nvSpPr>
                <p:cNvPr id="677" name=""/>
                <p:cNvSpPr/>
                <p:nvPr/>
              </p:nvSpPr>
              <p:spPr>
                <a:xfrm>
                  <a:off x="8430480" y="4134240"/>
                  <a:ext cx="28440" cy="239040"/>
                </a:xfrm>
                <a:custGeom>
                  <a:avLst/>
                  <a:gdLst/>
                  <a:ahLst/>
                  <a:rect l="l" t="t" r="r" b="b"/>
                  <a:pathLst>
                    <a:path w="27" h="179">
                      <a:moveTo>
                        <a:pt x="0" y="179"/>
                      </a:moveTo>
                      <a:lnTo>
                        <a:pt x="27" y="179"/>
                      </a:lnTo>
                      <a:lnTo>
                        <a:pt x="27" y="16"/>
                      </a:lnTo>
                      <a:lnTo>
                        <a:pt x="4" y="16"/>
                      </a:lnTo>
                      <a:lnTo>
                        <a:pt x="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417880" y="4366800"/>
                  <a:ext cx="13680" cy="1152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9" name=""/>
                <p:cNvSpPr/>
                <p:nvPr/>
              </p:nvSpPr>
              <p:spPr>
                <a:xfrm>
                  <a:off x="8524440" y="4070160"/>
                  <a:ext cx="18000" cy="556560"/>
                </a:xfrm>
                <a:custGeom>
                  <a:avLst/>
                  <a:gdLst/>
                  <a:ahLst/>
                  <a:rect l="l" t="t" r="r" b="b"/>
                  <a:pathLst>
                    <a:path w="17" h="417">
                      <a:moveTo>
                        <a:pt x="9" y="417"/>
                      </a:moveTo>
                      <a:lnTo>
                        <a:pt x="17" y="417"/>
                      </a:lnTo>
                      <a:lnTo>
                        <a:pt x="17" y="0"/>
                      </a:lnTo>
                      <a:lnTo>
                        <a:pt x="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8521560" y="46220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1" name=""/>
                <p:cNvSpPr/>
                <p:nvPr/>
              </p:nvSpPr>
              <p:spPr>
                <a:xfrm>
                  <a:off x="7209000" y="3510360"/>
                  <a:ext cx="235800" cy="101160"/>
                </a:xfrm>
                <a:prstGeom prst="rect">
                  <a:avLst/>
                </a:prstGeom>
                <a:blipFill rotWithShape="0">
                  <a:blip r:embed="rId7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265880" y="3526560"/>
                  <a:ext cx="95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ce</a:t>
                  </a:r>
                  <a:endParaRPr b="0" lang="en-US" sz="300" spc="-1" strike="noStrike">
                    <a:solidFill>
                      <a:srgbClr val="ffffff"/>
                    </a:solidFill>
                    <a:latin typeface="Arial"/>
                  </a:endParaRPr>
                </a:p>
              </p:txBody>
            </p:sp>
            <p:sp>
              <p:nvSpPr>
                <p:cNvPr id="683" name=""/>
                <p:cNvSpPr/>
                <p:nvPr/>
              </p:nvSpPr>
              <p:spPr>
                <a:xfrm>
                  <a:off x="7277400" y="3560040"/>
                  <a:ext cx="135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esting</a:t>
                  </a:r>
                  <a:endParaRPr b="0" lang="en-US" sz="300" spc="-1" strike="noStrike">
                    <a:solidFill>
                      <a:srgbClr val="ffffff"/>
                    </a:solidFill>
                    <a:latin typeface="Arial"/>
                  </a:endParaRPr>
                </a:p>
              </p:txBody>
            </p:sp>
            <p:sp>
              <p:nvSpPr>
                <p:cNvPr id="684" name=""/>
                <p:cNvSpPr/>
                <p:nvPr/>
              </p:nvSpPr>
              <p:spPr>
                <a:xfrm>
                  <a:off x="6634080" y="2547720"/>
                  <a:ext cx="693000" cy="950760"/>
                </a:xfrm>
                <a:custGeom>
                  <a:avLst/>
                  <a:gdLst/>
                  <a:ahLst/>
                  <a:rect l="l" t="t" r="r" b="b"/>
                  <a:pathLst>
                    <a:path w="655" h="712">
                      <a:moveTo>
                        <a:pt x="655" y="712"/>
                      </a:moveTo>
                      <a:lnTo>
                        <a:pt x="655" y="592"/>
                      </a:lnTo>
                      <a:lnTo>
                        <a:pt x="599" y="592"/>
                      </a:lnTo>
                      <a:lnTo>
                        <a:pt x="598" y="591"/>
                      </a:lnTo>
                      <a:lnTo>
                        <a:pt x="597" y="590"/>
                      </a:lnTo>
                      <a:lnTo>
                        <a:pt x="596" y="589"/>
                      </a:lnTo>
                      <a:lnTo>
                        <a:pt x="594" y="589"/>
                      </a:lnTo>
                      <a:lnTo>
                        <a:pt x="592" y="589"/>
                      </a:lnTo>
                      <a:lnTo>
                        <a:pt x="591" y="590"/>
                      </a:lnTo>
                      <a:lnTo>
                        <a:pt x="590" y="591"/>
                      </a:lnTo>
                      <a:lnTo>
                        <a:pt x="589" y="592"/>
                      </a:lnTo>
                      <a:lnTo>
                        <a:pt x="580" y="592"/>
                      </a:lnTo>
                      <a:lnTo>
                        <a:pt x="580" y="3"/>
                      </a:lnTo>
                      <a:lnTo>
                        <a:pt x="571" y="3"/>
                      </a:lnTo>
                      <a:lnTo>
                        <a:pt x="571" y="2"/>
                      </a:lnTo>
                      <a:lnTo>
                        <a:pt x="570" y="1"/>
                      </a:lnTo>
                      <a:lnTo>
                        <a:pt x="569" y="0"/>
                      </a:lnTo>
                      <a:lnTo>
                        <a:pt x="567" y="0"/>
                      </a:lnTo>
                      <a:lnTo>
                        <a:pt x="565" y="0"/>
                      </a:lnTo>
                      <a:lnTo>
                        <a:pt x="564" y="1"/>
                      </a:lnTo>
                      <a:lnTo>
                        <a:pt x="563" y="2"/>
                      </a:lnTo>
                      <a:lnTo>
                        <a:pt x="562" y="3"/>
                      </a:lnTo>
                      <a:lnTo>
                        <a:pt x="551" y="3"/>
                      </a:lnTo>
                      <a:lnTo>
                        <a:pt x="550" y="2"/>
                      </a:lnTo>
                      <a:lnTo>
                        <a:pt x="550" y="1"/>
                      </a:lnTo>
                      <a:lnTo>
                        <a:pt x="548" y="0"/>
                      </a:lnTo>
                      <a:lnTo>
                        <a:pt x="546" y="0"/>
                      </a:lnTo>
                      <a:lnTo>
                        <a:pt x="545" y="0"/>
                      </a:lnTo>
                      <a:lnTo>
                        <a:pt x="543" y="1"/>
                      </a:lnTo>
                      <a:lnTo>
                        <a:pt x="542" y="2"/>
                      </a:lnTo>
                      <a:lnTo>
                        <a:pt x="542" y="3"/>
                      </a:lnTo>
                      <a:lnTo>
                        <a:pt x="529" y="3"/>
                      </a:lnTo>
                      <a:lnTo>
                        <a:pt x="528" y="2"/>
                      </a:lnTo>
                      <a:lnTo>
                        <a:pt x="528" y="1"/>
                      </a:lnTo>
                      <a:lnTo>
                        <a:pt x="526" y="0"/>
                      </a:lnTo>
                      <a:lnTo>
                        <a:pt x="524" y="0"/>
                      </a:lnTo>
                      <a:lnTo>
                        <a:pt x="523" y="0"/>
                      </a:lnTo>
                      <a:lnTo>
                        <a:pt x="521" y="1"/>
                      </a:lnTo>
                      <a:lnTo>
                        <a:pt x="520" y="2"/>
                      </a:lnTo>
                      <a:lnTo>
                        <a:pt x="520" y="3"/>
                      </a:lnTo>
                      <a:lnTo>
                        <a:pt x="503" y="3"/>
                      </a:lnTo>
                      <a:lnTo>
                        <a:pt x="503" y="2"/>
                      </a:lnTo>
                      <a:lnTo>
                        <a:pt x="502" y="1"/>
                      </a:lnTo>
                      <a:lnTo>
                        <a:pt x="500" y="0"/>
                      </a:lnTo>
                      <a:lnTo>
                        <a:pt x="499" y="0"/>
                      </a:lnTo>
                      <a:lnTo>
                        <a:pt x="497" y="0"/>
                      </a:lnTo>
                      <a:lnTo>
                        <a:pt x="495" y="1"/>
                      </a:lnTo>
                      <a:lnTo>
                        <a:pt x="494" y="2"/>
                      </a:lnTo>
                      <a:lnTo>
                        <a:pt x="494" y="3"/>
                      </a:lnTo>
                      <a:lnTo>
                        <a:pt x="484" y="3"/>
                      </a:lnTo>
                      <a:lnTo>
                        <a:pt x="483" y="2"/>
                      </a:lnTo>
                      <a:lnTo>
                        <a:pt x="482" y="1"/>
                      </a:lnTo>
                      <a:lnTo>
                        <a:pt x="481" y="0"/>
                      </a:lnTo>
                      <a:lnTo>
                        <a:pt x="479" y="0"/>
                      </a:lnTo>
                      <a:lnTo>
                        <a:pt x="477" y="0"/>
                      </a:lnTo>
                      <a:lnTo>
                        <a:pt x="476" y="1"/>
                      </a:lnTo>
                      <a:lnTo>
                        <a:pt x="475" y="2"/>
                      </a:lnTo>
                      <a:lnTo>
                        <a:pt x="475" y="3"/>
                      </a:lnTo>
                      <a:lnTo>
                        <a:pt x="451" y="3"/>
                      </a:lnTo>
                      <a:lnTo>
                        <a:pt x="451" y="2"/>
                      </a:lnTo>
                      <a:lnTo>
                        <a:pt x="450" y="1"/>
                      </a:lnTo>
                      <a:lnTo>
                        <a:pt x="448" y="0"/>
                      </a:lnTo>
                      <a:lnTo>
                        <a:pt x="447" y="0"/>
                      </a:lnTo>
                      <a:lnTo>
                        <a:pt x="445" y="0"/>
                      </a:lnTo>
                      <a:lnTo>
                        <a:pt x="443" y="1"/>
                      </a:lnTo>
                      <a:lnTo>
                        <a:pt x="443" y="2"/>
                      </a:lnTo>
                      <a:lnTo>
                        <a:pt x="442" y="3"/>
                      </a:lnTo>
                      <a:lnTo>
                        <a:pt x="409" y="3"/>
                      </a:lnTo>
                      <a:lnTo>
                        <a:pt x="409" y="2"/>
                      </a:lnTo>
                      <a:lnTo>
                        <a:pt x="408" y="1"/>
                      </a:lnTo>
                      <a:lnTo>
                        <a:pt x="406" y="0"/>
                      </a:lnTo>
                      <a:lnTo>
                        <a:pt x="405" y="0"/>
                      </a:lnTo>
                      <a:lnTo>
                        <a:pt x="403" y="0"/>
                      </a:lnTo>
                      <a:lnTo>
                        <a:pt x="401" y="1"/>
                      </a:lnTo>
                      <a:lnTo>
                        <a:pt x="400" y="2"/>
                      </a:lnTo>
                      <a:lnTo>
                        <a:pt x="400" y="3"/>
                      </a:lnTo>
                      <a:lnTo>
                        <a:pt x="162" y="3"/>
                      </a:lnTo>
                      <a:lnTo>
                        <a:pt x="161" y="2"/>
                      </a:lnTo>
                      <a:lnTo>
                        <a:pt x="160" y="1"/>
                      </a:lnTo>
                      <a:lnTo>
                        <a:pt x="159" y="0"/>
                      </a:lnTo>
                      <a:lnTo>
                        <a:pt x="157" y="0"/>
                      </a:lnTo>
                      <a:lnTo>
                        <a:pt x="156" y="0"/>
                      </a:lnTo>
                      <a:lnTo>
                        <a:pt x="154" y="1"/>
                      </a:lnTo>
                      <a:lnTo>
                        <a:pt x="153" y="2"/>
                      </a:lnTo>
                      <a:lnTo>
                        <a:pt x="153" y="3"/>
                      </a:lnTo>
                      <a:lnTo>
                        <a:pt x="139" y="3"/>
                      </a:lnTo>
                      <a:lnTo>
                        <a:pt x="139" y="2"/>
                      </a:lnTo>
                      <a:lnTo>
                        <a:pt x="138" y="1"/>
                      </a:lnTo>
                      <a:lnTo>
                        <a:pt x="136" y="0"/>
                      </a:lnTo>
                      <a:lnTo>
                        <a:pt x="135" y="0"/>
                      </a:lnTo>
                      <a:lnTo>
                        <a:pt x="133" y="0"/>
                      </a:lnTo>
                      <a:lnTo>
                        <a:pt x="132" y="1"/>
                      </a:lnTo>
                      <a:lnTo>
                        <a:pt x="131" y="2"/>
                      </a:lnTo>
                      <a:lnTo>
                        <a:pt x="130" y="3"/>
                      </a:lnTo>
                      <a:lnTo>
                        <a:pt x="109" y="3"/>
                      </a:lnTo>
                      <a:lnTo>
                        <a:pt x="109" y="2"/>
                      </a:lnTo>
                      <a:lnTo>
                        <a:pt x="107" y="1"/>
                      </a:lnTo>
                      <a:lnTo>
                        <a:pt x="106" y="0"/>
                      </a:lnTo>
                      <a:lnTo>
                        <a:pt x="104" y="0"/>
                      </a:lnTo>
                      <a:lnTo>
                        <a:pt x="103" y="0"/>
                      </a:lnTo>
                      <a:lnTo>
                        <a:pt x="101" y="1"/>
                      </a:lnTo>
                      <a:lnTo>
                        <a:pt x="100" y="2"/>
                      </a:lnTo>
                      <a:lnTo>
                        <a:pt x="100" y="3"/>
                      </a:lnTo>
                      <a:lnTo>
                        <a:pt x="88" y="3"/>
                      </a:lnTo>
                      <a:lnTo>
                        <a:pt x="87" y="2"/>
                      </a:lnTo>
                      <a:lnTo>
                        <a:pt x="86" y="1"/>
                      </a:lnTo>
                      <a:lnTo>
                        <a:pt x="85" y="0"/>
                      </a:lnTo>
                      <a:lnTo>
                        <a:pt x="83" y="0"/>
                      </a:lnTo>
                      <a:lnTo>
                        <a:pt x="81" y="0"/>
                      </a:lnTo>
                      <a:lnTo>
                        <a:pt x="80" y="1"/>
                      </a:lnTo>
                      <a:lnTo>
                        <a:pt x="79" y="2"/>
                      </a:lnTo>
                      <a:lnTo>
                        <a:pt x="78" y="3"/>
                      </a:lnTo>
                      <a:lnTo>
                        <a:pt x="65" y="3"/>
                      </a:lnTo>
                      <a:lnTo>
                        <a:pt x="65" y="2"/>
                      </a:lnTo>
                      <a:lnTo>
                        <a:pt x="64" y="1"/>
                      </a:lnTo>
                      <a:lnTo>
                        <a:pt x="62" y="0"/>
                      </a:lnTo>
                      <a:lnTo>
                        <a:pt x="60" y="0"/>
                      </a:lnTo>
                      <a:lnTo>
                        <a:pt x="59" y="0"/>
                      </a:lnTo>
                      <a:lnTo>
                        <a:pt x="57" y="1"/>
                      </a:lnTo>
                      <a:lnTo>
                        <a:pt x="56" y="2"/>
                      </a:lnTo>
                      <a:lnTo>
                        <a:pt x="56" y="3"/>
                      </a:lnTo>
                      <a:lnTo>
                        <a:pt x="44" y="3"/>
                      </a:lnTo>
                      <a:lnTo>
                        <a:pt x="44" y="2"/>
                      </a:lnTo>
                      <a:lnTo>
                        <a:pt x="43" y="1"/>
                      </a:lnTo>
                      <a:lnTo>
                        <a:pt x="42" y="0"/>
                      </a:lnTo>
                      <a:lnTo>
                        <a:pt x="40" y="0"/>
                      </a:lnTo>
                      <a:lnTo>
                        <a:pt x="38" y="0"/>
                      </a:lnTo>
                      <a:lnTo>
                        <a:pt x="37" y="1"/>
                      </a:lnTo>
                      <a:lnTo>
                        <a:pt x="36" y="2"/>
                      </a:lnTo>
                      <a:lnTo>
                        <a:pt x="35" y="3"/>
                      </a:lnTo>
                      <a:lnTo>
                        <a:pt x="0"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320960" y="34970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86" name=""/>
                <p:cNvSpPr/>
                <p:nvPr/>
              </p:nvSpPr>
              <p:spPr>
                <a:xfrm>
                  <a:off x="5346720" y="3590640"/>
                  <a:ext cx="1861920" cy="1229760"/>
                </a:xfrm>
                <a:custGeom>
                  <a:avLst/>
                  <a:gdLst/>
                  <a:ahLst/>
                  <a:rect l="l" t="t" r="r" b="b"/>
                  <a:pathLst>
                    <a:path w="1759" h="921">
                      <a:moveTo>
                        <a:pt x="1759" y="7"/>
                      </a:moveTo>
                      <a:lnTo>
                        <a:pt x="1757" y="7"/>
                      </a:lnTo>
                      <a:lnTo>
                        <a:pt x="1757" y="5"/>
                      </a:lnTo>
                      <a:lnTo>
                        <a:pt x="1756" y="4"/>
                      </a:lnTo>
                      <a:lnTo>
                        <a:pt x="1754" y="4"/>
                      </a:lnTo>
                      <a:lnTo>
                        <a:pt x="1753" y="3"/>
                      </a:lnTo>
                      <a:lnTo>
                        <a:pt x="1751" y="4"/>
                      </a:lnTo>
                      <a:lnTo>
                        <a:pt x="1749" y="4"/>
                      </a:lnTo>
                      <a:lnTo>
                        <a:pt x="1749" y="5"/>
                      </a:lnTo>
                      <a:lnTo>
                        <a:pt x="1748" y="7"/>
                      </a:lnTo>
                      <a:lnTo>
                        <a:pt x="1745" y="7"/>
                      </a:lnTo>
                      <a:lnTo>
                        <a:pt x="1744" y="5"/>
                      </a:lnTo>
                      <a:lnTo>
                        <a:pt x="1744" y="3"/>
                      </a:lnTo>
                      <a:lnTo>
                        <a:pt x="1742" y="2"/>
                      </a:lnTo>
                      <a:lnTo>
                        <a:pt x="1740" y="1"/>
                      </a:lnTo>
                      <a:lnTo>
                        <a:pt x="1738" y="0"/>
                      </a:lnTo>
                      <a:lnTo>
                        <a:pt x="1735" y="0"/>
                      </a:lnTo>
                      <a:lnTo>
                        <a:pt x="1733" y="1"/>
                      </a:lnTo>
                      <a:lnTo>
                        <a:pt x="1731" y="2"/>
                      </a:lnTo>
                      <a:lnTo>
                        <a:pt x="1729" y="3"/>
                      </a:lnTo>
                      <a:lnTo>
                        <a:pt x="1728" y="5"/>
                      </a:lnTo>
                      <a:lnTo>
                        <a:pt x="1728" y="7"/>
                      </a:lnTo>
                      <a:lnTo>
                        <a:pt x="1719" y="7"/>
                      </a:lnTo>
                      <a:lnTo>
                        <a:pt x="1718" y="5"/>
                      </a:lnTo>
                      <a:lnTo>
                        <a:pt x="1718" y="4"/>
                      </a:lnTo>
                      <a:lnTo>
                        <a:pt x="1716" y="4"/>
                      </a:lnTo>
                      <a:lnTo>
                        <a:pt x="1714" y="3"/>
                      </a:lnTo>
                      <a:lnTo>
                        <a:pt x="1713" y="4"/>
                      </a:lnTo>
                      <a:lnTo>
                        <a:pt x="1711" y="4"/>
                      </a:lnTo>
                      <a:lnTo>
                        <a:pt x="1710" y="5"/>
                      </a:lnTo>
                      <a:lnTo>
                        <a:pt x="1710" y="7"/>
                      </a:lnTo>
                      <a:lnTo>
                        <a:pt x="1700" y="7"/>
                      </a:lnTo>
                      <a:lnTo>
                        <a:pt x="1700" y="921"/>
                      </a:lnTo>
                      <a:lnTo>
                        <a:pt x="1423" y="921"/>
                      </a:lnTo>
                      <a:lnTo>
                        <a:pt x="1422" y="919"/>
                      </a:lnTo>
                      <a:lnTo>
                        <a:pt x="1421" y="918"/>
                      </a:lnTo>
                      <a:lnTo>
                        <a:pt x="1420" y="917"/>
                      </a:lnTo>
                      <a:lnTo>
                        <a:pt x="1418" y="916"/>
                      </a:lnTo>
                      <a:lnTo>
                        <a:pt x="1416" y="915"/>
                      </a:lnTo>
                      <a:lnTo>
                        <a:pt x="1414" y="916"/>
                      </a:lnTo>
                      <a:lnTo>
                        <a:pt x="1412" y="917"/>
                      </a:lnTo>
                      <a:lnTo>
                        <a:pt x="1410" y="918"/>
                      </a:lnTo>
                      <a:lnTo>
                        <a:pt x="1409" y="919"/>
                      </a:lnTo>
                      <a:lnTo>
                        <a:pt x="1409" y="921"/>
                      </a:lnTo>
                      <a:lnTo>
                        <a:pt x="1261" y="921"/>
                      </a:lnTo>
                      <a:lnTo>
                        <a:pt x="1260" y="920"/>
                      </a:lnTo>
                      <a:lnTo>
                        <a:pt x="1259" y="919"/>
                      </a:lnTo>
                      <a:lnTo>
                        <a:pt x="1258" y="918"/>
                      </a:lnTo>
                      <a:lnTo>
                        <a:pt x="1256" y="917"/>
                      </a:lnTo>
                      <a:lnTo>
                        <a:pt x="1255" y="918"/>
                      </a:lnTo>
                      <a:lnTo>
                        <a:pt x="1253" y="919"/>
                      </a:lnTo>
                      <a:lnTo>
                        <a:pt x="1252" y="920"/>
                      </a:lnTo>
                      <a:lnTo>
                        <a:pt x="1252" y="921"/>
                      </a:lnTo>
                      <a:lnTo>
                        <a:pt x="889" y="921"/>
                      </a:lnTo>
                      <a:lnTo>
                        <a:pt x="889" y="920"/>
                      </a:lnTo>
                      <a:lnTo>
                        <a:pt x="888" y="919"/>
                      </a:lnTo>
                      <a:lnTo>
                        <a:pt x="886" y="918"/>
                      </a:lnTo>
                      <a:lnTo>
                        <a:pt x="885" y="917"/>
                      </a:lnTo>
                      <a:lnTo>
                        <a:pt x="883" y="918"/>
                      </a:lnTo>
                      <a:lnTo>
                        <a:pt x="881" y="919"/>
                      </a:lnTo>
                      <a:lnTo>
                        <a:pt x="881" y="920"/>
                      </a:lnTo>
                      <a:lnTo>
                        <a:pt x="880" y="921"/>
                      </a:lnTo>
                      <a:lnTo>
                        <a:pt x="637" y="921"/>
                      </a:lnTo>
                      <a:lnTo>
                        <a:pt x="637" y="920"/>
                      </a:lnTo>
                      <a:lnTo>
                        <a:pt x="636" y="919"/>
                      </a:lnTo>
                      <a:lnTo>
                        <a:pt x="634" y="918"/>
                      </a:lnTo>
                      <a:lnTo>
                        <a:pt x="633" y="917"/>
                      </a:lnTo>
                      <a:lnTo>
                        <a:pt x="631" y="918"/>
                      </a:lnTo>
                      <a:lnTo>
                        <a:pt x="629" y="919"/>
                      </a:lnTo>
                      <a:lnTo>
                        <a:pt x="628" y="920"/>
                      </a:lnTo>
                      <a:lnTo>
                        <a:pt x="628" y="921"/>
                      </a:lnTo>
                      <a:lnTo>
                        <a:pt x="583" y="921"/>
                      </a:lnTo>
                      <a:lnTo>
                        <a:pt x="583" y="920"/>
                      </a:lnTo>
                      <a:lnTo>
                        <a:pt x="582" y="919"/>
                      </a:lnTo>
                      <a:lnTo>
                        <a:pt x="580" y="918"/>
                      </a:lnTo>
                      <a:lnTo>
                        <a:pt x="579" y="917"/>
                      </a:lnTo>
                      <a:lnTo>
                        <a:pt x="577" y="918"/>
                      </a:lnTo>
                      <a:lnTo>
                        <a:pt x="575" y="919"/>
                      </a:lnTo>
                      <a:lnTo>
                        <a:pt x="574" y="920"/>
                      </a:lnTo>
                      <a:lnTo>
                        <a:pt x="574" y="921"/>
                      </a:lnTo>
                      <a:lnTo>
                        <a:pt x="531" y="921"/>
                      </a:lnTo>
                      <a:lnTo>
                        <a:pt x="531" y="920"/>
                      </a:lnTo>
                      <a:lnTo>
                        <a:pt x="530" y="919"/>
                      </a:lnTo>
                      <a:lnTo>
                        <a:pt x="528" y="918"/>
                      </a:lnTo>
                      <a:lnTo>
                        <a:pt x="527" y="917"/>
                      </a:lnTo>
                      <a:lnTo>
                        <a:pt x="525" y="918"/>
                      </a:lnTo>
                      <a:lnTo>
                        <a:pt x="524" y="919"/>
                      </a:lnTo>
                      <a:lnTo>
                        <a:pt x="523" y="920"/>
                      </a:lnTo>
                      <a:lnTo>
                        <a:pt x="522" y="921"/>
                      </a:lnTo>
                      <a:lnTo>
                        <a:pt x="486" y="921"/>
                      </a:lnTo>
                      <a:lnTo>
                        <a:pt x="485" y="920"/>
                      </a:lnTo>
                      <a:lnTo>
                        <a:pt x="484" y="919"/>
                      </a:lnTo>
                      <a:lnTo>
                        <a:pt x="483" y="918"/>
                      </a:lnTo>
                      <a:lnTo>
                        <a:pt x="481" y="917"/>
                      </a:lnTo>
                      <a:lnTo>
                        <a:pt x="479" y="918"/>
                      </a:lnTo>
                      <a:lnTo>
                        <a:pt x="478" y="919"/>
                      </a:lnTo>
                      <a:lnTo>
                        <a:pt x="477" y="920"/>
                      </a:lnTo>
                      <a:lnTo>
                        <a:pt x="477" y="921"/>
                      </a:lnTo>
                      <a:lnTo>
                        <a:pt x="438" y="921"/>
                      </a:lnTo>
                      <a:lnTo>
                        <a:pt x="438" y="920"/>
                      </a:lnTo>
                      <a:lnTo>
                        <a:pt x="437" y="919"/>
                      </a:lnTo>
                      <a:lnTo>
                        <a:pt x="436" y="918"/>
                      </a:lnTo>
                      <a:lnTo>
                        <a:pt x="434" y="917"/>
                      </a:lnTo>
                      <a:lnTo>
                        <a:pt x="432" y="918"/>
                      </a:lnTo>
                      <a:lnTo>
                        <a:pt x="431" y="919"/>
                      </a:lnTo>
                      <a:lnTo>
                        <a:pt x="430" y="920"/>
                      </a:lnTo>
                      <a:lnTo>
                        <a:pt x="429" y="921"/>
                      </a:lnTo>
                      <a:lnTo>
                        <a:pt x="342" y="921"/>
                      </a:lnTo>
                      <a:lnTo>
                        <a:pt x="342" y="920"/>
                      </a:lnTo>
                      <a:lnTo>
                        <a:pt x="341" y="919"/>
                      </a:lnTo>
                      <a:lnTo>
                        <a:pt x="339" y="918"/>
                      </a:lnTo>
                      <a:lnTo>
                        <a:pt x="338" y="917"/>
                      </a:lnTo>
                      <a:lnTo>
                        <a:pt x="336" y="918"/>
                      </a:lnTo>
                      <a:lnTo>
                        <a:pt x="334" y="919"/>
                      </a:lnTo>
                      <a:lnTo>
                        <a:pt x="333" y="920"/>
                      </a:lnTo>
                      <a:lnTo>
                        <a:pt x="333" y="921"/>
                      </a:lnTo>
                      <a:lnTo>
                        <a:pt x="261" y="921"/>
                      </a:lnTo>
                      <a:lnTo>
                        <a:pt x="261" y="920"/>
                      </a:lnTo>
                      <a:lnTo>
                        <a:pt x="260" y="919"/>
                      </a:lnTo>
                      <a:lnTo>
                        <a:pt x="258" y="918"/>
                      </a:lnTo>
                      <a:lnTo>
                        <a:pt x="256" y="917"/>
                      </a:lnTo>
                      <a:lnTo>
                        <a:pt x="255" y="918"/>
                      </a:lnTo>
                      <a:lnTo>
                        <a:pt x="253" y="919"/>
                      </a:lnTo>
                      <a:lnTo>
                        <a:pt x="252" y="920"/>
                      </a:lnTo>
                      <a:lnTo>
                        <a:pt x="252" y="921"/>
                      </a:lnTo>
                      <a:lnTo>
                        <a:pt x="110" y="921"/>
                      </a:lnTo>
                      <a:lnTo>
                        <a:pt x="109" y="920"/>
                      </a:lnTo>
                      <a:lnTo>
                        <a:pt x="108" y="919"/>
                      </a:lnTo>
                      <a:lnTo>
                        <a:pt x="107" y="918"/>
                      </a:lnTo>
                      <a:lnTo>
                        <a:pt x="105" y="917"/>
                      </a:lnTo>
                      <a:lnTo>
                        <a:pt x="103" y="918"/>
                      </a:lnTo>
                      <a:lnTo>
                        <a:pt x="102" y="919"/>
                      </a:lnTo>
                      <a:lnTo>
                        <a:pt x="101" y="920"/>
                      </a:lnTo>
                      <a:lnTo>
                        <a:pt x="101" y="921"/>
                      </a:lnTo>
                      <a:lnTo>
                        <a:pt x="81" y="921"/>
                      </a:lnTo>
                      <a:lnTo>
                        <a:pt x="81" y="920"/>
                      </a:lnTo>
                      <a:lnTo>
                        <a:pt x="80" y="919"/>
                      </a:lnTo>
                      <a:lnTo>
                        <a:pt x="78" y="918"/>
                      </a:lnTo>
                      <a:lnTo>
                        <a:pt x="76" y="917"/>
                      </a:lnTo>
                      <a:lnTo>
                        <a:pt x="75" y="918"/>
                      </a:lnTo>
                      <a:lnTo>
                        <a:pt x="73" y="919"/>
                      </a:lnTo>
                      <a:lnTo>
                        <a:pt x="72" y="920"/>
                      </a:lnTo>
                      <a:lnTo>
                        <a:pt x="72" y="921"/>
                      </a:lnTo>
                      <a:lnTo>
                        <a:pt x="38" y="921"/>
                      </a:lnTo>
                      <a:lnTo>
                        <a:pt x="38" y="920"/>
                      </a:lnTo>
                      <a:lnTo>
                        <a:pt x="37" y="919"/>
                      </a:lnTo>
                      <a:lnTo>
                        <a:pt x="35" y="918"/>
                      </a:lnTo>
                      <a:lnTo>
                        <a:pt x="34" y="917"/>
                      </a:lnTo>
                      <a:lnTo>
                        <a:pt x="32" y="918"/>
                      </a:lnTo>
                      <a:lnTo>
                        <a:pt x="30" y="919"/>
                      </a:lnTo>
                      <a:lnTo>
                        <a:pt x="30" y="920"/>
                      </a:lnTo>
                      <a:lnTo>
                        <a:pt x="29" y="921"/>
                      </a:lnTo>
                      <a:lnTo>
                        <a:pt x="0" y="92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195320" y="3593160"/>
                  <a:ext cx="13680" cy="11880"/>
                </a:xfrm>
                <a:custGeom>
                  <a:avLst/>
                  <a:gdLst/>
                  <a:ahLst/>
                  <a:rect l="l" t="t" r="r" b="b"/>
                  <a:pathLst>
                    <a:path w="13" h="9">
                      <a:moveTo>
                        <a:pt x="1" y="0"/>
                      </a:moveTo>
                      <a:lnTo>
                        <a:pt x="13" y="5"/>
                      </a:lnTo>
                      <a:lnTo>
                        <a:pt x="1" y="9"/>
                      </a:lnTo>
                      <a:lnTo>
                        <a:pt x="0" y="7"/>
                      </a:lnTo>
                      <a:lnTo>
                        <a:pt x="0" y="5"/>
                      </a:lnTo>
                      <a:lnTo>
                        <a:pt x="0" y="3"/>
                      </a:lnTo>
                      <a:lnTo>
                        <a:pt x="1"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8" name=""/>
                <p:cNvSpPr/>
                <p:nvPr/>
              </p:nvSpPr>
              <p:spPr>
                <a:xfrm>
                  <a:off x="6780240" y="2950920"/>
                  <a:ext cx="864720" cy="731880"/>
                </a:xfrm>
                <a:custGeom>
                  <a:avLst/>
                  <a:gdLst/>
                  <a:ahLst/>
                  <a:rect l="l" t="t" r="r" b="b"/>
                  <a:pathLst>
                    <a:path w="817" h="548">
                      <a:moveTo>
                        <a:pt x="817" y="548"/>
                      </a:moveTo>
                      <a:lnTo>
                        <a:pt x="817" y="6"/>
                      </a:lnTo>
                      <a:lnTo>
                        <a:pt x="758" y="6"/>
                      </a:lnTo>
                      <a:lnTo>
                        <a:pt x="758" y="5"/>
                      </a:lnTo>
                      <a:lnTo>
                        <a:pt x="756" y="4"/>
                      </a:lnTo>
                      <a:lnTo>
                        <a:pt x="755" y="3"/>
                      </a:lnTo>
                      <a:lnTo>
                        <a:pt x="753" y="3"/>
                      </a:lnTo>
                      <a:lnTo>
                        <a:pt x="752" y="3"/>
                      </a:lnTo>
                      <a:lnTo>
                        <a:pt x="750" y="4"/>
                      </a:lnTo>
                      <a:lnTo>
                        <a:pt x="749" y="5"/>
                      </a:lnTo>
                      <a:lnTo>
                        <a:pt x="749" y="6"/>
                      </a:lnTo>
                      <a:lnTo>
                        <a:pt x="744" y="6"/>
                      </a:lnTo>
                      <a:lnTo>
                        <a:pt x="744" y="5"/>
                      </a:lnTo>
                      <a:lnTo>
                        <a:pt x="743" y="4"/>
                      </a:lnTo>
                      <a:lnTo>
                        <a:pt x="741" y="3"/>
                      </a:lnTo>
                      <a:lnTo>
                        <a:pt x="740" y="3"/>
                      </a:lnTo>
                      <a:lnTo>
                        <a:pt x="738" y="3"/>
                      </a:lnTo>
                      <a:lnTo>
                        <a:pt x="737" y="4"/>
                      </a:lnTo>
                      <a:lnTo>
                        <a:pt x="736" y="5"/>
                      </a:lnTo>
                      <a:lnTo>
                        <a:pt x="735" y="6"/>
                      </a:lnTo>
                      <a:lnTo>
                        <a:pt x="731" y="6"/>
                      </a:lnTo>
                      <a:lnTo>
                        <a:pt x="730" y="5"/>
                      </a:lnTo>
                      <a:lnTo>
                        <a:pt x="729" y="4"/>
                      </a:lnTo>
                      <a:lnTo>
                        <a:pt x="728" y="3"/>
                      </a:lnTo>
                      <a:lnTo>
                        <a:pt x="726" y="3"/>
                      </a:lnTo>
                      <a:lnTo>
                        <a:pt x="725" y="3"/>
                      </a:lnTo>
                      <a:lnTo>
                        <a:pt x="723" y="4"/>
                      </a:lnTo>
                      <a:lnTo>
                        <a:pt x="722" y="5"/>
                      </a:lnTo>
                      <a:lnTo>
                        <a:pt x="722" y="6"/>
                      </a:lnTo>
                      <a:lnTo>
                        <a:pt x="575" y="6"/>
                      </a:lnTo>
                      <a:lnTo>
                        <a:pt x="574" y="5"/>
                      </a:lnTo>
                      <a:lnTo>
                        <a:pt x="573" y="4"/>
                      </a:lnTo>
                      <a:lnTo>
                        <a:pt x="572" y="3"/>
                      </a:lnTo>
                      <a:lnTo>
                        <a:pt x="570" y="3"/>
                      </a:lnTo>
                      <a:lnTo>
                        <a:pt x="568" y="3"/>
                      </a:lnTo>
                      <a:lnTo>
                        <a:pt x="567" y="4"/>
                      </a:lnTo>
                      <a:lnTo>
                        <a:pt x="566" y="5"/>
                      </a:lnTo>
                      <a:lnTo>
                        <a:pt x="566" y="6"/>
                      </a:lnTo>
                      <a:lnTo>
                        <a:pt x="461" y="6"/>
                      </a:lnTo>
                      <a:lnTo>
                        <a:pt x="460" y="5"/>
                      </a:lnTo>
                      <a:lnTo>
                        <a:pt x="459" y="4"/>
                      </a:lnTo>
                      <a:lnTo>
                        <a:pt x="458" y="3"/>
                      </a:lnTo>
                      <a:lnTo>
                        <a:pt x="456" y="3"/>
                      </a:lnTo>
                      <a:lnTo>
                        <a:pt x="454" y="3"/>
                      </a:lnTo>
                      <a:lnTo>
                        <a:pt x="453" y="4"/>
                      </a:lnTo>
                      <a:lnTo>
                        <a:pt x="452" y="5"/>
                      </a:lnTo>
                      <a:lnTo>
                        <a:pt x="451" y="6"/>
                      </a:lnTo>
                      <a:lnTo>
                        <a:pt x="447" y="6"/>
                      </a:lnTo>
                      <a:lnTo>
                        <a:pt x="447" y="5"/>
                      </a:lnTo>
                      <a:lnTo>
                        <a:pt x="446" y="4"/>
                      </a:lnTo>
                      <a:lnTo>
                        <a:pt x="444" y="3"/>
                      </a:lnTo>
                      <a:lnTo>
                        <a:pt x="442" y="3"/>
                      </a:lnTo>
                      <a:lnTo>
                        <a:pt x="441" y="3"/>
                      </a:lnTo>
                      <a:lnTo>
                        <a:pt x="439" y="4"/>
                      </a:lnTo>
                      <a:lnTo>
                        <a:pt x="438" y="5"/>
                      </a:lnTo>
                      <a:lnTo>
                        <a:pt x="438" y="6"/>
                      </a:lnTo>
                      <a:lnTo>
                        <a:pt x="433" y="6"/>
                      </a:lnTo>
                      <a:lnTo>
                        <a:pt x="433" y="5"/>
                      </a:lnTo>
                      <a:lnTo>
                        <a:pt x="432" y="4"/>
                      </a:lnTo>
                      <a:lnTo>
                        <a:pt x="431" y="3"/>
                      </a:lnTo>
                      <a:lnTo>
                        <a:pt x="429" y="3"/>
                      </a:lnTo>
                      <a:lnTo>
                        <a:pt x="427" y="3"/>
                      </a:lnTo>
                      <a:lnTo>
                        <a:pt x="426" y="4"/>
                      </a:lnTo>
                      <a:lnTo>
                        <a:pt x="425" y="5"/>
                      </a:lnTo>
                      <a:lnTo>
                        <a:pt x="424" y="6"/>
                      </a:lnTo>
                      <a:lnTo>
                        <a:pt x="413" y="6"/>
                      </a:lnTo>
                      <a:lnTo>
                        <a:pt x="412" y="5"/>
                      </a:lnTo>
                      <a:lnTo>
                        <a:pt x="412" y="4"/>
                      </a:lnTo>
                      <a:lnTo>
                        <a:pt x="410" y="3"/>
                      </a:lnTo>
                      <a:lnTo>
                        <a:pt x="408" y="3"/>
                      </a:lnTo>
                      <a:lnTo>
                        <a:pt x="406" y="3"/>
                      </a:lnTo>
                      <a:lnTo>
                        <a:pt x="405" y="4"/>
                      </a:lnTo>
                      <a:lnTo>
                        <a:pt x="404" y="5"/>
                      </a:lnTo>
                      <a:lnTo>
                        <a:pt x="404" y="6"/>
                      </a:lnTo>
                      <a:lnTo>
                        <a:pt x="403" y="6"/>
                      </a:lnTo>
                      <a:lnTo>
                        <a:pt x="403" y="5"/>
                      </a:lnTo>
                      <a:lnTo>
                        <a:pt x="402" y="4"/>
                      </a:lnTo>
                      <a:lnTo>
                        <a:pt x="400" y="3"/>
                      </a:lnTo>
                      <a:lnTo>
                        <a:pt x="399" y="3"/>
                      </a:lnTo>
                      <a:lnTo>
                        <a:pt x="397" y="3"/>
                      </a:lnTo>
                      <a:lnTo>
                        <a:pt x="395" y="4"/>
                      </a:lnTo>
                      <a:lnTo>
                        <a:pt x="395" y="5"/>
                      </a:lnTo>
                      <a:lnTo>
                        <a:pt x="394" y="6"/>
                      </a:lnTo>
                      <a:lnTo>
                        <a:pt x="391" y="6"/>
                      </a:lnTo>
                      <a:lnTo>
                        <a:pt x="390" y="4"/>
                      </a:lnTo>
                      <a:lnTo>
                        <a:pt x="390" y="3"/>
                      </a:lnTo>
                      <a:lnTo>
                        <a:pt x="388" y="1"/>
                      </a:lnTo>
                      <a:lnTo>
                        <a:pt x="386" y="0"/>
                      </a:lnTo>
                      <a:lnTo>
                        <a:pt x="384" y="0"/>
                      </a:lnTo>
                      <a:lnTo>
                        <a:pt x="381" y="0"/>
                      </a:lnTo>
                      <a:lnTo>
                        <a:pt x="379" y="0"/>
                      </a:lnTo>
                      <a:lnTo>
                        <a:pt x="377" y="1"/>
                      </a:lnTo>
                      <a:lnTo>
                        <a:pt x="375" y="3"/>
                      </a:lnTo>
                      <a:lnTo>
                        <a:pt x="374" y="4"/>
                      </a:lnTo>
                      <a:lnTo>
                        <a:pt x="374" y="6"/>
                      </a:lnTo>
                      <a:lnTo>
                        <a:pt x="365" y="6"/>
                      </a:lnTo>
                      <a:lnTo>
                        <a:pt x="364" y="5"/>
                      </a:lnTo>
                      <a:lnTo>
                        <a:pt x="364" y="4"/>
                      </a:lnTo>
                      <a:lnTo>
                        <a:pt x="362" y="3"/>
                      </a:lnTo>
                      <a:lnTo>
                        <a:pt x="360" y="3"/>
                      </a:lnTo>
                      <a:lnTo>
                        <a:pt x="359" y="3"/>
                      </a:lnTo>
                      <a:lnTo>
                        <a:pt x="357" y="4"/>
                      </a:lnTo>
                      <a:lnTo>
                        <a:pt x="356" y="5"/>
                      </a:lnTo>
                      <a:lnTo>
                        <a:pt x="356" y="6"/>
                      </a:lnTo>
                      <a:lnTo>
                        <a:pt x="330" y="6"/>
                      </a:lnTo>
                      <a:lnTo>
                        <a:pt x="330" y="4"/>
                      </a:lnTo>
                      <a:lnTo>
                        <a:pt x="329" y="3"/>
                      </a:lnTo>
                      <a:lnTo>
                        <a:pt x="328" y="1"/>
                      </a:lnTo>
                      <a:lnTo>
                        <a:pt x="326" y="1"/>
                      </a:lnTo>
                      <a:lnTo>
                        <a:pt x="324" y="0"/>
                      </a:lnTo>
                      <a:lnTo>
                        <a:pt x="321" y="0"/>
                      </a:lnTo>
                      <a:lnTo>
                        <a:pt x="319" y="1"/>
                      </a:lnTo>
                      <a:lnTo>
                        <a:pt x="317" y="1"/>
                      </a:lnTo>
                      <a:lnTo>
                        <a:pt x="316" y="3"/>
                      </a:lnTo>
                      <a:lnTo>
                        <a:pt x="315" y="4"/>
                      </a:lnTo>
                      <a:lnTo>
                        <a:pt x="315" y="6"/>
                      </a:lnTo>
                      <a:lnTo>
                        <a:pt x="313" y="6"/>
                      </a:lnTo>
                      <a:lnTo>
                        <a:pt x="313" y="5"/>
                      </a:lnTo>
                      <a:lnTo>
                        <a:pt x="312" y="4"/>
                      </a:lnTo>
                      <a:lnTo>
                        <a:pt x="310" y="3"/>
                      </a:lnTo>
                      <a:lnTo>
                        <a:pt x="309" y="3"/>
                      </a:lnTo>
                      <a:lnTo>
                        <a:pt x="307" y="3"/>
                      </a:lnTo>
                      <a:lnTo>
                        <a:pt x="305" y="4"/>
                      </a:lnTo>
                      <a:lnTo>
                        <a:pt x="305" y="5"/>
                      </a:lnTo>
                      <a:lnTo>
                        <a:pt x="304" y="6"/>
                      </a:lnTo>
                      <a:lnTo>
                        <a:pt x="278" y="6"/>
                      </a:lnTo>
                      <a:lnTo>
                        <a:pt x="278" y="5"/>
                      </a:lnTo>
                      <a:lnTo>
                        <a:pt x="277" y="4"/>
                      </a:lnTo>
                      <a:lnTo>
                        <a:pt x="275" y="3"/>
                      </a:lnTo>
                      <a:lnTo>
                        <a:pt x="274" y="3"/>
                      </a:lnTo>
                      <a:lnTo>
                        <a:pt x="272" y="3"/>
                      </a:lnTo>
                      <a:lnTo>
                        <a:pt x="270" y="4"/>
                      </a:lnTo>
                      <a:lnTo>
                        <a:pt x="270" y="5"/>
                      </a:lnTo>
                      <a:lnTo>
                        <a:pt x="269" y="6"/>
                      </a:lnTo>
                      <a:lnTo>
                        <a:pt x="265" y="6"/>
                      </a:lnTo>
                      <a:lnTo>
                        <a:pt x="264" y="5"/>
                      </a:lnTo>
                      <a:lnTo>
                        <a:pt x="263" y="4"/>
                      </a:lnTo>
                      <a:lnTo>
                        <a:pt x="262" y="3"/>
                      </a:lnTo>
                      <a:lnTo>
                        <a:pt x="260" y="3"/>
                      </a:lnTo>
                      <a:lnTo>
                        <a:pt x="258" y="3"/>
                      </a:lnTo>
                      <a:lnTo>
                        <a:pt x="257" y="4"/>
                      </a:lnTo>
                      <a:lnTo>
                        <a:pt x="256" y="5"/>
                      </a:lnTo>
                      <a:lnTo>
                        <a:pt x="256" y="6"/>
                      </a:lnTo>
                      <a:lnTo>
                        <a:pt x="247" y="6"/>
                      </a:lnTo>
                      <a:lnTo>
                        <a:pt x="246" y="5"/>
                      </a:lnTo>
                      <a:lnTo>
                        <a:pt x="245" y="4"/>
                      </a:lnTo>
                      <a:lnTo>
                        <a:pt x="244" y="3"/>
                      </a:lnTo>
                      <a:lnTo>
                        <a:pt x="242" y="3"/>
                      </a:lnTo>
                      <a:lnTo>
                        <a:pt x="240" y="3"/>
                      </a:lnTo>
                      <a:lnTo>
                        <a:pt x="239" y="4"/>
                      </a:lnTo>
                      <a:lnTo>
                        <a:pt x="238" y="5"/>
                      </a:lnTo>
                      <a:lnTo>
                        <a:pt x="238" y="6"/>
                      </a:lnTo>
                      <a:lnTo>
                        <a:pt x="212" y="6"/>
                      </a:lnTo>
                      <a:lnTo>
                        <a:pt x="212" y="5"/>
                      </a:lnTo>
                      <a:lnTo>
                        <a:pt x="211" y="4"/>
                      </a:lnTo>
                      <a:lnTo>
                        <a:pt x="209" y="3"/>
                      </a:lnTo>
                      <a:lnTo>
                        <a:pt x="208" y="3"/>
                      </a:lnTo>
                      <a:lnTo>
                        <a:pt x="206" y="3"/>
                      </a:lnTo>
                      <a:lnTo>
                        <a:pt x="204" y="4"/>
                      </a:lnTo>
                      <a:lnTo>
                        <a:pt x="203" y="5"/>
                      </a:lnTo>
                      <a:lnTo>
                        <a:pt x="203" y="6"/>
                      </a:lnTo>
                      <a:lnTo>
                        <a:pt x="184" y="6"/>
                      </a:lnTo>
                      <a:lnTo>
                        <a:pt x="183" y="5"/>
                      </a:lnTo>
                      <a:lnTo>
                        <a:pt x="182" y="4"/>
                      </a:lnTo>
                      <a:lnTo>
                        <a:pt x="181" y="3"/>
                      </a:lnTo>
                      <a:lnTo>
                        <a:pt x="179" y="3"/>
                      </a:lnTo>
                      <a:lnTo>
                        <a:pt x="178" y="3"/>
                      </a:lnTo>
                      <a:lnTo>
                        <a:pt x="176" y="4"/>
                      </a:lnTo>
                      <a:lnTo>
                        <a:pt x="175" y="5"/>
                      </a:lnTo>
                      <a:lnTo>
                        <a:pt x="175" y="6"/>
                      </a:lnTo>
                      <a:lnTo>
                        <a:pt x="123" y="6"/>
                      </a:lnTo>
                      <a:lnTo>
                        <a:pt x="122" y="5"/>
                      </a:lnTo>
                      <a:lnTo>
                        <a:pt x="122" y="4"/>
                      </a:lnTo>
                      <a:lnTo>
                        <a:pt x="120" y="3"/>
                      </a:lnTo>
                      <a:lnTo>
                        <a:pt x="118" y="3"/>
                      </a:lnTo>
                      <a:lnTo>
                        <a:pt x="117" y="3"/>
                      </a:lnTo>
                      <a:lnTo>
                        <a:pt x="115" y="4"/>
                      </a:lnTo>
                      <a:lnTo>
                        <a:pt x="114" y="5"/>
                      </a:lnTo>
                      <a:lnTo>
                        <a:pt x="114" y="6"/>
                      </a:lnTo>
                      <a:lnTo>
                        <a:pt x="51" y="6"/>
                      </a:lnTo>
                      <a:lnTo>
                        <a:pt x="50" y="5"/>
                      </a:lnTo>
                      <a:lnTo>
                        <a:pt x="49" y="4"/>
                      </a:lnTo>
                      <a:lnTo>
                        <a:pt x="48" y="3"/>
                      </a:lnTo>
                      <a:lnTo>
                        <a:pt x="46" y="3"/>
                      </a:lnTo>
                      <a:lnTo>
                        <a:pt x="44" y="3"/>
                      </a:lnTo>
                      <a:lnTo>
                        <a:pt x="43" y="4"/>
                      </a:lnTo>
                      <a:lnTo>
                        <a:pt x="42" y="5"/>
                      </a:lnTo>
                      <a:lnTo>
                        <a:pt x="42" y="6"/>
                      </a:lnTo>
                      <a:lnTo>
                        <a:pt x="24" y="6"/>
                      </a:lnTo>
                      <a:lnTo>
                        <a:pt x="23" y="5"/>
                      </a:lnTo>
                      <a:lnTo>
                        <a:pt x="22" y="4"/>
                      </a:lnTo>
                      <a:lnTo>
                        <a:pt x="21" y="3"/>
                      </a:lnTo>
                      <a:lnTo>
                        <a:pt x="19" y="3"/>
                      </a:lnTo>
                      <a:lnTo>
                        <a:pt x="18" y="3"/>
                      </a:lnTo>
                      <a:lnTo>
                        <a:pt x="16" y="4"/>
                      </a:lnTo>
                      <a:lnTo>
                        <a:pt x="15" y="5"/>
                      </a:lnTo>
                      <a:lnTo>
                        <a:pt x="15" y="6"/>
                      </a:lnTo>
                      <a:lnTo>
                        <a:pt x="11" y="6"/>
                      </a:lnTo>
                      <a:lnTo>
                        <a:pt x="11" y="5"/>
                      </a:lnTo>
                      <a:lnTo>
                        <a:pt x="10" y="4"/>
                      </a:lnTo>
                      <a:lnTo>
                        <a:pt x="9" y="3"/>
                      </a:lnTo>
                      <a:lnTo>
                        <a:pt x="7" y="3"/>
                      </a:lnTo>
                      <a:lnTo>
                        <a:pt x="5" y="3"/>
                      </a:lnTo>
                      <a:lnTo>
                        <a:pt x="4" y="4"/>
                      </a:lnTo>
                      <a:lnTo>
                        <a:pt x="3" y="5"/>
                      </a:lnTo>
                      <a:lnTo>
                        <a:pt x="2" y="6"/>
                      </a:lnTo>
                      <a:lnTo>
                        <a:pt x="0"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639560" y="3681360"/>
                  <a:ext cx="11520" cy="14760"/>
                </a:xfrm>
                <a:custGeom>
                  <a:avLst/>
                  <a:gdLst/>
                  <a:ahLst/>
                  <a:rect l="l" t="t" r="r" b="b"/>
                  <a:pathLst>
                    <a:path w="11" h="11">
                      <a:moveTo>
                        <a:pt x="11" y="1"/>
                      </a:moveTo>
                      <a:lnTo>
                        <a:pt x="5" y="11"/>
                      </a:lnTo>
                      <a:lnTo>
                        <a:pt x="0" y="1"/>
                      </a:lnTo>
                      <a:lnTo>
                        <a:pt x="2" y="1"/>
                      </a:lnTo>
                      <a:lnTo>
                        <a:pt x="5" y="0"/>
                      </a:lnTo>
                      <a:lnTo>
                        <a:pt x="8" y="1"/>
                      </a:lnTo>
                      <a:lnTo>
                        <a:pt x="11"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90" name=""/>
                <p:cNvSpPr/>
                <p:nvPr/>
              </p:nvSpPr>
              <p:spPr>
                <a:xfrm>
                  <a:off x="6780240" y="295236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91" name=""/>
                <p:cNvSpPr/>
                <p:nvPr/>
              </p:nvSpPr>
              <p:spPr>
                <a:xfrm>
                  <a:off x="5814720" y="3791160"/>
                  <a:ext cx="1884240" cy="747720"/>
                </a:xfrm>
                <a:custGeom>
                  <a:avLst/>
                  <a:gdLst/>
                  <a:ahLst/>
                  <a:rect l="l" t="t" r="r" b="b"/>
                  <a:pathLst>
                    <a:path w="1780" h="560">
                      <a:moveTo>
                        <a:pt x="0" y="560"/>
                      </a:moveTo>
                      <a:lnTo>
                        <a:pt x="80" y="560"/>
                      </a:lnTo>
                      <a:lnTo>
                        <a:pt x="81" y="559"/>
                      </a:lnTo>
                      <a:lnTo>
                        <a:pt x="82" y="558"/>
                      </a:lnTo>
                      <a:lnTo>
                        <a:pt x="83" y="557"/>
                      </a:lnTo>
                      <a:lnTo>
                        <a:pt x="85" y="557"/>
                      </a:lnTo>
                      <a:lnTo>
                        <a:pt x="86" y="557"/>
                      </a:lnTo>
                      <a:lnTo>
                        <a:pt x="88" y="558"/>
                      </a:lnTo>
                      <a:lnTo>
                        <a:pt x="89" y="559"/>
                      </a:lnTo>
                      <a:lnTo>
                        <a:pt x="89" y="560"/>
                      </a:lnTo>
                      <a:lnTo>
                        <a:pt x="132" y="560"/>
                      </a:lnTo>
                      <a:lnTo>
                        <a:pt x="132" y="559"/>
                      </a:lnTo>
                      <a:lnTo>
                        <a:pt x="133" y="558"/>
                      </a:lnTo>
                      <a:lnTo>
                        <a:pt x="135" y="557"/>
                      </a:lnTo>
                      <a:lnTo>
                        <a:pt x="137" y="557"/>
                      </a:lnTo>
                      <a:lnTo>
                        <a:pt x="138" y="557"/>
                      </a:lnTo>
                      <a:lnTo>
                        <a:pt x="140" y="558"/>
                      </a:lnTo>
                      <a:lnTo>
                        <a:pt x="141" y="559"/>
                      </a:lnTo>
                      <a:lnTo>
                        <a:pt x="141" y="560"/>
                      </a:lnTo>
                      <a:lnTo>
                        <a:pt x="155" y="560"/>
                      </a:lnTo>
                      <a:lnTo>
                        <a:pt x="155" y="559"/>
                      </a:lnTo>
                      <a:lnTo>
                        <a:pt x="156" y="558"/>
                      </a:lnTo>
                      <a:lnTo>
                        <a:pt x="157" y="557"/>
                      </a:lnTo>
                      <a:lnTo>
                        <a:pt x="159" y="557"/>
                      </a:lnTo>
                      <a:lnTo>
                        <a:pt x="161" y="557"/>
                      </a:lnTo>
                      <a:lnTo>
                        <a:pt x="162" y="558"/>
                      </a:lnTo>
                      <a:lnTo>
                        <a:pt x="163" y="559"/>
                      </a:lnTo>
                      <a:lnTo>
                        <a:pt x="164" y="560"/>
                      </a:lnTo>
                      <a:lnTo>
                        <a:pt x="186" y="560"/>
                      </a:lnTo>
                      <a:lnTo>
                        <a:pt x="186" y="559"/>
                      </a:lnTo>
                      <a:lnTo>
                        <a:pt x="187" y="558"/>
                      </a:lnTo>
                      <a:lnTo>
                        <a:pt x="189" y="557"/>
                      </a:lnTo>
                      <a:lnTo>
                        <a:pt x="191" y="557"/>
                      </a:lnTo>
                      <a:lnTo>
                        <a:pt x="192" y="557"/>
                      </a:lnTo>
                      <a:lnTo>
                        <a:pt x="194" y="558"/>
                      </a:lnTo>
                      <a:lnTo>
                        <a:pt x="195" y="559"/>
                      </a:lnTo>
                      <a:lnTo>
                        <a:pt x="195" y="560"/>
                      </a:lnTo>
                      <a:lnTo>
                        <a:pt x="256" y="560"/>
                      </a:lnTo>
                      <a:lnTo>
                        <a:pt x="256" y="559"/>
                      </a:lnTo>
                      <a:lnTo>
                        <a:pt x="257" y="558"/>
                      </a:lnTo>
                      <a:lnTo>
                        <a:pt x="259" y="557"/>
                      </a:lnTo>
                      <a:lnTo>
                        <a:pt x="260" y="557"/>
                      </a:lnTo>
                      <a:lnTo>
                        <a:pt x="262" y="557"/>
                      </a:lnTo>
                      <a:lnTo>
                        <a:pt x="264" y="558"/>
                      </a:lnTo>
                      <a:lnTo>
                        <a:pt x="264" y="559"/>
                      </a:lnTo>
                      <a:lnTo>
                        <a:pt x="265" y="560"/>
                      </a:lnTo>
                      <a:lnTo>
                        <a:pt x="319" y="560"/>
                      </a:lnTo>
                      <a:lnTo>
                        <a:pt x="319" y="559"/>
                      </a:lnTo>
                      <a:lnTo>
                        <a:pt x="320" y="558"/>
                      </a:lnTo>
                      <a:lnTo>
                        <a:pt x="322" y="557"/>
                      </a:lnTo>
                      <a:lnTo>
                        <a:pt x="323" y="557"/>
                      </a:lnTo>
                      <a:lnTo>
                        <a:pt x="325" y="557"/>
                      </a:lnTo>
                      <a:lnTo>
                        <a:pt x="326" y="558"/>
                      </a:lnTo>
                      <a:lnTo>
                        <a:pt x="327" y="559"/>
                      </a:lnTo>
                      <a:lnTo>
                        <a:pt x="328" y="560"/>
                      </a:lnTo>
                      <a:lnTo>
                        <a:pt x="493" y="560"/>
                      </a:lnTo>
                      <a:lnTo>
                        <a:pt x="493" y="559"/>
                      </a:lnTo>
                      <a:lnTo>
                        <a:pt x="494" y="558"/>
                      </a:lnTo>
                      <a:lnTo>
                        <a:pt x="496" y="557"/>
                      </a:lnTo>
                      <a:lnTo>
                        <a:pt x="498" y="557"/>
                      </a:lnTo>
                      <a:lnTo>
                        <a:pt x="499" y="557"/>
                      </a:lnTo>
                      <a:lnTo>
                        <a:pt x="501" y="558"/>
                      </a:lnTo>
                      <a:lnTo>
                        <a:pt x="502" y="559"/>
                      </a:lnTo>
                      <a:lnTo>
                        <a:pt x="502" y="560"/>
                      </a:lnTo>
                      <a:lnTo>
                        <a:pt x="681" y="560"/>
                      </a:lnTo>
                      <a:lnTo>
                        <a:pt x="681" y="559"/>
                      </a:lnTo>
                      <a:lnTo>
                        <a:pt x="682" y="558"/>
                      </a:lnTo>
                      <a:lnTo>
                        <a:pt x="684" y="557"/>
                      </a:lnTo>
                      <a:lnTo>
                        <a:pt x="685" y="557"/>
                      </a:lnTo>
                      <a:lnTo>
                        <a:pt x="687" y="557"/>
                      </a:lnTo>
                      <a:lnTo>
                        <a:pt x="688" y="558"/>
                      </a:lnTo>
                      <a:lnTo>
                        <a:pt x="689" y="559"/>
                      </a:lnTo>
                      <a:lnTo>
                        <a:pt x="690" y="560"/>
                      </a:lnTo>
                      <a:lnTo>
                        <a:pt x="972" y="560"/>
                      </a:lnTo>
                      <a:lnTo>
                        <a:pt x="972" y="559"/>
                      </a:lnTo>
                      <a:lnTo>
                        <a:pt x="973" y="558"/>
                      </a:lnTo>
                      <a:lnTo>
                        <a:pt x="975" y="557"/>
                      </a:lnTo>
                      <a:lnTo>
                        <a:pt x="976" y="557"/>
                      </a:lnTo>
                      <a:lnTo>
                        <a:pt x="978" y="557"/>
                      </a:lnTo>
                      <a:lnTo>
                        <a:pt x="979" y="558"/>
                      </a:lnTo>
                      <a:lnTo>
                        <a:pt x="980" y="559"/>
                      </a:lnTo>
                      <a:lnTo>
                        <a:pt x="981" y="560"/>
                      </a:lnTo>
                      <a:lnTo>
                        <a:pt x="1181" y="560"/>
                      </a:lnTo>
                      <a:lnTo>
                        <a:pt x="1182" y="559"/>
                      </a:lnTo>
                      <a:lnTo>
                        <a:pt x="1182" y="558"/>
                      </a:lnTo>
                      <a:lnTo>
                        <a:pt x="1184" y="557"/>
                      </a:lnTo>
                      <a:lnTo>
                        <a:pt x="1186" y="557"/>
                      </a:lnTo>
                      <a:lnTo>
                        <a:pt x="1187" y="557"/>
                      </a:lnTo>
                      <a:lnTo>
                        <a:pt x="1189" y="558"/>
                      </a:lnTo>
                      <a:lnTo>
                        <a:pt x="1190" y="559"/>
                      </a:lnTo>
                      <a:lnTo>
                        <a:pt x="1190" y="560"/>
                      </a:lnTo>
                      <a:lnTo>
                        <a:pt x="1201" y="560"/>
                      </a:lnTo>
                      <a:lnTo>
                        <a:pt x="1202" y="559"/>
                      </a:lnTo>
                      <a:lnTo>
                        <a:pt x="1203" y="558"/>
                      </a:lnTo>
                      <a:lnTo>
                        <a:pt x="1204" y="557"/>
                      </a:lnTo>
                      <a:lnTo>
                        <a:pt x="1206" y="557"/>
                      </a:lnTo>
                      <a:lnTo>
                        <a:pt x="1208" y="557"/>
                      </a:lnTo>
                      <a:lnTo>
                        <a:pt x="1209" y="558"/>
                      </a:lnTo>
                      <a:lnTo>
                        <a:pt x="1210" y="559"/>
                      </a:lnTo>
                      <a:lnTo>
                        <a:pt x="1210" y="560"/>
                      </a:lnTo>
                      <a:lnTo>
                        <a:pt x="1235" y="560"/>
                      </a:lnTo>
                      <a:lnTo>
                        <a:pt x="1236" y="559"/>
                      </a:lnTo>
                      <a:lnTo>
                        <a:pt x="1237" y="558"/>
                      </a:lnTo>
                      <a:lnTo>
                        <a:pt x="1238" y="557"/>
                      </a:lnTo>
                      <a:lnTo>
                        <a:pt x="1240" y="557"/>
                      </a:lnTo>
                      <a:lnTo>
                        <a:pt x="1241" y="557"/>
                      </a:lnTo>
                      <a:lnTo>
                        <a:pt x="1243" y="558"/>
                      </a:lnTo>
                      <a:lnTo>
                        <a:pt x="1244" y="559"/>
                      </a:lnTo>
                      <a:lnTo>
                        <a:pt x="1244" y="560"/>
                      </a:lnTo>
                      <a:lnTo>
                        <a:pt x="1254" y="560"/>
                      </a:lnTo>
                      <a:lnTo>
                        <a:pt x="1254" y="559"/>
                      </a:lnTo>
                      <a:lnTo>
                        <a:pt x="1255" y="558"/>
                      </a:lnTo>
                      <a:lnTo>
                        <a:pt x="1257" y="557"/>
                      </a:lnTo>
                      <a:lnTo>
                        <a:pt x="1258" y="557"/>
                      </a:lnTo>
                      <a:lnTo>
                        <a:pt x="1260" y="557"/>
                      </a:lnTo>
                      <a:lnTo>
                        <a:pt x="1262" y="558"/>
                      </a:lnTo>
                      <a:lnTo>
                        <a:pt x="1262" y="559"/>
                      </a:lnTo>
                      <a:lnTo>
                        <a:pt x="1263" y="560"/>
                      </a:lnTo>
                      <a:lnTo>
                        <a:pt x="1294" y="560"/>
                      </a:lnTo>
                      <a:lnTo>
                        <a:pt x="1294" y="559"/>
                      </a:lnTo>
                      <a:lnTo>
                        <a:pt x="1295" y="558"/>
                      </a:lnTo>
                      <a:lnTo>
                        <a:pt x="1297" y="557"/>
                      </a:lnTo>
                      <a:lnTo>
                        <a:pt x="1298" y="557"/>
                      </a:lnTo>
                      <a:lnTo>
                        <a:pt x="1300" y="557"/>
                      </a:lnTo>
                      <a:lnTo>
                        <a:pt x="1302" y="558"/>
                      </a:lnTo>
                      <a:lnTo>
                        <a:pt x="1302" y="559"/>
                      </a:lnTo>
                      <a:lnTo>
                        <a:pt x="1303" y="560"/>
                      </a:lnTo>
                      <a:lnTo>
                        <a:pt x="1325" y="560"/>
                      </a:lnTo>
                      <a:lnTo>
                        <a:pt x="1325" y="559"/>
                      </a:lnTo>
                      <a:lnTo>
                        <a:pt x="1326" y="558"/>
                      </a:lnTo>
                      <a:lnTo>
                        <a:pt x="1327" y="557"/>
                      </a:lnTo>
                      <a:lnTo>
                        <a:pt x="1329" y="557"/>
                      </a:lnTo>
                      <a:lnTo>
                        <a:pt x="1331" y="557"/>
                      </a:lnTo>
                      <a:lnTo>
                        <a:pt x="1332" y="558"/>
                      </a:lnTo>
                      <a:lnTo>
                        <a:pt x="1333" y="559"/>
                      </a:lnTo>
                      <a:lnTo>
                        <a:pt x="1334" y="560"/>
                      </a:lnTo>
                      <a:lnTo>
                        <a:pt x="1358" y="560"/>
                      </a:lnTo>
                      <a:lnTo>
                        <a:pt x="1359" y="559"/>
                      </a:lnTo>
                      <a:lnTo>
                        <a:pt x="1360" y="558"/>
                      </a:lnTo>
                      <a:lnTo>
                        <a:pt x="1361" y="557"/>
                      </a:lnTo>
                      <a:lnTo>
                        <a:pt x="1363" y="557"/>
                      </a:lnTo>
                      <a:lnTo>
                        <a:pt x="1365" y="557"/>
                      </a:lnTo>
                      <a:lnTo>
                        <a:pt x="1366" y="558"/>
                      </a:lnTo>
                      <a:lnTo>
                        <a:pt x="1367" y="559"/>
                      </a:lnTo>
                      <a:lnTo>
                        <a:pt x="1367" y="560"/>
                      </a:lnTo>
                      <a:lnTo>
                        <a:pt x="1706" y="560"/>
                      </a:lnTo>
                      <a:lnTo>
                        <a:pt x="1706" y="90"/>
                      </a:lnTo>
                      <a:lnTo>
                        <a:pt x="1780" y="90"/>
                      </a:lnTo>
                      <a:lnTo>
                        <a:pt x="178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802120" y="4533840"/>
                  <a:ext cx="1440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3" name=""/>
                <p:cNvSpPr/>
                <p:nvPr/>
              </p:nvSpPr>
              <p:spPr>
                <a:xfrm>
                  <a:off x="5413320" y="2455200"/>
                  <a:ext cx="2149920" cy="1288800"/>
                </a:xfrm>
                <a:custGeom>
                  <a:avLst/>
                  <a:gdLst/>
                  <a:ahLst/>
                  <a:rect l="l" t="t" r="r" b="b"/>
                  <a:pathLst>
                    <a:path w="2031" h="965">
                      <a:moveTo>
                        <a:pt x="0" y="6"/>
                      </a:moveTo>
                      <a:lnTo>
                        <a:pt x="9" y="6"/>
                      </a:lnTo>
                      <a:lnTo>
                        <a:pt x="9" y="4"/>
                      </a:lnTo>
                      <a:lnTo>
                        <a:pt x="10" y="3"/>
                      </a:lnTo>
                      <a:lnTo>
                        <a:pt x="12" y="1"/>
                      </a:lnTo>
                      <a:lnTo>
                        <a:pt x="14" y="0"/>
                      </a:lnTo>
                      <a:lnTo>
                        <a:pt x="16" y="0"/>
                      </a:lnTo>
                      <a:lnTo>
                        <a:pt x="18" y="0"/>
                      </a:lnTo>
                      <a:lnTo>
                        <a:pt x="20" y="0"/>
                      </a:lnTo>
                      <a:lnTo>
                        <a:pt x="22" y="1"/>
                      </a:lnTo>
                      <a:lnTo>
                        <a:pt x="23" y="3"/>
                      </a:lnTo>
                      <a:lnTo>
                        <a:pt x="24" y="4"/>
                      </a:lnTo>
                      <a:lnTo>
                        <a:pt x="25" y="6"/>
                      </a:lnTo>
                      <a:lnTo>
                        <a:pt x="29" y="6"/>
                      </a:lnTo>
                      <a:lnTo>
                        <a:pt x="30" y="5"/>
                      </a:lnTo>
                      <a:lnTo>
                        <a:pt x="30" y="4"/>
                      </a:lnTo>
                      <a:lnTo>
                        <a:pt x="32" y="3"/>
                      </a:lnTo>
                      <a:lnTo>
                        <a:pt x="34" y="3"/>
                      </a:lnTo>
                      <a:lnTo>
                        <a:pt x="35" y="3"/>
                      </a:lnTo>
                      <a:lnTo>
                        <a:pt x="37" y="4"/>
                      </a:lnTo>
                      <a:lnTo>
                        <a:pt x="38" y="5"/>
                      </a:lnTo>
                      <a:lnTo>
                        <a:pt x="38" y="6"/>
                      </a:lnTo>
                      <a:lnTo>
                        <a:pt x="82" y="6"/>
                      </a:lnTo>
                      <a:lnTo>
                        <a:pt x="82" y="5"/>
                      </a:lnTo>
                      <a:lnTo>
                        <a:pt x="83" y="4"/>
                      </a:lnTo>
                      <a:lnTo>
                        <a:pt x="85" y="3"/>
                      </a:lnTo>
                      <a:lnTo>
                        <a:pt x="86" y="3"/>
                      </a:lnTo>
                      <a:lnTo>
                        <a:pt x="88" y="3"/>
                      </a:lnTo>
                      <a:lnTo>
                        <a:pt x="90" y="4"/>
                      </a:lnTo>
                      <a:lnTo>
                        <a:pt x="90" y="5"/>
                      </a:lnTo>
                      <a:lnTo>
                        <a:pt x="91" y="6"/>
                      </a:lnTo>
                      <a:lnTo>
                        <a:pt x="114" y="6"/>
                      </a:lnTo>
                      <a:lnTo>
                        <a:pt x="114" y="935"/>
                      </a:lnTo>
                      <a:lnTo>
                        <a:pt x="123" y="935"/>
                      </a:lnTo>
                      <a:lnTo>
                        <a:pt x="123" y="934"/>
                      </a:lnTo>
                      <a:lnTo>
                        <a:pt x="124" y="933"/>
                      </a:lnTo>
                      <a:lnTo>
                        <a:pt x="126" y="932"/>
                      </a:lnTo>
                      <a:lnTo>
                        <a:pt x="127" y="932"/>
                      </a:lnTo>
                      <a:lnTo>
                        <a:pt x="129" y="932"/>
                      </a:lnTo>
                      <a:lnTo>
                        <a:pt x="131" y="933"/>
                      </a:lnTo>
                      <a:lnTo>
                        <a:pt x="132" y="934"/>
                      </a:lnTo>
                      <a:lnTo>
                        <a:pt x="132" y="935"/>
                      </a:lnTo>
                      <a:lnTo>
                        <a:pt x="185" y="935"/>
                      </a:lnTo>
                      <a:lnTo>
                        <a:pt x="186" y="934"/>
                      </a:lnTo>
                      <a:lnTo>
                        <a:pt x="187" y="933"/>
                      </a:lnTo>
                      <a:lnTo>
                        <a:pt x="188" y="932"/>
                      </a:lnTo>
                      <a:lnTo>
                        <a:pt x="190" y="932"/>
                      </a:lnTo>
                      <a:lnTo>
                        <a:pt x="192" y="932"/>
                      </a:lnTo>
                      <a:lnTo>
                        <a:pt x="193" y="933"/>
                      </a:lnTo>
                      <a:lnTo>
                        <a:pt x="194" y="934"/>
                      </a:lnTo>
                      <a:lnTo>
                        <a:pt x="194" y="935"/>
                      </a:lnTo>
                      <a:lnTo>
                        <a:pt x="255" y="935"/>
                      </a:lnTo>
                      <a:lnTo>
                        <a:pt x="255" y="934"/>
                      </a:lnTo>
                      <a:lnTo>
                        <a:pt x="256" y="933"/>
                      </a:lnTo>
                      <a:lnTo>
                        <a:pt x="258" y="932"/>
                      </a:lnTo>
                      <a:lnTo>
                        <a:pt x="259" y="932"/>
                      </a:lnTo>
                      <a:lnTo>
                        <a:pt x="261" y="932"/>
                      </a:lnTo>
                      <a:lnTo>
                        <a:pt x="262" y="933"/>
                      </a:lnTo>
                      <a:lnTo>
                        <a:pt x="264" y="934"/>
                      </a:lnTo>
                      <a:lnTo>
                        <a:pt x="264" y="935"/>
                      </a:lnTo>
                      <a:lnTo>
                        <a:pt x="290" y="935"/>
                      </a:lnTo>
                      <a:lnTo>
                        <a:pt x="290" y="934"/>
                      </a:lnTo>
                      <a:lnTo>
                        <a:pt x="291" y="933"/>
                      </a:lnTo>
                      <a:lnTo>
                        <a:pt x="292" y="932"/>
                      </a:lnTo>
                      <a:lnTo>
                        <a:pt x="294" y="932"/>
                      </a:lnTo>
                      <a:lnTo>
                        <a:pt x="296" y="932"/>
                      </a:lnTo>
                      <a:lnTo>
                        <a:pt x="297" y="933"/>
                      </a:lnTo>
                      <a:lnTo>
                        <a:pt x="298" y="934"/>
                      </a:lnTo>
                      <a:lnTo>
                        <a:pt x="299" y="935"/>
                      </a:lnTo>
                      <a:lnTo>
                        <a:pt x="352" y="935"/>
                      </a:lnTo>
                      <a:lnTo>
                        <a:pt x="353" y="934"/>
                      </a:lnTo>
                      <a:lnTo>
                        <a:pt x="353" y="933"/>
                      </a:lnTo>
                      <a:lnTo>
                        <a:pt x="355" y="932"/>
                      </a:lnTo>
                      <a:lnTo>
                        <a:pt x="357" y="932"/>
                      </a:lnTo>
                      <a:lnTo>
                        <a:pt x="358" y="932"/>
                      </a:lnTo>
                      <a:lnTo>
                        <a:pt x="360" y="933"/>
                      </a:lnTo>
                      <a:lnTo>
                        <a:pt x="361" y="934"/>
                      </a:lnTo>
                      <a:lnTo>
                        <a:pt x="361" y="935"/>
                      </a:lnTo>
                      <a:lnTo>
                        <a:pt x="371" y="935"/>
                      </a:lnTo>
                      <a:lnTo>
                        <a:pt x="371" y="934"/>
                      </a:lnTo>
                      <a:lnTo>
                        <a:pt x="372" y="933"/>
                      </a:lnTo>
                      <a:lnTo>
                        <a:pt x="373" y="932"/>
                      </a:lnTo>
                      <a:lnTo>
                        <a:pt x="375" y="932"/>
                      </a:lnTo>
                      <a:lnTo>
                        <a:pt x="377" y="932"/>
                      </a:lnTo>
                      <a:lnTo>
                        <a:pt x="378" y="933"/>
                      </a:lnTo>
                      <a:lnTo>
                        <a:pt x="379" y="934"/>
                      </a:lnTo>
                      <a:lnTo>
                        <a:pt x="379" y="935"/>
                      </a:lnTo>
                      <a:lnTo>
                        <a:pt x="394" y="935"/>
                      </a:lnTo>
                      <a:lnTo>
                        <a:pt x="394" y="934"/>
                      </a:lnTo>
                      <a:lnTo>
                        <a:pt x="395" y="933"/>
                      </a:lnTo>
                      <a:lnTo>
                        <a:pt x="397" y="932"/>
                      </a:lnTo>
                      <a:lnTo>
                        <a:pt x="398" y="932"/>
                      </a:lnTo>
                      <a:lnTo>
                        <a:pt x="400" y="932"/>
                      </a:lnTo>
                      <a:lnTo>
                        <a:pt x="402" y="933"/>
                      </a:lnTo>
                      <a:lnTo>
                        <a:pt x="402" y="934"/>
                      </a:lnTo>
                      <a:lnTo>
                        <a:pt x="403" y="935"/>
                      </a:lnTo>
                      <a:lnTo>
                        <a:pt x="416" y="935"/>
                      </a:lnTo>
                      <a:lnTo>
                        <a:pt x="416" y="934"/>
                      </a:lnTo>
                      <a:lnTo>
                        <a:pt x="417" y="933"/>
                      </a:lnTo>
                      <a:lnTo>
                        <a:pt x="418" y="932"/>
                      </a:lnTo>
                      <a:lnTo>
                        <a:pt x="420" y="932"/>
                      </a:lnTo>
                      <a:lnTo>
                        <a:pt x="422" y="932"/>
                      </a:lnTo>
                      <a:lnTo>
                        <a:pt x="423" y="933"/>
                      </a:lnTo>
                      <a:lnTo>
                        <a:pt x="424" y="934"/>
                      </a:lnTo>
                      <a:lnTo>
                        <a:pt x="425" y="935"/>
                      </a:lnTo>
                      <a:lnTo>
                        <a:pt x="436" y="935"/>
                      </a:lnTo>
                      <a:lnTo>
                        <a:pt x="436" y="934"/>
                      </a:lnTo>
                      <a:lnTo>
                        <a:pt x="437" y="933"/>
                      </a:lnTo>
                      <a:lnTo>
                        <a:pt x="438" y="932"/>
                      </a:lnTo>
                      <a:lnTo>
                        <a:pt x="440" y="932"/>
                      </a:lnTo>
                      <a:lnTo>
                        <a:pt x="442" y="932"/>
                      </a:lnTo>
                      <a:lnTo>
                        <a:pt x="443" y="933"/>
                      </a:lnTo>
                      <a:lnTo>
                        <a:pt x="444" y="934"/>
                      </a:lnTo>
                      <a:lnTo>
                        <a:pt x="445" y="935"/>
                      </a:lnTo>
                      <a:lnTo>
                        <a:pt x="493" y="935"/>
                      </a:lnTo>
                      <a:lnTo>
                        <a:pt x="493" y="934"/>
                      </a:lnTo>
                      <a:lnTo>
                        <a:pt x="494" y="933"/>
                      </a:lnTo>
                      <a:lnTo>
                        <a:pt x="496" y="932"/>
                      </a:lnTo>
                      <a:lnTo>
                        <a:pt x="498" y="932"/>
                      </a:lnTo>
                      <a:lnTo>
                        <a:pt x="499" y="932"/>
                      </a:lnTo>
                      <a:lnTo>
                        <a:pt x="501" y="933"/>
                      </a:lnTo>
                      <a:lnTo>
                        <a:pt x="502" y="934"/>
                      </a:lnTo>
                      <a:lnTo>
                        <a:pt x="502" y="935"/>
                      </a:lnTo>
                      <a:lnTo>
                        <a:pt x="511" y="935"/>
                      </a:lnTo>
                      <a:lnTo>
                        <a:pt x="511" y="934"/>
                      </a:lnTo>
                      <a:lnTo>
                        <a:pt x="512" y="933"/>
                      </a:lnTo>
                      <a:lnTo>
                        <a:pt x="514" y="932"/>
                      </a:lnTo>
                      <a:lnTo>
                        <a:pt x="516" y="932"/>
                      </a:lnTo>
                      <a:lnTo>
                        <a:pt x="517" y="932"/>
                      </a:lnTo>
                      <a:lnTo>
                        <a:pt x="519" y="933"/>
                      </a:lnTo>
                      <a:lnTo>
                        <a:pt x="520" y="934"/>
                      </a:lnTo>
                      <a:lnTo>
                        <a:pt x="520" y="935"/>
                      </a:lnTo>
                      <a:lnTo>
                        <a:pt x="520" y="935"/>
                      </a:lnTo>
                      <a:lnTo>
                        <a:pt x="520" y="934"/>
                      </a:lnTo>
                      <a:lnTo>
                        <a:pt x="521" y="933"/>
                      </a:lnTo>
                      <a:lnTo>
                        <a:pt x="523" y="932"/>
                      </a:lnTo>
                      <a:lnTo>
                        <a:pt x="525" y="932"/>
                      </a:lnTo>
                      <a:lnTo>
                        <a:pt x="526" y="932"/>
                      </a:lnTo>
                      <a:lnTo>
                        <a:pt x="528" y="933"/>
                      </a:lnTo>
                      <a:lnTo>
                        <a:pt x="529" y="934"/>
                      </a:lnTo>
                      <a:lnTo>
                        <a:pt x="529" y="935"/>
                      </a:lnTo>
                      <a:lnTo>
                        <a:pt x="534" y="935"/>
                      </a:lnTo>
                      <a:lnTo>
                        <a:pt x="534" y="934"/>
                      </a:lnTo>
                      <a:lnTo>
                        <a:pt x="535" y="933"/>
                      </a:lnTo>
                      <a:lnTo>
                        <a:pt x="536" y="932"/>
                      </a:lnTo>
                      <a:lnTo>
                        <a:pt x="538" y="932"/>
                      </a:lnTo>
                      <a:lnTo>
                        <a:pt x="540" y="932"/>
                      </a:lnTo>
                      <a:lnTo>
                        <a:pt x="541" y="933"/>
                      </a:lnTo>
                      <a:lnTo>
                        <a:pt x="542" y="934"/>
                      </a:lnTo>
                      <a:lnTo>
                        <a:pt x="543" y="935"/>
                      </a:lnTo>
                      <a:lnTo>
                        <a:pt x="544" y="935"/>
                      </a:lnTo>
                      <a:lnTo>
                        <a:pt x="545" y="934"/>
                      </a:lnTo>
                      <a:lnTo>
                        <a:pt x="546" y="933"/>
                      </a:lnTo>
                      <a:lnTo>
                        <a:pt x="547" y="932"/>
                      </a:lnTo>
                      <a:lnTo>
                        <a:pt x="549" y="932"/>
                      </a:lnTo>
                      <a:lnTo>
                        <a:pt x="551" y="932"/>
                      </a:lnTo>
                      <a:lnTo>
                        <a:pt x="552" y="933"/>
                      </a:lnTo>
                      <a:lnTo>
                        <a:pt x="553" y="934"/>
                      </a:lnTo>
                      <a:lnTo>
                        <a:pt x="553" y="935"/>
                      </a:lnTo>
                      <a:lnTo>
                        <a:pt x="565" y="935"/>
                      </a:lnTo>
                      <a:lnTo>
                        <a:pt x="565" y="934"/>
                      </a:lnTo>
                      <a:lnTo>
                        <a:pt x="566" y="933"/>
                      </a:lnTo>
                      <a:lnTo>
                        <a:pt x="568" y="932"/>
                      </a:lnTo>
                      <a:lnTo>
                        <a:pt x="570" y="932"/>
                      </a:lnTo>
                      <a:lnTo>
                        <a:pt x="571" y="932"/>
                      </a:lnTo>
                      <a:lnTo>
                        <a:pt x="573" y="933"/>
                      </a:lnTo>
                      <a:lnTo>
                        <a:pt x="574" y="934"/>
                      </a:lnTo>
                      <a:lnTo>
                        <a:pt x="574" y="935"/>
                      </a:lnTo>
                      <a:lnTo>
                        <a:pt x="581" y="935"/>
                      </a:lnTo>
                      <a:lnTo>
                        <a:pt x="582" y="934"/>
                      </a:lnTo>
                      <a:lnTo>
                        <a:pt x="583" y="933"/>
                      </a:lnTo>
                      <a:lnTo>
                        <a:pt x="584" y="932"/>
                      </a:lnTo>
                      <a:lnTo>
                        <a:pt x="586" y="932"/>
                      </a:lnTo>
                      <a:lnTo>
                        <a:pt x="588" y="932"/>
                      </a:lnTo>
                      <a:lnTo>
                        <a:pt x="589" y="933"/>
                      </a:lnTo>
                      <a:lnTo>
                        <a:pt x="590" y="934"/>
                      </a:lnTo>
                      <a:lnTo>
                        <a:pt x="590" y="935"/>
                      </a:lnTo>
                      <a:lnTo>
                        <a:pt x="597" y="935"/>
                      </a:lnTo>
                      <a:lnTo>
                        <a:pt x="597" y="933"/>
                      </a:lnTo>
                      <a:lnTo>
                        <a:pt x="598" y="931"/>
                      </a:lnTo>
                      <a:lnTo>
                        <a:pt x="600" y="930"/>
                      </a:lnTo>
                      <a:lnTo>
                        <a:pt x="602" y="929"/>
                      </a:lnTo>
                      <a:lnTo>
                        <a:pt x="605" y="928"/>
                      </a:lnTo>
                      <a:lnTo>
                        <a:pt x="607" y="928"/>
                      </a:lnTo>
                      <a:lnTo>
                        <a:pt x="609" y="929"/>
                      </a:lnTo>
                      <a:lnTo>
                        <a:pt x="612" y="930"/>
                      </a:lnTo>
                      <a:lnTo>
                        <a:pt x="613" y="931"/>
                      </a:lnTo>
                      <a:lnTo>
                        <a:pt x="614" y="933"/>
                      </a:lnTo>
                      <a:lnTo>
                        <a:pt x="615" y="935"/>
                      </a:lnTo>
                      <a:lnTo>
                        <a:pt x="661" y="935"/>
                      </a:lnTo>
                      <a:lnTo>
                        <a:pt x="661" y="934"/>
                      </a:lnTo>
                      <a:lnTo>
                        <a:pt x="662" y="933"/>
                      </a:lnTo>
                      <a:lnTo>
                        <a:pt x="664" y="932"/>
                      </a:lnTo>
                      <a:lnTo>
                        <a:pt x="665" y="932"/>
                      </a:lnTo>
                      <a:lnTo>
                        <a:pt x="667" y="932"/>
                      </a:lnTo>
                      <a:lnTo>
                        <a:pt x="669" y="933"/>
                      </a:lnTo>
                      <a:lnTo>
                        <a:pt x="670" y="934"/>
                      </a:lnTo>
                      <a:lnTo>
                        <a:pt x="670" y="935"/>
                      </a:lnTo>
                      <a:lnTo>
                        <a:pt x="750" y="935"/>
                      </a:lnTo>
                      <a:lnTo>
                        <a:pt x="750" y="934"/>
                      </a:lnTo>
                      <a:lnTo>
                        <a:pt x="751" y="933"/>
                      </a:lnTo>
                      <a:lnTo>
                        <a:pt x="752" y="932"/>
                      </a:lnTo>
                      <a:lnTo>
                        <a:pt x="754" y="932"/>
                      </a:lnTo>
                      <a:lnTo>
                        <a:pt x="756" y="932"/>
                      </a:lnTo>
                      <a:lnTo>
                        <a:pt x="757" y="933"/>
                      </a:lnTo>
                      <a:lnTo>
                        <a:pt x="758" y="934"/>
                      </a:lnTo>
                      <a:lnTo>
                        <a:pt x="759" y="935"/>
                      </a:lnTo>
                      <a:lnTo>
                        <a:pt x="825" y="935"/>
                      </a:lnTo>
                      <a:lnTo>
                        <a:pt x="826" y="934"/>
                      </a:lnTo>
                      <a:lnTo>
                        <a:pt x="827" y="933"/>
                      </a:lnTo>
                      <a:lnTo>
                        <a:pt x="828" y="932"/>
                      </a:lnTo>
                      <a:lnTo>
                        <a:pt x="830" y="932"/>
                      </a:lnTo>
                      <a:lnTo>
                        <a:pt x="831" y="932"/>
                      </a:lnTo>
                      <a:lnTo>
                        <a:pt x="833" y="933"/>
                      </a:lnTo>
                      <a:lnTo>
                        <a:pt x="834" y="934"/>
                      </a:lnTo>
                      <a:lnTo>
                        <a:pt x="834" y="935"/>
                      </a:lnTo>
                      <a:lnTo>
                        <a:pt x="885" y="935"/>
                      </a:lnTo>
                      <a:lnTo>
                        <a:pt x="885" y="934"/>
                      </a:lnTo>
                      <a:lnTo>
                        <a:pt x="886" y="933"/>
                      </a:lnTo>
                      <a:lnTo>
                        <a:pt x="887" y="932"/>
                      </a:lnTo>
                      <a:lnTo>
                        <a:pt x="889" y="932"/>
                      </a:lnTo>
                      <a:lnTo>
                        <a:pt x="891" y="932"/>
                      </a:lnTo>
                      <a:lnTo>
                        <a:pt x="892" y="933"/>
                      </a:lnTo>
                      <a:lnTo>
                        <a:pt x="893" y="934"/>
                      </a:lnTo>
                      <a:lnTo>
                        <a:pt x="894" y="935"/>
                      </a:lnTo>
                      <a:lnTo>
                        <a:pt x="897" y="935"/>
                      </a:lnTo>
                      <a:lnTo>
                        <a:pt x="897" y="934"/>
                      </a:lnTo>
                      <a:lnTo>
                        <a:pt x="898" y="932"/>
                      </a:lnTo>
                      <a:lnTo>
                        <a:pt x="900" y="931"/>
                      </a:lnTo>
                      <a:lnTo>
                        <a:pt x="901" y="930"/>
                      </a:lnTo>
                      <a:lnTo>
                        <a:pt x="904" y="930"/>
                      </a:lnTo>
                      <a:lnTo>
                        <a:pt x="906" y="930"/>
                      </a:lnTo>
                      <a:lnTo>
                        <a:pt x="908" y="931"/>
                      </a:lnTo>
                      <a:lnTo>
                        <a:pt x="909" y="932"/>
                      </a:lnTo>
                      <a:lnTo>
                        <a:pt x="910" y="934"/>
                      </a:lnTo>
                      <a:lnTo>
                        <a:pt x="911" y="935"/>
                      </a:lnTo>
                      <a:lnTo>
                        <a:pt x="912" y="935"/>
                      </a:lnTo>
                      <a:lnTo>
                        <a:pt x="912" y="934"/>
                      </a:lnTo>
                      <a:lnTo>
                        <a:pt x="913" y="933"/>
                      </a:lnTo>
                      <a:lnTo>
                        <a:pt x="914" y="932"/>
                      </a:lnTo>
                      <a:lnTo>
                        <a:pt x="916" y="932"/>
                      </a:lnTo>
                      <a:lnTo>
                        <a:pt x="918" y="932"/>
                      </a:lnTo>
                      <a:lnTo>
                        <a:pt x="919" y="933"/>
                      </a:lnTo>
                      <a:lnTo>
                        <a:pt x="920" y="934"/>
                      </a:lnTo>
                      <a:lnTo>
                        <a:pt x="921" y="935"/>
                      </a:lnTo>
                      <a:lnTo>
                        <a:pt x="966" y="935"/>
                      </a:lnTo>
                      <a:lnTo>
                        <a:pt x="966" y="934"/>
                      </a:lnTo>
                      <a:lnTo>
                        <a:pt x="967" y="933"/>
                      </a:lnTo>
                      <a:lnTo>
                        <a:pt x="969" y="932"/>
                      </a:lnTo>
                      <a:lnTo>
                        <a:pt x="970" y="932"/>
                      </a:lnTo>
                      <a:lnTo>
                        <a:pt x="972" y="932"/>
                      </a:lnTo>
                      <a:lnTo>
                        <a:pt x="973" y="933"/>
                      </a:lnTo>
                      <a:lnTo>
                        <a:pt x="974" y="934"/>
                      </a:lnTo>
                      <a:lnTo>
                        <a:pt x="975" y="935"/>
                      </a:lnTo>
                      <a:lnTo>
                        <a:pt x="1027" y="935"/>
                      </a:lnTo>
                      <a:lnTo>
                        <a:pt x="1027" y="934"/>
                      </a:lnTo>
                      <a:lnTo>
                        <a:pt x="1028" y="933"/>
                      </a:lnTo>
                      <a:lnTo>
                        <a:pt x="1029" y="932"/>
                      </a:lnTo>
                      <a:lnTo>
                        <a:pt x="1031" y="932"/>
                      </a:lnTo>
                      <a:lnTo>
                        <a:pt x="1033" y="932"/>
                      </a:lnTo>
                      <a:lnTo>
                        <a:pt x="1034" y="933"/>
                      </a:lnTo>
                      <a:lnTo>
                        <a:pt x="1035" y="934"/>
                      </a:lnTo>
                      <a:lnTo>
                        <a:pt x="1036" y="935"/>
                      </a:lnTo>
                      <a:lnTo>
                        <a:pt x="1038" y="935"/>
                      </a:lnTo>
                      <a:lnTo>
                        <a:pt x="1039" y="934"/>
                      </a:lnTo>
                      <a:lnTo>
                        <a:pt x="1040" y="933"/>
                      </a:lnTo>
                      <a:lnTo>
                        <a:pt x="1041" y="932"/>
                      </a:lnTo>
                      <a:lnTo>
                        <a:pt x="1043" y="932"/>
                      </a:lnTo>
                      <a:lnTo>
                        <a:pt x="1045" y="932"/>
                      </a:lnTo>
                      <a:lnTo>
                        <a:pt x="1046" y="933"/>
                      </a:lnTo>
                      <a:lnTo>
                        <a:pt x="1047" y="934"/>
                      </a:lnTo>
                      <a:lnTo>
                        <a:pt x="1047" y="935"/>
                      </a:lnTo>
                      <a:lnTo>
                        <a:pt x="1111" y="935"/>
                      </a:lnTo>
                      <a:lnTo>
                        <a:pt x="1111" y="934"/>
                      </a:lnTo>
                      <a:lnTo>
                        <a:pt x="1112" y="933"/>
                      </a:lnTo>
                      <a:lnTo>
                        <a:pt x="1114" y="932"/>
                      </a:lnTo>
                      <a:lnTo>
                        <a:pt x="1115" y="932"/>
                      </a:lnTo>
                      <a:lnTo>
                        <a:pt x="1117" y="932"/>
                      </a:lnTo>
                      <a:lnTo>
                        <a:pt x="1119" y="933"/>
                      </a:lnTo>
                      <a:lnTo>
                        <a:pt x="1119" y="934"/>
                      </a:lnTo>
                      <a:lnTo>
                        <a:pt x="1120" y="935"/>
                      </a:lnTo>
                      <a:lnTo>
                        <a:pt x="1135" y="935"/>
                      </a:lnTo>
                      <a:lnTo>
                        <a:pt x="1135" y="934"/>
                      </a:lnTo>
                      <a:lnTo>
                        <a:pt x="1136" y="933"/>
                      </a:lnTo>
                      <a:lnTo>
                        <a:pt x="1137" y="932"/>
                      </a:lnTo>
                      <a:lnTo>
                        <a:pt x="1139" y="932"/>
                      </a:lnTo>
                      <a:lnTo>
                        <a:pt x="1141" y="932"/>
                      </a:lnTo>
                      <a:lnTo>
                        <a:pt x="1142" y="933"/>
                      </a:lnTo>
                      <a:lnTo>
                        <a:pt x="1143" y="934"/>
                      </a:lnTo>
                      <a:lnTo>
                        <a:pt x="1144" y="935"/>
                      </a:lnTo>
                      <a:lnTo>
                        <a:pt x="1192" y="935"/>
                      </a:lnTo>
                      <a:lnTo>
                        <a:pt x="1192" y="965"/>
                      </a:lnTo>
                      <a:lnTo>
                        <a:pt x="1363" y="965"/>
                      </a:lnTo>
                      <a:lnTo>
                        <a:pt x="1363" y="963"/>
                      </a:lnTo>
                      <a:lnTo>
                        <a:pt x="1364" y="962"/>
                      </a:lnTo>
                      <a:lnTo>
                        <a:pt x="1365" y="961"/>
                      </a:lnTo>
                      <a:lnTo>
                        <a:pt x="1367" y="961"/>
                      </a:lnTo>
                      <a:lnTo>
                        <a:pt x="1369" y="961"/>
                      </a:lnTo>
                      <a:lnTo>
                        <a:pt x="1370" y="962"/>
                      </a:lnTo>
                      <a:lnTo>
                        <a:pt x="1371" y="963"/>
                      </a:lnTo>
                      <a:lnTo>
                        <a:pt x="1372" y="965"/>
                      </a:lnTo>
                      <a:lnTo>
                        <a:pt x="1407" y="965"/>
                      </a:lnTo>
                      <a:lnTo>
                        <a:pt x="1407" y="963"/>
                      </a:lnTo>
                      <a:lnTo>
                        <a:pt x="1408" y="962"/>
                      </a:lnTo>
                      <a:lnTo>
                        <a:pt x="1409" y="961"/>
                      </a:lnTo>
                      <a:lnTo>
                        <a:pt x="1411" y="961"/>
                      </a:lnTo>
                      <a:lnTo>
                        <a:pt x="1413" y="961"/>
                      </a:lnTo>
                      <a:lnTo>
                        <a:pt x="1414" y="962"/>
                      </a:lnTo>
                      <a:lnTo>
                        <a:pt x="1415" y="963"/>
                      </a:lnTo>
                      <a:lnTo>
                        <a:pt x="1415" y="965"/>
                      </a:lnTo>
                      <a:lnTo>
                        <a:pt x="1439" y="965"/>
                      </a:lnTo>
                      <a:lnTo>
                        <a:pt x="1439" y="963"/>
                      </a:lnTo>
                      <a:lnTo>
                        <a:pt x="1440" y="961"/>
                      </a:lnTo>
                      <a:lnTo>
                        <a:pt x="1442" y="959"/>
                      </a:lnTo>
                      <a:lnTo>
                        <a:pt x="1444" y="958"/>
                      </a:lnTo>
                      <a:lnTo>
                        <a:pt x="1446" y="958"/>
                      </a:lnTo>
                      <a:lnTo>
                        <a:pt x="1449" y="958"/>
                      </a:lnTo>
                      <a:lnTo>
                        <a:pt x="1451" y="958"/>
                      </a:lnTo>
                      <a:lnTo>
                        <a:pt x="1453" y="959"/>
                      </a:lnTo>
                      <a:lnTo>
                        <a:pt x="1455" y="961"/>
                      </a:lnTo>
                      <a:lnTo>
                        <a:pt x="1456" y="963"/>
                      </a:lnTo>
                      <a:lnTo>
                        <a:pt x="1456" y="965"/>
                      </a:lnTo>
                      <a:lnTo>
                        <a:pt x="1485" y="965"/>
                      </a:lnTo>
                      <a:lnTo>
                        <a:pt x="1485" y="963"/>
                      </a:lnTo>
                      <a:lnTo>
                        <a:pt x="1486" y="962"/>
                      </a:lnTo>
                      <a:lnTo>
                        <a:pt x="1487" y="961"/>
                      </a:lnTo>
                      <a:lnTo>
                        <a:pt x="1489" y="961"/>
                      </a:lnTo>
                      <a:lnTo>
                        <a:pt x="1491" y="961"/>
                      </a:lnTo>
                      <a:lnTo>
                        <a:pt x="1492" y="962"/>
                      </a:lnTo>
                      <a:lnTo>
                        <a:pt x="1493" y="963"/>
                      </a:lnTo>
                      <a:lnTo>
                        <a:pt x="1494" y="965"/>
                      </a:lnTo>
                      <a:lnTo>
                        <a:pt x="1498" y="965"/>
                      </a:lnTo>
                      <a:lnTo>
                        <a:pt x="1498" y="963"/>
                      </a:lnTo>
                      <a:lnTo>
                        <a:pt x="1499" y="962"/>
                      </a:lnTo>
                      <a:lnTo>
                        <a:pt x="1500" y="961"/>
                      </a:lnTo>
                      <a:lnTo>
                        <a:pt x="1502" y="961"/>
                      </a:lnTo>
                      <a:lnTo>
                        <a:pt x="1504" y="961"/>
                      </a:lnTo>
                      <a:lnTo>
                        <a:pt x="1505" y="962"/>
                      </a:lnTo>
                      <a:lnTo>
                        <a:pt x="1506" y="963"/>
                      </a:lnTo>
                      <a:lnTo>
                        <a:pt x="1507" y="965"/>
                      </a:lnTo>
                      <a:lnTo>
                        <a:pt x="1513" y="965"/>
                      </a:lnTo>
                      <a:lnTo>
                        <a:pt x="1513" y="963"/>
                      </a:lnTo>
                      <a:lnTo>
                        <a:pt x="1514" y="962"/>
                      </a:lnTo>
                      <a:lnTo>
                        <a:pt x="1516" y="961"/>
                      </a:lnTo>
                      <a:lnTo>
                        <a:pt x="1517" y="961"/>
                      </a:lnTo>
                      <a:lnTo>
                        <a:pt x="1519" y="961"/>
                      </a:lnTo>
                      <a:lnTo>
                        <a:pt x="1521" y="962"/>
                      </a:lnTo>
                      <a:lnTo>
                        <a:pt x="1521" y="963"/>
                      </a:lnTo>
                      <a:lnTo>
                        <a:pt x="1522" y="965"/>
                      </a:lnTo>
                      <a:lnTo>
                        <a:pt x="1547" y="965"/>
                      </a:lnTo>
                      <a:lnTo>
                        <a:pt x="1547" y="963"/>
                      </a:lnTo>
                      <a:lnTo>
                        <a:pt x="1548" y="962"/>
                      </a:lnTo>
                      <a:lnTo>
                        <a:pt x="1549" y="961"/>
                      </a:lnTo>
                      <a:lnTo>
                        <a:pt x="1551" y="961"/>
                      </a:lnTo>
                      <a:lnTo>
                        <a:pt x="1553" y="961"/>
                      </a:lnTo>
                      <a:lnTo>
                        <a:pt x="1554" y="962"/>
                      </a:lnTo>
                      <a:lnTo>
                        <a:pt x="1555" y="963"/>
                      </a:lnTo>
                      <a:lnTo>
                        <a:pt x="1556" y="965"/>
                      </a:lnTo>
                      <a:lnTo>
                        <a:pt x="1560" y="965"/>
                      </a:lnTo>
                      <a:lnTo>
                        <a:pt x="1561" y="963"/>
                      </a:lnTo>
                      <a:lnTo>
                        <a:pt x="1561" y="962"/>
                      </a:lnTo>
                      <a:lnTo>
                        <a:pt x="1563" y="961"/>
                      </a:lnTo>
                      <a:lnTo>
                        <a:pt x="1565" y="961"/>
                      </a:lnTo>
                      <a:lnTo>
                        <a:pt x="1566" y="961"/>
                      </a:lnTo>
                      <a:lnTo>
                        <a:pt x="1568" y="962"/>
                      </a:lnTo>
                      <a:lnTo>
                        <a:pt x="1569" y="963"/>
                      </a:lnTo>
                      <a:lnTo>
                        <a:pt x="1569" y="965"/>
                      </a:lnTo>
                      <a:lnTo>
                        <a:pt x="1580" y="965"/>
                      </a:lnTo>
                      <a:lnTo>
                        <a:pt x="1581" y="963"/>
                      </a:lnTo>
                      <a:lnTo>
                        <a:pt x="1582" y="962"/>
                      </a:lnTo>
                      <a:lnTo>
                        <a:pt x="1583" y="961"/>
                      </a:lnTo>
                      <a:lnTo>
                        <a:pt x="1585" y="961"/>
                      </a:lnTo>
                      <a:lnTo>
                        <a:pt x="1587" y="961"/>
                      </a:lnTo>
                      <a:lnTo>
                        <a:pt x="1588" y="962"/>
                      </a:lnTo>
                      <a:lnTo>
                        <a:pt x="1589" y="963"/>
                      </a:lnTo>
                      <a:lnTo>
                        <a:pt x="1589" y="965"/>
                      </a:lnTo>
                      <a:lnTo>
                        <a:pt x="1633" y="965"/>
                      </a:lnTo>
                      <a:lnTo>
                        <a:pt x="1633" y="963"/>
                      </a:lnTo>
                      <a:lnTo>
                        <a:pt x="1634" y="962"/>
                      </a:lnTo>
                      <a:lnTo>
                        <a:pt x="1636" y="961"/>
                      </a:lnTo>
                      <a:lnTo>
                        <a:pt x="1637" y="961"/>
                      </a:lnTo>
                      <a:lnTo>
                        <a:pt x="1639" y="961"/>
                      </a:lnTo>
                      <a:lnTo>
                        <a:pt x="1641" y="962"/>
                      </a:lnTo>
                      <a:lnTo>
                        <a:pt x="1641" y="963"/>
                      </a:lnTo>
                      <a:lnTo>
                        <a:pt x="1642" y="965"/>
                      </a:lnTo>
                      <a:lnTo>
                        <a:pt x="1647" y="965"/>
                      </a:lnTo>
                      <a:lnTo>
                        <a:pt x="1647" y="963"/>
                      </a:lnTo>
                      <a:lnTo>
                        <a:pt x="1648" y="962"/>
                      </a:lnTo>
                      <a:lnTo>
                        <a:pt x="1650" y="961"/>
                      </a:lnTo>
                      <a:lnTo>
                        <a:pt x="1652" y="961"/>
                      </a:lnTo>
                      <a:lnTo>
                        <a:pt x="1653" y="961"/>
                      </a:lnTo>
                      <a:lnTo>
                        <a:pt x="1655" y="962"/>
                      </a:lnTo>
                      <a:lnTo>
                        <a:pt x="1656" y="963"/>
                      </a:lnTo>
                      <a:lnTo>
                        <a:pt x="1656" y="965"/>
                      </a:lnTo>
                      <a:lnTo>
                        <a:pt x="1665" y="965"/>
                      </a:lnTo>
                      <a:lnTo>
                        <a:pt x="1665" y="963"/>
                      </a:lnTo>
                      <a:lnTo>
                        <a:pt x="1666" y="961"/>
                      </a:lnTo>
                      <a:lnTo>
                        <a:pt x="1668" y="960"/>
                      </a:lnTo>
                      <a:lnTo>
                        <a:pt x="1670" y="959"/>
                      </a:lnTo>
                      <a:lnTo>
                        <a:pt x="1672" y="958"/>
                      </a:lnTo>
                      <a:lnTo>
                        <a:pt x="1675" y="958"/>
                      </a:lnTo>
                      <a:lnTo>
                        <a:pt x="1677" y="959"/>
                      </a:lnTo>
                      <a:lnTo>
                        <a:pt x="1679" y="960"/>
                      </a:lnTo>
                      <a:lnTo>
                        <a:pt x="1680" y="961"/>
                      </a:lnTo>
                      <a:lnTo>
                        <a:pt x="1681" y="963"/>
                      </a:lnTo>
                      <a:lnTo>
                        <a:pt x="1682" y="965"/>
                      </a:lnTo>
                      <a:lnTo>
                        <a:pt x="1685" y="965"/>
                      </a:lnTo>
                      <a:lnTo>
                        <a:pt x="1686" y="963"/>
                      </a:lnTo>
                      <a:lnTo>
                        <a:pt x="1686" y="962"/>
                      </a:lnTo>
                      <a:lnTo>
                        <a:pt x="1688" y="961"/>
                      </a:lnTo>
                      <a:lnTo>
                        <a:pt x="1690" y="961"/>
                      </a:lnTo>
                      <a:lnTo>
                        <a:pt x="1691" y="961"/>
                      </a:lnTo>
                      <a:lnTo>
                        <a:pt x="1693" y="962"/>
                      </a:lnTo>
                      <a:lnTo>
                        <a:pt x="1694" y="963"/>
                      </a:lnTo>
                      <a:lnTo>
                        <a:pt x="1694" y="965"/>
                      </a:lnTo>
                      <a:lnTo>
                        <a:pt x="1709" y="965"/>
                      </a:lnTo>
                      <a:lnTo>
                        <a:pt x="1709" y="963"/>
                      </a:lnTo>
                      <a:lnTo>
                        <a:pt x="1710" y="962"/>
                      </a:lnTo>
                      <a:lnTo>
                        <a:pt x="1712" y="961"/>
                      </a:lnTo>
                      <a:lnTo>
                        <a:pt x="1713" y="961"/>
                      </a:lnTo>
                      <a:lnTo>
                        <a:pt x="1715" y="961"/>
                      </a:lnTo>
                      <a:lnTo>
                        <a:pt x="1716" y="962"/>
                      </a:lnTo>
                      <a:lnTo>
                        <a:pt x="1717" y="963"/>
                      </a:lnTo>
                      <a:lnTo>
                        <a:pt x="1718" y="965"/>
                      </a:lnTo>
                      <a:lnTo>
                        <a:pt x="1933" y="965"/>
                      </a:lnTo>
                      <a:lnTo>
                        <a:pt x="1933" y="963"/>
                      </a:lnTo>
                      <a:lnTo>
                        <a:pt x="1934" y="962"/>
                      </a:lnTo>
                      <a:lnTo>
                        <a:pt x="1935" y="961"/>
                      </a:lnTo>
                      <a:lnTo>
                        <a:pt x="1937" y="961"/>
                      </a:lnTo>
                      <a:lnTo>
                        <a:pt x="1939" y="961"/>
                      </a:lnTo>
                      <a:lnTo>
                        <a:pt x="1940" y="962"/>
                      </a:lnTo>
                      <a:lnTo>
                        <a:pt x="1941" y="963"/>
                      </a:lnTo>
                      <a:lnTo>
                        <a:pt x="1942" y="965"/>
                      </a:lnTo>
                      <a:lnTo>
                        <a:pt x="1949" y="965"/>
                      </a:lnTo>
                      <a:lnTo>
                        <a:pt x="1949" y="963"/>
                      </a:lnTo>
                      <a:lnTo>
                        <a:pt x="1950" y="962"/>
                      </a:lnTo>
                      <a:lnTo>
                        <a:pt x="1951" y="961"/>
                      </a:lnTo>
                      <a:lnTo>
                        <a:pt x="1953" y="961"/>
                      </a:lnTo>
                      <a:lnTo>
                        <a:pt x="1955" y="961"/>
                      </a:lnTo>
                      <a:lnTo>
                        <a:pt x="1956" y="962"/>
                      </a:lnTo>
                      <a:lnTo>
                        <a:pt x="1957" y="963"/>
                      </a:lnTo>
                      <a:lnTo>
                        <a:pt x="1958" y="965"/>
                      </a:lnTo>
                      <a:lnTo>
                        <a:pt x="1959" y="965"/>
                      </a:lnTo>
                      <a:lnTo>
                        <a:pt x="1959" y="963"/>
                      </a:lnTo>
                      <a:lnTo>
                        <a:pt x="1960" y="961"/>
                      </a:lnTo>
                      <a:lnTo>
                        <a:pt x="1961" y="960"/>
                      </a:lnTo>
                      <a:lnTo>
                        <a:pt x="1963" y="959"/>
                      </a:lnTo>
                      <a:lnTo>
                        <a:pt x="1965" y="959"/>
                      </a:lnTo>
                      <a:lnTo>
                        <a:pt x="1967" y="959"/>
                      </a:lnTo>
                      <a:lnTo>
                        <a:pt x="1969" y="959"/>
                      </a:lnTo>
                      <a:lnTo>
                        <a:pt x="1971" y="960"/>
                      </a:lnTo>
                      <a:lnTo>
                        <a:pt x="1973" y="961"/>
                      </a:lnTo>
                      <a:lnTo>
                        <a:pt x="1974" y="963"/>
                      </a:lnTo>
                      <a:lnTo>
                        <a:pt x="1974" y="965"/>
                      </a:lnTo>
                      <a:lnTo>
                        <a:pt x="1981" y="965"/>
                      </a:lnTo>
                      <a:lnTo>
                        <a:pt x="1981" y="963"/>
                      </a:lnTo>
                      <a:lnTo>
                        <a:pt x="1982" y="962"/>
                      </a:lnTo>
                      <a:lnTo>
                        <a:pt x="1983" y="961"/>
                      </a:lnTo>
                      <a:lnTo>
                        <a:pt x="1985" y="961"/>
                      </a:lnTo>
                      <a:lnTo>
                        <a:pt x="1987" y="961"/>
                      </a:lnTo>
                      <a:lnTo>
                        <a:pt x="1988" y="962"/>
                      </a:lnTo>
                      <a:lnTo>
                        <a:pt x="1989" y="963"/>
                      </a:lnTo>
                      <a:lnTo>
                        <a:pt x="1990" y="965"/>
                      </a:lnTo>
                      <a:lnTo>
                        <a:pt x="1997" y="965"/>
                      </a:lnTo>
                      <a:lnTo>
                        <a:pt x="1997" y="963"/>
                      </a:lnTo>
                      <a:lnTo>
                        <a:pt x="1998" y="962"/>
                      </a:lnTo>
                      <a:lnTo>
                        <a:pt x="2000" y="961"/>
                      </a:lnTo>
                      <a:lnTo>
                        <a:pt x="2002" y="961"/>
                      </a:lnTo>
                      <a:lnTo>
                        <a:pt x="2003" y="961"/>
                      </a:lnTo>
                      <a:lnTo>
                        <a:pt x="2005" y="962"/>
                      </a:lnTo>
                      <a:lnTo>
                        <a:pt x="2006" y="963"/>
                      </a:lnTo>
                      <a:lnTo>
                        <a:pt x="2006" y="965"/>
                      </a:lnTo>
                      <a:lnTo>
                        <a:pt x="2008" y="965"/>
                      </a:lnTo>
                      <a:lnTo>
                        <a:pt x="2009" y="963"/>
                      </a:lnTo>
                      <a:lnTo>
                        <a:pt x="2010" y="961"/>
                      </a:lnTo>
                      <a:lnTo>
                        <a:pt x="2011" y="960"/>
                      </a:lnTo>
                      <a:lnTo>
                        <a:pt x="2013" y="960"/>
                      </a:lnTo>
                      <a:lnTo>
                        <a:pt x="2015" y="959"/>
                      </a:lnTo>
                      <a:lnTo>
                        <a:pt x="2017" y="960"/>
                      </a:lnTo>
                      <a:lnTo>
                        <a:pt x="2019" y="960"/>
                      </a:lnTo>
                      <a:lnTo>
                        <a:pt x="2021" y="961"/>
                      </a:lnTo>
                      <a:lnTo>
                        <a:pt x="2021" y="963"/>
                      </a:lnTo>
                      <a:lnTo>
                        <a:pt x="2022" y="965"/>
                      </a:lnTo>
                      <a:lnTo>
                        <a:pt x="2031" y="96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413320" y="245664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95" name=""/>
                <p:cNvSpPr/>
                <p:nvPr/>
              </p:nvSpPr>
              <p:spPr>
                <a:xfrm>
                  <a:off x="7835760" y="3744360"/>
                  <a:ext cx="51840" cy="260280"/>
                </a:xfrm>
                <a:custGeom>
                  <a:avLst/>
                  <a:gdLst/>
                  <a:ahLst/>
                  <a:rect l="l" t="t" r="r" b="b"/>
                  <a:pathLst>
                    <a:path w="49" h="195">
                      <a:moveTo>
                        <a:pt x="0" y="0"/>
                      </a:moveTo>
                      <a:lnTo>
                        <a:pt x="49" y="0"/>
                      </a:lnTo>
                      <a:lnTo>
                        <a:pt x="49" y="1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7881120" y="400320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97" name=""/>
                <p:cNvSpPr/>
                <p:nvPr/>
              </p:nvSpPr>
              <p:spPr>
                <a:xfrm>
                  <a:off x="5975640" y="2320560"/>
                  <a:ext cx="1761120" cy="1060200"/>
                </a:xfrm>
                <a:custGeom>
                  <a:avLst/>
                  <a:gdLst/>
                  <a:ahLst/>
                  <a:rect l="l" t="t" r="r" b="b"/>
                  <a:pathLst>
                    <a:path w="1664" h="794">
                      <a:moveTo>
                        <a:pt x="1664" y="794"/>
                      </a:moveTo>
                      <a:lnTo>
                        <a:pt x="1633" y="794"/>
                      </a:lnTo>
                      <a:lnTo>
                        <a:pt x="1632" y="792"/>
                      </a:lnTo>
                      <a:lnTo>
                        <a:pt x="1631" y="791"/>
                      </a:lnTo>
                      <a:lnTo>
                        <a:pt x="1630" y="790"/>
                      </a:lnTo>
                      <a:lnTo>
                        <a:pt x="1628" y="790"/>
                      </a:lnTo>
                      <a:lnTo>
                        <a:pt x="1626" y="790"/>
                      </a:lnTo>
                      <a:lnTo>
                        <a:pt x="1625" y="791"/>
                      </a:lnTo>
                      <a:lnTo>
                        <a:pt x="1624" y="792"/>
                      </a:lnTo>
                      <a:lnTo>
                        <a:pt x="1624" y="794"/>
                      </a:lnTo>
                      <a:lnTo>
                        <a:pt x="1621" y="794"/>
                      </a:lnTo>
                      <a:lnTo>
                        <a:pt x="1620" y="792"/>
                      </a:lnTo>
                      <a:lnTo>
                        <a:pt x="1619" y="791"/>
                      </a:lnTo>
                      <a:lnTo>
                        <a:pt x="1618" y="790"/>
                      </a:lnTo>
                      <a:lnTo>
                        <a:pt x="1616" y="790"/>
                      </a:lnTo>
                      <a:lnTo>
                        <a:pt x="1615" y="790"/>
                      </a:lnTo>
                      <a:lnTo>
                        <a:pt x="1613" y="791"/>
                      </a:lnTo>
                      <a:lnTo>
                        <a:pt x="1612" y="792"/>
                      </a:lnTo>
                      <a:lnTo>
                        <a:pt x="1612" y="794"/>
                      </a:lnTo>
                      <a:lnTo>
                        <a:pt x="1609" y="794"/>
                      </a:lnTo>
                      <a:lnTo>
                        <a:pt x="1609" y="792"/>
                      </a:lnTo>
                      <a:lnTo>
                        <a:pt x="1608" y="791"/>
                      </a:lnTo>
                      <a:lnTo>
                        <a:pt x="1606" y="790"/>
                      </a:lnTo>
                      <a:lnTo>
                        <a:pt x="1605" y="790"/>
                      </a:lnTo>
                      <a:lnTo>
                        <a:pt x="1603" y="790"/>
                      </a:lnTo>
                      <a:lnTo>
                        <a:pt x="1601" y="791"/>
                      </a:lnTo>
                      <a:lnTo>
                        <a:pt x="1600" y="792"/>
                      </a:lnTo>
                      <a:lnTo>
                        <a:pt x="1600" y="794"/>
                      </a:lnTo>
                      <a:lnTo>
                        <a:pt x="1582" y="794"/>
                      </a:lnTo>
                      <a:lnTo>
                        <a:pt x="1582" y="792"/>
                      </a:lnTo>
                      <a:lnTo>
                        <a:pt x="1581" y="791"/>
                      </a:lnTo>
                      <a:lnTo>
                        <a:pt x="1579" y="790"/>
                      </a:lnTo>
                      <a:lnTo>
                        <a:pt x="1577" y="790"/>
                      </a:lnTo>
                      <a:lnTo>
                        <a:pt x="1576" y="790"/>
                      </a:lnTo>
                      <a:lnTo>
                        <a:pt x="1574" y="791"/>
                      </a:lnTo>
                      <a:lnTo>
                        <a:pt x="1573" y="792"/>
                      </a:lnTo>
                      <a:lnTo>
                        <a:pt x="1573" y="794"/>
                      </a:lnTo>
                      <a:lnTo>
                        <a:pt x="1545" y="794"/>
                      </a:lnTo>
                      <a:lnTo>
                        <a:pt x="1544" y="792"/>
                      </a:lnTo>
                      <a:lnTo>
                        <a:pt x="1543" y="791"/>
                      </a:lnTo>
                      <a:lnTo>
                        <a:pt x="1542" y="790"/>
                      </a:lnTo>
                      <a:lnTo>
                        <a:pt x="1540" y="790"/>
                      </a:lnTo>
                      <a:lnTo>
                        <a:pt x="1539" y="790"/>
                      </a:lnTo>
                      <a:lnTo>
                        <a:pt x="1537" y="791"/>
                      </a:lnTo>
                      <a:lnTo>
                        <a:pt x="1536" y="792"/>
                      </a:lnTo>
                      <a:lnTo>
                        <a:pt x="1536" y="794"/>
                      </a:lnTo>
                      <a:lnTo>
                        <a:pt x="1518" y="794"/>
                      </a:lnTo>
                      <a:lnTo>
                        <a:pt x="1518" y="792"/>
                      </a:lnTo>
                      <a:lnTo>
                        <a:pt x="1516" y="791"/>
                      </a:lnTo>
                      <a:lnTo>
                        <a:pt x="1515" y="790"/>
                      </a:lnTo>
                      <a:lnTo>
                        <a:pt x="1513" y="790"/>
                      </a:lnTo>
                      <a:lnTo>
                        <a:pt x="1512" y="790"/>
                      </a:lnTo>
                      <a:lnTo>
                        <a:pt x="1510" y="791"/>
                      </a:lnTo>
                      <a:lnTo>
                        <a:pt x="1509" y="792"/>
                      </a:lnTo>
                      <a:lnTo>
                        <a:pt x="1509" y="794"/>
                      </a:lnTo>
                      <a:lnTo>
                        <a:pt x="1504" y="794"/>
                      </a:lnTo>
                      <a:lnTo>
                        <a:pt x="1504" y="792"/>
                      </a:lnTo>
                      <a:lnTo>
                        <a:pt x="1503" y="791"/>
                      </a:lnTo>
                      <a:lnTo>
                        <a:pt x="1501" y="790"/>
                      </a:lnTo>
                      <a:lnTo>
                        <a:pt x="1500" y="790"/>
                      </a:lnTo>
                      <a:lnTo>
                        <a:pt x="1498" y="790"/>
                      </a:lnTo>
                      <a:lnTo>
                        <a:pt x="1497" y="791"/>
                      </a:lnTo>
                      <a:lnTo>
                        <a:pt x="1496" y="792"/>
                      </a:lnTo>
                      <a:lnTo>
                        <a:pt x="1495" y="794"/>
                      </a:lnTo>
                      <a:lnTo>
                        <a:pt x="1491" y="794"/>
                      </a:lnTo>
                      <a:lnTo>
                        <a:pt x="1490" y="792"/>
                      </a:lnTo>
                      <a:lnTo>
                        <a:pt x="1489" y="791"/>
                      </a:lnTo>
                      <a:lnTo>
                        <a:pt x="1488" y="790"/>
                      </a:lnTo>
                      <a:lnTo>
                        <a:pt x="1486" y="790"/>
                      </a:lnTo>
                      <a:lnTo>
                        <a:pt x="1485" y="790"/>
                      </a:lnTo>
                      <a:lnTo>
                        <a:pt x="1483" y="791"/>
                      </a:lnTo>
                      <a:lnTo>
                        <a:pt x="1482" y="792"/>
                      </a:lnTo>
                      <a:lnTo>
                        <a:pt x="1482" y="794"/>
                      </a:lnTo>
                      <a:lnTo>
                        <a:pt x="1427" y="794"/>
                      </a:lnTo>
                      <a:lnTo>
                        <a:pt x="1426" y="792"/>
                      </a:lnTo>
                      <a:lnTo>
                        <a:pt x="1425" y="791"/>
                      </a:lnTo>
                      <a:lnTo>
                        <a:pt x="1424" y="790"/>
                      </a:lnTo>
                      <a:lnTo>
                        <a:pt x="1422" y="790"/>
                      </a:lnTo>
                      <a:lnTo>
                        <a:pt x="1420" y="790"/>
                      </a:lnTo>
                      <a:lnTo>
                        <a:pt x="1419" y="791"/>
                      </a:lnTo>
                      <a:lnTo>
                        <a:pt x="1418" y="792"/>
                      </a:lnTo>
                      <a:lnTo>
                        <a:pt x="1418" y="794"/>
                      </a:lnTo>
                      <a:lnTo>
                        <a:pt x="1411" y="794"/>
                      </a:lnTo>
                      <a:lnTo>
                        <a:pt x="1410" y="792"/>
                      </a:lnTo>
                      <a:lnTo>
                        <a:pt x="1409" y="791"/>
                      </a:lnTo>
                      <a:lnTo>
                        <a:pt x="1408" y="790"/>
                      </a:lnTo>
                      <a:lnTo>
                        <a:pt x="1406" y="790"/>
                      </a:lnTo>
                      <a:lnTo>
                        <a:pt x="1404" y="790"/>
                      </a:lnTo>
                      <a:lnTo>
                        <a:pt x="1403" y="791"/>
                      </a:lnTo>
                      <a:lnTo>
                        <a:pt x="1402" y="792"/>
                      </a:lnTo>
                      <a:lnTo>
                        <a:pt x="1402" y="794"/>
                      </a:lnTo>
                      <a:lnTo>
                        <a:pt x="1369" y="794"/>
                      </a:lnTo>
                      <a:lnTo>
                        <a:pt x="1369" y="792"/>
                      </a:lnTo>
                      <a:lnTo>
                        <a:pt x="1368" y="791"/>
                      </a:lnTo>
                      <a:lnTo>
                        <a:pt x="1366" y="790"/>
                      </a:lnTo>
                      <a:lnTo>
                        <a:pt x="1365" y="790"/>
                      </a:lnTo>
                      <a:lnTo>
                        <a:pt x="1363" y="790"/>
                      </a:lnTo>
                      <a:lnTo>
                        <a:pt x="1362" y="791"/>
                      </a:lnTo>
                      <a:lnTo>
                        <a:pt x="1360" y="792"/>
                      </a:lnTo>
                      <a:lnTo>
                        <a:pt x="1360" y="794"/>
                      </a:lnTo>
                      <a:lnTo>
                        <a:pt x="1281" y="794"/>
                      </a:lnTo>
                      <a:lnTo>
                        <a:pt x="1281" y="792"/>
                      </a:lnTo>
                      <a:lnTo>
                        <a:pt x="1280" y="791"/>
                      </a:lnTo>
                      <a:lnTo>
                        <a:pt x="1278" y="790"/>
                      </a:lnTo>
                      <a:lnTo>
                        <a:pt x="1277" y="790"/>
                      </a:lnTo>
                      <a:lnTo>
                        <a:pt x="1275" y="790"/>
                      </a:lnTo>
                      <a:lnTo>
                        <a:pt x="1274" y="791"/>
                      </a:lnTo>
                      <a:lnTo>
                        <a:pt x="1273" y="792"/>
                      </a:lnTo>
                      <a:lnTo>
                        <a:pt x="1272" y="794"/>
                      </a:lnTo>
                      <a:lnTo>
                        <a:pt x="1193" y="794"/>
                      </a:lnTo>
                      <a:lnTo>
                        <a:pt x="1193" y="792"/>
                      </a:lnTo>
                      <a:lnTo>
                        <a:pt x="1192" y="791"/>
                      </a:lnTo>
                      <a:lnTo>
                        <a:pt x="1191" y="790"/>
                      </a:lnTo>
                      <a:lnTo>
                        <a:pt x="1189" y="790"/>
                      </a:lnTo>
                      <a:lnTo>
                        <a:pt x="1187" y="790"/>
                      </a:lnTo>
                      <a:lnTo>
                        <a:pt x="1186" y="791"/>
                      </a:lnTo>
                      <a:lnTo>
                        <a:pt x="1185" y="792"/>
                      </a:lnTo>
                      <a:lnTo>
                        <a:pt x="1184" y="794"/>
                      </a:lnTo>
                      <a:lnTo>
                        <a:pt x="1163" y="794"/>
                      </a:lnTo>
                      <a:lnTo>
                        <a:pt x="1163" y="792"/>
                      </a:lnTo>
                      <a:lnTo>
                        <a:pt x="1162" y="791"/>
                      </a:lnTo>
                      <a:lnTo>
                        <a:pt x="1160" y="790"/>
                      </a:lnTo>
                      <a:lnTo>
                        <a:pt x="1159" y="790"/>
                      </a:lnTo>
                      <a:lnTo>
                        <a:pt x="1157" y="790"/>
                      </a:lnTo>
                      <a:lnTo>
                        <a:pt x="1155" y="791"/>
                      </a:lnTo>
                      <a:lnTo>
                        <a:pt x="1155" y="792"/>
                      </a:lnTo>
                      <a:lnTo>
                        <a:pt x="1154" y="794"/>
                      </a:lnTo>
                      <a:lnTo>
                        <a:pt x="1151" y="794"/>
                      </a:lnTo>
                      <a:lnTo>
                        <a:pt x="1150" y="792"/>
                      </a:lnTo>
                      <a:lnTo>
                        <a:pt x="1150" y="790"/>
                      </a:lnTo>
                      <a:lnTo>
                        <a:pt x="1148" y="789"/>
                      </a:lnTo>
                      <a:lnTo>
                        <a:pt x="1146" y="788"/>
                      </a:lnTo>
                      <a:lnTo>
                        <a:pt x="1144" y="787"/>
                      </a:lnTo>
                      <a:lnTo>
                        <a:pt x="1141" y="787"/>
                      </a:lnTo>
                      <a:lnTo>
                        <a:pt x="1139" y="788"/>
                      </a:lnTo>
                      <a:lnTo>
                        <a:pt x="1137" y="789"/>
                      </a:lnTo>
                      <a:lnTo>
                        <a:pt x="1135" y="790"/>
                      </a:lnTo>
                      <a:lnTo>
                        <a:pt x="1134" y="792"/>
                      </a:lnTo>
                      <a:lnTo>
                        <a:pt x="1134" y="794"/>
                      </a:lnTo>
                      <a:lnTo>
                        <a:pt x="1125" y="794"/>
                      </a:lnTo>
                      <a:lnTo>
                        <a:pt x="1125" y="792"/>
                      </a:lnTo>
                      <a:lnTo>
                        <a:pt x="1124" y="791"/>
                      </a:lnTo>
                      <a:lnTo>
                        <a:pt x="1122" y="790"/>
                      </a:lnTo>
                      <a:lnTo>
                        <a:pt x="1121" y="790"/>
                      </a:lnTo>
                      <a:lnTo>
                        <a:pt x="1119" y="790"/>
                      </a:lnTo>
                      <a:lnTo>
                        <a:pt x="1117" y="791"/>
                      </a:lnTo>
                      <a:lnTo>
                        <a:pt x="1116" y="792"/>
                      </a:lnTo>
                      <a:lnTo>
                        <a:pt x="1116" y="794"/>
                      </a:lnTo>
                      <a:lnTo>
                        <a:pt x="1073" y="794"/>
                      </a:lnTo>
                      <a:lnTo>
                        <a:pt x="1073" y="792"/>
                      </a:lnTo>
                      <a:lnTo>
                        <a:pt x="1072" y="791"/>
                      </a:lnTo>
                      <a:lnTo>
                        <a:pt x="1070" y="790"/>
                      </a:lnTo>
                      <a:lnTo>
                        <a:pt x="1069" y="790"/>
                      </a:lnTo>
                      <a:lnTo>
                        <a:pt x="1067" y="790"/>
                      </a:lnTo>
                      <a:lnTo>
                        <a:pt x="1065" y="791"/>
                      </a:lnTo>
                      <a:lnTo>
                        <a:pt x="1065" y="792"/>
                      </a:lnTo>
                      <a:lnTo>
                        <a:pt x="1064" y="794"/>
                      </a:lnTo>
                      <a:lnTo>
                        <a:pt x="1038" y="794"/>
                      </a:lnTo>
                      <a:lnTo>
                        <a:pt x="1038" y="792"/>
                      </a:lnTo>
                      <a:lnTo>
                        <a:pt x="1037" y="791"/>
                      </a:lnTo>
                      <a:lnTo>
                        <a:pt x="1035" y="790"/>
                      </a:lnTo>
                      <a:lnTo>
                        <a:pt x="1034" y="790"/>
                      </a:lnTo>
                      <a:lnTo>
                        <a:pt x="1032" y="790"/>
                      </a:lnTo>
                      <a:lnTo>
                        <a:pt x="1030" y="791"/>
                      </a:lnTo>
                      <a:lnTo>
                        <a:pt x="1030" y="792"/>
                      </a:lnTo>
                      <a:lnTo>
                        <a:pt x="1029" y="794"/>
                      </a:lnTo>
                      <a:lnTo>
                        <a:pt x="1025" y="794"/>
                      </a:lnTo>
                      <a:lnTo>
                        <a:pt x="1024" y="792"/>
                      </a:lnTo>
                      <a:lnTo>
                        <a:pt x="1023" y="791"/>
                      </a:lnTo>
                      <a:lnTo>
                        <a:pt x="1022" y="790"/>
                      </a:lnTo>
                      <a:lnTo>
                        <a:pt x="1020" y="790"/>
                      </a:lnTo>
                      <a:lnTo>
                        <a:pt x="1018" y="790"/>
                      </a:lnTo>
                      <a:lnTo>
                        <a:pt x="1017" y="791"/>
                      </a:lnTo>
                      <a:lnTo>
                        <a:pt x="1016" y="792"/>
                      </a:lnTo>
                      <a:lnTo>
                        <a:pt x="1016" y="794"/>
                      </a:lnTo>
                      <a:lnTo>
                        <a:pt x="990" y="794"/>
                      </a:lnTo>
                      <a:lnTo>
                        <a:pt x="990" y="792"/>
                      </a:lnTo>
                      <a:lnTo>
                        <a:pt x="989" y="791"/>
                      </a:lnTo>
                      <a:lnTo>
                        <a:pt x="987" y="790"/>
                      </a:lnTo>
                      <a:lnTo>
                        <a:pt x="985" y="790"/>
                      </a:lnTo>
                      <a:lnTo>
                        <a:pt x="984" y="790"/>
                      </a:lnTo>
                      <a:lnTo>
                        <a:pt x="982" y="791"/>
                      </a:lnTo>
                      <a:lnTo>
                        <a:pt x="981" y="792"/>
                      </a:lnTo>
                      <a:lnTo>
                        <a:pt x="981" y="794"/>
                      </a:lnTo>
                      <a:lnTo>
                        <a:pt x="963" y="794"/>
                      </a:lnTo>
                      <a:lnTo>
                        <a:pt x="962" y="792"/>
                      </a:lnTo>
                      <a:lnTo>
                        <a:pt x="961" y="791"/>
                      </a:lnTo>
                      <a:lnTo>
                        <a:pt x="960" y="790"/>
                      </a:lnTo>
                      <a:lnTo>
                        <a:pt x="958" y="790"/>
                      </a:lnTo>
                      <a:lnTo>
                        <a:pt x="956" y="790"/>
                      </a:lnTo>
                      <a:lnTo>
                        <a:pt x="955" y="791"/>
                      </a:lnTo>
                      <a:lnTo>
                        <a:pt x="954" y="792"/>
                      </a:lnTo>
                      <a:lnTo>
                        <a:pt x="954" y="794"/>
                      </a:lnTo>
                      <a:lnTo>
                        <a:pt x="925" y="794"/>
                      </a:lnTo>
                      <a:lnTo>
                        <a:pt x="925" y="792"/>
                      </a:lnTo>
                      <a:lnTo>
                        <a:pt x="924" y="791"/>
                      </a:lnTo>
                      <a:lnTo>
                        <a:pt x="922" y="790"/>
                      </a:lnTo>
                      <a:lnTo>
                        <a:pt x="921" y="790"/>
                      </a:lnTo>
                      <a:lnTo>
                        <a:pt x="919" y="790"/>
                      </a:lnTo>
                      <a:lnTo>
                        <a:pt x="917" y="791"/>
                      </a:lnTo>
                      <a:lnTo>
                        <a:pt x="916" y="792"/>
                      </a:lnTo>
                      <a:lnTo>
                        <a:pt x="916" y="794"/>
                      </a:lnTo>
                      <a:lnTo>
                        <a:pt x="884" y="794"/>
                      </a:lnTo>
                      <a:lnTo>
                        <a:pt x="884" y="792"/>
                      </a:lnTo>
                      <a:lnTo>
                        <a:pt x="883" y="791"/>
                      </a:lnTo>
                      <a:lnTo>
                        <a:pt x="882" y="790"/>
                      </a:lnTo>
                      <a:lnTo>
                        <a:pt x="880" y="790"/>
                      </a:lnTo>
                      <a:lnTo>
                        <a:pt x="878" y="790"/>
                      </a:lnTo>
                      <a:lnTo>
                        <a:pt x="877" y="791"/>
                      </a:lnTo>
                      <a:lnTo>
                        <a:pt x="876" y="792"/>
                      </a:lnTo>
                      <a:lnTo>
                        <a:pt x="876" y="794"/>
                      </a:lnTo>
                      <a:lnTo>
                        <a:pt x="821" y="794"/>
                      </a:lnTo>
                      <a:lnTo>
                        <a:pt x="821" y="792"/>
                      </a:lnTo>
                      <a:lnTo>
                        <a:pt x="820" y="791"/>
                      </a:lnTo>
                      <a:lnTo>
                        <a:pt x="818" y="790"/>
                      </a:lnTo>
                      <a:lnTo>
                        <a:pt x="817" y="790"/>
                      </a:lnTo>
                      <a:lnTo>
                        <a:pt x="815" y="790"/>
                      </a:lnTo>
                      <a:lnTo>
                        <a:pt x="814" y="791"/>
                      </a:lnTo>
                      <a:lnTo>
                        <a:pt x="813" y="792"/>
                      </a:lnTo>
                      <a:lnTo>
                        <a:pt x="812" y="794"/>
                      </a:lnTo>
                      <a:lnTo>
                        <a:pt x="716" y="794"/>
                      </a:lnTo>
                      <a:lnTo>
                        <a:pt x="715" y="792"/>
                      </a:lnTo>
                      <a:lnTo>
                        <a:pt x="714" y="791"/>
                      </a:lnTo>
                      <a:lnTo>
                        <a:pt x="713" y="790"/>
                      </a:lnTo>
                      <a:lnTo>
                        <a:pt x="711" y="790"/>
                      </a:lnTo>
                      <a:lnTo>
                        <a:pt x="710" y="790"/>
                      </a:lnTo>
                      <a:lnTo>
                        <a:pt x="708" y="791"/>
                      </a:lnTo>
                      <a:lnTo>
                        <a:pt x="707" y="792"/>
                      </a:lnTo>
                      <a:lnTo>
                        <a:pt x="707" y="794"/>
                      </a:lnTo>
                      <a:lnTo>
                        <a:pt x="660" y="794"/>
                      </a:lnTo>
                      <a:lnTo>
                        <a:pt x="660" y="792"/>
                      </a:lnTo>
                      <a:lnTo>
                        <a:pt x="659" y="791"/>
                      </a:lnTo>
                      <a:lnTo>
                        <a:pt x="657" y="790"/>
                      </a:lnTo>
                      <a:lnTo>
                        <a:pt x="655" y="790"/>
                      </a:lnTo>
                      <a:lnTo>
                        <a:pt x="654" y="790"/>
                      </a:lnTo>
                      <a:lnTo>
                        <a:pt x="652" y="791"/>
                      </a:lnTo>
                      <a:lnTo>
                        <a:pt x="651" y="792"/>
                      </a:lnTo>
                      <a:lnTo>
                        <a:pt x="651" y="794"/>
                      </a:lnTo>
                      <a:lnTo>
                        <a:pt x="626" y="794"/>
                      </a:lnTo>
                      <a:lnTo>
                        <a:pt x="626" y="792"/>
                      </a:lnTo>
                      <a:lnTo>
                        <a:pt x="625" y="791"/>
                      </a:lnTo>
                      <a:lnTo>
                        <a:pt x="623" y="790"/>
                      </a:lnTo>
                      <a:lnTo>
                        <a:pt x="622" y="790"/>
                      </a:lnTo>
                      <a:lnTo>
                        <a:pt x="620" y="790"/>
                      </a:lnTo>
                      <a:lnTo>
                        <a:pt x="619" y="791"/>
                      </a:lnTo>
                      <a:lnTo>
                        <a:pt x="617" y="792"/>
                      </a:lnTo>
                      <a:lnTo>
                        <a:pt x="617" y="794"/>
                      </a:lnTo>
                      <a:lnTo>
                        <a:pt x="616" y="794"/>
                      </a:lnTo>
                      <a:lnTo>
                        <a:pt x="616" y="792"/>
                      </a:lnTo>
                      <a:lnTo>
                        <a:pt x="615" y="791"/>
                      </a:lnTo>
                      <a:lnTo>
                        <a:pt x="613" y="790"/>
                      </a:lnTo>
                      <a:lnTo>
                        <a:pt x="612" y="790"/>
                      </a:lnTo>
                      <a:lnTo>
                        <a:pt x="610" y="790"/>
                      </a:lnTo>
                      <a:lnTo>
                        <a:pt x="608" y="791"/>
                      </a:lnTo>
                      <a:lnTo>
                        <a:pt x="607" y="792"/>
                      </a:lnTo>
                      <a:lnTo>
                        <a:pt x="607" y="794"/>
                      </a:lnTo>
                      <a:lnTo>
                        <a:pt x="599" y="794"/>
                      </a:lnTo>
                      <a:lnTo>
                        <a:pt x="599" y="792"/>
                      </a:lnTo>
                      <a:lnTo>
                        <a:pt x="597" y="791"/>
                      </a:lnTo>
                      <a:lnTo>
                        <a:pt x="596" y="790"/>
                      </a:lnTo>
                      <a:lnTo>
                        <a:pt x="594" y="790"/>
                      </a:lnTo>
                      <a:lnTo>
                        <a:pt x="593" y="790"/>
                      </a:lnTo>
                      <a:lnTo>
                        <a:pt x="591" y="791"/>
                      </a:lnTo>
                      <a:lnTo>
                        <a:pt x="590" y="792"/>
                      </a:lnTo>
                      <a:lnTo>
                        <a:pt x="590" y="794"/>
                      </a:lnTo>
                      <a:lnTo>
                        <a:pt x="589" y="794"/>
                      </a:lnTo>
                      <a:lnTo>
                        <a:pt x="588" y="792"/>
                      </a:lnTo>
                      <a:lnTo>
                        <a:pt x="588" y="791"/>
                      </a:lnTo>
                      <a:lnTo>
                        <a:pt x="586" y="790"/>
                      </a:lnTo>
                      <a:lnTo>
                        <a:pt x="585" y="789"/>
                      </a:lnTo>
                      <a:lnTo>
                        <a:pt x="583" y="789"/>
                      </a:lnTo>
                      <a:lnTo>
                        <a:pt x="581" y="789"/>
                      </a:lnTo>
                      <a:lnTo>
                        <a:pt x="579" y="790"/>
                      </a:lnTo>
                      <a:lnTo>
                        <a:pt x="578" y="791"/>
                      </a:lnTo>
                      <a:lnTo>
                        <a:pt x="577" y="792"/>
                      </a:lnTo>
                      <a:lnTo>
                        <a:pt x="577" y="794"/>
                      </a:lnTo>
                      <a:lnTo>
                        <a:pt x="563" y="794"/>
                      </a:lnTo>
                      <a:lnTo>
                        <a:pt x="563" y="792"/>
                      </a:lnTo>
                      <a:lnTo>
                        <a:pt x="562" y="791"/>
                      </a:lnTo>
                      <a:lnTo>
                        <a:pt x="560" y="790"/>
                      </a:lnTo>
                      <a:lnTo>
                        <a:pt x="559" y="790"/>
                      </a:lnTo>
                      <a:lnTo>
                        <a:pt x="557" y="790"/>
                      </a:lnTo>
                      <a:lnTo>
                        <a:pt x="556" y="791"/>
                      </a:lnTo>
                      <a:lnTo>
                        <a:pt x="554" y="792"/>
                      </a:lnTo>
                      <a:lnTo>
                        <a:pt x="554" y="794"/>
                      </a:lnTo>
                      <a:lnTo>
                        <a:pt x="545" y="794"/>
                      </a:lnTo>
                      <a:lnTo>
                        <a:pt x="545" y="792"/>
                      </a:lnTo>
                      <a:lnTo>
                        <a:pt x="544" y="791"/>
                      </a:lnTo>
                      <a:lnTo>
                        <a:pt x="542" y="790"/>
                      </a:lnTo>
                      <a:lnTo>
                        <a:pt x="541" y="790"/>
                      </a:lnTo>
                      <a:lnTo>
                        <a:pt x="539" y="790"/>
                      </a:lnTo>
                      <a:lnTo>
                        <a:pt x="537" y="791"/>
                      </a:lnTo>
                      <a:lnTo>
                        <a:pt x="536" y="792"/>
                      </a:lnTo>
                      <a:lnTo>
                        <a:pt x="536" y="794"/>
                      </a:lnTo>
                      <a:lnTo>
                        <a:pt x="530" y="794"/>
                      </a:lnTo>
                      <a:lnTo>
                        <a:pt x="530" y="792"/>
                      </a:lnTo>
                      <a:lnTo>
                        <a:pt x="529" y="791"/>
                      </a:lnTo>
                      <a:lnTo>
                        <a:pt x="527" y="790"/>
                      </a:lnTo>
                      <a:lnTo>
                        <a:pt x="525" y="790"/>
                      </a:lnTo>
                      <a:lnTo>
                        <a:pt x="524" y="790"/>
                      </a:lnTo>
                      <a:lnTo>
                        <a:pt x="522" y="791"/>
                      </a:lnTo>
                      <a:lnTo>
                        <a:pt x="521" y="792"/>
                      </a:lnTo>
                      <a:lnTo>
                        <a:pt x="521" y="794"/>
                      </a:lnTo>
                      <a:lnTo>
                        <a:pt x="516" y="794"/>
                      </a:lnTo>
                      <a:lnTo>
                        <a:pt x="516" y="792"/>
                      </a:lnTo>
                      <a:lnTo>
                        <a:pt x="515" y="791"/>
                      </a:lnTo>
                      <a:lnTo>
                        <a:pt x="514" y="790"/>
                      </a:lnTo>
                      <a:lnTo>
                        <a:pt x="512" y="790"/>
                      </a:lnTo>
                      <a:lnTo>
                        <a:pt x="510" y="790"/>
                      </a:lnTo>
                      <a:lnTo>
                        <a:pt x="509" y="791"/>
                      </a:lnTo>
                      <a:lnTo>
                        <a:pt x="508" y="792"/>
                      </a:lnTo>
                      <a:lnTo>
                        <a:pt x="507" y="794"/>
                      </a:lnTo>
                      <a:lnTo>
                        <a:pt x="505" y="794"/>
                      </a:lnTo>
                      <a:lnTo>
                        <a:pt x="504" y="792"/>
                      </a:lnTo>
                      <a:lnTo>
                        <a:pt x="503" y="791"/>
                      </a:lnTo>
                      <a:lnTo>
                        <a:pt x="502" y="790"/>
                      </a:lnTo>
                      <a:lnTo>
                        <a:pt x="500" y="790"/>
                      </a:lnTo>
                      <a:lnTo>
                        <a:pt x="498" y="790"/>
                      </a:lnTo>
                      <a:lnTo>
                        <a:pt x="497" y="791"/>
                      </a:lnTo>
                      <a:lnTo>
                        <a:pt x="496" y="792"/>
                      </a:lnTo>
                      <a:lnTo>
                        <a:pt x="496" y="794"/>
                      </a:lnTo>
                      <a:lnTo>
                        <a:pt x="485" y="794"/>
                      </a:lnTo>
                      <a:lnTo>
                        <a:pt x="485" y="792"/>
                      </a:lnTo>
                      <a:lnTo>
                        <a:pt x="484" y="791"/>
                      </a:lnTo>
                      <a:lnTo>
                        <a:pt x="482" y="790"/>
                      </a:lnTo>
                      <a:lnTo>
                        <a:pt x="481" y="790"/>
                      </a:lnTo>
                      <a:lnTo>
                        <a:pt x="479" y="790"/>
                      </a:lnTo>
                      <a:lnTo>
                        <a:pt x="478" y="791"/>
                      </a:lnTo>
                      <a:lnTo>
                        <a:pt x="477" y="792"/>
                      </a:lnTo>
                      <a:lnTo>
                        <a:pt x="476" y="794"/>
                      </a:lnTo>
                      <a:lnTo>
                        <a:pt x="465" y="794"/>
                      </a:lnTo>
                      <a:lnTo>
                        <a:pt x="465" y="792"/>
                      </a:lnTo>
                      <a:lnTo>
                        <a:pt x="464" y="791"/>
                      </a:lnTo>
                      <a:lnTo>
                        <a:pt x="463" y="790"/>
                      </a:lnTo>
                      <a:lnTo>
                        <a:pt x="461" y="790"/>
                      </a:lnTo>
                      <a:lnTo>
                        <a:pt x="459" y="790"/>
                      </a:lnTo>
                      <a:lnTo>
                        <a:pt x="458" y="791"/>
                      </a:lnTo>
                      <a:lnTo>
                        <a:pt x="457" y="792"/>
                      </a:lnTo>
                      <a:lnTo>
                        <a:pt x="456" y="794"/>
                      </a:lnTo>
                      <a:lnTo>
                        <a:pt x="444" y="794"/>
                      </a:lnTo>
                      <a:lnTo>
                        <a:pt x="443" y="792"/>
                      </a:lnTo>
                      <a:lnTo>
                        <a:pt x="442" y="791"/>
                      </a:lnTo>
                      <a:lnTo>
                        <a:pt x="441" y="790"/>
                      </a:lnTo>
                      <a:lnTo>
                        <a:pt x="439" y="790"/>
                      </a:lnTo>
                      <a:lnTo>
                        <a:pt x="438" y="790"/>
                      </a:lnTo>
                      <a:lnTo>
                        <a:pt x="436" y="791"/>
                      </a:lnTo>
                      <a:lnTo>
                        <a:pt x="435" y="792"/>
                      </a:lnTo>
                      <a:lnTo>
                        <a:pt x="435" y="794"/>
                      </a:lnTo>
                      <a:lnTo>
                        <a:pt x="420" y="794"/>
                      </a:lnTo>
                      <a:lnTo>
                        <a:pt x="420" y="792"/>
                      </a:lnTo>
                      <a:lnTo>
                        <a:pt x="419" y="791"/>
                      </a:lnTo>
                      <a:lnTo>
                        <a:pt x="417" y="790"/>
                      </a:lnTo>
                      <a:lnTo>
                        <a:pt x="416" y="790"/>
                      </a:lnTo>
                      <a:lnTo>
                        <a:pt x="414" y="790"/>
                      </a:lnTo>
                      <a:lnTo>
                        <a:pt x="412" y="791"/>
                      </a:lnTo>
                      <a:lnTo>
                        <a:pt x="412" y="792"/>
                      </a:lnTo>
                      <a:lnTo>
                        <a:pt x="411" y="794"/>
                      </a:lnTo>
                      <a:lnTo>
                        <a:pt x="380" y="794"/>
                      </a:lnTo>
                      <a:lnTo>
                        <a:pt x="380" y="332"/>
                      </a:lnTo>
                      <a:lnTo>
                        <a:pt x="322" y="332"/>
                      </a:lnTo>
                      <a:lnTo>
                        <a:pt x="322" y="331"/>
                      </a:lnTo>
                      <a:lnTo>
                        <a:pt x="321" y="330"/>
                      </a:lnTo>
                      <a:lnTo>
                        <a:pt x="319" y="329"/>
                      </a:lnTo>
                      <a:lnTo>
                        <a:pt x="318" y="329"/>
                      </a:lnTo>
                      <a:lnTo>
                        <a:pt x="316" y="329"/>
                      </a:lnTo>
                      <a:lnTo>
                        <a:pt x="315" y="330"/>
                      </a:lnTo>
                      <a:lnTo>
                        <a:pt x="314" y="331"/>
                      </a:lnTo>
                      <a:lnTo>
                        <a:pt x="313" y="332"/>
                      </a:lnTo>
                      <a:lnTo>
                        <a:pt x="285" y="332"/>
                      </a:lnTo>
                      <a:lnTo>
                        <a:pt x="284" y="330"/>
                      </a:lnTo>
                      <a:lnTo>
                        <a:pt x="283" y="329"/>
                      </a:lnTo>
                      <a:lnTo>
                        <a:pt x="282" y="327"/>
                      </a:lnTo>
                      <a:lnTo>
                        <a:pt x="280" y="327"/>
                      </a:lnTo>
                      <a:lnTo>
                        <a:pt x="278" y="326"/>
                      </a:lnTo>
                      <a:lnTo>
                        <a:pt x="276" y="326"/>
                      </a:lnTo>
                      <a:lnTo>
                        <a:pt x="273" y="327"/>
                      </a:lnTo>
                      <a:lnTo>
                        <a:pt x="272" y="327"/>
                      </a:lnTo>
                      <a:lnTo>
                        <a:pt x="270" y="329"/>
                      </a:lnTo>
                      <a:lnTo>
                        <a:pt x="269" y="330"/>
                      </a:lnTo>
                      <a:lnTo>
                        <a:pt x="269" y="332"/>
                      </a:lnTo>
                      <a:lnTo>
                        <a:pt x="255" y="332"/>
                      </a:lnTo>
                      <a:lnTo>
                        <a:pt x="254" y="331"/>
                      </a:lnTo>
                      <a:lnTo>
                        <a:pt x="253" y="330"/>
                      </a:lnTo>
                      <a:lnTo>
                        <a:pt x="252" y="329"/>
                      </a:lnTo>
                      <a:lnTo>
                        <a:pt x="250" y="329"/>
                      </a:lnTo>
                      <a:lnTo>
                        <a:pt x="248" y="329"/>
                      </a:lnTo>
                      <a:lnTo>
                        <a:pt x="247" y="330"/>
                      </a:lnTo>
                      <a:lnTo>
                        <a:pt x="246" y="331"/>
                      </a:lnTo>
                      <a:lnTo>
                        <a:pt x="246" y="332"/>
                      </a:lnTo>
                      <a:lnTo>
                        <a:pt x="228" y="332"/>
                      </a:lnTo>
                      <a:lnTo>
                        <a:pt x="227" y="330"/>
                      </a:lnTo>
                      <a:lnTo>
                        <a:pt x="226" y="329"/>
                      </a:lnTo>
                      <a:lnTo>
                        <a:pt x="225" y="327"/>
                      </a:lnTo>
                      <a:lnTo>
                        <a:pt x="223" y="327"/>
                      </a:lnTo>
                      <a:lnTo>
                        <a:pt x="221" y="326"/>
                      </a:lnTo>
                      <a:lnTo>
                        <a:pt x="219" y="326"/>
                      </a:lnTo>
                      <a:lnTo>
                        <a:pt x="217" y="327"/>
                      </a:lnTo>
                      <a:lnTo>
                        <a:pt x="215" y="327"/>
                      </a:lnTo>
                      <a:lnTo>
                        <a:pt x="213" y="329"/>
                      </a:lnTo>
                      <a:lnTo>
                        <a:pt x="212" y="330"/>
                      </a:lnTo>
                      <a:lnTo>
                        <a:pt x="212" y="332"/>
                      </a:lnTo>
                      <a:lnTo>
                        <a:pt x="207" y="332"/>
                      </a:lnTo>
                      <a:lnTo>
                        <a:pt x="207" y="330"/>
                      </a:lnTo>
                      <a:lnTo>
                        <a:pt x="206" y="329"/>
                      </a:lnTo>
                      <a:lnTo>
                        <a:pt x="205" y="327"/>
                      </a:lnTo>
                      <a:lnTo>
                        <a:pt x="203" y="327"/>
                      </a:lnTo>
                      <a:lnTo>
                        <a:pt x="201" y="326"/>
                      </a:lnTo>
                      <a:lnTo>
                        <a:pt x="198" y="326"/>
                      </a:lnTo>
                      <a:lnTo>
                        <a:pt x="196" y="327"/>
                      </a:lnTo>
                      <a:lnTo>
                        <a:pt x="194" y="327"/>
                      </a:lnTo>
                      <a:lnTo>
                        <a:pt x="193" y="329"/>
                      </a:lnTo>
                      <a:lnTo>
                        <a:pt x="192" y="330"/>
                      </a:lnTo>
                      <a:lnTo>
                        <a:pt x="192" y="332"/>
                      </a:lnTo>
                      <a:lnTo>
                        <a:pt x="177" y="332"/>
                      </a:lnTo>
                      <a:lnTo>
                        <a:pt x="177" y="331"/>
                      </a:lnTo>
                      <a:lnTo>
                        <a:pt x="176" y="330"/>
                      </a:lnTo>
                      <a:lnTo>
                        <a:pt x="174" y="329"/>
                      </a:lnTo>
                      <a:lnTo>
                        <a:pt x="173" y="329"/>
                      </a:lnTo>
                      <a:lnTo>
                        <a:pt x="171" y="329"/>
                      </a:lnTo>
                      <a:lnTo>
                        <a:pt x="169" y="330"/>
                      </a:lnTo>
                      <a:lnTo>
                        <a:pt x="168" y="331"/>
                      </a:lnTo>
                      <a:lnTo>
                        <a:pt x="168" y="332"/>
                      </a:lnTo>
                      <a:lnTo>
                        <a:pt x="164" y="332"/>
                      </a:lnTo>
                      <a:lnTo>
                        <a:pt x="163" y="331"/>
                      </a:lnTo>
                      <a:lnTo>
                        <a:pt x="162" y="330"/>
                      </a:lnTo>
                      <a:lnTo>
                        <a:pt x="161" y="329"/>
                      </a:lnTo>
                      <a:lnTo>
                        <a:pt x="159" y="329"/>
                      </a:lnTo>
                      <a:lnTo>
                        <a:pt x="157" y="329"/>
                      </a:lnTo>
                      <a:lnTo>
                        <a:pt x="156" y="330"/>
                      </a:lnTo>
                      <a:lnTo>
                        <a:pt x="155" y="331"/>
                      </a:lnTo>
                      <a:lnTo>
                        <a:pt x="155" y="332"/>
                      </a:lnTo>
                      <a:lnTo>
                        <a:pt x="145" y="332"/>
                      </a:lnTo>
                      <a:lnTo>
                        <a:pt x="145" y="134"/>
                      </a:lnTo>
                      <a:lnTo>
                        <a:pt x="145" y="134"/>
                      </a:lnTo>
                      <a:lnTo>
                        <a:pt x="144" y="133"/>
                      </a:lnTo>
                      <a:lnTo>
                        <a:pt x="143" y="132"/>
                      </a:lnTo>
                      <a:lnTo>
                        <a:pt x="142" y="131"/>
                      </a:lnTo>
                      <a:lnTo>
                        <a:pt x="140" y="130"/>
                      </a:lnTo>
                      <a:lnTo>
                        <a:pt x="139" y="131"/>
                      </a:lnTo>
                      <a:lnTo>
                        <a:pt x="137" y="132"/>
                      </a:lnTo>
                      <a:lnTo>
                        <a:pt x="136" y="133"/>
                      </a:lnTo>
                      <a:lnTo>
                        <a:pt x="136" y="134"/>
                      </a:lnTo>
                      <a:lnTo>
                        <a:pt x="127" y="134"/>
                      </a:lnTo>
                      <a:lnTo>
                        <a:pt x="126" y="133"/>
                      </a:lnTo>
                      <a:lnTo>
                        <a:pt x="125" y="132"/>
                      </a:lnTo>
                      <a:lnTo>
                        <a:pt x="124" y="131"/>
                      </a:lnTo>
                      <a:lnTo>
                        <a:pt x="122" y="130"/>
                      </a:lnTo>
                      <a:lnTo>
                        <a:pt x="121" y="131"/>
                      </a:lnTo>
                      <a:lnTo>
                        <a:pt x="119" y="132"/>
                      </a:lnTo>
                      <a:lnTo>
                        <a:pt x="118" y="133"/>
                      </a:lnTo>
                      <a:lnTo>
                        <a:pt x="118" y="134"/>
                      </a:lnTo>
                      <a:lnTo>
                        <a:pt x="99" y="134"/>
                      </a:lnTo>
                      <a:lnTo>
                        <a:pt x="99" y="133"/>
                      </a:lnTo>
                      <a:lnTo>
                        <a:pt x="98" y="132"/>
                      </a:lnTo>
                      <a:lnTo>
                        <a:pt x="97" y="131"/>
                      </a:lnTo>
                      <a:lnTo>
                        <a:pt x="95" y="130"/>
                      </a:lnTo>
                      <a:lnTo>
                        <a:pt x="93" y="131"/>
                      </a:lnTo>
                      <a:lnTo>
                        <a:pt x="92" y="132"/>
                      </a:lnTo>
                      <a:lnTo>
                        <a:pt x="91" y="133"/>
                      </a:lnTo>
                      <a:lnTo>
                        <a:pt x="90" y="134"/>
                      </a:lnTo>
                      <a:lnTo>
                        <a:pt x="72" y="134"/>
                      </a:lnTo>
                      <a:lnTo>
                        <a:pt x="71" y="133"/>
                      </a:lnTo>
                      <a:lnTo>
                        <a:pt x="70" y="132"/>
                      </a:lnTo>
                      <a:lnTo>
                        <a:pt x="69" y="131"/>
                      </a:lnTo>
                      <a:lnTo>
                        <a:pt x="67" y="130"/>
                      </a:lnTo>
                      <a:lnTo>
                        <a:pt x="65" y="131"/>
                      </a:lnTo>
                      <a:lnTo>
                        <a:pt x="64" y="132"/>
                      </a:lnTo>
                      <a:lnTo>
                        <a:pt x="63" y="133"/>
                      </a:lnTo>
                      <a:lnTo>
                        <a:pt x="63" y="134"/>
                      </a:lnTo>
                      <a:lnTo>
                        <a:pt x="0" y="13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734960" y="337428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9" name=""/>
                <p:cNvSpPr/>
                <p:nvPr/>
              </p:nvSpPr>
              <p:spPr>
                <a:xfrm>
                  <a:off x="5969160" y="230724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0" name=""/>
                <p:cNvSpPr/>
                <p:nvPr/>
              </p:nvSpPr>
              <p:spPr>
                <a:xfrm>
                  <a:off x="7036200" y="2696760"/>
                  <a:ext cx="765000" cy="627840"/>
                </a:xfrm>
                <a:custGeom>
                  <a:avLst/>
                  <a:gdLst/>
                  <a:ahLst/>
                  <a:rect l="l" t="t" r="r" b="b"/>
                  <a:pathLst>
                    <a:path w="723" h="470">
                      <a:moveTo>
                        <a:pt x="0" y="0"/>
                      </a:moveTo>
                      <a:lnTo>
                        <a:pt x="0" y="303"/>
                      </a:lnTo>
                      <a:lnTo>
                        <a:pt x="14" y="303"/>
                      </a:lnTo>
                      <a:lnTo>
                        <a:pt x="14" y="302"/>
                      </a:lnTo>
                      <a:lnTo>
                        <a:pt x="15" y="301"/>
                      </a:lnTo>
                      <a:lnTo>
                        <a:pt x="16" y="300"/>
                      </a:lnTo>
                      <a:lnTo>
                        <a:pt x="18" y="300"/>
                      </a:lnTo>
                      <a:lnTo>
                        <a:pt x="20" y="300"/>
                      </a:lnTo>
                      <a:lnTo>
                        <a:pt x="21" y="301"/>
                      </a:lnTo>
                      <a:lnTo>
                        <a:pt x="22" y="302"/>
                      </a:lnTo>
                      <a:lnTo>
                        <a:pt x="23" y="303"/>
                      </a:lnTo>
                      <a:lnTo>
                        <a:pt x="27" y="303"/>
                      </a:lnTo>
                      <a:lnTo>
                        <a:pt x="28" y="302"/>
                      </a:lnTo>
                      <a:lnTo>
                        <a:pt x="28" y="301"/>
                      </a:lnTo>
                      <a:lnTo>
                        <a:pt x="30" y="300"/>
                      </a:lnTo>
                      <a:lnTo>
                        <a:pt x="32" y="300"/>
                      </a:lnTo>
                      <a:lnTo>
                        <a:pt x="33" y="300"/>
                      </a:lnTo>
                      <a:lnTo>
                        <a:pt x="35" y="301"/>
                      </a:lnTo>
                      <a:lnTo>
                        <a:pt x="36" y="302"/>
                      </a:lnTo>
                      <a:lnTo>
                        <a:pt x="36" y="303"/>
                      </a:lnTo>
                      <a:lnTo>
                        <a:pt x="62" y="303"/>
                      </a:lnTo>
                      <a:lnTo>
                        <a:pt x="63" y="302"/>
                      </a:lnTo>
                      <a:lnTo>
                        <a:pt x="63" y="301"/>
                      </a:lnTo>
                      <a:lnTo>
                        <a:pt x="65" y="300"/>
                      </a:lnTo>
                      <a:lnTo>
                        <a:pt x="67" y="300"/>
                      </a:lnTo>
                      <a:lnTo>
                        <a:pt x="68" y="300"/>
                      </a:lnTo>
                      <a:lnTo>
                        <a:pt x="70" y="301"/>
                      </a:lnTo>
                      <a:lnTo>
                        <a:pt x="71" y="302"/>
                      </a:lnTo>
                      <a:lnTo>
                        <a:pt x="71" y="303"/>
                      </a:lnTo>
                      <a:lnTo>
                        <a:pt x="73" y="303"/>
                      </a:lnTo>
                      <a:lnTo>
                        <a:pt x="73" y="301"/>
                      </a:lnTo>
                      <a:lnTo>
                        <a:pt x="74" y="300"/>
                      </a:lnTo>
                      <a:lnTo>
                        <a:pt x="75" y="298"/>
                      </a:lnTo>
                      <a:lnTo>
                        <a:pt x="77" y="298"/>
                      </a:lnTo>
                      <a:lnTo>
                        <a:pt x="79" y="297"/>
                      </a:lnTo>
                      <a:lnTo>
                        <a:pt x="82" y="297"/>
                      </a:lnTo>
                      <a:lnTo>
                        <a:pt x="84" y="298"/>
                      </a:lnTo>
                      <a:lnTo>
                        <a:pt x="86" y="298"/>
                      </a:lnTo>
                      <a:lnTo>
                        <a:pt x="87" y="300"/>
                      </a:lnTo>
                      <a:lnTo>
                        <a:pt x="88" y="301"/>
                      </a:lnTo>
                      <a:lnTo>
                        <a:pt x="88" y="303"/>
                      </a:lnTo>
                      <a:lnTo>
                        <a:pt x="114" y="303"/>
                      </a:lnTo>
                      <a:lnTo>
                        <a:pt x="114" y="302"/>
                      </a:lnTo>
                      <a:lnTo>
                        <a:pt x="115" y="301"/>
                      </a:lnTo>
                      <a:lnTo>
                        <a:pt x="117" y="300"/>
                      </a:lnTo>
                      <a:lnTo>
                        <a:pt x="119" y="300"/>
                      </a:lnTo>
                      <a:lnTo>
                        <a:pt x="120" y="300"/>
                      </a:lnTo>
                      <a:lnTo>
                        <a:pt x="122" y="301"/>
                      </a:lnTo>
                      <a:lnTo>
                        <a:pt x="123" y="302"/>
                      </a:lnTo>
                      <a:lnTo>
                        <a:pt x="123" y="303"/>
                      </a:lnTo>
                      <a:lnTo>
                        <a:pt x="132" y="303"/>
                      </a:lnTo>
                      <a:lnTo>
                        <a:pt x="132" y="301"/>
                      </a:lnTo>
                      <a:lnTo>
                        <a:pt x="133" y="300"/>
                      </a:lnTo>
                      <a:lnTo>
                        <a:pt x="135" y="298"/>
                      </a:lnTo>
                      <a:lnTo>
                        <a:pt x="137" y="297"/>
                      </a:lnTo>
                      <a:lnTo>
                        <a:pt x="139" y="297"/>
                      </a:lnTo>
                      <a:lnTo>
                        <a:pt x="142" y="297"/>
                      </a:lnTo>
                      <a:lnTo>
                        <a:pt x="144" y="297"/>
                      </a:lnTo>
                      <a:lnTo>
                        <a:pt x="146" y="298"/>
                      </a:lnTo>
                      <a:lnTo>
                        <a:pt x="147" y="300"/>
                      </a:lnTo>
                      <a:lnTo>
                        <a:pt x="148" y="301"/>
                      </a:lnTo>
                      <a:lnTo>
                        <a:pt x="149" y="303"/>
                      </a:lnTo>
                      <a:lnTo>
                        <a:pt x="152" y="303"/>
                      </a:lnTo>
                      <a:lnTo>
                        <a:pt x="153" y="302"/>
                      </a:lnTo>
                      <a:lnTo>
                        <a:pt x="153" y="301"/>
                      </a:lnTo>
                      <a:lnTo>
                        <a:pt x="155" y="300"/>
                      </a:lnTo>
                      <a:lnTo>
                        <a:pt x="157" y="300"/>
                      </a:lnTo>
                      <a:lnTo>
                        <a:pt x="158" y="300"/>
                      </a:lnTo>
                      <a:lnTo>
                        <a:pt x="160" y="301"/>
                      </a:lnTo>
                      <a:lnTo>
                        <a:pt x="161" y="302"/>
                      </a:lnTo>
                      <a:lnTo>
                        <a:pt x="161" y="303"/>
                      </a:lnTo>
                      <a:lnTo>
                        <a:pt x="171" y="303"/>
                      </a:lnTo>
                      <a:lnTo>
                        <a:pt x="171" y="454"/>
                      </a:lnTo>
                      <a:lnTo>
                        <a:pt x="182" y="454"/>
                      </a:lnTo>
                      <a:lnTo>
                        <a:pt x="183" y="453"/>
                      </a:lnTo>
                      <a:lnTo>
                        <a:pt x="184" y="452"/>
                      </a:lnTo>
                      <a:lnTo>
                        <a:pt x="185" y="451"/>
                      </a:lnTo>
                      <a:lnTo>
                        <a:pt x="187" y="451"/>
                      </a:lnTo>
                      <a:lnTo>
                        <a:pt x="189" y="451"/>
                      </a:lnTo>
                      <a:lnTo>
                        <a:pt x="190" y="452"/>
                      </a:lnTo>
                      <a:lnTo>
                        <a:pt x="191" y="453"/>
                      </a:lnTo>
                      <a:lnTo>
                        <a:pt x="191" y="454"/>
                      </a:lnTo>
                      <a:lnTo>
                        <a:pt x="196" y="454"/>
                      </a:lnTo>
                      <a:lnTo>
                        <a:pt x="196" y="453"/>
                      </a:lnTo>
                      <a:lnTo>
                        <a:pt x="197" y="452"/>
                      </a:lnTo>
                      <a:lnTo>
                        <a:pt x="199" y="451"/>
                      </a:lnTo>
                      <a:lnTo>
                        <a:pt x="200" y="451"/>
                      </a:lnTo>
                      <a:lnTo>
                        <a:pt x="202" y="451"/>
                      </a:lnTo>
                      <a:lnTo>
                        <a:pt x="204" y="452"/>
                      </a:lnTo>
                      <a:lnTo>
                        <a:pt x="205" y="453"/>
                      </a:lnTo>
                      <a:lnTo>
                        <a:pt x="205" y="454"/>
                      </a:lnTo>
                      <a:lnTo>
                        <a:pt x="209" y="454"/>
                      </a:lnTo>
                      <a:lnTo>
                        <a:pt x="210" y="453"/>
                      </a:lnTo>
                      <a:lnTo>
                        <a:pt x="211" y="452"/>
                      </a:lnTo>
                      <a:lnTo>
                        <a:pt x="212" y="451"/>
                      </a:lnTo>
                      <a:lnTo>
                        <a:pt x="214" y="451"/>
                      </a:lnTo>
                      <a:lnTo>
                        <a:pt x="216" y="451"/>
                      </a:lnTo>
                      <a:lnTo>
                        <a:pt x="217" y="452"/>
                      </a:lnTo>
                      <a:lnTo>
                        <a:pt x="218" y="453"/>
                      </a:lnTo>
                      <a:lnTo>
                        <a:pt x="219" y="454"/>
                      </a:lnTo>
                      <a:lnTo>
                        <a:pt x="358" y="454"/>
                      </a:lnTo>
                      <a:lnTo>
                        <a:pt x="358" y="453"/>
                      </a:lnTo>
                      <a:lnTo>
                        <a:pt x="360" y="452"/>
                      </a:lnTo>
                      <a:lnTo>
                        <a:pt x="361" y="451"/>
                      </a:lnTo>
                      <a:lnTo>
                        <a:pt x="363" y="451"/>
                      </a:lnTo>
                      <a:lnTo>
                        <a:pt x="364" y="451"/>
                      </a:lnTo>
                      <a:lnTo>
                        <a:pt x="366" y="452"/>
                      </a:lnTo>
                      <a:lnTo>
                        <a:pt x="367" y="453"/>
                      </a:lnTo>
                      <a:lnTo>
                        <a:pt x="367" y="454"/>
                      </a:lnTo>
                      <a:lnTo>
                        <a:pt x="400" y="454"/>
                      </a:lnTo>
                      <a:lnTo>
                        <a:pt x="400" y="453"/>
                      </a:lnTo>
                      <a:lnTo>
                        <a:pt x="401" y="452"/>
                      </a:lnTo>
                      <a:lnTo>
                        <a:pt x="402" y="451"/>
                      </a:lnTo>
                      <a:lnTo>
                        <a:pt x="404" y="451"/>
                      </a:lnTo>
                      <a:lnTo>
                        <a:pt x="406" y="451"/>
                      </a:lnTo>
                      <a:lnTo>
                        <a:pt x="407" y="452"/>
                      </a:lnTo>
                      <a:lnTo>
                        <a:pt x="408" y="453"/>
                      </a:lnTo>
                      <a:lnTo>
                        <a:pt x="409" y="454"/>
                      </a:lnTo>
                      <a:lnTo>
                        <a:pt x="416" y="454"/>
                      </a:lnTo>
                      <a:lnTo>
                        <a:pt x="416" y="453"/>
                      </a:lnTo>
                      <a:lnTo>
                        <a:pt x="417" y="452"/>
                      </a:lnTo>
                      <a:lnTo>
                        <a:pt x="418" y="451"/>
                      </a:lnTo>
                      <a:lnTo>
                        <a:pt x="420" y="451"/>
                      </a:lnTo>
                      <a:lnTo>
                        <a:pt x="422" y="451"/>
                      </a:lnTo>
                      <a:lnTo>
                        <a:pt x="423" y="452"/>
                      </a:lnTo>
                      <a:lnTo>
                        <a:pt x="424" y="453"/>
                      </a:lnTo>
                      <a:lnTo>
                        <a:pt x="425" y="454"/>
                      </a:lnTo>
                      <a:lnTo>
                        <a:pt x="480" y="454"/>
                      </a:lnTo>
                      <a:lnTo>
                        <a:pt x="480" y="453"/>
                      </a:lnTo>
                      <a:lnTo>
                        <a:pt x="481" y="452"/>
                      </a:lnTo>
                      <a:lnTo>
                        <a:pt x="483" y="451"/>
                      </a:lnTo>
                      <a:lnTo>
                        <a:pt x="484" y="451"/>
                      </a:lnTo>
                      <a:lnTo>
                        <a:pt x="486" y="451"/>
                      </a:lnTo>
                      <a:lnTo>
                        <a:pt x="487" y="452"/>
                      </a:lnTo>
                      <a:lnTo>
                        <a:pt x="488" y="453"/>
                      </a:lnTo>
                      <a:lnTo>
                        <a:pt x="489" y="454"/>
                      </a:lnTo>
                      <a:lnTo>
                        <a:pt x="493" y="454"/>
                      </a:lnTo>
                      <a:lnTo>
                        <a:pt x="494" y="453"/>
                      </a:lnTo>
                      <a:lnTo>
                        <a:pt x="495" y="452"/>
                      </a:lnTo>
                      <a:lnTo>
                        <a:pt x="496" y="451"/>
                      </a:lnTo>
                      <a:lnTo>
                        <a:pt x="498" y="451"/>
                      </a:lnTo>
                      <a:lnTo>
                        <a:pt x="499" y="451"/>
                      </a:lnTo>
                      <a:lnTo>
                        <a:pt x="501" y="452"/>
                      </a:lnTo>
                      <a:lnTo>
                        <a:pt x="502" y="453"/>
                      </a:lnTo>
                      <a:lnTo>
                        <a:pt x="502" y="454"/>
                      </a:lnTo>
                      <a:lnTo>
                        <a:pt x="507" y="454"/>
                      </a:lnTo>
                      <a:lnTo>
                        <a:pt x="507" y="453"/>
                      </a:lnTo>
                      <a:lnTo>
                        <a:pt x="508" y="452"/>
                      </a:lnTo>
                      <a:lnTo>
                        <a:pt x="510" y="451"/>
                      </a:lnTo>
                      <a:lnTo>
                        <a:pt x="511" y="451"/>
                      </a:lnTo>
                      <a:lnTo>
                        <a:pt x="513" y="451"/>
                      </a:lnTo>
                      <a:lnTo>
                        <a:pt x="514" y="452"/>
                      </a:lnTo>
                      <a:lnTo>
                        <a:pt x="515" y="453"/>
                      </a:lnTo>
                      <a:lnTo>
                        <a:pt x="516" y="454"/>
                      </a:lnTo>
                      <a:lnTo>
                        <a:pt x="534" y="454"/>
                      </a:lnTo>
                      <a:lnTo>
                        <a:pt x="534" y="453"/>
                      </a:lnTo>
                      <a:lnTo>
                        <a:pt x="535" y="452"/>
                      </a:lnTo>
                      <a:lnTo>
                        <a:pt x="537" y="451"/>
                      </a:lnTo>
                      <a:lnTo>
                        <a:pt x="538" y="451"/>
                      </a:lnTo>
                      <a:lnTo>
                        <a:pt x="540" y="451"/>
                      </a:lnTo>
                      <a:lnTo>
                        <a:pt x="541" y="452"/>
                      </a:lnTo>
                      <a:lnTo>
                        <a:pt x="542" y="453"/>
                      </a:lnTo>
                      <a:lnTo>
                        <a:pt x="543" y="454"/>
                      </a:lnTo>
                      <a:lnTo>
                        <a:pt x="571" y="454"/>
                      </a:lnTo>
                      <a:lnTo>
                        <a:pt x="571" y="453"/>
                      </a:lnTo>
                      <a:lnTo>
                        <a:pt x="572" y="452"/>
                      </a:lnTo>
                      <a:lnTo>
                        <a:pt x="574" y="451"/>
                      </a:lnTo>
                      <a:lnTo>
                        <a:pt x="575" y="451"/>
                      </a:lnTo>
                      <a:lnTo>
                        <a:pt x="577" y="451"/>
                      </a:lnTo>
                      <a:lnTo>
                        <a:pt x="579" y="452"/>
                      </a:lnTo>
                      <a:lnTo>
                        <a:pt x="580" y="453"/>
                      </a:lnTo>
                      <a:lnTo>
                        <a:pt x="580" y="454"/>
                      </a:lnTo>
                      <a:lnTo>
                        <a:pt x="610" y="454"/>
                      </a:lnTo>
                      <a:lnTo>
                        <a:pt x="610" y="453"/>
                      </a:lnTo>
                      <a:lnTo>
                        <a:pt x="611" y="452"/>
                      </a:lnTo>
                      <a:lnTo>
                        <a:pt x="613" y="451"/>
                      </a:lnTo>
                      <a:lnTo>
                        <a:pt x="614" y="451"/>
                      </a:lnTo>
                      <a:lnTo>
                        <a:pt x="616" y="451"/>
                      </a:lnTo>
                      <a:lnTo>
                        <a:pt x="617" y="452"/>
                      </a:lnTo>
                      <a:lnTo>
                        <a:pt x="618" y="453"/>
                      </a:lnTo>
                      <a:lnTo>
                        <a:pt x="619" y="454"/>
                      </a:lnTo>
                      <a:lnTo>
                        <a:pt x="622" y="454"/>
                      </a:lnTo>
                      <a:lnTo>
                        <a:pt x="622" y="453"/>
                      </a:lnTo>
                      <a:lnTo>
                        <a:pt x="623" y="452"/>
                      </a:lnTo>
                      <a:lnTo>
                        <a:pt x="624" y="451"/>
                      </a:lnTo>
                      <a:lnTo>
                        <a:pt x="626" y="451"/>
                      </a:lnTo>
                      <a:lnTo>
                        <a:pt x="628" y="451"/>
                      </a:lnTo>
                      <a:lnTo>
                        <a:pt x="629" y="452"/>
                      </a:lnTo>
                      <a:lnTo>
                        <a:pt x="630" y="453"/>
                      </a:lnTo>
                      <a:lnTo>
                        <a:pt x="631" y="454"/>
                      </a:lnTo>
                      <a:lnTo>
                        <a:pt x="723" y="454"/>
                      </a:lnTo>
                      <a:lnTo>
                        <a:pt x="723" y="47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030080" y="2685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02" name=""/>
                <p:cNvSpPr/>
                <p:nvPr/>
              </p:nvSpPr>
              <p:spPr>
                <a:xfrm>
                  <a:off x="7018200" y="3366360"/>
                  <a:ext cx="730440" cy="41040"/>
                </a:xfrm>
                <a:custGeom>
                  <a:avLst/>
                  <a:gdLst/>
                  <a:ahLst/>
                  <a:rect l="l" t="t" r="r" b="b"/>
                  <a:pathLst>
                    <a:path w="690" h="31">
                      <a:moveTo>
                        <a:pt x="690" y="31"/>
                      </a:moveTo>
                      <a:lnTo>
                        <a:pt x="648" y="31"/>
                      </a:lnTo>
                      <a:lnTo>
                        <a:pt x="647" y="30"/>
                      </a:lnTo>
                      <a:lnTo>
                        <a:pt x="646" y="29"/>
                      </a:lnTo>
                      <a:lnTo>
                        <a:pt x="645" y="28"/>
                      </a:lnTo>
                      <a:lnTo>
                        <a:pt x="643" y="28"/>
                      </a:lnTo>
                      <a:lnTo>
                        <a:pt x="641" y="28"/>
                      </a:lnTo>
                      <a:lnTo>
                        <a:pt x="640" y="29"/>
                      </a:lnTo>
                      <a:lnTo>
                        <a:pt x="639" y="30"/>
                      </a:lnTo>
                      <a:lnTo>
                        <a:pt x="639" y="31"/>
                      </a:lnTo>
                      <a:lnTo>
                        <a:pt x="636" y="31"/>
                      </a:lnTo>
                      <a:lnTo>
                        <a:pt x="635" y="30"/>
                      </a:lnTo>
                      <a:lnTo>
                        <a:pt x="634" y="29"/>
                      </a:lnTo>
                      <a:lnTo>
                        <a:pt x="633" y="28"/>
                      </a:lnTo>
                      <a:lnTo>
                        <a:pt x="631" y="28"/>
                      </a:lnTo>
                      <a:lnTo>
                        <a:pt x="630" y="28"/>
                      </a:lnTo>
                      <a:lnTo>
                        <a:pt x="628" y="29"/>
                      </a:lnTo>
                      <a:lnTo>
                        <a:pt x="627" y="30"/>
                      </a:lnTo>
                      <a:lnTo>
                        <a:pt x="627" y="31"/>
                      </a:lnTo>
                      <a:lnTo>
                        <a:pt x="624" y="31"/>
                      </a:lnTo>
                      <a:lnTo>
                        <a:pt x="624" y="30"/>
                      </a:lnTo>
                      <a:lnTo>
                        <a:pt x="623" y="29"/>
                      </a:lnTo>
                      <a:lnTo>
                        <a:pt x="621" y="28"/>
                      </a:lnTo>
                      <a:lnTo>
                        <a:pt x="620" y="28"/>
                      </a:lnTo>
                      <a:lnTo>
                        <a:pt x="618" y="28"/>
                      </a:lnTo>
                      <a:lnTo>
                        <a:pt x="616" y="29"/>
                      </a:lnTo>
                      <a:lnTo>
                        <a:pt x="615" y="30"/>
                      </a:lnTo>
                      <a:lnTo>
                        <a:pt x="615" y="31"/>
                      </a:lnTo>
                      <a:lnTo>
                        <a:pt x="597" y="31"/>
                      </a:lnTo>
                      <a:lnTo>
                        <a:pt x="597" y="30"/>
                      </a:lnTo>
                      <a:lnTo>
                        <a:pt x="596" y="29"/>
                      </a:lnTo>
                      <a:lnTo>
                        <a:pt x="594" y="28"/>
                      </a:lnTo>
                      <a:lnTo>
                        <a:pt x="592" y="28"/>
                      </a:lnTo>
                      <a:lnTo>
                        <a:pt x="591" y="28"/>
                      </a:lnTo>
                      <a:lnTo>
                        <a:pt x="589" y="29"/>
                      </a:lnTo>
                      <a:lnTo>
                        <a:pt x="588" y="30"/>
                      </a:lnTo>
                      <a:lnTo>
                        <a:pt x="588" y="31"/>
                      </a:lnTo>
                      <a:lnTo>
                        <a:pt x="560" y="31"/>
                      </a:lnTo>
                      <a:lnTo>
                        <a:pt x="559" y="30"/>
                      </a:lnTo>
                      <a:lnTo>
                        <a:pt x="558" y="29"/>
                      </a:lnTo>
                      <a:lnTo>
                        <a:pt x="557" y="28"/>
                      </a:lnTo>
                      <a:lnTo>
                        <a:pt x="555" y="28"/>
                      </a:lnTo>
                      <a:lnTo>
                        <a:pt x="554" y="28"/>
                      </a:lnTo>
                      <a:lnTo>
                        <a:pt x="552" y="29"/>
                      </a:lnTo>
                      <a:lnTo>
                        <a:pt x="551" y="30"/>
                      </a:lnTo>
                      <a:lnTo>
                        <a:pt x="551" y="31"/>
                      </a:lnTo>
                      <a:lnTo>
                        <a:pt x="519" y="31"/>
                      </a:lnTo>
                      <a:lnTo>
                        <a:pt x="519" y="30"/>
                      </a:lnTo>
                      <a:lnTo>
                        <a:pt x="518" y="29"/>
                      </a:lnTo>
                      <a:lnTo>
                        <a:pt x="516" y="28"/>
                      </a:lnTo>
                      <a:lnTo>
                        <a:pt x="515" y="28"/>
                      </a:lnTo>
                      <a:lnTo>
                        <a:pt x="513" y="28"/>
                      </a:lnTo>
                      <a:lnTo>
                        <a:pt x="512" y="29"/>
                      </a:lnTo>
                      <a:lnTo>
                        <a:pt x="511" y="30"/>
                      </a:lnTo>
                      <a:lnTo>
                        <a:pt x="510" y="31"/>
                      </a:lnTo>
                      <a:lnTo>
                        <a:pt x="506" y="31"/>
                      </a:lnTo>
                      <a:lnTo>
                        <a:pt x="505" y="30"/>
                      </a:lnTo>
                      <a:lnTo>
                        <a:pt x="504" y="29"/>
                      </a:lnTo>
                      <a:lnTo>
                        <a:pt x="503" y="28"/>
                      </a:lnTo>
                      <a:lnTo>
                        <a:pt x="501" y="28"/>
                      </a:lnTo>
                      <a:lnTo>
                        <a:pt x="500" y="28"/>
                      </a:lnTo>
                      <a:lnTo>
                        <a:pt x="498" y="29"/>
                      </a:lnTo>
                      <a:lnTo>
                        <a:pt x="497" y="30"/>
                      </a:lnTo>
                      <a:lnTo>
                        <a:pt x="497" y="31"/>
                      </a:lnTo>
                      <a:lnTo>
                        <a:pt x="458" y="31"/>
                      </a:lnTo>
                      <a:lnTo>
                        <a:pt x="458" y="30"/>
                      </a:lnTo>
                      <a:lnTo>
                        <a:pt x="457" y="29"/>
                      </a:lnTo>
                      <a:lnTo>
                        <a:pt x="455" y="28"/>
                      </a:lnTo>
                      <a:lnTo>
                        <a:pt x="453" y="28"/>
                      </a:lnTo>
                      <a:lnTo>
                        <a:pt x="452" y="28"/>
                      </a:lnTo>
                      <a:lnTo>
                        <a:pt x="450" y="29"/>
                      </a:lnTo>
                      <a:lnTo>
                        <a:pt x="449" y="30"/>
                      </a:lnTo>
                      <a:lnTo>
                        <a:pt x="449" y="31"/>
                      </a:lnTo>
                      <a:lnTo>
                        <a:pt x="442" y="31"/>
                      </a:lnTo>
                      <a:lnTo>
                        <a:pt x="441" y="30"/>
                      </a:lnTo>
                      <a:lnTo>
                        <a:pt x="440" y="29"/>
                      </a:lnTo>
                      <a:lnTo>
                        <a:pt x="439" y="28"/>
                      </a:lnTo>
                      <a:lnTo>
                        <a:pt x="437" y="28"/>
                      </a:lnTo>
                      <a:lnTo>
                        <a:pt x="435" y="28"/>
                      </a:lnTo>
                      <a:lnTo>
                        <a:pt x="434" y="29"/>
                      </a:lnTo>
                      <a:lnTo>
                        <a:pt x="433" y="30"/>
                      </a:lnTo>
                      <a:lnTo>
                        <a:pt x="433" y="31"/>
                      </a:lnTo>
                      <a:lnTo>
                        <a:pt x="426" y="31"/>
                      </a:lnTo>
                      <a:lnTo>
                        <a:pt x="425" y="30"/>
                      </a:lnTo>
                      <a:lnTo>
                        <a:pt x="424" y="29"/>
                      </a:lnTo>
                      <a:lnTo>
                        <a:pt x="423" y="28"/>
                      </a:lnTo>
                      <a:lnTo>
                        <a:pt x="421" y="28"/>
                      </a:lnTo>
                      <a:lnTo>
                        <a:pt x="419" y="28"/>
                      </a:lnTo>
                      <a:lnTo>
                        <a:pt x="418" y="29"/>
                      </a:lnTo>
                      <a:lnTo>
                        <a:pt x="417" y="30"/>
                      </a:lnTo>
                      <a:lnTo>
                        <a:pt x="417" y="31"/>
                      </a:lnTo>
                      <a:lnTo>
                        <a:pt x="384" y="31"/>
                      </a:lnTo>
                      <a:lnTo>
                        <a:pt x="384" y="30"/>
                      </a:lnTo>
                      <a:lnTo>
                        <a:pt x="383" y="29"/>
                      </a:lnTo>
                      <a:lnTo>
                        <a:pt x="381" y="28"/>
                      </a:lnTo>
                      <a:lnTo>
                        <a:pt x="380" y="28"/>
                      </a:lnTo>
                      <a:lnTo>
                        <a:pt x="378" y="28"/>
                      </a:lnTo>
                      <a:lnTo>
                        <a:pt x="377" y="29"/>
                      </a:lnTo>
                      <a:lnTo>
                        <a:pt x="375" y="30"/>
                      </a:lnTo>
                      <a:lnTo>
                        <a:pt x="375" y="31"/>
                      </a:lnTo>
                      <a:lnTo>
                        <a:pt x="296" y="31"/>
                      </a:lnTo>
                      <a:lnTo>
                        <a:pt x="296" y="30"/>
                      </a:lnTo>
                      <a:lnTo>
                        <a:pt x="295" y="29"/>
                      </a:lnTo>
                      <a:lnTo>
                        <a:pt x="293" y="28"/>
                      </a:lnTo>
                      <a:lnTo>
                        <a:pt x="292" y="28"/>
                      </a:lnTo>
                      <a:lnTo>
                        <a:pt x="290" y="28"/>
                      </a:lnTo>
                      <a:lnTo>
                        <a:pt x="289" y="29"/>
                      </a:lnTo>
                      <a:lnTo>
                        <a:pt x="288" y="30"/>
                      </a:lnTo>
                      <a:lnTo>
                        <a:pt x="287" y="31"/>
                      </a:lnTo>
                      <a:lnTo>
                        <a:pt x="208" y="31"/>
                      </a:lnTo>
                      <a:lnTo>
                        <a:pt x="208" y="30"/>
                      </a:lnTo>
                      <a:lnTo>
                        <a:pt x="207" y="29"/>
                      </a:lnTo>
                      <a:lnTo>
                        <a:pt x="206" y="28"/>
                      </a:lnTo>
                      <a:lnTo>
                        <a:pt x="204" y="28"/>
                      </a:lnTo>
                      <a:lnTo>
                        <a:pt x="202" y="28"/>
                      </a:lnTo>
                      <a:lnTo>
                        <a:pt x="201" y="29"/>
                      </a:lnTo>
                      <a:lnTo>
                        <a:pt x="200" y="30"/>
                      </a:lnTo>
                      <a:lnTo>
                        <a:pt x="199" y="31"/>
                      </a:lnTo>
                      <a:lnTo>
                        <a:pt x="178" y="31"/>
                      </a:lnTo>
                      <a:lnTo>
                        <a:pt x="178" y="30"/>
                      </a:lnTo>
                      <a:lnTo>
                        <a:pt x="177" y="29"/>
                      </a:lnTo>
                      <a:lnTo>
                        <a:pt x="175" y="28"/>
                      </a:lnTo>
                      <a:lnTo>
                        <a:pt x="174" y="28"/>
                      </a:lnTo>
                      <a:lnTo>
                        <a:pt x="172" y="28"/>
                      </a:lnTo>
                      <a:lnTo>
                        <a:pt x="170" y="29"/>
                      </a:lnTo>
                      <a:lnTo>
                        <a:pt x="170" y="30"/>
                      </a:lnTo>
                      <a:lnTo>
                        <a:pt x="169" y="31"/>
                      </a:lnTo>
                      <a:lnTo>
                        <a:pt x="166" y="31"/>
                      </a:lnTo>
                      <a:lnTo>
                        <a:pt x="165" y="30"/>
                      </a:lnTo>
                      <a:lnTo>
                        <a:pt x="165" y="28"/>
                      </a:lnTo>
                      <a:lnTo>
                        <a:pt x="163" y="27"/>
                      </a:lnTo>
                      <a:lnTo>
                        <a:pt x="161" y="26"/>
                      </a:lnTo>
                      <a:lnTo>
                        <a:pt x="159" y="25"/>
                      </a:lnTo>
                      <a:lnTo>
                        <a:pt x="156" y="25"/>
                      </a:lnTo>
                      <a:lnTo>
                        <a:pt x="154" y="26"/>
                      </a:lnTo>
                      <a:lnTo>
                        <a:pt x="152" y="27"/>
                      </a:lnTo>
                      <a:lnTo>
                        <a:pt x="150" y="28"/>
                      </a:lnTo>
                      <a:lnTo>
                        <a:pt x="149" y="30"/>
                      </a:lnTo>
                      <a:lnTo>
                        <a:pt x="149" y="31"/>
                      </a:lnTo>
                      <a:lnTo>
                        <a:pt x="140" y="31"/>
                      </a:lnTo>
                      <a:lnTo>
                        <a:pt x="139" y="30"/>
                      </a:lnTo>
                      <a:lnTo>
                        <a:pt x="139" y="29"/>
                      </a:lnTo>
                      <a:lnTo>
                        <a:pt x="137" y="28"/>
                      </a:lnTo>
                      <a:lnTo>
                        <a:pt x="135" y="28"/>
                      </a:lnTo>
                      <a:lnTo>
                        <a:pt x="134" y="28"/>
                      </a:lnTo>
                      <a:lnTo>
                        <a:pt x="132" y="29"/>
                      </a:lnTo>
                      <a:lnTo>
                        <a:pt x="131" y="30"/>
                      </a:lnTo>
                      <a:lnTo>
                        <a:pt x="131" y="31"/>
                      </a:lnTo>
                      <a:lnTo>
                        <a:pt x="88" y="31"/>
                      </a:lnTo>
                      <a:lnTo>
                        <a:pt x="88" y="30"/>
                      </a:lnTo>
                      <a:lnTo>
                        <a:pt x="87" y="29"/>
                      </a:lnTo>
                      <a:lnTo>
                        <a:pt x="85" y="28"/>
                      </a:lnTo>
                      <a:lnTo>
                        <a:pt x="84" y="28"/>
                      </a:lnTo>
                      <a:lnTo>
                        <a:pt x="82" y="28"/>
                      </a:lnTo>
                      <a:lnTo>
                        <a:pt x="80" y="29"/>
                      </a:lnTo>
                      <a:lnTo>
                        <a:pt x="80" y="30"/>
                      </a:lnTo>
                      <a:lnTo>
                        <a:pt x="79" y="31"/>
                      </a:lnTo>
                      <a:lnTo>
                        <a:pt x="53" y="31"/>
                      </a:lnTo>
                      <a:lnTo>
                        <a:pt x="53" y="30"/>
                      </a:lnTo>
                      <a:lnTo>
                        <a:pt x="52" y="29"/>
                      </a:lnTo>
                      <a:lnTo>
                        <a:pt x="50" y="28"/>
                      </a:lnTo>
                      <a:lnTo>
                        <a:pt x="49" y="28"/>
                      </a:lnTo>
                      <a:lnTo>
                        <a:pt x="47" y="28"/>
                      </a:lnTo>
                      <a:lnTo>
                        <a:pt x="45" y="29"/>
                      </a:lnTo>
                      <a:lnTo>
                        <a:pt x="45" y="30"/>
                      </a:lnTo>
                      <a:lnTo>
                        <a:pt x="44" y="31"/>
                      </a:lnTo>
                      <a:lnTo>
                        <a:pt x="40" y="31"/>
                      </a:lnTo>
                      <a:lnTo>
                        <a:pt x="39" y="30"/>
                      </a:lnTo>
                      <a:lnTo>
                        <a:pt x="38" y="29"/>
                      </a:lnTo>
                      <a:lnTo>
                        <a:pt x="37" y="28"/>
                      </a:lnTo>
                      <a:lnTo>
                        <a:pt x="35" y="28"/>
                      </a:lnTo>
                      <a:lnTo>
                        <a:pt x="33" y="28"/>
                      </a:lnTo>
                      <a:lnTo>
                        <a:pt x="32" y="29"/>
                      </a:lnTo>
                      <a:lnTo>
                        <a:pt x="31" y="30"/>
                      </a:lnTo>
                      <a:lnTo>
                        <a:pt x="31" y="31"/>
                      </a:lnTo>
                      <a:lnTo>
                        <a:pt x="0" y="31"/>
                      </a:lnTo>
                      <a:lnTo>
                        <a:pt x="0" y="0"/>
                      </a:lnTo>
                    </a:path>
                  </a:pathLst>
                </a:custGeom>
                <a:noFill/>
                <a:ln w="1440">
                  <a:solidFill>
                    <a:srgbClr val="ff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03" name=""/>
                <p:cNvSpPr/>
                <p:nvPr/>
              </p:nvSpPr>
              <p:spPr>
                <a:xfrm>
                  <a:off x="7012800" y="3354120"/>
                  <a:ext cx="11520" cy="13320"/>
                </a:xfrm>
                <a:custGeom>
                  <a:avLst/>
                  <a:gdLst/>
                  <a:ahLst/>
                  <a:rect l="l" t="t" r="r" b="b"/>
                  <a:pathLst>
                    <a:path w="11" h="10">
                      <a:moveTo>
                        <a:pt x="0" y="9"/>
                      </a:moveTo>
                      <a:lnTo>
                        <a:pt x="5" y="0"/>
                      </a:lnTo>
                      <a:lnTo>
                        <a:pt x="11" y="9"/>
                      </a:lnTo>
                      <a:lnTo>
                        <a:pt x="9" y="10"/>
                      </a:lnTo>
                      <a:lnTo>
                        <a:pt x="5" y="10"/>
                      </a:lnTo>
                      <a:lnTo>
                        <a:pt x="2"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04" name=""/>
                <p:cNvSpPr/>
                <p:nvPr/>
              </p:nvSpPr>
              <p:spPr>
                <a:xfrm>
                  <a:off x="7656480" y="4518720"/>
                  <a:ext cx="192600" cy="53280"/>
                </a:xfrm>
                <a:prstGeom prst="rect">
                  <a:avLst/>
                </a:prstGeom>
                <a:blipFill rotWithShape="0">
                  <a:blip r:embed="rId73"/>
                  <a:srcRect/>
                  <a:tile tx="0" ty="0" sx="100000" sy="100000" algn="ctr"/>
                </a:blip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705" name=""/>
                <p:cNvSpPr/>
                <p:nvPr/>
              </p:nvSpPr>
              <p:spPr>
                <a:xfrm>
                  <a:off x="7664400" y="4532040"/>
                  <a:ext cx="109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edia</a:t>
                  </a:r>
                  <a:endParaRPr b="0" lang="en-US" sz="300" spc="-1" strike="noStrike">
                    <a:solidFill>
                      <a:srgbClr val="ffffff"/>
                    </a:solidFill>
                    <a:latin typeface="Arial"/>
                  </a:endParaRPr>
                </a:p>
              </p:txBody>
            </p:sp>
            <p:sp>
              <p:nvSpPr>
                <p:cNvPr id="706" name=""/>
                <p:cNvSpPr/>
                <p:nvPr/>
              </p:nvSpPr>
              <p:spPr>
                <a:xfrm>
                  <a:off x="7752960" y="3435840"/>
                  <a:ext cx="331920" cy="1071360"/>
                </a:xfrm>
                <a:custGeom>
                  <a:avLst/>
                  <a:gdLst/>
                  <a:ahLst/>
                  <a:rect l="l" t="t" r="r" b="b"/>
                  <a:pathLst>
                    <a:path w="314" h="802">
                      <a:moveTo>
                        <a:pt x="118" y="0"/>
                      </a:moveTo>
                      <a:lnTo>
                        <a:pt x="118" y="53"/>
                      </a:lnTo>
                      <a:lnTo>
                        <a:pt x="201" y="53"/>
                      </a:lnTo>
                      <a:lnTo>
                        <a:pt x="202" y="51"/>
                      </a:lnTo>
                      <a:lnTo>
                        <a:pt x="203" y="50"/>
                      </a:lnTo>
                      <a:lnTo>
                        <a:pt x="204" y="49"/>
                      </a:lnTo>
                      <a:lnTo>
                        <a:pt x="206" y="49"/>
                      </a:lnTo>
                      <a:lnTo>
                        <a:pt x="207" y="49"/>
                      </a:lnTo>
                      <a:lnTo>
                        <a:pt x="209" y="50"/>
                      </a:lnTo>
                      <a:lnTo>
                        <a:pt x="210" y="51"/>
                      </a:lnTo>
                      <a:lnTo>
                        <a:pt x="210" y="53"/>
                      </a:lnTo>
                      <a:lnTo>
                        <a:pt x="223" y="53"/>
                      </a:lnTo>
                      <a:lnTo>
                        <a:pt x="224" y="51"/>
                      </a:lnTo>
                      <a:lnTo>
                        <a:pt x="225" y="50"/>
                      </a:lnTo>
                      <a:lnTo>
                        <a:pt x="226" y="49"/>
                      </a:lnTo>
                      <a:lnTo>
                        <a:pt x="228" y="49"/>
                      </a:lnTo>
                      <a:lnTo>
                        <a:pt x="229" y="49"/>
                      </a:lnTo>
                      <a:lnTo>
                        <a:pt x="231" y="50"/>
                      </a:lnTo>
                      <a:lnTo>
                        <a:pt x="232" y="51"/>
                      </a:lnTo>
                      <a:lnTo>
                        <a:pt x="232" y="53"/>
                      </a:lnTo>
                      <a:lnTo>
                        <a:pt x="242" y="53"/>
                      </a:lnTo>
                      <a:lnTo>
                        <a:pt x="242" y="51"/>
                      </a:lnTo>
                      <a:lnTo>
                        <a:pt x="243" y="50"/>
                      </a:lnTo>
                      <a:lnTo>
                        <a:pt x="245" y="49"/>
                      </a:lnTo>
                      <a:lnTo>
                        <a:pt x="246" y="49"/>
                      </a:lnTo>
                      <a:lnTo>
                        <a:pt x="248" y="49"/>
                      </a:lnTo>
                      <a:lnTo>
                        <a:pt x="250" y="50"/>
                      </a:lnTo>
                      <a:lnTo>
                        <a:pt x="250" y="51"/>
                      </a:lnTo>
                      <a:lnTo>
                        <a:pt x="251" y="53"/>
                      </a:lnTo>
                      <a:lnTo>
                        <a:pt x="255" y="53"/>
                      </a:lnTo>
                      <a:lnTo>
                        <a:pt x="256" y="51"/>
                      </a:lnTo>
                      <a:lnTo>
                        <a:pt x="257" y="50"/>
                      </a:lnTo>
                      <a:lnTo>
                        <a:pt x="258" y="49"/>
                      </a:lnTo>
                      <a:lnTo>
                        <a:pt x="260" y="49"/>
                      </a:lnTo>
                      <a:lnTo>
                        <a:pt x="261" y="49"/>
                      </a:lnTo>
                      <a:lnTo>
                        <a:pt x="263" y="50"/>
                      </a:lnTo>
                      <a:lnTo>
                        <a:pt x="264" y="51"/>
                      </a:lnTo>
                      <a:lnTo>
                        <a:pt x="264" y="53"/>
                      </a:lnTo>
                      <a:lnTo>
                        <a:pt x="314" y="53"/>
                      </a:lnTo>
                      <a:lnTo>
                        <a:pt x="314" y="673"/>
                      </a:lnTo>
                      <a:lnTo>
                        <a:pt x="310" y="673"/>
                      </a:lnTo>
                      <a:lnTo>
                        <a:pt x="310" y="672"/>
                      </a:lnTo>
                      <a:lnTo>
                        <a:pt x="309" y="671"/>
                      </a:lnTo>
                      <a:lnTo>
                        <a:pt x="307" y="670"/>
                      </a:lnTo>
                      <a:lnTo>
                        <a:pt x="305" y="670"/>
                      </a:lnTo>
                      <a:lnTo>
                        <a:pt x="304" y="670"/>
                      </a:lnTo>
                      <a:lnTo>
                        <a:pt x="302" y="671"/>
                      </a:lnTo>
                      <a:lnTo>
                        <a:pt x="301" y="672"/>
                      </a:lnTo>
                      <a:lnTo>
                        <a:pt x="301" y="673"/>
                      </a:lnTo>
                      <a:lnTo>
                        <a:pt x="70" y="673"/>
                      </a:lnTo>
                      <a:lnTo>
                        <a:pt x="70" y="672"/>
                      </a:lnTo>
                      <a:lnTo>
                        <a:pt x="69" y="671"/>
                      </a:lnTo>
                      <a:lnTo>
                        <a:pt x="67" y="670"/>
                      </a:lnTo>
                      <a:lnTo>
                        <a:pt x="66" y="670"/>
                      </a:lnTo>
                      <a:lnTo>
                        <a:pt x="64" y="670"/>
                      </a:lnTo>
                      <a:lnTo>
                        <a:pt x="62" y="671"/>
                      </a:lnTo>
                      <a:lnTo>
                        <a:pt x="61" y="672"/>
                      </a:lnTo>
                      <a:lnTo>
                        <a:pt x="61" y="673"/>
                      </a:lnTo>
                      <a:lnTo>
                        <a:pt x="0" y="673"/>
                      </a:lnTo>
                      <a:lnTo>
                        <a:pt x="0" y="80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746480" y="45054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08" name=""/>
                <p:cNvSpPr/>
                <p:nvPr/>
              </p:nvSpPr>
              <p:spPr>
                <a:xfrm>
                  <a:off x="3716640" y="3829680"/>
                  <a:ext cx="174600" cy="108000"/>
                </a:xfrm>
                <a:prstGeom prst="rect">
                  <a:avLst/>
                </a:prstGeom>
                <a:blipFill rotWithShape="0">
                  <a:blip r:embed="rId7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779280" y="384696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
                <p:cNvSpPr/>
                <p:nvPr/>
              </p:nvSpPr>
              <p:spPr>
                <a:xfrm>
                  <a:off x="3735000" y="388296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onus/HR</a:t>
                  </a:r>
                  <a:endParaRPr b="0" lang="en-US" sz="300" spc="-1" strike="noStrike">
                    <a:solidFill>
                      <a:srgbClr val="ffffff"/>
                    </a:solidFill>
                    <a:latin typeface="Arial"/>
                  </a:endParaRPr>
                </a:p>
              </p:txBody>
            </p:sp>
            <p:sp>
              <p:nvSpPr>
                <p:cNvPr id="711" name=""/>
                <p:cNvSpPr/>
                <p:nvPr/>
              </p:nvSpPr>
              <p:spPr>
                <a:xfrm>
                  <a:off x="3903840" y="3872520"/>
                  <a:ext cx="3748320" cy="273600"/>
                </a:xfrm>
                <a:custGeom>
                  <a:avLst/>
                  <a:gdLst/>
                  <a:ahLst/>
                  <a:rect l="l" t="t" r="r" b="b"/>
                  <a:pathLst>
                    <a:path w="3541" h="205">
                      <a:moveTo>
                        <a:pt x="0" y="9"/>
                      </a:moveTo>
                      <a:lnTo>
                        <a:pt x="100" y="9"/>
                      </a:lnTo>
                      <a:lnTo>
                        <a:pt x="100" y="7"/>
                      </a:lnTo>
                      <a:lnTo>
                        <a:pt x="101" y="6"/>
                      </a:lnTo>
                      <a:lnTo>
                        <a:pt x="103" y="5"/>
                      </a:lnTo>
                      <a:lnTo>
                        <a:pt x="105" y="5"/>
                      </a:lnTo>
                      <a:lnTo>
                        <a:pt x="106" y="5"/>
                      </a:lnTo>
                      <a:lnTo>
                        <a:pt x="108" y="6"/>
                      </a:lnTo>
                      <a:lnTo>
                        <a:pt x="109" y="7"/>
                      </a:lnTo>
                      <a:lnTo>
                        <a:pt x="109" y="9"/>
                      </a:lnTo>
                      <a:lnTo>
                        <a:pt x="143" y="9"/>
                      </a:lnTo>
                      <a:lnTo>
                        <a:pt x="143" y="7"/>
                      </a:lnTo>
                      <a:lnTo>
                        <a:pt x="144" y="6"/>
                      </a:lnTo>
                      <a:lnTo>
                        <a:pt x="145" y="5"/>
                      </a:lnTo>
                      <a:lnTo>
                        <a:pt x="147" y="5"/>
                      </a:lnTo>
                      <a:lnTo>
                        <a:pt x="149" y="5"/>
                      </a:lnTo>
                      <a:lnTo>
                        <a:pt x="150" y="6"/>
                      </a:lnTo>
                      <a:lnTo>
                        <a:pt x="151" y="7"/>
                      </a:lnTo>
                      <a:lnTo>
                        <a:pt x="152" y="9"/>
                      </a:lnTo>
                      <a:lnTo>
                        <a:pt x="159" y="9"/>
                      </a:lnTo>
                      <a:lnTo>
                        <a:pt x="160" y="7"/>
                      </a:lnTo>
                      <a:lnTo>
                        <a:pt x="161" y="6"/>
                      </a:lnTo>
                      <a:lnTo>
                        <a:pt x="162" y="5"/>
                      </a:lnTo>
                      <a:lnTo>
                        <a:pt x="164" y="5"/>
                      </a:lnTo>
                      <a:lnTo>
                        <a:pt x="166" y="5"/>
                      </a:lnTo>
                      <a:lnTo>
                        <a:pt x="167" y="6"/>
                      </a:lnTo>
                      <a:lnTo>
                        <a:pt x="168" y="7"/>
                      </a:lnTo>
                      <a:lnTo>
                        <a:pt x="168" y="9"/>
                      </a:lnTo>
                      <a:lnTo>
                        <a:pt x="176" y="9"/>
                      </a:lnTo>
                      <a:lnTo>
                        <a:pt x="177" y="7"/>
                      </a:lnTo>
                      <a:lnTo>
                        <a:pt x="178" y="6"/>
                      </a:lnTo>
                      <a:lnTo>
                        <a:pt x="179" y="5"/>
                      </a:lnTo>
                      <a:lnTo>
                        <a:pt x="181" y="5"/>
                      </a:lnTo>
                      <a:lnTo>
                        <a:pt x="183" y="5"/>
                      </a:lnTo>
                      <a:lnTo>
                        <a:pt x="184" y="6"/>
                      </a:lnTo>
                      <a:lnTo>
                        <a:pt x="185" y="7"/>
                      </a:lnTo>
                      <a:lnTo>
                        <a:pt x="185" y="9"/>
                      </a:lnTo>
                      <a:lnTo>
                        <a:pt x="387" y="9"/>
                      </a:lnTo>
                      <a:lnTo>
                        <a:pt x="387" y="7"/>
                      </a:lnTo>
                      <a:lnTo>
                        <a:pt x="388" y="5"/>
                      </a:lnTo>
                      <a:lnTo>
                        <a:pt x="390" y="4"/>
                      </a:lnTo>
                      <a:lnTo>
                        <a:pt x="392" y="3"/>
                      </a:lnTo>
                      <a:lnTo>
                        <a:pt x="394" y="3"/>
                      </a:lnTo>
                      <a:lnTo>
                        <a:pt x="396" y="3"/>
                      </a:lnTo>
                      <a:lnTo>
                        <a:pt x="398" y="3"/>
                      </a:lnTo>
                      <a:lnTo>
                        <a:pt x="400" y="4"/>
                      </a:lnTo>
                      <a:lnTo>
                        <a:pt x="402" y="5"/>
                      </a:lnTo>
                      <a:lnTo>
                        <a:pt x="402" y="7"/>
                      </a:lnTo>
                      <a:lnTo>
                        <a:pt x="403" y="9"/>
                      </a:lnTo>
                      <a:lnTo>
                        <a:pt x="413" y="9"/>
                      </a:lnTo>
                      <a:lnTo>
                        <a:pt x="413" y="7"/>
                      </a:lnTo>
                      <a:lnTo>
                        <a:pt x="414" y="5"/>
                      </a:lnTo>
                      <a:lnTo>
                        <a:pt x="416" y="3"/>
                      </a:lnTo>
                      <a:lnTo>
                        <a:pt x="418" y="1"/>
                      </a:lnTo>
                      <a:lnTo>
                        <a:pt x="420" y="0"/>
                      </a:lnTo>
                      <a:lnTo>
                        <a:pt x="423" y="0"/>
                      </a:lnTo>
                      <a:lnTo>
                        <a:pt x="425" y="0"/>
                      </a:lnTo>
                      <a:lnTo>
                        <a:pt x="428" y="0"/>
                      </a:lnTo>
                      <a:lnTo>
                        <a:pt x="430" y="1"/>
                      </a:lnTo>
                      <a:lnTo>
                        <a:pt x="432" y="3"/>
                      </a:lnTo>
                      <a:lnTo>
                        <a:pt x="434" y="5"/>
                      </a:lnTo>
                      <a:lnTo>
                        <a:pt x="435" y="7"/>
                      </a:lnTo>
                      <a:lnTo>
                        <a:pt x="435" y="9"/>
                      </a:lnTo>
                      <a:lnTo>
                        <a:pt x="440" y="9"/>
                      </a:lnTo>
                      <a:lnTo>
                        <a:pt x="440" y="6"/>
                      </a:lnTo>
                      <a:lnTo>
                        <a:pt x="441" y="4"/>
                      </a:lnTo>
                      <a:lnTo>
                        <a:pt x="442" y="3"/>
                      </a:lnTo>
                      <a:lnTo>
                        <a:pt x="444" y="1"/>
                      </a:lnTo>
                      <a:lnTo>
                        <a:pt x="447" y="0"/>
                      </a:lnTo>
                      <a:lnTo>
                        <a:pt x="449" y="0"/>
                      </a:lnTo>
                      <a:lnTo>
                        <a:pt x="452" y="0"/>
                      </a:lnTo>
                      <a:lnTo>
                        <a:pt x="455" y="0"/>
                      </a:lnTo>
                      <a:lnTo>
                        <a:pt x="457" y="1"/>
                      </a:lnTo>
                      <a:lnTo>
                        <a:pt x="459" y="3"/>
                      </a:lnTo>
                      <a:lnTo>
                        <a:pt x="461" y="4"/>
                      </a:lnTo>
                      <a:lnTo>
                        <a:pt x="462" y="6"/>
                      </a:lnTo>
                      <a:lnTo>
                        <a:pt x="462" y="9"/>
                      </a:lnTo>
                      <a:lnTo>
                        <a:pt x="478" y="9"/>
                      </a:lnTo>
                      <a:lnTo>
                        <a:pt x="478" y="80"/>
                      </a:lnTo>
                      <a:lnTo>
                        <a:pt x="585" y="80"/>
                      </a:lnTo>
                      <a:lnTo>
                        <a:pt x="585" y="79"/>
                      </a:lnTo>
                      <a:lnTo>
                        <a:pt x="586" y="78"/>
                      </a:lnTo>
                      <a:lnTo>
                        <a:pt x="588" y="77"/>
                      </a:lnTo>
                      <a:lnTo>
                        <a:pt x="590" y="77"/>
                      </a:lnTo>
                      <a:lnTo>
                        <a:pt x="591" y="77"/>
                      </a:lnTo>
                      <a:lnTo>
                        <a:pt x="593" y="78"/>
                      </a:lnTo>
                      <a:lnTo>
                        <a:pt x="594" y="79"/>
                      </a:lnTo>
                      <a:lnTo>
                        <a:pt x="594" y="80"/>
                      </a:lnTo>
                      <a:lnTo>
                        <a:pt x="709" y="80"/>
                      </a:lnTo>
                      <a:lnTo>
                        <a:pt x="710" y="78"/>
                      </a:lnTo>
                      <a:lnTo>
                        <a:pt x="711" y="77"/>
                      </a:lnTo>
                      <a:lnTo>
                        <a:pt x="712" y="75"/>
                      </a:lnTo>
                      <a:lnTo>
                        <a:pt x="714" y="74"/>
                      </a:lnTo>
                      <a:lnTo>
                        <a:pt x="716" y="74"/>
                      </a:lnTo>
                      <a:lnTo>
                        <a:pt x="719" y="74"/>
                      </a:lnTo>
                      <a:lnTo>
                        <a:pt x="721" y="74"/>
                      </a:lnTo>
                      <a:lnTo>
                        <a:pt x="723" y="75"/>
                      </a:lnTo>
                      <a:lnTo>
                        <a:pt x="724" y="77"/>
                      </a:lnTo>
                      <a:lnTo>
                        <a:pt x="725" y="78"/>
                      </a:lnTo>
                      <a:lnTo>
                        <a:pt x="726" y="80"/>
                      </a:lnTo>
                      <a:lnTo>
                        <a:pt x="747" y="80"/>
                      </a:lnTo>
                      <a:lnTo>
                        <a:pt x="748" y="79"/>
                      </a:lnTo>
                      <a:lnTo>
                        <a:pt x="748" y="78"/>
                      </a:lnTo>
                      <a:lnTo>
                        <a:pt x="750" y="77"/>
                      </a:lnTo>
                      <a:lnTo>
                        <a:pt x="752" y="77"/>
                      </a:lnTo>
                      <a:lnTo>
                        <a:pt x="753" y="77"/>
                      </a:lnTo>
                      <a:lnTo>
                        <a:pt x="755" y="78"/>
                      </a:lnTo>
                      <a:lnTo>
                        <a:pt x="756" y="79"/>
                      </a:lnTo>
                      <a:lnTo>
                        <a:pt x="756" y="80"/>
                      </a:lnTo>
                      <a:lnTo>
                        <a:pt x="757" y="80"/>
                      </a:lnTo>
                      <a:lnTo>
                        <a:pt x="758" y="79"/>
                      </a:lnTo>
                      <a:lnTo>
                        <a:pt x="759" y="78"/>
                      </a:lnTo>
                      <a:lnTo>
                        <a:pt x="760" y="77"/>
                      </a:lnTo>
                      <a:lnTo>
                        <a:pt x="762" y="77"/>
                      </a:lnTo>
                      <a:lnTo>
                        <a:pt x="763" y="77"/>
                      </a:lnTo>
                      <a:lnTo>
                        <a:pt x="765" y="78"/>
                      </a:lnTo>
                      <a:lnTo>
                        <a:pt x="766" y="79"/>
                      </a:lnTo>
                      <a:lnTo>
                        <a:pt x="766" y="80"/>
                      </a:lnTo>
                      <a:lnTo>
                        <a:pt x="778" y="80"/>
                      </a:lnTo>
                      <a:lnTo>
                        <a:pt x="779" y="79"/>
                      </a:lnTo>
                      <a:lnTo>
                        <a:pt x="780" y="78"/>
                      </a:lnTo>
                      <a:lnTo>
                        <a:pt x="781" y="77"/>
                      </a:lnTo>
                      <a:lnTo>
                        <a:pt x="783" y="77"/>
                      </a:lnTo>
                      <a:lnTo>
                        <a:pt x="784" y="77"/>
                      </a:lnTo>
                      <a:lnTo>
                        <a:pt x="786" y="78"/>
                      </a:lnTo>
                      <a:lnTo>
                        <a:pt x="787" y="79"/>
                      </a:lnTo>
                      <a:lnTo>
                        <a:pt x="787" y="80"/>
                      </a:lnTo>
                      <a:lnTo>
                        <a:pt x="793" y="80"/>
                      </a:lnTo>
                      <a:lnTo>
                        <a:pt x="793" y="79"/>
                      </a:lnTo>
                      <a:lnTo>
                        <a:pt x="794" y="78"/>
                      </a:lnTo>
                      <a:lnTo>
                        <a:pt x="795" y="77"/>
                      </a:lnTo>
                      <a:lnTo>
                        <a:pt x="797" y="77"/>
                      </a:lnTo>
                      <a:lnTo>
                        <a:pt x="799" y="77"/>
                      </a:lnTo>
                      <a:lnTo>
                        <a:pt x="800" y="78"/>
                      </a:lnTo>
                      <a:lnTo>
                        <a:pt x="801" y="79"/>
                      </a:lnTo>
                      <a:lnTo>
                        <a:pt x="802" y="80"/>
                      </a:lnTo>
                      <a:lnTo>
                        <a:pt x="803" y="80"/>
                      </a:lnTo>
                      <a:lnTo>
                        <a:pt x="803" y="79"/>
                      </a:lnTo>
                      <a:lnTo>
                        <a:pt x="804" y="78"/>
                      </a:lnTo>
                      <a:lnTo>
                        <a:pt x="806" y="77"/>
                      </a:lnTo>
                      <a:lnTo>
                        <a:pt x="807" y="77"/>
                      </a:lnTo>
                      <a:lnTo>
                        <a:pt x="809" y="77"/>
                      </a:lnTo>
                      <a:lnTo>
                        <a:pt x="810" y="78"/>
                      </a:lnTo>
                      <a:lnTo>
                        <a:pt x="811" y="79"/>
                      </a:lnTo>
                      <a:lnTo>
                        <a:pt x="812" y="80"/>
                      </a:lnTo>
                      <a:lnTo>
                        <a:pt x="873" y="80"/>
                      </a:lnTo>
                      <a:lnTo>
                        <a:pt x="873" y="79"/>
                      </a:lnTo>
                      <a:lnTo>
                        <a:pt x="874" y="78"/>
                      </a:lnTo>
                      <a:lnTo>
                        <a:pt x="875" y="77"/>
                      </a:lnTo>
                      <a:lnTo>
                        <a:pt x="877" y="77"/>
                      </a:lnTo>
                      <a:lnTo>
                        <a:pt x="879" y="77"/>
                      </a:lnTo>
                      <a:lnTo>
                        <a:pt x="880" y="78"/>
                      </a:lnTo>
                      <a:lnTo>
                        <a:pt x="881" y="79"/>
                      </a:lnTo>
                      <a:lnTo>
                        <a:pt x="882" y="80"/>
                      </a:lnTo>
                      <a:lnTo>
                        <a:pt x="956" y="80"/>
                      </a:lnTo>
                      <a:lnTo>
                        <a:pt x="957" y="79"/>
                      </a:lnTo>
                      <a:lnTo>
                        <a:pt x="958" y="78"/>
                      </a:lnTo>
                      <a:lnTo>
                        <a:pt x="959" y="77"/>
                      </a:lnTo>
                      <a:lnTo>
                        <a:pt x="961" y="77"/>
                      </a:lnTo>
                      <a:lnTo>
                        <a:pt x="963" y="77"/>
                      </a:lnTo>
                      <a:lnTo>
                        <a:pt x="964" y="78"/>
                      </a:lnTo>
                      <a:lnTo>
                        <a:pt x="965" y="79"/>
                      </a:lnTo>
                      <a:lnTo>
                        <a:pt x="965" y="80"/>
                      </a:lnTo>
                      <a:lnTo>
                        <a:pt x="1051" y="80"/>
                      </a:lnTo>
                      <a:lnTo>
                        <a:pt x="1051" y="79"/>
                      </a:lnTo>
                      <a:lnTo>
                        <a:pt x="1052" y="78"/>
                      </a:lnTo>
                      <a:lnTo>
                        <a:pt x="1054" y="77"/>
                      </a:lnTo>
                      <a:lnTo>
                        <a:pt x="1055" y="77"/>
                      </a:lnTo>
                      <a:lnTo>
                        <a:pt x="1057" y="77"/>
                      </a:lnTo>
                      <a:lnTo>
                        <a:pt x="1058" y="78"/>
                      </a:lnTo>
                      <a:lnTo>
                        <a:pt x="1059" y="79"/>
                      </a:lnTo>
                      <a:lnTo>
                        <a:pt x="1060" y="80"/>
                      </a:lnTo>
                      <a:lnTo>
                        <a:pt x="1135" y="80"/>
                      </a:lnTo>
                      <a:lnTo>
                        <a:pt x="1135" y="79"/>
                      </a:lnTo>
                      <a:lnTo>
                        <a:pt x="1136" y="78"/>
                      </a:lnTo>
                      <a:lnTo>
                        <a:pt x="1137" y="77"/>
                      </a:lnTo>
                      <a:lnTo>
                        <a:pt x="1139" y="77"/>
                      </a:lnTo>
                      <a:lnTo>
                        <a:pt x="1141" y="77"/>
                      </a:lnTo>
                      <a:lnTo>
                        <a:pt x="1142" y="78"/>
                      </a:lnTo>
                      <a:lnTo>
                        <a:pt x="1143" y="79"/>
                      </a:lnTo>
                      <a:lnTo>
                        <a:pt x="1144" y="80"/>
                      </a:lnTo>
                      <a:lnTo>
                        <a:pt x="1163" y="80"/>
                      </a:lnTo>
                      <a:lnTo>
                        <a:pt x="1163" y="79"/>
                      </a:lnTo>
                      <a:lnTo>
                        <a:pt x="1164" y="78"/>
                      </a:lnTo>
                      <a:lnTo>
                        <a:pt x="1165" y="77"/>
                      </a:lnTo>
                      <a:lnTo>
                        <a:pt x="1167" y="77"/>
                      </a:lnTo>
                      <a:lnTo>
                        <a:pt x="1169" y="77"/>
                      </a:lnTo>
                      <a:lnTo>
                        <a:pt x="1170" y="78"/>
                      </a:lnTo>
                      <a:lnTo>
                        <a:pt x="1171" y="79"/>
                      </a:lnTo>
                      <a:lnTo>
                        <a:pt x="1172" y="80"/>
                      </a:lnTo>
                      <a:lnTo>
                        <a:pt x="1203" y="80"/>
                      </a:lnTo>
                      <a:lnTo>
                        <a:pt x="1203" y="79"/>
                      </a:lnTo>
                      <a:lnTo>
                        <a:pt x="1204" y="78"/>
                      </a:lnTo>
                      <a:lnTo>
                        <a:pt x="1206" y="77"/>
                      </a:lnTo>
                      <a:lnTo>
                        <a:pt x="1208" y="77"/>
                      </a:lnTo>
                      <a:lnTo>
                        <a:pt x="1209" y="77"/>
                      </a:lnTo>
                      <a:lnTo>
                        <a:pt x="1211" y="78"/>
                      </a:lnTo>
                      <a:lnTo>
                        <a:pt x="1212" y="79"/>
                      </a:lnTo>
                      <a:lnTo>
                        <a:pt x="1212" y="80"/>
                      </a:lnTo>
                      <a:lnTo>
                        <a:pt x="1250" y="80"/>
                      </a:lnTo>
                      <a:lnTo>
                        <a:pt x="1250" y="79"/>
                      </a:lnTo>
                      <a:lnTo>
                        <a:pt x="1251" y="78"/>
                      </a:lnTo>
                      <a:lnTo>
                        <a:pt x="1253" y="77"/>
                      </a:lnTo>
                      <a:lnTo>
                        <a:pt x="1255" y="77"/>
                      </a:lnTo>
                      <a:lnTo>
                        <a:pt x="1256" y="77"/>
                      </a:lnTo>
                      <a:lnTo>
                        <a:pt x="1258" y="78"/>
                      </a:lnTo>
                      <a:lnTo>
                        <a:pt x="1259" y="79"/>
                      </a:lnTo>
                      <a:lnTo>
                        <a:pt x="1259" y="80"/>
                      </a:lnTo>
                      <a:lnTo>
                        <a:pt x="1299" y="80"/>
                      </a:lnTo>
                      <a:lnTo>
                        <a:pt x="1299" y="205"/>
                      </a:lnTo>
                      <a:lnTo>
                        <a:pt x="1338" y="205"/>
                      </a:lnTo>
                      <a:lnTo>
                        <a:pt x="1338" y="204"/>
                      </a:lnTo>
                      <a:lnTo>
                        <a:pt x="1339" y="203"/>
                      </a:lnTo>
                      <a:lnTo>
                        <a:pt x="1341" y="202"/>
                      </a:lnTo>
                      <a:lnTo>
                        <a:pt x="1343" y="202"/>
                      </a:lnTo>
                      <a:lnTo>
                        <a:pt x="1344" y="202"/>
                      </a:lnTo>
                      <a:lnTo>
                        <a:pt x="1346" y="203"/>
                      </a:lnTo>
                      <a:lnTo>
                        <a:pt x="1347" y="204"/>
                      </a:lnTo>
                      <a:lnTo>
                        <a:pt x="1347" y="205"/>
                      </a:lnTo>
                      <a:lnTo>
                        <a:pt x="1372" y="205"/>
                      </a:lnTo>
                      <a:lnTo>
                        <a:pt x="1372" y="204"/>
                      </a:lnTo>
                      <a:lnTo>
                        <a:pt x="1373" y="202"/>
                      </a:lnTo>
                      <a:lnTo>
                        <a:pt x="1375" y="201"/>
                      </a:lnTo>
                      <a:lnTo>
                        <a:pt x="1377" y="200"/>
                      </a:lnTo>
                      <a:lnTo>
                        <a:pt x="1379" y="199"/>
                      </a:lnTo>
                      <a:lnTo>
                        <a:pt x="1381" y="199"/>
                      </a:lnTo>
                      <a:lnTo>
                        <a:pt x="1383" y="200"/>
                      </a:lnTo>
                      <a:lnTo>
                        <a:pt x="1385" y="201"/>
                      </a:lnTo>
                      <a:lnTo>
                        <a:pt x="1386" y="202"/>
                      </a:lnTo>
                      <a:lnTo>
                        <a:pt x="1387" y="204"/>
                      </a:lnTo>
                      <a:lnTo>
                        <a:pt x="1387" y="205"/>
                      </a:lnTo>
                      <a:lnTo>
                        <a:pt x="1392" y="205"/>
                      </a:lnTo>
                      <a:lnTo>
                        <a:pt x="1393" y="204"/>
                      </a:lnTo>
                      <a:lnTo>
                        <a:pt x="1393" y="203"/>
                      </a:lnTo>
                      <a:lnTo>
                        <a:pt x="1395" y="202"/>
                      </a:lnTo>
                      <a:lnTo>
                        <a:pt x="1397" y="202"/>
                      </a:lnTo>
                      <a:lnTo>
                        <a:pt x="1398" y="202"/>
                      </a:lnTo>
                      <a:lnTo>
                        <a:pt x="1400" y="203"/>
                      </a:lnTo>
                      <a:lnTo>
                        <a:pt x="1401" y="204"/>
                      </a:lnTo>
                      <a:lnTo>
                        <a:pt x="1401" y="205"/>
                      </a:lnTo>
                      <a:lnTo>
                        <a:pt x="1435" y="205"/>
                      </a:lnTo>
                      <a:lnTo>
                        <a:pt x="1435" y="204"/>
                      </a:lnTo>
                      <a:lnTo>
                        <a:pt x="1436" y="203"/>
                      </a:lnTo>
                      <a:lnTo>
                        <a:pt x="1438" y="202"/>
                      </a:lnTo>
                      <a:lnTo>
                        <a:pt x="1439" y="202"/>
                      </a:lnTo>
                      <a:lnTo>
                        <a:pt x="1441" y="202"/>
                      </a:lnTo>
                      <a:lnTo>
                        <a:pt x="1443" y="203"/>
                      </a:lnTo>
                      <a:lnTo>
                        <a:pt x="1444" y="204"/>
                      </a:lnTo>
                      <a:lnTo>
                        <a:pt x="1444" y="205"/>
                      </a:lnTo>
                      <a:lnTo>
                        <a:pt x="1455" y="205"/>
                      </a:lnTo>
                      <a:lnTo>
                        <a:pt x="1456" y="204"/>
                      </a:lnTo>
                      <a:lnTo>
                        <a:pt x="1456" y="202"/>
                      </a:lnTo>
                      <a:lnTo>
                        <a:pt x="1458" y="200"/>
                      </a:lnTo>
                      <a:lnTo>
                        <a:pt x="1460" y="199"/>
                      </a:lnTo>
                      <a:lnTo>
                        <a:pt x="1463" y="199"/>
                      </a:lnTo>
                      <a:lnTo>
                        <a:pt x="1465" y="199"/>
                      </a:lnTo>
                      <a:lnTo>
                        <a:pt x="1467" y="199"/>
                      </a:lnTo>
                      <a:lnTo>
                        <a:pt x="1470" y="200"/>
                      </a:lnTo>
                      <a:lnTo>
                        <a:pt x="1471" y="202"/>
                      </a:lnTo>
                      <a:lnTo>
                        <a:pt x="1472" y="204"/>
                      </a:lnTo>
                      <a:lnTo>
                        <a:pt x="1473" y="205"/>
                      </a:lnTo>
                      <a:lnTo>
                        <a:pt x="1477" y="205"/>
                      </a:lnTo>
                      <a:lnTo>
                        <a:pt x="1477" y="204"/>
                      </a:lnTo>
                      <a:lnTo>
                        <a:pt x="1478" y="202"/>
                      </a:lnTo>
                      <a:lnTo>
                        <a:pt x="1480" y="200"/>
                      </a:lnTo>
                      <a:lnTo>
                        <a:pt x="1482" y="199"/>
                      </a:lnTo>
                      <a:lnTo>
                        <a:pt x="1484" y="199"/>
                      </a:lnTo>
                      <a:lnTo>
                        <a:pt x="1486" y="199"/>
                      </a:lnTo>
                      <a:lnTo>
                        <a:pt x="1488" y="199"/>
                      </a:lnTo>
                      <a:lnTo>
                        <a:pt x="1491" y="200"/>
                      </a:lnTo>
                      <a:lnTo>
                        <a:pt x="1492" y="202"/>
                      </a:lnTo>
                      <a:lnTo>
                        <a:pt x="1493" y="204"/>
                      </a:lnTo>
                      <a:lnTo>
                        <a:pt x="1493" y="205"/>
                      </a:lnTo>
                      <a:lnTo>
                        <a:pt x="1584" y="205"/>
                      </a:lnTo>
                      <a:lnTo>
                        <a:pt x="1584" y="204"/>
                      </a:lnTo>
                      <a:lnTo>
                        <a:pt x="1585" y="203"/>
                      </a:lnTo>
                      <a:lnTo>
                        <a:pt x="1586" y="202"/>
                      </a:lnTo>
                      <a:lnTo>
                        <a:pt x="1588" y="202"/>
                      </a:lnTo>
                      <a:lnTo>
                        <a:pt x="1590" y="202"/>
                      </a:lnTo>
                      <a:lnTo>
                        <a:pt x="1591" y="203"/>
                      </a:lnTo>
                      <a:lnTo>
                        <a:pt x="1592" y="204"/>
                      </a:lnTo>
                      <a:lnTo>
                        <a:pt x="1593" y="205"/>
                      </a:lnTo>
                      <a:lnTo>
                        <a:pt x="1672" y="205"/>
                      </a:lnTo>
                      <a:lnTo>
                        <a:pt x="1672" y="204"/>
                      </a:lnTo>
                      <a:lnTo>
                        <a:pt x="1673" y="203"/>
                      </a:lnTo>
                      <a:lnTo>
                        <a:pt x="1674" y="202"/>
                      </a:lnTo>
                      <a:lnTo>
                        <a:pt x="1676" y="202"/>
                      </a:lnTo>
                      <a:lnTo>
                        <a:pt x="1678" y="202"/>
                      </a:lnTo>
                      <a:lnTo>
                        <a:pt x="1679" y="203"/>
                      </a:lnTo>
                      <a:lnTo>
                        <a:pt x="1680" y="204"/>
                      </a:lnTo>
                      <a:lnTo>
                        <a:pt x="1681" y="205"/>
                      </a:lnTo>
                      <a:lnTo>
                        <a:pt x="1750" y="205"/>
                      </a:lnTo>
                      <a:lnTo>
                        <a:pt x="1751" y="204"/>
                      </a:lnTo>
                      <a:lnTo>
                        <a:pt x="1752" y="203"/>
                      </a:lnTo>
                      <a:lnTo>
                        <a:pt x="1753" y="202"/>
                      </a:lnTo>
                      <a:lnTo>
                        <a:pt x="1755" y="202"/>
                      </a:lnTo>
                      <a:lnTo>
                        <a:pt x="1757" y="202"/>
                      </a:lnTo>
                      <a:lnTo>
                        <a:pt x="1758" y="203"/>
                      </a:lnTo>
                      <a:lnTo>
                        <a:pt x="1759" y="204"/>
                      </a:lnTo>
                      <a:lnTo>
                        <a:pt x="1759" y="205"/>
                      </a:lnTo>
                      <a:lnTo>
                        <a:pt x="1778" y="205"/>
                      </a:lnTo>
                      <a:lnTo>
                        <a:pt x="1779" y="204"/>
                      </a:lnTo>
                      <a:lnTo>
                        <a:pt x="1779" y="203"/>
                      </a:lnTo>
                      <a:lnTo>
                        <a:pt x="1781" y="202"/>
                      </a:lnTo>
                      <a:lnTo>
                        <a:pt x="1783" y="202"/>
                      </a:lnTo>
                      <a:lnTo>
                        <a:pt x="1784" y="202"/>
                      </a:lnTo>
                      <a:lnTo>
                        <a:pt x="1786" y="203"/>
                      </a:lnTo>
                      <a:lnTo>
                        <a:pt x="1787" y="204"/>
                      </a:lnTo>
                      <a:lnTo>
                        <a:pt x="1787" y="205"/>
                      </a:lnTo>
                      <a:lnTo>
                        <a:pt x="1813" y="205"/>
                      </a:lnTo>
                      <a:lnTo>
                        <a:pt x="1813" y="204"/>
                      </a:lnTo>
                      <a:lnTo>
                        <a:pt x="1814" y="203"/>
                      </a:lnTo>
                      <a:lnTo>
                        <a:pt x="1816" y="202"/>
                      </a:lnTo>
                      <a:lnTo>
                        <a:pt x="1817" y="202"/>
                      </a:lnTo>
                      <a:lnTo>
                        <a:pt x="1819" y="202"/>
                      </a:lnTo>
                      <a:lnTo>
                        <a:pt x="1820" y="203"/>
                      </a:lnTo>
                      <a:lnTo>
                        <a:pt x="1822" y="204"/>
                      </a:lnTo>
                      <a:lnTo>
                        <a:pt x="1822" y="205"/>
                      </a:lnTo>
                      <a:lnTo>
                        <a:pt x="1919" y="205"/>
                      </a:lnTo>
                      <a:lnTo>
                        <a:pt x="1919" y="204"/>
                      </a:lnTo>
                      <a:lnTo>
                        <a:pt x="1920" y="203"/>
                      </a:lnTo>
                      <a:lnTo>
                        <a:pt x="1922" y="202"/>
                      </a:lnTo>
                      <a:lnTo>
                        <a:pt x="1924" y="202"/>
                      </a:lnTo>
                      <a:lnTo>
                        <a:pt x="1925" y="202"/>
                      </a:lnTo>
                      <a:lnTo>
                        <a:pt x="1927" y="203"/>
                      </a:lnTo>
                      <a:lnTo>
                        <a:pt x="1928" y="204"/>
                      </a:lnTo>
                      <a:lnTo>
                        <a:pt x="1928" y="205"/>
                      </a:lnTo>
                      <a:lnTo>
                        <a:pt x="1937" y="205"/>
                      </a:lnTo>
                      <a:lnTo>
                        <a:pt x="1937" y="204"/>
                      </a:lnTo>
                      <a:lnTo>
                        <a:pt x="1938" y="203"/>
                      </a:lnTo>
                      <a:lnTo>
                        <a:pt x="1940" y="202"/>
                      </a:lnTo>
                      <a:lnTo>
                        <a:pt x="1942" y="202"/>
                      </a:lnTo>
                      <a:lnTo>
                        <a:pt x="1943" y="202"/>
                      </a:lnTo>
                      <a:lnTo>
                        <a:pt x="1945" y="203"/>
                      </a:lnTo>
                      <a:lnTo>
                        <a:pt x="1946" y="204"/>
                      </a:lnTo>
                      <a:lnTo>
                        <a:pt x="1946" y="205"/>
                      </a:lnTo>
                      <a:lnTo>
                        <a:pt x="1960" y="205"/>
                      </a:lnTo>
                      <a:lnTo>
                        <a:pt x="1960" y="204"/>
                      </a:lnTo>
                      <a:lnTo>
                        <a:pt x="1961" y="203"/>
                      </a:lnTo>
                      <a:lnTo>
                        <a:pt x="1962" y="202"/>
                      </a:lnTo>
                      <a:lnTo>
                        <a:pt x="1964" y="202"/>
                      </a:lnTo>
                      <a:lnTo>
                        <a:pt x="1966" y="202"/>
                      </a:lnTo>
                      <a:lnTo>
                        <a:pt x="1967" y="203"/>
                      </a:lnTo>
                      <a:lnTo>
                        <a:pt x="1968" y="204"/>
                      </a:lnTo>
                      <a:lnTo>
                        <a:pt x="1969" y="205"/>
                      </a:lnTo>
                      <a:lnTo>
                        <a:pt x="2023" y="205"/>
                      </a:lnTo>
                      <a:lnTo>
                        <a:pt x="2023" y="204"/>
                      </a:lnTo>
                      <a:lnTo>
                        <a:pt x="2024" y="203"/>
                      </a:lnTo>
                      <a:lnTo>
                        <a:pt x="2026" y="202"/>
                      </a:lnTo>
                      <a:lnTo>
                        <a:pt x="2027" y="202"/>
                      </a:lnTo>
                      <a:lnTo>
                        <a:pt x="2029" y="202"/>
                      </a:lnTo>
                      <a:lnTo>
                        <a:pt x="2031" y="203"/>
                      </a:lnTo>
                      <a:lnTo>
                        <a:pt x="2032" y="204"/>
                      </a:lnTo>
                      <a:lnTo>
                        <a:pt x="2032" y="205"/>
                      </a:lnTo>
                      <a:lnTo>
                        <a:pt x="2127" y="205"/>
                      </a:lnTo>
                      <a:lnTo>
                        <a:pt x="2128" y="204"/>
                      </a:lnTo>
                      <a:lnTo>
                        <a:pt x="2129" y="203"/>
                      </a:lnTo>
                      <a:lnTo>
                        <a:pt x="2130" y="202"/>
                      </a:lnTo>
                      <a:lnTo>
                        <a:pt x="2132" y="202"/>
                      </a:lnTo>
                      <a:lnTo>
                        <a:pt x="2134" y="202"/>
                      </a:lnTo>
                      <a:lnTo>
                        <a:pt x="2135" y="203"/>
                      </a:lnTo>
                      <a:lnTo>
                        <a:pt x="2136" y="204"/>
                      </a:lnTo>
                      <a:lnTo>
                        <a:pt x="2136" y="205"/>
                      </a:lnTo>
                      <a:lnTo>
                        <a:pt x="2192" y="205"/>
                      </a:lnTo>
                      <a:lnTo>
                        <a:pt x="2193" y="204"/>
                      </a:lnTo>
                      <a:lnTo>
                        <a:pt x="2194" y="203"/>
                      </a:lnTo>
                      <a:lnTo>
                        <a:pt x="2195" y="202"/>
                      </a:lnTo>
                      <a:lnTo>
                        <a:pt x="2197" y="202"/>
                      </a:lnTo>
                      <a:lnTo>
                        <a:pt x="2199" y="202"/>
                      </a:lnTo>
                      <a:lnTo>
                        <a:pt x="2200" y="203"/>
                      </a:lnTo>
                      <a:lnTo>
                        <a:pt x="2201" y="204"/>
                      </a:lnTo>
                      <a:lnTo>
                        <a:pt x="2201" y="205"/>
                      </a:lnTo>
                      <a:lnTo>
                        <a:pt x="2263" y="205"/>
                      </a:lnTo>
                      <a:lnTo>
                        <a:pt x="2264" y="204"/>
                      </a:lnTo>
                      <a:lnTo>
                        <a:pt x="2265" y="203"/>
                      </a:lnTo>
                      <a:lnTo>
                        <a:pt x="2266" y="202"/>
                      </a:lnTo>
                      <a:lnTo>
                        <a:pt x="2268" y="202"/>
                      </a:lnTo>
                      <a:lnTo>
                        <a:pt x="2270" y="202"/>
                      </a:lnTo>
                      <a:lnTo>
                        <a:pt x="2271" y="203"/>
                      </a:lnTo>
                      <a:lnTo>
                        <a:pt x="2272" y="204"/>
                      </a:lnTo>
                      <a:lnTo>
                        <a:pt x="2272" y="205"/>
                      </a:lnTo>
                      <a:lnTo>
                        <a:pt x="2284" y="205"/>
                      </a:lnTo>
                      <a:lnTo>
                        <a:pt x="2284" y="204"/>
                      </a:lnTo>
                      <a:lnTo>
                        <a:pt x="2285" y="203"/>
                      </a:lnTo>
                      <a:lnTo>
                        <a:pt x="2286" y="202"/>
                      </a:lnTo>
                      <a:lnTo>
                        <a:pt x="2288" y="202"/>
                      </a:lnTo>
                      <a:lnTo>
                        <a:pt x="2290" y="202"/>
                      </a:lnTo>
                      <a:lnTo>
                        <a:pt x="2291" y="203"/>
                      </a:lnTo>
                      <a:lnTo>
                        <a:pt x="2292" y="204"/>
                      </a:lnTo>
                      <a:lnTo>
                        <a:pt x="2293" y="205"/>
                      </a:lnTo>
                      <a:lnTo>
                        <a:pt x="2298" y="205"/>
                      </a:lnTo>
                      <a:lnTo>
                        <a:pt x="2298" y="204"/>
                      </a:lnTo>
                      <a:lnTo>
                        <a:pt x="2299" y="203"/>
                      </a:lnTo>
                      <a:lnTo>
                        <a:pt x="2301" y="202"/>
                      </a:lnTo>
                      <a:lnTo>
                        <a:pt x="2302" y="202"/>
                      </a:lnTo>
                      <a:lnTo>
                        <a:pt x="2304" y="202"/>
                      </a:lnTo>
                      <a:lnTo>
                        <a:pt x="2306" y="203"/>
                      </a:lnTo>
                      <a:lnTo>
                        <a:pt x="2307" y="204"/>
                      </a:lnTo>
                      <a:lnTo>
                        <a:pt x="2307" y="205"/>
                      </a:lnTo>
                      <a:lnTo>
                        <a:pt x="2322" y="205"/>
                      </a:lnTo>
                      <a:lnTo>
                        <a:pt x="2323" y="204"/>
                      </a:lnTo>
                      <a:lnTo>
                        <a:pt x="2324" y="203"/>
                      </a:lnTo>
                      <a:lnTo>
                        <a:pt x="2325" y="202"/>
                      </a:lnTo>
                      <a:lnTo>
                        <a:pt x="2327" y="202"/>
                      </a:lnTo>
                      <a:lnTo>
                        <a:pt x="2329" y="202"/>
                      </a:lnTo>
                      <a:lnTo>
                        <a:pt x="2330" y="203"/>
                      </a:lnTo>
                      <a:lnTo>
                        <a:pt x="2331" y="204"/>
                      </a:lnTo>
                      <a:lnTo>
                        <a:pt x="2331" y="205"/>
                      </a:lnTo>
                      <a:lnTo>
                        <a:pt x="2453" y="205"/>
                      </a:lnTo>
                      <a:lnTo>
                        <a:pt x="2453" y="204"/>
                      </a:lnTo>
                      <a:lnTo>
                        <a:pt x="2454" y="203"/>
                      </a:lnTo>
                      <a:lnTo>
                        <a:pt x="2455" y="202"/>
                      </a:lnTo>
                      <a:lnTo>
                        <a:pt x="2457" y="202"/>
                      </a:lnTo>
                      <a:lnTo>
                        <a:pt x="2459" y="202"/>
                      </a:lnTo>
                      <a:lnTo>
                        <a:pt x="2460" y="203"/>
                      </a:lnTo>
                      <a:lnTo>
                        <a:pt x="2461" y="204"/>
                      </a:lnTo>
                      <a:lnTo>
                        <a:pt x="2462" y="205"/>
                      </a:lnTo>
                      <a:lnTo>
                        <a:pt x="2464" y="205"/>
                      </a:lnTo>
                      <a:lnTo>
                        <a:pt x="2465" y="204"/>
                      </a:lnTo>
                      <a:lnTo>
                        <a:pt x="2466" y="203"/>
                      </a:lnTo>
                      <a:lnTo>
                        <a:pt x="2467" y="202"/>
                      </a:lnTo>
                      <a:lnTo>
                        <a:pt x="2469" y="202"/>
                      </a:lnTo>
                      <a:lnTo>
                        <a:pt x="2471" y="202"/>
                      </a:lnTo>
                      <a:lnTo>
                        <a:pt x="2472" y="203"/>
                      </a:lnTo>
                      <a:lnTo>
                        <a:pt x="2473" y="204"/>
                      </a:lnTo>
                      <a:lnTo>
                        <a:pt x="2473" y="205"/>
                      </a:lnTo>
                      <a:lnTo>
                        <a:pt x="2623" y="205"/>
                      </a:lnTo>
                      <a:lnTo>
                        <a:pt x="2623" y="204"/>
                      </a:lnTo>
                      <a:lnTo>
                        <a:pt x="2624" y="203"/>
                      </a:lnTo>
                      <a:lnTo>
                        <a:pt x="2626" y="202"/>
                      </a:lnTo>
                      <a:lnTo>
                        <a:pt x="2628" y="202"/>
                      </a:lnTo>
                      <a:lnTo>
                        <a:pt x="2629" y="202"/>
                      </a:lnTo>
                      <a:lnTo>
                        <a:pt x="2631" y="203"/>
                      </a:lnTo>
                      <a:lnTo>
                        <a:pt x="2632" y="204"/>
                      </a:lnTo>
                      <a:lnTo>
                        <a:pt x="2632" y="205"/>
                      </a:lnTo>
                      <a:lnTo>
                        <a:pt x="2789" y="205"/>
                      </a:lnTo>
                      <a:lnTo>
                        <a:pt x="2789" y="204"/>
                      </a:lnTo>
                      <a:lnTo>
                        <a:pt x="2790" y="203"/>
                      </a:lnTo>
                      <a:lnTo>
                        <a:pt x="2791" y="202"/>
                      </a:lnTo>
                      <a:lnTo>
                        <a:pt x="2793" y="202"/>
                      </a:lnTo>
                      <a:lnTo>
                        <a:pt x="2795" y="202"/>
                      </a:lnTo>
                      <a:lnTo>
                        <a:pt x="2796" y="203"/>
                      </a:lnTo>
                      <a:lnTo>
                        <a:pt x="2797" y="204"/>
                      </a:lnTo>
                      <a:lnTo>
                        <a:pt x="2797" y="205"/>
                      </a:lnTo>
                      <a:lnTo>
                        <a:pt x="2884" y="205"/>
                      </a:lnTo>
                      <a:lnTo>
                        <a:pt x="2884" y="164"/>
                      </a:lnTo>
                      <a:lnTo>
                        <a:pt x="2911" y="164"/>
                      </a:lnTo>
                      <a:lnTo>
                        <a:pt x="2911" y="162"/>
                      </a:lnTo>
                      <a:lnTo>
                        <a:pt x="2912" y="161"/>
                      </a:lnTo>
                      <a:lnTo>
                        <a:pt x="2913" y="160"/>
                      </a:lnTo>
                      <a:lnTo>
                        <a:pt x="2915" y="160"/>
                      </a:lnTo>
                      <a:lnTo>
                        <a:pt x="2917" y="160"/>
                      </a:lnTo>
                      <a:lnTo>
                        <a:pt x="2918" y="161"/>
                      </a:lnTo>
                      <a:lnTo>
                        <a:pt x="2919" y="162"/>
                      </a:lnTo>
                      <a:lnTo>
                        <a:pt x="2920" y="164"/>
                      </a:lnTo>
                      <a:lnTo>
                        <a:pt x="2924" y="164"/>
                      </a:lnTo>
                      <a:lnTo>
                        <a:pt x="2924" y="162"/>
                      </a:lnTo>
                      <a:lnTo>
                        <a:pt x="2925" y="161"/>
                      </a:lnTo>
                      <a:lnTo>
                        <a:pt x="2926" y="160"/>
                      </a:lnTo>
                      <a:lnTo>
                        <a:pt x="2928" y="160"/>
                      </a:lnTo>
                      <a:lnTo>
                        <a:pt x="2930" y="160"/>
                      </a:lnTo>
                      <a:lnTo>
                        <a:pt x="2931" y="161"/>
                      </a:lnTo>
                      <a:lnTo>
                        <a:pt x="2932" y="162"/>
                      </a:lnTo>
                      <a:lnTo>
                        <a:pt x="2933" y="164"/>
                      </a:lnTo>
                      <a:lnTo>
                        <a:pt x="2939" y="164"/>
                      </a:lnTo>
                      <a:lnTo>
                        <a:pt x="2939" y="162"/>
                      </a:lnTo>
                      <a:lnTo>
                        <a:pt x="2940" y="161"/>
                      </a:lnTo>
                      <a:lnTo>
                        <a:pt x="2942" y="160"/>
                      </a:lnTo>
                      <a:lnTo>
                        <a:pt x="2943" y="160"/>
                      </a:lnTo>
                      <a:lnTo>
                        <a:pt x="2945" y="160"/>
                      </a:lnTo>
                      <a:lnTo>
                        <a:pt x="2947" y="161"/>
                      </a:lnTo>
                      <a:lnTo>
                        <a:pt x="2947" y="162"/>
                      </a:lnTo>
                      <a:lnTo>
                        <a:pt x="2948" y="164"/>
                      </a:lnTo>
                      <a:lnTo>
                        <a:pt x="2986" y="164"/>
                      </a:lnTo>
                      <a:lnTo>
                        <a:pt x="2987" y="162"/>
                      </a:lnTo>
                      <a:lnTo>
                        <a:pt x="2987" y="161"/>
                      </a:lnTo>
                      <a:lnTo>
                        <a:pt x="2989" y="160"/>
                      </a:lnTo>
                      <a:lnTo>
                        <a:pt x="2991" y="160"/>
                      </a:lnTo>
                      <a:lnTo>
                        <a:pt x="2992" y="160"/>
                      </a:lnTo>
                      <a:lnTo>
                        <a:pt x="2994" y="161"/>
                      </a:lnTo>
                      <a:lnTo>
                        <a:pt x="2995" y="162"/>
                      </a:lnTo>
                      <a:lnTo>
                        <a:pt x="2995" y="164"/>
                      </a:lnTo>
                      <a:lnTo>
                        <a:pt x="3006" y="164"/>
                      </a:lnTo>
                      <a:lnTo>
                        <a:pt x="3007" y="162"/>
                      </a:lnTo>
                      <a:lnTo>
                        <a:pt x="3008" y="161"/>
                      </a:lnTo>
                      <a:lnTo>
                        <a:pt x="3009" y="160"/>
                      </a:lnTo>
                      <a:lnTo>
                        <a:pt x="3011" y="160"/>
                      </a:lnTo>
                      <a:lnTo>
                        <a:pt x="3013" y="160"/>
                      </a:lnTo>
                      <a:lnTo>
                        <a:pt x="3014" y="161"/>
                      </a:lnTo>
                      <a:lnTo>
                        <a:pt x="3015" y="162"/>
                      </a:lnTo>
                      <a:lnTo>
                        <a:pt x="3015" y="164"/>
                      </a:lnTo>
                      <a:lnTo>
                        <a:pt x="3059" y="164"/>
                      </a:lnTo>
                      <a:lnTo>
                        <a:pt x="3059" y="162"/>
                      </a:lnTo>
                      <a:lnTo>
                        <a:pt x="3060" y="161"/>
                      </a:lnTo>
                      <a:lnTo>
                        <a:pt x="3062" y="160"/>
                      </a:lnTo>
                      <a:lnTo>
                        <a:pt x="3063" y="160"/>
                      </a:lnTo>
                      <a:lnTo>
                        <a:pt x="3065" y="160"/>
                      </a:lnTo>
                      <a:lnTo>
                        <a:pt x="3066" y="161"/>
                      </a:lnTo>
                      <a:lnTo>
                        <a:pt x="3067" y="162"/>
                      </a:lnTo>
                      <a:lnTo>
                        <a:pt x="3068" y="164"/>
                      </a:lnTo>
                      <a:lnTo>
                        <a:pt x="3099" y="164"/>
                      </a:lnTo>
                      <a:lnTo>
                        <a:pt x="3099" y="162"/>
                      </a:lnTo>
                      <a:lnTo>
                        <a:pt x="3100" y="161"/>
                      </a:lnTo>
                      <a:lnTo>
                        <a:pt x="3102" y="160"/>
                      </a:lnTo>
                      <a:lnTo>
                        <a:pt x="3103" y="160"/>
                      </a:lnTo>
                      <a:lnTo>
                        <a:pt x="3105" y="160"/>
                      </a:lnTo>
                      <a:lnTo>
                        <a:pt x="3107" y="161"/>
                      </a:lnTo>
                      <a:lnTo>
                        <a:pt x="3107" y="162"/>
                      </a:lnTo>
                      <a:lnTo>
                        <a:pt x="3108" y="164"/>
                      </a:lnTo>
                      <a:lnTo>
                        <a:pt x="3111" y="164"/>
                      </a:lnTo>
                      <a:lnTo>
                        <a:pt x="3112" y="162"/>
                      </a:lnTo>
                      <a:lnTo>
                        <a:pt x="3112" y="161"/>
                      </a:lnTo>
                      <a:lnTo>
                        <a:pt x="3114" y="160"/>
                      </a:lnTo>
                      <a:lnTo>
                        <a:pt x="3116" y="160"/>
                      </a:lnTo>
                      <a:lnTo>
                        <a:pt x="3117" y="160"/>
                      </a:lnTo>
                      <a:lnTo>
                        <a:pt x="3119" y="161"/>
                      </a:lnTo>
                      <a:lnTo>
                        <a:pt x="3120" y="162"/>
                      </a:lnTo>
                      <a:lnTo>
                        <a:pt x="3120" y="164"/>
                      </a:lnTo>
                      <a:lnTo>
                        <a:pt x="3130" y="164"/>
                      </a:lnTo>
                      <a:lnTo>
                        <a:pt x="3130" y="162"/>
                      </a:lnTo>
                      <a:lnTo>
                        <a:pt x="3131" y="161"/>
                      </a:lnTo>
                      <a:lnTo>
                        <a:pt x="3132" y="160"/>
                      </a:lnTo>
                      <a:lnTo>
                        <a:pt x="3134" y="160"/>
                      </a:lnTo>
                      <a:lnTo>
                        <a:pt x="3136" y="160"/>
                      </a:lnTo>
                      <a:lnTo>
                        <a:pt x="3137" y="161"/>
                      </a:lnTo>
                      <a:lnTo>
                        <a:pt x="3138" y="162"/>
                      </a:lnTo>
                      <a:lnTo>
                        <a:pt x="3139" y="164"/>
                      </a:lnTo>
                      <a:lnTo>
                        <a:pt x="3168" y="164"/>
                      </a:lnTo>
                      <a:lnTo>
                        <a:pt x="3169" y="162"/>
                      </a:lnTo>
                      <a:lnTo>
                        <a:pt x="3170" y="161"/>
                      </a:lnTo>
                      <a:lnTo>
                        <a:pt x="3171" y="160"/>
                      </a:lnTo>
                      <a:lnTo>
                        <a:pt x="3173" y="160"/>
                      </a:lnTo>
                      <a:lnTo>
                        <a:pt x="3175" y="160"/>
                      </a:lnTo>
                      <a:lnTo>
                        <a:pt x="3176" y="161"/>
                      </a:lnTo>
                      <a:lnTo>
                        <a:pt x="3177" y="162"/>
                      </a:lnTo>
                      <a:lnTo>
                        <a:pt x="3178" y="164"/>
                      </a:lnTo>
                      <a:lnTo>
                        <a:pt x="3190" y="164"/>
                      </a:lnTo>
                      <a:lnTo>
                        <a:pt x="3190" y="162"/>
                      </a:lnTo>
                      <a:lnTo>
                        <a:pt x="3191" y="161"/>
                      </a:lnTo>
                      <a:lnTo>
                        <a:pt x="3192" y="160"/>
                      </a:lnTo>
                      <a:lnTo>
                        <a:pt x="3194" y="160"/>
                      </a:lnTo>
                      <a:lnTo>
                        <a:pt x="3196" y="160"/>
                      </a:lnTo>
                      <a:lnTo>
                        <a:pt x="3197" y="161"/>
                      </a:lnTo>
                      <a:lnTo>
                        <a:pt x="3198" y="162"/>
                      </a:lnTo>
                      <a:lnTo>
                        <a:pt x="3199" y="164"/>
                      </a:lnTo>
                      <a:lnTo>
                        <a:pt x="3283" y="164"/>
                      </a:lnTo>
                      <a:lnTo>
                        <a:pt x="3284" y="162"/>
                      </a:lnTo>
                      <a:lnTo>
                        <a:pt x="3285" y="161"/>
                      </a:lnTo>
                      <a:lnTo>
                        <a:pt x="3286" y="160"/>
                      </a:lnTo>
                      <a:lnTo>
                        <a:pt x="3288" y="160"/>
                      </a:lnTo>
                      <a:lnTo>
                        <a:pt x="3290" y="160"/>
                      </a:lnTo>
                      <a:lnTo>
                        <a:pt x="3291" y="161"/>
                      </a:lnTo>
                      <a:lnTo>
                        <a:pt x="3292" y="162"/>
                      </a:lnTo>
                      <a:lnTo>
                        <a:pt x="3292" y="164"/>
                      </a:lnTo>
                      <a:lnTo>
                        <a:pt x="3304" y="164"/>
                      </a:lnTo>
                      <a:lnTo>
                        <a:pt x="3304" y="162"/>
                      </a:lnTo>
                      <a:lnTo>
                        <a:pt x="3305" y="161"/>
                      </a:lnTo>
                      <a:lnTo>
                        <a:pt x="3306" y="160"/>
                      </a:lnTo>
                      <a:lnTo>
                        <a:pt x="3308" y="160"/>
                      </a:lnTo>
                      <a:lnTo>
                        <a:pt x="3310" y="160"/>
                      </a:lnTo>
                      <a:lnTo>
                        <a:pt x="3311" y="161"/>
                      </a:lnTo>
                      <a:lnTo>
                        <a:pt x="3312" y="162"/>
                      </a:lnTo>
                      <a:lnTo>
                        <a:pt x="3313" y="164"/>
                      </a:lnTo>
                      <a:lnTo>
                        <a:pt x="3331" y="164"/>
                      </a:lnTo>
                      <a:lnTo>
                        <a:pt x="3331" y="162"/>
                      </a:lnTo>
                      <a:lnTo>
                        <a:pt x="3332" y="161"/>
                      </a:lnTo>
                      <a:lnTo>
                        <a:pt x="3333" y="160"/>
                      </a:lnTo>
                      <a:lnTo>
                        <a:pt x="3335" y="160"/>
                      </a:lnTo>
                      <a:lnTo>
                        <a:pt x="3337" y="160"/>
                      </a:lnTo>
                      <a:lnTo>
                        <a:pt x="3338" y="161"/>
                      </a:lnTo>
                      <a:lnTo>
                        <a:pt x="3339" y="162"/>
                      </a:lnTo>
                      <a:lnTo>
                        <a:pt x="3340" y="164"/>
                      </a:lnTo>
                      <a:lnTo>
                        <a:pt x="3375" y="164"/>
                      </a:lnTo>
                      <a:lnTo>
                        <a:pt x="3375" y="162"/>
                      </a:lnTo>
                      <a:lnTo>
                        <a:pt x="3376" y="161"/>
                      </a:lnTo>
                      <a:lnTo>
                        <a:pt x="3377" y="160"/>
                      </a:lnTo>
                      <a:lnTo>
                        <a:pt x="3379" y="160"/>
                      </a:lnTo>
                      <a:lnTo>
                        <a:pt x="3381" y="160"/>
                      </a:lnTo>
                      <a:lnTo>
                        <a:pt x="3382" y="161"/>
                      </a:lnTo>
                      <a:lnTo>
                        <a:pt x="3383" y="162"/>
                      </a:lnTo>
                      <a:lnTo>
                        <a:pt x="3384" y="164"/>
                      </a:lnTo>
                      <a:lnTo>
                        <a:pt x="3391" y="164"/>
                      </a:lnTo>
                      <a:lnTo>
                        <a:pt x="3391" y="162"/>
                      </a:lnTo>
                      <a:lnTo>
                        <a:pt x="3392" y="161"/>
                      </a:lnTo>
                      <a:lnTo>
                        <a:pt x="3394" y="160"/>
                      </a:lnTo>
                      <a:lnTo>
                        <a:pt x="3395" y="160"/>
                      </a:lnTo>
                      <a:lnTo>
                        <a:pt x="3397" y="160"/>
                      </a:lnTo>
                      <a:lnTo>
                        <a:pt x="3399" y="161"/>
                      </a:lnTo>
                      <a:lnTo>
                        <a:pt x="3400" y="162"/>
                      </a:lnTo>
                      <a:lnTo>
                        <a:pt x="3400" y="164"/>
                      </a:lnTo>
                      <a:lnTo>
                        <a:pt x="3423" y="164"/>
                      </a:lnTo>
                      <a:lnTo>
                        <a:pt x="3423" y="162"/>
                      </a:lnTo>
                      <a:lnTo>
                        <a:pt x="3424" y="161"/>
                      </a:lnTo>
                      <a:lnTo>
                        <a:pt x="3426" y="160"/>
                      </a:lnTo>
                      <a:lnTo>
                        <a:pt x="3428" y="160"/>
                      </a:lnTo>
                      <a:lnTo>
                        <a:pt x="3429" y="160"/>
                      </a:lnTo>
                      <a:lnTo>
                        <a:pt x="3431" y="161"/>
                      </a:lnTo>
                      <a:lnTo>
                        <a:pt x="3432" y="162"/>
                      </a:lnTo>
                      <a:lnTo>
                        <a:pt x="3432" y="164"/>
                      </a:lnTo>
                      <a:lnTo>
                        <a:pt x="3434" y="164"/>
                      </a:lnTo>
                      <a:lnTo>
                        <a:pt x="3435" y="162"/>
                      </a:lnTo>
                      <a:lnTo>
                        <a:pt x="3436" y="161"/>
                      </a:lnTo>
                      <a:lnTo>
                        <a:pt x="3437" y="160"/>
                      </a:lnTo>
                      <a:lnTo>
                        <a:pt x="3439" y="160"/>
                      </a:lnTo>
                      <a:lnTo>
                        <a:pt x="3441" y="160"/>
                      </a:lnTo>
                      <a:lnTo>
                        <a:pt x="3442" y="161"/>
                      </a:lnTo>
                      <a:lnTo>
                        <a:pt x="3443" y="162"/>
                      </a:lnTo>
                      <a:lnTo>
                        <a:pt x="3443" y="164"/>
                      </a:lnTo>
                      <a:lnTo>
                        <a:pt x="3466" y="164"/>
                      </a:lnTo>
                      <a:lnTo>
                        <a:pt x="3466" y="162"/>
                      </a:lnTo>
                      <a:lnTo>
                        <a:pt x="3467" y="161"/>
                      </a:lnTo>
                      <a:lnTo>
                        <a:pt x="3469" y="160"/>
                      </a:lnTo>
                      <a:lnTo>
                        <a:pt x="3470" y="160"/>
                      </a:lnTo>
                      <a:lnTo>
                        <a:pt x="3472" y="160"/>
                      </a:lnTo>
                      <a:lnTo>
                        <a:pt x="3473" y="161"/>
                      </a:lnTo>
                      <a:lnTo>
                        <a:pt x="3474" y="162"/>
                      </a:lnTo>
                      <a:lnTo>
                        <a:pt x="3475" y="164"/>
                      </a:lnTo>
                      <a:lnTo>
                        <a:pt x="3506" y="164"/>
                      </a:lnTo>
                      <a:lnTo>
                        <a:pt x="3507" y="162"/>
                      </a:lnTo>
                      <a:lnTo>
                        <a:pt x="3508" y="161"/>
                      </a:lnTo>
                      <a:lnTo>
                        <a:pt x="3509" y="160"/>
                      </a:lnTo>
                      <a:lnTo>
                        <a:pt x="3511" y="160"/>
                      </a:lnTo>
                      <a:lnTo>
                        <a:pt x="3513" y="160"/>
                      </a:lnTo>
                      <a:lnTo>
                        <a:pt x="3514" y="161"/>
                      </a:lnTo>
                      <a:lnTo>
                        <a:pt x="3515" y="162"/>
                      </a:lnTo>
                      <a:lnTo>
                        <a:pt x="3515" y="164"/>
                      </a:lnTo>
                      <a:lnTo>
                        <a:pt x="3541" y="164"/>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891240" y="3877920"/>
                  <a:ext cx="14760" cy="1152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ff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3" name=""/>
                <p:cNvSpPr/>
                <p:nvPr/>
              </p:nvSpPr>
              <p:spPr>
                <a:xfrm>
                  <a:off x="5814720" y="2395080"/>
                  <a:ext cx="2819160" cy="2207520"/>
                </a:xfrm>
                <a:custGeom>
                  <a:avLst/>
                  <a:gdLst/>
                  <a:ahLst/>
                  <a:rect l="l" t="t" r="r" b="b"/>
                  <a:pathLst>
                    <a:path w="2663" h="1653">
                      <a:moveTo>
                        <a:pt x="0" y="1653"/>
                      </a:moveTo>
                      <a:lnTo>
                        <a:pt x="80" y="1653"/>
                      </a:lnTo>
                      <a:lnTo>
                        <a:pt x="81" y="1651"/>
                      </a:lnTo>
                      <a:lnTo>
                        <a:pt x="82" y="1650"/>
                      </a:lnTo>
                      <a:lnTo>
                        <a:pt x="83" y="1649"/>
                      </a:lnTo>
                      <a:lnTo>
                        <a:pt x="85" y="1649"/>
                      </a:lnTo>
                      <a:lnTo>
                        <a:pt x="86" y="1649"/>
                      </a:lnTo>
                      <a:lnTo>
                        <a:pt x="88" y="1650"/>
                      </a:lnTo>
                      <a:lnTo>
                        <a:pt x="89" y="1651"/>
                      </a:lnTo>
                      <a:lnTo>
                        <a:pt x="89" y="1653"/>
                      </a:lnTo>
                      <a:lnTo>
                        <a:pt x="132" y="1653"/>
                      </a:lnTo>
                      <a:lnTo>
                        <a:pt x="132" y="1651"/>
                      </a:lnTo>
                      <a:lnTo>
                        <a:pt x="133" y="1650"/>
                      </a:lnTo>
                      <a:lnTo>
                        <a:pt x="135" y="1649"/>
                      </a:lnTo>
                      <a:lnTo>
                        <a:pt x="137" y="1649"/>
                      </a:lnTo>
                      <a:lnTo>
                        <a:pt x="138" y="1649"/>
                      </a:lnTo>
                      <a:lnTo>
                        <a:pt x="140" y="1650"/>
                      </a:lnTo>
                      <a:lnTo>
                        <a:pt x="141" y="1651"/>
                      </a:lnTo>
                      <a:lnTo>
                        <a:pt x="141" y="1653"/>
                      </a:lnTo>
                      <a:lnTo>
                        <a:pt x="186" y="1653"/>
                      </a:lnTo>
                      <a:lnTo>
                        <a:pt x="186" y="1651"/>
                      </a:lnTo>
                      <a:lnTo>
                        <a:pt x="187" y="1650"/>
                      </a:lnTo>
                      <a:lnTo>
                        <a:pt x="189" y="1649"/>
                      </a:lnTo>
                      <a:lnTo>
                        <a:pt x="191" y="1649"/>
                      </a:lnTo>
                      <a:lnTo>
                        <a:pt x="192" y="1649"/>
                      </a:lnTo>
                      <a:lnTo>
                        <a:pt x="194" y="1650"/>
                      </a:lnTo>
                      <a:lnTo>
                        <a:pt x="195" y="1651"/>
                      </a:lnTo>
                      <a:lnTo>
                        <a:pt x="195" y="1653"/>
                      </a:lnTo>
                      <a:lnTo>
                        <a:pt x="319" y="1653"/>
                      </a:lnTo>
                      <a:lnTo>
                        <a:pt x="319" y="1651"/>
                      </a:lnTo>
                      <a:lnTo>
                        <a:pt x="320" y="1650"/>
                      </a:lnTo>
                      <a:lnTo>
                        <a:pt x="322" y="1649"/>
                      </a:lnTo>
                      <a:lnTo>
                        <a:pt x="323" y="1649"/>
                      </a:lnTo>
                      <a:lnTo>
                        <a:pt x="325" y="1649"/>
                      </a:lnTo>
                      <a:lnTo>
                        <a:pt x="326" y="1650"/>
                      </a:lnTo>
                      <a:lnTo>
                        <a:pt x="327" y="1651"/>
                      </a:lnTo>
                      <a:lnTo>
                        <a:pt x="328" y="1653"/>
                      </a:lnTo>
                      <a:lnTo>
                        <a:pt x="493" y="1653"/>
                      </a:lnTo>
                      <a:lnTo>
                        <a:pt x="494" y="1651"/>
                      </a:lnTo>
                      <a:lnTo>
                        <a:pt x="494" y="1650"/>
                      </a:lnTo>
                      <a:lnTo>
                        <a:pt x="496" y="1649"/>
                      </a:lnTo>
                      <a:lnTo>
                        <a:pt x="498" y="1649"/>
                      </a:lnTo>
                      <a:lnTo>
                        <a:pt x="499" y="1649"/>
                      </a:lnTo>
                      <a:lnTo>
                        <a:pt x="501" y="1650"/>
                      </a:lnTo>
                      <a:lnTo>
                        <a:pt x="502" y="1651"/>
                      </a:lnTo>
                      <a:lnTo>
                        <a:pt x="502" y="1653"/>
                      </a:lnTo>
                      <a:lnTo>
                        <a:pt x="681" y="1653"/>
                      </a:lnTo>
                      <a:lnTo>
                        <a:pt x="681" y="1651"/>
                      </a:lnTo>
                      <a:lnTo>
                        <a:pt x="682" y="1650"/>
                      </a:lnTo>
                      <a:lnTo>
                        <a:pt x="684" y="1649"/>
                      </a:lnTo>
                      <a:lnTo>
                        <a:pt x="685" y="1649"/>
                      </a:lnTo>
                      <a:lnTo>
                        <a:pt x="687" y="1649"/>
                      </a:lnTo>
                      <a:lnTo>
                        <a:pt x="688" y="1650"/>
                      </a:lnTo>
                      <a:lnTo>
                        <a:pt x="689" y="1651"/>
                      </a:lnTo>
                      <a:lnTo>
                        <a:pt x="690" y="1653"/>
                      </a:lnTo>
                      <a:lnTo>
                        <a:pt x="972" y="1653"/>
                      </a:lnTo>
                      <a:lnTo>
                        <a:pt x="972" y="1651"/>
                      </a:lnTo>
                      <a:lnTo>
                        <a:pt x="973" y="1650"/>
                      </a:lnTo>
                      <a:lnTo>
                        <a:pt x="975" y="1649"/>
                      </a:lnTo>
                      <a:lnTo>
                        <a:pt x="976" y="1649"/>
                      </a:lnTo>
                      <a:lnTo>
                        <a:pt x="978" y="1649"/>
                      </a:lnTo>
                      <a:lnTo>
                        <a:pt x="979" y="1650"/>
                      </a:lnTo>
                      <a:lnTo>
                        <a:pt x="980" y="1651"/>
                      </a:lnTo>
                      <a:lnTo>
                        <a:pt x="981" y="1653"/>
                      </a:lnTo>
                      <a:lnTo>
                        <a:pt x="1181" y="1653"/>
                      </a:lnTo>
                      <a:lnTo>
                        <a:pt x="1182" y="1651"/>
                      </a:lnTo>
                      <a:lnTo>
                        <a:pt x="1182" y="1650"/>
                      </a:lnTo>
                      <a:lnTo>
                        <a:pt x="1184" y="1649"/>
                      </a:lnTo>
                      <a:lnTo>
                        <a:pt x="1186" y="1649"/>
                      </a:lnTo>
                      <a:lnTo>
                        <a:pt x="1187" y="1649"/>
                      </a:lnTo>
                      <a:lnTo>
                        <a:pt x="1189" y="1650"/>
                      </a:lnTo>
                      <a:lnTo>
                        <a:pt x="1190" y="1651"/>
                      </a:lnTo>
                      <a:lnTo>
                        <a:pt x="1190" y="1653"/>
                      </a:lnTo>
                      <a:lnTo>
                        <a:pt x="1201" y="1653"/>
                      </a:lnTo>
                      <a:lnTo>
                        <a:pt x="1202" y="1651"/>
                      </a:lnTo>
                      <a:lnTo>
                        <a:pt x="1203" y="1650"/>
                      </a:lnTo>
                      <a:lnTo>
                        <a:pt x="1204" y="1649"/>
                      </a:lnTo>
                      <a:lnTo>
                        <a:pt x="1206" y="1649"/>
                      </a:lnTo>
                      <a:lnTo>
                        <a:pt x="1208" y="1649"/>
                      </a:lnTo>
                      <a:lnTo>
                        <a:pt x="1209" y="1650"/>
                      </a:lnTo>
                      <a:lnTo>
                        <a:pt x="1210" y="1651"/>
                      </a:lnTo>
                      <a:lnTo>
                        <a:pt x="1210" y="1653"/>
                      </a:lnTo>
                      <a:lnTo>
                        <a:pt x="1235" y="1653"/>
                      </a:lnTo>
                      <a:lnTo>
                        <a:pt x="1236" y="1651"/>
                      </a:lnTo>
                      <a:lnTo>
                        <a:pt x="1237" y="1650"/>
                      </a:lnTo>
                      <a:lnTo>
                        <a:pt x="1238" y="1649"/>
                      </a:lnTo>
                      <a:lnTo>
                        <a:pt x="1240" y="1649"/>
                      </a:lnTo>
                      <a:lnTo>
                        <a:pt x="1241" y="1649"/>
                      </a:lnTo>
                      <a:lnTo>
                        <a:pt x="1243" y="1650"/>
                      </a:lnTo>
                      <a:lnTo>
                        <a:pt x="1244" y="1651"/>
                      </a:lnTo>
                      <a:lnTo>
                        <a:pt x="1244" y="1653"/>
                      </a:lnTo>
                      <a:lnTo>
                        <a:pt x="1254" y="1653"/>
                      </a:lnTo>
                      <a:lnTo>
                        <a:pt x="1254" y="1651"/>
                      </a:lnTo>
                      <a:lnTo>
                        <a:pt x="1255" y="1650"/>
                      </a:lnTo>
                      <a:lnTo>
                        <a:pt x="1257" y="1649"/>
                      </a:lnTo>
                      <a:lnTo>
                        <a:pt x="1258" y="1649"/>
                      </a:lnTo>
                      <a:lnTo>
                        <a:pt x="1260" y="1649"/>
                      </a:lnTo>
                      <a:lnTo>
                        <a:pt x="1262" y="1650"/>
                      </a:lnTo>
                      <a:lnTo>
                        <a:pt x="1262" y="1651"/>
                      </a:lnTo>
                      <a:lnTo>
                        <a:pt x="1263" y="1653"/>
                      </a:lnTo>
                      <a:lnTo>
                        <a:pt x="1325" y="1653"/>
                      </a:lnTo>
                      <a:lnTo>
                        <a:pt x="1325" y="1651"/>
                      </a:lnTo>
                      <a:lnTo>
                        <a:pt x="1326" y="1650"/>
                      </a:lnTo>
                      <a:lnTo>
                        <a:pt x="1327" y="1649"/>
                      </a:lnTo>
                      <a:lnTo>
                        <a:pt x="1329" y="1649"/>
                      </a:lnTo>
                      <a:lnTo>
                        <a:pt x="1331" y="1649"/>
                      </a:lnTo>
                      <a:lnTo>
                        <a:pt x="1332" y="1650"/>
                      </a:lnTo>
                      <a:lnTo>
                        <a:pt x="1333" y="1651"/>
                      </a:lnTo>
                      <a:lnTo>
                        <a:pt x="1334" y="1653"/>
                      </a:lnTo>
                      <a:lnTo>
                        <a:pt x="1358" y="1653"/>
                      </a:lnTo>
                      <a:lnTo>
                        <a:pt x="1359" y="1651"/>
                      </a:lnTo>
                      <a:lnTo>
                        <a:pt x="1360" y="1650"/>
                      </a:lnTo>
                      <a:lnTo>
                        <a:pt x="1361" y="1649"/>
                      </a:lnTo>
                      <a:lnTo>
                        <a:pt x="1363" y="1649"/>
                      </a:lnTo>
                      <a:lnTo>
                        <a:pt x="1365" y="1649"/>
                      </a:lnTo>
                      <a:lnTo>
                        <a:pt x="1366" y="1650"/>
                      </a:lnTo>
                      <a:lnTo>
                        <a:pt x="1367" y="1651"/>
                      </a:lnTo>
                      <a:lnTo>
                        <a:pt x="1367" y="1653"/>
                      </a:lnTo>
                      <a:lnTo>
                        <a:pt x="2132" y="1653"/>
                      </a:lnTo>
                      <a:lnTo>
                        <a:pt x="2132" y="1651"/>
                      </a:lnTo>
                      <a:lnTo>
                        <a:pt x="2133" y="1650"/>
                      </a:lnTo>
                      <a:lnTo>
                        <a:pt x="2135" y="1649"/>
                      </a:lnTo>
                      <a:lnTo>
                        <a:pt x="2136" y="1649"/>
                      </a:lnTo>
                      <a:lnTo>
                        <a:pt x="2138" y="1649"/>
                      </a:lnTo>
                      <a:lnTo>
                        <a:pt x="2140" y="1650"/>
                      </a:lnTo>
                      <a:lnTo>
                        <a:pt x="2141" y="1651"/>
                      </a:lnTo>
                      <a:lnTo>
                        <a:pt x="2141" y="1653"/>
                      </a:lnTo>
                      <a:lnTo>
                        <a:pt x="2182" y="1653"/>
                      </a:lnTo>
                      <a:lnTo>
                        <a:pt x="2183" y="1651"/>
                      </a:lnTo>
                      <a:lnTo>
                        <a:pt x="2184" y="1650"/>
                      </a:lnTo>
                      <a:lnTo>
                        <a:pt x="2185" y="1649"/>
                      </a:lnTo>
                      <a:lnTo>
                        <a:pt x="2187" y="1649"/>
                      </a:lnTo>
                      <a:lnTo>
                        <a:pt x="2189" y="1649"/>
                      </a:lnTo>
                      <a:lnTo>
                        <a:pt x="2190" y="1650"/>
                      </a:lnTo>
                      <a:lnTo>
                        <a:pt x="2191" y="1651"/>
                      </a:lnTo>
                      <a:lnTo>
                        <a:pt x="2191" y="1653"/>
                      </a:lnTo>
                      <a:lnTo>
                        <a:pt x="2282" y="1653"/>
                      </a:lnTo>
                      <a:lnTo>
                        <a:pt x="2282" y="1530"/>
                      </a:lnTo>
                      <a:lnTo>
                        <a:pt x="2539" y="1530"/>
                      </a:lnTo>
                      <a:lnTo>
                        <a:pt x="2539" y="1529"/>
                      </a:lnTo>
                      <a:lnTo>
                        <a:pt x="2540" y="1528"/>
                      </a:lnTo>
                      <a:lnTo>
                        <a:pt x="2542" y="1527"/>
                      </a:lnTo>
                      <a:lnTo>
                        <a:pt x="2544" y="1527"/>
                      </a:lnTo>
                      <a:lnTo>
                        <a:pt x="2545" y="1527"/>
                      </a:lnTo>
                      <a:lnTo>
                        <a:pt x="2547" y="1528"/>
                      </a:lnTo>
                      <a:lnTo>
                        <a:pt x="2548" y="1529"/>
                      </a:lnTo>
                      <a:lnTo>
                        <a:pt x="2548" y="1530"/>
                      </a:lnTo>
                      <a:lnTo>
                        <a:pt x="2572" y="1530"/>
                      </a:lnTo>
                      <a:lnTo>
                        <a:pt x="2572" y="1529"/>
                      </a:lnTo>
                      <a:lnTo>
                        <a:pt x="2574" y="1528"/>
                      </a:lnTo>
                      <a:lnTo>
                        <a:pt x="2575" y="1527"/>
                      </a:lnTo>
                      <a:lnTo>
                        <a:pt x="2577" y="1527"/>
                      </a:lnTo>
                      <a:lnTo>
                        <a:pt x="2578" y="1527"/>
                      </a:lnTo>
                      <a:lnTo>
                        <a:pt x="2580" y="1528"/>
                      </a:lnTo>
                      <a:lnTo>
                        <a:pt x="2581" y="1529"/>
                      </a:lnTo>
                      <a:lnTo>
                        <a:pt x="2581" y="1530"/>
                      </a:lnTo>
                      <a:lnTo>
                        <a:pt x="2611" y="1530"/>
                      </a:lnTo>
                      <a:lnTo>
                        <a:pt x="2611" y="1529"/>
                      </a:lnTo>
                      <a:lnTo>
                        <a:pt x="2612" y="1528"/>
                      </a:lnTo>
                      <a:lnTo>
                        <a:pt x="2613" y="1527"/>
                      </a:lnTo>
                      <a:lnTo>
                        <a:pt x="2615" y="1527"/>
                      </a:lnTo>
                      <a:lnTo>
                        <a:pt x="2617" y="1527"/>
                      </a:lnTo>
                      <a:lnTo>
                        <a:pt x="2618" y="1528"/>
                      </a:lnTo>
                      <a:lnTo>
                        <a:pt x="2619" y="1529"/>
                      </a:lnTo>
                      <a:lnTo>
                        <a:pt x="2620" y="1530"/>
                      </a:lnTo>
                      <a:lnTo>
                        <a:pt x="2663" y="1530"/>
                      </a:lnTo>
                      <a:lnTo>
                        <a:pt x="2663" y="4"/>
                      </a:lnTo>
                      <a:lnTo>
                        <a:pt x="2620" y="4"/>
                      </a:lnTo>
                      <a:lnTo>
                        <a:pt x="2619" y="3"/>
                      </a:lnTo>
                      <a:lnTo>
                        <a:pt x="2618" y="2"/>
                      </a:lnTo>
                      <a:lnTo>
                        <a:pt x="2617" y="1"/>
                      </a:lnTo>
                      <a:lnTo>
                        <a:pt x="2615" y="0"/>
                      </a:lnTo>
                      <a:lnTo>
                        <a:pt x="2613" y="1"/>
                      </a:lnTo>
                      <a:lnTo>
                        <a:pt x="2612" y="2"/>
                      </a:lnTo>
                      <a:lnTo>
                        <a:pt x="2611" y="3"/>
                      </a:lnTo>
                      <a:lnTo>
                        <a:pt x="2611" y="4"/>
                      </a:lnTo>
                      <a:lnTo>
                        <a:pt x="2606" y="4"/>
                      </a:lnTo>
                      <a:lnTo>
                        <a:pt x="2606" y="3"/>
                      </a:lnTo>
                      <a:lnTo>
                        <a:pt x="2605" y="2"/>
                      </a:lnTo>
                      <a:lnTo>
                        <a:pt x="2603" y="1"/>
                      </a:lnTo>
                      <a:lnTo>
                        <a:pt x="2602" y="0"/>
                      </a:lnTo>
                      <a:lnTo>
                        <a:pt x="2600" y="1"/>
                      </a:lnTo>
                      <a:lnTo>
                        <a:pt x="2598" y="2"/>
                      </a:lnTo>
                      <a:lnTo>
                        <a:pt x="2597" y="3"/>
                      </a:lnTo>
                      <a:lnTo>
                        <a:pt x="2597" y="4"/>
                      </a:lnTo>
                      <a:lnTo>
                        <a:pt x="2593" y="4"/>
                      </a:lnTo>
                      <a:lnTo>
                        <a:pt x="2592" y="3"/>
                      </a:lnTo>
                      <a:lnTo>
                        <a:pt x="2591" y="2"/>
                      </a:lnTo>
                      <a:lnTo>
                        <a:pt x="2590" y="1"/>
                      </a:lnTo>
                      <a:lnTo>
                        <a:pt x="2588" y="0"/>
                      </a:lnTo>
                      <a:lnTo>
                        <a:pt x="2586" y="1"/>
                      </a:lnTo>
                      <a:lnTo>
                        <a:pt x="2585" y="2"/>
                      </a:lnTo>
                      <a:lnTo>
                        <a:pt x="2584" y="3"/>
                      </a:lnTo>
                      <a:lnTo>
                        <a:pt x="2584" y="4"/>
                      </a:lnTo>
                      <a:lnTo>
                        <a:pt x="2568" y="4"/>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802120" y="4596480"/>
                  <a:ext cx="1440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15" name=""/>
                <p:cNvSpPr/>
                <p:nvPr/>
              </p:nvSpPr>
              <p:spPr>
                <a:xfrm>
                  <a:off x="6721920" y="2359080"/>
                  <a:ext cx="1474200" cy="465840"/>
                </a:xfrm>
                <a:custGeom>
                  <a:avLst/>
                  <a:gdLst/>
                  <a:ahLst/>
                  <a:rect l="l" t="t" r="r" b="b"/>
                  <a:pathLst>
                    <a:path w="1393" h="349">
                      <a:moveTo>
                        <a:pt x="1393" y="9"/>
                      </a:moveTo>
                      <a:lnTo>
                        <a:pt x="1387" y="9"/>
                      </a:lnTo>
                      <a:lnTo>
                        <a:pt x="1387" y="7"/>
                      </a:lnTo>
                      <a:lnTo>
                        <a:pt x="1386" y="6"/>
                      </a:lnTo>
                      <a:lnTo>
                        <a:pt x="1385" y="5"/>
                      </a:lnTo>
                      <a:lnTo>
                        <a:pt x="1383" y="5"/>
                      </a:lnTo>
                      <a:lnTo>
                        <a:pt x="1382" y="5"/>
                      </a:lnTo>
                      <a:lnTo>
                        <a:pt x="1380" y="5"/>
                      </a:lnTo>
                      <a:lnTo>
                        <a:pt x="1378" y="6"/>
                      </a:lnTo>
                      <a:lnTo>
                        <a:pt x="1378" y="7"/>
                      </a:lnTo>
                      <a:lnTo>
                        <a:pt x="1377" y="9"/>
                      </a:lnTo>
                      <a:lnTo>
                        <a:pt x="1334" y="9"/>
                      </a:lnTo>
                      <a:lnTo>
                        <a:pt x="1334" y="7"/>
                      </a:lnTo>
                      <a:lnTo>
                        <a:pt x="1333" y="6"/>
                      </a:lnTo>
                      <a:lnTo>
                        <a:pt x="1332" y="5"/>
                      </a:lnTo>
                      <a:lnTo>
                        <a:pt x="1330" y="5"/>
                      </a:lnTo>
                      <a:lnTo>
                        <a:pt x="1328" y="5"/>
                      </a:lnTo>
                      <a:lnTo>
                        <a:pt x="1327" y="6"/>
                      </a:lnTo>
                      <a:lnTo>
                        <a:pt x="1326" y="7"/>
                      </a:lnTo>
                      <a:lnTo>
                        <a:pt x="1325" y="9"/>
                      </a:lnTo>
                      <a:lnTo>
                        <a:pt x="1238" y="9"/>
                      </a:lnTo>
                      <a:lnTo>
                        <a:pt x="1238" y="7"/>
                      </a:lnTo>
                      <a:lnTo>
                        <a:pt x="1237" y="6"/>
                      </a:lnTo>
                      <a:lnTo>
                        <a:pt x="1235" y="5"/>
                      </a:lnTo>
                      <a:lnTo>
                        <a:pt x="1234" y="5"/>
                      </a:lnTo>
                      <a:lnTo>
                        <a:pt x="1232" y="5"/>
                      </a:lnTo>
                      <a:lnTo>
                        <a:pt x="1231" y="6"/>
                      </a:lnTo>
                      <a:lnTo>
                        <a:pt x="1230" y="7"/>
                      </a:lnTo>
                      <a:lnTo>
                        <a:pt x="1229" y="9"/>
                      </a:lnTo>
                      <a:lnTo>
                        <a:pt x="1150" y="9"/>
                      </a:lnTo>
                      <a:lnTo>
                        <a:pt x="1150" y="7"/>
                      </a:lnTo>
                      <a:lnTo>
                        <a:pt x="1149" y="6"/>
                      </a:lnTo>
                      <a:lnTo>
                        <a:pt x="1148" y="5"/>
                      </a:lnTo>
                      <a:lnTo>
                        <a:pt x="1146" y="5"/>
                      </a:lnTo>
                      <a:lnTo>
                        <a:pt x="1144" y="5"/>
                      </a:lnTo>
                      <a:lnTo>
                        <a:pt x="1143" y="6"/>
                      </a:lnTo>
                      <a:lnTo>
                        <a:pt x="1142" y="7"/>
                      </a:lnTo>
                      <a:lnTo>
                        <a:pt x="1141" y="9"/>
                      </a:lnTo>
                      <a:lnTo>
                        <a:pt x="1076" y="9"/>
                      </a:lnTo>
                      <a:lnTo>
                        <a:pt x="1076" y="7"/>
                      </a:lnTo>
                      <a:lnTo>
                        <a:pt x="1075" y="6"/>
                      </a:lnTo>
                      <a:lnTo>
                        <a:pt x="1073" y="5"/>
                      </a:lnTo>
                      <a:lnTo>
                        <a:pt x="1072" y="5"/>
                      </a:lnTo>
                      <a:lnTo>
                        <a:pt x="1070" y="5"/>
                      </a:lnTo>
                      <a:lnTo>
                        <a:pt x="1068" y="6"/>
                      </a:lnTo>
                      <a:lnTo>
                        <a:pt x="1068" y="7"/>
                      </a:lnTo>
                      <a:lnTo>
                        <a:pt x="1067" y="9"/>
                      </a:lnTo>
                      <a:lnTo>
                        <a:pt x="1054" y="9"/>
                      </a:lnTo>
                      <a:lnTo>
                        <a:pt x="1054" y="3"/>
                      </a:lnTo>
                      <a:lnTo>
                        <a:pt x="774" y="3"/>
                      </a:lnTo>
                      <a:lnTo>
                        <a:pt x="774" y="2"/>
                      </a:lnTo>
                      <a:lnTo>
                        <a:pt x="773" y="1"/>
                      </a:lnTo>
                      <a:lnTo>
                        <a:pt x="771" y="0"/>
                      </a:lnTo>
                      <a:lnTo>
                        <a:pt x="769" y="0"/>
                      </a:lnTo>
                      <a:lnTo>
                        <a:pt x="768" y="0"/>
                      </a:lnTo>
                      <a:lnTo>
                        <a:pt x="766" y="1"/>
                      </a:lnTo>
                      <a:lnTo>
                        <a:pt x="765" y="2"/>
                      </a:lnTo>
                      <a:lnTo>
                        <a:pt x="765" y="3"/>
                      </a:lnTo>
                      <a:lnTo>
                        <a:pt x="651" y="3"/>
                      </a:lnTo>
                      <a:lnTo>
                        <a:pt x="650" y="2"/>
                      </a:lnTo>
                      <a:lnTo>
                        <a:pt x="649" y="1"/>
                      </a:lnTo>
                      <a:lnTo>
                        <a:pt x="648" y="0"/>
                      </a:lnTo>
                      <a:lnTo>
                        <a:pt x="646" y="0"/>
                      </a:lnTo>
                      <a:lnTo>
                        <a:pt x="644" y="0"/>
                      </a:lnTo>
                      <a:lnTo>
                        <a:pt x="643" y="1"/>
                      </a:lnTo>
                      <a:lnTo>
                        <a:pt x="642" y="2"/>
                      </a:lnTo>
                      <a:lnTo>
                        <a:pt x="642" y="3"/>
                      </a:lnTo>
                      <a:lnTo>
                        <a:pt x="617" y="3"/>
                      </a:lnTo>
                      <a:lnTo>
                        <a:pt x="617" y="2"/>
                      </a:lnTo>
                      <a:lnTo>
                        <a:pt x="615" y="1"/>
                      </a:lnTo>
                      <a:lnTo>
                        <a:pt x="614" y="0"/>
                      </a:lnTo>
                      <a:lnTo>
                        <a:pt x="612" y="0"/>
                      </a:lnTo>
                      <a:lnTo>
                        <a:pt x="611" y="0"/>
                      </a:lnTo>
                      <a:lnTo>
                        <a:pt x="609" y="1"/>
                      </a:lnTo>
                      <a:lnTo>
                        <a:pt x="608" y="2"/>
                      </a:lnTo>
                      <a:lnTo>
                        <a:pt x="608" y="3"/>
                      </a:lnTo>
                      <a:lnTo>
                        <a:pt x="590" y="3"/>
                      </a:lnTo>
                      <a:lnTo>
                        <a:pt x="590" y="2"/>
                      </a:lnTo>
                      <a:lnTo>
                        <a:pt x="588" y="1"/>
                      </a:lnTo>
                      <a:lnTo>
                        <a:pt x="587" y="0"/>
                      </a:lnTo>
                      <a:lnTo>
                        <a:pt x="585" y="0"/>
                      </a:lnTo>
                      <a:lnTo>
                        <a:pt x="584" y="0"/>
                      </a:lnTo>
                      <a:lnTo>
                        <a:pt x="582" y="1"/>
                      </a:lnTo>
                      <a:lnTo>
                        <a:pt x="581" y="2"/>
                      </a:lnTo>
                      <a:lnTo>
                        <a:pt x="581" y="3"/>
                      </a:lnTo>
                      <a:lnTo>
                        <a:pt x="556" y="3"/>
                      </a:lnTo>
                      <a:lnTo>
                        <a:pt x="556" y="2"/>
                      </a:lnTo>
                      <a:lnTo>
                        <a:pt x="555" y="1"/>
                      </a:lnTo>
                      <a:lnTo>
                        <a:pt x="553" y="0"/>
                      </a:lnTo>
                      <a:lnTo>
                        <a:pt x="552" y="0"/>
                      </a:lnTo>
                      <a:lnTo>
                        <a:pt x="550" y="0"/>
                      </a:lnTo>
                      <a:lnTo>
                        <a:pt x="548" y="1"/>
                      </a:lnTo>
                      <a:lnTo>
                        <a:pt x="548" y="2"/>
                      </a:lnTo>
                      <a:lnTo>
                        <a:pt x="547" y="3"/>
                      </a:lnTo>
                      <a:lnTo>
                        <a:pt x="516" y="3"/>
                      </a:lnTo>
                      <a:lnTo>
                        <a:pt x="515" y="2"/>
                      </a:lnTo>
                      <a:lnTo>
                        <a:pt x="514" y="1"/>
                      </a:lnTo>
                      <a:lnTo>
                        <a:pt x="513" y="0"/>
                      </a:lnTo>
                      <a:lnTo>
                        <a:pt x="511" y="0"/>
                      </a:lnTo>
                      <a:lnTo>
                        <a:pt x="509" y="0"/>
                      </a:lnTo>
                      <a:lnTo>
                        <a:pt x="508" y="1"/>
                      </a:lnTo>
                      <a:lnTo>
                        <a:pt x="507" y="2"/>
                      </a:lnTo>
                      <a:lnTo>
                        <a:pt x="506" y="3"/>
                      </a:lnTo>
                      <a:lnTo>
                        <a:pt x="488" y="3"/>
                      </a:lnTo>
                      <a:lnTo>
                        <a:pt x="488" y="2"/>
                      </a:lnTo>
                      <a:lnTo>
                        <a:pt x="487" y="1"/>
                      </a:lnTo>
                      <a:lnTo>
                        <a:pt x="486" y="0"/>
                      </a:lnTo>
                      <a:lnTo>
                        <a:pt x="484" y="0"/>
                      </a:lnTo>
                      <a:lnTo>
                        <a:pt x="482" y="0"/>
                      </a:lnTo>
                      <a:lnTo>
                        <a:pt x="481" y="1"/>
                      </a:lnTo>
                      <a:lnTo>
                        <a:pt x="480" y="2"/>
                      </a:lnTo>
                      <a:lnTo>
                        <a:pt x="479" y="3"/>
                      </a:lnTo>
                      <a:lnTo>
                        <a:pt x="468" y="3"/>
                      </a:lnTo>
                      <a:lnTo>
                        <a:pt x="467" y="2"/>
                      </a:lnTo>
                      <a:lnTo>
                        <a:pt x="467" y="1"/>
                      </a:lnTo>
                      <a:lnTo>
                        <a:pt x="465" y="0"/>
                      </a:lnTo>
                      <a:lnTo>
                        <a:pt x="463" y="0"/>
                      </a:lnTo>
                      <a:lnTo>
                        <a:pt x="462" y="0"/>
                      </a:lnTo>
                      <a:lnTo>
                        <a:pt x="460" y="1"/>
                      </a:lnTo>
                      <a:lnTo>
                        <a:pt x="459" y="2"/>
                      </a:lnTo>
                      <a:lnTo>
                        <a:pt x="459" y="3"/>
                      </a:lnTo>
                      <a:lnTo>
                        <a:pt x="446" y="3"/>
                      </a:lnTo>
                      <a:lnTo>
                        <a:pt x="445" y="2"/>
                      </a:lnTo>
                      <a:lnTo>
                        <a:pt x="445" y="1"/>
                      </a:lnTo>
                      <a:lnTo>
                        <a:pt x="443" y="0"/>
                      </a:lnTo>
                      <a:lnTo>
                        <a:pt x="441" y="0"/>
                      </a:lnTo>
                      <a:lnTo>
                        <a:pt x="440" y="0"/>
                      </a:lnTo>
                      <a:lnTo>
                        <a:pt x="438" y="1"/>
                      </a:lnTo>
                      <a:lnTo>
                        <a:pt x="437" y="2"/>
                      </a:lnTo>
                      <a:lnTo>
                        <a:pt x="437" y="3"/>
                      </a:lnTo>
                      <a:lnTo>
                        <a:pt x="420" y="3"/>
                      </a:lnTo>
                      <a:lnTo>
                        <a:pt x="420" y="2"/>
                      </a:lnTo>
                      <a:lnTo>
                        <a:pt x="419" y="1"/>
                      </a:lnTo>
                      <a:lnTo>
                        <a:pt x="417" y="0"/>
                      </a:lnTo>
                      <a:lnTo>
                        <a:pt x="416" y="0"/>
                      </a:lnTo>
                      <a:lnTo>
                        <a:pt x="414" y="0"/>
                      </a:lnTo>
                      <a:lnTo>
                        <a:pt x="412" y="1"/>
                      </a:lnTo>
                      <a:lnTo>
                        <a:pt x="411" y="2"/>
                      </a:lnTo>
                      <a:lnTo>
                        <a:pt x="411" y="3"/>
                      </a:lnTo>
                      <a:lnTo>
                        <a:pt x="392" y="3"/>
                      </a:lnTo>
                      <a:lnTo>
                        <a:pt x="392" y="2"/>
                      </a:lnTo>
                      <a:lnTo>
                        <a:pt x="391" y="1"/>
                      </a:lnTo>
                      <a:lnTo>
                        <a:pt x="390" y="0"/>
                      </a:lnTo>
                      <a:lnTo>
                        <a:pt x="388" y="0"/>
                      </a:lnTo>
                      <a:lnTo>
                        <a:pt x="386" y="0"/>
                      </a:lnTo>
                      <a:lnTo>
                        <a:pt x="385" y="1"/>
                      </a:lnTo>
                      <a:lnTo>
                        <a:pt x="384" y="2"/>
                      </a:lnTo>
                      <a:lnTo>
                        <a:pt x="383" y="3"/>
                      </a:lnTo>
                      <a:lnTo>
                        <a:pt x="368" y="3"/>
                      </a:lnTo>
                      <a:lnTo>
                        <a:pt x="368" y="2"/>
                      </a:lnTo>
                      <a:lnTo>
                        <a:pt x="367" y="1"/>
                      </a:lnTo>
                      <a:lnTo>
                        <a:pt x="365" y="0"/>
                      </a:lnTo>
                      <a:lnTo>
                        <a:pt x="364" y="0"/>
                      </a:lnTo>
                      <a:lnTo>
                        <a:pt x="362" y="0"/>
                      </a:lnTo>
                      <a:lnTo>
                        <a:pt x="360" y="1"/>
                      </a:lnTo>
                      <a:lnTo>
                        <a:pt x="360" y="2"/>
                      </a:lnTo>
                      <a:lnTo>
                        <a:pt x="359" y="3"/>
                      </a:lnTo>
                      <a:lnTo>
                        <a:pt x="79" y="3"/>
                      </a:lnTo>
                      <a:lnTo>
                        <a:pt x="78" y="2"/>
                      </a:lnTo>
                      <a:lnTo>
                        <a:pt x="77" y="1"/>
                      </a:lnTo>
                      <a:lnTo>
                        <a:pt x="76" y="0"/>
                      </a:lnTo>
                      <a:lnTo>
                        <a:pt x="74" y="0"/>
                      </a:lnTo>
                      <a:lnTo>
                        <a:pt x="73" y="0"/>
                      </a:lnTo>
                      <a:lnTo>
                        <a:pt x="71" y="1"/>
                      </a:lnTo>
                      <a:lnTo>
                        <a:pt x="70" y="2"/>
                      </a:lnTo>
                      <a:lnTo>
                        <a:pt x="70" y="3"/>
                      </a:lnTo>
                      <a:lnTo>
                        <a:pt x="56" y="3"/>
                      </a:lnTo>
                      <a:lnTo>
                        <a:pt x="56" y="2"/>
                      </a:lnTo>
                      <a:lnTo>
                        <a:pt x="55" y="1"/>
                      </a:lnTo>
                      <a:lnTo>
                        <a:pt x="53" y="0"/>
                      </a:lnTo>
                      <a:lnTo>
                        <a:pt x="52" y="0"/>
                      </a:lnTo>
                      <a:lnTo>
                        <a:pt x="50" y="0"/>
                      </a:lnTo>
                      <a:lnTo>
                        <a:pt x="49" y="1"/>
                      </a:lnTo>
                      <a:lnTo>
                        <a:pt x="48" y="2"/>
                      </a:lnTo>
                      <a:lnTo>
                        <a:pt x="47" y="3"/>
                      </a:lnTo>
                      <a:lnTo>
                        <a:pt x="26" y="3"/>
                      </a:lnTo>
                      <a:lnTo>
                        <a:pt x="26" y="2"/>
                      </a:lnTo>
                      <a:lnTo>
                        <a:pt x="24" y="1"/>
                      </a:lnTo>
                      <a:lnTo>
                        <a:pt x="23" y="0"/>
                      </a:lnTo>
                      <a:lnTo>
                        <a:pt x="21" y="0"/>
                      </a:lnTo>
                      <a:lnTo>
                        <a:pt x="20" y="0"/>
                      </a:lnTo>
                      <a:lnTo>
                        <a:pt x="18" y="1"/>
                      </a:lnTo>
                      <a:lnTo>
                        <a:pt x="17" y="2"/>
                      </a:lnTo>
                      <a:lnTo>
                        <a:pt x="17" y="3"/>
                      </a:lnTo>
                      <a:lnTo>
                        <a:pt x="0" y="3"/>
                      </a:lnTo>
                      <a:lnTo>
                        <a:pt x="0" y="34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8195400" y="236448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17" name=""/>
                <p:cNvSpPr/>
                <p:nvPr/>
              </p:nvSpPr>
              <p:spPr>
                <a:xfrm>
                  <a:off x="6715440" y="28238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18" name=""/>
                <p:cNvSpPr/>
                <p:nvPr/>
              </p:nvSpPr>
              <p:spPr>
                <a:xfrm>
                  <a:off x="7000200" y="2274840"/>
                  <a:ext cx="1208880" cy="828000"/>
                </a:xfrm>
                <a:custGeom>
                  <a:avLst/>
                  <a:gdLst/>
                  <a:ahLst/>
                  <a:rect l="l" t="t" r="r" b="b"/>
                  <a:pathLst>
                    <a:path w="1142" h="620">
                      <a:moveTo>
                        <a:pt x="0" y="620"/>
                      </a:moveTo>
                      <a:lnTo>
                        <a:pt x="0" y="332"/>
                      </a:lnTo>
                      <a:lnTo>
                        <a:pt x="30" y="332"/>
                      </a:lnTo>
                      <a:lnTo>
                        <a:pt x="30" y="331"/>
                      </a:lnTo>
                      <a:lnTo>
                        <a:pt x="31" y="330"/>
                      </a:lnTo>
                      <a:lnTo>
                        <a:pt x="32" y="329"/>
                      </a:lnTo>
                      <a:lnTo>
                        <a:pt x="34" y="329"/>
                      </a:lnTo>
                      <a:lnTo>
                        <a:pt x="36" y="329"/>
                      </a:lnTo>
                      <a:lnTo>
                        <a:pt x="37" y="330"/>
                      </a:lnTo>
                      <a:lnTo>
                        <a:pt x="38" y="331"/>
                      </a:lnTo>
                      <a:lnTo>
                        <a:pt x="39" y="332"/>
                      </a:lnTo>
                      <a:lnTo>
                        <a:pt x="61" y="332"/>
                      </a:lnTo>
                      <a:lnTo>
                        <a:pt x="62" y="331"/>
                      </a:lnTo>
                      <a:lnTo>
                        <a:pt x="62" y="330"/>
                      </a:lnTo>
                      <a:lnTo>
                        <a:pt x="64" y="329"/>
                      </a:lnTo>
                      <a:lnTo>
                        <a:pt x="66" y="329"/>
                      </a:lnTo>
                      <a:lnTo>
                        <a:pt x="67" y="329"/>
                      </a:lnTo>
                      <a:lnTo>
                        <a:pt x="69" y="330"/>
                      </a:lnTo>
                      <a:lnTo>
                        <a:pt x="70" y="331"/>
                      </a:lnTo>
                      <a:lnTo>
                        <a:pt x="70" y="332"/>
                      </a:lnTo>
                      <a:lnTo>
                        <a:pt x="80" y="332"/>
                      </a:lnTo>
                      <a:lnTo>
                        <a:pt x="80" y="331"/>
                      </a:lnTo>
                      <a:lnTo>
                        <a:pt x="81" y="330"/>
                      </a:lnTo>
                      <a:lnTo>
                        <a:pt x="82" y="329"/>
                      </a:lnTo>
                      <a:lnTo>
                        <a:pt x="84" y="329"/>
                      </a:lnTo>
                      <a:lnTo>
                        <a:pt x="86" y="329"/>
                      </a:lnTo>
                      <a:lnTo>
                        <a:pt x="87" y="330"/>
                      </a:lnTo>
                      <a:lnTo>
                        <a:pt x="88" y="331"/>
                      </a:lnTo>
                      <a:lnTo>
                        <a:pt x="89" y="332"/>
                      </a:lnTo>
                      <a:lnTo>
                        <a:pt x="96" y="332"/>
                      </a:lnTo>
                      <a:lnTo>
                        <a:pt x="97" y="331"/>
                      </a:lnTo>
                      <a:lnTo>
                        <a:pt x="97" y="330"/>
                      </a:lnTo>
                      <a:lnTo>
                        <a:pt x="99" y="329"/>
                      </a:lnTo>
                      <a:lnTo>
                        <a:pt x="101" y="329"/>
                      </a:lnTo>
                      <a:lnTo>
                        <a:pt x="102" y="329"/>
                      </a:lnTo>
                      <a:lnTo>
                        <a:pt x="104" y="330"/>
                      </a:lnTo>
                      <a:lnTo>
                        <a:pt x="105" y="331"/>
                      </a:lnTo>
                      <a:lnTo>
                        <a:pt x="105" y="332"/>
                      </a:lnTo>
                      <a:lnTo>
                        <a:pt x="107" y="332"/>
                      </a:lnTo>
                      <a:lnTo>
                        <a:pt x="107" y="330"/>
                      </a:lnTo>
                      <a:lnTo>
                        <a:pt x="108" y="329"/>
                      </a:lnTo>
                      <a:lnTo>
                        <a:pt x="109" y="328"/>
                      </a:lnTo>
                      <a:lnTo>
                        <a:pt x="111" y="327"/>
                      </a:lnTo>
                      <a:lnTo>
                        <a:pt x="113" y="326"/>
                      </a:lnTo>
                      <a:lnTo>
                        <a:pt x="116" y="326"/>
                      </a:lnTo>
                      <a:lnTo>
                        <a:pt x="118" y="327"/>
                      </a:lnTo>
                      <a:lnTo>
                        <a:pt x="120" y="328"/>
                      </a:lnTo>
                      <a:lnTo>
                        <a:pt x="121" y="329"/>
                      </a:lnTo>
                      <a:lnTo>
                        <a:pt x="122" y="330"/>
                      </a:lnTo>
                      <a:lnTo>
                        <a:pt x="122" y="332"/>
                      </a:lnTo>
                      <a:lnTo>
                        <a:pt x="148" y="332"/>
                      </a:lnTo>
                      <a:lnTo>
                        <a:pt x="148" y="331"/>
                      </a:lnTo>
                      <a:lnTo>
                        <a:pt x="149" y="330"/>
                      </a:lnTo>
                      <a:lnTo>
                        <a:pt x="151" y="329"/>
                      </a:lnTo>
                      <a:lnTo>
                        <a:pt x="153" y="329"/>
                      </a:lnTo>
                      <a:lnTo>
                        <a:pt x="154" y="329"/>
                      </a:lnTo>
                      <a:lnTo>
                        <a:pt x="156" y="330"/>
                      </a:lnTo>
                      <a:lnTo>
                        <a:pt x="157" y="331"/>
                      </a:lnTo>
                      <a:lnTo>
                        <a:pt x="157" y="332"/>
                      </a:lnTo>
                      <a:lnTo>
                        <a:pt x="174" y="332"/>
                      </a:lnTo>
                      <a:lnTo>
                        <a:pt x="174" y="331"/>
                      </a:lnTo>
                      <a:lnTo>
                        <a:pt x="175" y="330"/>
                      </a:lnTo>
                      <a:lnTo>
                        <a:pt x="177" y="329"/>
                      </a:lnTo>
                      <a:lnTo>
                        <a:pt x="178" y="329"/>
                      </a:lnTo>
                      <a:lnTo>
                        <a:pt x="180" y="329"/>
                      </a:lnTo>
                      <a:lnTo>
                        <a:pt x="182" y="330"/>
                      </a:lnTo>
                      <a:lnTo>
                        <a:pt x="182" y="331"/>
                      </a:lnTo>
                      <a:lnTo>
                        <a:pt x="183" y="332"/>
                      </a:lnTo>
                      <a:lnTo>
                        <a:pt x="196" y="332"/>
                      </a:lnTo>
                      <a:lnTo>
                        <a:pt x="196" y="331"/>
                      </a:lnTo>
                      <a:lnTo>
                        <a:pt x="197" y="330"/>
                      </a:lnTo>
                      <a:lnTo>
                        <a:pt x="199" y="329"/>
                      </a:lnTo>
                      <a:lnTo>
                        <a:pt x="200" y="329"/>
                      </a:lnTo>
                      <a:lnTo>
                        <a:pt x="202" y="329"/>
                      </a:lnTo>
                      <a:lnTo>
                        <a:pt x="204" y="330"/>
                      </a:lnTo>
                      <a:lnTo>
                        <a:pt x="204" y="331"/>
                      </a:lnTo>
                      <a:lnTo>
                        <a:pt x="205" y="332"/>
                      </a:lnTo>
                      <a:lnTo>
                        <a:pt x="216" y="332"/>
                      </a:lnTo>
                      <a:lnTo>
                        <a:pt x="217" y="331"/>
                      </a:lnTo>
                      <a:lnTo>
                        <a:pt x="218" y="330"/>
                      </a:lnTo>
                      <a:lnTo>
                        <a:pt x="219" y="329"/>
                      </a:lnTo>
                      <a:lnTo>
                        <a:pt x="221" y="329"/>
                      </a:lnTo>
                      <a:lnTo>
                        <a:pt x="223" y="329"/>
                      </a:lnTo>
                      <a:lnTo>
                        <a:pt x="224" y="330"/>
                      </a:lnTo>
                      <a:lnTo>
                        <a:pt x="225" y="331"/>
                      </a:lnTo>
                      <a:lnTo>
                        <a:pt x="225" y="332"/>
                      </a:lnTo>
                      <a:lnTo>
                        <a:pt x="230" y="332"/>
                      </a:lnTo>
                      <a:lnTo>
                        <a:pt x="230" y="331"/>
                      </a:lnTo>
                      <a:lnTo>
                        <a:pt x="231" y="330"/>
                      </a:lnTo>
                      <a:lnTo>
                        <a:pt x="233" y="329"/>
                      </a:lnTo>
                      <a:lnTo>
                        <a:pt x="234" y="329"/>
                      </a:lnTo>
                      <a:lnTo>
                        <a:pt x="236" y="329"/>
                      </a:lnTo>
                      <a:lnTo>
                        <a:pt x="238" y="330"/>
                      </a:lnTo>
                      <a:lnTo>
                        <a:pt x="239" y="331"/>
                      </a:lnTo>
                      <a:lnTo>
                        <a:pt x="239" y="332"/>
                      </a:lnTo>
                      <a:lnTo>
                        <a:pt x="243" y="332"/>
                      </a:lnTo>
                      <a:lnTo>
                        <a:pt x="244" y="331"/>
                      </a:lnTo>
                      <a:lnTo>
                        <a:pt x="245" y="330"/>
                      </a:lnTo>
                      <a:lnTo>
                        <a:pt x="246" y="329"/>
                      </a:lnTo>
                      <a:lnTo>
                        <a:pt x="248" y="329"/>
                      </a:lnTo>
                      <a:lnTo>
                        <a:pt x="250" y="329"/>
                      </a:lnTo>
                      <a:lnTo>
                        <a:pt x="251" y="330"/>
                      </a:lnTo>
                      <a:lnTo>
                        <a:pt x="252" y="331"/>
                      </a:lnTo>
                      <a:lnTo>
                        <a:pt x="253" y="332"/>
                      </a:lnTo>
                      <a:lnTo>
                        <a:pt x="284" y="332"/>
                      </a:lnTo>
                      <a:lnTo>
                        <a:pt x="285" y="331"/>
                      </a:lnTo>
                      <a:lnTo>
                        <a:pt x="285" y="330"/>
                      </a:lnTo>
                      <a:lnTo>
                        <a:pt x="287" y="329"/>
                      </a:lnTo>
                      <a:lnTo>
                        <a:pt x="289" y="329"/>
                      </a:lnTo>
                      <a:lnTo>
                        <a:pt x="290" y="329"/>
                      </a:lnTo>
                      <a:lnTo>
                        <a:pt x="292" y="330"/>
                      </a:lnTo>
                      <a:lnTo>
                        <a:pt x="293" y="331"/>
                      </a:lnTo>
                      <a:lnTo>
                        <a:pt x="293" y="332"/>
                      </a:lnTo>
                      <a:lnTo>
                        <a:pt x="322" y="332"/>
                      </a:lnTo>
                      <a:lnTo>
                        <a:pt x="322" y="4"/>
                      </a:lnTo>
                      <a:lnTo>
                        <a:pt x="379" y="4"/>
                      </a:lnTo>
                      <a:lnTo>
                        <a:pt x="379" y="2"/>
                      </a:lnTo>
                      <a:lnTo>
                        <a:pt x="380" y="1"/>
                      </a:lnTo>
                      <a:lnTo>
                        <a:pt x="381" y="0"/>
                      </a:lnTo>
                      <a:lnTo>
                        <a:pt x="383" y="0"/>
                      </a:lnTo>
                      <a:lnTo>
                        <a:pt x="385" y="0"/>
                      </a:lnTo>
                      <a:lnTo>
                        <a:pt x="386" y="1"/>
                      </a:lnTo>
                      <a:lnTo>
                        <a:pt x="387" y="2"/>
                      </a:lnTo>
                      <a:lnTo>
                        <a:pt x="388" y="4"/>
                      </a:lnTo>
                      <a:lnTo>
                        <a:pt x="502" y="4"/>
                      </a:lnTo>
                      <a:lnTo>
                        <a:pt x="502" y="2"/>
                      </a:lnTo>
                      <a:lnTo>
                        <a:pt x="503" y="1"/>
                      </a:lnTo>
                      <a:lnTo>
                        <a:pt x="505" y="0"/>
                      </a:lnTo>
                      <a:lnTo>
                        <a:pt x="506" y="0"/>
                      </a:lnTo>
                      <a:lnTo>
                        <a:pt x="508" y="0"/>
                      </a:lnTo>
                      <a:lnTo>
                        <a:pt x="510" y="1"/>
                      </a:lnTo>
                      <a:lnTo>
                        <a:pt x="511" y="2"/>
                      </a:lnTo>
                      <a:lnTo>
                        <a:pt x="511" y="4"/>
                      </a:lnTo>
                      <a:lnTo>
                        <a:pt x="622" y="4"/>
                      </a:lnTo>
                      <a:lnTo>
                        <a:pt x="622" y="2"/>
                      </a:lnTo>
                      <a:lnTo>
                        <a:pt x="623" y="1"/>
                      </a:lnTo>
                      <a:lnTo>
                        <a:pt x="625" y="0"/>
                      </a:lnTo>
                      <a:lnTo>
                        <a:pt x="626" y="0"/>
                      </a:lnTo>
                      <a:lnTo>
                        <a:pt x="628" y="0"/>
                      </a:lnTo>
                      <a:lnTo>
                        <a:pt x="629" y="1"/>
                      </a:lnTo>
                      <a:lnTo>
                        <a:pt x="630" y="2"/>
                      </a:lnTo>
                      <a:lnTo>
                        <a:pt x="631" y="4"/>
                      </a:lnTo>
                      <a:lnTo>
                        <a:pt x="659" y="4"/>
                      </a:lnTo>
                      <a:lnTo>
                        <a:pt x="660" y="2"/>
                      </a:lnTo>
                      <a:lnTo>
                        <a:pt x="660" y="1"/>
                      </a:lnTo>
                      <a:lnTo>
                        <a:pt x="662" y="0"/>
                      </a:lnTo>
                      <a:lnTo>
                        <a:pt x="664" y="0"/>
                      </a:lnTo>
                      <a:lnTo>
                        <a:pt x="665" y="0"/>
                      </a:lnTo>
                      <a:lnTo>
                        <a:pt x="667" y="1"/>
                      </a:lnTo>
                      <a:lnTo>
                        <a:pt x="668" y="2"/>
                      </a:lnTo>
                      <a:lnTo>
                        <a:pt x="668" y="4"/>
                      </a:lnTo>
                      <a:lnTo>
                        <a:pt x="736" y="4"/>
                      </a:lnTo>
                      <a:lnTo>
                        <a:pt x="736" y="2"/>
                      </a:lnTo>
                      <a:lnTo>
                        <a:pt x="737" y="1"/>
                      </a:lnTo>
                      <a:lnTo>
                        <a:pt x="738" y="0"/>
                      </a:lnTo>
                      <a:lnTo>
                        <a:pt x="740" y="0"/>
                      </a:lnTo>
                      <a:lnTo>
                        <a:pt x="742" y="0"/>
                      </a:lnTo>
                      <a:lnTo>
                        <a:pt x="743" y="1"/>
                      </a:lnTo>
                      <a:lnTo>
                        <a:pt x="744" y="2"/>
                      </a:lnTo>
                      <a:lnTo>
                        <a:pt x="745" y="4"/>
                      </a:lnTo>
                      <a:lnTo>
                        <a:pt x="809" y="4"/>
                      </a:lnTo>
                      <a:lnTo>
                        <a:pt x="809" y="94"/>
                      </a:lnTo>
                      <a:lnTo>
                        <a:pt x="878" y="94"/>
                      </a:lnTo>
                      <a:lnTo>
                        <a:pt x="879" y="93"/>
                      </a:lnTo>
                      <a:lnTo>
                        <a:pt x="880" y="92"/>
                      </a:lnTo>
                      <a:lnTo>
                        <a:pt x="881" y="91"/>
                      </a:lnTo>
                      <a:lnTo>
                        <a:pt x="883" y="90"/>
                      </a:lnTo>
                      <a:lnTo>
                        <a:pt x="885" y="91"/>
                      </a:lnTo>
                      <a:lnTo>
                        <a:pt x="886" y="92"/>
                      </a:lnTo>
                      <a:lnTo>
                        <a:pt x="887" y="93"/>
                      </a:lnTo>
                      <a:lnTo>
                        <a:pt x="887" y="94"/>
                      </a:lnTo>
                      <a:lnTo>
                        <a:pt x="966" y="94"/>
                      </a:lnTo>
                      <a:lnTo>
                        <a:pt x="967" y="93"/>
                      </a:lnTo>
                      <a:lnTo>
                        <a:pt x="968" y="92"/>
                      </a:lnTo>
                      <a:lnTo>
                        <a:pt x="969" y="91"/>
                      </a:lnTo>
                      <a:lnTo>
                        <a:pt x="971" y="90"/>
                      </a:lnTo>
                      <a:lnTo>
                        <a:pt x="972" y="91"/>
                      </a:lnTo>
                      <a:lnTo>
                        <a:pt x="974" y="92"/>
                      </a:lnTo>
                      <a:lnTo>
                        <a:pt x="975" y="93"/>
                      </a:lnTo>
                      <a:lnTo>
                        <a:pt x="975" y="94"/>
                      </a:lnTo>
                      <a:lnTo>
                        <a:pt x="1062" y="94"/>
                      </a:lnTo>
                      <a:lnTo>
                        <a:pt x="1063" y="93"/>
                      </a:lnTo>
                      <a:lnTo>
                        <a:pt x="1064" y="92"/>
                      </a:lnTo>
                      <a:lnTo>
                        <a:pt x="1065" y="91"/>
                      </a:lnTo>
                      <a:lnTo>
                        <a:pt x="1067" y="90"/>
                      </a:lnTo>
                      <a:lnTo>
                        <a:pt x="1069" y="91"/>
                      </a:lnTo>
                      <a:lnTo>
                        <a:pt x="1070" y="92"/>
                      </a:lnTo>
                      <a:lnTo>
                        <a:pt x="1071" y="93"/>
                      </a:lnTo>
                      <a:lnTo>
                        <a:pt x="1071" y="94"/>
                      </a:lnTo>
                      <a:lnTo>
                        <a:pt x="1114" y="94"/>
                      </a:lnTo>
                      <a:lnTo>
                        <a:pt x="1115" y="93"/>
                      </a:lnTo>
                      <a:lnTo>
                        <a:pt x="1115" y="91"/>
                      </a:lnTo>
                      <a:lnTo>
                        <a:pt x="1117" y="91"/>
                      </a:lnTo>
                      <a:lnTo>
                        <a:pt x="1119" y="90"/>
                      </a:lnTo>
                      <a:lnTo>
                        <a:pt x="1120" y="90"/>
                      </a:lnTo>
                      <a:lnTo>
                        <a:pt x="1122" y="91"/>
                      </a:lnTo>
                      <a:lnTo>
                        <a:pt x="1123" y="91"/>
                      </a:lnTo>
                      <a:lnTo>
                        <a:pt x="1124" y="93"/>
                      </a:lnTo>
                      <a:lnTo>
                        <a:pt x="1124" y="94"/>
                      </a:lnTo>
                      <a:lnTo>
                        <a:pt x="1142" y="94"/>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994080" y="310176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0" name=""/>
                <p:cNvSpPr/>
                <p:nvPr/>
              </p:nvSpPr>
              <p:spPr>
                <a:xfrm>
                  <a:off x="8378640" y="2140200"/>
                  <a:ext cx="217800" cy="83880"/>
                </a:xfrm>
                <a:prstGeom prst="rect">
                  <a:avLst/>
                </a:prstGeom>
                <a:blipFill rotWithShape="0">
                  <a:blip r:embed="rId75"/>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1" name=""/>
                <p:cNvSpPr/>
                <p:nvPr/>
              </p:nvSpPr>
              <p:spPr>
                <a:xfrm>
                  <a:off x="8388000" y="2148120"/>
                  <a:ext cx="197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Hand Scan</a:t>
                  </a:r>
                  <a:endParaRPr b="0" lang="en-US" sz="300" spc="-1" strike="noStrike">
                    <a:solidFill>
                      <a:srgbClr val="ffffff"/>
                    </a:solidFill>
                    <a:latin typeface="Arial"/>
                  </a:endParaRPr>
                </a:p>
              </p:txBody>
            </p:sp>
            <p:sp>
              <p:nvSpPr>
                <p:cNvPr id="722" name=""/>
                <p:cNvSpPr/>
                <p:nvPr/>
              </p:nvSpPr>
              <p:spPr>
                <a:xfrm>
                  <a:off x="8454600" y="2178720"/>
                  <a:ext cx="95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pps</a:t>
                  </a:r>
                  <a:endParaRPr b="0" lang="en-US" sz="300" spc="-1" strike="noStrike">
                    <a:solidFill>
                      <a:srgbClr val="ffffff"/>
                    </a:solidFill>
                    <a:latin typeface="Arial"/>
                  </a:endParaRPr>
                </a:p>
              </p:txBody>
            </p:sp>
            <p:sp>
              <p:nvSpPr>
                <p:cNvPr id="723" name=""/>
                <p:cNvSpPr/>
                <p:nvPr/>
              </p:nvSpPr>
              <p:spPr>
                <a:xfrm>
                  <a:off x="8444160" y="2236320"/>
                  <a:ext cx="43200" cy="25200"/>
                </a:xfrm>
                <a:custGeom>
                  <a:avLst/>
                  <a:gdLst/>
                  <a:ahLst/>
                  <a:rect l="l" t="t" r="r" b="b"/>
                  <a:pathLst>
                    <a:path w="41" h="19">
                      <a:moveTo>
                        <a:pt x="41" y="0"/>
                      </a:moveTo>
                      <a:lnTo>
                        <a:pt x="41" y="7"/>
                      </a:lnTo>
                      <a:lnTo>
                        <a:pt x="0" y="7"/>
                      </a:lnTo>
                      <a:lnTo>
                        <a:pt x="0" y="19"/>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4" name=""/>
                <p:cNvSpPr/>
                <p:nvPr/>
              </p:nvSpPr>
              <p:spPr>
                <a:xfrm>
                  <a:off x="8481240" y="222408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5" name=""/>
                <p:cNvSpPr/>
                <p:nvPr/>
              </p:nvSpPr>
              <p:spPr>
                <a:xfrm>
                  <a:off x="8004960" y="2419200"/>
                  <a:ext cx="234720" cy="1622880"/>
                </a:xfrm>
                <a:custGeom>
                  <a:avLst/>
                  <a:gdLst/>
                  <a:ahLst/>
                  <a:rect l="l" t="t" r="r" b="b"/>
                  <a:pathLst>
                    <a:path w="222" h="1215">
                      <a:moveTo>
                        <a:pt x="0" y="1215"/>
                      </a:moveTo>
                      <a:lnTo>
                        <a:pt x="8" y="1215"/>
                      </a:lnTo>
                      <a:lnTo>
                        <a:pt x="8" y="16"/>
                      </a:lnTo>
                      <a:lnTo>
                        <a:pt x="17" y="16"/>
                      </a:lnTo>
                      <a:lnTo>
                        <a:pt x="18" y="14"/>
                      </a:lnTo>
                      <a:lnTo>
                        <a:pt x="19" y="13"/>
                      </a:lnTo>
                      <a:lnTo>
                        <a:pt x="20" y="12"/>
                      </a:lnTo>
                      <a:lnTo>
                        <a:pt x="22" y="12"/>
                      </a:lnTo>
                      <a:lnTo>
                        <a:pt x="23" y="12"/>
                      </a:lnTo>
                      <a:lnTo>
                        <a:pt x="25" y="13"/>
                      </a:lnTo>
                      <a:lnTo>
                        <a:pt x="26" y="14"/>
                      </a:lnTo>
                      <a:lnTo>
                        <a:pt x="26" y="16"/>
                      </a:lnTo>
                      <a:lnTo>
                        <a:pt x="113" y="16"/>
                      </a:lnTo>
                      <a:lnTo>
                        <a:pt x="114" y="14"/>
                      </a:lnTo>
                      <a:lnTo>
                        <a:pt x="115" y="13"/>
                      </a:lnTo>
                      <a:lnTo>
                        <a:pt x="116" y="12"/>
                      </a:lnTo>
                      <a:lnTo>
                        <a:pt x="118" y="12"/>
                      </a:lnTo>
                      <a:lnTo>
                        <a:pt x="120" y="12"/>
                      </a:lnTo>
                      <a:lnTo>
                        <a:pt x="121" y="13"/>
                      </a:lnTo>
                      <a:lnTo>
                        <a:pt x="122" y="14"/>
                      </a:lnTo>
                      <a:lnTo>
                        <a:pt x="122" y="16"/>
                      </a:lnTo>
                      <a:lnTo>
                        <a:pt x="165" y="16"/>
                      </a:lnTo>
                      <a:lnTo>
                        <a:pt x="166" y="14"/>
                      </a:lnTo>
                      <a:lnTo>
                        <a:pt x="166" y="13"/>
                      </a:lnTo>
                      <a:lnTo>
                        <a:pt x="168" y="12"/>
                      </a:lnTo>
                      <a:lnTo>
                        <a:pt x="170" y="12"/>
                      </a:lnTo>
                      <a:lnTo>
                        <a:pt x="171" y="12"/>
                      </a:lnTo>
                      <a:lnTo>
                        <a:pt x="173" y="12"/>
                      </a:lnTo>
                      <a:lnTo>
                        <a:pt x="174" y="13"/>
                      </a:lnTo>
                      <a:lnTo>
                        <a:pt x="175" y="14"/>
                      </a:lnTo>
                      <a:lnTo>
                        <a:pt x="175" y="16"/>
                      </a:lnTo>
                      <a:lnTo>
                        <a:pt x="222" y="16"/>
                      </a:lnTo>
                      <a:lnTo>
                        <a:pt x="222"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992000" y="4035600"/>
                  <a:ext cx="13680" cy="1188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27" name=""/>
                <p:cNvSpPr/>
                <p:nvPr/>
              </p:nvSpPr>
              <p:spPr>
                <a:xfrm>
                  <a:off x="5392440" y="2298960"/>
                  <a:ext cx="2804040" cy="30600"/>
                </a:xfrm>
                <a:custGeom>
                  <a:avLst/>
                  <a:gdLst/>
                  <a:ahLst/>
                  <a:rect l="l" t="t" r="r" b="b"/>
                  <a:pathLst>
                    <a:path w="2649" h="23">
                      <a:moveTo>
                        <a:pt x="0" y="10"/>
                      </a:moveTo>
                      <a:lnTo>
                        <a:pt x="0" y="3"/>
                      </a:lnTo>
                      <a:lnTo>
                        <a:pt x="36" y="3"/>
                      </a:lnTo>
                      <a:lnTo>
                        <a:pt x="36" y="2"/>
                      </a:lnTo>
                      <a:lnTo>
                        <a:pt x="37" y="1"/>
                      </a:lnTo>
                      <a:lnTo>
                        <a:pt x="38" y="0"/>
                      </a:lnTo>
                      <a:lnTo>
                        <a:pt x="40" y="0"/>
                      </a:lnTo>
                      <a:lnTo>
                        <a:pt x="42" y="0"/>
                      </a:lnTo>
                      <a:lnTo>
                        <a:pt x="43" y="1"/>
                      </a:lnTo>
                      <a:lnTo>
                        <a:pt x="44" y="2"/>
                      </a:lnTo>
                      <a:lnTo>
                        <a:pt x="45" y="3"/>
                      </a:lnTo>
                      <a:lnTo>
                        <a:pt x="201" y="3"/>
                      </a:lnTo>
                      <a:lnTo>
                        <a:pt x="201" y="2"/>
                      </a:lnTo>
                      <a:lnTo>
                        <a:pt x="202" y="1"/>
                      </a:lnTo>
                      <a:lnTo>
                        <a:pt x="203" y="0"/>
                      </a:lnTo>
                      <a:lnTo>
                        <a:pt x="205" y="0"/>
                      </a:lnTo>
                      <a:lnTo>
                        <a:pt x="207" y="0"/>
                      </a:lnTo>
                      <a:lnTo>
                        <a:pt x="208" y="1"/>
                      </a:lnTo>
                      <a:lnTo>
                        <a:pt x="209" y="2"/>
                      </a:lnTo>
                      <a:lnTo>
                        <a:pt x="210" y="3"/>
                      </a:lnTo>
                      <a:lnTo>
                        <a:pt x="242" y="3"/>
                      </a:lnTo>
                      <a:lnTo>
                        <a:pt x="242" y="23"/>
                      </a:lnTo>
                      <a:lnTo>
                        <a:pt x="278" y="23"/>
                      </a:lnTo>
                      <a:lnTo>
                        <a:pt x="278" y="22"/>
                      </a:lnTo>
                      <a:lnTo>
                        <a:pt x="279" y="20"/>
                      </a:lnTo>
                      <a:lnTo>
                        <a:pt x="280" y="20"/>
                      </a:lnTo>
                      <a:lnTo>
                        <a:pt x="282" y="19"/>
                      </a:lnTo>
                      <a:lnTo>
                        <a:pt x="284" y="20"/>
                      </a:lnTo>
                      <a:lnTo>
                        <a:pt x="285" y="20"/>
                      </a:lnTo>
                      <a:lnTo>
                        <a:pt x="286" y="22"/>
                      </a:lnTo>
                      <a:lnTo>
                        <a:pt x="286" y="23"/>
                      </a:lnTo>
                      <a:lnTo>
                        <a:pt x="392" y="23"/>
                      </a:lnTo>
                      <a:lnTo>
                        <a:pt x="392" y="22"/>
                      </a:lnTo>
                      <a:lnTo>
                        <a:pt x="393" y="20"/>
                      </a:lnTo>
                      <a:lnTo>
                        <a:pt x="395" y="20"/>
                      </a:lnTo>
                      <a:lnTo>
                        <a:pt x="396" y="19"/>
                      </a:lnTo>
                      <a:lnTo>
                        <a:pt x="398" y="20"/>
                      </a:lnTo>
                      <a:lnTo>
                        <a:pt x="400" y="20"/>
                      </a:lnTo>
                      <a:lnTo>
                        <a:pt x="400" y="22"/>
                      </a:lnTo>
                      <a:lnTo>
                        <a:pt x="401" y="23"/>
                      </a:lnTo>
                      <a:lnTo>
                        <a:pt x="453" y="23"/>
                      </a:lnTo>
                      <a:lnTo>
                        <a:pt x="453" y="22"/>
                      </a:lnTo>
                      <a:lnTo>
                        <a:pt x="454" y="20"/>
                      </a:lnTo>
                      <a:lnTo>
                        <a:pt x="456" y="20"/>
                      </a:lnTo>
                      <a:lnTo>
                        <a:pt x="457" y="19"/>
                      </a:lnTo>
                      <a:lnTo>
                        <a:pt x="459" y="20"/>
                      </a:lnTo>
                      <a:lnTo>
                        <a:pt x="461" y="20"/>
                      </a:lnTo>
                      <a:lnTo>
                        <a:pt x="462" y="22"/>
                      </a:lnTo>
                      <a:lnTo>
                        <a:pt x="462" y="23"/>
                      </a:lnTo>
                      <a:lnTo>
                        <a:pt x="479" y="23"/>
                      </a:lnTo>
                      <a:lnTo>
                        <a:pt x="480" y="22"/>
                      </a:lnTo>
                      <a:lnTo>
                        <a:pt x="481" y="20"/>
                      </a:lnTo>
                      <a:lnTo>
                        <a:pt x="482" y="20"/>
                      </a:lnTo>
                      <a:lnTo>
                        <a:pt x="484" y="19"/>
                      </a:lnTo>
                      <a:lnTo>
                        <a:pt x="485" y="20"/>
                      </a:lnTo>
                      <a:lnTo>
                        <a:pt x="487" y="20"/>
                      </a:lnTo>
                      <a:lnTo>
                        <a:pt x="488" y="22"/>
                      </a:lnTo>
                      <a:lnTo>
                        <a:pt x="488" y="23"/>
                      </a:lnTo>
                      <a:lnTo>
                        <a:pt x="513" y="23"/>
                      </a:lnTo>
                      <a:lnTo>
                        <a:pt x="514" y="22"/>
                      </a:lnTo>
                      <a:lnTo>
                        <a:pt x="515" y="20"/>
                      </a:lnTo>
                      <a:lnTo>
                        <a:pt x="516" y="20"/>
                      </a:lnTo>
                      <a:lnTo>
                        <a:pt x="518" y="19"/>
                      </a:lnTo>
                      <a:lnTo>
                        <a:pt x="520" y="20"/>
                      </a:lnTo>
                      <a:lnTo>
                        <a:pt x="521" y="20"/>
                      </a:lnTo>
                      <a:lnTo>
                        <a:pt x="522" y="22"/>
                      </a:lnTo>
                      <a:lnTo>
                        <a:pt x="522" y="23"/>
                      </a:lnTo>
                      <a:lnTo>
                        <a:pt x="547" y="23"/>
                      </a:lnTo>
                      <a:lnTo>
                        <a:pt x="547" y="22"/>
                      </a:lnTo>
                      <a:lnTo>
                        <a:pt x="548" y="20"/>
                      </a:lnTo>
                      <a:lnTo>
                        <a:pt x="550" y="20"/>
                      </a:lnTo>
                      <a:lnTo>
                        <a:pt x="551" y="19"/>
                      </a:lnTo>
                      <a:lnTo>
                        <a:pt x="553" y="20"/>
                      </a:lnTo>
                      <a:lnTo>
                        <a:pt x="554" y="20"/>
                      </a:lnTo>
                      <a:lnTo>
                        <a:pt x="555" y="22"/>
                      </a:lnTo>
                      <a:lnTo>
                        <a:pt x="556" y="23"/>
                      </a:lnTo>
                      <a:lnTo>
                        <a:pt x="574" y="23"/>
                      </a:lnTo>
                      <a:lnTo>
                        <a:pt x="574" y="22"/>
                      </a:lnTo>
                      <a:lnTo>
                        <a:pt x="575" y="20"/>
                      </a:lnTo>
                      <a:lnTo>
                        <a:pt x="577" y="20"/>
                      </a:lnTo>
                      <a:lnTo>
                        <a:pt x="578" y="19"/>
                      </a:lnTo>
                      <a:lnTo>
                        <a:pt x="580" y="20"/>
                      </a:lnTo>
                      <a:lnTo>
                        <a:pt x="581" y="20"/>
                      </a:lnTo>
                      <a:lnTo>
                        <a:pt x="582" y="22"/>
                      </a:lnTo>
                      <a:lnTo>
                        <a:pt x="583" y="23"/>
                      </a:lnTo>
                      <a:lnTo>
                        <a:pt x="617" y="23"/>
                      </a:lnTo>
                      <a:lnTo>
                        <a:pt x="617" y="22"/>
                      </a:lnTo>
                      <a:lnTo>
                        <a:pt x="618" y="20"/>
                      </a:lnTo>
                      <a:lnTo>
                        <a:pt x="620" y="20"/>
                      </a:lnTo>
                      <a:lnTo>
                        <a:pt x="621" y="19"/>
                      </a:lnTo>
                      <a:lnTo>
                        <a:pt x="623" y="20"/>
                      </a:lnTo>
                      <a:lnTo>
                        <a:pt x="625" y="20"/>
                      </a:lnTo>
                      <a:lnTo>
                        <a:pt x="626" y="22"/>
                      </a:lnTo>
                      <a:lnTo>
                        <a:pt x="626" y="23"/>
                      </a:lnTo>
                      <a:lnTo>
                        <a:pt x="641" y="23"/>
                      </a:lnTo>
                      <a:lnTo>
                        <a:pt x="642" y="22"/>
                      </a:lnTo>
                      <a:lnTo>
                        <a:pt x="643" y="20"/>
                      </a:lnTo>
                      <a:lnTo>
                        <a:pt x="644" y="20"/>
                      </a:lnTo>
                      <a:lnTo>
                        <a:pt x="646" y="19"/>
                      </a:lnTo>
                      <a:lnTo>
                        <a:pt x="648" y="20"/>
                      </a:lnTo>
                      <a:lnTo>
                        <a:pt x="649" y="20"/>
                      </a:lnTo>
                      <a:lnTo>
                        <a:pt x="650" y="22"/>
                      </a:lnTo>
                      <a:lnTo>
                        <a:pt x="650" y="23"/>
                      </a:lnTo>
                      <a:lnTo>
                        <a:pt x="669" y="23"/>
                      </a:lnTo>
                      <a:lnTo>
                        <a:pt x="669" y="22"/>
                      </a:lnTo>
                      <a:lnTo>
                        <a:pt x="670" y="20"/>
                      </a:lnTo>
                      <a:lnTo>
                        <a:pt x="672" y="20"/>
                      </a:lnTo>
                      <a:lnTo>
                        <a:pt x="673" y="19"/>
                      </a:lnTo>
                      <a:lnTo>
                        <a:pt x="675" y="20"/>
                      </a:lnTo>
                      <a:lnTo>
                        <a:pt x="676" y="20"/>
                      </a:lnTo>
                      <a:lnTo>
                        <a:pt x="677" y="22"/>
                      </a:lnTo>
                      <a:lnTo>
                        <a:pt x="678" y="23"/>
                      </a:lnTo>
                      <a:lnTo>
                        <a:pt x="694" y="23"/>
                      </a:lnTo>
                      <a:lnTo>
                        <a:pt x="695" y="22"/>
                      </a:lnTo>
                      <a:lnTo>
                        <a:pt x="696" y="20"/>
                      </a:lnTo>
                      <a:lnTo>
                        <a:pt x="697" y="20"/>
                      </a:lnTo>
                      <a:lnTo>
                        <a:pt x="699" y="19"/>
                      </a:lnTo>
                      <a:lnTo>
                        <a:pt x="701" y="20"/>
                      </a:lnTo>
                      <a:lnTo>
                        <a:pt x="702" y="20"/>
                      </a:lnTo>
                      <a:lnTo>
                        <a:pt x="703" y="22"/>
                      </a:lnTo>
                      <a:lnTo>
                        <a:pt x="703" y="23"/>
                      </a:lnTo>
                      <a:lnTo>
                        <a:pt x="743" y="23"/>
                      </a:lnTo>
                      <a:lnTo>
                        <a:pt x="743" y="21"/>
                      </a:lnTo>
                      <a:lnTo>
                        <a:pt x="744" y="20"/>
                      </a:lnTo>
                      <a:lnTo>
                        <a:pt x="745" y="18"/>
                      </a:lnTo>
                      <a:lnTo>
                        <a:pt x="747" y="17"/>
                      </a:lnTo>
                      <a:lnTo>
                        <a:pt x="749" y="17"/>
                      </a:lnTo>
                      <a:lnTo>
                        <a:pt x="751" y="17"/>
                      </a:lnTo>
                      <a:lnTo>
                        <a:pt x="754" y="17"/>
                      </a:lnTo>
                      <a:lnTo>
                        <a:pt x="756" y="18"/>
                      </a:lnTo>
                      <a:lnTo>
                        <a:pt x="757" y="20"/>
                      </a:lnTo>
                      <a:lnTo>
                        <a:pt x="758" y="21"/>
                      </a:lnTo>
                      <a:lnTo>
                        <a:pt x="758" y="23"/>
                      </a:lnTo>
                      <a:lnTo>
                        <a:pt x="770" y="23"/>
                      </a:lnTo>
                      <a:lnTo>
                        <a:pt x="770" y="22"/>
                      </a:lnTo>
                      <a:lnTo>
                        <a:pt x="771" y="20"/>
                      </a:lnTo>
                      <a:lnTo>
                        <a:pt x="772" y="20"/>
                      </a:lnTo>
                      <a:lnTo>
                        <a:pt x="774" y="19"/>
                      </a:lnTo>
                      <a:lnTo>
                        <a:pt x="776" y="20"/>
                      </a:lnTo>
                      <a:lnTo>
                        <a:pt x="777" y="20"/>
                      </a:lnTo>
                      <a:lnTo>
                        <a:pt x="778" y="22"/>
                      </a:lnTo>
                      <a:lnTo>
                        <a:pt x="779" y="23"/>
                      </a:lnTo>
                      <a:lnTo>
                        <a:pt x="786" y="23"/>
                      </a:lnTo>
                      <a:lnTo>
                        <a:pt x="787" y="22"/>
                      </a:lnTo>
                      <a:lnTo>
                        <a:pt x="788" y="20"/>
                      </a:lnTo>
                      <a:lnTo>
                        <a:pt x="789" y="20"/>
                      </a:lnTo>
                      <a:lnTo>
                        <a:pt x="791" y="19"/>
                      </a:lnTo>
                      <a:lnTo>
                        <a:pt x="793" y="20"/>
                      </a:lnTo>
                      <a:lnTo>
                        <a:pt x="794" y="20"/>
                      </a:lnTo>
                      <a:lnTo>
                        <a:pt x="795" y="22"/>
                      </a:lnTo>
                      <a:lnTo>
                        <a:pt x="795" y="23"/>
                      </a:lnTo>
                      <a:lnTo>
                        <a:pt x="820" y="23"/>
                      </a:lnTo>
                      <a:lnTo>
                        <a:pt x="820" y="22"/>
                      </a:lnTo>
                      <a:lnTo>
                        <a:pt x="821" y="20"/>
                      </a:lnTo>
                      <a:lnTo>
                        <a:pt x="823" y="20"/>
                      </a:lnTo>
                      <a:lnTo>
                        <a:pt x="824" y="19"/>
                      </a:lnTo>
                      <a:lnTo>
                        <a:pt x="826" y="20"/>
                      </a:lnTo>
                      <a:lnTo>
                        <a:pt x="828" y="20"/>
                      </a:lnTo>
                      <a:lnTo>
                        <a:pt x="828" y="22"/>
                      </a:lnTo>
                      <a:lnTo>
                        <a:pt x="829" y="23"/>
                      </a:lnTo>
                      <a:lnTo>
                        <a:pt x="857" y="23"/>
                      </a:lnTo>
                      <a:lnTo>
                        <a:pt x="858" y="22"/>
                      </a:lnTo>
                      <a:lnTo>
                        <a:pt x="859" y="20"/>
                      </a:lnTo>
                      <a:lnTo>
                        <a:pt x="860" y="20"/>
                      </a:lnTo>
                      <a:lnTo>
                        <a:pt x="862" y="19"/>
                      </a:lnTo>
                      <a:lnTo>
                        <a:pt x="864" y="20"/>
                      </a:lnTo>
                      <a:lnTo>
                        <a:pt x="865" y="20"/>
                      </a:lnTo>
                      <a:lnTo>
                        <a:pt x="866" y="22"/>
                      </a:lnTo>
                      <a:lnTo>
                        <a:pt x="866" y="23"/>
                      </a:lnTo>
                      <a:lnTo>
                        <a:pt x="900" y="23"/>
                      </a:lnTo>
                      <a:lnTo>
                        <a:pt x="900" y="22"/>
                      </a:lnTo>
                      <a:lnTo>
                        <a:pt x="901" y="20"/>
                      </a:lnTo>
                      <a:lnTo>
                        <a:pt x="902" y="20"/>
                      </a:lnTo>
                      <a:lnTo>
                        <a:pt x="904" y="19"/>
                      </a:lnTo>
                      <a:lnTo>
                        <a:pt x="906" y="20"/>
                      </a:lnTo>
                      <a:lnTo>
                        <a:pt x="907" y="20"/>
                      </a:lnTo>
                      <a:lnTo>
                        <a:pt x="908" y="22"/>
                      </a:lnTo>
                      <a:lnTo>
                        <a:pt x="909" y="23"/>
                      </a:lnTo>
                      <a:lnTo>
                        <a:pt x="1042" y="23"/>
                      </a:lnTo>
                      <a:lnTo>
                        <a:pt x="1043" y="22"/>
                      </a:lnTo>
                      <a:lnTo>
                        <a:pt x="1044" y="20"/>
                      </a:lnTo>
                      <a:lnTo>
                        <a:pt x="1045" y="20"/>
                      </a:lnTo>
                      <a:lnTo>
                        <a:pt x="1047" y="19"/>
                      </a:lnTo>
                      <a:lnTo>
                        <a:pt x="1049" y="20"/>
                      </a:lnTo>
                      <a:lnTo>
                        <a:pt x="1050" y="20"/>
                      </a:lnTo>
                      <a:lnTo>
                        <a:pt x="1051" y="22"/>
                      </a:lnTo>
                      <a:lnTo>
                        <a:pt x="1051" y="23"/>
                      </a:lnTo>
                      <a:lnTo>
                        <a:pt x="1142" y="23"/>
                      </a:lnTo>
                      <a:lnTo>
                        <a:pt x="1143" y="22"/>
                      </a:lnTo>
                      <a:lnTo>
                        <a:pt x="1143" y="20"/>
                      </a:lnTo>
                      <a:lnTo>
                        <a:pt x="1145" y="20"/>
                      </a:lnTo>
                      <a:lnTo>
                        <a:pt x="1147" y="19"/>
                      </a:lnTo>
                      <a:lnTo>
                        <a:pt x="1148" y="20"/>
                      </a:lnTo>
                      <a:lnTo>
                        <a:pt x="1150" y="20"/>
                      </a:lnTo>
                      <a:lnTo>
                        <a:pt x="1151" y="22"/>
                      </a:lnTo>
                      <a:lnTo>
                        <a:pt x="1151" y="23"/>
                      </a:lnTo>
                      <a:lnTo>
                        <a:pt x="1166" y="23"/>
                      </a:lnTo>
                      <a:lnTo>
                        <a:pt x="1167" y="22"/>
                      </a:lnTo>
                      <a:lnTo>
                        <a:pt x="1168" y="20"/>
                      </a:lnTo>
                      <a:lnTo>
                        <a:pt x="1169" y="20"/>
                      </a:lnTo>
                      <a:lnTo>
                        <a:pt x="1171" y="19"/>
                      </a:lnTo>
                      <a:lnTo>
                        <a:pt x="1173" y="20"/>
                      </a:lnTo>
                      <a:lnTo>
                        <a:pt x="1174" y="20"/>
                      </a:lnTo>
                      <a:lnTo>
                        <a:pt x="1175" y="22"/>
                      </a:lnTo>
                      <a:lnTo>
                        <a:pt x="1175" y="23"/>
                      </a:lnTo>
                      <a:lnTo>
                        <a:pt x="1187" y="23"/>
                      </a:lnTo>
                      <a:lnTo>
                        <a:pt x="1187" y="22"/>
                      </a:lnTo>
                      <a:lnTo>
                        <a:pt x="1188" y="20"/>
                      </a:lnTo>
                      <a:lnTo>
                        <a:pt x="1190" y="20"/>
                      </a:lnTo>
                      <a:lnTo>
                        <a:pt x="1191" y="19"/>
                      </a:lnTo>
                      <a:lnTo>
                        <a:pt x="1193" y="20"/>
                      </a:lnTo>
                      <a:lnTo>
                        <a:pt x="1194" y="20"/>
                      </a:lnTo>
                      <a:lnTo>
                        <a:pt x="1195" y="22"/>
                      </a:lnTo>
                      <a:lnTo>
                        <a:pt x="1196" y="23"/>
                      </a:lnTo>
                      <a:lnTo>
                        <a:pt x="1208" y="23"/>
                      </a:lnTo>
                      <a:lnTo>
                        <a:pt x="1209" y="22"/>
                      </a:lnTo>
                      <a:lnTo>
                        <a:pt x="1210" y="20"/>
                      </a:lnTo>
                      <a:lnTo>
                        <a:pt x="1211" y="20"/>
                      </a:lnTo>
                      <a:lnTo>
                        <a:pt x="1213" y="19"/>
                      </a:lnTo>
                      <a:lnTo>
                        <a:pt x="1215" y="20"/>
                      </a:lnTo>
                      <a:lnTo>
                        <a:pt x="1216" y="20"/>
                      </a:lnTo>
                      <a:lnTo>
                        <a:pt x="1217" y="22"/>
                      </a:lnTo>
                      <a:lnTo>
                        <a:pt x="1217" y="23"/>
                      </a:lnTo>
                      <a:lnTo>
                        <a:pt x="1273" y="23"/>
                      </a:lnTo>
                      <a:lnTo>
                        <a:pt x="1273" y="22"/>
                      </a:lnTo>
                      <a:lnTo>
                        <a:pt x="1274" y="20"/>
                      </a:lnTo>
                      <a:lnTo>
                        <a:pt x="1276" y="20"/>
                      </a:lnTo>
                      <a:lnTo>
                        <a:pt x="1277" y="19"/>
                      </a:lnTo>
                      <a:lnTo>
                        <a:pt x="1279" y="20"/>
                      </a:lnTo>
                      <a:lnTo>
                        <a:pt x="1280" y="20"/>
                      </a:lnTo>
                      <a:lnTo>
                        <a:pt x="1282" y="22"/>
                      </a:lnTo>
                      <a:lnTo>
                        <a:pt x="1282" y="23"/>
                      </a:lnTo>
                      <a:lnTo>
                        <a:pt x="1303" y="23"/>
                      </a:lnTo>
                      <a:lnTo>
                        <a:pt x="1304" y="22"/>
                      </a:lnTo>
                      <a:lnTo>
                        <a:pt x="1305" y="20"/>
                      </a:lnTo>
                      <a:lnTo>
                        <a:pt x="1306" y="20"/>
                      </a:lnTo>
                      <a:lnTo>
                        <a:pt x="1308" y="19"/>
                      </a:lnTo>
                      <a:lnTo>
                        <a:pt x="1309" y="20"/>
                      </a:lnTo>
                      <a:lnTo>
                        <a:pt x="1311" y="20"/>
                      </a:lnTo>
                      <a:lnTo>
                        <a:pt x="1312" y="22"/>
                      </a:lnTo>
                      <a:lnTo>
                        <a:pt x="1312" y="23"/>
                      </a:lnTo>
                      <a:lnTo>
                        <a:pt x="1326" y="23"/>
                      </a:lnTo>
                      <a:lnTo>
                        <a:pt x="1326" y="22"/>
                      </a:lnTo>
                      <a:lnTo>
                        <a:pt x="1327" y="20"/>
                      </a:lnTo>
                      <a:lnTo>
                        <a:pt x="1329" y="20"/>
                      </a:lnTo>
                      <a:lnTo>
                        <a:pt x="1330" y="19"/>
                      </a:lnTo>
                      <a:lnTo>
                        <a:pt x="1332" y="20"/>
                      </a:lnTo>
                      <a:lnTo>
                        <a:pt x="1333" y="20"/>
                      </a:lnTo>
                      <a:lnTo>
                        <a:pt x="1334" y="22"/>
                      </a:lnTo>
                      <a:lnTo>
                        <a:pt x="1335" y="23"/>
                      </a:lnTo>
                      <a:lnTo>
                        <a:pt x="1615" y="23"/>
                      </a:lnTo>
                      <a:lnTo>
                        <a:pt x="1616" y="22"/>
                      </a:lnTo>
                      <a:lnTo>
                        <a:pt x="1616" y="20"/>
                      </a:lnTo>
                      <a:lnTo>
                        <a:pt x="1618" y="20"/>
                      </a:lnTo>
                      <a:lnTo>
                        <a:pt x="1620" y="19"/>
                      </a:lnTo>
                      <a:lnTo>
                        <a:pt x="1621" y="20"/>
                      </a:lnTo>
                      <a:lnTo>
                        <a:pt x="1623" y="20"/>
                      </a:lnTo>
                      <a:lnTo>
                        <a:pt x="1624" y="22"/>
                      </a:lnTo>
                      <a:lnTo>
                        <a:pt x="1624" y="23"/>
                      </a:lnTo>
                      <a:lnTo>
                        <a:pt x="1639" y="23"/>
                      </a:lnTo>
                      <a:lnTo>
                        <a:pt x="1640" y="22"/>
                      </a:lnTo>
                      <a:lnTo>
                        <a:pt x="1641" y="20"/>
                      </a:lnTo>
                      <a:lnTo>
                        <a:pt x="1642" y="20"/>
                      </a:lnTo>
                      <a:lnTo>
                        <a:pt x="1644" y="19"/>
                      </a:lnTo>
                      <a:lnTo>
                        <a:pt x="1646" y="20"/>
                      </a:lnTo>
                      <a:lnTo>
                        <a:pt x="1647" y="20"/>
                      </a:lnTo>
                      <a:lnTo>
                        <a:pt x="1648" y="22"/>
                      </a:lnTo>
                      <a:lnTo>
                        <a:pt x="1648" y="23"/>
                      </a:lnTo>
                      <a:lnTo>
                        <a:pt x="1667" y="23"/>
                      </a:lnTo>
                      <a:lnTo>
                        <a:pt x="1667" y="22"/>
                      </a:lnTo>
                      <a:lnTo>
                        <a:pt x="1668" y="20"/>
                      </a:lnTo>
                      <a:lnTo>
                        <a:pt x="1670" y="20"/>
                      </a:lnTo>
                      <a:lnTo>
                        <a:pt x="1672" y="19"/>
                      </a:lnTo>
                      <a:lnTo>
                        <a:pt x="1673" y="20"/>
                      </a:lnTo>
                      <a:lnTo>
                        <a:pt x="1675" y="20"/>
                      </a:lnTo>
                      <a:lnTo>
                        <a:pt x="1676" y="22"/>
                      </a:lnTo>
                      <a:lnTo>
                        <a:pt x="1676" y="23"/>
                      </a:lnTo>
                      <a:lnTo>
                        <a:pt x="1693" y="23"/>
                      </a:lnTo>
                      <a:lnTo>
                        <a:pt x="1693" y="22"/>
                      </a:lnTo>
                      <a:lnTo>
                        <a:pt x="1694" y="20"/>
                      </a:lnTo>
                      <a:lnTo>
                        <a:pt x="1696" y="20"/>
                      </a:lnTo>
                      <a:lnTo>
                        <a:pt x="1697" y="19"/>
                      </a:lnTo>
                      <a:lnTo>
                        <a:pt x="1699" y="20"/>
                      </a:lnTo>
                      <a:lnTo>
                        <a:pt x="1701" y="20"/>
                      </a:lnTo>
                      <a:lnTo>
                        <a:pt x="1701" y="22"/>
                      </a:lnTo>
                      <a:lnTo>
                        <a:pt x="1702" y="23"/>
                      </a:lnTo>
                      <a:lnTo>
                        <a:pt x="1715" y="23"/>
                      </a:lnTo>
                      <a:lnTo>
                        <a:pt x="1715" y="22"/>
                      </a:lnTo>
                      <a:lnTo>
                        <a:pt x="1716" y="20"/>
                      </a:lnTo>
                      <a:lnTo>
                        <a:pt x="1717" y="20"/>
                      </a:lnTo>
                      <a:lnTo>
                        <a:pt x="1719" y="19"/>
                      </a:lnTo>
                      <a:lnTo>
                        <a:pt x="1721" y="20"/>
                      </a:lnTo>
                      <a:lnTo>
                        <a:pt x="1723" y="20"/>
                      </a:lnTo>
                      <a:lnTo>
                        <a:pt x="1723" y="22"/>
                      </a:lnTo>
                      <a:lnTo>
                        <a:pt x="1724" y="23"/>
                      </a:lnTo>
                      <a:lnTo>
                        <a:pt x="1735" y="23"/>
                      </a:lnTo>
                      <a:lnTo>
                        <a:pt x="1736" y="22"/>
                      </a:lnTo>
                      <a:lnTo>
                        <a:pt x="1737" y="20"/>
                      </a:lnTo>
                      <a:lnTo>
                        <a:pt x="1738" y="20"/>
                      </a:lnTo>
                      <a:lnTo>
                        <a:pt x="1740" y="19"/>
                      </a:lnTo>
                      <a:lnTo>
                        <a:pt x="1742" y="20"/>
                      </a:lnTo>
                      <a:lnTo>
                        <a:pt x="1743" y="20"/>
                      </a:lnTo>
                      <a:lnTo>
                        <a:pt x="1744" y="22"/>
                      </a:lnTo>
                      <a:lnTo>
                        <a:pt x="1744" y="23"/>
                      </a:lnTo>
                      <a:lnTo>
                        <a:pt x="1762" y="23"/>
                      </a:lnTo>
                      <a:lnTo>
                        <a:pt x="1763" y="22"/>
                      </a:lnTo>
                      <a:lnTo>
                        <a:pt x="1764" y="20"/>
                      </a:lnTo>
                      <a:lnTo>
                        <a:pt x="1765" y="20"/>
                      </a:lnTo>
                      <a:lnTo>
                        <a:pt x="1767" y="19"/>
                      </a:lnTo>
                      <a:lnTo>
                        <a:pt x="1769" y="20"/>
                      </a:lnTo>
                      <a:lnTo>
                        <a:pt x="1770" y="20"/>
                      </a:lnTo>
                      <a:lnTo>
                        <a:pt x="1771" y="22"/>
                      </a:lnTo>
                      <a:lnTo>
                        <a:pt x="1772" y="23"/>
                      </a:lnTo>
                      <a:lnTo>
                        <a:pt x="1803" y="23"/>
                      </a:lnTo>
                      <a:lnTo>
                        <a:pt x="1804" y="22"/>
                      </a:lnTo>
                      <a:lnTo>
                        <a:pt x="1804" y="20"/>
                      </a:lnTo>
                      <a:lnTo>
                        <a:pt x="1806" y="20"/>
                      </a:lnTo>
                      <a:lnTo>
                        <a:pt x="1808" y="19"/>
                      </a:lnTo>
                      <a:lnTo>
                        <a:pt x="1809" y="20"/>
                      </a:lnTo>
                      <a:lnTo>
                        <a:pt x="1811" y="20"/>
                      </a:lnTo>
                      <a:lnTo>
                        <a:pt x="1812" y="22"/>
                      </a:lnTo>
                      <a:lnTo>
                        <a:pt x="1812" y="23"/>
                      </a:lnTo>
                      <a:lnTo>
                        <a:pt x="1837" y="23"/>
                      </a:lnTo>
                      <a:lnTo>
                        <a:pt x="1837" y="22"/>
                      </a:lnTo>
                      <a:lnTo>
                        <a:pt x="1838" y="20"/>
                      </a:lnTo>
                      <a:lnTo>
                        <a:pt x="1840" y="20"/>
                      </a:lnTo>
                      <a:lnTo>
                        <a:pt x="1841" y="19"/>
                      </a:lnTo>
                      <a:lnTo>
                        <a:pt x="1843" y="20"/>
                      </a:lnTo>
                      <a:lnTo>
                        <a:pt x="1844" y="20"/>
                      </a:lnTo>
                      <a:lnTo>
                        <a:pt x="1846" y="22"/>
                      </a:lnTo>
                      <a:lnTo>
                        <a:pt x="1846" y="23"/>
                      </a:lnTo>
                      <a:lnTo>
                        <a:pt x="1898" y="23"/>
                      </a:lnTo>
                      <a:lnTo>
                        <a:pt x="1898" y="22"/>
                      </a:lnTo>
                      <a:lnTo>
                        <a:pt x="1899" y="20"/>
                      </a:lnTo>
                      <a:lnTo>
                        <a:pt x="1900" y="20"/>
                      </a:lnTo>
                      <a:lnTo>
                        <a:pt x="1902" y="19"/>
                      </a:lnTo>
                      <a:lnTo>
                        <a:pt x="1904" y="20"/>
                      </a:lnTo>
                      <a:lnTo>
                        <a:pt x="1905" y="20"/>
                      </a:lnTo>
                      <a:lnTo>
                        <a:pt x="1906" y="22"/>
                      </a:lnTo>
                      <a:lnTo>
                        <a:pt x="1907" y="23"/>
                      </a:lnTo>
                      <a:lnTo>
                        <a:pt x="2021" y="23"/>
                      </a:lnTo>
                      <a:lnTo>
                        <a:pt x="2021" y="22"/>
                      </a:lnTo>
                      <a:lnTo>
                        <a:pt x="2022" y="20"/>
                      </a:lnTo>
                      <a:lnTo>
                        <a:pt x="2024" y="20"/>
                      </a:lnTo>
                      <a:lnTo>
                        <a:pt x="2025" y="19"/>
                      </a:lnTo>
                      <a:lnTo>
                        <a:pt x="2027" y="20"/>
                      </a:lnTo>
                      <a:lnTo>
                        <a:pt x="2029" y="20"/>
                      </a:lnTo>
                      <a:lnTo>
                        <a:pt x="2030" y="22"/>
                      </a:lnTo>
                      <a:lnTo>
                        <a:pt x="2030" y="23"/>
                      </a:lnTo>
                      <a:lnTo>
                        <a:pt x="2323" y="23"/>
                      </a:lnTo>
                      <a:lnTo>
                        <a:pt x="2324" y="22"/>
                      </a:lnTo>
                      <a:lnTo>
                        <a:pt x="2324" y="20"/>
                      </a:lnTo>
                      <a:lnTo>
                        <a:pt x="2326" y="20"/>
                      </a:lnTo>
                      <a:lnTo>
                        <a:pt x="2328" y="19"/>
                      </a:lnTo>
                      <a:lnTo>
                        <a:pt x="2329" y="20"/>
                      </a:lnTo>
                      <a:lnTo>
                        <a:pt x="2331" y="20"/>
                      </a:lnTo>
                      <a:lnTo>
                        <a:pt x="2332" y="22"/>
                      </a:lnTo>
                      <a:lnTo>
                        <a:pt x="2332" y="23"/>
                      </a:lnTo>
                      <a:lnTo>
                        <a:pt x="2397" y="23"/>
                      </a:lnTo>
                      <a:lnTo>
                        <a:pt x="2398" y="22"/>
                      </a:lnTo>
                      <a:lnTo>
                        <a:pt x="2399" y="20"/>
                      </a:lnTo>
                      <a:lnTo>
                        <a:pt x="2400" y="20"/>
                      </a:lnTo>
                      <a:lnTo>
                        <a:pt x="2402" y="19"/>
                      </a:lnTo>
                      <a:lnTo>
                        <a:pt x="2404" y="20"/>
                      </a:lnTo>
                      <a:lnTo>
                        <a:pt x="2405" y="20"/>
                      </a:lnTo>
                      <a:lnTo>
                        <a:pt x="2406" y="22"/>
                      </a:lnTo>
                      <a:lnTo>
                        <a:pt x="2406" y="23"/>
                      </a:lnTo>
                      <a:lnTo>
                        <a:pt x="2485" y="23"/>
                      </a:lnTo>
                      <a:lnTo>
                        <a:pt x="2486" y="22"/>
                      </a:lnTo>
                      <a:lnTo>
                        <a:pt x="2487" y="20"/>
                      </a:lnTo>
                      <a:lnTo>
                        <a:pt x="2488" y="20"/>
                      </a:lnTo>
                      <a:lnTo>
                        <a:pt x="2490" y="19"/>
                      </a:lnTo>
                      <a:lnTo>
                        <a:pt x="2491" y="20"/>
                      </a:lnTo>
                      <a:lnTo>
                        <a:pt x="2493" y="20"/>
                      </a:lnTo>
                      <a:lnTo>
                        <a:pt x="2494" y="22"/>
                      </a:lnTo>
                      <a:lnTo>
                        <a:pt x="2494" y="23"/>
                      </a:lnTo>
                      <a:lnTo>
                        <a:pt x="2522" y="23"/>
                      </a:lnTo>
                      <a:lnTo>
                        <a:pt x="2522" y="8"/>
                      </a:lnTo>
                      <a:lnTo>
                        <a:pt x="2526" y="8"/>
                      </a:lnTo>
                      <a:lnTo>
                        <a:pt x="2526" y="7"/>
                      </a:lnTo>
                      <a:lnTo>
                        <a:pt x="2527" y="6"/>
                      </a:lnTo>
                      <a:lnTo>
                        <a:pt x="2529" y="5"/>
                      </a:lnTo>
                      <a:lnTo>
                        <a:pt x="2530" y="5"/>
                      </a:lnTo>
                      <a:lnTo>
                        <a:pt x="2532" y="5"/>
                      </a:lnTo>
                      <a:lnTo>
                        <a:pt x="2533" y="6"/>
                      </a:lnTo>
                      <a:lnTo>
                        <a:pt x="2534" y="7"/>
                      </a:lnTo>
                      <a:lnTo>
                        <a:pt x="2535" y="8"/>
                      </a:lnTo>
                      <a:lnTo>
                        <a:pt x="2581" y="8"/>
                      </a:lnTo>
                      <a:lnTo>
                        <a:pt x="2582" y="7"/>
                      </a:lnTo>
                      <a:lnTo>
                        <a:pt x="2583" y="6"/>
                      </a:lnTo>
                      <a:lnTo>
                        <a:pt x="2584" y="5"/>
                      </a:lnTo>
                      <a:lnTo>
                        <a:pt x="2586" y="5"/>
                      </a:lnTo>
                      <a:lnTo>
                        <a:pt x="2588" y="5"/>
                      </a:lnTo>
                      <a:lnTo>
                        <a:pt x="2589" y="6"/>
                      </a:lnTo>
                      <a:lnTo>
                        <a:pt x="2590" y="7"/>
                      </a:lnTo>
                      <a:lnTo>
                        <a:pt x="2590" y="8"/>
                      </a:lnTo>
                      <a:lnTo>
                        <a:pt x="2633" y="8"/>
                      </a:lnTo>
                      <a:lnTo>
                        <a:pt x="2634" y="7"/>
                      </a:lnTo>
                      <a:lnTo>
                        <a:pt x="2634" y="6"/>
                      </a:lnTo>
                      <a:lnTo>
                        <a:pt x="2636" y="5"/>
                      </a:lnTo>
                      <a:lnTo>
                        <a:pt x="2638" y="4"/>
                      </a:lnTo>
                      <a:lnTo>
                        <a:pt x="2639" y="4"/>
                      </a:lnTo>
                      <a:lnTo>
                        <a:pt x="2641" y="5"/>
                      </a:lnTo>
                      <a:lnTo>
                        <a:pt x="2642" y="6"/>
                      </a:lnTo>
                      <a:lnTo>
                        <a:pt x="2643" y="7"/>
                      </a:lnTo>
                      <a:lnTo>
                        <a:pt x="2643" y="8"/>
                      </a:lnTo>
                      <a:lnTo>
                        <a:pt x="2649" y="8"/>
                      </a:lnTo>
                    </a:path>
                  </a:pathLst>
                </a:custGeom>
                <a:noFill/>
                <a:ln w="1440">
                  <a:solidFill>
                    <a:srgbClr val="ff00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28" name=""/>
                <p:cNvSpPr/>
                <p:nvPr/>
              </p:nvSpPr>
              <p:spPr>
                <a:xfrm>
                  <a:off x="5385960" y="2309760"/>
                  <a:ext cx="12600" cy="1440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29" name=""/>
                <p:cNvSpPr/>
                <p:nvPr/>
              </p:nvSpPr>
              <p:spPr>
                <a:xfrm>
                  <a:off x="8195400" y="230436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30" name=""/>
                <p:cNvSpPr/>
                <p:nvPr/>
              </p:nvSpPr>
              <p:spPr>
                <a:xfrm>
                  <a:off x="6258240" y="2063880"/>
                  <a:ext cx="191520" cy="62640"/>
                </a:xfrm>
                <a:prstGeom prst="rect">
                  <a:avLst/>
                </a:prstGeom>
                <a:blipFill rotWithShape="0">
                  <a:blip r:embed="rId76"/>
                  <a:srcRect/>
                  <a:tile tx="0" ty="0" sx="100000" sy="100000" algn="ctr"/>
                </a:blip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31" name=""/>
                <p:cNvSpPr/>
                <p:nvPr/>
              </p:nvSpPr>
              <p:spPr>
                <a:xfrm>
                  <a:off x="6279840" y="2074680"/>
                  <a:ext cx="122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hows</a:t>
                  </a:r>
                  <a:endParaRPr b="0" lang="en-US" sz="300" spc="-1" strike="noStrike">
                    <a:solidFill>
                      <a:srgbClr val="ffffff"/>
                    </a:solidFill>
                    <a:latin typeface="Arial"/>
                  </a:endParaRPr>
                </a:p>
              </p:txBody>
            </p:sp>
            <p:sp>
              <p:nvSpPr>
                <p:cNvPr id="732" name=""/>
                <p:cNvSpPr/>
                <p:nvPr/>
              </p:nvSpPr>
              <p:spPr>
                <a:xfrm>
                  <a:off x="6968520" y="2689200"/>
                  <a:ext cx="720" cy="414000"/>
                </a:xfrm>
                <a:custGeom>
                  <a:avLst/>
                  <a:gdLst/>
                  <a:ahLst/>
                  <a:rect l="l" t="t" r="r" b="b"/>
                  <a:pathLst>
                    <a:path w="1" h="310">
                      <a:moveTo>
                        <a:pt x="0" y="0"/>
                      </a:moveTo>
                      <a:lnTo>
                        <a:pt x="0" y="15"/>
                      </a:lnTo>
                      <a:lnTo>
                        <a:pt x="1" y="15"/>
                      </a:lnTo>
                      <a:lnTo>
                        <a:pt x="1" y="31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963120" y="310176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4" name=""/>
                <p:cNvSpPr/>
                <p:nvPr/>
              </p:nvSpPr>
              <p:spPr>
                <a:xfrm>
                  <a:off x="5239080" y="2503440"/>
                  <a:ext cx="2880" cy="83880"/>
                </a:xfrm>
                <a:custGeom>
                  <a:avLst/>
                  <a:gdLst/>
                  <a:ahLst/>
                  <a:rect l="l" t="t" r="r" b="b"/>
                  <a:pathLst>
                    <a:path w="3" h="63">
                      <a:moveTo>
                        <a:pt x="0" y="63"/>
                      </a:moveTo>
                      <a:lnTo>
                        <a:pt x="0" y="57"/>
                      </a:lnTo>
                      <a:lnTo>
                        <a:pt x="3" y="57"/>
                      </a:lnTo>
                      <a:lnTo>
                        <a:pt x="3" y="0"/>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5" name=""/>
                <p:cNvSpPr/>
                <p:nvPr/>
              </p:nvSpPr>
              <p:spPr>
                <a:xfrm>
                  <a:off x="5232600" y="2586240"/>
                  <a:ext cx="11520" cy="14760"/>
                </a:xfrm>
                <a:custGeom>
                  <a:avLst/>
                  <a:gdLst/>
                  <a:ahLst/>
                  <a:rect l="l" t="t" r="r" b="b"/>
                  <a:pathLst>
                    <a:path w="11" h="11">
                      <a:moveTo>
                        <a:pt x="11" y="1"/>
                      </a:moveTo>
                      <a:lnTo>
                        <a:pt x="6" y="11"/>
                      </a:lnTo>
                      <a:lnTo>
                        <a:pt x="0" y="1"/>
                      </a:lnTo>
                      <a:lnTo>
                        <a:pt x="2" y="1"/>
                      </a:lnTo>
                      <a:lnTo>
                        <a:pt x="6" y="0"/>
                      </a:lnTo>
                      <a:lnTo>
                        <a:pt x="9" y="1"/>
                      </a:lnTo>
                      <a:lnTo>
                        <a:pt x="11"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36" name=""/>
                <p:cNvSpPr/>
                <p:nvPr/>
              </p:nvSpPr>
              <p:spPr>
                <a:xfrm>
                  <a:off x="5235480" y="24912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7" name=""/>
                <p:cNvSpPr/>
                <p:nvPr/>
              </p:nvSpPr>
              <p:spPr>
                <a:xfrm>
                  <a:off x="4483080" y="3348720"/>
                  <a:ext cx="128880" cy="61200"/>
                </a:xfrm>
                <a:prstGeom prst="rect">
                  <a:avLst/>
                </a:prstGeom>
                <a:blipFill rotWithShape="0">
                  <a:blip r:embed="rId77"/>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738" name=""/>
                <p:cNvSpPr/>
                <p:nvPr/>
              </p:nvSpPr>
              <p:spPr>
                <a:xfrm>
                  <a:off x="4515840" y="3362040"/>
                  <a:ext cx="8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S</a:t>
                  </a:r>
                  <a:endParaRPr b="0" lang="en-US" sz="300" spc="-1" strike="noStrike">
                    <a:solidFill>
                      <a:srgbClr val="ffffff"/>
                    </a:solidFill>
                    <a:latin typeface="Arial"/>
                  </a:endParaRPr>
                </a:p>
              </p:txBody>
            </p:sp>
            <p:sp>
              <p:nvSpPr>
                <p:cNvPr id="739" name=""/>
                <p:cNvSpPr/>
                <p:nvPr/>
              </p:nvSpPr>
              <p:spPr>
                <a:xfrm>
                  <a:off x="4388760" y="3569400"/>
                  <a:ext cx="251640" cy="113400"/>
                </a:xfrm>
                <a:prstGeom prst="rect">
                  <a:avLst/>
                </a:prstGeom>
                <a:blipFill rotWithShape="0">
                  <a:blip r:embed="rId7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431960" y="35758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
                <p:cNvSpPr/>
                <p:nvPr/>
              </p:nvSpPr>
              <p:spPr>
                <a:xfrm>
                  <a:off x="4478400" y="3607920"/>
                  <a:ext cx="101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ales</a:t>
                  </a:r>
                  <a:endParaRPr b="0" lang="en-US" sz="300" spc="-1" strike="noStrike">
                    <a:solidFill>
                      <a:srgbClr val="ffffff"/>
                    </a:solidFill>
                    <a:latin typeface="Arial"/>
                  </a:endParaRPr>
                </a:p>
              </p:txBody>
            </p:sp>
            <p:sp>
              <p:nvSpPr>
                <p:cNvPr id="742" name=""/>
                <p:cNvSpPr/>
                <p:nvPr/>
              </p:nvSpPr>
              <p:spPr>
                <a:xfrm>
                  <a:off x="4489920" y="3641400"/>
                  <a:ext cx="66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ax</a:t>
                  </a:r>
                  <a:endParaRPr b="0" lang="en-US" sz="300" spc="-1" strike="noStrike">
                    <a:solidFill>
                      <a:srgbClr val="ffffff"/>
                    </a:solidFill>
                    <a:latin typeface="Arial"/>
                  </a:endParaRPr>
                </a:p>
              </p:txBody>
            </p:sp>
            <p:sp>
              <p:nvSpPr>
                <p:cNvPr id="743" name=""/>
                <p:cNvSpPr/>
                <p:nvPr/>
              </p:nvSpPr>
              <p:spPr>
                <a:xfrm>
                  <a:off x="4505400" y="3201840"/>
                  <a:ext cx="14400" cy="137520"/>
                </a:xfrm>
                <a:custGeom>
                  <a:avLst/>
                  <a:gdLst/>
                  <a:ahLst/>
                  <a:rect l="l" t="t" r="r" b="b"/>
                  <a:pathLst>
                    <a:path w="14" h="103">
                      <a:moveTo>
                        <a:pt x="14" y="103"/>
                      </a:moveTo>
                      <a:lnTo>
                        <a:pt x="14"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4513680" y="33382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45" name=""/>
                <p:cNvSpPr/>
                <p:nvPr/>
              </p:nvSpPr>
              <p:spPr>
                <a:xfrm>
                  <a:off x="4508280" y="3422520"/>
                  <a:ext cx="6120" cy="134640"/>
                </a:xfrm>
                <a:custGeom>
                  <a:avLst/>
                  <a:gdLst/>
                  <a:ahLst/>
                  <a:rect l="l" t="t" r="r" b="b"/>
                  <a:pathLst>
                    <a:path w="6" h="101">
                      <a:moveTo>
                        <a:pt x="6" y="101"/>
                      </a:moveTo>
                      <a:lnTo>
                        <a:pt x="6" y="95"/>
                      </a:lnTo>
                      <a:lnTo>
                        <a:pt x="0" y="95"/>
                      </a:lnTo>
                      <a:lnTo>
                        <a:pt x="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4508280" y="35560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47" name=""/>
                <p:cNvSpPr/>
                <p:nvPr/>
              </p:nvSpPr>
              <p:spPr>
                <a:xfrm>
                  <a:off x="4501800" y="34102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48" name=""/>
                <p:cNvSpPr/>
                <p:nvPr/>
              </p:nvSpPr>
              <p:spPr>
                <a:xfrm>
                  <a:off x="4829040" y="2830680"/>
                  <a:ext cx="191520" cy="110520"/>
                </a:xfrm>
                <a:prstGeom prst="rect">
                  <a:avLst/>
                </a:prstGeom>
                <a:blipFill rotWithShape="0">
                  <a:blip r:embed="rId7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852080" y="2851920"/>
                  <a:ext cx="188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04 - Cust</a:t>
                  </a:r>
                  <a:endParaRPr b="0" lang="en-US" sz="300" spc="-1" strike="noStrike">
                    <a:solidFill>
                      <a:srgbClr val="ffffff"/>
                    </a:solidFill>
                    <a:latin typeface="Arial"/>
                  </a:endParaRPr>
                </a:p>
              </p:txBody>
            </p:sp>
            <p:sp>
              <p:nvSpPr>
                <p:cNvPr id="750" name=""/>
                <p:cNvSpPr/>
                <p:nvPr/>
              </p:nvSpPr>
              <p:spPr>
                <a:xfrm>
                  <a:off x="4836960" y="2883960"/>
                  <a:ext cx="23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fund Chks</a:t>
                  </a:r>
                  <a:endParaRPr b="0" lang="en-US" sz="300" spc="-1" strike="noStrike">
                    <a:solidFill>
                      <a:srgbClr val="ffffff"/>
                    </a:solidFill>
                    <a:latin typeface="Arial"/>
                  </a:endParaRPr>
                </a:p>
              </p:txBody>
            </p:sp>
            <p:sp>
              <p:nvSpPr>
                <p:cNvPr id="751" name=""/>
                <p:cNvSpPr/>
                <p:nvPr/>
              </p:nvSpPr>
              <p:spPr>
                <a:xfrm>
                  <a:off x="4611960" y="2953440"/>
                  <a:ext cx="225360" cy="425880"/>
                </a:xfrm>
                <a:custGeom>
                  <a:avLst/>
                  <a:gdLst/>
                  <a:ahLst/>
                  <a:rect l="l" t="t" r="r" b="b"/>
                  <a:pathLst>
                    <a:path w="213" h="319">
                      <a:moveTo>
                        <a:pt x="0" y="319"/>
                      </a:moveTo>
                      <a:lnTo>
                        <a:pt x="13" y="319"/>
                      </a:lnTo>
                      <a:lnTo>
                        <a:pt x="13" y="7"/>
                      </a:lnTo>
                      <a:lnTo>
                        <a:pt x="16" y="7"/>
                      </a:lnTo>
                      <a:lnTo>
                        <a:pt x="16" y="5"/>
                      </a:lnTo>
                      <a:lnTo>
                        <a:pt x="17" y="4"/>
                      </a:lnTo>
                      <a:lnTo>
                        <a:pt x="18" y="4"/>
                      </a:lnTo>
                      <a:lnTo>
                        <a:pt x="20" y="3"/>
                      </a:lnTo>
                      <a:lnTo>
                        <a:pt x="22" y="4"/>
                      </a:lnTo>
                      <a:lnTo>
                        <a:pt x="23" y="4"/>
                      </a:lnTo>
                      <a:lnTo>
                        <a:pt x="24" y="5"/>
                      </a:lnTo>
                      <a:lnTo>
                        <a:pt x="25" y="7"/>
                      </a:lnTo>
                      <a:lnTo>
                        <a:pt x="31" y="7"/>
                      </a:lnTo>
                      <a:lnTo>
                        <a:pt x="31" y="5"/>
                      </a:lnTo>
                      <a:lnTo>
                        <a:pt x="32" y="4"/>
                      </a:lnTo>
                      <a:lnTo>
                        <a:pt x="34" y="4"/>
                      </a:lnTo>
                      <a:lnTo>
                        <a:pt x="35" y="3"/>
                      </a:lnTo>
                      <a:lnTo>
                        <a:pt x="37" y="4"/>
                      </a:lnTo>
                      <a:lnTo>
                        <a:pt x="39" y="4"/>
                      </a:lnTo>
                      <a:lnTo>
                        <a:pt x="39" y="5"/>
                      </a:lnTo>
                      <a:lnTo>
                        <a:pt x="40" y="7"/>
                      </a:lnTo>
                      <a:lnTo>
                        <a:pt x="40" y="7"/>
                      </a:lnTo>
                      <a:lnTo>
                        <a:pt x="41" y="5"/>
                      </a:lnTo>
                      <a:lnTo>
                        <a:pt x="42" y="4"/>
                      </a:lnTo>
                      <a:lnTo>
                        <a:pt x="43" y="4"/>
                      </a:lnTo>
                      <a:lnTo>
                        <a:pt x="45" y="3"/>
                      </a:lnTo>
                      <a:lnTo>
                        <a:pt x="46" y="4"/>
                      </a:lnTo>
                      <a:lnTo>
                        <a:pt x="48" y="4"/>
                      </a:lnTo>
                      <a:lnTo>
                        <a:pt x="49" y="5"/>
                      </a:lnTo>
                      <a:lnTo>
                        <a:pt x="49" y="7"/>
                      </a:lnTo>
                      <a:lnTo>
                        <a:pt x="58" y="7"/>
                      </a:lnTo>
                      <a:lnTo>
                        <a:pt x="59" y="5"/>
                      </a:lnTo>
                      <a:lnTo>
                        <a:pt x="60" y="4"/>
                      </a:lnTo>
                      <a:lnTo>
                        <a:pt x="61" y="4"/>
                      </a:lnTo>
                      <a:lnTo>
                        <a:pt x="63" y="3"/>
                      </a:lnTo>
                      <a:lnTo>
                        <a:pt x="65" y="4"/>
                      </a:lnTo>
                      <a:lnTo>
                        <a:pt x="66" y="4"/>
                      </a:lnTo>
                      <a:lnTo>
                        <a:pt x="67" y="5"/>
                      </a:lnTo>
                      <a:lnTo>
                        <a:pt x="67" y="7"/>
                      </a:lnTo>
                      <a:lnTo>
                        <a:pt x="78" y="7"/>
                      </a:lnTo>
                      <a:lnTo>
                        <a:pt x="79" y="5"/>
                      </a:lnTo>
                      <a:lnTo>
                        <a:pt x="79" y="4"/>
                      </a:lnTo>
                      <a:lnTo>
                        <a:pt x="81" y="4"/>
                      </a:lnTo>
                      <a:lnTo>
                        <a:pt x="83" y="3"/>
                      </a:lnTo>
                      <a:lnTo>
                        <a:pt x="84" y="4"/>
                      </a:lnTo>
                      <a:lnTo>
                        <a:pt x="86" y="4"/>
                      </a:lnTo>
                      <a:lnTo>
                        <a:pt x="87" y="5"/>
                      </a:lnTo>
                      <a:lnTo>
                        <a:pt x="87" y="7"/>
                      </a:lnTo>
                      <a:lnTo>
                        <a:pt x="88" y="7"/>
                      </a:lnTo>
                      <a:lnTo>
                        <a:pt x="89" y="5"/>
                      </a:lnTo>
                      <a:lnTo>
                        <a:pt x="90" y="4"/>
                      </a:lnTo>
                      <a:lnTo>
                        <a:pt x="91" y="4"/>
                      </a:lnTo>
                      <a:lnTo>
                        <a:pt x="93" y="3"/>
                      </a:lnTo>
                      <a:lnTo>
                        <a:pt x="94" y="4"/>
                      </a:lnTo>
                      <a:lnTo>
                        <a:pt x="96" y="4"/>
                      </a:lnTo>
                      <a:lnTo>
                        <a:pt x="97" y="5"/>
                      </a:lnTo>
                      <a:lnTo>
                        <a:pt x="97" y="7"/>
                      </a:lnTo>
                      <a:lnTo>
                        <a:pt x="132" y="7"/>
                      </a:lnTo>
                      <a:lnTo>
                        <a:pt x="133" y="5"/>
                      </a:lnTo>
                      <a:lnTo>
                        <a:pt x="133" y="4"/>
                      </a:lnTo>
                      <a:lnTo>
                        <a:pt x="135" y="4"/>
                      </a:lnTo>
                      <a:lnTo>
                        <a:pt x="137" y="3"/>
                      </a:lnTo>
                      <a:lnTo>
                        <a:pt x="138" y="4"/>
                      </a:lnTo>
                      <a:lnTo>
                        <a:pt x="140" y="4"/>
                      </a:lnTo>
                      <a:lnTo>
                        <a:pt x="141" y="5"/>
                      </a:lnTo>
                      <a:lnTo>
                        <a:pt x="141" y="7"/>
                      </a:lnTo>
                      <a:lnTo>
                        <a:pt x="213" y="7"/>
                      </a:lnTo>
                      <a:lnTo>
                        <a:pt x="21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4831200" y="2941200"/>
                  <a:ext cx="12600" cy="13320"/>
                </a:xfrm>
                <a:custGeom>
                  <a:avLst/>
                  <a:gdLst/>
                  <a:ahLst/>
                  <a:rect l="l" t="t" r="r" b="b"/>
                  <a:pathLst>
                    <a:path w="12" h="10">
                      <a:moveTo>
                        <a:pt x="0" y="9"/>
                      </a:moveTo>
                      <a:lnTo>
                        <a:pt x="6" y="0"/>
                      </a:lnTo>
                      <a:lnTo>
                        <a:pt x="12" y="9"/>
                      </a:lnTo>
                      <a:lnTo>
                        <a:pt x="10"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53" name=""/>
                <p:cNvSpPr/>
                <p:nvPr/>
              </p:nvSpPr>
              <p:spPr>
                <a:xfrm>
                  <a:off x="4645800" y="2913480"/>
                  <a:ext cx="170280" cy="936000"/>
                </a:xfrm>
                <a:custGeom>
                  <a:avLst/>
                  <a:gdLst/>
                  <a:ahLst/>
                  <a:rect l="l" t="t" r="r" b="b"/>
                  <a:pathLst>
                    <a:path w="161" h="701">
                      <a:moveTo>
                        <a:pt x="0" y="701"/>
                      </a:moveTo>
                      <a:lnTo>
                        <a:pt x="8" y="701"/>
                      </a:lnTo>
                      <a:lnTo>
                        <a:pt x="9" y="699"/>
                      </a:lnTo>
                      <a:lnTo>
                        <a:pt x="10" y="697"/>
                      </a:lnTo>
                      <a:lnTo>
                        <a:pt x="11" y="696"/>
                      </a:lnTo>
                      <a:lnTo>
                        <a:pt x="13" y="695"/>
                      </a:lnTo>
                      <a:lnTo>
                        <a:pt x="15" y="694"/>
                      </a:lnTo>
                      <a:lnTo>
                        <a:pt x="18" y="694"/>
                      </a:lnTo>
                      <a:lnTo>
                        <a:pt x="20" y="695"/>
                      </a:lnTo>
                      <a:lnTo>
                        <a:pt x="22" y="696"/>
                      </a:lnTo>
                      <a:lnTo>
                        <a:pt x="23" y="697"/>
                      </a:lnTo>
                      <a:lnTo>
                        <a:pt x="24" y="699"/>
                      </a:lnTo>
                      <a:lnTo>
                        <a:pt x="25" y="701"/>
                      </a:lnTo>
                      <a:lnTo>
                        <a:pt x="46" y="701"/>
                      </a:lnTo>
                      <a:lnTo>
                        <a:pt x="47" y="699"/>
                      </a:lnTo>
                      <a:lnTo>
                        <a:pt x="47" y="698"/>
                      </a:lnTo>
                      <a:lnTo>
                        <a:pt x="49" y="697"/>
                      </a:lnTo>
                      <a:lnTo>
                        <a:pt x="51" y="697"/>
                      </a:lnTo>
                      <a:lnTo>
                        <a:pt x="52" y="697"/>
                      </a:lnTo>
                      <a:lnTo>
                        <a:pt x="54" y="698"/>
                      </a:lnTo>
                      <a:lnTo>
                        <a:pt x="55" y="699"/>
                      </a:lnTo>
                      <a:lnTo>
                        <a:pt x="55" y="701"/>
                      </a:lnTo>
                      <a:lnTo>
                        <a:pt x="56" y="701"/>
                      </a:lnTo>
                      <a:lnTo>
                        <a:pt x="57" y="699"/>
                      </a:lnTo>
                      <a:lnTo>
                        <a:pt x="58" y="698"/>
                      </a:lnTo>
                      <a:lnTo>
                        <a:pt x="59" y="697"/>
                      </a:lnTo>
                      <a:lnTo>
                        <a:pt x="61" y="697"/>
                      </a:lnTo>
                      <a:lnTo>
                        <a:pt x="62" y="697"/>
                      </a:lnTo>
                      <a:lnTo>
                        <a:pt x="64" y="698"/>
                      </a:lnTo>
                      <a:lnTo>
                        <a:pt x="65" y="699"/>
                      </a:lnTo>
                      <a:lnTo>
                        <a:pt x="65" y="701"/>
                      </a:lnTo>
                      <a:lnTo>
                        <a:pt x="77" y="701"/>
                      </a:lnTo>
                      <a:lnTo>
                        <a:pt x="78" y="699"/>
                      </a:lnTo>
                      <a:lnTo>
                        <a:pt x="79" y="698"/>
                      </a:lnTo>
                      <a:lnTo>
                        <a:pt x="80" y="697"/>
                      </a:lnTo>
                      <a:lnTo>
                        <a:pt x="82" y="697"/>
                      </a:lnTo>
                      <a:lnTo>
                        <a:pt x="84" y="697"/>
                      </a:lnTo>
                      <a:lnTo>
                        <a:pt x="85" y="698"/>
                      </a:lnTo>
                      <a:lnTo>
                        <a:pt x="86" y="699"/>
                      </a:lnTo>
                      <a:lnTo>
                        <a:pt x="86" y="701"/>
                      </a:lnTo>
                      <a:lnTo>
                        <a:pt x="92" y="701"/>
                      </a:lnTo>
                      <a:lnTo>
                        <a:pt x="92" y="699"/>
                      </a:lnTo>
                      <a:lnTo>
                        <a:pt x="93" y="698"/>
                      </a:lnTo>
                      <a:lnTo>
                        <a:pt x="94" y="697"/>
                      </a:lnTo>
                      <a:lnTo>
                        <a:pt x="96" y="697"/>
                      </a:lnTo>
                      <a:lnTo>
                        <a:pt x="98" y="697"/>
                      </a:lnTo>
                      <a:lnTo>
                        <a:pt x="99" y="698"/>
                      </a:lnTo>
                      <a:lnTo>
                        <a:pt x="100" y="699"/>
                      </a:lnTo>
                      <a:lnTo>
                        <a:pt x="101" y="701"/>
                      </a:lnTo>
                      <a:lnTo>
                        <a:pt x="105" y="701"/>
                      </a:lnTo>
                      <a:lnTo>
                        <a:pt x="105" y="0"/>
                      </a:lnTo>
                      <a:lnTo>
                        <a:pt x="16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815360" y="290808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55" name=""/>
                <p:cNvSpPr/>
                <p:nvPr/>
              </p:nvSpPr>
              <p:spPr>
                <a:xfrm>
                  <a:off x="5020560" y="2920320"/>
                  <a:ext cx="437040" cy="2126160"/>
                </a:xfrm>
                <a:custGeom>
                  <a:avLst/>
                  <a:gdLst/>
                  <a:ahLst/>
                  <a:rect l="l" t="t" r="r" b="b"/>
                  <a:pathLst>
                    <a:path w="413" h="1592">
                      <a:moveTo>
                        <a:pt x="413" y="1592"/>
                      </a:moveTo>
                      <a:lnTo>
                        <a:pt x="413" y="6"/>
                      </a:lnTo>
                      <a:lnTo>
                        <a:pt x="409" y="6"/>
                      </a:lnTo>
                      <a:lnTo>
                        <a:pt x="409" y="4"/>
                      </a:lnTo>
                      <a:lnTo>
                        <a:pt x="408" y="3"/>
                      </a:lnTo>
                      <a:lnTo>
                        <a:pt x="406" y="3"/>
                      </a:lnTo>
                      <a:lnTo>
                        <a:pt x="405" y="2"/>
                      </a:lnTo>
                      <a:lnTo>
                        <a:pt x="403" y="3"/>
                      </a:lnTo>
                      <a:lnTo>
                        <a:pt x="401" y="3"/>
                      </a:lnTo>
                      <a:lnTo>
                        <a:pt x="401" y="4"/>
                      </a:lnTo>
                      <a:lnTo>
                        <a:pt x="400" y="6"/>
                      </a:lnTo>
                      <a:lnTo>
                        <a:pt x="398" y="6"/>
                      </a:lnTo>
                      <a:lnTo>
                        <a:pt x="398" y="4"/>
                      </a:lnTo>
                      <a:lnTo>
                        <a:pt x="397" y="3"/>
                      </a:lnTo>
                      <a:lnTo>
                        <a:pt x="396" y="3"/>
                      </a:lnTo>
                      <a:lnTo>
                        <a:pt x="394" y="2"/>
                      </a:lnTo>
                      <a:lnTo>
                        <a:pt x="392" y="3"/>
                      </a:lnTo>
                      <a:lnTo>
                        <a:pt x="391" y="3"/>
                      </a:lnTo>
                      <a:lnTo>
                        <a:pt x="390" y="4"/>
                      </a:lnTo>
                      <a:lnTo>
                        <a:pt x="390" y="6"/>
                      </a:lnTo>
                      <a:lnTo>
                        <a:pt x="389" y="6"/>
                      </a:lnTo>
                      <a:lnTo>
                        <a:pt x="389" y="4"/>
                      </a:lnTo>
                      <a:lnTo>
                        <a:pt x="388" y="3"/>
                      </a:lnTo>
                      <a:lnTo>
                        <a:pt x="386" y="3"/>
                      </a:lnTo>
                      <a:lnTo>
                        <a:pt x="384" y="2"/>
                      </a:lnTo>
                      <a:lnTo>
                        <a:pt x="383" y="3"/>
                      </a:lnTo>
                      <a:lnTo>
                        <a:pt x="381" y="3"/>
                      </a:lnTo>
                      <a:lnTo>
                        <a:pt x="380" y="4"/>
                      </a:lnTo>
                      <a:lnTo>
                        <a:pt x="380" y="6"/>
                      </a:lnTo>
                      <a:lnTo>
                        <a:pt x="378" y="6"/>
                      </a:lnTo>
                      <a:lnTo>
                        <a:pt x="378" y="4"/>
                      </a:lnTo>
                      <a:lnTo>
                        <a:pt x="376" y="3"/>
                      </a:lnTo>
                      <a:lnTo>
                        <a:pt x="375" y="3"/>
                      </a:lnTo>
                      <a:lnTo>
                        <a:pt x="373" y="2"/>
                      </a:lnTo>
                      <a:lnTo>
                        <a:pt x="372" y="3"/>
                      </a:lnTo>
                      <a:lnTo>
                        <a:pt x="370" y="3"/>
                      </a:lnTo>
                      <a:lnTo>
                        <a:pt x="369" y="4"/>
                      </a:lnTo>
                      <a:lnTo>
                        <a:pt x="369" y="6"/>
                      </a:lnTo>
                      <a:lnTo>
                        <a:pt x="358" y="6"/>
                      </a:lnTo>
                      <a:lnTo>
                        <a:pt x="358" y="4"/>
                      </a:lnTo>
                      <a:lnTo>
                        <a:pt x="357" y="3"/>
                      </a:lnTo>
                      <a:lnTo>
                        <a:pt x="355" y="3"/>
                      </a:lnTo>
                      <a:lnTo>
                        <a:pt x="353" y="2"/>
                      </a:lnTo>
                      <a:lnTo>
                        <a:pt x="352" y="3"/>
                      </a:lnTo>
                      <a:lnTo>
                        <a:pt x="350" y="3"/>
                      </a:lnTo>
                      <a:lnTo>
                        <a:pt x="349" y="4"/>
                      </a:lnTo>
                      <a:lnTo>
                        <a:pt x="349" y="6"/>
                      </a:lnTo>
                      <a:lnTo>
                        <a:pt x="305" y="6"/>
                      </a:lnTo>
                      <a:lnTo>
                        <a:pt x="304" y="4"/>
                      </a:lnTo>
                      <a:lnTo>
                        <a:pt x="303" y="3"/>
                      </a:lnTo>
                      <a:lnTo>
                        <a:pt x="302" y="3"/>
                      </a:lnTo>
                      <a:lnTo>
                        <a:pt x="300" y="2"/>
                      </a:lnTo>
                      <a:lnTo>
                        <a:pt x="298" y="3"/>
                      </a:lnTo>
                      <a:lnTo>
                        <a:pt x="297" y="3"/>
                      </a:lnTo>
                      <a:lnTo>
                        <a:pt x="296" y="4"/>
                      </a:lnTo>
                      <a:lnTo>
                        <a:pt x="296" y="6"/>
                      </a:lnTo>
                      <a:lnTo>
                        <a:pt x="175" y="6"/>
                      </a:lnTo>
                      <a:lnTo>
                        <a:pt x="174" y="4"/>
                      </a:lnTo>
                      <a:lnTo>
                        <a:pt x="173" y="3"/>
                      </a:lnTo>
                      <a:lnTo>
                        <a:pt x="172" y="3"/>
                      </a:lnTo>
                      <a:lnTo>
                        <a:pt x="170" y="2"/>
                      </a:lnTo>
                      <a:lnTo>
                        <a:pt x="168" y="3"/>
                      </a:lnTo>
                      <a:lnTo>
                        <a:pt x="167" y="3"/>
                      </a:lnTo>
                      <a:lnTo>
                        <a:pt x="166" y="4"/>
                      </a:lnTo>
                      <a:lnTo>
                        <a:pt x="166" y="6"/>
                      </a:lnTo>
                      <a:lnTo>
                        <a:pt x="142" y="6"/>
                      </a:lnTo>
                      <a:lnTo>
                        <a:pt x="141" y="4"/>
                      </a:lnTo>
                      <a:lnTo>
                        <a:pt x="140" y="3"/>
                      </a:lnTo>
                      <a:lnTo>
                        <a:pt x="139" y="3"/>
                      </a:lnTo>
                      <a:lnTo>
                        <a:pt x="137" y="2"/>
                      </a:lnTo>
                      <a:lnTo>
                        <a:pt x="136" y="3"/>
                      </a:lnTo>
                      <a:lnTo>
                        <a:pt x="134" y="3"/>
                      </a:lnTo>
                      <a:lnTo>
                        <a:pt x="133" y="4"/>
                      </a:lnTo>
                      <a:lnTo>
                        <a:pt x="133" y="6"/>
                      </a:lnTo>
                      <a:lnTo>
                        <a:pt x="123" y="6"/>
                      </a:lnTo>
                      <a:lnTo>
                        <a:pt x="123" y="4"/>
                      </a:lnTo>
                      <a:lnTo>
                        <a:pt x="122" y="2"/>
                      </a:lnTo>
                      <a:lnTo>
                        <a:pt x="120" y="1"/>
                      </a:lnTo>
                      <a:lnTo>
                        <a:pt x="119" y="0"/>
                      </a:lnTo>
                      <a:lnTo>
                        <a:pt x="117" y="0"/>
                      </a:lnTo>
                      <a:lnTo>
                        <a:pt x="114" y="0"/>
                      </a:lnTo>
                      <a:lnTo>
                        <a:pt x="112" y="0"/>
                      </a:lnTo>
                      <a:lnTo>
                        <a:pt x="110" y="1"/>
                      </a:lnTo>
                      <a:lnTo>
                        <a:pt x="109" y="2"/>
                      </a:lnTo>
                      <a:lnTo>
                        <a:pt x="108" y="4"/>
                      </a:lnTo>
                      <a:lnTo>
                        <a:pt x="108" y="6"/>
                      </a:lnTo>
                      <a:lnTo>
                        <a:pt x="101" y="6"/>
                      </a:lnTo>
                      <a:lnTo>
                        <a:pt x="101" y="4"/>
                      </a:lnTo>
                      <a:lnTo>
                        <a:pt x="100" y="3"/>
                      </a:lnTo>
                      <a:lnTo>
                        <a:pt x="99" y="3"/>
                      </a:lnTo>
                      <a:lnTo>
                        <a:pt x="97" y="2"/>
                      </a:lnTo>
                      <a:lnTo>
                        <a:pt x="95" y="3"/>
                      </a:lnTo>
                      <a:lnTo>
                        <a:pt x="94" y="3"/>
                      </a:lnTo>
                      <a:lnTo>
                        <a:pt x="93" y="4"/>
                      </a:lnTo>
                      <a:lnTo>
                        <a:pt x="92" y="6"/>
                      </a:lnTo>
                      <a:lnTo>
                        <a:pt x="86" y="6"/>
                      </a:lnTo>
                      <a:lnTo>
                        <a:pt x="85" y="4"/>
                      </a:lnTo>
                      <a:lnTo>
                        <a:pt x="84" y="3"/>
                      </a:lnTo>
                      <a:lnTo>
                        <a:pt x="83" y="2"/>
                      </a:lnTo>
                      <a:lnTo>
                        <a:pt x="81" y="1"/>
                      </a:lnTo>
                      <a:lnTo>
                        <a:pt x="79" y="0"/>
                      </a:lnTo>
                      <a:lnTo>
                        <a:pt x="77" y="1"/>
                      </a:lnTo>
                      <a:lnTo>
                        <a:pt x="75" y="2"/>
                      </a:lnTo>
                      <a:lnTo>
                        <a:pt x="73" y="3"/>
                      </a:lnTo>
                      <a:lnTo>
                        <a:pt x="72" y="4"/>
                      </a:lnTo>
                      <a:lnTo>
                        <a:pt x="72" y="6"/>
                      </a:lnTo>
                      <a:lnTo>
                        <a:pt x="66" y="6"/>
                      </a:lnTo>
                      <a:lnTo>
                        <a:pt x="66" y="4"/>
                      </a:lnTo>
                      <a:lnTo>
                        <a:pt x="64" y="3"/>
                      </a:lnTo>
                      <a:lnTo>
                        <a:pt x="63" y="3"/>
                      </a:lnTo>
                      <a:lnTo>
                        <a:pt x="61" y="2"/>
                      </a:lnTo>
                      <a:lnTo>
                        <a:pt x="60" y="3"/>
                      </a:lnTo>
                      <a:lnTo>
                        <a:pt x="58" y="3"/>
                      </a:lnTo>
                      <a:lnTo>
                        <a:pt x="57" y="4"/>
                      </a:lnTo>
                      <a:lnTo>
                        <a:pt x="57" y="6"/>
                      </a:lnTo>
                      <a:lnTo>
                        <a:pt x="31" y="6"/>
                      </a:lnTo>
                      <a:lnTo>
                        <a:pt x="31" y="4"/>
                      </a:lnTo>
                      <a:lnTo>
                        <a:pt x="30" y="3"/>
                      </a:lnTo>
                      <a:lnTo>
                        <a:pt x="28" y="3"/>
                      </a:lnTo>
                      <a:lnTo>
                        <a:pt x="27" y="2"/>
                      </a:lnTo>
                      <a:lnTo>
                        <a:pt x="25" y="3"/>
                      </a:lnTo>
                      <a:lnTo>
                        <a:pt x="24" y="3"/>
                      </a:lnTo>
                      <a:lnTo>
                        <a:pt x="23" y="4"/>
                      </a:lnTo>
                      <a:lnTo>
                        <a:pt x="22" y="6"/>
                      </a:lnTo>
                      <a:lnTo>
                        <a:pt x="18" y="6"/>
                      </a:lnTo>
                      <a:lnTo>
                        <a:pt x="17" y="4"/>
                      </a:lnTo>
                      <a:lnTo>
                        <a:pt x="16" y="3"/>
                      </a:lnTo>
                      <a:lnTo>
                        <a:pt x="15" y="3"/>
                      </a:lnTo>
                      <a:lnTo>
                        <a:pt x="13" y="2"/>
                      </a:lnTo>
                      <a:lnTo>
                        <a:pt x="12" y="3"/>
                      </a:lnTo>
                      <a:lnTo>
                        <a:pt x="10" y="3"/>
                      </a:lnTo>
                      <a:lnTo>
                        <a:pt x="9" y="4"/>
                      </a:lnTo>
                      <a:lnTo>
                        <a:pt x="9" y="6"/>
                      </a:lnTo>
                      <a:lnTo>
                        <a:pt x="0"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451480" y="504396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57" name=""/>
                <p:cNvSpPr/>
                <p:nvPr/>
              </p:nvSpPr>
              <p:spPr>
                <a:xfrm>
                  <a:off x="4833360" y="2707920"/>
                  <a:ext cx="134280" cy="66600"/>
                </a:xfrm>
                <a:prstGeom prst="rect">
                  <a:avLst/>
                </a:prstGeom>
                <a:blipFill rotWithShape="0">
                  <a:blip r:embed="rId80"/>
                  <a:srcRect/>
                  <a:tile tx="0" ty="0" sx="100000" sy="100000" algn="ctr"/>
                </a:blip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58" name=""/>
                <p:cNvSpPr/>
                <p:nvPr/>
              </p:nvSpPr>
              <p:spPr>
                <a:xfrm>
                  <a:off x="4849200" y="2723760"/>
                  <a:ext cx="137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Equifax</a:t>
                  </a:r>
                  <a:endParaRPr b="0" lang="en-US" sz="300" spc="-1" strike="noStrike">
                    <a:solidFill>
                      <a:srgbClr val="ffffff"/>
                    </a:solidFill>
                    <a:latin typeface="Arial"/>
                  </a:endParaRPr>
                </a:p>
              </p:txBody>
            </p:sp>
            <p:sp>
              <p:nvSpPr>
                <p:cNvPr id="759" name=""/>
                <p:cNvSpPr/>
                <p:nvPr/>
              </p:nvSpPr>
              <p:spPr>
                <a:xfrm>
                  <a:off x="4884120" y="2774520"/>
                  <a:ext cx="16920" cy="47880"/>
                </a:xfrm>
                <a:custGeom>
                  <a:avLst/>
                  <a:gdLst/>
                  <a:ahLst/>
                  <a:rect l="l" t="t" r="r" b="b"/>
                  <a:pathLst>
                    <a:path w="16" h="36">
                      <a:moveTo>
                        <a:pt x="0" y="36"/>
                      </a:moveTo>
                      <a:lnTo>
                        <a:pt x="0" y="26"/>
                      </a:lnTo>
                      <a:lnTo>
                        <a:pt x="16" y="26"/>
                      </a:lnTo>
                      <a:lnTo>
                        <a:pt x="16"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0" name=""/>
                <p:cNvSpPr/>
                <p:nvPr/>
              </p:nvSpPr>
              <p:spPr>
                <a:xfrm>
                  <a:off x="4880880" y="2821320"/>
                  <a:ext cx="7200" cy="9000"/>
                </a:xfrm>
                <a:custGeom>
                  <a:avLst/>
                  <a:gdLst/>
                  <a:ahLst/>
                  <a:rect l="l" t="t" r="r" b="b"/>
                  <a:pathLst>
                    <a:path w="7" h="7">
                      <a:moveTo>
                        <a:pt x="7" y="1"/>
                      </a:moveTo>
                      <a:lnTo>
                        <a:pt x="3" y="7"/>
                      </a:lnTo>
                      <a:lnTo>
                        <a:pt x="0" y="1"/>
                      </a:lnTo>
                      <a:lnTo>
                        <a:pt x="1" y="0"/>
                      </a:lnTo>
                      <a:lnTo>
                        <a:pt x="3" y="0"/>
                      </a:lnTo>
                      <a:lnTo>
                        <a:pt x="5" y="0"/>
                      </a:lnTo>
                      <a:lnTo>
                        <a:pt x="7"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1" name=""/>
                <p:cNvSpPr/>
                <p:nvPr/>
              </p:nvSpPr>
              <p:spPr>
                <a:xfrm>
                  <a:off x="5020560" y="2311200"/>
                  <a:ext cx="855000" cy="532800"/>
                </a:xfrm>
                <a:custGeom>
                  <a:avLst/>
                  <a:gdLst/>
                  <a:ahLst/>
                  <a:rect l="l" t="t" r="r" b="b"/>
                  <a:pathLst>
                    <a:path w="808" h="399">
                      <a:moveTo>
                        <a:pt x="808" y="0"/>
                      </a:moveTo>
                      <a:lnTo>
                        <a:pt x="808" y="284"/>
                      </a:lnTo>
                      <a:lnTo>
                        <a:pt x="789" y="284"/>
                      </a:lnTo>
                      <a:lnTo>
                        <a:pt x="789" y="283"/>
                      </a:lnTo>
                      <a:lnTo>
                        <a:pt x="788" y="282"/>
                      </a:lnTo>
                      <a:lnTo>
                        <a:pt x="786" y="281"/>
                      </a:lnTo>
                      <a:lnTo>
                        <a:pt x="785" y="281"/>
                      </a:lnTo>
                      <a:lnTo>
                        <a:pt x="783" y="281"/>
                      </a:lnTo>
                      <a:lnTo>
                        <a:pt x="782" y="282"/>
                      </a:lnTo>
                      <a:lnTo>
                        <a:pt x="781" y="283"/>
                      </a:lnTo>
                      <a:lnTo>
                        <a:pt x="780" y="284"/>
                      </a:lnTo>
                      <a:lnTo>
                        <a:pt x="727" y="284"/>
                      </a:lnTo>
                      <a:lnTo>
                        <a:pt x="727" y="283"/>
                      </a:lnTo>
                      <a:lnTo>
                        <a:pt x="726" y="282"/>
                      </a:lnTo>
                      <a:lnTo>
                        <a:pt x="725" y="281"/>
                      </a:lnTo>
                      <a:lnTo>
                        <a:pt x="723" y="281"/>
                      </a:lnTo>
                      <a:lnTo>
                        <a:pt x="721" y="281"/>
                      </a:lnTo>
                      <a:lnTo>
                        <a:pt x="720" y="282"/>
                      </a:lnTo>
                      <a:lnTo>
                        <a:pt x="719" y="283"/>
                      </a:lnTo>
                      <a:lnTo>
                        <a:pt x="718" y="284"/>
                      </a:lnTo>
                      <a:lnTo>
                        <a:pt x="706" y="284"/>
                      </a:lnTo>
                      <a:lnTo>
                        <a:pt x="705" y="283"/>
                      </a:lnTo>
                      <a:lnTo>
                        <a:pt x="704" y="282"/>
                      </a:lnTo>
                      <a:lnTo>
                        <a:pt x="703" y="281"/>
                      </a:lnTo>
                      <a:lnTo>
                        <a:pt x="701" y="281"/>
                      </a:lnTo>
                      <a:lnTo>
                        <a:pt x="699" y="281"/>
                      </a:lnTo>
                      <a:lnTo>
                        <a:pt x="698" y="282"/>
                      </a:lnTo>
                      <a:lnTo>
                        <a:pt x="697" y="283"/>
                      </a:lnTo>
                      <a:lnTo>
                        <a:pt x="697" y="284"/>
                      </a:lnTo>
                      <a:lnTo>
                        <a:pt x="601" y="284"/>
                      </a:lnTo>
                      <a:lnTo>
                        <a:pt x="601" y="283"/>
                      </a:lnTo>
                      <a:lnTo>
                        <a:pt x="600" y="282"/>
                      </a:lnTo>
                      <a:lnTo>
                        <a:pt x="598" y="281"/>
                      </a:lnTo>
                      <a:lnTo>
                        <a:pt x="597" y="281"/>
                      </a:lnTo>
                      <a:lnTo>
                        <a:pt x="595" y="281"/>
                      </a:lnTo>
                      <a:lnTo>
                        <a:pt x="593" y="282"/>
                      </a:lnTo>
                      <a:lnTo>
                        <a:pt x="592" y="283"/>
                      </a:lnTo>
                      <a:lnTo>
                        <a:pt x="592" y="284"/>
                      </a:lnTo>
                      <a:lnTo>
                        <a:pt x="582" y="284"/>
                      </a:lnTo>
                      <a:lnTo>
                        <a:pt x="582" y="283"/>
                      </a:lnTo>
                      <a:lnTo>
                        <a:pt x="581" y="282"/>
                      </a:lnTo>
                      <a:lnTo>
                        <a:pt x="580" y="281"/>
                      </a:lnTo>
                      <a:lnTo>
                        <a:pt x="578" y="281"/>
                      </a:lnTo>
                      <a:lnTo>
                        <a:pt x="576" y="281"/>
                      </a:lnTo>
                      <a:lnTo>
                        <a:pt x="575" y="282"/>
                      </a:lnTo>
                      <a:lnTo>
                        <a:pt x="574" y="283"/>
                      </a:lnTo>
                      <a:lnTo>
                        <a:pt x="573" y="284"/>
                      </a:lnTo>
                      <a:lnTo>
                        <a:pt x="555" y="284"/>
                      </a:lnTo>
                      <a:lnTo>
                        <a:pt x="555" y="283"/>
                      </a:lnTo>
                      <a:lnTo>
                        <a:pt x="554" y="282"/>
                      </a:lnTo>
                      <a:lnTo>
                        <a:pt x="553" y="281"/>
                      </a:lnTo>
                      <a:lnTo>
                        <a:pt x="551" y="281"/>
                      </a:lnTo>
                      <a:lnTo>
                        <a:pt x="549" y="281"/>
                      </a:lnTo>
                      <a:lnTo>
                        <a:pt x="548" y="282"/>
                      </a:lnTo>
                      <a:lnTo>
                        <a:pt x="547" y="283"/>
                      </a:lnTo>
                      <a:lnTo>
                        <a:pt x="546" y="284"/>
                      </a:lnTo>
                      <a:lnTo>
                        <a:pt x="504" y="284"/>
                      </a:lnTo>
                      <a:lnTo>
                        <a:pt x="504" y="399"/>
                      </a:lnTo>
                      <a:lnTo>
                        <a:pt x="490" y="399"/>
                      </a:lnTo>
                      <a:lnTo>
                        <a:pt x="489" y="398"/>
                      </a:lnTo>
                      <a:lnTo>
                        <a:pt x="488" y="397"/>
                      </a:lnTo>
                      <a:lnTo>
                        <a:pt x="487" y="396"/>
                      </a:lnTo>
                      <a:lnTo>
                        <a:pt x="485" y="396"/>
                      </a:lnTo>
                      <a:lnTo>
                        <a:pt x="483" y="396"/>
                      </a:lnTo>
                      <a:lnTo>
                        <a:pt x="482" y="397"/>
                      </a:lnTo>
                      <a:lnTo>
                        <a:pt x="481" y="398"/>
                      </a:lnTo>
                      <a:lnTo>
                        <a:pt x="481" y="399"/>
                      </a:lnTo>
                      <a:lnTo>
                        <a:pt x="462" y="399"/>
                      </a:lnTo>
                      <a:lnTo>
                        <a:pt x="461" y="398"/>
                      </a:lnTo>
                      <a:lnTo>
                        <a:pt x="461" y="397"/>
                      </a:lnTo>
                      <a:lnTo>
                        <a:pt x="459" y="396"/>
                      </a:lnTo>
                      <a:lnTo>
                        <a:pt x="457" y="396"/>
                      </a:lnTo>
                      <a:lnTo>
                        <a:pt x="456" y="396"/>
                      </a:lnTo>
                      <a:lnTo>
                        <a:pt x="454" y="397"/>
                      </a:lnTo>
                      <a:lnTo>
                        <a:pt x="453" y="398"/>
                      </a:lnTo>
                      <a:lnTo>
                        <a:pt x="453" y="399"/>
                      </a:lnTo>
                      <a:lnTo>
                        <a:pt x="438" y="399"/>
                      </a:lnTo>
                      <a:lnTo>
                        <a:pt x="438" y="397"/>
                      </a:lnTo>
                      <a:lnTo>
                        <a:pt x="437" y="396"/>
                      </a:lnTo>
                      <a:lnTo>
                        <a:pt x="436" y="394"/>
                      </a:lnTo>
                      <a:lnTo>
                        <a:pt x="434" y="393"/>
                      </a:lnTo>
                      <a:lnTo>
                        <a:pt x="431" y="393"/>
                      </a:lnTo>
                      <a:lnTo>
                        <a:pt x="429" y="393"/>
                      </a:lnTo>
                      <a:lnTo>
                        <a:pt x="427" y="393"/>
                      </a:lnTo>
                      <a:lnTo>
                        <a:pt x="425" y="394"/>
                      </a:lnTo>
                      <a:lnTo>
                        <a:pt x="423" y="396"/>
                      </a:lnTo>
                      <a:lnTo>
                        <a:pt x="422" y="397"/>
                      </a:lnTo>
                      <a:lnTo>
                        <a:pt x="422" y="399"/>
                      </a:lnTo>
                      <a:lnTo>
                        <a:pt x="409" y="399"/>
                      </a:lnTo>
                      <a:lnTo>
                        <a:pt x="409" y="398"/>
                      </a:lnTo>
                      <a:lnTo>
                        <a:pt x="408" y="397"/>
                      </a:lnTo>
                      <a:lnTo>
                        <a:pt x="406" y="396"/>
                      </a:lnTo>
                      <a:lnTo>
                        <a:pt x="405" y="396"/>
                      </a:lnTo>
                      <a:lnTo>
                        <a:pt x="403" y="396"/>
                      </a:lnTo>
                      <a:lnTo>
                        <a:pt x="401" y="397"/>
                      </a:lnTo>
                      <a:lnTo>
                        <a:pt x="401" y="398"/>
                      </a:lnTo>
                      <a:lnTo>
                        <a:pt x="400" y="399"/>
                      </a:lnTo>
                      <a:lnTo>
                        <a:pt x="389" y="399"/>
                      </a:lnTo>
                      <a:lnTo>
                        <a:pt x="389" y="398"/>
                      </a:lnTo>
                      <a:lnTo>
                        <a:pt x="388" y="397"/>
                      </a:lnTo>
                      <a:lnTo>
                        <a:pt x="386" y="396"/>
                      </a:lnTo>
                      <a:lnTo>
                        <a:pt x="384" y="396"/>
                      </a:lnTo>
                      <a:lnTo>
                        <a:pt x="383" y="396"/>
                      </a:lnTo>
                      <a:lnTo>
                        <a:pt x="381" y="397"/>
                      </a:lnTo>
                      <a:lnTo>
                        <a:pt x="380" y="398"/>
                      </a:lnTo>
                      <a:lnTo>
                        <a:pt x="380" y="399"/>
                      </a:lnTo>
                      <a:lnTo>
                        <a:pt x="378" y="399"/>
                      </a:lnTo>
                      <a:lnTo>
                        <a:pt x="378" y="398"/>
                      </a:lnTo>
                      <a:lnTo>
                        <a:pt x="376" y="397"/>
                      </a:lnTo>
                      <a:lnTo>
                        <a:pt x="375" y="396"/>
                      </a:lnTo>
                      <a:lnTo>
                        <a:pt x="373" y="396"/>
                      </a:lnTo>
                      <a:lnTo>
                        <a:pt x="372" y="396"/>
                      </a:lnTo>
                      <a:lnTo>
                        <a:pt x="370" y="397"/>
                      </a:lnTo>
                      <a:lnTo>
                        <a:pt x="369" y="398"/>
                      </a:lnTo>
                      <a:lnTo>
                        <a:pt x="369" y="399"/>
                      </a:lnTo>
                      <a:lnTo>
                        <a:pt x="358" y="399"/>
                      </a:lnTo>
                      <a:lnTo>
                        <a:pt x="358" y="398"/>
                      </a:lnTo>
                      <a:lnTo>
                        <a:pt x="357" y="397"/>
                      </a:lnTo>
                      <a:lnTo>
                        <a:pt x="355" y="396"/>
                      </a:lnTo>
                      <a:lnTo>
                        <a:pt x="353" y="396"/>
                      </a:lnTo>
                      <a:lnTo>
                        <a:pt x="352" y="396"/>
                      </a:lnTo>
                      <a:lnTo>
                        <a:pt x="350" y="397"/>
                      </a:lnTo>
                      <a:lnTo>
                        <a:pt x="349" y="398"/>
                      </a:lnTo>
                      <a:lnTo>
                        <a:pt x="349" y="399"/>
                      </a:lnTo>
                      <a:lnTo>
                        <a:pt x="305" y="399"/>
                      </a:lnTo>
                      <a:lnTo>
                        <a:pt x="304" y="398"/>
                      </a:lnTo>
                      <a:lnTo>
                        <a:pt x="303" y="397"/>
                      </a:lnTo>
                      <a:lnTo>
                        <a:pt x="302" y="396"/>
                      </a:lnTo>
                      <a:lnTo>
                        <a:pt x="300" y="396"/>
                      </a:lnTo>
                      <a:lnTo>
                        <a:pt x="298" y="396"/>
                      </a:lnTo>
                      <a:lnTo>
                        <a:pt x="297" y="397"/>
                      </a:lnTo>
                      <a:lnTo>
                        <a:pt x="296" y="398"/>
                      </a:lnTo>
                      <a:lnTo>
                        <a:pt x="296" y="399"/>
                      </a:lnTo>
                      <a:lnTo>
                        <a:pt x="289" y="399"/>
                      </a:lnTo>
                      <a:lnTo>
                        <a:pt x="288" y="398"/>
                      </a:lnTo>
                      <a:lnTo>
                        <a:pt x="287" y="397"/>
                      </a:lnTo>
                      <a:lnTo>
                        <a:pt x="286" y="396"/>
                      </a:lnTo>
                      <a:lnTo>
                        <a:pt x="284" y="396"/>
                      </a:lnTo>
                      <a:lnTo>
                        <a:pt x="282" y="396"/>
                      </a:lnTo>
                      <a:lnTo>
                        <a:pt x="281" y="397"/>
                      </a:lnTo>
                      <a:lnTo>
                        <a:pt x="280" y="398"/>
                      </a:lnTo>
                      <a:lnTo>
                        <a:pt x="280" y="399"/>
                      </a:lnTo>
                      <a:lnTo>
                        <a:pt x="175" y="399"/>
                      </a:lnTo>
                      <a:lnTo>
                        <a:pt x="174" y="398"/>
                      </a:lnTo>
                      <a:lnTo>
                        <a:pt x="173" y="397"/>
                      </a:lnTo>
                      <a:lnTo>
                        <a:pt x="172" y="396"/>
                      </a:lnTo>
                      <a:lnTo>
                        <a:pt x="170" y="396"/>
                      </a:lnTo>
                      <a:lnTo>
                        <a:pt x="168" y="396"/>
                      </a:lnTo>
                      <a:lnTo>
                        <a:pt x="167" y="397"/>
                      </a:lnTo>
                      <a:lnTo>
                        <a:pt x="166" y="398"/>
                      </a:lnTo>
                      <a:lnTo>
                        <a:pt x="166" y="399"/>
                      </a:lnTo>
                      <a:lnTo>
                        <a:pt x="123" y="399"/>
                      </a:lnTo>
                      <a:lnTo>
                        <a:pt x="123" y="397"/>
                      </a:lnTo>
                      <a:lnTo>
                        <a:pt x="122" y="396"/>
                      </a:lnTo>
                      <a:lnTo>
                        <a:pt x="120" y="395"/>
                      </a:lnTo>
                      <a:lnTo>
                        <a:pt x="119" y="394"/>
                      </a:lnTo>
                      <a:lnTo>
                        <a:pt x="117" y="393"/>
                      </a:lnTo>
                      <a:lnTo>
                        <a:pt x="114" y="393"/>
                      </a:lnTo>
                      <a:lnTo>
                        <a:pt x="112" y="394"/>
                      </a:lnTo>
                      <a:lnTo>
                        <a:pt x="110" y="395"/>
                      </a:lnTo>
                      <a:lnTo>
                        <a:pt x="109" y="396"/>
                      </a:lnTo>
                      <a:lnTo>
                        <a:pt x="108" y="397"/>
                      </a:lnTo>
                      <a:lnTo>
                        <a:pt x="108" y="399"/>
                      </a:lnTo>
                      <a:lnTo>
                        <a:pt x="101" y="399"/>
                      </a:lnTo>
                      <a:lnTo>
                        <a:pt x="101" y="398"/>
                      </a:lnTo>
                      <a:lnTo>
                        <a:pt x="100" y="397"/>
                      </a:lnTo>
                      <a:lnTo>
                        <a:pt x="99" y="396"/>
                      </a:lnTo>
                      <a:lnTo>
                        <a:pt x="97" y="396"/>
                      </a:lnTo>
                      <a:lnTo>
                        <a:pt x="95" y="396"/>
                      </a:lnTo>
                      <a:lnTo>
                        <a:pt x="94" y="397"/>
                      </a:lnTo>
                      <a:lnTo>
                        <a:pt x="93" y="398"/>
                      </a:lnTo>
                      <a:lnTo>
                        <a:pt x="92" y="399"/>
                      </a:lnTo>
                      <a:lnTo>
                        <a:pt x="86" y="399"/>
                      </a:lnTo>
                      <a:lnTo>
                        <a:pt x="85" y="397"/>
                      </a:lnTo>
                      <a:lnTo>
                        <a:pt x="84" y="396"/>
                      </a:lnTo>
                      <a:lnTo>
                        <a:pt x="83" y="395"/>
                      </a:lnTo>
                      <a:lnTo>
                        <a:pt x="81" y="394"/>
                      </a:lnTo>
                      <a:lnTo>
                        <a:pt x="79" y="394"/>
                      </a:lnTo>
                      <a:lnTo>
                        <a:pt x="77" y="394"/>
                      </a:lnTo>
                      <a:lnTo>
                        <a:pt x="75" y="395"/>
                      </a:lnTo>
                      <a:lnTo>
                        <a:pt x="73" y="396"/>
                      </a:lnTo>
                      <a:lnTo>
                        <a:pt x="72" y="397"/>
                      </a:lnTo>
                      <a:lnTo>
                        <a:pt x="72" y="399"/>
                      </a:lnTo>
                      <a:lnTo>
                        <a:pt x="66" y="399"/>
                      </a:lnTo>
                      <a:lnTo>
                        <a:pt x="65" y="398"/>
                      </a:lnTo>
                      <a:lnTo>
                        <a:pt x="64" y="397"/>
                      </a:lnTo>
                      <a:lnTo>
                        <a:pt x="63" y="396"/>
                      </a:lnTo>
                      <a:lnTo>
                        <a:pt x="61" y="396"/>
                      </a:lnTo>
                      <a:lnTo>
                        <a:pt x="59" y="396"/>
                      </a:lnTo>
                      <a:lnTo>
                        <a:pt x="58" y="397"/>
                      </a:lnTo>
                      <a:lnTo>
                        <a:pt x="57" y="398"/>
                      </a:lnTo>
                      <a:lnTo>
                        <a:pt x="57" y="399"/>
                      </a:lnTo>
                      <a:lnTo>
                        <a:pt x="31" y="399"/>
                      </a:lnTo>
                      <a:lnTo>
                        <a:pt x="31" y="398"/>
                      </a:lnTo>
                      <a:lnTo>
                        <a:pt x="30" y="397"/>
                      </a:lnTo>
                      <a:lnTo>
                        <a:pt x="28" y="396"/>
                      </a:lnTo>
                      <a:lnTo>
                        <a:pt x="27" y="396"/>
                      </a:lnTo>
                      <a:lnTo>
                        <a:pt x="25" y="396"/>
                      </a:lnTo>
                      <a:lnTo>
                        <a:pt x="24" y="397"/>
                      </a:lnTo>
                      <a:lnTo>
                        <a:pt x="23" y="398"/>
                      </a:lnTo>
                      <a:lnTo>
                        <a:pt x="22" y="399"/>
                      </a:lnTo>
                      <a:lnTo>
                        <a:pt x="18" y="399"/>
                      </a:lnTo>
                      <a:lnTo>
                        <a:pt x="17" y="398"/>
                      </a:lnTo>
                      <a:lnTo>
                        <a:pt x="16" y="397"/>
                      </a:lnTo>
                      <a:lnTo>
                        <a:pt x="15" y="396"/>
                      </a:lnTo>
                      <a:lnTo>
                        <a:pt x="13" y="396"/>
                      </a:lnTo>
                      <a:lnTo>
                        <a:pt x="12" y="396"/>
                      </a:lnTo>
                      <a:lnTo>
                        <a:pt x="10" y="397"/>
                      </a:lnTo>
                      <a:lnTo>
                        <a:pt x="9" y="398"/>
                      </a:lnTo>
                      <a:lnTo>
                        <a:pt x="9" y="399"/>
                      </a:lnTo>
                      <a:lnTo>
                        <a:pt x="0" y="39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020560" y="2838600"/>
                  <a:ext cx="13680" cy="1188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63" name=""/>
                <p:cNvSpPr/>
                <p:nvPr/>
              </p:nvSpPr>
              <p:spPr>
                <a:xfrm>
                  <a:off x="4993200" y="2532600"/>
                  <a:ext cx="1299960" cy="285840"/>
                </a:xfrm>
                <a:custGeom>
                  <a:avLst/>
                  <a:gdLst/>
                  <a:ahLst/>
                  <a:rect l="l" t="t" r="r" b="b"/>
                  <a:pathLst>
                    <a:path w="1228" h="214">
                      <a:moveTo>
                        <a:pt x="1228" y="14"/>
                      </a:moveTo>
                      <a:lnTo>
                        <a:pt x="1213" y="14"/>
                      </a:lnTo>
                      <a:lnTo>
                        <a:pt x="1212" y="12"/>
                      </a:lnTo>
                      <a:lnTo>
                        <a:pt x="1211" y="11"/>
                      </a:lnTo>
                      <a:lnTo>
                        <a:pt x="1210" y="9"/>
                      </a:lnTo>
                      <a:lnTo>
                        <a:pt x="1208" y="9"/>
                      </a:lnTo>
                      <a:lnTo>
                        <a:pt x="1206" y="8"/>
                      </a:lnTo>
                      <a:lnTo>
                        <a:pt x="1204" y="8"/>
                      </a:lnTo>
                      <a:lnTo>
                        <a:pt x="1201" y="9"/>
                      </a:lnTo>
                      <a:lnTo>
                        <a:pt x="1200" y="9"/>
                      </a:lnTo>
                      <a:lnTo>
                        <a:pt x="1198" y="11"/>
                      </a:lnTo>
                      <a:lnTo>
                        <a:pt x="1197" y="12"/>
                      </a:lnTo>
                      <a:lnTo>
                        <a:pt x="1197" y="14"/>
                      </a:lnTo>
                      <a:lnTo>
                        <a:pt x="1156" y="14"/>
                      </a:lnTo>
                      <a:lnTo>
                        <a:pt x="1155" y="12"/>
                      </a:lnTo>
                      <a:lnTo>
                        <a:pt x="1154" y="11"/>
                      </a:lnTo>
                      <a:lnTo>
                        <a:pt x="1153" y="9"/>
                      </a:lnTo>
                      <a:lnTo>
                        <a:pt x="1151" y="9"/>
                      </a:lnTo>
                      <a:lnTo>
                        <a:pt x="1149" y="8"/>
                      </a:lnTo>
                      <a:lnTo>
                        <a:pt x="1147" y="8"/>
                      </a:lnTo>
                      <a:lnTo>
                        <a:pt x="1145" y="9"/>
                      </a:lnTo>
                      <a:lnTo>
                        <a:pt x="1143" y="9"/>
                      </a:lnTo>
                      <a:lnTo>
                        <a:pt x="1141" y="11"/>
                      </a:lnTo>
                      <a:lnTo>
                        <a:pt x="1140" y="12"/>
                      </a:lnTo>
                      <a:lnTo>
                        <a:pt x="1140" y="14"/>
                      </a:lnTo>
                      <a:lnTo>
                        <a:pt x="1135" y="14"/>
                      </a:lnTo>
                      <a:lnTo>
                        <a:pt x="1135" y="12"/>
                      </a:lnTo>
                      <a:lnTo>
                        <a:pt x="1134" y="11"/>
                      </a:lnTo>
                      <a:lnTo>
                        <a:pt x="1133" y="9"/>
                      </a:lnTo>
                      <a:lnTo>
                        <a:pt x="1131" y="9"/>
                      </a:lnTo>
                      <a:lnTo>
                        <a:pt x="1129" y="8"/>
                      </a:lnTo>
                      <a:lnTo>
                        <a:pt x="1126" y="8"/>
                      </a:lnTo>
                      <a:lnTo>
                        <a:pt x="1124" y="9"/>
                      </a:lnTo>
                      <a:lnTo>
                        <a:pt x="1122" y="9"/>
                      </a:lnTo>
                      <a:lnTo>
                        <a:pt x="1121" y="11"/>
                      </a:lnTo>
                      <a:lnTo>
                        <a:pt x="1120" y="12"/>
                      </a:lnTo>
                      <a:lnTo>
                        <a:pt x="1120" y="14"/>
                      </a:lnTo>
                      <a:lnTo>
                        <a:pt x="1105" y="14"/>
                      </a:lnTo>
                      <a:lnTo>
                        <a:pt x="1105" y="13"/>
                      </a:lnTo>
                      <a:lnTo>
                        <a:pt x="1104" y="12"/>
                      </a:lnTo>
                      <a:lnTo>
                        <a:pt x="1102" y="11"/>
                      </a:lnTo>
                      <a:lnTo>
                        <a:pt x="1101" y="11"/>
                      </a:lnTo>
                      <a:lnTo>
                        <a:pt x="1099" y="11"/>
                      </a:lnTo>
                      <a:lnTo>
                        <a:pt x="1097" y="12"/>
                      </a:lnTo>
                      <a:lnTo>
                        <a:pt x="1096" y="13"/>
                      </a:lnTo>
                      <a:lnTo>
                        <a:pt x="1096" y="14"/>
                      </a:lnTo>
                      <a:lnTo>
                        <a:pt x="1091" y="14"/>
                      </a:lnTo>
                      <a:lnTo>
                        <a:pt x="1091" y="13"/>
                      </a:lnTo>
                      <a:lnTo>
                        <a:pt x="1090" y="12"/>
                      </a:lnTo>
                      <a:lnTo>
                        <a:pt x="1089" y="11"/>
                      </a:lnTo>
                      <a:lnTo>
                        <a:pt x="1087" y="11"/>
                      </a:lnTo>
                      <a:lnTo>
                        <a:pt x="1085" y="11"/>
                      </a:lnTo>
                      <a:lnTo>
                        <a:pt x="1084" y="12"/>
                      </a:lnTo>
                      <a:lnTo>
                        <a:pt x="1083" y="13"/>
                      </a:lnTo>
                      <a:lnTo>
                        <a:pt x="1083" y="14"/>
                      </a:lnTo>
                      <a:lnTo>
                        <a:pt x="1077" y="14"/>
                      </a:lnTo>
                      <a:lnTo>
                        <a:pt x="1077" y="12"/>
                      </a:lnTo>
                      <a:lnTo>
                        <a:pt x="1076" y="11"/>
                      </a:lnTo>
                      <a:lnTo>
                        <a:pt x="1074" y="10"/>
                      </a:lnTo>
                      <a:lnTo>
                        <a:pt x="1073" y="9"/>
                      </a:lnTo>
                      <a:lnTo>
                        <a:pt x="1070" y="9"/>
                      </a:lnTo>
                      <a:lnTo>
                        <a:pt x="1068" y="9"/>
                      </a:lnTo>
                      <a:lnTo>
                        <a:pt x="1067" y="10"/>
                      </a:lnTo>
                      <a:lnTo>
                        <a:pt x="1065" y="11"/>
                      </a:lnTo>
                      <a:lnTo>
                        <a:pt x="1064" y="12"/>
                      </a:lnTo>
                      <a:lnTo>
                        <a:pt x="1064" y="14"/>
                      </a:lnTo>
                      <a:lnTo>
                        <a:pt x="1055" y="14"/>
                      </a:lnTo>
                      <a:lnTo>
                        <a:pt x="1054" y="13"/>
                      </a:lnTo>
                      <a:lnTo>
                        <a:pt x="1053" y="12"/>
                      </a:lnTo>
                      <a:lnTo>
                        <a:pt x="1052" y="11"/>
                      </a:lnTo>
                      <a:lnTo>
                        <a:pt x="1050" y="11"/>
                      </a:lnTo>
                      <a:lnTo>
                        <a:pt x="1049" y="11"/>
                      </a:lnTo>
                      <a:lnTo>
                        <a:pt x="1047" y="12"/>
                      </a:lnTo>
                      <a:lnTo>
                        <a:pt x="1046" y="13"/>
                      </a:lnTo>
                      <a:lnTo>
                        <a:pt x="1046" y="14"/>
                      </a:lnTo>
                      <a:lnTo>
                        <a:pt x="1027" y="14"/>
                      </a:lnTo>
                      <a:lnTo>
                        <a:pt x="1027" y="13"/>
                      </a:lnTo>
                      <a:lnTo>
                        <a:pt x="1026" y="12"/>
                      </a:lnTo>
                      <a:lnTo>
                        <a:pt x="1025" y="11"/>
                      </a:lnTo>
                      <a:lnTo>
                        <a:pt x="1023" y="11"/>
                      </a:lnTo>
                      <a:lnTo>
                        <a:pt x="1021" y="11"/>
                      </a:lnTo>
                      <a:lnTo>
                        <a:pt x="1020" y="12"/>
                      </a:lnTo>
                      <a:lnTo>
                        <a:pt x="1019" y="13"/>
                      </a:lnTo>
                      <a:lnTo>
                        <a:pt x="1018" y="14"/>
                      </a:lnTo>
                      <a:lnTo>
                        <a:pt x="1000" y="14"/>
                      </a:lnTo>
                      <a:lnTo>
                        <a:pt x="999" y="13"/>
                      </a:lnTo>
                      <a:lnTo>
                        <a:pt x="998" y="12"/>
                      </a:lnTo>
                      <a:lnTo>
                        <a:pt x="997" y="11"/>
                      </a:lnTo>
                      <a:lnTo>
                        <a:pt x="995" y="11"/>
                      </a:lnTo>
                      <a:lnTo>
                        <a:pt x="993" y="11"/>
                      </a:lnTo>
                      <a:lnTo>
                        <a:pt x="992" y="12"/>
                      </a:lnTo>
                      <a:lnTo>
                        <a:pt x="991" y="13"/>
                      </a:lnTo>
                      <a:lnTo>
                        <a:pt x="991" y="14"/>
                      </a:lnTo>
                      <a:lnTo>
                        <a:pt x="921" y="14"/>
                      </a:lnTo>
                      <a:lnTo>
                        <a:pt x="921" y="4"/>
                      </a:lnTo>
                      <a:lnTo>
                        <a:pt x="920" y="4"/>
                      </a:lnTo>
                      <a:lnTo>
                        <a:pt x="919" y="2"/>
                      </a:lnTo>
                      <a:lnTo>
                        <a:pt x="918" y="1"/>
                      </a:lnTo>
                      <a:lnTo>
                        <a:pt x="917" y="0"/>
                      </a:lnTo>
                      <a:lnTo>
                        <a:pt x="915" y="0"/>
                      </a:lnTo>
                      <a:lnTo>
                        <a:pt x="913" y="0"/>
                      </a:lnTo>
                      <a:lnTo>
                        <a:pt x="912" y="1"/>
                      </a:lnTo>
                      <a:lnTo>
                        <a:pt x="911" y="2"/>
                      </a:lnTo>
                      <a:lnTo>
                        <a:pt x="911" y="4"/>
                      </a:lnTo>
                      <a:lnTo>
                        <a:pt x="899" y="4"/>
                      </a:lnTo>
                      <a:lnTo>
                        <a:pt x="899" y="2"/>
                      </a:lnTo>
                      <a:lnTo>
                        <a:pt x="898" y="1"/>
                      </a:lnTo>
                      <a:lnTo>
                        <a:pt x="897" y="0"/>
                      </a:lnTo>
                      <a:lnTo>
                        <a:pt x="895" y="0"/>
                      </a:lnTo>
                      <a:lnTo>
                        <a:pt x="893" y="0"/>
                      </a:lnTo>
                      <a:lnTo>
                        <a:pt x="892" y="1"/>
                      </a:lnTo>
                      <a:lnTo>
                        <a:pt x="891" y="2"/>
                      </a:lnTo>
                      <a:lnTo>
                        <a:pt x="890" y="4"/>
                      </a:lnTo>
                      <a:lnTo>
                        <a:pt x="872" y="4"/>
                      </a:lnTo>
                      <a:lnTo>
                        <a:pt x="872" y="2"/>
                      </a:lnTo>
                      <a:lnTo>
                        <a:pt x="871" y="1"/>
                      </a:lnTo>
                      <a:lnTo>
                        <a:pt x="869" y="0"/>
                      </a:lnTo>
                      <a:lnTo>
                        <a:pt x="868" y="0"/>
                      </a:lnTo>
                      <a:lnTo>
                        <a:pt x="866" y="0"/>
                      </a:lnTo>
                      <a:lnTo>
                        <a:pt x="864" y="1"/>
                      </a:lnTo>
                      <a:lnTo>
                        <a:pt x="863" y="2"/>
                      </a:lnTo>
                      <a:lnTo>
                        <a:pt x="863" y="4"/>
                      </a:lnTo>
                      <a:lnTo>
                        <a:pt x="854" y="4"/>
                      </a:lnTo>
                      <a:lnTo>
                        <a:pt x="854" y="2"/>
                      </a:lnTo>
                      <a:lnTo>
                        <a:pt x="853" y="1"/>
                      </a:lnTo>
                      <a:lnTo>
                        <a:pt x="851" y="0"/>
                      </a:lnTo>
                      <a:lnTo>
                        <a:pt x="849" y="0"/>
                      </a:lnTo>
                      <a:lnTo>
                        <a:pt x="848" y="0"/>
                      </a:lnTo>
                      <a:lnTo>
                        <a:pt x="846" y="1"/>
                      </a:lnTo>
                      <a:lnTo>
                        <a:pt x="845" y="2"/>
                      </a:lnTo>
                      <a:lnTo>
                        <a:pt x="845" y="4"/>
                      </a:lnTo>
                      <a:lnTo>
                        <a:pt x="839" y="4"/>
                      </a:lnTo>
                      <a:lnTo>
                        <a:pt x="839" y="2"/>
                      </a:lnTo>
                      <a:lnTo>
                        <a:pt x="838" y="1"/>
                      </a:lnTo>
                      <a:lnTo>
                        <a:pt x="836" y="0"/>
                      </a:lnTo>
                      <a:lnTo>
                        <a:pt x="834" y="0"/>
                      </a:lnTo>
                      <a:lnTo>
                        <a:pt x="833" y="0"/>
                      </a:lnTo>
                      <a:lnTo>
                        <a:pt x="831" y="1"/>
                      </a:lnTo>
                      <a:lnTo>
                        <a:pt x="830" y="2"/>
                      </a:lnTo>
                      <a:lnTo>
                        <a:pt x="830" y="4"/>
                      </a:lnTo>
                      <a:lnTo>
                        <a:pt x="753" y="4"/>
                      </a:lnTo>
                      <a:lnTo>
                        <a:pt x="753" y="2"/>
                      </a:lnTo>
                      <a:lnTo>
                        <a:pt x="752" y="1"/>
                      </a:lnTo>
                      <a:lnTo>
                        <a:pt x="751" y="0"/>
                      </a:lnTo>
                      <a:lnTo>
                        <a:pt x="749" y="0"/>
                      </a:lnTo>
                      <a:lnTo>
                        <a:pt x="747" y="0"/>
                      </a:lnTo>
                      <a:lnTo>
                        <a:pt x="746" y="1"/>
                      </a:lnTo>
                      <a:lnTo>
                        <a:pt x="745" y="2"/>
                      </a:lnTo>
                      <a:lnTo>
                        <a:pt x="744" y="4"/>
                      </a:lnTo>
                      <a:lnTo>
                        <a:pt x="732" y="4"/>
                      </a:lnTo>
                      <a:lnTo>
                        <a:pt x="731" y="2"/>
                      </a:lnTo>
                      <a:lnTo>
                        <a:pt x="730" y="1"/>
                      </a:lnTo>
                      <a:lnTo>
                        <a:pt x="729" y="0"/>
                      </a:lnTo>
                      <a:lnTo>
                        <a:pt x="727" y="0"/>
                      </a:lnTo>
                      <a:lnTo>
                        <a:pt x="725" y="0"/>
                      </a:lnTo>
                      <a:lnTo>
                        <a:pt x="724" y="1"/>
                      </a:lnTo>
                      <a:lnTo>
                        <a:pt x="723" y="2"/>
                      </a:lnTo>
                      <a:lnTo>
                        <a:pt x="723" y="4"/>
                      </a:lnTo>
                      <a:lnTo>
                        <a:pt x="581" y="4"/>
                      </a:lnTo>
                      <a:lnTo>
                        <a:pt x="581" y="2"/>
                      </a:lnTo>
                      <a:lnTo>
                        <a:pt x="580" y="1"/>
                      </a:lnTo>
                      <a:lnTo>
                        <a:pt x="579" y="0"/>
                      </a:lnTo>
                      <a:lnTo>
                        <a:pt x="577" y="0"/>
                      </a:lnTo>
                      <a:lnTo>
                        <a:pt x="575" y="0"/>
                      </a:lnTo>
                      <a:lnTo>
                        <a:pt x="574" y="1"/>
                      </a:lnTo>
                      <a:lnTo>
                        <a:pt x="573" y="2"/>
                      </a:lnTo>
                      <a:lnTo>
                        <a:pt x="572" y="4"/>
                      </a:lnTo>
                      <a:lnTo>
                        <a:pt x="516" y="4"/>
                      </a:lnTo>
                      <a:lnTo>
                        <a:pt x="515" y="2"/>
                      </a:lnTo>
                      <a:lnTo>
                        <a:pt x="514" y="1"/>
                      </a:lnTo>
                      <a:lnTo>
                        <a:pt x="513" y="0"/>
                      </a:lnTo>
                      <a:lnTo>
                        <a:pt x="511" y="0"/>
                      </a:lnTo>
                      <a:lnTo>
                        <a:pt x="509" y="0"/>
                      </a:lnTo>
                      <a:lnTo>
                        <a:pt x="508" y="1"/>
                      </a:lnTo>
                      <a:lnTo>
                        <a:pt x="507" y="2"/>
                      </a:lnTo>
                      <a:lnTo>
                        <a:pt x="507" y="4"/>
                      </a:lnTo>
                      <a:lnTo>
                        <a:pt x="488" y="4"/>
                      </a:lnTo>
                      <a:lnTo>
                        <a:pt x="487" y="2"/>
                      </a:lnTo>
                      <a:lnTo>
                        <a:pt x="487" y="1"/>
                      </a:lnTo>
                      <a:lnTo>
                        <a:pt x="485" y="0"/>
                      </a:lnTo>
                      <a:lnTo>
                        <a:pt x="483" y="0"/>
                      </a:lnTo>
                      <a:lnTo>
                        <a:pt x="482" y="0"/>
                      </a:lnTo>
                      <a:lnTo>
                        <a:pt x="480" y="1"/>
                      </a:lnTo>
                      <a:lnTo>
                        <a:pt x="479" y="2"/>
                      </a:lnTo>
                      <a:lnTo>
                        <a:pt x="479" y="4"/>
                      </a:lnTo>
                      <a:lnTo>
                        <a:pt x="457" y="4"/>
                      </a:lnTo>
                      <a:lnTo>
                        <a:pt x="456" y="2"/>
                      </a:lnTo>
                      <a:lnTo>
                        <a:pt x="455" y="1"/>
                      </a:lnTo>
                      <a:lnTo>
                        <a:pt x="454" y="0"/>
                      </a:lnTo>
                      <a:lnTo>
                        <a:pt x="452" y="0"/>
                      </a:lnTo>
                      <a:lnTo>
                        <a:pt x="450" y="0"/>
                      </a:lnTo>
                      <a:lnTo>
                        <a:pt x="449" y="1"/>
                      </a:lnTo>
                      <a:lnTo>
                        <a:pt x="448" y="2"/>
                      </a:lnTo>
                      <a:lnTo>
                        <a:pt x="448" y="4"/>
                      </a:lnTo>
                      <a:lnTo>
                        <a:pt x="435" y="4"/>
                      </a:lnTo>
                      <a:lnTo>
                        <a:pt x="435" y="2"/>
                      </a:lnTo>
                      <a:lnTo>
                        <a:pt x="434" y="1"/>
                      </a:lnTo>
                      <a:lnTo>
                        <a:pt x="432" y="0"/>
                      </a:lnTo>
                      <a:lnTo>
                        <a:pt x="431" y="0"/>
                      </a:lnTo>
                      <a:lnTo>
                        <a:pt x="429" y="0"/>
                      </a:lnTo>
                      <a:lnTo>
                        <a:pt x="427" y="1"/>
                      </a:lnTo>
                      <a:lnTo>
                        <a:pt x="427" y="2"/>
                      </a:lnTo>
                      <a:lnTo>
                        <a:pt x="426" y="4"/>
                      </a:lnTo>
                      <a:lnTo>
                        <a:pt x="415" y="4"/>
                      </a:lnTo>
                      <a:lnTo>
                        <a:pt x="415" y="2"/>
                      </a:lnTo>
                      <a:lnTo>
                        <a:pt x="414" y="1"/>
                      </a:lnTo>
                      <a:lnTo>
                        <a:pt x="412" y="0"/>
                      </a:lnTo>
                      <a:lnTo>
                        <a:pt x="410" y="0"/>
                      </a:lnTo>
                      <a:lnTo>
                        <a:pt x="409" y="0"/>
                      </a:lnTo>
                      <a:lnTo>
                        <a:pt x="407" y="1"/>
                      </a:lnTo>
                      <a:lnTo>
                        <a:pt x="406" y="2"/>
                      </a:lnTo>
                      <a:lnTo>
                        <a:pt x="406" y="4"/>
                      </a:lnTo>
                      <a:lnTo>
                        <a:pt x="381" y="4"/>
                      </a:lnTo>
                      <a:lnTo>
                        <a:pt x="381" y="2"/>
                      </a:lnTo>
                      <a:lnTo>
                        <a:pt x="380" y="1"/>
                      </a:lnTo>
                      <a:lnTo>
                        <a:pt x="378" y="0"/>
                      </a:lnTo>
                      <a:lnTo>
                        <a:pt x="377" y="0"/>
                      </a:lnTo>
                      <a:lnTo>
                        <a:pt x="375" y="0"/>
                      </a:lnTo>
                      <a:lnTo>
                        <a:pt x="373" y="1"/>
                      </a:lnTo>
                      <a:lnTo>
                        <a:pt x="373" y="2"/>
                      </a:lnTo>
                      <a:lnTo>
                        <a:pt x="372" y="4"/>
                      </a:lnTo>
                      <a:lnTo>
                        <a:pt x="352" y="4"/>
                      </a:lnTo>
                      <a:lnTo>
                        <a:pt x="352" y="2"/>
                      </a:lnTo>
                      <a:lnTo>
                        <a:pt x="351" y="1"/>
                      </a:lnTo>
                      <a:lnTo>
                        <a:pt x="350" y="0"/>
                      </a:lnTo>
                      <a:lnTo>
                        <a:pt x="348" y="0"/>
                      </a:lnTo>
                      <a:lnTo>
                        <a:pt x="346" y="0"/>
                      </a:lnTo>
                      <a:lnTo>
                        <a:pt x="345" y="1"/>
                      </a:lnTo>
                      <a:lnTo>
                        <a:pt x="344" y="2"/>
                      </a:lnTo>
                      <a:lnTo>
                        <a:pt x="343" y="4"/>
                      </a:lnTo>
                      <a:lnTo>
                        <a:pt x="300" y="4"/>
                      </a:lnTo>
                      <a:lnTo>
                        <a:pt x="300" y="2"/>
                      </a:lnTo>
                      <a:lnTo>
                        <a:pt x="299" y="1"/>
                      </a:lnTo>
                      <a:lnTo>
                        <a:pt x="297" y="0"/>
                      </a:lnTo>
                      <a:lnTo>
                        <a:pt x="296" y="0"/>
                      </a:lnTo>
                      <a:lnTo>
                        <a:pt x="294" y="0"/>
                      </a:lnTo>
                      <a:lnTo>
                        <a:pt x="292" y="1"/>
                      </a:lnTo>
                      <a:lnTo>
                        <a:pt x="291" y="2"/>
                      </a:lnTo>
                      <a:lnTo>
                        <a:pt x="291" y="4"/>
                      </a:lnTo>
                      <a:lnTo>
                        <a:pt x="239" y="4"/>
                      </a:lnTo>
                      <a:lnTo>
                        <a:pt x="239" y="2"/>
                      </a:lnTo>
                      <a:lnTo>
                        <a:pt x="238" y="1"/>
                      </a:lnTo>
                      <a:lnTo>
                        <a:pt x="237" y="0"/>
                      </a:lnTo>
                      <a:lnTo>
                        <a:pt x="235" y="0"/>
                      </a:lnTo>
                      <a:lnTo>
                        <a:pt x="233" y="0"/>
                      </a:lnTo>
                      <a:lnTo>
                        <a:pt x="232" y="1"/>
                      </a:lnTo>
                      <a:lnTo>
                        <a:pt x="231" y="2"/>
                      </a:lnTo>
                      <a:lnTo>
                        <a:pt x="230" y="4"/>
                      </a:lnTo>
                      <a:lnTo>
                        <a:pt x="107" y="4"/>
                      </a:lnTo>
                      <a:lnTo>
                        <a:pt x="107" y="2"/>
                      </a:lnTo>
                      <a:lnTo>
                        <a:pt x="106" y="1"/>
                      </a:lnTo>
                      <a:lnTo>
                        <a:pt x="104" y="0"/>
                      </a:lnTo>
                      <a:lnTo>
                        <a:pt x="103" y="0"/>
                      </a:lnTo>
                      <a:lnTo>
                        <a:pt x="101" y="0"/>
                      </a:lnTo>
                      <a:lnTo>
                        <a:pt x="99" y="1"/>
                      </a:lnTo>
                      <a:lnTo>
                        <a:pt x="98" y="2"/>
                      </a:lnTo>
                      <a:lnTo>
                        <a:pt x="98" y="4"/>
                      </a:lnTo>
                      <a:lnTo>
                        <a:pt x="92" y="4"/>
                      </a:lnTo>
                      <a:lnTo>
                        <a:pt x="91" y="2"/>
                      </a:lnTo>
                      <a:lnTo>
                        <a:pt x="90" y="1"/>
                      </a:lnTo>
                      <a:lnTo>
                        <a:pt x="89" y="0"/>
                      </a:lnTo>
                      <a:lnTo>
                        <a:pt x="87" y="0"/>
                      </a:lnTo>
                      <a:lnTo>
                        <a:pt x="85" y="0"/>
                      </a:lnTo>
                      <a:lnTo>
                        <a:pt x="84" y="1"/>
                      </a:lnTo>
                      <a:lnTo>
                        <a:pt x="83" y="2"/>
                      </a:lnTo>
                      <a:lnTo>
                        <a:pt x="83" y="4"/>
                      </a:lnTo>
                      <a:lnTo>
                        <a:pt x="57" y="4"/>
                      </a:lnTo>
                      <a:lnTo>
                        <a:pt x="57" y="2"/>
                      </a:lnTo>
                      <a:lnTo>
                        <a:pt x="56" y="1"/>
                      </a:lnTo>
                      <a:lnTo>
                        <a:pt x="54" y="0"/>
                      </a:lnTo>
                      <a:lnTo>
                        <a:pt x="53" y="0"/>
                      </a:lnTo>
                      <a:lnTo>
                        <a:pt x="51" y="0"/>
                      </a:lnTo>
                      <a:lnTo>
                        <a:pt x="50" y="1"/>
                      </a:lnTo>
                      <a:lnTo>
                        <a:pt x="49" y="2"/>
                      </a:lnTo>
                      <a:lnTo>
                        <a:pt x="48" y="4"/>
                      </a:lnTo>
                      <a:lnTo>
                        <a:pt x="44" y="4"/>
                      </a:lnTo>
                      <a:lnTo>
                        <a:pt x="43" y="2"/>
                      </a:lnTo>
                      <a:lnTo>
                        <a:pt x="42" y="1"/>
                      </a:lnTo>
                      <a:lnTo>
                        <a:pt x="41" y="0"/>
                      </a:lnTo>
                      <a:lnTo>
                        <a:pt x="39" y="0"/>
                      </a:lnTo>
                      <a:lnTo>
                        <a:pt x="38" y="0"/>
                      </a:lnTo>
                      <a:lnTo>
                        <a:pt x="36" y="1"/>
                      </a:lnTo>
                      <a:lnTo>
                        <a:pt x="35" y="2"/>
                      </a:lnTo>
                      <a:lnTo>
                        <a:pt x="35" y="4"/>
                      </a:lnTo>
                      <a:lnTo>
                        <a:pt x="0" y="4"/>
                      </a:lnTo>
                      <a:lnTo>
                        <a:pt x="0" y="21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4986720" y="2815920"/>
                  <a:ext cx="12600" cy="1440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65" name=""/>
                <p:cNvSpPr/>
                <p:nvPr/>
              </p:nvSpPr>
              <p:spPr>
                <a:xfrm>
                  <a:off x="6169320" y="5152320"/>
                  <a:ext cx="228240" cy="83880"/>
                </a:xfrm>
                <a:prstGeom prst="rect">
                  <a:avLst/>
                </a:prstGeom>
                <a:blipFill rotWithShape="0">
                  <a:blip r:embed="rId81"/>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66" name=""/>
                <p:cNvSpPr/>
                <p:nvPr/>
              </p:nvSpPr>
              <p:spPr>
                <a:xfrm>
                  <a:off x="6199920" y="5177520"/>
                  <a:ext cx="110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redit</a:t>
                  </a:r>
                  <a:endParaRPr b="0" lang="en-US" sz="300" spc="-1" strike="noStrike">
                    <a:solidFill>
                      <a:srgbClr val="ffffff"/>
                    </a:solidFill>
                    <a:latin typeface="Arial"/>
                  </a:endParaRPr>
                </a:p>
              </p:txBody>
            </p:sp>
            <p:sp>
              <p:nvSpPr>
                <p:cNvPr id="767" name=""/>
                <p:cNvSpPr/>
                <p:nvPr/>
              </p:nvSpPr>
              <p:spPr>
                <a:xfrm>
                  <a:off x="6098400" y="5079960"/>
                  <a:ext cx="58320" cy="113400"/>
                </a:xfrm>
                <a:custGeom>
                  <a:avLst/>
                  <a:gdLst/>
                  <a:ahLst/>
                  <a:rect l="l" t="t" r="r" b="b"/>
                  <a:pathLst>
                    <a:path w="55" h="85">
                      <a:moveTo>
                        <a:pt x="0" y="0"/>
                      </a:moveTo>
                      <a:lnTo>
                        <a:pt x="0" y="85"/>
                      </a:lnTo>
                      <a:lnTo>
                        <a:pt x="55"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154560" y="5188320"/>
                  <a:ext cx="14760" cy="1152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9" name=""/>
                <p:cNvSpPr/>
                <p:nvPr/>
              </p:nvSpPr>
              <p:spPr>
                <a:xfrm>
                  <a:off x="6426360" y="4899600"/>
                  <a:ext cx="228600" cy="82440"/>
                </a:xfrm>
                <a:prstGeom prst="rect">
                  <a:avLst/>
                </a:prstGeom>
                <a:blipFill rotWithShape="0">
                  <a:blip r:embed="rId82"/>
                  <a:srcRect/>
                  <a:tile tx="0" ty="0" sx="100000" sy="100000" algn="ctr"/>
                </a:blip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0" name=""/>
                <p:cNvSpPr/>
                <p:nvPr/>
              </p:nvSpPr>
              <p:spPr>
                <a:xfrm>
                  <a:off x="6487560" y="4906440"/>
                  <a:ext cx="140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ellular</a:t>
                  </a:r>
                  <a:endParaRPr b="0" lang="en-US" sz="300" spc="-1" strike="noStrike">
                    <a:solidFill>
                      <a:srgbClr val="ffffff"/>
                    </a:solidFill>
                    <a:latin typeface="Arial"/>
                  </a:endParaRPr>
                </a:p>
              </p:txBody>
            </p:sp>
            <p:sp>
              <p:nvSpPr>
                <p:cNvPr id="771" name=""/>
                <p:cNvSpPr/>
                <p:nvPr/>
              </p:nvSpPr>
              <p:spPr>
                <a:xfrm>
                  <a:off x="6482160" y="4939560"/>
                  <a:ext cx="15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ollover</a:t>
                  </a:r>
                  <a:endParaRPr b="0" lang="en-US" sz="300" spc="-1" strike="noStrike">
                    <a:solidFill>
                      <a:srgbClr val="ffffff"/>
                    </a:solidFill>
                    <a:latin typeface="Arial"/>
                  </a:endParaRPr>
                </a:p>
              </p:txBody>
            </p:sp>
            <p:sp>
              <p:nvSpPr>
                <p:cNvPr id="772" name=""/>
                <p:cNvSpPr/>
                <p:nvPr/>
              </p:nvSpPr>
              <p:spPr>
                <a:xfrm>
                  <a:off x="6216120" y="4941000"/>
                  <a:ext cx="197640" cy="73080"/>
                </a:xfrm>
                <a:custGeom>
                  <a:avLst/>
                  <a:gdLst/>
                  <a:ahLst/>
                  <a:rect l="l" t="t" r="r" b="b"/>
                  <a:pathLst>
                    <a:path w="187" h="55">
                      <a:moveTo>
                        <a:pt x="0" y="55"/>
                      </a:moveTo>
                      <a:lnTo>
                        <a:pt x="59" y="55"/>
                      </a:lnTo>
                      <a:lnTo>
                        <a:pt x="60" y="53"/>
                      </a:lnTo>
                      <a:lnTo>
                        <a:pt x="60" y="52"/>
                      </a:lnTo>
                      <a:lnTo>
                        <a:pt x="62" y="51"/>
                      </a:lnTo>
                      <a:lnTo>
                        <a:pt x="64" y="51"/>
                      </a:lnTo>
                      <a:lnTo>
                        <a:pt x="65" y="51"/>
                      </a:lnTo>
                      <a:lnTo>
                        <a:pt x="67" y="52"/>
                      </a:lnTo>
                      <a:lnTo>
                        <a:pt x="68" y="53"/>
                      </a:lnTo>
                      <a:lnTo>
                        <a:pt x="68" y="55"/>
                      </a:lnTo>
                      <a:lnTo>
                        <a:pt x="135" y="55"/>
                      </a:lnTo>
                      <a:lnTo>
                        <a:pt x="135" y="0"/>
                      </a:lnTo>
                      <a:lnTo>
                        <a:pt x="187" y="0"/>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73" name=""/>
                <p:cNvSpPr/>
                <p:nvPr/>
              </p:nvSpPr>
              <p:spPr>
                <a:xfrm>
                  <a:off x="6411960" y="4934520"/>
                  <a:ext cx="14400" cy="1152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74" name=""/>
                <p:cNvSpPr/>
                <p:nvPr/>
              </p:nvSpPr>
              <p:spPr>
                <a:xfrm>
                  <a:off x="6655320" y="4790160"/>
                  <a:ext cx="773640" cy="150840"/>
                </a:xfrm>
                <a:custGeom>
                  <a:avLst/>
                  <a:gdLst/>
                  <a:ahLst/>
                  <a:rect l="l" t="t" r="r" b="b"/>
                  <a:pathLst>
                    <a:path w="731" h="113">
                      <a:moveTo>
                        <a:pt x="0" y="113"/>
                      </a:moveTo>
                      <a:lnTo>
                        <a:pt x="20" y="113"/>
                      </a:lnTo>
                      <a:lnTo>
                        <a:pt x="20" y="6"/>
                      </a:lnTo>
                      <a:lnTo>
                        <a:pt x="173" y="6"/>
                      </a:lnTo>
                      <a:lnTo>
                        <a:pt x="173" y="4"/>
                      </a:lnTo>
                      <a:lnTo>
                        <a:pt x="174" y="3"/>
                      </a:lnTo>
                      <a:lnTo>
                        <a:pt x="176" y="2"/>
                      </a:lnTo>
                      <a:lnTo>
                        <a:pt x="178" y="1"/>
                      </a:lnTo>
                      <a:lnTo>
                        <a:pt x="180" y="0"/>
                      </a:lnTo>
                      <a:lnTo>
                        <a:pt x="182" y="1"/>
                      </a:lnTo>
                      <a:lnTo>
                        <a:pt x="184" y="2"/>
                      </a:lnTo>
                      <a:lnTo>
                        <a:pt x="185" y="3"/>
                      </a:lnTo>
                      <a:lnTo>
                        <a:pt x="186" y="4"/>
                      </a:lnTo>
                      <a:lnTo>
                        <a:pt x="187" y="6"/>
                      </a:lnTo>
                      <a:lnTo>
                        <a:pt x="460" y="6"/>
                      </a:lnTo>
                      <a:lnTo>
                        <a:pt x="460" y="5"/>
                      </a:lnTo>
                      <a:lnTo>
                        <a:pt x="461" y="4"/>
                      </a:lnTo>
                      <a:lnTo>
                        <a:pt x="463" y="3"/>
                      </a:lnTo>
                      <a:lnTo>
                        <a:pt x="464" y="2"/>
                      </a:lnTo>
                      <a:lnTo>
                        <a:pt x="466" y="3"/>
                      </a:lnTo>
                      <a:lnTo>
                        <a:pt x="468" y="4"/>
                      </a:lnTo>
                      <a:lnTo>
                        <a:pt x="468" y="5"/>
                      </a:lnTo>
                      <a:lnTo>
                        <a:pt x="469" y="6"/>
                      </a:lnTo>
                      <a:lnTo>
                        <a:pt x="531" y="6"/>
                      </a:lnTo>
                      <a:lnTo>
                        <a:pt x="531" y="5"/>
                      </a:lnTo>
                      <a:lnTo>
                        <a:pt x="532" y="4"/>
                      </a:lnTo>
                      <a:lnTo>
                        <a:pt x="533" y="3"/>
                      </a:lnTo>
                      <a:lnTo>
                        <a:pt x="535" y="2"/>
                      </a:lnTo>
                      <a:lnTo>
                        <a:pt x="537" y="3"/>
                      </a:lnTo>
                      <a:lnTo>
                        <a:pt x="538" y="4"/>
                      </a:lnTo>
                      <a:lnTo>
                        <a:pt x="539" y="5"/>
                      </a:lnTo>
                      <a:lnTo>
                        <a:pt x="540" y="6"/>
                      </a:lnTo>
                      <a:lnTo>
                        <a:pt x="564" y="6"/>
                      </a:lnTo>
                      <a:lnTo>
                        <a:pt x="565" y="5"/>
                      </a:lnTo>
                      <a:lnTo>
                        <a:pt x="566" y="4"/>
                      </a:lnTo>
                      <a:lnTo>
                        <a:pt x="567" y="3"/>
                      </a:lnTo>
                      <a:lnTo>
                        <a:pt x="569" y="2"/>
                      </a:lnTo>
                      <a:lnTo>
                        <a:pt x="571" y="3"/>
                      </a:lnTo>
                      <a:lnTo>
                        <a:pt x="572" y="4"/>
                      </a:lnTo>
                      <a:lnTo>
                        <a:pt x="573" y="5"/>
                      </a:lnTo>
                      <a:lnTo>
                        <a:pt x="573" y="6"/>
                      </a:lnTo>
                      <a:lnTo>
                        <a:pt x="731"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427880" y="4791600"/>
                  <a:ext cx="13680" cy="11880"/>
                </a:xfrm>
                <a:custGeom>
                  <a:avLst/>
                  <a:gdLst/>
                  <a:ahLst/>
                  <a:rect l="l" t="t" r="r" b="b"/>
                  <a:pathLst>
                    <a:path w="13" h="9">
                      <a:moveTo>
                        <a:pt x="1" y="0"/>
                      </a:moveTo>
                      <a:lnTo>
                        <a:pt x="13" y="5"/>
                      </a:lnTo>
                      <a:lnTo>
                        <a:pt x="1" y="9"/>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76" name=""/>
                <p:cNvSpPr/>
                <p:nvPr/>
              </p:nvSpPr>
              <p:spPr>
                <a:xfrm>
                  <a:off x="6283800" y="4774320"/>
                  <a:ext cx="1145160" cy="378000"/>
                </a:xfrm>
                <a:custGeom>
                  <a:avLst/>
                  <a:gdLst/>
                  <a:ahLst/>
                  <a:rect l="l" t="t" r="r" b="b"/>
                  <a:pathLst>
                    <a:path w="1082" h="283">
                      <a:moveTo>
                        <a:pt x="0" y="283"/>
                      </a:moveTo>
                      <a:lnTo>
                        <a:pt x="0" y="5"/>
                      </a:lnTo>
                      <a:lnTo>
                        <a:pt x="524" y="5"/>
                      </a:lnTo>
                      <a:lnTo>
                        <a:pt x="524" y="3"/>
                      </a:lnTo>
                      <a:lnTo>
                        <a:pt x="525" y="2"/>
                      </a:lnTo>
                      <a:lnTo>
                        <a:pt x="527" y="1"/>
                      </a:lnTo>
                      <a:lnTo>
                        <a:pt x="529" y="0"/>
                      </a:lnTo>
                      <a:lnTo>
                        <a:pt x="531" y="0"/>
                      </a:lnTo>
                      <a:lnTo>
                        <a:pt x="533" y="0"/>
                      </a:lnTo>
                      <a:lnTo>
                        <a:pt x="535" y="1"/>
                      </a:lnTo>
                      <a:lnTo>
                        <a:pt x="536" y="2"/>
                      </a:lnTo>
                      <a:lnTo>
                        <a:pt x="537" y="3"/>
                      </a:lnTo>
                      <a:lnTo>
                        <a:pt x="538" y="5"/>
                      </a:lnTo>
                      <a:lnTo>
                        <a:pt x="758" y="5"/>
                      </a:lnTo>
                      <a:lnTo>
                        <a:pt x="759" y="4"/>
                      </a:lnTo>
                      <a:lnTo>
                        <a:pt x="760" y="2"/>
                      </a:lnTo>
                      <a:lnTo>
                        <a:pt x="761" y="2"/>
                      </a:lnTo>
                      <a:lnTo>
                        <a:pt x="763" y="1"/>
                      </a:lnTo>
                      <a:lnTo>
                        <a:pt x="765" y="2"/>
                      </a:lnTo>
                      <a:lnTo>
                        <a:pt x="766" y="2"/>
                      </a:lnTo>
                      <a:lnTo>
                        <a:pt x="767" y="4"/>
                      </a:lnTo>
                      <a:lnTo>
                        <a:pt x="767" y="5"/>
                      </a:lnTo>
                      <a:lnTo>
                        <a:pt x="811" y="5"/>
                      </a:lnTo>
                      <a:lnTo>
                        <a:pt x="811" y="4"/>
                      </a:lnTo>
                      <a:lnTo>
                        <a:pt x="812" y="2"/>
                      </a:lnTo>
                      <a:lnTo>
                        <a:pt x="814" y="2"/>
                      </a:lnTo>
                      <a:lnTo>
                        <a:pt x="815" y="1"/>
                      </a:lnTo>
                      <a:lnTo>
                        <a:pt x="817" y="2"/>
                      </a:lnTo>
                      <a:lnTo>
                        <a:pt x="819" y="2"/>
                      </a:lnTo>
                      <a:lnTo>
                        <a:pt x="819" y="4"/>
                      </a:lnTo>
                      <a:lnTo>
                        <a:pt x="820" y="5"/>
                      </a:lnTo>
                      <a:lnTo>
                        <a:pt x="882" y="5"/>
                      </a:lnTo>
                      <a:lnTo>
                        <a:pt x="882" y="4"/>
                      </a:lnTo>
                      <a:lnTo>
                        <a:pt x="883" y="2"/>
                      </a:lnTo>
                      <a:lnTo>
                        <a:pt x="884" y="2"/>
                      </a:lnTo>
                      <a:lnTo>
                        <a:pt x="886" y="1"/>
                      </a:lnTo>
                      <a:lnTo>
                        <a:pt x="888" y="2"/>
                      </a:lnTo>
                      <a:lnTo>
                        <a:pt x="889" y="2"/>
                      </a:lnTo>
                      <a:lnTo>
                        <a:pt x="890" y="4"/>
                      </a:lnTo>
                      <a:lnTo>
                        <a:pt x="891" y="5"/>
                      </a:lnTo>
                      <a:lnTo>
                        <a:pt x="915" y="5"/>
                      </a:lnTo>
                      <a:lnTo>
                        <a:pt x="916" y="4"/>
                      </a:lnTo>
                      <a:lnTo>
                        <a:pt x="917" y="2"/>
                      </a:lnTo>
                      <a:lnTo>
                        <a:pt x="918" y="2"/>
                      </a:lnTo>
                      <a:lnTo>
                        <a:pt x="920" y="1"/>
                      </a:lnTo>
                      <a:lnTo>
                        <a:pt x="922" y="2"/>
                      </a:lnTo>
                      <a:lnTo>
                        <a:pt x="923" y="2"/>
                      </a:lnTo>
                      <a:lnTo>
                        <a:pt x="924" y="4"/>
                      </a:lnTo>
                      <a:lnTo>
                        <a:pt x="924" y="5"/>
                      </a:lnTo>
                      <a:lnTo>
                        <a:pt x="1082"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27880" y="477432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8" name=""/>
                <p:cNvSpPr/>
                <p:nvPr/>
              </p:nvSpPr>
              <p:spPr>
                <a:xfrm>
                  <a:off x="7319880" y="2771640"/>
                  <a:ext cx="207360" cy="121680"/>
                </a:xfrm>
                <a:prstGeom prst="rect">
                  <a:avLst/>
                </a:prstGeom>
                <a:blipFill rotWithShape="0">
                  <a:blip r:embed="rId8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343640" y="2783880"/>
                  <a:ext cx="11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endParaRPr b="0" lang="en-US" sz="300" spc="-1" strike="noStrike">
                    <a:solidFill>
                      <a:srgbClr val="ffffff"/>
                    </a:solidFill>
                    <a:latin typeface="Arial"/>
                  </a:endParaRPr>
                </a:p>
              </p:txBody>
            </p:sp>
            <p:sp>
              <p:nvSpPr>
                <p:cNvPr id="780" name=""/>
                <p:cNvSpPr/>
                <p:nvPr/>
              </p:nvSpPr>
              <p:spPr>
                <a:xfrm>
                  <a:off x="7368480" y="2815920"/>
                  <a:ext cx="146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atellite</a:t>
                  </a:r>
                  <a:endParaRPr b="0" lang="en-US" sz="300" spc="-1" strike="noStrike">
                    <a:solidFill>
                      <a:srgbClr val="ffffff"/>
                    </a:solidFill>
                    <a:latin typeface="Arial"/>
                  </a:endParaRPr>
                </a:p>
              </p:txBody>
            </p:sp>
            <p:sp>
              <p:nvSpPr>
                <p:cNvPr id="781" name=""/>
                <p:cNvSpPr/>
                <p:nvPr/>
              </p:nvSpPr>
              <p:spPr>
                <a:xfrm>
                  <a:off x="7370280" y="284796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782" name=""/>
                <p:cNvSpPr/>
                <p:nvPr/>
              </p:nvSpPr>
              <p:spPr>
                <a:xfrm>
                  <a:off x="6780240" y="2893680"/>
                  <a:ext cx="643320" cy="50400"/>
                </a:xfrm>
                <a:custGeom>
                  <a:avLst/>
                  <a:gdLst/>
                  <a:ahLst/>
                  <a:rect l="l" t="t" r="r" b="b"/>
                  <a:pathLst>
                    <a:path w="608" h="38">
                      <a:moveTo>
                        <a:pt x="608" y="0"/>
                      </a:moveTo>
                      <a:lnTo>
                        <a:pt x="608" y="38"/>
                      </a:lnTo>
                      <a:lnTo>
                        <a:pt x="575" y="38"/>
                      </a:lnTo>
                      <a:lnTo>
                        <a:pt x="574" y="37"/>
                      </a:lnTo>
                      <a:lnTo>
                        <a:pt x="573" y="36"/>
                      </a:lnTo>
                      <a:lnTo>
                        <a:pt x="572" y="35"/>
                      </a:lnTo>
                      <a:lnTo>
                        <a:pt x="570" y="35"/>
                      </a:lnTo>
                      <a:lnTo>
                        <a:pt x="568" y="35"/>
                      </a:lnTo>
                      <a:lnTo>
                        <a:pt x="567" y="36"/>
                      </a:lnTo>
                      <a:lnTo>
                        <a:pt x="566" y="37"/>
                      </a:lnTo>
                      <a:lnTo>
                        <a:pt x="566" y="38"/>
                      </a:lnTo>
                      <a:lnTo>
                        <a:pt x="461" y="38"/>
                      </a:lnTo>
                      <a:lnTo>
                        <a:pt x="460" y="37"/>
                      </a:lnTo>
                      <a:lnTo>
                        <a:pt x="459" y="36"/>
                      </a:lnTo>
                      <a:lnTo>
                        <a:pt x="458" y="35"/>
                      </a:lnTo>
                      <a:lnTo>
                        <a:pt x="456" y="35"/>
                      </a:lnTo>
                      <a:lnTo>
                        <a:pt x="454" y="35"/>
                      </a:lnTo>
                      <a:lnTo>
                        <a:pt x="453" y="36"/>
                      </a:lnTo>
                      <a:lnTo>
                        <a:pt x="452" y="37"/>
                      </a:lnTo>
                      <a:lnTo>
                        <a:pt x="451" y="38"/>
                      </a:lnTo>
                      <a:lnTo>
                        <a:pt x="447" y="38"/>
                      </a:lnTo>
                      <a:lnTo>
                        <a:pt x="447" y="37"/>
                      </a:lnTo>
                      <a:lnTo>
                        <a:pt x="446" y="36"/>
                      </a:lnTo>
                      <a:lnTo>
                        <a:pt x="444" y="35"/>
                      </a:lnTo>
                      <a:lnTo>
                        <a:pt x="442" y="35"/>
                      </a:lnTo>
                      <a:lnTo>
                        <a:pt x="441" y="35"/>
                      </a:lnTo>
                      <a:lnTo>
                        <a:pt x="439" y="36"/>
                      </a:lnTo>
                      <a:lnTo>
                        <a:pt x="438" y="37"/>
                      </a:lnTo>
                      <a:lnTo>
                        <a:pt x="438" y="38"/>
                      </a:lnTo>
                      <a:lnTo>
                        <a:pt x="433" y="38"/>
                      </a:lnTo>
                      <a:lnTo>
                        <a:pt x="433" y="37"/>
                      </a:lnTo>
                      <a:lnTo>
                        <a:pt x="432" y="36"/>
                      </a:lnTo>
                      <a:lnTo>
                        <a:pt x="431" y="35"/>
                      </a:lnTo>
                      <a:lnTo>
                        <a:pt x="429" y="35"/>
                      </a:lnTo>
                      <a:lnTo>
                        <a:pt x="427" y="35"/>
                      </a:lnTo>
                      <a:lnTo>
                        <a:pt x="426" y="36"/>
                      </a:lnTo>
                      <a:lnTo>
                        <a:pt x="425" y="37"/>
                      </a:lnTo>
                      <a:lnTo>
                        <a:pt x="424" y="38"/>
                      </a:lnTo>
                      <a:lnTo>
                        <a:pt x="413" y="38"/>
                      </a:lnTo>
                      <a:lnTo>
                        <a:pt x="412" y="37"/>
                      </a:lnTo>
                      <a:lnTo>
                        <a:pt x="412" y="36"/>
                      </a:lnTo>
                      <a:lnTo>
                        <a:pt x="410" y="35"/>
                      </a:lnTo>
                      <a:lnTo>
                        <a:pt x="408" y="35"/>
                      </a:lnTo>
                      <a:lnTo>
                        <a:pt x="406" y="35"/>
                      </a:lnTo>
                      <a:lnTo>
                        <a:pt x="405" y="36"/>
                      </a:lnTo>
                      <a:lnTo>
                        <a:pt x="404" y="37"/>
                      </a:lnTo>
                      <a:lnTo>
                        <a:pt x="404" y="38"/>
                      </a:lnTo>
                      <a:lnTo>
                        <a:pt x="403" y="38"/>
                      </a:lnTo>
                      <a:lnTo>
                        <a:pt x="403" y="37"/>
                      </a:lnTo>
                      <a:lnTo>
                        <a:pt x="402" y="36"/>
                      </a:lnTo>
                      <a:lnTo>
                        <a:pt x="400" y="35"/>
                      </a:lnTo>
                      <a:lnTo>
                        <a:pt x="399" y="35"/>
                      </a:lnTo>
                      <a:lnTo>
                        <a:pt x="397" y="35"/>
                      </a:lnTo>
                      <a:lnTo>
                        <a:pt x="395" y="36"/>
                      </a:lnTo>
                      <a:lnTo>
                        <a:pt x="395" y="37"/>
                      </a:lnTo>
                      <a:lnTo>
                        <a:pt x="394" y="38"/>
                      </a:lnTo>
                      <a:lnTo>
                        <a:pt x="391" y="38"/>
                      </a:lnTo>
                      <a:lnTo>
                        <a:pt x="390" y="37"/>
                      </a:lnTo>
                      <a:lnTo>
                        <a:pt x="390" y="35"/>
                      </a:lnTo>
                      <a:lnTo>
                        <a:pt x="388" y="33"/>
                      </a:lnTo>
                      <a:lnTo>
                        <a:pt x="386" y="32"/>
                      </a:lnTo>
                      <a:lnTo>
                        <a:pt x="384" y="32"/>
                      </a:lnTo>
                      <a:lnTo>
                        <a:pt x="381" y="32"/>
                      </a:lnTo>
                      <a:lnTo>
                        <a:pt x="379" y="32"/>
                      </a:lnTo>
                      <a:lnTo>
                        <a:pt x="377" y="33"/>
                      </a:lnTo>
                      <a:lnTo>
                        <a:pt x="375" y="35"/>
                      </a:lnTo>
                      <a:lnTo>
                        <a:pt x="374" y="37"/>
                      </a:lnTo>
                      <a:lnTo>
                        <a:pt x="374" y="38"/>
                      </a:lnTo>
                      <a:lnTo>
                        <a:pt x="365" y="38"/>
                      </a:lnTo>
                      <a:lnTo>
                        <a:pt x="364" y="37"/>
                      </a:lnTo>
                      <a:lnTo>
                        <a:pt x="364" y="36"/>
                      </a:lnTo>
                      <a:lnTo>
                        <a:pt x="362" y="35"/>
                      </a:lnTo>
                      <a:lnTo>
                        <a:pt x="360" y="35"/>
                      </a:lnTo>
                      <a:lnTo>
                        <a:pt x="359" y="35"/>
                      </a:lnTo>
                      <a:lnTo>
                        <a:pt x="357" y="36"/>
                      </a:lnTo>
                      <a:lnTo>
                        <a:pt x="356" y="37"/>
                      </a:lnTo>
                      <a:lnTo>
                        <a:pt x="356" y="38"/>
                      </a:lnTo>
                      <a:lnTo>
                        <a:pt x="330" y="38"/>
                      </a:lnTo>
                      <a:lnTo>
                        <a:pt x="330" y="37"/>
                      </a:lnTo>
                      <a:lnTo>
                        <a:pt x="329" y="35"/>
                      </a:lnTo>
                      <a:lnTo>
                        <a:pt x="328" y="34"/>
                      </a:lnTo>
                      <a:lnTo>
                        <a:pt x="326" y="33"/>
                      </a:lnTo>
                      <a:lnTo>
                        <a:pt x="324" y="32"/>
                      </a:lnTo>
                      <a:lnTo>
                        <a:pt x="321" y="32"/>
                      </a:lnTo>
                      <a:lnTo>
                        <a:pt x="319" y="33"/>
                      </a:lnTo>
                      <a:lnTo>
                        <a:pt x="317" y="34"/>
                      </a:lnTo>
                      <a:lnTo>
                        <a:pt x="316" y="35"/>
                      </a:lnTo>
                      <a:lnTo>
                        <a:pt x="315" y="37"/>
                      </a:lnTo>
                      <a:lnTo>
                        <a:pt x="315" y="38"/>
                      </a:lnTo>
                      <a:lnTo>
                        <a:pt x="313" y="38"/>
                      </a:lnTo>
                      <a:lnTo>
                        <a:pt x="313" y="37"/>
                      </a:lnTo>
                      <a:lnTo>
                        <a:pt x="312" y="36"/>
                      </a:lnTo>
                      <a:lnTo>
                        <a:pt x="310" y="35"/>
                      </a:lnTo>
                      <a:lnTo>
                        <a:pt x="309" y="35"/>
                      </a:lnTo>
                      <a:lnTo>
                        <a:pt x="307" y="35"/>
                      </a:lnTo>
                      <a:lnTo>
                        <a:pt x="305" y="36"/>
                      </a:lnTo>
                      <a:lnTo>
                        <a:pt x="305" y="37"/>
                      </a:lnTo>
                      <a:lnTo>
                        <a:pt x="304" y="38"/>
                      </a:lnTo>
                      <a:lnTo>
                        <a:pt x="278" y="38"/>
                      </a:lnTo>
                      <a:lnTo>
                        <a:pt x="278" y="37"/>
                      </a:lnTo>
                      <a:lnTo>
                        <a:pt x="277" y="36"/>
                      </a:lnTo>
                      <a:lnTo>
                        <a:pt x="275" y="35"/>
                      </a:lnTo>
                      <a:lnTo>
                        <a:pt x="274" y="35"/>
                      </a:lnTo>
                      <a:lnTo>
                        <a:pt x="272" y="35"/>
                      </a:lnTo>
                      <a:lnTo>
                        <a:pt x="270" y="36"/>
                      </a:lnTo>
                      <a:lnTo>
                        <a:pt x="270" y="37"/>
                      </a:lnTo>
                      <a:lnTo>
                        <a:pt x="269" y="38"/>
                      </a:lnTo>
                      <a:lnTo>
                        <a:pt x="265" y="38"/>
                      </a:lnTo>
                      <a:lnTo>
                        <a:pt x="264" y="37"/>
                      </a:lnTo>
                      <a:lnTo>
                        <a:pt x="263" y="36"/>
                      </a:lnTo>
                      <a:lnTo>
                        <a:pt x="262" y="35"/>
                      </a:lnTo>
                      <a:lnTo>
                        <a:pt x="260" y="35"/>
                      </a:lnTo>
                      <a:lnTo>
                        <a:pt x="258" y="35"/>
                      </a:lnTo>
                      <a:lnTo>
                        <a:pt x="257" y="36"/>
                      </a:lnTo>
                      <a:lnTo>
                        <a:pt x="256" y="37"/>
                      </a:lnTo>
                      <a:lnTo>
                        <a:pt x="256" y="38"/>
                      </a:lnTo>
                      <a:lnTo>
                        <a:pt x="247" y="38"/>
                      </a:lnTo>
                      <a:lnTo>
                        <a:pt x="246" y="37"/>
                      </a:lnTo>
                      <a:lnTo>
                        <a:pt x="245" y="36"/>
                      </a:lnTo>
                      <a:lnTo>
                        <a:pt x="244" y="35"/>
                      </a:lnTo>
                      <a:lnTo>
                        <a:pt x="242" y="35"/>
                      </a:lnTo>
                      <a:lnTo>
                        <a:pt x="240" y="35"/>
                      </a:lnTo>
                      <a:lnTo>
                        <a:pt x="239" y="36"/>
                      </a:lnTo>
                      <a:lnTo>
                        <a:pt x="238" y="37"/>
                      </a:lnTo>
                      <a:lnTo>
                        <a:pt x="238" y="38"/>
                      </a:lnTo>
                      <a:lnTo>
                        <a:pt x="212" y="38"/>
                      </a:lnTo>
                      <a:lnTo>
                        <a:pt x="212" y="37"/>
                      </a:lnTo>
                      <a:lnTo>
                        <a:pt x="211" y="36"/>
                      </a:lnTo>
                      <a:lnTo>
                        <a:pt x="209" y="35"/>
                      </a:lnTo>
                      <a:lnTo>
                        <a:pt x="208" y="35"/>
                      </a:lnTo>
                      <a:lnTo>
                        <a:pt x="206" y="35"/>
                      </a:lnTo>
                      <a:lnTo>
                        <a:pt x="204" y="36"/>
                      </a:lnTo>
                      <a:lnTo>
                        <a:pt x="203" y="37"/>
                      </a:lnTo>
                      <a:lnTo>
                        <a:pt x="203" y="38"/>
                      </a:lnTo>
                      <a:lnTo>
                        <a:pt x="184" y="38"/>
                      </a:lnTo>
                      <a:lnTo>
                        <a:pt x="183" y="37"/>
                      </a:lnTo>
                      <a:lnTo>
                        <a:pt x="182" y="36"/>
                      </a:lnTo>
                      <a:lnTo>
                        <a:pt x="181" y="35"/>
                      </a:lnTo>
                      <a:lnTo>
                        <a:pt x="179" y="35"/>
                      </a:lnTo>
                      <a:lnTo>
                        <a:pt x="178" y="35"/>
                      </a:lnTo>
                      <a:lnTo>
                        <a:pt x="176" y="36"/>
                      </a:lnTo>
                      <a:lnTo>
                        <a:pt x="175" y="37"/>
                      </a:lnTo>
                      <a:lnTo>
                        <a:pt x="175" y="38"/>
                      </a:lnTo>
                      <a:lnTo>
                        <a:pt x="123" y="38"/>
                      </a:lnTo>
                      <a:lnTo>
                        <a:pt x="122" y="37"/>
                      </a:lnTo>
                      <a:lnTo>
                        <a:pt x="122" y="36"/>
                      </a:lnTo>
                      <a:lnTo>
                        <a:pt x="120" y="35"/>
                      </a:lnTo>
                      <a:lnTo>
                        <a:pt x="118" y="35"/>
                      </a:lnTo>
                      <a:lnTo>
                        <a:pt x="117" y="35"/>
                      </a:lnTo>
                      <a:lnTo>
                        <a:pt x="115" y="36"/>
                      </a:lnTo>
                      <a:lnTo>
                        <a:pt x="114" y="37"/>
                      </a:lnTo>
                      <a:lnTo>
                        <a:pt x="114" y="38"/>
                      </a:lnTo>
                      <a:lnTo>
                        <a:pt x="51" y="38"/>
                      </a:lnTo>
                      <a:lnTo>
                        <a:pt x="50" y="37"/>
                      </a:lnTo>
                      <a:lnTo>
                        <a:pt x="49" y="36"/>
                      </a:lnTo>
                      <a:lnTo>
                        <a:pt x="48" y="35"/>
                      </a:lnTo>
                      <a:lnTo>
                        <a:pt x="46" y="35"/>
                      </a:lnTo>
                      <a:lnTo>
                        <a:pt x="44" y="35"/>
                      </a:lnTo>
                      <a:lnTo>
                        <a:pt x="43" y="36"/>
                      </a:lnTo>
                      <a:lnTo>
                        <a:pt x="42" y="37"/>
                      </a:lnTo>
                      <a:lnTo>
                        <a:pt x="42" y="38"/>
                      </a:lnTo>
                      <a:lnTo>
                        <a:pt x="24" y="38"/>
                      </a:lnTo>
                      <a:lnTo>
                        <a:pt x="23" y="37"/>
                      </a:lnTo>
                      <a:lnTo>
                        <a:pt x="22" y="36"/>
                      </a:lnTo>
                      <a:lnTo>
                        <a:pt x="21" y="35"/>
                      </a:lnTo>
                      <a:lnTo>
                        <a:pt x="19" y="35"/>
                      </a:lnTo>
                      <a:lnTo>
                        <a:pt x="18" y="35"/>
                      </a:lnTo>
                      <a:lnTo>
                        <a:pt x="16" y="36"/>
                      </a:lnTo>
                      <a:lnTo>
                        <a:pt x="15" y="37"/>
                      </a:lnTo>
                      <a:lnTo>
                        <a:pt x="15" y="38"/>
                      </a:lnTo>
                      <a:lnTo>
                        <a:pt x="11" y="38"/>
                      </a:lnTo>
                      <a:lnTo>
                        <a:pt x="11" y="37"/>
                      </a:lnTo>
                      <a:lnTo>
                        <a:pt x="10" y="36"/>
                      </a:lnTo>
                      <a:lnTo>
                        <a:pt x="9" y="35"/>
                      </a:lnTo>
                      <a:lnTo>
                        <a:pt x="7" y="35"/>
                      </a:lnTo>
                      <a:lnTo>
                        <a:pt x="5" y="35"/>
                      </a:lnTo>
                      <a:lnTo>
                        <a:pt x="4" y="36"/>
                      </a:lnTo>
                      <a:lnTo>
                        <a:pt x="3" y="37"/>
                      </a:lnTo>
                      <a:lnTo>
                        <a:pt x="2" y="38"/>
                      </a:lnTo>
                      <a:lnTo>
                        <a:pt x="0" y="38"/>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83" name=""/>
                <p:cNvSpPr/>
                <p:nvPr/>
              </p:nvSpPr>
              <p:spPr>
                <a:xfrm>
                  <a:off x="6780240" y="2939040"/>
                  <a:ext cx="13680" cy="1152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84" name=""/>
                <p:cNvSpPr/>
                <p:nvPr/>
              </p:nvSpPr>
              <p:spPr>
                <a:xfrm>
                  <a:off x="4459680" y="2723760"/>
                  <a:ext cx="1100880" cy="753120"/>
                </a:xfrm>
                <a:custGeom>
                  <a:avLst/>
                  <a:gdLst/>
                  <a:ahLst/>
                  <a:rect l="l" t="t" r="r" b="b"/>
                  <a:pathLst>
                    <a:path w="1040" h="564">
                      <a:moveTo>
                        <a:pt x="1040" y="564"/>
                      </a:moveTo>
                      <a:lnTo>
                        <a:pt x="1020" y="564"/>
                      </a:lnTo>
                      <a:lnTo>
                        <a:pt x="1019" y="563"/>
                      </a:lnTo>
                      <a:lnTo>
                        <a:pt x="1018" y="562"/>
                      </a:lnTo>
                      <a:lnTo>
                        <a:pt x="1017" y="561"/>
                      </a:lnTo>
                      <a:lnTo>
                        <a:pt x="1015" y="561"/>
                      </a:lnTo>
                      <a:lnTo>
                        <a:pt x="1013" y="561"/>
                      </a:lnTo>
                      <a:lnTo>
                        <a:pt x="1012" y="562"/>
                      </a:lnTo>
                      <a:lnTo>
                        <a:pt x="1011" y="563"/>
                      </a:lnTo>
                      <a:lnTo>
                        <a:pt x="1011" y="564"/>
                      </a:lnTo>
                      <a:lnTo>
                        <a:pt x="1008" y="564"/>
                      </a:lnTo>
                      <a:lnTo>
                        <a:pt x="1007" y="563"/>
                      </a:lnTo>
                      <a:lnTo>
                        <a:pt x="1007" y="562"/>
                      </a:lnTo>
                      <a:lnTo>
                        <a:pt x="1005" y="561"/>
                      </a:lnTo>
                      <a:lnTo>
                        <a:pt x="1003" y="561"/>
                      </a:lnTo>
                      <a:lnTo>
                        <a:pt x="1002" y="561"/>
                      </a:lnTo>
                      <a:lnTo>
                        <a:pt x="1000" y="562"/>
                      </a:lnTo>
                      <a:lnTo>
                        <a:pt x="999" y="563"/>
                      </a:lnTo>
                      <a:lnTo>
                        <a:pt x="999" y="564"/>
                      </a:lnTo>
                      <a:lnTo>
                        <a:pt x="992" y="564"/>
                      </a:lnTo>
                      <a:lnTo>
                        <a:pt x="991" y="563"/>
                      </a:lnTo>
                      <a:lnTo>
                        <a:pt x="991" y="562"/>
                      </a:lnTo>
                      <a:lnTo>
                        <a:pt x="989" y="561"/>
                      </a:lnTo>
                      <a:lnTo>
                        <a:pt x="987" y="561"/>
                      </a:lnTo>
                      <a:lnTo>
                        <a:pt x="986" y="561"/>
                      </a:lnTo>
                      <a:lnTo>
                        <a:pt x="984" y="562"/>
                      </a:lnTo>
                      <a:lnTo>
                        <a:pt x="983" y="563"/>
                      </a:lnTo>
                      <a:lnTo>
                        <a:pt x="983" y="564"/>
                      </a:lnTo>
                      <a:lnTo>
                        <a:pt x="968" y="564"/>
                      </a:lnTo>
                      <a:lnTo>
                        <a:pt x="968" y="562"/>
                      </a:lnTo>
                      <a:lnTo>
                        <a:pt x="967" y="561"/>
                      </a:lnTo>
                      <a:lnTo>
                        <a:pt x="966" y="559"/>
                      </a:lnTo>
                      <a:lnTo>
                        <a:pt x="964" y="558"/>
                      </a:lnTo>
                      <a:lnTo>
                        <a:pt x="961" y="558"/>
                      </a:lnTo>
                      <a:lnTo>
                        <a:pt x="959" y="558"/>
                      </a:lnTo>
                      <a:lnTo>
                        <a:pt x="957" y="558"/>
                      </a:lnTo>
                      <a:lnTo>
                        <a:pt x="955" y="559"/>
                      </a:lnTo>
                      <a:lnTo>
                        <a:pt x="953" y="561"/>
                      </a:lnTo>
                      <a:lnTo>
                        <a:pt x="952" y="562"/>
                      </a:lnTo>
                      <a:lnTo>
                        <a:pt x="952" y="564"/>
                      </a:lnTo>
                      <a:lnTo>
                        <a:pt x="948" y="564"/>
                      </a:lnTo>
                      <a:lnTo>
                        <a:pt x="947" y="562"/>
                      </a:lnTo>
                      <a:lnTo>
                        <a:pt x="946" y="560"/>
                      </a:lnTo>
                      <a:lnTo>
                        <a:pt x="945" y="559"/>
                      </a:lnTo>
                      <a:lnTo>
                        <a:pt x="942" y="558"/>
                      </a:lnTo>
                      <a:lnTo>
                        <a:pt x="940" y="558"/>
                      </a:lnTo>
                      <a:lnTo>
                        <a:pt x="938" y="558"/>
                      </a:lnTo>
                      <a:lnTo>
                        <a:pt x="935" y="558"/>
                      </a:lnTo>
                      <a:lnTo>
                        <a:pt x="933" y="559"/>
                      </a:lnTo>
                      <a:lnTo>
                        <a:pt x="932" y="560"/>
                      </a:lnTo>
                      <a:lnTo>
                        <a:pt x="931" y="562"/>
                      </a:lnTo>
                      <a:lnTo>
                        <a:pt x="930" y="564"/>
                      </a:lnTo>
                      <a:lnTo>
                        <a:pt x="928" y="564"/>
                      </a:lnTo>
                      <a:lnTo>
                        <a:pt x="928" y="563"/>
                      </a:lnTo>
                      <a:lnTo>
                        <a:pt x="927" y="562"/>
                      </a:lnTo>
                      <a:lnTo>
                        <a:pt x="926" y="561"/>
                      </a:lnTo>
                      <a:lnTo>
                        <a:pt x="924" y="561"/>
                      </a:lnTo>
                      <a:lnTo>
                        <a:pt x="922" y="561"/>
                      </a:lnTo>
                      <a:lnTo>
                        <a:pt x="921" y="562"/>
                      </a:lnTo>
                      <a:lnTo>
                        <a:pt x="920" y="563"/>
                      </a:lnTo>
                      <a:lnTo>
                        <a:pt x="920" y="564"/>
                      </a:lnTo>
                      <a:lnTo>
                        <a:pt x="919" y="564"/>
                      </a:lnTo>
                      <a:lnTo>
                        <a:pt x="919" y="563"/>
                      </a:lnTo>
                      <a:lnTo>
                        <a:pt x="918" y="562"/>
                      </a:lnTo>
                      <a:lnTo>
                        <a:pt x="916" y="561"/>
                      </a:lnTo>
                      <a:lnTo>
                        <a:pt x="914" y="561"/>
                      </a:lnTo>
                      <a:lnTo>
                        <a:pt x="913" y="561"/>
                      </a:lnTo>
                      <a:lnTo>
                        <a:pt x="911" y="562"/>
                      </a:lnTo>
                      <a:lnTo>
                        <a:pt x="910" y="563"/>
                      </a:lnTo>
                      <a:lnTo>
                        <a:pt x="910" y="564"/>
                      </a:lnTo>
                      <a:lnTo>
                        <a:pt x="908" y="564"/>
                      </a:lnTo>
                      <a:lnTo>
                        <a:pt x="908" y="563"/>
                      </a:lnTo>
                      <a:lnTo>
                        <a:pt x="906" y="562"/>
                      </a:lnTo>
                      <a:lnTo>
                        <a:pt x="905" y="561"/>
                      </a:lnTo>
                      <a:lnTo>
                        <a:pt x="903" y="561"/>
                      </a:lnTo>
                      <a:lnTo>
                        <a:pt x="902" y="561"/>
                      </a:lnTo>
                      <a:lnTo>
                        <a:pt x="900" y="562"/>
                      </a:lnTo>
                      <a:lnTo>
                        <a:pt x="899" y="563"/>
                      </a:lnTo>
                      <a:lnTo>
                        <a:pt x="899" y="564"/>
                      </a:lnTo>
                      <a:lnTo>
                        <a:pt x="888" y="564"/>
                      </a:lnTo>
                      <a:lnTo>
                        <a:pt x="888" y="563"/>
                      </a:lnTo>
                      <a:lnTo>
                        <a:pt x="887" y="562"/>
                      </a:lnTo>
                      <a:lnTo>
                        <a:pt x="885" y="561"/>
                      </a:lnTo>
                      <a:lnTo>
                        <a:pt x="883" y="561"/>
                      </a:lnTo>
                      <a:lnTo>
                        <a:pt x="882" y="561"/>
                      </a:lnTo>
                      <a:lnTo>
                        <a:pt x="880" y="562"/>
                      </a:lnTo>
                      <a:lnTo>
                        <a:pt x="879" y="563"/>
                      </a:lnTo>
                      <a:lnTo>
                        <a:pt x="879" y="564"/>
                      </a:lnTo>
                      <a:lnTo>
                        <a:pt x="850" y="564"/>
                      </a:lnTo>
                      <a:lnTo>
                        <a:pt x="850" y="563"/>
                      </a:lnTo>
                      <a:lnTo>
                        <a:pt x="849" y="562"/>
                      </a:lnTo>
                      <a:lnTo>
                        <a:pt x="847" y="561"/>
                      </a:lnTo>
                      <a:lnTo>
                        <a:pt x="846" y="561"/>
                      </a:lnTo>
                      <a:lnTo>
                        <a:pt x="844" y="561"/>
                      </a:lnTo>
                      <a:lnTo>
                        <a:pt x="842" y="562"/>
                      </a:lnTo>
                      <a:lnTo>
                        <a:pt x="841" y="563"/>
                      </a:lnTo>
                      <a:lnTo>
                        <a:pt x="841" y="564"/>
                      </a:lnTo>
                      <a:lnTo>
                        <a:pt x="822" y="564"/>
                      </a:lnTo>
                      <a:lnTo>
                        <a:pt x="822" y="563"/>
                      </a:lnTo>
                      <a:lnTo>
                        <a:pt x="821" y="562"/>
                      </a:lnTo>
                      <a:lnTo>
                        <a:pt x="819" y="561"/>
                      </a:lnTo>
                      <a:lnTo>
                        <a:pt x="818" y="561"/>
                      </a:lnTo>
                      <a:lnTo>
                        <a:pt x="816" y="561"/>
                      </a:lnTo>
                      <a:lnTo>
                        <a:pt x="814" y="562"/>
                      </a:lnTo>
                      <a:lnTo>
                        <a:pt x="813" y="563"/>
                      </a:lnTo>
                      <a:lnTo>
                        <a:pt x="813" y="564"/>
                      </a:lnTo>
                      <a:lnTo>
                        <a:pt x="795" y="564"/>
                      </a:lnTo>
                      <a:lnTo>
                        <a:pt x="795" y="563"/>
                      </a:lnTo>
                      <a:lnTo>
                        <a:pt x="794" y="562"/>
                      </a:lnTo>
                      <a:lnTo>
                        <a:pt x="792" y="561"/>
                      </a:lnTo>
                      <a:lnTo>
                        <a:pt x="791" y="561"/>
                      </a:lnTo>
                      <a:lnTo>
                        <a:pt x="789" y="561"/>
                      </a:lnTo>
                      <a:lnTo>
                        <a:pt x="787" y="562"/>
                      </a:lnTo>
                      <a:lnTo>
                        <a:pt x="786" y="563"/>
                      </a:lnTo>
                      <a:lnTo>
                        <a:pt x="786" y="564"/>
                      </a:lnTo>
                      <a:lnTo>
                        <a:pt x="734" y="564"/>
                      </a:lnTo>
                      <a:lnTo>
                        <a:pt x="734" y="563"/>
                      </a:lnTo>
                      <a:lnTo>
                        <a:pt x="733" y="562"/>
                      </a:lnTo>
                      <a:lnTo>
                        <a:pt x="731" y="561"/>
                      </a:lnTo>
                      <a:lnTo>
                        <a:pt x="730" y="561"/>
                      </a:lnTo>
                      <a:lnTo>
                        <a:pt x="728" y="561"/>
                      </a:lnTo>
                      <a:lnTo>
                        <a:pt x="726" y="562"/>
                      </a:lnTo>
                      <a:lnTo>
                        <a:pt x="725" y="563"/>
                      </a:lnTo>
                      <a:lnTo>
                        <a:pt x="725" y="564"/>
                      </a:lnTo>
                      <a:lnTo>
                        <a:pt x="705" y="564"/>
                      </a:lnTo>
                      <a:lnTo>
                        <a:pt x="704" y="563"/>
                      </a:lnTo>
                      <a:lnTo>
                        <a:pt x="703" y="562"/>
                      </a:lnTo>
                      <a:lnTo>
                        <a:pt x="702" y="561"/>
                      </a:lnTo>
                      <a:lnTo>
                        <a:pt x="700" y="561"/>
                      </a:lnTo>
                      <a:lnTo>
                        <a:pt x="698" y="561"/>
                      </a:lnTo>
                      <a:lnTo>
                        <a:pt x="697" y="562"/>
                      </a:lnTo>
                      <a:lnTo>
                        <a:pt x="696" y="563"/>
                      </a:lnTo>
                      <a:lnTo>
                        <a:pt x="696" y="564"/>
                      </a:lnTo>
                      <a:lnTo>
                        <a:pt x="687" y="564"/>
                      </a:lnTo>
                      <a:lnTo>
                        <a:pt x="687" y="563"/>
                      </a:lnTo>
                      <a:lnTo>
                        <a:pt x="686" y="562"/>
                      </a:lnTo>
                      <a:lnTo>
                        <a:pt x="684" y="561"/>
                      </a:lnTo>
                      <a:lnTo>
                        <a:pt x="683" y="561"/>
                      </a:lnTo>
                      <a:lnTo>
                        <a:pt x="681" y="561"/>
                      </a:lnTo>
                      <a:lnTo>
                        <a:pt x="679" y="562"/>
                      </a:lnTo>
                      <a:lnTo>
                        <a:pt x="678" y="563"/>
                      </a:lnTo>
                      <a:lnTo>
                        <a:pt x="678" y="564"/>
                      </a:lnTo>
                      <a:lnTo>
                        <a:pt x="672" y="564"/>
                      </a:lnTo>
                      <a:lnTo>
                        <a:pt x="671" y="563"/>
                      </a:lnTo>
                      <a:lnTo>
                        <a:pt x="670" y="562"/>
                      </a:lnTo>
                      <a:lnTo>
                        <a:pt x="669" y="561"/>
                      </a:lnTo>
                      <a:lnTo>
                        <a:pt x="667" y="561"/>
                      </a:lnTo>
                      <a:lnTo>
                        <a:pt x="666" y="561"/>
                      </a:lnTo>
                      <a:lnTo>
                        <a:pt x="664" y="562"/>
                      </a:lnTo>
                      <a:lnTo>
                        <a:pt x="663" y="563"/>
                      </a:lnTo>
                      <a:lnTo>
                        <a:pt x="663" y="564"/>
                      </a:lnTo>
                      <a:lnTo>
                        <a:pt x="656" y="564"/>
                      </a:lnTo>
                      <a:lnTo>
                        <a:pt x="655" y="563"/>
                      </a:lnTo>
                      <a:lnTo>
                        <a:pt x="654" y="562"/>
                      </a:lnTo>
                      <a:lnTo>
                        <a:pt x="653" y="561"/>
                      </a:lnTo>
                      <a:lnTo>
                        <a:pt x="651" y="561"/>
                      </a:lnTo>
                      <a:lnTo>
                        <a:pt x="649" y="561"/>
                      </a:lnTo>
                      <a:lnTo>
                        <a:pt x="648" y="562"/>
                      </a:lnTo>
                      <a:lnTo>
                        <a:pt x="647" y="563"/>
                      </a:lnTo>
                      <a:lnTo>
                        <a:pt x="647" y="564"/>
                      </a:lnTo>
                      <a:lnTo>
                        <a:pt x="647" y="564"/>
                      </a:lnTo>
                      <a:lnTo>
                        <a:pt x="646" y="563"/>
                      </a:lnTo>
                      <a:lnTo>
                        <a:pt x="645" y="562"/>
                      </a:lnTo>
                      <a:lnTo>
                        <a:pt x="644" y="561"/>
                      </a:lnTo>
                      <a:lnTo>
                        <a:pt x="642" y="561"/>
                      </a:lnTo>
                      <a:lnTo>
                        <a:pt x="640" y="561"/>
                      </a:lnTo>
                      <a:lnTo>
                        <a:pt x="639" y="562"/>
                      </a:lnTo>
                      <a:lnTo>
                        <a:pt x="638" y="563"/>
                      </a:lnTo>
                      <a:lnTo>
                        <a:pt x="638" y="564"/>
                      </a:lnTo>
                      <a:lnTo>
                        <a:pt x="619" y="564"/>
                      </a:lnTo>
                      <a:lnTo>
                        <a:pt x="618" y="562"/>
                      </a:lnTo>
                      <a:lnTo>
                        <a:pt x="617" y="561"/>
                      </a:lnTo>
                      <a:lnTo>
                        <a:pt x="616" y="559"/>
                      </a:lnTo>
                      <a:lnTo>
                        <a:pt x="614" y="558"/>
                      </a:lnTo>
                      <a:lnTo>
                        <a:pt x="612" y="558"/>
                      </a:lnTo>
                      <a:lnTo>
                        <a:pt x="609" y="558"/>
                      </a:lnTo>
                      <a:lnTo>
                        <a:pt x="607" y="558"/>
                      </a:lnTo>
                      <a:lnTo>
                        <a:pt x="605" y="559"/>
                      </a:lnTo>
                      <a:lnTo>
                        <a:pt x="603" y="561"/>
                      </a:lnTo>
                      <a:lnTo>
                        <a:pt x="602" y="562"/>
                      </a:lnTo>
                      <a:lnTo>
                        <a:pt x="602" y="564"/>
                      </a:lnTo>
                      <a:lnTo>
                        <a:pt x="592" y="564"/>
                      </a:lnTo>
                      <a:lnTo>
                        <a:pt x="592" y="563"/>
                      </a:lnTo>
                      <a:lnTo>
                        <a:pt x="591" y="562"/>
                      </a:lnTo>
                      <a:lnTo>
                        <a:pt x="590" y="561"/>
                      </a:lnTo>
                      <a:lnTo>
                        <a:pt x="588" y="561"/>
                      </a:lnTo>
                      <a:lnTo>
                        <a:pt x="586" y="561"/>
                      </a:lnTo>
                      <a:lnTo>
                        <a:pt x="585" y="562"/>
                      </a:lnTo>
                      <a:lnTo>
                        <a:pt x="584" y="563"/>
                      </a:lnTo>
                      <a:lnTo>
                        <a:pt x="583" y="564"/>
                      </a:lnTo>
                      <a:lnTo>
                        <a:pt x="574" y="564"/>
                      </a:lnTo>
                      <a:lnTo>
                        <a:pt x="574" y="556"/>
                      </a:lnTo>
                      <a:lnTo>
                        <a:pt x="337" y="556"/>
                      </a:lnTo>
                      <a:lnTo>
                        <a:pt x="337" y="555"/>
                      </a:lnTo>
                      <a:lnTo>
                        <a:pt x="336" y="554"/>
                      </a:lnTo>
                      <a:lnTo>
                        <a:pt x="335" y="553"/>
                      </a:lnTo>
                      <a:lnTo>
                        <a:pt x="333" y="553"/>
                      </a:lnTo>
                      <a:lnTo>
                        <a:pt x="331" y="553"/>
                      </a:lnTo>
                      <a:lnTo>
                        <a:pt x="330" y="554"/>
                      </a:lnTo>
                      <a:lnTo>
                        <a:pt x="329" y="555"/>
                      </a:lnTo>
                      <a:lnTo>
                        <a:pt x="328" y="556"/>
                      </a:lnTo>
                      <a:lnTo>
                        <a:pt x="307" y="556"/>
                      </a:lnTo>
                      <a:lnTo>
                        <a:pt x="307" y="555"/>
                      </a:lnTo>
                      <a:lnTo>
                        <a:pt x="306" y="554"/>
                      </a:lnTo>
                      <a:lnTo>
                        <a:pt x="304" y="553"/>
                      </a:lnTo>
                      <a:lnTo>
                        <a:pt x="303" y="553"/>
                      </a:lnTo>
                      <a:lnTo>
                        <a:pt x="301" y="553"/>
                      </a:lnTo>
                      <a:lnTo>
                        <a:pt x="299" y="554"/>
                      </a:lnTo>
                      <a:lnTo>
                        <a:pt x="298" y="555"/>
                      </a:lnTo>
                      <a:lnTo>
                        <a:pt x="298" y="556"/>
                      </a:lnTo>
                      <a:lnTo>
                        <a:pt x="285" y="556"/>
                      </a:lnTo>
                      <a:lnTo>
                        <a:pt x="285" y="555"/>
                      </a:lnTo>
                      <a:lnTo>
                        <a:pt x="284" y="554"/>
                      </a:lnTo>
                      <a:lnTo>
                        <a:pt x="282" y="553"/>
                      </a:lnTo>
                      <a:lnTo>
                        <a:pt x="281" y="553"/>
                      </a:lnTo>
                      <a:lnTo>
                        <a:pt x="279" y="553"/>
                      </a:lnTo>
                      <a:lnTo>
                        <a:pt x="277" y="554"/>
                      </a:lnTo>
                      <a:lnTo>
                        <a:pt x="277" y="555"/>
                      </a:lnTo>
                      <a:lnTo>
                        <a:pt x="276" y="556"/>
                      </a:lnTo>
                      <a:lnTo>
                        <a:pt x="272" y="556"/>
                      </a:lnTo>
                      <a:lnTo>
                        <a:pt x="272" y="555"/>
                      </a:lnTo>
                      <a:lnTo>
                        <a:pt x="271" y="554"/>
                      </a:lnTo>
                      <a:lnTo>
                        <a:pt x="270" y="553"/>
                      </a:lnTo>
                      <a:lnTo>
                        <a:pt x="268" y="553"/>
                      </a:lnTo>
                      <a:lnTo>
                        <a:pt x="266" y="553"/>
                      </a:lnTo>
                      <a:lnTo>
                        <a:pt x="265" y="554"/>
                      </a:lnTo>
                      <a:lnTo>
                        <a:pt x="264" y="555"/>
                      </a:lnTo>
                      <a:lnTo>
                        <a:pt x="263" y="556"/>
                      </a:lnTo>
                      <a:lnTo>
                        <a:pt x="255" y="556"/>
                      </a:lnTo>
                      <a:lnTo>
                        <a:pt x="255" y="555"/>
                      </a:lnTo>
                      <a:lnTo>
                        <a:pt x="254" y="554"/>
                      </a:lnTo>
                      <a:lnTo>
                        <a:pt x="252" y="553"/>
                      </a:lnTo>
                      <a:lnTo>
                        <a:pt x="250" y="553"/>
                      </a:lnTo>
                      <a:lnTo>
                        <a:pt x="249" y="553"/>
                      </a:lnTo>
                      <a:lnTo>
                        <a:pt x="247" y="554"/>
                      </a:lnTo>
                      <a:lnTo>
                        <a:pt x="246" y="555"/>
                      </a:lnTo>
                      <a:lnTo>
                        <a:pt x="246" y="556"/>
                      </a:lnTo>
                      <a:lnTo>
                        <a:pt x="241" y="556"/>
                      </a:lnTo>
                      <a:lnTo>
                        <a:pt x="241" y="555"/>
                      </a:lnTo>
                      <a:lnTo>
                        <a:pt x="240" y="554"/>
                      </a:lnTo>
                      <a:lnTo>
                        <a:pt x="238" y="553"/>
                      </a:lnTo>
                      <a:lnTo>
                        <a:pt x="237" y="553"/>
                      </a:lnTo>
                      <a:lnTo>
                        <a:pt x="235" y="553"/>
                      </a:lnTo>
                      <a:lnTo>
                        <a:pt x="234" y="554"/>
                      </a:lnTo>
                      <a:lnTo>
                        <a:pt x="233" y="555"/>
                      </a:lnTo>
                      <a:lnTo>
                        <a:pt x="232" y="556"/>
                      </a:lnTo>
                      <a:lnTo>
                        <a:pt x="231" y="556"/>
                      </a:lnTo>
                      <a:lnTo>
                        <a:pt x="231" y="555"/>
                      </a:lnTo>
                      <a:lnTo>
                        <a:pt x="230" y="554"/>
                      </a:lnTo>
                      <a:lnTo>
                        <a:pt x="228" y="553"/>
                      </a:lnTo>
                      <a:lnTo>
                        <a:pt x="227" y="553"/>
                      </a:lnTo>
                      <a:lnTo>
                        <a:pt x="225" y="553"/>
                      </a:lnTo>
                      <a:lnTo>
                        <a:pt x="223" y="554"/>
                      </a:lnTo>
                      <a:lnTo>
                        <a:pt x="223" y="555"/>
                      </a:lnTo>
                      <a:lnTo>
                        <a:pt x="222" y="556"/>
                      </a:lnTo>
                      <a:lnTo>
                        <a:pt x="211" y="556"/>
                      </a:lnTo>
                      <a:lnTo>
                        <a:pt x="211" y="555"/>
                      </a:lnTo>
                      <a:lnTo>
                        <a:pt x="210" y="554"/>
                      </a:lnTo>
                      <a:lnTo>
                        <a:pt x="209" y="553"/>
                      </a:lnTo>
                      <a:lnTo>
                        <a:pt x="207" y="553"/>
                      </a:lnTo>
                      <a:lnTo>
                        <a:pt x="205" y="553"/>
                      </a:lnTo>
                      <a:lnTo>
                        <a:pt x="204" y="554"/>
                      </a:lnTo>
                      <a:lnTo>
                        <a:pt x="203" y="555"/>
                      </a:lnTo>
                      <a:lnTo>
                        <a:pt x="202" y="556"/>
                      </a:lnTo>
                      <a:lnTo>
                        <a:pt x="201" y="556"/>
                      </a:lnTo>
                      <a:lnTo>
                        <a:pt x="200" y="554"/>
                      </a:lnTo>
                      <a:lnTo>
                        <a:pt x="199" y="553"/>
                      </a:lnTo>
                      <a:lnTo>
                        <a:pt x="198" y="551"/>
                      </a:lnTo>
                      <a:lnTo>
                        <a:pt x="196" y="550"/>
                      </a:lnTo>
                      <a:lnTo>
                        <a:pt x="194" y="550"/>
                      </a:lnTo>
                      <a:lnTo>
                        <a:pt x="191" y="550"/>
                      </a:lnTo>
                      <a:lnTo>
                        <a:pt x="189" y="550"/>
                      </a:lnTo>
                      <a:lnTo>
                        <a:pt x="187" y="551"/>
                      </a:lnTo>
                      <a:lnTo>
                        <a:pt x="186" y="553"/>
                      </a:lnTo>
                      <a:lnTo>
                        <a:pt x="185" y="554"/>
                      </a:lnTo>
                      <a:lnTo>
                        <a:pt x="184" y="556"/>
                      </a:lnTo>
                      <a:lnTo>
                        <a:pt x="87" y="556"/>
                      </a:lnTo>
                      <a:lnTo>
                        <a:pt x="87" y="555"/>
                      </a:lnTo>
                      <a:lnTo>
                        <a:pt x="86" y="554"/>
                      </a:lnTo>
                      <a:lnTo>
                        <a:pt x="85" y="553"/>
                      </a:lnTo>
                      <a:lnTo>
                        <a:pt x="83" y="553"/>
                      </a:lnTo>
                      <a:lnTo>
                        <a:pt x="81" y="553"/>
                      </a:lnTo>
                      <a:lnTo>
                        <a:pt x="80" y="554"/>
                      </a:lnTo>
                      <a:lnTo>
                        <a:pt x="79" y="555"/>
                      </a:lnTo>
                      <a:lnTo>
                        <a:pt x="79" y="556"/>
                      </a:lnTo>
                      <a:lnTo>
                        <a:pt x="50" y="556"/>
                      </a:lnTo>
                      <a:lnTo>
                        <a:pt x="50" y="555"/>
                      </a:lnTo>
                      <a:lnTo>
                        <a:pt x="49" y="554"/>
                      </a:lnTo>
                      <a:lnTo>
                        <a:pt x="47" y="553"/>
                      </a:lnTo>
                      <a:lnTo>
                        <a:pt x="46" y="553"/>
                      </a:lnTo>
                      <a:lnTo>
                        <a:pt x="44" y="553"/>
                      </a:lnTo>
                      <a:lnTo>
                        <a:pt x="42" y="554"/>
                      </a:lnTo>
                      <a:lnTo>
                        <a:pt x="42" y="555"/>
                      </a:lnTo>
                      <a:lnTo>
                        <a:pt x="41" y="556"/>
                      </a:lnTo>
                      <a:lnTo>
                        <a:pt x="0" y="556"/>
                      </a:lnTo>
                      <a:lnTo>
                        <a:pt x="0" y="430"/>
                      </a:lnTo>
                      <a:lnTo>
                        <a:pt x="52" y="430"/>
                      </a:lnTo>
                      <a:lnTo>
                        <a:pt x="53" y="428"/>
                      </a:lnTo>
                      <a:lnTo>
                        <a:pt x="54" y="427"/>
                      </a:lnTo>
                      <a:lnTo>
                        <a:pt x="55" y="427"/>
                      </a:lnTo>
                      <a:lnTo>
                        <a:pt x="57" y="426"/>
                      </a:lnTo>
                      <a:lnTo>
                        <a:pt x="59" y="427"/>
                      </a:lnTo>
                      <a:lnTo>
                        <a:pt x="60" y="427"/>
                      </a:lnTo>
                      <a:lnTo>
                        <a:pt x="61" y="428"/>
                      </a:lnTo>
                      <a:lnTo>
                        <a:pt x="62" y="430"/>
                      </a:lnTo>
                      <a:lnTo>
                        <a:pt x="84" y="430"/>
                      </a:lnTo>
                      <a:lnTo>
                        <a:pt x="84" y="7"/>
                      </a:lnTo>
                      <a:lnTo>
                        <a:pt x="68" y="7"/>
                      </a:lnTo>
                      <a:lnTo>
                        <a:pt x="68" y="5"/>
                      </a:lnTo>
                      <a:lnTo>
                        <a:pt x="67" y="4"/>
                      </a:lnTo>
                      <a:lnTo>
                        <a:pt x="65" y="3"/>
                      </a:lnTo>
                      <a:lnTo>
                        <a:pt x="64" y="3"/>
                      </a:lnTo>
                      <a:lnTo>
                        <a:pt x="62" y="3"/>
                      </a:lnTo>
                      <a:lnTo>
                        <a:pt x="61" y="4"/>
                      </a:lnTo>
                      <a:lnTo>
                        <a:pt x="60" y="5"/>
                      </a:lnTo>
                      <a:lnTo>
                        <a:pt x="59" y="7"/>
                      </a:lnTo>
                      <a:lnTo>
                        <a:pt x="0" y="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4453560" y="271188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86" name=""/>
                <p:cNvSpPr/>
                <p:nvPr/>
              </p:nvSpPr>
              <p:spPr>
                <a:xfrm>
                  <a:off x="4381560" y="2723760"/>
                  <a:ext cx="1172880" cy="1908360"/>
                </a:xfrm>
                <a:custGeom>
                  <a:avLst/>
                  <a:gdLst/>
                  <a:ahLst/>
                  <a:rect l="l" t="t" r="r" b="b"/>
                  <a:pathLst>
                    <a:path w="1108" h="1429">
                      <a:moveTo>
                        <a:pt x="1108" y="1429"/>
                      </a:moveTo>
                      <a:lnTo>
                        <a:pt x="1022" y="1429"/>
                      </a:lnTo>
                      <a:lnTo>
                        <a:pt x="1021" y="1428"/>
                      </a:lnTo>
                      <a:lnTo>
                        <a:pt x="1020" y="1427"/>
                      </a:lnTo>
                      <a:lnTo>
                        <a:pt x="1019" y="1426"/>
                      </a:lnTo>
                      <a:lnTo>
                        <a:pt x="1017" y="1426"/>
                      </a:lnTo>
                      <a:lnTo>
                        <a:pt x="1015" y="1426"/>
                      </a:lnTo>
                      <a:lnTo>
                        <a:pt x="1014" y="1427"/>
                      </a:lnTo>
                      <a:lnTo>
                        <a:pt x="1013" y="1428"/>
                      </a:lnTo>
                      <a:lnTo>
                        <a:pt x="1013" y="1429"/>
                      </a:lnTo>
                      <a:lnTo>
                        <a:pt x="993" y="1429"/>
                      </a:lnTo>
                      <a:lnTo>
                        <a:pt x="993" y="1428"/>
                      </a:lnTo>
                      <a:lnTo>
                        <a:pt x="992" y="1427"/>
                      </a:lnTo>
                      <a:lnTo>
                        <a:pt x="990" y="1426"/>
                      </a:lnTo>
                      <a:lnTo>
                        <a:pt x="988" y="1426"/>
                      </a:lnTo>
                      <a:lnTo>
                        <a:pt x="987" y="1426"/>
                      </a:lnTo>
                      <a:lnTo>
                        <a:pt x="985" y="1427"/>
                      </a:lnTo>
                      <a:lnTo>
                        <a:pt x="984" y="1428"/>
                      </a:lnTo>
                      <a:lnTo>
                        <a:pt x="984" y="1429"/>
                      </a:lnTo>
                      <a:lnTo>
                        <a:pt x="950" y="1429"/>
                      </a:lnTo>
                      <a:lnTo>
                        <a:pt x="950" y="1428"/>
                      </a:lnTo>
                      <a:lnTo>
                        <a:pt x="949" y="1427"/>
                      </a:lnTo>
                      <a:lnTo>
                        <a:pt x="947" y="1426"/>
                      </a:lnTo>
                      <a:lnTo>
                        <a:pt x="946" y="1426"/>
                      </a:lnTo>
                      <a:lnTo>
                        <a:pt x="944" y="1426"/>
                      </a:lnTo>
                      <a:lnTo>
                        <a:pt x="942" y="1427"/>
                      </a:lnTo>
                      <a:lnTo>
                        <a:pt x="942" y="1428"/>
                      </a:lnTo>
                      <a:lnTo>
                        <a:pt x="941" y="1429"/>
                      </a:lnTo>
                      <a:lnTo>
                        <a:pt x="937" y="1429"/>
                      </a:lnTo>
                      <a:lnTo>
                        <a:pt x="936" y="1427"/>
                      </a:lnTo>
                      <a:lnTo>
                        <a:pt x="935" y="1426"/>
                      </a:lnTo>
                      <a:lnTo>
                        <a:pt x="934" y="1425"/>
                      </a:lnTo>
                      <a:lnTo>
                        <a:pt x="932" y="1424"/>
                      </a:lnTo>
                      <a:lnTo>
                        <a:pt x="930" y="1423"/>
                      </a:lnTo>
                      <a:lnTo>
                        <a:pt x="928" y="1423"/>
                      </a:lnTo>
                      <a:lnTo>
                        <a:pt x="926" y="1424"/>
                      </a:lnTo>
                      <a:lnTo>
                        <a:pt x="924" y="1425"/>
                      </a:lnTo>
                      <a:lnTo>
                        <a:pt x="922" y="1426"/>
                      </a:lnTo>
                      <a:lnTo>
                        <a:pt x="921" y="1427"/>
                      </a:lnTo>
                      <a:lnTo>
                        <a:pt x="921" y="1429"/>
                      </a:lnTo>
                      <a:lnTo>
                        <a:pt x="896" y="1429"/>
                      </a:lnTo>
                      <a:lnTo>
                        <a:pt x="896" y="1428"/>
                      </a:lnTo>
                      <a:lnTo>
                        <a:pt x="895" y="1426"/>
                      </a:lnTo>
                      <a:lnTo>
                        <a:pt x="893" y="1425"/>
                      </a:lnTo>
                      <a:lnTo>
                        <a:pt x="892" y="1424"/>
                      </a:lnTo>
                      <a:lnTo>
                        <a:pt x="890" y="1424"/>
                      </a:lnTo>
                      <a:lnTo>
                        <a:pt x="888" y="1424"/>
                      </a:lnTo>
                      <a:lnTo>
                        <a:pt x="886" y="1424"/>
                      </a:lnTo>
                      <a:lnTo>
                        <a:pt x="884" y="1425"/>
                      </a:lnTo>
                      <a:lnTo>
                        <a:pt x="882" y="1426"/>
                      </a:lnTo>
                      <a:lnTo>
                        <a:pt x="882" y="1428"/>
                      </a:lnTo>
                      <a:lnTo>
                        <a:pt x="881" y="1429"/>
                      </a:lnTo>
                      <a:lnTo>
                        <a:pt x="819" y="1429"/>
                      </a:lnTo>
                      <a:lnTo>
                        <a:pt x="819" y="1428"/>
                      </a:lnTo>
                      <a:lnTo>
                        <a:pt x="818" y="1427"/>
                      </a:lnTo>
                      <a:lnTo>
                        <a:pt x="816" y="1426"/>
                      </a:lnTo>
                      <a:lnTo>
                        <a:pt x="815" y="1426"/>
                      </a:lnTo>
                      <a:lnTo>
                        <a:pt x="813" y="1426"/>
                      </a:lnTo>
                      <a:lnTo>
                        <a:pt x="811" y="1427"/>
                      </a:lnTo>
                      <a:lnTo>
                        <a:pt x="810" y="1428"/>
                      </a:lnTo>
                      <a:lnTo>
                        <a:pt x="810" y="1429"/>
                      </a:lnTo>
                      <a:lnTo>
                        <a:pt x="779" y="1429"/>
                      </a:lnTo>
                      <a:lnTo>
                        <a:pt x="779" y="1428"/>
                      </a:lnTo>
                      <a:lnTo>
                        <a:pt x="778" y="1427"/>
                      </a:lnTo>
                      <a:lnTo>
                        <a:pt x="776" y="1426"/>
                      </a:lnTo>
                      <a:lnTo>
                        <a:pt x="775" y="1426"/>
                      </a:lnTo>
                      <a:lnTo>
                        <a:pt x="773" y="1426"/>
                      </a:lnTo>
                      <a:lnTo>
                        <a:pt x="772" y="1427"/>
                      </a:lnTo>
                      <a:lnTo>
                        <a:pt x="771" y="1428"/>
                      </a:lnTo>
                      <a:lnTo>
                        <a:pt x="770" y="1429"/>
                      </a:lnTo>
                      <a:lnTo>
                        <a:pt x="761" y="1429"/>
                      </a:lnTo>
                      <a:lnTo>
                        <a:pt x="761" y="1428"/>
                      </a:lnTo>
                      <a:lnTo>
                        <a:pt x="760" y="1427"/>
                      </a:lnTo>
                      <a:lnTo>
                        <a:pt x="758" y="1426"/>
                      </a:lnTo>
                      <a:lnTo>
                        <a:pt x="757" y="1426"/>
                      </a:lnTo>
                      <a:lnTo>
                        <a:pt x="755" y="1426"/>
                      </a:lnTo>
                      <a:lnTo>
                        <a:pt x="753" y="1427"/>
                      </a:lnTo>
                      <a:lnTo>
                        <a:pt x="752" y="1428"/>
                      </a:lnTo>
                      <a:lnTo>
                        <a:pt x="752" y="1429"/>
                      </a:lnTo>
                      <a:lnTo>
                        <a:pt x="739" y="1429"/>
                      </a:lnTo>
                      <a:lnTo>
                        <a:pt x="739" y="1428"/>
                      </a:lnTo>
                      <a:lnTo>
                        <a:pt x="738" y="1427"/>
                      </a:lnTo>
                      <a:lnTo>
                        <a:pt x="736" y="1426"/>
                      </a:lnTo>
                      <a:lnTo>
                        <a:pt x="735" y="1426"/>
                      </a:lnTo>
                      <a:lnTo>
                        <a:pt x="733" y="1426"/>
                      </a:lnTo>
                      <a:lnTo>
                        <a:pt x="732" y="1427"/>
                      </a:lnTo>
                      <a:lnTo>
                        <a:pt x="731" y="1428"/>
                      </a:lnTo>
                      <a:lnTo>
                        <a:pt x="730" y="1429"/>
                      </a:lnTo>
                      <a:lnTo>
                        <a:pt x="699" y="1429"/>
                      </a:lnTo>
                      <a:lnTo>
                        <a:pt x="699" y="1428"/>
                      </a:lnTo>
                      <a:lnTo>
                        <a:pt x="698" y="1427"/>
                      </a:lnTo>
                      <a:lnTo>
                        <a:pt x="697" y="1426"/>
                      </a:lnTo>
                      <a:lnTo>
                        <a:pt x="695" y="1426"/>
                      </a:lnTo>
                      <a:lnTo>
                        <a:pt x="693" y="1426"/>
                      </a:lnTo>
                      <a:lnTo>
                        <a:pt x="692" y="1427"/>
                      </a:lnTo>
                      <a:lnTo>
                        <a:pt x="691" y="1428"/>
                      </a:lnTo>
                      <a:lnTo>
                        <a:pt x="690" y="1429"/>
                      </a:lnTo>
                      <a:lnTo>
                        <a:pt x="659" y="1429"/>
                      </a:lnTo>
                      <a:lnTo>
                        <a:pt x="659" y="1428"/>
                      </a:lnTo>
                      <a:lnTo>
                        <a:pt x="658" y="1427"/>
                      </a:lnTo>
                      <a:lnTo>
                        <a:pt x="657" y="1426"/>
                      </a:lnTo>
                      <a:lnTo>
                        <a:pt x="655" y="1426"/>
                      </a:lnTo>
                      <a:lnTo>
                        <a:pt x="653" y="1426"/>
                      </a:lnTo>
                      <a:lnTo>
                        <a:pt x="652" y="1427"/>
                      </a:lnTo>
                      <a:lnTo>
                        <a:pt x="651" y="1428"/>
                      </a:lnTo>
                      <a:lnTo>
                        <a:pt x="650" y="1429"/>
                      </a:lnTo>
                      <a:lnTo>
                        <a:pt x="619" y="1429"/>
                      </a:lnTo>
                      <a:lnTo>
                        <a:pt x="619" y="1428"/>
                      </a:lnTo>
                      <a:lnTo>
                        <a:pt x="618" y="1427"/>
                      </a:lnTo>
                      <a:lnTo>
                        <a:pt x="617" y="1426"/>
                      </a:lnTo>
                      <a:lnTo>
                        <a:pt x="615" y="1426"/>
                      </a:lnTo>
                      <a:lnTo>
                        <a:pt x="613" y="1426"/>
                      </a:lnTo>
                      <a:lnTo>
                        <a:pt x="612" y="1427"/>
                      </a:lnTo>
                      <a:lnTo>
                        <a:pt x="611" y="1428"/>
                      </a:lnTo>
                      <a:lnTo>
                        <a:pt x="610" y="1429"/>
                      </a:lnTo>
                      <a:lnTo>
                        <a:pt x="416" y="1429"/>
                      </a:lnTo>
                      <a:lnTo>
                        <a:pt x="416" y="1428"/>
                      </a:lnTo>
                      <a:lnTo>
                        <a:pt x="415" y="1427"/>
                      </a:lnTo>
                      <a:lnTo>
                        <a:pt x="413" y="1426"/>
                      </a:lnTo>
                      <a:lnTo>
                        <a:pt x="412" y="1426"/>
                      </a:lnTo>
                      <a:lnTo>
                        <a:pt x="410" y="1426"/>
                      </a:lnTo>
                      <a:lnTo>
                        <a:pt x="408" y="1427"/>
                      </a:lnTo>
                      <a:lnTo>
                        <a:pt x="407" y="1428"/>
                      </a:lnTo>
                      <a:lnTo>
                        <a:pt x="407" y="1429"/>
                      </a:lnTo>
                      <a:lnTo>
                        <a:pt x="371" y="1429"/>
                      </a:lnTo>
                      <a:lnTo>
                        <a:pt x="371" y="1428"/>
                      </a:lnTo>
                      <a:lnTo>
                        <a:pt x="370" y="1427"/>
                      </a:lnTo>
                      <a:lnTo>
                        <a:pt x="368" y="1426"/>
                      </a:lnTo>
                      <a:lnTo>
                        <a:pt x="367" y="1426"/>
                      </a:lnTo>
                      <a:lnTo>
                        <a:pt x="365" y="1426"/>
                      </a:lnTo>
                      <a:lnTo>
                        <a:pt x="364" y="1427"/>
                      </a:lnTo>
                      <a:lnTo>
                        <a:pt x="362" y="1428"/>
                      </a:lnTo>
                      <a:lnTo>
                        <a:pt x="362" y="1429"/>
                      </a:lnTo>
                      <a:lnTo>
                        <a:pt x="275" y="1429"/>
                      </a:lnTo>
                      <a:lnTo>
                        <a:pt x="275" y="1427"/>
                      </a:lnTo>
                      <a:lnTo>
                        <a:pt x="273" y="1426"/>
                      </a:lnTo>
                      <a:lnTo>
                        <a:pt x="272" y="1425"/>
                      </a:lnTo>
                      <a:lnTo>
                        <a:pt x="270" y="1424"/>
                      </a:lnTo>
                      <a:lnTo>
                        <a:pt x="268" y="1423"/>
                      </a:lnTo>
                      <a:lnTo>
                        <a:pt x="266" y="1423"/>
                      </a:lnTo>
                      <a:lnTo>
                        <a:pt x="264" y="1424"/>
                      </a:lnTo>
                      <a:lnTo>
                        <a:pt x="262" y="1425"/>
                      </a:lnTo>
                      <a:lnTo>
                        <a:pt x="260" y="1426"/>
                      </a:lnTo>
                      <a:lnTo>
                        <a:pt x="259" y="1427"/>
                      </a:lnTo>
                      <a:lnTo>
                        <a:pt x="259" y="1429"/>
                      </a:lnTo>
                      <a:lnTo>
                        <a:pt x="217" y="1429"/>
                      </a:lnTo>
                      <a:lnTo>
                        <a:pt x="217" y="1428"/>
                      </a:lnTo>
                      <a:lnTo>
                        <a:pt x="216" y="1427"/>
                      </a:lnTo>
                      <a:lnTo>
                        <a:pt x="215" y="1426"/>
                      </a:lnTo>
                      <a:lnTo>
                        <a:pt x="213" y="1426"/>
                      </a:lnTo>
                      <a:lnTo>
                        <a:pt x="211" y="1426"/>
                      </a:lnTo>
                      <a:lnTo>
                        <a:pt x="210" y="1427"/>
                      </a:lnTo>
                      <a:lnTo>
                        <a:pt x="209" y="1428"/>
                      </a:lnTo>
                      <a:lnTo>
                        <a:pt x="208" y="1429"/>
                      </a:lnTo>
                      <a:lnTo>
                        <a:pt x="143" y="1429"/>
                      </a:lnTo>
                      <a:lnTo>
                        <a:pt x="143" y="1428"/>
                      </a:lnTo>
                      <a:lnTo>
                        <a:pt x="142" y="1427"/>
                      </a:lnTo>
                      <a:lnTo>
                        <a:pt x="140" y="1426"/>
                      </a:lnTo>
                      <a:lnTo>
                        <a:pt x="139" y="1426"/>
                      </a:lnTo>
                      <a:lnTo>
                        <a:pt x="137" y="1426"/>
                      </a:lnTo>
                      <a:lnTo>
                        <a:pt x="135" y="1427"/>
                      </a:lnTo>
                      <a:lnTo>
                        <a:pt x="134" y="1428"/>
                      </a:lnTo>
                      <a:lnTo>
                        <a:pt x="134" y="1429"/>
                      </a:lnTo>
                      <a:lnTo>
                        <a:pt x="82" y="1429"/>
                      </a:lnTo>
                      <a:lnTo>
                        <a:pt x="82" y="1428"/>
                      </a:lnTo>
                      <a:lnTo>
                        <a:pt x="81" y="1427"/>
                      </a:lnTo>
                      <a:lnTo>
                        <a:pt x="79" y="1426"/>
                      </a:lnTo>
                      <a:lnTo>
                        <a:pt x="78" y="1426"/>
                      </a:lnTo>
                      <a:lnTo>
                        <a:pt x="76" y="1426"/>
                      </a:lnTo>
                      <a:lnTo>
                        <a:pt x="75" y="1427"/>
                      </a:lnTo>
                      <a:lnTo>
                        <a:pt x="74" y="1428"/>
                      </a:lnTo>
                      <a:lnTo>
                        <a:pt x="73" y="1429"/>
                      </a:lnTo>
                      <a:lnTo>
                        <a:pt x="0" y="1429"/>
                      </a:lnTo>
                      <a:lnTo>
                        <a:pt x="0" y="403"/>
                      </a:lnTo>
                      <a:lnTo>
                        <a:pt x="52" y="403"/>
                      </a:lnTo>
                      <a:lnTo>
                        <a:pt x="53" y="402"/>
                      </a:lnTo>
                      <a:lnTo>
                        <a:pt x="54" y="401"/>
                      </a:lnTo>
                      <a:lnTo>
                        <a:pt x="55" y="400"/>
                      </a:lnTo>
                      <a:lnTo>
                        <a:pt x="57" y="400"/>
                      </a:lnTo>
                      <a:lnTo>
                        <a:pt x="58" y="400"/>
                      </a:lnTo>
                      <a:lnTo>
                        <a:pt x="60" y="401"/>
                      </a:lnTo>
                      <a:lnTo>
                        <a:pt x="61" y="402"/>
                      </a:lnTo>
                      <a:lnTo>
                        <a:pt x="61" y="403"/>
                      </a:lnTo>
                      <a:lnTo>
                        <a:pt x="89" y="403"/>
                      </a:lnTo>
                      <a:lnTo>
                        <a:pt x="89" y="402"/>
                      </a:lnTo>
                      <a:lnTo>
                        <a:pt x="90" y="401"/>
                      </a:lnTo>
                      <a:lnTo>
                        <a:pt x="92" y="400"/>
                      </a:lnTo>
                      <a:lnTo>
                        <a:pt x="93" y="400"/>
                      </a:lnTo>
                      <a:lnTo>
                        <a:pt x="95" y="400"/>
                      </a:lnTo>
                      <a:lnTo>
                        <a:pt x="96" y="401"/>
                      </a:lnTo>
                      <a:lnTo>
                        <a:pt x="97" y="402"/>
                      </a:lnTo>
                      <a:lnTo>
                        <a:pt x="98" y="403"/>
                      </a:lnTo>
                      <a:lnTo>
                        <a:pt x="126" y="403"/>
                      </a:lnTo>
                      <a:lnTo>
                        <a:pt x="127" y="402"/>
                      </a:lnTo>
                      <a:lnTo>
                        <a:pt x="128" y="401"/>
                      </a:lnTo>
                      <a:lnTo>
                        <a:pt x="129" y="400"/>
                      </a:lnTo>
                      <a:lnTo>
                        <a:pt x="131" y="400"/>
                      </a:lnTo>
                      <a:lnTo>
                        <a:pt x="133" y="400"/>
                      </a:lnTo>
                      <a:lnTo>
                        <a:pt x="134" y="401"/>
                      </a:lnTo>
                      <a:lnTo>
                        <a:pt x="135" y="402"/>
                      </a:lnTo>
                      <a:lnTo>
                        <a:pt x="136" y="403"/>
                      </a:lnTo>
                      <a:lnTo>
                        <a:pt x="145" y="403"/>
                      </a:lnTo>
                      <a:lnTo>
                        <a:pt x="145" y="17"/>
                      </a:lnTo>
                      <a:lnTo>
                        <a:pt x="142" y="17"/>
                      </a:lnTo>
                      <a:lnTo>
                        <a:pt x="142" y="16"/>
                      </a:lnTo>
                      <a:lnTo>
                        <a:pt x="141" y="15"/>
                      </a:lnTo>
                      <a:lnTo>
                        <a:pt x="139" y="14"/>
                      </a:lnTo>
                      <a:lnTo>
                        <a:pt x="138" y="14"/>
                      </a:lnTo>
                      <a:lnTo>
                        <a:pt x="136" y="14"/>
                      </a:lnTo>
                      <a:lnTo>
                        <a:pt x="135" y="15"/>
                      </a:lnTo>
                      <a:lnTo>
                        <a:pt x="134" y="16"/>
                      </a:lnTo>
                      <a:lnTo>
                        <a:pt x="133" y="17"/>
                      </a:lnTo>
                      <a:lnTo>
                        <a:pt x="45" y="17"/>
                      </a:lnTo>
                      <a:lnTo>
                        <a:pt x="45"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4422600" y="27118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88" name=""/>
                <p:cNvSpPr/>
                <p:nvPr/>
              </p:nvSpPr>
              <p:spPr>
                <a:xfrm>
                  <a:off x="4501080" y="2547720"/>
                  <a:ext cx="1053360" cy="1996560"/>
                </a:xfrm>
                <a:custGeom>
                  <a:avLst/>
                  <a:gdLst/>
                  <a:ahLst/>
                  <a:rect l="l" t="t" r="r" b="b"/>
                  <a:pathLst>
                    <a:path w="995" h="1495">
                      <a:moveTo>
                        <a:pt x="995" y="1495"/>
                      </a:moveTo>
                      <a:lnTo>
                        <a:pt x="957" y="1495"/>
                      </a:lnTo>
                      <a:lnTo>
                        <a:pt x="957" y="1494"/>
                      </a:lnTo>
                      <a:lnTo>
                        <a:pt x="956" y="1493"/>
                      </a:lnTo>
                      <a:lnTo>
                        <a:pt x="954" y="1492"/>
                      </a:lnTo>
                      <a:lnTo>
                        <a:pt x="952" y="1492"/>
                      </a:lnTo>
                      <a:lnTo>
                        <a:pt x="951" y="1492"/>
                      </a:lnTo>
                      <a:lnTo>
                        <a:pt x="949" y="1493"/>
                      </a:lnTo>
                      <a:lnTo>
                        <a:pt x="948" y="1494"/>
                      </a:lnTo>
                      <a:lnTo>
                        <a:pt x="948" y="1495"/>
                      </a:lnTo>
                      <a:lnTo>
                        <a:pt x="925" y="1495"/>
                      </a:lnTo>
                      <a:lnTo>
                        <a:pt x="925" y="3"/>
                      </a:lnTo>
                      <a:lnTo>
                        <a:pt x="922" y="3"/>
                      </a:lnTo>
                      <a:lnTo>
                        <a:pt x="921" y="2"/>
                      </a:lnTo>
                      <a:lnTo>
                        <a:pt x="920" y="1"/>
                      </a:lnTo>
                      <a:lnTo>
                        <a:pt x="919" y="0"/>
                      </a:lnTo>
                      <a:lnTo>
                        <a:pt x="917" y="0"/>
                      </a:lnTo>
                      <a:lnTo>
                        <a:pt x="915" y="0"/>
                      </a:lnTo>
                      <a:lnTo>
                        <a:pt x="914" y="1"/>
                      </a:lnTo>
                      <a:lnTo>
                        <a:pt x="913" y="2"/>
                      </a:lnTo>
                      <a:lnTo>
                        <a:pt x="913" y="3"/>
                      </a:lnTo>
                      <a:lnTo>
                        <a:pt x="900" y="3"/>
                      </a:lnTo>
                      <a:lnTo>
                        <a:pt x="900" y="2"/>
                      </a:lnTo>
                      <a:lnTo>
                        <a:pt x="899" y="1"/>
                      </a:lnTo>
                      <a:lnTo>
                        <a:pt x="897" y="0"/>
                      </a:lnTo>
                      <a:lnTo>
                        <a:pt x="896" y="0"/>
                      </a:lnTo>
                      <a:lnTo>
                        <a:pt x="894" y="0"/>
                      </a:lnTo>
                      <a:lnTo>
                        <a:pt x="892" y="1"/>
                      </a:lnTo>
                      <a:lnTo>
                        <a:pt x="892" y="2"/>
                      </a:lnTo>
                      <a:lnTo>
                        <a:pt x="891" y="3"/>
                      </a:lnTo>
                      <a:lnTo>
                        <a:pt x="880" y="3"/>
                      </a:lnTo>
                      <a:lnTo>
                        <a:pt x="880" y="2"/>
                      </a:lnTo>
                      <a:lnTo>
                        <a:pt x="879" y="1"/>
                      </a:lnTo>
                      <a:lnTo>
                        <a:pt x="877" y="0"/>
                      </a:lnTo>
                      <a:lnTo>
                        <a:pt x="875" y="0"/>
                      </a:lnTo>
                      <a:lnTo>
                        <a:pt x="874" y="0"/>
                      </a:lnTo>
                      <a:lnTo>
                        <a:pt x="872" y="1"/>
                      </a:lnTo>
                      <a:lnTo>
                        <a:pt x="871" y="2"/>
                      </a:lnTo>
                      <a:lnTo>
                        <a:pt x="871" y="3"/>
                      </a:lnTo>
                      <a:lnTo>
                        <a:pt x="846" y="3"/>
                      </a:lnTo>
                      <a:lnTo>
                        <a:pt x="846" y="2"/>
                      </a:lnTo>
                      <a:lnTo>
                        <a:pt x="845" y="1"/>
                      </a:lnTo>
                      <a:lnTo>
                        <a:pt x="843" y="0"/>
                      </a:lnTo>
                      <a:lnTo>
                        <a:pt x="842" y="0"/>
                      </a:lnTo>
                      <a:lnTo>
                        <a:pt x="840" y="0"/>
                      </a:lnTo>
                      <a:lnTo>
                        <a:pt x="838" y="1"/>
                      </a:lnTo>
                      <a:lnTo>
                        <a:pt x="838" y="2"/>
                      </a:lnTo>
                      <a:lnTo>
                        <a:pt x="837" y="3"/>
                      </a:lnTo>
                      <a:lnTo>
                        <a:pt x="817" y="3"/>
                      </a:lnTo>
                      <a:lnTo>
                        <a:pt x="817" y="2"/>
                      </a:lnTo>
                      <a:lnTo>
                        <a:pt x="816" y="1"/>
                      </a:lnTo>
                      <a:lnTo>
                        <a:pt x="815" y="0"/>
                      </a:lnTo>
                      <a:lnTo>
                        <a:pt x="813" y="0"/>
                      </a:lnTo>
                      <a:lnTo>
                        <a:pt x="811" y="0"/>
                      </a:lnTo>
                      <a:lnTo>
                        <a:pt x="810" y="1"/>
                      </a:lnTo>
                      <a:lnTo>
                        <a:pt x="809" y="2"/>
                      </a:lnTo>
                      <a:lnTo>
                        <a:pt x="808" y="3"/>
                      </a:lnTo>
                      <a:lnTo>
                        <a:pt x="765" y="3"/>
                      </a:lnTo>
                      <a:lnTo>
                        <a:pt x="765" y="2"/>
                      </a:lnTo>
                      <a:lnTo>
                        <a:pt x="764" y="1"/>
                      </a:lnTo>
                      <a:lnTo>
                        <a:pt x="762" y="0"/>
                      </a:lnTo>
                      <a:lnTo>
                        <a:pt x="761" y="0"/>
                      </a:lnTo>
                      <a:lnTo>
                        <a:pt x="759" y="0"/>
                      </a:lnTo>
                      <a:lnTo>
                        <a:pt x="757" y="1"/>
                      </a:lnTo>
                      <a:lnTo>
                        <a:pt x="756" y="2"/>
                      </a:lnTo>
                      <a:lnTo>
                        <a:pt x="756" y="3"/>
                      </a:lnTo>
                      <a:lnTo>
                        <a:pt x="704" y="3"/>
                      </a:lnTo>
                      <a:lnTo>
                        <a:pt x="704" y="2"/>
                      </a:lnTo>
                      <a:lnTo>
                        <a:pt x="703" y="1"/>
                      </a:lnTo>
                      <a:lnTo>
                        <a:pt x="702" y="0"/>
                      </a:lnTo>
                      <a:lnTo>
                        <a:pt x="700" y="0"/>
                      </a:lnTo>
                      <a:lnTo>
                        <a:pt x="698" y="0"/>
                      </a:lnTo>
                      <a:lnTo>
                        <a:pt x="697" y="1"/>
                      </a:lnTo>
                      <a:lnTo>
                        <a:pt x="696" y="2"/>
                      </a:lnTo>
                      <a:lnTo>
                        <a:pt x="695" y="3"/>
                      </a:lnTo>
                      <a:lnTo>
                        <a:pt x="572" y="3"/>
                      </a:lnTo>
                      <a:lnTo>
                        <a:pt x="572" y="2"/>
                      </a:lnTo>
                      <a:lnTo>
                        <a:pt x="571" y="1"/>
                      </a:lnTo>
                      <a:lnTo>
                        <a:pt x="569" y="0"/>
                      </a:lnTo>
                      <a:lnTo>
                        <a:pt x="568" y="0"/>
                      </a:lnTo>
                      <a:lnTo>
                        <a:pt x="566" y="0"/>
                      </a:lnTo>
                      <a:lnTo>
                        <a:pt x="564" y="1"/>
                      </a:lnTo>
                      <a:lnTo>
                        <a:pt x="563" y="2"/>
                      </a:lnTo>
                      <a:lnTo>
                        <a:pt x="563" y="3"/>
                      </a:lnTo>
                      <a:lnTo>
                        <a:pt x="557" y="3"/>
                      </a:lnTo>
                      <a:lnTo>
                        <a:pt x="556" y="2"/>
                      </a:lnTo>
                      <a:lnTo>
                        <a:pt x="555" y="1"/>
                      </a:lnTo>
                      <a:lnTo>
                        <a:pt x="554" y="0"/>
                      </a:lnTo>
                      <a:lnTo>
                        <a:pt x="552" y="0"/>
                      </a:lnTo>
                      <a:lnTo>
                        <a:pt x="550" y="0"/>
                      </a:lnTo>
                      <a:lnTo>
                        <a:pt x="549" y="1"/>
                      </a:lnTo>
                      <a:lnTo>
                        <a:pt x="548" y="2"/>
                      </a:lnTo>
                      <a:lnTo>
                        <a:pt x="548" y="3"/>
                      </a:lnTo>
                      <a:lnTo>
                        <a:pt x="522" y="3"/>
                      </a:lnTo>
                      <a:lnTo>
                        <a:pt x="522" y="2"/>
                      </a:lnTo>
                      <a:lnTo>
                        <a:pt x="521" y="1"/>
                      </a:lnTo>
                      <a:lnTo>
                        <a:pt x="519" y="0"/>
                      </a:lnTo>
                      <a:lnTo>
                        <a:pt x="518" y="0"/>
                      </a:lnTo>
                      <a:lnTo>
                        <a:pt x="516" y="0"/>
                      </a:lnTo>
                      <a:lnTo>
                        <a:pt x="515" y="1"/>
                      </a:lnTo>
                      <a:lnTo>
                        <a:pt x="514" y="2"/>
                      </a:lnTo>
                      <a:lnTo>
                        <a:pt x="513" y="3"/>
                      </a:lnTo>
                      <a:lnTo>
                        <a:pt x="509" y="3"/>
                      </a:lnTo>
                      <a:lnTo>
                        <a:pt x="508" y="2"/>
                      </a:lnTo>
                      <a:lnTo>
                        <a:pt x="507" y="1"/>
                      </a:lnTo>
                      <a:lnTo>
                        <a:pt x="506" y="0"/>
                      </a:lnTo>
                      <a:lnTo>
                        <a:pt x="504" y="0"/>
                      </a:lnTo>
                      <a:lnTo>
                        <a:pt x="503" y="0"/>
                      </a:lnTo>
                      <a:lnTo>
                        <a:pt x="501" y="1"/>
                      </a:lnTo>
                      <a:lnTo>
                        <a:pt x="500" y="2"/>
                      </a:lnTo>
                      <a:lnTo>
                        <a:pt x="500" y="3"/>
                      </a:lnTo>
                      <a:lnTo>
                        <a:pt x="469" y="3"/>
                      </a:lnTo>
                      <a:lnTo>
                        <a:pt x="469" y="2"/>
                      </a:lnTo>
                      <a:lnTo>
                        <a:pt x="468" y="1"/>
                      </a:lnTo>
                      <a:lnTo>
                        <a:pt x="466" y="0"/>
                      </a:lnTo>
                      <a:lnTo>
                        <a:pt x="465" y="0"/>
                      </a:lnTo>
                      <a:lnTo>
                        <a:pt x="463" y="0"/>
                      </a:lnTo>
                      <a:lnTo>
                        <a:pt x="462" y="1"/>
                      </a:lnTo>
                      <a:lnTo>
                        <a:pt x="461" y="2"/>
                      </a:lnTo>
                      <a:lnTo>
                        <a:pt x="460" y="3"/>
                      </a:lnTo>
                      <a:lnTo>
                        <a:pt x="330" y="3"/>
                      </a:lnTo>
                      <a:lnTo>
                        <a:pt x="329" y="2"/>
                      </a:lnTo>
                      <a:lnTo>
                        <a:pt x="328" y="1"/>
                      </a:lnTo>
                      <a:lnTo>
                        <a:pt x="327" y="0"/>
                      </a:lnTo>
                      <a:lnTo>
                        <a:pt x="325" y="0"/>
                      </a:lnTo>
                      <a:lnTo>
                        <a:pt x="323" y="0"/>
                      </a:lnTo>
                      <a:lnTo>
                        <a:pt x="322" y="1"/>
                      </a:lnTo>
                      <a:lnTo>
                        <a:pt x="321" y="2"/>
                      </a:lnTo>
                      <a:lnTo>
                        <a:pt x="321" y="3"/>
                      </a:lnTo>
                      <a:lnTo>
                        <a:pt x="172" y="3"/>
                      </a:lnTo>
                      <a:lnTo>
                        <a:pt x="172" y="2"/>
                      </a:lnTo>
                      <a:lnTo>
                        <a:pt x="171" y="1"/>
                      </a:lnTo>
                      <a:lnTo>
                        <a:pt x="170" y="0"/>
                      </a:lnTo>
                      <a:lnTo>
                        <a:pt x="168" y="0"/>
                      </a:lnTo>
                      <a:lnTo>
                        <a:pt x="166" y="0"/>
                      </a:lnTo>
                      <a:lnTo>
                        <a:pt x="165" y="1"/>
                      </a:lnTo>
                      <a:lnTo>
                        <a:pt x="164" y="2"/>
                      </a:lnTo>
                      <a:lnTo>
                        <a:pt x="163" y="3"/>
                      </a:lnTo>
                      <a:lnTo>
                        <a:pt x="154" y="3"/>
                      </a:lnTo>
                      <a:lnTo>
                        <a:pt x="154" y="2"/>
                      </a:lnTo>
                      <a:lnTo>
                        <a:pt x="153" y="1"/>
                      </a:lnTo>
                      <a:lnTo>
                        <a:pt x="151" y="0"/>
                      </a:lnTo>
                      <a:lnTo>
                        <a:pt x="150" y="0"/>
                      </a:lnTo>
                      <a:lnTo>
                        <a:pt x="148" y="0"/>
                      </a:lnTo>
                      <a:lnTo>
                        <a:pt x="147" y="1"/>
                      </a:lnTo>
                      <a:lnTo>
                        <a:pt x="146" y="2"/>
                      </a:lnTo>
                      <a:lnTo>
                        <a:pt x="145" y="3"/>
                      </a:lnTo>
                      <a:lnTo>
                        <a:pt x="129" y="3"/>
                      </a:lnTo>
                      <a:lnTo>
                        <a:pt x="129" y="2"/>
                      </a:lnTo>
                      <a:lnTo>
                        <a:pt x="128" y="1"/>
                      </a:lnTo>
                      <a:lnTo>
                        <a:pt x="127" y="0"/>
                      </a:lnTo>
                      <a:lnTo>
                        <a:pt x="125" y="0"/>
                      </a:lnTo>
                      <a:lnTo>
                        <a:pt x="123" y="0"/>
                      </a:lnTo>
                      <a:lnTo>
                        <a:pt x="122" y="1"/>
                      </a:lnTo>
                      <a:lnTo>
                        <a:pt x="121" y="2"/>
                      </a:lnTo>
                      <a:lnTo>
                        <a:pt x="121" y="3"/>
                      </a:lnTo>
                      <a:lnTo>
                        <a:pt x="89" y="3"/>
                      </a:lnTo>
                      <a:lnTo>
                        <a:pt x="89" y="2"/>
                      </a:lnTo>
                      <a:lnTo>
                        <a:pt x="88" y="1"/>
                      </a:lnTo>
                      <a:lnTo>
                        <a:pt x="86" y="0"/>
                      </a:lnTo>
                      <a:lnTo>
                        <a:pt x="85" y="0"/>
                      </a:lnTo>
                      <a:lnTo>
                        <a:pt x="83" y="0"/>
                      </a:lnTo>
                      <a:lnTo>
                        <a:pt x="81" y="1"/>
                      </a:lnTo>
                      <a:lnTo>
                        <a:pt x="81" y="2"/>
                      </a:lnTo>
                      <a:lnTo>
                        <a:pt x="80" y="3"/>
                      </a:lnTo>
                      <a:lnTo>
                        <a:pt x="29" y="3"/>
                      </a:lnTo>
                      <a:lnTo>
                        <a:pt x="29" y="2"/>
                      </a:lnTo>
                      <a:lnTo>
                        <a:pt x="28" y="1"/>
                      </a:lnTo>
                      <a:lnTo>
                        <a:pt x="26" y="0"/>
                      </a:lnTo>
                      <a:lnTo>
                        <a:pt x="25" y="0"/>
                      </a:lnTo>
                      <a:lnTo>
                        <a:pt x="23" y="0"/>
                      </a:lnTo>
                      <a:lnTo>
                        <a:pt x="22" y="1"/>
                      </a:lnTo>
                      <a:lnTo>
                        <a:pt x="21" y="2"/>
                      </a:lnTo>
                      <a:lnTo>
                        <a:pt x="20" y="3"/>
                      </a:lnTo>
                      <a:lnTo>
                        <a:pt x="0" y="3"/>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488120" y="2544840"/>
                  <a:ext cx="14760" cy="13320"/>
                </a:xfrm>
                <a:custGeom>
                  <a:avLst/>
                  <a:gdLst/>
                  <a:ahLst/>
                  <a:rect l="l" t="t" r="r" b="b"/>
                  <a:pathLst>
                    <a:path w="14" h="10">
                      <a:moveTo>
                        <a:pt x="12" y="10"/>
                      </a:moveTo>
                      <a:lnTo>
                        <a:pt x="0" y="5"/>
                      </a:lnTo>
                      <a:lnTo>
                        <a:pt x="12" y="0"/>
                      </a:lnTo>
                      <a:lnTo>
                        <a:pt x="13" y="3"/>
                      </a:lnTo>
                      <a:lnTo>
                        <a:pt x="14" y="5"/>
                      </a:lnTo>
                      <a:lnTo>
                        <a:pt x="13" y="7"/>
                      </a:lnTo>
                      <a:lnTo>
                        <a:pt x="12" y="1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0" name=""/>
                <p:cNvSpPr/>
                <p:nvPr/>
              </p:nvSpPr>
              <p:spPr>
                <a:xfrm>
                  <a:off x="3950640" y="2572920"/>
                  <a:ext cx="203040" cy="167040"/>
                </a:xfrm>
                <a:custGeom>
                  <a:avLst/>
                  <a:gdLst/>
                  <a:ahLst/>
                  <a:rect l="l" t="t" r="r" b="b"/>
                  <a:pathLst>
                    <a:path w="192" h="125">
                      <a:moveTo>
                        <a:pt x="0" y="125"/>
                      </a:moveTo>
                      <a:lnTo>
                        <a:pt x="16" y="125"/>
                      </a:lnTo>
                      <a:lnTo>
                        <a:pt x="17" y="124"/>
                      </a:lnTo>
                      <a:lnTo>
                        <a:pt x="17" y="122"/>
                      </a:lnTo>
                      <a:lnTo>
                        <a:pt x="19" y="122"/>
                      </a:lnTo>
                      <a:lnTo>
                        <a:pt x="21" y="121"/>
                      </a:lnTo>
                      <a:lnTo>
                        <a:pt x="23" y="122"/>
                      </a:lnTo>
                      <a:lnTo>
                        <a:pt x="24" y="122"/>
                      </a:lnTo>
                      <a:lnTo>
                        <a:pt x="25" y="124"/>
                      </a:lnTo>
                      <a:lnTo>
                        <a:pt x="25" y="125"/>
                      </a:lnTo>
                      <a:lnTo>
                        <a:pt x="90" y="125"/>
                      </a:lnTo>
                      <a:lnTo>
                        <a:pt x="90" y="13"/>
                      </a:lnTo>
                      <a:lnTo>
                        <a:pt x="192" y="13"/>
                      </a:lnTo>
                      <a:lnTo>
                        <a:pt x="192"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937680" y="2733120"/>
                  <a:ext cx="14760" cy="1152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ff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5795640" y="2607480"/>
                  <a:ext cx="667800" cy="944280"/>
                </a:xfrm>
                <a:custGeom>
                  <a:avLst/>
                  <a:gdLst/>
                  <a:ahLst/>
                  <a:rect l="l" t="t" r="r" b="b"/>
                  <a:pathLst>
                    <a:path w="631" h="707">
                      <a:moveTo>
                        <a:pt x="0" y="707"/>
                      </a:moveTo>
                      <a:lnTo>
                        <a:pt x="11" y="707"/>
                      </a:lnTo>
                      <a:lnTo>
                        <a:pt x="12" y="706"/>
                      </a:lnTo>
                      <a:lnTo>
                        <a:pt x="12" y="705"/>
                      </a:lnTo>
                      <a:lnTo>
                        <a:pt x="14" y="704"/>
                      </a:lnTo>
                      <a:lnTo>
                        <a:pt x="16" y="704"/>
                      </a:lnTo>
                      <a:lnTo>
                        <a:pt x="17" y="704"/>
                      </a:lnTo>
                      <a:lnTo>
                        <a:pt x="19" y="705"/>
                      </a:lnTo>
                      <a:lnTo>
                        <a:pt x="20" y="706"/>
                      </a:lnTo>
                      <a:lnTo>
                        <a:pt x="20" y="707"/>
                      </a:lnTo>
                      <a:lnTo>
                        <a:pt x="22" y="707"/>
                      </a:lnTo>
                      <a:lnTo>
                        <a:pt x="23" y="706"/>
                      </a:lnTo>
                      <a:lnTo>
                        <a:pt x="24" y="705"/>
                      </a:lnTo>
                      <a:lnTo>
                        <a:pt x="25" y="704"/>
                      </a:lnTo>
                      <a:lnTo>
                        <a:pt x="27" y="704"/>
                      </a:lnTo>
                      <a:lnTo>
                        <a:pt x="28" y="704"/>
                      </a:lnTo>
                      <a:lnTo>
                        <a:pt x="30" y="705"/>
                      </a:lnTo>
                      <a:lnTo>
                        <a:pt x="31" y="706"/>
                      </a:lnTo>
                      <a:lnTo>
                        <a:pt x="31" y="707"/>
                      </a:lnTo>
                      <a:lnTo>
                        <a:pt x="33" y="707"/>
                      </a:lnTo>
                      <a:lnTo>
                        <a:pt x="33" y="706"/>
                      </a:lnTo>
                      <a:lnTo>
                        <a:pt x="34" y="705"/>
                      </a:lnTo>
                      <a:lnTo>
                        <a:pt x="36" y="704"/>
                      </a:lnTo>
                      <a:lnTo>
                        <a:pt x="37" y="704"/>
                      </a:lnTo>
                      <a:lnTo>
                        <a:pt x="39" y="704"/>
                      </a:lnTo>
                      <a:lnTo>
                        <a:pt x="41" y="705"/>
                      </a:lnTo>
                      <a:lnTo>
                        <a:pt x="42" y="706"/>
                      </a:lnTo>
                      <a:lnTo>
                        <a:pt x="42" y="707"/>
                      </a:lnTo>
                      <a:lnTo>
                        <a:pt x="46" y="707"/>
                      </a:lnTo>
                      <a:lnTo>
                        <a:pt x="46" y="705"/>
                      </a:lnTo>
                      <a:lnTo>
                        <a:pt x="47" y="704"/>
                      </a:lnTo>
                      <a:lnTo>
                        <a:pt x="48" y="702"/>
                      </a:lnTo>
                      <a:lnTo>
                        <a:pt x="50" y="701"/>
                      </a:lnTo>
                      <a:lnTo>
                        <a:pt x="52" y="701"/>
                      </a:lnTo>
                      <a:lnTo>
                        <a:pt x="55" y="700"/>
                      </a:lnTo>
                      <a:lnTo>
                        <a:pt x="57" y="701"/>
                      </a:lnTo>
                      <a:lnTo>
                        <a:pt x="59" y="701"/>
                      </a:lnTo>
                      <a:lnTo>
                        <a:pt x="61" y="702"/>
                      </a:lnTo>
                      <a:lnTo>
                        <a:pt x="62" y="704"/>
                      </a:lnTo>
                      <a:lnTo>
                        <a:pt x="63" y="705"/>
                      </a:lnTo>
                      <a:lnTo>
                        <a:pt x="64" y="707"/>
                      </a:lnTo>
                      <a:lnTo>
                        <a:pt x="75" y="707"/>
                      </a:lnTo>
                      <a:lnTo>
                        <a:pt x="75" y="706"/>
                      </a:lnTo>
                      <a:lnTo>
                        <a:pt x="76" y="705"/>
                      </a:lnTo>
                      <a:lnTo>
                        <a:pt x="77" y="704"/>
                      </a:lnTo>
                      <a:lnTo>
                        <a:pt x="79" y="704"/>
                      </a:lnTo>
                      <a:lnTo>
                        <a:pt x="81" y="704"/>
                      </a:lnTo>
                      <a:lnTo>
                        <a:pt x="82" y="705"/>
                      </a:lnTo>
                      <a:lnTo>
                        <a:pt x="83" y="706"/>
                      </a:lnTo>
                      <a:lnTo>
                        <a:pt x="84" y="707"/>
                      </a:lnTo>
                      <a:lnTo>
                        <a:pt x="99" y="707"/>
                      </a:lnTo>
                      <a:lnTo>
                        <a:pt x="99" y="706"/>
                      </a:lnTo>
                      <a:lnTo>
                        <a:pt x="100" y="705"/>
                      </a:lnTo>
                      <a:lnTo>
                        <a:pt x="102" y="704"/>
                      </a:lnTo>
                      <a:lnTo>
                        <a:pt x="104" y="704"/>
                      </a:lnTo>
                      <a:lnTo>
                        <a:pt x="105" y="704"/>
                      </a:lnTo>
                      <a:lnTo>
                        <a:pt x="107" y="705"/>
                      </a:lnTo>
                      <a:lnTo>
                        <a:pt x="108" y="706"/>
                      </a:lnTo>
                      <a:lnTo>
                        <a:pt x="108" y="707"/>
                      </a:lnTo>
                      <a:lnTo>
                        <a:pt x="115" y="707"/>
                      </a:lnTo>
                      <a:lnTo>
                        <a:pt x="115" y="594"/>
                      </a:lnTo>
                      <a:lnTo>
                        <a:pt x="132" y="594"/>
                      </a:lnTo>
                      <a:lnTo>
                        <a:pt x="132" y="593"/>
                      </a:lnTo>
                      <a:lnTo>
                        <a:pt x="133" y="592"/>
                      </a:lnTo>
                      <a:lnTo>
                        <a:pt x="135" y="591"/>
                      </a:lnTo>
                      <a:lnTo>
                        <a:pt x="137" y="591"/>
                      </a:lnTo>
                      <a:lnTo>
                        <a:pt x="138" y="591"/>
                      </a:lnTo>
                      <a:lnTo>
                        <a:pt x="140" y="592"/>
                      </a:lnTo>
                      <a:lnTo>
                        <a:pt x="141" y="593"/>
                      </a:lnTo>
                      <a:lnTo>
                        <a:pt x="141" y="594"/>
                      </a:lnTo>
                      <a:lnTo>
                        <a:pt x="150" y="594"/>
                      </a:lnTo>
                      <a:lnTo>
                        <a:pt x="150" y="593"/>
                      </a:lnTo>
                      <a:lnTo>
                        <a:pt x="151" y="592"/>
                      </a:lnTo>
                      <a:lnTo>
                        <a:pt x="153" y="591"/>
                      </a:lnTo>
                      <a:lnTo>
                        <a:pt x="155" y="591"/>
                      </a:lnTo>
                      <a:lnTo>
                        <a:pt x="156" y="591"/>
                      </a:lnTo>
                      <a:lnTo>
                        <a:pt x="158" y="592"/>
                      </a:lnTo>
                      <a:lnTo>
                        <a:pt x="159" y="593"/>
                      </a:lnTo>
                      <a:lnTo>
                        <a:pt x="159" y="594"/>
                      </a:lnTo>
                      <a:lnTo>
                        <a:pt x="166" y="594"/>
                      </a:lnTo>
                      <a:lnTo>
                        <a:pt x="166" y="593"/>
                      </a:lnTo>
                      <a:lnTo>
                        <a:pt x="167" y="591"/>
                      </a:lnTo>
                      <a:lnTo>
                        <a:pt x="169" y="590"/>
                      </a:lnTo>
                      <a:lnTo>
                        <a:pt x="171" y="589"/>
                      </a:lnTo>
                      <a:lnTo>
                        <a:pt x="173" y="588"/>
                      </a:lnTo>
                      <a:lnTo>
                        <a:pt x="175" y="588"/>
                      </a:lnTo>
                      <a:lnTo>
                        <a:pt x="177" y="589"/>
                      </a:lnTo>
                      <a:lnTo>
                        <a:pt x="179" y="590"/>
                      </a:lnTo>
                      <a:lnTo>
                        <a:pt x="180" y="591"/>
                      </a:lnTo>
                      <a:lnTo>
                        <a:pt x="181" y="593"/>
                      </a:lnTo>
                      <a:lnTo>
                        <a:pt x="182" y="594"/>
                      </a:lnTo>
                      <a:lnTo>
                        <a:pt x="183" y="594"/>
                      </a:lnTo>
                      <a:lnTo>
                        <a:pt x="184" y="593"/>
                      </a:lnTo>
                      <a:lnTo>
                        <a:pt x="185" y="591"/>
                      </a:lnTo>
                      <a:lnTo>
                        <a:pt x="186" y="590"/>
                      </a:lnTo>
                      <a:lnTo>
                        <a:pt x="188" y="589"/>
                      </a:lnTo>
                      <a:lnTo>
                        <a:pt x="190" y="589"/>
                      </a:lnTo>
                      <a:lnTo>
                        <a:pt x="192" y="589"/>
                      </a:lnTo>
                      <a:lnTo>
                        <a:pt x="194" y="590"/>
                      </a:lnTo>
                      <a:lnTo>
                        <a:pt x="196" y="591"/>
                      </a:lnTo>
                      <a:lnTo>
                        <a:pt x="196" y="593"/>
                      </a:lnTo>
                      <a:lnTo>
                        <a:pt x="197" y="594"/>
                      </a:lnTo>
                      <a:lnTo>
                        <a:pt x="204" y="594"/>
                      </a:lnTo>
                      <a:lnTo>
                        <a:pt x="204" y="593"/>
                      </a:lnTo>
                      <a:lnTo>
                        <a:pt x="205" y="592"/>
                      </a:lnTo>
                      <a:lnTo>
                        <a:pt x="207" y="591"/>
                      </a:lnTo>
                      <a:lnTo>
                        <a:pt x="209" y="591"/>
                      </a:lnTo>
                      <a:lnTo>
                        <a:pt x="210" y="591"/>
                      </a:lnTo>
                      <a:lnTo>
                        <a:pt x="212" y="592"/>
                      </a:lnTo>
                      <a:lnTo>
                        <a:pt x="213" y="593"/>
                      </a:lnTo>
                      <a:lnTo>
                        <a:pt x="213" y="594"/>
                      </a:lnTo>
                      <a:lnTo>
                        <a:pt x="220" y="594"/>
                      </a:lnTo>
                      <a:lnTo>
                        <a:pt x="221" y="593"/>
                      </a:lnTo>
                      <a:lnTo>
                        <a:pt x="222" y="592"/>
                      </a:lnTo>
                      <a:lnTo>
                        <a:pt x="223" y="591"/>
                      </a:lnTo>
                      <a:lnTo>
                        <a:pt x="225" y="591"/>
                      </a:lnTo>
                      <a:lnTo>
                        <a:pt x="227" y="591"/>
                      </a:lnTo>
                      <a:lnTo>
                        <a:pt x="228" y="592"/>
                      </a:lnTo>
                      <a:lnTo>
                        <a:pt x="229" y="593"/>
                      </a:lnTo>
                      <a:lnTo>
                        <a:pt x="229" y="594"/>
                      </a:lnTo>
                      <a:lnTo>
                        <a:pt x="236" y="594"/>
                      </a:lnTo>
                      <a:lnTo>
                        <a:pt x="236" y="592"/>
                      </a:lnTo>
                      <a:lnTo>
                        <a:pt x="237" y="591"/>
                      </a:lnTo>
                      <a:lnTo>
                        <a:pt x="239" y="589"/>
                      </a:lnTo>
                      <a:lnTo>
                        <a:pt x="241" y="588"/>
                      </a:lnTo>
                      <a:lnTo>
                        <a:pt x="244" y="588"/>
                      </a:lnTo>
                      <a:lnTo>
                        <a:pt x="246" y="588"/>
                      </a:lnTo>
                      <a:lnTo>
                        <a:pt x="248" y="588"/>
                      </a:lnTo>
                      <a:lnTo>
                        <a:pt x="251" y="589"/>
                      </a:lnTo>
                      <a:lnTo>
                        <a:pt x="252" y="591"/>
                      </a:lnTo>
                      <a:lnTo>
                        <a:pt x="253" y="592"/>
                      </a:lnTo>
                      <a:lnTo>
                        <a:pt x="254" y="594"/>
                      </a:lnTo>
                      <a:lnTo>
                        <a:pt x="269" y="594"/>
                      </a:lnTo>
                      <a:lnTo>
                        <a:pt x="269" y="593"/>
                      </a:lnTo>
                      <a:lnTo>
                        <a:pt x="270" y="592"/>
                      </a:lnTo>
                      <a:lnTo>
                        <a:pt x="272" y="591"/>
                      </a:lnTo>
                      <a:lnTo>
                        <a:pt x="273" y="591"/>
                      </a:lnTo>
                      <a:lnTo>
                        <a:pt x="275" y="591"/>
                      </a:lnTo>
                      <a:lnTo>
                        <a:pt x="276" y="592"/>
                      </a:lnTo>
                      <a:lnTo>
                        <a:pt x="277" y="593"/>
                      </a:lnTo>
                      <a:lnTo>
                        <a:pt x="278" y="594"/>
                      </a:lnTo>
                      <a:lnTo>
                        <a:pt x="311" y="594"/>
                      </a:lnTo>
                      <a:lnTo>
                        <a:pt x="311" y="593"/>
                      </a:lnTo>
                      <a:lnTo>
                        <a:pt x="312" y="592"/>
                      </a:lnTo>
                      <a:lnTo>
                        <a:pt x="314" y="591"/>
                      </a:lnTo>
                      <a:lnTo>
                        <a:pt x="316" y="591"/>
                      </a:lnTo>
                      <a:lnTo>
                        <a:pt x="317" y="591"/>
                      </a:lnTo>
                      <a:lnTo>
                        <a:pt x="319" y="592"/>
                      </a:lnTo>
                      <a:lnTo>
                        <a:pt x="320" y="593"/>
                      </a:lnTo>
                      <a:lnTo>
                        <a:pt x="320" y="594"/>
                      </a:lnTo>
                      <a:lnTo>
                        <a:pt x="347" y="594"/>
                      </a:lnTo>
                      <a:lnTo>
                        <a:pt x="347" y="593"/>
                      </a:lnTo>
                      <a:lnTo>
                        <a:pt x="348" y="592"/>
                      </a:lnTo>
                      <a:lnTo>
                        <a:pt x="349" y="591"/>
                      </a:lnTo>
                      <a:lnTo>
                        <a:pt x="351" y="591"/>
                      </a:lnTo>
                      <a:lnTo>
                        <a:pt x="353" y="591"/>
                      </a:lnTo>
                      <a:lnTo>
                        <a:pt x="354" y="592"/>
                      </a:lnTo>
                      <a:lnTo>
                        <a:pt x="355" y="593"/>
                      </a:lnTo>
                      <a:lnTo>
                        <a:pt x="355" y="594"/>
                      </a:lnTo>
                      <a:lnTo>
                        <a:pt x="389" y="594"/>
                      </a:lnTo>
                      <a:lnTo>
                        <a:pt x="389" y="593"/>
                      </a:lnTo>
                      <a:lnTo>
                        <a:pt x="390" y="592"/>
                      </a:lnTo>
                      <a:lnTo>
                        <a:pt x="391" y="591"/>
                      </a:lnTo>
                      <a:lnTo>
                        <a:pt x="393" y="591"/>
                      </a:lnTo>
                      <a:lnTo>
                        <a:pt x="395" y="591"/>
                      </a:lnTo>
                      <a:lnTo>
                        <a:pt x="396" y="592"/>
                      </a:lnTo>
                      <a:lnTo>
                        <a:pt x="397" y="593"/>
                      </a:lnTo>
                      <a:lnTo>
                        <a:pt x="398" y="594"/>
                      </a:lnTo>
                      <a:lnTo>
                        <a:pt x="517" y="594"/>
                      </a:lnTo>
                      <a:lnTo>
                        <a:pt x="517" y="593"/>
                      </a:lnTo>
                      <a:lnTo>
                        <a:pt x="518" y="591"/>
                      </a:lnTo>
                      <a:lnTo>
                        <a:pt x="520" y="590"/>
                      </a:lnTo>
                      <a:lnTo>
                        <a:pt x="522" y="589"/>
                      </a:lnTo>
                      <a:lnTo>
                        <a:pt x="524" y="588"/>
                      </a:lnTo>
                      <a:lnTo>
                        <a:pt x="526" y="588"/>
                      </a:lnTo>
                      <a:lnTo>
                        <a:pt x="528" y="589"/>
                      </a:lnTo>
                      <a:lnTo>
                        <a:pt x="530" y="590"/>
                      </a:lnTo>
                      <a:lnTo>
                        <a:pt x="531" y="591"/>
                      </a:lnTo>
                      <a:lnTo>
                        <a:pt x="532" y="593"/>
                      </a:lnTo>
                      <a:lnTo>
                        <a:pt x="533" y="594"/>
                      </a:lnTo>
                      <a:lnTo>
                        <a:pt x="541" y="594"/>
                      </a:lnTo>
                      <a:lnTo>
                        <a:pt x="541" y="593"/>
                      </a:lnTo>
                      <a:lnTo>
                        <a:pt x="542" y="592"/>
                      </a:lnTo>
                      <a:lnTo>
                        <a:pt x="543" y="591"/>
                      </a:lnTo>
                      <a:lnTo>
                        <a:pt x="545" y="591"/>
                      </a:lnTo>
                      <a:lnTo>
                        <a:pt x="547" y="591"/>
                      </a:lnTo>
                      <a:lnTo>
                        <a:pt x="548" y="592"/>
                      </a:lnTo>
                      <a:lnTo>
                        <a:pt x="549" y="593"/>
                      </a:lnTo>
                      <a:lnTo>
                        <a:pt x="550" y="594"/>
                      </a:lnTo>
                      <a:lnTo>
                        <a:pt x="581" y="594"/>
                      </a:lnTo>
                      <a:lnTo>
                        <a:pt x="582" y="593"/>
                      </a:lnTo>
                      <a:lnTo>
                        <a:pt x="582" y="592"/>
                      </a:lnTo>
                      <a:lnTo>
                        <a:pt x="584" y="591"/>
                      </a:lnTo>
                      <a:lnTo>
                        <a:pt x="586" y="591"/>
                      </a:lnTo>
                      <a:lnTo>
                        <a:pt x="587" y="591"/>
                      </a:lnTo>
                      <a:lnTo>
                        <a:pt x="589" y="592"/>
                      </a:lnTo>
                      <a:lnTo>
                        <a:pt x="590" y="593"/>
                      </a:lnTo>
                      <a:lnTo>
                        <a:pt x="590" y="594"/>
                      </a:lnTo>
                      <a:lnTo>
                        <a:pt x="605" y="594"/>
                      </a:lnTo>
                      <a:lnTo>
                        <a:pt x="605" y="593"/>
                      </a:lnTo>
                      <a:lnTo>
                        <a:pt x="606" y="592"/>
                      </a:lnTo>
                      <a:lnTo>
                        <a:pt x="608" y="591"/>
                      </a:lnTo>
                      <a:lnTo>
                        <a:pt x="609" y="591"/>
                      </a:lnTo>
                      <a:lnTo>
                        <a:pt x="611" y="591"/>
                      </a:lnTo>
                      <a:lnTo>
                        <a:pt x="612" y="592"/>
                      </a:lnTo>
                      <a:lnTo>
                        <a:pt x="613" y="593"/>
                      </a:lnTo>
                      <a:lnTo>
                        <a:pt x="614" y="594"/>
                      </a:lnTo>
                      <a:lnTo>
                        <a:pt x="631" y="594"/>
                      </a:lnTo>
                      <a:lnTo>
                        <a:pt x="63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783040" y="35467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94" name=""/>
                <p:cNvSpPr/>
                <p:nvPr/>
              </p:nvSpPr>
              <p:spPr>
                <a:xfrm>
                  <a:off x="5015520" y="3503880"/>
                  <a:ext cx="533520" cy="336240"/>
                </a:xfrm>
                <a:custGeom>
                  <a:avLst/>
                  <a:gdLst/>
                  <a:ahLst/>
                  <a:rect l="l" t="t" r="r" b="b"/>
                  <a:pathLst>
                    <a:path w="504" h="252">
                      <a:moveTo>
                        <a:pt x="0" y="252"/>
                      </a:moveTo>
                      <a:lnTo>
                        <a:pt x="0" y="201"/>
                      </a:lnTo>
                      <a:lnTo>
                        <a:pt x="27" y="201"/>
                      </a:lnTo>
                      <a:lnTo>
                        <a:pt x="28" y="200"/>
                      </a:lnTo>
                      <a:lnTo>
                        <a:pt x="28" y="199"/>
                      </a:lnTo>
                      <a:lnTo>
                        <a:pt x="30" y="198"/>
                      </a:lnTo>
                      <a:lnTo>
                        <a:pt x="32" y="198"/>
                      </a:lnTo>
                      <a:lnTo>
                        <a:pt x="33" y="198"/>
                      </a:lnTo>
                      <a:lnTo>
                        <a:pt x="35" y="199"/>
                      </a:lnTo>
                      <a:lnTo>
                        <a:pt x="36" y="200"/>
                      </a:lnTo>
                      <a:lnTo>
                        <a:pt x="36" y="201"/>
                      </a:lnTo>
                      <a:lnTo>
                        <a:pt x="49" y="201"/>
                      </a:lnTo>
                      <a:lnTo>
                        <a:pt x="49" y="7"/>
                      </a:lnTo>
                      <a:lnTo>
                        <a:pt x="59" y="7"/>
                      </a:lnTo>
                      <a:lnTo>
                        <a:pt x="59" y="5"/>
                      </a:lnTo>
                      <a:lnTo>
                        <a:pt x="60" y="4"/>
                      </a:lnTo>
                      <a:lnTo>
                        <a:pt x="61" y="4"/>
                      </a:lnTo>
                      <a:lnTo>
                        <a:pt x="63" y="3"/>
                      </a:lnTo>
                      <a:lnTo>
                        <a:pt x="65" y="4"/>
                      </a:lnTo>
                      <a:lnTo>
                        <a:pt x="66" y="4"/>
                      </a:lnTo>
                      <a:lnTo>
                        <a:pt x="67" y="5"/>
                      </a:lnTo>
                      <a:lnTo>
                        <a:pt x="67" y="7"/>
                      </a:lnTo>
                      <a:lnTo>
                        <a:pt x="77" y="7"/>
                      </a:lnTo>
                      <a:lnTo>
                        <a:pt x="77" y="5"/>
                      </a:lnTo>
                      <a:lnTo>
                        <a:pt x="78" y="3"/>
                      </a:lnTo>
                      <a:lnTo>
                        <a:pt x="80" y="2"/>
                      </a:lnTo>
                      <a:lnTo>
                        <a:pt x="82" y="1"/>
                      </a:lnTo>
                      <a:lnTo>
                        <a:pt x="84" y="0"/>
                      </a:lnTo>
                      <a:lnTo>
                        <a:pt x="87" y="0"/>
                      </a:lnTo>
                      <a:lnTo>
                        <a:pt x="89" y="1"/>
                      </a:lnTo>
                      <a:lnTo>
                        <a:pt x="91" y="2"/>
                      </a:lnTo>
                      <a:lnTo>
                        <a:pt x="92" y="3"/>
                      </a:lnTo>
                      <a:lnTo>
                        <a:pt x="93" y="5"/>
                      </a:lnTo>
                      <a:lnTo>
                        <a:pt x="94" y="7"/>
                      </a:lnTo>
                      <a:lnTo>
                        <a:pt x="113" y="7"/>
                      </a:lnTo>
                      <a:lnTo>
                        <a:pt x="113" y="5"/>
                      </a:lnTo>
                      <a:lnTo>
                        <a:pt x="114" y="4"/>
                      </a:lnTo>
                      <a:lnTo>
                        <a:pt x="115" y="4"/>
                      </a:lnTo>
                      <a:lnTo>
                        <a:pt x="117" y="3"/>
                      </a:lnTo>
                      <a:lnTo>
                        <a:pt x="119" y="4"/>
                      </a:lnTo>
                      <a:lnTo>
                        <a:pt x="120" y="4"/>
                      </a:lnTo>
                      <a:lnTo>
                        <a:pt x="121" y="5"/>
                      </a:lnTo>
                      <a:lnTo>
                        <a:pt x="122" y="7"/>
                      </a:lnTo>
                      <a:lnTo>
                        <a:pt x="122" y="7"/>
                      </a:lnTo>
                      <a:lnTo>
                        <a:pt x="122" y="5"/>
                      </a:lnTo>
                      <a:lnTo>
                        <a:pt x="123" y="4"/>
                      </a:lnTo>
                      <a:lnTo>
                        <a:pt x="124" y="4"/>
                      </a:lnTo>
                      <a:lnTo>
                        <a:pt x="126" y="3"/>
                      </a:lnTo>
                      <a:lnTo>
                        <a:pt x="128" y="4"/>
                      </a:lnTo>
                      <a:lnTo>
                        <a:pt x="129" y="4"/>
                      </a:lnTo>
                      <a:lnTo>
                        <a:pt x="130" y="5"/>
                      </a:lnTo>
                      <a:lnTo>
                        <a:pt x="131" y="7"/>
                      </a:lnTo>
                      <a:lnTo>
                        <a:pt x="138" y="7"/>
                      </a:lnTo>
                      <a:lnTo>
                        <a:pt x="138" y="5"/>
                      </a:lnTo>
                      <a:lnTo>
                        <a:pt x="139" y="4"/>
                      </a:lnTo>
                      <a:lnTo>
                        <a:pt x="141" y="4"/>
                      </a:lnTo>
                      <a:lnTo>
                        <a:pt x="142" y="3"/>
                      </a:lnTo>
                      <a:lnTo>
                        <a:pt x="144" y="4"/>
                      </a:lnTo>
                      <a:lnTo>
                        <a:pt x="145" y="4"/>
                      </a:lnTo>
                      <a:lnTo>
                        <a:pt x="147" y="5"/>
                      </a:lnTo>
                      <a:lnTo>
                        <a:pt x="147" y="7"/>
                      </a:lnTo>
                      <a:lnTo>
                        <a:pt x="153" y="7"/>
                      </a:lnTo>
                      <a:lnTo>
                        <a:pt x="153" y="5"/>
                      </a:lnTo>
                      <a:lnTo>
                        <a:pt x="154" y="4"/>
                      </a:lnTo>
                      <a:lnTo>
                        <a:pt x="156" y="4"/>
                      </a:lnTo>
                      <a:lnTo>
                        <a:pt x="158" y="3"/>
                      </a:lnTo>
                      <a:lnTo>
                        <a:pt x="159" y="4"/>
                      </a:lnTo>
                      <a:lnTo>
                        <a:pt x="161" y="4"/>
                      </a:lnTo>
                      <a:lnTo>
                        <a:pt x="162" y="5"/>
                      </a:lnTo>
                      <a:lnTo>
                        <a:pt x="162" y="7"/>
                      </a:lnTo>
                      <a:lnTo>
                        <a:pt x="171" y="7"/>
                      </a:lnTo>
                      <a:lnTo>
                        <a:pt x="171" y="5"/>
                      </a:lnTo>
                      <a:lnTo>
                        <a:pt x="172" y="4"/>
                      </a:lnTo>
                      <a:lnTo>
                        <a:pt x="173" y="4"/>
                      </a:lnTo>
                      <a:lnTo>
                        <a:pt x="175" y="3"/>
                      </a:lnTo>
                      <a:lnTo>
                        <a:pt x="177" y="4"/>
                      </a:lnTo>
                      <a:lnTo>
                        <a:pt x="178" y="4"/>
                      </a:lnTo>
                      <a:lnTo>
                        <a:pt x="179" y="5"/>
                      </a:lnTo>
                      <a:lnTo>
                        <a:pt x="180" y="7"/>
                      </a:lnTo>
                      <a:lnTo>
                        <a:pt x="200" y="7"/>
                      </a:lnTo>
                      <a:lnTo>
                        <a:pt x="200" y="5"/>
                      </a:lnTo>
                      <a:lnTo>
                        <a:pt x="201" y="4"/>
                      </a:lnTo>
                      <a:lnTo>
                        <a:pt x="203" y="4"/>
                      </a:lnTo>
                      <a:lnTo>
                        <a:pt x="205" y="3"/>
                      </a:lnTo>
                      <a:lnTo>
                        <a:pt x="206" y="4"/>
                      </a:lnTo>
                      <a:lnTo>
                        <a:pt x="208" y="4"/>
                      </a:lnTo>
                      <a:lnTo>
                        <a:pt x="209" y="5"/>
                      </a:lnTo>
                      <a:lnTo>
                        <a:pt x="209" y="7"/>
                      </a:lnTo>
                      <a:lnTo>
                        <a:pt x="261" y="7"/>
                      </a:lnTo>
                      <a:lnTo>
                        <a:pt x="261" y="5"/>
                      </a:lnTo>
                      <a:lnTo>
                        <a:pt x="262" y="4"/>
                      </a:lnTo>
                      <a:lnTo>
                        <a:pt x="264" y="4"/>
                      </a:lnTo>
                      <a:lnTo>
                        <a:pt x="266" y="3"/>
                      </a:lnTo>
                      <a:lnTo>
                        <a:pt x="267" y="4"/>
                      </a:lnTo>
                      <a:lnTo>
                        <a:pt x="269" y="4"/>
                      </a:lnTo>
                      <a:lnTo>
                        <a:pt x="270" y="5"/>
                      </a:lnTo>
                      <a:lnTo>
                        <a:pt x="270" y="7"/>
                      </a:lnTo>
                      <a:lnTo>
                        <a:pt x="288" y="7"/>
                      </a:lnTo>
                      <a:lnTo>
                        <a:pt x="288" y="5"/>
                      </a:lnTo>
                      <a:lnTo>
                        <a:pt x="289" y="4"/>
                      </a:lnTo>
                      <a:lnTo>
                        <a:pt x="291" y="4"/>
                      </a:lnTo>
                      <a:lnTo>
                        <a:pt x="293" y="3"/>
                      </a:lnTo>
                      <a:lnTo>
                        <a:pt x="294" y="4"/>
                      </a:lnTo>
                      <a:lnTo>
                        <a:pt x="296" y="4"/>
                      </a:lnTo>
                      <a:lnTo>
                        <a:pt x="297" y="5"/>
                      </a:lnTo>
                      <a:lnTo>
                        <a:pt x="297" y="7"/>
                      </a:lnTo>
                      <a:lnTo>
                        <a:pt x="316" y="7"/>
                      </a:lnTo>
                      <a:lnTo>
                        <a:pt x="316" y="5"/>
                      </a:lnTo>
                      <a:lnTo>
                        <a:pt x="317" y="4"/>
                      </a:lnTo>
                      <a:lnTo>
                        <a:pt x="319" y="4"/>
                      </a:lnTo>
                      <a:lnTo>
                        <a:pt x="321" y="3"/>
                      </a:lnTo>
                      <a:lnTo>
                        <a:pt x="322" y="4"/>
                      </a:lnTo>
                      <a:lnTo>
                        <a:pt x="324" y="4"/>
                      </a:lnTo>
                      <a:lnTo>
                        <a:pt x="325" y="5"/>
                      </a:lnTo>
                      <a:lnTo>
                        <a:pt x="325" y="7"/>
                      </a:lnTo>
                      <a:lnTo>
                        <a:pt x="354" y="7"/>
                      </a:lnTo>
                      <a:lnTo>
                        <a:pt x="354" y="5"/>
                      </a:lnTo>
                      <a:lnTo>
                        <a:pt x="355" y="4"/>
                      </a:lnTo>
                      <a:lnTo>
                        <a:pt x="357" y="4"/>
                      </a:lnTo>
                      <a:lnTo>
                        <a:pt x="358" y="3"/>
                      </a:lnTo>
                      <a:lnTo>
                        <a:pt x="360" y="4"/>
                      </a:lnTo>
                      <a:lnTo>
                        <a:pt x="362" y="4"/>
                      </a:lnTo>
                      <a:lnTo>
                        <a:pt x="363" y="5"/>
                      </a:lnTo>
                      <a:lnTo>
                        <a:pt x="363" y="7"/>
                      </a:lnTo>
                      <a:lnTo>
                        <a:pt x="374" y="7"/>
                      </a:lnTo>
                      <a:lnTo>
                        <a:pt x="374" y="5"/>
                      </a:lnTo>
                      <a:lnTo>
                        <a:pt x="375" y="4"/>
                      </a:lnTo>
                      <a:lnTo>
                        <a:pt x="377" y="4"/>
                      </a:lnTo>
                      <a:lnTo>
                        <a:pt x="378" y="3"/>
                      </a:lnTo>
                      <a:lnTo>
                        <a:pt x="380" y="4"/>
                      </a:lnTo>
                      <a:lnTo>
                        <a:pt x="381" y="4"/>
                      </a:lnTo>
                      <a:lnTo>
                        <a:pt x="383" y="5"/>
                      </a:lnTo>
                      <a:lnTo>
                        <a:pt x="383" y="7"/>
                      </a:lnTo>
                      <a:lnTo>
                        <a:pt x="385" y="7"/>
                      </a:lnTo>
                      <a:lnTo>
                        <a:pt x="385" y="5"/>
                      </a:lnTo>
                      <a:lnTo>
                        <a:pt x="386" y="4"/>
                      </a:lnTo>
                      <a:lnTo>
                        <a:pt x="388" y="4"/>
                      </a:lnTo>
                      <a:lnTo>
                        <a:pt x="389" y="3"/>
                      </a:lnTo>
                      <a:lnTo>
                        <a:pt x="391" y="4"/>
                      </a:lnTo>
                      <a:lnTo>
                        <a:pt x="393" y="4"/>
                      </a:lnTo>
                      <a:lnTo>
                        <a:pt x="394" y="5"/>
                      </a:lnTo>
                      <a:lnTo>
                        <a:pt x="394" y="7"/>
                      </a:lnTo>
                      <a:lnTo>
                        <a:pt x="395" y="7"/>
                      </a:lnTo>
                      <a:lnTo>
                        <a:pt x="395" y="5"/>
                      </a:lnTo>
                      <a:lnTo>
                        <a:pt x="396" y="4"/>
                      </a:lnTo>
                      <a:lnTo>
                        <a:pt x="397" y="4"/>
                      </a:lnTo>
                      <a:lnTo>
                        <a:pt x="399" y="3"/>
                      </a:lnTo>
                      <a:lnTo>
                        <a:pt x="401" y="4"/>
                      </a:lnTo>
                      <a:lnTo>
                        <a:pt x="402" y="4"/>
                      </a:lnTo>
                      <a:lnTo>
                        <a:pt x="403" y="5"/>
                      </a:lnTo>
                      <a:lnTo>
                        <a:pt x="403" y="7"/>
                      </a:lnTo>
                      <a:lnTo>
                        <a:pt x="405" y="7"/>
                      </a:lnTo>
                      <a:lnTo>
                        <a:pt x="406" y="5"/>
                      </a:lnTo>
                      <a:lnTo>
                        <a:pt x="407" y="3"/>
                      </a:lnTo>
                      <a:lnTo>
                        <a:pt x="408" y="2"/>
                      </a:lnTo>
                      <a:lnTo>
                        <a:pt x="410" y="1"/>
                      </a:lnTo>
                      <a:lnTo>
                        <a:pt x="413" y="0"/>
                      </a:lnTo>
                      <a:lnTo>
                        <a:pt x="415" y="0"/>
                      </a:lnTo>
                      <a:lnTo>
                        <a:pt x="417" y="1"/>
                      </a:lnTo>
                      <a:lnTo>
                        <a:pt x="420" y="2"/>
                      </a:lnTo>
                      <a:lnTo>
                        <a:pt x="421" y="3"/>
                      </a:lnTo>
                      <a:lnTo>
                        <a:pt x="422" y="5"/>
                      </a:lnTo>
                      <a:lnTo>
                        <a:pt x="423" y="7"/>
                      </a:lnTo>
                      <a:lnTo>
                        <a:pt x="427" y="7"/>
                      </a:lnTo>
                      <a:lnTo>
                        <a:pt x="427" y="5"/>
                      </a:lnTo>
                      <a:lnTo>
                        <a:pt x="428" y="3"/>
                      </a:lnTo>
                      <a:lnTo>
                        <a:pt x="430" y="2"/>
                      </a:lnTo>
                      <a:lnTo>
                        <a:pt x="432" y="1"/>
                      </a:lnTo>
                      <a:lnTo>
                        <a:pt x="434" y="0"/>
                      </a:lnTo>
                      <a:lnTo>
                        <a:pt x="436" y="0"/>
                      </a:lnTo>
                      <a:lnTo>
                        <a:pt x="439" y="1"/>
                      </a:lnTo>
                      <a:lnTo>
                        <a:pt x="441" y="2"/>
                      </a:lnTo>
                      <a:lnTo>
                        <a:pt x="442" y="3"/>
                      </a:lnTo>
                      <a:lnTo>
                        <a:pt x="443" y="5"/>
                      </a:lnTo>
                      <a:lnTo>
                        <a:pt x="443" y="7"/>
                      </a:lnTo>
                      <a:lnTo>
                        <a:pt x="458" y="7"/>
                      </a:lnTo>
                      <a:lnTo>
                        <a:pt x="458" y="5"/>
                      </a:lnTo>
                      <a:lnTo>
                        <a:pt x="459" y="4"/>
                      </a:lnTo>
                      <a:lnTo>
                        <a:pt x="461" y="4"/>
                      </a:lnTo>
                      <a:lnTo>
                        <a:pt x="462" y="3"/>
                      </a:lnTo>
                      <a:lnTo>
                        <a:pt x="464" y="4"/>
                      </a:lnTo>
                      <a:lnTo>
                        <a:pt x="466" y="4"/>
                      </a:lnTo>
                      <a:lnTo>
                        <a:pt x="466" y="5"/>
                      </a:lnTo>
                      <a:lnTo>
                        <a:pt x="467" y="7"/>
                      </a:lnTo>
                      <a:lnTo>
                        <a:pt x="474" y="7"/>
                      </a:lnTo>
                      <a:lnTo>
                        <a:pt x="474" y="5"/>
                      </a:lnTo>
                      <a:lnTo>
                        <a:pt x="475" y="4"/>
                      </a:lnTo>
                      <a:lnTo>
                        <a:pt x="477" y="4"/>
                      </a:lnTo>
                      <a:lnTo>
                        <a:pt x="478" y="3"/>
                      </a:lnTo>
                      <a:lnTo>
                        <a:pt x="480" y="4"/>
                      </a:lnTo>
                      <a:lnTo>
                        <a:pt x="482" y="4"/>
                      </a:lnTo>
                      <a:lnTo>
                        <a:pt x="482" y="5"/>
                      </a:lnTo>
                      <a:lnTo>
                        <a:pt x="483" y="7"/>
                      </a:lnTo>
                      <a:lnTo>
                        <a:pt x="486" y="7"/>
                      </a:lnTo>
                      <a:lnTo>
                        <a:pt x="486" y="5"/>
                      </a:lnTo>
                      <a:lnTo>
                        <a:pt x="487" y="4"/>
                      </a:lnTo>
                      <a:lnTo>
                        <a:pt x="488" y="4"/>
                      </a:lnTo>
                      <a:lnTo>
                        <a:pt x="490" y="3"/>
                      </a:lnTo>
                      <a:lnTo>
                        <a:pt x="492" y="4"/>
                      </a:lnTo>
                      <a:lnTo>
                        <a:pt x="493" y="4"/>
                      </a:lnTo>
                      <a:lnTo>
                        <a:pt x="494" y="5"/>
                      </a:lnTo>
                      <a:lnTo>
                        <a:pt x="495" y="7"/>
                      </a:lnTo>
                      <a:lnTo>
                        <a:pt x="504" y="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5546880" y="3506760"/>
                  <a:ext cx="13680" cy="11520"/>
                </a:xfrm>
                <a:custGeom>
                  <a:avLst/>
                  <a:gdLst/>
                  <a:ahLst/>
                  <a:rect l="l" t="t" r="r" b="b"/>
                  <a:pathLst>
                    <a:path w="13" h="9">
                      <a:moveTo>
                        <a:pt x="2" y="0"/>
                      </a:moveTo>
                      <a:lnTo>
                        <a:pt x="13" y="5"/>
                      </a:lnTo>
                      <a:lnTo>
                        <a:pt x="2" y="9"/>
                      </a:lnTo>
                      <a:lnTo>
                        <a:pt x="0" y="7"/>
                      </a:lnTo>
                      <a:lnTo>
                        <a:pt x="0" y="5"/>
                      </a:lnTo>
                      <a:lnTo>
                        <a:pt x="0" y="2"/>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6" name=""/>
                <p:cNvSpPr/>
                <p:nvPr/>
              </p:nvSpPr>
              <p:spPr>
                <a:xfrm>
                  <a:off x="4768920" y="3597480"/>
                  <a:ext cx="192240" cy="66600"/>
                </a:xfrm>
                <a:prstGeom prst="rect">
                  <a:avLst/>
                </a:prstGeom>
                <a:blipFill rotWithShape="0">
                  <a:blip r:embed="rId84"/>
                  <a:srcRect/>
                  <a:tile tx="0" ty="0" sx="100000" sy="100000" algn="ctr"/>
                </a:blip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7" name=""/>
                <p:cNvSpPr/>
                <p:nvPr/>
              </p:nvSpPr>
              <p:spPr>
                <a:xfrm>
                  <a:off x="4833360" y="35974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4788360" y="3632040"/>
                  <a:ext cx="17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canning</a:t>
                  </a:r>
                  <a:endParaRPr b="0" lang="en-US" sz="300" spc="-1" strike="noStrike">
                    <a:solidFill>
                      <a:srgbClr val="ffffff"/>
                    </a:solidFill>
                    <a:latin typeface="Arial"/>
                  </a:endParaRPr>
                </a:p>
              </p:txBody>
            </p:sp>
            <p:sp>
              <p:nvSpPr>
                <p:cNvPr id="799" name=""/>
                <p:cNvSpPr/>
                <p:nvPr/>
              </p:nvSpPr>
              <p:spPr>
                <a:xfrm>
                  <a:off x="4974120" y="3571920"/>
                  <a:ext cx="602280" cy="39960"/>
                </a:xfrm>
                <a:custGeom>
                  <a:avLst/>
                  <a:gdLst/>
                  <a:ahLst/>
                  <a:rect l="l" t="t" r="r" b="b"/>
                  <a:pathLst>
                    <a:path w="569" h="30">
                      <a:moveTo>
                        <a:pt x="569" y="0"/>
                      </a:moveTo>
                      <a:lnTo>
                        <a:pt x="569" y="30"/>
                      </a:lnTo>
                      <a:lnTo>
                        <a:pt x="534" y="30"/>
                      </a:lnTo>
                      <a:lnTo>
                        <a:pt x="533" y="29"/>
                      </a:lnTo>
                      <a:lnTo>
                        <a:pt x="532" y="28"/>
                      </a:lnTo>
                      <a:lnTo>
                        <a:pt x="531" y="27"/>
                      </a:lnTo>
                      <a:lnTo>
                        <a:pt x="529" y="27"/>
                      </a:lnTo>
                      <a:lnTo>
                        <a:pt x="527" y="27"/>
                      </a:lnTo>
                      <a:lnTo>
                        <a:pt x="526" y="28"/>
                      </a:lnTo>
                      <a:lnTo>
                        <a:pt x="525" y="29"/>
                      </a:lnTo>
                      <a:lnTo>
                        <a:pt x="525" y="30"/>
                      </a:lnTo>
                      <a:lnTo>
                        <a:pt x="522" y="30"/>
                      </a:lnTo>
                      <a:lnTo>
                        <a:pt x="521" y="29"/>
                      </a:lnTo>
                      <a:lnTo>
                        <a:pt x="521" y="28"/>
                      </a:lnTo>
                      <a:lnTo>
                        <a:pt x="519" y="27"/>
                      </a:lnTo>
                      <a:lnTo>
                        <a:pt x="517" y="27"/>
                      </a:lnTo>
                      <a:lnTo>
                        <a:pt x="516" y="27"/>
                      </a:lnTo>
                      <a:lnTo>
                        <a:pt x="514" y="28"/>
                      </a:lnTo>
                      <a:lnTo>
                        <a:pt x="513" y="29"/>
                      </a:lnTo>
                      <a:lnTo>
                        <a:pt x="513" y="30"/>
                      </a:lnTo>
                      <a:lnTo>
                        <a:pt x="506" y="30"/>
                      </a:lnTo>
                      <a:lnTo>
                        <a:pt x="505" y="29"/>
                      </a:lnTo>
                      <a:lnTo>
                        <a:pt x="505" y="28"/>
                      </a:lnTo>
                      <a:lnTo>
                        <a:pt x="503" y="27"/>
                      </a:lnTo>
                      <a:lnTo>
                        <a:pt x="501" y="27"/>
                      </a:lnTo>
                      <a:lnTo>
                        <a:pt x="500" y="27"/>
                      </a:lnTo>
                      <a:lnTo>
                        <a:pt x="498" y="28"/>
                      </a:lnTo>
                      <a:lnTo>
                        <a:pt x="497" y="29"/>
                      </a:lnTo>
                      <a:lnTo>
                        <a:pt x="497" y="30"/>
                      </a:lnTo>
                      <a:lnTo>
                        <a:pt x="482" y="30"/>
                      </a:lnTo>
                      <a:lnTo>
                        <a:pt x="482" y="29"/>
                      </a:lnTo>
                      <a:lnTo>
                        <a:pt x="481" y="27"/>
                      </a:lnTo>
                      <a:lnTo>
                        <a:pt x="480" y="25"/>
                      </a:lnTo>
                      <a:lnTo>
                        <a:pt x="478" y="24"/>
                      </a:lnTo>
                      <a:lnTo>
                        <a:pt x="475" y="24"/>
                      </a:lnTo>
                      <a:lnTo>
                        <a:pt x="473" y="24"/>
                      </a:lnTo>
                      <a:lnTo>
                        <a:pt x="471" y="24"/>
                      </a:lnTo>
                      <a:lnTo>
                        <a:pt x="469" y="25"/>
                      </a:lnTo>
                      <a:lnTo>
                        <a:pt x="467" y="27"/>
                      </a:lnTo>
                      <a:lnTo>
                        <a:pt x="466" y="29"/>
                      </a:lnTo>
                      <a:lnTo>
                        <a:pt x="466" y="30"/>
                      </a:lnTo>
                      <a:lnTo>
                        <a:pt x="462" y="30"/>
                      </a:lnTo>
                      <a:lnTo>
                        <a:pt x="461" y="29"/>
                      </a:lnTo>
                      <a:lnTo>
                        <a:pt x="460" y="27"/>
                      </a:lnTo>
                      <a:lnTo>
                        <a:pt x="459" y="25"/>
                      </a:lnTo>
                      <a:lnTo>
                        <a:pt x="456" y="24"/>
                      </a:lnTo>
                      <a:lnTo>
                        <a:pt x="454" y="24"/>
                      </a:lnTo>
                      <a:lnTo>
                        <a:pt x="452" y="24"/>
                      </a:lnTo>
                      <a:lnTo>
                        <a:pt x="449" y="24"/>
                      </a:lnTo>
                      <a:lnTo>
                        <a:pt x="447" y="25"/>
                      </a:lnTo>
                      <a:lnTo>
                        <a:pt x="446" y="27"/>
                      </a:lnTo>
                      <a:lnTo>
                        <a:pt x="445" y="29"/>
                      </a:lnTo>
                      <a:lnTo>
                        <a:pt x="444" y="30"/>
                      </a:lnTo>
                      <a:lnTo>
                        <a:pt x="442" y="30"/>
                      </a:lnTo>
                      <a:lnTo>
                        <a:pt x="442" y="29"/>
                      </a:lnTo>
                      <a:lnTo>
                        <a:pt x="441" y="28"/>
                      </a:lnTo>
                      <a:lnTo>
                        <a:pt x="440" y="27"/>
                      </a:lnTo>
                      <a:lnTo>
                        <a:pt x="438" y="27"/>
                      </a:lnTo>
                      <a:lnTo>
                        <a:pt x="436" y="27"/>
                      </a:lnTo>
                      <a:lnTo>
                        <a:pt x="435" y="28"/>
                      </a:lnTo>
                      <a:lnTo>
                        <a:pt x="434" y="29"/>
                      </a:lnTo>
                      <a:lnTo>
                        <a:pt x="434" y="30"/>
                      </a:lnTo>
                      <a:lnTo>
                        <a:pt x="433" y="30"/>
                      </a:lnTo>
                      <a:lnTo>
                        <a:pt x="433" y="29"/>
                      </a:lnTo>
                      <a:lnTo>
                        <a:pt x="432" y="28"/>
                      </a:lnTo>
                      <a:lnTo>
                        <a:pt x="430" y="27"/>
                      </a:lnTo>
                      <a:lnTo>
                        <a:pt x="428" y="27"/>
                      </a:lnTo>
                      <a:lnTo>
                        <a:pt x="427" y="27"/>
                      </a:lnTo>
                      <a:lnTo>
                        <a:pt x="425" y="28"/>
                      </a:lnTo>
                      <a:lnTo>
                        <a:pt x="424" y="29"/>
                      </a:lnTo>
                      <a:lnTo>
                        <a:pt x="424" y="30"/>
                      </a:lnTo>
                      <a:lnTo>
                        <a:pt x="422" y="30"/>
                      </a:lnTo>
                      <a:lnTo>
                        <a:pt x="422" y="29"/>
                      </a:lnTo>
                      <a:lnTo>
                        <a:pt x="420" y="28"/>
                      </a:lnTo>
                      <a:lnTo>
                        <a:pt x="419" y="27"/>
                      </a:lnTo>
                      <a:lnTo>
                        <a:pt x="417" y="27"/>
                      </a:lnTo>
                      <a:lnTo>
                        <a:pt x="416" y="27"/>
                      </a:lnTo>
                      <a:lnTo>
                        <a:pt x="414" y="28"/>
                      </a:lnTo>
                      <a:lnTo>
                        <a:pt x="413" y="29"/>
                      </a:lnTo>
                      <a:lnTo>
                        <a:pt x="413" y="30"/>
                      </a:lnTo>
                      <a:lnTo>
                        <a:pt x="402" y="30"/>
                      </a:lnTo>
                      <a:lnTo>
                        <a:pt x="402" y="29"/>
                      </a:lnTo>
                      <a:lnTo>
                        <a:pt x="401" y="28"/>
                      </a:lnTo>
                      <a:lnTo>
                        <a:pt x="399" y="27"/>
                      </a:lnTo>
                      <a:lnTo>
                        <a:pt x="397" y="27"/>
                      </a:lnTo>
                      <a:lnTo>
                        <a:pt x="396" y="27"/>
                      </a:lnTo>
                      <a:lnTo>
                        <a:pt x="394" y="28"/>
                      </a:lnTo>
                      <a:lnTo>
                        <a:pt x="393" y="29"/>
                      </a:lnTo>
                      <a:lnTo>
                        <a:pt x="393" y="30"/>
                      </a:lnTo>
                      <a:lnTo>
                        <a:pt x="390" y="30"/>
                      </a:lnTo>
                      <a:lnTo>
                        <a:pt x="390" y="29"/>
                      </a:lnTo>
                      <a:lnTo>
                        <a:pt x="389" y="28"/>
                      </a:lnTo>
                      <a:lnTo>
                        <a:pt x="387" y="27"/>
                      </a:lnTo>
                      <a:lnTo>
                        <a:pt x="386" y="27"/>
                      </a:lnTo>
                      <a:lnTo>
                        <a:pt x="384" y="27"/>
                      </a:lnTo>
                      <a:lnTo>
                        <a:pt x="382" y="28"/>
                      </a:lnTo>
                      <a:lnTo>
                        <a:pt x="382" y="29"/>
                      </a:lnTo>
                      <a:lnTo>
                        <a:pt x="381" y="30"/>
                      </a:lnTo>
                      <a:lnTo>
                        <a:pt x="377" y="30"/>
                      </a:lnTo>
                      <a:lnTo>
                        <a:pt x="376" y="29"/>
                      </a:lnTo>
                      <a:lnTo>
                        <a:pt x="375" y="28"/>
                      </a:lnTo>
                      <a:lnTo>
                        <a:pt x="374" y="27"/>
                      </a:lnTo>
                      <a:lnTo>
                        <a:pt x="372" y="27"/>
                      </a:lnTo>
                      <a:lnTo>
                        <a:pt x="370" y="27"/>
                      </a:lnTo>
                      <a:lnTo>
                        <a:pt x="369" y="28"/>
                      </a:lnTo>
                      <a:lnTo>
                        <a:pt x="368" y="29"/>
                      </a:lnTo>
                      <a:lnTo>
                        <a:pt x="368" y="30"/>
                      </a:lnTo>
                      <a:lnTo>
                        <a:pt x="364" y="30"/>
                      </a:lnTo>
                      <a:lnTo>
                        <a:pt x="364" y="29"/>
                      </a:lnTo>
                      <a:lnTo>
                        <a:pt x="363" y="28"/>
                      </a:lnTo>
                      <a:lnTo>
                        <a:pt x="361" y="27"/>
                      </a:lnTo>
                      <a:lnTo>
                        <a:pt x="360" y="27"/>
                      </a:lnTo>
                      <a:lnTo>
                        <a:pt x="358" y="27"/>
                      </a:lnTo>
                      <a:lnTo>
                        <a:pt x="356" y="28"/>
                      </a:lnTo>
                      <a:lnTo>
                        <a:pt x="355" y="29"/>
                      </a:lnTo>
                      <a:lnTo>
                        <a:pt x="355" y="30"/>
                      </a:lnTo>
                      <a:lnTo>
                        <a:pt x="336" y="30"/>
                      </a:lnTo>
                      <a:lnTo>
                        <a:pt x="336" y="29"/>
                      </a:lnTo>
                      <a:lnTo>
                        <a:pt x="335" y="28"/>
                      </a:lnTo>
                      <a:lnTo>
                        <a:pt x="333" y="27"/>
                      </a:lnTo>
                      <a:lnTo>
                        <a:pt x="332" y="27"/>
                      </a:lnTo>
                      <a:lnTo>
                        <a:pt x="330" y="27"/>
                      </a:lnTo>
                      <a:lnTo>
                        <a:pt x="328" y="28"/>
                      </a:lnTo>
                      <a:lnTo>
                        <a:pt x="327" y="29"/>
                      </a:lnTo>
                      <a:lnTo>
                        <a:pt x="327" y="30"/>
                      </a:lnTo>
                      <a:lnTo>
                        <a:pt x="309" y="30"/>
                      </a:lnTo>
                      <a:lnTo>
                        <a:pt x="309" y="29"/>
                      </a:lnTo>
                      <a:lnTo>
                        <a:pt x="308" y="28"/>
                      </a:lnTo>
                      <a:lnTo>
                        <a:pt x="306" y="27"/>
                      </a:lnTo>
                      <a:lnTo>
                        <a:pt x="305" y="27"/>
                      </a:lnTo>
                      <a:lnTo>
                        <a:pt x="303" y="27"/>
                      </a:lnTo>
                      <a:lnTo>
                        <a:pt x="301" y="28"/>
                      </a:lnTo>
                      <a:lnTo>
                        <a:pt x="300" y="29"/>
                      </a:lnTo>
                      <a:lnTo>
                        <a:pt x="300" y="30"/>
                      </a:lnTo>
                      <a:lnTo>
                        <a:pt x="248" y="30"/>
                      </a:lnTo>
                      <a:lnTo>
                        <a:pt x="248" y="29"/>
                      </a:lnTo>
                      <a:lnTo>
                        <a:pt x="247" y="28"/>
                      </a:lnTo>
                      <a:lnTo>
                        <a:pt x="245" y="27"/>
                      </a:lnTo>
                      <a:lnTo>
                        <a:pt x="244" y="27"/>
                      </a:lnTo>
                      <a:lnTo>
                        <a:pt x="242" y="27"/>
                      </a:lnTo>
                      <a:lnTo>
                        <a:pt x="240" y="28"/>
                      </a:lnTo>
                      <a:lnTo>
                        <a:pt x="239" y="29"/>
                      </a:lnTo>
                      <a:lnTo>
                        <a:pt x="239" y="30"/>
                      </a:lnTo>
                      <a:lnTo>
                        <a:pt x="219" y="30"/>
                      </a:lnTo>
                      <a:lnTo>
                        <a:pt x="218" y="29"/>
                      </a:lnTo>
                      <a:lnTo>
                        <a:pt x="217" y="28"/>
                      </a:lnTo>
                      <a:lnTo>
                        <a:pt x="216" y="27"/>
                      </a:lnTo>
                      <a:lnTo>
                        <a:pt x="214" y="27"/>
                      </a:lnTo>
                      <a:lnTo>
                        <a:pt x="212" y="27"/>
                      </a:lnTo>
                      <a:lnTo>
                        <a:pt x="211" y="28"/>
                      </a:lnTo>
                      <a:lnTo>
                        <a:pt x="210" y="29"/>
                      </a:lnTo>
                      <a:lnTo>
                        <a:pt x="210" y="30"/>
                      </a:lnTo>
                      <a:lnTo>
                        <a:pt x="201" y="30"/>
                      </a:lnTo>
                      <a:lnTo>
                        <a:pt x="201" y="29"/>
                      </a:lnTo>
                      <a:lnTo>
                        <a:pt x="200" y="28"/>
                      </a:lnTo>
                      <a:lnTo>
                        <a:pt x="198" y="27"/>
                      </a:lnTo>
                      <a:lnTo>
                        <a:pt x="197" y="27"/>
                      </a:lnTo>
                      <a:lnTo>
                        <a:pt x="195" y="27"/>
                      </a:lnTo>
                      <a:lnTo>
                        <a:pt x="193" y="28"/>
                      </a:lnTo>
                      <a:lnTo>
                        <a:pt x="192" y="29"/>
                      </a:lnTo>
                      <a:lnTo>
                        <a:pt x="192" y="30"/>
                      </a:lnTo>
                      <a:lnTo>
                        <a:pt x="186" y="30"/>
                      </a:lnTo>
                      <a:lnTo>
                        <a:pt x="185" y="29"/>
                      </a:lnTo>
                      <a:lnTo>
                        <a:pt x="184" y="28"/>
                      </a:lnTo>
                      <a:lnTo>
                        <a:pt x="183" y="27"/>
                      </a:lnTo>
                      <a:lnTo>
                        <a:pt x="181" y="27"/>
                      </a:lnTo>
                      <a:lnTo>
                        <a:pt x="180" y="27"/>
                      </a:lnTo>
                      <a:lnTo>
                        <a:pt x="178" y="28"/>
                      </a:lnTo>
                      <a:lnTo>
                        <a:pt x="177" y="29"/>
                      </a:lnTo>
                      <a:lnTo>
                        <a:pt x="177" y="30"/>
                      </a:lnTo>
                      <a:lnTo>
                        <a:pt x="170" y="30"/>
                      </a:lnTo>
                      <a:lnTo>
                        <a:pt x="169" y="29"/>
                      </a:lnTo>
                      <a:lnTo>
                        <a:pt x="168" y="28"/>
                      </a:lnTo>
                      <a:lnTo>
                        <a:pt x="167" y="27"/>
                      </a:lnTo>
                      <a:lnTo>
                        <a:pt x="165" y="27"/>
                      </a:lnTo>
                      <a:lnTo>
                        <a:pt x="163" y="27"/>
                      </a:lnTo>
                      <a:lnTo>
                        <a:pt x="162" y="28"/>
                      </a:lnTo>
                      <a:lnTo>
                        <a:pt x="161" y="29"/>
                      </a:lnTo>
                      <a:lnTo>
                        <a:pt x="161" y="30"/>
                      </a:lnTo>
                      <a:lnTo>
                        <a:pt x="161" y="30"/>
                      </a:lnTo>
                      <a:lnTo>
                        <a:pt x="160" y="29"/>
                      </a:lnTo>
                      <a:lnTo>
                        <a:pt x="159" y="28"/>
                      </a:lnTo>
                      <a:lnTo>
                        <a:pt x="158" y="27"/>
                      </a:lnTo>
                      <a:lnTo>
                        <a:pt x="156" y="27"/>
                      </a:lnTo>
                      <a:lnTo>
                        <a:pt x="154" y="27"/>
                      </a:lnTo>
                      <a:lnTo>
                        <a:pt x="153" y="28"/>
                      </a:lnTo>
                      <a:lnTo>
                        <a:pt x="152" y="29"/>
                      </a:lnTo>
                      <a:lnTo>
                        <a:pt x="152" y="30"/>
                      </a:lnTo>
                      <a:lnTo>
                        <a:pt x="133" y="30"/>
                      </a:lnTo>
                      <a:lnTo>
                        <a:pt x="132" y="29"/>
                      </a:lnTo>
                      <a:lnTo>
                        <a:pt x="131" y="27"/>
                      </a:lnTo>
                      <a:lnTo>
                        <a:pt x="130" y="25"/>
                      </a:lnTo>
                      <a:lnTo>
                        <a:pt x="128" y="24"/>
                      </a:lnTo>
                      <a:lnTo>
                        <a:pt x="126" y="24"/>
                      </a:lnTo>
                      <a:lnTo>
                        <a:pt x="123" y="24"/>
                      </a:lnTo>
                      <a:lnTo>
                        <a:pt x="121" y="24"/>
                      </a:lnTo>
                      <a:lnTo>
                        <a:pt x="119" y="25"/>
                      </a:lnTo>
                      <a:lnTo>
                        <a:pt x="117" y="27"/>
                      </a:lnTo>
                      <a:lnTo>
                        <a:pt x="116" y="29"/>
                      </a:lnTo>
                      <a:lnTo>
                        <a:pt x="116" y="30"/>
                      </a:lnTo>
                      <a:lnTo>
                        <a:pt x="106" y="30"/>
                      </a:lnTo>
                      <a:lnTo>
                        <a:pt x="106" y="29"/>
                      </a:lnTo>
                      <a:lnTo>
                        <a:pt x="105" y="28"/>
                      </a:lnTo>
                      <a:lnTo>
                        <a:pt x="104" y="27"/>
                      </a:lnTo>
                      <a:lnTo>
                        <a:pt x="102" y="27"/>
                      </a:lnTo>
                      <a:lnTo>
                        <a:pt x="100" y="27"/>
                      </a:lnTo>
                      <a:lnTo>
                        <a:pt x="99" y="28"/>
                      </a:lnTo>
                      <a:lnTo>
                        <a:pt x="98" y="29"/>
                      </a:lnTo>
                      <a:lnTo>
                        <a:pt x="97" y="30"/>
                      </a:lnTo>
                      <a:lnTo>
                        <a:pt x="92" y="30"/>
                      </a:lnTo>
                      <a:lnTo>
                        <a:pt x="92" y="29"/>
                      </a:lnTo>
                      <a:lnTo>
                        <a:pt x="91" y="28"/>
                      </a:lnTo>
                      <a:lnTo>
                        <a:pt x="90" y="27"/>
                      </a:lnTo>
                      <a:lnTo>
                        <a:pt x="88" y="27"/>
                      </a:lnTo>
                      <a:lnTo>
                        <a:pt x="86" y="27"/>
                      </a:lnTo>
                      <a:lnTo>
                        <a:pt x="85" y="28"/>
                      </a:lnTo>
                      <a:lnTo>
                        <a:pt x="84" y="29"/>
                      </a:lnTo>
                      <a:lnTo>
                        <a:pt x="83" y="30"/>
                      </a:lnTo>
                      <a:lnTo>
                        <a:pt x="26" y="30"/>
                      </a:lnTo>
                      <a:lnTo>
                        <a:pt x="26" y="29"/>
                      </a:lnTo>
                      <a:lnTo>
                        <a:pt x="25" y="28"/>
                      </a:lnTo>
                      <a:lnTo>
                        <a:pt x="23" y="27"/>
                      </a:lnTo>
                      <a:lnTo>
                        <a:pt x="22" y="27"/>
                      </a:lnTo>
                      <a:lnTo>
                        <a:pt x="20" y="27"/>
                      </a:lnTo>
                      <a:lnTo>
                        <a:pt x="18" y="28"/>
                      </a:lnTo>
                      <a:lnTo>
                        <a:pt x="18" y="29"/>
                      </a:lnTo>
                      <a:lnTo>
                        <a:pt x="17" y="30"/>
                      </a:lnTo>
                      <a:lnTo>
                        <a:pt x="0" y="3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0" name=""/>
                <p:cNvSpPr/>
                <p:nvPr/>
              </p:nvSpPr>
              <p:spPr>
                <a:xfrm>
                  <a:off x="4961520" y="360648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01" name=""/>
                <p:cNvSpPr/>
                <p:nvPr/>
              </p:nvSpPr>
              <p:spPr>
                <a:xfrm>
                  <a:off x="5777640" y="2320560"/>
                  <a:ext cx="345960" cy="2182320"/>
                </a:xfrm>
                <a:custGeom>
                  <a:avLst/>
                  <a:gdLst/>
                  <a:ahLst/>
                  <a:rect l="l" t="t" r="r" b="b"/>
                  <a:pathLst>
                    <a:path w="327" h="1634">
                      <a:moveTo>
                        <a:pt x="0" y="1634"/>
                      </a:moveTo>
                      <a:lnTo>
                        <a:pt x="0" y="1628"/>
                      </a:lnTo>
                      <a:lnTo>
                        <a:pt x="115" y="1628"/>
                      </a:lnTo>
                      <a:lnTo>
                        <a:pt x="116" y="1626"/>
                      </a:lnTo>
                      <a:lnTo>
                        <a:pt x="117" y="1625"/>
                      </a:lnTo>
                      <a:lnTo>
                        <a:pt x="118" y="1624"/>
                      </a:lnTo>
                      <a:lnTo>
                        <a:pt x="120" y="1624"/>
                      </a:lnTo>
                      <a:lnTo>
                        <a:pt x="121" y="1624"/>
                      </a:lnTo>
                      <a:lnTo>
                        <a:pt x="123" y="1625"/>
                      </a:lnTo>
                      <a:lnTo>
                        <a:pt x="124" y="1626"/>
                      </a:lnTo>
                      <a:lnTo>
                        <a:pt x="124" y="1628"/>
                      </a:lnTo>
                      <a:lnTo>
                        <a:pt x="167" y="1628"/>
                      </a:lnTo>
                      <a:lnTo>
                        <a:pt x="167" y="1626"/>
                      </a:lnTo>
                      <a:lnTo>
                        <a:pt x="168" y="1625"/>
                      </a:lnTo>
                      <a:lnTo>
                        <a:pt x="170" y="1624"/>
                      </a:lnTo>
                      <a:lnTo>
                        <a:pt x="172" y="1624"/>
                      </a:lnTo>
                      <a:lnTo>
                        <a:pt x="173" y="1624"/>
                      </a:lnTo>
                      <a:lnTo>
                        <a:pt x="175" y="1625"/>
                      </a:lnTo>
                      <a:lnTo>
                        <a:pt x="176" y="1626"/>
                      </a:lnTo>
                      <a:lnTo>
                        <a:pt x="176" y="1628"/>
                      </a:lnTo>
                      <a:lnTo>
                        <a:pt x="190" y="1628"/>
                      </a:lnTo>
                      <a:lnTo>
                        <a:pt x="190" y="1626"/>
                      </a:lnTo>
                      <a:lnTo>
                        <a:pt x="191" y="1625"/>
                      </a:lnTo>
                      <a:lnTo>
                        <a:pt x="192" y="1624"/>
                      </a:lnTo>
                      <a:lnTo>
                        <a:pt x="194" y="1624"/>
                      </a:lnTo>
                      <a:lnTo>
                        <a:pt x="196" y="1624"/>
                      </a:lnTo>
                      <a:lnTo>
                        <a:pt x="197" y="1625"/>
                      </a:lnTo>
                      <a:lnTo>
                        <a:pt x="198" y="1626"/>
                      </a:lnTo>
                      <a:lnTo>
                        <a:pt x="199" y="1628"/>
                      </a:lnTo>
                      <a:lnTo>
                        <a:pt x="221" y="1628"/>
                      </a:lnTo>
                      <a:lnTo>
                        <a:pt x="221" y="1626"/>
                      </a:lnTo>
                      <a:lnTo>
                        <a:pt x="222" y="1625"/>
                      </a:lnTo>
                      <a:lnTo>
                        <a:pt x="224" y="1624"/>
                      </a:lnTo>
                      <a:lnTo>
                        <a:pt x="226" y="1624"/>
                      </a:lnTo>
                      <a:lnTo>
                        <a:pt x="227" y="1624"/>
                      </a:lnTo>
                      <a:lnTo>
                        <a:pt x="229" y="1625"/>
                      </a:lnTo>
                      <a:lnTo>
                        <a:pt x="230" y="1626"/>
                      </a:lnTo>
                      <a:lnTo>
                        <a:pt x="230" y="1628"/>
                      </a:lnTo>
                      <a:lnTo>
                        <a:pt x="257" y="1628"/>
                      </a:lnTo>
                      <a:lnTo>
                        <a:pt x="257" y="544"/>
                      </a:lnTo>
                      <a:lnTo>
                        <a:pt x="262" y="544"/>
                      </a:lnTo>
                      <a:lnTo>
                        <a:pt x="262" y="543"/>
                      </a:lnTo>
                      <a:lnTo>
                        <a:pt x="263" y="541"/>
                      </a:lnTo>
                      <a:lnTo>
                        <a:pt x="264" y="541"/>
                      </a:lnTo>
                      <a:lnTo>
                        <a:pt x="266" y="541"/>
                      </a:lnTo>
                      <a:lnTo>
                        <a:pt x="268" y="541"/>
                      </a:lnTo>
                      <a:lnTo>
                        <a:pt x="269" y="541"/>
                      </a:lnTo>
                      <a:lnTo>
                        <a:pt x="270" y="543"/>
                      </a:lnTo>
                      <a:lnTo>
                        <a:pt x="271" y="544"/>
                      </a:lnTo>
                      <a:lnTo>
                        <a:pt x="309" y="544"/>
                      </a:lnTo>
                      <a:lnTo>
                        <a:pt x="309" y="543"/>
                      </a:lnTo>
                      <a:lnTo>
                        <a:pt x="310" y="541"/>
                      </a:lnTo>
                      <a:lnTo>
                        <a:pt x="312" y="541"/>
                      </a:lnTo>
                      <a:lnTo>
                        <a:pt x="313" y="541"/>
                      </a:lnTo>
                      <a:lnTo>
                        <a:pt x="315" y="541"/>
                      </a:lnTo>
                      <a:lnTo>
                        <a:pt x="317" y="541"/>
                      </a:lnTo>
                      <a:lnTo>
                        <a:pt x="318" y="543"/>
                      </a:lnTo>
                      <a:lnTo>
                        <a:pt x="318" y="544"/>
                      </a:lnTo>
                      <a:lnTo>
                        <a:pt x="327" y="544"/>
                      </a:lnTo>
                      <a:lnTo>
                        <a:pt x="327" y="48"/>
                      </a:lnTo>
                      <a:lnTo>
                        <a:pt x="314" y="48"/>
                      </a:lnTo>
                      <a:lnTo>
                        <a:pt x="313" y="47"/>
                      </a:lnTo>
                      <a:lnTo>
                        <a:pt x="312" y="45"/>
                      </a:lnTo>
                      <a:lnTo>
                        <a:pt x="311" y="45"/>
                      </a:lnTo>
                      <a:lnTo>
                        <a:pt x="309" y="44"/>
                      </a:lnTo>
                      <a:lnTo>
                        <a:pt x="308" y="45"/>
                      </a:lnTo>
                      <a:lnTo>
                        <a:pt x="306" y="45"/>
                      </a:lnTo>
                      <a:lnTo>
                        <a:pt x="305" y="47"/>
                      </a:lnTo>
                      <a:lnTo>
                        <a:pt x="305" y="48"/>
                      </a:lnTo>
                      <a:lnTo>
                        <a:pt x="286" y="48"/>
                      </a:lnTo>
                      <a:lnTo>
                        <a:pt x="286" y="47"/>
                      </a:lnTo>
                      <a:lnTo>
                        <a:pt x="285" y="45"/>
                      </a:lnTo>
                      <a:lnTo>
                        <a:pt x="284" y="45"/>
                      </a:lnTo>
                      <a:lnTo>
                        <a:pt x="282" y="44"/>
                      </a:lnTo>
                      <a:lnTo>
                        <a:pt x="280" y="45"/>
                      </a:lnTo>
                      <a:lnTo>
                        <a:pt x="279" y="45"/>
                      </a:lnTo>
                      <a:lnTo>
                        <a:pt x="278" y="47"/>
                      </a:lnTo>
                      <a:lnTo>
                        <a:pt x="277" y="48"/>
                      </a:lnTo>
                      <a:lnTo>
                        <a:pt x="257" y="48"/>
                      </a:lnTo>
                      <a:lnTo>
                        <a:pt x="25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771520" y="45018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3" name=""/>
                <p:cNvSpPr/>
                <p:nvPr/>
              </p:nvSpPr>
              <p:spPr>
                <a:xfrm>
                  <a:off x="6044400" y="2307240"/>
                  <a:ext cx="11520" cy="14400"/>
                </a:xfrm>
                <a:custGeom>
                  <a:avLst/>
                  <a:gdLst/>
                  <a:ahLst/>
                  <a:rect l="l" t="t" r="r" b="b"/>
                  <a:pathLst>
                    <a:path w="11" h="11">
                      <a:moveTo>
                        <a:pt x="0" y="10"/>
                      </a:moveTo>
                      <a:lnTo>
                        <a:pt x="5" y="0"/>
                      </a:lnTo>
                      <a:lnTo>
                        <a:pt x="11" y="10"/>
                      </a:lnTo>
                      <a:lnTo>
                        <a:pt x="9" y="10"/>
                      </a:lnTo>
                      <a:lnTo>
                        <a:pt x="5" y="11"/>
                      </a:lnTo>
                      <a:lnTo>
                        <a:pt x="2"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04" name=""/>
                <p:cNvSpPr/>
                <p:nvPr/>
              </p:nvSpPr>
              <p:spPr>
                <a:xfrm>
                  <a:off x="6169320" y="2220120"/>
                  <a:ext cx="390240" cy="662400"/>
                </a:xfrm>
                <a:custGeom>
                  <a:avLst/>
                  <a:gdLst/>
                  <a:ahLst/>
                  <a:rect l="l" t="t" r="r" b="b"/>
                  <a:pathLst>
                    <a:path w="369" h="496">
                      <a:moveTo>
                        <a:pt x="369" y="496"/>
                      </a:moveTo>
                      <a:lnTo>
                        <a:pt x="355" y="496"/>
                      </a:lnTo>
                      <a:lnTo>
                        <a:pt x="355" y="494"/>
                      </a:lnTo>
                      <a:lnTo>
                        <a:pt x="354" y="493"/>
                      </a:lnTo>
                      <a:lnTo>
                        <a:pt x="353" y="493"/>
                      </a:lnTo>
                      <a:lnTo>
                        <a:pt x="351" y="492"/>
                      </a:lnTo>
                      <a:lnTo>
                        <a:pt x="349" y="493"/>
                      </a:lnTo>
                      <a:lnTo>
                        <a:pt x="348" y="493"/>
                      </a:lnTo>
                      <a:lnTo>
                        <a:pt x="347" y="494"/>
                      </a:lnTo>
                      <a:lnTo>
                        <a:pt x="346" y="496"/>
                      </a:lnTo>
                      <a:lnTo>
                        <a:pt x="337" y="496"/>
                      </a:lnTo>
                      <a:lnTo>
                        <a:pt x="336" y="494"/>
                      </a:lnTo>
                      <a:lnTo>
                        <a:pt x="335" y="493"/>
                      </a:lnTo>
                      <a:lnTo>
                        <a:pt x="334" y="493"/>
                      </a:lnTo>
                      <a:lnTo>
                        <a:pt x="332" y="492"/>
                      </a:lnTo>
                      <a:lnTo>
                        <a:pt x="331" y="493"/>
                      </a:lnTo>
                      <a:lnTo>
                        <a:pt x="329" y="493"/>
                      </a:lnTo>
                      <a:lnTo>
                        <a:pt x="328" y="494"/>
                      </a:lnTo>
                      <a:lnTo>
                        <a:pt x="328" y="496"/>
                      </a:lnTo>
                      <a:lnTo>
                        <a:pt x="296" y="496"/>
                      </a:lnTo>
                      <a:lnTo>
                        <a:pt x="296" y="487"/>
                      </a:lnTo>
                      <a:lnTo>
                        <a:pt x="282" y="487"/>
                      </a:lnTo>
                      <a:lnTo>
                        <a:pt x="282" y="485"/>
                      </a:lnTo>
                      <a:lnTo>
                        <a:pt x="281" y="484"/>
                      </a:lnTo>
                      <a:lnTo>
                        <a:pt x="280" y="483"/>
                      </a:lnTo>
                      <a:lnTo>
                        <a:pt x="278" y="483"/>
                      </a:lnTo>
                      <a:lnTo>
                        <a:pt x="276" y="483"/>
                      </a:lnTo>
                      <a:lnTo>
                        <a:pt x="275" y="484"/>
                      </a:lnTo>
                      <a:lnTo>
                        <a:pt x="274" y="485"/>
                      </a:lnTo>
                      <a:lnTo>
                        <a:pt x="273" y="487"/>
                      </a:lnTo>
                      <a:lnTo>
                        <a:pt x="261" y="487"/>
                      </a:lnTo>
                      <a:lnTo>
                        <a:pt x="260" y="485"/>
                      </a:lnTo>
                      <a:lnTo>
                        <a:pt x="259" y="484"/>
                      </a:lnTo>
                      <a:lnTo>
                        <a:pt x="258" y="483"/>
                      </a:lnTo>
                      <a:lnTo>
                        <a:pt x="256" y="483"/>
                      </a:lnTo>
                      <a:lnTo>
                        <a:pt x="255" y="483"/>
                      </a:lnTo>
                      <a:lnTo>
                        <a:pt x="253" y="484"/>
                      </a:lnTo>
                      <a:lnTo>
                        <a:pt x="252" y="485"/>
                      </a:lnTo>
                      <a:lnTo>
                        <a:pt x="252" y="487"/>
                      </a:lnTo>
                      <a:lnTo>
                        <a:pt x="237" y="487"/>
                      </a:lnTo>
                      <a:lnTo>
                        <a:pt x="237" y="485"/>
                      </a:lnTo>
                      <a:lnTo>
                        <a:pt x="236" y="484"/>
                      </a:lnTo>
                      <a:lnTo>
                        <a:pt x="234" y="483"/>
                      </a:lnTo>
                      <a:lnTo>
                        <a:pt x="233" y="483"/>
                      </a:lnTo>
                      <a:lnTo>
                        <a:pt x="231" y="483"/>
                      </a:lnTo>
                      <a:lnTo>
                        <a:pt x="229" y="484"/>
                      </a:lnTo>
                      <a:lnTo>
                        <a:pt x="229" y="485"/>
                      </a:lnTo>
                      <a:lnTo>
                        <a:pt x="228" y="487"/>
                      </a:lnTo>
                      <a:lnTo>
                        <a:pt x="217" y="487"/>
                      </a:lnTo>
                      <a:lnTo>
                        <a:pt x="217" y="485"/>
                      </a:lnTo>
                      <a:lnTo>
                        <a:pt x="216" y="484"/>
                      </a:lnTo>
                      <a:lnTo>
                        <a:pt x="214" y="483"/>
                      </a:lnTo>
                      <a:lnTo>
                        <a:pt x="212" y="483"/>
                      </a:lnTo>
                      <a:lnTo>
                        <a:pt x="211" y="483"/>
                      </a:lnTo>
                      <a:lnTo>
                        <a:pt x="209" y="484"/>
                      </a:lnTo>
                      <a:lnTo>
                        <a:pt x="208" y="485"/>
                      </a:lnTo>
                      <a:lnTo>
                        <a:pt x="208" y="487"/>
                      </a:lnTo>
                      <a:lnTo>
                        <a:pt x="201" y="487"/>
                      </a:lnTo>
                      <a:lnTo>
                        <a:pt x="201" y="485"/>
                      </a:lnTo>
                      <a:lnTo>
                        <a:pt x="200" y="484"/>
                      </a:lnTo>
                      <a:lnTo>
                        <a:pt x="198" y="482"/>
                      </a:lnTo>
                      <a:lnTo>
                        <a:pt x="197" y="482"/>
                      </a:lnTo>
                      <a:lnTo>
                        <a:pt x="194" y="481"/>
                      </a:lnTo>
                      <a:lnTo>
                        <a:pt x="192" y="482"/>
                      </a:lnTo>
                      <a:lnTo>
                        <a:pt x="190" y="482"/>
                      </a:lnTo>
                      <a:lnTo>
                        <a:pt x="189" y="484"/>
                      </a:lnTo>
                      <a:lnTo>
                        <a:pt x="188" y="485"/>
                      </a:lnTo>
                      <a:lnTo>
                        <a:pt x="188" y="487"/>
                      </a:lnTo>
                      <a:lnTo>
                        <a:pt x="139" y="487"/>
                      </a:lnTo>
                      <a:lnTo>
                        <a:pt x="139" y="485"/>
                      </a:lnTo>
                      <a:lnTo>
                        <a:pt x="138" y="484"/>
                      </a:lnTo>
                      <a:lnTo>
                        <a:pt x="136" y="483"/>
                      </a:lnTo>
                      <a:lnTo>
                        <a:pt x="135" y="483"/>
                      </a:lnTo>
                      <a:lnTo>
                        <a:pt x="133" y="483"/>
                      </a:lnTo>
                      <a:lnTo>
                        <a:pt x="132" y="484"/>
                      </a:lnTo>
                      <a:lnTo>
                        <a:pt x="131" y="485"/>
                      </a:lnTo>
                      <a:lnTo>
                        <a:pt x="130" y="487"/>
                      </a:lnTo>
                      <a:lnTo>
                        <a:pt x="126" y="487"/>
                      </a:lnTo>
                      <a:lnTo>
                        <a:pt x="125" y="485"/>
                      </a:lnTo>
                      <a:lnTo>
                        <a:pt x="124" y="484"/>
                      </a:lnTo>
                      <a:lnTo>
                        <a:pt x="123" y="483"/>
                      </a:lnTo>
                      <a:lnTo>
                        <a:pt x="121" y="483"/>
                      </a:lnTo>
                      <a:lnTo>
                        <a:pt x="119" y="483"/>
                      </a:lnTo>
                      <a:lnTo>
                        <a:pt x="118" y="484"/>
                      </a:lnTo>
                      <a:lnTo>
                        <a:pt x="117" y="485"/>
                      </a:lnTo>
                      <a:lnTo>
                        <a:pt x="117" y="487"/>
                      </a:lnTo>
                      <a:lnTo>
                        <a:pt x="102" y="487"/>
                      </a:lnTo>
                      <a:lnTo>
                        <a:pt x="101" y="485"/>
                      </a:lnTo>
                      <a:lnTo>
                        <a:pt x="100" y="483"/>
                      </a:lnTo>
                      <a:lnTo>
                        <a:pt x="99" y="482"/>
                      </a:lnTo>
                      <a:lnTo>
                        <a:pt x="97" y="481"/>
                      </a:lnTo>
                      <a:lnTo>
                        <a:pt x="95" y="481"/>
                      </a:lnTo>
                      <a:lnTo>
                        <a:pt x="93" y="481"/>
                      </a:lnTo>
                      <a:lnTo>
                        <a:pt x="90" y="481"/>
                      </a:lnTo>
                      <a:lnTo>
                        <a:pt x="89" y="482"/>
                      </a:lnTo>
                      <a:lnTo>
                        <a:pt x="87" y="483"/>
                      </a:lnTo>
                      <a:lnTo>
                        <a:pt x="86" y="485"/>
                      </a:lnTo>
                      <a:lnTo>
                        <a:pt x="86" y="487"/>
                      </a:lnTo>
                      <a:lnTo>
                        <a:pt x="72" y="487"/>
                      </a:lnTo>
                      <a:lnTo>
                        <a:pt x="71" y="485"/>
                      </a:lnTo>
                      <a:lnTo>
                        <a:pt x="70" y="484"/>
                      </a:lnTo>
                      <a:lnTo>
                        <a:pt x="69" y="483"/>
                      </a:lnTo>
                      <a:lnTo>
                        <a:pt x="67" y="483"/>
                      </a:lnTo>
                      <a:lnTo>
                        <a:pt x="65" y="483"/>
                      </a:lnTo>
                      <a:lnTo>
                        <a:pt x="64" y="484"/>
                      </a:lnTo>
                      <a:lnTo>
                        <a:pt x="63" y="485"/>
                      </a:lnTo>
                      <a:lnTo>
                        <a:pt x="63" y="487"/>
                      </a:lnTo>
                      <a:lnTo>
                        <a:pt x="40" y="487"/>
                      </a:lnTo>
                      <a:lnTo>
                        <a:pt x="40"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6558840" y="287604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06" name=""/>
                <p:cNvSpPr/>
                <p:nvPr/>
              </p:nvSpPr>
              <p:spPr>
                <a:xfrm>
                  <a:off x="6180840" y="2252160"/>
                  <a:ext cx="497520" cy="926640"/>
                </a:xfrm>
                <a:custGeom>
                  <a:avLst/>
                  <a:gdLst/>
                  <a:ahLst/>
                  <a:rect l="l" t="t" r="r" b="b"/>
                  <a:pathLst>
                    <a:path w="470" h="694">
                      <a:moveTo>
                        <a:pt x="0" y="0"/>
                      </a:moveTo>
                      <a:lnTo>
                        <a:pt x="9" y="0"/>
                      </a:lnTo>
                      <a:lnTo>
                        <a:pt x="9" y="688"/>
                      </a:lnTo>
                      <a:lnTo>
                        <a:pt x="18" y="688"/>
                      </a:lnTo>
                      <a:lnTo>
                        <a:pt x="18" y="687"/>
                      </a:lnTo>
                      <a:lnTo>
                        <a:pt x="19" y="686"/>
                      </a:lnTo>
                      <a:lnTo>
                        <a:pt x="21" y="685"/>
                      </a:lnTo>
                      <a:lnTo>
                        <a:pt x="22" y="685"/>
                      </a:lnTo>
                      <a:lnTo>
                        <a:pt x="24" y="685"/>
                      </a:lnTo>
                      <a:lnTo>
                        <a:pt x="26" y="686"/>
                      </a:lnTo>
                      <a:lnTo>
                        <a:pt x="26" y="687"/>
                      </a:lnTo>
                      <a:lnTo>
                        <a:pt x="27" y="688"/>
                      </a:lnTo>
                      <a:lnTo>
                        <a:pt x="89" y="688"/>
                      </a:lnTo>
                      <a:lnTo>
                        <a:pt x="89" y="687"/>
                      </a:lnTo>
                      <a:lnTo>
                        <a:pt x="90" y="686"/>
                      </a:lnTo>
                      <a:lnTo>
                        <a:pt x="92" y="685"/>
                      </a:lnTo>
                      <a:lnTo>
                        <a:pt x="93" y="685"/>
                      </a:lnTo>
                      <a:lnTo>
                        <a:pt x="95" y="685"/>
                      </a:lnTo>
                      <a:lnTo>
                        <a:pt x="97" y="686"/>
                      </a:lnTo>
                      <a:lnTo>
                        <a:pt x="97" y="687"/>
                      </a:lnTo>
                      <a:lnTo>
                        <a:pt x="98" y="688"/>
                      </a:lnTo>
                      <a:lnTo>
                        <a:pt x="111" y="688"/>
                      </a:lnTo>
                      <a:lnTo>
                        <a:pt x="111" y="687"/>
                      </a:lnTo>
                      <a:lnTo>
                        <a:pt x="112" y="686"/>
                      </a:lnTo>
                      <a:lnTo>
                        <a:pt x="113" y="685"/>
                      </a:lnTo>
                      <a:lnTo>
                        <a:pt x="115" y="685"/>
                      </a:lnTo>
                      <a:lnTo>
                        <a:pt x="117" y="685"/>
                      </a:lnTo>
                      <a:lnTo>
                        <a:pt x="119" y="686"/>
                      </a:lnTo>
                      <a:lnTo>
                        <a:pt x="119" y="687"/>
                      </a:lnTo>
                      <a:lnTo>
                        <a:pt x="120" y="688"/>
                      </a:lnTo>
                      <a:lnTo>
                        <a:pt x="160" y="688"/>
                      </a:lnTo>
                      <a:lnTo>
                        <a:pt x="160" y="687"/>
                      </a:lnTo>
                      <a:lnTo>
                        <a:pt x="161" y="686"/>
                      </a:lnTo>
                      <a:lnTo>
                        <a:pt x="162" y="685"/>
                      </a:lnTo>
                      <a:lnTo>
                        <a:pt x="164" y="685"/>
                      </a:lnTo>
                      <a:lnTo>
                        <a:pt x="166" y="685"/>
                      </a:lnTo>
                      <a:lnTo>
                        <a:pt x="167" y="686"/>
                      </a:lnTo>
                      <a:lnTo>
                        <a:pt x="168" y="687"/>
                      </a:lnTo>
                      <a:lnTo>
                        <a:pt x="169" y="688"/>
                      </a:lnTo>
                      <a:lnTo>
                        <a:pt x="177" y="688"/>
                      </a:lnTo>
                      <a:lnTo>
                        <a:pt x="177" y="687"/>
                      </a:lnTo>
                      <a:lnTo>
                        <a:pt x="178" y="685"/>
                      </a:lnTo>
                      <a:lnTo>
                        <a:pt x="179" y="684"/>
                      </a:lnTo>
                      <a:lnTo>
                        <a:pt x="181" y="683"/>
                      </a:lnTo>
                      <a:lnTo>
                        <a:pt x="183" y="683"/>
                      </a:lnTo>
                      <a:lnTo>
                        <a:pt x="185" y="683"/>
                      </a:lnTo>
                      <a:lnTo>
                        <a:pt x="187" y="684"/>
                      </a:lnTo>
                      <a:lnTo>
                        <a:pt x="189" y="685"/>
                      </a:lnTo>
                      <a:lnTo>
                        <a:pt x="190" y="687"/>
                      </a:lnTo>
                      <a:lnTo>
                        <a:pt x="190" y="688"/>
                      </a:lnTo>
                      <a:lnTo>
                        <a:pt x="217" y="688"/>
                      </a:lnTo>
                      <a:lnTo>
                        <a:pt x="218" y="687"/>
                      </a:lnTo>
                      <a:lnTo>
                        <a:pt x="218" y="686"/>
                      </a:lnTo>
                      <a:lnTo>
                        <a:pt x="220" y="685"/>
                      </a:lnTo>
                      <a:lnTo>
                        <a:pt x="222" y="685"/>
                      </a:lnTo>
                      <a:lnTo>
                        <a:pt x="223" y="685"/>
                      </a:lnTo>
                      <a:lnTo>
                        <a:pt x="225" y="686"/>
                      </a:lnTo>
                      <a:lnTo>
                        <a:pt x="226" y="687"/>
                      </a:lnTo>
                      <a:lnTo>
                        <a:pt x="226" y="688"/>
                      </a:lnTo>
                      <a:lnTo>
                        <a:pt x="241" y="688"/>
                      </a:lnTo>
                      <a:lnTo>
                        <a:pt x="241" y="687"/>
                      </a:lnTo>
                      <a:lnTo>
                        <a:pt x="242" y="686"/>
                      </a:lnTo>
                      <a:lnTo>
                        <a:pt x="244" y="685"/>
                      </a:lnTo>
                      <a:lnTo>
                        <a:pt x="245" y="685"/>
                      </a:lnTo>
                      <a:lnTo>
                        <a:pt x="247" y="685"/>
                      </a:lnTo>
                      <a:lnTo>
                        <a:pt x="248" y="686"/>
                      </a:lnTo>
                      <a:lnTo>
                        <a:pt x="249" y="687"/>
                      </a:lnTo>
                      <a:lnTo>
                        <a:pt x="250" y="688"/>
                      </a:lnTo>
                      <a:lnTo>
                        <a:pt x="262" y="688"/>
                      </a:lnTo>
                      <a:lnTo>
                        <a:pt x="263" y="687"/>
                      </a:lnTo>
                      <a:lnTo>
                        <a:pt x="264" y="686"/>
                      </a:lnTo>
                      <a:lnTo>
                        <a:pt x="265" y="685"/>
                      </a:lnTo>
                      <a:lnTo>
                        <a:pt x="267" y="685"/>
                      </a:lnTo>
                      <a:lnTo>
                        <a:pt x="269" y="685"/>
                      </a:lnTo>
                      <a:lnTo>
                        <a:pt x="270" y="686"/>
                      </a:lnTo>
                      <a:lnTo>
                        <a:pt x="271" y="687"/>
                      </a:lnTo>
                      <a:lnTo>
                        <a:pt x="271" y="688"/>
                      </a:lnTo>
                      <a:lnTo>
                        <a:pt x="282" y="688"/>
                      </a:lnTo>
                      <a:lnTo>
                        <a:pt x="283" y="687"/>
                      </a:lnTo>
                      <a:lnTo>
                        <a:pt x="284" y="686"/>
                      </a:lnTo>
                      <a:lnTo>
                        <a:pt x="285" y="685"/>
                      </a:lnTo>
                      <a:lnTo>
                        <a:pt x="287" y="685"/>
                      </a:lnTo>
                      <a:lnTo>
                        <a:pt x="288" y="685"/>
                      </a:lnTo>
                      <a:lnTo>
                        <a:pt x="290" y="686"/>
                      </a:lnTo>
                      <a:lnTo>
                        <a:pt x="291" y="687"/>
                      </a:lnTo>
                      <a:lnTo>
                        <a:pt x="291" y="688"/>
                      </a:lnTo>
                      <a:lnTo>
                        <a:pt x="302" y="688"/>
                      </a:lnTo>
                      <a:lnTo>
                        <a:pt x="302" y="687"/>
                      </a:lnTo>
                      <a:lnTo>
                        <a:pt x="303" y="686"/>
                      </a:lnTo>
                      <a:lnTo>
                        <a:pt x="304" y="685"/>
                      </a:lnTo>
                      <a:lnTo>
                        <a:pt x="306" y="685"/>
                      </a:lnTo>
                      <a:lnTo>
                        <a:pt x="308" y="685"/>
                      </a:lnTo>
                      <a:lnTo>
                        <a:pt x="309" y="686"/>
                      </a:lnTo>
                      <a:lnTo>
                        <a:pt x="310" y="687"/>
                      </a:lnTo>
                      <a:lnTo>
                        <a:pt x="311" y="688"/>
                      </a:lnTo>
                      <a:lnTo>
                        <a:pt x="313" y="688"/>
                      </a:lnTo>
                      <a:lnTo>
                        <a:pt x="314" y="687"/>
                      </a:lnTo>
                      <a:lnTo>
                        <a:pt x="315" y="686"/>
                      </a:lnTo>
                      <a:lnTo>
                        <a:pt x="316" y="685"/>
                      </a:lnTo>
                      <a:lnTo>
                        <a:pt x="318" y="685"/>
                      </a:lnTo>
                      <a:lnTo>
                        <a:pt x="320" y="685"/>
                      </a:lnTo>
                      <a:lnTo>
                        <a:pt x="321" y="686"/>
                      </a:lnTo>
                      <a:lnTo>
                        <a:pt x="322" y="687"/>
                      </a:lnTo>
                      <a:lnTo>
                        <a:pt x="322" y="688"/>
                      </a:lnTo>
                      <a:lnTo>
                        <a:pt x="327" y="688"/>
                      </a:lnTo>
                      <a:lnTo>
                        <a:pt x="327" y="687"/>
                      </a:lnTo>
                      <a:lnTo>
                        <a:pt x="328" y="686"/>
                      </a:lnTo>
                      <a:lnTo>
                        <a:pt x="330" y="685"/>
                      </a:lnTo>
                      <a:lnTo>
                        <a:pt x="331" y="685"/>
                      </a:lnTo>
                      <a:lnTo>
                        <a:pt x="333" y="685"/>
                      </a:lnTo>
                      <a:lnTo>
                        <a:pt x="335" y="686"/>
                      </a:lnTo>
                      <a:lnTo>
                        <a:pt x="336" y="687"/>
                      </a:lnTo>
                      <a:lnTo>
                        <a:pt x="336" y="688"/>
                      </a:lnTo>
                      <a:lnTo>
                        <a:pt x="363" y="688"/>
                      </a:lnTo>
                      <a:lnTo>
                        <a:pt x="363" y="694"/>
                      </a:lnTo>
                      <a:lnTo>
                        <a:pt x="383" y="694"/>
                      </a:lnTo>
                      <a:lnTo>
                        <a:pt x="383" y="692"/>
                      </a:lnTo>
                      <a:lnTo>
                        <a:pt x="384" y="691"/>
                      </a:lnTo>
                      <a:lnTo>
                        <a:pt x="385" y="690"/>
                      </a:lnTo>
                      <a:lnTo>
                        <a:pt x="387" y="689"/>
                      </a:lnTo>
                      <a:lnTo>
                        <a:pt x="389" y="689"/>
                      </a:lnTo>
                      <a:lnTo>
                        <a:pt x="391" y="689"/>
                      </a:lnTo>
                      <a:lnTo>
                        <a:pt x="392" y="690"/>
                      </a:lnTo>
                      <a:lnTo>
                        <a:pt x="394" y="691"/>
                      </a:lnTo>
                      <a:lnTo>
                        <a:pt x="394" y="692"/>
                      </a:lnTo>
                      <a:lnTo>
                        <a:pt x="395" y="694"/>
                      </a:lnTo>
                      <a:lnTo>
                        <a:pt x="396" y="694"/>
                      </a:lnTo>
                      <a:lnTo>
                        <a:pt x="396" y="692"/>
                      </a:lnTo>
                      <a:lnTo>
                        <a:pt x="397" y="691"/>
                      </a:lnTo>
                      <a:lnTo>
                        <a:pt x="399" y="691"/>
                      </a:lnTo>
                      <a:lnTo>
                        <a:pt x="400" y="690"/>
                      </a:lnTo>
                      <a:lnTo>
                        <a:pt x="402" y="691"/>
                      </a:lnTo>
                      <a:lnTo>
                        <a:pt x="403" y="691"/>
                      </a:lnTo>
                      <a:lnTo>
                        <a:pt x="405" y="692"/>
                      </a:lnTo>
                      <a:lnTo>
                        <a:pt x="405" y="694"/>
                      </a:lnTo>
                      <a:lnTo>
                        <a:pt x="423" y="694"/>
                      </a:lnTo>
                      <a:lnTo>
                        <a:pt x="423" y="692"/>
                      </a:lnTo>
                      <a:lnTo>
                        <a:pt x="425" y="691"/>
                      </a:lnTo>
                      <a:lnTo>
                        <a:pt x="426" y="691"/>
                      </a:lnTo>
                      <a:lnTo>
                        <a:pt x="428" y="690"/>
                      </a:lnTo>
                      <a:lnTo>
                        <a:pt x="429" y="691"/>
                      </a:lnTo>
                      <a:lnTo>
                        <a:pt x="431" y="691"/>
                      </a:lnTo>
                      <a:lnTo>
                        <a:pt x="432" y="692"/>
                      </a:lnTo>
                      <a:lnTo>
                        <a:pt x="432" y="694"/>
                      </a:lnTo>
                      <a:lnTo>
                        <a:pt x="470" y="694"/>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169320" y="22456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08" name=""/>
                <p:cNvSpPr/>
                <p:nvPr/>
              </p:nvSpPr>
              <p:spPr>
                <a:xfrm>
                  <a:off x="6676560" y="317232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09" name=""/>
                <p:cNvSpPr/>
                <p:nvPr/>
              </p:nvSpPr>
              <p:spPr>
                <a:xfrm>
                  <a:off x="4534920" y="2278800"/>
                  <a:ext cx="1292400" cy="1531800"/>
                </a:xfrm>
                <a:custGeom>
                  <a:avLst/>
                  <a:gdLst/>
                  <a:ahLst/>
                  <a:rect l="l" t="t" r="r" b="b"/>
                  <a:pathLst>
                    <a:path w="1221" h="1147">
                      <a:moveTo>
                        <a:pt x="0" y="1147"/>
                      </a:moveTo>
                      <a:lnTo>
                        <a:pt x="0" y="1070"/>
                      </a:lnTo>
                      <a:lnTo>
                        <a:pt x="113" y="1070"/>
                      </a:lnTo>
                      <a:lnTo>
                        <a:pt x="114" y="1068"/>
                      </a:lnTo>
                      <a:lnTo>
                        <a:pt x="115" y="1066"/>
                      </a:lnTo>
                      <a:lnTo>
                        <a:pt x="116" y="1065"/>
                      </a:lnTo>
                      <a:lnTo>
                        <a:pt x="118" y="1064"/>
                      </a:lnTo>
                      <a:lnTo>
                        <a:pt x="120" y="1064"/>
                      </a:lnTo>
                      <a:lnTo>
                        <a:pt x="123" y="1064"/>
                      </a:lnTo>
                      <a:lnTo>
                        <a:pt x="125" y="1064"/>
                      </a:lnTo>
                      <a:lnTo>
                        <a:pt x="127" y="1065"/>
                      </a:lnTo>
                      <a:lnTo>
                        <a:pt x="128" y="1066"/>
                      </a:lnTo>
                      <a:lnTo>
                        <a:pt x="129" y="1068"/>
                      </a:lnTo>
                      <a:lnTo>
                        <a:pt x="130" y="1070"/>
                      </a:lnTo>
                      <a:lnTo>
                        <a:pt x="136" y="1070"/>
                      </a:lnTo>
                      <a:lnTo>
                        <a:pt x="136" y="3"/>
                      </a:lnTo>
                      <a:lnTo>
                        <a:pt x="261" y="3"/>
                      </a:lnTo>
                      <a:lnTo>
                        <a:pt x="262" y="2"/>
                      </a:lnTo>
                      <a:lnTo>
                        <a:pt x="263" y="1"/>
                      </a:lnTo>
                      <a:lnTo>
                        <a:pt x="264" y="0"/>
                      </a:lnTo>
                      <a:lnTo>
                        <a:pt x="266" y="0"/>
                      </a:lnTo>
                      <a:lnTo>
                        <a:pt x="268" y="0"/>
                      </a:lnTo>
                      <a:lnTo>
                        <a:pt x="269" y="1"/>
                      </a:lnTo>
                      <a:lnTo>
                        <a:pt x="270" y="2"/>
                      </a:lnTo>
                      <a:lnTo>
                        <a:pt x="270" y="3"/>
                      </a:lnTo>
                      <a:lnTo>
                        <a:pt x="396" y="3"/>
                      </a:lnTo>
                      <a:lnTo>
                        <a:pt x="396" y="2"/>
                      </a:lnTo>
                      <a:lnTo>
                        <a:pt x="397" y="1"/>
                      </a:lnTo>
                      <a:lnTo>
                        <a:pt x="399" y="0"/>
                      </a:lnTo>
                      <a:lnTo>
                        <a:pt x="400" y="0"/>
                      </a:lnTo>
                      <a:lnTo>
                        <a:pt x="402" y="0"/>
                      </a:lnTo>
                      <a:lnTo>
                        <a:pt x="404" y="1"/>
                      </a:lnTo>
                      <a:lnTo>
                        <a:pt x="405" y="2"/>
                      </a:lnTo>
                      <a:lnTo>
                        <a:pt x="405" y="3"/>
                      </a:lnTo>
                      <a:lnTo>
                        <a:pt x="412" y="3"/>
                      </a:lnTo>
                      <a:lnTo>
                        <a:pt x="412" y="2"/>
                      </a:lnTo>
                      <a:lnTo>
                        <a:pt x="413" y="1"/>
                      </a:lnTo>
                      <a:lnTo>
                        <a:pt x="415" y="0"/>
                      </a:lnTo>
                      <a:lnTo>
                        <a:pt x="416" y="0"/>
                      </a:lnTo>
                      <a:lnTo>
                        <a:pt x="418" y="0"/>
                      </a:lnTo>
                      <a:lnTo>
                        <a:pt x="420" y="1"/>
                      </a:lnTo>
                      <a:lnTo>
                        <a:pt x="421" y="2"/>
                      </a:lnTo>
                      <a:lnTo>
                        <a:pt x="421" y="3"/>
                      </a:lnTo>
                      <a:lnTo>
                        <a:pt x="452" y="3"/>
                      </a:lnTo>
                      <a:lnTo>
                        <a:pt x="453" y="2"/>
                      </a:lnTo>
                      <a:lnTo>
                        <a:pt x="454" y="1"/>
                      </a:lnTo>
                      <a:lnTo>
                        <a:pt x="455" y="0"/>
                      </a:lnTo>
                      <a:lnTo>
                        <a:pt x="457" y="0"/>
                      </a:lnTo>
                      <a:lnTo>
                        <a:pt x="458" y="0"/>
                      </a:lnTo>
                      <a:lnTo>
                        <a:pt x="460" y="1"/>
                      </a:lnTo>
                      <a:lnTo>
                        <a:pt x="461" y="2"/>
                      </a:lnTo>
                      <a:lnTo>
                        <a:pt x="461" y="3"/>
                      </a:lnTo>
                      <a:lnTo>
                        <a:pt x="481" y="3"/>
                      </a:lnTo>
                      <a:lnTo>
                        <a:pt x="482" y="2"/>
                      </a:lnTo>
                      <a:lnTo>
                        <a:pt x="483" y="1"/>
                      </a:lnTo>
                      <a:lnTo>
                        <a:pt x="484" y="0"/>
                      </a:lnTo>
                      <a:lnTo>
                        <a:pt x="486" y="0"/>
                      </a:lnTo>
                      <a:lnTo>
                        <a:pt x="487" y="0"/>
                      </a:lnTo>
                      <a:lnTo>
                        <a:pt x="489" y="1"/>
                      </a:lnTo>
                      <a:lnTo>
                        <a:pt x="490" y="2"/>
                      </a:lnTo>
                      <a:lnTo>
                        <a:pt x="490" y="3"/>
                      </a:lnTo>
                      <a:lnTo>
                        <a:pt x="531" y="3"/>
                      </a:lnTo>
                      <a:lnTo>
                        <a:pt x="531" y="2"/>
                      </a:lnTo>
                      <a:lnTo>
                        <a:pt x="532" y="1"/>
                      </a:lnTo>
                      <a:lnTo>
                        <a:pt x="534" y="0"/>
                      </a:lnTo>
                      <a:lnTo>
                        <a:pt x="536" y="0"/>
                      </a:lnTo>
                      <a:lnTo>
                        <a:pt x="537" y="0"/>
                      </a:lnTo>
                      <a:lnTo>
                        <a:pt x="539" y="1"/>
                      </a:lnTo>
                      <a:lnTo>
                        <a:pt x="540" y="2"/>
                      </a:lnTo>
                      <a:lnTo>
                        <a:pt x="540" y="3"/>
                      </a:lnTo>
                      <a:lnTo>
                        <a:pt x="780" y="3"/>
                      </a:lnTo>
                      <a:lnTo>
                        <a:pt x="780" y="2"/>
                      </a:lnTo>
                      <a:lnTo>
                        <a:pt x="781" y="1"/>
                      </a:lnTo>
                      <a:lnTo>
                        <a:pt x="783" y="0"/>
                      </a:lnTo>
                      <a:lnTo>
                        <a:pt x="784" y="0"/>
                      </a:lnTo>
                      <a:lnTo>
                        <a:pt x="786" y="0"/>
                      </a:lnTo>
                      <a:lnTo>
                        <a:pt x="788" y="1"/>
                      </a:lnTo>
                      <a:lnTo>
                        <a:pt x="788" y="2"/>
                      </a:lnTo>
                      <a:lnTo>
                        <a:pt x="789" y="3"/>
                      </a:lnTo>
                      <a:lnTo>
                        <a:pt x="846" y="3"/>
                      </a:lnTo>
                      <a:lnTo>
                        <a:pt x="846" y="2"/>
                      </a:lnTo>
                      <a:lnTo>
                        <a:pt x="847" y="1"/>
                      </a:lnTo>
                      <a:lnTo>
                        <a:pt x="848" y="0"/>
                      </a:lnTo>
                      <a:lnTo>
                        <a:pt x="850" y="0"/>
                      </a:lnTo>
                      <a:lnTo>
                        <a:pt x="852" y="0"/>
                      </a:lnTo>
                      <a:lnTo>
                        <a:pt x="853" y="1"/>
                      </a:lnTo>
                      <a:lnTo>
                        <a:pt x="854" y="2"/>
                      </a:lnTo>
                      <a:lnTo>
                        <a:pt x="855" y="3"/>
                      </a:lnTo>
                      <a:lnTo>
                        <a:pt x="979" y="3"/>
                      </a:lnTo>
                      <a:lnTo>
                        <a:pt x="980" y="2"/>
                      </a:lnTo>
                      <a:lnTo>
                        <a:pt x="981" y="1"/>
                      </a:lnTo>
                      <a:lnTo>
                        <a:pt x="982" y="0"/>
                      </a:lnTo>
                      <a:lnTo>
                        <a:pt x="984" y="0"/>
                      </a:lnTo>
                      <a:lnTo>
                        <a:pt x="986" y="0"/>
                      </a:lnTo>
                      <a:lnTo>
                        <a:pt x="987" y="1"/>
                      </a:lnTo>
                      <a:lnTo>
                        <a:pt x="988" y="2"/>
                      </a:lnTo>
                      <a:lnTo>
                        <a:pt x="988" y="3"/>
                      </a:lnTo>
                      <a:lnTo>
                        <a:pt x="1011" y="3"/>
                      </a:lnTo>
                      <a:lnTo>
                        <a:pt x="1011" y="2"/>
                      </a:lnTo>
                      <a:lnTo>
                        <a:pt x="1012" y="1"/>
                      </a:lnTo>
                      <a:lnTo>
                        <a:pt x="1013" y="0"/>
                      </a:lnTo>
                      <a:lnTo>
                        <a:pt x="1015" y="0"/>
                      </a:lnTo>
                      <a:lnTo>
                        <a:pt x="1017" y="0"/>
                      </a:lnTo>
                      <a:lnTo>
                        <a:pt x="1018" y="1"/>
                      </a:lnTo>
                      <a:lnTo>
                        <a:pt x="1019" y="2"/>
                      </a:lnTo>
                      <a:lnTo>
                        <a:pt x="1020" y="3"/>
                      </a:lnTo>
                      <a:lnTo>
                        <a:pt x="1088" y="3"/>
                      </a:lnTo>
                      <a:lnTo>
                        <a:pt x="1088" y="2"/>
                      </a:lnTo>
                      <a:lnTo>
                        <a:pt x="1089" y="1"/>
                      </a:lnTo>
                      <a:lnTo>
                        <a:pt x="1090" y="0"/>
                      </a:lnTo>
                      <a:lnTo>
                        <a:pt x="1092" y="0"/>
                      </a:lnTo>
                      <a:lnTo>
                        <a:pt x="1094" y="0"/>
                      </a:lnTo>
                      <a:lnTo>
                        <a:pt x="1095" y="1"/>
                      </a:lnTo>
                      <a:lnTo>
                        <a:pt x="1096" y="2"/>
                      </a:lnTo>
                      <a:lnTo>
                        <a:pt x="1097" y="3"/>
                      </a:lnTo>
                      <a:lnTo>
                        <a:pt x="1202" y="3"/>
                      </a:lnTo>
                      <a:lnTo>
                        <a:pt x="1202" y="2"/>
                      </a:lnTo>
                      <a:lnTo>
                        <a:pt x="1203" y="1"/>
                      </a:lnTo>
                      <a:lnTo>
                        <a:pt x="1205" y="0"/>
                      </a:lnTo>
                      <a:lnTo>
                        <a:pt x="1206" y="0"/>
                      </a:lnTo>
                      <a:lnTo>
                        <a:pt x="1208" y="0"/>
                      </a:lnTo>
                      <a:lnTo>
                        <a:pt x="1210" y="1"/>
                      </a:lnTo>
                      <a:lnTo>
                        <a:pt x="1210" y="2"/>
                      </a:lnTo>
                      <a:lnTo>
                        <a:pt x="1211" y="3"/>
                      </a:lnTo>
                      <a:lnTo>
                        <a:pt x="1221"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528440" y="38098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1" name=""/>
                <p:cNvSpPr/>
                <p:nvPr/>
              </p:nvSpPr>
              <p:spPr>
                <a:xfrm>
                  <a:off x="5826240" y="2277720"/>
                  <a:ext cx="13680" cy="11520"/>
                </a:xfrm>
                <a:custGeom>
                  <a:avLst/>
                  <a:gdLst/>
                  <a:ahLst/>
                  <a:rect l="l" t="t" r="r" b="b"/>
                  <a:pathLst>
                    <a:path w="13" h="9">
                      <a:moveTo>
                        <a:pt x="1" y="0"/>
                      </a:moveTo>
                      <a:lnTo>
                        <a:pt x="13" y="4"/>
                      </a:lnTo>
                      <a:lnTo>
                        <a:pt x="1" y="9"/>
                      </a:lnTo>
                      <a:lnTo>
                        <a:pt x="0" y="6"/>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12" name=""/>
                <p:cNvSpPr/>
                <p:nvPr/>
              </p:nvSpPr>
              <p:spPr>
                <a:xfrm>
                  <a:off x="6592680" y="2611440"/>
                  <a:ext cx="31680" cy="213840"/>
                </a:xfrm>
                <a:custGeom>
                  <a:avLst/>
                  <a:gdLst/>
                  <a:ahLst/>
                  <a:rect l="l" t="t" r="r" b="b"/>
                  <a:pathLst>
                    <a:path w="30" h="160">
                      <a:moveTo>
                        <a:pt x="0" y="0"/>
                      </a:moveTo>
                      <a:lnTo>
                        <a:pt x="0" y="23"/>
                      </a:lnTo>
                      <a:lnTo>
                        <a:pt x="17" y="23"/>
                      </a:lnTo>
                      <a:lnTo>
                        <a:pt x="17" y="22"/>
                      </a:lnTo>
                      <a:lnTo>
                        <a:pt x="18" y="20"/>
                      </a:lnTo>
                      <a:lnTo>
                        <a:pt x="20" y="20"/>
                      </a:lnTo>
                      <a:lnTo>
                        <a:pt x="21" y="19"/>
                      </a:lnTo>
                      <a:lnTo>
                        <a:pt x="23" y="20"/>
                      </a:lnTo>
                      <a:lnTo>
                        <a:pt x="25" y="20"/>
                      </a:lnTo>
                      <a:lnTo>
                        <a:pt x="25" y="22"/>
                      </a:lnTo>
                      <a:lnTo>
                        <a:pt x="26" y="23"/>
                      </a:lnTo>
                      <a:lnTo>
                        <a:pt x="30" y="23"/>
                      </a:lnTo>
                      <a:lnTo>
                        <a:pt x="30" y="1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6617880" y="28238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540840" y="2607480"/>
                  <a:ext cx="137520" cy="547560"/>
                </a:xfrm>
                <a:custGeom>
                  <a:avLst/>
                  <a:gdLst/>
                  <a:ahLst/>
                  <a:rect l="l" t="t" r="r" b="b"/>
                  <a:pathLst>
                    <a:path w="130" h="410">
                      <a:moveTo>
                        <a:pt x="0" y="0"/>
                      </a:moveTo>
                      <a:lnTo>
                        <a:pt x="0" y="410"/>
                      </a:lnTo>
                      <a:lnTo>
                        <a:pt x="43" y="410"/>
                      </a:lnTo>
                      <a:lnTo>
                        <a:pt x="43" y="409"/>
                      </a:lnTo>
                      <a:lnTo>
                        <a:pt x="44" y="407"/>
                      </a:lnTo>
                      <a:lnTo>
                        <a:pt x="45" y="406"/>
                      </a:lnTo>
                      <a:lnTo>
                        <a:pt x="47" y="406"/>
                      </a:lnTo>
                      <a:lnTo>
                        <a:pt x="49" y="406"/>
                      </a:lnTo>
                      <a:lnTo>
                        <a:pt x="51" y="406"/>
                      </a:lnTo>
                      <a:lnTo>
                        <a:pt x="52" y="406"/>
                      </a:lnTo>
                      <a:lnTo>
                        <a:pt x="54" y="407"/>
                      </a:lnTo>
                      <a:lnTo>
                        <a:pt x="54" y="409"/>
                      </a:lnTo>
                      <a:lnTo>
                        <a:pt x="55" y="410"/>
                      </a:lnTo>
                      <a:lnTo>
                        <a:pt x="56" y="410"/>
                      </a:lnTo>
                      <a:lnTo>
                        <a:pt x="56" y="409"/>
                      </a:lnTo>
                      <a:lnTo>
                        <a:pt x="57" y="408"/>
                      </a:lnTo>
                      <a:lnTo>
                        <a:pt x="59" y="407"/>
                      </a:lnTo>
                      <a:lnTo>
                        <a:pt x="60" y="407"/>
                      </a:lnTo>
                      <a:lnTo>
                        <a:pt x="62" y="407"/>
                      </a:lnTo>
                      <a:lnTo>
                        <a:pt x="63" y="408"/>
                      </a:lnTo>
                      <a:lnTo>
                        <a:pt x="65" y="409"/>
                      </a:lnTo>
                      <a:lnTo>
                        <a:pt x="65" y="410"/>
                      </a:lnTo>
                      <a:lnTo>
                        <a:pt x="83" y="410"/>
                      </a:lnTo>
                      <a:lnTo>
                        <a:pt x="83" y="409"/>
                      </a:lnTo>
                      <a:lnTo>
                        <a:pt x="85" y="408"/>
                      </a:lnTo>
                      <a:lnTo>
                        <a:pt x="86" y="407"/>
                      </a:lnTo>
                      <a:lnTo>
                        <a:pt x="88" y="407"/>
                      </a:lnTo>
                      <a:lnTo>
                        <a:pt x="89" y="407"/>
                      </a:lnTo>
                      <a:lnTo>
                        <a:pt x="91" y="408"/>
                      </a:lnTo>
                      <a:lnTo>
                        <a:pt x="92" y="409"/>
                      </a:lnTo>
                      <a:lnTo>
                        <a:pt x="92" y="410"/>
                      </a:lnTo>
                      <a:lnTo>
                        <a:pt x="130" y="41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676560" y="314964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16" name=""/>
                <p:cNvSpPr/>
                <p:nvPr/>
              </p:nvSpPr>
              <p:spPr>
                <a:xfrm>
                  <a:off x="5740560" y="2592720"/>
                  <a:ext cx="540720" cy="1909800"/>
                </a:xfrm>
                <a:custGeom>
                  <a:avLst/>
                  <a:gdLst/>
                  <a:ahLst/>
                  <a:rect l="l" t="t" r="r" b="b"/>
                  <a:pathLst>
                    <a:path w="511" h="1430">
                      <a:moveTo>
                        <a:pt x="0" y="1430"/>
                      </a:moveTo>
                      <a:lnTo>
                        <a:pt x="0" y="1262"/>
                      </a:lnTo>
                      <a:lnTo>
                        <a:pt x="15" y="1262"/>
                      </a:lnTo>
                      <a:lnTo>
                        <a:pt x="16" y="1261"/>
                      </a:lnTo>
                      <a:lnTo>
                        <a:pt x="17" y="1260"/>
                      </a:lnTo>
                      <a:lnTo>
                        <a:pt x="18" y="1259"/>
                      </a:lnTo>
                      <a:lnTo>
                        <a:pt x="20" y="1259"/>
                      </a:lnTo>
                      <a:lnTo>
                        <a:pt x="22" y="1259"/>
                      </a:lnTo>
                      <a:lnTo>
                        <a:pt x="23" y="1260"/>
                      </a:lnTo>
                      <a:lnTo>
                        <a:pt x="24" y="1261"/>
                      </a:lnTo>
                      <a:lnTo>
                        <a:pt x="24" y="1262"/>
                      </a:lnTo>
                      <a:lnTo>
                        <a:pt x="78" y="1262"/>
                      </a:lnTo>
                      <a:lnTo>
                        <a:pt x="78" y="1261"/>
                      </a:lnTo>
                      <a:lnTo>
                        <a:pt x="79" y="1260"/>
                      </a:lnTo>
                      <a:lnTo>
                        <a:pt x="81" y="1259"/>
                      </a:lnTo>
                      <a:lnTo>
                        <a:pt x="82" y="1259"/>
                      </a:lnTo>
                      <a:lnTo>
                        <a:pt x="84" y="1259"/>
                      </a:lnTo>
                      <a:lnTo>
                        <a:pt x="85" y="1260"/>
                      </a:lnTo>
                      <a:lnTo>
                        <a:pt x="87" y="1261"/>
                      </a:lnTo>
                      <a:lnTo>
                        <a:pt x="87" y="1262"/>
                      </a:lnTo>
                      <a:lnTo>
                        <a:pt x="189" y="1262"/>
                      </a:lnTo>
                      <a:lnTo>
                        <a:pt x="189" y="376"/>
                      </a:lnTo>
                      <a:lnTo>
                        <a:pt x="202" y="376"/>
                      </a:lnTo>
                      <a:lnTo>
                        <a:pt x="202" y="375"/>
                      </a:lnTo>
                      <a:lnTo>
                        <a:pt x="203" y="374"/>
                      </a:lnTo>
                      <a:lnTo>
                        <a:pt x="205" y="373"/>
                      </a:lnTo>
                      <a:lnTo>
                        <a:pt x="207" y="373"/>
                      </a:lnTo>
                      <a:lnTo>
                        <a:pt x="208" y="373"/>
                      </a:lnTo>
                      <a:lnTo>
                        <a:pt x="210" y="374"/>
                      </a:lnTo>
                      <a:lnTo>
                        <a:pt x="211" y="375"/>
                      </a:lnTo>
                      <a:lnTo>
                        <a:pt x="211" y="376"/>
                      </a:lnTo>
                      <a:lnTo>
                        <a:pt x="218" y="376"/>
                      </a:lnTo>
                      <a:lnTo>
                        <a:pt x="218" y="375"/>
                      </a:lnTo>
                      <a:lnTo>
                        <a:pt x="219" y="374"/>
                      </a:lnTo>
                      <a:lnTo>
                        <a:pt x="221" y="373"/>
                      </a:lnTo>
                      <a:lnTo>
                        <a:pt x="222" y="373"/>
                      </a:lnTo>
                      <a:lnTo>
                        <a:pt x="224" y="373"/>
                      </a:lnTo>
                      <a:lnTo>
                        <a:pt x="226" y="374"/>
                      </a:lnTo>
                      <a:lnTo>
                        <a:pt x="227" y="375"/>
                      </a:lnTo>
                      <a:lnTo>
                        <a:pt x="227" y="376"/>
                      </a:lnTo>
                      <a:lnTo>
                        <a:pt x="235" y="376"/>
                      </a:lnTo>
                      <a:lnTo>
                        <a:pt x="236" y="375"/>
                      </a:lnTo>
                      <a:lnTo>
                        <a:pt x="237" y="374"/>
                      </a:lnTo>
                      <a:lnTo>
                        <a:pt x="238" y="372"/>
                      </a:lnTo>
                      <a:lnTo>
                        <a:pt x="240" y="372"/>
                      </a:lnTo>
                      <a:lnTo>
                        <a:pt x="242" y="371"/>
                      </a:lnTo>
                      <a:lnTo>
                        <a:pt x="244" y="372"/>
                      </a:lnTo>
                      <a:lnTo>
                        <a:pt x="246" y="372"/>
                      </a:lnTo>
                      <a:lnTo>
                        <a:pt x="248" y="374"/>
                      </a:lnTo>
                      <a:lnTo>
                        <a:pt x="248" y="375"/>
                      </a:lnTo>
                      <a:lnTo>
                        <a:pt x="249" y="376"/>
                      </a:lnTo>
                      <a:lnTo>
                        <a:pt x="272" y="376"/>
                      </a:lnTo>
                      <a:lnTo>
                        <a:pt x="273" y="375"/>
                      </a:lnTo>
                      <a:lnTo>
                        <a:pt x="274" y="374"/>
                      </a:lnTo>
                      <a:lnTo>
                        <a:pt x="275" y="373"/>
                      </a:lnTo>
                      <a:lnTo>
                        <a:pt x="277" y="373"/>
                      </a:lnTo>
                      <a:lnTo>
                        <a:pt x="279" y="373"/>
                      </a:lnTo>
                      <a:lnTo>
                        <a:pt x="280" y="374"/>
                      </a:lnTo>
                      <a:lnTo>
                        <a:pt x="281" y="375"/>
                      </a:lnTo>
                      <a:lnTo>
                        <a:pt x="281" y="376"/>
                      </a:lnTo>
                      <a:lnTo>
                        <a:pt x="288" y="376"/>
                      </a:lnTo>
                      <a:lnTo>
                        <a:pt x="288" y="375"/>
                      </a:lnTo>
                      <a:lnTo>
                        <a:pt x="289" y="373"/>
                      </a:lnTo>
                      <a:lnTo>
                        <a:pt x="291" y="371"/>
                      </a:lnTo>
                      <a:lnTo>
                        <a:pt x="293" y="370"/>
                      </a:lnTo>
                      <a:lnTo>
                        <a:pt x="296" y="370"/>
                      </a:lnTo>
                      <a:lnTo>
                        <a:pt x="298" y="370"/>
                      </a:lnTo>
                      <a:lnTo>
                        <a:pt x="300" y="370"/>
                      </a:lnTo>
                      <a:lnTo>
                        <a:pt x="303" y="371"/>
                      </a:lnTo>
                      <a:lnTo>
                        <a:pt x="304" y="373"/>
                      </a:lnTo>
                      <a:lnTo>
                        <a:pt x="305" y="375"/>
                      </a:lnTo>
                      <a:lnTo>
                        <a:pt x="306" y="376"/>
                      </a:lnTo>
                      <a:lnTo>
                        <a:pt x="363" y="376"/>
                      </a:lnTo>
                      <a:lnTo>
                        <a:pt x="363" y="375"/>
                      </a:lnTo>
                      <a:lnTo>
                        <a:pt x="364" y="374"/>
                      </a:lnTo>
                      <a:lnTo>
                        <a:pt x="366" y="373"/>
                      </a:lnTo>
                      <a:lnTo>
                        <a:pt x="368" y="373"/>
                      </a:lnTo>
                      <a:lnTo>
                        <a:pt x="369" y="373"/>
                      </a:lnTo>
                      <a:lnTo>
                        <a:pt x="371" y="374"/>
                      </a:lnTo>
                      <a:lnTo>
                        <a:pt x="372" y="375"/>
                      </a:lnTo>
                      <a:lnTo>
                        <a:pt x="372" y="376"/>
                      </a:lnTo>
                      <a:lnTo>
                        <a:pt x="390" y="376"/>
                      </a:lnTo>
                      <a:lnTo>
                        <a:pt x="390" y="375"/>
                      </a:lnTo>
                      <a:lnTo>
                        <a:pt x="391" y="374"/>
                      </a:lnTo>
                      <a:lnTo>
                        <a:pt x="393" y="373"/>
                      </a:lnTo>
                      <a:lnTo>
                        <a:pt x="395" y="373"/>
                      </a:lnTo>
                      <a:lnTo>
                        <a:pt x="396" y="373"/>
                      </a:lnTo>
                      <a:lnTo>
                        <a:pt x="398" y="374"/>
                      </a:lnTo>
                      <a:lnTo>
                        <a:pt x="399" y="375"/>
                      </a:lnTo>
                      <a:lnTo>
                        <a:pt x="399" y="376"/>
                      </a:lnTo>
                      <a:lnTo>
                        <a:pt x="420" y="376"/>
                      </a:lnTo>
                      <a:lnTo>
                        <a:pt x="421" y="375"/>
                      </a:lnTo>
                      <a:lnTo>
                        <a:pt x="422" y="374"/>
                      </a:lnTo>
                      <a:lnTo>
                        <a:pt x="423" y="373"/>
                      </a:lnTo>
                      <a:lnTo>
                        <a:pt x="425" y="373"/>
                      </a:lnTo>
                      <a:lnTo>
                        <a:pt x="427" y="373"/>
                      </a:lnTo>
                      <a:lnTo>
                        <a:pt x="428" y="374"/>
                      </a:lnTo>
                      <a:lnTo>
                        <a:pt x="429" y="375"/>
                      </a:lnTo>
                      <a:lnTo>
                        <a:pt x="429" y="376"/>
                      </a:lnTo>
                      <a:lnTo>
                        <a:pt x="434" y="376"/>
                      </a:lnTo>
                      <a:lnTo>
                        <a:pt x="434" y="375"/>
                      </a:lnTo>
                      <a:lnTo>
                        <a:pt x="435" y="374"/>
                      </a:lnTo>
                      <a:lnTo>
                        <a:pt x="437" y="373"/>
                      </a:lnTo>
                      <a:lnTo>
                        <a:pt x="438" y="373"/>
                      </a:lnTo>
                      <a:lnTo>
                        <a:pt x="440" y="373"/>
                      </a:lnTo>
                      <a:lnTo>
                        <a:pt x="442" y="374"/>
                      </a:lnTo>
                      <a:lnTo>
                        <a:pt x="442" y="375"/>
                      </a:lnTo>
                      <a:lnTo>
                        <a:pt x="443" y="376"/>
                      </a:lnTo>
                      <a:lnTo>
                        <a:pt x="472" y="376"/>
                      </a:lnTo>
                      <a:lnTo>
                        <a:pt x="472" y="6"/>
                      </a:lnTo>
                      <a:lnTo>
                        <a:pt x="491" y="6"/>
                      </a:lnTo>
                      <a:lnTo>
                        <a:pt x="491" y="4"/>
                      </a:lnTo>
                      <a:lnTo>
                        <a:pt x="492" y="2"/>
                      </a:lnTo>
                      <a:lnTo>
                        <a:pt x="493" y="1"/>
                      </a:lnTo>
                      <a:lnTo>
                        <a:pt x="495" y="0"/>
                      </a:lnTo>
                      <a:lnTo>
                        <a:pt x="498" y="0"/>
                      </a:lnTo>
                      <a:lnTo>
                        <a:pt x="500" y="0"/>
                      </a:lnTo>
                      <a:lnTo>
                        <a:pt x="502" y="0"/>
                      </a:lnTo>
                      <a:lnTo>
                        <a:pt x="504" y="1"/>
                      </a:lnTo>
                      <a:lnTo>
                        <a:pt x="505" y="2"/>
                      </a:lnTo>
                      <a:lnTo>
                        <a:pt x="506" y="4"/>
                      </a:lnTo>
                      <a:lnTo>
                        <a:pt x="506" y="6"/>
                      </a:lnTo>
                      <a:lnTo>
                        <a:pt x="511"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734080" y="45018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279480" y="259416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19" name=""/>
                <p:cNvSpPr/>
                <p:nvPr/>
              </p:nvSpPr>
              <p:spPr>
                <a:xfrm>
                  <a:off x="6440400" y="2607480"/>
                  <a:ext cx="102240" cy="1419840"/>
                </a:xfrm>
                <a:custGeom>
                  <a:avLst/>
                  <a:gdLst/>
                  <a:ahLst/>
                  <a:rect l="l" t="t" r="r" b="b"/>
                  <a:pathLst>
                    <a:path w="97" h="1063">
                      <a:moveTo>
                        <a:pt x="97" y="1063"/>
                      </a:moveTo>
                      <a:lnTo>
                        <a:pt x="77" y="1063"/>
                      </a:lnTo>
                      <a:lnTo>
                        <a:pt x="77" y="1062"/>
                      </a:lnTo>
                      <a:lnTo>
                        <a:pt x="76" y="1060"/>
                      </a:lnTo>
                      <a:lnTo>
                        <a:pt x="75" y="1060"/>
                      </a:lnTo>
                      <a:lnTo>
                        <a:pt x="73" y="1059"/>
                      </a:lnTo>
                      <a:lnTo>
                        <a:pt x="71" y="1060"/>
                      </a:lnTo>
                      <a:lnTo>
                        <a:pt x="70" y="1060"/>
                      </a:lnTo>
                      <a:lnTo>
                        <a:pt x="69" y="1062"/>
                      </a:lnTo>
                      <a:lnTo>
                        <a:pt x="68" y="1063"/>
                      </a:lnTo>
                      <a:lnTo>
                        <a:pt x="66" y="1063"/>
                      </a:lnTo>
                      <a:lnTo>
                        <a:pt x="65" y="1062"/>
                      </a:lnTo>
                      <a:lnTo>
                        <a:pt x="64" y="1060"/>
                      </a:lnTo>
                      <a:lnTo>
                        <a:pt x="63" y="1060"/>
                      </a:lnTo>
                      <a:lnTo>
                        <a:pt x="61" y="1059"/>
                      </a:lnTo>
                      <a:lnTo>
                        <a:pt x="59" y="1060"/>
                      </a:lnTo>
                      <a:lnTo>
                        <a:pt x="58" y="1060"/>
                      </a:lnTo>
                      <a:lnTo>
                        <a:pt x="57" y="1062"/>
                      </a:lnTo>
                      <a:lnTo>
                        <a:pt x="57" y="1063"/>
                      </a:lnTo>
                      <a:lnTo>
                        <a:pt x="33" y="1063"/>
                      </a:lnTo>
                      <a:lnTo>
                        <a:pt x="33" y="1062"/>
                      </a:lnTo>
                      <a:lnTo>
                        <a:pt x="32" y="1060"/>
                      </a:lnTo>
                      <a:lnTo>
                        <a:pt x="31" y="1060"/>
                      </a:lnTo>
                      <a:lnTo>
                        <a:pt x="29" y="1059"/>
                      </a:lnTo>
                      <a:lnTo>
                        <a:pt x="27" y="1060"/>
                      </a:lnTo>
                      <a:lnTo>
                        <a:pt x="26" y="1060"/>
                      </a:lnTo>
                      <a:lnTo>
                        <a:pt x="25" y="1062"/>
                      </a:lnTo>
                      <a:lnTo>
                        <a:pt x="24" y="1063"/>
                      </a:lnTo>
                      <a:lnTo>
                        <a:pt x="0" y="1063"/>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6540840" y="4020480"/>
                  <a:ext cx="13680" cy="11880"/>
                </a:xfrm>
                <a:custGeom>
                  <a:avLst/>
                  <a:gdLst/>
                  <a:ahLst/>
                  <a:rect l="l" t="t" r="r" b="b"/>
                  <a:pathLst>
                    <a:path w="13" h="9">
                      <a:moveTo>
                        <a:pt x="2" y="0"/>
                      </a:moveTo>
                      <a:lnTo>
                        <a:pt x="13" y="5"/>
                      </a:lnTo>
                      <a:lnTo>
                        <a:pt x="2" y="9"/>
                      </a:lnTo>
                      <a:lnTo>
                        <a:pt x="0" y="7"/>
                      </a:lnTo>
                      <a:lnTo>
                        <a:pt x="0" y="5"/>
                      </a:lnTo>
                      <a:lnTo>
                        <a:pt x="0" y="3"/>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21" name=""/>
                <p:cNvSpPr/>
                <p:nvPr/>
              </p:nvSpPr>
              <p:spPr>
                <a:xfrm>
                  <a:off x="4417560" y="3695040"/>
                  <a:ext cx="110880" cy="1670760"/>
                </a:xfrm>
                <a:custGeom>
                  <a:avLst/>
                  <a:gdLst/>
                  <a:ahLst/>
                  <a:rect l="l" t="t" r="r" b="b"/>
                  <a:pathLst>
                    <a:path w="105" h="1251">
                      <a:moveTo>
                        <a:pt x="105" y="1251"/>
                      </a:moveTo>
                      <a:lnTo>
                        <a:pt x="105" y="195"/>
                      </a:lnTo>
                      <a:lnTo>
                        <a:pt x="0" y="195"/>
                      </a:lnTo>
                      <a:lnTo>
                        <a:pt x="0" y="6"/>
                      </a:lnTo>
                      <a:lnTo>
                        <a:pt x="4" y="6"/>
                      </a:lnTo>
                      <a:lnTo>
                        <a:pt x="4"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521960" y="5364720"/>
                  <a:ext cx="12600" cy="13320"/>
                </a:xfrm>
                <a:custGeom>
                  <a:avLst/>
                  <a:gdLst/>
                  <a:ahLst/>
                  <a:rect l="l" t="t" r="r" b="b"/>
                  <a:pathLst>
                    <a:path w="12" h="10">
                      <a:moveTo>
                        <a:pt x="12" y="1"/>
                      </a:moveTo>
                      <a:lnTo>
                        <a:pt x="6" y="10"/>
                      </a:lnTo>
                      <a:lnTo>
                        <a:pt x="0" y="1"/>
                      </a:lnTo>
                      <a:lnTo>
                        <a:pt x="3" y="0"/>
                      </a:lnTo>
                      <a:lnTo>
                        <a:pt x="6" y="0"/>
                      </a:lnTo>
                      <a:lnTo>
                        <a:pt x="8"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3" name=""/>
                <p:cNvSpPr/>
                <p:nvPr/>
              </p:nvSpPr>
              <p:spPr>
                <a:xfrm>
                  <a:off x="4415400" y="36828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4" name=""/>
                <p:cNvSpPr/>
                <p:nvPr/>
              </p:nvSpPr>
              <p:spPr>
                <a:xfrm>
                  <a:off x="4388760" y="3254040"/>
                  <a:ext cx="1152720" cy="1334520"/>
                </a:xfrm>
                <a:custGeom>
                  <a:avLst/>
                  <a:gdLst/>
                  <a:ahLst/>
                  <a:rect l="l" t="t" r="r" b="b"/>
                  <a:pathLst>
                    <a:path w="1089" h="999">
                      <a:moveTo>
                        <a:pt x="1089" y="999"/>
                      </a:moveTo>
                      <a:lnTo>
                        <a:pt x="1063" y="999"/>
                      </a:lnTo>
                      <a:lnTo>
                        <a:pt x="1063" y="998"/>
                      </a:lnTo>
                      <a:lnTo>
                        <a:pt x="1062" y="997"/>
                      </a:lnTo>
                      <a:lnTo>
                        <a:pt x="1060" y="996"/>
                      </a:lnTo>
                      <a:lnTo>
                        <a:pt x="1058" y="996"/>
                      </a:lnTo>
                      <a:lnTo>
                        <a:pt x="1057" y="996"/>
                      </a:lnTo>
                      <a:lnTo>
                        <a:pt x="1055" y="997"/>
                      </a:lnTo>
                      <a:lnTo>
                        <a:pt x="1054" y="998"/>
                      </a:lnTo>
                      <a:lnTo>
                        <a:pt x="1054" y="999"/>
                      </a:lnTo>
                      <a:lnTo>
                        <a:pt x="1015" y="999"/>
                      </a:lnTo>
                      <a:lnTo>
                        <a:pt x="1014" y="997"/>
                      </a:lnTo>
                      <a:lnTo>
                        <a:pt x="1013" y="996"/>
                      </a:lnTo>
                      <a:lnTo>
                        <a:pt x="1012" y="994"/>
                      </a:lnTo>
                      <a:lnTo>
                        <a:pt x="1009" y="993"/>
                      </a:lnTo>
                      <a:lnTo>
                        <a:pt x="1007" y="992"/>
                      </a:lnTo>
                      <a:lnTo>
                        <a:pt x="1005" y="992"/>
                      </a:lnTo>
                      <a:lnTo>
                        <a:pt x="1002" y="993"/>
                      </a:lnTo>
                      <a:lnTo>
                        <a:pt x="1000" y="994"/>
                      </a:lnTo>
                      <a:lnTo>
                        <a:pt x="999" y="996"/>
                      </a:lnTo>
                      <a:lnTo>
                        <a:pt x="998" y="997"/>
                      </a:lnTo>
                      <a:lnTo>
                        <a:pt x="997" y="999"/>
                      </a:lnTo>
                      <a:lnTo>
                        <a:pt x="986" y="999"/>
                      </a:lnTo>
                      <a:lnTo>
                        <a:pt x="986" y="998"/>
                      </a:lnTo>
                      <a:lnTo>
                        <a:pt x="985" y="997"/>
                      </a:lnTo>
                      <a:lnTo>
                        <a:pt x="983" y="996"/>
                      </a:lnTo>
                      <a:lnTo>
                        <a:pt x="981" y="996"/>
                      </a:lnTo>
                      <a:lnTo>
                        <a:pt x="980" y="996"/>
                      </a:lnTo>
                      <a:lnTo>
                        <a:pt x="978" y="997"/>
                      </a:lnTo>
                      <a:lnTo>
                        <a:pt x="977" y="998"/>
                      </a:lnTo>
                      <a:lnTo>
                        <a:pt x="977" y="999"/>
                      </a:lnTo>
                      <a:lnTo>
                        <a:pt x="943" y="999"/>
                      </a:lnTo>
                      <a:lnTo>
                        <a:pt x="943" y="998"/>
                      </a:lnTo>
                      <a:lnTo>
                        <a:pt x="942" y="997"/>
                      </a:lnTo>
                      <a:lnTo>
                        <a:pt x="940" y="996"/>
                      </a:lnTo>
                      <a:lnTo>
                        <a:pt x="939" y="996"/>
                      </a:lnTo>
                      <a:lnTo>
                        <a:pt x="937" y="996"/>
                      </a:lnTo>
                      <a:lnTo>
                        <a:pt x="935" y="997"/>
                      </a:lnTo>
                      <a:lnTo>
                        <a:pt x="935" y="998"/>
                      </a:lnTo>
                      <a:lnTo>
                        <a:pt x="934" y="999"/>
                      </a:lnTo>
                      <a:lnTo>
                        <a:pt x="930" y="999"/>
                      </a:lnTo>
                      <a:lnTo>
                        <a:pt x="929" y="997"/>
                      </a:lnTo>
                      <a:lnTo>
                        <a:pt x="928" y="996"/>
                      </a:lnTo>
                      <a:lnTo>
                        <a:pt x="927" y="995"/>
                      </a:lnTo>
                      <a:lnTo>
                        <a:pt x="925" y="994"/>
                      </a:lnTo>
                      <a:lnTo>
                        <a:pt x="923" y="993"/>
                      </a:lnTo>
                      <a:lnTo>
                        <a:pt x="921" y="993"/>
                      </a:lnTo>
                      <a:lnTo>
                        <a:pt x="919" y="994"/>
                      </a:lnTo>
                      <a:lnTo>
                        <a:pt x="917" y="995"/>
                      </a:lnTo>
                      <a:lnTo>
                        <a:pt x="915" y="996"/>
                      </a:lnTo>
                      <a:lnTo>
                        <a:pt x="914" y="997"/>
                      </a:lnTo>
                      <a:lnTo>
                        <a:pt x="914" y="999"/>
                      </a:lnTo>
                      <a:lnTo>
                        <a:pt x="889" y="999"/>
                      </a:lnTo>
                      <a:lnTo>
                        <a:pt x="889" y="997"/>
                      </a:lnTo>
                      <a:lnTo>
                        <a:pt x="888" y="996"/>
                      </a:lnTo>
                      <a:lnTo>
                        <a:pt x="886" y="995"/>
                      </a:lnTo>
                      <a:lnTo>
                        <a:pt x="885" y="994"/>
                      </a:lnTo>
                      <a:lnTo>
                        <a:pt x="883" y="993"/>
                      </a:lnTo>
                      <a:lnTo>
                        <a:pt x="881" y="993"/>
                      </a:lnTo>
                      <a:lnTo>
                        <a:pt x="879" y="994"/>
                      </a:lnTo>
                      <a:lnTo>
                        <a:pt x="877" y="995"/>
                      </a:lnTo>
                      <a:lnTo>
                        <a:pt x="875" y="996"/>
                      </a:lnTo>
                      <a:lnTo>
                        <a:pt x="875" y="997"/>
                      </a:lnTo>
                      <a:lnTo>
                        <a:pt x="874" y="999"/>
                      </a:lnTo>
                      <a:lnTo>
                        <a:pt x="812" y="999"/>
                      </a:lnTo>
                      <a:lnTo>
                        <a:pt x="812" y="998"/>
                      </a:lnTo>
                      <a:lnTo>
                        <a:pt x="811" y="997"/>
                      </a:lnTo>
                      <a:lnTo>
                        <a:pt x="809" y="996"/>
                      </a:lnTo>
                      <a:lnTo>
                        <a:pt x="808" y="996"/>
                      </a:lnTo>
                      <a:lnTo>
                        <a:pt x="806" y="996"/>
                      </a:lnTo>
                      <a:lnTo>
                        <a:pt x="804" y="997"/>
                      </a:lnTo>
                      <a:lnTo>
                        <a:pt x="803" y="998"/>
                      </a:lnTo>
                      <a:lnTo>
                        <a:pt x="803" y="999"/>
                      </a:lnTo>
                      <a:lnTo>
                        <a:pt x="772" y="999"/>
                      </a:lnTo>
                      <a:lnTo>
                        <a:pt x="772" y="998"/>
                      </a:lnTo>
                      <a:lnTo>
                        <a:pt x="771" y="997"/>
                      </a:lnTo>
                      <a:lnTo>
                        <a:pt x="769" y="996"/>
                      </a:lnTo>
                      <a:lnTo>
                        <a:pt x="768" y="996"/>
                      </a:lnTo>
                      <a:lnTo>
                        <a:pt x="766" y="996"/>
                      </a:lnTo>
                      <a:lnTo>
                        <a:pt x="765" y="997"/>
                      </a:lnTo>
                      <a:lnTo>
                        <a:pt x="764" y="998"/>
                      </a:lnTo>
                      <a:lnTo>
                        <a:pt x="763" y="999"/>
                      </a:lnTo>
                      <a:lnTo>
                        <a:pt x="754" y="999"/>
                      </a:lnTo>
                      <a:lnTo>
                        <a:pt x="754" y="998"/>
                      </a:lnTo>
                      <a:lnTo>
                        <a:pt x="753" y="997"/>
                      </a:lnTo>
                      <a:lnTo>
                        <a:pt x="751" y="996"/>
                      </a:lnTo>
                      <a:lnTo>
                        <a:pt x="750" y="996"/>
                      </a:lnTo>
                      <a:lnTo>
                        <a:pt x="748" y="996"/>
                      </a:lnTo>
                      <a:lnTo>
                        <a:pt x="746" y="997"/>
                      </a:lnTo>
                      <a:lnTo>
                        <a:pt x="745" y="998"/>
                      </a:lnTo>
                      <a:lnTo>
                        <a:pt x="745" y="999"/>
                      </a:lnTo>
                      <a:lnTo>
                        <a:pt x="692" y="999"/>
                      </a:lnTo>
                      <a:lnTo>
                        <a:pt x="692" y="998"/>
                      </a:lnTo>
                      <a:lnTo>
                        <a:pt x="691" y="997"/>
                      </a:lnTo>
                      <a:lnTo>
                        <a:pt x="690" y="996"/>
                      </a:lnTo>
                      <a:lnTo>
                        <a:pt x="688" y="996"/>
                      </a:lnTo>
                      <a:lnTo>
                        <a:pt x="686" y="996"/>
                      </a:lnTo>
                      <a:lnTo>
                        <a:pt x="685" y="997"/>
                      </a:lnTo>
                      <a:lnTo>
                        <a:pt x="684" y="998"/>
                      </a:lnTo>
                      <a:lnTo>
                        <a:pt x="683" y="999"/>
                      </a:lnTo>
                      <a:lnTo>
                        <a:pt x="652" y="999"/>
                      </a:lnTo>
                      <a:lnTo>
                        <a:pt x="652" y="998"/>
                      </a:lnTo>
                      <a:lnTo>
                        <a:pt x="651" y="997"/>
                      </a:lnTo>
                      <a:lnTo>
                        <a:pt x="650" y="996"/>
                      </a:lnTo>
                      <a:lnTo>
                        <a:pt x="648" y="996"/>
                      </a:lnTo>
                      <a:lnTo>
                        <a:pt x="646" y="996"/>
                      </a:lnTo>
                      <a:lnTo>
                        <a:pt x="645" y="997"/>
                      </a:lnTo>
                      <a:lnTo>
                        <a:pt x="644" y="998"/>
                      </a:lnTo>
                      <a:lnTo>
                        <a:pt x="643" y="999"/>
                      </a:lnTo>
                      <a:lnTo>
                        <a:pt x="612" y="999"/>
                      </a:lnTo>
                      <a:lnTo>
                        <a:pt x="612" y="998"/>
                      </a:lnTo>
                      <a:lnTo>
                        <a:pt x="611" y="997"/>
                      </a:lnTo>
                      <a:lnTo>
                        <a:pt x="610" y="996"/>
                      </a:lnTo>
                      <a:lnTo>
                        <a:pt x="608" y="996"/>
                      </a:lnTo>
                      <a:lnTo>
                        <a:pt x="606" y="996"/>
                      </a:lnTo>
                      <a:lnTo>
                        <a:pt x="605" y="997"/>
                      </a:lnTo>
                      <a:lnTo>
                        <a:pt x="604" y="998"/>
                      </a:lnTo>
                      <a:lnTo>
                        <a:pt x="603" y="999"/>
                      </a:lnTo>
                      <a:lnTo>
                        <a:pt x="409" y="999"/>
                      </a:lnTo>
                      <a:lnTo>
                        <a:pt x="409" y="998"/>
                      </a:lnTo>
                      <a:lnTo>
                        <a:pt x="408" y="997"/>
                      </a:lnTo>
                      <a:lnTo>
                        <a:pt x="406" y="996"/>
                      </a:lnTo>
                      <a:lnTo>
                        <a:pt x="405" y="996"/>
                      </a:lnTo>
                      <a:lnTo>
                        <a:pt x="403" y="996"/>
                      </a:lnTo>
                      <a:lnTo>
                        <a:pt x="401" y="997"/>
                      </a:lnTo>
                      <a:lnTo>
                        <a:pt x="400" y="998"/>
                      </a:lnTo>
                      <a:lnTo>
                        <a:pt x="400" y="999"/>
                      </a:lnTo>
                      <a:lnTo>
                        <a:pt x="364" y="999"/>
                      </a:lnTo>
                      <a:lnTo>
                        <a:pt x="364" y="998"/>
                      </a:lnTo>
                      <a:lnTo>
                        <a:pt x="363" y="997"/>
                      </a:lnTo>
                      <a:lnTo>
                        <a:pt x="361" y="996"/>
                      </a:lnTo>
                      <a:lnTo>
                        <a:pt x="360" y="996"/>
                      </a:lnTo>
                      <a:lnTo>
                        <a:pt x="358" y="996"/>
                      </a:lnTo>
                      <a:lnTo>
                        <a:pt x="357" y="997"/>
                      </a:lnTo>
                      <a:lnTo>
                        <a:pt x="355" y="998"/>
                      </a:lnTo>
                      <a:lnTo>
                        <a:pt x="355" y="999"/>
                      </a:lnTo>
                      <a:lnTo>
                        <a:pt x="268" y="999"/>
                      </a:lnTo>
                      <a:lnTo>
                        <a:pt x="267" y="997"/>
                      </a:lnTo>
                      <a:lnTo>
                        <a:pt x="266" y="996"/>
                      </a:lnTo>
                      <a:lnTo>
                        <a:pt x="265" y="995"/>
                      </a:lnTo>
                      <a:lnTo>
                        <a:pt x="263" y="994"/>
                      </a:lnTo>
                      <a:lnTo>
                        <a:pt x="261" y="993"/>
                      </a:lnTo>
                      <a:lnTo>
                        <a:pt x="259" y="993"/>
                      </a:lnTo>
                      <a:lnTo>
                        <a:pt x="257" y="994"/>
                      </a:lnTo>
                      <a:lnTo>
                        <a:pt x="255" y="995"/>
                      </a:lnTo>
                      <a:lnTo>
                        <a:pt x="253" y="996"/>
                      </a:lnTo>
                      <a:lnTo>
                        <a:pt x="252" y="997"/>
                      </a:lnTo>
                      <a:lnTo>
                        <a:pt x="252" y="999"/>
                      </a:lnTo>
                      <a:lnTo>
                        <a:pt x="210" y="999"/>
                      </a:lnTo>
                      <a:lnTo>
                        <a:pt x="210" y="998"/>
                      </a:lnTo>
                      <a:lnTo>
                        <a:pt x="209" y="997"/>
                      </a:lnTo>
                      <a:lnTo>
                        <a:pt x="208" y="996"/>
                      </a:lnTo>
                      <a:lnTo>
                        <a:pt x="206" y="996"/>
                      </a:lnTo>
                      <a:lnTo>
                        <a:pt x="204" y="996"/>
                      </a:lnTo>
                      <a:lnTo>
                        <a:pt x="203" y="997"/>
                      </a:lnTo>
                      <a:lnTo>
                        <a:pt x="202" y="998"/>
                      </a:lnTo>
                      <a:lnTo>
                        <a:pt x="201" y="999"/>
                      </a:lnTo>
                      <a:lnTo>
                        <a:pt x="136" y="999"/>
                      </a:lnTo>
                      <a:lnTo>
                        <a:pt x="136" y="998"/>
                      </a:lnTo>
                      <a:lnTo>
                        <a:pt x="135" y="997"/>
                      </a:lnTo>
                      <a:lnTo>
                        <a:pt x="133" y="996"/>
                      </a:lnTo>
                      <a:lnTo>
                        <a:pt x="132" y="996"/>
                      </a:lnTo>
                      <a:lnTo>
                        <a:pt x="130" y="996"/>
                      </a:lnTo>
                      <a:lnTo>
                        <a:pt x="128" y="997"/>
                      </a:lnTo>
                      <a:lnTo>
                        <a:pt x="127" y="998"/>
                      </a:lnTo>
                      <a:lnTo>
                        <a:pt x="127" y="999"/>
                      </a:lnTo>
                      <a:lnTo>
                        <a:pt x="75" y="999"/>
                      </a:lnTo>
                      <a:lnTo>
                        <a:pt x="75" y="998"/>
                      </a:lnTo>
                      <a:lnTo>
                        <a:pt x="74" y="997"/>
                      </a:lnTo>
                      <a:lnTo>
                        <a:pt x="72" y="996"/>
                      </a:lnTo>
                      <a:lnTo>
                        <a:pt x="71" y="996"/>
                      </a:lnTo>
                      <a:lnTo>
                        <a:pt x="69" y="996"/>
                      </a:lnTo>
                      <a:lnTo>
                        <a:pt x="68" y="997"/>
                      </a:lnTo>
                      <a:lnTo>
                        <a:pt x="67" y="998"/>
                      </a:lnTo>
                      <a:lnTo>
                        <a:pt x="66" y="999"/>
                      </a:lnTo>
                      <a:lnTo>
                        <a:pt x="0" y="999"/>
                      </a:lnTo>
                      <a:lnTo>
                        <a:pt x="0" y="57"/>
                      </a:lnTo>
                      <a:lnTo>
                        <a:pt x="50" y="57"/>
                      </a:lnTo>
                      <a:lnTo>
                        <a:pt x="5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539320" y="458316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26" name=""/>
                <p:cNvSpPr/>
                <p:nvPr/>
              </p:nvSpPr>
              <p:spPr>
                <a:xfrm>
                  <a:off x="4435560" y="3240720"/>
                  <a:ext cx="1224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27" name=""/>
                <p:cNvSpPr/>
                <p:nvPr/>
              </p:nvSpPr>
              <p:spPr>
                <a:xfrm>
                  <a:off x="5708880" y="4130280"/>
                  <a:ext cx="1935000" cy="384480"/>
                </a:xfrm>
                <a:custGeom>
                  <a:avLst/>
                  <a:gdLst/>
                  <a:ahLst/>
                  <a:rect l="l" t="t" r="r" b="b"/>
                  <a:pathLst>
                    <a:path w="1828" h="288">
                      <a:moveTo>
                        <a:pt x="0" y="288"/>
                      </a:moveTo>
                      <a:lnTo>
                        <a:pt x="0" y="149"/>
                      </a:lnTo>
                      <a:lnTo>
                        <a:pt x="25" y="149"/>
                      </a:lnTo>
                      <a:lnTo>
                        <a:pt x="26" y="147"/>
                      </a:lnTo>
                      <a:lnTo>
                        <a:pt x="27" y="146"/>
                      </a:lnTo>
                      <a:lnTo>
                        <a:pt x="28" y="145"/>
                      </a:lnTo>
                      <a:lnTo>
                        <a:pt x="30" y="145"/>
                      </a:lnTo>
                      <a:lnTo>
                        <a:pt x="32" y="145"/>
                      </a:lnTo>
                      <a:lnTo>
                        <a:pt x="33" y="146"/>
                      </a:lnTo>
                      <a:lnTo>
                        <a:pt x="34" y="147"/>
                      </a:lnTo>
                      <a:lnTo>
                        <a:pt x="34" y="149"/>
                      </a:lnTo>
                      <a:lnTo>
                        <a:pt x="45" y="149"/>
                      </a:lnTo>
                      <a:lnTo>
                        <a:pt x="46" y="147"/>
                      </a:lnTo>
                      <a:lnTo>
                        <a:pt x="47" y="146"/>
                      </a:lnTo>
                      <a:lnTo>
                        <a:pt x="48" y="145"/>
                      </a:lnTo>
                      <a:lnTo>
                        <a:pt x="50" y="145"/>
                      </a:lnTo>
                      <a:lnTo>
                        <a:pt x="52" y="145"/>
                      </a:lnTo>
                      <a:lnTo>
                        <a:pt x="53" y="146"/>
                      </a:lnTo>
                      <a:lnTo>
                        <a:pt x="54" y="147"/>
                      </a:lnTo>
                      <a:lnTo>
                        <a:pt x="54" y="149"/>
                      </a:lnTo>
                      <a:lnTo>
                        <a:pt x="108" y="149"/>
                      </a:lnTo>
                      <a:lnTo>
                        <a:pt x="108" y="147"/>
                      </a:lnTo>
                      <a:lnTo>
                        <a:pt x="109" y="146"/>
                      </a:lnTo>
                      <a:lnTo>
                        <a:pt x="111" y="145"/>
                      </a:lnTo>
                      <a:lnTo>
                        <a:pt x="112" y="145"/>
                      </a:lnTo>
                      <a:lnTo>
                        <a:pt x="114" y="145"/>
                      </a:lnTo>
                      <a:lnTo>
                        <a:pt x="115" y="146"/>
                      </a:lnTo>
                      <a:lnTo>
                        <a:pt x="117" y="147"/>
                      </a:lnTo>
                      <a:lnTo>
                        <a:pt x="117" y="149"/>
                      </a:lnTo>
                      <a:lnTo>
                        <a:pt x="180" y="149"/>
                      </a:lnTo>
                      <a:lnTo>
                        <a:pt x="181" y="147"/>
                      </a:lnTo>
                      <a:lnTo>
                        <a:pt x="182" y="146"/>
                      </a:lnTo>
                      <a:lnTo>
                        <a:pt x="183" y="145"/>
                      </a:lnTo>
                      <a:lnTo>
                        <a:pt x="185" y="145"/>
                      </a:lnTo>
                      <a:lnTo>
                        <a:pt x="186" y="145"/>
                      </a:lnTo>
                      <a:lnTo>
                        <a:pt x="188" y="146"/>
                      </a:lnTo>
                      <a:lnTo>
                        <a:pt x="189" y="147"/>
                      </a:lnTo>
                      <a:lnTo>
                        <a:pt x="189" y="149"/>
                      </a:lnTo>
                      <a:lnTo>
                        <a:pt x="232" y="149"/>
                      </a:lnTo>
                      <a:lnTo>
                        <a:pt x="232" y="147"/>
                      </a:lnTo>
                      <a:lnTo>
                        <a:pt x="233" y="146"/>
                      </a:lnTo>
                      <a:lnTo>
                        <a:pt x="235" y="145"/>
                      </a:lnTo>
                      <a:lnTo>
                        <a:pt x="237" y="145"/>
                      </a:lnTo>
                      <a:lnTo>
                        <a:pt x="238" y="145"/>
                      </a:lnTo>
                      <a:lnTo>
                        <a:pt x="240" y="146"/>
                      </a:lnTo>
                      <a:lnTo>
                        <a:pt x="241" y="147"/>
                      </a:lnTo>
                      <a:lnTo>
                        <a:pt x="241" y="149"/>
                      </a:lnTo>
                      <a:lnTo>
                        <a:pt x="255" y="149"/>
                      </a:lnTo>
                      <a:lnTo>
                        <a:pt x="255" y="147"/>
                      </a:lnTo>
                      <a:lnTo>
                        <a:pt x="256" y="146"/>
                      </a:lnTo>
                      <a:lnTo>
                        <a:pt x="257" y="145"/>
                      </a:lnTo>
                      <a:lnTo>
                        <a:pt x="259" y="145"/>
                      </a:lnTo>
                      <a:lnTo>
                        <a:pt x="261" y="145"/>
                      </a:lnTo>
                      <a:lnTo>
                        <a:pt x="262" y="146"/>
                      </a:lnTo>
                      <a:lnTo>
                        <a:pt x="263" y="147"/>
                      </a:lnTo>
                      <a:lnTo>
                        <a:pt x="264" y="149"/>
                      </a:lnTo>
                      <a:lnTo>
                        <a:pt x="318" y="149"/>
                      </a:lnTo>
                      <a:lnTo>
                        <a:pt x="318" y="147"/>
                      </a:lnTo>
                      <a:lnTo>
                        <a:pt x="319" y="146"/>
                      </a:lnTo>
                      <a:lnTo>
                        <a:pt x="321" y="145"/>
                      </a:lnTo>
                      <a:lnTo>
                        <a:pt x="322" y="145"/>
                      </a:lnTo>
                      <a:lnTo>
                        <a:pt x="324" y="145"/>
                      </a:lnTo>
                      <a:lnTo>
                        <a:pt x="326" y="146"/>
                      </a:lnTo>
                      <a:lnTo>
                        <a:pt x="327" y="147"/>
                      </a:lnTo>
                      <a:lnTo>
                        <a:pt x="327" y="149"/>
                      </a:lnTo>
                      <a:lnTo>
                        <a:pt x="419" y="149"/>
                      </a:lnTo>
                      <a:lnTo>
                        <a:pt x="419" y="147"/>
                      </a:lnTo>
                      <a:lnTo>
                        <a:pt x="420" y="146"/>
                      </a:lnTo>
                      <a:lnTo>
                        <a:pt x="422" y="145"/>
                      </a:lnTo>
                      <a:lnTo>
                        <a:pt x="423" y="145"/>
                      </a:lnTo>
                      <a:lnTo>
                        <a:pt x="425" y="145"/>
                      </a:lnTo>
                      <a:lnTo>
                        <a:pt x="426" y="146"/>
                      </a:lnTo>
                      <a:lnTo>
                        <a:pt x="427" y="147"/>
                      </a:lnTo>
                      <a:lnTo>
                        <a:pt x="428" y="149"/>
                      </a:lnTo>
                      <a:lnTo>
                        <a:pt x="593" y="149"/>
                      </a:lnTo>
                      <a:lnTo>
                        <a:pt x="594" y="147"/>
                      </a:lnTo>
                      <a:lnTo>
                        <a:pt x="594" y="146"/>
                      </a:lnTo>
                      <a:lnTo>
                        <a:pt x="596" y="145"/>
                      </a:lnTo>
                      <a:lnTo>
                        <a:pt x="598" y="145"/>
                      </a:lnTo>
                      <a:lnTo>
                        <a:pt x="599" y="145"/>
                      </a:lnTo>
                      <a:lnTo>
                        <a:pt x="601" y="146"/>
                      </a:lnTo>
                      <a:lnTo>
                        <a:pt x="602" y="147"/>
                      </a:lnTo>
                      <a:lnTo>
                        <a:pt x="602" y="149"/>
                      </a:lnTo>
                      <a:lnTo>
                        <a:pt x="710" y="149"/>
                      </a:lnTo>
                      <a:lnTo>
                        <a:pt x="711" y="147"/>
                      </a:lnTo>
                      <a:lnTo>
                        <a:pt x="712" y="146"/>
                      </a:lnTo>
                      <a:lnTo>
                        <a:pt x="713" y="145"/>
                      </a:lnTo>
                      <a:lnTo>
                        <a:pt x="715" y="145"/>
                      </a:lnTo>
                      <a:lnTo>
                        <a:pt x="717" y="145"/>
                      </a:lnTo>
                      <a:lnTo>
                        <a:pt x="718" y="146"/>
                      </a:lnTo>
                      <a:lnTo>
                        <a:pt x="719" y="147"/>
                      </a:lnTo>
                      <a:lnTo>
                        <a:pt x="719" y="149"/>
                      </a:lnTo>
                      <a:lnTo>
                        <a:pt x="748" y="149"/>
                      </a:lnTo>
                      <a:lnTo>
                        <a:pt x="748" y="147"/>
                      </a:lnTo>
                      <a:lnTo>
                        <a:pt x="749" y="146"/>
                      </a:lnTo>
                      <a:lnTo>
                        <a:pt x="750" y="145"/>
                      </a:lnTo>
                      <a:lnTo>
                        <a:pt x="752" y="145"/>
                      </a:lnTo>
                      <a:lnTo>
                        <a:pt x="754" y="145"/>
                      </a:lnTo>
                      <a:lnTo>
                        <a:pt x="755" y="146"/>
                      </a:lnTo>
                      <a:lnTo>
                        <a:pt x="756" y="147"/>
                      </a:lnTo>
                      <a:lnTo>
                        <a:pt x="757" y="149"/>
                      </a:lnTo>
                      <a:lnTo>
                        <a:pt x="805" y="149"/>
                      </a:lnTo>
                      <a:lnTo>
                        <a:pt x="805" y="147"/>
                      </a:lnTo>
                      <a:lnTo>
                        <a:pt x="806" y="146"/>
                      </a:lnTo>
                      <a:lnTo>
                        <a:pt x="808" y="145"/>
                      </a:lnTo>
                      <a:lnTo>
                        <a:pt x="809" y="145"/>
                      </a:lnTo>
                      <a:lnTo>
                        <a:pt x="811" y="145"/>
                      </a:lnTo>
                      <a:lnTo>
                        <a:pt x="813" y="146"/>
                      </a:lnTo>
                      <a:lnTo>
                        <a:pt x="814" y="147"/>
                      </a:lnTo>
                      <a:lnTo>
                        <a:pt x="814" y="149"/>
                      </a:lnTo>
                      <a:lnTo>
                        <a:pt x="968" y="149"/>
                      </a:lnTo>
                      <a:lnTo>
                        <a:pt x="969" y="147"/>
                      </a:lnTo>
                      <a:lnTo>
                        <a:pt x="969" y="146"/>
                      </a:lnTo>
                      <a:lnTo>
                        <a:pt x="971" y="145"/>
                      </a:lnTo>
                      <a:lnTo>
                        <a:pt x="973" y="145"/>
                      </a:lnTo>
                      <a:lnTo>
                        <a:pt x="974" y="145"/>
                      </a:lnTo>
                      <a:lnTo>
                        <a:pt x="976" y="146"/>
                      </a:lnTo>
                      <a:lnTo>
                        <a:pt x="977" y="147"/>
                      </a:lnTo>
                      <a:lnTo>
                        <a:pt x="977" y="149"/>
                      </a:lnTo>
                      <a:lnTo>
                        <a:pt x="1016" y="149"/>
                      </a:lnTo>
                      <a:lnTo>
                        <a:pt x="1016" y="199"/>
                      </a:lnTo>
                      <a:lnTo>
                        <a:pt x="1219" y="199"/>
                      </a:lnTo>
                      <a:lnTo>
                        <a:pt x="1219" y="197"/>
                      </a:lnTo>
                      <a:lnTo>
                        <a:pt x="1220" y="196"/>
                      </a:lnTo>
                      <a:lnTo>
                        <a:pt x="1221" y="196"/>
                      </a:lnTo>
                      <a:lnTo>
                        <a:pt x="1223" y="195"/>
                      </a:lnTo>
                      <a:lnTo>
                        <a:pt x="1225" y="196"/>
                      </a:lnTo>
                      <a:lnTo>
                        <a:pt x="1226" y="196"/>
                      </a:lnTo>
                      <a:lnTo>
                        <a:pt x="1227" y="197"/>
                      </a:lnTo>
                      <a:lnTo>
                        <a:pt x="1228" y="199"/>
                      </a:lnTo>
                      <a:lnTo>
                        <a:pt x="1281" y="199"/>
                      </a:lnTo>
                      <a:lnTo>
                        <a:pt x="1282" y="197"/>
                      </a:lnTo>
                      <a:lnTo>
                        <a:pt x="1282" y="196"/>
                      </a:lnTo>
                      <a:lnTo>
                        <a:pt x="1284" y="196"/>
                      </a:lnTo>
                      <a:lnTo>
                        <a:pt x="1286" y="195"/>
                      </a:lnTo>
                      <a:lnTo>
                        <a:pt x="1287" y="196"/>
                      </a:lnTo>
                      <a:lnTo>
                        <a:pt x="1289" y="196"/>
                      </a:lnTo>
                      <a:lnTo>
                        <a:pt x="1290" y="197"/>
                      </a:lnTo>
                      <a:lnTo>
                        <a:pt x="1290" y="199"/>
                      </a:lnTo>
                      <a:lnTo>
                        <a:pt x="1301" y="199"/>
                      </a:lnTo>
                      <a:lnTo>
                        <a:pt x="1302" y="197"/>
                      </a:lnTo>
                      <a:lnTo>
                        <a:pt x="1303" y="196"/>
                      </a:lnTo>
                      <a:lnTo>
                        <a:pt x="1304" y="196"/>
                      </a:lnTo>
                      <a:lnTo>
                        <a:pt x="1306" y="195"/>
                      </a:lnTo>
                      <a:lnTo>
                        <a:pt x="1308" y="196"/>
                      </a:lnTo>
                      <a:lnTo>
                        <a:pt x="1309" y="196"/>
                      </a:lnTo>
                      <a:lnTo>
                        <a:pt x="1310" y="197"/>
                      </a:lnTo>
                      <a:lnTo>
                        <a:pt x="1310" y="199"/>
                      </a:lnTo>
                      <a:lnTo>
                        <a:pt x="1335" y="199"/>
                      </a:lnTo>
                      <a:lnTo>
                        <a:pt x="1336" y="197"/>
                      </a:lnTo>
                      <a:lnTo>
                        <a:pt x="1337" y="196"/>
                      </a:lnTo>
                      <a:lnTo>
                        <a:pt x="1338" y="196"/>
                      </a:lnTo>
                      <a:lnTo>
                        <a:pt x="1340" y="195"/>
                      </a:lnTo>
                      <a:lnTo>
                        <a:pt x="1341" y="196"/>
                      </a:lnTo>
                      <a:lnTo>
                        <a:pt x="1343" y="196"/>
                      </a:lnTo>
                      <a:lnTo>
                        <a:pt x="1344" y="197"/>
                      </a:lnTo>
                      <a:lnTo>
                        <a:pt x="1344" y="199"/>
                      </a:lnTo>
                      <a:lnTo>
                        <a:pt x="1354" y="199"/>
                      </a:lnTo>
                      <a:lnTo>
                        <a:pt x="1354" y="197"/>
                      </a:lnTo>
                      <a:lnTo>
                        <a:pt x="1355" y="196"/>
                      </a:lnTo>
                      <a:lnTo>
                        <a:pt x="1357" y="196"/>
                      </a:lnTo>
                      <a:lnTo>
                        <a:pt x="1358" y="195"/>
                      </a:lnTo>
                      <a:lnTo>
                        <a:pt x="1360" y="196"/>
                      </a:lnTo>
                      <a:lnTo>
                        <a:pt x="1362" y="196"/>
                      </a:lnTo>
                      <a:lnTo>
                        <a:pt x="1362" y="197"/>
                      </a:lnTo>
                      <a:lnTo>
                        <a:pt x="1363" y="199"/>
                      </a:lnTo>
                      <a:lnTo>
                        <a:pt x="1394" y="199"/>
                      </a:lnTo>
                      <a:lnTo>
                        <a:pt x="1394" y="197"/>
                      </a:lnTo>
                      <a:lnTo>
                        <a:pt x="1395" y="196"/>
                      </a:lnTo>
                      <a:lnTo>
                        <a:pt x="1397" y="196"/>
                      </a:lnTo>
                      <a:lnTo>
                        <a:pt x="1398" y="195"/>
                      </a:lnTo>
                      <a:lnTo>
                        <a:pt x="1400" y="196"/>
                      </a:lnTo>
                      <a:lnTo>
                        <a:pt x="1402" y="196"/>
                      </a:lnTo>
                      <a:lnTo>
                        <a:pt x="1402" y="197"/>
                      </a:lnTo>
                      <a:lnTo>
                        <a:pt x="1403" y="199"/>
                      </a:lnTo>
                      <a:lnTo>
                        <a:pt x="1425" y="199"/>
                      </a:lnTo>
                      <a:lnTo>
                        <a:pt x="1425" y="197"/>
                      </a:lnTo>
                      <a:lnTo>
                        <a:pt x="1426" y="196"/>
                      </a:lnTo>
                      <a:lnTo>
                        <a:pt x="1427" y="196"/>
                      </a:lnTo>
                      <a:lnTo>
                        <a:pt x="1429" y="195"/>
                      </a:lnTo>
                      <a:lnTo>
                        <a:pt x="1431" y="196"/>
                      </a:lnTo>
                      <a:lnTo>
                        <a:pt x="1432" y="196"/>
                      </a:lnTo>
                      <a:lnTo>
                        <a:pt x="1433" y="197"/>
                      </a:lnTo>
                      <a:lnTo>
                        <a:pt x="1434" y="199"/>
                      </a:lnTo>
                      <a:lnTo>
                        <a:pt x="1729" y="199"/>
                      </a:lnTo>
                      <a:lnTo>
                        <a:pt x="1730" y="197"/>
                      </a:lnTo>
                      <a:lnTo>
                        <a:pt x="1731" y="196"/>
                      </a:lnTo>
                      <a:lnTo>
                        <a:pt x="1732" y="196"/>
                      </a:lnTo>
                      <a:lnTo>
                        <a:pt x="1734" y="195"/>
                      </a:lnTo>
                      <a:lnTo>
                        <a:pt x="1736" y="196"/>
                      </a:lnTo>
                      <a:lnTo>
                        <a:pt x="1737" y="196"/>
                      </a:lnTo>
                      <a:lnTo>
                        <a:pt x="1738" y="197"/>
                      </a:lnTo>
                      <a:lnTo>
                        <a:pt x="1738" y="199"/>
                      </a:lnTo>
                      <a:lnTo>
                        <a:pt x="1801" y="199"/>
                      </a:lnTo>
                      <a:lnTo>
                        <a:pt x="1802" y="197"/>
                      </a:lnTo>
                      <a:lnTo>
                        <a:pt x="1803" y="196"/>
                      </a:lnTo>
                      <a:lnTo>
                        <a:pt x="1804" y="196"/>
                      </a:lnTo>
                      <a:lnTo>
                        <a:pt x="1806" y="195"/>
                      </a:lnTo>
                      <a:lnTo>
                        <a:pt x="1808" y="196"/>
                      </a:lnTo>
                      <a:lnTo>
                        <a:pt x="1809" y="196"/>
                      </a:lnTo>
                      <a:lnTo>
                        <a:pt x="1810" y="197"/>
                      </a:lnTo>
                      <a:lnTo>
                        <a:pt x="1810" y="199"/>
                      </a:lnTo>
                      <a:lnTo>
                        <a:pt x="1819" y="199"/>
                      </a:lnTo>
                      <a:lnTo>
                        <a:pt x="1819" y="0"/>
                      </a:lnTo>
                      <a:lnTo>
                        <a:pt x="18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641720" y="4123440"/>
                  <a:ext cx="1440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29" name=""/>
                <p:cNvSpPr/>
                <p:nvPr/>
              </p:nvSpPr>
              <p:spPr>
                <a:xfrm>
                  <a:off x="5060880" y="3978000"/>
                  <a:ext cx="501480" cy="536760"/>
                </a:xfrm>
                <a:custGeom>
                  <a:avLst/>
                  <a:gdLst/>
                  <a:ahLst/>
                  <a:rect l="l" t="t" r="r" b="b"/>
                  <a:pathLst>
                    <a:path w="474" h="402">
                      <a:moveTo>
                        <a:pt x="474" y="402"/>
                      </a:moveTo>
                      <a:lnTo>
                        <a:pt x="474" y="387"/>
                      </a:lnTo>
                      <a:lnTo>
                        <a:pt x="428" y="387"/>
                      </a:lnTo>
                      <a:lnTo>
                        <a:pt x="428" y="385"/>
                      </a:lnTo>
                      <a:lnTo>
                        <a:pt x="427" y="384"/>
                      </a:lnTo>
                      <a:lnTo>
                        <a:pt x="425" y="383"/>
                      </a:lnTo>
                      <a:lnTo>
                        <a:pt x="424" y="383"/>
                      </a:lnTo>
                      <a:lnTo>
                        <a:pt x="422" y="383"/>
                      </a:lnTo>
                      <a:lnTo>
                        <a:pt x="420" y="384"/>
                      </a:lnTo>
                      <a:lnTo>
                        <a:pt x="419" y="385"/>
                      </a:lnTo>
                      <a:lnTo>
                        <a:pt x="419" y="387"/>
                      </a:lnTo>
                      <a:lnTo>
                        <a:pt x="400" y="387"/>
                      </a:lnTo>
                      <a:lnTo>
                        <a:pt x="400" y="385"/>
                      </a:lnTo>
                      <a:lnTo>
                        <a:pt x="399" y="384"/>
                      </a:lnTo>
                      <a:lnTo>
                        <a:pt x="398" y="383"/>
                      </a:lnTo>
                      <a:lnTo>
                        <a:pt x="396" y="383"/>
                      </a:lnTo>
                      <a:lnTo>
                        <a:pt x="394" y="383"/>
                      </a:lnTo>
                      <a:lnTo>
                        <a:pt x="393" y="384"/>
                      </a:lnTo>
                      <a:lnTo>
                        <a:pt x="392" y="385"/>
                      </a:lnTo>
                      <a:lnTo>
                        <a:pt x="391" y="387"/>
                      </a:lnTo>
                      <a:lnTo>
                        <a:pt x="380" y="387"/>
                      </a:lnTo>
                      <a:lnTo>
                        <a:pt x="379" y="385"/>
                      </a:lnTo>
                      <a:lnTo>
                        <a:pt x="378" y="383"/>
                      </a:lnTo>
                      <a:lnTo>
                        <a:pt x="377" y="381"/>
                      </a:lnTo>
                      <a:lnTo>
                        <a:pt x="374" y="380"/>
                      </a:lnTo>
                      <a:lnTo>
                        <a:pt x="372" y="380"/>
                      </a:lnTo>
                      <a:lnTo>
                        <a:pt x="370" y="380"/>
                      </a:lnTo>
                      <a:lnTo>
                        <a:pt x="367" y="380"/>
                      </a:lnTo>
                      <a:lnTo>
                        <a:pt x="365" y="381"/>
                      </a:lnTo>
                      <a:lnTo>
                        <a:pt x="364" y="383"/>
                      </a:lnTo>
                      <a:lnTo>
                        <a:pt x="363" y="385"/>
                      </a:lnTo>
                      <a:lnTo>
                        <a:pt x="362" y="387"/>
                      </a:lnTo>
                      <a:lnTo>
                        <a:pt x="351" y="387"/>
                      </a:lnTo>
                      <a:lnTo>
                        <a:pt x="351" y="385"/>
                      </a:lnTo>
                      <a:lnTo>
                        <a:pt x="350" y="384"/>
                      </a:lnTo>
                      <a:lnTo>
                        <a:pt x="348" y="383"/>
                      </a:lnTo>
                      <a:lnTo>
                        <a:pt x="346" y="383"/>
                      </a:lnTo>
                      <a:lnTo>
                        <a:pt x="345" y="383"/>
                      </a:lnTo>
                      <a:lnTo>
                        <a:pt x="343" y="384"/>
                      </a:lnTo>
                      <a:lnTo>
                        <a:pt x="342" y="385"/>
                      </a:lnTo>
                      <a:lnTo>
                        <a:pt x="342" y="387"/>
                      </a:lnTo>
                      <a:lnTo>
                        <a:pt x="308" y="387"/>
                      </a:lnTo>
                      <a:lnTo>
                        <a:pt x="308" y="385"/>
                      </a:lnTo>
                      <a:lnTo>
                        <a:pt x="307" y="384"/>
                      </a:lnTo>
                      <a:lnTo>
                        <a:pt x="305" y="383"/>
                      </a:lnTo>
                      <a:lnTo>
                        <a:pt x="304" y="383"/>
                      </a:lnTo>
                      <a:lnTo>
                        <a:pt x="302" y="383"/>
                      </a:lnTo>
                      <a:lnTo>
                        <a:pt x="300" y="384"/>
                      </a:lnTo>
                      <a:lnTo>
                        <a:pt x="300" y="385"/>
                      </a:lnTo>
                      <a:lnTo>
                        <a:pt x="299" y="387"/>
                      </a:lnTo>
                      <a:lnTo>
                        <a:pt x="295" y="387"/>
                      </a:lnTo>
                      <a:lnTo>
                        <a:pt x="294" y="385"/>
                      </a:lnTo>
                      <a:lnTo>
                        <a:pt x="293" y="383"/>
                      </a:lnTo>
                      <a:lnTo>
                        <a:pt x="292" y="382"/>
                      </a:lnTo>
                      <a:lnTo>
                        <a:pt x="290" y="381"/>
                      </a:lnTo>
                      <a:lnTo>
                        <a:pt x="288" y="381"/>
                      </a:lnTo>
                      <a:lnTo>
                        <a:pt x="286" y="381"/>
                      </a:lnTo>
                      <a:lnTo>
                        <a:pt x="284" y="381"/>
                      </a:lnTo>
                      <a:lnTo>
                        <a:pt x="282" y="382"/>
                      </a:lnTo>
                      <a:lnTo>
                        <a:pt x="280" y="383"/>
                      </a:lnTo>
                      <a:lnTo>
                        <a:pt x="279" y="385"/>
                      </a:lnTo>
                      <a:lnTo>
                        <a:pt x="279" y="387"/>
                      </a:lnTo>
                      <a:lnTo>
                        <a:pt x="254" y="387"/>
                      </a:lnTo>
                      <a:lnTo>
                        <a:pt x="254" y="385"/>
                      </a:lnTo>
                      <a:lnTo>
                        <a:pt x="253" y="383"/>
                      </a:lnTo>
                      <a:lnTo>
                        <a:pt x="251" y="382"/>
                      </a:lnTo>
                      <a:lnTo>
                        <a:pt x="250" y="381"/>
                      </a:lnTo>
                      <a:lnTo>
                        <a:pt x="248" y="381"/>
                      </a:lnTo>
                      <a:lnTo>
                        <a:pt x="246" y="381"/>
                      </a:lnTo>
                      <a:lnTo>
                        <a:pt x="244" y="381"/>
                      </a:lnTo>
                      <a:lnTo>
                        <a:pt x="242" y="382"/>
                      </a:lnTo>
                      <a:lnTo>
                        <a:pt x="240" y="383"/>
                      </a:lnTo>
                      <a:lnTo>
                        <a:pt x="240" y="385"/>
                      </a:lnTo>
                      <a:lnTo>
                        <a:pt x="239" y="387"/>
                      </a:lnTo>
                      <a:lnTo>
                        <a:pt x="177" y="387"/>
                      </a:lnTo>
                      <a:lnTo>
                        <a:pt x="177" y="385"/>
                      </a:lnTo>
                      <a:lnTo>
                        <a:pt x="176" y="384"/>
                      </a:lnTo>
                      <a:lnTo>
                        <a:pt x="174" y="383"/>
                      </a:lnTo>
                      <a:lnTo>
                        <a:pt x="173" y="383"/>
                      </a:lnTo>
                      <a:lnTo>
                        <a:pt x="171" y="383"/>
                      </a:lnTo>
                      <a:lnTo>
                        <a:pt x="169" y="384"/>
                      </a:lnTo>
                      <a:lnTo>
                        <a:pt x="168" y="385"/>
                      </a:lnTo>
                      <a:lnTo>
                        <a:pt x="168" y="387"/>
                      </a:lnTo>
                      <a:lnTo>
                        <a:pt x="166" y="387"/>
                      </a:lnTo>
                      <a:lnTo>
                        <a:pt x="166" y="385"/>
                      </a:lnTo>
                      <a:lnTo>
                        <a:pt x="165" y="384"/>
                      </a:lnTo>
                      <a:lnTo>
                        <a:pt x="163" y="383"/>
                      </a:lnTo>
                      <a:lnTo>
                        <a:pt x="162" y="383"/>
                      </a:lnTo>
                      <a:lnTo>
                        <a:pt x="160" y="383"/>
                      </a:lnTo>
                      <a:lnTo>
                        <a:pt x="158" y="384"/>
                      </a:lnTo>
                      <a:lnTo>
                        <a:pt x="157" y="385"/>
                      </a:lnTo>
                      <a:lnTo>
                        <a:pt x="157" y="387"/>
                      </a:lnTo>
                      <a:lnTo>
                        <a:pt x="137" y="387"/>
                      </a:lnTo>
                      <a:lnTo>
                        <a:pt x="137" y="385"/>
                      </a:lnTo>
                      <a:lnTo>
                        <a:pt x="136" y="384"/>
                      </a:lnTo>
                      <a:lnTo>
                        <a:pt x="134" y="383"/>
                      </a:lnTo>
                      <a:lnTo>
                        <a:pt x="133" y="383"/>
                      </a:lnTo>
                      <a:lnTo>
                        <a:pt x="131" y="383"/>
                      </a:lnTo>
                      <a:lnTo>
                        <a:pt x="130" y="384"/>
                      </a:lnTo>
                      <a:lnTo>
                        <a:pt x="129" y="385"/>
                      </a:lnTo>
                      <a:lnTo>
                        <a:pt x="128" y="387"/>
                      </a:lnTo>
                      <a:lnTo>
                        <a:pt x="119" y="387"/>
                      </a:lnTo>
                      <a:lnTo>
                        <a:pt x="119" y="385"/>
                      </a:lnTo>
                      <a:lnTo>
                        <a:pt x="118" y="384"/>
                      </a:lnTo>
                      <a:lnTo>
                        <a:pt x="116" y="383"/>
                      </a:lnTo>
                      <a:lnTo>
                        <a:pt x="115" y="383"/>
                      </a:lnTo>
                      <a:lnTo>
                        <a:pt x="113" y="383"/>
                      </a:lnTo>
                      <a:lnTo>
                        <a:pt x="111" y="384"/>
                      </a:lnTo>
                      <a:lnTo>
                        <a:pt x="110" y="385"/>
                      </a:lnTo>
                      <a:lnTo>
                        <a:pt x="110" y="387"/>
                      </a:lnTo>
                      <a:lnTo>
                        <a:pt x="57" y="387"/>
                      </a:lnTo>
                      <a:lnTo>
                        <a:pt x="57" y="385"/>
                      </a:lnTo>
                      <a:lnTo>
                        <a:pt x="56" y="384"/>
                      </a:lnTo>
                      <a:lnTo>
                        <a:pt x="55" y="383"/>
                      </a:lnTo>
                      <a:lnTo>
                        <a:pt x="53" y="383"/>
                      </a:lnTo>
                      <a:lnTo>
                        <a:pt x="51" y="383"/>
                      </a:lnTo>
                      <a:lnTo>
                        <a:pt x="50" y="384"/>
                      </a:lnTo>
                      <a:lnTo>
                        <a:pt x="49" y="385"/>
                      </a:lnTo>
                      <a:lnTo>
                        <a:pt x="48" y="387"/>
                      </a:lnTo>
                      <a:lnTo>
                        <a:pt x="0" y="387"/>
                      </a:lnTo>
                      <a:lnTo>
                        <a:pt x="0" y="81"/>
                      </a:lnTo>
                      <a:lnTo>
                        <a:pt x="46" y="81"/>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103360" y="39661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1" name=""/>
                <p:cNvSpPr/>
                <p:nvPr/>
              </p:nvSpPr>
              <p:spPr>
                <a:xfrm>
                  <a:off x="6517440" y="2981520"/>
                  <a:ext cx="133200" cy="1646640"/>
                </a:xfrm>
                <a:custGeom>
                  <a:avLst/>
                  <a:gdLst/>
                  <a:ahLst/>
                  <a:rect l="l" t="t" r="r" b="b"/>
                  <a:pathLst>
                    <a:path w="126" h="1233">
                      <a:moveTo>
                        <a:pt x="21" y="1233"/>
                      </a:moveTo>
                      <a:lnTo>
                        <a:pt x="21" y="1147"/>
                      </a:lnTo>
                      <a:lnTo>
                        <a:pt x="45" y="1147"/>
                      </a:lnTo>
                      <a:lnTo>
                        <a:pt x="45" y="956"/>
                      </a:lnTo>
                      <a:lnTo>
                        <a:pt x="0" y="956"/>
                      </a:lnTo>
                      <a:lnTo>
                        <a:pt x="0" y="41"/>
                      </a:lnTo>
                      <a:lnTo>
                        <a:pt x="17" y="41"/>
                      </a:lnTo>
                      <a:lnTo>
                        <a:pt x="18" y="39"/>
                      </a:lnTo>
                      <a:lnTo>
                        <a:pt x="19" y="38"/>
                      </a:lnTo>
                      <a:lnTo>
                        <a:pt x="20" y="37"/>
                      </a:lnTo>
                      <a:lnTo>
                        <a:pt x="22" y="37"/>
                      </a:lnTo>
                      <a:lnTo>
                        <a:pt x="24" y="37"/>
                      </a:lnTo>
                      <a:lnTo>
                        <a:pt x="25" y="38"/>
                      </a:lnTo>
                      <a:lnTo>
                        <a:pt x="26" y="39"/>
                      </a:lnTo>
                      <a:lnTo>
                        <a:pt x="26" y="41"/>
                      </a:lnTo>
                      <a:lnTo>
                        <a:pt x="78" y="41"/>
                      </a:lnTo>
                      <a:lnTo>
                        <a:pt x="78" y="39"/>
                      </a:lnTo>
                      <a:lnTo>
                        <a:pt x="79" y="38"/>
                      </a:lnTo>
                      <a:lnTo>
                        <a:pt x="81" y="37"/>
                      </a:lnTo>
                      <a:lnTo>
                        <a:pt x="82" y="37"/>
                      </a:lnTo>
                      <a:lnTo>
                        <a:pt x="84" y="37"/>
                      </a:lnTo>
                      <a:lnTo>
                        <a:pt x="85" y="38"/>
                      </a:lnTo>
                      <a:lnTo>
                        <a:pt x="87" y="39"/>
                      </a:lnTo>
                      <a:lnTo>
                        <a:pt x="87" y="41"/>
                      </a:lnTo>
                      <a:lnTo>
                        <a:pt x="126" y="41"/>
                      </a:lnTo>
                      <a:lnTo>
                        <a:pt x="1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533640" y="462708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3" name=""/>
                <p:cNvSpPr/>
                <p:nvPr/>
              </p:nvSpPr>
              <p:spPr>
                <a:xfrm>
                  <a:off x="6644520" y="29696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229800" y="2954880"/>
                  <a:ext cx="330120" cy="1193760"/>
                </a:xfrm>
                <a:custGeom>
                  <a:avLst/>
                  <a:gdLst/>
                  <a:ahLst/>
                  <a:rect l="l" t="t" r="r" b="b"/>
                  <a:pathLst>
                    <a:path w="312" h="894">
                      <a:moveTo>
                        <a:pt x="312" y="5"/>
                      </a:moveTo>
                      <a:lnTo>
                        <a:pt x="298" y="5"/>
                      </a:lnTo>
                      <a:lnTo>
                        <a:pt x="298" y="3"/>
                      </a:lnTo>
                      <a:lnTo>
                        <a:pt x="297" y="2"/>
                      </a:lnTo>
                      <a:lnTo>
                        <a:pt x="296" y="2"/>
                      </a:lnTo>
                      <a:lnTo>
                        <a:pt x="294" y="1"/>
                      </a:lnTo>
                      <a:lnTo>
                        <a:pt x="292" y="2"/>
                      </a:lnTo>
                      <a:lnTo>
                        <a:pt x="291" y="2"/>
                      </a:lnTo>
                      <a:lnTo>
                        <a:pt x="290" y="3"/>
                      </a:lnTo>
                      <a:lnTo>
                        <a:pt x="289" y="5"/>
                      </a:lnTo>
                      <a:lnTo>
                        <a:pt x="265" y="5"/>
                      </a:lnTo>
                      <a:lnTo>
                        <a:pt x="264" y="3"/>
                      </a:lnTo>
                      <a:lnTo>
                        <a:pt x="263" y="2"/>
                      </a:lnTo>
                      <a:lnTo>
                        <a:pt x="262" y="2"/>
                      </a:lnTo>
                      <a:lnTo>
                        <a:pt x="260" y="1"/>
                      </a:lnTo>
                      <a:lnTo>
                        <a:pt x="258" y="2"/>
                      </a:lnTo>
                      <a:lnTo>
                        <a:pt x="257" y="2"/>
                      </a:lnTo>
                      <a:lnTo>
                        <a:pt x="256" y="3"/>
                      </a:lnTo>
                      <a:lnTo>
                        <a:pt x="256" y="5"/>
                      </a:lnTo>
                      <a:lnTo>
                        <a:pt x="245" y="5"/>
                      </a:lnTo>
                      <a:lnTo>
                        <a:pt x="245" y="3"/>
                      </a:lnTo>
                      <a:lnTo>
                        <a:pt x="244" y="2"/>
                      </a:lnTo>
                      <a:lnTo>
                        <a:pt x="242" y="2"/>
                      </a:lnTo>
                      <a:lnTo>
                        <a:pt x="241" y="1"/>
                      </a:lnTo>
                      <a:lnTo>
                        <a:pt x="239" y="2"/>
                      </a:lnTo>
                      <a:lnTo>
                        <a:pt x="238" y="2"/>
                      </a:lnTo>
                      <a:lnTo>
                        <a:pt x="236" y="3"/>
                      </a:lnTo>
                      <a:lnTo>
                        <a:pt x="236" y="5"/>
                      </a:lnTo>
                      <a:lnTo>
                        <a:pt x="225" y="5"/>
                      </a:lnTo>
                      <a:lnTo>
                        <a:pt x="225" y="3"/>
                      </a:lnTo>
                      <a:lnTo>
                        <a:pt x="224" y="2"/>
                      </a:lnTo>
                      <a:lnTo>
                        <a:pt x="223" y="2"/>
                      </a:lnTo>
                      <a:lnTo>
                        <a:pt x="221" y="1"/>
                      </a:lnTo>
                      <a:lnTo>
                        <a:pt x="219" y="2"/>
                      </a:lnTo>
                      <a:lnTo>
                        <a:pt x="218" y="2"/>
                      </a:lnTo>
                      <a:lnTo>
                        <a:pt x="217" y="3"/>
                      </a:lnTo>
                      <a:lnTo>
                        <a:pt x="216" y="5"/>
                      </a:lnTo>
                      <a:lnTo>
                        <a:pt x="204" y="5"/>
                      </a:lnTo>
                      <a:lnTo>
                        <a:pt x="203" y="3"/>
                      </a:lnTo>
                      <a:lnTo>
                        <a:pt x="202" y="2"/>
                      </a:lnTo>
                      <a:lnTo>
                        <a:pt x="201" y="2"/>
                      </a:lnTo>
                      <a:lnTo>
                        <a:pt x="199" y="1"/>
                      </a:lnTo>
                      <a:lnTo>
                        <a:pt x="198" y="2"/>
                      </a:lnTo>
                      <a:lnTo>
                        <a:pt x="196" y="2"/>
                      </a:lnTo>
                      <a:lnTo>
                        <a:pt x="195" y="3"/>
                      </a:lnTo>
                      <a:lnTo>
                        <a:pt x="195" y="5"/>
                      </a:lnTo>
                      <a:lnTo>
                        <a:pt x="180" y="5"/>
                      </a:lnTo>
                      <a:lnTo>
                        <a:pt x="180" y="3"/>
                      </a:lnTo>
                      <a:lnTo>
                        <a:pt x="179" y="2"/>
                      </a:lnTo>
                      <a:lnTo>
                        <a:pt x="177" y="2"/>
                      </a:lnTo>
                      <a:lnTo>
                        <a:pt x="176" y="1"/>
                      </a:lnTo>
                      <a:lnTo>
                        <a:pt x="174" y="2"/>
                      </a:lnTo>
                      <a:lnTo>
                        <a:pt x="172" y="2"/>
                      </a:lnTo>
                      <a:lnTo>
                        <a:pt x="172" y="3"/>
                      </a:lnTo>
                      <a:lnTo>
                        <a:pt x="171" y="5"/>
                      </a:lnTo>
                      <a:lnTo>
                        <a:pt x="160" y="5"/>
                      </a:lnTo>
                      <a:lnTo>
                        <a:pt x="160" y="3"/>
                      </a:lnTo>
                      <a:lnTo>
                        <a:pt x="159" y="2"/>
                      </a:lnTo>
                      <a:lnTo>
                        <a:pt x="157" y="2"/>
                      </a:lnTo>
                      <a:lnTo>
                        <a:pt x="155" y="1"/>
                      </a:lnTo>
                      <a:lnTo>
                        <a:pt x="154" y="2"/>
                      </a:lnTo>
                      <a:lnTo>
                        <a:pt x="152" y="2"/>
                      </a:lnTo>
                      <a:lnTo>
                        <a:pt x="151" y="3"/>
                      </a:lnTo>
                      <a:lnTo>
                        <a:pt x="151" y="5"/>
                      </a:lnTo>
                      <a:lnTo>
                        <a:pt x="144" y="5"/>
                      </a:lnTo>
                      <a:lnTo>
                        <a:pt x="144" y="3"/>
                      </a:lnTo>
                      <a:lnTo>
                        <a:pt x="143" y="2"/>
                      </a:lnTo>
                      <a:lnTo>
                        <a:pt x="141" y="1"/>
                      </a:lnTo>
                      <a:lnTo>
                        <a:pt x="140" y="0"/>
                      </a:lnTo>
                      <a:lnTo>
                        <a:pt x="137" y="0"/>
                      </a:lnTo>
                      <a:lnTo>
                        <a:pt x="135" y="0"/>
                      </a:lnTo>
                      <a:lnTo>
                        <a:pt x="133" y="1"/>
                      </a:lnTo>
                      <a:lnTo>
                        <a:pt x="132" y="2"/>
                      </a:lnTo>
                      <a:lnTo>
                        <a:pt x="131" y="3"/>
                      </a:lnTo>
                      <a:lnTo>
                        <a:pt x="131" y="5"/>
                      </a:lnTo>
                      <a:lnTo>
                        <a:pt x="118" y="5"/>
                      </a:lnTo>
                      <a:lnTo>
                        <a:pt x="118" y="835"/>
                      </a:lnTo>
                      <a:lnTo>
                        <a:pt x="110" y="835"/>
                      </a:lnTo>
                      <a:lnTo>
                        <a:pt x="110" y="834"/>
                      </a:lnTo>
                      <a:lnTo>
                        <a:pt x="109" y="833"/>
                      </a:lnTo>
                      <a:lnTo>
                        <a:pt x="107" y="832"/>
                      </a:lnTo>
                      <a:lnTo>
                        <a:pt x="105" y="832"/>
                      </a:lnTo>
                      <a:lnTo>
                        <a:pt x="104" y="832"/>
                      </a:lnTo>
                      <a:lnTo>
                        <a:pt x="102" y="833"/>
                      </a:lnTo>
                      <a:lnTo>
                        <a:pt x="101" y="834"/>
                      </a:lnTo>
                      <a:lnTo>
                        <a:pt x="101" y="835"/>
                      </a:lnTo>
                      <a:lnTo>
                        <a:pt x="0" y="835"/>
                      </a:lnTo>
                      <a:lnTo>
                        <a:pt x="0" y="89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558840" y="295488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6" name=""/>
                <p:cNvSpPr/>
                <p:nvPr/>
              </p:nvSpPr>
              <p:spPr>
                <a:xfrm>
                  <a:off x="6223320" y="414648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7" name=""/>
                <p:cNvSpPr/>
                <p:nvPr/>
              </p:nvSpPr>
              <p:spPr>
                <a:xfrm>
                  <a:off x="5082120" y="2981520"/>
                  <a:ext cx="1594080" cy="858600"/>
                </a:xfrm>
                <a:custGeom>
                  <a:avLst/>
                  <a:gdLst/>
                  <a:ahLst/>
                  <a:rect l="l" t="t" r="r" b="b"/>
                  <a:pathLst>
                    <a:path w="1506" h="643">
                      <a:moveTo>
                        <a:pt x="0" y="643"/>
                      </a:moveTo>
                      <a:lnTo>
                        <a:pt x="0" y="100"/>
                      </a:lnTo>
                      <a:lnTo>
                        <a:pt x="14" y="100"/>
                      </a:lnTo>
                      <a:lnTo>
                        <a:pt x="14" y="99"/>
                      </a:lnTo>
                      <a:lnTo>
                        <a:pt x="15" y="97"/>
                      </a:lnTo>
                      <a:lnTo>
                        <a:pt x="17" y="96"/>
                      </a:lnTo>
                      <a:lnTo>
                        <a:pt x="19" y="96"/>
                      </a:lnTo>
                      <a:lnTo>
                        <a:pt x="21" y="95"/>
                      </a:lnTo>
                      <a:lnTo>
                        <a:pt x="23" y="96"/>
                      </a:lnTo>
                      <a:lnTo>
                        <a:pt x="25" y="96"/>
                      </a:lnTo>
                      <a:lnTo>
                        <a:pt x="26" y="97"/>
                      </a:lnTo>
                      <a:lnTo>
                        <a:pt x="27" y="99"/>
                      </a:lnTo>
                      <a:lnTo>
                        <a:pt x="27" y="100"/>
                      </a:lnTo>
                      <a:lnTo>
                        <a:pt x="34" y="100"/>
                      </a:lnTo>
                      <a:lnTo>
                        <a:pt x="35" y="99"/>
                      </a:lnTo>
                      <a:lnTo>
                        <a:pt x="36" y="98"/>
                      </a:lnTo>
                      <a:lnTo>
                        <a:pt x="37" y="97"/>
                      </a:lnTo>
                      <a:lnTo>
                        <a:pt x="39" y="97"/>
                      </a:lnTo>
                      <a:lnTo>
                        <a:pt x="41" y="97"/>
                      </a:lnTo>
                      <a:lnTo>
                        <a:pt x="42" y="98"/>
                      </a:lnTo>
                      <a:lnTo>
                        <a:pt x="43" y="99"/>
                      </a:lnTo>
                      <a:lnTo>
                        <a:pt x="43" y="100"/>
                      </a:lnTo>
                      <a:lnTo>
                        <a:pt x="50" y="100"/>
                      </a:lnTo>
                      <a:lnTo>
                        <a:pt x="50" y="99"/>
                      </a:lnTo>
                      <a:lnTo>
                        <a:pt x="51" y="97"/>
                      </a:lnTo>
                      <a:lnTo>
                        <a:pt x="52" y="96"/>
                      </a:lnTo>
                      <a:lnTo>
                        <a:pt x="54" y="95"/>
                      </a:lnTo>
                      <a:lnTo>
                        <a:pt x="56" y="94"/>
                      </a:lnTo>
                      <a:lnTo>
                        <a:pt x="58" y="94"/>
                      </a:lnTo>
                      <a:lnTo>
                        <a:pt x="61" y="95"/>
                      </a:lnTo>
                      <a:lnTo>
                        <a:pt x="62" y="96"/>
                      </a:lnTo>
                      <a:lnTo>
                        <a:pt x="64" y="97"/>
                      </a:lnTo>
                      <a:lnTo>
                        <a:pt x="65" y="99"/>
                      </a:lnTo>
                      <a:lnTo>
                        <a:pt x="65" y="100"/>
                      </a:lnTo>
                      <a:lnTo>
                        <a:pt x="75" y="100"/>
                      </a:lnTo>
                      <a:lnTo>
                        <a:pt x="75" y="99"/>
                      </a:lnTo>
                      <a:lnTo>
                        <a:pt x="76" y="98"/>
                      </a:lnTo>
                      <a:lnTo>
                        <a:pt x="78" y="97"/>
                      </a:lnTo>
                      <a:lnTo>
                        <a:pt x="79" y="97"/>
                      </a:lnTo>
                      <a:lnTo>
                        <a:pt x="81" y="97"/>
                      </a:lnTo>
                      <a:lnTo>
                        <a:pt x="82" y="98"/>
                      </a:lnTo>
                      <a:lnTo>
                        <a:pt x="83" y="99"/>
                      </a:lnTo>
                      <a:lnTo>
                        <a:pt x="84" y="100"/>
                      </a:lnTo>
                      <a:lnTo>
                        <a:pt x="90" y="100"/>
                      </a:lnTo>
                      <a:lnTo>
                        <a:pt x="90" y="99"/>
                      </a:lnTo>
                      <a:lnTo>
                        <a:pt x="91" y="98"/>
                      </a:lnTo>
                      <a:lnTo>
                        <a:pt x="93" y="97"/>
                      </a:lnTo>
                      <a:lnTo>
                        <a:pt x="95" y="97"/>
                      </a:lnTo>
                      <a:lnTo>
                        <a:pt x="96" y="97"/>
                      </a:lnTo>
                      <a:lnTo>
                        <a:pt x="98" y="98"/>
                      </a:lnTo>
                      <a:lnTo>
                        <a:pt x="99" y="99"/>
                      </a:lnTo>
                      <a:lnTo>
                        <a:pt x="99" y="100"/>
                      </a:lnTo>
                      <a:lnTo>
                        <a:pt x="108" y="100"/>
                      </a:lnTo>
                      <a:lnTo>
                        <a:pt x="108" y="99"/>
                      </a:lnTo>
                      <a:lnTo>
                        <a:pt x="109" y="98"/>
                      </a:lnTo>
                      <a:lnTo>
                        <a:pt x="110" y="97"/>
                      </a:lnTo>
                      <a:lnTo>
                        <a:pt x="112" y="97"/>
                      </a:lnTo>
                      <a:lnTo>
                        <a:pt x="114" y="97"/>
                      </a:lnTo>
                      <a:lnTo>
                        <a:pt x="115" y="98"/>
                      </a:lnTo>
                      <a:lnTo>
                        <a:pt x="116" y="99"/>
                      </a:lnTo>
                      <a:lnTo>
                        <a:pt x="117" y="100"/>
                      </a:lnTo>
                      <a:lnTo>
                        <a:pt x="137" y="100"/>
                      </a:lnTo>
                      <a:lnTo>
                        <a:pt x="137" y="99"/>
                      </a:lnTo>
                      <a:lnTo>
                        <a:pt x="138" y="98"/>
                      </a:lnTo>
                      <a:lnTo>
                        <a:pt x="140" y="97"/>
                      </a:lnTo>
                      <a:lnTo>
                        <a:pt x="142" y="97"/>
                      </a:lnTo>
                      <a:lnTo>
                        <a:pt x="143" y="97"/>
                      </a:lnTo>
                      <a:lnTo>
                        <a:pt x="145" y="98"/>
                      </a:lnTo>
                      <a:lnTo>
                        <a:pt x="146" y="99"/>
                      </a:lnTo>
                      <a:lnTo>
                        <a:pt x="146" y="100"/>
                      </a:lnTo>
                      <a:lnTo>
                        <a:pt x="225" y="100"/>
                      </a:lnTo>
                      <a:lnTo>
                        <a:pt x="225" y="99"/>
                      </a:lnTo>
                      <a:lnTo>
                        <a:pt x="226" y="98"/>
                      </a:lnTo>
                      <a:lnTo>
                        <a:pt x="228" y="97"/>
                      </a:lnTo>
                      <a:lnTo>
                        <a:pt x="230" y="97"/>
                      </a:lnTo>
                      <a:lnTo>
                        <a:pt x="231" y="97"/>
                      </a:lnTo>
                      <a:lnTo>
                        <a:pt x="233" y="98"/>
                      </a:lnTo>
                      <a:lnTo>
                        <a:pt x="234" y="99"/>
                      </a:lnTo>
                      <a:lnTo>
                        <a:pt x="234" y="100"/>
                      </a:lnTo>
                      <a:lnTo>
                        <a:pt x="253" y="100"/>
                      </a:lnTo>
                      <a:lnTo>
                        <a:pt x="253" y="99"/>
                      </a:lnTo>
                      <a:lnTo>
                        <a:pt x="254" y="98"/>
                      </a:lnTo>
                      <a:lnTo>
                        <a:pt x="256" y="97"/>
                      </a:lnTo>
                      <a:lnTo>
                        <a:pt x="257" y="97"/>
                      </a:lnTo>
                      <a:lnTo>
                        <a:pt x="259" y="97"/>
                      </a:lnTo>
                      <a:lnTo>
                        <a:pt x="261" y="98"/>
                      </a:lnTo>
                      <a:lnTo>
                        <a:pt x="262" y="99"/>
                      </a:lnTo>
                      <a:lnTo>
                        <a:pt x="262" y="100"/>
                      </a:lnTo>
                      <a:lnTo>
                        <a:pt x="291" y="100"/>
                      </a:lnTo>
                      <a:lnTo>
                        <a:pt x="291" y="99"/>
                      </a:lnTo>
                      <a:lnTo>
                        <a:pt x="292" y="98"/>
                      </a:lnTo>
                      <a:lnTo>
                        <a:pt x="294" y="97"/>
                      </a:lnTo>
                      <a:lnTo>
                        <a:pt x="295" y="97"/>
                      </a:lnTo>
                      <a:lnTo>
                        <a:pt x="297" y="97"/>
                      </a:lnTo>
                      <a:lnTo>
                        <a:pt x="299" y="98"/>
                      </a:lnTo>
                      <a:lnTo>
                        <a:pt x="300" y="99"/>
                      </a:lnTo>
                      <a:lnTo>
                        <a:pt x="300" y="100"/>
                      </a:lnTo>
                      <a:lnTo>
                        <a:pt x="311" y="100"/>
                      </a:lnTo>
                      <a:lnTo>
                        <a:pt x="311" y="99"/>
                      </a:lnTo>
                      <a:lnTo>
                        <a:pt x="312" y="98"/>
                      </a:lnTo>
                      <a:lnTo>
                        <a:pt x="314" y="97"/>
                      </a:lnTo>
                      <a:lnTo>
                        <a:pt x="315" y="97"/>
                      </a:lnTo>
                      <a:lnTo>
                        <a:pt x="317" y="97"/>
                      </a:lnTo>
                      <a:lnTo>
                        <a:pt x="318" y="98"/>
                      </a:lnTo>
                      <a:lnTo>
                        <a:pt x="320" y="99"/>
                      </a:lnTo>
                      <a:lnTo>
                        <a:pt x="320" y="100"/>
                      </a:lnTo>
                      <a:lnTo>
                        <a:pt x="322" y="100"/>
                      </a:lnTo>
                      <a:lnTo>
                        <a:pt x="322" y="99"/>
                      </a:lnTo>
                      <a:lnTo>
                        <a:pt x="323" y="98"/>
                      </a:lnTo>
                      <a:lnTo>
                        <a:pt x="325" y="97"/>
                      </a:lnTo>
                      <a:lnTo>
                        <a:pt x="326" y="97"/>
                      </a:lnTo>
                      <a:lnTo>
                        <a:pt x="328" y="97"/>
                      </a:lnTo>
                      <a:lnTo>
                        <a:pt x="330" y="98"/>
                      </a:lnTo>
                      <a:lnTo>
                        <a:pt x="331" y="99"/>
                      </a:lnTo>
                      <a:lnTo>
                        <a:pt x="331" y="100"/>
                      </a:lnTo>
                      <a:lnTo>
                        <a:pt x="331" y="100"/>
                      </a:lnTo>
                      <a:lnTo>
                        <a:pt x="332" y="99"/>
                      </a:lnTo>
                      <a:lnTo>
                        <a:pt x="333" y="98"/>
                      </a:lnTo>
                      <a:lnTo>
                        <a:pt x="334" y="97"/>
                      </a:lnTo>
                      <a:lnTo>
                        <a:pt x="336" y="97"/>
                      </a:lnTo>
                      <a:lnTo>
                        <a:pt x="338" y="97"/>
                      </a:lnTo>
                      <a:lnTo>
                        <a:pt x="339" y="98"/>
                      </a:lnTo>
                      <a:lnTo>
                        <a:pt x="340" y="99"/>
                      </a:lnTo>
                      <a:lnTo>
                        <a:pt x="340" y="100"/>
                      </a:lnTo>
                      <a:lnTo>
                        <a:pt x="342" y="100"/>
                      </a:lnTo>
                      <a:lnTo>
                        <a:pt x="343" y="99"/>
                      </a:lnTo>
                      <a:lnTo>
                        <a:pt x="344" y="97"/>
                      </a:lnTo>
                      <a:lnTo>
                        <a:pt x="345" y="95"/>
                      </a:lnTo>
                      <a:lnTo>
                        <a:pt x="347" y="94"/>
                      </a:lnTo>
                      <a:lnTo>
                        <a:pt x="350" y="94"/>
                      </a:lnTo>
                      <a:lnTo>
                        <a:pt x="352" y="94"/>
                      </a:lnTo>
                      <a:lnTo>
                        <a:pt x="354" y="94"/>
                      </a:lnTo>
                      <a:lnTo>
                        <a:pt x="357" y="95"/>
                      </a:lnTo>
                      <a:lnTo>
                        <a:pt x="358" y="97"/>
                      </a:lnTo>
                      <a:lnTo>
                        <a:pt x="359" y="99"/>
                      </a:lnTo>
                      <a:lnTo>
                        <a:pt x="360" y="100"/>
                      </a:lnTo>
                      <a:lnTo>
                        <a:pt x="364" y="100"/>
                      </a:lnTo>
                      <a:lnTo>
                        <a:pt x="364" y="99"/>
                      </a:lnTo>
                      <a:lnTo>
                        <a:pt x="365" y="97"/>
                      </a:lnTo>
                      <a:lnTo>
                        <a:pt x="367" y="96"/>
                      </a:lnTo>
                      <a:lnTo>
                        <a:pt x="369" y="95"/>
                      </a:lnTo>
                      <a:lnTo>
                        <a:pt x="371" y="94"/>
                      </a:lnTo>
                      <a:lnTo>
                        <a:pt x="373" y="94"/>
                      </a:lnTo>
                      <a:lnTo>
                        <a:pt x="376" y="95"/>
                      </a:lnTo>
                      <a:lnTo>
                        <a:pt x="378" y="96"/>
                      </a:lnTo>
                      <a:lnTo>
                        <a:pt x="379" y="97"/>
                      </a:lnTo>
                      <a:lnTo>
                        <a:pt x="380" y="99"/>
                      </a:lnTo>
                      <a:lnTo>
                        <a:pt x="380" y="100"/>
                      </a:lnTo>
                      <a:lnTo>
                        <a:pt x="395" y="100"/>
                      </a:lnTo>
                      <a:lnTo>
                        <a:pt x="395" y="99"/>
                      </a:lnTo>
                      <a:lnTo>
                        <a:pt x="396" y="98"/>
                      </a:lnTo>
                      <a:lnTo>
                        <a:pt x="398" y="97"/>
                      </a:lnTo>
                      <a:lnTo>
                        <a:pt x="399" y="97"/>
                      </a:lnTo>
                      <a:lnTo>
                        <a:pt x="401" y="97"/>
                      </a:lnTo>
                      <a:lnTo>
                        <a:pt x="403" y="98"/>
                      </a:lnTo>
                      <a:lnTo>
                        <a:pt x="403" y="99"/>
                      </a:lnTo>
                      <a:lnTo>
                        <a:pt x="404" y="100"/>
                      </a:lnTo>
                      <a:lnTo>
                        <a:pt x="411" y="100"/>
                      </a:lnTo>
                      <a:lnTo>
                        <a:pt x="411" y="99"/>
                      </a:lnTo>
                      <a:lnTo>
                        <a:pt x="412" y="98"/>
                      </a:lnTo>
                      <a:lnTo>
                        <a:pt x="414" y="97"/>
                      </a:lnTo>
                      <a:lnTo>
                        <a:pt x="415" y="97"/>
                      </a:lnTo>
                      <a:lnTo>
                        <a:pt x="417" y="97"/>
                      </a:lnTo>
                      <a:lnTo>
                        <a:pt x="419" y="98"/>
                      </a:lnTo>
                      <a:lnTo>
                        <a:pt x="419" y="99"/>
                      </a:lnTo>
                      <a:lnTo>
                        <a:pt x="420" y="100"/>
                      </a:lnTo>
                      <a:lnTo>
                        <a:pt x="423" y="100"/>
                      </a:lnTo>
                      <a:lnTo>
                        <a:pt x="423" y="99"/>
                      </a:lnTo>
                      <a:lnTo>
                        <a:pt x="424" y="98"/>
                      </a:lnTo>
                      <a:lnTo>
                        <a:pt x="425" y="97"/>
                      </a:lnTo>
                      <a:lnTo>
                        <a:pt x="427" y="97"/>
                      </a:lnTo>
                      <a:lnTo>
                        <a:pt x="429" y="97"/>
                      </a:lnTo>
                      <a:lnTo>
                        <a:pt x="430" y="98"/>
                      </a:lnTo>
                      <a:lnTo>
                        <a:pt x="431" y="99"/>
                      </a:lnTo>
                      <a:lnTo>
                        <a:pt x="431" y="100"/>
                      </a:lnTo>
                      <a:lnTo>
                        <a:pt x="488" y="100"/>
                      </a:lnTo>
                      <a:lnTo>
                        <a:pt x="489" y="99"/>
                      </a:lnTo>
                      <a:lnTo>
                        <a:pt x="490" y="98"/>
                      </a:lnTo>
                      <a:lnTo>
                        <a:pt x="491" y="97"/>
                      </a:lnTo>
                      <a:lnTo>
                        <a:pt x="493" y="97"/>
                      </a:lnTo>
                      <a:lnTo>
                        <a:pt x="495" y="97"/>
                      </a:lnTo>
                      <a:lnTo>
                        <a:pt x="496" y="98"/>
                      </a:lnTo>
                      <a:lnTo>
                        <a:pt x="497" y="99"/>
                      </a:lnTo>
                      <a:lnTo>
                        <a:pt x="497" y="100"/>
                      </a:lnTo>
                      <a:lnTo>
                        <a:pt x="534" y="100"/>
                      </a:lnTo>
                      <a:lnTo>
                        <a:pt x="534" y="99"/>
                      </a:lnTo>
                      <a:lnTo>
                        <a:pt x="535" y="98"/>
                      </a:lnTo>
                      <a:lnTo>
                        <a:pt x="537" y="97"/>
                      </a:lnTo>
                      <a:lnTo>
                        <a:pt x="539" y="97"/>
                      </a:lnTo>
                      <a:lnTo>
                        <a:pt x="540" y="97"/>
                      </a:lnTo>
                      <a:lnTo>
                        <a:pt x="542" y="98"/>
                      </a:lnTo>
                      <a:lnTo>
                        <a:pt x="543" y="99"/>
                      </a:lnTo>
                      <a:lnTo>
                        <a:pt x="543" y="100"/>
                      </a:lnTo>
                      <a:lnTo>
                        <a:pt x="668" y="100"/>
                      </a:lnTo>
                      <a:lnTo>
                        <a:pt x="668" y="99"/>
                      </a:lnTo>
                      <a:lnTo>
                        <a:pt x="669" y="98"/>
                      </a:lnTo>
                      <a:lnTo>
                        <a:pt x="670" y="97"/>
                      </a:lnTo>
                      <a:lnTo>
                        <a:pt x="672" y="97"/>
                      </a:lnTo>
                      <a:lnTo>
                        <a:pt x="674" y="97"/>
                      </a:lnTo>
                      <a:lnTo>
                        <a:pt x="675" y="98"/>
                      </a:lnTo>
                      <a:lnTo>
                        <a:pt x="676" y="99"/>
                      </a:lnTo>
                      <a:lnTo>
                        <a:pt x="677" y="100"/>
                      </a:lnTo>
                      <a:lnTo>
                        <a:pt x="681" y="100"/>
                      </a:lnTo>
                      <a:lnTo>
                        <a:pt x="681" y="99"/>
                      </a:lnTo>
                      <a:lnTo>
                        <a:pt x="682" y="98"/>
                      </a:lnTo>
                      <a:lnTo>
                        <a:pt x="684" y="96"/>
                      </a:lnTo>
                      <a:lnTo>
                        <a:pt x="686" y="96"/>
                      </a:lnTo>
                      <a:lnTo>
                        <a:pt x="688" y="95"/>
                      </a:lnTo>
                      <a:lnTo>
                        <a:pt x="690" y="96"/>
                      </a:lnTo>
                      <a:lnTo>
                        <a:pt x="691" y="96"/>
                      </a:lnTo>
                      <a:lnTo>
                        <a:pt x="693" y="98"/>
                      </a:lnTo>
                      <a:lnTo>
                        <a:pt x="694" y="99"/>
                      </a:lnTo>
                      <a:lnTo>
                        <a:pt x="694" y="100"/>
                      </a:lnTo>
                      <a:lnTo>
                        <a:pt x="696" y="100"/>
                      </a:lnTo>
                      <a:lnTo>
                        <a:pt x="697" y="99"/>
                      </a:lnTo>
                      <a:lnTo>
                        <a:pt x="698" y="98"/>
                      </a:lnTo>
                      <a:lnTo>
                        <a:pt x="699" y="97"/>
                      </a:lnTo>
                      <a:lnTo>
                        <a:pt x="701" y="97"/>
                      </a:lnTo>
                      <a:lnTo>
                        <a:pt x="702" y="97"/>
                      </a:lnTo>
                      <a:lnTo>
                        <a:pt x="704" y="98"/>
                      </a:lnTo>
                      <a:lnTo>
                        <a:pt x="705" y="99"/>
                      </a:lnTo>
                      <a:lnTo>
                        <a:pt x="705" y="100"/>
                      </a:lnTo>
                      <a:lnTo>
                        <a:pt x="729" y="100"/>
                      </a:lnTo>
                      <a:lnTo>
                        <a:pt x="729" y="99"/>
                      </a:lnTo>
                      <a:lnTo>
                        <a:pt x="730" y="98"/>
                      </a:lnTo>
                      <a:lnTo>
                        <a:pt x="731" y="97"/>
                      </a:lnTo>
                      <a:lnTo>
                        <a:pt x="733" y="97"/>
                      </a:lnTo>
                      <a:lnTo>
                        <a:pt x="735" y="97"/>
                      </a:lnTo>
                      <a:lnTo>
                        <a:pt x="736" y="98"/>
                      </a:lnTo>
                      <a:lnTo>
                        <a:pt x="737" y="99"/>
                      </a:lnTo>
                      <a:lnTo>
                        <a:pt x="738" y="100"/>
                      </a:lnTo>
                      <a:lnTo>
                        <a:pt x="749" y="100"/>
                      </a:lnTo>
                      <a:lnTo>
                        <a:pt x="749" y="99"/>
                      </a:lnTo>
                      <a:lnTo>
                        <a:pt x="750" y="98"/>
                      </a:lnTo>
                      <a:lnTo>
                        <a:pt x="751" y="97"/>
                      </a:lnTo>
                      <a:lnTo>
                        <a:pt x="753" y="97"/>
                      </a:lnTo>
                      <a:lnTo>
                        <a:pt x="755" y="97"/>
                      </a:lnTo>
                      <a:lnTo>
                        <a:pt x="756" y="98"/>
                      </a:lnTo>
                      <a:lnTo>
                        <a:pt x="757" y="99"/>
                      </a:lnTo>
                      <a:lnTo>
                        <a:pt x="758" y="100"/>
                      </a:lnTo>
                      <a:lnTo>
                        <a:pt x="793" y="100"/>
                      </a:lnTo>
                      <a:lnTo>
                        <a:pt x="793" y="98"/>
                      </a:lnTo>
                      <a:lnTo>
                        <a:pt x="794" y="96"/>
                      </a:lnTo>
                      <a:lnTo>
                        <a:pt x="795" y="95"/>
                      </a:lnTo>
                      <a:lnTo>
                        <a:pt x="797" y="93"/>
                      </a:lnTo>
                      <a:lnTo>
                        <a:pt x="800" y="92"/>
                      </a:lnTo>
                      <a:lnTo>
                        <a:pt x="802" y="92"/>
                      </a:lnTo>
                      <a:lnTo>
                        <a:pt x="805" y="92"/>
                      </a:lnTo>
                      <a:lnTo>
                        <a:pt x="808" y="92"/>
                      </a:lnTo>
                      <a:lnTo>
                        <a:pt x="810" y="93"/>
                      </a:lnTo>
                      <a:lnTo>
                        <a:pt x="812" y="95"/>
                      </a:lnTo>
                      <a:lnTo>
                        <a:pt x="814" y="96"/>
                      </a:lnTo>
                      <a:lnTo>
                        <a:pt x="815" y="98"/>
                      </a:lnTo>
                      <a:lnTo>
                        <a:pt x="815" y="100"/>
                      </a:lnTo>
                      <a:lnTo>
                        <a:pt x="824" y="100"/>
                      </a:lnTo>
                      <a:lnTo>
                        <a:pt x="824" y="99"/>
                      </a:lnTo>
                      <a:lnTo>
                        <a:pt x="825" y="98"/>
                      </a:lnTo>
                      <a:lnTo>
                        <a:pt x="827" y="97"/>
                      </a:lnTo>
                      <a:lnTo>
                        <a:pt x="829" y="97"/>
                      </a:lnTo>
                      <a:lnTo>
                        <a:pt x="830" y="97"/>
                      </a:lnTo>
                      <a:lnTo>
                        <a:pt x="832" y="98"/>
                      </a:lnTo>
                      <a:lnTo>
                        <a:pt x="833" y="99"/>
                      </a:lnTo>
                      <a:lnTo>
                        <a:pt x="833" y="100"/>
                      </a:lnTo>
                      <a:lnTo>
                        <a:pt x="840" y="100"/>
                      </a:lnTo>
                      <a:lnTo>
                        <a:pt x="840" y="99"/>
                      </a:lnTo>
                      <a:lnTo>
                        <a:pt x="841" y="98"/>
                      </a:lnTo>
                      <a:lnTo>
                        <a:pt x="843" y="97"/>
                      </a:lnTo>
                      <a:lnTo>
                        <a:pt x="844" y="97"/>
                      </a:lnTo>
                      <a:lnTo>
                        <a:pt x="846" y="97"/>
                      </a:lnTo>
                      <a:lnTo>
                        <a:pt x="848" y="98"/>
                      </a:lnTo>
                      <a:lnTo>
                        <a:pt x="849" y="99"/>
                      </a:lnTo>
                      <a:lnTo>
                        <a:pt x="849" y="100"/>
                      </a:lnTo>
                      <a:lnTo>
                        <a:pt x="857" y="100"/>
                      </a:lnTo>
                      <a:lnTo>
                        <a:pt x="858" y="99"/>
                      </a:lnTo>
                      <a:lnTo>
                        <a:pt x="859" y="97"/>
                      </a:lnTo>
                      <a:lnTo>
                        <a:pt x="860" y="96"/>
                      </a:lnTo>
                      <a:lnTo>
                        <a:pt x="862" y="96"/>
                      </a:lnTo>
                      <a:lnTo>
                        <a:pt x="864" y="95"/>
                      </a:lnTo>
                      <a:lnTo>
                        <a:pt x="866" y="96"/>
                      </a:lnTo>
                      <a:lnTo>
                        <a:pt x="868" y="96"/>
                      </a:lnTo>
                      <a:lnTo>
                        <a:pt x="870" y="97"/>
                      </a:lnTo>
                      <a:lnTo>
                        <a:pt x="870" y="99"/>
                      </a:lnTo>
                      <a:lnTo>
                        <a:pt x="871" y="100"/>
                      </a:lnTo>
                      <a:lnTo>
                        <a:pt x="894" y="100"/>
                      </a:lnTo>
                      <a:lnTo>
                        <a:pt x="895" y="99"/>
                      </a:lnTo>
                      <a:lnTo>
                        <a:pt x="896" y="98"/>
                      </a:lnTo>
                      <a:lnTo>
                        <a:pt x="897" y="97"/>
                      </a:lnTo>
                      <a:lnTo>
                        <a:pt x="899" y="97"/>
                      </a:lnTo>
                      <a:lnTo>
                        <a:pt x="901" y="97"/>
                      </a:lnTo>
                      <a:lnTo>
                        <a:pt x="902" y="98"/>
                      </a:lnTo>
                      <a:lnTo>
                        <a:pt x="903" y="99"/>
                      </a:lnTo>
                      <a:lnTo>
                        <a:pt x="903" y="100"/>
                      </a:lnTo>
                      <a:lnTo>
                        <a:pt x="910" y="100"/>
                      </a:lnTo>
                      <a:lnTo>
                        <a:pt x="910" y="99"/>
                      </a:lnTo>
                      <a:lnTo>
                        <a:pt x="911" y="97"/>
                      </a:lnTo>
                      <a:lnTo>
                        <a:pt x="913" y="95"/>
                      </a:lnTo>
                      <a:lnTo>
                        <a:pt x="915" y="94"/>
                      </a:lnTo>
                      <a:lnTo>
                        <a:pt x="918" y="94"/>
                      </a:lnTo>
                      <a:lnTo>
                        <a:pt x="920" y="94"/>
                      </a:lnTo>
                      <a:lnTo>
                        <a:pt x="922" y="94"/>
                      </a:lnTo>
                      <a:lnTo>
                        <a:pt x="925" y="95"/>
                      </a:lnTo>
                      <a:lnTo>
                        <a:pt x="926" y="97"/>
                      </a:lnTo>
                      <a:lnTo>
                        <a:pt x="927" y="99"/>
                      </a:lnTo>
                      <a:lnTo>
                        <a:pt x="928" y="100"/>
                      </a:lnTo>
                      <a:lnTo>
                        <a:pt x="985" y="100"/>
                      </a:lnTo>
                      <a:lnTo>
                        <a:pt x="985" y="99"/>
                      </a:lnTo>
                      <a:lnTo>
                        <a:pt x="986" y="98"/>
                      </a:lnTo>
                      <a:lnTo>
                        <a:pt x="988" y="97"/>
                      </a:lnTo>
                      <a:lnTo>
                        <a:pt x="990" y="97"/>
                      </a:lnTo>
                      <a:lnTo>
                        <a:pt x="991" y="97"/>
                      </a:lnTo>
                      <a:lnTo>
                        <a:pt x="993" y="98"/>
                      </a:lnTo>
                      <a:lnTo>
                        <a:pt x="994" y="99"/>
                      </a:lnTo>
                      <a:lnTo>
                        <a:pt x="994" y="100"/>
                      </a:lnTo>
                      <a:lnTo>
                        <a:pt x="1012" y="100"/>
                      </a:lnTo>
                      <a:lnTo>
                        <a:pt x="1012" y="99"/>
                      </a:lnTo>
                      <a:lnTo>
                        <a:pt x="1013" y="98"/>
                      </a:lnTo>
                      <a:lnTo>
                        <a:pt x="1015" y="97"/>
                      </a:lnTo>
                      <a:lnTo>
                        <a:pt x="1017" y="97"/>
                      </a:lnTo>
                      <a:lnTo>
                        <a:pt x="1018" y="97"/>
                      </a:lnTo>
                      <a:lnTo>
                        <a:pt x="1020" y="98"/>
                      </a:lnTo>
                      <a:lnTo>
                        <a:pt x="1021" y="99"/>
                      </a:lnTo>
                      <a:lnTo>
                        <a:pt x="1021" y="100"/>
                      </a:lnTo>
                      <a:lnTo>
                        <a:pt x="1042" y="100"/>
                      </a:lnTo>
                      <a:lnTo>
                        <a:pt x="1043" y="99"/>
                      </a:lnTo>
                      <a:lnTo>
                        <a:pt x="1044" y="98"/>
                      </a:lnTo>
                      <a:lnTo>
                        <a:pt x="1045" y="97"/>
                      </a:lnTo>
                      <a:lnTo>
                        <a:pt x="1047" y="97"/>
                      </a:lnTo>
                      <a:lnTo>
                        <a:pt x="1049" y="97"/>
                      </a:lnTo>
                      <a:lnTo>
                        <a:pt x="1050" y="98"/>
                      </a:lnTo>
                      <a:lnTo>
                        <a:pt x="1051" y="99"/>
                      </a:lnTo>
                      <a:lnTo>
                        <a:pt x="1051" y="100"/>
                      </a:lnTo>
                      <a:lnTo>
                        <a:pt x="1056" y="100"/>
                      </a:lnTo>
                      <a:lnTo>
                        <a:pt x="1056" y="99"/>
                      </a:lnTo>
                      <a:lnTo>
                        <a:pt x="1057" y="98"/>
                      </a:lnTo>
                      <a:lnTo>
                        <a:pt x="1059" y="97"/>
                      </a:lnTo>
                      <a:lnTo>
                        <a:pt x="1060" y="97"/>
                      </a:lnTo>
                      <a:lnTo>
                        <a:pt x="1062" y="97"/>
                      </a:lnTo>
                      <a:lnTo>
                        <a:pt x="1064" y="98"/>
                      </a:lnTo>
                      <a:lnTo>
                        <a:pt x="1064" y="99"/>
                      </a:lnTo>
                      <a:lnTo>
                        <a:pt x="1065" y="100"/>
                      </a:lnTo>
                      <a:lnTo>
                        <a:pt x="1120" y="100"/>
                      </a:lnTo>
                      <a:lnTo>
                        <a:pt x="1120" y="99"/>
                      </a:lnTo>
                      <a:lnTo>
                        <a:pt x="1121" y="97"/>
                      </a:lnTo>
                      <a:lnTo>
                        <a:pt x="1122" y="96"/>
                      </a:lnTo>
                      <a:lnTo>
                        <a:pt x="1124" y="95"/>
                      </a:lnTo>
                      <a:lnTo>
                        <a:pt x="1127" y="94"/>
                      </a:lnTo>
                      <a:lnTo>
                        <a:pt x="1129" y="94"/>
                      </a:lnTo>
                      <a:lnTo>
                        <a:pt x="1131" y="95"/>
                      </a:lnTo>
                      <a:lnTo>
                        <a:pt x="1133" y="96"/>
                      </a:lnTo>
                      <a:lnTo>
                        <a:pt x="1135" y="97"/>
                      </a:lnTo>
                      <a:lnTo>
                        <a:pt x="1135" y="99"/>
                      </a:lnTo>
                      <a:lnTo>
                        <a:pt x="1136" y="100"/>
                      </a:lnTo>
                      <a:lnTo>
                        <a:pt x="1149" y="100"/>
                      </a:lnTo>
                      <a:lnTo>
                        <a:pt x="1149" y="99"/>
                      </a:lnTo>
                      <a:lnTo>
                        <a:pt x="1150" y="98"/>
                      </a:lnTo>
                      <a:lnTo>
                        <a:pt x="1151" y="97"/>
                      </a:lnTo>
                      <a:lnTo>
                        <a:pt x="1153" y="97"/>
                      </a:lnTo>
                      <a:lnTo>
                        <a:pt x="1155" y="97"/>
                      </a:lnTo>
                      <a:lnTo>
                        <a:pt x="1157" y="98"/>
                      </a:lnTo>
                      <a:lnTo>
                        <a:pt x="1157" y="99"/>
                      </a:lnTo>
                      <a:lnTo>
                        <a:pt x="1158" y="100"/>
                      </a:lnTo>
                      <a:lnTo>
                        <a:pt x="1198" y="100"/>
                      </a:lnTo>
                      <a:lnTo>
                        <a:pt x="1198" y="99"/>
                      </a:lnTo>
                      <a:lnTo>
                        <a:pt x="1199" y="98"/>
                      </a:lnTo>
                      <a:lnTo>
                        <a:pt x="1200" y="97"/>
                      </a:lnTo>
                      <a:lnTo>
                        <a:pt x="1202" y="97"/>
                      </a:lnTo>
                      <a:lnTo>
                        <a:pt x="1204" y="97"/>
                      </a:lnTo>
                      <a:lnTo>
                        <a:pt x="1205" y="98"/>
                      </a:lnTo>
                      <a:lnTo>
                        <a:pt x="1206" y="99"/>
                      </a:lnTo>
                      <a:lnTo>
                        <a:pt x="1207" y="100"/>
                      </a:lnTo>
                      <a:lnTo>
                        <a:pt x="1215" y="100"/>
                      </a:lnTo>
                      <a:lnTo>
                        <a:pt x="1215" y="99"/>
                      </a:lnTo>
                      <a:lnTo>
                        <a:pt x="1216" y="97"/>
                      </a:lnTo>
                      <a:lnTo>
                        <a:pt x="1217" y="96"/>
                      </a:lnTo>
                      <a:lnTo>
                        <a:pt x="1219" y="96"/>
                      </a:lnTo>
                      <a:lnTo>
                        <a:pt x="1221" y="95"/>
                      </a:lnTo>
                      <a:lnTo>
                        <a:pt x="1223" y="96"/>
                      </a:lnTo>
                      <a:lnTo>
                        <a:pt x="1225" y="96"/>
                      </a:lnTo>
                      <a:lnTo>
                        <a:pt x="1227" y="97"/>
                      </a:lnTo>
                      <a:lnTo>
                        <a:pt x="1228" y="99"/>
                      </a:lnTo>
                      <a:lnTo>
                        <a:pt x="1228" y="100"/>
                      </a:lnTo>
                      <a:lnTo>
                        <a:pt x="1255" y="100"/>
                      </a:lnTo>
                      <a:lnTo>
                        <a:pt x="1256" y="99"/>
                      </a:lnTo>
                      <a:lnTo>
                        <a:pt x="1256" y="98"/>
                      </a:lnTo>
                      <a:lnTo>
                        <a:pt x="1258" y="97"/>
                      </a:lnTo>
                      <a:lnTo>
                        <a:pt x="1260" y="97"/>
                      </a:lnTo>
                      <a:lnTo>
                        <a:pt x="1261" y="97"/>
                      </a:lnTo>
                      <a:lnTo>
                        <a:pt x="1263" y="98"/>
                      </a:lnTo>
                      <a:lnTo>
                        <a:pt x="1264" y="99"/>
                      </a:lnTo>
                      <a:lnTo>
                        <a:pt x="1264" y="100"/>
                      </a:lnTo>
                      <a:lnTo>
                        <a:pt x="1279" y="100"/>
                      </a:lnTo>
                      <a:lnTo>
                        <a:pt x="1279" y="99"/>
                      </a:lnTo>
                      <a:lnTo>
                        <a:pt x="1280" y="98"/>
                      </a:lnTo>
                      <a:lnTo>
                        <a:pt x="1282" y="97"/>
                      </a:lnTo>
                      <a:lnTo>
                        <a:pt x="1283" y="97"/>
                      </a:lnTo>
                      <a:lnTo>
                        <a:pt x="1285" y="97"/>
                      </a:lnTo>
                      <a:lnTo>
                        <a:pt x="1286" y="98"/>
                      </a:lnTo>
                      <a:lnTo>
                        <a:pt x="1287" y="99"/>
                      </a:lnTo>
                      <a:lnTo>
                        <a:pt x="1288" y="100"/>
                      </a:lnTo>
                      <a:lnTo>
                        <a:pt x="1300" y="100"/>
                      </a:lnTo>
                      <a:lnTo>
                        <a:pt x="1301" y="99"/>
                      </a:lnTo>
                      <a:lnTo>
                        <a:pt x="1302" y="98"/>
                      </a:lnTo>
                      <a:lnTo>
                        <a:pt x="1303" y="97"/>
                      </a:lnTo>
                      <a:lnTo>
                        <a:pt x="1305" y="97"/>
                      </a:lnTo>
                      <a:lnTo>
                        <a:pt x="1307" y="97"/>
                      </a:lnTo>
                      <a:lnTo>
                        <a:pt x="1308" y="98"/>
                      </a:lnTo>
                      <a:lnTo>
                        <a:pt x="1309" y="99"/>
                      </a:lnTo>
                      <a:lnTo>
                        <a:pt x="1309" y="100"/>
                      </a:lnTo>
                      <a:lnTo>
                        <a:pt x="1320" y="100"/>
                      </a:lnTo>
                      <a:lnTo>
                        <a:pt x="1321" y="99"/>
                      </a:lnTo>
                      <a:lnTo>
                        <a:pt x="1322" y="98"/>
                      </a:lnTo>
                      <a:lnTo>
                        <a:pt x="1323" y="97"/>
                      </a:lnTo>
                      <a:lnTo>
                        <a:pt x="1325" y="97"/>
                      </a:lnTo>
                      <a:lnTo>
                        <a:pt x="1326" y="97"/>
                      </a:lnTo>
                      <a:lnTo>
                        <a:pt x="1328" y="98"/>
                      </a:lnTo>
                      <a:lnTo>
                        <a:pt x="1329" y="99"/>
                      </a:lnTo>
                      <a:lnTo>
                        <a:pt x="1329" y="100"/>
                      </a:lnTo>
                      <a:lnTo>
                        <a:pt x="1340" y="100"/>
                      </a:lnTo>
                      <a:lnTo>
                        <a:pt x="1340" y="99"/>
                      </a:lnTo>
                      <a:lnTo>
                        <a:pt x="1341" y="98"/>
                      </a:lnTo>
                      <a:lnTo>
                        <a:pt x="1342" y="97"/>
                      </a:lnTo>
                      <a:lnTo>
                        <a:pt x="1344" y="97"/>
                      </a:lnTo>
                      <a:lnTo>
                        <a:pt x="1346" y="97"/>
                      </a:lnTo>
                      <a:lnTo>
                        <a:pt x="1347" y="98"/>
                      </a:lnTo>
                      <a:lnTo>
                        <a:pt x="1348" y="99"/>
                      </a:lnTo>
                      <a:lnTo>
                        <a:pt x="1349" y="100"/>
                      </a:lnTo>
                      <a:lnTo>
                        <a:pt x="1351" y="100"/>
                      </a:lnTo>
                      <a:lnTo>
                        <a:pt x="1352" y="99"/>
                      </a:lnTo>
                      <a:lnTo>
                        <a:pt x="1353" y="98"/>
                      </a:lnTo>
                      <a:lnTo>
                        <a:pt x="1354" y="97"/>
                      </a:lnTo>
                      <a:lnTo>
                        <a:pt x="1356" y="97"/>
                      </a:lnTo>
                      <a:lnTo>
                        <a:pt x="1358" y="97"/>
                      </a:lnTo>
                      <a:lnTo>
                        <a:pt x="1359" y="98"/>
                      </a:lnTo>
                      <a:lnTo>
                        <a:pt x="1360" y="99"/>
                      </a:lnTo>
                      <a:lnTo>
                        <a:pt x="1360" y="100"/>
                      </a:lnTo>
                      <a:lnTo>
                        <a:pt x="1365" y="100"/>
                      </a:lnTo>
                      <a:lnTo>
                        <a:pt x="1365" y="99"/>
                      </a:lnTo>
                      <a:lnTo>
                        <a:pt x="1366" y="97"/>
                      </a:lnTo>
                      <a:lnTo>
                        <a:pt x="1368" y="95"/>
                      </a:lnTo>
                      <a:lnTo>
                        <a:pt x="1370" y="94"/>
                      </a:lnTo>
                      <a:lnTo>
                        <a:pt x="1372" y="94"/>
                      </a:lnTo>
                      <a:lnTo>
                        <a:pt x="1375" y="94"/>
                      </a:lnTo>
                      <a:lnTo>
                        <a:pt x="1377" y="94"/>
                      </a:lnTo>
                      <a:lnTo>
                        <a:pt x="1379" y="95"/>
                      </a:lnTo>
                      <a:lnTo>
                        <a:pt x="1381" y="97"/>
                      </a:lnTo>
                      <a:lnTo>
                        <a:pt x="1382" y="99"/>
                      </a:lnTo>
                      <a:lnTo>
                        <a:pt x="1382" y="100"/>
                      </a:lnTo>
                      <a:lnTo>
                        <a:pt x="1421" y="100"/>
                      </a:lnTo>
                      <a:lnTo>
                        <a:pt x="1421" y="99"/>
                      </a:lnTo>
                      <a:lnTo>
                        <a:pt x="1422" y="98"/>
                      </a:lnTo>
                      <a:lnTo>
                        <a:pt x="1423" y="97"/>
                      </a:lnTo>
                      <a:lnTo>
                        <a:pt x="1425" y="97"/>
                      </a:lnTo>
                      <a:lnTo>
                        <a:pt x="1427" y="97"/>
                      </a:lnTo>
                      <a:lnTo>
                        <a:pt x="1428" y="98"/>
                      </a:lnTo>
                      <a:lnTo>
                        <a:pt x="1429" y="99"/>
                      </a:lnTo>
                      <a:lnTo>
                        <a:pt x="1430" y="100"/>
                      </a:lnTo>
                      <a:lnTo>
                        <a:pt x="1434" y="100"/>
                      </a:lnTo>
                      <a:lnTo>
                        <a:pt x="1434" y="99"/>
                      </a:lnTo>
                      <a:lnTo>
                        <a:pt x="1435" y="98"/>
                      </a:lnTo>
                      <a:lnTo>
                        <a:pt x="1437" y="97"/>
                      </a:lnTo>
                      <a:lnTo>
                        <a:pt x="1438" y="97"/>
                      </a:lnTo>
                      <a:lnTo>
                        <a:pt x="1440" y="97"/>
                      </a:lnTo>
                      <a:lnTo>
                        <a:pt x="1441" y="98"/>
                      </a:lnTo>
                      <a:lnTo>
                        <a:pt x="1443" y="99"/>
                      </a:lnTo>
                      <a:lnTo>
                        <a:pt x="1443" y="100"/>
                      </a:lnTo>
                      <a:lnTo>
                        <a:pt x="1461" y="100"/>
                      </a:lnTo>
                      <a:lnTo>
                        <a:pt x="1461" y="99"/>
                      </a:lnTo>
                      <a:lnTo>
                        <a:pt x="1463" y="98"/>
                      </a:lnTo>
                      <a:lnTo>
                        <a:pt x="1464" y="97"/>
                      </a:lnTo>
                      <a:lnTo>
                        <a:pt x="1466" y="97"/>
                      </a:lnTo>
                      <a:lnTo>
                        <a:pt x="1467" y="97"/>
                      </a:lnTo>
                      <a:lnTo>
                        <a:pt x="1469" y="98"/>
                      </a:lnTo>
                      <a:lnTo>
                        <a:pt x="1470" y="99"/>
                      </a:lnTo>
                      <a:lnTo>
                        <a:pt x="1470" y="100"/>
                      </a:lnTo>
                      <a:lnTo>
                        <a:pt x="1506" y="100"/>
                      </a:lnTo>
                      <a:lnTo>
                        <a:pt x="150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670080" y="29696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9" name=""/>
                <p:cNvSpPr/>
                <p:nvPr/>
              </p:nvSpPr>
              <p:spPr>
                <a:xfrm>
                  <a:off x="6623280" y="2042640"/>
                  <a:ext cx="242280" cy="83880"/>
                </a:xfrm>
                <a:prstGeom prst="rect">
                  <a:avLst/>
                </a:prstGeom>
                <a:blipFill rotWithShape="0">
                  <a:blip r:embed="rId85"/>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40" name=""/>
                <p:cNvSpPr/>
                <p:nvPr/>
              </p:nvSpPr>
              <p:spPr>
                <a:xfrm>
                  <a:off x="6656760" y="2050560"/>
                  <a:ext cx="9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VAN</a:t>
                  </a:r>
                  <a:endParaRPr b="0" lang="en-US" sz="300" spc="-1" strike="noStrike">
                    <a:solidFill>
                      <a:srgbClr val="ffffff"/>
                    </a:solidFill>
                    <a:latin typeface="Arial"/>
                  </a:endParaRPr>
                </a:p>
              </p:txBody>
            </p:sp>
            <p:sp>
              <p:nvSpPr>
                <p:cNvPr id="841" name=""/>
                <p:cNvSpPr/>
                <p:nvPr/>
              </p:nvSpPr>
              <p:spPr>
                <a:xfrm>
                  <a:off x="6639480" y="208260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6651000" y="2138760"/>
                  <a:ext cx="92880" cy="698400"/>
                </a:xfrm>
                <a:custGeom>
                  <a:avLst/>
                  <a:gdLst/>
                  <a:ahLst/>
                  <a:rect l="l" t="t" r="r" b="b"/>
                  <a:pathLst>
                    <a:path w="88" h="523">
                      <a:moveTo>
                        <a:pt x="0" y="523"/>
                      </a:moveTo>
                      <a:lnTo>
                        <a:pt x="0" y="497"/>
                      </a:lnTo>
                      <a:lnTo>
                        <a:pt x="62" y="497"/>
                      </a:lnTo>
                      <a:lnTo>
                        <a:pt x="63" y="495"/>
                      </a:lnTo>
                      <a:lnTo>
                        <a:pt x="64" y="494"/>
                      </a:lnTo>
                      <a:lnTo>
                        <a:pt x="65" y="493"/>
                      </a:lnTo>
                      <a:lnTo>
                        <a:pt x="67" y="493"/>
                      </a:lnTo>
                      <a:lnTo>
                        <a:pt x="69" y="493"/>
                      </a:lnTo>
                      <a:lnTo>
                        <a:pt x="70" y="494"/>
                      </a:lnTo>
                      <a:lnTo>
                        <a:pt x="71" y="495"/>
                      </a:lnTo>
                      <a:lnTo>
                        <a:pt x="72" y="497"/>
                      </a:lnTo>
                      <a:lnTo>
                        <a:pt x="88" y="497"/>
                      </a:lnTo>
                      <a:lnTo>
                        <a:pt x="8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6737760" y="21265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4" name=""/>
                <p:cNvSpPr/>
                <p:nvPr/>
              </p:nvSpPr>
              <p:spPr>
                <a:xfrm>
                  <a:off x="5346720" y="2110680"/>
                  <a:ext cx="3060360" cy="2812680"/>
                </a:xfrm>
                <a:custGeom>
                  <a:avLst/>
                  <a:gdLst/>
                  <a:ahLst/>
                  <a:rect l="l" t="t" r="r" b="b"/>
                  <a:pathLst>
                    <a:path w="2891" h="2106">
                      <a:moveTo>
                        <a:pt x="0" y="2106"/>
                      </a:moveTo>
                      <a:lnTo>
                        <a:pt x="29" y="2106"/>
                      </a:lnTo>
                      <a:lnTo>
                        <a:pt x="30" y="2105"/>
                      </a:lnTo>
                      <a:lnTo>
                        <a:pt x="30" y="2103"/>
                      </a:lnTo>
                      <a:lnTo>
                        <a:pt x="32" y="2103"/>
                      </a:lnTo>
                      <a:lnTo>
                        <a:pt x="34" y="2102"/>
                      </a:lnTo>
                      <a:lnTo>
                        <a:pt x="35" y="2103"/>
                      </a:lnTo>
                      <a:lnTo>
                        <a:pt x="37" y="2103"/>
                      </a:lnTo>
                      <a:lnTo>
                        <a:pt x="38" y="2105"/>
                      </a:lnTo>
                      <a:lnTo>
                        <a:pt x="38" y="2106"/>
                      </a:lnTo>
                      <a:lnTo>
                        <a:pt x="101" y="2106"/>
                      </a:lnTo>
                      <a:lnTo>
                        <a:pt x="101" y="2105"/>
                      </a:lnTo>
                      <a:lnTo>
                        <a:pt x="102" y="2103"/>
                      </a:lnTo>
                      <a:lnTo>
                        <a:pt x="103" y="2103"/>
                      </a:lnTo>
                      <a:lnTo>
                        <a:pt x="105" y="2102"/>
                      </a:lnTo>
                      <a:lnTo>
                        <a:pt x="107" y="2103"/>
                      </a:lnTo>
                      <a:lnTo>
                        <a:pt x="108" y="2103"/>
                      </a:lnTo>
                      <a:lnTo>
                        <a:pt x="109" y="2105"/>
                      </a:lnTo>
                      <a:lnTo>
                        <a:pt x="110" y="2106"/>
                      </a:lnTo>
                      <a:lnTo>
                        <a:pt x="252" y="2106"/>
                      </a:lnTo>
                      <a:lnTo>
                        <a:pt x="252" y="2105"/>
                      </a:lnTo>
                      <a:lnTo>
                        <a:pt x="253" y="2103"/>
                      </a:lnTo>
                      <a:lnTo>
                        <a:pt x="255" y="2103"/>
                      </a:lnTo>
                      <a:lnTo>
                        <a:pt x="256" y="2102"/>
                      </a:lnTo>
                      <a:lnTo>
                        <a:pt x="258" y="2103"/>
                      </a:lnTo>
                      <a:lnTo>
                        <a:pt x="260" y="2103"/>
                      </a:lnTo>
                      <a:lnTo>
                        <a:pt x="261" y="2105"/>
                      </a:lnTo>
                      <a:lnTo>
                        <a:pt x="261" y="2106"/>
                      </a:lnTo>
                      <a:lnTo>
                        <a:pt x="429" y="2106"/>
                      </a:lnTo>
                      <a:lnTo>
                        <a:pt x="430" y="2105"/>
                      </a:lnTo>
                      <a:lnTo>
                        <a:pt x="431" y="2103"/>
                      </a:lnTo>
                      <a:lnTo>
                        <a:pt x="432" y="2103"/>
                      </a:lnTo>
                      <a:lnTo>
                        <a:pt x="434" y="2102"/>
                      </a:lnTo>
                      <a:lnTo>
                        <a:pt x="436" y="2103"/>
                      </a:lnTo>
                      <a:lnTo>
                        <a:pt x="437" y="2103"/>
                      </a:lnTo>
                      <a:lnTo>
                        <a:pt x="438" y="2105"/>
                      </a:lnTo>
                      <a:lnTo>
                        <a:pt x="438" y="2106"/>
                      </a:lnTo>
                      <a:lnTo>
                        <a:pt x="477" y="2106"/>
                      </a:lnTo>
                      <a:lnTo>
                        <a:pt x="477" y="2105"/>
                      </a:lnTo>
                      <a:lnTo>
                        <a:pt x="478" y="2103"/>
                      </a:lnTo>
                      <a:lnTo>
                        <a:pt x="479" y="2103"/>
                      </a:lnTo>
                      <a:lnTo>
                        <a:pt x="481" y="2102"/>
                      </a:lnTo>
                      <a:lnTo>
                        <a:pt x="483" y="2103"/>
                      </a:lnTo>
                      <a:lnTo>
                        <a:pt x="484" y="2103"/>
                      </a:lnTo>
                      <a:lnTo>
                        <a:pt x="485" y="2105"/>
                      </a:lnTo>
                      <a:lnTo>
                        <a:pt x="486" y="2106"/>
                      </a:lnTo>
                      <a:lnTo>
                        <a:pt x="522" y="2106"/>
                      </a:lnTo>
                      <a:lnTo>
                        <a:pt x="523" y="2105"/>
                      </a:lnTo>
                      <a:lnTo>
                        <a:pt x="524" y="2103"/>
                      </a:lnTo>
                      <a:lnTo>
                        <a:pt x="525" y="2103"/>
                      </a:lnTo>
                      <a:lnTo>
                        <a:pt x="527" y="2102"/>
                      </a:lnTo>
                      <a:lnTo>
                        <a:pt x="528" y="2103"/>
                      </a:lnTo>
                      <a:lnTo>
                        <a:pt x="530" y="2103"/>
                      </a:lnTo>
                      <a:lnTo>
                        <a:pt x="531" y="2105"/>
                      </a:lnTo>
                      <a:lnTo>
                        <a:pt x="531" y="2106"/>
                      </a:lnTo>
                      <a:lnTo>
                        <a:pt x="574" y="2106"/>
                      </a:lnTo>
                      <a:lnTo>
                        <a:pt x="574" y="2105"/>
                      </a:lnTo>
                      <a:lnTo>
                        <a:pt x="575" y="2103"/>
                      </a:lnTo>
                      <a:lnTo>
                        <a:pt x="577" y="2103"/>
                      </a:lnTo>
                      <a:lnTo>
                        <a:pt x="579" y="2102"/>
                      </a:lnTo>
                      <a:lnTo>
                        <a:pt x="580" y="2103"/>
                      </a:lnTo>
                      <a:lnTo>
                        <a:pt x="582" y="2103"/>
                      </a:lnTo>
                      <a:lnTo>
                        <a:pt x="583" y="2105"/>
                      </a:lnTo>
                      <a:lnTo>
                        <a:pt x="583" y="2106"/>
                      </a:lnTo>
                      <a:lnTo>
                        <a:pt x="628" y="2106"/>
                      </a:lnTo>
                      <a:lnTo>
                        <a:pt x="628" y="2105"/>
                      </a:lnTo>
                      <a:lnTo>
                        <a:pt x="629" y="2103"/>
                      </a:lnTo>
                      <a:lnTo>
                        <a:pt x="631" y="2103"/>
                      </a:lnTo>
                      <a:lnTo>
                        <a:pt x="633" y="2102"/>
                      </a:lnTo>
                      <a:lnTo>
                        <a:pt x="634" y="2103"/>
                      </a:lnTo>
                      <a:lnTo>
                        <a:pt x="636" y="2103"/>
                      </a:lnTo>
                      <a:lnTo>
                        <a:pt x="637" y="2105"/>
                      </a:lnTo>
                      <a:lnTo>
                        <a:pt x="637" y="2106"/>
                      </a:lnTo>
                      <a:lnTo>
                        <a:pt x="880" y="2106"/>
                      </a:lnTo>
                      <a:lnTo>
                        <a:pt x="881" y="2105"/>
                      </a:lnTo>
                      <a:lnTo>
                        <a:pt x="881" y="2103"/>
                      </a:lnTo>
                      <a:lnTo>
                        <a:pt x="883" y="2103"/>
                      </a:lnTo>
                      <a:lnTo>
                        <a:pt x="885" y="2102"/>
                      </a:lnTo>
                      <a:lnTo>
                        <a:pt x="886" y="2103"/>
                      </a:lnTo>
                      <a:lnTo>
                        <a:pt x="888" y="2103"/>
                      </a:lnTo>
                      <a:lnTo>
                        <a:pt x="889" y="2105"/>
                      </a:lnTo>
                      <a:lnTo>
                        <a:pt x="889" y="2106"/>
                      </a:lnTo>
                      <a:lnTo>
                        <a:pt x="1006" y="2106"/>
                      </a:lnTo>
                      <a:lnTo>
                        <a:pt x="1006" y="2046"/>
                      </a:lnTo>
                      <a:lnTo>
                        <a:pt x="1252" y="2046"/>
                      </a:lnTo>
                      <a:lnTo>
                        <a:pt x="1252" y="2044"/>
                      </a:lnTo>
                      <a:lnTo>
                        <a:pt x="1253" y="2043"/>
                      </a:lnTo>
                      <a:lnTo>
                        <a:pt x="1255" y="2043"/>
                      </a:lnTo>
                      <a:lnTo>
                        <a:pt x="1256" y="2042"/>
                      </a:lnTo>
                      <a:lnTo>
                        <a:pt x="1258" y="2043"/>
                      </a:lnTo>
                      <a:lnTo>
                        <a:pt x="1259" y="2043"/>
                      </a:lnTo>
                      <a:lnTo>
                        <a:pt x="1260" y="2044"/>
                      </a:lnTo>
                      <a:lnTo>
                        <a:pt x="1261" y="2046"/>
                      </a:lnTo>
                      <a:lnTo>
                        <a:pt x="1272" y="2046"/>
                      </a:lnTo>
                      <a:lnTo>
                        <a:pt x="1272" y="2044"/>
                      </a:lnTo>
                      <a:lnTo>
                        <a:pt x="1273" y="2043"/>
                      </a:lnTo>
                      <a:lnTo>
                        <a:pt x="1275" y="2043"/>
                      </a:lnTo>
                      <a:lnTo>
                        <a:pt x="1276" y="2042"/>
                      </a:lnTo>
                      <a:lnTo>
                        <a:pt x="1278" y="2043"/>
                      </a:lnTo>
                      <a:lnTo>
                        <a:pt x="1280" y="2043"/>
                      </a:lnTo>
                      <a:lnTo>
                        <a:pt x="1281" y="2044"/>
                      </a:lnTo>
                      <a:lnTo>
                        <a:pt x="1281" y="2046"/>
                      </a:lnTo>
                      <a:lnTo>
                        <a:pt x="1409" y="2046"/>
                      </a:lnTo>
                      <a:lnTo>
                        <a:pt x="1409" y="2044"/>
                      </a:lnTo>
                      <a:lnTo>
                        <a:pt x="1410" y="2043"/>
                      </a:lnTo>
                      <a:lnTo>
                        <a:pt x="1412" y="2041"/>
                      </a:lnTo>
                      <a:lnTo>
                        <a:pt x="1414" y="2041"/>
                      </a:lnTo>
                      <a:lnTo>
                        <a:pt x="1416" y="2040"/>
                      </a:lnTo>
                      <a:lnTo>
                        <a:pt x="1418" y="2041"/>
                      </a:lnTo>
                      <a:lnTo>
                        <a:pt x="1420" y="2041"/>
                      </a:lnTo>
                      <a:lnTo>
                        <a:pt x="1421" y="2043"/>
                      </a:lnTo>
                      <a:lnTo>
                        <a:pt x="1422" y="2044"/>
                      </a:lnTo>
                      <a:lnTo>
                        <a:pt x="1423" y="2046"/>
                      </a:lnTo>
                      <a:lnTo>
                        <a:pt x="1800" y="2046"/>
                      </a:lnTo>
                      <a:lnTo>
                        <a:pt x="1801" y="2044"/>
                      </a:lnTo>
                      <a:lnTo>
                        <a:pt x="1802" y="2043"/>
                      </a:lnTo>
                      <a:lnTo>
                        <a:pt x="1803" y="2043"/>
                      </a:lnTo>
                      <a:lnTo>
                        <a:pt x="1805" y="2042"/>
                      </a:lnTo>
                      <a:lnTo>
                        <a:pt x="1807" y="2043"/>
                      </a:lnTo>
                      <a:lnTo>
                        <a:pt x="1808" y="2043"/>
                      </a:lnTo>
                      <a:lnTo>
                        <a:pt x="1809" y="2044"/>
                      </a:lnTo>
                      <a:lnTo>
                        <a:pt x="1809" y="2046"/>
                      </a:lnTo>
                      <a:lnTo>
                        <a:pt x="1991" y="2046"/>
                      </a:lnTo>
                      <a:lnTo>
                        <a:pt x="1992" y="2044"/>
                      </a:lnTo>
                      <a:lnTo>
                        <a:pt x="1993" y="2043"/>
                      </a:lnTo>
                      <a:lnTo>
                        <a:pt x="1994" y="2043"/>
                      </a:lnTo>
                      <a:lnTo>
                        <a:pt x="1996" y="2042"/>
                      </a:lnTo>
                      <a:lnTo>
                        <a:pt x="1997" y="2043"/>
                      </a:lnTo>
                      <a:lnTo>
                        <a:pt x="1999" y="2043"/>
                      </a:lnTo>
                      <a:lnTo>
                        <a:pt x="2000" y="2044"/>
                      </a:lnTo>
                      <a:lnTo>
                        <a:pt x="2000" y="2046"/>
                      </a:lnTo>
                      <a:lnTo>
                        <a:pt x="2008" y="2046"/>
                      </a:lnTo>
                      <a:lnTo>
                        <a:pt x="2008" y="2044"/>
                      </a:lnTo>
                      <a:lnTo>
                        <a:pt x="2010" y="2043"/>
                      </a:lnTo>
                      <a:lnTo>
                        <a:pt x="2011" y="2043"/>
                      </a:lnTo>
                      <a:lnTo>
                        <a:pt x="2013" y="2042"/>
                      </a:lnTo>
                      <a:lnTo>
                        <a:pt x="2014" y="2043"/>
                      </a:lnTo>
                      <a:lnTo>
                        <a:pt x="2016" y="2043"/>
                      </a:lnTo>
                      <a:lnTo>
                        <a:pt x="2017" y="2044"/>
                      </a:lnTo>
                      <a:lnTo>
                        <a:pt x="2017" y="2046"/>
                      </a:lnTo>
                      <a:lnTo>
                        <a:pt x="2165" y="2046"/>
                      </a:lnTo>
                      <a:lnTo>
                        <a:pt x="2165" y="2044"/>
                      </a:lnTo>
                      <a:lnTo>
                        <a:pt x="2166" y="2043"/>
                      </a:lnTo>
                      <a:lnTo>
                        <a:pt x="2168" y="2043"/>
                      </a:lnTo>
                      <a:lnTo>
                        <a:pt x="2170" y="2042"/>
                      </a:lnTo>
                      <a:lnTo>
                        <a:pt x="2171" y="2043"/>
                      </a:lnTo>
                      <a:lnTo>
                        <a:pt x="2173" y="2043"/>
                      </a:lnTo>
                      <a:lnTo>
                        <a:pt x="2174" y="2044"/>
                      </a:lnTo>
                      <a:lnTo>
                        <a:pt x="2174" y="2046"/>
                      </a:lnTo>
                      <a:lnTo>
                        <a:pt x="2647" y="2046"/>
                      </a:lnTo>
                      <a:lnTo>
                        <a:pt x="2647" y="2044"/>
                      </a:lnTo>
                      <a:lnTo>
                        <a:pt x="2648" y="2043"/>
                      </a:lnTo>
                      <a:lnTo>
                        <a:pt x="2650" y="2043"/>
                      </a:lnTo>
                      <a:lnTo>
                        <a:pt x="2651" y="2042"/>
                      </a:lnTo>
                      <a:lnTo>
                        <a:pt x="2653" y="2043"/>
                      </a:lnTo>
                      <a:lnTo>
                        <a:pt x="2654" y="2043"/>
                      </a:lnTo>
                      <a:lnTo>
                        <a:pt x="2655" y="2044"/>
                      </a:lnTo>
                      <a:lnTo>
                        <a:pt x="2656" y="2046"/>
                      </a:lnTo>
                      <a:lnTo>
                        <a:pt x="2891" y="2046"/>
                      </a:lnTo>
                      <a:lnTo>
                        <a:pt x="2891" y="1936"/>
                      </a:lnTo>
                      <a:lnTo>
                        <a:pt x="2629" y="1936"/>
                      </a:lnTo>
                      <a:lnTo>
                        <a:pt x="2629" y="7"/>
                      </a:lnTo>
                      <a:lnTo>
                        <a:pt x="2677" y="7"/>
                      </a:lnTo>
                      <a:lnTo>
                        <a:pt x="2678" y="5"/>
                      </a:lnTo>
                      <a:lnTo>
                        <a:pt x="2679" y="4"/>
                      </a:lnTo>
                      <a:lnTo>
                        <a:pt x="2680" y="3"/>
                      </a:lnTo>
                      <a:lnTo>
                        <a:pt x="2682" y="3"/>
                      </a:lnTo>
                      <a:lnTo>
                        <a:pt x="2684" y="3"/>
                      </a:lnTo>
                      <a:lnTo>
                        <a:pt x="2685" y="4"/>
                      </a:lnTo>
                      <a:lnTo>
                        <a:pt x="2686" y="5"/>
                      </a:lnTo>
                      <a:lnTo>
                        <a:pt x="2686" y="7"/>
                      </a:lnTo>
                      <a:lnTo>
                        <a:pt x="2737" y="7"/>
                      </a:lnTo>
                      <a:lnTo>
                        <a:pt x="2737" y="0"/>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8237880" y="20988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6" name=""/>
                <p:cNvSpPr/>
                <p:nvPr/>
              </p:nvSpPr>
              <p:spPr>
                <a:xfrm>
                  <a:off x="7381440" y="2046600"/>
                  <a:ext cx="762840" cy="118440"/>
                </a:xfrm>
                <a:custGeom>
                  <a:avLst/>
                  <a:gdLst/>
                  <a:ahLst/>
                  <a:rect l="l" t="t" r="r" b="b"/>
                  <a:pathLst>
                    <a:path w="721" h="89">
                      <a:moveTo>
                        <a:pt x="721" y="0"/>
                      </a:moveTo>
                      <a:lnTo>
                        <a:pt x="624" y="0"/>
                      </a:lnTo>
                      <a:lnTo>
                        <a:pt x="624" y="89"/>
                      </a:lnTo>
                      <a:lnTo>
                        <a:pt x="385" y="89"/>
                      </a:lnTo>
                      <a:lnTo>
                        <a:pt x="384" y="87"/>
                      </a:lnTo>
                      <a:lnTo>
                        <a:pt x="383" y="86"/>
                      </a:lnTo>
                      <a:lnTo>
                        <a:pt x="382" y="85"/>
                      </a:lnTo>
                      <a:lnTo>
                        <a:pt x="380" y="85"/>
                      </a:lnTo>
                      <a:lnTo>
                        <a:pt x="378" y="85"/>
                      </a:lnTo>
                      <a:lnTo>
                        <a:pt x="377" y="86"/>
                      </a:lnTo>
                      <a:lnTo>
                        <a:pt x="376" y="87"/>
                      </a:lnTo>
                      <a:lnTo>
                        <a:pt x="376" y="89"/>
                      </a:lnTo>
                      <a:lnTo>
                        <a:pt x="151" y="89"/>
                      </a:lnTo>
                      <a:lnTo>
                        <a:pt x="151" y="87"/>
                      </a:lnTo>
                      <a:lnTo>
                        <a:pt x="150" y="86"/>
                      </a:lnTo>
                      <a:lnTo>
                        <a:pt x="148" y="85"/>
                      </a:lnTo>
                      <a:lnTo>
                        <a:pt x="146" y="85"/>
                      </a:lnTo>
                      <a:lnTo>
                        <a:pt x="145" y="85"/>
                      </a:lnTo>
                      <a:lnTo>
                        <a:pt x="143" y="86"/>
                      </a:lnTo>
                      <a:lnTo>
                        <a:pt x="142" y="87"/>
                      </a:lnTo>
                      <a:lnTo>
                        <a:pt x="142" y="89"/>
                      </a:lnTo>
                      <a:lnTo>
                        <a:pt x="20" y="89"/>
                      </a:lnTo>
                      <a:lnTo>
                        <a:pt x="20" y="44"/>
                      </a:lnTo>
                      <a:lnTo>
                        <a:pt x="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8142480" y="2040120"/>
                  <a:ext cx="13680" cy="13320"/>
                </a:xfrm>
                <a:custGeom>
                  <a:avLst/>
                  <a:gdLst/>
                  <a:ahLst/>
                  <a:rect l="l" t="t" r="r" b="b"/>
                  <a:pathLst>
                    <a:path w="13" h="10">
                      <a:moveTo>
                        <a:pt x="2" y="0"/>
                      </a:moveTo>
                      <a:lnTo>
                        <a:pt x="13" y="5"/>
                      </a:lnTo>
                      <a:lnTo>
                        <a:pt x="2" y="10"/>
                      </a:lnTo>
                      <a:lnTo>
                        <a:pt x="0" y="7"/>
                      </a:lnTo>
                      <a:lnTo>
                        <a:pt x="0" y="5"/>
                      </a:lnTo>
                      <a:lnTo>
                        <a:pt x="0" y="3"/>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8" name=""/>
                <p:cNvSpPr/>
                <p:nvPr/>
              </p:nvSpPr>
              <p:spPr>
                <a:xfrm>
                  <a:off x="6634080" y="2110680"/>
                  <a:ext cx="1551600" cy="402840"/>
                </a:xfrm>
                <a:custGeom>
                  <a:avLst/>
                  <a:gdLst/>
                  <a:ahLst/>
                  <a:rect l="l" t="t" r="r" b="b"/>
                  <a:pathLst>
                    <a:path w="1466" h="302">
                      <a:moveTo>
                        <a:pt x="0" y="302"/>
                      </a:moveTo>
                      <a:lnTo>
                        <a:pt x="35" y="302"/>
                      </a:lnTo>
                      <a:lnTo>
                        <a:pt x="36" y="301"/>
                      </a:lnTo>
                      <a:lnTo>
                        <a:pt x="37" y="300"/>
                      </a:lnTo>
                      <a:lnTo>
                        <a:pt x="38" y="299"/>
                      </a:lnTo>
                      <a:lnTo>
                        <a:pt x="40" y="299"/>
                      </a:lnTo>
                      <a:lnTo>
                        <a:pt x="42" y="299"/>
                      </a:lnTo>
                      <a:lnTo>
                        <a:pt x="43" y="300"/>
                      </a:lnTo>
                      <a:lnTo>
                        <a:pt x="44" y="301"/>
                      </a:lnTo>
                      <a:lnTo>
                        <a:pt x="44" y="302"/>
                      </a:lnTo>
                      <a:lnTo>
                        <a:pt x="78" y="302"/>
                      </a:lnTo>
                      <a:lnTo>
                        <a:pt x="79" y="301"/>
                      </a:lnTo>
                      <a:lnTo>
                        <a:pt x="80" y="300"/>
                      </a:lnTo>
                      <a:lnTo>
                        <a:pt x="81" y="299"/>
                      </a:lnTo>
                      <a:lnTo>
                        <a:pt x="83" y="299"/>
                      </a:lnTo>
                      <a:lnTo>
                        <a:pt x="85" y="299"/>
                      </a:lnTo>
                      <a:lnTo>
                        <a:pt x="86" y="300"/>
                      </a:lnTo>
                      <a:lnTo>
                        <a:pt x="87" y="301"/>
                      </a:lnTo>
                      <a:lnTo>
                        <a:pt x="88" y="302"/>
                      </a:lnTo>
                      <a:lnTo>
                        <a:pt x="100" y="302"/>
                      </a:lnTo>
                      <a:lnTo>
                        <a:pt x="100" y="301"/>
                      </a:lnTo>
                      <a:lnTo>
                        <a:pt x="101" y="300"/>
                      </a:lnTo>
                      <a:lnTo>
                        <a:pt x="103" y="299"/>
                      </a:lnTo>
                      <a:lnTo>
                        <a:pt x="104" y="299"/>
                      </a:lnTo>
                      <a:lnTo>
                        <a:pt x="106" y="299"/>
                      </a:lnTo>
                      <a:lnTo>
                        <a:pt x="107" y="300"/>
                      </a:lnTo>
                      <a:lnTo>
                        <a:pt x="109" y="301"/>
                      </a:lnTo>
                      <a:lnTo>
                        <a:pt x="109" y="302"/>
                      </a:lnTo>
                      <a:lnTo>
                        <a:pt x="130" y="302"/>
                      </a:lnTo>
                      <a:lnTo>
                        <a:pt x="131" y="301"/>
                      </a:lnTo>
                      <a:lnTo>
                        <a:pt x="132" y="300"/>
                      </a:lnTo>
                      <a:lnTo>
                        <a:pt x="133" y="299"/>
                      </a:lnTo>
                      <a:lnTo>
                        <a:pt x="135" y="299"/>
                      </a:lnTo>
                      <a:lnTo>
                        <a:pt x="136" y="299"/>
                      </a:lnTo>
                      <a:lnTo>
                        <a:pt x="138" y="300"/>
                      </a:lnTo>
                      <a:lnTo>
                        <a:pt x="139" y="301"/>
                      </a:lnTo>
                      <a:lnTo>
                        <a:pt x="139" y="302"/>
                      </a:lnTo>
                      <a:lnTo>
                        <a:pt x="153" y="302"/>
                      </a:lnTo>
                      <a:lnTo>
                        <a:pt x="153" y="301"/>
                      </a:lnTo>
                      <a:lnTo>
                        <a:pt x="154" y="300"/>
                      </a:lnTo>
                      <a:lnTo>
                        <a:pt x="156" y="299"/>
                      </a:lnTo>
                      <a:lnTo>
                        <a:pt x="157" y="299"/>
                      </a:lnTo>
                      <a:lnTo>
                        <a:pt x="159" y="299"/>
                      </a:lnTo>
                      <a:lnTo>
                        <a:pt x="160" y="300"/>
                      </a:lnTo>
                      <a:lnTo>
                        <a:pt x="161" y="301"/>
                      </a:lnTo>
                      <a:lnTo>
                        <a:pt x="162" y="302"/>
                      </a:lnTo>
                      <a:lnTo>
                        <a:pt x="400" y="302"/>
                      </a:lnTo>
                      <a:lnTo>
                        <a:pt x="400" y="301"/>
                      </a:lnTo>
                      <a:lnTo>
                        <a:pt x="401" y="300"/>
                      </a:lnTo>
                      <a:lnTo>
                        <a:pt x="403" y="299"/>
                      </a:lnTo>
                      <a:lnTo>
                        <a:pt x="405" y="299"/>
                      </a:lnTo>
                      <a:lnTo>
                        <a:pt x="406" y="299"/>
                      </a:lnTo>
                      <a:lnTo>
                        <a:pt x="408" y="300"/>
                      </a:lnTo>
                      <a:lnTo>
                        <a:pt x="409" y="301"/>
                      </a:lnTo>
                      <a:lnTo>
                        <a:pt x="409" y="302"/>
                      </a:lnTo>
                      <a:lnTo>
                        <a:pt x="442" y="302"/>
                      </a:lnTo>
                      <a:lnTo>
                        <a:pt x="443" y="301"/>
                      </a:lnTo>
                      <a:lnTo>
                        <a:pt x="443" y="300"/>
                      </a:lnTo>
                      <a:lnTo>
                        <a:pt x="445" y="299"/>
                      </a:lnTo>
                      <a:lnTo>
                        <a:pt x="447" y="299"/>
                      </a:lnTo>
                      <a:lnTo>
                        <a:pt x="448" y="299"/>
                      </a:lnTo>
                      <a:lnTo>
                        <a:pt x="450" y="300"/>
                      </a:lnTo>
                      <a:lnTo>
                        <a:pt x="451" y="301"/>
                      </a:lnTo>
                      <a:lnTo>
                        <a:pt x="451" y="302"/>
                      </a:lnTo>
                      <a:lnTo>
                        <a:pt x="475" y="302"/>
                      </a:lnTo>
                      <a:lnTo>
                        <a:pt x="475" y="301"/>
                      </a:lnTo>
                      <a:lnTo>
                        <a:pt x="476" y="300"/>
                      </a:lnTo>
                      <a:lnTo>
                        <a:pt x="477" y="299"/>
                      </a:lnTo>
                      <a:lnTo>
                        <a:pt x="479" y="299"/>
                      </a:lnTo>
                      <a:lnTo>
                        <a:pt x="481" y="299"/>
                      </a:lnTo>
                      <a:lnTo>
                        <a:pt x="482" y="300"/>
                      </a:lnTo>
                      <a:lnTo>
                        <a:pt x="483" y="301"/>
                      </a:lnTo>
                      <a:lnTo>
                        <a:pt x="484" y="302"/>
                      </a:lnTo>
                      <a:lnTo>
                        <a:pt x="494" y="302"/>
                      </a:lnTo>
                      <a:lnTo>
                        <a:pt x="494" y="301"/>
                      </a:lnTo>
                      <a:lnTo>
                        <a:pt x="495" y="300"/>
                      </a:lnTo>
                      <a:lnTo>
                        <a:pt x="497" y="299"/>
                      </a:lnTo>
                      <a:lnTo>
                        <a:pt x="499" y="299"/>
                      </a:lnTo>
                      <a:lnTo>
                        <a:pt x="500" y="299"/>
                      </a:lnTo>
                      <a:lnTo>
                        <a:pt x="502" y="300"/>
                      </a:lnTo>
                      <a:lnTo>
                        <a:pt x="503" y="301"/>
                      </a:lnTo>
                      <a:lnTo>
                        <a:pt x="503" y="302"/>
                      </a:lnTo>
                      <a:lnTo>
                        <a:pt x="520" y="302"/>
                      </a:lnTo>
                      <a:lnTo>
                        <a:pt x="520" y="301"/>
                      </a:lnTo>
                      <a:lnTo>
                        <a:pt x="521" y="300"/>
                      </a:lnTo>
                      <a:lnTo>
                        <a:pt x="523" y="299"/>
                      </a:lnTo>
                      <a:lnTo>
                        <a:pt x="524" y="299"/>
                      </a:lnTo>
                      <a:lnTo>
                        <a:pt x="526" y="299"/>
                      </a:lnTo>
                      <a:lnTo>
                        <a:pt x="528" y="300"/>
                      </a:lnTo>
                      <a:lnTo>
                        <a:pt x="528" y="301"/>
                      </a:lnTo>
                      <a:lnTo>
                        <a:pt x="529" y="302"/>
                      </a:lnTo>
                      <a:lnTo>
                        <a:pt x="542" y="302"/>
                      </a:lnTo>
                      <a:lnTo>
                        <a:pt x="542" y="301"/>
                      </a:lnTo>
                      <a:lnTo>
                        <a:pt x="543" y="300"/>
                      </a:lnTo>
                      <a:lnTo>
                        <a:pt x="545" y="299"/>
                      </a:lnTo>
                      <a:lnTo>
                        <a:pt x="546" y="299"/>
                      </a:lnTo>
                      <a:lnTo>
                        <a:pt x="548" y="299"/>
                      </a:lnTo>
                      <a:lnTo>
                        <a:pt x="550" y="300"/>
                      </a:lnTo>
                      <a:lnTo>
                        <a:pt x="550" y="301"/>
                      </a:lnTo>
                      <a:lnTo>
                        <a:pt x="551" y="302"/>
                      </a:lnTo>
                      <a:lnTo>
                        <a:pt x="562" y="302"/>
                      </a:lnTo>
                      <a:lnTo>
                        <a:pt x="563" y="301"/>
                      </a:lnTo>
                      <a:lnTo>
                        <a:pt x="564" y="300"/>
                      </a:lnTo>
                      <a:lnTo>
                        <a:pt x="565" y="299"/>
                      </a:lnTo>
                      <a:lnTo>
                        <a:pt x="567" y="299"/>
                      </a:lnTo>
                      <a:lnTo>
                        <a:pt x="569" y="299"/>
                      </a:lnTo>
                      <a:lnTo>
                        <a:pt x="570" y="300"/>
                      </a:lnTo>
                      <a:lnTo>
                        <a:pt x="571" y="301"/>
                      </a:lnTo>
                      <a:lnTo>
                        <a:pt x="571" y="302"/>
                      </a:lnTo>
                      <a:lnTo>
                        <a:pt x="589" y="302"/>
                      </a:lnTo>
                      <a:lnTo>
                        <a:pt x="590" y="301"/>
                      </a:lnTo>
                      <a:lnTo>
                        <a:pt x="591" y="300"/>
                      </a:lnTo>
                      <a:lnTo>
                        <a:pt x="592" y="299"/>
                      </a:lnTo>
                      <a:lnTo>
                        <a:pt x="594" y="299"/>
                      </a:lnTo>
                      <a:lnTo>
                        <a:pt x="596" y="299"/>
                      </a:lnTo>
                      <a:lnTo>
                        <a:pt x="597" y="300"/>
                      </a:lnTo>
                      <a:lnTo>
                        <a:pt x="598" y="301"/>
                      </a:lnTo>
                      <a:lnTo>
                        <a:pt x="599" y="302"/>
                      </a:lnTo>
                      <a:lnTo>
                        <a:pt x="630" y="302"/>
                      </a:lnTo>
                      <a:lnTo>
                        <a:pt x="631" y="301"/>
                      </a:lnTo>
                      <a:lnTo>
                        <a:pt x="631" y="300"/>
                      </a:lnTo>
                      <a:lnTo>
                        <a:pt x="633" y="299"/>
                      </a:lnTo>
                      <a:lnTo>
                        <a:pt x="635" y="299"/>
                      </a:lnTo>
                      <a:lnTo>
                        <a:pt x="636" y="299"/>
                      </a:lnTo>
                      <a:lnTo>
                        <a:pt x="638" y="300"/>
                      </a:lnTo>
                      <a:lnTo>
                        <a:pt x="639" y="301"/>
                      </a:lnTo>
                      <a:lnTo>
                        <a:pt x="639" y="302"/>
                      </a:lnTo>
                      <a:lnTo>
                        <a:pt x="664" y="302"/>
                      </a:lnTo>
                      <a:lnTo>
                        <a:pt x="664" y="301"/>
                      </a:lnTo>
                      <a:lnTo>
                        <a:pt x="665" y="300"/>
                      </a:lnTo>
                      <a:lnTo>
                        <a:pt x="667" y="299"/>
                      </a:lnTo>
                      <a:lnTo>
                        <a:pt x="668" y="299"/>
                      </a:lnTo>
                      <a:lnTo>
                        <a:pt x="670" y="299"/>
                      </a:lnTo>
                      <a:lnTo>
                        <a:pt x="671" y="300"/>
                      </a:lnTo>
                      <a:lnTo>
                        <a:pt x="673" y="301"/>
                      </a:lnTo>
                      <a:lnTo>
                        <a:pt x="673" y="302"/>
                      </a:lnTo>
                      <a:lnTo>
                        <a:pt x="691" y="302"/>
                      </a:lnTo>
                      <a:lnTo>
                        <a:pt x="691" y="301"/>
                      </a:lnTo>
                      <a:lnTo>
                        <a:pt x="692" y="300"/>
                      </a:lnTo>
                      <a:lnTo>
                        <a:pt x="694" y="299"/>
                      </a:lnTo>
                      <a:lnTo>
                        <a:pt x="695" y="299"/>
                      </a:lnTo>
                      <a:lnTo>
                        <a:pt x="697" y="299"/>
                      </a:lnTo>
                      <a:lnTo>
                        <a:pt x="698" y="300"/>
                      </a:lnTo>
                      <a:lnTo>
                        <a:pt x="700" y="301"/>
                      </a:lnTo>
                      <a:lnTo>
                        <a:pt x="700" y="302"/>
                      </a:lnTo>
                      <a:lnTo>
                        <a:pt x="725" y="302"/>
                      </a:lnTo>
                      <a:lnTo>
                        <a:pt x="725" y="301"/>
                      </a:lnTo>
                      <a:lnTo>
                        <a:pt x="726" y="300"/>
                      </a:lnTo>
                      <a:lnTo>
                        <a:pt x="727" y="299"/>
                      </a:lnTo>
                      <a:lnTo>
                        <a:pt x="729" y="299"/>
                      </a:lnTo>
                      <a:lnTo>
                        <a:pt x="731" y="299"/>
                      </a:lnTo>
                      <a:lnTo>
                        <a:pt x="732" y="300"/>
                      </a:lnTo>
                      <a:lnTo>
                        <a:pt x="733" y="301"/>
                      </a:lnTo>
                      <a:lnTo>
                        <a:pt x="734" y="302"/>
                      </a:lnTo>
                      <a:lnTo>
                        <a:pt x="848" y="302"/>
                      </a:lnTo>
                      <a:lnTo>
                        <a:pt x="848" y="301"/>
                      </a:lnTo>
                      <a:lnTo>
                        <a:pt x="849" y="300"/>
                      </a:lnTo>
                      <a:lnTo>
                        <a:pt x="851" y="299"/>
                      </a:lnTo>
                      <a:lnTo>
                        <a:pt x="852" y="299"/>
                      </a:lnTo>
                      <a:lnTo>
                        <a:pt x="854" y="299"/>
                      </a:lnTo>
                      <a:lnTo>
                        <a:pt x="856" y="300"/>
                      </a:lnTo>
                      <a:lnTo>
                        <a:pt x="857" y="301"/>
                      </a:lnTo>
                      <a:lnTo>
                        <a:pt x="857" y="302"/>
                      </a:lnTo>
                      <a:lnTo>
                        <a:pt x="1224" y="302"/>
                      </a:lnTo>
                      <a:lnTo>
                        <a:pt x="1225" y="301"/>
                      </a:lnTo>
                      <a:lnTo>
                        <a:pt x="1226" y="300"/>
                      </a:lnTo>
                      <a:lnTo>
                        <a:pt x="1227" y="299"/>
                      </a:lnTo>
                      <a:lnTo>
                        <a:pt x="1229" y="299"/>
                      </a:lnTo>
                      <a:lnTo>
                        <a:pt x="1231" y="299"/>
                      </a:lnTo>
                      <a:lnTo>
                        <a:pt x="1232" y="300"/>
                      </a:lnTo>
                      <a:lnTo>
                        <a:pt x="1233" y="301"/>
                      </a:lnTo>
                      <a:lnTo>
                        <a:pt x="1233" y="302"/>
                      </a:lnTo>
                      <a:lnTo>
                        <a:pt x="1299" y="302"/>
                      </a:lnTo>
                      <a:lnTo>
                        <a:pt x="1299" y="301"/>
                      </a:lnTo>
                      <a:lnTo>
                        <a:pt x="1300" y="300"/>
                      </a:lnTo>
                      <a:lnTo>
                        <a:pt x="1302" y="299"/>
                      </a:lnTo>
                      <a:lnTo>
                        <a:pt x="1303" y="299"/>
                      </a:lnTo>
                      <a:lnTo>
                        <a:pt x="1305" y="299"/>
                      </a:lnTo>
                      <a:lnTo>
                        <a:pt x="1306" y="300"/>
                      </a:lnTo>
                      <a:lnTo>
                        <a:pt x="1307" y="301"/>
                      </a:lnTo>
                      <a:lnTo>
                        <a:pt x="1308" y="302"/>
                      </a:lnTo>
                      <a:lnTo>
                        <a:pt x="1312" y="302"/>
                      </a:lnTo>
                      <a:lnTo>
                        <a:pt x="1313" y="301"/>
                      </a:lnTo>
                      <a:lnTo>
                        <a:pt x="1314" y="300"/>
                      </a:lnTo>
                      <a:lnTo>
                        <a:pt x="1315" y="299"/>
                      </a:lnTo>
                      <a:lnTo>
                        <a:pt x="1317" y="299"/>
                      </a:lnTo>
                      <a:lnTo>
                        <a:pt x="1318" y="299"/>
                      </a:lnTo>
                      <a:lnTo>
                        <a:pt x="1320" y="300"/>
                      </a:lnTo>
                      <a:lnTo>
                        <a:pt x="1321" y="301"/>
                      </a:lnTo>
                      <a:lnTo>
                        <a:pt x="1321" y="302"/>
                      </a:lnTo>
                      <a:lnTo>
                        <a:pt x="1409" y="302"/>
                      </a:lnTo>
                      <a:lnTo>
                        <a:pt x="1409" y="301"/>
                      </a:lnTo>
                      <a:lnTo>
                        <a:pt x="1410" y="300"/>
                      </a:lnTo>
                      <a:lnTo>
                        <a:pt x="1411" y="299"/>
                      </a:lnTo>
                      <a:lnTo>
                        <a:pt x="1413" y="299"/>
                      </a:lnTo>
                      <a:lnTo>
                        <a:pt x="1415" y="299"/>
                      </a:lnTo>
                      <a:lnTo>
                        <a:pt x="1416" y="300"/>
                      </a:lnTo>
                      <a:lnTo>
                        <a:pt x="1417" y="301"/>
                      </a:lnTo>
                      <a:lnTo>
                        <a:pt x="1417" y="302"/>
                      </a:lnTo>
                      <a:lnTo>
                        <a:pt x="1436" y="302"/>
                      </a:lnTo>
                      <a:lnTo>
                        <a:pt x="1436" y="301"/>
                      </a:lnTo>
                      <a:lnTo>
                        <a:pt x="1437" y="300"/>
                      </a:lnTo>
                      <a:lnTo>
                        <a:pt x="1438" y="299"/>
                      </a:lnTo>
                      <a:lnTo>
                        <a:pt x="1440" y="299"/>
                      </a:lnTo>
                      <a:lnTo>
                        <a:pt x="1442" y="299"/>
                      </a:lnTo>
                      <a:lnTo>
                        <a:pt x="1443" y="300"/>
                      </a:lnTo>
                      <a:lnTo>
                        <a:pt x="1444" y="301"/>
                      </a:lnTo>
                      <a:lnTo>
                        <a:pt x="1445" y="302"/>
                      </a:lnTo>
                      <a:lnTo>
                        <a:pt x="1466" y="302"/>
                      </a:lnTo>
                      <a:lnTo>
                        <a:pt x="1466"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179560" y="20988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50" name=""/>
                <p:cNvSpPr/>
                <p:nvPr/>
              </p:nvSpPr>
              <p:spPr>
                <a:xfrm>
                  <a:off x="4831200" y="4074120"/>
                  <a:ext cx="173520" cy="117360"/>
                </a:xfrm>
                <a:prstGeom prst="rect">
                  <a:avLst/>
                </a:prstGeom>
                <a:blipFill rotWithShape="0">
                  <a:blip r:embed="rId8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1" name=""/>
              <p:cNvSpPr/>
              <p:nvPr/>
            </p:nvSpPr>
            <p:spPr>
              <a:xfrm>
                <a:off x="4856760" y="4132080"/>
                <a:ext cx="163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KU Rep</a:t>
                </a:r>
                <a:endParaRPr b="0" lang="en-US" sz="300" spc="-1" strike="noStrike">
                  <a:solidFill>
                    <a:srgbClr val="ffffff"/>
                  </a:solidFill>
                  <a:latin typeface="Arial"/>
                </a:endParaRPr>
              </a:p>
            </p:txBody>
          </p:sp>
          <p:sp>
            <p:nvSpPr>
              <p:cNvPr id="852" name=""/>
              <p:cNvSpPr/>
              <p:nvPr/>
            </p:nvSpPr>
            <p:spPr>
              <a:xfrm>
                <a:off x="4918320" y="3966120"/>
                <a:ext cx="2880" cy="94680"/>
              </a:xfrm>
              <a:custGeom>
                <a:avLst/>
                <a:gdLst/>
                <a:ahLst/>
                <a:rect l="l" t="t" r="r" b="b"/>
                <a:pathLst>
                  <a:path w="3" h="71">
                    <a:moveTo>
                      <a:pt x="3" y="0"/>
                    </a:moveTo>
                    <a:lnTo>
                      <a:pt x="3" y="15"/>
                    </a:lnTo>
                    <a:lnTo>
                      <a:pt x="0" y="15"/>
                    </a:lnTo>
                    <a:lnTo>
                      <a:pt x="0"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11840" y="40597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54" name=""/>
              <p:cNvSpPr/>
              <p:nvPr/>
            </p:nvSpPr>
            <p:spPr>
              <a:xfrm>
                <a:off x="6829200" y="3366360"/>
                <a:ext cx="78120" cy="660960"/>
              </a:xfrm>
              <a:custGeom>
                <a:avLst/>
                <a:gdLst/>
                <a:ahLst/>
                <a:rect l="l" t="t" r="r" b="b"/>
                <a:pathLst>
                  <a:path w="74" h="495">
                    <a:moveTo>
                      <a:pt x="0" y="495"/>
                    </a:moveTo>
                    <a:lnTo>
                      <a:pt x="26" y="495"/>
                    </a:lnTo>
                    <a:lnTo>
                      <a:pt x="26" y="494"/>
                    </a:lnTo>
                    <a:lnTo>
                      <a:pt x="27" y="492"/>
                    </a:lnTo>
                    <a:lnTo>
                      <a:pt x="28" y="492"/>
                    </a:lnTo>
                    <a:lnTo>
                      <a:pt x="30" y="491"/>
                    </a:lnTo>
                    <a:lnTo>
                      <a:pt x="32" y="492"/>
                    </a:lnTo>
                    <a:lnTo>
                      <a:pt x="33" y="492"/>
                    </a:lnTo>
                    <a:lnTo>
                      <a:pt x="34" y="494"/>
                    </a:lnTo>
                    <a:lnTo>
                      <a:pt x="34" y="495"/>
                    </a:lnTo>
                    <a:lnTo>
                      <a:pt x="54" y="495"/>
                    </a:lnTo>
                    <a:lnTo>
                      <a:pt x="55" y="494"/>
                    </a:lnTo>
                    <a:lnTo>
                      <a:pt x="56" y="492"/>
                    </a:lnTo>
                    <a:lnTo>
                      <a:pt x="57" y="492"/>
                    </a:lnTo>
                    <a:lnTo>
                      <a:pt x="59" y="491"/>
                    </a:lnTo>
                    <a:lnTo>
                      <a:pt x="61" y="492"/>
                    </a:lnTo>
                    <a:lnTo>
                      <a:pt x="62" y="492"/>
                    </a:lnTo>
                    <a:lnTo>
                      <a:pt x="63" y="494"/>
                    </a:lnTo>
                    <a:lnTo>
                      <a:pt x="63" y="495"/>
                    </a:lnTo>
                    <a:lnTo>
                      <a:pt x="74" y="495"/>
                    </a:lnTo>
                    <a:lnTo>
                      <a:pt x="74"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816600" y="4021200"/>
                <a:ext cx="13680" cy="1188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56" name=""/>
              <p:cNvSpPr/>
              <p:nvPr/>
            </p:nvSpPr>
            <p:spPr>
              <a:xfrm>
                <a:off x="6901200" y="335448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57" name=""/>
              <p:cNvSpPr/>
              <p:nvPr/>
            </p:nvSpPr>
            <p:spPr>
              <a:xfrm>
                <a:off x="8145360" y="3343680"/>
                <a:ext cx="326880" cy="154800"/>
              </a:xfrm>
              <a:prstGeom prst="rect">
                <a:avLst/>
              </a:prstGeom>
              <a:blipFill rotWithShape="0">
                <a:blip r:embed="rId8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8211600" y="3405240"/>
                <a:ext cx="258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Host to AS400</a:t>
                </a:r>
                <a:endParaRPr b="0" lang="en-US" sz="300" spc="-1" strike="noStrike">
                  <a:solidFill>
                    <a:srgbClr val="ffffff"/>
                  </a:solidFill>
                  <a:latin typeface="Arial"/>
                </a:endParaRPr>
              </a:p>
            </p:txBody>
          </p:sp>
          <p:sp>
            <p:nvSpPr>
              <p:cNvPr id="859" name=""/>
              <p:cNvSpPr/>
              <p:nvPr/>
            </p:nvSpPr>
            <p:spPr>
              <a:xfrm>
                <a:off x="8202960" y="3434760"/>
                <a:ext cx="285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mmunication</a:t>
                </a:r>
                <a:endParaRPr b="0" lang="en-US" sz="300" spc="-1" strike="noStrike">
                  <a:solidFill>
                    <a:srgbClr val="ffffff"/>
                  </a:solidFill>
                  <a:latin typeface="Arial"/>
                </a:endParaRPr>
              </a:p>
            </p:txBody>
          </p:sp>
          <p:sp>
            <p:nvSpPr>
              <p:cNvPr id="860" name=""/>
              <p:cNvSpPr/>
              <p:nvPr/>
            </p:nvSpPr>
            <p:spPr>
              <a:xfrm>
                <a:off x="6793200" y="2916360"/>
                <a:ext cx="1713600" cy="415440"/>
              </a:xfrm>
              <a:custGeom>
                <a:avLst/>
                <a:gdLst/>
                <a:ahLst/>
                <a:rect l="l" t="t" r="r" b="b"/>
                <a:pathLst>
                  <a:path w="1619" h="311">
                    <a:moveTo>
                      <a:pt x="0" y="6"/>
                    </a:moveTo>
                    <a:lnTo>
                      <a:pt x="3" y="6"/>
                    </a:lnTo>
                    <a:lnTo>
                      <a:pt x="3" y="5"/>
                    </a:lnTo>
                    <a:lnTo>
                      <a:pt x="4" y="4"/>
                    </a:lnTo>
                    <a:lnTo>
                      <a:pt x="6" y="3"/>
                    </a:lnTo>
                    <a:lnTo>
                      <a:pt x="7" y="3"/>
                    </a:lnTo>
                    <a:lnTo>
                      <a:pt x="9" y="3"/>
                    </a:lnTo>
                    <a:lnTo>
                      <a:pt x="10" y="4"/>
                    </a:lnTo>
                    <a:lnTo>
                      <a:pt x="11" y="5"/>
                    </a:lnTo>
                    <a:lnTo>
                      <a:pt x="12" y="6"/>
                    </a:lnTo>
                    <a:lnTo>
                      <a:pt x="30" y="6"/>
                    </a:lnTo>
                    <a:lnTo>
                      <a:pt x="30" y="5"/>
                    </a:lnTo>
                    <a:lnTo>
                      <a:pt x="31" y="4"/>
                    </a:lnTo>
                    <a:lnTo>
                      <a:pt x="32" y="3"/>
                    </a:lnTo>
                    <a:lnTo>
                      <a:pt x="34" y="3"/>
                    </a:lnTo>
                    <a:lnTo>
                      <a:pt x="36" y="3"/>
                    </a:lnTo>
                    <a:lnTo>
                      <a:pt x="37" y="4"/>
                    </a:lnTo>
                    <a:lnTo>
                      <a:pt x="38" y="5"/>
                    </a:lnTo>
                    <a:lnTo>
                      <a:pt x="39" y="6"/>
                    </a:lnTo>
                    <a:lnTo>
                      <a:pt x="102" y="6"/>
                    </a:lnTo>
                    <a:lnTo>
                      <a:pt x="102" y="5"/>
                    </a:lnTo>
                    <a:lnTo>
                      <a:pt x="103" y="4"/>
                    </a:lnTo>
                    <a:lnTo>
                      <a:pt x="105" y="3"/>
                    </a:lnTo>
                    <a:lnTo>
                      <a:pt x="106" y="3"/>
                    </a:lnTo>
                    <a:lnTo>
                      <a:pt x="108" y="3"/>
                    </a:lnTo>
                    <a:lnTo>
                      <a:pt x="110" y="4"/>
                    </a:lnTo>
                    <a:lnTo>
                      <a:pt x="110" y="5"/>
                    </a:lnTo>
                    <a:lnTo>
                      <a:pt x="111" y="6"/>
                    </a:lnTo>
                    <a:lnTo>
                      <a:pt x="163" y="6"/>
                    </a:lnTo>
                    <a:lnTo>
                      <a:pt x="163" y="5"/>
                    </a:lnTo>
                    <a:lnTo>
                      <a:pt x="164" y="4"/>
                    </a:lnTo>
                    <a:lnTo>
                      <a:pt x="166" y="3"/>
                    </a:lnTo>
                    <a:lnTo>
                      <a:pt x="167" y="3"/>
                    </a:lnTo>
                    <a:lnTo>
                      <a:pt x="169" y="3"/>
                    </a:lnTo>
                    <a:lnTo>
                      <a:pt x="170" y="4"/>
                    </a:lnTo>
                    <a:lnTo>
                      <a:pt x="171" y="5"/>
                    </a:lnTo>
                    <a:lnTo>
                      <a:pt x="172" y="6"/>
                    </a:lnTo>
                    <a:lnTo>
                      <a:pt x="191" y="6"/>
                    </a:lnTo>
                    <a:lnTo>
                      <a:pt x="191" y="5"/>
                    </a:lnTo>
                    <a:lnTo>
                      <a:pt x="192" y="4"/>
                    </a:lnTo>
                    <a:lnTo>
                      <a:pt x="194" y="3"/>
                    </a:lnTo>
                    <a:lnTo>
                      <a:pt x="196" y="3"/>
                    </a:lnTo>
                    <a:lnTo>
                      <a:pt x="197" y="3"/>
                    </a:lnTo>
                    <a:lnTo>
                      <a:pt x="199" y="4"/>
                    </a:lnTo>
                    <a:lnTo>
                      <a:pt x="200" y="5"/>
                    </a:lnTo>
                    <a:lnTo>
                      <a:pt x="200" y="6"/>
                    </a:lnTo>
                    <a:lnTo>
                      <a:pt x="226" y="6"/>
                    </a:lnTo>
                    <a:lnTo>
                      <a:pt x="226" y="5"/>
                    </a:lnTo>
                    <a:lnTo>
                      <a:pt x="227" y="4"/>
                    </a:lnTo>
                    <a:lnTo>
                      <a:pt x="228" y="3"/>
                    </a:lnTo>
                    <a:lnTo>
                      <a:pt x="230" y="3"/>
                    </a:lnTo>
                    <a:lnTo>
                      <a:pt x="232" y="3"/>
                    </a:lnTo>
                    <a:lnTo>
                      <a:pt x="233" y="4"/>
                    </a:lnTo>
                    <a:lnTo>
                      <a:pt x="234" y="5"/>
                    </a:lnTo>
                    <a:lnTo>
                      <a:pt x="235" y="6"/>
                    </a:lnTo>
                    <a:lnTo>
                      <a:pt x="244" y="6"/>
                    </a:lnTo>
                    <a:lnTo>
                      <a:pt x="244" y="5"/>
                    </a:lnTo>
                    <a:lnTo>
                      <a:pt x="245" y="4"/>
                    </a:lnTo>
                    <a:lnTo>
                      <a:pt x="246" y="3"/>
                    </a:lnTo>
                    <a:lnTo>
                      <a:pt x="248" y="3"/>
                    </a:lnTo>
                    <a:lnTo>
                      <a:pt x="250" y="3"/>
                    </a:lnTo>
                    <a:lnTo>
                      <a:pt x="251" y="4"/>
                    </a:lnTo>
                    <a:lnTo>
                      <a:pt x="252" y="5"/>
                    </a:lnTo>
                    <a:lnTo>
                      <a:pt x="253" y="6"/>
                    </a:lnTo>
                    <a:lnTo>
                      <a:pt x="257" y="6"/>
                    </a:lnTo>
                    <a:lnTo>
                      <a:pt x="258" y="5"/>
                    </a:lnTo>
                    <a:lnTo>
                      <a:pt x="258" y="4"/>
                    </a:lnTo>
                    <a:lnTo>
                      <a:pt x="260" y="3"/>
                    </a:lnTo>
                    <a:lnTo>
                      <a:pt x="262" y="3"/>
                    </a:lnTo>
                    <a:lnTo>
                      <a:pt x="263" y="3"/>
                    </a:lnTo>
                    <a:lnTo>
                      <a:pt x="265" y="4"/>
                    </a:lnTo>
                    <a:lnTo>
                      <a:pt x="266" y="5"/>
                    </a:lnTo>
                    <a:lnTo>
                      <a:pt x="266" y="6"/>
                    </a:lnTo>
                    <a:lnTo>
                      <a:pt x="292" y="6"/>
                    </a:lnTo>
                    <a:lnTo>
                      <a:pt x="293" y="5"/>
                    </a:lnTo>
                    <a:lnTo>
                      <a:pt x="293" y="4"/>
                    </a:lnTo>
                    <a:lnTo>
                      <a:pt x="295" y="3"/>
                    </a:lnTo>
                    <a:lnTo>
                      <a:pt x="297" y="3"/>
                    </a:lnTo>
                    <a:lnTo>
                      <a:pt x="298" y="3"/>
                    </a:lnTo>
                    <a:lnTo>
                      <a:pt x="300" y="4"/>
                    </a:lnTo>
                    <a:lnTo>
                      <a:pt x="301" y="5"/>
                    </a:lnTo>
                    <a:lnTo>
                      <a:pt x="301" y="6"/>
                    </a:lnTo>
                    <a:lnTo>
                      <a:pt x="303" y="6"/>
                    </a:lnTo>
                    <a:lnTo>
                      <a:pt x="303" y="4"/>
                    </a:lnTo>
                    <a:lnTo>
                      <a:pt x="304" y="3"/>
                    </a:lnTo>
                    <a:lnTo>
                      <a:pt x="305" y="1"/>
                    </a:lnTo>
                    <a:lnTo>
                      <a:pt x="307" y="1"/>
                    </a:lnTo>
                    <a:lnTo>
                      <a:pt x="309" y="0"/>
                    </a:lnTo>
                    <a:lnTo>
                      <a:pt x="312" y="0"/>
                    </a:lnTo>
                    <a:lnTo>
                      <a:pt x="314" y="1"/>
                    </a:lnTo>
                    <a:lnTo>
                      <a:pt x="316" y="1"/>
                    </a:lnTo>
                    <a:lnTo>
                      <a:pt x="317" y="3"/>
                    </a:lnTo>
                    <a:lnTo>
                      <a:pt x="318" y="4"/>
                    </a:lnTo>
                    <a:lnTo>
                      <a:pt x="318" y="6"/>
                    </a:lnTo>
                    <a:lnTo>
                      <a:pt x="344" y="6"/>
                    </a:lnTo>
                    <a:lnTo>
                      <a:pt x="344" y="5"/>
                    </a:lnTo>
                    <a:lnTo>
                      <a:pt x="345" y="4"/>
                    </a:lnTo>
                    <a:lnTo>
                      <a:pt x="347" y="3"/>
                    </a:lnTo>
                    <a:lnTo>
                      <a:pt x="348" y="3"/>
                    </a:lnTo>
                    <a:lnTo>
                      <a:pt x="350" y="3"/>
                    </a:lnTo>
                    <a:lnTo>
                      <a:pt x="352" y="4"/>
                    </a:lnTo>
                    <a:lnTo>
                      <a:pt x="352" y="5"/>
                    </a:lnTo>
                    <a:lnTo>
                      <a:pt x="353" y="6"/>
                    </a:lnTo>
                    <a:lnTo>
                      <a:pt x="362" y="6"/>
                    </a:lnTo>
                    <a:lnTo>
                      <a:pt x="362" y="4"/>
                    </a:lnTo>
                    <a:lnTo>
                      <a:pt x="363" y="3"/>
                    </a:lnTo>
                    <a:lnTo>
                      <a:pt x="365" y="1"/>
                    </a:lnTo>
                    <a:lnTo>
                      <a:pt x="367" y="0"/>
                    </a:lnTo>
                    <a:lnTo>
                      <a:pt x="369" y="0"/>
                    </a:lnTo>
                    <a:lnTo>
                      <a:pt x="372" y="0"/>
                    </a:lnTo>
                    <a:lnTo>
                      <a:pt x="374" y="0"/>
                    </a:lnTo>
                    <a:lnTo>
                      <a:pt x="376" y="1"/>
                    </a:lnTo>
                    <a:lnTo>
                      <a:pt x="377" y="3"/>
                    </a:lnTo>
                    <a:lnTo>
                      <a:pt x="378" y="4"/>
                    </a:lnTo>
                    <a:lnTo>
                      <a:pt x="379" y="6"/>
                    </a:lnTo>
                    <a:lnTo>
                      <a:pt x="382" y="6"/>
                    </a:lnTo>
                    <a:lnTo>
                      <a:pt x="383" y="5"/>
                    </a:lnTo>
                    <a:lnTo>
                      <a:pt x="383" y="4"/>
                    </a:lnTo>
                    <a:lnTo>
                      <a:pt x="385" y="3"/>
                    </a:lnTo>
                    <a:lnTo>
                      <a:pt x="387" y="3"/>
                    </a:lnTo>
                    <a:lnTo>
                      <a:pt x="388" y="3"/>
                    </a:lnTo>
                    <a:lnTo>
                      <a:pt x="390" y="4"/>
                    </a:lnTo>
                    <a:lnTo>
                      <a:pt x="391" y="5"/>
                    </a:lnTo>
                    <a:lnTo>
                      <a:pt x="391" y="6"/>
                    </a:lnTo>
                    <a:lnTo>
                      <a:pt x="392" y="6"/>
                    </a:lnTo>
                    <a:lnTo>
                      <a:pt x="392" y="5"/>
                    </a:lnTo>
                    <a:lnTo>
                      <a:pt x="393" y="4"/>
                    </a:lnTo>
                    <a:lnTo>
                      <a:pt x="394" y="3"/>
                    </a:lnTo>
                    <a:lnTo>
                      <a:pt x="396" y="3"/>
                    </a:lnTo>
                    <a:lnTo>
                      <a:pt x="398" y="3"/>
                    </a:lnTo>
                    <a:lnTo>
                      <a:pt x="400" y="4"/>
                    </a:lnTo>
                    <a:lnTo>
                      <a:pt x="400" y="5"/>
                    </a:lnTo>
                    <a:lnTo>
                      <a:pt x="401" y="6"/>
                    </a:lnTo>
                    <a:lnTo>
                      <a:pt x="412" y="6"/>
                    </a:lnTo>
                    <a:lnTo>
                      <a:pt x="413" y="5"/>
                    </a:lnTo>
                    <a:lnTo>
                      <a:pt x="414" y="4"/>
                    </a:lnTo>
                    <a:lnTo>
                      <a:pt x="415" y="3"/>
                    </a:lnTo>
                    <a:lnTo>
                      <a:pt x="417" y="3"/>
                    </a:lnTo>
                    <a:lnTo>
                      <a:pt x="419" y="3"/>
                    </a:lnTo>
                    <a:lnTo>
                      <a:pt x="420" y="4"/>
                    </a:lnTo>
                    <a:lnTo>
                      <a:pt x="421" y="5"/>
                    </a:lnTo>
                    <a:lnTo>
                      <a:pt x="421" y="6"/>
                    </a:lnTo>
                    <a:lnTo>
                      <a:pt x="426" y="6"/>
                    </a:lnTo>
                    <a:lnTo>
                      <a:pt x="426" y="5"/>
                    </a:lnTo>
                    <a:lnTo>
                      <a:pt x="427" y="4"/>
                    </a:lnTo>
                    <a:lnTo>
                      <a:pt x="429" y="3"/>
                    </a:lnTo>
                    <a:lnTo>
                      <a:pt x="430" y="3"/>
                    </a:lnTo>
                    <a:lnTo>
                      <a:pt x="432" y="3"/>
                    </a:lnTo>
                    <a:lnTo>
                      <a:pt x="434" y="4"/>
                    </a:lnTo>
                    <a:lnTo>
                      <a:pt x="435" y="5"/>
                    </a:lnTo>
                    <a:lnTo>
                      <a:pt x="435" y="6"/>
                    </a:lnTo>
                    <a:lnTo>
                      <a:pt x="439" y="6"/>
                    </a:lnTo>
                    <a:lnTo>
                      <a:pt x="440" y="5"/>
                    </a:lnTo>
                    <a:lnTo>
                      <a:pt x="441" y="4"/>
                    </a:lnTo>
                    <a:lnTo>
                      <a:pt x="442" y="3"/>
                    </a:lnTo>
                    <a:lnTo>
                      <a:pt x="444" y="3"/>
                    </a:lnTo>
                    <a:lnTo>
                      <a:pt x="446" y="3"/>
                    </a:lnTo>
                    <a:lnTo>
                      <a:pt x="447" y="4"/>
                    </a:lnTo>
                    <a:lnTo>
                      <a:pt x="448" y="5"/>
                    </a:lnTo>
                    <a:lnTo>
                      <a:pt x="449" y="6"/>
                    </a:lnTo>
                    <a:lnTo>
                      <a:pt x="554" y="6"/>
                    </a:lnTo>
                    <a:lnTo>
                      <a:pt x="554" y="5"/>
                    </a:lnTo>
                    <a:lnTo>
                      <a:pt x="555" y="4"/>
                    </a:lnTo>
                    <a:lnTo>
                      <a:pt x="556" y="3"/>
                    </a:lnTo>
                    <a:lnTo>
                      <a:pt x="558" y="3"/>
                    </a:lnTo>
                    <a:lnTo>
                      <a:pt x="560" y="3"/>
                    </a:lnTo>
                    <a:lnTo>
                      <a:pt x="561" y="4"/>
                    </a:lnTo>
                    <a:lnTo>
                      <a:pt x="562" y="5"/>
                    </a:lnTo>
                    <a:lnTo>
                      <a:pt x="563" y="6"/>
                    </a:lnTo>
                    <a:lnTo>
                      <a:pt x="592" y="6"/>
                    </a:lnTo>
                    <a:lnTo>
                      <a:pt x="592" y="5"/>
                    </a:lnTo>
                    <a:lnTo>
                      <a:pt x="593" y="4"/>
                    </a:lnTo>
                    <a:lnTo>
                      <a:pt x="594" y="3"/>
                    </a:lnTo>
                    <a:lnTo>
                      <a:pt x="596" y="3"/>
                    </a:lnTo>
                    <a:lnTo>
                      <a:pt x="598" y="3"/>
                    </a:lnTo>
                    <a:lnTo>
                      <a:pt x="599" y="4"/>
                    </a:lnTo>
                    <a:lnTo>
                      <a:pt x="600" y="5"/>
                    </a:lnTo>
                    <a:lnTo>
                      <a:pt x="601" y="6"/>
                    </a:lnTo>
                    <a:lnTo>
                      <a:pt x="710" y="6"/>
                    </a:lnTo>
                    <a:lnTo>
                      <a:pt x="710" y="5"/>
                    </a:lnTo>
                    <a:lnTo>
                      <a:pt x="711" y="4"/>
                    </a:lnTo>
                    <a:lnTo>
                      <a:pt x="713" y="3"/>
                    </a:lnTo>
                    <a:lnTo>
                      <a:pt x="714" y="3"/>
                    </a:lnTo>
                    <a:lnTo>
                      <a:pt x="716" y="3"/>
                    </a:lnTo>
                    <a:lnTo>
                      <a:pt x="717" y="4"/>
                    </a:lnTo>
                    <a:lnTo>
                      <a:pt x="718" y="5"/>
                    </a:lnTo>
                    <a:lnTo>
                      <a:pt x="719" y="6"/>
                    </a:lnTo>
                    <a:lnTo>
                      <a:pt x="723" y="6"/>
                    </a:lnTo>
                    <a:lnTo>
                      <a:pt x="724" y="5"/>
                    </a:lnTo>
                    <a:lnTo>
                      <a:pt x="725" y="4"/>
                    </a:lnTo>
                    <a:lnTo>
                      <a:pt x="726" y="3"/>
                    </a:lnTo>
                    <a:lnTo>
                      <a:pt x="728" y="3"/>
                    </a:lnTo>
                    <a:lnTo>
                      <a:pt x="729" y="3"/>
                    </a:lnTo>
                    <a:lnTo>
                      <a:pt x="731" y="4"/>
                    </a:lnTo>
                    <a:lnTo>
                      <a:pt x="732" y="5"/>
                    </a:lnTo>
                    <a:lnTo>
                      <a:pt x="732" y="6"/>
                    </a:lnTo>
                    <a:lnTo>
                      <a:pt x="737" y="6"/>
                    </a:lnTo>
                    <a:lnTo>
                      <a:pt x="737" y="5"/>
                    </a:lnTo>
                    <a:lnTo>
                      <a:pt x="738" y="4"/>
                    </a:lnTo>
                    <a:lnTo>
                      <a:pt x="740" y="3"/>
                    </a:lnTo>
                    <a:lnTo>
                      <a:pt x="741" y="3"/>
                    </a:lnTo>
                    <a:lnTo>
                      <a:pt x="743" y="3"/>
                    </a:lnTo>
                    <a:lnTo>
                      <a:pt x="744" y="4"/>
                    </a:lnTo>
                    <a:lnTo>
                      <a:pt x="746" y="5"/>
                    </a:lnTo>
                    <a:lnTo>
                      <a:pt x="746" y="6"/>
                    </a:lnTo>
                    <a:lnTo>
                      <a:pt x="836" y="6"/>
                    </a:lnTo>
                    <a:lnTo>
                      <a:pt x="836" y="37"/>
                    </a:lnTo>
                    <a:lnTo>
                      <a:pt x="852" y="37"/>
                    </a:lnTo>
                    <a:lnTo>
                      <a:pt x="852" y="36"/>
                    </a:lnTo>
                    <a:lnTo>
                      <a:pt x="853" y="35"/>
                    </a:lnTo>
                    <a:lnTo>
                      <a:pt x="854" y="34"/>
                    </a:lnTo>
                    <a:lnTo>
                      <a:pt x="856" y="34"/>
                    </a:lnTo>
                    <a:lnTo>
                      <a:pt x="858" y="34"/>
                    </a:lnTo>
                    <a:lnTo>
                      <a:pt x="859" y="35"/>
                    </a:lnTo>
                    <a:lnTo>
                      <a:pt x="860" y="36"/>
                    </a:lnTo>
                    <a:lnTo>
                      <a:pt x="861" y="37"/>
                    </a:lnTo>
                    <a:lnTo>
                      <a:pt x="897" y="37"/>
                    </a:lnTo>
                    <a:lnTo>
                      <a:pt x="898" y="35"/>
                    </a:lnTo>
                    <a:lnTo>
                      <a:pt x="899" y="33"/>
                    </a:lnTo>
                    <a:lnTo>
                      <a:pt x="900" y="31"/>
                    </a:lnTo>
                    <a:lnTo>
                      <a:pt x="903" y="30"/>
                    </a:lnTo>
                    <a:lnTo>
                      <a:pt x="905" y="29"/>
                    </a:lnTo>
                    <a:lnTo>
                      <a:pt x="908" y="28"/>
                    </a:lnTo>
                    <a:lnTo>
                      <a:pt x="911" y="28"/>
                    </a:lnTo>
                    <a:lnTo>
                      <a:pt x="914" y="29"/>
                    </a:lnTo>
                    <a:lnTo>
                      <a:pt x="916" y="30"/>
                    </a:lnTo>
                    <a:lnTo>
                      <a:pt x="918" y="31"/>
                    </a:lnTo>
                    <a:lnTo>
                      <a:pt x="920" y="33"/>
                    </a:lnTo>
                    <a:lnTo>
                      <a:pt x="921" y="35"/>
                    </a:lnTo>
                    <a:lnTo>
                      <a:pt x="921" y="37"/>
                    </a:lnTo>
                    <a:lnTo>
                      <a:pt x="1017" y="37"/>
                    </a:lnTo>
                    <a:lnTo>
                      <a:pt x="1017" y="36"/>
                    </a:lnTo>
                    <a:lnTo>
                      <a:pt x="1018" y="35"/>
                    </a:lnTo>
                    <a:lnTo>
                      <a:pt x="1020" y="34"/>
                    </a:lnTo>
                    <a:lnTo>
                      <a:pt x="1022" y="34"/>
                    </a:lnTo>
                    <a:lnTo>
                      <a:pt x="1023" y="34"/>
                    </a:lnTo>
                    <a:lnTo>
                      <a:pt x="1025" y="35"/>
                    </a:lnTo>
                    <a:lnTo>
                      <a:pt x="1026" y="36"/>
                    </a:lnTo>
                    <a:lnTo>
                      <a:pt x="1026" y="37"/>
                    </a:lnTo>
                    <a:lnTo>
                      <a:pt x="1149" y="37"/>
                    </a:lnTo>
                    <a:lnTo>
                      <a:pt x="1149" y="36"/>
                    </a:lnTo>
                    <a:lnTo>
                      <a:pt x="1150" y="35"/>
                    </a:lnTo>
                    <a:lnTo>
                      <a:pt x="1152" y="34"/>
                    </a:lnTo>
                    <a:lnTo>
                      <a:pt x="1153" y="34"/>
                    </a:lnTo>
                    <a:lnTo>
                      <a:pt x="1155" y="34"/>
                    </a:lnTo>
                    <a:lnTo>
                      <a:pt x="1156" y="35"/>
                    </a:lnTo>
                    <a:lnTo>
                      <a:pt x="1157" y="36"/>
                    </a:lnTo>
                    <a:lnTo>
                      <a:pt x="1158" y="37"/>
                    </a:lnTo>
                    <a:lnTo>
                      <a:pt x="1162" y="37"/>
                    </a:lnTo>
                    <a:lnTo>
                      <a:pt x="1163" y="36"/>
                    </a:lnTo>
                    <a:lnTo>
                      <a:pt x="1164" y="35"/>
                    </a:lnTo>
                    <a:lnTo>
                      <a:pt x="1165" y="34"/>
                    </a:lnTo>
                    <a:lnTo>
                      <a:pt x="1167" y="34"/>
                    </a:lnTo>
                    <a:lnTo>
                      <a:pt x="1168" y="34"/>
                    </a:lnTo>
                    <a:lnTo>
                      <a:pt x="1170" y="35"/>
                    </a:lnTo>
                    <a:lnTo>
                      <a:pt x="1171" y="36"/>
                    </a:lnTo>
                    <a:lnTo>
                      <a:pt x="1171" y="37"/>
                    </a:lnTo>
                    <a:lnTo>
                      <a:pt x="1203" y="37"/>
                    </a:lnTo>
                    <a:lnTo>
                      <a:pt x="1203" y="36"/>
                    </a:lnTo>
                    <a:lnTo>
                      <a:pt x="1204" y="35"/>
                    </a:lnTo>
                    <a:lnTo>
                      <a:pt x="1206" y="34"/>
                    </a:lnTo>
                    <a:lnTo>
                      <a:pt x="1207" y="34"/>
                    </a:lnTo>
                    <a:lnTo>
                      <a:pt x="1209" y="34"/>
                    </a:lnTo>
                    <a:lnTo>
                      <a:pt x="1210" y="35"/>
                    </a:lnTo>
                    <a:lnTo>
                      <a:pt x="1211" y="36"/>
                    </a:lnTo>
                    <a:lnTo>
                      <a:pt x="1212" y="37"/>
                    </a:lnTo>
                    <a:lnTo>
                      <a:pt x="1258" y="37"/>
                    </a:lnTo>
                    <a:lnTo>
                      <a:pt x="1259" y="36"/>
                    </a:lnTo>
                    <a:lnTo>
                      <a:pt x="1260" y="35"/>
                    </a:lnTo>
                    <a:lnTo>
                      <a:pt x="1261" y="34"/>
                    </a:lnTo>
                    <a:lnTo>
                      <a:pt x="1263" y="34"/>
                    </a:lnTo>
                    <a:lnTo>
                      <a:pt x="1265" y="34"/>
                    </a:lnTo>
                    <a:lnTo>
                      <a:pt x="1266" y="35"/>
                    </a:lnTo>
                    <a:lnTo>
                      <a:pt x="1267" y="36"/>
                    </a:lnTo>
                    <a:lnTo>
                      <a:pt x="1267" y="37"/>
                    </a:lnTo>
                    <a:lnTo>
                      <a:pt x="1286" y="37"/>
                    </a:lnTo>
                    <a:lnTo>
                      <a:pt x="1286" y="36"/>
                    </a:lnTo>
                    <a:lnTo>
                      <a:pt x="1287" y="35"/>
                    </a:lnTo>
                    <a:lnTo>
                      <a:pt x="1288" y="34"/>
                    </a:lnTo>
                    <a:lnTo>
                      <a:pt x="1290" y="34"/>
                    </a:lnTo>
                    <a:lnTo>
                      <a:pt x="1292" y="34"/>
                    </a:lnTo>
                    <a:lnTo>
                      <a:pt x="1293" y="35"/>
                    </a:lnTo>
                    <a:lnTo>
                      <a:pt x="1294" y="36"/>
                    </a:lnTo>
                    <a:lnTo>
                      <a:pt x="1295" y="37"/>
                    </a:lnTo>
                    <a:lnTo>
                      <a:pt x="1310" y="37"/>
                    </a:lnTo>
                    <a:lnTo>
                      <a:pt x="1311" y="36"/>
                    </a:lnTo>
                    <a:lnTo>
                      <a:pt x="1312" y="35"/>
                    </a:lnTo>
                    <a:lnTo>
                      <a:pt x="1313" y="34"/>
                    </a:lnTo>
                    <a:lnTo>
                      <a:pt x="1315" y="34"/>
                    </a:lnTo>
                    <a:lnTo>
                      <a:pt x="1316" y="34"/>
                    </a:lnTo>
                    <a:lnTo>
                      <a:pt x="1318" y="35"/>
                    </a:lnTo>
                    <a:lnTo>
                      <a:pt x="1319" y="36"/>
                    </a:lnTo>
                    <a:lnTo>
                      <a:pt x="1319" y="37"/>
                    </a:lnTo>
                    <a:lnTo>
                      <a:pt x="1324" y="37"/>
                    </a:lnTo>
                    <a:lnTo>
                      <a:pt x="1325" y="36"/>
                    </a:lnTo>
                    <a:lnTo>
                      <a:pt x="1326" y="35"/>
                    </a:lnTo>
                    <a:lnTo>
                      <a:pt x="1327" y="34"/>
                    </a:lnTo>
                    <a:lnTo>
                      <a:pt x="1329" y="34"/>
                    </a:lnTo>
                    <a:lnTo>
                      <a:pt x="1331" y="34"/>
                    </a:lnTo>
                    <a:lnTo>
                      <a:pt x="1332" y="35"/>
                    </a:lnTo>
                    <a:lnTo>
                      <a:pt x="1333" y="36"/>
                    </a:lnTo>
                    <a:lnTo>
                      <a:pt x="1333" y="37"/>
                    </a:lnTo>
                    <a:lnTo>
                      <a:pt x="1395" y="37"/>
                    </a:lnTo>
                    <a:lnTo>
                      <a:pt x="1395" y="36"/>
                    </a:lnTo>
                    <a:lnTo>
                      <a:pt x="1396" y="35"/>
                    </a:lnTo>
                    <a:lnTo>
                      <a:pt x="1398" y="34"/>
                    </a:lnTo>
                    <a:lnTo>
                      <a:pt x="1399" y="34"/>
                    </a:lnTo>
                    <a:lnTo>
                      <a:pt x="1401" y="34"/>
                    </a:lnTo>
                    <a:lnTo>
                      <a:pt x="1402" y="35"/>
                    </a:lnTo>
                    <a:lnTo>
                      <a:pt x="1403" y="36"/>
                    </a:lnTo>
                    <a:lnTo>
                      <a:pt x="1404" y="37"/>
                    </a:lnTo>
                    <a:lnTo>
                      <a:pt x="1619" y="37"/>
                    </a:lnTo>
                    <a:lnTo>
                      <a:pt x="1619" y="304"/>
                    </a:lnTo>
                    <a:lnTo>
                      <a:pt x="1480" y="304"/>
                    </a:lnTo>
                    <a:lnTo>
                      <a:pt x="1480" y="3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780600" y="291780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2" name=""/>
              <p:cNvSpPr/>
              <p:nvPr/>
            </p:nvSpPr>
            <p:spPr>
              <a:xfrm>
                <a:off x="8353800" y="332928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63" name=""/>
              <p:cNvSpPr/>
              <p:nvPr/>
            </p:nvSpPr>
            <p:spPr>
              <a:xfrm>
                <a:off x="8483760" y="2375280"/>
                <a:ext cx="70920" cy="1045800"/>
              </a:xfrm>
              <a:custGeom>
                <a:avLst/>
                <a:gdLst/>
                <a:ahLst/>
                <a:rect l="l" t="t" r="r" b="b"/>
                <a:pathLst>
                  <a:path w="67" h="783">
                    <a:moveTo>
                      <a:pt x="57" y="0"/>
                    </a:moveTo>
                    <a:lnTo>
                      <a:pt x="67" y="0"/>
                    </a:lnTo>
                    <a:lnTo>
                      <a:pt x="67" y="783"/>
                    </a:lnTo>
                    <a:lnTo>
                      <a:pt x="55" y="783"/>
                    </a:lnTo>
                    <a:lnTo>
                      <a:pt x="54" y="782"/>
                    </a:lnTo>
                    <a:lnTo>
                      <a:pt x="53" y="780"/>
                    </a:lnTo>
                    <a:lnTo>
                      <a:pt x="52" y="780"/>
                    </a:lnTo>
                    <a:lnTo>
                      <a:pt x="50" y="779"/>
                    </a:lnTo>
                    <a:lnTo>
                      <a:pt x="49" y="780"/>
                    </a:lnTo>
                    <a:lnTo>
                      <a:pt x="47" y="780"/>
                    </a:lnTo>
                    <a:lnTo>
                      <a:pt x="46" y="782"/>
                    </a:lnTo>
                    <a:lnTo>
                      <a:pt x="46" y="783"/>
                    </a:lnTo>
                    <a:lnTo>
                      <a:pt x="0" y="78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531640" y="236844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5" name=""/>
              <p:cNvSpPr/>
              <p:nvPr/>
            </p:nvSpPr>
            <p:spPr>
              <a:xfrm>
                <a:off x="8472240" y="3414600"/>
                <a:ext cx="13680" cy="13320"/>
              </a:xfrm>
              <a:custGeom>
                <a:avLst/>
                <a:gdLst/>
                <a:ahLst/>
                <a:rect l="l" t="t" r="r" b="b"/>
                <a:pathLst>
                  <a:path w="13" h="10">
                    <a:moveTo>
                      <a:pt x="11" y="10"/>
                    </a:moveTo>
                    <a:lnTo>
                      <a:pt x="0" y="5"/>
                    </a:lnTo>
                    <a:lnTo>
                      <a:pt x="11" y="0"/>
                    </a:lnTo>
                    <a:lnTo>
                      <a:pt x="13" y="3"/>
                    </a:lnTo>
                    <a:lnTo>
                      <a:pt x="13" y="5"/>
                    </a:lnTo>
                    <a:lnTo>
                      <a:pt x="13" y="7"/>
                    </a:lnTo>
                    <a:lnTo>
                      <a:pt x="11"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6" name=""/>
              <p:cNvSpPr/>
              <p:nvPr/>
            </p:nvSpPr>
            <p:spPr>
              <a:xfrm>
                <a:off x="7847640" y="3515040"/>
                <a:ext cx="595800" cy="197640"/>
              </a:xfrm>
              <a:custGeom>
                <a:avLst/>
                <a:gdLst/>
                <a:ahLst/>
                <a:rect l="l" t="t" r="r" b="b"/>
                <a:pathLst>
                  <a:path w="563" h="148">
                    <a:moveTo>
                      <a:pt x="0" y="148"/>
                    </a:moveTo>
                    <a:lnTo>
                      <a:pt x="112" y="148"/>
                    </a:lnTo>
                    <a:lnTo>
                      <a:pt x="113" y="147"/>
                    </a:lnTo>
                    <a:lnTo>
                      <a:pt x="114" y="146"/>
                    </a:lnTo>
                    <a:lnTo>
                      <a:pt x="115" y="145"/>
                    </a:lnTo>
                    <a:lnTo>
                      <a:pt x="117" y="145"/>
                    </a:lnTo>
                    <a:lnTo>
                      <a:pt x="119" y="145"/>
                    </a:lnTo>
                    <a:lnTo>
                      <a:pt x="120" y="146"/>
                    </a:lnTo>
                    <a:lnTo>
                      <a:pt x="121" y="147"/>
                    </a:lnTo>
                    <a:lnTo>
                      <a:pt x="121" y="148"/>
                    </a:lnTo>
                    <a:lnTo>
                      <a:pt x="134" y="148"/>
                    </a:lnTo>
                    <a:lnTo>
                      <a:pt x="134" y="147"/>
                    </a:lnTo>
                    <a:lnTo>
                      <a:pt x="136" y="146"/>
                    </a:lnTo>
                    <a:lnTo>
                      <a:pt x="137" y="145"/>
                    </a:lnTo>
                    <a:lnTo>
                      <a:pt x="139" y="145"/>
                    </a:lnTo>
                    <a:lnTo>
                      <a:pt x="140" y="145"/>
                    </a:lnTo>
                    <a:lnTo>
                      <a:pt x="142" y="146"/>
                    </a:lnTo>
                    <a:lnTo>
                      <a:pt x="143" y="147"/>
                    </a:lnTo>
                    <a:lnTo>
                      <a:pt x="143" y="148"/>
                    </a:lnTo>
                    <a:lnTo>
                      <a:pt x="153" y="148"/>
                    </a:lnTo>
                    <a:lnTo>
                      <a:pt x="153" y="147"/>
                    </a:lnTo>
                    <a:lnTo>
                      <a:pt x="154" y="146"/>
                    </a:lnTo>
                    <a:lnTo>
                      <a:pt x="156" y="145"/>
                    </a:lnTo>
                    <a:lnTo>
                      <a:pt x="157" y="145"/>
                    </a:lnTo>
                    <a:lnTo>
                      <a:pt x="159" y="145"/>
                    </a:lnTo>
                    <a:lnTo>
                      <a:pt x="160" y="146"/>
                    </a:lnTo>
                    <a:lnTo>
                      <a:pt x="161" y="147"/>
                    </a:lnTo>
                    <a:lnTo>
                      <a:pt x="162" y="148"/>
                    </a:lnTo>
                    <a:lnTo>
                      <a:pt x="166" y="148"/>
                    </a:lnTo>
                    <a:lnTo>
                      <a:pt x="167" y="147"/>
                    </a:lnTo>
                    <a:lnTo>
                      <a:pt x="168" y="146"/>
                    </a:lnTo>
                    <a:lnTo>
                      <a:pt x="169" y="145"/>
                    </a:lnTo>
                    <a:lnTo>
                      <a:pt x="171" y="145"/>
                    </a:lnTo>
                    <a:lnTo>
                      <a:pt x="172" y="145"/>
                    </a:lnTo>
                    <a:lnTo>
                      <a:pt x="174" y="146"/>
                    </a:lnTo>
                    <a:lnTo>
                      <a:pt x="175" y="147"/>
                    </a:lnTo>
                    <a:lnTo>
                      <a:pt x="175" y="148"/>
                    </a:lnTo>
                    <a:lnTo>
                      <a:pt x="193" y="148"/>
                    </a:lnTo>
                    <a:lnTo>
                      <a:pt x="194" y="147"/>
                    </a:lnTo>
                    <a:lnTo>
                      <a:pt x="195" y="146"/>
                    </a:lnTo>
                    <a:lnTo>
                      <a:pt x="196" y="145"/>
                    </a:lnTo>
                    <a:lnTo>
                      <a:pt x="198" y="145"/>
                    </a:lnTo>
                    <a:lnTo>
                      <a:pt x="199" y="145"/>
                    </a:lnTo>
                    <a:lnTo>
                      <a:pt x="201" y="146"/>
                    </a:lnTo>
                    <a:lnTo>
                      <a:pt x="202" y="147"/>
                    </a:lnTo>
                    <a:lnTo>
                      <a:pt x="202" y="148"/>
                    </a:lnTo>
                    <a:lnTo>
                      <a:pt x="221" y="148"/>
                    </a:lnTo>
                    <a:lnTo>
                      <a:pt x="221" y="147"/>
                    </a:lnTo>
                    <a:lnTo>
                      <a:pt x="222" y="146"/>
                    </a:lnTo>
                    <a:lnTo>
                      <a:pt x="224" y="145"/>
                    </a:lnTo>
                    <a:lnTo>
                      <a:pt x="225" y="145"/>
                    </a:lnTo>
                    <a:lnTo>
                      <a:pt x="227" y="145"/>
                    </a:lnTo>
                    <a:lnTo>
                      <a:pt x="229" y="146"/>
                    </a:lnTo>
                    <a:lnTo>
                      <a:pt x="230" y="147"/>
                    </a:lnTo>
                    <a:lnTo>
                      <a:pt x="230" y="148"/>
                    </a:lnTo>
                    <a:lnTo>
                      <a:pt x="248" y="148"/>
                    </a:lnTo>
                    <a:lnTo>
                      <a:pt x="248" y="147"/>
                    </a:lnTo>
                    <a:lnTo>
                      <a:pt x="249" y="146"/>
                    </a:lnTo>
                    <a:lnTo>
                      <a:pt x="251" y="145"/>
                    </a:lnTo>
                    <a:lnTo>
                      <a:pt x="253" y="145"/>
                    </a:lnTo>
                    <a:lnTo>
                      <a:pt x="254" y="145"/>
                    </a:lnTo>
                    <a:lnTo>
                      <a:pt x="256" y="146"/>
                    </a:lnTo>
                    <a:lnTo>
                      <a:pt x="257" y="147"/>
                    </a:lnTo>
                    <a:lnTo>
                      <a:pt x="257" y="148"/>
                    </a:lnTo>
                    <a:lnTo>
                      <a:pt x="262" y="148"/>
                    </a:lnTo>
                    <a:lnTo>
                      <a:pt x="263" y="147"/>
                    </a:lnTo>
                    <a:lnTo>
                      <a:pt x="264" y="146"/>
                    </a:lnTo>
                    <a:lnTo>
                      <a:pt x="265" y="145"/>
                    </a:lnTo>
                    <a:lnTo>
                      <a:pt x="267" y="145"/>
                    </a:lnTo>
                    <a:lnTo>
                      <a:pt x="269" y="145"/>
                    </a:lnTo>
                    <a:lnTo>
                      <a:pt x="270" y="146"/>
                    </a:lnTo>
                    <a:lnTo>
                      <a:pt x="271" y="147"/>
                    </a:lnTo>
                    <a:lnTo>
                      <a:pt x="271" y="148"/>
                    </a:lnTo>
                    <a:lnTo>
                      <a:pt x="563" y="148"/>
                    </a:lnTo>
                    <a:lnTo>
                      <a:pt x="56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836120" y="3707280"/>
                <a:ext cx="13680" cy="11880"/>
              </a:xfrm>
              <a:custGeom>
                <a:avLst/>
                <a:gdLst/>
                <a:ahLst/>
                <a:rect l="l" t="t" r="r" b="b"/>
                <a:pathLst>
                  <a:path w="13" h="9">
                    <a:moveTo>
                      <a:pt x="11" y="9"/>
                    </a:moveTo>
                    <a:lnTo>
                      <a:pt x="0" y="4"/>
                    </a:lnTo>
                    <a:lnTo>
                      <a:pt x="11" y="0"/>
                    </a:lnTo>
                    <a:lnTo>
                      <a:pt x="12" y="2"/>
                    </a:lnTo>
                    <a:lnTo>
                      <a:pt x="13" y="4"/>
                    </a:lnTo>
                    <a:lnTo>
                      <a:pt x="12" y="7"/>
                    </a:lnTo>
                    <a:lnTo>
                      <a:pt x="11"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68" name=""/>
              <p:cNvSpPr/>
              <p:nvPr/>
            </p:nvSpPr>
            <p:spPr>
              <a:xfrm>
                <a:off x="8438400" y="3502800"/>
                <a:ext cx="11520" cy="13320"/>
              </a:xfrm>
              <a:custGeom>
                <a:avLst/>
                <a:gdLst/>
                <a:ahLst/>
                <a:rect l="l" t="t" r="r" b="b"/>
                <a:pathLst>
                  <a:path w="11" h="10">
                    <a:moveTo>
                      <a:pt x="0" y="9"/>
                    </a:moveTo>
                    <a:lnTo>
                      <a:pt x="5" y="0"/>
                    </a:lnTo>
                    <a:lnTo>
                      <a:pt x="11" y="9"/>
                    </a:lnTo>
                    <a:lnTo>
                      <a:pt x="9" y="10"/>
                    </a:lnTo>
                    <a:lnTo>
                      <a:pt x="5" y="10"/>
                    </a:lnTo>
                    <a:lnTo>
                      <a:pt x="2"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9" name=""/>
              <p:cNvSpPr/>
              <p:nvPr/>
            </p:nvSpPr>
            <p:spPr>
              <a:xfrm>
                <a:off x="7520400" y="3513240"/>
                <a:ext cx="729360" cy="650520"/>
              </a:xfrm>
              <a:custGeom>
                <a:avLst/>
                <a:gdLst/>
                <a:ahLst/>
                <a:rect l="l" t="t" r="r" b="b"/>
                <a:pathLst>
                  <a:path w="689" h="487">
                    <a:moveTo>
                      <a:pt x="0" y="487"/>
                    </a:moveTo>
                    <a:lnTo>
                      <a:pt x="12" y="487"/>
                    </a:lnTo>
                    <a:lnTo>
                      <a:pt x="12" y="5"/>
                    </a:lnTo>
                    <a:lnTo>
                      <a:pt x="18" y="5"/>
                    </a:lnTo>
                    <a:lnTo>
                      <a:pt x="19" y="3"/>
                    </a:lnTo>
                    <a:lnTo>
                      <a:pt x="20" y="2"/>
                    </a:lnTo>
                    <a:lnTo>
                      <a:pt x="21" y="1"/>
                    </a:lnTo>
                    <a:lnTo>
                      <a:pt x="23" y="0"/>
                    </a:lnTo>
                    <a:lnTo>
                      <a:pt x="25" y="0"/>
                    </a:lnTo>
                    <a:lnTo>
                      <a:pt x="27" y="0"/>
                    </a:lnTo>
                    <a:lnTo>
                      <a:pt x="29" y="1"/>
                    </a:lnTo>
                    <a:lnTo>
                      <a:pt x="31" y="2"/>
                    </a:lnTo>
                    <a:lnTo>
                      <a:pt x="31" y="3"/>
                    </a:lnTo>
                    <a:lnTo>
                      <a:pt x="32" y="5"/>
                    </a:lnTo>
                    <a:lnTo>
                      <a:pt x="114" y="5"/>
                    </a:lnTo>
                    <a:lnTo>
                      <a:pt x="114" y="4"/>
                    </a:lnTo>
                    <a:lnTo>
                      <a:pt x="115" y="3"/>
                    </a:lnTo>
                    <a:lnTo>
                      <a:pt x="117" y="2"/>
                    </a:lnTo>
                    <a:lnTo>
                      <a:pt x="118" y="1"/>
                    </a:lnTo>
                    <a:lnTo>
                      <a:pt x="120" y="2"/>
                    </a:lnTo>
                    <a:lnTo>
                      <a:pt x="122" y="3"/>
                    </a:lnTo>
                    <a:lnTo>
                      <a:pt x="123" y="4"/>
                    </a:lnTo>
                    <a:lnTo>
                      <a:pt x="123" y="5"/>
                    </a:lnTo>
                    <a:lnTo>
                      <a:pt x="141" y="5"/>
                    </a:lnTo>
                    <a:lnTo>
                      <a:pt x="141" y="4"/>
                    </a:lnTo>
                    <a:lnTo>
                      <a:pt x="142" y="3"/>
                    </a:lnTo>
                    <a:lnTo>
                      <a:pt x="144" y="2"/>
                    </a:lnTo>
                    <a:lnTo>
                      <a:pt x="146" y="1"/>
                    </a:lnTo>
                    <a:lnTo>
                      <a:pt x="147" y="2"/>
                    </a:lnTo>
                    <a:lnTo>
                      <a:pt x="149" y="3"/>
                    </a:lnTo>
                    <a:lnTo>
                      <a:pt x="150" y="4"/>
                    </a:lnTo>
                    <a:lnTo>
                      <a:pt x="150" y="5"/>
                    </a:lnTo>
                    <a:lnTo>
                      <a:pt x="153" y="5"/>
                    </a:lnTo>
                    <a:lnTo>
                      <a:pt x="153" y="4"/>
                    </a:lnTo>
                    <a:lnTo>
                      <a:pt x="154" y="3"/>
                    </a:lnTo>
                    <a:lnTo>
                      <a:pt x="156" y="2"/>
                    </a:lnTo>
                    <a:lnTo>
                      <a:pt x="157" y="1"/>
                    </a:lnTo>
                    <a:lnTo>
                      <a:pt x="159" y="2"/>
                    </a:lnTo>
                    <a:lnTo>
                      <a:pt x="160" y="3"/>
                    </a:lnTo>
                    <a:lnTo>
                      <a:pt x="161" y="4"/>
                    </a:lnTo>
                    <a:lnTo>
                      <a:pt x="162" y="5"/>
                    </a:lnTo>
                    <a:lnTo>
                      <a:pt x="165" y="5"/>
                    </a:lnTo>
                    <a:lnTo>
                      <a:pt x="165" y="4"/>
                    </a:lnTo>
                    <a:lnTo>
                      <a:pt x="166" y="3"/>
                    </a:lnTo>
                    <a:lnTo>
                      <a:pt x="167" y="2"/>
                    </a:lnTo>
                    <a:lnTo>
                      <a:pt x="169" y="1"/>
                    </a:lnTo>
                    <a:lnTo>
                      <a:pt x="171" y="2"/>
                    </a:lnTo>
                    <a:lnTo>
                      <a:pt x="172" y="3"/>
                    </a:lnTo>
                    <a:lnTo>
                      <a:pt x="173" y="4"/>
                    </a:lnTo>
                    <a:lnTo>
                      <a:pt x="174" y="5"/>
                    </a:lnTo>
                    <a:lnTo>
                      <a:pt x="284" y="5"/>
                    </a:lnTo>
                    <a:lnTo>
                      <a:pt x="284" y="4"/>
                    </a:lnTo>
                    <a:lnTo>
                      <a:pt x="285" y="3"/>
                    </a:lnTo>
                    <a:lnTo>
                      <a:pt x="287" y="2"/>
                    </a:lnTo>
                    <a:lnTo>
                      <a:pt x="288" y="1"/>
                    </a:lnTo>
                    <a:lnTo>
                      <a:pt x="290" y="2"/>
                    </a:lnTo>
                    <a:lnTo>
                      <a:pt x="292" y="3"/>
                    </a:lnTo>
                    <a:lnTo>
                      <a:pt x="292" y="4"/>
                    </a:lnTo>
                    <a:lnTo>
                      <a:pt x="293" y="5"/>
                    </a:lnTo>
                    <a:lnTo>
                      <a:pt x="421" y="5"/>
                    </a:lnTo>
                    <a:lnTo>
                      <a:pt x="422" y="4"/>
                    </a:lnTo>
                    <a:lnTo>
                      <a:pt x="423" y="3"/>
                    </a:lnTo>
                    <a:lnTo>
                      <a:pt x="424" y="2"/>
                    </a:lnTo>
                    <a:lnTo>
                      <a:pt x="426" y="1"/>
                    </a:lnTo>
                    <a:lnTo>
                      <a:pt x="428" y="2"/>
                    </a:lnTo>
                    <a:lnTo>
                      <a:pt x="429" y="3"/>
                    </a:lnTo>
                    <a:lnTo>
                      <a:pt x="430" y="4"/>
                    </a:lnTo>
                    <a:lnTo>
                      <a:pt x="430" y="5"/>
                    </a:lnTo>
                    <a:lnTo>
                      <a:pt x="443" y="5"/>
                    </a:lnTo>
                    <a:lnTo>
                      <a:pt x="444" y="4"/>
                    </a:lnTo>
                    <a:lnTo>
                      <a:pt x="445" y="3"/>
                    </a:lnTo>
                    <a:lnTo>
                      <a:pt x="446" y="2"/>
                    </a:lnTo>
                    <a:lnTo>
                      <a:pt x="448" y="1"/>
                    </a:lnTo>
                    <a:lnTo>
                      <a:pt x="449" y="2"/>
                    </a:lnTo>
                    <a:lnTo>
                      <a:pt x="451" y="3"/>
                    </a:lnTo>
                    <a:lnTo>
                      <a:pt x="452" y="4"/>
                    </a:lnTo>
                    <a:lnTo>
                      <a:pt x="452" y="5"/>
                    </a:lnTo>
                    <a:lnTo>
                      <a:pt x="462" y="5"/>
                    </a:lnTo>
                    <a:lnTo>
                      <a:pt x="462" y="4"/>
                    </a:lnTo>
                    <a:lnTo>
                      <a:pt x="463" y="3"/>
                    </a:lnTo>
                    <a:lnTo>
                      <a:pt x="465" y="2"/>
                    </a:lnTo>
                    <a:lnTo>
                      <a:pt x="466" y="1"/>
                    </a:lnTo>
                    <a:lnTo>
                      <a:pt x="468" y="2"/>
                    </a:lnTo>
                    <a:lnTo>
                      <a:pt x="469" y="3"/>
                    </a:lnTo>
                    <a:lnTo>
                      <a:pt x="470" y="4"/>
                    </a:lnTo>
                    <a:lnTo>
                      <a:pt x="471" y="5"/>
                    </a:lnTo>
                    <a:lnTo>
                      <a:pt x="475" y="5"/>
                    </a:lnTo>
                    <a:lnTo>
                      <a:pt x="476" y="4"/>
                    </a:lnTo>
                    <a:lnTo>
                      <a:pt x="477" y="3"/>
                    </a:lnTo>
                    <a:lnTo>
                      <a:pt x="478" y="2"/>
                    </a:lnTo>
                    <a:lnTo>
                      <a:pt x="480" y="1"/>
                    </a:lnTo>
                    <a:lnTo>
                      <a:pt x="481" y="2"/>
                    </a:lnTo>
                    <a:lnTo>
                      <a:pt x="483" y="3"/>
                    </a:lnTo>
                    <a:lnTo>
                      <a:pt x="484" y="4"/>
                    </a:lnTo>
                    <a:lnTo>
                      <a:pt x="484" y="5"/>
                    </a:lnTo>
                    <a:lnTo>
                      <a:pt x="530" y="5"/>
                    </a:lnTo>
                    <a:lnTo>
                      <a:pt x="530" y="4"/>
                    </a:lnTo>
                    <a:lnTo>
                      <a:pt x="531" y="3"/>
                    </a:lnTo>
                    <a:lnTo>
                      <a:pt x="533" y="2"/>
                    </a:lnTo>
                    <a:lnTo>
                      <a:pt x="534" y="1"/>
                    </a:lnTo>
                    <a:lnTo>
                      <a:pt x="536" y="2"/>
                    </a:lnTo>
                    <a:lnTo>
                      <a:pt x="538" y="3"/>
                    </a:lnTo>
                    <a:lnTo>
                      <a:pt x="539" y="4"/>
                    </a:lnTo>
                    <a:lnTo>
                      <a:pt x="539" y="5"/>
                    </a:lnTo>
                    <a:lnTo>
                      <a:pt x="557" y="5"/>
                    </a:lnTo>
                    <a:lnTo>
                      <a:pt x="557" y="4"/>
                    </a:lnTo>
                    <a:lnTo>
                      <a:pt x="558" y="3"/>
                    </a:lnTo>
                    <a:lnTo>
                      <a:pt x="560" y="2"/>
                    </a:lnTo>
                    <a:lnTo>
                      <a:pt x="562" y="1"/>
                    </a:lnTo>
                    <a:lnTo>
                      <a:pt x="563" y="2"/>
                    </a:lnTo>
                    <a:lnTo>
                      <a:pt x="565" y="3"/>
                    </a:lnTo>
                    <a:lnTo>
                      <a:pt x="566" y="4"/>
                    </a:lnTo>
                    <a:lnTo>
                      <a:pt x="566" y="5"/>
                    </a:lnTo>
                    <a:lnTo>
                      <a:pt x="572" y="5"/>
                    </a:lnTo>
                    <a:lnTo>
                      <a:pt x="572" y="4"/>
                    </a:lnTo>
                    <a:lnTo>
                      <a:pt x="573" y="3"/>
                    </a:lnTo>
                    <a:lnTo>
                      <a:pt x="574" y="2"/>
                    </a:lnTo>
                    <a:lnTo>
                      <a:pt x="576" y="1"/>
                    </a:lnTo>
                    <a:lnTo>
                      <a:pt x="578" y="2"/>
                    </a:lnTo>
                    <a:lnTo>
                      <a:pt x="579" y="3"/>
                    </a:lnTo>
                    <a:lnTo>
                      <a:pt x="580" y="4"/>
                    </a:lnTo>
                    <a:lnTo>
                      <a:pt x="580" y="5"/>
                    </a:lnTo>
                    <a:lnTo>
                      <a:pt x="689" y="5"/>
                    </a:lnTo>
                    <a:lnTo>
                      <a:pt x="689" y="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7520400" y="41587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71" name=""/>
              <p:cNvSpPr/>
              <p:nvPr/>
            </p:nvSpPr>
            <p:spPr>
              <a:xfrm>
                <a:off x="8243640" y="35028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2" name=""/>
              <p:cNvSpPr/>
              <p:nvPr/>
            </p:nvSpPr>
            <p:spPr>
              <a:xfrm>
                <a:off x="7962120" y="3381120"/>
                <a:ext cx="182880" cy="39960"/>
              </a:xfrm>
              <a:custGeom>
                <a:avLst/>
                <a:gdLst/>
                <a:ahLst/>
                <a:rect l="l" t="t" r="r" b="b"/>
                <a:pathLst>
                  <a:path w="173" h="30">
                    <a:moveTo>
                      <a:pt x="0" y="0"/>
                    </a:moveTo>
                    <a:lnTo>
                      <a:pt x="22" y="0"/>
                    </a:lnTo>
                    <a:lnTo>
                      <a:pt x="22" y="30"/>
                    </a:lnTo>
                    <a:lnTo>
                      <a:pt x="45" y="30"/>
                    </a:lnTo>
                    <a:lnTo>
                      <a:pt x="45" y="29"/>
                    </a:lnTo>
                    <a:lnTo>
                      <a:pt x="46" y="27"/>
                    </a:lnTo>
                    <a:lnTo>
                      <a:pt x="48" y="27"/>
                    </a:lnTo>
                    <a:lnTo>
                      <a:pt x="49" y="26"/>
                    </a:lnTo>
                    <a:lnTo>
                      <a:pt x="51" y="27"/>
                    </a:lnTo>
                    <a:lnTo>
                      <a:pt x="52" y="27"/>
                    </a:lnTo>
                    <a:lnTo>
                      <a:pt x="53" y="29"/>
                    </a:lnTo>
                    <a:lnTo>
                      <a:pt x="54" y="30"/>
                    </a:lnTo>
                    <a:lnTo>
                      <a:pt x="58" y="30"/>
                    </a:lnTo>
                    <a:lnTo>
                      <a:pt x="59" y="29"/>
                    </a:lnTo>
                    <a:lnTo>
                      <a:pt x="60" y="27"/>
                    </a:lnTo>
                    <a:lnTo>
                      <a:pt x="61" y="27"/>
                    </a:lnTo>
                    <a:lnTo>
                      <a:pt x="63" y="26"/>
                    </a:lnTo>
                    <a:lnTo>
                      <a:pt x="64" y="27"/>
                    </a:lnTo>
                    <a:lnTo>
                      <a:pt x="66" y="27"/>
                    </a:lnTo>
                    <a:lnTo>
                      <a:pt x="67" y="29"/>
                    </a:lnTo>
                    <a:lnTo>
                      <a:pt x="67" y="30"/>
                    </a:lnTo>
                    <a:lnTo>
                      <a:pt x="140" y="30"/>
                    </a:lnTo>
                    <a:lnTo>
                      <a:pt x="140" y="29"/>
                    </a:lnTo>
                    <a:lnTo>
                      <a:pt x="141" y="27"/>
                    </a:lnTo>
                    <a:lnTo>
                      <a:pt x="143" y="27"/>
                    </a:lnTo>
                    <a:lnTo>
                      <a:pt x="145" y="26"/>
                    </a:lnTo>
                    <a:lnTo>
                      <a:pt x="146" y="27"/>
                    </a:lnTo>
                    <a:lnTo>
                      <a:pt x="148" y="27"/>
                    </a:lnTo>
                    <a:lnTo>
                      <a:pt x="149" y="29"/>
                    </a:lnTo>
                    <a:lnTo>
                      <a:pt x="149" y="30"/>
                    </a:lnTo>
                    <a:lnTo>
                      <a:pt x="155" y="30"/>
                    </a:lnTo>
                    <a:lnTo>
                      <a:pt x="155" y="29"/>
                    </a:lnTo>
                    <a:lnTo>
                      <a:pt x="156" y="27"/>
                    </a:lnTo>
                    <a:lnTo>
                      <a:pt x="157" y="27"/>
                    </a:lnTo>
                    <a:lnTo>
                      <a:pt x="159" y="26"/>
                    </a:lnTo>
                    <a:lnTo>
                      <a:pt x="161" y="27"/>
                    </a:lnTo>
                    <a:lnTo>
                      <a:pt x="162" y="27"/>
                    </a:lnTo>
                    <a:lnTo>
                      <a:pt x="163" y="29"/>
                    </a:lnTo>
                    <a:lnTo>
                      <a:pt x="163" y="30"/>
                    </a:lnTo>
                    <a:lnTo>
                      <a:pt x="173" y="3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73" name=""/>
              <p:cNvSpPr/>
              <p:nvPr/>
            </p:nvSpPr>
            <p:spPr>
              <a:xfrm>
                <a:off x="7949160" y="3374640"/>
                <a:ext cx="14760" cy="11880"/>
              </a:xfrm>
              <a:custGeom>
                <a:avLst/>
                <a:gdLst/>
                <a:ahLst/>
                <a:rect l="l" t="t" r="r" b="b"/>
                <a:pathLst>
                  <a:path w="14" h="9">
                    <a:moveTo>
                      <a:pt x="12" y="9"/>
                    </a:moveTo>
                    <a:lnTo>
                      <a:pt x="0" y="5"/>
                    </a:lnTo>
                    <a:lnTo>
                      <a:pt x="12" y="0"/>
                    </a:lnTo>
                    <a:lnTo>
                      <a:pt x="13" y="2"/>
                    </a:lnTo>
                    <a:lnTo>
                      <a:pt x="14"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74" name=""/>
              <p:cNvSpPr/>
              <p:nvPr/>
            </p:nvSpPr>
            <p:spPr>
              <a:xfrm>
                <a:off x="8130240" y="3414600"/>
                <a:ext cx="14760" cy="13320"/>
              </a:xfrm>
              <a:custGeom>
                <a:avLst/>
                <a:gdLst/>
                <a:ahLst/>
                <a:rect l="l" t="t" r="r" b="b"/>
                <a:pathLst>
                  <a:path w="14" h="10">
                    <a:moveTo>
                      <a:pt x="2" y="0"/>
                    </a:moveTo>
                    <a:lnTo>
                      <a:pt x="14" y="5"/>
                    </a:lnTo>
                    <a:lnTo>
                      <a:pt x="2" y="10"/>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5" name=""/>
              <p:cNvSpPr/>
              <p:nvPr/>
            </p:nvSpPr>
            <p:spPr>
              <a:xfrm>
                <a:off x="7381800" y="2145600"/>
                <a:ext cx="803520" cy="1186200"/>
              </a:xfrm>
              <a:custGeom>
                <a:avLst/>
                <a:gdLst/>
                <a:ahLst/>
                <a:rect l="l" t="t" r="r" b="b"/>
                <a:pathLst>
                  <a:path w="759" h="888">
                    <a:moveTo>
                      <a:pt x="0" y="3"/>
                    </a:moveTo>
                    <a:lnTo>
                      <a:pt x="16" y="3"/>
                    </a:lnTo>
                    <a:lnTo>
                      <a:pt x="16" y="2"/>
                    </a:lnTo>
                    <a:lnTo>
                      <a:pt x="17" y="1"/>
                    </a:lnTo>
                    <a:lnTo>
                      <a:pt x="18" y="0"/>
                    </a:lnTo>
                    <a:lnTo>
                      <a:pt x="20" y="0"/>
                    </a:lnTo>
                    <a:lnTo>
                      <a:pt x="22" y="0"/>
                    </a:lnTo>
                    <a:lnTo>
                      <a:pt x="23" y="1"/>
                    </a:lnTo>
                    <a:lnTo>
                      <a:pt x="24" y="2"/>
                    </a:lnTo>
                    <a:lnTo>
                      <a:pt x="25" y="3"/>
                    </a:lnTo>
                    <a:lnTo>
                      <a:pt x="142" y="3"/>
                    </a:lnTo>
                    <a:lnTo>
                      <a:pt x="142" y="2"/>
                    </a:lnTo>
                    <a:lnTo>
                      <a:pt x="143" y="1"/>
                    </a:lnTo>
                    <a:lnTo>
                      <a:pt x="145" y="0"/>
                    </a:lnTo>
                    <a:lnTo>
                      <a:pt x="146" y="0"/>
                    </a:lnTo>
                    <a:lnTo>
                      <a:pt x="148" y="0"/>
                    </a:lnTo>
                    <a:lnTo>
                      <a:pt x="150" y="1"/>
                    </a:lnTo>
                    <a:lnTo>
                      <a:pt x="151" y="2"/>
                    </a:lnTo>
                    <a:lnTo>
                      <a:pt x="151" y="3"/>
                    </a:lnTo>
                    <a:lnTo>
                      <a:pt x="179" y="3"/>
                    </a:lnTo>
                    <a:lnTo>
                      <a:pt x="179" y="9"/>
                    </a:lnTo>
                    <a:lnTo>
                      <a:pt x="376" y="9"/>
                    </a:lnTo>
                    <a:lnTo>
                      <a:pt x="376" y="8"/>
                    </a:lnTo>
                    <a:lnTo>
                      <a:pt x="377" y="7"/>
                    </a:lnTo>
                    <a:lnTo>
                      <a:pt x="378" y="6"/>
                    </a:lnTo>
                    <a:lnTo>
                      <a:pt x="380" y="6"/>
                    </a:lnTo>
                    <a:lnTo>
                      <a:pt x="382" y="6"/>
                    </a:lnTo>
                    <a:lnTo>
                      <a:pt x="383" y="7"/>
                    </a:lnTo>
                    <a:lnTo>
                      <a:pt x="384" y="8"/>
                    </a:lnTo>
                    <a:lnTo>
                      <a:pt x="385" y="9"/>
                    </a:lnTo>
                    <a:lnTo>
                      <a:pt x="620" y="9"/>
                    </a:lnTo>
                    <a:lnTo>
                      <a:pt x="620" y="8"/>
                    </a:lnTo>
                    <a:lnTo>
                      <a:pt x="621" y="7"/>
                    </a:lnTo>
                    <a:lnTo>
                      <a:pt x="623" y="6"/>
                    </a:lnTo>
                    <a:lnTo>
                      <a:pt x="624" y="6"/>
                    </a:lnTo>
                    <a:lnTo>
                      <a:pt x="626" y="6"/>
                    </a:lnTo>
                    <a:lnTo>
                      <a:pt x="627" y="7"/>
                    </a:lnTo>
                    <a:lnTo>
                      <a:pt x="628" y="8"/>
                    </a:lnTo>
                    <a:lnTo>
                      <a:pt x="629" y="9"/>
                    </a:lnTo>
                    <a:lnTo>
                      <a:pt x="647" y="9"/>
                    </a:lnTo>
                    <a:lnTo>
                      <a:pt x="647" y="8"/>
                    </a:lnTo>
                    <a:lnTo>
                      <a:pt x="648" y="7"/>
                    </a:lnTo>
                    <a:lnTo>
                      <a:pt x="650" y="6"/>
                    </a:lnTo>
                    <a:lnTo>
                      <a:pt x="651" y="6"/>
                    </a:lnTo>
                    <a:lnTo>
                      <a:pt x="653" y="6"/>
                    </a:lnTo>
                    <a:lnTo>
                      <a:pt x="654" y="7"/>
                    </a:lnTo>
                    <a:lnTo>
                      <a:pt x="655" y="8"/>
                    </a:lnTo>
                    <a:lnTo>
                      <a:pt x="656" y="9"/>
                    </a:lnTo>
                    <a:lnTo>
                      <a:pt x="702" y="9"/>
                    </a:lnTo>
                    <a:lnTo>
                      <a:pt x="703" y="8"/>
                    </a:lnTo>
                    <a:lnTo>
                      <a:pt x="704" y="7"/>
                    </a:lnTo>
                    <a:lnTo>
                      <a:pt x="705" y="6"/>
                    </a:lnTo>
                    <a:lnTo>
                      <a:pt x="707" y="6"/>
                    </a:lnTo>
                    <a:lnTo>
                      <a:pt x="709" y="6"/>
                    </a:lnTo>
                    <a:lnTo>
                      <a:pt x="710" y="7"/>
                    </a:lnTo>
                    <a:lnTo>
                      <a:pt x="711" y="8"/>
                    </a:lnTo>
                    <a:lnTo>
                      <a:pt x="711" y="9"/>
                    </a:lnTo>
                    <a:lnTo>
                      <a:pt x="759" y="9"/>
                    </a:lnTo>
                    <a:lnTo>
                      <a:pt x="759" y="888"/>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179200" y="332928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77" name=""/>
              <p:cNvSpPr/>
              <p:nvPr/>
            </p:nvSpPr>
            <p:spPr>
              <a:xfrm>
                <a:off x="7098120" y="2662560"/>
                <a:ext cx="1046880" cy="718560"/>
              </a:xfrm>
              <a:custGeom>
                <a:avLst/>
                <a:gdLst/>
                <a:ahLst/>
                <a:rect l="l" t="t" r="r" b="b"/>
                <a:pathLst>
                  <a:path w="989" h="538">
                    <a:moveTo>
                      <a:pt x="989" y="538"/>
                    </a:moveTo>
                    <a:lnTo>
                      <a:pt x="979" y="538"/>
                    </a:lnTo>
                    <a:lnTo>
                      <a:pt x="979" y="536"/>
                    </a:lnTo>
                    <a:lnTo>
                      <a:pt x="978" y="535"/>
                    </a:lnTo>
                    <a:lnTo>
                      <a:pt x="977" y="534"/>
                    </a:lnTo>
                    <a:lnTo>
                      <a:pt x="975" y="534"/>
                    </a:lnTo>
                    <a:lnTo>
                      <a:pt x="973" y="534"/>
                    </a:lnTo>
                    <a:lnTo>
                      <a:pt x="972" y="535"/>
                    </a:lnTo>
                    <a:lnTo>
                      <a:pt x="971" y="536"/>
                    </a:lnTo>
                    <a:lnTo>
                      <a:pt x="971" y="538"/>
                    </a:lnTo>
                    <a:lnTo>
                      <a:pt x="965" y="538"/>
                    </a:lnTo>
                    <a:lnTo>
                      <a:pt x="965" y="536"/>
                    </a:lnTo>
                    <a:lnTo>
                      <a:pt x="964" y="535"/>
                    </a:lnTo>
                    <a:lnTo>
                      <a:pt x="962" y="534"/>
                    </a:lnTo>
                    <a:lnTo>
                      <a:pt x="961" y="534"/>
                    </a:lnTo>
                    <a:lnTo>
                      <a:pt x="959" y="534"/>
                    </a:lnTo>
                    <a:lnTo>
                      <a:pt x="957" y="535"/>
                    </a:lnTo>
                    <a:lnTo>
                      <a:pt x="956" y="536"/>
                    </a:lnTo>
                    <a:lnTo>
                      <a:pt x="956" y="538"/>
                    </a:lnTo>
                    <a:lnTo>
                      <a:pt x="926" y="538"/>
                    </a:lnTo>
                    <a:lnTo>
                      <a:pt x="926" y="454"/>
                    </a:lnTo>
                    <a:lnTo>
                      <a:pt x="883" y="454"/>
                    </a:lnTo>
                    <a:lnTo>
                      <a:pt x="883" y="453"/>
                    </a:lnTo>
                    <a:lnTo>
                      <a:pt x="882" y="452"/>
                    </a:lnTo>
                    <a:lnTo>
                      <a:pt x="880" y="451"/>
                    </a:lnTo>
                    <a:lnTo>
                      <a:pt x="879" y="451"/>
                    </a:lnTo>
                    <a:lnTo>
                      <a:pt x="877" y="451"/>
                    </a:lnTo>
                    <a:lnTo>
                      <a:pt x="876" y="452"/>
                    </a:lnTo>
                    <a:lnTo>
                      <a:pt x="875" y="453"/>
                    </a:lnTo>
                    <a:lnTo>
                      <a:pt x="874" y="454"/>
                    </a:lnTo>
                    <a:lnTo>
                      <a:pt x="870" y="454"/>
                    </a:lnTo>
                    <a:lnTo>
                      <a:pt x="869" y="453"/>
                    </a:lnTo>
                    <a:lnTo>
                      <a:pt x="868" y="452"/>
                    </a:lnTo>
                    <a:lnTo>
                      <a:pt x="867" y="451"/>
                    </a:lnTo>
                    <a:lnTo>
                      <a:pt x="865" y="451"/>
                    </a:lnTo>
                    <a:lnTo>
                      <a:pt x="864" y="451"/>
                    </a:lnTo>
                    <a:lnTo>
                      <a:pt x="862" y="452"/>
                    </a:lnTo>
                    <a:lnTo>
                      <a:pt x="861" y="453"/>
                    </a:lnTo>
                    <a:lnTo>
                      <a:pt x="861" y="454"/>
                    </a:lnTo>
                    <a:lnTo>
                      <a:pt x="829" y="454"/>
                    </a:lnTo>
                    <a:lnTo>
                      <a:pt x="829" y="453"/>
                    </a:lnTo>
                    <a:lnTo>
                      <a:pt x="828" y="452"/>
                    </a:lnTo>
                    <a:lnTo>
                      <a:pt x="826" y="451"/>
                    </a:lnTo>
                    <a:lnTo>
                      <a:pt x="825" y="451"/>
                    </a:lnTo>
                    <a:lnTo>
                      <a:pt x="823" y="451"/>
                    </a:lnTo>
                    <a:lnTo>
                      <a:pt x="822" y="452"/>
                    </a:lnTo>
                    <a:lnTo>
                      <a:pt x="821" y="453"/>
                    </a:lnTo>
                    <a:lnTo>
                      <a:pt x="820" y="454"/>
                    </a:lnTo>
                    <a:lnTo>
                      <a:pt x="696" y="454"/>
                    </a:lnTo>
                    <a:lnTo>
                      <a:pt x="696" y="453"/>
                    </a:lnTo>
                    <a:lnTo>
                      <a:pt x="695" y="452"/>
                    </a:lnTo>
                    <a:lnTo>
                      <a:pt x="694" y="451"/>
                    </a:lnTo>
                    <a:lnTo>
                      <a:pt x="692" y="451"/>
                    </a:lnTo>
                    <a:lnTo>
                      <a:pt x="690" y="451"/>
                    </a:lnTo>
                    <a:lnTo>
                      <a:pt x="689" y="452"/>
                    </a:lnTo>
                    <a:lnTo>
                      <a:pt x="688" y="453"/>
                    </a:lnTo>
                    <a:lnTo>
                      <a:pt x="688" y="454"/>
                    </a:lnTo>
                    <a:lnTo>
                      <a:pt x="573" y="454"/>
                    </a:lnTo>
                    <a:lnTo>
                      <a:pt x="572" y="453"/>
                    </a:lnTo>
                    <a:lnTo>
                      <a:pt x="571" y="452"/>
                    </a:lnTo>
                    <a:lnTo>
                      <a:pt x="570" y="451"/>
                    </a:lnTo>
                    <a:lnTo>
                      <a:pt x="568" y="451"/>
                    </a:lnTo>
                    <a:lnTo>
                      <a:pt x="566" y="451"/>
                    </a:lnTo>
                    <a:lnTo>
                      <a:pt x="565" y="452"/>
                    </a:lnTo>
                    <a:lnTo>
                      <a:pt x="564" y="453"/>
                    </a:lnTo>
                    <a:lnTo>
                      <a:pt x="564" y="454"/>
                    </a:lnTo>
                    <a:lnTo>
                      <a:pt x="561" y="454"/>
                    </a:lnTo>
                    <a:lnTo>
                      <a:pt x="560" y="453"/>
                    </a:lnTo>
                    <a:lnTo>
                      <a:pt x="559" y="452"/>
                    </a:lnTo>
                    <a:lnTo>
                      <a:pt x="558" y="451"/>
                    </a:lnTo>
                    <a:lnTo>
                      <a:pt x="556" y="451"/>
                    </a:lnTo>
                    <a:lnTo>
                      <a:pt x="555" y="451"/>
                    </a:lnTo>
                    <a:lnTo>
                      <a:pt x="553" y="452"/>
                    </a:lnTo>
                    <a:lnTo>
                      <a:pt x="552" y="453"/>
                    </a:lnTo>
                    <a:lnTo>
                      <a:pt x="552" y="454"/>
                    </a:lnTo>
                    <a:lnTo>
                      <a:pt x="522" y="454"/>
                    </a:lnTo>
                    <a:lnTo>
                      <a:pt x="522" y="453"/>
                    </a:lnTo>
                    <a:lnTo>
                      <a:pt x="521" y="452"/>
                    </a:lnTo>
                    <a:lnTo>
                      <a:pt x="519" y="451"/>
                    </a:lnTo>
                    <a:lnTo>
                      <a:pt x="517" y="451"/>
                    </a:lnTo>
                    <a:lnTo>
                      <a:pt x="516" y="451"/>
                    </a:lnTo>
                    <a:lnTo>
                      <a:pt x="514" y="452"/>
                    </a:lnTo>
                    <a:lnTo>
                      <a:pt x="513" y="453"/>
                    </a:lnTo>
                    <a:lnTo>
                      <a:pt x="513" y="454"/>
                    </a:lnTo>
                    <a:lnTo>
                      <a:pt x="485" y="454"/>
                    </a:lnTo>
                    <a:lnTo>
                      <a:pt x="484" y="453"/>
                    </a:lnTo>
                    <a:lnTo>
                      <a:pt x="483" y="452"/>
                    </a:lnTo>
                    <a:lnTo>
                      <a:pt x="482" y="451"/>
                    </a:lnTo>
                    <a:lnTo>
                      <a:pt x="480" y="451"/>
                    </a:lnTo>
                    <a:lnTo>
                      <a:pt x="479" y="451"/>
                    </a:lnTo>
                    <a:lnTo>
                      <a:pt x="477" y="452"/>
                    </a:lnTo>
                    <a:lnTo>
                      <a:pt x="476" y="453"/>
                    </a:lnTo>
                    <a:lnTo>
                      <a:pt x="476" y="454"/>
                    </a:lnTo>
                    <a:lnTo>
                      <a:pt x="458" y="454"/>
                    </a:lnTo>
                    <a:lnTo>
                      <a:pt x="458" y="453"/>
                    </a:lnTo>
                    <a:lnTo>
                      <a:pt x="457" y="452"/>
                    </a:lnTo>
                    <a:lnTo>
                      <a:pt x="455" y="451"/>
                    </a:lnTo>
                    <a:lnTo>
                      <a:pt x="453" y="451"/>
                    </a:lnTo>
                    <a:lnTo>
                      <a:pt x="452" y="451"/>
                    </a:lnTo>
                    <a:lnTo>
                      <a:pt x="450" y="452"/>
                    </a:lnTo>
                    <a:lnTo>
                      <a:pt x="449" y="453"/>
                    </a:lnTo>
                    <a:lnTo>
                      <a:pt x="449" y="454"/>
                    </a:lnTo>
                    <a:lnTo>
                      <a:pt x="444" y="454"/>
                    </a:lnTo>
                    <a:lnTo>
                      <a:pt x="444" y="453"/>
                    </a:lnTo>
                    <a:lnTo>
                      <a:pt x="443" y="452"/>
                    </a:lnTo>
                    <a:lnTo>
                      <a:pt x="441" y="451"/>
                    </a:lnTo>
                    <a:lnTo>
                      <a:pt x="440" y="451"/>
                    </a:lnTo>
                    <a:lnTo>
                      <a:pt x="438" y="451"/>
                    </a:lnTo>
                    <a:lnTo>
                      <a:pt x="437" y="452"/>
                    </a:lnTo>
                    <a:lnTo>
                      <a:pt x="436" y="453"/>
                    </a:lnTo>
                    <a:lnTo>
                      <a:pt x="435" y="454"/>
                    </a:lnTo>
                    <a:lnTo>
                      <a:pt x="431" y="454"/>
                    </a:lnTo>
                    <a:lnTo>
                      <a:pt x="430" y="453"/>
                    </a:lnTo>
                    <a:lnTo>
                      <a:pt x="430" y="452"/>
                    </a:lnTo>
                    <a:lnTo>
                      <a:pt x="428" y="451"/>
                    </a:lnTo>
                    <a:lnTo>
                      <a:pt x="426" y="451"/>
                    </a:lnTo>
                    <a:lnTo>
                      <a:pt x="425" y="451"/>
                    </a:lnTo>
                    <a:lnTo>
                      <a:pt x="423" y="452"/>
                    </a:lnTo>
                    <a:lnTo>
                      <a:pt x="422" y="453"/>
                    </a:lnTo>
                    <a:lnTo>
                      <a:pt x="422" y="454"/>
                    </a:lnTo>
                    <a:lnTo>
                      <a:pt x="367" y="454"/>
                    </a:lnTo>
                    <a:lnTo>
                      <a:pt x="366" y="453"/>
                    </a:lnTo>
                    <a:lnTo>
                      <a:pt x="365" y="452"/>
                    </a:lnTo>
                    <a:lnTo>
                      <a:pt x="364" y="451"/>
                    </a:lnTo>
                    <a:lnTo>
                      <a:pt x="362" y="451"/>
                    </a:lnTo>
                    <a:lnTo>
                      <a:pt x="360" y="451"/>
                    </a:lnTo>
                    <a:lnTo>
                      <a:pt x="359" y="452"/>
                    </a:lnTo>
                    <a:lnTo>
                      <a:pt x="358" y="453"/>
                    </a:lnTo>
                    <a:lnTo>
                      <a:pt x="358" y="454"/>
                    </a:lnTo>
                    <a:lnTo>
                      <a:pt x="161" y="454"/>
                    </a:lnTo>
                    <a:lnTo>
                      <a:pt x="160" y="453"/>
                    </a:lnTo>
                    <a:lnTo>
                      <a:pt x="159" y="452"/>
                    </a:lnTo>
                    <a:lnTo>
                      <a:pt x="158" y="451"/>
                    </a:lnTo>
                    <a:lnTo>
                      <a:pt x="156" y="451"/>
                    </a:lnTo>
                    <a:lnTo>
                      <a:pt x="154" y="451"/>
                    </a:lnTo>
                    <a:lnTo>
                      <a:pt x="153" y="452"/>
                    </a:lnTo>
                    <a:lnTo>
                      <a:pt x="152" y="453"/>
                    </a:lnTo>
                    <a:lnTo>
                      <a:pt x="151" y="454"/>
                    </a:lnTo>
                    <a:lnTo>
                      <a:pt x="147" y="454"/>
                    </a:lnTo>
                    <a:lnTo>
                      <a:pt x="147" y="453"/>
                    </a:lnTo>
                    <a:lnTo>
                      <a:pt x="146" y="452"/>
                    </a:lnTo>
                    <a:lnTo>
                      <a:pt x="144" y="451"/>
                    </a:lnTo>
                    <a:lnTo>
                      <a:pt x="142" y="451"/>
                    </a:lnTo>
                    <a:lnTo>
                      <a:pt x="141" y="451"/>
                    </a:lnTo>
                    <a:lnTo>
                      <a:pt x="139" y="452"/>
                    </a:lnTo>
                    <a:lnTo>
                      <a:pt x="138" y="453"/>
                    </a:lnTo>
                    <a:lnTo>
                      <a:pt x="138" y="454"/>
                    </a:lnTo>
                    <a:lnTo>
                      <a:pt x="133" y="454"/>
                    </a:lnTo>
                    <a:lnTo>
                      <a:pt x="133" y="453"/>
                    </a:lnTo>
                    <a:lnTo>
                      <a:pt x="132" y="452"/>
                    </a:lnTo>
                    <a:lnTo>
                      <a:pt x="131" y="451"/>
                    </a:lnTo>
                    <a:lnTo>
                      <a:pt x="129" y="451"/>
                    </a:lnTo>
                    <a:lnTo>
                      <a:pt x="127" y="451"/>
                    </a:lnTo>
                    <a:lnTo>
                      <a:pt x="126" y="452"/>
                    </a:lnTo>
                    <a:lnTo>
                      <a:pt x="125" y="453"/>
                    </a:lnTo>
                    <a:lnTo>
                      <a:pt x="124" y="454"/>
                    </a:lnTo>
                    <a:lnTo>
                      <a:pt x="117" y="454"/>
                    </a:lnTo>
                    <a:lnTo>
                      <a:pt x="117" y="453"/>
                    </a:lnTo>
                    <a:lnTo>
                      <a:pt x="116" y="452"/>
                    </a:lnTo>
                    <a:lnTo>
                      <a:pt x="115" y="451"/>
                    </a:lnTo>
                    <a:lnTo>
                      <a:pt x="113" y="451"/>
                    </a:lnTo>
                    <a:lnTo>
                      <a:pt x="111" y="451"/>
                    </a:lnTo>
                    <a:lnTo>
                      <a:pt x="110" y="452"/>
                    </a:lnTo>
                    <a:lnTo>
                      <a:pt x="109" y="453"/>
                    </a:lnTo>
                    <a:lnTo>
                      <a:pt x="108" y="454"/>
                    </a:lnTo>
                    <a:lnTo>
                      <a:pt x="103" y="454"/>
                    </a:lnTo>
                    <a:lnTo>
                      <a:pt x="103" y="453"/>
                    </a:lnTo>
                    <a:lnTo>
                      <a:pt x="102" y="452"/>
                    </a:lnTo>
                    <a:lnTo>
                      <a:pt x="100" y="451"/>
                    </a:lnTo>
                    <a:lnTo>
                      <a:pt x="99" y="451"/>
                    </a:lnTo>
                    <a:lnTo>
                      <a:pt x="97" y="451"/>
                    </a:lnTo>
                    <a:lnTo>
                      <a:pt x="95" y="452"/>
                    </a:lnTo>
                    <a:lnTo>
                      <a:pt x="95" y="453"/>
                    </a:lnTo>
                    <a:lnTo>
                      <a:pt x="94" y="454"/>
                    </a:lnTo>
                    <a:lnTo>
                      <a:pt x="91" y="454"/>
                    </a:lnTo>
                    <a:lnTo>
                      <a:pt x="90" y="452"/>
                    </a:lnTo>
                    <a:lnTo>
                      <a:pt x="90" y="451"/>
                    </a:lnTo>
                    <a:lnTo>
                      <a:pt x="88" y="449"/>
                    </a:lnTo>
                    <a:lnTo>
                      <a:pt x="86" y="448"/>
                    </a:lnTo>
                    <a:lnTo>
                      <a:pt x="84" y="448"/>
                    </a:lnTo>
                    <a:lnTo>
                      <a:pt x="81" y="448"/>
                    </a:lnTo>
                    <a:lnTo>
                      <a:pt x="79" y="448"/>
                    </a:lnTo>
                    <a:lnTo>
                      <a:pt x="77" y="449"/>
                    </a:lnTo>
                    <a:lnTo>
                      <a:pt x="75" y="451"/>
                    </a:lnTo>
                    <a:lnTo>
                      <a:pt x="74" y="452"/>
                    </a:lnTo>
                    <a:lnTo>
                      <a:pt x="74" y="454"/>
                    </a:lnTo>
                    <a:lnTo>
                      <a:pt x="65" y="454"/>
                    </a:lnTo>
                    <a:lnTo>
                      <a:pt x="65" y="453"/>
                    </a:lnTo>
                    <a:lnTo>
                      <a:pt x="64" y="452"/>
                    </a:lnTo>
                    <a:lnTo>
                      <a:pt x="62" y="451"/>
                    </a:lnTo>
                    <a:lnTo>
                      <a:pt x="61" y="451"/>
                    </a:lnTo>
                    <a:lnTo>
                      <a:pt x="59" y="451"/>
                    </a:lnTo>
                    <a:lnTo>
                      <a:pt x="57" y="452"/>
                    </a:lnTo>
                    <a:lnTo>
                      <a:pt x="56" y="453"/>
                    </a:lnTo>
                    <a:lnTo>
                      <a:pt x="56" y="454"/>
                    </a:lnTo>
                    <a:lnTo>
                      <a:pt x="30" y="454"/>
                    </a:lnTo>
                    <a:lnTo>
                      <a:pt x="30" y="453"/>
                    </a:lnTo>
                    <a:lnTo>
                      <a:pt x="29" y="452"/>
                    </a:lnTo>
                    <a:lnTo>
                      <a:pt x="28" y="451"/>
                    </a:lnTo>
                    <a:lnTo>
                      <a:pt x="26" y="451"/>
                    </a:lnTo>
                    <a:lnTo>
                      <a:pt x="24" y="451"/>
                    </a:lnTo>
                    <a:lnTo>
                      <a:pt x="23" y="452"/>
                    </a:lnTo>
                    <a:lnTo>
                      <a:pt x="22" y="453"/>
                    </a:lnTo>
                    <a:lnTo>
                      <a:pt x="21" y="454"/>
                    </a:lnTo>
                    <a:lnTo>
                      <a:pt x="19" y="454"/>
                    </a:lnTo>
                    <a:lnTo>
                      <a:pt x="19" y="3"/>
                    </a:lnTo>
                    <a:lnTo>
                      <a:pt x="13" y="3"/>
                    </a:lnTo>
                    <a:lnTo>
                      <a:pt x="13" y="2"/>
                    </a:lnTo>
                    <a:lnTo>
                      <a:pt x="12" y="1"/>
                    </a:lnTo>
                    <a:lnTo>
                      <a:pt x="10" y="0"/>
                    </a:lnTo>
                    <a:lnTo>
                      <a:pt x="9" y="0"/>
                    </a:lnTo>
                    <a:lnTo>
                      <a:pt x="7" y="0"/>
                    </a:lnTo>
                    <a:lnTo>
                      <a:pt x="5" y="1"/>
                    </a:lnTo>
                    <a:lnTo>
                      <a:pt x="5" y="2"/>
                    </a:lnTo>
                    <a:lnTo>
                      <a:pt x="4" y="3"/>
                    </a:lnTo>
                    <a:lnTo>
                      <a:pt x="0"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085520" y="2661120"/>
                <a:ext cx="13680" cy="1188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79" name=""/>
              <p:cNvSpPr/>
              <p:nvPr/>
            </p:nvSpPr>
            <p:spPr>
              <a:xfrm>
                <a:off x="6634440" y="3593520"/>
                <a:ext cx="212760" cy="73440"/>
              </a:xfrm>
              <a:prstGeom prst="rect">
                <a:avLst/>
              </a:prstGeom>
              <a:blipFill rotWithShape="0">
                <a:blip r:embed="rId88"/>
                <a:srcRect/>
                <a:tile tx="0" ty="0" sx="100000" sy="100000" algn="ctr"/>
              </a:blipFill>
              <a:ln w="0">
                <a:solidFill>
                  <a:srgbClr val="000000"/>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80" name=""/>
              <p:cNvSpPr/>
              <p:nvPr/>
            </p:nvSpPr>
            <p:spPr>
              <a:xfrm>
                <a:off x="6671880" y="3628440"/>
                <a:ext cx="180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Layaways</a:t>
                </a:r>
                <a:endParaRPr b="0" lang="en-US" sz="300" spc="-1" strike="noStrike">
                  <a:solidFill>
                    <a:srgbClr val="ffffff"/>
                  </a:solidFill>
                  <a:latin typeface="Arial"/>
                </a:endParaRPr>
              </a:p>
            </p:txBody>
          </p:sp>
          <p:sp>
            <p:nvSpPr>
              <p:cNvPr id="881" name=""/>
              <p:cNvSpPr/>
              <p:nvPr/>
            </p:nvSpPr>
            <p:spPr>
              <a:xfrm>
                <a:off x="6740280" y="3366360"/>
                <a:ext cx="100440" cy="227160"/>
              </a:xfrm>
              <a:custGeom>
                <a:avLst/>
                <a:gdLst/>
                <a:ahLst/>
                <a:rect l="l" t="t" r="r" b="b"/>
                <a:pathLst>
                  <a:path w="95" h="170">
                    <a:moveTo>
                      <a:pt x="0" y="170"/>
                    </a:moveTo>
                    <a:lnTo>
                      <a:pt x="0" y="123"/>
                    </a:lnTo>
                    <a:lnTo>
                      <a:pt x="95" y="123"/>
                    </a:lnTo>
                    <a:lnTo>
                      <a:pt x="95"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6834600" y="33544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3" name=""/>
              <p:cNvSpPr/>
              <p:nvPr/>
            </p:nvSpPr>
            <p:spPr>
              <a:xfrm>
                <a:off x="8232120" y="3045960"/>
                <a:ext cx="250560" cy="118800"/>
              </a:xfrm>
              <a:prstGeom prst="rect">
                <a:avLst/>
              </a:prstGeom>
              <a:blipFill rotWithShape="0">
                <a:blip r:embed="rId8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8270640" y="3099240"/>
                <a:ext cx="250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Bus Systems</a:t>
                </a:r>
                <a:endParaRPr b="0" lang="en-US" sz="300" spc="-1" strike="noStrike">
                  <a:solidFill>
                    <a:srgbClr val="ffffff"/>
                  </a:solidFill>
                  <a:latin typeface="Arial"/>
                </a:endParaRPr>
              </a:p>
            </p:txBody>
          </p:sp>
          <p:sp>
            <p:nvSpPr>
              <p:cNvPr id="885" name=""/>
              <p:cNvSpPr/>
              <p:nvPr/>
            </p:nvSpPr>
            <p:spPr>
              <a:xfrm>
                <a:off x="7047360" y="3080880"/>
                <a:ext cx="1171800" cy="126720"/>
              </a:xfrm>
              <a:custGeom>
                <a:avLst/>
                <a:gdLst/>
                <a:ahLst/>
                <a:rect l="l" t="t" r="r" b="b"/>
                <a:pathLst>
                  <a:path w="1107" h="95">
                    <a:moveTo>
                      <a:pt x="1107" y="4"/>
                    </a:moveTo>
                    <a:lnTo>
                      <a:pt x="1093" y="4"/>
                    </a:lnTo>
                    <a:lnTo>
                      <a:pt x="1093" y="3"/>
                    </a:lnTo>
                    <a:lnTo>
                      <a:pt x="1092" y="1"/>
                    </a:lnTo>
                    <a:lnTo>
                      <a:pt x="1091" y="1"/>
                    </a:lnTo>
                    <a:lnTo>
                      <a:pt x="1089" y="0"/>
                    </a:lnTo>
                    <a:lnTo>
                      <a:pt x="1087" y="1"/>
                    </a:lnTo>
                    <a:lnTo>
                      <a:pt x="1086" y="1"/>
                    </a:lnTo>
                    <a:lnTo>
                      <a:pt x="1085" y="3"/>
                    </a:lnTo>
                    <a:lnTo>
                      <a:pt x="1084" y="4"/>
                    </a:lnTo>
                    <a:lnTo>
                      <a:pt x="1079" y="4"/>
                    </a:lnTo>
                    <a:lnTo>
                      <a:pt x="1079" y="3"/>
                    </a:lnTo>
                    <a:lnTo>
                      <a:pt x="1078" y="1"/>
                    </a:lnTo>
                    <a:lnTo>
                      <a:pt x="1076" y="1"/>
                    </a:lnTo>
                    <a:lnTo>
                      <a:pt x="1075" y="0"/>
                    </a:lnTo>
                    <a:lnTo>
                      <a:pt x="1073" y="1"/>
                    </a:lnTo>
                    <a:lnTo>
                      <a:pt x="1072" y="1"/>
                    </a:lnTo>
                    <a:lnTo>
                      <a:pt x="1071" y="3"/>
                    </a:lnTo>
                    <a:lnTo>
                      <a:pt x="1070" y="4"/>
                    </a:lnTo>
                    <a:lnTo>
                      <a:pt x="1055" y="4"/>
                    </a:lnTo>
                    <a:lnTo>
                      <a:pt x="1054" y="3"/>
                    </a:lnTo>
                    <a:lnTo>
                      <a:pt x="1053" y="1"/>
                    </a:lnTo>
                    <a:lnTo>
                      <a:pt x="1052" y="1"/>
                    </a:lnTo>
                    <a:lnTo>
                      <a:pt x="1050" y="0"/>
                    </a:lnTo>
                    <a:lnTo>
                      <a:pt x="1048" y="1"/>
                    </a:lnTo>
                    <a:lnTo>
                      <a:pt x="1047" y="1"/>
                    </a:lnTo>
                    <a:lnTo>
                      <a:pt x="1046" y="3"/>
                    </a:lnTo>
                    <a:lnTo>
                      <a:pt x="1046" y="4"/>
                    </a:lnTo>
                    <a:lnTo>
                      <a:pt x="1027" y="4"/>
                    </a:lnTo>
                    <a:lnTo>
                      <a:pt x="1027" y="3"/>
                    </a:lnTo>
                    <a:lnTo>
                      <a:pt x="1026" y="1"/>
                    </a:lnTo>
                    <a:lnTo>
                      <a:pt x="1025" y="1"/>
                    </a:lnTo>
                    <a:lnTo>
                      <a:pt x="1023" y="0"/>
                    </a:lnTo>
                    <a:lnTo>
                      <a:pt x="1021" y="1"/>
                    </a:lnTo>
                    <a:lnTo>
                      <a:pt x="1020" y="1"/>
                    </a:lnTo>
                    <a:lnTo>
                      <a:pt x="1019" y="3"/>
                    </a:lnTo>
                    <a:lnTo>
                      <a:pt x="1018" y="4"/>
                    </a:lnTo>
                    <a:lnTo>
                      <a:pt x="1013" y="4"/>
                    </a:lnTo>
                    <a:lnTo>
                      <a:pt x="1013" y="3"/>
                    </a:lnTo>
                    <a:lnTo>
                      <a:pt x="1012" y="1"/>
                    </a:lnTo>
                    <a:lnTo>
                      <a:pt x="1010" y="1"/>
                    </a:lnTo>
                    <a:lnTo>
                      <a:pt x="1009" y="0"/>
                    </a:lnTo>
                    <a:lnTo>
                      <a:pt x="1007" y="1"/>
                    </a:lnTo>
                    <a:lnTo>
                      <a:pt x="1005" y="1"/>
                    </a:lnTo>
                    <a:lnTo>
                      <a:pt x="1004" y="3"/>
                    </a:lnTo>
                    <a:lnTo>
                      <a:pt x="1004" y="4"/>
                    </a:lnTo>
                    <a:lnTo>
                      <a:pt x="972" y="4"/>
                    </a:lnTo>
                    <a:lnTo>
                      <a:pt x="971" y="3"/>
                    </a:lnTo>
                    <a:lnTo>
                      <a:pt x="970" y="1"/>
                    </a:lnTo>
                    <a:lnTo>
                      <a:pt x="969" y="1"/>
                    </a:lnTo>
                    <a:lnTo>
                      <a:pt x="967" y="0"/>
                    </a:lnTo>
                    <a:lnTo>
                      <a:pt x="966" y="1"/>
                    </a:lnTo>
                    <a:lnTo>
                      <a:pt x="964" y="1"/>
                    </a:lnTo>
                    <a:lnTo>
                      <a:pt x="963" y="3"/>
                    </a:lnTo>
                    <a:lnTo>
                      <a:pt x="963" y="4"/>
                    </a:lnTo>
                    <a:lnTo>
                      <a:pt x="931" y="4"/>
                    </a:lnTo>
                    <a:lnTo>
                      <a:pt x="931" y="3"/>
                    </a:lnTo>
                    <a:lnTo>
                      <a:pt x="930" y="1"/>
                    </a:lnTo>
                    <a:lnTo>
                      <a:pt x="928" y="1"/>
                    </a:lnTo>
                    <a:lnTo>
                      <a:pt x="927" y="0"/>
                    </a:lnTo>
                    <a:lnTo>
                      <a:pt x="925" y="1"/>
                    </a:lnTo>
                    <a:lnTo>
                      <a:pt x="924" y="1"/>
                    </a:lnTo>
                    <a:lnTo>
                      <a:pt x="923" y="3"/>
                    </a:lnTo>
                    <a:lnTo>
                      <a:pt x="922" y="4"/>
                    </a:lnTo>
                    <a:lnTo>
                      <a:pt x="918" y="4"/>
                    </a:lnTo>
                    <a:lnTo>
                      <a:pt x="917" y="3"/>
                    </a:lnTo>
                    <a:lnTo>
                      <a:pt x="916" y="1"/>
                    </a:lnTo>
                    <a:lnTo>
                      <a:pt x="915" y="1"/>
                    </a:lnTo>
                    <a:lnTo>
                      <a:pt x="913" y="0"/>
                    </a:lnTo>
                    <a:lnTo>
                      <a:pt x="912" y="1"/>
                    </a:lnTo>
                    <a:lnTo>
                      <a:pt x="910" y="1"/>
                    </a:lnTo>
                    <a:lnTo>
                      <a:pt x="909" y="3"/>
                    </a:lnTo>
                    <a:lnTo>
                      <a:pt x="909" y="4"/>
                    </a:lnTo>
                    <a:lnTo>
                      <a:pt x="893" y="4"/>
                    </a:lnTo>
                    <a:lnTo>
                      <a:pt x="893" y="37"/>
                    </a:lnTo>
                    <a:lnTo>
                      <a:pt x="675" y="37"/>
                    </a:lnTo>
                    <a:lnTo>
                      <a:pt x="674" y="35"/>
                    </a:lnTo>
                    <a:lnTo>
                      <a:pt x="673" y="33"/>
                    </a:lnTo>
                    <a:lnTo>
                      <a:pt x="672" y="32"/>
                    </a:lnTo>
                    <a:lnTo>
                      <a:pt x="670" y="31"/>
                    </a:lnTo>
                    <a:lnTo>
                      <a:pt x="667" y="30"/>
                    </a:lnTo>
                    <a:lnTo>
                      <a:pt x="665" y="30"/>
                    </a:lnTo>
                    <a:lnTo>
                      <a:pt x="662" y="31"/>
                    </a:lnTo>
                    <a:lnTo>
                      <a:pt x="660" y="32"/>
                    </a:lnTo>
                    <a:lnTo>
                      <a:pt x="659" y="33"/>
                    </a:lnTo>
                    <a:lnTo>
                      <a:pt x="658" y="35"/>
                    </a:lnTo>
                    <a:lnTo>
                      <a:pt x="657" y="37"/>
                    </a:lnTo>
                    <a:lnTo>
                      <a:pt x="621" y="37"/>
                    </a:lnTo>
                    <a:lnTo>
                      <a:pt x="620" y="35"/>
                    </a:lnTo>
                    <a:lnTo>
                      <a:pt x="619" y="34"/>
                    </a:lnTo>
                    <a:lnTo>
                      <a:pt x="618" y="34"/>
                    </a:lnTo>
                    <a:lnTo>
                      <a:pt x="616" y="33"/>
                    </a:lnTo>
                    <a:lnTo>
                      <a:pt x="614" y="34"/>
                    </a:lnTo>
                    <a:lnTo>
                      <a:pt x="613" y="34"/>
                    </a:lnTo>
                    <a:lnTo>
                      <a:pt x="612" y="35"/>
                    </a:lnTo>
                    <a:lnTo>
                      <a:pt x="612" y="37"/>
                    </a:lnTo>
                    <a:lnTo>
                      <a:pt x="609" y="37"/>
                    </a:lnTo>
                    <a:lnTo>
                      <a:pt x="608" y="35"/>
                    </a:lnTo>
                    <a:lnTo>
                      <a:pt x="607" y="34"/>
                    </a:lnTo>
                    <a:lnTo>
                      <a:pt x="606" y="34"/>
                    </a:lnTo>
                    <a:lnTo>
                      <a:pt x="604" y="33"/>
                    </a:lnTo>
                    <a:lnTo>
                      <a:pt x="603" y="34"/>
                    </a:lnTo>
                    <a:lnTo>
                      <a:pt x="601" y="34"/>
                    </a:lnTo>
                    <a:lnTo>
                      <a:pt x="600" y="35"/>
                    </a:lnTo>
                    <a:lnTo>
                      <a:pt x="600" y="37"/>
                    </a:lnTo>
                    <a:lnTo>
                      <a:pt x="570" y="37"/>
                    </a:lnTo>
                    <a:lnTo>
                      <a:pt x="570" y="35"/>
                    </a:lnTo>
                    <a:lnTo>
                      <a:pt x="569" y="34"/>
                    </a:lnTo>
                    <a:lnTo>
                      <a:pt x="567" y="34"/>
                    </a:lnTo>
                    <a:lnTo>
                      <a:pt x="565" y="33"/>
                    </a:lnTo>
                    <a:lnTo>
                      <a:pt x="564" y="34"/>
                    </a:lnTo>
                    <a:lnTo>
                      <a:pt x="562" y="34"/>
                    </a:lnTo>
                    <a:lnTo>
                      <a:pt x="561" y="35"/>
                    </a:lnTo>
                    <a:lnTo>
                      <a:pt x="561" y="37"/>
                    </a:lnTo>
                    <a:lnTo>
                      <a:pt x="506" y="37"/>
                    </a:lnTo>
                    <a:lnTo>
                      <a:pt x="506" y="35"/>
                    </a:lnTo>
                    <a:lnTo>
                      <a:pt x="504" y="34"/>
                    </a:lnTo>
                    <a:lnTo>
                      <a:pt x="503" y="34"/>
                    </a:lnTo>
                    <a:lnTo>
                      <a:pt x="501" y="33"/>
                    </a:lnTo>
                    <a:lnTo>
                      <a:pt x="500" y="34"/>
                    </a:lnTo>
                    <a:lnTo>
                      <a:pt x="498" y="34"/>
                    </a:lnTo>
                    <a:lnTo>
                      <a:pt x="497" y="35"/>
                    </a:lnTo>
                    <a:lnTo>
                      <a:pt x="497" y="37"/>
                    </a:lnTo>
                    <a:lnTo>
                      <a:pt x="492" y="37"/>
                    </a:lnTo>
                    <a:lnTo>
                      <a:pt x="492" y="35"/>
                    </a:lnTo>
                    <a:lnTo>
                      <a:pt x="491" y="34"/>
                    </a:lnTo>
                    <a:lnTo>
                      <a:pt x="489" y="34"/>
                    </a:lnTo>
                    <a:lnTo>
                      <a:pt x="488" y="33"/>
                    </a:lnTo>
                    <a:lnTo>
                      <a:pt x="486" y="34"/>
                    </a:lnTo>
                    <a:lnTo>
                      <a:pt x="485" y="34"/>
                    </a:lnTo>
                    <a:lnTo>
                      <a:pt x="484" y="35"/>
                    </a:lnTo>
                    <a:lnTo>
                      <a:pt x="483" y="37"/>
                    </a:lnTo>
                    <a:lnTo>
                      <a:pt x="479" y="37"/>
                    </a:lnTo>
                    <a:lnTo>
                      <a:pt x="478" y="35"/>
                    </a:lnTo>
                    <a:lnTo>
                      <a:pt x="477" y="34"/>
                    </a:lnTo>
                    <a:lnTo>
                      <a:pt x="476" y="34"/>
                    </a:lnTo>
                    <a:lnTo>
                      <a:pt x="474" y="33"/>
                    </a:lnTo>
                    <a:lnTo>
                      <a:pt x="473" y="34"/>
                    </a:lnTo>
                    <a:lnTo>
                      <a:pt x="471" y="34"/>
                    </a:lnTo>
                    <a:lnTo>
                      <a:pt x="470" y="35"/>
                    </a:lnTo>
                    <a:lnTo>
                      <a:pt x="470" y="37"/>
                    </a:lnTo>
                    <a:lnTo>
                      <a:pt x="453" y="37"/>
                    </a:lnTo>
                    <a:lnTo>
                      <a:pt x="453" y="35"/>
                    </a:lnTo>
                    <a:lnTo>
                      <a:pt x="452" y="34"/>
                    </a:lnTo>
                    <a:lnTo>
                      <a:pt x="451" y="34"/>
                    </a:lnTo>
                    <a:lnTo>
                      <a:pt x="449" y="33"/>
                    </a:lnTo>
                    <a:lnTo>
                      <a:pt x="447" y="34"/>
                    </a:lnTo>
                    <a:lnTo>
                      <a:pt x="446" y="34"/>
                    </a:lnTo>
                    <a:lnTo>
                      <a:pt x="445" y="35"/>
                    </a:lnTo>
                    <a:lnTo>
                      <a:pt x="444" y="37"/>
                    </a:lnTo>
                    <a:lnTo>
                      <a:pt x="323" y="37"/>
                    </a:lnTo>
                    <a:lnTo>
                      <a:pt x="322" y="35"/>
                    </a:lnTo>
                    <a:lnTo>
                      <a:pt x="321" y="34"/>
                    </a:lnTo>
                    <a:lnTo>
                      <a:pt x="320" y="34"/>
                    </a:lnTo>
                    <a:lnTo>
                      <a:pt x="318" y="33"/>
                    </a:lnTo>
                    <a:lnTo>
                      <a:pt x="316" y="34"/>
                    </a:lnTo>
                    <a:lnTo>
                      <a:pt x="315" y="34"/>
                    </a:lnTo>
                    <a:lnTo>
                      <a:pt x="314" y="35"/>
                    </a:lnTo>
                    <a:lnTo>
                      <a:pt x="314" y="37"/>
                    </a:lnTo>
                    <a:lnTo>
                      <a:pt x="209" y="37"/>
                    </a:lnTo>
                    <a:lnTo>
                      <a:pt x="208" y="35"/>
                    </a:lnTo>
                    <a:lnTo>
                      <a:pt x="207" y="34"/>
                    </a:lnTo>
                    <a:lnTo>
                      <a:pt x="206" y="34"/>
                    </a:lnTo>
                    <a:lnTo>
                      <a:pt x="204" y="33"/>
                    </a:lnTo>
                    <a:lnTo>
                      <a:pt x="202" y="34"/>
                    </a:lnTo>
                    <a:lnTo>
                      <a:pt x="201" y="34"/>
                    </a:lnTo>
                    <a:lnTo>
                      <a:pt x="200" y="35"/>
                    </a:lnTo>
                    <a:lnTo>
                      <a:pt x="199" y="37"/>
                    </a:lnTo>
                    <a:lnTo>
                      <a:pt x="195" y="37"/>
                    </a:lnTo>
                    <a:lnTo>
                      <a:pt x="195" y="35"/>
                    </a:lnTo>
                    <a:lnTo>
                      <a:pt x="194" y="34"/>
                    </a:lnTo>
                    <a:lnTo>
                      <a:pt x="192" y="34"/>
                    </a:lnTo>
                    <a:lnTo>
                      <a:pt x="190" y="33"/>
                    </a:lnTo>
                    <a:lnTo>
                      <a:pt x="189" y="34"/>
                    </a:lnTo>
                    <a:lnTo>
                      <a:pt x="187" y="34"/>
                    </a:lnTo>
                    <a:lnTo>
                      <a:pt x="186" y="35"/>
                    </a:lnTo>
                    <a:lnTo>
                      <a:pt x="186" y="37"/>
                    </a:lnTo>
                    <a:lnTo>
                      <a:pt x="181" y="37"/>
                    </a:lnTo>
                    <a:lnTo>
                      <a:pt x="181" y="35"/>
                    </a:lnTo>
                    <a:lnTo>
                      <a:pt x="180" y="34"/>
                    </a:lnTo>
                    <a:lnTo>
                      <a:pt x="179" y="34"/>
                    </a:lnTo>
                    <a:lnTo>
                      <a:pt x="177" y="33"/>
                    </a:lnTo>
                    <a:lnTo>
                      <a:pt x="175" y="34"/>
                    </a:lnTo>
                    <a:lnTo>
                      <a:pt x="174" y="34"/>
                    </a:lnTo>
                    <a:lnTo>
                      <a:pt x="173" y="35"/>
                    </a:lnTo>
                    <a:lnTo>
                      <a:pt x="172" y="37"/>
                    </a:lnTo>
                    <a:lnTo>
                      <a:pt x="165" y="37"/>
                    </a:lnTo>
                    <a:lnTo>
                      <a:pt x="165" y="35"/>
                    </a:lnTo>
                    <a:lnTo>
                      <a:pt x="164" y="34"/>
                    </a:lnTo>
                    <a:lnTo>
                      <a:pt x="163" y="34"/>
                    </a:lnTo>
                    <a:lnTo>
                      <a:pt x="161" y="33"/>
                    </a:lnTo>
                    <a:lnTo>
                      <a:pt x="159" y="34"/>
                    </a:lnTo>
                    <a:lnTo>
                      <a:pt x="158" y="34"/>
                    </a:lnTo>
                    <a:lnTo>
                      <a:pt x="157" y="35"/>
                    </a:lnTo>
                    <a:lnTo>
                      <a:pt x="156" y="37"/>
                    </a:lnTo>
                    <a:lnTo>
                      <a:pt x="151" y="37"/>
                    </a:lnTo>
                    <a:lnTo>
                      <a:pt x="151" y="35"/>
                    </a:lnTo>
                    <a:lnTo>
                      <a:pt x="150" y="34"/>
                    </a:lnTo>
                    <a:lnTo>
                      <a:pt x="148" y="34"/>
                    </a:lnTo>
                    <a:lnTo>
                      <a:pt x="147" y="33"/>
                    </a:lnTo>
                    <a:lnTo>
                      <a:pt x="145" y="34"/>
                    </a:lnTo>
                    <a:lnTo>
                      <a:pt x="143" y="34"/>
                    </a:lnTo>
                    <a:lnTo>
                      <a:pt x="143" y="35"/>
                    </a:lnTo>
                    <a:lnTo>
                      <a:pt x="142" y="37"/>
                    </a:lnTo>
                    <a:lnTo>
                      <a:pt x="139" y="37"/>
                    </a:lnTo>
                    <a:lnTo>
                      <a:pt x="138" y="35"/>
                    </a:lnTo>
                    <a:lnTo>
                      <a:pt x="138" y="33"/>
                    </a:lnTo>
                    <a:lnTo>
                      <a:pt x="136" y="32"/>
                    </a:lnTo>
                    <a:lnTo>
                      <a:pt x="134" y="31"/>
                    </a:lnTo>
                    <a:lnTo>
                      <a:pt x="132" y="30"/>
                    </a:lnTo>
                    <a:lnTo>
                      <a:pt x="129" y="30"/>
                    </a:lnTo>
                    <a:lnTo>
                      <a:pt x="127" y="31"/>
                    </a:lnTo>
                    <a:lnTo>
                      <a:pt x="125" y="32"/>
                    </a:lnTo>
                    <a:lnTo>
                      <a:pt x="123" y="33"/>
                    </a:lnTo>
                    <a:lnTo>
                      <a:pt x="122" y="35"/>
                    </a:lnTo>
                    <a:lnTo>
                      <a:pt x="122" y="37"/>
                    </a:lnTo>
                    <a:lnTo>
                      <a:pt x="113" y="37"/>
                    </a:lnTo>
                    <a:lnTo>
                      <a:pt x="113" y="35"/>
                    </a:lnTo>
                    <a:lnTo>
                      <a:pt x="112" y="34"/>
                    </a:lnTo>
                    <a:lnTo>
                      <a:pt x="110" y="34"/>
                    </a:lnTo>
                    <a:lnTo>
                      <a:pt x="109" y="33"/>
                    </a:lnTo>
                    <a:lnTo>
                      <a:pt x="107" y="34"/>
                    </a:lnTo>
                    <a:lnTo>
                      <a:pt x="105" y="34"/>
                    </a:lnTo>
                    <a:lnTo>
                      <a:pt x="104" y="35"/>
                    </a:lnTo>
                    <a:lnTo>
                      <a:pt x="104" y="37"/>
                    </a:lnTo>
                    <a:lnTo>
                      <a:pt x="78" y="37"/>
                    </a:lnTo>
                    <a:lnTo>
                      <a:pt x="78" y="35"/>
                    </a:lnTo>
                    <a:lnTo>
                      <a:pt x="77" y="34"/>
                    </a:lnTo>
                    <a:lnTo>
                      <a:pt x="76" y="32"/>
                    </a:lnTo>
                    <a:lnTo>
                      <a:pt x="74" y="31"/>
                    </a:lnTo>
                    <a:lnTo>
                      <a:pt x="72" y="31"/>
                    </a:lnTo>
                    <a:lnTo>
                      <a:pt x="69" y="31"/>
                    </a:lnTo>
                    <a:lnTo>
                      <a:pt x="67" y="31"/>
                    </a:lnTo>
                    <a:lnTo>
                      <a:pt x="65" y="32"/>
                    </a:lnTo>
                    <a:lnTo>
                      <a:pt x="64" y="34"/>
                    </a:lnTo>
                    <a:lnTo>
                      <a:pt x="63" y="35"/>
                    </a:lnTo>
                    <a:lnTo>
                      <a:pt x="63" y="37"/>
                    </a:lnTo>
                    <a:lnTo>
                      <a:pt x="61" y="37"/>
                    </a:lnTo>
                    <a:lnTo>
                      <a:pt x="61" y="35"/>
                    </a:lnTo>
                    <a:lnTo>
                      <a:pt x="60" y="34"/>
                    </a:lnTo>
                    <a:lnTo>
                      <a:pt x="58" y="34"/>
                    </a:lnTo>
                    <a:lnTo>
                      <a:pt x="57" y="33"/>
                    </a:lnTo>
                    <a:lnTo>
                      <a:pt x="55" y="34"/>
                    </a:lnTo>
                    <a:lnTo>
                      <a:pt x="53" y="34"/>
                    </a:lnTo>
                    <a:lnTo>
                      <a:pt x="53" y="35"/>
                    </a:lnTo>
                    <a:lnTo>
                      <a:pt x="52" y="37"/>
                    </a:lnTo>
                    <a:lnTo>
                      <a:pt x="35" y="37"/>
                    </a:lnTo>
                    <a:lnTo>
                      <a:pt x="35" y="95"/>
                    </a:lnTo>
                    <a:lnTo>
                      <a:pt x="26" y="95"/>
                    </a:lnTo>
                    <a:lnTo>
                      <a:pt x="26" y="94"/>
                    </a:lnTo>
                    <a:lnTo>
                      <a:pt x="25" y="93"/>
                    </a:lnTo>
                    <a:lnTo>
                      <a:pt x="23" y="92"/>
                    </a:lnTo>
                    <a:lnTo>
                      <a:pt x="22" y="91"/>
                    </a:lnTo>
                    <a:lnTo>
                      <a:pt x="20" y="92"/>
                    </a:lnTo>
                    <a:lnTo>
                      <a:pt x="18" y="93"/>
                    </a:lnTo>
                    <a:lnTo>
                      <a:pt x="18" y="94"/>
                    </a:lnTo>
                    <a:lnTo>
                      <a:pt x="17" y="95"/>
                    </a:lnTo>
                    <a:lnTo>
                      <a:pt x="13" y="95"/>
                    </a:lnTo>
                    <a:lnTo>
                      <a:pt x="12" y="94"/>
                    </a:lnTo>
                    <a:lnTo>
                      <a:pt x="11" y="93"/>
                    </a:lnTo>
                    <a:lnTo>
                      <a:pt x="10" y="92"/>
                    </a:lnTo>
                    <a:lnTo>
                      <a:pt x="8" y="91"/>
                    </a:lnTo>
                    <a:lnTo>
                      <a:pt x="6" y="92"/>
                    </a:lnTo>
                    <a:lnTo>
                      <a:pt x="5" y="93"/>
                    </a:lnTo>
                    <a:lnTo>
                      <a:pt x="4" y="94"/>
                    </a:lnTo>
                    <a:lnTo>
                      <a:pt x="4" y="95"/>
                    </a:lnTo>
                    <a:lnTo>
                      <a:pt x="0" y="95"/>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218080" y="307944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7" name=""/>
              <p:cNvSpPr/>
              <p:nvPr/>
            </p:nvSpPr>
            <p:spPr>
              <a:xfrm>
                <a:off x="7034400" y="3201120"/>
                <a:ext cx="13680" cy="1152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88" name=""/>
              <p:cNvSpPr/>
              <p:nvPr/>
            </p:nvSpPr>
            <p:spPr>
              <a:xfrm>
                <a:off x="4831560" y="3249000"/>
                <a:ext cx="235800" cy="123840"/>
              </a:xfrm>
              <a:prstGeom prst="rect">
                <a:avLst/>
              </a:prstGeom>
              <a:blipFill rotWithShape="0">
                <a:blip r:embed="rId9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4889160" y="3274200"/>
                <a:ext cx="163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V04-Sign</a:t>
                </a:r>
                <a:endParaRPr b="0" lang="en-US" sz="300" spc="-1" strike="noStrike">
                  <a:solidFill>
                    <a:srgbClr val="ffffff"/>
                  </a:solidFill>
                  <a:latin typeface="Arial"/>
                </a:endParaRPr>
              </a:p>
            </p:txBody>
          </p:sp>
          <p:sp>
            <p:nvSpPr>
              <p:cNvPr id="890" name=""/>
              <p:cNvSpPr/>
              <p:nvPr/>
            </p:nvSpPr>
            <p:spPr>
              <a:xfrm>
                <a:off x="4898880" y="331056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891" name=""/>
              <p:cNvSpPr/>
              <p:nvPr/>
            </p:nvSpPr>
            <p:spPr>
              <a:xfrm>
                <a:off x="4849560" y="3346560"/>
                <a:ext cx="299160" cy="482040"/>
              </a:xfrm>
              <a:custGeom>
                <a:avLst/>
                <a:gdLst/>
                <a:ahLst/>
                <a:rect l="l" t="t" r="r" b="b"/>
                <a:pathLst>
                  <a:path w="283" h="361">
                    <a:moveTo>
                      <a:pt x="0" y="361"/>
                    </a:moveTo>
                    <a:lnTo>
                      <a:pt x="0" y="347"/>
                    </a:lnTo>
                    <a:lnTo>
                      <a:pt x="126" y="347"/>
                    </a:lnTo>
                    <a:lnTo>
                      <a:pt x="127" y="346"/>
                    </a:lnTo>
                    <a:lnTo>
                      <a:pt x="128" y="345"/>
                    </a:lnTo>
                    <a:lnTo>
                      <a:pt x="129" y="344"/>
                    </a:lnTo>
                    <a:lnTo>
                      <a:pt x="131" y="344"/>
                    </a:lnTo>
                    <a:lnTo>
                      <a:pt x="133" y="344"/>
                    </a:lnTo>
                    <a:lnTo>
                      <a:pt x="134" y="345"/>
                    </a:lnTo>
                    <a:lnTo>
                      <a:pt x="135" y="346"/>
                    </a:lnTo>
                    <a:lnTo>
                      <a:pt x="135" y="347"/>
                    </a:lnTo>
                    <a:lnTo>
                      <a:pt x="153" y="347"/>
                    </a:lnTo>
                    <a:lnTo>
                      <a:pt x="153" y="346"/>
                    </a:lnTo>
                    <a:lnTo>
                      <a:pt x="154" y="345"/>
                    </a:lnTo>
                    <a:lnTo>
                      <a:pt x="155" y="344"/>
                    </a:lnTo>
                    <a:lnTo>
                      <a:pt x="157" y="344"/>
                    </a:lnTo>
                    <a:lnTo>
                      <a:pt x="159" y="344"/>
                    </a:lnTo>
                    <a:lnTo>
                      <a:pt x="160" y="345"/>
                    </a:lnTo>
                    <a:lnTo>
                      <a:pt x="161" y="346"/>
                    </a:lnTo>
                    <a:lnTo>
                      <a:pt x="162" y="347"/>
                    </a:lnTo>
                    <a:lnTo>
                      <a:pt x="184" y="347"/>
                    </a:lnTo>
                    <a:lnTo>
                      <a:pt x="184" y="346"/>
                    </a:lnTo>
                    <a:lnTo>
                      <a:pt x="185" y="345"/>
                    </a:lnTo>
                    <a:lnTo>
                      <a:pt x="187" y="344"/>
                    </a:lnTo>
                    <a:lnTo>
                      <a:pt x="188" y="344"/>
                    </a:lnTo>
                    <a:lnTo>
                      <a:pt x="190" y="344"/>
                    </a:lnTo>
                    <a:lnTo>
                      <a:pt x="192" y="345"/>
                    </a:lnTo>
                    <a:lnTo>
                      <a:pt x="193" y="346"/>
                    </a:lnTo>
                    <a:lnTo>
                      <a:pt x="193" y="347"/>
                    </a:lnTo>
                    <a:lnTo>
                      <a:pt x="215" y="347"/>
                    </a:lnTo>
                    <a:lnTo>
                      <a:pt x="216" y="346"/>
                    </a:lnTo>
                    <a:lnTo>
                      <a:pt x="217" y="345"/>
                    </a:lnTo>
                    <a:lnTo>
                      <a:pt x="218" y="344"/>
                    </a:lnTo>
                    <a:lnTo>
                      <a:pt x="220" y="344"/>
                    </a:lnTo>
                    <a:lnTo>
                      <a:pt x="222" y="344"/>
                    </a:lnTo>
                    <a:lnTo>
                      <a:pt x="223" y="345"/>
                    </a:lnTo>
                    <a:lnTo>
                      <a:pt x="224" y="346"/>
                    </a:lnTo>
                    <a:lnTo>
                      <a:pt x="224" y="347"/>
                    </a:lnTo>
                    <a:lnTo>
                      <a:pt x="242" y="347"/>
                    </a:lnTo>
                    <a:lnTo>
                      <a:pt x="242" y="346"/>
                    </a:lnTo>
                    <a:lnTo>
                      <a:pt x="243" y="345"/>
                    </a:lnTo>
                    <a:lnTo>
                      <a:pt x="244" y="344"/>
                    </a:lnTo>
                    <a:lnTo>
                      <a:pt x="246" y="344"/>
                    </a:lnTo>
                    <a:lnTo>
                      <a:pt x="248" y="344"/>
                    </a:lnTo>
                    <a:lnTo>
                      <a:pt x="249" y="345"/>
                    </a:lnTo>
                    <a:lnTo>
                      <a:pt x="250" y="346"/>
                    </a:lnTo>
                    <a:lnTo>
                      <a:pt x="251" y="347"/>
                    </a:lnTo>
                    <a:lnTo>
                      <a:pt x="270" y="347"/>
                    </a:lnTo>
                    <a:lnTo>
                      <a:pt x="270" y="346"/>
                    </a:lnTo>
                    <a:lnTo>
                      <a:pt x="271" y="345"/>
                    </a:lnTo>
                    <a:lnTo>
                      <a:pt x="272" y="344"/>
                    </a:lnTo>
                    <a:lnTo>
                      <a:pt x="274" y="344"/>
                    </a:lnTo>
                    <a:lnTo>
                      <a:pt x="276" y="344"/>
                    </a:lnTo>
                    <a:lnTo>
                      <a:pt x="277" y="345"/>
                    </a:lnTo>
                    <a:lnTo>
                      <a:pt x="278" y="346"/>
                    </a:lnTo>
                    <a:lnTo>
                      <a:pt x="279" y="347"/>
                    </a:lnTo>
                    <a:lnTo>
                      <a:pt x="283" y="347"/>
                    </a:lnTo>
                    <a:lnTo>
                      <a:pt x="283" y="5"/>
                    </a:lnTo>
                    <a:lnTo>
                      <a:pt x="279" y="5"/>
                    </a:lnTo>
                    <a:lnTo>
                      <a:pt x="278" y="4"/>
                    </a:lnTo>
                    <a:lnTo>
                      <a:pt x="277" y="2"/>
                    </a:lnTo>
                    <a:lnTo>
                      <a:pt x="276" y="2"/>
                    </a:lnTo>
                    <a:lnTo>
                      <a:pt x="274" y="1"/>
                    </a:lnTo>
                    <a:lnTo>
                      <a:pt x="272" y="2"/>
                    </a:lnTo>
                    <a:lnTo>
                      <a:pt x="271" y="2"/>
                    </a:lnTo>
                    <a:lnTo>
                      <a:pt x="270" y="4"/>
                    </a:lnTo>
                    <a:lnTo>
                      <a:pt x="270" y="5"/>
                    </a:lnTo>
                    <a:lnTo>
                      <a:pt x="248" y="5"/>
                    </a:lnTo>
                    <a:lnTo>
                      <a:pt x="247" y="3"/>
                    </a:lnTo>
                    <a:lnTo>
                      <a:pt x="246" y="2"/>
                    </a:lnTo>
                    <a:lnTo>
                      <a:pt x="245" y="1"/>
                    </a:lnTo>
                    <a:lnTo>
                      <a:pt x="243" y="0"/>
                    </a:lnTo>
                    <a:lnTo>
                      <a:pt x="241" y="0"/>
                    </a:lnTo>
                    <a:lnTo>
                      <a:pt x="239" y="0"/>
                    </a:lnTo>
                    <a:lnTo>
                      <a:pt x="237" y="1"/>
                    </a:lnTo>
                    <a:lnTo>
                      <a:pt x="235" y="2"/>
                    </a:lnTo>
                    <a:lnTo>
                      <a:pt x="234" y="3"/>
                    </a:lnTo>
                    <a:lnTo>
                      <a:pt x="234" y="5"/>
                    </a:lnTo>
                    <a:lnTo>
                      <a:pt x="224" y="5"/>
                    </a:lnTo>
                    <a:lnTo>
                      <a:pt x="224" y="4"/>
                    </a:lnTo>
                    <a:lnTo>
                      <a:pt x="223" y="2"/>
                    </a:lnTo>
                    <a:lnTo>
                      <a:pt x="222" y="2"/>
                    </a:lnTo>
                    <a:lnTo>
                      <a:pt x="220" y="1"/>
                    </a:lnTo>
                    <a:lnTo>
                      <a:pt x="218" y="2"/>
                    </a:lnTo>
                    <a:lnTo>
                      <a:pt x="217" y="2"/>
                    </a:lnTo>
                    <a:lnTo>
                      <a:pt x="216" y="4"/>
                    </a:lnTo>
                    <a:lnTo>
                      <a:pt x="215" y="5"/>
                    </a:lnTo>
                    <a:lnTo>
                      <a:pt x="206"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4843080" y="38275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3" name=""/>
              <p:cNvSpPr/>
              <p:nvPr/>
            </p:nvSpPr>
            <p:spPr>
              <a:xfrm>
                <a:off x="5067720" y="3346560"/>
                <a:ext cx="13680" cy="11880"/>
              </a:xfrm>
              <a:custGeom>
                <a:avLst/>
                <a:gdLst/>
                <a:ahLst/>
                <a:rect l="l" t="t" r="r" b="b"/>
                <a:pathLst>
                  <a:path w="13" h="9">
                    <a:moveTo>
                      <a:pt x="11" y="9"/>
                    </a:moveTo>
                    <a:lnTo>
                      <a:pt x="0" y="5"/>
                    </a:lnTo>
                    <a:lnTo>
                      <a:pt x="11" y="0"/>
                    </a:lnTo>
                    <a:lnTo>
                      <a:pt x="13" y="2"/>
                    </a:lnTo>
                    <a:lnTo>
                      <a:pt x="13" y="5"/>
                    </a:lnTo>
                    <a:lnTo>
                      <a:pt x="13" y="7"/>
                    </a:lnTo>
                    <a:lnTo>
                      <a:pt x="11"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94" name=""/>
              <p:cNvSpPr/>
              <p:nvPr/>
            </p:nvSpPr>
            <p:spPr>
              <a:xfrm>
                <a:off x="6652440" y="4432320"/>
                <a:ext cx="392760" cy="83880"/>
              </a:xfrm>
              <a:prstGeom prst="rect">
                <a:avLst/>
              </a:prstGeom>
              <a:blipFill rotWithShape="0">
                <a:blip r:embed="rId91"/>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95" name=""/>
              <p:cNvSpPr/>
              <p:nvPr/>
            </p:nvSpPr>
            <p:spPr>
              <a:xfrm>
                <a:off x="6699960" y="4457880"/>
                <a:ext cx="33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unt Corrections</a:t>
                </a:r>
                <a:endParaRPr b="0" lang="en-US" sz="300" spc="-1" strike="noStrike">
                  <a:solidFill>
                    <a:srgbClr val="ffffff"/>
                  </a:solidFill>
                  <a:latin typeface="Arial"/>
                </a:endParaRPr>
              </a:p>
            </p:txBody>
          </p:sp>
          <p:sp>
            <p:nvSpPr>
              <p:cNvPr id="896" name=""/>
              <p:cNvSpPr/>
              <p:nvPr/>
            </p:nvSpPr>
            <p:spPr>
              <a:xfrm>
                <a:off x="5347080" y="4523400"/>
                <a:ext cx="1501200" cy="348480"/>
              </a:xfrm>
              <a:custGeom>
                <a:avLst/>
                <a:gdLst/>
                <a:ahLst/>
                <a:rect l="l" t="t" r="r" b="b"/>
                <a:pathLst>
                  <a:path w="1418" h="261">
                    <a:moveTo>
                      <a:pt x="1418" y="0"/>
                    </a:moveTo>
                    <a:lnTo>
                      <a:pt x="1418" y="261"/>
                    </a:lnTo>
                    <a:lnTo>
                      <a:pt x="1418" y="261"/>
                    </a:lnTo>
                    <a:lnTo>
                      <a:pt x="1417" y="260"/>
                    </a:lnTo>
                    <a:lnTo>
                      <a:pt x="1416" y="259"/>
                    </a:lnTo>
                    <a:lnTo>
                      <a:pt x="1415" y="258"/>
                    </a:lnTo>
                    <a:lnTo>
                      <a:pt x="1413" y="258"/>
                    </a:lnTo>
                    <a:lnTo>
                      <a:pt x="1412" y="258"/>
                    </a:lnTo>
                    <a:lnTo>
                      <a:pt x="1410" y="259"/>
                    </a:lnTo>
                    <a:lnTo>
                      <a:pt x="1409" y="260"/>
                    </a:lnTo>
                    <a:lnTo>
                      <a:pt x="1409" y="261"/>
                    </a:lnTo>
                    <a:lnTo>
                      <a:pt x="1281" y="261"/>
                    </a:lnTo>
                    <a:lnTo>
                      <a:pt x="1281" y="260"/>
                    </a:lnTo>
                    <a:lnTo>
                      <a:pt x="1280" y="259"/>
                    </a:lnTo>
                    <a:lnTo>
                      <a:pt x="1278" y="258"/>
                    </a:lnTo>
                    <a:lnTo>
                      <a:pt x="1276" y="258"/>
                    </a:lnTo>
                    <a:lnTo>
                      <a:pt x="1275" y="258"/>
                    </a:lnTo>
                    <a:lnTo>
                      <a:pt x="1273" y="259"/>
                    </a:lnTo>
                    <a:lnTo>
                      <a:pt x="1272" y="260"/>
                    </a:lnTo>
                    <a:lnTo>
                      <a:pt x="1272" y="261"/>
                    </a:lnTo>
                    <a:lnTo>
                      <a:pt x="1261" y="261"/>
                    </a:lnTo>
                    <a:lnTo>
                      <a:pt x="1260" y="260"/>
                    </a:lnTo>
                    <a:lnTo>
                      <a:pt x="1259" y="259"/>
                    </a:lnTo>
                    <a:lnTo>
                      <a:pt x="1258" y="258"/>
                    </a:lnTo>
                    <a:lnTo>
                      <a:pt x="1256" y="258"/>
                    </a:lnTo>
                    <a:lnTo>
                      <a:pt x="1255" y="258"/>
                    </a:lnTo>
                    <a:lnTo>
                      <a:pt x="1253" y="259"/>
                    </a:lnTo>
                    <a:lnTo>
                      <a:pt x="1252" y="260"/>
                    </a:lnTo>
                    <a:lnTo>
                      <a:pt x="1252" y="261"/>
                    </a:lnTo>
                    <a:lnTo>
                      <a:pt x="1011" y="261"/>
                    </a:lnTo>
                    <a:lnTo>
                      <a:pt x="1010" y="260"/>
                    </a:lnTo>
                    <a:lnTo>
                      <a:pt x="1009" y="259"/>
                    </a:lnTo>
                    <a:lnTo>
                      <a:pt x="1008" y="258"/>
                    </a:lnTo>
                    <a:lnTo>
                      <a:pt x="1006" y="258"/>
                    </a:lnTo>
                    <a:lnTo>
                      <a:pt x="1005" y="258"/>
                    </a:lnTo>
                    <a:lnTo>
                      <a:pt x="1003" y="259"/>
                    </a:lnTo>
                    <a:lnTo>
                      <a:pt x="1002" y="260"/>
                    </a:lnTo>
                    <a:lnTo>
                      <a:pt x="1002" y="261"/>
                    </a:lnTo>
                    <a:lnTo>
                      <a:pt x="889" y="261"/>
                    </a:lnTo>
                    <a:lnTo>
                      <a:pt x="889" y="260"/>
                    </a:lnTo>
                    <a:lnTo>
                      <a:pt x="888" y="259"/>
                    </a:lnTo>
                    <a:lnTo>
                      <a:pt x="886" y="258"/>
                    </a:lnTo>
                    <a:lnTo>
                      <a:pt x="885" y="258"/>
                    </a:lnTo>
                    <a:lnTo>
                      <a:pt x="883" y="258"/>
                    </a:lnTo>
                    <a:lnTo>
                      <a:pt x="881" y="259"/>
                    </a:lnTo>
                    <a:lnTo>
                      <a:pt x="881" y="260"/>
                    </a:lnTo>
                    <a:lnTo>
                      <a:pt x="880" y="261"/>
                    </a:lnTo>
                    <a:lnTo>
                      <a:pt x="637" y="261"/>
                    </a:lnTo>
                    <a:lnTo>
                      <a:pt x="637" y="260"/>
                    </a:lnTo>
                    <a:lnTo>
                      <a:pt x="636" y="259"/>
                    </a:lnTo>
                    <a:lnTo>
                      <a:pt x="634" y="258"/>
                    </a:lnTo>
                    <a:lnTo>
                      <a:pt x="633" y="258"/>
                    </a:lnTo>
                    <a:lnTo>
                      <a:pt x="631" y="258"/>
                    </a:lnTo>
                    <a:lnTo>
                      <a:pt x="629" y="259"/>
                    </a:lnTo>
                    <a:lnTo>
                      <a:pt x="628" y="260"/>
                    </a:lnTo>
                    <a:lnTo>
                      <a:pt x="628" y="261"/>
                    </a:lnTo>
                    <a:lnTo>
                      <a:pt x="583" y="261"/>
                    </a:lnTo>
                    <a:lnTo>
                      <a:pt x="583" y="260"/>
                    </a:lnTo>
                    <a:lnTo>
                      <a:pt x="582" y="259"/>
                    </a:lnTo>
                    <a:lnTo>
                      <a:pt x="580" y="258"/>
                    </a:lnTo>
                    <a:lnTo>
                      <a:pt x="579" y="258"/>
                    </a:lnTo>
                    <a:lnTo>
                      <a:pt x="577" y="258"/>
                    </a:lnTo>
                    <a:lnTo>
                      <a:pt x="575" y="259"/>
                    </a:lnTo>
                    <a:lnTo>
                      <a:pt x="574" y="260"/>
                    </a:lnTo>
                    <a:lnTo>
                      <a:pt x="574" y="261"/>
                    </a:lnTo>
                    <a:lnTo>
                      <a:pt x="531" y="261"/>
                    </a:lnTo>
                    <a:lnTo>
                      <a:pt x="531" y="260"/>
                    </a:lnTo>
                    <a:lnTo>
                      <a:pt x="530" y="259"/>
                    </a:lnTo>
                    <a:lnTo>
                      <a:pt x="528" y="258"/>
                    </a:lnTo>
                    <a:lnTo>
                      <a:pt x="527" y="258"/>
                    </a:lnTo>
                    <a:lnTo>
                      <a:pt x="525" y="258"/>
                    </a:lnTo>
                    <a:lnTo>
                      <a:pt x="524" y="259"/>
                    </a:lnTo>
                    <a:lnTo>
                      <a:pt x="523" y="260"/>
                    </a:lnTo>
                    <a:lnTo>
                      <a:pt x="522" y="261"/>
                    </a:lnTo>
                    <a:lnTo>
                      <a:pt x="486" y="261"/>
                    </a:lnTo>
                    <a:lnTo>
                      <a:pt x="485" y="260"/>
                    </a:lnTo>
                    <a:lnTo>
                      <a:pt x="484" y="259"/>
                    </a:lnTo>
                    <a:lnTo>
                      <a:pt x="483" y="258"/>
                    </a:lnTo>
                    <a:lnTo>
                      <a:pt x="481" y="258"/>
                    </a:lnTo>
                    <a:lnTo>
                      <a:pt x="479" y="258"/>
                    </a:lnTo>
                    <a:lnTo>
                      <a:pt x="478" y="259"/>
                    </a:lnTo>
                    <a:lnTo>
                      <a:pt x="477" y="260"/>
                    </a:lnTo>
                    <a:lnTo>
                      <a:pt x="477" y="261"/>
                    </a:lnTo>
                    <a:lnTo>
                      <a:pt x="438" y="261"/>
                    </a:lnTo>
                    <a:lnTo>
                      <a:pt x="438" y="260"/>
                    </a:lnTo>
                    <a:lnTo>
                      <a:pt x="437" y="259"/>
                    </a:lnTo>
                    <a:lnTo>
                      <a:pt x="436" y="258"/>
                    </a:lnTo>
                    <a:lnTo>
                      <a:pt x="434" y="258"/>
                    </a:lnTo>
                    <a:lnTo>
                      <a:pt x="432" y="258"/>
                    </a:lnTo>
                    <a:lnTo>
                      <a:pt x="431" y="259"/>
                    </a:lnTo>
                    <a:lnTo>
                      <a:pt x="430" y="260"/>
                    </a:lnTo>
                    <a:lnTo>
                      <a:pt x="429" y="261"/>
                    </a:lnTo>
                    <a:lnTo>
                      <a:pt x="342" y="261"/>
                    </a:lnTo>
                    <a:lnTo>
                      <a:pt x="342" y="260"/>
                    </a:lnTo>
                    <a:lnTo>
                      <a:pt x="341" y="259"/>
                    </a:lnTo>
                    <a:lnTo>
                      <a:pt x="339" y="258"/>
                    </a:lnTo>
                    <a:lnTo>
                      <a:pt x="338" y="258"/>
                    </a:lnTo>
                    <a:lnTo>
                      <a:pt x="336" y="258"/>
                    </a:lnTo>
                    <a:lnTo>
                      <a:pt x="334" y="259"/>
                    </a:lnTo>
                    <a:lnTo>
                      <a:pt x="333" y="260"/>
                    </a:lnTo>
                    <a:lnTo>
                      <a:pt x="333" y="261"/>
                    </a:lnTo>
                    <a:lnTo>
                      <a:pt x="261" y="261"/>
                    </a:lnTo>
                    <a:lnTo>
                      <a:pt x="261" y="260"/>
                    </a:lnTo>
                    <a:lnTo>
                      <a:pt x="260" y="259"/>
                    </a:lnTo>
                    <a:lnTo>
                      <a:pt x="258" y="258"/>
                    </a:lnTo>
                    <a:lnTo>
                      <a:pt x="256" y="258"/>
                    </a:lnTo>
                    <a:lnTo>
                      <a:pt x="255" y="258"/>
                    </a:lnTo>
                    <a:lnTo>
                      <a:pt x="253" y="259"/>
                    </a:lnTo>
                    <a:lnTo>
                      <a:pt x="252" y="260"/>
                    </a:lnTo>
                    <a:lnTo>
                      <a:pt x="252" y="261"/>
                    </a:lnTo>
                    <a:lnTo>
                      <a:pt x="110" y="261"/>
                    </a:lnTo>
                    <a:lnTo>
                      <a:pt x="109" y="260"/>
                    </a:lnTo>
                    <a:lnTo>
                      <a:pt x="108" y="259"/>
                    </a:lnTo>
                    <a:lnTo>
                      <a:pt x="107" y="258"/>
                    </a:lnTo>
                    <a:lnTo>
                      <a:pt x="105" y="258"/>
                    </a:lnTo>
                    <a:lnTo>
                      <a:pt x="103" y="258"/>
                    </a:lnTo>
                    <a:lnTo>
                      <a:pt x="102" y="259"/>
                    </a:lnTo>
                    <a:lnTo>
                      <a:pt x="101" y="260"/>
                    </a:lnTo>
                    <a:lnTo>
                      <a:pt x="101" y="261"/>
                    </a:lnTo>
                    <a:lnTo>
                      <a:pt x="38" y="261"/>
                    </a:lnTo>
                    <a:lnTo>
                      <a:pt x="38" y="260"/>
                    </a:lnTo>
                    <a:lnTo>
                      <a:pt x="37" y="259"/>
                    </a:lnTo>
                    <a:lnTo>
                      <a:pt x="35" y="258"/>
                    </a:lnTo>
                    <a:lnTo>
                      <a:pt x="34" y="258"/>
                    </a:lnTo>
                    <a:lnTo>
                      <a:pt x="32" y="258"/>
                    </a:lnTo>
                    <a:lnTo>
                      <a:pt x="30" y="259"/>
                    </a:lnTo>
                    <a:lnTo>
                      <a:pt x="30" y="260"/>
                    </a:lnTo>
                    <a:lnTo>
                      <a:pt x="29" y="261"/>
                    </a:lnTo>
                    <a:lnTo>
                      <a:pt x="0" y="26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843960" y="4516560"/>
                <a:ext cx="8640" cy="7920"/>
              </a:xfrm>
              <a:custGeom>
                <a:avLst/>
                <a:gdLst/>
                <a:ahLst/>
                <a:rect l="l" t="t" r="r" b="b"/>
                <a:pathLst>
                  <a:path w="8" h="6">
                    <a:moveTo>
                      <a:pt x="0" y="6"/>
                    </a:moveTo>
                    <a:lnTo>
                      <a:pt x="4" y="0"/>
                    </a:lnTo>
                    <a:lnTo>
                      <a:pt x="8" y="6"/>
                    </a:lnTo>
                    <a:lnTo>
                      <a:pt x="6" y="6"/>
                    </a:lnTo>
                    <a:lnTo>
                      <a:pt x="4" y="6"/>
                    </a:lnTo>
                    <a:lnTo>
                      <a:pt x="2" y="6"/>
                    </a:lnTo>
                    <a:lnTo>
                      <a:pt x="0" y="6"/>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98" name=""/>
              <p:cNvSpPr/>
              <p:nvPr/>
            </p:nvSpPr>
            <p:spPr>
              <a:xfrm>
                <a:off x="5020920" y="3978360"/>
                <a:ext cx="1058400" cy="209520"/>
              </a:xfrm>
              <a:custGeom>
                <a:avLst/>
                <a:gdLst/>
                <a:ahLst/>
                <a:rect l="l" t="t" r="r" b="b"/>
                <a:pathLst>
                  <a:path w="1000" h="157">
                    <a:moveTo>
                      <a:pt x="1000" y="157"/>
                    </a:moveTo>
                    <a:lnTo>
                      <a:pt x="977" y="157"/>
                    </a:lnTo>
                    <a:lnTo>
                      <a:pt x="977" y="156"/>
                    </a:lnTo>
                    <a:lnTo>
                      <a:pt x="976" y="154"/>
                    </a:lnTo>
                    <a:lnTo>
                      <a:pt x="974" y="154"/>
                    </a:lnTo>
                    <a:lnTo>
                      <a:pt x="972" y="153"/>
                    </a:lnTo>
                    <a:lnTo>
                      <a:pt x="971" y="154"/>
                    </a:lnTo>
                    <a:lnTo>
                      <a:pt x="969" y="154"/>
                    </a:lnTo>
                    <a:lnTo>
                      <a:pt x="968" y="156"/>
                    </a:lnTo>
                    <a:lnTo>
                      <a:pt x="968" y="157"/>
                    </a:lnTo>
                    <a:lnTo>
                      <a:pt x="914" y="157"/>
                    </a:lnTo>
                    <a:lnTo>
                      <a:pt x="913" y="156"/>
                    </a:lnTo>
                    <a:lnTo>
                      <a:pt x="912" y="154"/>
                    </a:lnTo>
                    <a:lnTo>
                      <a:pt x="911" y="154"/>
                    </a:lnTo>
                    <a:lnTo>
                      <a:pt x="909" y="153"/>
                    </a:lnTo>
                    <a:lnTo>
                      <a:pt x="907" y="154"/>
                    </a:lnTo>
                    <a:lnTo>
                      <a:pt x="906" y="154"/>
                    </a:lnTo>
                    <a:lnTo>
                      <a:pt x="905" y="156"/>
                    </a:lnTo>
                    <a:lnTo>
                      <a:pt x="905" y="157"/>
                    </a:lnTo>
                    <a:lnTo>
                      <a:pt x="891" y="157"/>
                    </a:lnTo>
                    <a:lnTo>
                      <a:pt x="891" y="156"/>
                    </a:lnTo>
                    <a:lnTo>
                      <a:pt x="890" y="154"/>
                    </a:lnTo>
                    <a:lnTo>
                      <a:pt x="888" y="154"/>
                    </a:lnTo>
                    <a:lnTo>
                      <a:pt x="887" y="153"/>
                    </a:lnTo>
                    <a:lnTo>
                      <a:pt x="885" y="154"/>
                    </a:lnTo>
                    <a:lnTo>
                      <a:pt x="883" y="154"/>
                    </a:lnTo>
                    <a:lnTo>
                      <a:pt x="882" y="156"/>
                    </a:lnTo>
                    <a:lnTo>
                      <a:pt x="882" y="157"/>
                    </a:lnTo>
                    <a:lnTo>
                      <a:pt x="873" y="157"/>
                    </a:lnTo>
                    <a:lnTo>
                      <a:pt x="873" y="156"/>
                    </a:lnTo>
                    <a:lnTo>
                      <a:pt x="872" y="154"/>
                    </a:lnTo>
                    <a:lnTo>
                      <a:pt x="870" y="154"/>
                    </a:lnTo>
                    <a:lnTo>
                      <a:pt x="869" y="153"/>
                    </a:lnTo>
                    <a:lnTo>
                      <a:pt x="867" y="154"/>
                    </a:lnTo>
                    <a:lnTo>
                      <a:pt x="865" y="154"/>
                    </a:lnTo>
                    <a:lnTo>
                      <a:pt x="864" y="156"/>
                    </a:lnTo>
                    <a:lnTo>
                      <a:pt x="864" y="157"/>
                    </a:lnTo>
                    <a:lnTo>
                      <a:pt x="767" y="157"/>
                    </a:lnTo>
                    <a:lnTo>
                      <a:pt x="767" y="156"/>
                    </a:lnTo>
                    <a:lnTo>
                      <a:pt x="766" y="154"/>
                    </a:lnTo>
                    <a:lnTo>
                      <a:pt x="764" y="154"/>
                    </a:lnTo>
                    <a:lnTo>
                      <a:pt x="762" y="153"/>
                    </a:lnTo>
                    <a:lnTo>
                      <a:pt x="761" y="154"/>
                    </a:lnTo>
                    <a:lnTo>
                      <a:pt x="759" y="154"/>
                    </a:lnTo>
                    <a:lnTo>
                      <a:pt x="758" y="156"/>
                    </a:lnTo>
                    <a:lnTo>
                      <a:pt x="758" y="157"/>
                    </a:lnTo>
                    <a:lnTo>
                      <a:pt x="732" y="157"/>
                    </a:lnTo>
                    <a:lnTo>
                      <a:pt x="732" y="156"/>
                    </a:lnTo>
                    <a:lnTo>
                      <a:pt x="731" y="154"/>
                    </a:lnTo>
                    <a:lnTo>
                      <a:pt x="729" y="154"/>
                    </a:lnTo>
                    <a:lnTo>
                      <a:pt x="728" y="153"/>
                    </a:lnTo>
                    <a:lnTo>
                      <a:pt x="726" y="154"/>
                    </a:lnTo>
                    <a:lnTo>
                      <a:pt x="724" y="154"/>
                    </a:lnTo>
                    <a:lnTo>
                      <a:pt x="724" y="156"/>
                    </a:lnTo>
                    <a:lnTo>
                      <a:pt x="723" y="157"/>
                    </a:lnTo>
                    <a:lnTo>
                      <a:pt x="704" y="157"/>
                    </a:lnTo>
                    <a:lnTo>
                      <a:pt x="704" y="156"/>
                    </a:lnTo>
                    <a:lnTo>
                      <a:pt x="703" y="154"/>
                    </a:lnTo>
                    <a:lnTo>
                      <a:pt x="702" y="154"/>
                    </a:lnTo>
                    <a:lnTo>
                      <a:pt x="700" y="153"/>
                    </a:lnTo>
                    <a:lnTo>
                      <a:pt x="698" y="154"/>
                    </a:lnTo>
                    <a:lnTo>
                      <a:pt x="697" y="154"/>
                    </a:lnTo>
                    <a:lnTo>
                      <a:pt x="696" y="156"/>
                    </a:lnTo>
                    <a:lnTo>
                      <a:pt x="695" y="157"/>
                    </a:lnTo>
                    <a:lnTo>
                      <a:pt x="675" y="157"/>
                    </a:lnTo>
                    <a:lnTo>
                      <a:pt x="675" y="156"/>
                    </a:lnTo>
                    <a:lnTo>
                      <a:pt x="674" y="154"/>
                    </a:lnTo>
                    <a:lnTo>
                      <a:pt x="673" y="154"/>
                    </a:lnTo>
                    <a:lnTo>
                      <a:pt x="671" y="153"/>
                    </a:lnTo>
                    <a:lnTo>
                      <a:pt x="669" y="154"/>
                    </a:lnTo>
                    <a:lnTo>
                      <a:pt x="668" y="154"/>
                    </a:lnTo>
                    <a:lnTo>
                      <a:pt x="667" y="156"/>
                    </a:lnTo>
                    <a:lnTo>
                      <a:pt x="666" y="157"/>
                    </a:lnTo>
                    <a:lnTo>
                      <a:pt x="626" y="157"/>
                    </a:lnTo>
                    <a:lnTo>
                      <a:pt x="625" y="156"/>
                    </a:lnTo>
                    <a:lnTo>
                      <a:pt x="624" y="154"/>
                    </a:lnTo>
                    <a:lnTo>
                      <a:pt x="623" y="154"/>
                    </a:lnTo>
                    <a:lnTo>
                      <a:pt x="621" y="153"/>
                    </a:lnTo>
                    <a:lnTo>
                      <a:pt x="619" y="154"/>
                    </a:lnTo>
                    <a:lnTo>
                      <a:pt x="618" y="154"/>
                    </a:lnTo>
                    <a:lnTo>
                      <a:pt x="617" y="156"/>
                    </a:lnTo>
                    <a:lnTo>
                      <a:pt x="617" y="157"/>
                    </a:lnTo>
                    <a:lnTo>
                      <a:pt x="538" y="157"/>
                    </a:lnTo>
                    <a:lnTo>
                      <a:pt x="537" y="156"/>
                    </a:lnTo>
                    <a:lnTo>
                      <a:pt x="536" y="154"/>
                    </a:lnTo>
                    <a:lnTo>
                      <a:pt x="535" y="154"/>
                    </a:lnTo>
                    <a:lnTo>
                      <a:pt x="533" y="153"/>
                    </a:lnTo>
                    <a:lnTo>
                      <a:pt x="532" y="154"/>
                    </a:lnTo>
                    <a:lnTo>
                      <a:pt x="530" y="154"/>
                    </a:lnTo>
                    <a:lnTo>
                      <a:pt x="529" y="156"/>
                    </a:lnTo>
                    <a:lnTo>
                      <a:pt x="529" y="157"/>
                    </a:lnTo>
                    <a:lnTo>
                      <a:pt x="438" y="157"/>
                    </a:lnTo>
                    <a:lnTo>
                      <a:pt x="438" y="155"/>
                    </a:lnTo>
                    <a:lnTo>
                      <a:pt x="437" y="153"/>
                    </a:lnTo>
                    <a:lnTo>
                      <a:pt x="436" y="152"/>
                    </a:lnTo>
                    <a:lnTo>
                      <a:pt x="434" y="151"/>
                    </a:lnTo>
                    <a:lnTo>
                      <a:pt x="431" y="151"/>
                    </a:lnTo>
                    <a:lnTo>
                      <a:pt x="429" y="151"/>
                    </a:lnTo>
                    <a:lnTo>
                      <a:pt x="427" y="151"/>
                    </a:lnTo>
                    <a:lnTo>
                      <a:pt x="425" y="152"/>
                    </a:lnTo>
                    <a:lnTo>
                      <a:pt x="423" y="153"/>
                    </a:lnTo>
                    <a:lnTo>
                      <a:pt x="422" y="155"/>
                    </a:lnTo>
                    <a:lnTo>
                      <a:pt x="422" y="157"/>
                    </a:lnTo>
                    <a:lnTo>
                      <a:pt x="418" y="157"/>
                    </a:lnTo>
                    <a:lnTo>
                      <a:pt x="417" y="155"/>
                    </a:lnTo>
                    <a:lnTo>
                      <a:pt x="416" y="153"/>
                    </a:lnTo>
                    <a:lnTo>
                      <a:pt x="415" y="152"/>
                    </a:lnTo>
                    <a:lnTo>
                      <a:pt x="412" y="151"/>
                    </a:lnTo>
                    <a:lnTo>
                      <a:pt x="410" y="150"/>
                    </a:lnTo>
                    <a:lnTo>
                      <a:pt x="408" y="150"/>
                    </a:lnTo>
                    <a:lnTo>
                      <a:pt x="405" y="151"/>
                    </a:lnTo>
                    <a:lnTo>
                      <a:pt x="403" y="152"/>
                    </a:lnTo>
                    <a:lnTo>
                      <a:pt x="402" y="153"/>
                    </a:lnTo>
                    <a:lnTo>
                      <a:pt x="401" y="155"/>
                    </a:lnTo>
                    <a:lnTo>
                      <a:pt x="400" y="157"/>
                    </a:lnTo>
                    <a:lnTo>
                      <a:pt x="389" y="157"/>
                    </a:lnTo>
                    <a:lnTo>
                      <a:pt x="389" y="156"/>
                    </a:lnTo>
                    <a:lnTo>
                      <a:pt x="388" y="154"/>
                    </a:lnTo>
                    <a:lnTo>
                      <a:pt x="386" y="154"/>
                    </a:lnTo>
                    <a:lnTo>
                      <a:pt x="384" y="153"/>
                    </a:lnTo>
                    <a:lnTo>
                      <a:pt x="383" y="154"/>
                    </a:lnTo>
                    <a:lnTo>
                      <a:pt x="381" y="154"/>
                    </a:lnTo>
                    <a:lnTo>
                      <a:pt x="380" y="156"/>
                    </a:lnTo>
                    <a:lnTo>
                      <a:pt x="380" y="157"/>
                    </a:lnTo>
                    <a:lnTo>
                      <a:pt x="346" y="157"/>
                    </a:lnTo>
                    <a:lnTo>
                      <a:pt x="346" y="156"/>
                    </a:lnTo>
                    <a:lnTo>
                      <a:pt x="345" y="154"/>
                    </a:lnTo>
                    <a:lnTo>
                      <a:pt x="343" y="154"/>
                    </a:lnTo>
                    <a:lnTo>
                      <a:pt x="342" y="153"/>
                    </a:lnTo>
                    <a:lnTo>
                      <a:pt x="340" y="154"/>
                    </a:lnTo>
                    <a:lnTo>
                      <a:pt x="338" y="154"/>
                    </a:lnTo>
                    <a:lnTo>
                      <a:pt x="338" y="156"/>
                    </a:lnTo>
                    <a:lnTo>
                      <a:pt x="337" y="157"/>
                    </a:lnTo>
                    <a:lnTo>
                      <a:pt x="333" y="157"/>
                    </a:lnTo>
                    <a:lnTo>
                      <a:pt x="332" y="155"/>
                    </a:lnTo>
                    <a:lnTo>
                      <a:pt x="331" y="154"/>
                    </a:lnTo>
                    <a:lnTo>
                      <a:pt x="330" y="152"/>
                    </a:lnTo>
                    <a:lnTo>
                      <a:pt x="328" y="151"/>
                    </a:lnTo>
                    <a:lnTo>
                      <a:pt x="326" y="151"/>
                    </a:lnTo>
                    <a:lnTo>
                      <a:pt x="324" y="151"/>
                    </a:lnTo>
                    <a:lnTo>
                      <a:pt x="322" y="151"/>
                    </a:lnTo>
                    <a:lnTo>
                      <a:pt x="320" y="152"/>
                    </a:lnTo>
                    <a:lnTo>
                      <a:pt x="318" y="154"/>
                    </a:lnTo>
                    <a:lnTo>
                      <a:pt x="317" y="155"/>
                    </a:lnTo>
                    <a:lnTo>
                      <a:pt x="317" y="157"/>
                    </a:lnTo>
                    <a:lnTo>
                      <a:pt x="292" y="157"/>
                    </a:lnTo>
                    <a:lnTo>
                      <a:pt x="292" y="156"/>
                    </a:lnTo>
                    <a:lnTo>
                      <a:pt x="291" y="154"/>
                    </a:lnTo>
                    <a:lnTo>
                      <a:pt x="289" y="154"/>
                    </a:lnTo>
                    <a:lnTo>
                      <a:pt x="288" y="153"/>
                    </a:lnTo>
                    <a:lnTo>
                      <a:pt x="286" y="154"/>
                    </a:lnTo>
                    <a:lnTo>
                      <a:pt x="284" y="154"/>
                    </a:lnTo>
                    <a:lnTo>
                      <a:pt x="283" y="156"/>
                    </a:lnTo>
                    <a:lnTo>
                      <a:pt x="283" y="157"/>
                    </a:lnTo>
                    <a:lnTo>
                      <a:pt x="204" y="157"/>
                    </a:lnTo>
                    <a:lnTo>
                      <a:pt x="204" y="156"/>
                    </a:lnTo>
                    <a:lnTo>
                      <a:pt x="203" y="154"/>
                    </a:lnTo>
                    <a:lnTo>
                      <a:pt x="201" y="154"/>
                    </a:lnTo>
                    <a:lnTo>
                      <a:pt x="200" y="153"/>
                    </a:lnTo>
                    <a:lnTo>
                      <a:pt x="198" y="154"/>
                    </a:lnTo>
                    <a:lnTo>
                      <a:pt x="196" y="154"/>
                    </a:lnTo>
                    <a:lnTo>
                      <a:pt x="195" y="156"/>
                    </a:lnTo>
                    <a:lnTo>
                      <a:pt x="195" y="157"/>
                    </a:lnTo>
                    <a:lnTo>
                      <a:pt x="175" y="157"/>
                    </a:lnTo>
                    <a:lnTo>
                      <a:pt x="175" y="156"/>
                    </a:lnTo>
                    <a:lnTo>
                      <a:pt x="174" y="154"/>
                    </a:lnTo>
                    <a:lnTo>
                      <a:pt x="172" y="154"/>
                    </a:lnTo>
                    <a:lnTo>
                      <a:pt x="171" y="153"/>
                    </a:lnTo>
                    <a:lnTo>
                      <a:pt x="169" y="154"/>
                    </a:lnTo>
                    <a:lnTo>
                      <a:pt x="168" y="154"/>
                    </a:lnTo>
                    <a:lnTo>
                      <a:pt x="167" y="156"/>
                    </a:lnTo>
                    <a:lnTo>
                      <a:pt x="166" y="157"/>
                    </a:lnTo>
                    <a:lnTo>
                      <a:pt x="157" y="157"/>
                    </a:lnTo>
                    <a:lnTo>
                      <a:pt x="157" y="156"/>
                    </a:lnTo>
                    <a:lnTo>
                      <a:pt x="156" y="154"/>
                    </a:lnTo>
                    <a:lnTo>
                      <a:pt x="154" y="154"/>
                    </a:lnTo>
                    <a:lnTo>
                      <a:pt x="153" y="153"/>
                    </a:lnTo>
                    <a:lnTo>
                      <a:pt x="151" y="154"/>
                    </a:lnTo>
                    <a:lnTo>
                      <a:pt x="149" y="154"/>
                    </a:lnTo>
                    <a:lnTo>
                      <a:pt x="148" y="156"/>
                    </a:lnTo>
                    <a:lnTo>
                      <a:pt x="148" y="157"/>
                    </a:lnTo>
                    <a:lnTo>
                      <a:pt x="95" y="157"/>
                    </a:lnTo>
                    <a:lnTo>
                      <a:pt x="95" y="156"/>
                    </a:lnTo>
                    <a:lnTo>
                      <a:pt x="94" y="154"/>
                    </a:lnTo>
                    <a:lnTo>
                      <a:pt x="93" y="154"/>
                    </a:lnTo>
                    <a:lnTo>
                      <a:pt x="91" y="153"/>
                    </a:lnTo>
                    <a:lnTo>
                      <a:pt x="89" y="154"/>
                    </a:lnTo>
                    <a:lnTo>
                      <a:pt x="88" y="154"/>
                    </a:lnTo>
                    <a:lnTo>
                      <a:pt x="87" y="156"/>
                    </a:lnTo>
                    <a:lnTo>
                      <a:pt x="86" y="157"/>
                    </a:lnTo>
                    <a:lnTo>
                      <a:pt x="42" y="157"/>
                    </a:lnTo>
                    <a:lnTo>
                      <a:pt x="42" y="156"/>
                    </a:lnTo>
                    <a:lnTo>
                      <a:pt x="41" y="154"/>
                    </a:lnTo>
                    <a:lnTo>
                      <a:pt x="39" y="154"/>
                    </a:lnTo>
                    <a:lnTo>
                      <a:pt x="38" y="153"/>
                    </a:lnTo>
                    <a:lnTo>
                      <a:pt x="36" y="154"/>
                    </a:lnTo>
                    <a:lnTo>
                      <a:pt x="35" y="154"/>
                    </a:lnTo>
                    <a:lnTo>
                      <a:pt x="33" y="156"/>
                    </a:lnTo>
                    <a:lnTo>
                      <a:pt x="33" y="157"/>
                    </a:lnTo>
                    <a:lnTo>
                      <a:pt x="0" y="15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6078600" y="4181400"/>
                <a:ext cx="13680" cy="11880"/>
              </a:xfrm>
              <a:custGeom>
                <a:avLst/>
                <a:gdLst/>
                <a:ahLst/>
                <a:rect l="l" t="t" r="r" b="b"/>
                <a:pathLst>
                  <a:path w="13" h="9">
                    <a:moveTo>
                      <a:pt x="1" y="0"/>
                    </a:moveTo>
                    <a:lnTo>
                      <a:pt x="13" y="5"/>
                    </a:lnTo>
                    <a:lnTo>
                      <a:pt x="1" y="9"/>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00" name=""/>
              <p:cNvSpPr/>
              <p:nvPr/>
            </p:nvSpPr>
            <p:spPr>
              <a:xfrm>
                <a:off x="5014440" y="39661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1" name=""/>
              <p:cNvSpPr/>
              <p:nvPr/>
            </p:nvSpPr>
            <p:spPr>
              <a:xfrm>
                <a:off x="6380280" y="4435200"/>
                <a:ext cx="171360" cy="64080"/>
              </a:xfrm>
              <a:prstGeom prst="rect">
                <a:avLst/>
              </a:prstGeom>
              <a:blipFill rotWithShape="0">
                <a:blip r:embed="rId92"/>
                <a:srcRect/>
                <a:tile tx="0" ty="0" sx="100000" sy="100000" algn="ctr"/>
              </a:blip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902" name=""/>
              <p:cNvSpPr/>
              <p:nvPr/>
            </p:nvSpPr>
            <p:spPr>
              <a:xfrm>
                <a:off x="6422400" y="4449960"/>
                <a:ext cx="38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N.</a:t>
                </a:r>
                <a:endParaRPr b="0" lang="en-US" sz="300" spc="-1" strike="noStrike">
                  <a:solidFill>
                    <a:srgbClr val="ffffff"/>
                  </a:solidFill>
                  <a:latin typeface="Arial"/>
                </a:endParaRPr>
              </a:p>
            </p:txBody>
          </p:sp>
          <p:sp>
            <p:nvSpPr>
              <p:cNvPr id="903" name=""/>
              <p:cNvSpPr/>
              <p:nvPr/>
            </p:nvSpPr>
            <p:spPr>
              <a:xfrm>
                <a:off x="6302880" y="4261680"/>
                <a:ext cx="162720" cy="173520"/>
              </a:xfrm>
              <a:custGeom>
                <a:avLst/>
                <a:gdLst/>
                <a:ahLst/>
                <a:rect l="l" t="t" r="r" b="b"/>
                <a:pathLst>
                  <a:path w="154" h="130">
                    <a:moveTo>
                      <a:pt x="0" y="3"/>
                    </a:moveTo>
                    <a:lnTo>
                      <a:pt x="18" y="3"/>
                    </a:lnTo>
                    <a:lnTo>
                      <a:pt x="18" y="2"/>
                    </a:lnTo>
                    <a:lnTo>
                      <a:pt x="19" y="1"/>
                    </a:lnTo>
                    <a:lnTo>
                      <a:pt x="20" y="0"/>
                    </a:lnTo>
                    <a:lnTo>
                      <a:pt x="22" y="0"/>
                    </a:lnTo>
                    <a:lnTo>
                      <a:pt x="24" y="0"/>
                    </a:lnTo>
                    <a:lnTo>
                      <a:pt x="25" y="1"/>
                    </a:lnTo>
                    <a:lnTo>
                      <a:pt x="26" y="2"/>
                    </a:lnTo>
                    <a:lnTo>
                      <a:pt x="27" y="3"/>
                    </a:lnTo>
                    <a:lnTo>
                      <a:pt x="32" y="3"/>
                    </a:lnTo>
                    <a:lnTo>
                      <a:pt x="33" y="2"/>
                    </a:lnTo>
                    <a:lnTo>
                      <a:pt x="33" y="1"/>
                    </a:lnTo>
                    <a:lnTo>
                      <a:pt x="35" y="0"/>
                    </a:lnTo>
                    <a:lnTo>
                      <a:pt x="37" y="0"/>
                    </a:lnTo>
                    <a:lnTo>
                      <a:pt x="38" y="0"/>
                    </a:lnTo>
                    <a:lnTo>
                      <a:pt x="40" y="1"/>
                    </a:lnTo>
                    <a:lnTo>
                      <a:pt x="41" y="2"/>
                    </a:lnTo>
                    <a:lnTo>
                      <a:pt x="41" y="3"/>
                    </a:lnTo>
                    <a:lnTo>
                      <a:pt x="154" y="3"/>
                    </a:lnTo>
                    <a:lnTo>
                      <a:pt x="154" y="1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6290280" y="4258800"/>
                <a:ext cx="14760" cy="13320"/>
              </a:xfrm>
              <a:custGeom>
                <a:avLst/>
                <a:gdLst/>
                <a:ahLst/>
                <a:rect l="l" t="t" r="r" b="b"/>
                <a:pathLst>
                  <a:path w="14" h="10">
                    <a:moveTo>
                      <a:pt x="12" y="10"/>
                    </a:moveTo>
                    <a:lnTo>
                      <a:pt x="0" y="5"/>
                    </a:lnTo>
                    <a:lnTo>
                      <a:pt x="12" y="0"/>
                    </a:lnTo>
                    <a:lnTo>
                      <a:pt x="13" y="3"/>
                    </a:lnTo>
                    <a:lnTo>
                      <a:pt x="14"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5412960" y="2432880"/>
                <a:ext cx="2745720" cy="897480"/>
              </a:xfrm>
              <a:custGeom>
                <a:avLst/>
                <a:gdLst/>
                <a:ahLst/>
                <a:rect l="l" t="t" r="r" b="b"/>
                <a:pathLst>
                  <a:path w="2594" h="672">
                    <a:moveTo>
                      <a:pt x="2594" y="672"/>
                    </a:moveTo>
                    <a:lnTo>
                      <a:pt x="2594" y="37"/>
                    </a:lnTo>
                    <a:lnTo>
                      <a:pt x="2571" y="37"/>
                    </a:lnTo>
                    <a:lnTo>
                      <a:pt x="2571" y="36"/>
                    </a:lnTo>
                    <a:lnTo>
                      <a:pt x="2570" y="34"/>
                    </a:lnTo>
                    <a:lnTo>
                      <a:pt x="2569" y="34"/>
                    </a:lnTo>
                    <a:lnTo>
                      <a:pt x="2567" y="33"/>
                    </a:lnTo>
                    <a:lnTo>
                      <a:pt x="2565" y="34"/>
                    </a:lnTo>
                    <a:lnTo>
                      <a:pt x="2564" y="34"/>
                    </a:lnTo>
                    <a:lnTo>
                      <a:pt x="2563" y="36"/>
                    </a:lnTo>
                    <a:lnTo>
                      <a:pt x="2563" y="37"/>
                    </a:lnTo>
                    <a:lnTo>
                      <a:pt x="2475" y="37"/>
                    </a:lnTo>
                    <a:lnTo>
                      <a:pt x="2475" y="36"/>
                    </a:lnTo>
                    <a:lnTo>
                      <a:pt x="2474" y="34"/>
                    </a:lnTo>
                    <a:lnTo>
                      <a:pt x="2472" y="34"/>
                    </a:lnTo>
                    <a:lnTo>
                      <a:pt x="2471" y="33"/>
                    </a:lnTo>
                    <a:lnTo>
                      <a:pt x="2469" y="34"/>
                    </a:lnTo>
                    <a:lnTo>
                      <a:pt x="2468" y="34"/>
                    </a:lnTo>
                    <a:lnTo>
                      <a:pt x="2467" y="36"/>
                    </a:lnTo>
                    <a:lnTo>
                      <a:pt x="2466" y="37"/>
                    </a:lnTo>
                    <a:lnTo>
                      <a:pt x="2462" y="37"/>
                    </a:lnTo>
                    <a:lnTo>
                      <a:pt x="2461" y="36"/>
                    </a:lnTo>
                    <a:lnTo>
                      <a:pt x="2460" y="34"/>
                    </a:lnTo>
                    <a:lnTo>
                      <a:pt x="2459" y="34"/>
                    </a:lnTo>
                    <a:lnTo>
                      <a:pt x="2457" y="33"/>
                    </a:lnTo>
                    <a:lnTo>
                      <a:pt x="2456" y="34"/>
                    </a:lnTo>
                    <a:lnTo>
                      <a:pt x="2454" y="34"/>
                    </a:lnTo>
                    <a:lnTo>
                      <a:pt x="2453" y="36"/>
                    </a:lnTo>
                    <a:lnTo>
                      <a:pt x="2453" y="37"/>
                    </a:lnTo>
                    <a:lnTo>
                      <a:pt x="2387" y="37"/>
                    </a:lnTo>
                    <a:lnTo>
                      <a:pt x="2387" y="36"/>
                    </a:lnTo>
                    <a:lnTo>
                      <a:pt x="2386" y="34"/>
                    </a:lnTo>
                    <a:lnTo>
                      <a:pt x="2385" y="34"/>
                    </a:lnTo>
                    <a:lnTo>
                      <a:pt x="2383" y="33"/>
                    </a:lnTo>
                    <a:lnTo>
                      <a:pt x="2381" y="34"/>
                    </a:lnTo>
                    <a:lnTo>
                      <a:pt x="2380" y="34"/>
                    </a:lnTo>
                    <a:lnTo>
                      <a:pt x="2379" y="36"/>
                    </a:lnTo>
                    <a:lnTo>
                      <a:pt x="2378" y="37"/>
                    </a:lnTo>
                    <a:lnTo>
                      <a:pt x="2011" y="37"/>
                    </a:lnTo>
                    <a:lnTo>
                      <a:pt x="2011" y="36"/>
                    </a:lnTo>
                    <a:lnTo>
                      <a:pt x="2010" y="34"/>
                    </a:lnTo>
                    <a:lnTo>
                      <a:pt x="2008" y="34"/>
                    </a:lnTo>
                    <a:lnTo>
                      <a:pt x="2006" y="33"/>
                    </a:lnTo>
                    <a:lnTo>
                      <a:pt x="2005" y="34"/>
                    </a:lnTo>
                    <a:lnTo>
                      <a:pt x="2003" y="34"/>
                    </a:lnTo>
                    <a:lnTo>
                      <a:pt x="2002" y="36"/>
                    </a:lnTo>
                    <a:lnTo>
                      <a:pt x="2002" y="37"/>
                    </a:lnTo>
                    <a:lnTo>
                      <a:pt x="1888" y="37"/>
                    </a:lnTo>
                    <a:lnTo>
                      <a:pt x="1887" y="36"/>
                    </a:lnTo>
                    <a:lnTo>
                      <a:pt x="1886" y="34"/>
                    </a:lnTo>
                    <a:lnTo>
                      <a:pt x="1885" y="34"/>
                    </a:lnTo>
                    <a:lnTo>
                      <a:pt x="1883" y="33"/>
                    </a:lnTo>
                    <a:lnTo>
                      <a:pt x="1881" y="34"/>
                    </a:lnTo>
                    <a:lnTo>
                      <a:pt x="1880" y="34"/>
                    </a:lnTo>
                    <a:lnTo>
                      <a:pt x="1879" y="36"/>
                    </a:lnTo>
                    <a:lnTo>
                      <a:pt x="1879" y="37"/>
                    </a:lnTo>
                    <a:lnTo>
                      <a:pt x="1854" y="37"/>
                    </a:lnTo>
                    <a:lnTo>
                      <a:pt x="1854" y="36"/>
                    </a:lnTo>
                    <a:lnTo>
                      <a:pt x="1852" y="34"/>
                    </a:lnTo>
                    <a:lnTo>
                      <a:pt x="1851" y="34"/>
                    </a:lnTo>
                    <a:lnTo>
                      <a:pt x="1849" y="33"/>
                    </a:lnTo>
                    <a:lnTo>
                      <a:pt x="1848" y="34"/>
                    </a:lnTo>
                    <a:lnTo>
                      <a:pt x="1846" y="34"/>
                    </a:lnTo>
                    <a:lnTo>
                      <a:pt x="1845" y="36"/>
                    </a:lnTo>
                    <a:lnTo>
                      <a:pt x="1845" y="37"/>
                    </a:lnTo>
                    <a:lnTo>
                      <a:pt x="1827" y="37"/>
                    </a:lnTo>
                    <a:lnTo>
                      <a:pt x="1827" y="36"/>
                    </a:lnTo>
                    <a:lnTo>
                      <a:pt x="1825" y="34"/>
                    </a:lnTo>
                    <a:lnTo>
                      <a:pt x="1824" y="34"/>
                    </a:lnTo>
                    <a:lnTo>
                      <a:pt x="1822" y="33"/>
                    </a:lnTo>
                    <a:lnTo>
                      <a:pt x="1821" y="34"/>
                    </a:lnTo>
                    <a:lnTo>
                      <a:pt x="1819" y="34"/>
                    </a:lnTo>
                    <a:lnTo>
                      <a:pt x="1818" y="36"/>
                    </a:lnTo>
                    <a:lnTo>
                      <a:pt x="1818" y="37"/>
                    </a:lnTo>
                    <a:lnTo>
                      <a:pt x="1793" y="37"/>
                    </a:lnTo>
                    <a:lnTo>
                      <a:pt x="1793" y="36"/>
                    </a:lnTo>
                    <a:lnTo>
                      <a:pt x="1792" y="34"/>
                    </a:lnTo>
                    <a:lnTo>
                      <a:pt x="1790" y="34"/>
                    </a:lnTo>
                    <a:lnTo>
                      <a:pt x="1789" y="33"/>
                    </a:lnTo>
                    <a:lnTo>
                      <a:pt x="1787" y="34"/>
                    </a:lnTo>
                    <a:lnTo>
                      <a:pt x="1785" y="34"/>
                    </a:lnTo>
                    <a:lnTo>
                      <a:pt x="1785" y="36"/>
                    </a:lnTo>
                    <a:lnTo>
                      <a:pt x="1784" y="37"/>
                    </a:lnTo>
                    <a:lnTo>
                      <a:pt x="1753" y="37"/>
                    </a:lnTo>
                    <a:lnTo>
                      <a:pt x="1752" y="36"/>
                    </a:lnTo>
                    <a:lnTo>
                      <a:pt x="1751" y="34"/>
                    </a:lnTo>
                    <a:lnTo>
                      <a:pt x="1750" y="34"/>
                    </a:lnTo>
                    <a:lnTo>
                      <a:pt x="1748" y="33"/>
                    </a:lnTo>
                    <a:lnTo>
                      <a:pt x="1746" y="34"/>
                    </a:lnTo>
                    <a:lnTo>
                      <a:pt x="1745" y="34"/>
                    </a:lnTo>
                    <a:lnTo>
                      <a:pt x="1744" y="36"/>
                    </a:lnTo>
                    <a:lnTo>
                      <a:pt x="1743" y="37"/>
                    </a:lnTo>
                    <a:lnTo>
                      <a:pt x="1725" y="37"/>
                    </a:lnTo>
                    <a:lnTo>
                      <a:pt x="1725" y="36"/>
                    </a:lnTo>
                    <a:lnTo>
                      <a:pt x="1724" y="34"/>
                    </a:lnTo>
                    <a:lnTo>
                      <a:pt x="1723" y="34"/>
                    </a:lnTo>
                    <a:lnTo>
                      <a:pt x="1721" y="33"/>
                    </a:lnTo>
                    <a:lnTo>
                      <a:pt x="1719" y="34"/>
                    </a:lnTo>
                    <a:lnTo>
                      <a:pt x="1718" y="34"/>
                    </a:lnTo>
                    <a:lnTo>
                      <a:pt x="1717" y="36"/>
                    </a:lnTo>
                    <a:lnTo>
                      <a:pt x="1716" y="37"/>
                    </a:lnTo>
                    <a:lnTo>
                      <a:pt x="1705" y="37"/>
                    </a:lnTo>
                    <a:lnTo>
                      <a:pt x="1704" y="36"/>
                    </a:lnTo>
                    <a:lnTo>
                      <a:pt x="1704" y="34"/>
                    </a:lnTo>
                    <a:lnTo>
                      <a:pt x="1702" y="34"/>
                    </a:lnTo>
                    <a:lnTo>
                      <a:pt x="1700" y="33"/>
                    </a:lnTo>
                    <a:lnTo>
                      <a:pt x="1699" y="34"/>
                    </a:lnTo>
                    <a:lnTo>
                      <a:pt x="1697" y="34"/>
                    </a:lnTo>
                    <a:lnTo>
                      <a:pt x="1696" y="36"/>
                    </a:lnTo>
                    <a:lnTo>
                      <a:pt x="1696" y="37"/>
                    </a:lnTo>
                    <a:lnTo>
                      <a:pt x="1683" y="37"/>
                    </a:lnTo>
                    <a:lnTo>
                      <a:pt x="1682" y="36"/>
                    </a:lnTo>
                    <a:lnTo>
                      <a:pt x="1682" y="34"/>
                    </a:lnTo>
                    <a:lnTo>
                      <a:pt x="1680" y="34"/>
                    </a:lnTo>
                    <a:lnTo>
                      <a:pt x="1678" y="33"/>
                    </a:lnTo>
                    <a:lnTo>
                      <a:pt x="1677" y="34"/>
                    </a:lnTo>
                    <a:lnTo>
                      <a:pt x="1675" y="34"/>
                    </a:lnTo>
                    <a:lnTo>
                      <a:pt x="1674" y="36"/>
                    </a:lnTo>
                    <a:lnTo>
                      <a:pt x="1674" y="37"/>
                    </a:lnTo>
                    <a:lnTo>
                      <a:pt x="1657" y="37"/>
                    </a:lnTo>
                    <a:lnTo>
                      <a:pt x="1657" y="36"/>
                    </a:lnTo>
                    <a:lnTo>
                      <a:pt x="1656" y="34"/>
                    </a:lnTo>
                    <a:lnTo>
                      <a:pt x="1654" y="34"/>
                    </a:lnTo>
                    <a:lnTo>
                      <a:pt x="1653" y="33"/>
                    </a:lnTo>
                    <a:lnTo>
                      <a:pt x="1651" y="34"/>
                    </a:lnTo>
                    <a:lnTo>
                      <a:pt x="1649" y="34"/>
                    </a:lnTo>
                    <a:lnTo>
                      <a:pt x="1648" y="36"/>
                    </a:lnTo>
                    <a:lnTo>
                      <a:pt x="1648" y="37"/>
                    </a:lnTo>
                    <a:lnTo>
                      <a:pt x="1638" y="37"/>
                    </a:lnTo>
                    <a:lnTo>
                      <a:pt x="1637" y="36"/>
                    </a:lnTo>
                    <a:lnTo>
                      <a:pt x="1636" y="34"/>
                    </a:lnTo>
                    <a:lnTo>
                      <a:pt x="1635" y="34"/>
                    </a:lnTo>
                    <a:lnTo>
                      <a:pt x="1633" y="33"/>
                    </a:lnTo>
                    <a:lnTo>
                      <a:pt x="1631" y="34"/>
                    </a:lnTo>
                    <a:lnTo>
                      <a:pt x="1630" y="34"/>
                    </a:lnTo>
                    <a:lnTo>
                      <a:pt x="1629" y="36"/>
                    </a:lnTo>
                    <a:lnTo>
                      <a:pt x="1629" y="37"/>
                    </a:lnTo>
                    <a:lnTo>
                      <a:pt x="1605" y="37"/>
                    </a:lnTo>
                    <a:lnTo>
                      <a:pt x="1605" y="36"/>
                    </a:lnTo>
                    <a:lnTo>
                      <a:pt x="1604" y="34"/>
                    </a:lnTo>
                    <a:lnTo>
                      <a:pt x="1602" y="34"/>
                    </a:lnTo>
                    <a:lnTo>
                      <a:pt x="1601" y="33"/>
                    </a:lnTo>
                    <a:lnTo>
                      <a:pt x="1599" y="34"/>
                    </a:lnTo>
                    <a:lnTo>
                      <a:pt x="1597" y="34"/>
                    </a:lnTo>
                    <a:lnTo>
                      <a:pt x="1597" y="36"/>
                    </a:lnTo>
                    <a:lnTo>
                      <a:pt x="1596" y="37"/>
                    </a:lnTo>
                    <a:lnTo>
                      <a:pt x="1563" y="37"/>
                    </a:lnTo>
                    <a:lnTo>
                      <a:pt x="1563" y="36"/>
                    </a:lnTo>
                    <a:lnTo>
                      <a:pt x="1562" y="34"/>
                    </a:lnTo>
                    <a:lnTo>
                      <a:pt x="1560" y="34"/>
                    </a:lnTo>
                    <a:lnTo>
                      <a:pt x="1559" y="33"/>
                    </a:lnTo>
                    <a:lnTo>
                      <a:pt x="1557" y="34"/>
                    </a:lnTo>
                    <a:lnTo>
                      <a:pt x="1555" y="34"/>
                    </a:lnTo>
                    <a:lnTo>
                      <a:pt x="1554" y="36"/>
                    </a:lnTo>
                    <a:lnTo>
                      <a:pt x="1554" y="37"/>
                    </a:lnTo>
                    <a:lnTo>
                      <a:pt x="1316" y="37"/>
                    </a:lnTo>
                    <a:lnTo>
                      <a:pt x="1315" y="36"/>
                    </a:lnTo>
                    <a:lnTo>
                      <a:pt x="1314" y="34"/>
                    </a:lnTo>
                    <a:lnTo>
                      <a:pt x="1313" y="34"/>
                    </a:lnTo>
                    <a:lnTo>
                      <a:pt x="1311" y="33"/>
                    </a:lnTo>
                    <a:lnTo>
                      <a:pt x="1310" y="34"/>
                    </a:lnTo>
                    <a:lnTo>
                      <a:pt x="1308" y="34"/>
                    </a:lnTo>
                    <a:lnTo>
                      <a:pt x="1307" y="36"/>
                    </a:lnTo>
                    <a:lnTo>
                      <a:pt x="1307" y="37"/>
                    </a:lnTo>
                    <a:lnTo>
                      <a:pt x="1293" y="37"/>
                    </a:lnTo>
                    <a:lnTo>
                      <a:pt x="1293" y="36"/>
                    </a:lnTo>
                    <a:lnTo>
                      <a:pt x="1292" y="34"/>
                    </a:lnTo>
                    <a:lnTo>
                      <a:pt x="1290" y="34"/>
                    </a:lnTo>
                    <a:lnTo>
                      <a:pt x="1289" y="33"/>
                    </a:lnTo>
                    <a:lnTo>
                      <a:pt x="1287" y="34"/>
                    </a:lnTo>
                    <a:lnTo>
                      <a:pt x="1286" y="34"/>
                    </a:lnTo>
                    <a:lnTo>
                      <a:pt x="1285" y="36"/>
                    </a:lnTo>
                    <a:lnTo>
                      <a:pt x="1284" y="37"/>
                    </a:lnTo>
                    <a:lnTo>
                      <a:pt x="1263" y="37"/>
                    </a:lnTo>
                    <a:lnTo>
                      <a:pt x="1263" y="36"/>
                    </a:lnTo>
                    <a:lnTo>
                      <a:pt x="1261" y="34"/>
                    </a:lnTo>
                    <a:lnTo>
                      <a:pt x="1260" y="34"/>
                    </a:lnTo>
                    <a:lnTo>
                      <a:pt x="1258" y="33"/>
                    </a:lnTo>
                    <a:lnTo>
                      <a:pt x="1257" y="34"/>
                    </a:lnTo>
                    <a:lnTo>
                      <a:pt x="1255" y="34"/>
                    </a:lnTo>
                    <a:lnTo>
                      <a:pt x="1254" y="36"/>
                    </a:lnTo>
                    <a:lnTo>
                      <a:pt x="1254" y="37"/>
                    </a:lnTo>
                    <a:lnTo>
                      <a:pt x="1242" y="37"/>
                    </a:lnTo>
                    <a:lnTo>
                      <a:pt x="1241" y="36"/>
                    </a:lnTo>
                    <a:lnTo>
                      <a:pt x="1240" y="34"/>
                    </a:lnTo>
                    <a:lnTo>
                      <a:pt x="1239" y="34"/>
                    </a:lnTo>
                    <a:lnTo>
                      <a:pt x="1237" y="33"/>
                    </a:lnTo>
                    <a:lnTo>
                      <a:pt x="1235" y="34"/>
                    </a:lnTo>
                    <a:lnTo>
                      <a:pt x="1234" y="34"/>
                    </a:lnTo>
                    <a:lnTo>
                      <a:pt x="1233" y="36"/>
                    </a:lnTo>
                    <a:lnTo>
                      <a:pt x="1232" y="37"/>
                    </a:lnTo>
                    <a:lnTo>
                      <a:pt x="1198" y="37"/>
                    </a:lnTo>
                    <a:lnTo>
                      <a:pt x="1198" y="36"/>
                    </a:lnTo>
                    <a:lnTo>
                      <a:pt x="1197" y="34"/>
                    </a:lnTo>
                    <a:lnTo>
                      <a:pt x="1196" y="34"/>
                    </a:lnTo>
                    <a:lnTo>
                      <a:pt x="1194" y="33"/>
                    </a:lnTo>
                    <a:lnTo>
                      <a:pt x="1192" y="34"/>
                    </a:lnTo>
                    <a:lnTo>
                      <a:pt x="1191" y="34"/>
                    </a:lnTo>
                    <a:lnTo>
                      <a:pt x="1190" y="36"/>
                    </a:lnTo>
                    <a:lnTo>
                      <a:pt x="1189" y="37"/>
                    </a:lnTo>
                    <a:lnTo>
                      <a:pt x="1132" y="37"/>
                    </a:lnTo>
                    <a:lnTo>
                      <a:pt x="1132" y="36"/>
                    </a:lnTo>
                    <a:lnTo>
                      <a:pt x="1131" y="34"/>
                    </a:lnTo>
                    <a:lnTo>
                      <a:pt x="1129" y="34"/>
                    </a:lnTo>
                    <a:lnTo>
                      <a:pt x="1128" y="33"/>
                    </a:lnTo>
                    <a:lnTo>
                      <a:pt x="1126" y="34"/>
                    </a:lnTo>
                    <a:lnTo>
                      <a:pt x="1124" y="34"/>
                    </a:lnTo>
                    <a:lnTo>
                      <a:pt x="1124" y="36"/>
                    </a:lnTo>
                    <a:lnTo>
                      <a:pt x="1123" y="37"/>
                    </a:lnTo>
                    <a:lnTo>
                      <a:pt x="1110" y="37"/>
                    </a:lnTo>
                    <a:lnTo>
                      <a:pt x="1110" y="36"/>
                    </a:lnTo>
                    <a:lnTo>
                      <a:pt x="1109" y="34"/>
                    </a:lnTo>
                    <a:lnTo>
                      <a:pt x="1108" y="34"/>
                    </a:lnTo>
                    <a:lnTo>
                      <a:pt x="1106" y="33"/>
                    </a:lnTo>
                    <a:lnTo>
                      <a:pt x="1104" y="34"/>
                    </a:lnTo>
                    <a:lnTo>
                      <a:pt x="1103" y="34"/>
                    </a:lnTo>
                    <a:lnTo>
                      <a:pt x="1102" y="36"/>
                    </a:lnTo>
                    <a:lnTo>
                      <a:pt x="1101" y="37"/>
                    </a:lnTo>
                    <a:lnTo>
                      <a:pt x="1032" y="37"/>
                    </a:lnTo>
                    <a:lnTo>
                      <a:pt x="1032" y="36"/>
                    </a:lnTo>
                    <a:lnTo>
                      <a:pt x="1031" y="34"/>
                    </a:lnTo>
                    <a:lnTo>
                      <a:pt x="1030" y="34"/>
                    </a:lnTo>
                    <a:lnTo>
                      <a:pt x="1028" y="33"/>
                    </a:lnTo>
                    <a:lnTo>
                      <a:pt x="1026" y="34"/>
                    </a:lnTo>
                    <a:lnTo>
                      <a:pt x="1025" y="34"/>
                    </a:lnTo>
                    <a:lnTo>
                      <a:pt x="1024" y="36"/>
                    </a:lnTo>
                    <a:lnTo>
                      <a:pt x="1023" y="37"/>
                    </a:lnTo>
                    <a:lnTo>
                      <a:pt x="963" y="37"/>
                    </a:lnTo>
                    <a:lnTo>
                      <a:pt x="963" y="36"/>
                    </a:lnTo>
                    <a:lnTo>
                      <a:pt x="961" y="34"/>
                    </a:lnTo>
                    <a:lnTo>
                      <a:pt x="960" y="34"/>
                    </a:lnTo>
                    <a:lnTo>
                      <a:pt x="958" y="33"/>
                    </a:lnTo>
                    <a:lnTo>
                      <a:pt x="957" y="34"/>
                    </a:lnTo>
                    <a:lnTo>
                      <a:pt x="955" y="34"/>
                    </a:lnTo>
                    <a:lnTo>
                      <a:pt x="954" y="36"/>
                    </a:lnTo>
                    <a:lnTo>
                      <a:pt x="954" y="37"/>
                    </a:lnTo>
                    <a:lnTo>
                      <a:pt x="928" y="37"/>
                    </a:lnTo>
                    <a:lnTo>
                      <a:pt x="928" y="36"/>
                    </a:lnTo>
                    <a:lnTo>
                      <a:pt x="927" y="34"/>
                    </a:lnTo>
                    <a:lnTo>
                      <a:pt x="925" y="34"/>
                    </a:lnTo>
                    <a:lnTo>
                      <a:pt x="924" y="33"/>
                    </a:lnTo>
                    <a:lnTo>
                      <a:pt x="922" y="34"/>
                    </a:lnTo>
                    <a:lnTo>
                      <a:pt x="920" y="34"/>
                    </a:lnTo>
                    <a:lnTo>
                      <a:pt x="919" y="36"/>
                    </a:lnTo>
                    <a:lnTo>
                      <a:pt x="919" y="37"/>
                    </a:lnTo>
                    <a:lnTo>
                      <a:pt x="893" y="37"/>
                    </a:lnTo>
                    <a:lnTo>
                      <a:pt x="893" y="36"/>
                    </a:lnTo>
                    <a:lnTo>
                      <a:pt x="892" y="34"/>
                    </a:lnTo>
                    <a:lnTo>
                      <a:pt x="890" y="34"/>
                    </a:lnTo>
                    <a:lnTo>
                      <a:pt x="889" y="33"/>
                    </a:lnTo>
                    <a:lnTo>
                      <a:pt x="887" y="34"/>
                    </a:lnTo>
                    <a:lnTo>
                      <a:pt x="886" y="34"/>
                    </a:lnTo>
                    <a:lnTo>
                      <a:pt x="885" y="36"/>
                    </a:lnTo>
                    <a:lnTo>
                      <a:pt x="884" y="37"/>
                    </a:lnTo>
                    <a:lnTo>
                      <a:pt x="859" y="37"/>
                    </a:lnTo>
                    <a:lnTo>
                      <a:pt x="858" y="36"/>
                    </a:lnTo>
                    <a:lnTo>
                      <a:pt x="857" y="34"/>
                    </a:lnTo>
                    <a:lnTo>
                      <a:pt x="856" y="34"/>
                    </a:lnTo>
                    <a:lnTo>
                      <a:pt x="854" y="33"/>
                    </a:lnTo>
                    <a:lnTo>
                      <a:pt x="852" y="34"/>
                    </a:lnTo>
                    <a:lnTo>
                      <a:pt x="851" y="34"/>
                    </a:lnTo>
                    <a:lnTo>
                      <a:pt x="850" y="36"/>
                    </a:lnTo>
                    <a:lnTo>
                      <a:pt x="850" y="37"/>
                    </a:lnTo>
                    <a:lnTo>
                      <a:pt x="817" y="37"/>
                    </a:lnTo>
                    <a:lnTo>
                      <a:pt x="816" y="35"/>
                    </a:lnTo>
                    <a:lnTo>
                      <a:pt x="815" y="34"/>
                    </a:lnTo>
                    <a:lnTo>
                      <a:pt x="814" y="32"/>
                    </a:lnTo>
                    <a:lnTo>
                      <a:pt x="812" y="31"/>
                    </a:lnTo>
                    <a:lnTo>
                      <a:pt x="810" y="31"/>
                    </a:lnTo>
                    <a:lnTo>
                      <a:pt x="808" y="31"/>
                    </a:lnTo>
                    <a:lnTo>
                      <a:pt x="805" y="31"/>
                    </a:lnTo>
                    <a:lnTo>
                      <a:pt x="804" y="32"/>
                    </a:lnTo>
                    <a:lnTo>
                      <a:pt x="802" y="34"/>
                    </a:lnTo>
                    <a:lnTo>
                      <a:pt x="801" y="35"/>
                    </a:lnTo>
                    <a:lnTo>
                      <a:pt x="801" y="37"/>
                    </a:lnTo>
                    <a:lnTo>
                      <a:pt x="760" y="37"/>
                    </a:lnTo>
                    <a:lnTo>
                      <a:pt x="759" y="35"/>
                    </a:lnTo>
                    <a:lnTo>
                      <a:pt x="758" y="34"/>
                    </a:lnTo>
                    <a:lnTo>
                      <a:pt x="757" y="32"/>
                    </a:lnTo>
                    <a:lnTo>
                      <a:pt x="755" y="31"/>
                    </a:lnTo>
                    <a:lnTo>
                      <a:pt x="753" y="31"/>
                    </a:lnTo>
                    <a:lnTo>
                      <a:pt x="751" y="31"/>
                    </a:lnTo>
                    <a:lnTo>
                      <a:pt x="749" y="31"/>
                    </a:lnTo>
                    <a:lnTo>
                      <a:pt x="747" y="32"/>
                    </a:lnTo>
                    <a:lnTo>
                      <a:pt x="745" y="34"/>
                    </a:lnTo>
                    <a:lnTo>
                      <a:pt x="744" y="35"/>
                    </a:lnTo>
                    <a:lnTo>
                      <a:pt x="744" y="37"/>
                    </a:lnTo>
                    <a:lnTo>
                      <a:pt x="739" y="37"/>
                    </a:lnTo>
                    <a:lnTo>
                      <a:pt x="739" y="35"/>
                    </a:lnTo>
                    <a:lnTo>
                      <a:pt x="738" y="34"/>
                    </a:lnTo>
                    <a:lnTo>
                      <a:pt x="737" y="32"/>
                    </a:lnTo>
                    <a:lnTo>
                      <a:pt x="735" y="31"/>
                    </a:lnTo>
                    <a:lnTo>
                      <a:pt x="733" y="31"/>
                    </a:lnTo>
                    <a:lnTo>
                      <a:pt x="731" y="31"/>
                    </a:lnTo>
                    <a:lnTo>
                      <a:pt x="728" y="31"/>
                    </a:lnTo>
                    <a:lnTo>
                      <a:pt x="726" y="32"/>
                    </a:lnTo>
                    <a:lnTo>
                      <a:pt x="725" y="34"/>
                    </a:lnTo>
                    <a:lnTo>
                      <a:pt x="724" y="35"/>
                    </a:lnTo>
                    <a:lnTo>
                      <a:pt x="724" y="37"/>
                    </a:lnTo>
                    <a:lnTo>
                      <a:pt x="709" y="37"/>
                    </a:lnTo>
                    <a:lnTo>
                      <a:pt x="709" y="36"/>
                    </a:lnTo>
                    <a:lnTo>
                      <a:pt x="708" y="34"/>
                    </a:lnTo>
                    <a:lnTo>
                      <a:pt x="706" y="34"/>
                    </a:lnTo>
                    <a:lnTo>
                      <a:pt x="705" y="33"/>
                    </a:lnTo>
                    <a:lnTo>
                      <a:pt x="703" y="34"/>
                    </a:lnTo>
                    <a:lnTo>
                      <a:pt x="701" y="34"/>
                    </a:lnTo>
                    <a:lnTo>
                      <a:pt x="700" y="36"/>
                    </a:lnTo>
                    <a:lnTo>
                      <a:pt x="700" y="37"/>
                    </a:lnTo>
                    <a:lnTo>
                      <a:pt x="696" y="37"/>
                    </a:lnTo>
                    <a:lnTo>
                      <a:pt x="695" y="36"/>
                    </a:lnTo>
                    <a:lnTo>
                      <a:pt x="694" y="34"/>
                    </a:lnTo>
                    <a:lnTo>
                      <a:pt x="693" y="34"/>
                    </a:lnTo>
                    <a:lnTo>
                      <a:pt x="691" y="33"/>
                    </a:lnTo>
                    <a:lnTo>
                      <a:pt x="689" y="34"/>
                    </a:lnTo>
                    <a:lnTo>
                      <a:pt x="688" y="34"/>
                    </a:lnTo>
                    <a:lnTo>
                      <a:pt x="687" y="36"/>
                    </a:lnTo>
                    <a:lnTo>
                      <a:pt x="687" y="37"/>
                    </a:lnTo>
                    <a:lnTo>
                      <a:pt x="677" y="37"/>
                    </a:lnTo>
                    <a:lnTo>
                      <a:pt x="676" y="36"/>
                    </a:lnTo>
                    <a:lnTo>
                      <a:pt x="675" y="34"/>
                    </a:lnTo>
                    <a:lnTo>
                      <a:pt x="674" y="34"/>
                    </a:lnTo>
                    <a:lnTo>
                      <a:pt x="672" y="33"/>
                    </a:lnTo>
                    <a:lnTo>
                      <a:pt x="671" y="34"/>
                    </a:lnTo>
                    <a:lnTo>
                      <a:pt x="669" y="34"/>
                    </a:lnTo>
                    <a:lnTo>
                      <a:pt x="668" y="36"/>
                    </a:lnTo>
                    <a:lnTo>
                      <a:pt x="668" y="37"/>
                    </a:lnTo>
                    <a:lnTo>
                      <a:pt x="659" y="37"/>
                    </a:lnTo>
                    <a:lnTo>
                      <a:pt x="658" y="36"/>
                    </a:lnTo>
                    <a:lnTo>
                      <a:pt x="657" y="34"/>
                    </a:lnTo>
                    <a:lnTo>
                      <a:pt x="656" y="34"/>
                    </a:lnTo>
                    <a:lnTo>
                      <a:pt x="654" y="33"/>
                    </a:lnTo>
                    <a:lnTo>
                      <a:pt x="653" y="34"/>
                    </a:lnTo>
                    <a:lnTo>
                      <a:pt x="651" y="34"/>
                    </a:lnTo>
                    <a:lnTo>
                      <a:pt x="650" y="36"/>
                    </a:lnTo>
                    <a:lnTo>
                      <a:pt x="650" y="37"/>
                    </a:lnTo>
                    <a:lnTo>
                      <a:pt x="631" y="37"/>
                    </a:lnTo>
                    <a:lnTo>
                      <a:pt x="631" y="36"/>
                    </a:lnTo>
                    <a:lnTo>
                      <a:pt x="630" y="34"/>
                    </a:lnTo>
                    <a:lnTo>
                      <a:pt x="629" y="34"/>
                    </a:lnTo>
                    <a:lnTo>
                      <a:pt x="627" y="33"/>
                    </a:lnTo>
                    <a:lnTo>
                      <a:pt x="625" y="34"/>
                    </a:lnTo>
                    <a:lnTo>
                      <a:pt x="624" y="34"/>
                    </a:lnTo>
                    <a:lnTo>
                      <a:pt x="623" y="36"/>
                    </a:lnTo>
                    <a:lnTo>
                      <a:pt x="622" y="37"/>
                    </a:lnTo>
                    <a:lnTo>
                      <a:pt x="604" y="37"/>
                    </a:lnTo>
                    <a:lnTo>
                      <a:pt x="603" y="36"/>
                    </a:lnTo>
                    <a:lnTo>
                      <a:pt x="602" y="34"/>
                    </a:lnTo>
                    <a:lnTo>
                      <a:pt x="601" y="34"/>
                    </a:lnTo>
                    <a:lnTo>
                      <a:pt x="599" y="33"/>
                    </a:lnTo>
                    <a:lnTo>
                      <a:pt x="597" y="34"/>
                    </a:lnTo>
                    <a:lnTo>
                      <a:pt x="596" y="34"/>
                    </a:lnTo>
                    <a:lnTo>
                      <a:pt x="595" y="36"/>
                    </a:lnTo>
                    <a:lnTo>
                      <a:pt x="595" y="37"/>
                    </a:lnTo>
                    <a:lnTo>
                      <a:pt x="537" y="37"/>
                    </a:lnTo>
                    <a:lnTo>
                      <a:pt x="536" y="36"/>
                    </a:lnTo>
                    <a:lnTo>
                      <a:pt x="535" y="34"/>
                    </a:lnTo>
                    <a:lnTo>
                      <a:pt x="534" y="34"/>
                    </a:lnTo>
                    <a:lnTo>
                      <a:pt x="532" y="33"/>
                    </a:lnTo>
                    <a:lnTo>
                      <a:pt x="531" y="34"/>
                    </a:lnTo>
                    <a:lnTo>
                      <a:pt x="529" y="34"/>
                    </a:lnTo>
                    <a:lnTo>
                      <a:pt x="528" y="36"/>
                    </a:lnTo>
                    <a:lnTo>
                      <a:pt x="528" y="37"/>
                    </a:lnTo>
                    <a:lnTo>
                      <a:pt x="503" y="37"/>
                    </a:lnTo>
                    <a:lnTo>
                      <a:pt x="503" y="36"/>
                    </a:lnTo>
                    <a:lnTo>
                      <a:pt x="502" y="34"/>
                    </a:lnTo>
                    <a:lnTo>
                      <a:pt x="501" y="34"/>
                    </a:lnTo>
                    <a:lnTo>
                      <a:pt x="499" y="33"/>
                    </a:lnTo>
                    <a:lnTo>
                      <a:pt x="497" y="34"/>
                    </a:lnTo>
                    <a:lnTo>
                      <a:pt x="496" y="34"/>
                    </a:lnTo>
                    <a:lnTo>
                      <a:pt x="495" y="36"/>
                    </a:lnTo>
                    <a:lnTo>
                      <a:pt x="494" y="37"/>
                    </a:lnTo>
                    <a:lnTo>
                      <a:pt x="487" y="37"/>
                    </a:lnTo>
                    <a:lnTo>
                      <a:pt x="487" y="36"/>
                    </a:lnTo>
                    <a:lnTo>
                      <a:pt x="486" y="34"/>
                    </a:lnTo>
                    <a:lnTo>
                      <a:pt x="484" y="34"/>
                    </a:lnTo>
                    <a:lnTo>
                      <a:pt x="482" y="33"/>
                    </a:lnTo>
                    <a:lnTo>
                      <a:pt x="481" y="34"/>
                    </a:lnTo>
                    <a:lnTo>
                      <a:pt x="479" y="34"/>
                    </a:lnTo>
                    <a:lnTo>
                      <a:pt x="478" y="36"/>
                    </a:lnTo>
                    <a:lnTo>
                      <a:pt x="478" y="37"/>
                    </a:lnTo>
                    <a:lnTo>
                      <a:pt x="458" y="37"/>
                    </a:lnTo>
                    <a:lnTo>
                      <a:pt x="458" y="36"/>
                    </a:lnTo>
                    <a:lnTo>
                      <a:pt x="457" y="34"/>
                    </a:lnTo>
                    <a:lnTo>
                      <a:pt x="455" y="34"/>
                    </a:lnTo>
                    <a:lnTo>
                      <a:pt x="453" y="33"/>
                    </a:lnTo>
                    <a:lnTo>
                      <a:pt x="452" y="34"/>
                    </a:lnTo>
                    <a:lnTo>
                      <a:pt x="450" y="34"/>
                    </a:lnTo>
                    <a:lnTo>
                      <a:pt x="449" y="36"/>
                    </a:lnTo>
                    <a:lnTo>
                      <a:pt x="449" y="37"/>
                    </a:lnTo>
                    <a:lnTo>
                      <a:pt x="443" y="37"/>
                    </a:lnTo>
                    <a:lnTo>
                      <a:pt x="443" y="36"/>
                    </a:lnTo>
                    <a:lnTo>
                      <a:pt x="442" y="34"/>
                    </a:lnTo>
                    <a:lnTo>
                      <a:pt x="440" y="34"/>
                    </a:lnTo>
                    <a:lnTo>
                      <a:pt x="439" y="33"/>
                    </a:lnTo>
                    <a:lnTo>
                      <a:pt x="437" y="34"/>
                    </a:lnTo>
                    <a:lnTo>
                      <a:pt x="435" y="34"/>
                    </a:lnTo>
                    <a:lnTo>
                      <a:pt x="434" y="36"/>
                    </a:lnTo>
                    <a:lnTo>
                      <a:pt x="434" y="37"/>
                    </a:lnTo>
                    <a:lnTo>
                      <a:pt x="421" y="37"/>
                    </a:lnTo>
                    <a:lnTo>
                      <a:pt x="421" y="6"/>
                    </a:lnTo>
                    <a:lnTo>
                      <a:pt x="382" y="6"/>
                    </a:lnTo>
                    <a:lnTo>
                      <a:pt x="381" y="4"/>
                    </a:lnTo>
                    <a:lnTo>
                      <a:pt x="381" y="3"/>
                    </a:lnTo>
                    <a:lnTo>
                      <a:pt x="379" y="2"/>
                    </a:lnTo>
                    <a:lnTo>
                      <a:pt x="377" y="2"/>
                    </a:lnTo>
                    <a:lnTo>
                      <a:pt x="376" y="2"/>
                    </a:lnTo>
                    <a:lnTo>
                      <a:pt x="374" y="3"/>
                    </a:lnTo>
                    <a:lnTo>
                      <a:pt x="373" y="4"/>
                    </a:lnTo>
                    <a:lnTo>
                      <a:pt x="373" y="6"/>
                    </a:lnTo>
                    <a:lnTo>
                      <a:pt x="357" y="6"/>
                    </a:lnTo>
                    <a:lnTo>
                      <a:pt x="357" y="4"/>
                    </a:lnTo>
                    <a:lnTo>
                      <a:pt x="356" y="3"/>
                    </a:lnTo>
                    <a:lnTo>
                      <a:pt x="355" y="2"/>
                    </a:lnTo>
                    <a:lnTo>
                      <a:pt x="353" y="2"/>
                    </a:lnTo>
                    <a:lnTo>
                      <a:pt x="351" y="2"/>
                    </a:lnTo>
                    <a:lnTo>
                      <a:pt x="350" y="3"/>
                    </a:lnTo>
                    <a:lnTo>
                      <a:pt x="349" y="4"/>
                    </a:lnTo>
                    <a:lnTo>
                      <a:pt x="348" y="6"/>
                    </a:lnTo>
                    <a:lnTo>
                      <a:pt x="336" y="6"/>
                    </a:lnTo>
                    <a:lnTo>
                      <a:pt x="335" y="4"/>
                    </a:lnTo>
                    <a:lnTo>
                      <a:pt x="334" y="3"/>
                    </a:lnTo>
                    <a:lnTo>
                      <a:pt x="333" y="2"/>
                    </a:lnTo>
                    <a:lnTo>
                      <a:pt x="331" y="2"/>
                    </a:lnTo>
                    <a:lnTo>
                      <a:pt x="329" y="2"/>
                    </a:lnTo>
                    <a:lnTo>
                      <a:pt x="328" y="3"/>
                    </a:lnTo>
                    <a:lnTo>
                      <a:pt x="327" y="4"/>
                    </a:lnTo>
                    <a:lnTo>
                      <a:pt x="327" y="6"/>
                    </a:lnTo>
                    <a:lnTo>
                      <a:pt x="248" y="6"/>
                    </a:lnTo>
                    <a:lnTo>
                      <a:pt x="248" y="4"/>
                    </a:lnTo>
                    <a:lnTo>
                      <a:pt x="247" y="3"/>
                    </a:lnTo>
                    <a:lnTo>
                      <a:pt x="245" y="2"/>
                    </a:lnTo>
                    <a:lnTo>
                      <a:pt x="243" y="2"/>
                    </a:lnTo>
                    <a:lnTo>
                      <a:pt x="242" y="2"/>
                    </a:lnTo>
                    <a:lnTo>
                      <a:pt x="240" y="3"/>
                    </a:lnTo>
                    <a:lnTo>
                      <a:pt x="239" y="4"/>
                    </a:lnTo>
                    <a:lnTo>
                      <a:pt x="239" y="6"/>
                    </a:lnTo>
                    <a:lnTo>
                      <a:pt x="92" y="6"/>
                    </a:lnTo>
                    <a:lnTo>
                      <a:pt x="91" y="4"/>
                    </a:lnTo>
                    <a:lnTo>
                      <a:pt x="91" y="3"/>
                    </a:lnTo>
                    <a:lnTo>
                      <a:pt x="89" y="2"/>
                    </a:lnTo>
                    <a:lnTo>
                      <a:pt x="87" y="2"/>
                    </a:lnTo>
                    <a:lnTo>
                      <a:pt x="86" y="2"/>
                    </a:lnTo>
                    <a:lnTo>
                      <a:pt x="84" y="3"/>
                    </a:lnTo>
                    <a:lnTo>
                      <a:pt x="83" y="4"/>
                    </a:lnTo>
                    <a:lnTo>
                      <a:pt x="83" y="6"/>
                    </a:lnTo>
                    <a:lnTo>
                      <a:pt x="39" y="6"/>
                    </a:lnTo>
                    <a:lnTo>
                      <a:pt x="39" y="4"/>
                    </a:lnTo>
                    <a:lnTo>
                      <a:pt x="38" y="3"/>
                    </a:lnTo>
                    <a:lnTo>
                      <a:pt x="36" y="2"/>
                    </a:lnTo>
                    <a:lnTo>
                      <a:pt x="35" y="2"/>
                    </a:lnTo>
                    <a:lnTo>
                      <a:pt x="33" y="2"/>
                    </a:lnTo>
                    <a:lnTo>
                      <a:pt x="31" y="3"/>
                    </a:lnTo>
                    <a:lnTo>
                      <a:pt x="31" y="4"/>
                    </a:lnTo>
                    <a:lnTo>
                      <a:pt x="30" y="6"/>
                    </a:lnTo>
                    <a:lnTo>
                      <a:pt x="26" y="6"/>
                    </a:lnTo>
                    <a:lnTo>
                      <a:pt x="25" y="4"/>
                    </a:lnTo>
                    <a:lnTo>
                      <a:pt x="24" y="2"/>
                    </a:lnTo>
                    <a:lnTo>
                      <a:pt x="23" y="1"/>
                    </a:lnTo>
                    <a:lnTo>
                      <a:pt x="21" y="0"/>
                    </a:lnTo>
                    <a:lnTo>
                      <a:pt x="19" y="0"/>
                    </a:lnTo>
                    <a:lnTo>
                      <a:pt x="17" y="0"/>
                    </a:lnTo>
                    <a:lnTo>
                      <a:pt x="15" y="0"/>
                    </a:lnTo>
                    <a:lnTo>
                      <a:pt x="13" y="1"/>
                    </a:lnTo>
                    <a:lnTo>
                      <a:pt x="11" y="2"/>
                    </a:lnTo>
                    <a:lnTo>
                      <a:pt x="10" y="4"/>
                    </a:lnTo>
                    <a:lnTo>
                      <a:pt x="10" y="6"/>
                    </a:lnTo>
                    <a:lnTo>
                      <a:pt x="0" y="6"/>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8152560" y="33292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7" name=""/>
              <p:cNvSpPr/>
              <p:nvPr/>
            </p:nvSpPr>
            <p:spPr>
              <a:xfrm>
                <a:off x="5049720" y="3466800"/>
                <a:ext cx="3443760" cy="374040"/>
              </a:xfrm>
              <a:custGeom>
                <a:avLst/>
                <a:gdLst/>
                <a:ahLst/>
                <a:rect l="l" t="t" r="r" b="b"/>
                <a:pathLst>
                  <a:path w="3253" h="280">
                    <a:moveTo>
                      <a:pt x="0" y="280"/>
                    </a:moveTo>
                    <a:lnTo>
                      <a:pt x="0" y="161"/>
                    </a:lnTo>
                    <a:lnTo>
                      <a:pt x="12" y="161"/>
                    </a:lnTo>
                    <a:lnTo>
                      <a:pt x="13" y="160"/>
                    </a:lnTo>
                    <a:lnTo>
                      <a:pt x="14" y="159"/>
                    </a:lnTo>
                    <a:lnTo>
                      <a:pt x="15" y="158"/>
                    </a:lnTo>
                    <a:lnTo>
                      <a:pt x="17" y="158"/>
                    </a:lnTo>
                    <a:lnTo>
                      <a:pt x="19" y="158"/>
                    </a:lnTo>
                    <a:lnTo>
                      <a:pt x="20" y="159"/>
                    </a:lnTo>
                    <a:lnTo>
                      <a:pt x="21" y="160"/>
                    </a:lnTo>
                    <a:lnTo>
                      <a:pt x="21" y="161"/>
                    </a:lnTo>
                    <a:lnTo>
                      <a:pt x="27" y="161"/>
                    </a:lnTo>
                    <a:lnTo>
                      <a:pt x="27" y="160"/>
                    </a:lnTo>
                    <a:lnTo>
                      <a:pt x="28" y="159"/>
                    </a:lnTo>
                    <a:lnTo>
                      <a:pt x="29" y="158"/>
                    </a:lnTo>
                    <a:lnTo>
                      <a:pt x="31" y="158"/>
                    </a:lnTo>
                    <a:lnTo>
                      <a:pt x="33" y="158"/>
                    </a:lnTo>
                    <a:lnTo>
                      <a:pt x="34" y="159"/>
                    </a:lnTo>
                    <a:lnTo>
                      <a:pt x="35" y="160"/>
                    </a:lnTo>
                    <a:lnTo>
                      <a:pt x="35" y="161"/>
                    </a:lnTo>
                    <a:lnTo>
                      <a:pt x="45" y="161"/>
                    </a:lnTo>
                    <a:lnTo>
                      <a:pt x="45" y="159"/>
                    </a:lnTo>
                    <a:lnTo>
                      <a:pt x="46" y="158"/>
                    </a:lnTo>
                    <a:lnTo>
                      <a:pt x="48" y="156"/>
                    </a:lnTo>
                    <a:lnTo>
                      <a:pt x="50" y="155"/>
                    </a:lnTo>
                    <a:lnTo>
                      <a:pt x="52" y="155"/>
                    </a:lnTo>
                    <a:lnTo>
                      <a:pt x="55" y="155"/>
                    </a:lnTo>
                    <a:lnTo>
                      <a:pt x="57" y="155"/>
                    </a:lnTo>
                    <a:lnTo>
                      <a:pt x="59" y="156"/>
                    </a:lnTo>
                    <a:lnTo>
                      <a:pt x="60" y="158"/>
                    </a:lnTo>
                    <a:lnTo>
                      <a:pt x="61" y="159"/>
                    </a:lnTo>
                    <a:lnTo>
                      <a:pt x="62" y="161"/>
                    </a:lnTo>
                    <a:lnTo>
                      <a:pt x="81" y="161"/>
                    </a:lnTo>
                    <a:lnTo>
                      <a:pt x="81" y="160"/>
                    </a:lnTo>
                    <a:lnTo>
                      <a:pt x="82" y="159"/>
                    </a:lnTo>
                    <a:lnTo>
                      <a:pt x="83" y="158"/>
                    </a:lnTo>
                    <a:lnTo>
                      <a:pt x="85" y="158"/>
                    </a:lnTo>
                    <a:lnTo>
                      <a:pt x="87" y="158"/>
                    </a:lnTo>
                    <a:lnTo>
                      <a:pt x="88" y="159"/>
                    </a:lnTo>
                    <a:lnTo>
                      <a:pt x="89" y="160"/>
                    </a:lnTo>
                    <a:lnTo>
                      <a:pt x="90" y="161"/>
                    </a:lnTo>
                    <a:lnTo>
                      <a:pt x="90" y="161"/>
                    </a:lnTo>
                    <a:lnTo>
                      <a:pt x="90" y="160"/>
                    </a:lnTo>
                    <a:lnTo>
                      <a:pt x="91" y="159"/>
                    </a:lnTo>
                    <a:lnTo>
                      <a:pt x="92" y="158"/>
                    </a:lnTo>
                    <a:lnTo>
                      <a:pt x="94" y="158"/>
                    </a:lnTo>
                    <a:lnTo>
                      <a:pt x="96" y="158"/>
                    </a:lnTo>
                    <a:lnTo>
                      <a:pt x="97" y="159"/>
                    </a:lnTo>
                    <a:lnTo>
                      <a:pt x="98" y="160"/>
                    </a:lnTo>
                    <a:lnTo>
                      <a:pt x="99" y="161"/>
                    </a:lnTo>
                    <a:lnTo>
                      <a:pt x="106" y="161"/>
                    </a:lnTo>
                    <a:lnTo>
                      <a:pt x="106" y="160"/>
                    </a:lnTo>
                    <a:lnTo>
                      <a:pt x="107" y="159"/>
                    </a:lnTo>
                    <a:lnTo>
                      <a:pt x="109" y="158"/>
                    </a:lnTo>
                    <a:lnTo>
                      <a:pt x="110" y="158"/>
                    </a:lnTo>
                    <a:lnTo>
                      <a:pt x="112" y="158"/>
                    </a:lnTo>
                    <a:lnTo>
                      <a:pt x="113" y="159"/>
                    </a:lnTo>
                    <a:lnTo>
                      <a:pt x="115" y="160"/>
                    </a:lnTo>
                    <a:lnTo>
                      <a:pt x="115" y="161"/>
                    </a:lnTo>
                    <a:lnTo>
                      <a:pt x="121" y="161"/>
                    </a:lnTo>
                    <a:lnTo>
                      <a:pt x="121" y="160"/>
                    </a:lnTo>
                    <a:lnTo>
                      <a:pt x="122" y="159"/>
                    </a:lnTo>
                    <a:lnTo>
                      <a:pt x="124" y="158"/>
                    </a:lnTo>
                    <a:lnTo>
                      <a:pt x="126" y="158"/>
                    </a:lnTo>
                    <a:lnTo>
                      <a:pt x="127" y="158"/>
                    </a:lnTo>
                    <a:lnTo>
                      <a:pt x="129" y="159"/>
                    </a:lnTo>
                    <a:lnTo>
                      <a:pt x="130" y="160"/>
                    </a:lnTo>
                    <a:lnTo>
                      <a:pt x="130" y="161"/>
                    </a:lnTo>
                    <a:lnTo>
                      <a:pt x="139" y="161"/>
                    </a:lnTo>
                    <a:lnTo>
                      <a:pt x="139" y="160"/>
                    </a:lnTo>
                    <a:lnTo>
                      <a:pt x="140" y="159"/>
                    </a:lnTo>
                    <a:lnTo>
                      <a:pt x="141" y="158"/>
                    </a:lnTo>
                    <a:lnTo>
                      <a:pt x="143" y="158"/>
                    </a:lnTo>
                    <a:lnTo>
                      <a:pt x="145" y="158"/>
                    </a:lnTo>
                    <a:lnTo>
                      <a:pt x="146" y="159"/>
                    </a:lnTo>
                    <a:lnTo>
                      <a:pt x="147" y="160"/>
                    </a:lnTo>
                    <a:lnTo>
                      <a:pt x="148" y="161"/>
                    </a:lnTo>
                    <a:lnTo>
                      <a:pt x="168" y="161"/>
                    </a:lnTo>
                    <a:lnTo>
                      <a:pt x="168" y="160"/>
                    </a:lnTo>
                    <a:lnTo>
                      <a:pt x="169" y="159"/>
                    </a:lnTo>
                    <a:lnTo>
                      <a:pt x="171" y="158"/>
                    </a:lnTo>
                    <a:lnTo>
                      <a:pt x="173" y="158"/>
                    </a:lnTo>
                    <a:lnTo>
                      <a:pt x="174" y="158"/>
                    </a:lnTo>
                    <a:lnTo>
                      <a:pt x="176" y="159"/>
                    </a:lnTo>
                    <a:lnTo>
                      <a:pt x="177" y="160"/>
                    </a:lnTo>
                    <a:lnTo>
                      <a:pt x="177" y="161"/>
                    </a:lnTo>
                    <a:lnTo>
                      <a:pt x="229" y="161"/>
                    </a:lnTo>
                    <a:lnTo>
                      <a:pt x="229" y="160"/>
                    </a:lnTo>
                    <a:lnTo>
                      <a:pt x="230" y="159"/>
                    </a:lnTo>
                    <a:lnTo>
                      <a:pt x="232" y="158"/>
                    </a:lnTo>
                    <a:lnTo>
                      <a:pt x="234" y="158"/>
                    </a:lnTo>
                    <a:lnTo>
                      <a:pt x="235" y="158"/>
                    </a:lnTo>
                    <a:lnTo>
                      <a:pt x="237" y="159"/>
                    </a:lnTo>
                    <a:lnTo>
                      <a:pt x="238" y="160"/>
                    </a:lnTo>
                    <a:lnTo>
                      <a:pt x="238" y="161"/>
                    </a:lnTo>
                    <a:lnTo>
                      <a:pt x="256" y="161"/>
                    </a:lnTo>
                    <a:lnTo>
                      <a:pt x="256" y="160"/>
                    </a:lnTo>
                    <a:lnTo>
                      <a:pt x="257" y="159"/>
                    </a:lnTo>
                    <a:lnTo>
                      <a:pt x="259" y="158"/>
                    </a:lnTo>
                    <a:lnTo>
                      <a:pt x="261" y="158"/>
                    </a:lnTo>
                    <a:lnTo>
                      <a:pt x="262" y="158"/>
                    </a:lnTo>
                    <a:lnTo>
                      <a:pt x="264" y="159"/>
                    </a:lnTo>
                    <a:lnTo>
                      <a:pt x="265" y="160"/>
                    </a:lnTo>
                    <a:lnTo>
                      <a:pt x="265" y="161"/>
                    </a:lnTo>
                    <a:lnTo>
                      <a:pt x="284" y="161"/>
                    </a:lnTo>
                    <a:lnTo>
                      <a:pt x="284" y="160"/>
                    </a:lnTo>
                    <a:lnTo>
                      <a:pt x="285" y="159"/>
                    </a:lnTo>
                    <a:lnTo>
                      <a:pt x="287" y="158"/>
                    </a:lnTo>
                    <a:lnTo>
                      <a:pt x="289" y="158"/>
                    </a:lnTo>
                    <a:lnTo>
                      <a:pt x="290" y="158"/>
                    </a:lnTo>
                    <a:lnTo>
                      <a:pt x="292" y="159"/>
                    </a:lnTo>
                    <a:lnTo>
                      <a:pt x="293" y="160"/>
                    </a:lnTo>
                    <a:lnTo>
                      <a:pt x="293" y="161"/>
                    </a:lnTo>
                    <a:lnTo>
                      <a:pt x="297" y="161"/>
                    </a:lnTo>
                    <a:lnTo>
                      <a:pt x="297" y="160"/>
                    </a:lnTo>
                    <a:lnTo>
                      <a:pt x="298" y="159"/>
                    </a:lnTo>
                    <a:lnTo>
                      <a:pt x="299" y="158"/>
                    </a:lnTo>
                    <a:lnTo>
                      <a:pt x="301" y="158"/>
                    </a:lnTo>
                    <a:lnTo>
                      <a:pt x="303" y="158"/>
                    </a:lnTo>
                    <a:lnTo>
                      <a:pt x="304" y="159"/>
                    </a:lnTo>
                    <a:lnTo>
                      <a:pt x="305" y="160"/>
                    </a:lnTo>
                    <a:lnTo>
                      <a:pt x="306" y="161"/>
                    </a:lnTo>
                    <a:lnTo>
                      <a:pt x="310" y="161"/>
                    </a:lnTo>
                    <a:lnTo>
                      <a:pt x="311" y="160"/>
                    </a:lnTo>
                    <a:lnTo>
                      <a:pt x="311" y="159"/>
                    </a:lnTo>
                    <a:lnTo>
                      <a:pt x="313" y="158"/>
                    </a:lnTo>
                    <a:lnTo>
                      <a:pt x="315" y="158"/>
                    </a:lnTo>
                    <a:lnTo>
                      <a:pt x="316" y="158"/>
                    </a:lnTo>
                    <a:lnTo>
                      <a:pt x="318" y="159"/>
                    </a:lnTo>
                    <a:lnTo>
                      <a:pt x="319" y="160"/>
                    </a:lnTo>
                    <a:lnTo>
                      <a:pt x="319" y="161"/>
                    </a:lnTo>
                    <a:lnTo>
                      <a:pt x="322" y="161"/>
                    </a:lnTo>
                    <a:lnTo>
                      <a:pt x="322" y="160"/>
                    </a:lnTo>
                    <a:lnTo>
                      <a:pt x="323" y="159"/>
                    </a:lnTo>
                    <a:lnTo>
                      <a:pt x="325" y="158"/>
                    </a:lnTo>
                    <a:lnTo>
                      <a:pt x="327" y="158"/>
                    </a:lnTo>
                    <a:lnTo>
                      <a:pt x="328" y="158"/>
                    </a:lnTo>
                    <a:lnTo>
                      <a:pt x="330" y="159"/>
                    </a:lnTo>
                    <a:lnTo>
                      <a:pt x="331" y="160"/>
                    </a:lnTo>
                    <a:lnTo>
                      <a:pt x="331" y="161"/>
                    </a:lnTo>
                    <a:lnTo>
                      <a:pt x="342" y="161"/>
                    </a:lnTo>
                    <a:lnTo>
                      <a:pt x="342" y="160"/>
                    </a:lnTo>
                    <a:lnTo>
                      <a:pt x="343" y="159"/>
                    </a:lnTo>
                    <a:lnTo>
                      <a:pt x="345" y="158"/>
                    </a:lnTo>
                    <a:lnTo>
                      <a:pt x="346" y="158"/>
                    </a:lnTo>
                    <a:lnTo>
                      <a:pt x="348" y="158"/>
                    </a:lnTo>
                    <a:lnTo>
                      <a:pt x="350" y="159"/>
                    </a:lnTo>
                    <a:lnTo>
                      <a:pt x="351" y="160"/>
                    </a:lnTo>
                    <a:lnTo>
                      <a:pt x="351" y="161"/>
                    </a:lnTo>
                    <a:lnTo>
                      <a:pt x="353" y="161"/>
                    </a:lnTo>
                    <a:lnTo>
                      <a:pt x="353" y="160"/>
                    </a:lnTo>
                    <a:lnTo>
                      <a:pt x="354" y="159"/>
                    </a:lnTo>
                    <a:lnTo>
                      <a:pt x="356" y="158"/>
                    </a:lnTo>
                    <a:lnTo>
                      <a:pt x="357" y="158"/>
                    </a:lnTo>
                    <a:lnTo>
                      <a:pt x="359" y="158"/>
                    </a:lnTo>
                    <a:lnTo>
                      <a:pt x="361" y="159"/>
                    </a:lnTo>
                    <a:lnTo>
                      <a:pt x="362" y="160"/>
                    </a:lnTo>
                    <a:lnTo>
                      <a:pt x="362" y="161"/>
                    </a:lnTo>
                    <a:lnTo>
                      <a:pt x="363" y="161"/>
                    </a:lnTo>
                    <a:lnTo>
                      <a:pt x="363" y="160"/>
                    </a:lnTo>
                    <a:lnTo>
                      <a:pt x="364" y="159"/>
                    </a:lnTo>
                    <a:lnTo>
                      <a:pt x="365" y="158"/>
                    </a:lnTo>
                    <a:lnTo>
                      <a:pt x="367" y="158"/>
                    </a:lnTo>
                    <a:lnTo>
                      <a:pt x="369" y="158"/>
                    </a:lnTo>
                    <a:lnTo>
                      <a:pt x="370" y="159"/>
                    </a:lnTo>
                    <a:lnTo>
                      <a:pt x="371" y="160"/>
                    </a:lnTo>
                    <a:lnTo>
                      <a:pt x="371" y="161"/>
                    </a:lnTo>
                    <a:lnTo>
                      <a:pt x="373" y="161"/>
                    </a:lnTo>
                    <a:lnTo>
                      <a:pt x="374" y="159"/>
                    </a:lnTo>
                    <a:lnTo>
                      <a:pt x="375" y="158"/>
                    </a:lnTo>
                    <a:lnTo>
                      <a:pt x="376" y="156"/>
                    </a:lnTo>
                    <a:lnTo>
                      <a:pt x="378" y="155"/>
                    </a:lnTo>
                    <a:lnTo>
                      <a:pt x="381" y="155"/>
                    </a:lnTo>
                    <a:lnTo>
                      <a:pt x="383" y="155"/>
                    </a:lnTo>
                    <a:lnTo>
                      <a:pt x="385" y="155"/>
                    </a:lnTo>
                    <a:lnTo>
                      <a:pt x="388" y="156"/>
                    </a:lnTo>
                    <a:lnTo>
                      <a:pt x="389" y="158"/>
                    </a:lnTo>
                    <a:lnTo>
                      <a:pt x="390" y="159"/>
                    </a:lnTo>
                    <a:lnTo>
                      <a:pt x="391" y="161"/>
                    </a:lnTo>
                    <a:lnTo>
                      <a:pt x="395" y="161"/>
                    </a:lnTo>
                    <a:lnTo>
                      <a:pt x="395" y="159"/>
                    </a:lnTo>
                    <a:lnTo>
                      <a:pt x="396" y="158"/>
                    </a:lnTo>
                    <a:lnTo>
                      <a:pt x="398" y="156"/>
                    </a:lnTo>
                    <a:lnTo>
                      <a:pt x="400" y="155"/>
                    </a:lnTo>
                    <a:lnTo>
                      <a:pt x="402" y="155"/>
                    </a:lnTo>
                    <a:lnTo>
                      <a:pt x="404" y="155"/>
                    </a:lnTo>
                    <a:lnTo>
                      <a:pt x="407" y="155"/>
                    </a:lnTo>
                    <a:lnTo>
                      <a:pt x="409" y="156"/>
                    </a:lnTo>
                    <a:lnTo>
                      <a:pt x="410" y="158"/>
                    </a:lnTo>
                    <a:lnTo>
                      <a:pt x="411" y="159"/>
                    </a:lnTo>
                    <a:lnTo>
                      <a:pt x="411" y="161"/>
                    </a:lnTo>
                    <a:lnTo>
                      <a:pt x="426" y="161"/>
                    </a:lnTo>
                    <a:lnTo>
                      <a:pt x="426" y="160"/>
                    </a:lnTo>
                    <a:lnTo>
                      <a:pt x="427" y="159"/>
                    </a:lnTo>
                    <a:lnTo>
                      <a:pt x="429" y="158"/>
                    </a:lnTo>
                    <a:lnTo>
                      <a:pt x="430" y="158"/>
                    </a:lnTo>
                    <a:lnTo>
                      <a:pt x="432" y="158"/>
                    </a:lnTo>
                    <a:lnTo>
                      <a:pt x="434" y="159"/>
                    </a:lnTo>
                    <a:lnTo>
                      <a:pt x="434" y="160"/>
                    </a:lnTo>
                    <a:lnTo>
                      <a:pt x="435" y="161"/>
                    </a:lnTo>
                    <a:lnTo>
                      <a:pt x="454" y="161"/>
                    </a:lnTo>
                    <a:lnTo>
                      <a:pt x="454" y="160"/>
                    </a:lnTo>
                    <a:lnTo>
                      <a:pt x="455" y="159"/>
                    </a:lnTo>
                    <a:lnTo>
                      <a:pt x="456" y="158"/>
                    </a:lnTo>
                    <a:lnTo>
                      <a:pt x="458" y="158"/>
                    </a:lnTo>
                    <a:lnTo>
                      <a:pt x="460" y="158"/>
                    </a:lnTo>
                    <a:lnTo>
                      <a:pt x="461" y="159"/>
                    </a:lnTo>
                    <a:lnTo>
                      <a:pt x="462" y="160"/>
                    </a:lnTo>
                    <a:lnTo>
                      <a:pt x="463" y="161"/>
                    </a:lnTo>
                    <a:lnTo>
                      <a:pt x="467" y="161"/>
                    </a:lnTo>
                    <a:lnTo>
                      <a:pt x="467" y="160"/>
                    </a:lnTo>
                    <a:lnTo>
                      <a:pt x="468" y="159"/>
                    </a:lnTo>
                    <a:lnTo>
                      <a:pt x="470" y="158"/>
                    </a:lnTo>
                    <a:lnTo>
                      <a:pt x="471" y="158"/>
                    </a:lnTo>
                    <a:lnTo>
                      <a:pt x="473" y="158"/>
                    </a:lnTo>
                    <a:lnTo>
                      <a:pt x="475" y="159"/>
                    </a:lnTo>
                    <a:lnTo>
                      <a:pt x="476" y="160"/>
                    </a:lnTo>
                    <a:lnTo>
                      <a:pt x="476" y="161"/>
                    </a:lnTo>
                    <a:lnTo>
                      <a:pt x="529" y="161"/>
                    </a:lnTo>
                    <a:lnTo>
                      <a:pt x="530" y="160"/>
                    </a:lnTo>
                    <a:lnTo>
                      <a:pt x="531" y="159"/>
                    </a:lnTo>
                    <a:lnTo>
                      <a:pt x="532" y="158"/>
                    </a:lnTo>
                    <a:lnTo>
                      <a:pt x="534" y="158"/>
                    </a:lnTo>
                    <a:lnTo>
                      <a:pt x="536" y="158"/>
                    </a:lnTo>
                    <a:lnTo>
                      <a:pt x="537" y="159"/>
                    </a:lnTo>
                    <a:lnTo>
                      <a:pt x="538" y="160"/>
                    </a:lnTo>
                    <a:lnTo>
                      <a:pt x="538" y="161"/>
                    </a:lnTo>
                    <a:lnTo>
                      <a:pt x="599" y="161"/>
                    </a:lnTo>
                    <a:lnTo>
                      <a:pt x="599" y="160"/>
                    </a:lnTo>
                    <a:lnTo>
                      <a:pt x="600" y="159"/>
                    </a:lnTo>
                    <a:lnTo>
                      <a:pt x="602" y="158"/>
                    </a:lnTo>
                    <a:lnTo>
                      <a:pt x="603" y="158"/>
                    </a:lnTo>
                    <a:lnTo>
                      <a:pt x="605" y="158"/>
                    </a:lnTo>
                    <a:lnTo>
                      <a:pt x="607" y="159"/>
                    </a:lnTo>
                    <a:lnTo>
                      <a:pt x="608" y="160"/>
                    </a:lnTo>
                    <a:lnTo>
                      <a:pt x="608" y="161"/>
                    </a:lnTo>
                    <a:lnTo>
                      <a:pt x="634" y="161"/>
                    </a:lnTo>
                    <a:lnTo>
                      <a:pt x="634" y="160"/>
                    </a:lnTo>
                    <a:lnTo>
                      <a:pt x="635" y="159"/>
                    </a:lnTo>
                    <a:lnTo>
                      <a:pt x="636" y="158"/>
                    </a:lnTo>
                    <a:lnTo>
                      <a:pt x="638" y="158"/>
                    </a:lnTo>
                    <a:lnTo>
                      <a:pt x="640" y="158"/>
                    </a:lnTo>
                    <a:lnTo>
                      <a:pt x="641" y="159"/>
                    </a:lnTo>
                    <a:lnTo>
                      <a:pt x="642" y="160"/>
                    </a:lnTo>
                    <a:lnTo>
                      <a:pt x="643" y="161"/>
                    </a:lnTo>
                    <a:lnTo>
                      <a:pt x="715" y="161"/>
                    </a:lnTo>
                    <a:lnTo>
                      <a:pt x="715" y="160"/>
                    </a:lnTo>
                    <a:lnTo>
                      <a:pt x="716" y="159"/>
                    </a:lnTo>
                    <a:lnTo>
                      <a:pt x="717" y="158"/>
                    </a:lnTo>
                    <a:lnTo>
                      <a:pt x="719" y="158"/>
                    </a:lnTo>
                    <a:lnTo>
                      <a:pt x="721" y="158"/>
                    </a:lnTo>
                    <a:lnTo>
                      <a:pt x="722" y="159"/>
                    </a:lnTo>
                    <a:lnTo>
                      <a:pt x="723" y="160"/>
                    </a:lnTo>
                    <a:lnTo>
                      <a:pt x="724" y="161"/>
                    </a:lnTo>
                    <a:lnTo>
                      <a:pt x="738" y="161"/>
                    </a:lnTo>
                    <a:lnTo>
                      <a:pt x="738" y="160"/>
                    </a:lnTo>
                    <a:lnTo>
                      <a:pt x="739" y="159"/>
                    </a:lnTo>
                    <a:lnTo>
                      <a:pt x="741" y="158"/>
                    </a:lnTo>
                    <a:lnTo>
                      <a:pt x="742" y="158"/>
                    </a:lnTo>
                    <a:lnTo>
                      <a:pt x="744" y="158"/>
                    </a:lnTo>
                    <a:lnTo>
                      <a:pt x="746" y="159"/>
                    </a:lnTo>
                    <a:lnTo>
                      <a:pt x="747" y="160"/>
                    </a:lnTo>
                    <a:lnTo>
                      <a:pt x="747" y="161"/>
                    </a:lnTo>
                    <a:lnTo>
                      <a:pt x="760" y="161"/>
                    </a:lnTo>
                    <a:lnTo>
                      <a:pt x="760" y="160"/>
                    </a:lnTo>
                    <a:lnTo>
                      <a:pt x="761" y="159"/>
                    </a:lnTo>
                    <a:lnTo>
                      <a:pt x="763" y="158"/>
                    </a:lnTo>
                    <a:lnTo>
                      <a:pt x="764" y="158"/>
                    </a:lnTo>
                    <a:lnTo>
                      <a:pt x="766" y="158"/>
                    </a:lnTo>
                    <a:lnTo>
                      <a:pt x="767" y="159"/>
                    </a:lnTo>
                    <a:lnTo>
                      <a:pt x="768" y="160"/>
                    </a:lnTo>
                    <a:lnTo>
                      <a:pt x="769" y="161"/>
                    </a:lnTo>
                    <a:lnTo>
                      <a:pt x="780" y="161"/>
                    </a:lnTo>
                    <a:lnTo>
                      <a:pt x="780" y="160"/>
                    </a:lnTo>
                    <a:lnTo>
                      <a:pt x="781" y="159"/>
                    </a:lnTo>
                    <a:lnTo>
                      <a:pt x="782" y="158"/>
                    </a:lnTo>
                    <a:lnTo>
                      <a:pt x="784" y="158"/>
                    </a:lnTo>
                    <a:lnTo>
                      <a:pt x="786" y="158"/>
                    </a:lnTo>
                    <a:lnTo>
                      <a:pt x="787" y="159"/>
                    </a:lnTo>
                    <a:lnTo>
                      <a:pt x="788" y="160"/>
                    </a:lnTo>
                    <a:lnTo>
                      <a:pt x="789" y="161"/>
                    </a:lnTo>
                    <a:lnTo>
                      <a:pt x="837" y="161"/>
                    </a:lnTo>
                    <a:lnTo>
                      <a:pt x="837" y="160"/>
                    </a:lnTo>
                    <a:lnTo>
                      <a:pt x="838" y="159"/>
                    </a:lnTo>
                    <a:lnTo>
                      <a:pt x="840" y="158"/>
                    </a:lnTo>
                    <a:lnTo>
                      <a:pt x="842" y="158"/>
                    </a:lnTo>
                    <a:lnTo>
                      <a:pt x="843" y="158"/>
                    </a:lnTo>
                    <a:lnTo>
                      <a:pt x="845" y="159"/>
                    </a:lnTo>
                    <a:lnTo>
                      <a:pt x="846" y="160"/>
                    </a:lnTo>
                    <a:lnTo>
                      <a:pt x="846" y="161"/>
                    </a:lnTo>
                    <a:lnTo>
                      <a:pt x="855" y="161"/>
                    </a:lnTo>
                    <a:lnTo>
                      <a:pt x="855" y="160"/>
                    </a:lnTo>
                    <a:lnTo>
                      <a:pt x="856" y="159"/>
                    </a:lnTo>
                    <a:lnTo>
                      <a:pt x="858" y="158"/>
                    </a:lnTo>
                    <a:lnTo>
                      <a:pt x="860" y="158"/>
                    </a:lnTo>
                    <a:lnTo>
                      <a:pt x="861" y="158"/>
                    </a:lnTo>
                    <a:lnTo>
                      <a:pt x="863" y="159"/>
                    </a:lnTo>
                    <a:lnTo>
                      <a:pt x="864" y="160"/>
                    </a:lnTo>
                    <a:lnTo>
                      <a:pt x="864" y="161"/>
                    </a:lnTo>
                    <a:lnTo>
                      <a:pt x="864" y="161"/>
                    </a:lnTo>
                    <a:lnTo>
                      <a:pt x="864" y="160"/>
                    </a:lnTo>
                    <a:lnTo>
                      <a:pt x="865" y="159"/>
                    </a:lnTo>
                    <a:lnTo>
                      <a:pt x="867" y="158"/>
                    </a:lnTo>
                    <a:lnTo>
                      <a:pt x="869" y="158"/>
                    </a:lnTo>
                    <a:lnTo>
                      <a:pt x="870" y="158"/>
                    </a:lnTo>
                    <a:lnTo>
                      <a:pt x="872" y="159"/>
                    </a:lnTo>
                    <a:lnTo>
                      <a:pt x="873" y="160"/>
                    </a:lnTo>
                    <a:lnTo>
                      <a:pt x="873" y="161"/>
                    </a:lnTo>
                    <a:lnTo>
                      <a:pt x="878" y="161"/>
                    </a:lnTo>
                    <a:lnTo>
                      <a:pt x="878" y="160"/>
                    </a:lnTo>
                    <a:lnTo>
                      <a:pt x="879" y="159"/>
                    </a:lnTo>
                    <a:lnTo>
                      <a:pt x="880" y="158"/>
                    </a:lnTo>
                    <a:lnTo>
                      <a:pt x="882" y="158"/>
                    </a:lnTo>
                    <a:lnTo>
                      <a:pt x="884" y="158"/>
                    </a:lnTo>
                    <a:lnTo>
                      <a:pt x="885" y="159"/>
                    </a:lnTo>
                    <a:lnTo>
                      <a:pt x="886" y="160"/>
                    </a:lnTo>
                    <a:lnTo>
                      <a:pt x="887" y="161"/>
                    </a:lnTo>
                    <a:lnTo>
                      <a:pt x="889" y="161"/>
                    </a:lnTo>
                    <a:lnTo>
                      <a:pt x="889" y="160"/>
                    </a:lnTo>
                    <a:lnTo>
                      <a:pt x="890" y="159"/>
                    </a:lnTo>
                    <a:lnTo>
                      <a:pt x="891" y="158"/>
                    </a:lnTo>
                    <a:lnTo>
                      <a:pt x="893" y="158"/>
                    </a:lnTo>
                    <a:lnTo>
                      <a:pt x="895" y="158"/>
                    </a:lnTo>
                    <a:lnTo>
                      <a:pt x="896" y="159"/>
                    </a:lnTo>
                    <a:lnTo>
                      <a:pt x="897" y="160"/>
                    </a:lnTo>
                    <a:lnTo>
                      <a:pt x="897" y="161"/>
                    </a:lnTo>
                    <a:lnTo>
                      <a:pt x="909" y="161"/>
                    </a:lnTo>
                    <a:lnTo>
                      <a:pt x="909" y="160"/>
                    </a:lnTo>
                    <a:lnTo>
                      <a:pt x="910" y="159"/>
                    </a:lnTo>
                    <a:lnTo>
                      <a:pt x="912" y="158"/>
                    </a:lnTo>
                    <a:lnTo>
                      <a:pt x="914" y="158"/>
                    </a:lnTo>
                    <a:lnTo>
                      <a:pt x="915" y="158"/>
                    </a:lnTo>
                    <a:lnTo>
                      <a:pt x="917" y="159"/>
                    </a:lnTo>
                    <a:lnTo>
                      <a:pt x="918" y="160"/>
                    </a:lnTo>
                    <a:lnTo>
                      <a:pt x="918" y="161"/>
                    </a:lnTo>
                    <a:lnTo>
                      <a:pt x="925" y="161"/>
                    </a:lnTo>
                    <a:lnTo>
                      <a:pt x="926" y="160"/>
                    </a:lnTo>
                    <a:lnTo>
                      <a:pt x="927" y="159"/>
                    </a:lnTo>
                    <a:lnTo>
                      <a:pt x="928" y="158"/>
                    </a:lnTo>
                    <a:lnTo>
                      <a:pt x="930" y="158"/>
                    </a:lnTo>
                    <a:lnTo>
                      <a:pt x="932" y="158"/>
                    </a:lnTo>
                    <a:lnTo>
                      <a:pt x="933" y="159"/>
                    </a:lnTo>
                    <a:lnTo>
                      <a:pt x="934" y="160"/>
                    </a:lnTo>
                    <a:lnTo>
                      <a:pt x="934" y="161"/>
                    </a:lnTo>
                    <a:lnTo>
                      <a:pt x="941" y="161"/>
                    </a:lnTo>
                    <a:lnTo>
                      <a:pt x="941" y="159"/>
                    </a:lnTo>
                    <a:lnTo>
                      <a:pt x="942" y="158"/>
                    </a:lnTo>
                    <a:lnTo>
                      <a:pt x="944" y="156"/>
                    </a:lnTo>
                    <a:lnTo>
                      <a:pt x="946" y="155"/>
                    </a:lnTo>
                    <a:lnTo>
                      <a:pt x="949" y="155"/>
                    </a:lnTo>
                    <a:lnTo>
                      <a:pt x="951" y="155"/>
                    </a:lnTo>
                    <a:lnTo>
                      <a:pt x="953" y="155"/>
                    </a:lnTo>
                    <a:lnTo>
                      <a:pt x="956" y="156"/>
                    </a:lnTo>
                    <a:lnTo>
                      <a:pt x="957" y="158"/>
                    </a:lnTo>
                    <a:lnTo>
                      <a:pt x="958" y="159"/>
                    </a:lnTo>
                    <a:lnTo>
                      <a:pt x="959" y="161"/>
                    </a:lnTo>
                    <a:lnTo>
                      <a:pt x="1005" y="161"/>
                    </a:lnTo>
                    <a:lnTo>
                      <a:pt x="1005" y="160"/>
                    </a:lnTo>
                    <a:lnTo>
                      <a:pt x="1006" y="159"/>
                    </a:lnTo>
                    <a:lnTo>
                      <a:pt x="1008" y="158"/>
                    </a:lnTo>
                    <a:lnTo>
                      <a:pt x="1009" y="158"/>
                    </a:lnTo>
                    <a:lnTo>
                      <a:pt x="1011" y="158"/>
                    </a:lnTo>
                    <a:lnTo>
                      <a:pt x="1013" y="159"/>
                    </a:lnTo>
                    <a:lnTo>
                      <a:pt x="1014" y="160"/>
                    </a:lnTo>
                    <a:lnTo>
                      <a:pt x="1014" y="161"/>
                    </a:lnTo>
                    <a:lnTo>
                      <a:pt x="1094" y="161"/>
                    </a:lnTo>
                    <a:lnTo>
                      <a:pt x="1094" y="160"/>
                    </a:lnTo>
                    <a:lnTo>
                      <a:pt x="1095" y="159"/>
                    </a:lnTo>
                    <a:lnTo>
                      <a:pt x="1096" y="158"/>
                    </a:lnTo>
                    <a:lnTo>
                      <a:pt x="1098" y="158"/>
                    </a:lnTo>
                    <a:lnTo>
                      <a:pt x="1100" y="158"/>
                    </a:lnTo>
                    <a:lnTo>
                      <a:pt x="1101" y="159"/>
                    </a:lnTo>
                    <a:lnTo>
                      <a:pt x="1102" y="160"/>
                    </a:lnTo>
                    <a:lnTo>
                      <a:pt x="1103" y="161"/>
                    </a:lnTo>
                    <a:lnTo>
                      <a:pt x="1169" y="161"/>
                    </a:lnTo>
                    <a:lnTo>
                      <a:pt x="1170" y="160"/>
                    </a:lnTo>
                    <a:lnTo>
                      <a:pt x="1171" y="159"/>
                    </a:lnTo>
                    <a:lnTo>
                      <a:pt x="1172" y="158"/>
                    </a:lnTo>
                    <a:lnTo>
                      <a:pt x="1174" y="158"/>
                    </a:lnTo>
                    <a:lnTo>
                      <a:pt x="1175" y="158"/>
                    </a:lnTo>
                    <a:lnTo>
                      <a:pt x="1177" y="159"/>
                    </a:lnTo>
                    <a:lnTo>
                      <a:pt x="1178" y="160"/>
                    </a:lnTo>
                    <a:lnTo>
                      <a:pt x="1178" y="161"/>
                    </a:lnTo>
                    <a:lnTo>
                      <a:pt x="1229" y="161"/>
                    </a:lnTo>
                    <a:lnTo>
                      <a:pt x="1229" y="160"/>
                    </a:lnTo>
                    <a:lnTo>
                      <a:pt x="1230" y="159"/>
                    </a:lnTo>
                    <a:lnTo>
                      <a:pt x="1231" y="158"/>
                    </a:lnTo>
                    <a:lnTo>
                      <a:pt x="1233" y="158"/>
                    </a:lnTo>
                    <a:lnTo>
                      <a:pt x="1235" y="158"/>
                    </a:lnTo>
                    <a:lnTo>
                      <a:pt x="1236" y="159"/>
                    </a:lnTo>
                    <a:lnTo>
                      <a:pt x="1237" y="160"/>
                    </a:lnTo>
                    <a:lnTo>
                      <a:pt x="1238" y="161"/>
                    </a:lnTo>
                    <a:lnTo>
                      <a:pt x="1241" y="161"/>
                    </a:lnTo>
                    <a:lnTo>
                      <a:pt x="1241" y="160"/>
                    </a:lnTo>
                    <a:lnTo>
                      <a:pt x="1242" y="158"/>
                    </a:lnTo>
                    <a:lnTo>
                      <a:pt x="1244" y="157"/>
                    </a:lnTo>
                    <a:lnTo>
                      <a:pt x="1246" y="156"/>
                    </a:lnTo>
                    <a:lnTo>
                      <a:pt x="1248" y="156"/>
                    </a:lnTo>
                    <a:lnTo>
                      <a:pt x="1250" y="156"/>
                    </a:lnTo>
                    <a:lnTo>
                      <a:pt x="1252" y="157"/>
                    </a:lnTo>
                    <a:lnTo>
                      <a:pt x="1253" y="158"/>
                    </a:lnTo>
                    <a:lnTo>
                      <a:pt x="1254" y="160"/>
                    </a:lnTo>
                    <a:lnTo>
                      <a:pt x="1255" y="161"/>
                    </a:lnTo>
                    <a:lnTo>
                      <a:pt x="1256" y="161"/>
                    </a:lnTo>
                    <a:lnTo>
                      <a:pt x="1256" y="160"/>
                    </a:lnTo>
                    <a:lnTo>
                      <a:pt x="1257" y="159"/>
                    </a:lnTo>
                    <a:lnTo>
                      <a:pt x="1258" y="158"/>
                    </a:lnTo>
                    <a:lnTo>
                      <a:pt x="1260" y="158"/>
                    </a:lnTo>
                    <a:lnTo>
                      <a:pt x="1262" y="158"/>
                    </a:lnTo>
                    <a:lnTo>
                      <a:pt x="1263" y="159"/>
                    </a:lnTo>
                    <a:lnTo>
                      <a:pt x="1264" y="160"/>
                    </a:lnTo>
                    <a:lnTo>
                      <a:pt x="1265" y="161"/>
                    </a:lnTo>
                    <a:lnTo>
                      <a:pt x="1310" y="161"/>
                    </a:lnTo>
                    <a:lnTo>
                      <a:pt x="1310" y="160"/>
                    </a:lnTo>
                    <a:lnTo>
                      <a:pt x="1311" y="159"/>
                    </a:lnTo>
                    <a:lnTo>
                      <a:pt x="1313" y="158"/>
                    </a:lnTo>
                    <a:lnTo>
                      <a:pt x="1314" y="158"/>
                    </a:lnTo>
                    <a:lnTo>
                      <a:pt x="1316" y="158"/>
                    </a:lnTo>
                    <a:lnTo>
                      <a:pt x="1317" y="159"/>
                    </a:lnTo>
                    <a:lnTo>
                      <a:pt x="1318" y="160"/>
                    </a:lnTo>
                    <a:lnTo>
                      <a:pt x="1319" y="161"/>
                    </a:lnTo>
                    <a:lnTo>
                      <a:pt x="1371" y="161"/>
                    </a:lnTo>
                    <a:lnTo>
                      <a:pt x="1371" y="160"/>
                    </a:lnTo>
                    <a:lnTo>
                      <a:pt x="1372" y="159"/>
                    </a:lnTo>
                    <a:lnTo>
                      <a:pt x="1373" y="158"/>
                    </a:lnTo>
                    <a:lnTo>
                      <a:pt x="1375" y="158"/>
                    </a:lnTo>
                    <a:lnTo>
                      <a:pt x="1377" y="158"/>
                    </a:lnTo>
                    <a:lnTo>
                      <a:pt x="1378" y="159"/>
                    </a:lnTo>
                    <a:lnTo>
                      <a:pt x="1379" y="160"/>
                    </a:lnTo>
                    <a:lnTo>
                      <a:pt x="1380" y="161"/>
                    </a:lnTo>
                    <a:lnTo>
                      <a:pt x="1382" y="161"/>
                    </a:lnTo>
                    <a:lnTo>
                      <a:pt x="1383" y="160"/>
                    </a:lnTo>
                    <a:lnTo>
                      <a:pt x="1384" y="159"/>
                    </a:lnTo>
                    <a:lnTo>
                      <a:pt x="1385" y="158"/>
                    </a:lnTo>
                    <a:lnTo>
                      <a:pt x="1387" y="158"/>
                    </a:lnTo>
                    <a:lnTo>
                      <a:pt x="1389" y="158"/>
                    </a:lnTo>
                    <a:lnTo>
                      <a:pt x="1390" y="159"/>
                    </a:lnTo>
                    <a:lnTo>
                      <a:pt x="1391" y="160"/>
                    </a:lnTo>
                    <a:lnTo>
                      <a:pt x="1391" y="161"/>
                    </a:lnTo>
                    <a:lnTo>
                      <a:pt x="1455" y="161"/>
                    </a:lnTo>
                    <a:lnTo>
                      <a:pt x="1455" y="160"/>
                    </a:lnTo>
                    <a:lnTo>
                      <a:pt x="1456" y="159"/>
                    </a:lnTo>
                    <a:lnTo>
                      <a:pt x="1458" y="158"/>
                    </a:lnTo>
                    <a:lnTo>
                      <a:pt x="1459" y="158"/>
                    </a:lnTo>
                    <a:lnTo>
                      <a:pt x="1461" y="158"/>
                    </a:lnTo>
                    <a:lnTo>
                      <a:pt x="1463" y="159"/>
                    </a:lnTo>
                    <a:lnTo>
                      <a:pt x="1463" y="160"/>
                    </a:lnTo>
                    <a:lnTo>
                      <a:pt x="1464" y="161"/>
                    </a:lnTo>
                    <a:lnTo>
                      <a:pt x="1465" y="161"/>
                    </a:lnTo>
                    <a:lnTo>
                      <a:pt x="1465" y="160"/>
                    </a:lnTo>
                    <a:lnTo>
                      <a:pt x="1466" y="159"/>
                    </a:lnTo>
                    <a:lnTo>
                      <a:pt x="1468" y="158"/>
                    </a:lnTo>
                    <a:lnTo>
                      <a:pt x="1469" y="158"/>
                    </a:lnTo>
                    <a:lnTo>
                      <a:pt x="1471" y="158"/>
                    </a:lnTo>
                    <a:lnTo>
                      <a:pt x="1472" y="159"/>
                    </a:lnTo>
                    <a:lnTo>
                      <a:pt x="1474" y="160"/>
                    </a:lnTo>
                    <a:lnTo>
                      <a:pt x="1474" y="161"/>
                    </a:lnTo>
                    <a:lnTo>
                      <a:pt x="1479" y="161"/>
                    </a:lnTo>
                    <a:lnTo>
                      <a:pt x="1479" y="160"/>
                    </a:lnTo>
                    <a:lnTo>
                      <a:pt x="1480" y="159"/>
                    </a:lnTo>
                    <a:lnTo>
                      <a:pt x="1481" y="158"/>
                    </a:lnTo>
                    <a:lnTo>
                      <a:pt x="1483" y="158"/>
                    </a:lnTo>
                    <a:lnTo>
                      <a:pt x="1485" y="158"/>
                    </a:lnTo>
                    <a:lnTo>
                      <a:pt x="1486" y="159"/>
                    </a:lnTo>
                    <a:lnTo>
                      <a:pt x="1487" y="160"/>
                    </a:lnTo>
                    <a:lnTo>
                      <a:pt x="1488" y="161"/>
                    </a:lnTo>
                    <a:lnTo>
                      <a:pt x="1707" y="161"/>
                    </a:lnTo>
                    <a:lnTo>
                      <a:pt x="1707" y="160"/>
                    </a:lnTo>
                    <a:lnTo>
                      <a:pt x="1708" y="159"/>
                    </a:lnTo>
                    <a:lnTo>
                      <a:pt x="1709" y="158"/>
                    </a:lnTo>
                    <a:lnTo>
                      <a:pt x="1711" y="158"/>
                    </a:lnTo>
                    <a:lnTo>
                      <a:pt x="1713" y="158"/>
                    </a:lnTo>
                    <a:lnTo>
                      <a:pt x="1714" y="159"/>
                    </a:lnTo>
                    <a:lnTo>
                      <a:pt x="1715" y="160"/>
                    </a:lnTo>
                    <a:lnTo>
                      <a:pt x="1716" y="161"/>
                    </a:lnTo>
                    <a:lnTo>
                      <a:pt x="1751" y="161"/>
                    </a:lnTo>
                    <a:lnTo>
                      <a:pt x="1751" y="160"/>
                    </a:lnTo>
                    <a:lnTo>
                      <a:pt x="1752" y="159"/>
                    </a:lnTo>
                    <a:lnTo>
                      <a:pt x="1753" y="158"/>
                    </a:lnTo>
                    <a:lnTo>
                      <a:pt x="1755" y="158"/>
                    </a:lnTo>
                    <a:lnTo>
                      <a:pt x="1757" y="158"/>
                    </a:lnTo>
                    <a:lnTo>
                      <a:pt x="1758" y="159"/>
                    </a:lnTo>
                    <a:lnTo>
                      <a:pt x="1759" y="160"/>
                    </a:lnTo>
                    <a:lnTo>
                      <a:pt x="1760" y="161"/>
                    </a:lnTo>
                    <a:lnTo>
                      <a:pt x="1783" y="161"/>
                    </a:lnTo>
                    <a:lnTo>
                      <a:pt x="1783" y="159"/>
                    </a:lnTo>
                    <a:lnTo>
                      <a:pt x="1784" y="158"/>
                    </a:lnTo>
                    <a:lnTo>
                      <a:pt x="1786" y="156"/>
                    </a:lnTo>
                    <a:lnTo>
                      <a:pt x="1788" y="155"/>
                    </a:lnTo>
                    <a:lnTo>
                      <a:pt x="1790" y="155"/>
                    </a:lnTo>
                    <a:lnTo>
                      <a:pt x="1793" y="155"/>
                    </a:lnTo>
                    <a:lnTo>
                      <a:pt x="1795" y="155"/>
                    </a:lnTo>
                    <a:lnTo>
                      <a:pt x="1797" y="156"/>
                    </a:lnTo>
                    <a:lnTo>
                      <a:pt x="1799" y="158"/>
                    </a:lnTo>
                    <a:lnTo>
                      <a:pt x="1800" y="159"/>
                    </a:lnTo>
                    <a:lnTo>
                      <a:pt x="1800" y="161"/>
                    </a:lnTo>
                    <a:lnTo>
                      <a:pt x="1829" y="161"/>
                    </a:lnTo>
                    <a:lnTo>
                      <a:pt x="1829" y="160"/>
                    </a:lnTo>
                    <a:lnTo>
                      <a:pt x="1830" y="159"/>
                    </a:lnTo>
                    <a:lnTo>
                      <a:pt x="1831" y="158"/>
                    </a:lnTo>
                    <a:lnTo>
                      <a:pt x="1833" y="158"/>
                    </a:lnTo>
                    <a:lnTo>
                      <a:pt x="1835" y="158"/>
                    </a:lnTo>
                    <a:lnTo>
                      <a:pt x="1836" y="159"/>
                    </a:lnTo>
                    <a:lnTo>
                      <a:pt x="1837" y="160"/>
                    </a:lnTo>
                    <a:lnTo>
                      <a:pt x="1838" y="161"/>
                    </a:lnTo>
                    <a:lnTo>
                      <a:pt x="1842" y="161"/>
                    </a:lnTo>
                    <a:lnTo>
                      <a:pt x="1842" y="160"/>
                    </a:lnTo>
                    <a:lnTo>
                      <a:pt x="1843" y="159"/>
                    </a:lnTo>
                    <a:lnTo>
                      <a:pt x="1844" y="158"/>
                    </a:lnTo>
                    <a:lnTo>
                      <a:pt x="1846" y="158"/>
                    </a:lnTo>
                    <a:lnTo>
                      <a:pt x="1848" y="158"/>
                    </a:lnTo>
                    <a:lnTo>
                      <a:pt x="1849" y="159"/>
                    </a:lnTo>
                    <a:lnTo>
                      <a:pt x="1850" y="160"/>
                    </a:lnTo>
                    <a:lnTo>
                      <a:pt x="1851" y="161"/>
                    </a:lnTo>
                    <a:lnTo>
                      <a:pt x="1857" y="161"/>
                    </a:lnTo>
                    <a:lnTo>
                      <a:pt x="1857" y="160"/>
                    </a:lnTo>
                    <a:lnTo>
                      <a:pt x="1858" y="159"/>
                    </a:lnTo>
                    <a:lnTo>
                      <a:pt x="1860" y="158"/>
                    </a:lnTo>
                    <a:lnTo>
                      <a:pt x="1861" y="158"/>
                    </a:lnTo>
                    <a:lnTo>
                      <a:pt x="1863" y="158"/>
                    </a:lnTo>
                    <a:lnTo>
                      <a:pt x="1865" y="159"/>
                    </a:lnTo>
                    <a:lnTo>
                      <a:pt x="1865" y="160"/>
                    </a:lnTo>
                    <a:lnTo>
                      <a:pt x="1866" y="161"/>
                    </a:lnTo>
                    <a:lnTo>
                      <a:pt x="1891" y="161"/>
                    </a:lnTo>
                    <a:lnTo>
                      <a:pt x="1891" y="160"/>
                    </a:lnTo>
                    <a:lnTo>
                      <a:pt x="1892" y="159"/>
                    </a:lnTo>
                    <a:lnTo>
                      <a:pt x="1893" y="158"/>
                    </a:lnTo>
                    <a:lnTo>
                      <a:pt x="1895" y="158"/>
                    </a:lnTo>
                    <a:lnTo>
                      <a:pt x="1897" y="158"/>
                    </a:lnTo>
                    <a:lnTo>
                      <a:pt x="1898" y="159"/>
                    </a:lnTo>
                    <a:lnTo>
                      <a:pt x="1899" y="160"/>
                    </a:lnTo>
                    <a:lnTo>
                      <a:pt x="1900" y="161"/>
                    </a:lnTo>
                    <a:lnTo>
                      <a:pt x="1904" y="161"/>
                    </a:lnTo>
                    <a:lnTo>
                      <a:pt x="1905" y="160"/>
                    </a:lnTo>
                    <a:lnTo>
                      <a:pt x="1905" y="159"/>
                    </a:lnTo>
                    <a:lnTo>
                      <a:pt x="1907" y="158"/>
                    </a:lnTo>
                    <a:lnTo>
                      <a:pt x="1909" y="158"/>
                    </a:lnTo>
                    <a:lnTo>
                      <a:pt x="1910" y="158"/>
                    </a:lnTo>
                    <a:lnTo>
                      <a:pt x="1912" y="159"/>
                    </a:lnTo>
                    <a:lnTo>
                      <a:pt x="1913" y="160"/>
                    </a:lnTo>
                    <a:lnTo>
                      <a:pt x="1913" y="161"/>
                    </a:lnTo>
                    <a:lnTo>
                      <a:pt x="1924" y="161"/>
                    </a:lnTo>
                    <a:lnTo>
                      <a:pt x="1925" y="160"/>
                    </a:lnTo>
                    <a:lnTo>
                      <a:pt x="1926" y="159"/>
                    </a:lnTo>
                    <a:lnTo>
                      <a:pt x="1927" y="158"/>
                    </a:lnTo>
                    <a:lnTo>
                      <a:pt x="1929" y="158"/>
                    </a:lnTo>
                    <a:lnTo>
                      <a:pt x="1931" y="158"/>
                    </a:lnTo>
                    <a:lnTo>
                      <a:pt x="1932" y="159"/>
                    </a:lnTo>
                    <a:lnTo>
                      <a:pt x="1933" y="160"/>
                    </a:lnTo>
                    <a:lnTo>
                      <a:pt x="1933" y="161"/>
                    </a:lnTo>
                    <a:lnTo>
                      <a:pt x="1939" y="161"/>
                    </a:lnTo>
                    <a:lnTo>
                      <a:pt x="1940" y="160"/>
                    </a:lnTo>
                    <a:lnTo>
                      <a:pt x="1940" y="159"/>
                    </a:lnTo>
                    <a:lnTo>
                      <a:pt x="1942" y="158"/>
                    </a:lnTo>
                    <a:lnTo>
                      <a:pt x="1944" y="158"/>
                    </a:lnTo>
                    <a:lnTo>
                      <a:pt x="1945" y="158"/>
                    </a:lnTo>
                    <a:lnTo>
                      <a:pt x="1947" y="159"/>
                    </a:lnTo>
                    <a:lnTo>
                      <a:pt x="1948" y="160"/>
                    </a:lnTo>
                    <a:lnTo>
                      <a:pt x="1948" y="161"/>
                    </a:lnTo>
                    <a:lnTo>
                      <a:pt x="1977" y="161"/>
                    </a:lnTo>
                    <a:lnTo>
                      <a:pt x="1977" y="160"/>
                    </a:lnTo>
                    <a:lnTo>
                      <a:pt x="1978" y="159"/>
                    </a:lnTo>
                    <a:lnTo>
                      <a:pt x="1980" y="158"/>
                    </a:lnTo>
                    <a:lnTo>
                      <a:pt x="1981" y="158"/>
                    </a:lnTo>
                    <a:lnTo>
                      <a:pt x="1983" y="158"/>
                    </a:lnTo>
                    <a:lnTo>
                      <a:pt x="1985" y="159"/>
                    </a:lnTo>
                    <a:lnTo>
                      <a:pt x="1985" y="160"/>
                    </a:lnTo>
                    <a:lnTo>
                      <a:pt x="1986" y="161"/>
                    </a:lnTo>
                    <a:lnTo>
                      <a:pt x="1991" y="161"/>
                    </a:lnTo>
                    <a:lnTo>
                      <a:pt x="1991" y="160"/>
                    </a:lnTo>
                    <a:lnTo>
                      <a:pt x="1992" y="159"/>
                    </a:lnTo>
                    <a:lnTo>
                      <a:pt x="1994" y="158"/>
                    </a:lnTo>
                    <a:lnTo>
                      <a:pt x="1996" y="158"/>
                    </a:lnTo>
                    <a:lnTo>
                      <a:pt x="1997" y="158"/>
                    </a:lnTo>
                    <a:lnTo>
                      <a:pt x="1999" y="159"/>
                    </a:lnTo>
                    <a:lnTo>
                      <a:pt x="2000" y="160"/>
                    </a:lnTo>
                    <a:lnTo>
                      <a:pt x="2000" y="161"/>
                    </a:lnTo>
                    <a:lnTo>
                      <a:pt x="2009" y="161"/>
                    </a:lnTo>
                    <a:lnTo>
                      <a:pt x="2009" y="159"/>
                    </a:lnTo>
                    <a:lnTo>
                      <a:pt x="2010" y="158"/>
                    </a:lnTo>
                    <a:lnTo>
                      <a:pt x="2012" y="156"/>
                    </a:lnTo>
                    <a:lnTo>
                      <a:pt x="2014" y="155"/>
                    </a:lnTo>
                    <a:lnTo>
                      <a:pt x="2016" y="155"/>
                    </a:lnTo>
                    <a:lnTo>
                      <a:pt x="2019" y="155"/>
                    </a:lnTo>
                    <a:lnTo>
                      <a:pt x="2021" y="155"/>
                    </a:lnTo>
                    <a:lnTo>
                      <a:pt x="2023" y="156"/>
                    </a:lnTo>
                    <a:lnTo>
                      <a:pt x="2024" y="158"/>
                    </a:lnTo>
                    <a:lnTo>
                      <a:pt x="2025" y="159"/>
                    </a:lnTo>
                    <a:lnTo>
                      <a:pt x="2026" y="161"/>
                    </a:lnTo>
                    <a:lnTo>
                      <a:pt x="2029" y="161"/>
                    </a:lnTo>
                    <a:lnTo>
                      <a:pt x="2030" y="160"/>
                    </a:lnTo>
                    <a:lnTo>
                      <a:pt x="2030" y="159"/>
                    </a:lnTo>
                    <a:lnTo>
                      <a:pt x="2032" y="158"/>
                    </a:lnTo>
                    <a:lnTo>
                      <a:pt x="2034" y="158"/>
                    </a:lnTo>
                    <a:lnTo>
                      <a:pt x="2035" y="158"/>
                    </a:lnTo>
                    <a:lnTo>
                      <a:pt x="2037" y="159"/>
                    </a:lnTo>
                    <a:lnTo>
                      <a:pt x="2038" y="160"/>
                    </a:lnTo>
                    <a:lnTo>
                      <a:pt x="2038" y="161"/>
                    </a:lnTo>
                    <a:lnTo>
                      <a:pt x="2053" y="161"/>
                    </a:lnTo>
                    <a:lnTo>
                      <a:pt x="2053" y="160"/>
                    </a:lnTo>
                    <a:lnTo>
                      <a:pt x="2054" y="159"/>
                    </a:lnTo>
                    <a:lnTo>
                      <a:pt x="2056" y="158"/>
                    </a:lnTo>
                    <a:lnTo>
                      <a:pt x="2057" y="158"/>
                    </a:lnTo>
                    <a:lnTo>
                      <a:pt x="2059" y="158"/>
                    </a:lnTo>
                    <a:lnTo>
                      <a:pt x="2060" y="159"/>
                    </a:lnTo>
                    <a:lnTo>
                      <a:pt x="2061" y="160"/>
                    </a:lnTo>
                    <a:lnTo>
                      <a:pt x="2062" y="161"/>
                    </a:lnTo>
                    <a:lnTo>
                      <a:pt x="2277" y="161"/>
                    </a:lnTo>
                    <a:lnTo>
                      <a:pt x="2277" y="160"/>
                    </a:lnTo>
                    <a:lnTo>
                      <a:pt x="2278" y="159"/>
                    </a:lnTo>
                    <a:lnTo>
                      <a:pt x="2279" y="158"/>
                    </a:lnTo>
                    <a:lnTo>
                      <a:pt x="2281" y="158"/>
                    </a:lnTo>
                    <a:lnTo>
                      <a:pt x="2283" y="158"/>
                    </a:lnTo>
                    <a:lnTo>
                      <a:pt x="2284" y="159"/>
                    </a:lnTo>
                    <a:lnTo>
                      <a:pt x="2285" y="160"/>
                    </a:lnTo>
                    <a:lnTo>
                      <a:pt x="2286" y="161"/>
                    </a:lnTo>
                    <a:lnTo>
                      <a:pt x="2293" y="161"/>
                    </a:lnTo>
                    <a:lnTo>
                      <a:pt x="2293" y="160"/>
                    </a:lnTo>
                    <a:lnTo>
                      <a:pt x="2294" y="159"/>
                    </a:lnTo>
                    <a:lnTo>
                      <a:pt x="2295" y="158"/>
                    </a:lnTo>
                    <a:lnTo>
                      <a:pt x="2297" y="158"/>
                    </a:lnTo>
                    <a:lnTo>
                      <a:pt x="2299" y="158"/>
                    </a:lnTo>
                    <a:lnTo>
                      <a:pt x="2300" y="159"/>
                    </a:lnTo>
                    <a:lnTo>
                      <a:pt x="2301" y="160"/>
                    </a:lnTo>
                    <a:lnTo>
                      <a:pt x="2302" y="161"/>
                    </a:lnTo>
                    <a:lnTo>
                      <a:pt x="2303" y="161"/>
                    </a:lnTo>
                    <a:lnTo>
                      <a:pt x="2303" y="160"/>
                    </a:lnTo>
                    <a:lnTo>
                      <a:pt x="2304" y="158"/>
                    </a:lnTo>
                    <a:lnTo>
                      <a:pt x="2305" y="157"/>
                    </a:lnTo>
                    <a:lnTo>
                      <a:pt x="2307" y="156"/>
                    </a:lnTo>
                    <a:lnTo>
                      <a:pt x="2309" y="156"/>
                    </a:lnTo>
                    <a:lnTo>
                      <a:pt x="2311" y="156"/>
                    </a:lnTo>
                    <a:lnTo>
                      <a:pt x="2313" y="156"/>
                    </a:lnTo>
                    <a:lnTo>
                      <a:pt x="2315" y="157"/>
                    </a:lnTo>
                    <a:lnTo>
                      <a:pt x="2317" y="158"/>
                    </a:lnTo>
                    <a:lnTo>
                      <a:pt x="2318" y="160"/>
                    </a:lnTo>
                    <a:lnTo>
                      <a:pt x="2318" y="161"/>
                    </a:lnTo>
                    <a:lnTo>
                      <a:pt x="2325" y="161"/>
                    </a:lnTo>
                    <a:lnTo>
                      <a:pt x="2325" y="160"/>
                    </a:lnTo>
                    <a:lnTo>
                      <a:pt x="2326" y="159"/>
                    </a:lnTo>
                    <a:lnTo>
                      <a:pt x="2327" y="158"/>
                    </a:lnTo>
                    <a:lnTo>
                      <a:pt x="2329" y="158"/>
                    </a:lnTo>
                    <a:lnTo>
                      <a:pt x="2331" y="158"/>
                    </a:lnTo>
                    <a:lnTo>
                      <a:pt x="2332" y="159"/>
                    </a:lnTo>
                    <a:lnTo>
                      <a:pt x="2333" y="160"/>
                    </a:lnTo>
                    <a:lnTo>
                      <a:pt x="2334" y="161"/>
                    </a:lnTo>
                    <a:lnTo>
                      <a:pt x="2341" y="161"/>
                    </a:lnTo>
                    <a:lnTo>
                      <a:pt x="2341" y="160"/>
                    </a:lnTo>
                    <a:lnTo>
                      <a:pt x="2342" y="159"/>
                    </a:lnTo>
                    <a:lnTo>
                      <a:pt x="2344" y="158"/>
                    </a:lnTo>
                    <a:lnTo>
                      <a:pt x="2346" y="158"/>
                    </a:lnTo>
                    <a:lnTo>
                      <a:pt x="2347" y="158"/>
                    </a:lnTo>
                    <a:lnTo>
                      <a:pt x="2349" y="159"/>
                    </a:lnTo>
                    <a:lnTo>
                      <a:pt x="2350" y="160"/>
                    </a:lnTo>
                    <a:lnTo>
                      <a:pt x="2350" y="161"/>
                    </a:lnTo>
                    <a:lnTo>
                      <a:pt x="2352" y="161"/>
                    </a:lnTo>
                    <a:lnTo>
                      <a:pt x="2353" y="160"/>
                    </a:lnTo>
                    <a:lnTo>
                      <a:pt x="2354" y="158"/>
                    </a:lnTo>
                    <a:lnTo>
                      <a:pt x="2355" y="157"/>
                    </a:lnTo>
                    <a:lnTo>
                      <a:pt x="2357" y="156"/>
                    </a:lnTo>
                    <a:lnTo>
                      <a:pt x="2359" y="156"/>
                    </a:lnTo>
                    <a:lnTo>
                      <a:pt x="2361" y="156"/>
                    </a:lnTo>
                    <a:lnTo>
                      <a:pt x="2363" y="157"/>
                    </a:lnTo>
                    <a:lnTo>
                      <a:pt x="2365" y="158"/>
                    </a:lnTo>
                    <a:lnTo>
                      <a:pt x="2365" y="160"/>
                    </a:lnTo>
                    <a:lnTo>
                      <a:pt x="2366" y="161"/>
                    </a:lnTo>
                    <a:lnTo>
                      <a:pt x="2398" y="161"/>
                    </a:lnTo>
                    <a:lnTo>
                      <a:pt x="2398" y="160"/>
                    </a:lnTo>
                    <a:lnTo>
                      <a:pt x="2399" y="159"/>
                    </a:lnTo>
                    <a:lnTo>
                      <a:pt x="2401" y="158"/>
                    </a:lnTo>
                    <a:lnTo>
                      <a:pt x="2403" y="158"/>
                    </a:lnTo>
                    <a:lnTo>
                      <a:pt x="2404" y="158"/>
                    </a:lnTo>
                    <a:lnTo>
                      <a:pt x="2406" y="159"/>
                    </a:lnTo>
                    <a:lnTo>
                      <a:pt x="2407" y="160"/>
                    </a:lnTo>
                    <a:lnTo>
                      <a:pt x="2407" y="161"/>
                    </a:lnTo>
                    <a:lnTo>
                      <a:pt x="2424" y="161"/>
                    </a:lnTo>
                    <a:lnTo>
                      <a:pt x="2425" y="160"/>
                    </a:lnTo>
                    <a:lnTo>
                      <a:pt x="2426" y="159"/>
                    </a:lnTo>
                    <a:lnTo>
                      <a:pt x="2427" y="158"/>
                    </a:lnTo>
                    <a:lnTo>
                      <a:pt x="2429" y="158"/>
                    </a:lnTo>
                    <a:lnTo>
                      <a:pt x="2431" y="158"/>
                    </a:lnTo>
                    <a:lnTo>
                      <a:pt x="2432" y="159"/>
                    </a:lnTo>
                    <a:lnTo>
                      <a:pt x="2433" y="160"/>
                    </a:lnTo>
                    <a:lnTo>
                      <a:pt x="2433" y="161"/>
                    </a:lnTo>
                    <a:lnTo>
                      <a:pt x="2448" y="161"/>
                    </a:lnTo>
                    <a:lnTo>
                      <a:pt x="2448" y="160"/>
                    </a:lnTo>
                    <a:lnTo>
                      <a:pt x="2449" y="159"/>
                    </a:lnTo>
                    <a:lnTo>
                      <a:pt x="2451" y="158"/>
                    </a:lnTo>
                    <a:lnTo>
                      <a:pt x="2452" y="158"/>
                    </a:lnTo>
                    <a:lnTo>
                      <a:pt x="2454" y="158"/>
                    </a:lnTo>
                    <a:lnTo>
                      <a:pt x="2456" y="159"/>
                    </a:lnTo>
                    <a:lnTo>
                      <a:pt x="2457" y="160"/>
                    </a:lnTo>
                    <a:lnTo>
                      <a:pt x="2457" y="161"/>
                    </a:lnTo>
                    <a:lnTo>
                      <a:pt x="2475" y="161"/>
                    </a:lnTo>
                    <a:lnTo>
                      <a:pt x="2475" y="160"/>
                    </a:lnTo>
                    <a:lnTo>
                      <a:pt x="2476" y="159"/>
                    </a:lnTo>
                    <a:lnTo>
                      <a:pt x="2478" y="158"/>
                    </a:lnTo>
                    <a:lnTo>
                      <a:pt x="2480" y="158"/>
                    </a:lnTo>
                    <a:lnTo>
                      <a:pt x="2481" y="158"/>
                    </a:lnTo>
                    <a:lnTo>
                      <a:pt x="2483" y="159"/>
                    </a:lnTo>
                    <a:lnTo>
                      <a:pt x="2484" y="160"/>
                    </a:lnTo>
                    <a:lnTo>
                      <a:pt x="2484" y="161"/>
                    </a:lnTo>
                    <a:lnTo>
                      <a:pt x="2499" y="161"/>
                    </a:lnTo>
                    <a:lnTo>
                      <a:pt x="2499" y="160"/>
                    </a:lnTo>
                    <a:lnTo>
                      <a:pt x="2500" y="159"/>
                    </a:lnTo>
                    <a:lnTo>
                      <a:pt x="2501" y="158"/>
                    </a:lnTo>
                    <a:lnTo>
                      <a:pt x="2503" y="158"/>
                    </a:lnTo>
                    <a:lnTo>
                      <a:pt x="2505" y="158"/>
                    </a:lnTo>
                    <a:lnTo>
                      <a:pt x="2506" y="159"/>
                    </a:lnTo>
                    <a:lnTo>
                      <a:pt x="2507" y="160"/>
                    </a:lnTo>
                    <a:lnTo>
                      <a:pt x="2508" y="161"/>
                    </a:lnTo>
                    <a:lnTo>
                      <a:pt x="2579" y="161"/>
                    </a:lnTo>
                    <a:lnTo>
                      <a:pt x="2579" y="160"/>
                    </a:lnTo>
                    <a:lnTo>
                      <a:pt x="2580" y="159"/>
                    </a:lnTo>
                    <a:lnTo>
                      <a:pt x="2581" y="158"/>
                    </a:lnTo>
                    <a:lnTo>
                      <a:pt x="2583" y="158"/>
                    </a:lnTo>
                    <a:lnTo>
                      <a:pt x="2585" y="158"/>
                    </a:lnTo>
                    <a:lnTo>
                      <a:pt x="2586" y="159"/>
                    </a:lnTo>
                    <a:lnTo>
                      <a:pt x="2587" y="160"/>
                    </a:lnTo>
                    <a:lnTo>
                      <a:pt x="2587" y="161"/>
                    </a:lnTo>
                    <a:lnTo>
                      <a:pt x="2755" y="161"/>
                    </a:lnTo>
                    <a:lnTo>
                      <a:pt x="2756" y="160"/>
                    </a:lnTo>
                    <a:lnTo>
                      <a:pt x="2757" y="159"/>
                    </a:lnTo>
                    <a:lnTo>
                      <a:pt x="2758" y="158"/>
                    </a:lnTo>
                    <a:lnTo>
                      <a:pt x="2760" y="158"/>
                    </a:lnTo>
                    <a:lnTo>
                      <a:pt x="2762" y="158"/>
                    </a:lnTo>
                    <a:lnTo>
                      <a:pt x="2763" y="159"/>
                    </a:lnTo>
                    <a:lnTo>
                      <a:pt x="2764" y="160"/>
                    </a:lnTo>
                    <a:lnTo>
                      <a:pt x="2764" y="161"/>
                    </a:lnTo>
                    <a:lnTo>
                      <a:pt x="2777" y="161"/>
                    </a:lnTo>
                    <a:lnTo>
                      <a:pt x="2778" y="160"/>
                    </a:lnTo>
                    <a:lnTo>
                      <a:pt x="2779" y="159"/>
                    </a:lnTo>
                    <a:lnTo>
                      <a:pt x="2780" y="158"/>
                    </a:lnTo>
                    <a:lnTo>
                      <a:pt x="2782" y="158"/>
                    </a:lnTo>
                    <a:lnTo>
                      <a:pt x="2783" y="158"/>
                    </a:lnTo>
                    <a:lnTo>
                      <a:pt x="2785" y="159"/>
                    </a:lnTo>
                    <a:lnTo>
                      <a:pt x="2786" y="160"/>
                    </a:lnTo>
                    <a:lnTo>
                      <a:pt x="2786" y="161"/>
                    </a:lnTo>
                    <a:lnTo>
                      <a:pt x="2796" y="161"/>
                    </a:lnTo>
                    <a:lnTo>
                      <a:pt x="2796" y="160"/>
                    </a:lnTo>
                    <a:lnTo>
                      <a:pt x="2797" y="159"/>
                    </a:lnTo>
                    <a:lnTo>
                      <a:pt x="2799" y="158"/>
                    </a:lnTo>
                    <a:lnTo>
                      <a:pt x="2800" y="158"/>
                    </a:lnTo>
                    <a:lnTo>
                      <a:pt x="2802" y="158"/>
                    </a:lnTo>
                    <a:lnTo>
                      <a:pt x="2803" y="159"/>
                    </a:lnTo>
                    <a:lnTo>
                      <a:pt x="2804" y="160"/>
                    </a:lnTo>
                    <a:lnTo>
                      <a:pt x="2805" y="161"/>
                    </a:lnTo>
                    <a:lnTo>
                      <a:pt x="2809" y="161"/>
                    </a:lnTo>
                    <a:lnTo>
                      <a:pt x="2810" y="160"/>
                    </a:lnTo>
                    <a:lnTo>
                      <a:pt x="2811" y="159"/>
                    </a:lnTo>
                    <a:lnTo>
                      <a:pt x="2812" y="158"/>
                    </a:lnTo>
                    <a:lnTo>
                      <a:pt x="2814" y="158"/>
                    </a:lnTo>
                    <a:lnTo>
                      <a:pt x="2815" y="158"/>
                    </a:lnTo>
                    <a:lnTo>
                      <a:pt x="2817" y="159"/>
                    </a:lnTo>
                    <a:lnTo>
                      <a:pt x="2818" y="160"/>
                    </a:lnTo>
                    <a:lnTo>
                      <a:pt x="2818" y="161"/>
                    </a:lnTo>
                    <a:lnTo>
                      <a:pt x="2836" y="161"/>
                    </a:lnTo>
                    <a:lnTo>
                      <a:pt x="2837" y="160"/>
                    </a:lnTo>
                    <a:lnTo>
                      <a:pt x="2838" y="159"/>
                    </a:lnTo>
                    <a:lnTo>
                      <a:pt x="2839" y="158"/>
                    </a:lnTo>
                    <a:lnTo>
                      <a:pt x="2841" y="158"/>
                    </a:lnTo>
                    <a:lnTo>
                      <a:pt x="2842" y="158"/>
                    </a:lnTo>
                    <a:lnTo>
                      <a:pt x="2844" y="159"/>
                    </a:lnTo>
                    <a:lnTo>
                      <a:pt x="2845" y="160"/>
                    </a:lnTo>
                    <a:lnTo>
                      <a:pt x="2845" y="161"/>
                    </a:lnTo>
                    <a:lnTo>
                      <a:pt x="2864" y="161"/>
                    </a:lnTo>
                    <a:lnTo>
                      <a:pt x="2864" y="160"/>
                    </a:lnTo>
                    <a:lnTo>
                      <a:pt x="2865" y="159"/>
                    </a:lnTo>
                    <a:lnTo>
                      <a:pt x="2867" y="158"/>
                    </a:lnTo>
                    <a:lnTo>
                      <a:pt x="2868" y="158"/>
                    </a:lnTo>
                    <a:lnTo>
                      <a:pt x="2870" y="158"/>
                    </a:lnTo>
                    <a:lnTo>
                      <a:pt x="2872" y="159"/>
                    </a:lnTo>
                    <a:lnTo>
                      <a:pt x="2873" y="160"/>
                    </a:lnTo>
                    <a:lnTo>
                      <a:pt x="2873" y="161"/>
                    </a:lnTo>
                    <a:lnTo>
                      <a:pt x="2891" y="161"/>
                    </a:lnTo>
                    <a:lnTo>
                      <a:pt x="2891" y="160"/>
                    </a:lnTo>
                    <a:lnTo>
                      <a:pt x="2892" y="159"/>
                    </a:lnTo>
                    <a:lnTo>
                      <a:pt x="2894" y="158"/>
                    </a:lnTo>
                    <a:lnTo>
                      <a:pt x="2896" y="158"/>
                    </a:lnTo>
                    <a:lnTo>
                      <a:pt x="2897" y="158"/>
                    </a:lnTo>
                    <a:lnTo>
                      <a:pt x="2899" y="159"/>
                    </a:lnTo>
                    <a:lnTo>
                      <a:pt x="2900" y="160"/>
                    </a:lnTo>
                    <a:lnTo>
                      <a:pt x="2900" y="161"/>
                    </a:lnTo>
                    <a:lnTo>
                      <a:pt x="2905" y="161"/>
                    </a:lnTo>
                    <a:lnTo>
                      <a:pt x="2906" y="160"/>
                    </a:lnTo>
                    <a:lnTo>
                      <a:pt x="2907" y="159"/>
                    </a:lnTo>
                    <a:lnTo>
                      <a:pt x="2908" y="158"/>
                    </a:lnTo>
                    <a:lnTo>
                      <a:pt x="2910" y="158"/>
                    </a:lnTo>
                    <a:lnTo>
                      <a:pt x="2912" y="158"/>
                    </a:lnTo>
                    <a:lnTo>
                      <a:pt x="2913" y="159"/>
                    </a:lnTo>
                    <a:lnTo>
                      <a:pt x="2914" y="160"/>
                    </a:lnTo>
                    <a:lnTo>
                      <a:pt x="2914" y="161"/>
                    </a:lnTo>
                    <a:lnTo>
                      <a:pt x="3202" y="161"/>
                    </a:lnTo>
                    <a:lnTo>
                      <a:pt x="3202" y="160"/>
                    </a:lnTo>
                    <a:lnTo>
                      <a:pt x="3203" y="159"/>
                    </a:lnTo>
                    <a:lnTo>
                      <a:pt x="3205" y="158"/>
                    </a:lnTo>
                    <a:lnTo>
                      <a:pt x="3206" y="158"/>
                    </a:lnTo>
                    <a:lnTo>
                      <a:pt x="3208" y="158"/>
                    </a:lnTo>
                    <a:lnTo>
                      <a:pt x="3210" y="159"/>
                    </a:lnTo>
                    <a:lnTo>
                      <a:pt x="3211" y="160"/>
                    </a:lnTo>
                    <a:lnTo>
                      <a:pt x="3211" y="161"/>
                    </a:lnTo>
                    <a:lnTo>
                      <a:pt x="3253" y="161"/>
                    </a:lnTo>
                    <a:lnTo>
                      <a:pt x="3253" y="0"/>
                    </a:lnTo>
                    <a:lnTo>
                      <a:pt x="3244"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8472240" y="3459960"/>
                <a:ext cx="13680" cy="11880"/>
              </a:xfrm>
              <a:custGeom>
                <a:avLst/>
                <a:gdLst/>
                <a:ahLst/>
                <a:rect l="l" t="t" r="r" b="b"/>
                <a:pathLst>
                  <a:path w="13" h="9">
                    <a:moveTo>
                      <a:pt x="11" y="9"/>
                    </a:moveTo>
                    <a:lnTo>
                      <a:pt x="0" y="5"/>
                    </a:lnTo>
                    <a:lnTo>
                      <a:pt x="11" y="0"/>
                    </a:lnTo>
                    <a:lnTo>
                      <a:pt x="13" y="3"/>
                    </a:lnTo>
                    <a:lnTo>
                      <a:pt x="13" y="5"/>
                    </a:lnTo>
                    <a:lnTo>
                      <a:pt x="13" y="7"/>
                    </a:lnTo>
                    <a:lnTo>
                      <a:pt x="11"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09" name=""/>
              <p:cNvSpPr/>
              <p:nvPr/>
            </p:nvSpPr>
            <p:spPr>
              <a:xfrm>
                <a:off x="6292440" y="3441240"/>
                <a:ext cx="1852560" cy="54720"/>
              </a:xfrm>
              <a:custGeom>
                <a:avLst/>
                <a:gdLst/>
                <a:ahLst/>
                <a:rect l="l" t="t" r="r" b="b"/>
                <a:pathLst>
                  <a:path w="1750" h="41">
                    <a:moveTo>
                      <a:pt x="0" y="41"/>
                    </a:moveTo>
                    <a:lnTo>
                      <a:pt x="0" y="7"/>
                    </a:lnTo>
                    <a:lnTo>
                      <a:pt x="55" y="7"/>
                    </a:lnTo>
                    <a:lnTo>
                      <a:pt x="55" y="6"/>
                    </a:lnTo>
                    <a:lnTo>
                      <a:pt x="56" y="4"/>
                    </a:lnTo>
                    <a:lnTo>
                      <a:pt x="57" y="4"/>
                    </a:lnTo>
                    <a:lnTo>
                      <a:pt x="59" y="3"/>
                    </a:lnTo>
                    <a:lnTo>
                      <a:pt x="61" y="4"/>
                    </a:lnTo>
                    <a:lnTo>
                      <a:pt x="62" y="4"/>
                    </a:lnTo>
                    <a:lnTo>
                      <a:pt x="63" y="6"/>
                    </a:lnTo>
                    <a:lnTo>
                      <a:pt x="64" y="7"/>
                    </a:lnTo>
                    <a:lnTo>
                      <a:pt x="72" y="7"/>
                    </a:lnTo>
                    <a:lnTo>
                      <a:pt x="72" y="6"/>
                    </a:lnTo>
                    <a:lnTo>
                      <a:pt x="73" y="4"/>
                    </a:lnTo>
                    <a:lnTo>
                      <a:pt x="74" y="4"/>
                    </a:lnTo>
                    <a:lnTo>
                      <a:pt x="76" y="3"/>
                    </a:lnTo>
                    <a:lnTo>
                      <a:pt x="78" y="4"/>
                    </a:lnTo>
                    <a:lnTo>
                      <a:pt x="79" y="4"/>
                    </a:lnTo>
                    <a:lnTo>
                      <a:pt x="80" y="6"/>
                    </a:lnTo>
                    <a:lnTo>
                      <a:pt x="81" y="7"/>
                    </a:lnTo>
                    <a:lnTo>
                      <a:pt x="112" y="7"/>
                    </a:lnTo>
                    <a:lnTo>
                      <a:pt x="113" y="6"/>
                    </a:lnTo>
                    <a:lnTo>
                      <a:pt x="113" y="4"/>
                    </a:lnTo>
                    <a:lnTo>
                      <a:pt x="115" y="4"/>
                    </a:lnTo>
                    <a:lnTo>
                      <a:pt x="117" y="3"/>
                    </a:lnTo>
                    <a:lnTo>
                      <a:pt x="118" y="4"/>
                    </a:lnTo>
                    <a:lnTo>
                      <a:pt x="120" y="4"/>
                    </a:lnTo>
                    <a:lnTo>
                      <a:pt x="121" y="6"/>
                    </a:lnTo>
                    <a:lnTo>
                      <a:pt x="121" y="7"/>
                    </a:lnTo>
                    <a:lnTo>
                      <a:pt x="136" y="7"/>
                    </a:lnTo>
                    <a:lnTo>
                      <a:pt x="136" y="6"/>
                    </a:lnTo>
                    <a:lnTo>
                      <a:pt x="137" y="4"/>
                    </a:lnTo>
                    <a:lnTo>
                      <a:pt x="139" y="4"/>
                    </a:lnTo>
                    <a:lnTo>
                      <a:pt x="140" y="3"/>
                    </a:lnTo>
                    <a:lnTo>
                      <a:pt x="142" y="4"/>
                    </a:lnTo>
                    <a:lnTo>
                      <a:pt x="143" y="4"/>
                    </a:lnTo>
                    <a:lnTo>
                      <a:pt x="144" y="6"/>
                    </a:lnTo>
                    <a:lnTo>
                      <a:pt x="145" y="7"/>
                    </a:lnTo>
                    <a:lnTo>
                      <a:pt x="197" y="7"/>
                    </a:lnTo>
                    <a:lnTo>
                      <a:pt x="197" y="6"/>
                    </a:lnTo>
                    <a:lnTo>
                      <a:pt x="198" y="4"/>
                    </a:lnTo>
                    <a:lnTo>
                      <a:pt x="199" y="4"/>
                    </a:lnTo>
                    <a:lnTo>
                      <a:pt x="201" y="3"/>
                    </a:lnTo>
                    <a:lnTo>
                      <a:pt x="203" y="4"/>
                    </a:lnTo>
                    <a:lnTo>
                      <a:pt x="204" y="4"/>
                    </a:lnTo>
                    <a:lnTo>
                      <a:pt x="205" y="6"/>
                    </a:lnTo>
                    <a:lnTo>
                      <a:pt x="206" y="7"/>
                    </a:lnTo>
                    <a:lnTo>
                      <a:pt x="208" y="7"/>
                    </a:lnTo>
                    <a:lnTo>
                      <a:pt x="209" y="6"/>
                    </a:lnTo>
                    <a:lnTo>
                      <a:pt x="210" y="4"/>
                    </a:lnTo>
                    <a:lnTo>
                      <a:pt x="211" y="4"/>
                    </a:lnTo>
                    <a:lnTo>
                      <a:pt x="213" y="3"/>
                    </a:lnTo>
                    <a:lnTo>
                      <a:pt x="215" y="4"/>
                    </a:lnTo>
                    <a:lnTo>
                      <a:pt x="216" y="4"/>
                    </a:lnTo>
                    <a:lnTo>
                      <a:pt x="217" y="6"/>
                    </a:lnTo>
                    <a:lnTo>
                      <a:pt x="217" y="7"/>
                    </a:lnTo>
                    <a:lnTo>
                      <a:pt x="222" y="7"/>
                    </a:lnTo>
                    <a:lnTo>
                      <a:pt x="222" y="6"/>
                    </a:lnTo>
                    <a:lnTo>
                      <a:pt x="223" y="4"/>
                    </a:lnTo>
                    <a:lnTo>
                      <a:pt x="225" y="4"/>
                    </a:lnTo>
                    <a:lnTo>
                      <a:pt x="226" y="3"/>
                    </a:lnTo>
                    <a:lnTo>
                      <a:pt x="228" y="4"/>
                    </a:lnTo>
                    <a:lnTo>
                      <a:pt x="229" y="4"/>
                    </a:lnTo>
                    <a:lnTo>
                      <a:pt x="231" y="6"/>
                    </a:lnTo>
                    <a:lnTo>
                      <a:pt x="231" y="7"/>
                    </a:lnTo>
                    <a:lnTo>
                      <a:pt x="255" y="7"/>
                    </a:lnTo>
                    <a:lnTo>
                      <a:pt x="255" y="6"/>
                    </a:lnTo>
                    <a:lnTo>
                      <a:pt x="257" y="4"/>
                    </a:lnTo>
                    <a:lnTo>
                      <a:pt x="258" y="4"/>
                    </a:lnTo>
                    <a:lnTo>
                      <a:pt x="260" y="3"/>
                    </a:lnTo>
                    <a:lnTo>
                      <a:pt x="261" y="4"/>
                    </a:lnTo>
                    <a:lnTo>
                      <a:pt x="263" y="4"/>
                    </a:lnTo>
                    <a:lnTo>
                      <a:pt x="264" y="6"/>
                    </a:lnTo>
                    <a:lnTo>
                      <a:pt x="264" y="7"/>
                    </a:lnTo>
                    <a:lnTo>
                      <a:pt x="278" y="7"/>
                    </a:lnTo>
                    <a:lnTo>
                      <a:pt x="278" y="5"/>
                    </a:lnTo>
                    <a:lnTo>
                      <a:pt x="279" y="4"/>
                    </a:lnTo>
                    <a:lnTo>
                      <a:pt x="280" y="3"/>
                    </a:lnTo>
                    <a:lnTo>
                      <a:pt x="282" y="2"/>
                    </a:lnTo>
                    <a:lnTo>
                      <a:pt x="284" y="2"/>
                    </a:lnTo>
                    <a:lnTo>
                      <a:pt x="286" y="2"/>
                    </a:lnTo>
                    <a:lnTo>
                      <a:pt x="287" y="3"/>
                    </a:lnTo>
                    <a:lnTo>
                      <a:pt x="289" y="4"/>
                    </a:lnTo>
                    <a:lnTo>
                      <a:pt x="289" y="5"/>
                    </a:lnTo>
                    <a:lnTo>
                      <a:pt x="290" y="7"/>
                    </a:lnTo>
                    <a:lnTo>
                      <a:pt x="291" y="7"/>
                    </a:lnTo>
                    <a:lnTo>
                      <a:pt x="291" y="6"/>
                    </a:lnTo>
                    <a:lnTo>
                      <a:pt x="292" y="4"/>
                    </a:lnTo>
                    <a:lnTo>
                      <a:pt x="294" y="4"/>
                    </a:lnTo>
                    <a:lnTo>
                      <a:pt x="295" y="3"/>
                    </a:lnTo>
                    <a:lnTo>
                      <a:pt x="297" y="4"/>
                    </a:lnTo>
                    <a:lnTo>
                      <a:pt x="298" y="4"/>
                    </a:lnTo>
                    <a:lnTo>
                      <a:pt x="300" y="6"/>
                    </a:lnTo>
                    <a:lnTo>
                      <a:pt x="300" y="7"/>
                    </a:lnTo>
                    <a:lnTo>
                      <a:pt x="308" y="7"/>
                    </a:lnTo>
                    <a:lnTo>
                      <a:pt x="308" y="6"/>
                    </a:lnTo>
                    <a:lnTo>
                      <a:pt x="309" y="4"/>
                    </a:lnTo>
                    <a:lnTo>
                      <a:pt x="311" y="4"/>
                    </a:lnTo>
                    <a:lnTo>
                      <a:pt x="313" y="3"/>
                    </a:lnTo>
                    <a:lnTo>
                      <a:pt x="314" y="4"/>
                    </a:lnTo>
                    <a:lnTo>
                      <a:pt x="316" y="4"/>
                    </a:lnTo>
                    <a:lnTo>
                      <a:pt x="317" y="6"/>
                    </a:lnTo>
                    <a:lnTo>
                      <a:pt x="317" y="7"/>
                    </a:lnTo>
                    <a:lnTo>
                      <a:pt x="352" y="7"/>
                    </a:lnTo>
                    <a:lnTo>
                      <a:pt x="352" y="6"/>
                    </a:lnTo>
                    <a:lnTo>
                      <a:pt x="353" y="4"/>
                    </a:lnTo>
                    <a:lnTo>
                      <a:pt x="355" y="4"/>
                    </a:lnTo>
                    <a:lnTo>
                      <a:pt x="356" y="3"/>
                    </a:lnTo>
                    <a:lnTo>
                      <a:pt x="358" y="4"/>
                    </a:lnTo>
                    <a:lnTo>
                      <a:pt x="360" y="4"/>
                    </a:lnTo>
                    <a:lnTo>
                      <a:pt x="361" y="6"/>
                    </a:lnTo>
                    <a:lnTo>
                      <a:pt x="361" y="7"/>
                    </a:lnTo>
                    <a:lnTo>
                      <a:pt x="408" y="7"/>
                    </a:lnTo>
                    <a:lnTo>
                      <a:pt x="408" y="6"/>
                    </a:lnTo>
                    <a:lnTo>
                      <a:pt x="409" y="4"/>
                    </a:lnTo>
                    <a:lnTo>
                      <a:pt x="411" y="4"/>
                    </a:lnTo>
                    <a:lnTo>
                      <a:pt x="412" y="3"/>
                    </a:lnTo>
                    <a:lnTo>
                      <a:pt x="414" y="4"/>
                    </a:lnTo>
                    <a:lnTo>
                      <a:pt x="415" y="4"/>
                    </a:lnTo>
                    <a:lnTo>
                      <a:pt x="416" y="6"/>
                    </a:lnTo>
                    <a:lnTo>
                      <a:pt x="417" y="7"/>
                    </a:lnTo>
                    <a:lnTo>
                      <a:pt x="513" y="7"/>
                    </a:lnTo>
                    <a:lnTo>
                      <a:pt x="514" y="6"/>
                    </a:lnTo>
                    <a:lnTo>
                      <a:pt x="515" y="4"/>
                    </a:lnTo>
                    <a:lnTo>
                      <a:pt x="516" y="4"/>
                    </a:lnTo>
                    <a:lnTo>
                      <a:pt x="518" y="3"/>
                    </a:lnTo>
                    <a:lnTo>
                      <a:pt x="519" y="4"/>
                    </a:lnTo>
                    <a:lnTo>
                      <a:pt x="521" y="4"/>
                    </a:lnTo>
                    <a:lnTo>
                      <a:pt x="522" y="6"/>
                    </a:lnTo>
                    <a:lnTo>
                      <a:pt x="522" y="7"/>
                    </a:lnTo>
                    <a:lnTo>
                      <a:pt x="533" y="7"/>
                    </a:lnTo>
                    <a:lnTo>
                      <a:pt x="533" y="6"/>
                    </a:lnTo>
                    <a:lnTo>
                      <a:pt x="534" y="4"/>
                    </a:lnTo>
                    <a:lnTo>
                      <a:pt x="535" y="4"/>
                    </a:lnTo>
                    <a:lnTo>
                      <a:pt x="537" y="3"/>
                    </a:lnTo>
                    <a:lnTo>
                      <a:pt x="539" y="4"/>
                    </a:lnTo>
                    <a:lnTo>
                      <a:pt x="540" y="4"/>
                    </a:lnTo>
                    <a:lnTo>
                      <a:pt x="541" y="6"/>
                    </a:lnTo>
                    <a:lnTo>
                      <a:pt x="542" y="7"/>
                    </a:lnTo>
                    <a:lnTo>
                      <a:pt x="577" y="7"/>
                    </a:lnTo>
                    <a:lnTo>
                      <a:pt x="577" y="6"/>
                    </a:lnTo>
                    <a:lnTo>
                      <a:pt x="578" y="4"/>
                    </a:lnTo>
                    <a:lnTo>
                      <a:pt x="579" y="4"/>
                    </a:lnTo>
                    <a:lnTo>
                      <a:pt x="581" y="3"/>
                    </a:lnTo>
                    <a:lnTo>
                      <a:pt x="583" y="4"/>
                    </a:lnTo>
                    <a:lnTo>
                      <a:pt x="584" y="4"/>
                    </a:lnTo>
                    <a:lnTo>
                      <a:pt x="585" y="6"/>
                    </a:lnTo>
                    <a:lnTo>
                      <a:pt x="585" y="7"/>
                    </a:lnTo>
                    <a:lnTo>
                      <a:pt x="609" y="7"/>
                    </a:lnTo>
                    <a:lnTo>
                      <a:pt x="609" y="5"/>
                    </a:lnTo>
                    <a:lnTo>
                      <a:pt x="610" y="3"/>
                    </a:lnTo>
                    <a:lnTo>
                      <a:pt x="612" y="2"/>
                    </a:lnTo>
                    <a:lnTo>
                      <a:pt x="614" y="1"/>
                    </a:lnTo>
                    <a:lnTo>
                      <a:pt x="616" y="0"/>
                    </a:lnTo>
                    <a:lnTo>
                      <a:pt x="619" y="0"/>
                    </a:lnTo>
                    <a:lnTo>
                      <a:pt x="621" y="1"/>
                    </a:lnTo>
                    <a:lnTo>
                      <a:pt x="623" y="2"/>
                    </a:lnTo>
                    <a:lnTo>
                      <a:pt x="625" y="3"/>
                    </a:lnTo>
                    <a:lnTo>
                      <a:pt x="626" y="5"/>
                    </a:lnTo>
                    <a:lnTo>
                      <a:pt x="626" y="7"/>
                    </a:lnTo>
                    <a:lnTo>
                      <a:pt x="655" y="7"/>
                    </a:lnTo>
                    <a:lnTo>
                      <a:pt x="655" y="6"/>
                    </a:lnTo>
                    <a:lnTo>
                      <a:pt x="656" y="4"/>
                    </a:lnTo>
                    <a:lnTo>
                      <a:pt x="657" y="4"/>
                    </a:lnTo>
                    <a:lnTo>
                      <a:pt x="659" y="3"/>
                    </a:lnTo>
                    <a:lnTo>
                      <a:pt x="661" y="4"/>
                    </a:lnTo>
                    <a:lnTo>
                      <a:pt x="662" y="4"/>
                    </a:lnTo>
                    <a:lnTo>
                      <a:pt x="663" y="6"/>
                    </a:lnTo>
                    <a:lnTo>
                      <a:pt x="664" y="7"/>
                    </a:lnTo>
                    <a:lnTo>
                      <a:pt x="717" y="7"/>
                    </a:lnTo>
                    <a:lnTo>
                      <a:pt x="717" y="6"/>
                    </a:lnTo>
                    <a:lnTo>
                      <a:pt x="718" y="4"/>
                    </a:lnTo>
                    <a:lnTo>
                      <a:pt x="719" y="4"/>
                    </a:lnTo>
                    <a:lnTo>
                      <a:pt x="721" y="3"/>
                    </a:lnTo>
                    <a:lnTo>
                      <a:pt x="723" y="4"/>
                    </a:lnTo>
                    <a:lnTo>
                      <a:pt x="724" y="4"/>
                    </a:lnTo>
                    <a:lnTo>
                      <a:pt x="725" y="6"/>
                    </a:lnTo>
                    <a:lnTo>
                      <a:pt x="726" y="7"/>
                    </a:lnTo>
                    <a:lnTo>
                      <a:pt x="730" y="7"/>
                    </a:lnTo>
                    <a:lnTo>
                      <a:pt x="731" y="6"/>
                    </a:lnTo>
                    <a:lnTo>
                      <a:pt x="731" y="4"/>
                    </a:lnTo>
                    <a:lnTo>
                      <a:pt x="733" y="4"/>
                    </a:lnTo>
                    <a:lnTo>
                      <a:pt x="735" y="3"/>
                    </a:lnTo>
                    <a:lnTo>
                      <a:pt x="736" y="4"/>
                    </a:lnTo>
                    <a:lnTo>
                      <a:pt x="738" y="4"/>
                    </a:lnTo>
                    <a:lnTo>
                      <a:pt x="739" y="6"/>
                    </a:lnTo>
                    <a:lnTo>
                      <a:pt x="739" y="7"/>
                    </a:lnTo>
                    <a:lnTo>
                      <a:pt x="750" y="7"/>
                    </a:lnTo>
                    <a:lnTo>
                      <a:pt x="751" y="6"/>
                    </a:lnTo>
                    <a:lnTo>
                      <a:pt x="752" y="4"/>
                    </a:lnTo>
                    <a:lnTo>
                      <a:pt x="753" y="4"/>
                    </a:lnTo>
                    <a:lnTo>
                      <a:pt x="755" y="3"/>
                    </a:lnTo>
                    <a:lnTo>
                      <a:pt x="757" y="4"/>
                    </a:lnTo>
                    <a:lnTo>
                      <a:pt x="758" y="4"/>
                    </a:lnTo>
                    <a:lnTo>
                      <a:pt x="759" y="6"/>
                    </a:lnTo>
                    <a:lnTo>
                      <a:pt x="759" y="7"/>
                    </a:lnTo>
                    <a:lnTo>
                      <a:pt x="765" y="7"/>
                    </a:lnTo>
                    <a:lnTo>
                      <a:pt x="766" y="6"/>
                    </a:lnTo>
                    <a:lnTo>
                      <a:pt x="766" y="4"/>
                    </a:lnTo>
                    <a:lnTo>
                      <a:pt x="768" y="4"/>
                    </a:lnTo>
                    <a:lnTo>
                      <a:pt x="770" y="3"/>
                    </a:lnTo>
                    <a:lnTo>
                      <a:pt x="771" y="4"/>
                    </a:lnTo>
                    <a:lnTo>
                      <a:pt x="773" y="4"/>
                    </a:lnTo>
                    <a:lnTo>
                      <a:pt x="774" y="6"/>
                    </a:lnTo>
                    <a:lnTo>
                      <a:pt x="774" y="7"/>
                    </a:lnTo>
                    <a:lnTo>
                      <a:pt x="817" y="7"/>
                    </a:lnTo>
                    <a:lnTo>
                      <a:pt x="817" y="6"/>
                    </a:lnTo>
                    <a:lnTo>
                      <a:pt x="818" y="4"/>
                    </a:lnTo>
                    <a:lnTo>
                      <a:pt x="820" y="4"/>
                    </a:lnTo>
                    <a:lnTo>
                      <a:pt x="822" y="3"/>
                    </a:lnTo>
                    <a:lnTo>
                      <a:pt x="823" y="4"/>
                    </a:lnTo>
                    <a:lnTo>
                      <a:pt x="825" y="4"/>
                    </a:lnTo>
                    <a:lnTo>
                      <a:pt x="826" y="6"/>
                    </a:lnTo>
                    <a:lnTo>
                      <a:pt x="826" y="7"/>
                    </a:lnTo>
                    <a:lnTo>
                      <a:pt x="835" y="7"/>
                    </a:lnTo>
                    <a:lnTo>
                      <a:pt x="835" y="5"/>
                    </a:lnTo>
                    <a:lnTo>
                      <a:pt x="836" y="3"/>
                    </a:lnTo>
                    <a:lnTo>
                      <a:pt x="838" y="2"/>
                    </a:lnTo>
                    <a:lnTo>
                      <a:pt x="840" y="1"/>
                    </a:lnTo>
                    <a:lnTo>
                      <a:pt x="842" y="0"/>
                    </a:lnTo>
                    <a:lnTo>
                      <a:pt x="845" y="0"/>
                    </a:lnTo>
                    <a:lnTo>
                      <a:pt x="847" y="1"/>
                    </a:lnTo>
                    <a:lnTo>
                      <a:pt x="849" y="2"/>
                    </a:lnTo>
                    <a:lnTo>
                      <a:pt x="850" y="3"/>
                    </a:lnTo>
                    <a:lnTo>
                      <a:pt x="851" y="5"/>
                    </a:lnTo>
                    <a:lnTo>
                      <a:pt x="852" y="7"/>
                    </a:lnTo>
                    <a:lnTo>
                      <a:pt x="855" y="7"/>
                    </a:lnTo>
                    <a:lnTo>
                      <a:pt x="856" y="6"/>
                    </a:lnTo>
                    <a:lnTo>
                      <a:pt x="856" y="4"/>
                    </a:lnTo>
                    <a:lnTo>
                      <a:pt x="858" y="4"/>
                    </a:lnTo>
                    <a:lnTo>
                      <a:pt x="860" y="3"/>
                    </a:lnTo>
                    <a:lnTo>
                      <a:pt x="861" y="4"/>
                    </a:lnTo>
                    <a:lnTo>
                      <a:pt x="863" y="4"/>
                    </a:lnTo>
                    <a:lnTo>
                      <a:pt x="864" y="6"/>
                    </a:lnTo>
                    <a:lnTo>
                      <a:pt x="864" y="7"/>
                    </a:lnTo>
                    <a:lnTo>
                      <a:pt x="973" y="7"/>
                    </a:lnTo>
                    <a:lnTo>
                      <a:pt x="974" y="6"/>
                    </a:lnTo>
                    <a:lnTo>
                      <a:pt x="975" y="4"/>
                    </a:lnTo>
                    <a:lnTo>
                      <a:pt x="976" y="4"/>
                    </a:lnTo>
                    <a:lnTo>
                      <a:pt x="978" y="3"/>
                    </a:lnTo>
                    <a:lnTo>
                      <a:pt x="979" y="4"/>
                    </a:lnTo>
                    <a:lnTo>
                      <a:pt x="981" y="4"/>
                    </a:lnTo>
                    <a:lnTo>
                      <a:pt x="982" y="6"/>
                    </a:lnTo>
                    <a:lnTo>
                      <a:pt x="982" y="7"/>
                    </a:lnTo>
                    <a:lnTo>
                      <a:pt x="1103" y="7"/>
                    </a:lnTo>
                    <a:lnTo>
                      <a:pt x="1103" y="6"/>
                    </a:lnTo>
                    <a:lnTo>
                      <a:pt x="1104" y="4"/>
                    </a:lnTo>
                    <a:lnTo>
                      <a:pt x="1105" y="4"/>
                    </a:lnTo>
                    <a:lnTo>
                      <a:pt x="1107" y="3"/>
                    </a:lnTo>
                    <a:lnTo>
                      <a:pt x="1109" y="4"/>
                    </a:lnTo>
                    <a:lnTo>
                      <a:pt x="1110" y="4"/>
                    </a:lnTo>
                    <a:lnTo>
                      <a:pt x="1111" y="6"/>
                    </a:lnTo>
                    <a:lnTo>
                      <a:pt x="1112" y="7"/>
                    </a:lnTo>
                    <a:lnTo>
                      <a:pt x="1119" y="7"/>
                    </a:lnTo>
                    <a:lnTo>
                      <a:pt x="1119" y="6"/>
                    </a:lnTo>
                    <a:lnTo>
                      <a:pt x="1120" y="4"/>
                    </a:lnTo>
                    <a:lnTo>
                      <a:pt x="1121" y="4"/>
                    </a:lnTo>
                    <a:lnTo>
                      <a:pt x="1123" y="3"/>
                    </a:lnTo>
                    <a:lnTo>
                      <a:pt x="1125" y="4"/>
                    </a:lnTo>
                    <a:lnTo>
                      <a:pt x="1126" y="4"/>
                    </a:lnTo>
                    <a:lnTo>
                      <a:pt x="1127" y="6"/>
                    </a:lnTo>
                    <a:lnTo>
                      <a:pt x="1128" y="7"/>
                    </a:lnTo>
                    <a:lnTo>
                      <a:pt x="1135" y="7"/>
                    </a:lnTo>
                    <a:lnTo>
                      <a:pt x="1135" y="6"/>
                    </a:lnTo>
                    <a:lnTo>
                      <a:pt x="1136" y="4"/>
                    </a:lnTo>
                    <a:lnTo>
                      <a:pt x="1138" y="4"/>
                    </a:lnTo>
                    <a:lnTo>
                      <a:pt x="1139" y="3"/>
                    </a:lnTo>
                    <a:lnTo>
                      <a:pt x="1141" y="4"/>
                    </a:lnTo>
                    <a:lnTo>
                      <a:pt x="1143" y="4"/>
                    </a:lnTo>
                    <a:lnTo>
                      <a:pt x="1144" y="6"/>
                    </a:lnTo>
                    <a:lnTo>
                      <a:pt x="1144" y="7"/>
                    </a:lnTo>
                    <a:lnTo>
                      <a:pt x="1183" y="7"/>
                    </a:lnTo>
                    <a:lnTo>
                      <a:pt x="1183" y="6"/>
                    </a:lnTo>
                    <a:lnTo>
                      <a:pt x="1184" y="4"/>
                    </a:lnTo>
                    <a:lnTo>
                      <a:pt x="1186" y="4"/>
                    </a:lnTo>
                    <a:lnTo>
                      <a:pt x="1187" y="3"/>
                    </a:lnTo>
                    <a:lnTo>
                      <a:pt x="1189" y="4"/>
                    </a:lnTo>
                    <a:lnTo>
                      <a:pt x="1190" y="4"/>
                    </a:lnTo>
                    <a:lnTo>
                      <a:pt x="1191" y="6"/>
                    </a:lnTo>
                    <a:lnTo>
                      <a:pt x="1192" y="7"/>
                    </a:lnTo>
                    <a:lnTo>
                      <a:pt x="1196" y="7"/>
                    </a:lnTo>
                    <a:lnTo>
                      <a:pt x="1197" y="6"/>
                    </a:lnTo>
                    <a:lnTo>
                      <a:pt x="1198" y="4"/>
                    </a:lnTo>
                    <a:lnTo>
                      <a:pt x="1199" y="4"/>
                    </a:lnTo>
                    <a:lnTo>
                      <a:pt x="1201" y="3"/>
                    </a:lnTo>
                    <a:lnTo>
                      <a:pt x="1202" y="4"/>
                    </a:lnTo>
                    <a:lnTo>
                      <a:pt x="1204" y="4"/>
                    </a:lnTo>
                    <a:lnTo>
                      <a:pt x="1205" y="6"/>
                    </a:lnTo>
                    <a:lnTo>
                      <a:pt x="1205" y="7"/>
                    </a:lnTo>
                    <a:lnTo>
                      <a:pt x="1274" y="7"/>
                    </a:lnTo>
                    <a:lnTo>
                      <a:pt x="1274" y="6"/>
                    </a:lnTo>
                    <a:lnTo>
                      <a:pt x="1275" y="4"/>
                    </a:lnTo>
                    <a:lnTo>
                      <a:pt x="1277" y="4"/>
                    </a:lnTo>
                    <a:lnTo>
                      <a:pt x="1278" y="3"/>
                    </a:lnTo>
                    <a:lnTo>
                      <a:pt x="1280" y="4"/>
                    </a:lnTo>
                    <a:lnTo>
                      <a:pt x="1282" y="4"/>
                    </a:lnTo>
                    <a:lnTo>
                      <a:pt x="1283" y="6"/>
                    </a:lnTo>
                    <a:lnTo>
                      <a:pt x="1283" y="7"/>
                    </a:lnTo>
                    <a:lnTo>
                      <a:pt x="1301" y="7"/>
                    </a:lnTo>
                    <a:lnTo>
                      <a:pt x="1301" y="6"/>
                    </a:lnTo>
                    <a:lnTo>
                      <a:pt x="1302" y="4"/>
                    </a:lnTo>
                    <a:lnTo>
                      <a:pt x="1304" y="4"/>
                    </a:lnTo>
                    <a:lnTo>
                      <a:pt x="1306" y="3"/>
                    </a:lnTo>
                    <a:lnTo>
                      <a:pt x="1307" y="4"/>
                    </a:lnTo>
                    <a:lnTo>
                      <a:pt x="1309" y="4"/>
                    </a:lnTo>
                    <a:lnTo>
                      <a:pt x="1310" y="6"/>
                    </a:lnTo>
                    <a:lnTo>
                      <a:pt x="1310" y="7"/>
                    </a:lnTo>
                    <a:lnTo>
                      <a:pt x="1313" y="7"/>
                    </a:lnTo>
                    <a:lnTo>
                      <a:pt x="1313" y="6"/>
                    </a:lnTo>
                    <a:lnTo>
                      <a:pt x="1314" y="4"/>
                    </a:lnTo>
                    <a:lnTo>
                      <a:pt x="1316" y="4"/>
                    </a:lnTo>
                    <a:lnTo>
                      <a:pt x="1317" y="3"/>
                    </a:lnTo>
                    <a:lnTo>
                      <a:pt x="1319" y="4"/>
                    </a:lnTo>
                    <a:lnTo>
                      <a:pt x="1320" y="4"/>
                    </a:lnTo>
                    <a:lnTo>
                      <a:pt x="1321" y="6"/>
                    </a:lnTo>
                    <a:lnTo>
                      <a:pt x="1322" y="7"/>
                    </a:lnTo>
                    <a:lnTo>
                      <a:pt x="1325" y="7"/>
                    </a:lnTo>
                    <a:lnTo>
                      <a:pt x="1325" y="6"/>
                    </a:lnTo>
                    <a:lnTo>
                      <a:pt x="1326" y="4"/>
                    </a:lnTo>
                    <a:lnTo>
                      <a:pt x="1327" y="4"/>
                    </a:lnTo>
                    <a:lnTo>
                      <a:pt x="1329" y="3"/>
                    </a:lnTo>
                    <a:lnTo>
                      <a:pt x="1331" y="4"/>
                    </a:lnTo>
                    <a:lnTo>
                      <a:pt x="1332" y="4"/>
                    </a:lnTo>
                    <a:lnTo>
                      <a:pt x="1333" y="6"/>
                    </a:lnTo>
                    <a:lnTo>
                      <a:pt x="1334" y="7"/>
                    </a:lnTo>
                    <a:lnTo>
                      <a:pt x="1390" y="7"/>
                    </a:lnTo>
                    <a:lnTo>
                      <a:pt x="1390" y="6"/>
                    </a:lnTo>
                    <a:lnTo>
                      <a:pt x="1391" y="4"/>
                    </a:lnTo>
                    <a:lnTo>
                      <a:pt x="1393" y="4"/>
                    </a:lnTo>
                    <a:lnTo>
                      <a:pt x="1394" y="3"/>
                    </a:lnTo>
                    <a:lnTo>
                      <a:pt x="1396" y="4"/>
                    </a:lnTo>
                    <a:lnTo>
                      <a:pt x="1398" y="4"/>
                    </a:lnTo>
                    <a:lnTo>
                      <a:pt x="1398" y="6"/>
                    </a:lnTo>
                    <a:lnTo>
                      <a:pt x="1399" y="7"/>
                    </a:lnTo>
                    <a:lnTo>
                      <a:pt x="1444" y="7"/>
                    </a:lnTo>
                    <a:lnTo>
                      <a:pt x="1444" y="6"/>
                    </a:lnTo>
                    <a:lnTo>
                      <a:pt x="1445" y="4"/>
                    </a:lnTo>
                    <a:lnTo>
                      <a:pt x="1447" y="4"/>
                    </a:lnTo>
                    <a:lnTo>
                      <a:pt x="1448" y="3"/>
                    </a:lnTo>
                    <a:lnTo>
                      <a:pt x="1450" y="4"/>
                    </a:lnTo>
                    <a:lnTo>
                      <a:pt x="1452" y="4"/>
                    </a:lnTo>
                    <a:lnTo>
                      <a:pt x="1452" y="6"/>
                    </a:lnTo>
                    <a:lnTo>
                      <a:pt x="1453" y="7"/>
                    </a:lnTo>
                    <a:lnTo>
                      <a:pt x="1493" y="7"/>
                    </a:lnTo>
                    <a:lnTo>
                      <a:pt x="1494" y="6"/>
                    </a:lnTo>
                    <a:lnTo>
                      <a:pt x="1495" y="4"/>
                    </a:lnTo>
                    <a:lnTo>
                      <a:pt x="1496" y="4"/>
                    </a:lnTo>
                    <a:lnTo>
                      <a:pt x="1498" y="3"/>
                    </a:lnTo>
                    <a:lnTo>
                      <a:pt x="1500" y="4"/>
                    </a:lnTo>
                    <a:lnTo>
                      <a:pt x="1501" y="4"/>
                    </a:lnTo>
                    <a:lnTo>
                      <a:pt x="1502" y="6"/>
                    </a:lnTo>
                    <a:lnTo>
                      <a:pt x="1502" y="7"/>
                    </a:lnTo>
                    <a:lnTo>
                      <a:pt x="1543" y="7"/>
                    </a:lnTo>
                    <a:lnTo>
                      <a:pt x="1543" y="6"/>
                    </a:lnTo>
                    <a:lnTo>
                      <a:pt x="1544" y="4"/>
                    </a:lnTo>
                    <a:lnTo>
                      <a:pt x="1546" y="4"/>
                    </a:lnTo>
                    <a:lnTo>
                      <a:pt x="1547" y="3"/>
                    </a:lnTo>
                    <a:lnTo>
                      <a:pt x="1549" y="4"/>
                    </a:lnTo>
                    <a:lnTo>
                      <a:pt x="1551" y="4"/>
                    </a:lnTo>
                    <a:lnTo>
                      <a:pt x="1552" y="6"/>
                    </a:lnTo>
                    <a:lnTo>
                      <a:pt x="1552" y="7"/>
                    </a:lnTo>
                    <a:lnTo>
                      <a:pt x="1581" y="7"/>
                    </a:lnTo>
                    <a:lnTo>
                      <a:pt x="1582" y="6"/>
                    </a:lnTo>
                    <a:lnTo>
                      <a:pt x="1583" y="4"/>
                    </a:lnTo>
                    <a:lnTo>
                      <a:pt x="1584" y="4"/>
                    </a:lnTo>
                    <a:lnTo>
                      <a:pt x="1586" y="3"/>
                    </a:lnTo>
                    <a:lnTo>
                      <a:pt x="1588" y="4"/>
                    </a:lnTo>
                    <a:lnTo>
                      <a:pt x="1589" y="4"/>
                    </a:lnTo>
                    <a:lnTo>
                      <a:pt x="1590" y="6"/>
                    </a:lnTo>
                    <a:lnTo>
                      <a:pt x="1590" y="7"/>
                    </a:lnTo>
                    <a:lnTo>
                      <a:pt x="1622" y="7"/>
                    </a:lnTo>
                    <a:lnTo>
                      <a:pt x="1622" y="6"/>
                    </a:lnTo>
                    <a:lnTo>
                      <a:pt x="1623" y="4"/>
                    </a:lnTo>
                    <a:lnTo>
                      <a:pt x="1625" y="4"/>
                    </a:lnTo>
                    <a:lnTo>
                      <a:pt x="1626" y="3"/>
                    </a:lnTo>
                    <a:lnTo>
                      <a:pt x="1628" y="4"/>
                    </a:lnTo>
                    <a:lnTo>
                      <a:pt x="1629" y="4"/>
                    </a:lnTo>
                    <a:lnTo>
                      <a:pt x="1630" y="6"/>
                    </a:lnTo>
                    <a:lnTo>
                      <a:pt x="1631" y="7"/>
                    </a:lnTo>
                    <a:lnTo>
                      <a:pt x="1635" y="7"/>
                    </a:lnTo>
                    <a:lnTo>
                      <a:pt x="1636" y="6"/>
                    </a:lnTo>
                    <a:lnTo>
                      <a:pt x="1637" y="4"/>
                    </a:lnTo>
                    <a:lnTo>
                      <a:pt x="1638" y="4"/>
                    </a:lnTo>
                    <a:lnTo>
                      <a:pt x="1640" y="3"/>
                    </a:lnTo>
                    <a:lnTo>
                      <a:pt x="1641" y="4"/>
                    </a:lnTo>
                    <a:lnTo>
                      <a:pt x="1643" y="4"/>
                    </a:lnTo>
                    <a:lnTo>
                      <a:pt x="1644" y="6"/>
                    </a:lnTo>
                    <a:lnTo>
                      <a:pt x="1644" y="7"/>
                    </a:lnTo>
                    <a:lnTo>
                      <a:pt x="1717" y="7"/>
                    </a:lnTo>
                    <a:lnTo>
                      <a:pt x="1717" y="6"/>
                    </a:lnTo>
                    <a:lnTo>
                      <a:pt x="1718" y="4"/>
                    </a:lnTo>
                    <a:lnTo>
                      <a:pt x="1720" y="4"/>
                    </a:lnTo>
                    <a:lnTo>
                      <a:pt x="1722" y="3"/>
                    </a:lnTo>
                    <a:lnTo>
                      <a:pt x="1723" y="4"/>
                    </a:lnTo>
                    <a:lnTo>
                      <a:pt x="1725" y="4"/>
                    </a:lnTo>
                    <a:lnTo>
                      <a:pt x="1726" y="6"/>
                    </a:lnTo>
                    <a:lnTo>
                      <a:pt x="1726" y="7"/>
                    </a:lnTo>
                    <a:lnTo>
                      <a:pt x="1732" y="7"/>
                    </a:lnTo>
                    <a:lnTo>
                      <a:pt x="1732" y="6"/>
                    </a:lnTo>
                    <a:lnTo>
                      <a:pt x="1733" y="4"/>
                    </a:lnTo>
                    <a:lnTo>
                      <a:pt x="1734" y="4"/>
                    </a:lnTo>
                    <a:lnTo>
                      <a:pt x="1736" y="3"/>
                    </a:lnTo>
                    <a:lnTo>
                      <a:pt x="1738" y="4"/>
                    </a:lnTo>
                    <a:lnTo>
                      <a:pt x="1739" y="4"/>
                    </a:lnTo>
                    <a:lnTo>
                      <a:pt x="1740" y="6"/>
                    </a:lnTo>
                    <a:lnTo>
                      <a:pt x="1740" y="7"/>
                    </a:lnTo>
                    <a:lnTo>
                      <a:pt x="1750" y="7"/>
                    </a:lnTo>
                  </a:path>
                </a:pathLst>
              </a:custGeom>
              <a:noFill/>
              <a:ln w="144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910" name=""/>
              <p:cNvSpPr/>
              <p:nvPr/>
            </p:nvSpPr>
            <p:spPr>
              <a:xfrm>
                <a:off x="6286320" y="3494880"/>
                <a:ext cx="1224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1" name=""/>
              <p:cNvSpPr/>
              <p:nvPr/>
            </p:nvSpPr>
            <p:spPr>
              <a:xfrm>
                <a:off x="8130240" y="344412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12" name=""/>
              <p:cNvSpPr/>
              <p:nvPr/>
            </p:nvSpPr>
            <p:spPr>
              <a:xfrm>
                <a:off x="5999040" y="2920680"/>
                <a:ext cx="2145960" cy="559440"/>
              </a:xfrm>
              <a:custGeom>
                <a:avLst/>
                <a:gdLst/>
                <a:ahLst/>
                <a:rect l="l" t="t" r="r" b="b"/>
                <a:pathLst>
                  <a:path w="2027" h="419">
                    <a:moveTo>
                      <a:pt x="0" y="0"/>
                    </a:moveTo>
                    <a:lnTo>
                      <a:pt x="0" y="419"/>
                    </a:lnTo>
                    <a:lnTo>
                      <a:pt x="12" y="419"/>
                    </a:lnTo>
                    <a:lnTo>
                      <a:pt x="12" y="417"/>
                    </a:lnTo>
                    <a:lnTo>
                      <a:pt x="13" y="416"/>
                    </a:lnTo>
                    <a:lnTo>
                      <a:pt x="15" y="416"/>
                    </a:lnTo>
                    <a:lnTo>
                      <a:pt x="17" y="415"/>
                    </a:lnTo>
                    <a:lnTo>
                      <a:pt x="18" y="416"/>
                    </a:lnTo>
                    <a:lnTo>
                      <a:pt x="20" y="416"/>
                    </a:lnTo>
                    <a:lnTo>
                      <a:pt x="21" y="417"/>
                    </a:lnTo>
                    <a:lnTo>
                      <a:pt x="21" y="419"/>
                    </a:lnTo>
                    <a:lnTo>
                      <a:pt x="28" y="419"/>
                    </a:lnTo>
                    <a:lnTo>
                      <a:pt x="29" y="416"/>
                    </a:lnTo>
                    <a:lnTo>
                      <a:pt x="30" y="414"/>
                    </a:lnTo>
                    <a:lnTo>
                      <a:pt x="31" y="412"/>
                    </a:lnTo>
                    <a:lnTo>
                      <a:pt x="33" y="410"/>
                    </a:lnTo>
                    <a:lnTo>
                      <a:pt x="36" y="408"/>
                    </a:lnTo>
                    <a:lnTo>
                      <a:pt x="39" y="407"/>
                    </a:lnTo>
                    <a:lnTo>
                      <a:pt x="42" y="406"/>
                    </a:lnTo>
                    <a:lnTo>
                      <a:pt x="45" y="406"/>
                    </a:lnTo>
                    <a:lnTo>
                      <a:pt x="48" y="406"/>
                    </a:lnTo>
                    <a:lnTo>
                      <a:pt x="51" y="407"/>
                    </a:lnTo>
                    <a:lnTo>
                      <a:pt x="54" y="408"/>
                    </a:lnTo>
                    <a:lnTo>
                      <a:pt x="57" y="410"/>
                    </a:lnTo>
                    <a:lnTo>
                      <a:pt x="59" y="412"/>
                    </a:lnTo>
                    <a:lnTo>
                      <a:pt x="60" y="414"/>
                    </a:lnTo>
                    <a:lnTo>
                      <a:pt x="61" y="416"/>
                    </a:lnTo>
                    <a:lnTo>
                      <a:pt x="62" y="419"/>
                    </a:lnTo>
                    <a:lnTo>
                      <a:pt x="77" y="419"/>
                    </a:lnTo>
                    <a:lnTo>
                      <a:pt x="77" y="417"/>
                    </a:lnTo>
                    <a:lnTo>
                      <a:pt x="78" y="416"/>
                    </a:lnTo>
                    <a:lnTo>
                      <a:pt x="80" y="416"/>
                    </a:lnTo>
                    <a:lnTo>
                      <a:pt x="81" y="415"/>
                    </a:lnTo>
                    <a:lnTo>
                      <a:pt x="83" y="416"/>
                    </a:lnTo>
                    <a:lnTo>
                      <a:pt x="84" y="416"/>
                    </a:lnTo>
                    <a:lnTo>
                      <a:pt x="85" y="417"/>
                    </a:lnTo>
                    <a:lnTo>
                      <a:pt x="86" y="419"/>
                    </a:lnTo>
                    <a:lnTo>
                      <a:pt x="163" y="419"/>
                    </a:lnTo>
                    <a:lnTo>
                      <a:pt x="163" y="417"/>
                    </a:lnTo>
                    <a:lnTo>
                      <a:pt x="164" y="416"/>
                    </a:lnTo>
                    <a:lnTo>
                      <a:pt x="166" y="416"/>
                    </a:lnTo>
                    <a:lnTo>
                      <a:pt x="167" y="415"/>
                    </a:lnTo>
                    <a:lnTo>
                      <a:pt x="169" y="416"/>
                    </a:lnTo>
                    <a:lnTo>
                      <a:pt x="171" y="416"/>
                    </a:lnTo>
                    <a:lnTo>
                      <a:pt x="171" y="417"/>
                    </a:lnTo>
                    <a:lnTo>
                      <a:pt x="172" y="419"/>
                    </a:lnTo>
                    <a:lnTo>
                      <a:pt x="197" y="419"/>
                    </a:lnTo>
                    <a:lnTo>
                      <a:pt x="197" y="417"/>
                    </a:lnTo>
                    <a:lnTo>
                      <a:pt x="198" y="416"/>
                    </a:lnTo>
                    <a:lnTo>
                      <a:pt x="199" y="416"/>
                    </a:lnTo>
                    <a:lnTo>
                      <a:pt x="201" y="415"/>
                    </a:lnTo>
                    <a:lnTo>
                      <a:pt x="203" y="416"/>
                    </a:lnTo>
                    <a:lnTo>
                      <a:pt x="204" y="416"/>
                    </a:lnTo>
                    <a:lnTo>
                      <a:pt x="205" y="417"/>
                    </a:lnTo>
                    <a:lnTo>
                      <a:pt x="206" y="419"/>
                    </a:lnTo>
                    <a:lnTo>
                      <a:pt x="224" y="419"/>
                    </a:lnTo>
                    <a:lnTo>
                      <a:pt x="224" y="417"/>
                    </a:lnTo>
                    <a:lnTo>
                      <a:pt x="225" y="416"/>
                    </a:lnTo>
                    <a:lnTo>
                      <a:pt x="226" y="416"/>
                    </a:lnTo>
                    <a:lnTo>
                      <a:pt x="228" y="415"/>
                    </a:lnTo>
                    <a:lnTo>
                      <a:pt x="230" y="416"/>
                    </a:lnTo>
                    <a:lnTo>
                      <a:pt x="231" y="416"/>
                    </a:lnTo>
                    <a:lnTo>
                      <a:pt x="232" y="417"/>
                    </a:lnTo>
                    <a:lnTo>
                      <a:pt x="233" y="419"/>
                    </a:lnTo>
                    <a:lnTo>
                      <a:pt x="251" y="419"/>
                    </a:lnTo>
                    <a:lnTo>
                      <a:pt x="251" y="417"/>
                    </a:lnTo>
                    <a:lnTo>
                      <a:pt x="252" y="416"/>
                    </a:lnTo>
                    <a:lnTo>
                      <a:pt x="253" y="416"/>
                    </a:lnTo>
                    <a:lnTo>
                      <a:pt x="255" y="415"/>
                    </a:lnTo>
                    <a:lnTo>
                      <a:pt x="257" y="416"/>
                    </a:lnTo>
                    <a:lnTo>
                      <a:pt x="258" y="416"/>
                    </a:lnTo>
                    <a:lnTo>
                      <a:pt x="259" y="417"/>
                    </a:lnTo>
                    <a:lnTo>
                      <a:pt x="260" y="419"/>
                    </a:lnTo>
                    <a:lnTo>
                      <a:pt x="272" y="419"/>
                    </a:lnTo>
                    <a:lnTo>
                      <a:pt x="273" y="417"/>
                    </a:lnTo>
                    <a:lnTo>
                      <a:pt x="274" y="416"/>
                    </a:lnTo>
                    <a:lnTo>
                      <a:pt x="275" y="416"/>
                    </a:lnTo>
                    <a:lnTo>
                      <a:pt x="277" y="415"/>
                    </a:lnTo>
                    <a:lnTo>
                      <a:pt x="278" y="416"/>
                    </a:lnTo>
                    <a:lnTo>
                      <a:pt x="280" y="416"/>
                    </a:lnTo>
                    <a:lnTo>
                      <a:pt x="281" y="417"/>
                    </a:lnTo>
                    <a:lnTo>
                      <a:pt x="281" y="419"/>
                    </a:lnTo>
                    <a:lnTo>
                      <a:pt x="332" y="419"/>
                    </a:lnTo>
                    <a:lnTo>
                      <a:pt x="332" y="417"/>
                    </a:lnTo>
                    <a:lnTo>
                      <a:pt x="333" y="416"/>
                    </a:lnTo>
                    <a:lnTo>
                      <a:pt x="334" y="416"/>
                    </a:lnTo>
                    <a:lnTo>
                      <a:pt x="336" y="415"/>
                    </a:lnTo>
                    <a:lnTo>
                      <a:pt x="338" y="416"/>
                    </a:lnTo>
                    <a:lnTo>
                      <a:pt x="339" y="416"/>
                    </a:lnTo>
                    <a:lnTo>
                      <a:pt x="340" y="417"/>
                    </a:lnTo>
                    <a:lnTo>
                      <a:pt x="341" y="419"/>
                    </a:lnTo>
                    <a:lnTo>
                      <a:pt x="349" y="419"/>
                    </a:lnTo>
                    <a:lnTo>
                      <a:pt x="349" y="417"/>
                    </a:lnTo>
                    <a:lnTo>
                      <a:pt x="350" y="416"/>
                    </a:lnTo>
                    <a:lnTo>
                      <a:pt x="351" y="416"/>
                    </a:lnTo>
                    <a:lnTo>
                      <a:pt x="353" y="415"/>
                    </a:lnTo>
                    <a:lnTo>
                      <a:pt x="355" y="416"/>
                    </a:lnTo>
                    <a:lnTo>
                      <a:pt x="356" y="416"/>
                    </a:lnTo>
                    <a:lnTo>
                      <a:pt x="357" y="417"/>
                    </a:lnTo>
                    <a:lnTo>
                      <a:pt x="358" y="419"/>
                    </a:lnTo>
                    <a:lnTo>
                      <a:pt x="413" y="419"/>
                    </a:lnTo>
                    <a:lnTo>
                      <a:pt x="413" y="417"/>
                    </a:lnTo>
                    <a:lnTo>
                      <a:pt x="414" y="416"/>
                    </a:lnTo>
                    <a:lnTo>
                      <a:pt x="416" y="416"/>
                    </a:lnTo>
                    <a:lnTo>
                      <a:pt x="417" y="415"/>
                    </a:lnTo>
                    <a:lnTo>
                      <a:pt x="419" y="416"/>
                    </a:lnTo>
                    <a:lnTo>
                      <a:pt x="420" y="416"/>
                    </a:lnTo>
                    <a:lnTo>
                      <a:pt x="421" y="417"/>
                    </a:lnTo>
                    <a:lnTo>
                      <a:pt x="422" y="419"/>
                    </a:lnTo>
                    <a:lnTo>
                      <a:pt x="474" y="419"/>
                    </a:lnTo>
                    <a:lnTo>
                      <a:pt x="474" y="417"/>
                    </a:lnTo>
                    <a:lnTo>
                      <a:pt x="475" y="416"/>
                    </a:lnTo>
                    <a:lnTo>
                      <a:pt x="476" y="416"/>
                    </a:lnTo>
                    <a:lnTo>
                      <a:pt x="478" y="415"/>
                    </a:lnTo>
                    <a:lnTo>
                      <a:pt x="480" y="416"/>
                    </a:lnTo>
                    <a:lnTo>
                      <a:pt x="481" y="416"/>
                    </a:lnTo>
                    <a:lnTo>
                      <a:pt x="482" y="417"/>
                    </a:lnTo>
                    <a:lnTo>
                      <a:pt x="483" y="419"/>
                    </a:lnTo>
                    <a:lnTo>
                      <a:pt x="485" y="419"/>
                    </a:lnTo>
                    <a:lnTo>
                      <a:pt x="486" y="417"/>
                    </a:lnTo>
                    <a:lnTo>
                      <a:pt x="487" y="416"/>
                    </a:lnTo>
                    <a:lnTo>
                      <a:pt x="488" y="416"/>
                    </a:lnTo>
                    <a:lnTo>
                      <a:pt x="490" y="415"/>
                    </a:lnTo>
                    <a:lnTo>
                      <a:pt x="492" y="416"/>
                    </a:lnTo>
                    <a:lnTo>
                      <a:pt x="493" y="416"/>
                    </a:lnTo>
                    <a:lnTo>
                      <a:pt x="494" y="417"/>
                    </a:lnTo>
                    <a:lnTo>
                      <a:pt x="494" y="419"/>
                    </a:lnTo>
                    <a:lnTo>
                      <a:pt x="499" y="419"/>
                    </a:lnTo>
                    <a:lnTo>
                      <a:pt x="499" y="417"/>
                    </a:lnTo>
                    <a:lnTo>
                      <a:pt x="500" y="416"/>
                    </a:lnTo>
                    <a:lnTo>
                      <a:pt x="502" y="416"/>
                    </a:lnTo>
                    <a:lnTo>
                      <a:pt x="503" y="415"/>
                    </a:lnTo>
                    <a:lnTo>
                      <a:pt x="505" y="416"/>
                    </a:lnTo>
                    <a:lnTo>
                      <a:pt x="507" y="416"/>
                    </a:lnTo>
                    <a:lnTo>
                      <a:pt x="508" y="417"/>
                    </a:lnTo>
                    <a:lnTo>
                      <a:pt x="508" y="419"/>
                    </a:lnTo>
                    <a:lnTo>
                      <a:pt x="532" y="419"/>
                    </a:lnTo>
                    <a:lnTo>
                      <a:pt x="533" y="417"/>
                    </a:lnTo>
                    <a:lnTo>
                      <a:pt x="534" y="416"/>
                    </a:lnTo>
                    <a:lnTo>
                      <a:pt x="535" y="416"/>
                    </a:lnTo>
                    <a:lnTo>
                      <a:pt x="537" y="415"/>
                    </a:lnTo>
                    <a:lnTo>
                      <a:pt x="538" y="416"/>
                    </a:lnTo>
                    <a:lnTo>
                      <a:pt x="540" y="416"/>
                    </a:lnTo>
                    <a:lnTo>
                      <a:pt x="541" y="417"/>
                    </a:lnTo>
                    <a:lnTo>
                      <a:pt x="541" y="419"/>
                    </a:lnTo>
                    <a:lnTo>
                      <a:pt x="555" y="419"/>
                    </a:lnTo>
                    <a:lnTo>
                      <a:pt x="555" y="417"/>
                    </a:lnTo>
                    <a:lnTo>
                      <a:pt x="556" y="416"/>
                    </a:lnTo>
                    <a:lnTo>
                      <a:pt x="557" y="415"/>
                    </a:lnTo>
                    <a:lnTo>
                      <a:pt x="559" y="414"/>
                    </a:lnTo>
                    <a:lnTo>
                      <a:pt x="561" y="414"/>
                    </a:lnTo>
                    <a:lnTo>
                      <a:pt x="563" y="414"/>
                    </a:lnTo>
                    <a:lnTo>
                      <a:pt x="564" y="415"/>
                    </a:lnTo>
                    <a:lnTo>
                      <a:pt x="566" y="416"/>
                    </a:lnTo>
                    <a:lnTo>
                      <a:pt x="566" y="417"/>
                    </a:lnTo>
                    <a:lnTo>
                      <a:pt x="567" y="419"/>
                    </a:lnTo>
                    <a:lnTo>
                      <a:pt x="568" y="419"/>
                    </a:lnTo>
                    <a:lnTo>
                      <a:pt x="568" y="417"/>
                    </a:lnTo>
                    <a:lnTo>
                      <a:pt x="569" y="416"/>
                    </a:lnTo>
                    <a:lnTo>
                      <a:pt x="571" y="416"/>
                    </a:lnTo>
                    <a:lnTo>
                      <a:pt x="572" y="415"/>
                    </a:lnTo>
                    <a:lnTo>
                      <a:pt x="574" y="416"/>
                    </a:lnTo>
                    <a:lnTo>
                      <a:pt x="575" y="416"/>
                    </a:lnTo>
                    <a:lnTo>
                      <a:pt x="577" y="417"/>
                    </a:lnTo>
                    <a:lnTo>
                      <a:pt x="577" y="419"/>
                    </a:lnTo>
                    <a:lnTo>
                      <a:pt x="585" y="419"/>
                    </a:lnTo>
                    <a:lnTo>
                      <a:pt x="585" y="417"/>
                    </a:lnTo>
                    <a:lnTo>
                      <a:pt x="586" y="416"/>
                    </a:lnTo>
                    <a:lnTo>
                      <a:pt x="588" y="416"/>
                    </a:lnTo>
                    <a:lnTo>
                      <a:pt x="590" y="415"/>
                    </a:lnTo>
                    <a:lnTo>
                      <a:pt x="591" y="416"/>
                    </a:lnTo>
                    <a:lnTo>
                      <a:pt x="593" y="416"/>
                    </a:lnTo>
                    <a:lnTo>
                      <a:pt x="594" y="417"/>
                    </a:lnTo>
                    <a:lnTo>
                      <a:pt x="594" y="419"/>
                    </a:lnTo>
                    <a:lnTo>
                      <a:pt x="629" y="419"/>
                    </a:lnTo>
                    <a:lnTo>
                      <a:pt x="629" y="417"/>
                    </a:lnTo>
                    <a:lnTo>
                      <a:pt x="630" y="416"/>
                    </a:lnTo>
                    <a:lnTo>
                      <a:pt x="632" y="416"/>
                    </a:lnTo>
                    <a:lnTo>
                      <a:pt x="633" y="415"/>
                    </a:lnTo>
                    <a:lnTo>
                      <a:pt x="635" y="416"/>
                    </a:lnTo>
                    <a:lnTo>
                      <a:pt x="637" y="416"/>
                    </a:lnTo>
                    <a:lnTo>
                      <a:pt x="638" y="417"/>
                    </a:lnTo>
                    <a:lnTo>
                      <a:pt x="638" y="419"/>
                    </a:lnTo>
                    <a:lnTo>
                      <a:pt x="685" y="419"/>
                    </a:lnTo>
                    <a:lnTo>
                      <a:pt x="685" y="417"/>
                    </a:lnTo>
                    <a:lnTo>
                      <a:pt x="686" y="416"/>
                    </a:lnTo>
                    <a:lnTo>
                      <a:pt x="688" y="416"/>
                    </a:lnTo>
                    <a:lnTo>
                      <a:pt x="689" y="415"/>
                    </a:lnTo>
                    <a:lnTo>
                      <a:pt x="691" y="416"/>
                    </a:lnTo>
                    <a:lnTo>
                      <a:pt x="692" y="416"/>
                    </a:lnTo>
                    <a:lnTo>
                      <a:pt x="693" y="417"/>
                    </a:lnTo>
                    <a:lnTo>
                      <a:pt x="694" y="419"/>
                    </a:lnTo>
                    <a:lnTo>
                      <a:pt x="790" y="419"/>
                    </a:lnTo>
                    <a:lnTo>
                      <a:pt x="791" y="417"/>
                    </a:lnTo>
                    <a:lnTo>
                      <a:pt x="792" y="416"/>
                    </a:lnTo>
                    <a:lnTo>
                      <a:pt x="793" y="416"/>
                    </a:lnTo>
                    <a:lnTo>
                      <a:pt x="795" y="415"/>
                    </a:lnTo>
                    <a:lnTo>
                      <a:pt x="796" y="416"/>
                    </a:lnTo>
                    <a:lnTo>
                      <a:pt x="798" y="416"/>
                    </a:lnTo>
                    <a:lnTo>
                      <a:pt x="799" y="417"/>
                    </a:lnTo>
                    <a:lnTo>
                      <a:pt x="799" y="419"/>
                    </a:lnTo>
                    <a:lnTo>
                      <a:pt x="810" y="419"/>
                    </a:lnTo>
                    <a:lnTo>
                      <a:pt x="810" y="417"/>
                    </a:lnTo>
                    <a:lnTo>
                      <a:pt x="811" y="416"/>
                    </a:lnTo>
                    <a:lnTo>
                      <a:pt x="812" y="416"/>
                    </a:lnTo>
                    <a:lnTo>
                      <a:pt x="814" y="415"/>
                    </a:lnTo>
                    <a:lnTo>
                      <a:pt x="816" y="416"/>
                    </a:lnTo>
                    <a:lnTo>
                      <a:pt x="817" y="416"/>
                    </a:lnTo>
                    <a:lnTo>
                      <a:pt x="818" y="417"/>
                    </a:lnTo>
                    <a:lnTo>
                      <a:pt x="819" y="419"/>
                    </a:lnTo>
                    <a:lnTo>
                      <a:pt x="854" y="419"/>
                    </a:lnTo>
                    <a:lnTo>
                      <a:pt x="854" y="417"/>
                    </a:lnTo>
                    <a:lnTo>
                      <a:pt x="855" y="416"/>
                    </a:lnTo>
                    <a:lnTo>
                      <a:pt x="856" y="416"/>
                    </a:lnTo>
                    <a:lnTo>
                      <a:pt x="858" y="415"/>
                    </a:lnTo>
                    <a:lnTo>
                      <a:pt x="860" y="416"/>
                    </a:lnTo>
                    <a:lnTo>
                      <a:pt x="861" y="416"/>
                    </a:lnTo>
                    <a:lnTo>
                      <a:pt x="862" y="417"/>
                    </a:lnTo>
                    <a:lnTo>
                      <a:pt x="863" y="419"/>
                    </a:lnTo>
                    <a:lnTo>
                      <a:pt x="886" y="419"/>
                    </a:lnTo>
                    <a:lnTo>
                      <a:pt x="886" y="417"/>
                    </a:lnTo>
                    <a:lnTo>
                      <a:pt x="887" y="415"/>
                    </a:lnTo>
                    <a:lnTo>
                      <a:pt x="889" y="414"/>
                    </a:lnTo>
                    <a:lnTo>
                      <a:pt x="891" y="413"/>
                    </a:lnTo>
                    <a:lnTo>
                      <a:pt x="893" y="412"/>
                    </a:lnTo>
                    <a:lnTo>
                      <a:pt x="896" y="412"/>
                    </a:lnTo>
                    <a:lnTo>
                      <a:pt x="898" y="413"/>
                    </a:lnTo>
                    <a:lnTo>
                      <a:pt x="900" y="414"/>
                    </a:lnTo>
                    <a:lnTo>
                      <a:pt x="902" y="415"/>
                    </a:lnTo>
                    <a:lnTo>
                      <a:pt x="903" y="417"/>
                    </a:lnTo>
                    <a:lnTo>
                      <a:pt x="903" y="419"/>
                    </a:lnTo>
                    <a:lnTo>
                      <a:pt x="932" y="419"/>
                    </a:lnTo>
                    <a:lnTo>
                      <a:pt x="932" y="417"/>
                    </a:lnTo>
                    <a:lnTo>
                      <a:pt x="933" y="416"/>
                    </a:lnTo>
                    <a:lnTo>
                      <a:pt x="934" y="416"/>
                    </a:lnTo>
                    <a:lnTo>
                      <a:pt x="936" y="415"/>
                    </a:lnTo>
                    <a:lnTo>
                      <a:pt x="938" y="416"/>
                    </a:lnTo>
                    <a:lnTo>
                      <a:pt x="939" y="416"/>
                    </a:lnTo>
                    <a:lnTo>
                      <a:pt x="940" y="417"/>
                    </a:lnTo>
                    <a:lnTo>
                      <a:pt x="941" y="419"/>
                    </a:lnTo>
                    <a:lnTo>
                      <a:pt x="960" y="419"/>
                    </a:lnTo>
                    <a:lnTo>
                      <a:pt x="960" y="417"/>
                    </a:lnTo>
                    <a:lnTo>
                      <a:pt x="961" y="416"/>
                    </a:lnTo>
                    <a:lnTo>
                      <a:pt x="963" y="416"/>
                    </a:lnTo>
                    <a:lnTo>
                      <a:pt x="964" y="415"/>
                    </a:lnTo>
                    <a:lnTo>
                      <a:pt x="966" y="416"/>
                    </a:lnTo>
                    <a:lnTo>
                      <a:pt x="968" y="416"/>
                    </a:lnTo>
                    <a:lnTo>
                      <a:pt x="968" y="417"/>
                    </a:lnTo>
                    <a:lnTo>
                      <a:pt x="969" y="419"/>
                    </a:lnTo>
                    <a:lnTo>
                      <a:pt x="994" y="419"/>
                    </a:lnTo>
                    <a:lnTo>
                      <a:pt x="994" y="417"/>
                    </a:lnTo>
                    <a:lnTo>
                      <a:pt x="995" y="416"/>
                    </a:lnTo>
                    <a:lnTo>
                      <a:pt x="996" y="416"/>
                    </a:lnTo>
                    <a:lnTo>
                      <a:pt x="998" y="415"/>
                    </a:lnTo>
                    <a:lnTo>
                      <a:pt x="1000" y="416"/>
                    </a:lnTo>
                    <a:lnTo>
                      <a:pt x="1001" y="416"/>
                    </a:lnTo>
                    <a:lnTo>
                      <a:pt x="1002" y="417"/>
                    </a:lnTo>
                    <a:lnTo>
                      <a:pt x="1003" y="419"/>
                    </a:lnTo>
                    <a:lnTo>
                      <a:pt x="1007" y="419"/>
                    </a:lnTo>
                    <a:lnTo>
                      <a:pt x="1008" y="417"/>
                    </a:lnTo>
                    <a:lnTo>
                      <a:pt x="1008" y="416"/>
                    </a:lnTo>
                    <a:lnTo>
                      <a:pt x="1010" y="416"/>
                    </a:lnTo>
                    <a:lnTo>
                      <a:pt x="1012" y="415"/>
                    </a:lnTo>
                    <a:lnTo>
                      <a:pt x="1013" y="416"/>
                    </a:lnTo>
                    <a:lnTo>
                      <a:pt x="1015" y="416"/>
                    </a:lnTo>
                    <a:lnTo>
                      <a:pt x="1016" y="417"/>
                    </a:lnTo>
                    <a:lnTo>
                      <a:pt x="1016" y="419"/>
                    </a:lnTo>
                    <a:lnTo>
                      <a:pt x="1027" y="419"/>
                    </a:lnTo>
                    <a:lnTo>
                      <a:pt x="1028" y="417"/>
                    </a:lnTo>
                    <a:lnTo>
                      <a:pt x="1029" y="416"/>
                    </a:lnTo>
                    <a:lnTo>
                      <a:pt x="1030" y="416"/>
                    </a:lnTo>
                    <a:lnTo>
                      <a:pt x="1032" y="415"/>
                    </a:lnTo>
                    <a:lnTo>
                      <a:pt x="1034" y="416"/>
                    </a:lnTo>
                    <a:lnTo>
                      <a:pt x="1035" y="416"/>
                    </a:lnTo>
                    <a:lnTo>
                      <a:pt x="1036" y="417"/>
                    </a:lnTo>
                    <a:lnTo>
                      <a:pt x="1036" y="419"/>
                    </a:lnTo>
                    <a:lnTo>
                      <a:pt x="1042" y="419"/>
                    </a:lnTo>
                    <a:lnTo>
                      <a:pt x="1043" y="417"/>
                    </a:lnTo>
                    <a:lnTo>
                      <a:pt x="1043" y="416"/>
                    </a:lnTo>
                    <a:lnTo>
                      <a:pt x="1045" y="416"/>
                    </a:lnTo>
                    <a:lnTo>
                      <a:pt x="1047" y="415"/>
                    </a:lnTo>
                    <a:lnTo>
                      <a:pt x="1048" y="416"/>
                    </a:lnTo>
                    <a:lnTo>
                      <a:pt x="1050" y="416"/>
                    </a:lnTo>
                    <a:lnTo>
                      <a:pt x="1051" y="417"/>
                    </a:lnTo>
                    <a:lnTo>
                      <a:pt x="1051" y="419"/>
                    </a:lnTo>
                    <a:lnTo>
                      <a:pt x="1094" y="419"/>
                    </a:lnTo>
                    <a:lnTo>
                      <a:pt x="1094" y="417"/>
                    </a:lnTo>
                    <a:lnTo>
                      <a:pt x="1095" y="416"/>
                    </a:lnTo>
                    <a:lnTo>
                      <a:pt x="1097" y="416"/>
                    </a:lnTo>
                    <a:lnTo>
                      <a:pt x="1099" y="415"/>
                    </a:lnTo>
                    <a:lnTo>
                      <a:pt x="1100" y="416"/>
                    </a:lnTo>
                    <a:lnTo>
                      <a:pt x="1102" y="416"/>
                    </a:lnTo>
                    <a:lnTo>
                      <a:pt x="1103" y="417"/>
                    </a:lnTo>
                    <a:lnTo>
                      <a:pt x="1103" y="419"/>
                    </a:lnTo>
                    <a:lnTo>
                      <a:pt x="1112" y="419"/>
                    </a:lnTo>
                    <a:lnTo>
                      <a:pt x="1112" y="417"/>
                    </a:lnTo>
                    <a:lnTo>
                      <a:pt x="1113" y="415"/>
                    </a:lnTo>
                    <a:lnTo>
                      <a:pt x="1115" y="414"/>
                    </a:lnTo>
                    <a:lnTo>
                      <a:pt x="1117" y="413"/>
                    </a:lnTo>
                    <a:lnTo>
                      <a:pt x="1119" y="412"/>
                    </a:lnTo>
                    <a:lnTo>
                      <a:pt x="1122" y="412"/>
                    </a:lnTo>
                    <a:lnTo>
                      <a:pt x="1124" y="413"/>
                    </a:lnTo>
                    <a:lnTo>
                      <a:pt x="1126" y="414"/>
                    </a:lnTo>
                    <a:lnTo>
                      <a:pt x="1128" y="415"/>
                    </a:lnTo>
                    <a:lnTo>
                      <a:pt x="1128" y="417"/>
                    </a:lnTo>
                    <a:lnTo>
                      <a:pt x="1129" y="419"/>
                    </a:lnTo>
                    <a:lnTo>
                      <a:pt x="1132" y="419"/>
                    </a:lnTo>
                    <a:lnTo>
                      <a:pt x="1133" y="417"/>
                    </a:lnTo>
                    <a:lnTo>
                      <a:pt x="1133" y="416"/>
                    </a:lnTo>
                    <a:lnTo>
                      <a:pt x="1135" y="416"/>
                    </a:lnTo>
                    <a:lnTo>
                      <a:pt x="1137" y="415"/>
                    </a:lnTo>
                    <a:lnTo>
                      <a:pt x="1138" y="416"/>
                    </a:lnTo>
                    <a:lnTo>
                      <a:pt x="1140" y="416"/>
                    </a:lnTo>
                    <a:lnTo>
                      <a:pt x="1141" y="417"/>
                    </a:lnTo>
                    <a:lnTo>
                      <a:pt x="1141" y="419"/>
                    </a:lnTo>
                    <a:lnTo>
                      <a:pt x="1250" y="419"/>
                    </a:lnTo>
                    <a:lnTo>
                      <a:pt x="1251" y="417"/>
                    </a:lnTo>
                    <a:lnTo>
                      <a:pt x="1252" y="416"/>
                    </a:lnTo>
                    <a:lnTo>
                      <a:pt x="1253" y="416"/>
                    </a:lnTo>
                    <a:lnTo>
                      <a:pt x="1255" y="415"/>
                    </a:lnTo>
                    <a:lnTo>
                      <a:pt x="1256" y="416"/>
                    </a:lnTo>
                    <a:lnTo>
                      <a:pt x="1258" y="416"/>
                    </a:lnTo>
                    <a:lnTo>
                      <a:pt x="1259" y="417"/>
                    </a:lnTo>
                    <a:lnTo>
                      <a:pt x="1259" y="419"/>
                    </a:lnTo>
                    <a:lnTo>
                      <a:pt x="1380" y="419"/>
                    </a:lnTo>
                    <a:lnTo>
                      <a:pt x="1380" y="417"/>
                    </a:lnTo>
                    <a:lnTo>
                      <a:pt x="1381" y="416"/>
                    </a:lnTo>
                    <a:lnTo>
                      <a:pt x="1382" y="416"/>
                    </a:lnTo>
                    <a:lnTo>
                      <a:pt x="1384" y="415"/>
                    </a:lnTo>
                    <a:lnTo>
                      <a:pt x="1386" y="416"/>
                    </a:lnTo>
                    <a:lnTo>
                      <a:pt x="1387" y="416"/>
                    </a:lnTo>
                    <a:lnTo>
                      <a:pt x="1388" y="417"/>
                    </a:lnTo>
                    <a:lnTo>
                      <a:pt x="1389" y="419"/>
                    </a:lnTo>
                    <a:lnTo>
                      <a:pt x="1396" y="419"/>
                    </a:lnTo>
                    <a:lnTo>
                      <a:pt x="1396" y="417"/>
                    </a:lnTo>
                    <a:lnTo>
                      <a:pt x="1397" y="416"/>
                    </a:lnTo>
                    <a:lnTo>
                      <a:pt x="1398" y="416"/>
                    </a:lnTo>
                    <a:lnTo>
                      <a:pt x="1400" y="415"/>
                    </a:lnTo>
                    <a:lnTo>
                      <a:pt x="1402" y="416"/>
                    </a:lnTo>
                    <a:lnTo>
                      <a:pt x="1403" y="416"/>
                    </a:lnTo>
                    <a:lnTo>
                      <a:pt x="1404" y="417"/>
                    </a:lnTo>
                    <a:lnTo>
                      <a:pt x="1405" y="419"/>
                    </a:lnTo>
                    <a:lnTo>
                      <a:pt x="1412" y="419"/>
                    </a:lnTo>
                    <a:lnTo>
                      <a:pt x="1412" y="417"/>
                    </a:lnTo>
                    <a:lnTo>
                      <a:pt x="1413" y="416"/>
                    </a:lnTo>
                    <a:lnTo>
                      <a:pt x="1415" y="416"/>
                    </a:lnTo>
                    <a:lnTo>
                      <a:pt x="1416" y="415"/>
                    </a:lnTo>
                    <a:lnTo>
                      <a:pt x="1418" y="416"/>
                    </a:lnTo>
                    <a:lnTo>
                      <a:pt x="1420" y="416"/>
                    </a:lnTo>
                    <a:lnTo>
                      <a:pt x="1421" y="417"/>
                    </a:lnTo>
                    <a:lnTo>
                      <a:pt x="1421" y="419"/>
                    </a:lnTo>
                    <a:lnTo>
                      <a:pt x="1460" y="419"/>
                    </a:lnTo>
                    <a:lnTo>
                      <a:pt x="1460" y="417"/>
                    </a:lnTo>
                    <a:lnTo>
                      <a:pt x="1461" y="416"/>
                    </a:lnTo>
                    <a:lnTo>
                      <a:pt x="1463" y="416"/>
                    </a:lnTo>
                    <a:lnTo>
                      <a:pt x="1464" y="415"/>
                    </a:lnTo>
                    <a:lnTo>
                      <a:pt x="1466" y="416"/>
                    </a:lnTo>
                    <a:lnTo>
                      <a:pt x="1468" y="416"/>
                    </a:lnTo>
                    <a:lnTo>
                      <a:pt x="1468" y="417"/>
                    </a:lnTo>
                    <a:lnTo>
                      <a:pt x="1469" y="419"/>
                    </a:lnTo>
                    <a:lnTo>
                      <a:pt x="1551" y="419"/>
                    </a:lnTo>
                    <a:lnTo>
                      <a:pt x="1551" y="417"/>
                    </a:lnTo>
                    <a:lnTo>
                      <a:pt x="1552" y="416"/>
                    </a:lnTo>
                    <a:lnTo>
                      <a:pt x="1554" y="416"/>
                    </a:lnTo>
                    <a:lnTo>
                      <a:pt x="1555" y="415"/>
                    </a:lnTo>
                    <a:lnTo>
                      <a:pt x="1557" y="416"/>
                    </a:lnTo>
                    <a:lnTo>
                      <a:pt x="1559" y="416"/>
                    </a:lnTo>
                    <a:lnTo>
                      <a:pt x="1560" y="417"/>
                    </a:lnTo>
                    <a:lnTo>
                      <a:pt x="1560" y="419"/>
                    </a:lnTo>
                    <a:lnTo>
                      <a:pt x="1578" y="419"/>
                    </a:lnTo>
                    <a:lnTo>
                      <a:pt x="1578" y="417"/>
                    </a:lnTo>
                    <a:lnTo>
                      <a:pt x="1579" y="416"/>
                    </a:lnTo>
                    <a:lnTo>
                      <a:pt x="1581" y="416"/>
                    </a:lnTo>
                    <a:lnTo>
                      <a:pt x="1583" y="415"/>
                    </a:lnTo>
                    <a:lnTo>
                      <a:pt x="1584" y="416"/>
                    </a:lnTo>
                    <a:lnTo>
                      <a:pt x="1586" y="416"/>
                    </a:lnTo>
                    <a:lnTo>
                      <a:pt x="1587" y="417"/>
                    </a:lnTo>
                    <a:lnTo>
                      <a:pt x="1587" y="419"/>
                    </a:lnTo>
                    <a:lnTo>
                      <a:pt x="1590" y="419"/>
                    </a:lnTo>
                    <a:lnTo>
                      <a:pt x="1590" y="417"/>
                    </a:lnTo>
                    <a:lnTo>
                      <a:pt x="1591" y="416"/>
                    </a:lnTo>
                    <a:lnTo>
                      <a:pt x="1593" y="416"/>
                    </a:lnTo>
                    <a:lnTo>
                      <a:pt x="1594" y="415"/>
                    </a:lnTo>
                    <a:lnTo>
                      <a:pt x="1596" y="416"/>
                    </a:lnTo>
                    <a:lnTo>
                      <a:pt x="1597" y="416"/>
                    </a:lnTo>
                    <a:lnTo>
                      <a:pt x="1598" y="417"/>
                    </a:lnTo>
                    <a:lnTo>
                      <a:pt x="1599" y="419"/>
                    </a:lnTo>
                    <a:lnTo>
                      <a:pt x="1602" y="419"/>
                    </a:lnTo>
                    <a:lnTo>
                      <a:pt x="1602" y="417"/>
                    </a:lnTo>
                    <a:lnTo>
                      <a:pt x="1603" y="416"/>
                    </a:lnTo>
                    <a:lnTo>
                      <a:pt x="1604" y="416"/>
                    </a:lnTo>
                    <a:lnTo>
                      <a:pt x="1606" y="415"/>
                    </a:lnTo>
                    <a:lnTo>
                      <a:pt x="1608" y="416"/>
                    </a:lnTo>
                    <a:lnTo>
                      <a:pt x="1609" y="416"/>
                    </a:lnTo>
                    <a:lnTo>
                      <a:pt x="1610" y="417"/>
                    </a:lnTo>
                    <a:lnTo>
                      <a:pt x="1611" y="419"/>
                    </a:lnTo>
                    <a:lnTo>
                      <a:pt x="1667" y="419"/>
                    </a:lnTo>
                    <a:lnTo>
                      <a:pt x="1667" y="417"/>
                    </a:lnTo>
                    <a:lnTo>
                      <a:pt x="1668" y="416"/>
                    </a:lnTo>
                    <a:lnTo>
                      <a:pt x="1670" y="416"/>
                    </a:lnTo>
                    <a:lnTo>
                      <a:pt x="1671" y="415"/>
                    </a:lnTo>
                    <a:lnTo>
                      <a:pt x="1673" y="416"/>
                    </a:lnTo>
                    <a:lnTo>
                      <a:pt x="1675" y="416"/>
                    </a:lnTo>
                    <a:lnTo>
                      <a:pt x="1675" y="417"/>
                    </a:lnTo>
                    <a:lnTo>
                      <a:pt x="1676" y="419"/>
                    </a:lnTo>
                    <a:lnTo>
                      <a:pt x="1721" y="419"/>
                    </a:lnTo>
                    <a:lnTo>
                      <a:pt x="1721" y="417"/>
                    </a:lnTo>
                    <a:lnTo>
                      <a:pt x="1722" y="416"/>
                    </a:lnTo>
                    <a:lnTo>
                      <a:pt x="1724" y="416"/>
                    </a:lnTo>
                    <a:lnTo>
                      <a:pt x="1725" y="415"/>
                    </a:lnTo>
                    <a:lnTo>
                      <a:pt x="1727" y="416"/>
                    </a:lnTo>
                    <a:lnTo>
                      <a:pt x="1729" y="416"/>
                    </a:lnTo>
                    <a:lnTo>
                      <a:pt x="1729" y="417"/>
                    </a:lnTo>
                    <a:lnTo>
                      <a:pt x="1730" y="419"/>
                    </a:lnTo>
                    <a:lnTo>
                      <a:pt x="1770" y="419"/>
                    </a:lnTo>
                    <a:lnTo>
                      <a:pt x="1771" y="417"/>
                    </a:lnTo>
                    <a:lnTo>
                      <a:pt x="1772" y="416"/>
                    </a:lnTo>
                    <a:lnTo>
                      <a:pt x="1773" y="416"/>
                    </a:lnTo>
                    <a:lnTo>
                      <a:pt x="1775" y="415"/>
                    </a:lnTo>
                    <a:lnTo>
                      <a:pt x="1777" y="416"/>
                    </a:lnTo>
                    <a:lnTo>
                      <a:pt x="1778" y="416"/>
                    </a:lnTo>
                    <a:lnTo>
                      <a:pt x="1779" y="417"/>
                    </a:lnTo>
                    <a:lnTo>
                      <a:pt x="1779" y="419"/>
                    </a:lnTo>
                    <a:lnTo>
                      <a:pt x="1858" y="419"/>
                    </a:lnTo>
                    <a:lnTo>
                      <a:pt x="1859" y="417"/>
                    </a:lnTo>
                    <a:lnTo>
                      <a:pt x="1860" y="416"/>
                    </a:lnTo>
                    <a:lnTo>
                      <a:pt x="1861" y="416"/>
                    </a:lnTo>
                    <a:lnTo>
                      <a:pt x="1863" y="415"/>
                    </a:lnTo>
                    <a:lnTo>
                      <a:pt x="1865" y="416"/>
                    </a:lnTo>
                    <a:lnTo>
                      <a:pt x="1866" y="416"/>
                    </a:lnTo>
                    <a:lnTo>
                      <a:pt x="1867" y="417"/>
                    </a:lnTo>
                    <a:lnTo>
                      <a:pt x="1867" y="419"/>
                    </a:lnTo>
                    <a:lnTo>
                      <a:pt x="1880" y="419"/>
                    </a:lnTo>
                    <a:lnTo>
                      <a:pt x="1881" y="417"/>
                    </a:lnTo>
                    <a:lnTo>
                      <a:pt x="1882" y="416"/>
                    </a:lnTo>
                    <a:lnTo>
                      <a:pt x="1883" y="416"/>
                    </a:lnTo>
                    <a:lnTo>
                      <a:pt x="1885" y="415"/>
                    </a:lnTo>
                    <a:lnTo>
                      <a:pt x="1886" y="416"/>
                    </a:lnTo>
                    <a:lnTo>
                      <a:pt x="1888" y="416"/>
                    </a:lnTo>
                    <a:lnTo>
                      <a:pt x="1889" y="417"/>
                    </a:lnTo>
                    <a:lnTo>
                      <a:pt x="1889" y="419"/>
                    </a:lnTo>
                    <a:lnTo>
                      <a:pt x="1899" y="419"/>
                    </a:lnTo>
                    <a:lnTo>
                      <a:pt x="1899" y="417"/>
                    </a:lnTo>
                    <a:lnTo>
                      <a:pt x="1900" y="416"/>
                    </a:lnTo>
                    <a:lnTo>
                      <a:pt x="1902" y="416"/>
                    </a:lnTo>
                    <a:lnTo>
                      <a:pt x="1903" y="415"/>
                    </a:lnTo>
                    <a:lnTo>
                      <a:pt x="1905" y="416"/>
                    </a:lnTo>
                    <a:lnTo>
                      <a:pt x="1906" y="416"/>
                    </a:lnTo>
                    <a:lnTo>
                      <a:pt x="1907" y="417"/>
                    </a:lnTo>
                    <a:lnTo>
                      <a:pt x="1908" y="419"/>
                    </a:lnTo>
                    <a:lnTo>
                      <a:pt x="1912" y="419"/>
                    </a:lnTo>
                    <a:lnTo>
                      <a:pt x="1913" y="417"/>
                    </a:lnTo>
                    <a:lnTo>
                      <a:pt x="1914" y="416"/>
                    </a:lnTo>
                    <a:lnTo>
                      <a:pt x="1915" y="416"/>
                    </a:lnTo>
                    <a:lnTo>
                      <a:pt x="1917" y="415"/>
                    </a:lnTo>
                    <a:lnTo>
                      <a:pt x="1918" y="416"/>
                    </a:lnTo>
                    <a:lnTo>
                      <a:pt x="1920" y="416"/>
                    </a:lnTo>
                    <a:lnTo>
                      <a:pt x="1921" y="417"/>
                    </a:lnTo>
                    <a:lnTo>
                      <a:pt x="1921" y="419"/>
                    </a:lnTo>
                    <a:lnTo>
                      <a:pt x="1994" y="419"/>
                    </a:lnTo>
                    <a:lnTo>
                      <a:pt x="1994" y="417"/>
                    </a:lnTo>
                    <a:lnTo>
                      <a:pt x="1995" y="416"/>
                    </a:lnTo>
                    <a:lnTo>
                      <a:pt x="1997" y="416"/>
                    </a:lnTo>
                    <a:lnTo>
                      <a:pt x="1999" y="415"/>
                    </a:lnTo>
                    <a:lnTo>
                      <a:pt x="2000" y="416"/>
                    </a:lnTo>
                    <a:lnTo>
                      <a:pt x="2002" y="416"/>
                    </a:lnTo>
                    <a:lnTo>
                      <a:pt x="2003" y="417"/>
                    </a:lnTo>
                    <a:lnTo>
                      <a:pt x="2003" y="419"/>
                    </a:lnTo>
                    <a:lnTo>
                      <a:pt x="2009" y="419"/>
                    </a:lnTo>
                    <a:lnTo>
                      <a:pt x="2009" y="417"/>
                    </a:lnTo>
                    <a:lnTo>
                      <a:pt x="2010" y="416"/>
                    </a:lnTo>
                    <a:lnTo>
                      <a:pt x="2011" y="416"/>
                    </a:lnTo>
                    <a:lnTo>
                      <a:pt x="2013" y="415"/>
                    </a:lnTo>
                    <a:lnTo>
                      <a:pt x="2015" y="416"/>
                    </a:lnTo>
                    <a:lnTo>
                      <a:pt x="2016" y="416"/>
                    </a:lnTo>
                    <a:lnTo>
                      <a:pt x="2017" y="417"/>
                    </a:lnTo>
                    <a:lnTo>
                      <a:pt x="2017" y="419"/>
                    </a:lnTo>
                    <a:lnTo>
                      <a:pt x="2027" y="419"/>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8130240" y="347328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ff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14" name=""/>
              <p:cNvSpPr/>
              <p:nvPr/>
            </p:nvSpPr>
            <p:spPr>
              <a:xfrm>
                <a:off x="5923800" y="3511080"/>
                <a:ext cx="2413800" cy="275040"/>
              </a:xfrm>
              <a:custGeom>
                <a:avLst/>
                <a:gdLst/>
                <a:ahLst/>
                <a:rect l="l" t="t" r="r" b="b"/>
                <a:pathLst>
                  <a:path w="2280" h="206">
                    <a:moveTo>
                      <a:pt x="0" y="206"/>
                    </a:moveTo>
                    <a:lnTo>
                      <a:pt x="11" y="206"/>
                    </a:lnTo>
                    <a:lnTo>
                      <a:pt x="11" y="205"/>
                    </a:lnTo>
                    <a:lnTo>
                      <a:pt x="12" y="203"/>
                    </a:lnTo>
                    <a:lnTo>
                      <a:pt x="14" y="203"/>
                    </a:lnTo>
                    <a:lnTo>
                      <a:pt x="16" y="202"/>
                    </a:lnTo>
                    <a:lnTo>
                      <a:pt x="17" y="203"/>
                    </a:lnTo>
                    <a:lnTo>
                      <a:pt x="19" y="203"/>
                    </a:lnTo>
                    <a:lnTo>
                      <a:pt x="20" y="205"/>
                    </a:lnTo>
                    <a:lnTo>
                      <a:pt x="20" y="206"/>
                    </a:lnTo>
                    <a:lnTo>
                      <a:pt x="29" y="206"/>
                    </a:lnTo>
                    <a:lnTo>
                      <a:pt x="29" y="205"/>
                    </a:lnTo>
                    <a:lnTo>
                      <a:pt x="30" y="203"/>
                    </a:lnTo>
                    <a:lnTo>
                      <a:pt x="32" y="203"/>
                    </a:lnTo>
                    <a:lnTo>
                      <a:pt x="34" y="202"/>
                    </a:lnTo>
                    <a:lnTo>
                      <a:pt x="35" y="203"/>
                    </a:lnTo>
                    <a:lnTo>
                      <a:pt x="37" y="203"/>
                    </a:lnTo>
                    <a:lnTo>
                      <a:pt x="38" y="205"/>
                    </a:lnTo>
                    <a:lnTo>
                      <a:pt x="38" y="206"/>
                    </a:lnTo>
                    <a:lnTo>
                      <a:pt x="52" y="206"/>
                    </a:lnTo>
                    <a:lnTo>
                      <a:pt x="52" y="205"/>
                    </a:lnTo>
                    <a:lnTo>
                      <a:pt x="53" y="203"/>
                    </a:lnTo>
                    <a:lnTo>
                      <a:pt x="54" y="203"/>
                    </a:lnTo>
                    <a:lnTo>
                      <a:pt x="56" y="202"/>
                    </a:lnTo>
                    <a:lnTo>
                      <a:pt x="58" y="203"/>
                    </a:lnTo>
                    <a:lnTo>
                      <a:pt x="59" y="203"/>
                    </a:lnTo>
                    <a:lnTo>
                      <a:pt x="60" y="205"/>
                    </a:lnTo>
                    <a:lnTo>
                      <a:pt x="61" y="206"/>
                    </a:lnTo>
                    <a:lnTo>
                      <a:pt x="63" y="206"/>
                    </a:lnTo>
                    <a:lnTo>
                      <a:pt x="63" y="205"/>
                    </a:lnTo>
                    <a:lnTo>
                      <a:pt x="64" y="203"/>
                    </a:lnTo>
                    <a:lnTo>
                      <a:pt x="65" y="203"/>
                    </a:lnTo>
                    <a:lnTo>
                      <a:pt x="67" y="202"/>
                    </a:lnTo>
                    <a:lnTo>
                      <a:pt x="69" y="203"/>
                    </a:lnTo>
                    <a:lnTo>
                      <a:pt x="70" y="203"/>
                    </a:lnTo>
                    <a:lnTo>
                      <a:pt x="71" y="205"/>
                    </a:lnTo>
                    <a:lnTo>
                      <a:pt x="71" y="206"/>
                    </a:lnTo>
                    <a:lnTo>
                      <a:pt x="83" y="206"/>
                    </a:lnTo>
                    <a:lnTo>
                      <a:pt x="83" y="205"/>
                    </a:lnTo>
                    <a:lnTo>
                      <a:pt x="84" y="203"/>
                    </a:lnTo>
                    <a:lnTo>
                      <a:pt x="86" y="203"/>
                    </a:lnTo>
                    <a:lnTo>
                      <a:pt x="88" y="202"/>
                    </a:lnTo>
                    <a:lnTo>
                      <a:pt x="89" y="203"/>
                    </a:lnTo>
                    <a:lnTo>
                      <a:pt x="91" y="203"/>
                    </a:lnTo>
                    <a:lnTo>
                      <a:pt x="92" y="205"/>
                    </a:lnTo>
                    <a:lnTo>
                      <a:pt x="92" y="206"/>
                    </a:lnTo>
                    <a:lnTo>
                      <a:pt x="99" y="206"/>
                    </a:lnTo>
                    <a:lnTo>
                      <a:pt x="100" y="205"/>
                    </a:lnTo>
                    <a:lnTo>
                      <a:pt x="101" y="203"/>
                    </a:lnTo>
                    <a:lnTo>
                      <a:pt x="102" y="203"/>
                    </a:lnTo>
                    <a:lnTo>
                      <a:pt x="104" y="202"/>
                    </a:lnTo>
                    <a:lnTo>
                      <a:pt x="106" y="203"/>
                    </a:lnTo>
                    <a:lnTo>
                      <a:pt x="107" y="203"/>
                    </a:lnTo>
                    <a:lnTo>
                      <a:pt x="108" y="205"/>
                    </a:lnTo>
                    <a:lnTo>
                      <a:pt x="108" y="206"/>
                    </a:lnTo>
                    <a:lnTo>
                      <a:pt x="115" y="206"/>
                    </a:lnTo>
                    <a:lnTo>
                      <a:pt x="115" y="204"/>
                    </a:lnTo>
                    <a:lnTo>
                      <a:pt x="116" y="202"/>
                    </a:lnTo>
                    <a:lnTo>
                      <a:pt x="118" y="201"/>
                    </a:lnTo>
                    <a:lnTo>
                      <a:pt x="120" y="200"/>
                    </a:lnTo>
                    <a:lnTo>
                      <a:pt x="123" y="199"/>
                    </a:lnTo>
                    <a:lnTo>
                      <a:pt x="125" y="199"/>
                    </a:lnTo>
                    <a:lnTo>
                      <a:pt x="127" y="200"/>
                    </a:lnTo>
                    <a:lnTo>
                      <a:pt x="130" y="201"/>
                    </a:lnTo>
                    <a:lnTo>
                      <a:pt x="131" y="202"/>
                    </a:lnTo>
                    <a:lnTo>
                      <a:pt x="132" y="204"/>
                    </a:lnTo>
                    <a:lnTo>
                      <a:pt x="133" y="206"/>
                    </a:lnTo>
                    <a:lnTo>
                      <a:pt x="179" y="206"/>
                    </a:lnTo>
                    <a:lnTo>
                      <a:pt x="179" y="205"/>
                    </a:lnTo>
                    <a:lnTo>
                      <a:pt x="180" y="203"/>
                    </a:lnTo>
                    <a:lnTo>
                      <a:pt x="182" y="203"/>
                    </a:lnTo>
                    <a:lnTo>
                      <a:pt x="183" y="202"/>
                    </a:lnTo>
                    <a:lnTo>
                      <a:pt x="185" y="203"/>
                    </a:lnTo>
                    <a:lnTo>
                      <a:pt x="187" y="203"/>
                    </a:lnTo>
                    <a:lnTo>
                      <a:pt x="188" y="205"/>
                    </a:lnTo>
                    <a:lnTo>
                      <a:pt x="188" y="206"/>
                    </a:lnTo>
                    <a:lnTo>
                      <a:pt x="268" y="206"/>
                    </a:lnTo>
                    <a:lnTo>
                      <a:pt x="268" y="205"/>
                    </a:lnTo>
                    <a:lnTo>
                      <a:pt x="269" y="203"/>
                    </a:lnTo>
                    <a:lnTo>
                      <a:pt x="270" y="203"/>
                    </a:lnTo>
                    <a:lnTo>
                      <a:pt x="272" y="202"/>
                    </a:lnTo>
                    <a:lnTo>
                      <a:pt x="274" y="203"/>
                    </a:lnTo>
                    <a:lnTo>
                      <a:pt x="275" y="203"/>
                    </a:lnTo>
                    <a:lnTo>
                      <a:pt x="276" y="205"/>
                    </a:lnTo>
                    <a:lnTo>
                      <a:pt x="277" y="206"/>
                    </a:lnTo>
                    <a:lnTo>
                      <a:pt x="343" y="206"/>
                    </a:lnTo>
                    <a:lnTo>
                      <a:pt x="344" y="205"/>
                    </a:lnTo>
                    <a:lnTo>
                      <a:pt x="345" y="203"/>
                    </a:lnTo>
                    <a:lnTo>
                      <a:pt x="346" y="203"/>
                    </a:lnTo>
                    <a:lnTo>
                      <a:pt x="348" y="202"/>
                    </a:lnTo>
                    <a:lnTo>
                      <a:pt x="349" y="203"/>
                    </a:lnTo>
                    <a:lnTo>
                      <a:pt x="351" y="203"/>
                    </a:lnTo>
                    <a:lnTo>
                      <a:pt x="352" y="205"/>
                    </a:lnTo>
                    <a:lnTo>
                      <a:pt x="352" y="206"/>
                    </a:lnTo>
                    <a:lnTo>
                      <a:pt x="390" y="206"/>
                    </a:lnTo>
                    <a:lnTo>
                      <a:pt x="391" y="205"/>
                    </a:lnTo>
                    <a:lnTo>
                      <a:pt x="391" y="203"/>
                    </a:lnTo>
                    <a:lnTo>
                      <a:pt x="393" y="203"/>
                    </a:lnTo>
                    <a:lnTo>
                      <a:pt x="395" y="202"/>
                    </a:lnTo>
                    <a:lnTo>
                      <a:pt x="396" y="203"/>
                    </a:lnTo>
                    <a:lnTo>
                      <a:pt x="398" y="203"/>
                    </a:lnTo>
                    <a:lnTo>
                      <a:pt x="399" y="205"/>
                    </a:lnTo>
                    <a:lnTo>
                      <a:pt x="399" y="206"/>
                    </a:lnTo>
                    <a:lnTo>
                      <a:pt x="403" y="206"/>
                    </a:lnTo>
                    <a:lnTo>
                      <a:pt x="403" y="205"/>
                    </a:lnTo>
                    <a:lnTo>
                      <a:pt x="404" y="203"/>
                    </a:lnTo>
                    <a:lnTo>
                      <a:pt x="405" y="203"/>
                    </a:lnTo>
                    <a:lnTo>
                      <a:pt x="407" y="202"/>
                    </a:lnTo>
                    <a:lnTo>
                      <a:pt x="409" y="203"/>
                    </a:lnTo>
                    <a:lnTo>
                      <a:pt x="410" y="203"/>
                    </a:lnTo>
                    <a:lnTo>
                      <a:pt x="411" y="205"/>
                    </a:lnTo>
                    <a:lnTo>
                      <a:pt x="412" y="206"/>
                    </a:lnTo>
                    <a:lnTo>
                      <a:pt x="415" y="206"/>
                    </a:lnTo>
                    <a:lnTo>
                      <a:pt x="415" y="204"/>
                    </a:lnTo>
                    <a:lnTo>
                      <a:pt x="416" y="203"/>
                    </a:lnTo>
                    <a:lnTo>
                      <a:pt x="418" y="202"/>
                    </a:lnTo>
                    <a:lnTo>
                      <a:pt x="420" y="201"/>
                    </a:lnTo>
                    <a:lnTo>
                      <a:pt x="422" y="201"/>
                    </a:lnTo>
                    <a:lnTo>
                      <a:pt x="424" y="201"/>
                    </a:lnTo>
                    <a:lnTo>
                      <a:pt x="426" y="202"/>
                    </a:lnTo>
                    <a:lnTo>
                      <a:pt x="427" y="203"/>
                    </a:lnTo>
                    <a:lnTo>
                      <a:pt x="428" y="204"/>
                    </a:lnTo>
                    <a:lnTo>
                      <a:pt x="429" y="206"/>
                    </a:lnTo>
                    <a:lnTo>
                      <a:pt x="430" y="206"/>
                    </a:lnTo>
                    <a:lnTo>
                      <a:pt x="430" y="205"/>
                    </a:lnTo>
                    <a:lnTo>
                      <a:pt x="431" y="203"/>
                    </a:lnTo>
                    <a:lnTo>
                      <a:pt x="432" y="203"/>
                    </a:lnTo>
                    <a:lnTo>
                      <a:pt x="434" y="202"/>
                    </a:lnTo>
                    <a:lnTo>
                      <a:pt x="436" y="203"/>
                    </a:lnTo>
                    <a:lnTo>
                      <a:pt x="437" y="203"/>
                    </a:lnTo>
                    <a:lnTo>
                      <a:pt x="438" y="205"/>
                    </a:lnTo>
                    <a:lnTo>
                      <a:pt x="439" y="206"/>
                    </a:lnTo>
                    <a:lnTo>
                      <a:pt x="484" y="206"/>
                    </a:lnTo>
                    <a:lnTo>
                      <a:pt x="484" y="205"/>
                    </a:lnTo>
                    <a:lnTo>
                      <a:pt x="485" y="203"/>
                    </a:lnTo>
                    <a:lnTo>
                      <a:pt x="487" y="203"/>
                    </a:lnTo>
                    <a:lnTo>
                      <a:pt x="488" y="202"/>
                    </a:lnTo>
                    <a:lnTo>
                      <a:pt x="490" y="203"/>
                    </a:lnTo>
                    <a:lnTo>
                      <a:pt x="491" y="203"/>
                    </a:lnTo>
                    <a:lnTo>
                      <a:pt x="492" y="205"/>
                    </a:lnTo>
                    <a:lnTo>
                      <a:pt x="493" y="206"/>
                    </a:lnTo>
                    <a:lnTo>
                      <a:pt x="545" y="206"/>
                    </a:lnTo>
                    <a:lnTo>
                      <a:pt x="545" y="205"/>
                    </a:lnTo>
                    <a:lnTo>
                      <a:pt x="546" y="203"/>
                    </a:lnTo>
                    <a:lnTo>
                      <a:pt x="547" y="203"/>
                    </a:lnTo>
                    <a:lnTo>
                      <a:pt x="549" y="202"/>
                    </a:lnTo>
                    <a:lnTo>
                      <a:pt x="551" y="203"/>
                    </a:lnTo>
                    <a:lnTo>
                      <a:pt x="552" y="203"/>
                    </a:lnTo>
                    <a:lnTo>
                      <a:pt x="553" y="205"/>
                    </a:lnTo>
                    <a:lnTo>
                      <a:pt x="554" y="206"/>
                    </a:lnTo>
                    <a:lnTo>
                      <a:pt x="556" y="206"/>
                    </a:lnTo>
                    <a:lnTo>
                      <a:pt x="557" y="205"/>
                    </a:lnTo>
                    <a:lnTo>
                      <a:pt x="558" y="203"/>
                    </a:lnTo>
                    <a:lnTo>
                      <a:pt x="559" y="203"/>
                    </a:lnTo>
                    <a:lnTo>
                      <a:pt x="561" y="202"/>
                    </a:lnTo>
                    <a:lnTo>
                      <a:pt x="563" y="203"/>
                    </a:lnTo>
                    <a:lnTo>
                      <a:pt x="564" y="203"/>
                    </a:lnTo>
                    <a:lnTo>
                      <a:pt x="565" y="205"/>
                    </a:lnTo>
                    <a:lnTo>
                      <a:pt x="565" y="206"/>
                    </a:lnTo>
                    <a:lnTo>
                      <a:pt x="629" y="206"/>
                    </a:lnTo>
                    <a:lnTo>
                      <a:pt x="629" y="205"/>
                    </a:lnTo>
                    <a:lnTo>
                      <a:pt x="630" y="203"/>
                    </a:lnTo>
                    <a:lnTo>
                      <a:pt x="632" y="203"/>
                    </a:lnTo>
                    <a:lnTo>
                      <a:pt x="633" y="202"/>
                    </a:lnTo>
                    <a:lnTo>
                      <a:pt x="635" y="203"/>
                    </a:lnTo>
                    <a:lnTo>
                      <a:pt x="637" y="203"/>
                    </a:lnTo>
                    <a:lnTo>
                      <a:pt x="637" y="205"/>
                    </a:lnTo>
                    <a:lnTo>
                      <a:pt x="638" y="206"/>
                    </a:lnTo>
                    <a:lnTo>
                      <a:pt x="881" y="206"/>
                    </a:lnTo>
                    <a:lnTo>
                      <a:pt x="881" y="205"/>
                    </a:lnTo>
                    <a:lnTo>
                      <a:pt x="882" y="203"/>
                    </a:lnTo>
                    <a:lnTo>
                      <a:pt x="883" y="203"/>
                    </a:lnTo>
                    <a:lnTo>
                      <a:pt x="885" y="202"/>
                    </a:lnTo>
                    <a:lnTo>
                      <a:pt x="887" y="203"/>
                    </a:lnTo>
                    <a:lnTo>
                      <a:pt x="888" y="203"/>
                    </a:lnTo>
                    <a:lnTo>
                      <a:pt x="889" y="205"/>
                    </a:lnTo>
                    <a:lnTo>
                      <a:pt x="890" y="206"/>
                    </a:lnTo>
                    <a:lnTo>
                      <a:pt x="925" y="206"/>
                    </a:lnTo>
                    <a:lnTo>
                      <a:pt x="925" y="205"/>
                    </a:lnTo>
                    <a:lnTo>
                      <a:pt x="926" y="203"/>
                    </a:lnTo>
                    <a:lnTo>
                      <a:pt x="927" y="203"/>
                    </a:lnTo>
                    <a:lnTo>
                      <a:pt x="929" y="202"/>
                    </a:lnTo>
                    <a:lnTo>
                      <a:pt x="931" y="203"/>
                    </a:lnTo>
                    <a:lnTo>
                      <a:pt x="932" y="203"/>
                    </a:lnTo>
                    <a:lnTo>
                      <a:pt x="933" y="205"/>
                    </a:lnTo>
                    <a:lnTo>
                      <a:pt x="934" y="206"/>
                    </a:lnTo>
                    <a:lnTo>
                      <a:pt x="957" y="206"/>
                    </a:lnTo>
                    <a:lnTo>
                      <a:pt x="957" y="204"/>
                    </a:lnTo>
                    <a:lnTo>
                      <a:pt x="958" y="202"/>
                    </a:lnTo>
                    <a:lnTo>
                      <a:pt x="960" y="201"/>
                    </a:lnTo>
                    <a:lnTo>
                      <a:pt x="962" y="200"/>
                    </a:lnTo>
                    <a:lnTo>
                      <a:pt x="964" y="199"/>
                    </a:lnTo>
                    <a:lnTo>
                      <a:pt x="967" y="199"/>
                    </a:lnTo>
                    <a:lnTo>
                      <a:pt x="969" y="200"/>
                    </a:lnTo>
                    <a:lnTo>
                      <a:pt x="971" y="201"/>
                    </a:lnTo>
                    <a:lnTo>
                      <a:pt x="973" y="202"/>
                    </a:lnTo>
                    <a:lnTo>
                      <a:pt x="974" y="204"/>
                    </a:lnTo>
                    <a:lnTo>
                      <a:pt x="974" y="206"/>
                    </a:lnTo>
                    <a:lnTo>
                      <a:pt x="1003" y="206"/>
                    </a:lnTo>
                    <a:lnTo>
                      <a:pt x="1003" y="205"/>
                    </a:lnTo>
                    <a:lnTo>
                      <a:pt x="1004" y="203"/>
                    </a:lnTo>
                    <a:lnTo>
                      <a:pt x="1005" y="203"/>
                    </a:lnTo>
                    <a:lnTo>
                      <a:pt x="1007" y="202"/>
                    </a:lnTo>
                    <a:lnTo>
                      <a:pt x="1009" y="203"/>
                    </a:lnTo>
                    <a:lnTo>
                      <a:pt x="1010" y="203"/>
                    </a:lnTo>
                    <a:lnTo>
                      <a:pt x="1011" y="205"/>
                    </a:lnTo>
                    <a:lnTo>
                      <a:pt x="1012" y="206"/>
                    </a:lnTo>
                    <a:lnTo>
                      <a:pt x="1016" y="206"/>
                    </a:lnTo>
                    <a:lnTo>
                      <a:pt x="1016" y="205"/>
                    </a:lnTo>
                    <a:lnTo>
                      <a:pt x="1017" y="203"/>
                    </a:lnTo>
                    <a:lnTo>
                      <a:pt x="1018" y="203"/>
                    </a:lnTo>
                    <a:lnTo>
                      <a:pt x="1020" y="202"/>
                    </a:lnTo>
                    <a:lnTo>
                      <a:pt x="1022" y="203"/>
                    </a:lnTo>
                    <a:lnTo>
                      <a:pt x="1023" y="203"/>
                    </a:lnTo>
                    <a:lnTo>
                      <a:pt x="1024" y="205"/>
                    </a:lnTo>
                    <a:lnTo>
                      <a:pt x="1025" y="206"/>
                    </a:lnTo>
                    <a:lnTo>
                      <a:pt x="1031" y="206"/>
                    </a:lnTo>
                    <a:lnTo>
                      <a:pt x="1031" y="205"/>
                    </a:lnTo>
                    <a:lnTo>
                      <a:pt x="1032" y="203"/>
                    </a:lnTo>
                    <a:lnTo>
                      <a:pt x="1034" y="203"/>
                    </a:lnTo>
                    <a:lnTo>
                      <a:pt x="1035" y="202"/>
                    </a:lnTo>
                    <a:lnTo>
                      <a:pt x="1037" y="203"/>
                    </a:lnTo>
                    <a:lnTo>
                      <a:pt x="1039" y="203"/>
                    </a:lnTo>
                    <a:lnTo>
                      <a:pt x="1039" y="205"/>
                    </a:lnTo>
                    <a:lnTo>
                      <a:pt x="1040" y="206"/>
                    </a:lnTo>
                    <a:lnTo>
                      <a:pt x="1065" y="206"/>
                    </a:lnTo>
                    <a:lnTo>
                      <a:pt x="1065" y="205"/>
                    </a:lnTo>
                    <a:lnTo>
                      <a:pt x="1066" y="203"/>
                    </a:lnTo>
                    <a:lnTo>
                      <a:pt x="1067" y="203"/>
                    </a:lnTo>
                    <a:lnTo>
                      <a:pt x="1069" y="202"/>
                    </a:lnTo>
                    <a:lnTo>
                      <a:pt x="1071" y="203"/>
                    </a:lnTo>
                    <a:lnTo>
                      <a:pt x="1072" y="203"/>
                    </a:lnTo>
                    <a:lnTo>
                      <a:pt x="1073" y="205"/>
                    </a:lnTo>
                    <a:lnTo>
                      <a:pt x="1074" y="206"/>
                    </a:lnTo>
                    <a:lnTo>
                      <a:pt x="1078" y="206"/>
                    </a:lnTo>
                    <a:lnTo>
                      <a:pt x="1079" y="205"/>
                    </a:lnTo>
                    <a:lnTo>
                      <a:pt x="1079" y="203"/>
                    </a:lnTo>
                    <a:lnTo>
                      <a:pt x="1081" y="203"/>
                    </a:lnTo>
                    <a:lnTo>
                      <a:pt x="1083" y="202"/>
                    </a:lnTo>
                    <a:lnTo>
                      <a:pt x="1084" y="203"/>
                    </a:lnTo>
                    <a:lnTo>
                      <a:pt x="1086" y="203"/>
                    </a:lnTo>
                    <a:lnTo>
                      <a:pt x="1087" y="205"/>
                    </a:lnTo>
                    <a:lnTo>
                      <a:pt x="1087" y="206"/>
                    </a:lnTo>
                    <a:lnTo>
                      <a:pt x="1098" y="206"/>
                    </a:lnTo>
                    <a:lnTo>
                      <a:pt x="1099" y="205"/>
                    </a:lnTo>
                    <a:lnTo>
                      <a:pt x="1100" y="203"/>
                    </a:lnTo>
                    <a:lnTo>
                      <a:pt x="1101" y="203"/>
                    </a:lnTo>
                    <a:lnTo>
                      <a:pt x="1103" y="202"/>
                    </a:lnTo>
                    <a:lnTo>
                      <a:pt x="1105" y="203"/>
                    </a:lnTo>
                    <a:lnTo>
                      <a:pt x="1106" y="203"/>
                    </a:lnTo>
                    <a:lnTo>
                      <a:pt x="1107" y="205"/>
                    </a:lnTo>
                    <a:lnTo>
                      <a:pt x="1107" y="206"/>
                    </a:lnTo>
                    <a:lnTo>
                      <a:pt x="1151" y="206"/>
                    </a:lnTo>
                    <a:lnTo>
                      <a:pt x="1151" y="205"/>
                    </a:lnTo>
                    <a:lnTo>
                      <a:pt x="1152" y="203"/>
                    </a:lnTo>
                    <a:lnTo>
                      <a:pt x="1154" y="203"/>
                    </a:lnTo>
                    <a:lnTo>
                      <a:pt x="1155" y="202"/>
                    </a:lnTo>
                    <a:lnTo>
                      <a:pt x="1157" y="203"/>
                    </a:lnTo>
                    <a:lnTo>
                      <a:pt x="1159" y="203"/>
                    </a:lnTo>
                    <a:lnTo>
                      <a:pt x="1159" y="205"/>
                    </a:lnTo>
                    <a:lnTo>
                      <a:pt x="1160" y="206"/>
                    </a:lnTo>
                    <a:lnTo>
                      <a:pt x="1165" y="206"/>
                    </a:lnTo>
                    <a:lnTo>
                      <a:pt x="1165" y="205"/>
                    </a:lnTo>
                    <a:lnTo>
                      <a:pt x="1166" y="203"/>
                    </a:lnTo>
                    <a:lnTo>
                      <a:pt x="1168" y="203"/>
                    </a:lnTo>
                    <a:lnTo>
                      <a:pt x="1170" y="202"/>
                    </a:lnTo>
                    <a:lnTo>
                      <a:pt x="1171" y="203"/>
                    </a:lnTo>
                    <a:lnTo>
                      <a:pt x="1173" y="203"/>
                    </a:lnTo>
                    <a:lnTo>
                      <a:pt x="1174" y="205"/>
                    </a:lnTo>
                    <a:lnTo>
                      <a:pt x="1174" y="206"/>
                    </a:lnTo>
                    <a:lnTo>
                      <a:pt x="1183" y="206"/>
                    </a:lnTo>
                    <a:lnTo>
                      <a:pt x="1183" y="204"/>
                    </a:lnTo>
                    <a:lnTo>
                      <a:pt x="1184" y="202"/>
                    </a:lnTo>
                    <a:lnTo>
                      <a:pt x="1186" y="201"/>
                    </a:lnTo>
                    <a:lnTo>
                      <a:pt x="1188" y="200"/>
                    </a:lnTo>
                    <a:lnTo>
                      <a:pt x="1190" y="199"/>
                    </a:lnTo>
                    <a:lnTo>
                      <a:pt x="1193" y="199"/>
                    </a:lnTo>
                    <a:lnTo>
                      <a:pt x="1195" y="200"/>
                    </a:lnTo>
                    <a:lnTo>
                      <a:pt x="1197" y="201"/>
                    </a:lnTo>
                    <a:lnTo>
                      <a:pt x="1199" y="202"/>
                    </a:lnTo>
                    <a:lnTo>
                      <a:pt x="1199" y="204"/>
                    </a:lnTo>
                    <a:lnTo>
                      <a:pt x="1200" y="206"/>
                    </a:lnTo>
                    <a:lnTo>
                      <a:pt x="1203" y="206"/>
                    </a:lnTo>
                    <a:lnTo>
                      <a:pt x="1204" y="205"/>
                    </a:lnTo>
                    <a:lnTo>
                      <a:pt x="1204" y="203"/>
                    </a:lnTo>
                    <a:lnTo>
                      <a:pt x="1206" y="203"/>
                    </a:lnTo>
                    <a:lnTo>
                      <a:pt x="1208" y="202"/>
                    </a:lnTo>
                    <a:lnTo>
                      <a:pt x="1209" y="203"/>
                    </a:lnTo>
                    <a:lnTo>
                      <a:pt x="1211" y="203"/>
                    </a:lnTo>
                    <a:lnTo>
                      <a:pt x="1212" y="205"/>
                    </a:lnTo>
                    <a:lnTo>
                      <a:pt x="1212" y="206"/>
                    </a:lnTo>
                    <a:lnTo>
                      <a:pt x="1231" y="206"/>
                    </a:lnTo>
                    <a:lnTo>
                      <a:pt x="1231" y="118"/>
                    </a:lnTo>
                    <a:lnTo>
                      <a:pt x="1451" y="118"/>
                    </a:lnTo>
                    <a:lnTo>
                      <a:pt x="1451" y="117"/>
                    </a:lnTo>
                    <a:lnTo>
                      <a:pt x="1452" y="115"/>
                    </a:lnTo>
                    <a:lnTo>
                      <a:pt x="1453" y="115"/>
                    </a:lnTo>
                    <a:lnTo>
                      <a:pt x="1455" y="114"/>
                    </a:lnTo>
                    <a:lnTo>
                      <a:pt x="1457" y="115"/>
                    </a:lnTo>
                    <a:lnTo>
                      <a:pt x="1458" y="115"/>
                    </a:lnTo>
                    <a:lnTo>
                      <a:pt x="1459" y="117"/>
                    </a:lnTo>
                    <a:lnTo>
                      <a:pt x="1460" y="118"/>
                    </a:lnTo>
                    <a:lnTo>
                      <a:pt x="1467" y="118"/>
                    </a:lnTo>
                    <a:lnTo>
                      <a:pt x="1467" y="117"/>
                    </a:lnTo>
                    <a:lnTo>
                      <a:pt x="1468" y="115"/>
                    </a:lnTo>
                    <a:lnTo>
                      <a:pt x="1469" y="115"/>
                    </a:lnTo>
                    <a:lnTo>
                      <a:pt x="1471" y="114"/>
                    </a:lnTo>
                    <a:lnTo>
                      <a:pt x="1473" y="115"/>
                    </a:lnTo>
                    <a:lnTo>
                      <a:pt x="1474" y="115"/>
                    </a:lnTo>
                    <a:lnTo>
                      <a:pt x="1475" y="117"/>
                    </a:lnTo>
                    <a:lnTo>
                      <a:pt x="1476" y="118"/>
                    </a:lnTo>
                    <a:lnTo>
                      <a:pt x="1477" y="118"/>
                    </a:lnTo>
                    <a:lnTo>
                      <a:pt x="1477" y="116"/>
                    </a:lnTo>
                    <a:lnTo>
                      <a:pt x="1478" y="115"/>
                    </a:lnTo>
                    <a:lnTo>
                      <a:pt x="1479" y="113"/>
                    </a:lnTo>
                    <a:lnTo>
                      <a:pt x="1481" y="112"/>
                    </a:lnTo>
                    <a:lnTo>
                      <a:pt x="1483" y="112"/>
                    </a:lnTo>
                    <a:lnTo>
                      <a:pt x="1485" y="112"/>
                    </a:lnTo>
                    <a:lnTo>
                      <a:pt x="1487" y="112"/>
                    </a:lnTo>
                    <a:lnTo>
                      <a:pt x="1489" y="113"/>
                    </a:lnTo>
                    <a:lnTo>
                      <a:pt x="1491" y="115"/>
                    </a:lnTo>
                    <a:lnTo>
                      <a:pt x="1492" y="116"/>
                    </a:lnTo>
                    <a:lnTo>
                      <a:pt x="1492" y="118"/>
                    </a:lnTo>
                    <a:lnTo>
                      <a:pt x="1499" y="118"/>
                    </a:lnTo>
                    <a:lnTo>
                      <a:pt x="1499" y="117"/>
                    </a:lnTo>
                    <a:lnTo>
                      <a:pt x="1500" y="115"/>
                    </a:lnTo>
                    <a:lnTo>
                      <a:pt x="1501" y="115"/>
                    </a:lnTo>
                    <a:lnTo>
                      <a:pt x="1503" y="114"/>
                    </a:lnTo>
                    <a:lnTo>
                      <a:pt x="1505" y="115"/>
                    </a:lnTo>
                    <a:lnTo>
                      <a:pt x="1506" y="115"/>
                    </a:lnTo>
                    <a:lnTo>
                      <a:pt x="1507" y="117"/>
                    </a:lnTo>
                    <a:lnTo>
                      <a:pt x="1508" y="118"/>
                    </a:lnTo>
                    <a:lnTo>
                      <a:pt x="1515" y="118"/>
                    </a:lnTo>
                    <a:lnTo>
                      <a:pt x="1515" y="117"/>
                    </a:lnTo>
                    <a:lnTo>
                      <a:pt x="1516" y="115"/>
                    </a:lnTo>
                    <a:lnTo>
                      <a:pt x="1518" y="115"/>
                    </a:lnTo>
                    <a:lnTo>
                      <a:pt x="1520" y="114"/>
                    </a:lnTo>
                    <a:lnTo>
                      <a:pt x="1521" y="115"/>
                    </a:lnTo>
                    <a:lnTo>
                      <a:pt x="1523" y="115"/>
                    </a:lnTo>
                    <a:lnTo>
                      <a:pt x="1524" y="117"/>
                    </a:lnTo>
                    <a:lnTo>
                      <a:pt x="1524" y="118"/>
                    </a:lnTo>
                    <a:lnTo>
                      <a:pt x="1526" y="118"/>
                    </a:lnTo>
                    <a:lnTo>
                      <a:pt x="1527" y="116"/>
                    </a:lnTo>
                    <a:lnTo>
                      <a:pt x="1528" y="115"/>
                    </a:lnTo>
                    <a:lnTo>
                      <a:pt x="1529" y="114"/>
                    </a:lnTo>
                    <a:lnTo>
                      <a:pt x="1531" y="113"/>
                    </a:lnTo>
                    <a:lnTo>
                      <a:pt x="1533" y="113"/>
                    </a:lnTo>
                    <a:lnTo>
                      <a:pt x="1535" y="113"/>
                    </a:lnTo>
                    <a:lnTo>
                      <a:pt x="1537" y="114"/>
                    </a:lnTo>
                    <a:lnTo>
                      <a:pt x="1539" y="115"/>
                    </a:lnTo>
                    <a:lnTo>
                      <a:pt x="1539" y="116"/>
                    </a:lnTo>
                    <a:lnTo>
                      <a:pt x="1540" y="118"/>
                    </a:lnTo>
                    <a:lnTo>
                      <a:pt x="1572" y="118"/>
                    </a:lnTo>
                    <a:lnTo>
                      <a:pt x="1572" y="117"/>
                    </a:lnTo>
                    <a:lnTo>
                      <a:pt x="1573" y="115"/>
                    </a:lnTo>
                    <a:lnTo>
                      <a:pt x="1575" y="115"/>
                    </a:lnTo>
                    <a:lnTo>
                      <a:pt x="1577" y="114"/>
                    </a:lnTo>
                    <a:lnTo>
                      <a:pt x="1578" y="115"/>
                    </a:lnTo>
                    <a:lnTo>
                      <a:pt x="1580" y="115"/>
                    </a:lnTo>
                    <a:lnTo>
                      <a:pt x="1581" y="117"/>
                    </a:lnTo>
                    <a:lnTo>
                      <a:pt x="1581" y="118"/>
                    </a:lnTo>
                    <a:lnTo>
                      <a:pt x="1598" y="118"/>
                    </a:lnTo>
                    <a:lnTo>
                      <a:pt x="1599" y="117"/>
                    </a:lnTo>
                    <a:lnTo>
                      <a:pt x="1600" y="115"/>
                    </a:lnTo>
                    <a:lnTo>
                      <a:pt x="1601" y="115"/>
                    </a:lnTo>
                    <a:lnTo>
                      <a:pt x="1603" y="114"/>
                    </a:lnTo>
                    <a:lnTo>
                      <a:pt x="1605" y="115"/>
                    </a:lnTo>
                    <a:lnTo>
                      <a:pt x="1606" y="115"/>
                    </a:lnTo>
                    <a:lnTo>
                      <a:pt x="1607" y="117"/>
                    </a:lnTo>
                    <a:lnTo>
                      <a:pt x="1607" y="118"/>
                    </a:lnTo>
                    <a:lnTo>
                      <a:pt x="1622" y="118"/>
                    </a:lnTo>
                    <a:lnTo>
                      <a:pt x="1622" y="117"/>
                    </a:lnTo>
                    <a:lnTo>
                      <a:pt x="1623" y="115"/>
                    </a:lnTo>
                    <a:lnTo>
                      <a:pt x="1625" y="115"/>
                    </a:lnTo>
                    <a:lnTo>
                      <a:pt x="1626" y="114"/>
                    </a:lnTo>
                    <a:lnTo>
                      <a:pt x="1628" y="115"/>
                    </a:lnTo>
                    <a:lnTo>
                      <a:pt x="1630" y="115"/>
                    </a:lnTo>
                    <a:lnTo>
                      <a:pt x="1631" y="117"/>
                    </a:lnTo>
                    <a:lnTo>
                      <a:pt x="1631" y="118"/>
                    </a:lnTo>
                    <a:lnTo>
                      <a:pt x="1649" y="118"/>
                    </a:lnTo>
                    <a:lnTo>
                      <a:pt x="1649" y="117"/>
                    </a:lnTo>
                    <a:lnTo>
                      <a:pt x="1650" y="115"/>
                    </a:lnTo>
                    <a:lnTo>
                      <a:pt x="1652" y="115"/>
                    </a:lnTo>
                    <a:lnTo>
                      <a:pt x="1654" y="114"/>
                    </a:lnTo>
                    <a:lnTo>
                      <a:pt x="1655" y="115"/>
                    </a:lnTo>
                    <a:lnTo>
                      <a:pt x="1657" y="115"/>
                    </a:lnTo>
                    <a:lnTo>
                      <a:pt x="1658" y="117"/>
                    </a:lnTo>
                    <a:lnTo>
                      <a:pt x="1658" y="118"/>
                    </a:lnTo>
                    <a:lnTo>
                      <a:pt x="1673" y="118"/>
                    </a:lnTo>
                    <a:lnTo>
                      <a:pt x="1673" y="117"/>
                    </a:lnTo>
                    <a:lnTo>
                      <a:pt x="1674" y="115"/>
                    </a:lnTo>
                    <a:lnTo>
                      <a:pt x="1675" y="115"/>
                    </a:lnTo>
                    <a:lnTo>
                      <a:pt x="1677" y="114"/>
                    </a:lnTo>
                    <a:lnTo>
                      <a:pt x="1679" y="115"/>
                    </a:lnTo>
                    <a:lnTo>
                      <a:pt x="1680" y="115"/>
                    </a:lnTo>
                    <a:lnTo>
                      <a:pt x="1681" y="117"/>
                    </a:lnTo>
                    <a:lnTo>
                      <a:pt x="1682" y="118"/>
                    </a:lnTo>
                    <a:lnTo>
                      <a:pt x="1753" y="118"/>
                    </a:lnTo>
                    <a:lnTo>
                      <a:pt x="1753" y="117"/>
                    </a:lnTo>
                    <a:lnTo>
                      <a:pt x="1754" y="115"/>
                    </a:lnTo>
                    <a:lnTo>
                      <a:pt x="1755" y="115"/>
                    </a:lnTo>
                    <a:lnTo>
                      <a:pt x="1757" y="114"/>
                    </a:lnTo>
                    <a:lnTo>
                      <a:pt x="1759" y="115"/>
                    </a:lnTo>
                    <a:lnTo>
                      <a:pt x="1760" y="115"/>
                    </a:lnTo>
                    <a:lnTo>
                      <a:pt x="1761" y="117"/>
                    </a:lnTo>
                    <a:lnTo>
                      <a:pt x="1761" y="118"/>
                    </a:lnTo>
                    <a:lnTo>
                      <a:pt x="1929" y="118"/>
                    </a:lnTo>
                    <a:lnTo>
                      <a:pt x="1930" y="117"/>
                    </a:lnTo>
                    <a:lnTo>
                      <a:pt x="1931" y="115"/>
                    </a:lnTo>
                    <a:lnTo>
                      <a:pt x="1932" y="115"/>
                    </a:lnTo>
                    <a:lnTo>
                      <a:pt x="1934" y="114"/>
                    </a:lnTo>
                    <a:lnTo>
                      <a:pt x="1936" y="115"/>
                    </a:lnTo>
                    <a:lnTo>
                      <a:pt x="1937" y="115"/>
                    </a:lnTo>
                    <a:lnTo>
                      <a:pt x="1938" y="117"/>
                    </a:lnTo>
                    <a:lnTo>
                      <a:pt x="1938" y="118"/>
                    </a:lnTo>
                    <a:lnTo>
                      <a:pt x="1951" y="118"/>
                    </a:lnTo>
                    <a:lnTo>
                      <a:pt x="1952" y="117"/>
                    </a:lnTo>
                    <a:lnTo>
                      <a:pt x="1953" y="115"/>
                    </a:lnTo>
                    <a:lnTo>
                      <a:pt x="1954" y="115"/>
                    </a:lnTo>
                    <a:lnTo>
                      <a:pt x="1956" y="114"/>
                    </a:lnTo>
                    <a:lnTo>
                      <a:pt x="1957" y="115"/>
                    </a:lnTo>
                    <a:lnTo>
                      <a:pt x="1959" y="115"/>
                    </a:lnTo>
                    <a:lnTo>
                      <a:pt x="1960" y="117"/>
                    </a:lnTo>
                    <a:lnTo>
                      <a:pt x="1960" y="118"/>
                    </a:lnTo>
                    <a:lnTo>
                      <a:pt x="1970" y="118"/>
                    </a:lnTo>
                    <a:lnTo>
                      <a:pt x="1970" y="117"/>
                    </a:lnTo>
                    <a:lnTo>
                      <a:pt x="1971" y="115"/>
                    </a:lnTo>
                    <a:lnTo>
                      <a:pt x="1973" y="115"/>
                    </a:lnTo>
                    <a:lnTo>
                      <a:pt x="1974" y="114"/>
                    </a:lnTo>
                    <a:lnTo>
                      <a:pt x="1976" y="115"/>
                    </a:lnTo>
                    <a:lnTo>
                      <a:pt x="1977" y="115"/>
                    </a:lnTo>
                    <a:lnTo>
                      <a:pt x="1978" y="117"/>
                    </a:lnTo>
                    <a:lnTo>
                      <a:pt x="1979" y="118"/>
                    </a:lnTo>
                    <a:lnTo>
                      <a:pt x="1983" y="118"/>
                    </a:lnTo>
                    <a:lnTo>
                      <a:pt x="1984" y="117"/>
                    </a:lnTo>
                    <a:lnTo>
                      <a:pt x="1985" y="115"/>
                    </a:lnTo>
                    <a:lnTo>
                      <a:pt x="1986" y="115"/>
                    </a:lnTo>
                    <a:lnTo>
                      <a:pt x="1988" y="114"/>
                    </a:lnTo>
                    <a:lnTo>
                      <a:pt x="1989" y="115"/>
                    </a:lnTo>
                    <a:lnTo>
                      <a:pt x="1991" y="115"/>
                    </a:lnTo>
                    <a:lnTo>
                      <a:pt x="1992" y="117"/>
                    </a:lnTo>
                    <a:lnTo>
                      <a:pt x="1992" y="118"/>
                    </a:lnTo>
                    <a:lnTo>
                      <a:pt x="2010" y="118"/>
                    </a:lnTo>
                    <a:lnTo>
                      <a:pt x="2011" y="117"/>
                    </a:lnTo>
                    <a:lnTo>
                      <a:pt x="2012" y="115"/>
                    </a:lnTo>
                    <a:lnTo>
                      <a:pt x="2013" y="115"/>
                    </a:lnTo>
                    <a:lnTo>
                      <a:pt x="2015" y="114"/>
                    </a:lnTo>
                    <a:lnTo>
                      <a:pt x="2016" y="115"/>
                    </a:lnTo>
                    <a:lnTo>
                      <a:pt x="2018" y="115"/>
                    </a:lnTo>
                    <a:lnTo>
                      <a:pt x="2019" y="117"/>
                    </a:lnTo>
                    <a:lnTo>
                      <a:pt x="2019" y="118"/>
                    </a:lnTo>
                    <a:lnTo>
                      <a:pt x="2038" y="118"/>
                    </a:lnTo>
                    <a:lnTo>
                      <a:pt x="2038" y="117"/>
                    </a:lnTo>
                    <a:lnTo>
                      <a:pt x="2039" y="115"/>
                    </a:lnTo>
                    <a:lnTo>
                      <a:pt x="2041" y="115"/>
                    </a:lnTo>
                    <a:lnTo>
                      <a:pt x="2042" y="114"/>
                    </a:lnTo>
                    <a:lnTo>
                      <a:pt x="2044" y="115"/>
                    </a:lnTo>
                    <a:lnTo>
                      <a:pt x="2046" y="115"/>
                    </a:lnTo>
                    <a:lnTo>
                      <a:pt x="2047" y="117"/>
                    </a:lnTo>
                    <a:lnTo>
                      <a:pt x="2047" y="118"/>
                    </a:lnTo>
                    <a:lnTo>
                      <a:pt x="2065" y="118"/>
                    </a:lnTo>
                    <a:lnTo>
                      <a:pt x="2065" y="117"/>
                    </a:lnTo>
                    <a:lnTo>
                      <a:pt x="2066" y="115"/>
                    </a:lnTo>
                    <a:lnTo>
                      <a:pt x="2068" y="115"/>
                    </a:lnTo>
                    <a:lnTo>
                      <a:pt x="2070" y="114"/>
                    </a:lnTo>
                    <a:lnTo>
                      <a:pt x="2071" y="115"/>
                    </a:lnTo>
                    <a:lnTo>
                      <a:pt x="2073" y="115"/>
                    </a:lnTo>
                    <a:lnTo>
                      <a:pt x="2074" y="117"/>
                    </a:lnTo>
                    <a:lnTo>
                      <a:pt x="2074" y="118"/>
                    </a:lnTo>
                    <a:lnTo>
                      <a:pt x="2080" y="118"/>
                    </a:lnTo>
                    <a:lnTo>
                      <a:pt x="2080" y="117"/>
                    </a:lnTo>
                    <a:lnTo>
                      <a:pt x="2081" y="115"/>
                    </a:lnTo>
                    <a:lnTo>
                      <a:pt x="2082" y="115"/>
                    </a:lnTo>
                    <a:lnTo>
                      <a:pt x="2084" y="114"/>
                    </a:lnTo>
                    <a:lnTo>
                      <a:pt x="2086" y="115"/>
                    </a:lnTo>
                    <a:lnTo>
                      <a:pt x="2087" y="115"/>
                    </a:lnTo>
                    <a:lnTo>
                      <a:pt x="2088" y="117"/>
                    </a:lnTo>
                    <a:lnTo>
                      <a:pt x="2088" y="118"/>
                    </a:lnTo>
                    <a:lnTo>
                      <a:pt x="2280" y="118"/>
                    </a:lnTo>
                    <a:lnTo>
                      <a:pt x="228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5923800" y="377928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6" name=""/>
              <p:cNvSpPr/>
              <p:nvPr/>
            </p:nvSpPr>
            <p:spPr>
              <a:xfrm>
                <a:off x="8331480" y="349884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17" name=""/>
              <p:cNvSpPr/>
              <p:nvPr/>
            </p:nvSpPr>
            <p:spPr>
              <a:xfrm>
                <a:off x="6318000" y="3249000"/>
                <a:ext cx="1890720" cy="188280"/>
              </a:xfrm>
              <a:custGeom>
                <a:avLst/>
                <a:gdLst/>
                <a:ahLst/>
                <a:rect l="l" t="t" r="r" b="b"/>
                <a:pathLst>
                  <a:path w="1786" h="141">
                    <a:moveTo>
                      <a:pt x="0" y="5"/>
                    </a:moveTo>
                    <a:lnTo>
                      <a:pt x="31" y="5"/>
                    </a:lnTo>
                    <a:lnTo>
                      <a:pt x="31" y="4"/>
                    </a:lnTo>
                    <a:lnTo>
                      <a:pt x="32" y="2"/>
                    </a:lnTo>
                    <a:lnTo>
                      <a:pt x="33" y="2"/>
                    </a:lnTo>
                    <a:lnTo>
                      <a:pt x="35" y="1"/>
                    </a:lnTo>
                    <a:lnTo>
                      <a:pt x="37" y="2"/>
                    </a:lnTo>
                    <a:lnTo>
                      <a:pt x="38" y="2"/>
                    </a:lnTo>
                    <a:lnTo>
                      <a:pt x="39" y="4"/>
                    </a:lnTo>
                    <a:lnTo>
                      <a:pt x="40" y="5"/>
                    </a:lnTo>
                    <a:lnTo>
                      <a:pt x="48" y="5"/>
                    </a:lnTo>
                    <a:lnTo>
                      <a:pt x="48" y="3"/>
                    </a:lnTo>
                    <a:lnTo>
                      <a:pt x="49" y="2"/>
                    </a:lnTo>
                    <a:lnTo>
                      <a:pt x="50" y="1"/>
                    </a:lnTo>
                    <a:lnTo>
                      <a:pt x="52" y="0"/>
                    </a:lnTo>
                    <a:lnTo>
                      <a:pt x="54" y="0"/>
                    </a:lnTo>
                    <a:lnTo>
                      <a:pt x="56" y="0"/>
                    </a:lnTo>
                    <a:lnTo>
                      <a:pt x="58" y="1"/>
                    </a:lnTo>
                    <a:lnTo>
                      <a:pt x="60" y="2"/>
                    </a:lnTo>
                    <a:lnTo>
                      <a:pt x="61" y="3"/>
                    </a:lnTo>
                    <a:lnTo>
                      <a:pt x="61" y="5"/>
                    </a:lnTo>
                    <a:lnTo>
                      <a:pt x="88" y="5"/>
                    </a:lnTo>
                    <a:lnTo>
                      <a:pt x="89" y="4"/>
                    </a:lnTo>
                    <a:lnTo>
                      <a:pt x="89" y="2"/>
                    </a:lnTo>
                    <a:lnTo>
                      <a:pt x="91" y="2"/>
                    </a:lnTo>
                    <a:lnTo>
                      <a:pt x="93" y="1"/>
                    </a:lnTo>
                    <a:lnTo>
                      <a:pt x="94" y="2"/>
                    </a:lnTo>
                    <a:lnTo>
                      <a:pt x="96" y="2"/>
                    </a:lnTo>
                    <a:lnTo>
                      <a:pt x="97" y="4"/>
                    </a:lnTo>
                    <a:lnTo>
                      <a:pt x="97" y="5"/>
                    </a:lnTo>
                    <a:lnTo>
                      <a:pt x="112" y="5"/>
                    </a:lnTo>
                    <a:lnTo>
                      <a:pt x="112" y="4"/>
                    </a:lnTo>
                    <a:lnTo>
                      <a:pt x="113" y="2"/>
                    </a:lnTo>
                    <a:lnTo>
                      <a:pt x="115" y="2"/>
                    </a:lnTo>
                    <a:lnTo>
                      <a:pt x="116" y="1"/>
                    </a:lnTo>
                    <a:lnTo>
                      <a:pt x="118" y="2"/>
                    </a:lnTo>
                    <a:lnTo>
                      <a:pt x="119" y="2"/>
                    </a:lnTo>
                    <a:lnTo>
                      <a:pt x="120" y="4"/>
                    </a:lnTo>
                    <a:lnTo>
                      <a:pt x="121" y="5"/>
                    </a:lnTo>
                    <a:lnTo>
                      <a:pt x="133" y="5"/>
                    </a:lnTo>
                    <a:lnTo>
                      <a:pt x="134" y="4"/>
                    </a:lnTo>
                    <a:lnTo>
                      <a:pt x="135" y="2"/>
                    </a:lnTo>
                    <a:lnTo>
                      <a:pt x="136" y="2"/>
                    </a:lnTo>
                    <a:lnTo>
                      <a:pt x="138" y="1"/>
                    </a:lnTo>
                    <a:lnTo>
                      <a:pt x="140" y="2"/>
                    </a:lnTo>
                    <a:lnTo>
                      <a:pt x="141" y="2"/>
                    </a:lnTo>
                    <a:lnTo>
                      <a:pt x="142" y="4"/>
                    </a:lnTo>
                    <a:lnTo>
                      <a:pt x="142" y="5"/>
                    </a:lnTo>
                    <a:lnTo>
                      <a:pt x="153" y="5"/>
                    </a:lnTo>
                    <a:lnTo>
                      <a:pt x="154" y="4"/>
                    </a:lnTo>
                    <a:lnTo>
                      <a:pt x="155" y="2"/>
                    </a:lnTo>
                    <a:lnTo>
                      <a:pt x="156" y="2"/>
                    </a:lnTo>
                    <a:lnTo>
                      <a:pt x="158" y="1"/>
                    </a:lnTo>
                    <a:lnTo>
                      <a:pt x="159" y="2"/>
                    </a:lnTo>
                    <a:lnTo>
                      <a:pt x="161" y="2"/>
                    </a:lnTo>
                    <a:lnTo>
                      <a:pt x="162" y="4"/>
                    </a:lnTo>
                    <a:lnTo>
                      <a:pt x="162" y="5"/>
                    </a:lnTo>
                    <a:lnTo>
                      <a:pt x="173" y="5"/>
                    </a:lnTo>
                    <a:lnTo>
                      <a:pt x="173" y="4"/>
                    </a:lnTo>
                    <a:lnTo>
                      <a:pt x="174" y="2"/>
                    </a:lnTo>
                    <a:lnTo>
                      <a:pt x="175" y="2"/>
                    </a:lnTo>
                    <a:lnTo>
                      <a:pt x="177" y="1"/>
                    </a:lnTo>
                    <a:lnTo>
                      <a:pt x="179" y="2"/>
                    </a:lnTo>
                    <a:lnTo>
                      <a:pt x="180" y="2"/>
                    </a:lnTo>
                    <a:lnTo>
                      <a:pt x="181" y="4"/>
                    </a:lnTo>
                    <a:lnTo>
                      <a:pt x="182" y="5"/>
                    </a:lnTo>
                    <a:lnTo>
                      <a:pt x="184" y="5"/>
                    </a:lnTo>
                    <a:lnTo>
                      <a:pt x="185" y="4"/>
                    </a:lnTo>
                    <a:lnTo>
                      <a:pt x="186" y="2"/>
                    </a:lnTo>
                    <a:lnTo>
                      <a:pt x="187" y="2"/>
                    </a:lnTo>
                    <a:lnTo>
                      <a:pt x="189" y="1"/>
                    </a:lnTo>
                    <a:lnTo>
                      <a:pt x="191" y="2"/>
                    </a:lnTo>
                    <a:lnTo>
                      <a:pt x="192" y="2"/>
                    </a:lnTo>
                    <a:lnTo>
                      <a:pt x="193" y="4"/>
                    </a:lnTo>
                    <a:lnTo>
                      <a:pt x="193" y="5"/>
                    </a:lnTo>
                    <a:lnTo>
                      <a:pt x="198" y="5"/>
                    </a:lnTo>
                    <a:lnTo>
                      <a:pt x="198" y="4"/>
                    </a:lnTo>
                    <a:lnTo>
                      <a:pt x="199" y="2"/>
                    </a:lnTo>
                    <a:lnTo>
                      <a:pt x="201" y="2"/>
                    </a:lnTo>
                    <a:lnTo>
                      <a:pt x="202" y="1"/>
                    </a:lnTo>
                    <a:lnTo>
                      <a:pt x="204" y="2"/>
                    </a:lnTo>
                    <a:lnTo>
                      <a:pt x="206" y="2"/>
                    </a:lnTo>
                    <a:lnTo>
                      <a:pt x="207" y="4"/>
                    </a:lnTo>
                    <a:lnTo>
                      <a:pt x="207" y="5"/>
                    </a:lnTo>
                    <a:lnTo>
                      <a:pt x="218" y="5"/>
                    </a:lnTo>
                    <a:lnTo>
                      <a:pt x="218" y="141"/>
                    </a:lnTo>
                    <a:lnTo>
                      <a:pt x="231" y="141"/>
                    </a:lnTo>
                    <a:lnTo>
                      <a:pt x="231" y="140"/>
                    </a:lnTo>
                    <a:lnTo>
                      <a:pt x="233" y="138"/>
                    </a:lnTo>
                    <a:lnTo>
                      <a:pt x="234" y="138"/>
                    </a:lnTo>
                    <a:lnTo>
                      <a:pt x="236" y="137"/>
                    </a:lnTo>
                    <a:lnTo>
                      <a:pt x="237" y="138"/>
                    </a:lnTo>
                    <a:lnTo>
                      <a:pt x="239" y="138"/>
                    </a:lnTo>
                    <a:lnTo>
                      <a:pt x="240" y="140"/>
                    </a:lnTo>
                    <a:lnTo>
                      <a:pt x="240" y="141"/>
                    </a:lnTo>
                    <a:lnTo>
                      <a:pt x="254" y="141"/>
                    </a:lnTo>
                    <a:lnTo>
                      <a:pt x="254" y="139"/>
                    </a:lnTo>
                    <a:lnTo>
                      <a:pt x="255" y="138"/>
                    </a:lnTo>
                    <a:lnTo>
                      <a:pt x="256" y="137"/>
                    </a:lnTo>
                    <a:lnTo>
                      <a:pt x="258" y="136"/>
                    </a:lnTo>
                    <a:lnTo>
                      <a:pt x="260" y="136"/>
                    </a:lnTo>
                    <a:lnTo>
                      <a:pt x="262" y="136"/>
                    </a:lnTo>
                    <a:lnTo>
                      <a:pt x="263" y="137"/>
                    </a:lnTo>
                    <a:lnTo>
                      <a:pt x="265" y="138"/>
                    </a:lnTo>
                    <a:lnTo>
                      <a:pt x="265" y="139"/>
                    </a:lnTo>
                    <a:lnTo>
                      <a:pt x="266" y="141"/>
                    </a:lnTo>
                    <a:lnTo>
                      <a:pt x="267" y="141"/>
                    </a:lnTo>
                    <a:lnTo>
                      <a:pt x="267" y="140"/>
                    </a:lnTo>
                    <a:lnTo>
                      <a:pt x="268" y="138"/>
                    </a:lnTo>
                    <a:lnTo>
                      <a:pt x="270" y="138"/>
                    </a:lnTo>
                    <a:lnTo>
                      <a:pt x="271" y="137"/>
                    </a:lnTo>
                    <a:lnTo>
                      <a:pt x="273" y="138"/>
                    </a:lnTo>
                    <a:lnTo>
                      <a:pt x="274" y="138"/>
                    </a:lnTo>
                    <a:lnTo>
                      <a:pt x="276" y="140"/>
                    </a:lnTo>
                    <a:lnTo>
                      <a:pt x="276" y="141"/>
                    </a:lnTo>
                    <a:lnTo>
                      <a:pt x="284" y="141"/>
                    </a:lnTo>
                    <a:lnTo>
                      <a:pt x="284" y="140"/>
                    </a:lnTo>
                    <a:lnTo>
                      <a:pt x="285" y="138"/>
                    </a:lnTo>
                    <a:lnTo>
                      <a:pt x="287" y="138"/>
                    </a:lnTo>
                    <a:lnTo>
                      <a:pt x="289" y="137"/>
                    </a:lnTo>
                    <a:lnTo>
                      <a:pt x="290" y="138"/>
                    </a:lnTo>
                    <a:lnTo>
                      <a:pt x="292" y="138"/>
                    </a:lnTo>
                    <a:lnTo>
                      <a:pt x="293" y="140"/>
                    </a:lnTo>
                    <a:lnTo>
                      <a:pt x="293" y="141"/>
                    </a:lnTo>
                    <a:lnTo>
                      <a:pt x="328" y="141"/>
                    </a:lnTo>
                    <a:lnTo>
                      <a:pt x="328" y="140"/>
                    </a:lnTo>
                    <a:lnTo>
                      <a:pt x="329" y="138"/>
                    </a:lnTo>
                    <a:lnTo>
                      <a:pt x="331" y="138"/>
                    </a:lnTo>
                    <a:lnTo>
                      <a:pt x="332" y="137"/>
                    </a:lnTo>
                    <a:lnTo>
                      <a:pt x="334" y="138"/>
                    </a:lnTo>
                    <a:lnTo>
                      <a:pt x="336" y="138"/>
                    </a:lnTo>
                    <a:lnTo>
                      <a:pt x="337" y="140"/>
                    </a:lnTo>
                    <a:lnTo>
                      <a:pt x="337" y="141"/>
                    </a:lnTo>
                    <a:lnTo>
                      <a:pt x="384" y="141"/>
                    </a:lnTo>
                    <a:lnTo>
                      <a:pt x="384" y="140"/>
                    </a:lnTo>
                    <a:lnTo>
                      <a:pt x="385" y="138"/>
                    </a:lnTo>
                    <a:lnTo>
                      <a:pt x="387" y="138"/>
                    </a:lnTo>
                    <a:lnTo>
                      <a:pt x="388" y="137"/>
                    </a:lnTo>
                    <a:lnTo>
                      <a:pt x="390" y="138"/>
                    </a:lnTo>
                    <a:lnTo>
                      <a:pt x="391" y="138"/>
                    </a:lnTo>
                    <a:lnTo>
                      <a:pt x="392" y="140"/>
                    </a:lnTo>
                    <a:lnTo>
                      <a:pt x="393" y="141"/>
                    </a:lnTo>
                    <a:lnTo>
                      <a:pt x="489" y="141"/>
                    </a:lnTo>
                    <a:lnTo>
                      <a:pt x="490" y="140"/>
                    </a:lnTo>
                    <a:lnTo>
                      <a:pt x="491" y="138"/>
                    </a:lnTo>
                    <a:lnTo>
                      <a:pt x="492" y="138"/>
                    </a:lnTo>
                    <a:lnTo>
                      <a:pt x="494" y="137"/>
                    </a:lnTo>
                    <a:lnTo>
                      <a:pt x="495" y="138"/>
                    </a:lnTo>
                    <a:lnTo>
                      <a:pt x="497" y="138"/>
                    </a:lnTo>
                    <a:lnTo>
                      <a:pt x="498" y="140"/>
                    </a:lnTo>
                    <a:lnTo>
                      <a:pt x="498" y="141"/>
                    </a:lnTo>
                    <a:lnTo>
                      <a:pt x="509" y="141"/>
                    </a:lnTo>
                    <a:lnTo>
                      <a:pt x="509" y="140"/>
                    </a:lnTo>
                    <a:lnTo>
                      <a:pt x="510" y="138"/>
                    </a:lnTo>
                    <a:lnTo>
                      <a:pt x="511" y="138"/>
                    </a:lnTo>
                    <a:lnTo>
                      <a:pt x="513" y="137"/>
                    </a:lnTo>
                    <a:lnTo>
                      <a:pt x="515" y="138"/>
                    </a:lnTo>
                    <a:lnTo>
                      <a:pt x="516" y="138"/>
                    </a:lnTo>
                    <a:lnTo>
                      <a:pt x="517" y="140"/>
                    </a:lnTo>
                    <a:lnTo>
                      <a:pt x="518" y="141"/>
                    </a:lnTo>
                    <a:lnTo>
                      <a:pt x="553" y="141"/>
                    </a:lnTo>
                    <a:lnTo>
                      <a:pt x="553" y="140"/>
                    </a:lnTo>
                    <a:lnTo>
                      <a:pt x="554" y="138"/>
                    </a:lnTo>
                    <a:lnTo>
                      <a:pt x="555" y="138"/>
                    </a:lnTo>
                    <a:lnTo>
                      <a:pt x="557" y="137"/>
                    </a:lnTo>
                    <a:lnTo>
                      <a:pt x="559" y="138"/>
                    </a:lnTo>
                    <a:lnTo>
                      <a:pt x="560" y="138"/>
                    </a:lnTo>
                    <a:lnTo>
                      <a:pt x="561" y="140"/>
                    </a:lnTo>
                    <a:lnTo>
                      <a:pt x="561" y="141"/>
                    </a:lnTo>
                    <a:lnTo>
                      <a:pt x="585" y="141"/>
                    </a:lnTo>
                    <a:lnTo>
                      <a:pt x="585" y="139"/>
                    </a:lnTo>
                    <a:lnTo>
                      <a:pt x="586" y="137"/>
                    </a:lnTo>
                    <a:lnTo>
                      <a:pt x="588" y="136"/>
                    </a:lnTo>
                    <a:lnTo>
                      <a:pt x="590" y="135"/>
                    </a:lnTo>
                    <a:lnTo>
                      <a:pt x="592" y="134"/>
                    </a:lnTo>
                    <a:lnTo>
                      <a:pt x="595" y="134"/>
                    </a:lnTo>
                    <a:lnTo>
                      <a:pt x="597" y="135"/>
                    </a:lnTo>
                    <a:lnTo>
                      <a:pt x="599" y="136"/>
                    </a:lnTo>
                    <a:lnTo>
                      <a:pt x="601" y="137"/>
                    </a:lnTo>
                    <a:lnTo>
                      <a:pt x="602" y="139"/>
                    </a:lnTo>
                    <a:lnTo>
                      <a:pt x="602" y="141"/>
                    </a:lnTo>
                    <a:lnTo>
                      <a:pt x="631" y="141"/>
                    </a:lnTo>
                    <a:lnTo>
                      <a:pt x="631" y="140"/>
                    </a:lnTo>
                    <a:lnTo>
                      <a:pt x="632" y="138"/>
                    </a:lnTo>
                    <a:lnTo>
                      <a:pt x="633" y="138"/>
                    </a:lnTo>
                    <a:lnTo>
                      <a:pt x="635" y="137"/>
                    </a:lnTo>
                    <a:lnTo>
                      <a:pt x="637" y="138"/>
                    </a:lnTo>
                    <a:lnTo>
                      <a:pt x="638" y="138"/>
                    </a:lnTo>
                    <a:lnTo>
                      <a:pt x="639" y="140"/>
                    </a:lnTo>
                    <a:lnTo>
                      <a:pt x="640" y="141"/>
                    </a:lnTo>
                    <a:lnTo>
                      <a:pt x="693" y="141"/>
                    </a:lnTo>
                    <a:lnTo>
                      <a:pt x="693" y="140"/>
                    </a:lnTo>
                    <a:lnTo>
                      <a:pt x="694" y="138"/>
                    </a:lnTo>
                    <a:lnTo>
                      <a:pt x="695" y="138"/>
                    </a:lnTo>
                    <a:lnTo>
                      <a:pt x="697" y="137"/>
                    </a:lnTo>
                    <a:lnTo>
                      <a:pt x="699" y="138"/>
                    </a:lnTo>
                    <a:lnTo>
                      <a:pt x="700" y="138"/>
                    </a:lnTo>
                    <a:lnTo>
                      <a:pt x="701" y="140"/>
                    </a:lnTo>
                    <a:lnTo>
                      <a:pt x="702" y="141"/>
                    </a:lnTo>
                    <a:lnTo>
                      <a:pt x="706" y="141"/>
                    </a:lnTo>
                    <a:lnTo>
                      <a:pt x="707" y="140"/>
                    </a:lnTo>
                    <a:lnTo>
                      <a:pt x="707" y="138"/>
                    </a:lnTo>
                    <a:lnTo>
                      <a:pt x="709" y="138"/>
                    </a:lnTo>
                    <a:lnTo>
                      <a:pt x="711" y="137"/>
                    </a:lnTo>
                    <a:lnTo>
                      <a:pt x="712" y="138"/>
                    </a:lnTo>
                    <a:lnTo>
                      <a:pt x="714" y="138"/>
                    </a:lnTo>
                    <a:lnTo>
                      <a:pt x="715" y="140"/>
                    </a:lnTo>
                    <a:lnTo>
                      <a:pt x="715" y="141"/>
                    </a:lnTo>
                    <a:lnTo>
                      <a:pt x="741" y="141"/>
                    </a:lnTo>
                    <a:lnTo>
                      <a:pt x="742" y="140"/>
                    </a:lnTo>
                    <a:lnTo>
                      <a:pt x="742" y="138"/>
                    </a:lnTo>
                    <a:lnTo>
                      <a:pt x="744" y="138"/>
                    </a:lnTo>
                    <a:lnTo>
                      <a:pt x="746" y="137"/>
                    </a:lnTo>
                    <a:lnTo>
                      <a:pt x="747" y="138"/>
                    </a:lnTo>
                    <a:lnTo>
                      <a:pt x="749" y="138"/>
                    </a:lnTo>
                    <a:lnTo>
                      <a:pt x="750" y="140"/>
                    </a:lnTo>
                    <a:lnTo>
                      <a:pt x="750" y="141"/>
                    </a:lnTo>
                    <a:lnTo>
                      <a:pt x="793" y="141"/>
                    </a:lnTo>
                    <a:lnTo>
                      <a:pt x="793" y="140"/>
                    </a:lnTo>
                    <a:lnTo>
                      <a:pt x="794" y="138"/>
                    </a:lnTo>
                    <a:lnTo>
                      <a:pt x="796" y="138"/>
                    </a:lnTo>
                    <a:lnTo>
                      <a:pt x="798" y="137"/>
                    </a:lnTo>
                    <a:lnTo>
                      <a:pt x="799" y="138"/>
                    </a:lnTo>
                    <a:lnTo>
                      <a:pt x="801" y="138"/>
                    </a:lnTo>
                    <a:lnTo>
                      <a:pt x="802" y="140"/>
                    </a:lnTo>
                    <a:lnTo>
                      <a:pt x="802" y="141"/>
                    </a:lnTo>
                    <a:lnTo>
                      <a:pt x="811" y="141"/>
                    </a:lnTo>
                    <a:lnTo>
                      <a:pt x="811" y="139"/>
                    </a:lnTo>
                    <a:lnTo>
                      <a:pt x="812" y="137"/>
                    </a:lnTo>
                    <a:lnTo>
                      <a:pt x="814" y="136"/>
                    </a:lnTo>
                    <a:lnTo>
                      <a:pt x="816" y="135"/>
                    </a:lnTo>
                    <a:lnTo>
                      <a:pt x="818" y="134"/>
                    </a:lnTo>
                    <a:lnTo>
                      <a:pt x="821" y="134"/>
                    </a:lnTo>
                    <a:lnTo>
                      <a:pt x="823" y="135"/>
                    </a:lnTo>
                    <a:lnTo>
                      <a:pt x="825" y="136"/>
                    </a:lnTo>
                    <a:lnTo>
                      <a:pt x="826" y="137"/>
                    </a:lnTo>
                    <a:lnTo>
                      <a:pt x="827" y="139"/>
                    </a:lnTo>
                    <a:lnTo>
                      <a:pt x="828" y="141"/>
                    </a:lnTo>
                    <a:lnTo>
                      <a:pt x="831" y="141"/>
                    </a:lnTo>
                    <a:lnTo>
                      <a:pt x="832" y="140"/>
                    </a:lnTo>
                    <a:lnTo>
                      <a:pt x="832" y="138"/>
                    </a:lnTo>
                    <a:lnTo>
                      <a:pt x="834" y="138"/>
                    </a:lnTo>
                    <a:lnTo>
                      <a:pt x="836" y="137"/>
                    </a:lnTo>
                    <a:lnTo>
                      <a:pt x="837" y="138"/>
                    </a:lnTo>
                    <a:lnTo>
                      <a:pt x="839" y="138"/>
                    </a:lnTo>
                    <a:lnTo>
                      <a:pt x="840" y="140"/>
                    </a:lnTo>
                    <a:lnTo>
                      <a:pt x="840" y="141"/>
                    </a:lnTo>
                    <a:lnTo>
                      <a:pt x="861" y="141"/>
                    </a:lnTo>
                    <a:lnTo>
                      <a:pt x="862" y="140"/>
                    </a:lnTo>
                    <a:lnTo>
                      <a:pt x="863" y="138"/>
                    </a:lnTo>
                    <a:lnTo>
                      <a:pt x="864" y="138"/>
                    </a:lnTo>
                    <a:lnTo>
                      <a:pt x="866" y="137"/>
                    </a:lnTo>
                    <a:lnTo>
                      <a:pt x="868" y="138"/>
                    </a:lnTo>
                    <a:lnTo>
                      <a:pt x="869" y="138"/>
                    </a:lnTo>
                    <a:lnTo>
                      <a:pt x="870" y="140"/>
                    </a:lnTo>
                    <a:lnTo>
                      <a:pt x="870" y="141"/>
                    </a:lnTo>
                    <a:lnTo>
                      <a:pt x="949" y="141"/>
                    </a:lnTo>
                    <a:lnTo>
                      <a:pt x="950" y="140"/>
                    </a:lnTo>
                    <a:lnTo>
                      <a:pt x="951" y="138"/>
                    </a:lnTo>
                    <a:lnTo>
                      <a:pt x="952" y="138"/>
                    </a:lnTo>
                    <a:lnTo>
                      <a:pt x="954" y="137"/>
                    </a:lnTo>
                    <a:lnTo>
                      <a:pt x="955" y="138"/>
                    </a:lnTo>
                    <a:lnTo>
                      <a:pt x="957" y="138"/>
                    </a:lnTo>
                    <a:lnTo>
                      <a:pt x="958" y="140"/>
                    </a:lnTo>
                    <a:lnTo>
                      <a:pt x="958" y="141"/>
                    </a:lnTo>
                    <a:lnTo>
                      <a:pt x="1042" y="141"/>
                    </a:lnTo>
                    <a:lnTo>
                      <a:pt x="1042" y="31"/>
                    </a:lnTo>
                    <a:lnTo>
                      <a:pt x="1079" y="31"/>
                    </a:lnTo>
                    <a:lnTo>
                      <a:pt x="1079" y="30"/>
                    </a:lnTo>
                    <a:lnTo>
                      <a:pt x="1080" y="28"/>
                    </a:lnTo>
                    <a:lnTo>
                      <a:pt x="1081" y="28"/>
                    </a:lnTo>
                    <a:lnTo>
                      <a:pt x="1083" y="27"/>
                    </a:lnTo>
                    <a:lnTo>
                      <a:pt x="1085" y="28"/>
                    </a:lnTo>
                    <a:lnTo>
                      <a:pt x="1086" y="28"/>
                    </a:lnTo>
                    <a:lnTo>
                      <a:pt x="1087" y="30"/>
                    </a:lnTo>
                    <a:lnTo>
                      <a:pt x="1088" y="31"/>
                    </a:lnTo>
                    <a:lnTo>
                      <a:pt x="1095" y="31"/>
                    </a:lnTo>
                    <a:lnTo>
                      <a:pt x="1095" y="30"/>
                    </a:lnTo>
                    <a:lnTo>
                      <a:pt x="1096" y="28"/>
                    </a:lnTo>
                    <a:lnTo>
                      <a:pt x="1097" y="28"/>
                    </a:lnTo>
                    <a:lnTo>
                      <a:pt x="1099" y="27"/>
                    </a:lnTo>
                    <a:lnTo>
                      <a:pt x="1101" y="28"/>
                    </a:lnTo>
                    <a:lnTo>
                      <a:pt x="1102" y="28"/>
                    </a:lnTo>
                    <a:lnTo>
                      <a:pt x="1103" y="30"/>
                    </a:lnTo>
                    <a:lnTo>
                      <a:pt x="1104" y="31"/>
                    </a:lnTo>
                    <a:lnTo>
                      <a:pt x="1159" y="31"/>
                    </a:lnTo>
                    <a:lnTo>
                      <a:pt x="1159" y="30"/>
                    </a:lnTo>
                    <a:lnTo>
                      <a:pt x="1160" y="28"/>
                    </a:lnTo>
                    <a:lnTo>
                      <a:pt x="1162" y="28"/>
                    </a:lnTo>
                    <a:lnTo>
                      <a:pt x="1163" y="27"/>
                    </a:lnTo>
                    <a:lnTo>
                      <a:pt x="1165" y="28"/>
                    </a:lnTo>
                    <a:lnTo>
                      <a:pt x="1166" y="28"/>
                    </a:lnTo>
                    <a:lnTo>
                      <a:pt x="1167" y="30"/>
                    </a:lnTo>
                    <a:lnTo>
                      <a:pt x="1168" y="31"/>
                    </a:lnTo>
                    <a:lnTo>
                      <a:pt x="1172" y="31"/>
                    </a:lnTo>
                    <a:lnTo>
                      <a:pt x="1173" y="30"/>
                    </a:lnTo>
                    <a:lnTo>
                      <a:pt x="1174" y="28"/>
                    </a:lnTo>
                    <a:lnTo>
                      <a:pt x="1175" y="28"/>
                    </a:lnTo>
                    <a:lnTo>
                      <a:pt x="1177" y="27"/>
                    </a:lnTo>
                    <a:lnTo>
                      <a:pt x="1178" y="28"/>
                    </a:lnTo>
                    <a:lnTo>
                      <a:pt x="1180" y="28"/>
                    </a:lnTo>
                    <a:lnTo>
                      <a:pt x="1181" y="30"/>
                    </a:lnTo>
                    <a:lnTo>
                      <a:pt x="1181" y="31"/>
                    </a:lnTo>
                    <a:lnTo>
                      <a:pt x="1186" y="31"/>
                    </a:lnTo>
                    <a:lnTo>
                      <a:pt x="1186" y="30"/>
                    </a:lnTo>
                    <a:lnTo>
                      <a:pt x="1187" y="28"/>
                    </a:lnTo>
                    <a:lnTo>
                      <a:pt x="1189" y="28"/>
                    </a:lnTo>
                    <a:lnTo>
                      <a:pt x="1190" y="27"/>
                    </a:lnTo>
                    <a:lnTo>
                      <a:pt x="1192" y="28"/>
                    </a:lnTo>
                    <a:lnTo>
                      <a:pt x="1194" y="28"/>
                    </a:lnTo>
                    <a:lnTo>
                      <a:pt x="1195" y="30"/>
                    </a:lnTo>
                    <a:lnTo>
                      <a:pt x="1195" y="31"/>
                    </a:lnTo>
                    <a:lnTo>
                      <a:pt x="1213" y="31"/>
                    </a:lnTo>
                    <a:lnTo>
                      <a:pt x="1213" y="30"/>
                    </a:lnTo>
                    <a:lnTo>
                      <a:pt x="1214" y="28"/>
                    </a:lnTo>
                    <a:lnTo>
                      <a:pt x="1216" y="28"/>
                    </a:lnTo>
                    <a:lnTo>
                      <a:pt x="1217" y="27"/>
                    </a:lnTo>
                    <a:lnTo>
                      <a:pt x="1219" y="28"/>
                    </a:lnTo>
                    <a:lnTo>
                      <a:pt x="1220" y="28"/>
                    </a:lnTo>
                    <a:lnTo>
                      <a:pt x="1221" y="30"/>
                    </a:lnTo>
                    <a:lnTo>
                      <a:pt x="1222" y="31"/>
                    </a:lnTo>
                    <a:lnTo>
                      <a:pt x="1250" y="31"/>
                    </a:lnTo>
                    <a:lnTo>
                      <a:pt x="1250" y="30"/>
                    </a:lnTo>
                    <a:lnTo>
                      <a:pt x="1251" y="28"/>
                    </a:lnTo>
                    <a:lnTo>
                      <a:pt x="1253" y="28"/>
                    </a:lnTo>
                    <a:lnTo>
                      <a:pt x="1254" y="27"/>
                    </a:lnTo>
                    <a:lnTo>
                      <a:pt x="1256" y="28"/>
                    </a:lnTo>
                    <a:lnTo>
                      <a:pt x="1258" y="28"/>
                    </a:lnTo>
                    <a:lnTo>
                      <a:pt x="1259" y="30"/>
                    </a:lnTo>
                    <a:lnTo>
                      <a:pt x="1259" y="31"/>
                    </a:lnTo>
                    <a:lnTo>
                      <a:pt x="1289" y="31"/>
                    </a:lnTo>
                    <a:lnTo>
                      <a:pt x="1289" y="30"/>
                    </a:lnTo>
                    <a:lnTo>
                      <a:pt x="1290" y="28"/>
                    </a:lnTo>
                    <a:lnTo>
                      <a:pt x="1292" y="28"/>
                    </a:lnTo>
                    <a:lnTo>
                      <a:pt x="1293" y="27"/>
                    </a:lnTo>
                    <a:lnTo>
                      <a:pt x="1295" y="28"/>
                    </a:lnTo>
                    <a:lnTo>
                      <a:pt x="1296" y="28"/>
                    </a:lnTo>
                    <a:lnTo>
                      <a:pt x="1297" y="30"/>
                    </a:lnTo>
                    <a:lnTo>
                      <a:pt x="1298" y="31"/>
                    </a:lnTo>
                    <a:lnTo>
                      <a:pt x="1301" y="31"/>
                    </a:lnTo>
                    <a:lnTo>
                      <a:pt x="1301" y="30"/>
                    </a:lnTo>
                    <a:lnTo>
                      <a:pt x="1302" y="28"/>
                    </a:lnTo>
                    <a:lnTo>
                      <a:pt x="1303" y="28"/>
                    </a:lnTo>
                    <a:lnTo>
                      <a:pt x="1305" y="27"/>
                    </a:lnTo>
                    <a:lnTo>
                      <a:pt x="1307" y="28"/>
                    </a:lnTo>
                    <a:lnTo>
                      <a:pt x="1308" y="28"/>
                    </a:lnTo>
                    <a:lnTo>
                      <a:pt x="1309" y="30"/>
                    </a:lnTo>
                    <a:lnTo>
                      <a:pt x="1310" y="31"/>
                    </a:lnTo>
                    <a:lnTo>
                      <a:pt x="1425" y="31"/>
                    </a:lnTo>
                    <a:lnTo>
                      <a:pt x="1425" y="30"/>
                    </a:lnTo>
                    <a:lnTo>
                      <a:pt x="1426" y="28"/>
                    </a:lnTo>
                    <a:lnTo>
                      <a:pt x="1427" y="28"/>
                    </a:lnTo>
                    <a:lnTo>
                      <a:pt x="1429" y="27"/>
                    </a:lnTo>
                    <a:lnTo>
                      <a:pt x="1431" y="28"/>
                    </a:lnTo>
                    <a:lnTo>
                      <a:pt x="1432" y="28"/>
                    </a:lnTo>
                    <a:lnTo>
                      <a:pt x="1433" y="30"/>
                    </a:lnTo>
                    <a:lnTo>
                      <a:pt x="1433" y="31"/>
                    </a:lnTo>
                    <a:lnTo>
                      <a:pt x="1557" y="31"/>
                    </a:lnTo>
                    <a:lnTo>
                      <a:pt x="1558" y="30"/>
                    </a:lnTo>
                    <a:lnTo>
                      <a:pt x="1559" y="28"/>
                    </a:lnTo>
                    <a:lnTo>
                      <a:pt x="1560" y="28"/>
                    </a:lnTo>
                    <a:lnTo>
                      <a:pt x="1562" y="27"/>
                    </a:lnTo>
                    <a:lnTo>
                      <a:pt x="1563" y="28"/>
                    </a:lnTo>
                    <a:lnTo>
                      <a:pt x="1565" y="28"/>
                    </a:lnTo>
                    <a:lnTo>
                      <a:pt x="1566" y="30"/>
                    </a:lnTo>
                    <a:lnTo>
                      <a:pt x="1566" y="31"/>
                    </a:lnTo>
                    <a:lnTo>
                      <a:pt x="1598" y="31"/>
                    </a:lnTo>
                    <a:lnTo>
                      <a:pt x="1598" y="30"/>
                    </a:lnTo>
                    <a:lnTo>
                      <a:pt x="1599" y="28"/>
                    </a:lnTo>
                    <a:lnTo>
                      <a:pt x="1601" y="28"/>
                    </a:lnTo>
                    <a:lnTo>
                      <a:pt x="1602" y="27"/>
                    </a:lnTo>
                    <a:lnTo>
                      <a:pt x="1604" y="28"/>
                    </a:lnTo>
                    <a:lnTo>
                      <a:pt x="1605" y="28"/>
                    </a:lnTo>
                    <a:lnTo>
                      <a:pt x="1606" y="30"/>
                    </a:lnTo>
                    <a:lnTo>
                      <a:pt x="1607" y="31"/>
                    </a:lnTo>
                    <a:lnTo>
                      <a:pt x="1611" y="31"/>
                    </a:lnTo>
                    <a:lnTo>
                      <a:pt x="1612" y="30"/>
                    </a:lnTo>
                    <a:lnTo>
                      <a:pt x="1613" y="28"/>
                    </a:lnTo>
                    <a:lnTo>
                      <a:pt x="1614" y="28"/>
                    </a:lnTo>
                    <a:lnTo>
                      <a:pt x="1616" y="27"/>
                    </a:lnTo>
                    <a:lnTo>
                      <a:pt x="1617" y="28"/>
                    </a:lnTo>
                    <a:lnTo>
                      <a:pt x="1619" y="28"/>
                    </a:lnTo>
                    <a:lnTo>
                      <a:pt x="1620" y="30"/>
                    </a:lnTo>
                    <a:lnTo>
                      <a:pt x="1620" y="31"/>
                    </a:lnTo>
                    <a:lnTo>
                      <a:pt x="1658" y="31"/>
                    </a:lnTo>
                    <a:lnTo>
                      <a:pt x="1659" y="30"/>
                    </a:lnTo>
                    <a:lnTo>
                      <a:pt x="1660" y="28"/>
                    </a:lnTo>
                    <a:lnTo>
                      <a:pt x="1661" y="28"/>
                    </a:lnTo>
                    <a:lnTo>
                      <a:pt x="1663" y="27"/>
                    </a:lnTo>
                    <a:lnTo>
                      <a:pt x="1665" y="28"/>
                    </a:lnTo>
                    <a:lnTo>
                      <a:pt x="1666" y="28"/>
                    </a:lnTo>
                    <a:lnTo>
                      <a:pt x="1667" y="30"/>
                    </a:lnTo>
                    <a:lnTo>
                      <a:pt x="1668" y="31"/>
                    </a:lnTo>
                    <a:lnTo>
                      <a:pt x="1693" y="31"/>
                    </a:lnTo>
                    <a:lnTo>
                      <a:pt x="1693" y="30"/>
                    </a:lnTo>
                    <a:lnTo>
                      <a:pt x="1694" y="28"/>
                    </a:lnTo>
                    <a:lnTo>
                      <a:pt x="1696" y="28"/>
                    </a:lnTo>
                    <a:lnTo>
                      <a:pt x="1698" y="27"/>
                    </a:lnTo>
                    <a:lnTo>
                      <a:pt x="1699" y="28"/>
                    </a:lnTo>
                    <a:lnTo>
                      <a:pt x="1701" y="28"/>
                    </a:lnTo>
                    <a:lnTo>
                      <a:pt x="1702" y="30"/>
                    </a:lnTo>
                    <a:lnTo>
                      <a:pt x="1702" y="31"/>
                    </a:lnTo>
                    <a:lnTo>
                      <a:pt x="1708" y="31"/>
                    </a:lnTo>
                    <a:lnTo>
                      <a:pt x="1708" y="30"/>
                    </a:lnTo>
                    <a:lnTo>
                      <a:pt x="1709" y="28"/>
                    </a:lnTo>
                    <a:lnTo>
                      <a:pt x="1710" y="28"/>
                    </a:lnTo>
                    <a:lnTo>
                      <a:pt x="1712" y="27"/>
                    </a:lnTo>
                    <a:lnTo>
                      <a:pt x="1714" y="28"/>
                    </a:lnTo>
                    <a:lnTo>
                      <a:pt x="1715" y="28"/>
                    </a:lnTo>
                    <a:lnTo>
                      <a:pt x="1716" y="30"/>
                    </a:lnTo>
                    <a:lnTo>
                      <a:pt x="1716" y="31"/>
                    </a:lnTo>
                    <a:lnTo>
                      <a:pt x="1735" y="31"/>
                    </a:lnTo>
                    <a:lnTo>
                      <a:pt x="1735" y="30"/>
                    </a:lnTo>
                    <a:lnTo>
                      <a:pt x="1736" y="28"/>
                    </a:lnTo>
                    <a:lnTo>
                      <a:pt x="1737" y="28"/>
                    </a:lnTo>
                    <a:lnTo>
                      <a:pt x="1739" y="27"/>
                    </a:lnTo>
                    <a:lnTo>
                      <a:pt x="1741" y="28"/>
                    </a:lnTo>
                    <a:lnTo>
                      <a:pt x="1742" y="28"/>
                    </a:lnTo>
                    <a:lnTo>
                      <a:pt x="1743" y="30"/>
                    </a:lnTo>
                    <a:lnTo>
                      <a:pt x="1744" y="31"/>
                    </a:lnTo>
                    <a:lnTo>
                      <a:pt x="1759" y="31"/>
                    </a:lnTo>
                    <a:lnTo>
                      <a:pt x="1760" y="30"/>
                    </a:lnTo>
                    <a:lnTo>
                      <a:pt x="1761" y="28"/>
                    </a:lnTo>
                    <a:lnTo>
                      <a:pt x="1762" y="28"/>
                    </a:lnTo>
                    <a:lnTo>
                      <a:pt x="1764" y="27"/>
                    </a:lnTo>
                    <a:lnTo>
                      <a:pt x="1765" y="28"/>
                    </a:lnTo>
                    <a:lnTo>
                      <a:pt x="1767" y="28"/>
                    </a:lnTo>
                    <a:lnTo>
                      <a:pt x="1768" y="30"/>
                    </a:lnTo>
                    <a:lnTo>
                      <a:pt x="1768" y="31"/>
                    </a:lnTo>
                    <a:lnTo>
                      <a:pt x="1786" y="31"/>
                    </a:lnTo>
                    <a:lnTo>
                      <a:pt x="1786" y="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8202240" y="33292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9" name=""/>
              <p:cNvSpPr/>
              <p:nvPr/>
            </p:nvSpPr>
            <p:spPr>
              <a:xfrm>
                <a:off x="5402160" y="2614680"/>
                <a:ext cx="2871360" cy="717120"/>
              </a:xfrm>
              <a:custGeom>
                <a:avLst/>
                <a:gdLst/>
                <a:ahLst/>
                <a:rect l="l" t="t" r="r" b="b"/>
                <a:pathLst>
                  <a:path w="2712" h="537">
                    <a:moveTo>
                      <a:pt x="0" y="6"/>
                    </a:moveTo>
                    <a:lnTo>
                      <a:pt x="9" y="6"/>
                    </a:lnTo>
                    <a:lnTo>
                      <a:pt x="9" y="5"/>
                    </a:lnTo>
                    <a:lnTo>
                      <a:pt x="10" y="3"/>
                    </a:lnTo>
                    <a:lnTo>
                      <a:pt x="12" y="3"/>
                    </a:lnTo>
                    <a:lnTo>
                      <a:pt x="13" y="2"/>
                    </a:lnTo>
                    <a:lnTo>
                      <a:pt x="15" y="3"/>
                    </a:lnTo>
                    <a:lnTo>
                      <a:pt x="16" y="3"/>
                    </a:lnTo>
                    <a:lnTo>
                      <a:pt x="18" y="5"/>
                    </a:lnTo>
                    <a:lnTo>
                      <a:pt x="18" y="6"/>
                    </a:lnTo>
                    <a:lnTo>
                      <a:pt x="20" y="6"/>
                    </a:lnTo>
                    <a:lnTo>
                      <a:pt x="20" y="5"/>
                    </a:lnTo>
                    <a:lnTo>
                      <a:pt x="21" y="3"/>
                    </a:lnTo>
                    <a:lnTo>
                      <a:pt x="23" y="3"/>
                    </a:lnTo>
                    <a:lnTo>
                      <a:pt x="24" y="2"/>
                    </a:lnTo>
                    <a:lnTo>
                      <a:pt x="26" y="3"/>
                    </a:lnTo>
                    <a:lnTo>
                      <a:pt x="28" y="3"/>
                    </a:lnTo>
                    <a:lnTo>
                      <a:pt x="29" y="5"/>
                    </a:lnTo>
                    <a:lnTo>
                      <a:pt x="29" y="6"/>
                    </a:lnTo>
                    <a:lnTo>
                      <a:pt x="40" y="6"/>
                    </a:lnTo>
                    <a:lnTo>
                      <a:pt x="41" y="5"/>
                    </a:lnTo>
                    <a:lnTo>
                      <a:pt x="41" y="3"/>
                    </a:lnTo>
                    <a:lnTo>
                      <a:pt x="43" y="3"/>
                    </a:lnTo>
                    <a:lnTo>
                      <a:pt x="45" y="2"/>
                    </a:lnTo>
                    <a:lnTo>
                      <a:pt x="46" y="3"/>
                    </a:lnTo>
                    <a:lnTo>
                      <a:pt x="48" y="3"/>
                    </a:lnTo>
                    <a:lnTo>
                      <a:pt x="49" y="5"/>
                    </a:lnTo>
                    <a:lnTo>
                      <a:pt x="49" y="6"/>
                    </a:lnTo>
                    <a:lnTo>
                      <a:pt x="62" y="6"/>
                    </a:lnTo>
                    <a:lnTo>
                      <a:pt x="62" y="4"/>
                    </a:lnTo>
                    <a:lnTo>
                      <a:pt x="63" y="2"/>
                    </a:lnTo>
                    <a:lnTo>
                      <a:pt x="65" y="1"/>
                    </a:lnTo>
                    <a:lnTo>
                      <a:pt x="67" y="0"/>
                    </a:lnTo>
                    <a:lnTo>
                      <a:pt x="69" y="0"/>
                    </a:lnTo>
                    <a:lnTo>
                      <a:pt x="71" y="0"/>
                    </a:lnTo>
                    <a:lnTo>
                      <a:pt x="73" y="0"/>
                    </a:lnTo>
                    <a:lnTo>
                      <a:pt x="76" y="1"/>
                    </a:lnTo>
                    <a:lnTo>
                      <a:pt x="77" y="2"/>
                    </a:lnTo>
                    <a:lnTo>
                      <a:pt x="78" y="4"/>
                    </a:lnTo>
                    <a:lnTo>
                      <a:pt x="78" y="6"/>
                    </a:lnTo>
                    <a:lnTo>
                      <a:pt x="93" y="6"/>
                    </a:lnTo>
                    <a:lnTo>
                      <a:pt x="93" y="5"/>
                    </a:lnTo>
                    <a:lnTo>
                      <a:pt x="94" y="3"/>
                    </a:lnTo>
                    <a:lnTo>
                      <a:pt x="96" y="3"/>
                    </a:lnTo>
                    <a:lnTo>
                      <a:pt x="97" y="2"/>
                    </a:lnTo>
                    <a:lnTo>
                      <a:pt x="99" y="3"/>
                    </a:lnTo>
                    <a:lnTo>
                      <a:pt x="101" y="3"/>
                    </a:lnTo>
                    <a:lnTo>
                      <a:pt x="101" y="5"/>
                    </a:lnTo>
                    <a:lnTo>
                      <a:pt x="102" y="6"/>
                    </a:lnTo>
                    <a:lnTo>
                      <a:pt x="121" y="6"/>
                    </a:lnTo>
                    <a:lnTo>
                      <a:pt x="121" y="5"/>
                    </a:lnTo>
                    <a:lnTo>
                      <a:pt x="122" y="3"/>
                    </a:lnTo>
                    <a:lnTo>
                      <a:pt x="123" y="3"/>
                    </a:lnTo>
                    <a:lnTo>
                      <a:pt x="125" y="2"/>
                    </a:lnTo>
                    <a:lnTo>
                      <a:pt x="127" y="3"/>
                    </a:lnTo>
                    <a:lnTo>
                      <a:pt x="128" y="3"/>
                    </a:lnTo>
                    <a:lnTo>
                      <a:pt x="129" y="5"/>
                    </a:lnTo>
                    <a:lnTo>
                      <a:pt x="129" y="6"/>
                    </a:lnTo>
                    <a:lnTo>
                      <a:pt x="186" y="6"/>
                    </a:lnTo>
                    <a:lnTo>
                      <a:pt x="187" y="5"/>
                    </a:lnTo>
                    <a:lnTo>
                      <a:pt x="188" y="3"/>
                    </a:lnTo>
                    <a:lnTo>
                      <a:pt x="189" y="3"/>
                    </a:lnTo>
                    <a:lnTo>
                      <a:pt x="191" y="2"/>
                    </a:lnTo>
                    <a:lnTo>
                      <a:pt x="193" y="3"/>
                    </a:lnTo>
                    <a:lnTo>
                      <a:pt x="194" y="3"/>
                    </a:lnTo>
                    <a:lnTo>
                      <a:pt x="195" y="5"/>
                    </a:lnTo>
                    <a:lnTo>
                      <a:pt x="195" y="6"/>
                    </a:lnTo>
                    <a:lnTo>
                      <a:pt x="213" y="6"/>
                    </a:lnTo>
                    <a:lnTo>
                      <a:pt x="214" y="5"/>
                    </a:lnTo>
                    <a:lnTo>
                      <a:pt x="215" y="3"/>
                    </a:lnTo>
                    <a:lnTo>
                      <a:pt x="216" y="3"/>
                    </a:lnTo>
                    <a:lnTo>
                      <a:pt x="218" y="2"/>
                    </a:lnTo>
                    <a:lnTo>
                      <a:pt x="220" y="3"/>
                    </a:lnTo>
                    <a:lnTo>
                      <a:pt x="221" y="3"/>
                    </a:lnTo>
                    <a:lnTo>
                      <a:pt x="222" y="5"/>
                    </a:lnTo>
                    <a:lnTo>
                      <a:pt x="222" y="6"/>
                    </a:lnTo>
                    <a:lnTo>
                      <a:pt x="337" y="6"/>
                    </a:lnTo>
                    <a:lnTo>
                      <a:pt x="337" y="5"/>
                    </a:lnTo>
                    <a:lnTo>
                      <a:pt x="338" y="3"/>
                    </a:lnTo>
                    <a:lnTo>
                      <a:pt x="339" y="3"/>
                    </a:lnTo>
                    <a:lnTo>
                      <a:pt x="341" y="2"/>
                    </a:lnTo>
                    <a:lnTo>
                      <a:pt x="343" y="3"/>
                    </a:lnTo>
                    <a:lnTo>
                      <a:pt x="344" y="3"/>
                    </a:lnTo>
                    <a:lnTo>
                      <a:pt x="345" y="5"/>
                    </a:lnTo>
                    <a:lnTo>
                      <a:pt x="346" y="6"/>
                    </a:lnTo>
                    <a:lnTo>
                      <a:pt x="358" y="6"/>
                    </a:lnTo>
                    <a:lnTo>
                      <a:pt x="359" y="5"/>
                    </a:lnTo>
                    <a:lnTo>
                      <a:pt x="360" y="3"/>
                    </a:lnTo>
                    <a:lnTo>
                      <a:pt x="361" y="3"/>
                    </a:lnTo>
                    <a:lnTo>
                      <a:pt x="363" y="2"/>
                    </a:lnTo>
                    <a:lnTo>
                      <a:pt x="365" y="3"/>
                    </a:lnTo>
                    <a:lnTo>
                      <a:pt x="366" y="3"/>
                    </a:lnTo>
                    <a:lnTo>
                      <a:pt x="367" y="5"/>
                    </a:lnTo>
                    <a:lnTo>
                      <a:pt x="367" y="6"/>
                    </a:lnTo>
                    <a:lnTo>
                      <a:pt x="420" y="6"/>
                    </a:lnTo>
                    <a:lnTo>
                      <a:pt x="421" y="5"/>
                    </a:lnTo>
                    <a:lnTo>
                      <a:pt x="422" y="3"/>
                    </a:lnTo>
                    <a:lnTo>
                      <a:pt x="423" y="3"/>
                    </a:lnTo>
                    <a:lnTo>
                      <a:pt x="425" y="2"/>
                    </a:lnTo>
                    <a:lnTo>
                      <a:pt x="426" y="3"/>
                    </a:lnTo>
                    <a:lnTo>
                      <a:pt x="428" y="3"/>
                    </a:lnTo>
                    <a:lnTo>
                      <a:pt x="429" y="5"/>
                    </a:lnTo>
                    <a:lnTo>
                      <a:pt x="429" y="6"/>
                    </a:lnTo>
                    <a:lnTo>
                      <a:pt x="444" y="6"/>
                    </a:lnTo>
                    <a:lnTo>
                      <a:pt x="444" y="5"/>
                    </a:lnTo>
                    <a:lnTo>
                      <a:pt x="445" y="3"/>
                    </a:lnTo>
                    <a:lnTo>
                      <a:pt x="447" y="3"/>
                    </a:lnTo>
                    <a:lnTo>
                      <a:pt x="448" y="2"/>
                    </a:lnTo>
                    <a:lnTo>
                      <a:pt x="450" y="3"/>
                    </a:lnTo>
                    <a:lnTo>
                      <a:pt x="452" y="3"/>
                    </a:lnTo>
                    <a:lnTo>
                      <a:pt x="453" y="5"/>
                    </a:lnTo>
                    <a:lnTo>
                      <a:pt x="453" y="6"/>
                    </a:lnTo>
                    <a:lnTo>
                      <a:pt x="459" y="6"/>
                    </a:lnTo>
                    <a:lnTo>
                      <a:pt x="459" y="5"/>
                    </a:lnTo>
                    <a:lnTo>
                      <a:pt x="460" y="3"/>
                    </a:lnTo>
                    <a:lnTo>
                      <a:pt x="462" y="3"/>
                    </a:lnTo>
                    <a:lnTo>
                      <a:pt x="463" y="2"/>
                    </a:lnTo>
                    <a:lnTo>
                      <a:pt x="465" y="3"/>
                    </a:lnTo>
                    <a:lnTo>
                      <a:pt x="467" y="3"/>
                    </a:lnTo>
                    <a:lnTo>
                      <a:pt x="468" y="5"/>
                    </a:lnTo>
                    <a:lnTo>
                      <a:pt x="468" y="6"/>
                    </a:lnTo>
                    <a:lnTo>
                      <a:pt x="477" y="6"/>
                    </a:lnTo>
                    <a:lnTo>
                      <a:pt x="477" y="5"/>
                    </a:lnTo>
                    <a:lnTo>
                      <a:pt x="478" y="3"/>
                    </a:lnTo>
                    <a:lnTo>
                      <a:pt x="480" y="3"/>
                    </a:lnTo>
                    <a:lnTo>
                      <a:pt x="482" y="2"/>
                    </a:lnTo>
                    <a:lnTo>
                      <a:pt x="483" y="3"/>
                    </a:lnTo>
                    <a:lnTo>
                      <a:pt x="485" y="3"/>
                    </a:lnTo>
                    <a:lnTo>
                      <a:pt x="486" y="5"/>
                    </a:lnTo>
                    <a:lnTo>
                      <a:pt x="486" y="6"/>
                    </a:lnTo>
                    <a:lnTo>
                      <a:pt x="504" y="6"/>
                    </a:lnTo>
                    <a:lnTo>
                      <a:pt x="505" y="5"/>
                    </a:lnTo>
                    <a:lnTo>
                      <a:pt x="506" y="3"/>
                    </a:lnTo>
                    <a:lnTo>
                      <a:pt x="507" y="3"/>
                    </a:lnTo>
                    <a:lnTo>
                      <a:pt x="509" y="2"/>
                    </a:lnTo>
                    <a:lnTo>
                      <a:pt x="511" y="3"/>
                    </a:lnTo>
                    <a:lnTo>
                      <a:pt x="512" y="3"/>
                    </a:lnTo>
                    <a:lnTo>
                      <a:pt x="513" y="5"/>
                    </a:lnTo>
                    <a:lnTo>
                      <a:pt x="513" y="6"/>
                    </a:lnTo>
                    <a:lnTo>
                      <a:pt x="525" y="6"/>
                    </a:lnTo>
                    <a:lnTo>
                      <a:pt x="525" y="5"/>
                    </a:lnTo>
                    <a:lnTo>
                      <a:pt x="526" y="3"/>
                    </a:lnTo>
                    <a:lnTo>
                      <a:pt x="527" y="3"/>
                    </a:lnTo>
                    <a:lnTo>
                      <a:pt x="529" y="2"/>
                    </a:lnTo>
                    <a:lnTo>
                      <a:pt x="531" y="3"/>
                    </a:lnTo>
                    <a:lnTo>
                      <a:pt x="532" y="3"/>
                    </a:lnTo>
                    <a:lnTo>
                      <a:pt x="533" y="5"/>
                    </a:lnTo>
                    <a:lnTo>
                      <a:pt x="534" y="6"/>
                    </a:lnTo>
                    <a:lnTo>
                      <a:pt x="605" y="6"/>
                    </a:lnTo>
                    <a:lnTo>
                      <a:pt x="605" y="5"/>
                    </a:lnTo>
                    <a:lnTo>
                      <a:pt x="606" y="3"/>
                    </a:lnTo>
                    <a:lnTo>
                      <a:pt x="607" y="3"/>
                    </a:lnTo>
                    <a:lnTo>
                      <a:pt x="609" y="2"/>
                    </a:lnTo>
                    <a:lnTo>
                      <a:pt x="611" y="3"/>
                    </a:lnTo>
                    <a:lnTo>
                      <a:pt x="612" y="3"/>
                    </a:lnTo>
                    <a:lnTo>
                      <a:pt x="613" y="5"/>
                    </a:lnTo>
                    <a:lnTo>
                      <a:pt x="614" y="6"/>
                    </a:lnTo>
                    <a:lnTo>
                      <a:pt x="632" y="6"/>
                    </a:lnTo>
                    <a:lnTo>
                      <a:pt x="633" y="5"/>
                    </a:lnTo>
                    <a:lnTo>
                      <a:pt x="634" y="3"/>
                    </a:lnTo>
                    <a:lnTo>
                      <a:pt x="635" y="3"/>
                    </a:lnTo>
                    <a:lnTo>
                      <a:pt x="637" y="2"/>
                    </a:lnTo>
                    <a:lnTo>
                      <a:pt x="639" y="3"/>
                    </a:lnTo>
                    <a:lnTo>
                      <a:pt x="640" y="3"/>
                    </a:lnTo>
                    <a:lnTo>
                      <a:pt x="641" y="5"/>
                    </a:lnTo>
                    <a:lnTo>
                      <a:pt x="641" y="6"/>
                    </a:lnTo>
                    <a:lnTo>
                      <a:pt x="660" y="6"/>
                    </a:lnTo>
                    <a:lnTo>
                      <a:pt x="660" y="5"/>
                    </a:lnTo>
                    <a:lnTo>
                      <a:pt x="661" y="3"/>
                    </a:lnTo>
                    <a:lnTo>
                      <a:pt x="663" y="3"/>
                    </a:lnTo>
                    <a:lnTo>
                      <a:pt x="664" y="2"/>
                    </a:lnTo>
                    <a:lnTo>
                      <a:pt x="666" y="3"/>
                    </a:lnTo>
                    <a:lnTo>
                      <a:pt x="667" y="3"/>
                    </a:lnTo>
                    <a:lnTo>
                      <a:pt x="668" y="5"/>
                    </a:lnTo>
                    <a:lnTo>
                      <a:pt x="669" y="6"/>
                    </a:lnTo>
                    <a:lnTo>
                      <a:pt x="678" y="6"/>
                    </a:lnTo>
                    <a:lnTo>
                      <a:pt x="678" y="4"/>
                    </a:lnTo>
                    <a:lnTo>
                      <a:pt x="679" y="3"/>
                    </a:lnTo>
                    <a:lnTo>
                      <a:pt x="681" y="2"/>
                    </a:lnTo>
                    <a:lnTo>
                      <a:pt x="682" y="1"/>
                    </a:lnTo>
                    <a:lnTo>
                      <a:pt x="684" y="1"/>
                    </a:lnTo>
                    <a:lnTo>
                      <a:pt x="686" y="1"/>
                    </a:lnTo>
                    <a:lnTo>
                      <a:pt x="688" y="2"/>
                    </a:lnTo>
                    <a:lnTo>
                      <a:pt x="690" y="3"/>
                    </a:lnTo>
                    <a:lnTo>
                      <a:pt x="691" y="4"/>
                    </a:lnTo>
                    <a:lnTo>
                      <a:pt x="691" y="6"/>
                    </a:lnTo>
                    <a:lnTo>
                      <a:pt x="697" y="6"/>
                    </a:lnTo>
                    <a:lnTo>
                      <a:pt x="697" y="5"/>
                    </a:lnTo>
                    <a:lnTo>
                      <a:pt x="698" y="3"/>
                    </a:lnTo>
                    <a:lnTo>
                      <a:pt x="699" y="3"/>
                    </a:lnTo>
                    <a:lnTo>
                      <a:pt x="701" y="2"/>
                    </a:lnTo>
                    <a:lnTo>
                      <a:pt x="703" y="3"/>
                    </a:lnTo>
                    <a:lnTo>
                      <a:pt x="704" y="3"/>
                    </a:lnTo>
                    <a:lnTo>
                      <a:pt x="705" y="5"/>
                    </a:lnTo>
                    <a:lnTo>
                      <a:pt x="705" y="6"/>
                    </a:lnTo>
                    <a:lnTo>
                      <a:pt x="710" y="6"/>
                    </a:lnTo>
                    <a:lnTo>
                      <a:pt x="710" y="5"/>
                    </a:lnTo>
                    <a:lnTo>
                      <a:pt x="711" y="3"/>
                    </a:lnTo>
                    <a:lnTo>
                      <a:pt x="713" y="3"/>
                    </a:lnTo>
                    <a:lnTo>
                      <a:pt x="715" y="2"/>
                    </a:lnTo>
                    <a:lnTo>
                      <a:pt x="716" y="3"/>
                    </a:lnTo>
                    <a:lnTo>
                      <a:pt x="718" y="3"/>
                    </a:lnTo>
                    <a:lnTo>
                      <a:pt x="719" y="5"/>
                    </a:lnTo>
                    <a:lnTo>
                      <a:pt x="719" y="6"/>
                    </a:lnTo>
                    <a:lnTo>
                      <a:pt x="734" y="6"/>
                    </a:lnTo>
                    <a:lnTo>
                      <a:pt x="734" y="4"/>
                    </a:lnTo>
                    <a:lnTo>
                      <a:pt x="735" y="3"/>
                    </a:lnTo>
                    <a:lnTo>
                      <a:pt x="736" y="1"/>
                    </a:lnTo>
                    <a:lnTo>
                      <a:pt x="738" y="0"/>
                    </a:lnTo>
                    <a:lnTo>
                      <a:pt x="740" y="0"/>
                    </a:lnTo>
                    <a:lnTo>
                      <a:pt x="742" y="0"/>
                    </a:lnTo>
                    <a:lnTo>
                      <a:pt x="745" y="0"/>
                    </a:lnTo>
                    <a:lnTo>
                      <a:pt x="747" y="1"/>
                    </a:lnTo>
                    <a:lnTo>
                      <a:pt x="748" y="3"/>
                    </a:lnTo>
                    <a:lnTo>
                      <a:pt x="749" y="4"/>
                    </a:lnTo>
                    <a:lnTo>
                      <a:pt x="749" y="6"/>
                    </a:lnTo>
                    <a:lnTo>
                      <a:pt x="754" y="6"/>
                    </a:lnTo>
                    <a:lnTo>
                      <a:pt x="754" y="4"/>
                    </a:lnTo>
                    <a:lnTo>
                      <a:pt x="755" y="3"/>
                    </a:lnTo>
                    <a:lnTo>
                      <a:pt x="757" y="1"/>
                    </a:lnTo>
                    <a:lnTo>
                      <a:pt x="759" y="0"/>
                    </a:lnTo>
                    <a:lnTo>
                      <a:pt x="761" y="0"/>
                    </a:lnTo>
                    <a:lnTo>
                      <a:pt x="763" y="0"/>
                    </a:lnTo>
                    <a:lnTo>
                      <a:pt x="765" y="0"/>
                    </a:lnTo>
                    <a:lnTo>
                      <a:pt x="767" y="1"/>
                    </a:lnTo>
                    <a:lnTo>
                      <a:pt x="768" y="3"/>
                    </a:lnTo>
                    <a:lnTo>
                      <a:pt x="769" y="4"/>
                    </a:lnTo>
                    <a:lnTo>
                      <a:pt x="770" y="6"/>
                    </a:lnTo>
                    <a:lnTo>
                      <a:pt x="788" y="6"/>
                    </a:lnTo>
                    <a:lnTo>
                      <a:pt x="788" y="5"/>
                    </a:lnTo>
                    <a:lnTo>
                      <a:pt x="789" y="3"/>
                    </a:lnTo>
                    <a:lnTo>
                      <a:pt x="790" y="3"/>
                    </a:lnTo>
                    <a:lnTo>
                      <a:pt x="792" y="2"/>
                    </a:lnTo>
                    <a:lnTo>
                      <a:pt x="794" y="3"/>
                    </a:lnTo>
                    <a:lnTo>
                      <a:pt x="795" y="3"/>
                    </a:lnTo>
                    <a:lnTo>
                      <a:pt x="796" y="5"/>
                    </a:lnTo>
                    <a:lnTo>
                      <a:pt x="797" y="6"/>
                    </a:lnTo>
                    <a:lnTo>
                      <a:pt x="811" y="6"/>
                    </a:lnTo>
                    <a:lnTo>
                      <a:pt x="811" y="4"/>
                    </a:lnTo>
                    <a:lnTo>
                      <a:pt x="812" y="3"/>
                    </a:lnTo>
                    <a:lnTo>
                      <a:pt x="813" y="1"/>
                    </a:lnTo>
                    <a:lnTo>
                      <a:pt x="815" y="0"/>
                    </a:lnTo>
                    <a:lnTo>
                      <a:pt x="818" y="0"/>
                    </a:lnTo>
                    <a:lnTo>
                      <a:pt x="820" y="0"/>
                    </a:lnTo>
                    <a:lnTo>
                      <a:pt x="822" y="0"/>
                    </a:lnTo>
                    <a:lnTo>
                      <a:pt x="824" y="1"/>
                    </a:lnTo>
                    <a:lnTo>
                      <a:pt x="825" y="3"/>
                    </a:lnTo>
                    <a:lnTo>
                      <a:pt x="826" y="4"/>
                    </a:lnTo>
                    <a:lnTo>
                      <a:pt x="826" y="6"/>
                    </a:lnTo>
                    <a:lnTo>
                      <a:pt x="855" y="6"/>
                    </a:lnTo>
                    <a:lnTo>
                      <a:pt x="856" y="5"/>
                    </a:lnTo>
                    <a:lnTo>
                      <a:pt x="857" y="3"/>
                    </a:lnTo>
                    <a:lnTo>
                      <a:pt x="858" y="3"/>
                    </a:lnTo>
                    <a:lnTo>
                      <a:pt x="860" y="2"/>
                    </a:lnTo>
                    <a:lnTo>
                      <a:pt x="861" y="3"/>
                    </a:lnTo>
                    <a:lnTo>
                      <a:pt x="863" y="3"/>
                    </a:lnTo>
                    <a:lnTo>
                      <a:pt x="864" y="5"/>
                    </a:lnTo>
                    <a:lnTo>
                      <a:pt x="864" y="6"/>
                    </a:lnTo>
                    <a:lnTo>
                      <a:pt x="913" y="6"/>
                    </a:lnTo>
                    <a:lnTo>
                      <a:pt x="913" y="5"/>
                    </a:lnTo>
                    <a:lnTo>
                      <a:pt x="914" y="3"/>
                    </a:lnTo>
                    <a:lnTo>
                      <a:pt x="915" y="3"/>
                    </a:lnTo>
                    <a:lnTo>
                      <a:pt x="917" y="2"/>
                    </a:lnTo>
                    <a:lnTo>
                      <a:pt x="919" y="3"/>
                    </a:lnTo>
                    <a:lnTo>
                      <a:pt x="920" y="3"/>
                    </a:lnTo>
                    <a:lnTo>
                      <a:pt x="921" y="5"/>
                    </a:lnTo>
                    <a:lnTo>
                      <a:pt x="922" y="6"/>
                    </a:lnTo>
                    <a:lnTo>
                      <a:pt x="933" y="6"/>
                    </a:lnTo>
                    <a:lnTo>
                      <a:pt x="933" y="5"/>
                    </a:lnTo>
                    <a:lnTo>
                      <a:pt x="934" y="3"/>
                    </a:lnTo>
                    <a:lnTo>
                      <a:pt x="936" y="3"/>
                    </a:lnTo>
                    <a:lnTo>
                      <a:pt x="937" y="2"/>
                    </a:lnTo>
                    <a:lnTo>
                      <a:pt x="939" y="3"/>
                    </a:lnTo>
                    <a:lnTo>
                      <a:pt x="941" y="3"/>
                    </a:lnTo>
                    <a:lnTo>
                      <a:pt x="942" y="5"/>
                    </a:lnTo>
                    <a:lnTo>
                      <a:pt x="942" y="6"/>
                    </a:lnTo>
                    <a:lnTo>
                      <a:pt x="953" y="6"/>
                    </a:lnTo>
                    <a:lnTo>
                      <a:pt x="954" y="5"/>
                    </a:lnTo>
                    <a:lnTo>
                      <a:pt x="954" y="3"/>
                    </a:lnTo>
                    <a:lnTo>
                      <a:pt x="956" y="3"/>
                    </a:lnTo>
                    <a:lnTo>
                      <a:pt x="958" y="2"/>
                    </a:lnTo>
                    <a:lnTo>
                      <a:pt x="959" y="3"/>
                    </a:lnTo>
                    <a:lnTo>
                      <a:pt x="961" y="3"/>
                    </a:lnTo>
                    <a:lnTo>
                      <a:pt x="962" y="5"/>
                    </a:lnTo>
                    <a:lnTo>
                      <a:pt x="962" y="6"/>
                    </a:lnTo>
                    <a:lnTo>
                      <a:pt x="977" y="6"/>
                    </a:lnTo>
                    <a:lnTo>
                      <a:pt x="977" y="5"/>
                    </a:lnTo>
                    <a:lnTo>
                      <a:pt x="978" y="3"/>
                    </a:lnTo>
                    <a:lnTo>
                      <a:pt x="980" y="3"/>
                    </a:lnTo>
                    <a:lnTo>
                      <a:pt x="981" y="2"/>
                    </a:lnTo>
                    <a:lnTo>
                      <a:pt x="983" y="3"/>
                    </a:lnTo>
                    <a:lnTo>
                      <a:pt x="984" y="3"/>
                    </a:lnTo>
                    <a:lnTo>
                      <a:pt x="985" y="5"/>
                    </a:lnTo>
                    <a:lnTo>
                      <a:pt x="986" y="6"/>
                    </a:lnTo>
                    <a:lnTo>
                      <a:pt x="998" y="6"/>
                    </a:lnTo>
                    <a:lnTo>
                      <a:pt x="999" y="5"/>
                    </a:lnTo>
                    <a:lnTo>
                      <a:pt x="1000" y="3"/>
                    </a:lnTo>
                    <a:lnTo>
                      <a:pt x="1001" y="3"/>
                    </a:lnTo>
                    <a:lnTo>
                      <a:pt x="1003" y="2"/>
                    </a:lnTo>
                    <a:lnTo>
                      <a:pt x="1005" y="3"/>
                    </a:lnTo>
                    <a:lnTo>
                      <a:pt x="1006" y="3"/>
                    </a:lnTo>
                    <a:lnTo>
                      <a:pt x="1007" y="5"/>
                    </a:lnTo>
                    <a:lnTo>
                      <a:pt x="1007" y="6"/>
                    </a:lnTo>
                    <a:lnTo>
                      <a:pt x="1071" y="6"/>
                    </a:lnTo>
                    <a:lnTo>
                      <a:pt x="1072" y="5"/>
                    </a:lnTo>
                    <a:lnTo>
                      <a:pt x="1073" y="3"/>
                    </a:lnTo>
                    <a:lnTo>
                      <a:pt x="1074" y="3"/>
                    </a:lnTo>
                    <a:lnTo>
                      <a:pt x="1076" y="2"/>
                    </a:lnTo>
                    <a:lnTo>
                      <a:pt x="1078" y="3"/>
                    </a:lnTo>
                    <a:lnTo>
                      <a:pt x="1079" y="3"/>
                    </a:lnTo>
                    <a:lnTo>
                      <a:pt x="1080" y="5"/>
                    </a:lnTo>
                    <a:lnTo>
                      <a:pt x="1080" y="6"/>
                    </a:lnTo>
                    <a:lnTo>
                      <a:pt x="1120" y="6"/>
                    </a:lnTo>
                    <a:lnTo>
                      <a:pt x="1120" y="5"/>
                    </a:lnTo>
                    <a:lnTo>
                      <a:pt x="1121" y="3"/>
                    </a:lnTo>
                    <a:lnTo>
                      <a:pt x="1123" y="3"/>
                    </a:lnTo>
                    <a:lnTo>
                      <a:pt x="1125" y="2"/>
                    </a:lnTo>
                    <a:lnTo>
                      <a:pt x="1126" y="3"/>
                    </a:lnTo>
                    <a:lnTo>
                      <a:pt x="1128" y="3"/>
                    </a:lnTo>
                    <a:lnTo>
                      <a:pt x="1129" y="5"/>
                    </a:lnTo>
                    <a:lnTo>
                      <a:pt x="1129" y="6"/>
                    </a:lnTo>
                    <a:lnTo>
                      <a:pt x="1142" y="6"/>
                    </a:lnTo>
                    <a:lnTo>
                      <a:pt x="1142" y="5"/>
                    </a:lnTo>
                    <a:lnTo>
                      <a:pt x="1143" y="3"/>
                    </a:lnTo>
                    <a:lnTo>
                      <a:pt x="1145" y="3"/>
                    </a:lnTo>
                    <a:lnTo>
                      <a:pt x="1146" y="2"/>
                    </a:lnTo>
                    <a:lnTo>
                      <a:pt x="1148" y="3"/>
                    </a:lnTo>
                    <a:lnTo>
                      <a:pt x="1149" y="3"/>
                    </a:lnTo>
                    <a:lnTo>
                      <a:pt x="1150" y="5"/>
                    </a:lnTo>
                    <a:lnTo>
                      <a:pt x="1151" y="6"/>
                    </a:lnTo>
                    <a:lnTo>
                      <a:pt x="1199" y="6"/>
                    </a:lnTo>
                    <a:lnTo>
                      <a:pt x="1200" y="5"/>
                    </a:lnTo>
                    <a:lnTo>
                      <a:pt x="1201" y="3"/>
                    </a:lnTo>
                    <a:lnTo>
                      <a:pt x="1202" y="3"/>
                    </a:lnTo>
                    <a:lnTo>
                      <a:pt x="1204" y="2"/>
                    </a:lnTo>
                    <a:lnTo>
                      <a:pt x="1206" y="3"/>
                    </a:lnTo>
                    <a:lnTo>
                      <a:pt x="1207" y="3"/>
                    </a:lnTo>
                    <a:lnTo>
                      <a:pt x="1208" y="5"/>
                    </a:lnTo>
                    <a:lnTo>
                      <a:pt x="1208" y="6"/>
                    </a:lnTo>
                    <a:lnTo>
                      <a:pt x="1220" y="6"/>
                    </a:lnTo>
                    <a:lnTo>
                      <a:pt x="1220" y="5"/>
                    </a:lnTo>
                    <a:lnTo>
                      <a:pt x="1221" y="3"/>
                    </a:lnTo>
                    <a:lnTo>
                      <a:pt x="1223" y="3"/>
                    </a:lnTo>
                    <a:lnTo>
                      <a:pt x="1224" y="2"/>
                    </a:lnTo>
                    <a:lnTo>
                      <a:pt x="1226" y="3"/>
                    </a:lnTo>
                    <a:lnTo>
                      <a:pt x="1228" y="3"/>
                    </a:lnTo>
                    <a:lnTo>
                      <a:pt x="1229" y="5"/>
                    </a:lnTo>
                    <a:lnTo>
                      <a:pt x="1229" y="6"/>
                    </a:lnTo>
                    <a:lnTo>
                      <a:pt x="1242" y="6"/>
                    </a:lnTo>
                    <a:lnTo>
                      <a:pt x="1243" y="5"/>
                    </a:lnTo>
                    <a:lnTo>
                      <a:pt x="1244" y="3"/>
                    </a:lnTo>
                    <a:lnTo>
                      <a:pt x="1245" y="3"/>
                    </a:lnTo>
                    <a:lnTo>
                      <a:pt x="1247" y="2"/>
                    </a:lnTo>
                    <a:lnTo>
                      <a:pt x="1249" y="3"/>
                    </a:lnTo>
                    <a:lnTo>
                      <a:pt x="1250" y="3"/>
                    </a:lnTo>
                    <a:lnTo>
                      <a:pt x="1251" y="5"/>
                    </a:lnTo>
                    <a:lnTo>
                      <a:pt x="1252" y="6"/>
                    </a:lnTo>
                    <a:lnTo>
                      <a:pt x="1264" y="6"/>
                    </a:lnTo>
                    <a:lnTo>
                      <a:pt x="1264" y="5"/>
                    </a:lnTo>
                    <a:lnTo>
                      <a:pt x="1265" y="3"/>
                    </a:lnTo>
                    <a:lnTo>
                      <a:pt x="1267" y="3"/>
                    </a:lnTo>
                    <a:lnTo>
                      <a:pt x="1268" y="2"/>
                    </a:lnTo>
                    <a:lnTo>
                      <a:pt x="1270" y="3"/>
                    </a:lnTo>
                    <a:lnTo>
                      <a:pt x="1271" y="3"/>
                    </a:lnTo>
                    <a:lnTo>
                      <a:pt x="1273" y="5"/>
                    </a:lnTo>
                    <a:lnTo>
                      <a:pt x="1273" y="6"/>
                    </a:lnTo>
                    <a:lnTo>
                      <a:pt x="1287" y="6"/>
                    </a:lnTo>
                    <a:lnTo>
                      <a:pt x="1287" y="83"/>
                    </a:lnTo>
                    <a:lnTo>
                      <a:pt x="1317" y="83"/>
                    </a:lnTo>
                    <a:lnTo>
                      <a:pt x="1317" y="81"/>
                    </a:lnTo>
                    <a:lnTo>
                      <a:pt x="1318" y="80"/>
                    </a:lnTo>
                    <a:lnTo>
                      <a:pt x="1320" y="80"/>
                    </a:lnTo>
                    <a:lnTo>
                      <a:pt x="1321" y="79"/>
                    </a:lnTo>
                    <a:lnTo>
                      <a:pt x="1323" y="80"/>
                    </a:lnTo>
                    <a:lnTo>
                      <a:pt x="1324" y="80"/>
                    </a:lnTo>
                    <a:lnTo>
                      <a:pt x="1325" y="81"/>
                    </a:lnTo>
                    <a:lnTo>
                      <a:pt x="1326" y="83"/>
                    </a:lnTo>
                    <a:lnTo>
                      <a:pt x="1344" y="83"/>
                    </a:lnTo>
                    <a:lnTo>
                      <a:pt x="1344" y="81"/>
                    </a:lnTo>
                    <a:lnTo>
                      <a:pt x="1345" y="80"/>
                    </a:lnTo>
                    <a:lnTo>
                      <a:pt x="1346" y="80"/>
                    </a:lnTo>
                    <a:lnTo>
                      <a:pt x="1348" y="79"/>
                    </a:lnTo>
                    <a:lnTo>
                      <a:pt x="1350" y="80"/>
                    </a:lnTo>
                    <a:lnTo>
                      <a:pt x="1351" y="80"/>
                    </a:lnTo>
                    <a:lnTo>
                      <a:pt x="1352" y="81"/>
                    </a:lnTo>
                    <a:lnTo>
                      <a:pt x="1353" y="83"/>
                    </a:lnTo>
                    <a:lnTo>
                      <a:pt x="1416" y="83"/>
                    </a:lnTo>
                    <a:lnTo>
                      <a:pt x="1416" y="81"/>
                    </a:lnTo>
                    <a:lnTo>
                      <a:pt x="1417" y="80"/>
                    </a:lnTo>
                    <a:lnTo>
                      <a:pt x="1419" y="80"/>
                    </a:lnTo>
                    <a:lnTo>
                      <a:pt x="1420" y="79"/>
                    </a:lnTo>
                    <a:lnTo>
                      <a:pt x="1422" y="80"/>
                    </a:lnTo>
                    <a:lnTo>
                      <a:pt x="1424" y="80"/>
                    </a:lnTo>
                    <a:lnTo>
                      <a:pt x="1424" y="81"/>
                    </a:lnTo>
                    <a:lnTo>
                      <a:pt x="1425" y="83"/>
                    </a:lnTo>
                    <a:lnTo>
                      <a:pt x="1456" y="83"/>
                    </a:lnTo>
                    <a:lnTo>
                      <a:pt x="1457" y="81"/>
                    </a:lnTo>
                    <a:lnTo>
                      <a:pt x="1458" y="80"/>
                    </a:lnTo>
                    <a:lnTo>
                      <a:pt x="1459" y="80"/>
                    </a:lnTo>
                    <a:lnTo>
                      <a:pt x="1461" y="79"/>
                    </a:lnTo>
                    <a:lnTo>
                      <a:pt x="1463" y="80"/>
                    </a:lnTo>
                    <a:lnTo>
                      <a:pt x="1464" y="80"/>
                    </a:lnTo>
                    <a:lnTo>
                      <a:pt x="1465" y="81"/>
                    </a:lnTo>
                    <a:lnTo>
                      <a:pt x="1465" y="83"/>
                    </a:lnTo>
                    <a:lnTo>
                      <a:pt x="1477" y="83"/>
                    </a:lnTo>
                    <a:lnTo>
                      <a:pt x="1477" y="81"/>
                    </a:lnTo>
                    <a:lnTo>
                      <a:pt x="1478" y="80"/>
                    </a:lnTo>
                    <a:lnTo>
                      <a:pt x="1480" y="80"/>
                    </a:lnTo>
                    <a:lnTo>
                      <a:pt x="1481" y="79"/>
                    </a:lnTo>
                    <a:lnTo>
                      <a:pt x="1483" y="80"/>
                    </a:lnTo>
                    <a:lnTo>
                      <a:pt x="1485" y="80"/>
                    </a:lnTo>
                    <a:lnTo>
                      <a:pt x="1485" y="81"/>
                    </a:lnTo>
                    <a:lnTo>
                      <a:pt x="1486" y="83"/>
                    </a:lnTo>
                    <a:lnTo>
                      <a:pt x="1505" y="83"/>
                    </a:lnTo>
                    <a:lnTo>
                      <a:pt x="1505" y="81"/>
                    </a:lnTo>
                    <a:lnTo>
                      <a:pt x="1506" y="80"/>
                    </a:lnTo>
                    <a:lnTo>
                      <a:pt x="1508" y="80"/>
                    </a:lnTo>
                    <a:lnTo>
                      <a:pt x="1510" y="79"/>
                    </a:lnTo>
                    <a:lnTo>
                      <a:pt x="1511" y="80"/>
                    </a:lnTo>
                    <a:lnTo>
                      <a:pt x="1513" y="80"/>
                    </a:lnTo>
                    <a:lnTo>
                      <a:pt x="1514" y="81"/>
                    </a:lnTo>
                    <a:lnTo>
                      <a:pt x="1514" y="83"/>
                    </a:lnTo>
                    <a:lnTo>
                      <a:pt x="1540" y="83"/>
                    </a:lnTo>
                    <a:lnTo>
                      <a:pt x="1540" y="81"/>
                    </a:lnTo>
                    <a:lnTo>
                      <a:pt x="1541" y="80"/>
                    </a:lnTo>
                    <a:lnTo>
                      <a:pt x="1542" y="80"/>
                    </a:lnTo>
                    <a:lnTo>
                      <a:pt x="1544" y="79"/>
                    </a:lnTo>
                    <a:lnTo>
                      <a:pt x="1546" y="80"/>
                    </a:lnTo>
                    <a:lnTo>
                      <a:pt x="1547" y="80"/>
                    </a:lnTo>
                    <a:lnTo>
                      <a:pt x="1548" y="81"/>
                    </a:lnTo>
                    <a:lnTo>
                      <a:pt x="1549" y="83"/>
                    </a:lnTo>
                    <a:lnTo>
                      <a:pt x="1571" y="83"/>
                    </a:lnTo>
                    <a:lnTo>
                      <a:pt x="1572" y="81"/>
                    </a:lnTo>
                    <a:lnTo>
                      <a:pt x="1572" y="80"/>
                    </a:lnTo>
                    <a:lnTo>
                      <a:pt x="1574" y="80"/>
                    </a:lnTo>
                    <a:lnTo>
                      <a:pt x="1576" y="79"/>
                    </a:lnTo>
                    <a:lnTo>
                      <a:pt x="1577" y="80"/>
                    </a:lnTo>
                    <a:lnTo>
                      <a:pt x="1579" y="80"/>
                    </a:lnTo>
                    <a:lnTo>
                      <a:pt x="1580" y="81"/>
                    </a:lnTo>
                    <a:lnTo>
                      <a:pt x="1580" y="83"/>
                    </a:lnTo>
                    <a:lnTo>
                      <a:pt x="1590" y="83"/>
                    </a:lnTo>
                    <a:lnTo>
                      <a:pt x="1590" y="81"/>
                    </a:lnTo>
                    <a:lnTo>
                      <a:pt x="1591" y="80"/>
                    </a:lnTo>
                    <a:lnTo>
                      <a:pt x="1592" y="80"/>
                    </a:lnTo>
                    <a:lnTo>
                      <a:pt x="1594" y="79"/>
                    </a:lnTo>
                    <a:lnTo>
                      <a:pt x="1596" y="80"/>
                    </a:lnTo>
                    <a:lnTo>
                      <a:pt x="1597" y="80"/>
                    </a:lnTo>
                    <a:lnTo>
                      <a:pt x="1598" y="81"/>
                    </a:lnTo>
                    <a:lnTo>
                      <a:pt x="1599" y="83"/>
                    </a:lnTo>
                    <a:lnTo>
                      <a:pt x="1606" y="83"/>
                    </a:lnTo>
                    <a:lnTo>
                      <a:pt x="1607" y="81"/>
                    </a:lnTo>
                    <a:lnTo>
                      <a:pt x="1607" y="80"/>
                    </a:lnTo>
                    <a:lnTo>
                      <a:pt x="1609" y="80"/>
                    </a:lnTo>
                    <a:lnTo>
                      <a:pt x="1611" y="79"/>
                    </a:lnTo>
                    <a:lnTo>
                      <a:pt x="1612" y="80"/>
                    </a:lnTo>
                    <a:lnTo>
                      <a:pt x="1614" y="80"/>
                    </a:lnTo>
                    <a:lnTo>
                      <a:pt x="1615" y="81"/>
                    </a:lnTo>
                    <a:lnTo>
                      <a:pt x="1615" y="83"/>
                    </a:lnTo>
                    <a:lnTo>
                      <a:pt x="1617" y="83"/>
                    </a:lnTo>
                    <a:lnTo>
                      <a:pt x="1617" y="81"/>
                    </a:lnTo>
                    <a:lnTo>
                      <a:pt x="1618" y="80"/>
                    </a:lnTo>
                    <a:lnTo>
                      <a:pt x="1619" y="78"/>
                    </a:lnTo>
                    <a:lnTo>
                      <a:pt x="1621" y="77"/>
                    </a:lnTo>
                    <a:lnTo>
                      <a:pt x="1623" y="77"/>
                    </a:lnTo>
                    <a:lnTo>
                      <a:pt x="1626" y="77"/>
                    </a:lnTo>
                    <a:lnTo>
                      <a:pt x="1628" y="77"/>
                    </a:lnTo>
                    <a:lnTo>
                      <a:pt x="1630" y="78"/>
                    </a:lnTo>
                    <a:lnTo>
                      <a:pt x="1631" y="80"/>
                    </a:lnTo>
                    <a:lnTo>
                      <a:pt x="1632" y="81"/>
                    </a:lnTo>
                    <a:lnTo>
                      <a:pt x="1632" y="83"/>
                    </a:lnTo>
                    <a:lnTo>
                      <a:pt x="1658" y="83"/>
                    </a:lnTo>
                    <a:lnTo>
                      <a:pt x="1658" y="81"/>
                    </a:lnTo>
                    <a:lnTo>
                      <a:pt x="1659" y="80"/>
                    </a:lnTo>
                    <a:lnTo>
                      <a:pt x="1661" y="80"/>
                    </a:lnTo>
                    <a:lnTo>
                      <a:pt x="1663" y="79"/>
                    </a:lnTo>
                    <a:lnTo>
                      <a:pt x="1664" y="80"/>
                    </a:lnTo>
                    <a:lnTo>
                      <a:pt x="1666" y="80"/>
                    </a:lnTo>
                    <a:lnTo>
                      <a:pt x="1667" y="81"/>
                    </a:lnTo>
                    <a:lnTo>
                      <a:pt x="1667" y="83"/>
                    </a:lnTo>
                    <a:lnTo>
                      <a:pt x="1684" y="83"/>
                    </a:lnTo>
                    <a:lnTo>
                      <a:pt x="1684" y="81"/>
                    </a:lnTo>
                    <a:lnTo>
                      <a:pt x="1685" y="80"/>
                    </a:lnTo>
                    <a:lnTo>
                      <a:pt x="1687" y="80"/>
                    </a:lnTo>
                    <a:lnTo>
                      <a:pt x="1688" y="79"/>
                    </a:lnTo>
                    <a:lnTo>
                      <a:pt x="1690" y="80"/>
                    </a:lnTo>
                    <a:lnTo>
                      <a:pt x="1692" y="80"/>
                    </a:lnTo>
                    <a:lnTo>
                      <a:pt x="1692" y="81"/>
                    </a:lnTo>
                    <a:lnTo>
                      <a:pt x="1693" y="83"/>
                    </a:lnTo>
                    <a:lnTo>
                      <a:pt x="1706" y="83"/>
                    </a:lnTo>
                    <a:lnTo>
                      <a:pt x="1706" y="81"/>
                    </a:lnTo>
                    <a:lnTo>
                      <a:pt x="1707" y="80"/>
                    </a:lnTo>
                    <a:lnTo>
                      <a:pt x="1708" y="80"/>
                    </a:lnTo>
                    <a:lnTo>
                      <a:pt x="1710" y="79"/>
                    </a:lnTo>
                    <a:lnTo>
                      <a:pt x="1712" y="80"/>
                    </a:lnTo>
                    <a:lnTo>
                      <a:pt x="1714" y="80"/>
                    </a:lnTo>
                    <a:lnTo>
                      <a:pt x="1714" y="81"/>
                    </a:lnTo>
                    <a:lnTo>
                      <a:pt x="1715" y="83"/>
                    </a:lnTo>
                    <a:lnTo>
                      <a:pt x="1726" y="83"/>
                    </a:lnTo>
                    <a:lnTo>
                      <a:pt x="1727" y="81"/>
                    </a:lnTo>
                    <a:lnTo>
                      <a:pt x="1728" y="80"/>
                    </a:lnTo>
                    <a:lnTo>
                      <a:pt x="1729" y="80"/>
                    </a:lnTo>
                    <a:lnTo>
                      <a:pt x="1731" y="79"/>
                    </a:lnTo>
                    <a:lnTo>
                      <a:pt x="1733" y="80"/>
                    </a:lnTo>
                    <a:lnTo>
                      <a:pt x="1734" y="80"/>
                    </a:lnTo>
                    <a:lnTo>
                      <a:pt x="1735" y="81"/>
                    </a:lnTo>
                    <a:lnTo>
                      <a:pt x="1735" y="83"/>
                    </a:lnTo>
                    <a:lnTo>
                      <a:pt x="1740" y="83"/>
                    </a:lnTo>
                    <a:lnTo>
                      <a:pt x="1740" y="81"/>
                    </a:lnTo>
                    <a:lnTo>
                      <a:pt x="1741" y="80"/>
                    </a:lnTo>
                    <a:lnTo>
                      <a:pt x="1743" y="80"/>
                    </a:lnTo>
                    <a:lnTo>
                      <a:pt x="1744" y="79"/>
                    </a:lnTo>
                    <a:lnTo>
                      <a:pt x="1746" y="80"/>
                    </a:lnTo>
                    <a:lnTo>
                      <a:pt x="1748" y="80"/>
                    </a:lnTo>
                    <a:lnTo>
                      <a:pt x="1749" y="81"/>
                    </a:lnTo>
                    <a:lnTo>
                      <a:pt x="1749" y="83"/>
                    </a:lnTo>
                    <a:lnTo>
                      <a:pt x="1753" y="83"/>
                    </a:lnTo>
                    <a:lnTo>
                      <a:pt x="1754" y="81"/>
                    </a:lnTo>
                    <a:lnTo>
                      <a:pt x="1755" y="80"/>
                    </a:lnTo>
                    <a:lnTo>
                      <a:pt x="1756" y="80"/>
                    </a:lnTo>
                    <a:lnTo>
                      <a:pt x="1758" y="79"/>
                    </a:lnTo>
                    <a:lnTo>
                      <a:pt x="1760" y="80"/>
                    </a:lnTo>
                    <a:lnTo>
                      <a:pt x="1761" y="80"/>
                    </a:lnTo>
                    <a:lnTo>
                      <a:pt x="1762" y="81"/>
                    </a:lnTo>
                    <a:lnTo>
                      <a:pt x="1763" y="83"/>
                    </a:lnTo>
                    <a:lnTo>
                      <a:pt x="1794" y="83"/>
                    </a:lnTo>
                    <a:lnTo>
                      <a:pt x="1795" y="81"/>
                    </a:lnTo>
                    <a:lnTo>
                      <a:pt x="1795" y="80"/>
                    </a:lnTo>
                    <a:lnTo>
                      <a:pt x="1797" y="80"/>
                    </a:lnTo>
                    <a:lnTo>
                      <a:pt x="1799" y="79"/>
                    </a:lnTo>
                    <a:lnTo>
                      <a:pt x="1800" y="80"/>
                    </a:lnTo>
                    <a:lnTo>
                      <a:pt x="1802" y="80"/>
                    </a:lnTo>
                    <a:lnTo>
                      <a:pt x="1803" y="81"/>
                    </a:lnTo>
                    <a:lnTo>
                      <a:pt x="1803" y="83"/>
                    </a:lnTo>
                    <a:lnTo>
                      <a:pt x="1889" y="83"/>
                    </a:lnTo>
                    <a:lnTo>
                      <a:pt x="1889" y="81"/>
                    </a:lnTo>
                    <a:lnTo>
                      <a:pt x="1890" y="80"/>
                    </a:lnTo>
                    <a:lnTo>
                      <a:pt x="1891" y="80"/>
                    </a:lnTo>
                    <a:lnTo>
                      <a:pt x="1893" y="79"/>
                    </a:lnTo>
                    <a:lnTo>
                      <a:pt x="1895" y="80"/>
                    </a:lnTo>
                    <a:lnTo>
                      <a:pt x="1896" y="80"/>
                    </a:lnTo>
                    <a:lnTo>
                      <a:pt x="1897" y="81"/>
                    </a:lnTo>
                    <a:lnTo>
                      <a:pt x="1898" y="83"/>
                    </a:lnTo>
                    <a:lnTo>
                      <a:pt x="2024" y="83"/>
                    </a:lnTo>
                    <a:lnTo>
                      <a:pt x="2024" y="81"/>
                    </a:lnTo>
                    <a:lnTo>
                      <a:pt x="2025" y="80"/>
                    </a:lnTo>
                    <a:lnTo>
                      <a:pt x="2027" y="80"/>
                    </a:lnTo>
                    <a:lnTo>
                      <a:pt x="2028" y="79"/>
                    </a:lnTo>
                    <a:lnTo>
                      <a:pt x="2030" y="80"/>
                    </a:lnTo>
                    <a:lnTo>
                      <a:pt x="2031" y="80"/>
                    </a:lnTo>
                    <a:lnTo>
                      <a:pt x="2032" y="81"/>
                    </a:lnTo>
                    <a:lnTo>
                      <a:pt x="2033" y="83"/>
                    </a:lnTo>
                    <a:lnTo>
                      <a:pt x="2051" y="83"/>
                    </a:lnTo>
                    <a:lnTo>
                      <a:pt x="2051" y="81"/>
                    </a:lnTo>
                    <a:lnTo>
                      <a:pt x="2052" y="80"/>
                    </a:lnTo>
                    <a:lnTo>
                      <a:pt x="2054" y="80"/>
                    </a:lnTo>
                    <a:lnTo>
                      <a:pt x="2055" y="79"/>
                    </a:lnTo>
                    <a:lnTo>
                      <a:pt x="2057" y="80"/>
                    </a:lnTo>
                    <a:lnTo>
                      <a:pt x="2058" y="80"/>
                    </a:lnTo>
                    <a:lnTo>
                      <a:pt x="2060" y="81"/>
                    </a:lnTo>
                    <a:lnTo>
                      <a:pt x="2060" y="83"/>
                    </a:lnTo>
                    <a:lnTo>
                      <a:pt x="2061" y="83"/>
                    </a:lnTo>
                    <a:lnTo>
                      <a:pt x="2062" y="81"/>
                    </a:lnTo>
                    <a:lnTo>
                      <a:pt x="2063" y="80"/>
                    </a:lnTo>
                    <a:lnTo>
                      <a:pt x="2064" y="80"/>
                    </a:lnTo>
                    <a:lnTo>
                      <a:pt x="2066" y="79"/>
                    </a:lnTo>
                    <a:lnTo>
                      <a:pt x="2068" y="80"/>
                    </a:lnTo>
                    <a:lnTo>
                      <a:pt x="2069" y="80"/>
                    </a:lnTo>
                    <a:lnTo>
                      <a:pt x="2070" y="81"/>
                    </a:lnTo>
                    <a:lnTo>
                      <a:pt x="2070" y="83"/>
                    </a:lnTo>
                    <a:lnTo>
                      <a:pt x="2211" y="83"/>
                    </a:lnTo>
                    <a:lnTo>
                      <a:pt x="2212" y="81"/>
                    </a:lnTo>
                    <a:lnTo>
                      <a:pt x="2213" y="80"/>
                    </a:lnTo>
                    <a:lnTo>
                      <a:pt x="2214" y="80"/>
                    </a:lnTo>
                    <a:lnTo>
                      <a:pt x="2216" y="79"/>
                    </a:lnTo>
                    <a:lnTo>
                      <a:pt x="2218" y="80"/>
                    </a:lnTo>
                    <a:lnTo>
                      <a:pt x="2219" y="80"/>
                    </a:lnTo>
                    <a:lnTo>
                      <a:pt x="2220" y="81"/>
                    </a:lnTo>
                    <a:lnTo>
                      <a:pt x="2220" y="83"/>
                    </a:lnTo>
                    <a:lnTo>
                      <a:pt x="2293" y="83"/>
                    </a:lnTo>
                    <a:lnTo>
                      <a:pt x="2293" y="81"/>
                    </a:lnTo>
                    <a:lnTo>
                      <a:pt x="2294" y="80"/>
                    </a:lnTo>
                    <a:lnTo>
                      <a:pt x="2295" y="80"/>
                    </a:lnTo>
                    <a:lnTo>
                      <a:pt x="2297" y="79"/>
                    </a:lnTo>
                    <a:lnTo>
                      <a:pt x="2299" y="80"/>
                    </a:lnTo>
                    <a:lnTo>
                      <a:pt x="2300" y="80"/>
                    </a:lnTo>
                    <a:lnTo>
                      <a:pt x="2301" y="81"/>
                    </a:lnTo>
                    <a:lnTo>
                      <a:pt x="2302" y="83"/>
                    </a:lnTo>
                    <a:lnTo>
                      <a:pt x="2361" y="83"/>
                    </a:lnTo>
                    <a:lnTo>
                      <a:pt x="2362" y="81"/>
                    </a:lnTo>
                    <a:lnTo>
                      <a:pt x="2363" y="80"/>
                    </a:lnTo>
                    <a:lnTo>
                      <a:pt x="2364" y="80"/>
                    </a:lnTo>
                    <a:lnTo>
                      <a:pt x="2366" y="79"/>
                    </a:lnTo>
                    <a:lnTo>
                      <a:pt x="2368" y="80"/>
                    </a:lnTo>
                    <a:lnTo>
                      <a:pt x="2369" y="80"/>
                    </a:lnTo>
                    <a:lnTo>
                      <a:pt x="2370" y="81"/>
                    </a:lnTo>
                    <a:lnTo>
                      <a:pt x="2370" y="83"/>
                    </a:lnTo>
                    <a:lnTo>
                      <a:pt x="2388" y="83"/>
                    </a:lnTo>
                    <a:lnTo>
                      <a:pt x="2389" y="81"/>
                    </a:lnTo>
                    <a:lnTo>
                      <a:pt x="2390" y="80"/>
                    </a:lnTo>
                    <a:lnTo>
                      <a:pt x="2391" y="80"/>
                    </a:lnTo>
                    <a:lnTo>
                      <a:pt x="2393" y="79"/>
                    </a:lnTo>
                    <a:lnTo>
                      <a:pt x="2395" y="80"/>
                    </a:lnTo>
                    <a:lnTo>
                      <a:pt x="2396" y="80"/>
                    </a:lnTo>
                    <a:lnTo>
                      <a:pt x="2397" y="81"/>
                    </a:lnTo>
                    <a:lnTo>
                      <a:pt x="2397" y="83"/>
                    </a:lnTo>
                    <a:lnTo>
                      <a:pt x="2463" y="83"/>
                    </a:lnTo>
                    <a:lnTo>
                      <a:pt x="2463" y="81"/>
                    </a:lnTo>
                    <a:lnTo>
                      <a:pt x="2464" y="80"/>
                    </a:lnTo>
                    <a:lnTo>
                      <a:pt x="2466" y="80"/>
                    </a:lnTo>
                    <a:lnTo>
                      <a:pt x="2467" y="79"/>
                    </a:lnTo>
                    <a:lnTo>
                      <a:pt x="2469" y="80"/>
                    </a:lnTo>
                    <a:lnTo>
                      <a:pt x="2470" y="80"/>
                    </a:lnTo>
                    <a:lnTo>
                      <a:pt x="2471" y="81"/>
                    </a:lnTo>
                    <a:lnTo>
                      <a:pt x="2472" y="83"/>
                    </a:lnTo>
                    <a:lnTo>
                      <a:pt x="2476" y="83"/>
                    </a:lnTo>
                    <a:lnTo>
                      <a:pt x="2477" y="81"/>
                    </a:lnTo>
                    <a:lnTo>
                      <a:pt x="2478" y="80"/>
                    </a:lnTo>
                    <a:lnTo>
                      <a:pt x="2479" y="80"/>
                    </a:lnTo>
                    <a:lnTo>
                      <a:pt x="2481" y="79"/>
                    </a:lnTo>
                    <a:lnTo>
                      <a:pt x="2482" y="80"/>
                    </a:lnTo>
                    <a:lnTo>
                      <a:pt x="2484" y="80"/>
                    </a:lnTo>
                    <a:lnTo>
                      <a:pt x="2485" y="81"/>
                    </a:lnTo>
                    <a:lnTo>
                      <a:pt x="2485" y="83"/>
                    </a:lnTo>
                    <a:lnTo>
                      <a:pt x="2572" y="83"/>
                    </a:lnTo>
                    <a:lnTo>
                      <a:pt x="2573" y="81"/>
                    </a:lnTo>
                    <a:lnTo>
                      <a:pt x="2574" y="80"/>
                    </a:lnTo>
                    <a:lnTo>
                      <a:pt x="2575" y="80"/>
                    </a:lnTo>
                    <a:lnTo>
                      <a:pt x="2577" y="79"/>
                    </a:lnTo>
                    <a:lnTo>
                      <a:pt x="2579" y="80"/>
                    </a:lnTo>
                    <a:lnTo>
                      <a:pt x="2580" y="80"/>
                    </a:lnTo>
                    <a:lnTo>
                      <a:pt x="2581" y="81"/>
                    </a:lnTo>
                    <a:lnTo>
                      <a:pt x="2581" y="83"/>
                    </a:lnTo>
                    <a:lnTo>
                      <a:pt x="2600" y="83"/>
                    </a:lnTo>
                    <a:lnTo>
                      <a:pt x="2600" y="81"/>
                    </a:lnTo>
                    <a:lnTo>
                      <a:pt x="2601" y="80"/>
                    </a:lnTo>
                    <a:lnTo>
                      <a:pt x="2602" y="80"/>
                    </a:lnTo>
                    <a:lnTo>
                      <a:pt x="2604" y="79"/>
                    </a:lnTo>
                    <a:lnTo>
                      <a:pt x="2606" y="80"/>
                    </a:lnTo>
                    <a:lnTo>
                      <a:pt x="2607" y="80"/>
                    </a:lnTo>
                    <a:lnTo>
                      <a:pt x="2608" y="81"/>
                    </a:lnTo>
                    <a:lnTo>
                      <a:pt x="2609" y="83"/>
                    </a:lnTo>
                    <a:lnTo>
                      <a:pt x="2624" y="83"/>
                    </a:lnTo>
                    <a:lnTo>
                      <a:pt x="2625" y="81"/>
                    </a:lnTo>
                    <a:lnTo>
                      <a:pt x="2626" y="80"/>
                    </a:lnTo>
                    <a:lnTo>
                      <a:pt x="2627" y="80"/>
                    </a:lnTo>
                    <a:lnTo>
                      <a:pt x="2629" y="79"/>
                    </a:lnTo>
                    <a:lnTo>
                      <a:pt x="2630" y="80"/>
                    </a:lnTo>
                    <a:lnTo>
                      <a:pt x="2632" y="80"/>
                    </a:lnTo>
                    <a:lnTo>
                      <a:pt x="2633" y="81"/>
                    </a:lnTo>
                    <a:lnTo>
                      <a:pt x="2633" y="83"/>
                    </a:lnTo>
                    <a:lnTo>
                      <a:pt x="2643" y="83"/>
                    </a:lnTo>
                    <a:lnTo>
                      <a:pt x="2643" y="448"/>
                    </a:lnTo>
                    <a:lnTo>
                      <a:pt x="2712" y="448"/>
                    </a:lnTo>
                    <a:lnTo>
                      <a:pt x="2712" y="537"/>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5402160" y="261576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1" name=""/>
              <p:cNvSpPr/>
              <p:nvPr/>
            </p:nvSpPr>
            <p:spPr>
              <a:xfrm>
                <a:off x="8267040" y="332928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22" name=""/>
              <p:cNvSpPr/>
              <p:nvPr/>
            </p:nvSpPr>
            <p:spPr>
              <a:xfrm>
                <a:off x="4803120" y="3017880"/>
                <a:ext cx="191520" cy="112320"/>
              </a:xfrm>
              <a:prstGeom prst="rect">
                <a:avLst/>
              </a:prstGeom>
              <a:blipFill rotWithShape="0">
                <a:blip r:embed="rId9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869720" y="3024720"/>
                <a:ext cx="8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01-</a:t>
                </a:r>
                <a:endParaRPr b="0" lang="en-US" sz="300" spc="-1" strike="noStrike">
                  <a:solidFill>
                    <a:srgbClr val="ffffff"/>
                  </a:solidFill>
                  <a:latin typeface="Arial"/>
                </a:endParaRPr>
              </a:p>
            </p:txBody>
          </p:sp>
          <p:sp>
            <p:nvSpPr>
              <p:cNvPr id="924" name=""/>
              <p:cNvSpPr/>
              <p:nvPr/>
            </p:nvSpPr>
            <p:spPr>
              <a:xfrm>
                <a:off x="4828320" y="3055320"/>
                <a:ext cx="180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Employee</a:t>
                </a:r>
                <a:endParaRPr b="0" lang="en-US" sz="300" spc="-1" strike="noStrike">
                  <a:solidFill>
                    <a:srgbClr val="ffffff"/>
                  </a:solidFill>
                  <a:latin typeface="Arial"/>
                </a:endParaRPr>
              </a:p>
            </p:txBody>
          </p:sp>
          <p:sp>
            <p:nvSpPr>
              <p:cNvPr id="925" name=""/>
              <p:cNvSpPr/>
              <p:nvPr/>
            </p:nvSpPr>
            <p:spPr>
              <a:xfrm>
                <a:off x="4832280" y="3088800"/>
                <a:ext cx="17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sterfile</a:t>
                </a:r>
                <a:endParaRPr b="0" lang="en-US" sz="300" spc="-1" strike="noStrike">
                  <a:solidFill>
                    <a:srgbClr val="ffffff"/>
                  </a:solidFill>
                  <a:latin typeface="Arial"/>
                </a:endParaRPr>
              </a:p>
            </p:txBody>
          </p:sp>
          <p:sp>
            <p:nvSpPr>
              <p:cNvPr id="926" name=""/>
              <p:cNvSpPr/>
              <p:nvPr/>
            </p:nvSpPr>
            <p:spPr>
              <a:xfrm>
                <a:off x="4451400" y="2856240"/>
                <a:ext cx="339840" cy="189360"/>
              </a:xfrm>
              <a:custGeom>
                <a:avLst/>
                <a:gdLst/>
                <a:ahLst/>
                <a:rect l="l" t="t" r="r" b="b"/>
                <a:pathLst>
                  <a:path w="321" h="142">
                    <a:moveTo>
                      <a:pt x="0" y="0"/>
                    </a:moveTo>
                    <a:lnTo>
                      <a:pt x="8" y="0"/>
                    </a:lnTo>
                    <a:lnTo>
                      <a:pt x="8" y="142"/>
                    </a:lnTo>
                    <a:lnTo>
                      <a:pt x="18" y="142"/>
                    </a:lnTo>
                    <a:lnTo>
                      <a:pt x="19" y="141"/>
                    </a:lnTo>
                    <a:lnTo>
                      <a:pt x="20" y="140"/>
                    </a:lnTo>
                    <a:lnTo>
                      <a:pt x="21" y="139"/>
                    </a:lnTo>
                    <a:lnTo>
                      <a:pt x="23" y="139"/>
                    </a:lnTo>
                    <a:lnTo>
                      <a:pt x="24" y="139"/>
                    </a:lnTo>
                    <a:lnTo>
                      <a:pt x="26" y="140"/>
                    </a:lnTo>
                    <a:lnTo>
                      <a:pt x="27" y="141"/>
                    </a:lnTo>
                    <a:lnTo>
                      <a:pt x="27" y="142"/>
                    </a:lnTo>
                    <a:lnTo>
                      <a:pt x="67" y="142"/>
                    </a:lnTo>
                    <a:lnTo>
                      <a:pt x="68" y="141"/>
                    </a:lnTo>
                    <a:lnTo>
                      <a:pt x="69" y="139"/>
                    </a:lnTo>
                    <a:lnTo>
                      <a:pt x="70" y="138"/>
                    </a:lnTo>
                    <a:lnTo>
                      <a:pt x="72" y="137"/>
                    </a:lnTo>
                    <a:lnTo>
                      <a:pt x="74" y="136"/>
                    </a:lnTo>
                    <a:lnTo>
                      <a:pt x="76" y="136"/>
                    </a:lnTo>
                    <a:lnTo>
                      <a:pt x="78" y="137"/>
                    </a:lnTo>
                    <a:lnTo>
                      <a:pt x="80" y="138"/>
                    </a:lnTo>
                    <a:lnTo>
                      <a:pt x="82" y="139"/>
                    </a:lnTo>
                    <a:lnTo>
                      <a:pt x="83" y="141"/>
                    </a:lnTo>
                    <a:lnTo>
                      <a:pt x="83" y="142"/>
                    </a:lnTo>
                    <a:lnTo>
                      <a:pt x="88" y="142"/>
                    </a:lnTo>
                    <a:lnTo>
                      <a:pt x="88" y="141"/>
                    </a:lnTo>
                    <a:lnTo>
                      <a:pt x="89" y="140"/>
                    </a:lnTo>
                    <a:lnTo>
                      <a:pt x="90" y="139"/>
                    </a:lnTo>
                    <a:lnTo>
                      <a:pt x="92" y="139"/>
                    </a:lnTo>
                    <a:lnTo>
                      <a:pt x="94" y="139"/>
                    </a:lnTo>
                    <a:lnTo>
                      <a:pt x="95" y="140"/>
                    </a:lnTo>
                    <a:lnTo>
                      <a:pt x="96" y="141"/>
                    </a:lnTo>
                    <a:lnTo>
                      <a:pt x="97" y="142"/>
                    </a:lnTo>
                    <a:lnTo>
                      <a:pt x="104" y="142"/>
                    </a:lnTo>
                    <a:lnTo>
                      <a:pt x="104" y="141"/>
                    </a:lnTo>
                    <a:lnTo>
                      <a:pt x="105" y="140"/>
                    </a:lnTo>
                    <a:lnTo>
                      <a:pt x="107" y="139"/>
                    </a:lnTo>
                    <a:lnTo>
                      <a:pt x="108" y="139"/>
                    </a:lnTo>
                    <a:lnTo>
                      <a:pt x="110" y="139"/>
                    </a:lnTo>
                    <a:lnTo>
                      <a:pt x="112" y="140"/>
                    </a:lnTo>
                    <a:lnTo>
                      <a:pt x="113" y="141"/>
                    </a:lnTo>
                    <a:lnTo>
                      <a:pt x="113" y="142"/>
                    </a:lnTo>
                    <a:lnTo>
                      <a:pt x="127" y="142"/>
                    </a:lnTo>
                    <a:lnTo>
                      <a:pt x="128" y="141"/>
                    </a:lnTo>
                    <a:lnTo>
                      <a:pt x="128" y="140"/>
                    </a:lnTo>
                    <a:lnTo>
                      <a:pt x="130" y="139"/>
                    </a:lnTo>
                    <a:lnTo>
                      <a:pt x="132" y="139"/>
                    </a:lnTo>
                    <a:lnTo>
                      <a:pt x="133" y="139"/>
                    </a:lnTo>
                    <a:lnTo>
                      <a:pt x="135" y="140"/>
                    </a:lnTo>
                    <a:lnTo>
                      <a:pt x="136" y="141"/>
                    </a:lnTo>
                    <a:lnTo>
                      <a:pt x="136" y="142"/>
                    </a:lnTo>
                    <a:lnTo>
                      <a:pt x="160" y="142"/>
                    </a:lnTo>
                    <a:lnTo>
                      <a:pt x="160" y="140"/>
                    </a:lnTo>
                    <a:lnTo>
                      <a:pt x="161" y="139"/>
                    </a:lnTo>
                    <a:lnTo>
                      <a:pt x="163" y="137"/>
                    </a:lnTo>
                    <a:lnTo>
                      <a:pt x="165" y="136"/>
                    </a:lnTo>
                    <a:lnTo>
                      <a:pt x="167" y="136"/>
                    </a:lnTo>
                    <a:lnTo>
                      <a:pt x="169" y="136"/>
                    </a:lnTo>
                    <a:lnTo>
                      <a:pt x="172" y="136"/>
                    </a:lnTo>
                    <a:lnTo>
                      <a:pt x="174" y="137"/>
                    </a:lnTo>
                    <a:lnTo>
                      <a:pt x="175" y="139"/>
                    </a:lnTo>
                    <a:lnTo>
                      <a:pt x="176" y="140"/>
                    </a:lnTo>
                    <a:lnTo>
                      <a:pt x="176" y="142"/>
                    </a:lnTo>
                    <a:lnTo>
                      <a:pt x="183" y="142"/>
                    </a:lnTo>
                    <a:lnTo>
                      <a:pt x="183" y="141"/>
                    </a:lnTo>
                    <a:lnTo>
                      <a:pt x="184" y="140"/>
                    </a:lnTo>
                    <a:lnTo>
                      <a:pt x="186" y="139"/>
                    </a:lnTo>
                    <a:lnTo>
                      <a:pt x="187" y="139"/>
                    </a:lnTo>
                    <a:lnTo>
                      <a:pt x="189" y="139"/>
                    </a:lnTo>
                    <a:lnTo>
                      <a:pt x="191" y="140"/>
                    </a:lnTo>
                    <a:lnTo>
                      <a:pt x="191" y="141"/>
                    </a:lnTo>
                    <a:lnTo>
                      <a:pt x="192" y="142"/>
                    </a:lnTo>
                    <a:lnTo>
                      <a:pt x="192" y="142"/>
                    </a:lnTo>
                    <a:lnTo>
                      <a:pt x="193" y="141"/>
                    </a:lnTo>
                    <a:lnTo>
                      <a:pt x="194" y="140"/>
                    </a:lnTo>
                    <a:lnTo>
                      <a:pt x="195" y="139"/>
                    </a:lnTo>
                    <a:lnTo>
                      <a:pt x="197" y="139"/>
                    </a:lnTo>
                    <a:lnTo>
                      <a:pt x="198" y="139"/>
                    </a:lnTo>
                    <a:lnTo>
                      <a:pt x="200" y="140"/>
                    </a:lnTo>
                    <a:lnTo>
                      <a:pt x="201" y="141"/>
                    </a:lnTo>
                    <a:lnTo>
                      <a:pt x="201" y="142"/>
                    </a:lnTo>
                    <a:lnTo>
                      <a:pt x="210" y="142"/>
                    </a:lnTo>
                    <a:lnTo>
                      <a:pt x="211" y="141"/>
                    </a:lnTo>
                    <a:lnTo>
                      <a:pt x="212" y="140"/>
                    </a:lnTo>
                    <a:lnTo>
                      <a:pt x="213" y="139"/>
                    </a:lnTo>
                    <a:lnTo>
                      <a:pt x="215" y="139"/>
                    </a:lnTo>
                    <a:lnTo>
                      <a:pt x="217" y="139"/>
                    </a:lnTo>
                    <a:lnTo>
                      <a:pt x="218" y="140"/>
                    </a:lnTo>
                    <a:lnTo>
                      <a:pt x="219" y="141"/>
                    </a:lnTo>
                    <a:lnTo>
                      <a:pt x="219" y="142"/>
                    </a:lnTo>
                    <a:lnTo>
                      <a:pt x="230" y="142"/>
                    </a:lnTo>
                    <a:lnTo>
                      <a:pt x="231" y="141"/>
                    </a:lnTo>
                    <a:lnTo>
                      <a:pt x="231" y="140"/>
                    </a:lnTo>
                    <a:lnTo>
                      <a:pt x="233" y="139"/>
                    </a:lnTo>
                    <a:lnTo>
                      <a:pt x="235" y="139"/>
                    </a:lnTo>
                    <a:lnTo>
                      <a:pt x="236" y="139"/>
                    </a:lnTo>
                    <a:lnTo>
                      <a:pt x="238" y="140"/>
                    </a:lnTo>
                    <a:lnTo>
                      <a:pt x="239" y="141"/>
                    </a:lnTo>
                    <a:lnTo>
                      <a:pt x="239" y="142"/>
                    </a:lnTo>
                    <a:lnTo>
                      <a:pt x="240" y="142"/>
                    </a:lnTo>
                    <a:lnTo>
                      <a:pt x="241" y="141"/>
                    </a:lnTo>
                    <a:lnTo>
                      <a:pt x="242" y="140"/>
                    </a:lnTo>
                    <a:lnTo>
                      <a:pt x="243" y="139"/>
                    </a:lnTo>
                    <a:lnTo>
                      <a:pt x="245" y="139"/>
                    </a:lnTo>
                    <a:lnTo>
                      <a:pt x="246" y="139"/>
                    </a:lnTo>
                    <a:lnTo>
                      <a:pt x="248" y="140"/>
                    </a:lnTo>
                    <a:lnTo>
                      <a:pt x="249" y="141"/>
                    </a:lnTo>
                    <a:lnTo>
                      <a:pt x="249" y="142"/>
                    </a:lnTo>
                    <a:lnTo>
                      <a:pt x="284" y="142"/>
                    </a:lnTo>
                    <a:lnTo>
                      <a:pt x="285" y="141"/>
                    </a:lnTo>
                    <a:lnTo>
                      <a:pt x="285" y="140"/>
                    </a:lnTo>
                    <a:lnTo>
                      <a:pt x="287" y="139"/>
                    </a:lnTo>
                    <a:lnTo>
                      <a:pt x="289" y="139"/>
                    </a:lnTo>
                    <a:lnTo>
                      <a:pt x="290" y="139"/>
                    </a:lnTo>
                    <a:lnTo>
                      <a:pt x="292" y="140"/>
                    </a:lnTo>
                    <a:lnTo>
                      <a:pt x="293" y="141"/>
                    </a:lnTo>
                    <a:lnTo>
                      <a:pt x="293" y="142"/>
                    </a:lnTo>
                    <a:lnTo>
                      <a:pt x="321" y="1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4438800" y="2849760"/>
                <a:ext cx="13680" cy="1188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28" name=""/>
              <p:cNvSpPr/>
              <p:nvPr/>
            </p:nvSpPr>
            <p:spPr>
              <a:xfrm>
                <a:off x="4789080" y="3040560"/>
                <a:ext cx="13680" cy="11880"/>
              </a:xfrm>
              <a:custGeom>
                <a:avLst/>
                <a:gdLst/>
                <a:ahLst/>
                <a:rect l="l" t="t" r="r" b="b"/>
                <a:pathLst>
                  <a:path w="13" h="9">
                    <a:moveTo>
                      <a:pt x="2" y="0"/>
                    </a:moveTo>
                    <a:lnTo>
                      <a:pt x="13"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29" name=""/>
              <p:cNvSpPr/>
              <p:nvPr/>
            </p:nvSpPr>
            <p:spPr>
              <a:xfrm>
                <a:off x="3879720" y="2948400"/>
                <a:ext cx="912240" cy="122760"/>
              </a:xfrm>
              <a:custGeom>
                <a:avLst/>
                <a:gdLst/>
                <a:ahLst/>
                <a:rect l="l" t="t" r="r" b="b"/>
                <a:pathLst>
                  <a:path w="862" h="92">
                    <a:moveTo>
                      <a:pt x="0" y="0"/>
                    </a:moveTo>
                    <a:lnTo>
                      <a:pt x="0" y="21"/>
                    </a:lnTo>
                    <a:lnTo>
                      <a:pt x="48" y="21"/>
                    </a:lnTo>
                    <a:lnTo>
                      <a:pt x="48" y="92"/>
                    </a:lnTo>
                    <a:lnTo>
                      <a:pt x="132" y="92"/>
                    </a:lnTo>
                    <a:lnTo>
                      <a:pt x="132" y="91"/>
                    </a:lnTo>
                    <a:lnTo>
                      <a:pt x="133" y="90"/>
                    </a:lnTo>
                    <a:lnTo>
                      <a:pt x="135" y="89"/>
                    </a:lnTo>
                    <a:lnTo>
                      <a:pt x="136" y="88"/>
                    </a:lnTo>
                    <a:lnTo>
                      <a:pt x="138" y="89"/>
                    </a:lnTo>
                    <a:lnTo>
                      <a:pt x="139" y="90"/>
                    </a:lnTo>
                    <a:lnTo>
                      <a:pt x="140" y="91"/>
                    </a:lnTo>
                    <a:lnTo>
                      <a:pt x="141" y="92"/>
                    </a:lnTo>
                    <a:lnTo>
                      <a:pt x="167" y="92"/>
                    </a:lnTo>
                    <a:lnTo>
                      <a:pt x="168" y="91"/>
                    </a:lnTo>
                    <a:lnTo>
                      <a:pt x="169" y="90"/>
                    </a:lnTo>
                    <a:lnTo>
                      <a:pt x="170" y="89"/>
                    </a:lnTo>
                    <a:lnTo>
                      <a:pt x="172" y="88"/>
                    </a:lnTo>
                    <a:lnTo>
                      <a:pt x="174" y="89"/>
                    </a:lnTo>
                    <a:lnTo>
                      <a:pt x="175" y="90"/>
                    </a:lnTo>
                    <a:lnTo>
                      <a:pt x="176" y="91"/>
                    </a:lnTo>
                    <a:lnTo>
                      <a:pt x="176" y="92"/>
                    </a:lnTo>
                    <a:lnTo>
                      <a:pt x="356" y="92"/>
                    </a:lnTo>
                    <a:lnTo>
                      <a:pt x="356" y="91"/>
                    </a:lnTo>
                    <a:lnTo>
                      <a:pt x="357" y="90"/>
                    </a:lnTo>
                    <a:lnTo>
                      <a:pt x="359" y="89"/>
                    </a:lnTo>
                    <a:lnTo>
                      <a:pt x="361" y="88"/>
                    </a:lnTo>
                    <a:lnTo>
                      <a:pt x="362" y="89"/>
                    </a:lnTo>
                    <a:lnTo>
                      <a:pt x="364" y="90"/>
                    </a:lnTo>
                    <a:lnTo>
                      <a:pt x="365" y="91"/>
                    </a:lnTo>
                    <a:lnTo>
                      <a:pt x="365" y="92"/>
                    </a:lnTo>
                    <a:lnTo>
                      <a:pt x="383" y="92"/>
                    </a:lnTo>
                    <a:lnTo>
                      <a:pt x="383" y="91"/>
                    </a:lnTo>
                    <a:lnTo>
                      <a:pt x="384" y="90"/>
                    </a:lnTo>
                    <a:lnTo>
                      <a:pt x="385" y="89"/>
                    </a:lnTo>
                    <a:lnTo>
                      <a:pt x="387" y="88"/>
                    </a:lnTo>
                    <a:lnTo>
                      <a:pt x="389" y="89"/>
                    </a:lnTo>
                    <a:lnTo>
                      <a:pt x="390" y="90"/>
                    </a:lnTo>
                    <a:lnTo>
                      <a:pt x="391" y="91"/>
                    </a:lnTo>
                    <a:lnTo>
                      <a:pt x="392" y="92"/>
                    </a:lnTo>
                    <a:lnTo>
                      <a:pt x="558" y="92"/>
                    </a:lnTo>
                    <a:lnTo>
                      <a:pt x="559" y="91"/>
                    </a:lnTo>
                    <a:lnTo>
                      <a:pt x="560" y="90"/>
                    </a:lnTo>
                    <a:lnTo>
                      <a:pt x="561" y="89"/>
                    </a:lnTo>
                    <a:lnTo>
                      <a:pt x="563" y="88"/>
                    </a:lnTo>
                    <a:lnTo>
                      <a:pt x="564" y="89"/>
                    </a:lnTo>
                    <a:lnTo>
                      <a:pt x="566" y="90"/>
                    </a:lnTo>
                    <a:lnTo>
                      <a:pt x="567" y="91"/>
                    </a:lnTo>
                    <a:lnTo>
                      <a:pt x="567" y="92"/>
                    </a:lnTo>
                    <a:lnTo>
                      <a:pt x="607" y="92"/>
                    </a:lnTo>
                    <a:lnTo>
                      <a:pt x="608" y="90"/>
                    </a:lnTo>
                    <a:lnTo>
                      <a:pt x="609" y="89"/>
                    </a:lnTo>
                    <a:lnTo>
                      <a:pt x="610" y="87"/>
                    </a:lnTo>
                    <a:lnTo>
                      <a:pt x="612" y="87"/>
                    </a:lnTo>
                    <a:lnTo>
                      <a:pt x="614" y="86"/>
                    </a:lnTo>
                    <a:lnTo>
                      <a:pt x="616" y="86"/>
                    </a:lnTo>
                    <a:lnTo>
                      <a:pt x="619" y="87"/>
                    </a:lnTo>
                    <a:lnTo>
                      <a:pt x="620" y="87"/>
                    </a:lnTo>
                    <a:lnTo>
                      <a:pt x="622" y="89"/>
                    </a:lnTo>
                    <a:lnTo>
                      <a:pt x="623" y="90"/>
                    </a:lnTo>
                    <a:lnTo>
                      <a:pt x="623" y="92"/>
                    </a:lnTo>
                    <a:lnTo>
                      <a:pt x="628" y="92"/>
                    </a:lnTo>
                    <a:lnTo>
                      <a:pt x="628" y="91"/>
                    </a:lnTo>
                    <a:lnTo>
                      <a:pt x="629" y="90"/>
                    </a:lnTo>
                    <a:lnTo>
                      <a:pt x="630" y="89"/>
                    </a:lnTo>
                    <a:lnTo>
                      <a:pt x="632" y="88"/>
                    </a:lnTo>
                    <a:lnTo>
                      <a:pt x="634" y="89"/>
                    </a:lnTo>
                    <a:lnTo>
                      <a:pt x="635" y="90"/>
                    </a:lnTo>
                    <a:lnTo>
                      <a:pt x="636" y="91"/>
                    </a:lnTo>
                    <a:lnTo>
                      <a:pt x="637" y="92"/>
                    </a:lnTo>
                    <a:lnTo>
                      <a:pt x="644" y="92"/>
                    </a:lnTo>
                    <a:lnTo>
                      <a:pt x="644" y="91"/>
                    </a:lnTo>
                    <a:lnTo>
                      <a:pt x="645" y="90"/>
                    </a:lnTo>
                    <a:lnTo>
                      <a:pt x="647" y="89"/>
                    </a:lnTo>
                    <a:lnTo>
                      <a:pt x="648" y="88"/>
                    </a:lnTo>
                    <a:lnTo>
                      <a:pt x="650" y="89"/>
                    </a:lnTo>
                    <a:lnTo>
                      <a:pt x="652" y="90"/>
                    </a:lnTo>
                    <a:lnTo>
                      <a:pt x="653" y="91"/>
                    </a:lnTo>
                    <a:lnTo>
                      <a:pt x="653" y="92"/>
                    </a:lnTo>
                    <a:lnTo>
                      <a:pt x="667" y="92"/>
                    </a:lnTo>
                    <a:lnTo>
                      <a:pt x="668" y="91"/>
                    </a:lnTo>
                    <a:lnTo>
                      <a:pt x="668" y="90"/>
                    </a:lnTo>
                    <a:lnTo>
                      <a:pt x="670" y="89"/>
                    </a:lnTo>
                    <a:lnTo>
                      <a:pt x="672" y="88"/>
                    </a:lnTo>
                    <a:lnTo>
                      <a:pt x="673" y="89"/>
                    </a:lnTo>
                    <a:lnTo>
                      <a:pt x="675" y="90"/>
                    </a:lnTo>
                    <a:lnTo>
                      <a:pt x="676" y="91"/>
                    </a:lnTo>
                    <a:lnTo>
                      <a:pt x="676" y="92"/>
                    </a:lnTo>
                    <a:lnTo>
                      <a:pt x="700" y="92"/>
                    </a:lnTo>
                    <a:lnTo>
                      <a:pt x="700" y="90"/>
                    </a:lnTo>
                    <a:lnTo>
                      <a:pt x="701" y="89"/>
                    </a:lnTo>
                    <a:lnTo>
                      <a:pt x="703" y="87"/>
                    </a:lnTo>
                    <a:lnTo>
                      <a:pt x="705" y="86"/>
                    </a:lnTo>
                    <a:lnTo>
                      <a:pt x="707" y="86"/>
                    </a:lnTo>
                    <a:lnTo>
                      <a:pt x="709" y="86"/>
                    </a:lnTo>
                    <a:lnTo>
                      <a:pt x="712" y="86"/>
                    </a:lnTo>
                    <a:lnTo>
                      <a:pt x="714" y="87"/>
                    </a:lnTo>
                    <a:lnTo>
                      <a:pt x="715" y="89"/>
                    </a:lnTo>
                    <a:lnTo>
                      <a:pt x="716" y="90"/>
                    </a:lnTo>
                    <a:lnTo>
                      <a:pt x="717" y="92"/>
                    </a:lnTo>
                    <a:lnTo>
                      <a:pt x="723" y="92"/>
                    </a:lnTo>
                    <a:lnTo>
                      <a:pt x="723" y="91"/>
                    </a:lnTo>
                    <a:lnTo>
                      <a:pt x="724" y="90"/>
                    </a:lnTo>
                    <a:lnTo>
                      <a:pt x="726" y="89"/>
                    </a:lnTo>
                    <a:lnTo>
                      <a:pt x="727" y="88"/>
                    </a:lnTo>
                    <a:lnTo>
                      <a:pt x="729" y="89"/>
                    </a:lnTo>
                    <a:lnTo>
                      <a:pt x="731" y="90"/>
                    </a:lnTo>
                    <a:lnTo>
                      <a:pt x="731" y="91"/>
                    </a:lnTo>
                    <a:lnTo>
                      <a:pt x="732" y="92"/>
                    </a:lnTo>
                    <a:lnTo>
                      <a:pt x="732" y="92"/>
                    </a:lnTo>
                    <a:lnTo>
                      <a:pt x="733" y="91"/>
                    </a:lnTo>
                    <a:lnTo>
                      <a:pt x="734" y="90"/>
                    </a:lnTo>
                    <a:lnTo>
                      <a:pt x="735" y="89"/>
                    </a:lnTo>
                    <a:lnTo>
                      <a:pt x="737" y="88"/>
                    </a:lnTo>
                    <a:lnTo>
                      <a:pt x="738" y="89"/>
                    </a:lnTo>
                    <a:lnTo>
                      <a:pt x="740" y="90"/>
                    </a:lnTo>
                    <a:lnTo>
                      <a:pt x="741" y="91"/>
                    </a:lnTo>
                    <a:lnTo>
                      <a:pt x="741" y="92"/>
                    </a:lnTo>
                    <a:lnTo>
                      <a:pt x="750" y="92"/>
                    </a:lnTo>
                    <a:lnTo>
                      <a:pt x="751" y="91"/>
                    </a:lnTo>
                    <a:lnTo>
                      <a:pt x="752" y="90"/>
                    </a:lnTo>
                    <a:lnTo>
                      <a:pt x="753" y="89"/>
                    </a:lnTo>
                    <a:lnTo>
                      <a:pt x="755" y="88"/>
                    </a:lnTo>
                    <a:lnTo>
                      <a:pt x="757" y="89"/>
                    </a:lnTo>
                    <a:lnTo>
                      <a:pt x="758" y="90"/>
                    </a:lnTo>
                    <a:lnTo>
                      <a:pt x="759" y="91"/>
                    </a:lnTo>
                    <a:lnTo>
                      <a:pt x="759" y="92"/>
                    </a:lnTo>
                    <a:lnTo>
                      <a:pt x="770" y="92"/>
                    </a:lnTo>
                    <a:lnTo>
                      <a:pt x="771" y="91"/>
                    </a:lnTo>
                    <a:lnTo>
                      <a:pt x="771" y="90"/>
                    </a:lnTo>
                    <a:lnTo>
                      <a:pt x="773" y="89"/>
                    </a:lnTo>
                    <a:lnTo>
                      <a:pt x="775" y="88"/>
                    </a:lnTo>
                    <a:lnTo>
                      <a:pt x="776" y="89"/>
                    </a:lnTo>
                    <a:lnTo>
                      <a:pt x="778" y="90"/>
                    </a:lnTo>
                    <a:lnTo>
                      <a:pt x="779" y="91"/>
                    </a:lnTo>
                    <a:lnTo>
                      <a:pt x="779" y="92"/>
                    </a:lnTo>
                    <a:lnTo>
                      <a:pt x="780" y="92"/>
                    </a:lnTo>
                    <a:lnTo>
                      <a:pt x="781" y="91"/>
                    </a:lnTo>
                    <a:lnTo>
                      <a:pt x="782" y="90"/>
                    </a:lnTo>
                    <a:lnTo>
                      <a:pt x="783" y="89"/>
                    </a:lnTo>
                    <a:lnTo>
                      <a:pt x="785" y="88"/>
                    </a:lnTo>
                    <a:lnTo>
                      <a:pt x="786" y="89"/>
                    </a:lnTo>
                    <a:lnTo>
                      <a:pt x="788" y="90"/>
                    </a:lnTo>
                    <a:lnTo>
                      <a:pt x="789" y="91"/>
                    </a:lnTo>
                    <a:lnTo>
                      <a:pt x="789" y="92"/>
                    </a:lnTo>
                    <a:lnTo>
                      <a:pt x="824" y="92"/>
                    </a:lnTo>
                    <a:lnTo>
                      <a:pt x="825" y="91"/>
                    </a:lnTo>
                    <a:lnTo>
                      <a:pt x="825" y="90"/>
                    </a:lnTo>
                    <a:lnTo>
                      <a:pt x="827" y="89"/>
                    </a:lnTo>
                    <a:lnTo>
                      <a:pt x="829" y="88"/>
                    </a:lnTo>
                    <a:lnTo>
                      <a:pt x="830" y="89"/>
                    </a:lnTo>
                    <a:lnTo>
                      <a:pt x="832" y="90"/>
                    </a:lnTo>
                    <a:lnTo>
                      <a:pt x="833" y="91"/>
                    </a:lnTo>
                    <a:lnTo>
                      <a:pt x="833" y="92"/>
                    </a:lnTo>
                    <a:lnTo>
                      <a:pt x="862" y="9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4791240" y="306468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1" name=""/>
              <p:cNvSpPr/>
              <p:nvPr/>
            </p:nvSpPr>
            <p:spPr>
              <a:xfrm>
                <a:off x="4994640" y="3094200"/>
                <a:ext cx="2009160" cy="1330200"/>
              </a:xfrm>
              <a:custGeom>
                <a:avLst/>
                <a:gdLst/>
                <a:ahLst/>
                <a:rect l="l" t="t" r="r" b="b"/>
                <a:pathLst>
                  <a:path w="1898" h="996">
                    <a:moveTo>
                      <a:pt x="1898" y="996"/>
                    </a:moveTo>
                    <a:lnTo>
                      <a:pt x="1898" y="314"/>
                    </a:lnTo>
                    <a:lnTo>
                      <a:pt x="1890" y="314"/>
                    </a:lnTo>
                    <a:lnTo>
                      <a:pt x="1889" y="312"/>
                    </a:lnTo>
                    <a:lnTo>
                      <a:pt x="1888" y="311"/>
                    </a:lnTo>
                    <a:lnTo>
                      <a:pt x="1887" y="311"/>
                    </a:lnTo>
                    <a:lnTo>
                      <a:pt x="1885" y="310"/>
                    </a:lnTo>
                    <a:lnTo>
                      <a:pt x="1883" y="311"/>
                    </a:lnTo>
                    <a:lnTo>
                      <a:pt x="1882" y="311"/>
                    </a:lnTo>
                    <a:lnTo>
                      <a:pt x="1881" y="312"/>
                    </a:lnTo>
                    <a:lnTo>
                      <a:pt x="1881" y="314"/>
                    </a:lnTo>
                    <a:lnTo>
                      <a:pt x="1852" y="314"/>
                    </a:lnTo>
                    <a:lnTo>
                      <a:pt x="1852" y="312"/>
                    </a:lnTo>
                    <a:lnTo>
                      <a:pt x="1851" y="310"/>
                    </a:lnTo>
                    <a:lnTo>
                      <a:pt x="1849" y="309"/>
                    </a:lnTo>
                    <a:lnTo>
                      <a:pt x="1847" y="308"/>
                    </a:lnTo>
                    <a:lnTo>
                      <a:pt x="1845" y="307"/>
                    </a:lnTo>
                    <a:lnTo>
                      <a:pt x="1842" y="307"/>
                    </a:lnTo>
                    <a:lnTo>
                      <a:pt x="1840" y="308"/>
                    </a:lnTo>
                    <a:lnTo>
                      <a:pt x="1838" y="309"/>
                    </a:lnTo>
                    <a:lnTo>
                      <a:pt x="1836" y="310"/>
                    </a:lnTo>
                    <a:lnTo>
                      <a:pt x="1835" y="312"/>
                    </a:lnTo>
                    <a:lnTo>
                      <a:pt x="1835" y="314"/>
                    </a:lnTo>
                    <a:lnTo>
                      <a:pt x="1811" y="314"/>
                    </a:lnTo>
                    <a:lnTo>
                      <a:pt x="1811" y="312"/>
                    </a:lnTo>
                    <a:lnTo>
                      <a:pt x="1810" y="311"/>
                    </a:lnTo>
                    <a:lnTo>
                      <a:pt x="1809" y="311"/>
                    </a:lnTo>
                    <a:lnTo>
                      <a:pt x="1807" y="310"/>
                    </a:lnTo>
                    <a:lnTo>
                      <a:pt x="1805" y="311"/>
                    </a:lnTo>
                    <a:lnTo>
                      <a:pt x="1804" y="311"/>
                    </a:lnTo>
                    <a:lnTo>
                      <a:pt x="1803" y="312"/>
                    </a:lnTo>
                    <a:lnTo>
                      <a:pt x="1803" y="314"/>
                    </a:lnTo>
                    <a:lnTo>
                      <a:pt x="1768" y="314"/>
                    </a:lnTo>
                    <a:lnTo>
                      <a:pt x="1767" y="312"/>
                    </a:lnTo>
                    <a:lnTo>
                      <a:pt x="1766" y="311"/>
                    </a:lnTo>
                    <a:lnTo>
                      <a:pt x="1765" y="311"/>
                    </a:lnTo>
                    <a:lnTo>
                      <a:pt x="1763" y="310"/>
                    </a:lnTo>
                    <a:lnTo>
                      <a:pt x="1761" y="311"/>
                    </a:lnTo>
                    <a:lnTo>
                      <a:pt x="1760" y="311"/>
                    </a:lnTo>
                    <a:lnTo>
                      <a:pt x="1759" y="312"/>
                    </a:lnTo>
                    <a:lnTo>
                      <a:pt x="1759" y="314"/>
                    </a:lnTo>
                    <a:lnTo>
                      <a:pt x="1748" y="314"/>
                    </a:lnTo>
                    <a:lnTo>
                      <a:pt x="1748" y="312"/>
                    </a:lnTo>
                    <a:lnTo>
                      <a:pt x="1747" y="311"/>
                    </a:lnTo>
                    <a:lnTo>
                      <a:pt x="1745" y="311"/>
                    </a:lnTo>
                    <a:lnTo>
                      <a:pt x="1744" y="310"/>
                    </a:lnTo>
                    <a:lnTo>
                      <a:pt x="1742" y="311"/>
                    </a:lnTo>
                    <a:lnTo>
                      <a:pt x="1741" y="311"/>
                    </a:lnTo>
                    <a:lnTo>
                      <a:pt x="1740" y="312"/>
                    </a:lnTo>
                    <a:lnTo>
                      <a:pt x="1739" y="314"/>
                    </a:lnTo>
                    <a:lnTo>
                      <a:pt x="1643" y="314"/>
                    </a:lnTo>
                    <a:lnTo>
                      <a:pt x="1642" y="312"/>
                    </a:lnTo>
                    <a:lnTo>
                      <a:pt x="1641" y="311"/>
                    </a:lnTo>
                    <a:lnTo>
                      <a:pt x="1640" y="311"/>
                    </a:lnTo>
                    <a:lnTo>
                      <a:pt x="1638" y="310"/>
                    </a:lnTo>
                    <a:lnTo>
                      <a:pt x="1637" y="311"/>
                    </a:lnTo>
                    <a:lnTo>
                      <a:pt x="1635" y="311"/>
                    </a:lnTo>
                    <a:lnTo>
                      <a:pt x="1634" y="312"/>
                    </a:lnTo>
                    <a:lnTo>
                      <a:pt x="1634" y="314"/>
                    </a:lnTo>
                    <a:lnTo>
                      <a:pt x="1587" y="314"/>
                    </a:lnTo>
                    <a:lnTo>
                      <a:pt x="1587" y="312"/>
                    </a:lnTo>
                    <a:lnTo>
                      <a:pt x="1586" y="311"/>
                    </a:lnTo>
                    <a:lnTo>
                      <a:pt x="1584" y="311"/>
                    </a:lnTo>
                    <a:lnTo>
                      <a:pt x="1582" y="310"/>
                    </a:lnTo>
                    <a:lnTo>
                      <a:pt x="1581" y="311"/>
                    </a:lnTo>
                    <a:lnTo>
                      <a:pt x="1579" y="311"/>
                    </a:lnTo>
                    <a:lnTo>
                      <a:pt x="1578" y="312"/>
                    </a:lnTo>
                    <a:lnTo>
                      <a:pt x="1578" y="314"/>
                    </a:lnTo>
                    <a:lnTo>
                      <a:pt x="1526" y="314"/>
                    </a:lnTo>
                    <a:lnTo>
                      <a:pt x="1526" y="312"/>
                    </a:lnTo>
                    <a:lnTo>
                      <a:pt x="1524" y="311"/>
                    </a:lnTo>
                    <a:lnTo>
                      <a:pt x="1523" y="311"/>
                    </a:lnTo>
                    <a:lnTo>
                      <a:pt x="1521" y="310"/>
                    </a:lnTo>
                    <a:lnTo>
                      <a:pt x="1520" y="311"/>
                    </a:lnTo>
                    <a:lnTo>
                      <a:pt x="1518" y="311"/>
                    </a:lnTo>
                    <a:lnTo>
                      <a:pt x="1517" y="312"/>
                    </a:lnTo>
                    <a:lnTo>
                      <a:pt x="1517" y="314"/>
                    </a:lnTo>
                    <a:lnTo>
                      <a:pt x="1516" y="314"/>
                    </a:lnTo>
                    <a:lnTo>
                      <a:pt x="1515" y="312"/>
                    </a:lnTo>
                    <a:lnTo>
                      <a:pt x="1515" y="311"/>
                    </a:lnTo>
                    <a:lnTo>
                      <a:pt x="1513" y="310"/>
                    </a:lnTo>
                    <a:lnTo>
                      <a:pt x="1512" y="309"/>
                    </a:lnTo>
                    <a:lnTo>
                      <a:pt x="1510" y="309"/>
                    </a:lnTo>
                    <a:lnTo>
                      <a:pt x="1508" y="309"/>
                    </a:lnTo>
                    <a:lnTo>
                      <a:pt x="1506" y="310"/>
                    </a:lnTo>
                    <a:lnTo>
                      <a:pt x="1505" y="311"/>
                    </a:lnTo>
                    <a:lnTo>
                      <a:pt x="1504" y="312"/>
                    </a:lnTo>
                    <a:lnTo>
                      <a:pt x="1504" y="314"/>
                    </a:lnTo>
                    <a:lnTo>
                      <a:pt x="1490" y="314"/>
                    </a:lnTo>
                    <a:lnTo>
                      <a:pt x="1490" y="312"/>
                    </a:lnTo>
                    <a:lnTo>
                      <a:pt x="1489" y="311"/>
                    </a:lnTo>
                    <a:lnTo>
                      <a:pt x="1487" y="311"/>
                    </a:lnTo>
                    <a:lnTo>
                      <a:pt x="1486" y="310"/>
                    </a:lnTo>
                    <a:lnTo>
                      <a:pt x="1484" y="311"/>
                    </a:lnTo>
                    <a:lnTo>
                      <a:pt x="1483" y="311"/>
                    </a:lnTo>
                    <a:lnTo>
                      <a:pt x="1481" y="312"/>
                    </a:lnTo>
                    <a:lnTo>
                      <a:pt x="1481" y="314"/>
                    </a:lnTo>
                    <a:lnTo>
                      <a:pt x="1452" y="314"/>
                    </a:lnTo>
                    <a:lnTo>
                      <a:pt x="1452" y="9"/>
                    </a:lnTo>
                    <a:lnTo>
                      <a:pt x="1443" y="9"/>
                    </a:lnTo>
                    <a:lnTo>
                      <a:pt x="1443" y="7"/>
                    </a:lnTo>
                    <a:lnTo>
                      <a:pt x="1442" y="6"/>
                    </a:lnTo>
                    <a:lnTo>
                      <a:pt x="1441" y="5"/>
                    </a:lnTo>
                    <a:lnTo>
                      <a:pt x="1439" y="5"/>
                    </a:lnTo>
                    <a:lnTo>
                      <a:pt x="1437" y="5"/>
                    </a:lnTo>
                    <a:lnTo>
                      <a:pt x="1436" y="6"/>
                    </a:lnTo>
                    <a:lnTo>
                      <a:pt x="1435" y="7"/>
                    </a:lnTo>
                    <a:lnTo>
                      <a:pt x="1434" y="9"/>
                    </a:lnTo>
                    <a:lnTo>
                      <a:pt x="1432" y="9"/>
                    </a:lnTo>
                    <a:lnTo>
                      <a:pt x="1431" y="7"/>
                    </a:lnTo>
                    <a:lnTo>
                      <a:pt x="1430" y="6"/>
                    </a:lnTo>
                    <a:lnTo>
                      <a:pt x="1429" y="5"/>
                    </a:lnTo>
                    <a:lnTo>
                      <a:pt x="1427" y="5"/>
                    </a:lnTo>
                    <a:lnTo>
                      <a:pt x="1425" y="5"/>
                    </a:lnTo>
                    <a:lnTo>
                      <a:pt x="1424" y="6"/>
                    </a:lnTo>
                    <a:lnTo>
                      <a:pt x="1423" y="7"/>
                    </a:lnTo>
                    <a:lnTo>
                      <a:pt x="1423" y="9"/>
                    </a:lnTo>
                    <a:lnTo>
                      <a:pt x="1412" y="9"/>
                    </a:lnTo>
                    <a:lnTo>
                      <a:pt x="1412" y="7"/>
                    </a:lnTo>
                    <a:lnTo>
                      <a:pt x="1411" y="6"/>
                    </a:lnTo>
                    <a:lnTo>
                      <a:pt x="1409" y="5"/>
                    </a:lnTo>
                    <a:lnTo>
                      <a:pt x="1408" y="5"/>
                    </a:lnTo>
                    <a:lnTo>
                      <a:pt x="1406" y="5"/>
                    </a:lnTo>
                    <a:lnTo>
                      <a:pt x="1405" y="6"/>
                    </a:lnTo>
                    <a:lnTo>
                      <a:pt x="1404" y="7"/>
                    </a:lnTo>
                    <a:lnTo>
                      <a:pt x="1403" y="9"/>
                    </a:lnTo>
                    <a:lnTo>
                      <a:pt x="1392" y="9"/>
                    </a:lnTo>
                    <a:lnTo>
                      <a:pt x="1392" y="7"/>
                    </a:lnTo>
                    <a:lnTo>
                      <a:pt x="1391" y="6"/>
                    </a:lnTo>
                    <a:lnTo>
                      <a:pt x="1390" y="5"/>
                    </a:lnTo>
                    <a:lnTo>
                      <a:pt x="1388" y="5"/>
                    </a:lnTo>
                    <a:lnTo>
                      <a:pt x="1386" y="5"/>
                    </a:lnTo>
                    <a:lnTo>
                      <a:pt x="1385" y="6"/>
                    </a:lnTo>
                    <a:lnTo>
                      <a:pt x="1384" y="7"/>
                    </a:lnTo>
                    <a:lnTo>
                      <a:pt x="1383" y="9"/>
                    </a:lnTo>
                    <a:lnTo>
                      <a:pt x="1371" y="9"/>
                    </a:lnTo>
                    <a:lnTo>
                      <a:pt x="1370" y="7"/>
                    </a:lnTo>
                    <a:lnTo>
                      <a:pt x="1369" y="6"/>
                    </a:lnTo>
                    <a:lnTo>
                      <a:pt x="1368" y="5"/>
                    </a:lnTo>
                    <a:lnTo>
                      <a:pt x="1366" y="5"/>
                    </a:lnTo>
                    <a:lnTo>
                      <a:pt x="1365" y="5"/>
                    </a:lnTo>
                    <a:lnTo>
                      <a:pt x="1363" y="6"/>
                    </a:lnTo>
                    <a:lnTo>
                      <a:pt x="1362" y="7"/>
                    </a:lnTo>
                    <a:lnTo>
                      <a:pt x="1362" y="9"/>
                    </a:lnTo>
                    <a:lnTo>
                      <a:pt x="1347" y="9"/>
                    </a:lnTo>
                    <a:lnTo>
                      <a:pt x="1347" y="7"/>
                    </a:lnTo>
                    <a:lnTo>
                      <a:pt x="1346" y="6"/>
                    </a:lnTo>
                    <a:lnTo>
                      <a:pt x="1344" y="5"/>
                    </a:lnTo>
                    <a:lnTo>
                      <a:pt x="1343" y="5"/>
                    </a:lnTo>
                    <a:lnTo>
                      <a:pt x="1341" y="5"/>
                    </a:lnTo>
                    <a:lnTo>
                      <a:pt x="1339" y="6"/>
                    </a:lnTo>
                    <a:lnTo>
                      <a:pt x="1339" y="7"/>
                    </a:lnTo>
                    <a:lnTo>
                      <a:pt x="1338" y="9"/>
                    </a:lnTo>
                    <a:lnTo>
                      <a:pt x="1311" y="9"/>
                    </a:lnTo>
                    <a:lnTo>
                      <a:pt x="1311" y="7"/>
                    </a:lnTo>
                    <a:lnTo>
                      <a:pt x="1310" y="6"/>
                    </a:lnTo>
                    <a:lnTo>
                      <a:pt x="1308" y="4"/>
                    </a:lnTo>
                    <a:lnTo>
                      <a:pt x="1307" y="4"/>
                    </a:lnTo>
                    <a:lnTo>
                      <a:pt x="1304" y="4"/>
                    </a:lnTo>
                    <a:lnTo>
                      <a:pt x="1302" y="4"/>
                    </a:lnTo>
                    <a:lnTo>
                      <a:pt x="1300" y="4"/>
                    </a:lnTo>
                    <a:lnTo>
                      <a:pt x="1299" y="6"/>
                    </a:lnTo>
                    <a:lnTo>
                      <a:pt x="1298" y="7"/>
                    </a:lnTo>
                    <a:lnTo>
                      <a:pt x="1298" y="9"/>
                    </a:lnTo>
                    <a:lnTo>
                      <a:pt x="1290" y="9"/>
                    </a:lnTo>
                    <a:lnTo>
                      <a:pt x="1289" y="7"/>
                    </a:lnTo>
                    <a:lnTo>
                      <a:pt x="1288" y="6"/>
                    </a:lnTo>
                    <a:lnTo>
                      <a:pt x="1287" y="5"/>
                    </a:lnTo>
                    <a:lnTo>
                      <a:pt x="1285" y="5"/>
                    </a:lnTo>
                    <a:lnTo>
                      <a:pt x="1283" y="5"/>
                    </a:lnTo>
                    <a:lnTo>
                      <a:pt x="1282" y="6"/>
                    </a:lnTo>
                    <a:lnTo>
                      <a:pt x="1281" y="7"/>
                    </a:lnTo>
                    <a:lnTo>
                      <a:pt x="1281" y="9"/>
                    </a:lnTo>
                    <a:lnTo>
                      <a:pt x="1241" y="9"/>
                    </a:lnTo>
                    <a:lnTo>
                      <a:pt x="1240" y="7"/>
                    </a:lnTo>
                    <a:lnTo>
                      <a:pt x="1240" y="6"/>
                    </a:lnTo>
                    <a:lnTo>
                      <a:pt x="1238" y="5"/>
                    </a:lnTo>
                    <a:lnTo>
                      <a:pt x="1236" y="5"/>
                    </a:lnTo>
                    <a:lnTo>
                      <a:pt x="1234" y="5"/>
                    </a:lnTo>
                    <a:lnTo>
                      <a:pt x="1233" y="6"/>
                    </a:lnTo>
                    <a:lnTo>
                      <a:pt x="1232" y="7"/>
                    </a:lnTo>
                    <a:lnTo>
                      <a:pt x="1232" y="9"/>
                    </a:lnTo>
                    <a:lnTo>
                      <a:pt x="1219" y="9"/>
                    </a:lnTo>
                    <a:lnTo>
                      <a:pt x="1218" y="7"/>
                    </a:lnTo>
                    <a:lnTo>
                      <a:pt x="1218" y="5"/>
                    </a:lnTo>
                    <a:lnTo>
                      <a:pt x="1216" y="4"/>
                    </a:lnTo>
                    <a:lnTo>
                      <a:pt x="1214" y="3"/>
                    </a:lnTo>
                    <a:lnTo>
                      <a:pt x="1212" y="2"/>
                    </a:lnTo>
                    <a:lnTo>
                      <a:pt x="1210" y="2"/>
                    </a:lnTo>
                    <a:lnTo>
                      <a:pt x="1207" y="3"/>
                    </a:lnTo>
                    <a:lnTo>
                      <a:pt x="1205" y="4"/>
                    </a:lnTo>
                    <a:lnTo>
                      <a:pt x="1204" y="5"/>
                    </a:lnTo>
                    <a:lnTo>
                      <a:pt x="1203" y="7"/>
                    </a:lnTo>
                    <a:lnTo>
                      <a:pt x="1203" y="9"/>
                    </a:lnTo>
                    <a:lnTo>
                      <a:pt x="1148" y="9"/>
                    </a:lnTo>
                    <a:lnTo>
                      <a:pt x="1147" y="7"/>
                    </a:lnTo>
                    <a:lnTo>
                      <a:pt x="1147" y="6"/>
                    </a:lnTo>
                    <a:lnTo>
                      <a:pt x="1145" y="5"/>
                    </a:lnTo>
                    <a:lnTo>
                      <a:pt x="1143" y="5"/>
                    </a:lnTo>
                    <a:lnTo>
                      <a:pt x="1142" y="5"/>
                    </a:lnTo>
                    <a:lnTo>
                      <a:pt x="1140" y="6"/>
                    </a:lnTo>
                    <a:lnTo>
                      <a:pt x="1139" y="7"/>
                    </a:lnTo>
                    <a:lnTo>
                      <a:pt x="1139" y="9"/>
                    </a:lnTo>
                    <a:lnTo>
                      <a:pt x="1134" y="9"/>
                    </a:lnTo>
                    <a:lnTo>
                      <a:pt x="1134" y="7"/>
                    </a:lnTo>
                    <a:lnTo>
                      <a:pt x="1133" y="6"/>
                    </a:lnTo>
                    <a:lnTo>
                      <a:pt x="1132" y="5"/>
                    </a:lnTo>
                    <a:lnTo>
                      <a:pt x="1130" y="5"/>
                    </a:lnTo>
                    <a:lnTo>
                      <a:pt x="1128" y="5"/>
                    </a:lnTo>
                    <a:lnTo>
                      <a:pt x="1127" y="6"/>
                    </a:lnTo>
                    <a:lnTo>
                      <a:pt x="1126" y="7"/>
                    </a:lnTo>
                    <a:lnTo>
                      <a:pt x="1125" y="9"/>
                    </a:lnTo>
                    <a:lnTo>
                      <a:pt x="1104" y="9"/>
                    </a:lnTo>
                    <a:lnTo>
                      <a:pt x="1104" y="7"/>
                    </a:lnTo>
                    <a:lnTo>
                      <a:pt x="1103" y="6"/>
                    </a:lnTo>
                    <a:lnTo>
                      <a:pt x="1101" y="5"/>
                    </a:lnTo>
                    <a:lnTo>
                      <a:pt x="1100" y="5"/>
                    </a:lnTo>
                    <a:lnTo>
                      <a:pt x="1098" y="5"/>
                    </a:lnTo>
                    <a:lnTo>
                      <a:pt x="1096" y="6"/>
                    </a:lnTo>
                    <a:lnTo>
                      <a:pt x="1095" y="7"/>
                    </a:lnTo>
                    <a:lnTo>
                      <a:pt x="1095" y="9"/>
                    </a:lnTo>
                    <a:lnTo>
                      <a:pt x="1077" y="9"/>
                    </a:lnTo>
                    <a:lnTo>
                      <a:pt x="1077" y="7"/>
                    </a:lnTo>
                    <a:lnTo>
                      <a:pt x="1076" y="6"/>
                    </a:lnTo>
                    <a:lnTo>
                      <a:pt x="1074" y="5"/>
                    </a:lnTo>
                    <a:lnTo>
                      <a:pt x="1073" y="5"/>
                    </a:lnTo>
                    <a:lnTo>
                      <a:pt x="1071" y="5"/>
                    </a:lnTo>
                    <a:lnTo>
                      <a:pt x="1069" y="6"/>
                    </a:lnTo>
                    <a:lnTo>
                      <a:pt x="1068" y="7"/>
                    </a:lnTo>
                    <a:lnTo>
                      <a:pt x="1068" y="9"/>
                    </a:lnTo>
                    <a:lnTo>
                      <a:pt x="1011" y="9"/>
                    </a:lnTo>
                    <a:lnTo>
                      <a:pt x="1010" y="7"/>
                    </a:lnTo>
                    <a:lnTo>
                      <a:pt x="1009" y="5"/>
                    </a:lnTo>
                    <a:lnTo>
                      <a:pt x="1008" y="4"/>
                    </a:lnTo>
                    <a:lnTo>
                      <a:pt x="1005" y="2"/>
                    </a:lnTo>
                    <a:lnTo>
                      <a:pt x="1003" y="2"/>
                    </a:lnTo>
                    <a:lnTo>
                      <a:pt x="1001" y="2"/>
                    </a:lnTo>
                    <a:lnTo>
                      <a:pt x="998" y="2"/>
                    </a:lnTo>
                    <a:lnTo>
                      <a:pt x="996" y="4"/>
                    </a:lnTo>
                    <a:lnTo>
                      <a:pt x="994" y="5"/>
                    </a:lnTo>
                    <a:lnTo>
                      <a:pt x="993" y="7"/>
                    </a:lnTo>
                    <a:lnTo>
                      <a:pt x="993" y="9"/>
                    </a:lnTo>
                    <a:lnTo>
                      <a:pt x="986" y="9"/>
                    </a:lnTo>
                    <a:lnTo>
                      <a:pt x="986" y="7"/>
                    </a:lnTo>
                    <a:lnTo>
                      <a:pt x="985" y="6"/>
                    </a:lnTo>
                    <a:lnTo>
                      <a:pt x="984" y="5"/>
                    </a:lnTo>
                    <a:lnTo>
                      <a:pt x="982" y="5"/>
                    </a:lnTo>
                    <a:lnTo>
                      <a:pt x="980" y="5"/>
                    </a:lnTo>
                    <a:lnTo>
                      <a:pt x="979" y="6"/>
                    </a:lnTo>
                    <a:lnTo>
                      <a:pt x="978" y="7"/>
                    </a:lnTo>
                    <a:lnTo>
                      <a:pt x="977" y="9"/>
                    </a:lnTo>
                    <a:lnTo>
                      <a:pt x="954" y="9"/>
                    </a:lnTo>
                    <a:lnTo>
                      <a:pt x="953" y="7"/>
                    </a:lnTo>
                    <a:lnTo>
                      <a:pt x="953" y="6"/>
                    </a:lnTo>
                    <a:lnTo>
                      <a:pt x="951" y="4"/>
                    </a:lnTo>
                    <a:lnTo>
                      <a:pt x="949" y="4"/>
                    </a:lnTo>
                    <a:lnTo>
                      <a:pt x="947" y="4"/>
                    </a:lnTo>
                    <a:lnTo>
                      <a:pt x="945" y="4"/>
                    </a:lnTo>
                    <a:lnTo>
                      <a:pt x="943" y="4"/>
                    </a:lnTo>
                    <a:lnTo>
                      <a:pt x="942" y="6"/>
                    </a:lnTo>
                    <a:lnTo>
                      <a:pt x="941" y="7"/>
                    </a:lnTo>
                    <a:lnTo>
                      <a:pt x="941" y="9"/>
                    </a:lnTo>
                    <a:lnTo>
                      <a:pt x="932" y="9"/>
                    </a:lnTo>
                    <a:lnTo>
                      <a:pt x="932" y="7"/>
                    </a:lnTo>
                    <a:lnTo>
                      <a:pt x="931" y="6"/>
                    </a:lnTo>
                    <a:lnTo>
                      <a:pt x="929" y="5"/>
                    </a:lnTo>
                    <a:lnTo>
                      <a:pt x="927" y="5"/>
                    </a:lnTo>
                    <a:lnTo>
                      <a:pt x="926" y="5"/>
                    </a:lnTo>
                    <a:lnTo>
                      <a:pt x="924" y="6"/>
                    </a:lnTo>
                    <a:lnTo>
                      <a:pt x="923" y="7"/>
                    </a:lnTo>
                    <a:lnTo>
                      <a:pt x="923" y="9"/>
                    </a:lnTo>
                    <a:lnTo>
                      <a:pt x="916" y="9"/>
                    </a:lnTo>
                    <a:lnTo>
                      <a:pt x="916" y="7"/>
                    </a:lnTo>
                    <a:lnTo>
                      <a:pt x="915" y="6"/>
                    </a:lnTo>
                    <a:lnTo>
                      <a:pt x="913" y="5"/>
                    </a:lnTo>
                    <a:lnTo>
                      <a:pt x="912" y="5"/>
                    </a:lnTo>
                    <a:lnTo>
                      <a:pt x="910" y="5"/>
                    </a:lnTo>
                    <a:lnTo>
                      <a:pt x="908" y="6"/>
                    </a:lnTo>
                    <a:lnTo>
                      <a:pt x="907" y="7"/>
                    </a:lnTo>
                    <a:lnTo>
                      <a:pt x="907" y="9"/>
                    </a:lnTo>
                    <a:lnTo>
                      <a:pt x="898" y="9"/>
                    </a:lnTo>
                    <a:lnTo>
                      <a:pt x="898" y="7"/>
                    </a:lnTo>
                    <a:lnTo>
                      <a:pt x="897" y="5"/>
                    </a:lnTo>
                    <a:lnTo>
                      <a:pt x="895" y="3"/>
                    </a:lnTo>
                    <a:lnTo>
                      <a:pt x="893" y="1"/>
                    </a:lnTo>
                    <a:lnTo>
                      <a:pt x="891" y="0"/>
                    </a:lnTo>
                    <a:lnTo>
                      <a:pt x="888" y="0"/>
                    </a:lnTo>
                    <a:lnTo>
                      <a:pt x="885" y="0"/>
                    </a:lnTo>
                    <a:lnTo>
                      <a:pt x="883" y="0"/>
                    </a:lnTo>
                    <a:lnTo>
                      <a:pt x="880" y="1"/>
                    </a:lnTo>
                    <a:lnTo>
                      <a:pt x="878" y="3"/>
                    </a:lnTo>
                    <a:lnTo>
                      <a:pt x="877" y="5"/>
                    </a:lnTo>
                    <a:lnTo>
                      <a:pt x="876" y="7"/>
                    </a:lnTo>
                    <a:lnTo>
                      <a:pt x="876" y="9"/>
                    </a:lnTo>
                    <a:lnTo>
                      <a:pt x="841" y="9"/>
                    </a:lnTo>
                    <a:lnTo>
                      <a:pt x="840" y="7"/>
                    </a:lnTo>
                    <a:lnTo>
                      <a:pt x="839" y="6"/>
                    </a:lnTo>
                    <a:lnTo>
                      <a:pt x="838" y="5"/>
                    </a:lnTo>
                    <a:lnTo>
                      <a:pt x="836" y="5"/>
                    </a:lnTo>
                    <a:lnTo>
                      <a:pt x="834" y="5"/>
                    </a:lnTo>
                    <a:lnTo>
                      <a:pt x="833" y="6"/>
                    </a:lnTo>
                    <a:lnTo>
                      <a:pt x="832" y="7"/>
                    </a:lnTo>
                    <a:lnTo>
                      <a:pt x="832" y="9"/>
                    </a:lnTo>
                    <a:lnTo>
                      <a:pt x="821" y="9"/>
                    </a:lnTo>
                    <a:lnTo>
                      <a:pt x="820" y="7"/>
                    </a:lnTo>
                    <a:lnTo>
                      <a:pt x="819" y="6"/>
                    </a:lnTo>
                    <a:lnTo>
                      <a:pt x="818" y="5"/>
                    </a:lnTo>
                    <a:lnTo>
                      <a:pt x="816" y="5"/>
                    </a:lnTo>
                    <a:lnTo>
                      <a:pt x="815" y="5"/>
                    </a:lnTo>
                    <a:lnTo>
                      <a:pt x="813" y="6"/>
                    </a:lnTo>
                    <a:lnTo>
                      <a:pt x="812" y="7"/>
                    </a:lnTo>
                    <a:lnTo>
                      <a:pt x="812" y="9"/>
                    </a:lnTo>
                    <a:lnTo>
                      <a:pt x="788" y="9"/>
                    </a:lnTo>
                    <a:lnTo>
                      <a:pt x="788" y="7"/>
                    </a:lnTo>
                    <a:lnTo>
                      <a:pt x="787" y="6"/>
                    </a:lnTo>
                    <a:lnTo>
                      <a:pt x="785" y="5"/>
                    </a:lnTo>
                    <a:lnTo>
                      <a:pt x="784" y="5"/>
                    </a:lnTo>
                    <a:lnTo>
                      <a:pt x="782" y="5"/>
                    </a:lnTo>
                    <a:lnTo>
                      <a:pt x="781" y="6"/>
                    </a:lnTo>
                    <a:lnTo>
                      <a:pt x="780" y="7"/>
                    </a:lnTo>
                    <a:lnTo>
                      <a:pt x="779" y="9"/>
                    </a:lnTo>
                    <a:lnTo>
                      <a:pt x="777" y="9"/>
                    </a:lnTo>
                    <a:lnTo>
                      <a:pt x="777" y="7"/>
                    </a:lnTo>
                    <a:lnTo>
                      <a:pt x="776" y="6"/>
                    </a:lnTo>
                    <a:lnTo>
                      <a:pt x="774" y="4"/>
                    </a:lnTo>
                    <a:lnTo>
                      <a:pt x="773" y="4"/>
                    </a:lnTo>
                    <a:lnTo>
                      <a:pt x="771" y="4"/>
                    </a:lnTo>
                    <a:lnTo>
                      <a:pt x="769" y="4"/>
                    </a:lnTo>
                    <a:lnTo>
                      <a:pt x="767" y="4"/>
                    </a:lnTo>
                    <a:lnTo>
                      <a:pt x="765" y="6"/>
                    </a:lnTo>
                    <a:lnTo>
                      <a:pt x="764" y="7"/>
                    </a:lnTo>
                    <a:lnTo>
                      <a:pt x="764" y="9"/>
                    </a:lnTo>
                    <a:lnTo>
                      <a:pt x="760" y="9"/>
                    </a:lnTo>
                    <a:lnTo>
                      <a:pt x="759" y="7"/>
                    </a:lnTo>
                    <a:lnTo>
                      <a:pt x="758" y="6"/>
                    </a:lnTo>
                    <a:lnTo>
                      <a:pt x="757" y="5"/>
                    </a:lnTo>
                    <a:lnTo>
                      <a:pt x="755" y="5"/>
                    </a:lnTo>
                    <a:lnTo>
                      <a:pt x="753" y="5"/>
                    </a:lnTo>
                    <a:lnTo>
                      <a:pt x="752" y="6"/>
                    </a:lnTo>
                    <a:lnTo>
                      <a:pt x="751" y="7"/>
                    </a:lnTo>
                    <a:lnTo>
                      <a:pt x="751" y="9"/>
                    </a:lnTo>
                    <a:lnTo>
                      <a:pt x="626" y="9"/>
                    </a:lnTo>
                    <a:lnTo>
                      <a:pt x="626" y="7"/>
                    </a:lnTo>
                    <a:lnTo>
                      <a:pt x="625" y="6"/>
                    </a:lnTo>
                    <a:lnTo>
                      <a:pt x="623" y="5"/>
                    </a:lnTo>
                    <a:lnTo>
                      <a:pt x="622" y="5"/>
                    </a:lnTo>
                    <a:lnTo>
                      <a:pt x="620" y="5"/>
                    </a:lnTo>
                    <a:lnTo>
                      <a:pt x="618" y="6"/>
                    </a:lnTo>
                    <a:lnTo>
                      <a:pt x="617" y="7"/>
                    </a:lnTo>
                    <a:lnTo>
                      <a:pt x="617" y="9"/>
                    </a:lnTo>
                    <a:lnTo>
                      <a:pt x="580" y="9"/>
                    </a:lnTo>
                    <a:lnTo>
                      <a:pt x="580" y="7"/>
                    </a:lnTo>
                    <a:lnTo>
                      <a:pt x="579" y="6"/>
                    </a:lnTo>
                    <a:lnTo>
                      <a:pt x="578" y="5"/>
                    </a:lnTo>
                    <a:lnTo>
                      <a:pt x="576" y="5"/>
                    </a:lnTo>
                    <a:lnTo>
                      <a:pt x="574" y="5"/>
                    </a:lnTo>
                    <a:lnTo>
                      <a:pt x="573" y="6"/>
                    </a:lnTo>
                    <a:lnTo>
                      <a:pt x="572" y="7"/>
                    </a:lnTo>
                    <a:lnTo>
                      <a:pt x="571" y="9"/>
                    </a:lnTo>
                    <a:lnTo>
                      <a:pt x="515" y="9"/>
                    </a:lnTo>
                    <a:lnTo>
                      <a:pt x="514" y="7"/>
                    </a:lnTo>
                    <a:lnTo>
                      <a:pt x="513" y="6"/>
                    </a:lnTo>
                    <a:lnTo>
                      <a:pt x="512" y="5"/>
                    </a:lnTo>
                    <a:lnTo>
                      <a:pt x="510" y="5"/>
                    </a:lnTo>
                    <a:lnTo>
                      <a:pt x="508" y="5"/>
                    </a:lnTo>
                    <a:lnTo>
                      <a:pt x="507" y="6"/>
                    </a:lnTo>
                    <a:lnTo>
                      <a:pt x="506" y="7"/>
                    </a:lnTo>
                    <a:lnTo>
                      <a:pt x="506" y="9"/>
                    </a:lnTo>
                    <a:lnTo>
                      <a:pt x="503" y="9"/>
                    </a:lnTo>
                    <a:lnTo>
                      <a:pt x="502" y="7"/>
                    </a:lnTo>
                    <a:lnTo>
                      <a:pt x="502" y="6"/>
                    </a:lnTo>
                    <a:lnTo>
                      <a:pt x="500" y="5"/>
                    </a:lnTo>
                    <a:lnTo>
                      <a:pt x="498" y="5"/>
                    </a:lnTo>
                    <a:lnTo>
                      <a:pt x="497" y="5"/>
                    </a:lnTo>
                    <a:lnTo>
                      <a:pt x="495" y="6"/>
                    </a:lnTo>
                    <a:lnTo>
                      <a:pt x="494" y="7"/>
                    </a:lnTo>
                    <a:lnTo>
                      <a:pt x="494" y="9"/>
                    </a:lnTo>
                    <a:lnTo>
                      <a:pt x="487" y="9"/>
                    </a:lnTo>
                    <a:lnTo>
                      <a:pt x="486" y="7"/>
                    </a:lnTo>
                    <a:lnTo>
                      <a:pt x="486" y="6"/>
                    </a:lnTo>
                    <a:lnTo>
                      <a:pt x="484" y="5"/>
                    </a:lnTo>
                    <a:lnTo>
                      <a:pt x="482" y="5"/>
                    </a:lnTo>
                    <a:lnTo>
                      <a:pt x="481" y="5"/>
                    </a:lnTo>
                    <a:lnTo>
                      <a:pt x="479" y="6"/>
                    </a:lnTo>
                    <a:lnTo>
                      <a:pt x="478" y="7"/>
                    </a:lnTo>
                    <a:lnTo>
                      <a:pt x="478" y="9"/>
                    </a:lnTo>
                    <a:lnTo>
                      <a:pt x="463" y="9"/>
                    </a:lnTo>
                    <a:lnTo>
                      <a:pt x="463" y="7"/>
                    </a:lnTo>
                    <a:lnTo>
                      <a:pt x="462" y="5"/>
                    </a:lnTo>
                    <a:lnTo>
                      <a:pt x="461" y="4"/>
                    </a:lnTo>
                    <a:lnTo>
                      <a:pt x="459" y="3"/>
                    </a:lnTo>
                    <a:lnTo>
                      <a:pt x="456" y="2"/>
                    </a:lnTo>
                    <a:lnTo>
                      <a:pt x="454" y="2"/>
                    </a:lnTo>
                    <a:lnTo>
                      <a:pt x="452" y="3"/>
                    </a:lnTo>
                    <a:lnTo>
                      <a:pt x="450" y="4"/>
                    </a:lnTo>
                    <a:lnTo>
                      <a:pt x="448" y="5"/>
                    </a:lnTo>
                    <a:lnTo>
                      <a:pt x="447" y="7"/>
                    </a:lnTo>
                    <a:lnTo>
                      <a:pt x="447" y="9"/>
                    </a:lnTo>
                    <a:lnTo>
                      <a:pt x="443" y="9"/>
                    </a:lnTo>
                    <a:lnTo>
                      <a:pt x="442" y="7"/>
                    </a:lnTo>
                    <a:lnTo>
                      <a:pt x="441" y="5"/>
                    </a:lnTo>
                    <a:lnTo>
                      <a:pt x="440" y="4"/>
                    </a:lnTo>
                    <a:lnTo>
                      <a:pt x="437" y="3"/>
                    </a:lnTo>
                    <a:lnTo>
                      <a:pt x="435" y="2"/>
                    </a:lnTo>
                    <a:lnTo>
                      <a:pt x="433" y="2"/>
                    </a:lnTo>
                    <a:lnTo>
                      <a:pt x="430" y="3"/>
                    </a:lnTo>
                    <a:lnTo>
                      <a:pt x="428" y="4"/>
                    </a:lnTo>
                    <a:lnTo>
                      <a:pt x="427" y="5"/>
                    </a:lnTo>
                    <a:lnTo>
                      <a:pt x="426" y="7"/>
                    </a:lnTo>
                    <a:lnTo>
                      <a:pt x="425" y="9"/>
                    </a:lnTo>
                    <a:lnTo>
                      <a:pt x="423" y="9"/>
                    </a:lnTo>
                    <a:lnTo>
                      <a:pt x="423" y="7"/>
                    </a:lnTo>
                    <a:lnTo>
                      <a:pt x="422" y="6"/>
                    </a:lnTo>
                    <a:lnTo>
                      <a:pt x="421" y="5"/>
                    </a:lnTo>
                    <a:lnTo>
                      <a:pt x="419" y="5"/>
                    </a:lnTo>
                    <a:lnTo>
                      <a:pt x="417" y="5"/>
                    </a:lnTo>
                    <a:lnTo>
                      <a:pt x="416" y="6"/>
                    </a:lnTo>
                    <a:lnTo>
                      <a:pt x="415" y="7"/>
                    </a:lnTo>
                    <a:lnTo>
                      <a:pt x="415" y="9"/>
                    </a:lnTo>
                    <a:lnTo>
                      <a:pt x="414" y="9"/>
                    </a:lnTo>
                    <a:lnTo>
                      <a:pt x="414" y="7"/>
                    </a:lnTo>
                    <a:lnTo>
                      <a:pt x="413" y="6"/>
                    </a:lnTo>
                    <a:lnTo>
                      <a:pt x="411" y="5"/>
                    </a:lnTo>
                    <a:lnTo>
                      <a:pt x="409" y="5"/>
                    </a:lnTo>
                    <a:lnTo>
                      <a:pt x="408" y="5"/>
                    </a:lnTo>
                    <a:lnTo>
                      <a:pt x="406" y="6"/>
                    </a:lnTo>
                    <a:lnTo>
                      <a:pt x="405" y="7"/>
                    </a:lnTo>
                    <a:lnTo>
                      <a:pt x="405" y="9"/>
                    </a:lnTo>
                    <a:lnTo>
                      <a:pt x="403" y="9"/>
                    </a:lnTo>
                    <a:lnTo>
                      <a:pt x="403" y="7"/>
                    </a:lnTo>
                    <a:lnTo>
                      <a:pt x="401" y="6"/>
                    </a:lnTo>
                    <a:lnTo>
                      <a:pt x="400" y="5"/>
                    </a:lnTo>
                    <a:lnTo>
                      <a:pt x="398" y="5"/>
                    </a:lnTo>
                    <a:lnTo>
                      <a:pt x="397" y="5"/>
                    </a:lnTo>
                    <a:lnTo>
                      <a:pt x="395" y="6"/>
                    </a:lnTo>
                    <a:lnTo>
                      <a:pt x="394" y="7"/>
                    </a:lnTo>
                    <a:lnTo>
                      <a:pt x="394" y="9"/>
                    </a:lnTo>
                    <a:lnTo>
                      <a:pt x="383" y="9"/>
                    </a:lnTo>
                    <a:lnTo>
                      <a:pt x="383" y="7"/>
                    </a:lnTo>
                    <a:lnTo>
                      <a:pt x="382" y="6"/>
                    </a:lnTo>
                    <a:lnTo>
                      <a:pt x="380" y="5"/>
                    </a:lnTo>
                    <a:lnTo>
                      <a:pt x="378" y="5"/>
                    </a:lnTo>
                    <a:lnTo>
                      <a:pt x="377" y="5"/>
                    </a:lnTo>
                    <a:lnTo>
                      <a:pt x="375" y="6"/>
                    </a:lnTo>
                    <a:lnTo>
                      <a:pt x="374" y="7"/>
                    </a:lnTo>
                    <a:lnTo>
                      <a:pt x="374" y="9"/>
                    </a:lnTo>
                    <a:lnTo>
                      <a:pt x="345" y="9"/>
                    </a:lnTo>
                    <a:lnTo>
                      <a:pt x="345" y="7"/>
                    </a:lnTo>
                    <a:lnTo>
                      <a:pt x="344" y="6"/>
                    </a:lnTo>
                    <a:lnTo>
                      <a:pt x="342" y="5"/>
                    </a:lnTo>
                    <a:lnTo>
                      <a:pt x="341" y="5"/>
                    </a:lnTo>
                    <a:lnTo>
                      <a:pt x="339" y="5"/>
                    </a:lnTo>
                    <a:lnTo>
                      <a:pt x="337" y="6"/>
                    </a:lnTo>
                    <a:lnTo>
                      <a:pt x="336" y="7"/>
                    </a:lnTo>
                    <a:lnTo>
                      <a:pt x="336" y="9"/>
                    </a:lnTo>
                    <a:lnTo>
                      <a:pt x="317" y="9"/>
                    </a:lnTo>
                    <a:lnTo>
                      <a:pt x="317" y="7"/>
                    </a:lnTo>
                    <a:lnTo>
                      <a:pt x="316" y="6"/>
                    </a:lnTo>
                    <a:lnTo>
                      <a:pt x="314" y="5"/>
                    </a:lnTo>
                    <a:lnTo>
                      <a:pt x="313" y="5"/>
                    </a:lnTo>
                    <a:lnTo>
                      <a:pt x="311" y="5"/>
                    </a:lnTo>
                    <a:lnTo>
                      <a:pt x="309" y="6"/>
                    </a:lnTo>
                    <a:lnTo>
                      <a:pt x="308" y="7"/>
                    </a:lnTo>
                    <a:lnTo>
                      <a:pt x="308" y="9"/>
                    </a:lnTo>
                    <a:lnTo>
                      <a:pt x="229" y="9"/>
                    </a:lnTo>
                    <a:lnTo>
                      <a:pt x="229" y="7"/>
                    </a:lnTo>
                    <a:lnTo>
                      <a:pt x="228" y="6"/>
                    </a:lnTo>
                    <a:lnTo>
                      <a:pt x="226" y="5"/>
                    </a:lnTo>
                    <a:lnTo>
                      <a:pt x="225" y="5"/>
                    </a:lnTo>
                    <a:lnTo>
                      <a:pt x="223" y="5"/>
                    </a:lnTo>
                    <a:lnTo>
                      <a:pt x="221" y="6"/>
                    </a:lnTo>
                    <a:lnTo>
                      <a:pt x="220" y="7"/>
                    </a:lnTo>
                    <a:lnTo>
                      <a:pt x="220" y="9"/>
                    </a:lnTo>
                    <a:lnTo>
                      <a:pt x="200" y="9"/>
                    </a:lnTo>
                    <a:lnTo>
                      <a:pt x="199" y="7"/>
                    </a:lnTo>
                    <a:lnTo>
                      <a:pt x="198" y="6"/>
                    </a:lnTo>
                    <a:lnTo>
                      <a:pt x="197" y="5"/>
                    </a:lnTo>
                    <a:lnTo>
                      <a:pt x="195" y="5"/>
                    </a:lnTo>
                    <a:lnTo>
                      <a:pt x="193" y="5"/>
                    </a:lnTo>
                    <a:lnTo>
                      <a:pt x="192" y="6"/>
                    </a:lnTo>
                    <a:lnTo>
                      <a:pt x="191" y="7"/>
                    </a:lnTo>
                    <a:lnTo>
                      <a:pt x="191" y="9"/>
                    </a:lnTo>
                    <a:lnTo>
                      <a:pt x="182" y="9"/>
                    </a:lnTo>
                    <a:lnTo>
                      <a:pt x="182" y="7"/>
                    </a:lnTo>
                    <a:lnTo>
                      <a:pt x="181" y="6"/>
                    </a:lnTo>
                    <a:lnTo>
                      <a:pt x="179" y="5"/>
                    </a:lnTo>
                    <a:lnTo>
                      <a:pt x="178" y="5"/>
                    </a:lnTo>
                    <a:lnTo>
                      <a:pt x="176" y="5"/>
                    </a:lnTo>
                    <a:lnTo>
                      <a:pt x="174" y="6"/>
                    </a:lnTo>
                    <a:lnTo>
                      <a:pt x="173" y="7"/>
                    </a:lnTo>
                    <a:lnTo>
                      <a:pt x="173" y="9"/>
                    </a:lnTo>
                    <a:lnTo>
                      <a:pt x="167" y="9"/>
                    </a:lnTo>
                    <a:lnTo>
                      <a:pt x="166" y="7"/>
                    </a:lnTo>
                    <a:lnTo>
                      <a:pt x="165" y="6"/>
                    </a:lnTo>
                    <a:lnTo>
                      <a:pt x="164" y="5"/>
                    </a:lnTo>
                    <a:lnTo>
                      <a:pt x="162" y="5"/>
                    </a:lnTo>
                    <a:lnTo>
                      <a:pt x="161" y="5"/>
                    </a:lnTo>
                    <a:lnTo>
                      <a:pt x="159" y="6"/>
                    </a:lnTo>
                    <a:lnTo>
                      <a:pt x="158" y="7"/>
                    </a:lnTo>
                    <a:lnTo>
                      <a:pt x="158" y="9"/>
                    </a:lnTo>
                    <a:lnTo>
                      <a:pt x="148" y="9"/>
                    </a:lnTo>
                    <a:lnTo>
                      <a:pt x="148" y="7"/>
                    </a:lnTo>
                    <a:lnTo>
                      <a:pt x="147" y="5"/>
                    </a:lnTo>
                    <a:lnTo>
                      <a:pt x="145" y="4"/>
                    </a:lnTo>
                    <a:lnTo>
                      <a:pt x="144" y="3"/>
                    </a:lnTo>
                    <a:lnTo>
                      <a:pt x="142" y="3"/>
                    </a:lnTo>
                    <a:lnTo>
                      <a:pt x="139" y="3"/>
                    </a:lnTo>
                    <a:lnTo>
                      <a:pt x="137" y="3"/>
                    </a:lnTo>
                    <a:lnTo>
                      <a:pt x="135" y="4"/>
                    </a:lnTo>
                    <a:lnTo>
                      <a:pt x="134" y="5"/>
                    </a:lnTo>
                    <a:lnTo>
                      <a:pt x="133" y="7"/>
                    </a:lnTo>
                    <a:lnTo>
                      <a:pt x="133" y="9"/>
                    </a:lnTo>
                    <a:lnTo>
                      <a:pt x="126" y="9"/>
                    </a:lnTo>
                    <a:lnTo>
                      <a:pt x="126" y="7"/>
                    </a:lnTo>
                    <a:lnTo>
                      <a:pt x="125" y="6"/>
                    </a:lnTo>
                    <a:lnTo>
                      <a:pt x="124" y="5"/>
                    </a:lnTo>
                    <a:lnTo>
                      <a:pt x="122" y="5"/>
                    </a:lnTo>
                    <a:lnTo>
                      <a:pt x="120" y="5"/>
                    </a:lnTo>
                    <a:lnTo>
                      <a:pt x="119" y="6"/>
                    </a:lnTo>
                    <a:lnTo>
                      <a:pt x="118" y="7"/>
                    </a:lnTo>
                    <a:lnTo>
                      <a:pt x="117" y="9"/>
                    </a:lnTo>
                    <a:lnTo>
                      <a:pt x="111" y="9"/>
                    </a:lnTo>
                    <a:lnTo>
                      <a:pt x="110" y="7"/>
                    </a:lnTo>
                    <a:lnTo>
                      <a:pt x="109" y="6"/>
                    </a:lnTo>
                    <a:lnTo>
                      <a:pt x="108" y="4"/>
                    </a:lnTo>
                    <a:lnTo>
                      <a:pt x="106" y="4"/>
                    </a:lnTo>
                    <a:lnTo>
                      <a:pt x="104" y="4"/>
                    </a:lnTo>
                    <a:lnTo>
                      <a:pt x="102" y="4"/>
                    </a:lnTo>
                    <a:lnTo>
                      <a:pt x="100" y="4"/>
                    </a:lnTo>
                    <a:lnTo>
                      <a:pt x="98" y="6"/>
                    </a:lnTo>
                    <a:lnTo>
                      <a:pt x="97" y="7"/>
                    </a:lnTo>
                    <a:lnTo>
                      <a:pt x="97" y="9"/>
                    </a:lnTo>
                    <a:lnTo>
                      <a:pt x="41" y="9"/>
                    </a:lnTo>
                    <a:lnTo>
                      <a:pt x="41" y="16"/>
                    </a:lnTo>
                    <a:lnTo>
                      <a:pt x="0" y="16"/>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999840" y="4423320"/>
                <a:ext cx="8280" cy="9000"/>
              </a:xfrm>
              <a:custGeom>
                <a:avLst/>
                <a:gdLst/>
                <a:ahLst/>
                <a:rect l="l" t="t" r="r" b="b"/>
                <a:pathLst>
                  <a:path w="8" h="7">
                    <a:moveTo>
                      <a:pt x="8" y="1"/>
                    </a:moveTo>
                    <a:lnTo>
                      <a:pt x="4" y="7"/>
                    </a:lnTo>
                    <a:lnTo>
                      <a:pt x="0" y="1"/>
                    </a:lnTo>
                    <a:lnTo>
                      <a:pt x="2" y="0"/>
                    </a:lnTo>
                    <a:lnTo>
                      <a:pt x="4" y="0"/>
                    </a:lnTo>
                    <a:lnTo>
                      <a:pt x="6" y="0"/>
                    </a:lnTo>
                    <a:lnTo>
                      <a:pt x="8" y="1"/>
                    </a:lnTo>
                    <a:close/>
                  </a:path>
                </a:pathLst>
              </a:cu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33" name=""/>
              <p:cNvSpPr/>
              <p:nvPr/>
            </p:nvSpPr>
            <p:spPr>
              <a:xfrm>
                <a:off x="5007240" y="3079440"/>
                <a:ext cx="1719000" cy="36000"/>
              </a:xfrm>
              <a:custGeom>
                <a:avLst/>
                <a:gdLst/>
                <a:ahLst/>
                <a:rect l="l" t="t" r="r" b="b"/>
                <a:pathLst>
                  <a:path w="1624" h="27">
                    <a:moveTo>
                      <a:pt x="0" y="7"/>
                    </a:moveTo>
                    <a:lnTo>
                      <a:pt x="85" y="7"/>
                    </a:lnTo>
                    <a:lnTo>
                      <a:pt x="85" y="5"/>
                    </a:lnTo>
                    <a:lnTo>
                      <a:pt x="86" y="4"/>
                    </a:lnTo>
                    <a:lnTo>
                      <a:pt x="88" y="2"/>
                    </a:lnTo>
                    <a:lnTo>
                      <a:pt x="90" y="2"/>
                    </a:lnTo>
                    <a:lnTo>
                      <a:pt x="92" y="1"/>
                    </a:lnTo>
                    <a:lnTo>
                      <a:pt x="94" y="2"/>
                    </a:lnTo>
                    <a:lnTo>
                      <a:pt x="96" y="2"/>
                    </a:lnTo>
                    <a:lnTo>
                      <a:pt x="97" y="4"/>
                    </a:lnTo>
                    <a:lnTo>
                      <a:pt x="98" y="5"/>
                    </a:lnTo>
                    <a:lnTo>
                      <a:pt x="98" y="7"/>
                    </a:lnTo>
                    <a:lnTo>
                      <a:pt x="105" y="7"/>
                    </a:lnTo>
                    <a:lnTo>
                      <a:pt x="106" y="5"/>
                    </a:lnTo>
                    <a:lnTo>
                      <a:pt x="107" y="4"/>
                    </a:lnTo>
                    <a:lnTo>
                      <a:pt x="108" y="3"/>
                    </a:lnTo>
                    <a:lnTo>
                      <a:pt x="110" y="3"/>
                    </a:lnTo>
                    <a:lnTo>
                      <a:pt x="112" y="3"/>
                    </a:lnTo>
                    <a:lnTo>
                      <a:pt x="113" y="4"/>
                    </a:lnTo>
                    <a:lnTo>
                      <a:pt x="114" y="5"/>
                    </a:lnTo>
                    <a:lnTo>
                      <a:pt x="114" y="7"/>
                    </a:lnTo>
                    <a:lnTo>
                      <a:pt x="121" y="7"/>
                    </a:lnTo>
                    <a:lnTo>
                      <a:pt x="121" y="5"/>
                    </a:lnTo>
                    <a:lnTo>
                      <a:pt x="122" y="3"/>
                    </a:lnTo>
                    <a:lnTo>
                      <a:pt x="123" y="2"/>
                    </a:lnTo>
                    <a:lnTo>
                      <a:pt x="125" y="1"/>
                    </a:lnTo>
                    <a:lnTo>
                      <a:pt x="127" y="1"/>
                    </a:lnTo>
                    <a:lnTo>
                      <a:pt x="129" y="1"/>
                    </a:lnTo>
                    <a:lnTo>
                      <a:pt x="132" y="1"/>
                    </a:lnTo>
                    <a:lnTo>
                      <a:pt x="133" y="2"/>
                    </a:lnTo>
                    <a:lnTo>
                      <a:pt x="135" y="3"/>
                    </a:lnTo>
                    <a:lnTo>
                      <a:pt x="136" y="5"/>
                    </a:lnTo>
                    <a:lnTo>
                      <a:pt x="136" y="7"/>
                    </a:lnTo>
                    <a:lnTo>
                      <a:pt x="146" y="7"/>
                    </a:lnTo>
                    <a:lnTo>
                      <a:pt x="146" y="5"/>
                    </a:lnTo>
                    <a:lnTo>
                      <a:pt x="147" y="4"/>
                    </a:lnTo>
                    <a:lnTo>
                      <a:pt x="149" y="3"/>
                    </a:lnTo>
                    <a:lnTo>
                      <a:pt x="150" y="3"/>
                    </a:lnTo>
                    <a:lnTo>
                      <a:pt x="152" y="3"/>
                    </a:lnTo>
                    <a:lnTo>
                      <a:pt x="153" y="4"/>
                    </a:lnTo>
                    <a:lnTo>
                      <a:pt x="154" y="5"/>
                    </a:lnTo>
                    <a:lnTo>
                      <a:pt x="155" y="7"/>
                    </a:lnTo>
                    <a:lnTo>
                      <a:pt x="161" y="7"/>
                    </a:lnTo>
                    <a:lnTo>
                      <a:pt x="161" y="5"/>
                    </a:lnTo>
                    <a:lnTo>
                      <a:pt x="162" y="4"/>
                    </a:lnTo>
                    <a:lnTo>
                      <a:pt x="164" y="3"/>
                    </a:lnTo>
                    <a:lnTo>
                      <a:pt x="166" y="3"/>
                    </a:lnTo>
                    <a:lnTo>
                      <a:pt x="167" y="3"/>
                    </a:lnTo>
                    <a:lnTo>
                      <a:pt x="169" y="4"/>
                    </a:lnTo>
                    <a:lnTo>
                      <a:pt x="170" y="5"/>
                    </a:lnTo>
                    <a:lnTo>
                      <a:pt x="170" y="7"/>
                    </a:lnTo>
                    <a:lnTo>
                      <a:pt x="179" y="7"/>
                    </a:lnTo>
                    <a:lnTo>
                      <a:pt x="179" y="5"/>
                    </a:lnTo>
                    <a:lnTo>
                      <a:pt x="180" y="4"/>
                    </a:lnTo>
                    <a:lnTo>
                      <a:pt x="181" y="3"/>
                    </a:lnTo>
                    <a:lnTo>
                      <a:pt x="183" y="3"/>
                    </a:lnTo>
                    <a:lnTo>
                      <a:pt x="185" y="3"/>
                    </a:lnTo>
                    <a:lnTo>
                      <a:pt x="186" y="4"/>
                    </a:lnTo>
                    <a:lnTo>
                      <a:pt x="187" y="5"/>
                    </a:lnTo>
                    <a:lnTo>
                      <a:pt x="188" y="7"/>
                    </a:lnTo>
                    <a:lnTo>
                      <a:pt x="208" y="7"/>
                    </a:lnTo>
                    <a:lnTo>
                      <a:pt x="208" y="5"/>
                    </a:lnTo>
                    <a:lnTo>
                      <a:pt x="209" y="4"/>
                    </a:lnTo>
                    <a:lnTo>
                      <a:pt x="211" y="3"/>
                    </a:lnTo>
                    <a:lnTo>
                      <a:pt x="213" y="3"/>
                    </a:lnTo>
                    <a:lnTo>
                      <a:pt x="214" y="3"/>
                    </a:lnTo>
                    <a:lnTo>
                      <a:pt x="216" y="4"/>
                    </a:lnTo>
                    <a:lnTo>
                      <a:pt x="217" y="5"/>
                    </a:lnTo>
                    <a:lnTo>
                      <a:pt x="217" y="7"/>
                    </a:lnTo>
                    <a:lnTo>
                      <a:pt x="296" y="7"/>
                    </a:lnTo>
                    <a:lnTo>
                      <a:pt x="296" y="5"/>
                    </a:lnTo>
                    <a:lnTo>
                      <a:pt x="297" y="4"/>
                    </a:lnTo>
                    <a:lnTo>
                      <a:pt x="299" y="3"/>
                    </a:lnTo>
                    <a:lnTo>
                      <a:pt x="301" y="3"/>
                    </a:lnTo>
                    <a:lnTo>
                      <a:pt x="302" y="3"/>
                    </a:lnTo>
                    <a:lnTo>
                      <a:pt x="304" y="4"/>
                    </a:lnTo>
                    <a:lnTo>
                      <a:pt x="305" y="5"/>
                    </a:lnTo>
                    <a:lnTo>
                      <a:pt x="305" y="7"/>
                    </a:lnTo>
                    <a:lnTo>
                      <a:pt x="324" y="7"/>
                    </a:lnTo>
                    <a:lnTo>
                      <a:pt x="324" y="5"/>
                    </a:lnTo>
                    <a:lnTo>
                      <a:pt x="325" y="4"/>
                    </a:lnTo>
                    <a:lnTo>
                      <a:pt x="327" y="3"/>
                    </a:lnTo>
                    <a:lnTo>
                      <a:pt x="329" y="3"/>
                    </a:lnTo>
                    <a:lnTo>
                      <a:pt x="330" y="3"/>
                    </a:lnTo>
                    <a:lnTo>
                      <a:pt x="332" y="4"/>
                    </a:lnTo>
                    <a:lnTo>
                      <a:pt x="333" y="5"/>
                    </a:lnTo>
                    <a:lnTo>
                      <a:pt x="333" y="7"/>
                    </a:lnTo>
                    <a:lnTo>
                      <a:pt x="362" y="7"/>
                    </a:lnTo>
                    <a:lnTo>
                      <a:pt x="362" y="5"/>
                    </a:lnTo>
                    <a:lnTo>
                      <a:pt x="363" y="4"/>
                    </a:lnTo>
                    <a:lnTo>
                      <a:pt x="365" y="3"/>
                    </a:lnTo>
                    <a:lnTo>
                      <a:pt x="366" y="3"/>
                    </a:lnTo>
                    <a:lnTo>
                      <a:pt x="368" y="3"/>
                    </a:lnTo>
                    <a:lnTo>
                      <a:pt x="370" y="4"/>
                    </a:lnTo>
                    <a:lnTo>
                      <a:pt x="371" y="5"/>
                    </a:lnTo>
                    <a:lnTo>
                      <a:pt x="371" y="7"/>
                    </a:lnTo>
                    <a:lnTo>
                      <a:pt x="382" y="7"/>
                    </a:lnTo>
                    <a:lnTo>
                      <a:pt x="382" y="5"/>
                    </a:lnTo>
                    <a:lnTo>
                      <a:pt x="383" y="4"/>
                    </a:lnTo>
                    <a:lnTo>
                      <a:pt x="385" y="3"/>
                    </a:lnTo>
                    <a:lnTo>
                      <a:pt x="386" y="3"/>
                    </a:lnTo>
                    <a:lnTo>
                      <a:pt x="388" y="3"/>
                    </a:lnTo>
                    <a:lnTo>
                      <a:pt x="389" y="4"/>
                    </a:lnTo>
                    <a:lnTo>
                      <a:pt x="391" y="5"/>
                    </a:lnTo>
                    <a:lnTo>
                      <a:pt x="391" y="7"/>
                    </a:lnTo>
                    <a:lnTo>
                      <a:pt x="393" y="7"/>
                    </a:lnTo>
                    <a:lnTo>
                      <a:pt x="393" y="5"/>
                    </a:lnTo>
                    <a:lnTo>
                      <a:pt x="394" y="4"/>
                    </a:lnTo>
                    <a:lnTo>
                      <a:pt x="396" y="3"/>
                    </a:lnTo>
                    <a:lnTo>
                      <a:pt x="397" y="3"/>
                    </a:lnTo>
                    <a:lnTo>
                      <a:pt x="399" y="3"/>
                    </a:lnTo>
                    <a:lnTo>
                      <a:pt x="401" y="4"/>
                    </a:lnTo>
                    <a:lnTo>
                      <a:pt x="402" y="5"/>
                    </a:lnTo>
                    <a:lnTo>
                      <a:pt x="402" y="7"/>
                    </a:lnTo>
                    <a:lnTo>
                      <a:pt x="403" y="7"/>
                    </a:lnTo>
                    <a:lnTo>
                      <a:pt x="403" y="5"/>
                    </a:lnTo>
                    <a:lnTo>
                      <a:pt x="404" y="4"/>
                    </a:lnTo>
                    <a:lnTo>
                      <a:pt x="405" y="3"/>
                    </a:lnTo>
                    <a:lnTo>
                      <a:pt x="407" y="3"/>
                    </a:lnTo>
                    <a:lnTo>
                      <a:pt x="409" y="3"/>
                    </a:lnTo>
                    <a:lnTo>
                      <a:pt x="410" y="4"/>
                    </a:lnTo>
                    <a:lnTo>
                      <a:pt x="411" y="5"/>
                    </a:lnTo>
                    <a:lnTo>
                      <a:pt x="411" y="7"/>
                    </a:lnTo>
                    <a:lnTo>
                      <a:pt x="413" y="7"/>
                    </a:lnTo>
                    <a:lnTo>
                      <a:pt x="414" y="5"/>
                    </a:lnTo>
                    <a:lnTo>
                      <a:pt x="415" y="3"/>
                    </a:lnTo>
                    <a:lnTo>
                      <a:pt x="416" y="2"/>
                    </a:lnTo>
                    <a:lnTo>
                      <a:pt x="418" y="0"/>
                    </a:lnTo>
                    <a:lnTo>
                      <a:pt x="421" y="0"/>
                    </a:lnTo>
                    <a:lnTo>
                      <a:pt x="423" y="0"/>
                    </a:lnTo>
                    <a:lnTo>
                      <a:pt x="425" y="0"/>
                    </a:lnTo>
                    <a:lnTo>
                      <a:pt x="428" y="2"/>
                    </a:lnTo>
                    <a:lnTo>
                      <a:pt x="429" y="3"/>
                    </a:lnTo>
                    <a:lnTo>
                      <a:pt x="430" y="5"/>
                    </a:lnTo>
                    <a:lnTo>
                      <a:pt x="431" y="7"/>
                    </a:lnTo>
                    <a:lnTo>
                      <a:pt x="435" y="7"/>
                    </a:lnTo>
                    <a:lnTo>
                      <a:pt x="435" y="5"/>
                    </a:lnTo>
                    <a:lnTo>
                      <a:pt x="436" y="3"/>
                    </a:lnTo>
                    <a:lnTo>
                      <a:pt x="438" y="2"/>
                    </a:lnTo>
                    <a:lnTo>
                      <a:pt x="440" y="1"/>
                    </a:lnTo>
                    <a:lnTo>
                      <a:pt x="442" y="0"/>
                    </a:lnTo>
                    <a:lnTo>
                      <a:pt x="444" y="0"/>
                    </a:lnTo>
                    <a:lnTo>
                      <a:pt x="447" y="1"/>
                    </a:lnTo>
                    <a:lnTo>
                      <a:pt x="449" y="2"/>
                    </a:lnTo>
                    <a:lnTo>
                      <a:pt x="450" y="3"/>
                    </a:lnTo>
                    <a:lnTo>
                      <a:pt x="451" y="5"/>
                    </a:lnTo>
                    <a:lnTo>
                      <a:pt x="451" y="7"/>
                    </a:lnTo>
                    <a:lnTo>
                      <a:pt x="466" y="7"/>
                    </a:lnTo>
                    <a:lnTo>
                      <a:pt x="466" y="5"/>
                    </a:lnTo>
                    <a:lnTo>
                      <a:pt x="467" y="4"/>
                    </a:lnTo>
                    <a:lnTo>
                      <a:pt x="469" y="3"/>
                    </a:lnTo>
                    <a:lnTo>
                      <a:pt x="470" y="3"/>
                    </a:lnTo>
                    <a:lnTo>
                      <a:pt x="472" y="3"/>
                    </a:lnTo>
                    <a:lnTo>
                      <a:pt x="474" y="4"/>
                    </a:lnTo>
                    <a:lnTo>
                      <a:pt x="474" y="5"/>
                    </a:lnTo>
                    <a:lnTo>
                      <a:pt x="475" y="7"/>
                    </a:lnTo>
                    <a:lnTo>
                      <a:pt x="482" y="7"/>
                    </a:lnTo>
                    <a:lnTo>
                      <a:pt x="482" y="5"/>
                    </a:lnTo>
                    <a:lnTo>
                      <a:pt x="483" y="4"/>
                    </a:lnTo>
                    <a:lnTo>
                      <a:pt x="485" y="3"/>
                    </a:lnTo>
                    <a:lnTo>
                      <a:pt x="486" y="3"/>
                    </a:lnTo>
                    <a:lnTo>
                      <a:pt x="488" y="3"/>
                    </a:lnTo>
                    <a:lnTo>
                      <a:pt x="490" y="4"/>
                    </a:lnTo>
                    <a:lnTo>
                      <a:pt x="490" y="5"/>
                    </a:lnTo>
                    <a:lnTo>
                      <a:pt x="491" y="7"/>
                    </a:lnTo>
                    <a:lnTo>
                      <a:pt x="494" y="7"/>
                    </a:lnTo>
                    <a:lnTo>
                      <a:pt x="494" y="5"/>
                    </a:lnTo>
                    <a:lnTo>
                      <a:pt x="495" y="4"/>
                    </a:lnTo>
                    <a:lnTo>
                      <a:pt x="496" y="3"/>
                    </a:lnTo>
                    <a:lnTo>
                      <a:pt x="498" y="3"/>
                    </a:lnTo>
                    <a:lnTo>
                      <a:pt x="500" y="3"/>
                    </a:lnTo>
                    <a:lnTo>
                      <a:pt x="501" y="4"/>
                    </a:lnTo>
                    <a:lnTo>
                      <a:pt x="502" y="5"/>
                    </a:lnTo>
                    <a:lnTo>
                      <a:pt x="503" y="7"/>
                    </a:lnTo>
                    <a:lnTo>
                      <a:pt x="559" y="7"/>
                    </a:lnTo>
                    <a:lnTo>
                      <a:pt x="560" y="5"/>
                    </a:lnTo>
                    <a:lnTo>
                      <a:pt x="561" y="4"/>
                    </a:lnTo>
                    <a:lnTo>
                      <a:pt x="562" y="3"/>
                    </a:lnTo>
                    <a:lnTo>
                      <a:pt x="564" y="3"/>
                    </a:lnTo>
                    <a:lnTo>
                      <a:pt x="566" y="3"/>
                    </a:lnTo>
                    <a:lnTo>
                      <a:pt x="567" y="4"/>
                    </a:lnTo>
                    <a:lnTo>
                      <a:pt x="568" y="5"/>
                    </a:lnTo>
                    <a:lnTo>
                      <a:pt x="568" y="7"/>
                    </a:lnTo>
                    <a:lnTo>
                      <a:pt x="605" y="7"/>
                    </a:lnTo>
                    <a:lnTo>
                      <a:pt x="605" y="5"/>
                    </a:lnTo>
                    <a:lnTo>
                      <a:pt x="606" y="4"/>
                    </a:lnTo>
                    <a:lnTo>
                      <a:pt x="608" y="3"/>
                    </a:lnTo>
                    <a:lnTo>
                      <a:pt x="610" y="3"/>
                    </a:lnTo>
                    <a:lnTo>
                      <a:pt x="611" y="3"/>
                    </a:lnTo>
                    <a:lnTo>
                      <a:pt x="613" y="4"/>
                    </a:lnTo>
                    <a:lnTo>
                      <a:pt x="614" y="5"/>
                    </a:lnTo>
                    <a:lnTo>
                      <a:pt x="614" y="7"/>
                    </a:lnTo>
                    <a:lnTo>
                      <a:pt x="739" y="7"/>
                    </a:lnTo>
                    <a:lnTo>
                      <a:pt x="739" y="5"/>
                    </a:lnTo>
                    <a:lnTo>
                      <a:pt x="740" y="4"/>
                    </a:lnTo>
                    <a:lnTo>
                      <a:pt x="741" y="3"/>
                    </a:lnTo>
                    <a:lnTo>
                      <a:pt x="743" y="3"/>
                    </a:lnTo>
                    <a:lnTo>
                      <a:pt x="745" y="3"/>
                    </a:lnTo>
                    <a:lnTo>
                      <a:pt x="746" y="4"/>
                    </a:lnTo>
                    <a:lnTo>
                      <a:pt x="747" y="5"/>
                    </a:lnTo>
                    <a:lnTo>
                      <a:pt x="748" y="7"/>
                    </a:lnTo>
                    <a:lnTo>
                      <a:pt x="752" y="7"/>
                    </a:lnTo>
                    <a:lnTo>
                      <a:pt x="752" y="5"/>
                    </a:lnTo>
                    <a:lnTo>
                      <a:pt x="753" y="4"/>
                    </a:lnTo>
                    <a:lnTo>
                      <a:pt x="755" y="3"/>
                    </a:lnTo>
                    <a:lnTo>
                      <a:pt x="757" y="2"/>
                    </a:lnTo>
                    <a:lnTo>
                      <a:pt x="759" y="2"/>
                    </a:lnTo>
                    <a:lnTo>
                      <a:pt x="761" y="2"/>
                    </a:lnTo>
                    <a:lnTo>
                      <a:pt x="762" y="3"/>
                    </a:lnTo>
                    <a:lnTo>
                      <a:pt x="764" y="4"/>
                    </a:lnTo>
                    <a:lnTo>
                      <a:pt x="765" y="5"/>
                    </a:lnTo>
                    <a:lnTo>
                      <a:pt x="765" y="7"/>
                    </a:lnTo>
                    <a:lnTo>
                      <a:pt x="767" y="7"/>
                    </a:lnTo>
                    <a:lnTo>
                      <a:pt x="768" y="5"/>
                    </a:lnTo>
                    <a:lnTo>
                      <a:pt x="769" y="4"/>
                    </a:lnTo>
                    <a:lnTo>
                      <a:pt x="770" y="3"/>
                    </a:lnTo>
                    <a:lnTo>
                      <a:pt x="772" y="3"/>
                    </a:lnTo>
                    <a:lnTo>
                      <a:pt x="773" y="3"/>
                    </a:lnTo>
                    <a:lnTo>
                      <a:pt x="775" y="4"/>
                    </a:lnTo>
                    <a:lnTo>
                      <a:pt x="776" y="5"/>
                    </a:lnTo>
                    <a:lnTo>
                      <a:pt x="776" y="7"/>
                    </a:lnTo>
                    <a:lnTo>
                      <a:pt x="800" y="7"/>
                    </a:lnTo>
                    <a:lnTo>
                      <a:pt x="800" y="5"/>
                    </a:lnTo>
                    <a:lnTo>
                      <a:pt x="801" y="4"/>
                    </a:lnTo>
                    <a:lnTo>
                      <a:pt x="803" y="3"/>
                    </a:lnTo>
                    <a:lnTo>
                      <a:pt x="804" y="3"/>
                    </a:lnTo>
                    <a:lnTo>
                      <a:pt x="806" y="3"/>
                    </a:lnTo>
                    <a:lnTo>
                      <a:pt x="807" y="4"/>
                    </a:lnTo>
                    <a:lnTo>
                      <a:pt x="808" y="5"/>
                    </a:lnTo>
                    <a:lnTo>
                      <a:pt x="809" y="7"/>
                    </a:lnTo>
                    <a:lnTo>
                      <a:pt x="820" y="7"/>
                    </a:lnTo>
                    <a:lnTo>
                      <a:pt x="820" y="5"/>
                    </a:lnTo>
                    <a:lnTo>
                      <a:pt x="821" y="4"/>
                    </a:lnTo>
                    <a:lnTo>
                      <a:pt x="822" y="3"/>
                    </a:lnTo>
                    <a:lnTo>
                      <a:pt x="824" y="3"/>
                    </a:lnTo>
                    <a:lnTo>
                      <a:pt x="826" y="3"/>
                    </a:lnTo>
                    <a:lnTo>
                      <a:pt x="827" y="4"/>
                    </a:lnTo>
                    <a:lnTo>
                      <a:pt x="828" y="5"/>
                    </a:lnTo>
                    <a:lnTo>
                      <a:pt x="829" y="7"/>
                    </a:lnTo>
                    <a:lnTo>
                      <a:pt x="864" y="7"/>
                    </a:lnTo>
                    <a:lnTo>
                      <a:pt x="864" y="5"/>
                    </a:lnTo>
                    <a:lnTo>
                      <a:pt x="865" y="3"/>
                    </a:lnTo>
                    <a:lnTo>
                      <a:pt x="866" y="2"/>
                    </a:lnTo>
                    <a:lnTo>
                      <a:pt x="869" y="1"/>
                    </a:lnTo>
                    <a:lnTo>
                      <a:pt x="871" y="0"/>
                    </a:lnTo>
                    <a:lnTo>
                      <a:pt x="873" y="0"/>
                    </a:lnTo>
                    <a:lnTo>
                      <a:pt x="876" y="1"/>
                    </a:lnTo>
                    <a:lnTo>
                      <a:pt x="878" y="2"/>
                    </a:lnTo>
                    <a:lnTo>
                      <a:pt x="879" y="3"/>
                    </a:lnTo>
                    <a:lnTo>
                      <a:pt x="880" y="5"/>
                    </a:lnTo>
                    <a:lnTo>
                      <a:pt x="881" y="7"/>
                    </a:lnTo>
                    <a:lnTo>
                      <a:pt x="895" y="7"/>
                    </a:lnTo>
                    <a:lnTo>
                      <a:pt x="895" y="5"/>
                    </a:lnTo>
                    <a:lnTo>
                      <a:pt x="896" y="4"/>
                    </a:lnTo>
                    <a:lnTo>
                      <a:pt x="898" y="3"/>
                    </a:lnTo>
                    <a:lnTo>
                      <a:pt x="900" y="3"/>
                    </a:lnTo>
                    <a:lnTo>
                      <a:pt x="901" y="3"/>
                    </a:lnTo>
                    <a:lnTo>
                      <a:pt x="903" y="4"/>
                    </a:lnTo>
                    <a:lnTo>
                      <a:pt x="904" y="5"/>
                    </a:lnTo>
                    <a:lnTo>
                      <a:pt x="904" y="7"/>
                    </a:lnTo>
                    <a:lnTo>
                      <a:pt x="911" y="7"/>
                    </a:lnTo>
                    <a:lnTo>
                      <a:pt x="911" y="5"/>
                    </a:lnTo>
                    <a:lnTo>
                      <a:pt x="912" y="4"/>
                    </a:lnTo>
                    <a:lnTo>
                      <a:pt x="914" y="3"/>
                    </a:lnTo>
                    <a:lnTo>
                      <a:pt x="915" y="3"/>
                    </a:lnTo>
                    <a:lnTo>
                      <a:pt x="917" y="3"/>
                    </a:lnTo>
                    <a:lnTo>
                      <a:pt x="919" y="4"/>
                    </a:lnTo>
                    <a:lnTo>
                      <a:pt x="920" y="5"/>
                    </a:lnTo>
                    <a:lnTo>
                      <a:pt x="920" y="7"/>
                    </a:lnTo>
                    <a:lnTo>
                      <a:pt x="928" y="7"/>
                    </a:lnTo>
                    <a:lnTo>
                      <a:pt x="929" y="5"/>
                    </a:lnTo>
                    <a:lnTo>
                      <a:pt x="930" y="4"/>
                    </a:lnTo>
                    <a:lnTo>
                      <a:pt x="931" y="2"/>
                    </a:lnTo>
                    <a:lnTo>
                      <a:pt x="933" y="2"/>
                    </a:lnTo>
                    <a:lnTo>
                      <a:pt x="935" y="1"/>
                    </a:lnTo>
                    <a:lnTo>
                      <a:pt x="937" y="2"/>
                    </a:lnTo>
                    <a:lnTo>
                      <a:pt x="939" y="2"/>
                    </a:lnTo>
                    <a:lnTo>
                      <a:pt x="941" y="4"/>
                    </a:lnTo>
                    <a:lnTo>
                      <a:pt x="941" y="5"/>
                    </a:lnTo>
                    <a:lnTo>
                      <a:pt x="942" y="7"/>
                    </a:lnTo>
                    <a:lnTo>
                      <a:pt x="965" y="7"/>
                    </a:lnTo>
                    <a:lnTo>
                      <a:pt x="966" y="5"/>
                    </a:lnTo>
                    <a:lnTo>
                      <a:pt x="967" y="4"/>
                    </a:lnTo>
                    <a:lnTo>
                      <a:pt x="968" y="3"/>
                    </a:lnTo>
                    <a:lnTo>
                      <a:pt x="970" y="3"/>
                    </a:lnTo>
                    <a:lnTo>
                      <a:pt x="972" y="3"/>
                    </a:lnTo>
                    <a:lnTo>
                      <a:pt x="973" y="4"/>
                    </a:lnTo>
                    <a:lnTo>
                      <a:pt x="974" y="5"/>
                    </a:lnTo>
                    <a:lnTo>
                      <a:pt x="974" y="7"/>
                    </a:lnTo>
                    <a:lnTo>
                      <a:pt x="981" y="7"/>
                    </a:lnTo>
                    <a:lnTo>
                      <a:pt x="981" y="5"/>
                    </a:lnTo>
                    <a:lnTo>
                      <a:pt x="982" y="3"/>
                    </a:lnTo>
                    <a:lnTo>
                      <a:pt x="984" y="1"/>
                    </a:lnTo>
                    <a:lnTo>
                      <a:pt x="986" y="0"/>
                    </a:lnTo>
                    <a:lnTo>
                      <a:pt x="989" y="0"/>
                    </a:lnTo>
                    <a:lnTo>
                      <a:pt x="991" y="0"/>
                    </a:lnTo>
                    <a:lnTo>
                      <a:pt x="993" y="0"/>
                    </a:lnTo>
                    <a:lnTo>
                      <a:pt x="996" y="1"/>
                    </a:lnTo>
                    <a:lnTo>
                      <a:pt x="997" y="3"/>
                    </a:lnTo>
                    <a:lnTo>
                      <a:pt x="998" y="5"/>
                    </a:lnTo>
                    <a:lnTo>
                      <a:pt x="999" y="7"/>
                    </a:lnTo>
                    <a:lnTo>
                      <a:pt x="1056" y="7"/>
                    </a:lnTo>
                    <a:lnTo>
                      <a:pt x="1056" y="5"/>
                    </a:lnTo>
                    <a:lnTo>
                      <a:pt x="1057" y="4"/>
                    </a:lnTo>
                    <a:lnTo>
                      <a:pt x="1059" y="3"/>
                    </a:lnTo>
                    <a:lnTo>
                      <a:pt x="1061" y="3"/>
                    </a:lnTo>
                    <a:lnTo>
                      <a:pt x="1062" y="3"/>
                    </a:lnTo>
                    <a:lnTo>
                      <a:pt x="1064" y="4"/>
                    </a:lnTo>
                    <a:lnTo>
                      <a:pt x="1065" y="5"/>
                    </a:lnTo>
                    <a:lnTo>
                      <a:pt x="1065" y="7"/>
                    </a:lnTo>
                    <a:lnTo>
                      <a:pt x="1083" y="7"/>
                    </a:lnTo>
                    <a:lnTo>
                      <a:pt x="1083" y="5"/>
                    </a:lnTo>
                    <a:lnTo>
                      <a:pt x="1084" y="4"/>
                    </a:lnTo>
                    <a:lnTo>
                      <a:pt x="1086" y="3"/>
                    </a:lnTo>
                    <a:lnTo>
                      <a:pt x="1088" y="3"/>
                    </a:lnTo>
                    <a:lnTo>
                      <a:pt x="1089" y="3"/>
                    </a:lnTo>
                    <a:lnTo>
                      <a:pt x="1091" y="4"/>
                    </a:lnTo>
                    <a:lnTo>
                      <a:pt x="1092" y="5"/>
                    </a:lnTo>
                    <a:lnTo>
                      <a:pt x="1092" y="7"/>
                    </a:lnTo>
                    <a:lnTo>
                      <a:pt x="1113" y="7"/>
                    </a:lnTo>
                    <a:lnTo>
                      <a:pt x="1114" y="5"/>
                    </a:lnTo>
                    <a:lnTo>
                      <a:pt x="1115" y="4"/>
                    </a:lnTo>
                    <a:lnTo>
                      <a:pt x="1116" y="3"/>
                    </a:lnTo>
                    <a:lnTo>
                      <a:pt x="1118" y="3"/>
                    </a:lnTo>
                    <a:lnTo>
                      <a:pt x="1120" y="3"/>
                    </a:lnTo>
                    <a:lnTo>
                      <a:pt x="1121" y="4"/>
                    </a:lnTo>
                    <a:lnTo>
                      <a:pt x="1122" y="5"/>
                    </a:lnTo>
                    <a:lnTo>
                      <a:pt x="1122" y="7"/>
                    </a:lnTo>
                    <a:lnTo>
                      <a:pt x="1127" y="7"/>
                    </a:lnTo>
                    <a:lnTo>
                      <a:pt x="1127" y="5"/>
                    </a:lnTo>
                    <a:lnTo>
                      <a:pt x="1128" y="4"/>
                    </a:lnTo>
                    <a:lnTo>
                      <a:pt x="1130" y="3"/>
                    </a:lnTo>
                    <a:lnTo>
                      <a:pt x="1131" y="3"/>
                    </a:lnTo>
                    <a:lnTo>
                      <a:pt x="1133" y="3"/>
                    </a:lnTo>
                    <a:lnTo>
                      <a:pt x="1135" y="4"/>
                    </a:lnTo>
                    <a:lnTo>
                      <a:pt x="1135" y="5"/>
                    </a:lnTo>
                    <a:lnTo>
                      <a:pt x="1136" y="7"/>
                    </a:lnTo>
                    <a:lnTo>
                      <a:pt x="1161" y="7"/>
                    </a:lnTo>
                    <a:lnTo>
                      <a:pt x="1161" y="5"/>
                    </a:lnTo>
                    <a:lnTo>
                      <a:pt x="1162" y="4"/>
                    </a:lnTo>
                    <a:lnTo>
                      <a:pt x="1163" y="3"/>
                    </a:lnTo>
                    <a:lnTo>
                      <a:pt x="1165" y="3"/>
                    </a:lnTo>
                    <a:lnTo>
                      <a:pt x="1167" y="3"/>
                    </a:lnTo>
                    <a:lnTo>
                      <a:pt x="1168" y="4"/>
                    </a:lnTo>
                    <a:lnTo>
                      <a:pt x="1169" y="5"/>
                    </a:lnTo>
                    <a:lnTo>
                      <a:pt x="1170" y="7"/>
                    </a:lnTo>
                    <a:lnTo>
                      <a:pt x="1191" y="7"/>
                    </a:lnTo>
                    <a:lnTo>
                      <a:pt x="1191" y="5"/>
                    </a:lnTo>
                    <a:lnTo>
                      <a:pt x="1192" y="3"/>
                    </a:lnTo>
                    <a:lnTo>
                      <a:pt x="1193" y="2"/>
                    </a:lnTo>
                    <a:lnTo>
                      <a:pt x="1195" y="1"/>
                    </a:lnTo>
                    <a:lnTo>
                      <a:pt x="1198" y="0"/>
                    </a:lnTo>
                    <a:lnTo>
                      <a:pt x="1200" y="0"/>
                    </a:lnTo>
                    <a:lnTo>
                      <a:pt x="1202" y="1"/>
                    </a:lnTo>
                    <a:lnTo>
                      <a:pt x="1204" y="2"/>
                    </a:lnTo>
                    <a:lnTo>
                      <a:pt x="1206" y="3"/>
                    </a:lnTo>
                    <a:lnTo>
                      <a:pt x="1206" y="5"/>
                    </a:lnTo>
                    <a:lnTo>
                      <a:pt x="1207" y="7"/>
                    </a:lnTo>
                    <a:lnTo>
                      <a:pt x="1220" y="7"/>
                    </a:lnTo>
                    <a:lnTo>
                      <a:pt x="1220" y="5"/>
                    </a:lnTo>
                    <a:lnTo>
                      <a:pt x="1221" y="4"/>
                    </a:lnTo>
                    <a:lnTo>
                      <a:pt x="1222" y="3"/>
                    </a:lnTo>
                    <a:lnTo>
                      <a:pt x="1224" y="3"/>
                    </a:lnTo>
                    <a:lnTo>
                      <a:pt x="1226" y="3"/>
                    </a:lnTo>
                    <a:lnTo>
                      <a:pt x="1228" y="4"/>
                    </a:lnTo>
                    <a:lnTo>
                      <a:pt x="1228" y="5"/>
                    </a:lnTo>
                    <a:lnTo>
                      <a:pt x="1229" y="7"/>
                    </a:lnTo>
                    <a:lnTo>
                      <a:pt x="1269" y="7"/>
                    </a:lnTo>
                    <a:lnTo>
                      <a:pt x="1269" y="5"/>
                    </a:lnTo>
                    <a:lnTo>
                      <a:pt x="1270" y="4"/>
                    </a:lnTo>
                    <a:lnTo>
                      <a:pt x="1271" y="3"/>
                    </a:lnTo>
                    <a:lnTo>
                      <a:pt x="1273" y="3"/>
                    </a:lnTo>
                    <a:lnTo>
                      <a:pt x="1275" y="3"/>
                    </a:lnTo>
                    <a:lnTo>
                      <a:pt x="1276" y="4"/>
                    </a:lnTo>
                    <a:lnTo>
                      <a:pt x="1277" y="5"/>
                    </a:lnTo>
                    <a:lnTo>
                      <a:pt x="1278" y="7"/>
                    </a:lnTo>
                    <a:lnTo>
                      <a:pt x="1286" y="7"/>
                    </a:lnTo>
                    <a:lnTo>
                      <a:pt x="1286" y="5"/>
                    </a:lnTo>
                    <a:lnTo>
                      <a:pt x="1287" y="4"/>
                    </a:lnTo>
                    <a:lnTo>
                      <a:pt x="1288" y="2"/>
                    </a:lnTo>
                    <a:lnTo>
                      <a:pt x="1290" y="2"/>
                    </a:lnTo>
                    <a:lnTo>
                      <a:pt x="1292" y="1"/>
                    </a:lnTo>
                    <a:lnTo>
                      <a:pt x="1294" y="2"/>
                    </a:lnTo>
                    <a:lnTo>
                      <a:pt x="1296" y="2"/>
                    </a:lnTo>
                    <a:lnTo>
                      <a:pt x="1298" y="4"/>
                    </a:lnTo>
                    <a:lnTo>
                      <a:pt x="1299" y="5"/>
                    </a:lnTo>
                    <a:lnTo>
                      <a:pt x="1299" y="7"/>
                    </a:lnTo>
                    <a:lnTo>
                      <a:pt x="1326" y="7"/>
                    </a:lnTo>
                    <a:lnTo>
                      <a:pt x="1327" y="5"/>
                    </a:lnTo>
                    <a:lnTo>
                      <a:pt x="1327" y="4"/>
                    </a:lnTo>
                    <a:lnTo>
                      <a:pt x="1329" y="3"/>
                    </a:lnTo>
                    <a:lnTo>
                      <a:pt x="1331" y="3"/>
                    </a:lnTo>
                    <a:lnTo>
                      <a:pt x="1332" y="3"/>
                    </a:lnTo>
                    <a:lnTo>
                      <a:pt x="1334" y="4"/>
                    </a:lnTo>
                    <a:lnTo>
                      <a:pt x="1335" y="5"/>
                    </a:lnTo>
                    <a:lnTo>
                      <a:pt x="1335" y="7"/>
                    </a:lnTo>
                    <a:lnTo>
                      <a:pt x="1350" y="7"/>
                    </a:lnTo>
                    <a:lnTo>
                      <a:pt x="1350" y="5"/>
                    </a:lnTo>
                    <a:lnTo>
                      <a:pt x="1351" y="4"/>
                    </a:lnTo>
                    <a:lnTo>
                      <a:pt x="1353" y="3"/>
                    </a:lnTo>
                    <a:lnTo>
                      <a:pt x="1354" y="3"/>
                    </a:lnTo>
                    <a:lnTo>
                      <a:pt x="1356" y="3"/>
                    </a:lnTo>
                    <a:lnTo>
                      <a:pt x="1357" y="4"/>
                    </a:lnTo>
                    <a:lnTo>
                      <a:pt x="1358" y="5"/>
                    </a:lnTo>
                    <a:lnTo>
                      <a:pt x="1359" y="7"/>
                    </a:lnTo>
                    <a:lnTo>
                      <a:pt x="1371" y="7"/>
                    </a:lnTo>
                    <a:lnTo>
                      <a:pt x="1372" y="5"/>
                    </a:lnTo>
                    <a:lnTo>
                      <a:pt x="1373" y="4"/>
                    </a:lnTo>
                    <a:lnTo>
                      <a:pt x="1374" y="3"/>
                    </a:lnTo>
                    <a:lnTo>
                      <a:pt x="1376" y="3"/>
                    </a:lnTo>
                    <a:lnTo>
                      <a:pt x="1378" y="3"/>
                    </a:lnTo>
                    <a:lnTo>
                      <a:pt x="1379" y="4"/>
                    </a:lnTo>
                    <a:lnTo>
                      <a:pt x="1380" y="5"/>
                    </a:lnTo>
                    <a:lnTo>
                      <a:pt x="1380" y="7"/>
                    </a:lnTo>
                    <a:lnTo>
                      <a:pt x="1391" y="7"/>
                    </a:lnTo>
                    <a:lnTo>
                      <a:pt x="1392" y="5"/>
                    </a:lnTo>
                    <a:lnTo>
                      <a:pt x="1393" y="4"/>
                    </a:lnTo>
                    <a:lnTo>
                      <a:pt x="1394" y="3"/>
                    </a:lnTo>
                    <a:lnTo>
                      <a:pt x="1396" y="3"/>
                    </a:lnTo>
                    <a:lnTo>
                      <a:pt x="1397" y="3"/>
                    </a:lnTo>
                    <a:lnTo>
                      <a:pt x="1399" y="4"/>
                    </a:lnTo>
                    <a:lnTo>
                      <a:pt x="1400" y="5"/>
                    </a:lnTo>
                    <a:lnTo>
                      <a:pt x="1400" y="7"/>
                    </a:lnTo>
                    <a:lnTo>
                      <a:pt x="1411" y="7"/>
                    </a:lnTo>
                    <a:lnTo>
                      <a:pt x="1411" y="5"/>
                    </a:lnTo>
                    <a:lnTo>
                      <a:pt x="1412" y="4"/>
                    </a:lnTo>
                    <a:lnTo>
                      <a:pt x="1413" y="3"/>
                    </a:lnTo>
                    <a:lnTo>
                      <a:pt x="1415" y="3"/>
                    </a:lnTo>
                    <a:lnTo>
                      <a:pt x="1417" y="3"/>
                    </a:lnTo>
                    <a:lnTo>
                      <a:pt x="1418" y="4"/>
                    </a:lnTo>
                    <a:lnTo>
                      <a:pt x="1419" y="5"/>
                    </a:lnTo>
                    <a:lnTo>
                      <a:pt x="1420" y="7"/>
                    </a:lnTo>
                    <a:lnTo>
                      <a:pt x="1422" y="7"/>
                    </a:lnTo>
                    <a:lnTo>
                      <a:pt x="1423" y="5"/>
                    </a:lnTo>
                    <a:lnTo>
                      <a:pt x="1424" y="4"/>
                    </a:lnTo>
                    <a:lnTo>
                      <a:pt x="1425" y="3"/>
                    </a:lnTo>
                    <a:lnTo>
                      <a:pt x="1427" y="3"/>
                    </a:lnTo>
                    <a:lnTo>
                      <a:pt x="1429" y="3"/>
                    </a:lnTo>
                    <a:lnTo>
                      <a:pt x="1430" y="4"/>
                    </a:lnTo>
                    <a:lnTo>
                      <a:pt x="1431" y="5"/>
                    </a:lnTo>
                    <a:lnTo>
                      <a:pt x="1431" y="7"/>
                    </a:lnTo>
                    <a:lnTo>
                      <a:pt x="1444" y="7"/>
                    </a:lnTo>
                    <a:lnTo>
                      <a:pt x="1445" y="5"/>
                    </a:lnTo>
                    <a:lnTo>
                      <a:pt x="1446" y="4"/>
                    </a:lnTo>
                    <a:lnTo>
                      <a:pt x="1447" y="3"/>
                    </a:lnTo>
                    <a:lnTo>
                      <a:pt x="1449" y="3"/>
                    </a:lnTo>
                    <a:lnTo>
                      <a:pt x="1451" y="3"/>
                    </a:lnTo>
                    <a:lnTo>
                      <a:pt x="1452" y="4"/>
                    </a:lnTo>
                    <a:lnTo>
                      <a:pt x="1453" y="5"/>
                    </a:lnTo>
                    <a:lnTo>
                      <a:pt x="1453" y="7"/>
                    </a:lnTo>
                    <a:lnTo>
                      <a:pt x="1492" y="7"/>
                    </a:lnTo>
                    <a:lnTo>
                      <a:pt x="1492" y="5"/>
                    </a:lnTo>
                    <a:lnTo>
                      <a:pt x="1493" y="4"/>
                    </a:lnTo>
                    <a:lnTo>
                      <a:pt x="1494" y="3"/>
                    </a:lnTo>
                    <a:lnTo>
                      <a:pt x="1496" y="3"/>
                    </a:lnTo>
                    <a:lnTo>
                      <a:pt x="1498" y="3"/>
                    </a:lnTo>
                    <a:lnTo>
                      <a:pt x="1499" y="4"/>
                    </a:lnTo>
                    <a:lnTo>
                      <a:pt x="1500" y="5"/>
                    </a:lnTo>
                    <a:lnTo>
                      <a:pt x="1501" y="7"/>
                    </a:lnTo>
                    <a:lnTo>
                      <a:pt x="1505" y="7"/>
                    </a:lnTo>
                    <a:lnTo>
                      <a:pt x="1505" y="5"/>
                    </a:lnTo>
                    <a:lnTo>
                      <a:pt x="1506" y="4"/>
                    </a:lnTo>
                    <a:lnTo>
                      <a:pt x="1508" y="3"/>
                    </a:lnTo>
                    <a:lnTo>
                      <a:pt x="1509" y="3"/>
                    </a:lnTo>
                    <a:lnTo>
                      <a:pt x="1511" y="3"/>
                    </a:lnTo>
                    <a:lnTo>
                      <a:pt x="1512" y="4"/>
                    </a:lnTo>
                    <a:lnTo>
                      <a:pt x="1514" y="5"/>
                    </a:lnTo>
                    <a:lnTo>
                      <a:pt x="1514" y="7"/>
                    </a:lnTo>
                    <a:lnTo>
                      <a:pt x="1532" y="7"/>
                    </a:lnTo>
                    <a:lnTo>
                      <a:pt x="1532" y="5"/>
                    </a:lnTo>
                    <a:lnTo>
                      <a:pt x="1534" y="4"/>
                    </a:lnTo>
                    <a:lnTo>
                      <a:pt x="1535" y="3"/>
                    </a:lnTo>
                    <a:lnTo>
                      <a:pt x="1537" y="3"/>
                    </a:lnTo>
                    <a:lnTo>
                      <a:pt x="1538" y="3"/>
                    </a:lnTo>
                    <a:lnTo>
                      <a:pt x="1540" y="4"/>
                    </a:lnTo>
                    <a:lnTo>
                      <a:pt x="1541" y="5"/>
                    </a:lnTo>
                    <a:lnTo>
                      <a:pt x="1541" y="7"/>
                    </a:lnTo>
                    <a:lnTo>
                      <a:pt x="1573" y="7"/>
                    </a:lnTo>
                    <a:lnTo>
                      <a:pt x="1573" y="5"/>
                    </a:lnTo>
                    <a:lnTo>
                      <a:pt x="1574" y="4"/>
                    </a:lnTo>
                    <a:lnTo>
                      <a:pt x="1576" y="3"/>
                    </a:lnTo>
                    <a:lnTo>
                      <a:pt x="1577" y="3"/>
                    </a:lnTo>
                    <a:lnTo>
                      <a:pt x="1579" y="3"/>
                    </a:lnTo>
                    <a:lnTo>
                      <a:pt x="1580" y="4"/>
                    </a:lnTo>
                    <a:lnTo>
                      <a:pt x="1581" y="5"/>
                    </a:lnTo>
                    <a:lnTo>
                      <a:pt x="1582" y="7"/>
                    </a:lnTo>
                    <a:lnTo>
                      <a:pt x="1601" y="7"/>
                    </a:lnTo>
                    <a:lnTo>
                      <a:pt x="1601" y="5"/>
                    </a:lnTo>
                    <a:lnTo>
                      <a:pt x="1602" y="4"/>
                    </a:lnTo>
                    <a:lnTo>
                      <a:pt x="1603" y="3"/>
                    </a:lnTo>
                    <a:lnTo>
                      <a:pt x="1605" y="3"/>
                    </a:lnTo>
                    <a:lnTo>
                      <a:pt x="1607" y="3"/>
                    </a:lnTo>
                    <a:lnTo>
                      <a:pt x="1608" y="4"/>
                    </a:lnTo>
                    <a:lnTo>
                      <a:pt x="1609" y="5"/>
                    </a:lnTo>
                    <a:lnTo>
                      <a:pt x="1610" y="7"/>
                    </a:lnTo>
                    <a:lnTo>
                      <a:pt x="1624" y="7"/>
                    </a:lnTo>
                    <a:lnTo>
                      <a:pt x="1624" y="27"/>
                    </a:lnTo>
                  </a:path>
                </a:pathLst>
              </a:custGeom>
              <a:noFill/>
              <a:ln w="1440">
                <a:solidFill>
                  <a:srgbClr val="ff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34" name=""/>
              <p:cNvSpPr/>
              <p:nvPr/>
            </p:nvSpPr>
            <p:spPr>
              <a:xfrm>
                <a:off x="4994640" y="308196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35" name=""/>
              <p:cNvSpPr/>
              <p:nvPr/>
            </p:nvSpPr>
            <p:spPr>
              <a:xfrm>
                <a:off x="4994640" y="3064680"/>
                <a:ext cx="1135800" cy="113400"/>
              </a:xfrm>
              <a:custGeom>
                <a:avLst/>
                <a:gdLst/>
                <a:ahLst/>
                <a:rect l="l" t="t" r="r" b="b"/>
                <a:pathLst>
                  <a:path w="1073" h="85">
                    <a:moveTo>
                      <a:pt x="0" y="7"/>
                    </a:moveTo>
                    <a:lnTo>
                      <a:pt x="97" y="7"/>
                    </a:lnTo>
                    <a:lnTo>
                      <a:pt x="97" y="6"/>
                    </a:lnTo>
                    <a:lnTo>
                      <a:pt x="98" y="4"/>
                    </a:lnTo>
                    <a:lnTo>
                      <a:pt x="100" y="3"/>
                    </a:lnTo>
                    <a:lnTo>
                      <a:pt x="102" y="2"/>
                    </a:lnTo>
                    <a:lnTo>
                      <a:pt x="104" y="2"/>
                    </a:lnTo>
                    <a:lnTo>
                      <a:pt x="106" y="2"/>
                    </a:lnTo>
                    <a:lnTo>
                      <a:pt x="108" y="3"/>
                    </a:lnTo>
                    <a:lnTo>
                      <a:pt x="109" y="4"/>
                    </a:lnTo>
                    <a:lnTo>
                      <a:pt x="110" y="6"/>
                    </a:lnTo>
                    <a:lnTo>
                      <a:pt x="110" y="7"/>
                    </a:lnTo>
                    <a:lnTo>
                      <a:pt x="117" y="7"/>
                    </a:lnTo>
                    <a:lnTo>
                      <a:pt x="118" y="6"/>
                    </a:lnTo>
                    <a:lnTo>
                      <a:pt x="119" y="5"/>
                    </a:lnTo>
                    <a:lnTo>
                      <a:pt x="120" y="4"/>
                    </a:lnTo>
                    <a:lnTo>
                      <a:pt x="122" y="4"/>
                    </a:lnTo>
                    <a:lnTo>
                      <a:pt x="124" y="4"/>
                    </a:lnTo>
                    <a:lnTo>
                      <a:pt x="125" y="5"/>
                    </a:lnTo>
                    <a:lnTo>
                      <a:pt x="126" y="6"/>
                    </a:lnTo>
                    <a:lnTo>
                      <a:pt x="126" y="7"/>
                    </a:lnTo>
                    <a:lnTo>
                      <a:pt x="133" y="7"/>
                    </a:lnTo>
                    <a:lnTo>
                      <a:pt x="133" y="5"/>
                    </a:lnTo>
                    <a:lnTo>
                      <a:pt x="134" y="4"/>
                    </a:lnTo>
                    <a:lnTo>
                      <a:pt x="135" y="3"/>
                    </a:lnTo>
                    <a:lnTo>
                      <a:pt x="137" y="2"/>
                    </a:lnTo>
                    <a:lnTo>
                      <a:pt x="139" y="1"/>
                    </a:lnTo>
                    <a:lnTo>
                      <a:pt x="141" y="1"/>
                    </a:lnTo>
                    <a:lnTo>
                      <a:pt x="144" y="2"/>
                    </a:lnTo>
                    <a:lnTo>
                      <a:pt x="145" y="3"/>
                    </a:lnTo>
                    <a:lnTo>
                      <a:pt x="147" y="4"/>
                    </a:lnTo>
                    <a:lnTo>
                      <a:pt x="148" y="5"/>
                    </a:lnTo>
                    <a:lnTo>
                      <a:pt x="148" y="7"/>
                    </a:lnTo>
                    <a:lnTo>
                      <a:pt x="158" y="7"/>
                    </a:lnTo>
                    <a:lnTo>
                      <a:pt x="158" y="6"/>
                    </a:lnTo>
                    <a:lnTo>
                      <a:pt x="159" y="5"/>
                    </a:lnTo>
                    <a:lnTo>
                      <a:pt x="161" y="4"/>
                    </a:lnTo>
                    <a:lnTo>
                      <a:pt x="162" y="4"/>
                    </a:lnTo>
                    <a:lnTo>
                      <a:pt x="164" y="4"/>
                    </a:lnTo>
                    <a:lnTo>
                      <a:pt x="165" y="5"/>
                    </a:lnTo>
                    <a:lnTo>
                      <a:pt x="166" y="6"/>
                    </a:lnTo>
                    <a:lnTo>
                      <a:pt x="167" y="7"/>
                    </a:lnTo>
                    <a:lnTo>
                      <a:pt x="173" y="7"/>
                    </a:lnTo>
                    <a:lnTo>
                      <a:pt x="173" y="6"/>
                    </a:lnTo>
                    <a:lnTo>
                      <a:pt x="174" y="5"/>
                    </a:lnTo>
                    <a:lnTo>
                      <a:pt x="176" y="4"/>
                    </a:lnTo>
                    <a:lnTo>
                      <a:pt x="178" y="4"/>
                    </a:lnTo>
                    <a:lnTo>
                      <a:pt x="179" y="4"/>
                    </a:lnTo>
                    <a:lnTo>
                      <a:pt x="181" y="5"/>
                    </a:lnTo>
                    <a:lnTo>
                      <a:pt x="182" y="6"/>
                    </a:lnTo>
                    <a:lnTo>
                      <a:pt x="182" y="7"/>
                    </a:lnTo>
                    <a:lnTo>
                      <a:pt x="191" y="7"/>
                    </a:lnTo>
                    <a:lnTo>
                      <a:pt x="191" y="6"/>
                    </a:lnTo>
                    <a:lnTo>
                      <a:pt x="192" y="5"/>
                    </a:lnTo>
                    <a:lnTo>
                      <a:pt x="193" y="4"/>
                    </a:lnTo>
                    <a:lnTo>
                      <a:pt x="195" y="4"/>
                    </a:lnTo>
                    <a:lnTo>
                      <a:pt x="197" y="4"/>
                    </a:lnTo>
                    <a:lnTo>
                      <a:pt x="198" y="5"/>
                    </a:lnTo>
                    <a:lnTo>
                      <a:pt x="199" y="6"/>
                    </a:lnTo>
                    <a:lnTo>
                      <a:pt x="200" y="7"/>
                    </a:lnTo>
                    <a:lnTo>
                      <a:pt x="220" y="7"/>
                    </a:lnTo>
                    <a:lnTo>
                      <a:pt x="220" y="6"/>
                    </a:lnTo>
                    <a:lnTo>
                      <a:pt x="221" y="5"/>
                    </a:lnTo>
                    <a:lnTo>
                      <a:pt x="223" y="4"/>
                    </a:lnTo>
                    <a:lnTo>
                      <a:pt x="225" y="4"/>
                    </a:lnTo>
                    <a:lnTo>
                      <a:pt x="226" y="4"/>
                    </a:lnTo>
                    <a:lnTo>
                      <a:pt x="228" y="5"/>
                    </a:lnTo>
                    <a:lnTo>
                      <a:pt x="229" y="6"/>
                    </a:lnTo>
                    <a:lnTo>
                      <a:pt x="229" y="7"/>
                    </a:lnTo>
                    <a:lnTo>
                      <a:pt x="274" y="7"/>
                    </a:lnTo>
                    <a:lnTo>
                      <a:pt x="275" y="6"/>
                    </a:lnTo>
                    <a:lnTo>
                      <a:pt x="276" y="5"/>
                    </a:lnTo>
                    <a:lnTo>
                      <a:pt x="277" y="4"/>
                    </a:lnTo>
                    <a:lnTo>
                      <a:pt x="279" y="4"/>
                    </a:lnTo>
                    <a:lnTo>
                      <a:pt x="281" y="4"/>
                    </a:lnTo>
                    <a:lnTo>
                      <a:pt x="282" y="5"/>
                    </a:lnTo>
                    <a:lnTo>
                      <a:pt x="283" y="6"/>
                    </a:lnTo>
                    <a:lnTo>
                      <a:pt x="283" y="7"/>
                    </a:lnTo>
                    <a:lnTo>
                      <a:pt x="308" y="7"/>
                    </a:lnTo>
                    <a:lnTo>
                      <a:pt x="308" y="6"/>
                    </a:lnTo>
                    <a:lnTo>
                      <a:pt x="309" y="5"/>
                    </a:lnTo>
                    <a:lnTo>
                      <a:pt x="311" y="4"/>
                    </a:lnTo>
                    <a:lnTo>
                      <a:pt x="313" y="4"/>
                    </a:lnTo>
                    <a:lnTo>
                      <a:pt x="314" y="4"/>
                    </a:lnTo>
                    <a:lnTo>
                      <a:pt x="316" y="5"/>
                    </a:lnTo>
                    <a:lnTo>
                      <a:pt x="317" y="6"/>
                    </a:lnTo>
                    <a:lnTo>
                      <a:pt x="317" y="7"/>
                    </a:lnTo>
                    <a:lnTo>
                      <a:pt x="336" y="7"/>
                    </a:lnTo>
                    <a:lnTo>
                      <a:pt x="336" y="6"/>
                    </a:lnTo>
                    <a:lnTo>
                      <a:pt x="337" y="5"/>
                    </a:lnTo>
                    <a:lnTo>
                      <a:pt x="339" y="4"/>
                    </a:lnTo>
                    <a:lnTo>
                      <a:pt x="340" y="4"/>
                    </a:lnTo>
                    <a:lnTo>
                      <a:pt x="342" y="4"/>
                    </a:lnTo>
                    <a:lnTo>
                      <a:pt x="344" y="5"/>
                    </a:lnTo>
                    <a:lnTo>
                      <a:pt x="345" y="6"/>
                    </a:lnTo>
                    <a:lnTo>
                      <a:pt x="345" y="7"/>
                    </a:lnTo>
                    <a:lnTo>
                      <a:pt x="374" y="7"/>
                    </a:lnTo>
                    <a:lnTo>
                      <a:pt x="374" y="6"/>
                    </a:lnTo>
                    <a:lnTo>
                      <a:pt x="375" y="5"/>
                    </a:lnTo>
                    <a:lnTo>
                      <a:pt x="377" y="4"/>
                    </a:lnTo>
                    <a:lnTo>
                      <a:pt x="378" y="4"/>
                    </a:lnTo>
                    <a:lnTo>
                      <a:pt x="380" y="4"/>
                    </a:lnTo>
                    <a:lnTo>
                      <a:pt x="382" y="5"/>
                    </a:lnTo>
                    <a:lnTo>
                      <a:pt x="383" y="6"/>
                    </a:lnTo>
                    <a:lnTo>
                      <a:pt x="383" y="7"/>
                    </a:lnTo>
                    <a:lnTo>
                      <a:pt x="394" y="7"/>
                    </a:lnTo>
                    <a:lnTo>
                      <a:pt x="394" y="6"/>
                    </a:lnTo>
                    <a:lnTo>
                      <a:pt x="395" y="5"/>
                    </a:lnTo>
                    <a:lnTo>
                      <a:pt x="397" y="4"/>
                    </a:lnTo>
                    <a:lnTo>
                      <a:pt x="398" y="4"/>
                    </a:lnTo>
                    <a:lnTo>
                      <a:pt x="400" y="4"/>
                    </a:lnTo>
                    <a:lnTo>
                      <a:pt x="401" y="5"/>
                    </a:lnTo>
                    <a:lnTo>
                      <a:pt x="403" y="6"/>
                    </a:lnTo>
                    <a:lnTo>
                      <a:pt x="403" y="7"/>
                    </a:lnTo>
                    <a:lnTo>
                      <a:pt x="405" y="7"/>
                    </a:lnTo>
                    <a:lnTo>
                      <a:pt x="405" y="6"/>
                    </a:lnTo>
                    <a:lnTo>
                      <a:pt x="406" y="5"/>
                    </a:lnTo>
                    <a:lnTo>
                      <a:pt x="408" y="4"/>
                    </a:lnTo>
                    <a:lnTo>
                      <a:pt x="409" y="4"/>
                    </a:lnTo>
                    <a:lnTo>
                      <a:pt x="411" y="4"/>
                    </a:lnTo>
                    <a:lnTo>
                      <a:pt x="413" y="5"/>
                    </a:lnTo>
                    <a:lnTo>
                      <a:pt x="414" y="6"/>
                    </a:lnTo>
                    <a:lnTo>
                      <a:pt x="414" y="7"/>
                    </a:lnTo>
                    <a:lnTo>
                      <a:pt x="414" y="7"/>
                    </a:lnTo>
                    <a:lnTo>
                      <a:pt x="415" y="6"/>
                    </a:lnTo>
                    <a:lnTo>
                      <a:pt x="416" y="5"/>
                    </a:lnTo>
                    <a:lnTo>
                      <a:pt x="417" y="4"/>
                    </a:lnTo>
                    <a:lnTo>
                      <a:pt x="419" y="4"/>
                    </a:lnTo>
                    <a:lnTo>
                      <a:pt x="421" y="4"/>
                    </a:lnTo>
                    <a:lnTo>
                      <a:pt x="422" y="5"/>
                    </a:lnTo>
                    <a:lnTo>
                      <a:pt x="423" y="6"/>
                    </a:lnTo>
                    <a:lnTo>
                      <a:pt x="423" y="7"/>
                    </a:lnTo>
                    <a:lnTo>
                      <a:pt x="425" y="7"/>
                    </a:lnTo>
                    <a:lnTo>
                      <a:pt x="426" y="5"/>
                    </a:lnTo>
                    <a:lnTo>
                      <a:pt x="427" y="4"/>
                    </a:lnTo>
                    <a:lnTo>
                      <a:pt x="428" y="2"/>
                    </a:lnTo>
                    <a:lnTo>
                      <a:pt x="430" y="1"/>
                    </a:lnTo>
                    <a:lnTo>
                      <a:pt x="433" y="0"/>
                    </a:lnTo>
                    <a:lnTo>
                      <a:pt x="435" y="0"/>
                    </a:lnTo>
                    <a:lnTo>
                      <a:pt x="437" y="1"/>
                    </a:lnTo>
                    <a:lnTo>
                      <a:pt x="440" y="2"/>
                    </a:lnTo>
                    <a:lnTo>
                      <a:pt x="441" y="4"/>
                    </a:lnTo>
                    <a:lnTo>
                      <a:pt x="442" y="5"/>
                    </a:lnTo>
                    <a:lnTo>
                      <a:pt x="443" y="7"/>
                    </a:lnTo>
                    <a:lnTo>
                      <a:pt x="447" y="7"/>
                    </a:lnTo>
                    <a:lnTo>
                      <a:pt x="447" y="5"/>
                    </a:lnTo>
                    <a:lnTo>
                      <a:pt x="448" y="4"/>
                    </a:lnTo>
                    <a:lnTo>
                      <a:pt x="450" y="2"/>
                    </a:lnTo>
                    <a:lnTo>
                      <a:pt x="452" y="1"/>
                    </a:lnTo>
                    <a:lnTo>
                      <a:pt x="454" y="1"/>
                    </a:lnTo>
                    <a:lnTo>
                      <a:pt x="456" y="1"/>
                    </a:lnTo>
                    <a:lnTo>
                      <a:pt x="458" y="1"/>
                    </a:lnTo>
                    <a:lnTo>
                      <a:pt x="461" y="2"/>
                    </a:lnTo>
                    <a:lnTo>
                      <a:pt x="462" y="4"/>
                    </a:lnTo>
                    <a:lnTo>
                      <a:pt x="463" y="5"/>
                    </a:lnTo>
                    <a:lnTo>
                      <a:pt x="463" y="7"/>
                    </a:lnTo>
                    <a:lnTo>
                      <a:pt x="478" y="7"/>
                    </a:lnTo>
                    <a:lnTo>
                      <a:pt x="478" y="6"/>
                    </a:lnTo>
                    <a:lnTo>
                      <a:pt x="479" y="5"/>
                    </a:lnTo>
                    <a:lnTo>
                      <a:pt x="481" y="4"/>
                    </a:lnTo>
                    <a:lnTo>
                      <a:pt x="482" y="4"/>
                    </a:lnTo>
                    <a:lnTo>
                      <a:pt x="484" y="4"/>
                    </a:lnTo>
                    <a:lnTo>
                      <a:pt x="486" y="5"/>
                    </a:lnTo>
                    <a:lnTo>
                      <a:pt x="486" y="6"/>
                    </a:lnTo>
                    <a:lnTo>
                      <a:pt x="487" y="7"/>
                    </a:lnTo>
                    <a:lnTo>
                      <a:pt x="494" y="7"/>
                    </a:lnTo>
                    <a:lnTo>
                      <a:pt x="494" y="6"/>
                    </a:lnTo>
                    <a:lnTo>
                      <a:pt x="495" y="5"/>
                    </a:lnTo>
                    <a:lnTo>
                      <a:pt x="497" y="4"/>
                    </a:lnTo>
                    <a:lnTo>
                      <a:pt x="498" y="4"/>
                    </a:lnTo>
                    <a:lnTo>
                      <a:pt x="500" y="4"/>
                    </a:lnTo>
                    <a:lnTo>
                      <a:pt x="502" y="5"/>
                    </a:lnTo>
                    <a:lnTo>
                      <a:pt x="502" y="6"/>
                    </a:lnTo>
                    <a:lnTo>
                      <a:pt x="503" y="7"/>
                    </a:lnTo>
                    <a:lnTo>
                      <a:pt x="506" y="7"/>
                    </a:lnTo>
                    <a:lnTo>
                      <a:pt x="506" y="6"/>
                    </a:lnTo>
                    <a:lnTo>
                      <a:pt x="507" y="5"/>
                    </a:lnTo>
                    <a:lnTo>
                      <a:pt x="508" y="4"/>
                    </a:lnTo>
                    <a:lnTo>
                      <a:pt x="510" y="4"/>
                    </a:lnTo>
                    <a:lnTo>
                      <a:pt x="512" y="4"/>
                    </a:lnTo>
                    <a:lnTo>
                      <a:pt x="513" y="5"/>
                    </a:lnTo>
                    <a:lnTo>
                      <a:pt x="514" y="6"/>
                    </a:lnTo>
                    <a:lnTo>
                      <a:pt x="514" y="7"/>
                    </a:lnTo>
                    <a:lnTo>
                      <a:pt x="571" y="7"/>
                    </a:lnTo>
                    <a:lnTo>
                      <a:pt x="572" y="6"/>
                    </a:lnTo>
                    <a:lnTo>
                      <a:pt x="573" y="5"/>
                    </a:lnTo>
                    <a:lnTo>
                      <a:pt x="574" y="4"/>
                    </a:lnTo>
                    <a:lnTo>
                      <a:pt x="576" y="4"/>
                    </a:lnTo>
                    <a:lnTo>
                      <a:pt x="578" y="4"/>
                    </a:lnTo>
                    <a:lnTo>
                      <a:pt x="579" y="5"/>
                    </a:lnTo>
                    <a:lnTo>
                      <a:pt x="580" y="6"/>
                    </a:lnTo>
                    <a:lnTo>
                      <a:pt x="580" y="7"/>
                    </a:lnTo>
                    <a:lnTo>
                      <a:pt x="617" y="7"/>
                    </a:lnTo>
                    <a:lnTo>
                      <a:pt x="617" y="6"/>
                    </a:lnTo>
                    <a:lnTo>
                      <a:pt x="618" y="5"/>
                    </a:lnTo>
                    <a:lnTo>
                      <a:pt x="620" y="4"/>
                    </a:lnTo>
                    <a:lnTo>
                      <a:pt x="622" y="4"/>
                    </a:lnTo>
                    <a:lnTo>
                      <a:pt x="623" y="4"/>
                    </a:lnTo>
                    <a:lnTo>
                      <a:pt x="625" y="5"/>
                    </a:lnTo>
                    <a:lnTo>
                      <a:pt x="626" y="6"/>
                    </a:lnTo>
                    <a:lnTo>
                      <a:pt x="626" y="7"/>
                    </a:lnTo>
                    <a:lnTo>
                      <a:pt x="751" y="7"/>
                    </a:lnTo>
                    <a:lnTo>
                      <a:pt x="751" y="6"/>
                    </a:lnTo>
                    <a:lnTo>
                      <a:pt x="752" y="5"/>
                    </a:lnTo>
                    <a:lnTo>
                      <a:pt x="753" y="4"/>
                    </a:lnTo>
                    <a:lnTo>
                      <a:pt x="755" y="4"/>
                    </a:lnTo>
                    <a:lnTo>
                      <a:pt x="757" y="4"/>
                    </a:lnTo>
                    <a:lnTo>
                      <a:pt x="758" y="5"/>
                    </a:lnTo>
                    <a:lnTo>
                      <a:pt x="759" y="6"/>
                    </a:lnTo>
                    <a:lnTo>
                      <a:pt x="760" y="7"/>
                    </a:lnTo>
                    <a:lnTo>
                      <a:pt x="764" y="7"/>
                    </a:lnTo>
                    <a:lnTo>
                      <a:pt x="764" y="6"/>
                    </a:lnTo>
                    <a:lnTo>
                      <a:pt x="765" y="4"/>
                    </a:lnTo>
                    <a:lnTo>
                      <a:pt x="767" y="3"/>
                    </a:lnTo>
                    <a:lnTo>
                      <a:pt x="769" y="2"/>
                    </a:lnTo>
                    <a:lnTo>
                      <a:pt x="770" y="2"/>
                    </a:lnTo>
                    <a:lnTo>
                      <a:pt x="773" y="2"/>
                    </a:lnTo>
                    <a:lnTo>
                      <a:pt x="774" y="3"/>
                    </a:lnTo>
                    <a:lnTo>
                      <a:pt x="776" y="4"/>
                    </a:lnTo>
                    <a:lnTo>
                      <a:pt x="777" y="6"/>
                    </a:lnTo>
                    <a:lnTo>
                      <a:pt x="777" y="7"/>
                    </a:lnTo>
                    <a:lnTo>
                      <a:pt x="779" y="7"/>
                    </a:lnTo>
                    <a:lnTo>
                      <a:pt x="780" y="6"/>
                    </a:lnTo>
                    <a:lnTo>
                      <a:pt x="781" y="5"/>
                    </a:lnTo>
                    <a:lnTo>
                      <a:pt x="782" y="4"/>
                    </a:lnTo>
                    <a:lnTo>
                      <a:pt x="784" y="4"/>
                    </a:lnTo>
                    <a:lnTo>
                      <a:pt x="785" y="4"/>
                    </a:lnTo>
                    <a:lnTo>
                      <a:pt x="787" y="5"/>
                    </a:lnTo>
                    <a:lnTo>
                      <a:pt x="788" y="6"/>
                    </a:lnTo>
                    <a:lnTo>
                      <a:pt x="788" y="7"/>
                    </a:lnTo>
                    <a:lnTo>
                      <a:pt x="812" y="7"/>
                    </a:lnTo>
                    <a:lnTo>
                      <a:pt x="812" y="6"/>
                    </a:lnTo>
                    <a:lnTo>
                      <a:pt x="813" y="5"/>
                    </a:lnTo>
                    <a:lnTo>
                      <a:pt x="814" y="4"/>
                    </a:lnTo>
                    <a:lnTo>
                      <a:pt x="816" y="4"/>
                    </a:lnTo>
                    <a:lnTo>
                      <a:pt x="818" y="4"/>
                    </a:lnTo>
                    <a:lnTo>
                      <a:pt x="819" y="5"/>
                    </a:lnTo>
                    <a:lnTo>
                      <a:pt x="820" y="6"/>
                    </a:lnTo>
                    <a:lnTo>
                      <a:pt x="821" y="7"/>
                    </a:lnTo>
                    <a:lnTo>
                      <a:pt x="832" y="7"/>
                    </a:lnTo>
                    <a:lnTo>
                      <a:pt x="832" y="6"/>
                    </a:lnTo>
                    <a:lnTo>
                      <a:pt x="833" y="5"/>
                    </a:lnTo>
                    <a:lnTo>
                      <a:pt x="834" y="4"/>
                    </a:lnTo>
                    <a:lnTo>
                      <a:pt x="836" y="4"/>
                    </a:lnTo>
                    <a:lnTo>
                      <a:pt x="838" y="4"/>
                    </a:lnTo>
                    <a:lnTo>
                      <a:pt x="839" y="5"/>
                    </a:lnTo>
                    <a:lnTo>
                      <a:pt x="840" y="6"/>
                    </a:lnTo>
                    <a:lnTo>
                      <a:pt x="841" y="7"/>
                    </a:lnTo>
                    <a:lnTo>
                      <a:pt x="876" y="7"/>
                    </a:lnTo>
                    <a:lnTo>
                      <a:pt x="876" y="5"/>
                    </a:lnTo>
                    <a:lnTo>
                      <a:pt x="877" y="4"/>
                    </a:lnTo>
                    <a:lnTo>
                      <a:pt x="878" y="2"/>
                    </a:lnTo>
                    <a:lnTo>
                      <a:pt x="880" y="1"/>
                    </a:lnTo>
                    <a:lnTo>
                      <a:pt x="883" y="1"/>
                    </a:lnTo>
                    <a:lnTo>
                      <a:pt x="885" y="1"/>
                    </a:lnTo>
                    <a:lnTo>
                      <a:pt x="888" y="1"/>
                    </a:lnTo>
                    <a:lnTo>
                      <a:pt x="890" y="2"/>
                    </a:lnTo>
                    <a:lnTo>
                      <a:pt x="891" y="4"/>
                    </a:lnTo>
                    <a:lnTo>
                      <a:pt x="892" y="5"/>
                    </a:lnTo>
                    <a:lnTo>
                      <a:pt x="893" y="7"/>
                    </a:lnTo>
                    <a:lnTo>
                      <a:pt x="907" y="7"/>
                    </a:lnTo>
                    <a:lnTo>
                      <a:pt x="907" y="6"/>
                    </a:lnTo>
                    <a:lnTo>
                      <a:pt x="908" y="5"/>
                    </a:lnTo>
                    <a:lnTo>
                      <a:pt x="910" y="4"/>
                    </a:lnTo>
                    <a:lnTo>
                      <a:pt x="912" y="4"/>
                    </a:lnTo>
                    <a:lnTo>
                      <a:pt x="913" y="4"/>
                    </a:lnTo>
                    <a:lnTo>
                      <a:pt x="915" y="5"/>
                    </a:lnTo>
                    <a:lnTo>
                      <a:pt x="916" y="6"/>
                    </a:lnTo>
                    <a:lnTo>
                      <a:pt x="916" y="7"/>
                    </a:lnTo>
                    <a:lnTo>
                      <a:pt x="923" y="7"/>
                    </a:lnTo>
                    <a:lnTo>
                      <a:pt x="923" y="6"/>
                    </a:lnTo>
                    <a:lnTo>
                      <a:pt x="924" y="5"/>
                    </a:lnTo>
                    <a:lnTo>
                      <a:pt x="926" y="4"/>
                    </a:lnTo>
                    <a:lnTo>
                      <a:pt x="927" y="4"/>
                    </a:lnTo>
                    <a:lnTo>
                      <a:pt x="929" y="4"/>
                    </a:lnTo>
                    <a:lnTo>
                      <a:pt x="931" y="5"/>
                    </a:lnTo>
                    <a:lnTo>
                      <a:pt x="932" y="6"/>
                    </a:lnTo>
                    <a:lnTo>
                      <a:pt x="932" y="7"/>
                    </a:lnTo>
                    <a:lnTo>
                      <a:pt x="940" y="7"/>
                    </a:lnTo>
                    <a:lnTo>
                      <a:pt x="941" y="6"/>
                    </a:lnTo>
                    <a:lnTo>
                      <a:pt x="942" y="4"/>
                    </a:lnTo>
                    <a:lnTo>
                      <a:pt x="943" y="3"/>
                    </a:lnTo>
                    <a:lnTo>
                      <a:pt x="945" y="2"/>
                    </a:lnTo>
                    <a:lnTo>
                      <a:pt x="947" y="2"/>
                    </a:lnTo>
                    <a:lnTo>
                      <a:pt x="949" y="2"/>
                    </a:lnTo>
                    <a:lnTo>
                      <a:pt x="951" y="3"/>
                    </a:lnTo>
                    <a:lnTo>
                      <a:pt x="953" y="4"/>
                    </a:lnTo>
                    <a:lnTo>
                      <a:pt x="953" y="6"/>
                    </a:lnTo>
                    <a:lnTo>
                      <a:pt x="954" y="7"/>
                    </a:lnTo>
                    <a:lnTo>
                      <a:pt x="977" y="7"/>
                    </a:lnTo>
                    <a:lnTo>
                      <a:pt x="978" y="6"/>
                    </a:lnTo>
                    <a:lnTo>
                      <a:pt x="979" y="5"/>
                    </a:lnTo>
                    <a:lnTo>
                      <a:pt x="980" y="4"/>
                    </a:lnTo>
                    <a:lnTo>
                      <a:pt x="982" y="4"/>
                    </a:lnTo>
                    <a:lnTo>
                      <a:pt x="984" y="4"/>
                    </a:lnTo>
                    <a:lnTo>
                      <a:pt x="985" y="5"/>
                    </a:lnTo>
                    <a:lnTo>
                      <a:pt x="986" y="6"/>
                    </a:lnTo>
                    <a:lnTo>
                      <a:pt x="986" y="7"/>
                    </a:lnTo>
                    <a:lnTo>
                      <a:pt x="993" y="7"/>
                    </a:lnTo>
                    <a:lnTo>
                      <a:pt x="993" y="5"/>
                    </a:lnTo>
                    <a:lnTo>
                      <a:pt x="994" y="4"/>
                    </a:lnTo>
                    <a:lnTo>
                      <a:pt x="996" y="2"/>
                    </a:lnTo>
                    <a:lnTo>
                      <a:pt x="998" y="1"/>
                    </a:lnTo>
                    <a:lnTo>
                      <a:pt x="1001" y="0"/>
                    </a:lnTo>
                    <a:lnTo>
                      <a:pt x="1003" y="0"/>
                    </a:lnTo>
                    <a:lnTo>
                      <a:pt x="1005" y="1"/>
                    </a:lnTo>
                    <a:lnTo>
                      <a:pt x="1008" y="2"/>
                    </a:lnTo>
                    <a:lnTo>
                      <a:pt x="1009" y="4"/>
                    </a:lnTo>
                    <a:lnTo>
                      <a:pt x="1010" y="5"/>
                    </a:lnTo>
                    <a:lnTo>
                      <a:pt x="1011" y="7"/>
                    </a:lnTo>
                    <a:lnTo>
                      <a:pt x="1073" y="7"/>
                    </a:lnTo>
                    <a:lnTo>
                      <a:pt x="1073"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6124320" y="3176640"/>
                <a:ext cx="12600" cy="13320"/>
              </a:xfrm>
              <a:custGeom>
                <a:avLst/>
                <a:gdLst/>
                <a:ahLst/>
                <a:rect l="l" t="t" r="r" b="b"/>
                <a:pathLst>
                  <a:path w="12" h="10">
                    <a:moveTo>
                      <a:pt x="12" y="1"/>
                    </a:moveTo>
                    <a:lnTo>
                      <a:pt x="6" y="10"/>
                    </a:lnTo>
                    <a:lnTo>
                      <a:pt x="0" y="1"/>
                    </a:lnTo>
                    <a:lnTo>
                      <a:pt x="2" y="0"/>
                    </a:lnTo>
                    <a:lnTo>
                      <a:pt x="6" y="0"/>
                    </a:lnTo>
                    <a:lnTo>
                      <a:pt x="8"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7" name=""/>
              <p:cNvSpPr/>
              <p:nvPr/>
            </p:nvSpPr>
            <p:spPr>
              <a:xfrm>
                <a:off x="6385680" y="2168280"/>
                <a:ext cx="217800" cy="83880"/>
              </a:xfrm>
              <a:prstGeom prst="rect">
                <a:avLst/>
              </a:prstGeom>
              <a:blipFill rotWithShape="0">
                <a:blip r:embed="rId94"/>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8" name=""/>
              <p:cNvSpPr/>
              <p:nvPr/>
            </p:nvSpPr>
            <p:spPr>
              <a:xfrm>
                <a:off x="6395760" y="2176200"/>
                <a:ext cx="188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Customer</a:t>
                </a:r>
                <a:endParaRPr b="0" lang="en-US" sz="300" spc="-1" strike="noStrike">
                  <a:solidFill>
                    <a:srgbClr val="ffffff"/>
                  </a:solidFill>
                  <a:latin typeface="Arial"/>
                </a:endParaRPr>
              </a:p>
            </p:txBody>
          </p:sp>
          <p:sp>
            <p:nvSpPr>
              <p:cNvPr id="939" name=""/>
              <p:cNvSpPr/>
              <p:nvPr/>
            </p:nvSpPr>
            <p:spPr>
              <a:xfrm>
                <a:off x="6455880" y="2208240"/>
                <a:ext cx="104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Order</a:t>
                </a:r>
                <a:endParaRPr b="0" lang="en-US" sz="300" spc="-1" strike="noStrike">
                  <a:solidFill>
                    <a:srgbClr val="ffffff"/>
                  </a:solidFill>
                  <a:latin typeface="Arial"/>
                </a:endParaRPr>
              </a:p>
            </p:txBody>
          </p:sp>
          <p:sp>
            <p:nvSpPr>
              <p:cNvPr id="940" name=""/>
              <p:cNvSpPr/>
              <p:nvPr/>
            </p:nvSpPr>
            <p:spPr>
              <a:xfrm>
                <a:off x="4977720" y="3130200"/>
                <a:ext cx="1616400" cy="849240"/>
              </a:xfrm>
              <a:custGeom>
                <a:avLst/>
                <a:gdLst/>
                <a:ahLst/>
                <a:rect l="l" t="t" r="r" b="b"/>
                <a:pathLst>
                  <a:path w="1527" h="636">
                    <a:moveTo>
                      <a:pt x="1527" y="636"/>
                    </a:moveTo>
                    <a:lnTo>
                      <a:pt x="1527" y="10"/>
                    </a:lnTo>
                    <a:lnTo>
                      <a:pt x="1481" y="10"/>
                    </a:lnTo>
                    <a:lnTo>
                      <a:pt x="1481" y="9"/>
                    </a:lnTo>
                    <a:lnTo>
                      <a:pt x="1480" y="7"/>
                    </a:lnTo>
                    <a:lnTo>
                      <a:pt x="1478" y="5"/>
                    </a:lnTo>
                    <a:lnTo>
                      <a:pt x="1476" y="4"/>
                    </a:lnTo>
                    <a:lnTo>
                      <a:pt x="1474" y="4"/>
                    </a:lnTo>
                    <a:lnTo>
                      <a:pt x="1471" y="4"/>
                    </a:lnTo>
                    <a:lnTo>
                      <a:pt x="1469" y="4"/>
                    </a:lnTo>
                    <a:lnTo>
                      <a:pt x="1467" y="5"/>
                    </a:lnTo>
                    <a:lnTo>
                      <a:pt x="1465" y="7"/>
                    </a:lnTo>
                    <a:lnTo>
                      <a:pt x="1464" y="9"/>
                    </a:lnTo>
                    <a:lnTo>
                      <a:pt x="1464" y="10"/>
                    </a:lnTo>
                    <a:lnTo>
                      <a:pt x="1459" y="10"/>
                    </a:lnTo>
                    <a:lnTo>
                      <a:pt x="1459" y="9"/>
                    </a:lnTo>
                    <a:lnTo>
                      <a:pt x="1458" y="8"/>
                    </a:lnTo>
                    <a:lnTo>
                      <a:pt x="1457" y="7"/>
                    </a:lnTo>
                    <a:lnTo>
                      <a:pt x="1455" y="7"/>
                    </a:lnTo>
                    <a:lnTo>
                      <a:pt x="1453" y="7"/>
                    </a:lnTo>
                    <a:lnTo>
                      <a:pt x="1452" y="8"/>
                    </a:lnTo>
                    <a:lnTo>
                      <a:pt x="1451" y="9"/>
                    </a:lnTo>
                    <a:lnTo>
                      <a:pt x="1450" y="10"/>
                    </a:lnTo>
                    <a:lnTo>
                      <a:pt x="1448" y="10"/>
                    </a:lnTo>
                    <a:lnTo>
                      <a:pt x="1447" y="9"/>
                    </a:lnTo>
                    <a:lnTo>
                      <a:pt x="1446" y="8"/>
                    </a:lnTo>
                    <a:lnTo>
                      <a:pt x="1445" y="7"/>
                    </a:lnTo>
                    <a:lnTo>
                      <a:pt x="1443" y="7"/>
                    </a:lnTo>
                    <a:lnTo>
                      <a:pt x="1441" y="7"/>
                    </a:lnTo>
                    <a:lnTo>
                      <a:pt x="1440" y="8"/>
                    </a:lnTo>
                    <a:lnTo>
                      <a:pt x="1439" y="9"/>
                    </a:lnTo>
                    <a:lnTo>
                      <a:pt x="1439" y="10"/>
                    </a:lnTo>
                    <a:lnTo>
                      <a:pt x="1428" y="10"/>
                    </a:lnTo>
                    <a:lnTo>
                      <a:pt x="1428" y="9"/>
                    </a:lnTo>
                    <a:lnTo>
                      <a:pt x="1427" y="8"/>
                    </a:lnTo>
                    <a:lnTo>
                      <a:pt x="1425" y="7"/>
                    </a:lnTo>
                    <a:lnTo>
                      <a:pt x="1424" y="7"/>
                    </a:lnTo>
                    <a:lnTo>
                      <a:pt x="1422" y="7"/>
                    </a:lnTo>
                    <a:lnTo>
                      <a:pt x="1421" y="8"/>
                    </a:lnTo>
                    <a:lnTo>
                      <a:pt x="1420" y="9"/>
                    </a:lnTo>
                    <a:lnTo>
                      <a:pt x="1419" y="10"/>
                    </a:lnTo>
                    <a:lnTo>
                      <a:pt x="1408" y="10"/>
                    </a:lnTo>
                    <a:lnTo>
                      <a:pt x="1408" y="9"/>
                    </a:lnTo>
                    <a:lnTo>
                      <a:pt x="1407" y="8"/>
                    </a:lnTo>
                    <a:lnTo>
                      <a:pt x="1406" y="7"/>
                    </a:lnTo>
                    <a:lnTo>
                      <a:pt x="1404" y="7"/>
                    </a:lnTo>
                    <a:lnTo>
                      <a:pt x="1402" y="7"/>
                    </a:lnTo>
                    <a:lnTo>
                      <a:pt x="1401" y="8"/>
                    </a:lnTo>
                    <a:lnTo>
                      <a:pt x="1400" y="9"/>
                    </a:lnTo>
                    <a:lnTo>
                      <a:pt x="1400" y="10"/>
                    </a:lnTo>
                    <a:lnTo>
                      <a:pt x="1387" y="10"/>
                    </a:lnTo>
                    <a:lnTo>
                      <a:pt x="1386" y="9"/>
                    </a:lnTo>
                    <a:lnTo>
                      <a:pt x="1385" y="8"/>
                    </a:lnTo>
                    <a:lnTo>
                      <a:pt x="1384" y="7"/>
                    </a:lnTo>
                    <a:lnTo>
                      <a:pt x="1382" y="7"/>
                    </a:lnTo>
                    <a:lnTo>
                      <a:pt x="1381" y="7"/>
                    </a:lnTo>
                    <a:lnTo>
                      <a:pt x="1379" y="8"/>
                    </a:lnTo>
                    <a:lnTo>
                      <a:pt x="1378" y="9"/>
                    </a:lnTo>
                    <a:lnTo>
                      <a:pt x="1378" y="10"/>
                    </a:lnTo>
                    <a:lnTo>
                      <a:pt x="1363" y="10"/>
                    </a:lnTo>
                    <a:lnTo>
                      <a:pt x="1363" y="9"/>
                    </a:lnTo>
                    <a:lnTo>
                      <a:pt x="1362" y="8"/>
                    </a:lnTo>
                    <a:lnTo>
                      <a:pt x="1360" y="7"/>
                    </a:lnTo>
                    <a:lnTo>
                      <a:pt x="1359" y="7"/>
                    </a:lnTo>
                    <a:lnTo>
                      <a:pt x="1357" y="7"/>
                    </a:lnTo>
                    <a:lnTo>
                      <a:pt x="1355" y="8"/>
                    </a:lnTo>
                    <a:lnTo>
                      <a:pt x="1355" y="9"/>
                    </a:lnTo>
                    <a:lnTo>
                      <a:pt x="1354" y="10"/>
                    </a:lnTo>
                    <a:lnTo>
                      <a:pt x="1327" y="10"/>
                    </a:lnTo>
                    <a:lnTo>
                      <a:pt x="1327" y="9"/>
                    </a:lnTo>
                    <a:lnTo>
                      <a:pt x="1326" y="7"/>
                    </a:lnTo>
                    <a:lnTo>
                      <a:pt x="1324" y="6"/>
                    </a:lnTo>
                    <a:lnTo>
                      <a:pt x="1323" y="5"/>
                    </a:lnTo>
                    <a:lnTo>
                      <a:pt x="1320" y="5"/>
                    </a:lnTo>
                    <a:lnTo>
                      <a:pt x="1318" y="5"/>
                    </a:lnTo>
                    <a:lnTo>
                      <a:pt x="1316" y="6"/>
                    </a:lnTo>
                    <a:lnTo>
                      <a:pt x="1315" y="7"/>
                    </a:lnTo>
                    <a:lnTo>
                      <a:pt x="1314" y="9"/>
                    </a:lnTo>
                    <a:lnTo>
                      <a:pt x="1314" y="10"/>
                    </a:lnTo>
                    <a:lnTo>
                      <a:pt x="1306" y="10"/>
                    </a:lnTo>
                    <a:lnTo>
                      <a:pt x="1305" y="9"/>
                    </a:lnTo>
                    <a:lnTo>
                      <a:pt x="1304" y="8"/>
                    </a:lnTo>
                    <a:lnTo>
                      <a:pt x="1303" y="7"/>
                    </a:lnTo>
                    <a:lnTo>
                      <a:pt x="1301" y="7"/>
                    </a:lnTo>
                    <a:lnTo>
                      <a:pt x="1299" y="7"/>
                    </a:lnTo>
                    <a:lnTo>
                      <a:pt x="1298" y="8"/>
                    </a:lnTo>
                    <a:lnTo>
                      <a:pt x="1297" y="9"/>
                    </a:lnTo>
                    <a:lnTo>
                      <a:pt x="1297" y="10"/>
                    </a:lnTo>
                    <a:lnTo>
                      <a:pt x="1257" y="10"/>
                    </a:lnTo>
                    <a:lnTo>
                      <a:pt x="1256" y="9"/>
                    </a:lnTo>
                    <a:lnTo>
                      <a:pt x="1256" y="8"/>
                    </a:lnTo>
                    <a:lnTo>
                      <a:pt x="1254" y="7"/>
                    </a:lnTo>
                    <a:lnTo>
                      <a:pt x="1252" y="7"/>
                    </a:lnTo>
                    <a:lnTo>
                      <a:pt x="1251" y="7"/>
                    </a:lnTo>
                    <a:lnTo>
                      <a:pt x="1249" y="8"/>
                    </a:lnTo>
                    <a:lnTo>
                      <a:pt x="1248" y="9"/>
                    </a:lnTo>
                    <a:lnTo>
                      <a:pt x="1248" y="10"/>
                    </a:lnTo>
                    <a:lnTo>
                      <a:pt x="1235" y="10"/>
                    </a:lnTo>
                    <a:lnTo>
                      <a:pt x="1234" y="9"/>
                    </a:lnTo>
                    <a:lnTo>
                      <a:pt x="1234" y="7"/>
                    </a:lnTo>
                    <a:lnTo>
                      <a:pt x="1232" y="6"/>
                    </a:lnTo>
                    <a:lnTo>
                      <a:pt x="1230" y="5"/>
                    </a:lnTo>
                    <a:lnTo>
                      <a:pt x="1228" y="4"/>
                    </a:lnTo>
                    <a:lnTo>
                      <a:pt x="1226" y="4"/>
                    </a:lnTo>
                    <a:lnTo>
                      <a:pt x="1223" y="5"/>
                    </a:lnTo>
                    <a:lnTo>
                      <a:pt x="1221" y="6"/>
                    </a:lnTo>
                    <a:lnTo>
                      <a:pt x="1220" y="7"/>
                    </a:lnTo>
                    <a:lnTo>
                      <a:pt x="1219" y="9"/>
                    </a:lnTo>
                    <a:lnTo>
                      <a:pt x="1219" y="10"/>
                    </a:lnTo>
                    <a:lnTo>
                      <a:pt x="1164" y="10"/>
                    </a:lnTo>
                    <a:lnTo>
                      <a:pt x="1163" y="9"/>
                    </a:lnTo>
                    <a:lnTo>
                      <a:pt x="1163" y="8"/>
                    </a:lnTo>
                    <a:lnTo>
                      <a:pt x="1161" y="7"/>
                    </a:lnTo>
                    <a:lnTo>
                      <a:pt x="1159" y="7"/>
                    </a:lnTo>
                    <a:lnTo>
                      <a:pt x="1158" y="7"/>
                    </a:lnTo>
                    <a:lnTo>
                      <a:pt x="1156" y="8"/>
                    </a:lnTo>
                    <a:lnTo>
                      <a:pt x="1155" y="9"/>
                    </a:lnTo>
                    <a:lnTo>
                      <a:pt x="1155" y="10"/>
                    </a:lnTo>
                    <a:lnTo>
                      <a:pt x="1150" y="10"/>
                    </a:lnTo>
                    <a:lnTo>
                      <a:pt x="1150" y="9"/>
                    </a:lnTo>
                    <a:lnTo>
                      <a:pt x="1149" y="8"/>
                    </a:lnTo>
                    <a:lnTo>
                      <a:pt x="1148" y="7"/>
                    </a:lnTo>
                    <a:lnTo>
                      <a:pt x="1146" y="7"/>
                    </a:lnTo>
                    <a:lnTo>
                      <a:pt x="1144" y="7"/>
                    </a:lnTo>
                    <a:lnTo>
                      <a:pt x="1143" y="8"/>
                    </a:lnTo>
                    <a:lnTo>
                      <a:pt x="1142" y="9"/>
                    </a:lnTo>
                    <a:lnTo>
                      <a:pt x="1141" y="10"/>
                    </a:lnTo>
                    <a:lnTo>
                      <a:pt x="1120" y="10"/>
                    </a:lnTo>
                    <a:lnTo>
                      <a:pt x="1120" y="9"/>
                    </a:lnTo>
                    <a:lnTo>
                      <a:pt x="1119" y="8"/>
                    </a:lnTo>
                    <a:lnTo>
                      <a:pt x="1117" y="7"/>
                    </a:lnTo>
                    <a:lnTo>
                      <a:pt x="1116" y="7"/>
                    </a:lnTo>
                    <a:lnTo>
                      <a:pt x="1114" y="7"/>
                    </a:lnTo>
                    <a:lnTo>
                      <a:pt x="1112" y="8"/>
                    </a:lnTo>
                    <a:lnTo>
                      <a:pt x="1111" y="9"/>
                    </a:lnTo>
                    <a:lnTo>
                      <a:pt x="1111" y="10"/>
                    </a:lnTo>
                    <a:lnTo>
                      <a:pt x="1093" y="10"/>
                    </a:lnTo>
                    <a:lnTo>
                      <a:pt x="1093" y="9"/>
                    </a:lnTo>
                    <a:lnTo>
                      <a:pt x="1092" y="8"/>
                    </a:lnTo>
                    <a:lnTo>
                      <a:pt x="1090" y="7"/>
                    </a:lnTo>
                    <a:lnTo>
                      <a:pt x="1089" y="7"/>
                    </a:lnTo>
                    <a:lnTo>
                      <a:pt x="1087" y="7"/>
                    </a:lnTo>
                    <a:lnTo>
                      <a:pt x="1085" y="8"/>
                    </a:lnTo>
                    <a:lnTo>
                      <a:pt x="1084" y="9"/>
                    </a:lnTo>
                    <a:lnTo>
                      <a:pt x="1084" y="10"/>
                    </a:lnTo>
                    <a:lnTo>
                      <a:pt x="1027" y="10"/>
                    </a:lnTo>
                    <a:lnTo>
                      <a:pt x="1026" y="8"/>
                    </a:lnTo>
                    <a:lnTo>
                      <a:pt x="1025" y="7"/>
                    </a:lnTo>
                    <a:lnTo>
                      <a:pt x="1024" y="5"/>
                    </a:lnTo>
                    <a:lnTo>
                      <a:pt x="1021" y="4"/>
                    </a:lnTo>
                    <a:lnTo>
                      <a:pt x="1019" y="4"/>
                    </a:lnTo>
                    <a:lnTo>
                      <a:pt x="1017" y="4"/>
                    </a:lnTo>
                    <a:lnTo>
                      <a:pt x="1014" y="4"/>
                    </a:lnTo>
                    <a:lnTo>
                      <a:pt x="1012" y="5"/>
                    </a:lnTo>
                    <a:lnTo>
                      <a:pt x="1010" y="7"/>
                    </a:lnTo>
                    <a:lnTo>
                      <a:pt x="1009" y="8"/>
                    </a:lnTo>
                    <a:lnTo>
                      <a:pt x="1009" y="10"/>
                    </a:lnTo>
                    <a:lnTo>
                      <a:pt x="1002" y="10"/>
                    </a:lnTo>
                    <a:lnTo>
                      <a:pt x="1002" y="9"/>
                    </a:lnTo>
                    <a:lnTo>
                      <a:pt x="1001" y="8"/>
                    </a:lnTo>
                    <a:lnTo>
                      <a:pt x="1000" y="7"/>
                    </a:lnTo>
                    <a:lnTo>
                      <a:pt x="998" y="7"/>
                    </a:lnTo>
                    <a:lnTo>
                      <a:pt x="996" y="7"/>
                    </a:lnTo>
                    <a:lnTo>
                      <a:pt x="995" y="8"/>
                    </a:lnTo>
                    <a:lnTo>
                      <a:pt x="994" y="9"/>
                    </a:lnTo>
                    <a:lnTo>
                      <a:pt x="993" y="10"/>
                    </a:lnTo>
                    <a:lnTo>
                      <a:pt x="970" y="10"/>
                    </a:lnTo>
                    <a:lnTo>
                      <a:pt x="969" y="9"/>
                    </a:lnTo>
                    <a:lnTo>
                      <a:pt x="969" y="7"/>
                    </a:lnTo>
                    <a:lnTo>
                      <a:pt x="967" y="6"/>
                    </a:lnTo>
                    <a:lnTo>
                      <a:pt x="965" y="5"/>
                    </a:lnTo>
                    <a:lnTo>
                      <a:pt x="963" y="5"/>
                    </a:lnTo>
                    <a:lnTo>
                      <a:pt x="961" y="5"/>
                    </a:lnTo>
                    <a:lnTo>
                      <a:pt x="959" y="6"/>
                    </a:lnTo>
                    <a:lnTo>
                      <a:pt x="958" y="7"/>
                    </a:lnTo>
                    <a:lnTo>
                      <a:pt x="957" y="9"/>
                    </a:lnTo>
                    <a:lnTo>
                      <a:pt x="957" y="10"/>
                    </a:lnTo>
                    <a:lnTo>
                      <a:pt x="948" y="10"/>
                    </a:lnTo>
                    <a:lnTo>
                      <a:pt x="948" y="9"/>
                    </a:lnTo>
                    <a:lnTo>
                      <a:pt x="947" y="8"/>
                    </a:lnTo>
                    <a:lnTo>
                      <a:pt x="945" y="7"/>
                    </a:lnTo>
                    <a:lnTo>
                      <a:pt x="943" y="7"/>
                    </a:lnTo>
                    <a:lnTo>
                      <a:pt x="942" y="7"/>
                    </a:lnTo>
                    <a:lnTo>
                      <a:pt x="940" y="8"/>
                    </a:lnTo>
                    <a:lnTo>
                      <a:pt x="939" y="9"/>
                    </a:lnTo>
                    <a:lnTo>
                      <a:pt x="939" y="10"/>
                    </a:lnTo>
                    <a:lnTo>
                      <a:pt x="932" y="10"/>
                    </a:lnTo>
                    <a:lnTo>
                      <a:pt x="932" y="9"/>
                    </a:lnTo>
                    <a:lnTo>
                      <a:pt x="931" y="8"/>
                    </a:lnTo>
                    <a:lnTo>
                      <a:pt x="929" y="7"/>
                    </a:lnTo>
                    <a:lnTo>
                      <a:pt x="928" y="7"/>
                    </a:lnTo>
                    <a:lnTo>
                      <a:pt x="926" y="7"/>
                    </a:lnTo>
                    <a:lnTo>
                      <a:pt x="924" y="8"/>
                    </a:lnTo>
                    <a:lnTo>
                      <a:pt x="923" y="9"/>
                    </a:lnTo>
                    <a:lnTo>
                      <a:pt x="923" y="10"/>
                    </a:lnTo>
                    <a:lnTo>
                      <a:pt x="914" y="10"/>
                    </a:lnTo>
                    <a:lnTo>
                      <a:pt x="914" y="8"/>
                    </a:lnTo>
                    <a:lnTo>
                      <a:pt x="913" y="6"/>
                    </a:lnTo>
                    <a:lnTo>
                      <a:pt x="911" y="5"/>
                    </a:lnTo>
                    <a:lnTo>
                      <a:pt x="909" y="3"/>
                    </a:lnTo>
                    <a:lnTo>
                      <a:pt x="907" y="2"/>
                    </a:lnTo>
                    <a:lnTo>
                      <a:pt x="904" y="2"/>
                    </a:lnTo>
                    <a:lnTo>
                      <a:pt x="901" y="2"/>
                    </a:lnTo>
                    <a:lnTo>
                      <a:pt x="899" y="2"/>
                    </a:lnTo>
                    <a:lnTo>
                      <a:pt x="896" y="3"/>
                    </a:lnTo>
                    <a:lnTo>
                      <a:pt x="894" y="5"/>
                    </a:lnTo>
                    <a:lnTo>
                      <a:pt x="893" y="6"/>
                    </a:lnTo>
                    <a:lnTo>
                      <a:pt x="892" y="8"/>
                    </a:lnTo>
                    <a:lnTo>
                      <a:pt x="892" y="10"/>
                    </a:lnTo>
                    <a:lnTo>
                      <a:pt x="857" y="10"/>
                    </a:lnTo>
                    <a:lnTo>
                      <a:pt x="856" y="9"/>
                    </a:lnTo>
                    <a:lnTo>
                      <a:pt x="855" y="8"/>
                    </a:lnTo>
                    <a:lnTo>
                      <a:pt x="854" y="7"/>
                    </a:lnTo>
                    <a:lnTo>
                      <a:pt x="852" y="7"/>
                    </a:lnTo>
                    <a:lnTo>
                      <a:pt x="850" y="7"/>
                    </a:lnTo>
                    <a:lnTo>
                      <a:pt x="849" y="8"/>
                    </a:lnTo>
                    <a:lnTo>
                      <a:pt x="848" y="9"/>
                    </a:lnTo>
                    <a:lnTo>
                      <a:pt x="848" y="10"/>
                    </a:lnTo>
                    <a:lnTo>
                      <a:pt x="837" y="10"/>
                    </a:lnTo>
                    <a:lnTo>
                      <a:pt x="836" y="9"/>
                    </a:lnTo>
                    <a:lnTo>
                      <a:pt x="835" y="8"/>
                    </a:lnTo>
                    <a:lnTo>
                      <a:pt x="834" y="7"/>
                    </a:lnTo>
                    <a:lnTo>
                      <a:pt x="832" y="7"/>
                    </a:lnTo>
                    <a:lnTo>
                      <a:pt x="831" y="7"/>
                    </a:lnTo>
                    <a:lnTo>
                      <a:pt x="829" y="8"/>
                    </a:lnTo>
                    <a:lnTo>
                      <a:pt x="828" y="9"/>
                    </a:lnTo>
                    <a:lnTo>
                      <a:pt x="828" y="10"/>
                    </a:lnTo>
                    <a:lnTo>
                      <a:pt x="804" y="10"/>
                    </a:lnTo>
                    <a:lnTo>
                      <a:pt x="804" y="9"/>
                    </a:lnTo>
                    <a:lnTo>
                      <a:pt x="803" y="8"/>
                    </a:lnTo>
                    <a:lnTo>
                      <a:pt x="801" y="7"/>
                    </a:lnTo>
                    <a:lnTo>
                      <a:pt x="800" y="7"/>
                    </a:lnTo>
                    <a:lnTo>
                      <a:pt x="798" y="7"/>
                    </a:lnTo>
                    <a:lnTo>
                      <a:pt x="797" y="8"/>
                    </a:lnTo>
                    <a:lnTo>
                      <a:pt x="796" y="9"/>
                    </a:lnTo>
                    <a:lnTo>
                      <a:pt x="795" y="10"/>
                    </a:lnTo>
                    <a:lnTo>
                      <a:pt x="793" y="10"/>
                    </a:lnTo>
                    <a:lnTo>
                      <a:pt x="793" y="9"/>
                    </a:lnTo>
                    <a:lnTo>
                      <a:pt x="792" y="7"/>
                    </a:lnTo>
                    <a:lnTo>
                      <a:pt x="790" y="6"/>
                    </a:lnTo>
                    <a:lnTo>
                      <a:pt x="789" y="6"/>
                    </a:lnTo>
                    <a:lnTo>
                      <a:pt x="787" y="5"/>
                    </a:lnTo>
                    <a:lnTo>
                      <a:pt x="785" y="6"/>
                    </a:lnTo>
                    <a:lnTo>
                      <a:pt x="783" y="6"/>
                    </a:lnTo>
                    <a:lnTo>
                      <a:pt x="781" y="7"/>
                    </a:lnTo>
                    <a:lnTo>
                      <a:pt x="780" y="9"/>
                    </a:lnTo>
                    <a:lnTo>
                      <a:pt x="780" y="10"/>
                    </a:lnTo>
                    <a:lnTo>
                      <a:pt x="776" y="10"/>
                    </a:lnTo>
                    <a:lnTo>
                      <a:pt x="775" y="9"/>
                    </a:lnTo>
                    <a:lnTo>
                      <a:pt x="774" y="8"/>
                    </a:lnTo>
                    <a:lnTo>
                      <a:pt x="773" y="7"/>
                    </a:lnTo>
                    <a:lnTo>
                      <a:pt x="771" y="7"/>
                    </a:lnTo>
                    <a:lnTo>
                      <a:pt x="769" y="7"/>
                    </a:lnTo>
                    <a:lnTo>
                      <a:pt x="768" y="8"/>
                    </a:lnTo>
                    <a:lnTo>
                      <a:pt x="767" y="9"/>
                    </a:lnTo>
                    <a:lnTo>
                      <a:pt x="767" y="10"/>
                    </a:lnTo>
                    <a:lnTo>
                      <a:pt x="642" y="10"/>
                    </a:lnTo>
                    <a:lnTo>
                      <a:pt x="642" y="9"/>
                    </a:lnTo>
                    <a:lnTo>
                      <a:pt x="641" y="8"/>
                    </a:lnTo>
                    <a:lnTo>
                      <a:pt x="639" y="7"/>
                    </a:lnTo>
                    <a:lnTo>
                      <a:pt x="638" y="7"/>
                    </a:lnTo>
                    <a:lnTo>
                      <a:pt x="636" y="7"/>
                    </a:lnTo>
                    <a:lnTo>
                      <a:pt x="634" y="8"/>
                    </a:lnTo>
                    <a:lnTo>
                      <a:pt x="633" y="9"/>
                    </a:lnTo>
                    <a:lnTo>
                      <a:pt x="633" y="10"/>
                    </a:lnTo>
                    <a:lnTo>
                      <a:pt x="596" y="10"/>
                    </a:lnTo>
                    <a:lnTo>
                      <a:pt x="596" y="9"/>
                    </a:lnTo>
                    <a:lnTo>
                      <a:pt x="595" y="8"/>
                    </a:lnTo>
                    <a:lnTo>
                      <a:pt x="594" y="7"/>
                    </a:lnTo>
                    <a:lnTo>
                      <a:pt x="592" y="7"/>
                    </a:lnTo>
                    <a:lnTo>
                      <a:pt x="590" y="7"/>
                    </a:lnTo>
                    <a:lnTo>
                      <a:pt x="589" y="8"/>
                    </a:lnTo>
                    <a:lnTo>
                      <a:pt x="588" y="9"/>
                    </a:lnTo>
                    <a:lnTo>
                      <a:pt x="587" y="10"/>
                    </a:lnTo>
                    <a:lnTo>
                      <a:pt x="531" y="10"/>
                    </a:lnTo>
                    <a:lnTo>
                      <a:pt x="530" y="9"/>
                    </a:lnTo>
                    <a:lnTo>
                      <a:pt x="529" y="8"/>
                    </a:lnTo>
                    <a:lnTo>
                      <a:pt x="528" y="7"/>
                    </a:lnTo>
                    <a:lnTo>
                      <a:pt x="526" y="7"/>
                    </a:lnTo>
                    <a:lnTo>
                      <a:pt x="524" y="7"/>
                    </a:lnTo>
                    <a:lnTo>
                      <a:pt x="523" y="8"/>
                    </a:lnTo>
                    <a:lnTo>
                      <a:pt x="522" y="9"/>
                    </a:lnTo>
                    <a:lnTo>
                      <a:pt x="522" y="10"/>
                    </a:lnTo>
                    <a:lnTo>
                      <a:pt x="519" y="10"/>
                    </a:lnTo>
                    <a:lnTo>
                      <a:pt x="518" y="9"/>
                    </a:lnTo>
                    <a:lnTo>
                      <a:pt x="518" y="8"/>
                    </a:lnTo>
                    <a:lnTo>
                      <a:pt x="516" y="7"/>
                    </a:lnTo>
                    <a:lnTo>
                      <a:pt x="514" y="7"/>
                    </a:lnTo>
                    <a:lnTo>
                      <a:pt x="513" y="7"/>
                    </a:lnTo>
                    <a:lnTo>
                      <a:pt x="511" y="8"/>
                    </a:lnTo>
                    <a:lnTo>
                      <a:pt x="510" y="9"/>
                    </a:lnTo>
                    <a:lnTo>
                      <a:pt x="510" y="10"/>
                    </a:lnTo>
                    <a:lnTo>
                      <a:pt x="503" y="10"/>
                    </a:lnTo>
                    <a:lnTo>
                      <a:pt x="502" y="9"/>
                    </a:lnTo>
                    <a:lnTo>
                      <a:pt x="502" y="8"/>
                    </a:lnTo>
                    <a:lnTo>
                      <a:pt x="500" y="7"/>
                    </a:lnTo>
                    <a:lnTo>
                      <a:pt x="498" y="7"/>
                    </a:lnTo>
                    <a:lnTo>
                      <a:pt x="497" y="7"/>
                    </a:lnTo>
                    <a:lnTo>
                      <a:pt x="495" y="8"/>
                    </a:lnTo>
                    <a:lnTo>
                      <a:pt x="494" y="9"/>
                    </a:lnTo>
                    <a:lnTo>
                      <a:pt x="494" y="10"/>
                    </a:lnTo>
                    <a:lnTo>
                      <a:pt x="479" y="10"/>
                    </a:lnTo>
                    <a:lnTo>
                      <a:pt x="479" y="9"/>
                    </a:lnTo>
                    <a:lnTo>
                      <a:pt x="478" y="7"/>
                    </a:lnTo>
                    <a:lnTo>
                      <a:pt x="477" y="5"/>
                    </a:lnTo>
                    <a:lnTo>
                      <a:pt x="475" y="4"/>
                    </a:lnTo>
                    <a:lnTo>
                      <a:pt x="472" y="4"/>
                    </a:lnTo>
                    <a:lnTo>
                      <a:pt x="470" y="4"/>
                    </a:lnTo>
                    <a:lnTo>
                      <a:pt x="468" y="4"/>
                    </a:lnTo>
                    <a:lnTo>
                      <a:pt x="466" y="5"/>
                    </a:lnTo>
                    <a:lnTo>
                      <a:pt x="464" y="7"/>
                    </a:lnTo>
                    <a:lnTo>
                      <a:pt x="463" y="9"/>
                    </a:lnTo>
                    <a:lnTo>
                      <a:pt x="463" y="10"/>
                    </a:lnTo>
                    <a:lnTo>
                      <a:pt x="459" y="10"/>
                    </a:lnTo>
                    <a:lnTo>
                      <a:pt x="458" y="9"/>
                    </a:lnTo>
                    <a:lnTo>
                      <a:pt x="457" y="7"/>
                    </a:lnTo>
                    <a:lnTo>
                      <a:pt x="456" y="5"/>
                    </a:lnTo>
                    <a:lnTo>
                      <a:pt x="453" y="4"/>
                    </a:lnTo>
                    <a:lnTo>
                      <a:pt x="451" y="4"/>
                    </a:lnTo>
                    <a:lnTo>
                      <a:pt x="449" y="4"/>
                    </a:lnTo>
                    <a:lnTo>
                      <a:pt x="446" y="4"/>
                    </a:lnTo>
                    <a:lnTo>
                      <a:pt x="444" y="5"/>
                    </a:lnTo>
                    <a:lnTo>
                      <a:pt x="443" y="7"/>
                    </a:lnTo>
                    <a:lnTo>
                      <a:pt x="442" y="9"/>
                    </a:lnTo>
                    <a:lnTo>
                      <a:pt x="441" y="10"/>
                    </a:lnTo>
                    <a:lnTo>
                      <a:pt x="439" y="10"/>
                    </a:lnTo>
                    <a:lnTo>
                      <a:pt x="439" y="9"/>
                    </a:lnTo>
                    <a:lnTo>
                      <a:pt x="438" y="8"/>
                    </a:lnTo>
                    <a:lnTo>
                      <a:pt x="437" y="7"/>
                    </a:lnTo>
                    <a:lnTo>
                      <a:pt x="435" y="7"/>
                    </a:lnTo>
                    <a:lnTo>
                      <a:pt x="433" y="7"/>
                    </a:lnTo>
                    <a:lnTo>
                      <a:pt x="432" y="8"/>
                    </a:lnTo>
                    <a:lnTo>
                      <a:pt x="431" y="9"/>
                    </a:lnTo>
                    <a:lnTo>
                      <a:pt x="431" y="10"/>
                    </a:lnTo>
                    <a:lnTo>
                      <a:pt x="430" y="10"/>
                    </a:lnTo>
                    <a:lnTo>
                      <a:pt x="430" y="9"/>
                    </a:lnTo>
                    <a:lnTo>
                      <a:pt x="429" y="8"/>
                    </a:lnTo>
                    <a:lnTo>
                      <a:pt x="427" y="7"/>
                    </a:lnTo>
                    <a:lnTo>
                      <a:pt x="425" y="7"/>
                    </a:lnTo>
                    <a:lnTo>
                      <a:pt x="424" y="7"/>
                    </a:lnTo>
                    <a:lnTo>
                      <a:pt x="422" y="8"/>
                    </a:lnTo>
                    <a:lnTo>
                      <a:pt x="421" y="9"/>
                    </a:lnTo>
                    <a:lnTo>
                      <a:pt x="421" y="10"/>
                    </a:lnTo>
                    <a:lnTo>
                      <a:pt x="419" y="10"/>
                    </a:lnTo>
                    <a:lnTo>
                      <a:pt x="419" y="9"/>
                    </a:lnTo>
                    <a:lnTo>
                      <a:pt x="417" y="8"/>
                    </a:lnTo>
                    <a:lnTo>
                      <a:pt x="416" y="7"/>
                    </a:lnTo>
                    <a:lnTo>
                      <a:pt x="414" y="7"/>
                    </a:lnTo>
                    <a:lnTo>
                      <a:pt x="413" y="7"/>
                    </a:lnTo>
                    <a:lnTo>
                      <a:pt x="411" y="8"/>
                    </a:lnTo>
                    <a:lnTo>
                      <a:pt x="410" y="9"/>
                    </a:lnTo>
                    <a:lnTo>
                      <a:pt x="410" y="10"/>
                    </a:lnTo>
                    <a:lnTo>
                      <a:pt x="399" y="10"/>
                    </a:lnTo>
                    <a:lnTo>
                      <a:pt x="399" y="9"/>
                    </a:lnTo>
                    <a:lnTo>
                      <a:pt x="398" y="8"/>
                    </a:lnTo>
                    <a:lnTo>
                      <a:pt x="396" y="7"/>
                    </a:lnTo>
                    <a:lnTo>
                      <a:pt x="394" y="7"/>
                    </a:lnTo>
                    <a:lnTo>
                      <a:pt x="393" y="7"/>
                    </a:lnTo>
                    <a:lnTo>
                      <a:pt x="391" y="8"/>
                    </a:lnTo>
                    <a:lnTo>
                      <a:pt x="390" y="9"/>
                    </a:lnTo>
                    <a:lnTo>
                      <a:pt x="390" y="10"/>
                    </a:lnTo>
                    <a:lnTo>
                      <a:pt x="361" y="10"/>
                    </a:lnTo>
                    <a:lnTo>
                      <a:pt x="361" y="9"/>
                    </a:lnTo>
                    <a:lnTo>
                      <a:pt x="360" y="8"/>
                    </a:lnTo>
                    <a:lnTo>
                      <a:pt x="358" y="7"/>
                    </a:lnTo>
                    <a:lnTo>
                      <a:pt x="357" y="7"/>
                    </a:lnTo>
                    <a:lnTo>
                      <a:pt x="355" y="7"/>
                    </a:lnTo>
                    <a:lnTo>
                      <a:pt x="353" y="8"/>
                    </a:lnTo>
                    <a:lnTo>
                      <a:pt x="352" y="9"/>
                    </a:lnTo>
                    <a:lnTo>
                      <a:pt x="352" y="10"/>
                    </a:lnTo>
                    <a:lnTo>
                      <a:pt x="333" y="10"/>
                    </a:lnTo>
                    <a:lnTo>
                      <a:pt x="333" y="9"/>
                    </a:lnTo>
                    <a:lnTo>
                      <a:pt x="332" y="8"/>
                    </a:lnTo>
                    <a:lnTo>
                      <a:pt x="330" y="7"/>
                    </a:lnTo>
                    <a:lnTo>
                      <a:pt x="329" y="7"/>
                    </a:lnTo>
                    <a:lnTo>
                      <a:pt x="327" y="7"/>
                    </a:lnTo>
                    <a:lnTo>
                      <a:pt x="325" y="8"/>
                    </a:lnTo>
                    <a:lnTo>
                      <a:pt x="324" y="9"/>
                    </a:lnTo>
                    <a:lnTo>
                      <a:pt x="324" y="10"/>
                    </a:lnTo>
                    <a:lnTo>
                      <a:pt x="245" y="10"/>
                    </a:lnTo>
                    <a:lnTo>
                      <a:pt x="245" y="9"/>
                    </a:lnTo>
                    <a:lnTo>
                      <a:pt x="244" y="8"/>
                    </a:lnTo>
                    <a:lnTo>
                      <a:pt x="242" y="7"/>
                    </a:lnTo>
                    <a:lnTo>
                      <a:pt x="241" y="7"/>
                    </a:lnTo>
                    <a:lnTo>
                      <a:pt x="239" y="7"/>
                    </a:lnTo>
                    <a:lnTo>
                      <a:pt x="237" y="8"/>
                    </a:lnTo>
                    <a:lnTo>
                      <a:pt x="236" y="9"/>
                    </a:lnTo>
                    <a:lnTo>
                      <a:pt x="236" y="10"/>
                    </a:lnTo>
                    <a:lnTo>
                      <a:pt x="216" y="10"/>
                    </a:lnTo>
                    <a:lnTo>
                      <a:pt x="215" y="9"/>
                    </a:lnTo>
                    <a:lnTo>
                      <a:pt x="214" y="8"/>
                    </a:lnTo>
                    <a:lnTo>
                      <a:pt x="213" y="7"/>
                    </a:lnTo>
                    <a:lnTo>
                      <a:pt x="211" y="7"/>
                    </a:lnTo>
                    <a:lnTo>
                      <a:pt x="209" y="7"/>
                    </a:lnTo>
                    <a:lnTo>
                      <a:pt x="208" y="8"/>
                    </a:lnTo>
                    <a:lnTo>
                      <a:pt x="207" y="9"/>
                    </a:lnTo>
                    <a:lnTo>
                      <a:pt x="207" y="10"/>
                    </a:lnTo>
                    <a:lnTo>
                      <a:pt x="198" y="10"/>
                    </a:lnTo>
                    <a:lnTo>
                      <a:pt x="198" y="9"/>
                    </a:lnTo>
                    <a:lnTo>
                      <a:pt x="197" y="8"/>
                    </a:lnTo>
                    <a:lnTo>
                      <a:pt x="195" y="7"/>
                    </a:lnTo>
                    <a:lnTo>
                      <a:pt x="194" y="7"/>
                    </a:lnTo>
                    <a:lnTo>
                      <a:pt x="192" y="7"/>
                    </a:lnTo>
                    <a:lnTo>
                      <a:pt x="190" y="8"/>
                    </a:lnTo>
                    <a:lnTo>
                      <a:pt x="189" y="9"/>
                    </a:lnTo>
                    <a:lnTo>
                      <a:pt x="189" y="10"/>
                    </a:lnTo>
                    <a:lnTo>
                      <a:pt x="183" y="10"/>
                    </a:lnTo>
                    <a:lnTo>
                      <a:pt x="182" y="9"/>
                    </a:lnTo>
                    <a:lnTo>
                      <a:pt x="181" y="8"/>
                    </a:lnTo>
                    <a:lnTo>
                      <a:pt x="180" y="7"/>
                    </a:lnTo>
                    <a:lnTo>
                      <a:pt x="178" y="7"/>
                    </a:lnTo>
                    <a:lnTo>
                      <a:pt x="177" y="7"/>
                    </a:lnTo>
                    <a:lnTo>
                      <a:pt x="175" y="8"/>
                    </a:lnTo>
                    <a:lnTo>
                      <a:pt x="174" y="9"/>
                    </a:lnTo>
                    <a:lnTo>
                      <a:pt x="174" y="10"/>
                    </a:lnTo>
                    <a:lnTo>
                      <a:pt x="164" y="10"/>
                    </a:lnTo>
                    <a:lnTo>
                      <a:pt x="164" y="9"/>
                    </a:lnTo>
                    <a:lnTo>
                      <a:pt x="163" y="7"/>
                    </a:lnTo>
                    <a:lnTo>
                      <a:pt x="161" y="6"/>
                    </a:lnTo>
                    <a:lnTo>
                      <a:pt x="160" y="5"/>
                    </a:lnTo>
                    <a:lnTo>
                      <a:pt x="158" y="4"/>
                    </a:lnTo>
                    <a:lnTo>
                      <a:pt x="155" y="4"/>
                    </a:lnTo>
                    <a:lnTo>
                      <a:pt x="153" y="5"/>
                    </a:lnTo>
                    <a:lnTo>
                      <a:pt x="151" y="6"/>
                    </a:lnTo>
                    <a:lnTo>
                      <a:pt x="150" y="7"/>
                    </a:lnTo>
                    <a:lnTo>
                      <a:pt x="149" y="9"/>
                    </a:lnTo>
                    <a:lnTo>
                      <a:pt x="149" y="10"/>
                    </a:lnTo>
                    <a:lnTo>
                      <a:pt x="127" y="10"/>
                    </a:lnTo>
                    <a:lnTo>
                      <a:pt x="126" y="9"/>
                    </a:lnTo>
                    <a:lnTo>
                      <a:pt x="125" y="7"/>
                    </a:lnTo>
                    <a:lnTo>
                      <a:pt x="124" y="6"/>
                    </a:lnTo>
                    <a:lnTo>
                      <a:pt x="122" y="5"/>
                    </a:lnTo>
                    <a:lnTo>
                      <a:pt x="120" y="5"/>
                    </a:lnTo>
                    <a:lnTo>
                      <a:pt x="118" y="5"/>
                    </a:lnTo>
                    <a:lnTo>
                      <a:pt x="116" y="6"/>
                    </a:lnTo>
                    <a:lnTo>
                      <a:pt x="114" y="7"/>
                    </a:lnTo>
                    <a:lnTo>
                      <a:pt x="113" y="9"/>
                    </a:lnTo>
                    <a:lnTo>
                      <a:pt x="113" y="10"/>
                    </a:lnTo>
                    <a:lnTo>
                      <a:pt x="103" y="10"/>
                    </a:lnTo>
                    <a:lnTo>
                      <a:pt x="103" y="9"/>
                    </a:lnTo>
                    <a:lnTo>
                      <a:pt x="102" y="8"/>
                    </a:lnTo>
                    <a:lnTo>
                      <a:pt x="101" y="7"/>
                    </a:lnTo>
                    <a:lnTo>
                      <a:pt x="99" y="7"/>
                    </a:lnTo>
                    <a:lnTo>
                      <a:pt x="97" y="7"/>
                    </a:lnTo>
                    <a:lnTo>
                      <a:pt x="96" y="8"/>
                    </a:lnTo>
                    <a:lnTo>
                      <a:pt x="95" y="9"/>
                    </a:lnTo>
                    <a:lnTo>
                      <a:pt x="94" y="10"/>
                    </a:lnTo>
                    <a:lnTo>
                      <a:pt x="0"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6587640" y="397836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942" name=""/>
              <p:cNvSpPr/>
              <p:nvPr/>
            </p:nvSpPr>
            <p:spPr>
              <a:xfrm>
                <a:off x="4812480" y="3130200"/>
                <a:ext cx="1155960" cy="1884600"/>
              </a:xfrm>
              <a:custGeom>
                <a:avLst/>
                <a:gdLst/>
                <a:ahLst/>
                <a:rect l="l" t="t" r="r" b="b"/>
                <a:pathLst>
                  <a:path w="1092" h="1411">
                    <a:moveTo>
                      <a:pt x="0" y="0"/>
                    </a:moveTo>
                    <a:lnTo>
                      <a:pt x="0" y="340"/>
                    </a:lnTo>
                    <a:lnTo>
                      <a:pt x="170" y="340"/>
                    </a:lnTo>
                    <a:lnTo>
                      <a:pt x="171" y="338"/>
                    </a:lnTo>
                    <a:lnTo>
                      <a:pt x="171" y="337"/>
                    </a:lnTo>
                    <a:lnTo>
                      <a:pt x="173" y="337"/>
                    </a:lnTo>
                    <a:lnTo>
                      <a:pt x="175" y="336"/>
                    </a:lnTo>
                    <a:lnTo>
                      <a:pt x="176" y="337"/>
                    </a:lnTo>
                    <a:lnTo>
                      <a:pt x="178" y="337"/>
                    </a:lnTo>
                    <a:lnTo>
                      <a:pt x="179" y="338"/>
                    </a:lnTo>
                    <a:lnTo>
                      <a:pt x="179" y="340"/>
                    </a:lnTo>
                    <a:lnTo>
                      <a:pt x="236" y="340"/>
                    </a:lnTo>
                    <a:lnTo>
                      <a:pt x="237" y="338"/>
                    </a:lnTo>
                    <a:lnTo>
                      <a:pt x="238" y="337"/>
                    </a:lnTo>
                    <a:lnTo>
                      <a:pt x="239" y="337"/>
                    </a:lnTo>
                    <a:lnTo>
                      <a:pt x="241" y="336"/>
                    </a:lnTo>
                    <a:lnTo>
                      <a:pt x="243" y="337"/>
                    </a:lnTo>
                    <a:lnTo>
                      <a:pt x="244" y="337"/>
                    </a:lnTo>
                    <a:lnTo>
                      <a:pt x="245" y="338"/>
                    </a:lnTo>
                    <a:lnTo>
                      <a:pt x="245" y="340"/>
                    </a:lnTo>
                    <a:lnTo>
                      <a:pt x="251" y="340"/>
                    </a:lnTo>
                    <a:lnTo>
                      <a:pt x="251" y="338"/>
                    </a:lnTo>
                    <a:lnTo>
                      <a:pt x="252" y="337"/>
                    </a:lnTo>
                    <a:lnTo>
                      <a:pt x="253" y="337"/>
                    </a:lnTo>
                    <a:lnTo>
                      <a:pt x="255" y="336"/>
                    </a:lnTo>
                    <a:lnTo>
                      <a:pt x="257" y="337"/>
                    </a:lnTo>
                    <a:lnTo>
                      <a:pt x="258" y="337"/>
                    </a:lnTo>
                    <a:lnTo>
                      <a:pt x="259" y="338"/>
                    </a:lnTo>
                    <a:lnTo>
                      <a:pt x="259" y="340"/>
                    </a:lnTo>
                    <a:lnTo>
                      <a:pt x="269" y="340"/>
                    </a:lnTo>
                    <a:lnTo>
                      <a:pt x="269" y="338"/>
                    </a:lnTo>
                    <a:lnTo>
                      <a:pt x="270" y="336"/>
                    </a:lnTo>
                    <a:lnTo>
                      <a:pt x="272" y="335"/>
                    </a:lnTo>
                    <a:lnTo>
                      <a:pt x="274" y="334"/>
                    </a:lnTo>
                    <a:lnTo>
                      <a:pt x="276" y="333"/>
                    </a:lnTo>
                    <a:lnTo>
                      <a:pt x="279" y="333"/>
                    </a:lnTo>
                    <a:lnTo>
                      <a:pt x="281" y="334"/>
                    </a:lnTo>
                    <a:lnTo>
                      <a:pt x="283" y="335"/>
                    </a:lnTo>
                    <a:lnTo>
                      <a:pt x="284" y="336"/>
                    </a:lnTo>
                    <a:lnTo>
                      <a:pt x="285" y="338"/>
                    </a:lnTo>
                    <a:lnTo>
                      <a:pt x="286" y="340"/>
                    </a:lnTo>
                    <a:lnTo>
                      <a:pt x="305" y="340"/>
                    </a:lnTo>
                    <a:lnTo>
                      <a:pt x="305" y="338"/>
                    </a:lnTo>
                    <a:lnTo>
                      <a:pt x="306" y="337"/>
                    </a:lnTo>
                    <a:lnTo>
                      <a:pt x="307" y="337"/>
                    </a:lnTo>
                    <a:lnTo>
                      <a:pt x="309" y="336"/>
                    </a:lnTo>
                    <a:lnTo>
                      <a:pt x="311" y="337"/>
                    </a:lnTo>
                    <a:lnTo>
                      <a:pt x="312" y="337"/>
                    </a:lnTo>
                    <a:lnTo>
                      <a:pt x="313" y="338"/>
                    </a:lnTo>
                    <a:lnTo>
                      <a:pt x="314" y="340"/>
                    </a:lnTo>
                    <a:lnTo>
                      <a:pt x="314" y="340"/>
                    </a:lnTo>
                    <a:lnTo>
                      <a:pt x="314" y="338"/>
                    </a:lnTo>
                    <a:lnTo>
                      <a:pt x="315" y="337"/>
                    </a:lnTo>
                    <a:lnTo>
                      <a:pt x="316" y="337"/>
                    </a:lnTo>
                    <a:lnTo>
                      <a:pt x="318" y="336"/>
                    </a:lnTo>
                    <a:lnTo>
                      <a:pt x="320" y="337"/>
                    </a:lnTo>
                    <a:lnTo>
                      <a:pt x="321" y="337"/>
                    </a:lnTo>
                    <a:lnTo>
                      <a:pt x="322" y="338"/>
                    </a:lnTo>
                    <a:lnTo>
                      <a:pt x="323" y="340"/>
                    </a:lnTo>
                    <a:lnTo>
                      <a:pt x="330" y="340"/>
                    </a:lnTo>
                    <a:lnTo>
                      <a:pt x="330" y="338"/>
                    </a:lnTo>
                    <a:lnTo>
                      <a:pt x="331" y="337"/>
                    </a:lnTo>
                    <a:lnTo>
                      <a:pt x="333" y="337"/>
                    </a:lnTo>
                    <a:lnTo>
                      <a:pt x="334" y="336"/>
                    </a:lnTo>
                    <a:lnTo>
                      <a:pt x="336" y="337"/>
                    </a:lnTo>
                    <a:lnTo>
                      <a:pt x="337" y="337"/>
                    </a:lnTo>
                    <a:lnTo>
                      <a:pt x="339" y="338"/>
                    </a:lnTo>
                    <a:lnTo>
                      <a:pt x="339" y="340"/>
                    </a:lnTo>
                    <a:lnTo>
                      <a:pt x="345" y="340"/>
                    </a:lnTo>
                    <a:lnTo>
                      <a:pt x="345" y="338"/>
                    </a:lnTo>
                    <a:lnTo>
                      <a:pt x="346" y="337"/>
                    </a:lnTo>
                    <a:lnTo>
                      <a:pt x="348" y="337"/>
                    </a:lnTo>
                    <a:lnTo>
                      <a:pt x="350" y="336"/>
                    </a:lnTo>
                    <a:lnTo>
                      <a:pt x="351" y="337"/>
                    </a:lnTo>
                    <a:lnTo>
                      <a:pt x="353" y="337"/>
                    </a:lnTo>
                    <a:lnTo>
                      <a:pt x="354" y="338"/>
                    </a:lnTo>
                    <a:lnTo>
                      <a:pt x="354" y="340"/>
                    </a:lnTo>
                    <a:lnTo>
                      <a:pt x="363" y="340"/>
                    </a:lnTo>
                    <a:lnTo>
                      <a:pt x="363" y="338"/>
                    </a:lnTo>
                    <a:lnTo>
                      <a:pt x="364" y="337"/>
                    </a:lnTo>
                    <a:lnTo>
                      <a:pt x="365" y="337"/>
                    </a:lnTo>
                    <a:lnTo>
                      <a:pt x="367" y="336"/>
                    </a:lnTo>
                    <a:lnTo>
                      <a:pt x="369" y="337"/>
                    </a:lnTo>
                    <a:lnTo>
                      <a:pt x="370" y="337"/>
                    </a:lnTo>
                    <a:lnTo>
                      <a:pt x="371" y="338"/>
                    </a:lnTo>
                    <a:lnTo>
                      <a:pt x="372" y="340"/>
                    </a:lnTo>
                    <a:lnTo>
                      <a:pt x="392" y="340"/>
                    </a:lnTo>
                    <a:lnTo>
                      <a:pt x="392" y="338"/>
                    </a:lnTo>
                    <a:lnTo>
                      <a:pt x="393" y="337"/>
                    </a:lnTo>
                    <a:lnTo>
                      <a:pt x="395" y="337"/>
                    </a:lnTo>
                    <a:lnTo>
                      <a:pt x="397" y="336"/>
                    </a:lnTo>
                    <a:lnTo>
                      <a:pt x="398" y="337"/>
                    </a:lnTo>
                    <a:lnTo>
                      <a:pt x="400" y="337"/>
                    </a:lnTo>
                    <a:lnTo>
                      <a:pt x="401" y="338"/>
                    </a:lnTo>
                    <a:lnTo>
                      <a:pt x="401" y="340"/>
                    </a:lnTo>
                    <a:lnTo>
                      <a:pt x="453" y="340"/>
                    </a:lnTo>
                    <a:lnTo>
                      <a:pt x="453" y="338"/>
                    </a:lnTo>
                    <a:lnTo>
                      <a:pt x="454" y="337"/>
                    </a:lnTo>
                    <a:lnTo>
                      <a:pt x="456" y="337"/>
                    </a:lnTo>
                    <a:lnTo>
                      <a:pt x="458" y="336"/>
                    </a:lnTo>
                    <a:lnTo>
                      <a:pt x="459" y="337"/>
                    </a:lnTo>
                    <a:lnTo>
                      <a:pt x="461" y="337"/>
                    </a:lnTo>
                    <a:lnTo>
                      <a:pt x="462" y="338"/>
                    </a:lnTo>
                    <a:lnTo>
                      <a:pt x="462" y="340"/>
                    </a:lnTo>
                    <a:lnTo>
                      <a:pt x="480" y="340"/>
                    </a:lnTo>
                    <a:lnTo>
                      <a:pt x="480" y="338"/>
                    </a:lnTo>
                    <a:lnTo>
                      <a:pt x="481" y="337"/>
                    </a:lnTo>
                    <a:lnTo>
                      <a:pt x="483" y="337"/>
                    </a:lnTo>
                    <a:lnTo>
                      <a:pt x="485" y="336"/>
                    </a:lnTo>
                    <a:lnTo>
                      <a:pt x="486" y="337"/>
                    </a:lnTo>
                    <a:lnTo>
                      <a:pt x="488" y="337"/>
                    </a:lnTo>
                    <a:lnTo>
                      <a:pt x="489" y="338"/>
                    </a:lnTo>
                    <a:lnTo>
                      <a:pt x="489" y="340"/>
                    </a:lnTo>
                    <a:lnTo>
                      <a:pt x="508" y="340"/>
                    </a:lnTo>
                    <a:lnTo>
                      <a:pt x="508" y="338"/>
                    </a:lnTo>
                    <a:lnTo>
                      <a:pt x="509" y="337"/>
                    </a:lnTo>
                    <a:lnTo>
                      <a:pt x="511" y="337"/>
                    </a:lnTo>
                    <a:lnTo>
                      <a:pt x="513" y="336"/>
                    </a:lnTo>
                    <a:lnTo>
                      <a:pt x="514" y="337"/>
                    </a:lnTo>
                    <a:lnTo>
                      <a:pt x="516" y="337"/>
                    </a:lnTo>
                    <a:lnTo>
                      <a:pt x="517" y="338"/>
                    </a:lnTo>
                    <a:lnTo>
                      <a:pt x="517" y="340"/>
                    </a:lnTo>
                    <a:lnTo>
                      <a:pt x="521" y="340"/>
                    </a:lnTo>
                    <a:lnTo>
                      <a:pt x="521" y="338"/>
                    </a:lnTo>
                    <a:lnTo>
                      <a:pt x="522" y="337"/>
                    </a:lnTo>
                    <a:lnTo>
                      <a:pt x="523" y="337"/>
                    </a:lnTo>
                    <a:lnTo>
                      <a:pt x="525" y="336"/>
                    </a:lnTo>
                    <a:lnTo>
                      <a:pt x="527" y="337"/>
                    </a:lnTo>
                    <a:lnTo>
                      <a:pt x="528" y="337"/>
                    </a:lnTo>
                    <a:lnTo>
                      <a:pt x="529" y="338"/>
                    </a:lnTo>
                    <a:lnTo>
                      <a:pt x="530" y="340"/>
                    </a:lnTo>
                    <a:lnTo>
                      <a:pt x="539" y="340"/>
                    </a:lnTo>
                    <a:lnTo>
                      <a:pt x="539" y="1411"/>
                    </a:lnTo>
                    <a:lnTo>
                      <a:pt x="606" y="1411"/>
                    </a:lnTo>
                    <a:lnTo>
                      <a:pt x="606" y="1409"/>
                    </a:lnTo>
                    <a:lnTo>
                      <a:pt x="607" y="1408"/>
                    </a:lnTo>
                    <a:lnTo>
                      <a:pt x="608" y="1407"/>
                    </a:lnTo>
                    <a:lnTo>
                      <a:pt x="610" y="1407"/>
                    </a:lnTo>
                    <a:lnTo>
                      <a:pt x="612" y="1407"/>
                    </a:lnTo>
                    <a:lnTo>
                      <a:pt x="613" y="1408"/>
                    </a:lnTo>
                    <a:lnTo>
                      <a:pt x="614" y="1409"/>
                    </a:lnTo>
                    <a:lnTo>
                      <a:pt x="615" y="1411"/>
                    </a:lnTo>
                    <a:lnTo>
                      <a:pt x="934" y="1411"/>
                    </a:lnTo>
                    <a:lnTo>
                      <a:pt x="935" y="1409"/>
                    </a:lnTo>
                    <a:lnTo>
                      <a:pt x="936" y="1408"/>
                    </a:lnTo>
                    <a:lnTo>
                      <a:pt x="937" y="1407"/>
                    </a:lnTo>
                    <a:lnTo>
                      <a:pt x="939" y="1407"/>
                    </a:lnTo>
                    <a:lnTo>
                      <a:pt x="941" y="1407"/>
                    </a:lnTo>
                    <a:lnTo>
                      <a:pt x="942" y="1408"/>
                    </a:lnTo>
                    <a:lnTo>
                      <a:pt x="943" y="1409"/>
                    </a:lnTo>
                    <a:lnTo>
                      <a:pt x="943" y="1411"/>
                    </a:lnTo>
                    <a:lnTo>
                      <a:pt x="1092" y="14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966280" y="500832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44" name=""/>
              <p:cNvSpPr/>
              <p:nvPr/>
            </p:nvSpPr>
            <p:spPr>
              <a:xfrm>
                <a:off x="4153680" y="3130200"/>
                <a:ext cx="690120" cy="293760"/>
              </a:xfrm>
              <a:custGeom>
                <a:avLst/>
                <a:gdLst/>
                <a:ahLst/>
                <a:rect l="l" t="t" r="r" b="b"/>
                <a:pathLst>
                  <a:path w="652" h="220">
                    <a:moveTo>
                      <a:pt x="652" y="0"/>
                    </a:moveTo>
                    <a:lnTo>
                      <a:pt x="652" y="22"/>
                    </a:lnTo>
                    <a:lnTo>
                      <a:pt x="626" y="22"/>
                    </a:lnTo>
                    <a:lnTo>
                      <a:pt x="626" y="21"/>
                    </a:lnTo>
                    <a:lnTo>
                      <a:pt x="625" y="20"/>
                    </a:lnTo>
                    <a:lnTo>
                      <a:pt x="624" y="19"/>
                    </a:lnTo>
                    <a:lnTo>
                      <a:pt x="622" y="19"/>
                    </a:lnTo>
                    <a:lnTo>
                      <a:pt x="620" y="19"/>
                    </a:lnTo>
                    <a:lnTo>
                      <a:pt x="619" y="20"/>
                    </a:lnTo>
                    <a:lnTo>
                      <a:pt x="618" y="21"/>
                    </a:lnTo>
                    <a:lnTo>
                      <a:pt x="617" y="22"/>
                    </a:lnTo>
                    <a:lnTo>
                      <a:pt x="603" y="22"/>
                    </a:lnTo>
                    <a:lnTo>
                      <a:pt x="603" y="220"/>
                    </a:lnTo>
                    <a:lnTo>
                      <a:pt x="596" y="220"/>
                    </a:lnTo>
                    <a:lnTo>
                      <a:pt x="596" y="219"/>
                    </a:lnTo>
                    <a:lnTo>
                      <a:pt x="595" y="218"/>
                    </a:lnTo>
                    <a:lnTo>
                      <a:pt x="593" y="217"/>
                    </a:lnTo>
                    <a:lnTo>
                      <a:pt x="592" y="217"/>
                    </a:lnTo>
                    <a:lnTo>
                      <a:pt x="590" y="217"/>
                    </a:lnTo>
                    <a:lnTo>
                      <a:pt x="588" y="218"/>
                    </a:lnTo>
                    <a:lnTo>
                      <a:pt x="587" y="219"/>
                    </a:lnTo>
                    <a:lnTo>
                      <a:pt x="587" y="220"/>
                    </a:lnTo>
                    <a:lnTo>
                      <a:pt x="574" y="220"/>
                    </a:lnTo>
                    <a:lnTo>
                      <a:pt x="574" y="219"/>
                    </a:lnTo>
                    <a:lnTo>
                      <a:pt x="573" y="218"/>
                    </a:lnTo>
                    <a:lnTo>
                      <a:pt x="571" y="217"/>
                    </a:lnTo>
                    <a:lnTo>
                      <a:pt x="570" y="217"/>
                    </a:lnTo>
                    <a:lnTo>
                      <a:pt x="568" y="217"/>
                    </a:lnTo>
                    <a:lnTo>
                      <a:pt x="566" y="218"/>
                    </a:lnTo>
                    <a:lnTo>
                      <a:pt x="566" y="219"/>
                    </a:lnTo>
                    <a:lnTo>
                      <a:pt x="565" y="220"/>
                    </a:lnTo>
                    <a:lnTo>
                      <a:pt x="561" y="220"/>
                    </a:lnTo>
                    <a:lnTo>
                      <a:pt x="561" y="219"/>
                    </a:lnTo>
                    <a:lnTo>
                      <a:pt x="560" y="218"/>
                    </a:lnTo>
                    <a:lnTo>
                      <a:pt x="559" y="217"/>
                    </a:lnTo>
                    <a:lnTo>
                      <a:pt x="557" y="217"/>
                    </a:lnTo>
                    <a:lnTo>
                      <a:pt x="555" y="217"/>
                    </a:lnTo>
                    <a:lnTo>
                      <a:pt x="554" y="218"/>
                    </a:lnTo>
                    <a:lnTo>
                      <a:pt x="553" y="219"/>
                    </a:lnTo>
                    <a:lnTo>
                      <a:pt x="552" y="220"/>
                    </a:lnTo>
                    <a:lnTo>
                      <a:pt x="544" y="220"/>
                    </a:lnTo>
                    <a:lnTo>
                      <a:pt x="543" y="219"/>
                    </a:lnTo>
                    <a:lnTo>
                      <a:pt x="543" y="218"/>
                    </a:lnTo>
                    <a:lnTo>
                      <a:pt x="541" y="217"/>
                    </a:lnTo>
                    <a:lnTo>
                      <a:pt x="539" y="217"/>
                    </a:lnTo>
                    <a:lnTo>
                      <a:pt x="538" y="217"/>
                    </a:lnTo>
                    <a:lnTo>
                      <a:pt x="536" y="218"/>
                    </a:lnTo>
                    <a:lnTo>
                      <a:pt x="535" y="219"/>
                    </a:lnTo>
                    <a:lnTo>
                      <a:pt x="535" y="220"/>
                    </a:lnTo>
                    <a:lnTo>
                      <a:pt x="530" y="220"/>
                    </a:lnTo>
                    <a:lnTo>
                      <a:pt x="530" y="219"/>
                    </a:lnTo>
                    <a:lnTo>
                      <a:pt x="529" y="218"/>
                    </a:lnTo>
                    <a:lnTo>
                      <a:pt x="527" y="217"/>
                    </a:lnTo>
                    <a:lnTo>
                      <a:pt x="526" y="217"/>
                    </a:lnTo>
                    <a:lnTo>
                      <a:pt x="524" y="217"/>
                    </a:lnTo>
                    <a:lnTo>
                      <a:pt x="523" y="218"/>
                    </a:lnTo>
                    <a:lnTo>
                      <a:pt x="522" y="219"/>
                    </a:lnTo>
                    <a:lnTo>
                      <a:pt x="521" y="220"/>
                    </a:lnTo>
                    <a:lnTo>
                      <a:pt x="520" y="220"/>
                    </a:lnTo>
                    <a:lnTo>
                      <a:pt x="520" y="219"/>
                    </a:lnTo>
                    <a:lnTo>
                      <a:pt x="519" y="218"/>
                    </a:lnTo>
                    <a:lnTo>
                      <a:pt x="517" y="217"/>
                    </a:lnTo>
                    <a:lnTo>
                      <a:pt x="516" y="217"/>
                    </a:lnTo>
                    <a:lnTo>
                      <a:pt x="514" y="217"/>
                    </a:lnTo>
                    <a:lnTo>
                      <a:pt x="512" y="218"/>
                    </a:lnTo>
                    <a:lnTo>
                      <a:pt x="512" y="219"/>
                    </a:lnTo>
                    <a:lnTo>
                      <a:pt x="511" y="220"/>
                    </a:lnTo>
                    <a:lnTo>
                      <a:pt x="500" y="220"/>
                    </a:lnTo>
                    <a:lnTo>
                      <a:pt x="500" y="219"/>
                    </a:lnTo>
                    <a:lnTo>
                      <a:pt x="499" y="218"/>
                    </a:lnTo>
                    <a:lnTo>
                      <a:pt x="498" y="217"/>
                    </a:lnTo>
                    <a:lnTo>
                      <a:pt x="496" y="217"/>
                    </a:lnTo>
                    <a:lnTo>
                      <a:pt x="494" y="217"/>
                    </a:lnTo>
                    <a:lnTo>
                      <a:pt x="493" y="218"/>
                    </a:lnTo>
                    <a:lnTo>
                      <a:pt x="492" y="219"/>
                    </a:lnTo>
                    <a:lnTo>
                      <a:pt x="491" y="220"/>
                    </a:lnTo>
                    <a:lnTo>
                      <a:pt x="490" y="220"/>
                    </a:lnTo>
                    <a:lnTo>
                      <a:pt x="489" y="219"/>
                    </a:lnTo>
                    <a:lnTo>
                      <a:pt x="488" y="217"/>
                    </a:lnTo>
                    <a:lnTo>
                      <a:pt x="487" y="215"/>
                    </a:lnTo>
                    <a:lnTo>
                      <a:pt x="485" y="214"/>
                    </a:lnTo>
                    <a:lnTo>
                      <a:pt x="483" y="214"/>
                    </a:lnTo>
                    <a:lnTo>
                      <a:pt x="480" y="214"/>
                    </a:lnTo>
                    <a:lnTo>
                      <a:pt x="478" y="214"/>
                    </a:lnTo>
                    <a:lnTo>
                      <a:pt x="476" y="215"/>
                    </a:lnTo>
                    <a:lnTo>
                      <a:pt x="475" y="217"/>
                    </a:lnTo>
                    <a:lnTo>
                      <a:pt x="474" y="219"/>
                    </a:lnTo>
                    <a:lnTo>
                      <a:pt x="473" y="220"/>
                    </a:lnTo>
                    <a:lnTo>
                      <a:pt x="473" y="220"/>
                    </a:lnTo>
                    <a:lnTo>
                      <a:pt x="472" y="219"/>
                    </a:lnTo>
                    <a:lnTo>
                      <a:pt x="472" y="218"/>
                    </a:lnTo>
                    <a:lnTo>
                      <a:pt x="470" y="217"/>
                    </a:lnTo>
                    <a:lnTo>
                      <a:pt x="468" y="217"/>
                    </a:lnTo>
                    <a:lnTo>
                      <a:pt x="467" y="217"/>
                    </a:lnTo>
                    <a:lnTo>
                      <a:pt x="465" y="218"/>
                    </a:lnTo>
                    <a:lnTo>
                      <a:pt x="464" y="219"/>
                    </a:lnTo>
                    <a:lnTo>
                      <a:pt x="464" y="220"/>
                    </a:lnTo>
                    <a:lnTo>
                      <a:pt x="376" y="220"/>
                    </a:lnTo>
                    <a:lnTo>
                      <a:pt x="376" y="219"/>
                    </a:lnTo>
                    <a:lnTo>
                      <a:pt x="375" y="218"/>
                    </a:lnTo>
                    <a:lnTo>
                      <a:pt x="374" y="217"/>
                    </a:lnTo>
                    <a:lnTo>
                      <a:pt x="372" y="217"/>
                    </a:lnTo>
                    <a:lnTo>
                      <a:pt x="370" y="217"/>
                    </a:lnTo>
                    <a:lnTo>
                      <a:pt x="369" y="218"/>
                    </a:lnTo>
                    <a:lnTo>
                      <a:pt x="368" y="219"/>
                    </a:lnTo>
                    <a:lnTo>
                      <a:pt x="368" y="220"/>
                    </a:lnTo>
                    <a:lnTo>
                      <a:pt x="339" y="220"/>
                    </a:lnTo>
                    <a:lnTo>
                      <a:pt x="339" y="219"/>
                    </a:lnTo>
                    <a:lnTo>
                      <a:pt x="338" y="218"/>
                    </a:lnTo>
                    <a:lnTo>
                      <a:pt x="336" y="217"/>
                    </a:lnTo>
                    <a:lnTo>
                      <a:pt x="335" y="217"/>
                    </a:lnTo>
                    <a:lnTo>
                      <a:pt x="333" y="217"/>
                    </a:lnTo>
                    <a:lnTo>
                      <a:pt x="331" y="218"/>
                    </a:lnTo>
                    <a:lnTo>
                      <a:pt x="331" y="219"/>
                    </a:lnTo>
                    <a:lnTo>
                      <a:pt x="330" y="220"/>
                    </a:lnTo>
                    <a:lnTo>
                      <a:pt x="293" y="220"/>
                    </a:lnTo>
                    <a:lnTo>
                      <a:pt x="293" y="219"/>
                    </a:lnTo>
                    <a:lnTo>
                      <a:pt x="292" y="218"/>
                    </a:lnTo>
                    <a:lnTo>
                      <a:pt x="291" y="217"/>
                    </a:lnTo>
                    <a:lnTo>
                      <a:pt x="289" y="217"/>
                    </a:lnTo>
                    <a:lnTo>
                      <a:pt x="287" y="217"/>
                    </a:lnTo>
                    <a:lnTo>
                      <a:pt x="286" y="218"/>
                    </a:lnTo>
                    <a:lnTo>
                      <a:pt x="285" y="219"/>
                    </a:lnTo>
                    <a:lnTo>
                      <a:pt x="284" y="220"/>
                    </a:lnTo>
                    <a:lnTo>
                      <a:pt x="226" y="220"/>
                    </a:lnTo>
                    <a:lnTo>
                      <a:pt x="226" y="218"/>
                    </a:lnTo>
                    <a:lnTo>
                      <a:pt x="225" y="216"/>
                    </a:lnTo>
                    <a:lnTo>
                      <a:pt x="224" y="214"/>
                    </a:lnTo>
                    <a:lnTo>
                      <a:pt x="221" y="213"/>
                    </a:lnTo>
                    <a:lnTo>
                      <a:pt x="219" y="212"/>
                    </a:lnTo>
                    <a:lnTo>
                      <a:pt x="216" y="212"/>
                    </a:lnTo>
                    <a:lnTo>
                      <a:pt x="213" y="212"/>
                    </a:lnTo>
                    <a:lnTo>
                      <a:pt x="211" y="212"/>
                    </a:lnTo>
                    <a:lnTo>
                      <a:pt x="208" y="213"/>
                    </a:lnTo>
                    <a:lnTo>
                      <a:pt x="206" y="214"/>
                    </a:lnTo>
                    <a:lnTo>
                      <a:pt x="205" y="216"/>
                    </a:lnTo>
                    <a:lnTo>
                      <a:pt x="204" y="218"/>
                    </a:lnTo>
                    <a:lnTo>
                      <a:pt x="204" y="220"/>
                    </a:lnTo>
                    <a:lnTo>
                      <a:pt x="186" y="220"/>
                    </a:lnTo>
                    <a:lnTo>
                      <a:pt x="185" y="218"/>
                    </a:lnTo>
                    <a:lnTo>
                      <a:pt x="184" y="216"/>
                    </a:lnTo>
                    <a:lnTo>
                      <a:pt x="183" y="214"/>
                    </a:lnTo>
                    <a:lnTo>
                      <a:pt x="181" y="213"/>
                    </a:lnTo>
                    <a:lnTo>
                      <a:pt x="178" y="212"/>
                    </a:lnTo>
                    <a:lnTo>
                      <a:pt x="176" y="212"/>
                    </a:lnTo>
                    <a:lnTo>
                      <a:pt x="173" y="212"/>
                    </a:lnTo>
                    <a:lnTo>
                      <a:pt x="171" y="212"/>
                    </a:lnTo>
                    <a:lnTo>
                      <a:pt x="168" y="213"/>
                    </a:lnTo>
                    <a:lnTo>
                      <a:pt x="166" y="214"/>
                    </a:lnTo>
                    <a:lnTo>
                      <a:pt x="164" y="216"/>
                    </a:lnTo>
                    <a:lnTo>
                      <a:pt x="164" y="218"/>
                    </a:lnTo>
                    <a:lnTo>
                      <a:pt x="163" y="220"/>
                    </a:lnTo>
                    <a:lnTo>
                      <a:pt x="142" y="220"/>
                    </a:lnTo>
                    <a:lnTo>
                      <a:pt x="142" y="219"/>
                    </a:lnTo>
                    <a:lnTo>
                      <a:pt x="141" y="218"/>
                    </a:lnTo>
                    <a:lnTo>
                      <a:pt x="140" y="217"/>
                    </a:lnTo>
                    <a:lnTo>
                      <a:pt x="138" y="217"/>
                    </a:lnTo>
                    <a:lnTo>
                      <a:pt x="136" y="217"/>
                    </a:lnTo>
                    <a:lnTo>
                      <a:pt x="135" y="218"/>
                    </a:lnTo>
                    <a:lnTo>
                      <a:pt x="134" y="219"/>
                    </a:lnTo>
                    <a:lnTo>
                      <a:pt x="133" y="220"/>
                    </a:lnTo>
                    <a:lnTo>
                      <a:pt x="82" y="220"/>
                    </a:lnTo>
                    <a:lnTo>
                      <a:pt x="81" y="219"/>
                    </a:lnTo>
                    <a:lnTo>
                      <a:pt x="80" y="218"/>
                    </a:lnTo>
                    <a:lnTo>
                      <a:pt x="79" y="217"/>
                    </a:lnTo>
                    <a:lnTo>
                      <a:pt x="77" y="217"/>
                    </a:lnTo>
                    <a:lnTo>
                      <a:pt x="75" y="217"/>
                    </a:lnTo>
                    <a:lnTo>
                      <a:pt x="74" y="218"/>
                    </a:lnTo>
                    <a:lnTo>
                      <a:pt x="73" y="219"/>
                    </a:lnTo>
                    <a:lnTo>
                      <a:pt x="73" y="220"/>
                    </a:lnTo>
                    <a:lnTo>
                      <a:pt x="71" y="220"/>
                    </a:lnTo>
                    <a:lnTo>
                      <a:pt x="71" y="219"/>
                    </a:lnTo>
                    <a:lnTo>
                      <a:pt x="70" y="218"/>
                    </a:lnTo>
                    <a:lnTo>
                      <a:pt x="68" y="217"/>
                    </a:lnTo>
                    <a:lnTo>
                      <a:pt x="66" y="217"/>
                    </a:lnTo>
                    <a:lnTo>
                      <a:pt x="65" y="217"/>
                    </a:lnTo>
                    <a:lnTo>
                      <a:pt x="63" y="218"/>
                    </a:lnTo>
                    <a:lnTo>
                      <a:pt x="62" y="219"/>
                    </a:lnTo>
                    <a:lnTo>
                      <a:pt x="62" y="220"/>
                    </a:lnTo>
                    <a:lnTo>
                      <a:pt x="53" y="220"/>
                    </a:lnTo>
                    <a:lnTo>
                      <a:pt x="52" y="219"/>
                    </a:lnTo>
                    <a:lnTo>
                      <a:pt x="51" y="218"/>
                    </a:lnTo>
                    <a:lnTo>
                      <a:pt x="50" y="217"/>
                    </a:lnTo>
                    <a:lnTo>
                      <a:pt x="48" y="217"/>
                    </a:lnTo>
                    <a:lnTo>
                      <a:pt x="46" y="217"/>
                    </a:lnTo>
                    <a:lnTo>
                      <a:pt x="45" y="218"/>
                    </a:lnTo>
                    <a:lnTo>
                      <a:pt x="44" y="219"/>
                    </a:lnTo>
                    <a:lnTo>
                      <a:pt x="44" y="220"/>
                    </a:lnTo>
                    <a:lnTo>
                      <a:pt x="12" y="220"/>
                    </a:lnTo>
                    <a:lnTo>
                      <a:pt x="12" y="194"/>
                    </a:lnTo>
                    <a:lnTo>
                      <a:pt x="0" y="19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145400" y="3385080"/>
                <a:ext cx="9360" cy="7920"/>
              </a:xfrm>
              <a:custGeom>
                <a:avLst/>
                <a:gdLst/>
                <a:ahLst/>
                <a:rect l="l" t="t" r="r" b="b"/>
                <a:pathLst>
                  <a:path w="9" h="6">
                    <a:moveTo>
                      <a:pt x="8" y="6"/>
                    </a:moveTo>
                    <a:lnTo>
                      <a:pt x="0" y="3"/>
                    </a:lnTo>
                    <a:lnTo>
                      <a:pt x="8" y="0"/>
                    </a:lnTo>
                    <a:lnTo>
                      <a:pt x="8" y="1"/>
                    </a:lnTo>
                    <a:lnTo>
                      <a:pt x="9" y="3"/>
                    </a:lnTo>
                    <a:lnTo>
                      <a:pt x="8" y="4"/>
                    </a:lnTo>
                    <a:lnTo>
                      <a:pt x="8"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46" name=""/>
              <p:cNvSpPr/>
              <p:nvPr/>
            </p:nvSpPr>
            <p:spPr>
              <a:xfrm>
                <a:off x="4724640" y="3098160"/>
                <a:ext cx="78480" cy="1150200"/>
              </a:xfrm>
              <a:custGeom>
                <a:avLst/>
                <a:gdLst/>
                <a:ahLst/>
                <a:rect l="l" t="t" r="r" b="b"/>
                <a:pathLst>
                  <a:path w="74" h="861">
                    <a:moveTo>
                      <a:pt x="29" y="861"/>
                    </a:moveTo>
                    <a:lnTo>
                      <a:pt x="22" y="861"/>
                    </a:lnTo>
                    <a:lnTo>
                      <a:pt x="22" y="428"/>
                    </a:lnTo>
                    <a:lnTo>
                      <a:pt x="0" y="428"/>
                    </a:lnTo>
                    <a:lnTo>
                      <a:pt x="0" y="3"/>
                    </a:lnTo>
                    <a:lnTo>
                      <a:pt x="26" y="3"/>
                    </a:lnTo>
                    <a:lnTo>
                      <a:pt x="27" y="2"/>
                    </a:lnTo>
                    <a:lnTo>
                      <a:pt x="27" y="1"/>
                    </a:lnTo>
                    <a:lnTo>
                      <a:pt x="29" y="0"/>
                    </a:lnTo>
                    <a:lnTo>
                      <a:pt x="31" y="0"/>
                    </a:lnTo>
                    <a:lnTo>
                      <a:pt x="32" y="0"/>
                    </a:lnTo>
                    <a:lnTo>
                      <a:pt x="34" y="1"/>
                    </a:lnTo>
                    <a:lnTo>
                      <a:pt x="35" y="2"/>
                    </a:lnTo>
                    <a:lnTo>
                      <a:pt x="35" y="3"/>
                    </a:lnTo>
                    <a:lnTo>
                      <a:pt x="74"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741560" y="424296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48" name=""/>
              <p:cNvSpPr/>
              <p:nvPr/>
            </p:nvSpPr>
            <p:spPr>
              <a:xfrm>
                <a:off x="4049280" y="3130200"/>
                <a:ext cx="822240" cy="403200"/>
              </a:xfrm>
              <a:custGeom>
                <a:avLst/>
                <a:gdLst/>
                <a:ahLst/>
                <a:rect l="l" t="t" r="r" b="b"/>
                <a:pathLst>
                  <a:path w="777" h="302">
                    <a:moveTo>
                      <a:pt x="777" y="0"/>
                    </a:moveTo>
                    <a:lnTo>
                      <a:pt x="777" y="37"/>
                    </a:lnTo>
                    <a:lnTo>
                      <a:pt x="725" y="37"/>
                    </a:lnTo>
                    <a:lnTo>
                      <a:pt x="725" y="36"/>
                    </a:lnTo>
                    <a:lnTo>
                      <a:pt x="724" y="35"/>
                    </a:lnTo>
                    <a:lnTo>
                      <a:pt x="723" y="34"/>
                    </a:lnTo>
                    <a:lnTo>
                      <a:pt x="721" y="34"/>
                    </a:lnTo>
                    <a:lnTo>
                      <a:pt x="719" y="34"/>
                    </a:lnTo>
                    <a:lnTo>
                      <a:pt x="718" y="35"/>
                    </a:lnTo>
                    <a:lnTo>
                      <a:pt x="717" y="36"/>
                    </a:lnTo>
                    <a:lnTo>
                      <a:pt x="716" y="37"/>
                    </a:lnTo>
                    <a:lnTo>
                      <a:pt x="707" y="37"/>
                    </a:lnTo>
                    <a:lnTo>
                      <a:pt x="707" y="36"/>
                    </a:lnTo>
                    <a:lnTo>
                      <a:pt x="706" y="35"/>
                    </a:lnTo>
                    <a:lnTo>
                      <a:pt x="704" y="34"/>
                    </a:lnTo>
                    <a:lnTo>
                      <a:pt x="702" y="34"/>
                    </a:lnTo>
                    <a:lnTo>
                      <a:pt x="701" y="34"/>
                    </a:lnTo>
                    <a:lnTo>
                      <a:pt x="699" y="35"/>
                    </a:lnTo>
                    <a:lnTo>
                      <a:pt x="698" y="36"/>
                    </a:lnTo>
                    <a:lnTo>
                      <a:pt x="698" y="37"/>
                    </a:lnTo>
                    <a:lnTo>
                      <a:pt x="691" y="37"/>
                    </a:lnTo>
                    <a:lnTo>
                      <a:pt x="691" y="302"/>
                    </a:lnTo>
                    <a:lnTo>
                      <a:pt x="673" y="302"/>
                    </a:lnTo>
                    <a:lnTo>
                      <a:pt x="673" y="301"/>
                    </a:lnTo>
                    <a:lnTo>
                      <a:pt x="672" y="300"/>
                    </a:lnTo>
                    <a:lnTo>
                      <a:pt x="670" y="299"/>
                    </a:lnTo>
                    <a:lnTo>
                      <a:pt x="669" y="299"/>
                    </a:lnTo>
                    <a:lnTo>
                      <a:pt x="667" y="299"/>
                    </a:lnTo>
                    <a:lnTo>
                      <a:pt x="665" y="300"/>
                    </a:lnTo>
                    <a:lnTo>
                      <a:pt x="665" y="301"/>
                    </a:lnTo>
                    <a:lnTo>
                      <a:pt x="664" y="302"/>
                    </a:lnTo>
                    <a:lnTo>
                      <a:pt x="660" y="302"/>
                    </a:lnTo>
                    <a:lnTo>
                      <a:pt x="660" y="301"/>
                    </a:lnTo>
                    <a:lnTo>
                      <a:pt x="659" y="300"/>
                    </a:lnTo>
                    <a:lnTo>
                      <a:pt x="658" y="299"/>
                    </a:lnTo>
                    <a:lnTo>
                      <a:pt x="656" y="299"/>
                    </a:lnTo>
                    <a:lnTo>
                      <a:pt x="654" y="299"/>
                    </a:lnTo>
                    <a:lnTo>
                      <a:pt x="653" y="300"/>
                    </a:lnTo>
                    <a:lnTo>
                      <a:pt x="652" y="301"/>
                    </a:lnTo>
                    <a:lnTo>
                      <a:pt x="651" y="302"/>
                    </a:lnTo>
                    <a:lnTo>
                      <a:pt x="643" y="302"/>
                    </a:lnTo>
                    <a:lnTo>
                      <a:pt x="642" y="301"/>
                    </a:lnTo>
                    <a:lnTo>
                      <a:pt x="642" y="300"/>
                    </a:lnTo>
                    <a:lnTo>
                      <a:pt x="640" y="299"/>
                    </a:lnTo>
                    <a:lnTo>
                      <a:pt x="638" y="299"/>
                    </a:lnTo>
                    <a:lnTo>
                      <a:pt x="637" y="299"/>
                    </a:lnTo>
                    <a:lnTo>
                      <a:pt x="635" y="300"/>
                    </a:lnTo>
                    <a:lnTo>
                      <a:pt x="634" y="301"/>
                    </a:lnTo>
                    <a:lnTo>
                      <a:pt x="634" y="302"/>
                    </a:lnTo>
                    <a:lnTo>
                      <a:pt x="629" y="302"/>
                    </a:lnTo>
                    <a:lnTo>
                      <a:pt x="629" y="301"/>
                    </a:lnTo>
                    <a:lnTo>
                      <a:pt x="628" y="300"/>
                    </a:lnTo>
                    <a:lnTo>
                      <a:pt x="626" y="299"/>
                    </a:lnTo>
                    <a:lnTo>
                      <a:pt x="625" y="299"/>
                    </a:lnTo>
                    <a:lnTo>
                      <a:pt x="623" y="299"/>
                    </a:lnTo>
                    <a:lnTo>
                      <a:pt x="622" y="300"/>
                    </a:lnTo>
                    <a:lnTo>
                      <a:pt x="621" y="301"/>
                    </a:lnTo>
                    <a:lnTo>
                      <a:pt x="620" y="302"/>
                    </a:lnTo>
                    <a:lnTo>
                      <a:pt x="619" y="302"/>
                    </a:lnTo>
                    <a:lnTo>
                      <a:pt x="619" y="301"/>
                    </a:lnTo>
                    <a:lnTo>
                      <a:pt x="618" y="300"/>
                    </a:lnTo>
                    <a:lnTo>
                      <a:pt x="616" y="299"/>
                    </a:lnTo>
                    <a:lnTo>
                      <a:pt x="615" y="299"/>
                    </a:lnTo>
                    <a:lnTo>
                      <a:pt x="613" y="299"/>
                    </a:lnTo>
                    <a:lnTo>
                      <a:pt x="611" y="300"/>
                    </a:lnTo>
                    <a:lnTo>
                      <a:pt x="611" y="301"/>
                    </a:lnTo>
                    <a:lnTo>
                      <a:pt x="610" y="302"/>
                    </a:lnTo>
                    <a:lnTo>
                      <a:pt x="599" y="302"/>
                    </a:lnTo>
                    <a:lnTo>
                      <a:pt x="599" y="301"/>
                    </a:lnTo>
                    <a:lnTo>
                      <a:pt x="598" y="300"/>
                    </a:lnTo>
                    <a:lnTo>
                      <a:pt x="597" y="299"/>
                    </a:lnTo>
                    <a:lnTo>
                      <a:pt x="595" y="299"/>
                    </a:lnTo>
                    <a:lnTo>
                      <a:pt x="593" y="299"/>
                    </a:lnTo>
                    <a:lnTo>
                      <a:pt x="592" y="300"/>
                    </a:lnTo>
                    <a:lnTo>
                      <a:pt x="591" y="301"/>
                    </a:lnTo>
                    <a:lnTo>
                      <a:pt x="590" y="302"/>
                    </a:lnTo>
                    <a:lnTo>
                      <a:pt x="589" y="302"/>
                    </a:lnTo>
                    <a:lnTo>
                      <a:pt x="588" y="301"/>
                    </a:lnTo>
                    <a:lnTo>
                      <a:pt x="587" y="299"/>
                    </a:lnTo>
                    <a:lnTo>
                      <a:pt x="586" y="298"/>
                    </a:lnTo>
                    <a:lnTo>
                      <a:pt x="584" y="297"/>
                    </a:lnTo>
                    <a:lnTo>
                      <a:pt x="582" y="296"/>
                    </a:lnTo>
                    <a:lnTo>
                      <a:pt x="579" y="296"/>
                    </a:lnTo>
                    <a:lnTo>
                      <a:pt x="577" y="297"/>
                    </a:lnTo>
                    <a:lnTo>
                      <a:pt x="575" y="298"/>
                    </a:lnTo>
                    <a:lnTo>
                      <a:pt x="574" y="299"/>
                    </a:lnTo>
                    <a:lnTo>
                      <a:pt x="573" y="301"/>
                    </a:lnTo>
                    <a:lnTo>
                      <a:pt x="572" y="302"/>
                    </a:lnTo>
                    <a:lnTo>
                      <a:pt x="438" y="302"/>
                    </a:lnTo>
                    <a:lnTo>
                      <a:pt x="438" y="301"/>
                    </a:lnTo>
                    <a:lnTo>
                      <a:pt x="437" y="300"/>
                    </a:lnTo>
                    <a:lnTo>
                      <a:pt x="435" y="299"/>
                    </a:lnTo>
                    <a:lnTo>
                      <a:pt x="434" y="299"/>
                    </a:lnTo>
                    <a:lnTo>
                      <a:pt x="432" y="299"/>
                    </a:lnTo>
                    <a:lnTo>
                      <a:pt x="430" y="300"/>
                    </a:lnTo>
                    <a:lnTo>
                      <a:pt x="430" y="301"/>
                    </a:lnTo>
                    <a:lnTo>
                      <a:pt x="429" y="302"/>
                    </a:lnTo>
                    <a:lnTo>
                      <a:pt x="325" y="302"/>
                    </a:lnTo>
                    <a:lnTo>
                      <a:pt x="325" y="300"/>
                    </a:lnTo>
                    <a:lnTo>
                      <a:pt x="324" y="298"/>
                    </a:lnTo>
                    <a:lnTo>
                      <a:pt x="323" y="297"/>
                    </a:lnTo>
                    <a:lnTo>
                      <a:pt x="320" y="295"/>
                    </a:lnTo>
                    <a:lnTo>
                      <a:pt x="318" y="294"/>
                    </a:lnTo>
                    <a:lnTo>
                      <a:pt x="315" y="294"/>
                    </a:lnTo>
                    <a:lnTo>
                      <a:pt x="313" y="294"/>
                    </a:lnTo>
                    <a:lnTo>
                      <a:pt x="310" y="294"/>
                    </a:lnTo>
                    <a:lnTo>
                      <a:pt x="307" y="295"/>
                    </a:lnTo>
                    <a:lnTo>
                      <a:pt x="305" y="297"/>
                    </a:lnTo>
                    <a:lnTo>
                      <a:pt x="304" y="298"/>
                    </a:lnTo>
                    <a:lnTo>
                      <a:pt x="303" y="300"/>
                    </a:lnTo>
                    <a:lnTo>
                      <a:pt x="303" y="302"/>
                    </a:lnTo>
                    <a:lnTo>
                      <a:pt x="298" y="302"/>
                    </a:lnTo>
                    <a:lnTo>
                      <a:pt x="298" y="301"/>
                    </a:lnTo>
                    <a:lnTo>
                      <a:pt x="297" y="300"/>
                    </a:lnTo>
                    <a:lnTo>
                      <a:pt x="296" y="299"/>
                    </a:lnTo>
                    <a:lnTo>
                      <a:pt x="294" y="299"/>
                    </a:lnTo>
                    <a:lnTo>
                      <a:pt x="292" y="299"/>
                    </a:lnTo>
                    <a:lnTo>
                      <a:pt x="291" y="300"/>
                    </a:lnTo>
                    <a:lnTo>
                      <a:pt x="290" y="301"/>
                    </a:lnTo>
                    <a:lnTo>
                      <a:pt x="289" y="302"/>
                    </a:lnTo>
                    <a:lnTo>
                      <a:pt x="285" y="302"/>
                    </a:lnTo>
                    <a:lnTo>
                      <a:pt x="284" y="300"/>
                    </a:lnTo>
                    <a:lnTo>
                      <a:pt x="283" y="298"/>
                    </a:lnTo>
                    <a:lnTo>
                      <a:pt x="282" y="297"/>
                    </a:lnTo>
                    <a:lnTo>
                      <a:pt x="280" y="295"/>
                    </a:lnTo>
                    <a:lnTo>
                      <a:pt x="277" y="294"/>
                    </a:lnTo>
                    <a:lnTo>
                      <a:pt x="275" y="294"/>
                    </a:lnTo>
                    <a:lnTo>
                      <a:pt x="272" y="294"/>
                    </a:lnTo>
                    <a:lnTo>
                      <a:pt x="270" y="294"/>
                    </a:lnTo>
                    <a:lnTo>
                      <a:pt x="267" y="295"/>
                    </a:lnTo>
                    <a:lnTo>
                      <a:pt x="265" y="297"/>
                    </a:lnTo>
                    <a:lnTo>
                      <a:pt x="263" y="298"/>
                    </a:lnTo>
                    <a:lnTo>
                      <a:pt x="263" y="300"/>
                    </a:lnTo>
                    <a:lnTo>
                      <a:pt x="262" y="302"/>
                    </a:lnTo>
                    <a:lnTo>
                      <a:pt x="241" y="302"/>
                    </a:lnTo>
                    <a:lnTo>
                      <a:pt x="241" y="301"/>
                    </a:lnTo>
                    <a:lnTo>
                      <a:pt x="240" y="300"/>
                    </a:lnTo>
                    <a:lnTo>
                      <a:pt x="239" y="299"/>
                    </a:lnTo>
                    <a:lnTo>
                      <a:pt x="237" y="299"/>
                    </a:lnTo>
                    <a:lnTo>
                      <a:pt x="235" y="299"/>
                    </a:lnTo>
                    <a:lnTo>
                      <a:pt x="234" y="300"/>
                    </a:lnTo>
                    <a:lnTo>
                      <a:pt x="233" y="301"/>
                    </a:lnTo>
                    <a:lnTo>
                      <a:pt x="232" y="302"/>
                    </a:lnTo>
                    <a:lnTo>
                      <a:pt x="170" y="302"/>
                    </a:lnTo>
                    <a:lnTo>
                      <a:pt x="170" y="301"/>
                    </a:lnTo>
                    <a:lnTo>
                      <a:pt x="169" y="300"/>
                    </a:lnTo>
                    <a:lnTo>
                      <a:pt x="167" y="299"/>
                    </a:lnTo>
                    <a:lnTo>
                      <a:pt x="165" y="299"/>
                    </a:lnTo>
                    <a:lnTo>
                      <a:pt x="164" y="299"/>
                    </a:lnTo>
                    <a:lnTo>
                      <a:pt x="162" y="300"/>
                    </a:lnTo>
                    <a:lnTo>
                      <a:pt x="161" y="301"/>
                    </a:lnTo>
                    <a:lnTo>
                      <a:pt x="161" y="302"/>
                    </a:lnTo>
                    <a:lnTo>
                      <a:pt x="152" y="302"/>
                    </a:lnTo>
                    <a:lnTo>
                      <a:pt x="151" y="301"/>
                    </a:lnTo>
                    <a:lnTo>
                      <a:pt x="150" y="300"/>
                    </a:lnTo>
                    <a:lnTo>
                      <a:pt x="149" y="299"/>
                    </a:lnTo>
                    <a:lnTo>
                      <a:pt x="147" y="299"/>
                    </a:lnTo>
                    <a:lnTo>
                      <a:pt x="145" y="299"/>
                    </a:lnTo>
                    <a:lnTo>
                      <a:pt x="144" y="300"/>
                    </a:lnTo>
                    <a:lnTo>
                      <a:pt x="143" y="301"/>
                    </a:lnTo>
                    <a:lnTo>
                      <a:pt x="143" y="302"/>
                    </a:lnTo>
                    <a:lnTo>
                      <a:pt x="31" y="302"/>
                    </a:lnTo>
                    <a:lnTo>
                      <a:pt x="31" y="301"/>
                    </a:lnTo>
                    <a:lnTo>
                      <a:pt x="30" y="300"/>
                    </a:lnTo>
                    <a:lnTo>
                      <a:pt x="29" y="299"/>
                    </a:lnTo>
                    <a:lnTo>
                      <a:pt x="27" y="299"/>
                    </a:lnTo>
                    <a:lnTo>
                      <a:pt x="25" y="299"/>
                    </a:lnTo>
                    <a:lnTo>
                      <a:pt x="24" y="300"/>
                    </a:lnTo>
                    <a:lnTo>
                      <a:pt x="23" y="301"/>
                    </a:lnTo>
                    <a:lnTo>
                      <a:pt x="22" y="302"/>
                    </a:lnTo>
                    <a:lnTo>
                      <a:pt x="0" y="30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4036320" y="352836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50" name=""/>
              <p:cNvSpPr/>
              <p:nvPr/>
            </p:nvSpPr>
            <p:spPr>
              <a:xfrm>
                <a:off x="4921200" y="3165120"/>
                <a:ext cx="124920" cy="69120"/>
              </a:xfrm>
              <a:prstGeom prst="rect">
                <a:avLst/>
              </a:prstGeom>
              <a:blipFill rotWithShape="0">
                <a:blip r:embed="rId95"/>
                <a:srcRect/>
                <a:tile tx="0" ty="0" sx="100000" sy="100000" algn="ctr"/>
              </a:blipFill>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51" name=""/>
              <p:cNvSpPr/>
              <p:nvPr/>
            </p:nvSpPr>
            <p:spPr>
              <a:xfrm>
                <a:off x="4948920" y="3167280"/>
                <a:ext cx="83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BC</a:t>
                </a:r>
                <a:endParaRPr b="0" lang="en-US" sz="300" spc="-1" strike="noStrike">
                  <a:solidFill>
                    <a:srgbClr val="ffffff"/>
                  </a:solidFill>
                  <a:latin typeface="Arial"/>
                </a:endParaRPr>
              </a:p>
            </p:txBody>
          </p:sp>
          <p:sp>
            <p:nvSpPr>
              <p:cNvPr id="952" name=""/>
              <p:cNvSpPr/>
              <p:nvPr/>
            </p:nvSpPr>
            <p:spPr>
              <a:xfrm>
                <a:off x="4965840" y="3198240"/>
                <a:ext cx="51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a:t>
                </a:r>
                <a:endParaRPr b="0" lang="en-US" sz="300" spc="-1" strike="noStrike">
                  <a:solidFill>
                    <a:srgbClr val="ffffff"/>
                  </a:solidFill>
                  <a:latin typeface="Arial"/>
                </a:endParaRPr>
              </a:p>
            </p:txBody>
          </p:sp>
          <p:sp>
            <p:nvSpPr>
              <p:cNvPr id="953" name=""/>
              <p:cNvSpPr/>
              <p:nvPr/>
            </p:nvSpPr>
            <p:spPr>
              <a:xfrm>
                <a:off x="4930920" y="3130200"/>
                <a:ext cx="36000" cy="22680"/>
              </a:xfrm>
              <a:custGeom>
                <a:avLst/>
                <a:gdLst/>
                <a:ahLst/>
                <a:rect l="l" t="t" r="r" b="b"/>
                <a:pathLst>
                  <a:path w="34" h="17">
                    <a:moveTo>
                      <a:pt x="0" y="0"/>
                    </a:moveTo>
                    <a:lnTo>
                      <a:pt x="0" y="16"/>
                    </a:lnTo>
                    <a:lnTo>
                      <a:pt x="34" y="16"/>
                    </a:lnTo>
                    <a:lnTo>
                      <a:pt x="34" y="17"/>
                    </a:lnTo>
                  </a:path>
                </a:pathLst>
              </a:custGeom>
              <a:noFill/>
              <a:ln w="144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954" name=""/>
              <p:cNvSpPr/>
              <p:nvPr/>
            </p:nvSpPr>
            <p:spPr>
              <a:xfrm>
                <a:off x="4960800" y="3151440"/>
                <a:ext cx="1224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55" name=""/>
              <p:cNvSpPr/>
              <p:nvPr/>
            </p:nvSpPr>
            <p:spPr>
              <a:xfrm>
                <a:off x="4002480" y="3130200"/>
                <a:ext cx="823680" cy="141120"/>
              </a:xfrm>
              <a:custGeom>
                <a:avLst/>
                <a:gdLst/>
                <a:ahLst/>
                <a:rect l="l" t="t" r="r" b="b"/>
                <a:pathLst>
                  <a:path w="778" h="106">
                    <a:moveTo>
                      <a:pt x="778" y="0"/>
                    </a:moveTo>
                    <a:lnTo>
                      <a:pt x="778" y="12"/>
                    </a:lnTo>
                    <a:lnTo>
                      <a:pt x="769" y="12"/>
                    </a:lnTo>
                    <a:lnTo>
                      <a:pt x="769" y="10"/>
                    </a:lnTo>
                    <a:lnTo>
                      <a:pt x="768" y="9"/>
                    </a:lnTo>
                    <a:lnTo>
                      <a:pt x="767" y="8"/>
                    </a:lnTo>
                    <a:lnTo>
                      <a:pt x="765" y="8"/>
                    </a:lnTo>
                    <a:lnTo>
                      <a:pt x="763" y="8"/>
                    </a:lnTo>
                    <a:lnTo>
                      <a:pt x="762" y="9"/>
                    </a:lnTo>
                    <a:lnTo>
                      <a:pt x="761" y="10"/>
                    </a:lnTo>
                    <a:lnTo>
                      <a:pt x="760" y="12"/>
                    </a:lnTo>
                    <a:lnTo>
                      <a:pt x="717" y="12"/>
                    </a:lnTo>
                    <a:lnTo>
                      <a:pt x="717" y="10"/>
                    </a:lnTo>
                    <a:lnTo>
                      <a:pt x="716" y="9"/>
                    </a:lnTo>
                    <a:lnTo>
                      <a:pt x="714" y="8"/>
                    </a:lnTo>
                    <a:lnTo>
                      <a:pt x="713" y="8"/>
                    </a:lnTo>
                    <a:lnTo>
                      <a:pt x="711" y="8"/>
                    </a:lnTo>
                    <a:lnTo>
                      <a:pt x="709" y="9"/>
                    </a:lnTo>
                    <a:lnTo>
                      <a:pt x="709" y="10"/>
                    </a:lnTo>
                    <a:lnTo>
                      <a:pt x="708" y="12"/>
                    </a:lnTo>
                    <a:lnTo>
                      <a:pt x="703" y="12"/>
                    </a:lnTo>
                    <a:lnTo>
                      <a:pt x="703" y="106"/>
                    </a:lnTo>
                    <a:lnTo>
                      <a:pt x="687" y="106"/>
                    </a:lnTo>
                    <a:lnTo>
                      <a:pt x="686" y="104"/>
                    </a:lnTo>
                    <a:lnTo>
                      <a:pt x="686" y="103"/>
                    </a:lnTo>
                    <a:lnTo>
                      <a:pt x="684" y="102"/>
                    </a:lnTo>
                    <a:lnTo>
                      <a:pt x="682" y="102"/>
                    </a:lnTo>
                    <a:lnTo>
                      <a:pt x="681" y="102"/>
                    </a:lnTo>
                    <a:lnTo>
                      <a:pt x="679" y="103"/>
                    </a:lnTo>
                    <a:lnTo>
                      <a:pt x="678" y="104"/>
                    </a:lnTo>
                    <a:lnTo>
                      <a:pt x="678" y="106"/>
                    </a:lnTo>
                    <a:lnTo>
                      <a:pt x="673" y="106"/>
                    </a:lnTo>
                    <a:lnTo>
                      <a:pt x="673" y="104"/>
                    </a:lnTo>
                    <a:lnTo>
                      <a:pt x="672" y="103"/>
                    </a:lnTo>
                    <a:lnTo>
                      <a:pt x="670" y="102"/>
                    </a:lnTo>
                    <a:lnTo>
                      <a:pt x="669" y="102"/>
                    </a:lnTo>
                    <a:lnTo>
                      <a:pt x="667" y="102"/>
                    </a:lnTo>
                    <a:lnTo>
                      <a:pt x="666" y="103"/>
                    </a:lnTo>
                    <a:lnTo>
                      <a:pt x="665" y="104"/>
                    </a:lnTo>
                    <a:lnTo>
                      <a:pt x="664" y="106"/>
                    </a:lnTo>
                    <a:lnTo>
                      <a:pt x="663" y="106"/>
                    </a:lnTo>
                    <a:lnTo>
                      <a:pt x="663" y="104"/>
                    </a:lnTo>
                    <a:lnTo>
                      <a:pt x="662" y="103"/>
                    </a:lnTo>
                    <a:lnTo>
                      <a:pt x="660" y="102"/>
                    </a:lnTo>
                    <a:lnTo>
                      <a:pt x="659" y="102"/>
                    </a:lnTo>
                    <a:lnTo>
                      <a:pt x="657" y="102"/>
                    </a:lnTo>
                    <a:lnTo>
                      <a:pt x="655" y="103"/>
                    </a:lnTo>
                    <a:lnTo>
                      <a:pt x="655" y="104"/>
                    </a:lnTo>
                    <a:lnTo>
                      <a:pt x="654" y="106"/>
                    </a:lnTo>
                    <a:lnTo>
                      <a:pt x="643" y="106"/>
                    </a:lnTo>
                    <a:lnTo>
                      <a:pt x="643" y="104"/>
                    </a:lnTo>
                    <a:lnTo>
                      <a:pt x="642" y="103"/>
                    </a:lnTo>
                    <a:lnTo>
                      <a:pt x="641" y="102"/>
                    </a:lnTo>
                    <a:lnTo>
                      <a:pt x="639" y="102"/>
                    </a:lnTo>
                    <a:lnTo>
                      <a:pt x="637" y="102"/>
                    </a:lnTo>
                    <a:lnTo>
                      <a:pt x="636" y="103"/>
                    </a:lnTo>
                    <a:lnTo>
                      <a:pt x="635" y="104"/>
                    </a:lnTo>
                    <a:lnTo>
                      <a:pt x="634" y="106"/>
                    </a:lnTo>
                    <a:lnTo>
                      <a:pt x="625" y="106"/>
                    </a:lnTo>
                    <a:lnTo>
                      <a:pt x="625" y="104"/>
                    </a:lnTo>
                    <a:lnTo>
                      <a:pt x="624" y="103"/>
                    </a:lnTo>
                    <a:lnTo>
                      <a:pt x="622" y="102"/>
                    </a:lnTo>
                    <a:lnTo>
                      <a:pt x="621" y="102"/>
                    </a:lnTo>
                    <a:lnTo>
                      <a:pt x="619" y="102"/>
                    </a:lnTo>
                    <a:lnTo>
                      <a:pt x="618" y="103"/>
                    </a:lnTo>
                    <a:lnTo>
                      <a:pt x="617" y="104"/>
                    </a:lnTo>
                    <a:lnTo>
                      <a:pt x="616" y="106"/>
                    </a:lnTo>
                    <a:lnTo>
                      <a:pt x="616" y="106"/>
                    </a:lnTo>
                    <a:lnTo>
                      <a:pt x="615" y="104"/>
                    </a:lnTo>
                    <a:lnTo>
                      <a:pt x="615" y="103"/>
                    </a:lnTo>
                    <a:lnTo>
                      <a:pt x="613" y="102"/>
                    </a:lnTo>
                    <a:lnTo>
                      <a:pt x="611" y="102"/>
                    </a:lnTo>
                    <a:lnTo>
                      <a:pt x="610" y="102"/>
                    </a:lnTo>
                    <a:lnTo>
                      <a:pt x="608" y="103"/>
                    </a:lnTo>
                    <a:lnTo>
                      <a:pt x="607" y="104"/>
                    </a:lnTo>
                    <a:lnTo>
                      <a:pt x="607" y="106"/>
                    </a:lnTo>
                    <a:lnTo>
                      <a:pt x="601" y="106"/>
                    </a:lnTo>
                    <a:lnTo>
                      <a:pt x="600" y="104"/>
                    </a:lnTo>
                    <a:lnTo>
                      <a:pt x="599" y="102"/>
                    </a:lnTo>
                    <a:lnTo>
                      <a:pt x="598" y="101"/>
                    </a:lnTo>
                    <a:lnTo>
                      <a:pt x="596" y="100"/>
                    </a:lnTo>
                    <a:lnTo>
                      <a:pt x="593" y="99"/>
                    </a:lnTo>
                    <a:lnTo>
                      <a:pt x="591" y="99"/>
                    </a:lnTo>
                    <a:lnTo>
                      <a:pt x="589" y="100"/>
                    </a:lnTo>
                    <a:lnTo>
                      <a:pt x="587" y="101"/>
                    </a:lnTo>
                    <a:lnTo>
                      <a:pt x="585" y="102"/>
                    </a:lnTo>
                    <a:lnTo>
                      <a:pt x="584" y="104"/>
                    </a:lnTo>
                    <a:lnTo>
                      <a:pt x="584" y="106"/>
                    </a:lnTo>
                    <a:lnTo>
                      <a:pt x="574" y="106"/>
                    </a:lnTo>
                    <a:lnTo>
                      <a:pt x="573" y="104"/>
                    </a:lnTo>
                    <a:lnTo>
                      <a:pt x="572" y="103"/>
                    </a:lnTo>
                    <a:lnTo>
                      <a:pt x="571" y="102"/>
                    </a:lnTo>
                    <a:lnTo>
                      <a:pt x="569" y="102"/>
                    </a:lnTo>
                    <a:lnTo>
                      <a:pt x="567" y="102"/>
                    </a:lnTo>
                    <a:lnTo>
                      <a:pt x="566" y="103"/>
                    </a:lnTo>
                    <a:lnTo>
                      <a:pt x="565" y="104"/>
                    </a:lnTo>
                    <a:lnTo>
                      <a:pt x="565" y="106"/>
                    </a:lnTo>
                    <a:lnTo>
                      <a:pt x="560" y="106"/>
                    </a:lnTo>
                    <a:lnTo>
                      <a:pt x="560" y="104"/>
                    </a:lnTo>
                    <a:lnTo>
                      <a:pt x="559" y="103"/>
                    </a:lnTo>
                    <a:lnTo>
                      <a:pt x="557" y="102"/>
                    </a:lnTo>
                    <a:lnTo>
                      <a:pt x="556" y="102"/>
                    </a:lnTo>
                    <a:lnTo>
                      <a:pt x="554" y="102"/>
                    </a:lnTo>
                    <a:lnTo>
                      <a:pt x="552" y="103"/>
                    </a:lnTo>
                    <a:lnTo>
                      <a:pt x="552" y="104"/>
                    </a:lnTo>
                    <a:lnTo>
                      <a:pt x="551" y="106"/>
                    </a:lnTo>
                    <a:lnTo>
                      <a:pt x="537" y="106"/>
                    </a:lnTo>
                    <a:lnTo>
                      <a:pt x="537" y="104"/>
                    </a:lnTo>
                    <a:lnTo>
                      <a:pt x="536" y="103"/>
                    </a:lnTo>
                    <a:lnTo>
                      <a:pt x="534" y="102"/>
                    </a:lnTo>
                    <a:lnTo>
                      <a:pt x="532" y="102"/>
                    </a:lnTo>
                    <a:lnTo>
                      <a:pt x="531" y="102"/>
                    </a:lnTo>
                    <a:lnTo>
                      <a:pt x="529" y="103"/>
                    </a:lnTo>
                    <a:lnTo>
                      <a:pt x="528" y="104"/>
                    </a:lnTo>
                    <a:lnTo>
                      <a:pt x="528" y="106"/>
                    </a:lnTo>
                    <a:lnTo>
                      <a:pt x="521" y="106"/>
                    </a:lnTo>
                    <a:lnTo>
                      <a:pt x="520" y="104"/>
                    </a:lnTo>
                    <a:lnTo>
                      <a:pt x="519" y="103"/>
                    </a:lnTo>
                    <a:lnTo>
                      <a:pt x="518" y="102"/>
                    </a:lnTo>
                    <a:lnTo>
                      <a:pt x="516" y="102"/>
                    </a:lnTo>
                    <a:lnTo>
                      <a:pt x="514" y="102"/>
                    </a:lnTo>
                    <a:lnTo>
                      <a:pt x="513" y="103"/>
                    </a:lnTo>
                    <a:lnTo>
                      <a:pt x="512" y="104"/>
                    </a:lnTo>
                    <a:lnTo>
                      <a:pt x="512" y="106"/>
                    </a:lnTo>
                    <a:lnTo>
                      <a:pt x="494" y="106"/>
                    </a:lnTo>
                    <a:lnTo>
                      <a:pt x="493" y="104"/>
                    </a:lnTo>
                    <a:lnTo>
                      <a:pt x="492" y="103"/>
                    </a:lnTo>
                    <a:lnTo>
                      <a:pt x="491" y="102"/>
                    </a:lnTo>
                    <a:lnTo>
                      <a:pt x="489" y="102"/>
                    </a:lnTo>
                    <a:lnTo>
                      <a:pt x="487" y="102"/>
                    </a:lnTo>
                    <a:lnTo>
                      <a:pt x="486" y="103"/>
                    </a:lnTo>
                    <a:lnTo>
                      <a:pt x="485" y="104"/>
                    </a:lnTo>
                    <a:lnTo>
                      <a:pt x="484" y="106"/>
                    </a:lnTo>
                    <a:lnTo>
                      <a:pt x="456" y="106"/>
                    </a:lnTo>
                    <a:lnTo>
                      <a:pt x="455" y="104"/>
                    </a:lnTo>
                    <a:lnTo>
                      <a:pt x="454" y="103"/>
                    </a:lnTo>
                    <a:lnTo>
                      <a:pt x="453" y="102"/>
                    </a:lnTo>
                    <a:lnTo>
                      <a:pt x="451" y="102"/>
                    </a:lnTo>
                    <a:lnTo>
                      <a:pt x="450" y="102"/>
                    </a:lnTo>
                    <a:lnTo>
                      <a:pt x="448" y="103"/>
                    </a:lnTo>
                    <a:lnTo>
                      <a:pt x="447" y="104"/>
                    </a:lnTo>
                    <a:lnTo>
                      <a:pt x="447" y="106"/>
                    </a:lnTo>
                    <a:lnTo>
                      <a:pt x="419" y="106"/>
                    </a:lnTo>
                    <a:lnTo>
                      <a:pt x="419" y="104"/>
                    </a:lnTo>
                    <a:lnTo>
                      <a:pt x="418" y="103"/>
                    </a:lnTo>
                    <a:lnTo>
                      <a:pt x="416" y="102"/>
                    </a:lnTo>
                    <a:lnTo>
                      <a:pt x="415" y="102"/>
                    </a:lnTo>
                    <a:lnTo>
                      <a:pt x="413" y="102"/>
                    </a:lnTo>
                    <a:lnTo>
                      <a:pt x="412" y="103"/>
                    </a:lnTo>
                    <a:lnTo>
                      <a:pt x="411" y="104"/>
                    </a:lnTo>
                    <a:lnTo>
                      <a:pt x="410" y="106"/>
                    </a:lnTo>
                    <a:lnTo>
                      <a:pt x="363" y="106"/>
                    </a:lnTo>
                    <a:lnTo>
                      <a:pt x="362" y="104"/>
                    </a:lnTo>
                    <a:lnTo>
                      <a:pt x="361" y="102"/>
                    </a:lnTo>
                    <a:lnTo>
                      <a:pt x="360" y="101"/>
                    </a:lnTo>
                    <a:lnTo>
                      <a:pt x="358" y="100"/>
                    </a:lnTo>
                    <a:lnTo>
                      <a:pt x="356" y="99"/>
                    </a:lnTo>
                    <a:lnTo>
                      <a:pt x="353" y="99"/>
                    </a:lnTo>
                    <a:lnTo>
                      <a:pt x="351" y="100"/>
                    </a:lnTo>
                    <a:lnTo>
                      <a:pt x="349" y="101"/>
                    </a:lnTo>
                    <a:lnTo>
                      <a:pt x="348" y="102"/>
                    </a:lnTo>
                    <a:lnTo>
                      <a:pt x="347" y="104"/>
                    </a:lnTo>
                    <a:lnTo>
                      <a:pt x="347" y="106"/>
                    </a:lnTo>
                    <a:lnTo>
                      <a:pt x="285" y="106"/>
                    </a:lnTo>
                    <a:lnTo>
                      <a:pt x="285" y="104"/>
                    </a:lnTo>
                    <a:lnTo>
                      <a:pt x="284" y="103"/>
                    </a:lnTo>
                    <a:lnTo>
                      <a:pt x="283" y="102"/>
                    </a:lnTo>
                    <a:lnTo>
                      <a:pt x="281" y="102"/>
                    </a:lnTo>
                    <a:lnTo>
                      <a:pt x="279" y="102"/>
                    </a:lnTo>
                    <a:lnTo>
                      <a:pt x="278" y="103"/>
                    </a:lnTo>
                    <a:lnTo>
                      <a:pt x="277" y="104"/>
                    </a:lnTo>
                    <a:lnTo>
                      <a:pt x="276" y="106"/>
                    </a:lnTo>
                    <a:lnTo>
                      <a:pt x="260" y="106"/>
                    </a:lnTo>
                    <a:lnTo>
                      <a:pt x="259" y="104"/>
                    </a:lnTo>
                    <a:lnTo>
                      <a:pt x="258" y="103"/>
                    </a:lnTo>
                    <a:lnTo>
                      <a:pt x="257" y="102"/>
                    </a:lnTo>
                    <a:lnTo>
                      <a:pt x="255" y="102"/>
                    </a:lnTo>
                    <a:lnTo>
                      <a:pt x="254" y="102"/>
                    </a:lnTo>
                    <a:lnTo>
                      <a:pt x="252" y="103"/>
                    </a:lnTo>
                    <a:lnTo>
                      <a:pt x="251" y="104"/>
                    </a:lnTo>
                    <a:lnTo>
                      <a:pt x="251" y="106"/>
                    </a:lnTo>
                    <a:lnTo>
                      <a:pt x="225" y="106"/>
                    </a:lnTo>
                    <a:lnTo>
                      <a:pt x="224" y="104"/>
                    </a:lnTo>
                    <a:lnTo>
                      <a:pt x="223" y="103"/>
                    </a:lnTo>
                    <a:lnTo>
                      <a:pt x="222" y="102"/>
                    </a:lnTo>
                    <a:lnTo>
                      <a:pt x="220" y="102"/>
                    </a:lnTo>
                    <a:lnTo>
                      <a:pt x="218" y="102"/>
                    </a:lnTo>
                    <a:lnTo>
                      <a:pt x="217" y="103"/>
                    </a:lnTo>
                    <a:lnTo>
                      <a:pt x="216" y="104"/>
                    </a:lnTo>
                    <a:lnTo>
                      <a:pt x="216" y="106"/>
                    </a:lnTo>
                    <a:lnTo>
                      <a:pt x="196" y="106"/>
                    </a:lnTo>
                    <a:lnTo>
                      <a:pt x="195" y="104"/>
                    </a:lnTo>
                    <a:lnTo>
                      <a:pt x="194" y="103"/>
                    </a:lnTo>
                    <a:lnTo>
                      <a:pt x="193" y="102"/>
                    </a:lnTo>
                    <a:lnTo>
                      <a:pt x="191" y="102"/>
                    </a:lnTo>
                    <a:lnTo>
                      <a:pt x="189" y="102"/>
                    </a:lnTo>
                    <a:lnTo>
                      <a:pt x="188" y="103"/>
                    </a:lnTo>
                    <a:lnTo>
                      <a:pt x="187" y="104"/>
                    </a:lnTo>
                    <a:lnTo>
                      <a:pt x="187" y="106"/>
                    </a:lnTo>
                    <a:lnTo>
                      <a:pt x="121" y="106"/>
                    </a:lnTo>
                    <a:lnTo>
                      <a:pt x="121" y="104"/>
                    </a:lnTo>
                    <a:lnTo>
                      <a:pt x="120" y="103"/>
                    </a:lnTo>
                    <a:lnTo>
                      <a:pt x="118" y="102"/>
                    </a:lnTo>
                    <a:lnTo>
                      <a:pt x="117" y="102"/>
                    </a:lnTo>
                    <a:lnTo>
                      <a:pt x="115" y="102"/>
                    </a:lnTo>
                    <a:lnTo>
                      <a:pt x="113" y="103"/>
                    </a:lnTo>
                    <a:lnTo>
                      <a:pt x="112" y="104"/>
                    </a:lnTo>
                    <a:lnTo>
                      <a:pt x="112" y="106"/>
                    </a:lnTo>
                    <a:lnTo>
                      <a:pt x="0" y="106"/>
                    </a:lnTo>
                    <a:lnTo>
                      <a:pt x="0" y="9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3996000" y="32504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57" name=""/>
              <p:cNvSpPr/>
              <p:nvPr/>
            </p:nvSpPr>
            <p:spPr>
              <a:xfrm>
                <a:off x="3923280" y="2920680"/>
                <a:ext cx="642600" cy="431280"/>
              </a:xfrm>
              <a:custGeom>
                <a:avLst/>
                <a:gdLst/>
                <a:ahLst/>
                <a:rect l="l" t="t" r="r" b="b"/>
                <a:pathLst>
                  <a:path w="607" h="323">
                    <a:moveTo>
                      <a:pt x="607" y="323"/>
                    </a:moveTo>
                    <a:lnTo>
                      <a:pt x="607" y="6"/>
                    </a:lnTo>
                    <a:lnTo>
                      <a:pt x="596" y="6"/>
                    </a:lnTo>
                    <a:lnTo>
                      <a:pt x="595" y="4"/>
                    </a:lnTo>
                    <a:lnTo>
                      <a:pt x="594" y="3"/>
                    </a:lnTo>
                    <a:lnTo>
                      <a:pt x="593" y="3"/>
                    </a:lnTo>
                    <a:lnTo>
                      <a:pt x="591" y="2"/>
                    </a:lnTo>
                    <a:lnTo>
                      <a:pt x="589" y="3"/>
                    </a:lnTo>
                    <a:lnTo>
                      <a:pt x="588" y="3"/>
                    </a:lnTo>
                    <a:lnTo>
                      <a:pt x="587" y="4"/>
                    </a:lnTo>
                    <a:lnTo>
                      <a:pt x="587" y="6"/>
                    </a:lnTo>
                    <a:lnTo>
                      <a:pt x="582" y="6"/>
                    </a:lnTo>
                    <a:lnTo>
                      <a:pt x="582" y="4"/>
                    </a:lnTo>
                    <a:lnTo>
                      <a:pt x="581" y="2"/>
                    </a:lnTo>
                    <a:lnTo>
                      <a:pt x="579" y="1"/>
                    </a:lnTo>
                    <a:lnTo>
                      <a:pt x="578" y="0"/>
                    </a:lnTo>
                    <a:lnTo>
                      <a:pt x="575" y="0"/>
                    </a:lnTo>
                    <a:lnTo>
                      <a:pt x="573" y="0"/>
                    </a:lnTo>
                    <a:lnTo>
                      <a:pt x="571" y="0"/>
                    </a:lnTo>
                    <a:lnTo>
                      <a:pt x="569" y="1"/>
                    </a:lnTo>
                    <a:lnTo>
                      <a:pt x="568" y="2"/>
                    </a:lnTo>
                    <a:lnTo>
                      <a:pt x="567" y="4"/>
                    </a:lnTo>
                    <a:lnTo>
                      <a:pt x="566" y="6"/>
                    </a:lnTo>
                    <a:lnTo>
                      <a:pt x="526" y="6"/>
                    </a:lnTo>
                    <a:lnTo>
                      <a:pt x="526" y="4"/>
                    </a:lnTo>
                    <a:lnTo>
                      <a:pt x="525" y="3"/>
                    </a:lnTo>
                    <a:lnTo>
                      <a:pt x="523" y="3"/>
                    </a:lnTo>
                    <a:lnTo>
                      <a:pt x="522" y="2"/>
                    </a:lnTo>
                    <a:lnTo>
                      <a:pt x="520" y="3"/>
                    </a:lnTo>
                    <a:lnTo>
                      <a:pt x="519" y="3"/>
                    </a:lnTo>
                    <a:lnTo>
                      <a:pt x="518" y="4"/>
                    </a:lnTo>
                    <a:lnTo>
                      <a:pt x="517" y="6"/>
                    </a:lnTo>
                    <a:lnTo>
                      <a:pt x="512" y="6"/>
                    </a:lnTo>
                    <a:lnTo>
                      <a:pt x="511" y="4"/>
                    </a:lnTo>
                    <a:lnTo>
                      <a:pt x="511" y="3"/>
                    </a:lnTo>
                    <a:lnTo>
                      <a:pt x="509" y="3"/>
                    </a:lnTo>
                    <a:lnTo>
                      <a:pt x="507" y="2"/>
                    </a:lnTo>
                    <a:lnTo>
                      <a:pt x="506" y="3"/>
                    </a:lnTo>
                    <a:lnTo>
                      <a:pt x="504" y="3"/>
                    </a:lnTo>
                    <a:lnTo>
                      <a:pt x="503" y="4"/>
                    </a:lnTo>
                    <a:lnTo>
                      <a:pt x="503" y="6"/>
                    </a:lnTo>
                    <a:lnTo>
                      <a:pt x="215" y="6"/>
                    </a:lnTo>
                    <a:lnTo>
                      <a:pt x="214" y="4"/>
                    </a:lnTo>
                    <a:lnTo>
                      <a:pt x="213" y="3"/>
                    </a:lnTo>
                    <a:lnTo>
                      <a:pt x="212" y="3"/>
                    </a:lnTo>
                    <a:lnTo>
                      <a:pt x="210" y="2"/>
                    </a:lnTo>
                    <a:lnTo>
                      <a:pt x="208" y="3"/>
                    </a:lnTo>
                    <a:lnTo>
                      <a:pt x="207" y="3"/>
                    </a:lnTo>
                    <a:lnTo>
                      <a:pt x="206" y="4"/>
                    </a:lnTo>
                    <a:lnTo>
                      <a:pt x="206" y="6"/>
                    </a:lnTo>
                    <a:lnTo>
                      <a:pt x="135" y="6"/>
                    </a:lnTo>
                    <a:lnTo>
                      <a:pt x="135" y="4"/>
                    </a:lnTo>
                    <a:lnTo>
                      <a:pt x="134" y="3"/>
                    </a:lnTo>
                    <a:lnTo>
                      <a:pt x="133" y="3"/>
                    </a:lnTo>
                    <a:lnTo>
                      <a:pt x="131" y="2"/>
                    </a:lnTo>
                    <a:lnTo>
                      <a:pt x="129" y="3"/>
                    </a:lnTo>
                    <a:lnTo>
                      <a:pt x="128" y="3"/>
                    </a:lnTo>
                    <a:lnTo>
                      <a:pt x="127" y="4"/>
                    </a:lnTo>
                    <a:lnTo>
                      <a:pt x="126" y="6"/>
                    </a:lnTo>
                    <a:lnTo>
                      <a:pt x="100" y="6"/>
                    </a:lnTo>
                    <a:lnTo>
                      <a:pt x="99" y="4"/>
                    </a:lnTo>
                    <a:lnTo>
                      <a:pt x="98" y="3"/>
                    </a:lnTo>
                    <a:lnTo>
                      <a:pt x="97" y="3"/>
                    </a:lnTo>
                    <a:lnTo>
                      <a:pt x="95" y="2"/>
                    </a:lnTo>
                    <a:lnTo>
                      <a:pt x="94" y="3"/>
                    </a:lnTo>
                    <a:lnTo>
                      <a:pt x="92" y="3"/>
                    </a:lnTo>
                    <a:lnTo>
                      <a:pt x="91" y="4"/>
                    </a:lnTo>
                    <a:lnTo>
                      <a:pt x="91" y="6"/>
                    </a:lnTo>
                    <a:lnTo>
                      <a:pt x="75" y="6"/>
                    </a:lnTo>
                    <a:lnTo>
                      <a:pt x="75" y="32"/>
                    </a:lnTo>
                    <a:lnTo>
                      <a:pt x="59" y="32"/>
                    </a:lnTo>
                    <a:lnTo>
                      <a:pt x="59" y="30"/>
                    </a:lnTo>
                    <a:lnTo>
                      <a:pt x="58" y="29"/>
                    </a:lnTo>
                    <a:lnTo>
                      <a:pt x="56" y="29"/>
                    </a:lnTo>
                    <a:lnTo>
                      <a:pt x="55" y="28"/>
                    </a:lnTo>
                    <a:lnTo>
                      <a:pt x="53" y="29"/>
                    </a:lnTo>
                    <a:lnTo>
                      <a:pt x="52" y="29"/>
                    </a:lnTo>
                    <a:lnTo>
                      <a:pt x="51" y="30"/>
                    </a:lnTo>
                    <a:lnTo>
                      <a:pt x="50" y="32"/>
                    </a:lnTo>
                    <a:lnTo>
                      <a:pt x="0" y="32"/>
                    </a:lnTo>
                    <a:lnTo>
                      <a:pt x="0" y="3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916800" y="2948400"/>
                <a:ext cx="12240" cy="14760"/>
              </a:xfrm>
              <a:custGeom>
                <a:avLst/>
                <a:gdLst/>
                <a:ahLst/>
                <a:rect l="l" t="t" r="r" b="b"/>
                <a:pathLst>
                  <a:path w="12" h="11">
                    <a:moveTo>
                      <a:pt x="0" y="9"/>
                    </a:moveTo>
                    <a:lnTo>
                      <a:pt x="6" y="0"/>
                    </a:lnTo>
                    <a:lnTo>
                      <a:pt x="12" y="9"/>
                    </a:lnTo>
                    <a:lnTo>
                      <a:pt x="9" y="10"/>
                    </a:lnTo>
                    <a:lnTo>
                      <a:pt x="6" y="11"/>
                    </a:lnTo>
                    <a:lnTo>
                      <a:pt x="3" y="10"/>
                    </a:lnTo>
                    <a:lnTo>
                      <a:pt x="0" y="9"/>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959" name=""/>
              <p:cNvSpPr/>
              <p:nvPr/>
            </p:nvSpPr>
            <p:spPr>
              <a:xfrm>
                <a:off x="7585200" y="1997280"/>
                <a:ext cx="397800" cy="146880"/>
              </a:xfrm>
              <a:prstGeom prst="rect">
                <a:avLst/>
              </a:prstGeom>
              <a:blipFill rotWithShape="0">
                <a:blip r:embed="rId9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7614720" y="2038680"/>
                <a:ext cx="34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Universal Account</a:t>
                </a:r>
                <a:endParaRPr b="0" lang="en-US" sz="300" spc="-1" strike="noStrike">
                  <a:solidFill>
                    <a:srgbClr val="ffffff"/>
                  </a:solidFill>
                  <a:latin typeface="Arial"/>
                </a:endParaRPr>
              </a:p>
            </p:txBody>
          </p:sp>
          <p:sp>
            <p:nvSpPr>
              <p:cNvPr id="961" name=""/>
              <p:cNvSpPr/>
              <p:nvPr/>
            </p:nvSpPr>
            <p:spPr>
              <a:xfrm>
                <a:off x="7685640" y="2074680"/>
                <a:ext cx="270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concilliation</a:t>
                </a:r>
                <a:endParaRPr b="0" lang="en-US" sz="300" spc="-1" strike="noStrike">
                  <a:solidFill>
                    <a:srgbClr val="ffffff"/>
                  </a:solidFill>
                  <a:latin typeface="Arial"/>
                </a:endParaRPr>
              </a:p>
            </p:txBody>
          </p:sp>
          <p:sp>
            <p:nvSpPr>
              <p:cNvPr id="962" name=""/>
              <p:cNvSpPr/>
              <p:nvPr/>
            </p:nvSpPr>
            <p:spPr>
              <a:xfrm>
                <a:off x="6607080" y="2156400"/>
                <a:ext cx="1176840" cy="343440"/>
              </a:xfrm>
              <a:custGeom>
                <a:avLst/>
                <a:gdLst/>
                <a:ahLst/>
                <a:rect l="l" t="t" r="r" b="b"/>
                <a:pathLst>
                  <a:path w="1112" h="257">
                    <a:moveTo>
                      <a:pt x="1112" y="0"/>
                    </a:moveTo>
                    <a:lnTo>
                      <a:pt x="1112" y="100"/>
                    </a:lnTo>
                    <a:lnTo>
                      <a:pt x="1040" y="100"/>
                    </a:lnTo>
                    <a:lnTo>
                      <a:pt x="1040" y="99"/>
                    </a:lnTo>
                    <a:lnTo>
                      <a:pt x="1039" y="98"/>
                    </a:lnTo>
                    <a:lnTo>
                      <a:pt x="1037" y="97"/>
                    </a:lnTo>
                    <a:lnTo>
                      <a:pt x="1036" y="97"/>
                    </a:lnTo>
                    <a:lnTo>
                      <a:pt x="1034" y="97"/>
                    </a:lnTo>
                    <a:lnTo>
                      <a:pt x="1032" y="98"/>
                    </a:lnTo>
                    <a:lnTo>
                      <a:pt x="1032" y="99"/>
                    </a:lnTo>
                    <a:lnTo>
                      <a:pt x="1031" y="100"/>
                    </a:lnTo>
                    <a:lnTo>
                      <a:pt x="1003" y="100"/>
                    </a:lnTo>
                    <a:lnTo>
                      <a:pt x="1002" y="99"/>
                    </a:lnTo>
                    <a:lnTo>
                      <a:pt x="1001" y="98"/>
                    </a:lnTo>
                    <a:lnTo>
                      <a:pt x="1000" y="97"/>
                    </a:lnTo>
                    <a:lnTo>
                      <a:pt x="998" y="97"/>
                    </a:lnTo>
                    <a:lnTo>
                      <a:pt x="997" y="97"/>
                    </a:lnTo>
                    <a:lnTo>
                      <a:pt x="995" y="98"/>
                    </a:lnTo>
                    <a:lnTo>
                      <a:pt x="994" y="99"/>
                    </a:lnTo>
                    <a:lnTo>
                      <a:pt x="994" y="100"/>
                    </a:lnTo>
                    <a:lnTo>
                      <a:pt x="883" y="100"/>
                    </a:lnTo>
                    <a:lnTo>
                      <a:pt x="883" y="99"/>
                    </a:lnTo>
                    <a:lnTo>
                      <a:pt x="882" y="98"/>
                    </a:lnTo>
                    <a:lnTo>
                      <a:pt x="880" y="97"/>
                    </a:lnTo>
                    <a:lnTo>
                      <a:pt x="878" y="97"/>
                    </a:lnTo>
                    <a:lnTo>
                      <a:pt x="877" y="97"/>
                    </a:lnTo>
                    <a:lnTo>
                      <a:pt x="875" y="98"/>
                    </a:lnTo>
                    <a:lnTo>
                      <a:pt x="874" y="99"/>
                    </a:lnTo>
                    <a:lnTo>
                      <a:pt x="874" y="100"/>
                    </a:lnTo>
                    <a:lnTo>
                      <a:pt x="760" y="100"/>
                    </a:lnTo>
                    <a:lnTo>
                      <a:pt x="759" y="99"/>
                    </a:lnTo>
                    <a:lnTo>
                      <a:pt x="758" y="98"/>
                    </a:lnTo>
                    <a:lnTo>
                      <a:pt x="757" y="97"/>
                    </a:lnTo>
                    <a:lnTo>
                      <a:pt x="755" y="97"/>
                    </a:lnTo>
                    <a:lnTo>
                      <a:pt x="753" y="97"/>
                    </a:lnTo>
                    <a:lnTo>
                      <a:pt x="752" y="98"/>
                    </a:lnTo>
                    <a:lnTo>
                      <a:pt x="751" y="99"/>
                    </a:lnTo>
                    <a:lnTo>
                      <a:pt x="751" y="100"/>
                    </a:lnTo>
                    <a:lnTo>
                      <a:pt x="699" y="100"/>
                    </a:lnTo>
                    <a:lnTo>
                      <a:pt x="699" y="99"/>
                    </a:lnTo>
                    <a:lnTo>
                      <a:pt x="697" y="98"/>
                    </a:lnTo>
                    <a:lnTo>
                      <a:pt x="696" y="97"/>
                    </a:lnTo>
                    <a:lnTo>
                      <a:pt x="694" y="97"/>
                    </a:lnTo>
                    <a:lnTo>
                      <a:pt x="693" y="97"/>
                    </a:lnTo>
                    <a:lnTo>
                      <a:pt x="691" y="98"/>
                    </a:lnTo>
                    <a:lnTo>
                      <a:pt x="690" y="99"/>
                    </a:lnTo>
                    <a:lnTo>
                      <a:pt x="690" y="100"/>
                    </a:lnTo>
                    <a:lnTo>
                      <a:pt x="640" y="100"/>
                    </a:lnTo>
                    <a:lnTo>
                      <a:pt x="640" y="99"/>
                    </a:lnTo>
                    <a:lnTo>
                      <a:pt x="639" y="98"/>
                    </a:lnTo>
                    <a:lnTo>
                      <a:pt x="637" y="97"/>
                    </a:lnTo>
                    <a:lnTo>
                      <a:pt x="636" y="97"/>
                    </a:lnTo>
                    <a:lnTo>
                      <a:pt x="634" y="97"/>
                    </a:lnTo>
                    <a:lnTo>
                      <a:pt x="633" y="98"/>
                    </a:lnTo>
                    <a:lnTo>
                      <a:pt x="632" y="99"/>
                    </a:lnTo>
                    <a:lnTo>
                      <a:pt x="631" y="100"/>
                    </a:lnTo>
                    <a:lnTo>
                      <a:pt x="597" y="100"/>
                    </a:lnTo>
                    <a:lnTo>
                      <a:pt x="597" y="99"/>
                    </a:lnTo>
                    <a:lnTo>
                      <a:pt x="596" y="98"/>
                    </a:lnTo>
                    <a:lnTo>
                      <a:pt x="595" y="97"/>
                    </a:lnTo>
                    <a:lnTo>
                      <a:pt x="593" y="97"/>
                    </a:lnTo>
                    <a:lnTo>
                      <a:pt x="591" y="97"/>
                    </a:lnTo>
                    <a:lnTo>
                      <a:pt x="590" y="98"/>
                    </a:lnTo>
                    <a:lnTo>
                      <a:pt x="589" y="99"/>
                    </a:lnTo>
                    <a:lnTo>
                      <a:pt x="588" y="100"/>
                    </a:lnTo>
                    <a:lnTo>
                      <a:pt x="577" y="100"/>
                    </a:lnTo>
                    <a:lnTo>
                      <a:pt x="576" y="99"/>
                    </a:lnTo>
                    <a:lnTo>
                      <a:pt x="576" y="98"/>
                    </a:lnTo>
                    <a:lnTo>
                      <a:pt x="574" y="97"/>
                    </a:lnTo>
                    <a:lnTo>
                      <a:pt x="572" y="97"/>
                    </a:lnTo>
                    <a:lnTo>
                      <a:pt x="571" y="97"/>
                    </a:lnTo>
                    <a:lnTo>
                      <a:pt x="569" y="98"/>
                    </a:lnTo>
                    <a:lnTo>
                      <a:pt x="568" y="99"/>
                    </a:lnTo>
                    <a:lnTo>
                      <a:pt x="568" y="100"/>
                    </a:lnTo>
                    <a:lnTo>
                      <a:pt x="555" y="100"/>
                    </a:lnTo>
                    <a:lnTo>
                      <a:pt x="554" y="99"/>
                    </a:lnTo>
                    <a:lnTo>
                      <a:pt x="554" y="98"/>
                    </a:lnTo>
                    <a:lnTo>
                      <a:pt x="552" y="97"/>
                    </a:lnTo>
                    <a:lnTo>
                      <a:pt x="550" y="97"/>
                    </a:lnTo>
                    <a:lnTo>
                      <a:pt x="549" y="97"/>
                    </a:lnTo>
                    <a:lnTo>
                      <a:pt x="547" y="98"/>
                    </a:lnTo>
                    <a:lnTo>
                      <a:pt x="546" y="99"/>
                    </a:lnTo>
                    <a:lnTo>
                      <a:pt x="546" y="100"/>
                    </a:lnTo>
                    <a:lnTo>
                      <a:pt x="529" y="100"/>
                    </a:lnTo>
                    <a:lnTo>
                      <a:pt x="529" y="99"/>
                    </a:lnTo>
                    <a:lnTo>
                      <a:pt x="528" y="98"/>
                    </a:lnTo>
                    <a:lnTo>
                      <a:pt x="526" y="97"/>
                    </a:lnTo>
                    <a:lnTo>
                      <a:pt x="525" y="97"/>
                    </a:lnTo>
                    <a:lnTo>
                      <a:pt x="523" y="97"/>
                    </a:lnTo>
                    <a:lnTo>
                      <a:pt x="521" y="98"/>
                    </a:lnTo>
                    <a:lnTo>
                      <a:pt x="520" y="99"/>
                    </a:lnTo>
                    <a:lnTo>
                      <a:pt x="520" y="100"/>
                    </a:lnTo>
                    <a:lnTo>
                      <a:pt x="501" y="100"/>
                    </a:lnTo>
                    <a:lnTo>
                      <a:pt x="501" y="99"/>
                    </a:lnTo>
                    <a:lnTo>
                      <a:pt x="500" y="98"/>
                    </a:lnTo>
                    <a:lnTo>
                      <a:pt x="499" y="97"/>
                    </a:lnTo>
                    <a:lnTo>
                      <a:pt x="497" y="97"/>
                    </a:lnTo>
                    <a:lnTo>
                      <a:pt x="495" y="97"/>
                    </a:lnTo>
                    <a:lnTo>
                      <a:pt x="494" y="98"/>
                    </a:lnTo>
                    <a:lnTo>
                      <a:pt x="493" y="99"/>
                    </a:lnTo>
                    <a:lnTo>
                      <a:pt x="492" y="100"/>
                    </a:lnTo>
                    <a:lnTo>
                      <a:pt x="477" y="100"/>
                    </a:lnTo>
                    <a:lnTo>
                      <a:pt x="477" y="99"/>
                    </a:lnTo>
                    <a:lnTo>
                      <a:pt x="476" y="98"/>
                    </a:lnTo>
                    <a:lnTo>
                      <a:pt x="474" y="97"/>
                    </a:lnTo>
                    <a:lnTo>
                      <a:pt x="473" y="97"/>
                    </a:lnTo>
                    <a:lnTo>
                      <a:pt x="471" y="97"/>
                    </a:lnTo>
                    <a:lnTo>
                      <a:pt x="469" y="98"/>
                    </a:lnTo>
                    <a:lnTo>
                      <a:pt x="469" y="99"/>
                    </a:lnTo>
                    <a:lnTo>
                      <a:pt x="468" y="100"/>
                    </a:lnTo>
                    <a:lnTo>
                      <a:pt x="188" y="100"/>
                    </a:lnTo>
                    <a:lnTo>
                      <a:pt x="187" y="99"/>
                    </a:lnTo>
                    <a:lnTo>
                      <a:pt x="186" y="98"/>
                    </a:lnTo>
                    <a:lnTo>
                      <a:pt x="185" y="97"/>
                    </a:lnTo>
                    <a:lnTo>
                      <a:pt x="183" y="97"/>
                    </a:lnTo>
                    <a:lnTo>
                      <a:pt x="182" y="97"/>
                    </a:lnTo>
                    <a:lnTo>
                      <a:pt x="180" y="98"/>
                    </a:lnTo>
                    <a:lnTo>
                      <a:pt x="179" y="99"/>
                    </a:lnTo>
                    <a:lnTo>
                      <a:pt x="179" y="100"/>
                    </a:lnTo>
                    <a:lnTo>
                      <a:pt x="165" y="100"/>
                    </a:lnTo>
                    <a:lnTo>
                      <a:pt x="165" y="99"/>
                    </a:lnTo>
                    <a:lnTo>
                      <a:pt x="164" y="98"/>
                    </a:lnTo>
                    <a:lnTo>
                      <a:pt x="162" y="97"/>
                    </a:lnTo>
                    <a:lnTo>
                      <a:pt x="161" y="97"/>
                    </a:lnTo>
                    <a:lnTo>
                      <a:pt x="159" y="97"/>
                    </a:lnTo>
                    <a:lnTo>
                      <a:pt x="158" y="98"/>
                    </a:lnTo>
                    <a:lnTo>
                      <a:pt x="157" y="99"/>
                    </a:lnTo>
                    <a:lnTo>
                      <a:pt x="156" y="100"/>
                    </a:lnTo>
                    <a:lnTo>
                      <a:pt x="135" y="100"/>
                    </a:lnTo>
                    <a:lnTo>
                      <a:pt x="135" y="99"/>
                    </a:lnTo>
                    <a:lnTo>
                      <a:pt x="133" y="98"/>
                    </a:lnTo>
                    <a:lnTo>
                      <a:pt x="132" y="97"/>
                    </a:lnTo>
                    <a:lnTo>
                      <a:pt x="130" y="97"/>
                    </a:lnTo>
                    <a:lnTo>
                      <a:pt x="129" y="97"/>
                    </a:lnTo>
                    <a:lnTo>
                      <a:pt x="127" y="98"/>
                    </a:lnTo>
                    <a:lnTo>
                      <a:pt x="126" y="99"/>
                    </a:lnTo>
                    <a:lnTo>
                      <a:pt x="126" y="100"/>
                    </a:lnTo>
                    <a:lnTo>
                      <a:pt x="70" y="100"/>
                    </a:lnTo>
                    <a:lnTo>
                      <a:pt x="70" y="99"/>
                    </a:lnTo>
                    <a:lnTo>
                      <a:pt x="69" y="98"/>
                    </a:lnTo>
                    <a:lnTo>
                      <a:pt x="68" y="97"/>
                    </a:lnTo>
                    <a:lnTo>
                      <a:pt x="66" y="97"/>
                    </a:lnTo>
                    <a:lnTo>
                      <a:pt x="64" y="97"/>
                    </a:lnTo>
                    <a:lnTo>
                      <a:pt x="63" y="98"/>
                    </a:lnTo>
                    <a:lnTo>
                      <a:pt x="62" y="99"/>
                    </a:lnTo>
                    <a:lnTo>
                      <a:pt x="61" y="100"/>
                    </a:lnTo>
                    <a:lnTo>
                      <a:pt x="49" y="100"/>
                    </a:lnTo>
                    <a:lnTo>
                      <a:pt x="48" y="99"/>
                    </a:lnTo>
                    <a:lnTo>
                      <a:pt x="47" y="98"/>
                    </a:lnTo>
                    <a:lnTo>
                      <a:pt x="46" y="97"/>
                    </a:lnTo>
                    <a:lnTo>
                      <a:pt x="44" y="97"/>
                    </a:lnTo>
                    <a:lnTo>
                      <a:pt x="43" y="97"/>
                    </a:lnTo>
                    <a:lnTo>
                      <a:pt x="41" y="98"/>
                    </a:lnTo>
                    <a:lnTo>
                      <a:pt x="40" y="99"/>
                    </a:lnTo>
                    <a:lnTo>
                      <a:pt x="40" y="100"/>
                    </a:lnTo>
                    <a:lnTo>
                      <a:pt x="28" y="100"/>
                    </a:lnTo>
                    <a:lnTo>
                      <a:pt x="28" y="99"/>
                    </a:lnTo>
                    <a:lnTo>
                      <a:pt x="27" y="98"/>
                    </a:lnTo>
                    <a:lnTo>
                      <a:pt x="26" y="97"/>
                    </a:lnTo>
                    <a:lnTo>
                      <a:pt x="24" y="97"/>
                    </a:lnTo>
                    <a:lnTo>
                      <a:pt x="22" y="97"/>
                    </a:lnTo>
                    <a:lnTo>
                      <a:pt x="21" y="98"/>
                    </a:lnTo>
                    <a:lnTo>
                      <a:pt x="20" y="99"/>
                    </a:lnTo>
                    <a:lnTo>
                      <a:pt x="19" y="100"/>
                    </a:lnTo>
                    <a:lnTo>
                      <a:pt x="0" y="100"/>
                    </a:lnTo>
                    <a:lnTo>
                      <a:pt x="0" y="25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7777800" y="21445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64" name=""/>
              <p:cNvSpPr/>
              <p:nvPr/>
            </p:nvSpPr>
            <p:spPr>
              <a:xfrm>
                <a:off x="7678080" y="1869120"/>
                <a:ext cx="242280" cy="83880"/>
              </a:xfrm>
              <a:prstGeom prst="rect">
                <a:avLst/>
              </a:prstGeom>
              <a:blipFill rotWithShape="0">
                <a:blip r:embed="rId97"/>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65" name=""/>
              <p:cNvSpPr/>
              <p:nvPr/>
            </p:nvSpPr>
            <p:spPr>
              <a:xfrm>
                <a:off x="7722720" y="1875600"/>
                <a:ext cx="198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Depository</a:t>
                </a:r>
                <a:endParaRPr b="0" lang="en-US" sz="300" spc="-1" strike="noStrike">
                  <a:solidFill>
                    <a:srgbClr val="ffffff"/>
                  </a:solidFill>
                  <a:latin typeface="Arial"/>
                </a:endParaRPr>
              </a:p>
            </p:txBody>
          </p:sp>
          <p:sp>
            <p:nvSpPr>
              <p:cNvPr id="966" name=""/>
              <p:cNvSpPr/>
              <p:nvPr/>
            </p:nvSpPr>
            <p:spPr>
              <a:xfrm>
                <a:off x="7755120" y="1911960"/>
                <a:ext cx="115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anks</a:t>
                </a:r>
                <a:endParaRPr b="0" lang="en-US" sz="300" spc="-1" strike="noStrike">
                  <a:solidFill>
                    <a:srgbClr val="ffffff"/>
                  </a:solidFill>
                  <a:latin typeface="Arial"/>
                </a:endParaRPr>
              </a:p>
            </p:txBody>
          </p:sp>
          <p:sp>
            <p:nvSpPr>
              <p:cNvPr id="967" name=""/>
              <p:cNvSpPr/>
              <p:nvPr/>
            </p:nvSpPr>
            <p:spPr>
              <a:xfrm>
                <a:off x="7784280" y="1953360"/>
                <a:ext cx="15840" cy="38520"/>
              </a:xfrm>
              <a:custGeom>
                <a:avLst/>
                <a:gdLst/>
                <a:ahLst/>
                <a:rect l="l" t="t" r="r" b="b"/>
                <a:pathLst>
                  <a:path w="15" h="29">
                    <a:moveTo>
                      <a:pt x="15" y="0"/>
                    </a:moveTo>
                    <a:lnTo>
                      <a:pt x="15" y="15"/>
                    </a:lnTo>
                    <a:lnTo>
                      <a:pt x="0" y="15"/>
                    </a:lnTo>
                    <a:lnTo>
                      <a:pt x="0" y="29"/>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968" name=""/>
              <p:cNvSpPr/>
              <p:nvPr/>
            </p:nvSpPr>
            <p:spPr>
              <a:xfrm>
                <a:off x="7781040" y="1990440"/>
                <a:ext cx="6480" cy="6480"/>
              </a:xfrm>
              <a:custGeom>
                <a:avLst/>
                <a:gdLst/>
                <a:ahLst/>
                <a:rect l="l" t="t" r="r" b="b"/>
                <a:pathLst>
                  <a:path w="6" h="5">
                    <a:moveTo>
                      <a:pt x="6" y="1"/>
                    </a:moveTo>
                    <a:lnTo>
                      <a:pt x="3" y="5"/>
                    </a:lnTo>
                    <a:lnTo>
                      <a:pt x="0" y="1"/>
                    </a:lnTo>
                    <a:lnTo>
                      <a:pt x="2" y="0"/>
                    </a:lnTo>
                    <a:lnTo>
                      <a:pt x="4" y="0"/>
                    </a:lnTo>
                    <a:lnTo>
                      <a:pt x="6"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69" name=""/>
              <p:cNvSpPr/>
              <p:nvPr/>
            </p:nvSpPr>
            <p:spPr>
              <a:xfrm>
                <a:off x="4948200" y="4409640"/>
                <a:ext cx="1068840" cy="538560"/>
              </a:xfrm>
              <a:custGeom>
                <a:avLst/>
                <a:gdLst/>
                <a:ahLst/>
                <a:rect l="l" t="t" r="r" b="b"/>
                <a:pathLst>
                  <a:path w="1010" h="403">
                    <a:moveTo>
                      <a:pt x="1010" y="403"/>
                    </a:moveTo>
                    <a:lnTo>
                      <a:pt x="1010" y="17"/>
                    </a:lnTo>
                    <a:lnTo>
                      <a:pt x="983" y="17"/>
                    </a:lnTo>
                    <a:lnTo>
                      <a:pt x="982" y="16"/>
                    </a:lnTo>
                    <a:lnTo>
                      <a:pt x="981" y="15"/>
                    </a:lnTo>
                    <a:lnTo>
                      <a:pt x="980" y="14"/>
                    </a:lnTo>
                    <a:lnTo>
                      <a:pt x="978" y="14"/>
                    </a:lnTo>
                    <a:lnTo>
                      <a:pt x="976" y="14"/>
                    </a:lnTo>
                    <a:lnTo>
                      <a:pt x="975" y="15"/>
                    </a:lnTo>
                    <a:lnTo>
                      <a:pt x="974" y="16"/>
                    </a:lnTo>
                    <a:lnTo>
                      <a:pt x="974" y="17"/>
                    </a:lnTo>
                    <a:lnTo>
                      <a:pt x="960" y="17"/>
                    </a:lnTo>
                    <a:lnTo>
                      <a:pt x="960" y="16"/>
                    </a:lnTo>
                    <a:lnTo>
                      <a:pt x="959" y="15"/>
                    </a:lnTo>
                    <a:lnTo>
                      <a:pt x="957" y="14"/>
                    </a:lnTo>
                    <a:lnTo>
                      <a:pt x="956" y="14"/>
                    </a:lnTo>
                    <a:lnTo>
                      <a:pt x="954" y="14"/>
                    </a:lnTo>
                    <a:lnTo>
                      <a:pt x="952" y="15"/>
                    </a:lnTo>
                    <a:lnTo>
                      <a:pt x="951" y="16"/>
                    </a:lnTo>
                    <a:lnTo>
                      <a:pt x="951" y="17"/>
                    </a:lnTo>
                    <a:lnTo>
                      <a:pt x="908" y="17"/>
                    </a:lnTo>
                    <a:lnTo>
                      <a:pt x="908" y="16"/>
                    </a:lnTo>
                    <a:lnTo>
                      <a:pt x="907" y="15"/>
                    </a:lnTo>
                    <a:lnTo>
                      <a:pt x="905" y="14"/>
                    </a:lnTo>
                    <a:lnTo>
                      <a:pt x="904" y="14"/>
                    </a:lnTo>
                    <a:lnTo>
                      <a:pt x="902" y="14"/>
                    </a:lnTo>
                    <a:lnTo>
                      <a:pt x="901" y="15"/>
                    </a:lnTo>
                    <a:lnTo>
                      <a:pt x="900" y="16"/>
                    </a:lnTo>
                    <a:lnTo>
                      <a:pt x="899" y="17"/>
                    </a:lnTo>
                    <a:lnTo>
                      <a:pt x="773" y="17"/>
                    </a:lnTo>
                    <a:lnTo>
                      <a:pt x="773" y="16"/>
                    </a:lnTo>
                    <a:lnTo>
                      <a:pt x="772" y="15"/>
                    </a:lnTo>
                    <a:lnTo>
                      <a:pt x="771" y="14"/>
                    </a:lnTo>
                    <a:lnTo>
                      <a:pt x="769" y="14"/>
                    </a:lnTo>
                    <a:lnTo>
                      <a:pt x="767" y="14"/>
                    </a:lnTo>
                    <a:lnTo>
                      <a:pt x="766" y="15"/>
                    </a:lnTo>
                    <a:lnTo>
                      <a:pt x="765" y="16"/>
                    </a:lnTo>
                    <a:lnTo>
                      <a:pt x="764" y="17"/>
                    </a:lnTo>
                    <a:lnTo>
                      <a:pt x="753" y="17"/>
                    </a:lnTo>
                    <a:lnTo>
                      <a:pt x="753" y="16"/>
                    </a:lnTo>
                    <a:lnTo>
                      <a:pt x="752" y="15"/>
                    </a:lnTo>
                    <a:lnTo>
                      <a:pt x="751" y="14"/>
                    </a:lnTo>
                    <a:lnTo>
                      <a:pt x="749" y="14"/>
                    </a:lnTo>
                    <a:lnTo>
                      <a:pt x="747" y="14"/>
                    </a:lnTo>
                    <a:lnTo>
                      <a:pt x="746" y="15"/>
                    </a:lnTo>
                    <a:lnTo>
                      <a:pt x="745" y="16"/>
                    </a:lnTo>
                    <a:lnTo>
                      <a:pt x="744" y="17"/>
                    </a:lnTo>
                    <a:lnTo>
                      <a:pt x="724" y="17"/>
                    </a:lnTo>
                    <a:lnTo>
                      <a:pt x="724" y="16"/>
                    </a:lnTo>
                    <a:lnTo>
                      <a:pt x="723" y="15"/>
                    </a:lnTo>
                    <a:lnTo>
                      <a:pt x="721" y="14"/>
                    </a:lnTo>
                    <a:lnTo>
                      <a:pt x="719" y="14"/>
                    </a:lnTo>
                    <a:lnTo>
                      <a:pt x="718" y="14"/>
                    </a:lnTo>
                    <a:lnTo>
                      <a:pt x="716" y="15"/>
                    </a:lnTo>
                    <a:lnTo>
                      <a:pt x="715" y="16"/>
                    </a:lnTo>
                    <a:lnTo>
                      <a:pt x="715" y="17"/>
                    </a:lnTo>
                    <a:lnTo>
                      <a:pt x="695" y="17"/>
                    </a:lnTo>
                    <a:lnTo>
                      <a:pt x="694" y="16"/>
                    </a:lnTo>
                    <a:lnTo>
                      <a:pt x="693" y="15"/>
                    </a:lnTo>
                    <a:lnTo>
                      <a:pt x="692" y="14"/>
                    </a:lnTo>
                    <a:lnTo>
                      <a:pt x="690" y="14"/>
                    </a:lnTo>
                    <a:lnTo>
                      <a:pt x="688" y="14"/>
                    </a:lnTo>
                    <a:lnTo>
                      <a:pt x="687" y="15"/>
                    </a:lnTo>
                    <a:lnTo>
                      <a:pt x="686" y="16"/>
                    </a:lnTo>
                    <a:lnTo>
                      <a:pt x="686" y="17"/>
                    </a:lnTo>
                    <a:lnTo>
                      <a:pt x="607" y="17"/>
                    </a:lnTo>
                    <a:lnTo>
                      <a:pt x="606" y="16"/>
                    </a:lnTo>
                    <a:lnTo>
                      <a:pt x="605" y="15"/>
                    </a:lnTo>
                    <a:lnTo>
                      <a:pt x="604" y="14"/>
                    </a:lnTo>
                    <a:lnTo>
                      <a:pt x="602" y="14"/>
                    </a:lnTo>
                    <a:lnTo>
                      <a:pt x="601" y="14"/>
                    </a:lnTo>
                    <a:lnTo>
                      <a:pt x="599" y="15"/>
                    </a:lnTo>
                    <a:lnTo>
                      <a:pt x="598" y="16"/>
                    </a:lnTo>
                    <a:lnTo>
                      <a:pt x="598" y="17"/>
                    </a:lnTo>
                    <a:lnTo>
                      <a:pt x="507" y="17"/>
                    </a:lnTo>
                    <a:lnTo>
                      <a:pt x="507" y="16"/>
                    </a:lnTo>
                    <a:lnTo>
                      <a:pt x="506" y="15"/>
                    </a:lnTo>
                    <a:lnTo>
                      <a:pt x="505" y="14"/>
                    </a:lnTo>
                    <a:lnTo>
                      <a:pt x="503" y="14"/>
                    </a:lnTo>
                    <a:lnTo>
                      <a:pt x="501" y="14"/>
                    </a:lnTo>
                    <a:lnTo>
                      <a:pt x="500" y="15"/>
                    </a:lnTo>
                    <a:lnTo>
                      <a:pt x="499" y="16"/>
                    </a:lnTo>
                    <a:lnTo>
                      <a:pt x="498" y="17"/>
                    </a:lnTo>
                    <a:lnTo>
                      <a:pt x="487" y="17"/>
                    </a:lnTo>
                    <a:lnTo>
                      <a:pt x="486" y="15"/>
                    </a:lnTo>
                    <a:lnTo>
                      <a:pt x="485" y="14"/>
                    </a:lnTo>
                    <a:lnTo>
                      <a:pt x="484" y="12"/>
                    </a:lnTo>
                    <a:lnTo>
                      <a:pt x="481" y="11"/>
                    </a:lnTo>
                    <a:lnTo>
                      <a:pt x="479" y="11"/>
                    </a:lnTo>
                    <a:lnTo>
                      <a:pt x="477" y="11"/>
                    </a:lnTo>
                    <a:lnTo>
                      <a:pt x="474" y="11"/>
                    </a:lnTo>
                    <a:lnTo>
                      <a:pt x="472" y="12"/>
                    </a:lnTo>
                    <a:lnTo>
                      <a:pt x="471" y="14"/>
                    </a:lnTo>
                    <a:lnTo>
                      <a:pt x="470" y="15"/>
                    </a:lnTo>
                    <a:lnTo>
                      <a:pt x="469" y="17"/>
                    </a:lnTo>
                    <a:lnTo>
                      <a:pt x="458" y="17"/>
                    </a:lnTo>
                    <a:lnTo>
                      <a:pt x="458" y="16"/>
                    </a:lnTo>
                    <a:lnTo>
                      <a:pt x="457" y="15"/>
                    </a:lnTo>
                    <a:lnTo>
                      <a:pt x="455" y="14"/>
                    </a:lnTo>
                    <a:lnTo>
                      <a:pt x="453" y="14"/>
                    </a:lnTo>
                    <a:lnTo>
                      <a:pt x="452" y="14"/>
                    </a:lnTo>
                    <a:lnTo>
                      <a:pt x="450" y="15"/>
                    </a:lnTo>
                    <a:lnTo>
                      <a:pt x="449" y="16"/>
                    </a:lnTo>
                    <a:lnTo>
                      <a:pt x="449" y="17"/>
                    </a:lnTo>
                    <a:lnTo>
                      <a:pt x="415" y="17"/>
                    </a:lnTo>
                    <a:lnTo>
                      <a:pt x="415" y="16"/>
                    </a:lnTo>
                    <a:lnTo>
                      <a:pt x="414" y="15"/>
                    </a:lnTo>
                    <a:lnTo>
                      <a:pt x="412" y="14"/>
                    </a:lnTo>
                    <a:lnTo>
                      <a:pt x="411" y="14"/>
                    </a:lnTo>
                    <a:lnTo>
                      <a:pt x="409" y="14"/>
                    </a:lnTo>
                    <a:lnTo>
                      <a:pt x="407" y="15"/>
                    </a:lnTo>
                    <a:lnTo>
                      <a:pt x="407" y="16"/>
                    </a:lnTo>
                    <a:lnTo>
                      <a:pt x="406" y="17"/>
                    </a:lnTo>
                    <a:lnTo>
                      <a:pt x="402" y="17"/>
                    </a:lnTo>
                    <a:lnTo>
                      <a:pt x="401" y="15"/>
                    </a:lnTo>
                    <a:lnTo>
                      <a:pt x="400" y="14"/>
                    </a:lnTo>
                    <a:lnTo>
                      <a:pt x="399" y="13"/>
                    </a:lnTo>
                    <a:lnTo>
                      <a:pt x="397" y="12"/>
                    </a:lnTo>
                    <a:lnTo>
                      <a:pt x="395" y="11"/>
                    </a:lnTo>
                    <a:lnTo>
                      <a:pt x="393" y="11"/>
                    </a:lnTo>
                    <a:lnTo>
                      <a:pt x="391" y="12"/>
                    </a:lnTo>
                    <a:lnTo>
                      <a:pt x="389" y="13"/>
                    </a:lnTo>
                    <a:lnTo>
                      <a:pt x="387" y="14"/>
                    </a:lnTo>
                    <a:lnTo>
                      <a:pt x="386" y="15"/>
                    </a:lnTo>
                    <a:lnTo>
                      <a:pt x="386" y="17"/>
                    </a:lnTo>
                    <a:lnTo>
                      <a:pt x="361" y="17"/>
                    </a:lnTo>
                    <a:lnTo>
                      <a:pt x="361" y="16"/>
                    </a:lnTo>
                    <a:lnTo>
                      <a:pt x="360" y="14"/>
                    </a:lnTo>
                    <a:lnTo>
                      <a:pt x="359" y="13"/>
                    </a:lnTo>
                    <a:lnTo>
                      <a:pt x="357" y="12"/>
                    </a:lnTo>
                    <a:lnTo>
                      <a:pt x="355" y="12"/>
                    </a:lnTo>
                    <a:lnTo>
                      <a:pt x="353" y="12"/>
                    </a:lnTo>
                    <a:lnTo>
                      <a:pt x="351" y="12"/>
                    </a:lnTo>
                    <a:lnTo>
                      <a:pt x="349" y="13"/>
                    </a:lnTo>
                    <a:lnTo>
                      <a:pt x="347" y="14"/>
                    </a:lnTo>
                    <a:lnTo>
                      <a:pt x="347" y="16"/>
                    </a:lnTo>
                    <a:lnTo>
                      <a:pt x="346" y="17"/>
                    </a:lnTo>
                    <a:lnTo>
                      <a:pt x="284" y="17"/>
                    </a:lnTo>
                    <a:lnTo>
                      <a:pt x="284" y="16"/>
                    </a:lnTo>
                    <a:lnTo>
                      <a:pt x="283" y="15"/>
                    </a:lnTo>
                    <a:lnTo>
                      <a:pt x="281" y="14"/>
                    </a:lnTo>
                    <a:lnTo>
                      <a:pt x="280" y="14"/>
                    </a:lnTo>
                    <a:lnTo>
                      <a:pt x="278" y="14"/>
                    </a:lnTo>
                    <a:lnTo>
                      <a:pt x="276" y="15"/>
                    </a:lnTo>
                    <a:lnTo>
                      <a:pt x="275" y="16"/>
                    </a:lnTo>
                    <a:lnTo>
                      <a:pt x="275" y="17"/>
                    </a:lnTo>
                    <a:lnTo>
                      <a:pt x="273" y="17"/>
                    </a:lnTo>
                    <a:lnTo>
                      <a:pt x="273" y="16"/>
                    </a:lnTo>
                    <a:lnTo>
                      <a:pt x="272" y="15"/>
                    </a:lnTo>
                    <a:lnTo>
                      <a:pt x="270" y="14"/>
                    </a:lnTo>
                    <a:lnTo>
                      <a:pt x="269" y="14"/>
                    </a:lnTo>
                    <a:lnTo>
                      <a:pt x="267" y="14"/>
                    </a:lnTo>
                    <a:lnTo>
                      <a:pt x="265" y="15"/>
                    </a:lnTo>
                    <a:lnTo>
                      <a:pt x="264" y="16"/>
                    </a:lnTo>
                    <a:lnTo>
                      <a:pt x="264" y="17"/>
                    </a:lnTo>
                    <a:lnTo>
                      <a:pt x="244" y="17"/>
                    </a:lnTo>
                    <a:lnTo>
                      <a:pt x="244" y="16"/>
                    </a:lnTo>
                    <a:lnTo>
                      <a:pt x="243" y="15"/>
                    </a:lnTo>
                    <a:lnTo>
                      <a:pt x="241" y="14"/>
                    </a:lnTo>
                    <a:lnTo>
                      <a:pt x="240" y="14"/>
                    </a:lnTo>
                    <a:lnTo>
                      <a:pt x="238" y="14"/>
                    </a:lnTo>
                    <a:lnTo>
                      <a:pt x="237" y="15"/>
                    </a:lnTo>
                    <a:lnTo>
                      <a:pt x="236" y="16"/>
                    </a:lnTo>
                    <a:lnTo>
                      <a:pt x="235" y="17"/>
                    </a:lnTo>
                    <a:lnTo>
                      <a:pt x="226" y="17"/>
                    </a:lnTo>
                    <a:lnTo>
                      <a:pt x="226" y="16"/>
                    </a:lnTo>
                    <a:lnTo>
                      <a:pt x="225" y="15"/>
                    </a:lnTo>
                    <a:lnTo>
                      <a:pt x="223" y="14"/>
                    </a:lnTo>
                    <a:lnTo>
                      <a:pt x="222" y="14"/>
                    </a:lnTo>
                    <a:lnTo>
                      <a:pt x="220" y="14"/>
                    </a:lnTo>
                    <a:lnTo>
                      <a:pt x="218" y="15"/>
                    </a:lnTo>
                    <a:lnTo>
                      <a:pt x="217" y="16"/>
                    </a:lnTo>
                    <a:lnTo>
                      <a:pt x="217" y="17"/>
                    </a:lnTo>
                    <a:lnTo>
                      <a:pt x="164" y="17"/>
                    </a:lnTo>
                    <a:lnTo>
                      <a:pt x="164" y="16"/>
                    </a:lnTo>
                    <a:lnTo>
                      <a:pt x="163" y="15"/>
                    </a:lnTo>
                    <a:lnTo>
                      <a:pt x="162" y="14"/>
                    </a:lnTo>
                    <a:lnTo>
                      <a:pt x="160" y="14"/>
                    </a:lnTo>
                    <a:lnTo>
                      <a:pt x="158" y="14"/>
                    </a:lnTo>
                    <a:lnTo>
                      <a:pt x="157" y="15"/>
                    </a:lnTo>
                    <a:lnTo>
                      <a:pt x="156" y="16"/>
                    </a:lnTo>
                    <a:lnTo>
                      <a:pt x="155" y="17"/>
                    </a:lnTo>
                    <a:lnTo>
                      <a:pt x="111" y="17"/>
                    </a:lnTo>
                    <a:lnTo>
                      <a:pt x="111" y="16"/>
                    </a:lnTo>
                    <a:lnTo>
                      <a:pt x="110" y="15"/>
                    </a:lnTo>
                    <a:lnTo>
                      <a:pt x="108" y="14"/>
                    </a:lnTo>
                    <a:lnTo>
                      <a:pt x="107" y="14"/>
                    </a:lnTo>
                    <a:lnTo>
                      <a:pt x="105" y="14"/>
                    </a:lnTo>
                    <a:lnTo>
                      <a:pt x="104" y="15"/>
                    </a:lnTo>
                    <a:lnTo>
                      <a:pt x="102" y="16"/>
                    </a:lnTo>
                    <a:lnTo>
                      <a:pt x="102" y="17"/>
                    </a:lnTo>
                    <a:lnTo>
                      <a:pt x="0" y="17"/>
                    </a:lnTo>
                    <a:lnTo>
                      <a:pt x="0" y="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494136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71" name=""/>
              <p:cNvSpPr/>
              <p:nvPr/>
            </p:nvSpPr>
            <p:spPr>
              <a:xfrm>
                <a:off x="5959800" y="2307240"/>
                <a:ext cx="135360" cy="2664720"/>
              </a:xfrm>
              <a:custGeom>
                <a:avLst/>
                <a:gdLst/>
                <a:ahLst/>
                <a:rect l="l" t="t" r="r" b="b"/>
                <a:pathLst>
                  <a:path w="128" h="1995">
                    <a:moveTo>
                      <a:pt x="11" y="1995"/>
                    </a:moveTo>
                    <a:lnTo>
                      <a:pt x="0" y="1995"/>
                    </a:lnTo>
                    <a:lnTo>
                      <a:pt x="0" y="546"/>
                    </a:lnTo>
                    <a:lnTo>
                      <a:pt x="11" y="546"/>
                    </a:lnTo>
                    <a:lnTo>
                      <a:pt x="11" y="545"/>
                    </a:lnTo>
                    <a:lnTo>
                      <a:pt x="12" y="544"/>
                    </a:lnTo>
                    <a:lnTo>
                      <a:pt x="14" y="543"/>
                    </a:lnTo>
                    <a:lnTo>
                      <a:pt x="15" y="543"/>
                    </a:lnTo>
                    <a:lnTo>
                      <a:pt x="17" y="543"/>
                    </a:lnTo>
                    <a:lnTo>
                      <a:pt x="19" y="544"/>
                    </a:lnTo>
                    <a:lnTo>
                      <a:pt x="20" y="545"/>
                    </a:lnTo>
                    <a:lnTo>
                      <a:pt x="20" y="546"/>
                    </a:lnTo>
                    <a:lnTo>
                      <a:pt x="28" y="546"/>
                    </a:lnTo>
                    <a:lnTo>
                      <a:pt x="29" y="545"/>
                    </a:lnTo>
                    <a:lnTo>
                      <a:pt x="30" y="543"/>
                    </a:lnTo>
                    <a:lnTo>
                      <a:pt x="31" y="542"/>
                    </a:lnTo>
                    <a:lnTo>
                      <a:pt x="33" y="541"/>
                    </a:lnTo>
                    <a:lnTo>
                      <a:pt x="35" y="541"/>
                    </a:lnTo>
                    <a:lnTo>
                      <a:pt x="37" y="541"/>
                    </a:lnTo>
                    <a:lnTo>
                      <a:pt x="39" y="542"/>
                    </a:lnTo>
                    <a:lnTo>
                      <a:pt x="41" y="543"/>
                    </a:lnTo>
                    <a:lnTo>
                      <a:pt x="41" y="545"/>
                    </a:lnTo>
                    <a:lnTo>
                      <a:pt x="42" y="546"/>
                    </a:lnTo>
                    <a:lnTo>
                      <a:pt x="65" y="546"/>
                    </a:lnTo>
                    <a:lnTo>
                      <a:pt x="66" y="545"/>
                    </a:lnTo>
                    <a:lnTo>
                      <a:pt x="67" y="544"/>
                    </a:lnTo>
                    <a:lnTo>
                      <a:pt x="68" y="543"/>
                    </a:lnTo>
                    <a:lnTo>
                      <a:pt x="70" y="543"/>
                    </a:lnTo>
                    <a:lnTo>
                      <a:pt x="72" y="543"/>
                    </a:lnTo>
                    <a:lnTo>
                      <a:pt x="73" y="544"/>
                    </a:lnTo>
                    <a:lnTo>
                      <a:pt x="74" y="545"/>
                    </a:lnTo>
                    <a:lnTo>
                      <a:pt x="74" y="546"/>
                    </a:lnTo>
                    <a:lnTo>
                      <a:pt x="90" y="546"/>
                    </a:lnTo>
                    <a:lnTo>
                      <a:pt x="90" y="545"/>
                    </a:lnTo>
                    <a:lnTo>
                      <a:pt x="91" y="544"/>
                    </a:lnTo>
                    <a:lnTo>
                      <a:pt x="92" y="543"/>
                    </a:lnTo>
                    <a:lnTo>
                      <a:pt x="94" y="543"/>
                    </a:lnTo>
                    <a:lnTo>
                      <a:pt x="96" y="543"/>
                    </a:lnTo>
                    <a:lnTo>
                      <a:pt x="97" y="544"/>
                    </a:lnTo>
                    <a:lnTo>
                      <a:pt x="98" y="545"/>
                    </a:lnTo>
                    <a:lnTo>
                      <a:pt x="99" y="546"/>
                    </a:lnTo>
                    <a:lnTo>
                      <a:pt x="128" y="546"/>
                    </a:lnTo>
                    <a:lnTo>
                      <a:pt x="128" y="254"/>
                    </a:lnTo>
                    <a:lnTo>
                      <a:pt x="110" y="254"/>
                    </a:lnTo>
                    <a:lnTo>
                      <a:pt x="11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5969520" y="496692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73" name=""/>
              <p:cNvSpPr/>
              <p:nvPr/>
            </p:nvSpPr>
            <p:spPr>
              <a:xfrm>
                <a:off x="4745520" y="2566440"/>
                <a:ext cx="198720" cy="97200"/>
              </a:xfrm>
              <a:prstGeom prst="rect">
                <a:avLst/>
              </a:prstGeom>
              <a:blipFill rotWithShape="0">
                <a:blip r:embed="rId9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780800" y="2581200"/>
                <a:ext cx="81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Cell</a:t>
                </a:r>
                <a:endParaRPr b="0" lang="en-US" sz="300" spc="-1" strike="noStrike">
                  <a:solidFill>
                    <a:srgbClr val="ffffff"/>
                  </a:solidFill>
                  <a:latin typeface="Arial"/>
                </a:endParaRPr>
              </a:p>
            </p:txBody>
          </p:sp>
          <p:sp>
            <p:nvSpPr>
              <p:cNvPr id="975" name=""/>
              <p:cNvSpPr/>
              <p:nvPr/>
            </p:nvSpPr>
            <p:spPr>
              <a:xfrm>
                <a:off x="4794480" y="2614680"/>
                <a:ext cx="137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hones</a:t>
                </a:r>
                <a:endParaRPr b="0" lang="en-US" sz="300" spc="-1" strike="noStrike">
                  <a:solidFill>
                    <a:srgbClr val="ffffff"/>
                  </a:solidFill>
                  <a:latin typeface="Arial"/>
                </a:endParaRPr>
              </a:p>
            </p:txBody>
          </p:sp>
          <p:sp>
            <p:nvSpPr>
              <p:cNvPr id="976" name=""/>
              <p:cNvSpPr/>
              <p:nvPr/>
            </p:nvSpPr>
            <p:spPr>
              <a:xfrm>
                <a:off x="4700160" y="2664000"/>
                <a:ext cx="144720" cy="1555920"/>
              </a:xfrm>
              <a:custGeom>
                <a:avLst/>
                <a:gdLst/>
                <a:ahLst/>
                <a:rect l="l" t="t" r="r" b="b"/>
                <a:pathLst>
                  <a:path w="137" h="1165">
                    <a:moveTo>
                      <a:pt x="137" y="0"/>
                    </a:moveTo>
                    <a:lnTo>
                      <a:pt x="137" y="15"/>
                    </a:lnTo>
                    <a:lnTo>
                      <a:pt x="0" y="15"/>
                    </a:lnTo>
                    <a:lnTo>
                      <a:pt x="0" y="1015"/>
                    </a:lnTo>
                    <a:lnTo>
                      <a:pt x="5" y="1015"/>
                    </a:lnTo>
                    <a:lnTo>
                      <a:pt x="6" y="1014"/>
                    </a:lnTo>
                    <a:lnTo>
                      <a:pt x="7" y="1013"/>
                    </a:lnTo>
                    <a:lnTo>
                      <a:pt x="8" y="1012"/>
                    </a:lnTo>
                    <a:lnTo>
                      <a:pt x="10" y="1012"/>
                    </a:lnTo>
                    <a:lnTo>
                      <a:pt x="11" y="1012"/>
                    </a:lnTo>
                    <a:lnTo>
                      <a:pt x="13" y="1013"/>
                    </a:lnTo>
                    <a:lnTo>
                      <a:pt x="14" y="1014"/>
                    </a:lnTo>
                    <a:lnTo>
                      <a:pt x="14" y="1015"/>
                    </a:lnTo>
                    <a:lnTo>
                      <a:pt x="26" y="1015"/>
                    </a:lnTo>
                    <a:lnTo>
                      <a:pt x="27" y="1014"/>
                    </a:lnTo>
                    <a:lnTo>
                      <a:pt x="28" y="1013"/>
                    </a:lnTo>
                    <a:lnTo>
                      <a:pt x="29" y="1012"/>
                    </a:lnTo>
                    <a:lnTo>
                      <a:pt x="31" y="1012"/>
                    </a:lnTo>
                    <a:lnTo>
                      <a:pt x="33" y="1012"/>
                    </a:lnTo>
                    <a:lnTo>
                      <a:pt x="34" y="1013"/>
                    </a:lnTo>
                    <a:lnTo>
                      <a:pt x="35" y="1014"/>
                    </a:lnTo>
                    <a:lnTo>
                      <a:pt x="35" y="1015"/>
                    </a:lnTo>
                    <a:lnTo>
                      <a:pt x="41" y="1015"/>
                    </a:lnTo>
                    <a:lnTo>
                      <a:pt x="41" y="1014"/>
                    </a:lnTo>
                    <a:lnTo>
                      <a:pt x="42" y="1013"/>
                    </a:lnTo>
                    <a:lnTo>
                      <a:pt x="43" y="1012"/>
                    </a:lnTo>
                    <a:lnTo>
                      <a:pt x="45" y="1012"/>
                    </a:lnTo>
                    <a:lnTo>
                      <a:pt x="47" y="1012"/>
                    </a:lnTo>
                    <a:lnTo>
                      <a:pt x="48" y="1013"/>
                    </a:lnTo>
                    <a:lnTo>
                      <a:pt x="49" y="1014"/>
                    </a:lnTo>
                    <a:lnTo>
                      <a:pt x="50" y="1015"/>
                    </a:lnTo>
                    <a:lnTo>
                      <a:pt x="66" y="1015"/>
                    </a:lnTo>
                    <a:lnTo>
                      <a:pt x="66" y="1165"/>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4763520" y="42188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78" name=""/>
              <p:cNvSpPr/>
              <p:nvPr/>
            </p:nvSpPr>
            <p:spPr>
              <a:xfrm>
                <a:off x="4845240" y="2223360"/>
                <a:ext cx="982080" cy="343080"/>
              </a:xfrm>
              <a:custGeom>
                <a:avLst/>
                <a:gdLst/>
                <a:ahLst/>
                <a:rect l="l" t="t" r="r" b="b"/>
                <a:pathLst>
                  <a:path w="928" h="257">
                    <a:moveTo>
                      <a:pt x="0" y="257"/>
                    </a:moveTo>
                    <a:lnTo>
                      <a:pt x="0" y="185"/>
                    </a:lnTo>
                    <a:lnTo>
                      <a:pt x="123" y="185"/>
                    </a:lnTo>
                    <a:lnTo>
                      <a:pt x="123" y="3"/>
                    </a:lnTo>
                    <a:lnTo>
                      <a:pt x="159" y="3"/>
                    </a:lnTo>
                    <a:lnTo>
                      <a:pt x="160" y="2"/>
                    </a:lnTo>
                    <a:lnTo>
                      <a:pt x="161" y="1"/>
                    </a:lnTo>
                    <a:lnTo>
                      <a:pt x="162" y="0"/>
                    </a:lnTo>
                    <a:lnTo>
                      <a:pt x="164" y="0"/>
                    </a:lnTo>
                    <a:lnTo>
                      <a:pt x="165" y="0"/>
                    </a:lnTo>
                    <a:lnTo>
                      <a:pt x="167" y="1"/>
                    </a:lnTo>
                    <a:lnTo>
                      <a:pt x="168" y="2"/>
                    </a:lnTo>
                    <a:lnTo>
                      <a:pt x="168" y="3"/>
                    </a:lnTo>
                    <a:lnTo>
                      <a:pt x="188" y="3"/>
                    </a:lnTo>
                    <a:lnTo>
                      <a:pt x="189" y="2"/>
                    </a:lnTo>
                    <a:lnTo>
                      <a:pt x="190" y="1"/>
                    </a:lnTo>
                    <a:lnTo>
                      <a:pt x="191" y="0"/>
                    </a:lnTo>
                    <a:lnTo>
                      <a:pt x="193" y="0"/>
                    </a:lnTo>
                    <a:lnTo>
                      <a:pt x="194" y="0"/>
                    </a:lnTo>
                    <a:lnTo>
                      <a:pt x="196" y="1"/>
                    </a:lnTo>
                    <a:lnTo>
                      <a:pt x="197" y="2"/>
                    </a:lnTo>
                    <a:lnTo>
                      <a:pt x="197" y="3"/>
                    </a:lnTo>
                    <a:lnTo>
                      <a:pt x="238" y="3"/>
                    </a:lnTo>
                    <a:lnTo>
                      <a:pt x="238" y="2"/>
                    </a:lnTo>
                    <a:lnTo>
                      <a:pt x="239" y="1"/>
                    </a:lnTo>
                    <a:lnTo>
                      <a:pt x="241" y="0"/>
                    </a:lnTo>
                    <a:lnTo>
                      <a:pt x="243" y="0"/>
                    </a:lnTo>
                    <a:lnTo>
                      <a:pt x="244" y="0"/>
                    </a:lnTo>
                    <a:lnTo>
                      <a:pt x="246" y="1"/>
                    </a:lnTo>
                    <a:lnTo>
                      <a:pt x="247" y="2"/>
                    </a:lnTo>
                    <a:lnTo>
                      <a:pt x="247" y="3"/>
                    </a:lnTo>
                    <a:lnTo>
                      <a:pt x="487" y="3"/>
                    </a:lnTo>
                    <a:lnTo>
                      <a:pt x="487" y="2"/>
                    </a:lnTo>
                    <a:lnTo>
                      <a:pt x="488" y="1"/>
                    </a:lnTo>
                    <a:lnTo>
                      <a:pt x="490" y="0"/>
                    </a:lnTo>
                    <a:lnTo>
                      <a:pt x="491" y="0"/>
                    </a:lnTo>
                    <a:lnTo>
                      <a:pt x="493" y="0"/>
                    </a:lnTo>
                    <a:lnTo>
                      <a:pt x="495" y="1"/>
                    </a:lnTo>
                    <a:lnTo>
                      <a:pt x="495" y="2"/>
                    </a:lnTo>
                    <a:lnTo>
                      <a:pt x="496" y="3"/>
                    </a:lnTo>
                    <a:lnTo>
                      <a:pt x="553" y="3"/>
                    </a:lnTo>
                    <a:lnTo>
                      <a:pt x="553" y="2"/>
                    </a:lnTo>
                    <a:lnTo>
                      <a:pt x="554" y="1"/>
                    </a:lnTo>
                    <a:lnTo>
                      <a:pt x="555" y="0"/>
                    </a:lnTo>
                    <a:lnTo>
                      <a:pt x="557" y="0"/>
                    </a:lnTo>
                    <a:lnTo>
                      <a:pt x="559" y="0"/>
                    </a:lnTo>
                    <a:lnTo>
                      <a:pt x="560" y="1"/>
                    </a:lnTo>
                    <a:lnTo>
                      <a:pt x="561" y="2"/>
                    </a:lnTo>
                    <a:lnTo>
                      <a:pt x="562" y="3"/>
                    </a:lnTo>
                    <a:lnTo>
                      <a:pt x="718" y="3"/>
                    </a:lnTo>
                    <a:lnTo>
                      <a:pt x="718" y="2"/>
                    </a:lnTo>
                    <a:lnTo>
                      <a:pt x="719" y="1"/>
                    </a:lnTo>
                    <a:lnTo>
                      <a:pt x="720" y="0"/>
                    </a:lnTo>
                    <a:lnTo>
                      <a:pt x="722" y="0"/>
                    </a:lnTo>
                    <a:lnTo>
                      <a:pt x="724" y="0"/>
                    </a:lnTo>
                    <a:lnTo>
                      <a:pt x="725" y="1"/>
                    </a:lnTo>
                    <a:lnTo>
                      <a:pt x="726" y="2"/>
                    </a:lnTo>
                    <a:lnTo>
                      <a:pt x="727" y="3"/>
                    </a:lnTo>
                    <a:lnTo>
                      <a:pt x="795" y="3"/>
                    </a:lnTo>
                    <a:lnTo>
                      <a:pt x="795" y="2"/>
                    </a:lnTo>
                    <a:lnTo>
                      <a:pt x="796" y="1"/>
                    </a:lnTo>
                    <a:lnTo>
                      <a:pt x="797" y="0"/>
                    </a:lnTo>
                    <a:lnTo>
                      <a:pt x="799" y="0"/>
                    </a:lnTo>
                    <a:lnTo>
                      <a:pt x="801" y="0"/>
                    </a:lnTo>
                    <a:lnTo>
                      <a:pt x="802" y="1"/>
                    </a:lnTo>
                    <a:lnTo>
                      <a:pt x="803" y="2"/>
                    </a:lnTo>
                    <a:lnTo>
                      <a:pt x="804" y="3"/>
                    </a:lnTo>
                    <a:lnTo>
                      <a:pt x="909" y="3"/>
                    </a:lnTo>
                    <a:lnTo>
                      <a:pt x="909" y="2"/>
                    </a:lnTo>
                    <a:lnTo>
                      <a:pt x="910" y="1"/>
                    </a:lnTo>
                    <a:lnTo>
                      <a:pt x="912" y="0"/>
                    </a:lnTo>
                    <a:lnTo>
                      <a:pt x="913" y="0"/>
                    </a:lnTo>
                    <a:lnTo>
                      <a:pt x="915" y="0"/>
                    </a:lnTo>
                    <a:lnTo>
                      <a:pt x="917" y="1"/>
                    </a:lnTo>
                    <a:lnTo>
                      <a:pt x="917" y="2"/>
                    </a:lnTo>
                    <a:lnTo>
                      <a:pt x="918" y="3"/>
                    </a:lnTo>
                    <a:lnTo>
                      <a:pt x="928"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826600" y="222156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80" name=""/>
              <p:cNvSpPr/>
              <p:nvPr/>
            </p:nvSpPr>
            <p:spPr>
              <a:xfrm>
                <a:off x="5015880" y="2828160"/>
                <a:ext cx="2304720" cy="1520280"/>
              </a:xfrm>
              <a:custGeom>
                <a:avLst/>
                <a:gdLst/>
                <a:ahLst/>
                <a:rect l="l" t="t" r="r" b="b"/>
                <a:pathLst>
                  <a:path w="2177" h="1138">
                    <a:moveTo>
                      <a:pt x="2177" y="4"/>
                    </a:moveTo>
                    <a:lnTo>
                      <a:pt x="2168" y="4"/>
                    </a:lnTo>
                    <a:lnTo>
                      <a:pt x="2168" y="2"/>
                    </a:lnTo>
                    <a:lnTo>
                      <a:pt x="2167" y="1"/>
                    </a:lnTo>
                    <a:lnTo>
                      <a:pt x="2165" y="0"/>
                    </a:lnTo>
                    <a:lnTo>
                      <a:pt x="2164" y="0"/>
                    </a:lnTo>
                    <a:lnTo>
                      <a:pt x="2162" y="0"/>
                    </a:lnTo>
                    <a:lnTo>
                      <a:pt x="2160" y="1"/>
                    </a:lnTo>
                    <a:lnTo>
                      <a:pt x="2160" y="2"/>
                    </a:lnTo>
                    <a:lnTo>
                      <a:pt x="2159" y="4"/>
                    </a:lnTo>
                    <a:lnTo>
                      <a:pt x="2148" y="4"/>
                    </a:lnTo>
                    <a:lnTo>
                      <a:pt x="2147" y="2"/>
                    </a:lnTo>
                    <a:lnTo>
                      <a:pt x="2147" y="1"/>
                    </a:lnTo>
                    <a:lnTo>
                      <a:pt x="2145" y="0"/>
                    </a:lnTo>
                    <a:lnTo>
                      <a:pt x="2143" y="0"/>
                    </a:lnTo>
                    <a:lnTo>
                      <a:pt x="2142" y="0"/>
                    </a:lnTo>
                    <a:lnTo>
                      <a:pt x="2140" y="1"/>
                    </a:lnTo>
                    <a:lnTo>
                      <a:pt x="2139" y="2"/>
                    </a:lnTo>
                    <a:lnTo>
                      <a:pt x="2139" y="4"/>
                    </a:lnTo>
                    <a:lnTo>
                      <a:pt x="2128" y="4"/>
                    </a:lnTo>
                    <a:lnTo>
                      <a:pt x="2127" y="2"/>
                    </a:lnTo>
                    <a:lnTo>
                      <a:pt x="2126" y="1"/>
                    </a:lnTo>
                    <a:lnTo>
                      <a:pt x="2125" y="0"/>
                    </a:lnTo>
                    <a:lnTo>
                      <a:pt x="2123" y="0"/>
                    </a:lnTo>
                    <a:lnTo>
                      <a:pt x="2121" y="0"/>
                    </a:lnTo>
                    <a:lnTo>
                      <a:pt x="2120" y="1"/>
                    </a:lnTo>
                    <a:lnTo>
                      <a:pt x="2119" y="2"/>
                    </a:lnTo>
                    <a:lnTo>
                      <a:pt x="2118" y="4"/>
                    </a:lnTo>
                    <a:lnTo>
                      <a:pt x="2114" y="4"/>
                    </a:lnTo>
                    <a:lnTo>
                      <a:pt x="2114" y="2"/>
                    </a:lnTo>
                    <a:lnTo>
                      <a:pt x="2113" y="1"/>
                    </a:lnTo>
                    <a:lnTo>
                      <a:pt x="2111" y="0"/>
                    </a:lnTo>
                    <a:lnTo>
                      <a:pt x="2109" y="0"/>
                    </a:lnTo>
                    <a:lnTo>
                      <a:pt x="2108" y="0"/>
                    </a:lnTo>
                    <a:lnTo>
                      <a:pt x="2106" y="1"/>
                    </a:lnTo>
                    <a:lnTo>
                      <a:pt x="2105" y="2"/>
                    </a:lnTo>
                    <a:lnTo>
                      <a:pt x="2105" y="4"/>
                    </a:lnTo>
                    <a:lnTo>
                      <a:pt x="2100" y="4"/>
                    </a:lnTo>
                    <a:lnTo>
                      <a:pt x="2100" y="2"/>
                    </a:lnTo>
                    <a:lnTo>
                      <a:pt x="2099" y="1"/>
                    </a:lnTo>
                    <a:lnTo>
                      <a:pt x="2098" y="0"/>
                    </a:lnTo>
                    <a:lnTo>
                      <a:pt x="2096" y="0"/>
                    </a:lnTo>
                    <a:lnTo>
                      <a:pt x="2094" y="0"/>
                    </a:lnTo>
                    <a:lnTo>
                      <a:pt x="2093" y="1"/>
                    </a:lnTo>
                    <a:lnTo>
                      <a:pt x="2092" y="2"/>
                    </a:lnTo>
                    <a:lnTo>
                      <a:pt x="2091" y="4"/>
                    </a:lnTo>
                    <a:lnTo>
                      <a:pt x="2080" y="4"/>
                    </a:lnTo>
                    <a:lnTo>
                      <a:pt x="2079" y="2"/>
                    </a:lnTo>
                    <a:lnTo>
                      <a:pt x="2079" y="1"/>
                    </a:lnTo>
                    <a:lnTo>
                      <a:pt x="2077" y="0"/>
                    </a:lnTo>
                    <a:lnTo>
                      <a:pt x="2075" y="0"/>
                    </a:lnTo>
                    <a:lnTo>
                      <a:pt x="2074" y="0"/>
                    </a:lnTo>
                    <a:lnTo>
                      <a:pt x="2072" y="1"/>
                    </a:lnTo>
                    <a:lnTo>
                      <a:pt x="2071" y="2"/>
                    </a:lnTo>
                    <a:lnTo>
                      <a:pt x="2071" y="4"/>
                    </a:lnTo>
                    <a:lnTo>
                      <a:pt x="2066" y="4"/>
                    </a:lnTo>
                    <a:lnTo>
                      <a:pt x="2066" y="1138"/>
                    </a:lnTo>
                    <a:lnTo>
                      <a:pt x="2058" y="1138"/>
                    </a:lnTo>
                    <a:lnTo>
                      <a:pt x="2057" y="1137"/>
                    </a:lnTo>
                    <a:lnTo>
                      <a:pt x="2057" y="1135"/>
                    </a:lnTo>
                    <a:lnTo>
                      <a:pt x="2055" y="1135"/>
                    </a:lnTo>
                    <a:lnTo>
                      <a:pt x="2053" y="1134"/>
                    </a:lnTo>
                    <a:lnTo>
                      <a:pt x="2052" y="1135"/>
                    </a:lnTo>
                    <a:lnTo>
                      <a:pt x="2050" y="1135"/>
                    </a:lnTo>
                    <a:lnTo>
                      <a:pt x="2049" y="1137"/>
                    </a:lnTo>
                    <a:lnTo>
                      <a:pt x="2049" y="1138"/>
                    </a:lnTo>
                    <a:lnTo>
                      <a:pt x="2018" y="1138"/>
                    </a:lnTo>
                    <a:lnTo>
                      <a:pt x="2017" y="1137"/>
                    </a:lnTo>
                    <a:lnTo>
                      <a:pt x="2017" y="1135"/>
                    </a:lnTo>
                    <a:lnTo>
                      <a:pt x="2015" y="1135"/>
                    </a:lnTo>
                    <a:lnTo>
                      <a:pt x="2013" y="1134"/>
                    </a:lnTo>
                    <a:lnTo>
                      <a:pt x="2012" y="1135"/>
                    </a:lnTo>
                    <a:lnTo>
                      <a:pt x="2010" y="1135"/>
                    </a:lnTo>
                    <a:lnTo>
                      <a:pt x="2009" y="1137"/>
                    </a:lnTo>
                    <a:lnTo>
                      <a:pt x="2009" y="1138"/>
                    </a:lnTo>
                    <a:lnTo>
                      <a:pt x="1999" y="1138"/>
                    </a:lnTo>
                    <a:lnTo>
                      <a:pt x="1999" y="1137"/>
                    </a:lnTo>
                    <a:lnTo>
                      <a:pt x="1998" y="1135"/>
                    </a:lnTo>
                    <a:lnTo>
                      <a:pt x="1996" y="1135"/>
                    </a:lnTo>
                    <a:lnTo>
                      <a:pt x="1995" y="1134"/>
                    </a:lnTo>
                    <a:lnTo>
                      <a:pt x="1993" y="1135"/>
                    </a:lnTo>
                    <a:lnTo>
                      <a:pt x="1992" y="1135"/>
                    </a:lnTo>
                    <a:lnTo>
                      <a:pt x="1991" y="1137"/>
                    </a:lnTo>
                    <a:lnTo>
                      <a:pt x="1990" y="1138"/>
                    </a:lnTo>
                    <a:lnTo>
                      <a:pt x="1965" y="1138"/>
                    </a:lnTo>
                    <a:lnTo>
                      <a:pt x="1965" y="1137"/>
                    </a:lnTo>
                    <a:lnTo>
                      <a:pt x="1964" y="1135"/>
                    </a:lnTo>
                    <a:lnTo>
                      <a:pt x="1963" y="1135"/>
                    </a:lnTo>
                    <a:lnTo>
                      <a:pt x="1961" y="1134"/>
                    </a:lnTo>
                    <a:lnTo>
                      <a:pt x="1959" y="1135"/>
                    </a:lnTo>
                    <a:lnTo>
                      <a:pt x="1958" y="1135"/>
                    </a:lnTo>
                    <a:lnTo>
                      <a:pt x="1957" y="1137"/>
                    </a:lnTo>
                    <a:lnTo>
                      <a:pt x="1956" y="1138"/>
                    </a:lnTo>
                    <a:lnTo>
                      <a:pt x="1945" y="1138"/>
                    </a:lnTo>
                    <a:lnTo>
                      <a:pt x="1945" y="1137"/>
                    </a:lnTo>
                    <a:lnTo>
                      <a:pt x="1944" y="1135"/>
                    </a:lnTo>
                    <a:lnTo>
                      <a:pt x="1942" y="1135"/>
                    </a:lnTo>
                    <a:lnTo>
                      <a:pt x="1941" y="1134"/>
                    </a:lnTo>
                    <a:lnTo>
                      <a:pt x="1939" y="1135"/>
                    </a:lnTo>
                    <a:lnTo>
                      <a:pt x="1937" y="1135"/>
                    </a:lnTo>
                    <a:lnTo>
                      <a:pt x="1937" y="1137"/>
                    </a:lnTo>
                    <a:lnTo>
                      <a:pt x="1936" y="1138"/>
                    </a:lnTo>
                    <a:lnTo>
                      <a:pt x="1883" y="1138"/>
                    </a:lnTo>
                    <a:lnTo>
                      <a:pt x="1882" y="1137"/>
                    </a:lnTo>
                    <a:lnTo>
                      <a:pt x="1881" y="1135"/>
                    </a:lnTo>
                    <a:lnTo>
                      <a:pt x="1880" y="1135"/>
                    </a:lnTo>
                    <a:lnTo>
                      <a:pt x="1878" y="1134"/>
                    </a:lnTo>
                    <a:lnTo>
                      <a:pt x="1876" y="1135"/>
                    </a:lnTo>
                    <a:lnTo>
                      <a:pt x="1875" y="1135"/>
                    </a:lnTo>
                    <a:lnTo>
                      <a:pt x="1874" y="1137"/>
                    </a:lnTo>
                    <a:lnTo>
                      <a:pt x="1874" y="1138"/>
                    </a:lnTo>
                    <a:lnTo>
                      <a:pt x="1676" y="1138"/>
                    </a:lnTo>
                    <a:lnTo>
                      <a:pt x="1676" y="1137"/>
                    </a:lnTo>
                    <a:lnTo>
                      <a:pt x="1675" y="1135"/>
                    </a:lnTo>
                    <a:lnTo>
                      <a:pt x="1673" y="1135"/>
                    </a:lnTo>
                    <a:lnTo>
                      <a:pt x="1671" y="1134"/>
                    </a:lnTo>
                    <a:lnTo>
                      <a:pt x="1670" y="1135"/>
                    </a:lnTo>
                    <a:lnTo>
                      <a:pt x="1668" y="1135"/>
                    </a:lnTo>
                    <a:lnTo>
                      <a:pt x="1667" y="1137"/>
                    </a:lnTo>
                    <a:lnTo>
                      <a:pt x="1667" y="1138"/>
                    </a:lnTo>
                    <a:lnTo>
                      <a:pt x="1632" y="1138"/>
                    </a:lnTo>
                    <a:lnTo>
                      <a:pt x="1632" y="1137"/>
                    </a:lnTo>
                    <a:lnTo>
                      <a:pt x="1631" y="1135"/>
                    </a:lnTo>
                    <a:lnTo>
                      <a:pt x="1629" y="1135"/>
                    </a:lnTo>
                    <a:lnTo>
                      <a:pt x="1628" y="1134"/>
                    </a:lnTo>
                    <a:lnTo>
                      <a:pt x="1626" y="1135"/>
                    </a:lnTo>
                    <a:lnTo>
                      <a:pt x="1624" y="1135"/>
                    </a:lnTo>
                    <a:lnTo>
                      <a:pt x="1624" y="1137"/>
                    </a:lnTo>
                    <a:lnTo>
                      <a:pt x="1623" y="1138"/>
                    </a:lnTo>
                    <a:lnTo>
                      <a:pt x="1469" y="1138"/>
                    </a:lnTo>
                    <a:lnTo>
                      <a:pt x="1469" y="1137"/>
                    </a:lnTo>
                    <a:lnTo>
                      <a:pt x="1468" y="1135"/>
                    </a:lnTo>
                    <a:lnTo>
                      <a:pt x="1466" y="1135"/>
                    </a:lnTo>
                    <a:lnTo>
                      <a:pt x="1464" y="1134"/>
                    </a:lnTo>
                    <a:lnTo>
                      <a:pt x="1463" y="1135"/>
                    </a:lnTo>
                    <a:lnTo>
                      <a:pt x="1461" y="1135"/>
                    </a:lnTo>
                    <a:lnTo>
                      <a:pt x="1460" y="1137"/>
                    </a:lnTo>
                    <a:lnTo>
                      <a:pt x="1460" y="1138"/>
                    </a:lnTo>
                    <a:lnTo>
                      <a:pt x="1412" y="1138"/>
                    </a:lnTo>
                    <a:lnTo>
                      <a:pt x="1411" y="1137"/>
                    </a:lnTo>
                    <a:lnTo>
                      <a:pt x="1410" y="1135"/>
                    </a:lnTo>
                    <a:lnTo>
                      <a:pt x="1409" y="1135"/>
                    </a:lnTo>
                    <a:lnTo>
                      <a:pt x="1407" y="1134"/>
                    </a:lnTo>
                    <a:lnTo>
                      <a:pt x="1405" y="1135"/>
                    </a:lnTo>
                    <a:lnTo>
                      <a:pt x="1404" y="1135"/>
                    </a:lnTo>
                    <a:lnTo>
                      <a:pt x="1403" y="1137"/>
                    </a:lnTo>
                    <a:lnTo>
                      <a:pt x="1403" y="1138"/>
                    </a:lnTo>
                    <a:lnTo>
                      <a:pt x="1374" y="1138"/>
                    </a:lnTo>
                    <a:lnTo>
                      <a:pt x="1374" y="1137"/>
                    </a:lnTo>
                    <a:lnTo>
                      <a:pt x="1373" y="1135"/>
                    </a:lnTo>
                    <a:lnTo>
                      <a:pt x="1372" y="1135"/>
                    </a:lnTo>
                    <a:lnTo>
                      <a:pt x="1370" y="1134"/>
                    </a:lnTo>
                    <a:lnTo>
                      <a:pt x="1368" y="1135"/>
                    </a:lnTo>
                    <a:lnTo>
                      <a:pt x="1367" y="1135"/>
                    </a:lnTo>
                    <a:lnTo>
                      <a:pt x="1366" y="1137"/>
                    </a:lnTo>
                    <a:lnTo>
                      <a:pt x="1365" y="1138"/>
                    </a:lnTo>
                    <a:lnTo>
                      <a:pt x="1257" y="1138"/>
                    </a:lnTo>
                    <a:lnTo>
                      <a:pt x="1257" y="1137"/>
                    </a:lnTo>
                    <a:lnTo>
                      <a:pt x="1256" y="1135"/>
                    </a:lnTo>
                    <a:lnTo>
                      <a:pt x="1254" y="1135"/>
                    </a:lnTo>
                    <a:lnTo>
                      <a:pt x="1253" y="1134"/>
                    </a:lnTo>
                    <a:lnTo>
                      <a:pt x="1251" y="1135"/>
                    </a:lnTo>
                    <a:lnTo>
                      <a:pt x="1249" y="1135"/>
                    </a:lnTo>
                    <a:lnTo>
                      <a:pt x="1249" y="1137"/>
                    </a:lnTo>
                    <a:lnTo>
                      <a:pt x="1248" y="1138"/>
                    </a:lnTo>
                    <a:lnTo>
                      <a:pt x="1083" y="1138"/>
                    </a:lnTo>
                    <a:lnTo>
                      <a:pt x="1082" y="1137"/>
                    </a:lnTo>
                    <a:lnTo>
                      <a:pt x="1081" y="1135"/>
                    </a:lnTo>
                    <a:lnTo>
                      <a:pt x="1080" y="1135"/>
                    </a:lnTo>
                    <a:lnTo>
                      <a:pt x="1078" y="1134"/>
                    </a:lnTo>
                    <a:lnTo>
                      <a:pt x="1077" y="1135"/>
                    </a:lnTo>
                    <a:lnTo>
                      <a:pt x="1075" y="1135"/>
                    </a:lnTo>
                    <a:lnTo>
                      <a:pt x="1074" y="1137"/>
                    </a:lnTo>
                    <a:lnTo>
                      <a:pt x="1074" y="1138"/>
                    </a:lnTo>
                    <a:lnTo>
                      <a:pt x="982" y="1138"/>
                    </a:lnTo>
                    <a:lnTo>
                      <a:pt x="982" y="1137"/>
                    </a:lnTo>
                    <a:lnTo>
                      <a:pt x="981" y="1135"/>
                    </a:lnTo>
                    <a:lnTo>
                      <a:pt x="979" y="1135"/>
                    </a:lnTo>
                    <a:lnTo>
                      <a:pt x="977" y="1134"/>
                    </a:lnTo>
                    <a:lnTo>
                      <a:pt x="976" y="1135"/>
                    </a:lnTo>
                    <a:lnTo>
                      <a:pt x="974" y="1135"/>
                    </a:lnTo>
                    <a:lnTo>
                      <a:pt x="973" y="1137"/>
                    </a:lnTo>
                    <a:lnTo>
                      <a:pt x="973" y="1138"/>
                    </a:lnTo>
                    <a:lnTo>
                      <a:pt x="919" y="1138"/>
                    </a:lnTo>
                    <a:lnTo>
                      <a:pt x="918" y="1137"/>
                    </a:lnTo>
                    <a:lnTo>
                      <a:pt x="917" y="1135"/>
                    </a:lnTo>
                    <a:lnTo>
                      <a:pt x="916" y="1135"/>
                    </a:lnTo>
                    <a:lnTo>
                      <a:pt x="914" y="1134"/>
                    </a:lnTo>
                    <a:lnTo>
                      <a:pt x="912" y="1135"/>
                    </a:lnTo>
                    <a:lnTo>
                      <a:pt x="911" y="1135"/>
                    </a:lnTo>
                    <a:lnTo>
                      <a:pt x="910" y="1137"/>
                    </a:lnTo>
                    <a:lnTo>
                      <a:pt x="910" y="1138"/>
                    </a:lnTo>
                    <a:lnTo>
                      <a:pt x="896" y="1138"/>
                    </a:lnTo>
                    <a:lnTo>
                      <a:pt x="896" y="1137"/>
                    </a:lnTo>
                    <a:lnTo>
                      <a:pt x="895" y="1135"/>
                    </a:lnTo>
                    <a:lnTo>
                      <a:pt x="893" y="1135"/>
                    </a:lnTo>
                    <a:lnTo>
                      <a:pt x="892" y="1134"/>
                    </a:lnTo>
                    <a:lnTo>
                      <a:pt x="890" y="1135"/>
                    </a:lnTo>
                    <a:lnTo>
                      <a:pt x="888" y="1135"/>
                    </a:lnTo>
                    <a:lnTo>
                      <a:pt x="887" y="1137"/>
                    </a:lnTo>
                    <a:lnTo>
                      <a:pt x="887" y="1138"/>
                    </a:lnTo>
                    <a:lnTo>
                      <a:pt x="844" y="1138"/>
                    </a:lnTo>
                    <a:lnTo>
                      <a:pt x="844" y="1137"/>
                    </a:lnTo>
                    <a:lnTo>
                      <a:pt x="843" y="1135"/>
                    </a:lnTo>
                    <a:lnTo>
                      <a:pt x="841" y="1135"/>
                    </a:lnTo>
                    <a:lnTo>
                      <a:pt x="840" y="1134"/>
                    </a:lnTo>
                    <a:lnTo>
                      <a:pt x="838" y="1135"/>
                    </a:lnTo>
                    <a:lnTo>
                      <a:pt x="837" y="1135"/>
                    </a:lnTo>
                    <a:lnTo>
                      <a:pt x="836" y="1137"/>
                    </a:lnTo>
                    <a:lnTo>
                      <a:pt x="835" y="1138"/>
                    </a:lnTo>
                    <a:lnTo>
                      <a:pt x="772" y="1138"/>
                    </a:lnTo>
                    <a:lnTo>
                      <a:pt x="772" y="1137"/>
                    </a:lnTo>
                    <a:lnTo>
                      <a:pt x="770" y="1135"/>
                    </a:lnTo>
                    <a:lnTo>
                      <a:pt x="769" y="1135"/>
                    </a:lnTo>
                    <a:lnTo>
                      <a:pt x="767" y="1134"/>
                    </a:lnTo>
                    <a:lnTo>
                      <a:pt x="766" y="1135"/>
                    </a:lnTo>
                    <a:lnTo>
                      <a:pt x="764" y="1135"/>
                    </a:lnTo>
                    <a:lnTo>
                      <a:pt x="763" y="1137"/>
                    </a:lnTo>
                    <a:lnTo>
                      <a:pt x="763" y="1138"/>
                    </a:lnTo>
                    <a:lnTo>
                      <a:pt x="709" y="1138"/>
                    </a:lnTo>
                    <a:lnTo>
                      <a:pt x="709" y="1137"/>
                    </a:lnTo>
                    <a:lnTo>
                      <a:pt x="708" y="1135"/>
                    </a:lnTo>
                    <a:lnTo>
                      <a:pt x="707" y="1135"/>
                    </a:lnTo>
                    <a:lnTo>
                      <a:pt x="705" y="1134"/>
                    </a:lnTo>
                    <a:lnTo>
                      <a:pt x="703" y="1135"/>
                    </a:lnTo>
                    <a:lnTo>
                      <a:pt x="702" y="1135"/>
                    </a:lnTo>
                    <a:lnTo>
                      <a:pt x="701" y="1137"/>
                    </a:lnTo>
                    <a:lnTo>
                      <a:pt x="700" y="1138"/>
                    </a:lnTo>
                    <a:lnTo>
                      <a:pt x="689" y="1138"/>
                    </a:lnTo>
                    <a:lnTo>
                      <a:pt x="689" y="1137"/>
                    </a:lnTo>
                    <a:lnTo>
                      <a:pt x="688" y="1135"/>
                    </a:lnTo>
                    <a:lnTo>
                      <a:pt x="687" y="1135"/>
                    </a:lnTo>
                    <a:lnTo>
                      <a:pt x="685" y="1134"/>
                    </a:lnTo>
                    <a:lnTo>
                      <a:pt x="683" y="1135"/>
                    </a:lnTo>
                    <a:lnTo>
                      <a:pt x="682" y="1135"/>
                    </a:lnTo>
                    <a:lnTo>
                      <a:pt x="681" y="1137"/>
                    </a:lnTo>
                    <a:lnTo>
                      <a:pt x="680" y="1138"/>
                    </a:lnTo>
                    <a:lnTo>
                      <a:pt x="660" y="1138"/>
                    </a:lnTo>
                    <a:lnTo>
                      <a:pt x="660" y="1137"/>
                    </a:lnTo>
                    <a:lnTo>
                      <a:pt x="659" y="1135"/>
                    </a:lnTo>
                    <a:lnTo>
                      <a:pt x="657" y="1135"/>
                    </a:lnTo>
                    <a:lnTo>
                      <a:pt x="655" y="1134"/>
                    </a:lnTo>
                    <a:lnTo>
                      <a:pt x="654" y="1135"/>
                    </a:lnTo>
                    <a:lnTo>
                      <a:pt x="652" y="1135"/>
                    </a:lnTo>
                    <a:lnTo>
                      <a:pt x="651" y="1137"/>
                    </a:lnTo>
                    <a:lnTo>
                      <a:pt x="651" y="1138"/>
                    </a:lnTo>
                    <a:lnTo>
                      <a:pt x="631" y="1138"/>
                    </a:lnTo>
                    <a:lnTo>
                      <a:pt x="630" y="1137"/>
                    </a:lnTo>
                    <a:lnTo>
                      <a:pt x="629" y="1135"/>
                    </a:lnTo>
                    <a:lnTo>
                      <a:pt x="628" y="1135"/>
                    </a:lnTo>
                    <a:lnTo>
                      <a:pt x="626" y="1134"/>
                    </a:lnTo>
                    <a:lnTo>
                      <a:pt x="624" y="1135"/>
                    </a:lnTo>
                    <a:lnTo>
                      <a:pt x="623" y="1135"/>
                    </a:lnTo>
                    <a:lnTo>
                      <a:pt x="622" y="1137"/>
                    </a:lnTo>
                    <a:lnTo>
                      <a:pt x="622" y="1138"/>
                    </a:lnTo>
                    <a:lnTo>
                      <a:pt x="567" y="1138"/>
                    </a:lnTo>
                    <a:lnTo>
                      <a:pt x="567" y="1137"/>
                    </a:lnTo>
                    <a:lnTo>
                      <a:pt x="566" y="1135"/>
                    </a:lnTo>
                    <a:lnTo>
                      <a:pt x="564" y="1135"/>
                    </a:lnTo>
                    <a:lnTo>
                      <a:pt x="563" y="1134"/>
                    </a:lnTo>
                    <a:lnTo>
                      <a:pt x="561" y="1135"/>
                    </a:lnTo>
                    <a:lnTo>
                      <a:pt x="560" y="1135"/>
                    </a:lnTo>
                    <a:lnTo>
                      <a:pt x="559" y="1137"/>
                    </a:lnTo>
                    <a:lnTo>
                      <a:pt x="558" y="1138"/>
                    </a:lnTo>
                    <a:lnTo>
                      <a:pt x="543" y="1138"/>
                    </a:lnTo>
                    <a:lnTo>
                      <a:pt x="542" y="1137"/>
                    </a:lnTo>
                    <a:lnTo>
                      <a:pt x="541" y="1135"/>
                    </a:lnTo>
                    <a:lnTo>
                      <a:pt x="540" y="1135"/>
                    </a:lnTo>
                    <a:lnTo>
                      <a:pt x="538" y="1134"/>
                    </a:lnTo>
                    <a:lnTo>
                      <a:pt x="536" y="1135"/>
                    </a:lnTo>
                    <a:lnTo>
                      <a:pt x="535" y="1135"/>
                    </a:lnTo>
                    <a:lnTo>
                      <a:pt x="534" y="1137"/>
                    </a:lnTo>
                    <a:lnTo>
                      <a:pt x="534" y="1138"/>
                    </a:lnTo>
                    <a:lnTo>
                      <a:pt x="443" y="1138"/>
                    </a:lnTo>
                    <a:lnTo>
                      <a:pt x="443" y="1137"/>
                    </a:lnTo>
                    <a:lnTo>
                      <a:pt x="442" y="1135"/>
                    </a:lnTo>
                    <a:lnTo>
                      <a:pt x="441" y="1135"/>
                    </a:lnTo>
                    <a:lnTo>
                      <a:pt x="439" y="1134"/>
                    </a:lnTo>
                    <a:lnTo>
                      <a:pt x="437" y="1135"/>
                    </a:lnTo>
                    <a:lnTo>
                      <a:pt x="436" y="1135"/>
                    </a:lnTo>
                    <a:lnTo>
                      <a:pt x="435" y="1137"/>
                    </a:lnTo>
                    <a:lnTo>
                      <a:pt x="434" y="1138"/>
                    </a:lnTo>
                    <a:lnTo>
                      <a:pt x="423" y="1138"/>
                    </a:lnTo>
                    <a:lnTo>
                      <a:pt x="422" y="1136"/>
                    </a:lnTo>
                    <a:lnTo>
                      <a:pt x="421" y="1134"/>
                    </a:lnTo>
                    <a:lnTo>
                      <a:pt x="420" y="1133"/>
                    </a:lnTo>
                    <a:lnTo>
                      <a:pt x="417" y="1132"/>
                    </a:lnTo>
                    <a:lnTo>
                      <a:pt x="415" y="1131"/>
                    </a:lnTo>
                    <a:lnTo>
                      <a:pt x="413" y="1131"/>
                    </a:lnTo>
                    <a:lnTo>
                      <a:pt x="410" y="1132"/>
                    </a:lnTo>
                    <a:lnTo>
                      <a:pt x="408" y="1133"/>
                    </a:lnTo>
                    <a:lnTo>
                      <a:pt x="407" y="1134"/>
                    </a:lnTo>
                    <a:lnTo>
                      <a:pt x="406" y="1136"/>
                    </a:lnTo>
                    <a:lnTo>
                      <a:pt x="405" y="1138"/>
                    </a:lnTo>
                    <a:lnTo>
                      <a:pt x="394" y="1138"/>
                    </a:lnTo>
                    <a:lnTo>
                      <a:pt x="394" y="1137"/>
                    </a:lnTo>
                    <a:lnTo>
                      <a:pt x="393" y="1135"/>
                    </a:lnTo>
                    <a:lnTo>
                      <a:pt x="391" y="1135"/>
                    </a:lnTo>
                    <a:lnTo>
                      <a:pt x="389" y="1134"/>
                    </a:lnTo>
                    <a:lnTo>
                      <a:pt x="388" y="1135"/>
                    </a:lnTo>
                    <a:lnTo>
                      <a:pt x="386" y="1135"/>
                    </a:lnTo>
                    <a:lnTo>
                      <a:pt x="385" y="1137"/>
                    </a:lnTo>
                    <a:lnTo>
                      <a:pt x="385" y="1138"/>
                    </a:lnTo>
                    <a:lnTo>
                      <a:pt x="351" y="1138"/>
                    </a:lnTo>
                    <a:lnTo>
                      <a:pt x="351" y="1137"/>
                    </a:lnTo>
                    <a:lnTo>
                      <a:pt x="350" y="1135"/>
                    </a:lnTo>
                    <a:lnTo>
                      <a:pt x="348" y="1135"/>
                    </a:lnTo>
                    <a:lnTo>
                      <a:pt x="347" y="1134"/>
                    </a:lnTo>
                    <a:lnTo>
                      <a:pt x="345" y="1135"/>
                    </a:lnTo>
                    <a:lnTo>
                      <a:pt x="343" y="1135"/>
                    </a:lnTo>
                    <a:lnTo>
                      <a:pt x="343" y="1137"/>
                    </a:lnTo>
                    <a:lnTo>
                      <a:pt x="342" y="1138"/>
                    </a:lnTo>
                    <a:lnTo>
                      <a:pt x="338" y="1138"/>
                    </a:lnTo>
                    <a:lnTo>
                      <a:pt x="337" y="1136"/>
                    </a:lnTo>
                    <a:lnTo>
                      <a:pt x="336" y="1135"/>
                    </a:lnTo>
                    <a:lnTo>
                      <a:pt x="335" y="1133"/>
                    </a:lnTo>
                    <a:lnTo>
                      <a:pt x="333" y="1132"/>
                    </a:lnTo>
                    <a:lnTo>
                      <a:pt x="331" y="1132"/>
                    </a:lnTo>
                    <a:lnTo>
                      <a:pt x="329" y="1132"/>
                    </a:lnTo>
                    <a:lnTo>
                      <a:pt x="327" y="1132"/>
                    </a:lnTo>
                    <a:lnTo>
                      <a:pt x="325" y="1133"/>
                    </a:lnTo>
                    <a:lnTo>
                      <a:pt x="323" y="1135"/>
                    </a:lnTo>
                    <a:lnTo>
                      <a:pt x="322" y="1136"/>
                    </a:lnTo>
                    <a:lnTo>
                      <a:pt x="322" y="1138"/>
                    </a:lnTo>
                    <a:lnTo>
                      <a:pt x="297" y="1138"/>
                    </a:lnTo>
                    <a:lnTo>
                      <a:pt x="297" y="1136"/>
                    </a:lnTo>
                    <a:lnTo>
                      <a:pt x="296" y="1135"/>
                    </a:lnTo>
                    <a:lnTo>
                      <a:pt x="294" y="1133"/>
                    </a:lnTo>
                    <a:lnTo>
                      <a:pt x="293" y="1133"/>
                    </a:lnTo>
                    <a:lnTo>
                      <a:pt x="291" y="1132"/>
                    </a:lnTo>
                    <a:lnTo>
                      <a:pt x="289" y="1132"/>
                    </a:lnTo>
                    <a:lnTo>
                      <a:pt x="287" y="1133"/>
                    </a:lnTo>
                    <a:lnTo>
                      <a:pt x="285" y="1133"/>
                    </a:lnTo>
                    <a:lnTo>
                      <a:pt x="283" y="1135"/>
                    </a:lnTo>
                    <a:lnTo>
                      <a:pt x="283" y="1136"/>
                    </a:lnTo>
                    <a:lnTo>
                      <a:pt x="282" y="1138"/>
                    </a:lnTo>
                    <a:lnTo>
                      <a:pt x="209" y="1138"/>
                    </a:lnTo>
                    <a:lnTo>
                      <a:pt x="209" y="1137"/>
                    </a:lnTo>
                    <a:lnTo>
                      <a:pt x="208" y="1135"/>
                    </a:lnTo>
                    <a:lnTo>
                      <a:pt x="206" y="1135"/>
                    </a:lnTo>
                    <a:lnTo>
                      <a:pt x="205" y="1134"/>
                    </a:lnTo>
                    <a:lnTo>
                      <a:pt x="203" y="1135"/>
                    </a:lnTo>
                    <a:lnTo>
                      <a:pt x="201" y="1135"/>
                    </a:lnTo>
                    <a:lnTo>
                      <a:pt x="200" y="1137"/>
                    </a:lnTo>
                    <a:lnTo>
                      <a:pt x="200" y="1138"/>
                    </a:lnTo>
                    <a:lnTo>
                      <a:pt x="180" y="1138"/>
                    </a:lnTo>
                    <a:lnTo>
                      <a:pt x="180" y="1137"/>
                    </a:lnTo>
                    <a:lnTo>
                      <a:pt x="179" y="1135"/>
                    </a:lnTo>
                    <a:lnTo>
                      <a:pt x="177" y="1135"/>
                    </a:lnTo>
                    <a:lnTo>
                      <a:pt x="176" y="1134"/>
                    </a:lnTo>
                    <a:lnTo>
                      <a:pt x="174" y="1135"/>
                    </a:lnTo>
                    <a:lnTo>
                      <a:pt x="173" y="1135"/>
                    </a:lnTo>
                    <a:lnTo>
                      <a:pt x="172" y="1137"/>
                    </a:lnTo>
                    <a:lnTo>
                      <a:pt x="171" y="1138"/>
                    </a:lnTo>
                    <a:lnTo>
                      <a:pt x="162" y="1138"/>
                    </a:lnTo>
                    <a:lnTo>
                      <a:pt x="162" y="1137"/>
                    </a:lnTo>
                    <a:lnTo>
                      <a:pt x="161" y="1135"/>
                    </a:lnTo>
                    <a:lnTo>
                      <a:pt x="159" y="1135"/>
                    </a:lnTo>
                    <a:lnTo>
                      <a:pt x="158" y="1134"/>
                    </a:lnTo>
                    <a:lnTo>
                      <a:pt x="156" y="1135"/>
                    </a:lnTo>
                    <a:lnTo>
                      <a:pt x="154" y="1135"/>
                    </a:lnTo>
                    <a:lnTo>
                      <a:pt x="153" y="1137"/>
                    </a:lnTo>
                    <a:lnTo>
                      <a:pt x="153" y="1138"/>
                    </a:lnTo>
                    <a:lnTo>
                      <a:pt x="100" y="1138"/>
                    </a:lnTo>
                    <a:lnTo>
                      <a:pt x="100" y="1137"/>
                    </a:lnTo>
                    <a:lnTo>
                      <a:pt x="99" y="1135"/>
                    </a:lnTo>
                    <a:lnTo>
                      <a:pt x="98" y="1135"/>
                    </a:lnTo>
                    <a:lnTo>
                      <a:pt x="96" y="1134"/>
                    </a:lnTo>
                    <a:lnTo>
                      <a:pt x="94" y="1135"/>
                    </a:lnTo>
                    <a:lnTo>
                      <a:pt x="93" y="1135"/>
                    </a:lnTo>
                    <a:lnTo>
                      <a:pt x="92" y="1137"/>
                    </a:lnTo>
                    <a:lnTo>
                      <a:pt x="91" y="1138"/>
                    </a:lnTo>
                    <a:lnTo>
                      <a:pt x="47" y="1138"/>
                    </a:lnTo>
                    <a:lnTo>
                      <a:pt x="47" y="1137"/>
                    </a:lnTo>
                    <a:lnTo>
                      <a:pt x="46" y="1135"/>
                    </a:lnTo>
                    <a:lnTo>
                      <a:pt x="44" y="1135"/>
                    </a:lnTo>
                    <a:lnTo>
                      <a:pt x="43" y="1134"/>
                    </a:lnTo>
                    <a:lnTo>
                      <a:pt x="41" y="1135"/>
                    </a:lnTo>
                    <a:lnTo>
                      <a:pt x="40" y="1135"/>
                    </a:lnTo>
                    <a:lnTo>
                      <a:pt x="38" y="1137"/>
                    </a:lnTo>
                    <a:lnTo>
                      <a:pt x="38" y="1138"/>
                    </a:lnTo>
                    <a:lnTo>
                      <a:pt x="0" y="11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5004000" y="4341960"/>
                <a:ext cx="13680" cy="11520"/>
              </a:xfrm>
              <a:custGeom>
                <a:avLst/>
                <a:gdLst/>
                <a:ahLst/>
                <a:rect l="l" t="t" r="r" b="b"/>
                <a:pathLst>
                  <a:path w="13" h="9">
                    <a:moveTo>
                      <a:pt x="11" y="9"/>
                    </a:moveTo>
                    <a:lnTo>
                      <a:pt x="0" y="5"/>
                    </a:lnTo>
                    <a:lnTo>
                      <a:pt x="11" y="0"/>
                    </a:lnTo>
                    <a:lnTo>
                      <a:pt x="13" y="2"/>
                    </a:lnTo>
                    <a:lnTo>
                      <a:pt x="13" y="5"/>
                    </a:lnTo>
                    <a:lnTo>
                      <a:pt x="13" y="7"/>
                    </a:lnTo>
                    <a:lnTo>
                      <a:pt x="11"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82" name=""/>
              <p:cNvSpPr/>
              <p:nvPr/>
            </p:nvSpPr>
            <p:spPr>
              <a:xfrm>
                <a:off x="4770000" y="4409640"/>
                <a:ext cx="39960" cy="702720"/>
              </a:xfrm>
              <a:custGeom>
                <a:avLst/>
                <a:gdLst/>
                <a:ahLst/>
                <a:rect l="l" t="t" r="r" b="b"/>
                <a:pathLst>
                  <a:path w="38" h="526">
                    <a:moveTo>
                      <a:pt x="38" y="526"/>
                    </a:moveTo>
                    <a:lnTo>
                      <a:pt x="38" y="500"/>
                    </a:lnTo>
                    <a:lnTo>
                      <a:pt x="0" y="5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76352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84" name=""/>
              <p:cNvSpPr/>
              <p:nvPr/>
            </p:nvSpPr>
            <p:spPr>
              <a:xfrm>
                <a:off x="4659840" y="4343040"/>
                <a:ext cx="82440" cy="1000440"/>
              </a:xfrm>
              <a:custGeom>
                <a:avLst/>
                <a:gdLst/>
                <a:ahLst/>
                <a:rect l="l" t="t" r="r" b="b"/>
                <a:pathLst>
                  <a:path w="78" h="749">
                    <a:moveTo>
                      <a:pt x="21" y="749"/>
                    </a:moveTo>
                    <a:lnTo>
                      <a:pt x="0" y="749"/>
                    </a:lnTo>
                    <a:lnTo>
                      <a:pt x="0" y="4"/>
                    </a:lnTo>
                    <a:lnTo>
                      <a:pt x="3" y="4"/>
                    </a:lnTo>
                    <a:lnTo>
                      <a:pt x="3" y="3"/>
                    </a:lnTo>
                    <a:lnTo>
                      <a:pt x="4" y="1"/>
                    </a:lnTo>
                    <a:lnTo>
                      <a:pt x="6" y="1"/>
                    </a:lnTo>
                    <a:lnTo>
                      <a:pt x="7" y="0"/>
                    </a:lnTo>
                    <a:lnTo>
                      <a:pt x="9" y="1"/>
                    </a:lnTo>
                    <a:lnTo>
                      <a:pt x="10" y="1"/>
                    </a:lnTo>
                    <a:lnTo>
                      <a:pt x="11" y="3"/>
                    </a:lnTo>
                    <a:lnTo>
                      <a:pt x="12" y="4"/>
                    </a:lnTo>
                    <a:lnTo>
                      <a:pt x="64" y="4"/>
                    </a:lnTo>
                    <a:lnTo>
                      <a:pt x="65" y="3"/>
                    </a:lnTo>
                    <a:lnTo>
                      <a:pt x="66" y="1"/>
                    </a:lnTo>
                    <a:lnTo>
                      <a:pt x="67" y="1"/>
                    </a:lnTo>
                    <a:lnTo>
                      <a:pt x="69" y="0"/>
                    </a:lnTo>
                    <a:lnTo>
                      <a:pt x="71" y="1"/>
                    </a:lnTo>
                    <a:lnTo>
                      <a:pt x="72" y="1"/>
                    </a:lnTo>
                    <a:lnTo>
                      <a:pt x="73" y="3"/>
                    </a:lnTo>
                    <a:lnTo>
                      <a:pt x="73" y="4"/>
                    </a:lnTo>
                    <a:lnTo>
                      <a:pt x="78" y="4"/>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4741560" y="434196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ff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86" name=""/>
              <p:cNvSpPr/>
              <p:nvPr/>
            </p:nvSpPr>
            <p:spPr>
              <a:xfrm>
                <a:off x="5011560" y="4305600"/>
                <a:ext cx="2448720" cy="454320"/>
              </a:xfrm>
              <a:custGeom>
                <a:avLst/>
                <a:gdLst/>
                <a:ahLst/>
                <a:rect l="l" t="t" r="r" b="b"/>
                <a:pathLst>
                  <a:path w="2313" h="340">
                    <a:moveTo>
                      <a:pt x="2313" y="340"/>
                    </a:moveTo>
                    <a:lnTo>
                      <a:pt x="2313" y="283"/>
                    </a:lnTo>
                    <a:lnTo>
                      <a:pt x="2126" y="283"/>
                    </a:lnTo>
                    <a:lnTo>
                      <a:pt x="2126" y="282"/>
                    </a:lnTo>
                    <a:lnTo>
                      <a:pt x="2125" y="280"/>
                    </a:lnTo>
                    <a:lnTo>
                      <a:pt x="2124" y="280"/>
                    </a:lnTo>
                    <a:lnTo>
                      <a:pt x="2122" y="279"/>
                    </a:lnTo>
                    <a:lnTo>
                      <a:pt x="2120" y="280"/>
                    </a:lnTo>
                    <a:lnTo>
                      <a:pt x="2119" y="280"/>
                    </a:lnTo>
                    <a:lnTo>
                      <a:pt x="2118" y="282"/>
                    </a:lnTo>
                    <a:lnTo>
                      <a:pt x="2117" y="283"/>
                    </a:lnTo>
                    <a:lnTo>
                      <a:pt x="2093" y="283"/>
                    </a:lnTo>
                    <a:lnTo>
                      <a:pt x="2092" y="282"/>
                    </a:lnTo>
                    <a:lnTo>
                      <a:pt x="2091" y="280"/>
                    </a:lnTo>
                    <a:lnTo>
                      <a:pt x="2090" y="280"/>
                    </a:lnTo>
                    <a:lnTo>
                      <a:pt x="2088" y="279"/>
                    </a:lnTo>
                    <a:lnTo>
                      <a:pt x="2086" y="280"/>
                    </a:lnTo>
                    <a:lnTo>
                      <a:pt x="2085" y="280"/>
                    </a:lnTo>
                    <a:lnTo>
                      <a:pt x="2084" y="282"/>
                    </a:lnTo>
                    <a:lnTo>
                      <a:pt x="2084" y="283"/>
                    </a:lnTo>
                    <a:lnTo>
                      <a:pt x="2022" y="283"/>
                    </a:lnTo>
                    <a:lnTo>
                      <a:pt x="2021" y="282"/>
                    </a:lnTo>
                    <a:lnTo>
                      <a:pt x="2020" y="280"/>
                    </a:lnTo>
                    <a:lnTo>
                      <a:pt x="2019" y="280"/>
                    </a:lnTo>
                    <a:lnTo>
                      <a:pt x="2017" y="279"/>
                    </a:lnTo>
                    <a:lnTo>
                      <a:pt x="2016" y="280"/>
                    </a:lnTo>
                    <a:lnTo>
                      <a:pt x="2014" y="280"/>
                    </a:lnTo>
                    <a:lnTo>
                      <a:pt x="2013" y="282"/>
                    </a:lnTo>
                    <a:lnTo>
                      <a:pt x="2013" y="283"/>
                    </a:lnTo>
                    <a:lnTo>
                      <a:pt x="1999" y="283"/>
                    </a:lnTo>
                    <a:lnTo>
                      <a:pt x="1999" y="7"/>
                    </a:lnTo>
                    <a:lnTo>
                      <a:pt x="1969" y="7"/>
                    </a:lnTo>
                    <a:lnTo>
                      <a:pt x="1969" y="6"/>
                    </a:lnTo>
                    <a:lnTo>
                      <a:pt x="1968" y="5"/>
                    </a:lnTo>
                    <a:lnTo>
                      <a:pt x="1967" y="4"/>
                    </a:lnTo>
                    <a:lnTo>
                      <a:pt x="1965" y="4"/>
                    </a:lnTo>
                    <a:lnTo>
                      <a:pt x="1963" y="4"/>
                    </a:lnTo>
                    <a:lnTo>
                      <a:pt x="1962" y="5"/>
                    </a:lnTo>
                    <a:lnTo>
                      <a:pt x="1961" y="6"/>
                    </a:lnTo>
                    <a:lnTo>
                      <a:pt x="1960" y="7"/>
                    </a:lnTo>
                    <a:lnTo>
                      <a:pt x="1949" y="7"/>
                    </a:lnTo>
                    <a:lnTo>
                      <a:pt x="1949" y="6"/>
                    </a:lnTo>
                    <a:lnTo>
                      <a:pt x="1948" y="5"/>
                    </a:lnTo>
                    <a:lnTo>
                      <a:pt x="1946" y="4"/>
                    </a:lnTo>
                    <a:lnTo>
                      <a:pt x="1945" y="4"/>
                    </a:lnTo>
                    <a:lnTo>
                      <a:pt x="1943" y="4"/>
                    </a:lnTo>
                    <a:lnTo>
                      <a:pt x="1941" y="5"/>
                    </a:lnTo>
                    <a:lnTo>
                      <a:pt x="1941" y="6"/>
                    </a:lnTo>
                    <a:lnTo>
                      <a:pt x="1940" y="7"/>
                    </a:lnTo>
                    <a:lnTo>
                      <a:pt x="1902" y="7"/>
                    </a:lnTo>
                    <a:lnTo>
                      <a:pt x="1901" y="6"/>
                    </a:lnTo>
                    <a:lnTo>
                      <a:pt x="1901" y="5"/>
                    </a:lnTo>
                    <a:lnTo>
                      <a:pt x="1899" y="4"/>
                    </a:lnTo>
                    <a:lnTo>
                      <a:pt x="1897" y="4"/>
                    </a:lnTo>
                    <a:lnTo>
                      <a:pt x="1896" y="4"/>
                    </a:lnTo>
                    <a:lnTo>
                      <a:pt x="1894" y="5"/>
                    </a:lnTo>
                    <a:lnTo>
                      <a:pt x="1893" y="6"/>
                    </a:lnTo>
                    <a:lnTo>
                      <a:pt x="1893" y="7"/>
                    </a:lnTo>
                    <a:lnTo>
                      <a:pt x="1887" y="7"/>
                    </a:lnTo>
                    <a:lnTo>
                      <a:pt x="1886" y="6"/>
                    </a:lnTo>
                    <a:lnTo>
                      <a:pt x="1885" y="5"/>
                    </a:lnTo>
                    <a:lnTo>
                      <a:pt x="1884" y="4"/>
                    </a:lnTo>
                    <a:lnTo>
                      <a:pt x="1882" y="4"/>
                    </a:lnTo>
                    <a:lnTo>
                      <a:pt x="1880" y="4"/>
                    </a:lnTo>
                    <a:lnTo>
                      <a:pt x="1879" y="5"/>
                    </a:lnTo>
                    <a:lnTo>
                      <a:pt x="1878" y="6"/>
                    </a:lnTo>
                    <a:lnTo>
                      <a:pt x="1878" y="7"/>
                    </a:lnTo>
                    <a:lnTo>
                      <a:pt x="1636" y="7"/>
                    </a:lnTo>
                    <a:lnTo>
                      <a:pt x="1636" y="6"/>
                    </a:lnTo>
                    <a:lnTo>
                      <a:pt x="1635" y="5"/>
                    </a:lnTo>
                    <a:lnTo>
                      <a:pt x="1633" y="4"/>
                    </a:lnTo>
                    <a:lnTo>
                      <a:pt x="1631" y="4"/>
                    </a:lnTo>
                    <a:lnTo>
                      <a:pt x="1630" y="4"/>
                    </a:lnTo>
                    <a:lnTo>
                      <a:pt x="1628" y="5"/>
                    </a:lnTo>
                    <a:lnTo>
                      <a:pt x="1627" y="6"/>
                    </a:lnTo>
                    <a:lnTo>
                      <a:pt x="1627" y="7"/>
                    </a:lnTo>
                    <a:lnTo>
                      <a:pt x="1473" y="7"/>
                    </a:lnTo>
                    <a:lnTo>
                      <a:pt x="1473" y="6"/>
                    </a:lnTo>
                    <a:lnTo>
                      <a:pt x="1472" y="5"/>
                    </a:lnTo>
                    <a:lnTo>
                      <a:pt x="1470" y="4"/>
                    </a:lnTo>
                    <a:lnTo>
                      <a:pt x="1468" y="4"/>
                    </a:lnTo>
                    <a:lnTo>
                      <a:pt x="1467" y="4"/>
                    </a:lnTo>
                    <a:lnTo>
                      <a:pt x="1465" y="5"/>
                    </a:lnTo>
                    <a:lnTo>
                      <a:pt x="1464" y="6"/>
                    </a:lnTo>
                    <a:lnTo>
                      <a:pt x="1464" y="7"/>
                    </a:lnTo>
                    <a:lnTo>
                      <a:pt x="1416" y="7"/>
                    </a:lnTo>
                    <a:lnTo>
                      <a:pt x="1415" y="6"/>
                    </a:lnTo>
                    <a:lnTo>
                      <a:pt x="1414" y="5"/>
                    </a:lnTo>
                    <a:lnTo>
                      <a:pt x="1413" y="4"/>
                    </a:lnTo>
                    <a:lnTo>
                      <a:pt x="1411" y="4"/>
                    </a:lnTo>
                    <a:lnTo>
                      <a:pt x="1409" y="4"/>
                    </a:lnTo>
                    <a:lnTo>
                      <a:pt x="1408" y="5"/>
                    </a:lnTo>
                    <a:lnTo>
                      <a:pt x="1407" y="6"/>
                    </a:lnTo>
                    <a:lnTo>
                      <a:pt x="1407" y="7"/>
                    </a:lnTo>
                    <a:lnTo>
                      <a:pt x="1378" y="7"/>
                    </a:lnTo>
                    <a:lnTo>
                      <a:pt x="1378" y="6"/>
                    </a:lnTo>
                    <a:lnTo>
                      <a:pt x="1377" y="5"/>
                    </a:lnTo>
                    <a:lnTo>
                      <a:pt x="1376" y="4"/>
                    </a:lnTo>
                    <a:lnTo>
                      <a:pt x="1374" y="4"/>
                    </a:lnTo>
                    <a:lnTo>
                      <a:pt x="1372" y="4"/>
                    </a:lnTo>
                    <a:lnTo>
                      <a:pt x="1371" y="5"/>
                    </a:lnTo>
                    <a:lnTo>
                      <a:pt x="1370" y="6"/>
                    </a:lnTo>
                    <a:lnTo>
                      <a:pt x="1369" y="7"/>
                    </a:lnTo>
                    <a:lnTo>
                      <a:pt x="1261" y="7"/>
                    </a:lnTo>
                    <a:lnTo>
                      <a:pt x="1261" y="6"/>
                    </a:lnTo>
                    <a:lnTo>
                      <a:pt x="1260" y="5"/>
                    </a:lnTo>
                    <a:lnTo>
                      <a:pt x="1258" y="4"/>
                    </a:lnTo>
                    <a:lnTo>
                      <a:pt x="1256" y="4"/>
                    </a:lnTo>
                    <a:lnTo>
                      <a:pt x="1255" y="4"/>
                    </a:lnTo>
                    <a:lnTo>
                      <a:pt x="1253" y="5"/>
                    </a:lnTo>
                    <a:lnTo>
                      <a:pt x="1252" y="6"/>
                    </a:lnTo>
                    <a:lnTo>
                      <a:pt x="1252" y="7"/>
                    </a:lnTo>
                    <a:lnTo>
                      <a:pt x="1087" y="7"/>
                    </a:lnTo>
                    <a:lnTo>
                      <a:pt x="1086" y="6"/>
                    </a:lnTo>
                    <a:lnTo>
                      <a:pt x="1085" y="5"/>
                    </a:lnTo>
                    <a:lnTo>
                      <a:pt x="1084" y="4"/>
                    </a:lnTo>
                    <a:lnTo>
                      <a:pt x="1082" y="4"/>
                    </a:lnTo>
                    <a:lnTo>
                      <a:pt x="1081" y="4"/>
                    </a:lnTo>
                    <a:lnTo>
                      <a:pt x="1079" y="5"/>
                    </a:lnTo>
                    <a:lnTo>
                      <a:pt x="1078" y="6"/>
                    </a:lnTo>
                    <a:lnTo>
                      <a:pt x="1078" y="7"/>
                    </a:lnTo>
                    <a:lnTo>
                      <a:pt x="986" y="7"/>
                    </a:lnTo>
                    <a:lnTo>
                      <a:pt x="986" y="6"/>
                    </a:lnTo>
                    <a:lnTo>
                      <a:pt x="985" y="5"/>
                    </a:lnTo>
                    <a:lnTo>
                      <a:pt x="983" y="4"/>
                    </a:lnTo>
                    <a:lnTo>
                      <a:pt x="981" y="4"/>
                    </a:lnTo>
                    <a:lnTo>
                      <a:pt x="980" y="4"/>
                    </a:lnTo>
                    <a:lnTo>
                      <a:pt x="978" y="5"/>
                    </a:lnTo>
                    <a:lnTo>
                      <a:pt x="977" y="6"/>
                    </a:lnTo>
                    <a:lnTo>
                      <a:pt x="977" y="7"/>
                    </a:lnTo>
                    <a:lnTo>
                      <a:pt x="923" y="7"/>
                    </a:lnTo>
                    <a:lnTo>
                      <a:pt x="922" y="6"/>
                    </a:lnTo>
                    <a:lnTo>
                      <a:pt x="921" y="5"/>
                    </a:lnTo>
                    <a:lnTo>
                      <a:pt x="920" y="4"/>
                    </a:lnTo>
                    <a:lnTo>
                      <a:pt x="918" y="4"/>
                    </a:lnTo>
                    <a:lnTo>
                      <a:pt x="916" y="4"/>
                    </a:lnTo>
                    <a:lnTo>
                      <a:pt x="915" y="5"/>
                    </a:lnTo>
                    <a:lnTo>
                      <a:pt x="914" y="6"/>
                    </a:lnTo>
                    <a:lnTo>
                      <a:pt x="914" y="7"/>
                    </a:lnTo>
                    <a:lnTo>
                      <a:pt x="900" y="7"/>
                    </a:lnTo>
                    <a:lnTo>
                      <a:pt x="900" y="6"/>
                    </a:lnTo>
                    <a:lnTo>
                      <a:pt x="899" y="5"/>
                    </a:lnTo>
                    <a:lnTo>
                      <a:pt x="897" y="4"/>
                    </a:lnTo>
                    <a:lnTo>
                      <a:pt x="896" y="4"/>
                    </a:lnTo>
                    <a:lnTo>
                      <a:pt x="894" y="4"/>
                    </a:lnTo>
                    <a:lnTo>
                      <a:pt x="892" y="5"/>
                    </a:lnTo>
                    <a:lnTo>
                      <a:pt x="891" y="6"/>
                    </a:lnTo>
                    <a:lnTo>
                      <a:pt x="891" y="7"/>
                    </a:lnTo>
                    <a:lnTo>
                      <a:pt x="776" y="7"/>
                    </a:lnTo>
                    <a:lnTo>
                      <a:pt x="776" y="6"/>
                    </a:lnTo>
                    <a:lnTo>
                      <a:pt x="774" y="5"/>
                    </a:lnTo>
                    <a:lnTo>
                      <a:pt x="773" y="4"/>
                    </a:lnTo>
                    <a:lnTo>
                      <a:pt x="771" y="4"/>
                    </a:lnTo>
                    <a:lnTo>
                      <a:pt x="770" y="4"/>
                    </a:lnTo>
                    <a:lnTo>
                      <a:pt x="768" y="5"/>
                    </a:lnTo>
                    <a:lnTo>
                      <a:pt x="767" y="6"/>
                    </a:lnTo>
                    <a:lnTo>
                      <a:pt x="767" y="7"/>
                    </a:lnTo>
                    <a:lnTo>
                      <a:pt x="713" y="7"/>
                    </a:lnTo>
                    <a:lnTo>
                      <a:pt x="713" y="6"/>
                    </a:lnTo>
                    <a:lnTo>
                      <a:pt x="712" y="5"/>
                    </a:lnTo>
                    <a:lnTo>
                      <a:pt x="711" y="4"/>
                    </a:lnTo>
                    <a:lnTo>
                      <a:pt x="709" y="4"/>
                    </a:lnTo>
                    <a:lnTo>
                      <a:pt x="707" y="4"/>
                    </a:lnTo>
                    <a:lnTo>
                      <a:pt x="706" y="5"/>
                    </a:lnTo>
                    <a:lnTo>
                      <a:pt x="705" y="6"/>
                    </a:lnTo>
                    <a:lnTo>
                      <a:pt x="704" y="7"/>
                    </a:lnTo>
                    <a:lnTo>
                      <a:pt x="693" y="7"/>
                    </a:lnTo>
                    <a:lnTo>
                      <a:pt x="693" y="6"/>
                    </a:lnTo>
                    <a:lnTo>
                      <a:pt x="692" y="5"/>
                    </a:lnTo>
                    <a:lnTo>
                      <a:pt x="691" y="4"/>
                    </a:lnTo>
                    <a:lnTo>
                      <a:pt x="689" y="4"/>
                    </a:lnTo>
                    <a:lnTo>
                      <a:pt x="687" y="4"/>
                    </a:lnTo>
                    <a:lnTo>
                      <a:pt x="686" y="5"/>
                    </a:lnTo>
                    <a:lnTo>
                      <a:pt x="685" y="6"/>
                    </a:lnTo>
                    <a:lnTo>
                      <a:pt x="684" y="7"/>
                    </a:lnTo>
                    <a:lnTo>
                      <a:pt x="635" y="7"/>
                    </a:lnTo>
                    <a:lnTo>
                      <a:pt x="634" y="6"/>
                    </a:lnTo>
                    <a:lnTo>
                      <a:pt x="633" y="5"/>
                    </a:lnTo>
                    <a:lnTo>
                      <a:pt x="632" y="4"/>
                    </a:lnTo>
                    <a:lnTo>
                      <a:pt x="630" y="4"/>
                    </a:lnTo>
                    <a:lnTo>
                      <a:pt x="628" y="4"/>
                    </a:lnTo>
                    <a:lnTo>
                      <a:pt x="627" y="5"/>
                    </a:lnTo>
                    <a:lnTo>
                      <a:pt x="626" y="6"/>
                    </a:lnTo>
                    <a:lnTo>
                      <a:pt x="626" y="7"/>
                    </a:lnTo>
                    <a:lnTo>
                      <a:pt x="571" y="7"/>
                    </a:lnTo>
                    <a:lnTo>
                      <a:pt x="571" y="6"/>
                    </a:lnTo>
                    <a:lnTo>
                      <a:pt x="570" y="5"/>
                    </a:lnTo>
                    <a:lnTo>
                      <a:pt x="568" y="4"/>
                    </a:lnTo>
                    <a:lnTo>
                      <a:pt x="567" y="4"/>
                    </a:lnTo>
                    <a:lnTo>
                      <a:pt x="565" y="4"/>
                    </a:lnTo>
                    <a:lnTo>
                      <a:pt x="564" y="5"/>
                    </a:lnTo>
                    <a:lnTo>
                      <a:pt x="563" y="6"/>
                    </a:lnTo>
                    <a:lnTo>
                      <a:pt x="562" y="7"/>
                    </a:lnTo>
                    <a:lnTo>
                      <a:pt x="547" y="7"/>
                    </a:lnTo>
                    <a:lnTo>
                      <a:pt x="546" y="6"/>
                    </a:lnTo>
                    <a:lnTo>
                      <a:pt x="545" y="5"/>
                    </a:lnTo>
                    <a:lnTo>
                      <a:pt x="544" y="4"/>
                    </a:lnTo>
                    <a:lnTo>
                      <a:pt x="542" y="4"/>
                    </a:lnTo>
                    <a:lnTo>
                      <a:pt x="540" y="4"/>
                    </a:lnTo>
                    <a:lnTo>
                      <a:pt x="539" y="5"/>
                    </a:lnTo>
                    <a:lnTo>
                      <a:pt x="538" y="6"/>
                    </a:lnTo>
                    <a:lnTo>
                      <a:pt x="538" y="7"/>
                    </a:lnTo>
                    <a:lnTo>
                      <a:pt x="447" y="7"/>
                    </a:lnTo>
                    <a:lnTo>
                      <a:pt x="447" y="6"/>
                    </a:lnTo>
                    <a:lnTo>
                      <a:pt x="446" y="5"/>
                    </a:lnTo>
                    <a:lnTo>
                      <a:pt x="445" y="4"/>
                    </a:lnTo>
                    <a:lnTo>
                      <a:pt x="443" y="4"/>
                    </a:lnTo>
                    <a:lnTo>
                      <a:pt x="441" y="4"/>
                    </a:lnTo>
                    <a:lnTo>
                      <a:pt x="440" y="5"/>
                    </a:lnTo>
                    <a:lnTo>
                      <a:pt x="439" y="6"/>
                    </a:lnTo>
                    <a:lnTo>
                      <a:pt x="438" y="7"/>
                    </a:lnTo>
                    <a:lnTo>
                      <a:pt x="427" y="7"/>
                    </a:lnTo>
                    <a:lnTo>
                      <a:pt x="426" y="5"/>
                    </a:lnTo>
                    <a:lnTo>
                      <a:pt x="425" y="3"/>
                    </a:lnTo>
                    <a:lnTo>
                      <a:pt x="424" y="2"/>
                    </a:lnTo>
                    <a:lnTo>
                      <a:pt x="421" y="1"/>
                    </a:lnTo>
                    <a:lnTo>
                      <a:pt x="419" y="0"/>
                    </a:lnTo>
                    <a:lnTo>
                      <a:pt x="417" y="0"/>
                    </a:lnTo>
                    <a:lnTo>
                      <a:pt x="414" y="1"/>
                    </a:lnTo>
                    <a:lnTo>
                      <a:pt x="412" y="2"/>
                    </a:lnTo>
                    <a:lnTo>
                      <a:pt x="411" y="3"/>
                    </a:lnTo>
                    <a:lnTo>
                      <a:pt x="410" y="5"/>
                    </a:lnTo>
                    <a:lnTo>
                      <a:pt x="409" y="7"/>
                    </a:lnTo>
                    <a:lnTo>
                      <a:pt x="398" y="7"/>
                    </a:lnTo>
                    <a:lnTo>
                      <a:pt x="398" y="6"/>
                    </a:lnTo>
                    <a:lnTo>
                      <a:pt x="397" y="5"/>
                    </a:lnTo>
                    <a:lnTo>
                      <a:pt x="395" y="4"/>
                    </a:lnTo>
                    <a:lnTo>
                      <a:pt x="393" y="4"/>
                    </a:lnTo>
                    <a:lnTo>
                      <a:pt x="392" y="4"/>
                    </a:lnTo>
                    <a:lnTo>
                      <a:pt x="390" y="5"/>
                    </a:lnTo>
                    <a:lnTo>
                      <a:pt x="389" y="6"/>
                    </a:lnTo>
                    <a:lnTo>
                      <a:pt x="389" y="7"/>
                    </a:lnTo>
                    <a:lnTo>
                      <a:pt x="355" y="7"/>
                    </a:lnTo>
                    <a:lnTo>
                      <a:pt x="355" y="6"/>
                    </a:lnTo>
                    <a:lnTo>
                      <a:pt x="354" y="5"/>
                    </a:lnTo>
                    <a:lnTo>
                      <a:pt x="352" y="4"/>
                    </a:lnTo>
                    <a:lnTo>
                      <a:pt x="351" y="4"/>
                    </a:lnTo>
                    <a:lnTo>
                      <a:pt x="349" y="4"/>
                    </a:lnTo>
                    <a:lnTo>
                      <a:pt x="347" y="5"/>
                    </a:lnTo>
                    <a:lnTo>
                      <a:pt x="347" y="6"/>
                    </a:lnTo>
                    <a:lnTo>
                      <a:pt x="346" y="7"/>
                    </a:lnTo>
                    <a:lnTo>
                      <a:pt x="342" y="7"/>
                    </a:lnTo>
                    <a:lnTo>
                      <a:pt x="341" y="5"/>
                    </a:lnTo>
                    <a:lnTo>
                      <a:pt x="340" y="4"/>
                    </a:lnTo>
                    <a:lnTo>
                      <a:pt x="339" y="2"/>
                    </a:lnTo>
                    <a:lnTo>
                      <a:pt x="337" y="1"/>
                    </a:lnTo>
                    <a:lnTo>
                      <a:pt x="335" y="1"/>
                    </a:lnTo>
                    <a:lnTo>
                      <a:pt x="333" y="1"/>
                    </a:lnTo>
                    <a:lnTo>
                      <a:pt x="331" y="1"/>
                    </a:lnTo>
                    <a:lnTo>
                      <a:pt x="329" y="2"/>
                    </a:lnTo>
                    <a:lnTo>
                      <a:pt x="327" y="4"/>
                    </a:lnTo>
                    <a:lnTo>
                      <a:pt x="326" y="5"/>
                    </a:lnTo>
                    <a:lnTo>
                      <a:pt x="326" y="7"/>
                    </a:lnTo>
                    <a:lnTo>
                      <a:pt x="301" y="7"/>
                    </a:lnTo>
                    <a:lnTo>
                      <a:pt x="301" y="5"/>
                    </a:lnTo>
                    <a:lnTo>
                      <a:pt x="300" y="4"/>
                    </a:lnTo>
                    <a:lnTo>
                      <a:pt x="298" y="3"/>
                    </a:lnTo>
                    <a:lnTo>
                      <a:pt x="297" y="2"/>
                    </a:lnTo>
                    <a:lnTo>
                      <a:pt x="295" y="1"/>
                    </a:lnTo>
                    <a:lnTo>
                      <a:pt x="293" y="1"/>
                    </a:lnTo>
                    <a:lnTo>
                      <a:pt x="291" y="2"/>
                    </a:lnTo>
                    <a:lnTo>
                      <a:pt x="289" y="3"/>
                    </a:lnTo>
                    <a:lnTo>
                      <a:pt x="287" y="4"/>
                    </a:lnTo>
                    <a:lnTo>
                      <a:pt x="287" y="5"/>
                    </a:lnTo>
                    <a:lnTo>
                      <a:pt x="286" y="7"/>
                    </a:lnTo>
                    <a:lnTo>
                      <a:pt x="213" y="7"/>
                    </a:lnTo>
                    <a:lnTo>
                      <a:pt x="213" y="6"/>
                    </a:lnTo>
                    <a:lnTo>
                      <a:pt x="212" y="5"/>
                    </a:lnTo>
                    <a:lnTo>
                      <a:pt x="210" y="4"/>
                    </a:lnTo>
                    <a:lnTo>
                      <a:pt x="209" y="4"/>
                    </a:lnTo>
                    <a:lnTo>
                      <a:pt x="207" y="4"/>
                    </a:lnTo>
                    <a:lnTo>
                      <a:pt x="205" y="5"/>
                    </a:lnTo>
                    <a:lnTo>
                      <a:pt x="204" y="6"/>
                    </a:lnTo>
                    <a:lnTo>
                      <a:pt x="204" y="7"/>
                    </a:lnTo>
                    <a:lnTo>
                      <a:pt x="184" y="7"/>
                    </a:lnTo>
                    <a:lnTo>
                      <a:pt x="184" y="6"/>
                    </a:lnTo>
                    <a:lnTo>
                      <a:pt x="183" y="5"/>
                    </a:lnTo>
                    <a:lnTo>
                      <a:pt x="181" y="4"/>
                    </a:lnTo>
                    <a:lnTo>
                      <a:pt x="180" y="4"/>
                    </a:lnTo>
                    <a:lnTo>
                      <a:pt x="178" y="4"/>
                    </a:lnTo>
                    <a:lnTo>
                      <a:pt x="177" y="5"/>
                    </a:lnTo>
                    <a:lnTo>
                      <a:pt x="176" y="6"/>
                    </a:lnTo>
                    <a:lnTo>
                      <a:pt x="175" y="7"/>
                    </a:lnTo>
                    <a:lnTo>
                      <a:pt x="166" y="7"/>
                    </a:lnTo>
                    <a:lnTo>
                      <a:pt x="166" y="6"/>
                    </a:lnTo>
                    <a:lnTo>
                      <a:pt x="165" y="5"/>
                    </a:lnTo>
                    <a:lnTo>
                      <a:pt x="163" y="4"/>
                    </a:lnTo>
                    <a:lnTo>
                      <a:pt x="162" y="4"/>
                    </a:lnTo>
                    <a:lnTo>
                      <a:pt x="160" y="4"/>
                    </a:lnTo>
                    <a:lnTo>
                      <a:pt x="158" y="5"/>
                    </a:lnTo>
                    <a:lnTo>
                      <a:pt x="157" y="6"/>
                    </a:lnTo>
                    <a:lnTo>
                      <a:pt x="157" y="7"/>
                    </a:lnTo>
                    <a:lnTo>
                      <a:pt x="104" y="7"/>
                    </a:lnTo>
                    <a:lnTo>
                      <a:pt x="104" y="6"/>
                    </a:lnTo>
                    <a:lnTo>
                      <a:pt x="103" y="5"/>
                    </a:lnTo>
                    <a:lnTo>
                      <a:pt x="102" y="4"/>
                    </a:lnTo>
                    <a:lnTo>
                      <a:pt x="100" y="4"/>
                    </a:lnTo>
                    <a:lnTo>
                      <a:pt x="98" y="4"/>
                    </a:lnTo>
                    <a:lnTo>
                      <a:pt x="97" y="5"/>
                    </a:lnTo>
                    <a:lnTo>
                      <a:pt x="96" y="6"/>
                    </a:lnTo>
                    <a:lnTo>
                      <a:pt x="95" y="7"/>
                    </a:lnTo>
                    <a:lnTo>
                      <a:pt x="51" y="7"/>
                    </a:lnTo>
                    <a:lnTo>
                      <a:pt x="51" y="6"/>
                    </a:lnTo>
                    <a:lnTo>
                      <a:pt x="50" y="5"/>
                    </a:lnTo>
                    <a:lnTo>
                      <a:pt x="48" y="4"/>
                    </a:lnTo>
                    <a:lnTo>
                      <a:pt x="47" y="4"/>
                    </a:lnTo>
                    <a:lnTo>
                      <a:pt x="45" y="4"/>
                    </a:lnTo>
                    <a:lnTo>
                      <a:pt x="44" y="5"/>
                    </a:lnTo>
                    <a:lnTo>
                      <a:pt x="42" y="6"/>
                    </a:lnTo>
                    <a:lnTo>
                      <a:pt x="42" y="7"/>
                    </a:lnTo>
                    <a:lnTo>
                      <a:pt x="0" y="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004000" y="4311000"/>
                <a:ext cx="8640" cy="7920"/>
              </a:xfrm>
              <a:custGeom>
                <a:avLst/>
                <a:gdLst/>
                <a:ahLst/>
                <a:rect l="l" t="t" r="r" b="b"/>
                <a:pathLst>
                  <a:path w="8" h="6">
                    <a:moveTo>
                      <a:pt x="7" y="6"/>
                    </a:moveTo>
                    <a:lnTo>
                      <a:pt x="0" y="3"/>
                    </a:lnTo>
                    <a:lnTo>
                      <a:pt x="7" y="0"/>
                    </a:lnTo>
                    <a:lnTo>
                      <a:pt x="8" y="2"/>
                    </a:lnTo>
                    <a:lnTo>
                      <a:pt x="8" y="3"/>
                    </a:lnTo>
                    <a:lnTo>
                      <a:pt x="8" y="4"/>
                    </a:lnTo>
                    <a:lnTo>
                      <a:pt x="7"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8" name=""/>
              <p:cNvSpPr/>
              <p:nvPr/>
            </p:nvSpPr>
            <p:spPr>
              <a:xfrm>
                <a:off x="5728320" y="2934000"/>
                <a:ext cx="247320" cy="507240"/>
              </a:xfrm>
              <a:custGeom>
                <a:avLst/>
                <a:gdLst/>
                <a:ahLst/>
                <a:rect l="l" t="t" r="r" b="b"/>
                <a:pathLst>
                  <a:path w="234" h="380">
                    <a:moveTo>
                      <a:pt x="0" y="380"/>
                    </a:moveTo>
                    <a:lnTo>
                      <a:pt x="0" y="374"/>
                    </a:lnTo>
                    <a:lnTo>
                      <a:pt x="75" y="374"/>
                    </a:lnTo>
                    <a:lnTo>
                      <a:pt x="76" y="372"/>
                    </a:lnTo>
                    <a:lnTo>
                      <a:pt x="76" y="371"/>
                    </a:lnTo>
                    <a:lnTo>
                      <a:pt x="78" y="371"/>
                    </a:lnTo>
                    <a:lnTo>
                      <a:pt x="80" y="370"/>
                    </a:lnTo>
                    <a:lnTo>
                      <a:pt x="81" y="371"/>
                    </a:lnTo>
                    <a:lnTo>
                      <a:pt x="83" y="371"/>
                    </a:lnTo>
                    <a:lnTo>
                      <a:pt x="84" y="372"/>
                    </a:lnTo>
                    <a:lnTo>
                      <a:pt x="84" y="374"/>
                    </a:lnTo>
                    <a:lnTo>
                      <a:pt x="86" y="374"/>
                    </a:lnTo>
                    <a:lnTo>
                      <a:pt x="87" y="372"/>
                    </a:lnTo>
                    <a:lnTo>
                      <a:pt x="88" y="371"/>
                    </a:lnTo>
                    <a:lnTo>
                      <a:pt x="89" y="371"/>
                    </a:lnTo>
                    <a:lnTo>
                      <a:pt x="91" y="370"/>
                    </a:lnTo>
                    <a:lnTo>
                      <a:pt x="92" y="371"/>
                    </a:lnTo>
                    <a:lnTo>
                      <a:pt x="94" y="371"/>
                    </a:lnTo>
                    <a:lnTo>
                      <a:pt x="95" y="372"/>
                    </a:lnTo>
                    <a:lnTo>
                      <a:pt x="95" y="374"/>
                    </a:lnTo>
                    <a:lnTo>
                      <a:pt x="97" y="374"/>
                    </a:lnTo>
                    <a:lnTo>
                      <a:pt x="97" y="372"/>
                    </a:lnTo>
                    <a:lnTo>
                      <a:pt x="98" y="371"/>
                    </a:lnTo>
                    <a:lnTo>
                      <a:pt x="100" y="371"/>
                    </a:lnTo>
                    <a:lnTo>
                      <a:pt x="101" y="370"/>
                    </a:lnTo>
                    <a:lnTo>
                      <a:pt x="103" y="371"/>
                    </a:lnTo>
                    <a:lnTo>
                      <a:pt x="105" y="371"/>
                    </a:lnTo>
                    <a:lnTo>
                      <a:pt x="106" y="372"/>
                    </a:lnTo>
                    <a:lnTo>
                      <a:pt x="106" y="374"/>
                    </a:lnTo>
                    <a:lnTo>
                      <a:pt x="110" y="374"/>
                    </a:lnTo>
                    <a:lnTo>
                      <a:pt x="110" y="372"/>
                    </a:lnTo>
                    <a:lnTo>
                      <a:pt x="111" y="370"/>
                    </a:lnTo>
                    <a:lnTo>
                      <a:pt x="112" y="369"/>
                    </a:lnTo>
                    <a:lnTo>
                      <a:pt x="114" y="368"/>
                    </a:lnTo>
                    <a:lnTo>
                      <a:pt x="116" y="367"/>
                    </a:lnTo>
                    <a:lnTo>
                      <a:pt x="119" y="367"/>
                    </a:lnTo>
                    <a:lnTo>
                      <a:pt x="121" y="367"/>
                    </a:lnTo>
                    <a:lnTo>
                      <a:pt x="123" y="368"/>
                    </a:lnTo>
                    <a:lnTo>
                      <a:pt x="125" y="369"/>
                    </a:lnTo>
                    <a:lnTo>
                      <a:pt x="126" y="370"/>
                    </a:lnTo>
                    <a:lnTo>
                      <a:pt x="127" y="372"/>
                    </a:lnTo>
                    <a:lnTo>
                      <a:pt x="128" y="374"/>
                    </a:lnTo>
                    <a:lnTo>
                      <a:pt x="139" y="374"/>
                    </a:lnTo>
                    <a:lnTo>
                      <a:pt x="139" y="372"/>
                    </a:lnTo>
                    <a:lnTo>
                      <a:pt x="140" y="371"/>
                    </a:lnTo>
                    <a:lnTo>
                      <a:pt x="141" y="371"/>
                    </a:lnTo>
                    <a:lnTo>
                      <a:pt x="143" y="370"/>
                    </a:lnTo>
                    <a:lnTo>
                      <a:pt x="145" y="371"/>
                    </a:lnTo>
                    <a:lnTo>
                      <a:pt x="146" y="371"/>
                    </a:lnTo>
                    <a:lnTo>
                      <a:pt x="147" y="372"/>
                    </a:lnTo>
                    <a:lnTo>
                      <a:pt x="148" y="374"/>
                    </a:lnTo>
                    <a:lnTo>
                      <a:pt x="155" y="374"/>
                    </a:lnTo>
                    <a:lnTo>
                      <a:pt x="156" y="372"/>
                    </a:lnTo>
                    <a:lnTo>
                      <a:pt x="157" y="370"/>
                    </a:lnTo>
                    <a:lnTo>
                      <a:pt x="158" y="369"/>
                    </a:lnTo>
                    <a:lnTo>
                      <a:pt x="160" y="368"/>
                    </a:lnTo>
                    <a:lnTo>
                      <a:pt x="163" y="367"/>
                    </a:lnTo>
                    <a:lnTo>
                      <a:pt x="165" y="367"/>
                    </a:lnTo>
                    <a:lnTo>
                      <a:pt x="167" y="368"/>
                    </a:lnTo>
                    <a:lnTo>
                      <a:pt x="169" y="369"/>
                    </a:lnTo>
                    <a:lnTo>
                      <a:pt x="171" y="370"/>
                    </a:lnTo>
                    <a:lnTo>
                      <a:pt x="172" y="372"/>
                    </a:lnTo>
                    <a:lnTo>
                      <a:pt x="172" y="374"/>
                    </a:lnTo>
                    <a:lnTo>
                      <a:pt x="174" y="374"/>
                    </a:lnTo>
                    <a:lnTo>
                      <a:pt x="174" y="372"/>
                    </a:lnTo>
                    <a:lnTo>
                      <a:pt x="175" y="371"/>
                    </a:lnTo>
                    <a:lnTo>
                      <a:pt x="177" y="371"/>
                    </a:lnTo>
                    <a:lnTo>
                      <a:pt x="179" y="370"/>
                    </a:lnTo>
                    <a:lnTo>
                      <a:pt x="180" y="371"/>
                    </a:lnTo>
                    <a:lnTo>
                      <a:pt x="182" y="371"/>
                    </a:lnTo>
                    <a:lnTo>
                      <a:pt x="183" y="372"/>
                    </a:lnTo>
                    <a:lnTo>
                      <a:pt x="183" y="374"/>
                    </a:lnTo>
                    <a:lnTo>
                      <a:pt x="196" y="374"/>
                    </a:lnTo>
                    <a:lnTo>
                      <a:pt x="196" y="372"/>
                    </a:lnTo>
                    <a:lnTo>
                      <a:pt x="197" y="371"/>
                    </a:lnTo>
                    <a:lnTo>
                      <a:pt x="199" y="371"/>
                    </a:lnTo>
                    <a:lnTo>
                      <a:pt x="201" y="370"/>
                    </a:lnTo>
                    <a:lnTo>
                      <a:pt x="202" y="371"/>
                    </a:lnTo>
                    <a:lnTo>
                      <a:pt x="204" y="371"/>
                    </a:lnTo>
                    <a:lnTo>
                      <a:pt x="205" y="372"/>
                    </a:lnTo>
                    <a:lnTo>
                      <a:pt x="205" y="374"/>
                    </a:lnTo>
                    <a:lnTo>
                      <a:pt x="214" y="374"/>
                    </a:lnTo>
                    <a:lnTo>
                      <a:pt x="214" y="372"/>
                    </a:lnTo>
                    <a:lnTo>
                      <a:pt x="215" y="371"/>
                    </a:lnTo>
                    <a:lnTo>
                      <a:pt x="217" y="371"/>
                    </a:lnTo>
                    <a:lnTo>
                      <a:pt x="219" y="370"/>
                    </a:lnTo>
                    <a:lnTo>
                      <a:pt x="220" y="371"/>
                    </a:lnTo>
                    <a:lnTo>
                      <a:pt x="222" y="371"/>
                    </a:lnTo>
                    <a:lnTo>
                      <a:pt x="223" y="372"/>
                    </a:lnTo>
                    <a:lnTo>
                      <a:pt x="223" y="374"/>
                    </a:lnTo>
                    <a:lnTo>
                      <a:pt x="234" y="374"/>
                    </a:lnTo>
                    <a:lnTo>
                      <a:pt x="23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721840" y="3440160"/>
                <a:ext cx="11520" cy="13320"/>
              </a:xfrm>
              <a:custGeom>
                <a:avLst/>
                <a:gdLst/>
                <a:ahLst/>
                <a:rect l="l" t="t" r="r" b="b"/>
                <a:pathLst>
                  <a:path w="11" h="10">
                    <a:moveTo>
                      <a:pt x="11" y="1"/>
                    </a:moveTo>
                    <a:lnTo>
                      <a:pt x="6" y="10"/>
                    </a:lnTo>
                    <a:lnTo>
                      <a:pt x="0" y="1"/>
                    </a:lnTo>
                    <a:lnTo>
                      <a:pt x="2" y="0"/>
                    </a:lnTo>
                    <a:lnTo>
                      <a:pt x="6"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90" name=""/>
              <p:cNvSpPr/>
              <p:nvPr/>
            </p:nvSpPr>
            <p:spPr>
              <a:xfrm>
                <a:off x="5969520" y="2921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91" name=""/>
              <p:cNvSpPr/>
              <p:nvPr/>
            </p:nvSpPr>
            <p:spPr>
              <a:xfrm>
                <a:off x="5608440" y="3584160"/>
                <a:ext cx="79200" cy="174960"/>
              </a:xfrm>
              <a:custGeom>
                <a:avLst/>
                <a:gdLst/>
                <a:ahLst/>
                <a:rect l="l" t="t" r="r" b="b"/>
                <a:pathLst>
                  <a:path w="75" h="131">
                    <a:moveTo>
                      <a:pt x="0" y="0"/>
                    </a:moveTo>
                    <a:lnTo>
                      <a:pt x="0" y="7"/>
                    </a:lnTo>
                    <a:lnTo>
                      <a:pt x="75" y="7"/>
                    </a:lnTo>
                    <a:lnTo>
                      <a:pt x="75" y="131"/>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602320" y="35722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93" name=""/>
              <p:cNvSpPr/>
              <p:nvPr/>
            </p:nvSpPr>
            <p:spPr>
              <a:xfrm>
                <a:off x="5681880" y="3757680"/>
                <a:ext cx="1224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994" name=""/>
              <p:cNvSpPr/>
              <p:nvPr/>
            </p:nvSpPr>
            <p:spPr>
              <a:xfrm>
                <a:off x="7278120" y="3151440"/>
                <a:ext cx="212760" cy="97200"/>
              </a:xfrm>
              <a:prstGeom prst="rect">
                <a:avLst/>
              </a:prstGeom>
              <a:blipFill rotWithShape="0">
                <a:blip r:embed="rId9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321320" y="316728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ISP</a:t>
                </a:r>
                <a:endParaRPr b="0" lang="en-US" sz="300" spc="-1" strike="noStrike">
                  <a:solidFill>
                    <a:srgbClr val="ffffff"/>
                  </a:solidFill>
                  <a:latin typeface="Arial"/>
                </a:endParaRPr>
              </a:p>
            </p:txBody>
          </p:sp>
          <p:sp>
            <p:nvSpPr>
              <p:cNvPr id="996" name=""/>
              <p:cNvSpPr/>
              <p:nvPr/>
            </p:nvSpPr>
            <p:spPr>
              <a:xfrm>
                <a:off x="7325280" y="3198240"/>
                <a:ext cx="159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racking</a:t>
                </a:r>
                <a:endParaRPr b="0" lang="en-US" sz="300" spc="-1" strike="noStrike">
                  <a:solidFill>
                    <a:srgbClr val="ffffff"/>
                  </a:solidFill>
                  <a:latin typeface="Arial"/>
                </a:endParaRPr>
              </a:p>
            </p:txBody>
          </p:sp>
          <p:sp>
            <p:nvSpPr>
              <p:cNvPr id="997" name=""/>
              <p:cNvSpPr/>
              <p:nvPr/>
            </p:nvSpPr>
            <p:spPr>
              <a:xfrm>
                <a:off x="7502400" y="2716200"/>
                <a:ext cx="331200" cy="499320"/>
              </a:xfrm>
              <a:custGeom>
                <a:avLst/>
                <a:gdLst/>
                <a:ahLst/>
                <a:rect l="l" t="t" r="r" b="b"/>
                <a:pathLst>
                  <a:path w="313" h="374">
                    <a:moveTo>
                      <a:pt x="0" y="374"/>
                    </a:moveTo>
                    <a:lnTo>
                      <a:pt x="40" y="374"/>
                    </a:lnTo>
                    <a:lnTo>
                      <a:pt x="40" y="373"/>
                    </a:lnTo>
                    <a:lnTo>
                      <a:pt x="41" y="372"/>
                    </a:lnTo>
                    <a:lnTo>
                      <a:pt x="43" y="371"/>
                    </a:lnTo>
                    <a:lnTo>
                      <a:pt x="44" y="371"/>
                    </a:lnTo>
                    <a:lnTo>
                      <a:pt x="46" y="371"/>
                    </a:lnTo>
                    <a:lnTo>
                      <a:pt x="47" y="372"/>
                    </a:lnTo>
                    <a:lnTo>
                      <a:pt x="48" y="373"/>
                    </a:lnTo>
                    <a:lnTo>
                      <a:pt x="49" y="374"/>
                    </a:lnTo>
                    <a:lnTo>
                      <a:pt x="53" y="374"/>
                    </a:lnTo>
                    <a:lnTo>
                      <a:pt x="54" y="373"/>
                    </a:lnTo>
                    <a:lnTo>
                      <a:pt x="55" y="372"/>
                    </a:lnTo>
                    <a:lnTo>
                      <a:pt x="56" y="371"/>
                    </a:lnTo>
                    <a:lnTo>
                      <a:pt x="58" y="371"/>
                    </a:lnTo>
                    <a:lnTo>
                      <a:pt x="59" y="371"/>
                    </a:lnTo>
                    <a:lnTo>
                      <a:pt x="61" y="372"/>
                    </a:lnTo>
                    <a:lnTo>
                      <a:pt x="62" y="373"/>
                    </a:lnTo>
                    <a:lnTo>
                      <a:pt x="62" y="374"/>
                    </a:lnTo>
                    <a:lnTo>
                      <a:pt x="67" y="374"/>
                    </a:lnTo>
                    <a:lnTo>
                      <a:pt x="67" y="373"/>
                    </a:lnTo>
                    <a:lnTo>
                      <a:pt x="68" y="372"/>
                    </a:lnTo>
                    <a:lnTo>
                      <a:pt x="70" y="371"/>
                    </a:lnTo>
                    <a:lnTo>
                      <a:pt x="71" y="371"/>
                    </a:lnTo>
                    <a:lnTo>
                      <a:pt x="73" y="371"/>
                    </a:lnTo>
                    <a:lnTo>
                      <a:pt x="74" y="372"/>
                    </a:lnTo>
                    <a:lnTo>
                      <a:pt x="76" y="373"/>
                    </a:lnTo>
                    <a:lnTo>
                      <a:pt x="76" y="374"/>
                    </a:lnTo>
                    <a:lnTo>
                      <a:pt x="131" y="374"/>
                    </a:lnTo>
                    <a:lnTo>
                      <a:pt x="131" y="373"/>
                    </a:lnTo>
                    <a:lnTo>
                      <a:pt x="132" y="372"/>
                    </a:lnTo>
                    <a:lnTo>
                      <a:pt x="134" y="371"/>
                    </a:lnTo>
                    <a:lnTo>
                      <a:pt x="135" y="371"/>
                    </a:lnTo>
                    <a:lnTo>
                      <a:pt x="137" y="371"/>
                    </a:lnTo>
                    <a:lnTo>
                      <a:pt x="139" y="372"/>
                    </a:lnTo>
                    <a:lnTo>
                      <a:pt x="140" y="373"/>
                    </a:lnTo>
                    <a:lnTo>
                      <a:pt x="140" y="374"/>
                    </a:lnTo>
                    <a:lnTo>
                      <a:pt x="170" y="374"/>
                    </a:lnTo>
                    <a:lnTo>
                      <a:pt x="170" y="373"/>
                    </a:lnTo>
                    <a:lnTo>
                      <a:pt x="171" y="372"/>
                    </a:lnTo>
                    <a:lnTo>
                      <a:pt x="173" y="371"/>
                    </a:lnTo>
                    <a:lnTo>
                      <a:pt x="174" y="371"/>
                    </a:lnTo>
                    <a:lnTo>
                      <a:pt x="176" y="371"/>
                    </a:lnTo>
                    <a:lnTo>
                      <a:pt x="177" y="372"/>
                    </a:lnTo>
                    <a:lnTo>
                      <a:pt x="178" y="373"/>
                    </a:lnTo>
                    <a:lnTo>
                      <a:pt x="179" y="374"/>
                    </a:lnTo>
                    <a:lnTo>
                      <a:pt x="182" y="374"/>
                    </a:lnTo>
                    <a:lnTo>
                      <a:pt x="182" y="373"/>
                    </a:lnTo>
                    <a:lnTo>
                      <a:pt x="183" y="372"/>
                    </a:lnTo>
                    <a:lnTo>
                      <a:pt x="184" y="371"/>
                    </a:lnTo>
                    <a:lnTo>
                      <a:pt x="186" y="371"/>
                    </a:lnTo>
                    <a:lnTo>
                      <a:pt x="188" y="371"/>
                    </a:lnTo>
                    <a:lnTo>
                      <a:pt x="189" y="372"/>
                    </a:lnTo>
                    <a:lnTo>
                      <a:pt x="190" y="373"/>
                    </a:lnTo>
                    <a:lnTo>
                      <a:pt x="191" y="374"/>
                    </a:lnTo>
                    <a:lnTo>
                      <a:pt x="227" y="374"/>
                    </a:lnTo>
                    <a:lnTo>
                      <a:pt x="228" y="373"/>
                    </a:lnTo>
                    <a:lnTo>
                      <a:pt x="229" y="372"/>
                    </a:lnTo>
                    <a:lnTo>
                      <a:pt x="230" y="371"/>
                    </a:lnTo>
                    <a:lnTo>
                      <a:pt x="232" y="371"/>
                    </a:lnTo>
                    <a:lnTo>
                      <a:pt x="234" y="371"/>
                    </a:lnTo>
                    <a:lnTo>
                      <a:pt x="235" y="372"/>
                    </a:lnTo>
                    <a:lnTo>
                      <a:pt x="236" y="373"/>
                    </a:lnTo>
                    <a:lnTo>
                      <a:pt x="236" y="374"/>
                    </a:lnTo>
                    <a:lnTo>
                      <a:pt x="240" y="374"/>
                    </a:lnTo>
                    <a:lnTo>
                      <a:pt x="240" y="65"/>
                    </a:lnTo>
                    <a:lnTo>
                      <a:pt x="313" y="65"/>
                    </a:lnTo>
                    <a:lnTo>
                      <a:pt x="31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7490880" y="3210120"/>
                <a:ext cx="13680" cy="11880"/>
              </a:xfrm>
              <a:custGeom>
                <a:avLst/>
                <a:gdLst/>
                <a:ahLst/>
                <a:rect l="l" t="t" r="r" b="b"/>
                <a:pathLst>
                  <a:path w="13" h="9">
                    <a:moveTo>
                      <a:pt x="11" y="9"/>
                    </a:moveTo>
                    <a:lnTo>
                      <a:pt x="0" y="4"/>
                    </a:lnTo>
                    <a:lnTo>
                      <a:pt x="11" y="0"/>
                    </a:lnTo>
                    <a:lnTo>
                      <a:pt x="12" y="2"/>
                    </a:lnTo>
                    <a:lnTo>
                      <a:pt x="13" y="4"/>
                    </a:lnTo>
                    <a:lnTo>
                      <a:pt x="12" y="7"/>
                    </a:lnTo>
                    <a:lnTo>
                      <a:pt x="11"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99" name=""/>
              <p:cNvSpPr/>
              <p:nvPr/>
            </p:nvSpPr>
            <p:spPr>
              <a:xfrm>
                <a:off x="6169680" y="2286000"/>
                <a:ext cx="1214280" cy="852120"/>
              </a:xfrm>
              <a:custGeom>
                <a:avLst/>
                <a:gdLst/>
                <a:ahLst/>
                <a:rect l="l" t="t" r="r" b="b"/>
                <a:pathLst>
                  <a:path w="1147" h="638">
                    <a:moveTo>
                      <a:pt x="1147" y="638"/>
                    </a:moveTo>
                    <a:lnTo>
                      <a:pt x="1147" y="465"/>
                    </a:lnTo>
                    <a:lnTo>
                      <a:pt x="1074" y="465"/>
                    </a:lnTo>
                    <a:lnTo>
                      <a:pt x="1074" y="22"/>
                    </a:lnTo>
                    <a:lnTo>
                      <a:pt x="1038" y="22"/>
                    </a:lnTo>
                    <a:lnTo>
                      <a:pt x="1037" y="21"/>
                    </a:lnTo>
                    <a:lnTo>
                      <a:pt x="1036" y="20"/>
                    </a:lnTo>
                    <a:lnTo>
                      <a:pt x="1035" y="19"/>
                    </a:lnTo>
                    <a:lnTo>
                      <a:pt x="1033" y="19"/>
                    </a:lnTo>
                    <a:lnTo>
                      <a:pt x="1031" y="19"/>
                    </a:lnTo>
                    <a:lnTo>
                      <a:pt x="1030" y="20"/>
                    </a:lnTo>
                    <a:lnTo>
                      <a:pt x="1029" y="21"/>
                    </a:lnTo>
                    <a:lnTo>
                      <a:pt x="1028" y="22"/>
                    </a:lnTo>
                    <a:lnTo>
                      <a:pt x="1010" y="22"/>
                    </a:lnTo>
                    <a:lnTo>
                      <a:pt x="1010" y="21"/>
                    </a:lnTo>
                    <a:lnTo>
                      <a:pt x="1009" y="20"/>
                    </a:lnTo>
                    <a:lnTo>
                      <a:pt x="1008" y="19"/>
                    </a:lnTo>
                    <a:lnTo>
                      <a:pt x="1006" y="19"/>
                    </a:lnTo>
                    <a:lnTo>
                      <a:pt x="1004" y="19"/>
                    </a:lnTo>
                    <a:lnTo>
                      <a:pt x="1003" y="20"/>
                    </a:lnTo>
                    <a:lnTo>
                      <a:pt x="1002" y="21"/>
                    </a:lnTo>
                    <a:lnTo>
                      <a:pt x="1001" y="22"/>
                    </a:lnTo>
                    <a:lnTo>
                      <a:pt x="990" y="22"/>
                    </a:lnTo>
                    <a:lnTo>
                      <a:pt x="989" y="21"/>
                    </a:lnTo>
                    <a:lnTo>
                      <a:pt x="989" y="20"/>
                    </a:lnTo>
                    <a:lnTo>
                      <a:pt x="987" y="19"/>
                    </a:lnTo>
                    <a:lnTo>
                      <a:pt x="985" y="19"/>
                    </a:lnTo>
                    <a:lnTo>
                      <a:pt x="984" y="19"/>
                    </a:lnTo>
                    <a:lnTo>
                      <a:pt x="982" y="20"/>
                    </a:lnTo>
                    <a:lnTo>
                      <a:pt x="981" y="21"/>
                    </a:lnTo>
                    <a:lnTo>
                      <a:pt x="981" y="22"/>
                    </a:lnTo>
                    <a:lnTo>
                      <a:pt x="968" y="22"/>
                    </a:lnTo>
                    <a:lnTo>
                      <a:pt x="967" y="21"/>
                    </a:lnTo>
                    <a:lnTo>
                      <a:pt x="967" y="20"/>
                    </a:lnTo>
                    <a:lnTo>
                      <a:pt x="965" y="19"/>
                    </a:lnTo>
                    <a:lnTo>
                      <a:pt x="963" y="19"/>
                    </a:lnTo>
                    <a:lnTo>
                      <a:pt x="962" y="19"/>
                    </a:lnTo>
                    <a:lnTo>
                      <a:pt x="960" y="20"/>
                    </a:lnTo>
                    <a:lnTo>
                      <a:pt x="959" y="21"/>
                    </a:lnTo>
                    <a:lnTo>
                      <a:pt x="959" y="22"/>
                    </a:lnTo>
                    <a:lnTo>
                      <a:pt x="942" y="22"/>
                    </a:lnTo>
                    <a:lnTo>
                      <a:pt x="942" y="21"/>
                    </a:lnTo>
                    <a:lnTo>
                      <a:pt x="941" y="20"/>
                    </a:lnTo>
                    <a:lnTo>
                      <a:pt x="939" y="19"/>
                    </a:lnTo>
                    <a:lnTo>
                      <a:pt x="938" y="19"/>
                    </a:lnTo>
                    <a:lnTo>
                      <a:pt x="936" y="19"/>
                    </a:lnTo>
                    <a:lnTo>
                      <a:pt x="934" y="20"/>
                    </a:lnTo>
                    <a:lnTo>
                      <a:pt x="933" y="21"/>
                    </a:lnTo>
                    <a:lnTo>
                      <a:pt x="933" y="22"/>
                    </a:lnTo>
                    <a:lnTo>
                      <a:pt x="914" y="22"/>
                    </a:lnTo>
                    <a:lnTo>
                      <a:pt x="914" y="21"/>
                    </a:lnTo>
                    <a:lnTo>
                      <a:pt x="913" y="20"/>
                    </a:lnTo>
                    <a:lnTo>
                      <a:pt x="912" y="19"/>
                    </a:lnTo>
                    <a:lnTo>
                      <a:pt x="910" y="19"/>
                    </a:lnTo>
                    <a:lnTo>
                      <a:pt x="908" y="19"/>
                    </a:lnTo>
                    <a:lnTo>
                      <a:pt x="907" y="20"/>
                    </a:lnTo>
                    <a:lnTo>
                      <a:pt x="906" y="21"/>
                    </a:lnTo>
                    <a:lnTo>
                      <a:pt x="905" y="22"/>
                    </a:lnTo>
                    <a:lnTo>
                      <a:pt x="890" y="22"/>
                    </a:lnTo>
                    <a:lnTo>
                      <a:pt x="890" y="21"/>
                    </a:lnTo>
                    <a:lnTo>
                      <a:pt x="889" y="20"/>
                    </a:lnTo>
                    <a:lnTo>
                      <a:pt x="887" y="19"/>
                    </a:lnTo>
                    <a:lnTo>
                      <a:pt x="886" y="19"/>
                    </a:lnTo>
                    <a:lnTo>
                      <a:pt x="884" y="19"/>
                    </a:lnTo>
                    <a:lnTo>
                      <a:pt x="882" y="20"/>
                    </a:lnTo>
                    <a:lnTo>
                      <a:pt x="882" y="21"/>
                    </a:lnTo>
                    <a:lnTo>
                      <a:pt x="881" y="22"/>
                    </a:lnTo>
                    <a:lnTo>
                      <a:pt x="601" y="22"/>
                    </a:lnTo>
                    <a:lnTo>
                      <a:pt x="600" y="21"/>
                    </a:lnTo>
                    <a:lnTo>
                      <a:pt x="599" y="20"/>
                    </a:lnTo>
                    <a:lnTo>
                      <a:pt x="598" y="19"/>
                    </a:lnTo>
                    <a:lnTo>
                      <a:pt x="596" y="19"/>
                    </a:lnTo>
                    <a:lnTo>
                      <a:pt x="595" y="19"/>
                    </a:lnTo>
                    <a:lnTo>
                      <a:pt x="593" y="20"/>
                    </a:lnTo>
                    <a:lnTo>
                      <a:pt x="592" y="21"/>
                    </a:lnTo>
                    <a:lnTo>
                      <a:pt x="592" y="22"/>
                    </a:lnTo>
                    <a:lnTo>
                      <a:pt x="578" y="22"/>
                    </a:lnTo>
                    <a:lnTo>
                      <a:pt x="578" y="21"/>
                    </a:lnTo>
                    <a:lnTo>
                      <a:pt x="577" y="20"/>
                    </a:lnTo>
                    <a:lnTo>
                      <a:pt x="575" y="19"/>
                    </a:lnTo>
                    <a:lnTo>
                      <a:pt x="574" y="19"/>
                    </a:lnTo>
                    <a:lnTo>
                      <a:pt x="572" y="19"/>
                    </a:lnTo>
                    <a:lnTo>
                      <a:pt x="571" y="20"/>
                    </a:lnTo>
                    <a:lnTo>
                      <a:pt x="570" y="21"/>
                    </a:lnTo>
                    <a:lnTo>
                      <a:pt x="569" y="22"/>
                    </a:lnTo>
                    <a:lnTo>
                      <a:pt x="548" y="22"/>
                    </a:lnTo>
                    <a:lnTo>
                      <a:pt x="548" y="21"/>
                    </a:lnTo>
                    <a:lnTo>
                      <a:pt x="546" y="20"/>
                    </a:lnTo>
                    <a:lnTo>
                      <a:pt x="545" y="19"/>
                    </a:lnTo>
                    <a:lnTo>
                      <a:pt x="543" y="19"/>
                    </a:lnTo>
                    <a:lnTo>
                      <a:pt x="542" y="19"/>
                    </a:lnTo>
                    <a:lnTo>
                      <a:pt x="540" y="20"/>
                    </a:lnTo>
                    <a:lnTo>
                      <a:pt x="539" y="21"/>
                    </a:lnTo>
                    <a:lnTo>
                      <a:pt x="539" y="22"/>
                    </a:lnTo>
                    <a:lnTo>
                      <a:pt x="483" y="22"/>
                    </a:lnTo>
                    <a:lnTo>
                      <a:pt x="483" y="21"/>
                    </a:lnTo>
                    <a:lnTo>
                      <a:pt x="482" y="20"/>
                    </a:lnTo>
                    <a:lnTo>
                      <a:pt x="481" y="19"/>
                    </a:lnTo>
                    <a:lnTo>
                      <a:pt x="479" y="19"/>
                    </a:lnTo>
                    <a:lnTo>
                      <a:pt x="477" y="19"/>
                    </a:lnTo>
                    <a:lnTo>
                      <a:pt x="476" y="20"/>
                    </a:lnTo>
                    <a:lnTo>
                      <a:pt x="475" y="21"/>
                    </a:lnTo>
                    <a:lnTo>
                      <a:pt x="474" y="22"/>
                    </a:lnTo>
                    <a:lnTo>
                      <a:pt x="462" y="22"/>
                    </a:lnTo>
                    <a:lnTo>
                      <a:pt x="461" y="21"/>
                    </a:lnTo>
                    <a:lnTo>
                      <a:pt x="460" y="20"/>
                    </a:lnTo>
                    <a:lnTo>
                      <a:pt x="459" y="19"/>
                    </a:lnTo>
                    <a:lnTo>
                      <a:pt x="457" y="19"/>
                    </a:lnTo>
                    <a:lnTo>
                      <a:pt x="456" y="19"/>
                    </a:lnTo>
                    <a:lnTo>
                      <a:pt x="454" y="20"/>
                    </a:lnTo>
                    <a:lnTo>
                      <a:pt x="453" y="21"/>
                    </a:lnTo>
                    <a:lnTo>
                      <a:pt x="453" y="22"/>
                    </a:lnTo>
                    <a:lnTo>
                      <a:pt x="441" y="22"/>
                    </a:lnTo>
                    <a:lnTo>
                      <a:pt x="441" y="21"/>
                    </a:lnTo>
                    <a:lnTo>
                      <a:pt x="440" y="20"/>
                    </a:lnTo>
                    <a:lnTo>
                      <a:pt x="439" y="19"/>
                    </a:lnTo>
                    <a:lnTo>
                      <a:pt x="437" y="19"/>
                    </a:lnTo>
                    <a:lnTo>
                      <a:pt x="435" y="19"/>
                    </a:lnTo>
                    <a:lnTo>
                      <a:pt x="434" y="20"/>
                    </a:lnTo>
                    <a:lnTo>
                      <a:pt x="433" y="21"/>
                    </a:lnTo>
                    <a:lnTo>
                      <a:pt x="432" y="22"/>
                    </a:lnTo>
                    <a:lnTo>
                      <a:pt x="417" y="22"/>
                    </a:lnTo>
                    <a:lnTo>
                      <a:pt x="417" y="21"/>
                    </a:lnTo>
                    <a:lnTo>
                      <a:pt x="416" y="20"/>
                    </a:lnTo>
                    <a:lnTo>
                      <a:pt x="414" y="19"/>
                    </a:lnTo>
                    <a:lnTo>
                      <a:pt x="413" y="19"/>
                    </a:lnTo>
                    <a:lnTo>
                      <a:pt x="411" y="19"/>
                    </a:lnTo>
                    <a:lnTo>
                      <a:pt x="409" y="20"/>
                    </a:lnTo>
                    <a:lnTo>
                      <a:pt x="409" y="21"/>
                    </a:lnTo>
                    <a:lnTo>
                      <a:pt x="408" y="22"/>
                    </a:lnTo>
                    <a:lnTo>
                      <a:pt x="317" y="22"/>
                    </a:lnTo>
                    <a:lnTo>
                      <a:pt x="317" y="21"/>
                    </a:lnTo>
                    <a:lnTo>
                      <a:pt x="316" y="20"/>
                    </a:lnTo>
                    <a:lnTo>
                      <a:pt x="315" y="19"/>
                    </a:lnTo>
                    <a:lnTo>
                      <a:pt x="313" y="19"/>
                    </a:lnTo>
                    <a:lnTo>
                      <a:pt x="311" y="19"/>
                    </a:lnTo>
                    <a:lnTo>
                      <a:pt x="310" y="20"/>
                    </a:lnTo>
                    <a:lnTo>
                      <a:pt x="309" y="21"/>
                    </a:lnTo>
                    <a:lnTo>
                      <a:pt x="308" y="22"/>
                    </a:lnTo>
                    <a:lnTo>
                      <a:pt x="268" y="22"/>
                    </a:lnTo>
                    <a:lnTo>
                      <a:pt x="268" y="3"/>
                    </a:lnTo>
                    <a:lnTo>
                      <a:pt x="175" y="3"/>
                    </a:lnTo>
                    <a:lnTo>
                      <a:pt x="174" y="2"/>
                    </a:lnTo>
                    <a:lnTo>
                      <a:pt x="173" y="1"/>
                    </a:lnTo>
                    <a:lnTo>
                      <a:pt x="172" y="0"/>
                    </a:lnTo>
                    <a:lnTo>
                      <a:pt x="170" y="0"/>
                    </a:lnTo>
                    <a:lnTo>
                      <a:pt x="168" y="0"/>
                    </a:lnTo>
                    <a:lnTo>
                      <a:pt x="167" y="1"/>
                    </a:lnTo>
                    <a:lnTo>
                      <a:pt x="166" y="2"/>
                    </a:lnTo>
                    <a:lnTo>
                      <a:pt x="166" y="3"/>
                    </a:lnTo>
                    <a:lnTo>
                      <a:pt x="132" y="3"/>
                    </a:lnTo>
                    <a:lnTo>
                      <a:pt x="132" y="2"/>
                    </a:lnTo>
                    <a:lnTo>
                      <a:pt x="131" y="1"/>
                    </a:lnTo>
                    <a:lnTo>
                      <a:pt x="130" y="0"/>
                    </a:lnTo>
                    <a:lnTo>
                      <a:pt x="128" y="0"/>
                    </a:lnTo>
                    <a:lnTo>
                      <a:pt x="126" y="0"/>
                    </a:lnTo>
                    <a:lnTo>
                      <a:pt x="125" y="1"/>
                    </a:lnTo>
                    <a:lnTo>
                      <a:pt x="124" y="2"/>
                    </a:lnTo>
                    <a:lnTo>
                      <a:pt x="123" y="3"/>
                    </a:lnTo>
                    <a:lnTo>
                      <a:pt x="95" y="3"/>
                    </a:lnTo>
                    <a:lnTo>
                      <a:pt x="94" y="2"/>
                    </a:lnTo>
                    <a:lnTo>
                      <a:pt x="94" y="1"/>
                    </a:lnTo>
                    <a:lnTo>
                      <a:pt x="92" y="0"/>
                    </a:lnTo>
                    <a:lnTo>
                      <a:pt x="90" y="0"/>
                    </a:lnTo>
                    <a:lnTo>
                      <a:pt x="89" y="0"/>
                    </a:lnTo>
                    <a:lnTo>
                      <a:pt x="87" y="1"/>
                    </a:lnTo>
                    <a:lnTo>
                      <a:pt x="86" y="2"/>
                    </a:lnTo>
                    <a:lnTo>
                      <a:pt x="86" y="3"/>
                    </a:lnTo>
                    <a:lnTo>
                      <a:pt x="61" y="3"/>
                    </a:lnTo>
                    <a:lnTo>
                      <a:pt x="61" y="2"/>
                    </a:lnTo>
                    <a:lnTo>
                      <a:pt x="60" y="1"/>
                    </a:lnTo>
                    <a:lnTo>
                      <a:pt x="59" y="0"/>
                    </a:lnTo>
                    <a:lnTo>
                      <a:pt x="57" y="0"/>
                    </a:lnTo>
                    <a:lnTo>
                      <a:pt x="55" y="0"/>
                    </a:lnTo>
                    <a:lnTo>
                      <a:pt x="54" y="1"/>
                    </a:lnTo>
                    <a:lnTo>
                      <a:pt x="53" y="2"/>
                    </a:lnTo>
                    <a:lnTo>
                      <a:pt x="52" y="3"/>
                    </a:lnTo>
                    <a:lnTo>
                      <a:pt x="45" y="3"/>
                    </a:lnTo>
                    <a:lnTo>
                      <a:pt x="44" y="2"/>
                    </a:lnTo>
                    <a:lnTo>
                      <a:pt x="43" y="1"/>
                    </a:lnTo>
                    <a:lnTo>
                      <a:pt x="42" y="0"/>
                    </a:lnTo>
                    <a:lnTo>
                      <a:pt x="40" y="0"/>
                    </a:lnTo>
                    <a:lnTo>
                      <a:pt x="38" y="0"/>
                    </a:lnTo>
                    <a:lnTo>
                      <a:pt x="37" y="1"/>
                    </a:lnTo>
                    <a:lnTo>
                      <a:pt x="36" y="2"/>
                    </a:lnTo>
                    <a:lnTo>
                      <a:pt x="36" y="3"/>
                    </a:lnTo>
                    <a:lnTo>
                      <a:pt x="24" y="3"/>
                    </a:lnTo>
                    <a:lnTo>
                      <a:pt x="24" y="2"/>
                    </a:lnTo>
                    <a:lnTo>
                      <a:pt x="23" y="1"/>
                    </a:lnTo>
                    <a:lnTo>
                      <a:pt x="22" y="0"/>
                    </a:lnTo>
                    <a:lnTo>
                      <a:pt x="20" y="0"/>
                    </a:lnTo>
                    <a:lnTo>
                      <a:pt x="18" y="0"/>
                    </a:lnTo>
                    <a:lnTo>
                      <a:pt x="17" y="1"/>
                    </a:lnTo>
                    <a:lnTo>
                      <a:pt x="16" y="2"/>
                    </a:lnTo>
                    <a:lnTo>
                      <a:pt x="15" y="3"/>
                    </a:lnTo>
                    <a:lnTo>
                      <a:pt x="0" y="3"/>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377480" y="313668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1" name=""/>
              <p:cNvSpPr/>
              <p:nvPr/>
            </p:nvSpPr>
            <p:spPr>
              <a:xfrm>
                <a:off x="6004440" y="2320920"/>
                <a:ext cx="1598400" cy="344160"/>
              </a:xfrm>
              <a:custGeom>
                <a:avLst/>
                <a:gdLst/>
                <a:ahLst/>
                <a:rect l="l" t="t" r="r" b="b"/>
                <a:pathLst>
                  <a:path w="1510" h="258">
                    <a:moveTo>
                      <a:pt x="1510" y="258"/>
                    </a:moveTo>
                    <a:lnTo>
                      <a:pt x="1501" y="258"/>
                    </a:lnTo>
                    <a:lnTo>
                      <a:pt x="1501" y="256"/>
                    </a:lnTo>
                    <a:lnTo>
                      <a:pt x="1500" y="255"/>
                    </a:lnTo>
                    <a:lnTo>
                      <a:pt x="1498" y="254"/>
                    </a:lnTo>
                    <a:lnTo>
                      <a:pt x="1497" y="254"/>
                    </a:lnTo>
                    <a:lnTo>
                      <a:pt x="1495" y="254"/>
                    </a:lnTo>
                    <a:lnTo>
                      <a:pt x="1494" y="255"/>
                    </a:lnTo>
                    <a:lnTo>
                      <a:pt x="1493" y="256"/>
                    </a:lnTo>
                    <a:lnTo>
                      <a:pt x="1492" y="258"/>
                    </a:lnTo>
                    <a:lnTo>
                      <a:pt x="1464" y="258"/>
                    </a:lnTo>
                    <a:lnTo>
                      <a:pt x="1463" y="256"/>
                    </a:lnTo>
                    <a:lnTo>
                      <a:pt x="1462" y="255"/>
                    </a:lnTo>
                    <a:lnTo>
                      <a:pt x="1461" y="254"/>
                    </a:lnTo>
                    <a:lnTo>
                      <a:pt x="1459" y="254"/>
                    </a:lnTo>
                    <a:lnTo>
                      <a:pt x="1458" y="254"/>
                    </a:lnTo>
                    <a:lnTo>
                      <a:pt x="1456" y="255"/>
                    </a:lnTo>
                    <a:lnTo>
                      <a:pt x="1455" y="256"/>
                    </a:lnTo>
                    <a:lnTo>
                      <a:pt x="1455" y="258"/>
                    </a:lnTo>
                    <a:lnTo>
                      <a:pt x="1452" y="258"/>
                    </a:lnTo>
                    <a:lnTo>
                      <a:pt x="1451" y="256"/>
                    </a:lnTo>
                    <a:lnTo>
                      <a:pt x="1451" y="255"/>
                    </a:lnTo>
                    <a:lnTo>
                      <a:pt x="1449" y="254"/>
                    </a:lnTo>
                    <a:lnTo>
                      <a:pt x="1447" y="254"/>
                    </a:lnTo>
                    <a:lnTo>
                      <a:pt x="1446" y="254"/>
                    </a:lnTo>
                    <a:lnTo>
                      <a:pt x="1444" y="255"/>
                    </a:lnTo>
                    <a:lnTo>
                      <a:pt x="1443" y="256"/>
                    </a:lnTo>
                    <a:lnTo>
                      <a:pt x="1443" y="258"/>
                    </a:lnTo>
                    <a:lnTo>
                      <a:pt x="1329" y="258"/>
                    </a:lnTo>
                    <a:lnTo>
                      <a:pt x="1328" y="256"/>
                    </a:lnTo>
                    <a:lnTo>
                      <a:pt x="1327" y="255"/>
                    </a:lnTo>
                    <a:lnTo>
                      <a:pt x="1326" y="254"/>
                    </a:lnTo>
                    <a:lnTo>
                      <a:pt x="1324" y="254"/>
                    </a:lnTo>
                    <a:lnTo>
                      <a:pt x="1322" y="254"/>
                    </a:lnTo>
                    <a:lnTo>
                      <a:pt x="1321" y="255"/>
                    </a:lnTo>
                    <a:lnTo>
                      <a:pt x="1320" y="256"/>
                    </a:lnTo>
                    <a:lnTo>
                      <a:pt x="1320" y="258"/>
                    </a:lnTo>
                    <a:lnTo>
                      <a:pt x="1268" y="258"/>
                    </a:lnTo>
                    <a:lnTo>
                      <a:pt x="1268" y="256"/>
                    </a:lnTo>
                    <a:lnTo>
                      <a:pt x="1266" y="255"/>
                    </a:lnTo>
                    <a:lnTo>
                      <a:pt x="1265" y="254"/>
                    </a:lnTo>
                    <a:lnTo>
                      <a:pt x="1263" y="254"/>
                    </a:lnTo>
                    <a:lnTo>
                      <a:pt x="1262" y="254"/>
                    </a:lnTo>
                    <a:lnTo>
                      <a:pt x="1260" y="255"/>
                    </a:lnTo>
                    <a:lnTo>
                      <a:pt x="1259" y="256"/>
                    </a:lnTo>
                    <a:lnTo>
                      <a:pt x="1259" y="258"/>
                    </a:lnTo>
                    <a:lnTo>
                      <a:pt x="1234" y="258"/>
                    </a:lnTo>
                    <a:lnTo>
                      <a:pt x="1234" y="256"/>
                    </a:lnTo>
                    <a:lnTo>
                      <a:pt x="1233" y="255"/>
                    </a:lnTo>
                    <a:lnTo>
                      <a:pt x="1231" y="254"/>
                    </a:lnTo>
                    <a:lnTo>
                      <a:pt x="1230" y="254"/>
                    </a:lnTo>
                    <a:lnTo>
                      <a:pt x="1228" y="254"/>
                    </a:lnTo>
                    <a:lnTo>
                      <a:pt x="1226" y="255"/>
                    </a:lnTo>
                    <a:lnTo>
                      <a:pt x="1225" y="256"/>
                    </a:lnTo>
                    <a:lnTo>
                      <a:pt x="1225" y="258"/>
                    </a:lnTo>
                    <a:lnTo>
                      <a:pt x="1194" y="258"/>
                    </a:lnTo>
                    <a:lnTo>
                      <a:pt x="1193" y="256"/>
                    </a:lnTo>
                    <a:lnTo>
                      <a:pt x="1192" y="255"/>
                    </a:lnTo>
                    <a:lnTo>
                      <a:pt x="1191" y="254"/>
                    </a:lnTo>
                    <a:lnTo>
                      <a:pt x="1189" y="254"/>
                    </a:lnTo>
                    <a:lnTo>
                      <a:pt x="1187" y="254"/>
                    </a:lnTo>
                    <a:lnTo>
                      <a:pt x="1186" y="255"/>
                    </a:lnTo>
                    <a:lnTo>
                      <a:pt x="1185" y="256"/>
                    </a:lnTo>
                    <a:lnTo>
                      <a:pt x="1184" y="258"/>
                    </a:lnTo>
                    <a:lnTo>
                      <a:pt x="1180" y="258"/>
                    </a:lnTo>
                    <a:lnTo>
                      <a:pt x="1180" y="256"/>
                    </a:lnTo>
                    <a:lnTo>
                      <a:pt x="1179" y="255"/>
                    </a:lnTo>
                    <a:lnTo>
                      <a:pt x="1177" y="254"/>
                    </a:lnTo>
                    <a:lnTo>
                      <a:pt x="1175" y="254"/>
                    </a:lnTo>
                    <a:lnTo>
                      <a:pt x="1174" y="254"/>
                    </a:lnTo>
                    <a:lnTo>
                      <a:pt x="1172" y="255"/>
                    </a:lnTo>
                    <a:lnTo>
                      <a:pt x="1171" y="256"/>
                    </a:lnTo>
                    <a:lnTo>
                      <a:pt x="1171" y="258"/>
                    </a:lnTo>
                    <a:lnTo>
                      <a:pt x="1166" y="258"/>
                    </a:lnTo>
                    <a:lnTo>
                      <a:pt x="1166" y="256"/>
                    </a:lnTo>
                    <a:lnTo>
                      <a:pt x="1165" y="255"/>
                    </a:lnTo>
                    <a:lnTo>
                      <a:pt x="1164" y="254"/>
                    </a:lnTo>
                    <a:lnTo>
                      <a:pt x="1162" y="254"/>
                    </a:lnTo>
                    <a:lnTo>
                      <a:pt x="1160" y="254"/>
                    </a:lnTo>
                    <a:lnTo>
                      <a:pt x="1159" y="255"/>
                    </a:lnTo>
                    <a:lnTo>
                      <a:pt x="1158" y="256"/>
                    </a:lnTo>
                    <a:lnTo>
                      <a:pt x="1157" y="258"/>
                    </a:lnTo>
                    <a:lnTo>
                      <a:pt x="1146" y="258"/>
                    </a:lnTo>
                    <a:lnTo>
                      <a:pt x="1145" y="256"/>
                    </a:lnTo>
                    <a:lnTo>
                      <a:pt x="1145" y="255"/>
                    </a:lnTo>
                    <a:lnTo>
                      <a:pt x="1143" y="254"/>
                    </a:lnTo>
                    <a:lnTo>
                      <a:pt x="1141" y="254"/>
                    </a:lnTo>
                    <a:lnTo>
                      <a:pt x="1139" y="254"/>
                    </a:lnTo>
                    <a:lnTo>
                      <a:pt x="1138" y="255"/>
                    </a:lnTo>
                    <a:lnTo>
                      <a:pt x="1137" y="256"/>
                    </a:lnTo>
                    <a:lnTo>
                      <a:pt x="1137" y="258"/>
                    </a:lnTo>
                    <a:lnTo>
                      <a:pt x="1124" y="258"/>
                    </a:lnTo>
                    <a:lnTo>
                      <a:pt x="1123" y="256"/>
                    </a:lnTo>
                    <a:lnTo>
                      <a:pt x="1123" y="255"/>
                    </a:lnTo>
                    <a:lnTo>
                      <a:pt x="1121" y="254"/>
                    </a:lnTo>
                    <a:lnTo>
                      <a:pt x="1119" y="254"/>
                    </a:lnTo>
                    <a:lnTo>
                      <a:pt x="1118" y="254"/>
                    </a:lnTo>
                    <a:lnTo>
                      <a:pt x="1116" y="255"/>
                    </a:lnTo>
                    <a:lnTo>
                      <a:pt x="1115" y="256"/>
                    </a:lnTo>
                    <a:lnTo>
                      <a:pt x="1115" y="258"/>
                    </a:lnTo>
                    <a:lnTo>
                      <a:pt x="1098" y="258"/>
                    </a:lnTo>
                    <a:lnTo>
                      <a:pt x="1097" y="256"/>
                    </a:lnTo>
                    <a:lnTo>
                      <a:pt x="1097" y="255"/>
                    </a:lnTo>
                    <a:lnTo>
                      <a:pt x="1095" y="254"/>
                    </a:lnTo>
                    <a:lnTo>
                      <a:pt x="1093" y="254"/>
                    </a:lnTo>
                    <a:lnTo>
                      <a:pt x="1092" y="254"/>
                    </a:lnTo>
                    <a:lnTo>
                      <a:pt x="1090" y="255"/>
                    </a:lnTo>
                    <a:lnTo>
                      <a:pt x="1089" y="256"/>
                    </a:lnTo>
                    <a:lnTo>
                      <a:pt x="1089" y="258"/>
                    </a:lnTo>
                    <a:lnTo>
                      <a:pt x="1074" y="258"/>
                    </a:lnTo>
                    <a:lnTo>
                      <a:pt x="1074" y="92"/>
                    </a:lnTo>
                    <a:lnTo>
                      <a:pt x="1046" y="92"/>
                    </a:lnTo>
                    <a:lnTo>
                      <a:pt x="1046" y="90"/>
                    </a:lnTo>
                    <a:lnTo>
                      <a:pt x="1045" y="89"/>
                    </a:lnTo>
                    <a:lnTo>
                      <a:pt x="1043" y="88"/>
                    </a:lnTo>
                    <a:lnTo>
                      <a:pt x="1042" y="88"/>
                    </a:lnTo>
                    <a:lnTo>
                      <a:pt x="1040" y="88"/>
                    </a:lnTo>
                    <a:lnTo>
                      <a:pt x="1038" y="89"/>
                    </a:lnTo>
                    <a:lnTo>
                      <a:pt x="1038" y="90"/>
                    </a:lnTo>
                    <a:lnTo>
                      <a:pt x="1037" y="92"/>
                    </a:lnTo>
                    <a:lnTo>
                      <a:pt x="1004" y="92"/>
                    </a:lnTo>
                    <a:lnTo>
                      <a:pt x="1004" y="90"/>
                    </a:lnTo>
                    <a:lnTo>
                      <a:pt x="1003" y="89"/>
                    </a:lnTo>
                    <a:lnTo>
                      <a:pt x="1001" y="88"/>
                    </a:lnTo>
                    <a:lnTo>
                      <a:pt x="1000" y="88"/>
                    </a:lnTo>
                    <a:lnTo>
                      <a:pt x="998" y="88"/>
                    </a:lnTo>
                    <a:lnTo>
                      <a:pt x="996" y="89"/>
                    </a:lnTo>
                    <a:lnTo>
                      <a:pt x="995" y="90"/>
                    </a:lnTo>
                    <a:lnTo>
                      <a:pt x="995" y="92"/>
                    </a:lnTo>
                    <a:lnTo>
                      <a:pt x="757" y="92"/>
                    </a:lnTo>
                    <a:lnTo>
                      <a:pt x="756" y="90"/>
                    </a:lnTo>
                    <a:lnTo>
                      <a:pt x="755" y="89"/>
                    </a:lnTo>
                    <a:lnTo>
                      <a:pt x="754" y="88"/>
                    </a:lnTo>
                    <a:lnTo>
                      <a:pt x="752" y="88"/>
                    </a:lnTo>
                    <a:lnTo>
                      <a:pt x="751" y="88"/>
                    </a:lnTo>
                    <a:lnTo>
                      <a:pt x="749" y="89"/>
                    </a:lnTo>
                    <a:lnTo>
                      <a:pt x="748" y="90"/>
                    </a:lnTo>
                    <a:lnTo>
                      <a:pt x="748" y="92"/>
                    </a:lnTo>
                    <a:lnTo>
                      <a:pt x="734" y="92"/>
                    </a:lnTo>
                    <a:lnTo>
                      <a:pt x="734" y="90"/>
                    </a:lnTo>
                    <a:lnTo>
                      <a:pt x="733" y="89"/>
                    </a:lnTo>
                    <a:lnTo>
                      <a:pt x="731" y="88"/>
                    </a:lnTo>
                    <a:lnTo>
                      <a:pt x="730" y="88"/>
                    </a:lnTo>
                    <a:lnTo>
                      <a:pt x="728" y="88"/>
                    </a:lnTo>
                    <a:lnTo>
                      <a:pt x="727" y="89"/>
                    </a:lnTo>
                    <a:lnTo>
                      <a:pt x="726" y="90"/>
                    </a:lnTo>
                    <a:lnTo>
                      <a:pt x="725" y="92"/>
                    </a:lnTo>
                    <a:lnTo>
                      <a:pt x="704" y="92"/>
                    </a:lnTo>
                    <a:lnTo>
                      <a:pt x="704" y="90"/>
                    </a:lnTo>
                    <a:lnTo>
                      <a:pt x="702" y="89"/>
                    </a:lnTo>
                    <a:lnTo>
                      <a:pt x="701" y="88"/>
                    </a:lnTo>
                    <a:lnTo>
                      <a:pt x="699" y="88"/>
                    </a:lnTo>
                    <a:lnTo>
                      <a:pt x="698" y="88"/>
                    </a:lnTo>
                    <a:lnTo>
                      <a:pt x="696" y="89"/>
                    </a:lnTo>
                    <a:lnTo>
                      <a:pt x="695" y="90"/>
                    </a:lnTo>
                    <a:lnTo>
                      <a:pt x="695" y="92"/>
                    </a:lnTo>
                    <a:lnTo>
                      <a:pt x="683" y="92"/>
                    </a:lnTo>
                    <a:lnTo>
                      <a:pt x="682" y="90"/>
                    </a:lnTo>
                    <a:lnTo>
                      <a:pt x="681" y="89"/>
                    </a:lnTo>
                    <a:lnTo>
                      <a:pt x="680" y="88"/>
                    </a:lnTo>
                    <a:lnTo>
                      <a:pt x="678" y="88"/>
                    </a:lnTo>
                    <a:lnTo>
                      <a:pt x="676" y="88"/>
                    </a:lnTo>
                    <a:lnTo>
                      <a:pt x="675" y="89"/>
                    </a:lnTo>
                    <a:lnTo>
                      <a:pt x="674" y="90"/>
                    </a:lnTo>
                    <a:lnTo>
                      <a:pt x="673" y="92"/>
                    </a:lnTo>
                    <a:lnTo>
                      <a:pt x="639" y="92"/>
                    </a:lnTo>
                    <a:lnTo>
                      <a:pt x="639" y="90"/>
                    </a:lnTo>
                    <a:lnTo>
                      <a:pt x="638" y="89"/>
                    </a:lnTo>
                    <a:lnTo>
                      <a:pt x="637" y="88"/>
                    </a:lnTo>
                    <a:lnTo>
                      <a:pt x="635" y="88"/>
                    </a:lnTo>
                    <a:lnTo>
                      <a:pt x="633" y="88"/>
                    </a:lnTo>
                    <a:lnTo>
                      <a:pt x="632" y="89"/>
                    </a:lnTo>
                    <a:lnTo>
                      <a:pt x="631" y="90"/>
                    </a:lnTo>
                    <a:lnTo>
                      <a:pt x="630" y="92"/>
                    </a:lnTo>
                    <a:lnTo>
                      <a:pt x="618" y="92"/>
                    </a:lnTo>
                    <a:lnTo>
                      <a:pt x="617" y="90"/>
                    </a:lnTo>
                    <a:lnTo>
                      <a:pt x="616" y="89"/>
                    </a:lnTo>
                    <a:lnTo>
                      <a:pt x="615" y="88"/>
                    </a:lnTo>
                    <a:lnTo>
                      <a:pt x="613" y="88"/>
                    </a:lnTo>
                    <a:lnTo>
                      <a:pt x="612" y="88"/>
                    </a:lnTo>
                    <a:lnTo>
                      <a:pt x="610" y="89"/>
                    </a:lnTo>
                    <a:lnTo>
                      <a:pt x="609" y="90"/>
                    </a:lnTo>
                    <a:lnTo>
                      <a:pt x="609" y="92"/>
                    </a:lnTo>
                    <a:lnTo>
                      <a:pt x="573" y="92"/>
                    </a:lnTo>
                    <a:lnTo>
                      <a:pt x="573" y="90"/>
                    </a:lnTo>
                    <a:lnTo>
                      <a:pt x="572" y="89"/>
                    </a:lnTo>
                    <a:lnTo>
                      <a:pt x="570" y="88"/>
                    </a:lnTo>
                    <a:lnTo>
                      <a:pt x="569" y="88"/>
                    </a:lnTo>
                    <a:lnTo>
                      <a:pt x="567" y="88"/>
                    </a:lnTo>
                    <a:lnTo>
                      <a:pt x="565" y="89"/>
                    </a:lnTo>
                    <a:lnTo>
                      <a:pt x="565" y="90"/>
                    </a:lnTo>
                    <a:lnTo>
                      <a:pt x="564" y="92"/>
                    </a:lnTo>
                    <a:lnTo>
                      <a:pt x="551" y="92"/>
                    </a:lnTo>
                    <a:lnTo>
                      <a:pt x="551" y="90"/>
                    </a:lnTo>
                    <a:lnTo>
                      <a:pt x="550" y="89"/>
                    </a:lnTo>
                    <a:lnTo>
                      <a:pt x="549" y="88"/>
                    </a:lnTo>
                    <a:lnTo>
                      <a:pt x="547" y="88"/>
                    </a:lnTo>
                    <a:lnTo>
                      <a:pt x="545" y="88"/>
                    </a:lnTo>
                    <a:lnTo>
                      <a:pt x="544" y="89"/>
                    </a:lnTo>
                    <a:lnTo>
                      <a:pt x="543" y="90"/>
                    </a:lnTo>
                    <a:lnTo>
                      <a:pt x="542" y="92"/>
                    </a:lnTo>
                    <a:lnTo>
                      <a:pt x="473" y="92"/>
                    </a:lnTo>
                    <a:lnTo>
                      <a:pt x="473" y="90"/>
                    </a:lnTo>
                    <a:lnTo>
                      <a:pt x="472" y="89"/>
                    </a:lnTo>
                    <a:lnTo>
                      <a:pt x="471" y="88"/>
                    </a:lnTo>
                    <a:lnTo>
                      <a:pt x="469" y="88"/>
                    </a:lnTo>
                    <a:lnTo>
                      <a:pt x="467" y="88"/>
                    </a:lnTo>
                    <a:lnTo>
                      <a:pt x="466" y="89"/>
                    </a:lnTo>
                    <a:lnTo>
                      <a:pt x="465" y="90"/>
                    </a:lnTo>
                    <a:lnTo>
                      <a:pt x="464" y="92"/>
                    </a:lnTo>
                    <a:lnTo>
                      <a:pt x="404" y="92"/>
                    </a:lnTo>
                    <a:lnTo>
                      <a:pt x="403" y="90"/>
                    </a:lnTo>
                    <a:lnTo>
                      <a:pt x="402" y="89"/>
                    </a:lnTo>
                    <a:lnTo>
                      <a:pt x="401" y="88"/>
                    </a:lnTo>
                    <a:lnTo>
                      <a:pt x="399" y="88"/>
                    </a:lnTo>
                    <a:lnTo>
                      <a:pt x="398" y="88"/>
                    </a:lnTo>
                    <a:lnTo>
                      <a:pt x="396" y="89"/>
                    </a:lnTo>
                    <a:lnTo>
                      <a:pt x="395" y="90"/>
                    </a:lnTo>
                    <a:lnTo>
                      <a:pt x="395" y="92"/>
                    </a:lnTo>
                    <a:lnTo>
                      <a:pt x="334" y="92"/>
                    </a:lnTo>
                    <a:lnTo>
                      <a:pt x="334" y="90"/>
                    </a:lnTo>
                    <a:lnTo>
                      <a:pt x="333" y="89"/>
                    </a:lnTo>
                    <a:lnTo>
                      <a:pt x="331" y="88"/>
                    </a:lnTo>
                    <a:lnTo>
                      <a:pt x="330" y="88"/>
                    </a:lnTo>
                    <a:lnTo>
                      <a:pt x="328" y="88"/>
                    </a:lnTo>
                    <a:lnTo>
                      <a:pt x="327" y="89"/>
                    </a:lnTo>
                    <a:lnTo>
                      <a:pt x="326" y="90"/>
                    </a:lnTo>
                    <a:lnTo>
                      <a:pt x="325" y="92"/>
                    </a:lnTo>
                    <a:lnTo>
                      <a:pt x="251" y="92"/>
                    </a:lnTo>
                    <a:lnTo>
                      <a:pt x="250" y="90"/>
                    </a:lnTo>
                    <a:lnTo>
                      <a:pt x="250" y="89"/>
                    </a:lnTo>
                    <a:lnTo>
                      <a:pt x="248" y="88"/>
                    </a:lnTo>
                    <a:lnTo>
                      <a:pt x="246" y="88"/>
                    </a:lnTo>
                    <a:lnTo>
                      <a:pt x="245" y="88"/>
                    </a:lnTo>
                    <a:lnTo>
                      <a:pt x="243" y="89"/>
                    </a:lnTo>
                    <a:lnTo>
                      <a:pt x="242" y="90"/>
                    </a:lnTo>
                    <a:lnTo>
                      <a:pt x="242" y="92"/>
                    </a:lnTo>
                    <a:lnTo>
                      <a:pt x="201" y="92"/>
                    </a:lnTo>
                    <a:lnTo>
                      <a:pt x="200" y="90"/>
                    </a:lnTo>
                    <a:lnTo>
                      <a:pt x="199" y="88"/>
                    </a:lnTo>
                    <a:lnTo>
                      <a:pt x="198" y="87"/>
                    </a:lnTo>
                    <a:lnTo>
                      <a:pt x="196" y="86"/>
                    </a:lnTo>
                    <a:lnTo>
                      <a:pt x="194" y="86"/>
                    </a:lnTo>
                    <a:lnTo>
                      <a:pt x="192" y="86"/>
                    </a:lnTo>
                    <a:lnTo>
                      <a:pt x="190" y="86"/>
                    </a:lnTo>
                    <a:lnTo>
                      <a:pt x="188" y="87"/>
                    </a:lnTo>
                    <a:lnTo>
                      <a:pt x="186" y="88"/>
                    </a:lnTo>
                    <a:lnTo>
                      <a:pt x="185" y="90"/>
                    </a:lnTo>
                    <a:lnTo>
                      <a:pt x="185" y="92"/>
                    </a:lnTo>
                    <a:lnTo>
                      <a:pt x="180" y="92"/>
                    </a:lnTo>
                    <a:lnTo>
                      <a:pt x="180" y="90"/>
                    </a:lnTo>
                    <a:lnTo>
                      <a:pt x="179" y="88"/>
                    </a:lnTo>
                    <a:lnTo>
                      <a:pt x="178" y="87"/>
                    </a:lnTo>
                    <a:lnTo>
                      <a:pt x="176" y="86"/>
                    </a:lnTo>
                    <a:lnTo>
                      <a:pt x="174" y="86"/>
                    </a:lnTo>
                    <a:lnTo>
                      <a:pt x="171" y="86"/>
                    </a:lnTo>
                    <a:lnTo>
                      <a:pt x="169" y="86"/>
                    </a:lnTo>
                    <a:lnTo>
                      <a:pt x="167" y="87"/>
                    </a:lnTo>
                    <a:lnTo>
                      <a:pt x="166" y="88"/>
                    </a:lnTo>
                    <a:lnTo>
                      <a:pt x="165" y="90"/>
                    </a:lnTo>
                    <a:lnTo>
                      <a:pt x="165" y="92"/>
                    </a:lnTo>
                    <a:lnTo>
                      <a:pt x="150" y="92"/>
                    </a:lnTo>
                    <a:lnTo>
                      <a:pt x="150" y="90"/>
                    </a:lnTo>
                    <a:lnTo>
                      <a:pt x="149" y="89"/>
                    </a:lnTo>
                    <a:lnTo>
                      <a:pt x="147" y="88"/>
                    </a:lnTo>
                    <a:lnTo>
                      <a:pt x="146" y="88"/>
                    </a:lnTo>
                    <a:lnTo>
                      <a:pt x="144" y="88"/>
                    </a:lnTo>
                    <a:lnTo>
                      <a:pt x="142" y="89"/>
                    </a:lnTo>
                    <a:lnTo>
                      <a:pt x="141" y="90"/>
                    </a:lnTo>
                    <a:lnTo>
                      <a:pt x="141" y="92"/>
                    </a:lnTo>
                    <a:lnTo>
                      <a:pt x="137" y="92"/>
                    </a:lnTo>
                    <a:lnTo>
                      <a:pt x="136" y="90"/>
                    </a:lnTo>
                    <a:lnTo>
                      <a:pt x="135" y="89"/>
                    </a:lnTo>
                    <a:lnTo>
                      <a:pt x="134" y="88"/>
                    </a:lnTo>
                    <a:lnTo>
                      <a:pt x="132" y="88"/>
                    </a:lnTo>
                    <a:lnTo>
                      <a:pt x="130" y="88"/>
                    </a:lnTo>
                    <a:lnTo>
                      <a:pt x="129" y="89"/>
                    </a:lnTo>
                    <a:lnTo>
                      <a:pt x="128" y="90"/>
                    </a:lnTo>
                    <a:lnTo>
                      <a:pt x="128" y="92"/>
                    </a:lnTo>
                    <a:lnTo>
                      <a:pt x="125" y="92"/>
                    </a:lnTo>
                    <a:lnTo>
                      <a:pt x="125" y="90"/>
                    </a:lnTo>
                    <a:lnTo>
                      <a:pt x="124" y="88"/>
                    </a:lnTo>
                    <a:lnTo>
                      <a:pt x="123" y="87"/>
                    </a:lnTo>
                    <a:lnTo>
                      <a:pt x="121" y="86"/>
                    </a:lnTo>
                    <a:lnTo>
                      <a:pt x="118" y="85"/>
                    </a:lnTo>
                    <a:lnTo>
                      <a:pt x="116" y="85"/>
                    </a:lnTo>
                    <a:lnTo>
                      <a:pt x="114" y="86"/>
                    </a:lnTo>
                    <a:lnTo>
                      <a:pt x="112" y="87"/>
                    </a:lnTo>
                    <a:lnTo>
                      <a:pt x="110" y="88"/>
                    </a:lnTo>
                    <a:lnTo>
                      <a:pt x="109" y="90"/>
                    </a:lnTo>
                    <a:lnTo>
                      <a:pt x="109" y="92"/>
                    </a:lnTo>
                    <a:lnTo>
                      <a:pt x="100" y="92"/>
                    </a:lnTo>
                    <a:lnTo>
                      <a:pt x="99" y="90"/>
                    </a:lnTo>
                    <a:lnTo>
                      <a:pt x="98" y="89"/>
                    </a:lnTo>
                    <a:lnTo>
                      <a:pt x="97" y="88"/>
                    </a:lnTo>
                    <a:lnTo>
                      <a:pt x="95" y="88"/>
                    </a:lnTo>
                    <a:lnTo>
                      <a:pt x="94" y="88"/>
                    </a:lnTo>
                    <a:lnTo>
                      <a:pt x="92" y="89"/>
                    </a:lnTo>
                    <a:lnTo>
                      <a:pt x="91" y="90"/>
                    </a:lnTo>
                    <a:lnTo>
                      <a:pt x="91" y="92"/>
                    </a:lnTo>
                    <a:lnTo>
                      <a:pt x="72" y="92"/>
                    </a:lnTo>
                    <a:lnTo>
                      <a:pt x="72" y="90"/>
                    </a:lnTo>
                    <a:lnTo>
                      <a:pt x="71" y="89"/>
                    </a:lnTo>
                    <a:lnTo>
                      <a:pt x="70" y="88"/>
                    </a:lnTo>
                    <a:lnTo>
                      <a:pt x="68" y="88"/>
                    </a:lnTo>
                    <a:lnTo>
                      <a:pt x="66" y="88"/>
                    </a:lnTo>
                    <a:lnTo>
                      <a:pt x="65" y="89"/>
                    </a:lnTo>
                    <a:lnTo>
                      <a:pt x="64" y="90"/>
                    </a:lnTo>
                    <a:lnTo>
                      <a:pt x="63" y="92"/>
                    </a:lnTo>
                    <a:lnTo>
                      <a:pt x="0" y="92"/>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5997960" y="230724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03" name=""/>
              <p:cNvSpPr/>
              <p:nvPr/>
            </p:nvSpPr>
            <p:spPr>
              <a:xfrm>
                <a:off x="4935240" y="2251080"/>
                <a:ext cx="892080" cy="766440"/>
              </a:xfrm>
              <a:custGeom>
                <a:avLst/>
                <a:gdLst/>
                <a:ahLst/>
                <a:rect l="l" t="t" r="r" b="b"/>
                <a:pathLst>
                  <a:path w="843" h="574">
                    <a:moveTo>
                      <a:pt x="0" y="574"/>
                    </a:moveTo>
                    <a:lnTo>
                      <a:pt x="0" y="544"/>
                    </a:lnTo>
                    <a:lnTo>
                      <a:pt x="94" y="544"/>
                    </a:lnTo>
                    <a:lnTo>
                      <a:pt x="94" y="33"/>
                    </a:lnTo>
                    <a:lnTo>
                      <a:pt x="103" y="33"/>
                    </a:lnTo>
                    <a:lnTo>
                      <a:pt x="104" y="31"/>
                    </a:lnTo>
                    <a:lnTo>
                      <a:pt x="105" y="30"/>
                    </a:lnTo>
                    <a:lnTo>
                      <a:pt x="106" y="30"/>
                    </a:lnTo>
                    <a:lnTo>
                      <a:pt x="108" y="29"/>
                    </a:lnTo>
                    <a:lnTo>
                      <a:pt x="109" y="30"/>
                    </a:lnTo>
                    <a:lnTo>
                      <a:pt x="111" y="30"/>
                    </a:lnTo>
                    <a:lnTo>
                      <a:pt x="112" y="31"/>
                    </a:lnTo>
                    <a:lnTo>
                      <a:pt x="112" y="33"/>
                    </a:lnTo>
                    <a:lnTo>
                      <a:pt x="153" y="33"/>
                    </a:lnTo>
                    <a:lnTo>
                      <a:pt x="153" y="31"/>
                    </a:lnTo>
                    <a:lnTo>
                      <a:pt x="154" y="30"/>
                    </a:lnTo>
                    <a:lnTo>
                      <a:pt x="156" y="30"/>
                    </a:lnTo>
                    <a:lnTo>
                      <a:pt x="158" y="29"/>
                    </a:lnTo>
                    <a:lnTo>
                      <a:pt x="159" y="30"/>
                    </a:lnTo>
                    <a:lnTo>
                      <a:pt x="161" y="30"/>
                    </a:lnTo>
                    <a:lnTo>
                      <a:pt x="162" y="31"/>
                    </a:lnTo>
                    <a:lnTo>
                      <a:pt x="162" y="33"/>
                    </a:lnTo>
                    <a:lnTo>
                      <a:pt x="402" y="33"/>
                    </a:lnTo>
                    <a:lnTo>
                      <a:pt x="402" y="31"/>
                    </a:lnTo>
                    <a:lnTo>
                      <a:pt x="403" y="30"/>
                    </a:lnTo>
                    <a:lnTo>
                      <a:pt x="405" y="30"/>
                    </a:lnTo>
                    <a:lnTo>
                      <a:pt x="406" y="29"/>
                    </a:lnTo>
                    <a:lnTo>
                      <a:pt x="408" y="30"/>
                    </a:lnTo>
                    <a:lnTo>
                      <a:pt x="410" y="30"/>
                    </a:lnTo>
                    <a:lnTo>
                      <a:pt x="410" y="31"/>
                    </a:lnTo>
                    <a:lnTo>
                      <a:pt x="411" y="33"/>
                    </a:lnTo>
                    <a:lnTo>
                      <a:pt x="468" y="33"/>
                    </a:lnTo>
                    <a:lnTo>
                      <a:pt x="468" y="31"/>
                    </a:lnTo>
                    <a:lnTo>
                      <a:pt x="469" y="30"/>
                    </a:lnTo>
                    <a:lnTo>
                      <a:pt x="470" y="30"/>
                    </a:lnTo>
                    <a:lnTo>
                      <a:pt x="472" y="29"/>
                    </a:lnTo>
                    <a:lnTo>
                      <a:pt x="474" y="30"/>
                    </a:lnTo>
                    <a:lnTo>
                      <a:pt x="475" y="30"/>
                    </a:lnTo>
                    <a:lnTo>
                      <a:pt x="476" y="31"/>
                    </a:lnTo>
                    <a:lnTo>
                      <a:pt x="477" y="33"/>
                    </a:lnTo>
                    <a:lnTo>
                      <a:pt x="606" y="33"/>
                    </a:lnTo>
                    <a:lnTo>
                      <a:pt x="606" y="3"/>
                    </a:lnTo>
                    <a:lnTo>
                      <a:pt x="633" y="3"/>
                    </a:lnTo>
                    <a:lnTo>
                      <a:pt x="633" y="2"/>
                    </a:lnTo>
                    <a:lnTo>
                      <a:pt x="634" y="1"/>
                    </a:lnTo>
                    <a:lnTo>
                      <a:pt x="635" y="0"/>
                    </a:lnTo>
                    <a:lnTo>
                      <a:pt x="637" y="0"/>
                    </a:lnTo>
                    <a:lnTo>
                      <a:pt x="639" y="0"/>
                    </a:lnTo>
                    <a:lnTo>
                      <a:pt x="640" y="1"/>
                    </a:lnTo>
                    <a:lnTo>
                      <a:pt x="641" y="2"/>
                    </a:lnTo>
                    <a:lnTo>
                      <a:pt x="642" y="3"/>
                    </a:lnTo>
                    <a:lnTo>
                      <a:pt x="710" y="3"/>
                    </a:lnTo>
                    <a:lnTo>
                      <a:pt x="710" y="2"/>
                    </a:lnTo>
                    <a:lnTo>
                      <a:pt x="711" y="1"/>
                    </a:lnTo>
                    <a:lnTo>
                      <a:pt x="712" y="0"/>
                    </a:lnTo>
                    <a:lnTo>
                      <a:pt x="714" y="0"/>
                    </a:lnTo>
                    <a:lnTo>
                      <a:pt x="716" y="0"/>
                    </a:lnTo>
                    <a:lnTo>
                      <a:pt x="717" y="1"/>
                    </a:lnTo>
                    <a:lnTo>
                      <a:pt x="718" y="2"/>
                    </a:lnTo>
                    <a:lnTo>
                      <a:pt x="719" y="3"/>
                    </a:lnTo>
                    <a:lnTo>
                      <a:pt x="824" y="3"/>
                    </a:lnTo>
                    <a:lnTo>
                      <a:pt x="824" y="2"/>
                    </a:lnTo>
                    <a:lnTo>
                      <a:pt x="825" y="1"/>
                    </a:lnTo>
                    <a:lnTo>
                      <a:pt x="827" y="0"/>
                    </a:lnTo>
                    <a:lnTo>
                      <a:pt x="828" y="0"/>
                    </a:lnTo>
                    <a:lnTo>
                      <a:pt x="830" y="0"/>
                    </a:lnTo>
                    <a:lnTo>
                      <a:pt x="832" y="1"/>
                    </a:lnTo>
                    <a:lnTo>
                      <a:pt x="832" y="2"/>
                    </a:lnTo>
                    <a:lnTo>
                      <a:pt x="833" y="3"/>
                    </a:lnTo>
                    <a:lnTo>
                      <a:pt x="843"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826600" y="225000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05" name=""/>
              <p:cNvSpPr/>
              <p:nvPr/>
            </p:nvSpPr>
            <p:spPr>
              <a:xfrm>
                <a:off x="6132600" y="2307240"/>
                <a:ext cx="258120" cy="176040"/>
              </a:xfrm>
              <a:custGeom>
                <a:avLst/>
                <a:gdLst/>
                <a:ahLst/>
                <a:rect l="l" t="t" r="r" b="b"/>
                <a:pathLst>
                  <a:path w="244" h="132">
                    <a:moveTo>
                      <a:pt x="244" y="132"/>
                    </a:moveTo>
                    <a:lnTo>
                      <a:pt x="244" y="115"/>
                    </a:lnTo>
                    <a:lnTo>
                      <a:pt x="213" y="115"/>
                    </a:lnTo>
                    <a:lnTo>
                      <a:pt x="213" y="114"/>
                    </a:lnTo>
                    <a:lnTo>
                      <a:pt x="212" y="113"/>
                    </a:lnTo>
                    <a:lnTo>
                      <a:pt x="210" y="112"/>
                    </a:lnTo>
                    <a:lnTo>
                      <a:pt x="209" y="112"/>
                    </a:lnTo>
                    <a:lnTo>
                      <a:pt x="207" y="112"/>
                    </a:lnTo>
                    <a:lnTo>
                      <a:pt x="206" y="113"/>
                    </a:lnTo>
                    <a:lnTo>
                      <a:pt x="205" y="114"/>
                    </a:lnTo>
                    <a:lnTo>
                      <a:pt x="204" y="115"/>
                    </a:lnTo>
                    <a:lnTo>
                      <a:pt x="130" y="115"/>
                    </a:lnTo>
                    <a:lnTo>
                      <a:pt x="129" y="114"/>
                    </a:lnTo>
                    <a:lnTo>
                      <a:pt x="129" y="113"/>
                    </a:lnTo>
                    <a:lnTo>
                      <a:pt x="127" y="112"/>
                    </a:lnTo>
                    <a:lnTo>
                      <a:pt x="125" y="112"/>
                    </a:lnTo>
                    <a:lnTo>
                      <a:pt x="124" y="112"/>
                    </a:lnTo>
                    <a:lnTo>
                      <a:pt x="122" y="113"/>
                    </a:lnTo>
                    <a:lnTo>
                      <a:pt x="121" y="114"/>
                    </a:lnTo>
                    <a:lnTo>
                      <a:pt x="121" y="115"/>
                    </a:lnTo>
                    <a:lnTo>
                      <a:pt x="80" y="115"/>
                    </a:lnTo>
                    <a:lnTo>
                      <a:pt x="79" y="114"/>
                    </a:lnTo>
                    <a:lnTo>
                      <a:pt x="78" y="112"/>
                    </a:lnTo>
                    <a:lnTo>
                      <a:pt x="77" y="111"/>
                    </a:lnTo>
                    <a:lnTo>
                      <a:pt x="75" y="110"/>
                    </a:lnTo>
                    <a:lnTo>
                      <a:pt x="73" y="109"/>
                    </a:lnTo>
                    <a:lnTo>
                      <a:pt x="71" y="109"/>
                    </a:lnTo>
                    <a:lnTo>
                      <a:pt x="69" y="110"/>
                    </a:lnTo>
                    <a:lnTo>
                      <a:pt x="67" y="111"/>
                    </a:lnTo>
                    <a:lnTo>
                      <a:pt x="65" y="112"/>
                    </a:lnTo>
                    <a:lnTo>
                      <a:pt x="64" y="114"/>
                    </a:lnTo>
                    <a:lnTo>
                      <a:pt x="64" y="115"/>
                    </a:lnTo>
                    <a:lnTo>
                      <a:pt x="59" y="115"/>
                    </a:lnTo>
                    <a:lnTo>
                      <a:pt x="59" y="114"/>
                    </a:lnTo>
                    <a:lnTo>
                      <a:pt x="58" y="112"/>
                    </a:lnTo>
                    <a:lnTo>
                      <a:pt x="57" y="111"/>
                    </a:lnTo>
                    <a:lnTo>
                      <a:pt x="55" y="110"/>
                    </a:lnTo>
                    <a:lnTo>
                      <a:pt x="53" y="109"/>
                    </a:lnTo>
                    <a:lnTo>
                      <a:pt x="50" y="109"/>
                    </a:lnTo>
                    <a:lnTo>
                      <a:pt x="48" y="110"/>
                    </a:lnTo>
                    <a:lnTo>
                      <a:pt x="46" y="111"/>
                    </a:lnTo>
                    <a:lnTo>
                      <a:pt x="45" y="112"/>
                    </a:lnTo>
                    <a:lnTo>
                      <a:pt x="44" y="114"/>
                    </a:lnTo>
                    <a:lnTo>
                      <a:pt x="44" y="115"/>
                    </a:lnTo>
                    <a:lnTo>
                      <a:pt x="29" y="115"/>
                    </a:lnTo>
                    <a:lnTo>
                      <a:pt x="29" y="114"/>
                    </a:lnTo>
                    <a:lnTo>
                      <a:pt x="28" y="113"/>
                    </a:lnTo>
                    <a:lnTo>
                      <a:pt x="26" y="112"/>
                    </a:lnTo>
                    <a:lnTo>
                      <a:pt x="25" y="112"/>
                    </a:lnTo>
                    <a:lnTo>
                      <a:pt x="23" y="112"/>
                    </a:lnTo>
                    <a:lnTo>
                      <a:pt x="21" y="113"/>
                    </a:lnTo>
                    <a:lnTo>
                      <a:pt x="20" y="114"/>
                    </a:lnTo>
                    <a:lnTo>
                      <a:pt x="20" y="115"/>
                    </a:lnTo>
                    <a:lnTo>
                      <a:pt x="16" y="115"/>
                    </a:lnTo>
                    <a:lnTo>
                      <a:pt x="15" y="114"/>
                    </a:lnTo>
                    <a:lnTo>
                      <a:pt x="14" y="113"/>
                    </a:lnTo>
                    <a:lnTo>
                      <a:pt x="13" y="112"/>
                    </a:lnTo>
                    <a:lnTo>
                      <a:pt x="11" y="112"/>
                    </a:lnTo>
                    <a:lnTo>
                      <a:pt x="9" y="112"/>
                    </a:lnTo>
                    <a:lnTo>
                      <a:pt x="8" y="113"/>
                    </a:lnTo>
                    <a:lnTo>
                      <a:pt x="7" y="114"/>
                    </a:lnTo>
                    <a:lnTo>
                      <a:pt x="7" y="115"/>
                    </a:lnTo>
                    <a:lnTo>
                      <a:pt x="0" y="115"/>
                    </a:lnTo>
                    <a:lnTo>
                      <a:pt x="0" y="6"/>
                    </a:lnTo>
                    <a:lnTo>
                      <a:pt x="9" y="6"/>
                    </a:lnTo>
                    <a:lnTo>
                      <a:pt x="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384600" y="24822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07" name=""/>
              <p:cNvSpPr/>
              <p:nvPr/>
            </p:nvSpPr>
            <p:spPr>
              <a:xfrm>
                <a:off x="5936760" y="2311200"/>
                <a:ext cx="4320" cy="401760"/>
              </a:xfrm>
              <a:custGeom>
                <a:avLst/>
                <a:gdLst/>
                <a:ahLst/>
                <a:rect l="l" t="t" r="r" b="b"/>
                <a:pathLst>
                  <a:path w="4" h="301">
                    <a:moveTo>
                      <a:pt x="0" y="301"/>
                    </a:moveTo>
                    <a:lnTo>
                      <a:pt x="0" y="290"/>
                    </a:lnTo>
                    <a:lnTo>
                      <a:pt x="4" y="290"/>
                    </a:lnTo>
                    <a:lnTo>
                      <a:pt x="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5930280" y="27122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09" name=""/>
              <p:cNvSpPr/>
              <p:nvPr/>
            </p:nvSpPr>
            <p:spPr>
              <a:xfrm>
                <a:off x="6104880" y="2307240"/>
                <a:ext cx="1352880" cy="455040"/>
              </a:xfrm>
              <a:custGeom>
                <a:avLst/>
                <a:gdLst/>
                <a:ahLst/>
                <a:rect l="l" t="t" r="r" b="b"/>
                <a:pathLst>
                  <a:path w="1278" h="341">
                    <a:moveTo>
                      <a:pt x="1278" y="341"/>
                    </a:moveTo>
                    <a:lnTo>
                      <a:pt x="1278" y="324"/>
                    </a:lnTo>
                    <a:lnTo>
                      <a:pt x="1234" y="324"/>
                    </a:lnTo>
                    <a:lnTo>
                      <a:pt x="1233" y="323"/>
                    </a:lnTo>
                    <a:lnTo>
                      <a:pt x="1232" y="321"/>
                    </a:lnTo>
                    <a:lnTo>
                      <a:pt x="1231" y="321"/>
                    </a:lnTo>
                    <a:lnTo>
                      <a:pt x="1229" y="320"/>
                    </a:lnTo>
                    <a:lnTo>
                      <a:pt x="1227" y="321"/>
                    </a:lnTo>
                    <a:lnTo>
                      <a:pt x="1226" y="321"/>
                    </a:lnTo>
                    <a:lnTo>
                      <a:pt x="1225" y="323"/>
                    </a:lnTo>
                    <a:lnTo>
                      <a:pt x="1225" y="324"/>
                    </a:lnTo>
                    <a:lnTo>
                      <a:pt x="1139" y="324"/>
                    </a:lnTo>
                    <a:lnTo>
                      <a:pt x="1139" y="323"/>
                    </a:lnTo>
                    <a:lnTo>
                      <a:pt x="1138" y="321"/>
                    </a:lnTo>
                    <a:lnTo>
                      <a:pt x="1136" y="321"/>
                    </a:lnTo>
                    <a:lnTo>
                      <a:pt x="1135" y="320"/>
                    </a:lnTo>
                    <a:lnTo>
                      <a:pt x="1133" y="321"/>
                    </a:lnTo>
                    <a:lnTo>
                      <a:pt x="1131" y="321"/>
                    </a:lnTo>
                    <a:lnTo>
                      <a:pt x="1131" y="323"/>
                    </a:lnTo>
                    <a:lnTo>
                      <a:pt x="1130" y="324"/>
                    </a:lnTo>
                    <a:lnTo>
                      <a:pt x="1099" y="324"/>
                    </a:lnTo>
                    <a:lnTo>
                      <a:pt x="1098" y="323"/>
                    </a:lnTo>
                    <a:lnTo>
                      <a:pt x="1097" y="321"/>
                    </a:lnTo>
                    <a:lnTo>
                      <a:pt x="1096" y="321"/>
                    </a:lnTo>
                    <a:lnTo>
                      <a:pt x="1094" y="320"/>
                    </a:lnTo>
                    <a:lnTo>
                      <a:pt x="1092" y="321"/>
                    </a:lnTo>
                    <a:lnTo>
                      <a:pt x="1091" y="321"/>
                    </a:lnTo>
                    <a:lnTo>
                      <a:pt x="1090" y="323"/>
                    </a:lnTo>
                    <a:lnTo>
                      <a:pt x="1089" y="324"/>
                    </a:lnTo>
                    <a:lnTo>
                      <a:pt x="1085" y="324"/>
                    </a:lnTo>
                    <a:lnTo>
                      <a:pt x="1085" y="323"/>
                    </a:lnTo>
                    <a:lnTo>
                      <a:pt x="1084" y="321"/>
                    </a:lnTo>
                    <a:lnTo>
                      <a:pt x="1082" y="321"/>
                    </a:lnTo>
                    <a:lnTo>
                      <a:pt x="1080" y="320"/>
                    </a:lnTo>
                    <a:lnTo>
                      <a:pt x="1079" y="321"/>
                    </a:lnTo>
                    <a:lnTo>
                      <a:pt x="1077" y="321"/>
                    </a:lnTo>
                    <a:lnTo>
                      <a:pt x="1076" y="323"/>
                    </a:lnTo>
                    <a:lnTo>
                      <a:pt x="1076" y="324"/>
                    </a:lnTo>
                    <a:lnTo>
                      <a:pt x="1071" y="324"/>
                    </a:lnTo>
                    <a:lnTo>
                      <a:pt x="1071" y="323"/>
                    </a:lnTo>
                    <a:lnTo>
                      <a:pt x="1070" y="321"/>
                    </a:lnTo>
                    <a:lnTo>
                      <a:pt x="1069" y="321"/>
                    </a:lnTo>
                    <a:lnTo>
                      <a:pt x="1067" y="320"/>
                    </a:lnTo>
                    <a:lnTo>
                      <a:pt x="1065" y="321"/>
                    </a:lnTo>
                    <a:lnTo>
                      <a:pt x="1064" y="321"/>
                    </a:lnTo>
                    <a:lnTo>
                      <a:pt x="1063" y="323"/>
                    </a:lnTo>
                    <a:lnTo>
                      <a:pt x="1062" y="324"/>
                    </a:lnTo>
                    <a:lnTo>
                      <a:pt x="1051" y="324"/>
                    </a:lnTo>
                    <a:lnTo>
                      <a:pt x="1050" y="323"/>
                    </a:lnTo>
                    <a:lnTo>
                      <a:pt x="1050" y="321"/>
                    </a:lnTo>
                    <a:lnTo>
                      <a:pt x="1048" y="321"/>
                    </a:lnTo>
                    <a:lnTo>
                      <a:pt x="1046" y="320"/>
                    </a:lnTo>
                    <a:lnTo>
                      <a:pt x="1045" y="321"/>
                    </a:lnTo>
                    <a:lnTo>
                      <a:pt x="1043" y="321"/>
                    </a:lnTo>
                    <a:lnTo>
                      <a:pt x="1042" y="323"/>
                    </a:lnTo>
                    <a:lnTo>
                      <a:pt x="1042" y="324"/>
                    </a:lnTo>
                    <a:lnTo>
                      <a:pt x="1029" y="324"/>
                    </a:lnTo>
                    <a:lnTo>
                      <a:pt x="1028" y="323"/>
                    </a:lnTo>
                    <a:lnTo>
                      <a:pt x="1028" y="321"/>
                    </a:lnTo>
                    <a:lnTo>
                      <a:pt x="1026" y="321"/>
                    </a:lnTo>
                    <a:lnTo>
                      <a:pt x="1024" y="320"/>
                    </a:lnTo>
                    <a:lnTo>
                      <a:pt x="1023" y="321"/>
                    </a:lnTo>
                    <a:lnTo>
                      <a:pt x="1021" y="321"/>
                    </a:lnTo>
                    <a:lnTo>
                      <a:pt x="1020" y="323"/>
                    </a:lnTo>
                    <a:lnTo>
                      <a:pt x="1020" y="324"/>
                    </a:lnTo>
                    <a:lnTo>
                      <a:pt x="1003" y="324"/>
                    </a:lnTo>
                    <a:lnTo>
                      <a:pt x="1003" y="323"/>
                    </a:lnTo>
                    <a:lnTo>
                      <a:pt x="1002" y="321"/>
                    </a:lnTo>
                    <a:lnTo>
                      <a:pt x="1000" y="321"/>
                    </a:lnTo>
                    <a:lnTo>
                      <a:pt x="999" y="320"/>
                    </a:lnTo>
                    <a:lnTo>
                      <a:pt x="997" y="321"/>
                    </a:lnTo>
                    <a:lnTo>
                      <a:pt x="995" y="321"/>
                    </a:lnTo>
                    <a:lnTo>
                      <a:pt x="994" y="323"/>
                    </a:lnTo>
                    <a:lnTo>
                      <a:pt x="994" y="324"/>
                    </a:lnTo>
                    <a:lnTo>
                      <a:pt x="968" y="324"/>
                    </a:lnTo>
                    <a:lnTo>
                      <a:pt x="968" y="322"/>
                    </a:lnTo>
                    <a:lnTo>
                      <a:pt x="967" y="321"/>
                    </a:lnTo>
                    <a:lnTo>
                      <a:pt x="966" y="319"/>
                    </a:lnTo>
                    <a:lnTo>
                      <a:pt x="964" y="318"/>
                    </a:lnTo>
                    <a:lnTo>
                      <a:pt x="962" y="318"/>
                    </a:lnTo>
                    <a:lnTo>
                      <a:pt x="959" y="318"/>
                    </a:lnTo>
                    <a:lnTo>
                      <a:pt x="957" y="318"/>
                    </a:lnTo>
                    <a:lnTo>
                      <a:pt x="955" y="319"/>
                    </a:lnTo>
                    <a:lnTo>
                      <a:pt x="954" y="321"/>
                    </a:lnTo>
                    <a:lnTo>
                      <a:pt x="953" y="322"/>
                    </a:lnTo>
                    <a:lnTo>
                      <a:pt x="953" y="324"/>
                    </a:lnTo>
                    <a:lnTo>
                      <a:pt x="951" y="324"/>
                    </a:lnTo>
                    <a:lnTo>
                      <a:pt x="951" y="323"/>
                    </a:lnTo>
                    <a:lnTo>
                      <a:pt x="950" y="321"/>
                    </a:lnTo>
                    <a:lnTo>
                      <a:pt x="948" y="321"/>
                    </a:lnTo>
                    <a:lnTo>
                      <a:pt x="947" y="320"/>
                    </a:lnTo>
                    <a:lnTo>
                      <a:pt x="945" y="321"/>
                    </a:lnTo>
                    <a:lnTo>
                      <a:pt x="943" y="321"/>
                    </a:lnTo>
                    <a:lnTo>
                      <a:pt x="943" y="323"/>
                    </a:lnTo>
                    <a:lnTo>
                      <a:pt x="942" y="324"/>
                    </a:lnTo>
                    <a:lnTo>
                      <a:pt x="935" y="324"/>
                    </a:lnTo>
                    <a:lnTo>
                      <a:pt x="934" y="323"/>
                    </a:lnTo>
                    <a:lnTo>
                      <a:pt x="933" y="321"/>
                    </a:lnTo>
                    <a:lnTo>
                      <a:pt x="932" y="321"/>
                    </a:lnTo>
                    <a:lnTo>
                      <a:pt x="930" y="320"/>
                    </a:lnTo>
                    <a:lnTo>
                      <a:pt x="928" y="321"/>
                    </a:lnTo>
                    <a:lnTo>
                      <a:pt x="927" y="321"/>
                    </a:lnTo>
                    <a:lnTo>
                      <a:pt x="926" y="323"/>
                    </a:lnTo>
                    <a:lnTo>
                      <a:pt x="926" y="324"/>
                    </a:lnTo>
                    <a:lnTo>
                      <a:pt x="916" y="324"/>
                    </a:lnTo>
                    <a:lnTo>
                      <a:pt x="916" y="323"/>
                    </a:lnTo>
                    <a:lnTo>
                      <a:pt x="915" y="321"/>
                    </a:lnTo>
                    <a:lnTo>
                      <a:pt x="913" y="321"/>
                    </a:lnTo>
                    <a:lnTo>
                      <a:pt x="912" y="320"/>
                    </a:lnTo>
                    <a:lnTo>
                      <a:pt x="910" y="321"/>
                    </a:lnTo>
                    <a:lnTo>
                      <a:pt x="908" y="321"/>
                    </a:lnTo>
                    <a:lnTo>
                      <a:pt x="908" y="323"/>
                    </a:lnTo>
                    <a:lnTo>
                      <a:pt x="907" y="324"/>
                    </a:lnTo>
                    <a:lnTo>
                      <a:pt x="885" y="324"/>
                    </a:lnTo>
                    <a:lnTo>
                      <a:pt x="884" y="323"/>
                    </a:lnTo>
                    <a:lnTo>
                      <a:pt x="883" y="321"/>
                    </a:lnTo>
                    <a:lnTo>
                      <a:pt x="882" y="321"/>
                    </a:lnTo>
                    <a:lnTo>
                      <a:pt x="880" y="320"/>
                    </a:lnTo>
                    <a:lnTo>
                      <a:pt x="878" y="321"/>
                    </a:lnTo>
                    <a:lnTo>
                      <a:pt x="877" y="321"/>
                    </a:lnTo>
                    <a:lnTo>
                      <a:pt x="876" y="323"/>
                    </a:lnTo>
                    <a:lnTo>
                      <a:pt x="876" y="324"/>
                    </a:lnTo>
                    <a:lnTo>
                      <a:pt x="850" y="324"/>
                    </a:lnTo>
                    <a:lnTo>
                      <a:pt x="850" y="323"/>
                    </a:lnTo>
                    <a:lnTo>
                      <a:pt x="849" y="321"/>
                    </a:lnTo>
                    <a:lnTo>
                      <a:pt x="847" y="321"/>
                    </a:lnTo>
                    <a:lnTo>
                      <a:pt x="846" y="320"/>
                    </a:lnTo>
                    <a:lnTo>
                      <a:pt x="844" y="321"/>
                    </a:lnTo>
                    <a:lnTo>
                      <a:pt x="842" y="321"/>
                    </a:lnTo>
                    <a:lnTo>
                      <a:pt x="841" y="323"/>
                    </a:lnTo>
                    <a:lnTo>
                      <a:pt x="841" y="324"/>
                    </a:lnTo>
                    <a:lnTo>
                      <a:pt x="822" y="324"/>
                    </a:lnTo>
                    <a:lnTo>
                      <a:pt x="821" y="323"/>
                    </a:lnTo>
                    <a:lnTo>
                      <a:pt x="821" y="321"/>
                    </a:lnTo>
                    <a:lnTo>
                      <a:pt x="819" y="321"/>
                    </a:lnTo>
                    <a:lnTo>
                      <a:pt x="817" y="320"/>
                    </a:lnTo>
                    <a:lnTo>
                      <a:pt x="816" y="321"/>
                    </a:lnTo>
                    <a:lnTo>
                      <a:pt x="814" y="321"/>
                    </a:lnTo>
                    <a:lnTo>
                      <a:pt x="813" y="323"/>
                    </a:lnTo>
                    <a:lnTo>
                      <a:pt x="813" y="324"/>
                    </a:lnTo>
                    <a:lnTo>
                      <a:pt x="801" y="324"/>
                    </a:lnTo>
                    <a:lnTo>
                      <a:pt x="801" y="323"/>
                    </a:lnTo>
                    <a:lnTo>
                      <a:pt x="800" y="321"/>
                    </a:lnTo>
                    <a:lnTo>
                      <a:pt x="799" y="321"/>
                    </a:lnTo>
                    <a:lnTo>
                      <a:pt x="797" y="320"/>
                    </a:lnTo>
                    <a:lnTo>
                      <a:pt x="795" y="321"/>
                    </a:lnTo>
                    <a:lnTo>
                      <a:pt x="794" y="321"/>
                    </a:lnTo>
                    <a:lnTo>
                      <a:pt x="793" y="323"/>
                    </a:lnTo>
                    <a:lnTo>
                      <a:pt x="792" y="324"/>
                    </a:lnTo>
                    <a:lnTo>
                      <a:pt x="761" y="324"/>
                    </a:lnTo>
                    <a:lnTo>
                      <a:pt x="760" y="323"/>
                    </a:lnTo>
                    <a:lnTo>
                      <a:pt x="760" y="321"/>
                    </a:lnTo>
                    <a:lnTo>
                      <a:pt x="758" y="321"/>
                    </a:lnTo>
                    <a:lnTo>
                      <a:pt x="756" y="320"/>
                    </a:lnTo>
                    <a:lnTo>
                      <a:pt x="755" y="321"/>
                    </a:lnTo>
                    <a:lnTo>
                      <a:pt x="753" y="321"/>
                    </a:lnTo>
                    <a:lnTo>
                      <a:pt x="752" y="323"/>
                    </a:lnTo>
                    <a:lnTo>
                      <a:pt x="752" y="324"/>
                    </a:lnTo>
                    <a:lnTo>
                      <a:pt x="689" y="324"/>
                    </a:lnTo>
                    <a:lnTo>
                      <a:pt x="688" y="323"/>
                    </a:lnTo>
                    <a:lnTo>
                      <a:pt x="687" y="321"/>
                    </a:lnTo>
                    <a:lnTo>
                      <a:pt x="686" y="321"/>
                    </a:lnTo>
                    <a:lnTo>
                      <a:pt x="684" y="320"/>
                    </a:lnTo>
                    <a:lnTo>
                      <a:pt x="682" y="321"/>
                    </a:lnTo>
                    <a:lnTo>
                      <a:pt x="681" y="321"/>
                    </a:lnTo>
                    <a:lnTo>
                      <a:pt x="680" y="323"/>
                    </a:lnTo>
                    <a:lnTo>
                      <a:pt x="680" y="324"/>
                    </a:lnTo>
                    <a:lnTo>
                      <a:pt x="662" y="324"/>
                    </a:lnTo>
                    <a:lnTo>
                      <a:pt x="661" y="323"/>
                    </a:lnTo>
                    <a:lnTo>
                      <a:pt x="660" y="321"/>
                    </a:lnTo>
                    <a:lnTo>
                      <a:pt x="659" y="321"/>
                    </a:lnTo>
                    <a:lnTo>
                      <a:pt x="657" y="320"/>
                    </a:lnTo>
                    <a:lnTo>
                      <a:pt x="656" y="321"/>
                    </a:lnTo>
                    <a:lnTo>
                      <a:pt x="654" y="321"/>
                    </a:lnTo>
                    <a:lnTo>
                      <a:pt x="653" y="323"/>
                    </a:lnTo>
                    <a:lnTo>
                      <a:pt x="653" y="324"/>
                    </a:lnTo>
                    <a:lnTo>
                      <a:pt x="609" y="324"/>
                    </a:lnTo>
                    <a:lnTo>
                      <a:pt x="609" y="323"/>
                    </a:lnTo>
                    <a:lnTo>
                      <a:pt x="607" y="321"/>
                    </a:lnTo>
                    <a:lnTo>
                      <a:pt x="606" y="321"/>
                    </a:lnTo>
                    <a:lnTo>
                      <a:pt x="604" y="320"/>
                    </a:lnTo>
                    <a:lnTo>
                      <a:pt x="603" y="321"/>
                    </a:lnTo>
                    <a:lnTo>
                      <a:pt x="601" y="321"/>
                    </a:lnTo>
                    <a:lnTo>
                      <a:pt x="600" y="323"/>
                    </a:lnTo>
                    <a:lnTo>
                      <a:pt x="600" y="324"/>
                    </a:lnTo>
                    <a:lnTo>
                      <a:pt x="588" y="324"/>
                    </a:lnTo>
                    <a:lnTo>
                      <a:pt x="587" y="323"/>
                    </a:lnTo>
                    <a:lnTo>
                      <a:pt x="586" y="321"/>
                    </a:lnTo>
                    <a:lnTo>
                      <a:pt x="585" y="321"/>
                    </a:lnTo>
                    <a:lnTo>
                      <a:pt x="583" y="320"/>
                    </a:lnTo>
                    <a:lnTo>
                      <a:pt x="581" y="321"/>
                    </a:lnTo>
                    <a:lnTo>
                      <a:pt x="580" y="321"/>
                    </a:lnTo>
                    <a:lnTo>
                      <a:pt x="579" y="323"/>
                    </a:lnTo>
                    <a:lnTo>
                      <a:pt x="578" y="324"/>
                    </a:lnTo>
                    <a:lnTo>
                      <a:pt x="496" y="324"/>
                    </a:lnTo>
                    <a:lnTo>
                      <a:pt x="495" y="322"/>
                    </a:lnTo>
                    <a:lnTo>
                      <a:pt x="495" y="320"/>
                    </a:lnTo>
                    <a:lnTo>
                      <a:pt x="493" y="319"/>
                    </a:lnTo>
                    <a:lnTo>
                      <a:pt x="491" y="318"/>
                    </a:lnTo>
                    <a:lnTo>
                      <a:pt x="489" y="317"/>
                    </a:lnTo>
                    <a:lnTo>
                      <a:pt x="487" y="317"/>
                    </a:lnTo>
                    <a:lnTo>
                      <a:pt x="484" y="317"/>
                    </a:lnTo>
                    <a:lnTo>
                      <a:pt x="482" y="318"/>
                    </a:lnTo>
                    <a:lnTo>
                      <a:pt x="481" y="319"/>
                    </a:lnTo>
                    <a:lnTo>
                      <a:pt x="479" y="320"/>
                    </a:lnTo>
                    <a:lnTo>
                      <a:pt x="478" y="322"/>
                    </a:lnTo>
                    <a:lnTo>
                      <a:pt x="478" y="324"/>
                    </a:lnTo>
                    <a:lnTo>
                      <a:pt x="416" y="324"/>
                    </a:lnTo>
                    <a:lnTo>
                      <a:pt x="416" y="323"/>
                    </a:lnTo>
                    <a:lnTo>
                      <a:pt x="415" y="321"/>
                    </a:lnTo>
                    <a:lnTo>
                      <a:pt x="414" y="321"/>
                    </a:lnTo>
                    <a:lnTo>
                      <a:pt x="412" y="320"/>
                    </a:lnTo>
                    <a:lnTo>
                      <a:pt x="410" y="321"/>
                    </a:lnTo>
                    <a:lnTo>
                      <a:pt x="409" y="321"/>
                    </a:lnTo>
                    <a:lnTo>
                      <a:pt x="408" y="323"/>
                    </a:lnTo>
                    <a:lnTo>
                      <a:pt x="407" y="324"/>
                    </a:lnTo>
                    <a:lnTo>
                      <a:pt x="363" y="324"/>
                    </a:lnTo>
                    <a:lnTo>
                      <a:pt x="363" y="323"/>
                    </a:lnTo>
                    <a:lnTo>
                      <a:pt x="362" y="321"/>
                    </a:lnTo>
                    <a:lnTo>
                      <a:pt x="360" y="321"/>
                    </a:lnTo>
                    <a:lnTo>
                      <a:pt x="359" y="320"/>
                    </a:lnTo>
                    <a:lnTo>
                      <a:pt x="357" y="321"/>
                    </a:lnTo>
                    <a:lnTo>
                      <a:pt x="356" y="321"/>
                    </a:lnTo>
                    <a:lnTo>
                      <a:pt x="355" y="323"/>
                    </a:lnTo>
                    <a:lnTo>
                      <a:pt x="354" y="324"/>
                    </a:lnTo>
                    <a:lnTo>
                      <a:pt x="343" y="324"/>
                    </a:lnTo>
                    <a:lnTo>
                      <a:pt x="343" y="323"/>
                    </a:lnTo>
                    <a:lnTo>
                      <a:pt x="342" y="321"/>
                    </a:lnTo>
                    <a:lnTo>
                      <a:pt x="341" y="321"/>
                    </a:lnTo>
                    <a:lnTo>
                      <a:pt x="339" y="320"/>
                    </a:lnTo>
                    <a:lnTo>
                      <a:pt x="337" y="321"/>
                    </a:lnTo>
                    <a:lnTo>
                      <a:pt x="336" y="321"/>
                    </a:lnTo>
                    <a:lnTo>
                      <a:pt x="335" y="323"/>
                    </a:lnTo>
                    <a:lnTo>
                      <a:pt x="334" y="324"/>
                    </a:lnTo>
                    <a:lnTo>
                      <a:pt x="322" y="324"/>
                    </a:lnTo>
                    <a:lnTo>
                      <a:pt x="321" y="323"/>
                    </a:lnTo>
                    <a:lnTo>
                      <a:pt x="320" y="321"/>
                    </a:lnTo>
                    <a:lnTo>
                      <a:pt x="319" y="321"/>
                    </a:lnTo>
                    <a:lnTo>
                      <a:pt x="317" y="320"/>
                    </a:lnTo>
                    <a:lnTo>
                      <a:pt x="316" y="321"/>
                    </a:lnTo>
                    <a:lnTo>
                      <a:pt x="314" y="321"/>
                    </a:lnTo>
                    <a:lnTo>
                      <a:pt x="313" y="323"/>
                    </a:lnTo>
                    <a:lnTo>
                      <a:pt x="313" y="324"/>
                    </a:lnTo>
                    <a:lnTo>
                      <a:pt x="298" y="324"/>
                    </a:lnTo>
                    <a:lnTo>
                      <a:pt x="298" y="323"/>
                    </a:lnTo>
                    <a:lnTo>
                      <a:pt x="297" y="321"/>
                    </a:lnTo>
                    <a:lnTo>
                      <a:pt x="295" y="321"/>
                    </a:lnTo>
                    <a:lnTo>
                      <a:pt x="294" y="320"/>
                    </a:lnTo>
                    <a:lnTo>
                      <a:pt x="292" y="321"/>
                    </a:lnTo>
                    <a:lnTo>
                      <a:pt x="290" y="321"/>
                    </a:lnTo>
                    <a:lnTo>
                      <a:pt x="290" y="323"/>
                    </a:lnTo>
                    <a:lnTo>
                      <a:pt x="289" y="324"/>
                    </a:lnTo>
                    <a:lnTo>
                      <a:pt x="278" y="324"/>
                    </a:lnTo>
                    <a:lnTo>
                      <a:pt x="278" y="323"/>
                    </a:lnTo>
                    <a:lnTo>
                      <a:pt x="277" y="321"/>
                    </a:lnTo>
                    <a:lnTo>
                      <a:pt x="275" y="321"/>
                    </a:lnTo>
                    <a:lnTo>
                      <a:pt x="273" y="320"/>
                    </a:lnTo>
                    <a:lnTo>
                      <a:pt x="272" y="321"/>
                    </a:lnTo>
                    <a:lnTo>
                      <a:pt x="270" y="321"/>
                    </a:lnTo>
                    <a:lnTo>
                      <a:pt x="269" y="323"/>
                    </a:lnTo>
                    <a:lnTo>
                      <a:pt x="269" y="324"/>
                    </a:lnTo>
                    <a:lnTo>
                      <a:pt x="258" y="324"/>
                    </a:lnTo>
                    <a:lnTo>
                      <a:pt x="257" y="323"/>
                    </a:lnTo>
                    <a:lnTo>
                      <a:pt x="256" y="321"/>
                    </a:lnTo>
                    <a:lnTo>
                      <a:pt x="255" y="321"/>
                    </a:lnTo>
                    <a:lnTo>
                      <a:pt x="253" y="320"/>
                    </a:lnTo>
                    <a:lnTo>
                      <a:pt x="251" y="321"/>
                    </a:lnTo>
                    <a:lnTo>
                      <a:pt x="250" y="321"/>
                    </a:lnTo>
                    <a:lnTo>
                      <a:pt x="249" y="323"/>
                    </a:lnTo>
                    <a:lnTo>
                      <a:pt x="249" y="324"/>
                    </a:lnTo>
                    <a:lnTo>
                      <a:pt x="200" y="324"/>
                    </a:lnTo>
                    <a:lnTo>
                      <a:pt x="200" y="323"/>
                    </a:lnTo>
                    <a:lnTo>
                      <a:pt x="199" y="321"/>
                    </a:lnTo>
                    <a:lnTo>
                      <a:pt x="197" y="321"/>
                    </a:lnTo>
                    <a:lnTo>
                      <a:pt x="196" y="320"/>
                    </a:lnTo>
                    <a:lnTo>
                      <a:pt x="194" y="321"/>
                    </a:lnTo>
                    <a:lnTo>
                      <a:pt x="193" y="321"/>
                    </a:lnTo>
                    <a:lnTo>
                      <a:pt x="192" y="323"/>
                    </a:lnTo>
                    <a:lnTo>
                      <a:pt x="191" y="324"/>
                    </a:lnTo>
                    <a:lnTo>
                      <a:pt x="163" y="324"/>
                    </a:lnTo>
                    <a:lnTo>
                      <a:pt x="162" y="322"/>
                    </a:lnTo>
                    <a:lnTo>
                      <a:pt x="161" y="321"/>
                    </a:lnTo>
                    <a:lnTo>
                      <a:pt x="160" y="319"/>
                    </a:lnTo>
                    <a:lnTo>
                      <a:pt x="158" y="318"/>
                    </a:lnTo>
                    <a:lnTo>
                      <a:pt x="156" y="318"/>
                    </a:lnTo>
                    <a:lnTo>
                      <a:pt x="154" y="318"/>
                    </a:lnTo>
                    <a:lnTo>
                      <a:pt x="151" y="318"/>
                    </a:lnTo>
                    <a:lnTo>
                      <a:pt x="150" y="319"/>
                    </a:lnTo>
                    <a:lnTo>
                      <a:pt x="148" y="321"/>
                    </a:lnTo>
                    <a:lnTo>
                      <a:pt x="147" y="322"/>
                    </a:lnTo>
                    <a:lnTo>
                      <a:pt x="147" y="324"/>
                    </a:lnTo>
                    <a:lnTo>
                      <a:pt x="133" y="324"/>
                    </a:lnTo>
                    <a:lnTo>
                      <a:pt x="132" y="323"/>
                    </a:lnTo>
                    <a:lnTo>
                      <a:pt x="131" y="321"/>
                    </a:lnTo>
                    <a:lnTo>
                      <a:pt x="130" y="321"/>
                    </a:lnTo>
                    <a:lnTo>
                      <a:pt x="128" y="320"/>
                    </a:lnTo>
                    <a:lnTo>
                      <a:pt x="126" y="321"/>
                    </a:lnTo>
                    <a:lnTo>
                      <a:pt x="125" y="321"/>
                    </a:lnTo>
                    <a:lnTo>
                      <a:pt x="124" y="323"/>
                    </a:lnTo>
                    <a:lnTo>
                      <a:pt x="124" y="324"/>
                    </a:lnTo>
                    <a:lnTo>
                      <a:pt x="106" y="324"/>
                    </a:lnTo>
                    <a:lnTo>
                      <a:pt x="105" y="322"/>
                    </a:lnTo>
                    <a:lnTo>
                      <a:pt x="104" y="321"/>
                    </a:lnTo>
                    <a:lnTo>
                      <a:pt x="103" y="319"/>
                    </a:lnTo>
                    <a:lnTo>
                      <a:pt x="101" y="318"/>
                    </a:lnTo>
                    <a:lnTo>
                      <a:pt x="99" y="318"/>
                    </a:lnTo>
                    <a:lnTo>
                      <a:pt x="97" y="318"/>
                    </a:lnTo>
                    <a:lnTo>
                      <a:pt x="95" y="318"/>
                    </a:lnTo>
                    <a:lnTo>
                      <a:pt x="93" y="319"/>
                    </a:lnTo>
                    <a:lnTo>
                      <a:pt x="91" y="321"/>
                    </a:lnTo>
                    <a:lnTo>
                      <a:pt x="90" y="322"/>
                    </a:lnTo>
                    <a:lnTo>
                      <a:pt x="90" y="324"/>
                    </a:lnTo>
                    <a:lnTo>
                      <a:pt x="85" y="324"/>
                    </a:lnTo>
                    <a:lnTo>
                      <a:pt x="85" y="322"/>
                    </a:lnTo>
                    <a:lnTo>
                      <a:pt x="84" y="321"/>
                    </a:lnTo>
                    <a:lnTo>
                      <a:pt x="83" y="319"/>
                    </a:lnTo>
                    <a:lnTo>
                      <a:pt x="81" y="318"/>
                    </a:lnTo>
                    <a:lnTo>
                      <a:pt x="79" y="318"/>
                    </a:lnTo>
                    <a:lnTo>
                      <a:pt x="76" y="318"/>
                    </a:lnTo>
                    <a:lnTo>
                      <a:pt x="74" y="318"/>
                    </a:lnTo>
                    <a:lnTo>
                      <a:pt x="72" y="319"/>
                    </a:lnTo>
                    <a:lnTo>
                      <a:pt x="71" y="321"/>
                    </a:lnTo>
                    <a:lnTo>
                      <a:pt x="70" y="322"/>
                    </a:lnTo>
                    <a:lnTo>
                      <a:pt x="70" y="324"/>
                    </a:lnTo>
                    <a:lnTo>
                      <a:pt x="55" y="324"/>
                    </a:lnTo>
                    <a:lnTo>
                      <a:pt x="55" y="323"/>
                    </a:lnTo>
                    <a:lnTo>
                      <a:pt x="54" y="321"/>
                    </a:lnTo>
                    <a:lnTo>
                      <a:pt x="52" y="321"/>
                    </a:lnTo>
                    <a:lnTo>
                      <a:pt x="51" y="320"/>
                    </a:lnTo>
                    <a:lnTo>
                      <a:pt x="49" y="321"/>
                    </a:lnTo>
                    <a:lnTo>
                      <a:pt x="47" y="321"/>
                    </a:lnTo>
                    <a:lnTo>
                      <a:pt x="46" y="323"/>
                    </a:lnTo>
                    <a:lnTo>
                      <a:pt x="46" y="324"/>
                    </a:lnTo>
                    <a:lnTo>
                      <a:pt x="42" y="324"/>
                    </a:lnTo>
                    <a:lnTo>
                      <a:pt x="41" y="323"/>
                    </a:lnTo>
                    <a:lnTo>
                      <a:pt x="40" y="321"/>
                    </a:lnTo>
                    <a:lnTo>
                      <a:pt x="39" y="321"/>
                    </a:lnTo>
                    <a:lnTo>
                      <a:pt x="37" y="320"/>
                    </a:lnTo>
                    <a:lnTo>
                      <a:pt x="35" y="321"/>
                    </a:lnTo>
                    <a:lnTo>
                      <a:pt x="34" y="321"/>
                    </a:lnTo>
                    <a:lnTo>
                      <a:pt x="33" y="323"/>
                    </a:lnTo>
                    <a:lnTo>
                      <a:pt x="33" y="324"/>
                    </a:lnTo>
                    <a:lnTo>
                      <a:pt x="27" y="324"/>
                    </a:lnTo>
                    <a:lnTo>
                      <a:pt x="27" y="322"/>
                    </a:lnTo>
                    <a:lnTo>
                      <a:pt x="26" y="321"/>
                    </a:lnTo>
                    <a:lnTo>
                      <a:pt x="24" y="320"/>
                    </a:lnTo>
                    <a:lnTo>
                      <a:pt x="23" y="319"/>
                    </a:lnTo>
                    <a:lnTo>
                      <a:pt x="20" y="319"/>
                    </a:lnTo>
                    <a:lnTo>
                      <a:pt x="18" y="319"/>
                    </a:lnTo>
                    <a:lnTo>
                      <a:pt x="17" y="320"/>
                    </a:lnTo>
                    <a:lnTo>
                      <a:pt x="15" y="321"/>
                    </a:lnTo>
                    <a:lnTo>
                      <a:pt x="14" y="322"/>
                    </a:lnTo>
                    <a:lnTo>
                      <a:pt x="14" y="324"/>
                    </a:lnTo>
                    <a:lnTo>
                      <a:pt x="0" y="324"/>
                    </a:lnTo>
                    <a:lnTo>
                      <a:pt x="0" y="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452000" y="276156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11" name=""/>
              <p:cNvSpPr/>
              <p:nvPr/>
            </p:nvSpPr>
            <p:spPr>
              <a:xfrm>
                <a:off x="5015880" y="2307240"/>
                <a:ext cx="889200" cy="1940760"/>
              </a:xfrm>
              <a:custGeom>
                <a:avLst/>
                <a:gdLst/>
                <a:ahLst/>
                <a:rect l="l" t="t" r="r" b="b"/>
                <a:pathLst>
                  <a:path w="840" h="1453">
                    <a:moveTo>
                      <a:pt x="840" y="0"/>
                    </a:moveTo>
                    <a:lnTo>
                      <a:pt x="840" y="124"/>
                    </a:lnTo>
                    <a:lnTo>
                      <a:pt x="833" y="124"/>
                    </a:lnTo>
                    <a:lnTo>
                      <a:pt x="833" y="122"/>
                    </a:lnTo>
                    <a:lnTo>
                      <a:pt x="832" y="121"/>
                    </a:lnTo>
                    <a:lnTo>
                      <a:pt x="830" y="121"/>
                    </a:lnTo>
                    <a:lnTo>
                      <a:pt x="828" y="120"/>
                    </a:lnTo>
                    <a:lnTo>
                      <a:pt x="827" y="121"/>
                    </a:lnTo>
                    <a:lnTo>
                      <a:pt x="825" y="121"/>
                    </a:lnTo>
                    <a:lnTo>
                      <a:pt x="824" y="122"/>
                    </a:lnTo>
                    <a:lnTo>
                      <a:pt x="824" y="124"/>
                    </a:lnTo>
                    <a:lnTo>
                      <a:pt x="818" y="124"/>
                    </a:lnTo>
                    <a:lnTo>
                      <a:pt x="818" y="122"/>
                    </a:lnTo>
                    <a:lnTo>
                      <a:pt x="817" y="121"/>
                    </a:lnTo>
                    <a:lnTo>
                      <a:pt x="815" y="121"/>
                    </a:lnTo>
                    <a:lnTo>
                      <a:pt x="813" y="120"/>
                    </a:lnTo>
                    <a:lnTo>
                      <a:pt x="812" y="121"/>
                    </a:lnTo>
                    <a:lnTo>
                      <a:pt x="810" y="121"/>
                    </a:lnTo>
                    <a:lnTo>
                      <a:pt x="809" y="122"/>
                    </a:lnTo>
                    <a:lnTo>
                      <a:pt x="809" y="124"/>
                    </a:lnTo>
                    <a:lnTo>
                      <a:pt x="800" y="124"/>
                    </a:lnTo>
                    <a:lnTo>
                      <a:pt x="800" y="122"/>
                    </a:lnTo>
                    <a:lnTo>
                      <a:pt x="799" y="121"/>
                    </a:lnTo>
                    <a:lnTo>
                      <a:pt x="798" y="121"/>
                    </a:lnTo>
                    <a:lnTo>
                      <a:pt x="796" y="120"/>
                    </a:lnTo>
                    <a:lnTo>
                      <a:pt x="794" y="121"/>
                    </a:lnTo>
                    <a:lnTo>
                      <a:pt x="793" y="121"/>
                    </a:lnTo>
                    <a:lnTo>
                      <a:pt x="792" y="122"/>
                    </a:lnTo>
                    <a:lnTo>
                      <a:pt x="791" y="124"/>
                    </a:lnTo>
                    <a:lnTo>
                      <a:pt x="757" y="124"/>
                    </a:lnTo>
                    <a:lnTo>
                      <a:pt x="756" y="122"/>
                    </a:lnTo>
                    <a:lnTo>
                      <a:pt x="756" y="121"/>
                    </a:lnTo>
                    <a:lnTo>
                      <a:pt x="754" y="121"/>
                    </a:lnTo>
                    <a:lnTo>
                      <a:pt x="752" y="120"/>
                    </a:lnTo>
                    <a:lnTo>
                      <a:pt x="751" y="121"/>
                    </a:lnTo>
                    <a:lnTo>
                      <a:pt x="749" y="121"/>
                    </a:lnTo>
                    <a:lnTo>
                      <a:pt x="748" y="122"/>
                    </a:lnTo>
                    <a:lnTo>
                      <a:pt x="748" y="124"/>
                    </a:lnTo>
                    <a:lnTo>
                      <a:pt x="732" y="124"/>
                    </a:lnTo>
                    <a:lnTo>
                      <a:pt x="732" y="122"/>
                    </a:lnTo>
                    <a:lnTo>
                      <a:pt x="731" y="121"/>
                    </a:lnTo>
                    <a:lnTo>
                      <a:pt x="730" y="121"/>
                    </a:lnTo>
                    <a:lnTo>
                      <a:pt x="728" y="120"/>
                    </a:lnTo>
                    <a:lnTo>
                      <a:pt x="726" y="121"/>
                    </a:lnTo>
                    <a:lnTo>
                      <a:pt x="725" y="121"/>
                    </a:lnTo>
                    <a:lnTo>
                      <a:pt x="724" y="122"/>
                    </a:lnTo>
                    <a:lnTo>
                      <a:pt x="723" y="124"/>
                    </a:lnTo>
                    <a:lnTo>
                      <a:pt x="711" y="124"/>
                    </a:lnTo>
                    <a:lnTo>
                      <a:pt x="710" y="122"/>
                    </a:lnTo>
                    <a:lnTo>
                      <a:pt x="709" y="121"/>
                    </a:lnTo>
                    <a:lnTo>
                      <a:pt x="708" y="121"/>
                    </a:lnTo>
                    <a:lnTo>
                      <a:pt x="706" y="120"/>
                    </a:lnTo>
                    <a:lnTo>
                      <a:pt x="704" y="121"/>
                    </a:lnTo>
                    <a:lnTo>
                      <a:pt x="703" y="121"/>
                    </a:lnTo>
                    <a:lnTo>
                      <a:pt x="702" y="122"/>
                    </a:lnTo>
                    <a:lnTo>
                      <a:pt x="702" y="124"/>
                    </a:lnTo>
                    <a:lnTo>
                      <a:pt x="623" y="124"/>
                    </a:lnTo>
                    <a:lnTo>
                      <a:pt x="623" y="122"/>
                    </a:lnTo>
                    <a:lnTo>
                      <a:pt x="622" y="121"/>
                    </a:lnTo>
                    <a:lnTo>
                      <a:pt x="620" y="121"/>
                    </a:lnTo>
                    <a:lnTo>
                      <a:pt x="618" y="120"/>
                    </a:lnTo>
                    <a:lnTo>
                      <a:pt x="617" y="121"/>
                    </a:lnTo>
                    <a:lnTo>
                      <a:pt x="615" y="121"/>
                    </a:lnTo>
                    <a:lnTo>
                      <a:pt x="614" y="122"/>
                    </a:lnTo>
                    <a:lnTo>
                      <a:pt x="614" y="124"/>
                    </a:lnTo>
                    <a:lnTo>
                      <a:pt x="495" y="124"/>
                    </a:lnTo>
                    <a:lnTo>
                      <a:pt x="494" y="122"/>
                    </a:lnTo>
                    <a:lnTo>
                      <a:pt x="493" y="121"/>
                    </a:lnTo>
                    <a:lnTo>
                      <a:pt x="492" y="121"/>
                    </a:lnTo>
                    <a:lnTo>
                      <a:pt x="490" y="120"/>
                    </a:lnTo>
                    <a:lnTo>
                      <a:pt x="488" y="121"/>
                    </a:lnTo>
                    <a:lnTo>
                      <a:pt x="487" y="121"/>
                    </a:lnTo>
                    <a:lnTo>
                      <a:pt x="486" y="122"/>
                    </a:lnTo>
                    <a:lnTo>
                      <a:pt x="486" y="124"/>
                    </a:lnTo>
                    <a:lnTo>
                      <a:pt x="467" y="124"/>
                    </a:lnTo>
                    <a:lnTo>
                      <a:pt x="466" y="122"/>
                    </a:lnTo>
                    <a:lnTo>
                      <a:pt x="466" y="121"/>
                    </a:lnTo>
                    <a:lnTo>
                      <a:pt x="464" y="121"/>
                    </a:lnTo>
                    <a:lnTo>
                      <a:pt x="462" y="120"/>
                    </a:lnTo>
                    <a:lnTo>
                      <a:pt x="461" y="121"/>
                    </a:lnTo>
                    <a:lnTo>
                      <a:pt x="459" y="121"/>
                    </a:lnTo>
                    <a:lnTo>
                      <a:pt x="458" y="122"/>
                    </a:lnTo>
                    <a:lnTo>
                      <a:pt x="458" y="124"/>
                    </a:lnTo>
                    <a:lnTo>
                      <a:pt x="431" y="124"/>
                    </a:lnTo>
                    <a:lnTo>
                      <a:pt x="431" y="1453"/>
                    </a:lnTo>
                    <a:lnTo>
                      <a:pt x="423" y="1453"/>
                    </a:lnTo>
                    <a:lnTo>
                      <a:pt x="422" y="1451"/>
                    </a:lnTo>
                    <a:lnTo>
                      <a:pt x="421" y="1450"/>
                    </a:lnTo>
                    <a:lnTo>
                      <a:pt x="420" y="1448"/>
                    </a:lnTo>
                    <a:lnTo>
                      <a:pt x="417" y="1447"/>
                    </a:lnTo>
                    <a:lnTo>
                      <a:pt x="415" y="1447"/>
                    </a:lnTo>
                    <a:lnTo>
                      <a:pt x="413" y="1447"/>
                    </a:lnTo>
                    <a:lnTo>
                      <a:pt x="410" y="1447"/>
                    </a:lnTo>
                    <a:lnTo>
                      <a:pt x="408" y="1448"/>
                    </a:lnTo>
                    <a:lnTo>
                      <a:pt x="407" y="1450"/>
                    </a:lnTo>
                    <a:lnTo>
                      <a:pt x="406" y="1451"/>
                    </a:lnTo>
                    <a:lnTo>
                      <a:pt x="405" y="1453"/>
                    </a:lnTo>
                    <a:lnTo>
                      <a:pt x="394" y="1453"/>
                    </a:lnTo>
                    <a:lnTo>
                      <a:pt x="394" y="1452"/>
                    </a:lnTo>
                    <a:lnTo>
                      <a:pt x="393" y="1451"/>
                    </a:lnTo>
                    <a:lnTo>
                      <a:pt x="391" y="1450"/>
                    </a:lnTo>
                    <a:lnTo>
                      <a:pt x="389" y="1450"/>
                    </a:lnTo>
                    <a:lnTo>
                      <a:pt x="388" y="1450"/>
                    </a:lnTo>
                    <a:lnTo>
                      <a:pt x="386" y="1451"/>
                    </a:lnTo>
                    <a:lnTo>
                      <a:pt x="385" y="1452"/>
                    </a:lnTo>
                    <a:lnTo>
                      <a:pt x="385" y="1453"/>
                    </a:lnTo>
                    <a:lnTo>
                      <a:pt x="351" y="1453"/>
                    </a:lnTo>
                    <a:lnTo>
                      <a:pt x="351" y="1452"/>
                    </a:lnTo>
                    <a:lnTo>
                      <a:pt x="350" y="1451"/>
                    </a:lnTo>
                    <a:lnTo>
                      <a:pt x="348" y="1450"/>
                    </a:lnTo>
                    <a:lnTo>
                      <a:pt x="347" y="1450"/>
                    </a:lnTo>
                    <a:lnTo>
                      <a:pt x="345" y="1450"/>
                    </a:lnTo>
                    <a:lnTo>
                      <a:pt x="343" y="1451"/>
                    </a:lnTo>
                    <a:lnTo>
                      <a:pt x="343" y="1452"/>
                    </a:lnTo>
                    <a:lnTo>
                      <a:pt x="342" y="1453"/>
                    </a:lnTo>
                    <a:lnTo>
                      <a:pt x="338" y="1453"/>
                    </a:lnTo>
                    <a:lnTo>
                      <a:pt x="337" y="1452"/>
                    </a:lnTo>
                    <a:lnTo>
                      <a:pt x="336" y="1450"/>
                    </a:lnTo>
                    <a:lnTo>
                      <a:pt x="335" y="1449"/>
                    </a:lnTo>
                    <a:lnTo>
                      <a:pt x="333" y="1448"/>
                    </a:lnTo>
                    <a:lnTo>
                      <a:pt x="331" y="1447"/>
                    </a:lnTo>
                    <a:lnTo>
                      <a:pt x="329" y="1447"/>
                    </a:lnTo>
                    <a:lnTo>
                      <a:pt x="327" y="1448"/>
                    </a:lnTo>
                    <a:lnTo>
                      <a:pt x="325" y="1449"/>
                    </a:lnTo>
                    <a:lnTo>
                      <a:pt x="323" y="1450"/>
                    </a:lnTo>
                    <a:lnTo>
                      <a:pt x="322" y="1452"/>
                    </a:lnTo>
                    <a:lnTo>
                      <a:pt x="322" y="1453"/>
                    </a:lnTo>
                    <a:lnTo>
                      <a:pt x="297" y="1453"/>
                    </a:lnTo>
                    <a:lnTo>
                      <a:pt x="297" y="1452"/>
                    </a:lnTo>
                    <a:lnTo>
                      <a:pt x="296" y="1451"/>
                    </a:lnTo>
                    <a:lnTo>
                      <a:pt x="294" y="1450"/>
                    </a:lnTo>
                    <a:lnTo>
                      <a:pt x="293" y="1450"/>
                    </a:lnTo>
                    <a:lnTo>
                      <a:pt x="291" y="1450"/>
                    </a:lnTo>
                    <a:lnTo>
                      <a:pt x="289" y="1451"/>
                    </a:lnTo>
                    <a:lnTo>
                      <a:pt x="288" y="1452"/>
                    </a:lnTo>
                    <a:lnTo>
                      <a:pt x="288" y="1453"/>
                    </a:lnTo>
                    <a:lnTo>
                      <a:pt x="209" y="1453"/>
                    </a:lnTo>
                    <a:lnTo>
                      <a:pt x="209" y="1452"/>
                    </a:lnTo>
                    <a:lnTo>
                      <a:pt x="208" y="1451"/>
                    </a:lnTo>
                    <a:lnTo>
                      <a:pt x="206" y="1450"/>
                    </a:lnTo>
                    <a:lnTo>
                      <a:pt x="205" y="1450"/>
                    </a:lnTo>
                    <a:lnTo>
                      <a:pt x="203" y="1450"/>
                    </a:lnTo>
                    <a:lnTo>
                      <a:pt x="201" y="1451"/>
                    </a:lnTo>
                    <a:lnTo>
                      <a:pt x="200" y="1452"/>
                    </a:lnTo>
                    <a:lnTo>
                      <a:pt x="200" y="1453"/>
                    </a:lnTo>
                    <a:lnTo>
                      <a:pt x="180" y="1453"/>
                    </a:lnTo>
                    <a:lnTo>
                      <a:pt x="180" y="1452"/>
                    </a:lnTo>
                    <a:lnTo>
                      <a:pt x="179" y="1451"/>
                    </a:lnTo>
                    <a:lnTo>
                      <a:pt x="177" y="1450"/>
                    </a:lnTo>
                    <a:lnTo>
                      <a:pt x="176" y="1450"/>
                    </a:lnTo>
                    <a:lnTo>
                      <a:pt x="174" y="1450"/>
                    </a:lnTo>
                    <a:lnTo>
                      <a:pt x="173" y="1451"/>
                    </a:lnTo>
                    <a:lnTo>
                      <a:pt x="172" y="1452"/>
                    </a:lnTo>
                    <a:lnTo>
                      <a:pt x="171" y="1453"/>
                    </a:lnTo>
                    <a:lnTo>
                      <a:pt x="162" y="1453"/>
                    </a:lnTo>
                    <a:lnTo>
                      <a:pt x="162" y="1452"/>
                    </a:lnTo>
                    <a:lnTo>
                      <a:pt x="161" y="1451"/>
                    </a:lnTo>
                    <a:lnTo>
                      <a:pt x="159" y="1450"/>
                    </a:lnTo>
                    <a:lnTo>
                      <a:pt x="158" y="1450"/>
                    </a:lnTo>
                    <a:lnTo>
                      <a:pt x="156" y="1450"/>
                    </a:lnTo>
                    <a:lnTo>
                      <a:pt x="154" y="1451"/>
                    </a:lnTo>
                    <a:lnTo>
                      <a:pt x="153" y="1452"/>
                    </a:lnTo>
                    <a:lnTo>
                      <a:pt x="153" y="1453"/>
                    </a:lnTo>
                    <a:lnTo>
                      <a:pt x="100" y="1453"/>
                    </a:lnTo>
                    <a:lnTo>
                      <a:pt x="100" y="1452"/>
                    </a:lnTo>
                    <a:lnTo>
                      <a:pt x="99" y="1451"/>
                    </a:lnTo>
                    <a:lnTo>
                      <a:pt x="98" y="1450"/>
                    </a:lnTo>
                    <a:lnTo>
                      <a:pt x="96" y="1450"/>
                    </a:lnTo>
                    <a:lnTo>
                      <a:pt x="94" y="1450"/>
                    </a:lnTo>
                    <a:lnTo>
                      <a:pt x="93" y="1451"/>
                    </a:lnTo>
                    <a:lnTo>
                      <a:pt x="92" y="1452"/>
                    </a:lnTo>
                    <a:lnTo>
                      <a:pt x="91" y="1453"/>
                    </a:lnTo>
                    <a:lnTo>
                      <a:pt x="47" y="1453"/>
                    </a:lnTo>
                    <a:lnTo>
                      <a:pt x="47" y="1452"/>
                    </a:lnTo>
                    <a:lnTo>
                      <a:pt x="46" y="1451"/>
                    </a:lnTo>
                    <a:lnTo>
                      <a:pt x="44" y="1450"/>
                    </a:lnTo>
                    <a:lnTo>
                      <a:pt x="43" y="1450"/>
                    </a:lnTo>
                    <a:lnTo>
                      <a:pt x="41" y="1450"/>
                    </a:lnTo>
                    <a:lnTo>
                      <a:pt x="40" y="1451"/>
                    </a:lnTo>
                    <a:lnTo>
                      <a:pt x="38" y="1452"/>
                    </a:lnTo>
                    <a:lnTo>
                      <a:pt x="38" y="1453"/>
                    </a:lnTo>
                    <a:lnTo>
                      <a:pt x="0" y="145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004000" y="4242960"/>
                <a:ext cx="13680" cy="11880"/>
              </a:xfrm>
              <a:custGeom>
                <a:avLst/>
                <a:gdLst/>
                <a:ahLst/>
                <a:rect l="l" t="t" r="r" b="b"/>
                <a:pathLst>
                  <a:path w="13" h="9">
                    <a:moveTo>
                      <a:pt x="11" y="9"/>
                    </a:moveTo>
                    <a:lnTo>
                      <a:pt x="0" y="4"/>
                    </a:lnTo>
                    <a:lnTo>
                      <a:pt x="11" y="0"/>
                    </a:lnTo>
                    <a:lnTo>
                      <a:pt x="13" y="2"/>
                    </a:lnTo>
                    <a:lnTo>
                      <a:pt x="13" y="4"/>
                    </a:lnTo>
                    <a:lnTo>
                      <a:pt x="13" y="7"/>
                    </a:lnTo>
                    <a:lnTo>
                      <a:pt x="11"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13" name=""/>
              <p:cNvSpPr/>
              <p:nvPr/>
            </p:nvSpPr>
            <p:spPr>
              <a:xfrm>
                <a:off x="6645960" y="2526480"/>
                <a:ext cx="1101960" cy="75960"/>
              </a:xfrm>
              <a:custGeom>
                <a:avLst/>
                <a:gdLst/>
                <a:ahLst/>
                <a:rect l="l" t="t" r="r" b="b"/>
                <a:pathLst>
                  <a:path w="1041" h="57">
                    <a:moveTo>
                      <a:pt x="1041" y="57"/>
                    </a:moveTo>
                    <a:lnTo>
                      <a:pt x="1041" y="3"/>
                    </a:lnTo>
                    <a:lnTo>
                      <a:pt x="846" y="3"/>
                    </a:lnTo>
                    <a:lnTo>
                      <a:pt x="846" y="2"/>
                    </a:lnTo>
                    <a:lnTo>
                      <a:pt x="845" y="1"/>
                    </a:lnTo>
                    <a:lnTo>
                      <a:pt x="843" y="0"/>
                    </a:lnTo>
                    <a:lnTo>
                      <a:pt x="841" y="0"/>
                    </a:lnTo>
                    <a:lnTo>
                      <a:pt x="840" y="0"/>
                    </a:lnTo>
                    <a:lnTo>
                      <a:pt x="838" y="1"/>
                    </a:lnTo>
                    <a:lnTo>
                      <a:pt x="837" y="2"/>
                    </a:lnTo>
                    <a:lnTo>
                      <a:pt x="837" y="3"/>
                    </a:lnTo>
                    <a:lnTo>
                      <a:pt x="723" y="3"/>
                    </a:lnTo>
                    <a:lnTo>
                      <a:pt x="722" y="2"/>
                    </a:lnTo>
                    <a:lnTo>
                      <a:pt x="721" y="1"/>
                    </a:lnTo>
                    <a:lnTo>
                      <a:pt x="720" y="0"/>
                    </a:lnTo>
                    <a:lnTo>
                      <a:pt x="718" y="0"/>
                    </a:lnTo>
                    <a:lnTo>
                      <a:pt x="716" y="0"/>
                    </a:lnTo>
                    <a:lnTo>
                      <a:pt x="715" y="1"/>
                    </a:lnTo>
                    <a:lnTo>
                      <a:pt x="714" y="2"/>
                    </a:lnTo>
                    <a:lnTo>
                      <a:pt x="714" y="3"/>
                    </a:lnTo>
                    <a:lnTo>
                      <a:pt x="689" y="3"/>
                    </a:lnTo>
                    <a:lnTo>
                      <a:pt x="689" y="2"/>
                    </a:lnTo>
                    <a:lnTo>
                      <a:pt x="687" y="1"/>
                    </a:lnTo>
                    <a:lnTo>
                      <a:pt x="686" y="0"/>
                    </a:lnTo>
                    <a:lnTo>
                      <a:pt x="684" y="0"/>
                    </a:lnTo>
                    <a:lnTo>
                      <a:pt x="683" y="0"/>
                    </a:lnTo>
                    <a:lnTo>
                      <a:pt x="681" y="1"/>
                    </a:lnTo>
                    <a:lnTo>
                      <a:pt x="680" y="2"/>
                    </a:lnTo>
                    <a:lnTo>
                      <a:pt x="680" y="3"/>
                    </a:lnTo>
                    <a:lnTo>
                      <a:pt x="662" y="3"/>
                    </a:lnTo>
                    <a:lnTo>
                      <a:pt x="662" y="2"/>
                    </a:lnTo>
                    <a:lnTo>
                      <a:pt x="660" y="1"/>
                    </a:lnTo>
                    <a:lnTo>
                      <a:pt x="659" y="0"/>
                    </a:lnTo>
                    <a:lnTo>
                      <a:pt x="657" y="0"/>
                    </a:lnTo>
                    <a:lnTo>
                      <a:pt x="656" y="0"/>
                    </a:lnTo>
                    <a:lnTo>
                      <a:pt x="654" y="1"/>
                    </a:lnTo>
                    <a:lnTo>
                      <a:pt x="653" y="2"/>
                    </a:lnTo>
                    <a:lnTo>
                      <a:pt x="653" y="3"/>
                    </a:lnTo>
                    <a:lnTo>
                      <a:pt x="628" y="3"/>
                    </a:lnTo>
                    <a:lnTo>
                      <a:pt x="628" y="2"/>
                    </a:lnTo>
                    <a:lnTo>
                      <a:pt x="627" y="1"/>
                    </a:lnTo>
                    <a:lnTo>
                      <a:pt x="625" y="0"/>
                    </a:lnTo>
                    <a:lnTo>
                      <a:pt x="624" y="0"/>
                    </a:lnTo>
                    <a:lnTo>
                      <a:pt x="622" y="0"/>
                    </a:lnTo>
                    <a:lnTo>
                      <a:pt x="620" y="1"/>
                    </a:lnTo>
                    <a:lnTo>
                      <a:pt x="620" y="2"/>
                    </a:lnTo>
                    <a:lnTo>
                      <a:pt x="619" y="3"/>
                    </a:lnTo>
                    <a:lnTo>
                      <a:pt x="588" y="3"/>
                    </a:lnTo>
                    <a:lnTo>
                      <a:pt x="587" y="2"/>
                    </a:lnTo>
                    <a:lnTo>
                      <a:pt x="586" y="1"/>
                    </a:lnTo>
                    <a:lnTo>
                      <a:pt x="585" y="0"/>
                    </a:lnTo>
                    <a:lnTo>
                      <a:pt x="583" y="0"/>
                    </a:lnTo>
                    <a:lnTo>
                      <a:pt x="581" y="0"/>
                    </a:lnTo>
                    <a:lnTo>
                      <a:pt x="580" y="1"/>
                    </a:lnTo>
                    <a:lnTo>
                      <a:pt x="579" y="2"/>
                    </a:lnTo>
                    <a:lnTo>
                      <a:pt x="578" y="3"/>
                    </a:lnTo>
                    <a:lnTo>
                      <a:pt x="560" y="3"/>
                    </a:lnTo>
                    <a:lnTo>
                      <a:pt x="560" y="2"/>
                    </a:lnTo>
                    <a:lnTo>
                      <a:pt x="559" y="1"/>
                    </a:lnTo>
                    <a:lnTo>
                      <a:pt x="558" y="0"/>
                    </a:lnTo>
                    <a:lnTo>
                      <a:pt x="556" y="0"/>
                    </a:lnTo>
                    <a:lnTo>
                      <a:pt x="554" y="0"/>
                    </a:lnTo>
                    <a:lnTo>
                      <a:pt x="553" y="1"/>
                    </a:lnTo>
                    <a:lnTo>
                      <a:pt x="552" y="2"/>
                    </a:lnTo>
                    <a:lnTo>
                      <a:pt x="551" y="3"/>
                    </a:lnTo>
                    <a:lnTo>
                      <a:pt x="540" y="3"/>
                    </a:lnTo>
                    <a:lnTo>
                      <a:pt x="539" y="2"/>
                    </a:lnTo>
                    <a:lnTo>
                      <a:pt x="539" y="1"/>
                    </a:lnTo>
                    <a:lnTo>
                      <a:pt x="537" y="0"/>
                    </a:lnTo>
                    <a:lnTo>
                      <a:pt x="535" y="0"/>
                    </a:lnTo>
                    <a:lnTo>
                      <a:pt x="534" y="0"/>
                    </a:lnTo>
                    <a:lnTo>
                      <a:pt x="532" y="1"/>
                    </a:lnTo>
                    <a:lnTo>
                      <a:pt x="531" y="2"/>
                    </a:lnTo>
                    <a:lnTo>
                      <a:pt x="531" y="3"/>
                    </a:lnTo>
                    <a:lnTo>
                      <a:pt x="518" y="3"/>
                    </a:lnTo>
                    <a:lnTo>
                      <a:pt x="517" y="2"/>
                    </a:lnTo>
                    <a:lnTo>
                      <a:pt x="517" y="1"/>
                    </a:lnTo>
                    <a:lnTo>
                      <a:pt x="515" y="0"/>
                    </a:lnTo>
                    <a:lnTo>
                      <a:pt x="513" y="0"/>
                    </a:lnTo>
                    <a:lnTo>
                      <a:pt x="512" y="0"/>
                    </a:lnTo>
                    <a:lnTo>
                      <a:pt x="510" y="1"/>
                    </a:lnTo>
                    <a:lnTo>
                      <a:pt x="509" y="2"/>
                    </a:lnTo>
                    <a:lnTo>
                      <a:pt x="509" y="3"/>
                    </a:lnTo>
                    <a:lnTo>
                      <a:pt x="492" y="3"/>
                    </a:lnTo>
                    <a:lnTo>
                      <a:pt x="492" y="2"/>
                    </a:lnTo>
                    <a:lnTo>
                      <a:pt x="491" y="1"/>
                    </a:lnTo>
                    <a:lnTo>
                      <a:pt x="489" y="0"/>
                    </a:lnTo>
                    <a:lnTo>
                      <a:pt x="488" y="0"/>
                    </a:lnTo>
                    <a:lnTo>
                      <a:pt x="486" y="0"/>
                    </a:lnTo>
                    <a:lnTo>
                      <a:pt x="484" y="1"/>
                    </a:lnTo>
                    <a:lnTo>
                      <a:pt x="483" y="2"/>
                    </a:lnTo>
                    <a:lnTo>
                      <a:pt x="483" y="3"/>
                    </a:lnTo>
                    <a:lnTo>
                      <a:pt x="473" y="3"/>
                    </a:lnTo>
                    <a:lnTo>
                      <a:pt x="472" y="2"/>
                    </a:lnTo>
                    <a:lnTo>
                      <a:pt x="471" y="1"/>
                    </a:lnTo>
                    <a:lnTo>
                      <a:pt x="470" y="0"/>
                    </a:lnTo>
                    <a:lnTo>
                      <a:pt x="468" y="0"/>
                    </a:lnTo>
                    <a:lnTo>
                      <a:pt x="466" y="0"/>
                    </a:lnTo>
                    <a:lnTo>
                      <a:pt x="465" y="1"/>
                    </a:lnTo>
                    <a:lnTo>
                      <a:pt x="464" y="2"/>
                    </a:lnTo>
                    <a:lnTo>
                      <a:pt x="464" y="3"/>
                    </a:lnTo>
                    <a:lnTo>
                      <a:pt x="440" y="3"/>
                    </a:lnTo>
                    <a:lnTo>
                      <a:pt x="440" y="2"/>
                    </a:lnTo>
                    <a:lnTo>
                      <a:pt x="439" y="1"/>
                    </a:lnTo>
                    <a:lnTo>
                      <a:pt x="437" y="0"/>
                    </a:lnTo>
                    <a:lnTo>
                      <a:pt x="436" y="0"/>
                    </a:lnTo>
                    <a:lnTo>
                      <a:pt x="434" y="0"/>
                    </a:lnTo>
                    <a:lnTo>
                      <a:pt x="432" y="1"/>
                    </a:lnTo>
                    <a:lnTo>
                      <a:pt x="432" y="2"/>
                    </a:lnTo>
                    <a:lnTo>
                      <a:pt x="431" y="3"/>
                    </a:lnTo>
                    <a:lnTo>
                      <a:pt x="398" y="3"/>
                    </a:lnTo>
                    <a:lnTo>
                      <a:pt x="398" y="2"/>
                    </a:lnTo>
                    <a:lnTo>
                      <a:pt x="397" y="1"/>
                    </a:lnTo>
                    <a:lnTo>
                      <a:pt x="395" y="0"/>
                    </a:lnTo>
                    <a:lnTo>
                      <a:pt x="394" y="0"/>
                    </a:lnTo>
                    <a:lnTo>
                      <a:pt x="392" y="0"/>
                    </a:lnTo>
                    <a:lnTo>
                      <a:pt x="390" y="1"/>
                    </a:lnTo>
                    <a:lnTo>
                      <a:pt x="389" y="2"/>
                    </a:lnTo>
                    <a:lnTo>
                      <a:pt x="389" y="3"/>
                    </a:lnTo>
                    <a:lnTo>
                      <a:pt x="151" y="3"/>
                    </a:lnTo>
                    <a:lnTo>
                      <a:pt x="150" y="2"/>
                    </a:lnTo>
                    <a:lnTo>
                      <a:pt x="149" y="1"/>
                    </a:lnTo>
                    <a:lnTo>
                      <a:pt x="148" y="0"/>
                    </a:lnTo>
                    <a:lnTo>
                      <a:pt x="146" y="0"/>
                    </a:lnTo>
                    <a:lnTo>
                      <a:pt x="145" y="0"/>
                    </a:lnTo>
                    <a:lnTo>
                      <a:pt x="143" y="1"/>
                    </a:lnTo>
                    <a:lnTo>
                      <a:pt x="142" y="2"/>
                    </a:lnTo>
                    <a:lnTo>
                      <a:pt x="142" y="3"/>
                    </a:lnTo>
                    <a:lnTo>
                      <a:pt x="128" y="3"/>
                    </a:lnTo>
                    <a:lnTo>
                      <a:pt x="128" y="2"/>
                    </a:lnTo>
                    <a:lnTo>
                      <a:pt x="127" y="1"/>
                    </a:lnTo>
                    <a:lnTo>
                      <a:pt x="125" y="0"/>
                    </a:lnTo>
                    <a:lnTo>
                      <a:pt x="124" y="0"/>
                    </a:lnTo>
                    <a:lnTo>
                      <a:pt x="122" y="0"/>
                    </a:lnTo>
                    <a:lnTo>
                      <a:pt x="121" y="1"/>
                    </a:lnTo>
                    <a:lnTo>
                      <a:pt x="120" y="2"/>
                    </a:lnTo>
                    <a:lnTo>
                      <a:pt x="119" y="3"/>
                    </a:lnTo>
                    <a:lnTo>
                      <a:pt x="98" y="3"/>
                    </a:lnTo>
                    <a:lnTo>
                      <a:pt x="98" y="2"/>
                    </a:lnTo>
                    <a:lnTo>
                      <a:pt x="96" y="1"/>
                    </a:lnTo>
                    <a:lnTo>
                      <a:pt x="95" y="0"/>
                    </a:lnTo>
                    <a:lnTo>
                      <a:pt x="93" y="0"/>
                    </a:lnTo>
                    <a:lnTo>
                      <a:pt x="92" y="0"/>
                    </a:lnTo>
                    <a:lnTo>
                      <a:pt x="90" y="1"/>
                    </a:lnTo>
                    <a:lnTo>
                      <a:pt x="89" y="2"/>
                    </a:lnTo>
                    <a:lnTo>
                      <a:pt x="89" y="3"/>
                    </a:lnTo>
                    <a:lnTo>
                      <a:pt x="77" y="3"/>
                    </a:lnTo>
                    <a:lnTo>
                      <a:pt x="76" y="2"/>
                    </a:lnTo>
                    <a:lnTo>
                      <a:pt x="75" y="1"/>
                    </a:lnTo>
                    <a:lnTo>
                      <a:pt x="74" y="0"/>
                    </a:lnTo>
                    <a:lnTo>
                      <a:pt x="72" y="0"/>
                    </a:lnTo>
                    <a:lnTo>
                      <a:pt x="70" y="0"/>
                    </a:lnTo>
                    <a:lnTo>
                      <a:pt x="69" y="1"/>
                    </a:lnTo>
                    <a:lnTo>
                      <a:pt x="68" y="2"/>
                    </a:lnTo>
                    <a:lnTo>
                      <a:pt x="67" y="3"/>
                    </a:lnTo>
                    <a:lnTo>
                      <a:pt x="33" y="3"/>
                    </a:lnTo>
                    <a:lnTo>
                      <a:pt x="33" y="2"/>
                    </a:lnTo>
                    <a:lnTo>
                      <a:pt x="32" y="1"/>
                    </a:lnTo>
                    <a:lnTo>
                      <a:pt x="31" y="0"/>
                    </a:lnTo>
                    <a:lnTo>
                      <a:pt x="29" y="0"/>
                    </a:lnTo>
                    <a:lnTo>
                      <a:pt x="27" y="0"/>
                    </a:lnTo>
                    <a:lnTo>
                      <a:pt x="26" y="1"/>
                    </a:lnTo>
                    <a:lnTo>
                      <a:pt x="25" y="2"/>
                    </a:lnTo>
                    <a:lnTo>
                      <a:pt x="24" y="3"/>
                    </a:lnTo>
                    <a:lnTo>
                      <a:pt x="0" y="3"/>
                    </a:lnTo>
                  </a:path>
                </a:pathLst>
              </a:custGeom>
              <a:noFill/>
              <a:ln w="1440">
                <a:solidFill>
                  <a:srgbClr val="ff00ff"/>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14" name=""/>
              <p:cNvSpPr/>
              <p:nvPr/>
            </p:nvSpPr>
            <p:spPr>
              <a:xfrm>
                <a:off x="7741800" y="260136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15" name=""/>
              <p:cNvSpPr/>
              <p:nvPr/>
            </p:nvSpPr>
            <p:spPr>
              <a:xfrm>
                <a:off x="6634440" y="2525040"/>
                <a:ext cx="13680" cy="11880"/>
              </a:xfrm>
              <a:custGeom>
                <a:avLst/>
                <a:gdLst/>
                <a:ahLst/>
                <a:rect l="l" t="t" r="r" b="b"/>
                <a:pathLst>
                  <a:path w="13" h="9">
                    <a:moveTo>
                      <a:pt x="11" y="9"/>
                    </a:moveTo>
                    <a:lnTo>
                      <a:pt x="0" y="4"/>
                    </a:lnTo>
                    <a:lnTo>
                      <a:pt x="11" y="0"/>
                    </a:lnTo>
                    <a:lnTo>
                      <a:pt x="13" y="2"/>
                    </a:lnTo>
                    <a:lnTo>
                      <a:pt x="13" y="4"/>
                    </a:lnTo>
                    <a:lnTo>
                      <a:pt x="13" y="7"/>
                    </a:lnTo>
                    <a:lnTo>
                      <a:pt x="11"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16" name=""/>
              <p:cNvSpPr/>
              <p:nvPr/>
            </p:nvSpPr>
            <p:spPr>
              <a:xfrm>
                <a:off x="6645960" y="2583720"/>
                <a:ext cx="182880" cy="519480"/>
              </a:xfrm>
              <a:custGeom>
                <a:avLst/>
                <a:gdLst/>
                <a:ahLst/>
                <a:rect l="l" t="t" r="r" b="b"/>
                <a:pathLst>
                  <a:path w="173" h="389">
                    <a:moveTo>
                      <a:pt x="173" y="389"/>
                    </a:moveTo>
                    <a:lnTo>
                      <a:pt x="173" y="4"/>
                    </a:lnTo>
                    <a:lnTo>
                      <a:pt x="151" y="4"/>
                    </a:lnTo>
                    <a:lnTo>
                      <a:pt x="150" y="3"/>
                    </a:lnTo>
                    <a:lnTo>
                      <a:pt x="149" y="1"/>
                    </a:lnTo>
                    <a:lnTo>
                      <a:pt x="148" y="1"/>
                    </a:lnTo>
                    <a:lnTo>
                      <a:pt x="146" y="0"/>
                    </a:lnTo>
                    <a:lnTo>
                      <a:pt x="145" y="1"/>
                    </a:lnTo>
                    <a:lnTo>
                      <a:pt x="143" y="1"/>
                    </a:lnTo>
                    <a:lnTo>
                      <a:pt x="142" y="3"/>
                    </a:lnTo>
                    <a:lnTo>
                      <a:pt x="142" y="4"/>
                    </a:lnTo>
                    <a:lnTo>
                      <a:pt x="128" y="4"/>
                    </a:lnTo>
                    <a:lnTo>
                      <a:pt x="128" y="3"/>
                    </a:lnTo>
                    <a:lnTo>
                      <a:pt x="127" y="1"/>
                    </a:lnTo>
                    <a:lnTo>
                      <a:pt x="125" y="1"/>
                    </a:lnTo>
                    <a:lnTo>
                      <a:pt x="124" y="0"/>
                    </a:lnTo>
                    <a:lnTo>
                      <a:pt x="122" y="1"/>
                    </a:lnTo>
                    <a:lnTo>
                      <a:pt x="121" y="1"/>
                    </a:lnTo>
                    <a:lnTo>
                      <a:pt x="120" y="3"/>
                    </a:lnTo>
                    <a:lnTo>
                      <a:pt x="119" y="4"/>
                    </a:lnTo>
                    <a:lnTo>
                      <a:pt x="98" y="4"/>
                    </a:lnTo>
                    <a:lnTo>
                      <a:pt x="98" y="3"/>
                    </a:lnTo>
                    <a:lnTo>
                      <a:pt x="96" y="1"/>
                    </a:lnTo>
                    <a:lnTo>
                      <a:pt x="95" y="1"/>
                    </a:lnTo>
                    <a:lnTo>
                      <a:pt x="93" y="0"/>
                    </a:lnTo>
                    <a:lnTo>
                      <a:pt x="92" y="1"/>
                    </a:lnTo>
                    <a:lnTo>
                      <a:pt x="90" y="1"/>
                    </a:lnTo>
                    <a:lnTo>
                      <a:pt x="89" y="3"/>
                    </a:lnTo>
                    <a:lnTo>
                      <a:pt x="89" y="4"/>
                    </a:lnTo>
                    <a:lnTo>
                      <a:pt x="77" y="4"/>
                    </a:lnTo>
                    <a:lnTo>
                      <a:pt x="76" y="3"/>
                    </a:lnTo>
                    <a:lnTo>
                      <a:pt x="75" y="1"/>
                    </a:lnTo>
                    <a:lnTo>
                      <a:pt x="74" y="1"/>
                    </a:lnTo>
                    <a:lnTo>
                      <a:pt x="72" y="0"/>
                    </a:lnTo>
                    <a:lnTo>
                      <a:pt x="70" y="1"/>
                    </a:lnTo>
                    <a:lnTo>
                      <a:pt x="69" y="1"/>
                    </a:lnTo>
                    <a:lnTo>
                      <a:pt x="68" y="3"/>
                    </a:lnTo>
                    <a:lnTo>
                      <a:pt x="67" y="4"/>
                    </a:lnTo>
                    <a:lnTo>
                      <a:pt x="54" y="4"/>
                    </a:lnTo>
                    <a:lnTo>
                      <a:pt x="54" y="3"/>
                    </a:lnTo>
                    <a:lnTo>
                      <a:pt x="53" y="1"/>
                    </a:lnTo>
                    <a:lnTo>
                      <a:pt x="51" y="1"/>
                    </a:lnTo>
                    <a:lnTo>
                      <a:pt x="49" y="0"/>
                    </a:lnTo>
                    <a:lnTo>
                      <a:pt x="48" y="1"/>
                    </a:lnTo>
                    <a:lnTo>
                      <a:pt x="46" y="1"/>
                    </a:lnTo>
                    <a:lnTo>
                      <a:pt x="45" y="3"/>
                    </a:lnTo>
                    <a:lnTo>
                      <a:pt x="45" y="4"/>
                    </a:lnTo>
                    <a:lnTo>
                      <a:pt x="33" y="4"/>
                    </a:lnTo>
                    <a:lnTo>
                      <a:pt x="33" y="3"/>
                    </a:lnTo>
                    <a:lnTo>
                      <a:pt x="32" y="1"/>
                    </a:lnTo>
                    <a:lnTo>
                      <a:pt x="31" y="1"/>
                    </a:lnTo>
                    <a:lnTo>
                      <a:pt x="29" y="0"/>
                    </a:lnTo>
                    <a:lnTo>
                      <a:pt x="27" y="1"/>
                    </a:lnTo>
                    <a:lnTo>
                      <a:pt x="26" y="1"/>
                    </a:lnTo>
                    <a:lnTo>
                      <a:pt x="25" y="3"/>
                    </a:lnTo>
                    <a:lnTo>
                      <a:pt x="24" y="4"/>
                    </a:lnTo>
                    <a:lnTo>
                      <a:pt x="0" y="4"/>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822720" y="31021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18" name=""/>
              <p:cNvSpPr/>
              <p:nvPr/>
            </p:nvSpPr>
            <p:spPr>
              <a:xfrm>
                <a:off x="6634440" y="2582640"/>
                <a:ext cx="13680" cy="11880"/>
              </a:xfrm>
              <a:custGeom>
                <a:avLst/>
                <a:gdLst/>
                <a:ahLst/>
                <a:rect l="l" t="t" r="r" b="b"/>
                <a:pathLst>
                  <a:path w="13" h="9">
                    <a:moveTo>
                      <a:pt x="11" y="9"/>
                    </a:moveTo>
                    <a:lnTo>
                      <a:pt x="0" y="5"/>
                    </a:lnTo>
                    <a:lnTo>
                      <a:pt x="11" y="0"/>
                    </a:lnTo>
                    <a:lnTo>
                      <a:pt x="13" y="3"/>
                    </a:lnTo>
                    <a:lnTo>
                      <a:pt x="13" y="5"/>
                    </a:lnTo>
                    <a:lnTo>
                      <a:pt x="13" y="7"/>
                    </a:lnTo>
                    <a:lnTo>
                      <a:pt x="11"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19" name=""/>
              <p:cNvSpPr/>
              <p:nvPr/>
            </p:nvSpPr>
            <p:spPr>
              <a:xfrm>
                <a:off x="6279840" y="2619720"/>
                <a:ext cx="114120" cy="558360"/>
              </a:xfrm>
              <a:custGeom>
                <a:avLst/>
                <a:gdLst/>
                <a:ahLst/>
                <a:rect l="l" t="t" r="r" b="b"/>
                <a:pathLst>
                  <a:path w="108" h="418">
                    <a:moveTo>
                      <a:pt x="0" y="418"/>
                    </a:moveTo>
                    <a:lnTo>
                      <a:pt x="0" y="314"/>
                    </a:lnTo>
                    <a:lnTo>
                      <a:pt x="18" y="314"/>
                    </a:lnTo>
                    <a:lnTo>
                      <a:pt x="18" y="313"/>
                    </a:lnTo>
                    <a:lnTo>
                      <a:pt x="19" y="312"/>
                    </a:lnTo>
                    <a:lnTo>
                      <a:pt x="20" y="311"/>
                    </a:lnTo>
                    <a:lnTo>
                      <a:pt x="22" y="311"/>
                    </a:lnTo>
                    <a:lnTo>
                      <a:pt x="24" y="311"/>
                    </a:lnTo>
                    <a:lnTo>
                      <a:pt x="25" y="312"/>
                    </a:lnTo>
                    <a:lnTo>
                      <a:pt x="26" y="313"/>
                    </a:lnTo>
                    <a:lnTo>
                      <a:pt x="27" y="314"/>
                    </a:lnTo>
                    <a:lnTo>
                      <a:pt x="67" y="314"/>
                    </a:lnTo>
                    <a:lnTo>
                      <a:pt x="67" y="313"/>
                    </a:lnTo>
                    <a:lnTo>
                      <a:pt x="68" y="312"/>
                    </a:lnTo>
                    <a:lnTo>
                      <a:pt x="69" y="311"/>
                    </a:lnTo>
                    <a:lnTo>
                      <a:pt x="71" y="311"/>
                    </a:lnTo>
                    <a:lnTo>
                      <a:pt x="73" y="311"/>
                    </a:lnTo>
                    <a:lnTo>
                      <a:pt x="74" y="312"/>
                    </a:lnTo>
                    <a:lnTo>
                      <a:pt x="75" y="313"/>
                    </a:lnTo>
                    <a:lnTo>
                      <a:pt x="76" y="314"/>
                    </a:lnTo>
                    <a:lnTo>
                      <a:pt x="84" y="314"/>
                    </a:lnTo>
                    <a:lnTo>
                      <a:pt x="84" y="312"/>
                    </a:lnTo>
                    <a:lnTo>
                      <a:pt x="85" y="311"/>
                    </a:lnTo>
                    <a:lnTo>
                      <a:pt x="86" y="310"/>
                    </a:lnTo>
                    <a:lnTo>
                      <a:pt x="88" y="309"/>
                    </a:lnTo>
                    <a:lnTo>
                      <a:pt x="90" y="309"/>
                    </a:lnTo>
                    <a:lnTo>
                      <a:pt x="92" y="309"/>
                    </a:lnTo>
                    <a:lnTo>
                      <a:pt x="94" y="310"/>
                    </a:lnTo>
                    <a:lnTo>
                      <a:pt x="96" y="311"/>
                    </a:lnTo>
                    <a:lnTo>
                      <a:pt x="97" y="312"/>
                    </a:lnTo>
                    <a:lnTo>
                      <a:pt x="97" y="314"/>
                    </a:lnTo>
                    <a:lnTo>
                      <a:pt x="108" y="314"/>
                    </a:lnTo>
                    <a:lnTo>
                      <a:pt x="1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6273360" y="31766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21" name=""/>
              <p:cNvSpPr/>
              <p:nvPr/>
            </p:nvSpPr>
            <p:spPr>
              <a:xfrm>
                <a:off x="6387840" y="26078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22" name=""/>
              <p:cNvSpPr/>
              <p:nvPr/>
            </p:nvSpPr>
            <p:spPr>
              <a:xfrm>
                <a:off x="5015880" y="2607840"/>
                <a:ext cx="1489320" cy="1761480"/>
              </a:xfrm>
              <a:custGeom>
                <a:avLst/>
                <a:gdLst/>
                <a:ahLst/>
                <a:rect l="l" t="t" r="r" b="b"/>
                <a:pathLst>
                  <a:path w="1407" h="1319">
                    <a:moveTo>
                      <a:pt x="1225" y="0"/>
                    </a:moveTo>
                    <a:lnTo>
                      <a:pt x="1225" y="234"/>
                    </a:lnTo>
                    <a:lnTo>
                      <a:pt x="1278" y="234"/>
                    </a:lnTo>
                    <a:lnTo>
                      <a:pt x="1278" y="233"/>
                    </a:lnTo>
                    <a:lnTo>
                      <a:pt x="1279" y="231"/>
                    </a:lnTo>
                    <a:lnTo>
                      <a:pt x="1280" y="230"/>
                    </a:lnTo>
                    <a:lnTo>
                      <a:pt x="1282" y="230"/>
                    </a:lnTo>
                    <a:lnTo>
                      <a:pt x="1284" y="229"/>
                    </a:lnTo>
                    <a:lnTo>
                      <a:pt x="1286" y="230"/>
                    </a:lnTo>
                    <a:lnTo>
                      <a:pt x="1288" y="230"/>
                    </a:lnTo>
                    <a:lnTo>
                      <a:pt x="1290" y="231"/>
                    </a:lnTo>
                    <a:lnTo>
                      <a:pt x="1291" y="233"/>
                    </a:lnTo>
                    <a:lnTo>
                      <a:pt x="1291" y="234"/>
                    </a:lnTo>
                    <a:lnTo>
                      <a:pt x="1298" y="234"/>
                    </a:lnTo>
                    <a:lnTo>
                      <a:pt x="1298" y="233"/>
                    </a:lnTo>
                    <a:lnTo>
                      <a:pt x="1299" y="232"/>
                    </a:lnTo>
                    <a:lnTo>
                      <a:pt x="1301" y="231"/>
                    </a:lnTo>
                    <a:lnTo>
                      <a:pt x="1302" y="231"/>
                    </a:lnTo>
                    <a:lnTo>
                      <a:pt x="1304" y="231"/>
                    </a:lnTo>
                    <a:lnTo>
                      <a:pt x="1306" y="232"/>
                    </a:lnTo>
                    <a:lnTo>
                      <a:pt x="1307" y="233"/>
                    </a:lnTo>
                    <a:lnTo>
                      <a:pt x="1307" y="234"/>
                    </a:lnTo>
                    <a:lnTo>
                      <a:pt x="1318" y="234"/>
                    </a:lnTo>
                    <a:lnTo>
                      <a:pt x="1319" y="233"/>
                    </a:lnTo>
                    <a:lnTo>
                      <a:pt x="1319" y="232"/>
                    </a:lnTo>
                    <a:lnTo>
                      <a:pt x="1321" y="231"/>
                    </a:lnTo>
                    <a:lnTo>
                      <a:pt x="1323" y="231"/>
                    </a:lnTo>
                    <a:lnTo>
                      <a:pt x="1324" y="231"/>
                    </a:lnTo>
                    <a:lnTo>
                      <a:pt x="1326" y="232"/>
                    </a:lnTo>
                    <a:lnTo>
                      <a:pt x="1327" y="233"/>
                    </a:lnTo>
                    <a:lnTo>
                      <a:pt x="1327" y="234"/>
                    </a:lnTo>
                    <a:lnTo>
                      <a:pt x="1342" y="234"/>
                    </a:lnTo>
                    <a:lnTo>
                      <a:pt x="1342" y="233"/>
                    </a:lnTo>
                    <a:lnTo>
                      <a:pt x="1343" y="232"/>
                    </a:lnTo>
                    <a:lnTo>
                      <a:pt x="1345" y="231"/>
                    </a:lnTo>
                    <a:lnTo>
                      <a:pt x="1346" y="231"/>
                    </a:lnTo>
                    <a:lnTo>
                      <a:pt x="1348" y="231"/>
                    </a:lnTo>
                    <a:lnTo>
                      <a:pt x="1349" y="232"/>
                    </a:lnTo>
                    <a:lnTo>
                      <a:pt x="1350" y="233"/>
                    </a:lnTo>
                    <a:lnTo>
                      <a:pt x="1351" y="234"/>
                    </a:lnTo>
                    <a:lnTo>
                      <a:pt x="1363" y="234"/>
                    </a:lnTo>
                    <a:lnTo>
                      <a:pt x="1364" y="233"/>
                    </a:lnTo>
                    <a:lnTo>
                      <a:pt x="1365" y="232"/>
                    </a:lnTo>
                    <a:lnTo>
                      <a:pt x="1366" y="231"/>
                    </a:lnTo>
                    <a:lnTo>
                      <a:pt x="1368" y="231"/>
                    </a:lnTo>
                    <a:lnTo>
                      <a:pt x="1370" y="231"/>
                    </a:lnTo>
                    <a:lnTo>
                      <a:pt x="1371" y="232"/>
                    </a:lnTo>
                    <a:lnTo>
                      <a:pt x="1372" y="233"/>
                    </a:lnTo>
                    <a:lnTo>
                      <a:pt x="1372" y="234"/>
                    </a:lnTo>
                    <a:lnTo>
                      <a:pt x="1383" y="234"/>
                    </a:lnTo>
                    <a:lnTo>
                      <a:pt x="1384" y="233"/>
                    </a:lnTo>
                    <a:lnTo>
                      <a:pt x="1385" y="232"/>
                    </a:lnTo>
                    <a:lnTo>
                      <a:pt x="1386" y="231"/>
                    </a:lnTo>
                    <a:lnTo>
                      <a:pt x="1388" y="231"/>
                    </a:lnTo>
                    <a:lnTo>
                      <a:pt x="1389" y="231"/>
                    </a:lnTo>
                    <a:lnTo>
                      <a:pt x="1391" y="232"/>
                    </a:lnTo>
                    <a:lnTo>
                      <a:pt x="1392" y="233"/>
                    </a:lnTo>
                    <a:lnTo>
                      <a:pt x="1392" y="234"/>
                    </a:lnTo>
                    <a:lnTo>
                      <a:pt x="1407" y="234"/>
                    </a:lnTo>
                    <a:lnTo>
                      <a:pt x="1407" y="1319"/>
                    </a:lnTo>
                    <a:lnTo>
                      <a:pt x="1374" y="1319"/>
                    </a:lnTo>
                    <a:lnTo>
                      <a:pt x="1374" y="1318"/>
                    </a:lnTo>
                    <a:lnTo>
                      <a:pt x="1373" y="1317"/>
                    </a:lnTo>
                    <a:lnTo>
                      <a:pt x="1372" y="1316"/>
                    </a:lnTo>
                    <a:lnTo>
                      <a:pt x="1370" y="1316"/>
                    </a:lnTo>
                    <a:lnTo>
                      <a:pt x="1368" y="1316"/>
                    </a:lnTo>
                    <a:lnTo>
                      <a:pt x="1367" y="1317"/>
                    </a:lnTo>
                    <a:lnTo>
                      <a:pt x="1366" y="1318"/>
                    </a:lnTo>
                    <a:lnTo>
                      <a:pt x="1365" y="1319"/>
                    </a:lnTo>
                    <a:lnTo>
                      <a:pt x="1257" y="1319"/>
                    </a:lnTo>
                    <a:lnTo>
                      <a:pt x="1257" y="1318"/>
                    </a:lnTo>
                    <a:lnTo>
                      <a:pt x="1256" y="1317"/>
                    </a:lnTo>
                    <a:lnTo>
                      <a:pt x="1254" y="1316"/>
                    </a:lnTo>
                    <a:lnTo>
                      <a:pt x="1253" y="1316"/>
                    </a:lnTo>
                    <a:lnTo>
                      <a:pt x="1251" y="1316"/>
                    </a:lnTo>
                    <a:lnTo>
                      <a:pt x="1249" y="1317"/>
                    </a:lnTo>
                    <a:lnTo>
                      <a:pt x="1249" y="1318"/>
                    </a:lnTo>
                    <a:lnTo>
                      <a:pt x="1248" y="1319"/>
                    </a:lnTo>
                    <a:lnTo>
                      <a:pt x="1083" y="1319"/>
                    </a:lnTo>
                    <a:lnTo>
                      <a:pt x="1082" y="1318"/>
                    </a:lnTo>
                    <a:lnTo>
                      <a:pt x="1081" y="1317"/>
                    </a:lnTo>
                    <a:lnTo>
                      <a:pt x="1080" y="1316"/>
                    </a:lnTo>
                    <a:lnTo>
                      <a:pt x="1078" y="1316"/>
                    </a:lnTo>
                    <a:lnTo>
                      <a:pt x="1077" y="1316"/>
                    </a:lnTo>
                    <a:lnTo>
                      <a:pt x="1075" y="1317"/>
                    </a:lnTo>
                    <a:lnTo>
                      <a:pt x="1074" y="1318"/>
                    </a:lnTo>
                    <a:lnTo>
                      <a:pt x="1074" y="1319"/>
                    </a:lnTo>
                    <a:lnTo>
                      <a:pt x="982" y="1319"/>
                    </a:lnTo>
                    <a:lnTo>
                      <a:pt x="982" y="1318"/>
                    </a:lnTo>
                    <a:lnTo>
                      <a:pt x="981" y="1317"/>
                    </a:lnTo>
                    <a:lnTo>
                      <a:pt x="979" y="1316"/>
                    </a:lnTo>
                    <a:lnTo>
                      <a:pt x="977" y="1316"/>
                    </a:lnTo>
                    <a:lnTo>
                      <a:pt x="976" y="1316"/>
                    </a:lnTo>
                    <a:lnTo>
                      <a:pt x="974" y="1317"/>
                    </a:lnTo>
                    <a:lnTo>
                      <a:pt x="973" y="1318"/>
                    </a:lnTo>
                    <a:lnTo>
                      <a:pt x="973" y="1319"/>
                    </a:lnTo>
                    <a:lnTo>
                      <a:pt x="919" y="1319"/>
                    </a:lnTo>
                    <a:lnTo>
                      <a:pt x="918" y="1318"/>
                    </a:lnTo>
                    <a:lnTo>
                      <a:pt x="917" y="1317"/>
                    </a:lnTo>
                    <a:lnTo>
                      <a:pt x="916" y="1316"/>
                    </a:lnTo>
                    <a:lnTo>
                      <a:pt x="914" y="1316"/>
                    </a:lnTo>
                    <a:lnTo>
                      <a:pt x="912" y="1316"/>
                    </a:lnTo>
                    <a:lnTo>
                      <a:pt x="911" y="1317"/>
                    </a:lnTo>
                    <a:lnTo>
                      <a:pt x="910" y="1318"/>
                    </a:lnTo>
                    <a:lnTo>
                      <a:pt x="910" y="1319"/>
                    </a:lnTo>
                    <a:lnTo>
                      <a:pt x="896" y="1319"/>
                    </a:lnTo>
                    <a:lnTo>
                      <a:pt x="896" y="1318"/>
                    </a:lnTo>
                    <a:lnTo>
                      <a:pt x="895" y="1317"/>
                    </a:lnTo>
                    <a:lnTo>
                      <a:pt x="893" y="1316"/>
                    </a:lnTo>
                    <a:lnTo>
                      <a:pt x="892" y="1316"/>
                    </a:lnTo>
                    <a:lnTo>
                      <a:pt x="890" y="1316"/>
                    </a:lnTo>
                    <a:lnTo>
                      <a:pt x="888" y="1317"/>
                    </a:lnTo>
                    <a:lnTo>
                      <a:pt x="887" y="1318"/>
                    </a:lnTo>
                    <a:lnTo>
                      <a:pt x="887" y="1319"/>
                    </a:lnTo>
                    <a:lnTo>
                      <a:pt x="844" y="1319"/>
                    </a:lnTo>
                    <a:lnTo>
                      <a:pt x="844" y="1318"/>
                    </a:lnTo>
                    <a:lnTo>
                      <a:pt x="843" y="1317"/>
                    </a:lnTo>
                    <a:lnTo>
                      <a:pt x="841" y="1316"/>
                    </a:lnTo>
                    <a:lnTo>
                      <a:pt x="840" y="1316"/>
                    </a:lnTo>
                    <a:lnTo>
                      <a:pt x="838" y="1316"/>
                    </a:lnTo>
                    <a:lnTo>
                      <a:pt x="837" y="1317"/>
                    </a:lnTo>
                    <a:lnTo>
                      <a:pt x="836" y="1318"/>
                    </a:lnTo>
                    <a:lnTo>
                      <a:pt x="835" y="1319"/>
                    </a:lnTo>
                    <a:lnTo>
                      <a:pt x="772" y="1319"/>
                    </a:lnTo>
                    <a:lnTo>
                      <a:pt x="772" y="1318"/>
                    </a:lnTo>
                    <a:lnTo>
                      <a:pt x="770" y="1317"/>
                    </a:lnTo>
                    <a:lnTo>
                      <a:pt x="769" y="1316"/>
                    </a:lnTo>
                    <a:lnTo>
                      <a:pt x="767" y="1316"/>
                    </a:lnTo>
                    <a:lnTo>
                      <a:pt x="766" y="1316"/>
                    </a:lnTo>
                    <a:lnTo>
                      <a:pt x="764" y="1317"/>
                    </a:lnTo>
                    <a:lnTo>
                      <a:pt x="763" y="1318"/>
                    </a:lnTo>
                    <a:lnTo>
                      <a:pt x="763" y="1319"/>
                    </a:lnTo>
                    <a:lnTo>
                      <a:pt x="709" y="1319"/>
                    </a:lnTo>
                    <a:lnTo>
                      <a:pt x="709" y="1318"/>
                    </a:lnTo>
                    <a:lnTo>
                      <a:pt x="708" y="1317"/>
                    </a:lnTo>
                    <a:lnTo>
                      <a:pt x="707" y="1316"/>
                    </a:lnTo>
                    <a:lnTo>
                      <a:pt x="705" y="1316"/>
                    </a:lnTo>
                    <a:lnTo>
                      <a:pt x="703" y="1316"/>
                    </a:lnTo>
                    <a:lnTo>
                      <a:pt x="702" y="1317"/>
                    </a:lnTo>
                    <a:lnTo>
                      <a:pt x="701" y="1318"/>
                    </a:lnTo>
                    <a:lnTo>
                      <a:pt x="700" y="1319"/>
                    </a:lnTo>
                    <a:lnTo>
                      <a:pt x="689" y="1319"/>
                    </a:lnTo>
                    <a:lnTo>
                      <a:pt x="689" y="1318"/>
                    </a:lnTo>
                    <a:lnTo>
                      <a:pt x="688" y="1317"/>
                    </a:lnTo>
                    <a:lnTo>
                      <a:pt x="687" y="1316"/>
                    </a:lnTo>
                    <a:lnTo>
                      <a:pt x="685" y="1316"/>
                    </a:lnTo>
                    <a:lnTo>
                      <a:pt x="683" y="1316"/>
                    </a:lnTo>
                    <a:lnTo>
                      <a:pt x="682" y="1317"/>
                    </a:lnTo>
                    <a:lnTo>
                      <a:pt x="681" y="1318"/>
                    </a:lnTo>
                    <a:lnTo>
                      <a:pt x="680" y="1319"/>
                    </a:lnTo>
                    <a:lnTo>
                      <a:pt x="660" y="1319"/>
                    </a:lnTo>
                    <a:lnTo>
                      <a:pt x="660" y="1318"/>
                    </a:lnTo>
                    <a:lnTo>
                      <a:pt x="659" y="1317"/>
                    </a:lnTo>
                    <a:lnTo>
                      <a:pt x="657" y="1316"/>
                    </a:lnTo>
                    <a:lnTo>
                      <a:pt x="655" y="1316"/>
                    </a:lnTo>
                    <a:lnTo>
                      <a:pt x="654" y="1316"/>
                    </a:lnTo>
                    <a:lnTo>
                      <a:pt x="652" y="1317"/>
                    </a:lnTo>
                    <a:lnTo>
                      <a:pt x="651" y="1318"/>
                    </a:lnTo>
                    <a:lnTo>
                      <a:pt x="651" y="1319"/>
                    </a:lnTo>
                    <a:lnTo>
                      <a:pt x="631" y="1319"/>
                    </a:lnTo>
                    <a:lnTo>
                      <a:pt x="630" y="1318"/>
                    </a:lnTo>
                    <a:lnTo>
                      <a:pt x="629" y="1317"/>
                    </a:lnTo>
                    <a:lnTo>
                      <a:pt x="628" y="1316"/>
                    </a:lnTo>
                    <a:lnTo>
                      <a:pt x="626" y="1316"/>
                    </a:lnTo>
                    <a:lnTo>
                      <a:pt x="624" y="1316"/>
                    </a:lnTo>
                    <a:lnTo>
                      <a:pt x="623" y="1317"/>
                    </a:lnTo>
                    <a:lnTo>
                      <a:pt x="622" y="1318"/>
                    </a:lnTo>
                    <a:lnTo>
                      <a:pt x="622" y="1319"/>
                    </a:lnTo>
                    <a:lnTo>
                      <a:pt x="563" y="1319"/>
                    </a:lnTo>
                    <a:lnTo>
                      <a:pt x="563" y="1253"/>
                    </a:lnTo>
                    <a:lnTo>
                      <a:pt x="543" y="1253"/>
                    </a:lnTo>
                    <a:lnTo>
                      <a:pt x="542" y="1252"/>
                    </a:lnTo>
                    <a:lnTo>
                      <a:pt x="541" y="1251"/>
                    </a:lnTo>
                    <a:lnTo>
                      <a:pt x="540" y="1250"/>
                    </a:lnTo>
                    <a:lnTo>
                      <a:pt x="538" y="1250"/>
                    </a:lnTo>
                    <a:lnTo>
                      <a:pt x="536" y="1250"/>
                    </a:lnTo>
                    <a:lnTo>
                      <a:pt x="535" y="1251"/>
                    </a:lnTo>
                    <a:lnTo>
                      <a:pt x="534" y="1252"/>
                    </a:lnTo>
                    <a:lnTo>
                      <a:pt x="534" y="1253"/>
                    </a:lnTo>
                    <a:lnTo>
                      <a:pt x="443" y="1253"/>
                    </a:lnTo>
                    <a:lnTo>
                      <a:pt x="443" y="1252"/>
                    </a:lnTo>
                    <a:lnTo>
                      <a:pt x="442" y="1251"/>
                    </a:lnTo>
                    <a:lnTo>
                      <a:pt x="441" y="1250"/>
                    </a:lnTo>
                    <a:lnTo>
                      <a:pt x="439" y="1250"/>
                    </a:lnTo>
                    <a:lnTo>
                      <a:pt x="437" y="1250"/>
                    </a:lnTo>
                    <a:lnTo>
                      <a:pt x="436" y="1251"/>
                    </a:lnTo>
                    <a:lnTo>
                      <a:pt x="435" y="1252"/>
                    </a:lnTo>
                    <a:lnTo>
                      <a:pt x="434" y="1253"/>
                    </a:lnTo>
                    <a:lnTo>
                      <a:pt x="423" y="1253"/>
                    </a:lnTo>
                    <a:lnTo>
                      <a:pt x="422" y="1251"/>
                    </a:lnTo>
                    <a:lnTo>
                      <a:pt x="421" y="1250"/>
                    </a:lnTo>
                    <a:lnTo>
                      <a:pt x="420" y="1248"/>
                    </a:lnTo>
                    <a:lnTo>
                      <a:pt x="417" y="1247"/>
                    </a:lnTo>
                    <a:lnTo>
                      <a:pt x="415" y="1246"/>
                    </a:lnTo>
                    <a:lnTo>
                      <a:pt x="413" y="1246"/>
                    </a:lnTo>
                    <a:lnTo>
                      <a:pt x="410" y="1247"/>
                    </a:lnTo>
                    <a:lnTo>
                      <a:pt x="408" y="1248"/>
                    </a:lnTo>
                    <a:lnTo>
                      <a:pt x="407" y="1250"/>
                    </a:lnTo>
                    <a:lnTo>
                      <a:pt x="406" y="1251"/>
                    </a:lnTo>
                    <a:lnTo>
                      <a:pt x="405" y="1253"/>
                    </a:lnTo>
                    <a:lnTo>
                      <a:pt x="394" y="1253"/>
                    </a:lnTo>
                    <a:lnTo>
                      <a:pt x="394" y="1252"/>
                    </a:lnTo>
                    <a:lnTo>
                      <a:pt x="393" y="1251"/>
                    </a:lnTo>
                    <a:lnTo>
                      <a:pt x="391" y="1250"/>
                    </a:lnTo>
                    <a:lnTo>
                      <a:pt x="389" y="1250"/>
                    </a:lnTo>
                    <a:lnTo>
                      <a:pt x="388" y="1250"/>
                    </a:lnTo>
                    <a:lnTo>
                      <a:pt x="386" y="1251"/>
                    </a:lnTo>
                    <a:lnTo>
                      <a:pt x="385" y="1252"/>
                    </a:lnTo>
                    <a:lnTo>
                      <a:pt x="385" y="1253"/>
                    </a:lnTo>
                    <a:lnTo>
                      <a:pt x="351" y="1253"/>
                    </a:lnTo>
                    <a:lnTo>
                      <a:pt x="351" y="1252"/>
                    </a:lnTo>
                    <a:lnTo>
                      <a:pt x="350" y="1251"/>
                    </a:lnTo>
                    <a:lnTo>
                      <a:pt x="348" y="1250"/>
                    </a:lnTo>
                    <a:lnTo>
                      <a:pt x="347" y="1250"/>
                    </a:lnTo>
                    <a:lnTo>
                      <a:pt x="345" y="1250"/>
                    </a:lnTo>
                    <a:lnTo>
                      <a:pt x="343" y="1251"/>
                    </a:lnTo>
                    <a:lnTo>
                      <a:pt x="343" y="1252"/>
                    </a:lnTo>
                    <a:lnTo>
                      <a:pt x="342" y="1253"/>
                    </a:lnTo>
                    <a:lnTo>
                      <a:pt x="338" y="1253"/>
                    </a:lnTo>
                    <a:lnTo>
                      <a:pt x="337" y="1251"/>
                    </a:lnTo>
                    <a:lnTo>
                      <a:pt x="336" y="1250"/>
                    </a:lnTo>
                    <a:lnTo>
                      <a:pt x="335" y="1249"/>
                    </a:lnTo>
                    <a:lnTo>
                      <a:pt x="333" y="1248"/>
                    </a:lnTo>
                    <a:lnTo>
                      <a:pt x="331" y="1247"/>
                    </a:lnTo>
                    <a:lnTo>
                      <a:pt x="329" y="1247"/>
                    </a:lnTo>
                    <a:lnTo>
                      <a:pt x="327" y="1248"/>
                    </a:lnTo>
                    <a:lnTo>
                      <a:pt x="325" y="1249"/>
                    </a:lnTo>
                    <a:lnTo>
                      <a:pt x="323" y="1250"/>
                    </a:lnTo>
                    <a:lnTo>
                      <a:pt x="322" y="1251"/>
                    </a:lnTo>
                    <a:lnTo>
                      <a:pt x="322" y="1253"/>
                    </a:lnTo>
                    <a:lnTo>
                      <a:pt x="297" y="1253"/>
                    </a:lnTo>
                    <a:lnTo>
                      <a:pt x="297" y="1252"/>
                    </a:lnTo>
                    <a:lnTo>
                      <a:pt x="296" y="1251"/>
                    </a:lnTo>
                    <a:lnTo>
                      <a:pt x="294" y="1250"/>
                    </a:lnTo>
                    <a:lnTo>
                      <a:pt x="293" y="1250"/>
                    </a:lnTo>
                    <a:lnTo>
                      <a:pt x="291" y="1250"/>
                    </a:lnTo>
                    <a:lnTo>
                      <a:pt x="289" y="1251"/>
                    </a:lnTo>
                    <a:lnTo>
                      <a:pt x="288" y="1252"/>
                    </a:lnTo>
                    <a:lnTo>
                      <a:pt x="288" y="1253"/>
                    </a:lnTo>
                    <a:lnTo>
                      <a:pt x="209" y="1253"/>
                    </a:lnTo>
                    <a:lnTo>
                      <a:pt x="209" y="1252"/>
                    </a:lnTo>
                    <a:lnTo>
                      <a:pt x="208" y="1251"/>
                    </a:lnTo>
                    <a:lnTo>
                      <a:pt x="206" y="1250"/>
                    </a:lnTo>
                    <a:lnTo>
                      <a:pt x="205" y="1250"/>
                    </a:lnTo>
                    <a:lnTo>
                      <a:pt x="203" y="1250"/>
                    </a:lnTo>
                    <a:lnTo>
                      <a:pt x="201" y="1251"/>
                    </a:lnTo>
                    <a:lnTo>
                      <a:pt x="200" y="1252"/>
                    </a:lnTo>
                    <a:lnTo>
                      <a:pt x="200" y="1253"/>
                    </a:lnTo>
                    <a:lnTo>
                      <a:pt x="180" y="1253"/>
                    </a:lnTo>
                    <a:lnTo>
                      <a:pt x="180" y="1252"/>
                    </a:lnTo>
                    <a:lnTo>
                      <a:pt x="179" y="1251"/>
                    </a:lnTo>
                    <a:lnTo>
                      <a:pt x="177" y="1250"/>
                    </a:lnTo>
                    <a:lnTo>
                      <a:pt x="176" y="1250"/>
                    </a:lnTo>
                    <a:lnTo>
                      <a:pt x="174" y="1250"/>
                    </a:lnTo>
                    <a:lnTo>
                      <a:pt x="173" y="1251"/>
                    </a:lnTo>
                    <a:lnTo>
                      <a:pt x="172" y="1252"/>
                    </a:lnTo>
                    <a:lnTo>
                      <a:pt x="171" y="1253"/>
                    </a:lnTo>
                    <a:lnTo>
                      <a:pt x="162" y="1253"/>
                    </a:lnTo>
                    <a:lnTo>
                      <a:pt x="162" y="1252"/>
                    </a:lnTo>
                    <a:lnTo>
                      <a:pt x="161" y="1251"/>
                    </a:lnTo>
                    <a:lnTo>
                      <a:pt x="159" y="1250"/>
                    </a:lnTo>
                    <a:lnTo>
                      <a:pt x="158" y="1250"/>
                    </a:lnTo>
                    <a:lnTo>
                      <a:pt x="156" y="1250"/>
                    </a:lnTo>
                    <a:lnTo>
                      <a:pt x="154" y="1251"/>
                    </a:lnTo>
                    <a:lnTo>
                      <a:pt x="153" y="1252"/>
                    </a:lnTo>
                    <a:lnTo>
                      <a:pt x="153" y="1253"/>
                    </a:lnTo>
                    <a:lnTo>
                      <a:pt x="100" y="1253"/>
                    </a:lnTo>
                    <a:lnTo>
                      <a:pt x="100" y="1252"/>
                    </a:lnTo>
                    <a:lnTo>
                      <a:pt x="99" y="1251"/>
                    </a:lnTo>
                    <a:lnTo>
                      <a:pt x="98" y="1250"/>
                    </a:lnTo>
                    <a:lnTo>
                      <a:pt x="96" y="1250"/>
                    </a:lnTo>
                    <a:lnTo>
                      <a:pt x="94" y="1250"/>
                    </a:lnTo>
                    <a:lnTo>
                      <a:pt x="93" y="1251"/>
                    </a:lnTo>
                    <a:lnTo>
                      <a:pt x="92" y="1252"/>
                    </a:lnTo>
                    <a:lnTo>
                      <a:pt x="91" y="1253"/>
                    </a:lnTo>
                    <a:lnTo>
                      <a:pt x="47" y="1253"/>
                    </a:lnTo>
                    <a:lnTo>
                      <a:pt x="47" y="1252"/>
                    </a:lnTo>
                    <a:lnTo>
                      <a:pt x="46" y="1251"/>
                    </a:lnTo>
                    <a:lnTo>
                      <a:pt x="44" y="1250"/>
                    </a:lnTo>
                    <a:lnTo>
                      <a:pt x="43" y="1250"/>
                    </a:lnTo>
                    <a:lnTo>
                      <a:pt x="41" y="1250"/>
                    </a:lnTo>
                    <a:lnTo>
                      <a:pt x="40" y="1251"/>
                    </a:lnTo>
                    <a:lnTo>
                      <a:pt x="38" y="1252"/>
                    </a:lnTo>
                    <a:lnTo>
                      <a:pt x="38" y="1253"/>
                    </a:lnTo>
                    <a:lnTo>
                      <a:pt x="0" y="125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5004000" y="4276080"/>
                <a:ext cx="13680" cy="11880"/>
              </a:xfrm>
              <a:custGeom>
                <a:avLst/>
                <a:gdLst/>
                <a:ahLst/>
                <a:rect l="l" t="t" r="r" b="b"/>
                <a:pathLst>
                  <a:path w="13" h="9">
                    <a:moveTo>
                      <a:pt x="11" y="9"/>
                    </a:moveTo>
                    <a:lnTo>
                      <a:pt x="0" y="4"/>
                    </a:lnTo>
                    <a:lnTo>
                      <a:pt x="11" y="0"/>
                    </a:lnTo>
                    <a:lnTo>
                      <a:pt x="13" y="2"/>
                    </a:lnTo>
                    <a:lnTo>
                      <a:pt x="13" y="4"/>
                    </a:lnTo>
                    <a:lnTo>
                      <a:pt x="13" y="7"/>
                    </a:lnTo>
                    <a:lnTo>
                      <a:pt x="11"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24" name=""/>
              <p:cNvSpPr/>
              <p:nvPr/>
            </p:nvSpPr>
            <p:spPr>
              <a:xfrm>
                <a:off x="5961960" y="2506320"/>
                <a:ext cx="331200" cy="209520"/>
              </a:xfrm>
              <a:custGeom>
                <a:avLst/>
                <a:gdLst/>
                <a:ahLst/>
                <a:rect l="l" t="t" r="r" b="b"/>
                <a:pathLst>
                  <a:path w="313" h="157">
                    <a:moveTo>
                      <a:pt x="0" y="157"/>
                    </a:moveTo>
                    <a:lnTo>
                      <a:pt x="0" y="6"/>
                    </a:lnTo>
                    <a:lnTo>
                      <a:pt x="76" y="6"/>
                    </a:lnTo>
                    <a:lnTo>
                      <a:pt x="76" y="5"/>
                    </a:lnTo>
                    <a:lnTo>
                      <a:pt x="77" y="4"/>
                    </a:lnTo>
                    <a:lnTo>
                      <a:pt x="78" y="3"/>
                    </a:lnTo>
                    <a:lnTo>
                      <a:pt x="80" y="3"/>
                    </a:lnTo>
                    <a:lnTo>
                      <a:pt x="82" y="3"/>
                    </a:lnTo>
                    <a:lnTo>
                      <a:pt x="83" y="4"/>
                    </a:lnTo>
                    <a:lnTo>
                      <a:pt x="84" y="5"/>
                    </a:lnTo>
                    <a:lnTo>
                      <a:pt x="85" y="6"/>
                    </a:lnTo>
                    <a:lnTo>
                      <a:pt x="103" y="6"/>
                    </a:lnTo>
                    <a:lnTo>
                      <a:pt x="104" y="5"/>
                    </a:lnTo>
                    <a:lnTo>
                      <a:pt x="105" y="4"/>
                    </a:lnTo>
                    <a:lnTo>
                      <a:pt x="106" y="3"/>
                    </a:lnTo>
                    <a:lnTo>
                      <a:pt x="108" y="3"/>
                    </a:lnTo>
                    <a:lnTo>
                      <a:pt x="110" y="3"/>
                    </a:lnTo>
                    <a:lnTo>
                      <a:pt x="111" y="4"/>
                    </a:lnTo>
                    <a:lnTo>
                      <a:pt x="112" y="5"/>
                    </a:lnTo>
                    <a:lnTo>
                      <a:pt x="112" y="6"/>
                    </a:lnTo>
                    <a:lnTo>
                      <a:pt x="131" y="6"/>
                    </a:lnTo>
                    <a:lnTo>
                      <a:pt x="131" y="5"/>
                    </a:lnTo>
                    <a:lnTo>
                      <a:pt x="132" y="4"/>
                    </a:lnTo>
                    <a:lnTo>
                      <a:pt x="134" y="3"/>
                    </a:lnTo>
                    <a:lnTo>
                      <a:pt x="135" y="3"/>
                    </a:lnTo>
                    <a:lnTo>
                      <a:pt x="137" y="3"/>
                    </a:lnTo>
                    <a:lnTo>
                      <a:pt x="138" y="4"/>
                    </a:lnTo>
                    <a:lnTo>
                      <a:pt x="139" y="5"/>
                    </a:lnTo>
                    <a:lnTo>
                      <a:pt x="140" y="6"/>
                    </a:lnTo>
                    <a:lnTo>
                      <a:pt x="149" y="6"/>
                    </a:lnTo>
                    <a:lnTo>
                      <a:pt x="149" y="5"/>
                    </a:lnTo>
                    <a:lnTo>
                      <a:pt x="150" y="3"/>
                    </a:lnTo>
                    <a:lnTo>
                      <a:pt x="152" y="2"/>
                    </a:lnTo>
                    <a:lnTo>
                      <a:pt x="153" y="1"/>
                    </a:lnTo>
                    <a:lnTo>
                      <a:pt x="155" y="1"/>
                    </a:lnTo>
                    <a:lnTo>
                      <a:pt x="158" y="1"/>
                    </a:lnTo>
                    <a:lnTo>
                      <a:pt x="159" y="2"/>
                    </a:lnTo>
                    <a:lnTo>
                      <a:pt x="161" y="3"/>
                    </a:lnTo>
                    <a:lnTo>
                      <a:pt x="162" y="5"/>
                    </a:lnTo>
                    <a:lnTo>
                      <a:pt x="162" y="6"/>
                    </a:lnTo>
                    <a:lnTo>
                      <a:pt x="168" y="6"/>
                    </a:lnTo>
                    <a:lnTo>
                      <a:pt x="168" y="5"/>
                    </a:lnTo>
                    <a:lnTo>
                      <a:pt x="169" y="4"/>
                    </a:lnTo>
                    <a:lnTo>
                      <a:pt x="170" y="3"/>
                    </a:lnTo>
                    <a:lnTo>
                      <a:pt x="172" y="3"/>
                    </a:lnTo>
                    <a:lnTo>
                      <a:pt x="174" y="3"/>
                    </a:lnTo>
                    <a:lnTo>
                      <a:pt x="175" y="4"/>
                    </a:lnTo>
                    <a:lnTo>
                      <a:pt x="176" y="5"/>
                    </a:lnTo>
                    <a:lnTo>
                      <a:pt x="177" y="6"/>
                    </a:lnTo>
                    <a:lnTo>
                      <a:pt x="181" y="6"/>
                    </a:lnTo>
                    <a:lnTo>
                      <a:pt x="181" y="5"/>
                    </a:lnTo>
                    <a:lnTo>
                      <a:pt x="182" y="4"/>
                    </a:lnTo>
                    <a:lnTo>
                      <a:pt x="184" y="3"/>
                    </a:lnTo>
                    <a:lnTo>
                      <a:pt x="186" y="3"/>
                    </a:lnTo>
                    <a:lnTo>
                      <a:pt x="187" y="3"/>
                    </a:lnTo>
                    <a:lnTo>
                      <a:pt x="189" y="4"/>
                    </a:lnTo>
                    <a:lnTo>
                      <a:pt x="190" y="5"/>
                    </a:lnTo>
                    <a:lnTo>
                      <a:pt x="190" y="6"/>
                    </a:lnTo>
                    <a:lnTo>
                      <a:pt x="205" y="6"/>
                    </a:lnTo>
                    <a:lnTo>
                      <a:pt x="205" y="4"/>
                    </a:lnTo>
                    <a:lnTo>
                      <a:pt x="206" y="3"/>
                    </a:lnTo>
                    <a:lnTo>
                      <a:pt x="207" y="2"/>
                    </a:lnTo>
                    <a:lnTo>
                      <a:pt x="209" y="1"/>
                    </a:lnTo>
                    <a:lnTo>
                      <a:pt x="211" y="0"/>
                    </a:lnTo>
                    <a:lnTo>
                      <a:pt x="214" y="0"/>
                    </a:lnTo>
                    <a:lnTo>
                      <a:pt x="216" y="1"/>
                    </a:lnTo>
                    <a:lnTo>
                      <a:pt x="218" y="2"/>
                    </a:lnTo>
                    <a:lnTo>
                      <a:pt x="219" y="3"/>
                    </a:lnTo>
                    <a:lnTo>
                      <a:pt x="220" y="4"/>
                    </a:lnTo>
                    <a:lnTo>
                      <a:pt x="220" y="6"/>
                    </a:lnTo>
                    <a:lnTo>
                      <a:pt x="225" y="6"/>
                    </a:lnTo>
                    <a:lnTo>
                      <a:pt x="225" y="4"/>
                    </a:lnTo>
                    <a:lnTo>
                      <a:pt x="226" y="3"/>
                    </a:lnTo>
                    <a:lnTo>
                      <a:pt x="228" y="2"/>
                    </a:lnTo>
                    <a:lnTo>
                      <a:pt x="230" y="1"/>
                    </a:lnTo>
                    <a:lnTo>
                      <a:pt x="232" y="0"/>
                    </a:lnTo>
                    <a:lnTo>
                      <a:pt x="234" y="0"/>
                    </a:lnTo>
                    <a:lnTo>
                      <a:pt x="236" y="1"/>
                    </a:lnTo>
                    <a:lnTo>
                      <a:pt x="238" y="2"/>
                    </a:lnTo>
                    <a:lnTo>
                      <a:pt x="239" y="3"/>
                    </a:lnTo>
                    <a:lnTo>
                      <a:pt x="240" y="4"/>
                    </a:lnTo>
                    <a:lnTo>
                      <a:pt x="241" y="6"/>
                    </a:lnTo>
                    <a:lnTo>
                      <a:pt x="282" y="6"/>
                    </a:lnTo>
                    <a:lnTo>
                      <a:pt x="282" y="4"/>
                    </a:lnTo>
                    <a:lnTo>
                      <a:pt x="283" y="3"/>
                    </a:lnTo>
                    <a:lnTo>
                      <a:pt x="284" y="2"/>
                    </a:lnTo>
                    <a:lnTo>
                      <a:pt x="286" y="1"/>
                    </a:lnTo>
                    <a:lnTo>
                      <a:pt x="289" y="0"/>
                    </a:lnTo>
                    <a:lnTo>
                      <a:pt x="291" y="0"/>
                    </a:lnTo>
                    <a:lnTo>
                      <a:pt x="293" y="1"/>
                    </a:lnTo>
                    <a:lnTo>
                      <a:pt x="295" y="2"/>
                    </a:lnTo>
                    <a:lnTo>
                      <a:pt x="296" y="3"/>
                    </a:lnTo>
                    <a:lnTo>
                      <a:pt x="297" y="4"/>
                    </a:lnTo>
                    <a:lnTo>
                      <a:pt x="297" y="6"/>
                    </a:lnTo>
                    <a:lnTo>
                      <a:pt x="313"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5955840" y="271332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026" name=""/>
              <p:cNvSpPr/>
              <p:nvPr/>
            </p:nvSpPr>
            <p:spPr>
              <a:xfrm>
                <a:off x="5923800" y="2607840"/>
                <a:ext cx="448920" cy="1206000"/>
              </a:xfrm>
              <a:custGeom>
                <a:avLst/>
                <a:gdLst/>
                <a:ahLst/>
                <a:rect l="l" t="t" r="r" b="b"/>
                <a:pathLst>
                  <a:path w="424" h="903">
                    <a:moveTo>
                      <a:pt x="0" y="903"/>
                    </a:moveTo>
                    <a:lnTo>
                      <a:pt x="11" y="903"/>
                    </a:lnTo>
                    <a:lnTo>
                      <a:pt x="11" y="902"/>
                    </a:lnTo>
                    <a:lnTo>
                      <a:pt x="12" y="901"/>
                    </a:lnTo>
                    <a:lnTo>
                      <a:pt x="14" y="900"/>
                    </a:lnTo>
                    <a:lnTo>
                      <a:pt x="16" y="900"/>
                    </a:lnTo>
                    <a:lnTo>
                      <a:pt x="17" y="900"/>
                    </a:lnTo>
                    <a:lnTo>
                      <a:pt x="19" y="901"/>
                    </a:lnTo>
                    <a:lnTo>
                      <a:pt x="20" y="902"/>
                    </a:lnTo>
                    <a:lnTo>
                      <a:pt x="20" y="903"/>
                    </a:lnTo>
                    <a:lnTo>
                      <a:pt x="29" y="903"/>
                    </a:lnTo>
                    <a:lnTo>
                      <a:pt x="29" y="902"/>
                    </a:lnTo>
                    <a:lnTo>
                      <a:pt x="30" y="901"/>
                    </a:lnTo>
                    <a:lnTo>
                      <a:pt x="32" y="900"/>
                    </a:lnTo>
                    <a:lnTo>
                      <a:pt x="34" y="900"/>
                    </a:lnTo>
                    <a:lnTo>
                      <a:pt x="35" y="900"/>
                    </a:lnTo>
                    <a:lnTo>
                      <a:pt x="37" y="901"/>
                    </a:lnTo>
                    <a:lnTo>
                      <a:pt x="38" y="902"/>
                    </a:lnTo>
                    <a:lnTo>
                      <a:pt x="38" y="903"/>
                    </a:lnTo>
                    <a:lnTo>
                      <a:pt x="52" y="903"/>
                    </a:lnTo>
                    <a:lnTo>
                      <a:pt x="52" y="902"/>
                    </a:lnTo>
                    <a:lnTo>
                      <a:pt x="53" y="901"/>
                    </a:lnTo>
                    <a:lnTo>
                      <a:pt x="54" y="900"/>
                    </a:lnTo>
                    <a:lnTo>
                      <a:pt x="56" y="900"/>
                    </a:lnTo>
                    <a:lnTo>
                      <a:pt x="58" y="900"/>
                    </a:lnTo>
                    <a:lnTo>
                      <a:pt x="59" y="901"/>
                    </a:lnTo>
                    <a:lnTo>
                      <a:pt x="60" y="902"/>
                    </a:lnTo>
                    <a:lnTo>
                      <a:pt x="61" y="903"/>
                    </a:lnTo>
                    <a:lnTo>
                      <a:pt x="63" y="903"/>
                    </a:lnTo>
                    <a:lnTo>
                      <a:pt x="63" y="902"/>
                    </a:lnTo>
                    <a:lnTo>
                      <a:pt x="64" y="901"/>
                    </a:lnTo>
                    <a:lnTo>
                      <a:pt x="65" y="900"/>
                    </a:lnTo>
                    <a:lnTo>
                      <a:pt x="67" y="900"/>
                    </a:lnTo>
                    <a:lnTo>
                      <a:pt x="69" y="900"/>
                    </a:lnTo>
                    <a:lnTo>
                      <a:pt x="70" y="901"/>
                    </a:lnTo>
                    <a:lnTo>
                      <a:pt x="71" y="902"/>
                    </a:lnTo>
                    <a:lnTo>
                      <a:pt x="71" y="903"/>
                    </a:lnTo>
                    <a:lnTo>
                      <a:pt x="83" y="903"/>
                    </a:lnTo>
                    <a:lnTo>
                      <a:pt x="83" y="902"/>
                    </a:lnTo>
                    <a:lnTo>
                      <a:pt x="84" y="901"/>
                    </a:lnTo>
                    <a:lnTo>
                      <a:pt x="86" y="900"/>
                    </a:lnTo>
                    <a:lnTo>
                      <a:pt x="88" y="900"/>
                    </a:lnTo>
                    <a:lnTo>
                      <a:pt x="89" y="900"/>
                    </a:lnTo>
                    <a:lnTo>
                      <a:pt x="91" y="901"/>
                    </a:lnTo>
                    <a:lnTo>
                      <a:pt x="92" y="902"/>
                    </a:lnTo>
                    <a:lnTo>
                      <a:pt x="92" y="903"/>
                    </a:lnTo>
                    <a:lnTo>
                      <a:pt x="99" y="903"/>
                    </a:lnTo>
                    <a:lnTo>
                      <a:pt x="100" y="902"/>
                    </a:lnTo>
                    <a:lnTo>
                      <a:pt x="101" y="901"/>
                    </a:lnTo>
                    <a:lnTo>
                      <a:pt x="102" y="900"/>
                    </a:lnTo>
                    <a:lnTo>
                      <a:pt x="104" y="900"/>
                    </a:lnTo>
                    <a:lnTo>
                      <a:pt x="106" y="900"/>
                    </a:lnTo>
                    <a:lnTo>
                      <a:pt x="107" y="901"/>
                    </a:lnTo>
                    <a:lnTo>
                      <a:pt x="108" y="902"/>
                    </a:lnTo>
                    <a:lnTo>
                      <a:pt x="108" y="903"/>
                    </a:lnTo>
                    <a:lnTo>
                      <a:pt x="115" y="903"/>
                    </a:lnTo>
                    <a:lnTo>
                      <a:pt x="115" y="901"/>
                    </a:lnTo>
                    <a:lnTo>
                      <a:pt x="116" y="899"/>
                    </a:lnTo>
                    <a:lnTo>
                      <a:pt x="118" y="898"/>
                    </a:lnTo>
                    <a:lnTo>
                      <a:pt x="120" y="897"/>
                    </a:lnTo>
                    <a:lnTo>
                      <a:pt x="123" y="897"/>
                    </a:lnTo>
                    <a:lnTo>
                      <a:pt x="125" y="897"/>
                    </a:lnTo>
                    <a:lnTo>
                      <a:pt x="127" y="897"/>
                    </a:lnTo>
                    <a:lnTo>
                      <a:pt x="130" y="898"/>
                    </a:lnTo>
                    <a:lnTo>
                      <a:pt x="131" y="899"/>
                    </a:lnTo>
                    <a:lnTo>
                      <a:pt x="132" y="901"/>
                    </a:lnTo>
                    <a:lnTo>
                      <a:pt x="133" y="903"/>
                    </a:lnTo>
                    <a:lnTo>
                      <a:pt x="179" y="903"/>
                    </a:lnTo>
                    <a:lnTo>
                      <a:pt x="179" y="902"/>
                    </a:lnTo>
                    <a:lnTo>
                      <a:pt x="180" y="901"/>
                    </a:lnTo>
                    <a:lnTo>
                      <a:pt x="182" y="900"/>
                    </a:lnTo>
                    <a:lnTo>
                      <a:pt x="183" y="900"/>
                    </a:lnTo>
                    <a:lnTo>
                      <a:pt x="185" y="900"/>
                    </a:lnTo>
                    <a:lnTo>
                      <a:pt x="187" y="901"/>
                    </a:lnTo>
                    <a:lnTo>
                      <a:pt x="188" y="902"/>
                    </a:lnTo>
                    <a:lnTo>
                      <a:pt x="188" y="903"/>
                    </a:lnTo>
                    <a:lnTo>
                      <a:pt x="268" y="903"/>
                    </a:lnTo>
                    <a:lnTo>
                      <a:pt x="268" y="902"/>
                    </a:lnTo>
                    <a:lnTo>
                      <a:pt x="269" y="901"/>
                    </a:lnTo>
                    <a:lnTo>
                      <a:pt x="270" y="900"/>
                    </a:lnTo>
                    <a:lnTo>
                      <a:pt x="272" y="900"/>
                    </a:lnTo>
                    <a:lnTo>
                      <a:pt x="274" y="900"/>
                    </a:lnTo>
                    <a:lnTo>
                      <a:pt x="275" y="901"/>
                    </a:lnTo>
                    <a:lnTo>
                      <a:pt x="276" y="902"/>
                    </a:lnTo>
                    <a:lnTo>
                      <a:pt x="277" y="903"/>
                    </a:lnTo>
                    <a:lnTo>
                      <a:pt x="343" y="903"/>
                    </a:lnTo>
                    <a:lnTo>
                      <a:pt x="344" y="902"/>
                    </a:lnTo>
                    <a:lnTo>
                      <a:pt x="345" y="901"/>
                    </a:lnTo>
                    <a:lnTo>
                      <a:pt x="346" y="900"/>
                    </a:lnTo>
                    <a:lnTo>
                      <a:pt x="348" y="900"/>
                    </a:lnTo>
                    <a:lnTo>
                      <a:pt x="349" y="900"/>
                    </a:lnTo>
                    <a:lnTo>
                      <a:pt x="351" y="901"/>
                    </a:lnTo>
                    <a:lnTo>
                      <a:pt x="352" y="902"/>
                    </a:lnTo>
                    <a:lnTo>
                      <a:pt x="352" y="903"/>
                    </a:lnTo>
                    <a:lnTo>
                      <a:pt x="390" y="903"/>
                    </a:lnTo>
                    <a:lnTo>
                      <a:pt x="390" y="902"/>
                    </a:lnTo>
                    <a:lnTo>
                      <a:pt x="391" y="901"/>
                    </a:lnTo>
                    <a:lnTo>
                      <a:pt x="393" y="900"/>
                    </a:lnTo>
                    <a:lnTo>
                      <a:pt x="394" y="900"/>
                    </a:lnTo>
                    <a:lnTo>
                      <a:pt x="396" y="900"/>
                    </a:lnTo>
                    <a:lnTo>
                      <a:pt x="398" y="901"/>
                    </a:lnTo>
                    <a:lnTo>
                      <a:pt x="399" y="902"/>
                    </a:lnTo>
                    <a:lnTo>
                      <a:pt x="399" y="903"/>
                    </a:lnTo>
                    <a:lnTo>
                      <a:pt x="403" y="903"/>
                    </a:lnTo>
                    <a:lnTo>
                      <a:pt x="403" y="902"/>
                    </a:lnTo>
                    <a:lnTo>
                      <a:pt x="404" y="901"/>
                    </a:lnTo>
                    <a:lnTo>
                      <a:pt x="405" y="900"/>
                    </a:lnTo>
                    <a:lnTo>
                      <a:pt x="407" y="900"/>
                    </a:lnTo>
                    <a:lnTo>
                      <a:pt x="409" y="900"/>
                    </a:lnTo>
                    <a:lnTo>
                      <a:pt x="410" y="901"/>
                    </a:lnTo>
                    <a:lnTo>
                      <a:pt x="411" y="902"/>
                    </a:lnTo>
                    <a:lnTo>
                      <a:pt x="412" y="903"/>
                    </a:lnTo>
                    <a:lnTo>
                      <a:pt x="414" y="903"/>
                    </a:lnTo>
                    <a:lnTo>
                      <a:pt x="415" y="902"/>
                    </a:lnTo>
                    <a:lnTo>
                      <a:pt x="416" y="901"/>
                    </a:lnTo>
                    <a:lnTo>
                      <a:pt x="417" y="900"/>
                    </a:lnTo>
                    <a:lnTo>
                      <a:pt x="419" y="900"/>
                    </a:lnTo>
                    <a:lnTo>
                      <a:pt x="421" y="900"/>
                    </a:lnTo>
                    <a:lnTo>
                      <a:pt x="422" y="901"/>
                    </a:lnTo>
                    <a:lnTo>
                      <a:pt x="423" y="902"/>
                    </a:lnTo>
                    <a:lnTo>
                      <a:pt x="423" y="903"/>
                    </a:lnTo>
                    <a:lnTo>
                      <a:pt x="424" y="903"/>
                    </a:lnTo>
                    <a:lnTo>
                      <a:pt x="424"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5923800" y="380880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28" name=""/>
              <p:cNvSpPr/>
              <p:nvPr/>
            </p:nvSpPr>
            <p:spPr>
              <a:xfrm>
                <a:off x="5211720" y="2983320"/>
                <a:ext cx="156240" cy="70560"/>
              </a:xfrm>
              <a:prstGeom prst="rect">
                <a:avLst/>
              </a:prstGeom>
              <a:blipFill rotWithShape="0">
                <a:blip r:embed="rId100"/>
                <a:srcRect/>
                <a:tile tx="0" ty="0" sx="100000" sy="100000" algn="ctr"/>
              </a:blip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029" name=""/>
              <p:cNvSpPr/>
              <p:nvPr/>
            </p:nvSpPr>
            <p:spPr>
              <a:xfrm>
                <a:off x="5259960" y="3003120"/>
                <a:ext cx="8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AS</a:t>
                </a:r>
                <a:endParaRPr b="0" lang="en-US" sz="300" spc="-1" strike="noStrike">
                  <a:solidFill>
                    <a:srgbClr val="ffffff"/>
                  </a:solidFill>
                  <a:latin typeface="Arial"/>
                </a:endParaRPr>
              </a:p>
            </p:txBody>
          </p:sp>
          <p:sp>
            <p:nvSpPr>
              <p:cNvPr id="1030" name=""/>
              <p:cNvSpPr/>
              <p:nvPr/>
            </p:nvSpPr>
            <p:spPr>
              <a:xfrm>
                <a:off x="5338800" y="2561040"/>
                <a:ext cx="955800" cy="412560"/>
              </a:xfrm>
              <a:custGeom>
                <a:avLst/>
                <a:gdLst/>
                <a:ahLst/>
                <a:rect l="l" t="t" r="r" b="b"/>
                <a:pathLst>
                  <a:path w="903" h="309">
                    <a:moveTo>
                      <a:pt x="0" y="309"/>
                    </a:moveTo>
                    <a:lnTo>
                      <a:pt x="0" y="159"/>
                    </a:lnTo>
                    <a:lnTo>
                      <a:pt x="69" y="159"/>
                    </a:lnTo>
                    <a:lnTo>
                      <a:pt x="69" y="157"/>
                    </a:lnTo>
                    <a:lnTo>
                      <a:pt x="70" y="156"/>
                    </a:lnTo>
                    <a:lnTo>
                      <a:pt x="72" y="155"/>
                    </a:lnTo>
                    <a:lnTo>
                      <a:pt x="73" y="155"/>
                    </a:lnTo>
                    <a:lnTo>
                      <a:pt x="75" y="155"/>
                    </a:lnTo>
                    <a:lnTo>
                      <a:pt x="76" y="156"/>
                    </a:lnTo>
                    <a:lnTo>
                      <a:pt x="78" y="157"/>
                    </a:lnTo>
                    <a:lnTo>
                      <a:pt x="78" y="159"/>
                    </a:lnTo>
                    <a:lnTo>
                      <a:pt x="80" y="159"/>
                    </a:lnTo>
                    <a:lnTo>
                      <a:pt x="80" y="157"/>
                    </a:lnTo>
                    <a:lnTo>
                      <a:pt x="81" y="156"/>
                    </a:lnTo>
                    <a:lnTo>
                      <a:pt x="83" y="155"/>
                    </a:lnTo>
                    <a:lnTo>
                      <a:pt x="84" y="155"/>
                    </a:lnTo>
                    <a:lnTo>
                      <a:pt x="86" y="155"/>
                    </a:lnTo>
                    <a:lnTo>
                      <a:pt x="88" y="156"/>
                    </a:lnTo>
                    <a:lnTo>
                      <a:pt x="89" y="157"/>
                    </a:lnTo>
                    <a:lnTo>
                      <a:pt x="89" y="159"/>
                    </a:lnTo>
                    <a:lnTo>
                      <a:pt x="100" y="159"/>
                    </a:lnTo>
                    <a:lnTo>
                      <a:pt x="101" y="157"/>
                    </a:lnTo>
                    <a:lnTo>
                      <a:pt x="101" y="156"/>
                    </a:lnTo>
                    <a:lnTo>
                      <a:pt x="103" y="155"/>
                    </a:lnTo>
                    <a:lnTo>
                      <a:pt x="105" y="155"/>
                    </a:lnTo>
                    <a:lnTo>
                      <a:pt x="106" y="155"/>
                    </a:lnTo>
                    <a:lnTo>
                      <a:pt x="108" y="156"/>
                    </a:lnTo>
                    <a:lnTo>
                      <a:pt x="109" y="157"/>
                    </a:lnTo>
                    <a:lnTo>
                      <a:pt x="109" y="159"/>
                    </a:lnTo>
                    <a:lnTo>
                      <a:pt x="122" y="159"/>
                    </a:lnTo>
                    <a:lnTo>
                      <a:pt x="122" y="157"/>
                    </a:lnTo>
                    <a:lnTo>
                      <a:pt x="123" y="155"/>
                    </a:lnTo>
                    <a:lnTo>
                      <a:pt x="125" y="154"/>
                    </a:lnTo>
                    <a:lnTo>
                      <a:pt x="127" y="153"/>
                    </a:lnTo>
                    <a:lnTo>
                      <a:pt x="129" y="152"/>
                    </a:lnTo>
                    <a:lnTo>
                      <a:pt x="131" y="152"/>
                    </a:lnTo>
                    <a:lnTo>
                      <a:pt x="133" y="153"/>
                    </a:lnTo>
                    <a:lnTo>
                      <a:pt x="136" y="154"/>
                    </a:lnTo>
                    <a:lnTo>
                      <a:pt x="137" y="155"/>
                    </a:lnTo>
                    <a:lnTo>
                      <a:pt x="138" y="157"/>
                    </a:lnTo>
                    <a:lnTo>
                      <a:pt x="138" y="159"/>
                    </a:lnTo>
                    <a:lnTo>
                      <a:pt x="153" y="159"/>
                    </a:lnTo>
                    <a:lnTo>
                      <a:pt x="153" y="157"/>
                    </a:lnTo>
                    <a:lnTo>
                      <a:pt x="154" y="156"/>
                    </a:lnTo>
                    <a:lnTo>
                      <a:pt x="156" y="155"/>
                    </a:lnTo>
                    <a:lnTo>
                      <a:pt x="157" y="155"/>
                    </a:lnTo>
                    <a:lnTo>
                      <a:pt x="159" y="155"/>
                    </a:lnTo>
                    <a:lnTo>
                      <a:pt x="161" y="156"/>
                    </a:lnTo>
                    <a:lnTo>
                      <a:pt x="161" y="157"/>
                    </a:lnTo>
                    <a:lnTo>
                      <a:pt x="162" y="159"/>
                    </a:lnTo>
                    <a:lnTo>
                      <a:pt x="181" y="159"/>
                    </a:lnTo>
                    <a:lnTo>
                      <a:pt x="181" y="157"/>
                    </a:lnTo>
                    <a:lnTo>
                      <a:pt x="182" y="156"/>
                    </a:lnTo>
                    <a:lnTo>
                      <a:pt x="183" y="155"/>
                    </a:lnTo>
                    <a:lnTo>
                      <a:pt x="185" y="155"/>
                    </a:lnTo>
                    <a:lnTo>
                      <a:pt x="187" y="155"/>
                    </a:lnTo>
                    <a:lnTo>
                      <a:pt x="188" y="156"/>
                    </a:lnTo>
                    <a:lnTo>
                      <a:pt x="189" y="157"/>
                    </a:lnTo>
                    <a:lnTo>
                      <a:pt x="189" y="159"/>
                    </a:lnTo>
                    <a:lnTo>
                      <a:pt x="199" y="159"/>
                    </a:lnTo>
                    <a:lnTo>
                      <a:pt x="200" y="157"/>
                    </a:lnTo>
                    <a:lnTo>
                      <a:pt x="201" y="156"/>
                    </a:lnTo>
                    <a:lnTo>
                      <a:pt x="202" y="155"/>
                    </a:lnTo>
                    <a:lnTo>
                      <a:pt x="204" y="155"/>
                    </a:lnTo>
                    <a:lnTo>
                      <a:pt x="205" y="155"/>
                    </a:lnTo>
                    <a:lnTo>
                      <a:pt x="207" y="156"/>
                    </a:lnTo>
                    <a:lnTo>
                      <a:pt x="208" y="157"/>
                    </a:lnTo>
                    <a:lnTo>
                      <a:pt x="208" y="159"/>
                    </a:lnTo>
                    <a:lnTo>
                      <a:pt x="246" y="159"/>
                    </a:lnTo>
                    <a:lnTo>
                      <a:pt x="247" y="157"/>
                    </a:lnTo>
                    <a:lnTo>
                      <a:pt x="248" y="156"/>
                    </a:lnTo>
                    <a:lnTo>
                      <a:pt x="249" y="155"/>
                    </a:lnTo>
                    <a:lnTo>
                      <a:pt x="251" y="155"/>
                    </a:lnTo>
                    <a:lnTo>
                      <a:pt x="253" y="155"/>
                    </a:lnTo>
                    <a:lnTo>
                      <a:pt x="254" y="156"/>
                    </a:lnTo>
                    <a:lnTo>
                      <a:pt x="255" y="157"/>
                    </a:lnTo>
                    <a:lnTo>
                      <a:pt x="255" y="159"/>
                    </a:lnTo>
                    <a:lnTo>
                      <a:pt x="278" y="159"/>
                    </a:lnTo>
                    <a:lnTo>
                      <a:pt x="278" y="6"/>
                    </a:lnTo>
                    <a:lnTo>
                      <a:pt x="397" y="6"/>
                    </a:lnTo>
                    <a:lnTo>
                      <a:pt x="397" y="5"/>
                    </a:lnTo>
                    <a:lnTo>
                      <a:pt x="398" y="4"/>
                    </a:lnTo>
                    <a:lnTo>
                      <a:pt x="399" y="3"/>
                    </a:lnTo>
                    <a:lnTo>
                      <a:pt x="401" y="3"/>
                    </a:lnTo>
                    <a:lnTo>
                      <a:pt x="403" y="3"/>
                    </a:lnTo>
                    <a:lnTo>
                      <a:pt x="404" y="4"/>
                    </a:lnTo>
                    <a:lnTo>
                      <a:pt x="405" y="5"/>
                    </a:lnTo>
                    <a:lnTo>
                      <a:pt x="406" y="6"/>
                    </a:lnTo>
                    <a:lnTo>
                      <a:pt x="418" y="6"/>
                    </a:lnTo>
                    <a:lnTo>
                      <a:pt x="419" y="5"/>
                    </a:lnTo>
                    <a:lnTo>
                      <a:pt x="420" y="4"/>
                    </a:lnTo>
                    <a:lnTo>
                      <a:pt x="421" y="3"/>
                    </a:lnTo>
                    <a:lnTo>
                      <a:pt x="423" y="3"/>
                    </a:lnTo>
                    <a:lnTo>
                      <a:pt x="425" y="3"/>
                    </a:lnTo>
                    <a:lnTo>
                      <a:pt x="426" y="4"/>
                    </a:lnTo>
                    <a:lnTo>
                      <a:pt x="427" y="5"/>
                    </a:lnTo>
                    <a:lnTo>
                      <a:pt x="427" y="6"/>
                    </a:lnTo>
                    <a:lnTo>
                      <a:pt x="480" y="6"/>
                    </a:lnTo>
                    <a:lnTo>
                      <a:pt x="481" y="5"/>
                    </a:lnTo>
                    <a:lnTo>
                      <a:pt x="482" y="4"/>
                    </a:lnTo>
                    <a:lnTo>
                      <a:pt x="483" y="3"/>
                    </a:lnTo>
                    <a:lnTo>
                      <a:pt x="485" y="3"/>
                    </a:lnTo>
                    <a:lnTo>
                      <a:pt x="486" y="3"/>
                    </a:lnTo>
                    <a:lnTo>
                      <a:pt x="488" y="4"/>
                    </a:lnTo>
                    <a:lnTo>
                      <a:pt x="489" y="5"/>
                    </a:lnTo>
                    <a:lnTo>
                      <a:pt x="489" y="6"/>
                    </a:lnTo>
                    <a:lnTo>
                      <a:pt x="504" y="6"/>
                    </a:lnTo>
                    <a:lnTo>
                      <a:pt x="504" y="5"/>
                    </a:lnTo>
                    <a:lnTo>
                      <a:pt x="505" y="4"/>
                    </a:lnTo>
                    <a:lnTo>
                      <a:pt x="507" y="3"/>
                    </a:lnTo>
                    <a:lnTo>
                      <a:pt x="508" y="3"/>
                    </a:lnTo>
                    <a:lnTo>
                      <a:pt x="510" y="3"/>
                    </a:lnTo>
                    <a:lnTo>
                      <a:pt x="512" y="4"/>
                    </a:lnTo>
                    <a:lnTo>
                      <a:pt x="513" y="5"/>
                    </a:lnTo>
                    <a:lnTo>
                      <a:pt x="513" y="6"/>
                    </a:lnTo>
                    <a:lnTo>
                      <a:pt x="519" y="6"/>
                    </a:lnTo>
                    <a:lnTo>
                      <a:pt x="519" y="5"/>
                    </a:lnTo>
                    <a:lnTo>
                      <a:pt x="520" y="4"/>
                    </a:lnTo>
                    <a:lnTo>
                      <a:pt x="522" y="3"/>
                    </a:lnTo>
                    <a:lnTo>
                      <a:pt x="523" y="3"/>
                    </a:lnTo>
                    <a:lnTo>
                      <a:pt x="525" y="3"/>
                    </a:lnTo>
                    <a:lnTo>
                      <a:pt x="527" y="4"/>
                    </a:lnTo>
                    <a:lnTo>
                      <a:pt x="528" y="5"/>
                    </a:lnTo>
                    <a:lnTo>
                      <a:pt x="528" y="6"/>
                    </a:lnTo>
                    <a:lnTo>
                      <a:pt x="537" y="6"/>
                    </a:lnTo>
                    <a:lnTo>
                      <a:pt x="537" y="5"/>
                    </a:lnTo>
                    <a:lnTo>
                      <a:pt x="538" y="4"/>
                    </a:lnTo>
                    <a:lnTo>
                      <a:pt x="540" y="3"/>
                    </a:lnTo>
                    <a:lnTo>
                      <a:pt x="542" y="3"/>
                    </a:lnTo>
                    <a:lnTo>
                      <a:pt x="543" y="3"/>
                    </a:lnTo>
                    <a:lnTo>
                      <a:pt x="545" y="4"/>
                    </a:lnTo>
                    <a:lnTo>
                      <a:pt x="546" y="5"/>
                    </a:lnTo>
                    <a:lnTo>
                      <a:pt x="546" y="6"/>
                    </a:lnTo>
                    <a:lnTo>
                      <a:pt x="564" y="6"/>
                    </a:lnTo>
                    <a:lnTo>
                      <a:pt x="565" y="5"/>
                    </a:lnTo>
                    <a:lnTo>
                      <a:pt x="566" y="4"/>
                    </a:lnTo>
                    <a:lnTo>
                      <a:pt x="567" y="3"/>
                    </a:lnTo>
                    <a:lnTo>
                      <a:pt x="569" y="3"/>
                    </a:lnTo>
                    <a:lnTo>
                      <a:pt x="571" y="3"/>
                    </a:lnTo>
                    <a:lnTo>
                      <a:pt x="572" y="4"/>
                    </a:lnTo>
                    <a:lnTo>
                      <a:pt x="573" y="5"/>
                    </a:lnTo>
                    <a:lnTo>
                      <a:pt x="573" y="6"/>
                    </a:lnTo>
                    <a:lnTo>
                      <a:pt x="585" y="6"/>
                    </a:lnTo>
                    <a:lnTo>
                      <a:pt x="585" y="5"/>
                    </a:lnTo>
                    <a:lnTo>
                      <a:pt x="586" y="4"/>
                    </a:lnTo>
                    <a:lnTo>
                      <a:pt x="587" y="3"/>
                    </a:lnTo>
                    <a:lnTo>
                      <a:pt x="589" y="3"/>
                    </a:lnTo>
                    <a:lnTo>
                      <a:pt x="591" y="3"/>
                    </a:lnTo>
                    <a:lnTo>
                      <a:pt x="592" y="4"/>
                    </a:lnTo>
                    <a:lnTo>
                      <a:pt x="593" y="5"/>
                    </a:lnTo>
                    <a:lnTo>
                      <a:pt x="594" y="6"/>
                    </a:lnTo>
                    <a:lnTo>
                      <a:pt x="665" y="6"/>
                    </a:lnTo>
                    <a:lnTo>
                      <a:pt x="665" y="5"/>
                    </a:lnTo>
                    <a:lnTo>
                      <a:pt x="666" y="4"/>
                    </a:lnTo>
                    <a:lnTo>
                      <a:pt x="667" y="3"/>
                    </a:lnTo>
                    <a:lnTo>
                      <a:pt x="669" y="3"/>
                    </a:lnTo>
                    <a:lnTo>
                      <a:pt x="671" y="3"/>
                    </a:lnTo>
                    <a:lnTo>
                      <a:pt x="672" y="4"/>
                    </a:lnTo>
                    <a:lnTo>
                      <a:pt x="673" y="5"/>
                    </a:lnTo>
                    <a:lnTo>
                      <a:pt x="674" y="6"/>
                    </a:lnTo>
                    <a:lnTo>
                      <a:pt x="692" y="6"/>
                    </a:lnTo>
                    <a:lnTo>
                      <a:pt x="693" y="5"/>
                    </a:lnTo>
                    <a:lnTo>
                      <a:pt x="694" y="4"/>
                    </a:lnTo>
                    <a:lnTo>
                      <a:pt x="695" y="3"/>
                    </a:lnTo>
                    <a:lnTo>
                      <a:pt x="697" y="3"/>
                    </a:lnTo>
                    <a:lnTo>
                      <a:pt x="699" y="3"/>
                    </a:lnTo>
                    <a:lnTo>
                      <a:pt x="700" y="4"/>
                    </a:lnTo>
                    <a:lnTo>
                      <a:pt x="701" y="5"/>
                    </a:lnTo>
                    <a:lnTo>
                      <a:pt x="701" y="6"/>
                    </a:lnTo>
                    <a:lnTo>
                      <a:pt x="720" y="6"/>
                    </a:lnTo>
                    <a:lnTo>
                      <a:pt x="720" y="5"/>
                    </a:lnTo>
                    <a:lnTo>
                      <a:pt x="721" y="4"/>
                    </a:lnTo>
                    <a:lnTo>
                      <a:pt x="723" y="3"/>
                    </a:lnTo>
                    <a:lnTo>
                      <a:pt x="724" y="3"/>
                    </a:lnTo>
                    <a:lnTo>
                      <a:pt x="726" y="3"/>
                    </a:lnTo>
                    <a:lnTo>
                      <a:pt x="727" y="4"/>
                    </a:lnTo>
                    <a:lnTo>
                      <a:pt x="728" y="5"/>
                    </a:lnTo>
                    <a:lnTo>
                      <a:pt x="729" y="6"/>
                    </a:lnTo>
                    <a:lnTo>
                      <a:pt x="738" y="6"/>
                    </a:lnTo>
                    <a:lnTo>
                      <a:pt x="738" y="4"/>
                    </a:lnTo>
                    <a:lnTo>
                      <a:pt x="739" y="3"/>
                    </a:lnTo>
                    <a:lnTo>
                      <a:pt x="741" y="2"/>
                    </a:lnTo>
                    <a:lnTo>
                      <a:pt x="742" y="1"/>
                    </a:lnTo>
                    <a:lnTo>
                      <a:pt x="744" y="1"/>
                    </a:lnTo>
                    <a:lnTo>
                      <a:pt x="746" y="1"/>
                    </a:lnTo>
                    <a:lnTo>
                      <a:pt x="748" y="2"/>
                    </a:lnTo>
                    <a:lnTo>
                      <a:pt x="750" y="3"/>
                    </a:lnTo>
                    <a:lnTo>
                      <a:pt x="751" y="4"/>
                    </a:lnTo>
                    <a:lnTo>
                      <a:pt x="751" y="6"/>
                    </a:lnTo>
                    <a:lnTo>
                      <a:pt x="757" y="6"/>
                    </a:lnTo>
                    <a:lnTo>
                      <a:pt x="757" y="5"/>
                    </a:lnTo>
                    <a:lnTo>
                      <a:pt x="758" y="4"/>
                    </a:lnTo>
                    <a:lnTo>
                      <a:pt x="759" y="3"/>
                    </a:lnTo>
                    <a:lnTo>
                      <a:pt x="761" y="3"/>
                    </a:lnTo>
                    <a:lnTo>
                      <a:pt x="763" y="3"/>
                    </a:lnTo>
                    <a:lnTo>
                      <a:pt x="764" y="4"/>
                    </a:lnTo>
                    <a:lnTo>
                      <a:pt x="765" y="5"/>
                    </a:lnTo>
                    <a:lnTo>
                      <a:pt x="765" y="6"/>
                    </a:lnTo>
                    <a:lnTo>
                      <a:pt x="770" y="6"/>
                    </a:lnTo>
                    <a:lnTo>
                      <a:pt x="770" y="5"/>
                    </a:lnTo>
                    <a:lnTo>
                      <a:pt x="771" y="4"/>
                    </a:lnTo>
                    <a:lnTo>
                      <a:pt x="773" y="3"/>
                    </a:lnTo>
                    <a:lnTo>
                      <a:pt x="775" y="3"/>
                    </a:lnTo>
                    <a:lnTo>
                      <a:pt x="776" y="3"/>
                    </a:lnTo>
                    <a:lnTo>
                      <a:pt x="778" y="4"/>
                    </a:lnTo>
                    <a:lnTo>
                      <a:pt x="779" y="5"/>
                    </a:lnTo>
                    <a:lnTo>
                      <a:pt x="779" y="6"/>
                    </a:lnTo>
                    <a:lnTo>
                      <a:pt x="794" y="6"/>
                    </a:lnTo>
                    <a:lnTo>
                      <a:pt x="794" y="4"/>
                    </a:lnTo>
                    <a:lnTo>
                      <a:pt x="795" y="3"/>
                    </a:lnTo>
                    <a:lnTo>
                      <a:pt x="796" y="1"/>
                    </a:lnTo>
                    <a:lnTo>
                      <a:pt x="798" y="1"/>
                    </a:lnTo>
                    <a:lnTo>
                      <a:pt x="800" y="0"/>
                    </a:lnTo>
                    <a:lnTo>
                      <a:pt x="802" y="0"/>
                    </a:lnTo>
                    <a:lnTo>
                      <a:pt x="805" y="1"/>
                    </a:lnTo>
                    <a:lnTo>
                      <a:pt x="807" y="1"/>
                    </a:lnTo>
                    <a:lnTo>
                      <a:pt x="808" y="3"/>
                    </a:lnTo>
                    <a:lnTo>
                      <a:pt x="809" y="4"/>
                    </a:lnTo>
                    <a:lnTo>
                      <a:pt x="809" y="6"/>
                    </a:lnTo>
                    <a:lnTo>
                      <a:pt x="814" y="6"/>
                    </a:lnTo>
                    <a:lnTo>
                      <a:pt x="814" y="4"/>
                    </a:lnTo>
                    <a:lnTo>
                      <a:pt x="815" y="3"/>
                    </a:lnTo>
                    <a:lnTo>
                      <a:pt x="817" y="1"/>
                    </a:lnTo>
                    <a:lnTo>
                      <a:pt x="819" y="1"/>
                    </a:lnTo>
                    <a:lnTo>
                      <a:pt x="821" y="0"/>
                    </a:lnTo>
                    <a:lnTo>
                      <a:pt x="823" y="0"/>
                    </a:lnTo>
                    <a:lnTo>
                      <a:pt x="825" y="1"/>
                    </a:lnTo>
                    <a:lnTo>
                      <a:pt x="827" y="1"/>
                    </a:lnTo>
                    <a:lnTo>
                      <a:pt x="828" y="3"/>
                    </a:lnTo>
                    <a:lnTo>
                      <a:pt x="829" y="4"/>
                    </a:lnTo>
                    <a:lnTo>
                      <a:pt x="830" y="6"/>
                    </a:lnTo>
                    <a:lnTo>
                      <a:pt x="871" y="6"/>
                    </a:lnTo>
                    <a:lnTo>
                      <a:pt x="871" y="4"/>
                    </a:lnTo>
                    <a:lnTo>
                      <a:pt x="872" y="3"/>
                    </a:lnTo>
                    <a:lnTo>
                      <a:pt x="873" y="1"/>
                    </a:lnTo>
                    <a:lnTo>
                      <a:pt x="875" y="1"/>
                    </a:lnTo>
                    <a:lnTo>
                      <a:pt x="878" y="0"/>
                    </a:lnTo>
                    <a:lnTo>
                      <a:pt x="880" y="0"/>
                    </a:lnTo>
                    <a:lnTo>
                      <a:pt x="882" y="1"/>
                    </a:lnTo>
                    <a:lnTo>
                      <a:pt x="884" y="1"/>
                    </a:lnTo>
                    <a:lnTo>
                      <a:pt x="885" y="3"/>
                    </a:lnTo>
                    <a:lnTo>
                      <a:pt x="886" y="4"/>
                    </a:lnTo>
                    <a:lnTo>
                      <a:pt x="886" y="6"/>
                    </a:lnTo>
                    <a:lnTo>
                      <a:pt x="903"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5332320" y="29725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32" name=""/>
              <p:cNvSpPr/>
              <p:nvPr/>
            </p:nvSpPr>
            <p:spPr>
              <a:xfrm>
                <a:off x="5333400" y="2459520"/>
                <a:ext cx="983160" cy="64080"/>
              </a:xfrm>
              <a:custGeom>
                <a:avLst/>
                <a:gdLst/>
                <a:ahLst/>
                <a:rect l="l" t="t" r="r" b="b"/>
                <a:pathLst>
                  <a:path w="929" h="48">
                    <a:moveTo>
                      <a:pt x="0" y="33"/>
                    </a:moveTo>
                    <a:lnTo>
                      <a:pt x="0" y="48"/>
                    </a:lnTo>
                    <a:lnTo>
                      <a:pt x="22" y="48"/>
                    </a:lnTo>
                    <a:lnTo>
                      <a:pt x="23" y="47"/>
                    </a:lnTo>
                    <a:lnTo>
                      <a:pt x="24" y="46"/>
                    </a:lnTo>
                    <a:lnTo>
                      <a:pt x="25" y="45"/>
                    </a:lnTo>
                    <a:lnTo>
                      <a:pt x="27" y="45"/>
                    </a:lnTo>
                    <a:lnTo>
                      <a:pt x="29" y="45"/>
                    </a:lnTo>
                    <a:lnTo>
                      <a:pt x="30" y="46"/>
                    </a:lnTo>
                    <a:lnTo>
                      <a:pt x="31" y="47"/>
                    </a:lnTo>
                    <a:lnTo>
                      <a:pt x="31" y="48"/>
                    </a:lnTo>
                    <a:lnTo>
                      <a:pt x="51" y="48"/>
                    </a:lnTo>
                    <a:lnTo>
                      <a:pt x="52" y="47"/>
                    </a:lnTo>
                    <a:lnTo>
                      <a:pt x="52" y="46"/>
                    </a:lnTo>
                    <a:lnTo>
                      <a:pt x="54" y="45"/>
                    </a:lnTo>
                    <a:lnTo>
                      <a:pt x="56" y="45"/>
                    </a:lnTo>
                    <a:lnTo>
                      <a:pt x="57" y="45"/>
                    </a:lnTo>
                    <a:lnTo>
                      <a:pt x="59" y="46"/>
                    </a:lnTo>
                    <a:lnTo>
                      <a:pt x="60" y="47"/>
                    </a:lnTo>
                    <a:lnTo>
                      <a:pt x="60" y="48"/>
                    </a:lnTo>
                    <a:lnTo>
                      <a:pt x="85" y="48"/>
                    </a:lnTo>
                    <a:lnTo>
                      <a:pt x="85" y="47"/>
                    </a:lnTo>
                    <a:lnTo>
                      <a:pt x="86" y="46"/>
                    </a:lnTo>
                    <a:lnTo>
                      <a:pt x="88" y="45"/>
                    </a:lnTo>
                    <a:lnTo>
                      <a:pt x="89" y="45"/>
                    </a:lnTo>
                    <a:lnTo>
                      <a:pt x="91" y="45"/>
                    </a:lnTo>
                    <a:lnTo>
                      <a:pt x="93" y="46"/>
                    </a:lnTo>
                    <a:lnTo>
                      <a:pt x="94" y="47"/>
                    </a:lnTo>
                    <a:lnTo>
                      <a:pt x="94" y="48"/>
                    </a:lnTo>
                    <a:lnTo>
                      <a:pt x="105" y="48"/>
                    </a:lnTo>
                    <a:lnTo>
                      <a:pt x="106" y="47"/>
                    </a:lnTo>
                    <a:lnTo>
                      <a:pt x="106" y="46"/>
                    </a:lnTo>
                    <a:lnTo>
                      <a:pt x="108" y="45"/>
                    </a:lnTo>
                    <a:lnTo>
                      <a:pt x="110" y="45"/>
                    </a:lnTo>
                    <a:lnTo>
                      <a:pt x="112" y="45"/>
                    </a:lnTo>
                    <a:lnTo>
                      <a:pt x="113" y="46"/>
                    </a:lnTo>
                    <a:lnTo>
                      <a:pt x="114" y="47"/>
                    </a:lnTo>
                    <a:lnTo>
                      <a:pt x="114" y="48"/>
                    </a:lnTo>
                    <a:lnTo>
                      <a:pt x="127" y="48"/>
                    </a:lnTo>
                    <a:lnTo>
                      <a:pt x="127" y="47"/>
                    </a:lnTo>
                    <a:lnTo>
                      <a:pt x="128" y="46"/>
                    </a:lnTo>
                    <a:lnTo>
                      <a:pt x="129" y="45"/>
                    </a:lnTo>
                    <a:lnTo>
                      <a:pt x="131" y="45"/>
                    </a:lnTo>
                    <a:lnTo>
                      <a:pt x="133" y="45"/>
                    </a:lnTo>
                    <a:lnTo>
                      <a:pt x="134" y="46"/>
                    </a:lnTo>
                    <a:lnTo>
                      <a:pt x="135" y="47"/>
                    </a:lnTo>
                    <a:lnTo>
                      <a:pt x="136" y="48"/>
                    </a:lnTo>
                    <a:lnTo>
                      <a:pt x="158" y="48"/>
                    </a:lnTo>
                    <a:lnTo>
                      <a:pt x="158" y="47"/>
                    </a:lnTo>
                    <a:lnTo>
                      <a:pt x="159" y="46"/>
                    </a:lnTo>
                    <a:lnTo>
                      <a:pt x="161" y="45"/>
                    </a:lnTo>
                    <a:lnTo>
                      <a:pt x="162" y="45"/>
                    </a:lnTo>
                    <a:lnTo>
                      <a:pt x="164" y="45"/>
                    </a:lnTo>
                    <a:lnTo>
                      <a:pt x="166" y="46"/>
                    </a:lnTo>
                    <a:lnTo>
                      <a:pt x="166" y="47"/>
                    </a:lnTo>
                    <a:lnTo>
                      <a:pt x="167" y="48"/>
                    </a:lnTo>
                    <a:lnTo>
                      <a:pt x="186" y="48"/>
                    </a:lnTo>
                    <a:lnTo>
                      <a:pt x="186" y="47"/>
                    </a:lnTo>
                    <a:lnTo>
                      <a:pt x="187" y="46"/>
                    </a:lnTo>
                    <a:lnTo>
                      <a:pt x="188" y="45"/>
                    </a:lnTo>
                    <a:lnTo>
                      <a:pt x="190" y="45"/>
                    </a:lnTo>
                    <a:lnTo>
                      <a:pt x="192" y="45"/>
                    </a:lnTo>
                    <a:lnTo>
                      <a:pt x="193" y="46"/>
                    </a:lnTo>
                    <a:lnTo>
                      <a:pt x="194" y="47"/>
                    </a:lnTo>
                    <a:lnTo>
                      <a:pt x="195" y="48"/>
                    </a:lnTo>
                    <a:lnTo>
                      <a:pt x="251" y="48"/>
                    </a:lnTo>
                    <a:lnTo>
                      <a:pt x="252" y="47"/>
                    </a:lnTo>
                    <a:lnTo>
                      <a:pt x="253" y="46"/>
                    </a:lnTo>
                    <a:lnTo>
                      <a:pt x="254" y="45"/>
                    </a:lnTo>
                    <a:lnTo>
                      <a:pt x="256" y="45"/>
                    </a:lnTo>
                    <a:lnTo>
                      <a:pt x="258" y="45"/>
                    </a:lnTo>
                    <a:lnTo>
                      <a:pt x="259" y="46"/>
                    </a:lnTo>
                    <a:lnTo>
                      <a:pt x="260" y="47"/>
                    </a:lnTo>
                    <a:lnTo>
                      <a:pt x="260" y="48"/>
                    </a:lnTo>
                    <a:lnTo>
                      <a:pt x="402" y="48"/>
                    </a:lnTo>
                    <a:lnTo>
                      <a:pt x="402" y="47"/>
                    </a:lnTo>
                    <a:lnTo>
                      <a:pt x="403" y="46"/>
                    </a:lnTo>
                    <a:lnTo>
                      <a:pt x="404" y="45"/>
                    </a:lnTo>
                    <a:lnTo>
                      <a:pt x="406" y="45"/>
                    </a:lnTo>
                    <a:lnTo>
                      <a:pt x="408" y="45"/>
                    </a:lnTo>
                    <a:lnTo>
                      <a:pt x="409" y="46"/>
                    </a:lnTo>
                    <a:lnTo>
                      <a:pt x="410" y="47"/>
                    </a:lnTo>
                    <a:lnTo>
                      <a:pt x="411" y="48"/>
                    </a:lnTo>
                    <a:lnTo>
                      <a:pt x="423" y="48"/>
                    </a:lnTo>
                    <a:lnTo>
                      <a:pt x="424" y="47"/>
                    </a:lnTo>
                    <a:lnTo>
                      <a:pt x="425" y="46"/>
                    </a:lnTo>
                    <a:lnTo>
                      <a:pt x="426" y="45"/>
                    </a:lnTo>
                    <a:lnTo>
                      <a:pt x="428" y="45"/>
                    </a:lnTo>
                    <a:lnTo>
                      <a:pt x="430" y="45"/>
                    </a:lnTo>
                    <a:lnTo>
                      <a:pt x="431" y="46"/>
                    </a:lnTo>
                    <a:lnTo>
                      <a:pt x="432" y="47"/>
                    </a:lnTo>
                    <a:lnTo>
                      <a:pt x="432" y="48"/>
                    </a:lnTo>
                    <a:lnTo>
                      <a:pt x="509" y="48"/>
                    </a:lnTo>
                    <a:lnTo>
                      <a:pt x="509" y="47"/>
                    </a:lnTo>
                    <a:lnTo>
                      <a:pt x="510" y="46"/>
                    </a:lnTo>
                    <a:lnTo>
                      <a:pt x="512" y="45"/>
                    </a:lnTo>
                    <a:lnTo>
                      <a:pt x="514" y="45"/>
                    </a:lnTo>
                    <a:lnTo>
                      <a:pt x="515" y="45"/>
                    </a:lnTo>
                    <a:lnTo>
                      <a:pt x="517" y="46"/>
                    </a:lnTo>
                    <a:lnTo>
                      <a:pt x="518" y="47"/>
                    </a:lnTo>
                    <a:lnTo>
                      <a:pt x="518" y="48"/>
                    </a:lnTo>
                    <a:lnTo>
                      <a:pt x="524" y="48"/>
                    </a:lnTo>
                    <a:lnTo>
                      <a:pt x="524" y="47"/>
                    </a:lnTo>
                    <a:lnTo>
                      <a:pt x="525" y="46"/>
                    </a:lnTo>
                    <a:lnTo>
                      <a:pt x="527" y="45"/>
                    </a:lnTo>
                    <a:lnTo>
                      <a:pt x="528" y="45"/>
                    </a:lnTo>
                    <a:lnTo>
                      <a:pt x="530" y="45"/>
                    </a:lnTo>
                    <a:lnTo>
                      <a:pt x="532" y="46"/>
                    </a:lnTo>
                    <a:lnTo>
                      <a:pt x="533" y="47"/>
                    </a:lnTo>
                    <a:lnTo>
                      <a:pt x="533" y="48"/>
                    </a:lnTo>
                    <a:lnTo>
                      <a:pt x="542" y="48"/>
                    </a:lnTo>
                    <a:lnTo>
                      <a:pt x="542" y="47"/>
                    </a:lnTo>
                    <a:lnTo>
                      <a:pt x="543" y="46"/>
                    </a:lnTo>
                    <a:lnTo>
                      <a:pt x="545" y="45"/>
                    </a:lnTo>
                    <a:lnTo>
                      <a:pt x="547" y="45"/>
                    </a:lnTo>
                    <a:lnTo>
                      <a:pt x="548" y="45"/>
                    </a:lnTo>
                    <a:lnTo>
                      <a:pt x="550" y="46"/>
                    </a:lnTo>
                    <a:lnTo>
                      <a:pt x="551" y="47"/>
                    </a:lnTo>
                    <a:lnTo>
                      <a:pt x="551" y="48"/>
                    </a:lnTo>
                    <a:lnTo>
                      <a:pt x="557" y="48"/>
                    </a:lnTo>
                    <a:lnTo>
                      <a:pt x="557" y="6"/>
                    </a:lnTo>
                    <a:lnTo>
                      <a:pt x="569" y="6"/>
                    </a:lnTo>
                    <a:lnTo>
                      <a:pt x="570" y="4"/>
                    </a:lnTo>
                    <a:lnTo>
                      <a:pt x="571" y="3"/>
                    </a:lnTo>
                    <a:lnTo>
                      <a:pt x="572" y="3"/>
                    </a:lnTo>
                    <a:lnTo>
                      <a:pt x="574" y="2"/>
                    </a:lnTo>
                    <a:lnTo>
                      <a:pt x="576" y="3"/>
                    </a:lnTo>
                    <a:lnTo>
                      <a:pt x="577" y="3"/>
                    </a:lnTo>
                    <a:lnTo>
                      <a:pt x="578" y="4"/>
                    </a:lnTo>
                    <a:lnTo>
                      <a:pt x="578" y="6"/>
                    </a:lnTo>
                    <a:lnTo>
                      <a:pt x="603" y="6"/>
                    </a:lnTo>
                    <a:lnTo>
                      <a:pt x="603" y="4"/>
                    </a:lnTo>
                    <a:lnTo>
                      <a:pt x="604" y="3"/>
                    </a:lnTo>
                    <a:lnTo>
                      <a:pt x="606" y="3"/>
                    </a:lnTo>
                    <a:lnTo>
                      <a:pt x="607" y="2"/>
                    </a:lnTo>
                    <a:lnTo>
                      <a:pt x="609" y="3"/>
                    </a:lnTo>
                    <a:lnTo>
                      <a:pt x="610" y="3"/>
                    </a:lnTo>
                    <a:lnTo>
                      <a:pt x="611" y="4"/>
                    </a:lnTo>
                    <a:lnTo>
                      <a:pt x="612" y="6"/>
                    </a:lnTo>
                    <a:lnTo>
                      <a:pt x="670" y="6"/>
                    </a:lnTo>
                    <a:lnTo>
                      <a:pt x="670" y="4"/>
                    </a:lnTo>
                    <a:lnTo>
                      <a:pt x="671" y="3"/>
                    </a:lnTo>
                    <a:lnTo>
                      <a:pt x="672" y="3"/>
                    </a:lnTo>
                    <a:lnTo>
                      <a:pt x="674" y="2"/>
                    </a:lnTo>
                    <a:lnTo>
                      <a:pt x="676" y="3"/>
                    </a:lnTo>
                    <a:lnTo>
                      <a:pt x="677" y="3"/>
                    </a:lnTo>
                    <a:lnTo>
                      <a:pt x="678" y="4"/>
                    </a:lnTo>
                    <a:lnTo>
                      <a:pt x="679" y="6"/>
                    </a:lnTo>
                    <a:lnTo>
                      <a:pt x="697" y="6"/>
                    </a:lnTo>
                    <a:lnTo>
                      <a:pt x="698" y="4"/>
                    </a:lnTo>
                    <a:lnTo>
                      <a:pt x="699" y="3"/>
                    </a:lnTo>
                    <a:lnTo>
                      <a:pt x="700" y="3"/>
                    </a:lnTo>
                    <a:lnTo>
                      <a:pt x="702" y="2"/>
                    </a:lnTo>
                    <a:lnTo>
                      <a:pt x="704" y="3"/>
                    </a:lnTo>
                    <a:lnTo>
                      <a:pt x="705" y="3"/>
                    </a:lnTo>
                    <a:lnTo>
                      <a:pt x="706" y="4"/>
                    </a:lnTo>
                    <a:lnTo>
                      <a:pt x="706" y="6"/>
                    </a:lnTo>
                    <a:lnTo>
                      <a:pt x="725" y="6"/>
                    </a:lnTo>
                    <a:lnTo>
                      <a:pt x="725" y="4"/>
                    </a:lnTo>
                    <a:lnTo>
                      <a:pt x="726" y="3"/>
                    </a:lnTo>
                    <a:lnTo>
                      <a:pt x="728" y="3"/>
                    </a:lnTo>
                    <a:lnTo>
                      <a:pt x="729" y="2"/>
                    </a:lnTo>
                    <a:lnTo>
                      <a:pt x="731" y="3"/>
                    </a:lnTo>
                    <a:lnTo>
                      <a:pt x="732" y="3"/>
                    </a:lnTo>
                    <a:lnTo>
                      <a:pt x="733" y="4"/>
                    </a:lnTo>
                    <a:lnTo>
                      <a:pt x="734" y="6"/>
                    </a:lnTo>
                    <a:lnTo>
                      <a:pt x="743" y="6"/>
                    </a:lnTo>
                    <a:lnTo>
                      <a:pt x="743" y="4"/>
                    </a:lnTo>
                    <a:lnTo>
                      <a:pt x="744" y="3"/>
                    </a:lnTo>
                    <a:lnTo>
                      <a:pt x="746" y="3"/>
                    </a:lnTo>
                    <a:lnTo>
                      <a:pt x="747" y="2"/>
                    </a:lnTo>
                    <a:lnTo>
                      <a:pt x="749" y="3"/>
                    </a:lnTo>
                    <a:lnTo>
                      <a:pt x="750" y="3"/>
                    </a:lnTo>
                    <a:lnTo>
                      <a:pt x="751" y="4"/>
                    </a:lnTo>
                    <a:lnTo>
                      <a:pt x="752" y="6"/>
                    </a:lnTo>
                    <a:lnTo>
                      <a:pt x="762" y="6"/>
                    </a:lnTo>
                    <a:lnTo>
                      <a:pt x="762" y="4"/>
                    </a:lnTo>
                    <a:lnTo>
                      <a:pt x="763" y="3"/>
                    </a:lnTo>
                    <a:lnTo>
                      <a:pt x="764" y="3"/>
                    </a:lnTo>
                    <a:lnTo>
                      <a:pt x="766" y="2"/>
                    </a:lnTo>
                    <a:lnTo>
                      <a:pt x="768" y="3"/>
                    </a:lnTo>
                    <a:lnTo>
                      <a:pt x="769" y="3"/>
                    </a:lnTo>
                    <a:lnTo>
                      <a:pt x="770" y="4"/>
                    </a:lnTo>
                    <a:lnTo>
                      <a:pt x="771" y="6"/>
                    </a:lnTo>
                    <a:lnTo>
                      <a:pt x="775" y="6"/>
                    </a:lnTo>
                    <a:lnTo>
                      <a:pt x="775" y="4"/>
                    </a:lnTo>
                    <a:lnTo>
                      <a:pt x="776" y="3"/>
                    </a:lnTo>
                    <a:lnTo>
                      <a:pt x="778" y="3"/>
                    </a:lnTo>
                    <a:lnTo>
                      <a:pt x="780" y="2"/>
                    </a:lnTo>
                    <a:lnTo>
                      <a:pt x="781" y="3"/>
                    </a:lnTo>
                    <a:lnTo>
                      <a:pt x="783" y="3"/>
                    </a:lnTo>
                    <a:lnTo>
                      <a:pt x="784" y="4"/>
                    </a:lnTo>
                    <a:lnTo>
                      <a:pt x="784" y="6"/>
                    </a:lnTo>
                    <a:lnTo>
                      <a:pt x="799" y="6"/>
                    </a:lnTo>
                    <a:lnTo>
                      <a:pt x="799" y="4"/>
                    </a:lnTo>
                    <a:lnTo>
                      <a:pt x="800" y="2"/>
                    </a:lnTo>
                    <a:lnTo>
                      <a:pt x="801" y="1"/>
                    </a:lnTo>
                    <a:lnTo>
                      <a:pt x="803" y="0"/>
                    </a:lnTo>
                    <a:lnTo>
                      <a:pt x="805" y="0"/>
                    </a:lnTo>
                    <a:lnTo>
                      <a:pt x="808" y="0"/>
                    </a:lnTo>
                    <a:lnTo>
                      <a:pt x="810" y="0"/>
                    </a:lnTo>
                    <a:lnTo>
                      <a:pt x="812" y="1"/>
                    </a:lnTo>
                    <a:lnTo>
                      <a:pt x="813" y="2"/>
                    </a:lnTo>
                    <a:lnTo>
                      <a:pt x="814" y="4"/>
                    </a:lnTo>
                    <a:lnTo>
                      <a:pt x="814" y="6"/>
                    </a:lnTo>
                    <a:lnTo>
                      <a:pt x="819" y="6"/>
                    </a:lnTo>
                    <a:lnTo>
                      <a:pt x="819" y="4"/>
                    </a:lnTo>
                    <a:lnTo>
                      <a:pt x="820" y="2"/>
                    </a:lnTo>
                    <a:lnTo>
                      <a:pt x="822" y="1"/>
                    </a:lnTo>
                    <a:lnTo>
                      <a:pt x="824" y="0"/>
                    </a:lnTo>
                    <a:lnTo>
                      <a:pt x="826" y="0"/>
                    </a:lnTo>
                    <a:lnTo>
                      <a:pt x="828" y="0"/>
                    </a:lnTo>
                    <a:lnTo>
                      <a:pt x="830" y="0"/>
                    </a:lnTo>
                    <a:lnTo>
                      <a:pt x="832" y="1"/>
                    </a:lnTo>
                    <a:lnTo>
                      <a:pt x="833" y="2"/>
                    </a:lnTo>
                    <a:lnTo>
                      <a:pt x="834" y="4"/>
                    </a:lnTo>
                    <a:lnTo>
                      <a:pt x="835" y="6"/>
                    </a:lnTo>
                    <a:lnTo>
                      <a:pt x="876" y="6"/>
                    </a:lnTo>
                    <a:lnTo>
                      <a:pt x="876" y="4"/>
                    </a:lnTo>
                    <a:lnTo>
                      <a:pt x="877" y="3"/>
                    </a:lnTo>
                    <a:lnTo>
                      <a:pt x="879" y="3"/>
                    </a:lnTo>
                    <a:lnTo>
                      <a:pt x="880" y="2"/>
                    </a:lnTo>
                    <a:lnTo>
                      <a:pt x="882" y="3"/>
                    </a:lnTo>
                    <a:lnTo>
                      <a:pt x="884" y="3"/>
                    </a:lnTo>
                    <a:lnTo>
                      <a:pt x="885" y="4"/>
                    </a:lnTo>
                    <a:lnTo>
                      <a:pt x="885" y="6"/>
                    </a:lnTo>
                    <a:lnTo>
                      <a:pt x="929" y="6"/>
                    </a:lnTo>
                    <a:lnTo>
                      <a:pt x="929" y="27"/>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033" name=""/>
              <p:cNvSpPr/>
              <p:nvPr/>
            </p:nvSpPr>
            <p:spPr>
              <a:xfrm>
                <a:off x="5326920" y="24915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34" name=""/>
              <p:cNvSpPr/>
              <p:nvPr/>
            </p:nvSpPr>
            <p:spPr>
              <a:xfrm>
                <a:off x="7427520" y="2380680"/>
                <a:ext cx="218160" cy="83880"/>
              </a:xfrm>
              <a:prstGeom prst="rect">
                <a:avLst/>
              </a:prstGeom>
              <a:blipFill rotWithShape="0">
                <a:blip r:embed="rId101"/>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35" name=""/>
              <p:cNvSpPr/>
              <p:nvPr/>
            </p:nvSpPr>
            <p:spPr>
              <a:xfrm>
                <a:off x="7467480" y="2403360"/>
                <a:ext cx="55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a:t>
                </a:r>
                <a:endParaRPr b="0" lang="en-US" sz="300" spc="-1" strike="noStrike">
                  <a:solidFill>
                    <a:srgbClr val="ffffff"/>
                  </a:solidFill>
                  <a:latin typeface="Arial"/>
                </a:endParaRPr>
              </a:p>
            </p:txBody>
          </p:sp>
          <p:sp>
            <p:nvSpPr>
              <p:cNvPr id="1036" name=""/>
              <p:cNvSpPr/>
              <p:nvPr/>
            </p:nvSpPr>
            <p:spPr>
              <a:xfrm>
                <a:off x="6583680" y="2418120"/>
                <a:ext cx="831960" cy="81360"/>
              </a:xfrm>
              <a:custGeom>
                <a:avLst/>
                <a:gdLst/>
                <a:ahLst/>
                <a:rect l="l" t="t" r="r" b="b"/>
                <a:pathLst>
                  <a:path w="786" h="61">
                    <a:moveTo>
                      <a:pt x="786" y="4"/>
                    </a:moveTo>
                    <a:lnTo>
                      <a:pt x="782" y="4"/>
                    </a:lnTo>
                    <a:lnTo>
                      <a:pt x="781" y="2"/>
                    </a:lnTo>
                    <a:lnTo>
                      <a:pt x="780" y="1"/>
                    </a:lnTo>
                    <a:lnTo>
                      <a:pt x="779" y="0"/>
                    </a:lnTo>
                    <a:lnTo>
                      <a:pt x="777" y="0"/>
                    </a:lnTo>
                    <a:lnTo>
                      <a:pt x="775" y="0"/>
                    </a:lnTo>
                    <a:lnTo>
                      <a:pt x="774" y="1"/>
                    </a:lnTo>
                    <a:lnTo>
                      <a:pt x="773" y="2"/>
                    </a:lnTo>
                    <a:lnTo>
                      <a:pt x="773" y="4"/>
                    </a:lnTo>
                    <a:lnTo>
                      <a:pt x="748" y="4"/>
                    </a:lnTo>
                    <a:lnTo>
                      <a:pt x="748" y="2"/>
                    </a:lnTo>
                    <a:lnTo>
                      <a:pt x="746" y="1"/>
                    </a:lnTo>
                    <a:lnTo>
                      <a:pt x="745" y="0"/>
                    </a:lnTo>
                    <a:lnTo>
                      <a:pt x="743" y="0"/>
                    </a:lnTo>
                    <a:lnTo>
                      <a:pt x="742" y="0"/>
                    </a:lnTo>
                    <a:lnTo>
                      <a:pt x="740" y="1"/>
                    </a:lnTo>
                    <a:lnTo>
                      <a:pt x="739" y="2"/>
                    </a:lnTo>
                    <a:lnTo>
                      <a:pt x="739" y="4"/>
                    </a:lnTo>
                    <a:lnTo>
                      <a:pt x="721" y="4"/>
                    </a:lnTo>
                    <a:lnTo>
                      <a:pt x="721" y="2"/>
                    </a:lnTo>
                    <a:lnTo>
                      <a:pt x="719" y="1"/>
                    </a:lnTo>
                    <a:lnTo>
                      <a:pt x="718" y="0"/>
                    </a:lnTo>
                    <a:lnTo>
                      <a:pt x="716" y="0"/>
                    </a:lnTo>
                    <a:lnTo>
                      <a:pt x="715" y="0"/>
                    </a:lnTo>
                    <a:lnTo>
                      <a:pt x="713" y="1"/>
                    </a:lnTo>
                    <a:lnTo>
                      <a:pt x="712" y="2"/>
                    </a:lnTo>
                    <a:lnTo>
                      <a:pt x="712" y="4"/>
                    </a:lnTo>
                    <a:lnTo>
                      <a:pt x="687" y="4"/>
                    </a:lnTo>
                    <a:lnTo>
                      <a:pt x="687" y="2"/>
                    </a:lnTo>
                    <a:lnTo>
                      <a:pt x="686" y="1"/>
                    </a:lnTo>
                    <a:lnTo>
                      <a:pt x="684" y="0"/>
                    </a:lnTo>
                    <a:lnTo>
                      <a:pt x="683" y="0"/>
                    </a:lnTo>
                    <a:lnTo>
                      <a:pt x="681" y="0"/>
                    </a:lnTo>
                    <a:lnTo>
                      <a:pt x="679" y="1"/>
                    </a:lnTo>
                    <a:lnTo>
                      <a:pt x="679" y="2"/>
                    </a:lnTo>
                    <a:lnTo>
                      <a:pt x="678" y="4"/>
                    </a:lnTo>
                    <a:lnTo>
                      <a:pt x="647" y="4"/>
                    </a:lnTo>
                    <a:lnTo>
                      <a:pt x="646" y="2"/>
                    </a:lnTo>
                    <a:lnTo>
                      <a:pt x="645" y="1"/>
                    </a:lnTo>
                    <a:lnTo>
                      <a:pt x="644" y="0"/>
                    </a:lnTo>
                    <a:lnTo>
                      <a:pt x="642" y="0"/>
                    </a:lnTo>
                    <a:lnTo>
                      <a:pt x="640" y="0"/>
                    </a:lnTo>
                    <a:lnTo>
                      <a:pt x="639" y="1"/>
                    </a:lnTo>
                    <a:lnTo>
                      <a:pt x="638" y="2"/>
                    </a:lnTo>
                    <a:lnTo>
                      <a:pt x="637" y="4"/>
                    </a:lnTo>
                    <a:lnTo>
                      <a:pt x="619" y="4"/>
                    </a:lnTo>
                    <a:lnTo>
                      <a:pt x="619" y="2"/>
                    </a:lnTo>
                    <a:lnTo>
                      <a:pt x="618" y="1"/>
                    </a:lnTo>
                    <a:lnTo>
                      <a:pt x="617" y="0"/>
                    </a:lnTo>
                    <a:lnTo>
                      <a:pt x="615" y="0"/>
                    </a:lnTo>
                    <a:lnTo>
                      <a:pt x="613" y="0"/>
                    </a:lnTo>
                    <a:lnTo>
                      <a:pt x="612" y="1"/>
                    </a:lnTo>
                    <a:lnTo>
                      <a:pt x="611" y="2"/>
                    </a:lnTo>
                    <a:lnTo>
                      <a:pt x="610" y="4"/>
                    </a:lnTo>
                    <a:lnTo>
                      <a:pt x="599" y="4"/>
                    </a:lnTo>
                    <a:lnTo>
                      <a:pt x="598" y="2"/>
                    </a:lnTo>
                    <a:lnTo>
                      <a:pt x="598" y="1"/>
                    </a:lnTo>
                    <a:lnTo>
                      <a:pt x="596" y="0"/>
                    </a:lnTo>
                    <a:lnTo>
                      <a:pt x="594" y="0"/>
                    </a:lnTo>
                    <a:lnTo>
                      <a:pt x="593" y="0"/>
                    </a:lnTo>
                    <a:lnTo>
                      <a:pt x="591" y="1"/>
                    </a:lnTo>
                    <a:lnTo>
                      <a:pt x="590" y="2"/>
                    </a:lnTo>
                    <a:lnTo>
                      <a:pt x="590" y="4"/>
                    </a:lnTo>
                    <a:lnTo>
                      <a:pt x="577" y="4"/>
                    </a:lnTo>
                    <a:lnTo>
                      <a:pt x="576" y="2"/>
                    </a:lnTo>
                    <a:lnTo>
                      <a:pt x="576" y="1"/>
                    </a:lnTo>
                    <a:lnTo>
                      <a:pt x="574" y="0"/>
                    </a:lnTo>
                    <a:lnTo>
                      <a:pt x="572" y="0"/>
                    </a:lnTo>
                    <a:lnTo>
                      <a:pt x="571" y="0"/>
                    </a:lnTo>
                    <a:lnTo>
                      <a:pt x="569" y="1"/>
                    </a:lnTo>
                    <a:lnTo>
                      <a:pt x="568" y="2"/>
                    </a:lnTo>
                    <a:lnTo>
                      <a:pt x="568" y="4"/>
                    </a:lnTo>
                    <a:lnTo>
                      <a:pt x="551" y="4"/>
                    </a:lnTo>
                    <a:lnTo>
                      <a:pt x="551" y="2"/>
                    </a:lnTo>
                    <a:lnTo>
                      <a:pt x="550" y="1"/>
                    </a:lnTo>
                    <a:lnTo>
                      <a:pt x="548" y="0"/>
                    </a:lnTo>
                    <a:lnTo>
                      <a:pt x="547" y="0"/>
                    </a:lnTo>
                    <a:lnTo>
                      <a:pt x="545" y="0"/>
                    </a:lnTo>
                    <a:lnTo>
                      <a:pt x="543" y="1"/>
                    </a:lnTo>
                    <a:lnTo>
                      <a:pt x="542" y="2"/>
                    </a:lnTo>
                    <a:lnTo>
                      <a:pt x="542" y="4"/>
                    </a:lnTo>
                    <a:lnTo>
                      <a:pt x="499" y="4"/>
                    </a:lnTo>
                    <a:lnTo>
                      <a:pt x="499" y="2"/>
                    </a:lnTo>
                    <a:lnTo>
                      <a:pt x="498" y="1"/>
                    </a:lnTo>
                    <a:lnTo>
                      <a:pt x="496" y="0"/>
                    </a:lnTo>
                    <a:lnTo>
                      <a:pt x="495" y="0"/>
                    </a:lnTo>
                    <a:lnTo>
                      <a:pt x="493" y="0"/>
                    </a:lnTo>
                    <a:lnTo>
                      <a:pt x="491" y="1"/>
                    </a:lnTo>
                    <a:lnTo>
                      <a:pt x="491" y="2"/>
                    </a:lnTo>
                    <a:lnTo>
                      <a:pt x="490" y="4"/>
                    </a:lnTo>
                    <a:lnTo>
                      <a:pt x="457" y="4"/>
                    </a:lnTo>
                    <a:lnTo>
                      <a:pt x="457" y="2"/>
                    </a:lnTo>
                    <a:lnTo>
                      <a:pt x="456" y="1"/>
                    </a:lnTo>
                    <a:lnTo>
                      <a:pt x="454" y="0"/>
                    </a:lnTo>
                    <a:lnTo>
                      <a:pt x="453" y="0"/>
                    </a:lnTo>
                    <a:lnTo>
                      <a:pt x="451" y="0"/>
                    </a:lnTo>
                    <a:lnTo>
                      <a:pt x="449" y="1"/>
                    </a:lnTo>
                    <a:lnTo>
                      <a:pt x="448" y="2"/>
                    </a:lnTo>
                    <a:lnTo>
                      <a:pt x="448" y="4"/>
                    </a:lnTo>
                    <a:lnTo>
                      <a:pt x="210" y="4"/>
                    </a:lnTo>
                    <a:lnTo>
                      <a:pt x="209" y="2"/>
                    </a:lnTo>
                    <a:lnTo>
                      <a:pt x="208" y="1"/>
                    </a:lnTo>
                    <a:lnTo>
                      <a:pt x="207" y="0"/>
                    </a:lnTo>
                    <a:lnTo>
                      <a:pt x="205" y="0"/>
                    </a:lnTo>
                    <a:lnTo>
                      <a:pt x="204" y="0"/>
                    </a:lnTo>
                    <a:lnTo>
                      <a:pt x="202" y="1"/>
                    </a:lnTo>
                    <a:lnTo>
                      <a:pt x="201" y="2"/>
                    </a:lnTo>
                    <a:lnTo>
                      <a:pt x="201" y="4"/>
                    </a:lnTo>
                    <a:lnTo>
                      <a:pt x="187" y="4"/>
                    </a:lnTo>
                    <a:lnTo>
                      <a:pt x="187" y="2"/>
                    </a:lnTo>
                    <a:lnTo>
                      <a:pt x="186" y="1"/>
                    </a:lnTo>
                    <a:lnTo>
                      <a:pt x="184" y="0"/>
                    </a:lnTo>
                    <a:lnTo>
                      <a:pt x="183" y="0"/>
                    </a:lnTo>
                    <a:lnTo>
                      <a:pt x="181" y="0"/>
                    </a:lnTo>
                    <a:lnTo>
                      <a:pt x="180" y="1"/>
                    </a:lnTo>
                    <a:lnTo>
                      <a:pt x="179" y="2"/>
                    </a:lnTo>
                    <a:lnTo>
                      <a:pt x="178" y="4"/>
                    </a:lnTo>
                    <a:lnTo>
                      <a:pt x="157" y="4"/>
                    </a:lnTo>
                    <a:lnTo>
                      <a:pt x="157" y="2"/>
                    </a:lnTo>
                    <a:lnTo>
                      <a:pt x="155" y="1"/>
                    </a:lnTo>
                    <a:lnTo>
                      <a:pt x="154" y="0"/>
                    </a:lnTo>
                    <a:lnTo>
                      <a:pt x="152" y="0"/>
                    </a:lnTo>
                    <a:lnTo>
                      <a:pt x="151" y="0"/>
                    </a:lnTo>
                    <a:lnTo>
                      <a:pt x="149" y="1"/>
                    </a:lnTo>
                    <a:lnTo>
                      <a:pt x="148" y="2"/>
                    </a:lnTo>
                    <a:lnTo>
                      <a:pt x="148" y="4"/>
                    </a:lnTo>
                    <a:lnTo>
                      <a:pt x="136" y="4"/>
                    </a:lnTo>
                    <a:lnTo>
                      <a:pt x="135" y="2"/>
                    </a:lnTo>
                    <a:lnTo>
                      <a:pt x="134" y="1"/>
                    </a:lnTo>
                    <a:lnTo>
                      <a:pt x="133" y="0"/>
                    </a:lnTo>
                    <a:lnTo>
                      <a:pt x="131" y="0"/>
                    </a:lnTo>
                    <a:lnTo>
                      <a:pt x="129" y="0"/>
                    </a:lnTo>
                    <a:lnTo>
                      <a:pt x="128" y="1"/>
                    </a:lnTo>
                    <a:lnTo>
                      <a:pt x="127" y="2"/>
                    </a:lnTo>
                    <a:lnTo>
                      <a:pt x="126" y="4"/>
                    </a:lnTo>
                    <a:lnTo>
                      <a:pt x="92" y="4"/>
                    </a:lnTo>
                    <a:lnTo>
                      <a:pt x="92" y="2"/>
                    </a:lnTo>
                    <a:lnTo>
                      <a:pt x="91" y="1"/>
                    </a:lnTo>
                    <a:lnTo>
                      <a:pt x="90" y="0"/>
                    </a:lnTo>
                    <a:lnTo>
                      <a:pt x="88" y="0"/>
                    </a:lnTo>
                    <a:lnTo>
                      <a:pt x="86" y="0"/>
                    </a:lnTo>
                    <a:lnTo>
                      <a:pt x="85" y="1"/>
                    </a:lnTo>
                    <a:lnTo>
                      <a:pt x="84" y="2"/>
                    </a:lnTo>
                    <a:lnTo>
                      <a:pt x="83" y="4"/>
                    </a:lnTo>
                    <a:lnTo>
                      <a:pt x="71" y="4"/>
                    </a:lnTo>
                    <a:lnTo>
                      <a:pt x="70" y="2"/>
                    </a:lnTo>
                    <a:lnTo>
                      <a:pt x="69" y="1"/>
                    </a:lnTo>
                    <a:lnTo>
                      <a:pt x="68" y="0"/>
                    </a:lnTo>
                    <a:lnTo>
                      <a:pt x="66" y="0"/>
                    </a:lnTo>
                    <a:lnTo>
                      <a:pt x="65" y="0"/>
                    </a:lnTo>
                    <a:lnTo>
                      <a:pt x="63" y="1"/>
                    </a:lnTo>
                    <a:lnTo>
                      <a:pt x="62" y="2"/>
                    </a:lnTo>
                    <a:lnTo>
                      <a:pt x="62" y="4"/>
                    </a:lnTo>
                    <a:lnTo>
                      <a:pt x="26" y="4"/>
                    </a:lnTo>
                    <a:lnTo>
                      <a:pt x="26" y="2"/>
                    </a:lnTo>
                    <a:lnTo>
                      <a:pt x="25" y="1"/>
                    </a:lnTo>
                    <a:lnTo>
                      <a:pt x="23" y="0"/>
                    </a:lnTo>
                    <a:lnTo>
                      <a:pt x="22" y="0"/>
                    </a:lnTo>
                    <a:lnTo>
                      <a:pt x="20" y="0"/>
                    </a:lnTo>
                    <a:lnTo>
                      <a:pt x="18" y="1"/>
                    </a:lnTo>
                    <a:lnTo>
                      <a:pt x="18" y="2"/>
                    </a:lnTo>
                    <a:lnTo>
                      <a:pt x="17" y="4"/>
                    </a:lnTo>
                    <a:lnTo>
                      <a:pt x="0" y="4"/>
                    </a:lnTo>
                    <a:lnTo>
                      <a:pt x="0" y="61"/>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37" name=""/>
              <p:cNvSpPr/>
              <p:nvPr/>
            </p:nvSpPr>
            <p:spPr>
              <a:xfrm>
                <a:off x="7413480" y="2416680"/>
                <a:ext cx="13680" cy="11880"/>
              </a:xfrm>
              <a:custGeom>
                <a:avLst/>
                <a:gdLst/>
                <a:ahLst/>
                <a:rect l="l" t="t" r="r" b="b"/>
                <a:pathLst>
                  <a:path w="13" h="9">
                    <a:moveTo>
                      <a:pt x="2" y="0"/>
                    </a:moveTo>
                    <a:lnTo>
                      <a:pt x="13" y="5"/>
                    </a:lnTo>
                    <a:lnTo>
                      <a:pt x="2" y="9"/>
                    </a:lnTo>
                    <a:lnTo>
                      <a:pt x="0" y="7"/>
                    </a:lnTo>
                    <a:lnTo>
                      <a:pt x="0" y="5"/>
                    </a:lnTo>
                    <a:lnTo>
                      <a:pt x="0"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38" name=""/>
              <p:cNvSpPr/>
              <p:nvPr/>
            </p:nvSpPr>
            <p:spPr>
              <a:xfrm>
                <a:off x="4464000" y="2412720"/>
                <a:ext cx="1889640" cy="2953440"/>
              </a:xfrm>
              <a:custGeom>
                <a:avLst/>
                <a:gdLst/>
                <a:ahLst/>
                <a:rect l="l" t="t" r="r" b="b"/>
                <a:pathLst>
                  <a:path w="1785" h="2211">
                    <a:moveTo>
                      <a:pt x="0" y="2211"/>
                    </a:moveTo>
                    <a:lnTo>
                      <a:pt x="0" y="1223"/>
                    </a:lnTo>
                    <a:lnTo>
                      <a:pt x="56" y="1223"/>
                    </a:lnTo>
                    <a:lnTo>
                      <a:pt x="56" y="1221"/>
                    </a:lnTo>
                    <a:lnTo>
                      <a:pt x="57" y="1220"/>
                    </a:lnTo>
                    <a:lnTo>
                      <a:pt x="59" y="1219"/>
                    </a:lnTo>
                    <a:lnTo>
                      <a:pt x="61" y="1219"/>
                    </a:lnTo>
                    <a:lnTo>
                      <a:pt x="62" y="1219"/>
                    </a:lnTo>
                    <a:lnTo>
                      <a:pt x="64" y="1220"/>
                    </a:lnTo>
                    <a:lnTo>
                      <a:pt x="65" y="1221"/>
                    </a:lnTo>
                    <a:lnTo>
                      <a:pt x="65" y="1223"/>
                    </a:lnTo>
                    <a:lnTo>
                      <a:pt x="185" y="1223"/>
                    </a:lnTo>
                    <a:lnTo>
                      <a:pt x="185" y="69"/>
                    </a:lnTo>
                    <a:lnTo>
                      <a:pt x="198" y="69"/>
                    </a:lnTo>
                    <a:lnTo>
                      <a:pt x="199" y="68"/>
                    </a:lnTo>
                    <a:lnTo>
                      <a:pt x="200" y="67"/>
                    </a:lnTo>
                    <a:lnTo>
                      <a:pt x="201" y="66"/>
                    </a:lnTo>
                    <a:lnTo>
                      <a:pt x="203" y="66"/>
                    </a:lnTo>
                    <a:lnTo>
                      <a:pt x="205" y="66"/>
                    </a:lnTo>
                    <a:lnTo>
                      <a:pt x="206" y="67"/>
                    </a:lnTo>
                    <a:lnTo>
                      <a:pt x="207" y="68"/>
                    </a:lnTo>
                    <a:lnTo>
                      <a:pt x="207" y="69"/>
                    </a:lnTo>
                    <a:lnTo>
                      <a:pt x="356" y="69"/>
                    </a:lnTo>
                    <a:lnTo>
                      <a:pt x="356" y="68"/>
                    </a:lnTo>
                    <a:lnTo>
                      <a:pt x="357" y="67"/>
                    </a:lnTo>
                    <a:lnTo>
                      <a:pt x="358" y="66"/>
                    </a:lnTo>
                    <a:lnTo>
                      <a:pt x="360" y="66"/>
                    </a:lnTo>
                    <a:lnTo>
                      <a:pt x="362" y="66"/>
                    </a:lnTo>
                    <a:lnTo>
                      <a:pt x="363" y="67"/>
                    </a:lnTo>
                    <a:lnTo>
                      <a:pt x="364" y="68"/>
                    </a:lnTo>
                    <a:lnTo>
                      <a:pt x="365" y="69"/>
                    </a:lnTo>
                    <a:lnTo>
                      <a:pt x="535" y="69"/>
                    </a:lnTo>
                    <a:lnTo>
                      <a:pt x="535" y="68"/>
                    </a:lnTo>
                    <a:lnTo>
                      <a:pt x="536" y="67"/>
                    </a:lnTo>
                    <a:lnTo>
                      <a:pt x="538" y="66"/>
                    </a:lnTo>
                    <a:lnTo>
                      <a:pt x="539" y="66"/>
                    </a:lnTo>
                    <a:lnTo>
                      <a:pt x="541" y="66"/>
                    </a:lnTo>
                    <a:lnTo>
                      <a:pt x="542" y="67"/>
                    </a:lnTo>
                    <a:lnTo>
                      <a:pt x="543" y="68"/>
                    </a:lnTo>
                    <a:lnTo>
                      <a:pt x="544" y="69"/>
                    </a:lnTo>
                    <a:lnTo>
                      <a:pt x="548" y="69"/>
                    </a:lnTo>
                    <a:lnTo>
                      <a:pt x="549" y="68"/>
                    </a:lnTo>
                    <a:lnTo>
                      <a:pt x="550" y="67"/>
                    </a:lnTo>
                    <a:lnTo>
                      <a:pt x="551" y="66"/>
                    </a:lnTo>
                    <a:lnTo>
                      <a:pt x="553" y="66"/>
                    </a:lnTo>
                    <a:lnTo>
                      <a:pt x="554" y="66"/>
                    </a:lnTo>
                    <a:lnTo>
                      <a:pt x="556" y="67"/>
                    </a:lnTo>
                    <a:lnTo>
                      <a:pt x="557" y="68"/>
                    </a:lnTo>
                    <a:lnTo>
                      <a:pt x="557" y="69"/>
                    </a:lnTo>
                    <a:lnTo>
                      <a:pt x="583" y="69"/>
                    </a:lnTo>
                    <a:lnTo>
                      <a:pt x="583" y="68"/>
                    </a:lnTo>
                    <a:lnTo>
                      <a:pt x="584" y="67"/>
                    </a:lnTo>
                    <a:lnTo>
                      <a:pt x="585" y="66"/>
                    </a:lnTo>
                    <a:lnTo>
                      <a:pt x="587" y="66"/>
                    </a:lnTo>
                    <a:lnTo>
                      <a:pt x="589" y="66"/>
                    </a:lnTo>
                    <a:lnTo>
                      <a:pt x="590" y="67"/>
                    </a:lnTo>
                    <a:lnTo>
                      <a:pt x="591" y="68"/>
                    </a:lnTo>
                    <a:lnTo>
                      <a:pt x="592" y="69"/>
                    </a:lnTo>
                    <a:lnTo>
                      <a:pt x="598" y="69"/>
                    </a:lnTo>
                    <a:lnTo>
                      <a:pt x="598" y="68"/>
                    </a:lnTo>
                    <a:lnTo>
                      <a:pt x="599" y="67"/>
                    </a:lnTo>
                    <a:lnTo>
                      <a:pt x="601" y="66"/>
                    </a:lnTo>
                    <a:lnTo>
                      <a:pt x="603" y="66"/>
                    </a:lnTo>
                    <a:lnTo>
                      <a:pt x="604" y="66"/>
                    </a:lnTo>
                    <a:lnTo>
                      <a:pt x="606" y="67"/>
                    </a:lnTo>
                    <a:lnTo>
                      <a:pt x="607" y="68"/>
                    </a:lnTo>
                    <a:lnTo>
                      <a:pt x="607" y="69"/>
                    </a:lnTo>
                    <a:lnTo>
                      <a:pt x="730" y="69"/>
                    </a:lnTo>
                    <a:lnTo>
                      <a:pt x="731" y="68"/>
                    </a:lnTo>
                    <a:lnTo>
                      <a:pt x="732" y="67"/>
                    </a:lnTo>
                    <a:lnTo>
                      <a:pt x="733" y="66"/>
                    </a:lnTo>
                    <a:lnTo>
                      <a:pt x="735" y="66"/>
                    </a:lnTo>
                    <a:lnTo>
                      <a:pt x="737" y="66"/>
                    </a:lnTo>
                    <a:lnTo>
                      <a:pt x="738" y="67"/>
                    </a:lnTo>
                    <a:lnTo>
                      <a:pt x="739" y="68"/>
                    </a:lnTo>
                    <a:lnTo>
                      <a:pt x="739" y="69"/>
                    </a:lnTo>
                    <a:lnTo>
                      <a:pt x="791" y="69"/>
                    </a:lnTo>
                    <a:lnTo>
                      <a:pt x="791" y="68"/>
                    </a:lnTo>
                    <a:lnTo>
                      <a:pt x="792" y="67"/>
                    </a:lnTo>
                    <a:lnTo>
                      <a:pt x="794" y="66"/>
                    </a:lnTo>
                    <a:lnTo>
                      <a:pt x="796" y="66"/>
                    </a:lnTo>
                    <a:lnTo>
                      <a:pt x="797" y="66"/>
                    </a:lnTo>
                    <a:lnTo>
                      <a:pt x="799" y="67"/>
                    </a:lnTo>
                    <a:lnTo>
                      <a:pt x="800" y="68"/>
                    </a:lnTo>
                    <a:lnTo>
                      <a:pt x="800" y="69"/>
                    </a:lnTo>
                    <a:lnTo>
                      <a:pt x="816" y="69"/>
                    </a:lnTo>
                    <a:lnTo>
                      <a:pt x="817" y="68"/>
                    </a:lnTo>
                    <a:lnTo>
                      <a:pt x="818" y="67"/>
                    </a:lnTo>
                    <a:lnTo>
                      <a:pt x="819" y="66"/>
                    </a:lnTo>
                    <a:lnTo>
                      <a:pt x="821" y="66"/>
                    </a:lnTo>
                    <a:lnTo>
                      <a:pt x="823" y="66"/>
                    </a:lnTo>
                    <a:lnTo>
                      <a:pt x="824" y="67"/>
                    </a:lnTo>
                    <a:lnTo>
                      <a:pt x="825" y="68"/>
                    </a:lnTo>
                    <a:lnTo>
                      <a:pt x="825" y="69"/>
                    </a:lnTo>
                    <a:lnTo>
                      <a:pt x="843" y="69"/>
                    </a:lnTo>
                    <a:lnTo>
                      <a:pt x="844" y="68"/>
                    </a:lnTo>
                    <a:lnTo>
                      <a:pt x="845" y="67"/>
                    </a:lnTo>
                    <a:lnTo>
                      <a:pt x="846" y="66"/>
                    </a:lnTo>
                    <a:lnTo>
                      <a:pt x="848" y="66"/>
                    </a:lnTo>
                    <a:lnTo>
                      <a:pt x="850" y="66"/>
                    </a:lnTo>
                    <a:lnTo>
                      <a:pt x="851" y="67"/>
                    </a:lnTo>
                    <a:lnTo>
                      <a:pt x="852" y="68"/>
                    </a:lnTo>
                    <a:lnTo>
                      <a:pt x="852" y="69"/>
                    </a:lnTo>
                    <a:lnTo>
                      <a:pt x="872" y="69"/>
                    </a:lnTo>
                    <a:lnTo>
                      <a:pt x="873" y="68"/>
                    </a:lnTo>
                    <a:lnTo>
                      <a:pt x="873" y="67"/>
                    </a:lnTo>
                    <a:lnTo>
                      <a:pt x="875" y="66"/>
                    </a:lnTo>
                    <a:lnTo>
                      <a:pt x="877" y="66"/>
                    </a:lnTo>
                    <a:lnTo>
                      <a:pt x="878" y="66"/>
                    </a:lnTo>
                    <a:lnTo>
                      <a:pt x="880" y="67"/>
                    </a:lnTo>
                    <a:lnTo>
                      <a:pt x="881" y="68"/>
                    </a:lnTo>
                    <a:lnTo>
                      <a:pt x="881" y="69"/>
                    </a:lnTo>
                    <a:lnTo>
                      <a:pt x="906" y="69"/>
                    </a:lnTo>
                    <a:lnTo>
                      <a:pt x="906" y="68"/>
                    </a:lnTo>
                    <a:lnTo>
                      <a:pt x="907" y="67"/>
                    </a:lnTo>
                    <a:lnTo>
                      <a:pt x="909" y="66"/>
                    </a:lnTo>
                    <a:lnTo>
                      <a:pt x="910" y="66"/>
                    </a:lnTo>
                    <a:lnTo>
                      <a:pt x="912" y="66"/>
                    </a:lnTo>
                    <a:lnTo>
                      <a:pt x="914" y="67"/>
                    </a:lnTo>
                    <a:lnTo>
                      <a:pt x="915" y="68"/>
                    </a:lnTo>
                    <a:lnTo>
                      <a:pt x="915" y="69"/>
                    </a:lnTo>
                    <a:lnTo>
                      <a:pt x="926" y="69"/>
                    </a:lnTo>
                    <a:lnTo>
                      <a:pt x="927" y="68"/>
                    </a:lnTo>
                    <a:lnTo>
                      <a:pt x="927" y="67"/>
                    </a:lnTo>
                    <a:lnTo>
                      <a:pt x="929" y="66"/>
                    </a:lnTo>
                    <a:lnTo>
                      <a:pt x="931" y="66"/>
                    </a:lnTo>
                    <a:lnTo>
                      <a:pt x="932" y="66"/>
                    </a:lnTo>
                    <a:lnTo>
                      <a:pt x="934" y="67"/>
                    </a:lnTo>
                    <a:lnTo>
                      <a:pt x="935" y="68"/>
                    </a:lnTo>
                    <a:lnTo>
                      <a:pt x="935" y="69"/>
                    </a:lnTo>
                    <a:lnTo>
                      <a:pt x="948" y="69"/>
                    </a:lnTo>
                    <a:lnTo>
                      <a:pt x="948" y="68"/>
                    </a:lnTo>
                    <a:lnTo>
                      <a:pt x="949" y="67"/>
                    </a:lnTo>
                    <a:lnTo>
                      <a:pt x="950" y="66"/>
                    </a:lnTo>
                    <a:lnTo>
                      <a:pt x="952" y="66"/>
                    </a:lnTo>
                    <a:lnTo>
                      <a:pt x="954" y="66"/>
                    </a:lnTo>
                    <a:lnTo>
                      <a:pt x="955" y="67"/>
                    </a:lnTo>
                    <a:lnTo>
                      <a:pt x="956" y="68"/>
                    </a:lnTo>
                    <a:lnTo>
                      <a:pt x="957" y="69"/>
                    </a:lnTo>
                    <a:lnTo>
                      <a:pt x="979" y="69"/>
                    </a:lnTo>
                    <a:lnTo>
                      <a:pt x="979" y="68"/>
                    </a:lnTo>
                    <a:lnTo>
                      <a:pt x="980" y="67"/>
                    </a:lnTo>
                    <a:lnTo>
                      <a:pt x="982" y="66"/>
                    </a:lnTo>
                    <a:lnTo>
                      <a:pt x="983" y="66"/>
                    </a:lnTo>
                    <a:lnTo>
                      <a:pt x="985" y="66"/>
                    </a:lnTo>
                    <a:lnTo>
                      <a:pt x="987" y="67"/>
                    </a:lnTo>
                    <a:lnTo>
                      <a:pt x="987" y="68"/>
                    </a:lnTo>
                    <a:lnTo>
                      <a:pt x="988" y="69"/>
                    </a:lnTo>
                    <a:lnTo>
                      <a:pt x="1007" y="69"/>
                    </a:lnTo>
                    <a:lnTo>
                      <a:pt x="1007" y="68"/>
                    </a:lnTo>
                    <a:lnTo>
                      <a:pt x="1008" y="67"/>
                    </a:lnTo>
                    <a:lnTo>
                      <a:pt x="1009" y="66"/>
                    </a:lnTo>
                    <a:lnTo>
                      <a:pt x="1011" y="66"/>
                    </a:lnTo>
                    <a:lnTo>
                      <a:pt x="1013" y="66"/>
                    </a:lnTo>
                    <a:lnTo>
                      <a:pt x="1014" y="67"/>
                    </a:lnTo>
                    <a:lnTo>
                      <a:pt x="1015" y="68"/>
                    </a:lnTo>
                    <a:lnTo>
                      <a:pt x="1016" y="69"/>
                    </a:lnTo>
                    <a:lnTo>
                      <a:pt x="1139" y="69"/>
                    </a:lnTo>
                    <a:lnTo>
                      <a:pt x="1139" y="6"/>
                    </a:lnTo>
                    <a:lnTo>
                      <a:pt x="1223" y="6"/>
                    </a:lnTo>
                    <a:lnTo>
                      <a:pt x="1223" y="5"/>
                    </a:lnTo>
                    <a:lnTo>
                      <a:pt x="1224" y="4"/>
                    </a:lnTo>
                    <a:lnTo>
                      <a:pt x="1225" y="3"/>
                    </a:lnTo>
                    <a:lnTo>
                      <a:pt x="1227" y="3"/>
                    </a:lnTo>
                    <a:lnTo>
                      <a:pt x="1229" y="3"/>
                    </a:lnTo>
                    <a:lnTo>
                      <a:pt x="1230" y="4"/>
                    </a:lnTo>
                    <a:lnTo>
                      <a:pt x="1231" y="5"/>
                    </a:lnTo>
                    <a:lnTo>
                      <a:pt x="1232" y="6"/>
                    </a:lnTo>
                    <a:lnTo>
                      <a:pt x="1244" y="6"/>
                    </a:lnTo>
                    <a:lnTo>
                      <a:pt x="1245" y="5"/>
                    </a:lnTo>
                    <a:lnTo>
                      <a:pt x="1246" y="4"/>
                    </a:lnTo>
                    <a:lnTo>
                      <a:pt x="1247" y="3"/>
                    </a:lnTo>
                    <a:lnTo>
                      <a:pt x="1249" y="3"/>
                    </a:lnTo>
                    <a:lnTo>
                      <a:pt x="1251" y="3"/>
                    </a:lnTo>
                    <a:lnTo>
                      <a:pt x="1252" y="4"/>
                    </a:lnTo>
                    <a:lnTo>
                      <a:pt x="1253" y="5"/>
                    </a:lnTo>
                    <a:lnTo>
                      <a:pt x="1253" y="6"/>
                    </a:lnTo>
                    <a:lnTo>
                      <a:pt x="1269" y="6"/>
                    </a:lnTo>
                    <a:lnTo>
                      <a:pt x="1269" y="5"/>
                    </a:lnTo>
                    <a:lnTo>
                      <a:pt x="1270" y="4"/>
                    </a:lnTo>
                    <a:lnTo>
                      <a:pt x="1272" y="3"/>
                    </a:lnTo>
                    <a:lnTo>
                      <a:pt x="1273" y="3"/>
                    </a:lnTo>
                    <a:lnTo>
                      <a:pt x="1275" y="3"/>
                    </a:lnTo>
                    <a:lnTo>
                      <a:pt x="1277" y="4"/>
                    </a:lnTo>
                    <a:lnTo>
                      <a:pt x="1277" y="5"/>
                    </a:lnTo>
                    <a:lnTo>
                      <a:pt x="1278" y="6"/>
                    </a:lnTo>
                    <a:lnTo>
                      <a:pt x="1330" y="6"/>
                    </a:lnTo>
                    <a:lnTo>
                      <a:pt x="1330" y="5"/>
                    </a:lnTo>
                    <a:lnTo>
                      <a:pt x="1331" y="4"/>
                    </a:lnTo>
                    <a:lnTo>
                      <a:pt x="1333" y="3"/>
                    </a:lnTo>
                    <a:lnTo>
                      <a:pt x="1334" y="3"/>
                    </a:lnTo>
                    <a:lnTo>
                      <a:pt x="1336" y="3"/>
                    </a:lnTo>
                    <a:lnTo>
                      <a:pt x="1338" y="4"/>
                    </a:lnTo>
                    <a:lnTo>
                      <a:pt x="1339" y="5"/>
                    </a:lnTo>
                    <a:lnTo>
                      <a:pt x="1339" y="6"/>
                    </a:lnTo>
                    <a:lnTo>
                      <a:pt x="1345" y="6"/>
                    </a:lnTo>
                    <a:lnTo>
                      <a:pt x="1345" y="5"/>
                    </a:lnTo>
                    <a:lnTo>
                      <a:pt x="1346" y="4"/>
                    </a:lnTo>
                    <a:lnTo>
                      <a:pt x="1348" y="3"/>
                    </a:lnTo>
                    <a:lnTo>
                      <a:pt x="1349" y="3"/>
                    </a:lnTo>
                    <a:lnTo>
                      <a:pt x="1351" y="3"/>
                    </a:lnTo>
                    <a:lnTo>
                      <a:pt x="1353" y="4"/>
                    </a:lnTo>
                    <a:lnTo>
                      <a:pt x="1354" y="5"/>
                    </a:lnTo>
                    <a:lnTo>
                      <a:pt x="1354" y="6"/>
                    </a:lnTo>
                    <a:lnTo>
                      <a:pt x="1356" y="6"/>
                    </a:lnTo>
                    <a:lnTo>
                      <a:pt x="1357" y="5"/>
                    </a:lnTo>
                    <a:lnTo>
                      <a:pt x="1358" y="4"/>
                    </a:lnTo>
                    <a:lnTo>
                      <a:pt x="1359" y="3"/>
                    </a:lnTo>
                    <a:lnTo>
                      <a:pt x="1361" y="3"/>
                    </a:lnTo>
                    <a:lnTo>
                      <a:pt x="1362" y="3"/>
                    </a:lnTo>
                    <a:lnTo>
                      <a:pt x="1364" y="4"/>
                    </a:lnTo>
                    <a:lnTo>
                      <a:pt x="1365" y="5"/>
                    </a:lnTo>
                    <a:lnTo>
                      <a:pt x="1365" y="6"/>
                    </a:lnTo>
                    <a:lnTo>
                      <a:pt x="1390" y="6"/>
                    </a:lnTo>
                    <a:lnTo>
                      <a:pt x="1391" y="5"/>
                    </a:lnTo>
                    <a:lnTo>
                      <a:pt x="1392" y="4"/>
                    </a:lnTo>
                    <a:lnTo>
                      <a:pt x="1393" y="3"/>
                    </a:lnTo>
                    <a:lnTo>
                      <a:pt x="1395" y="3"/>
                    </a:lnTo>
                    <a:lnTo>
                      <a:pt x="1397" y="3"/>
                    </a:lnTo>
                    <a:lnTo>
                      <a:pt x="1398" y="4"/>
                    </a:lnTo>
                    <a:lnTo>
                      <a:pt x="1399" y="5"/>
                    </a:lnTo>
                    <a:lnTo>
                      <a:pt x="1399" y="6"/>
                    </a:lnTo>
                    <a:lnTo>
                      <a:pt x="1424" y="6"/>
                    </a:lnTo>
                    <a:lnTo>
                      <a:pt x="1424" y="5"/>
                    </a:lnTo>
                    <a:lnTo>
                      <a:pt x="1425" y="4"/>
                    </a:lnTo>
                    <a:lnTo>
                      <a:pt x="1427" y="3"/>
                    </a:lnTo>
                    <a:lnTo>
                      <a:pt x="1428" y="3"/>
                    </a:lnTo>
                    <a:lnTo>
                      <a:pt x="1430" y="3"/>
                    </a:lnTo>
                    <a:lnTo>
                      <a:pt x="1431" y="4"/>
                    </a:lnTo>
                    <a:lnTo>
                      <a:pt x="1432" y="5"/>
                    </a:lnTo>
                    <a:lnTo>
                      <a:pt x="1433" y="6"/>
                    </a:lnTo>
                    <a:lnTo>
                      <a:pt x="1451" y="6"/>
                    </a:lnTo>
                    <a:lnTo>
                      <a:pt x="1451" y="5"/>
                    </a:lnTo>
                    <a:lnTo>
                      <a:pt x="1452" y="4"/>
                    </a:lnTo>
                    <a:lnTo>
                      <a:pt x="1454" y="3"/>
                    </a:lnTo>
                    <a:lnTo>
                      <a:pt x="1455" y="3"/>
                    </a:lnTo>
                    <a:lnTo>
                      <a:pt x="1457" y="3"/>
                    </a:lnTo>
                    <a:lnTo>
                      <a:pt x="1458" y="4"/>
                    </a:lnTo>
                    <a:lnTo>
                      <a:pt x="1459" y="5"/>
                    </a:lnTo>
                    <a:lnTo>
                      <a:pt x="1460" y="6"/>
                    </a:lnTo>
                    <a:lnTo>
                      <a:pt x="1518" y="6"/>
                    </a:lnTo>
                    <a:lnTo>
                      <a:pt x="1519" y="5"/>
                    </a:lnTo>
                    <a:lnTo>
                      <a:pt x="1520" y="4"/>
                    </a:lnTo>
                    <a:lnTo>
                      <a:pt x="1521" y="3"/>
                    </a:lnTo>
                    <a:lnTo>
                      <a:pt x="1523" y="3"/>
                    </a:lnTo>
                    <a:lnTo>
                      <a:pt x="1525" y="3"/>
                    </a:lnTo>
                    <a:lnTo>
                      <a:pt x="1526" y="4"/>
                    </a:lnTo>
                    <a:lnTo>
                      <a:pt x="1527" y="5"/>
                    </a:lnTo>
                    <a:lnTo>
                      <a:pt x="1527" y="6"/>
                    </a:lnTo>
                    <a:lnTo>
                      <a:pt x="1546" y="6"/>
                    </a:lnTo>
                    <a:lnTo>
                      <a:pt x="1546" y="5"/>
                    </a:lnTo>
                    <a:lnTo>
                      <a:pt x="1547" y="4"/>
                    </a:lnTo>
                    <a:lnTo>
                      <a:pt x="1549" y="3"/>
                    </a:lnTo>
                    <a:lnTo>
                      <a:pt x="1550" y="3"/>
                    </a:lnTo>
                    <a:lnTo>
                      <a:pt x="1552" y="3"/>
                    </a:lnTo>
                    <a:lnTo>
                      <a:pt x="1553" y="4"/>
                    </a:lnTo>
                    <a:lnTo>
                      <a:pt x="1554" y="5"/>
                    </a:lnTo>
                    <a:lnTo>
                      <a:pt x="1555" y="6"/>
                    </a:lnTo>
                    <a:lnTo>
                      <a:pt x="1564" y="6"/>
                    </a:lnTo>
                    <a:lnTo>
                      <a:pt x="1564" y="4"/>
                    </a:lnTo>
                    <a:lnTo>
                      <a:pt x="1565" y="3"/>
                    </a:lnTo>
                    <a:lnTo>
                      <a:pt x="1567" y="1"/>
                    </a:lnTo>
                    <a:lnTo>
                      <a:pt x="1569" y="0"/>
                    </a:lnTo>
                    <a:lnTo>
                      <a:pt x="1571" y="0"/>
                    </a:lnTo>
                    <a:lnTo>
                      <a:pt x="1573" y="0"/>
                    </a:lnTo>
                    <a:lnTo>
                      <a:pt x="1576" y="0"/>
                    </a:lnTo>
                    <a:lnTo>
                      <a:pt x="1578" y="1"/>
                    </a:lnTo>
                    <a:lnTo>
                      <a:pt x="1579" y="3"/>
                    </a:lnTo>
                    <a:lnTo>
                      <a:pt x="1580" y="4"/>
                    </a:lnTo>
                    <a:lnTo>
                      <a:pt x="1580" y="6"/>
                    </a:lnTo>
                    <a:lnTo>
                      <a:pt x="1583" y="6"/>
                    </a:lnTo>
                    <a:lnTo>
                      <a:pt x="1583" y="5"/>
                    </a:lnTo>
                    <a:lnTo>
                      <a:pt x="1584" y="4"/>
                    </a:lnTo>
                    <a:lnTo>
                      <a:pt x="1585" y="3"/>
                    </a:lnTo>
                    <a:lnTo>
                      <a:pt x="1587" y="3"/>
                    </a:lnTo>
                    <a:lnTo>
                      <a:pt x="1589" y="3"/>
                    </a:lnTo>
                    <a:lnTo>
                      <a:pt x="1590" y="4"/>
                    </a:lnTo>
                    <a:lnTo>
                      <a:pt x="1591" y="5"/>
                    </a:lnTo>
                    <a:lnTo>
                      <a:pt x="1592" y="6"/>
                    </a:lnTo>
                    <a:lnTo>
                      <a:pt x="1596" y="6"/>
                    </a:lnTo>
                    <a:lnTo>
                      <a:pt x="1596" y="5"/>
                    </a:lnTo>
                    <a:lnTo>
                      <a:pt x="1597" y="4"/>
                    </a:lnTo>
                    <a:lnTo>
                      <a:pt x="1599" y="3"/>
                    </a:lnTo>
                    <a:lnTo>
                      <a:pt x="1601" y="3"/>
                    </a:lnTo>
                    <a:lnTo>
                      <a:pt x="1602" y="3"/>
                    </a:lnTo>
                    <a:lnTo>
                      <a:pt x="1604" y="4"/>
                    </a:lnTo>
                    <a:lnTo>
                      <a:pt x="1605" y="5"/>
                    </a:lnTo>
                    <a:lnTo>
                      <a:pt x="1605" y="6"/>
                    </a:lnTo>
                    <a:lnTo>
                      <a:pt x="1620" y="6"/>
                    </a:lnTo>
                    <a:lnTo>
                      <a:pt x="1620" y="5"/>
                    </a:lnTo>
                    <a:lnTo>
                      <a:pt x="1621" y="3"/>
                    </a:lnTo>
                    <a:lnTo>
                      <a:pt x="1622" y="2"/>
                    </a:lnTo>
                    <a:lnTo>
                      <a:pt x="1624" y="1"/>
                    </a:lnTo>
                    <a:lnTo>
                      <a:pt x="1626" y="0"/>
                    </a:lnTo>
                    <a:lnTo>
                      <a:pt x="1629" y="0"/>
                    </a:lnTo>
                    <a:lnTo>
                      <a:pt x="1631" y="1"/>
                    </a:lnTo>
                    <a:lnTo>
                      <a:pt x="1633" y="2"/>
                    </a:lnTo>
                    <a:lnTo>
                      <a:pt x="1634" y="3"/>
                    </a:lnTo>
                    <a:lnTo>
                      <a:pt x="1635" y="5"/>
                    </a:lnTo>
                    <a:lnTo>
                      <a:pt x="1635" y="6"/>
                    </a:lnTo>
                    <a:lnTo>
                      <a:pt x="1640" y="6"/>
                    </a:lnTo>
                    <a:lnTo>
                      <a:pt x="1640" y="5"/>
                    </a:lnTo>
                    <a:lnTo>
                      <a:pt x="1641" y="3"/>
                    </a:lnTo>
                    <a:lnTo>
                      <a:pt x="1643" y="2"/>
                    </a:lnTo>
                    <a:lnTo>
                      <a:pt x="1645" y="1"/>
                    </a:lnTo>
                    <a:lnTo>
                      <a:pt x="1647" y="0"/>
                    </a:lnTo>
                    <a:lnTo>
                      <a:pt x="1649" y="0"/>
                    </a:lnTo>
                    <a:lnTo>
                      <a:pt x="1651" y="1"/>
                    </a:lnTo>
                    <a:lnTo>
                      <a:pt x="1653" y="2"/>
                    </a:lnTo>
                    <a:lnTo>
                      <a:pt x="1654" y="3"/>
                    </a:lnTo>
                    <a:lnTo>
                      <a:pt x="1655" y="5"/>
                    </a:lnTo>
                    <a:lnTo>
                      <a:pt x="1656" y="6"/>
                    </a:lnTo>
                    <a:lnTo>
                      <a:pt x="1697" y="6"/>
                    </a:lnTo>
                    <a:lnTo>
                      <a:pt x="1697" y="5"/>
                    </a:lnTo>
                    <a:lnTo>
                      <a:pt x="1698" y="4"/>
                    </a:lnTo>
                    <a:lnTo>
                      <a:pt x="1700" y="3"/>
                    </a:lnTo>
                    <a:lnTo>
                      <a:pt x="1701" y="3"/>
                    </a:lnTo>
                    <a:lnTo>
                      <a:pt x="1703" y="3"/>
                    </a:lnTo>
                    <a:lnTo>
                      <a:pt x="1705" y="4"/>
                    </a:lnTo>
                    <a:lnTo>
                      <a:pt x="1706" y="5"/>
                    </a:lnTo>
                    <a:lnTo>
                      <a:pt x="1706" y="6"/>
                    </a:lnTo>
                    <a:lnTo>
                      <a:pt x="1785" y="6"/>
                    </a:lnTo>
                    <a:lnTo>
                      <a:pt x="1785" y="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457880" y="53647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40" name=""/>
              <p:cNvSpPr/>
              <p:nvPr/>
            </p:nvSpPr>
            <p:spPr>
              <a:xfrm>
                <a:off x="6089040" y="2683800"/>
                <a:ext cx="1517040" cy="140040"/>
              </a:xfrm>
              <a:custGeom>
                <a:avLst/>
                <a:gdLst/>
                <a:ahLst/>
                <a:rect l="l" t="t" r="r" b="b"/>
                <a:pathLst>
                  <a:path w="1433" h="105">
                    <a:moveTo>
                      <a:pt x="1433" y="6"/>
                    </a:moveTo>
                    <a:lnTo>
                      <a:pt x="1421" y="6"/>
                    </a:lnTo>
                    <a:lnTo>
                      <a:pt x="1421" y="4"/>
                    </a:lnTo>
                    <a:lnTo>
                      <a:pt x="1420" y="3"/>
                    </a:lnTo>
                    <a:lnTo>
                      <a:pt x="1419" y="2"/>
                    </a:lnTo>
                    <a:lnTo>
                      <a:pt x="1417" y="2"/>
                    </a:lnTo>
                    <a:lnTo>
                      <a:pt x="1415" y="2"/>
                    </a:lnTo>
                    <a:lnTo>
                      <a:pt x="1414" y="3"/>
                    </a:lnTo>
                    <a:lnTo>
                      <a:pt x="1413" y="4"/>
                    </a:lnTo>
                    <a:lnTo>
                      <a:pt x="1412" y="6"/>
                    </a:lnTo>
                    <a:lnTo>
                      <a:pt x="1384" y="6"/>
                    </a:lnTo>
                    <a:lnTo>
                      <a:pt x="1383" y="4"/>
                    </a:lnTo>
                    <a:lnTo>
                      <a:pt x="1383" y="3"/>
                    </a:lnTo>
                    <a:lnTo>
                      <a:pt x="1381" y="2"/>
                    </a:lnTo>
                    <a:lnTo>
                      <a:pt x="1379" y="2"/>
                    </a:lnTo>
                    <a:lnTo>
                      <a:pt x="1378" y="2"/>
                    </a:lnTo>
                    <a:lnTo>
                      <a:pt x="1376" y="3"/>
                    </a:lnTo>
                    <a:lnTo>
                      <a:pt x="1375" y="4"/>
                    </a:lnTo>
                    <a:lnTo>
                      <a:pt x="1375" y="6"/>
                    </a:lnTo>
                    <a:lnTo>
                      <a:pt x="1372" y="6"/>
                    </a:lnTo>
                    <a:lnTo>
                      <a:pt x="1372" y="4"/>
                    </a:lnTo>
                    <a:lnTo>
                      <a:pt x="1371" y="3"/>
                    </a:lnTo>
                    <a:lnTo>
                      <a:pt x="1369" y="2"/>
                    </a:lnTo>
                    <a:lnTo>
                      <a:pt x="1367" y="2"/>
                    </a:lnTo>
                    <a:lnTo>
                      <a:pt x="1366" y="2"/>
                    </a:lnTo>
                    <a:lnTo>
                      <a:pt x="1364" y="3"/>
                    </a:lnTo>
                    <a:lnTo>
                      <a:pt x="1363" y="4"/>
                    </a:lnTo>
                    <a:lnTo>
                      <a:pt x="1363" y="6"/>
                    </a:lnTo>
                    <a:lnTo>
                      <a:pt x="1249" y="6"/>
                    </a:lnTo>
                    <a:lnTo>
                      <a:pt x="1248" y="4"/>
                    </a:lnTo>
                    <a:lnTo>
                      <a:pt x="1247" y="3"/>
                    </a:lnTo>
                    <a:lnTo>
                      <a:pt x="1246" y="2"/>
                    </a:lnTo>
                    <a:lnTo>
                      <a:pt x="1244" y="2"/>
                    </a:lnTo>
                    <a:lnTo>
                      <a:pt x="1242" y="2"/>
                    </a:lnTo>
                    <a:lnTo>
                      <a:pt x="1241" y="3"/>
                    </a:lnTo>
                    <a:lnTo>
                      <a:pt x="1240" y="4"/>
                    </a:lnTo>
                    <a:lnTo>
                      <a:pt x="1240" y="6"/>
                    </a:lnTo>
                    <a:lnTo>
                      <a:pt x="1188" y="6"/>
                    </a:lnTo>
                    <a:lnTo>
                      <a:pt x="1188" y="4"/>
                    </a:lnTo>
                    <a:lnTo>
                      <a:pt x="1186" y="3"/>
                    </a:lnTo>
                    <a:lnTo>
                      <a:pt x="1185" y="2"/>
                    </a:lnTo>
                    <a:lnTo>
                      <a:pt x="1183" y="2"/>
                    </a:lnTo>
                    <a:lnTo>
                      <a:pt x="1182" y="2"/>
                    </a:lnTo>
                    <a:lnTo>
                      <a:pt x="1180" y="3"/>
                    </a:lnTo>
                    <a:lnTo>
                      <a:pt x="1179" y="4"/>
                    </a:lnTo>
                    <a:lnTo>
                      <a:pt x="1179" y="6"/>
                    </a:lnTo>
                    <a:lnTo>
                      <a:pt x="1154" y="6"/>
                    </a:lnTo>
                    <a:lnTo>
                      <a:pt x="1154" y="4"/>
                    </a:lnTo>
                    <a:lnTo>
                      <a:pt x="1153" y="3"/>
                    </a:lnTo>
                    <a:lnTo>
                      <a:pt x="1151" y="2"/>
                    </a:lnTo>
                    <a:lnTo>
                      <a:pt x="1150" y="2"/>
                    </a:lnTo>
                    <a:lnTo>
                      <a:pt x="1148" y="2"/>
                    </a:lnTo>
                    <a:lnTo>
                      <a:pt x="1146" y="3"/>
                    </a:lnTo>
                    <a:lnTo>
                      <a:pt x="1146" y="4"/>
                    </a:lnTo>
                    <a:lnTo>
                      <a:pt x="1145" y="6"/>
                    </a:lnTo>
                    <a:lnTo>
                      <a:pt x="1114" y="6"/>
                    </a:lnTo>
                    <a:lnTo>
                      <a:pt x="1113" y="4"/>
                    </a:lnTo>
                    <a:lnTo>
                      <a:pt x="1112" y="3"/>
                    </a:lnTo>
                    <a:lnTo>
                      <a:pt x="1111" y="2"/>
                    </a:lnTo>
                    <a:lnTo>
                      <a:pt x="1109" y="2"/>
                    </a:lnTo>
                    <a:lnTo>
                      <a:pt x="1107" y="2"/>
                    </a:lnTo>
                    <a:lnTo>
                      <a:pt x="1106" y="3"/>
                    </a:lnTo>
                    <a:lnTo>
                      <a:pt x="1105" y="4"/>
                    </a:lnTo>
                    <a:lnTo>
                      <a:pt x="1104" y="6"/>
                    </a:lnTo>
                    <a:lnTo>
                      <a:pt x="1100" y="6"/>
                    </a:lnTo>
                    <a:lnTo>
                      <a:pt x="1100" y="4"/>
                    </a:lnTo>
                    <a:lnTo>
                      <a:pt x="1099" y="3"/>
                    </a:lnTo>
                    <a:lnTo>
                      <a:pt x="1097" y="2"/>
                    </a:lnTo>
                    <a:lnTo>
                      <a:pt x="1095" y="2"/>
                    </a:lnTo>
                    <a:lnTo>
                      <a:pt x="1094" y="2"/>
                    </a:lnTo>
                    <a:lnTo>
                      <a:pt x="1092" y="3"/>
                    </a:lnTo>
                    <a:lnTo>
                      <a:pt x="1091" y="4"/>
                    </a:lnTo>
                    <a:lnTo>
                      <a:pt x="1091" y="6"/>
                    </a:lnTo>
                    <a:lnTo>
                      <a:pt x="1086" y="6"/>
                    </a:lnTo>
                    <a:lnTo>
                      <a:pt x="1086" y="4"/>
                    </a:lnTo>
                    <a:lnTo>
                      <a:pt x="1085" y="3"/>
                    </a:lnTo>
                    <a:lnTo>
                      <a:pt x="1084" y="2"/>
                    </a:lnTo>
                    <a:lnTo>
                      <a:pt x="1082" y="2"/>
                    </a:lnTo>
                    <a:lnTo>
                      <a:pt x="1080" y="2"/>
                    </a:lnTo>
                    <a:lnTo>
                      <a:pt x="1079" y="3"/>
                    </a:lnTo>
                    <a:lnTo>
                      <a:pt x="1078" y="4"/>
                    </a:lnTo>
                    <a:lnTo>
                      <a:pt x="1077" y="6"/>
                    </a:lnTo>
                    <a:lnTo>
                      <a:pt x="1066" y="6"/>
                    </a:lnTo>
                    <a:lnTo>
                      <a:pt x="1065" y="4"/>
                    </a:lnTo>
                    <a:lnTo>
                      <a:pt x="1065" y="3"/>
                    </a:lnTo>
                    <a:lnTo>
                      <a:pt x="1063" y="2"/>
                    </a:lnTo>
                    <a:lnTo>
                      <a:pt x="1061" y="2"/>
                    </a:lnTo>
                    <a:lnTo>
                      <a:pt x="1060" y="2"/>
                    </a:lnTo>
                    <a:lnTo>
                      <a:pt x="1058" y="3"/>
                    </a:lnTo>
                    <a:lnTo>
                      <a:pt x="1057" y="4"/>
                    </a:lnTo>
                    <a:lnTo>
                      <a:pt x="1057" y="6"/>
                    </a:lnTo>
                    <a:lnTo>
                      <a:pt x="1044" y="6"/>
                    </a:lnTo>
                    <a:lnTo>
                      <a:pt x="1043" y="4"/>
                    </a:lnTo>
                    <a:lnTo>
                      <a:pt x="1043" y="3"/>
                    </a:lnTo>
                    <a:lnTo>
                      <a:pt x="1041" y="2"/>
                    </a:lnTo>
                    <a:lnTo>
                      <a:pt x="1039" y="2"/>
                    </a:lnTo>
                    <a:lnTo>
                      <a:pt x="1038" y="2"/>
                    </a:lnTo>
                    <a:lnTo>
                      <a:pt x="1036" y="3"/>
                    </a:lnTo>
                    <a:lnTo>
                      <a:pt x="1035" y="4"/>
                    </a:lnTo>
                    <a:lnTo>
                      <a:pt x="1035" y="6"/>
                    </a:lnTo>
                    <a:lnTo>
                      <a:pt x="1018" y="6"/>
                    </a:lnTo>
                    <a:lnTo>
                      <a:pt x="1018" y="4"/>
                    </a:lnTo>
                    <a:lnTo>
                      <a:pt x="1017" y="3"/>
                    </a:lnTo>
                    <a:lnTo>
                      <a:pt x="1015" y="2"/>
                    </a:lnTo>
                    <a:lnTo>
                      <a:pt x="1014" y="2"/>
                    </a:lnTo>
                    <a:lnTo>
                      <a:pt x="1012" y="2"/>
                    </a:lnTo>
                    <a:lnTo>
                      <a:pt x="1010" y="3"/>
                    </a:lnTo>
                    <a:lnTo>
                      <a:pt x="1009" y="4"/>
                    </a:lnTo>
                    <a:lnTo>
                      <a:pt x="1009" y="6"/>
                    </a:lnTo>
                    <a:lnTo>
                      <a:pt x="983" y="6"/>
                    </a:lnTo>
                    <a:lnTo>
                      <a:pt x="983" y="4"/>
                    </a:lnTo>
                    <a:lnTo>
                      <a:pt x="982" y="2"/>
                    </a:lnTo>
                    <a:lnTo>
                      <a:pt x="981" y="1"/>
                    </a:lnTo>
                    <a:lnTo>
                      <a:pt x="979" y="0"/>
                    </a:lnTo>
                    <a:lnTo>
                      <a:pt x="977" y="0"/>
                    </a:lnTo>
                    <a:lnTo>
                      <a:pt x="974" y="0"/>
                    </a:lnTo>
                    <a:lnTo>
                      <a:pt x="972" y="0"/>
                    </a:lnTo>
                    <a:lnTo>
                      <a:pt x="970" y="1"/>
                    </a:lnTo>
                    <a:lnTo>
                      <a:pt x="969" y="2"/>
                    </a:lnTo>
                    <a:lnTo>
                      <a:pt x="968" y="4"/>
                    </a:lnTo>
                    <a:lnTo>
                      <a:pt x="968" y="6"/>
                    </a:lnTo>
                    <a:lnTo>
                      <a:pt x="966" y="6"/>
                    </a:lnTo>
                    <a:lnTo>
                      <a:pt x="966" y="4"/>
                    </a:lnTo>
                    <a:lnTo>
                      <a:pt x="965" y="3"/>
                    </a:lnTo>
                    <a:lnTo>
                      <a:pt x="963" y="2"/>
                    </a:lnTo>
                    <a:lnTo>
                      <a:pt x="962" y="2"/>
                    </a:lnTo>
                    <a:lnTo>
                      <a:pt x="960" y="2"/>
                    </a:lnTo>
                    <a:lnTo>
                      <a:pt x="958" y="3"/>
                    </a:lnTo>
                    <a:lnTo>
                      <a:pt x="958" y="4"/>
                    </a:lnTo>
                    <a:lnTo>
                      <a:pt x="957" y="6"/>
                    </a:lnTo>
                    <a:lnTo>
                      <a:pt x="945" y="6"/>
                    </a:lnTo>
                    <a:lnTo>
                      <a:pt x="945" y="105"/>
                    </a:lnTo>
                    <a:lnTo>
                      <a:pt x="931" y="105"/>
                    </a:lnTo>
                    <a:lnTo>
                      <a:pt x="931" y="103"/>
                    </a:lnTo>
                    <a:lnTo>
                      <a:pt x="930" y="102"/>
                    </a:lnTo>
                    <a:lnTo>
                      <a:pt x="928" y="101"/>
                    </a:lnTo>
                    <a:lnTo>
                      <a:pt x="927" y="101"/>
                    </a:lnTo>
                    <a:lnTo>
                      <a:pt x="925" y="101"/>
                    </a:lnTo>
                    <a:lnTo>
                      <a:pt x="923" y="102"/>
                    </a:lnTo>
                    <a:lnTo>
                      <a:pt x="923" y="103"/>
                    </a:lnTo>
                    <a:lnTo>
                      <a:pt x="922" y="105"/>
                    </a:lnTo>
                    <a:lnTo>
                      <a:pt x="918" y="105"/>
                    </a:lnTo>
                    <a:lnTo>
                      <a:pt x="917" y="103"/>
                    </a:lnTo>
                    <a:lnTo>
                      <a:pt x="916" y="102"/>
                    </a:lnTo>
                    <a:lnTo>
                      <a:pt x="915" y="101"/>
                    </a:lnTo>
                    <a:lnTo>
                      <a:pt x="913" y="101"/>
                    </a:lnTo>
                    <a:lnTo>
                      <a:pt x="911" y="101"/>
                    </a:lnTo>
                    <a:lnTo>
                      <a:pt x="910" y="102"/>
                    </a:lnTo>
                    <a:lnTo>
                      <a:pt x="909" y="103"/>
                    </a:lnTo>
                    <a:lnTo>
                      <a:pt x="909" y="105"/>
                    </a:lnTo>
                    <a:lnTo>
                      <a:pt x="900" y="105"/>
                    </a:lnTo>
                    <a:lnTo>
                      <a:pt x="899" y="103"/>
                    </a:lnTo>
                    <a:lnTo>
                      <a:pt x="898" y="102"/>
                    </a:lnTo>
                    <a:lnTo>
                      <a:pt x="897" y="101"/>
                    </a:lnTo>
                    <a:lnTo>
                      <a:pt x="895" y="101"/>
                    </a:lnTo>
                    <a:lnTo>
                      <a:pt x="893" y="101"/>
                    </a:lnTo>
                    <a:lnTo>
                      <a:pt x="892" y="102"/>
                    </a:lnTo>
                    <a:lnTo>
                      <a:pt x="891" y="103"/>
                    </a:lnTo>
                    <a:lnTo>
                      <a:pt x="891" y="105"/>
                    </a:lnTo>
                    <a:lnTo>
                      <a:pt x="865" y="105"/>
                    </a:lnTo>
                    <a:lnTo>
                      <a:pt x="865" y="103"/>
                    </a:lnTo>
                    <a:lnTo>
                      <a:pt x="864" y="102"/>
                    </a:lnTo>
                    <a:lnTo>
                      <a:pt x="862" y="101"/>
                    </a:lnTo>
                    <a:lnTo>
                      <a:pt x="861" y="101"/>
                    </a:lnTo>
                    <a:lnTo>
                      <a:pt x="859" y="101"/>
                    </a:lnTo>
                    <a:lnTo>
                      <a:pt x="857" y="102"/>
                    </a:lnTo>
                    <a:lnTo>
                      <a:pt x="856" y="103"/>
                    </a:lnTo>
                    <a:lnTo>
                      <a:pt x="856" y="105"/>
                    </a:lnTo>
                    <a:lnTo>
                      <a:pt x="837" y="105"/>
                    </a:lnTo>
                    <a:lnTo>
                      <a:pt x="836" y="103"/>
                    </a:lnTo>
                    <a:lnTo>
                      <a:pt x="836" y="102"/>
                    </a:lnTo>
                    <a:lnTo>
                      <a:pt x="834" y="101"/>
                    </a:lnTo>
                    <a:lnTo>
                      <a:pt x="832" y="101"/>
                    </a:lnTo>
                    <a:lnTo>
                      <a:pt x="831" y="101"/>
                    </a:lnTo>
                    <a:lnTo>
                      <a:pt x="829" y="102"/>
                    </a:lnTo>
                    <a:lnTo>
                      <a:pt x="828" y="103"/>
                    </a:lnTo>
                    <a:lnTo>
                      <a:pt x="828" y="105"/>
                    </a:lnTo>
                    <a:lnTo>
                      <a:pt x="816" y="105"/>
                    </a:lnTo>
                    <a:lnTo>
                      <a:pt x="816" y="103"/>
                    </a:lnTo>
                    <a:lnTo>
                      <a:pt x="815" y="102"/>
                    </a:lnTo>
                    <a:lnTo>
                      <a:pt x="814" y="101"/>
                    </a:lnTo>
                    <a:lnTo>
                      <a:pt x="812" y="101"/>
                    </a:lnTo>
                    <a:lnTo>
                      <a:pt x="810" y="101"/>
                    </a:lnTo>
                    <a:lnTo>
                      <a:pt x="809" y="102"/>
                    </a:lnTo>
                    <a:lnTo>
                      <a:pt x="808" y="103"/>
                    </a:lnTo>
                    <a:lnTo>
                      <a:pt x="807" y="105"/>
                    </a:lnTo>
                    <a:lnTo>
                      <a:pt x="776" y="105"/>
                    </a:lnTo>
                    <a:lnTo>
                      <a:pt x="775" y="103"/>
                    </a:lnTo>
                    <a:lnTo>
                      <a:pt x="775" y="102"/>
                    </a:lnTo>
                    <a:lnTo>
                      <a:pt x="773" y="101"/>
                    </a:lnTo>
                    <a:lnTo>
                      <a:pt x="771" y="101"/>
                    </a:lnTo>
                    <a:lnTo>
                      <a:pt x="770" y="101"/>
                    </a:lnTo>
                    <a:lnTo>
                      <a:pt x="768" y="102"/>
                    </a:lnTo>
                    <a:lnTo>
                      <a:pt x="767" y="103"/>
                    </a:lnTo>
                    <a:lnTo>
                      <a:pt x="767" y="105"/>
                    </a:lnTo>
                    <a:lnTo>
                      <a:pt x="704" y="105"/>
                    </a:lnTo>
                    <a:lnTo>
                      <a:pt x="703" y="103"/>
                    </a:lnTo>
                    <a:lnTo>
                      <a:pt x="702" y="102"/>
                    </a:lnTo>
                    <a:lnTo>
                      <a:pt x="701" y="101"/>
                    </a:lnTo>
                    <a:lnTo>
                      <a:pt x="699" y="101"/>
                    </a:lnTo>
                    <a:lnTo>
                      <a:pt x="697" y="101"/>
                    </a:lnTo>
                    <a:lnTo>
                      <a:pt x="696" y="102"/>
                    </a:lnTo>
                    <a:lnTo>
                      <a:pt x="695" y="103"/>
                    </a:lnTo>
                    <a:lnTo>
                      <a:pt x="695" y="105"/>
                    </a:lnTo>
                    <a:lnTo>
                      <a:pt x="677" y="105"/>
                    </a:lnTo>
                    <a:lnTo>
                      <a:pt x="676" y="103"/>
                    </a:lnTo>
                    <a:lnTo>
                      <a:pt x="675" y="102"/>
                    </a:lnTo>
                    <a:lnTo>
                      <a:pt x="674" y="101"/>
                    </a:lnTo>
                    <a:lnTo>
                      <a:pt x="672" y="101"/>
                    </a:lnTo>
                    <a:lnTo>
                      <a:pt x="671" y="101"/>
                    </a:lnTo>
                    <a:lnTo>
                      <a:pt x="669" y="102"/>
                    </a:lnTo>
                    <a:lnTo>
                      <a:pt x="668" y="103"/>
                    </a:lnTo>
                    <a:lnTo>
                      <a:pt x="668" y="105"/>
                    </a:lnTo>
                    <a:lnTo>
                      <a:pt x="603" y="105"/>
                    </a:lnTo>
                    <a:lnTo>
                      <a:pt x="602" y="103"/>
                    </a:lnTo>
                    <a:lnTo>
                      <a:pt x="601" y="102"/>
                    </a:lnTo>
                    <a:lnTo>
                      <a:pt x="600" y="101"/>
                    </a:lnTo>
                    <a:lnTo>
                      <a:pt x="598" y="101"/>
                    </a:lnTo>
                    <a:lnTo>
                      <a:pt x="596" y="101"/>
                    </a:lnTo>
                    <a:lnTo>
                      <a:pt x="595" y="102"/>
                    </a:lnTo>
                    <a:lnTo>
                      <a:pt x="594" y="103"/>
                    </a:lnTo>
                    <a:lnTo>
                      <a:pt x="593" y="105"/>
                    </a:lnTo>
                    <a:lnTo>
                      <a:pt x="535" y="105"/>
                    </a:lnTo>
                    <a:lnTo>
                      <a:pt x="535" y="103"/>
                    </a:lnTo>
                    <a:lnTo>
                      <a:pt x="534" y="102"/>
                    </a:lnTo>
                    <a:lnTo>
                      <a:pt x="532" y="101"/>
                    </a:lnTo>
                    <a:lnTo>
                      <a:pt x="531" y="101"/>
                    </a:lnTo>
                    <a:lnTo>
                      <a:pt x="529" y="101"/>
                    </a:lnTo>
                    <a:lnTo>
                      <a:pt x="528" y="102"/>
                    </a:lnTo>
                    <a:lnTo>
                      <a:pt x="526" y="103"/>
                    </a:lnTo>
                    <a:lnTo>
                      <a:pt x="526" y="105"/>
                    </a:lnTo>
                    <a:lnTo>
                      <a:pt x="511" y="105"/>
                    </a:lnTo>
                    <a:lnTo>
                      <a:pt x="510" y="103"/>
                    </a:lnTo>
                    <a:lnTo>
                      <a:pt x="509" y="102"/>
                    </a:lnTo>
                    <a:lnTo>
                      <a:pt x="508" y="101"/>
                    </a:lnTo>
                    <a:lnTo>
                      <a:pt x="506" y="101"/>
                    </a:lnTo>
                    <a:lnTo>
                      <a:pt x="505" y="101"/>
                    </a:lnTo>
                    <a:lnTo>
                      <a:pt x="503" y="102"/>
                    </a:lnTo>
                    <a:lnTo>
                      <a:pt x="502" y="103"/>
                    </a:lnTo>
                    <a:lnTo>
                      <a:pt x="502" y="105"/>
                    </a:lnTo>
                    <a:lnTo>
                      <a:pt x="431" y="105"/>
                    </a:lnTo>
                    <a:lnTo>
                      <a:pt x="431" y="103"/>
                    </a:lnTo>
                    <a:lnTo>
                      <a:pt x="430" y="102"/>
                    </a:lnTo>
                    <a:lnTo>
                      <a:pt x="429" y="101"/>
                    </a:lnTo>
                    <a:lnTo>
                      <a:pt x="427" y="101"/>
                    </a:lnTo>
                    <a:lnTo>
                      <a:pt x="425" y="101"/>
                    </a:lnTo>
                    <a:lnTo>
                      <a:pt x="424" y="102"/>
                    </a:lnTo>
                    <a:lnTo>
                      <a:pt x="423" y="103"/>
                    </a:lnTo>
                    <a:lnTo>
                      <a:pt x="422" y="105"/>
                    </a:lnTo>
                    <a:lnTo>
                      <a:pt x="413" y="105"/>
                    </a:lnTo>
                    <a:lnTo>
                      <a:pt x="412" y="103"/>
                    </a:lnTo>
                    <a:lnTo>
                      <a:pt x="411" y="102"/>
                    </a:lnTo>
                    <a:lnTo>
                      <a:pt x="410" y="101"/>
                    </a:lnTo>
                    <a:lnTo>
                      <a:pt x="408" y="101"/>
                    </a:lnTo>
                    <a:lnTo>
                      <a:pt x="407" y="101"/>
                    </a:lnTo>
                    <a:lnTo>
                      <a:pt x="405" y="102"/>
                    </a:lnTo>
                    <a:lnTo>
                      <a:pt x="404" y="103"/>
                    </a:lnTo>
                    <a:lnTo>
                      <a:pt x="404" y="105"/>
                    </a:lnTo>
                    <a:lnTo>
                      <a:pt x="378" y="105"/>
                    </a:lnTo>
                    <a:lnTo>
                      <a:pt x="378" y="103"/>
                    </a:lnTo>
                    <a:lnTo>
                      <a:pt x="377" y="102"/>
                    </a:lnTo>
                    <a:lnTo>
                      <a:pt x="375" y="101"/>
                    </a:lnTo>
                    <a:lnTo>
                      <a:pt x="374" y="101"/>
                    </a:lnTo>
                    <a:lnTo>
                      <a:pt x="372" y="101"/>
                    </a:lnTo>
                    <a:lnTo>
                      <a:pt x="371" y="102"/>
                    </a:lnTo>
                    <a:lnTo>
                      <a:pt x="370" y="103"/>
                    </a:lnTo>
                    <a:lnTo>
                      <a:pt x="369" y="105"/>
                    </a:lnTo>
                    <a:lnTo>
                      <a:pt x="358" y="105"/>
                    </a:lnTo>
                    <a:lnTo>
                      <a:pt x="358" y="103"/>
                    </a:lnTo>
                    <a:lnTo>
                      <a:pt x="357" y="102"/>
                    </a:lnTo>
                    <a:lnTo>
                      <a:pt x="356" y="101"/>
                    </a:lnTo>
                    <a:lnTo>
                      <a:pt x="354" y="101"/>
                    </a:lnTo>
                    <a:lnTo>
                      <a:pt x="352" y="101"/>
                    </a:lnTo>
                    <a:lnTo>
                      <a:pt x="351" y="102"/>
                    </a:lnTo>
                    <a:lnTo>
                      <a:pt x="350" y="103"/>
                    </a:lnTo>
                    <a:lnTo>
                      <a:pt x="349" y="105"/>
                    </a:lnTo>
                    <a:lnTo>
                      <a:pt x="337" y="105"/>
                    </a:lnTo>
                    <a:lnTo>
                      <a:pt x="336" y="103"/>
                    </a:lnTo>
                    <a:lnTo>
                      <a:pt x="335" y="102"/>
                    </a:lnTo>
                    <a:lnTo>
                      <a:pt x="334" y="101"/>
                    </a:lnTo>
                    <a:lnTo>
                      <a:pt x="332" y="101"/>
                    </a:lnTo>
                    <a:lnTo>
                      <a:pt x="331" y="101"/>
                    </a:lnTo>
                    <a:lnTo>
                      <a:pt x="329" y="102"/>
                    </a:lnTo>
                    <a:lnTo>
                      <a:pt x="328" y="103"/>
                    </a:lnTo>
                    <a:lnTo>
                      <a:pt x="328" y="105"/>
                    </a:lnTo>
                    <a:lnTo>
                      <a:pt x="313" y="105"/>
                    </a:lnTo>
                    <a:lnTo>
                      <a:pt x="313" y="103"/>
                    </a:lnTo>
                    <a:lnTo>
                      <a:pt x="312" y="102"/>
                    </a:lnTo>
                    <a:lnTo>
                      <a:pt x="310" y="101"/>
                    </a:lnTo>
                    <a:lnTo>
                      <a:pt x="309" y="101"/>
                    </a:lnTo>
                    <a:lnTo>
                      <a:pt x="307" y="101"/>
                    </a:lnTo>
                    <a:lnTo>
                      <a:pt x="305" y="102"/>
                    </a:lnTo>
                    <a:lnTo>
                      <a:pt x="305" y="103"/>
                    </a:lnTo>
                    <a:lnTo>
                      <a:pt x="304" y="105"/>
                    </a:lnTo>
                    <a:lnTo>
                      <a:pt x="293" y="105"/>
                    </a:lnTo>
                    <a:lnTo>
                      <a:pt x="293" y="103"/>
                    </a:lnTo>
                    <a:lnTo>
                      <a:pt x="292" y="102"/>
                    </a:lnTo>
                    <a:lnTo>
                      <a:pt x="290" y="101"/>
                    </a:lnTo>
                    <a:lnTo>
                      <a:pt x="288" y="101"/>
                    </a:lnTo>
                    <a:lnTo>
                      <a:pt x="287" y="101"/>
                    </a:lnTo>
                    <a:lnTo>
                      <a:pt x="285" y="102"/>
                    </a:lnTo>
                    <a:lnTo>
                      <a:pt x="284" y="103"/>
                    </a:lnTo>
                    <a:lnTo>
                      <a:pt x="284" y="105"/>
                    </a:lnTo>
                    <a:lnTo>
                      <a:pt x="277" y="105"/>
                    </a:lnTo>
                    <a:lnTo>
                      <a:pt x="277" y="103"/>
                    </a:lnTo>
                    <a:lnTo>
                      <a:pt x="276" y="102"/>
                    </a:lnTo>
                    <a:lnTo>
                      <a:pt x="274" y="100"/>
                    </a:lnTo>
                    <a:lnTo>
                      <a:pt x="273" y="100"/>
                    </a:lnTo>
                    <a:lnTo>
                      <a:pt x="270" y="99"/>
                    </a:lnTo>
                    <a:lnTo>
                      <a:pt x="268" y="100"/>
                    </a:lnTo>
                    <a:lnTo>
                      <a:pt x="266" y="100"/>
                    </a:lnTo>
                    <a:lnTo>
                      <a:pt x="265" y="102"/>
                    </a:lnTo>
                    <a:lnTo>
                      <a:pt x="264" y="103"/>
                    </a:lnTo>
                    <a:lnTo>
                      <a:pt x="264" y="105"/>
                    </a:lnTo>
                    <a:lnTo>
                      <a:pt x="215" y="105"/>
                    </a:lnTo>
                    <a:lnTo>
                      <a:pt x="215" y="103"/>
                    </a:lnTo>
                    <a:lnTo>
                      <a:pt x="214" y="102"/>
                    </a:lnTo>
                    <a:lnTo>
                      <a:pt x="212" y="101"/>
                    </a:lnTo>
                    <a:lnTo>
                      <a:pt x="211" y="101"/>
                    </a:lnTo>
                    <a:lnTo>
                      <a:pt x="209" y="101"/>
                    </a:lnTo>
                    <a:lnTo>
                      <a:pt x="208" y="102"/>
                    </a:lnTo>
                    <a:lnTo>
                      <a:pt x="207" y="103"/>
                    </a:lnTo>
                    <a:lnTo>
                      <a:pt x="206" y="105"/>
                    </a:lnTo>
                    <a:lnTo>
                      <a:pt x="202" y="105"/>
                    </a:lnTo>
                    <a:lnTo>
                      <a:pt x="201" y="103"/>
                    </a:lnTo>
                    <a:lnTo>
                      <a:pt x="200" y="102"/>
                    </a:lnTo>
                    <a:lnTo>
                      <a:pt x="199" y="101"/>
                    </a:lnTo>
                    <a:lnTo>
                      <a:pt x="197" y="101"/>
                    </a:lnTo>
                    <a:lnTo>
                      <a:pt x="195" y="101"/>
                    </a:lnTo>
                    <a:lnTo>
                      <a:pt x="194" y="102"/>
                    </a:lnTo>
                    <a:lnTo>
                      <a:pt x="193" y="103"/>
                    </a:lnTo>
                    <a:lnTo>
                      <a:pt x="193" y="105"/>
                    </a:lnTo>
                    <a:lnTo>
                      <a:pt x="178" y="105"/>
                    </a:lnTo>
                    <a:lnTo>
                      <a:pt x="177" y="103"/>
                    </a:lnTo>
                    <a:lnTo>
                      <a:pt x="176" y="101"/>
                    </a:lnTo>
                    <a:lnTo>
                      <a:pt x="175" y="100"/>
                    </a:lnTo>
                    <a:lnTo>
                      <a:pt x="173" y="99"/>
                    </a:lnTo>
                    <a:lnTo>
                      <a:pt x="171" y="99"/>
                    </a:lnTo>
                    <a:lnTo>
                      <a:pt x="169" y="99"/>
                    </a:lnTo>
                    <a:lnTo>
                      <a:pt x="166" y="99"/>
                    </a:lnTo>
                    <a:lnTo>
                      <a:pt x="165" y="100"/>
                    </a:lnTo>
                    <a:lnTo>
                      <a:pt x="163" y="101"/>
                    </a:lnTo>
                    <a:lnTo>
                      <a:pt x="162" y="103"/>
                    </a:lnTo>
                    <a:lnTo>
                      <a:pt x="162" y="105"/>
                    </a:lnTo>
                    <a:lnTo>
                      <a:pt x="148" y="105"/>
                    </a:lnTo>
                    <a:lnTo>
                      <a:pt x="147" y="103"/>
                    </a:lnTo>
                    <a:lnTo>
                      <a:pt x="146" y="102"/>
                    </a:lnTo>
                    <a:lnTo>
                      <a:pt x="145" y="101"/>
                    </a:lnTo>
                    <a:lnTo>
                      <a:pt x="143" y="101"/>
                    </a:lnTo>
                    <a:lnTo>
                      <a:pt x="141" y="101"/>
                    </a:lnTo>
                    <a:lnTo>
                      <a:pt x="140" y="102"/>
                    </a:lnTo>
                    <a:lnTo>
                      <a:pt x="139" y="103"/>
                    </a:lnTo>
                    <a:lnTo>
                      <a:pt x="139" y="105"/>
                    </a:lnTo>
                    <a:lnTo>
                      <a:pt x="121" y="105"/>
                    </a:lnTo>
                    <a:lnTo>
                      <a:pt x="120" y="103"/>
                    </a:lnTo>
                    <a:lnTo>
                      <a:pt x="119" y="101"/>
                    </a:lnTo>
                    <a:lnTo>
                      <a:pt x="118" y="100"/>
                    </a:lnTo>
                    <a:lnTo>
                      <a:pt x="116" y="99"/>
                    </a:lnTo>
                    <a:lnTo>
                      <a:pt x="114" y="99"/>
                    </a:lnTo>
                    <a:lnTo>
                      <a:pt x="112" y="99"/>
                    </a:lnTo>
                    <a:lnTo>
                      <a:pt x="110" y="99"/>
                    </a:lnTo>
                    <a:lnTo>
                      <a:pt x="108" y="100"/>
                    </a:lnTo>
                    <a:lnTo>
                      <a:pt x="106" y="101"/>
                    </a:lnTo>
                    <a:lnTo>
                      <a:pt x="105" y="103"/>
                    </a:lnTo>
                    <a:lnTo>
                      <a:pt x="105" y="105"/>
                    </a:lnTo>
                    <a:lnTo>
                      <a:pt x="100" y="105"/>
                    </a:lnTo>
                    <a:lnTo>
                      <a:pt x="100" y="103"/>
                    </a:lnTo>
                    <a:lnTo>
                      <a:pt x="99" y="101"/>
                    </a:lnTo>
                    <a:lnTo>
                      <a:pt x="98" y="100"/>
                    </a:lnTo>
                    <a:lnTo>
                      <a:pt x="96" y="99"/>
                    </a:lnTo>
                    <a:lnTo>
                      <a:pt x="94" y="99"/>
                    </a:lnTo>
                    <a:lnTo>
                      <a:pt x="91" y="99"/>
                    </a:lnTo>
                    <a:lnTo>
                      <a:pt x="89" y="99"/>
                    </a:lnTo>
                    <a:lnTo>
                      <a:pt x="87" y="100"/>
                    </a:lnTo>
                    <a:lnTo>
                      <a:pt x="86" y="101"/>
                    </a:lnTo>
                    <a:lnTo>
                      <a:pt x="85" y="103"/>
                    </a:lnTo>
                    <a:lnTo>
                      <a:pt x="85" y="105"/>
                    </a:lnTo>
                    <a:lnTo>
                      <a:pt x="70" y="105"/>
                    </a:lnTo>
                    <a:lnTo>
                      <a:pt x="70" y="103"/>
                    </a:lnTo>
                    <a:lnTo>
                      <a:pt x="69" y="102"/>
                    </a:lnTo>
                    <a:lnTo>
                      <a:pt x="67" y="101"/>
                    </a:lnTo>
                    <a:lnTo>
                      <a:pt x="66" y="101"/>
                    </a:lnTo>
                    <a:lnTo>
                      <a:pt x="64" y="101"/>
                    </a:lnTo>
                    <a:lnTo>
                      <a:pt x="62" y="102"/>
                    </a:lnTo>
                    <a:lnTo>
                      <a:pt x="61" y="103"/>
                    </a:lnTo>
                    <a:lnTo>
                      <a:pt x="61" y="105"/>
                    </a:lnTo>
                    <a:lnTo>
                      <a:pt x="57" y="105"/>
                    </a:lnTo>
                    <a:lnTo>
                      <a:pt x="56" y="103"/>
                    </a:lnTo>
                    <a:lnTo>
                      <a:pt x="55" y="102"/>
                    </a:lnTo>
                    <a:lnTo>
                      <a:pt x="54" y="101"/>
                    </a:lnTo>
                    <a:lnTo>
                      <a:pt x="52" y="101"/>
                    </a:lnTo>
                    <a:lnTo>
                      <a:pt x="50" y="101"/>
                    </a:lnTo>
                    <a:lnTo>
                      <a:pt x="49" y="102"/>
                    </a:lnTo>
                    <a:lnTo>
                      <a:pt x="48" y="103"/>
                    </a:lnTo>
                    <a:lnTo>
                      <a:pt x="48" y="105"/>
                    </a:lnTo>
                    <a:lnTo>
                      <a:pt x="38" y="105"/>
                    </a:lnTo>
                    <a:lnTo>
                      <a:pt x="37" y="103"/>
                    </a:lnTo>
                    <a:lnTo>
                      <a:pt x="36" y="102"/>
                    </a:lnTo>
                    <a:lnTo>
                      <a:pt x="35" y="101"/>
                    </a:lnTo>
                    <a:lnTo>
                      <a:pt x="33" y="101"/>
                    </a:lnTo>
                    <a:lnTo>
                      <a:pt x="32" y="101"/>
                    </a:lnTo>
                    <a:lnTo>
                      <a:pt x="30" y="102"/>
                    </a:lnTo>
                    <a:lnTo>
                      <a:pt x="29" y="103"/>
                    </a:lnTo>
                    <a:lnTo>
                      <a:pt x="29" y="105"/>
                    </a:lnTo>
                    <a:lnTo>
                      <a:pt x="10" y="105"/>
                    </a:lnTo>
                    <a:lnTo>
                      <a:pt x="10" y="103"/>
                    </a:lnTo>
                    <a:lnTo>
                      <a:pt x="9" y="102"/>
                    </a:lnTo>
                    <a:lnTo>
                      <a:pt x="8" y="101"/>
                    </a:lnTo>
                    <a:lnTo>
                      <a:pt x="6" y="101"/>
                    </a:lnTo>
                    <a:lnTo>
                      <a:pt x="4" y="101"/>
                    </a:lnTo>
                    <a:lnTo>
                      <a:pt x="3" y="102"/>
                    </a:lnTo>
                    <a:lnTo>
                      <a:pt x="2" y="103"/>
                    </a:lnTo>
                    <a:lnTo>
                      <a:pt x="1" y="105"/>
                    </a:lnTo>
                    <a:lnTo>
                      <a:pt x="0" y="1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6076440" y="281736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42" name=""/>
              <p:cNvSpPr/>
              <p:nvPr/>
            </p:nvSpPr>
            <p:spPr>
              <a:xfrm>
                <a:off x="4710960" y="2882880"/>
                <a:ext cx="120600" cy="1413360"/>
              </a:xfrm>
              <a:custGeom>
                <a:avLst/>
                <a:gdLst/>
                <a:ahLst/>
                <a:rect l="l" t="t" r="r" b="b"/>
                <a:pathLst>
                  <a:path w="114" h="1058">
                    <a:moveTo>
                      <a:pt x="114" y="0"/>
                    </a:moveTo>
                    <a:lnTo>
                      <a:pt x="0" y="0"/>
                    </a:lnTo>
                    <a:lnTo>
                      <a:pt x="0" y="1058"/>
                    </a:lnTo>
                    <a:lnTo>
                      <a:pt x="16" y="1058"/>
                    </a:lnTo>
                    <a:lnTo>
                      <a:pt x="17" y="1057"/>
                    </a:lnTo>
                    <a:lnTo>
                      <a:pt x="18" y="1056"/>
                    </a:lnTo>
                    <a:lnTo>
                      <a:pt x="19" y="1055"/>
                    </a:lnTo>
                    <a:lnTo>
                      <a:pt x="21" y="1055"/>
                    </a:lnTo>
                    <a:lnTo>
                      <a:pt x="23" y="1055"/>
                    </a:lnTo>
                    <a:lnTo>
                      <a:pt x="24" y="1056"/>
                    </a:lnTo>
                    <a:lnTo>
                      <a:pt x="25" y="1057"/>
                    </a:lnTo>
                    <a:lnTo>
                      <a:pt x="25" y="1058"/>
                    </a:lnTo>
                    <a:lnTo>
                      <a:pt x="30" y="1058"/>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4741560" y="429084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44" name=""/>
              <p:cNvSpPr/>
              <p:nvPr/>
            </p:nvSpPr>
            <p:spPr>
              <a:xfrm>
                <a:off x="4460040" y="2581200"/>
                <a:ext cx="1065960" cy="1288800"/>
              </a:xfrm>
              <a:custGeom>
                <a:avLst/>
                <a:gdLst/>
                <a:ahLst/>
                <a:rect l="l" t="t" r="r" b="b"/>
                <a:pathLst>
                  <a:path w="1007" h="965">
                    <a:moveTo>
                      <a:pt x="0" y="0"/>
                    </a:moveTo>
                    <a:lnTo>
                      <a:pt x="0" y="15"/>
                    </a:lnTo>
                    <a:lnTo>
                      <a:pt x="59" y="15"/>
                    </a:lnTo>
                    <a:lnTo>
                      <a:pt x="60" y="13"/>
                    </a:lnTo>
                    <a:lnTo>
                      <a:pt x="61" y="12"/>
                    </a:lnTo>
                    <a:lnTo>
                      <a:pt x="62" y="11"/>
                    </a:lnTo>
                    <a:lnTo>
                      <a:pt x="64" y="11"/>
                    </a:lnTo>
                    <a:lnTo>
                      <a:pt x="65" y="11"/>
                    </a:lnTo>
                    <a:lnTo>
                      <a:pt x="67" y="12"/>
                    </a:lnTo>
                    <a:lnTo>
                      <a:pt x="68" y="13"/>
                    </a:lnTo>
                    <a:lnTo>
                      <a:pt x="68" y="15"/>
                    </a:lnTo>
                    <a:lnTo>
                      <a:pt x="119" y="15"/>
                    </a:lnTo>
                    <a:lnTo>
                      <a:pt x="120" y="13"/>
                    </a:lnTo>
                    <a:lnTo>
                      <a:pt x="120" y="12"/>
                    </a:lnTo>
                    <a:lnTo>
                      <a:pt x="122" y="11"/>
                    </a:lnTo>
                    <a:lnTo>
                      <a:pt x="124" y="11"/>
                    </a:lnTo>
                    <a:lnTo>
                      <a:pt x="125" y="11"/>
                    </a:lnTo>
                    <a:lnTo>
                      <a:pt x="127" y="12"/>
                    </a:lnTo>
                    <a:lnTo>
                      <a:pt x="128" y="13"/>
                    </a:lnTo>
                    <a:lnTo>
                      <a:pt x="128" y="15"/>
                    </a:lnTo>
                    <a:lnTo>
                      <a:pt x="160" y="15"/>
                    </a:lnTo>
                    <a:lnTo>
                      <a:pt x="160" y="13"/>
                    </a:lnTo>
                    <a:lnTo>
                      <a:pt x="161" y="12"/>
                    </a:lnTo>
                    <a:lnTo>
                      <a:pt x="162" y="11"/>
                    </a:lnTo>
                    <a:lnTo>
                      <a:pt x="164" y="11"/>
                    </a:lnTo>
                    <a:lnTo>
                      <a:pt x="166" y="11"/>
                    </a:lnTo>
                    <a:lnTo>
                      <a:pt x="167" y="12"/>
                    </a:lnTo>
                    <a:lnTo>
                      <a:pt x="168" y="13"/>
                    </a:lnTo>
                    <a:lnTo>
                      <a:pt x="169" y="15"/>
                    </a:lnTo>
                    <a:lnTo>
                      <a:pt x="179" y="15"/>
                    </a:lnTo>
                    <a:lnTo>
                      <a:pt x="179" y="653"/>
                    </a:lnTo>
                    <a:lnTo>
                      <a:pt x="184" y="653"/>
                    </a:lnTo>
                    <a:lnTo>
                      <a:pt x="185" y="652"/>
                    </a:lnTo>
                    <a:lnTo>
                      <a:pt x="186" y="650"/>
                    </a:lnTo>
                    <a:lnTo>
                      <a:pt x="187" y="649"/>
                    </a:lnTo>
                    <a:lnTo>
                      <a:pt x="189" y="648"/>
                    </a:lnTo>
                    <a:lnTo>
                      <a:pt x="191" y="647"/>
                    </a:lnTo>
                    <a:lnTo>
                      <a:pt x="194" y="647"/>
                    </a:lnTo>
                    <a:lnTo>
                      <a:pt x="196" y="648"/>
                    </a:lnTo>
                    <a:lnTo>
                      <a:pt x="198" y="649"/>
                    </a:lnTo>
                    <a:lnTo>
                      <a:pt x="199" y="650"/>
                    </a:lnTo>
                    <a:lnTo>
                      <a:pt x="200" y="652"/>
                    </a:lnTo>
                    <a:lnTo>
                      <a:pt x="201" y="653"/>
                    </a:lnTo>
                    <a:lnTo>
                      <a:pt x="202" y="653"/>
                    </a:lnTo>
                    <a:lnTo>
                      <a:pt x="203" y="652"/>
                    </a:lnTo>
                    <a:lnTo>
                      <a:pt x="204" y="651"/>
                    </a:lnTo>
                    <a:lnTo>
                      <a:pt x="205" y="650"/>
                    </a:lnTo>
                    <a:lnTo>
                      <a:pt x="207" y="650"/>
                    </a:lnTo>
                    <a:lnTo>
                      <a:pt x="209" y="650"/>
                    </a:lnTo>
                    <a:lnTo>
                      <a:pt x="210" y="651"/>
                    </a:lnTo>
                    <a:lnTo>
                      <a:pt x="211" y="652"/>
                    </a:lnTo>
                    <a:lnTo>
                      <a:pt x="211" y="653"/>
                    </a:lnTo>
                    <a:lnTo>
                      <a:pt x="222" y="653"/>
                    </a:lnTo>
                    <a:lnTo>
                      <a:pt x="223" y="652"/>
                    </a:lnTo>
                    <a:lnTo>
                      <a:pt x="223" y="651"/>
                    </a:lnTo>
                    <a:lnTo>
                      <a:pt x="225" y="650"/>
                    </a:lnTo>
                    <a:lnTo>
                      <a:pt x="227" y="650"/>
                    </a:lnTo>
                    <a:lnTo>
                      <a:pt x="228" y="650"/>
                    </a:lnTo>
                    <a:lnTo>
                      <a:pt x="230" y="651"/>
                    </a:lnTo>
                    <a:lnTo>
                      <a:pt x="231" y="652"/>
                    </a:lnTo>
                    <a:lnTo>
                      <a:pt x="231" y="653"/>
                    </a:lnTo>
                    <a:lnTo>
                      <a:pt x="232" y="653"/>
                    </a:lnTo>
                    <a:lnTo>
                      <a:pt x="233" y="652"/>
                    </a:lnTo>
                    <a:lnTo>
                      <a:pt x="234" y="651"/>
                    </a:lnTo>
                    <a:lnTo>
                      <a:pt x="235" y="650"/>
                    </a:lnTo>
                    <a:lnTo>
                      <a:pt x="237" y="650"/>
                    </a:lnTo>
                    <a:lnTo>
                      <a:pt x="238" y="650"/>
                    </a:lnTo>
                    <a:lnTo>
                      <a:pt x="240" y="651"/>
                    </a:lnTo>
                    <a:lnTo>
                      <a:pt x="241" y="652"/>
                    </a:lnTo>
                    <a:lnTo>
                      <a:pt x="241" y="653"/>
                    </a:lnTo>
                    <a:lnTo>
                      <a:pt x="246" y="653"/>
                    </a:lnTo>
                    <a:lnTo>
                      <a:pt x="246" y="652"/>
                    </a:lnTo>
                    <a:lnTo>
                      <a:pt x="247" y="651"/>
                    </a:lnTo>
                    <a:lnTo>
                      <a:pt x="249" y="650"/>
                    </a:lnTo>
                    <a:lnTo>
                      <a:pt x="250" y="650"/>
                    </a:lnTo>
                    <a:lnTo>
                      <a:pt x="252" y="650"/>
                    </a:lnTo>
                    <a:lnTo>
                      <a:pt x="254" y="651"/>
                    </a:lnTo>
                    <a:lnTo>
                      <a:pt x="255" y="652"/>
                    </a:lnTo>
                    <a:lnTo>
                      <a:pt x="255" y="653"/>
                    </a:lnTo>
                    <a:lnTo>
                      <a:pt x="263" y="653"/>
                    </a:lnTo>
                    <a:lnTo>
                      <a:pt x="264" y="652"/>
                    </a:lnTo>
                    <a:lnTo>
                      <a:pt x="265" y="651"/>
                    </a:lnTo>
                    <a:lnTo>
                      <a:pt x="266" y="650"/>
                    </a:lnTo>
                    <a:lnTo>
                      <a:pt x="268" y="650"/>
                    </a:lnTo>
                    <a:lnTo>
                      <a:pt x="270" y="650"/>
                    </a:lnTo>
                    <a:lnTo>
                      <a:pt x="271" y="651"/>
                    </a:lnTo>
                    <a:lnTo>
                      <a:pt x="272" y="652"/>
                    </a:lnTo>
                    <a:lnTo>
                      <a:pt x="272" y="653"/>
                    </a:lnTo>
                    <a:lnTo>
                      <a:pt x="276" y="653"/>
                    </a:lnTo>
                    <a:lnTo>
                      <a:pt x="277" y="652"/>
                    </a:lnTo>
                    <a:lnTo>
                      <a:pt x="277" y="651"/>
                    </a:lnTo>
                    <a:lnTo>
                      <a:pt x="279" y="650"/>
                    </a:lnTo>
                    <a:lnTo>
                      <a:pt x="281" y="650"/>
                    </a:lnTo>
                    <a:lnTo>
                      <a:pt x="282" y="650"/>
                    </a:lnTo>
                    <a:lnTo>
                      <a:pt x="284" y="651"/>
                    </a:lnTo>
                    <a:lnTo>
                      <a:pt x="285" y="652"/>
                    </a:lnTo>
                    <a:lnTo>
                      <a:pt x="285" y="653"/>
                    </a:lnTo>
                    <a:lnTo>
                      <a:pt x="298" y="653"/>
                    </a:lnTo>
                    <a:lnTo>
                      <a:pt x="299" y="652"/>
                    </a:lnTo>
                    <a:lnTo>
                      <a:pt x="299" y="651"/>
                    </a:lnTo>
                    <a:lnTo>
                      <a:pt x="301" y="650"/>
                    </a:lnTo>
                    <a:lnTo>
                      <a:pt x="303" y="650"/>
                    </a:lnTo>
                    <a:lnTo>
                      <a:pt x="304" y="650"/>
                    </a:lnTo>
                    <a:lnTo>
                      <a:pt x="306" y="651"/>
                    </a:lnTo>
                    <a:lnTo>
                      <a:pt x="307" y="652"/>
                    </a:lnTo>
                    <a:lnTo>
                      <a:pt x="307" y="653"/>
                    </a:lnTo>
                    <a:lnTo>
                      <a:pt x="328" y="653"/>
                    </a:lnTo>
                    <a:lnTo>
                      <a:pt x="329" y="652"/>
                    </a:lnTo>
                    <a:lnTo>
                      <a:pt x="330" y="651"/>
                    </a:lnTo>
                    <a:lnTo>
                      <a:pt x="331" y="650"/>
                    </a:lnTo>
                    <a:lnTo>
                      <a:pt x="333" y="650"/>
                    </a:lnTo>
                    <a:lnTo>
                      <a:pt x="335" y="650"/>
                    </a:lnTo>
                    <a:lnTo>
                      <a:pt x="336" y="651"/>
                    </a:lnTo>
                    <a:lnTo>
                      <a:pt x="337" y="652"/>
                    </a:lnTo>
                    <a:lnTo>
                      <a:pt x="337" y="653"/>
                    </a:lnTo>
                    <a:lnTo>
                      <a:pt x="583" y="653"/>
                    </a:lnTo>
                    <a:lnTo>
                      <a:pt x="584" y="652"/>
                    </a:lnTo>
                    <a:lnTo>
                      <a:pt x="585" y="651"/>
                    </a:lnTo>
                    <a:lnTo>
                      <a:pt x="586" y="650"/>
                    </a:lnTo>
                    <a:lnTo>
                      <a:pt x="588" y="650"/>
                    </a:lnTo>
                    <a:lnTo>
                      <a:pt x="590" y="650"/>
                    </a:lnTo>
                    <a:lnTo>
                      <a:pt x="591" y="651"/>
                    </a:lnTo>
                    <a:lnTo>
                      <a:pt x="592" y="652"/>
                    </a:lnTo>
                    <a:lnTo>
                      <a:pt x="592" y="653"/>
                    </a:lnTo>
                    <a:lnTo>
                      <a:pt x="602" y="653"/>
                    </a:lnTo>
                    <a:lnTo>
                      <a:pt x="602" y="652"/>
                    </a:lnTo>
                    <a:lnTo>
                      <a:pt x="603" y="650"/>
                    </a:lnTo>
                    <a:lnTo>
                      <a:pt x="605" y="649"/>
                    </a:lnTo>
                    <a:lnTo>
                      <a:pt x="607" y="648"/>
                    </a:lnTo>
                    <a:lnTo>
                      <a:pt x="609" y="647"/>
                    </a:lnTo>
                    <a:lnTo>
                      <a:pt x="612" y="647"/>
                    </a:lnTo>
                    <a:lnTo>
                      <a:pt x="614" y="648"/>
                    </a:lnTo>
                    <a:lnTo>
                      <a:pt x="616" y="649"/>
                    </a:lnTo>
                    <a:lnTo>
                      <a:pt x="617" y="650"/>
                    </a:lnTo>
                    <a:lnTo>
                      <a:pt x="618" y="652"/>
                    </a:lnTo>
                    <a:lnTo>
                      <a:pt x="619" y="653"/>
                    </a:lnTo>
                    <a:lnTo>
                      <a:pt x="638" y="653"/>
                    </a:lnTo>
                    <a:lnTo>
                      <a:pt x="638" y="652"/>
                    </a:lnTo>
                    <a:lnTo>
                      <a:pt x="639" y="651"/>
                    </a:lnTo>
                    <a:lnTo>
                      <a:pt x="640" y="650"/>
                    </a:lnTo>
                    <a:lnTo>
                      <a:pt x="642" y="650"/>
                    </a:lnTo>
                    <a:lnTo>
                      <a:pt x="644" y="650"/>
                    </a:lnTo>
                    <a:lnTo>
                      <a:pt x="645" y="651"/>
                    </a:lnTo>
                    <a:lnTo>
                      <a:pt x="646" y="652"/>
                    </a:lnTo>
                    <a:lnTo>
                      <a:pt x="647" y="653"/>
                    </a:lnTo>
                    <a:lnTo>
                      <a:pt x="647" y="653"/>
                    </a:lnTo>
                    <a:lnTo>
                      <a:pt x="647" y="652"/>
                    </a:lnTo>
                    <a:lnTo>
                      <a:pt x="648" y="651"/>
                    </a:lnTo>
                    <a:lnTo>
                      <a:pt x="649" y="650"/>
                    </a:lnTo>
                    <a:lnTo>
                      <a:pt x="651" y="650"/>
                    </a:lnTo>
                    <a:lnTo>
                      <a:pt x="653" y="650"/>
                    </a:lnTo>
                    <a:lnTo>
                      <a:pt x="654" y="651"/>
                    </a:lnTo>
                    <a:lnTo>
                      <a:pt x="655" y="652"/>
                    </a:lnTo>
                    <a:lnTo>
                      <a:pt x="656" y="653"/>
                    </a:lnTo>
                    <a:lnTo>
                      <a:pt x="663" y="653"/>
                    </a:lnTo>
                    <a:lnTo>
                      <a:pt x="663" y="652"/>
                    </a:lnTo>
                    <a:lnTo>
                      <a:pt x="664" y="651"/>
                    </a:lnTo>
                    <a:lnTo>
                      <a:pt x="666" y="650"/>
                    </a:lnTo>
                    <a:lnTo>
                      <a:pt x="667" y="650"/>
                    </a:lnTo>
                    <a:lnTo>
                      <a:pt x="669" y="650"/>
                    </a:lnTo>
                    <a:lnTo>
                      <a:pt x="670" y="651"/>
                    </a:lnTo>
                    <a:lnTo>
                      <a:pt x="671" y="652"/>
                    </a:lnTo>
                    <a:lnTo>
                      <a:pt x="672" y="653"/>
                    </a:lnTo>
                    <a:lnTo>
                      <a:pt x="678" y="653"/>
                    </a:lnTo>
                    <a:lnTo>
                      <a:pt x="678" y="652"/>
                    </a:lnTo>
                    <a:lnTo>
                      <a:pt x="679" y="651"/>
                    </a:lnTo>
                    <a:lnTo>
                      <a:pt x="681" y="650"/>
                    </a:lnTo>
                    <a:lnTo>
                      <a:pt x="683" y="650"/>
                    </a:lnTo>
                    <a:lnTo>
                      <a:pt x="684" y="650"/>
                    </a:lnTo>
                    <a:lnTo>
                      <a:pt x="686" y="651"/>
                    </a:lnTo>
                    <a:lnTo>
                      <a:pt x="687" y="652"/>
                    </a:lnTo>
                    <a:lnTo>
                      <a:pt x="687" y="653"/>
                    </a:lnTo>
                    <a:lnTo>
                      <a:pt x="696" y="653"/>
                    </a:lnTo>
                    <a:lnTo>
                      <a:pt x="696" y="652"/>
                    </a:lnTo>
                    <a:lnTo>
                      <a:pt x="697" y="651"/>
                    </a:lnTo>
                    <a:lnTo>
                      <a:pt x="698" y="650"/>
                    </a:lnTo>
                    <a:lnTo>
                      <a:pt x="700" y="650"/>
                    </a:lnTo>
                    <a:lnTo>
                      <a:pt x="702" y="650"/>
                    </a:lnTo>
                    <a:lnTo>
                      <a:pt x="703" y="651"/>
                    </a:lnTo>
                    <a:lnTo>
                      <a:pt x="704" y="652"/>
                    </a:lnTo>
                    <a:lnTo>
                      <a:pt x="705" y="653"/>
                    </a:lnTo>
                    <a:lnTo>
                      <a:pt x="725" y="653"/>
                    </a:lnTo>
                    <a:lnTo>
                      <a:pt x="725" y="652"/>
                    </a:lnTo>
                    <a:lnTo>
                      <a:pt x="726" y="651"/>
                    </a:lnTo>
                    <a:lnTo>
                      <a:pt x="728" y="650"/>
                    </a:lnTo>
                    <a:lnTo>
                      <a:pt x="730" y="650"/>
                    </a:lnTo>
                    <a:lnTo>
                      <a:pt x="731" y="650"/>
                    </a:lnTo>
                    <a:lnTo>
                      <a:pt x="733" y="651"/>
                    </a:lnTo>
                    <a:lnTo>
                      <a:pt x="734" y="652"/>
                    </a:lnTo>
                    <a:lnTo>
                      <a:pt x="734" y="653"/>
                    </a:lnTo>
                    <a:lnTo>
                      <a:pt x="791" y="653"/>
                    </a:lnTo>
                    <a:lnTo>
                      <a:pt x="791" y="965"/>
                    </a:lnTo>
                    <a:lnTo>
                      <a:pt x="813" y="965"/>
                    </a:lnTo>
                    <a:lnTo>
                      <a:pt x="813" y="963"/>
                    </a:lnTo>
                    <a:lnTo>
                      <a:pt x="814" y="962"/>
                    </a:lnTo>
                    <a:lnTo>
                      <a:pt x="816" y="961"/>
                    </a:lnTo>
                    <a:lnTo>
                      <a:pt x="818" y="961"/>
                    </a:lnTo>
                    <a:lnTo>
                      <a:pt x="819" y="961"/>
                    </a:lnTo>
                    <a:lnTo>
                      <a:pt x="821" y="962"/>
                    </a:lnTo>
                    <a:lnTo>
                      <a:pt x="822" y="963"/>
                    </a:lnTo>
                    <a:lnTo>
                      <a:pt x="822" y="965"/>
                    </a:lnTo>
                    <a:lnTo>
                      <a:pt x="841" y="965"/>
                    </a:lnTo>
                    <a:lnTo>
                      <a:pt x="841" y="963"/>
                    </a:lnTo>
                    <a:lnTo>
                      <a:pt x="842" y="962"/>
                    </a:lnTo>
                    <a:lnTo>
                      <a:pt x="844" y="961"/>
                    </a:lnTo>
                    <a:lnTo>
                      <a:pt x="845" y="961"/>
                    </a:lnTo>
                    <a:lnTo>
                      <a:pt x="847" y="961"/>
                    </a:lnTo>
                    <a:lnTo>
                      <a:pt x="849" y="962"/>
                    </a:lnTo>
                    <a:lnTo>
                      <a:pt x="850" y="963"/>
                    </a:lnTo>
                    <a:lnTo>
                      <a:pt x="850" y="965"/>
                    </a:lnTo>
                    <a:lnTo>
                      <a:pt x="854" y="965"/>
                    </a:lnTo>
                    <a:lnTo>
                      <a:pt x="854" y="963"/>
                    </a:lnTo>
                    <a:lnTo>
                      <a:pt x="855" y="962"/>
                    </a:lnTo>
                    <a:lnTo>
                      <a:pt x="856" y="961"/>
                    </a:lnTo>
                    <a:lnTo>
                      <a:pt x="858" y="961"/>
                    </a:lnTo>
                    <a:lnTo>
                      <a:pt x="860" y="961"/>
                    </a:lnTo>
                    <a:lnTo>
                      <a:pt x="861" y="962"/>
                    </a:lnTo>
                    <a:lnTo>
                      <a:pt x="862" y="963"/>
                    </a:lnTo>
                    <a:lnTo>
                      <a:pt x="863" y="965"/>
                    </a:lnTo>
                    <a:lnTo>
                      <a:pt x="867" y="965"/>
                    </a:lnTo>
                    <a:lnTo>
                      <a:pt x="868" y="963"/>
                    </a:lnTo>
                    <a:lnTo>
                      <a:pt x="868" y="962"/>
                    </a:lnTo>
                    <a:lnTo>
                      <a:pt x="870" y="961"/>
                    </a:lnTo>
                    <a:lnTo>
                      <a:pt x="872" y="961"/>
                    </a:lnTo>
                    <a:lnTo>
                      <a:pt x="873" y="961"/>
                    </a:lnTo>
                    <a:lnTo>
                      <a:pt x="875" y="962"/>
                    </a:lnTo>
                    <a:lnTo>
                      <a:pt x="876" y="963"/>
                    </a:lnTo>
                    <a:lnTo>
                      <a:pt x="876" y="965"/>
                    </a:lnTo>
                    <a:lnTo>
                      <a:pt x="910" y="965"/>
                    </a:lnTo>
                    <a:lnTo>
                      <a:pt x="910" y="963"/>
                    </a:lnTo>
                    <a:lnTo>
                      <a:pt x="911" y="962"/>
                    </a:lnTo>
                    <a:lnTo>
                      <a:pt x="913" y="961"/>
                    </a:lnTo>
                    <a:lnTo>
                      <a:pt x="914" y="961"/>
                    </a:lnTo>
                    <a:lnTo>
                      <a:pt x="916" y="961"/>
                    </a:lnTo>
                    <a:lnTo>
                      <a:pt x="918" y="962"/>
                    </a:lnTo>
                    <a:lnTo>
                      <a:pt x="919" y="963"/>
                    </a:lnTo>
                    <a:lnTo>
                      <a:pt x="919" y="965"/>
                    </a:lnTo>
                    <a:lnTo>
                      <a:pt x="919" y="965"/>
                    </a:lnTo>
                    <a:lnTo>
                      <a:pt x="920" y="963"/>
                    </a:lnTo>
                    <a:lnTo>
                      <a:pt x="921" y="962"/>
                    </a:lnTo>
                    <a:lnTo>
                      <a:pt x="922" y="961"/>
                    </a:lnTo>
                    <a:lnTo>
                      <a:pt x="924" y="961"/>
                    </a:lnTo>
                    <a:lnTo>
                      <a:pt x="926" y="961"/>
                    </a:lnTo>
                    <a:lnTo>
                      <a:pt x="927" y="962"/>
                    </a:lnTo>
                    <a:lnTo>
                      <a:pt x="928" y="963"/>
                    </a:lnTo>
                    <a:lnTo>
                      <a:pt x="928" y="965"/>
                    </a:lnTo>
                    <a:lnTo>
                      <a:pt x="930" y="965"/>
                    </a:lnTo>
                    <a:lnTo>
                      <a:pt x="931" y="963"/>
                    </a:lnTo>
                    <a:lnTo>
                      <a:pt x="932" y="961"/>
                    </a:lnTo>
                    <a:lnTo>
                      <a:pt x="933" y="959"/>
                    </a:lnTo>
                    <a:lnTo>
                      <a:pt x="935" y="958"/>
                    </a:lnTo>
                    <a:lnTo>
                      <a:pt x="938" y="958"/>
                    </a:lnTo>
                    <a:lnTo>
                      <a:pt x="940" y="958"/>
                    </a:lnTo>
                    <a:lnTo>
                      <a:pt x="942" y="958"/>
                    </a:lnTo>
                    <a:lnTo>
                      <a:pt x="945" y="959"/>
                    </a:lnTo>
                    <a:lnTo>
                      <a:pt x="946" y="961"/>
                    </a:lnTo>
                    <a:lnTo>
                      <a:pt x="947" y="963"/>
                    </a:lnTo>
                    <a:lnTo>
                      <a:pt x="948" y="965"/>
                    </a:lnTo>
                    <a:lnTo>
                      <a:pt x="952" y="965"/>
                    </a:lnTo>
                    <a:lnTo>
                      <a:pt x="952" y="963"/>
                    </a:lnTo>
                    <a:lnTo>
                      <a:pt x="953" y="961"/>
                    </a:lnTo>
                    <a:lnTo>
                      <a:pt x="955" y="960"/>
                    </a:lnTo>
                    <a:lnTo>
                      <a:pt x="957" y="959"/>
                    </a:lnTo>
                    <a:lnTo>
                      <a:pt x="959" y="958"/>
                    </a:lnTo>
                    <a:lnTo>
                      <a:pt x="961" y="958"/>
                    </a:lnTo>
                    <a:lnTo>
                      <a:pt x="963" y="959"/>
                    </a:lnTo>
                    <a:lnTo>
                      <a:pt x="966" y="960"/>
                    </a:lnTo>
                    <a:lnTo>
                      <a:pt x="967" y="961"/>
                    </a:lnTo>
                    <a:lnTo>
                      <a:pt x="968" y="963"/>
                    </a:lnTo>
                    <a:lnTo>
                      <a:pt x="968" y="965"/>
                    </a:lnTo>
                    <a:lnTo>
                      <a:pt x="983" y="965"/>
                    </a:lnTo>
                    <a:lnTo>
                      <a:pt x="983" y="963"/>
                    </a:lnTo>
                    <a:lnTo>
                      <a:pt x="984" y="962"/>
                    </a:lnTo>
                    <a:lnTo>
                      <a:pt x="986" y="961"/>
                    </a:lnTo>
                    <a:lnTo>
                      <a:pt x="987" y="961"/>
                    </a:lnTo>
                    <a:lnTo>
                      <a:pt x="989" y="961"/>
                    </a:lnTo>
                    <a:lnTo>
                      <a:pt x="991" y="962"/>
                    </a:lnTo>
                    <a:lnTo>
                      <a:pt x="991" y="963"/>
                    </a:lnTo>
                    <a:lnTo>
                      <a:pt x="992" y="965"/>
                    </a:lnTo>
                    <a:lnTo>
                      <a:pt x="1007" y="965"/>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4453560" y="25689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nvGrpSpPr>
              <p:cNvPr id="1046" name=""/>
              <p:cNvGrpSpPr/>
              <p:nvPr/>
            </p:nvGrpSpPr>
            <p:grpSpPr>
              <a:xfrm>
                <a:off x="3675240" y="2099160"/>
                <a:ext cx="4825800" cy="3414960"/>
                <a:chOff x="3675240" y="2099160"/>
                <a:chExt cx="4825800" cy="3414960"/>
              </a:xfrm>
            </p:grpSpPr>
            <p:sp>
              <p:nvSpPr>
                <p:cNvPr id="1047" name=""/>
                <p:cNvSpPr/>
                <p:nvPr/>
              </p:nvSpPr>
              <p:spPr>
                <a:xfrm>
                  <a:off x="4503960" y="2690640"/>
                  <a:ext cx="1021680" cy="1093680"/>
                </a:xfrm>
                <a:custGeom>
                  <a:avLst/>
                  <a:gdLst/>
                  <a:ahLst/>
                  <a:rect l="l" t="t" r="r" b="b"/>
                  <a:pathLst>
                    <a:path w="965" h="819">
                      <a:moveTo>
                        <a:pt x="0" y="4"/>
                      </a:moveTo>
                      <a:lnTo>
                        <a:pt x="17" y="4"/>
                      </a:lnTo>
                      <a:lnTo>
                        <a:pt x="18" y="2"/>
                      </a:lnTo>
                      <a:lnTo>
                        <a:pt x="19" y="1"/>
                      </a:lnTo>
                      <a:lnTo>
                        <a:pt x="20" y="1"/>
                      </a:lnTo>
                      <a:lnTo>
                        <a:pt x="22" y="0"/>
                      </a:lnTo>
                      <a:lnTo>
                        <a:pt x="23" y="1"/>
                      </a:lnTo>
                      <a:lnTo>
                        <a:pt x="25" y="1"/>
                      </a:lnTo>
                      <a:lnTo>
                        <a:pt x="26" y="2"/>
                      </a:lnTo>
                      <a:lnTo>
                        <a:pt x="26" y="4"/>
                      </a:lnTo>
                      <a:lnTo>
                        <a:pt x="77" y="4"/>
                      </a:lnTo>
                      <a:lnTo>
                        <a:pt x="77" y="2"/>
                      </a:lnTo>
                      <a:lnTo>
                        <a:pt x="78" y="1"/>
                      </a:lnTo>
                      <a:lnTo>
                        <a:pt x="80" y="1"/>
                      </a:lnTo>
                      <a:lnTo>
                        <a:pt x="81" y="0"/>
                      </a:lnTo>
                      <a:lnTo>
                        <a:pt x="83" y="1"/>
                      </a:lnTo>
                      <a:lnTo>
                        <a:pt x="85" y="1"/>
                      </a:lnTo>
                      <a:lnTo>
                        <a:pt x="86" y="2"/>
                      </a:lnTo>
                      <a:lnTo>
                        <a:pt x="86" y="4"/>
                      </a:lnTo>
                      <a:lnTo>
                        <a:pt x="112" y="4"/>
                      </a:lnTo>
                      <a:lnTo>
                        <a:pt x="112" y="73"/>
                      </a:lnTo>
                      <a:lnTo>
                        <a:pt x="118" y="73"/>
                      </a:lnTo>
                      <a:lnTo>
                        <a:pt x="118" y="72"/>
                      </a:lnTo>
                      <a:lnTo>
                        <a:pt x="119" y="71"/>
                      </a:lnTo>
                      <a:lnTo>
                        <a:pt x="120" y="70"/>
                      </a:lnTo>
                      <a:lnTo>
                        <a:pt x="122" y="70"/>
                      </a:lnTo>
                      <a:lnTo>
                        <a:pt x="124" y="70"/>
                      </a:lnTo>
                      <a:lnTo>
                        <a:pt x="125" y="71"/>
                      </a:lnTo>
                      <a:lnTo>
                        <a:pt x="126" y="72"/>
                      </a:lnTo>
                      <a:lnTo>
                        <a:pt x="126" y="73"/>
                      </a:lnTo>
                      <a:lnTo>
                        <a:pt x="133" y="73"/>
                      </a:lnTo>
                      <a:lnTo>
                        <a:pt x="133" y="72"/>
                      </a:lnTo>
                      <a:lnTo>
                        <a:pt x="134" y="71"/>
                      </a:lnTo>
                      <a:lnTo>
                        <a:pt x="136" y="70"/>
                      </a:lnTo>
                      <a:lnTo>
                        <a:pt x="137" y="70"/>
                      </a:lnTo>
                      <a:lnTo>
                        <a:pt x="139" y="70"/>
                      </a:lnTo>
                      <a:lnTo>
                        <a:pt x="141" y="71"/>
                      </a:lnTo>
                      <a:lnTo>
                        <a:pt x="141" y="72"/>
                      </a:lnTo>
                      <a:lnTo>
                        <a:pt x="142" y="73"/>
                      </a:lnTo>
                      <a:lnTo>
                        <a:pt x="142" y="73"/>
                      </a:lnTo>
                      <a:lnTo>
                        <a:pt x="143" y="72"/>
                      </a:lnTo>
                      <a:lnTo>
                        <a:pt x="144" y="71"/>
                      </a:lnTo>
                      <a:lnTo>
                        <a:pt x="145" y="70"/>
                      </a:lnTo>
                      <a:lnTo>
                        <a:pt x="147" y="70"/>
                      </a:lnTo>
                      <a:lnTo>
                        <a:pt x="148" y="70"/>
                      </a:lnTo>
                      <a:lnTo>
                        <a:pt x="150" y="71"/>
                      </a:lnTo>
                      <a:lnTo>
                        <a:pt x="151" y="72"/>
                      </a:lnTo>
                      <a:lnTo>
                        <a:pt x="151" y="73"/>
                      </a:lnTo>
                      <a:lnTo>
                        <a:pt x="160" y="73"/>
                      </a:lnTo>
                      <a:lnTo>
                        <a:pt x="161" y="72"/>
                      </a:lnTo>
                      <a:lnTo>
                        <a:pt x="162" y="71"/>
                      </a:lnTo>
                      <a:lnTo>
                        <a:pt x="163" y="70"/>
                      </a:lnTo>
                      <a:lnTo>
                        <a:pt x="165" y="70"/>
                      </a:lnTo>
                      <a:lnTo>
                        <a:pt x="167" y="70"/>
                      </a:lnTo>
                      <a:lnTo>
                        <a:pt x="168" y="71"/>
                      </a:lnTo>
                      <a:lnTo>
                        <a:pt x="169" y="72"/>
                      </a:lnTo>
                      <a:lnTo>
                        <a:pt x="169" y="73"/>
                      </a:lnTo>
                      <a:lnTo>
                        <a:pt x="180" y="73"/>
                      </a:lnTo>
                      <a:lnTo>
                        <a:pt x="181" y="72"/>
                      </a:lnTo>
                      <a:lnTo>
                        <a:pt x="181" y="71"/>
                      </a:lnTo>
                      <a:lnTo>
                        <a:pt x="183" y="70"/>
                      </a:lnTo>
                      <a:lnTo>
                        <a:pt x="185" y="70"/>
                      </a:lnTo>
                      <a:lnTo>
                        <a:pt x="186" y="70"/>
                      </a:lnTo>
                      <a:lnTo>
                        <a:pt x="188" y="71"/>
                      </a:lnTo>
                      <a:lnTo>
                        <a:pt x="189" y="72"/>
                      </a:lnTo>
                      <a:lnTo>
                        <a:pt x="189" y="73"/>
                      </a:lnTo>
                      <a:lnTo>
                        <a:pt x="370" y="73"/>
                      </a:lnTo>
                      <a:lnTo>
                        <a:pt x="370" y="72"/>
                      </a:lnTo>
                      <a:lnTo>
                        <a:pt x="371" y="71"/>
                      </a:lnTo>
                      <a:lnTo>
                        <a:pt x="373" y="70"/>
                      </a:lnTo>
                      <a:lnTo>
                        <a:pt x="375" y="70"/>
                      </a:lnTo>
                      <a:lnTo>
                        <a:pt x="376" y="70"/>
                      </a:lnTo>
                      <a:lnTo>
                        <a:pt x="378" y="71"/>
                      </a:lnTo>
                      <a:lnTo>
                        <a:pt x="379" y="72"/>
                      </a:lnTo>
                      <a:lnTo>
                        <a:pt x="379" y="73"/>
                      </a:lnTo>
                      <a:lnTo>
                        <a:pt x="457" y="73"/>
                      </a:lnTo>
                      <a:lnTo>
                        <a:pt x="458" y="72"/>
                      </a:lnTo>
                      <a:lnTo>
                        <a:pt x="459" y="71"/>
                      </a:lnTo>
                      <a:lnTo>
                        <a:pt x="460" y="70"/>
                      </a:lnTo>
                      <a:lnTo>
                        <a:pt x="462" y="70"/>
                      </a:lnTo>
                      <a:lnTo>
                        <a:pt x="463" y="70"/>
                      </a:lnTo>
                      <a:lnTo>
                        <a:pt x="465" y="71"/>
                      </a:lnTo>
                      <a:lnTo>
                        <a:pt x="466" y="72"/>
                      </a:lnTo>
                      <a:lnTo>
                        <a:pt x="466" y="73"/>
                      </a:lnTo>
                      <a:lnTo>
                        <a:pt x="497" y="73"/>
                      </a:lnTo>
                      <a:lnTo>
                        <a:pt x="497" y="72"/>
                      </a:lnTo>
                      <a:lnTo>
                        <a:pt x="498" y="71"/>
                      </a:lnTo>
                      <a:lnTo>
                        <a:pt x="500" y="70"/>
                      </a:lnTo>
                      <a:lnTo>
                        <a:pt x="501" y="70"/>
                      </a:lnTo>
                      <a:lnTo>
                        <a:pt x="503" y="70"/>
                      </a:lnTo>
                      <a:lnTo>
                        <a:pt x="504" y="71"/>
                      </a:lnTo>
                      <a:lnTo>
                        <a:pt x="505" y="72"/>
                      </a:lnTo>
                      <a:lnTo>
                        <a:pt x="506" y="73"/>
                      </a:lnTo>
                      <a:lnTo>
                        <a:pt x="510" y="73"/>
                      </a:lnTo>
                      <a:lnTo>
                        <a:pt x="511" y="72"/>
                      </a:lnTo>
                      <a:lnTo>
                        <a:pt x="512" y="71"/>
                      </a:lnTo>
                      <a:lnTo>
                        <a:pt x="513" y="70"/>
                      </a:lnTo>
                      <a:lnTo>
                        <a:pt x="515" y="70"/>
                      </a:lnTo>
                      <a:lnTo>
                        <a:pt x="516" y="70"/>
                      </a:lnTo>
                      <a:lnTo>
                        <a:pt x="518" y="71"/>
                      </a:lnTo>
                      <a:lnTo>
                        <a:pt x="519" y="72"/>
                      </a:lnTo>
                      <a:lnTo>
                        <a:pt x="519" y="73"/>
                      </a:lnTo>
                      <a:lnTo>
                        <a:pt x="545" y="73"/>
                      </a:lnTo>
                      <a:lnTo>
                        <a:pt x="545" y="72"/>
                      </a:lnTo>
                      <a:lnTo>
                        <a:pt x="546" y="71"/>
                      </a:lnTo>
                      <a:lnTo>
                        <a:pt x="547" y="70"/>
                      </a:lnTo>
                      <a:lnTo>
                        <a:pt x="549" y="70"/>
                      </a:lnTo>
                      <a:lnTo>
                        <a:pt x="551" y="70"/>
                      </a:lnTo>
                      <a:lnTo>
                        <a:pt x="552" y="71"/>
                      </a:lnTo>
                      <a:lnTo>
                        <a:pt x="553" y="72"/>
                      </a:lnTo>
                      <a:lnTo>
                        <a:pt x="554" y="73"/>
                      </a:lnTo>
                      <a:lnTo>
                        <a:pt x="560" y="73"/>
                      </a:lnTo>
                      <a:lnTo>
                        <a:pt x="560" y="72"/>
                      </a:lnTo>
                      <a:lnTo>
                        <a:pt x="561" y="70"/>
                      </a:lnTo>
                      <a:lnTo>
                        <a:pt x="563" y="69"/>
                      </a:lnTo>
                      <a:lnTo>
                        <a:pt x="565" y="68"/>
                      </a:lnTo>
                      <a:lnTo>
                        <a:pt x="567" y="68"/>
                      </a:lnTo>
                      <a:lnTo>
                        <a:pt x="569" y="68"/>
                      </a:lnTo>
                      <a:lnTo>
                        <a:pt x="571" y="69"/>
                      </a:lnTo>
                      <a:lnTo>
                        <a:pt x="572" y="70"/>
                      </a:lnTo>
                      <a:lnTo>
                        <a:pt x="573" y="72"/>
                      </a:lnTo>
                      <a:lnTo>
                        <a:pt x="573" y="73"/>
                      </a:lnTo>
                      <a:lnTo>
                        <a:pt x="580" y="73"/>
                      </a:lnTo>
                      <a:lnTo>
                        <a:pt x="581" y="72"/>
                      </a:lnTo>
                      <a:lnTo>
                        <a:pt x="582" y="71"/>
                      </a:lnTo>
                      <a:lnTo>
                        <a:pt x="583" y="70"/>
                      </a:lnTo>
                      <a:lnTo>
                        <a:pt x="585" y="70"/>
                      </a:lnTo>
                      <a:lnTo>
                        <a:pt x="587" y="70"/>
                      </a:lnTo>
                      <a:lnTo>
                        <a:pt x="588" y="71"/>
                      </a:lnTo>
                      <a:lnTo>
                        <a:pt x="589" y="72"/>
                      </a:lnTo>
                      <a:lnTo>
                        <a:pt x="589" y="73"/>
                      </a:lnTo>
                      <a:lnTo>
                        <a:pt x="602" y="73"/>
                      </a:lnTo>
                      <a:lnTo>
                        <a:pt x="603" y="72"/>
                      </a:lnTo>
                      <a:lnTo>
                        <a:pt x="604" y="71"/>
                      </a:lnTo>
                      <a:lnTo>
                        <a:pt x="605" y="70"/>
                      </a:lnTo>
                      <a:lnTo>
                        <a:pt x="607" y="70"/>
                      </a:lnTo>
                      <a:lnTo>
                        <a:pt x="608" y="70"/>
                      </a:lnTo>
                      <a:lnTo>
                        <a:pt x="610" y="71"/>
                      </a:lnTo>
                      <a:lnTo>
                        <a:pt x="611" y="72"/>
                      </a:lnTo>
                      <a:lnTo>
                        <a:pt x="611" y="73"/>
                      </a:lnTo>
                      <a:lnTo>
                        <a:pt x="654" y="73"/>
                      </a:lnTo>
                      <a:lnTo>
                        <a:pt x="654" y="72"/>
                      </a:lnTo>
                      <a:lnTo>
                        <a:pt x="655" y="71"/>
                      </a:lnTo>
                      <a:lnTo>
                        <a:pt x="656" y="70"/>
                      </a:lnTo>
                      <a:lnTo>
                        <a:pt x="658" y="70"/>
                      </a:lnTo>
                      <a:lnTo>
                        <a:pt x="660" y="70"/>
                      </a:lnTo>
                      <a:lnTo>
                        <a:pt x="661" y="71"/>
                      </a:lnTo>
                      <a:lnTo>
                        <a:pt x="662" y="72"/>
                      </a:lnTo>
                      <a:lnTo>
                        <a:pt x="663" y="73"/>
                      </a:lnTo>
                      <a:lnTo>
                        <a:pt x="768" y="73"/>
                      </a:lnTo>
                      <a:lnTo>
                        <a:pt x="768" y="72"/>
                      </a:lnTo>
                      <a:lnTo>
                        <a:pt x="769" y="71"/>
                      </a:lnTo>
                      <a:lnTo>
                        <a:pt x="770" y="70"/>
                      </a:lnTo>
                      <a:lnTo>
                        <a:pt x="772" y="70"/>
                      </a:lnTo>
                      <a:lnTo>
                        <a:pt x="774" y="70"/>
                      </a:lnTo>
                      <a:lnTo>
                        <a:pt x="775" y="71"/>
                      </a:lnTo>
                      <a:lnTo>
                        <a:pt x="776" y="72"/>
                      </a:lnTo>
                      <a:lnTo>
                        <a:pt x="776" y="73"/>
                      </a:lnTo>
                      <a:lnTo>
                        <a:pt x="784" y="73"/>
                      </a:lnTo>
                      <a:lnTo>
                        <a:pt x="784" y="72"/>
                      </a:lnTo>
                      <a:lnTo>
                        <a:pt x="785" y="71"/>
                      </a:lnTo>
                      <a:lnTo>
                        <a:pt x="786" y="70"/>
                      </a:lnTo>
                      <a:lnTo>
                        <a:pt x="788" y="70"/>
                      </a:lnTo>
                      <a:lnTo>
                        <a:pt x="790" y="70"/>
                      </a:lnTo>
                      <a:lnTo>
                        <a:pt x="791" y="71"/>
                      </a:lnTo>
                      <a:lnTo>
                        <a:pt x="792" y="72"/>
                      </a:lnTo>
                      <a:lnTo>
                        <a:pt x="793" y="73"/>
                      </a:lnTo>
                      <a:lnTo>
                        <a:pt x="841" y="73"/>
                      </a:lnTo>
                      <a:lnTo>
                        <a:pt x="841" y="819"/>
                      </a:lnTo>
                      <a:lnTo>
                        <a:pt x="857" y="819"/>
                      </a:lnTo>
                      <a:lnTo>
                        <a:pt x="857" y="818"/>
                      </a:lnTo>
                      <a:lnTo>
                        <a:pt x="858" y="817"/>
                      </a:lnTo>
                      <a:lnTo>
                        <a:pt x="860" y="816"/>
                      </a:lnTo>
                      <a:lnTo>
                        <a:pt x="861" y="816"/>
                      </a:lnTo>
                      <a:lnTo>
                        <a:pt x="863" y="816"/>
                      </a:lnTo>
                      <a:lnTo>
                        <a:pt x="864" y="817"/>
                      </a:lnTo>
                      <a:lnTo>
                        <a:pt x="866" y="818"/>
                      </a:lnTo>
                      <a:lnTo>
                        <a:pt x="866" y="819"/>
                      </a:lnTo>
                      <a:lnTo>
                        <a:pt x="868" y="819"/>
                      </a:lnTo>
                      <a:lnTo>
                        <a:pt x="868" y="818"/>
                      </a:lnTo>
                      <a:lnTo>
                        <a:pt x="869" y="817"/>
                      </a:lnTo>
                      <a:lnTo>
                        <a:pt x="871" y="816"/>
                      </a:lnTo>
                      <a:lnTo>
                        <a:pt x="872" y="816"/>
                      </a:lnTo>
                      <a:lnTo>
                        <a:pt x="874" y="816"/>
                      </a:lnTo>
                      <a:lnTo>
                        <a:pt x="876" y="817"/>
                      </a:lnTo>
                      <a:lnTo>
                        <a:pt x="877" y="818"/>
                      </a:lnTo>
                      <a:lnTo>
                        <a:pt x="877" y="819"/>
                      </a:lnTo>
                      <a:lnTo>
                        <a:pt x="877" y="819"/>
                      </a:lnTo>
                      <a:lnTo>
                        <a:pt x="878" y="818"/>
                      </a:lnTo>
                      <a:lnTo>
                        <a:pt x="879" y="817"/>
                      </a:lnTo>
                      <a:lnTo>
                        <a:pt x="880" y="816"/>
                      </a:lnTo>
                      <a:lnTo>
                        <a:pt x="882" y="816"/>
                      </a:lnTo>
                      <a:lnTo>
                        <a:pt x="884" y="816"/>
                      </a:lnTo>
                      <a:lnTo>
                        <a:pt x="885" y="817"/>
                      </a:lnTo>
                      <a:lnTo>
                        <a:pt x="886" y="818"/>
                      </a:lnTo>
                      <a:lnTo>
                        <a:pt x="886" y="819"/>
                      </a:lnTo>
                      <a:lnTo>
                        <a:pt x="888" y="819"/>
                      </a:lnTo>
                      <a:lnTo>
                        <a:pt x="889" y="817"/>
                      </a:lnTo>
                      <a:lnTo>
                        <a:pt x="890" y="815"/>
                      </a:lnTo>
                      <a:lnTo>
                        <a:pt x="891" y="814"/>
                      </a:lnTo>
                      <a:lnTo>
                        <a:pt x="893" y="813"/>
                      </a:lnTo>
                      <a:lnTo>
                        <a:pt x="896" y="812"/>
                      </a:lnTo>
                      <a:lnTo>
                        <a:pt x="898" y="812"/>
                      </a:lnTo>
                      <a:lnTo>
                        <a:pt x="900" y="813"/>
                      </a:lnTo>
                      <a:lnTo>
                        <a:pt x="903" y="814"/>
                      </a:lnTo>
                      <a:lnTo>
                        <a:pt x="904" y="815"/>
                      </a:lnTo>
                      <a:lnTo>
                        <a:pt x="905" y="817"/>
                      </a:lnTo>
                      <a:lnTo>
                        <a:pt x="906" y="819"/>
                      </a:lnTo>
                      <a:lnTo>
                        <a:pt x="910" y="819"/>
                      </a:lnTo>
                      <a:lnTo>
                        <a:pt x="910" y="817"/>
                      </a:lnTo>
                      <a:lnTo>
                        <a:pt x="911" y="816"/>
                      </a:lnTo>
                      <a:lnTo>
                        <a:pt x="913" y="814"/>
                      </a:lnTo>
                      <a:lnTo>
                        <a:pt x="915" y="813"/>
                      </a:lnTo>
                      <a:lnTo>
                        <a:pt x="917" y="813"/>
                      </a:lnTo>
                      <a:lnTo>
                        <a:pt x="919" y="813"/>
                      </a:lnTo>
                      <a:lnTo>
                        <a:pt x="921" y="813"/>
                      </a:lnTo>
                      <a:lnTo>
                        <a:pt x="924" y="814"/>
                      </a:lnTo>
                      <a:lnTo>
                        <a:pt x="925" y="816"/>
                      </a:lnTo>
                      <a:lnTo>
                        <a:pt x="926" y="817"/>
                      </a:lnTo>
                      <a:lnTo>
                        <a:pt x="926" y="819"/>
                      </a:lnTo>
                      <a:lnTo>
                        <a:pt x="941" y="819"/>
                      </a:lnTo>
                      <a:lnTo>
                        <a:pt x="941" y="818"/>
                      </a:lnTo>
                      <a:lnTo>
                        <a:pt x="942" y="817"/>
                      </a:lnTo>
                      <a:lnTo>
                        <a:pt x="944" y="816"/>
                      </a:lnTo>
                      <a:lnTo>
                        <a:pt x="945" y="816"/>
                      </a:lnTo>
                      <a:lnTo>
                        <a:pt x="947" y="816"/>
                      </a:lnTo>
                      <a:lnTo>
                        <a:pt x="949" y="817"/>
                      </a:lnTo>
                      <a:lnTo>
                        <a:pt x="949" y="818"/>
                      </a:lnTo>
                      <a:lnTo>
                        <a:pt x="950" y="819"/>
                      </a:lnTo>
                      <a:lnTo>
                        <a:pt x="965" y="8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491360" y="2689200"/>
                  <a:ext cx="13680" cy="1188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49" name=""/>
                <p:cNvSpPr/>
                <p:nvPr/>
              </p:nvSpPr>
              <p:spPr>
                <a:xfrm>
                  <a:off x="4503960" y="2626560"/>
                  <a:ext cx="1607040" cy="881280"/>
                </a:xfrm>
                <a:custGeom>
                  <a:avLst/>
                  <a:gdLst/>
                  <a:ahLst/>
                  <a:rect l="l" t="t" r="r" b="b"/>
                  <a:pathLst>
                    <a:path w="1518" h="660">
                      <a:moveTo>
                        <a:pt x="0" y="3"/>
                      </a:moveTo>
                      <a:lnTo>
                        <a:pt x="17" y="3"/>
                      </a:lnTo>
                      <a:lnTo>
                        <a:pt x="18" y="2"/>
                      </a:lnTo>
                      <a:lnTo>
                        <a:pt x="19" y="1"/>
                      </a:lnTo>
                      <a:lnTo>
                        <a:pt x="20" y="0"/>
                      </a:lnTo>
                      <a:lnTo>
                        <a:pt x="22" y="0"/>
                      </a:lnTo>
                      <a:lnTo>
                        <a:pt x="23" y="0"/>
                      </a:lnTo>
                      <a:lnTo>
                        <a:pt x="25" y="1"/>
                      </a:lnTo>
                      <a:lnTo>
                        <a:pt x="26" y="2"/>
                      </a:lnTo>
                      <a:lnTo>
                        <a:pt x="26" y="3"/>
                      </a:lnTo>
                      <a:lnTo>
                        <a:pt x="77" y="3"/>
                      </a:lnTo>
                      <a:lnTo>
                        <a:pt x="78" y="2"/>
                      </a:lnTo>
                      <a:lnTo>
                        <a:pt x="78" y="1"/>
                      </a:lnTo>
                      <a:lnTo>
                        <a:pt x="80" y="0"/>
                      </a:lnTo>
                      <a:lnTo>
                        <a:pt x="82" y="0"/>
                      </a:lnTo>
                      <a:lnTo>
                        <a:pt x="83" y="0"/>
                      </a:lnTo>
                      <a:lnTo>
                        <a:pt x="85" y="1"/>
                      </a:lnTo>
                      <a:lnTo>
                        <a:pt x="86" y="2"/>
                      </a:lnTo>
                      <a:lnTo>
                        <a:pt x="86" y="3"/>
                      </a:lnTo>
                      <a:lnTo>
                        <a:pt x="118" y="3"/>
                      </a:lnTo>
                      <a:lnTo>
                        <a:pt x="118" y="2"/>
                      </a:lnTo>
                      <a:lnTo>
                        <a:pt x="119" y="1"/>
                      </a:lnTo>
                      <a:lnTo>
                        <a:pt x="120" y="0"/>
                      </a:lnTo>
                      <a:lnTo>
                        <a:pt x="122" y="0"/>
                      </a:lnTo>
                      <a:lnTo>
                        <a:pt x="124" y="0"/>
                      </a:lnTo>
                      <a:lnTo>
                        <a:pt x="125" y="1"/>
                      </a:lnTo>
                      <a:lnTo>
                        <a:pt x="126" y="2"/>
                      </a:lnTo>
                      <a:lnTo>
                        <a:pt x="126" y="3"/>
                      </a:lnTo>
                      <a:lnTo>
                        <a:pt x="127" y="3"/>
                      </a:lnTo>
                      <a:lnTo>
                        <a:pt x="127" y="48"/>
                      </a:lnTo>
                      <a:lnTo>
                        <a:pt x="133" y="48"/>
                      </a:lnTo>
                      <a:lnTo>
                        <a:pt x="133" y="47"/>
                      </a:lnTo>
                      <a:lnTo>
                        <a:pt x="134" y="46"/>
                      </a:lnTo>
                      <a:lnTo>
                        <a:pt x="136" y="45"/>
                      </a:lnTo>
                      <a:lnTo>
                        <a:pt x="137" y="45"/>
                      </a:lnTo>
                      <a:lnTo>
                        <a:pt x="139" y="45"/>
                      </a:lnTo>
                      <a:lnTo>
                        <a:pt x="141" y="46"/>
                      </a:lnTo>
                      <a:lnTo>
                        <a:pt x="141" y="47"/>
                      </a:lnTo>
                      <a:lnTo>
                        <a:pt x="142" y="48"/>
                      </a:lnTo>
                      <a:lnTo>
                        <a:pt x="142" y="48"/>
                      </a:lnTo>
                      <a:lnTo>
                        <a:pt x="143" y="47"/>
                      </a:lnTo>
                      <a:lnTo>
                        <a:pt x="144" y="46"/>
                      </a:lnTo>
                      <a:lnTo>
                        <a:pt x="145" y="45"/>
                      </a:lnTo>
                      <a:lnTo>
                        <a:pt x="147" y="45"/>
                      </a:lnTo>
                      <a:lnTo>
                        <a:pt x="148" y="45"/>
                      </a:lnTo>
                      <a:lnTo>
                        <a:pt x="150" y="46"/>
                      </a:lnTo>
                      <a:lnTo>
                        <a:pt x="151" y="47"/>
                      </a:lnTo>
                      <a:lnTo>
                        <a:pt x="151" y="48"/>
                      </a:lnTo>
                      <a:lnTo>
                        <a:pt x="160" y="48"/>
                      </a:lnTo>
                      <a:lnTo>
                        <a:pt x="161" y="47"/>
                      </a:lnTo>
                      <a:lnTo>
                        <a:pt x="162" y="46"/>
                      </a:lnTo>
                      <a:lnTo>
                        <a:pt x="163" y="45"/>
                      </a:lnTo>
                      <a:lnTo>
                        <a:pt x="165" y="45"/>
                      </a:lnTo>
                      <a:lnTo>
                        <a:pt x="167" y="45"/>
                      </a:lnTo>
                      <a:lnTo>
                        <a:pt x="168" y="46"/>
                      </a:lnTo>
                      <a:lnTo>
                        <a:pt x="169" y="47"/>
                      </a:lnTo>
                      <a:lnTo>
                        <a:pt x="169" y="48"/>
                      </a:lnTo>
                      <a:lnTo>
                        <a:pt x="180" y="48"/>
                      </a:lnTo>
                      <a:lnTo>
                        <a:pt x="181" y="47"/>
                      </a:lnTo>
                      <a:lnTo>
                        <a:pt x="181" y="46"/>
                      </a:lnTo>
                      <a:lnTo>
                        <a:pt x="183" y="45"/>
                      </a:lnTo>
                      <a:lnTo>
                        <a:pt x="185" y="45"/>
                      </a:lnTo>
                      <a:lnTo>
                        <a:pt x="186" y="45"/>
                      </a:lnTo>
                      <a:lnTo>
                        <a:pt x="188" y="46"/>
                      </a:lnTo>
                      <a:lnTo>
                        <a:pt x="189" y="47"/>
                      </a:lnTo>
                      <a:lnTo>
                        <a:pt x="189" y="48"/>
                      </a:lnTo>
                      <a:lnTo>
                        <a:pt x="457" y="48"/>
                      </a:lnTo>
                      <a:lnTo>
                        <a:pt x="458" y="47"/>
                      </a:lnTo>
                      <a:lnTo>
                        <a:pt x="459" y="46"/>
                      </a:lnTo>
                      <a:lnTo>
                        <a:pt x="460" y="45"/>
                      </a:lnTo>
                      <a:lnTo>
                        <a:pt x="462" y="45"/>
                      </a:lnTo>
                      <a:lnTo>
                        <a:pt x="463" y="45"/>
                      </a:lnTo>
                      <a:lnTo>
                        <a:pt x="465" y="46"/>
                      </a:lnTo>
                      <a:lnTo>
                        <a:pt x="466" y="47"/>
                      </a:lnTo>
                      <a:lnTo>
                        <a:pt x="466" y="48"/>
                      </a:lnTo>
                      <a:lnTo>
                        <a:pt x="497" y="48"/>
                      </a:lnTo>
                      <a:lnTo>
                        <a:pt x="497" y="47"/>
                      </a:lnTo>
                      <a:lnTo>
                        <a:pt x="498" y="46"/>
                      </a:lnTo>
                      <a:lnTo>
                        <a:pt x="500" y="45"/>
                      </a:lnTo>
                      <a:lnTo>
                        <a:pt x="501" y="45"/>
                      </a:lnTo>
                      <a:lnTo>
                        <a:pt x="503" y="45"/>
                      </a:lnTo>
                      <a:lnTo>
                        <a:pt x="504" y="46"/>
                      </a:lnTo>
                      <a:lnTo>
                        <a:pt x="505" y="47"/>
                      </a:lnTo>
                      <a:lnTo>
                        <a:pt x="506" y="48"/>
                      </a:lnTo>
                      <a:lnTo>
                        <a:pt x="510" y="48"/>
                      </a:lnTo>
                      <a:lnTo>
                        <a:pt x="511" y="47"/>
                      </a:lnTo>
                      <a:lnTo>
                        <a:pt x="512" y="46"/>
                      </a:lnTo>
                      <a:lnTo>
                        <a:pt x="513" y="45"/>
                      </a:lnTo>
                      <a:lnTo>
                        <a:pt x="515" y="45"/>
                      </a:lnTo>
                      <a:lnTo>
                        <a:pt x="516" y="45"/>
                      </a:lnTo>
                      <a:lnTo>
                        <a:pt x="518" y="46"/>
                      </a:lnTo>
                      <a:lnTo>
                        <a:pt x="519" y="47"/>
                      </a:lnTo>
                      <a:lnTo>
                        <a:pt x="519" y="48"/>
                      </a:lnTo>
                      <a:lnTo>
                        <a:pt x="545" y="48"/>
                      </a:lnTo>
                      <a:lnTo>
                        <a:pt x="545" y="47"/>
                      </a:lnTo>
                      <a:lnTo>
                        <a:pt x="546" y="46"/>
                      </a:lnTo>
                      <a:lnTo>
                        <a:pt x="547" y="45"/>
                      </a:lnTo>
                      <a:lnTo>
                        <a:pt x="549" y="45"/>
                      </a:lnTo>
                      <a:lnTo>
                        <a:pt x="551" y="45"/>
                      </a:lnTo>
                      <a:lnTo>
                        <a:pt x="552" y="46"/>
                      </a:lnTo>
                      <a:lnTo>
                        <a:pt x="553" y="47"/>
                      </a:lnTo>
                      <a:lnTo>
                        <a:pt x="554" y="48"/>
                      </a:lnTo>
                      <a:lnTo>
                        <a:pt x="560" y="48"/>
                      </a:lnTo>
                      <a:lnTo>
                        <a:pt x="560" y="47"/>
                      </a:lnTo>
                      <a:lnTo>
                        <a:pt x="561" y="46"/>
                      </a:lnTo>
                      <a:lnTo>
                        <a:pt x="563" y="45"/>
                      </a:lnTo>
                      <a:lnTo>
                        <a:pt x="565" y="45"/>
                      </a:lnTo>
                      <a:lnTo>
                        <a:pt x="566" y="45"/>
                      </a:lnTo>
                      <a:lnTo>
                        <a:pt x="568" y="46"/>
                      </a:lnTo>
                      <a:lnTo>
                        <a:pt x="569" y="47"/>
                      </a:lnTo>
                      <a:lnTo>
                        <a:pt x="569" y="48"/>
                      </a:lnTo>
                      <a:lnTo>
                        <a:pt x="607" y="48"/>
                      </a:lnTo>
                      <a:lnTo>
                        <a:pt x="607" y="417"/>
                      </a:lnTo>
                      <a:lnTo>
                        <a:pt x="621" y="417"/>
                      </a:lnTo>
                      <a:lnTo>
                        <a:pt x="621" y="415"/>
                      </a:lnTo>
                      <a:lnTo>
                        <a:pt x="622" y="414"/>
                      </a:lnTo>
                      <a:lnTo>
                        <a:pt x="624" y="413"/>
                      </a:lnTo>
                      <a:lnTo>
                        <a:pt x="625" y="413"/>
                      </a:lnTo>
                      <a:lnTo>
                        <a:pt x="627" y="413"/>
                      </a:lnTo>
                      <a:lnTo>
                        <a:pt x="628" y="414"/>
                      </a:lnTo>
                      <a:lnTo>
                        <a:pt x="629" y="415"/>
                      </a:lnTo>
                      <a:lnTo>
                        <a:pt x="630" y="417"/>
                      </a:lnTo>
                      <a:lnTo>
                        <a:pt x="636" y="417"/>
                      </a:lnTo>
                      <a:lnTo>
                        <a:pt x="636" y="415"/>
                      </a:lnTo>
                      <a:lnTo>
                        <a:pt x="637" y="414"/>
                      </a:lnTo>
                      <a:lnTo>
                        <a:pt x="639" y="413"/>
                      </a:lnTo>
                      <a:lnTo>
                        <a:pt x="641" y="413"/>
                      </a:lnTo>
                      <a:lnTo>
                        <a:pt x="642" y="413"/>
                      </a:lnTo>
                      <a:lnTo>
                        <a:pt x="644" y="414"/>
                      </a:lnTo>
                      <a:lnTo>
                        <a:pt x="645" y="415"/>
                      </a:lnTo>
                      <a:lnTo>
                        <a:pt x="645" y="417"/>
                      </a:lnTo>
                      <a:lnTo>
                        <a:pt x="654" y="417"/>
                      </a:lnTo>
                      <a:lnTo>
                        <a:pt x="654" y="415"/>
                      </a:lnTo>
                      <a:lnTo>
                        <a:pt x="655" y="414"/>
                      </a:lnTo>
                      <a:lnTo>
                        <a:pt x="656" y="413"/>
                      </a:lnTo>
                      <a:lnTo>
                        <a:pt x="658" y="413"/>
                      </a:lnTo>
                      <a:lnTo>
                        <a:pt x="660" y="413"/>
                      </a:lnTo>
                      <a:lnTo>
                        <a:pt x="661" y="414"/>
                      </a:lnTo>
                      <a:lnTo>
                        <a:pt x="662" y="415"/>
                      </a:lnTo>
                      <a:lnTo>
                        <a:pt x="663" y="417"/>
                      </a:lnTo>
                      <a:lnTo>
                        <a:pt x="683" y="417"/>
                      </a:lnTo>
                      <a:lnTo>
                        <a:pt x="683" y="415"/>
                      </a:lnTo>
                      <a:lnTo>
                        <a:pt x="684" y="414"/>
                      </a:lnTo>
                      <a:lnTo>
                        <a:pt x="686" y="413"/>
                      </a:lnTo>
                      <a:lnTo>
                        <a:pt x="688" y="413"/>
                      </a:lnTo>
                      <a:lnTo>
                        <a:pt x="689" y="413"/>
                      </a:lnTo>
                      <a:lnTo>
                        <a:pt x="691" y="414"/>
                      </a:lnTo>
                      <a:lnTo>
                        <a:pt x="692" y="415"/>
                      </a:lnTo>
                      <a:lnTo>
                        <a:pt x="692" y="417"/>
                      </a:lnTo>
                      <a:lnTo>
                        <a:pt x="771" y="417"/>
                      </a:lnTo>
                      <a:lnTo>
                        <a:pt x="771" y="415"/>
                      </a:lnTo>
                      <a:lnTo>
                        <a:pt x="772" y="414"/>
                      </a:lnTo>
                      <a:lnTo>
                        <a:pt x="774" y="413"/>
                      </a:lnTo>
                      <a:lnTo>
                        <a:pt x="776" y="413"/>
                      </a:lnTo>
                      <a:lnTo>
                        <a:pt x="777" y="413"/>
                      </a:lnTo>
                      <a:lnTo>
                        <a:pt x="779" y="414"/>
                      </a:lnTo>
                      <a:lnTo>
                        <a:pt x="780" y="415"/>
                      </a:lnTo>
                      <a:lnTo>
                        <a:pt x="780" y="417"/>
                      </a:lnTo>
                      <a:lnTo>
                        <a:pt x="799" y="417"/>
                      </a:lnTo>
                      <a:lnTo>
                        <a:pt x="799" y="415"/>
                      </a:lnTo>
                      <a:lnTo>
                        <a:pt x="800" y="414"/>
                      </a:lnTo>
                      <a:lnTo>
                        <a:pt x="802" y="413"/>
                      </a:lnTo>
                      <a:lnTo>
                        <a:pt x="804" y="413"/>
                      </a:lnTo>
                      <a:lnTo>
                        <a:pt x="805" y="413"/>
                      </a:lnTo>
                      <a:lnTo>
                        <a:pt x="807" y="414"/>
                      </a:lnTo>
                      <a:lnTo>
                        <a:pt x="808" y="415"/>
                      </a:lnTo>
                      <a:lnTo>
                        <a:pt x="808" y="417"/>
                      </a:lnTo>
                      <a:lnTo>
                        <a:pt x="837" y="417"/>
                      </a:lnTo>
                      <a:lnTo>
                        <a:pt x="837" y="415"/>
                      </a:lnTo>
                      <a:lnTo>
                        <a:pt x="838" y="414"/>
                      </a:lnTo>
                      <a:lnTo>
                        <a:pt x="840" y="413"/>
                      </a:lnTo>
                      <a:lnTo>
                        <a:pt x="842" y="413"/>
                      </a:lnTo>
                      <a:lnTo>
                        <a:pt x="843" y="413"/>
                      </a:lnTo>
                      <a:lnTo>
                        <a:pt x="845" y="414"/>
                      </a:lnTo>
                      <a:lnTo>
                        <a:pt x="846" y="415"/>
                      </a:lnTo>
                      <a:lnTo>
                        <a:pt x="846" y="417"/>
                      </a:lnTo>
                      <a:lnTo>
                        <a:pt x="857" y="417"/>
                      </a:lnTo>
                      <a:lnTo>
                        <a:pt x="857" y="415"/>
                      </a:lnTo>
                      <a:lnTo>
                        <a:pt x="858" y="414"/>
                      </a:lnTo>
                      <a:lnTo>
                        <a:pt x="860" y="413"/>
                      </a:lnTo>
                      <a:lnTo>
                        <a:pt x="861" y="413"/>
                      </a:lnTo>
                      <a:lnTo>
                        <a:pt x="863" y="413"/>
                      </a:lnTo>
                      <a:lnTo>
                        <a:pt x="865" y="414"/>
                      </a:lnTo>
                      <a:lnTo>
                        <a:pt x="866" y="415"/>
                      </a:lnTo>
                      <a:lnTo>
                        <a:pt x="866" y="417"/>
                      </a:lnTo>
                      <a:lnTo>
                        <a:pt x="868" y="417"/>
                      </a:lnTo>
                      <a:lnTo>
                        <a:pt x="868" y="415"/>
                      </a:lnTo>
                      <a:lnTo>
                        <a:pt x="869" y="414"/>
                      </a:lnTo>
                      <a:lnTo>
                        <a:pt x="871" y="413"/>
                      </a:lnTo>
                      <a:lnTo>
                        <a:pt x="872" y="413"/>
                      </a:lnTo>
                      <a:lnTo>
                        <a:pt x="874" y="413"/>
                      </a:lnTo>
                      <a:lnTo>
                        <a:pt x="876" y="414"/>
                      </a:lnTo>
                      <a:lnTo>
                        <a:pt x="877" y="415"/>
                      </a:lnTo>
                      <a:lnTo>
                        <a:pt x="877" y="417"/>
                      </a:lnTo>
                      <a:lnTo>
                        <a:pt x="878" y="417"/>
                      </a:lnTo>
                      <a:lnTo>
                        <a:pt x="878" y="415"/>
                      </a:lnTo>
                      <a:lnTo>
                        <a:pt x="879" y="414"/>
                      </a:lnTo>
                      <a:lnTo>
                        <a:pt x="880" y="413"/>
                      </a:lnTo>
                      <a:lnTo>
                        <a:pt x="882" y="413"/>
                      </a:lnTo>
                      <a:lnTo>
                        <a:pt x="884" y="413"/>
                      </a:lnTo>
                      <a:lnTo>
                        <a:pt x="885" y="414"/>
                      </a:lnTo>
                      <a:lnTo>
                        <a:pt x="886" y="415"/>
                      </a:lnTo>
                      <a:lnTo>
                        <a:pt x="886" y="417"/>
                      </a:lnTo>
                      <a:lnTo>
                        <a:pt x="888" y="417"/>
                      </a:lnTo>
                      <a:lnTo>
                        <a:pt x="889" y="415"/>
                      </a:lnTo>
                      <a:lnTo>
                        <a:pt x="890" y="413"/>
                      </a:lnTo>
                      <a:lnTo>
                        <a:pt x="891" y="412"/>
                      </a:lnTo>
                      <a:lnTo>
                        <a:pt x="893" y="411"/>
                      </a:lnTo>
                      <a:lnTo>
                        <a:pt x="896" y="410"/>
                      </a:lnTo>
                      <a:lnTo>
                        <a:pt x="898" y="410"/>
                      </a:lnTo>
                      <a:lnTo>
                        <a:pt x="900" y="411"/>
                      </a:lnTo>
                      <a:lnTo>
                        <a:pt x="903" y="412"/>
                      </a:lnTo>
                      <a:lnTo>
                        <a:pt x="904" y="413"/>
                      </a:lnTo>
                      <a:lnTo>
                        <a:pt x="905" y="415"/>
                      </a:lnTo>
                      <a:lnTo>
                        <a:pt x="906" y="417"/>
                      </a:lnTo>
                      <a:lnTo>
                        <a:pt x="910" y="417"/>
                      </a:lnTo>
                      <a:lnTo>
                        <a:pt x="910" y="415"/>
                      </a:lnTo>
                      <a:lnTo>
                        <a:pt x="911" y="413"/>
                      </a:lnTo>
                      <a:lnTo>
                        <a:pt x="913" y="412"/>
                      </a:lnTo>
                      <a:lnTo>
                        <a:pt x="915" y="411"/>
                      </a:lnTo>
                      <a:lnTo>
                        <a:pt x="917" y="410"/>
                      </a:lnTo>
                      <a:lnTo>
                        <a:pt x="919" y="410"/>
                      </a:lnTo>
                      <a:lnTo>
                        <a:pt x="922" y="411"/>
                      </a:lnTo>
                      <a:lnTo>
                        <a:pt x="924" y="412"/>
                      </a:lnTo>
                      <a:lnTo>
                        <a:pt x="925" y="413"/>
                      </a:lnTo>
                      <a:lnTo>
                        <a:pt x="926" y="415"/>
                      </a:lnTo>
                      <a:lnTo>
                        <a:pt x="926" y="417"/>
                      </a:lnTo>
                      <a:lnTo>
                        <a:pt x="941" y="417"/>
                      </a:lnTo>
                      <a:lnTo>
                        <a:pt x="941" y="415"/>
                      </a:lnTo>
                      <a:lnTo>
                        <a:pt x="942" y="414"/>
                      </a:lnTo>
                      <a:lnTo>
                        <a:pt x="944" y="413"/>
                      </a:lnTo>
                      <a:lnTo>
                        <a:pt x="945" y="413"/>
                      </a:lnTo>
                      <a:lnTo>
                        <a:pt x="947" y="413"/>
                      </a:lnTo>
                      <a:lnTo>
                        <a:pt x="949" y="414"/>
                      </a:lnTo>
                      <a:lnTo>
                        <a:pt x="949" y="415"/>
                      </a:lnTo>
                      <a:lnTo>
                        <a:pt x="950" y="417"/>
                      </a:lnTo>
                      <a:lnTo>
                        <a:pt x="957" y="417"/>
                      </a:lnTo>
                      <a:lnTo>
                        <a:pt x="957" y="415"/>
                      </a:lnTo>
                      <a:lnTo>
                        <a:pt x="958" y="414"/>
                      </a:lnTo>
                      <a:lnTo>
                        <a:pt x="960" y="413"/>
                      </a:lnTo>
                      <a:lnTo>
                        <a:pt x="961" y="413"/>
                      </a:lnTo>
                      <a:lnTo>
                        <a:pt x="963" y="413"/>
                      </a:lnTo>
                      <a:lnTo>
                        <a:pt x="965" y="414"/>
                      </a:lnTo>
                      <a:lnTo>
                        <a:pt x="965" y="415"/>
                      </a:lnTo>
                      <a:lnTo>
                        <a:pt x="966" y="417"/>
                      </a:lnTo>
                      <a:lnTo>
                        <a:pt x="969" y="417"/>
                      </a:lnTo>
                      <a:lnTo>
                        <a:pt x="969" y="415"/>
                      </a:lnTo>
                      <a:lnTo>
                        <a:pt x="970" y="414"/>
                      </a:lnTo>
                      <a:lnTo>
                        <a:pt x="971" y="413"/>
                      </a:lnTo>
                      <a:lnTo>
                        <a:pt x="973" y="413"/>
                      </a:lnTo>
                      <a:lnTo>
                        <a:pt x="975" y="413"/>
                      </a:lnTo>
                      <a:lnTo>
                        <a:pt x="976" y="414"/>
                      </a:lnTo>
                      <a:lnTo>
                        <a:pt x="977" y="415"/>
                      </a:lnTo>
                      <a:lnTo>
                        <a:pt x="978" y="417"/>
                      </a:lnTo>
                      <a:lnTo>
                        <a:pt x="1214" y="417"/>
                      </a:lnTo>
                      <a:lnTo>
                        <a:pt x="1214" y="415"/>
                      </a:lnTo>
                      <a:lnTo>
                        <a:pt x="1215" y="414"/>
                      </a:lnTo>
                      <a:lnTo>
                        <a:pt x="1216" y="413"/>
                      </a:lnTo>
                      <a:lnTo>
                        <a:pt x="1218" y="413"/>
                      </a:lnTo>
                      <a:lnTo>
                        <a:pt x="1220" y="413"/>
                      </a:lnTo>
                      <a:lnTo>
                        <a:pt x="1221" y="414"/>
                      </a:lnTo>
                      <a:lnTo>
                        <a:pt x="1222" y="415"/>
                      </a:lnTo>
                      <a:lnTo>
                        <a:pt x="1223" y="417"/>
                      </a:lnTo>
                      <a:lnTo>
                        <a:pt x="1227" y="417"/>
                      </a:lnTo>
                      <a:lnTo>
                        <a:pt x="1227" y="415"/>
                      </a:lnTo>
                      <a:lnTo>
                        <a:pt x="1228" y="414"/>
                      </a:lnTo>
                      <a:lnTo>
                        <a:pt x="1230" y="413"/>
                      </a:lnTo>
                      <a:lnTo>
                        <a:pt x="1232" y="412"/>
                      </a:lnTo>
                      <a:lnTo>
                        <a:pt x="1234" y="412"/>
                      </a:lnTo>
                      <a:lnTo>
                        <a:pt x="1236" y="412"/>
                      </a:lnTo>
                      <a:lnTo>
                        <a:pt x="1237" y="413"/>
                      </a:lnTo>
                      <a:lnTo>
                        <a:pt x="1239" y="414"/>
                      </a:lnTo>
                      <a:lnTo>
                        <a:pt x="1240" y="415"/>
                      </a:lnTo>
                      <a:lnTo>
                        <a:pt x="1240" y="417"/>
                      </a:lnTo>
                      <a:lnTo>
                        <a:pt x="1242" y="417"/>
                      </a:lnTo>
                      <a:lnTo>
                        <a:pt x="1243" y="415"/>
                      </a:lnTo>
                      <a:lnTo>
                        <a:pt x="1244" y="414"/>
                      </a:lnTo>
                      <a:lnTo>
                        <a:pt x="1245" y="413"/>
                      </a:lnTo>
                      <a:lnTo>
                        <a:pt x="1247" y="413"/>
                      </a:lnTo>
                      <a:lnTo>
                        <a:pt x="1248" y="413"/>
                      </a:lnTo>
                      <a:lnTo>
                        <a:pt x="1250" y="414"/>
                      </a:lnTo>
                      <a:lnTo>
                        <a:pt x="1251" y="415"/>
                      </a:lnTo>
                      <a:lnTo>
                        <a:pt x="1251" y="417"/>
                      </a:lnTo>
                      <a:lnTo>
                        <a:pt x="1253" y="417"/>
                      </a:lnTo>
                      <a:lnTo>
                        <a:pt x="1253" y="415"/>
                      </a:lnTo>
                      <a:lnTo>
                        <a:pt x="1254" y="414"/>
                      </a:lnTo>
                      <a:lnTo>
                        <a:pt x="1256" y="413"/>
                      </a:lnTo>
                      <a:lnTo>
                        <a:pt x="1257" y="413"/>
                      </a:lnTo>
                      <a:lnTo>
                        <a:pt x="1259" y="413"/>
                      </a:lnTo>
                      <a:lnTo>
                        <a:pt x="1261" y="414"/>
                      </a:lnTo>
                      <a:lnTo>
                        <a:pt x="1262" y="415"/>
                      </a:lnTo>
                      <a:lnTo>
                        <a:pt x="1262" y="417"/>
                      </a:lnTo>
                      <a:lnTo>
                        <a:pt x="1266" y="417"/>
                      </a:lnTo>
                      <a:lnTo>
                        <a:pt x="1266" y="415"/>
                      </a:lnTo>
                      <a:lnTo>
                        <a:pt x="1267" y="413"/>
                      </a:lnTo>
                      <a:lnTo>
                        <a:pt x="1268" y="412"/>
                      </a:lnTo>
                      <a:lnTo>
                        <a:pt x="1270" y="411"/>
                      </a:lnTo>
                      <a:lnTo>
                        <a:pt x="1272" y="410"/>
                      </a:lnTo>
                      <a:lnTo>
                        <a:pt x="1275" y="410"/>
                      </a:lnTo>
                      <a:lnTo>
                        <a:pt x="1277" y="410"/>
                      </a:lnTo>
                      <a:lnTo>
                        <a:pt x="1279" y="411"/>
                      </a:lnTo>
                      <a:lnTo>
                        <a:pt x="1281" y="412"/>
                      </a:lnTo>
                      <a:lnTo>
                        <a:pt x="1282" y="413"/>
                      </a:lnTo>
                      <a:lnTo>
                        <a:pt x="1283" y="415"/>
                      </a:lnTo>
                      <a:lnTo>
                        <a:pt x="1284" y="417"/>
                      </a:lnTo>
                      <a:lnTo>
                        <a:pt x="1295" y="417"/>
                      </a:lnTo>
                      <a:lnTo>
                        <a:pt x="1295" y="415"/>
                      </a:lnTo>
                      <a:lnTo>
                        <a:pt x="1296" y="414"/>
                      </a:lnTo>
                      <a:lnTo>
                        <a:pt x="1297" y="413"/>
                      </a:lnTo>
                      <a:lnTo>
                        <a:pt x="1299" y="413"/>
                      </a:lnTo>
                      <a:lnTo>
                        <a:pt x="1301" y="413"/>
                      </a:lnTo>
                      <a:lnTo>
                        <a:pt x="1302" y="414"/>
                      </a:lnTo>
                      <a:lnTo>
                        <a:pt x="1303" y="415"/>
                      </a:lnTo>
                      <a:lnTo>
                        <a:pt x="1304" y="417"/>
                      </a:lnTo>
                      <a:lnTo>
                        <a:pt x="1339" y="417"/>
                      </a:lnTo>
                      <a:lnTo>
                        <a:pt x="1339" y="415"/>
                      </a:lnTo>
                      <a:lnTo>
                        <a:pt x="1340" y="413"/>
                      </a:lnTo>
                      <a:lnTo>
                        <a:pt x="1341" y="411"/>
                      </a:lnTo>
                      <a:lnTo>
                        <a:pt x="1343" y="410"/>
                      </a:lnTo>
                      <a:lnTo>
                        <a:pt x="1346" y="409"/>
                      </a:lnTo>
                      <a:lnTo>
                        <a:pt x="1348" y="408"/>
                      </a:lnTo>
                      <a:lnTo>
                        <a:pt x="1351" y="408"/>
                      </a:lnTo>
                      <a:lnTo>
                        <a:pt x="1354" y="409"/>
                      </a:lnTo>
                      <a:lnTo>
                        <a:pt x="1356" y="410"/>
                      </a:lnTo>
                      <a:lnTo>
                        <a:pt x="1358" y="411"/>
                      </a:lnTo>
                      <a:lnTo>
                        <a:pt x="1360" y="413"/>
                      </a:lnTo>
                      <a:lnTo>
                        <a:pt x="1361" y="415"/>
                      </a:lnTo>
                      <a:lnTo>
                        <a:pt x="1361" y="417"/>
                      </a:lnTo>
                      <a:lnTo>
                        <a:pt x="1370" y="417"/>
                      </a:lnTo>
                      <a:lnTo>
                        <a:pt x="1370" y="415"/>
                      </a:lnTo>
                      <a:lnTo>
                        <a:pt x="1371" y="414"/>
                      </a:lnTo>
                      <a:lnTo>
                        <a:pt x="1373" y="413"/>
                      </a:lnTo>
                      <a:lnTo>
                        <a:pt x="1375" y="413"/>
                      </a:lnTo>
                      <a:lnTo>
                        <a:pt x="1376" y="413"/>
                      </a:lnTo>
                      <a:lnTo>
                        <a:pt x="1378" y="414"/>
                      </a:lnTo>
                      <a:lnTo>
                        <a:pt x="1379" y="415"/>
                      </a:lnTo>
                      <a:lnTo>
                        <a:pt x="1379" y="417"/>
                      </a:lnTo>
                      <a:lnTo>
                        <a:pt x="1386" y="417"/>
                      </a:lnTo>
                      <a:lnTo>
                        <a:pt x="1386" y="415"/>
                      </a:lnTo>
                      <a:lnTo>
                        <a:pt x="1387" y="414"/>
                      </a:lnTo>
                      <a:lnTo>
                        <a:pt x="1389" y="413"/>
                      </a:lnTo>
                      <a:lnTo>
                        <a:pt x="1390" y="413"/>
                      </a:lnTo>
                      <a:lnTo>
                        <a:pt x="1392" y="413"/>
                      </a:lnTo>
                      <a:lnTo>
                        <a:pt x="1394" y="414"/>
                      </a:lnTo>
                      <a:lnTo>
                        <a:pt x="1395" y="415"/>
                      </a:lnTo>
                      <a:lnTo>
                        <a:pt x="1395" y="417"/>
                      </a:lnTo>
                      <a:lnTo>
                        <a:pt x="1404" y="417"/>
                      </a:lnTo>
                      <a:lnTo>
                        <a:pt x="1404" y="415"/>
                      </a:lnTo>
                      <a:lnTo>
                        <a:pt x="1405" y="414"/>
                      </a:lnTo>
                      <a:lnTo>
                        <a:pt x="1406" y="412"/>
                      </a:lnTo>
                      <a:lnTo>
                        <a:pt x="1408" y="412"/>
                      </a:lnTo>
                      <a:lnTo>
                        <a:pt x="1410" y="412"/>
                      </a:lnTo>
                      <a:lnTo>
                        <a:pt x="1412" y="412"/>
                      </a:lnTo>
                      <a:lnTo>
                        <a:pt x="1414" y="412"/>
                      </a:lnTo>
                      <a:lnTo>
                        <a:pt x="1416" y="414"/>
                      </a:lnTo>
                      <a:lnTo>
                        <a:pt x="1416" y="415"/>
                      </a:lnTo>
                      <a:lnTo>
                        <a:pt x="1417" y="417"/>
                      </a:lnTo>
                      <a:lnTo>
                        <a:pt x="1424" y="417"/>
                      </a:lnTo>
                      <a:lnTo>
                        <a:pt x="1424" y="415"/>
                      </a:lnTo>
                      <a:lnTo>
                        <a:pt x="1425" y="414"/>
                      </a:lnTo>
                      <a:lnTo>
                        <a:pt x="1427" y="413"/>
                      </a:lnTo>
                      <a:lnTo>
                        <a:pt x="1429" y="413"/>
                      </a:lnTo>
                      <a:lnTo>
                        <a:pt x="1430" y="413"/>
                      </a:lnTo>
                      <a:lnTo>
                        <a:pt x="1432" y="414"/>
                      </a:lnTo>
                      <a:lnTo>
                        <a:pt x="1433" y="415"/>
                      </a:lnTo>
                      <a:lnTo>
                        <a:pt x="1433" y="417"/>
                      </a:lnTo>
                      <a:lnTo>
                        <a:pt x="1440" y="417"/>
                      </a:lnTo>
                      <a:lnTo>
                        <a:pt x="1441" y="415"/>
                      </a:lnTo>
                      <a:lnTo>
                        <a:pt x="1442" y="414"/>
                      </a:lnTo>
                      <a:lnTo>
                        <a:pt x="1443" y="413"/>
                      </a:lnTo>
                      <a:lnTo>
                        <a:pt x="1445" y="413"/>
                      </a:lnTo>
                      <a:lnTo>
                        <a:pt x="1447" y="413"/>
                      </a:lnTo>
                      <a:lnTo>
                        <a:pt x="1448" y="414"/>
                      </a:lnTo>
                      <a:lnTo>
                        <a:pt x="1449" y="415"/>
                      </a:lnTo>
                      <a:lnTo>
                        <a:pt x="1449" y="417"/>
                      </a:lnTo>
                      <a:lnTo>
                        <a:pt x="1456" y="417"/>
                      </a:lnTo>
                      <a:lnTo>
                        <a:pt x="1456" y="415"/>
                      </a:lnTo>
                      <a:lnTo>
                        <a:pt x="1457" y="413"/>
                      </a:lnTo>
                      <a:lnTo>
                        <a:pt x="1459" y="412"/>
                      </a:lnTo>
                      <a:lnTo>
                        <a:pt x="1461" y="410"/>
                      </a:lnTo>
                      <a:lnTo>
                        <a:pt x="1464" y="410"/>
                      </a:lnTo>
                      <a:lnTo>
                        <a:pt x="1466" y="410"/>
                      </a:lnTo>
                      <a:lnTo>
                        <a:pt x="1468" y="410"/>
                      </a:lnTo>
                      <a:lnTo>
                        <a:pt x="1471" y="412"/>
                      </a:lnTo>
                      <a:lnTo>
                        <a:pt x="1472" y="413"/>
                      </a:lnTo>
                      <a:lnTo>
                        <a:pt x="1473" y="415"/>
                      </a:lnTo>
                      <a:lnTo>
                        <a:pt x="1474" y="417"/>
                      </a:lnTo>
                      <a:lnTo>
                        <a:pt x="1493" y="417"/>
                      </a:lnTo>
                      <a:lnTo>
                        <a:pt x="1493" y="652"/>
                      </a:lnTo>
                      <a:lnTo>
                        <a:pt x="1518" y="652"/>
                      </a:lnTo>
                      <a:lnTo>
                        <a:pt x="1518" y="6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491360" y="26251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51" name=""/>
                <p:cNvSpPr/>
                <p:nvPr/>
              </p:nvSpPr>
              <p:spPr>
                <a:xfrm>
                  <a:off x="5754240" y="5414040"/>
                  <a:ext cx="228600" cy="86400"/>
                </a:xfrm>
                <a:prstGeom prst="rect">
                  <a:avLst/>
                </a:prstGeom>
                <a:blipFill rotWithShape="0">
                  <a:blip r:embed="rId102"/>
                  <a:srcRect/>
                  <a:tile tx="0" ty="0" sx="100000" sy="100000" algn="ctr"/>
                </a:blip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052" name=""/>
                <p:cNvSpPr/>
                <p:nvPr/>
              </p:nvSpPr>
              <p:spPr>
                <a:xfrm>
                  <a:off x="5792760" y="5426280"/>
                  <a:ext cx="20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ash Over/</a:t>
                  </a:r>
                  <a:endParaRPr b="0" lang="en-US" sz="300" spc="-1" strike="noStrike">
                    <a:solidFill>
                      <a:srgbClr val="ffffff"/>
                    </a:solidFill>
                    <a:latin typeface="Arial"/>
                  </a:endParaRPr>
                </a:p>
              </p:txBody>
            </p:sp>
            <p:sp>
              <p:nvSpPr>
                <p:cNvPr id="1053" name=""/>
                <p:cNvSpPr/>
                <p:nvPr/>
              </p:nvSpPr>
              <p:spPr>
                <a:xfrm>
                  <a:off x="5828760" y="5460840"/>
                  <a:ext cx="99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hort</a:t>
                  </a:r>
                  <a:endParaRPr b="0" lang="en-US" sz="300" spc="-1" strike="noStrike">
                    <a:solidFill>
                      <a:srgbClr val="ffffff"/>
                    </a:solidFill>
                    <a:latin typeface="Arial"/>
                  </a:endParaRPr>
                </a:p>
              </p:txBody>
            </p:sp>
            <p:sp>
              <p:nvSpPr>
                <p:cNvPr id="1054" name=""/>
                <p:cNvSpPr/>
                <p:nvPr/>
              </p:nvSpPr>
              <p:spPr>
                <a:xfrm>
                  <a:off x="5983200" y="4849200"/>
                  <a:ext cx="1476360" cy="608760"/>
                </a:xfrm>
                <a:custGeom>
                  <a:avLst/>
                  <a:gdLst/>
                  <a:ahLst/>
                  <a:rect l="l" t="t" r="r" b="b"/>
                  <a:pathLst>
                    <a:path w="1395" h="456">
                      <a:moveTo>
                        <a:pt x="0" y="456"/>
                      </a:moveTo>
                      <a:lnTo>
                        <a:pt x="808" y="456"/>
                      </a:lnTo>
                      <a:lnTo>
                        <a:pt x="808" y="454"/>
                      </a:lnTo>
                      <a:lnTo>
                        <a:pt x="809" y="453"/>
                      </a:lnTo>
                      <a:lnTo>
                        <a:pt x="810" y="453"/>
                      </a:lnTo>
                      <a:lnTo>
                        <a:pt x="812" y="452"/>
                      </a:lnTo>
                      <a:lnTo>
                        <a:pt x="814" y="453"/>
                      </a:lnTo>
                      <a:lnTo>
                        <a:pt x="815" y="453"/>
                      </a:lnTo>
                      <a:lnTo>
                        <a:pt x="816" y="454"/>
                      </a:lnTo>
                      <a:lnTo>
                        <a:pt x="817" y="456"/>
                      </a:lnTo>
                      <a:lnTo>
                        <a:pt x="838" y="456"/>
                      </a:lnTo>
                      <a:lnTo>
                        <a:pt x="838" y="27"/>
                      </a:lnTo>
                      <a:lnTo>
                        <a:pt x="1395" y="27"/>
                      </a:lnTo>
                      <a:lnTo>
                        <a:pt x="1395" y="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7453800" y="48369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56" name=""/>
                <p:cNvSpPr/>
                <p:nvPr/>
              </p:nvSpPr>
              <p:spPr>
                <a:xfrm>
                  <a:off x="4912560" y="4409640"/>
                  <a:ext cx="119520" cy="308160"/>
                </a:xfrm>
                <a:custGeom>
                  <a:avLst/>
                  <a:gdLst/>
                  <a:ahLst/>
                  <a:rect l="l" t="t" r="r" b="b"/>
                  <a:pathLst>
                    <a:path w="113" h="231">
                      <a:moveTo>
                        <a:pt x="0" y="0"/>
                      </a:moveTo>
                      <a:lnTo>
                        <a:pt x="0" y="116"/>
                      </a:lnTo>
                      <a:lnTo>
                        <a:pt x="113" y="116"/>
                      </a:lnTo>
                      <a:lnTo>
                        <a:pt x="113" y="23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490644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58" name=""/>
                <p:cNvSpPr/>
                <p:nvPr/>
              </p:nvSpPr>
              <p:spPr>
                <a:xfrm>
                  <a:off x="4971960" y="3435840"/>
                  <a:ext cx="2795760" cy="983160"/>
                </a:xfrm>
                <a:custGeom>
                  <a:avLst/>
                  <a:gdLst/>
                  <a:ahLst/>
                  <a:rect l="l" t="t" r="r" b="b"/>
                  <a:pathLst>
                    <a:path w="2641" h="736">
                      <a:moveTo>
                        <a:pt x="2641" y="0"/>
                      </a:moveTo>
                      <a:lnTo>
                        <a:pt x="2641" y="47"/>
                      </a:lnTo>
                      <a:lnTo>
                        <a:pt x="2581" y="47"/>
                      </a:lnTo>
                      <a:lnTo>
                        <a:pt x="2580" y="46"/>
                      </a:lnTo>
                      <a:lnTo>
                        <a:pt x="2579" y="45"/>
                      </a:lnTo>
                      <a:lnTo>
                        <a:pt x="2578" y="44"/>
                      </a:lnTo>
                      <a:lnTo>
                        <a:pt x="2576" y="44"/>
                      </a:lnTo>
                      <a:lnTo>
                        <a:pt x="2574" y="44"/>
                      </a:lnTo>
                      <a:lnTo>
                        <a:pt x="2573" y="45"/>
                      </a:lnTo>
                      <a:lnTo>
                        <a:pt x="2572" y="46"/>
                      </a:lnTo>
                      <a:lnTo>
                        <a:pt x="2572" y="47"/>
                      </a:lnTo>
                      <a:lnTo>
                        <a:pt x="2569" y="47"/>
                      </a:lnTo>
                      <a:lnTo>
                        <a:pt x="2568" y="46"/>
                      </a:lnTo>
                      <a:lnTo>
                        <a:pt x="2567" y="45"/>
                      </a:lnTo>
                      <a:lnTo>
                        <a:pt x="2566" y="44"/>
                      </a:lnTo>
                      <a:lnTo>
                        <a:pt x="2564" y="44"/>
                      </a:lnTo>
                      <a:lnTo>
                        <a:pt x="2563" y="44"/>
                      </a:lnTo>
                      <a:lnTo>
                        <a:pt x="2561" y="45"/>
                      </a:lnTo>
                      <a:lnTo>
                        <a:pt x="2560" y="46"/>
                      </a:lnTo>
                      <a:lnTo>
                        <a:pt x="2560" y="47"/>
                      </a:lnTo>
                      <a:lnTo>
                        <a:pt x="2557" y="47"/>
                      </a:lnTo>
                      <a:lnTo>
                        <a:pt x="2557" y="46"/>
                      </a:lnTo>
                      <a:lnTo>
                        <a:pt x="2556" y="45"/>
                      </a:lnTo>
                      <a:lnTo>
                        <a:pt x="2554" y="44"/>
                      </a:lnTo>
                      <a:lnTo>
                        <a:pt x="2553" y="44"/>
                      </a:lnTo>
                      <a:lnTo>
                        <a:pt x="2551" y="44"/>
                      </a:lnTo>
                      <a:lnTo>
                        <a:pt x="2549" y="45"/>
                      </a:lnTo>
                      <a:lnTo>
                        <a:pt x="2548" y="46"/>
                      </a:lnTo>
                      <a:lnTo>
                        <a:pt x="2548" y="47"/>
                      </a:lnTo>
                      <a:lnTo>
                        <a:pt x="2530" y="47"/>
                      </a:lnTo>
                      <a:lnTo>
                        <a:pt x="2530" y="46"/>
                      </a:lnTo>
                      <a:lnTo>
                        <a:pt x="2529" y="45"/>
                      </a:lnTo>
                      <a:lnTo>
                        <a:pt x="2527" y="44"/>
                      </a:lnTo>
                      <a:lnTo>
                        <a:pt x="2525" y="44"/>
                      </a:lnTo>
                      <a:lnTo>
                        <a:pt x="2524" y="44"/>
                      </a:lnTo>
                      <a:lnTo>
                        <a:pt x="2522" y="45"/>
                      </a:lnTo>
                      <a:lnTo>
                        <a:pt x="2521" y="46"/>
                      </a:lnTo>
                      <a:lnTo>
                        <a:pt x="2521" y="47"/>
                      </a:lnTo>
                      <a:lnTo>
                        <a:pt x="2430" y="47"/>
                      </a:lnTo>
                      <a:lnTo>
                        <a:pt x="2430" y="736"/>
                      </a:lnTo>
                      <a:lnTo>
                        <a:pt x="2130" y="736"/>
                      </a:lnTo>
                      <a:lnTo>
                        <a:pt x="2129" y="734"/>
                      </a:lnTo>
                      <a:lnTo>
                        <a:pt x="2128" y="733"/>
                      </a:lnTo>
                      <a:lnTo>
                        <a:pt x="2127" y="733"/>
                      </a:lnTo>
                      <a:lnTo>
                        <a:pt x="2125" y="732"/>
                      </a:lnTo>
                      <a:lnTo>
                        <a:pt x="2123" y="733"/>
                      </a:lnTo>
                      <a:lnTo>
                        <a:pt x="2122" y="733"/>
                      </a:lnTo>
                      <a:lnTo>
                        <a:pt x="2121" y="734"/>
                      </a:lnTo>
                      <a:lnTo>
                        <a:pt x="2121" y="736"/>
                      </a:lnTo>
                      <a:lnTo>
                        <a:pt x="2099" y="736"/>
                      </a:lnTo>
                      <a:lnTo>
                        <a:pt x="2098" y="734"/>
                      </a:lnTo>
                      <a:lnTo>
                        <a:pt x="2098" y="733"/>
                      </a:lnTo>
                      <a:lnTo>
                        <a:pt x="2096" y="733"/>
                      </a:lnTo>
                      <a:lnTo>
                        <a:pt x="2094" y="732"/>
                      </a:lnTo>
                      <a:lnTo>
                        <a:pt x="2093" y="733"/>
                      </a:lnTo>
                      <a:lnTo>
                        <a:pt x="2091" y="733"/>
                      </a:lnTo>
                      <a:lnTo>
                        <a:pt x="2090" y="734"/>
                      </a:lnTo>
                      <a:lnTo>
                        <a:pt x="2090" y="736"/>
                      </a:lnTo>
                      <a:lnTo>
                        <a:pt x="2059" y="736"/>
                      </a:lnTo>
                      <a:lnTo>
                        <a:pt x="2058" y="734"/>
                      </a:lnTo>
                      <a:lnTo>
                        <a:pt x="2058" y="733"/>
                      </a:lnTo>
                      <a:lnTo>
                        <a:pt x="2056" y="733"/>
                      </a:lnTo>
                      <a:lnTo>
                        <a:pt x="2054" y="732"/>
                      </a:lnTo>
                      <a:lnTo>
                        <a:pt x="2053" y="733"/>
                      </a:lnTo>
                      <a:lnTo>
                        <a:pt x="2051" y="733"/>
                      </a:lnTo>
                      <a:lnTo>
                        <a:pt x="2050" y="734"/>
                      </a:lnTo>
                      <a:lnTo>
                        <a:pt x="2050" y="736"/>
                      </a:lnTo>
                      <a:lnTo>
                        <a:pt x="2040" y="736"/>
                      </a:lnTo>
                      <a:lnTo>
                        <a:pt x="2040" y="734"/>
                      </a:lnTo>
                      <a:lnTo>
                        <a:pt x="2039" y="733"/>
                      </a:lnTo>
                      <a:lnTo>
                        <a:pt x="2037" y="733"/>
                      </a:lnTo>
                      <a:lnTo>
                        <a:pt x="2036" y="732"/>
                      </a:lnTo>
                      <a:lnTo>
                        <a:pt x="2034" y="733"/>
                      </a:lnTo>
                      <a:lnTo>
                        <a:pt x="2033" y="733"/>
                      </a:lnTo>
                      <a:lnTo>
                        <a:pt x="2032" y="734"/>
                      </a:lnTo>
                      <a:lnTo>
                        <a:pt x="2031" y="736"/>
                      </a:lnTo>
                      <a:lnTo>
                        <a:pt x="2006" y="736"/>
                      </a:lnTo>
                      <a:lnTo>
                        <a:pt x="2006" y="734"/>
                      </a:lnTo>
                      <a:lnTo>
                        <a:pt x="2005" y="733"/>
                      </a:lnTo>
                      <a:lnTo>
                        <a:pt x="2004" y="733"/>
                      </a:lnTo>
                      <a:lnTo>
                        <a:pt x="2002" y="732"/>
                      </a:lnTo>
                      <a:lnTo>
                        <a:pt x="2000" y="733"/>
                      </a:lnTo>
                      <a:lnTo>
                        <a:pt x="1999" y="733"/>
                      </a:lnTo>
                      <a:lnTo>
                        <a:pt x="1998" y="734"/>
                      </a:lnTo>
                      <a:lnTo>
                        <a:pt x="1997" y="736"/>
                      </a:lnTo>
                      <a:lnTo>
                        <a:pt x="1986" y="736"/>
                      </a:lnTo>
                      <a:lnTo>
                        <a:pt x="1986" y="734"/>
                      </a:lnTo>
                      <a:lnTo>
                        <a:pt x="1985" y="733"/>
                      </a:lnTo>
                      <a:lnTo>
                        <a:pt x="1983" y="733"/>
                      </a:lnTo>
                      <a:lnTo>
                        <a:pt x="1982" y="732"/>
                      </a:lnTo>
                      <a:lnTo>
                        <a:pt x="1980" y="733"/>
                      </a:lnTo>
                      <a:lnTo>
                        <a:pt x="1978" y="733"/>
                      </a:lnTo>
                      <a:lnTo>
                        <a:pt x="1978" y="734"/>
                      </a:lnTo>
                      <a:lnTo>
                        <a:pt x="1977" y="736"/>
                      </a:lnTo>
                      <a:lnTo>
                        <a:pt x="1924" y="736"/>
                      </a:lnTo>
                      <a:lnTo>
                        <a:pt x="1923" y="734"/>
                      </a:lnTo>
                      <a:lnTo>
                        <a:pt x="1922" y="733"/>
                      </a:lnTo>
                      <a:lnTo>
                        <a:pt x="1921" y="733"/>
                      </a:lnTo>
                      <a:lnTo>
                        <a:pt x="1919" y="732"/>
                      </a:lnTo>
                      <a:lnTo>
                        <a:pt x="1917" y="733"/>
                      </a:lnTo>
                      <a:lnTo>
                        <a:pt x="1916" y="733"/>
                      </a:lnTo>
                      <a:lnTo>
                        <a:pt x="1915" y="734"/>
                      </a:lnTo>
                      <a:lnTo>
                        <a:pt x="1915" y="736"/>
                      </a:lnTo>
                      <a:lnTo>
                        <a:pt x="1673" y="736"/>
                      </a:lnTo>
                      <a:lnTo>
                        <a:pt x="1673" y="734"/>
                      </a:lnTo>
                      <a:lnTo>
                        <a:pt x="1672" y="733"/>
                      </a:lnTo>
                      <a:lnTo>
                        <a:pt x="1670" y="733"/>
                      </a:lnTo>
                      <a:lnTo>
                        <a:pt x="1669" y="732"/>
                      </a:lnTo>
                      <a:lnTo>
                        <a:pt x="1667" y="733"/>
                      </a:lnTo>
                      <a:lnTo>
                        <a:pt x="1665" y="733"/>
                      </a:lnTo>
                      <a:lnTo>
                        <a:pt x="1665" y="734"/>
                      </a:lnTo>
                      <a:lnTo>
                        <a:pt x="1664" y="736"/>
                      </a:lnTo>
                      <a:lnTo>
                        <a:pt x="1621" y="736"/>
                      </a:lnTo>
                      <a:lnTo>
                        <a:pt x="1621" y="734"/>
                      </a:lnTo>
                      <a:lnTo>
                        <a:pt x="1620" y="733"/>
                      </a:lnTo>
                      <a:lnTo>
                        <a:pt x="1618" y="733"/>
                      </a:lnTo>
                      <a:lnTo>
                        <a:pt x="1617" y="732"/>
                      </a:lnTo>
                      <a:lnTo>
                        <a:pt x="1615" y="733"/>
                      </a:lnTo>
                      <a:lnTo>
                        <a:pt x="1614" y="733"/>
                      </a:lnTo>
                      <a:lnTo>
                        <a:pt x="1613" y="734"/>
                      </a:lnTo>
                      <a:lnTo>
                        <a:pt x="1612" y="736"/>
                      </a:lnTo>
                      <a:lnTo>
                        <a:pt x="1510" y="736"/>
                      </a:lnTo>
                      <a:lnTo>
                        <a:pt x="1510" y="734"/>
                      </a:lnTo>
                      <a:lnTo>
                        <a:pt x="1509" y="733"/>
                      </a:lnTo>
                      <a:lnTo>
                        <a:pt x="1507" y="733"/>
                      </a:lnTo>
                      <a:lnTo>
                        <a:pt x="1505" y="732"/>
                      </a:lnTo>
                      <a:lnTo>
                        <a:pt x="1504" y="733"/>
                      </a:lnTo>
                      <a:lnTo>
                        <a:pt x="1502" y="733"/>
                      </a:lnTo>
                      <a:lnTo>
                        <a:pt x="1501" y="734"/>
                      </a:lnTo>
                      <a:lnTo>
                        <a:pt x="1501" y="736"/>
                      </a:lnTo>
                      <a:lnTo>
                        <a:pt x="1415" y="736"/>
                      </a:lnTo>
                      <a:lnTo>
                        <a:pt x="1415" y="734"/>
                      </a:lnTo>
                      <a:lnTo>
                        <a:pt x="1414" y="733"/>
                      </a:lnTo>
                      <a:lnTo>
                        <a:pt x="1413" y="733"/>
                      </a:lnTo>
                      <a:lnTo>
                        <a:pt x="1411" y="732"/>
                      </a:lnTo>
                      <a:lnTo>
                        <a:pt x="1409" y="733"/>
                      </a:lnTo>
                      <a:lnTo>
                        <a:pt x="1408" y="733"/>
                      </a:lnTo>
                      <a:lnTo>
                        <a:pt x="1407" y="734"/>
                      </a:lnTo>
                      <a:lnTo>
                        <a:pt x="1406" y="736"/>
                      </a:lnTo>
                      <a:lnTo>
                        <a:pt x="1298" y="736"/>
                      </a:lnTo>
                      <a:lnTo>
                        <a:pt x="1298" y="734"/>
                      </a:lnTo>
                      <a:lnTo>
                        <a:pt x="1297" y="733"/>
                      </a:lnTo>
                      <a:lnTo>
                        <a:pt x="1295" y="733"/>
                      </a:lnTo>
                      <a:lnTo>
                        <a:pt x="1294" y="732"/>
                      </a:lnTo>
                      <a:lnTo>
                        <a:pt x="1292" y="733"/>
                      </a:lnTo>
                      <a:lnTo>
                        <a:pt x="1290" y="733"/>
                      </a:lnTo>
                      <a:lnTo>
                        <a:pt x="1290" y="734"/>
                      </a:lnTo>
                      <a:lnTo>
                        <a:pt x="1289" y="736"/>
                      </a:lnTo>
                      <a:lnTo>
                        <a:pt x="1124" y="736"/>
                      </a:lnTo>
                      <a:lnTo>
                        <a:pt x="1123" y="734"/>
                      </a:lnTo>
                      <a:lnTo>
                        <a:pt x="1122" y="733"/>
                      </a:lnTo>
                      <a:lnTo>
                        <a:pt x="1121" y="733"/>
                      </a:lnTo>
                      <a:lnTo>
                        <a:pt x="1119" y="732"/>
                      </a:lnTo>
                      <a:lnTo>
                        <a:pt x="1118" y="733"/>
                      </a:lnTo>
                      <a:lnTo>
                        <a:pt x="1116" y="733"/>
                      </a:lnTo>
                      <a:lnTo>
                        <a:pt x="1115" y="734"/>
                      </a:lnTo>
                      <a:lnTo>
                        <a:pt x="1115" y="736"/>
                      </a:lnTo>
                      <a:lnTo>
                        <a:pt x="1023" y="736"/>
                      </a:lnTo>
                      <a:lnTo>
                        <a:pt x="1023" y="734"/>
                      </a:lnTo>
                      <a:lnTo>
                        <a:pt x="1022" y="733"/>
                      </a:lnTo>
                      <a:lnTo>
                        <a:pt x="1020" y="733"/>
                      </a:lnTo>
                      <a:lnTo>
                        <a:pt x="1018" y="732"/>
                      </a:lnTo>
                      <a:lnTo>
                        <a:pt x="1017" y="733"/>
                      </a:lnTo>
                      <a:lnTo>
                        <a:pt x="1015" y="733"/>
                      </a:lnTo>
                      <a:lnTo>
                        <a:pt x="1014" y="734"/>
                      </a:lnTo>
                      <a:lnTo>
                        <a:pt x="1014" y="736"/>
                      </a:lnTo>
                      <a:lnTo>
                        <a:pt x="960" y="736"/>
                      </a:lnTo>
                      <a:lnTo>
                        <a:pt x="959" y="734"/>
                      </a:lnTo>
                      <a:lnTo>
                        <a:pt x="958" y="733"/>
                      </a:lnTo>
                      <a:lnTo>
                        <a:pt x="957" y="733"/>
                      </a:lnTo>
                      <a:lnTo>
                        <a:pt x="955" y="732"/>
                      </a:lnTo>
                      <a:lnTo>
                        <a:pt x="953" y="733"/>
                      </a:lnTo>
                      <a:lnTo>
                        <a:pt x="952" y="733"/>
                      </a:lnTo>
                      <a:lnTo>
                        <a:pt x="951" y="734"/>
                      </a:lnTo>
                      <a:lnTo>
                        <a:pt x="951" y="736"/>
                      </a:lnTo>
                      <a:lnTo>
                        <a:pt x="937" y="736"/>
                      </a:lnTo>
                      <a:lnTo>
                        <a:pt x="937" y="734"/>
                      </a:lnTo>
                      <a:lnTo>
                        <a:pt x="936" y="733"/>
                      </a:lnTo>
                      <a:lnTo>
                        <a:pt x="934" y="733"/>
                      </a:lnTo>
                      <a:lnTo>
                        <a:pt x="933" y="732"/>
                      </a:lnTo>
                      <a:lnTo>
                        <a:pt x="931" y="733"/>
                      </a:lnTo>
                      <a:lnTo>
                        <a:pt x="929" y="733"/>
                      </a:lnTo>
                      <a:lnTo>
                        <a:pt x="928" y="734"/>
                      </a:lnTo>
                      <a:lnTo>
                        <a:pt x="928" y="736"/>
                      </a:lnTo>
                      <a:lnTo>
                        <a:pt x="885" y="736"/>
                      </a:lnTo>
                      <a:lnTo>
                        <a:pt x="885" y="734"/>
                      </a:lnTo>
                      <a:lnTo>
                        <a:pt x="884" y="733"/>
                      </a:lnTo>
                      <a:lnTo>
                        <a:pt x="882" y="733"/>
                      </a:lnTo>
                      <a:lnTo>
                        <a:pt x="881" y="732"/>
                      </a:lnTo>
                      <a:lnTo>
                        <a:pt x="879" y="733"/>
                      </a:lnTo>
                      <a:lnTo>
                        <a:pt x="878" y="733"/>
                      </a:lnTo>
                      <a:lnTo>
                        <a:pt x="877" y="734"/>
                      </a:lnTo>
                      <a:lnTo>
                        <a:pt x="876" y="736"/>
                      </a:lnTo>
                      <a:lnTo>
                        <a:pt x="750" y="736"/>
                      </a:lnTo>
                      <a:lnTo>
                        <a:pt x="750" y="734"/>
                      </a:lnTo>
                      <a:lnTo>
                        <a:pt x="749" y="733"/>
                      </a:lnTo>
                      <a:lnTo>
                        <a:pt x="748" y="733"/>
                      </a:lnTo>
                      <a:lnTo>
                        <a:pt x="746" y="732"/>
                      </a:lnTo>
                      <a:lnTo>
                        <a:pt x="744" y="733"/>
                      </a:lnTo>
                      <a:lnTo>
                        <a:pt x="743" y="733"/>
                      </a:lnTo>
                      <a:lnTo>
                        <a:pt x="742" y="734"/>
                      </a:lnTo>
                      <a:lnTo>
                        <a:pt x="741" y="736"/>
                      </a:lnTo>
                      <a:lnTo>
                        <a:pt x="730" y="736"/>
                      </a:lnTo>
                      <a:lnTo>
                        <a:pt x="730" y="734"/>
                      </a:lnTo>
                      <a:lnTo>
                        <a:pt x="729" y="733"/>
                      </a:lnTo>
                      <a:lnTo>
                        <a:pt x="728" y="733"/>
                      </a:lnTo>
                      <a:lnTo>
                        <a:pt x="726" y="732"/>
                      </a:lnTo>
                      <a:lnTo>
                        <a:pt x="724" y="733"/>
                      </a:lnTo>
                      <a:lnTo>
                        <a:pt x="723" y="733"/>
                      </a:lnTo>
                      <a:lnTo>
                        <a:pt x="722" y="734"/>
                      </a:lnTo>
                      <a:lnTo>
                        <a:pt x="721" y="736"/>
                      </a:lnTo>
                      <a:lnTo>
                        <a:pt x="701" y="736"/>
                      </a:lnTo>
                      <a:lnTo>
                        <a:pt x="701" y="734"/>
                      </a:lnTo>
                      <a:lnTo>
                        <a:pt x="700" y="733"/>
                      </a:lnTo>
                      <a:lnTo>
                        <a:pt x="698" y="733"/>
                      </a:lnTo>
                      <a:lnTo>
                        <a:pt x="696" y="732"/>
                      </a:lnTo>
                      <a:lnTo>
                        <a:pt x="695" y="733"/>
                      </a:lnTo>
                      <a:lnTo>
                        <a:pt x="693" y="733"/>
                      </a:lnTo>
                      <a:lnTo>
                        <a:pt x="692" y="734"/>
                      </a:lnTo>
                      <a:lnTo>
                        <a:pt x="692" y="736"/>
                      </a:lnTo>
                      <a:lnTo>
                        <a:pt x="672" y="736"/>
                      </a:lnTo>
                      <a:lnTo>
                        <a:pt x="671" y="734"/>
                      </a:lnTo>
                      <a:lnTo>
                        <a:pt x="670" y="733"/>
                      </a:lnTo>
                      <a:lnTo>
                        <a:pt x="669" y="733"/>
                      </a:lnTo>
                      <a:lnTo>
                        <a:pt x="667" y="732"/>
                      </a:lnTo>
                      <a:lnTo>
                        <a:pt x="665" y="733"/>
                      </a:lnTo>
                      <a:lnTo>
                        <a:pt x="664" y="733"/>
                      </a:lnTo>
                      <a:lnTo>
                        <a:pt x="663" y="734"/>
                      </a:lnTo>
                      <a:lnTo>
                        <a:pt x="663" y="736"/>
                      </a:lnTo>
                      <a:lnTo>
                        <a:pt x="584" y="736"/>
                      </a:lnTo>
                      <a:lnTo>
                        <a:pt x="583" y="734"/>
                      </a:lnTo>
                      <a:lnTo>
                        <a:pt x="582" y="733"/>
                      </a:lnTo>
                      <a:lnTo>
                        <a:pt x="581" y="733"/>
                      </a:lnTo>
                      <a:lnTo>
                        <a:pt x="579" y="732"/>
                      </a:lnTo>
                      <a:lnTo>
                        <a:pt x="577" y="733"/>
                      </a:lnTo>
                      <a:lnTo>
                        <a:pt x="576" y="733"/>
                      </a:lnTo>
                      <a:lnTo>
                        <a:pt x="575" y="734"/>
                      </a:lnTo>
                      <a:lnTo>
                        <a:pt x="575" y="736"/>
                      </a:lnTo>
                      <a:lnTo>
                        <a:pt x="484" y="736"/>
                      </a:lnTo>
                      <a:lnTo>
                        <a:pt x="484" y="734"/>
                      </a:lnTo>
                      <a:lnTo>
                        <a:pt x="483" y="733"/>
                      </a:lnTo>
                      <a:lnTo>
                        <a:pt x="482" y="733"/>
                      </a:lnTo>
                      <a:lnTo>
                        <a:pt x="480" y="732"/>
                      </a:lnTo>
                      <a:lnTo>
                        <a:pt x="478" y="733"/>
                      </a:lnTo>
                      <a:lnTo>
                        <a:pt x="477" y="733"/>
                      </a:lnTo>
                      <a:lnTo>
                        <a:pt x="476" y="734"/>
                      </a:lnTo>
                      <a:lnTo>
                        <a:pt x="475" y="736"/>
                      </a:lnTo>
                      <a:lnTo>
                        <a:pt x="464" y="736"/>
                      </a:lnTo>
                      <a:lnTo>
                        <a:pt x="463" y="734"/>
                      </a:lnTo>
                      <a:lnTo>
                        <a:pt x="462" y="732"/>
                      </a:lnTo>
                      <a:lnTo>
                        <a:pt x="461" y="731"/>
                      </a:lnTo>
                      <a:lnTo>
                        <a:pt x="458" y="730"/>
                      </a:lnTo>
                      <a:lnTo>
                        <a:pt x="456" y="729"/>
                      </a:lnTo>
                      <a:lnTo>
                        <a:pt x="454" y="729"/>
                      </a:lnTo>
                      <a:lnTo>
                        <a:pt x="451" y="730"/>
                      </a:lnTo>
                      <a:lnTo>
                        <a:pt x="449" y="731"/>
                      </a:lnTo>
                      <a:lnTo>
                        <a:pt x="448" y="732"/>
                      </a:lnTo>
                      <a:lnTo>
                        <a:pt x="447" y="734"/>
                      </a:lnTo>
                      <a:lnTo>
                        <a:pt x="446" y="736"/>
                      </a:lnTo>
                      <a:lnTo>
                        <a:pt x="435" y="736"/>
                      </a:lnTo>
                      <a:lnTo>
                        <a:pt x="435" y="734"/>
                      </a:lnTo>
                      <a:lnTo>
                        <a:pt x="434" y="733"/>
                      </a:lnTo>
                      <a:lnTo>
                        <a:pt x="432" y="733"/>
                      </a:lnTo>
                      <a:lnTo>
                        <a:pt x="430" y="732"/>
                      </a:lnTo>
                      <a:lnTo>
                        <a:pt x="429" y="733"/>
                      </a:lnTo>
                      <a:lnTo>
                        <a:pt x="427" y="733"/>
                      </a:lnTo>
                      <a:lnTo>
                        <a:pt x="426" y="734"/>
                      </a:lnTo>
                      <a:lnTo>
                        <a:pt x="426" y="736"/>
                      </a:lnTo>
                      <a:lnTo>
                        <a:pt x="392" y="736"/>
                      </a:lnTo>
                      <a:lnTo>
                        <a:pt x="392" y="734"/>
                      </a:lnTo>
                      <a:lnTo>
                        <a:pt x="391" y="733"/>
                      </a:lnTo>
                      <a:lnTo>
                        <a:pt x="389" y="733"/>
                      </a:lnTo>
                      <a:lnTo>
                        <a:pt x="388" y="732"/>
                      </a:lnTo>
                      <a:lnTo>
                        <a:pt x="386" y="733"/>
                      </a:lnTo>
                      <a:lnTo>
                        <a:pt x="384" y="733"/>
                      </a:lnTo>
                      <a:lnTo>
                        <a:pt x="384" y="734"/>
                      </a:lnTo>
                      <a:lnTo>
                        <a:pt x="383" y="736"/>
                      </a:lnTo>
                      <a:lnTo>
                        <a:pt x="379" y="736"/>
                      </a:lnTo>
                      <a:lnTo>
                        <a:pt x="378" y="734"/>
                      </a:lnTo>
                      <a:lnTo>
                        <a:pt x="377" y="732"/>
                      </a:lnTo>
                      <a:lnTo>
                        <a:pt x="376" y="731"/>
                      </a:lnTo>
                      <a:lnTo>
                        <a:pt x="374" y="730"/>
                      </a:lnTo>
                      <a:lnTo>
                        <a:pt x="372" y="730"/>
                      </a:lnTo>
                      <a:lnTo>
                        <a:pt x="370" y="730"/>
                      </a:lnTo>
                      <a:lnTo>
                        <a:pt x="368" y="730"/>
                      </a:lnTo>
                      <a:lnTo>
                        <a:pt x="366" y="731"/>
                      </a:lnTo>
                      <a:lnTo>
                        <a:pt x="364" y="732"/>
                      </a:lnTo>
                      <a:lnTo>
                        <a:pt x="363" y="734"/>
                      </a:lnTo>
                      <a:lnTo>
                        <a:pt x="363" y="736"/>
                      </a:lnTo>
                      <a:lnTo>
                        <a:pt x="338" y="736"/>
                      </a:lnTo>
                      <a:lnTo>
                        <a:pt x="338" y="734"/>
                      </a:lnTo>
                      <a:lnTo>
                        <a:pt x="337" y="733"/>
                      </a:lnTo>
                      <a:lnTo>
                        <a:pt x="335" y="731"/>
                      </a:lnTo>
                      <a:lnTo>
                        <a:pt x="334" y="730"/>
                      </a:lnTo>
                      <a:lnTo>
                        <a:pt x="332" y="730"/>
                      </a:lnTo>
                      <a:lnTo>
                        <a:pt x="330" y="730"/>
                      </a:lnTo>
                      <a:lnTo>
                        <a:pt x="328" y="730"/>
                      </a:lnTo>
                      <a:lnTo>
                        <a:pt x="326" y="731"/>
                      </a:lnTo>
                      <a:lnTo>
                        <a:pt x="324" y="733"/>
                      </a:lnTo>
                      <a:lnTo>
                        <a:pt x="324" y="734"/>
                      </a:lnTo>
                      <a:lnTo>
                        <a:pt x="323" y="736"/>
                      </a:lnTo>
                      <a:lnTo>
                        <a:pt x="261" y="736"/>
                      </a:lnTo>
                      <a:lnTo>
                        <a:pt x="261" y="734"/>
                      </a:lnTo>
                      <a:lnTo>
                        <a:pt x="260" y="733"/>
                      </a:lnTo>
                      <a:lnTo>
                        <a:pt x="258" y="733"/>
                      </a:lnTo>
                      <a:lnTo>
                        <a:pt x="257" y="732"/>
                      </a:lnTo>
                      <a:lnTo>
                        <a:pt x="255" y="733"/>
                      </a:lnTo>
                      <a:lnTo>
                        <a:pt x="253" y="733"/>
                      </a:lnTo>
                      <a:lnTo>
                        <a:pt x="252" y="734"/>
                      </a:lnTo>
                      <a:lnTo>
                        <a:pt x="252" y="736"/>
                      </a:lnTo>
                      <a:lnTo>
                        <a:pt x="250" y="736"/>
                      </a:lnTo>
                      <a:lnTo>
                        <a:pt x="250" y="734"/>
                      </a:lnTo>
                      <a:lnTo>
                        <a:pt x="249" y="733"/>
                      </a:lnTo>
                      <a:lnTo>
                        <a:pt x="247" y="733"/>
                      </a:lnTo>
                      <a:lnTo>
                        <a:pt x="246" y="732"/>
                      </a:lnTo>
                      <a:lnTo>
                        <a:pt x="244" y="733"/>
                      </a:lnTo>
                      <a:lnTo>
                        <a:pt x="242" y="733"/>
                      </a:lnTo>
                      <a:lnTo>
                        <a:pt x="241" y="734"/>
                      </a:lnTo>
                      <a:lnTo>
                        <a:pt x="241" y="736"/>
                      </a:lnTo>
                      <a:lnTo>
                        <a:pt x="221" y="736"/>
                      </a:lnTo>
                      <a:lnTo>
                        <a:pt x="221" y="734"/>
                      </a:lnTo>
                      <a:lnTo>
                        <a:pt x="220" y="733"/>
                      </a:lnTo>
                      <a:lnTo>
                        <a:pt x="218" y="733"/>
                      </a:lnTo>
                      <a:lnTo>
                        <a:pt x="217" y="732"/>
                      </a:lnTo>
                      <a:lnTo>
                        <a:pt x="215" y="733"/>
                      </a:lnTo>
                      <a:lnTo>
                        <a:pt x="214" y="733"/>
                      </a:lnTo>
                      <a:lnTo>
                        <a:pt x="213" y="734"/>
                      </a:lnTo>
                      <a:lnTo>
                        <a:pt x="212" y="736"/>
                      </a:lnTo>
                      <a:lnTo>
                        <a:pt x="203" y="736"/>
                      </a:lnTo>
                      <a:lnTo>
                        <a:pt x="203" y="734"/>
                      </a:lnTo>
                      <a:lnTo>
                        <a:pt x="202" y="733"/>
                      </a:lnTo>
                      <a:lnTo>
                        <a:pt x="200" y="733"/>
                      </a:lnTo>
                      <a:lnTo>
                        <a:pt x="199" y="732"/>
                      </a:lnTo>
                      <a:lnTo>
                        <a:pt x="197" y="733"/>
                      </a:lnTo>
                      <a:lnTo>
                        <a:pt x="195" y="733"/>
                      </a:lnTo>
                      <a:lnTo>
                        <a:pt x="194" y="734"/>
                      </a:lnTo>
                      <a:lnTo>
                        <a:pt x="194" y="736"/>
                      </a:lnTo>
                      <a:lnTo>
                        <a:pt x="141" y="736"/>
                      </a:lnTo>
                      <a:lnTo>
                        <a:pt x="141" y="734"/>
                      </a:lnTo>
                      <a:lnTo>
                        <a:pt x="140" y="733"/>
                      </a:lnTo>
                      <a:lnTo>
                        <a:pt x="139" y="733"/>
                      </a:lnTo>
                      <a:lnTo>
                        <a:pt x="137" y="732"/>
                      </a:lnTo>
                      <a:lnTo>
                        <a:pt x="135" y="733"/>
                      </a:lnTo>
                      <a:lnTo>
                        <a:pt x="134" y="733"/>
                      </a:lnTo>
                      <a:lnTo>
                        <a:pt x="133" y="734"/>
                      </a:lnTo>
                      <a:lnTo>
                        <a:pt x="132" y="736"/>
                      </a:lnTo>
                      <a:lnTo>
                        <a:pt x="88" y="736"/>
                      </a:lnTo>
                      <a:lnTo>
                        <a:pt x="88" y="734"/>
                      </a:lnTo>
                      <a:lnTo>
                        <a:pt x="87" y="733"/>
                      </a:lnTo>
                      <a:lnTo>
                        <a:pt x="85" y="733"/>
                      </a:lnTo>
                      <a:lnTo>
                        <a:pt x="84" y="732"/>
                      </a:lnTo>
                      <a:lnTo>
                        <a:pt x="82" y="733"/>
                      </a:lnTo>
                      <a:lnTo>
                        <a:pt x="81" y="733"/>
                      </a:lnTo>
                      <a:lnTo>
                        <a:pt x="79" y="734"/>
                      </a:lnTo>
                      <a:lnTo>
                        <a:pt x="79" y="736"/>
                      </a:lnTo>
                      <a:lnTo>
                        <a:pt x="0" y="736"/>
                      </a:lnTo>
                      <a:lnTo>
                        <a:pt x="0" y="7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496584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60" name=""/>
                <p:cNvSpPr/>
                <p:nvPr/>
              </p:nvSpPr>
              <p:spPr>
                <a:xfrm>
                  <a:off x="5013360" y="2419560"/>
                  <a:ext cx="3260520" cy="1962000"/>
                </a:xfrm>
                <a:custGeom>
                  <a:avLst/>
                  <a:gdLst/>
                  <a:ahLst/>
                  <a:rect l="l" t="t" r="r" b="b"/>
                  <a:pathLst>
                    <a:path w="3080" h="1469">
                      <a:moveTo>
                        <a:pt x="3080" y="0"/>
                      </a:moveTo>
                      <a:lnTo>
                        <a:pt x="3080" y="459"/>
                      </a:lnTo>
                      <a:lnTo>
                        <a:pt x="3014" y="459"/>
                      </a:lnTo>
                      <a:lnTo>
                        <a:pt x="3014" y="457"/>
                      </a:lnTo>
                      <a:lnTo>
                        <a:pt x="3013" y="456"/>
                      </a:lnTo>
                      <a:lnTo>
                        <a:pt x="3012" y="456"/>
                      </a:lnTo>
                      <a:lnTo>
                        <a:pt x="3010" y="455"/>
                      </a:lnTo>
                      <a:lnTo>
                        <a:pt x="3008" y="456"/>
                      </a:lnTo>
                      <a:lnTo>
                        <a:pt x="3007" y="456"/>
                      </a:lnTo>
                      <a:lnTo>
                        <a:pt x="3006" y="457"/>
                      </a:lnTo>
                      <a:lnTo>
                        <a:pt x="3005" y="459"/>
                      </a:lnTo>
                      <a:lnTo>
                        <a:pt x="3000" y="459"/>
                      </a:lnTo>
                      <a:lnTo>
                        <a:pt x="3000" y="457"/>
                      </a:lnTo>
                      <a:lnTo>
                        <a:pt x="2999" y="456"/>
                      </a:lnTo>
                      <a:lnTo>
                        <a:pt x="2997" y="456"/>
                      </a:lnTo>
                      <a:lnTo>
                        <a:pt x="2996" y="455"/>
                      </a:lnTo>
                      <a:lnTo>
                        <a:pt x="2994" y="456"/>
                      </a:lnTo>
                      <a:lnTo>
                        <a:pt x="2993" y="456"/>
                      </a:lnTo>
                      <a:lnTo>
                        <a:pt x="2992" y="457"/>
                      </a:lnTo>
                      <a:lnTo>
                        <a:pt x="2991" y="459"/>
                      </a:lnTo>
                      <a:lnTo>
                        <a:pt x="2976" y="459"/>
                      </a:lnTo>
                      <a:lnTo>
                        <a:pt x="2975" y="457"/>
                      </a:lnTo>
                      <a:lnTo>
                        <a:pt x="2974" y="456"/>
                      </a:lnTo>
                      <a:lnTo>
                        <a:pt x="2973" y="456"/>
                      </a:lnTo>
                      <a:lnTo>
                        <a:pt x="2971" y="455"/>
                      </a:lnTo>
                      <a:lnTo>
                        <a:pt x="2969" y="456"/>
                      </a:lnTo>
                      <a:lnTo>
                        <a:pt x="2968" y="456"/>
                      </a:lnTo>
                      <a:lnTo>
                        <a:pt x="2967" y="457"/>
                      </a:lnTo>
                      <a:lnTo>
                        <a:pt x="2967" y="459"/>
                      </a:lnTo>
                      <a:lnTo>
                        <a:pt x="2948" y="459"/>
                      </a:lnTo>
                      <a:lnTo>
                        <a:pt x="2948" y="457"/>
                      </a:lnTo>
                      <a:lnTo>
                        <a:pt x="2947" y="456"/>
                      </a:lnTo>
                      <a:lnTo>
                        <a:pt x="2946" y="456"/>
                      </a:lnTo>
                      <a:lnTo>
                        <a:pt x="2944" y="455"/>
                      </a:lnTo>
                      <a:lnTo>
                        <a:pt x="2942" y="456"/>
                      </a:lnTo>
                      <a:lnTo>
                        <a:pt x="2941" y="456"/>
                      </a:lnTo>
                      <a:lnTo>
                        <a:pt x="2940" y="457"/>
                      </a:lnTo>
                      <a:lnTo>
                        <a:pt x="2940" y="459"/>
                      </a:lnTo>
                      <a:lnTo>
                        <a:pt x="2930" y="459"/>
                      </a:lnTo>
                      <a:lnTo>
                        <a:pt x="2930" y="1469"/>
                      </a:lnTo>
                      <a:lnTo>
                        <a:pt x="2898" y="1469"/>
                      </a:lnTo>
                      <a:lnTo>
                        <a:pt x="2898" y="1467"/>
                      </a:lnTo>
                      <a:lnTo>
                        <a:pt x="2897" y="1466"/>
                      </a:lnTo>
                      <a:lnTo>
                        <a:pt x="2895" y="1465"/>
                      </a:lnTo>
                      <a:lnTo>
                        <a:pt x="2893" y="1465"/>
                      </a:lnTo>
                      <a:lnTo>
                        <a:pt x="2892" y="1465"/>
                      </a:lnTo>
                      <a:lnTo>
                        <a:pt x="2890" y="1466"/>
                      </a:lnTo>
                      <a:lnTo>
                        <a:pt x="2889" y="1467"/>
                      </a:lnTo>
                      <a:lnTo>
                        <a:pt x="2889" y="1469"/>
                      </a:lnTo>
                      <a:lnTo>
                        <a:pt x="2658" y="1469"/>
                      </a:lnTo>
                      <a:lnTo>
                        <a:pt x="2658" y="1467"/>
                      </a:lnTo>
                      <a:lnTo>
                        <a:pt x="2657" y="1466"/>
                      </a:lnTo>
                      <a:lnTo>
                        <a:pt x="2655" y="1465"/>
                      </a:lnTo>
                      <a:lnTo>
                        <a:pt x="2654" y="1465"/>
                      </a:lnTo>
                      <a:lnTo>
                        <a:pt x="2652" y="1465"/>
                      </a:lnTo>
                      <a:lnTo>
                        <a:pt x="2650" y="1466"/>
                      </a:lnTo>
                      <a:lnTo>
                        <a:pt x="2650" y="1467"/>
                      </a:lnTo>
                      <a:lnTo>
                        <a:pt x="2649" y="1469"/>
                      </a:lnTo>
                      <a:lnTo>
                        <a:pt x="2592" y="1469"/>
                      </a:lnTo>
                      <a:lnTo>
                        <a:pt x="2592" y="1467"/>
                      </a:lnTo>
                      <a:lnTo>
                        <a:pt x="2591" y="1466"/>
                      </a:lnTo>
                      <a:lnTo>
                        <a:pt x="2590" y="1465"/>
                      </a:lnTo>
                      <a:lnTo>
                        <a:pt x="2588" y="1465"/>
                      </a:lnTo>
                      <a:lnTo>
                        <a:pt x="2586" y="1465"/>
                      </a:lnTo>
                      <a:lnTo>
                        <a:pt x="2585" y="1466"/>
                      </a:lnTo>
                      <a:lnTo>
                        <a:pt x="2584" y="1467"/>
                      </a:lnTo>
                      <a:lnTo>
                        <a:pt x="2583" y="1469"/>
                      </a:lnTo>
                      <a:lnTo>
                        <a:pt x="2481" y="1469"/>
                      </a:lnTo>
                      <a:lnTo>
                        <a:pt x="2480" y="1467"/>
                      </a:lnTo>
                      <a:lnTo>
                        <a:pt x="2479" y="1466"/>
                      </a:lnTo>
                      <a:lnTo>
                        <a:pt x="2478" y="1465"/>
                      </a:lnTo>
                      <a:lnTo>
                        <a:pt x="2476" y="1465"/>
                      </a:lnTo>
                      <a:lnTo>
                        <a:pt x="2474" y="1465"/>
                      </a:lnTo>
                      <a:lnTo>
                        <a:pt x="2473" y="1466"/>
                      </a:lnTo>
                      <a:lnTo>
                        <a:pt x="2472" y="1467"/>
                      </a:lnTo>
                      <a:lnTo>
                        <a:pt x="2472" y="1469"/>
                      </a:lnTo>
                      <a:lnTo>
                        <a:pt x="2467" y="1469"/>
                      </a:lnTo>
                      <a:lnTo>
                        <a:pt x="2467" y="1467"/>
                      </a:lnTo>
                      <a:lnTo>
                        <a:pt x="2466" y="1466"/>
                      </a:lnTo>
                      <a:lnTo>
                        <a:pt x="2465" y="1465"/>
                      </a:lnTo>
                      <a:lnTo>
                        <a:pt x="2463" y="1465"/>
                      </a:lnTo>
                      <a:lnTo>
                        <a:pt x="2461" y="1465"/>
                      </a:lnTo>
                      <a:lnTo>
                        <a:pt x="2460" y="1466"/>
                      </a:lnTo>
                      <a:lnTo>
                        <a:pt x="2459" y="1467"/>
                      </a:lnTo>
                      <a:lnTo>
                        <a:pt x="2458" y="1469"/>
                      </a:lnTo>
                      <a:lnTo>
                        <a:pt x="2395" y="1469"/>
                      </a:lnTo>
                      <a:lnTo>
                        <a:pt x="2395" y="1467"/>
                      </a:lnTo>
                      <a:lnTo>
                        <a:pt x="2394" y="1466"/>
                      </a:lnTo>
                      <a:lnTo>
                        <a:pt x="2393" y="1465"/>
                      </a:lnTo>
                      <a:lnTo>
                        <a:pt x="2391" y="1465"/>
                      </a:lnTo>
                      <a:lnTo>
                        <a:pt x="2389" y="1465"/>
                      </a:lnTo>
                      <a:lnTo>
                        <a:pt x="2388" y="1466"/>
                      </a:lnTo>
                      <a:lnTo>
                        <a:pt x="2387" y="1467"/>
                      </a:lnTo>
                      <a:lnTo>
                        <a:pt x="2386" y="1469"/>
                      </a:lnTo>
                      <a:lnTo>
                        <a:pt x="2091" y="1469"/>
                      </a:lnTo>
                      <a:lnTo>
                        <a:pt x="2090" y="1467"/>
                      </a:lnTo>
                      <a:lnTo>
                        <a:pt x="2089" y="1466"/>
                      </a:lnTo>
                      <a:lnTo>
                        <a:pt x="2088" y="1465"/>
                      </a:lnTo>
                      <a:lnTo>
                        <a:pt x="2086" y="1465"/>
                      </a:lnTo>
                      <a:lnTo>
                        <a:pt x="2084" y="1465"/>
                      </a:lnTo>
                      <a:lnTo>
                        <a:pt x="2083" y="1466"/>
                      </a:lnTo>
                      <a:lnTo>
                        <a:pt x="2082" y="1467"/>
                      </a:lnTo>
                      <a:lnTo>
                        <a:pt x="2082" y="1469"/>
                      </a:lnTo>
                      <a:lnTo>
                        <a:pt x="2060" y="1469"/>
                      </a:lnTo>
                      <a:lnTo>
                        <a:pt x="2059" y="1467"/>
                      </a:lnTo>
                      <a:lnTo>
                        <a:pt x="2059" y="1466"/>
                      </a:lnTo>
                      <a:lnTo>
                        <a:pt x="2057" y="1465"/>
                      </a:lnTo>
                      <a:lnTo>
                        <a:pt x="2055" y="1465"/>
                      </a:lnTo>
                      <a:lnTo>
                        <a:pt x="2054" y="1465"/>
                      </a:lnTo>
                      <a:lnTo>
                        <a:pt x="2052" y="1466"/>
                      </a:lnTo>
                      <a:lnTo>
                        <a:pt x="2051" y="1467"/>
                      </a:lnTo>
                      <a:lnTo>
                        <a:pt x="2051" y="1469"/>
                      </a:lnTo>
                      <a:lnTo>
                        <a:pt x="2020" y="1469"/>
                      </a:lnTo>
                      <a:lnTo>
                        <a:pt x="2019" y="1467"/>
                      </a:lnTo>
                      <a:lnTo>
                        <a:pt x="2019" y="1466"/>
                      </a:lnTo>
                      <a:lnTo>
                        <a:pt x="2017" y="1465"/>
                      </a:lnTo>
                      <a:lnTo>
                        <a:pt x="2015" y="1465"/>
                      </a:lnTo>
                      <a:lnTo>
                        <a:pt x="2014" y="1465"/>
                      </a:lnTo>
                      <a:lnTo>
                        <a:pt x="2012" y="1466"/>
                      </a:lnTo>
                      <a:lnTo>
                        <a:pt x="2011" y="1467"/>
                      </a:lnTo>
                      <a:lnTo>
                        <a:pt x="2011" y="1469"/>
                      </a:lnTo>
                      <a:lnTo>
                        <a:pt x="2001" y="1469"/>
                      </a:lnTo>
                      <a:lnTo>
                        <a:pt x="2001" y="1467"/>
                      </a:lnTo>
                      <a:lnTo>
                        <a:pt x="2000" y="1466"/>
                      </a:lnTo>
                      <a:lnTo>
                        <a:pt x="1998" y="1465"/>
                      </a:lnTo>
                      <a:lnTo>
                        <a:pt x="1997" y="1465"/>
                      </a:lnTo>
                      <a:lnTo>
                        <a:pt x="1995" y="1465"/>
                      </a:lnTo>
                      <a:lnTo>
                        <a:pt x="1994" y="1466"/>
                      </a:lnTo>
                      <a:lnTo>
                        <a:pt x="1993" y="1467"/>
                      </a:lnTo>
                      <a:lnTo>
                        <a:pt x="1992" y="1469"/>
                      </a:lnTo>
                      <a:lnTo>
                        <a:pt x="1967" y="1469"/>
                      </a:lnTo>
                      <a:lnTo>
                        <a:pt x="1967" y="1467"/>
                      </a:lnTo>
                      <a:lnTo>
                        <a:pt x="1966" y="1466"/>
                      </a:lnTo>
                      <a:lnTo>
                        <a:pt x="1965" y="1465"/>
                      </a:lnTo>
                      <a:lnTo>
                        <a:pt x="1963" y="1465"/>
                      </a:lnTo>
                      <a:lnTo>
                        <a:pt x="1961" y="1465"/>
                      </a:lnTo>
                      <a:lnTo>
                        <a:pt x="1960" y="1466"/>
                      </a:lnTo>
                      <a:lnTo>
                        <a:pt x="1959" y="1467"/>
                      </a:lnTo>
                      <a:lnTo>
                        <a:pt x="1958" y="1469"/>
                      </a:lnTo>
                      <a:lnTo>
                        <a:pt x="1947" y="1469"/>
                      </a:lnTo>
                      <a:lnTo>
                        <a:pt x="1947" y="1467"/>
                      </a:lnTo>
                      <a:lnTo>
                        <a:pt x="1946" y="1466"/>
                      </a:lnTo>
                      <a:lnTo>
                        <a:pt x="1944" y="1465"/>
                      </a:lnTo>
                      <a:lnTo>
                        <a:pt x="1943" y="1465"/>
                      </a:lnTo>
                      <a:lnTo>
                        <a:pt x="1941" y="1465"/>
                      </a:lnTo>
                      <a:lnTo>
                        <a:pt x="1939" y="1466"/>
                      </a:lnTo>
                      <a:lnTo>
                        <a:pt x="1939" y="1467"/>
                      </a:lnTo>
                      <a:lnTo>
                        <a:pt x="1938" y="1469"/>
                      </a:lnTo>
                      <a:lnTo>
                        <a:pt x="1885" y="1469"/>
                      </a:lnTo>
                      <a:lnTo>
                        <a:pt x="1884" y="1467"/>
                      </a:lnTo>
                      <a:lnTo>
                        <a:pt x="1883" y="1466"/>
                      </a:lnTo>
                      <a:lnTo>
                        <a:pt x="1882" y="1465"/>
                      </a:lnTo>
                      <a:lnTo>
                        <a:pt x="1880" y="1465"/>
                      </a:lnTo>
                      <a:lnTo>
                        <a:pt x="1878" y="1465"/>
                      </a:lnTo>
                      <a:lnTo>
                        <a:pt x="1877" y="1466"/>
                      </a:lnTo>
                      <a:lnTo>
                        <a:pt x="1876" y="1467"/>
                      </a:lnTo>
                      <a:lnTo>
                        <a:pt x="1876" y="1469"/>
                      </a:lnTo>
                      <a:lnTo>
                        <a:pt x="1678" y="1469"/>
                      </a:lnTo>
                      <a:lnTo>
                        <a:pt x="1678" y="1467"/>
                      </a:lnTo>
                      <a:lnTo>
                        <a:pt x="1677" y="1466"/>
                      </a:lnTo>
                      <a:lnTo>
                        <a:pt x="1675" y="1465"/>
                      </a:lnTo>
                      <a:lnTo>
                        <a:pt x="1673" y="1465"/>
                      </a:lnTo>
                      <a:lnTo>
                        <a:pt x="1672" y="1465"/>
                      </a:lnTo>
                      <a:lnTo>
                        <a:pt x="1670" y="1466"/>
                      </a:lnTo>
                      <a:lnTo>
                        <a:pt x="1669" y="1467"/>
                      </a:lnTo>
                      <a:lnTo>
                        <a:pt x="1669" y="1469"/>
                      </a:lnTo>
                      <a:lnTo>
                        <a:pt x="1634" y="1469"/>
                      </a:lnTo>
                      <a:lnTo>
                        <a:pt x="1634" y="1467"/>
                      </a:lnTo>
                      <a:lnTo>
                        <a:pt x="1633" y="1466"/>
                      </a:lnTo>
                      <a:lnTo>
                        <a:pt x="1631" y="1465"/>
                      </a:lnTo>
                      <a:lnTo>
                        <a:pt x="1630" y="1465"/>
                      </a:lnTo>
                      <a:lnTo>
                        <a:pt x="1628" y="1465"/>
                      </a:lnTo>
                      <a:lnTo>
                        <a:pt x="1626" y="1466"/>
                      </a:lnTo>
                      <a:lnTo>
                        <a:pt x="1626" y="1467"/>
                      </a:lnTo>
                      <a:lnTo>
                        <a:pt x="1625" y="1469"/>
                      </a:lnTo>
                      <a:lnTo>
                        <a:pt x="1471" y="1469"/>
                      </a:lnTo>
                      <a:lnTo>
                        <a:pt x="1471" y="1467"/>
                      </a:lnTo>
                      <a:lnTo>
                        <a:pt x="1470" y="1466"/>
                      </a:lnTo>
                      <a:lnTo>
                        <a:pt x="1468" y="1465"/>
                      </a:lnTo>
                      <a:lnTo>
                        <a:pt x="1466" y="1465"/>
                      </a:lnTo>
                      <a:lnTo>
                        <a:pt x="1465" y="1465"/>
                      </a:lnTo>
                      <a:lnTo>
                        <a:pt x="1463" y="1466"/>
                      </a:lnTo>
                      <a:lnTo>
                        <a:pt x="1462" y="1467"/>
                      </a:lnTo>
                      <a:lnTo>
                        <a:pt x="1462" y="1469"/>
                      </a:lnTo>
                      <a:lnTo>
                        <a:pt x="1376" y="1469"/>
                      </a:lnTo>
                      <a:lnTo>
                        <a:pt x="1376" y="1467"/>
                      </a:lnTo>
                      <a:lnTo>
                        <a:pt x="1375" y="1466"/>
                      </a:lnTo>
                      <a:lnTo>
                        <a:pt x="1374" y="1465"/>
                      </a:lnTo>
                      <a:lnTo>
                        <a:pt x="1372" y="1465"/>
                      </a:lnTo>
                      <a:lnTo>
                        <a:pt x="1370" y="1465"/>
                      </a:lnTo>
                      <a:lnTo>
                        <a:pt x="1369" y="1466"/>
                      </a:lnTo>
                      <a:lnTo>
                        <a:pt x="1368" y="1467"/>
                      </a:lnTo>
                      <a:lnTo>
                        <a:pt x="1367" y="1469"/>
                      </a:lnTo>
                      <a:lnTo>
                        <a:pt x="1259" y="1469"/>
                      </a:lnTo>
                      <a:lnTo>
                        <a:pt x="1259" y="1467"/>
                      </a:lnTo>
                      <a:lnTo>
                        <a:pt x="1258" y="1466"/>
                      </a:lnTo>
                      <a:lnTo>
                        <a:pt x="1256" y="1465"/>
                      </a:lnTo>
                      <a:lnTo>
                        <a:pt x="1255" y="1465"/>
                      </a:lnTo>
                      <a:lnTo>
                        <a:pt x="1253" y="1465"/>
                      </a:lnTo>
                      <a:lnTo>
                        <a:pt x="1251" y="1466"/>
                      </a:lnTo>
                      <a:lnTo>
                        <a:pt x="1251" y="1467"/>
                      </a:lnTo>
                      <a:lnTo>
                        <a:pt x="1250" y="1469"/>
                      </a:lnTo>
                      <a:lnTo>
                        <a:pt x="1085" y="1469"/>
                      </a:lnTo>
                      <a:lnTo>
                        <a:pt x="1084" y="1467"/>
                      </a:lnTo>
                      <a:lnTo>
                        <a:pt x="1083" y="1466"/>
                      </a:lnTo>
                      <a:lnTo>
                        <a:pt x="1082" y="1465"/>
                      </a:lnTo>
                      <a:lnTo>
                        <a:pt x="1080" y="1465"/>
                      </a:lnTo>
                      <a:lnTo>
                        <a:pt x="1079" y="1465"/>
                      </a:lnTo>
                      <a:lnTo>
                        <a:pt x="1077" y="1466"/>
                      </a:lnTo>
                      <a:lnTo>
                        <a:pt x="1076" y="1467"/>
                      </a:lnTo>
                      <a:lnTo>
                        <a:pt x="1076" y="1469"/>
                      </a:lnTo>
                      <a:lnTo>
                        <a:pt x="984" y="1469"/>
                      </a:lnTo>
                      <a:lnTo>
                        <a:pt x="984" y="1467"/>
                      </a:lnTo>
                      <a:lnTo>
                        <a:pt x="983" y="1466"/>
                      </a:lnTo>
                      <a:lnTo>
                        <a:pt x="981" y="1465"/>
                      </a:lnTo>
                      <a:lnTo>
                        <a:pt x="979" y="1465"/>
                      </a:lnTo>
                      <a:lnTo>
                        <a:pt x="978" y="1465"/>
                      </a:lnTo>
                      <a:lnTo>
                        <a:pt x="976" y="1466"/>
                      </a:lnTo>
                      <a:lnTo>
                        <a:pt x="975" y="1467"/>
                      </a:lnTo>
                      <a:lnTo>
                        <a:pt x="975" y="1469"/>
                      </a:lnTo>
                      <a:lnTo>
                        <a:pt x="921" y="1469"/>
                      </a:lnTo>
                      <a:lnTo>
                        <a:pt x="920" y="1467"/>
                      </a:lnTo>
                      <a:lnTo>
                        <a:pt x="919" y="1466"/>
                      </a:lnTo>
                      <a:lnTo>
                        <a:pt x="918" y="1465"/>
                      </a:lnTo>
                      <a:lnTo>
                        <a:pt x="916" y="1465"/>
                      </a:lnTo>
                      <a:lnTo>
                        <a:pt x="914" y="1465"/>
                      </a:lnTo>
                      <a:lnTo>
                        <a:pt x="913" y="1466"/>
                      </a:lnTo>
                      <a:lnTo>
                        <a:pt x="912" y="1467"/>
                      </a:lnTo>
                      <a:lnTo>
                        <a:pt x="912" y="1469"/>
                      </a:lnTo>
                      <a:lnTo>
                        <a:pt x="898" y="1469"/>
                      </a:lnTo>
                      <a:lnTo>
                        <a:pt x="898" y="1467"/>
                      </a:lnTo>
                      <a:lnTo>
                        <a:pt x="897" y="1466"/>
                      </a:lnTo>
                      <a:lnTo>
                        <a:pt x="895" y="1465"/>
                      </a:lnTo>
                      <a:lnTo>
                        <a:pt x="894" y="1465"/>
                      </a:lnTo>
                      <a:lnTo>
                        <a:pt x="892" y="1465"/>
                      </a:lnTo>
                      <a:lnTo>
                        <a:pt x="890" y="1466"/>
                      </a:lnTo>
                      <a:lnTo>
                        <a:pt x="889" y="1467"/>
                      </a:lnTo>
                      <a:lnTo>
                        <a:pt x="889" y="1469"/>
                      </a:lnTo>
                      <a:lnTo>
                        <a:pt x="846" y="1469"/>
                      </a:lnTo>
                      <a:lnTo>
                        <a:pt x="846" y="1467"/>
                      </a:lnTo>
                      <a:lnTo>
                        <a:pt x="845" y="1466"/>
                      </a:lnTo>
                      <a:lnTo>
                        <a:pt x="843" y="1465"/>
                      </a:lnTo>
                      <a:lnTo>
                        <a:pt x="842" y="1465"/>
                      </a:lnTo>
                      <a:lnTo>
                        <a:pt x="840" y="1465"/>
                      </a:lnTo>
                      <a:lnTo>
                        <a:pt x="839" y="1466"/>
                      </a:lnTo>
                      <a:lnTo>
                        <a:pt x="838" y="1467"/>
                      </a:lnTo>
                      <a:lnTo>
                        <a:pt x="837" y="1469"/>
                      </a:lnTo>
                      <a:lnTo>
                        <a:pt x="774" y="1469"/>
                      </a:lnTo>
                      <a:lnTo>
                        <a:pt x="774" y="1467"/>
                      </a:lnTo>
                      <a:lnTo>
                        <a:pt x="772" y="1466"/>
                      </a:lnTo>
                      <a:lnTo>
                        <a:pt x="771" y="1465"/>
                      </a:lnTo>
                      <a:lnTo>
                        <a:pt x="769" y="1465"/>
                      </a:lnTo>
                      <a:lnTo>
                        <a:pt x="768" y="1465"/>
                      </a:lnTo>
                      <a:lnTo>
                        <a:pt x="766" y="1466"/>
                      </a:lnTo>
                      <a:lnTo>
                        <a:pt x="765" y="1467"/>
                      </a:lnTo>
                      <a:lnTo>
                        <a:pt x="765" y="1469"/>
                      </a:lnTo>
                      <a:lnTo>
                        <a:pt x="711" y="1469"/>
                      </a:lnTo>
                      <a:lnTo>
                        <a:pt x="711" y="1467"/>
                      </a:lnTo>
                      <a:lnTo>
                        <a:pt x="710" y="1466"/>
                      </a:lnTo>
                      <a:lnTo>
                        <a:pt x="709" y="1465"/>
                      </a:lnTo>
                      <a:lnTo>
                        <a:pt x="707" y="1465"/>
                      </a:lnTo>
                      <a:lnTo>
                        <a:pt x="705" y="1465"/>
                      </a:lnTo>
                      <a:lnTo>
                        <a:pt x="704" y="1466"/>
                      </a:lnTo>
                      <a:lnTo>
                        <a:pt x="703" y="1467"/>
                      </a:lnTo>
                      <a:lnTo>
                        <a:pt x="702" y="1469"/>
                      </a:lnTo>
                      <a:lnTo>
                        <a:pt x="691" y="1469"/>
                      </a:lnTo>
                      <a:lnTo>
                        <a:pt x="691" y="1467"/>
                      </a:lnTo>
                      <a:lnTo>
                        <a:pt x="690" y="1466"/>
                      </a:lnTo>
                      <a:lnTo>
                        <a:pt x="689" y="1465"/>
                      </a:lnTo>
                      <a:lnTo>
                        <a:pt x="687" y="1465"/>
                      </a:lnTo>
                      <a:lnTo>
                        <a:pt x="685" y="1465"/>
                      </a:lnTo>
                      <a:lnTo>
                        <a:pt x="684" y="1466"/>
                      </a:lnTo>
                      <a:lnTo>
                        <a:pt x="683" y="1467"/>
                      </a:lnTo>
                      <a:lnTo>
                        <a:pt x="682" y="1469"/>
                      </a:lnTo>
                      <a:lnTo>
                        <a:pt x="662" y="1469"/>
                      </a:lnTo>
                      <a:lnTo>
                        <a:pt x="662" y="1467"/>
                      </a:lnTo>
                      <a:lnTo>
                        <a:pt x="661" y="1466"/>
                      </a:lnTo>
                      <a:lnTo>
                        <a:pt x="659" y="1465"/>
                      </a:lnTo>
                      <a:lnTo>
                        <a:pt x="657" y="1465"/>
                      </a:lnTo>
                      <a:lnTo>
                        <a:pt x="656" y="1465"/>
                      </a:lnTo>
                      <a:lnTo>
                        <a:pt x="654" y="1466"/>
                      </a:lnTo>
                      <a:lnTo>
                        <a:pt x="653" y="1467"/>
                      </a:lnTo>
                      <a:lnTo>
                        <a:pt x="653" y="1469"/>
                      </a:lnTo>
                      <a:lnTo>
                        <a:pt x="633" y="1469"/>
                      </a:lnTo>
                      <a:lnTo>
                        <a:pt x="632" y="1467"/>
                      </a:lnTo>
                      <a:lnTo>
                        <a:pt x="631" y="1466"/>
                      </a:lnTo>
                      <a:lnTo>
                        <a:pt x="630" y="1465"/>
                      </a:lnTo>
                      <a:lnTo>
                        <a:pt x="628" y="1465"/>
                      </a:lnTo>
                      <a:lnTo>
                        <a:pt x="626" y="1465"/>
                      </a:lnTo>
                      <a:lnTo>
                        <a:pt x="625" y="1466"/>
                      </a:lnTo>
                      <a:lnTo>
                        <a:pt x="624" y="1467"/>
                      </a:lnTo>
                      <a:lnTo>
                        <a:pt x="624" y="1469"/>
                      </a:lnTo>
                      <a:lnTo>
                        <a:pt x="545" y="1469"/>
                      </a:lnTo>
                      <a:lnTo>
                        <a:pt x="544" y="1467"/>
                      </a:lnTo>
                      <a:lnTo>
                        <a:pt x="543" y="1466"/>
                      </a:lnTo>
                      <a:lnTo>
                        <a:pt x="542" y="1465"/>
                      </a:lnTo>
                      <a:lnTo>
                        <a:pt x="540" y="1465"/>
                      </a:lnTo>
                      <a:lnTo>
                        <a:pt x="538" y="1465"/>
                      </a:lnTo>
                      <a:lnTo>
                        <a:pt x="537" y="1466"/>
                      </a:lnTo>
                      <a:lnTo>
                        <a:pt x="536" y="1467"/>
                      </a:lnTo>
                      <a:lnTo>
                        <a:pt x="536" y="1469"/>
                      </a:lnTo>
                      <a:lnTo>
                        <a:pt x="445" y="1469"/>
                      </a:lnTo>
                      <a:lnTo>
                        <a:pt x="445" y="1467"/>
                      </a:lnTo>
                      <a:lnTo>
                        <a:pt x="444" y="1466"/>
                      </a:lnTo>
                      <a:lnTo>
                        <a:pt x="443" y="1465"/>
                      </a:lnTo>
                      <a:lnTo>
                        <a:pt x="441" y="1465"/>
                      </a:lnTo>
                      <a:lnTo>
                        <a:pt x="439" y="1465"/>
                      </a:lnTo>
                      <a:lnTo>
                        <a:pt x="438" y="1466"/>
                      </a:lnTo>
                      <a:lnTo>
                        <a:pt x="437" y="1467"/>
                      </a:lnTo>
                      <a:lnTo>
                        <a:pt x="436" y="1469"/>
                      </a:lnTo>
                      <a:lnTo>
                        <a:pt x="425" y="1469"/>
                      </a:lnTo>
                      <a:lnTo>
                        <a:pt x="424" y="1467"/>
                      </a:lnTo>
                      <a:lnTo>
                        <a:pt x="423" y="1465"/>
                      </a:lnTo>
                      <a:lnTo>
                        <a:pt x="422" y="1464"/>
                      </a:lnTo>
                      <a:lnTo>
                        <a:pt x="419" y="1463"/>
                      </a:lnTo>
                      <a:lnTo>
                        <a:pt x="417" y="1462"/>
                      </a:lnTo>
                      <a:lnTo>
                        <a:pt x="415" y="1462"/>
                      </a:lnTo>
                      <a:lnTo>
                        <a:pt x="412" y="1463"/>
                      </a:lnTo>
                      <a:lnTo>
                        <a:pt x="410" y="1464"/>
                      </a:lnTo>
                      <a:lnTo>
                        <a:pt x="409" y="1465"/>
                      </a:lnTo>
                      <a:lnTo>
                        <a:pt x="408" y="1467"/>
                      </a:lnTo>
                      <a:lnTo>
                        <a:pt x="407" y="1469"/>
                      </a:lnTo>
                      <a:lnTo>
                        <a:pt x="396" y="1469"/>
                      </a:lnTo>
                      <a:lnTo>
                        <a:pt x="396" y="1467"/>
                      </a:lnTo>
                      <a:lnTo>
                        <a:pt x="395" y="1466"/>
                      </a:lnTo>
                      <a:lnTo>
                        <a:pt x="393" y="1465"/>
                      </a:lnTo>
                      <a:lnTo>
                        <a:pt x="391" y="1465"/>
                      </a:lnTo>
                      <a:lnTo>
                        <a:pt x="390" y="1465"/>
                      </a:lnTo>
                      <a:lnTo>
                        <a:pt x="388" y="1466"/>
                      </a:lnTo>
                      <a:lnTo>
                        <a:pt x="387" y="1467"/>
                      </a:lnTo>
                      <a:lnTo>
                        <a:pt x="387" y="1469"/>
                      </a:lnTo>
                      <a:lnTo>
                        <a:pt x="353" y="1469"/>
                      </a:lnTo>
                      <a:lnTo>
                        <a:pt x="353" y="1467"/>
                      </a:lnTo>
                      <a:lnTo>
                        <a:pt x="352" y="1466"/>
                      </a:lnTo>
                      <a:lnTo>
                        <a:pt x="350" y="1465"/>
                      </a:lnTo>
                      <a:lnTo>
                        <a:pt x="349" y="1465"/>
                      </a:lnTo>
                      <a:lnTo>
                        <a:pt x="347" y="1465"/>
                      </a:lnTo>
                      <a:lnTo>
                        <a:pt x="345" y="1466"/>
                      </a:lnTo>
                      <a:lnTo>
                        <a:pt x="345" y="1467"/>
                      </a:lnTo>
                      <a:lnTo>
                        <a:pt x="344" y="1469"/>
                      </a:lnTo>
                      <a:lnTo>
                        <a:pt x="340" y="1469"/>
                      </a:lnTo>
                      <a:lnTo>
                        <a:pt x="339" y="1467"/>
                      </a:lnTo>
                      <a:lnTo>
                        <a:pt x="338" y="1465"/>
                      </a:lnTo>
                      <a:lnTo>
                        <a:pt x="337" y="1464"/>
                      </a:lnTo>
                      <a:lnTo>
                        <a:pt x="335" y="1463"/>
                      </a:lnTo>
                      <a:lnTo>
                        <a:pt x="333" y="1463"/>
                      </a:lnTo>
                      <a:lnTo>
                        <a:pt x="331" y="1463"/>
                      </a:lnTo>
                      <a:lnTo>
                        <a:pt x="329" y="1463"/>
                      </a:lnTo>
                      <a:lnTo>
                        <a:pt x="327" y="1464"/>
                      </a:lnTo>
                      <a:lnTo>
                        <a:pt x="325" y="1465"/>
                      </a:lnTo>
                      <a:lnTo>
                        <a:pt x="324" y="1467"/>
                      </a:lnTo>
                      <a:lnTo>
                        <a:pt x="324" y="1469"/>
                      </a:lnTo>
                      <a:lnTo>
                        <a:pt x="299" y="1469"/>
                      </a:lnTo>
                      <a:lnTo>
                        <a:pt x="299" y="1467"/>
                      </a:lnTo>
                      <a:lnTo>
                        <a:pt x="298" y="1466"/>
                      </a:lnTo>
                      <a:lnTo>
                        <a:pt x="296" y="1464"/>
                      </a:lnTo>
                      <a:lnTo>
                        <a:pt x="295" y="1463"/>
                      </a:lnTo>
                      <a:lnTo>
                        <a:pt x="293" y="1463"/>
                      </a:lnTo>
                      <a:lnTo>
                        <a:pt x="291" y="1463"/>
                      </a:lnTo>
                      <a:lnTo>
                        <a:pt x="289" y="1463"/>
                      </a:lnTo>
                      <a:lnTo>
                        <a:pt x="287" y="1464"/>
                      </a:lnTo>
                      <a:lnTo>
                        <a:pt x="285" y="1466"/>
                      </a:lnTo>
                      <a:lnTo>
                        <a:pt x="285" y="1467"/>
                      </a:lnTo>
                      <a:lnTo>
                        <a:pt x="284" y="1469"/>
                      </a:lnTo>
                      <a:lnTo>
                        <a:pt x="222" y="1469"/>
                      </a:lnTo>
                      <a:lnTo>
                        <a:pt x="222" y="1467"/>
                      </a:lnTo>
                      <a:lnTo>
                        <a:pt x="221" y="1466"/>
                      </a:lnTo>
                      <a:lnTo>
                        <a:pt x="219" y="1465"/>
                      </a:lnTo>
                      <a:lnTo>
                        <a:pt x="218" y="1465"/>
                      </a:lnTo>
                      <a:lnTo>
                        <a:pt x="216" y="1465"/>
                      </a:lnTo>
                      <a:lnTo>
                        <a:pt x="214" y="1466"/>
                      </a:lnTo>
                      <a:lnTo>
                        <a:pt x="213" y="1467"/>
                      </a:lnTo>
                      <a:lnTo>
                        <a:pt x="213" y="1469"/>
                      </a:lnTo>
                      <a:lnTo>
                        <a:pt x="211" y="1469"/>
                      </a:lnTo>
                      <a:lnTo>
                        <a:pt x="211" y="1467"/>
                      </a:lnTo>
                      <a:lnTo>
                        <a:pt x="210" y="1466"/>
                      </a:lnTo>
                      <a:lnTo>
                        <a:pt x="208" y="1465"/>
                      </a:lnTo>
                      <a:lnTo>
                        <a:pt x="207" y="1465"/>
                      </a:lnTo>
                      <a:lnTo>
                        <a:pt x="205" y="1465"/>
                      </a:lnTo>
                      <a:lnTo>
                        <a:pt x="203" y="1466"/>
                      </a:lnTo>
                      <a:lnTo>
                        <a:pt x="202" y="1467"/>
                      </a:lnTo>
                      <a:lnTo>
                        <a:pt x="202" y="1469"/>
                      </a:lnTo>
                      <a:lnTo>
                        <a:pt x="182" y="1469"/>
                      </a:lnTo>
                      <a:lnTo>
                        <a:pt x="182" y="1467"/>
                      </a:lnTo>
                      <a:lnTo>
                        <a:pt x="181" y="1466"/>
                      </a:lnTo>
                      <a:lnTo>
                        <a:pt x="179" y="1465"/>
                      </a:lnTo>
                      <a:lnTo>
                        <a:pt x="178" y="1465"/>
                      </a:lnTo>
                      <a:lnTo>
                        <a:pt x="176" y="1465"/>
                      </a:lnTo>
                      <a:lnTo>
                        <a:pt x="175" y="1466"/>
                      </a:lnTo>
                      <a:lnTo>
                        <a:pt x="174" y="1467"/>
                      </a:lnTo>
                      <a:lnTo>
                        <a:pt x="173" y="1469"/>
                      </a:lnTo>
                      <a:lnTo>
                        <a:pt x="164" y="1469"/>
                      </a:lnTo>
                      <a:lnTo>
                        <a:pt x="164" y="1467"/>
                      </a:lnTo>
                      <a:lnTo>
                        <a:pt x="163" y="1466"/>
                      </a:lnTo>
                      <a:lnTo>
                        <a:pt x="161" y="1465"/>
                      </a:lnTo>
                      <a:lnTo>
                        <a:pt x="160" y="1465"/>
                      </a:lnTo>
                      <a:lnTo>
                        <a:pt x="158" y="1465"/>
                      </a:lnTo>
                      <a:lnTo>
                        <a:pt x="156" y="1466"/>
                      </a:lnTo>
                      <a:lnTo>
                        <a:pt x="155" y="1467"/>
                      </a:lnTo>
                      <a:lnTo>
                        <a:pt x="155" y="1469"/>
                      </a:lnTo>
                      <a:lnTo>
                        <a:pt x="102" y="1469"/>
                      </a:lnTo>
                      <a:lnTo>
                        <a:pt x="102" y="1467"/>
                      </a:lnTo>
                      <a:lnTo>
                        <a:pt x="101" y="1466"/>
                      </a:lnTo>
                      <a:lnTo>
                        <a:pt x="100" y="1465"/>
                      </a:lnTo>
                      <a:lnTo>
                        <a:pt x="98" y="1465"/>
                      </a:lnTo>
                      <a:lnTo>
                        <a:pt x="96" y="1465"/>
                      </a:lnTo>
                      <a:lnTo>
                        <a:pt x="95" y="1466"/>
                      </a:lnTo>
                      <a:lnTo>
                        <a:pt x="94" y="1467"/>
                      </a:lnTo>
                      <a:lnTo>
                        <a:pt x="93" y="1469"/>
                      </a:lnTo>
                      <a:lnTo>
                        <a:pt x="49" y="1469"/>
                      </a:lnTo>
                      <a:lnTo>
                        <a:pt x="49" y="1467"/>
                      </a:lnTo>
                      <a:lnTo>
                        <a:pt x="48" y="1466"/>
                      </a:lnTo>
                      <a:lnTo>
                        <a:pt x="46" y="1465"/>
                      </a:lnTo>
                      <a:lnTo>
                        <a:pt x="45" y="1465"/>
                      </a:lnTo>
                      <a:lnTo>
                        <a:pt x="43" y="1465"/>
                      </a:lnTo>
                      <a:lnTo>
                        <a:pt x="42" y="1466"/>
                      </a:lnTo>
                      <a:lnTo>
                        <a:pt x="40" y="1467"/>
                      </a:lnTo>
                      <a:lnTo>
                        <a:pt x="40" y="1469"/>
                      </a:lnTo>
                      <a:lnTo>
                        <a:pt x="0" y="146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5004000" y="4374720"/>
                  <a:ext cx="11520" cy="11880"/>
                </a:xfrm>
                <a:custGeom>
                  <a:avLst/>
                  <a:gdLst/>
                  <a:ahLst/>
                  <a:rect l="l" t="t" r="r" b="b"/>
                  <a:pathLst>
                    <a:path w="11" h="9">
                      <a:moveTo>
                        <a:pt x="0" y="5"/>
                      </a:moveTo>
                      <a:lnTo>
                        <a:pt x="11" y="0"/>
                      </a:lnTo>
                      <a:lnTo>
                        <a:pt x="10" y="2"/>
                      </a:lnTo>
                      <a:lnTo>
                        <a:pt x="10" y="5"/>
                      </a:lnTo>
                      <a:lnTo>
                        <a:pt x="10" y="7"/>
                      </a:lnTo>
                      <a:lnTo>
                        <a:pt x="11" y="9"/>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62" name=""/>
                <p:cNvSpPr/>
                <p:nvPr/>
              </p:nvSpPr>
              <p:spPr>
                <a:xfrm>
                  <a:off x="4878720" y="4409640"/>
                  <a:ext cx="1832400" cy="120240"/>
                </a:xfrm>
                <a:custGeom>
                  <a:avLst/>
                  <a:gdLst/>
                  <a:ahLst/>
                  <a:rect l="l" t="t" r="r" b="b"/>
                  <a:pathLst>
                    <a:path w="1731" h="90">
                      <a:moveTo>
                        <a:pt x="1731" y="80"/>
                      </a:moveTo>
                      <a:lnTo>
                        <a:pt x="1731" y="90"/>
                      </a:lnTo>
                      <a:lnTo>
                        <a:pt x="1574" y="90"/>
                      </a:lnTo>
                      <a:lnTo>
                        <a:pt x="1573" y="89"/>
                      </a:lnTo>
                      <a:lnTo>
                        <a:pt x="1572" y="88"/>
                      </a:lnTo>
                      <a:lnTo>
                        <a:pt x="1571" y="87"/>
                      </a:lnTo>
                      <a:lnTo>
                        <a:pt x="1569" y="87"/>
                      </a:lnTo>
                      <a:lnTo>
                        <a:pt x="1568" y="87"/>
                      </a:lnTo>
                      <a:lnTo>
                        <a:pt x="1566" y="88"/>
                      </a:lnTo>
                      <a:lnTo>
                        <a:pt x="1565" y="89"/>
                      </a:lnTo>
                      <a:lnTo>
                        <a:pt x="1565" y="90"/>
                      </a:lnTo>
                      <a:lnTo>
                        <a:pt x="1386" y="90"/>
                      </a:lnTo>
                      <a:lnTo>
                        <a:pt x="1386" y="89"/>
                      </a:lnTo>
                      <a:lnTo>
                        <a:pt x="1385" y="88"/>
                      </a:lnTo>
                      <a:lnTo>
                        <a:pt x="1383" y="87"/>
                      </a:lnTo>
                      <a:lnTo>
                        <a:pt x="1382" y="87"/>
                      </a:lnTo>
                      <a:lnTo>
                        <a:pt x="1380" y="87"/>
                      </a:lnTo>
                      <a:lnTo>
                        <a:pt x="1378" y="88"/>
                      </a:lnTo>
                      <a:lnTo>
                        <a:pt x="1378" y="89"/>
                      </a:lnTo>
                      <a:lnTo>
                        <a:pt x="1377" y="90"/>
                      </a:lnTo>
                      <a:lnTo>
                        <a:pt x="1279" y="90"/>
                      </a:lnTo>
                      <a:lnTo>
                        <a:pt x="1279" y="33"/>
                      </a:lnTo>
                      <a:lnTo>
                        <a:pt x="1212" y="33"/>
                      </a:lnTo>
                      <a:lnTo>
                        <a:pt x="1211" y="32"/>
                      </a:lnTo>
                      <a:lnTo>
                        <a:pt x="1210" y="30"/>
                      </a:lnTo>
                      <a:lnTo>
                        <a:pt x="1209" y="30"/>
                      </a:lnTo>
                      <a:lnTo>
                        <a:pt x="1207" y="29"/>
                      </a:lnTo>
                      <a:lnTo>
                        <a:pt x="1206" y="30"/>
                      </a:lnTo>
                      <a:lnTo>
                        <a:pt x="1204" y="30"/>
                      </a:lnTo>
                      <a:lnTo>
                        <a:pt x="1203" y="32"/>
                      </a:lnTo>
                      <a:lnTo>
                        <a:pt x="1203" y="33"/>
                      </a:lnTo>
                      <a:lnTo>
                        <a:pt x="1111" y="33"/>
                      </a:lnTo>
                      <a:lnTo>
                        <a:pt x="1111" y="32"/>
                      </a:lnTo>
                      <a:lnTo>
                        <a:pt x="1110" y="30"/>
                      </a:lnTo>
                      <a:lnTo>
                        <a:pt x="1108" y="30"/>
                      </a:lnTo>
                      <a:lnTo>
                        <a:pt x="1106" y="29"/>
                      </a:lnTo>
                      <a:lnTo>
                        <a:pt x="1105" y="30"/>
                      </a:lnTo>
                      <a:lnTo>
                        <a:pt x="1103" y="30"/>
                      </a:lnTo>
                      <a:lnTo>
                        <a:pt x="1102" y="32"/>
                      </a:lnTo>
                      <a:lnTo>
                        <a:pt x="1102" y="33"/>
                      </a:lnTo>
                      <a:lnTo>
                        <a:pt x="1079" y="33"/>
                      </a:lnTo>
                      <a:lnTo>
                        <a:pt x="1079" y="32"/>
                      </a:lnTo>
                      <a:lnTo>
                        <a:pt x="1078" y="30"/>
                      </a:lnTo>
                      <a:lnTo>
                        <a:pt x="1076" y="30"/>
                      </a:lnTo>
                      <a:lnTo>
                        <a:pt x="1075" y="29"/>
                      </a:lnTo>
                      <a:lnTo>
                        <a:pt x="1073" y="30"/>
                      </a:lnTo>
                      <a:lnTo>
                        <a:pt x="1071" y="30"/>
                      </a:lnTo>
                      <a:lnTo>
                        <a:pt x="1070" y="32"/>
                      </a:lnTo>
                      <a:lnTo>
                        <a:pt x="1070" y="33"/>
                      </a:lnTo>
                      <a:lnTo>
                        <a:pt x="1048" y="33"/>
                      </a:lnTo>
                      <a:lnTo>
                        <a:pt x="1047" y="32"/>
                      </a:lnTo>
                      <a:lnTo>
                        <a:pt x="1046" y="30"/>
                      </a:lnTo>
                      <a:lnTo>
                        <a:pt x="1045" y="30"/>
                      </a:lnTo>
                      <a:lnTo>
                        <a:pt x="1043" y="29"/>
                      </a:lnTo>
                      <a:lnTo>
                        <a:pt x="1041" y="30"/>
                      </a:lnTo>
                      <a:lnTo>
                        <a:pt x="1040" y="30"/>
                      </a:lnTo>
                      <a:lnTo>
                        <a:pt x="1039" y="32"/>
                      </a:lnTo>
                      <a:lnTo>
                        <a:pt x="1039" y="33"/>
                      </a:lnTo>
                      <a:lnTo>
                        <a:pt x="1025" y="33"/>
                      </a:lnTo>
                      <a:lnTo>
                        <a:pt x="1025" y="32"/>
                      </a:lnTo>
                      <a:lnTo>
                        <a:pt x="1024" y="30"/>
                      </a:lnTo>
                      <a:lnTo>
                        <a:pt x="1022" y="30"/>
                      </a:lnTo>
                      <a:lnTo>
                        <a:pt x="1021" y="29"/>
                      </a:lnTo>
                      <a:lnTo>
                        <a:pt x="1019" y="30"/>
                      </a:lnTo>
                      <a:lnTo>
                        <a:pt x="1017" y="30"/>
                      </a:lnTo>
                      <a:lnTo>
                        <a:pt x="1016" y="32"/>
                      </a:lnTo>
                      <a:lnTo>
                        <a:pt x="1016" y="33"/>
                      </a:lnTo>
                      <a:lnTo>
                        <a:pt x="973" y="33"/>
                      </a:lnTo>
                      <a:lnTo>
                        <a:pt x="973" y="32"/>
                      </a:lnTo>
                      <a:lnTo>
                        <a:pt x="972" y="30"/>
                      </a:lnTo>
                      <a:lnTo>
                        <a:pt x="970" y="30"/>
                      </a:lnTo>
                      <a:lnTo>
                        <a:pt x="969" y="29"/>
                      </a:lnTo>
                      <a:lnTo>
                        <a:pt x="967" y="30"/>
                      </a:lnTo>
                      <a:lnTo>
                        <a:pt x="966" y="30"/>
                      </a:lnTo>
                      <a:lnTo>
                        <a:pt x="965" y="32"/>
                      </a:lnTo>
                      <a:lnTo>
                        <a:pt x="964" y="33"/>
                      </a:lnTo>
                      <a:lnTo>
                        <a:pt x="838" y="33"/>
                      </a:lnTo>
                      <a:lnTo>
                        <a:pt x="838" y="32"/>
                      </a:lnTo>
                      <a:lnTo>
                        <a:pt x="837" y="30"/>
                      </a:lnTo>
                      <a:lnTo>
                        <a:pt x="836" y="30"/>
                      </a:lnTo>
                      <a:lnTo>
                        <a:pt x="834" y="29"/>
                      </a:lnTo>
                      <a:lnTo>
                        <a:pt x="832" y="30"/>
                      </a:lnTo>
                      <a:lnTo>
                        <a:pt x="831" y="30"/>
                      </a:lnTo>
                      <a:lnTo>
                        <a:pt x="830" y="32"/>
                      </a:lnTo>
                      <a:lnTo>
                        <a:pt x="829" y="33"/>
                      </a:lnTo>
                      <a:lnTo>
                        <a:pt x="818" y="33"/>
                      </a:lnTo>
                      <a:lnTo>
                        <a:pt x="818" y="32"/>
                      </a:lnTo>
                      <a:lnTo>
                        <a:pt x="817" y="30"/>
                      </a:lnTo>
                      <a:lnTo>
                        <a:pt x="816" y="30"/>
                      </a:lnTo>
                      <a:lnTo>
                        <a:pt x="814" y="29"/>
                      </a:lnTo>
                      <a:lnTo>
                        <a:pt x="812" y="30"/>
                      </a:lnTo>
                      <a:lnTo>
                        <a:pt x="811" y="30"/>
                      </a:lnTo>
                      <a:lnTo>
                        <a:pt x="810" y="32"/>
                      </a:lnTo>
                      <a:lnTo>
                        <a:pt x="809" y="33"/>
                      </a:lnTo>
                      <a:lnTo>
                        <a:pt x="789" y="33"/>
                      </a:lnTo>
                      <a:lnTo>
                        <a:pt x="789" y="32"/>
                      </a:lnTo>
                      <a:lnTo>
                        <a:pt x="788" y="30"/>
                      </a:lnTo>
                      <a:lnTo>
                        <a:pt x="786" y="30"/>
                      </a:lnTo>
                      <a:lnTo>
                        <a:pt x="784" y="29"/>
                      </a:lnTo>
                      <a:lnTo>
                        <a:pt x="783" y="30"/>
                      </a:lnTo>
                      <a:lnTo>
                        <a:pt x="781" y="30"/>
                      </a:lnTo>
                      <a:lnTo>
                        <a:pt x="780" y="32"/>
                      </a:lnTo>
                      <a:lnTo>
                        <a:pt x="780" y="33"/>
                      </a:lnTo>
                      <a:lnTo>
                        <a:pt x="760" y="33"/>
                      </a:lnTo>
                      <a:lnTo>
                        <a:pt x="759" y="32"/>
                      </a:lnTo>
                      <a:lnTo>
                        <a:pt x="758" y="30"/>
                      </a:lnTo>
                      <a:lnTo>
                        <a:pt x="757" y="30"/>
                      </a:lnTo>
                      <a:lnTo>
                        <a:pt x="755" y="29"/>
                      </a:lnTo>
                      <a:lnTo>
                        <a:pt x="753" y="30"/>
                      </a:lnTo>
                      <a:lnTo>
                        <a:pt x="752" y="30"/>
                      </a:lnTo>
                      <a:lnTo>
                        <a:pt x="751" y="32"/>
                      </a:lnTo>
                      <a:lnTo>
                        <a:pt x="751" y="33"/>
                      </a:lnTo>
                      <a:lnTo>
                        <a:pt x="672" y="33"/>
                      </a:lnTo>
                      <a:lnTo>
                        <a:pt x="671" y="32"/>
                      </a:lnTo>
                      <a:lnTo>
                        <a:pt x="670" y="30"/>
                      </a:lnTo>
                      <a:lnTo>
                        <a:pt x="669" y="30"/>
                      </a:lnTo>
                      <a:lnTo>
                        <a:pt x="667" y="29"/>
                      </a:lnTo>
                      <a:lnTo>
                        <a:pt x="665" y="30"/>
                      </a:lnTo>
                      <a:lnTo>
                        <a:pt x="664" y="30"/>
                      </a:lnTo>
                      <a:lnTo>
                        <a:pt x="663" y="32"/>
                      </a:lnTo>
                      <a:lnTo>
                        <a:pt x="663" y="33"/>
                      </a:lnTo>
                      <a:lnTo>
                        <a:pt x="572" y="33"/>
                      </a:lnTo>
                      <a:lnTo>
                        <a:pt x="572" y="32"/>
                      </a:lnTo>
                      <a:lnTo>
                        <a:pt x="571" y="30"/>
                      </a:lnTo>
                      <a:lnTo>
                        <a:pt x="570" y="30"/>
                      </a:lnTo>
                      <a:lnTo>
                        <a:pt x="568" y="29"/>
                      </a:lnTo>
                      <a:lnTo>
                        <a:pt x="566" y="30"/>
                      </a:lnTo>
                      <a:lnTo>
                        <a:pt x="565" y="30"/>
                      </a:lnTo>
                      <a:lnTo>
                        <a:pt x="564" y="32"/>
                      </a:lnTo>
                      <a:lnTo>
                        <a:pt x="563" y="33"/>
                      </a:lnTo>
                      <a:lnTo>
                        <a:pt x="552" y="33"/>
                      </a:lnTo>
                      <a:lnTo>
                        <a:pt x="551" y="31"/>
                      </a:lnTo>
                      <a:lnTo>
                        <a:pt x="550" y="29"/>
                      </a:lnTo>
                      <a:lnTo>
                        <a:pt x="549" y="28"/>
                      </a:lnTo>
                      <a:lnTo>
                        <a:pt x="546" y="27"/>
                      </a:lnTo>
                      <a:lnTo>
                        <a:pt x="544" y="26"/>
                      </a:lnTo>
                      <a:lnTo>
                        <a:pt x="542" y="26"/>
                      </a:lnTo>
                      <a:lnTo>
                        <a:pt x="539" y="27"/>
                      </a:lnTo>
                      <a:lnTo>
                        <a:pt x="537" y="28"/>
                      </a:lnTo>
                      <a:lnTo>
                        <a:pt x="536" y="29"/>
                      </a:lnTo>
                      <a:lnTo>
                        <a:pt x="535" y="31"/>
                      </a:lnTo>
                      <a:lnTo>
                        <a:pt x="534" y="33"/>
                      </a:lnTo>
                      <a:lnTo>
                        <a:pt x="523" y="33"/>
                      </a:lnTo>
                      <a:lnTo>
                        <a:pt x="523" y="32"/>
                      </a:lnTo>
                      <a:lnTo>
                        <a:pt x="522" y="30"/>
                      </a:lnTo>
                      <a:lnTo>
                        <a:pt x="520" y="30"/>
                      </a:lnTo>
                      <a:lnTo>
                        <a:pt x="518" y="29"/>
                      </a:lnTo>
                      <a:lnTo>
                        <a:pt x="517" y="30"/>
                      </a:lnTo>
                      <a:lnTo>
                        <a:pt x="515" y="30"/>
                      </a:lnTo>
                      <a:lnTo>
                        <a:pt x="514" y="32"/>
                      </a:lnTo>
                      <a:lnTo>
                        <a:pt x="514" y="33"/>
                      </a:lnTo>
                      <a:lnTo>
                        <a:pt x="480" y="33"/>
                      </a:lnTo>
                      <a:lnTo>
                        <a:pt x="480" y="32"/>
                      </a:lnTo>
                      <a:lnTo>
                        <a:pt x="479" y="30"/>
                      </a:lnTo>
                      <a:lnTo>
                        <a:pt x="477" y="30"/>
                      </a:lnTo>
                      <a:lnTo>
                        <a:pt x="476" y="29"/>
                      </a:lnTo>
                      <a:lnTo>
                        <a:pt x="474" y="30"/>
                      </a:lnTo>
                      <a:lnTo>
                        <a:pt x="472" y="30"/>
                      </a:lnTo>
                      <a:lnTo>
                        <a:pt x="472" y="32"/>
                      </a:lnTo>
                      <a:lnTo>
                        <a:pt x="471" y="33"/>
                      </a:lnTo>
                      <a:lnTo>
                        <a:pt x="467" y="33"/>
                      </a:lnTo>
                      <a:lnTo>
                        <a:pt x="466" y="31"/>
                      </a:lnTo>
                      <a:lnTo>
                        <a:pt x="465" y="30"/>
                      </a:lnTo>
                      <a:lnTo>
                        <a:pt x="464" y="28"/>
                      </a:lnTo>
                      <a:lnTo>
                        <a:pt x="462" y="27"/>
                      </a:lnTo>
                      <a:lnTo>
                        <a:pt x="460" y="27"/>
                      </a:lnTo>
                      <a:lnTo>
                        <a:pt x="458" y="27"/>
                      </a:lnTo>
                      <a:lnTo>
                        <a:pt x="456" y="27"/>
                      </a:lnTo>
                      <a:lnTo>
                        <a:pt x="454" y="28"/>
                      </a:lnTo>
                      <a:lnTo>
                        <a:pt x="452" y="30"/>
                      </a:lnTo>
                      <a:lnTo>
                        <a:pt x="451" y="31"/>
                      </a:lnTo>
                      <a:lnTo>
                        <a:pt x="451" y="33"/>
                      </a:lnTo>
                      <a:lnTo>
                        <a:pt x="426" y="33"/>
                      </a:lnTo>
                      <a:lnTo>
                        <a:pt x="426" y="31"/>
                      </a:lnTo>
                      <a:lnTo>
                        <a:pt x="425" y="30"/>
                      </a:lnTo>
                      <a:lnTo>
                        <a:pt x="424" y="28"/>
                      </a:lnTo>
                      <a:lnTo>
                        <a:pt x="422" y="28"/>
                      </a:lnTo>
                      <a:lnTo>
                        <a:pt x="420" y="27"/>
                      </a:lnTo>
                      <a:lnTo>
                        <a:pt x="418" y="27"/>
                      </a:lnTo>
                      <a:lnTo>
                        <a:pt x="416" y="28"/>
                      </a:lnTo>
                      <a:lnTo>
                        <a:pt x="414" y="28"/>
                      </a:lnTo>
                      <a:lnTo>
                        <a:pt x="412" y="30"/>
                      </a:lnTo>
                      <a:lnTo>
                        <a:pt x="412" y="31"/>
                      </a:lnTo>
                      <a:lnTo>
                        <a:pt x="411" y="33"/>
                      </a:lnTo>
                      <a:lnTo>
                        <a:pt x="349" y="33"/>
                      </a:lnTo>
                      <a:lnTo>
                        <a:pt x="349" y="32"/>
                      </a:lnTo>
                      <a:lnTo>
                        <a:pt x="348" y="30"/>
                      </a:lnTo>
                      <a:lnTo>
                        <a:pt x="346" y="30"/>
                      </a:lnTo>
                      <a:lnTo>
                        <a:pt x="345" y="29"/>
                      </a:lnTo>
                      <a:lnTo>
                        <a:pt x="343" y="30"/>
                      </a:lnTo>
                      <a:lnTo>
                        <a:pt x="341" y="30"/>
                      </a:lnTo>
                      <a:lnTo>
                        <a:pt x="340" y="32"/>
                      </a:lnTo>
                      <a:lnTo>
                        <a:pt x="340" y="33"/>
                      </a:lnTo>
                      <a:lnTo>
                        <a:pt x="338" y="33"/>
                      </a:lnTo>
                      <a:lnTo>
                        <a:pt x="338" y="32"/>
                      </a:lnTo>
                      <a:lnTo>
                        <a:pt x="337" y="30"/>
                      </a:lnTo>
                      <a:lnTo>
                        <a:pt x="335" y="30"/>
                      </a:lnTo>
                      <a:lnTo>
                        <a:pt x="334" y="29"/>
                      </a:lnTo>
                      <a:lnTo>
                        <a:pt x="332" y="30"/>
                      </a:lnTo>
                      <a:lnTo>
                        <a:pt x="330" y="30"/>
                      </a:lnTo>
                      <a:lnTo>
                        <a:pt x="329" y="32"/>
                      </a:lnTo>
                      <a:lnTo>
                        <a:pt x="329" y="33"/>
                      </a:lnTo>
                      <a:lnTo>
                        <a:pt x="309" y="33"/>
                      </a:lnTo>
                      <a:lnTo>
                        <a:pt x="309" y="32"/>
                      </a:lnTo>
                      <a:lnTo>
                        <a:pt x="308" y="30"/>
                      </a:lnTo>
                      <a:lnTo>
                        <a:pt x="306" y="30"/>
                      </a:lnTo>
                      <a:lnTo>
                        <a:pt x="305" y="29"/>
                      </a:lnTo>
                      <a:lnTo>
                        <a:pt x="303" y="30"/>
                      </a:lnTo>
                      <a:lnTo>
                        <a:pt x="302" y="30"/>
                      </a:lnTo>
                      <a:lnTo>
                        <a:pt x="301" y="32"/>
                      </a:lnTo>
                      <a:lnTo>
                        <a:pt x="300" y="33"/>
                      </a:lnTo>
                      <a:lnTo>
                        <a:pt x="291" y="33"/>
                      </a:lnTo>
                      <a:lnTo>
                        <a:pt x="291" y="32"/>
                      </a:lnTo>
                      <a:lnTo>
                        <a:pt x="290" y="30"/>
                      </a:lnTo>
                      <a:lnTo>
                        <a:pt x="288" y="30"/>
                      </a:lnTo>
                      <a:lnTo>
                        <a:pt x="287" y="29"/>
                      </a:lnTo>
                      <a:lnTo>
                        <a:pt x="285" y="30"/>
                      </a:lnTo>
                      <a:lnTo>
                        <a:pt x="283" y="30"/>
                      </a:lnTo>
                      <a:lnTo>
                        <a:pt x="282" y="32"/>
                      </a:lnTo>
                      <a:lnTo>
                        <a:pt x="282" y="33"/>
                      </a:lnTo>
                      <a:lnTo>
                        <a:pt x="229" y="33"/>
                      </a:lnTo>
                      <a:lnTo>
                        <a:pt x="229" y="32"/>
                      </a:lnTo>
                      <a:lnTo>
                        <a:pt x="228" y="30"/>
                      </a:lnTo>
                      <a:lnTo>
                        <a:pt x="227" y="30"/>
                      </a:lnTo>
                      <a:lnTo>
                        <a:pt x="225" y="29"/>
                      </a:lnTo>
                      <a:lnTo>
                        <a:pt x="223" y="30"/>
                      </a:lnTo>
                      <a:lnTo>
                        <a:pt x="222" y="30"/>
                      </a:lnTo>
                      <a:lnTo>
                        <a:pt x="221" y="32"/>
                      </a:lnTo>
                      <a:lnTo>
                        <a:pt x="220" y="33"/>
                      </a:lnTo>
                      <a:lnTo>
                        <a:pt x="176" y="33"/>
                      </a:lnTo>
                      <a:lnTo>
                        <a:pt x="176" y="32"/>
                      </a:lnTo>
                      <a:lnTo>
                        <a:pt x="175" y="30"/>
                      </a:lnTo>
                      <a:lnTo>
                        <a:pt x="173" y="30"/>
                      </a:lnTo>
                      <a:lnTo>
                        <a:pt x="172" y="29"/>
                      </a:lnTo>
                      <a:lnTo>
                        <a:pt x="170" y="30"/>
                      </a:lnTo>
                      <a:lnTo>
                        <a:pt x="169" y="30"/>
                      </a:lnTo>
                      <a:lnTo>
                        <a:pt x="167" y="32"/>
                      </a:lnTo>
                      <a:lnTo>
                        <a:pt x="167" y="33"/>
                      </a:lnTo>
                      <a:lnTo>
                        <a:pt x="37" y="33"/>
                      </a:lnTo>
                      <a:lnTo>
                        <a:pt x="37" y="32"/>
                      </a:lnTo>
                      <a:lnTo>
                        <a:pt x="36" y="30"/>
                      </a:lnTo>
                      <a:lnTo>
                        <a:pt x="34" y="30"/>
                      </a:lnTo>
                      <a:lnTo>
                        <a:pt x="33" y="29"/>
                      </a:lnTo>
                      <a:lnTo>
                        <a:pt x="31" y="30"/>
                      </a:lnTo>
                      <a:lnTo>
                        <a:pt x="29" y="30"/>
                      </a:lnTo>
                      <a:lnTo>
                        <a:pt x="28" y="32"/>
                      </a:lnTo>
                      <a:lnTo>
                        <a:pt x="28" y="33"/>
                      </a:lnTo>
                      <a:lnTo>
                        <a:pt x="0" y="33"/>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487260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64" name=""/>
                <p:cNvSpPr/>
                <p:nvPr/>
              </p:nvSpPr>
              <p:spPr>
                <a:xfrm>
                  <a:off x="4374000" y="3240720"/>
                  <a:ext cx="367920" cy="1024200"/>
                </a:xfrm>
                <a:custGeom>
                  <a:avLst/>
                  <a:gdLst/>
                  <a:ahLst/>
                  <a:rect l="l" t="t" r="r" b="b"/>
                  <a:pathLst>
                    <a:path w="348" h="767">
                      <a:moveTo>
                        <a:pt x="0" y="0"/>
                      </a:moveTo>
                      <a:lnTo>
                        <a:pt x="0" y="767"/>
                      </a:lnTo>
                      <a:lnTo>
                        <a:pt x="3" y="767"/>
                      </a:lnTo>
                      <a:lnTo>
                        <a:pt x="3" y="765"/>
                      </a:lnTo>
                      <a:lnTo>
                        <a:pt x="4" y="764"/>
                      </a:lnTo>
                      <a:lnTo>
                        <a:pt x="5" y="762"/>
                      </a:lnTo>
                      <a:lnTo>
                        <a:pt x="7" y="761"/>
                      </a:lnTo>
                      <a:lnTo>
                        <a:pt x="9" y="761"/>
                      </a:lnTo>
                      <a:lnTo>
                        <a:pt x="12" y="761"/>
                      </a:lnTo>
                      <a:lnTo>
                        <a:pt x="14" y="761"/>
                      </a:lnTo>
                      <a:lnTo>
                        <a:pt x="16" y="762"/>
                      </a:lnTo>
                      <a:lnTo>
                        <a:pt x="17" y="764"/>
                      </a:lnTo>
                      <a:lnTo>
                        <a:pt x="18" y="765"/>
                      </a:lnTo>
                      <a:lnTo>
                        <a:pt x="18" y="767"/>
                      </a:lnTo>
                      <a:lnTo>
                        <a:pt x="80" y="767"/>
                      </a:lnTo>
                      <a:lnTo>
                        <a:pt x="81" y="766"/>
                      </a:lnTo>
                      <a:lnTo>
                        <a:pt x="82" y="765"/>
                      </a:lnTo>
                      <a:lnTo>
                        <a:pt x="83" y="764"/>
                      </a:lnTo>
                      <a:lnTo>
                        <a:pt x="85" y="764"/>
                      </a:lnTo>
                      <a:lnTo>
                        <a:pt x="86" y="764"/>
                      </a:lnTo>
                      <a:lnTo>
                        <a:pt x="88" y="765"/>
                      </a:lnTo>
                      <a:lnTo>
                        <a:pt x="89" y="766"/>
                      </a:lnTo>
                      <a:lnTo>
                        <a:pt x="89" y="767"/>
                      </a:lnTo>
                      <a:lnTo>
                        <a:pt x="141" y="767"/>
                      </a:lnTo>
                      <a:lnTo>
                        <a:pt x="141" y="766"/>
                      </a:lnTo>
                      <a:lnTo>
                        <a:pt x="142" y="765"/>
                      </a:lnTo>
                      <a:lnTo>
                        <a:pt x="144" y="764"/>
                      </a:lnTo>
                      <a:lnTo>
                        <a:pt x="146" y="764"/>
                      </a:lnTo>
                      <a:lnTo>
                        <a:pt x="147" y="764"/>
                      </a:lnTo>
                      <a:lnTo>
                        <a:pt x="149" y="765"/>
                      </a:lnTo>
                      <a:lnTo>
                        <a:pt x="150" y="766"/>
                      </a:lnTo>
                      <a:lnTo>
                        <a:pt x="150" y="767"/>
                      </a:lnTo>
                      <a:lnTo>
                        <a:pt x="246" y="767"/>
                      </a:lnTo>
                      <a:lnTo>
                        <a:pt x="246" y="766"/>
                      </a:lnTo>
                      <a:lnTo>
                        <a:pt x="247" y="765"/>
                      </a:lnTo>
                      <a:lnTo>
                        <a:pt x="248" y="764"/>
                      </a:lnTo>
                      <a:lnTo>
                        <a:pt x="250" y="764"/>
                      </a:lnTo>
                      <a:lnTo>
                        <a:pt x="252" y="764"/>
                      </a:lnTo>
                      <a:lnTo>
                        <a:pt x="253" y="765"/>
                      </a:lnTo>
                      <a:lnTo>
                        <a:pt x="254" y="766"/>
                      </a:lnTo>
                      <a:lnTo>
                        <a:pt x="255" y="767"/>
                      </a:lnTo>
                      <a:lnTo>
                        <a:pt x="273" y="767"/>
                      </a:lnTo>
                      <a:lnTo>
                        <a:pt x="273" y="766"/>
                      </a:lnTo>
                      <a:lnTo>
                        <a:pt x="274" y="765"/>
                      </a:lnTo>
                      <a:lnTo>
                        <a:pt x="276" y="764"/>
                      </a:lnTo>
                      <a:lnTo>
                        <a:pt x="277" y="764"/>
                      </a:lnTo>
                      <a:lnTo>
                        <a:pt x="279" y="764"/>
                      </a:lnTo>
                      <a:lnTo>
                        <a:pt x="280" y="765"/>
                      </a:lnTo>
                      <a:lnTo>
                        <a:pt x="281" y="766"/>
                      </a:lnTo>
                      <a:lnTo>
                        <a:pt x="282" y="767"/>
                      </a:lnTo>
                      <a:lnTo>
                        <a:pt x="313" y="767"/>
                      </a:lnTo>
                      <a:lnTo>
                        <a:pt x="314" y="766"/>
                      </a:lnTo>
                      <a:lnTo>
                        <a:pt x="315" y="765"/>
                      </a:lnTo>
                      <a:lnTo>
                        <a:pt x="316" y="764"/>
                      </a:lnTo>
                      <a:lnTo>
                        <a:pt x="318" y="764"/>
                      </a:lnTo>
                      <a:lnTo>
                        <a:pt x="319" y="764"/>
                      </a:lnTo>
                      <a:lnTo>
                        <a:pt x="321" y="765"/>
                      </a:lnTo>
                      <a:lnTo>
                        <a:pt x="322" y="766"/>
                      </a:lnTo>
                      <a:lnTo>
                        <a:pt x="322" y="767"/>
                      </a:lnTo>
                      <a:lnTo>
                        <a:pt x="334" y="767"/>
                      </a:lnTo>
                      <a:lnTo>
                        <a:pt x="335" y="766"/>
                      </a:lnTo>
                      <a:lnTo>
                        <a:pt x="336" y="765"/>
                      </a:lnTo>
                      <a:lnTo>
                        <a:pt x="337" y="764"/>
                      </a:lnTo>
                      <a:lnTo>
                        <a:pt x="339" y="764"/>
                      </a:lnTo>
                      <a:lnTo>
                        <a:pt x="341" y="764"/>
                      </a:lnTo>
                      <a:lnTo>
                        <a:pt x="342" y="765"/>
                      </a:lnTo>
                      <a:lnTo>
                        <a:pt x="343" y="766"/>
                      </a:lnTo>
                      <a:lnTo>
                        <a:pt x="343" y="767"/>
                      </a:lnTo>
                      <a:lnTo>
                        <a:pt x="348" y="767"/>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4741200" y="425844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66" name=""/>
                <p:cNvSpPr/>
                <p:nvPr/>
              </p:nvSpPr>
              <p:spPr>
                <a:xfrm>
                  <a:off x="4606920" y="4373640"/>
                  <a:ext cx="135360" cy="1004040"/>
                </a:xfrm>
                <a:custGeom>
                  <a:avLst/>
                  <a:gdLst/>
                  <a:ahLst/>
                  <a:rect l="l" t="t" r="r" b="b"/>
                  <a:pathLst>
                    <a:path w="128" h="752">
                      <a:moveTo>
                        <a:pt x="128" y="6"/>
                      </a:moveTo>
                      <a:lnTo>
                        <a:pt x="123" y="6"/>
                      </a:lnTo>
                      <a:lnTo>
                        <a:pt x="123" y="4"/>
                      </a:lnTo>
                      <a:lnTo>
                        <a:pt x="122" y="3"/>
                      </a:lnTo>
                      <a:lnTo>
                        <a:pt x="121" y="2"/>
                      </a:lnTo>
                      <a:lnTo>
                        <a:pt x="119" y="2"/>
                      </a:lnTo>
                      <a:lnTo>
                        <a:pt x="117" y="2"/>
                      </a:lnTo>
                      <a:lnTo>
                        <a:pt x="116" y="3"/>
                      </a:lnTo>
                      <a:lnTo>
                        <a:pt x="115" y="4"/>
                      </a:lnTo>
                      <a:lnTo>
                        <a:pt x="114" y="6"/>
                      </a:lnTo>
                      <a:lnTo>
                        <a:pt x="62" y="6"/>
                      </a:lnTo>
                      <a:lnTo>
                        <a:pt x="61" y="4"/>
                      </a:lnTo>
                      <a:lnTo>
                        <a:pt x="60" y="2"/>
                      </a:lnTo>
                      <a:lnTo>
                        <a:pt x="59" y="1"/>
                      </a:lnTo>
                      <a:lnTo>
                        <a:pt x="57" y="0"/>
                      </a:lnTo>
                      <a:lnTo>
                        <a:pt x="55" y="0"/>
                      </a:lnTo>
                      <a:lnTo>
                        <a:pt x="53" y="0"/>
                      </a:lnTo>
                      <a:lnTo>
                        <a:pt x="51" y="0"/>
                      </a:lnTo>
                      <a:lnTo>
                        <a:pt x="49" y="1"/>
                      </a:lnTo>
                      <a:lnTo>
                        <a:pt x="47" y="2"/>
                      </a:lnTo>
                      <a:lnTo>
                        <a:pt x="46" y="4"/>
                      </a:lnTo>
                      <a:lnTo>
                        <a:pt x="46" y="6"/>
                      </a:lnTo>
                      <a:lnTo>
                        <a:pt x="35" y="6"/>
                      </a:lnTo>
                      <a:lnTo>
                        <a:pt x="34" y="4"/>
                      </a:lnTo>
                      <a:lnTo>
                        <a:pt x="33" y="3"/>
                      </a:lnTo>
                      <a:lnTo>
                        <a:pt x="32" y="2"/>
                      </a:lnTo>
                      <a:lnTo>
                        <a:pt x="30" y="2"/>
                      </a:lnTo>
                      <a:lnTo>
                        <a:pt x="28" y="2"/>
                      </a:lnTo>
                      <a:lnTo>
                        <a:pt x="27" y="3"/>
                      </a:lnTo>
                      <a:lnTo>
                        <a:pt x="26" y="4"/>
                      </a:lnTo>
                      <a:lnTo>
                        <a:pt x="26" y="6"/>
                      </a:lnTo>
                      <a:lnTo>
                        <a:pt x="0" y="6"/>
                      </a:lnTo>
                      <a:lnTo>
                        <a:pt x="0" y="75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4741200" y="437472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68" name=""/>
                <p:cNvSpPr/>
                <p:nvPr/>
              </p:nvSpPr>
              <p:spPr>
                <a:xfrm>
                  <a:off x="4974120" y="4138560"/>
                  <a:ext cx="1711800" cy="93240"/>
                </a:xfrm>
                <a:custGeom>
                  <a:avLst/>
                  <a:gdLst/>
                  <a:ahLst/>
                  <a:rect l="l" t="t" r="r" b="b"/>
                  <a:pathLst>
                    <a:path w="1617" h="70">
                      <a:moveTo>
                        <a:pt x="1617" y="0"/>
                      </a:moveTo>
                      <a:lnTo>
                        <a:pt x="1617" y="12"/>
                      </a:lnTo>
                      <a:lnTo>
                        <a:pt x="1462" y="12"/>
                      </a:lnTo>
                      <a:lnTo>
                        <a:pt x="1462" y="10"/>
                      </a:lnTo>
                      <a:lnTo>
                        <a:pt x="1461" y="9"/>
                      </a:lnTo>
                      <a:lnTo>
                        <a:pt x="1460" y="8"/>
                      </a:lnTo>
                      <a:lnTo>
                        <a:pt x="1458" y="8"/>
                      </a:lnTo>
                      <a:lnTo>
                        <a:pt x="1456" y="8"/>
                      </a:lnTo>
                      <a:lnTo>
                        <a:pt x="1455" y="9"/>
                      </a:lnTo>
                      <a:lnTo>
                        <a:pt x="1454" y="10"/>
                      </a:lnTo>
                      <a:lnTo>
                        <a:pt x="1453" y="12"/>
                      </a:lnTo>
                      <a:lnTo>
                        <a:pt x="1451" y="12"/>
                      </a:lnTo>
                      <a:lnTo>
                        <a:pt x="1450" y="10"/>
                      </a:lnTo>
                      <a:lnTo>
                        <a:pt x="1449" y="9"/>
                      </a:lnTo>
                      <a:lnTo>
                        <a:pt x="1448" y="8"/>
                      </a:lnTo>
                      <a:lnTo>
                        <a:pt x="1446" y="8"/>
                      </a:lnTo>
                      <a:lnTo>
                        <a:pt x="1444" y="8"/>
                      </a:lnTo>
                      <a:lnTo>
                        <a:pt x="1443" y="9"/>
                      </a:lnTo>
                      <a:lnTo>
                        <a:pt x="1442" y="10"/>
                      </a:lnTo>
                      <a:lnTo>
                        <a:pt x="1442" y="12"/>
                      </a:lnTo>
                      <a:lnTo>
                        <a:pt x="1320" y="12"/>
                      </a:lnTo>
                      <a:lnTo>
                        <a:pt x="1320" y="10"/>
                      </a:lnTo>
                      <a:lnTo>
                        <a:pt x="1319" y="9"/>
                      </a:lnTo>
                      <a:lnTo>
                        <a:pt x="1318" y="8"/>
                      </a:lnTo>
                      <a:lnTo>
                        <a:pt x="1316" y="8"/>
                      </a:lnTo>
                      <a:lnTo>
                        <a:pt x="1314" y="8"/>
                      </a:lnTo>
                      <a:lnTo>
                        <a:pt x="1313" y="9"/>
                      </a:lnTo>
                      <a:lnTo>
                        <a:pt x="1312" y="10"/>
                      </a:lnTo>
                      <a:lnTo>
                        <a:pt x="1312" y="12"/>
                      </a:lnTo>
                      <a:lnTo>
                        <a:pt x="1296" y="12"/>
                      </a:lnTo>
                      <a:lnTo>
                        <a:pt x="1296" y="10"/>
                      </a:lnTo>
                      <a:lnTo>
                        <a:pt x="1295" y="9"/>
                      </a:lnTo>
                      <a:lnTo>
                        <a:pt x="1293" y="8"/>
                      </a:lnTo>
                      <a:lnTo>
                        <a:pt x="1292" y="8"/>
                      </a:lnTo>
                      <a:lnTo>
                        <a:pt x="1290" y="8"/>
                      </a:lnTo>
                      <a:lnTo>
                        <a:pt x="1288" y="9"/>
                      </a:lnTo>
                      <a:lnTo>
                        <a:pt x="1288" y="10"/>
                      </a:lnTo>
                      <a:lnTo>
                        <a:pt x="1287" y="12"/>
                      </a:lnTo>
                      <a:lnTo>
                        <a:pt x="1282" y="12"/>
                      </a:lnTo>
                      <a:lnTo>
                        <a:pt x="1281" y="10"/>
                      </a:lnTo>
                      <a:lnTo>
                        <a:pt x="1280" y="9"/>
                      </a:lnTo>
                      <a:lnTo>
                        <a:pt x="1279" y="8"/>
                      </a:lnTo>
                      <a:lnTo>
                        <a:pt x="1277" y="8"/>
                      </a:lnTo>
                      <a:lnTo>
                        <a:pt x="1275" y="8"/>
                      </a:lnTo>
                      <a:lnTo>
                        <a:pt x="1274" y="9"/>
                      </a:lnTo>
                      <a:lnTo>
                        <a:pt x="1273" y="10"/>
                      </a:lnTo>
                      <a:lnTo>
                        <a:pt x="1273" y="12"/>
                      </a:lnTo>
                      <a:lnTo>
                        <a:pt x="1261" y="12"/>
                      </a:lnTo>
                      <a:lnTo>
                        <a:pt x="1261" y="10"/>
                      </a:lnTo>
                      <a:lnTo>
                        <a:pt x="1260" y="9"/>
                      </a:lnTo>
                      <a:lnTo>
                        <a:pt x="1259" y="8"/>
                      </a:lnTo>
                      <a:lnTo>
                        <a:pt x="1257" y="8"/>
                      </a:lnTo>
                      <a:lnTo>
                        <a:pt x="1255" y="8"/>
                      </a:lnTo>
                      <a:lnTo>
                        <a:pt x="1254" y="9"/>
                      </a:lnTo>
                      <a:lnTo>
                        <a:pt x="1253" y="10"/>
                      </a:lnTo>
                      <a:lnTo>
                        <a:pt x="1252" y="12"/>
                      </a:lnTo>
                      <a:lnTo>
                        <a:pt x="1190" y="12"/>
                      </a:lnTo>
                      <a:lnTo>
                        <a:pt x="1190" y="10"/>
                      </a:lnTo>
                      <a:lnTo>
                        <a:pt x="1189" y="9"/>
                      </a:lnTo>
                      <a:lnTo>
                        <a:pt x="1188" y="8"/>
                      </a:lnTo>
                      <a:lnTo>
                        <a:pt x="1186" y="8"/>
                      </a:lnTo>
                      <a:lnTo>
                        <a:pt x="1184" y="8"/>
                      </a:lnTo>
                      <a:lnTo>
                        <a:pt x="1183" y="9"/>
                      </a:lnTo>
                      <a:lnTo>
                        <a:pt x="1182" y="10"/>
                      </a:lnTo>
                      <a:lnTo>
                        <a:pt x="1181" y="12"/>
                      </a:lnTo>
                      <a:lnTo>
                        <a:pt x="1125" y="12"/>
                      </a:lnTo>
                      <a:lnTo>
                        <a:pt x="1125" y="10"/>
                      </a:lnTo>
                      <a:lnTo>
                        <a:pt x="1124" y="9"/>
                      </a:lnTo>
                      <a:lnTo>
                        <a:pt x="1123" y="8"/>
                      </a:lnTo>
                      <a:lnTo>
                        <a:pt x="1121" y="8"/>
                      </a:lnTo>
                      <a:lnTo>
                        <a:pt x="1119" y="8"/>
                      </a:lnTo>
                      <a:lnTo>
                        <a:pt x="1118" y="9"/>
                      </a:lnTo>
                      <a:lnTo>
                        <a:pt x="1117" y="10"/>
                      </a:lnTo>
                      <a:lnTo>
                        <a:pt x="1116" y="12"/>
                      </a:lnTo>
                      <a:lnTo>
                        <a:pt x="1021" y="12"/>
                      </a:lnTo>
                      <a:lnTo>
                        <a:pt x="1021" y="10"/>
                      </a:lnTo>
                      <a:lnTo>
                        <a:pt x="1020" y="9"/>
                      </a:lnTo>
                      <a:lnTo>
                        <a:pt x="1018" y="8"/>
                      </a:lnTo>
                      <a:lnTo>
                        <a:pt x="1016" y="8"/>
                      </a:lnTo>
                      <a:lnTo>
                        <a:pt x="1015" y="8"/>
                      </a:lnTo>
                      <a:lnTo>
                        <a:pt x="1013" y="9"/>
                      </a:lnTo>
                      <a:lnTo>
                        <a:pt x="1012" y="10"/>
                      </a:lnTo>
                      <a:lnTo>
                        <a:pt x="1012" y="12"/>
                      </a:lnTo>
                      <a:lnTo>
                        <a:pt x="958" y="12"/>
                      </a:lnTo>
                      <a:lnTo>
                        <a:pt x="957" y="10"/>
                      </a:lnTo>
                      <a:lnTo>
                        <a:pt x="956" y="9"/>
                      </a:lnTo>
                      <a:lnTo>
                        <a:pt x="955" y="8"/>
                      </a:lnTo>
                      <a:lnTo>
                        <a:pt x="953" y="8"/>
                      </a:lnTo>
                      <a:lnTo>
                        <a:pt x="951" y="8"/>
                      </a:lnTo>
                      <a:lnTo>
                        <a:pt x="950" y="9"/>
                      </a:lnTo>
                      <a:lnTo>
                        <a:pt x="949" y="10"/>
                      </a:lnTo>
                      <a:lnTo>
                        <a:pt x="949" y="12"/>
                      </a:lnTo>
                      <a:lnTo>
                        <a:pt x="935" y="12"/>
                      </a:lnTo>
                      <a:lnTo>
                        <a:pt x="935" y="10"/>
                      </a:lnTo>
                      <a:lnTo>
                        <a:pt x="934" y="9"/>
                      </a:lnTo>
                      <a:lnTo>
                        <a:pt x="932" y="8"/>
                      </a:lnTo>
                      <a:lnTo>
                        <a:pt x="931" y="8"/>
                      </a:lnTo>
                      <a:lnTo>
                        <a:pt x="929" y="8"/>
                      </a:lnTo>
                      <a:lnTo>
                        <a:pt x="927" y="9"/>
                      </a:lnTo>
                      <a:lnTo>
                        <a:pt x="926" y="10"/>
                      </a:lnTo>
                      <a:lnTo>
                        <a:pt x="926" y="12"/>
                      </a:lnTo>
                      <a:lnTo>
                        <a:pt x="917" y="12"/>
                      </a:lnTo>
                      <a:lnTo>
                        <a:pt x="917" y="10"/>
                      </a:lnTo>
                      <a:lnTo>
                        <a:pt x="916" y="9"/>
                      </a:lnTo>
                      <a:lnTo>
                        <a:pt x="914" y="8"/>
                      </a:lnTo>
                      <a:lnTo>
                        <a:pt x="913" y="8"/>
                      </a:lnTo>
                      <a:lnTo>
                        <a:pt x="911" y="8"/>
                      </a:lnTo>
                      <a:lnTo>
                        <a:pt x="909" y="9"/>
                      </a:lnTo>
                      <a:lnTo>
                        <a:pt x="908" y="10"/>
                      </a:lnTo>
                      <a:lnTo>
                        <a:pt x="908" y="12"/>
                      </a:lnTo>
                      <a:lnTo>
                        <a:pt x="811" y="12"/>
                      </a:lnTo>
                      <a:lnTo>
                        <a:pt x="811" y="10"/>
                      </a:lnTo>
                      <a:lnTo>
                        <a:pt x="809" y="9"/>
                      </a:lnTo>
                      <a:lnTo>
                        <a:pt x="808" y="8"/>
                      </a:lnTo>
                      <a:lnTo>
                        <a:pt x="806" y="8"/>
                      </a:lnTo>
                      <a:lnTo>
                        <a:pt x="805" y="8"/>
                      </a:lnTo>
                      <a:lnTo>
                        <a:pt x="803" y="9"/>
                      </a:lnTo>
                      <a:lnTo>
                        <a:pt x="802" y="10"/>
                      </a:lnTo>
                      <a:lnTo>
                        <a:pt x="802" y="12"/>
                      </a:lnTo>
                      <a:lnTo>
                        <a:pt x="776" y="12"/>
                      </a:lnTo>
                      <a:lnTo>
                        <a:pt x="776" y="10"/>
                      </a:lnTo>
                      <a:lnTo>
                        <a:pt x="775" y="9"/>
                      </a:lnTo>
                      <a:lnTo>
                        <a:pt x="773" y="8"/>
                      </a:lnTo>
                      <a:lnTo>
                        <a:pt x="772" y="8"/>
                      </a:lnTo>
                      <a:lnTo>
                        <a:pt x="770" y="8"/>
                      </a:lnTo>
                      <a:lnTo>
                        <a:pt x="768" y="9"/>
                      </a:lnTo>
                      <a:lnTo>
                        <a:pt x="768" y="10"/>
                      </a:lnTo>
                      <a:lnTo>
                        <a:pt x="767" y="12"/>
                      </a:lnTo>
                      <a:lnTo>
                        <a:pt x="748" y="12"/>
                      </a:lnTo>
                      <a:lnTo>
                        <a:pt x="748" y="10"/>
                      </a:lnTo>
                      <a:lnTo>
                        <a:pt x="747" y="9"/>
                      </a:lnTo>
                      <a:lnTo>
                        <a:pt x="746" y="8"/>
                      </a:lnTo>
                      <a:lnTo>
                        <a:pt x="744" y="8"/>
                      </a:lnTo>
                      <a:lnTo>
                        <a:pt x="742" y="8"/>
                      </a:lnTo>
                      <a:lnTo>
                        <a:pt x="741" y="9"/>
                      </a:lnTo>
                      <a:lnTo>
                        <a:pt x="740" y="10"/>
                      </a:lnTo>
                      <a:lnTo>
                        <a:pt x="739" y="12"/>
                      </a:lnTo>
                      <a:lnTo>
                        <a:pt x="715" y="12"/>
                      </a:lnTo>
                      <a:lnTo>
                        <a:pt x="715" y="51"/>
                      </a:lnTo>
                      <a:lnTo>
                        <a:pt x="670" y="51"/>
                      </a:lnTo>
                      <a:lnTo>
                        <a:pt x="669" y="49"/>
                      </a:lnTo>
                      <a:lnTo>
                        <a:pt x="668" y="48"/>
                      </a:lnTo>
                      <a:lnTo>
                        <a:pt x="667" y="47"/>
                      </a:lnTo>
                      <a:lnTo>
                        <a:pt x="665" y="47"/>
                      </a:lnTo>
                      <a:lnTo>
                        <a:pt x="663" y="47"/>
                      </a:lnTo>
                      <a:lnTo>
                        <a:pt x="662" y="48"/>
                      </a:lnTo>
                      <a:lnTo>
                        <a:pt x="661" y="49"/>
                      </a:lnTo>
                      <a:lnTo>
                        <a:pt x="661" y="51"/>
                      </a:lnTo>
                      <a:lnTo>
                        <a:pt x="582" y="51"/>
                      </a:lnTo>
                      <a:lnTo>
                        <a:pt x="581" y="49"/>
                      </a:lnTo>
                      <a:lnTo>
                        <a:pt x="580" y="48"/>
                      </a:lnTo>
                      <a:lnTo>
                        <a:pt x="579" y="47"/>
                      </a:lnTo>
                      <a:lnTo>
                        <a:pt x="577" y="47"/>
                      </a:lnTo>
                      <a:lnTo>
                        <a:pt x="575" y="47"/>
                      </a:lnTo>
                      <a:lnTo>
                        <a:pt x="574" y="48"/>
                      </a:lnTo>
                      <a:lnTo>
                        <a:pt x="573" y="49"/>
                      </a:lnTo>
                      <a:lnTo>
                        <a:pt x="573" y="51"/>
                      </a:lnTo>
                      <a:lnTo>
                        <a:pt x="482" y="51"/>
                      </a:lnTo>
                      <a:lnTo>
                        <a:pt x="482" y="49"/>
                      </a:lnTo>
                      <a:lnTo>
                        <a:pt x="481" y="47"/>
                      </a:lnTo>
                      <a:lnTo>
                        <a:pt x="480" y="46"/>
                      </a:lnTo>
                      <a:lnTo>
                        <a:pt x="478" y="45"/>
                      </a:lnTo>
                      <a:lnTo>
                        <a:pt x="475" y="44"/>
                      </a:lnTo>
                      <a:lnTo>
                        <a:pt x="473" y="44"/>
                      </a:lnTo>
                      <a:lnTo>
                        <a:pt x="471" y="45"/>
                      </a:lnTo>
                      <a:lnTo>
                        <a:pt x="469" y="46"/>
                      </a:lnTo>
                      <a:lnTo>
                        <a:pt x="467" y="47"/>
                      </a:lnTo>
                      <a:lnTo>
                        <a:pt x="466" y="49"/>
                      </a:lnTo>
                      <a:lnTo>
                        <a:pt x="466" y="51"/>
                      </a:lnTo>
                      <a:lnTo>
                        <a:pt x="462" y="51"/>
                      </a:lnTo>
                      <a:lnTo>
                        <a:pt x="461" y="49"/>
                      </a:lnTo>
                      <a:lnTo>
                        <a:pt x="460" y="47"/>
                      </a:lnTo>
                      <a:lnTo>
                        <a:pt x="459" y="46"/>
                      </a:lnTo>
                      <a:lnTo>
                        <a:pt x="456" y="45"/>
                      </a:lnTo>
                      <a:lnTo>
                        <a:pt x="454" y="44"/>
                      </a:lnTo>
                      <a:lnTo>
                        <a:pt x="452" y="44"/>
                      </a:lnTo>
                      <a:lnTo>
                        <a:pt x="449" y="45"/>
                      </a:lnTo>
                      <a:lnTo>
                        <a:pt x="447" y="46"/>
                      </a:lnTo>
                      <a:lnTo>
                        <a:pt x="446" y="47"/>
                      </a:lnTo>
                      <a:lnTo>
                        <a:pt x="445" y="49"/>
                      </a:lnTo>
                      <a:lnTo>
                        <a:pt x="444" y="51"/>
                      </a:lnTo>
                      <a:lnTo>
                        <a:pt x="433" y="51"/>
                      </a:lnTo>
                      <a:lnTo>
                        <a:pt x="433" y="49"/>
                      </a:lnTo>
                      <a:lnTo>
                        <a:pt x="432" y="48"/>
                      </a:lnTo>
                      <a:lnTo>
                        <a:pt x="430" y="47"/>
                      </a:lnTo>
                      <a:lnTo>
                        <a:pt x="428" y="47"/>
                      </a:lnTo>
                      <a:lnTo>
                        <a:pt x="427" y="47"/>
                      </a:lnTo>
                      <a:lnTo>
                        <a:pt x="425" y="48"/>
                      </a:lnTo>
                      <a:lnTo>
                        <a:pt x="424" y="49"/>
                      </a:lnTo>
                      <a:lnTo>
                        <a:pt x="424" y="51"/>
                      </a:lnTo>
                      <a:lnTo>
                        <a:pt x="390" y="51"/>
                      </a:lnTo>
                      <a:lnTo>
                        <a:pt x="390" y="49"/>
                      </a:lnTo>
                      <a:lnTo>
                        <a:pt x="389" y="48"/>
                      </a:lnTo>
                      <a:lnTo>
                        <a:pt x="387" y="47"/>
                      </a:lnTo>
                      <a:lnTo>
                        <a:pt x="386" y="47"/>
                      </a:lnTo>
                      <a:lnTo>
                        <a:pt x="384" y="47"/>
                      </a:lnTo>
                      <a:lnTo>
                        <a:pt x="382" y="48"/>
                      </a:lnTo>
                      <a:lnTo>
                        <a:pt x="382" y="49"/>
                      </a:lnTo>
                      <a:lnTo>
                        <a:pt x="381" y="51"/>
                      </a:lnTo>
                      <a:lnTo>
                        <a:pt x="377" y="51"/>
                      </a:lnTo>
                      <a:lnTo>
                        <a:pt x="376" y="49"/>
                      </a:lnTo>
                      <a:lnTo>
                        <a:pt x="375" y="47"/>
                      </a:lnTo>
                      <a:lnTo>
                        <a:pt x="374" y="46"/>
                      </a:lnTo>
                      <a:lnTo>
                        <a:pt x="372" y="45"/>
                      </a:lnTo>
                      <a:lnTo>
                        <a:pt x="370" y="45"/>
                      </a:lnTo>
                      <a:lnTo>
                        <a:pt x="368" y="45"/>
                      </a:lnTo>
                      <a:lnTo>
                        <a:pt x="366" y="45"/>
                      </a:lnTo>
                      <a:lnTo>
                        <a:pt x="364" y="46"/>
                      </a:lnTo>
                      <a:lnTo>
                        <a:pt x="362" y="47"/>
                      </a:lnTo>
                      <a:lnTo>
                        <a:pt x="361" y="49"/>
                      </a:lnTo>
                      <a:lnTo>
                        <a:pt x="361" y="51"/>
                      </a:lnTo>
                      <a:lnTo>
                        <a:pt x="336" y="51"/>
                      </a:lnTo>
                      <a:lnTo>
                        <a:pt x="336" y="49"/>
                      </a:lnTo>
                      <a:lnTo>
                        <a:pt x="335" y="48"/>
                      </a:lnTo>
                      <a:lnTo>
                        <a:pt x="333" y="47"/>
                      </a:lnTo>
                      <a:lnTo>
                        <a:pt x="332" y="47"/>
                      </a:lnTo>
                      <a:lnTo>
                        <a:pt x="330" y="47"/>
                      </a:lnTo>
                      <a:lnTo>
                        <a:pt x="328" y="48"/>
                      </a:lnTo>
                      <a:lnTo>
                        <a:pt x="327" y="49"/>
                      </a:lnTo>
                      <a:lnTo>
                        <a:pt x="327" y="51"/>
                      </a:lnTo>
                      <a:lnTo>
                        <a:pt x="248" y="51"/>
                      </a:lnTo>
                      <a:lnTo>
                        <a:pt x="248" y="49"/>
                      </a:lnTo>
                      <a:lnTo>
                        <a:pt x="247" y="48"/>
                      </a:lnTo>
                      <a:lnTo>
                        <a:pt x="245" y="47"/>
                      </a:lnTo>
                      <a:lnTo>
                        <a:pt x="244" y="47"/>
                      </a:lnTo>
                      <a:lnTo>
                        <a:pt x="242" y="47"/>
                      </a:lnTo>
                      <a:lnTo>
                        <a:pt x="240" y="48"/>
                      </a:lnTo>
                      <a:lnTo>
                        <a:pt x="239" y="49"/>
                      </a:lnTo>
                      <a:lnTo>
                        <a:pt x="239" y="51"/>
                      </a:lnTo>
                      <a:lnTo>
                        <a:pt x="219" y="51"/>
                      </a:lnTo>
                      <a:lnTo>
                        <a:pt x="219" y="49"/>
                      </a:lnTo>
                      <a:lnTo>
                        <a:pt x="218" y="48"/>
                      </a:lnTo>
                      <a:lnTo>
                        <a:pt x="216" y="47"/>
                      </a:lnTo>
                      <a:lnTo>
                        <a:pt x="215" y="47"/>
                      </a:lnTo>
                      <a:lnTo>
                        <a:pt x="213" y="47"/>
                      </a:lnTo>
                      <a:lnTo>
                        <a:pt x="212" y="48"/>
                      </a:lnTo>
                      <a:lnTo>
                        <a:pt x="211" y="49"/>
                      </a:lnTo>
                      <a:lnTo>
                        <a:pt x="210" y="51"/>
                      </a:lnTo>
                      <a:lnTo>
                        <a:pt x="201" y="51"/>
                      </a:lnTo>
                      <a:lnTo>
                        <a:pt x="201" y="49"/>
                      </a:lnTo>
                      <a:lnTo>
                        <a:pt x="200" y="48"/>
                      </a:lnTo>
                      <a:lnTo>
                        <a:pt x="198" y="47"/>
                      </a:lnTo>
                      <a:lnTo>
                        <a:pt x="197" y="47"/>
                      </a:lnTo>
                      <a:lnTo>
                        <a:pt x="195" y="47"/>
                      </a:lnTo>
                      <a:lnTo>
                        <a:pt x="193" y="48"/>
                      </a:lnTo>
                      <a:lnTo>
                        <a:pt x="192" y="49"/>
                      </a:lnTo>
                      <a:lnTo>
                        <a:pt x="192" y="51"/>
                      </a:lnTo>
                      <a:lnTo>
                        <a:pt x="139" y="51"/>
                      </a:lnTo>
                      <a:lnTo>
                        <a:pt x="139" y="49"/>
                      </a:lnTo>
                      <a:lnTo>
                        <a:pt x="138" y="48"/>
                      </a:lnTo>
                      <a:lnTo>
                        <a:pt x="137" y="47"/>
                      </a:lnTo>
                      <a:lnTo>
                        <a:pt x="135" y="47"/>
                      </a:lnTo>
                      <a:lnTo>
                        <a:pt x="133" y="47"/>
                      </a:lnTo>
                      <a:lnTo>
                        <a:pt x="132" y="48"/>
                      </a:lnTo>
                      <a:lnTo>
                        <a:pt x="131" y="49"/>
                      </a:lnTo>
                      <a:lnTo>
                        <a:pt x="130" y="51"/>
                      </a:lnTo>
                      <a:lnTo>
                        <a:pt x="86" y="51"/>
                      </a:lnTo>
                      <a:lnTo>
                        <a:pt x="86" y="49"/>
                      </a:lnTo>
                      <a:lnTo>
                        <a:pt x="85" y="48"/>
                      </a:lnTo>
                      <a:lnTo>
                        <a:pt x="83" y="47"/>
                      </a:lnTo>
                      <a:lnTo>
                        <a:pt x="82" y="47"/>
                      </a:lnTo>
                      <a:lnTo>
                        <a:pt x="80" y="47"/>
                      </a:lnTo>
                      <a:lnTo>
                        <a:pt x="79" y="48"/>
                      </a:lnTo>
                      <a:lnTo>
                        <a:pt x="77" y="49"/>
                      </a:lnTo>
                      <a:lnTo>
                        <a:pt x="77" y="51"/>
                      </a:lnTo>
                      <a:lnTo>
                        <a:pt x="0" y="51"/>
                      </a:lnTo>
                      <a:lnTo>
                        <a:pt x="0" y="7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69" name=""/>
                <p:cNvSpPr/>
                <p:nvPr/>
              </p:nvSpPr>
              <p:spPr>
                <a:xfrm>
                  <a:off x="6679800" y="41266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70" name=""/>
                <p:cNvSpPr/>
                <p:nvPr/>
              </p:nvSpPr>
              <p:spPr>
                <a:xfrm>
                  <a:off x="5346720" y="4038480"/>
                  <a:ext cx="200880" cy="704880"/>
                </a:xfrm>
                <a:custGeom>
                  <a:avLst/>
                  <a:gdLst/>
                  <a:ahLst/>
                  <a:rect l="l" t="t" r="r" b="b"/>
                  <a:pathLst>
                    <a:path w="190" h="528">
                      <a:moveTo>
                        <a:pt x="0" y="528"/>
                      </a:moveTo>
                      <a:lnTo>
                        <a:pt x="13" y="528"/>
                      </a:lnTo>
                      <a:lnTo>
                        <a:pt x="13" y="7"/>
                      </a:lnTo>
                      <a:lnTo>
                        <a:pt x="16" y="7"/>
                      </a:lnTo>
                      <a:lnTo>
                        <a:pt x="16" y="5"/>
                      </a:lnTo>
                      <a:lnTo>
                        <a:pt x="17" y="4"/>
                      </a:lnTo>
                      <a:lnTo>
                        <a:pt x="18" y="3"/>
                      </a:lnTo>
                      <a:lnTo>
                        <a:pt x="20" y="3"/>
                      </a:lnTo>
                      <a:lnTo>
                        <a:pt x="22" y="3"/>
                      </a:lnTo>
                      <a:lnTo>
                        <a:pt x="23" y="4"/>
                      </a:lnTo>
                      <a:lnTo>
                        <a:pt x="24" y="5"/>
                      </a:lnTo>
                      <a:lnTo>
                        <a:pt x="25" y="7"/>
                      </a:lnTo>
                      <a:lnTo>
                        <a:pt x="29" y="7"/>
                      </a:lnTo>
                      <a:lnTo>
                        <a:pt x="30" y="5"/>
                      </a:lnTo>
                      <a:lnTo>
                        <a:pt x="30" y="4"/>
                      </a:lnTo>
                      <a:lnTo>
                        <a:pt x="32" y="3"/>
                      </a:lnTo>
                      <a:lnTo>
                        <a:pt x="34" y="3"/>
                      </a:lnTo>
                      <a:lnTo>
                        <a:pt x="35" y="3"/>
                      </a:lnTo>
                      <a:lnTo>
                        <a:pt x="37" y="4"/>
                      </a:lnTo>
                      <a:lnTo>
                        <a:pt x="38" y="5"/>
                      </a:lnTo>
                      <a:lnTo>
                        <a:pt x="38" y="7"/>
                      </a:lnTo>
                      <a:lnTo>
                        <a:pt x="72" y="7"/>
                      </a:lnTo>
                      <a:lnTo>
                        <a:pt x="72" y="5"/>
                      </a:lnTo>
                      <a:lnTo>
                        <a:pt x="73" y="4"/>
                      </a:lnTo>
                      <a:lnTo>
                        <a:pt x="75" y="3"/>
                      </a:lnTo>
                      <a:lnTo>
                        <a:pt x="76" y="3"/>
                      </a:lnTo>
                      <a:lnTo>
                        <a:pt x="78" y="3"/>
                      </a:lnTo>
                      <a:lnTo>
                        <a:pt x="80" y="4"/>
                      </a:lnTo>
                      <a:lnTo>
                        <a:pt x="81" y="5"/>
                      </a:lnTo>
                      <a:lnTo>
                        <a:pt x="81" y="7"/>
                      </a:lnTo>
                      <a:lnTo>
                        <a:pt x="82" y="7"/>
                      </a:lnTo>
                      <a:lnTo>
                        <a:pt x="82" y="5"/>
                      </a:lnTo>
                      <a:lnTo>
                        <a:pt x="83" y="4"/>
                      </a:lnTo>
                      <a:lnTo>
                        <a:pt x="84" y="3"/>
                      </a:lnTo>
                      <a:lnTo>
                        <a:pt x="86" y="3"/>
                      </a:lnTo>
                      <a:lnTo>
                        <a:pt x="88" y="3"/>
                      </a:lnTo>
                      <a:lnTo>
                        <a:pt x="89" y="4"/>
                      </a:lnTo>
                      <a:lnTo>
                        <a:pt x="90" y="5"/>
                      </a:lnTo>
                      <a:lnTo>
                        <a:pt x="90" y="7"/>
                      </a:lnTo>
                      <a:lnTo>
                        <a:pt x="92" y="7"/>
                      </a:lnTo>
                      <a:lnTo>
                        <a:pt x="93" y="5"/>
                      </a:lnTo>
                      <a:lnTo>
                        <a:pt x="94" y="3"/>
                      </a:lnTo>
                      <a:lnTo>
                        <a:pt x="95" y="1"/>
                      </a:lnTo>
                      <a:lnTo>
                        <a:pt x="97" y="1"/>
                      </a:lnTo>
                      <a:lnTo>
                        <a:pt x="100" y="0"/>
                      </a:lnTo>
                      <a:lnTo>
                        <a:pt x="102" y="0"/>
                      </a:lnTo>
                      <a:lnTo>
                        <a:pt x="104" y="1"/>
                      </a:lnTo>
                      <a:lnTo>
                        <a:pt x="107" y="1"/>
                      </a:lnTo>
                      <a:lnTo>
                        <a:pt x="108" y="3"/>
                      </a:lnTo>
                      <a:lnTo>
                        <a:pt x="109" y="5"/>
                      </a:lnTo>
                      <a:lnTo>
                        <a:pt x="110" y="7"/>
                      </a:lnTo>
                      <a:lnTo>
                        <a:pt x="114" y="7"/>
                      </a:lnTo>
                      <a:lnTo>
                        <a:pt x="114" y="5"/>
                      </a:lnTo>
                      <a:lnTo>
                        <a:pt x="115" y="3"/>
                      </a:lnTo>
                      <a:lnTo>
                        <a:pt x="117" y="2"/>
                      </a:lnTo>
                      <a:lnTo>
                        <a:pt x="119" y="1"/>
                      </a:lnTo>
                      <a:lnTo>
                        <a:pt x="121" y="0"/>
                      </a:lnTo>
                      <a:lnTo>
                        <a:pt x="123" y="0"/>
                      </a:lnTo>
                      <a:lnTo>
                        <a:pt x="126" y="1"/>
                      </a:lnTo>
                      <a:lnTo>
                        <a:pt x="128" y="2"/>
                      </a:lnTo>
                      <a:lnTo>
                        <a:pt x="129" y="3"/>
                      </a:lnTo>
                      <a:lnTo>
                        <a:pt x="130" y="5"/>
                      </a:lnTo>
                      <a:lnTo>
                        <a:pt x="130" y="7"/>
                      </a:lnTo>
                      <a:lnTo>
                        <a:pt x="190" y="7"/>
                      </a:lnTo>
                      <a:lnTo>
                        <a:pt x="19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554184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72" name=""/>
                <p:cNvSpPr/>
                <p:nvPr/>
              </p:nvSpPr>
              <p:spPr>
                <a:xfrm>
                  <a:off x="5346720" y="2275200"/>
                  <a:ext cx="1887480" cy="2526840"/>
                </a:xfrm>
                <a:custGeom>
                  <a:avLst/>
                  <a:gdLst/>
                  <a:ahLst/>
                  <a:rect l="l" t="t" r="r" b="b"/>
                  <a:pathLst>
                    <a:path w="1783" h="1892">
                      <a:moveTo>
                        <a:pt x="1783" y="0"/>
                      </a:moveTo>
                      <a:lnTo>
                        <a:pt x="1783" y="875"/>
                      </a:lnTo>
                      <a:lnTo>
                        <a:pt x="1757" y="875"/>
                      </a:lnTo>
                      <a:lnTo>
                        <a:pt x="1757" y="873"/>
                      </a:lnTo>
                      <a:lnTo>
                        <a:pt x="1756" y="872"/>
                      </a:lnTo>
                      <a:lnTo>
                        <a:pt x="1754" y="871"/>
                      </a:lnTo>
                      <a:lnTo>
                        <a:pt x="1753" y="871"/>
                      </a:lnTo>
                      <a:lnTo>
                        <a:pt x="1751" y="871"/>
                      </a:lnTo>
                      <a:lnTo>
                        <a:pt x="1749" y="872"/>
                      </a:lnTo>
                      <a:lnTo>
                        <a:pt x="1749" y="873"/>
                      </a:lnTo>
                      <a:lnTo>
                        <a:pt x="1748" y="875"/>
                      </a:lnTo>
                      <a:lnTo>
                        <a:pt x="1745" y="875"/>
                      </a:lnTo>
                      <a:lnTo>
                        <a:pt x="1744" y="873"/>
                      </a:lnTo>
                      <a:lnTo>
                        <a:pt x="1744" y="871"/>
                      </a:lnTo>
                      <a:lnTo>
                        <a:pt x="1742" y="870"/>
                      </a:lnTo>
                      <a:lnTo>
                        <a:pt x="1740" y="869"/>
                      </a:lnTo>
                      <a:lnTo>
                        <a:pt x="1738" y="868"/>
                      </a:lnTo>
                      <a:lnTo>
                        <a:pt x="1735" y="868"/>
                      </a:lnTo>
                      <a:lnTo>
                        <a:pt x="1733" y="869"/>
                      </a:lnTo>
                      <a:lnTo>
                        <a:pt x="1731" y="870"/>
                      </a:lnTo>
                      <a:lnTo>
                        <a:pt x="1729" y="871"/>
                      </a:lnTo>
                      <a:lnTo>
                        <a:pt x="1728" y="873"/>
                      </a:lnTo>
                      <a:lnTo>
                        <a:pt x="1728" y="875"/>
                      </a:lnTo>
                      <a:lnTo>
                        <a:pt x="1719" y="875"/>
                      </a:lnTo>
                      <a:lnTo>
                        <a:pt x="1719" y="873"/>
                      </a:lnTo>
                      <a:lnTo>
                        <a:pt x="1718" y="872"/>
                      </a:lnTo>
                      <a:lnTo>
                        <a:pt x="1716" y="871"/>
                      </a:lnTo>
                      <a:lnTo>
                        <a:pt x="1715" y="871"/>
                      </a:lnTo>
                      <a:lnTo>
                        <a:pt x="1713" y="871"/>
                      </a:lnTo>
                      <a:lnTo>
                        <a:pt x="1711" y="872"/>
                      </a:lnTo>
                      <a:lnTo>
                        <a:pt x="1710" y="873"/>
                      </a:lnTo>
                      <a:lnTo>
                        <a:pt x="1710" y="875"/>
                      </a:lnTo>
                      <a:lnTo>
                        <a:pt x="1667" y="875"/>
                      </a:lnTo>
                      <a:lnTo>
                        <a:pt x="1667" y="873"/>
                      </a:lnTo>
                      <a:lnTo>
                        <a:pt x="1666" y="872"/>
                      </a:lnTo>
                      <a:lnTo>
                        <a:pt x="1664" y="871"/>
                      </a:lnTo>
                      <a:lnTo>
                        <a:pt x="1663" y="871"/>
                      </a:lnTo>
                      <a:lnTo>
                        <a:pt x="1661" y="871"/>
                      </a:lnTo>
                      <a:lnTo>
                        <a:pt x="1659" y="872"/>
                      </a:lnTo>
                      <a:lnTo>
                        <a:pt x="1659" y="873"/>
                      </a:lnTo>
                      <a:lnTo>
                        <a:pt x="1658" y="875"/>
                      </a:lnTo>
                      <a:lnTo>
                        <a:pt x="1648" y="875"/>
                      </a:lnTo>
                      <a:lnTo>
                        <a:pt x="1648" y="1881"/>
                      </a:lnTo>
                      <a:lnTo>
                        <a:pt x="1423" y="1881"/>
                      </a:lnTo>
                      <a:lnTo>
                        <a:pt x="1422" y="1879"/>
                      </a:lnTo>
                      <a:lnTo>
                        <a:pt x="1421" y="1878"/>
                      </a:lnTo>
                      <a:lnTo>
                        <a:pt x="1420" y="1877"/>
                      </a:lnTo>
                      <a:lnTo>
                        <a:pt x="1418" y="1876"/>
                      </a:lnTo>
                      <a:lnTo>
                        <a:pt x="1416" y="1876"/>
                      </a:lnTo>
                      <a:lnTo>
                        <a:pt x="1414" y="1876"/>
                      </a:lnTo>
                      <a:lnTo>
                        <a:pt x="1412" y="1877"/>
                      </a:lnTo>
                      <a:lnTo>
                        <a:pt x="1410" y="1878"/>
                      </a:lnTo>
                      <a:lnTo>
                        <a:pt x="1409" y="1879"/>
                      </a:lnTo>
                      <a:lnTo>
                        <a:pt x="1409" y="1881"/>
                      </a:lnTo>
                      <a:lnTo>
                        <a:pt x="889" y="1881"/>
                      </a:lnTo>
                      <a:lnTo>
                        <a:pt x="889" y="1880"/>
                      </a:lnTo>
                      <a:lnTo>
                        <a:pt x="888" y="1879"/>
                      </a:lnTo>
                      <a:lnTo>
                        <a:pt x="886" y="1878"/>
                      </a:lnTo>
                      <a:lnTo>
                        <a:pt x="885" y="1878"/>
                      </a:lnTo>
                      <a:lnTo>
                        <a:pt x="883" y="1878"/>
                      </a:lnTo>
                      <a:lnTo>
                        <a:pt x="881" y="1879"/>
                      </a:lnTo>
                      <a:lnTo>
                        <a:pt x="881" y="1880"/>
                      </a:lnTo>
                      <a:lnTo>
                        <a:pt x="880" y="1881"/>
                      </a:lnTo>
                      <a:lnTo>
                        <a:pt x="637" y="1881"/>
                      </a:lnTo>
                      <a:lnTo>
                        <a:pt x="637" y="1880"/>
                      </a:lnTo>
                      <a:lnTo>
                        <a:pt x="636" y="1879"/>
                      </a:lnTo>
                      <a:lnTo>
                        <a:pt x="634" y="1878"/>
                      </a:lnTo>
                      <a:lnTo>
                        <a:pt x="633" y="1878"/>
                      </a:lnTo>
                      <a:lnTo>
                        <a:pt x="631" y="1878"/>
                      </a:lnTo>
                      <a:lnTo>
                        <a:pt x="629" y="1879"/>
                      </a:lnTo>
                      <a:lnTo>
                        <a:pt x="628" y="1880"/>
                      </a:lnTo>
                      <a:lnTo>
                        <a:pt x="628" y="1881"/>
                      </a:lnTo>
                      <a:lnTo>
                        <a:pt x="583" y="1881"/>
                      </a:lnTo>
                      <a:lnTo>
                        <a:pt x="583" y="1880"/>
                      </a:lnTo>
                      <a:lnTo>
                        <a:pt x="582" y="1879"/>
                      </a:lnTo>
                      <a:lnTo>
                        <a:pt x="580" y="1878"/>
                      </a:lnTo>
                      <a:lnTo>
                        <a:pt x="579" y="1878"/>
                      </a:lnTo>
                      <a:lnTo>
                        <a:pt x="577" y="1878"/>
                      </a:lnTo>
                      <a:lnTo>
                        <a:pt x="575" y="1879"/>
                      </a:lnTo>
                      <a:lnTo>
                        <a:pt x="574" y="1880"/>
                      </a:lnTo>
                      <a:lnTo>
                        <a:pt x="574" y="1881"/>
                      </a:lnTo>
                      <a:lnTo>
                        <a:pt x="531" y="1881"/>
                      </a:lnTo>
                      <a:lnTo>
                        <a:pt x="531" y="1880"/>
                      </a:lnTo>
                      <a:lnTo>
                        <a:pt x="530" y="1879"/>
                      </a:lnTo>
                      <a:lnTo>
                        <a:pt x="528" y="1878"/>
                      </a:lnTo>
                      <a:lnTo>
                        <a:pt x="527" y="1878"/>
                      </a:lnTo>
                      <a:lnTo>
                        <a:pt x="525" y="1878"/>
                      </a:lnTo>
                      <a:lnTo>
                        <a:pt x="524" y="1879"/>
                      </a:lnTo>
                      <a:lnTo>
                        <a:pt x="523" y="1880"/>
                      </a:lnTo>
                      <a:lnTo>
                        <a:pt x="522" y="1881"/>
                      </a:lnTo>
                      <a:lnTo>
                        <a:pt x="438" y="1881"/>
                      </a:lnTo>
                      <a:lnTo>
                        <a:pt x="438" y="1880"/>
                      </a:lnTo>
                      <a:lnTo>
                        <a:pt x="437" y="1879"/>
                      </a:lnTo>
                      <a:lnTo>
                        <a:pt x="436" y="1878"/>
                      </a:lnTo>
                      <a:lnTo>
                        <a:pt x="434" y="1878"/>
                      </a:lnTo>
                      <a:lnTo>
                        <a:pt x="432" y="1878"/>
                      </a:lnTo>
                      <a:lnTo>
                        <a:pt x="431" y="1879"/>
                      </a:lnTo>
                      <a:lnTo>
                        <a:pt x="430" y="1880"/>
                      </a:lnTo>
                      <a:lnTo>
                        <a:pt x="429" y="1881"/>
                      </a:lnTo>
                      <a:lnTo>
                        <a:pt x="412" y="1881"/>
                      </a:lnTo>
                      <a:lnTo>
                        <a:pt x="412" y="1892"/>
                      </a:lnTo>
                      <a:lnTo>
                        <a:pt x="342" y="1892"/>
                      </a:lnTo>
                      <a:lnTo>
                        <a:pt x="342" y="1890"/>
                      </a:lnTo>
                      <a:lnTo>
                        <a:pt x="341" y="1889"/>
                      </a:lnTo>
                      <a:lnTo>
                        <a:pt x="339" y="1888"/>
                      </a:lnTo>
                      <a:lnTo>
                        <a:pt x="338" y="1888"/>
                      </a:lnTo>
                      <a:lnTo>
                        <a:pt x="336" y="1888"/>
                      </a:lnTo>
                      <a:lnTo>
                        <a:pt x="334" y="1889"/>
                      </a:lnTo>
                      <a:lnTo>
                        <a:pt x="333" y="1890"/>
                      </a:lnTo>
                      <a:lnTo>
                        <a:pt x="333" y="1892"/>
                      </a:lnTo>
                      <a:lnTo>
                        <a:pt x="261" y="1892"/>
                      </a:lnTo>
                      <a:lnTo>
                        <a:pt x="261" y="1890"/>
                      </a:lnTo>
                      <a:lnTo>
                        <a:pt x="260" y="1889"/>
                      </a:lnTo>
                      <a:lnTo>
                        <a:pt x="258" y="1888"/>
                      </a:lnTo>
                      <a:lnTo>
                        <a:pt x="256" y="1888"/>
                      </a:lnTo>
                      <a:lnTo>
                        <a:pt x="255" y="1888"/>
                      </a:lnTo>
                      <a:lnTo>
                        <a:pt x="253" y="1889"/>
                      </a:lnTo>
                      <a:lnTo>
                        <a:pt x="252" y="1890"/>
                      </a:lnTo>
                      <a:lnTo>
                        <a:pt x="252" y="1892"/>
                      </a:lnTo>
                      <a:lnTo>
                        <a:pt x="110" y="1892"/>
                      </a:lnTo>
                      <a:lnTo>
                        <a:pt x="109" y="1890"/>
                      </a:lnTo>
                      <a:lnTo>
                        <a:pt x="108" y="1889"/>
                      </a:lnTo>
                      <a:lnTo>
                        <a:pt x="107" y="1888"/>
                      </a:lnTo>
                      <a:lnTo>
                        <a:pt x="105" y="1888"/>
                      </a:lnTo>
                      <a:lnTo>
                        <a:pt x="103" y="1888"/>
                      </a:lnTo>
                      <a:lnTo>
                        <a:pt x="102" y="1889"/>
                      </a:lnTo>
                      <a:lnTo>
                        <a:pt x="101" y="1890"/>
                      </a:lnTo>
                      <a:lnTo>
                        <a:pt x="101" y="1892"/>
                      </a:lnTo>
                      <a:lnTo>
                        <a:pt x="81" y="1892"/>
                      </a:lnTo>
                      <a:lnTo>
                        <a:pt x="81" y="1890"/>
                      </a:lnTo>
                      <a:lnTo>
                        <a:pt x="80" y="1889"/>
                      </a:lnTo>
                      <a:lnTo>
                        <a:pt x="78" y="1888"/>
                      </a:lnTo>
                      <a:lnTo>
                        <a:pt x="76" y="1888"/>
                      </a:lnTo>
                      <a:lnTo>
                        <a:pt x="75" y="1888"/>
                      </a:lnTo>
                      <a:lnTo>
                        <a:pt x="73" y="1889"/>
                      </a:lnTo>
                      <a:lnTo>
                        <a:pt x="72" y="1890"/>
                      </a:lnTo>
                      <a:lnTo>
                        <a:pt x="72" y="1892"/>
                      </a:lnTo>
                      <a:lnTo>
                        <a:pt x="38" y="1892"/>
                      </a:lnTo>
                      <a:lnTo>
                        <a:pt x="38" y="1890"/>
                      </a:lnTo>
                      <a:lnTo>
                        <a:pt x="37" y="1889"/>
                      </a:lnTo>
                      <a:lnTo>
                        <a:pt x="35" y="1888"/>
                      </a:lnTo>
                      <a:lnTo>
                        <a:pt x="34" y="1888"/>
                      </a:lnTo>
                      <a:lnTo>
                        <a:pt x="32" y="1888"/>
                      </a:lnTo>
                      <a:lnTo>
                        <a:pt x="30" y="1889"/>
                      </a:lnTo>
                      <a:lnTo>
                        <a:pt x="30" y="1890"/>
                      </a:lnTo>
                      <a:lnTo>
                        <a:pt x="29" y="1892"/>
                      </a:lnTo>
                      <a:lnTo>
                        <a:pt x="0" y="1892"/>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7228080" y="2263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74" name=""/>
                <p:cNvSpPr/>
                <p:nvPr/>
              </p:nvSpPr>
              <p:spPr>
                <a:xfrm>
                  <a:off x="5228280" y="2868480"/>
                  <a:ext cx="2335320" cy="2111400"/>
                </a:xfrm>
                <a:custGeom>
                  <a:avLst/>
                  <a:gdLst/>
                  <a:ahLst/>
                  <a:rect l="l" t="t" r="r" b="b"/>
                  <a:pathLst>
                    <a:path w="2206" h="1581">
                      <a:moveTo>
                        <a:pt x="2184" y="4"/>
                      </a:moveTo>
                      <a:lnTo>
                        <a:pt x="2188" y="4"/>
                      </a:lnTo>
                      <a:lnTo>
                        <a:pt x="2188" y="2"/>
                      </a:lnTo>
                      <a:lnTo>
                        <a:pt x="2189" y="1"/>
                      </a:lnTo>
                      <a:lnTo>
                        <a:pt x="2191" y="0"/>
                      </a:lnTo>
                      <a:lnTo>
                        <a:pt x="2192" y="0"/>
                      </a:lnTo>
                      <a:lnTo>
                        <a:pt x="2194" y="0"/>
                      </a:lnTo>
                      <a:lnTo>
                        <a:pt x="2195" y="1"/>
                      </a:lnTo>
                      <a:lnTo>
                        <a:pt x="2196" y="2"/>
                      </a:lnTo>
                      <a:lnTo>
                        <a:pt x="2197" y="4"/>
                      </a:lnTo>
                      <a:lnTo>
                        <a:pt x="2206" y="4"/>
                      </a:lnTo>
                      <a:lnTo>
                        <a:pt x="2206" y="445"/>
                      </a:lnTo>
                      <a:lnTo>
                        <a:pt x="2197" y="445"/>
                      </a:lnTo>
                      <a:lnTo>
                        <a:pt x="2196" y="444"/>
                      </a:lnTo>
                      <a:lnTo>
                        <a:pt x="2195" y="442"/>
                      </a:lnTo>
                      <a:lnTo>
                        <a:pt x="2194" y="442"/>
                      </a:lnTo>
                      <a:lnTo>
                        <a:pt x="2192" y="441"/>
                      </a:lnTo>
                      <a:lnTo>
                        <a:pt x="2191" y="442"/>
                      </a:lnTo>
                      <a:lnTo>
                        <a:pt x="2189" y="442"/>
                      </a:lnTo>
                      <a:lnTo>
                        <a:pt x="2188" y="444"/>
                      </a:lnTo>
                      <a:lnTo>
                        <a:pt x="2188" y="445"/>
                      </a:lnTo>
                      <a:lnTo>
                        <a:pt x="2149" y="445"/>
                      </a:lnTo>
                      <a:lnTo>
                        <a:pt x="2149" y="444"/>
                      </a:lnTo>
                      <a:lnTo>
                        <a:pt x="2148" y="442"/>
                      </a:lnTo>
                      <a:lnTo>
                        <a:pt x="2146" y="442"/>
                      </a:lnTo>
                      <a:lnTo>
                        <a:pt x="2144" y="441"/>
                      </a:lnTo>
                      <a:lnTo>
                        <a:pt x="2143" y="442"/>
                      </a:lnTo>
                      <a:lnTo>
                        <a:pt x="2141" y="442"/>
                      </a:lnTo>
                      <a:lnTo>
                        <a:pt x="2140" y="444"/>
                      </a:lnTo>
                      <a:lnTo>
                        <a:pt x="2140" y="445"/>
                      </a:lnTo>
                      <a:lnTo>
                        <a:pt x="2133" y="445"/>
                      </a:lnTo>
                      <a:lnTo>
                        <a:pt x="2132" y="444"/>
                      </a:lnTo>
                      <a:lnTo>
                        <a:pt x="2131" y="442"/>
                      </a:lnTo>
                      <a:lnTo>
                        <a:pt x="2130" y="442"/>
                      </a:lnTo>
                      <a:lnTo>
                        <a:pt x="2128" y="441"/>
                      </a:lnTo>
                      <a:lnTo>
                        <a:pt x="2126" y="442"/>
                      </a:lnTo>
                      <a:lnTo>
                        <a:pt x="2125" y="442"/>
                      </a:lnTo>
                      <a:lnTo>
                        <a:pt x="2124" y="444"/>
                      </a:lnTo>
                      <a:lnTo>
                        <a:pt x="2124" y="445"/>
                      </a:lnTo>
                      <a:lnTo>
                        <a:pt x="2117" y="445"/>
                      </a:lnTo>
                      <a:lnTo>
                        <a:pt x="2116" y="444"/>
                      </a:lnTo>
                      <a:lnTo>
                        <a:pt x="2115" y="442"/>
                      </a:lnTo>
                      <a:lnTo>
                        <a:pt x="2114" y="442"/>
                      </a:lnTo>
                      <a:lnTo>
                        <a:pt x="2112" y="441"/>
                      </a:lnTo>
                      <a:lnTo>
                        <a:pt x="2110" y="442"/>
                      </a:lnTo>
                      <a:lnTo>
                        <a:pt x="2109" y="442"/>
                      </a:lnTo>
                      <a:lnTo>
                        <a:pt x="2108" y="444"/>
                      </a:lnTo>
                      <a:lnTo>
                        <a:pt x="2108" y="445"/>
                      </a:lnTo>
                      <a:lnTo>
                        <a:pt x="1987" y="445"/>
                      </a:lnTo>
                      <a:lnTo>
                        <a:pt x="1987" y="444"/>
                      </a:lnTo>
                      <a:lnTo>
                        <a:pt x="1986" y="442"/>
                      </a:lnTo>
                      <a:lnTo>
                        <a:pt x="1984" y="442"/>
                      </a:lnTo>
                      <a:lnTo>
                        <a:pt x="1983" y="441"/>
                      </a:lnTo>
                      <a:lnTo>
                        <a:pt x="1981" y="442"/>
                      </a:lnTo>
                      <a:lnTo>
                        <a:pt x="1980" y="442"/>
                      </a:lnTo>
                      <a:lnTo>
                        <a:pt x="1979" y="444"/>
                      </a:lnTo>
                      <a:lnTo>
                        <a:pt x="1978" y="445"/>
                      </a:lnTo>
                      <a:lnTo>
                        <a:pt x="1869" y="445"/>
                      </a:lnTo>
                      <a:lnTo>
                        <a:pt x="1869" y="444"/>
                      </a:lnTo>
                      <a:lnTo>
                        <a:pt x="1868" y="442"/>
                      </a:lnTo>
                      <a:lnTo>
                        <a:pt x="1866" y="442"/>
                      </a:lnTo>
                      <a:lnTo>
                        <a:pt x="1865" y="441"/>
                      </a:lnTo>
                      <a:lnTo>
                        <a:pt x="1863" y="442"/>
                      </a:lnTo>
                      <a:lnTo>
                        <a:pt x="1861" y="442"/>
                      </a:lnTo>
                      <a:lnTo>
                        <a:pt x="1861" y="444"/>
                      </a:lnTo>
                      <a:lnTo>
                        <a:pt x="1860" y="445"/>
                      </a:lnTo>
                      <a:lnTo>
                        <a:pt x="1857" y="445"/>
                      </a:lnTo>
                      <a:lnTo>
                        <a:pt x="1856" y="443"/>
                      </a:lnTo>
                      <a:lnTo>
                        <a:pt x="1856" y="441"/>
                      </a:lnTo>
                      <a:lnTo>
                        <a:pt x="1854" y="440"/>
                      </a:lnTo>
                      <a:lnTo>
                        <a:pt x="1852" y="439"/>
                      </a:lnTo>
                      <a:lnTo>
                        <a:pt x="1850" y="439"/>
                      </a:lnTo>
                      <a:lnTo>
                        <a:pt x="1847" y="439"/>
                      </a:lnTo>
                      <a:lnTo>
                        <a:pt x="1845" y="439"/>
                      </a:lnTo>
                      <a:lnTo>
                        <a:pt x="1843" y="440"/>
                      </a:lnTo>
                      <a:lnTo>
                        <a:pt x="1841" y="441"/>
                      </a:lnTo>
                      <a:lnTo>
                        <a:pt x="1840" y="443"/>
                      </a:lnTo>
                      <a:lnTo>
                        <a:pt x="1840" y="445"/>
                      </a:lnTo>
                      <a:lnTo>
                        <a:pt x="1831" y="445"/>
                      </a:lnTo>
                      <a:lnTo>
                        <a:pt x="1831" y="444"/>
                      </a:lnTo>
                      <a:lnTo>
                        <a:pt x="1830" y="442"/>
                      </a:lnTo>
                      <a:lnTo>
                        <a:pt x="1828" y="442"/>
                      </a:lnTo>
                      <a:lnTo>
                        <a:pt x="1827" y="441"/>
                      </a:lnTo>
                      <a:lnTo>
                        <a:pt x="1825" y="442"/>
                      </a:lnTo>
                      <a:lnTo>
                        <a:pt x="1823" y="442"/>
                      </a:lnTo>
                      <a:lnTo>
                        <a:pt x="1822" y="444"/>
                      </a:lnTo>
                      <a:lnTo>
                        <a:pt x="1822" y="445"/>
                      </a:lnTo>
                      <a:lnTo>
                        <a:pt x="1779" y="445"/>
                      </a:lnTo>
                      <a:lnTo>
                        <a:pt x="1779" y="444"/>
                      </a:lnTo>
                      <a:lnTo>
                        <a:pt x="1778" y="442"/>
                      </a:lnTo>
                      <a:lnTo>
                        <a:pt x="1776" y="442"/>
                      </a:lnTo>
                      <a:lnTo>
                        <a:pt x="1775" y="441"/>
                      </a:lnTo>
                      <a:lnTo>
                        <a:pt x="1773" y="442"/>
                      </a:lnTo>
                      <a:lnTo>
                        <a:pt x="1771" y="442"/>
                      </a:lnTo>
                      <a:lnTo>
                        <a:pt x="1771" y="444"/>
                      </a:lnTo>
                      <a:lnTo>
                        <a:pt x="1770" y="445"/>
                      </a:lnTo>
                      <a:lnTo>
                        <a:pt x="1764" y="445"/>
                      </a:lnTo>
                      <a:lnTo>
                        <a:pt x="1764" y="444"/>
                      </a:lnTo>
                      <a:lnTo>
                        <a:pt x="1763" y="442"/>
                      </a:lnTo>
                      <a:lnTo>
                        <a:pt x="1762" y="442"/>
                      </a:lnTo>
                      <a:lnTo>
                        <a:pt x="1760" y="441"/>
                      </a:lnTo>
                      <a:lnTo>
                        <a:pt x="1758" y="442"/>
                      </a:lnTo>
                      <a:lnTo>
                        <a:pt x="1757" y="442"/>
                      </a:lnTo>
                      <a:lnTo>
                        <a:pt x="1756" y="444"/>
                      </a:lnTo>
                      <a:lnTo>
                        <a:pt x="1755" y="445"/>
                      </a:lnTo>
                      <a:lnTo>
                        <a:pt x="1744" y="445"/>
                      </a:lnTo>
                      <a:lnTo>
                        <a:pt x="1744" y="444"/>
                      </a:lnTo>
                      <a:lnTo>
                        <a:pt x="1743" y="442"/>
                      </a:lnTo>
                      <a:lnTo>
                        <a:pt x="1741" y="442"/>
                      </a:lnTo>
                      <a:lnTo>
                        <a:pt x="1740" y="441"/>
                      </a:lnTo>
                      <a:lnTo>
                        <a:pt x="1738" y="442"/>
                      </a:lnTo>
                      <a:lnTo>
                        <a:pt x="1736" y="442"/>
                      </a:lnTo>
                      <a:lnTo>
                        <a:pt x="1736" y="444"/>
                      </a:lnTo>
                      <a:lnTo>
                        <a:pt x="1735" y="445"/>
                      </a:lnTo>
                      <a:lnTo>
                        <a:pt x="1731" y="445"/>
                      </a:lnTo>
                      <a:lnTo>
                        <a:pt x="1730" y="444"/>
                      </a:lnTo>
                      <a:lnTo>
                        <a:pt x="1729" y="442"/>
                      </a:lnTo>
                      <a:lnTo>
                        <a:pt x="1728" y="442"/>
                      </a:lnTo>
                      <a:lnTo>
                        <a:pt x="1726" y="441"/>
                      </a:lnTo>
                      <a:lnTo>
                        <a:pt x="1724" y="442"/>
                      </a:lnTo>
                      <a:lnTo>
                        <a:pt x="1723" y="442"/>
                      </a:lnTo>
                      <a:lnTo>
                        <a:pt x="1722" y="444"/>
                      </a:lnTo>
                      <a:lnTo>
                        <a:pt x="1722" y="445"/>
                      </a:lnTo>
                      <a:lnTo>
                        <a:pt x="1692" y="445"/>
                      </a:lnTo>
                      <a:lnTo>
                        <a:pt x="1692" y="1088"/>
                      </a:lnTo>
                      <a:lnTo>
                        <a:pt x="1682" y="1088"/>
                      </a:lnTo>
                      <a:lnTo>
                        <a:pt x="1681" y="1086"/>
                      </a:lnTo>
                      <a:lnTo>
                        <a:pt x="1680" y="1085"/>
                      </a:lnTo>
                      <a:lnTo>
                        <a:pt x="1679" y="1085"/>
                      </a:lnTo>
                      <a:lnTo>
                        <a:pt x="1677" y="1084"/>
                      </a:lnTo>
                      <a:lnTo>
                        <a:pt x="1675" y="1085"/>
                      </a:lnTo>
                      <a:lnTo>
                        <a:pt x="1674" y="1085"/>
                      </a:lnTo>
                      <a:lnTo>
                        <a:pt x="1673" y="1086"/>
                      </a:lnTo>
                      <a:lnTo>
                        <a:pt x="1673" y="1088"/>
                      </a:lnTo>
                      <a:lnTo>
                        <a:pt x="1431" y="1088"/>
                      </a:lnTo>
                      <a:lnTo>
                        <a:pt x="1431" y="1086"/>
                      </a:lnTo>
                      <a:lnTo>
                        <a:pt x="1430" y="1085"/>
                      </a:lnTo>
                      <a:lnTo>
                        <a:pt x="1428" y="1085"/>
                      </a:lnTo>
                      <a:lnTo>
                        <a:pt x="1427" y="1084"/>
                      </a:lnTo>
                      <a:lnTo>
                        <a:pt x="1425" y="1085"/>
                      </a:lnTo>
                      <a:lnTo>
                        <a:pt x="1423" y="1085"/>
                      </a:lnTo>
                      <a:lnTo>
                        <a:pt x="1423" y="1086"/>
                      </a:lnTo>
                      <a:lnTo>
                        <a:pt x="1422" y="1088"/>
                      </a:lnTo>
                      <a:lnTo>
                        <a:pt x="1268" y="1088"/>
                      </a:lnTo>
                      <a:lnTo>
                        <a:pt x="1268" y="1086"/>
                      </a:lnTo>
                      <a:lnTo>
                        <a:pt x="1267" y="1085"/>
                      </a:lnTo>
                      <a:lnTo>
                        <a:pt x="1265" y="1085"/>
                      </a:lnTo>
                      <a:lnTo>
                        <a:pt x="1263" y="1084"/>
                      </a:lnTo>
                      <a:lnTo>
                        <a:pt x="1262" y="1085"/>
                      </a:lnTo>
                      <a:lnTo>
                        <a:pt x="1260" y="1085"/>
                      </a:lnTo>
                      <a:lnTo>
                        <a:pt x="1259" y="1086"/>
                      </a:lnTo>
                      <a:lnTo>
                        <a:pt x="1259" y="1088"/>
                      </a:lnTo>
                      <a:lnTo>
                        <a:pt x="1211" y="1088"/>
                      </a:lnTo>
                      <a:lnTo>
                        <a:pt x="1210" y="1086"/>
                      </a:lnTo>
                      <a:lnTo>
                        <a:pt x="1209" y="1085"/>
                      </a:lnTo>
                      <a:lnTo>
                        <a:pt x="1208" y="1085"/>
                      </a:lnTo>
                      <a:lnTo>
                        <a:pt x="1206" y="1084"/>
                      </a:lnTo>
                      <a:lnTo>
                        <a:pt x="1204" y="1085"/>
                      </a:lnTo>
                      <a:lnTo>
                        <a:pt x="1203" y="1085"/>
                      </a:lnTo>
                      <a:lnTo>
                        <a:pt x="1202" y="1086"/>
                      </a:lnTo>
                      <a:lnTo>
                        <a:pt x="1202" y="1088"/>
                      </a:lnTo>
                      <a:lnTo>
                        <a:pt x="1173" y="1088"/>
                      </a:lnTo>
                      <a:lnTo>
                        <a:pt x="1173" y="1086"/>
                      </a:lnTo>
                      <a:lnTo>
                        <a:pt x="1172" y="1085"/>
                      </a:lnTo>
                      <a:lnTo>
                        <a:pt x="1171" y="1085"/>
                      </a:lnTo>
                      <a:lnTo>
                        <a:pt x="1169" y="1084"/>
                      </a:lnTo>
                      <a:lnTo>
                        <a:pt x="1167" y="1085"/>
                      </a:lnTo>
                      <a:lnTo>
                        <a:pt x="1166" y="1085"/>
                      </a:lnTo>
                      <a:lnTo>
                        <a:pt x="1165" y="1086"/>
                      </a:lnTo>
                      <a:lnTo>
                        <a:pt x="1164" y="1088"/>
                      </a:lnTo>
                      <a:lnTo>
                        <a:pt x="1056" y="1088"/>
                      </a:lnTo>
                      <a:lnTo>
                        <a:pt x="1056" y="1086"/>
                      </a:lnTo>
                      <a:lnTo>
                        <a:pt x="1055" y="1085"/>
                      </a:lnTo>
                      <a:lnTo>
                        <a:pt x="1053" y="1085"/>
                      </a:lnTo>
                      <a:lnTo>
                        <a:pt x="1052" y="1084"/>
                      </a:lnTo>
                      <a:lnTo>
                        <a:pt x="1050" y="1085"/>
                      </a:lnTo>
                      <a:lnTo>
                        <a:pt x="1048" y="1085"/>
                      </a:lnTo>
                      <a:lnTo>
                        <a:pt x="1048" y="1086"/>
                      </a:lnTo>
                      <a:lnTo>
                        <a:pt x="1047" y="1088"/>
                      </a:lnTo>
                      <a:lnTo>
                        <a:pt x="882" y="1088"/>
                      </a:lnTo>
                      <a:lnTo>
                        <a:pt x="881" y="1086"/>
                      </a:lnTo>
                      <a:lnTo>
                        <a:pt x="880" y="1085"/>
                      </a:lnTo>
                      <a:lnTo>
                        <a:pt x="879" y="1085"/>
                      </a:lnTo>
                      <a:lnTo>
                        <a:pt x="877" y="1084"/>
                      </a:lnTo>
                      <a:lnTo>
                        <a:pt x="876" y="1085"/>
                      </a:lnTo>
                      <a:lnTo>
                        <a:pt x="874" y="1085"/>
                      </a:lnTo>
                      <a:lnTo>
                        <a:pt x="873" y="1086"/>
                      </a:lnTo>
                      <a:lnTo>
                        <a:pt x="873" y="1088"/>
                      </a:lnTo>
                      <a:lnTo>
                        <a:pt x="781" y="1088"/>
                      </a:lnTo>
                      <a:lnTo>
                        <a:pt x="781" y="1086"/>
                      </a:lnTo>
                      <a:lnTo>
                        <a:pt x="780" y="1085"/>
                      </a:lnTo>
                      <a:lnTo>
                        <a:pt x="778" y="1085"/>
                      </a:lnTo>
                      <a:lnTo>
                        <a:pt x="776" y="1084"/>
                      </a:lnTo>
                      <a:lnTo>
                        <a:pt x="775" y="1085"/>
                      </a:lnTo>
                      <a:lnTo>
                        <a:pt x="773" y="1085"/>
                      </a:lnTo>
                      <a:lnTo>
                        <a:pt x="772" y="1086"/>
                      </a:lnTo>
                      <a:lnTo>
                        <a:pt x="772" y="1088"/>
                      </a:lnTo>
                      <a:lnTo>
                        <a:pt x="718" y="1088"/>
                      </a:lnTo>
                      <a:lnTo>
                        <a:pt x="717" y="1086"/>
                      </a:lnTo>
                      <a:lnTo>
                        <a:pt x="716" y="1085"/>
                      </a:lnTo>
                      <a:lnTo>
                        <a:pt x="715" y="1085"/>
                      </a:lnTo>
                      <a:lnTo>
                        <a:pt x="713" y="1084"/>
                      </a:lnTo>
                      <a:lnTo>
                        <a:pt x="711" y="1085"/>
                      </a:lnTo>
                      <a:lnTo>
                        <a:pt x="710" y="1085"/>
                      </a:lnTo>
                      <a:lnTo>
                        <a:pt x="709" y="1086"/>
                      </a:lnTo>
                      <a:lnTo>
                        <a:pt x="709" y="1088"/>
                      </a:lnTo>
                      <a:lnTo>
                        <a:pt x="695" y="1088"/>
                      </a:lnTo>
                      <a:lnTo>
                        <a:pt x="695" y="1086"/>
                      </a:lnTo>
                      <a:lnTo>
                        <a:pt x="694" y="1085"/>
                      </a:lnTo>
                      <a:lnTo>
                        <a:pt x="692" y="1085"/>
                      </a:lnTo>
                      <a:lnTo>
                        <a:pt x="691" y="1084"/>
                      </a:lnTo>
                      <a:lnTo>
                        <a:pt x="689" y="1085"/>
                      </a:lnTo>
                      <a:lnTo>
                        <a:pt x="687" y="1085"/>
                      </a:lnTo>
                      <a:lnTo>
                        <a:pt x="686" y="1086"/>
                      </a:lnTo>
                      <a:lnTo>
                        <a:pt x="686" y="1088"/>
                      </a:lnTo>
                      <a:lnTo>
                        <a:pt x="639" y="1088"/>
                      </a:lnTo>
                      <a:lnTo>
                        <a:pt x="639" y="1581"/>
                      </a:lnTo>
                      <a:lnTo>
                        <a:pt x="550" y="1581"/>
                      </a:lnTo>
                      <a:lnTo>
                        <a:pt x="550" y="1579"/>
                      </a:lnTo>
                      <a:lnTo>
                        <a:pt x="549" y="1578"/>
                      </a:lnTo>
                      <a:lnTo>
                        <a:pt x="548" y="1577"/>
                      </a:lnTo>
                      <a:lnTo>
                        <a:pt x="546" y="1577"/>
                      </a:lnTo>
                      <a:lnTo>
                        <a:pt x="544" y="1577"/>
                      </a:lnTo>
                      <a:lnTo>
                        <a:pt x="543" y="1578"/>
                      </a:lnTo>
                      <a:lnTo>
                        <a:pt x="542" y="1579"/>
                      </a:lnTo>
                      <a:lnTo>
                        <a:pt x="541" y="1581"/>
                      </a:lnTo>
                      <a:lnTo>
                        <a:pt x="373" y="1581"/>
                      </a:lnTo>
                      <a:lnTo>
                        <a:pt x="373" y="1579"/>
                      </a:lnTo>
                      <a:lnTo>
                        <a:pt x="372" y="1578"/>
                      </a:lnTo>
                      <a:lnTo>
                        <a:pt x="370" y="1577"/>
                      </a:lnTo>
                      <a:lnTo>
                        <a:pt x="368" y="1577"/>
                      </a:lnTo>
                      <a:lnTo>
                        <a:pt x="367" y="1577"/>
                      </a:lnTo>
                      <a:lnTo>
                        <a:pt x="365" y="1578"/>
                      </a:lnTo>
                      <a:lnTo>
                        <a:pt x="364" y="1579"/>
                      </a:lnTo>
                      <a:lnTo>
                        <a:pt x="364" y="1581"/>
                      </a:lnTo>
                      <a:lnTo>
                        <a:pt x="222" y="1581"/>
                      </a:lnTo>
                      <a:lnTo>
                        <a:pt x="221" y="1579"/>
                      </a:lnTo>
                      <a:lnTo>
                        <a:pt x="220" y="1578"/>
                      </a:lnTo>
                      <a:lnTo>
                        <a:pt x="219" y="1577"/>
                      </a:lnTo>
                      <a:lnTo>
                        <a:pt x="217" y="1577"/>
                      </a:lnTo>
                      <a:lnTo>
                        <a:pt x="215" y="1577"/>
                      </a:lnTo>
                      <a:lnTo>
                        <a:pt x="214" y="1578"/>
                      </a:lnTo>
                      <a:lnTo>
                        <a:pt x="213" y="1579"/>
                      </a:lnTo>
                      <a:lnTo>
                        <a:pt x="213" y="1581"/>
                      </a:lnTo>
                      <a:lnTo>
                        <a:pt x="150" y="1581"/>
                      </a:lnTo>
                      <a:lnTo>
                        <a:pt x="150" y="1579"/>
                      </a:lnTo>
                      <a:lnTo>
                        <a:pt x="149" y="1578"/>
                      </a:lnTo>
                      <a:lnTo>
                        <a:pt x="147" y="1577"/>
                      </a:lnTo>
                      <a:lnTo>
                        <a:pt x="146" y="1577"/>
                      </a:lnTo>
                      <a:lnTo>
                        <a:pt x="144" y="1577"/>
                      </a:lnTo>
                      <a:lnTo>
                        <a:pt x="142" y="1578"/>
                      </a:lnTo>
                      <a:lnTo>
                        <a:pt x="142" y="1579"/>
                      </a:lnTo>
                      <a:lnTo>
                        <a:pt x="141" y="1581"/>
                      </a:lnTo>
                      <a:lnTo>
                        <a:pt x="0" y="1581"/>
                      </a:lnTo>
                      <a:lnTo>
                        <a:pt x="0" y="1539"/>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7527600" y="28666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76" name=""/>
                <p:cNvSpPr/>
                <p:nvPr/>
              </p:nvSpPr>
              <p:spPr>
                <a:xfrm>
                  <a:off x="5346720" y="2390040"/>
                  <a:ext cx="2068560" cy="2446920"/>
                </a:xfrm>
                <a:custGeom>
                  <a:avLst/>
                  <a:gdLst/>
                  <a:ahLst/>
                  <a:rect l="l" t="t" r="r" b="b"/>
                  <a:pathLst>
                    <a:path w="1954" h="1832">
                      <a:moveTo>
                        <a:pt x="1954" y="6"/>
                      </a:moveTo>
                      <a:lnTo>
                        <a:pt x="1950" y="6"/>
                      </a:lnTo>
                      <a:lnTo>
                        <a:pt x="1949" y="5"/>
                      </a:lnTo>
                      <a:lnTo>
                        <a:pt x="1948" y="4"/>
                      </a:lnTo>
                      <a:lnTo>
                        <a:pt x="1947" y="3"/>
                      </a:lnTo>
                      <a:lnTo>
                        <a:pt x="1945" y="3"/>
                      </a:lnTo>
                      <a:lnTo>
                        <a:pt x="1943" y="3"/>
                      </a:lnTo>
                      <a:lnTo>
                        <a:pt x="1942" y="4"/>
                      </a:lnTo>
                      <a:lnTo>
                        <a:pt x="1941" y="5"/>
                      </a:lnTo>
                      <a:lnTo>
                        <a:pt x="1941" y="6"/>
                      </a:lnTo>
                      <a:lnTo>
                        <a:pt x="1916" y="6"/>
                      </a:lnTo>
                      <a:lnTo>
                        <a:pt x="1916" y="5"/>
                      </a:lnTo>
                      <a:lnTo>
                        <a:pt x="1914" y="4"/>
                      </a:lnTo>
                      <a:lnTo>
                        <a:pt x="1913" y="3"/>
                      </a:lnTo>
                      <a:lnTo>
                        <a:pt x="1911" y="3"/>
                      </a:lnTo>
                      <a:lnTo>
                        <a:pt x="1910" y="3"/>
                      </a:lnTo>
                      <a:lnTo>
                        <a:pt x="1908" y="4"/>
                      </a:lnTo>
                      <a:lnTo>
                        <a:pt x="1907" y="5"/>
                      </a:lnTo>
                      <a:lnTo>
                        <a:pt x="1907" y="6"/>
                      </a:lnTo>
                      <a:lnTo>
                        <a:pt x="1889" y="6"/>
                      </a:lnTo>
                      <a:lnTo>
                        <a:pt x="1889" y="5"/>
                      </a:lnTo>
                      <a:lnTo>
                        <a:pt x="1887" y="4"/>
                      </a:lnTo>
                      <a:lnTo>
                        <a:pt x="1886" y="3"/>
                      </a:lnTo>
                      <a:lnTo>
                        <a:pt x="1884" y="3"/>
                      </a:lnTo>
                      <a:lnTo>
                        <a:pt x="1883" y="3"/>
                      </a:lnTo>
                      <a:lnTo>
                        <a:pt x="1881" y="4"/>
                      </a:lnTo>
                      <a:lnTo>
                        <a:pt x="1880" y="5"/>
                      </a:lnTo>
                      <a:lnTo>
                        <a:pt x="1880" y="6"/>
                      </a:lnTo>
                      <a:lnTo>
                        <a:pt x="1855" y="6"/>
                      </a:lnTo>
                      <a:lnTo>
                        <a:pt x="1855" y="5"/>
                      </a:lnTo>
                      <a:lnTo>
                        <a:pt x="1854" y="4"/>
                      </a:lnTo>
                      <a:lnTo>
                        <a:pt x="1852" y="3"/>
                      </a:lnTo>
                      <a:lnTo>
                        <a:pt x="1851" y="3"/>
                      </a:lnTo>
                      <a:lnTo>
                        <a:pt x="1849" y="3"/>
                      </a:lnTo>
                      <a:lnTo>
                        <a:pt x="1847" y="4"/>
                      </a:lnTo>
                      <a:lnTo>
                        <a:pt x="1847" y="5"/>
                      </a:lnTo>
                      <a:lnTo>
                        <a:pt x="1846" y="6"/>
                      </a:lnTo>
                      <a:lnTo>
                        <a:pt x="1815" y="6"/>
                      </a:lnTo>
                      <a:lnTo>
                        <a:pt x="1814" y="5"/>
                      </a:lnTo>
                      <a:lnTo>
                        <a:pt x="1813" y="4"/>
                      </a:lnTo>
                      <a:lnTo>
                        <a:pt x="1812" y="3"/>
                      </a:lnTo>
                      <a:lnTo>
                        <a:pt x="1810" y="3"/>
                      </a:lnTo>
                      <a:lnTo>
                        <a:pt x="1808" y="3"/>
                      </a:lnTo>
                      <a:lnTo>
                        <a:pt x="1807" y="4"/>
                      </a:lnTo>
                      <a:lnTo>
                        <a:pt x="1806" y="5"/>
                      </a:lnTo>
                      <a:lnTo>
                        <a:pt x="1805" y="6"/>
                      </a:lnTo>
                      <a:lnTo>
                        <a:pt x="1787" y="6"/>
                      </a:lnTo>
                      <a:lnTo>
                        <a:pt x="1787" y="5"/>
                      </a:lnTo>
                      <a:lnTo>
                        <a:pt x="1786" y="4"/>
                      </a:lnTo>
                      <a:lnTo>
                        <a:pt x="1785" y="3"/>
                      </a:lnTo>
                      <a:lnTo>
                        <a:pt x="1783" y="3"/>
                      </a:lnTo>
                      <a:lnTo>
                        <a:pt x="1781" y="3"/>
                      </a:lnTo>
                      <a:lnTo>
                        <a:pt x="1780" y="4"/>
                      </a:lnTo>
                      <a:lnTo>
                        <a:pt x="1779" y="5"/>
                      </a:lnTo>
                      <a:lnTo>
                        <a:pt x="1778" y="6"/>
                      </a:lnTo>
                      <a:lnTo>
                        <a:pt x="1767" y="6"/>
                      </a:lnTo>
                      <a:lnTo>
                        <a:pt x="1766" y="5"/>
                      </a:lnTo>
                      <a:lnTo>
                        <a:pt x="1766" y="4"/>
                      </a:lnTo>
                      <a:lnTo>
                        <a:pt x="1764" y="3"/>
                      </a:lnTo>
                      <a:lnTo>
                        <a:pt x="1762" y="3"/>
                      </a:lnTo>
                      <a:lnTo>
                        <a:pt x="1761" y="3"/>
                      </a:lnTo>
                      <a:lnTo>
                        <a:pt x="1759" y="4"/>
                      </a:lnTo>
                      <a:lnTo>
                        <a:pt x="1758" y="5"/>
                      </a:lnTo>
                      <a:lnTo>
                        <a:pt x="1758" y="6"/>
                      </a:lnTo>
                      <a:lnTo>
                        <a:pt x="1745" y="6"/>
                      </a:lnTo>
                      <a:lnTo>
                        <a:pt x="1744" y="5"/>
                      </a:lnTo>
                      <a:lnTo>
                        <a:pt x="1744" y="4"/>
                      </a:lnTo>
                      <a:lnTo>
                        <a:pt x="1742" y="3"/>
                      </a:lnTo>
                      <a:lnTo>
                        <a:pt x="1740" y="3"/>
                      </a:lnTo>
                      <a:lnTo>
                        <a:pt x="1739" y="3"/>
                      </a:lnTo>
                      <a:lnTo>
                        <a:pt x="1737" y="4"/>
                      </a:lnTo>
                      <a:lnTo>
                        <a:pt x="1736" y="5"/>
                      </a:lnTo>
                      <a:lnTo>
                        <a:pt x="1736" y="6"/>
                      </a:lnTo>
                      <a:lnTo>
                        <a:pt x="1719" y="6"/>
                      </a:lnTo>
                      <a:lnTo>
                        <a:pt x="1719" y="5"/>
                      </a:lnTo>
                      <a:lnTo>
                        <a:pt x="1718" y="4"/>
                      </a:lnTo>
                      <a:lnTo>
                        <a:pt x="1716" y="3"/>
                      </a:lnTo>
                      <a:lnTo>
                        <a:pt x="1715" y="3"/>
                      </a:lnTo>
                      <a:lnTo>
                        <a:pt x="1713" y="3"/>
                      </a:lnTo>
                      <a:lnTo>
                        <a:pt x="1711" y="4"/>
                      </a:lnTo>
                      <a:lnTo>
                        <a:pt x="1710" y="5"/>
                      </a:lnTo>
                      <a:lnTo>
                        <a:pt x="1710" y="6"/>
                      </a:lnTo>
                      <a:lnTo>
                        <a:pt x="1691" y="6"/>
                      </a:lnTo>
                      <a:lnTo>
                        <a:pt x="1691" y="5"/>
                      </a:lnTo>
                      <a:lnTo>
                        <a:pt x="1690" y="4"/>
                      </a:lnTo>
                      <a:lnTo>
                        <a:pt x="1689" y="3"/>
                      </a:lnTo>
                      <a:lnTo>
                        <a:pt x="1687" y="3"/>
                      </a:lnTo>
                      <a:lnTo>
                        <a:pt x="1685" y="3"/>
                      </a:lnTo>
                      <a:lnTo>
                        <a:pt x="1684" y="4"/>
                      </a:lnTo>
                      <a:lnTo>
                        <a:pt x="1683" y="5"/>
                      </a:lnTo>
                      <a:lnTo>
                        <a:pt x="1682" y="6"/>
                      </a:lnTo>
                      <a:lnTo>
                        <a:pt x="1667" y="6"/>
                      </a:lnTo>
                      <a:lnTo>
                        <a:pt x="1667" y="5"/>
                      </a:lnTo>
                      <a:lnTo>
                        <a:pt x="1666" y="4"/>
                      </a:lnTo>
                      <a:lnTo>
                        <a:pt x="1664" y="3"/>
                      </a:lnTo>
                      <a:lnTo>
                        <a:pt x="1663" y="3"/>
                      </a:lnTo>
                      <a:lnTo>
                        <a:pt x="1661" y="3"/>
                      </a:lnTo>
                      <a:lnTo>
                        <a:pt x="1659" y="4"/>
                      </a:lnTo>
                      <a:lnTo>
                        <a:pt x="1659" y="5"/>
                      </a:lnTo>
                      <a:lnTo>
                        <a:pt x="1658" y="6"/>
                      </a:lnTo>
                      <a:lnTo>
                        <a:pt x="1378" y="6"/>
                      </a:lnTo>
                      <a:lnTo>
                        <a:pt x="1377" y="5"/>
                      </a:lnTo>
                      <a:lnTo>
                        <a:pt x="1376" y="4"/>
                      </a:lnTo>
                      <a:lnTo>
                        <a:pt x="1375" y="3"/>
                      </a:lnTo>
                      <a:lnTo>
                        <a:pt x="1373" y="3"/>
                      </a:lnTo>
                      <a:lnTo>
                        <a:pt x="1372" y="3"/>
                      </a:lnTo>
                      <a:lnTo>
                        <a:pt x="1370" y="4"/>
                      </a:lnTo>
                      <a:lnTo>
                        <a:pt x="1369" y="5"/>
                      </a:lnTo>
                      <a:lnTo>
                        <a:pt x="1369" y="6"/>
                      </a:lnTo>
                      <a:lnTo>
                        <a:pt x="1355" y="6"/>
                      </a:lnTo>
                      <a:lnTo>
                        <a:pt x="1355" y="5"/>
                      </a:lnTo>
                      <a:lnTo>
                        <a:pt x="1354" y="4"/>
                      </a:lnTo>
                      <a:lnTo>
                        <a:pt x="1352" y="3"/>
                      </a:lnTo>
                      <a:lnTo>
                        <a:pt x="1351" y="3"/>
                      </a:lnTo>
                      <a:lnTo>
                        <a:pt x="1349" y="3"/>
                      </a:lnTo>
                      <a:lnTo>
                        <a:pt x="1348" y="4"/>
                      </a:lnTo>
                      <a:lnTo>
                        <a:pt x="1347" y="5"/>
                      </a:lnTo>
                      <a:lnTo>
                        <a:pt x="1346" y="6"/>
                      </a:lnTo>
                      <a:lnTo>
                        <a:pt x="1325" y="6"/>
                      </a:lnTo>
                      <a:lnTo>
                        <a:pt x="1325" y="5"/>
                      </a:lnTo>
                      <a:lnTo>
                        <a:pt x="1323" y="4"/>
                      </a:lnTo>
                      <a:lnTo>
                        <a:pt x="1322" y="3"/>
                      </a:lnTo>
                      <a:lnTo>
                        <a:pt x="1320" y="3"/>
                      </a:lnTo>
                      <a:lnTo>
                        <a:pt x="1319" y="3"/>
                      </a:lnTo>
                      <a:lnTo>
                        <a:pt x="1317" y="4"/>
                      </a:lnTo>
                      <a:lnTo>
                        <a:pt x="1316" y="5"/>
                      </a:lnTo>
                      <a:lnTo>
                        <a:pt x="1316" y="6"/>
                      </a:lnTo>
                      <a:lnTo>
                        <a:pt x="1304" y="6"/>
                      </a:lnTo>
                      <a:lnTo>
                        <a:pt x="1303" y="5"/>
                      </a:lnTo>
                      <a:lnTo>
                        <a:pt x="1302" y="4"/>
                      </a:lnTo>
                      <a:lnTo>
                        <a:pt x="1301" y="3"/>
                      </a:lnTo>
                      <a:lnTo>
                        <a:pt x="1299" y="3"/>
                      </a:lnTo>
                      <a:lnTo>
                        <a:pt x="1297" y="3"/>
                      </a:lnTo>
                      <a:lnTo>
                        <a:pt x="1296" y="4"/>
                      </a:lnTo>
                      <a:lnTo>
                        <a:pt x="1295" y="5"/>
                      </a:lnTo>
                      <a:lnTo>
                        <a:pt x="1294" y="6"/>
                      </a:lnTo>
                      <a:lnTo>
                        <a:pt x="1260" y="6"/>
                      </a:lnTo>
                      <a:lnTo>
                        <a:pt x="1260" y="5"/>
                      </a:lnTo>
                      <a:lnTo>
                        <a:pt x="1259" y="4"/>
                      </a:lnTo>
                      <a:lnTo>
                        <a:pt x="1258" y="3"/>
                      </a:lnTo>
                      <a:lnTo>
                        <a:pt x="1256" y="3"/>
                      </a:lnTo>
                      <a:lnTo>
                        <a:pt x="1254" y="3"/>
                      </a:lnTo>
                      <a:lnTo>
                        <a:pt x="1253" y="4"/>
                      </a:lnTo>
                      <a:lnTo>
                        <a:pt x="1252" y="5"/>
                      </a:lnTo>
                      <a:lnTo>
                        <a:pt x="1251" y="6"/>
                      </a:lnTo>
                      <a:lnTo>
                        <a:pt x="1239" y="6"/>
                      </a:lnTo>
                      <a:lnTo>
                        <a:pt x="1238" y="5"/>
                      </a:lnTo>
                      <a:lnTo>
                        <a:pt x="1237" y="4"/>
                      </a:lnTo>
                      <a:lnTo>
                        <a:pt x="1236" y="3"/>
                      </a:lnTo>
                      <a:lnTo>
                        <a:pt x="1234" y="3"/>
                      </a:lnTo>
                      <a:lnTo>
                        <a:pt x="1233" y="3"/>
                      </a:lnTo>
                      <a:lnTo>
                        <a:pt x="1231" y="4"/>
                      </a:lnTo>
                      <a:lnTo>
                        <a:pt x="1230" y="5"/>
                      </a:lnTo>
                      <a:lnTo>
                        <a:pt x="1230" y="6"/>
                      </a:lnTo>
                      <a:lnTo>
                        <a:pt x="1194" y="6"/>
                      </a:lnTo>
                      <a:lnTo>
                        <a:pt x="1194" y="5"/>
                      </a:lnTo>
                      <a:lnTo>
                        <a:pt x="1193" y="4"/>
                      </a:lnTo>
                      <a:lnTo>
                        <a:pt x="1191" y="3"/>
                      </a:lnTo>
                      <a:lnTo>
                        <a:pt x="1190" y="3"/>
                      </a:lnTo>
                      <a:lnTo>
                        <a:pt x="1188" y="3"/>
                      </a:lnTo>
                      <a:lnTo>
                        <a:pt x="1186" y="4"/>
                      </a:lnTo>
                      <a:lnTo>
                        <a:pt x="1186" y="5"/>
                      </a:lnTo>
                      <a:lnTo>
                        <a:pt x="1185" y="6"/>
                      </a:lnTo>
                      <a:lnTo>
                        <a:pt x="1094" y="6"/>
                      </a:lnTo>
                      <a:lnTo>
                        <a:pt x="1094" y="5"/>
                      </a:lnTo>
                      <a:lnTo>
                        <a:pt x="1093" y="4"/>
                      </a:lnTo>
                      <a:lnTo>
                        <a:pt x="1092" y="3"/>
                      </a:lnTo>
                      <a:lnTo>
                        <a:pt x="1090" y="3"/>
                      </a:lnTo>
                      <a:lnTo>
                        <a:pt x="1088" y="3"/>
                      </a:lnTo>
                      <a:lnTo>
                        <a:pt x="1087" y="4"/>
                      </a:lnTo>
                      <a:lnTo>
                        <a:pt x="1086" y="5"/>
                      </a:lnTo>
                      <a:lnTo>
                        <a:pt x="1085" y="6"/>
                      </a:lnTo>
                      <a:lnTo>
                        <a:pt x="1025" y="6"/>
                      </a:lnTo>
                      <a:lnTo>
                        <a:pt x="1024" y="5"/>
                      </a:lnTo>
                      <a:lnTo>
                        <a:pt x="1023" y="4"/>
                      </a:lnTo>
                      <a:lnTo>
                        <a:pt x="1022" y="3"/>
                      </a:lnTo>
                      <a:lnTo>
                        <a:pt x="1020" y="3"/>
                      </a:lnTo>
                      <a:lnTo>
                        <a:pt x="1019" y="3"/>
                      </a:lnTo>
                      <a:lnTo>
                        <a:pt x="1017" y="4"/>
                      </a:lnTo>
                      <a:lnTo>
                        <a:pt x="1016" y="5"/>
                      </a:lnTo>
                      <a:lnTo>
                        <a:pt x="1016" y="6"/>
                      </a:lnTo>
                      <a:lnTo>
                        <a:pt x="952" y="6"/>
                      </a:lnTo>
                      <a:lnTo>
                        <a:pt x="951" y="5"/>
                      </a:lnTo>
                      <a:lnTo>
                        <a:pt x="950" y="4"/>
                      </a:lnTo>
                      <a:lnTo>
                        <a:pt x="949" y="3"/>
                      </a:lnTo>
                      <a:lnTo>
                        <a:pt x="947" y="3"/>
                      </a:lnTo>
                      <a:lnTo>
                        <a:pt x="945" y="3"/>
                      </a:lnTo>
                      <a:lnTo>
                        <a:pt x="944" y="4"/>
                      </a:lnTo>
                      <a:lnTo>
                        <a:pt x="943" y="5"/>
                      </a:lnTo>
                      <a:lnTo>
                        <a:pt x="943" y="6"/>
                      </a:lnTo>
                      <a:lnTo>
                        <a:pt x="872" y="6"/>
                      </a:lnTo>
                      <a:lnTo>
                        <a:pt x="871" y="5"/>
                      </a:lnTo>
                      <a:lnTo>
                        <a:pt x="871" y="4"/>
                      </a:lnTo>
                      <a:lnTo>
                        <a:pt x="869" y="3"/>
                      </a:lnTo>
                      <a:lnTo>
                        <a:pt x="867" y="3"/>
                      </a:lnTo>
                      <a:lnTo>
                        <a:pt x="866" y="3"/>
                      </a:lnTo>
                      <a:lnTo>
                        <a:pt x="864" y="4"/>
                      </a:lnTo>
                      <a:lnTo>
                        <a:pt x="863" y="5"/>
                      </a:lnTo>
                      <a:lnTo>
                        <a:pt x="863" y="6"/>
                      </a:lnTo>
                      <a:lnTo>
                        <a:pt x="822" y="6"/>
                      </a:lnTo>
                      <a:lnTo>
                        <a:pt x="821" y="5"/>
                      </a:lnTo>
                      <a:lnTo>
                        <a:pt x="820" y="3"/>
                      </a:lnTo>
                      <a:lnTo>
                        <a:pt x="819" y="2"/>
                      </a:lnTo>
                      <a:lnTo>
                        <a:pt x="817" y="1"/>
                      </a:lnTo>
                      <a:lnTo>
                        <a:pt x="815" y="0"/>
                      </a:lnTo>
                      <a:lnTo>
                        <a:pt x="813" y="0"/>
                      </a:lnTo>
                      <a:lnTo>
                        <a:pt x="811" y="1"/>
                      </a:lnTo>
                      <a:lnTo>
                        <a:pt x="809" y="2"/>
                      </a:lnTo>
                      <a:lnTo>
                        <a:pt x="807" y="3"/>
                      </a:lnTo>
                      <a:lnTo>
                        <a:pt x="806" y="5"/>
                      </a:lnTo>
                      <a:lnTo>
                        <a:pt x="806" y="6"/>
                      </a:lnTo>
                      <a:lnTo>
                        <a:pt x="801" y="6"/>
                      </a:lnTo>
                      <a:lnTo>
                        <a:pt x="801" y="5"/>
                      </a:lnTo>
                      <a:lnTo>
                        <a:pt x="800" y="3"/>
                      </a:lnTo>
                      <a:lnTo>
                        <a:pt x="799" y="2"/>
                      </a:lnTo>
                      <a:lnTo>
                        <a:pt x="797" y="1"/>
                      </a:lnTo>
                      <a:lnTo>
                        <a:pt x="795" y="0"/>
                      </a:lnTo>
                      <a:lnTo>
                        <a:pt x="792" y="0"/>
                      </a:lnTo>
                      <a:lnTo>
                        <a:pt x="790" y="1"/>
                      </a:lnTo>
                      <a:lnTo>
                        <a:pt x="788" y="2"/>
                      </a:lnTo>
                      <a:lnTo>
                        <a:pt x="787" y="3"/>
                      </a:lnTo>
                      <a:lnTo>
                        <a:pt x="786" y="5"/>
                      </a:lnTo>
                      <a:lnTo>
                        <a:pt x="786" y="6"/>
                      </a:lnTo>
                      <a:lnTo>
                        <a:pt x="771" y="6"/>
                      </a:lnTo>
                      <a:lnTo>
                        <a:pt x="771" y="5"/>
                      </a:lnTo>
                      <a:lnTo>
                        <a:pt x="770" y="4"/>
                      </a:lnTo>
                      <a:lnTo>
                        <a:pt x="768" y="3"/>
                      </a:lnTo>
                      <a:lnTo>
                        <a:pt x="767" y="3"/>
                      </a:lnTo>
                      <a:lnTo>
                        <a:pt x="765" y="3"/>
                      </a:lnTo>
                      <a:lnTo>
                        <a:pt x="763" y="4"/>
                      </a:lnTo>
                      <a:lnTo>
                        <a:pt x="762" y="5"/>
                      </a:lnTo>
                      <a:lnTo>
                        <a:pt x="762" y="6"/>
                      </a:lnTo>
                      <a:lnTo>
                        <a:pt x="758" y="6"/>
                      </a:lnTo>
                      <a:lnTo>
                        <a:pt x="757" y="5"/>
                      </a:lnTo>
                      <a:lnTo>
                        <a:pt x="756" y="4"/>
                      </a:lnTo>
                      <a:lnTo>
                        <a:pt x="755" y="3"/>
                      </a:lnTo>
                      <a:lnTo>
                        <a:pt x="753" y="3"/>
                      </a:lnTo>
                      <a:lnTo>
                        <a:pt x="751" y="3"/>
                      </a:lnTo>
                      <a:lnTo>
                        <a:pt x="750" y="4"/>
                      </a:lnTo>
                      <a:lnTo>
                        <a:pt x="749" y="5"/>
                      </a:lnTo>
                      <a:lnTo>
                        <a:pt x="749" y="6"/>
                      </a:lnTo>
                      <a:lnTo>
                        <a:pt x="746" y="6"/>
                      </a:lnTo>
                      <a:lnTo>
                        <a:pt x="746" y="5"/>
                      </a:lnTo>
                      <a:lnTo>
                        <a:pt x="745" y="3"/>
                      </a:lnTo>
                      <a:lnTo>
                        <a:pt x="744" y="1"/>
                      </a:lnTo>
                      <a:lnTo>
                        <a:pt x="742" y="0"/>
                      </a:lnTo>
                      <a:lnTo>
                        <a:pt x="739" y="0"/>
                      </a:lnTo>
                      <a:lnTo>
                        <a:pt x="737" y="0"/>
                      </a:lnTo>
                      <a:lnTo>
                        <a:pt x="735" y="0"/>
                      </a:lnTo>
                      <a:lnTo>
                        <a:pt x="733" y="1"/>
                      </a:lnTo>
                      <a:lnTo>
                        <a:pt x="731" y="3"/>
                      </a:lnTo>
                      <a:lnTo>
                        <a:pt x="730" y="5"/>
                      </a:lnTo>
                      <a:lnTo>
                        <a:pt x="730" y="6"/>
                      </a:lnTo>
                      <a:lnTo>
                        <a:pt x="721" y="6"/>
                      </a:lnTo>
                      <a:lnTo>
                        <a:pt x="720" y="5"/>
                      </a:lnTo>
                      <a:lnTo>
                        <a:pt x="719" y="4"/>
                      </a:lnTo>
                      <a:lnTo>
                        <a:pt x="718" y="3"/>
                      </a:lnTo>
                      <a:lnTo>
                        <a:pt x="716" y="3"/>
                      </a:lnTo>
                      <a:lnTo>
                        <a:pt x="715" y="3"/>
                      </a:lnTo>
                      <a:lnTo>
                        <a:pt x="713" y="4"/>
                      </a:lnTo>
                      <a:lnTo>
                        <a:pt x="712" y="5"/>
                      </a:lnTo>
                      <a:lnTo>
                        <a:pt x="712" y="6"/>
                      </a:lnTo>
                      <a:lnTo>
                        <a:pt x="693" y="6"/>
                      </a:lnTo>
                      <a:lnTo>
                        <a:pt x="693" y="5"/>
                      </a:lnTo>
                      <a:lnTo>
                        <a:pt x="692" y="4"/>
                      </a:lnTo>
                      <a:lnTo>
                        <a:pt x="691" y="3"/>
                      </a:lnTo>
                      <a:lnTo>
                        <a:pt x="689" y="3"/>
                      </a:lnTo>
                      <a:lnTo>
                        <a:pt x="687" y="3"/>
                      </a:lnTo>
                      <a:lnTo>
                        <a:pt x="686" y="4"/>
                      </a:lnTo>
                      <a:lnTo>
                        <a:pt x="685" y="5"/>
                      </a:lnTo>
                      <a:lnTo>
                        <a:pt x="684" y="6"/>
                      </a:lnTo>
                      <a:lnTo>
                        <a:pt x="626" y="6"/>
                      </a:lnTo>
                      <a:lnTo>
                        <a:pt x="625" y="5"/>
                      </a:lnTo>
                      <a:lnTo>
                        <a:pt x="624" y="4"/>
                      </a:lnTo>
                      <a:lnTo>
                        <a:pt x="623" y="3"/>
                      </a:lnTo>
                      <a:lnTo>
                        <a:pt x="621" y="3"/>
                      </a:lnTo>
                      <a:lnTo>
                        <a:pt x="620" y="3"/>
                      </a:lnTo>
                      <a:lnTo>
                        <a:pt x="618" y="4"/>
                      </a:lnTo>
                      <a:lnTo>
                        <a:pt x="617" y="5"/>
                      </a:lnTo>
                      <a:lnTo>
                        <a:pt x="617" y="6"/>
                      </a:lnTo>
                      <a:lnTo>
                        <a:pt x="599" y="6"/>
                      </a:lnTo>
                      <a:lnTo>
                        <a:pt x="598" y="5"/>
                      </a:lnTo>
                      <a:lnTo>
                        <a:pt x="597" y="4"/>
                      </a:lnTo>
                      <a:lnTo>
                        <a:pt x="596" y="3"/>
                      </a:lnTo>
                      <a:lnTo>
                        <a:pt x="594" y="3"/>
                      </a:lnTo>
                      <a:lnTo>
                        <a:pt x="593" y="3"/>
                      </a:lnTo>
                      <a:lnTo>
                        <a:pt x="591" y="4"/>
                      </a:lnTo>
                      <a:lnTo>
                        <a:pt x="590" y="5"/>
                      </a:lnTo>
                      <a:lnTo>
                        <a:pt x="590" y="6"/>
                      </a:lnTo>
                      <a:lnTo>
                        <a:pt x="565" y="6"/>
                      </a:lnTo>
                      <a:lnTo>
                        <a:pt x="565" y="5"/>
                      </a:lnTo>
                      <a:lnTo>
                        <a:pt x="564" y="4"/>
                      </a:lnTo>
                      <a:lnTo>
                        <a:pt x="563" y="3"/>
                      </a:lnTo>
                      <a:lnTo>
                        <a:pt x="561" y="3"/>
                      </a:lnTo>
                      <a:lnTo>
                        <a:pt x="559" y="3"/>
                      </a:lnTo>
                      <a:lnTo>
                        <a:pt x="558" y="4"/>
                      </a:lnTo>
                      <a:lnTo>
                        <a:pt x="557" y="5"/>
                      </a:lnTo>
                      <a:lnTo>
                        <a:pt x="556" y="6"/>
                      </a:lnTo>
                      <a:lnTo>
                        <a:pt x="531" y="6"/>
                      </a:lnTo>
                      <a:lnTo>
                        <a:pt x="531" y="5"/>
                      </a:lnTo>
                      <a:lnTo>
                        <a:pt x="530" y="4"/>
                      </a:lnTo>
                      <a:lnTo>
                        <a:pt x="528" y="3"/>
                      </a:lnTo>
                      <a:lnTo>
                        <a:pt x="527" y="3"/>
                      </a:lnTo>
                      <a:lnTo>
                        <a:pt x="525" y="3"/>
                      </a:lnTo>
                      <a:lnTo>
                        <a:pt x="524" y="4"/>
                      </a:lnTo>
                      <a:lnTo>
                        <a:pt x="523" y="5"/>
                      </a:lnTo>
                      <a:lnTo>
                        <a:pt x="522" y="6"/>
                      </a:lnTo>
                      <a:lnTo>
                        <a:pt x="520" y="6"/>
                      </a:lnTo>
                      <a:lnTo>
                        <a:pt x="520" y="5"/>
                      </a:lnTo>
                      <a:lnTo>
                        <a:pt x="519" y="4"/>
                      </a:lnTo>
                      <a:lnTo>
                        <a:pt x="517" y="3"/>
                      </a:lnTo>
                      <a:lnTo>
                        <a:pt x="515" y="3"/>
                      </a:lnTo>
                      <a:lnTo>
                        <a:pt x="514" y="3"/>
                      </a:lnTo>
                      <a:lnTo>
                        <a:pt x="512" y="4"/>
                      </a:lnTo>
                      <a:lnTo>
                        <a:pt x="511" y="5"/>
                      </a:lnTo>
                      <a:lnTo>
                        <a:pt x="511" y="6"/>
                      </a:lnTo>
                      <a:lnTo>
                        <a:pt x="505" y="6"/>
                      </a:lnTo>
                      <a:lnTo>
                        <a:pt x="505" y="5"/>
                      </a:lnTo>
                      <a:lnTo>
                        <a:pt x="504" y="4"/>
                      </a:lnTo>
                      <a:lnTo>
                        <a:pt x="502" y="3"/>
                      </a:lnTo>
                      <a:lnTo>
                        <a:pt x="500" y="3"/>
                      </a:lnTo>
                      <a:lnTo>
                        <a:pt x="499" y="3"/>
                      </a:lnTo>
                      <a:lnTo>
                        <a:pt x="497" y="4"/>
                      </a:lnTo>
                      <a:lnTo>
                        <a:pt x="496" y="5"/>
                      </a:lnTo>
                      <a:lnTo>
                        <a:pt x="496" y="6"/>
                      </a:lnTo>
                      <a:lnTo>
                        <a:pt x="444" y="6"/>
                      </a:lnTo>
                      <a:lnTo>
                        <a:pt x="443" y="5"/>
                      </a:lnTo>
                      <a:lnTo>
                        <a:pt x="443" y="4"/>
                      </a:lnTo>
                      <a:lnTo>
                        <a:pt x="441" y="3"/>
                      </a:lnTo>
                      <a:lnTo>
                        <a:pt x="439" y="3"/>
                      </a:lnTo>
                      <a:lnTo>
                        <a:pt x="438" y="3"/>
                      </a:lnTo>
                      <a:lnTo>
                        <a:pt x="436" y="4"/>
                      </a:lnTo>
                      <a:lnTo>
                        <a:pt x="435" y="5"/>
                      </a:lnTo>
                      <a:lnTo>
                        <a:pt x="435" y="6"/>
                      </a:lnTo>
                      <a:lnTo>
                        <a:pt x="419" y="6"/>
                      </a:lnTo>
                      <a:lnTo>
                        <a:pt x="419" y="5"/>
                      </a:lnTo>
                      <a:lnTo>
                        <a:pt x="418" y="4"/>
                      </a:lnTo>
                      <a:lnTo>
                        <a:pt x="417" y="3"/>
                      </a:lnTo>
                      <a:lnTo>
                        <a:pt x="415" y="3"/>
                      </a:lnTo>
                      <a:lnTo>
                        <a:pt x="413" y="3"/>
                      </a:lnTo>
                      <a:lnTo>
                        <a:pt x="412" y="4"/>
                      </a:lnTo>
                      <a:lnTo>
                        <a:pt x="411" y="5"/>
                      </a:lnTo>
                      <a:lnTo>
                        <a:pt x="410" y="6"/>
                      </a:lnTo>
                      <a:lnTo>
                        <a:pt x="398" y="6"/>
                      </a:lnTo>
                      <a:lnTo>
                        <a:pt x="397" y="5"/>
                      </a:lnTo>
                      <a:lnTo>
                        <a:pt x="396" y="4"/>
                      </a:lnTo>
                      <a:lnTo>
                        <a:pt x="395" y="3"/>
                      </a:lnTo>
                      <a:lnTo>
                        <a:pt x="393" y="3"/>
                      </a:lnTo>
                      <a:lnTo>
                        <a:pt x="391" y="3"/>
                      </a:lnTo>
                      <a:lnTo>
                        <a:pt x="390" y="4"/>
                      </a:lnTo>
                      <a:lnTo>
                        <a:pt x="389" y="5"/>
                      </a:lnTo>
                      <a:lnTo>
                        <a:pt x="389" y="6"/>
                      </a:lnTo>
                      <a:lnTo>
                        <a:pt x="253" y="6"/>
                      </a:lnTo>
                      <a:lnTo>
                        <a:pt x="252" y="5"/>
                      </a:lnTo>
                      <a:lnTo>
                        <a:pt x="251" y="4"/>
                      </a:lnTo>
                      <a:lnTo>
                        <a:pt x="250" y="3"/>
                      </a:lnTo>
                      <a:lnTo>
                        <a:pt x="248" y="3"/>
                      </a:lnTo>
                      <a:lnTo>
                        <a:pt x="246" y="3"/>
                      </a:lnTo>
                      <a:lnTo>
                        <a:pt x="245" y="4"/>
                      </a:lnTo>
                      <a:lnTo>
                        <a:pt x="244" y="5"/>
                      </a:lnTo>
                      <a:lnTo>
                        <a:pt x="244" y="6"/>
                      </a:lnTo>
                      <a:lnTo>
                        <a:pt x="154" y="6"/>
                      </a:lnTo>
                      <a:lnTo>
                        <a:pt x="153" y="5"/>
                      </a:lnTo>
                      <a:lnTo>
                        <a:pt x="153" y="4"/>
                      </a:lnTo>
                      <a:lnTo>
                        <a:pt x="151" y="3"/>
                      </a:lnTo>
                      <a:lnTo>
                        <a:pt x="149" y="3"/>
                      </a:lnTo>
                      <a:lnTo>
                        <a:pt x="148" y="3"/>
                      </a:lnTo>
                      <a:lnTo>
                        <a:pt x="146" y="4"/>
                      </a:lnTo>
                      <a:lnTo>
                        <a:pt x="145" y="5"/>
                      </a:lnTo>
                      <a:lnTo>
                        <a:pt x="145" y="6"/>
                      </a:lnTo>
                      <a:lnTo>
                        <a:pt x="88" y="6"/>
                      </a:lnTo>
                      <a:lnTo>
                        <a:pt x="87" y="5"/>
                      </a:lnTo>
                      <a:lnTo>
                        <a:pt x="86" y="4"/>
                      </a:lnTo>
                      <a:lnTo>
                        <a:pt x="85" y="3"/>
                      </a:lnTo>
                      <a:lnTo>
                        <a:pt x="83" y="3"/>
                      </a:lnTo>
                      <a:lnTo>
                        <a:pt x="81" y="3"/>
                      </a:lnTo>
                      <a:lnTo>
                        <a:pt x="80" y="4"/>
                      </a:lnTo>
                      <a:lnTo>
                        <a:pt x="79" y="5"/>
                      </a:lnTo>
                      <a:lnTo>
                        <a:pt x="79" y="6"/>
                      </a:lnTo>
                      <a:lnTo>
                        <a:pt x="76" y="6"/>
                      </a:lnTo>
                      <a:lnTo>
                        <a:pt x="76" y="1832"/>
                      </a:lnTo>
                      <a:lnTo>
                        <a:pt x="38" y="1832"/>
                      </a:lnTo>
                      <a:lnTo>
                        <a:pt x="38" y="1830"/>
                      </a:lnTo>
                      <a:lnTo>
                        <a:pt x="37" y="1829"/>
                      </a:lnTo>
                      <a:lnTo>
                        <a:pt x="35" y="1828"/>
                      </a:lnTo>
                      <a:lnTo>
                        <a:pt x="34" y="1828"/>
                      </a:lnTo>
                      <a:lnTo>
                        <a:pt x="32" y="1828"/>
                      </a:lnTo>
                      <a:lnTo>
                        <a:pt x="30" y="1829"/>
                      </a:lnTo>
                      <a:lnTo>
                        <a:pt x="30" y="1830"/>
                      </a:lnTo>
                      <a:lnTo>
                        <a:pt x="29" y="1832"/>
                      </a:lnTo>
                      <a:lnTo>
                        <a:pt x="0" y="18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7413480" y="2392920"/>
                  <a:ext cx="13680" cy="11880"/>
                </a:xfrm>
                <a:custGeom>
                  <a:avLst/>
                  <a:gdLst/>
                  <a:ahLst/>
                  <a:rect l="l" t="t" r="r" b="b"/>
                  <a:pathLst>
                    <a:path w="13" h="9">
                      <a:moveTo>
                        <a:pt x="2" y="0"/>
                      </a:moveTo>
                      <a:lnTo>
                        <a:pt x="13" y="4"/>
                      </a:lnTo>
                      <a:lnTo>
                        <a:pt x="2" y="9"/>
                      </a:lnTo>
                      <a:lnTo>
                        <a:pt x="0" y="7"/>
                      </a:lnTo>
                      <a:lnTo>
                        <a:pt x="0" y="4"/>
                      </a:lnTo>
                      <a:lnTo>
                        <a:pt x="0"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78" name=""/>
                <p:cNvSpPr/>
                <p:nvPr/>
              </p:nvSpPr>
              <p:spPr>
                <a:xfrm>
                  <a:off x="5085360" y="2471400"/>
                  <a:ext cx="126000" cy="546120"/>
                </a:xfrm>
                <a:custGeom>
                  <a:avLst/>
                  <a:gdLst/>
                  <a:ahLst/>
                  <a:rect l="l" t="t" r="r" b="b"/>
                  <a:pathLst>
                    <a:path w="119" h="409">
                      <a:moveTo>
                        <a:pt x="96" y="3"/>
                      </a:moveTo>
                      <a:lnTo>
                        <a:pt x="20" y="3"/>
                      </a:lnTo>
                      <a:lnTo>
                        <a:pt x="20" y="2"/>
                      </a:lnTo>
                      <a:lnTo>
                        <a:pt x="19" y="1"/>
                      </a:lnTo>
                      <a:lnTo>
                        <a:pt x="17" y="0"/>
                      </a:lnTo>
                      <a:lnTo>
                        <a:pt x="15" y="0"/>
                      </a:lnTo>
                      <a:lnTo>
                        <a:pt x="14" y="0"/>
                      </a:lnTo>
                      <a:lnTo>
                        <a:pt x="12" y="1"/>
                      </a:lnTo>
                      <a:lnTo>
                        <a:pt x="11" y="2"/>
                      </a:lnTo>
                      <a:lnTo>
                        <a:pt x="11" y="3"/>
                      </a:lnTo>
                      <a:lnTo>
                        <a:pt x="0" y="3"/>
                      </a:lnTo>
                      <a:lnTo>
                        <a:pt x="0" y="409"/>
                      </a:lnTo>
                      <a:lnTo>
                        <a:pt x="11" y="409"/>
                      </a:lnTo>
                      <a:lnTo>
                        <a:pt x="11" y="408"/>
                      </a:lnTo>
                      <a:lnTo>
                        <a:pt x="12" y="406"/>
                      </a:lnTo>
                      <a:lnTo>
                        <a:pt x="14" y="405"/>
                      </a:lnTo>
                      <a:lnTo>
                        <a:pt x="16" y="405"/>
                      </a:lnTo>
                      <a:lnTo>
                        <a:pt x="18" y="404"/>
                      </a:lnTo>
                      <a:lnTo>
                        <a:pt x="20" y="405"/>
                      </a:lnTo>
                      <a:lnTo>
                        <a:pt x="21" y="405"/>
                      </a:lnTo>
                      <a:lnTo>
                        <a:pt x="23" y="406"/>
                      </a:lnTo>
                      <a:lnTo>
                        <a:pt x="24" y="408"/>
                      </a:lnTo>
                      <a:lnTo>
                        <a:pt x="24" y="409"/>
                      </a:lnTo>
                      <a:lnTo>
                        <a:pt x="31" y="409"/>
                      </a:lnTo>
                      <a:lnTo>
                        <a:pt x="32" y="408"/>
                      </a:lnTo>
                      <a:lnTo>
                        <a:pt x="32" y="407"/>
                      </a:lnTo>
                      <a:lnTo>
                        <a:pt x="34" y="406"/>
                      </a:lnTo>
                      <a:lnTo>
                        <a:pt x="36" y="406"/>
                      </a:lnTo>
                      <a:lnTo>
                        <a:pt x="37" y="406"/>
                      </a:lnTo>
                      <a:lnTo>
                        <a:pt x="39" y="407"/>
                      </a:lnTo>
                      <a:lnTo>
                        <a:pt x="40" y="408"/>
                      </a:lnTo>
                      <a:lnTo>
                        <a:pt x="40" y="409"/>
                      </a:lnTo>
                      <a:lnTo>
                        <a:pt x="46" y="409"/>
                      </a:lnTo>
                      <a:lnTo>
                        <a:pt x="47" y="408"/>
                      </a:lnTo>
                      <a:lnTo>
                        <a:pt x="48" y="406"/>
                      </a:lnTo>
                      <a:lnTo>
                        <a:pt x="49" y="405"/>
                      </a:lnTo>
                      <a:lnTo>
                        <a:pt x="51" y="404"/>
                      </a:lnTo>
                      <a:lnTo>
                        <a:pt x="53" y="403"/>
                      </a:lnTo>
                      <a:lnTo>
                        <a:pt x="55" y="403"/>
                      </a:lnTo>
                      <a:lnTo>
                        <a:pt x="58" y="404"/>
                      </a:lnTo>
                      <a:lnTo>
                        <a:pt x="59" y="405"/>
                      </a:lnTo>
                      <a:lnTo>
                        <a:pt x="61" y="406"/>
                      </a:lnTo>
                      <a:lnTo>
                        <a:pt x="62" y="408"/>
                      </a:lnTo>
                      <a:lnTo>
                        <a:pt x="62" y="409"/>
                      </a:lnTo>
                      <a:lnTo>
                        <a:pt x="72" y="409"/>
                      </a:lnTo>
                      <a:lnTo>
                        <a:pt x="72" y="408"/>
                      </a:lnTo>
                      <a:lnTo>
                        <a:pt x="73" y="407"/>
                      </a:lnTo>
                      <a:lnTo>
                        <a:pt x="75" y="406"/>
                      </a:lnTo>
                      <a:lnTo>
                        <a:pt x="76" y="406"/>
                      </a:lnTo>
                      <a:lnTo>
                        <a:pt x="78" y="406"/>
                      </a:lnTo>
                      <a:lnTo>
                        <a:pt x="79" y="407"/>
                      </a:lnTo>
                      <a:lnTo>
                        <a:pt x="80" y="408"/>
                      </a:lnTo>
                      <a:lnTo>
                        <a:pt x="81" y="409"/>
                      </a:lnTo>
                      <a:lnTo>
                        <a:pt x="87" y="409"/>
                      </a:lnTo>
                      <a:lnTo>
                        <a:pt x="87" y="408"/>
                      </a:lnTo>
                      <a:lnTo>
                        <a:pt x="88" y="407"/>
                      </a:lnTo>
                      <a:lnTo>
                        <a:pt x="90" y="406"/>
                      </a:lnTo>
                      <a:lnTo>
                        <a:pt x="92" y="406"/>
                      </a:lnTo>
                      <a:lnTo>
                        <a:pt x="93" y="406"/>
                      </a:lnTo>
                      <a:lnTo>
                        <a:pt x="95" y="407"/>
                      </a:lnTo>
                      <a:lnTo>
                        <a:pt x="96" y="408"/>
                      </a:lnTo>
                      <a:lnTo>
                        <a:pt x="96" y="409"/>
                      </a:lnTo>
                      <a:lnTo>
                        <a:pt x="105" y="409"/>
                      </a:lnTo>
                      <a:lnTo>
                        <a:pt x="105" y="408"/>
                      </a:lnTo>
                      <a:lnTo>
                        <a:pt x="106" y="407"/>
                      </a:lnTo>
                      <a:lnTo>
                        <a:pt x="107" y="406"/>
                      </a:lnTo>
                      <a:lnTo>
                        <a:pt x="109" y="406"/>
                      </a:lnTo>
                      <a:lnTo>
                        <a:pt x="111" y="406"/>
                      </a:lnTo>
                      <a:lnTo>
                        <a:pt x="112" y="407"/>
                      </a:lnTo>
                      <a:lnTo>
                        <a:pt x="113" y="408"/>
                      </a:lnTo>
                      <a:lnTo>
                        <a:pt x="114" y="409"/>
                      </a:lnTo>
                      <a:lnTo>
                        <a:pt x="119" y="4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5185080" y="246888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80" name=""/>
                <p:cNvSpPr/>
                <p:nvPr/>
              </p:nvSpPr>
              <p:spPr>
                <a:xfrm>
                  <a:off x="5367960" y="2275200"/>
                  <a:ext cx="1843920" cy="742680"/>
                </a:xfrm>
                <a:custGeom>
                  <a:avLst/>
                  <a:gdLst/>
                  <a:ahLst/>
                  <a:rect l="l" t="t" r="r" b="b"/>
                  <a:pathLst>
                    <a:path w="1742" h="556">
                      <a:moveTo>
                        <a:pt x="0" y="556"/>
                      </a:moveTo>
                      <a:lnTo>
                        <a:pt x="21" y="556"/>
                      </a:lnTo>
                      <a:lnTo>
                        <a:pt x="21" y="555"/>
                      </a:lnTo>
                      <a:lnTo>
                        <a:pt x="22" y="554"/>
                      </a:lnTo>
                      <a:lnTo>
                        <a:pt x="24" y="553"/>
                      </a:lnTo>
                      <a:lnTo>
                        <a:pt x="25" y="553"/>
                      </a:lnTo>
                      <a:lnTo>
                        <a:pt x="27" y="553"/>
                      </a:lnTo>
                      <a:lnTo>
                        <a:pt x="29" y="554"/>
                      </a:lnTo>
                      <a:lnTo>
                        <a:pt x="30" y="555"/>
                      </a:lnTo>
                      <a:lnTo>
                        <a:pt x="30" y="556"/>
                      </a:lnTo>
                      <a:lnTo>
                        <a:pt x="41" y="556"/>
                      </a:lnTo>
                      <a:lnTo>
                        <a:pt x="41" y="555"/>
                      </a:lnTo>
                      <a:lnTo>
                        <a:pt x="42" y="554"/>
                      </a:lnTo>
                      <a:lnTo>
                        <a:pt x="44" y="553"/>
                      </a:lnTo>
                      <a:lnTo>
                        <a:pt x="45" y="553"/>
                      </a:lnTo>
                      <a:lnTo>
                        <a:pt x="47" y="553"/>
                      </a:lnTo>
                      <a:lnTo>
                        <a:pt x="48" y="554"/>
                      </a:lnTo>
                      <a:lnTo>
                        <a:pt x="50" y="555"/>
                      </a:lnTo>
                      <a:lnTo>
                        <a:pt x="50" y="556"/>
                      </a:lnTo>
                      <a:lnTo>
                        <a:pt x="52" y="556"/>
                      </a:lnTo>
                      <a:lnTo>
                        <a:pt x="52" y="555"/>
                      </a:lnTo>
                      <a:lnTo>
                        <a:pt x="53" y="554"/>
                      </a:lnTo>
                      <a:lnTo>
                        <a:pt x="55" y="553"/>
                      </a:lnTo>
                      <a:lnTo>
                        <a:pt x="56" y="553"/>
                      </a:lnTo>
                      <a:lnTo>
                        <a:pt x="58" y="553"/>
                      </a:lnTo>
                      <a:lnTo>
                        <a:pt x="60" y="554"/>
                      </a:lnTo>
                      <a:lnTo>
                        <a:pt x="61" y="555"/>
                      </a:lnTo>
                      <a:lnTo>
                        <a:pt x="61" y="556"/>
                      </a:lnTo>
                      <a:lnTo>
                        <a:pt x="62" y="556"/>
                      </a:lnTo>
                      <a:lnTo>
                        <a:pt x="62" y="555"/>
                      </a:lnTo>
                      <a:lnTo>
                        <a:pt x="63" y="554"/>
                      </a:lnTo>
                      <a:lnTo>
                        <a:pt x="64" y="553"/>
                      </a:lnTo>
                      <a:lnTo>
                        <a:pt x="66" y="553"/>
                      </a:lnTo>
                      <a:lnTo>
                        <a:pt x="68" y="553"/>
                      </a:lnTo>
                      <a:lnTo>
                        <a:pt x="69" y="554"/>
                      </a:lnTo>
                      <a:lnTo>
                        <a:pt x="70" y="555"/>
                      </a:lnTo>
                      <a:lnTo>
                        <a:pt x="70" y="556"/>
                      </a:lnTo>
                      <a:lnTo>
                        <a:pt x="72" y="556"/>
                      </a:lnTo>
                      <a:lnTo>
                        <a:pt x="73" y="555"/>
                      </a:lnTo>
                      <a:lnTo>
                        <a:pt x="74" y="553"/>
                      </a:lnTo>
                      <a:lnTo>
                        <a:pt x="75" y="551"/>
                      </a:lnTo>
                      <a:lnTo>
                        <a:pt x="77" y="550"/>
                      </a:lnTo>
                      <a:lnTo>
                        <a:pt x="80" y="550"/>
                      </a:lnTo>
                      <a:lnTo>
                        <a:pt x="82" y="550"/>
                      </a:lnTo>
                      <a:lnTo>
                        <a:pt x="84" y="550"/>
                      </a:lnTo>
                      <a:lnTo>
                        <a:pt x="87" y="551"/>
                      </a:lnTo>
                      <a:lnTo>
                        <a:pt x="88" y="553"/>
                      </a:lnTo>
                      <a:lnTo>
                        <a:pt x="89" y="555"/>
                      </a:lnTo>
                      <a:lnTo>
                        <a:pt x="90" y="556"/>
                      </a:lnTo>
                      <a:lnTo>
                        <a:pt x="94" y="556"/>
                      </a:lnTo>
                      <a:lnTo>
                        <a:pt x="94" y="555"/>
                      </a:lnTo>
                      <a:lnTo>
                        <a:pt x="95" y="553"/>
                      </a:lnTo>
                      <a:lnTo>
                        <a:pt x="97" y="552"/>
                      </a:lnTo>
                      <a:lnTo>
                        <a:pt x="99" y="551"/>
                      </a:lnTo>
                      <a:lnTo>
                        <a:pt x="101" y="550"/>
                      </a:lnTo>
                      <a:lnTo>
                        <a:pt x="103" y="550"/>
                      </a:lnTo>
                      <a:lnTo>
                        <a:pt x="106" y="551"/>
                      </a:lnTo>
                      <a:lnTo>
                        <a:pt x="108" y="552"/>
                      </a:lnTo>
                      <a:lnTo>
                        <a:pt x="109" y="553"/>
                      </a:lnTo>
                      <a:lnTo>
                        <a:pt x="110" y="555"/>
                      </a:lnTo>
                      <a:lnTo>
                        <a:pt x="110" y="556"/>
                      </a:lnTo>
                      <a:lnTo>
                        <a:pt x="125" y="556"/>
                      </a:lnTo>
                      <a:lnTo>
                        <a:pt x="125" y="555"/>
                      </a:lnTo>
                      <a:lnTo>
                        <a:pt x="126" y="554"/>
                      </a:lnTo>
                      <a:lnTo>
                        <a:pt x="128" y="553"/>
                      </a:lnTo>
                      <a:lnTo>
                        <a:pt x="129" y="553"/>
                      </a:lnTo>
                      <a:lnTo>
                        <a:pt x="131" y="553"/>
                      </a:lnTo>
                      <a:lnTo>
                        <a:pt x="133" y="554"/>
                      </a:lnTo>
                      <a:lnTo>
                        <a:pt x="133" y="555"/>
                      </a:lnTo>
                      <a:lnTo>
                        <a:pt x="134" y="556"/>
                      </a:lnTo>
                      <a:lnTo>
                        <a:pt x="141" y="556"/>
                      </a:lnTo>
                      <a:lnTo>
                        <a:pt x="141" y="555"/>
                      </a:lnTo>
                      <a:lnTo>
                        <a:pt x="142" y="554"/>
                      </a:lnTo>
                      <a:lnTo>
                        <a:pt x="144" y="553"/>
                      </a:lnTo>
                      <a:lnTo>
                        <a:pt x="145" y="553"/>
                      </a:lnTo>
                      <a:lnTo>
                        <a:pt x="147" y="553"/>
                      </a:lnTo>
                      <a:lnTo>
                        <a:pt x="149" y="554"/>
                      </a:lnTo>
                      <a:lnTo>
                        <a:pt x="149" y="555"/>
                      </a:lnTo>
                      <a:lnTo>
                        <a:pt x="150" y="556"/>
                      </a:lnTo>
                      <a:lnTo>
                        <a:pt x="153" y="556"/>
                      </a:lnTo>
                      <a:lnTo>
                        <a:pt x="153" y="555"/>
                      </a:lnTo>
                      <a:lnTo>
                        <a:pt x="154" y="554"/>
                      </a:lnTo>
                      <a:lnTo>
                        <a:pt x="155" y="553"/>
                      </a:lnTo>
                      <a:lnTo>
                        <a:pt x="157" y="553"/>
                      </a:lnTo>
                      <a:lnTo>
                        <a:pt x="159" y="553"/>
                      </a:lnTo>
                      <a:lnTo>
                        <a:pt x="160" y="554"/>
                      </a:lnTo>
                      <a:lnTo>
                        <a:pt x="161" y="555"/>
                      </a:lnTo>
                      <a:lnTo>
                        <a:pt x="162" y="556"/>
                      </a:lnTo>
                      <a:lnTo>
                        <a:pt x="218" y="556"/>
                      </a:lnTo>
                      <a:lnTo>
                        <a:pt x="219" y="555"/>
                      </a:lnTo>
                      <a:lnTo>
                        <a:pt x="220" y="554"/>
                      </a:lnTo>
                      <a:lnTo>
                        <a:pt x="221" y="553"/>
                      </a:lnTo>
                      <a:lnTo>
                        <a:pt x="223" y="553"/>
                      </a:lnTo>
                      <a:lnTo>
                        <a:pt x="225" y="553"/>
                      </a:lnTo>
                      <a:lnTo>
                        <a:pt x="226" y="554"/>
                      </a:lnTo>
                      <a:lnTo>
                        <a:pt x="227" y="555"/>
                      </a:lnTo>
                      <a:lnTo>
                        <a:pt x="227" y="556"/>
                      </a:lnTo>
                      <a:lnTo>
                        <a:pt x="233" y="556"/>
                      </a:lnTo>
                      <a:lnTo>
                        <a:pt x="233" y="555"/>
                      </a:lnTo>
                      <a:lnTo>
                        <a:pt x="234" y="554"/>
                      </a:lnTo>
                      <a:lnTo>
                        <a:pt x="236" y="553"/>
                      </a:lnTo>
                      <a:lnTo>
                        <a:pt x="237" y="553"/>
                      </a:lnTo>
                      <a:lnTo>
                        <a:pt x="239" y="553"/>
                      </a:lnTo>
                      <a:lnTo>
                        <a:pt x="241" y="554"/>
                      </a:lnTo>
                      <a:lnTo>
                        <a:pt x="242" y="555"/>
                      </a:lnTo>
                      <a:lnTo>
                        <a:pt x="242" y="556"/>
                      </a:lnTo>
                      <a:lnTo>
                        <a:pt x="264" y="556"/>
                      </a:lnTo>
                      <a:lnTo>
                        <a:pt x="264" y="555"/>
                      </a:lnTo>
                      <a:lnTo>
                        <a:pt x="265" y="554"/>
                      </a:lnTo>
                      <a:lnTo>
                        <a:pt x="267" y="553"/>
                      </a:lnTo>
                      <a:lnTo>
                        <a:pt x="269" y="553"/>
                      </a:lnTo>
                      <a:lnTo>
                        <a:pt x="270" y="553"/>
                      </a:lnTo>
                      <a:lnTo>
                        <a:pt x="272" y="554"/>
                      </a:lnTo>
                      <a:lnTo>
                        <a:pt x="273" y="555"/>
                      </a:lnTo>
                      <a:lnTo>
                        <a:pt x="273" y="556"/>
                      </a:lnTo>
                      <a:lnTo>
                        <a:pt x="415" y="556"/>
                      </a:lnTo>
                      <a:lnTo>
                        <a:pt x="416" y="555"/>
                      </a:lnTo>
                      <a:lnTo>
                        <a:pt x="416" y="554"/>
                      </a:lnTo>
                      <a:lnTo>
                        <a:pt x="418" y="553"/>
                      </a:lnTo>
                      <a:lnTo>
                        <a:pt x="420" y="553"/>
                      </a:lnTo>
                      <a:lnTo>
                        <a:pt x="421" y="553"/>
                      </a:lnTo>
                      <a:lnTo>
                        <a:pt x="423" y="554"/>
                      </a:lnTo>
                      <a:lnTo>
                        <a:pt x="424" y="555"/>
                      </a:lnTo>
                      <a:lnTo>
                        <a:pt x="424" y="556"/>
                      </a:lnTo>
                      <a:lnTo>
                        <a:pt x="426" y="556"/>
                      </a:lnTo>
                      <a:lnTo>
                        <a:pt x="427" y="555"/>
                      </a:lnTo>
                      <a:lnTo>
                        <a:pt x="428" y="554"/>
                      </a:lnTo>
                      <a:lnTo>
                        <a:pt x="429" y="553"/>
                      </a:lnTo>
                      <a:lnTo>
                        <a:pt x="431" y="553"/>
                      </a:lnTo>
                      <a:lnTo>
                        <a:pt x="432" y="553"/>
                      </a:lnTo>
                      <a:lnTo>
                        <a:pt x="434" y="554"/>
                      </a:lnTo>
                      <a:lnTo>
                        <a:pt x="435" y="555"/>
                      </a:lnTo>
                      <a:lnTo>
                        <a:pt x="435" y="556"/>
                      </a:lnTo>
                      <a:lnTo>
                        <a:pt x="459" y="556"/>
                      </a:lnTo>
                      <a:lnTo>
                        <a:pt x="459" y="555"/>
                      </a:lnTo>
                      <a:lnTo>
                        <a:pt x="460" y="554"/>
                      </a:lnTo>
                      <a:lnTo>
                        <a:pt x="462" y="553"/>
                      </a:lnTo>
                      <a:lnTo>
                        <a:pt x="463" y="553"/>
                      </a:lnTo>
                      <a:lnTo>
                        <a:pt x="465" y="553"/>
                      </a:lnTo>
                      <a:lnTo>
                        <a:pt x="466" y="554"/>
                      </a:lnTo>
                      <a:lnTo>
                        <a:pt x="467" y="555"/>
                      </a:lnTo>
                      <a:lnTo>
                        <a:pt x="468" y="556"/>
                      </a:lnTo>
                      <a:lnTo>
                        <a:pt x="479" y="556"/>
                      </a:lnTo>
                      <a:lnTo>
                        <a:pt x="479" y="555"/>
                      </a:lnTo>
                      <a:lnTo>
                        <a:pt x="480" y="554"/>
                      </a:lnTo>
                      <a:lnTo>
                        <a:pt x="481" y="553"/>
                      </a:lnTo>
                      <a:lnTo>
                        <a:pt x="483" y="553"/>
                      </a:lnTo>
                      <a:lnTo>
                        <a:pt x="485" y="553"/>
                      </a:lnTo>
                      <a:lnTo>
                        <a:pt x="486" y="554"/>
                      </a:lnTo>
                      <a:lnTo>
                        <a:pt x="487" y="555"/>
                      </a:lnTo>
                      <a:lnTo>
                        <a:pt x="488" y="556"/>
                      </a:lnTo>
                      <a:lnTo>
                        <a:pt x="531" y="556"/>
                      </a:lnTo>
                      <a:lnTo>
                        <a:pt x="531" y="555"/>
                      </a:lnTo>
                      <a:lnTo>
                        <a:pt x="532" y="554"/>
                      </a:lnTo>
                      <a:lnTo>
                        <a:pt x="533" y="553"/>
                      </a:lnTo>
                      <a:lnTo>
                        <a:pt x="535" y="553"/>
                      </a:lnTo>
                      <a:lnTo>
                        <a:pt x="537" y="553"/>
                      </a:lnTo>
                      <a:lnTo>
                        <a:pt x="538" y="554"/>
                      </a:lnTo>
                      <a:lnTo>
                        <a:pt x="539" y="555"/>
                      </a:lnTo>
                      <a:lnTo>
                        <a:pt x="540" y="556"/>
                      </a:lnTo>
                      <a:lnTo>
                        <a:pt x="570" y="556"/>
                      </a:lnTo>
                      <a:lnTo>
                        <a:pt x="570" y="555"/>
                      </a:lnTo>
                      <a:lnTo>
                        <a:pt x="571" y="554"/>
                      </a:lnTo>
                      <a:lnTo>
                        <a:pt x="573" y="553"/>
                      </a:lnTo>
                      <a:lnTo>
                        <a:pt x="574" y="553"/>
                      </a:lnTo>
                      <a:lnTo>
                        <a:pt x="576" y="553"/>
                      </a:lnTo>
                      <a:lnTo>
                        <a:pt x="578" y="554"/>
                      </a:lnTo>
                      <a:lnTo>
                        <a:pt x="579" y="555"/>
                      </a:lnTo>
                      <a:lnTo>
                        <a:pt x="579" y="556"/>
                      </a:lnTo>
                      <a:lnTo>
                        <a:pt x="587" y="556"/>
                      </a:lnTo>
                      <a:lnTo>
                        <a:pt x="588" y="555"/>
                      </a:lnTo>
                      <a:lnTo>
                        <a:pt x="589" y="553"/>
                      </a:lnTo>
                      <a:lnTo>
                        <a:pt x="590" y="552"/>
                      </a:lnTo>
                      <a:lnTo>
                        <a:pt x="592" y="552"/>
                      </a:lnTo>
                      <a:lnTo>
                        <a:pt x="594" y="551"/>
                      </a:lnTo>
                      <a:lnTo>
                        <a:pt x="596" y="552"/>
                      </a:lnTo>
                      <a:lnTo>
                        <a:pt x="598" y="552"/>
                      </a:lnTo>
                      <a:lnTo>
                        <a:pt x="600" y="553"/>
                      </a:lnTo>
                      <a:lnTo>
                        <a:pt x="600" y="555"/>
                      </a:lnTo>
                      <a:lnTo>
                        <a:pt x="601" y="556"/>
                      </a:lnTo>
                      <a:lnTo>
                        <a:pt x="624" y="556"/>
                      </a:lnTo>
                      <a:lnTo>
                        <a:pt x="625" y="555"/>
                      </a:lnTo>
                      <a:lnTo>
                        <a:pt x="626" y="554"/>
                      </a:lnTo>
                      <a:lnTo>
                        <a:pt x="627" y="553"/>
                      </a:lnTo>
                      <a:lnTo>
                        <a:pt x="629" y="553"/>
                      </a:lnTo>
                      <a:lnTo>
                        <a:pt x="631" y="553"/>
                      </a:lnTo>
                      <a:lnTo>
                        <a:pt x="632" y="554"/>
                      </a:lnTo>
                      <a:lnTo>
                        <a:pt x="633" y="555"/>
                      </a:lnTo>
                      <a:lnTo>
                        <a:pt x="633" y="556"/>
                      </a:lnTo>
                      <a:lnTo>
                        <a:pt x="649" y="556"/>
                      </a:lnTo>
                      <a:lnTo>
                        <a:pt x="649" y="555"/>
                      </a:lnTo>
                      <a:lnTo>
                        <a:pt x="650" y="554"/>
                      </a:lnTo>
                      <a:lnTo>
                        <a:pt x="651" y="553"/>
                      </a:lnTo>
                      <a:lnTo>
                        <a:pt x="653" y="553"/>
                      </a:lnTo>
                      <a:lnTo>
                        <a:pt x="655" y="553"/>
                      </a:lnTo>
                      <a:lnTo>
                        <a:pt x="656" y="554"/>
                      </a:lnTo>
                      <a:lnTo>
                        <a:pt x="657" y="555"/>
                      </a:lnTo>
                      <a:lnTo>
                        <a:pt x="658" y="556"/>
                      </a:lnTo>
                      <a:lnTo>
                        <a:pt x="682" y="556"/>
                      </a:lnTo>
                      <a:lnTo>
                        <a:pt x="683" y="555"/>
                      </a:lnTo>
                      <a:lnTo>
                        <a:pt x="684" y="554"/>
                      </a:lnTo>
                      <a:lnTo>
                        <a:pt x="685" y="553"/>
                      </a:lnTo>
                      <a:lnTo>
                        <a:pt x="687" y="553"/>
                      </a:lnTo>
                      <a:lnTo>
                        <a:pt x="689" y="553"/>
                      </a:lnTo>
                      <a:lnTo>
                        <a:pt x="690" y="554"/>
                      </a:lnTo>
                      <a:lnTo>
                        <a:pt x="691" y="555"/>
                      </a:lnTo>
                      <a:lnTo>
                        <a:pt x="691" y="556"/>
                      </a:lnTo>
                      <a:lnTo>
                        <a:pt x="696" y="556"/>
                      </a:lnTo>
                      <a:lnTo>
                        <a:pt x="696" y="555"/>
                      </a:lnTo>
                      <a:lnTo>
                        <a:pt x="697" y="554"/>
                      </a:lnTo>
                      <a:lnTo>
                        <a:pt x="699" y="553"/>
                      </a:lnTo>
                      <a:lnTo>
                        <a:pt x="700" y="553"/>
                      </a:lnTo>
                      <a:lnTo>
                        <a:pt x="702" y="553"/>
                      </a:lnTo>
                      <a:lnTo>
                        <a:pt x="704" y="554"/>
                      </a:lnTo>
                      <a:lnTo>
                        <a:pt x="705" y="555"/>
                      </a:lnTo>
                      <a:lnTo>
                        <a:pt x="705" y="556"/>
                      </a:lnTo>
                      <a:lnTo>
                        <a:pt x="710" y="556"/>
                      </a:lnTo>
                      <a:lnTo>
                        <a:pt x="710" y="555"/>
                      </a:lnTo>
                      <a:lnTo>
                        <a:pt x="711" y="554"/>
                      </a:lnTo>
                      <a:lnTo>
                        <a:pt x="712" y="553"/>
                      </a:lnTo>
                      <a:lnTo>
                        <a:pt x="714" y="553"/>
                      </a:lnTo>
                      <a:lnTo>
                        <a:pt x="716" y="553"/>
                      </a:lnTo>
                      <a:lnTo>
                        <a:pt x="717" y="554"/>
                      </a:lnTo>
                      <a:lnTo>
                        <a:pt x="718" y="555"/>
                      </a:lnTo>
                      <a:lnTo>
                        <a:pt x="719" y="556"/>
                      </a:lnTo>
                      <a:lnTo>
                        <a:pt x="742" y="556"/>
                      </a:lnTo>
                      <a:lnTo>
                        <a:pt x="742" y="555"/>
                      </a:lnTo>
                      <a:lnTo>
                        <a:pt x="743" y="554"/>
                      </a:lnTo>
                      <a:lnTo>
                        <a:pt x="745" y="553"/>
                      </a:lnTo>
                      <a:lnTo>
                        <a:pt x="747" y="553"/>
                      </a:lnTo>
                      <a:lnTo>
                        <a:pt x="748" y="553"/>
                      </a:lnTo>
                      <a:lnTo>
                        <a:pt x="750" y="554"/>
                      </a:lnTo>
                      <a:lnTo>
                        <a:pt x="751" y="555"/>
                      </a:lnTo>
                      <a:lnTo>
                        <a:pt x="751" y="556"/>
                      </a:lnTo>
                      <a:lnTo>
                        <a:pt x="772" y="556"/>
                      </a:lnTo>
                      <a:lnTo>
                        <a:pt x="773" y="555"/>
                      </a:lnTo>
                      <a:lnTo>
                        <a:pt x="774" y="554"/>
                      </a:lnTo>
                      <a:lnTo>
                        <a:pt x="775" y="553"/>
                      </a:lnTo>
                      <a:lnTo>
                        <a:pt x="777" y="553"/>
                      </a:lnTo>
                      <a:lnTo>
                        <a:pt x="779" y="553"/>
                      </a:lnTo>
                      <a:lnTo>
                        <a:pt x="780" y="554"/>
                      </a:lnTo>
                      <a:lnTo>
                        <a:pt x="781" y="555"/>
                      </a:lnTo>
                      <a:lnTo>
                        <a:pt x="781" y="556"/>
                      </a:lnTo>
                      <a:lnTo>
                        <a:pt x="786" y="556"/>
                      </a:lnTo>
                      <a:lnTo>
                        <a:pt x="786" y="555"/>
                      </a:lnTo>
                      <a:lnTo>
                        <a:pt x="787" y="554"/>
                      </a:lnTo>
                      <a:lnTo>
                        <a:pt x="789" y="553"/>
                      </a:lnTo>
                      <a:lnTo>
                        <a:pt x="790" y="553"/>
                      </a:lnTo>
                      <a:lnTo>
                        <a:pt x="792" y="553"/>
                      </a:lnTo>
                      <a:lnTo>
                        <a:pt x="794" y="554"/>
                      </a:lnTo>
                      <a:lnTo>
                        <a:pt x="794" y="555"/>
                      </a:lnTo>
                      <a:lnTo>
                        <a:pt x="795" y="556"/>
                      </a:lnTo>
                      <a:lnTo>
                        <a:pt x="803" y="556"/>
                      </a:lnTo>
                      <a:lnTo>
                        <a:pt x="803" y="555"/>
                      </a:lnTo>
                      <a:lnTo>
                        <a:pt x="804" y="554"/>
                      </a:lnTo>
                      <a:lnTo>
                        <a:pt x="806" y="553"/>
                      </a:lnTo>
                      <a:lnTo>
                        <a:pt x="807" y="553"/>
                      </a:lnTo>
                      <a:lnTo>
                        <a:pt x="809" y="553"/>
                      </a:lnTo>
                      <a:lnTo>
                        <a:pt x="811" y="554"/>
                      </a:lnTo>
                      <a:lnTo>
                        <a:pt x="811" y="555"/>
                      </a:lnTo>
                      <a:lnTo>
                        <a:pt x="812" y="556"/>
                      </a:lnTo>
                      <a:lnTo>
                        <a:pt x="820" y="556"/>
                      </a:lnTo>
                      <a:lnTo>
                        <a:pt x="820" y="555"/>
                      </a:lnTo>
                      <a:lnTo>
                        <a:pt x="821" y="554"/>
                      </a:lnTo>
                      <a:lnTo>
                        <a:pt x="822" y="553"/>
                      </a:lnTo>
                      <a:lnTo>
                        <a:pt x="824" y="553"/>
                      </a:lnTo>
                      <a:lnTo>
                        <a:pt x="826" y="553"/>
                      </a:lnTo>
                      <a:lnTo>
                        <a:pt x="827" y="554"/>
                      </a:lnTo>
                      <a:lnTo>
                        <a:pt x="828" y="555"/>
                      </a:lnTo>
                      <a:lnTo>
                        <a:pt x="829" y="556"/>
                      </a:lnTo>
                      <a:lnTo>
                        <a:pt x="843" y="556"/>
                      </a:lnTo>
                      <a:lnTo>
                        <a:pt x="843" y="555"/>
                      </a:lnTo>
                      <a:lnTo>
                        <a:pt x="844" y="553"/>
                      </a:lnTo>
                      <a:lnTo>
                        <a:pt x="846" y="552"/>
                      </a:lnTo>
                      <a:lnTo>
                        <a:pt x="847" y="551"/>
                      </a:lnTo>
                      <a:lnTo>
                        <a:pt x="850" y="550"/>
                      </a:lnTo>
                      <a:lnTo>
                        <a:pt x="852" y="550"/>
                      </a:lnTo>
                      <a:lnTo>
                        <a:pt x="854" y="551"/>
                      </a:lnTo>
                      <a:lnTo>
                        <a:pt x="856" y="552"/>
                      </a:lnTo>
                      <a:lnTo>
                        <a:pt x="857" y="553"/>
                      </a:lnTo>
                      <a:lnTo>
                        <a:pt x="858" y="555"/>
                      </a:lnTo>
                      <a:lnTo>
                        <a:pt x="859" y="556"/>
                      </a:lnTo>
                      <a:lnTo>
                        <a:pt x="928" y="556"/>
                      </a:lnTo>
                      <a:lnTo>
                        <a:pt x="928" y="555"/>
                      </a:lnTo>
                      <a:lnTo>
                        <a:pt x="929" y="554"/>
                      </a:lnTo>
                      <a:lnTo>
                        <a:pt x="930" y="553"/>
                      </a:lnTo>
                      <a:lnTo>
                        <a:pt x="932" y="553"/>
                      </a:lnTo>
                      <a:lnTo>
                        <a:pt x="934" y="553"/>
                      </a:lnTo>
                      <a:lnTo>
                        <a:pt x="935" y="554"/>
                      </a:lnTo>
                      <a:lnTo>
                        <a:pt x="936" y="555"/>
                      </a:lnTo>
                      <a:lnTo>
                        <a:pt x="937" y="556"/>
                      </a:lnTo>
                      <a:lnTo>
                        <a:pt x="945" y="556"/>
                      </a:lnTo>
                      <a:lnTo>
                        <a:pt x="945" y="555"/>
                      </a:lnTo>
                      <a:lnTo>
                        <a:pt x="946" y="553"/>
                      </a:lnTo>
                      <a:lnTo>
                        <a:pt x="947" y="552"/>
                      </a:lnTo>
                      <a:lnTo>
                        <a:pt x="949" y="552"/>
                      </a:lnTo>
                      <a:lnTo>
                        <a:pt x="951" y="551"/>
                      </a:lnTo>
                      <a:lnTo>
                        <a:pt x="954" y="552"/>
                      </a:lnTo>
                      <a:lnTo>
                        <a:pt x="955" y="552"/>
                      </a:lnTo>
                      <a:lnTo>
                        <a:pt x="957" y="553"/>
                      </a:lnTo>
                      <a:lnTo>
                        <a:pt x="958" y="555"/>
                      </a:lnTo>
                      <a:lnTo>
                        <a:pt x="958" y="556"/>
                      </a:lnTo>
                      <a:lnTo>
                        <a:pt x="965" y="556"/>
                      </a:lnTo>
                      <a:lnTo>
                        <a:pt x="965" y="555"/>
                      </a:lnTo>
                      <a:lnTo>
                        <a:pt x="966" y="554"/>
                      </a:lnTo>
                      <a:lnTo>
                        <a:pt x="968" y="553"/>
                      </a:lnTo>
                      <a:lnTo>
                        <a:pt x="969" y="553"/>
                      </a:lnTo>
                      <a:lnTo>
                        <a:pt x="971" y="553"/>
                      </a:lnTo>
                      <a:lnTo>
                        <a:pt x="973" y="554"/>
                      </a:lnTo>
                      <a:lnTo>
                        <a:pt x="974" y="555"/>
                      </a:lnTo>
                      <a:lnTo>
                        <a:pt x="974" y="556"/>
                      </a:lnTo>
                      <a:lnTo>
                        <a:pt x="985" y="556"/>
                      </a:lnTo>
                      <a:lnTo>
                        <a:pt x="986" y="555"/>
                      </a:lnTo>
                      <a:lnTo>
                        <a:pt x="986" y="554"/>
                      </a:lnTo>
                      <a:lnTo>
                        <a:pt x="988" y="553"/>
                      </a:lnTo>
                      <a:lnTo>
                        <a:pt x="990" y="553"/>
                      </a:lnTo>
                      <a:lnTo>
                        <a:pt x="991" y="553"/>
                      </a:lnTo>
                      <a:lnTo>
                        <a:pt x="993" y="554"/>
                      </a:lnTo>
                      <a:lnTo>
                        <a:pt x="994" y="555"/>
                      </a:lnTo>
                      <a:lnTo>
                        <a:pt x="994" y="556"/>
                      </a:lnTo>
                      <a:lnTo>
                        <a:pt x="1009" y="556"/>
                      </a:lnTo>
                      <a:lnTo>
                        <a:pt x="1009" y="555"/>
                      </a:lnTo>
                      <a:lnTo>
                        <a:pt x="1010" y="554"/>
                      </a:lnTo>
                      <a:lnTo>
                        <a:pt x="1012" y="553"/>
                      </a:lnTo>
                      <a:lnTo>
                        <a:pt x="1013" y="553"/>
                      </a:lnTo>
                      <a:lnTo>
                        <a:pt x="1015" y="553"/>
                      </a:lnTo>
                      <a:lnTo>
                        <a:pt x="1016" y="554"/>
                      </a:lnTo>
                      <a:lnTo>
                        <a:pt x="1017" y="555"/>
                      </a:lnTo>
                      <a:lnTo>
                        <a:pt x="1018" y="556"/>
                      </a:lnTo>
                      <a:lnTo>
                        <a:pt x="1031" y="556"/>
                      </a:lnTo>
                      <a:lnTo>
                        <a:pt x="1031" y="555"/>
                      </a:lnTo>
                      <a:lnTo>
                        <a:pt x="1032" y="554"/>
                      </a:lnTo>
                      <a:lnTo>
                        <a:pt x="1033" y="553"/>
                      </a:lnTo>
                      <a:lnTo>
                        <a:pt x="1035" y="553"/>
                      </a:lnTo>
                      <a:lnTo>
                        <a:pt x="1037" y="553"/>
                      </a:lnTo>
                      <a:lnTo>
                        <a:pt x="1038" y="554"/>
                      </a:lnTo>
                      <a:lnTo>
                        <a:pt x="1039" y="555"/>
                      </a:lnTo>
                      <a:lnTo>
                        <a:pt x="1039" y="556"/>
                      </a:lnTo>
                      <a:lnTo>
                        <a:pt x="1050" y="556"/>
                      </a:lnTo>
                      <a:lnTo>
                        <a:pt x="1051" y="555"/>
                      </a:lnTo>
                      <a:lnTo>
                        <a:pt x="1052" y="554"/>
                      </a:lnTo>
                      <a:lnTo>
                        <a:pt x="1053" y="553"/>
                      </a:lnTo>
                      <a:lnTo>
                        <a:pt x="1055" y="553"/>
                      </a:lnTo>
                      <a:lnTo>
                        <a:pt x="1056" y="553"/>
                      </a:lnTo>
                      <a:lnTo>
                        <a:pt x="1058" y="554"/>
                      </a:lnTo>
                      <a:lnTo>
                        <a:pt x="1059" y="555"/>
                      </a:lnTo>
                      <a:lnTo>
                        <a:pt x="1059" y="556"/>
                      </a:lnTo>
                      <a:lnTo>
                        <a:pt x="1070" y="556"/>
                      </a:lnTo>
                      <a:lnTo>
                        <a:pt x="1070" y="555"/>
                      </a:lnTo>
                      <a:lnTo>
                        <a:pt x="1071" y="554"/>
                      </a:lnTo>
                      <a:lnTo>
                        <a:pt x="1072" y="553"/>
                      </a:lnTo>
                      <a:lnTo>
                        <a:pt x="1074" y="553"/>
                      </a:lnTo>
                      <a:lnTo>
                        <a:pt x="1076" y="553"/>
                      </a:lnTo>
                      <a:lnTo>
                        <a:pt x="1077" y="554"/>
                      </a:lnTo>
                      <a:lnTo>
                        <a:pt x="1078" y="555"/>
                      </a:lnTo>
                      <a:lnTo>
                        <a:pt x="1079" y="556"/>
                      </a:lnTo>
                      <a:lnTo>
                        <a:pt x="1103" y="556"/>
                      </a:lnTo>
                      <a:lnTo>
                        <a:pt x="1104" y="555"/>
                      </a:lnTo>
                      <a:lnTo>
                        <a:pt x="1105" y="554"/>
                      </a:lnTo>
                      <a:lnTo>
                        <a:pt x="1106" y="553"/>
                      </a:lnTo>
                      <a:lnTo>
                        <a:pt x="1108" y="553"/>
                      </a:lnTo>
                      <a:lnTo>
                        <a:pt x="1110" y="553"/>
                      </a:lnTo>
                      <a:lnTo>
                        <a:pt x="1111" y="554"/>
                      </a:lnTo>
                      <a:lnTo>
                        <a:pt x="1112" y="555"/>
                      </a:lnTo>
                      <a:lnTo>
                        <a:pt x="1112" y="556"/>
                      </a:lnTo>
                      <a:lnTo>
                        <a:pt x="1164" y="556"/>
                      </a:lnTo>
                      <a:lnTo>
                        <a:pt x="1164" y="555"/>
                      </a:lnTo>
                      <a:lnTo>
                        <a:pt x="1165" y="554"/>
                      </a:lnTo>
                      <a:lnTo>
                        <a:pt x="1167" y="553"/>
                      </a:lnTo>
                      <a:lnTo>
                        <a:pt x="1168" y="553"/>
                      </a:lnTo>
                      <a:lnTo>
                        <a:pt x="1170" y="553"/>
                      </a:lnTo>
                      <a:lnTo>
                        <a:pt x="1171" y="554"/>
                      </a:lnTo>
                      <a:lnTo>
                        <a:pt x="1173" y="555"/>
                      </a:lnTo>
                      <a:lnTo>
                        <a:pt x="1173" y="556"/>
                      </a:lnTo>
                      <a:lnTo>
                        <a:pt x="1207" y="556"/>
                      </a:lnTo>
                      <a:lnTo>
                        <a:pt x="1207" y="555"/>
                      </a:lnTo>
                      <a:lnTo>
                        <a:pt x="1209" y="554"/>
                      </a:lnTo>
                      <a:lnTo>
                        <a:pt x="1210" y="553"/>
                      </a:lnTo>
                      <a:lnTo>
                        <a:pt x="1212" y="553"/>
                      </a:lnTo>
                      <a:lnTo>
                        <a:pt x="1213" y="553"/>
                      </a:lnTo>
                      <a:lnTo>
                        <a:pt x="1215" y="554"/>
                      </a:lnTo>
                      <a:lnTo>
                        <a:pt x="1216" y="555"/>
                      </a:lnTo>
                      <a:lnTo>
                        <a:pt x="1216" y="556"/>
                      </a:lnTo>
                      <a:lnTo>
                        <a:pt x="1232" y="556"/>
                      </a:lnTo>
                      <a:lnTo>
                        <a:pt x="1232" y="555"/>
                      </a:lnTo>
                      <a:lnTo>
                        <a:pt x="1233" y="554"/>
                      </a:lnTo>
                      <a:lnTo>
                        <a:pt x="1235" y="553"/>
                      </a:lnTo>
                      <a:lnTo>
                        <a:pt x="1236" y="553"/>
                      </a:lnTo>
                      <a:lnTo>
                        <a:pt x="1238" y="553"/>
                      </a:lnTo>
                      <a:lnTo>
                        <a:pt x="1239" y="554"/>
                      </a:lnTo>
                      <a:lnTo>
                        <a:pt x="1240" y="555"/>
                      </a:lnTo>
                      <a:lnTo>
                        <a:pt x="1241" y="556"/>
                      </a:lnTo>
                      <a:lnTo>
                        <a:pt x="1299" y="556"/>
                      </a:lnTo>
                      <a:lnTo>
                        <a:pt x="1300" y="555"/>
                      </a:lnTo>
                      <a:lnTo>
                        <a:pt x="1301" y="554"/>
                      </a:lnTo>
                      <a:lnTo>
                        <a:pt x="1302" y="553"/>
                      </a:lnTo>
                      <a:lnTo>
                        <a:pt x="1304" y="553"/>
                      </a:lnTo>
                      <a:lnTo>
                        <a:pt x="1305" y="553"/>
                      </a:lnTo>
                      <a:lnTo>
                        <a:pt x="1307" y="554"/>
                      </a:lnTo>
                      <a:lnTo>
                        <a:pt x="1308" y="555"/>
                      </a:lnTo>
                      <a:lnTo>
                        <a:pt x="1308" y="556"/>
                      </a:lnTo>
                      <a:lnTo>
                        <a:pt x="1317" y="556"/>
                      </a:lnTo>
                      <a:lnTo>
                        <a:pt x="1318" y="555"/>
                      </a:lnTo>
                      <a:lnTo>
                        <a:pt x="1319" y="554"/>
                      </a:lnTo>
                      <a:lnTo>
                        <a:pt x="1320" y="553"/>
                      </a:lnTo>
                      <a:lnTo>
                        <a:pt x="1322" y="553"/>
                      </a:lnTo>
                      <a:lnTo>
                        <a:pt x="1324" y="553"/>
                      </a:lnTo>
                      <a:lnTo>
                        <a:pt x="1325" y="554"/>
                      </a:lnTo>
                      <a:lnTo>
                        <a:pt x="1326" y="555"/>
                      </a:lnTo>
                      <a:lnTo>
                        <a:pt x="1326" y="556"/>
                      </a:lnTo>
                      <a:lnTo>
                        <a:pt x="1349" y="556"/>
                      </a:lnTo>
                      <a:lnTo>
                        <a:pt x="1349" y="555"/>
                      </a:lnTo>
                      <a:lnTo>
                        <a:pt x="1350" y="554"/>
                      </a:lnTo>
                      <a:lnTo>
                        <a:pt x="1352" y="553"/>
                      </a:lnTo>
                      <a:lnTo>
                        <a:pt x="1353" y="553"/>
                      </a:lnTo>
                      <a:lnTo>
                        <a:pt x="1355" y="553"/>
                      </a:lnTo>
                      <a:lnTo>
                        <a:pt x="1356" y="554"/>
                      </a:lnTo>
                      <a:lnTo>
                        <a:pt x="1357" y="555"/>
                      </a:lnTo>
                      <a:lnTo>
                        <a:pt x="1358" y="556"/>
                      </a:lnTo>
                      <a:lnTo>
                        <a:pt x="1376" y="556"/>
                      </a:lnTo>
                      <a:lnTo>
                        <a:pt x="1376" y="555"/>
                      </a:lnTo>
                      <a:lnTo>
                        <a:pt x="1377" y="554"/>
                      </a:lnTo>
                      <a:lnTo>
                        <a:pt x="1378" y="553"/>
                      </a:lnTo>
                      <a:lnTo>
                        <a:pt x="1380" y="553"/>
                      </a:lnTo>
                      <a:lnTo>
                        <a:pt x="1382" y="553"/>
                      </a:lnTo>
                      <a:lnTo>
                        <a:pt x="1383" y="554"/>
                      </a:lnTo>
                      <a:lnTo>
                        <a:pt x="1384" y="555"/>
                      </a:lnTo>
                      <a:lnTo>
                        <a:pt x="1385" y="556"/>
                      </a:lnTo>
                      <a:lnTo>
                        <a:pt x="1448" y="556"/>
                      </a:lnTo>
                      <a:lnTo>
                        <a:pt x="1448" y="555"/>
                      </a:lnTo>
                      <a:lnTo>
                        <a:pt x="1449" y="554"/>
                      </a:lnTo>
                      <a:lnTo>
                        <a:pt x="1451" y="553"/>
                      </a:lnTo>
                      <a:lnTo>
                        <a:pt x="1452" y="553"/>
                      </a:lnTo>
                      <a:lnTo>
                        <a:pt x="1454" y="553"/>
                      </a:lnTo>
                      <a:lnTo>
                        <a:pt x="1456" y="554"/>
                      </a:lnTo>
                      <a:lnTo>
                        <a:pt x="1456" y="555"/>
                      </a:lnTo>
                      <a:lnTo>
                        <a:pt x="1457" y="556"/>
                      </a:lnTo>
                      <a:lnTo>
                        <a:pt x="1509" y="556"/>
                      </a:lnTo>
                      <a:lnTo>
                        <a:pt x="1509" y="555"/>
                      </a:lnTo>
                      <a:lnTo>
                        <a:pt x="1510" y="554"/>
                      </a:lnTo>
                      <a:lnTo>
                        <a:pt x="1512" y="553"/>
                      </a:lnTo>
                      <a:lnTo>
                        <a:pt x="1513" y="553"/>
                      </a:lnTo>
                      <a:lnTo>
                        <a:pt x="1515" y="553"/>
                      </a:lnTo>
                      <a:lnTo>
                        <a:pt x="1517" y="554"/>
                      </a:lnTo>
                      <a:lnTo>
                        <a:pt x="1517" y="555"/>
                      </a:lnTo>
                      <a:lnTo>
                        <a:pt x="1518" y="556"/>
                      </a:lnTo>
                      <a:lnTo>
                        <a:pt x="1537" y="556"/>
                      </a:lnTo>
                      <a:lnTo>
                        <a:pt x="1537" y="555"/>
                      </a:lnTo>
                      <a:lnTo>
                        <a:pt x="1538" y="554"/>
                      </a:lnTo>
                      <a:lnTo>
                        <a:pt x="1540" y="553"/>
                      </a:lnTo>
                      <a:lnTo>
                        <a:pt x="1542" y="553"/>
                      </a:lnTo>
                      <a:lnTo>
                        <a:pt x="1543" y="553"/>
                      </a:lnTo>
                      <a:lnTo>
                        <a:pt x="1545" y="554"/>
                      </a:lnTo>
                      <a:lnTo>
                        <a:pt x="1546" y="555"/>
                      </a:lnTo>
                      <a:lnTo>
                        <a:pt x="1546" y="556"/>
                      </a:lnTo>
                      <a:lnTo>
                        <a:pt x="1572" y="556"/>
                      </a:lnTo>
                      <a:lnTo>
                        <a:pt x="1572" y="555"/>
                      </a:lnTo>
                      <a:lnTo>
                        <a:pt x="1573" y="554"/>
                      </a:lnTo>
                      <a:lnTo>
                        <a:pt x="1574" y="553"/>
                      </a:lnTo>
                      <a:lnTo>
                        <a:pt x="1576" y="553"/>
                      </a:lnTo>
                      <a:lnTo>
                        <a:pt x="1578" y="553"/>
                      </a:lnTo>
                      <a:lnTo>
                        <a:pt x="1579" y="554"/>
                      </a:lnTo>
                      <a:lnTo>
                        <a:pt x="1580" y="555"/>
                      </a:lnTo>
                      <a:lnTo>
                        <a:pt x="1581" y="556"/>
                      </a:lnTo>
                      <a:lnTo>
                        <a:pt x="1590" y="556"/>
                      </a:lnTo>
                      <a:lnTo>
                        <a:pt x="1590" y="555"/>
                      </a:lnTo>
                      <a:lnTo>
                        <a:pt x="1591" y="554"/>
                      </a:lnTo>
                      <a:lnTo>
                        <a:pt x="1592" y="553"/>
                      </a:lnTo>
                      <a:lnTo>
                        <a:pt x="1594" y="553"/>
                      </a:lnTo>
                      <a:lnTo>
                        <a:pt x="1596" y="553"/>
                      </a:lnTo>
                      <a:lnTo>
                        <a:pt x="1597" y="554"/>
                      </a:lnTo>
                      <a:lnTo>
                        <a:pt x="1598" y="555"/>
                      </a:lnTo>
                      <a:lnTo>
                        <a:pt x="1599" y="556"/>
                      </a:lnTo>
                      <a:lnTo>
                        <a:pt x="1603" y="556"/>
                      </a:lnTo>
                      <a:lnTo>
                        <a:pt x="1604" y="555"/>
                      </a:lnTo>
                      <a:lnTo>
                        <a:pt x="1604" y="554"/>
                      </a:lnTo>
                      <a:lnTo>
                        <a:pt x="1606" y="553"/>
                      </a:lnTo>
                      <a:lnTo>
                        <a:pt x="1608" y="553"/>
                      </a:lnTo>
                      <a:lnTo>
                        <a:pt x="1609" y="553"/>
                      </a:lnTo>
                      <a:lnTo>
                        <a:pt x="1611" y="554"/>
                      </a:lnTo>
                      <a:lnTo>
                        <a:pt x="1612" y="555"/>
                      </a:lnTo>
                      <a:lnTo>
                        <a:pt x="1612" y="556"/>
                      </a:lnTo>
                      <a:lnTo>
                        <a:pt x="1638" y="556"/>
                      </a:lnTo>
                      <a:lnTo>
                        <a:pt x="1639" y="555"/>
                      </a:lnTo>
                      <a:lnTo>
                        <a:pt x="1639" y="554"/>
                      </a:lnTo>
                      <a:lnTo>
                        <a:pt x="1641" y="553"/>
                      </a:lnTo>
                      <a:lnTo>
                        <a:pt x="1643" y="553"/>
                      </a:lnTo>
                      <a:lnTo>
                        <a:pt x="1644" y="553"/>
                      </a:lnTo>
                      <a:lnTo>
                        <a:pt x="1646" y="554"/>
                      </a:lnTo>
                      <a:lnTo>
                        <a:pt x="1647" y="555"/>
                      </a:lnTo>
                      <a:lnTo>
                        <a:pt x="1647" y="556"/>
                      </a:lnTo>
                      <a:lnTo>
                        <a:pt x="1649" y="556"/>
                      </a:lnTo>
                      <a:lnTo>
                        <a:pt x="1649" y="555"/>
                      </a:lnTo>
                      <a:lnTo>
                        <a:pt x="1650" y="553"/>
                      </a:lnTo>
                      <a:lnTo>
                        <a:pt x="1651" y="552"/>
                      </a:lnTo>
                      <a:lnTo>
                        <a:pt x="1653" y="551"/>
                      </a:lnTo>
                      <a:lnTo>
                        <a:pt x="1655" y="550"/>
                      </a:lnTo>
                      <a:lnTo>
                        <a:pt x="1658" y="550"/>
                      </a:lnTo>
                      <a:lnTo>
                        <a:pt x="1660" y="551"/>
                      </a:lnTo>
                      <a:lnTo>
                        <a:pt x="1662" y="552"/>
                      </a:lnTo>
                      <a:lnTo>
                        <a:pt x="1663" y="553"/>
                      </a:lnTo>
                      <a:lnTo>
                        <a:pt x="1664" y="555"/>
                      </a:lnTo>
                      <a:lnTo>
                        <a:pt x="1664" y="556"/>
                      </a:lnTo>
                      <a:lnTo>
                        <a:pt x="1690" y="556"/>
                      </a:lnTo>
                      <a:lnTo>
                        <a:pt x="1690" y="555"/>
                      </a:lnTo>
                      <a:lnTo>
                        <a:pt x="1691" y="554"/>
                      </a:lnTo>
                      <a:lnTo>
                        <a:pt x="1693" y="553"/>
                      </a:lnTo>
                      <a:lnTo>
                        <a:pt x="1695" y="553"/>
                      </a:lnTo>
                      <a:lnTo>
                        <a:pt x="1696" y="553"/>
                      </a:lnTo>
                      <a:lnTo>
                        <a:pt x="1698" y="554"/>
                      </a:lnTo>
                      <a:lnTo>
                        <a:pt x="1699" y="555"/>
                      </a:lnTo>
                      <a:lnTo>
                        <a:pt x="1699" y="556"/>
                      </a:lnTo>
                      <a:lnTo>
                        <a:pt x="1708" y="556"/>
                      </a:lnTo>
                      <a:lnTo>
                        <a:pt x="1708" y="555"/>
                      </a:lnTo>
                      <a:lnTo>
                        <a:pt x="1709" y="553"/>
                      </a:lnTo>
                      <a:lnTo>
                        <a:pt x="1711" y="552"/>
                      </a:lnTo>
                      <a:lnTo>
                        <a:pt x="1713" y="551"/>
                      </a:lnTo>
                      <a:lnTo>
                        <a:pt x="1715" y="550"/>
                      </a:lnTo>
                      <a:lnTo>
                        <a:pt x="1718" y="550"/>
                      </a:lnTo>
                      <a:lnTo>
                        <a:pt x="1720" y="551"/>
                      </a:lnTo>
                      <a:lnTo>
                        <a:pt x="1722" y="552"/>
                      </a:lnTo>
                      <a:lnTo>
                        <a:pt x="1724" y="553"/>
                      </a:lnTo>
                      <a:lnTo>
                        <a:pt x="1724" y="555"/>
                      </a:lnTo>
                      <a:lnTo>
                        <a:pt x="1725" y="556"/>
                      </a:lnTo>
                      <a:lnTo>
                        <a:pt x="1728" y="556"/>
                      </a:lnTo>
                      <a:lnTo>
                        <a:pt x="1729" y="555"/>
                      </a:lnTo>
                      <a:lnTo>
                        <a:pt x="1729" y="554"/>
                      </a:lnTo>
                      <a:lnTo>
                        <a:pt x="1731" y="553"/>
                      </a:lnTo>
                      <a:lnTo>
                        <a:pt x="1733" y="553"/>
                      </a:lnTo>
                      <a:lnTo>
                        <a:pt x="1734" y="553"/>
                      </a:lnTo>
                      <a:lnTo>
                        <a:pt x="1736" y="554"/>
                      </a:lnTo>
                      <a:lnTo>
                        <a:pt x="1737" y="555"/>
                      </a:lnTo>
                      <a:lnTo>
                        <a:pt x="1737" y="556"/>
                      </a:lnTo>
                      <a:lnTo>
                        <a:pt x="1742" y="556"/>
                      </a:lnTo>
                      <a:lnTo>
                        <a:pt x="174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7205760" y="2263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82" name=""/>
                <p:cNvSpPr/>
                <p:nvPr/>
              </p:nvSpPr>
              <p:spPr>
                <a:xfrm>
                  <a:off x="7241760" y="3791160"/>
                  <a:ext cx="200880" cy="125640"/>
                </a:xfrm>
                <a:prstGeom prst="rect">
                  <a:avLst/>
                </a:prstGeom>
                <a:blipFill rotWithShape="0">
                  <a:blip r:embed="rId10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7282080" y="381924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
                <p:cNvSpPr/>
                <p:nvPr/>
              </p:nvSpPr>
              <p:spPr>
                <a:xfrm>
                  <a:off x="7305840" y="385272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op</a:t>
                  </a:r>
                  <a:endParaRPr b="0" lang="en-US" sz="300" spc="-1" strike="noStrike">
                    <a:solidFill>
                      <a:srgbClr val="ffffff"/>
                    </a:solidFill>
                    <a:latin typeface="Arial"/>
                  </a:endParaRPr>
                </a:p>
              </p:txBody>
            </p:sp>
            <p:sp>
              <p:nvSpPr>
                <p:cNvPr id="1085" name=""/>
                <p:cNvSpPr/>
                <p:nvPr/>
              </p:nvSpPr>
              <p:spPr>
                <a:xfrm>
                  <a:off x="8221320" y="3863160"/>
                  <a:ext cx="228240" cy="86760"/>
                </a:xfrm>
                <a:prstGeom prst="rect">
                  <a:avLst/>
                </a:prstGeom>
                <a:blipFill rotWithShape="0">
                  <a:blip r:embed="rId104"/>
                  <a:srcRect/>
                  <a:tile tx="0" ty="0" sx="100000" sy="100000" algn="ctr"/>
                </a:blip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086" name=""/>
                <p:cNvSpPr/>
                <p:nvPr/>
              </p:nvSpPr>
              <p:spPr>
                <a:xfrm>
                  <a:off x="8239680" y="3871440"/>
                  <a:ext cx="26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KU Selection</a:t>
                  </a:r>
                  <a:endParaRPr b="0" lang="en-US" sz="300" spc="-1" strike="noStrike">
                    <a:solidFill>
                      <a:srgbClr val="ffffff"/>
                    </a:solidFill>
                    <a:latin typeface="Arial"/>
                  </a:endParaRPr>
                </a:p>
              </p:txBody>
            </p:sp>
            <p:sp>
              <p:nvSpPr>
                <p:cNvPr id="1087" name=""/>
                <p:cNvSpPr/>
                <p:nvPr/>
              </p:nvSpPr>
              <p:spPr>
                <a:xfrm>
                  <a:off x="8308080" y="3906000"/>
                  <a:ext cx="79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ool</a:t>
                  </a:r>
                  <a:endParaRPr b="0" lang="en-US" sz="300" spc="-1" strike="noStrike">
                    <a:solidFill>
                      <a:srgbClr val="ffffff"/>
                    </a:solidFill>
                    <a:latin typeface="Arial"/>
                  </a:endParaRPr>
                </a:p>
              </p:txBody>
            </p:sp>
            <p:sp>
              <p:nvSpPr>
                <p:cNvPr id="1088" name=""/>
                <p:cNvSpPr/>
                <p:nvPr/>
              </p:nvSpPr>
              <p:spPr>
                <a:xfrm>
                  <a:off x="8221320" y="3721680"/>
                  <a:ext cx="207360" cy="94680"/>
                </a:xfrm>
                <a:prstGeom prst="rect">
                  <a:avLst/>
                </a:prstGeom>
                <a:blipFill rotWithShape="0">
                  <a:blip r:embed="rId10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8295120" y="3735360"/>
                  <a:ext cx="8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KU</a:t>
                  </a:r>
                  <a:endParaRPr b="0" lang="en-US" sz="300" spc="-1" strike="noStrike">
                    <a:solidFill>
                      <a:srgbClr val="ffffff"/>
                    </a:solidFill>
                    <a:latin typeface="Arial"/>
                  </a:endParaRPr>
                </a:p>
              </p:txBody>
            </p:sp>
            <p:sp>
              <p:nvSpPr>
                <p:cNvPr id="1090" name=""/>
                <p:cNvSpPr/>
                <p:nvPr/>
              </p:nvSpPr>
              <p:spPr>
                <a:xfrm>
                  <a:off x="8238240" y="3768480"/>
                  <a:ext cx="23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erformance</a:t>
                  </a:r>
                  <a:endParaRPr b="0" lang="en-US" sz="300" spc="-1" strike="noStrike">
                    <a:solidFill>
                      <a:srgbClr val="ffffff"/>
                    </a:solidFill>
                    <a:latin typeface="Arial"/>
                  </a:endParaRPr>
                </a:p>
              </p:txBody>
            </p:sp>
            <p:sp>
              <p:nvSpPr>
                <p:cNvPr id="1091" name=""/>
                <p:cNvSpPr/>
                <p:nvPr/>
              </p:nvSpPr>
              <p:spPr>
                <a:xfrm>
                  <a:off x="8325000" y="3816720"/>
                  <a:ext cx="10440" cy="34200"/>
                </a:xfrm>
                <a:custGeom>
                  <a:avLst/>
                  <a:gdLst/>
                  <a:ahLst/>
                  <a:rect l="l" t="t" r="r" b="b"/>
                  <a:pathLst>
                    <a:path w="10" h="26">
                      <a:moveTo>
                        <a:pt x="0" y="0"/>
                      </a:moveTo>
                      <a:lnTo>
                        <a:pt x="0" y="15"/>
                      </a:lnTo>
                      <a:lnTo>
                        <a:pt x="10" y="15"/>
                      </a:lnTo>
                      <a:lnTo>
                        <a:pt x="10" y="26"/>
                      </a:lnTo>
                    </a:path>
                  </a:pathLst>
                </a:custGeom>
                <a:noFill/>
                <a:ln w="14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092" name=""/>
                <p:cNvSpPr/>
                <p:nvPr/>
              </p:nvSpPr>
              <p:spPr>
                <a:xfrm>
                  <a:off x="8329320" y="3849840"/>
                  <a:ext cx="1224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93" name=""/>
                <p:cNvSpPr/>
                <p:nvPr/>
              </p:nvSpPr>
              <p:spPr>
                <a:xfrm>
                  <a:off x="7443000" y="3883320"/>
                  <a:ext cx="790560" cy="186840"/>
                </a:xfrm>
                <a:custGeom>
                  <a:avLst/>
                  <a:gdLst/>
                  <a:ahLst/>
                  <a:rect l="l" t="t" r="r" b="b"/>
                  <a:pathLst>
                    <a:path w="747" h="140">
                      <a:moveTo>
                        <a:pt x="0" y="6"/>
                      </a:moveTo>
                      <a:lnTo>
                        <a:pt x="32" y="6"/>
                      </a:lnTo>
                      <a:lnTo>
                        <a:pt x="32" y="4"/>
                      </a:lnTo>
                      <a:lnTo>
                        <a:pt x="33" y="3"/>
                      </a:lnTo>
                      <a:lnTo>
                        <a:pt x="34" y="2"/>
                      </a:lnTo>
                      <a:lnTo>
                        <a:pt x="36" y="2"/>
                      </a:lnTo>
                      <a:lnTo>
                        <a:pt x="38" y="2"/>
                      </a:lnTo>
                      <a:lnTo>
                        <a:pt x="39" y="3"/>
                      </a:lnTo>
                      <a:lnTo>
                        <a:pt x="40" y="4"/>
                      </a:lnTo>
                      <a:lnTo>
                        <a:pt x="41" y="6"/>
                      </a:lnTo>
                      <a:lnTo>
                        <a:pt x="42" y="6"/>
                      </a:lnTo>
                      <a:lnTo>
                        <a:pt x="42" y="4"/>
                      </a:lnTo>
                      <a:lnTo>
                        <a:pt x="43" y="2"/>
                      </a:lnTo>
                      <a:lnTo>
                        <a:pt x="44" y="1"/>
                      </a:lnTo>
                      <a:lnTo>
                        <a:pt x="46" y="0"/>
                      </a:lnTo>
                      <a:lnTo>
                        <a:pt x="48" y="0"/>
                      </a:lnTo>
                      <a:lnTo>
                        <a:pt x="50" y="0"/>
                      </a:lnTo>
                      <a:lnTo>
                        <a:pt x="52" y="0"/>
                      </a:lnTo>
                      <a:lnTo>
                        <a:pt x="54" y="1"/>
                      </a:lnTo>
                      <a:lnTo>
                        <a:pt x="56" y="2"/>
                      </a:lnTo>
                      <a:lnTo>
                        <a:pt x="57" y="4"/>
                      </a:lnTo>
                      <a:lnTo>
                        <a:pt x="57" y="6"/>
                      </a:lnTo>
                      <a:lnTo>
                        <a:pt x="80" y="6"/>
                      </a:lnTo>
                      <a:lnTo>
                        <a:pt x="80" y="4"/>
                      </a:lnTo>
                      <a:lnTo>
                        <a:pt x="81" y="3"/>
                      </a:lnTo>
                      <a:lnTo>
                        <a:pt x="83" y="2"/>
                      </a:lnTo>
                      <a:lnTo>
                        <a:pt x="85" y="2"/>
                      </a:lnTo>
                      <a:lnTo>
                        <a:pt x="86" y="2"/>
                      </a:lnTo>
                      <a:lnTo>
                        <a:pt x="88" y="3"/>
                      </a:lnTo>
                      <a:lnTo>
                        <a:pt x="89" y="4"/>
                      </a:lnTo>
                      <a:lnTo>
                        <a:pt x="89" y="6"/>
                      </a:lnTo>
                      <a:lnTo>
                        <a:pt x="91" y="6"/>
                      </a:lnTo>
                      <a:lnTo>
                        <a:pt x="92" y="4"/>
                      </a:lnTo>
                      <a:lnTo>
                        <a:pt x="93" y="2"/>
                      </a:lnTo>
                      <a:lnTo>
                        <a:pt x="94" y="1"/>
                      </a:lnTo>
                      <a:lnTo>
                        <a:pt x="96" y="1"/>
                      </a:lnTo>
                      <a:lnTo>
                        <a:pt x="98" y="0"/>
                      </a:lnTo>
                      <a:lnTo>
                        <a:pt x="100" y="1"/>
                      </a:lnTo>
                      <a:lnTo>
                        <a:pt x="102" y="1"/>
                      </a:lnTo>
                      <a:lnTo>
                        <a:pt x="104" y="2"/>
                      </a:lnTo>
                      <a:lnTo>
                        <a:pt x="104" y="4"/>
                      </a:lnTo>
                      <a:lnTo>
                        <a:pt x="105" y="6"/>
                      </a:lnTo>
                      <a:lnTo>
                        <a:pt x="186" y="6"/>
                      </a:lnTo>
                      <a:lnTo>
                        <a:pt x="186" y="4"/>
                      </a:lnTo>
                      <a:lnTo>
                        <a:pt x="187" y="3"/>
                      </a:lnTo>
                      <a:lnTo>
                        <a:pt x="188" y="2"/>
                      </a:lnTo>
                      <a:lnTo>
                        <a:pt x="190" y="2"/>
                      </a:lnTo>
                      <a:lnTo>
                        <a:pt x="192" y="2"/>
                      </a:lnTo>
                      <a:lnTo>
                        <a:pt x="193" y="3"/>
                      </a:lnTo>
                      <a:lnTo>
                        <a:pt x="194" y="4"/>
                      </a:lnTo>
                      <a:lnTo>
                        <a:pt x="195" y="6"/>
                      </a:lnTo>
                      <a:lnTo>
                        <a:pt x="238" y="6"/>
                      </a:lnTo>
                      <a:lnTo>
                        <a:pt x="238" y="4"/>
                      </a:lnTo>
                      <a:lnTo>
                        <a:pt x="239" y="3"/>
                      </a:lnTo>
                      <a:lnTo>
                        <a:pt x="240" y="2"/>
                      </a:lnTo>
                      <a:lnTo>
                        <a:pt x="242" y="2"/>
                      </a:lnTo>
                      <a:lnTo>
                        <a:pt x="244" y="2"/>
                      </a:lnTo>
                      <a:lnTo>
                        <a:pt x="245" y="3"/>
                      </a:lnTo>
                      <a:lnTo>
                        <a:pt x="246" y="4"/>
                      </a:lnTo>
                      <a:lnTo>
                        <a:pt x="247" y="6"/>
                      </a:lnTo>
                      <a:lnTo>
                        <a:pt x="305" y="6"/>
                      </a:lnTo>
                      <a:lnTo>
                        <a:pt x="305" y="4"/>
                      </a:lnTo>
                      <a:lnTo>
                        <a:pt x="306" y="3"/>
                      </a:lnTo>
                      <a:lnTo>
                        <a:pt x="307" y="2"/>
                      </a:lnTo>
                      <a:lnTo>
                        <a:pt x="309" y="2"/>
                      </a:lnTo>
                      <a:lnTo>
                        <a:pt x="311" y="2"/>
                      </a:lnTo>
                      <a:lnTo>
                        <a:pt x="312" y="3"/>
                      </a:lnTo>
                      <a:lnTo>
                        <a:pt x="313" y="4"/>
                      </a:lnTo>
                      <a:lnTo>
                        <a:pt x="314" y="6"/>
                      </a:lnTo>
                      <a:lnTo>
                        <a:pt x="416" y="6"/>
                      </a:lnTo>
                      <a:lnTo>
                        <a:pt x="416" y="4"/>
                      </a:lnTo>
                      <a:lnTo>
                        <a:pt x="417" y="3"/>
                      </a:lnTo>
                      <a:lnTo>
                        <a:pt x="419" y="2"/>
                      </a:lnTo>
                      <a:lnTo>
                        <a:pt x="420" y="2"/>
                      </a:lnTo>
                      <a:lnTo>
                        <a:pt x="422" y="2"/>
                      </a:lnTo>
                      <a:lnTo>
                        <a:pt x="423" y="3"/>
                      </a:lnTo>
                      <a:lnTo>
                        <a:pt x="424" y="4"/>
                      </a:lnTo>
                      <a:lnTo>
                        <a:pt x="425" y="6"/>
                      </a:lnTo>
                      <a:lnTo>
                        <a:pt x="447" y="6"/>
                      </a:lnTo>
                      <a:lnTo>
                        <a:pt x="447" y="4"/>
                      </a:lnTo>
                      <a:lnTo>
                        <a:pt x="448" y="3"/>
                      </a:lnTo>
                      <a:lnTo>
                        <a:pt x="450" y="2"/>
                      </a:lnTo>
                      <a:lnTo>
                        <a:pt x="451" y="2"/>
                      </a:lnTo>
                      <a:lnTo>
                        <a:pt x="453" y="2"/>
                      </a:lnTo>
                      <a:lnTo>
                        <a:pt x="455" y="3"/>
                      </a:lnTo>
                      <a:lnTo>
                        <a:pt x="456" y="4"/>
                      </a:lnTo>
                      <a:lnTo>
                        <a:pt x="456" y="6"/>
                      </a:lnTo>
                      <a:lnTo>
                        <a:pt x="494" y="6"/>
                      </a:lnTo>
                      <a:lnTo>
                        <a:pt x="495" y="4"/>
                      </a:lnTo>
                      <a:lnTo>
                        <a:pt x="496" y="3"/>
                      </a:lnTo>
                      <a:lnTo>
                        <a:pt x="497" y="2"/>
                      </a:lnTo>
                      <a:lnTo>
                        <a:pt x="499" y="2"/>
                      </a:lnTo>
                      <a:lnTo>
                        <a:pt x="501" y="2"/>
                      </a:lnTo>
                      <a:lnTo>
                        <a:pt x="502" y="3"/>
                      </a:lnTo>
                      <a:lnTo>
                        <a:pt x="503" y="4"/>
                      </a:lnTo>
                      <a:lnTo>
                        <a:pt x="503" y="6"/>
                      </a:lnTo>
                      <a:lnTo>
                        <a:pt x="535" y="6"/>
                      </a:lnTo>
                      <a:lnTo>
                        <a:pt x="535" y="4"/>
                      </a:lnTo>
                      <a:lnTo>
                        <a:pt x="536" y="3"/>
                      </a:lnTo>
                      <a:lnTo>
                        <a:pt x="538" y="2"/>
                      </a:lnTo>
                      <a:lnTo>
                        <a:pt x="539" y="2"/>
                      </a:lnTo>
                      <a:lnTo>
                        <a:pt x="541" y="2"/>
                      </a:lnTo>
                      <a:lnTo>
                        <a:pt x="542" y="3"/>
                      </a:lnTo>
                      <a:lnTo>
                        <a:pt x="543" y="4"/>
                      </a:lnTo>
                      <a:lnTo>
                        <a:pt x="544" y="6"/>
                      </a:lnTo>
                      <a:lnTo>
                        <a:pt x="548" y="6"/>
                      </a:lnTo>
                      <a:lnTo>
                        <a:pt x="549" y="4"/>
                      </a:lnTo>
                      <a:lnTo>
                        <a:pt x="550" y="3"/>
                      </a:lnTo>
                      <a:lnTo>
                        <a:pt x="551" y="2"/>
                      </a:lnTo>
                      <a:lnTo>
                        <a:pt x="553" y="2"/>
                      </a:lnTo>
                      <a:lnTo>
                        <a:pt x="554" y="2"/>
                      </a:lnTo>
                      <a:lnTo>
                        <a:pt x="556" y="3"/>
                      </a:lnTo>
                      <a:lnTo>
                        <a:pt x="557" y="4"/>
                      </a:lnTo>
                      <a:lnTo>
                        <a:pt x="557" y="6"/>
                      </a:lnTo>
                      <a:lnTo>
                        <a:pt x="575" y="6"/>
                      </a:lnTo>
                      <a:lnTo>
                        <a:pt x="576" y="4"/>
                      </a:lnTo>
                      <a:lnTo>
                        <a:pt x="577" y="3"/>
                      </a:lnTo>
                      <a:lnTo>
                        <a:pt x="578" y="2"/>
                      </a:lnTo>
                      <a:lnTo>
                        <a:pt x="580" y="2"/>
                      </a:lnTo>
                      <a:lnTo>
                        <a:pt x="581" y="2"/>
                      </a:lnTo>
                      <a:lnTo>
                        <a:pt x="583" y="3"/>
                      </a:lnTo>
                      <a:lnTo>
                        <a:pt x="584" y="4"/>
                      </a:lnTo>
                      <a:lnTo>
                        <a:pt x="584" y="6"/>
                      </a:lnTo>
                      <a:lnTo>
                        <a:pt x="594" y="6"/>
                      </a:lnTo>
                      <a:lnTo>
                        <a:pt x="594" y="4"/>
                      </a:lnTo>
                      <a:lnTo>
                        <a:pt x="595" y="3"/>
                      </a:lnTo>
                      <a:lnTo>
                        <a:pt x="597" y="2"/>
                      </a:lnTo>
                      <a:lnTo>
                        <a:pt x="598" y="2"/>
                      </a:lnTo>
                      <a:lnTo>
                        <a:pt x="600" y="2"/>
                      </a:lnTo>
                      <a:lnTo>
                        <a:pt x="601" y="3"/>
                      </a:lnTo>
                      <a:lnTo>
                        <a:pt x="603" y="4"/>
                      </a:lnTo>
                      <a:lnTo>
                        <a:pt x="603" y="6"/>
                      </a:lnTo>
                      <a:lnTo>
                        <a:pt x="603" y="6"/>
                      </a:lnTo>
                      <a:lnTo>
                        <a:pt x="603" y="4"/>
                      </a:lnTo>
                      <a:lnTo>
                        <a:pt x="604" y="3"/>
                      </a:lnTo>
                      <a:lnTo>
                        <a:pt x="606" y="2"/>
                      </a:lnTo>
                      <a:lnTo>
                        <a:pt x="607" y="2"/>
                      </a:lnTo>
                      <a:lnTo>
                        <a:pt x="609" y="2"/>
                      </a:lnTo>
                      <a:lnTo>
                        <a:pt x="611" y="3"/>
                      </a:lnTo>
                      <a:lnTo>
                        <a:pt x="612" y="4"/>
                      </a:lnTo>
                      <a:lnTo>
                        <a:pt x="612" y="6"/>
                      </a:lnTo>
                      <a:lnTo>
                        <a:pt x="630" y="6"/>
                      </a:lnTo>
                      <a:lnTo>
                        <a:pt x="630" y="4"/>
                      </a:lnTo>
                      <a:lnTo>
                        <a:pt x="631" y="3"/>
                      </a:lnTo>
                      <a:lnTo>
                        <a:pt x="633" y="2"/>
                      </a:lnTo>
                      <a:lnTo>
                        <a:pt x="635" y="2"/>
                      </a:lnTo>
                      <a:lnTo>
                        <a:pt x="636" y="2"/>
                      </a:lnTo>
                      <a:lnTo>
                        <a:pt x="638" y="3"/>
                      </a:lnTo>
                      <a:lnTo>
                        <a:pt x="639" y="4"/>
                      </a:lnTo>
                      <a:lnTo>
                        <a:pt x="639" y="6"/>
                      </a:lnTo>
                      <a:lnTo>
                        <a:pt x="644" y="6"/>
                      </a:lnTo>
                      <a:lnTo>
                        <a:pt x="645" y="4"/>
                      </a:lnTo>
                      <a:lnTo>
                        <a:pt x="646" y="3"/>
                      </a:lnTo>
                      <a:lnTo>
                        <a:pt x="647" y="2"/>
                      </a:lnTo>
                      <a:lnTo>
                        <a:pt x="649" y="2"/>
                      </a:lnTo>
                      <a:lnTo>
                        <a:pt x="651" y="2"/>
                      </a:lnTo>
                      <a:lnTo>
                        <a:pt x="652" y="3"/>
                      </a:lnTo>
                      <a:lnTo>
                        <a:pt x="653" y="4"/>
                      </a:lnTo>
                      <a:lnTo>
                        <a:pt x="653" y="6"/>
                      </a:lnTo>
                      <a:lnTo>
                        <a:pt x="722" y="6"/>
                      </a:lnTo>
                      <a:lnTo>
                        <a:pt x="722" y="140"/>
                      </a:lnTo>
                      <a:lnTo>
                        <a:pt x="747" y="14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8232840" y="406368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095" name=""/>
                <p:cNvSpPr/>
                <p:nvPr/>
              </p:nvSpPr>
              <p:spPr>
                <a:xfrm>
                  <a:off x="7393320" y="3926160"/>
                  <a:ext cx="12600" cy="207000"/>
                </a:xfrm>
                <a:custGeom>
                  <a:avLst/>
                  <a:gdLst/>
                  <a:ahLst/>
                  <a:rect l="l" t="t" r="r" b="b"/>
                  <a:pathLst>
                    <a:path w="12" h="155">
                      <a:moveTo>
                        <a:pt x="0" y="0"/>
                      </a:moveTo>
                      <a:lnTo>
                        <a:pt x="0" y="4"/>
                      </a:lnTo>
                      <a:lnTo>
                        <a:pt x="12" y="4"/>
                      </a:lnTo>
                      <a:lnTo>
                        <a:pt x="12" y="15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387920" y="3915360"/>
                  <a:ext cx="11520" cy="11880"/>
                </a:xfrm>
                <a:custGeom>
                  <a:avLst/>
                  <a:gdLst/>
                  <a:ahLst/>
                  <a:rect l="l" t="t" r="r" b="b"/>
                  <a:pathLst>
                    <a:path w="11" h="9">
                      <a:moveTo>
                        <a:pt x="0" y="9"/>
                      </a:moveTo>
                      <a:lnTo>
                        <a:pt x="5" y="0"/>
                      </a:lnTo>
                      <a:lnTo>
                        <a:pt x="11" y="9"/>
                      </a:lnTo>
                      <a:lnTo>
                        <a:pt x="8" y="9"/>
                      </a:lnTo>
                      <a:lnTo>
                        <a:pt x="5" y="9"/>
                      </a:lnTo>
                      <a:lnTo>
                        <a:pt x="3" y="9"/>
                      </a:lnTo>
                      <a:lnTo>
                        <a:pt x="0"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097" name=""/>
                <p:cNvSpPr/>
                <p:nvPr/>
              </p:nvSpPr>
              <p:spPr>
                <a:xfrm>
                  <a:off x="5299200" y="3900960"/>
                  <a:ext cx="1933920" cy="1044360"/>
                </a:xfrm>
                <a:custGeom>
                  <a:avLst/>
                  <a:gdLst/>
                  <a:ahLst/>
                  <a:rect l="l" t="t" r="r" b="b"/>
                  <a:pathLst>
                    <a:path w="1827" h="782">
                      <a:moveTo>
                        <a:pt x="1827" y="0"/>
                      </a:moveTo>
                      <a:lnTo>
                        <a:pt x="1816" y="0"/>
                      </a:lnTo>
                      <a:lnTo>
                        <a:pt x="1816" y="677"/>
                      </a:lnTo>
                      <a:lnTo>
                        <a:pt x="1750" y="677"/>
                      </a:lnTo>
                      <a:lnTo>
                        <a:pt x="1749" y="676"/>
                      </a:lnTo>
                      <a:lnTo>
                        <a:pt x="1749" y="675"/>
                      </a:lnTo>
                      <a:lnTo>
                        <a:pt x="1747" y="674"/>
                      </a:lnTo>
                      <a:lnTo>
                        <a:pt x="1745" y="674"/>
                      </a:lnTo>
                      <a:lnTo>
                        <a:pt x="1744" y="674"/>
                      </a:lnTo>
                      <a:lnTo>
                        <a:pt x="1742" y="675"/>
                      </a:lnTo>
                      <a:lnTo>
                        <a:pt x="1741" y="676"/>
                      </a:lnTo>
                      <a:lnTo>
                        <a:pt x="1741" y="677"/>
                      </a:lnTo>
                      <a:lnTo>
                        <a:pt x="1468" y="677"/>
                      </a:lnTo>
                      <a:lnTo>
                        <a:pt x="1467" y="676"/>
                      </a:lnTo>
                      <a:lnTo>
                        <a:pt x="1466" y="674"/>
                      </a:lnTo>
                      <a:lnTo>
                        <a:pt x="1465" y="673"/>
                      </a:lnTo>
                      <a:lnTo>
                        <a:pt x="1463" y="672"/>
                      </a:lnTo>
                      <a:lnTo>
                        <a:pt x="1461" y="672"/>
                      </a:lnTo>
                      <a:lnTo>
                        <a:pt x="1459" y="672"/>
                      </a:lnTo>
                      <a:lnTo>
                        <a:pt x="1457" y="673"/>
                      </a:lnTo>
                      <a:lnTo>
                        <a:pt x="1455" y="674"/>
                      </a:lnTo>
                      <a:lnTo>
                        <a:pt x="1454" y="676"/>
                      </a:lnTo>
                      <a:lnTo>
                        <a:pt x="1454" y="677"/>
                      </a:lnTo>
                      <a:lnTo>
                        <a:pt x="1306" y="677"/>
                      </a:lnTo>
                      <a:lnTo>
                        <a:pt x="1305" y="676"/>
                      </a:lnTo>
                      <a:lnTo>
                        <a:pt x="1304" y="675"/>
                      </a:lnTo>
                      <a:lnTo>
                        <a:pt x="1303" y="674"/>
                      </a:lnTo>
                      <a:lnTo>
                        <a:pt x="1301" y="674"/>
                      </a:lnTo>
                      <a:lnTo>
                        <a:pt x="1300" y="674"/>
                      </a:lnTo>
                      <a:lnTo>
                        <a:pt x="1298" y="675"/>
                      </a:lnTo>
                      <a:lnTo>
                        <a:pt x="1297" y="676"/>
                      </a:lnTo>
                      <a:lnTo>
                        <a:pt x="1297" y="677"/>
                      </a:lnTo>
                      <a:lnTo>
                        <a:pt x="934" y="677"/>
                      </a:lnTo>
                      <a:lnTo>
                        <a:pt x="934" y="676"/>
                      </a:lnTo>
                      <a:lnTo>
                        <a:pt x="933" y="675"/>
                      </a:lnTo>
                      <a:lnTo>
                        <a:pt x="931" y="674"/>
                      </a:lnTo>
                      <a:lnTo>
                        <a:pt x="930" y="674"/>
                      </a:lnTo>
                      <a:lnTo>
                        <a:pt x="928" y="674"/>
                      </a:lnTo>
                      <a:lnTo>
                        <a:pt x="926" y="675"/>
                      </a:lnTo>
                      <a:lnTo>
                        <a:pt x="926" y="676"/>
                      </a:lnTo>
                      <a:lnTo>
                        <a:pt x="925" y="677"/>
                      </a:lnTo>
                      <a:lnTo>
                        <a:pt x="682" y="677"/>
                      </a:lnTo>
                      <a:lnTo>
                        <a:pt x="682" y="676"/>
                      </a:lnTo>
                      <a:lnTo>
                        <a:pt x="681" y="675"/>
                      </a:lnTo>
                      <a:lnTo>
                        <a:pt x="679" y="674"/>
                      </a:lnTo>
                      <a:lnTo>
                        <a:pt x="678" y="674"/>
                      </a:lnTo>
                      <a:lnTo>
                        <a:pt x="676" y="674"/>
                      </a:lnTo>
                      <a:lnTo>
                        <a:pt x="674" y="675"/>
                      </a:lnTo>
                      <a:lnTo>
                        <a:pt x="673" y="676"/>
                      </a:lnTo>
                      <a:lnTo>
                        <a:pt x="673" y="677"/>
                      </a:lnTo>
                      <a:lnTo>
                        <a:pt x="628" y="677"/>
                      </a:lnTo>
                      <a:lnTo>
                        <a:pt x="628" y="676"/>
                      </a:lnTo>
                      <a:lnTo>
                        <a:pt x="627" y="675"/>
                      </a:lnTo>
                      <a:lnTo>
                        <a:pt x="625" y="674"/>
                      </a:lnTo>
                      <a:lnTo>
                        <a:pt x="624" y="674"/>
                      </a:lnTo>
                      <a:lnTo>
                        <a:pt x="622" y="674"/>
                      </a:lnTo>
                      <a:lnTo>
                        <a:pt x="620" y="675"/>
                      </a:lnTo>
                      <a:lnTo>
                        <a:pt x="619" y="676"/>
                      </a:lnTo>
                      <a:lnTo>
                        <a:pt x="619" y="677"/>
                      </a:lnTo>
                      <a:lnTo>
                        <a:pt x="576" y="677"/>
                      </a:lnTo>
                      <a:lnTo>
                        <a:pt x="576" y="676"/>
                      </a:lnTo>
                      <a:lnTo>
                        <a:pt x="575" y="675"/>
                      </a:lnTo>
                      <a:lnTo>
                        <a:pt x="573" y="674"/>
                      </a:lnTo>
                      <a:lnTo>
                        <a:pt x="572" y="674"/>
                      </a:lnTo>
                      <a:lnTo>
                        <a:pt x="570" y="674"/>
                      </a:lnTo>
                      <a:lnTo>
                        <a:pt x="569" y="675"/>
                      </a:lnTo>
                      <a:lnTo>
                        <a:pt x="568" y="676"/>
                      </a:lnTo>
                      <a:lnTo>
                        <a:pt x="567" y="677"/>
                      </a:lnTo>
                      <a:lnTo>
                        <a:pt x="526" y="677"/>
                      </a:lnTo>
                      <a:lnTo>
                        <a:pt x="526" y="782"/>
                      </a:lnTo>
                      <a:lnTo>
                        <a:pt x="483" y="782"/>
                      </a:lnTo>
                      <a:lnTo>
                        <a:pt x="483" y="780"/>
                      </a:lnTo>
                      <a:lnTo>
                        <a:pt x="482" y="779"/>
                      </a:lnTo>
                      <a:lnTo>
                        <a:pt x="481" y="779"/>
                      </a:lnTo>
                      <a:lnTo>
                        <a:pt x="479" y="778"/>
                      </a:lnTo>
                      <a:lnTo>
                        <a:pt x="477" y="779"/>
                      </a:lnTo>
                      <a:lnTo>
                        <a:pt x="476" y="779"/>
                      </a:lnTo>
                      <a:lnTo>
                        <a:pt x="475" y="780"/>
                      </a:lnTo>
                      <a:lnTo>
                        <a:pt x="474" y="782"/>
                      </a:lnTo>
                      <a:lnTo>
                        <a:pt x="306" y="782"/>
                      </a:lnTo>
                      <a:lnTo>
                        <a:pt x="306" y="780"/>
                      </a:lnTo>
                      <a:lnTo>
                        <a:pt x="305" y="779"/>
                      </a:lnTo>
                      <a:lnTo>
                        <a:pt x="303" y="779"/>
                      </a:lnTo>
                      <a:lnTo>
                        <a:pt x="301" y="778"/>
                      </a:lnTo>
                      <a:lnTo>
                        <a:pt x="300" y="779"/>
                      </a:lnTo>
                      <a:lnTo>
                        <a:pt x="298" y="779"/>
                      </a:lnTo>
                      <a:lnTo>
                        <a:pt x="297" y="780"/>
                      </a:lnTo>
                      <a:lnTo>
                        <a:pt x="297" y="782"/>
                      </a:lnTo>
                      <a:lnTo>
                        <a:pt x="155" y="782"/>
                      </a:lnTo>
                      <a:lnTo>
                        <a:pt x="154" y="780"/>
                      </a:lnTo>
                      <a:lnTo>
                        <a:pt x="153" y="779"/>
                      </a:lnTo>
                      <a:lnTo>
                        <a:pt x="152" y="779"/>
                      </a:lnTo>
                      <a:lnTo>
                        <a:pt x="150" y="778"/>
                      </a:lnTo>
                      <a:lnTo>
                        <a:pt x="148" y="779"/>
                      </a:lnTo>
                      <a:lnTo>
                        <a:pt x="147" y="779"/>
                      </a:lnTo>
                      <a:lnTo>
                        <a:pt x="146" y="780"/>
                      </a:lnTo>
                      <a:lnTo>
                        <a:pt x="146" y="782"/>
                      </a:lnTo>
                      <a:lnTo>
                        <a:pt x="83" y="782"/>
                      </a:lnTo>
                      <a:lnTo>
                        <a:pt x="83" y="780"/>
                      </a:lnTo>
                      <a:lnTo>
                        <a:pt x="82" y="779"/>
                      </a:lnTo>
                      <a:lnTo>
                        <a:pt x="80" y="779"/>
                      </a:lnTo>
                      <a:lnTo>
                        <a:pt x="79" y="778"/>
                      </a:lnTo>
                      <a:lnTo>
                        <a:pt x="77" y="779"/>
                      </a:lnTo>
                      <a:lnTo>
                        <a:pt x="75" y="779"/>
                      </a:lnTo>
                      <a:lnTo>
                        <a:pt x="75" y="780"/>
                      </a:lnTo>
                      <a:lnTo>
                        <a:pt x="74" y="782"/>
                      </a:lnTo>
                      <a:lnTo>
                        <a:pt x="0" y="782"/>
                      </a:lnTo>
                      <a:lnTo>
                        <a:pt x="0" y="772"/>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7232400" y="3898080"/>
                  <a:ext cx="9360" cy="6480"/>
                </a:xfrm>
                <a:custGeom>
                  <a:avLst/>
                  <a:gdLst/>
                  <a:ahLst/>
                  <a:rect l="l" t="t" r="r" b="b"/>
                  <a:pathLst>
                    <a:path w="9" h="5">
                      <a:moveTo>
                        <a:pt x="1" y="0"/>
                      </a:moveTo>
                      <a:lnTo>
                        <a:pt x="9" y="2"/>
                      </a:lnTo>
                      <a:lnTo>
                        <a:pt x="1" y="5"/>
                      </a:lnTo>
                      <a:lnTo>
                        <a:pt x="1" y="4"/>
                      </a:lnTo>
                      <a:lnTo>
                        <a:pt x="0" y="2"/>
                      </a:lnTo>
                      <a:lnTo>
                        <a:pt x="1" y="1"/>
                      </a:lnTo>
                      <a:lnTo>
                        <a:pt x="1" y="0"/>
                      </a:lnTo>
                      <a:close/>
                    </a:path>
                  </a:pathLst>
                </a:custGeom>
                <a:solidFill>
                  <a:srgbClr val="ff00f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99" name=""/>
                <p:cNvSpPr/>
                <p:nvPr/>
              </p:nvSpPr>
              <p:spPr>
                <a:xfrm>
                  <a:off x="5294880" y="4923720"/>
                  <a:ext cx="8640" cy="7920"/>
                </a:xfrm>
                <a:custGeom>
                  <a:avLst/>
                  <a:gdLst/>
                  <a:ahLst/>
                  <a:rect l="l" t="t" r="r" b="b"/>
                  <a:pathLst>
                    <a:path w="8" h="6">
                      <a:moveTo>
                        <a:pt x="0" y="6"/>
                      </a:moveTo>
                      <a:lnTo>
                        <a:pt x="4" y="0"/>
                      </a:lnTo>
                      <a:lnTo>
                        <a:pt x="8" y="6"/>
                      </a:lnTo>
                      <a:lnTo>
                        <a:pt x="6" y="6"/>
                      </a:lnTo>
                      <a:lnTo>
                        <a:pt x="4" y="6"/>
                      </a:lnTo>
                      <a:lnTo>
                        <a:pt x="2" y="6"/>
                      </a:lnTo>
                      <a:lnTo>
                        <a:pt x="0" y="6"/>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00" name=""/>
                <p:cNvSpPr/>
                <p:nvPr/>
              </p:nvSpPr>
              <p:spPr>
                <a:xfrm>
                  <a:off x="7085160" y="2601000"/>
                  <a:ext cx="379080" cy="1211400"/>
                </a:xfrm>
                <a:custGeom>
                  <a:avLst/>
                  <a:gdLst/>
                  <a:ahLst/>
                  <a:rect l="l" t="t" r="r" b="b"/>
                  <a:pathLst>
                    <a:path w="358" h="907">
                      <a:moveTo>
                        <a:pt x="0" y="3"/>
                      </a:moveTo>
                      <a:lnTo>
                        <a:pt x="16" y="3"/>
                      </a:lnTo>
                      <a:lnTo>
                        <a:pt x="17" y="2"/>
                      </a:lnTo>
                      <a:lnTo>
                        <a:pt x="17" y="0"/>
                      </a:lnTo>
                      <a:lnTo>
                        <a:pt x="19" y="0"/>
                      </a:lnTo>
                      <a:lnTo>
                        <a:pt x="21" y="0"/>
                      </a:lnTo>
                      <a:lnTo>
                        <a:pt x="22" y="0"/>
                      </a:lnTo>
                      <a:lnTo>
                        <a:pt x="24" y="0"/>
                      </a:lnTo>
                      <a:lnTo>
                        <a:pt x="25" y="2"/>
                      </a:lnTo>
                      <a:lnTo>
                        <a:pt x="25" y="3"/>
                      </a:lnTo>
                      <a:lnTo>
                        <a:pt x="38" y="3"/>
                      </a:lnTo>
                      <a:lnTo>
                        <a:pt x="38" y="507"/>
                      </a:lnTo>
                      <a:lnTo>
                        <a:pt x="68" y="507"/>
                      </a:lnTo>
                      <a:lnTo>
                        <a:pt x="68" y="505"/>
                      </a:lnTo>
                      <a:lnTo>
                        <a:pt x="69" y="504"/>
                      </a:lnTo>
                      <a:lnTo>
                        <a:pt x="71" y="504"/>
                      </a:lnTo>
                      <a:lnTo>
                        <a:pt x="73" y="503"/>
                      </a:lnTo>
                      <a:lnTo>
                        <a:pt x="74" y="504"/>
                      </a:lnTo>
                      <a:lnTo>
                        <a:pt x="76" y="504"/>
                      </a:lnTo>
                      <a:lnTo>
                        <a:pt x="77" y="505"/>
                      </a:lnTo>
                      <a:lnTo>
                        <a:pt x="77" y="507"/>
                      </a:lnTo>
                      <a:lnTo>
                        <a:pt x="86" y="507"/>
                      </a:lnTo>
                      <a:lnTo>
                        <a:pt x="86" y="505"/>
                      </a:lnTo>
                      <a:lnTo>
                        <a:pt x="87" y="503"/>
                      </a:lnTo>
                      <a:lnTo>
                        <a:pt x="89" y="502"/>
                      </a:lnTo>
                      <a:lnTo>
                        <a:pt x="91" y="501"/>
                      </a:lnTo>
                      <a:lnTo>
                        <a:pt x="93" y="500"/>
                      </a:lnTo>
                      <a:lnTo>
                        <a:pt x="96" y="500"/>
                      </a:lnTo>
                      <a:lnTo>
                        <a:pt x="98" y="501"/>
                      </a:lnTo>
                      <a:lnTo>
                        <a:pt x="100" y="502"/>
                      </a:lnTo>
                      <a:lnTo>
                        <a:pt x="101" y="503"/>
                      </a:lnTo>
                      <a:lnTo>
                        <a:pt x="102" y="505"/>
                      </a:lnTo>
                      <a:lnTo>
                        <a:pt x="103" y="507"/>
                      </a:lnTo>
                      <a:lnTo>
                        <a:pt x="106" y="507"/>
                      </a:lnTo>
                      <a:lnTo>
                        <a:pt x="107" y="505"/>
                      </a:lnTo>
                      <a:lnTo>
                        <a:pt x="107" y="504"/>
                      </a:lnTo>
                      <a:lnTo>
                        <a:pt x="109" y="504"/>
                      </a:lnTo>
                      <a:lnTo>
                        <a:pt x="111" y="503"/>
                      </a:lnTo>
                      <a:lnTo>
                        <a:pt x="112" y="504"/>
                      </a:lnTo>
                      <a:lnTo>
                        <a:pt x="114" y="504"/>
                      </a:lnTo>
                      <a:lnTo>
                        <a:pt x="115" y="505"/>
                      </a:lnTo>
                      <a:lnTo>
                        <a:pt x="115" y="507"/>
                      </a:lnTo>
                      <a:lnTo>
                        <a:pt x="120" y="507"/>
                      </a:lnTo>
                      <a:lnTo>
                        <a:pt x="121" y="505"/>
                      </a:lnTo>
                      <a:lnTo>
                        <a:pt x="122" y="504"/>
                      </a:lnTo>
                      <a:lnTo>
                        <a:pt x="123" y="504"/>
                      </a:lnTo>
                      <a:lnTo>
                        <a:pt x="125" y="503"/>
                      </a:lnTo>
                      <a:lnTo>
                        <a:pt x="127" y="504"/>
                      </a:lnTo>
                      <a:lnTo>
                        <a:pt x="128" y="504"/>
                      </a:lnTo>
                      <a:lnTo>
                        <a:pt x="129" y="505"/>
                      </a:lnTo>
                      <a:lnTo>
                        <a:pt x="129" y="507"/>
                      </a:lnTo>
                      <a:lnTo>
                        <a:pt x="136" y="507"/>
                      </a:lnTo>
                      <a:lnTo>
                        <a:pt x="137" y="505"/>
                      </a:lnTo>
                      <a:lnTo>
                        <a:pt x="138" y="504"/>
                      </a:lnTo>
                      <a:lnTo>
                        <a:pt x="139" y="504"/>
                      </a:lnTo>
                      <a:lnTo>
                        <a:pt x="141" y="503"/>
                      </a:lnTo>
                      <a:lnTo>
                        <a:pt x="143" y="504"/>
                      </a:lnTo>
                      <a:lnTo>
                        <a:pt x="144" y="504"/>
                      </a:lnTo>
                      <a:lnTo>
                        <a:pt x="145" y="505"/>
                      </a:lnTo>
                      <a:lnTo>
                        <a:pt x="145" y="507"/>
                      </a:lnTo>
                      <a:lnTo>
                        <a:pt x="150" y="507"/>
                      </a:lnTo>
                      <a:lnTo>
                        <a:pt x="150" y="505"/>
                      </a:lnTo>
                      <a:lnTo>
                        <a:pt x="151" y="504"/>
                      </a:lnTo>
                      <a:lnTo>
                        <a:pt x="153" y="504"/>
                      </a:lnTo>
                      <a:lnTo>
                        <a:pt x="154" y="503"/>
                      </a:lnTo>
                      <a:lnTo>
                        <a:pt x="156" y="504"/>
                      </a:lnTo>
                      <a:lnTo>
                        <a:pt x="158" y="504"/>
                      </a:lnTo>
                      <a:lnTo>
                        <a:pt x="159" y="505"/>
                      </a:lnTo>
                      <a:lnTo>
                        <a:pt x="159" y="507"/>
                      </a:lnTo>
                      <a:lnTo>
                        <a:pt x="163" y="507"/>
                      </a:lnTo>
                      <a:lnTo>
                        <a:pt x="164" y="505"/>
                      </a:lnTo>
                      <a:lnTo>
                        <a:pt x="165" y="504"/>
                      </a:lnTo>
                      <a:lnTo>
                        <a:pt x="166" y="504"/>
                      </a:lnTo>
                      <a:lnTo>
                        <a:pt x="168" y="503"/>
                      </a:lnTo>
                      <a:lnTo>
                        <a:pt x="170" y="504"/>
                      </a:lnTo>
                      <a:lnTo>
                        <a:pt x="171" y="504"/>
                      </a:lnTo>
                      <a:lnTo>
                        <a:pt x="172" y="505"/>
                      </a:lnTo>
                      <a:lnTo>
                        <a:pt x="173" y="507"/>
                      </a:lnTo>
                      <a:lnTo>
                        <a:pt x="358" y="507"/>
                      </a:lnTo>
                      <a:lnTo>
                        <a:pt x="358" y="907"/>
                      </a:lnTo>
                      <a:lnTo>
                        <a:pt x="350" y="90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7443000" y="3805920"/>
                  <a:ext cx="13680" cy="1152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2" name=""/>
                <p:cNvSpPr/>
                <p:nvPr/>
              </p:nvSpPr>
              <p:spPr>
                <a:xfrm>
                  <a:off x="7454520" y="3791160"/>
                  <a:ext cx="122760" cy="62640"/>
                </a:xfrm>
                <a:custGeom>
                  <a:avLst/>
                  <a:gdLst/>
                  <a:ahLst/>
                  <a:rect l="l" t="t" r="r" b="b"/>
                  <a:pathLst>
                    <a:path w="116" h="47">
                      <a:moveTo>
                        <a:pt x="0" y="47"/>
                      </a:moveTo>
                      <a:lnTo>
                        <a:pt x="21" y="47"/>
                      </a:lnTo>
                      <a:lnTo>
                        <a:pt x="21" y="46"/>
                      </a:lnTo>
                      <a:lnTo>
                        <a:pt x="22" y="45"/>
                      </a:lnTo>
                      <a:lnTo>
                        <a:pt x="23" y="44"/>
                      </a:lnTo>
                      <a:lnTo>
                        <a:pt x="25" y="44"/>
                      </a:lnTo>
                      <a:lnTo>
                        <a:pt x="27" y="44"/>
                      </a:lnTo>
                      <a:lnTo>
                        <a:pt x="28" y="45"/>
                      </a:lnTo>
                      <a:lnTo>
                        <a:pt x="29" y="46"/>
                      </a:lnTo>
                      <a:lnTo>
                        <a:pt x="30" y="47"/>
                      </a:lnTo>
                      <a:lnTo>
                        <a:pt x="31" y="47"/>
                      </a:lnTo>
                      <a:lnTo>
                        <a:pt x="31" y="46"/>
                      </a:lnTo>
                      <a:lnTo>
                        <a:pt x="32" y="44"/>
                      </a:lnTo>
                      <a:lnTo>
                        <a:pt x="33" y="43"/>
                      </a:lnTo>
                      <a:lnTo>
                        <a:pt x="35" y="42"/>
                      </a:lnTo>
                      <a:lnTo>
                        <a:pt x="37" y="42"/>
                      </a:lnTo>
                      <a:lnTo>
                        <a:pt x="39" y="42"/>
                      </a:lnTo>
                      <a:lnTo>
                        <a:pt x="41" y="42"/>
                      </a:lnTo>
                      <a:lnTo>
                        <a:pt x="43" y="43"/>
                      </a:lnTo>
                      <a:lnTo>
                        <a:pt x="45" y="44"/>
                      </a:lnTo>
                      <a:lnTo>
                        <a:pt x="46" y="46"/>
                      </a:lnTo>
                      <a:lnTo>
                        <a:pt x="46" y="47"/>
                      </a:lnTo>
                      <a:lnTo>
                        <a:pt x="53" y="47"/>
                      </a:lnTo>
                      <a:lnTo>
                        <a:pt x="53" y="46"/>
                      </a:lnTo>
                      <a:lnTo>
                        <a:pt x="54" y="45"/>
                      </a:lnTo>
                      <a:lnTo>
                        <a:pt x="55" y="44"/>
                      </a:lnTo>
                      <a:lnTo>
                        <a:pt x="57" y="44"/>
                      </a:lnTo>
                      <a:lnTo>
                        <a:pt x="59" y="44"/>
                      </a:lnTo>
                      <a:lnTo>
                        <a:pt x="60" y="45"/>
                      </a:lnTo>
                      <a:lnTo>
                        <a:pt x="61" y="46"/>
                      </a:lnTo>
                      <a:lnTo>
                        <a:pt x="62" y="47"/>
                      </a:lnTo>
                      <a:lnTo>
                        <a:pt x="69" y="47"/>
                      </a:lnTo>
                      <a:lnTo>
                        <a:pt x="69" y="46"/>
                      </a:lnTo>
                      <a:lnTo>
                        <a:pt x="70" y="45"/>
                      </a:lnTo>
                      <a:lnTo>
                        <a:pt x="72" y="44"/>
                      </a:lnTo>
                      <a:lnTo>
                        <a:pt x="74" y="44"/>
                      </a:lnTo>
                      <a:lnTo>
                        <a:pt x="75" y="44"/>
                      </a:lnTo>
                      <a:lnTo>
                        <a:pt x="77" y="45"/>
                      </a:lnTo>
                      <a:lnTo>
                        <a:pt x="78" y="46"/>
                      </a:lnTo>
                      <a:lnTo>
                        <a:pt x="78" y="47"/>
                      </a:lnTo>
                      <a:lnTo>
                        <a:pt x="80" y="47"/>
                      </a:lnTo>
                      <a:lnTo>
                        <a:pt x="81" y="46"/>
                      </a:lnTo>
                      <a:lnTo>
                        <a:pt x="82" y="44"/>
                      </a:lnTo>
                      <a:lnTo>
                        <a:pt x="83" y="43"/>
                      </a:lnTo>
                      <a:lnTo>
                        <a:pt x="85" y="42"/>
                      </a:lnTo>
                      <a:lnTo>
                        <a:pt x="87" y="42"/>
                      </a:lnTo>
                      <a:lnTo>
                        <a:pt x="89" y="42"/>
                      </a:lnTo>
                      <a:lnTo>
                        <a:pt x="91" y="43"/>
                      </a:lnTo>
                      <a:lnTo>
                        <a:pt x="93" y="44"/>
                      </a:lnTo>
                      <a:lnTo>
                        <a:pt x="93" y="46"/>
                      </a:lnTo>
                      <a:lnTo>
                        <a:pt x="94" y="47"/>
                      </a:lnTo>
                      <a:lnTo>
                        <a:pt x="116" y="47"/>
                      </a:lnTo>
                      <a:lnTo>
                        <a:pt x="116" y="0"/>
                      </a:lnTo>
                    </a:path>
                  </a:pathLst>
                </a:custGeom>
                <a:noFill/>
                <a:ln w="14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103" name=""/>
                <p:cNvSpPr/>
                <p:nvPr/>
              </p:nvSpPr>
              <p:spPr>
                <a:xfrm>
                  <a:off x="7441920" y="3848760"/>
                  <a:ext cx="13680" cy="1152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4" name=""/>
                <p:cNvSpPr/>
                <p:nvPr/>
              </p:nvSpPr>
              <p:spPr>
                <a:xfrm>
                  <a:off x="5923800" y="3853800"/>
                  <a:ext cx="1305000" cy="64080"/>
                </a:xfrm>
                <a:custGeom>
                  <a:avLst/>
                  <a:gdLst/>
                  <a:ahLst/>
                  <a:rect l="l" t="t" r="r" b="b"/>
                  <a:pathLst>
                    <a:path w="1233" h="48">
                      <a:moveTo>
                        <a:pt x="1233" y="0"/>
                      </a:moveTo>
                      <a:lnTo>
                        <a:pt x="1218" y="0"/>
                      </a:lnTo>
                      <a:lnTo>
                        <a:pt x="1218" y="48"/>
                      </a:lnTo>
                      <a:lnTo>
                        <a:pt x="1212" y="48"/>
                      </a:lnTo>
                      <a:lnTo>
                        <a:pt x="1212" y="47"/>
                      </a:lnTo>
                      <a:lnTo>
                        <a:pt x="1211" y="46"/>
                      </a:lnTo>
                      <a:lnTo>
                        <a:pt x="1209" y="45"/>
                      </a:lnTo>
                      <a:lnTo>
                        <a:pt x="1208" y="44"/>
                      </a:lnTo>
                      <a:lnTo>
                        <a:pt x="1206" y="45"/>
                      </a:lnTo>
                      <a:lnTo>
                        <a:pt x="1204" y="46"/>
                      </a:lnTo>
                      <a:lnTo>
                        <a:pt x="1204" y="47"/>
                      </a:lnTo>
                      <a:lnTo>
                        <a:pt x="1203" y="48"/>
                      </a:lnTo>
                      <a:lnTo>
                        <a:pt x="1200" y="48"/>
                      </a:lnTo>
                      <a:lnTo>
                        <a:pt x="1199" y="46"/>
                      </a:lnTo>
                      <a:lnTo>
                        <a:pt x="1199" y="44"/>
                      </a:lnTo>
                      <a:lnTo>
                        <a:pt x="1197" y="43"/>
                      </a:lnTo>
                      <a:lnTo>
                        <a:pt x="1195" y="42"/>
                      </a:lnTo>
                      <a:lnTo>
                        <a:pt x="1193" y="42"/>
                      </a:lnTo>
                      <a:lnTo>
                        <a:pt x="1190" y="42"/>
                      </a:lnTo>
                      <a:lnTo>
                        <a:pt x="1188" y="42"/>
                      </a:lnTo>
                      <a:lnTo>
                        <a:pt x="1186" y="43"/>
                      </a:lnTo>
                      <a:lnTo>
                        <a:pt x="1184" y="44"/>
                      </a:lnTo>
                      <a:lnTo>
                        <a:pt x="1183" y="46"/>
                      </a:lnTo>
                      <a:lnTo>
                        <a:pt x="1183" y="48"/>
                      </a:lnTo>
                      <a:lnTo>
                        <a:pt x="1174" y="48"/>
                      </a:lnTo>
                      <a:lnTo>
                        <a:pt x="1174" y="47"/>
                      </a:lnTo>
                      <a:lnTo>
                        <a:pt x="1173" y="46"/>
                      </a:lnTo>
                      <a:lnTo>
                        <a:pt x="1171" y="45"/>
                      </a:lnTo>
                      <a:lnTo>
                        <a:pt x="1170" y="44"/>
                      </a:lnTo>
                      <a:lnTo>
                        <a:pt x="1168" y="45"/>
                      </a:lnTo>
                      <a:lnTo>
                        <a:pt x="1166" y="46"/>
                      </a:lnTo>
                      <a:lnTo>
                        <a:pt x="1165" y="47"/>
                      </a:lnTo>
                      <a:lnTo>
                        <a:pt x="1165" y="48"/>
                      </a:lnTo>
                      <a:lnTo>
                        <a:pt x="1160" y="48"/>
                      </a:lnTo>
                      <a:lnTo>
                        <a:pt x="1159" y="47"/>
                      </a:lnTo>
                      <a:lnTo>
                        <a:pt x="1159" y="46"/>
                      </a:lnTo>
                      <a:lnTo>
                        <a:pt x="1157" y="45"/>
                      </a:lnTo>
                      <a:lnTo>
                        <a:pt x="1155" y="44"/>
                      </a:lnTo>
                      <a:lnTo>
                        <a:pt x="1154" y="45"/>
                      </a:lnTo>
                      <a:lnTo>
                        <a:pt x="1152" y="46"/>
                      </a:lnTo>
                      <a:lnTo>
                        <a:pt x="1151" y="47"/>
                      </a:lnTo>
                      <a:lnTo>
                        <a:pt x="1151" y="48"/>
                      </a:lnTo>
                      <a:lnTo>
                        <a:pt x="1138" y="48"/>
                      </a:lnTo>
                      <a:lnTo>
                        <a:pt x="1137" y="47"/>
                      </a:lnTo>
                      <a:lnTo>
                        <a:pt x="1137" y="46"/>
                      </a:lnTo>
                      <a:lnTo>
                        <a:pt x="1135" y="45"/>
                      </a:lnTo>
                      <a:lnTo>
                        <a:pt x="1133" y="44"/>
                      </a:lnTo>
                      <a:lnTo>
                        <a:pt x="1132" y="45"/>
                      </a:lnTo>
                      <a:lnTo>
                        <a:pt x="1130" y="46"/>
                      </a:lnTo>
                      <a:lnTo>
                        <a:pt x="1129" y="47"/>
                      </a:lnTo>
                      <a:lnTo>
                        <a:pt x="1129" y="48"/>
                      </a:lnTo>
                      <a:lnTo>
                        <a:pt x="1107" y="48"/>
                      </a:lnTo>
                      <a:lnTo>
                        <a:pt x="1107" y="47"/>
                      </a:lnTo>
                      <a:lnTo>
                        <a:pt x="1106" y="46"/>
                      </a:lnTo>
                      <a:lnTo>
                        <a:pt x="1105" y="45"/>
                      </a:lnTo>
                      <a:lnTo>
                        <a:pt x="1103" y="44"/>
                      </a:lnTo>
                      <a:lnTo>
                        <a:pt x="1101" y="45"/>
                      </a:lnTo>
                      <a:lnTo>
                        <a:pt x="1100" y="46"/>
                      </a:lnTo>
                      <a:lnTo>
                        <a:pt x="1099" y="47"/>
                      </a:lnTo>
                      <a:lnTo>
                        <a:pt x="1098" y="48"/>
                      </a:lnTo>
                      <a:lnTo>
                        <a:pt x="1087" y="48"/>
                      </a:lnTo>
                      <a:lnTo>
                        <a:pt x="1087" y="47"/>
                      </a:lnTo>
                      <a:lnTo>
                        <a:pt x="1086" y="46"/>
                      </a:lnTo>
                      <a:lnTo>
                        <a:pt x="1084" y="45"/>
                      </a:lnTo>
                      <a:lnTo>
                        <a:pt x="1083" y="44"/>
                      </a:lnTo>
                      <a:lnTo>
                        <a:pt x="1081" y="45"/>
                      </a:lnTo>
                      <a:lnTo>
                        <a:pt x="1079" y="46"/>
                      </a:lnTo>
                      <a:lnTo>
                        <a:pt x="1079" y="47"/>
                      </a:lnTo>
                      <a:lnTo>
                        <a:pt x="1078" y="48"/>
                      </a:lnTo>
                      <a:lnTo>
                        <a:pt x="1040" y="48"/>
                      </a:lnTo>
                      <a:lnTo>
                        <a:pt x="1039" y="47"/>
                      </a:lnTo>
                      <a:lnTo>
                        <a:pt x="1039" y="46"/>
                      </a:lnTo>
                      <a:lnTo>
                        <a:pt x="1037" y="45"/>
                      </a:lnTo>
                      <a:lnTo>
                        <a:pt x="1035" y="44"/>
                      </a:lnTo>
                      <a:lnTo>
                        <a:pt x="1034" y="45"/>
                      </a:lnTo>
                      <a:lnTo>
                        <a:pt x="1032" y="46"/>
                      </a:lnTo>
                      <a:lnTo>
                        <a:pt x="1031" y="47"/>
                      </a:lnTo>
                      <a:lnTo>
                        <a:pt x="1031" y="48"/>
                      </a:lnTo>
                      <a:lnTo>
                        <a:pt x="1025" y="48"/>
                      </a:lnTo>
                      <a:lnTo>
                        <a:pt x="1024" y="47"/>
                      </a:lnTo>
                      <a:lnTo>
                        <a:pt x="1023" y="46"/>
                      </a:lnTo>
                      <a:lnTo>
                        <a:pt x="1022" y="45"/>
                      </a:lnTo>
                      <a:lnTo>
                        <a:pt x="1020" y="44"/>
                      </a:lnTo>
                      <a:lnTo>
                        <a:pt x="1018" y="45"/>
                      </a:lnTo>
                      <a:lnTo>
                        <a:pt x="1017" y="46"/>
                      </a:lnTo>
                      <a:lnTo>
                        <a:pt x="1016" y="47"/>
                      </a:lnTo>
                      <a:lnTo>
                        <a:pt x="1016" y="48"/>
                      </a:lnTo>
                      <a:lnTo>
                        <a:pt x="1012" y="48"/>
                      </a:lnTo>
                      <a:lnTo>
                        <a:pt x="1011" y="47"/>
                      </a:lnTo>
                      <a:lnTo>
                        <a:pt x="1010" y="46"/>
                      </a:lnTo>
                      <a:lnTo>
                        <a:pt x="1009" y="45"/>
                      </a:lnTo>
                      <a:lnTo>
                        <a:pt x="1007" y="44"/>
                      </a:lnTo>
                      <a:lnTo>
                        <a:pt x="1005" y="45"/>
                      </a:lnTo>
                      <a:lnTo>
                        <a:pt x="1004" y="46"/>
                      </a:lnTo>
                      <a:lnTo>
                        <a:pt x="1003" y="47"/>
                      </a:lnTo>
                      <a:lnTo>
                        <a:pt x="1003" y="48"/>
                      </a:lnTo>
                      <a:lnTo>
                        <a:pt x="974" y="48"/>
                      </a:lnTo>
                      <a:lnTo>
                        <a:pt x="974" y="46"/>
                      </a:lnTo>
                      <a:lnTo>
                        <a:pt x="973" y="44"/>
                      </a:lnTo>
                      <a:lnTo>
                        <a:pt x="971" y="43"/>
                      </a:lnTo>
                      <a:lnTo>
                        <a:pt x="969" y="42"/>
                      </a:lnTo>
                      <a:lnTo>
                        <a:pt x="967" y="41"/>
                      </a:lnTo>
                      <a:lnTo>
                        <a:pt x="964" y="41"/>
                      </a:lnTo>
                      <a:lnTo>
                        <a:pt x="962" y="42"/>
                      </a:lnTo>
                      <a:lnTo>
                        <a:pt x="960" y="43"/>
                      </a:lnTo>
                      <a:lnTo>
                        <a:pt x="958" y="44"/>
                      </a:lnTo>
                      <a:lnTo>
                        <a:pt x="957" y="46"/>
                      </a:lnTo>
                      <a:lnTo>
                        <a:pt x="957" y="48"/>
                      </a:lnTo>
                      <a:lnTo>
                        <a:pt x="933" y="48"/>
                      </a:lnTo>
                      <a:lnTo>
                        <a:pt x="933" y="47"/>
                      </a:lnTo>
                      <a:lnTo>
                        <a:pt x="932" y="46"/>
                      </a:lnTo>
                      <a:lnTo>
                        <a:pt x="931" y="45"/>
                      </a:lnTo>
                      <a:lnTo>
                        <a:pt x="929" y="44"/>
                      </a:lnTo>
                      <a:lnTo>
                        <a:pt x="927" y="45"/>
                      </a:lnTo>
                      <a:lnTo>
                        <a:pt x="926" y="46"/>
                      </a:lnTo>
                      <a:lnTo>
                        <a:pt x="925" y="47"/>
                      </a:lnTo>
                      <a:lnTo>
                        <a:pt x="925" y="48"/>
                      </a:lnTo>
                      <a:lnTo>
                        <a:pt x="918" y="48"/>
                      </a:lnTo>
                      <a:lnTo>
                        <a:pt x="918" y="47"/>
                      </a:lnTo>
                      <a:lnTo>
                        <a:pt x="917" y="46"/>
                      </a:lnTo>
                      <a:lnTo>
                        <a:pt x="916" y="45"/>
                      </a:lnTo>
                      <a:lnTo>
                        <a:pt x="914" y="44"/>
                      </a:lnTo>
                      <a:lnTo>
                        <a:pt x="912" y="45"/>
                      </a:lnTo>
                      <a:lnTo>
                        <a:pt x="911" y="46"/>
                      </a:lnTo>
                      <a:lnTo>
                        <a:pt x="910" y="47"/>
                      </a:lnTo>
                      <a:lnTo>
                        <a:pt x="909" y="48"/>
                      </a:lnTo>
                      <a:lnTo>
                        <a:pt x="890" y="48"/>
                      </a:lnTo>
                      <a:lnTo>
                        <a:pt x="889" y="47"/>
                      </a:lnTo>
                      <a:lnTo>
                        <a:pt x="888" y="46"/>
                      </a:lnTo>
                      <a:lnTo>
                        <a:pt x="887" y="45"/>
                      </a:lnTo>
                      <a:lnTo>
                        <a:pt x="885" y="44"/>
                      </a:lnTo>
                      <a:lnTo>
                        <a:pt x="883" y="45"/>
                      </a:lnTo>
                      <a:lnTo>
                        <a:pt x="882" y="46"/>
                      </a:lnTo>
                      <a:lnTo>
                        <a:pt x="881" y="47"/>
                      </a:lnTo>
                      <a:lnTo>
                        <a:pt x="881" y="48"/>
                      </a:lnTo>
                      <a:lnTo>
                        <a:pt x="638" y="48"/>
                      </a:lnTo>
                      <a:lnTo>
                        <a:pt x="637" y="47"/>
                      </a:lnTo>
                      <a:lnTo>
                        <a:pt x="637" y="46"/>
                      </a:lnTo>
                      <a:lnTo>
                        <a:pt x="635" y="45"/>
                      </a:lnTo>
                      <a:lnTo>
                        <a:pt x="633" y="44"/>
                      </a:lnTo>
                      <a:lnTo>
                        <a:pt x="632" y="45"/>
                      </a:lnTo>
                      <a:lnTo>
                        <a:pt x="630" y="46"/>
                      </a:lnTo>
                      <a:lnTo>
                        <a:pt x="629" y="47"/>
                      </a:lnTo>
                      <a:lnTo>
                        <a:pt x="629" y="48"/>
                      </a:lnTo>
                      <a:lnTo>
                        <a:pt x="617" y="48"/>
                      </a:lnTo>
                      <a:lnTo>
                        <a:pt x="617" y="47"/>
                      </a:lnTo>
                      <a:lnTo>
                        <a:pt x="616" y="46"/>
                      </a:lnTo>
                      <a:lnTo>
                        <a:pt x="615" y="45"/>
                      </a:lnTo>
                      <a:lnTo>
                        <a:pt x="613" y="44"/>
                      </a:lnTo>
                      <a:lnTo>
                        <a:pt x="611" y="45"/>
                      </a:lnTo>
                      <a:lnTo>
                        <a:pt x="610" y="46"/>
                      </a:lnTo>
                      <a:lnTo>
                        <a:pt x="609" y="47"/>
                      </a:lnTo>
                      <a:lnTo>
                        <a:pt x="608" y="48"/>
                      </a:lnTo>
                      <a:lnTo>
                        <a:pt x="565" y="48"/>
                      </a:lnTo>
                      <a:lnTo>
                        <a:pt x="565" y="47"/>
                      </a:lnTo>
                      <a:lnTo>
                        <a:pt x="564" y="46"/>
                      </a:lnTo>
                      <a:lnTo>
                        <a:pt x="563" y="45"/>
                      </a:lnTo>
                      <a:lnTo>
                        <a:pt x="561" y="44"/>
                      </a:lnTo>
                      <a:lnTo>
                        <a:pt x="559" y="45"/>
                      </a:lnTo>
                      <a:lnTo>
                        <a:pt x="558" y="46"/>
                      </a:lnTo>
                      <a:lnTo>
                        <a:pt x="557" y="47"/>
                      </a:lnTo>
                      <a:lnTo>
                        <a:pt x="556" y="48"/>
                      </a:lnTo>
                      <a:lnTo>
                        <a:pt x="554" y="48"/>
                      </a:lnTo>
                      <a:lnTo>
                        <a:pt x="553" y="47"/>
                      </a:lnTo>
                      <a:lnTo>
                        <a:pt x="552" y="46"/>
                      </a:lnTo>
                      <a:lnTo>
                        <a:pt x="551" y="45"/>
                      </a:lnTo>
                      <a:lnTo>
                        <a:pt x="549" y="44"/>
                      </a:lnTo>
                      <a:lnTo>
                        <a:pt x="547" y="45"/>
                      </a:lnTo>
                      <a:lnTo>
                        <a:pt x="546" y="46"/>
                      </a:lnTo>
                      <a:lnTo>
                        <a:pt x="545" y="47"/>
                      </a:lnTo>
                      <a:lnTo>
                        <a:pt x="545" y="48"/>
                      </a:lnTo>
                      <a:lnTo>
                        <a:pt x="493" y="48"/>
                      </a:lnTo>
                      <a:lnTo>
                        <a:pt x="492" y="47"/>
                      </a:lnTo>
                      <a:lnTo>
                        <a:pt x="491" y="46"/>
                      </a:lnTo>
                      <a:lnTo>
                        <a:pt x="490" y="45"/>
                      </a:lnTo>
                      <a:lnTo>
                        <a:pt x="488" y="44"/>
                      </a:lnTo>
                      <a:lnTo>
                        <a:pt x="487" y="45"/>
                      </a:lnTo>
                      <a:lnTo>
                        <a:pt x="485" y="46"/>
                      </a:lnTo>
                      <a:lnTo>
                        <a:pt x="484" y="47"/>
                      </a:lnTo>
                      <a:lnTo>
                        <a:pt x="484" y="48"/>
                      </a:lnTo>
                      <a:lnTo>
                        <a:pt x="439" y="48"/>
                      </a:lnTo>
                      <a:lnTo>
                        <a:pt x="438" y="47"/>
                      </a:lnTo>
                      <a:lnTo>
                        <a:pt x="437" y="46"/>
                      </a:lnTo>
                      <a:lnTo>
                        <a:pt x="436" y="45"/>
                      </a:lnTo>
                      <a:lnTo>
                        <a:pt x="434" y="44"/>
                      </a:lnTo>
                      <a:lnTo>
                        <a:pt x="432" y="45"/>
                      </a:lnTo>
                      <a:lnTo>
                        <a:pt x="431" y="46"/>
                      </a:lnTo>
                      <a:lnTo>
                        <a:pt x="430" y="47"/>
                      </a:lnTo>
                      <a:lnTo>
                        <a:pt x="430" y="48"/>
                      </a:lnTo>
                      <a:lnTo>
                        <a:pt x="423" y="48"/>
                      </a:lnTo>
                      <a:lnTo>
                        <a:pt x="423" y="47"/>
                      </a:lnTo>
                      <a:lnTo>
                        <a:pt x="422" y="46"/>
                      </a:lnTo>
                      <a:lnTo>
                        <a:pt x="421" y="45"/>
                      </a:lnTo>
                      <a:lnTo>
                        <a:pt x="419" y="44"/>
                      </a:lnTo>
                      <a:lnTo>
                        <a:pt x="417" y="45"/>
                      </a:lnTo>
                      <a:lnTo>
                        <a:pt x="416" y="46"/>
                      </a:lnTo>
                      <a:lnTo>
                        <a:pt x="415" y="47"/>
                      </a:lnTo>
                      <a:lnTo>
                        <a:pt x="415" y="48"/>
                      </a:lnTo>
                      <a:lnTo>
                        <a:pt x="412" y="48"/>
                      </a:lnTo>
                      <a:lnTo>
                        <a:pt x="411" y="47"/>
                      </a:lnTo>
                      <a:lnTo>
                        <a:pt x="410" y="46"/>
                      </a:lnTo>
                      <a:lnTo>
                        <a:pt x="409" y="45"/>
                      </a:lnTo>
                      <a:lnTo>
                        <a:pt x="407" y="44"/>
                      </a:lnTo>
                      <a:lnTo>
                        <a:pt x="405" y="45"/>
                      </a:lnTo>
                      <a:lnTo>
                        <a:pt x="404" y="46"/>
                      </a:lnTo>
                      <a:lnTo>
                        <a:pt x="403" y="47"/>
                      </a:lnTo>
                      <a:lnTo>
                        <a:pt x="403" y="48"/>
                      </a:lnTo>
                      <a:lnTo>
                        <a:pt x="399" y="48"/>
                      </a:lnTo>
                      <a:lnTo>
                        <a:pt x="399" y="47"/>
                      </a:lnTo>
                      <a:lnTo>
                        <a:pt x="398" y="46"/>
                      </a:lnTo>
                      <a:lnTo>
                        <a:pt x="396" y="45"/>
                      </a:lnTo>
                      <a:lnTo>
                        <a:pt x="395" y="44"/>
                      </a:lnTo>
                      <a:lnTo>
                        <a:pt x="393" y="45"/>
                      </a:lnTo>
                      <a:lnTo>
                        <a:pt x="391" y="46"/>
                      </a:lnTo>
                      <a:lnTo>
                        <a:pt x="391" y="47"/>
                      </a:lnTo>
                      <a:lnTo>
                        <a:pt x="390" y="48"/>
                      </a:lnTo>
                      <a:lnTo>
                        <a:pt x="352" y="48"/>
                      </a:lnTo>
                      <a:lnTo>
                        <a:pt x="352" y="47"/>
                      </a:lnTo>
                      <a:lnTo>
                        <a:pt x="351" y="46"/>
                      </a:lnTo>
                      <a:lnTo>
                        <a:pt x="349" y="45"/>
                      </a:lnTo>
                      <a:lnTo>
                        <a:pt x="348" y="44"/>
                      </a:lnTo>
                      <a:lnTo>
                        <a:pt x="346" y="45"/>
                      </a:lnTo>
                      <a:lnTo>
                        <a:pt x="345" y="46"/>
                      </a:lnTo>
                      <a:lnTo>
                        <a:pt x="344" y="47"/>
                      </a:lnTo>
                      <a:lnTo>
                        <a:pt x="343" y="48"/>
                      </a:lnTo>
                      <a:lnTo>
                        <a:pt x="277" y="48"/>
                      </a:lnTo>
                      <a:lnTo>
                        <a:pt x="276" y="47"/>
                      </a:lnTo>
                      <a:lnTo>
                        <a:pt x="275" y="46"/>
                      </a:lnTo>
                      <a:lnTo>
                        <a:pt x="274" y="45"/>
                      </a:lnTo>
                      <a:lnTo>
                        <a:pt x="272" y="44"/>
                      </a:lnTo>
                      <a:lnTo>
                        <a:pt x="270" y="45"/>
                      </a:lnTo>
                      <a:lnTo>
                        <a:pt x="269" y="46"/>
                      </a:lnTo>
                      <a:lnTo>
                        <a:pt x="268" y="47"/>
                      </a:lnTo>
                      <a:lnTo>
                        <a:pt x="268" y="48"/>
                      </a:lnTo>
                      <a:lnTo>
                        <a:pt x="124" y="48"/>
                      </a:lnTo>
                      <a:lnTo>
                        <a:pt x="124" y="47"/>
                      </a:lnTo>
                      <a:lnTo>
                        <a:pt x="123" y="46"/>
                      </a:lnTo>
                      <a:lnTo>
                        <a:pt x="121" y="45"/>
                      </a:lnTo>
                      <a:lnTo>
                        <a:pt x="119" y="44"/>
                      </a:lnTo>
                      <a:lnTo>
                        <a:pt x="118" y="45"/>
                      </a:lnTo>
                      <a:lnTo>
                        <a:pt x="116" y="46"/>
                      </a:lnTo>
                      <a:lnTo>
                        <a:pt x="115" y="47"/>
                      </a:lnTo>
                      <a:lnTo>
                        <a:pt x="115" y="48"/>
                      </a:lnTo>
                      <a:lnTo>
                        <a:pt x="108" y="48"/>
                      </a:lnTo>
                      <a:lnTo>
                        <a:pt x="108" y="47"/>
                      </a:lnTo>
                      <a:lnTo>
                        <a:pt x="107" y="46"/>
                      </a:lnTo>
                      <a:lnTo>
                        <a:pt x="106" y="45"/>
                      </a:lnTo>
                      <a:lnTo>
                        <a:pt x="104" y="44"/>
                      </a:lnTo>
                      <a:lnTo>
                        <a:pt x="102" y="45"/>
                      </a:lnTo>
                      <a:lnTo>
                        <a:pt x="101" y="46"/>
                      </a:lnTo>
                      <a:lnTo>
                        <a:pt x="100" y="47"/>
                      </a:lnTo>
                      <a:lnTo>
                        <a:pt x="99" y="48"/>
                      </a:lnTo>
                      <a:lnTo>
                        <a:pt x="61" y="48"/>
                      </a:lnTo>
                      <a:lnTo>
                        <a:pt x="60" y="47"/>
                      </a:lnTo>
                      <a:lnTo>
                        <a:pt x="59" y="46"/>
                      </a:lnTo>
                      <a:lnTo>
                        <a:pt x="58" y="45"/>
                      </a:lnTo>
                      <a:lnTo>
                        <a:pt x="56" y="44"/>
                      </a:lnTo>
                      <a:lnTo>
                        <a:pt x="54" y="45"/>
                      </a:lnTo>
                      <a:lnTo>
                        <a:pt x="53" y="46"/>
                      </a:lnTo>
                      <a:lnTo>
                        <a:pt x="52" y="47"/>
                      </a:lnTo>
                      <a:lnTo>
                        <a:pt x="52" y="48"/>
                      </a:lnTo>
                      <a:lnTo>
                        <a:pt x="38" y="48"/>
                      </a:lnTo>
                      <a:lnTo>
                        <a:pt x="38" y="47"/>
                      </a:lnTo>
                      <a:lnTo>
                        <a:pt x="37" y="46"/>
                      </a:lnTo>
                      <a:lnTo>
                        <a:pt x="35" y="45"/>
                      </a:lnTo>
                      <a:lnTo>
                        <a:pt x="34" y="44"/>
                      </a:lnTo>
                      <a:lnTo>
                        <a:pt x="32" y="45"/>
                      </a:lnTo>
                      <a:lnTo>
                        <a:pt x="30" y="46"/>
                      </a:lnTo>
                      <a:lnTo>
                        <a:pt x="29" y="47"/>
                      </a:lnTo>
                      <a:lnTo>
                        <a:pt x="29" y="48"/>
                      </a:lnTo>
                      <a:lnTo>
                        <a:pt x="20" y="48"/>
                      </a:lnTo>
                      <a:lnTo>
                        <a:pt x="20" y="47"/>
                      </a:lnTo>
                      <a:lnTo>
                        <a:pt x="19" y="46"/>
                      </a:lnTo>
                      <a:lnTo>
                        <a:pt x="17" y="45"/>
                      </a:lnTo>
                      <a:lnTo>
                        <a:pt x="16" y="44"/>
                      </a:lnTo>
                      <a:lnTo>
                        <a:pt x="14" y="45"/>
                      </a:lnTo>
                      <a:lnTo>
                        <a:pt x="12" y="46"/>
                      </a:lnTo>
                      <a:lnTo>
                        <a:pt x="11" y="47"/>
                      </a:lnTo>
                      <a:lnTo>
                        <a:pt x="11" y="48"/>
                      </a:lnTo>
                      <a:lnTo>
                        <a:pt x="0" y="48"/>
                      </a:lnTo>
                    </a:path>
                  </a:pathLst>
                </a:custGeom>
                <a:noFill/>
                <a:ln w="1440">
                  <a:solidFill>
                    <a:srgbClr val="ff00ff"/>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105" name=""/>
                <p:cNvSpPr/>
                <p:nvPr/>
              </p:nvSpPr>
              <p:spPr>
                <a:xfrm>
                  <a:off x="7227000" y="3848760"/>
                  <a:ext cx="14760" cy="1152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ff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6" name=""/>
                <p:cNvSpPr/>
                <p:nvPr/>
              </p:nvSpPr>
              <p:spPr>
                <a:xfrm>
                  <a:off x="6615000" y="2611800"/>
                  <a:ext cx="613800" cy="1216440"/>
                </a:xfrm>
                <a:custGeom>
                  <a:avLst/>
                  <a:gdLst/>
                  <a:ahLst/>
                  <a:rect l="l" t="t" r="r" b="b"/>
                  <a:pathLst>
                    <a:path w="580" h="911">
                      <a:moveTo>
                        <a:pt x="0" y="0"/>
                      </a:moveTo>
                      <a:lnTo>
                        <a:pt x="0" y="148"/>
                      </a:lnTo>
                      <a:lnTo>
                        <a:pt x="5" y="148"/>
                      </a:lnTo>
                      <a:lnTo>
                        <a:pt x="5" y="147"/>
                      </a:lnTo>
                      <a:lnTo>
                        <a:pt x="6" y="145"/>
                      </a:lnTo>
                      <a:lnTo>
                        <a:pt x="8" y="145"/>
                      </a:lnTo>
                      <a:lnTo>
                        <a:pt x="9" y="145"/>
                      </a:lnTo>
                      <a:lnTo>
                        <a:pt x="11" y="145"/>
                      </a:lnTo>
                      <a:lnTo>
                        <a:pt x="12" y="145"/>
                      </a:lnTo>
                      <a:lnTo>
                        <a:pt x="13" y="147"/>
                      </a:lnTo>
                      <a:lnTo>
                        <a:pt x="14" y="148"/>
                      </a:lnTo>
                      <a:lnTo>
                        <a:pt x="29" y="148"/>
                      </a:lnTo>
                      <a:lnTo>
                        <a:pt x="29" y="147"/>
                      </a:lnTo>
                      <a:lnTo>
                        <a:pt x="31" y="145"/>
                      </a:lnTo>
                      <a:lnTo>
                        <a:pt x="32" y="145"/>
                      </a:lnTo>
                      <a:lnTo>
                        <a:pt x="34" y="145"/>
                      </a:lnTo>
                      <a:lnTo>
                        <a:pt x="35" y="145"/>
                      </a:lnTo>
                      <a:lnTo>
                        <a:pt x="37" y="145"/>
                      </a:lnTo>
                      <a:lnTo>
                        <a:pt x="38" y="147"/>
                      </a:lnTo>
                      <a:lnTo>
                        <a:pt x="38" y="148"/>
                      </a:lnTo>
                      <a:lnTo>
                        <a:pt x="96" y="148"/>
                      </a:lnTo>
                      <a:lnTo>
                        <a:pt x="97" y="147"/>
                      </a:lnTo>
                      <a:lnTo>
                        <a:pt x="98" y="145"/>
                      </a:lnTo>
                      <a:lnTo>
                        <a:pt x="99" y="145"/>
                      </a:lnTo>
                      <a:lnTo>
                        <a:pt x="101" y="145"/>
                      </a:lnTo>
                      <a:lnTo>
                        <a:pt x="103" y="145"/>
                      </a:lnTo>
                      <a:lnTo>
                        <a:pt x="104" y="145"/>
                      </a:lnTo>
                      <a:lnTo>
                        <a:pt x="105" y="147"/>
                      </a:lnTo>
                      <a:lnTo>
                        <a:pt x="106" y="148"/>
                      </a:lnTo>
                      <a:lnTo>
                        <a:pt x="171" y="148"/>
                      </a:lnTo>
                      <a:lnTo>
                        <a:pt x="171" y="147"/>
                      </a:lnTo>
                      <a:lnTo>
                        <a:pt x="172" y="145"/>
                      </a:lnTo>
                      <a:lnTo>
                        <a:pt x="174" y="145"/>
                      </a:lnTo>
                      <a:lnTo>
                        <a:pt x="175" y="145"/>
                      </a:lnTo>
                      <a:lnTo>
                        <a:pt x="177" y="145"/>
                      </a:lnTo>
                      <a:lnTo>
                        <a:pt x="178" y="145"/>
                      </a:lnTo>
                      <a:lnTo>
                        <a:pt x="179" y="147"/>
                      </a:lnTo>
                      <a:lnTo>
                        <a:pt x="180" y="148"/>
                      </a:lnTo>
                      <a:lnTo>
                        <a:pt x="198" y="148"/>
                      </a:lnTo>
                      <a:lnTo>
                        <a:pt x="198" y="147"/>
                      </a:lnTo>
                      <a:lnTo>
                        <a:pt x="199" y="145"/>
                      </a:lnTo>
                      <a:lnTo>
                        <a:pt x="200" y="145"/>
                      </a:lnTo>
                      <a:lnTo>
                        <a:pt x="202" y="145"/>
                      </a:lnTo>
                      <a:lnTo>
                        <a:pt x="204" y="145"/>
                      </a:lnTo>
                      <a:lnTo>
                        <a:pt x="205" y="145"/>
                      </a:lnTo>
                      <a:lnTo>
                        <a:pt x="206" y="147"/>
                      </a:lnTo>
                      <a:lnTo>
                        <a:pt x="207" y="148"/>
                      </a:lnTo>
                      <a:lnTo>
                        <a:pt x="270" y="148"/>
                      </a:lnTo>
                      <a:lnTo>
                        <a:pt x="270" y="147"/>
                      </a:lnTo>
                      <a:lnTo>
                        <a:pt x="271" y="145"/>
                      </a:lnTo>
                      <a:lnTo>
                        <a:pt x="273" y="145"/>
                      </a:lnTo>
                      <a:lnTo>
                        <a:pt x="274" y="145"/>
                      </a:lnTo>
                      <a:lnTo>
                        <a:pt x="276" y="145"/>
                      </a:lnTo>
                      <a:lnTo>
                        <a:pt x="278" y="145"/>
                      </a:lnTo>
                      <a:lnTo>
                        <a:pt x="278" y="147"/>
                      </a:lnTo>
                      <a:lnTo>
                        <a:pt x="279" y="148"/>
                      </a:lnTo>
                      <a:lnTo>
                        <a:pt x="310" y="148"/>
                      </a:lnTo>
                      <a:lnTo>
                        <a:pt x="311" y="147"/>
                      </a:lnTo>
                      <a:lnTo>
                        <a:pt x="312" y="145"/>
                      </a:lnTo>
                      <a:lnTo>
                        <a:pt x="313" y="145"/>
                      </a:lnTo>
                      <a:lnTo>
                        <a:pt x="315" y="145"/>
                      </a:lnTo>
                      <a:lnTo>
                        <a:pt x="317" y="145"/>
                      </a:lnTo>
                      <a:lnTo>
                        <a:pt x="318" y="145"/>
                      </a:lnTo>
                      <a:lnTo>
                        <a:pt x="319" y="147"/>
                      </a:lnTo>
                      <a:lnTo>
                        <a:pt x="319" y="148"/>
                      </a:lnTo>
                      <a:lnTo>
                        <a:pt x="331" y="148"/>
                      </a:lnTo>
                      <a:lnTo>
                        <a:pt x="331" y="147"/>
                      </a:lnTo>
                      <a:lnTo>
                        <a:pt x="332" y="145"/>
                      </a:lnTo>
                      <a:lnTo>
                        <a:pt x="334" y="145"/>
                      </a:lnTo>
                      <a:lnTo>
                        <a:pt x="335" y="145"/>
                      </a:lnTo>
                      <a:lnTo>
                        <a:pt x="337" y="145"/>
                      </a:lnTo>
                      <a:lnTo>
                        <a:pt x="339" y="145"/>
                      </a:lnTo>
                      <a:lnTo>
                        <a:pt x="339" y="147"/>
                      </a:lnTo>
                      <a:lnTo>
                        <a:pt x="340" y="148"/>
                      </a:lnTo>
                      <a:lnTo>
                        <a:pt x="359" y="148"/>
                      </a:lnTo>
                      <a:lnTo>
                        <a:pt x="359" y="147"/>
                      </a:lnTo>
                      <a:lnTo>
                        <a:pt x="360" y="145"/>
                      </a:lnTo>
                      <a:lnTo>
                        <a:pt x="362" y="145"/>
                      </a:lnTo>
                      <a:lnTo>
                        <a:pt x="364" y="145"/>
                      </a:lnTo>
                      <a:lnTo>
                        <a:pt x="365" y="145"/>
                      </a:lnTo>
                      <a:lnTo>
                        <a:pt x="367" y="145"/>
                      </a:lnTo>
                      <a:lnTo>
                        <a:pt x="368" y="147"/>
                      </a:lnTo>
                      <a:lnTo>
                        <a:pt x="368" y="148"/>
                      </a:lnTo>
                      <a:lnTo>
                        <a:pt x="394" y="148"/>
                      </a:lnTo>
                      <a:lnTo>
                        <a:pt x="394" y="147"/>
                      </a:lnTo>
                      <a:lnTo>
                        <a:pt x="395" y="145"/>
                      </a:lnTo>
                      <a:lnTo>
                        <a:pt x="396" y="145"/>
                      </a:lnTo>
                      <a:lnTo>
                        <a:pt x="398" y="145"/>
                      </a:lnTo>
                      <a:lnTo>
                        <a:pt x="400" y="145"/>
                      </a:lnTo>
                      <a:lnTo>
                        <a:pt x="401" y="145"/>
                      </a:lnTo>
                      <a:lnTo>
                        <a:pt x="402" y="147"/>
                      </a:lnTo>
                      <a:lnTo>
                        <a:pt x="403" y="148"/>
                      </a:lnTo>
                      <a:lnTo>
                        <a:pt x="416" y="148"/>
                      </a:lnTo>
                      <a:lnTo>
                        <a:pt x="416" y="911"/>
                      </a:lnTo>
                      <a:lnTo>
                        <a:pt x="425" y="911"/>
                      </a:lnTo>
                      <a:lnTo>
                        <a:pt x="426" y="909"/>
                      </a:lnTo>
                      <a:lnTo>
                        <a:pt x="426" y="908"/>
                      </a:lnTo>
                      <a:lnTo>
                        <a:pt x="428" y="907"/>
                      </a:lnTo>
                      <a:lnTo>
                        <a:pt x="430" y="907"/>
                      </a:lnTo>
                      <a:lnTo>
                        <a:pt x="431" y="907"/>
                      </a:lnTo>
                      <a:lnTo>
                        <a:pt x="433" y="908"/>
                      </a:lnTo>
                      <a:lnTo>
                        <a:pt x="434" y="909"/>
                      </a:lnTo>
                      <a:lnTo>
                        <a:pt x="434" y="911"/>
                      </a:lnTo>
                      <a:lnTo>
                        <a:pt x="445" y="911"/>
                      </a:lnTo>
                      <a:lnTo>
                        <a:pt x="446" y="909"/>
                      </a:lnTo>
                      <a:lnTo>
                        <a:pt x="447" y="908"/>
                      </a:lnTo>
                      <a:lnTo>
                        <a:pt x="448" y="907"/>
                      </a:lnTo>
                      <a:lnTo>
                        <a:pt x="450" y="907"/>
                      </a:lnTo>
                      <a:lnTo>
                        <a:pt x="452" y="907"/>
                      </a:lnTo>
                      <a:lnTo>
                        <a:pt x="453" y="908"/>
                      </a:lnTo>
                      <a:lnTo>
                        <a:pt x="454" y="909"/>
                      </a:lnTo>
                      <a:lnTo>
                        <a:pt x="454" y="911"/>
                      </a:lnTo>
                      <a:lnTo>
                        <a:pt x="498" y="911"/>
                      </a:lnTo>
                      <a:lnTo>
                        <a:pt x="498" y="909"/>
                      </a:lnTo>
                      <a:lnTo>
                        <a:pt x="499" y="908"/>
                      </a:lnTo>
                      <a:lnTo>
                        <a:pt x="501" y="907"/>
                      </a:lnTo>
                      <a:lnTo>
                        <a:pt x="502" y="907"/>
                      </a:lnTo>
                      <a:lnTo>
                        <a:pt x="504" y="907"/>
                      </a:lnTo>
                      <a:lnTo>
                        <a:pt x="506" y="908"/>
                      </a:lnTo>
                      <a:lnTo>
                        <a:pt x="506" y="909"/>
                      </a:lnTo>
                      <a:lnTo>
                        <a:pt x="507" y="911"/>
                      </a:lnTo>
                      <a:lnTo>
                        <a:pt x="512" y="911"/>
                      </a:lnTo>
                      <a:lnTo>
                        <a:pt x="512" y="909"/>
                      </a:lnTo>
                      <a:lnTo>
                        <a:pt x="513" y="908"/>
                      </a:lnTo>
                      <a:lnTo>
                        <a:pt x="515" y="907"/>
                      </a:lnTo>
                      <a:lnTo>
                        <a:pt x="517" y="907"/>
                      </a:lnTo>
                      <a:lnTo>
                        <a:pt x="518" y="907"/>
                      </a:lnTo>
                      <a:lnTo>
                        <a:pt x="520" y="908"/>
                      </a:lnTo>
                      <a:lnTo>
                        <a:pt x="521" y="909"/>
                      </a:lnTo>
                      <a:lnTo>
                        <a:pt x="521" y="911"/>
                      </a:lnTo>
                      <a:lnTo>
                        <a:pt x="530" y="911"/>
                      </a:lnTo>
                      <a:lnTo>
                        <a:pt x="530" y="909"/>
                      </a:lnTo>
                      <a:lnTo>
                        <a:pt x="531" y="907"/>
                      </a:lnTo>
                      <a:lnTo>
                        <a:pt x="533" y="906"/>
                      </a:lnTo>
                      <a:lnTo>
                        <a:pt x="535" y="905"/>
                      </a:lnTo>
                      <a:lnTo>
                        <a:pt x="537" y="904"/>
                      </a:lnTo>
                      <a:lnTo>
                        <a:pt x="540" y="904"/>
                      </a:lnTo>
                      <a:lnTo>
                        <a:pt x="542" y="905"/>
                      </a:lnTo>
                      <a:lnTo>
                        <a:pt x="544" y="906"/>
                      </a:lnTo>
                      <a:lnTo>
                        <a:pt x="545" y="907"/>
                      </a:lnTo>
                      <a:lnTo>
                        <a:pt x="546" y="909"/>
                      </a:lnTo>
                      <a:lnTo>
                        <a:pt x="547" y="911"/>
                      </a:lnTo>
                      <a:lnTo>
                        <a:pt x="550" y="911"/>
                      </a:lnTo>
                      <a:lnTo>
                        <a:pt x="551" y="909"/>
                      </a:lnTo>
                      <a:lnTo>
                        <a:pt x="551" y="908"/>
                      </a:lnTo>
                      <a:lnTo>
                        <a:pt x="553" y="907"/>
                      </a:lnTo>
                      <a:lnTo>
                        <a:pt x="555" y="907"/>
                      </a:lnTo>
                      <a:lnTo>
                        <a:pt x="556" y="907"/>
                      </a:lnTo>
                      <a:lnTo>
                        <a:pt x="558" y="908"/>
                      </a:lnTo>
                      <a:lnTo>
                        <a:pt x="559" y="909"/>
                      </a:lnTo>
                      <a:lnTo>
                        <a:pt x="559" y="911"/>
                      </a:lnTo>
                      <a:lnTo>
                        <a:pt x="580" y="9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7227000" y="382176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08" name=""/>
                <p:cNvSpPr/>
                <p:nvPr/>
              </p:nvSpPr>
              <p:spPr>
                <a:xfrm>
                  <a:off x="5879160" y="2366280"/>
                  <a:ext cx="1572120" cy="1392840"/>
                </a:xfrm>
                <a:custGeom>
                  <a:avLst/>
                  <a:gdLst/>
                  <a:ahLst/>
                  <a:rect l="l" t="t" r="r" b="b"/>
                  <a:pathLst>
                    <a:path w="1485" h="1043">
                      <a:moveTo>
                        <a:pt x="0" y="1043"/>
                      </a:moveTo>
                      <a:lnTo>
                        <a:pt x="0" y="443"/>
                      </a:lnTo>
                      <a:lnTo>
                        <a:pt x="48" y="443"/>
                      </a:lnTo>
                      <a:lnTo>
                        <a:pt x="48" y="441"/>
                      </a:lnTo>
                      <a:lnTo>
                        <a:pt x="49" y="440"/>
                      </a:lnTo>
                      <a:lnTo>
                        <a:pt x="50" y="440"/>
                      </a:lnTo>
                      <a:lnTo>
                        <a:pt x="52" y="439"/>
                      </a:lnTo>
                      <a:lnTo>
                        <a:pt x="54" y="440"/>
                      </a:lnTo>
                      <a:lnTo>
                        <a:pt x="55" y="440"/>
                      </a:lnTo>
                      <a:lnTo>
                        <a:pt x="56" y="441"/>
                      </a:lnTo>
                      <a:lnTo>
                        <a:pt x="57" y="443"/>
                      </a:lnTo>
                      <a:lnTo>
                        <a:pt x="87" y="443"/>
                      </a:lnTo>
                      <a:lnTo>
                        <a:pt x="87" y="441"/>
                      </a:lnTo>
                      <a:lnTo>
                        <a:pt x="88" y="440"/>
                      </a:lnTo>
                      <a:lnTo>
                        <a:pt x="90" y="440"/>
                      </a:lnTo>
                      <a:lnTo>
                        <a:pt x="91" y="439"/>
                      </a:lnTo>
                      <a:lnTo>
                        <a:pt x="93" y="440"/>
                      </a:lnTo>
                      <a:lnTo>
                        <a:pt x="95" y="440"/>
                      </a:lnTo>
                      <a:lnTo>
                        <a:pt x="96" y="441"/>
                      </a:lnTo>
                      <a:lnTo>
                        <a:pt x="96" y="443"/>
                      </a:lnTo>
                      <a:lnTo>
                        <a:pt x="104" y="443"/>
                      </a:lnTo>
                      <a:lnTo>
                        <a:pt x="105" y="441"/>
                      </a:lnTo>
                      <a:lnTo>
                        <a:pt x="106" y="440"/>
                      </a:lnTo>
                      <a:lnTo>
                        <a:pt x="107" y="439"/>
                      </a:lnTo>
                      <a:lnTo>
                        <a:pt x="109" y="438"/>
                      </a:lnTo>
                      <a:lnTo>
                        <a:pt x="111" y="438"/>
                      </a:lnTo>
                      <a:lnTo>
                        <a:pt x="113" y="438"/>
                      </a:lnTo>
                      <a:lnTo>
                        <a:pt x="115" y="439"/>
                      </a:lnTo>
                      <a:lnTo>
                        <a:pt x="117" y="440"/>
                      </a:lnTo>
                      <a:lnTo>
                        <a:pt x="117" y="441"/>
                      </a:lnTo>
                      <a:lnTo>
                        <a:pt x="118" y="443"/>
                      </a:lnTo>
                      <a:lnTo>
                        <a:pt x="141" y="443"/>
                      </a:lnTo>
                      <a:lnTo>
                        <a:pt x="142" y="441"/>
                      </a:lnTo>
                      <a:lnTo>
                        <a:pt x="143" y="440"/>
                      </a:lnTo>
                      <a:lnTo>
                        <a:pt x="144" y="440"/>
                      </a:lnTo>
                      <a:lnTo>
                        <a:pt x="146" y="439"/>
                      </a:lnTo>
                      <a:lnTo>
                        <a:pt x="148" y="440"/>
                      </a:lnTo>
                      <a:lnTo>
                        <a:pt x="149" y="440"/>
                      </a:lnTo>
                      <a:lnTo>
                        <a:pt x="150" y="441"/>
                      </a:lnTo>
                      <a:lnTo>
                        <a:pt x="150" y="443"/>
                      </a:lnTo>
                      <a:lnTo>
                        <a:pt x="166" y="443"/>
                      </a:lnTo>
                      <a:lnTo>
                        <a:pt x="166" y="441"/>
                      </a:lnTo>
                      <a:lnTo>
                        <a:pt x="167" y="440"/>
                      </a:lnTo>
                      <a:lnTo>
                        <a:pt x="168" y="440"/>
                      </a:lnTo>
                      <a:lnTo>
                        <a:pt x="170" y="439"/>
                      </a:lnTo>
                      <a:lnTo>
                        <a:pt x="172" y="440"/>
                      </a:lnTo>
                      <a:lnTo>
                        <a:pt x="173" y="440"/>
                      </a:lnTo>
                      <a:lnTo>
                        <a:pt x="174" y="441"/>
                      </a:lnTo>
                      <a:lnTo>
                        <a:pt x="175" y="443"/>
                      </a:lnTo>
                      <a:lnTo>
                        <a:pt x="199" y="443"/>
                      </a:lnTo>
                      <a:lnTo>
                        <a:pt x="200" y="441"/>
                      </a:lnTo>
                      <a:lnTo>
                        <a:pt x="201" y="440"/>
                      </a:lnTo>
                      <a:lnTo>
                        <a:pt x="202" y="440"/>
                      </a:lnTo>
                      <a:lnTo>
                        <a:pt x="204" y="439"/>
                      </a:lnTo>
                      <a:lnTo>
                        <a:pt x="206" y="440"/>
                      </a:lnTo>
                      <a:lnTo>
                        <a:pt x="207" y="440"/>
                      </a:lnTo>
                      <a:lnTo>
                        <a:pt x="208" y="441"/>
                      </a:lnTo>
                      <a:lnTo>
                        <a:pt x="208" y="443"/>
                      </a:lnTo>
                      <a:lnTo>
                        <a:pt x="213" y="443"/>
                      </a:lnTo>
                      <a:lnTo>
                        <a:pt x="213" y="441"/>
                      </a:lnTo>
                      <a:lnTo>
                        <a:pt x="214" y="440"/>
                      </a:lnTo>
                      <a:lnTo>
                        <a:pt x="216" y="440"/>
                      </a:lnTo>
                      <a:lnTo>
                        <a:pt x="217" y="439"/>
                      </a:lnTo>
                      <a:lnTo>
                        <a:pt x="219" y="440"/>
                      </a:lnTo>
                      <a:lnTo>
                        <a:pt x="221" y="440"/>
                      </a:lnTo>
                      <a:lnTo>
                        <a:pt x="222" y="441"/>
                      </a:lnTo>
                      <a:lnTo>
                        <a:pt x="222" y="443"/>
                      </a:lnTo>
                      <a:lnTo>
                        <a:pt x="227" y="443"/>
                      </a:lnTo>
                      <a:lnTo>
                        <a:pt x="227" y="441"/>
                      </a:lnTo>
                      <a:lnTo>
                        <a:pt x="228" y="440"/>
                      </a:lnTo>
                      <a:lnTo>
                        <a:pt x="230" y="440"/>
                      </a:lnTo>
                      <a:lnTo>
                        <a:pt x="231" y="439"/>
                      </a:lnTo>
                      <a:lnTo>
                        <a:pt x="233" y="440"/>
                      </a:lnTo>
                      <a:lnTo>
                        <a:pt x="234" y="440"/>
                      </a:lnTo>
                      <a:lnTo>
                        <a:pt x="235" y="441"/>
                      </a:lnTo>
                      <a:lnTo>
                        <a:pt x="236" y="443"/>
                      </a:lnTo>
                      <a:lnTo>
                        <a:pt x="250" y="443"/>
                      </a:lnTo>
                      <a:lnTo>
                        <a:pt x="250" y="6"/>
                      </a:lnTo>
                      <a:lnTo>
                        <a:pt x="283" y="6"/>
                      </a:lnTo>
                      <a:lnTo>
                        <a:pt x="283" y="4"/>
                      </a:lnTo>
                      <a:lnTo>
                        <a:pt x="284" y="3"/>
                      </a:lnTo>
                      <a:lnTo>
                        <a:pt x="285" y="1"/>
                      </a:lnTo>
                      <a:lnTo>
                        <a:pt x="287" y="1"/>
                      </a:lnTo>
                      <a:lnTo>
                        <a:pt x="289" y="0"/>
                      </a:lnTo>
                      <a:lnTo>
                        <a:pt x="292" y="0"/>
                      </a:lnTo>
                      <a:lnTo>
                        <a:pt x="294" y="1"/>
                      </a:lnTo>
                      <a:lnTo>
                        <a:pt x="296" y="1"/>
                      </a:lnTo>
                      <a:lnTo>
                        <a:pt x="297" y="3"/>
                      </a:lnTo>
                      <a:lnTo>
                        <a:pt x="298" y="4"/>
                      </a:lnTo>
                      <a:lnTo>
                        <a:pt x="298" y="6"/>
                      </a:lnTo>
                      <a:lnTo>
                        <a:pt x="303" y="6"/>
                      </a:lnTo>
                      <a:lnTo>
                        <a:pt x="303" y="4"/>
                      </a:lnTo>
                      <a:lnTo>
                        <a:pt x="304" y="3"/>
                      </a:lnTo>
                      <a:lnTo>
                        <a:pt x="306" y="1"/>
                      </a:lnTo>
                      <a:lnTo>
                        <a:pt x="308" y="1"/>
                      </a:lnTo>
                      <a:lnTo>
                        <a:pt x="310" y="0"/>
                      </a:lnTo>
                      <a:lnTo>
                        <a:pt x="312" y="0"/>
                      </a:lnTo>
                      <a:lnTo>
                        <a:pt x="314" y="1"/>
                      </a:lnTo>
                      <a:lnTo>
                        <a:pt x="316" y="1"/>
                      </a:lnTo>
                      <a:lnTo>
                        <a:pt x="317" y="3"/>
                      </a:lnTo>
                      <a:lnTo>
                        <a:pt x="318" y="4"/>
                      </a:lnTo>
                      <a:lnTo>
                        <a:pt x="319" y="6"/>
                      </a:lnTo>
                      <a:lnTo>
                        <a:pt x="326" y="6"/>
                      </a:lnTo>
                      <a:lnTo>
                        <a:pt x="327" y="5"/>
                      </a:lnTo>
                      <a:lnTo>
                        <a:pt x="328" y="4"/>
                      </a:lnTo>
                      <a:lnTo>
                        <a:pt x="329" y="3"/>
                      </a:lnTo>
                      <a:lnTo>
                        <a:pt x="331" y="3"/>
                      </a:lnTo>
                      <a:lnTo>
                        <a:pt x="333" y="3"/>
                      </a:lnTo>
                      <a:lnTo>
                        <a:pt x="334" y="4"/>
                      </a:lnTo>
                      <a:lnTo>
                        <a:pt x="335" y="5"/>
                      </a:lnTo>
                      <a:lnTo>
                        <a:pt x="335" y="6"/>
                      </a:lnTo>
                      <a:lnTo>
                        <a:pt x="360" y="6"/>
                      </a:lnTo>
                      <a:lnTo>
                        <a:pt x="360" y="5"/>
                      </a:lnTo>
                      <a:lnTo>
                        <a:pt x="361" y="4"/>
                      </a:lnTo>
                      <a:lnTo>
                        <a:pt x="363" y="3"/>
                      </a:lnTo>
                      <a:lnTo>
                        <a:pt x="364" y="3"/>
                      </a:lnTo>
                      <a:lnTo>
                        <a:pt x="366" y="3"/>
                      </a:lnTo>
                      <a:lnTo>
                        <a:pt x="368" y="4"/>
                      </a:lnTo>
                      <a:lnTo>
                        <a:pt x="368" y="5"/>
                      </a:lnTo>
                      <a:lnTo>
                        <a:pt x="369" y="6"/>
                      </a:lnTo>
                      <a:lnTo>
                        <a:pt x="397" y="6"/>
                      </a:lnTo>
                      <a:lnTo>
                        <a:pt x="398" y="5"/>
                      </a:lnTo>
                      <a:lnTo>
                        <a:pt x="399" y="4"/>
                      </a:lnTo>
                      <a:lnTo>
                        <a:pt x="400" y="3"/>
                      </a:lnTo>
                      <a:lnTo>
                        <a:pt x="402" y="3"/>
                      </a:lnTo>
                      <a:lnTo>
                        <a:pt x="404" y="3"/>
                      </a:lnTo>
                      <a:lnTo>
                        <a:pt x="405" y="4"/>
                      </a:lnTo>
                      <a:lnTo>
                        <a:pt x="406" y="5"/>
                      </a:lnTo>
                      <a:lnTo>
                        <a:pt x="406" y="6"/>
                      </a:lnTo>
                      <a:lnTo>
                        <a:pt x="440" y="6"/>
                      </a:lnTo>
                      <a:lnTo>
                        <a:pt x="440" y="5"/>
                      </a:lnTo>
                      <a:lnTo>
                        <a:pt x="441" y="4"/>
                      </a:lnTo>
                      <a:lnTo>
                        <a:pt x="442" y="3"/>
                      </a:lnTo>
                      <a:lnTo>
                        <a:pt x="444" y="3"/>
                      </a:lnTo>
                      <a:lnTo>
                        <a:pt x="446" y="3"/>
                      </a:lnTo>
                      <a:lnTo>
                        <a:pt x="447" y="4"/>
                      </a:lnTo>
                      <a:lnTo>
                        <a:pt x="448" y="5"/>
                      </a:lnTo>
                      <a:lnTo>
                        <a:pt x="449" y="6"/>
                      </a:lnTo>
                      <a:lnTo>
                        <a:pt x="582" y="6"/>
                      </a:lnTo>
                      <a:lnTo>
                        <a:pt x="583" y="5"/>
                      </a:lnTo>
                      <a:lnTo>
                        <a:pt x="584" y="4"/>
                      </a:lnTo>
                      <a:lnTo>
                        <a:pt x="585" y="3"/>
                      </a:lnTo>
                      <a:lnTo>
                        <a:pt x="587" y="3"/>
                      </a:lnTo>
                      <a:lnTo>
                        <a:pt x="589" y="3"/>
                      </a:lnTo>
                      <a:lnTo>
                        <a:pt x="590" y="4"/>
                      </a:lnTo>
                      <a:lnTo>
                        <a:pt x="591" y="5"/>
                      </a:lnTo>
                      <a:lnTo>
                        <a:pt x="591" y="6"/>
                      </a:lnTo>
                      <a:lnTo>
                        <a:pt x="682" y="6"/>
                      </a:lnTo>
                      <a:lnTo>
                        <a:pt x="683" y="5"/>
                      </a:lnTo>
                      <a:lnTo>
                        <a:pt x="683" y="4"/>
                      </a:lnTo>
                      <a:lnTo>
                        <a:pt x="685" y="3"/>
                      </a:lnTo>
                      <a:lnTo>
                        <a:pt x="687" y="3"/>
                      </a:lnTo>
                      <a:lnTo>
                        <a:pt x="688" y="3"/>
                      </a:lnTo>
                      <a:lnTo>
                        <a:pt x="690" y="4"/>
                      </a:lnTo>
                      <a:lnTo>
                        <a:pt x="691" y="5"/>
                      </a:lnTo>
                      <a:lnTo>
                        <a:pt x="691" y="6"/>
                      </a:lnTo>
                      <a:lnTo>
                        <a:pt x="727" y="6"/>
                      </a:lnTo>
                      <a:lnTo>
                        <a:pt x="727" y="5"/>
                      </a:lnTo>
                      <a:lnTo>
                        <a:pt x="728" y="4"/>
                      </a:lnTo>
                      <a:lnTo>
                        <a:pt x="730" y="3"/>
                      </a:lnTo>
                      <a:lnTo>
                        <a:pt x="731" y="3"/>
                      </a:lnTo>
                      <a:lnTo>
                        <a:pt x="733" y="3"/>
                      </a:lnTo>
                      <a:lnTo>
                        <a:pt x="734" y="4"/>
                      </a:lnTo>
                      <a:lnTo>
                        <a:pt x="735" y="5"/>
                      </a:lnTo>
                      <a:lnTo>
                        <a:pt x="736" y="6"/>
                      </a:lnTo>
                      <a:lnTo>
                        <a:pt x="748" y="6"/>
                      </a:lnTo>
                      <a:lnTo>
                        <a:pt x="749" y="5"/>
                      </a:lnTo>
                      <a:lnTo>
                        <a:pt x="750" y="4"/>
                      </a:lnTo>
                      <a:lnTo>
                        <a:pt x="751" y="3"/>
                      </a:lnTo>
                      <a:lnTo>
                        <a:pt x="753" y="3"/>
                      </a:lnTo>
                      <a:lnTo>
                        <a:pt x="755" y="3"/>
                      </a:lnTo>
                      <a:lnTo>
                        <a:pt x="756" y="4"/>
                      </a:lnTo>
                      <a:lnTo>
                        <a:pt x="757" y="5"/>
                      </a:lnTo>
                      <a:lnTo>
                        <a:pt x="757" y="6"/>
                      </a:lnTo>
                      <a:lnTo>
                        <a:pt x="791" y="6"/>
                      </a:lnTo>
                      <a:lnTo>
                        <a:pt x="792" y="5"/>
                      </a:lnTo>
                      <a:lnTo>
                        <a:pt x="793" y="4"/>
                      </a:lnTo>
                      <a:lnTo>
                        <a:pt x="794" y="3"/>
                      </a:lnTo>
                      <a:lnTo>
                        <a:pt x="796" y="3"/>
                      </a:lnTo>
                      <a:lnTo>
                        <a:pt x="798" y="3"/>
                      </a:lnTo>
                      <a:lnTo>
                        <a:pt x="799" y="4"/>
                      </a:lnTo>
                      <a:lnTo>
                        <a:pt x="800" y="5"/>
                      </a:lnTo>
                      <a:lnTo>
                        <a:pt x="801" y="6"/>
                      </a:lnTo>
                      <a:lnTo>
                        <a:pt x="813" y="6"/>
                      </a:lnTo>
                      <a:lnTo>
                        <a:pt x="813" y="5"/>
                      </a:lnTo>
                      <a:lnTo>
                        <a:pt x="814" y="4"/>
                      </a:lnTo>
                      <a:lnTo>
                        <a:pt x="816" y="3"/>
                      </a:lnTo>
                      <a:lnTo>
                        <a:pt x="817" y="3"/>
                      </a:lnTo>
                      <a:lnTo>
                        <a:pt x="819" y="3"/>
                      </a:lnTo>
                      <a:lnTo>
                        <a:pt x="820" y="4"/>
                      </a:lnTo>
                      <a:lnTo>
                        <a:pt x="822" y="5"/>
                      </a:lnTo>
                      <a:lnTo>
                        <a:pt x="822" y="6"/>
                      </a:lnTo>
                      <a:lnTo>
                        <a:pt x="843" y="6"/>
                      </a:lnTo>
                      <a:lnTo>
                        <a:pt x="844" y="5"/>
                      </a:lnTo>
                      <a:lnTo>
                        <a:pt x="845" y="4"/>
                      </a:lnTo>
                      <a:lnTo>
                        <a:pt x="846" y="3"/>
                      </a:lnTo>
                      <a:lnTo>
                        <a:pt x="848" y="3"/>
                      </a:lnTo>
                      <a:lnTo>
                        <a:pt x="849" y="3"/>
                      </a:lnTo>
                      <a:lnTo>
                        <a:pt x="851" y="4"/>
                      </a:lnTo>
                      <a:lnTo>
                        <a:pt x="852" y="5"/>
                      </a:lnTo>
                      <a:lnTo>
                        <a:pt x="852" y="6"/>
                      </a:lnTo>
                      <a:lnTo>
                        <a:pt x="866" y="6"/>
                      </a:lnTo>
                      <a:lnTo>
                        <a:pt x="866" y="5"/>
                      </a:lnTo>
                      <a:lnTo>
                        <a:pt x="867" y="4"/>
                      </a:lnTo>
                      <a:lnTo>
                        <a:pt x="869" y="3"/>
                      </a:lnTo>
                      <a:lnTo>
                        <a:pt x="870" y="3"/>
                      </a:lnTo>
                      <a:lnTo>
                        <a:pt x="872" y="3"/>
                      </a:lnTo>
                      <a:lnTo>
                        <a:pt x="873" y="4"/>
                      </a:lnTo>
                      <a:lnTo>
                        <a:pt x="874" y="5"/>
                      </a:lnTo>
                      <a:lnTo>
                        <a:pt x="875" y="6"/>
                      </a:lnTo>
                      <a:lnTo>
                        <a:pt x="1155" y="6"/>
                      </a:lnTo>
                      <a:lnTo>
                        <a:pt x="1156" y="5"/>
                      </a:lnTo>
                      <a:lnTo>
                        <a:pt x="1156" y="4"/>
                      </a:lnTo>
                      <a:lnTo>
                        <a:pt x="1158" y="3"/>
                      </a:lnTo>
                      <a:lnTo>
                        <a:pt x="1160" y="3"/>
                      </a:lnTo>
                      <a:lnTo>
                        <a:pt x="1161" y="3"/>
                      </a:lnTo>
                      <a:lnTo>
                        <a:pt x="1163" y="4"/>
                      </a:lnTo>
                      <a:lnTo>
                        <a:pt x="1164" y="5"/>
                      </a:lnTo>
                      <a:lnTo>
                        <a:pt x="1164" y="6"/>
                      </a:lnTo>
                      <a:lnTo>
                        <a:pt x="1179" y="6"/>
                      </a:lnTo>
                      <a:lnTo>
                        <a:pt x="1180" y="5"/>
                      </a:lnTo>
                      <a:lnTo>
                        <a:pt x="1181" y="4"/>
                      </a:lnTo>
                      <a:lnTo>
                        <a:pt x="1182" y="3"/>
                      </a:lnTo>
                      <a:lnTo>
                        <a:pt x="1184" y="3"/>
                      </a:lnTo>
                      <a:lnTo>
                        <a:pt x="1186" y="3"/>
                      </a:lnTo>
                      <a:lnTo>
                        <a:pt x="1187" y="4"/>
                      </a:lnTo>
                      <a:lnTo>
                        <a:pt x="1188" y="5"/>
                      </a:lnTo>
                      <a:lnTo>
                        <a:pt x="1188" y="6"/>
                      </a:lnTo>
                      <a:lnTo>
                        <a:pt x="1207" y="6"/>
                      </a:lnTo>
                      <a:lnTo>
                        <a:pt x="1207" y="5"/>
                      </a:lnTo>
                      <a:lnTo>
                        <a:pt x="1208" y="4"/>
                      </a:lnTo>
                      <a:lnTo>
                        <a:pt x="1210" y="3"/>
                      </a:lnTo>
                      <a:lnTo>
                        <a:pt x="1212" y="3"/>
                      </a:lnTo>
                      <a:lnTo>
                        <a:pt x="1213" y="3"/>
                      </a:lnTo>
                      <a:lnTo>
                        <a:pt x="1215" y="4"/>
                      </a:lnTo>
                      <a:lnTo>
                        <a:pt x="1216" y="5"/>
                      </a:lnTo>
                      <a:lnTo>
                        <a:pt x="1216" y="6"/>
                      </a:lnTo>
                      <a:lnTo>
                        <a:pt x="1233" y="6"/>
                      </a:lnTo>
                      <a:lnTo>
                        <a:pt x="1233" y="5"/>
                      </a:lnTo>
                      <a:lnTo>
                        <a:pt x="1234" y="4"/>
                      </a:lnTo>
                      <a:lnTo>
                        <a:pt x="1236" y="3"/>
                      </a:lnTo>
                      <a:lnTo>
                        <a:pt x="1237" y="3"/>
                      </a:lnTo>
                      <a:lnTo>
                        <a:pt x="1239" y="3"/>
                      </a:lnTo>
                      <a:lnTo>
                        <a:pt x="1241" y="4"/>
                      </a:lnTo>
                      <a:lnTo>
                        <a:pt x="1241" y="5"/>
                      </a:lnTo>
                      <a:lnTo>
                        <a:pt x="1242" y="6"/>
                      </a:lnTo>
                      <a:lnTo>
                        <a:pt x="1255" y="6"/>
                      </a:lnTo>
                      <a:lnTo>
                        <a:pt x="1255" y="5"/>
                      </a:lnTo>
                      <a:lnTo>
                        <a:pt x="1256" y="4"/>
                      </a:lnTo>
                      <a:lnTo>
                        <a:pt x="1258" y="3"/>
                      </a:lnTo>
                      <a:lnTo>
                        <a:pt x="1259" y="3"/>
                      </a:lnTo>
                      <a:lnTo>
                        <a:pt x="1261" y="3"/>
                      </a:lnTo>
                      <a:lnTo>
                        <a:pt x="1263" y="4"/>
                      </a:lnTo>
                      <a:lnTo>
                        <a:pt x="1263" y="5"/>
                      </a:lnTo>
                      <a:lnTo>
                        <a:pt x="1264" y="6"/>
                      </a:lnTo>
                      <a:lnTo>
                        <a:pt x="1275" y="6"/>
                      </a:lnTo>
                      <a:lnTo>
                        <a:pt x="1276" y="5"/>
                      </a:lnTo>
                      <a:lnTo>
                        <a:pt x="1277" y="4"/>
                      </a:lnTo>
                      <a:lnTo>
                        <a:pt x="1278" y="3"/>
                      </a:lnTo>
                      <a:lnTo>
                        <a:pt x="1280" y="3"/>
                      </a:lnTo>
                      <a:lnTo>
                        <a:pt x="1282" y="3"/>
                      </a:lnTo>
                      <a:lnTo>
                        <a:pt x="1283" y="4"/>
                      </a:lnTo>
                      <a:lnTo>
                        <a:pt x="1284" y="5"/>
                      </a:lnTo>
                      <a:lnTo>
                        <a:pt x="1284" y="6"/>
                      </a:lnTo>
                      <a:lnTo>
                        <a:pt x="1302" y="6"/>
                      </a:lnTo>
                      <a:lnTo>
                        <a:pt x="1303" y="5"/>
                      </a:lnTo>
                      <a:lnTo>
                        <a:pt x="1304" y="4"/>
                      </a:lnTo>
                      <a:lnTo>
                        <a:pt x="1305" y="3"/>
                      </a:lnTo>
                      <a:lnTo>
                        <a:pt x="1307" y="3"/>
                      </a:lnTo>
                      <a:lnTo>
                        <a:pt x="1309" y="3"/>
                      </a:lnTo>
                      <a:lnTo>
                        <a:pt x="1310" y="4"/>
                      </a:lnTo>
                      <a:lnTo>
                        <a:pt x="1311" y="5"/>
                      </a:lnTo>
                      <a:lnTo>
                        <a:pt x="1312" y="6"/>
                      </a:lnTo>
                      <a:lnTo>
                        <a:pt x="1343" y="6"/>
                      </a:lnTo>
                      <a:lnTo>
                        <a:pt x="1344" y="5"/>
                      </a:lnTo>
                      <a:lnTo>
                        <a:pt x="1344" y="4"/>
                      </a:lnTo>
                      <a:lnTo>
                        <a:pt x="1346" y="3"/>
                      </a:lnTo>
                      <a:lnTo>
                        <a:pt x="1348" y="3"/>
                      </a:lnTo>
                      <a:lnTo>
                        <a:pt x="1349" y="3"/>
                      </a:lnTo>
                      <a:lnTo>
                        <a:pt x="1351" y="4"/>
                      </a:lnTo>
                      <a:lnTo>
                        <a:pt x="1352" y="5"/>
                      </a:lnTo>
                      <a:lnTo>
                        <a:pt x="1352" y="6"/>
                      </a:lnTo>
                      <a:lnTo>
                        <a:pt x="1377" y="6"/>
                      </a:lnTo>
                      <a:lnTo>
                        <a:pt x="1377" y="5"/>
                      </a:lnTo>
                      <a:lnTo>
                        <a:pt x="1378" y="4"/>
                      </a:lnTo>
                      <a:lnTo>
                        <a:pt x="1380" y="3"/>
                      </a:lnTo>
                      <a:lnTo>
                        <a:pt x="1381" y="3"/>
                      </a:lnTo>
                      <a:lnTo>
                        <a:pt x="1383" y="3"/>
                      </a:lnTo>
                      <a:lnTo>
                        <a:pt x="1384" y="4"/>
                      </a:lnTo>
                      <a:lnTo>
                        <a:pt x="1386" y="5"/>
                      </a:lnTo>
                      <a:lnTo>
                        <a:pt x="1386" y="6"/>
                      </a:lnTo>
                      <a:lnTo>
                        <a:pt x="1404" y="6"/>
                      </a:lnTo>
                      <a:lnTo>
                        <a:pt x="1404" y="5"/>
                      </a:lnTo>
                      <a:lnTo>
                        <a:pt x="1405" y="4"/>
                      </a:lnTo>
                      <a:lnTo>
                        <a:pt x="1407" y="3"/>
                      </a:lnTo>
                      <a:lnTo>
                        <a:pt x="1408" y="3"/>
                      </a:lnTo>
                      <a:lnTo>
                        <a:pt x="1410" y="3"/>
                      </a:lnTo>
                      <a:lnTo>
                        <a:pt x="1411" y="4"/>
                      </a:lnTo>
                      <a:lnTo>
                        <a:pt x="1413" y="5"/>
                      </a:lnTo>
                      <a:lnTo>
                        <a:pt x="1413" y="6"/>
                      </a:lnTo>
                      <a:lnTo>
                        <a:pt x="1438" y="6"/>
                      </a:lnTo>
                      <a:lnTo>
                        <a:pt x="1438" y="5"/>
                      </a:lnTo>
                      <a:lnTo>
                        <a:pt x="1439" y="4"/>
                      </a:lnTo>
                      <a:lnTo>
                        <a:pt x="1440" y="3"/>
                      </a:lnTo>
                      <a:lnTo>
                        <a:pt x="1442" y="3"/>
                      </a:lnTo>
                      <a:lnTo>
                        <a:pt x="1444" y="3"/>
                      </a:lnTo>
                      <a:lnTo>
                        <a:pt x="1445" y="4"/>
                      </a:lnTo>
                      <a:lnTo>
                        <a:pt x="1446" y="5"/>
                      </a:lnTo>
                      <a:lnTo>
                        <a:pt x="1447" y="6"/>
                      </a:lnTo>
                      <a:lnTo>
                        <a:pt x="1485" y="6"/>
                      </a:lnTo>
                      <a:lnTo>
                        <a:pt x="1485" y="13"/>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587304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0" name=""/>
                <p:cNvSpPr/>
                <p:nvPr/>
              </p:nvSpPr>
              <p:spPr>
                <a:xfrm>
                  <a:off x="7445160" y="23702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11" name=""/>
                <p:cNvSpPr/>
                <p:nvPr/>
              </p:nvSpPr>
              <p:spPr>
                <a:xfrm>
                  <a:off x="6046560" y="2446200"/>
                  <a:ext cx="1368720" cy="281880"/>
                </a:xfrm>
                <a:custGeom>
                  <a:avLst/>
                  <a:gdLst/>
                  <a:ahLst/>
                  <a:rect l="l" t="t" r="r" b="b"/>
                  <a:pathLst>
                    <a:path w="1293" h="211">
                      <a:moveTo>
                        <a:pt x="0" y="211"/>
                      </a:moveTo>
                      <a:lnTo>
                        <a:pt x="0" y="6"/>
                      </a:lnTo>
                      <a:lnTo>
                        <a:pt x="23" y="6"/>
                      </a:lnTo>
                      <a:lnTo>
                        <a:pt x="24" y="5"/>
                      </a:lnTo>
                      <a:lnTo>
                        <a:pt x="25" y="4"/>
                      </a:lnTo>
                      <a:lnTo>
                        <a:pt x="26" y="3"/>
                      </a:lnTo>
                      <a:lnTo>
                        <a:pt x="28" y="3"/>
                      </a:lnTo>
                      <a:lnTo>
                        <a:pt x="30" y="3"/>
                      </a:lnTo>
                      <a:lnTo>
                        <a:pt x="31" y="4"/>
                      </a:lnTo>
                      <a:lnTo>
                        <a:pt x="32" y="5"/>
                      </a:lnTo>
                      <a:lnTo>
                        <a:pt x="32" y="6"/>
                      </a:lnTo>
                      <a:lnTo>
                        <a:pt x="51" y="6"/>
                      </a:lnTo>
                      <a:lnTo>
                        <a:pt x="51" y="5"/>
                      </a:lnTo>
                      <a:lnTo>
                        <a:pt x="52" y="4"/>
                      </a:lnTo>
                      <a:lnTo>
                        <a:pt x="54" y="3"/>
                      </a:lnTo>
                      <a:lnTo>
                        <a:pt x="55" y="3"/>
                      </a:lnTo>
                      <a:lnTo>
                        <a:pt x="57" y="3"/>
                      </a:lnTo>
                      <a:lnTo>
                        <a:pt x="58" y="4"/>
                      </a:lnTo>
                      <a:lnTo>
                        <a:pt x="59" y="5"/>
                      </a:lnTo>
                      <a:lnTo>
                        <a:pt x="60" y="6"/>
                      </a:lnTo>
                      <a:lnTo>
                        <a:pt x="69" y="6"/>
                      </a:lnTo>
                      <a:lnTo>
                        <a:pt x="69" y="4"/>
                      </a:lnTo>
                      <a:lnTo>
                        <a:pt x="70" y="2"/>
                      </a:lnTo>
                      <a:lnTo>
                        <a:pt x="72" y="1"/>
                      </a:lnTo>
                      <a:lnTo>
                        <a:pt x="74" y="0"/>
                      </a:lnTo>
                      <a:lnTo>
                        <a:pt x="76" y="0"/>
                      </a:lnTo>
                      <a:lnTo>
                        <a:pt x="78" y="0"/>
                      </a:lnTo>
                      <a:lnTo>
                        <a:pt x="81" y="0"/>
                      </a:lnTo>
                      <a:lnTo>
                        <a:pt x="83" y="1"/>
                      </a:lnTo>
                      <a:lnTo>
                        <a:pt x="84" y="2"/>
                      </a:lnTo>
                      <a:lnTo>
                        <a:pt x="85" y="4"/>
                      </a:lnTo>
                      <a:lnTo>
                        <a:pt x="85" y="6"/>
                      </a:lnTo>
                      <a:lnTo>
                        <a:pt x="88" y="6"/>
                      </a:lnTo>
                      <a:lnTo>
                        <a:pt x="88" y="5"/>
                      </a:lnTo>
                      <a:lnTo>
                        <a:pt x="89" y="4"/>
                      </a:lnTo>
                      <a:lnTo>
                        <a:pt x="90" y="3"/>
                      </a:lnTo>
                      <a:lnTo>
                        <a:pt x="92" y="3"/>
                      </a:lnTo>
                      <a:lnTo>
                        <a:pt x="94" y="3"/>
                      </a:lnTo>
                      <a:lnTo>
                        <a:pt x="95" y="4"/>
                      </a:lnTo>
                      <a:lnTo>
                        <a:pt x="96" y="5"/>
                      </a:lnTo>
                      <a:lnTo>
                        <a:pt x="96" y="6"/>
                      </a:lnTo>
                      <a:lnTo>
                        <a:pt x="101" y="6"/>
                      </a:lnTo>
                      <a:lnTo>
                        <a:pt x="101" y="5"/>
                      </a:lnTo>
                      <a:lnTo>
                        <a:pt x="102" y="4"/>
                      </a:lnTo>
                      <a:lnTo>
                        <a:pt x="104" y="3"/>
                      </a:lnTo>
                      <a:lnTo>
                        <a:pt x="106" y="3"/>
                      </a:lnTo>
                      <a:lnTo>
                        <a:pt x="107" y="3"/>
                      </a:lnTo>
                      <a:lnTo>
                        <a:pt x="109" y="4"/>
                      </a:lnTo>
                      <a:lnTo>
                        <a:pt x="110" y="5"/>
                      </a:lnTo>
                      <a:lnTo>
                        <a:pt x="110" y="6"/>
                      </a:lnTo>
                      <a:lnTo>
                        <a:pt x="125" y="6"/>
                      </a:lnTo>
                      <a:lnTo>
                        <a:pt x="125" y="4"/>
                      </a:lnTo>
                      <a:lnTo>
                        <a:pt x="126" y="3"/>
                      </a:lnTo>
                      <a:lnTo>
                        <a:pt x="127" y="1"/>
                      </a:lnTo>
                      <a:lnTo>
                        <a:pt x="129" y="1"/>
                      </a:lnTo>
                      <a:lnTo>
                        <a:pt x="131" y="0"/>
                      </a:lnTo>
                      <a:lnTo>
                        <a:pt x="133" y="0"/>
                      </a:lnTo>
                      <a:lnTo>
                        <a:pt x="136" y="1"/>
                      </a:lnTo>
                      <a:lnTo>
                        <a:pt x="138" y="1"/>
                      </a:lnTo>
                      <a:lnTo>
                        <a:pt x="139" y="3"/>
                      </a:lnTo>
                      <a:lnTo>
                        <a:pt x="140" y="4"/>
                      </a:lnTo>
                      <a:lnTo>
                        <a:pt x="140" y="6"/>
                      </a:lnTo>
                      <a:lnTo>
                        <a:pt x="145" y="6"/>
                      </a:lnTo>
                      <a:lnTo>
                        <a:pt x="145" y="4"/>
                      </a:lnTo>
                      <a:lnTo>
                        <a:pt x="146" y="3"/>
                      </a:lnTo>
                      <a:lnTo>
                        <a:pt x="148" y="1"/>
                      </a:lnTo>
                      <a:lnTo>
                        <a:pt x="150" y="1"/>
                      </a:lnTo>
                      <a:lnTo>
                        <a:pt x="152" y="0"/>
                      </a:lnTo>
                      <a:lnTo>
                        <a:pt x="154" y="0"/>
                      </a:lnTo>
                      <a:lnTo>
                        <a:pt x="156" y="1"/>
                      </a:lnTo>
                      <a:lnTo>
                        <a:pt x="158" y="1"/>
                      </a:lnTo>
                      <a:lnTo>
                        <a:pt x="159" y="3"/>
                      </a:lnTo>
                      <a:lnTo>
                        <a:pt x="160" y="4"/>
                      </a:lnTo>
                      <a:lnTo>
                        <a:pt x="161" y="6"/>
                      </a:lnTo>
                      <a:lnTo>
                        <a:pt x="202" y="6"/>
                      </a:lnTo>
                      <a:lnTo>
                        <a:pt x="202" y="5"/>
                      </a:lnTo>
                      <a:lnTo>
                        <a:pt x="203" y="4"/>
                      </a:lnTo>
                      <a:lnTo>
                        <a:pt x="205" y="3"/>
                      </a:lnTo>
                      <a:lnTo>
                        <a:pt x="206" y="3"/>
                      </a:lnTo>
                      <a:lnTo>
                        <a:pt x="208" y="3"/>
                      </a:lnTo>
                      <a:lnTo>
                        <a:pt x="210" y="4"/>
                      </a:lnTo>
                      <a:lnTo>
                        <a:pt x="210" y="5"/>
                      </a:lnTo>
                      <a:lnTo>
                        <a:pt x="211" y="6"/>
                      </a:lnTo>
                      <a:lnTo>
                        <a:pt x="285" y="6"/>
                      </a:lnTo>
                      <a:lnTo>
                        <a:pt x="286" y="5"/>
                      </a:lnTo>
                      <a:lnTo>
                        <a:pt x="287" y="4"/>
                      </a:lnTo>
                      <a:lnTo>
                        <a:pt x="288" y="3"/>
                      </a:lnTo>
                      <a:lnTo>
                        <a:pt x="290" y="3"/>
                      </a:lnTo>
                      <a:lnTo>
                        <a:pt x="291" y="3"/>
                      </a:lnTo>
                      <a:lnTo>
                        <a:pt x="293" y="4"/>
                      </a:lnTo>
                      <a:lnTo>
                        <a:pt x="294" y="5"/>
                      </a:lnTo>
                      <a:lnTo>
                        <a:pt x="294" y="6"/>
                      </a:lnTo>
                      <a:lnTo>
                        <a:pt x="355" y="6"/>
                      </a:lnTo>
                      <a:lnTo>
                        <a:pt x="355" y="5"/>
                      </a:lnTo>
                      <a:lnTo>
                        <a:pt x="356" y="4"/>
                      </a:lnTo>
                      <a:lnTo>
                        <a:pt x="358" y="3"/>
                      </a:lnTo>
                      <a:lnTo>
                        <a:pt x="359" y="3"/>
                      </a:lnTo>
                      <a:lnTo>
                        <a:pt x="361" y="3"/>
                      </a:lnTo>
                      <a:lnTo>
                        <a:pt x="362" y="4"/>
                      </a:lnTo>
                      <a:lnTo>
                        <a:pt x="363" y="5"/>
                      </a:lnTo>
                      <a:lnTo>
                        <a:pt x="364" y="6"/>
                      </a:lnTo>
                      <a:lnTo>
                        <a:pt x="424" y="6"/>
                      </a:lnTo>
                      <a:lnTo>
                        <a:pt x="425" y="5"/>
                      </a:lnTo>
                      <a:lnTo>
                        <a:pt x="426" y="4"/>
                      </a:lnTo>
                      <a:lnTo>
                        <a:pt x="427" y="3"/>
                      </a:lnTo>
                      <a:lnTo>
                        <a:pt x="429" y="3"/>
                      </a:lnTo>
                      <a:lnTo>
                        <a:pt x="431" y="3"/>
                      </a:lnTo>
                      <a:lnTo>
                        <a:pt x="432" y="4"/>
                      </a:lnTo>
                      <a:lnTo>
                        <a:pt x="433" y="5"/>
                      </a:lnTo>
                      <a:lnTo>
                        <a:pt x="433" y="6"/>
                      </a:lnTo>
                      <a:lnTo>
                        <a:pt x="502" y="6"/>
                      </a:lnTo>
                      <a:lnTo>
                        <a:pt x="503" y="5"/>
                      </a:lnTo>
                      <a:lnTo>
                        <a:pt x="504" y="4"/>
                      </a:lnTo>
                      <a:lnTo>
                        <a:pt x="505" y="3"/>
                      </a:lnTo>
                      <a:lnTo>
                        <a:pt x="507" y="3"/>
                      </a:lnTo>
                      <a:lnTo>
                        <a:pt x="509" y="3"/>
                      </a:lnTo>
                      <a:lnTo>
                        <a:pt x="510" y="4"/>
                      </a:lnTo>
                      <a:lnTo>
                        <a:pt x="511" y="5"/>
                      </a:lnTo>
                      <a:lnTo>
                        <a:pt x="511" y="6"/>
                      </a:lnTo>
                      <a:lnTo>
                        <a:pt x="524" y="6"/>
                      </a:lnTo>
                      <a:lnTo>
                        <a:pt x="525" y="5"/>
                      </a:lnTo>
                      <a:lnTo>
                        <a:pt x="525" y="4"/>
                      </a:lnTo>
                      <a:lnTo>
                        <a:pt x="527" y="3"/>
                      </a:lnTo>
                      <a:lnTo>
                        <a:pt x="529" y="3"/>
                      </a:lnTo>
                      <a:lnTo>
                        <a:pt x="530" y="3"/>
                      </a:lnTo>
                      <a:lnTo>
                        <a:pt x="532" y="4"/>
                      </a:lnTo>
                      <a:lnTo>
                        <a:pt x="533" y="5"/>
                      </a:lnTo>
                      <a:lnTo>
                        <a:pt x="533" y="6"/>
                      </a:lnTo>
                      <a:lnTo>
                        <a:pt x="569" y="6"/>
                      </a:lnTo>
                      <a:lnTo>
                        <a:pt x="569" y="5"/>
                      </a:lnTo>
                      <a:lnTo>
                        <a:pt x="570" y="4"/>
                      </a:lnTo>
                      <a:lnTo>
                        <a:pt x="572" y="3"/>
                      </a:lnTo>
                      <a:lnTo>
                        <a:pt x="573" y="3"/>
                      </a:lnTo>
                      <a:lnTo>
                        <a:pt x="575" y="3"/>
                      </a:lnTo>
                      <a:lnTo>
                        <a:pt x="576" y="4"/>
                      </a:lnTo>
                      <a:lnTo>
                        <a:pt x="577" y="5"/>
                      </a:lnTo>
                      <a:lnTo>
                        <a:pt x="578" y="6"/>
                      </a:lnTo>
                      <a:lnTo>
                        <a:pt x="590" y="6"/>
                      </a:lnTo>
                      <a:lnTo>
                        <a:pt x="591" y="5"/>
                      </a:lnTo>
                      <a:lnTo>
                        <a:pt x="592" y="4"/>
                      </a:lnTo>
                      <a:lnTo>
                        <a:pt x="593" y="3"/>
                      </a:lnTo>
                      <a:lnTo>
                        <a:pt x="595" y="3"/>
                      </a:lnTo>
                      <a:lnTo>
                        <a:pt x="597" y="3"/>
                      </a:lnTo>
                      <a:lnTo>
                        <a:pt x="598" y="4"/>
                      </a:lnTo>
                      <a:lnTo>
                        <a:pt x="599" y="5"/>
                      </a:lnTo>
                      <a:lnTo>
                        <a:pt x="599" y="6"/>
                      </a:lnTo>
                      <a:lnTo>
                        <a:pt x="633" y="6"/>
                      </a:lnTo>
                      <a:lnTo>
                        <a:pt x="634" y="5"/>
                      </a:lnTo>
                      <a:lnTo>
                        <a:pt x="635" y="4"/>
                      </a:lnTo>
                      <a:lnTo>
                        <a:pt x="636" y="3"/>
                      </a:lnTo>
                      <a:lnTo>
                        <a:pt x="638" y="3"/>
                      </a:lnTo>
                      <a:lnTo>
                        <a:pt x="640" y="3"/>
                      </a:lnTo>
                      <a:lnTo>
                        <a:pt x="641" y="4"/>
                      </a:lnTo>
                      <a:lnTo>
                        <a:pt x="642" y="5"/>
                      </a:lnTo>
                      <a:lnTo>
                        <a:pt x="643" y="6"/>
                      </a:lnTo>
                      <a:lnTo>
                        <a:pt x="655" y="6"/>
                      </a:lnTo>
                      <a:lnTo>
                        <a:pt x="655" y="5"/>
                      </a:lnTo>
                      <a:lnTo>
                        <a:pt x="656" y="4"/>
                      </a:lnTo>
                      <a:lnTo>
                        <a:pt x="658" y="3"/>
                      </a:lnTo>
                      <a:lnTo>
                        <a:pt x="659" y="3"/>
                      </a:lnTo>
                      <a:lnTo>
                        <a:pt x="661" y="3"/>
                      </a:lnTo>
                      <a:lnTo>
                        <a:pt x="662" y="4"/>
                      </a:lnTo>
                      <a:lnTo>
                        <a:pt x="664" y="5"/>
                      </a:lnTo>
                      <a:lnTo>
                        <a:pt x="664" y="6"/>
                      </a:lnTo>
                      <a:lnTo>
                        <a:pt x="685" y="6"/>
                      </a:lnTo>
                      <a:lnTo>
                        <a:pt x="686" y="5"/>
                      </a:lnTo>
                      <a:lnTo>
                        <a:pt x="687" y="4"/>
                      </a:lnTo>
                      <a:lnTo>
                        <a:pt x="688" y="3"/>
                      </a:lnTo>
                      <a:lnTo>
                        <a:pt x="690" y="3"/>
                      </a:lnTo>
                      <a:lnTo>
                        <a:pt x="691" y="3"/>
                      </a:lnTo>
                      <a:lnTo>
                        <a:pt x="693" y="4"/>
                      </a:lnTo>
                      <a:lnTo>
                        <a:pt x="694" y="5"/>
                      </a:lnTo>
                      <a:lnTo>
                        <a:pt x="694" y="6"/>
                      </a:lnTo>
                      <a:lnTo>
                        <a:pt x="708" y="6"/>
                      </a:lnTo>
                      <a:lnTo>
                        <a:pt x="708" y="5"/>
                      </a:lnTo>
                      <a:lnTo>
                        <a:pt x="709" y="4"/>
                      </a:lnTo>
                      <a:lnTo>
                        <a:pt x="711" y="3"/>
                      </a:lnTo>
                      <a:lnTo>
                        <a:pt x="712" y="3"/>
                      </a:lnTo>
                      <a:lnTo>
                        <a:pt x="714" y="3"/>
                      </a:lnTo>
                      <a:lnTo>
                        <a:pt x="715" y="4"/>
                      </a:lnTo>
                      <a:lnTo>
                        <a:pt x="716" y="5"/>
                      </a:lnTo>
                      <a:lnTo>
                        <a:pt x="717" y="6"/>
                      </a:lnTo>
                      <a:lnTo>
                        <a:pt x="955" y="6"/>
                      </a:lnTo>
                      <a:lnTo>
                        <a:pt x="955" y="5"/>
                      </a:lnTo>
                      <a:lnTo>
                        <a:pt x="956" y="4"/>
                      </a:lnTo>
                      <a:lnTo>
                        <a:pt x="958" y="3"/>
                      </a:lnTo>
                      <a:lnTo>
                        <a:pt x="960" y="3"/>
                      </a:lnTo>
                      <a:lnTo>
                        <a:pt x="961" y="3"/>
                      </a:lnTo>
                      <a:lnTo>
                        <a:pt x="963" y="4"/>
                      </a:lnTo>
                      <a:lnTo>
                        <a:pt x="964" y="5"/>
                      </a:lnTo>
                      <a:lnTo>
                        <a:pt x="964" y="6"/>
                      </a:lnTo>
                      <a:lnTo>
                        <a:pt x="997" y="6"/>
                      </a:lnTo>
                      <a:lnTo>
                        <a:pt x="998" y="5"/>
                      </a:lnTo>
                      <a:lnTo>
                        <a:pt x="998" y="4"/>
                      </a:lnTo>
                      <a:lnTo>
                        <a:pt x="1000" y="3"/>
                      </a:lnTo>
                      <a:lnTo>
                        <a:pt x="1002" y="3"/>
                      </a:lnTo>
                      <a:lnTo>
                        <a:pt x="1003" y="3"/>
                      </a:lnTo>
                      <a:lnTo>
                        <a:pt x="1005" y="4"/>
                      </a:lnTo>
                      <a:lnTo>
                        <a:pt x="1006" y="5"/>
                      </a:lnTo>
                      <a:lnTo>
                        <a:pt x="1006" y="6"/>
                      </a:lnTo>
                      <a:lnTo>
                        <a:pt x="1030" y="6"/>
                      </a:lnTo>
                      <a:lnTo>
                        <a:pt x="1030" y="5"/>
                      </a:lnTo>
                      <a:lnTo>
                        <a:pt x="1031" y="4"/>
                      </a:lnTo>
                      <a:lnTo>
                        <a:pt x="1032" y="3"/>
                      </a:lnTo>
                      <a:lnTo>
                        <a:pt x="1034" y="3"/>
                      </a:lnTo>
                      <a:lnTo>
                        <a:pt x="1036" y="3"/>
                      </a:lnTo>
                      <a:lnTo>
                        <a:pt x="1037" y="4"/>
                      </a:lnTo>
                      <a:lnTo>
                        <a:pt x="1038" y="5"/>
                      </a:lnTo>
                      <a:lnTo>
                        <a:pt x="1039" y="6"/>
                      </a:lnTo>
                      <a:lnTo>
                        <a:pt x="1049" y="6"/>
                      </a:lnTo>
                      <a:lnTo>
                        <a:pt x="1049" y="5"/>
                      </a:lnTo>
                      <a:lnTo>
                        <a:pt x="1050" y="4"/>
                      </a:lnTo>
                      <a:lnTo>
                        <a:pt x="1052" y="3"/>
                      </a:lnTo>
                      <a:lnTo>
                        <a:pt x="1054" y="3"/>
                      </a:lnTo>
                      <a:lnTo>
                        <a:pt x="1055" y="3"/>
                      </a:lnTo>
                      <a:lnTo>
                        <a:pt x="1057" y="4"/>
                      </a:lnTo>
                      <a:lnTo>
                        <a:pt x="1058" y="5"/>
                      </a:lnTo>
                      <a:lnTo>
                        <a:pt x="1058" y="6"/>
                      </a:lnTo>
                      <a:lnTo>
                        <a:pt x="1075" y="6"/>
                      </a:lnTo>
                      <a:lnTo>
                        <a:pt x="1075" y="5"/>
                      </a:lnTo>
                      <a:lnTo>
                        <a:pt x="1076" y="4"/>
                      </a:lnTo>
                      <a:lnTo>
                        <a:pt x="1078" y="3"/>
                      </a:lnTo>
                      <a:lnTo>
                        <a:pt x="1079" y="3"/>
                      </a:lnTo>
                      <a:lnTo>
                        <a:pt x="1081" y="3"/>
                      </a:lnTo>
                      <a:lnTo>
                        <a:pt x="1083" y="4"/>
                      </a:lnTo>
                      <a:lnTo>
                        <a:pt x="1083" y="5"/>
                      </a:lnTo>
                      <a:lnTo>
                        <a:pt x="1084" y="6"/>
                      </a:lnTo>
                      <a:lnTo>
                        <a:pt x="1097" y="6"/>
                      </a:lnTo>
                      <a:lnTo>
                        <a:pt x="1097" y="5"/>
                      </a:lnTo>
                      <a:lnTo>
                        <a:pt x="1098" y="4"/>
                      </a:lnTo>
                      <a:lnTo>
                        <a:pt x="1100" y="3"/>
                      </a:lnTo>
                      <a:lnTo>
                        <a:pt x="1101" y="3"/>
                      </a:lnTo>
                      <a:lnTo>
                        <a:pt x="1103" y="3"/>
                      </a:lnTo>
                      <a:lnTo>
                        <a:pt x="1105" y="4"/>
                      </a:lnTo>
                      <a:lnTo>
                        <a:pt x="1105" y="5"/>
                      </a:lnTo>
                      <a:lnTo>
                        <a:pt x="1106" y="6"/>
                      </a:lnTo>
                      <a:lnTo>
                        <a:pt x="1117" y="6"/>
                      </a:lnTo>
                      <a:lnTo>
                        <a:pt x="1118" y="5"/>
                      </a:lnTo>
                      <a:lnTo>
                        <a:pt x="1119" y="4"/>
                      </a:lnTo>
                      <a:lnTo>
                        <a:pt x="1120" y="3"/>
                      </a:lnTo>
                      <a:lnTo>
                        <a:pt x="1122" y="3"/>
                      </a:lnTo>
                      <a:lnTo>
                        <a:pt x="1124" y="3"/>
                      </a:lnTo>
                      <a:lnTo>
                        <a:pt x="1125" y="4"/>
                      </a:lnTo>
                      <a:lnTo>
                        <a:pt x="1126" y="5"/>
                      </a:lnTo>
                      <a:lnTo>
                        <a:pt x="1126" y="6"/>
                      </a:lnTo>
                      <a:lnTo>
                        <a:pt x="1144" y="6"/>
                      </a:lnTo>
                      <a:lnTo>
                        <a:pt x="1145" y="5"/>
                      </a:lnTo>
                      <a:lnTo>
                        <a:pt x="1146" y="4"/>
                      </a:lnTo>
                      <a:lnTo>
                        <a:pt x="1147" y="3"/>
                      </a:lnTo>
                      <a:lnTo>
                        <a:pt x="1149" y="3"/>
                      </a:lnTo>
                      <a:lnTo>
                        <a:pt x="1151" y="3"/>
                      </a:lnTo>
                      <a:lnTo>
                        <a:pt x="1152" y="4"/>
                      </a:lnTo>
                      <a:lnTo>
                        <a:pt x="1153" y="5"/>
                      </a:lnTo>
                      <a:lnTo>
                        <a:pt x="1154" y="6"/>
                      </a:lnTo>
                      <a:lnTo>
                        <a:pt x="1185" y="6"/>
                      </a:lnTo>
                      <a:lnTo>
                        <a:pt x="1186" y="5"/>
                      </a:lnTo>
                      <a:lnTo>
                        <a:pt x="1186" y="4"/>
                      </a:lnTo>
                      <a:lnTo>
                        <a:pt x="1188" y="3"/>
                      </a:lnTo>
                      <a:lnTo>
                        <a:pt x="1190" y="3"/>
                      </a:lnTo>
                      <a:lnTo>
                        <a:pt x="1191" y="3"/>
                      </a:lnTo>
                      <a:lnTo>
                        <a:pt x="1193" y="4"/>
                      </a:lnTo>
                      <a:lnTo>
                        <a:pt x="1194" y="5"/>
                      </a:lnTo>
                      <a:lnTo>
                        <a:pt x="1194" y="6"/>
                      </a:lnTo>
                      <a:lnTo>
                        <a:pt x="1219" y="6"/>
                      </a:lnTo>
                      <a:lnTo>
                        <a:pt x="1219" y="5"/>
                      </a:lnTo>
                      <a:lnTo>
                        <a:pt x="1220" y="4"/>
                      </a:lnTo>
                      <a:lnTo>
                        <a:pt x="1222" y="3"/>
                      </a:lnTo>
                      <a:lnTo>
                        <a:pt x="1223" y="3"/>
                      </a:lnTo>
                      <a:lnTo>
                        <a:pt x="1225" y="3"/>
                      </a:lnTo>
                      <a:lnTo>
                        <a:pt x="1226" y="4"/>
                      </a:lnTo>
                      <a:lnTo>
                        <a:pt x="1228" y="5"/>
                      </a:lnTo>
                      <a:lnTo>
                        <a:pt x="1228" y="6"/>
                      </a:lnTo>
                      <a:lnTo>
                        <a:pt x="1246" y="6"/>
                      </a:lnTo>
                      <a:lnTo>
                        <a:pt x="1246" y="5"/>
                      </a:lnTo>
                      <a:lnTo>
                        <a:pt x="1247" y="4"/>
                      </a:lnTo>
                      <a:lnTo>
                        <a:pt x="1249" y="3"/>
                      </a:lnTo>
                      <a:lnTo>
                        <a:pt x="1250" y="3"/>
                      </a:lnTo>
                      <a:lnTo>
                        <a:pt x="1252" y="3"/>
                      </a:lnTo>
                      <a:lnTo>
                        <a:pt x="1253" y="4"/>
                      </a:lnTo>
                      <a:lnTo>
                        <a:pt x="1255" y="5"/>
                      </a:lnTo>
                      <a:lnTo>
                        <a:pt x="1255" y="6"/>
                      </a:lnTo>
                      <a:lnTo>
                        <a:pt x="1280" y="6"/>
                      </a:lnTo>
                      <a:lnTo>
                        <a:pt x="1280" y="5"/>
                      </a:lnTo>
                      <a:lnTo>
                        <a:pt x="1281" y="4"/>
                      </a:lnTo>
                      <a:lnTo>
                        <a:pt x="1282" y="3"/>
                      </a:lnTo>
                      <a:lnTo>
                        <a:pt x="1284" y="3"/>
                      </a:lnTo>
                      <a:lnTo>
                        <a:pt x="1286" y="3"/>
                      </a:lnTo>
                      <a:lnTo>
                        <a:pt x="1287" y="4"/>
                      </a:lnTo>
                      <a:lnTo>
                        <a:pt x="1288" y="5"/>
                      </a:lnTo>
                      <a:lnTo>
                        <a:pt x="1289" y="6"/>
                      </a:lnTo>
                      <a:lnTo>
                        <a:pt x="1293" y="6"/>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7413480" y="2447640"/>
                  <a:ext cx="13680" cy="13320"/>
                </a:xfrm>
                <a:custGeom>
                  <a:avLst/>
                  <a:gdLst/>
                  <a:ahLst/>
                  <a:rect l="l" t="t" r="r" b="b"/>
                  <a:pathLst>
                    <a:path w="13" h="10">
                      <a:moveTo>
                        <a:pt x="2" y="0"/>
                      </a:moveTo>
                      <a:lnTo>
                        <a:pt x="13" y="5"/>
                      </a:lnTo>
                      <a:lnTo>
                        <a:pt x="2" y="10"/>
                      </a:lnTo>
                      <a:lnTo>
                        <a:pt x="0" y="7"/>
                      </a:lnTo>
                      <a:lnTo>
                        <a:pt x="0" y="5"/>
                      </a:lnTo>
                      <a:lnTo>
                        <a:pt x="0" y="3"/>
                      </a:lnTo>
                      <a:lnTo>
                        <a:pt x="2" y="0"/>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13" name=""/>
                <p:cNvSpPr/>
                <p:nvPr/>
              </p:nvSpPr>
              <p:spPr>
                <a:xfrm>
                  <a:off x="7381440" y="2132280"/>
                  <a:ext cx="154440" cy="245880"/>
                </a:xfrm>
                <a:custGeom>
                  <a:avLst/>
                  <a:gdLst/>
                  <a:ahLst/>
                  <a:rect l="l" t="t" r="r" b="b"/>
                  <a:pathLst>
                    <a:path w="146" h="184">
                      <a:moveTo>
                        <a:pt x="0" y="3"/>
                      </a:moveTo>
                      <a:lnTo>
                        <a:pt x="16" y="3"/>
                      </a:lnTo>
                      <a:lnTo>
                        <a:pt x="16" y="2"/>
                      </a:lnTo>
                      <a:lnTo>
                        <a:pt x="17" y="1"/>
                      </a:lnTo>
                      <a:lnTo>
                        <a:pt x="18" y="0"/>
                      </a:lnTo>
                      <a:lnTo>
                        <a:pt x="20" y="0"/>
                      </a:lnTo>
                      <a:lnTo>
                        <a:pt x="22" y="0"/>
                      </a:lnTo>
                      <a:lnTo>
                        <a:pt x="23" y="1"/>
                      </a:lnTo>
                      <a:lnTo>
                        <a:pt x="24" y="2"/>
                      </a:lnTo>
                      <a:lnTo>
                        <a:pt x="25" y="3"/>
                      </a:lnTo>
                      <a:lnTo>
                        <a:pt x="146" y="3"/>
                      </a:lnTo>
                      <a:lnTo>
                        <a:pt x="146" y="184"/>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7530840" y="237672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15" name=""/>
                <p:cNvSpPr/>
                <p:nvPr/>
              </p:nvSpPr>
              <p:spPr>
                <a:xfrm>
                  <a:off x="7498080" y="2464920"/>
                  <a:ext cx="79200" cy="1650960"/>
                </a:xfrm>
                <a:custGeom>
                  <a:avLst/>
                  <a:gdLst/>
                  <a:ahLst/>
                  <a:rect l="l" t="t" r="r" b="b"/>
                  <a:pathLst>
                    <a:path w="75" h="1236">
                      <a:moveTo>
                        <a:pt x="36" y="0"/>
                      </a:moveTo>
                      <a:lnTo>
                        <a:pt x="36" y="186"/>
                      </a:lnTo>
                      <a:lnTo>
                        <a:pt x="44" y="186"/>
                      </a:lnTo>
                      <a:lnTo>
                        <a:pt x="44" y="184"/>
                      </a:lnTo>
                      <a:lnTo>
                        <a:pt x="45" y="183"/>
                      </a:lnTo>
                      <a:lnTo>
                        <a:pt x="47" y="182"/>
                      </a:lnTo>
                      <a:lnTo>
                        <a:pt x="48" y="182"/>
                      </a:lnTo>
                      <a:lnTo>
                        <a:pt x="50" y="182"/>
                      </a:lnTo>
                      <a:lnTo>
                        <a:pt x="52" y="183"/>
                      </a:lnTo>
                      <a:lnTo>
                        <a:pt x="52" y="184"/>
                      </a:lnTo>
                      <a:lnTo>
                        <a:pt x="53" y="186"/>
                      </a:lnTo>
                      <a:lnTo>
                        <a:pt x="75" y="186"/>
                      </a:lnTo>
                      <a:lnTo>
                        <a:pt x="75" y="696"/>
                      </a:lnTo>
                      <a:lnTo>
                        <a:pt x="66" y="696"/>
                      </a:lnTo>
                      <a:lnTo>
                        <a:pt x="66" y="695"/>
                      </a:lnTo>
                      <a:lnTo>
                        <a:pt x="65" y="694"/>
                      </a:lnTo>
                      <a:lnTo>
                        <a:pt x="63" y="693"/>
                      </a:lnTo>
                      <a:lnTo>
                        <a:pt x="62" y="693"/>
                      </a:lnTo>
                      <a:lnTo>
                        <a:pt x="60" y="693"/>
                      </a:lnTo>
                      <a:lnTo>
                        <a:pt x="59" y="694"/>
                      </a:lnTo>
                      <a:lnTo>
                        <a:pt x="58" y="695"/>
                      </a:lnTo>
                      <a:lnTo>
                        <a:pt x="57" y="696"/>
                      </a:lnTo>
                      <a:lnTo>
                        <a:pt x="53" y="696"/>
                      </a:lnTo>
                      <a:lnTo>
                        <a:pt x="52" y="695"/>
                      </a:lnTo>
                      <a:lnTo>
                        <a:pt x="52" y="694"/>
                      </a:lnTo>
                      <a:lnTo>
                        <a:pt x="50" y="693"/>
                      </a:lnTo>
                      <a:lnTo>
                        <a:pt x="48" y="693"/>
                      </a:lnTo>
                      <a:lnTo>
                        <a:pt x="47" y="693"/>
                      </a:lnTo>
                      <a:lnTo>
                        <a:pt x="45" y="694"/>
                      </a:lnTo>
                      <a:lnTo>
                        <a:pt x="44" y="695"/>
                      </a:lnTo>
                      <a:lnTo>
                        <a:pt x="44" y="696"/>
                      </a:lnTo>
                      <a:lnTo>
                        <a:pt x="0" y="696"/>
                      </a:lnTo>
                      <a:lnTo>
                        <a:pt x="0" y="1236"/>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7491600" y="4114440"/>
                  <a:ext cx="12600" cy="13320"/>
                </a:xfrm>
                <a:custGeom>
                  <a:avLst/>
                  <a:gdLst/>
                  <a:ahLst/>
                  <a:rect l="l" t="t" r="r" b="b"/>
                  <a:pathLst>
                    <a:path w="12" h="10">
                      <a:moveTo>
                        <a:pt x="12" y="1"/>
                      </a:moveTo>
                      <a:lnTo>
                        <a:pt x="6" y="10"/>
                      </a:lnTo>
                      <a:lnTo>
                        <a:pt x="0" y="1"/>
                      </a:lnTo>
                      <a:lnTo>
                        <a:pt x="3" y="0"/>
                      </a:lnTo>
                      <a:lnTo>
                        <a:pt x="6" y="0"/>
                      </a:lnTo>
                      <a:lnTo>
                        <a:pt x="10" y="0"/>
                      </a:lnTo>
                      <a:lnTo>
                        <a:pt x="12"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17" name=""/>
                <p:cNvSpPr/>
                <p:nvPr/>
              </p:nvSpPr>
              <p:spPr>
                <a:xfrm>
                  <a:off x="4314600" y="3613680"/>
                  <a:ext cx="516600" cy="519120"/>
                </a:xfrm>
                <a:custGeom>
                  <a:avLst/>
                  <a:gdLst/>
                  <a:ahLst/>
                  <a:rect l="l" t="t" r="r" b="b"/>
                  <a:pathLst>
                    <a:path w="488" h="389">
                      <a:moveTo>
                        <a:pt x="488" y="389"/>
                      </a:moveTo>
                      <a:lnTo>
                        <a:pt x="434" y="389"/>
                      </a:lnTo>
                      <a:lnTo>
                        <a:pt x="434" y="388"/>
                      </a:lnTo>
                      <a:lnTo>
                        <a:pt x="433" y="387"/>
                      </a:lnTo>
                      <a:lnTo>
                        <a:pt x="431" y="386"/>
                      </a:lnTo>
                      <a:lnTo>
                        <a:pt x="430" y="385"/>
                      </a:lnTo>
                      <a:lnTo>
                        <a:pt x="428" y="386"/>
                      </a:lnTo>
                      <a:lnTo>
                        <a:pt x="427" y="387"/>
                      </a:lnTo>
                      <a:lnTo>
                        <a:pt x="425" y="388"/>
                      </a:lnTo>
                      <a:lnTo>
                        <a:pt x="425" y="389"/>
                      </a:lnTo>
                      <a:lnTo>
                        <a:pt x="414" y="389"/>
                      </a:lnTo>
                      <a:lnTo>
                        <a:pt x="413" y="388"/>
                      </a:lnTo>
                      <a:lnTo>
                        <a:pt x="412" y="387"/>
                      </a:lnTo>
                      <a:lnTo>
                        <a:pt x="411" y="386"/>
                      </a:lnTo>
                      <a:lnTo>
                        <a:pt x="409" y="385"/>
                      </a:lnTo>
                      <a:lnTo>
                        <a:pt x="407" y="386"/>
                      </a:lnTo>
                      <a:lnTo>
                        <a:pt x="406" y="387"/>
                      </a:lnTo>
                      <a:lnTo>
                        <a:pt x="405" y="388"/>
                      </a:lnTo>
                      <a:lnTo>
                        <a:pt x="405" y="389"/>
                      </a:lnTo>
                      <a:lnTo>
                        <a:pt x="399" y="389"/>
                      </a:lnTo>
                      <a:lnTo>
                        <a:pt x="399" y="388"/>
                      </a:lnTo>
                      <a:lnTo>
                        <a:pt x="398" y="387"/>
                      </a:lnTo>
                      <a:lnTo>
                        <a:pt x="397" y="386"/>
                      </a:lnTo>
                      <a:lnTo>
                        <a:pt x="395" y="385"/>
                      </a:lnTo>
                      <a:lnTo>
                        <a:pt x="393" y="386"/>
                      </a:lnTo>
                      <a:lnTo>
                        <a:pt x="392" y="387"/>
                      </a:lnTo>
                      <a:lnTo>
                        <a:pt x="391" y="388"/>
                      </a:lnTo>
                      <a:lnTo>
                        <a:pt x="390" y="389"/>
                      </a:lnTo>
                      <a:lnTo>
                        <a:pt x="378" y="389"/>
                      </a:lnTo>
                      <a:lnTo>
                        <a:pt x="378" y="388"/>
                      </a:lnTo>
                      <a:lnTo>
                        <a:pt x="377" y="387"/>
                      </a:lnTo>
                      <a:lnTo>
                        <a:pt x="375" y="386"/>
                      </a:lnTo>
                      <a:lnTo>
                        <a:pt x="374" y="385"/>
                      </a:lnTo>
                      <a:lnTo>
                        <a:pt x="372" y="386"/>
                      </a:lnTo>
                      <a:lnTo>
                        <a:pt x="371" y="387"/>
                      </a:lnTo>
                      <a:lnTo>
                        <a:pt x="370" y="388"/>
                      </a:lnTo>
                      <a:lnTo>
                        <a:pt x="369" y="389"/>
                      </a:lnTo>
                      <a:lnTo>
                        <a:pt x="338" y="389"/>
                      </a:lnTo>
                      <a:lnTo>
                        <a:pt x="337" y="388"/>
                      </a:lnTo>
                      <a:lnTo>
                        <a:pt x="336" y="387"/>
                      </a:lnTo>
                      <a:lnTo>
                        <a:pt x="335" y="386"/>
                      </a:lnTo>
                      <a:lnTo>
                        <a:pt x="333" y="385"/>
                      </a:lnTo>
                      <a:lnTo>
                        <a:pt x="332" y="386"/>
                      </a:lnTo>
                      <a:lnTo>
                        <a:pt x="330" y="387"/>
                      </a:lnTo>
                      <a:lnTo>
                        <a:pt x="329" y="388"/>
                      </a:lnTo>
                      <a:lnTo>
                        <a:pt x="329" y="389"/>
                      </a:lnTo>
                      <a:lnTo>
                        <a:pt x="311" y="389"/>
                      </a:lnTo>
                      <a:lnTo>
                        <a:pt x="310" y="388"/>
                      </a:lnTo>
                      <a:lnTo>
                        <a:pt x="309" y="387"/>
                      </a:lnTo>
                      <a:lnTo>
                        <a:pt x="308" y="386"/>
                      </a:lnTo>
                      <a:lnTo>
                        <a:pt x="306" y="385"/>
                      </a:lnTo>
                      <a:lnTo>
                        <a:pt x="304" y="386"/>
                      </a:lnTo>
                      <a:lnTo>
                        <a:pt x="303" y="387"/>
                      </a:lnTo>
                      <a:lnTo>
                        <a:pt x="302" y="388"/>
                      </a:lnTo>
                      <a:lnTo>
                        <a:pt x="302" y="389"/>
                      </a:lnTo>
                      <a:lnTo>
                        <a:pt x="206" y="389"/>
                      </a:lnTo>
                      <a:lnTo>
                        <a:pt x="206" y="388"/>
                      </a:lnTo>
                      <a:lnTo>
                        <a:pt x="205" y="387"/>
                      </a:lnTo>
                      <a:lnTo>
                        <a:pt x="203" y="386"/>
                      </a:lnTo>
                      <a:lnTo>
                        <a:pt x="202" y="385"/>
                      </a:lnTo>
                      <a:lnTo>
                        <a:pt x="200" y="386"/>
                      </a:lnTo>
                      <a:lnTo>
                        <a:pt x="198" y="387"/>
                      </a:lnTo>
                      <a:lnTo>
                        <a:pt x="197" y="388"/>
                      </a:lnTo>
                      <a:lnTo>
                        <a:pt x="197" y="389"/>
                      </a:lnTo>
                      <a:lnTo>
                        <a:pt x="145" y="389"/>
                      </a:lnTo>
                      <a:lnTo>
                        <a:pt x="145" y="388"/>
                      </a:lnTo>
                      <a:lnTo>
                        <a:pt x="144" y="387"/>
                      </a:lnTo>
                      <a:lnTo>
                        <a:pt x="142" y="386"/>
                      </a:lnTo>
                      <a:lnTo>
                        <a:pt x="141" y="385"/>
                      </a:lnTo>
                      <a:lnTo>
                        <a:pt x="139" y="386"/>
                      </a:lnTo>
                      <a:lnTo>
                        <a:pt x="138" y="387"/>
                      </a:lnTo>
                      <a:lnTo>
                        <a:pt x="137" y="388"/>
                      </a:lnTo>
                      <a:lnTo>
                        <a:pt x="136" y="389"/>
                      </a:lnTo>
                      <a:lnTo>
                        <a:pt x="74" y="389"/>
                      </a:lnTo>
                      <a:lnTo>
                        <a:pt x="74" y="387"/>
                      </a:lnTo>
                      <a:lnTo>
                        <a:pt x="73" y="385"/>
                      </a:lnTo>
                      <a:lnTo>
                        <a:pt x="71" y="383"/>
                      </a:lnTo>
                      <a:lnTo>
                        <a:pt x="69" y="382"/>
                      </a:lnTo>
                      <a:lnTo>
                        <a:pt x="67" y="381"/>
                      </a:lnTo>
                      <a:lnTo>
                        <a:pt x="64" y="380"/>
                      </a:lnTo>
                      <a:lnTo>
                        <a:pt x="61" y="380"/>
                      </a:lnTo>
                      <a:lnTo>
                        <a:pt x="59" y="381"/>
                      </a:lnTo>
                      <a:lnTo>
                        <a:pt x="56" y="382"/>
                      </a:lnTo>
                      <a:lnTo>
                        <a:pt x="54" y="383"/>
                      </a:lnTo>
                      <a:lnTo>
                        <a:pt x="53" y="385"/>
                      </a:lnTo>
                      <a:lnTo>
                        <a:pt x="52" y="387"/>
                      </a:lnTo>
                      <a:lnTo>
                        <a:pt x="52" y="389"/>
                      </a:lnTo>
                      <a:lnTo>
                        <a:pt x="47" y="389"/>
                      </a:lnTo>
                      <a:lnTo>
                        <a:pt x="47" y="388"/>
                      </a:lnTo>
                      <a:lnTo>
                        <a:pt x="46" y="387"/>
                      </a:lnTo>
                      <a:lnTo>
                        <a:pt x="45" y="386"/>
                      </a:lnTo>
                      <a:lnTo>
                        <a:pt x="43" y="385"/>
                      </a:lnTo>
                      <a:lnTo>
                        <a:pt x="41" y="386"/>
                      </a:lnTo>
                      <a:lnTo>
                        <a:pt x="40" y="387"/>
                      </a:lnTo>
                      <a:lnTo>
                        <a:pt x="39" y="388"/>
                      </a:lnTo>
                      <a:lnTo>
                        <a:pt x="38" y="389"/>
                      </a:lnTo>
                      <a:lnTo>
                        <a:pt x="36" y="389"/>
                      </a:lnTo>
                      <a:lnTo>
                        <a:pt x="36" y="8"/>
                      </a:lnTo>
                      <a:lnTo>
                        <a:pt x="34" y="8"/>
                      </a:lnTo>
                      <a:lnTo>
                        <a:pt x="33" y="6"/>
                      </a:lnTo>
                      <a:lnTo>
                        <a:pt x="32" y="4"/>
                      </a:lnTo>
                      <a:lnTo>
                        <a:pt x="31" y="2"/>
                      </a:lnTo>
                      <a:lnTo>
                        <a:pt x="29" y="1"/>
                      </a:lnTo>
                      <a:lnTo>
                        <a:pt x="26" y="0"/>
                      </a:lnTo>
                      <a:lnTo>
                        <a:pt x="24" y="0"/>
                      </a:lnTo>
                      <a:lnTo>
                        <a:pt x="21" y="0"/>
                      </a:lnTo>
                      <a:lnTo>
                        <a:pt x="19" y="0"/>
                      </a:lnTo>
                      <a:lnTo>
                        <a:pt x="16" y="1"/>
                      </a:lnTo>
                      <a:lnTo>
                        <a:pt x="14" y="2"/>
                      </a:lnTo>
                      <a:lnTo>
                        <a:pt x="12" y="4"/>
                      </a:lnTo>
                      <a:lnTo>
                        <a:pt x="12" y="6"/>
                      </a:lnTo>
                      <a:lnTo>
                        <a:pt x="11" y="8"/>
                      </a:lnTo>
                      <a:lnTo>
                        <a:pt x="0" y="8"/>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314600" y="361872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19" name=""/>
                <p:cNvSpPr/>
                <p:nvPr/>
              </p:nvSpPr>
              <p:spPr>
                <a:xfrm>
                  <a:off x="5117040" y="2792160"/>
                  <a:ext cx="617040" cy="1925640"/>
                </a:xfrm>
                <a:custGeom>
                  <a:avLst/>
                  <a:gdLst/>
                  <a:ahLst/>
                  <a:rect l="l" t="t" r="r" b="b"/>
                  <a:pathLst>
                    <a:path w="583" h="1442">
                      <a:moveTo>
                        <a:pt x="0" y="1442"/>
                      </a:moveTo>
                      <a:lnTo>
                        <a:pt x="0" y="894"/>
                      </a:lnTo>
                      <a:lnTo>
                        <a:pt x="21" y="894"/>
                      </a:lnTo>
                      <a:lnTo>
                        <a:pt x="21" y="7"/>
                      </a:lnTo>
                      <a:lnTo>
                        <a:pt x="23" y="7"/>
                      </a:lnTo>
                      <a:lnTo>
                        <a:pt x="24" y="5"/>
                      </a:lnTo>
                      <a:lnTo>
                        <a:pt x="25" y="4"/>
                      </a:lnTo>
                      <a:lnTo>
                        <a:pt x="26" y="4"/>
                      </a:lnTo>
                      <a:lnTo>
                        <a:pt x="28" y="3"/>
                      </a:lnTo>
                      <a:lnTo>
                        <a:pt x="29" y="4"/>
                      </a:lnTo>
                      <a:lnTo>
                        <a:pt x="31" y="4"/>
                      </a:lnTo>
                      <a:lnTo>
                        <a:pt x="32" y="5"/>
                      </a:lnTo>
                      <a:lnTo>
                        <a:pt x="32" y="7"/>
                      </a:lnTo>
                      <a:lnTo>
                        <a:pt x="75" y="7"/>
                      </a:lnTo>
                      <a:lnTo>
                        <a:pt x="75" y="5"/>
                      </a:lnTo>
                      <a:lnTo>
                        <a:pt x="76" y="4"/>
                      </a:lnTo>
                      <a:lnTo>
                        <a:pt x="77" y="4"/>
                      </a:lnTo>
                      <a:lnTo>
                        <a:pt x="79" y="3"/>
                      </a:lnTo>
                      <a:lnTo>
                        <a:pt x="81" y="4"/>
                      </a:lnTo>
                      <a:lnTo>
                        <a:pt x="82" y="4"/>
                      </a:lnTo>
                      <a:lnTo>
                        <a:pt x="83" y="5"/>
                      </a:lnTo>
                      <a:lnTo>
                        <a:pt x="84" y="7"/>
                      </a:lnTo>
                      <a:lnTo>
                        <a:pt x="189" y="7"/>
                      </a:lnTo>
                      <a:lnTo>
                        <a:pt x="189" y="5"/>
                      </a:lnTo>
                      <a:lnTo>
                        <a:pt x="190" y="4"/>
                      </a:lnTo>
                      <a:lnTo>
                        <a:pt x="191" y="4"/>
                      </a:lnTo>
                      <a:lnTo>
                        <a:pt x="193" y="3"/>
                      </a:lnTo>
                      <a:lnTo>
                        <a:pt x="195" y="4"/>
                      </a:lnTo>
                      <a:lnTo>
                        <a:pt x="196" y="4"/>
                      </a:lnTo>
                      <a:lnTo>
                        <a:pt x="197" y="5"/>
                      </a:lnTo>
                      <a:lnTo>
                        <a:pt x="198" y="7"/>
                      </a:lnTo>
                      <a:lnTo>
                        <a:pt x="205" y="7"/>
                      </a:lnTo>
                      <a:lnTo>
                        <a:pt x="205" y="5"/>
                      </a:lnTo>
                      <a:lnTo>
                        <a:pt x="206" y="4"/>
                      </a:lnTo>
                      <a:lnTo>
                        <a:pt x="207" y="4"/>
                      </a:lnTo>
                      <a:lnTo>
                        <a:pt x="209" y="3"/>
                      </a:lnTo>
                      <a:lnTo>
                        <a:pt x="211" y="4"/>
                      </a:lnTo>
                      <a:lnTo>
                        <a:pt x="212" y="4"/>
                      </a:lnTo>
                      <a:lnTo>
                        <a:pt x="213" y="5"/>
                      </a:lnTo>
                      <a:lnTo>
                        <a:pt x="214" y="7"/>
                      </a:lnTo>
                      <a:lnTo>
                        <a:pt x="258" y="7"/>
                      </a:lnTo>
                      <a:lnTo>
                        <a:pt x="258" y="5"/>
                      </a:lnTo>
                      <a:lnTo>
                        <a:pt x="259" y="4"/>
                      </a:lnTo>
                      <a:lnTo>
                        <a:pt x="261" y="4"/>
                      </a:lnTo>
                      <a:lnTo>
                        <a:pt x="263" y="3"/>
                      </a:lnTo>
                      <a:lnTo>
                        <a:pt x="264" y="4"/>
                      </a:lnTo>
                      <a:lnTo>
                        <a:pt x="266" y="4"/>
                      </a:lnTo>
                      <a:lnTo>
                        <a:pt x="267" y="5"/>
                      </a:lnTo>
                      <a:lnTo>
                        <a:pt x="267" y="7"/>
                      </a:lnTo>
                      <a:lnTo>
                        <a:pt x="278" y="7"/>
                      </a:lnTo>
                      <a:lnTo>
                        <a:pt x="278" y="5"/>
                      </a:lnTo>
                      <a:lnTo>
                        <a:pt x="279" y="4"/>
                      </a:lnTo>
                      <a:lnTo>
                        <a:pt x="281" y="4"/>
                      </a:lnTo>
                      <a:lnTo>
                        <a:pt x="282" y="3"/>
                      </a:lnTo>
                      <a:lnTo>
                        <a:pt x="284" y="4"/>
                      </a:lnTo>
                      <a:lnTo>
                        <a:pt x="286" y="4"/>
                      </a:lnTo>
                      <a:lnTo>
                        <a:pt x="287" y="5"/>
                      </a:lnTo>
                      <a:lnTo>
                        <a:pt x="287" y="7"/>
                      </a:lnTo>
                      <a:lnTo>
                        <a:pt x="289" y="7"/>
                      </a:lnTo>
                      <a:lnTo>
                        <a:pt x="289" y="5"/>
                      </a:lnTo>
                      <a:lnTo>
                        <a:pt x="290" y="4"/>
                      </a:lnTo>
                      <a:lnTo>
                        <a:pt x="292" y="4"/>
                      </a:lnTo>
                      <a:lnTo>
                        <a:pt x="293" y="3"/>
                      </a:lnTo>
                      <a:lnTo>
                        <a:pt x="295" y="4"/>
                      </a:lnTo>
                      <a:lnTo>
                        <a:pt x="297" y="4"/>
                      </a:lnTo>
                      <a:lnTo>
                        <a:pt x="298" y="5"/>
                      </a:lnTo>
                      <a:lnTo>
                        <a:pt x="298" y="7"/>
                      </a:lnTo>
                      <a:lnTo>
                        <a:pt x="309" y="7"/>
                      </a:lnTo>
                      <a:lnTo>
                        <a:pt x="310" y="5"/>
                      </a:lnTo>
                      <a:lnTo>
                        <a:pt x="310" y="4"/>
                      </a:lnTo>
                      <a:lnTo>
                        <a:pt x="312" y="4"/>
                      </a:lnTo>
                      <a:lnTo>
                        <a:pt x="314" y="3"/>
                      </a:lnTo>
                      <a:lnTo>
                        <a:pt x="315" y="4"/>
                      </a:lnTo>
                      <a:lnTo>
                        <a:pt x="317" y="4"/>
                      </a:lnTo>
                      <a:lnTo>
                        <a:pt x="318" y="5"/>
                      </a:lnTo>
                      <a:lnTo>
                        <a:pt x="318" y="7"/>
                      </a:lnTo>
                      <a:lnTo>
                        <a:pt x="331" y="7"/>
                      </a:lnTo>
                      <a:lnTo>
                        <a:pt x="331" y="5"/>
                      </a:lnTo>
                      <a:lnTo>
                        <a:pt x="332" y="3"/>
                      </a:lnTo>
                      <a:lnTo>
                        <a:pt x="334" y="2"/>
                      </a:lnTo>
                      <a:lnTo>
                        <a:pt x="336" y="1"/>
                      </a:lnTo>
                      <a:lnTo>
                        <a:pt x="338" y="0"/>
                      </a:lnTo>
                      <a:lnTo>
                        <a:pt x="340" y="0"/>
                      </a:lnTo>
                      <a:lnTo>
                        <a:pt x="343" y="1"/>
                      </a:lnTo>
                      <a:lnTo>
                        <a:pt x="345" y="2"/>
                      </a:lnTo>
                      <a:lnTo>
                        <a:pt x="346" y="3"/>
                      </a:lnTo>
                      <a:lnTo>
                        <a:pt x="347" y="5"/>
                      </a:lnTo>
                      <a:lnTo>
                        <a:pt x="347" y="7"/>
                      </a:lnTo>
                      <a:lnTo>
                        <a:pt x="362" y="7"/>
                      </a:lnTo>
                      <a:lnTo>
                        <a:pt x="362" y="5"/>
                      </a:lnTo>
                      <a:lnTo>
                        <a:pt x="363" y="4"/>
                      </a:lnTo>
                      <a:lnTo>
                        <a:pt x="365" y="4"/>
                      </a:lnTo>
                      <a:lnTo>
                        <a:pt x="366" y="3"/>
                      </a:lnTo>
                      <a:lnTo>
                        <a:pt x="368" y="4"/>
                      </a:lnTo>
                      <a:lnTo>
                        <a:pt x="370" y="4"/>
                      </a:lnTo>
                      <a:lnTo>
                        <a:pt x="370" y="5"/>
                      </a:lnTo>
                      <a:lnTo>
                        <a:pt x="371" y="7"/>
                      </a:lnTo>
                      <a:lnTo>
                        <a:pt x="390" y="7"/>
                      </a:lnTo>
                      <a:lnTo>
                        <a:pt x="390" y="5"/>
                      </a:lnTo>
                      <a:lnTo>
                        <a:pt x="391" y="4"/>
                      </a:lnTo>
                      <a:lnTo>
                        <a:pt x="392" y="4"/>
                      </a:lnTo>
                      <a:lnTo>
                        <a:pt x="394" y="3"/>
                      </a:lnTo>
                      <a:lnTo>
                        <a:pt x="396" y="4"/>
                      </a:lnTo>
                      <a:lnTo>
                        <a:pt x="397" y="4"/>
                      </a:lnTo>
                      <a:lnTo>
                        <a:pt x="398" y="5"/>
                      </a:lnTo>
                      <a:lnTo>
                        <a:pt x="399" y="7"/>
                      </a:lnTo>
                      <a:lnTo>
                        <a:pt x="408" y="7"/>
                      </a:lnTo>
                      <a:lnTo>
                        <a:pt x="409" y="5"/>
                      </a:lnTo>
                      <a:lnTo>
                        <a:pt x="410" y="4"/>
                      </a:lnTo>
                      <a:lnTo>
                        <a:pt x="411" y="4"/>
                      </a:lnTo>
                      <a:lnTo>
                        <a:pt x="413" y="3"/>
                      </a:lnTo>
                      <a:lnTo>
                        <a:pt x="414" y="4"/>
                      </a:lnTo>
                      <a:lnTo>
                        <a:pt x="416" y="4"/>
                      </a:lnTo>
                      <a:lnTo>
                        <a:pt x="417" y="5"/>
                      </a:lnTo>
                      <a:lnTo>
                        <a:pt x="417" y="7"/>
                      </a:lnTo>
                      <a:lnTo>
                        <a:pt x="455" y="7"/>
                      </a:lnTo>
                      <a:lnTo>
                        <a:pt x="456" y="5"/>
                      </a:lnTo>
                      <a:lnTo>
                        <a:pt x="457" y="4"/>
                      </a:lnTo>
                      <a:lnTo>
                        <a:pt x="458" y="4"/>
                      </a:lnTo>
                      <a:lnTo>
                        <a:pt x="460" y="3"/>
                      </a:lnTo>
                      <a:lnTo>
                        <a:pt x="462" y="4"/>
                      </a:lnTo>
                      <a:lnTo>
                        <a:pt x="463" y="4"/>
                      </a:lnTo>
                      <a:lnTo>
                        <a:pt x="464" y="5"/>
                      </a:lnTo>
                      <a:lnTo>
                        <a:pt x="464" y="7"/>
                      </a:lnTo>
                      <a:lnTo>
                        <a:pt x="501" y="7"/>
                      </a:lnTo>
                      <a:lnTo>
                        <a:pt x="501" y="5"/>
                      </a:lnTo>
                      <a:lnTo>
                        <a:pt x="502" y="4"/>
                      </a:lnTo>
                      <a:lnTo>
                        <a:pt x="504" y="4"/>
                      </a:lnTo>
                      <a:lnTo>
                        <a:pt x="506" y="3"/>
                      </a:lnTo>
                      <a:lnTo>
                        <a:pt x="507" y="4"/>
                      </a:lnTo>
                      <a:lnTo>
                        <a:pt x="509" y="4"/>
                      </a:lnTo>
                      <a:lnTo>
                        <a:pt x="510" y="5"/>
                      </a:lnTo>
                      <a:lnTo>
                        <a:pt x="510" y="7"/>
                      </a:lnTo>
                      <a:lnTo>
                        <a:pt x="570" y="7"/>
                      </a:lnTo>
                      <a:lnTo>
                        <a:pt x="571" y="5"/>
                      </a:lnTo>
                      <a:lnTo>
                        <a:pt x="572" y="4"/>
                      </a:lnTo>
                      <a:lnTo>
                        <a:pt x="573" y="4"/>
                      </a:lnTo>
                      <a:lnTo>
                        <a:pt x="575" y="3"/>
                      </a:lnTo>
                      <a:lnTo>
                        <a:pt x="577" y="4"/>
                      </a:lnTo>
                      <a:lnTo>
                        <a:pt x="578" y="4"/>
                      </a:lnTo>
                      <a:lnTo>
                        <a:pt x="579" y="5"/>
                      </a:lnTo>
                      <a:lnTo>
                        <a:pt x="579" y="7"/>
                      </a:lnTo>
                      <a:lnTo>
                        <a:pt x="583" y="7"/>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5733360" y="279468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21" name=""/>
                <p:cNvSpPr/>
                <p:nvPr/>
              </p:nvSpPr>
              <p:spPr>
                <a:xfrm>
                  <a:off x="5547960" y="2933640"/>
                  <a:ext cx="264600" cy="825120"/>
                </a:xfrm>
                <a:custGeom>
                  <a:avLst/>
                  <a:gdLst/>
                  <a:ahLst/>
                  <a:rect l="l" t="t" r="r" b="b"/>
                  <a:pathLst>
                    <a:path w="250" h="618">
                      <a:moveTo>
                        <a:pt x="0" y="618"/>
                      </a:moveTo>
                      <a:lnTo>
                        <a:pt x="0" y="513"/>
                      </a:lnTo>
                      <a:lnTo>
                        <a:pt x="128" y="513"/>
                      </a:lnTo>
                      <a:lnTo>
                        <a:pt x="128" y="512"/>
                      </a:lnTo>
                      <a:lnTo>
                        <a:pt x="129" y="511"/>
                      </a:lnTo>
                      <a:lnTo>
                        <a:pt x="131" y="510"/>
                      </a:lnTo>
                      <a:lnTo>
                        <a:pt x="132" y="510"/>
                      </a:lnTo>
                      <a:lnTo>
                        <a:pt x="134" y="510"/>
                      </a:lnTo>
                      <a:lnTo>
                        <a:pt x="136" y="511"/>
                      </a:lnTo>
                      <a:lnTo>
                        <a:pt x="137" y="512"/>
                      </a:lnTo>
                      <a:lnTo>
                        <a:pt x="137" y="513"/>
                      </a:lnTo>
                      <a:lnTo>
                        <a:pt x="163" y="513"/>
                      </a:lnTo>
                      <a:lnTo>
                        <a:pt x="163" y="512"/>
                      </a:lnTo>
                      <a:lnTo>
                        <a:pt x="164" y="511"/>
                      </a:lnTo>
                      <a:lnTo>
                        <a:pt x="165" y="510"/>
                      </a:lnTo>
                      <a:lnTo>
                        <a:pt x="167" y="510"/>
                      </a:lnTo>
                      <a:lnTo>
                        <a:pt x="169" y="510"/>
                      </a:lnTo>
                      <a:lnTo>
                        <a:pt x="170" y="511"/>
                      </a:lnTo>
                      <a:lnTo>
                        <a:pt x="171" y="512"/>
                      </a:lnTo>
                      <a:lnTo>
                        <a:pt x="172" y="513"/>
                      </a:lnTo>
                      <a:lnTo>
                        <a:pt x="250" y="513"/>
                      </a:lnTo>
                      <a:lnTo>
                        <a:pt x="25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554184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23" name=""/>
                <p:cNvSpPr/>
                <p:nvPr/>
              </p:nvSpPr>
              <p:spPr>
                <a:xfrm>
                  <a:off x="5806080" y="2921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24" name=""/>
                <p:cNvSpPr/>
                <p:nvPr/>
              </p:nvSpPr>
              <p:spPr>
                <a:xfrm>
                  <a:off x="5791320" y="4038480"/>
                  <a:ext cx="288000" cy="185400"/>
                </a:xfrm>
                <a:custGeom>
                  <a:avLst/>
                  <a:gdLst/>
                  <a:ahLst/>
                  <a:rect l="l" t="t" r="r" b="b"/>
                  <a:pathLst>
                    <a:path w="272" h="139">
                      <a:moveTo>
                        <a:pt x="0" y="0"/>
                      </a:moveTo>
                      <a:lnTo>
                        <a:pt x="0" y="139"/>
                      </a:lnTo>
                      <a:lnTo>
                        <a:pt x="30" y="139"/>
                      </a:lnTo>
                      <a:lnTo>
                        <a:pt x="30" y="137"/>
                      </a:lnTo>
                      <a:lnTo>
                        <a:pt x="31" y="136"/>
                      </a:lnTo>
                      <a:lnTo>
                        <a:pt x="33" y="136"/>
                      </a:lnTo>
                      <a:lnTo>
                        <a:pt x="34" y="135"/>
                      </a:lnTo>
                      <a:lnTo>
                        <a:pt x="36" y="136"/>
                      </a:lnTo>
                      <a:lnTo>
                        <a:pt x="38" y="136"/>
                      </a:lnTo>
                      <a:lnTo>
                        <a:pt x="39" y="137"/>
                      </a:lnTo>
                      <a:lnTo>
                        <a:pt x="39" y="139"/>
                      </a:lnTo>
                      <a:lnTo>
                        <a:pt x="136" y="139"/>
                      </a:lnTo>
                      <a:lnTo>
                        <a:pt x="136" y="137"/>
                      </a:lnTo>
                      <a:lnTo>
                        <a:pt x="137" y="136"/>
                      </a:lnTo>
                      <a:lnTo>
                        <a:pt x="139" y="136"/>
                      </a:lnTo>
                      <a:lnTo>
                        <a:pt x="141" y="135"/>
                      </a:lnTo>
                      <a:lnTo>
                        <a:pt x="142" y="136"/>
                      </a:lnTo>
                      <a:lnTo>
                        <a:pt x="144" y="136"/>
                      </a:lnTo>
                      <a:lnTo>
                        <a:pt x="145" y="137"/>
                      </a:lnTo>
                      <a:lnTo>
                        <a:pt x="145" y="139"/>
                      </a:lnTo>
                      <a:lnTo>
                        <a:pt x="154" y="139"/>
                      </a:lnTo>
                      <a:lnTo>
                        <a:pt x="154" y="137"/>
                      </a:lnTo>
                      <a:lnTo>
                        <a:pt x="155" y="136"/>
                      </a:lnTo>
                      <a:lnTo>
                        <a:pt x="157" y="136"/>
                      </a:lnTo>
                      <a:lnTo>
                        <a:pt x="159" y="135"/>
                      </a:lnTo>
                      <a:lnTo>
                        <a:pt x="160" y="136"/>
                      </a:lnTo>
                      <a:lnTo>
                        <a:pt x="162" y="136"/>
                      </a:lnTo>
                      <a:lnTo>
                        <a:pt x="163" y="137"/>
                      </a:lnTo>
                      <a:lnTo>
                        <a:pt x="163" y="139"/>
                      </a:lnTo>
                      <a:lnTo>
                        <a:pt x="177" y="139"/>
                      </a:lnTo>
                      <a:lnTo>
                        <a:pt x="177" y="137"/>
                      </a:lnTo>
                      <a:lnTo>
                        <a:pt x="178" y="136"/>
                      </a:lnTo>
                      <a:lnTo>
                        <a:pt x="179" y="136"/>
                      </a:lnTo>
                      <a:lnTo>
                        <a:pt x="181" y="135"/>
                      </a:lnTo>
                      <a:lnTo>
                        <a:pt x="183" y="136"/>
                      </a:lnTo>
                      <a:lnTo>
                        <a:pt x="184" y="136"/>
                      </a:lnTo>
                      <a:lnTo>
                        <a:pt x="185" y="137"/>
                      </a:lnTo>
                      <a:lnTo>
                        <a:pt x="186" y="139"/>
                      </a:lnTo>
                      <a:lnTo>
                        <a:pt x="240" y="139"/>
                      </a:lnTo>
                      <a:lnTo>
                        <a:pt x="240" y="137"/>
                      </a:lnTo>
                      <a:lnTo>
                        <a:pt x="241" y="136"/>
                      </a:lnTo>
                      <a:lnTo>
                        <a:pt x="243" y="136"/>
                      </a:lnTo>
                      <a:lnTo>
                        <a:pt x="244" y="135"/>
                      </a:lnTo>
                      <a:lnTo>
                        <a:pt x="246" y="136"/>
                      </a:lnTo>
                      <a:lnTo>
                        <a:pt x="248" y="136"/>
                      </a:lnTo>
                      <a:lnTo>
                        <a:pt x="249" y="137"/>
                      </a:lnTo>
                      <a:lnTo>
                        <a:pt x="249" y="139"/>
                      </a:lnTo>
                      <a:lnTo>
                        <a:pt x="272" y="13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578520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26" name=""/>
                <p:cNvSpPr/>
                <p:nvPr/>
              </p:nvSpPr>
              <p:spPr>
                <a:xfrm>
                  <a:off x="6078240" y="421740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27" name=""/>
                <p:cNvSpPr/>
                <p:nvPr/>
              </p:nvSpPr>
              <p:spPr>
                <a:xfrm>
                  <a:off x="5678280" y="4038480"/>
                  <a:ext cx="16560" cy="464400"/>
                </a:xfrm>
                <a:custGeom>
                  <a:avLst/>
                  <a:gdLst/>
                  <a:ahLst/>
                  <a:rect l="l" t="t" r="r" b="b"/>
                  <a:pathLst>
                    <a:path w="16" h="348">
                      <a:moveTo>
                        <a:pt x="16" y="0"/>
                      </a:moveTo>
                      <a:lnTo>
                        <a:pt x="16" y="7"/>
                      </a:lnTo>
                      <a:lnTo>
                        <a:pt x="0" y="7"/>
                      </a:lnTo>
                      <a:lnTo>
                        <a:pt x="0" y="348"/>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568872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29" name=""/>
                <p:cNvSpPr/>
                <p:nvPr/>
              </p:nvSpPr>
              <p:spPr>
                <a:xfrm>
                  <a:off x="5671800" y="45018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30" name=""/>
                <p:cNvSpPr/>
                <p:nvPr/>
              </p:nvSpPr>
              <p:spPr>
                <a:xfrm>
                  <a:off x="5923800" y="3932640"/>
                  <a:ext cx="618840" cy="126720"/>
                </a:xfrm>
                <a:custGeom>
                  <a:avLst/>
                  <a:gdLst/>
                  <a:ahLst/>
                  <a:rect l="l" t="t" r="r" b="b"/>
                  <a:pathLst>
                    <a:path w="585" h="95">
                      <a:moveTo>
                        <a:pt x="0" y="3"/>
                      </a:moveTo>
                      <a:lnTo>
                        <a:pt x="11" y="3"/>
                      </a:lnTo>
                      <a:lnTo>
                        <a:pt x="11" y="2"/>
                      </a:lnTo>
                      <a:lnTo>
                        <a:pt x="12" y="1"/>
                      </a:lnTo>
                      <a:lnTo>
                        <a:pt x="14" y="0"/>
                      </a:lnTo>
                      <a:lnTo>
                        <a:pt x="16" y="0"/>
                      </a:lnTo>
                      <a:lnTo>
                        <a:pt x="17" y="0"/>
                      </a:lnTo>
                      <a:lnTo>
                        <a:pt x="19" y="1"/>
                      </a:lnTo>
                      <a:lnTo>
                        <a:pt x="20" y="2"/>
                      </a:lnTo>
                      <a:lnTo>
                        <a:pt x="20" y="3"/>
                      </a:lnTo>
                      <a:lnTo>
                        <a:pt x="29" y="3"/>
                      </a:lnTo>
                      <a:lnTo>
                        <a:pt x="29" y="2"/>
                      </a:lnTo>
                      <a:lnTo>
                        <a:pt x="30" y="1"/>
                      </a:lnTo>
                      <a:lnTo>
                        <a:pt x="32" y="0"/>
                      </a:lnTo>
                      <a:lnTo>
                        <a:pt x="34" y="0"/>
                      </a:lnTo>
                      <a:lnTo>
                        <a:pt x="35" y="0"/>
                      </a:lnTo>
                      <a:lnTo>
                        <a:pt x="37" y="1"/>
                      </a:lnTo>
                      <a:lnTo>
                        <a:pt x="38" y="2"/>
                      </a:lnTo>
                      <a:lnTo>
                        <a:pt x="38" y="3"/>
                      </a:lnTo>
                      <a:lnTo>
                        <a:pt x="52" y="3"/>
                      </a:lnTo>
                      <a:lnTo>
                        <a:pt x="52" y="2"/>
                      </a:lnTo>
                      <a:lnTo>
                        <a:pt x="53" y="1"/>
                      </a:lnTo>
                      <a:lnTo>
                        <a:pt x="54" y="0"/>
                      </a:lnTo>
                      <a:lnTo>
                        <a:pt x="56" y="0"/>
                      </a:lnTo>
                      <a:lnTo>
                        <a:pt x="58" y="0"/>
                      </a:lnTo>
                      <a:lnTo>
                        <a:pt x="59" y="1"/>
                      </a:lnTo>
                      <a:lnTo>
                        <a:pt x="60" y="2"/>
                      </a:lnTo>
                      <a:lnTo>
                        <a:pt x="61" y="3"/>
                      </a:lnTo>
                      <a:lnTo>
                        <a:pt x="99" y="3"/>
                      </a:lnTo>
                      <a:lnTo>
                        <a:pt x="100" y="2"/>
                      </a:lnTo>
                      <a:lnTo>
                        <a:pt x="101" y="1"/>
                      </a:lnTo>
                      <a:lnTo>
                        <a:pt x="102" y="0"/>
                      </a:lnTo>
                      <a:lnTo>
                        <a:pt x="104" y="0"/>
                      </a:lnTo>
                      <a:lnTo>
                        <a:pt x="106" y="0"/>
                      </a:lnTo>
                      <a:lnTo>
                        <a:pt x="107" y="1"/>
                      </a:lnTo>
                      <a:lnTo>
                        <a:pt x="108" y="2"/>
                      </a:lnTo>
                      <a:lnTo>
                        <a:pt x="108" y="3"/>
                      </a:lnTo>
                      <a:lnTo>
                        <a:pt x="115" y="3"/>
                      </a:lnTo>
                      <a:lnTo>
                        <a:pt x="115" y="2"/>
                      </a:lnTo>
                      <a:lnTo>
                        <a:pt x="116" y="1"/>
                      </a:lnTo>
                      <a:lnTo>
                        <a:pt x="118" y="0"/>
                      </a:lnTo>
                      <a:lnTo>
                        <a:pt x="119" y="0"/>
                      </a:lnTo>
                      <a:lnTo>
                        <a:pt x="121" y="0"/>
                      </a:lnTo>
                      <a:lnTo>
                        <a:pt x="123" y="1"/>
                      </a:lnTo>
                      <a:lnTo>
                        <a:pt x="124" y="2"/>
                      </a:lnTo>
                      <a:lnTo>
                        <a:pt x="124" y="3"/>
                      </a:lnTo>
                      <a:lnTo>
                        <a:pt x="268" y="3"/>
                      </a:lnTo>
                      <a:lnTo>
                        <a:pt x="268" y="2"/>
                      </a:lnTo>
                      <a:lnTo>
                        <a:pt x="269" y="1"/>
                      </a:lnTo>
                      <a:lnTo>
                        <a:pt x="270" y="0"/>
                      </a:lnTo>
                      <a:lnTo>
                        <a:pt x="272" y="0"/>
                      </a:lnTo>
                      <a:lnTo>
                        <a:pt x="274" y="0"/>
                      </a:lnTo>
                      <a:lnTo>
                        <a:pt x="275" y="1"/>
                      </a:lnTo>
                      <a:lnTo>
                        <a:pt x="276" y="2"/>
                      </a:lnTo>
                      <a:lnTo>
                        <a:pt x="277" y="3"/>
                      </a:lnTo>
                      <a:lnTo>
                        <a:pt x="343" y="3"/>
                      </a:lnTo>
                      <a:lnTo>
                        <a:pt x="344" y="2"/>
                      </a:lnTo>
                      <a:lnTo>
                        <a:pt x="345" y="1"/>
                      </a:lnTo>
                      <a:lnTo>
                        <a:pt x="346" y="0"/>
                      </a:lnTo>
                      <a:lnTo>
                        <a:pt x="348" y="0"/>
                      </a:lnTo>
                      <a:lnTo>
                        <a:pt x="349" y="0"/>
                      </a:lnTo>
                      <a:lnTo>
                        <a:pt x="351" y="1"/>
                      </a:lnTo>
                      <a:lnTo>
                        <a:pt x="352" y="2"/>
                      </a:lnTo>
                      <a:lnTo>
                        <a:pt x="352" y="3"/>
                      </a:lnTo>
                      <a:lnTo>
                        <a:pt x="390" y="3"/>
                      </a:lnTo>
                      <a:lnTo>
                        <a:pt x="391" y="2"/>
                      </a:lnTo>
                      <a:lnTo>
                        <a:pt x="391" y="1"/>
                      </a:lnTo>
                      <a:lnTo>
                        <a:pt x="393" y="0"/>
                      </a:lnTo>
                      <a:lnTo>
                        <a:pt x="395" y="0"/>
                      </a:lnTo>
                      <a:lnTo>
                        <a:pt x="396" y="0"/>
                      </a:lnTo>
                      <a:lnTo>
                        <a:pt x="398" y="1"/>
                      </a:lnTo>
                      <a:lnTo>
                        <a:pt x="399" y="2"/>
                      </a:lnTo>
                      <a:lnTo>
                        <a:pt x="399" y="3"/>
                      </a:lnTo>
                      <a:lnTo>
                        <a:pt x="403" y="3"/>
                      </a:lnTo>
                      <a:lnTo>
                        <a:pt x="403" y="2"/>
                      </a:lnTo>
                      <a:lnTo>
                        <a:pt x="404" y="1"/>
                      </a:lnTo>
                      <a:lnTo>
                        <a:pt x="405" y="0"/>
                      </a:lnTo>
                      <a:lnTo>
                        <a:pt x="407" y="0"/>
                      </a:lnTo>
                      <a:lnTo>
                        <a:pt x="409" y="0"/>
                      </a:lnTo>
                      <a:lnTo>
                        <a:pt x="410" y="1"/>
                      </a:lnTo>
                      <a:lnTo>
                        <a:pt x="411" y="2"/>
                      </a:lnTo>
                      <a:lnTo>
                        <a:pt x="412" y="3"/>
                      </a:lnTo>
                      <a:lnTo>
                        <a:pt x="415" y="3"/>
                      </a:lnTo>
                      <a:lnTo>
                        <a:pt x="415" y="2"/>
                      </a:lnTo>
                      <a:lnTo>
                        <a:pt x="416" y="1"/>
                      </a:lnTo>
                      <a:lnTo>
                        <a:pt x="417" y="0"/>
                      </a:lnTo>
                      <a:lnTo>
                        <a:pt x="419" y="0"/>
                      </a:lnTo>
                      <a:lnTo>
                        <a:pt x="421" y="0"/>
                      </a:lnTo>
                      <a:lnTo>
                        <a:pt x="422" y="1"/>
                      </a:lnTo>
                      <a:lnTo>
                        <a:pt x="423" y="2"/>
                      </a:lnTo>
                      <a:lnTo>
                        <a:pt x="423" y="3"/>
                      </a:lnTo>
                      <a:lnTo>
                        <a:pt x="430" y="3"/>
                      </a:lnTo>
                      <a:lnTo>
                        <a:pt x="430" y="2"/>
                      </a:lnTo>
                      <a:lnTo>
                        <a:pt x="431" y="1"/>
                      </a:lnTo>
                      <a:lnTo>
                        <a:pt x="432" y="0"/>
                      </a:lnTo>
                      <a:lnTo>
                        <a:pt x="434" y="0"/>
                      </a:lnTo>
                      <a:lnTo>
                        <a:pt x="436" y="0"/>
                      </a:lnTo>
                      <a:lnTo>
                        <a:pt x="437" y="1"/>
                      </a:lnTo>
                      <a:lnTo>
                        <a:pt x="438" y="2"/>
                      </a:lnTo>
                      <a:lnTo>
                        <a:pt x="439" y="3"/>
                      </a:lnTo>
                      <a:lnTo>
                        <a:pt x="460" y="3"/>
                      </a:lnTo>
                      <a:lnTo>
                        <a:pt x="460" y="95"/>
                      </a:lnTo>
                      <a:lnTo>
                        <a:pt x="545" y="95"/>
                      </a:lnTo>
                      <a:lnTo>
                        <a:pt x="545" y="93"/>
                      </a:lnTo>
                      <a:lnTo>
                        <a:pt x="546" y="92"/>
                      </a:lnTo>
                      <a:lnTo>
                        <a:pt x="547" y="91"/>
                      </a:lnTo>
                      <a:lnTo>
                        <a:pt x="549" y="91"/>
                      </a:lnTo>
                      <a:lnTo>
                        <a:pt x="551" y="91"/>
                      </a:lnTo>
                      <a:lnTo>
                        <a:pt x="552" y="92"/>
                      </a:lnTo>
                      <a:lnTo>
                        <a:pt x="553" y="93"/>
                      </a:lnTo>
                      <a:lnTo>
                        <a:pt x="554" y="95"/>
                      </a:lnTo>
                      <a:lnTo>
                        <a:pt x="556" y="95"/>
                      </a:lnTo>
                      <a:lnTo>
                        <a:pt x="557" y="93"/>
                      </a:lnTo>
                      <a:lnTo>
                        <a:pt x="558" y="92"/>
                      </a:lnTo>
                      <a:lnTo>
                        <a:pt x="559" y="91"/>
                      </a:lnTo>
                      <a:lnTo>
                        <a:pt x="561" y="91"/>
                      </a:lnTo>
                      <a:lnTo>
                        <a:pt x="563" y="91"/>
                      </a:lnTo>
                      <a:lnTo>
                        <a:pt x="564" y="92"/>
                      </a:lnTo>
                      <a:lnTo>
                        <a:pt x="565" y="93"/>
                      </a:lnTo>
                      <a:lnTo>
                        <a:pt x="565" y="95"/>
                      </a:lnTo>
                      <a:lnTo>
                        <a:pt x="585" y="95"/>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5923800" y="393156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32" name=""/>
                <p:cNvSpPr/>
                <p:nvPr/>
              </p:nvSpPr>
              <p:spPr>
                <a:xfrm>
                  <a:off x="6541200" y="4052880"/>
                  <a:ext cx="13680" cy="11880"/>
                </a:xfrm>
                <a:custGeom>
                  <a:avLst/>
                  <a:gdLst/>
                  <a:ahLst/>
                  <a:rect l="l" t="t" r="r" b="b"/>
                  <a:pathLst>
                    <a:path w="13" h="9">
                      <a:moveTo>
                        <a:pt x="2" y="0"/>
                      </a:moveTo>
                      <a:lnTo>
                        <a:pt x="13" y="5"/>
                      </a:lnTo>
                      <a:lnTo>
                        <a:pt x="2" y="9"/>
                      </a:lnTo>
                      <a:lnTo>
                        <a:pt x="0" y="7"/>
                      </a:lnTo>
                      <a:lnTo>
                        <a:pt x="0" y="5"/>
                      </a:lnTo>
                      <a:lnTo>
                        <a:pt x="0"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33" name=""/>
                <p:cNvSpPr/>
                <p:nvPr/>
              </p:nvSpPr>
              <p:spPr>
                <a:xfrm>
                  <a:off x="5827320" y="4038480"/>
                  <a:ext cx="856440" cy="380520"/>
                </a:xfrm>
                <a:custGeom>
                  <a:avLst/>
                  <a:gdLst/>
                  <a:ahLst/>
                  <a:rect l="l" t="t" r="r" b="b"/>
                  <a:pathLst>
                    <a:path w="809" h="285">
                      <a:moveTo>
                        <a:pt x="809" y="285"/>
                      </a:moveTo>
                      <a:lnTo>
                        <a:pt x="809" y="269"/>
                      </a:lnTo>
                      <a:lnTo>
                        <a:pt x="702" y="269"/>
                      </a:lnTo>
                      <a:lnTo>
                        <a:pt x="702" y="267"/>
                      </a:lnTo>
                      <a:lnTo>
                        <a:pt x="701" y="266"/>
                      </a:lnTo>
                      <a:lnTo>
                        <a:pt x="699" y="265"/>
                      </a:lnTo>
                      <a:lnTo>
                        <a:pt x="697" y="265"/>
                      </a:lnTo>
                      <a:lnTo>
                        <a:pt x="696" y="265"/>
                      </a:lnTo>
                      <a:lnTo>
                        <a:pt x="694" y="266"/>
                      </a:lnTo>
                      <a:lnTo>
                        <a:pt x="693" y="267"/>
                      </a:lnTo>
                      <a:lnTo>
                        <a:pt x="693" y="269"/>
                      </a:lnTo>
                      <a:lnTo>
                        <a:pt x="607" y="269"/>
                      </a:lnTo>
                      <a:lnTo>
                        <a:pt x="607" y="267"/>
                      </a:lnTo>
                      <a:lnTo>
                        <a:pt x="606" y="266"/>
                      </a:lnTo>
                      <a:lnTo>
                        <a:pt x="605" y="265"/>
                      </a:lnTo>
                      <a:lnTo>
                        <a:pt x="603" y="265"/>
                      </a:lnTo>
                      <a:lnTo>
                        <a:pt x="601" y="265"/>
                      </a:lnTo>
                      <a:lnTo>
                        <a:pt x="600" y="266"/>
                      </a:lnTo>
                      <a:lnTo>
                        <a:pt x="599" y="267"/>
                      </a:lnTo>
                      <a:lnTo>
                        <a:pt x="598" y="269"/>
                      </a:lnTo>
                      <a:lnTo>
                        <a:pt x="490" y="269"/>
                      </a:lnTo>
                      <a:lnTo>
                        <a:pt x="490" y="267"/>
                      </a:lnTo>
                      <a:lnTo>
                        <a:pt x="489" y="266"/>
                      </a:lnTo>
                      <a:lnTo>
                        <a:pt x="487" y="265"/>
                      </a:lnTo>
                      <a:lnTo>
                        <a:pt x="486" y="265"/>
                      </a:lnTo>
                      <a:lnTo>
                        <a:pt x="484" y="265"/>
                      </a:lnTo>
                      <a:lnTo>
                        <a:pt x="482" y="266"/>
                      </a:lnTo>
                      <a:lnTo>
                        <a:pt x="482" y="267"/>
                      </a:lnTo>
                      <a:lnTo>
                        <a:pt x="481" y="269"/>
                      </a:lnTo>
                      <a:lnTo>
                        <a:pt x="316" y="269"/>
                      </a:lnTo>
                      <a:lnTo>
                        <a:pt x="315" y="267"/>
                      </a:lnTo>
                      <a:lnTo>
                        <a:pt x="314" y="266"/>
                      </a:lnTo>
                      <a:lnTo>
                        <a:pt x="313" y="265"/>
                      </a:lnTo>
                      <a:lnTo>
                        <a:pt x="311" y="265"/>
                      </a:lnTo>
                      <a:lnTo>
                        <a:pt x="310" y="265"/>
                      </a:lnTo>
                      <a:lnTo>
                        <a:pt x="308" y="266"/>
                      </a:lnTo>
                      <a:lnTo>
                        <a:pt x="307" y="267"/>
                      </a:lnTo>
                      <a:lnTo>
                        <a:pt x="307" y="269"/>
                      </a:lnTo>
                      <a:lnTo>
                        <a:pt x="215" y="269"/>
                      </a:lnTo>
                      <a:lnTo>
                        <a:pt x="215" y="267"/>
                      </a:lnTo>
                      <a:lnTo>
                        <a:pt x="214" y="266"/>
                      </a:lnTo>
                      <a:lnTo>
                        <a:pt x="212" y="265"/>
                      </a:lnTo>
                      <a:lnTo>
                        <a:pt x="210" y="265"/>
                      </a:lnTo>
                      <a:lnTo>
                        <a:pt x="209" y="265"/>
                      </a:lnTo>
                      <a:lnTo>
                        <a:pt x="207" y="266"/>
                      </a:lnTo>
                      <a:lnTo>
                        <a:pt x="206" y="267"/>
                      </a:lnTo>
                      <a:lnTo>
                        <a:pt x="206" y="269"/>
                      </a:lnTo>
                      <a:lnTo>
                        <a:pt x="152" y="269"/>
                      </a:lnTo>
                      <a:lnTo>
                        <a:pt x="151" y="267"/>
                      </a:lnTo>
                      <a:lnTo>
                        <a:pt x="150" y="266"/>
                      </a:lnTo>
                      <a:lnTo>
                        <a:pt x="149" y="265"/>
                      </a:lnTo>
                      <a:lnTo>
                        <a:pt x="147" y="265"/>
                      </a:lnTo>
                      <a:lnTo>
                        <a:pt x="145" y="265"/>
                      </a:lnTo>
                      <a:lnTo>
                        <a:pt x="144" y="266"/>
                      </a:lnTo>
                      <a:lnTo>
                        <a:pt x="143" y="267"/>
                      </a:lnTo>
                      <a:lnTo>
                        <a:pt x="143" y="269"/>
                      </a:lnTo>
                      <a:lnTo>
                        <a:pt x="129" y="269"/>
                      </a:lnTo>
                      <a:lnTo>
                        <a:pt x="129" y="267"/>
                      </a:lnTo>
                      <a:lnTo>
                        <a:pt x="128" y="266"/>
                      </a:lnTo>
                      <a:lnTo>
                        <a:pt x="126" y="265"/>
                      </a:lnTo>
                      <a:lnTo>
                        <a:pt x="125" y="265"/>
                      </a:lnTo>
                      <a:lnTo>
                        <a:pt x="123" y="265"/>
                      </a:lnTo>
                      <a:lnTo>
                        <a:pt x="121" y="266"/>
                      </a:lnTo>
                      <a:lnTo>
                        <a:pt x="120" y="267"/>
                      </a:lnTo>
                      <a:lnTo>
                        <a:pt x="120" y="269"/>
                      </a:lnTo>
                      <a:lnTo>
                        <a:pt x="77" y="269"/>
                      </a:lnTo>
                      <a:lnTo>
                        <a:pt x="77" y="267"/>
                      </a:lnTo>
                      <a:lnTo>
                        <a:pt x="76" y="266"/>
                      </a:lnTo>
                      <a:lnTo>
                        <a:pt x="74" y="265"/>
                      </a:lnTo>
                      <a:lnTo>
                        <a:pt x="73" y="265"/>
                      </a:lnTo>
                      <a:lnTo>
                        <a:pt x="71" y="265"/>
                      </a:lnTo>
                      <a:lnTo>
                        <a:pt x="70" y="266"/>
                      </a:lnTo>
                      <a:lnTo>
                        <a:pt x="69" y="267"/>
                      </a:lnTo>
                      <a:lnTo>
                        <a:pt x="68" y="269"/>
                      </a:lnTo>
                      <a:lnTo>
                        <a:pt x="0" y="269"/>
                      </a:lnTo>
                      <a:lnTo>
                        <a:pt x="0" y="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6677640" y="441756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ff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135" name=""/>
                <p:cNvSpPr/>
                <p:nvPr/>
              </p:nvSpPr>
              <p:spPr>
                <a:xfrm>
                  <a:off x="582120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36" name=""/>
                <p:cNvSpPr/>
                <p:nvPr/>
              </p:nvSpPr>
              <p:spPr>
                <a:xfrm>
                  <a:off x="5864400" y="4038480"/>
                  <a:ext cx="1371960" cy="136080"/>
                </a:xfrm>
                <a:custGeom>
                  <a:avLst/>
                  <a:gdLst/>
                  <a:ahLst/>
                  <a:rect l="l" t="t" r="r" b="b"/>
                  <a:pathLst>
                    <a:path w="1296" h="102">
                      <a:moveTo>
                        <a:pt x="1296" y="102"/>
                      </a:moveTo>
                      <a:lnTo>
                        <a:pt x="1287" y="102"/>
                      </a:lnTo>
                      <a:lnTo>
                        <a:pt x="1286" y="101"/>
                      </a:lnTo>
                      <a:lnTo>
                        <a:pt x="1285" y="100"/>
                      </a:lnTo>
                      <a:lnTo>
                        <a:pt x="1284" y="99"/>
                      </a:lnTo>
                      <a:lnTo>
                        <a:pt x="1282" y="99"/>
                      </a:lnTo>
                      <a:lnTo>
                        <a:pt x="1280" y="99"/>
                      </a:lnTo>
                      <a:lnTo>
                        <a:pt x="1279" y="100"/>
                      </a:lnTo>
                      <a:lnTo>
                        <a:pt x="1278" y="101"/>
                      </a:lnTo>
                      <a:lnTo>
                        <a:pt x="1278" y="102"/>
                      </a:lnTo>
                      <a:lnTo>
                        <a:pt x="1268" y="102"/>
                      </a:lnTo>
                      <a:lnTo>
                        <a:pt x="1268" y="101"/>
                      </a:lnTo>
                      <a:lnTo>
                        <a:pt x="1267" y="100"/>
                      </a:lnTo>
                      <a:lnTo>
                        <a:pt x="1265" y="99"/>
                      </a:lnTo>
                      <a:lnTo>
                        <a:pt x="1264" y="99"/>
                      </a:lnTo>
                      <a:lnTo>
                        <a:pt x="1262" y="99"/>
                      </a:lnTo>
                      <a:lnTo>
                        <a:pt x="1260" y="100"/>
                      </a:lnTo>
                      <a:lnTo>
                        <a:pt x="1260" y="101"/>
                      </a:lnTo>
                      <a:lnTo>
                        <a:pt x="1259" y="102"/>
                      </a:lnTo>
                      <a:lnTo>
                        <a:pt x="1256" y="102"/>
                      </a:lnTo>
                      <a:lnTo>
                        <a:pt x="1255" y="101"/>
                      </a:lnTo>
                      <a:lnTo>
                        <a:pt x="1255" y="100"/>
                      </a:lnTo>
                      <a:lnTo>
                        <a:pt x="1253" y="99"/>
                      </a:lnTo>
                      <a:lnTo>
                        <a:pt x="1251" y="99"/>
                      </a:lnTo>
                      <a:lnTo>
                        <a:pt x="1250" y="99"/>
                      </a:lnTo>
                      <a:lnTo>
                        <a:pt x="1248" y="100"/>
                      </a:lnTo>
                      <a:lnTo>
                        <a:pt x="1247" y="101"/>
                      </a:lnTo>
                      <a:lnTo>
                        <a:pt x="1247" y="102"/>
                      </a:lnTo>
                      <a:lnTo>
                        <a:pt x="1216" y="102"/>
                      </a:lnTo>
                      <a:lnTo>
                        <a:pt x="1215" y="101"/>
                      </a:lnTo>
                      <a:lnTo>
                        <a:pt x="1215" y="100"/>
                      </a:lnTo>
                      <a:lnTo>
                        <a:pt x="1213" y="99"/>
                      </a:lnTo>
                      <a:lnTo>
                        <a:pt x="1211" y="99"/>
                      </a:lnTo>
                      <a:lnTo>
                        <a:pt x="1210" y="99"/>
                      </a:lnTo>
                      <a:lnTo>
                        <a:pt x="1208" y="100"/>
                      </a:lnTo>
                      <a:lnTo>
                        <a:pt x="1207" y="101"/>
                      </a:lnTo>
                      <a:lnTo>
                        <a:pt x="1207" y="102"/>
                      </a:lnTo>
                      <a:lnTo>
                        <a:pt x="1163" y="102"/>
                      </a:lnTo>
                      <a:lnTo>
                        <a:pt x="1163" y="101"/>
                      </a:lnTo>
                      <a:lnTo>
                        <a:pt x="1162" y="100"/>
                      </a:lnTo>
                      <a:lnTo>
                        <a:pt x="1161" y="99"/>
                      </a:lnTo>
                      <a:lnTo>
                        <a:pt x="1159" y="99"/>
                      </a:lnTo>
                      <a:lnTo>
                        <a:pt x="1157" y="99"/>
                      </a:lnTo>
                      <a:lnTo>
                        <a:pt x="1156" y="100"/>
                      </a:lnTo>
                      <a:lnTo>
                        <a:pt x="1155" y="101"/>
                      </a:lnTo>
                      <a:lnTo>
                        <a:pt x="1154" y="102"/>
                      </a:lnTo>
                      <a:lnTo>
                        <a:pt x="1143" y="102"/>
                      </a:lnTo>
                      <a:lnTo>
                        <a:pt x="1143" y="101"/>
                      </a:lnTo>
                      <a:lnTo>
                        <a:pt x="1142" y="100"/>
                      </a:lnTo>
                      <a:lnTo>
                        <a:pt x="1140" y="99"/>
                      </a:lnTo>
                      <a:lnTo>
                        <a:pt x="1139" y="99"/>
                      </a:lnTo>
                      <a:lnTo>
                        <a:pt x="1137" y="99"/>
                      </a:lnTo>
                      <a:lnTo>
                        <a:pt x="1135" y="100"/>
                      </a:lnTo>
                      <a:lnTo>
                        <a:pt x="1135" y="101"/>
                      </a:lnTo>
                      <a:lnTo>
                        <a:pt x="1134" y="102"/>
                      </a:lnTo>
                      <a:lnTo>
                        <a:pt x="1096" y="102"/>
                      </a:lnTo>
                      <a:lnTo>
                        <a:pt x="1095" y="101"/>
                      </a:lnTo>
                      <a:lnTo>
                        <a:pt x="1095" y="100"/>
                      </a:lnTo>
                      <a:lnTo>
                        <a:pt x="1093" y="99"/>
                      </a:lnTo>
                      <a:lnTo>
                        <a:pt x="1091" y="99"/>
                      </a:lnTo>
                      <a:lnTo>
                        <a:pt x="1090" y="99"/>
                      </a:lnTo>
                      <a:lnTo>
                        <a:pt x="1088" y="100"/>
                      </a:lnTo>
                      <a:lnTo>
                        <a:pt x="1087" y="101"/>
                      </a:lnTo>
                      <a:lnTo>
                        <a:pt x="1087" y="102"/>
                      </a:lnTo>
                      <a:lnTo>
                        <a:pt x="1081" y="102"/>
                      </a:lnTo>
                      <a:lnTo>
                        <a:pt x="1080" y="101"/>
                      </a:lnTo>
                      <a:lnTo>
                        <a:pt x="1079" y="100"/>
                      </a:lnTo>
                      <a:lnTo>
                        <a:pt x="1078" y="99"/>
                      </a:lnTo>
                      <a:lnTo>
                        <a:pt x="1076" y="99"/>
                      </a:lnTo>
                      <a:lnTo>
                        <a:pt x="1074" y="99"/>
                      </a:lnTo>
                      <a:lnTo>
                        <a:pt x="1073" y="100"/>
                      </a:lnTo>
                      <a:lnTo>
                        <a:pt x="1072" y="101"/>
                      </a:lnTo>
                      <a:lnTo>
                        <a:pt x="1072" y="102"/>
                      </a:lnTo>
                      <a:lnTo>
                        <a:pt x="946" y="102"/>
                      </a:lnTo>
                      <a:lnTo>
                        <a:pt x="945" y="101"/>
                      </a:lnTo>
                      <a:lnTo>
                        <a:pt x="944" y="100"/>
                      </a:lnTo>
                      <a:lnTo>
                        <a:pt x="943" y="99"/>
                      </a:lnTo>
                      <a:lnTo>
                        <a:pt x="941" y="99"/>
                      </a:lnTo>
                      <a:lnTo>
                        <a:pt x="939" y="99"/>
                      </a:lnTo>
                      <a:lnTo>
                        <a:pt x="938" y="100"/>
                      </a:lnTo>
                      <a:lnTo>
                        <a:pt x="937" y="101"/>
                      </a:lnTo>
                      <a:lnTo>
                        <a:pt x="937" y="102"/>
                      </a:lnTo>
                      <a:lnTo>
                        <a:pt x="621" y="102"/>
                      </a:lnTo>
                      <a:lnTo>
                        <a:pt x="621" y="101"/>
                      </a:lnTo>
                      <a:lnTo>
                        <a:pt x="620" y="100"/>
                      </a:lnTo>
                      <a:lnTo>
                        <a:pt x="619" y="99"/>
                      </a:lnTo>
                      <a:lnTo>
                        <a:pt x="617" y="99"/>
                      </a:lnTo>
                      <a:lnTo>
                        <a:pt x="615" y="99"/>
                      </a:lnTo>
                      <a:lnTo>
                        <a:pt x="614" y="100"/>
                      </a:lnTo>
                      <a:lnTo>
                        <a:pt x="613" y="101"/>
                      </a:lnTo>
                      <a:lnTo>
                        <a:pt x="612" y="102"/>
                      </a:lnTo>
                      <a:lnTo>
                        <a:pt x="610" y="102"/>
                      </a:lnTo>
                      <a:lnTo>
                        <a:pt x="609" y="101"/>
                      </a:lnTo>
                      <a:lnTo>
                        <a:pt x="608" y="100"/>
                      </a:lnTo>
                      <a:lnTo>
                        <a:pt x="607" y="99"/>
                      </a:lnTo>
                      <a:lnTo>
                        <a:pt x="605" y="99"/>
                      </a:lnTo>
                      <a:lnTo>
                        <a:pt x="603" y="99"/>
                      </a:lnTo>
                      <a:lnTo>
                        <a:pt x="602" y="100"/>
                      </a:lnTo>
                      <a:lnTo>
                        <a:pt x="601" y="101"/>
                      </a:lnTo>
                      <a:lnTo>
                        <a:pt x="601" y="102"/>
                      </a:lnTo>
                      <a:lnTo>
                        <a:pt x="479" y="102"/>
                      </a:lnTo>
                      <a:lnTo>
                        <a:pt x="479" y="101"/>
                      </a:lnTo>
                      <a:lnTo>
                        <a:pt x="478" y="100"/>
                      </a:lnTo>
                      <a:lnTo>
                        <a:pt x="477" y="99"/>
                      </a:lnTo>
                      <a:lnTo>
                        <a:pt x="475" y="99"/>
                      </a:lnTo>
                      <a:lnTo>
                        <a:pt x="473" y="99"/>
                      </a:lnTo>
                      <a:lnTo>
                        <a:pt x="472" y="100"/>
                      </a:lnTo>
                      <a:lnTo>
                        <a:pt x="471" y="101"/>
                      </a:lnTo>
                      <a:lnTo>
                        <a:pt x="471" y="102"/>
                      </a:lnTo>
                      <a:lnTo>
                        <a:pt x="455" y="102"/>
                      </a:lnTo>
                      <a:lnTo>
                        <a:pt x="455" y="101"/>
                      </a:lnTo>
                      <a:lnTo>
                        <a:pt x="454" y="100"/>
                      </a:lnTo>
                      <a:lnTo>
                        <a:pt x="452" y="99"/>
                      </a:lnTo>
                      <a:lnTo>
                        <a:pt x="451" y="99"/>
                      </a:lnTo>
                      <a:lnTo>
                        <a:pt x="449" y="99"/>
                      </a:lnTo>
                      <a:lnTo>
                        <a:pt x="447" y="100"/>
                      </a:lnTo>
                      <a:lnTo>
                        <a:pt x="447" y="101"/>
                      </a:lnTo>
                      <a:lnTo>
                        <a:pt x="446" y="102"/>
                      </a:lnTo>
                      <a:lnTo>
                        <a:pt x="441" y="102"/>
                      </a:lnTo>
                      <a:lnTo>
                        <a:pt x="440" y="101"/>
                      </a:lnTo>
                      <a:lnTo>
                        <a:pt x="439" y="100"/>
                      </a:lnTo>
                      <a:lnTo>
                        <a:pt x="438" y="99"/>
                      </a:lnTo>
                      <a:lnTo>
                        <a:pt x="436" y="99"/>
                      </a:lnTo>
                      <a:lnTo>
                        <a:pt x="434" y="99"/>
                      </a:lnTo>
                      <a:lnTo>
                        <a:pt x="433" y="100"/>
                      </a:lnTo>
                      <a:lnTo>
                        <a:pt x="432" y="101"/>
                      </a:lnTo>
                      <a:lnTo>
                        <a:pt x="432" y="102"/>
                      </a:lnTo>
                      <a:lnTo>
                        <a:pt x="416" y="102"/>
                      </a:lnTo>
                      <a:lnTo>
                        <a:pt x="416" y="71"/>
                      </a:lnTo>
                      <a:lnTo>
                        <a:pt x="349" y="71"/>
                      </a:lnTo>
                      <a:lnTo>
                        <a:pt x="349" y="70"/>
                      </a:lnTo>
                      <a:lnTo>
                        <a:pt x="348" y="69"/>
                      </a:lnTo>
                      <a:lnTo>
                        <a:pt x="347" y="68"/>
                      </a:lnTo>
                      <a:lnTo>
                        <a:pt x="345" y="67"/>
                      </a:lnTo>
                      <a:lnTo>
                        <a:pt x="343" y="68"/>
                      </a:lnTo>
                      <a:lnTo>
                        <a:pt x="342" y="69"/>
                      </a:lnTo>
                      <a:lnTo>
                        <a:pt x="341" y="70"/>
                      </a:lnTo>
                      <a:lnTo>
                        <a:pt x="340" y="71"/>
                      </a:lnTo>
                      <a:lnTo>
                        <a:pt x="284" y="71"/>
                      </a:lnTo>
                      <a:lnTo>
                        <a:pt x="284" y="70"/>
                      </a:lnTo>
                      <a:lnTo>
                        <a:pt x="283" y="69"/>
                      </a:lnTo>
                      <a:lnTo>
                        <a:pt x="282" y="68"/>
                      </a:lnTo>
                      <a:lnTo>
                        <a:pt x="280" y="67"/>
                      </a:lnTo>
                      <a:lnTo>
                        <a:pt x="278" y="68"/>
                      </a:lnTo>
                      <a:lnTo>
                        <a:pt x="277" y="69"/>
                      </a:lnTo>
                      <a:lnTo>
                        <a:pt x="276" y="70"/>
                      </a:lnTo>
                      <a:lnTo>
                        <a:pt x="275" y="71"/>
                      </a:lnTo>
                      <a:lnTo>
                        <a:pt x="180" y="71"/>
                      </a:lnTo>
                      <a:lnTo>
                        <a:pt x="180" y="70"/>
                      </a:lnTo>
                      <a:lnTo>
                        <a:pt x="179" y="69"/>
                      </a:lnTo>
                      <a:lnTo>
                        <a:pt x="177" y="68"/>
                      </a:lnTo>
                      <a:lnTo>
                        <a:pt x="175" y="67"/>
                      </a:lnTo>
                      <a:lnTo>
                        <a:pt x="174" y="68"/>
                      </a:lnTo>
                      <a:lnTo>
                        <a:pt x="172" y="69"/>
                      </a:lnTo>
                      <a:lnTo>
                        <a:pt x="171" y="70"/>
                      </a:lnTo>
                      <a:lnTo>
                        <a:pt x="171" y="71"/>
                      </a:lnTo>
                      <a:lnTo>
                        <a:pt x="117" y="71"/>
                      </a:lnTo>
                      <a:lnTo>
                        <a:pt x="116" y="70"/>
                      </a:lnTo>
                      <a:lnTo>
                        <a:pt x="115" y="69"/>
                      </a:lnTo>
                      <a:lnTo>
                        <a:pt x="114" y="68"/>
                      </a:lnTo>
                      <a:lnTo>
                        <a:pt x="112" y="67"/>
                      </a:lnTo>
                      <a:lnTo>
                        <a:pt x="110" y="68"/>
                      </a:lnTo>
                      <a:lnTo>
                        <a:pt x="109" y="69"/>
                      </a:lnTo>
                      <a:lnTo>
                        <a:pt x="108" y="70"/>
                      </a:lnTo>
                      <a:lnTo>
                        <a:pt x="108" y="71"/>
                      </a:lnTo>
                      <a:lnTo>
                        <a:pt x="94" y="71"/>
                      </a:lnTo>
                      <a:lnTo>
                        <a:pt x="94" y="70"/>
                      </a:lnTo>
                      <a:lnTo>
                        <a:pt x="93" y="69"/>
                      </a:lnTo>
                      <a:lnTo>
                        <a:pt x="91" y="68"/>
                      </a:lnTo>
                      <a:lnTo>
                        <a:pt x="90" y="67"/>
                      </a:lnTo>
                      <a:lnTo>
                        <a:pt x="88" y="68"/>
                      </a:lnTo>
                      <a:lnTo>
                        <a:pt x="86" y="69"/>
                      </a:lnTo>
                      <a:lnTo>
                        <a:pt x="85" y="70"/>
                      </a:lnTo>
                      <a:lnTo>
                        <a:pt x="85" y="71"/>
                      </a:lnTo>
                      <a:lnTo>
                        <a:pt x="76" y="71"/>
                      </a:lnTo>
                      <a:lnTo>
                        <a:pt x="76" y="70"/>
                      </a:lnTo>
                      <a:lnTo>
                        <a:pt x="75" y="69"/>
                      </a:lnTo>
                      <a:lnTo>
                        <a:pt x="73" y="68"/>
                      </a:lnTo>
                      <a:lnTo>
                        <a:pt x="72" y="67"/>
                      </a:lnTo>
                      <a:lnTo>
                        <a:pt x="70" y="68"/>
                      </a:lnTo>
                      <a:lnTo>
                        <a:pt x="68" y="69"/>
                      </a:lnTo>
                      <a:lnTo>
                        <a:pt x="67" y="70"/>
                      </a:lnTo>
                      <a:lnTo>
                        <a:pt x="67" y="71"/>
                      </a:lnTo>
                      <a:lnTo>
                        <a:pt x="0" y="71"/>
                      </a:lnTo>
                      <a:lnTo>
                        <a:pt x="0"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7234560" y="4169160"/>
                  <a:ext cx="13680" cy="11880"/>
                </a:xfrm>
                <a:custGeom>
                  <a:avLst/>
                  <a:gdLst/>
                  <a:ahLst/>
                  <a:rect l="l" t="t" r="r" b="b"/>
                  <a:pathLst>
                    <a:path w="13" h="9">
                      <a:moveTo>
                        <a:pt x="2" y="0"/>
                      </a:moveTo>
                      <a:lnTo>
                        <a:pt x="13" y="4"/>
                      </a:lnTo>
                      <a:lnTo>
                        <a:pt x="2" y="9"/>
                      </a:lnTo>
                      <a:lnTo>
                        <a:pt x="1" y="7"/>
                      </a:lnTo>
                      <a:lnTo>
                        <a:pt x="0" y="4"/>
                      </a:lnTo>
                      <a:lnTo>
                        <a:pt x="1"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38" name=""/>
                <p:cNvSpPr/>
                <p:nvPr/>
              </p:nvSpPr>
              <p:spPr>
                <a:xfrm>
                  <a:off x="585792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39" name=""/>
                <p:cNvSpPr/>
                <p:nvPr/>
              </p:nvSpPr>
              <p:spPr>
                <a:xfrm>
                  <a:off x="5724720" y="3332880"/>
                  <a:ext cx="405360" cy="425880"/>
                </a:xfrm>
                <a:custGeom>
                  <a:avLst/>
                  <a:gdLst/>
                  <a:ahLst/>
                  <a:rect l="l" t="t" r="r" b="b"/>
                  <a:pathLst>
                    <a:path w="383" h="319">
                      <a:moveTo>
                        <a:pt x="383" y="0"/>
                      </a:moveTo>
                      <a:lnTo>
                        <a:pt x="383" y="97"/>
                      </a:lnTo>
                      <a:lnTo>
                        <a:pt x="345" y="97"/>
                      </a:lnTo>
                      <a:lnTo>
                        <a:pt x="344" y="96"/>
                      </a:lnTo>
                      <a:lnTo>
                        <a:pt x="343" y="94"/>
                      </a:lnTo>
                      <a:lnTo>
                        <a:pt x="342" y="94"/>
                      </a:lnTo>
                      <a:lnTo>
                        <a:pt x="340" y="93"/>
                      </a:lnTo>
                      <a:lnTo>
                        <a:pt x="338" y="94"/>
                      </a:lnTo>
                      <a:lnTo>
                        <a:pt x="337" y="94"/>
                      </a:lnTo>
                      <a:lnTo>
                        <a:pt x="336" y="96"/>
                      </a:lnTo>
                      <a:lnTo>
                        <a:pt x="336" y="97"/>
                      </a:lnTo>
                      <a:lnTo>
                        <a:pt x="321" y="97"/>
                      </a:lnTo>
                      <a:lnTo>
                        <a:pt x="320" y="95"/>
                      </a:lnTo>
                      <a:lnTo>
                        <a:pt x="319" y="93"/>
                      </a:lnTo>
                      <a:lnTo>
                        <a:pt x="318" y="92"/>
                      </a:lnTo>
                      <a:lnTo>
                        <a:pt x="315" y="91"/>
                      </a:lnTo>
                      <a:lnTo>
                        <a:pt x="313" y="90"/>
                      </a:lnTo>
                      <a:lnTo>
                        <a:pt x="311" y="90"/>
                      </a:lnTo>
                      <a:lnTo>
                        <a:pt x="308" y="91"/>
                      </a:lnTo>
                      <a:lnTo>
                        <a:pt x="306" y="92"/>
                      </a:lnTo>
                      <a:lnTo>
                        <a:pt x="304" y="93"/>
                      </a:lnTo>
                      <a:lnTo>
                        <a:pt x="303" y="95"/>
                      </a:lnTo>
                      <a:lnTo>
                        <a:pt x="303" y="97"/>
                      </a:lnTo>
                      <a:lnTo>
                        <a:pt x="300" y="97"/>
                      </a:lnTo>
                      <a:lnTo>
                        <a:pt x="300" y="192"/>
                      </a:lnTo>
                      <a:lnTo>
                        <a:pt x="296" y="192"/>
                      </a:lnTo>
                      <a:lnTo>
                        <a:pt x="296" y="191"/>
                      </a:lnTo>
                      <a:lnTo>
                        <a:pt x="295" y="190"/>
                      </a:lnTo>
                      <a:lnTo>
                        <a:pt x="294" y="189"/>
                      </a:lnTo>
                      <a:lnTo>
                        <a:pt x="292" y="189"/>
                      </a:lnTo>
                      <a:lnTo>
                        <a:pt x="290" y="189"/>
                      </a:lnTo>
                      <a:lnTo>
                        <a:pt x="289" y="190"/>
                      </a:lnTo>
                      <a:lnTo>
                        <a:pt x="288" y="191"/>
                      </a:lnTo>
                      <a:lnTo>
                        <a:pt x="287" y="192"/>
                      </a:lnTo>
                      <a:lnTo>
                        <a:pt x="280" y="192"/>
                      </a:lnTo>
                      <a:lnTo>
                        <a:pt x="280" y="191"/>
                      </a:lnTo>
                      <a:lnTo>
                        <a:pt x="279" y="190"/>
                      </a:lnTo>
                      <a:lnTo>
                        <a:pt x="277" y="189"/>
                      </a:lnTo>
                      <a:lnTo>
                        <a:pt x="276" y="189"/>
                      </a:lnTo>
                      <a:lnTo>
                        <a:pt x="274" y="189"/>
                      </a:lnTo>
                      <a:lnTo>
                        <a:pt x="272" y="190"/>
                      </a:lnTo>
                      <a:lnTo>
                        <a:pt x="271" y="191"/>
                      </a:lnTo>
                      <a:lnTo>
                        <a:pt x="271" y="192"/>
                      </a:lnTo>
                      <a:lnTo>
                        <a:pt x="259" y="192"/>
                      </a:lnTo>
                      <a:lnTo>
                        <a:pt x="259" y="191"/>
                      </a:lnTo>
                      <a:lnTo>
                        <a:pt x="258" y="190"/>
                      </a:lnTo>
                      <a:lnTo>
                        <a:pt x="257" y="189"/>
                      </a:lnTo>
                      <a:lnTo>
                        <a:pt x="255" y="189"/>
                      </a:lnTo>
                      <a:lnTo>
                        <a:pt x="253" y="189"/>
                      </a:lnTo>
                      <a:lnTo>
                        <a:pt x="252" y="190"/>
                      </a:lnTo>
                      <a:lnTo>
                        <a:pt x="251" y="191"/>
                      </a:lnTo>
                      <a:lnTo>
                        <a:pt x="250" y="192"/>
                      </a:lnTo>
                      <a:lnTo>
                        <a:pt x="249" y="192"/>
                      </a:lnTo>
                      <a:lnTo>
                        <a:pt x="248" y="191"/>
                      </a:lnTo>
                      <a:lnTo>
                        <a:pt x="247" y="190"/>
                      </a:lnTo>
                      <a:lnTo>
                        <a:pt x="246" y="189"/>
                      </a:lnTo>
                      <a:lnTo>
                        <a:pt x="244" y="189"/>
                      </a:lnTo>
                      <a:lnTo>
                        <a:pt x="242" y="189"/>
                      </a:lnTo>
                      <a:lnTo>
                        <a:pt x="241" y="190"/>
                      </a:lnTo>
                      <a:lnTo>
                        <a:pt x="240" y="191"/>
                      </a:lnTo>
                      <a:lnTo>
                        <a:pt x="240" y="192"/>
                      </a:lnTo>
                      <a:lnTo>
                        <a:pt x="235" y="192"/>
                      </a:lnTo>
                      <a:lnTo>
                        <a:pt x="235" y="191"/>
                      </a:lnTo>
                      <a:lnTo>
                        <a:pt x="234" y="190"/>
                      </a:lnTo>
                      <a:lnTo>
                        <a:pt x="232" y="189"/>
                      </a:lnTo>
                      <a:lnTo>
                        <a:pt x="231" y="189"/>
                      </a:lnTo>
                      <a:lnTo>
                        <a:pt x="229" y="189"/>
                      </a:lnTo>
                      <a:lnTo>
                        <a:pt x="227" y="190"/>
                      </a:lnTo>
                      <a:lnTo>
                        <a:pt x="226" y="191"/>
                      </a:lnTo>
                      <a:lnTo>
                        <a:pt x="226" y="192"/>
                      </a:lnTo>
                      <a:lnTo>
                        <a:pt x="226" y="192"/>
                      </a:lnTo>
                      <a:lnTo>
                        <a:pt x="226" y="191"/>
                      </a:lnTo>
                      <a:lnTo>
                        <a:pt x="225" y="190"/>
                      </a:lnTo>
                      <a:lnTo>
                        <a:pt x="223" y="189"/>
                      </a:lnTo>
                      <a:lnTo>
                        <a:pt x="222" y="189"/>
                      </a:lnTo>
                      <a:lnTo>
                        <a:pt x="220" y="189"/>
                      </a:lnTo>
                      <a:lnTo>
                        <a:pt x="218" y="190"/>
                      </a:lnTo>
                      <a:lnTo>
                        <a:pt x="217" y="191"/>
                      </a:lnTo>
                      <a:lnTo>
                        <a:pt x="217" y="192"/>
                      </a:lnTo>
                      <a:lnTo>
                        <a:pt x="208" y="192"/>
                      </a:lnTo>
                      <a:lnTo>
                        <a:pt x="208" y="191"/>
                      </a:lnTo>
                      <a:lnTo>
                        <a:pt x="207" y="190"/>
                      </a:lnTo>
                      <a:lnTo>
                        <a:pt x="205" y="189"/>
                      </a:lnTo>
                      <a:lnTo>
                        <a:pt x="204" y="189"/>
                      </a:lnTo>
                      <a:lnTo>
                        <a:pt x="202" y="189"/>
                      </a:lnTo>
                      <a:lnTo>
                        <a:pt x="200" y="190"/>
                      </a:lnTo>
                      <a:lnTo>
                        <a:pt x="199" y="191"/>
                      </a:lnTo>
                      <a:lnTo>
                        <a:pt x="199" y="192"/>
                      </a:lnTo>
                      <a:lnTo>
                        <a:pt x="175" y="192"/>
                      </a:lnTo>
                      <a:lnTo>
                        <a:pt x="175" y="191"/>
                      </a:lnTo>
                      <a:lnTo>
                        <a:pt x="174" y="190"/>
                      </a:lnTo>
                      <a:lnTo>
                        <a:pt x="172" y="189"/>
                      </a:lnTo>
                      <a:lnTo>
                        <a:pt x="171" y="189"/>
                      </a:lnTo>
                      <a:lnTo>
                        <a:pt x="169" y="189"/>
                      </a:lnTo>
                      <a:lnTo>
                        <a:pt x="167" y="190"/>
                      </a:lnTo>
                      <a:lnTo>
                        <a:pt x="166" y="191"/>
                      </a:lnTo>
                      <a:lnTo>
                        <a:pt x="166" y="192"/>
                      </a:lnTo>
                      <a:lnTo>
                        <a:pt x="151" y="192"/>
                      </a:lnTo>
                      <a:lnTo>
                        <a:pt x="150" y="191"/>
                      </a:lnTo>
                      <a:lnTo>
                        <a:pt x="149" y="190"/>
                      </a:lnTo>
                      <a:lnTo>
                        <a:pt x="148" y="189"/>
                      </a:lnTo>
                      <a:lnTo>
                        <a:pt x="146" y="189"/>
                      </a:lnTo>
                      <a:lnTo>
                        <a:pt x="144" y="189"/>
                      </a:lnTo>
                      <a:lnTo>
                        <a:pt x="143" y="190"/>
                      </a:lnTo>
                      <a:lnTo>
                        <a:pt x="142" y="191"/>
                      </a:lnTo>
                      <a:lnTo>
                        <a:pt x="142" y="192"/>
                      </a:lnTo>
                      <a:lnTo>
                        <a:pt x="131" y="192"/>
                      </a:lnTo>
                      <a:lnTo>
                        <a:pt x="130" y="191"/>
                      </a:lnTo>
                      <a:lnTo>
                        <a:pt x="129" y="190"/>
                      </a:lnTo>
                      <a:lnTo>
                        <a:pt x="128" y="189"/>
                      </a:lnTo>
                      <a:lnTo>
                        <a:pt x="126" y="189"/>
                      </a:lnTo>
                      <a:lnTo>
                        <a:pt x="124" y="189"/>
                      </a:lnTo>
                      <a:lnTo>
                        <a:pt x="123" y="190"/>
                      </a:lnTo>
                      <a:lnTo>
                        <a:pt x="122" y="191"/>
                      </a:lnTo>
                      <a:lnTo>
                        <a:pt x="122" y="192"/>
                      </a:lnTo>
                      <a:lnTo>
                        <a:pt x="109" y="192"/>
                      </a:lnTo>
                      <a:lnTo>
                        <a:pt x="109" y="191"/>
                      </a:lnTo>
                      <a:lnTo>
                        <a:pt x="108" y="190"/>
                      </a:lnTo>
                      <a:lnTo>
                        <a:pt x="106" y="189"/>
                      </a:lnTo>
                      <a:lnTo>
                        <a:pt x="104" y="189"/>
                      </a:lnTo>
                      <a:lnTo>
                        <a:pt x="103" y="189"/>
                      </a:lnTo>
                      <a:lnTo>
                        <a:pt x="101" y="190"/>
                      </a:lnTo>
                      <a:lnTo>
                        <a:pt x="100" y="191"/>
                      </a:lnTo>
                      <a:lnTo>
                        <a:pt x="100" y="192"/>
                      </a:lnTo>
                      <a:lnTo>
                        <a:pt x="98" y="192"/>
                      </a:lnTo>
                      <a:lnTo>
                        <a:pt x="98" y="191"/>
                      </a:lnTo>
                      <a:lnTo>
                        <a:pt x="97" y="190"/>
                      </a:lnTo>
                      <a:lnTo>
                        <a:pt x="95" y="189"/>
                      </a:lnTo>
                      <a:lnTo>
                        <a:pt x="94" y="189"/>
                      </a:lnTo>
                      <a:lnTo>
                        <a:pt x="92" y="189"/>
                      </a:lnTo>
                      <a:lnTo>
                        <a:pt x="91" y="190"/>
                      </a:lnTo>
                      <a:lnTo>
                        <a:pt x="90" y="191"/>
                      </a:lnTo>
                      <a:lnTo>
                        <a:pt x="89" y="192"/>
                      </a:lnTo>
                      <a:lnTo>
                        <a:pt x="87" y="192"/>
                      </a:lnTo>
                      <a:lnTo>
                        <a:pt x="87" y="191"/>
                      </a:lnTo>
                      <a:lnTo>
                        <a:pt x="86" y="190"/>
                      </a:lnTo>
                      <a:lnTo>
                        <a:pt x="84" y="189"/>
                      </a:lnTo>
                      <a:lnTo>
                        <a:pt x="83" y="189"/>
                      </a:lnTo>
                      <a:lnTo>
                        <a:pt x="81" y="189"/>
                      </a:lnTo>
                      <a:lnTo>
                        <a:pt x="79" y="190"/>
                      </a:lnTo>
                      <a:lnTo>
                        <a:pt x="79" y="191"/>
                      </a:lnTo>
                      <a:lnTo>
                        <a:pt x="78" y="192"/>
                      </a:lnTo>
                      <a:lnTo>
                        <a:pt x="0" y="192"/>
                      </a:lnTo>
                      <a:lnTo>
                        <a:pt x="0" y="319"/>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6123960" y="3321000"/>
                  <a:ext cx="12600" cy="13320"/>
                </a:xfrm>
                <a:custGeom>
                  <a:avLst/>
                  <a:gdLst/>
                  <a:ahLst/>
                  <a:rect l="l" t="t" r="r" b="b"/>
                  <a:pathLst>
                    <a:path w="12" h="10">
                      <a:moveTo>
                        <a:pt x="0" y="9"/>
                      </a:moveTo>
                      <a:lnTo>
                        <a:pt x="6" y="0"/>
                      </a:lnTo>
                      <a:lnTo>
                        <a:pt x="12" y="9"/>
                      </a:lnTo>
                      <a:lnTo>
                        <a:pt x="8" y="10"/>
                      </a:lnTo>
                      <a:lnTo>
                        <a:pt x="6" y="10"/>
                      </a:lnTo>
                      <a:lnTo>
                        <a:pt x="2"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41" name=""/>
                <p:cNvSpPr/>
                <p:nvPr/>
              </p:nvSpPr>
              <p:spPr>
                <a:xfrm>
                  <a:off x="571824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42" name=""/>
                <p:cNvSpPr/>
                <p:nvPr/>
              </p:nvSpPr>
              <p:spPr>
                <a:xfrm>
                  <a:off x="5761800" y="3366720"/>
                  <a:ext cx="966240" cy="392400"/>
                </a:xfrm>
                <a:custGeom>
                  <a:avLst/>
                  <a:gdLst/>
                  <a:ahLst/>
                  <a:rect l="l" t="t" r="r" b="b"/>
                  <a:pathLst>
                    <a:path w="913" h="294">
                      <a:moveTo>
                        <a:pt x="913" y="0"/>
                      </a:moveTo>
                      <a:lnTo>
                        <a:pt x="913" y="159"/>
                      </a:lnTo>
                      <a:lnTo>
                        <a:pt x="810" y="159"/>
                      </a:lnTo>
                      <a:lnTo>
                        <a:pt x="810" y="283"/>
                      </a:lnTo>
                      <a:lnTo>
                        <a:pt x="791" y="283"/>
                      </a:lnTo>
                      <a:lnTo>
                        <a:pt x="790" y="281"/>
                      </a:lnTo>
                      <a:lnTo>
                        <a:pt x="790" y="280"/>
                      </a:lnTo>
                      <a:lnTo>
                        <a:pt x="788" y="279"/>
                      </a:lnTo>
                      <a:lnTo>
                        <a:pt x="786" y="279"/>
                      </a:lnTo>
                      <a:lnTo>
                        <a:pt x="785" y="279"/>
                      </a:lnTo>
                      <a:lnTo>
                        <a:pt x="783" y="280"/>
                      </a:lnTo>
                      <a:lnTo>
                        <a:pt x="782" y="281"/>
                      </a:lnTo>
                      <a:lnTo>
                        <a:pt x="782" y="283"/>
                      </a:lnTo>
                      <a:lnTo>
                        <a:pt x="718" y="283"/>
                      </a:lnTo>
                      <a:lnTo>
                        <a:pt x="718" y="281"/>
                      </a:lnTo>
                      <a:lnTo>
                        <a:pt x="717" y="280"/>
                      </a:lnTo>
                      <a:lnTo>
                        <a:pt x="716" y="279"/>
                      </a:lnTo>
                      <a:lnTo>
                        <a:pt x="714" y="279"/>
                      </a:lnTo>
                      <a:lnTo>
                        <a:pt x="712" y="279"/>
                      </a:lnTo>
                      <a:lnTo>
                        <a:pt x="711" y="280"/>
                      </a:lnTo>
                      <a:lnTo>
                        <a:pt x="710" y="281"/>
                      </a:lnTo>
                      <a:lnTo>
                        <a:pt x="709" y="283"/>
                      </a:lnTo>
                      <a:lnTo>
                        <a:pt x="707" y="283"/>
                      </a:lnTo>
                      <a:lnTo>
                        <a:pt x="706" y="281"/>
                      </a:lnTo>
                      <a:lnTo>
                        <a:pt x="705" y="280"/>
                      </a:lnTo>
                      <a:lnTo>
                        <a:pt x="704" y="279"/>
                      </a:lnTo>
                      <a:lnTo>
                        <a:pt x="702" y="279"/>
                      </a:lnTo>
                      <a:lnTo>
                        <a:pt x="700" y="279"/>
                      </a:lnTo>
                      <a:lnTo>
                        <a:pt x="699" y="280"/>
                      </a:lnTo>
                      <a:lnTo>
                        <a:pt x="698" y="281"/>
                      </a:lnTo>
                      <a:lnTo>
                        <a:pt x="698" y="283"/>
                      </a:lnTo>
                      <a:lnTo>
                        <a:pt x="646" y="283"/>
                      </a:lnTo>
                      <a:lnTo>
                        <a:pt x="645" y="281"/>
                      </a:lnTo>
                      <a:lnTo>
                        <a:pt x="644" y="280"/>
                      </a:lnTo>
                      <a:lnTo>
                        <a:pt x="643" y="279"/>
                      </a:lnTo>
                      <a:lnTo>
                        <a:pt x="641" y="279"/>
                      </a:lnTo>
                      <a:lnTo>
                        <a:pt x="640" y="279"/>
                      </a:lnTo>
                      <a:lnTo>
                        <a:pt x="638" y="280"/>
                      </a:lnTo>
                      <a:lnTo>
                        <a:pt x="637" y="281"/>
                      </a:lnTo>
                      <a:lnTo>
                        <a:pt x="637" y="283"/>
                      </a:lnTo>
                      <a:lnTo>
                        <a:pt x="592" y="283"/>
                      </a:lnTo>
                      <a:lnTo>
                        <a:pt x="591" y="281"/>
                      </a:lnTo>
                      <a:lnTo>
                        <a:pt x="590" y="280"/>
                      </a:lnTo>
                      <a:lnTo>
                        <a:pt x="589" y="279"/>
                      </a:lnTo>
                      <a:lnTo>
                        <a:pt x="587" y="279"/>
                      </a:lnTo>
                      <a:lnTo>
                        <a:pt x="585" y="279"/>
                      </a:lnTo>
                      <a:lnTo>
                        <a:pt x="584" y="280"/>
                      </a:lnTo>
                      <a:lnTo>
                        <a:pt x="583" y="281"/>
                      </a:lnTo>
                      <a:lnTo>
                        <a:pt x="583" y="283"/>
                      </a:lnTo>
                      <a:lnTo>
                        <a:pt x="582" y="283"/>
                      </a:lnTo>
                      <a:lnTo>
                        <a:pt x="581" y="281"/>
                      </a:lnTo>
                      <a:lnTo>
                        <a:pt x="580" y="279"/>
                      </a:lnTo>
                      <a:lnTo>
                        <a:pt x="579" y="278"/>
                      </a:lnTo>
                      <a:lnTo>
                        <a:pt x="577" y="278"/>
                      </a:lnTo>
                      <a:lnTo>
                        <a:pt x="575" y="277"/>
                      </a:lnTo>
                      <a:lnTo>
                        <a:pt x="572" y="278"/>
                      </a:lnTo>
                      <a:lnTo>
                        <a:pt x="571" y="278"/>
                      </a:lnTo>
                      <a:lnTo>
                        <a:pt x="569" y="279"/>
                      </a:lnTo>
                      <a:lnTo>
                        <a:pt x="568" y="281"/>
                      </a:lnTo>
                      <a:lnTo>
                        <a:pt x="568" y="283"/>
                      </a:lnTo>
                      <a:lnTo>
                        <a:pt x="565" y="283"/>
                      </a:lnTo>
                      <a:lnTo>
                        <a:pt x="564" y="281"/>
                      </a:lnTo>
                      <a:lnTo>
                        <a:pt x="563" y="280"/>
                      </a:lnTo>
                      <a:lnTo>
                        <a:pt x="562" y="279"/>
                      </a:lnTo>
                      <a:lnTo>
                        <a:pt x="560" y="279"/>
                      </a:lnTo>
                      <a:lnTo>
                        <a:pt x="558" y="279"/>
                      </a:lnTo>
                      <a:lnTo>
                        <a:pt x="557" y="280"/>
                      </a:lnTo>
                      <a:lnTo>
                        <a:pt x="556" y="281"/>
                      </a:lnTo>
                      <a:lnTo>
                        <a:pt x="556" y="283"/>
                      </a:lnTo>
                      <a:lnTo>
                        <a:pt x="505" y="283"/>
                      </a:lnTo>
                      <a:lnTo>
                        <a:pt x="505" y="281"/>
                      </a:lnTo>
                      <a:lnTo>
                        <a:pt x="504" y="280"/>
                      </a:lnTo>
                      <a:lnTo>
                        <a:pt x="502" y="279"/>
                      </a:lnTo>
                      <a:lnTo>
                        <a:pt x="501" y="279"/>
                      </a:lnTo>
                      <a:lnTo>
                        <a:pt x="499" y="279"/>
                      </a:lnTo>
                      <a:lnTo>
                        <a:pt x="498" y="280"/>
                      </a:lnTo>
                      <a:lnTo>
                        <a:pt x="497" y="281"/>
                      </a:lnTo>
                      <a:lnTo>
                        <a:pt x="496" y="283"/>
                      </a:lnTo>
                      <a:lnTo>
                        <a:pt x="430" y="283"/>
                      </a:lnTo>
                      <a:lnTo>
                        <a:pt x="429" y="281"/>
                      </a:lnTo>
                      <a:lnTo>
                        <a:pt x="428" y="280"/>
                      </a:lnTo>
                      <a:lnTo>
                        <a:pt x="427" y="279"/>
                      </a:lnTo>
                      <a:lnTo>
                        <a:pt x="425" y="279"/>
                      </a:lnTo>
                      <a:lnTo>
                        <a:pt x="423" y="279"/>
                      </a:lnTo>
                      <a:lnTo>
                        <a:pt x="422" y="280"/>
                      </a:lnTo>
                      <a:lnTo>
                        <a:pt x="421" y="281"/>
                      </a:lnTo>
                      <a:lnTo>
                        <a:pt x="421" y="283"/>
                      </a:lnTo>
                      <a:lnTo>
                        <a:pt x="341" y="283"/>
                      </a:lnTo>
                      <a:lnTo>
                        <a:pt x="341" y="281"/>
                      </a:lnTo>
                      <a:lnTo>
                        <a:pt x="340" y="280"/>
                      </a:lnTo>
                      <a:lnTo>
                        <a:pt x="338" y="279"/>
                      </a:lnTo>
                      <a:lnTo>
                        <a:pt x="336" y="279"/>
                      </a:lnTo>
                      <a:lnTo>
                        <a:pt x="335" y="279"/>
                      </a:lnTo>
                      <a:lnTo>
                        <a:pt x="333" y="280"/>
                      </a:lnTo>
                      <a:lnTo>
                        <a:pt x="332" y="281"/>
                      </a:lnTo>
                      <a:lnTo>
                        <a:pt x="332" y="283"/>
                      </a:lnTo>
                      <a:lnTo>
                        <a:pt x="286" y="283"/>
                      </a:lnTo>
                      <a:lnTo>
                        <a:pt x="285" y="281"/>
                      </a:lnTo>
                      <a:lnTo>
                        <a:pt x="284" y="279"/>
                      </a:lnTo>
                      <a:lnTo>
                        <a:pt x="283" y="278"/>
                      </a:lnTo>
                      <a:lnTo>
                        <a:pt x="280" y="276"/>
                      </a:lnTo>
                      <a:lnTo>
                        <a:pt x="278" y="276"/>
                      </a:lnTo>
                      <a:lnTo>
                        <a:pt x="276" y="276"/>
                      </a:lnTo>
                      <a:lnTo>
                        <a:pt x="273" y="276"/>
                      </a:lnTo>
                      <a:lnTo>
                        <a:pt x="271" y="278"/>
                      </a:lnTo>
                      <a:lnTo>
                        <a:pt x="269" y="279"/>
                      </a:lnTo>
                      <a:lnTo>
                        <a:pt x="268" y="281"/>
                      </a:lnTo>
                      <a:lnTo>
                        <a:pt x="268" y="283"/>
                      </a:lnTo>
                      <a:lnTo>
                        <a:pt x="261" y="283"/>
                      </a:lnTo>
                      <a:lnTo>
                        <a:pt x="261" y="281"/>
                      </a:lnTo>
                      <a:lnTo>
                        <a:pt x="260" y="280"/>
                      </a:lnTo>
                      <a:lnTo>
                        <a:pt x="259" y="279"/>
                      </a:lnTo>
                      <a:lnTo>
                        <a:pt x="257" y="279"/>
                      </a:lnTo>
                      <a:lnTo>
                        <a:pt x="255" y="279"/>
                      </a:lnTo>
                      <a:lnTo>
                        <a:pt x="254" y="280"/>
                      </a:lnTo>
                      <a:lnTo>
                        <a:pt x="253" y="281"/>
                      </a:lnTo>
                      <a:lnTo>
                        <a:pt x="252" y="283"/>
                      </a:lnTo>
                      <a:lnTo>
                        <a:pt x="245" y="283"/>
                      </a:lnTo>
                      <a:lnTo>
                        <a:pt x="245" y="281"/>
                      </a:lnTo>
                      <a:lnTo>
                        <a:pt x="244" y="280"/>
                      </a:lnTo>
                      <a:lnTo>
                        <a:pt x="242" y="279"/>
                      </a:lnTo>
                      <a:lnTo>
                        <a:pt x="241" y="279"/>
                      </a:lnTo>
                      <a:lnTo>
                        <a:pt x="239" y="279"/>
                      </a:lnTo>
                      <a:lnTo>
                        <a:pt x="237" y="280"/>
                      </a:lnTo>
                      <a:lnTo>
                        <a:pt x="236" y="281"/>
                      </a:lnTo>
                      <a:lnTo>
                        <a:pt x="236" y="283"/>
                      </a:lnTo>
                      <a:lnTo>
                        <a:pt x="224" y="283"/>
                      </a:lnTo>
                      <a:lnTo>
                        <a:pt x="224" y="281"/>
                      </a:lnTo>
                      <a:lnTo>
                        <a:pt x="223" y="280"/>
                      </a:lnTo>
                      <a:lnTo>
                        <a:pt x="222" y="279"/>
                      </a:lnTo>
                      <a:lnTo>
                        <a:pt x="220" y="279"/>
                      </a:lnTo>
                      <a:lnTo>
                        <a:pt x="218" y="279"/>
                      </a:lnTo>
                      <a:lnTo>
                        <a:pt x="217" y="280"/>
                      </a:lnTo>
                      <a:lnTo>
                        <a:pt x="216" y="281"/>
                      </a:lnTo>
                      <a:lnTo>
                        <a:pt x="215" y="283"/>
                      </a:lnTo>
                      <a:lnTo>
                        <a:pt x="214" y="283"/>
                      </a:lnTo>
                      <a:lnTo>
                        <a:pt x="213" y="281"/>
                      </a:lnTo>
                      <a:lnTo>
                        <a:pt x="212" y="280"/>
                      </a:lnTo>
                      <a:lnTo>
                        <a:pt x="211" y="279"/>
                      </a:lnTo>
                      <a:lnTo>
                        <a:pt x="209" y="279"/>
                      </a:lnTo>
                      <a:lnTo>
                        <a:pt x="207" y="279"/>
                      </a:lnTo>
                      <a:lnTo>
                        <a:pt x="206" y="280"/>
                      </a:lnTo>
                      <a:lnTo>
                        <a:pt x="205" y="281"/>
                      </a:lnTo>
                      <a:lnTo>
                        <a:pt x="205" y="283"/>
                      </a:lnTo>
                      <a:lnTo>
                        <a:pt x="191" y="283"/>
                      </a:lnTo>
                      <a:lnTo>
                        <a:pt x="191" y="281"/>
                      </a:lnTo>
                      <a:lnTo>
                        <a:pt x="190" y="280"/>
                      </a:lnTo>
                      <a:lnTo>
                        <a:pt x="188" y="279"/>
                      </a:lnTo>
                      <a:lnTo>
                        <a:pt x="187" y="279"/>
                      </a:lnTo>
                      <a:lnTo>
                        <a:pt x="185" y="279"/>
                      </a:lnTo>
                      <a:lnTo>
                        <a:pt x="183" y="280"/>
                      </a:lnTo>
                      <a:lnTo>
                        <a:pt x="182" y="281"/>
                      </a:lnTo>
                      <a:lnTo>
                        <a:pt x="182" y="283"/>
                      </a:lnTo>
                      <a:lnTo>
                        <a:pt x="173" y="283"/>
                      </a:lnTo>
                      <a:lnTo>
                        <a:pt x="173" y="281"/>
                      </a:lnTo>
                      <a:lnTo>
                        <a:pt x="172" y="280"/>
                      </a:lnTo>
                      <a:lnTo>
                        <a:pt x="170" y="279"/>
                      </a:lnTo>
                      <a:lnTo>
                        <a:pt x="169" y="279"/>
                      </a:lnTo>
                      <a:lnTo>
                        <a:pt x="167" y="279"/>
                      </a:lnTo>
                      <a:lnTo>
                        <a:pt x="165" y="280"/>
                      </a:lnTo>
                      <a:lnTo>
                        <a:pt x="164" y="281"/>
                      </a:lnTo>
                      <a:lnTo>
                        <a:pt x="164" y="283"/>
                      </a:lnTo>
                      <a:lnTo>
                        <a:pt x="143" y="283"/>
                      </a:lnTo>
                      <a:lnTo>
                        <a:pt x="143" y="281"/>
                      </a:lnTo>
                      <a:lnTo>
                        <a:pt x="142" y="280"/>
                      </a:lnTo>
                      <a:lnTo>
                        <a:pt x="141" y="279"/>
                      </a:lnTo>
                      <a:lnTo>
                        <a:pt x="139" y="279"/>
                      </a:lnTo>
                      <a:lnTo>
                        <a:pt x="137" y="279"/>
                      </a:lnTo>
                      <a:lnTo>
                        <a:pt x="136" y="280"/>
                      </a:lnTo>
                      <a:lnTo>
                        <a:pt x="135" y="281"/>
                      </a:lnTo>
                      <a:lnTo>
                        <a:pt x="134" y="283"/>
                      </a:lnTo>
                      <a:lnTo>
                        <a:pt x="116" y="283"/>
                      </a:lnTo>
                      <a:lnTo>
                        <a:pt x="115" y="281"/>
                      </a:lnTo>
                      <a:lnTo>
                        <a:pt x="114" y="280"/>
                      </a:lnTo>
                      <a:lnTo>
                        <a:pt x="113" y="279"/>
                      </a:lnTo>
                      <a:lnTo>
                        <a:pt x="111" y="279"/>
                      </a:lnTo>
                      <a:lnTo>
                        <a:pt x="109" y="279"/>
                      </a:lnTo>
                      <a:lnTo>
                        <a:pt x="108" y="280"/>
                      </a:lnTo>
                      <a:lnTo>
                        <a:pt x="107" y="281"/>
                      </a:lnTo>
                      <a:lnTo>
                        <a:pt x="107" y="283"/>
                      </a:lnTo>
                      <a:lnTo>
                        <a:pt x="96" y="283"/>
                      </a:lnTo>
                      <a:lnTo>
                        <a:pt x="95" y="281"/>
                      </a:lnTo>
                      <a:lnTo>
                        <a:pt x="94" y="280"/>
                      </a:lnTo>
                      <a:lnTo>
                        <a:pt x="93" y="279"/>
                      </a:lnTo>
                      <a:lnTo>
                        <a:pt x="91" y="279"/>
                      </a:lnTo>
                      <a:lnTo>
                        <a:pt x="89" y="279"/>
                      </a:lnTo>
                      <a:lnTo>
                        <a:pt x="88" y="280"/>
                      </a:lnTo>
                      <a:lnTo>
                        <a:pt x="87" y="281"/>
                      </a:lnTo>
                      <a:lnTo>
                        <a:pt x="87" y="283"/>
                      </a:lnTo>
                      <a:lnTo>
                        <a:pt x="74" y="283"/>
                      </a:lnTo>
                      <a:lnTo>
                        <a:pt x="74" y="281"/>
                      </a:lnTo>
                      <a:lnTo>
                        <a:pt x="73" y="280"/>
                      </a:lnTo>
                      <a:lnTo>
                        <a:pt x="71" y="279"/>
                      </a:lnTo>
                      <a:lnTo>
                        <a:pt x="69" y="279"/>
                      </a:lnTo>
                      <a:lnTo>
                        <a:pt x="68" y="279"/>
                      </a:lnTo>
                      <a:lnTo>
                        <a:pt x="66" y="280"/>
                      </a:lnTo>
                      <a:lnTo>
                        <a:pt x="65" y="281"/>
                      </a:lnTo>
                      <a:lnTo>
                        <a:pt x="65" y="283"/>
                      </a:lnTo>
                      <a:lnTo>
                        <a:pt x="51" y="283"/>
                      </a:lnTo>
                      <a:lnTo>
                        <a:pt x="50" y="281"/>
                      </a:lnTo>
                      <a:lnTo>
                        <a:pt x="49" y="280"/>
                      </a:lnTo>
                      <a:lnTo>
                        <a:pt x="48" y="279"/>
                      </a:lnTo>
                      <a:lnTo>
                        <a:pt x="46" y="279"/>
                      </a:lnTo>
                      <a:lnTo>
                        <a:pt x="44" y="279"/>
                      </a:lnTo>
                      <a:lnTo>
                        <a:pt x="43" y="280"/>
                      </a:lnTo>
                      <a:lnTo>
                        <a:pt x="42" y="281"/>
                      </a:lnTo>
                      <a:lnTo>
                        <a:pt x="42" y="283"/>
                      </a:lnTo>
                      <a:lnTo>
                        <a:pt x="32" y="283"/>
                      </a:lnTo>
                      <a:lnTo>
                        <a:pt x="32" y="281"/>
                      </a:lnTo>
                      <a:lnTo>
                        <a:pt x="31" y="280"/>
                      </a:lnTo>
                      <a:lnTo>
                        <a:pt x="29" y="279"/>
                      </a:lnTo>
                      <a:lnTo>
                        <a:pt x="28" y="279"/>
                      </a:lnTo>
                      <a:lnTo>
                        <a:pt x="26" y="279"/>
                      </a:lnTo>
                      <a:lnTo>
                        <a:pt x="24" y="280"/>
                      </a:lnTo>
                      <a:lnTo>
                        <a:pt x="24" y="281"/>
                      </a:lnTo>
                      <a:lnTo>
                        <a:pt x="23" y="283"/>
                      </a:lnTo>
                      <a:lnTo>
                        <a:pt x="0" y="283"/>
                      </a:lnTo>
                      <a:lnTo>
                        <a:pt x="0" y="294"/>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6722280" y="335448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44" name=""/>
                <p:cNvSpPr/>
                <p:nvPr/>
              </p:nvSpPr>
              <p:spPr>
                <a:xfrm>
                  <a:off x="575532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45" name=""/>
                <p:cNvSpPr/>
                <p:nvPr/>
              </p:nvSpPr>
              <p:spPr>
                <a:xfrm>
                  <a:off x="5791320" y="2981880"/>
                  <a:ext cx="812880" cy="776880"/>
                </a:xfrm>
                <a:custGeom>
                  <a:avLst/>
                  <a:gdLst/>
                  <a:ahLst/>
                  <a:rect l="l" t="t" r="r" b="b"/>
                  <a:pathLst>
                    <a:path w="768" h="582">
                      <a:moveTo>
                        <a:pt x="768" y="0"/>
                      </a:moveTo>
                      <a:lnTo>
                        <a:pt x="768" y="533"/>
                      </a:lnTo>
                      <a:lnTo>
                        <a:pt x="763" y="533"/>
                      </a:lnTo>
                      <a:lnTo>
                        <a:pt x="762" y="532"/>
                      </a:lnTo>
                      <a:lnTo>
                        <a:pt x="762" y="531"/>
                      </a:lnTo>
                      <a:lnTo>
                        <a:pt x="760" y="530"/>
                      </a:lnTo>
                      <a:lnTo>
                        <a:pt x="758" y="530"/>
                      </a:lnTo>
                      <a:lnTo>
                        <a:pt x="757" y="530"/>
                      </a:lnTo>
                      <a:lnTo>
                        <a:pt x="755" y="531"/>
                      </a:lnTo>
                      <a:lnTo>
                        <a:pt x="754" y="532"/>
                      </a:lnTo>
                      <a:lnTo>
                        <a:pt x="754" y="533"/>
                      </a:lnTo>
                      <a:lnTo>
                        <a:pt x="690" y="533"/>
                      </a:lnTo>
                      <a:lnTo>
                        <a:pt x="690" y="532"/>
                      </a:lnTo>
                      <a:lnTo>
                        <a:pt x="689" y="531"/>
                      </a:lnTo>
                      <a:lnTo>
                        <a:pt x="688" y="530"/>
                      </a:lnTo>
                      <a:lnTo>
                        <a:pt x="686" y="530"/>
                      </a:lnTo>
                      <a:lnTo>
                        <a:pt x="684" y="530"/>
                      </a:lnTo>
                      <a:lnTo>
                        <a:pt x="683" y="531"/>
                      </a:lnTo>
                      <a:lnTo>
                        <a:pt x="682" y="532"/>
                      </a:lnTo>
                      <a:lnTo>
                        <a:pt x="681" y="533"/>
                      </a:lnTo>
                      <a:lnTo>
                        <a:pt x="679" y="533"/>
                      </a:lnTo>
                      <a:lnTo>
                        <a:pt x="678" y="532"/>
                      </a:lnTo>
                      <a:lnTo>
                        <a:pt x="677" y="531"/>
                      </a:lnTo>
                      <a:lnTo>
                        <a:pt x="676" y="530"/>
                      </a:lnTo>
                      <a:lnTo>
                        <a:pt x="674" y="530"/>
                      </a:lnTo>
                      <a:lnTo>
                        <a:pt x="672" y="530"/>
                      </a:lnTo>
                      <a:lnTo>
                        <a:pt x="671" y="531"/>
                      </a:lnTo>
                      <a:lnTo>
                        <a:pt x="670" y="532"/>
                      </a:lnTo>
                      <a:lnTo>
                        <a:pt x="670" y="533"/>
                      </a:lnTo>
                      <a:lnTo>
                        <a:pt x="618" y="533"/>
                      </a:lnTo>
                      <a:lnTo>
                        <a:pt x="617" y="532"/>
                      </a:lnTo>
                      <a:lnTo>
                        <a:pt x="616" y="531"/>
                      </a:lnTo>
                      <a:lnTo>
                        <a:pt x="615" y="530"/>
                      </a:lnTo>
                      <a:lnTo>
                        <a:pt x="613" y="530"/>
                      </a:lnTo>
                      <a:lnTo>
                        <a:pt x="612" y="530"/>
                      </a:lnTo>
                      <a:lnTo>
                        <a:pt x="610" y="531"/>
                      </a:lnTo>
                      <a:lnTo>
                        <a:pt x="609" y="532"/>
                      </a:lnTo>
                      <a:lnTo>
                        <a:pt x="609" y="533"/>
                      </a:lnTo>
                      <a:lnTo>
                        <a:pt x="564" y="533"/>
                      </a:lnTo>
                      <a:lnTo>
                        <a:pt x="563" y="532"/>
                      </a:lnTo>
                      <a:lnTo>
                        <a:pt x="562" y="531"/>
                      </a:lnTo>
                      <a:lnTo>
                        <a:pt x="561" y="530"/>
                      </a:lnTo>
                      <a:lnTo>
                        <a:pt x="559" y="530"/>
                      </a:lnTo>
                      <a:lnTo>
                        <a:pt x="557" y="530"/>
                      </a:lnTo>
                      <a:lnTo>
                        <a:pt x="556" y="531"/>
                      </a:lnTo>
                      <a:lnTo>
                        <a:pt x="555" y="532"/>
                      </a:lnTo>
                      <a:lnTo>
                        <a:pt x="555" y="533"/>
                      </a:lnTo>
                      <a:lnTo>
                        <a:pt x="554" y="533"/>
                      </a:lnTo>
                      <a:lnTo>
                        <a:pt x="553" y="532"/>
                      </a:lnTo>
                      <a:lnTo>
                        <a:pt x="552" y="530"/>
                      </a:lnTo>
                      <a:lnTo>
                        <a:pt x="551" y="529"/>
                      </a:lnTo>
                      <a:lnTo>
                        <a:pt x="549" y="528"/>
                      </a:lnTo>
                      <a:lnTo>
                        <a:pt x="547" y="528"/>
                      </a:lnTo>
                      <a:lnTo>
                        <a:pt x="545" y="528"/>
                      </a:lnTo>
                      <a:lnTo>
                        <a:pt x="543" y="529"/>
                      </a:lnTo>
                      <a:lnTo>
                        <a:pt x="541" y="530"/>
                      </a:lnTo>
                      <a:lnTo>
                        <a:pt x="540" y="532"/>
                      </a:lnTo>
                      <a:lnTo>
                        <a:pt x="540" y="533"/>
                      </a:lnTo>
                      <a:lnTo>
                        <a:pt x="537" y="533"/>
                      </a:lnTo>
                      <a:lnTo>
                        <a:pt x="536" y="532"/>
                      </a:lnTo>
                      <a:lnTo>
                        <a:pt x="535" y="531"/>
                      </a:lnTo>
                      <a:lnTo>
                        <a:pt x="534" y="530"/>
                      </a:lnTo>
                      <a:lnTo>
                        <a:pt x="532" y="530"/>
                      </a:lnTo>
                      <a:lnTo>
                        <a:pt x="530" y="530"/>
                      </a:lnTo>
                      <a:lnTo>
                        <a:pt x="529" y="531"/>
                      </a:lnTo>
                      <a:lnTo>
                        <a:pt x="528" y="532"/>
                      </a:lnTo>
                      <a:lnTo>
                        <a:pt x="528" y="533"/>
                      </a:lnTo>
                      <a:lnTo>
                        <a:pt x="477" y="533"/>
                      </a:lnTo>
                      <a:lnTo>
                        <a:pt x="477" y="532"/>
                      </a:lnTo>
                      <a:lnTo>
                        <a:pt x="476" y="531"/>
                      </a:lnTo>
                      <a:lnTo>
                        <a:pt x="474" y="530"/>
                      </a:lnTo>
                      <a:lnTo>
                        <a:pt x="473" y="530"/>
                      </a:lnTo>
                      <a:lnTo>
                        <a:pt x="471" y="530"/>
                      </a:lnTo>
                      <a:lnTo>
                        <a:pt x="470" y="531"/>
                      </a:lnTo>
                      <a:lnTo>
                        <a:pt x="469" y="532"/>
                      </a:lnTo>
                      <a:lnTo>
                        <a:pt x="468" y="533"/>
                      </a:lnTo>
                      <a:lnTo>
                        <a:pt x="402" y="533"/>
                      </a:lnTo>
                      <a:lnTo>
                        <a:pt x="401" y="532"/>
                      </a:lnTo>
                      <a:lnTo>
                        <a:pt x="400" y="531"/>
                      </a:lnTo>
                      <a:lnTo>
                        <a:pt x="399" y="530"/>
                      </a:lnTo>
                      <a:lnTo>
                        <a:pt x="397" y="530"/>
                      </a:lnTo>
                      <a:lnTo>
                        <a:pt x="395" y="530"/>
                      </a:lnTo>
                      <a:lnTo>
                        <a:pt x="394" y="531"/>
                      </a:lnTo>
                      <a:lnTo>
                        <a:pt x="393" y="532"/>
                      </a:lnTo>
                      <a:lnTo>
                        <a:pt x="393" y="533"/>
                      </a:lnTo>
                      <a:lnTo>
                        <a:pt x="313" y="533"/>
                      </a:lnTo>
                      <a:lnTo>
                        <a:pt x="313" y="532"/>
                      </a:lnTo>
                      <a:lnTo>
                        <a:pt x="312" y="531"/>
                      </a:lnTo>
                      <a:lnTo>
                        <a:pt x="310" y="530"/>
                      </a:lnTo>
                      <a:lnTo>
                        <a:pt x="308" y="530"/>
                      </a:lnTo>
                      <a:lnTo>
                        <a:pt x="307" y="530"/>
                      </a:lnTo>
                      <a:lnTo>
                        <a:pt x="305" y="531"/>
                      </a:lnTo>
                      <a:lnTo>
                        <a:pt x="304" y="532"/>
                      </a:lnTo>
                      <a:lnTo>
                        <a:pt x="304" y="533"/>
                      </a:lnTo>
                      <a:lnTo>
                        <a:pt x="258" y="533"/>
                      </a:lnTo>
                      <a:lnTo>
                        <a:pt x="257" y="531"/>
                      </a:lnTo>
                      <a:lnTo>
                        <a:pt x="256" y="530"/>
                      </a:lnTo>
                      <a:lnTo>
                        <a:pt x="255" y="528"/>
                      </a:lnTo>
                      <a:lnTo>
                        <a:pt x="252" y="527"/>
                      </a:lnTo>
                      <a:lnTo>
                        <a:pt x="250" y="527"/>
                      </a:lnTo>
                      <a:lnTo>
                        <a:pt x="248" y="527"/>
                      </a:lnTo>
                      <a:lnTo>
                        <a:pt x="245" y="527"/>
                      </a:lnTo>
                      <a:lnTo>
                        <a:pt x="243" y="528"/>
                      </a:lnTo>
                      <a:lnTo>
                        <a:pt x="241" y="530"/>
                      </a:lnTo>
                      <a:lnTo>
                        <a:pt x="240" y="531"/>
                      </a:lnTo>
                      <a:lnTo>
                        <a:pt x="240" y="533"/>
                      </a:lnTo>
                      <a:lnTo>
                        <a:pt x="233" y="533"/>
                      </a:lnTo>
                      <a:lnTo>
                        <a:pt x="233" y="532"/>
                      </a:lnTo>
                      <a:lnTo>
                        <a:pt x="232" y="531"/>
                      </a:lnTo>
                      <a:lnTo>
                        <a:pt x="231" y="530"/>
                      </a:lnTo>
                      <a:lnTo>
                        <a:pt x="229" y="530"/>
                      </a:lnTo>
                      <a:lnTo>
                        <a:pt x="227" y="530"/>
                      </a:lnTo>
                      <a:lnTo>
                        <a:pt x="226" y="531"/>
                      </a:lnTo>
                      <a:lnTo>
                        <a:pt x="225" y="532"/>
                      </a:lnTo>
                      <a:lnTo>
                        <a:pt x="224" y="533"/>
                      </a:lnTo>
                      <a:lnTo>
                        <a:pt x="217" y="533"/>
                      </a:lnTo>
                      <a:lnTo>
                        <a:pt x="217" y="532"/>
                      </a:lnTo>
                      <a:lnTo>
                        <a:pt x="216" y="531"/>
                      </a:lnTo>
                      <a:lnTo>
                        <a:pt x="214" y="530"/>
                      </a:lnTo>
                      <a:lnTo>
                        <a:pt x="213" y="530"/>
                      </a:lnTo>
                      <a:lnTo>
                        <a:pt x="211" y="530"/>
                      </a:lnTo>
                      <a:lnTo>
                        <a:pt x="209" y="531"/>
                      </a:lnTo>
                      <a:lnTo>
                        <a:pt x="208" y="532"/>
                      </a:lnTo>
                      <a:lnTo>
                        <a:pt x="208" y="533"/>
                      </a:lnTo>
                      <a:lnTo>
                        <a:pt x="196" y="533"/>
                      </a:lnTo>
                      <a:lnTo>
                        <a:pt x="196" y="532"/>
                      </a:lnTo>
                      <a:lnTo>
                        <a:pt x="195" y="531"/>
                      </a:lnTo>
                      <a:lnTo>
                        <a:pt x="194" y="530"/>
                      </a:lnTo>
                      <a:lnTo>
                        <a:pt x="192" y="530"/>
                      </a:lnTo>
                      <a:lnTo>
                        <a:pt x="190" y="530"/>
                      </a:lnTo>
                      <a:lnTo>
                        <a:pt x="189" y="531"/>
                      </a:lnTo>
                      <a:lnTo>
                        <a:pt x="188" y="532"/>
                      </a:lnTo>
                      <a:lnTo>
                        <a:pt x="188" y="533"/>
                      </a:lnTo>
                      <a:lnTo>
                        <a:pt x="186" y="533"/>
                      </a:lnTo>
                      <a:lnTo>
                        <a:pt x="185" y="532"/>
                      </a:lnTo>
                      <a:lnTo>
                        <a:pt x="184" y="531"/>
                      </a:lnTo>
                      <a:lnTo>
                        <a:pt x="183" y="530"/>
                      </a:lnTo>
                      <a:lnTo>
                        <a:pt x="181" y="530"/>
                      </a:lnTo>
                      <a:lnTo>
                        <a:pt x="179" y="530"/>
                      </a:lnTo>
                      <a:lnTo>
                        <a:pt x="178" y="531"/>
                      </a:lnTo>
                      <a:lnTo>
                        <a:pt x="177" y="532"/>
                      </a:lnTo>
                      <a:lnTo>
                        <a:pt x="177" y="533"/>
                      </a:lnTo>
                      <a:lnTo>
                        <a:pt x="172" y="533"/>
                      </a:lnTo>
                      <a:lnTo>
                        <a:pt x="172" y="532"/>
                      </a:lnTo>
                      <a:lnTo>
                        <a:pt x="171" y="531"/>
                      </a:lnTo>
                      <a:lnTo>
                        <a:pt x="169" y="530"/>
                      </a:lnTo>
                      <a:lnTo>
                        <a:pt x="168" y="530"/>
                      </a:lnTo>
                      <a:lnTo>
                        <a:pt x="166" y="530"/>
                      </a:lnTo>
                      <a:lnTo>
                        <a:pt x="164" y="531"/>
                      </a:lnTo>
                      <a:lnTo>
                        <a:pt x="163" y="532"/>
                      </a:lnTo>
                      <a:lnTo>
                        <a:pt x="163" y="533"/>
                      </a:lnTo>
                      <a:lnTo>
                        <a:pt x="163" y="533"/>
                      </a:lnTo>
                      <a:lnTo>
                        <a:pt x="163" y="532"/>
                      </a:lnTo>
                      <a:lnTo>
                        <a:pt x="162" y="531"/>
                      </a:lnTo>
                      <a:lnTo>
                        <a:pt x="160" y="530"/>
                      </a:lnTo>
                      <a:lnTo>
                        <a:pt x="159" y="530"/>
                      </a:lnTo>
                      <a:lnTo>
                        <a:pt x="157" y="530"/>
                      </a:lnTo>
                      <a:lnTo>
                        <a:pt x="155" y="531"/>
                      </a:lnTo>
                      <a:lnTo>
                        <a:pt x="154" y="532"/>
                      </a:lnTo>
                      <a:lnTo>
                        <a:pt x="154" y="533"/>
                      </a:lnTo>
                      <a:lnTo>
                        <a:pt x="145" y="533"/>
                      </a:lnTo>
                      <a:lnTo>
                        <a:pt x="145" y="532"/>
                      </a:lnTo>
                      <a:lnTo>
                        <a:pt x="144" y="531"/>
                      </a:lnTo>
                      <a:lnTo>
                        <a:pt x="142" y="530"/>
                      </a:lnTo>
                      <a:lnTo>
                        <a:pt x="141" y="530"/>
                      </a:lnTo>
                      <a:lnTo>
                        <a:pt x="139" y="530"/>
                      </a:lnTo>
                      <a:lnTo>
                        <a:pt x="137" y="531"/>
                      </a:lnTo>
                      <a:lnTo>
                        <a:pt x="136" y="532"/>
                      </a:lnTo>
                      <a:lnTo>
                        <a:pt x="136" y="533"/>
                      </a:lnTo>
                      <a:lnTo>
                        <a:pt x="88" y="533"/>
                      </a:lnTo>
                      <a:lnTo>
                        <a:pt x="87" y="532"/>
                      </a:lnTo>
                      <a:lnTo>
                        <a:pt x="86" y="531"/>
                      </a:lnTo>
                      <a:lnTo>
                        <a:pt x="85" y="530"/>
                      </a:lnTo>
                      <a:lnTo>
                        <a:pt x="83" y="530"/>
                      </a:lnTo>
                      <a:lnTo>
                        <a:pt x="81" y="530"/>
                      </a:lnTo>
                      <a:lnTo>
                        <a:pt x="80" y="531"/>
                      </a:lnTo>
                      <a:lnTo>
                        <a:pt x="79" y="532"/>
                      </a:lnTo>
                      <a:lnTo>
                        <a:pt x="79" y="533"/>
                      </a:lnTo>
                      <a:lnTo>
                        <a:pt x="68" y="533"/>
                      </a:lnTo>
                      <a:lnTo>
                        <a:pt x="67" y="532"/>
                      </a:lnTo>
                      <a:lnTo>
                        <a:pt x="66" y="531"/>
                      </a:lnTo>
                      <a:lnTo>
                        <a:pt x="65" y="530"/>
                      </a:lnTo>
                      <a:lnTo>
                        <a:pt x="63" y="530"/>
                      </a:lnTo>
                      <a:lnTo>
                        <a:pt x="62" y="530"/>
                      </a:lnTo>
                      <a:lnTo>
                        <a:pt x="60" y="531"/>
                      </a:lnTo>
                      <a:lnTo>
                        <a:pt x="59" y="532"/>
                      </a:lnTo>
                      <a:lnTo>
                        <a:pt x="59" y="533"/>
                      </a:lnTo>
                      <a:lnTo>
                        <a:pt x="46" y="533"/>
                      </a:lnTo>
                      <a:lnTo>
                        <a:pt x="46" y="532"/>
                      </a:lnTo>
                      <a:lnTo>
                        <a:pt x="45" y="531"/>
                      </a:lnTo>
                      <a:lnTo>
                        <a:pt x="43" y="530"/>
                      </a:lnTo>
                      <a:lnTo>
                        <a:pt x="41" y="530"/>
                      </a:lnTo>
                      <a:lnTo>
                        <a:pt x="40" y="530"/>
                      </a:lnTo>
                      <a:lnTo>
                        <a:pt x="38" y="531"/>
                      </a:lnTo>
                      <a:lnTo>
                        <a:pt x="37" y="532"/>
                      </a:lnTo>
                      <a:lnTo>
                        <a:pt x="37" y="533"/>
                      </a:lnTo>
                      <a:lnTo>
                        <a:pt x="23" y="533"/>
                      </a:lnTo>
                      <a:lnTo>
                        <a:pt x="22" y="532"/>
                      </a:lnTo>
                      <a:lnTo>
                        <a:pt x="21" y="531"/>
                      </a:lnTo>
                      <a:lnTo>
                        <a:pt x="20" y="530"/>
                      </a:lnTo>
                      <a:lnTo>
                        <a:pt x="18" y="530"/>
                      </a:lnTo>
                      <a:lnTo>
                        <a:pt x="16" y="530"/>
                      </a:lnTo>
                      <a:lnTo>
                        <a:pt x="15" y="531"/>
                      </a:lnTo>
                      <a:lnTo>
                        <a:pt x="14" y="532"/>
                      </a:lnTo>
                      <a:lnTo>
                        <a:pt x="14" y="533"/>
                      </a:lnTo>
                      <a:lnTo>
                        <a:pt x="0" y="533"/>
                      </a:lnTo>
                      <a:lnTo>
                        <a:pt x="0" y="5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6598080" y="29696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47" name=""/>
                <p:cNvSpPr/>
                <p:nvPr/>
              </p:nvSpPr>
              <p:spPr>
                <a:xfrm>
                  <a:off x="578520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48" name=""/>
                <p:cNvSpPr/>
                <p:nvPr/>
              </p:nvSpPr>
              <p:spPr>
                <a:xfrm>
                  <a:off x="5652720" y="2675880"/>
                  <a:ext cx="1189800" cy="1082880"/>
                </a:xfrm>
                <a:custGeom>
                  <a:avLst/>
                  <a:gdLst/>
                  <a:ahLst/>
                  <a:rect l="l" t="t" r="r" b="b"/>
                  <a:pathLst>
                    <a:path w="1124" h="811">
                      <a:moveTo>
                        <a:pt x="1124" y="7"/>
                      </a:moveTo>
                      <a:lnTo>
                        <a:pt x="1116" y="7"/>
                      </a:lnTo>
                      <a:lnTo>
                        <a:pt x="1115" y="6"/>
                      </a:lnTo>
                      <a:lnTo>
                        <a:pt x="1114" y="4"/>
                      </a:lnTo>
                      <a:lnTo>
                        <a:pt x="1113" y="4"/>
                      </a:lnTo>
                      <a:lnTo>
                        <a:pt x="1111" y="3"/>
                      </a:lnTo>
                      <a:lnTo>
                        <a:pt x="1109" y="4"/>
                      </a:lnTo>
                      <a:lnTo>
                        <a:pt x="1108" y="4"/>
                      </a:lnTo>
                      <a:lnTo>
                        <a:pt x="1107" y="6"/>
                      </a:lnTo>
                      <a:lnTo>
                        <a:pt x="1107" y="7"/>
                      </a:lnTo>
                      <a:lnTo>
                        <a:pt x="1089" y="7"/>
                      </a:lnTo>
                      <a:lnTo>
                        <a:pt x="1088" y="6"/>
                      </a:lnTo>
                      <a:lnTo>
                        <a:pt x="1087" y="4"/>
                      </a:lnTo>
                      <a:lnTo>
                        <a:pt x="1086" y="4"/>
                      </a:lnTo>
                      <a:lnTo>
                        <a:pt x="1084" y="3"/>
                      </a:lnTo>
                      <a:lnTo>
                        <a:pt x="1083" y="4"/>
                      </a:lnTo>
                      <a:lnTo>
                        <a:pt x="1081" y="4"/>
                      </a:lnTo>
                      <a:lnTo>
                        <a:pt x="1080" y="6"/>
                      </a:lnTo>
                      <a:lnTo>
                        <a:pt x="1080" y="7"/>
                      </a:lnTo>
                      <a:lnTo>
                        <a:pt x="1054" y="7"/>
                      </a:lnTo>
                      <a:lnTo>
                        <a:pt x="1054" y="6"/>
                      </a:lnTo>
                      <a:lnTo>
                        <a:pt x="1053" y="4"/>
                      </a:lnTo>
                      <a:lnTo>
                        <a:pt x="1052" y="4"/>
                      </a:lnTo>
                      <a:lnTo>
                        <a:pt x="1050" y="3"/>
                      </a:lnTo>
                      <a:lnTo>
                        <a:pt x="1048" y="4"/>
                      </a:lnTo>
                      <a:lnTo>
                        <a:pt x="1047" y="4"/>
                      </a:lnTo>
                      <a:lnTo>
                        <a:pt x="1046" y="6"/>
                      </a:lnTo>
                      <a:lnTo>
                        <a:pt x="1045" y="7"/>
                      </a:lnTo>
                      <a:lnTo>
                        <a:pt x="1036" y="7"/>
                      </a:lnTo>
                      <a:lnTo>
                        <a:pt x="1036" y="6"/>
                      </a:lnTo>
                      <a:lnTo>
                        <a:pt x="1034" y="4"/>
                      </a:lnTo>
                      <a:lnTo>
                        <a:pt x="1033" y="4"/>
                      </a:lnTo>
                      <a:lnTo>
                        <a:pt x="1031" y="3"/>
                      </a:lnTo>
                      <a:lnTo>
                        <a:pt x="1030" y="4"/>
                      </a:lnTo>
                      <a:lnTo>
                        <a:pt x="1028" y="4"/>
                      </a:lnTo>
                      <a:lnTo>
                        <a:pt x="1027" y="6"/>
                      </a:lnTo>
                      <a:lnTo>
                        <a:pt x="1027" y="7"/>
                      </a:lnTo>
                      <a:lnTo>
                        <a:pt x="1015" y="7"/>
                      </a:lnTo>
                      <a:lnTo>
                        <a:pt x="1014" y="6"/>
                      </a:lnTo>
                      <a:lnTo>
                        <a:pt x="1013" y="4"/>
                      </a:lnTo>
                      <a:lnTo>
                        <a:pt x="1012" y="4"/>
                      </a:lnTo>
                      <a:lnTo>
                        <a:pt x="1010" y="3"/>
                      </a:lnTo>
                      <a:lnTo>
                        <a:pt x="1008" y="4"/>
                      </a:lnTo>
                      <a:lnTo>
                        <a:pt x="1007" y="4"/>
                      </a:lnTo>
                      <a:lnTo>
                        <a:pt x="1006" y="6"/>
                      </a:lnTo>
                      <a:lnTo>
                        <a:pt x="1005" y="7"/>
                      </a:lnTo>
                      <a:lnTo>
                        <a:pt x="992" y="7"/>
                      </a:lnTo>
                      <a:lnTo>
                        <a:pt x="992" y="6"/>
                      </a:lnTo>
                      <a:lnTo>
                        <a:pt x="991" y="4"/>
                      </a:lnTo>
                      <a:lnTo>
                        <a:pt x="989" y="4"/>
                      </a:lnTo>
                      <a:lnTo>
                        <a:pt x="987" y="3"/>
                      </a:lnTo>
                      <a:lnTo>
                        <a:pt x="986" y="4"/>
                      </a:lnTo>
                      <a:lnTo>
                        <a:pt x="984" y="4"/>
                      </a:lnTo>
                      <a:lnTo>
                        <a:pt x="983" y="6"/>
                      </a:lnTo>
                      <a:lnTo>
                        <a:pt x="983" y="7"/>
                      </a:lnTo>
                      <a:lnTo>
                        <a:pt x="971" y="7"/>
                      </a:lnTo>
                      <a:lnTo>
                        <a:pt x="971" y="6"/>
                      </a:lnTo>
                      <a:lnTo>
                        <a:pt x="970" y="4"/>
                      </a:lnTo>
                      <a:lnTo>
                        <a:pt x="969" y="4"/>
                      </a:lnTo>
                      <a:lnTo>
                        <a:pt x="967" y="3"/>
                      </a:lnTo>
                      <a:lnTo>
                        <a:pt x="965" y="4"/>
                      </a:lnTo>
                      <a:lnTo>
                        <a:pt x="964" y="4"/>
                      </a:lnTo>
                      <a:lnTo>
                        <a:pt x="963" y="6"/>
                      </a:lnTo>
                      <a:lnTo>
                        <a:pt x="962" y="7"/>
                      </a:lnTo>
                      <a:lnTo>
                        <a:pt x="923" y="7"/>
                      </a:lnTo>
                      <a:lnTo>
                        <a:pt x="922" y="5"/>
                      </a:lnTo>
                      <a:lnTo>
                        <a:pt x="922" y="3"/>
                      </a:lnTo>
                      <a:lnTo>
                        <a:pt x="920" y="2"/>
                      </a:lnTo>
                      <a:lnTo>
                        <a:pt x="918" y="1"/>
                      </a:lnTo>
                      <a:lnTo>
                        <a:pt x="916" y="0"/>
                      </a:lnTo>
                      <a:lnTo>
                        <a:pt x="914" y="0"/>
                      </a:lnTo>
                      <a:lnTo>
                        <a:pt x="911" y="0"/>
                      </a:lnTo>
                      <a:lnTo>
                        <a:pt x="909" y="1"/>
                      </a:lnTo>
                      <a:lnTo>
                        <a:pt x="908" y="2"/>
                      </a:lnTo>
                      <a:lnTo>
                        <a:pt x="906" y="3"/>
                      </a:lnTo>
                      <a:lnTo>
                        <a:pt x="905" y="5"/>
                      </a:lnTo>
                      <a:lnTo>
                        <a:pt x="905" y="7"/>
                      </a:lnTo>
                      <a:lnTo>
                        <a:pt x="843" y="7"/>
                      </a:lnTo>
                      <a:lnTo>
                        <a:pt x="843" y="6"/>
                      </a:lnTo>
                      <a:lnTo>
                        <a:pt x="842" y="4"/>
                      </a:lnTo>
                      <a:lnTo>
                        <a:pt x="841" y="4"/>
                      </a:lnTo>
                      <a:lnTo>
                        <a:pt x="839" y="3"/>
                      </a:lnTo>
                      <a:lnTo>
                        <a:pt x="837" y="4"/>
                      </a:lnTo>
                      <a:lnTo>
                        <a:pt x="836" y="4"/>
                      </a:lnTo>
                      <a:lnTo>
                        <a:pt x="835" y="6"/>
                      </a:lnTo>
                      <a:lnTo>
                        <a:pt x="834" y="7"/>
                      </a:lnTo>
                      <a:lnTo>
                        <a:pt x="770" y="7"/>
                      </a:lnTo>
                      <a:lnTo>
                        <a:pt x="770" y="6"/>
                      </a:lnTo>
                      <a:lnTo>
                        <a:pt x="769" y="4"/>
                      </a:lnTo>
                      <a:lnTo>
                        <a:pt x="768" y="4"/>
                      </a:lnTo>
                      <a:lnTo>
                        <a:pt x="766" y="3"/>
                      </a:lnTo>
                      <a:lnTo>
                        <a:pt x="764" y="4"/>
                      </a:lnTo>
                      <a:lnTo>
                        <a:pt x="763" y="4"/>
                      </a:lnTo>
                      <a:lnTo>
                        <a:pt x="762" y="6"/>
                      </a:lnTo>
                      <a:lnTo>
                        <a:pt x="761" y="7"/>
                      </a:lnTo>
                      <a:lnTo>
                        <a:pt x="749" y="7"/>
                      </a:lnTo>
                      <a:lnTo>
                        <a:pt x="748" y="6"/>
                      </a:lnTo>
                      <a:lnTo>
                        <a:pt x="747" y="4"/>
                      </a:lnTo>
                      <a:lnTo>
                        <a:pt x="746" y="4"/>
                      </a:lnTo>
                      <a:lnTo>
                        <a:pt x="744" y="3"/>
                      </a:lnTo>
                      <a:lnTo>
                        <a:pt x="743" y="4"/>
                      </a:lnTo>
                      <a:lnTo>
                        <a:pt x="741" y="4"/>
                      </a:lnTo>
                      <a:lnTo>
                        <a:pt x="740" y="6"/>
                      </a:lnTo>
                      <a:lnTo>
                        <a:pt x="740" y="7"/>
                      </a:lnTo>
                      <a:lnTo>
                        <a:pt x="725" y="7"/>
                      </a:lnTo>
                      <a:lnTo>
                        <a:pt x="725" y="6"/>
                      </a:lnTo>
                      <a:lnTo>
                        <a:pt x="724" y="4"/>
                      </a:lnTo>
                      <a:lnTo>
                        <a:pt x="722" y="4"/>
                      </a:lnTo>
                      <a:lnTo>
                        <a:pt x="721" y="3"/>
                      </a:lnTo>
                      <a:lnTo>
                        <a:pt x="719" y="4"/>
                      </a:lnTo>
                      <a:lnTo>
                        <a:pt x="717" y="4"/>
                      </a:lnTo>
                      <a:lnTo>
                        <a:pt x="717" y="6"/>
                      </a:lnTo>
                      <a:lnTo>
                        <a:pt x="716" y="7"/>
                      </a:lnTo>
                      <a:lnTo>
                        <a:pt x="705" y="7"/>
                      </a:lnTo>
                      <a:lnTo>
                        <a:pt x="705" y="6"/>
                      </a:lnTo>
                      <a:lnTo>
                        <a:pt x="704" y="4"/>
                      </a:lnTo>
                      <a:lnTo>
                        <a:pt x="702" y="4"/>
                      </a:lnTo>
                      <a:lnTo>
                        <a:pt x="700" y="3"/>
                      </a:lnTo>
                      <a:lnTo>
                        <a:pt x="699" y="4"/>
                      </a:lnTo>
                      <a:lnTo>
                        <a:pt x="697" y="4"/>
                      </a:lnTo>
                      <a:lnTo>
                        <a:pt x="696" y="6"/>
                      </a:lnTo>
                      <a:lnTo>
                        <a:pt x="696" y="7"/>
                      </a:lnTo>
                      <a:lnTo>
                        <a:pt x="685" y="7"/>
                      </a:lnTo>
                      <a:lnTo>
                        <a:pt x="684" y="6"/>
                      </a:lnTo>
                      <a:lnTo>
                        <a:pt x="683" y="4"/>
                      </a:lnTo>
                      <a:lnTo>
                        <a:pt x="682" y="4"/>
                      </a:lnTo>
                      <a:lnTo>
                        <a:pt x="680" y="3"/>
                      </a:lnTo>
                      <a:lnTo>
                        <a:pt x="678" y="4"/>
                      </a:lnTo>
                      <a:lnTo>
                        <a:pt x="677" y="4"/>
                      </a:lnTo>
                      <a:lnTo>
                        <a:pt x="676" y="6"/>
                      </a:lnTo>
                      <a:lnTo>
                        <a:pt x="676" y="7"/>
                      </a:lnTo>
                      <a:lnTo>
                        <a:pt x="627" y="7"/>
                      </a:lnTo>
                      <a:lnTo>
                        <a:pt x="627" y="6"/>
                      </a:lnTo>
                      <a:lnTo>
                        <a:pt x="626" y="4"/>
                      </a:lnTo>
                      <a:lnTo>
                        <a:pt x="624" y="4"/>
                      </a:lnTo>
                      <a:lnTo>
                        <a:pt x="623" y="3"/>
                      </a:lnTo>
                      <a:lnTo>
                        <a:pt x="621" y="4"/>
                      </a:lnTo>
                      <a:lnTo>
                        <a:pt x="620" y="4"/>
                      </a:lnTo>
                      <a:lnTo>
                        <a:pt x="619" y="6"/>
                      </a:lnTo>
                      <a:lnTo>
                        <a:pt x="618" y="7"/>
                      </a:lnTo>
                      <a:lnTo>
                        <a:pt x="590" y="7"/>
                      </a:lnTo>
                      <a:lnTo>
                        <a:pt x="589" y="5"/>
                      </a:lnTo>
                      <a:lnTo>
                        <a:pt x="588" y="4"/>
                      </a:lnTo>
                      <a:lnTo>
                        <a:pt x="587" y="2"/>
                      </a:lnTo>
                      <a:lnTo>
                        <a:pt x="585" y="2"/>
                      </a:lnTo>
                      <a:lnTo>
                        <a:pt x="583" y="1"/>
                      </a:lnTo>
                      <a:lnTo>
                        <a:pt x="581" y="1"/>
                      </a:lnTo>
                      <a:lnTo>
                        <a:pt x="578" y="2"/>
                      </a:lnTo>
                      <a:lnTo>
                        <a:pt x="577" y="2"/>
                      </a:lnTo>
                      <a:lnTo>
                        <a:pt x="575" y="4"/>
                      </a:lnTo>
                      <a:lnTo>
                        <a:pt x="574" y="5"/>
                      </a:lnTo>
                      <a:lnTo>
                        <a:pt x="574" y="7"/>
                      </a:lnTo>
                      <a:lnTo>
                        <a:pt x="560" y="7"/>
                      </a:lnTo>
                      <a:lnTo>
                        <a:pt x="559" y="6"/>
                      </a:lnTo>
                      <a:lnTo>
                        <a:pt x="558" y="4"/>
                      </a:lnTo>
                      <a:lnTo>
                        <a:pt x="557" y="4"/>
                      </a:lnTo>
                      <a:lnTo>
                        <a:pt x="555" y="3"/>
                      </a:lnTo>
                      <a:lnTo>
                        <a:pt x="553" y="4"/>
                      </a:lnTo>
                      <a:lnTo>
                        <a:pt x="552" y="4"/>
                      </a:lnTo>
                      <a:lnTo>
                        <a:pt x="551" y="6"/>
                      </a:lnTo>
                      <a:lnTo>
                        <a:pt x="551" y="7"/>
                      </a:lnTo>
                      <a:lnTo>
                        <a:pt x="533" y="7"/>
                      </a:lnTo>
                      <a:lnTo>
                        <a:pt x="532" y="5"/>
                      </a:lnTo>
                      <a:lnTo>
                        <a:pt x="531" y="4"/>
                      </a:lnTo>
                      <a:lnTo>
                        <a:pt x="530" y="2"/>
                      </a:lnTo>
                      <a:lnTo>
                        <a:pt x="528" y="2"/>
                      </a:lnTo>
                      <a:lnTo>
                        <a:pt x="526" y="1"/>
                      </a:lnTo>
                      <a:lnTo>
                        <a:pt x="524" y="1"/>
                      </a:lnTo>
                      <a:lnTo>
                        <a:pt x="522" y="2"/>
                      </a:lnTo>
                      <a:lnTo>
                        <a:pt x="520" y="2"/>
                      </a:lnTo>
                      <a:lnTo>
                        <a:pt x="518" y="4"/>
                      </a:lnTo>
                      <a:lnTo>
                        <a:pt x="517" y="5"/>
                      </a:lnTo>
                      <a:lnTo>
                        <a:pt x="517" y="7"/>
                      </a:lnTo>
                      <a:lnTo>
                        <a:pt x="512" y="7"/>
                      </a:lnTo>
                      <a:lnTo>
                        <a:pt x="512" y="5"/>
                      </a:lnTo>
                      <a:lnTo>
                        <a:pt x="511" y="4"/>
                      </a:lnTo>
                      <a:lnTo>
                        <a:pt x="510" y="2"/>
                      </a:lnTo>
                      <a:lnTo>
                        <a:pt x="508" y="2"/>
                      </a:lnTo>
                      <a:lnTo>
                        <a:pt x="506" y="1"/>
                      </a:lnTo>
                      <a:lnTo>
                        <a:pt x="503" y="1"/>
                      </a:lnTo>
                      <a:lnTo>
                        <a:pt x="501" y="2"/>
                      </a:lnTo>
                      <a:lnTo>
                        <a:pt x="499" y="2"/>
                      </a:lnTo>
                      <a:lnTo>
                        <a:pt x="498" y="4"/>
                      </a:lnTo>
                      <a:lnTo>
                        <a:pt x="497" y="5"/>
                      </a:lnTo>
                      <a:lnTo>
                        <a:pt x="497" y="7"/>
                      </a:lnTo>
                      <a:lnTo>
                        <a:pt x="482" y="7"/>
                      </a:lnTo>
                      <a:lnTo>
                        <a:pt x="482" y="6"/>
                      </a:lnTo>
                      <a:lnTo>
                        <a:pt x="481" y="4"/>
                      </a:lnTo>
                      <a:lnTo>
                        <a:pt x="479" y="4"/>
                      </a:lnTo>
                      <a:lnTo>
                        <a:pt x="478" y="3"/>
                      </a:lnTo>
                      <a:lnTo>
                        <a:pt x="476" y="4"/>
                      </a:lnTo>
                      <a:lnTo>
                        <a:pt x="474" y="4"/>
                      </a:lnTo>
                      <a:lnTo>
                        <a:pt x="473" y="6"/>
                      </a:lnTo>
                      <a:lnTo>
                        <a:pt x="473" y="7"/>
                      </a:lnTo>
                      <a:lnTo>
                        <a:pt x="468" y="7"/>
                      </a:lnTo>
                      <a:lnTo>
                        <a:pt x="468" y="6"/>
                      </a:lnTo>
                      <a:lnTo>
                        <a:pt x="467" y="4"/>
                      </a:lnTo>
                      <a:lnTo>
                        <a:pt x="466" y="4"/>
                      </a:lnTo>
                      <a:lnTo>
                        <a:pt x="464" y="3"/>
                      </a:lnTo>
                      <a:lnTo>
                        <a:pt x="462" y="4"/>
                      </a:lnTo>
                      <a:lnTo>
                        <a:pt x="461" y="4"/>
                      </a:lnTo>
                      <a:lnTo>
                        <a:pt x="460" y="6"/>
                      </a:lnTo>
                      <a:lnTo>
                        <a:pt x="460" y="7"/>
                      </a:lnTo>
                      <a:lnTo>
                        <a:pt x="454" y="7"/>
                      </a:lnTo>
                      <a:lnTo>
                        <a:pt x="454" y="5"/>
                      </a:lnTo>
                      <a:lnTo>
                        <a:pt x="453" y="4"/>
                      </a:lnTo>
                      <a:lnTo>
                        <a:pt x="451" y="3"/>
                      </a:lnTo>
                      <a:lnTo>
                        <a:pt x="450" y="2"/>
                      </a:lnTo>
                      <a:lnTo>
                        <a:pt x="447" y="2"/>
                      </a:lnTo>
                      <a:lnTo>
                        <a:pt x="445" y="2"/>
                      </a:lnTo>
                      <a:lnTo>
                        <a:pt x="444" y="3"/>
                      </a:lnTo>
                      <a:lnTo>
                        <a:pt x="442" y="4"/>
                      </a:lnTo>
                      <a:lnTo>
                        <a:pt x="441" y="5"/>
                      </a:lnTo>
                      <a:lnTo>
                        <a:pt x="441" y="7"/>
                      </a:lnTo>
                      <a:lnTo>
                        <a:pt x="432" y="7"/>
                      </a:lnTo>
                      <a:lnTo>
                        <a:pt x="431" y="6"/>
                      </a:lnTo>
                      <a:lnTo>
                        <a:pt x="430" y="4"/>
                      </a:lnTo>
                      <a:lnTo>
                        <a:pt x="429" y="4"/>
                      </a:lnTo>
                      <a:lnTo>
                        <a:pt x="427" y="3"/>
                      </a:lnTo>
                      <a:lnTo>
                        <a:pt x="426" y="4"/>
                      </a:lnTo>
                      <a:lnTo>
                        <a:pt x="424" y="4"/>
                      </a:lnTo>
                      <a:lnTo>
                        <a:pt x="423" y="6"/>
                      </a:lnTo>
                      <a:lnTo>
                        <a:pt x="423" y="7"/>
                      </a:lnTo>
                      <a:lnTo>
                        <a:pt x="422" y="7"/>
                      </a:lnTo>
                      <a:lnTo>
                        <a:pt x="422" y="6"/>
                      </a:lnTo>
                      <a:lnTo>
                        <a:pt x="421" y="4"/>
                      </a:lnTo>
                      <a:lnTo>
                        <a:pt x="420" y="4"/>
                      </a:lnTo>
                      <a:lnTo>
                        <a:pt x="418" y="3"/>
                      </a:lnTo>
                      <a:lnTo>
                        <a:pt x="416" y="4"/>
                      </a:lnTo>
                      <a:lnTo>
                        <a:pt x="415" y="4"/>
                      </a:lnTo>
                      <a:lnTo>
                        <a:pt x="414" y="6"/>
                      </a:lnTo>
                      <a:lnTo>
                        <a:pt x="413" y="7"/>
                      </a:lnTo>
                      <a:lnTo>
                        <a:pt x="377" y="7"/>
                      </a:lnTo>
                      <a:lnTo>
                        <a:pt x="376" y="6"/>
                      </a:lnTo>
                      <a:lnTo>
                        <a:pt x="375" y="4"/>
                      </a:lnTo>
                      <a:lnTo>
                        <a:pt x="374" y="4"/>
                      </a:lnTo>
                      <a:lnTo>
                        <a:pt x="372" y="3"/>
                      </a:lnTo>
                      <a:lnTo>
                        <a:pt x="370" y="4"/>
                      </a:lnTo>
                      <a:lnTo>
                        <a:pt x="369" y="4"/>
                      </a:lnTo>
                      <a:lnTo>
                        <a:pt x="368" y="6"/>
                      </a:lnTo>
                      <a:lnTo>
                        <a:pt x="368" y="7"/>
                      </a:lnTo>
                      <a:lnTo>
                        <a:pt x="297" y="7"/>
                      </a:lnTo>
                      <a:lnTo>
                        <a:pt x="296" y="6"/>
                      </a:lnTo>
                      <a:lnTo>
                        <a:pt x="295" y="4"/>
                      </a:lnTo>
                      <a:lnTo>
                        <a:pt x="294" y="4"/>
                      </a:lnTo>
                      <a:lnTo>
                        <a:pt x="292" y="3"/>
                      </a:lnTo>
                      <a:lnTo>
                        <a:pt x="290" y="4"/>
                      </a:lnTo>
                      <a:lnTo>
                        <a:pt x="289" y="4"/>
                      </a:lnTo>
                      <a:lnTo>
                        <a:pt x="288" y="6"/>
                      </a:lnTo>
                      <a:lnTo>
                        <a:pt x="288" y="7"/>
                      </a:lnTo>
                      <a:lnTo>
                        <a:pt x="276" y="7"/>
                      </a:lnTo>
                      <a:lnTo>
                        <a:pt x="276" y="6"/>
                      </a:lnTo>
                      <a:lnTo>
                        <a:pt x="275" y="4"/>
                      </a:lnTo>
                      <a:lnTo>
                        <a:pt x="274" y="4"/>
                      </a:lnTo>
                      <a:lnTo>
                        <a:pt x="272" y="3"/>
                      </a:lnTo>
                      <a:lnTo>
                        <a:pt x="270" y="4"/>
                      </a:lnTo>
                      <a:lnTo>
                        <a:pt x="269" y="4"/>
                      </a:lnTo>
                      <a:lnTo>
                        <a:pt x="268" y="6"/>
                      </a:lnTo>
                      <a:lnTo>
                        <a:pt x="267" y="7"/>
                      </a:lnTo>
                      <a:lnTo>
                        <a:pt x="249" y="7"/>
                      </a:lnTo>
                      <a:lnTo>
                        <a:pt x="249" y="6"/>
                      </a:lnTo>
                      <a:lnTo>
                        <a:pt x="248" y="4"/>
                      </a:lnTo>
                      <a:lnTo>
                        <a:pt x="246" y="4"/>
                      </a:lnTo>
                      <a:lnTo>
                        <a:pt x="245" y="3"/>
                      </a:lnTo>
                      <a:lnTo>
                        <a:pt x="243" y="4"/>
                      </a:lnTo>
                      <a:lnTo>
                        <a:pt x="241" y="4"/>
                      </a:lnTo>
                      <a:lnTo>
                        <a:pt x="240" y="6"/>
                      </a:lnTo>
                      <a:lnTo>
                        <a:pt x="240" y="7"/>
                      </a:lnTo>
                      <a:lnTo>
                        <a:pt x="231" y="7"/>
                      </a:lnTo>
                      <a:lnTo>
                        <a:pt x="231" y="6"/>
                      </a:lnTo>
                      <a:lnTo>
                        <a:pt x="230" y="4"/>
                      </a:lnTo>
                      <a:lnTo>
                        <a:pt x="228" y="4"/>
                      </a:lnTo>
                      <a:lnTo>
                        <a:pt x="226" y="3"/>
                      </a:lnTo>
                      <a:lnTo>
                        <a:pt x="225" y="4"/>
                      </a:lnTo>
                      <a:lnTo>
                        <a:pt x="223" y="4"/>
                      </a:lnTo>
                      <a:lnTo>
                        <a:pt x="222" y="6"/>
                      </a:lnTo>
                      <a:lnTo>
                        <a:pt x="222" y="7"/>
                      </a:lnTo>
                      <a:lnTo>
                        <a:pt x="216" y="7"/>
                      </a:lnTo>
                      <a:lnTo>
                        <a:pt x="216" y="6"/>
                      </a:lnTo>
                      <a:lnTo>
                        <a:pt x="215" y="4"/>
                      </a:lnTo>
                      <a:lnTo>
                        <a:pt x="213" y="4"/>
                      </a:lnTo>
                      <a:lnTo>
                        <a:pt x="211" y="3"/>
                      </a:lnTo>
                      <a:lnTo>
                        <a:pt x="210" y="4"/>
                      </a:lnTo>
                      <a:lnTo>
                        <a:pt x="208" y="4"/>
                      </a:lnTo>
                      <a:lnTo>
                        <a:pt x="207" y="6"/>
                      </a:lnTo>
                      <a:lnTo>
                        <a:pt x="207" y="7"/>
                      </a:lnTo>
                      <a:lnTo>
                        <a:pt x="192" y="7"/>
                      </a:lnTo>
                      <a:lnTo>
                        <a:pt x="192" y="6"/>
                      </a:lnTo>
                      <a:lnTo>
                        <a:pt x="191" y="4"/>
                      </a:lnTo>
                      <a:lnTo>
                        <a:pt x="189" y="4"/>
                      </a:lnTo>
                      <a:lnTo>
                        <a:pt x="188" y="3"/>
                      </a:lnTo>
                      <a:lnTo>
                        <a:pt x="186" y="4"/>
                      </a:lnTo>
                      <a:lnTo>
                        <a:pt x="185" y="4"/>
                      </a:lnTo>
                      <a:lnTo>
                        <a:pt x="184" y="6"/>
                      </a:lnTo>
                      <a:lnTo>
                        <a:pt x="183" y="7"/>
                      </a:lnTo>
                      <a:lnTo>
                        <a:pt x="130" y="7"/>
                      </a:lnTo>
                      <a:lnTo>
                        <a:pt x="130" y="6"/>
                      </a:lnTo>
                      <a:lnTo>
                        <a:pt x="129" y="4"/>
                      </a:lnTo>
                      <a:lnTo>
                        <a:pt x="128" y="4"/>
                      </a:lnTo>
                      <a:lnTo>
                        <a:pt x="126" y="3"/>
                      </a:lnTo>
                      <a:lnTo>
                        <a:pt x="124" y="4"/>
                      </a:lnTo>
                      <a:lnTo>
                        <a:pt x="123" y="4"/>
                      </a:lnTo>
                      <a:lnTo>
                        <a:pt x="122" y="6"/>
                      </a:lnTo>
                      <a:lnTo>
                        <a:pt x="121" y="7"/>
                      </a:lnTo>
                      <a:lnTo>
                        <a:pt x="109" y="7"/>
                      </a:lnTo>
                      <a:lnTo>
                        <a:pt x="108" y="6"/>
                      </a:lnTo>
                      <a:lnTo>
                        <a:pt x="107" y="4"/>
                      </a:lnTo>
                      <a:lnTo>
                        <a:pt x="106" y="4"/>
                      </a:lnTo>
                      <a:lnTo>
                        <a:pt x="104" y="3"/>
                      </a:lnTo>
                      <a:lnTo>
                        <a:pt x="102" y="4"/>
                      </a:lnTo>
                      <a:lnTo>
                        <a:pt x="101" y="4"/>
                      </a:lnTo>
                      <a:lnTo>
                        <a:pt x="100" y="6"/>
                      </a:lnTo>
                      <a:lnTo>
                        <a:pt x="100" y="7"/>
                      </a:lnTo>
                      <a:lnTo>
                        <a:pt x="0" y="7"/>
                      </a:lnTo>
                      <a:lnTo>
                        <a:pt x="0" y="364"/>
                      </a:lnTo>
                      <a:lnTo>
                        <a:pt x="129" y="364"/>
                      </a:lnTo>
                      <a:lnTo>
                        <a:pt x="129" y="363"/>
                      </a:lnTo>
                      <a:lnTo>
                        <a:pt x="130" y="362"/>
                      </a:lnTo>
                      <a:lnTo>
                        <a:pt x="131" y="361"/>
                      </a:lnTo>
                      <a:lnTo>
                        <a:pt x="133" y="361"/>
                      </a:lnTo>
                      <a:lnTo>
                        <a:pt x="135" y="361"/>
                      </a:lnTo>
                      <a:lnTo>
                        <a:pt x="136" y="362"/>
                      </a:lnTo>
                      <a:lnTo>
                        <a:pt x="137" y="363"/>
                      </a:lnTo>
                      <a:lnTo>
                        <a:pt x="138" y="364"/>
                      </a:lnTo>
                      <a:lnTo>
                        <a:pt x="142" y="364"/>
                      </a:lnTo>
                      <a:lnTo>
                        <a:pt x="142" y="362"/>
                      </a:lnTo>
                      <a:lnTo>
                        <a:pt x="143" y="361"/>
                      </a:lnTo>
                      <a:lnTo>
                        <a:pt x="145" y="360"/>
                      </a:lnTo>
                      <a:lnTo>
                        <a:pt x="147" y="359"/>
                      </a:lnTo>
                      <a:lnTo>
                        <a:pt x="148" y="359"/>
                      </a:lnTo>
                      <a:lnTo>
                        <a:pt x="151" y="359"/>
                      </a:lnTo>
                      <a:lnTo>
                        <a:pt x="152" y="360"/>
                      </a:lnTo>
                      <a:lnTo>
                        <a:pt x="154" y="361"/>
                      </a:lnTo>
                      <a:lnTo>
                        <a:pt x="155" y="362"/>
                      </a:lnTo>
                      <a:lnTo>
                        <a:pt x="155" y="364"/>
                      </a:lnTo>
                      <a:lnTo>
                        <a:pt x="157" y="364"/>
                      </a:lnTo>
                      <a:lnTo>
                        <a:pt x="158" y="363"/>
                      </a:lnTo>
                      <a:lnTo>
                        <a:pt x="159" y="362"/>
                      </a:lnTo>
                      <a:lnTo>
                        <a:pt x="160" y="361"/>
                      </a:lnTo>
                      <a:lnTo>
                        <a:pt x="162" y="361"/>
                      </a:lnTo>
                      <a:lnTo>
                        <a:pt x="163" y="361"/>
                      </a:lnTo>
                      <a:lnTo>
                        <a:pt x="165" y="362"/>
                      </a:lnTo>
                      <a:lnTo>
                        <a:pt x="166" y="363"/>
                      </a:lnTo>
                      <a:lnTo>
                        <a:pt x="166" y="364"/>
                      </a:lnTo>
                      <a:lnTo>
                        <a:pt x="172" y="364"/>
                      </a:lnTo>
                      <a:lnTo>
                        <a:pt x="172" y="81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6841800" y="267876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50" name=""/>
                <p:cNvSpPr/>
                <p:nvPr/>
              </p:nvSpPr>
              <p:spPr>
                <a:xfrm>
                  <a:off x="582840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51" name=""/>
                <p:cNvSpPr/>
                <p:nvPr/>
              </p:nvSpPr>
              <p:spPr>
                <a:xfrm>
                  <a:off x="5306760" y="2503800"/>
                  <a:ext cx="207360" cy="1310040"/>
                </a:xfrm>
                <a:custGeom>
                  <a:avLst/>
                  <a:gdLst/>
                  <a:ahLst/>
                  <a:rect l="l" t="t" r="r" b="b"/>
                  <a:pathLst>
                    <a:path w="196" h="981">
                      <a:moveTo>
                        <a:pt x="0" y="0"/>
                      </a:moveTo>
                      <a:lnTo>
                        <a:pt x="0" y="65"/>
                      </a:lnTo>
                      <a:lnTo>
                        <a:pt x="47" y="65"/>
                      </a:lnTo>
                      <a:lnTo>
                        <a:pt x="48" y="63"/>
                      </a:lnTo>
                      <a:lnTo>
                        <a:pt x="49" y="62"/>
                      </a:lnTo>
                      <a:lnTo>
                        <a:pt x="50" y="62"/>
                      </a:lnTo>
                      <a:lnTo>
                        <a:pt x="52" y="61"/>
                      </a:lnTo>
                      <a:lnTo>
                        <a:pt x="54" y="62"/>
                      </a:lnTo>
                      <a:lnTo>
                        <a:pt x="55" y="62"/>
                      </a:lnTo>
                      <a:lnTo>
                        <a:pt x="56" y="63"/>
                      </a:lnTo>
                      <a:lnTo>
                        <a:pt x="56" y="65"/>
                      </a:lnTo>
                      <a:lnTo>
                        <a:pt x="103" y="65"/>
                      </a:lnTo>
                      <a:lnTo>
                        <a:pt x="103" y="981"/>
                      </a:lnTo>
                      <a:lnTo>
                        <a:pt x="110" y="981"/>
                      </a:lnTo>
                      <a:lnTo>
                        <a:pt x="110" y="979"/>
                      </a:lnTo>
                      <a:lnTo>
                        <a:pt x="111" y="978"/>
                      </a:lnTo>
                      <a:lnTo>
                        <a:pt x="113" y="978"/>
                      </a:lnTo>
                      <a:lnTo>
                        <a:pt x="114" y="977"/>
                      </a:lnTo>
                      <a:lnTo>
                        <a:pt x="116" y="978"/>
                      </a:lnTo>
                      <a:lnTo>
                        <a:pt x="118" y="978"/>
                      </a:lnTo>
                      <a:lnTo>
                        <a:pt x="119" y="979"/>
                      </a:lnTo>
                      <a:lnTo>
                        <a:pt x="119" y="981"/>
                      </a:lnTo>
                      <a:lnTo>
                        <a:pt x="119" y="981"/>
                      </a:lnTo>
                      <a:lnTo>
                        <a:pt x="120" y="979"/>
                      </a:lnTo>
                      <a:lnTo>
                        <a:pt x="121" y="978"/>
                      </a:lnTo>
                      <a:lnTo>
                        <a:pt x="122" y="978"/>
                      </a:lnTo>
                      <a:lnTo>
                        <a:pt x="124" y="977"/>
                      </a:lnTo>
                      <a:lnTo>
                        <a:pt x="126" y="978"/>
                      </a:lnTo>
                      <a:lnTo>
                        <a:pt x="127" y="978"/>
                      </a:lnTo>
                      <a:lnTo>
                        <a:pt x="128" y="979"/>
                      </a:lnTo>
                      <a:lnTo>
                        <a:pt x="128" y="981"/>
                      </a:lnTo>
                      <a:lnTo>
                        <a:pt x="130" y="981"/>
                      </a:lnTo>
                      <a:lnTo>
                        <a:pt x="131" y="979"/>
                      </a:lnTo>
                      <a:lnTo>
                        <a:pt x="132" y="977"/>
                      </a:lnTo>
                      <a:lnTo>
                        <a:pt x="133" y="976"/>
                      </a:lnTo>
                      <a:lnTo>
                        <a:pt x="135" y="975"/>
                      </a:lnTo>
                      <a:lnTo>
                        <a:pt x="138" y="974"/>
                      </a:lnTo>
                      <a:lnTo>
                        <a:pt x="140" y="974"/>
                      </a:lnTo>
                      <a:lnTo>
                        <a:pt x="142" y="975"/>
                      </a:lnTo>
                      <a:lnTo>
                        <a:pt x="145" y="976"/>
                      </a:lnTo>
                      <a:lnTo>
                        <a:pt x="146" y="977"/>
                      </a:lnTo>
                      <a:lnTo>
                        <a:pt x="147" y="979"/>
                      </a:lnTo>
                      <a:lnTo>
                        <a:pt x="148" y="981"/>
                      </a:lnTo>
                      <a:lnTo>
                        <a:pt x="152" y="981"/>
                      </a:lnTo>
                      <a:lnTo>
                        <a:pt x="152" y="979"/>
                      </a:lnTo>
                      <a:lnTo>
                        <a:pt x="153" y="977"/>
                      </a:lnTo>
                      <a:lnTo>
                        <a:pt x="155" y="976"/>
                      </a:lnTo>
                      <a:lnTo>
                        <a:pt x="157" y="975"/>
                      </a:lnTo>
                      <a:lnTo>
                        <a:pt x="159" y="974"/>
                      </a:lnTo>
                      <a:lnTo>
                        <a:pt x="161" y="974"/>
                      </a:lnTo>
                      <a:lnTo>
                        <a:pt x="163" y="975"/>
                      </a:lnTo>
                      <a:lnTo>
                        <a:pt x="166" y="976"/>
                      </a:lnTo>
                      <a:lnTo>
                        <a:pt x="167" y="977"/>
                      </a:lnTo>
                      <a:lnTo>
                        <a:pt x="168" y="979"/>
                      </a:lnTo>
                      <a:lnTo>
                        <a:pt x="168" y="981"/>
                      </a:lnTo>
                      <a:lnTo>
                        <a:pt x="183" y="981"/>
                      </a:lnTo>
                      <a:lnTo>
                        <a:pt x="183" y="979"/>
                      </a:lnTo>
                      <a:lnTo>
                        <a:pt x="184" y="978"/>
                      </a:lnTo>
                      <a:lnTo>
                        <a:pt x="186" y="978"/>
                      </a:lnTo>
                      <a:lnTo>
                        <a:pt x="187" y="977"/>
                      </a:lnTo>
                      <a:lnTo>
                        <a:pt x="189" y="978"/>
                      </a:lnTo>
                      <a:lnTo>
                        <a:pt x="191" y="978"/>
                      </a:lnTo>
                      <a:lnTo>
                        <a:pt x="191" y="979"/>
                      </a:lnTo>
                      <a:lnTo>
                        <a:pt x="192" y="981"/>
                      </a:lnTo>
                      <a:lnTo>
                        <a:pt x="196" y="981"/>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5300280" y="24915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53" name=""/>
                <p:cNvSpPr/>
                <p:nvPr/>
              </p:nvSpPr>
              <p:spPr>
                <a:xfrm>
                  <a:off x="5511960" y="3807360"/>
                  <a:ext cx="13680" cy="11880"/>
                </a:xfrm>
                <a:custGeom>
                  <a:avLst/>
                  <a:gdLst/>
                  <a:ahLst/>
                  <a:rect l="l" t="t" r="r" b="b"/>
                  <a:pathLst>
                    <a:path w="13" h="9">
                      <a:moveTo>
                        <a:pt x="2" y="0"/>
                      </a:moveTo>
                      <a:lnTo>
                        <a:pt x="13" y="5"/>
                      </a:lnTo>
                      <a:lnTo>
                        <a:pt x="2" y="9"/>
                      </a:lnTo>
                      <a:lnTo>
                        <a:pt x="1" y="7"/>
                      </a:lnTo>
                      <a:lnTo>
                        <a:pt x="0" y="5"/>
                      </a:lnTo>
                      <a:lnTo>
                        <a:pt x="1"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54" name=""/>
                <p:cNvSpPr/>
                <p:nvPr/>
              </p:nvSpPr>
              <p:spPr>
                <a:xfrm>
                  <a:off x="5200920" y="2733480"/>
                  <a:ext cx="313200" cy="1101600"/>
                </a:xfrm>
                <a:custGeom>
                  <a:avLst/>
                  <a:gdLst/>
                  <a:ahLst/>
                  <a:rect l="l" t="t" r="r" b="b"/>
                  <a:pathLst>
                    <a:path w="296" h="825">
                      <a:moveTo>
                        <a:pt x="0" y="0"/>
                      </a:moveTo>
                      <a:lnTo>
                        <a:pt x="0" y="825"/>
                      </a:lnTo>
                      <a:lnTo>
                        <a:pt x="25" y="825"/>
                      </a:lnTo>
                      <a:lnTo>
                        <a:pt x="25" y="824"/>
                      </a:lnTo>
                      <a:lnTo>
                        <a:pt x="26" y="823"/>
                      </a:lnTo>
                      <a:lnTo>
                        <a:pt x="28" y="822"/>
                      </a:lnTo>
                      <a:lnTo>
                        <a:pt x="30" y="822"/>
                      </a:lnTo>
                      <a:lnTo>
                        <a:pt x="31" y="822"/>
                      </a:lnTo>
                      <a:lnTo>
                        <a:pt x="33" y="823"/>
                      </a:lnTo>
                      <a:lnTo>
                        <a:pt x="34" y="824"/>
                      </a:lnTo>
                      <a:lnTo>
                        <a:pt x="34" y="825"/>
                      </a:lnTo>
                      <a:lnTo>
                        <a:pt x="56" y="825"/>
                      </a:lnTo>
                      <a:lnTo>
                        <a:pt x="56" y="824"/>
                      </a:lnTo>
                      <a:lnTo>
                        <a:pt x="57" y="823"/>
                      </a:lnTo>
                      <a:lnTo>
                        <a:pt x="59" y="822"/>
                      </a:lnTo>
                      <a:lnTo>
                        <a:pt x="60" y="822"/>
                      </a:lnTo>
                      <a:lnTo>
                        <a:pt x="62" y="822"/>
                      </a:lnTo>
                      <a:lnTo>
                        <a:pt x="63" y="823"/>
                      </a:lnTo>
                      <a:lnTo>
                        <a:pt x="64" y="824"/>
                      </a:lnTo>
                      <a:lnTo>
                        <a:pt x="65" y="825"/>
                      </a:lnTo>
                      <a:lnTo>
                        <a:pt x="86" y="825"/>
                      </a:lnTo>
                      <a:lnTo>
                        <a:pt x="86" y="824"/>
                      </a:lnTo>
                      <a:lnTo>
                        <a:pt x="87" y="823"/>
                      </a:lnTo>
                      <a:lnTo>
                        <a:pt x="89" y="822"/>
                      </a:lnTo>
                      <a:lnTo>
                        <a:pt x="91" y="822"/>
                      </a:lnTo>
                      <a:lnTo>
                        <a:pt x="92" y="822"/>
                      </a:lnTo>
                      <a:lnTo>
                        <a:pt x="94" y="823"/>
                      </a:lnTo>
                      <a:lnTo>
                        <a:pt x="95" y="824"/>
                      </a:lnTo>
                      <a:lnTo>
                        <a:pt x="95" y="825"/>
                      </a:lnTo>
                      <a:lnTo>
                        <a:pt x="113" y="825"/>
                      </a:lnTo>
                      <a:lnTo>
                        <a:pt x="113" y="824"/>
                      </a:lnTo>
                      <a:lnTo>
                        <a:pt x="114" y="823"/>
                      </a:lnTo>
                      <a:lnTo>
                        <a:pt x="116" y="822"/>
                      </a:lnTo>
                      <a:lnTo>
                        <a:pt x="118" y="822"/>
                      </a:lnTo>
                      <a:lnTo>
                        <a:pt x="119" y="822"/>
                      </a:lnTo>
                      <a:lnTo>
                        <a:pt x="121" y="823"/>
                      </a:lnTo>
                      <a:lnTo>
                        <a:pt x="122" y="824"/>
                      </a:lnTo>
                      <a:lnTo>
                        <a:pt x="122" y="825"/>
                      </a:lnTo>
                      <a:lnTo>
                        <a:pt x="141" y="825"/>
                      </a:lnTo>
                      <a:lnTo>
                        <a:pt x="141" y="824"/>
                      </a:lnTo>
                      <a:lnTo>
                        <a:pt x="142" y="823"/>
                      </a:lnTo>
                      <a:lnTo>
                        <a:pt x="144" y="822"/>
                      </a:lnTo>
                      <a:lnTo>
                        <a:pt x="146" y="822"/>
                      </a:lnTo>
                      <a:lnTo>
                        <a:pt x="147" y="822"/>
                      </a:lnTo>
                      <a:lnTo>
                        <a:pt x="149" y="823"/>
                      </a:lnTo>
                      <a:lnTo>
                        <a:pt x="150" y="824"/>
                      </a:lnTo>
                      <a:lnTo>
                        <a:pt x="150" y="825"/>
                      </a:lnTo>
                      <a:lnTo>
                        <a:pt x="154" y="825"/>
                      </a:lnTo>
                      <a:lnTo>
                        <a:pt x="154" y="824"/>
                      </a:lnTo>
                      <a:lnTo>
                        <a:pt x="155" y="823"/>
                      </a:lnTo>
                      <a:lnTo>
                        <a:pt x="156" y="822"/>
                      </a:lnTo>
                      <a:lnTo>
                        <a:pt x="158" y="822"/>
                      </a:lnTo>
                      <a:lnTo>
                        <a:pt x="160" y="822"/>
                      </a:lnTo>
                      <a:lnTo>
                        <a:pt x="161" y="823"/>
                      </a:lnTo>
                      <a:lnTo>
                        <a:pt x="162" y="824"/>
                      </a:lnTo>
                      <a:lnTo>
                        <a:pt x="163" y="825"/>
                      </a:lnTo>
                      <a:lnTo>
                        <a:pt x="167" y="825"/>
                      </a:lnTo>
                      <a:lnTo>
                        <a:pt x="168" y="824"/>
                      </a:lnTo>
                      <a:lnTo>
                        <a:pt x="168" y="823"/>
                      </a:lnTo>
                      <a:lnTo>
                        <a:pt x="170" y="822"/>
                      </a:lnTo>
                      <a:lnTo>
                        <a:pt x="172" y="822"/>
                      </a:lnTo>
                      <a:lnTo>
                        <a:pt x="173" y="822"/>
                      </a:lnTo>
                      <a:lnTo>
                        <a:pt x="175" y="823"/>
                      </a:lnTo>
                      <a:lnTo>
                        <a:pt x="176" y="824"/>
                      </a:lnTo>
                      <a:lnTo>
                        <a:pt x="176" y="825"/>
                      </a:lnTo>
                      <a:lnTo>
                        <a:pt x="210" y="825"/>
                      </a:lnTo>
                      <a:lnTo>
                        <a:pt x="210" y="824"/>
                      </a:lnTo>
                      <a:lnTo>
                        <a:pt x="211" y="823"/>
                      </a:lnTo>
                      <a:lnTo>
                        <a:pt x="213" y="822"/>
                      </a:lnTo>
                      <a:lnTo>
                        <a:pt x="214" y="822"/>
                      </a:lnTo>
                      <a:lnTo>
                        <a:pt x="216" y="822"/>
                      </a:lnTo>
                      <a:lnTo>
                        <a:pt x="218" y="823"/>
                      </a:lnTo>
                      <a:lnTo>
                        <a:pt x="219" y="824"/>
                      </a:lnTo>
                      <a:lnTo>
                        <a:pt x="219" y="825"/>
                      </a:lnTo>
                      <a:lnTo>
                        <a:pt x="219" y="825"/>
                      </a:lnTo>
                      <a:lnTo>
                        <a:pt x="220" y="824"/>
                      </a:lnTo>
                      <a:lnTo>
                        <a:pt x="221" y="823"/>
                      </a:lnTo>
                      <a:lnTo>
                        <a:pt x="222" y="822"/>
                      </a:lnTo>
                      <a:lnTo>
                        <a:pt x="224" y="822"/>
                      </a:lnTo>
                      <a:lnTo>
                        <a:pt x="226" y="822"/>
                      </a:lnTo>
                      <a:lnTo>
                        <a:pt x="227" y="823"/>
                      </a:lnTo>
                      <a:lnTo>
                        <a:pt x="228" y="824"/>
                      </a:lnTo>
                      <a:lnTo>
                        <a:pt x="228" y="825"/>
                      </a:lnTo>
                      <a:lnTo>
                        <a:pt x="230" y="825"/>
                      </a:lnTo>
                      <a:lnTo>
                        <a:pt x="231" y="823"/>
                      </a:lnTo>
                      <a:lnTo>
                        <a:pt x="232" y="821"/>
                      </a:lnTo>
                      <a:lnTo>
                        <a:pt x="233" y="820"/>
                      </a:lnTo>
                      <a:lnTo>
                        <a:pt x="235" y="819"/>
                      </a:lnTo>
                      <a:lnTo>
                        <a:pt x="238" y="818"/>
                      </a:lnTo>
                      <a:lnTo>
                        <a:pt x="240" y="818"/>
                      </a:lnTo>
                      <a:lnTo>
                        <a:pt x="242" y="819"/>
                      </a:lnTo>
                      <a:lnTo>
                        <a:pt x="245" y="820"/>
                      </a:lnTo>
                      <a:lnTo>
                        <a:pt x="246" y="821"/>
                      </a:lnTo>
                      <a:lnTo>
                        <a:pt x="247" y="823"/>
                      </a:lnTo>
                      <a:lnTo>
                        <a:pt x="248" y="825"/>
                      </a:lnTo>
                      <a:lnTo>
                        <a:pt x="252" y="825"/>
                      </a:lnTo>
                      <a:lnTo>
                        <a:pt x="252" y="823"/>
                      </a:lnTo>
                      <a:lnTo>
                        <a:pt x="253" y="822"/>
                      </a:lnTo>
                      <a:lnTo>
                        <a:pt x="255" y="820"/>
                      </a:lnTo>
                      <a:lnTo>
                        <a:pt x="257" y="819"/>
                      </a:lnTo>
                      <a:lnTo>
                        <a:pt x="259" y="819"/>
                      </a:lnTo>
                      <a:lnTo>
                        <a:pt x="261" y="819"/>
                      </a:lnTo>
                      <a:lnTo>
                        <a:pt x="263" y="819"/>
                      </a:lnTo>
                      <a:lnTo>
                        <a:pt x="266" y="820"/>
                      </a:lnTo>
                      <a:lnTo>
                        <a:pt x="267" y="822"/>
                      </a:lnTo>
                      <a:lnTo>
                        <a:pt x="268" y="823"/>
                      </a:lnTo>
                      <a:lnTo>
                        <a:pt x="268" y="825"/>
                      </a:lnTo>
                      <a:lnTo>
                        <a:pt x="283" y="825"/>
                      </a:lnTo>
                      <a:lnTo>
                        <a:pt x="283" y="824"/>
                      </a:lnTo>
                      <a:lnTo>
                        <a:pt x="284" y="823"/>
                      </a:lnTo>
                      <a:lnTo>
                        <a:pt x="286" y="822"/>
                      </a:lnTo>
                      <a:lnTo>
                        <a:pt x="287" y="822"/>
                      </a:lnTo>
                      <a:lnTo>
                        <a:pt x="289" y="822"/>
                      </a:lnTo>
                      <a:lnTo>
                        <a:pt x="291" y="823"/>
                      </a:lnTo>
                      <a:lnTo>
                        <a:pt x="291" y="824"/>
                      </a:lnTo>
                      <a:lnTo>
                        <a:pt x="292" y="825"/>
                      </a:lnTo>
                      <a:lnTo>
                        <a:pt x="296" y="825"/>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511960" y="3828600"/>
                  <a:ext cx="13680" cy="13320"/>
                </a:xfrm>
                <a:custGeom>
                  <a:avLst/>
                  <a:gdLst/>
                  <a:ahLst/>
                  <a:rect l="l" t="t" r="r" b="b"/>
                  <a:pathLst>
                    <a:path w="13" h="10">
                      <a:moveTo>
                        <a:pt x="2" y="0"/>
                      </a:moveTo>
                      <a:lnTo>
                        <a:pt x="13" y="5"/>
                      </a:lnTo>
                      <a:lnTo>
                        <a:pt x="2" y="10"/>
                      </a:lnTo>
                      <a:lnTo>
                        <a:pt x="1" y="7"/>
                      </a:lnTo>
                      <a:lnTo>
                        <a:pt x="0" y="5"/>
                      </a:lnTo>
                      <a:lnTo>
                        <a:pt x="1" y="3"/>
                      </a:lnTo>
                      <a:lnTo>
                        <a:pt x="2" y="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56" name=""/>
                <p:cNvSpPr/>
                <p:nvPr/>
              </p:nvSpPr>
              <p:spPr>
                <a:xfrm>
                  <a:off x="5131800" y="3928680"/>
                  <a:ext cx="381960" cy="10440"/>
                </a:xfrm>
                <a:custGeom>
                  <a:avLst/>
                  <a:gdLst/>
                  <a:ahLst/>
                  <a:rect l="l" t="t" r="r" b="b"/>
                  <a:pathLst>
                    <a:path w="361" h="8">
                      <a:moveTo>
                        <a:pt x="0" y="8"/>
                      </a:moveTo>
                      <a:lnTo>
                        <a:pt x="3" y="8"/>
                      </a:lnTo>
                      <a:lnTo>
                        <a:pt x="3" y="7"/>
                      </a:lnTo>
                      <a:lnTo>
                        <a:pt x="4" y="5"/>
                      </a:lnTo>
                      <a:lnTo>
                        <a:pt x="5" y="5"/>
                      </a:lnTo>
                      <a:lnTo>
                        <a:pt x="7" y="4"/>
                      </a:lnTo>
                      <a:lnTo>
                        <a:pt x="9" y="5"/>
                      </a:lnTo>
                      <a:lnTo>
                        <a:pt x="10" y="5"/>
                      </a:lnTo>
                      <a:lnTo>
                        <a:pt x="11" y="7"/>
                      </a:lnTo>
                      <a:lnTo>
                        <a:pt x="12" y="8"/>
                      </a:lnTo>
                      <a:lnTo>
                        <a:pt x="21" y="8"/>
                      </a:lnTo>
                      <a:lnTo>
                        <a:pt x="21" y="6"/>
                      </a:lnTo>
                      <a:lnTo>
                        <a:pt x="43" y="6"/>
                      </a:lnTo>
                      <a:lnTo>
                        <a:pt x="43" y="5"/>
                      </a:lnTo>
                      <a:lnTo>
                        <a:pt x="44" y="4"/>
                      </a:lnTo>
                      <a:lnTo>
                        <a:pt x="46" y="3"/>
                      </a:lnTo>
                      <a:lnTo>
                        <a:pt x="48" y="3"/>
                      </a:lnTo>
                      <a:lnTo>
                        <a:pt x="49" y="3"/>
                      </a:lnTo>
                      <a:lnTo>
                        <a:pt x="51" y="4"/>
                      </a:lnTo>
                      <a:lnTo>
                        <a:pt x="52" y="5"/>
                      </a:lnTo>
                      <a:lnTo>
                        <a:pt x="52" y="6"/>
                      </a:lnTo>
                      <a:lnTo>
                        <a:pt x="90" y="6"/>
                      </a:lnTo>
                      <a:lnTo>
                        <a:pt x="90" y="5"/>
                      </a:lnTo>
                      <a:lnTo>
                        <a:pt x="91" y="4"/>
                      </a:lnTo>
                      <a:lnTo>
                        <a:pt x="93" y="3"/>
                      </a:lnTo>
                      <a:lnTo>
                        <a:pt x="95" y="3"/>
                      </a:lnTo>
                      <a:lnTo>
                        <a:pt x="96" y="3"/>
                      </a:lnTo>
                      <a:lnTo>
                        <a:pt x="98" y="4"/>
                      </a:lnTo>
                      <a:lnTo>
                        <a:pt x="99" y="5"/>
                      </a:lnTo>
                      <a:lnTo>
                        <a:pt x="99" y="6"/>
                      </a:lnTo>
                      <a:lnTo>
                        <a:pt x="178" y="6"/>
                      </a:lnTo>
                      <a:lnTo>
                        <a:pt x="178" y="5"/>
                      </a:lnTo>
                      <a:lnTo>
                        <a:pt x="179" y="4"/>
                      </a:lnTo>
                      <a:lnTo>
                        <a:pt x="181" y="3"/>
                      </a:lnTo>
                      <a:lnTo>
                        <a:pt x="183" y="3"/>
                      </a:lnTo>
                      <a:lnTo>
                        <a:pt x="184" y="3"/>
                      </a:lnTo>
                      <a:lnTo>
                        <a:pt x="186" y="4"/>
                      </a:lnTo>
                      <a:lnTo>
                        <a:pt x="187" y="5"/>
                      </a:lnTo>
                      <a:lnTo>
                        <a:pt x="187" y="6"/>
                      </a:lnTo>
                      <a:lnTo>
                        <a:pt x="219" y="6"/>
                      </a:lnTo>
                      <a:lnTo>
                        <a:pt x="219" y="5"/>
                      </a:lnTo>
                      <a:lnTo>
                        <a:pt x="220" y="4"/>
                      </a:lnTo>
                      <a:lnTo>
                        <a:pt x="221" y="3"/>
                      </a:lnTo>
                      <a:lnTo>
                        <a:pt x="223" y="3"/>
                      </a:lnTo>
                      <a:lnTo>
                        <a:pt x="225" y="3"/>
                      </a:lnTo>
                      <a:lnTo>
                        <a:pt x="226" y="4"/>
                      </a:lnTo>
                      <a:lnTo>
                        <a:pt x="227" y="5"/>
                      </a:lnTo>
                      <a:lnTo>
                        <a:pt x="228" y="6"/>
                      </a:lnTo>
                      <a:lnTo>
                        <a:pt x="232" y="6"/>
                      </a:lnTo>
                      <a:lnTo>
                        <a:pt x="233" y="5"/>
                      </a:lnTo>
                      <a:lnTo>
                        <a:pt x="233" y="4"/>
                      </a:lnTo>
                      <a:lnTo>
                        <a:pt x="235" y="3"/>
                      </a:lnTo>
                      <a:lnTo>
                        <a:pt x="237" y="3"/>
                      </a:lnTo>
                      <a:lnTo>
                        <a:pt x="238" y="3"/>
                      </a:lnTo>
                      <a:lnTo>
                        <a:pt x="240" y="4"/>
                      </a:lnTo>
                      <a:lnTo>
                        <a:pt x="241" y="5"/>
                      </a:lnTo>
                      <a:lnTo>
                        <a:pt x="241" y="6"/>
                      </a:lnTo>
                      <a:lnTo>
                        <a:pt x="275" y="6"/>
                      </a:lnTo>
                      <a:lnTo>
                        <a:pt x="275" y="5"/>
                      </a:lnTo>
                      <a:lnTo>
                        <a:pt x="276" y="4"/>
                      </a:lnTo>
                      <a:lnTo>
                        <a:pt x="278" y="3"/>
                      </a:lnTo>
                      <a:lnTo>
                        <a:pt x="279" y="3"/>
                      </a:lnTo>
                      <a:lnTo>
                        <a:pt x="281" y="3"/>
                      </a:lnTo>
                      <a:lnTo>
                        <a:pt x="283" y="4"/>
                      </a:lnTo>
                      <a:lnTo>
                        <a:pt x="284" y="5"/>
                      </a:lnTo>
                      <a:lnTo>
                        <a:pt x="284" y="6"/>
                      </a:lnTo>
                      <a:lnTo>
                        <a:pt x="284" y="6"/>
                      </a:lnTo>
                      <a:lnTo>
                        <a:pt x="285" y="5"/>
                      </a:lnTo>
                      <a:lnTo>
                        <a:pt x="286" y="4"/>
                      </a:lnTo>
                      <a:lnTo>
                        <a:pt x="287" y="3"/>
                      </a:lnTo>
                      <a:lnTo>
                        <a:pt x="289" y="3"/>
                      </a:lnTo>
                      <a:lnTo>
                        <a:pt x="291" y="3"/>
                      </a:lnTo>
                      <a:lnTo>
                        <a:pt x="292" y="4"/>
                      </a:lnTo>
                      <a:lnTo>
                        <a:pt x="293" y="5"/>
                      </a:lnTo>
                      <a:lnTo>
                        <a:pt x="293" y="6"/>
                      </a:lnTo>
                      <a:lnTo>
                        <a:pt x="295" y="6"/>
                      </a:lnTo>
                      <a:lnTo>
                        <a:pt x="296" y="4"/>
                      </a:lnTo>
                      <a:lnTo>
                        <a:pt x="297" y="3"/>
                      </a:lnTo>
                      <a:lnTo>
                        <a:pt x="298" y="1"/>
                      </a:lnTo>
                      <a:lnTo>
                        <a:pt x="300" y="0"/>
                      </a:lnTo>
                      <a:lnTo>
                        <a:pt x="303" y="0"/>
                      </a:lnTo>
                      <a:lnTo>
                        <a:pt x="305" y="0"/>
                      </a:lnTo>
                      <a:lnTo>
                        <a:pt x="307" y="0"/>
                      </a:lnTo>
                      <a:lnTo>
                        <a:pt x="310" y="1"/>
                      </a:lnTo>
                      <a:lnTo>
                        <a:pt x="311" y="3"/>
                      </a:lnTo>
                      <a:lnTo>
                        <a:pt x="312" y="4"/>
                      </a:lnTo>
                      <a:lnTo>
                        <a:pt x="313" y="6"/>
                      </a:lnTo>
                      <a:lnTo>
                        <a:pt x="317" y="6"/>
                      </a:lnTo>
                      <a:lnTo>
                        <a:pt x="317" y="4"/>
                      </a:lnTo>
                      <a:lnTo>
                        <a:pt x="318" y="3"/>
                      </a:lnTo>
                      <a:lnTo>
                        <a:pt x="320" y="1"/>
                      </a:lnTo>
                      <a:lnTo>
                        <a:pt x="322" y="0"/>
                      </a:lnTo>
                      <a:lnTo>
                        <a:pt x="324" y="0"/>
                      </a:lnTo>
                      <a:lnTo>
                        <a:pt x="326" y="0"/>
                      </a:lnTo>
                      <a:lnTo>
                        <a:pt x="328" y="0"/>
                      </a:lnTo>
                      <a:lnTo>
                        <a:pt x="331" y="1"/>
                      </a:lnTo>
                      <a:lnTo>
                        <a:pt x="332" y="3"/>
                      </a:lnTo>
                      <a:lnTo>
                        <a:pt x="333" y="4"/>
                      </a:lnTo>
                      <a:lnTo>
                        <a:pt x="333" y="6"/>
                      </a:lnTo>
                      <a:lnTo>
                        <a:pt x="361" y="6"/>
                      </a:lnTo>
                    </a:path>
                  </a:pathLst>
                </a:custGeom>
                <a:noFill/>
                <a:ln w="1440">
                  <a:solidFill>
                    <a:srgbClr val="ff0000"/>
                  </a:solidFill>
                  <a:round/>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157" name=""/>
                <p:cNvSpPr/>
                <p:nvPr/>
              </p:nvSpPr>
              <p:spPr>
                <a:xfrm>
                  <a:off x="5511960" y="3931560"/>
                  <a:ext cx="13680" cy="11880"/>
                </a:xfrm>
                <a:custGeom>
                  <a:avLst/>
                  <a:gdLst/>
                  <a:ahLst/>
                  <a:rect l="l" t="t" r="r" b="b"/>
                  <a:pathLst>
                    <a:path w="13" h="9">
                      <a:moveTo>
                        <a:pt x="2" y="0"/>
                      </a:moveTo>
                      <a:lnTo>
                        <a:pt x="13" y="4"/>
                      </a:lnTo>
                      <a:lnTo>
                        <a:pt x="2" y="9"/>
                      </a:lnTo>
                      <a:lnTo>
                        <a:pt x="1" y="7"/>
                      </a:lnTo>
                      <a:lnTo>
                        <a:pt x="0" y="4"/>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58" name=""/>
                <p:cNvSpPr/>
                <p:nvPr/>
              </p:nvSpPr>
              <p:spPr>
                <a:xfrm>
                  <a:off x="4976280" y="3966120"/>
                  <a:ext cx="549360" cy="94680"/>
                </a:xfrm>
                <a:custGeom>
                  <a:avLst/>
                  <a:gdLst/>
                  <a:ahLst/>
                  <a:rect l="l" t="t" r="r" b="b"/>
                  <a:pathLst>
                    <a:path w="519" h="71">
                      <a:moveTo>
                        <a:pt x="519" y="7"/>
                      </a:moveTo>
                      <a:lnTo>
                        <a:pt x="480" y="7"/>
                      </a:lnTo>
                      <a:lnTo>
                        <a:pt x="480" y="5"/>
                      </a:lnTo>
                      <a:lnTo>
                        <a:pt x="479" y="3"/>
                      </a:lnTo>
                      <a:lnTo>
                        <a:pt x="478" y="2"/>
                      </a:lnTo>
                      <a:lnTo>
                        <a:pt x="476" y="1"/>
                      </a:lnTo>
                      <a:lnTo>
                        <a:pt x="473" y="0"/>
                      </a:lnTo>
                      <a:lnTo>
                        <a:pt x="471" y="0"/>
                      </a:lnTo>
                      <a:lnTo>
                        <a:pt x="469" y="1"/>
                      </a:lnTo>
                      <a:lnTo>
                        <a:pt x="467" y="2"/>
                      </a:lnTo>
                      <a:lnTo>
                        <a:pt x="465" y="3"/>
                      </a:lnTo>
                      <a:lnTo>
                        <a:pt x="464" y="5"/>
                      </a:lnTo>
                      <a:lnTo>
                        <a:pt x="464" y="7"/>
                      </a:lnTo>
                      <a:lnTo>
                        <a:pt x="460" y="7"/>
                      </a:lnTo>
                      <a:lnTo>
                        <a:pt x="459" y="5"/>
                      </a:lnTo>
                      <a:lnTo>
                        <a:pt x="458" y="3"/>
                      </a:lnTo>
                      <a:lnTo>
                        <a:pt x="457" y="2"/>
                      </a:lnTo>
                      <a:lnTo>
                        <a:pt x="454" y="1"/>
                      </a:lnTo>
                      <a:lnTo>
                        <a:pt x="452" y="0"/>
                      </a:lnTo>
                      <a:lnTo>
                        <a:pt x="450" y="0"/>
                      </a:lnTo>
                      <a:lnTo>
                        <a:pt x="447" y="1"/>
                      </a:lnTo>
                      <a:lnTo>
                        <a:pt x="445" y="2"/>
                      </a:lnTo>
                      <a:lnTo>
                        <a:pt x="444" y="3"/>
                      </a:lnTo>
                      <a:lnTo>
                        <a:pt x="443" y="5"/>
                      </a:lnTo>
                      <a:lnTo>
                        <a:pt x="442" y="7"/>
                      </a:lnTo>
                      <a:lnTo>
                        <a:pt x="440" y="7"/>
                      </a:lnTo>
                      <a:lnTo>
                        <a:pt x="440" y="6"/>
                      </a:lnTo>
                      <a:lnTo>
                        <a:pt x="439" y="4"/>
                      </a:lnTo>
                      <a:lnTo>
                        <a:pt x="438" y="4"/>
                      </a:lnTo>
                      <a:lnTo>
                        <a:pt x="436" y="3"/>
                      </a:lnTo>
                      <a:lnTo>
                        <a:pt x="434" y="4"/>
                      </a:lnTo>
                      <a:lnTo>
                        <a:pt x="433" y="4"/>
                      </a:lnTo>
                      <a:lnTo>
                        <a:pt x="432" y="6"/>
                      </a:lnTo>
                      <a:lnTo>
                        <a:pt x="431" y="7"/>
                      </a:lnTo>
                      <a:lnTo>
                        <a:pt x="431" y="7"/>
                      </a:lnTo>
                      <a:lnTo>
                        <a:pt x="431" y="6"/>
                      </a:lnTo>
                      <a:lnTo>
                        <a:pt x="430" y="4"/>
                      </a:lnTo>
                      <a:lnTo>
                        <a:pt x="428" y="4"/>
                      </a:lnTo>
                      <a:lnTo>
                        <a:pt x="426" y="3"/>
                      </a:lnTo>
                      <a:lnTo>
                        <a:pt x="425" y="4"/>
                      </a:lnTo>
                      <a:lnTo>
                        <a:pt x="423" y="4"/>
                      </a:lnTo>
                      <a:lnTo>
                        <a:pt x="422" y="6"/>
                      </a:lnTo>
                      <a:lnTo>
                        <a:pt x="422" y="7"/>
                      </a:lnTo>
                      <a:lnTo>
                        <a:pt x="388" y="7"/>
                      </a:lnTo>
                      <a:lnTo>
                        <a:pt x="388" y="6"/>
                      </a:lnTo>
                      <a:lnTo>
                        <a:pt x="387" y="4"/>
                      </a:lnTo>
                      <a:lnTo>
                        <a:pt x="385" y="4"/>
                      </a:lnTo>
                      <a:lnTo>
                        <a:pt x="384" y="3"/>
                      </a:lnTo>
                      <a:lnTo>
                        <a:pt x="382" y="4"/>
                      </a:lnTo>
                      <a:lnTo>
                        <a:pt x="380" y="4"/>
                      </a:lnTo>
                      <a:lnTo>
                        <a:pt x="380" y="6"/>
                      </a:lnTo>
                      <a:lnTo>
                        <a:pt x="379" y="7"/>
                      </a:lnTo>
                      <a:lnTo>
                        <a:pt x="375" y="7"/>
                      </a:lnTo>
                      <a:lnTo>
                        <a:pt x="374" y="6"/>
                      </a:lnTo>
                      <a:lnTo>
                        <a:pt x="373" y="4"/>
                      </a:lnTo>
                      <a:lnTo>
                        <a:pt x="372" y="4"/>
                      </a:lnTo>
                      <a:lnTo>
                        <a:pt x="370" y="3"/>
                      </a:lnTo>
                      <a:lnTo>
                        <a:pt x="368" y="4"/>
                      </a:lnTo>
                      <a:lnTo>
                        <a:pt x="367" y="4"/>
                      </a:lnTo>
                      <a:lnTo>
                        <a:pt x="366" y="6"/>
                      </a:lnTo>
                      <a:lnTo>
                        <a:pt x="366" y="7"/>
                      </a:lnTo>
                      <a:lnTo>
                        <a:pt x="334" y="7"/>
                      </a:lnTo>
                      <a:lnTo>
                        <a:pt x="334" y="6"/>
                      </a:lnTo>
                      <a:lnTo>
                        <a:pt x="333" y="4"/>
                      </a:lnTo>
                      <a:lnTo>
                        <a:pt x="331" y="4"/>
                      </a:lnTo>
                      <a:lnTo>
                        <a:pt x="330" y="3"/>
                      </a:lnTo>
                      <a:lnTo>
                        <a:pt x="328" y="4"/>
                      </a:lnTo>
                      <a:lnTo>
                        <a:pt x="326" y="4"/>
                      </a:lnTo>
                      <a:lnTo>
                        <a:pt x="325" y="6"/>
                      </a:lnTo>
                      <a:lnTo>
                        <a:pt x="325" y="7"/>
                      </a:lnTo>
                      <a:lnTo>
                        <a:pt x="246" y="7"/>
                      </a:lnTo>
                      <a:lnTo>
                        <a:pt x="246" y="6"/>
                      </a:lnTo>
                      <a:lnTo>
                        <a:pt x="245" y="4"/>
                      </a:lnTo>
                      <a:lnTo>
                        <a:pt x="243" y="4"/>
                      </a:lnTo>
                      <a:lnTo>
                        <a:pt x="242" y="3"/>
                      </a:lnTo>
                      <a:lnTo>
                        <a:pt x="240" y="4"/>
                      </a:lnTo>
                      <a:lnTo>
                        <a:pt x="238" y="4"/>
                      </a:lnTo>
                      <a:lnTo>
                        <a:pt x="237" y="6"/>
                      </a:lnTo>
                      <a:lnTo>
                        <a:pt x="237" y="7"/>
                      </a:lnTo>
                      <a:lnTo>
                        <a:pt x="213" y="7"/>
                      </a:lnTo>
                      <a:lnTo>
                        <a:pt x="213" y="48"/>
                      </a:lnTo>
                      <a:lnTo>
                        <a:pt x="199" y="48"/>
                      </a:lnTo>
                      <a:lnTo>
                        <a:pt x="199" y="47"/>
                      </a:lnTo>
                      <a:lnTo>
                        <a:pt x="198" y="45"/>
                      </a:lnTo>
                      <a:lnTo>
                        <a:pt x="196" y="45"/>
                      </a:lnTo>
                      <a:lnTo>
                        <a:pt x="195" y="44"/>
                      </a:lnTo>
                      <a:lnTo>
                        <a:pt x="193" y="45"/>
                      </a:lnTo>
                      <a:lnTo>
                        <a:pt x="191" y="45"/>
                      </a:lnTo>
                      <a:lnTo>
                        <a:pt x="190" y="47"/>
                      </a:lnTo>
                      <a:lnTo>
                        <a:pt x="190" y="48"/>
                      </a:lnTo>
                      <a:lnTo>
                        <a:pt x="137" y="48"/>
                      </a:lnTo>
                      <a:lnTo>
                        <a:pt x="137" y="46"/>
                      </a:lnTo>
                      <a:lnTo>
                        <a:pt x="136" y="45"/>
                      </a:lnTo>
                      <a:lnTo>
                        <a:pt x="135" y="44"/>
                      </a:lnTo>
                      <a:lnTo>
                        <a:pt x="133" y="43"/>
                      </a:lnTo>
                      <a:lnTo>
                        <a:pt x="131" y="42"/>
                      </a:lnTo>
                      <a:lnTo>
                        <a:pt x="128" y="42"/>
                      </a:lnTo>
                      <a:lnTo>
                        <a:pt x="126" y="43"/>
                      </a:lnTo>
                      <a:lnTo>
                        <a:pt x="124" y="44"/>
                      </a:lnTo>
                      <a:lnTo>
                        <a:pt x="123" y="45"/>
                      </a:lnTo>
                      <a:lnTo>
                        <a:pt x="122" y="46"/>
                      </a:lnTo>
                      <a:lnTo>
                        <a:pt x="122" y="48"/>
                      </a:lnTo>
                      <a:lnTo>
                        <a:pt x="47" y="48"/>
                      </a:lnTo>
                      <a:lnTo>
                        <a:pt x="46" y="47"/>
                      </a:lnTo>
                      <a:lnTo>
                        <a:pt x="46" y="45"/>
                      </a:lnTo>
                      <a:lnTo>
                        <a:pt x="44" y="45"/>
                      </a:lnTo>
                      <a:lnTo>
                        <a:pt x="42" y="44"/>
                      </a:lnTo>
                      <a:lnTo>
                        <a:pt x="41" y="45"/>
                      </a:lnTo>
                      <a:lnTo>
                        <a:pt x="39" y="45"/>
                      </a:lnTo>
                      <a:lnTo>
                        <a:pt x="38" y="47"/>
                      </a:lnTo>
                      <a:lnTo>
                        <a:pt x="38" y="48"/>
                      </a:lnTo>
                      <a:lnTo>
                        <a:pt x="0" y="48"/>
                      </a:lnTo>
                      <a:lnTo>
                        <a:pt x="0"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4969800" y="40597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160" name=""/>
                <p:cNvSpPr/>
                <p:nvPr/>
              </p:nvSpPr>
              <p:spPr>
                <a:xfrm>
                  <a:off x="5923800" y="2205720"/>
                  <a:ext cx="729000" cy="1642680"/>
                </a:xfrm>
                <a:custGeom>
                  <a:avLst/>
                  <a:gdLst/>
                  <a:ahLst/>
                  <a:rect l="l" t="t" r="r" b="b"/>
                  <a:pathLst>
                    <a:path w="689" h="1230">
                      <a:moveTo>
                        <a:pt x="654" y="3"/>
                      </a:moveTo>
                      <a:lnTo>
                        <a:pt x="664" y="3"/>
                      </a:lnTo>
                      <a:lnTo>
                        <a:pt x="665" y="2"/>
                      </a:lnTo>
                      <a:lnTo>
                        <a:pt x="666" y="1"/>
                      </a:lnTo>
                      <a:lnTo>
                        <a:pt x="667" y="0"/>
                      </a:lnTo>
                      <a:lnTo>
                        <a:pt x="669" y="0"/>
                      </a:lnTo>
                      <a:lnTo>
                        <a:pt x="671" y="0"/>
                      </a:lnTo>
                      <a:lnTo>
                        <a:pt x="672" y="1"/>
                      </a:lnTo>
                      <a:lnTo>
                        <a:pt x="673" y="2"/>
                      </a:lnTo>
                      <a:lnTo>
                        <a:pt x="673" y="3"/>
                      </a:lnTo>
                      <a:lnTo>
                        <a:pt x="689" y="3"/>
                      </a:lnTo>
                      <a:lnTo>
                        <a:pt x="689" y="202"/>
                      </a:lnTo>
                      <a:lnTo>
                        <a:pt x="649" y="202"/>
                      </a:lnTo>
                      <a:lnTo>
                        <a:pt x="649" y="200"/>
                      </a:lnTo>
                      <a:lnTo>
                        <a:pt x="648" y="199"/>
                      </a:lnTo>
                      <a:lnTo>
                        <a:pt x="646" y="198"/>
                      </a:lnTo>
                      <a:lnTo>
                        <a:pt x="645" y="198"/>
                      </a:lnTo>
                      <a:lnTo>
                        <a:pt x="643" y="198"/>
                      </a:lnTo>
                      <a:lnTo>
                        <a:pt x="641" y="199"/>
                      </a:lnTo>
                      <a:lnTo>
                        <a:pt x="641" y="200"/>
                      </a:lnTo>
                      <a:lnTo>
                        <a:pt x="640" y="202"/>
                      </a:lnTo>
                      <a:lnTo>
                        <a:pt x="627" y="202"/>
                      </a:lnTo>
                      <a:lnTo>
                        <a:pt x="627" y="200"/>
                      </a:lnTo>
                      <a:lnTo>
                        <a:pt x="626" y="199"/>
                      </a:lnTo>
                      <a:lnTo>
                        <a:pt x="625" y="198"/>
                      </a:lnTo>
                      <a:lnTo>
                        <a:pt x="623" y="198"/>
                      </a:lnTo>
                      <a:lnTo>
                        <a:pt x="621" y="198"/>
                      </a:lnTo>
                      <a:lnTo>
                        <a:pt x="620" y="199"/>
                      </a:lnTo>
                      <a:lnTo>
                        <a:pt x="619" y="200"/>
                      </a:lnTo>
                      <a:lnTo>
                        <a:pt x="618" y="202"/>
                      </a:lnTo>
                      <a:lnTo>
                        <a:pt x="549" y="202"/>
                      </a:lnTo>
                      <a:lnTo>
                        <a:pt x="549" y="200"/>
                      </a:lnTo>
                      <a:lnTo>
                        <a:pt x="548" y="199"/>
                      </a:lnTo>
                      <a:lnTo>
                        <a:pt x="547" y="198"/>
                      </a:lnTo>
                      <a:lnTo>
                        <a:pt x="545" y="198"/>
                      </a:lnTo>
                      <a:lnTo>
                        <a:pt x="543" y="198"/>
                      </a:lnTo>
                      <a:lnTo>
                        <a:pt x="542" y="199"/>
                      </a:lnTo>
                      <a:lnTo>
                        <a:pt x="541" y="200"/>
                      </a:lnTo>
                      <a:lnTo>
                        <a:pt x="540" y="202"/>
                      </a:lnTo>
                      <a:lnTo>
                        <a:pt x="480" y="202"/>
                      </a:lnTo>
                      <a:lnTo>
                        <a:pt x="479" y="200"/>
                      </a:lnTo>
                      <a:lnTo>
                        <a:pt x="478" y="199"/>
                      </a:lnTo>
                      <a:lnTo>
                        <a:pt x="477" y="198"/>
                      </a:lnTo>
                      <a:lnTo>
                        <a:pt x="475" y="198"/>
                      </a:lnTo>
                      <a:lnTo>
                        <a:pt x="474" y="198"/>
                      </a:lnTo>
                      <a:lnTo>
                        <a:pt x="472" y="199"/>
                      </a:lnTo>
                      <a:lnTo>
                        <a:pt x="471" y="200"/>
                      </a:lnTo>
                      <a:lnTo>
                        <a:pt x="471" y="202"/>
                      </a:lnTo>
                      <a:lnTo>
                        <a:pt x="445" y="202"/>
                      </a:lnTo>
                      <a:lnTo>
                        <a:pt x="445" y="200"/>
                      </a:lnTo>
                      <a:lnTo>
                        <a:pt x="444" y="199"/>
                      </a:lnTo>
                      <a:lnTo>
                        <a:pt x="442" y="198"/>
                      </a:lnTo>
                      <a:lnTo>
                        <a:pt x="441" y="198"/>
                      </a:lnTo>
                      <a:lnTo>
                        <a:pt x="439" y="198"/>
                      </a:lnTo>
                      <a:lnTo>
                        <a:pt x="437" y="199"/>
                      </a:lnTo>
                      <a:lnTo>
                        <a:pt x="436" y="200"/>
                      </a:lnTo>
                      <a:lnTo>
                        <a:pt x="436" y="202"/>
                      </a:lnTo>
                      <a:lnTo>
                        <a:pt x="410" y="202"/>
                      </a:lnTo>
                      <a:lnTo>
                        <a:pt x="410" y="200"/>
                      </a:lnTo>
                      <a:lnTo>
                        <a:pt x="409" y="199"/>
                      </a:lnTo>
                      <a:lnTo>
                        <a:pt x="407" y="198"/>
                      </a:lnTo>
                      <a:lnTo>
                        <a:pt x="406" y="198"/>
                      </a:lnTo>
                      <a:lnTo>
                        <a:pt x="404" y="198"/>
                      </a:lnTo>
                      <a:lnTo>
                        <a:pt x="403" y="199"/>
                      </a:lnTo>
                      <a:lnTo>
                        <a:pt x="402" y="200"/>
                      </a:lnTo>
                      <a:lnTo>
                        <a:pt x="401" y="202"/>
                      </a:lnTo>
                      <a:lnTo>
                        <a:pt x="376" y="202"/>
                      </a:lnTo>
                      <a:lnTo>
                        <a:pt x="375" y="200"/>
                      </a:lnTo>
                      <a:lnTo>
                        <a:pt x="374" y="199"/>
                      </a:lnTo>
                      <a:lnTo>
                        <a:pt x="373" y="198"/>
                      </a:lnTo>
                      <a:lnTo>
                        <a:pt x="371" y="198"/>
                      </a:lnTo>
                      <a:lnTo>
                        <a:pt x="369" y="198"/>
                      </a:lnTo>
                      <a:lnTo>
                        <a:pt x="368" y="199"/>
                      </a:lnTo>
                      <a:lnTo>
                        <a:pt x="367" y="200"/>
                      </a:lnTo>
                      <a:lnTo>
                        <a:pt x="367" y="202"/>
                      </a:lnTo>
                      <a:lnTo>
                        <a:pt x="329" y="202"/>
                      </a:lnTo>
                      <a:lnTo>
                        <a:pt x="329" y="716"/>
                      </a:lnTo>
                      <a:lnTo>
                        <a:pt x="270" y="716"/>
                      </a:lnTo>
                      <a:lnTo>
                        <a:pt x="269" y="715"/>
                      </a:lnTo>
                      <a:lnTo>
                        <a:pt x="269" y="714"/>
                      </a:lnTo>
                      <a:lnTo>
                        <a:pt x="267" y="713"/>
                      </a:lnTo>
                      <a:lnTo>
                        <a:pt x="265" y="713"/>
                      </a:lnTo>
                      <a:lnTo>
                        <a:pt x="264" y="713"/>
                      </a:lnTo>
                      <a:lnTo>
                        <a:pt x="262" y="714"/>
                      </a:lnTo>
                      <a:lnTo>
                        <a:pt x="261" y="715"/>
                      </a:lnTo>
                      <a:lnTo>
                        <a:pt x="261" y="716"/>
                      </a:lnTo>
                      <a:lnTo>
                        <a:pt x="256" y="716"/>
                      </a:lnTo>
                      <a:lnTo>
                        <a:pt x="256" y="715"/>
                      </a:lnTo>
                      <a:lnTo>
                        <a:pt x="255" y="714"/>
                      </a:lnTo>
                      <a:lnTo>
                        <a:pt x="254" y="713"/>
                      </a:lnTo>
                      <a:lnTo>
                        <a:pt x="252" y="713"/>
                      </a:lnTo>
                      <a:lnTo>
                        <a:pt x="250" y="713"/>
                      </a:lnTo>
                      <a:lnTo>
                        <a:pt x="249" y="714"/>
                      </a:lnTo>
                      <a:lnTo>
                        <a:pt x="248" y="715"/>
                      </a:lnTo>
                      <a:lnTo>
                        <a:pt x="247" y="716"/>
                      </a:lnTo>
                      <a:lnTo>
                        <a:pt x="226" y="716"/>
                      </a:lnTo>
                      <a:lnTo>
                        <a:pt x="226" y="715"/>
                      </a:lnTo>
                      <a:lnTo>
                        <a:pt x="225" y="714"/>
                      </a:lnTo>
                      <a:lnTo>
                        <a:pt x="223" y="713"/>
                      </a:lnTo>
                      <a:lnTo>
                        <a:pt x="222" y="713"/>
                      </a:lnTo>
                      <a:lnTo>
                        <a:pt x="220" y="713"/>
                      </a:lnTo>
                      <a:lnTo>
                        <a:pt x="218" y="714"/>
                      </a:lnTo>
                      <a:lnTo>
                        <a:pt x="217" y="715"/>
                      </a:lnTo>
                      <a:lnTo>
                        <a:pt x="217" y="716"/>
                      </a:lnTo>
                      <a:lnTo>
                        <a:pt x="199" y="716"/>
                      </a:lnTo>
                      <a:lnTo>
                        <a:pt x="199" y="715"/>
                      </a:lnTo>
                      <a:lnTo>
                        <a:pt x="198" y="714"/>
                      </a:lnTo>
                      <a:lnTo>
                        <a:pt x="196" y="713"/>
                      </a:lnTo>
                      <a:lnTo>
                        <a:pt x="195" y="713"/>
                      </a:lnTo>
                      <a:lnTo>
                        <a:pt x="193" y="713"/>
                      </a:lnTo>
                      <a:lnTo>
                        <a:pt x="191" y="714"/>
                      </a:lnTo>
                      <a:lnTo>
                        <a:pt x="190" y="715"/>
                      </a:lnTo>
                      <a:lnTo>
                        <a:pt x="190" y="716"/>
                      </a:lnTo>
                      <a:lnTo>
                        <a:pt x="133" y="716"/>
                      </a:lnTo>
                      <a:lnTo>
                        <a:pt x="132" y="714"/>
                      </a:lnTo>
                      <a:lnTo>
                        <a:pt x="131" y="712"/>
                      </a:lnTo>
                      <a:lnTo>
                        <a:pt x="130" y="711"/>
                      </a:lnTo>
                      <a:lnTo>
                        <a:pt x="127" y="710"/>
                      </a:lnTo>
                      <a:lnTo>
                        <a:pt x="125" y="709"/>
                      </a:lnTo>
                      <a:lnTo>
                        <a:pt x="123" y="709"/>
                      </a:lnTo>
                      <a:lnTo>
                        <a:pt x="120" y="710"/>
                      </a:lnTo>
                      <a:lnTo>
                        <a:pt x="118" y="711"/>
                      </a:lnTo>
                      <a:lnTo>
                        <a:pt x="116" y="712"/>
                      </a:lnTo>
                      <a:lnTo>
                        <a:pt x="115" y="714"/>
                      </a:lnTo>
                      <a:lnTo>
                        <a:pt x="115" y="716"/>
                      </a:lnTo>
                      <a:lnTo>
                        <a:pt x="108" y="716"/>
                      </a:lnTo>
                      <a:lnTo>
                        <a:pt x="108" y="715"/>
                      </a:lnTo>
                      <a:lnTo>
                        <a:pt x="107" y="714"/>
                      </a:lnTo>
                      <a:lnTo>
                        <a:pt x="106" y="713"/>
                      </a:lnTo>
                      <a:lnTo>
                        <a:pt x="104" y="713"/>
                      </a:lnTo>
                      <a:lnTo>
                        <a:pt x="102" y="713"/>
                      </a:lnTo>
                      <a:lnTo>
                        <a:pt x="101" y="714"/>
                      </a:lnTo>
                      <a:lnTo>
                        <a:pt x="100" y="715"/>
                      </a:lnTo>
                      <a:lnTo>
                        <a:pt x="99" y="716"/>
                      </a:lnTo>
                      <a:lnTo>
                        <a:pt x="88" y="716"/>
                      </a:lnTo>
                      <a:lnTo>
                        <a:pt x="88" y="1230"/>
                      </a:lnTo>
                      <a:lnTo>
                        <a:pt x="71" y="1230"/>
                      </a:lnTo>
                      <a:lnTo>
                        <a:pt x="71" y="1228"/>
                      </a:lnTo>
                      <a:lnTo>
                        <a:pt x="70" y="1227"/>
                      </a:lnTo>
                      <a:lnTo>
                        <a:pt x="69" y="1226"/>
                      </a:lnTo>
                      <a:lnTo>
                        <a:pt x="67" y="1226"/>
                      </a:lnTo>
                      <a:lnTo>
                        <a:pt x="65" y="1226"/>
                      </a:lnTo>
                      <a:lnTo>
                        <a:pt x="64" y="1227"/>
                      </a:lnTo>
                      <a:lnTo>
                        <a:pt x="63" y="1228"/>
                      </a:lnTo>
                      <a:lnTo>
                        <a:pt x="63" y="1230"/>
                      </a:lnTo>
                      <a:lnTo>
                        <a:pt x="61" y="1230"/>
                      </a:lnTo>
                      <a:lnTo>
                        <a:pt x="60" y="1228"/>
                      </a:lnTo>
                      <a:lnTo>
                        <a:pt x="59" y="1227"/>
                      </a:lnTo>
                      <a:lnTo>
                        <a:pt x="58" y="1226"/>
                      </a:lnTo>
                      <a:lnTo>
                        <a:pt x="56" y="1226"/>
                      </a:lnTo>
                      <a:lnTo>
                        <a:pt x="54" y="1226"/>
                      </a:lnTo>
                      <a:lnTo>
                        <a:pt x="53" y="1227"/>
                      </a:lnTo>
                      <a:lnTo>
                        <a:pt x="52" y="1228"/>
                      </a:lnTo>
                      <a:lnTo>
                        <a:pt x="52" y="1230"/>
                      </a:lnTo>
                      <a:lnTo>
                        <a:pt x="38" y="1230"/>
                      </a:lnTo>
                      <a:lnTo>
                        <a:pt x="38" y="1228"/>
                      </a:lnTo>
                      <a:lnTo>
                        <a:pt x="37" y="1227"/>
                      </a:lnTo>
                      <a:lnTo>
                        <a:pt x="35" y="1226"/>
                      </a:lnTo>
                      <a:lnTo>
                        <a:pt x="34" y="1226"/>
                      </a:lnTo>
                      <a:lnTo>
                        <a:pt x="32" y="1226"/>
                      </a:lnTo>
                      <a:lnTo>
                        <a:pt x="30" y="1227"/>
                      </a:lnTo>
                      <a:lnTo>
                        <a:pt x="29" y="1228"/>
                      </a:lnTo>
                      <a:lnTo>
                        <a:pt x="29" y="1230"/>
                      </a:lnTo>
                      <a:lnTo>
                        <a:pt x="20" y="1230"/>
                      </a:lnTo>
                      <a:lnTo>
                        <a:pt x="20" y="1228"/>
                      </a:lnTo>
                      <a:lnTo>
                        <a:pt x="19" y="1227"/>
                      </a:lnTo>
                      <a:lnTo>
                        <a:pt x="17" y="1226"/>
                      </a:lnTo>
                      <a:lnTo>
                        <a:pt x="16" y="1226"/>
                      </a:lnTo>
                      <a:lnTo>
                        <a:pt x="14" y="1226"/>
                      </a:lnTo>
                      <a:lnTo>
                        <a:pt x="12" y="1227"/>
                      </a:lnTo>
                      <a:lnTo>
                        <a:pt x="11" y="1228"/>
                      </a:lnTo>
                      <a:lnTo>
                        <a:pt x="11" y="1230"/>
                      </a:lnTo>
                      <a:lnTo>
                        <a:pt x="0" y="123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603480" y="220428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62" name=""/>
                <p:cNvSpPr/>
                <p:nvPr/>
              </p:nvSpPr>
              <p:spPr>
                <a:xfrm>
                  <a:off x="5923800" y="3842280"/>
                  <a:ext cx="13680" cy="1152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63" name=""/>
                <p:cNvSpPr/>
                <p:nvPr/>
              </p:nvSpPr>
              <p:spPr>
                <a:xfrm>
                  <a:off x="5923800" y="3889800"/>
                  <a:ext cx="1781280" cy="114840"/>
                </a:xfrm>
                <a:custGeom>
                  <a:avLst/>
                  <a:gdLst/>
                  <a:ahLst/>
                  <a:rect l="l" t="t" r="r" b="b"/>
                  <a:pathLst>
                    <a:path w="1683" h="86">
                      <a:moveTo>
                        <a:pt x="1683" y="86"/>
                      </a:moveTo>
                      <a:lnTo>
                        <a:pt x="1683" y="81"/>
                      </a:lnTo>
                      <a:lnTo>
                        <a:pt x="1655" y="81"/>
                      </a:lnTo>
                      <a:lnTo>
                        <a:pt x="1654" y="80"/>
                      </a:lnTo>
                      <a:lnTo>
                        <a:pt x="1653" y="79"/>
                      </a:lnTo>
                      <a:lnTo>
                        <a:pt x="1652" y="78"/>
                      </a:lnTo>
                      <a:lnTo>
                        <a:pt x="1650" y="78"/>
                      </a:lnTo>
                      <a:lnTo>
                        <a:pt x="1648" y="78"/>
                      </a:lnTo>
                      <a:lnTo>
                        <a:pt x="1647" y="79"/>
                      </a:lnTo>
                      <a:lnTo>
                        <a:pt x="1646" y="80"/>
                      </a:lnTo>
                      <a:lnTo>
                        <a:pt x="1646" y="81"/>
                      </a:lnTo>
                      <a:lnTo>
                        <a:pt x="1607" y="81"/>
                      </a:lnTo>
                      <a:lnTo>
                        <a:pt x="1607" y="80"/>
                      </a:lnTo>
                      <a:lnTo>
                        <a:pt x="1606" y="79"/>
                      </a:lnTo>
                      <a:lnTo>
                        <a:pt x="1605" y="78"/>
                      </a:lnTo>
                      <a:lnTo>
                        <a:pt x="1603" y="78"/>
                      </a:lnTo>
                      <a:lnTo>
                        <a:pt x="1601" y="78"/>
                      </a:lnTo>
                      <a:lnTo>
                        <a:pt x="1600" y="79"/>
                      </a:lnTo>
                      <a:lnTo>
                        <a:pt x="1599" y="80"/>
                      </a:lnTo>
                      <a:lnTo>
                        <a:pt x="1598" y="81"/>
                      </a:lnTo>
                      <a:lnTo>
                        <a:pt x="1567" y="81"/>
                      </a:lnTo>
                      <a:lnTo>
                        <a:pt x="1566" y="80"/>
                      </a:lnTo>
                      <a:lnTo>
                        <a:pt x="1565" y="79"/>
                      </a:lnTo>
                      <a:lnTo>
                        <a:pt x="1564" y="78"/>
                      </a:lnTo>
                      <a:lnTo>
                        <a:pt x="1562" y="78"/>
                      </a:lnTo>
                      <a:lnTo>
                        <a:pt x="1561" y="78"/>
                      </a:lnTo>
                      <a:lnTo>
                        <a:pt x="1559" y="79"/>
                      </a:lnTo>
                      <a:lnTo>
                        <a:pt x="1558" y="80"/>
                      </a:lnTo>
                      <a:lnTo>
                        <a:pt x="1558" y="81"/>
                      </a:lnTo>
                      <a:lnTo>
                        <a:pt x="1540" y="81"/>
                      </a:lnTo>
                      <a:lnTo>
                        <a:pt x="1539" y="80"/>
                      </a:lnTo>
                      <a:lnTo>
                        <a:pt x="1539" y="78"/>
                      </a:lnTo>
                      <a:lnTo>
                        <a:pt x="1537" y="77"/>
                      </a:lnTo>
                      <a:lnTo>
                        <a:pt x="1535" y="77"/>
                      </a:lnTo>
                      <a:lnTo>
                        <a:pt x="1533" y="76"/>
                      </a:lnTo>
                      <a:lnTo>
                        <a:pt x="1531" y="77"/>
                      </a:lnTo>
                      <a:lnTo>
                        <a:pt x="1529" y="77"/>
                      </a:lnTo>
                      <a:lnTo>
                        <a:pt x="1528" y="78"/>
                      </a:lnTo>
                      <a:lnTo>
                        <a:pt x="1527" y="80"/>
                      </a:lnTo>
                      <a:lnTo>
                        <a:pt x="1526" y="81"/>
                      </a:lnTo>
                      <a:lnTo>
                        <a:pt x="1524" y="81"/>
                      </a:lnTo>
                      <a:lnTo>
                        <a:pt x="1524" y="80"/>
                      </a:lnTo>
                      <a:lnTo>
                        <a:pt x="1523" y="79"/>
                      </a:lnTo>
                      <a:lnTo>
                        <a:pt x="1521" y="78"/>
                      </a:lnTo>
                      <a:lnTo>
                        <a:pt x="1520" y="78"/>
                      </a:lnTo>
                      <a:lnTo>
                        <a:pt x="1518" y="78"/>
                      </a:lnTo>
                      <a:lnTo>
                        <a:pt x="1516" y="79"/>
                      </a:lnTo>
                      <a:lnTo>
                        <a:pt x="1515" y="80"/>
                      </a:lnTo>
                      <a:lnTo>
                        <a:pt x="1515" y="81"/>
                      </a:lnTo>
                      <a:lnTo>
                        <a:pt x="1492" y="81"/>
                      </a:lnTo>
                      <a:lnTo>
                        <a:pt x="1492" y="80"/>
                      </a:lnTo>
                      <a:lnTo>
                        <a:pt x="1491" y="79"/>
                      </a:lnTo>
                      <a:lnTo>
                        <a:pt x="1489" y="78"/>
                      </a:lnTo>
                      <a:lnTo>
                        <a:pt x="1487" y="78"/>
                      </a:lnTo>
                      <a:lnTo>
                        <a:pt x="1486" y="78"/>
                      </a:lnTo>
                      <a:lnTo>
                        <a:pt x="1484" y="79"/>
                      </a:lnTo>
                      <a:lnTo>
                        <a:pt x="1483" y="80"/>
                      </a:lnTo>
                      <a:lnTo>
                        <a:pt x="1483" y="81"/>
                      </a:lnTo>
                      <a:lnTo>
                        <a:pt x="1476" y="81"/>
                      </a:lnTo>
                      <a:lnTo>
                        <a:pt x="1475" y="80"/>
                      </a:lnTo>
                      <a:lnTo>
                        <a:pt x="1474" y="79"/>
                      </a:lnTo>
                      <a:lnTo>
                        <a:pt x="1473" y="78"/>
                      </a:lnTo>
                      <a:lnTo>
                        <a:pt x="1471" y="78"/>
                      </a:lnTo>
                      <a:lnTo>
                        <a:pt x="1469" y="78"/>
                      </a:lnTo>
                      <a:lnTo>
                        <a:pt x="1468" y="79"/>
                      </a:lnTo>
                      <a:lnTo>
                        <a:pt x="1467" y="80"/>
                      </a:lnTo>
                      <a:lnTo>
                        <a:pt x="1467" y="81"/>
                      </a:lnTo>
                      <a:lnTo>
                        <a:pt x="1405" y="81"/>
                      </a:lnTo>
                      <a:lnTo>
                        <a:pt x="1404" y="80"/>
                      </a:lnTo>
                      <a:lnTo>
                        <a:pt x="1403" y="79"/>
                      </a:lnTo>
                      <a:lnTo>
                        <a:pt x="1402" y="78"/>
                      </a:lnTo>
                      <a:lnTo>
                        <a:pt x="1400" y="78"/>
                      </a:lnTo>
                      <a:lnTo>
                        <a:pt x="1398" y="78"/>
                      </a:lnTo>
                      <a:lnTo>
                        <a:pt x="1397" y="79"/>
                      </a:lnTo>
                      <a:lnTo>
                        <a:pt x="1396" y="80"/>
                      </a:lnTo>
                      <a:lnTo>
                        <a:pt x="1396" y="81"/>
                      </a:lnTo>
                      <a:lnTo>
                        <a:pt x="1270" y="81"/>
                      </a:lnTo>
                      <a:lnTo>
                        <a:pt x="1269" y="80"/>
                      </a:lnTo>
                      <a:lnTo>
                        <a:pt x="1268" y="79"/>
                      </a:lnTo>
                      <a:lnTo>
                        <a:pt x="1267" y="78"/>
                      </a:lnTo>
                      <a:lnTo>
                        <a:pt x="1265" y="78"/>
                      </a:lnTo>
                      <a:lnTo>
                        <a:pt x="1263" y="78"/>
                      </a:lnTo>
                      <a:lnTo>
                        <a:pt x="1262" y="79"/>
                      </a:lnTo>
                      <a:lnTo>
                        <a:pt x="1261" y="80"/>
                      </a:lnTo>
                      <a:lnTo>
                        <a:pt x="1260" y="81"/>
                      </a:lnTo>
                      <a:lnTo>
                        <a:pt x="1231" y="81"/>
                      </a:lnTo>
                      <a:lnTo>
                        <a:pt x="1230" y="80"/>
                      </a:lnTo>
                      <a:lnTo>
                        <a:pt x="1229" y="79"/>
                      </a:lnTo>
                      <a:lnTo>
                        <a:pt x="1228" y="78"/>
                      </a:lnTo>
                      <a:lnTo>
                        <a:pt x="1226" y="78"/>
                      </a:lnTo>
                      <a:lnTo>
                        <a:pt x="1224" y="78"/>
                      </a:lnTo>
                      <a:lnTo>
                        <a:pt x="1223" y="79"/>
                      </a:lnTo>
                      <a:lnTo>
                        <a:pt x="1222" y="80"/>
                      </a:lnTo>
                      <a:lnTo>
                        <a:pt x="1222" y="81"/>
                      </a:lnTo>
                      <a:lnTo>
                        <a:pt x="1212" y="81"/>
                      </a:lnTo>
                      <a:lnTo>
                        <a:pt x="1212" y="80"/>
                      </a:lnTo>
                      <a:lnTo>
                        <a:pt x="1211" y="79"/>
                      </a:lnTo>
                      <a:lnTo>
                        <a:pt x="1209" y="78"/>
                      </a:lnTo>
                      <a:lnTo>
                        <a:pt x="1208" y="78"/>
                      </a:lnTo>
                      <a:lnTo>
                        <a:pt x="1206" y="78"/>
                      </a:lnTo>
                      <a:lnTo>
                        <a:pt x="1204" y="79"/>
                      </a:lnTo>
                      <a:lnTo>
                        <a:pt x="1204" y="80"/>
                      </a:lnTo>
                      <a:lnTo>
                        <a:pt x="1203" y="81"/>
                      </a:lnTo>
                      <a:lnTo>
                        <a:pt x="1200" y="81"/>
                      </a:lnTo>
                      <a:lnTo>
                        <a:pt x="1199" y="80"/>
                      </a:lnTo>
                      <a:lnTo>
                        <a:pt x="1199" y="79"/>
                      </a:lnTo>
                      <a:lnTo>
                        <a:pt x="1197" y="78"/>
                      </a:lnTo>
                      <a:lnTo>
                        <a:pt x="1195" y="78"/>
                      </a:lnTo>
                      <a:lnTo>
                        <a:pt x="1194" y="78"/>
                      </a:lnTo>
                      <a:lnTo>
                        <a:pt x="1192" y="79"/>
                      </a:lnTo>
                      <a:lnTo>
                        <a:pt x="1191" y="80"/>
                      </a:lnTo>
                      <a:lnTo>
                        <a:pt x="1191" y="81"/>
                      </a:lnTo>
                      <a:lnTo>
                        <a:pt x="1174" y="81"/>
                      </a:lnTo>
                      <a:lnTo>
                        <a:pt x="1174" y="80"/>
                      </a:lnTo>
                      <a:lnTo>
                        <a:pt x="1173" y="79"/>
                      </a:lnTo>
                      <a:lnTo>
                        <a:pt x="1171" y="78"/>
                      </a:lnTo>
                      <a:lnTo>
                        <a:pt x="1170" y="78"/>
                      </a:lnTo>
                      <a:lnTo>
                        <a:pt x="1168" y="78"/>
                      </a:lnTo>
                      <a:lnTo>
                        <a:pt x="1166" y="79"/>
                      </a:lnTo>
                      <a:lnTo>
                        <a:pt x="1165" y="80"/>
                      </a:lnTo>
                      <a:lnTo>
                        <a:pt x="1165" y="81"/>
                      </a:lnTo>
                      <a:lnTo>
                        <a:pt x="1160" y="81"/>
                      </a:lnTo>
                      <a:lnTo>
                        <a:pt x="1159" y="80"/>
                      </a:lnTo>
                      <a:lnTo>
                        <a:pt x="1159" y="79"/>
                      </a:lnTo>
                      <a:lnTo>
                        <a:pt x="1157" y="78"/>
                      </a:lnTo>
                      <a:lnTo>
                        <a:pt x="1155" y="78"/>
                      </a:lnTo>
                      <a:lnTo>
                        <a:pt x="1154" y="78"/>
                      </a:lnTo>
                      <a:lnTo>
                        <a:pt x="1152" y="79"/>
                      </a:lnTo>
                      <a:lnTo>
                        <a:pt x="1151" y="80"/>
                      </a:lnTo>
                      <a:lnTo>
                        <a:pt x="1151" y="81"/>
                      </a:lnTo>
                      <a:lnTo>
                        <a:pt x="1133" y="81"/>
                      </a:lnTo>
                      <a:lnTo>
                        <a:pt x="1133" y="7"/>
                      </a:lnTo>
                      <a:lnTo>
                        <a:pt x="1107" y="7"/>
                      </a:lnTo>
                      <a:lnTo>
                        <a:pt x="1107" y="5"/>
                      </a:lnTo>
                      <a:lnTo>
                        <a:pt x="1106" y="4"/>
                      </a:lnTo>
                      <a:lnTo>
                        <a:pt x="1105" y="3"/>
                      </a:lnTo>
                      <a:lnTo>
                        <a:pt x="1103" y="3"/>
                      </a:lnTo>
                      <a:lnTo>
                        <a:pt x="1101" y="3"/>
                      </a:lnTo>
                      <a:lnTo>
                        <a:pt x="1100" y="4"/>
                      </a:lnTo>
                      <a:lnTo>
                        <a:pt x="1099" y="5"/>
                      </a:lnTo>
                      <a:lnTo>
                        <a:pt x="1098" y="7"/>
                      </a:lnTo>
                      <a:lnTo>
                        <a:pt x="1087" y="7"/>
                      </a:lnTo>
                      <a:lnTo>
                        <a:pt x="1087" y="5"/>
                      </a:lnTo>
                      <a:lnTo>
                        <a:pt x="1086" y="4"/>
                      </a:lnTo>
                      <a:lnTo>
                        <a:pt x="1084" y="3"/>
                      </a:lnTo>
                      <a:lnTo>
                        <a:pt x="1083" y="3"/>
                      </a:lnTo>
                      <a:lnTo>
                        <a:pt x="1081" y="3"/>
                      </a:lnTo>
                      <a:lnTo>
                        <a:pt x="1079" y="4"/>
                      </a:lnTo>
                      <a:lnTo>
                        <a:pt x="1079" y="5"/>
                      </a:lnTo>
                      <a:lnTo>
                        <a:pt x="1078" y="7"/>
                      </a:lnTo>
                      <a:lnTo>
                        <a:pt x="1040" y="7"/>
                      </a:lnTo>
                      <a:lnTo>
                        <a:pt x="1039" y="5"/>
                      </a:lnTo>
                      <a:lnTo>
                        <a:pt x="1039" y="4"/>
                      </a:lnTo>
                      <a:lnTo>
                        <a:pt x="1037" y="3"/>
                      </a:lnTo>
                      <a:lnTo>
                        <a:pt x="1035" y="3"/>
                      </a:lnTo>
                      <a:lnTo>
                        <a:pt x="1034" y="3"/>
                      </a:lnTo>
                      <a:lnTo>
                        <a:pt x="1032" y="4"/>
                      </a:lnTo>
                      <a:lnTo>
                        <a:pt x="1031" y="5"/>
                      </a:lnTo>
                      <a:lnTo>
                        <a:pt x="1031" y="7"/>
                      </a:lnTo>
                      <a:lnTo>
                        <a:pt x="1025" y="7"/>
                      </a:lnTo>
                      <a:lnTo>
                        <a:pt x="1024" y="5"/>
                      </a:lnTo>
                      <a:lnTo>
                        <a:pt x="1023" y="4"/>
                      </a:lnTo>
                      <a:lnTo>
                        <a:pt x="1022" y="3"/>
                      </a:lnTo>
                      <a:lnTo>
                        <a:pt x="1020" y="3"/>
                      </a:lnTo>
                      <a:lnTo>
                        <a:pt x="1018" y="3"/>
                      </a:lnTo>
                      <a:lnTo>
                        <a:pt x="1017" y="4"/>
                      </a:lnTo>
                      <a:lnTo>
                        <a:pt x="1016" y="5"/>
                      </a:lnTo>
                      <a:lnTo>
                        <a:pt x="1016" y="7"/>
                      </a:lnTo>
                      <a:lnTo>
                        <a:pt x="1012" y="7"/>
                      </a:lnTo>
                      <a:lnTo>
                        <a:pt x="1011" y="5"/>
                      </a:lnTo>
                      <a:lnTo>
                        <a:pt x="1010" y="4"/>
                      </a:lnTo>
                      <a:lnTo>
                        <a:pt x="1009" y="3"/>
                      </a:lnTo>
                      <a:lnTo>
                        <a:pt x="1007" y="3"/>
                      </a:lnTo>
                      <a:lnTo>
                        <a:pt x="1005" y="3"/>
                      </a:lnTo>
                      <a:lnTo>
                        <a:pt x="1004" y="4"/>
                      </a:lnTo>
                      <a:lnTo>
                        <a:pt x="1003" y="5"/>
                      </a:lnTo>
                      <a:lnTo>
                        <a:pt x="1003" y="7"/>
                      </a:lnTo>
                      <a:lnTo>
                        <a:pt x="974" y="7"/>
                      </a:lnTo>
                      <a:lnTo>
                        <a:pt x="974" y="5"/>
                      </a:lnTo>
                      <a:lnTo>
                        <a:pt x="973" y="3"/>
                      </a:lnTo>
                      <a:lnTo>
                        <a:pt x="971" y="2"/>
                      </a:lnTo>
                      <a:lnTo>
                        <a:pt x="969" y="1"/>
                      </a:lnTo>
                      <a:lnTo>
                        <a:pt x="967" y="0"/>
                      </a:lnTo>
                      <a:lnTo>
                        <a:pt x="964" y="0"/>
                      </a:lnTo>
                      <a:lnTo>
                        <a:pt x="962" y="1"/>
                      </a:lnTo>
                      <a:lnTo>
                        <a:pt x="960" y="2"/>
                      </a:lnTo>
                      <a:lnTo>
                        <a:pt x="958" y="3"/>
                      </a:lnTo>
                      <a:lnTo>
                        <a:pt x="957" y="5"/>
                      </a:lnTo>
                      <a:lnTo>
                        <a:pt x="957" y="7"/>
                      </a:lnTo>
                      <a:lnTo>
                        <a:pt x="934" y="7"/>
                      </a:lnTo>
                      <a:lnTo>
                        <a:pt x="933" y="5"/>
                      </a:lnTo>
                      <a:lnTo>
                        <a:pt x="932" y="4"/>
                      </a:lnTo>
                      <a:lnTo>
                        <a:pt x="931" y="3"/>
                      </a:lnTo>
                      <a:lnTo>
                        <a:pt x="929" y="3"/>
                      </a:lnTo>
                      <a:lnTo>
                        <a:pt x="927" y="3"/>
                      </a:lnTo>
                      <a:lnTo>
                        <a:pt x="926" y="4"/>
                      </a:lnTo>
                      <a:lnTo>
                        <a:pt x="925" y="5"/>
                      </a:lnTo>
                      <a:lnTo>
                        <a:pt x="925" y="7"/>
                      </a:lnTo>
                      <a:lnTo>
                        <a:pt x="918" y="7"/>
                      </a:lnTo>
                      <a:lnTo>
                        <a:pt x="918" y="5"/>
                      </a:lnTo>
                      <a:lnTo>
                        <a:pt x="917" y="4"/>
                      </a:lnTo>
                      <a:lnTo>
                        <a:pt x="916" y="3"/>
                      </a:lnTo>
                      <a:lnTo>
                        <a:pt x="914" y="3"/>
                      </a:lnTo>
                      <a:lnTo>
                        <a:pt x="912" y="3"/>
                      </a:lnTo>
                      <a:lnTo>
                        <a:pt x="911" y="4"/>
                      </a:lnTo>
                      <a:lnTo>
                        <a:pt x="910" y="5"/>
                      </a:lnTo>
                      <a:lnTo>
                        <a:pt x="909" y="7"/>
                      </a:lnTo>
                      <a:lnTo>
                        <a:pt x="890" y="7"/>
                      </a:lnTo>
                      <a:lnTo>
                        <a:pt x="889" y="5"/>
                      </a:lnTo>
                      <a:lnTo>
                        <a:pt x="888" y="4"/>
                      </a:lnTo>
                      <a:lnTo>
                        <a:pt x="887" y="3"/>
                      </a:lnTo>
                      <a:lnTo>
                        <a:pt x="885" y="3"/>
                      </a:lnTo>
                      <a:lnTo>
                        <a:pt x="883" y="3"/>
                      </a:lnTo>
                      <a:lnTo>
                        <a:pt x="882" y="4"/>
                      </a:lnTo>
                      <a:lnTo>
                        <a:pt x="881" y="5"/>
                      </a:lnTo>
                      <a:lnTo>
                        <a:pt x="881" y="7"/>
                      </a:lnTo>
                      <a:lnTo>
                        <a:pt x="638" y="7"/>
                      </a:lnTo>
                      <a:lnTo>
                        <a:pt x="637" y="5"/>
                      </a:lnTo>
                      <a:lnTo>
                        <a:pt x="637" y="4"/>
                      </a:lnTo>
                      <a:lnTo>
                        <a:pt x="635" y="3"/>
                      </a:lnTo>
                      <a:lnTo>
                        <a:pt x="633" y="3"/>
                      </a:lnTo>
                      <a:lnTo>
                        <a:pt x="632" y="3"/>
                      </a:lnTo>
                      <a:lnTo>
                        <a:pt x="630" y="4"/>
                      </a:lnTo>
                      <a:lnTo>
                        <a:pt x="629" y="5"/>
                      </a:lnTo>
                      <a:lnTo>
                        <a:pt x="629" y="7"/>
                      </a:lnTo>
                      <a:lnTo>
                        <a:pt x="617" y="7"/>
                      </a:lnTo>
                      <a:lnTo>
                        <a:pt x="617" y="5"/>
                      </a:lnTo>
                      <a:lnTo>
                        <a:pt x="616" y="4"/>
                      </a:lnTo>
                      <a:lnTo>
                        <a:pt x="615" y="3"/>
                      </a:lnTo>
                      <a:lnTo>
                        <a:pt x="613" y="3"/>
                      </a:lnTo>
                      <a:lnTo>
                        <a:pt x="611" y="3"/>
                      </a:lnTo>
                      <a:lnTo>
                        <a:pt x="610" y="4"/>
                      </a:lnTo>
                      <a:lnTo>
                        <a:pt x="609" y="5"/>
                      </a:lnTo>
                      <a:lnTo>
                        <a:pt x="608" y="7"/>
                      </a:lnTo>
                      <a:lnTo>
                        <a:pt x="565" y="7"/>
                      </a:lnTo>
                      <a:lnTo>
                        <a:pt x="565" y="5"/>
                      </a:lnTo>
                      <a:lnTo>
                        <a:pt x="564" y="4"/>
                      </a:lnTo>
                      <a:lnTo>
                        <a:pt x="563" y="3"/>
                      </a:lnTo>
                      <a:lnTo>
                        <a:pt x="561" y="3"/>
                      </a:lnTo>
                      <a:lnTo>
                        <a:pt x="559" y="3"/>
                      </a:lnTo>
                      <a:lnTo>
                        <a:pt x="558" y="4"/>
                      </a:lnTo>
                      <a:lnTo>
                        <a:pt x="557" y="5"/>
                      </a:lnTo>
                      <a:lnTo>
                        <a:pt x="556" y="7"/>
                      </a:lnTo>
                      <a:lnTo>
                        <a:pt x="554" y="7"/>
                      </a:lnTo>
                      <a:lnTo>
                        <a:pt x="553" y="5"/>
                      </a:lnTo>
                      <a:lnTo>
                        <a:pt x="552" y="4"/>
                      </a:lnTo>
                      <a:lnTo>
                        <a:pt x="551" y="3"/>
                      </a:lnTo>
                      <a:lnTo>
                        <a:pt x="549" y="3"/>
                      </a:lnTo>
                      <a:lnTo>
                        <a:pt x="547" y="3"/>
                      </a:lnTo>
                      <a:lnTo>
                        <a:pt x="546" y="4"/>
                      </a:lnTo>
                      <a:lnTo>
                        <a:pt x="545" y="5"/>
                      </a:lnTo>
                      <a:lnTo>
                        <a:pt x="545" y="7"/>
                      </a:lnTo>
                      <a:lnTo>
                        <a:pt x="493" y="7"/>
                      </a:lnTo>
                      <a:lnTo>
                        <a:pt x="492" y="5"/>
                      </a:lnTo>
                      <a:lnTo>
                        <a:pt x="491" y="4"/>
                      </a:lnTo>
                      <a:lnTo>
                        <a:pt x="490" y="3"/>
                      </a:lnTo>
                      <a:lnTo>
                        <a:pt x="488" y="3"/>
                      </a:lnTo>
                      <a:lnTo>
                        <a:pt x="487" y="3"/>
                      </a:lnTo>
                      <a:lnTo>
                        <a:pt x="485" y="4"/>
                      </a:lnTo>
                      <a:lnTo>
                        <a:pt x="484" y="5"/>
                      </a:lnTo>
                      <a:lnTo>
                        <a:pt x="484" y="7"/>
                      </a:lnTo>
                      <a:lnTo>
                        <a:pt x="439" y="7"/>
                      </a:lnTo>
                      <a:lnTo>
                        <a:pt x="438" y="5"/>
                      </a:lnTo>
                      <a:lnTo>
                        <a:pt x="437" y="4"/>
                      </a:lnTo>
                      <a:lnTo>
                        <a:pt x="436" y="3"/>
                      </a:lnTo>
                      <a:lnTo>
                        <a:pt x="434" y="3"/>
                      </a:lnTo>
                      <a:lnTo>
                        <a:pt x="432" y="3"/>
                      </a:lnTo>
                      <a:lnTo>
                        <a:pt x="431" y="4"/>
                      </a:lnTo>
                      <a:lnTo>
                        <a:pt x="430" y="5"/>
                      </a:lnTo>
                      <a:lnTo>
                        <a:pt x="430" y="7"/>
                      </a:lnTo>
                      <a:lnTo>
                        <a:pt x="423" y="7"/>
                      </a:lnTo>
                      <a:lnTo>
                        <a:pt x="423" y="5"/>
                      </a:lnTo>
                      <a:lnTo>
                        <a:pt x="422" y="4"/>
                      </a:lnTo>
                      <a:lnTo>
                        <a:pt x="421" y="3"/>
                      </a:lnTo>
                      <a:lnTo>
                        <a:pt x="419" y="3"/>
                      </a:lnTo>
                      <a:lnTo>
                        <a:pt x="417" y="3"/>
                      </a:lnTo>
                      <a:lnTo>
                        <a:pt x="416" y="4"/>
                      </a:lnTo>
                      <a:lnTo>
                        <a:pt x="415" y="5"/>
                      </a:lnTo>
                      <a:lnTo>
                        <a:pt x="415" y="7"/>
                      </a:lnTo>
                      <a:lnTo>
                        <a:pt x="412" y="7"/>
                      </a:lnTo>
                      <a:lnTo>
                        <a:pt x="411" y="5"/>
                      </a:lnTo>
                      <a:lnTo>
                        <a:pt x="410" y="4"/>
                      </a:lnTo>
                      <a:lnTo>
                        <a:pt x="409" y="3"/>
                      </a:lnTo>
                      <a:lnTo>
                        <a:pt x="407" y="3"/>
                      </a:lnTo>
                      <a:lnTo>
                        <a:pt x="405" y="3"/>
                      </a:lnTo>
                      <a:lnTo>
                        <a:pt x="404" y="4"/>
                      </a:lnTo>
                      <a:lnTo>
                        <a:pt x="403" y="5"/>
                      </a:lnTo>
                      <a:lnTo>
                        <a:pt x="403" y="7"/>
                      </a:lnTo>
                      <a:lnTo>
                        <a:pt x="399" y="7"/>
                      </a:lnTo>
                      <a:lnTo>
                        <a:pt x="399" y="5"/>
                      </a:lnTo>
                      <a:lnTo>
                        <a:pt x="398" y="4"/>
                      </a:lnTo>
                      <a:lnTo>
                        <a:pt x="396" y="3"/>
                      </a:lnTo>
                      <a:lnTo>
                        <a:pt x="395" y="3"/>
                      </a:lnTo>
                      <a:lnTo>
                        <a:pt x="393" y="3"/>
                      </a:lnTo>
                      <a:lnTo>
                        <a:pt x="391" y="4"/>
                      </a:lnTo>
                      <a:lnTo>
                        <a:pt x="391" y="5"/>
                      </a:lnTo>
                      <a:lnTo>
                        <a:pt x="390" y="7"/>
                      </a:lnTo>
                      <a:lnTo>
                        <a:pt x="352" y="7"/>
                      </a:lnTo>
                      <a:lnTo>
                        <a:pt x="352" y="5"/>
                      </a:lnTo>
                      <a:lnTo>
                        <a:pt x="351" y="4"/>
                      </a:lnTo>
                      <a:lnTo>
                        <a:pt x="349" y="3"/>
                      </a:lnTo>
                      <a:lnTo>
                        <a:pt x="348" y="3"/>
                      </a:lnTo>
                      <a:lnTo>
                        <a:pt x="346" y="3"/>
                      </a:lnTo>
                      <a:lnTo>
                        <a:pt x="345" y="4"/>
                      </a:lnTo>
                      <a:lnTo>
                        <a:pt x="344" y="5"/>
                      </a:lnTo>
                      <a:lnTo>
                        <a:pt x="343" y="7"/>
                      </a:lnTo>
                      <a:lnTo>
                        <a:pt x="277" y="7"/>
                      </a:lnTo>
                      <a:lnTo>
                        <a:pt x="276" y="5"/>
                      </a:lnTo>
                      <a:lnTo>
                        <a:pt x="275" y="4"/>
                      </a:lnTo>
                      <a:lnTo>
                        <a:pt x="274" y="3"/>
                      </a:lnTo>
                      <a:lnTo>
                        <a:pt x="272" y="3"/>
                      </a:lnTo>
                      <a:lnTo>
                        <a:pt x="270" y="3"/>
                      </a:lnTo>
                      <a:lnTo>
                        <a:pt x="269" y="4"/>
                      </a:lnTo>
                      <a:lnTo>
                        <a:pt x="268" y="5"/>
                      </a:lnTo>
                      <a:lnTo>
                        <a:pt x="268" y="7"/>
                      </a:lnTo>
                      <a:lnTo>
                        <a:pt x="124" y="7"/>
                      </a:lnTo>
                      <a:lnTo>
                        <a:pt x="124" y="5"/>
                      </a:lnTo>
                      <a:lnTo>
                        <a:pt x="123" y="4"/>
                      </a:lnTo>
                      <a:lnTo>
                        <a:pt x="121" y="3"/>
                      </a:lnTo>
                      <a:lnTo>
                        <a:pt x="119" y="3"/>
                      </a:lnTo>
                      <a:lnTo>
                        <a:pt x="118" y="3"/>
                      </a:lnTo>
                      <a:lnTo>
                        <a:pt x="116" y="4"/>
                      </a:lnTo>
                      <a:lnTo>
                        <a:pt x="115" y="5"/>
                      </a:lnTo>
                      <a:lnTo>
                        <a:pt x="115" y="7"/>
                      </a:lnTo>
                      <a:lnTo>
                        <a:pt x="108" y="7"/>
                      </a:lnTo>
                      <a:lnTo>
                        <a:pt x="108" y="5"/>
                      </a:lnTo>
                      <a:lnTo>
                        <a:pt x="107" y="4"/>
                      </a:lnTo>
                      <a:lnTo>
                        <a:pt x="106" y="3"/>
                      </a:lnTo>
                      <a:lnTo>
                        <a:pt x="104" y="3"/>
                      </a:lnTo>
                      <a:lnTo>
                        <a:pt x="102" y="3"/>
                      </a:lnTo>
                      <a:lnTo>
                        <a:pt x="101" y="4"/>
                      </a:lnTo>
                      <a:lnTo>
                        <a:pt x="100" y="5"/>
                      </a:lnTo>
                      <a:lnTo>
                        <a:pt x="99" y="7"/>
                      </a:lnTo>
                      <a:lnTo>
                        <a:pt x="61" y="7"/>
                      </a:lnTo>
                      <a:lnTo>
                        <a:pt x="60" y="5"/>
                      </a:lnTo>
                      <a:lnTo>
                        <a:pt x="59" y="4"/>
                      </a:lnTo>
                      <a:lnTo>
                        <a:pt x="58" y="3"/>
                      </a:lnTo>
                      <a:lnTo>
                        <a:pt x="56" y="3"/>
                      </a:lnTo>
                      <a:lnTo>
                        <a:pt x="54" y="3"/>
                      </a:lnTo>
                      <a:lnTo>
                        <a:pt x="53" y="4"/>
                      </a:lnTo>
                      <a:lnTo>
                        <a:pt x="52" y="5"/>
                      </a:lnTo>
                      <a:lnTo>
                        <a:pt x="52" y="7"/>
                      </a:lnTo>
                      <a:lnTo>
                        <a:pt x="38" y="7"/>
                      </a:lnTo>
                      <a:lnTo>
                        <a:pt x="38" y="5"/>
                      </a:lnTo>
                      <a:lnTo>
                        <a:pt x="37" y="4"/>
                      </a:lnTo>
                      <a:lnTo>
                        <a:pt x="35" y="3"/>
                      </a:lnTo>
                      <a:lnTo>
                        <a:pt x="34" y="3"/>
                      </a:lnTo>
                      <a:lnTo>
                        <a:pt x="32" y="3"/>
                      </a:lnTo>
                      <a:lnTo>
                        <a:pt x="30" y="4"/>
                      </a:lnTo>
                      <a:lnTo>
                        <a:pt x="29" y="5"/>
                      </a:lnTo>
                      <a:lnTo>
                        <a:pt x="29" y="7"/>
                      </a:lnTo>
                      <a:lnTo>
                        <a:pt x="20" y="7"/>
                      </a:lnTo>
                      <a:lnTo>
                        <a:pt x="20" y="5"/>
                      </a:lnTo>
                      <a:lnTo>
                        <a:pt x="19" y="4"/>
                      </a:lnTo>
                      <a:lnTo>
                        <a:pt x="17" y="3"/>
                      </a:lnTo>
                      <a:lnTo>
                        <a:pt x="16" y="3"/>
                      </a:lnTo>
                      <a:lnTo>
                        <a:pt x="14" y="3"/>
                      </a:lnTo>
                      <a:lnTo>
                        <a:pt x="12" y="4"/>
                      </a:lnTo>
                      <a:lnTo>
                        <a:pt x="11" y="5"/>
                      </a:lnTo>
                      <a:lnTo>
                        <a:pt x="11" y="7"/>
                      </a:lnTo>
                      <a:lnTo>
                        <a:pt x="0" y="7"/>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7699320" y="4003560"/>
                  <a:ext cx="11520" cy="14760"/>
                </a:xfrm>
                <a:custGeom>
                  <a:avLst/>
                  <a:gdLst/>
                  <a:ahLst/>
                  <a:rect l="l" t="t" r="r" b="b"/>
                  <a:pathLst>
                    <a:path w="11" h="11">
                      <a:moveTo>
                        <a:pt x="11" y="1"/>
                      </a:moveTo>
                      <a:lnTo>
                        <a:pt x="6" y="11"/>
                      </a:lnTo>
                      <a:lnTo>
                        <a:pt x="0" y="1"/>
                      </a:lnTo>
                      <a:lnTo>
                        <a:pt x="2" y="1"/>
                      </a:lnTo>
                      <a:lnTo>
                        <a:pt x="6" y="0"/>
                      </a:lnTo>
                      <a:lnTo>
                        <a:pt x="9" y="1"/>
                      </a:lnTo>
                      <a:lnTo>
                        <a:pt x="11" y="1"/>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165" name=""/>
                <p:cNvSpPr/>
                <p:nvPr/>
              </p:nvSpPr>
              <p:spPr>
                <a:xfrm>
                  <a:off x="5909040" y="2275200"/>
                  <a:ext cx="1198440" cy="1483560"/>
                </a:xfrm>
                <a:custGeom>
                  <a:avLst/>
                  <a:gdLst/>
                  <a:ahLst/>
                  <a:rect l="l" t="t" r="r" b="b"/>
                  <a:pathLst>
                    <a:path w="1132" h="1111">
                      <a:moveTo>
                        <a:pt x="1132" y="0"/>
                      </a:moveTo>
                      <a:lnTo>
                        <a:pt x="1132" y="1084"/>
                      </a:lnTo>
                      <a:lnTo>
                        <a:pt x="1121" y="1084"/>
                      </a:lnTo>
                      <a:lnTo>
                        <a:pt x="1121" y="1083"/>
                      </a:lnTo>
                      <a:lnTo>
                        <a:pt x="1120" y="1082"/>
                      </a:lnTo>
                      <a:lnTo>
                        <a:pt x="1119" y="1081"/>
                      </a:lnTo>
                      <a:lnTo>
                        <a:pt x="1117" y="1080"/>
                      </a:lnTo>
                      <a:lnTo>
                        <a:pt x="1115" y="1081"/>
                      </a:lnTo>
                      <a:lnTo>
                        <a:pt x="1114" y="1082"/>
                      </a:lnTo>
                      <a:lnTo>
                        <a:pt x="1113" y="1083"/>
                      </a:lnTo>
                      <a:lnTo>
                        <a:pt x="1112" y="1084"/>
                      </a:lnTo>
                      <a:lnTo>
                        <a:pt x="1101" y="1084"/>
                      </a:lnTo>
                      <a:lnTo>
                        <a:pt x="1101" y="1083"/>
                      </a:lnTo>
                      <a:lnTo>
                        <a:pt x="1100" y="1082"/>
                      </a:lnTo>
                      <a:lnTo>
                        <a:pt x="1098" y="1081"/>
                      </a:lnTo>
                      <a:lnTo>
                        <a:pt x="1097" y="1080"/>
                      </a:lnTo>
                      <a:lnTo>
                        <a:pt x="1095" y="1081"/>
                      </a:lnTo>
                      <a:lnTo>
                        <a:pt x="1093" y="1082"/>
                      </a:lnTo>
                      <a:lnTo>
                        <a:pt x="1093" y="1083"/>
                      </a:lnTo>
                      <a:lnTo>
                        <a:pt x="1092" y="1084"/>
                      </a:lnTo>
                      <a:lnTo>
                        <a:pt x="1088" y="1084"/>
                      </a:lnTo>
                      <a:lnTo>
                        <a:pt x="1087" y="1083"/>
                      </a:lnTo>
                      <a:lnTo>
                        <a:pt x="1086" y="1082"/>
                      </a:lnTo>
                      <a:lnTo>
                        <a:pt x="1085" y="1081"/>
                      </a:lnTo>
                      <a:lnTo>
                        <a:pt x="1083" y="1080"/>
                      </a:lnTo>
                      <a:lnTo>
                        <a:pt x="1081" y="1081"/>
                      </a:lnTo>
                      <a:lnTo>
                        <a:pt x="1080" y="1082"/>
                      </a:lnTo>
                      <a:lnTo>
                        <a:pt x="1079" y="1083"/>
                      </a:lnTo>
                      <a:lnTo>
                        <a:pt x="1079" y="1084"/>
                      </a:lnTo>
                      <a:lnTo>
                        <a:pt x="1054" y="1084"/>
                      </a:lnTo>
                      <a:lnTo>
                        <a:pt x="1053" y="1083"/>
                      </a:lnTo>
                      <a:lnTo>
                        <a:pt x="1053" y="1082"/>
                      </a:lnTo>
                      <a:lnTo>
                        <a:pt x="1051" y="1081"/>
                      </a:lnTo>
                      <a:lnTo>
                        <a:pt x="1049" y="1080"/>
                      </a:lnTo>
                      <a:lnTo>
                        <a:pt x="1048" y="1081"/>
                      </a:lnTo>
                      <a:lnTo>
                        <a:pt x="1046" y="1082"/>
                      </a:lnTo>
                      <a:lnTo>
                        <a:pt x="1045" y="1083"/>
                      </a:lnTo>
                      <a:lnTo>
                        <a:pt x="1045" y="1084"/>
                      </a:lnTo>
                      <a:lnTo>
                        <a:pt x="1039" y="1084"/>
                      </a:lnTo>
                      <a:lnTo>
                        <a:pt x="1038" y="1083"/>
                      </a:lnTo>
                      <a:lnTo>
                        <a:pt x="1037" y="1082"/>
                      </a:lnTo>
                      <a:lnTo>
                        <a:pt x="1036" y="1081"/>
                      </a:lnTo>
                      <a:lnTo>
                        <a:pt x="1034" y="1080"/>
                      </a:lnTo>
                      <a:lnTo>
                        <a:pt x="1032" y="1081"/>
                      </a:lnTo>
                      <a:lnTo>
                        <a:pt x="1031" y="1082"/>
                      </a:lnTo>
                      <a:lnTo>
                        <a:pt x="1030" y="1083"/>
                      </a:lnTo>
                      <a:lnTo>
                        <a:pt x="1030" y="1084"/>
                      </a:lnTo>
                      <a:lnTo>
                        <a:pt x="1026" y="1084"/>
                      </a:lnTo>
                      <a:lnTo>
                        <a:pt x="1025" y="1083"/>
                      </a:lnTo>
                      <a:lnTo>
                        <a:pt x="1024" y="1082"/>
                      </a:lnTo>
                      <a:lnTo>
                        <a:pt x="1023" y="1081"/>
                      </a:lnTo>
                      <a:lnTo>
                        <a:pt x="1021" y="1080"/>
                      </a:lnTo>
                      <a:lnTo>
                        <a:pt x="1019" y="1081"/>
                      </a:lnTo>
                      <a:lnTo>
                        <a:pt x="1018" y="1082"/>
                      </a:lnTo>
                      <a:lnTo>
                        <a:pt x="1017" y="1083"/>
                      </a:lnTo>
                      <a:lnTo>
                        <a:pt x="1017" y="1084"/>
                      </a:lnTo>
                      <a:lnTo>
                        <a:pt x="988" y="1084"/>
                      </a:lnTo>
                      <a:lnTo>
                        <a:pt x="988" y="1082"/>
                      </a:lnTo>
                      <a:lnTo>
                        <a:pt x="987" y="1080"/>
                      </a:lnTo>
                      <a:lnTo>
                        <a:pt x="985" y="1079"/>
                      </a:lnTo>
                      <a:lnTo>
                        <a:pt x="983" y="1078"/>
                      </a:lnTo>
                      <a:lnTo>
                        <a:pt x="981" y="1077"/>
                      </a:lnTo>
                      <a:lnTo>
                        <a:pt x="978" y="1077"/>
                      </a:lnTo>
                      <a:lnTo>
                        <a:pt x="976" y="1078"/>
                      </a:lnTo>
                      <a:lnTo>
                        <a:pt x="974" y="1079"/>
                      </a:lnTo>
                      <a:lnTo>
                        <a:pt x="972" y="1080"/>
                      </a:lnTo>
                      <a:lnTo>
                        <a:pt x="971" y="1082"/>
                      </a:lnTo>
                      <a:lnTo>
                        <a:pt x="971" y="1084"/>
                      </a:lnTo>
                      <a:lnTo>
                        <a:pt x="947" y="1084"/>
                      </a:lnTo>
                      <a:lnTo>
                        <a:pt x="947" y="1083"/>
                      </a:lnTo>
                      <a:lnTo>
                        <a:pt x="946" y="1082"/>
                      </a:lnTo>
                      <a:lnTo>
                        <a:pt x="945" y="1081"/>
                      </a:lnTo>
                      <a:lnTo>
                        <a:pt x="943" y="1080"/>
                      </a:lnTo>
                      <a:lnTo>
                        <a:pt x="941" y="1081"/>
                      </a:lnTo>
                      <a:lnTo>
                        <a:pt x="940" y="1082"/>
                      </a:lnTo>
                      <a:lnTo>
                        <a:pt x="939" y="1083"/>
                      </a:lnTo>
                      <a:lnTo>
                        <a:pt x="939" y="1084"/>
                      </a:lnTo>
                      <a:lnTo>
                        <a:pt x="903" y="1084"/>
                      </a:lnTo>
                      <a:lnTo>
                        <a:pt x="903" y="1083"/>
                      </a:lnTo>
                      <a:lnTo>
                        <a:pt x="902" y="1082"/>
                      </a:lnTo>
                      <a:lnTo>
                        <a:pt x="901" y="1081"/>
                      </a:lnTo>
                      <a:lnTo>
                        <a:pt x="899" y="1080"/>
                      </a:lnTo>
                      <a:lnTo>
                        <a:pt x="897" y="1081"/>
                      </a:lnTo>
                      <a:lnTo>
                        <a:pt x="896" y="1082"/>
                      </a:lnTo>
                      <a:lnTo>
                        <a:pt x="895" y="1083"/>
                      </a:lnTo>
                      <a:lnTo>
                        <a:pt x="895" y="1084"/>
                      </a:lnTo>
                      <a:lnTo>
                        <a:pt x="728" y="1084"/>
                      </a:lnTo>
                      <a:lnTo>
                        <a:pt x="728" y="1083"/>
                      </a:lnTo>
                      <a:lnTo>
                        <a:pt x="727" y="1082"/>
                      </a:lnTo>
                      <a:lnTo>
                        <a:pt x="725" y="1081"/>
                      </a:lnTo>
                      <a:lnTo>
                        <a:pt x="724" y="1080"/>
                      </a:lnTo>
                      <a:lnTo>
                        <a:pt x="722" y="1081"/>
                      </a:lnTo>
                      <a:lnTo>
                        <a:pt x="720" y="1082"/>
                      </a:lnTo>
                      <a:lnTo>
                        <a:pt x="719" y="1083"/>
                      </a:lnTo>
                      <a:lnTo>
                        <a:pt x="719" y="1084"/>
                      </a:lnTo>
                      <a:lnTo>
                        <a:pt x="676" y="1084"/>
                      </a:lnTo>
                      <a:lnTo>
                        <a:pt x="675" y="1083"/>
                      </a:lnTo>
                      <a:lnTo>
                        <a:pt x="674" y="1082"/>
                      </a:lnTo>
                      <a:lnTo>
                        <a:pt x="673" y="1081"/>
                      </a:lnTo>
                      <a:lnTo>
                        <a:pt x="671" y="1080"/>
                      </a:lnTo>
                      <a:lnTo>
                        <a:pt x="669" y="1081"/>
                      </a:lnTo>
                      <a:lnTo>
                        <a:pt x="668" y="1082"/>
                      </a:lnTo>
                      <a:lnTo>
                        <a:pt x="667" y="1083"/>
                      </a:lnTo>
                      <a:lnTo>
                        <a:pt x="667" y="1084"/>
                      </a:lnTo>
                      <a:lnTo>
                        <a:pt x="652" y="1084"/>
                      </a:lnTo>
                      <a:lnTo>
                        <a:pt x="651" y="1083"/>
                      </a:lnTo>
                      <a:lnTo>
                        <a:pt x="651" y="1082"/>
                      </a:lnTo>
                      <a:lnTo>
                        <a:pt x="649" y="1081"/>
                      </a:lnTo>
                      <a:lnTo>
                        <a:pt x="647" y="1080"/>
                      </a:lnTo>
                      <a:lnTo>
                        <a:pt x="646" y="1081"/>
                      </a:lnTo>
                      <a:lnTo>
                        <a:pt x="644" y="1082"/>
                      </a:lnTo>
                      <a:lnTo>
                        <a:pt x="643" y="1083"/>
                      </a:lnTo>
                      <a:lnTo>
                        <a:pt x="643" y="1084"/>
                      </a:lnTo>
                      <a:lnTo>
                        <a:pt x="579" y="1084"/>
                      </a:lnTo>
                      <a:lnTo>
                        <a:pt x="579" y="1083"/>
                      </a:lnTo>
                      <a:lnTo>
                        <a:pt x="578" y="1082"/>
                      </a:lnTo>
                      <a:lnTo>
                        <a:pt x="577" y="1081"/>
                      </a:lnTo>
                      <a:lnTo>
                        <a:pt x="575" y="1080"/>
                      </a:lnTo>
                      <a:lnTo>
                        <a:pt x="573" y="1081"/>
                      </a:lnTo>
                      <a:lnTo>
                        <a:pt x="572" y="1082"/>
                      </a:lnTo>
                      <a:lnTo>
                        <a:pt x="571" y="1083"/>
                      </a:lnTo>
                      <a:lnTo>
                        <a:pt x="570" y="1084"/>
                      </a:lnTo>
                      <a:lnTo>
                        <a:pt x="568" y="1084"/>
                      </a:lnTo>
                      <a:lnTo>
                        <a:pt x="567" y="1083"/>
                      </a:lnTo>
                      <a:lnTo>
                        <a:pt x="566" y="1082"/>
                      </a:lnTo>
                      <a:lnTo>
                        <a:pt x="565" y="1081"/>
                      </a:lnTo>
                      <a:lnTo>
                        <a:pt x="563" y="1080"/>
                      </a:lnTo>
                      <a:lnTo>
                        <a:pt x="561" y="1081"/>
                      </a:lnTo>
                      <a:lnTo>
                        <a:pt x="560" y="1082"/>
                      </a:lnTo>
                      <a:lnTo>
                        <a:pt x="559" y="1083"/>
                      </a:lnTo>
                      <a:lnTo>
                        <a:pt x="559" y="1084"/>
                      </a:lnTo>
                      <a:lnTo>
                        <a:pt x="507" y="1084"/>
                      </a:lnTo>
                      <a:lnTo>
                        <a:pt x="506" y="1083"/>
                      </a:lnTo>
                      <a:lnTo>
                        <a:pt x="505" y="1082"/>
                      </a:lnTo>
                      <a:lnTo>
                        <a:pt x="504" y="1081"/>
                      </a:lnTo>
                      <a:lnTo>
                        <a:pt x="502" y="1080"/>
                      </a:lnTo>
                      <a:lnTo>
                        <a:pt x="501" y="1081"/>
                      </a:lnTo>
                      <a:lnTo>
                        <a:pt x="499" y="1082"/>
                      </a:lnTo>
                      <a:lnTo>
                        <a:pt x="498" y="1083"/>
                      </a:lnTo>
                      <a:lnTo>
                        <a:pt x="498" y="1084"/>
                      </a:lnTo>
                      <a:lnTo>
                        <a:pt x="453" y="1084"/>
                      </a:lnTo>
                      <a:lnTo>
                        <a:pt x="452" y="1083"/>
                      </a:lnTo>
                      <a:lnTo>
                        <a:pt x="451" y="1082"/>
                      </a:lnTo>
                      <a:lnTo>
                        <a:pt x="450" y="1081"/>
                      </a:lnTo>
                      <a:lnTo>
                        <a:pt x="448" y="1080"/>
                      </a:lnTo>
                      <a:lnTo>
                        <a:pt x="446" y="1081"/>
                      </a:lnTo>
                      <a:lnTo>
                        <a:pt x="445" y="1082"/>
                      </a:lnTo>
                      <a:lnTo>
                        <a:pt x="444" y="1083"/>
                      </a:lnTo>
                      <a:lnTo>
                        <a:pt x="444" y="1084"/>
                      </a:lnTo>
                      <a:lnTo>
                        <a:pt x="443" y="1084"/>
                      </a:lnTo>
                      <a:lnTo>
                        <a:pt x="442" y="1082"/>
                      </a:lnTo>
                      <a:lnTo>
                        <a:pt x="441" y="1081"/>
                      </a:lnTo>
                      <a:lnTo>
                        <a:pt x="440" y="1080"/>
                      </a:lnTo>
                      <a:lnTo>
                        <a:pt x="438" y="1079"/>
                      </a:lnTo>
                      <a:lnTo>
                        <a:pt x="436" y="1079"/>
                      </a:lnTo>
                      <a:lnTo>
                        <a:pt x="433" y="1079"/>
                      </a:lnTo>
                      <a:lnTo>
                        <a:pt x="432" y="1080"/>
                      </a:lnTo>
                      <a:lnTo>
                        <a:pt x="430" y="1081"/>
                      </a:lnTo>
                      <a:lnTo>
                        <a:pt x="429" y="1082"/>
                      </a:lnTo>
                      <a:lnTo>
                        <a:pt x="429" y="1084"/>
                      </a:lnTo>
                      <a:lnTo>
                        <a:pt x="426" y="1084"/>
                      </a:lnTo>
                      <a:lnTo>
                        <a:pt x="425" y="1083"/>
                      </a:lnTo>
                      <a:lnTo>
                        <a:pt x="424" y="1082"/>
                      </a:lnTo>
                      <a:lnTo>
                        <a:pt x="423" y="1081"/>
                      </a:lnTo>
                      <a:lnTo>
                        <a:pt x="421" y="1080"/>
                      </a:lnTo>
                      <a:lnTo>
                        <a:pt x="419" y="1081"/>
                      </a:lnTo>
                      <a:lnTo>
                        <a:pt x="418" y="1082"/>
                      </a:lnTo>
                      <a:lnTo>
                        <a:pt x="417" y="1083"/>
                      </a:lnTo>
                      <a:lnTo>
                        <a:pt x="417" y="1084"/>
                      </a:lnTo>
                      <a:lnTo>
                        <a:pt x="366" y="1084"/>
                      </a:lnTo>
                      <a:lnTo>
                        <a:pt x="366" y="1083"/>
                      </a:lnTo>
                      <a:lnTo>
                        <a:pt x="365" y="1082"/>
                      </a:lnTo>
                      <a:lnTo>
                        <a:pt x="363" y="1081"/>
                      </a:lnTo>
                      <a:lnTo>
                        <a:pt x="362" y="1080"/>
                      </a:lnTo>
                      <a:lnTo>
                        <a:pt x="360" y="1081"/>
                      </a:lnTo>
                      <a:lnTo>
                        <a:pt x="359" y="1082"/>
                      </a:lnTo>
                      <a:lnTo>
                        <a:pt x="358" y="1083"/>
                      </a:lnTo>
                      <a:lnTo>
                        <a:pt x="357" y="1084"/>
                      </a:lnTo>
                      <a:lnTo>
                        <a:pt x="291" y="1084"/>
                      </a:lnTo>
                      <a:lnTo>
                        <a:pt x="290" y="1083"/>
                      </a:lnTo>
                      <a:lnTo>
                        <a:pt x="289" y="1082"/>
                      </a:lnTo>
                      <a:lnTo>
                        <a:pt x="288" y="1081"/>
                      </a:lnTo>
                      <a:lnTo>
                        <a:pt x="286" y="1080"/>
                      </a:lnTo>
                      <a:lnTo>
                        <a:pt x="284" y="1081"/>
                      </a:lnTo>
                      <a:lnTo>
                        <a:pt x="283" y="1082"/>
                      </a:lnTo>
                      <a:lnTo>
                        <a:pt x="282" y="1083"/>
                      </a:lnTo>
                      <a:lnTo>
                        <a:pt x="282" y="1084"/>
                      </a:lnTo>
                      <a:lnTo>
                        <a:pt x="202" y="1084"/>
                      </a:lnTo>
                      <a:lnTo>
                        <a:pt x="202" y="1083"/>
                      </a:lnTo>
                      <a:lnTo>
                        <a:pt x="201" y="1082"/>
                      </a:lnTo>
                      <a:lnTo>
                        <a:pt x="199" y="1081"/>
                      </a:lnTo>
                      <a:lnTo>
                        <a:pt x="197" y="1080"/>
                      </a:lnTo>
                      <a:lnTo>
                        <a:pt x="196" y="1081"/>
                      </a:lnTo>
                      <a:lnTo>
                        <a:pt x="194" y="1082"/>
                      </a:lnTo>
                      <a:lnTo>
                        <a:pt x="193" y="1083"/>
                      </a:lnTo>
                      <a:lnTo>
                        <a:pt x="193" y="1084"/>
                      </a:lnTo>
                      <a:lnTo>
                        <a:pt x="147" y="1084"/>
                      </a:lnTo>
                      <a:lnTo>
                        <a:pt x="146" y="1082"/>
                      </a:lnTo>
                      <a:lnTo>
                        <a:pt x="145" y="1080"/>
                      </a:lnTo>
                      <a:lnTo>
                        <a:pt x="144" y="1079"/>
                      </a:lnTo>
                      <a:lnTo>
                        <a:pt x="141" y="1078"/>
                      </a:lnTo>
                      <a:lnTo>
                        <a:pt x="139" y="1077"/>
                      </a:lnTo>
                      <a:lnTo>
                        <a:pt x="137" y="1077"/>
                      </a:lnTo>
                      <a:lnTo>
                        <a:pt x="134" y="1078"/>
                      </a:lnTo>
                      <a:lnTo>
                        <a:pt x="132" y="1079"/>
                      </a:lnTo>
                      <a:lnTo>
                        <a:pt x="130" y="1080"/>
                      </a:lnTo>
                      <a:lnTo>
                        <a:pt x="129" y="1082"/>
                      </a:lnTo>
                      <a:lnTo>
                        <a:pt x="129" y="1084"/>
                      </a:lnTo>
                      <a:lnTo>
                        <a:pt x="122" y="1084"/>
                      </a:lnTo>
                      <a:lnTo>
                        <a:pt x="122" y="1083"/>
                      </a:lnTo>
                      <a:lnTo>
                        <a:pt x="121" y="1082"/>
                      </a:lnTo>
                      <a:lnTo>
                        <a:pt x="120" y="1081"/>
                      </a:lnTo>
                      <a:lnTo>
                        <a:pt x="118" y="1080"/>
                      </a:lnTo>
                      <a:lnTo>
                        <a:pt x="116" y="1081"/>
                      </a:lnTo>
                      <a:lnTo>
                        <a:pt x="115" y="1082"/>
                      </a:lnTo>
                      <a:lnTo>
                        <a:pt x="114" y="1083"/>
                      </a:lnTo>
                      <a:lnTo>
                        <a:pt x="113" y="1084"/>
                      </a:lnTo>
                      <a:lnTo>
                        <a:pt x="106" y="1084"/>
                      </a:lnTo>
                      <a:lnTo>
                        <a:pt x="106" y="1083"/>
                      </a:lnTo>
                      <a:lnTo>
                        <a:pt x="105" y="1082"/>
                      </a:lnTo>
                      <a:lnTo>
                        <a:pt x="103" y="1081"/>
                      </a:lnTo>
                      <a:lnTo>
                        <a:pt x="102" y="1080"/>
                      </a:lnTo>
                      <a:lnTo>
                        <a:pt x="100" y="1081"/>
                      </a:lnTo>
                      <a:lnTo>
                        <a:pt x="98" y="1082"/>
                      </a:lnTo>
                      <a:lnTo>
                        <a:pt x="97" y="1083"/>
                      </a:lnTo>
                      <a:lnTo>
                        <a:pt x="97" y="1084"/>
                      </a:lnTo>
                      <a:lnTo>
                        <a:pt x="85" y="1084"/>
                      </a:lnTo>
                      <a:lnTo>
                        <a:pt x="85" y="1083"/>
                      </a:lnTo>
                      <a:lnTo>
                        <a:pt x="84" y="1082"/>
                      </a:lnTo>
                      <a:lnTo>
                        <a:pt x="83" y="1081"/>
                      </a:lnTo>
                      <a:lnTo>
                        <a:pt x="81" y="1080"/>
                      </a:lnTo>
                      <a:lnTo>
                        <a:pt x="79" y="1081"/>
                      </a:lnTo>
                      <a:lnTo>
                        <a:pt x="78" y="1082"/>
                      </a:lnTo>
                      <a:lnTo>
                        <a:pt x="77" y="1083"/>
                      </a:lnTo>
                      <a:lnTo>
                        <a:pt x="77" y="1084"/>
                      </a:lnTo>
                      <a:lnTo>
                        <a:pt x="75" y="1084"/>
                      </a:lnTo>
                      <a:lnTo>
                        <a:pt x="74" y="1083"/>
                      </a:lnTo>
                      <a:lnTo>
                        <a:pt x="73" y="1082"/>
                      </a:lnTo>
                      <a:lnTo>
                        <a:pt x="72" y="1081"/>
                      </a:lnTo>
                      <a:lnTo>
                        <a:pt x="70" y="1080"/>
                      </a:lnTo>
                      <a:lnTo>
                        <a:pt x="68" y="1081"/>
                      </a:lnTo>
                      <a:lnTo>
                        <a:pt x="67" y="1082"/>
                      </a:lnTo>
                      <a:lnTo>
                        <a:pt x="66" y="1083"/>
                      </a:lnTo>
                      <a:lnTo>
                        <a:pt x="66" y="1084"/>
                      </a:lnTo>
                      <a:lnTo>
                        <a:pt x="61" y="1084"/>
                      </a:lnTo>
                      <a:lnTo>
                        <a:pt x="61" y="1083"/>
                      </a:lnTo>
                      <a:lnTo>
                        <a:pt x="60" y="1082"/>
                      </a:lnTo>
                      <a:lnTo>
                        <a:pt x="58" y="1081"/>
                      </a:lnTo>
                      <a:lnTo>
                        <a:pt x="57" y="1080"/>
                      </a:lnTo>
                      <a:lnTo>
                        <a:pt x="55" y="1081"/>
                      </a:lnTo>
                      <a:lnTo>
                        <a:pt x="53" y="1082"/>
                      </a:lnTo>
                      <a:lnTo>
                        <a:pt x="52" y="1083"/>
                      </a:lnTo>
                      <a:lnTo>
                        <a:pt x="52" y="1084"/>
                      </a:lnTo>
                      <a:lnTo>
                        <a:pt x="52" y="1084"/>
                      </a:lnTo>
                      <a:lnTo>
                        <a:pt x="52" y="1083"/>
                      </a:lnTo>
                      <a:lnTo>
                        <a:pt x="51" y="1082"/>
                      </a:lnTo>
                      <a:lnTo>
                        <a:pt x="49" y="1081"/>
                      </a:lnTo>
                      <a:lnTo>
                        <a:pt x="48" y="1080"/>
                      </a:lnTo>
                      <a:lnTo>
                        <a:pt x="46" y="1081"/>
                      </a:lnTo>
                      <a:lnTo>
                        <a:pt x="44" y="1082"/>
                      </a:lnTo>
                      <a:lnTo>
                        <a:pt x="43" y="1083"/>
                      </a:lnTo>
                      <a:lnTo>
                        <a:pt x="43" y="1084"/>
                      </a:lnTo>
                      <a:lnTo>
                        <a:pt x="34" y="1084"/>
                      </a:lnTo>
                      <a:lnTo>
                        <a:pt x="34" y="1083"/>
                      </a:lnTo>
                      <a:lnTo>
                        <a:pt x="33" y="1082"/>
                      </a:lnTo>
                      <a:lnTo>
                        <a:pt x="31" y="1081"/>
                      </a:lnTo>
                      <a:lnTo>
                        <a:pt x="30" y="1080"/>
                      </a:lnTo>
                      <a:lnTo>
                        <a:pt x="28" y="1081"/>
                      </a:lnTo>
                      <a:lnTo>
                        <a:pt x="26" y="1082"/>
                      </a:lnTo>
                      <a:lnTo>
                        <a:pt x="25" y="1083"/>
                      </a:lnTo>
                      <a:lnTo>
                        <a:pt x="25" y="1084"/>
                      </a:lnTo>
                      <a:lnTo>
                        <a:pt x="0" y="1084"/>
                      </a:lnTo>
                      <a:lnTo>
                        <a:pt x="0" y="1111"/>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101000" y="22633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67" name=""/>
                <p:cNvSpPr/>
                <p:nvPr/>
              </p:nvSpPr>
              <p:spPr>
                <a:xfrm>
                  <a:off x="590256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68" name=""/>
                <p:cNvSpPr/>
                <p:nvPr/>
              </p:nvSpPr>
              <p:spPr>
                <a:xfrm>
                  <a:off x="5354280" y="3066120"/>
                  <a:ext cx="171360" cy="851760"/>
                </a:xfrm>
                <a:custGeom>
                  <a:avLst/>
                  <a:gdLst/>
                  <a:ahLst/>
                  <a:rect l="l" t="t" r="r" b="b"/>
                  <a:pathLst>
                    <a:path w="162" h="638">
                      <a:moveTo>
                        <a:pt x="0" y="0"/>
                      </a:moveTo>
                      <a:lnTo>
                        <a:pt x="0" y="638"/>
                      </a:lnTo>
                      <a:lnTo>
                        <a:pt x="9" y="638"/>
                      </a:lnTo>
                      <a:lnTo>
                        <a:pt x="9" y="637"/>
                      </a:lnTo>
                      <a:lnTo>
                        <a:pt x="10" y="636"/>
                      </a:lnTo>
                      <a:lnTo>
                        <a:pt x="11" y="635"/>
                      </a:lnTo>
                      <a:lnTo>
                        <a:pt x="13" y="634"/>
                      </a:lnTo>
                      <a:lnTo>
                        <a:pt x="15" y="635"/>
                      </a:lnTo>
                      <a:lnTo>
                        <a:pt x="16" y="636"/>
                      </a:lnTo>
                      <a:lnTo>
                        <a:pt x="17" y="637"/>
                      </a:lnTo>
                      <a:lnTo>
                        <a:pt x="18" y="638"/>
                      </a:lnTo>
                      <a:lnTo>
                        <a:pt x="22" y="638"/>
                      </a:lnTo>
                      <a:lnTo>
                        <a:pt x="23" y="637"/>
                      </a:lnTo>
                      <a:lnTo>
                        <a:pt x="23" y="636"/>
                      </a:lnTo>
                      <a:lnTo>
                        <a:pt x="25" y="635"/>
                      </a:lnTo>
                      <a:lnTo>
                        <a:pt x="27" y="634"/>
                      </a:lnTo>
                      <a:lnTo>
                        <a:pt x="28" y="635"/>
                      </a:lnTo>
                      <a:lnTo>
                        <a:pt x="30" y="636"/>
                      </a:lnTo>
                      <a:lnTo>
                        <a:pt x="31" y="637"/>
                      </a:lnTo>
                      <a:lnTo>
                        <a:pt x="31" y="638"/>
                      </a:lnTo>
                      <a:lnTo>
                        <a:pt x="65" y="638"/>
                      </a:lnTo>
                      <a:lnTo>
                        <a:pt x="65" y="637"/>
                      </a:lnTo>
                      <a:lnTo>
                        <a:pt x="66" y="636"/>
                      </a:lnTo>
                      <a:lnTo>
                        <a:pt x="68" y="635"/>
                      </a:lnTo>
                      <a:lnTo>
                        <a:pt x="69" y="634"/>
                      </a:lnTo>
                      <a:lnTo>
                        <a:pt x="71" y="635"/>
                      </a:lnTo>
                      <a:lnTo>
                        <a:pt x="73" y="636"/>
                      </a:lnTo>
                      <a:lnTo>
                        <a:pt x="74" y="637"/>
                      </a:lnTo>
                      <a:lnTo>
                        <a:pt x="74" y="638"/>
                      </a:lnTo>
                      <a:lnTo>
                        <a:pt x="74" y="638"/>
                      </a:lnTo>
                      <a:lnTo>
                        <a:pt x="75" y="637"/>
                      </a:lnTo>
                      <a:lnTo>
                        <a:pt x="76" y="636"/>
                      </a:lnTo>
                      <a:lnTo>
                        <a:pt x="77" y="635"/>
                      </a:lnTo>
                      <a:lnTo>
                        <a:pt x="79" y="634"/>
                      </a:lnTo>
                      <a:lnTo>
                        <a:pt x="81" y="635"/>
                      </a:lnTo>
                      <a:lnTo>
                        <a:pt x="82" y="636"/>
                      </a:lnTo>
                      <a:lnTo>
                        <a:pt x="83" y="637"/>
                      </a:lnTo>
                      <a:lnTo>
                        <a:pt x="83" y="638"/>
                      </a:lnTo>
                      <a:lnTo>
                        <a:pt x="85" y="638"/>
                      </a:lnTo>
                      <a:lnTo>
                        <a:pt x="86" y="636"/>
                      </a:lnTo>
                      <a:lnTo>
                        <a:pt x="87" y="634"/>
                      </a:lnTo>
                      <a:lnTo>
                        <a:pt x="88" y="633"/>
                      </a:lnTo>
                      <a:lnTo>
                        <a:pt x="90" y="632"/>
                      </a:lnTo>
                      <a:lnTo>
                        <a:pt x="93" y="631"/>
                      </a:lnTo>
                      <a:lnTo>
                        <a:pt x="95" y="631"/>
                      </a:lnTo>
                      <a:lnTo>
                        <a:pt x="97" y="632"/>
                      </a:lnTo>
                      <a:lnTo>
                        <a:pt x="100" y="633"/>
                      </a:lnTo>
                      <a:lnTo>
                        <a:pt x="101" y="634"/>
                      </a:lnTo>
                      <a:lnTo>
                        <a:pt x="102" y="636"/>
                      </a:lnTo>
                      <a:lnTo>
                        <a:pt x="103" y="638"/>
                      </a:lnTo>
                      <a:lnTo>
                        <a:pt x="107" y="638"/>
                      </a:lnTo>
                      <a:lnTo>
                        <a:pt x="107" y="636"/>
                      </a:lnTo>
                      <a:lnTo>
                        <a:pt x="108" y="634"/>
                      </a:lnTo>
                      <a:lnTo>
                        <a:pt x="110" y="633"/>
                      </a:lnTo>
                      <a:lnTo>
                        <a:pt x="112" y="632"/>
                      </a:lnTo>
                      <a:lnTo>
                        <a:pt x="114" y="632"/>
                      </a:lnTo>
                      <a:lnTo>
                        <a:pt x="116" y="632"/>
                      </a:lnTo>
                      <a:lnTo>
                        <a:pt x="118" y="632"/>
                      </a:lnTo>
                      <a:lnTo>
                        <a:pt x="121" y="633"/>
                      </a:lnTo>
                      <a:lnTo>
                        <a:pt x="122" y="634"/>
                      </a:lnTo>
                      <a:lnTo>
                        <a:pt x="123" y="636"/>
                      </a:lnTo>
                      <a:lnTo>
                        <a:pt x="123" y="638"/>
                      </a:lnTo>
                      <a:lnTo>
                        <a:pt x="162" y="638"/>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5347800" y="30538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70" name=""/>
                <p:cNvSpPr/>
                <p:nvPr/>
              </p:nvSpPr>
              <p:spPr>
                <a:xfrm>
                  <a:off x="5521320" y="2921760"/>
                  <a:ext cx="2248560" cy="850680"/>
                </a:xfrm>
                <a:custGeom>
                  <a:avLst/>
                  <a:gdLst/>
                  <a:ahLst/>
                  <a:rect l="l" t="t" r="r" b="b"/>
                  <a:pathLst>
                    <a:path w="2124" h="637">
                      <a:moveTo>
                        <a:pt x="2124" y="9"/>
                      </a:moveTo>
                      <a:lnTo>
                        <a:pt x="2122" y="9"/>
                      </a:lnTo>
                      <a:lnTo>
                        <a:pt x="2122" y="7"/>
                      </a:lnTo>
                      <a:lnTo>
                        <a:pt x="2121" y="5"/>
                      </a:lnTo>
                      <a:lnTo>
                        <a:pt x="2119" y="3"/>
                      </a:lnTo>
                      <a:lnTo>
                        <a:pt x="2117" y="2"/>
                      </a:lnTo>
                      <a:lnTo>
                        <a:pt x="2115" y="1"/>
                      </a:lnTo>
                      <a:lnTo>
                        <a:pt x="2112" y="0"/>
                      </a:lnTo>
                      <a:lnTo>
                        <a:pt x="2109" y="0"/>
                      </a:lnTo>
                      <a:lnTo>
                        <a:pt x="2106" y="1"/>
                      </a:lnTo>
                      <a:lnTo>
                        <a:pt x="2104" y="2"/>
                      </a:lnTo>
                      <a:lnTo>
                        <a:pt x="2101" y="3"/>
                      </a:lnTo>
                      <a:lnTo>
                        <a:pt x="2100" y="5"/>
                      </a:lnTo>
                      <a:lnTo>
                        <a:pt x="2099" y="7"/>
                      </a:lnTo>
                      <a:lnTo>
                        <a:pt x="2098" y="9"/>
                      </a:lnTo>
                      <a:lnTo>
                        <a:pt x="2062" y="9"/>
                      </a:lnTo>
                      <a:lnTo>
                        <a:pt x="2061" y="8"/>
                      </a:lnTo>
                      <a:lnTo>
                        <a:pt x="2060" y="7"/>
                      </a:lnTo>
                      <a:lnTo>
                        <a:pt x="2059" y="6"/>
                      </a:lnTo>
                      <a:lnTo>
                        <a:pt x="2057" y="6"/>
                      </a:lnTo>
                      <a:lnTo>
                        <a:pt x="2055" y="6"/>
                      </a:lnTo>
                      <a:lnTo>
                        <a:pt x="2054" y="7"/>
                      </a:lnTo>
                      <a:lnTo>
                        <a:pt x="2053" y="8"/>
                      </a:lnTo>
                      <a:lnTo>
                        <a:pt x="2053" y="9"/>
                      </a:lnTo>
                      <a:lnTo>
                        <a:pt x="2041" y="9"/>
                      </a:lnTo>
                      <a:lnTo>
                        <a:pt x="2041" y="8"/>
                      </a:lnTo>
                      <a:lnTo>
                        <a:pt x="2040" y="7"/>
                      </a:lnTo>
                      <a:lnTo>
                        <a:pt x="2039" y="6"/>
                      </a:lnTo>
                      <a:lnTo>
                        <a:pt x="2037" y="6"/>
                      </a:lnTo>
                      <a:lnTo>
                        <a:pt x="2035" y="6"/>
                      </a:lnTo>
                      <a:lnTo>
                        <a:pt x="2034" y="7"/>
                      </a:lnTo>
                      <a:lnTo>
                        <a:pt x="2033" y="8"/>
                      </a:lnTo>
                      <a:lnTo>
                        <a:pt x="2032" y="9"/>
                      </a:lnTo>
                      <a:lnTo>
                        <a:pt x="1947" y="9"/>
                      </a:lnTo>
                      <a:lnTo>
                        <a:pt x="1947" y="8"/>
                      </a:lnTo>
                      <a:lnTo>
                        <a:pt x="1946" y="7"/>
                      </a:lnTo>
                      <a:lnTo>
                        <a:pt x="1944" y="6"/>
                      </a:lnTo>
                      <a:lnTo>
                        <a:pt x="1942" y="6"/>
                      </a:lnTo>
                      <a:lnTo>
                        <a:pt x="1941" y="6"/>
                      </a:lnTo>
                      <a:lnTo>
                        <a:pt x="1939" y="7"/>
                      </a:lnTo>
                      <a:lnTo>
                        <a:pt x="1938" y="8"/>
                      </a:lnTo>
                      <a:lnTo>
                        <a:pt x="1938" y="9"/>
                      </a:lnTo>
                      <a:lnTo>
                        <a:pt x="1933" y="9"/>
                      </a:lnTo>
                      <a:lnTo>
                        <a:pt x="1933" y="8"/>
                      </a:lnTo>
                      <a:lnTo>
                        <a:pt x="1932" y="7"/>
                      </a:lnTo>
                      <a:lnTo>
                        <a:pt x="1930" y="6"/>
                      </a:lnTo>
                      <a:lnTo>
                        <a:pt x="1929" y="6"/>
                      </a:lnTo>
                      <a:lnTo>
                        <a:pt x="1927" y="6"/>
                      </a:lnTo>
                      <a:lnTo>
                        <a:pt x="1926" y="7"/>
                      </a:lnTo>
                      <a:lnTo>
                        <a:pt x="1925" y="8"/>
                      </a:lnTo>
                      <a:lnTo>
                        <a:pt x="1924" y="9"/>
                      </a:lnTo>
                      <a:lnTo>
                        <a:pt x="1920" y="9"/>
                      </a:lnTo>
                      <a:lnTo>
                        <a:pt x="1919" y="8"/>
                      </a:lnTo>
                      <a:lnTo>
                        <a:pt x="1919" y="7"/>
                      </a:lnTo>
                      <a:lnTo>
                        <a:pt x="1917" y="6"/>
                      </a:lnTo>
                      <a:lnTo>
                        <a:pt x="1915" y="6"/>
                      </a:lnTo>
                      <a:lnTo>
                        <a:pt x="1914" y="6"/>
                      </a:lnTo>
                      <a:lnTo>
                        <a:pt x="1912" y="7"/>
                      </a:lnTo>
                      <a:lnTo>
                        <a:pt x="1911" y="8"/>
                      </a:lnTo>
                      <a:lnTo>
                        <a:pt x="1911" y="9"/>
                      </a:lnTo>
                      <a:lnTo>
                        <a:pt x="1802" y="9"/>
                      </a:lnTo>
                      <a:lnTo>
                        <a:pt x="1801" y="8"/>
                      </a:lnTo>
                      <a:lnTo>
                        <a:pt x="1800" y="7"/>
                      </a:lnTo>
                      <a:lnTo>
                        <a:pt x="1799" y="6"/>
                      </a:lnTo>
                      <a:lnTo>
                        <a:pt x="1797" y="6"/>
                      </a:lnTo>
                      <a:lnTo>
                        <a:pt x="1795" y="6"/>
                      </a:lnTo>
                      <a:lnTo>
                        <a:pt x="1794" y="7"/>
                      </a:lnTo>
                      <a:lnTo>
                        <a:pt x="1793" y="8"/>
                      </a:lnTo>
                      <a:lnTo>
                        <a:pt x="1793" y="9"/>
                      </a:lnTo>
                      <a:lnTo>
                        <a:pt x="1764" y="9"/>
                      </a:lnTo>
                      <a:lnTo>
                        <a:pt x="1763" y="8"/>
                      </a:lnTo>
                      <a:lnTo>
                        <a:pt x="1762" y="7"/>
                      </a:lnTo>
                      <a:lnTo>
                        <a:pt x="1761" y="6"/>
                      </a:lnTo>
                      <a:lnTo>
                        <a:pt x="1759" y="6"/>
                      </a:lnTo>
                      <a:lnTo>
                        <a:pt x="1757" y="6"/>
                      </a:lnTo>
                      <a:lnTo>
                        <a:pt x="1756" y="7"/>
                      </a:lnTo>
                      <a:lnTo>
                        <a:pt x="1755" y="8"/>
                      </a:lnTo>
                      <a:lnTo>
                        <a:pt x="1755" y="9"/>
                      </a:lnTo>
                      <a:lnTo>
                        <a:pt x="1650" y="9"/>
                      </a:lnTo>
                      <a:lnTo>
                        <a:pt x="1649" y="8"/>
                      </a:lnTo>
                      <a:lnTo>
                        <a:pt x="1648" y="7"/>
                      </a:lnTo>
                      <a:lnTo>
                        <a:pt x="1647" y="6"/>
                      </a:lnTo>
                      <a:lnTo>
                        <a:pt x="1645" y="6"/>
                      </a:lnTo>
                      <a:lnTo>
                        <a:pt x="1643" y="6"/>
                      </a:lnTo>
                      <a:lnTo>
                        <a:pt x="1642" y="7"/>
                      </a:lnTo>
                      <a:lnTo>
                        <a:pt x="1641" y="8"/>
                      </a:lnTo>
                      <a:lnTo>
                        <a:pt x="1640" y="9"/>
                      </a:lnTo>
                      <a:lnTo>
                        <a:pt x="1636" y="9"/>
                      </a:lnTo>
                      <a:lnTo>
                        <a:pt x="1636" y="8"/>
                      </a:lnTo>
                      <a:lnTo>
                        <a:pt x="1635" y="7"/>
                      </a:lnTo>
                      <a:lnTo>
                        <a:pt x="1633" y="6"/>
                      </a:lnTo>
                      <a:lnTo>
                        <a:pt x="1631" y="6"/>
                      </a:lnTo>
                      <a:lnTo>
                        <a:pt x="1630" y="6"/>
                      </a:lnTo>
                      <a:lnTo>
                        <a:pt x="1628" y="7"/>
                      </a:lnTo>
                      <a:lnTo>
                        <a:pt x="1627" y="8"/>
                      </a:lnTo>
                      <a:lnTo>
                        <a:pt x="1627" y="9"/>
                      </a:lnTo>
                      <a:lnTo>
                        <a:pt x="1622" y="9"/>
                      </a:lnTo>
                      <a:lnTo>
                        <a:pt x="1622" y="8"/>
                      </a:lnTo>
                      <a:lnTo>
                        <a:pt x="1621" y="7"/>
                      </a:lnTo>
                      <a:lnTo>
                        <a:pt x="1620" y="6"/>
                      </a:lnTo>
                      <a:lnTo>
                        <a:pt x="1618" y="6"/>
                      </a:lnTo>
                      <a:lnTo>
                        <a:pt x="1616" y="6"/>
                      </a:lnTo>
                      <a:lnTo>
                        <a:pt x="1615" y="7"/>
                      </a:lnTo>
                      <a:lnTo>
                        <a:pt x="1614" y="8"/>
                      </a:lnTo>
                      <a:lnTo>
                        <a:pt x="1613" y="9"/>
                      </a:lnTo>
                      <a:lnTo>
                        <a:pt x="1602" y="9"/>
                      </a:lnTo>
                      <a:lnTo>
                        <a:pt x="1601" y="8"/>
                      </a:lnTo>
                      <a:lnTo>
                        <a:pt x="1601" y="7"/>
                      </a:lnTo>
                      <a:lnTo>
                        <a:pt x="1599" y="6"/>
                      </a:lnTo>
                      <a:lnTo>
                        <a:pt x="1597" y="6"/>
                      </a:lnTo>
                      <a:lnTo>
                        <a:pt x="1596" y="6"/>
                      </a:lnTo>
                      <a:lnTo>
                        <a:pt x="1594" y="7"/>
                      </a:lnTo>
                      <a:lnTo>
                        <a:pt x="1593" y="8"/>
                      </a:lnTo>
                      <a:lnTo>
                        <a:pt x="1593" y="9"/>
                      </a:lnTo>
                      <a:lnTo>
                        <a:pt x="1592" y="9"/>
                      </a:lnTo>
                      <a:lnTo>
                        <a:pt x="1592" y="8"/>
                      </a:lnTo>
                      <a:lnTo>
                        <a:pt x="1591" y="7"/>
                      </a:lnTo>
                      <a:lnTo>
                        <a:pt x="1589" y="6"/>
                      </a:lnTo>
                      <a:lnTo>
                        <a:pt x="1588" y="6"/>
                      </a:lnTo>
                      <a:lnTo>
                        <a:pt x="1586" y="6"/>
                      </a:lnTo>
                      <a:lnTo>
                        <a:pt x="1584" y="7"/>
                      </a:lnTo>
                      <a:lnTo>
                        <a:pt x="1584" y="8"/>
                      </a:lnTo>
                      <a:lnTo>
                        <a:pt x="1583" y="9"/>
                      </a:lnTo>
                      <a:lnTo>
                        <a:pt x="1580" y="9"/>
                      </a:lnTo>
                      <a:lnTo>
                        <a:pt x="1579" y="7"/>
                      </a:lnTo>
                      <a:lnTo>
                        <a:pt x="1579" y="6"/>
                      </a:lnTo>
                      <a:lnTo>
                        <a:pt x="1577" y="4"/>
                      </a:lnTo>
                      <a:lnTo>
                        <a:pt x="1575" y="3"/>
                      </a:lnTo>
                      <a:lnTo>
                        <a:pt x="1573" y="3"/>
                      </a:lnTo>
                      <a:lnTo>
                        <a:pt x="1570" y="3"/>
                      </a:lnTo>
                      <a:lnTo>
                        <a:pt x="1568" y="3"/>
                      </a:lnTo>
                      <a:lnTo>
                        <a:pt x="1566" y="4"/>
                      </a:lnTo>
                      <a:lnTo>
                        <a:pt x="1564" y="6"/>
                      </a:lnTo>
                      <a:lnTo>
                        <a:pt x="1563" y="7"/>
                      </a:lnTo>
                      <a:lnTo>
                        <a:pt x="1563" y="9"/>
                      </a:lnTo>
                      <a:lnTo>
                        <a:pt x="1554" y="9"/>
                      </a:lnTo>
                      <a:lnTo>
                        <a:pt x="1554" y="8"/>
                      </a:lnTo>
                      <a:lnTo>
                        <a:pt x="1553" y="7"/>
                      </a:lnTo>
                      <a:lnTo>
                        <a:pt x="1551" y="6"/>
                      </a:lnTo>
                      <a:lnTo>
                        <a:pt x="1550" y="6"/>
                      </a:lnTo>
                      <a:lnTo>
                        <a:pt x="1548" y="6"/>
                      </a:lnTo>
                      <a:lnTo>
                        <a:pt x="1546" y="7"/>
                      </a:lnTo>
                      <a:lnTo>
                        <a:pt x="1545" y="8"/>
                      </a:lnTo>
                      <a:lnTo>
                        <a:pt x="1545" y="9"/>
                      </a:lnTo>
                      <a:lnTo>
                        <a:pt x="1519" y="9"/>
                      </a:lnTo>
                      <a:lnTo>
                        <a:pt x="1519" y="8"/>
                      </a:lnTo>
                      <a:lnTo>
                        <a:pt x="1518" y="6"/>
                      </a:lnTo>
                      <a:lnTo>
                        <a:pt x="1517" y="5"/>
                      </a:lnTo>
                      <a:lnTo>
                        <a:pt x="1515" y="4"/>
                      </a:lnTo>
                      <a:lnTo>
                        <a:pt x="1513" y="3"/>
                      </a:lnTo>
                      <a:lnTo>
                        <a:pt x="1511" y="3"/>
                      </a:lnTo>
                      <a:lnTo>
                        <a:pt x="1508" y="4"/>
                      </a:lnTo>
                      <a:lnTo>
                        <a:pt x="1506" y="5"/>
                      </a:lnTo>
                      <a:lnTo>
                        <a:pt x="1505" y="6"/>
                      </a:lnTo>
                      <a:lnTo>
                        <a:pt x="1504" y="8"/>
                      </a:lnTo>
                      <a:lnTo>
                        <a:pt x="1504" y="9"/>
                      </a:lnTo>
                      <a:lnTo>
                        <a:pt x="1502" y="9"/>
                      </a:lnTo>
                      <a:lnTo>
                        <a:pt x="1502" y="8"/>
                      </a:lnTo>
                      <a:lnTo>
                        <a:pt x="1501" y="7"/>
                      </a:lnTo>
                      <a:lnTo>
                        <a:pt x="1499" y="6"/>
                      </a:lnTo>
                      <a:lnTo>
                        <a:pt x="1498" y="6"/>
                      </a:lnTo>
                      <a:lnTo>
                        <a:pt x="1496" y="6"/>
                      </a:lnTo>
                      <a:lnTo>
                        <a:pt x="1494" y="7"/>
                      </a:lnTo>
                      <a:lnTo>
                        <a:pt x="1494" y="8"/>
                      </a:lnTo>
                      <a:lnTo>
                        <a:pt x="1493" y="9"/>
                      </a:lnTo>
                      <a:lnTo>
                        <a:pt x="1467" y="9"/>
                      </a:lnTo>
                      <a:lnTo>
                        <a:pt x="1467" y="8"/>
                      </a:lnTo>
                      <a:lnTo>
                        <a:pt x="1466" y="7"/>
                      </a:lnTo>
                      <a:lnTo>
                        <a:pt x="1464" y="6"/>
                      </a:lnTo>
                      <a:lnTo>
                        <a:pt x="1463" y="6"/>
                      </a:lnTo>
                      <a:lnTo>
                        <a:pt x="1461" y="6"/>
                      </a:lnTo>
                      <a:lnTo>
                        <a:pt x="1459" y="7"/>
                      </a:lnTo>
                      <a:lnTo>
                        <a:pt x="1459" y="8"/>
                      </a:lnTo>
                      <a:lnTo>
                        <a:pt x="1458" y="9"/>
                      </a:lnTo>
                      <a:lnTo>
                        <a:pt x="1454" y="9"/>
                      </a:lnTo>
                      <a:lnTo>
                        <a:pt x="1453" y="8"/>
                      </a:lnTo>
                      <a:lnTo>
                        <a:pt x="1452" y="7"/>
                      </a:lnTo>
                      <a:lnTo>
                        <a:pt x="1451" y="6"/>
                      </a:lnTo>
                      <a:lnTo>
                        <a:pt x="1449" y="6"/>
                      </a:lnTo>
                      <a:lnTo>
                        <a:pt x="1447" y="6"/>
                      </a:lnTo>
                      <a:lnTo>
                        <a:pt x="1446" y="7"/>
                      </a:lnTo>
                      <a:lnTo>
                        <a:pt x="1445" y="8"/>
                      </a:lnTo>
                      <a:lnTo>
                        <a:pt x="1445" y="9"/>
                      </a:lnTo>
                      <a:lnTo>
                        <a:pt x="1436" y="9"/>
                      </a:lnTo>
                      <a:lnTo>
                        <a:pt x="1435" y="8"/>
                      </a:lnTo>
                      <a:lnTo>
                        <a:pt x="1434" y="7"/>
                      </a:lnTo>
                      <a:lnTo>
                        <a:pt x="1433" y="6"/>
                      </a:lnTo>
                      <a:lnTo>
                        <a:pt x="1431" y="6"/>
                      </a:lnTo>
                      <a:lnTo>
                        <a:pt x="1429" y="6"/>
                      </a:lnTo>
                      <a:lnTo>
                        <a:pt x="1428" y="7"/>
                      </a:lnTo>
                      <a:lnTo>
                        <a:pt x="1427" y="8"/>
                      </a:lnTo>
                      <a:lnTo>
                        <a:pt x="1427" y="9"/>
                      </a:lnTo>
                      <a:lnTo>
                        <a:pt x="1401" y="9"/>
                      </a:lnTo>
                      <a:lnTo>
                        <a:pt x="1401" y="8"/>
                      </a:lnTo>
                      <a:lnTo>
                        <a:pt x="1400" y="7"/>
                      </a:lnTo>
                      <a:lnTo>
                        <a:pt x="1398" y="6"/>
                      </a:lnTo>
                      <a:lnTo>
                        <a:pt x="1397" y="6"/>
                      </a:lnTo>
                      <a:lnTo>
                        <a:pt x="1395" y="6"/>
                      </a:lnTo>
                      <a:lnTo>
                        <a:pt x="1393" y="7"/>
                      </a:lnTo>
                      <a:lnTo>
                        <a:pt x="1392" y="8"/>
                      </a:lnTo>
                      <a:lnTo>
                        <a:pt x="1392" y="9"/>
                      </a:lnTo>
                      <a:lnTo>
                        <a:pt x="1373" y="9"/>
                      </a:lnTo>
                      <a:lnTo>
                        <a:pt x="1372" y="8"/>
                      </a:lnTo>
                      <a:lnTo>
                        <a:pt x="1372" y="7"/>
                      </a:lnTo>
                      <a:lnTo>
                        <a:pt x="1370" y="6"/>
                      </a:lnTo>
                      <a:lnTo>
                        <a:pt x="1368" y="6"/>
                      </a:lnTo>
                      <a:lnTo>
                        <a:pt x="1367" y="6"/>
                      </a:lnTo>
                      <a:lnTo>
                        <a:pt x="1365" y="7"/>
                      </a:lnTo>
                      <a:lnTo>
                        <a:pt x="1364" y="8"/>
                      </a:lnTo>
                      <a:lnTo>
                        <a:pt x="1364" y="9"/>
                      </a:lnTo>
                      <a:lnTo>
                        <a:pt x="1312" y="9"/>
                      </a:lnTo>
                      <a:lnTo>
                        <a:pt x="1311" y="8"/>
                      </a:lnTo>
                      <a:lnTo>
                        <a:pt x="1311" y="7"/>
                      </a:lnTo>
                      <a:lnTo>
                        <a:pt x="1309" y="6"/>
                      </a:lnTo>
                      <a:lnTo>
                        <a:pt x="1307" y="6"/>
                      </a:lnTo>
                      <a:lnTo>
                        <a:pt x="1306" y="6"/>
                      </a:lnTo>
                      <a:lnTo>
                        <a:pt x="1304" y="7"/>
                      </a:lnTo>
                      <a:lnTo>
                        <a:pt x="1303" y="8"/>
                      </a:lnTo>
                      <a:lnTo>
                        <a:pt x="1303" y="9"/>
                      </a:lnTo>
                      <a:lnTo>
                        <a:pt x="1240" y="9"/>
                      </a:lnTo>
                      <a:lnTo>
                        <a:pt x="1239" y="8"/>
                      </a:lnTo>
                      <a:lnTo>
                        <a:pt x="1238" y="7"/>
                      </a:lnTo>
                      <a:lnTo>
                        <a:pt x="1237" y="6"/>
                      </a:lnTo>
                      <a:lnTo>
                        <a:pt x="1235" y="6"/>
                      </a:lnTo>
                      <a:lnTo>
                        <a:pt x="1233" y="6"/>
                      </a:lnTo>
                      <a:lnTo>
                        <a:pt x="1232" y="7"/>
                      </a:lnTo>
                      <a:lnTo>
                        <a:pt x="1231" y="8"/>
                      </a:lnTo>
                      <a:lnTo>
                        <a:pt x="1231" y="9"/>
                      </a:lnTo>
                      <a:lnTo>
                        <a:pt x="1213" y="9"/>
                      </a:lnTo>
                      <a:lnTo>
                        <a:pt x="1212" y="8"/>
                      </a:lnTo>
                      <a:lnTo>
                        <a:pt x="1211" y="7"/>
                      </a:lnTo>
                      <a:lnTo>
                        <a:pt x="1210" y="6"/>
                      </a:lnTo>
                      <a:lnTo>
                        <a:pt x="1208" y="6"/>
                      </a:lnTo>
                      <a:lnTo>
                        <a:pt x="1207" y="6"/>
                      </a:lnTo>
                      <a:lnTo>
                        <a:pt x="1205" y="7"/>
                      </a:lnTo>
                      <a:lnTo>
                        <a:pt x="1204" y="8"/>
                      </a:lnTo>
                      <a:lnTo>
                        <a:pt x="1204" y="9"/>
                      </a:lnTo>
                      <a:lnTo>
                        <a:pt x="1196" y="9"/>
                      </a:lnTo>
                      <a:lnTo>
                        <a:pt x="1196" y="46"/>
                      </a:lnTo>
                      <a:lnTo>
                        <a:pt x="1181" y="46"/>
                      </a:lnTo>
                      <a:lnTo>
                        <a:pt x="1181" y="45"/>
                      </a:lnTo>
                      <a:lnTo>
                        <a:pt x="1180" y="44"/>
                      </a:lnTo>
                      <a:lnTo>
                        <a:pt x="1179" y="43"/>
                      </a:lnTo>
                      <a:lnTo>
                        <a:pt x="1177" y="43"/>
                      </a:lnTo>
                      <a:lnTo>
                        <a:pt x="1175" y="43"/>
                      </a:lnTo>
                      <a:lnTo>
                        <a:pt x="1174" y="44"/>
                      </a:lnTo>
                      <a:lnTo>
                        <a:pt x="1173" y="45"/>
                      </a:lnTo>
                      <a:lnTo>
                        <a:pt x="1172" y="46"/>
                      </a:lnTo>
                      <a:lnTo>
                        <a:pt x="1163" y="46"/>
                      </a:lnTo>
                      <a:lnTo>
                        <a:pt x="1163" y="45"/>
                      </a:lnTo>
                      <a:lnTo>
                        <a:pt x="1162" y="44"/>
                      </a:lnTo>
                      <a:lnTo>
                        <a:pt x="1160" y="43"/>
                      </a:lnTo>
                      <a:lnTo>
                        <a:pt x="1159" y="43"/>
                      </a:lnTo>
                      <a:lnTo>
                        <a:pt x="1157" y="43"/>
                      </a:lnTo>
                      <a:lnTo>
                        <a:pt x="1156" y="44"/>
                      </a:lnTo>
                      <a:lnTo>
                        <a:pt x="1155" y="45"/>
                      </a:lnTo>
                      <a:lnTo>
                        <a:pt x="1154" y="46"/>
                      </a:lnTo>
                      <a:lnTo>
                        <a:pt x="1096" y="46"/>
                      </a:lnTo>
                      <a:lnTo>
                        <a:pt x="1095" y="45"/>
                      </a:lnTo>
                      <a:lnTo>
                        <a:pt x="1094" y="44"/>
                      </a:lnTo>
                      <a:lnTo>
                        <a:pt x="1093" y="43"/>
                      </a:lnTo>
                      <a:lnTo>
                        <a:pt x="1091" y="43"/>
                      </a:lnTo>
                      <a:lnTo>
                        <a:pt x="1090" y="43"/>
                      </a:lnTo>
                      <a:lnTo>
                        <a:pt x="1088" y="44"/>
                      </a:lnTo>
                      <a:lnTo>
                        <a:pt x="1087" y="45"/>
                      </a:lnTo>
                      <a:lnTo>
                        <a:pt x="1087" y="46"/>
                      </a:lnTo>
                      <a:lnTo>
                        <a:pt x="1071" y="46"/>
                      </a:lnTo>
                      <a:lnTo>
                        <a:pt x="1071" y="45"/>
                      </a:lnTo>
                      <a:lnTo>
                        <a:pt x="1070" y="44"/>
                      </a:lnTo>
                      <a:lnTo>
                        <a:pt x="1068" y="43"/>
                      </a:lnTo>
                      <a:lnTo>
                        <a:pt x="1067" y="43"/>
                      </a:lnTo>
                      <a:lnTo>
                        <a:pt x="1065" y="43"/>
                      </a:lnTo>
                      <a:lnTo>
                        <a:pt x="1064" y="44"/>
                      </a:lnTo>
                      <a:lnTo>
                        <a:pt x="1062" y="45"/>
                      </a:lnTo>
                      <a:lnTo>
                        <a:pt x="1062" y="46"/>
                      </a:lnTo>
                      <a:lnTo>
                        <a:pt x="1028" y="46"/>
                      </a:lnTo>
                      <a:lnTo>
                        <a:pt x="1028" y="45"/>
                      </a:lnTo>
                      <a:lnTo>
                        <a:pt x="1027" y="44"/>
                      </a:lnTo>
                      <a:lnTo>
                        <a:pt x="1025" y="43"/>
                      </a:lnTo>
                      <a:lnTo>
                        <a:pt x="1023" y="43"/>
                      </a:lnTo>
                      <a:lnTo>
                        <a:pt x="1022" y="43"/>
                      </a:lnTo>
                      <a:lnTo>
                        <a:pt x="1020" y="44"/>
                      </a:lnTo>
                      <a:lnTo>
                        <a:pt x="1019" y="45"/>
                      </a:lnTo>
                      <a:lnTo>
                        <a:pt x="1019" y="46"/>
                      </a:lnTo>
                      <a:lnTo>
                        <a:pt x="967" y="46"/>
                      </a:lnTo>
                      <a:lnTo>
                        <a:pt x="967" y="45"/>
                      </a:lnTo>
                      <a:lnTo>
                        <a:pt x="966" y="44"/>
                      </a:lnTo>
                      <a:lnTo>
                        <a:pt x="965" y="43"/>
                      </a:lnTo>
                      <a:lnTo>
                        <a:pt x="963" y="43"/>
                      </a:lnTo>
                      <a:lnTo>
                        <a:pt x="961" y="43"/>
                      </a:lnTo>
                      <a:lnTo>
                        <a:pt x="960" y="44"/>
                      </a:lnTo>
                      <a:lnTo>
                        <a:pt x="959" y="45"/>
                      </a:lnTo>
                      <a:lnTo>
                        <a:pt x="958" y="46"/>
                      </a:lnTo>
                      <a:lnTo>
                        <a:pt x="934" y="46"/>
                      </a:lnTo>
                      <a:lnTo>
                        <a:pt x="933" y="45"/>
                      </a:lnTo>
                      <a:lnTo>
                        <a:pt x="932" y="44"/>
                      </a:lnTo>
                      <a:lnTo>
                        <a:pt x="931" y="43"/>
                      </a:lnTo>
                      <a:lnTo>
                        <a:pt x="929" y="43"/>
                      </a:lnTo>
                      <a:lnTo>
                        <a:pt x="927" y="43"/>
                      </a:lnTo>
                      <a:lnTo>
                        <a:pt x="926" y="44"/>
                      </a:lnTo>
                      <a:lnTo>
                        <a:pt x="925" y="45"/>
                      </a:lnTo>
                      <a:lnTo>
                        <a:pt x="925" y="46"/>
                      </a:lnTo>
                      <a:lnTo>
                        <a:pt x="914" y="46"/>
                      </a:lnTo>
                      <a:lnTo>
                        <a:pt x="914" y="45"/>
                      </a:lnTo>
                      <a:lnTo>
                        <a:pt x="913" y="44"/>
                      </a:lnTo>
                      <a:lnTo>
                        <a:pt x="911" y="43"/>
                      </a:lnTo>
                      <a:lnTo>
                        <a:pt x="910" y="43"/>
                      </a:lnTo>
                      <a:lnTo>
                        <a:pt x="908" y="43"/>
                      </a:lnTo>
                      <a:lnTo>
                        <a:pt x="907" y="44"/>
                      </a:lnTo>
                      <a:lnTo>
                        <a:pt x="906" y="45"/>
                      </a:lnTo>
                      <a:lnTo>
                        <a:pt x="905" y="46"/>
                      </a:lnTo>
                      <a:lnTo>
                        <a:pt x="894" y="46"/>
                      </a:lnTo>
                      <a:lnTo>
                        <a:pt x="894" y="45"/>
                      </a:lnTo>
                      <a:lnTo>
                        <a:pt x="893" y="44"/>
                      </a:lnTo>
                      <a:lnTo>
                        <a:pt x="892" y="43"/>
                      </a:lnTo>
                      <a:lnTo>
                        <a:pt x="890" y="43"/>
                      </a:lnTo>
                      <a:lnTo>
                        <a:pt x="888" y="43"/>
                      </a:lnTo>
                      <a:lnTo>
                        <a:pt x="887" y="44"/>
                      </a:lnTo>
                      <a:lnTo>
                        <a:pt x="886" y="45"/>
                      </a:lnTo>
                      <a:lnTo>
                        <a:pt x="886" y="46"/>
                      </a:lnTo>
                      <a:lnTo>
                        <a:pt x="873" y="46"/>
                      </a:lnTo>
                      <a:lnTo>
                        <a:pt x="872" y="45"/>
                      </a:lnTo>
                      <a:lnTo>
                        <a:pt x="872" y="44"/>
                      </a:lnTo>
                      <a:lnTo>
                        <a:pt x="870" y="43"/>
                      </a:lnTo>
                      <a:lnTo>
                        <a:pt x="868" y="43"/>
                      </a:lnTo>
                      <a:lnTo>
                        <a:pt x="867" y="43"/>
                      </a:lnTo>
                      <a:lnTo>
                        <a:pt x="865" y="44"/>
                      </a:lnTo>
                      <a:lnTo>
                        <a:pt x="864" y="45"/>
                      </a:lnTo>
                      <a:lnTo>
                        <a:pt x="864" y="46"/>
                      </a:lnTo>
                      <a:lnTo>
                        <a:pt x="849" y="46"/>
                      </a:lnTo>
                      <a:lnTo>
                        <a:pt x="849" y="45"/>
                      </a:lnTo>
                      <a:lnTo>
                        <a:pt x="848" y="44"/>
                      </a:lnTo>
                      <a:lnTo>
                        <a:pt x="846" y="43"/>
                      </a:lnTo>
                      <a:lnTo>
                        <a:pt x="845" y="43"/>
                      </a:lnTo>
                      <a:lnTo>
                        <a:pt x="843" y="43"/>
                      </a:lnTo>
                      <a:lnTo>
                        <a:pt x="841" y="44"/>
                      </a:lnTo>
                      <a:lnTo>
                        <a:pt x="841" y="45"/>
                      </a:lnTo>
                      <a:lnTo>
                        <a:pt x="840" y="46"/>
                      </a:lnTo>
                      <a:lnTo>
                        <a:pt x="829" y="46"/>
                      </a:lnTo>
                      <a:lnTo>
                        <a:pt x="829" y="45"/>
                      </a:lnTo>
                      <a:lnTo>
                        <a:pt x="828" y="44"/>
                      </a:lnTo>
                      <a:lnTo>
                        <a:pt x="826" y="43"/>
                      </a:lnTo>
                      <a:lnTo>
                        <a:pt x="824" y="43"/>
                      </a:lnTo>
                      <a:lnTo>
                        <a:pt x="823" y="43"/>
                      </a:lnTo>
                      <a:lnTo>
                        <a:pt x="821" y="44"/>
                      </a:lnTo>
                      <a:lnTo>
                        <a:pt x="820" y="45"/>
                      </a:lnTo>
                      <a:lnTo>
                        <a:pt x="820" y="46"/>
                      </a:lnTo>
                      <a:lnTo>
                        <a:pt x="813" y="46"/>
                      </a:lnTo>
                      <a:lnTo>
                        <a:pt x="813" y="45"/>
                      </a:lnTo>
                      <a:lnTo>
                        <a:pt x="812" y="43"/>
                      </a:lnTo>
                      <a:lnTo>
                        <a:pt x="810" y="42"/>
                      </a:lnTo>
                      <a:lnTo>
                        <a:pt x="809" y="41"/>
                      </a:lnTo>
                      <a:lnTo>
                        <a:pt x="806" y="41"/>
                      </a:lnTo>
                      <a:lnTo>
                        <a:pt x="804" y="41"/>
                      </a:lnTo>
                      <a:lnTo>
                        <a:pt x="803" y="42"/>
                      </a:lnTo>
                      <a:lnTo>
                        <a:pt x="801" y="43"/>
                      </a:lnTo>
                      <a:lnTo>
                        <a:pt x="800" y="45"/>
                      </a:lnTo>
                      <a:lnTo>
                        <a:pt x="800" y="46"/>
                      </a:lnTo>
                      <a:lnTo>
                        <a:pt x="792" y="46"/>
                      </a:lnTo>
                      <a:lnTo>
                        <a:pt x="791" y="45"/>
                      </a:lnTo>
                      <a:lnTo>
                        <a:pt x="791" y="44"/>
                      </a:lnTo>
                      <a:lnTo>
                        <a:pt x="789" y="43"/>
                      </a:lnTo>
                      <a:lnTo>
                        <a:pt x="787" y="43"/>
                      </a:lnTo>
                      <a:lnTo>
                        <a:pt x="785" y="43"/>
                      </a:lnTo>
                      <a:lnTo>
                        <a:pt x="784" y="44"/>
                      </a:lnTo>
                      <a:lnTo>
                        <a:pt x="783" y="45"/>
                      </a:lnTo>
                      <a:lnTo>
                        <a:pt x="783" y="46"/>
                      </a:lnTo>
                      <a:lnTo>
                        <a:pt x="714" y="46"/>
                      </a:lnTo>
                      <a:lnTo>
                        <a:pt x="713" y="45"/>
                      </a:lnTo>
                      <a:lnTo>
                        <a:pt x="712" y="43"/>
                      </a:lnTo>
                      <a:lnTo>
                        <a:pt x="711" y="42"/>
                      </a:lnTo>
                      <a:lnTo>
                        <a:pt x="709" y="41"/>
                      </a:lnTo>
                      <a:lnTo>
                        <a:pt x="707" y="40"/>
                      </a:lnTo>
                      <a:lnTo>
                        <a:pt x="705" y="40"/>
                      </a:lnTo>
                      <a:lnTo>
                        <a:pt x="702" y="41"/>
                      </a:lnTo>
                      <a:lnTo>
                        <a:pt x="701" y="42"/>
                      </a:lnTo>
                      <a:lnTo>
                        <a:pt x="699" y="43"/>
                      </a:lnTo>
                      <a:lnTo>
                        <a:pt x="698" y="45"/>
                      </a:lnTo>
                      <a:lnTo>
                        <a:pt x="698" y="46"/>
                      </a:lnTo>
                      <a:lnTo>
                        <a:pt x="684" y="46"/>
                      </a:lnTo>
                      <a:lnTo>
                        <a:pt x="683" y="45"/>
                      </a:lnTo>
                      <a:lnTo>
                        <a:pt x="682" y="44"/>
                      </a:lnTo>
                      <a:lnTo>
                        <a:pt x="681" y="43"/>
                      </a:lnTo>
                      <a:lnTo>
                        <a:pt x="679" y="43"/>
                      </a:lnTo>
                      <a:lnTo>
                        <a:pt x="677" y="43"/>
                      </a:lnTo>
                      <a:lnTo>
                        <a:pt x="676" y="44"/>
                      </a:lnTo>
                      <a:lnTo>
                        <a:pt x="675" y="45"/>
                      </a:lnTo>
                      <a:lnTo>
                        <a:pt x="675" y="46"/>
                      </a:lnTo>
                      <a:lnTo>
                        <a:pt x="667" y="46"/>
                      </a:lnTo>
                      <a:lnTo>
                        <a:pt x="666" y="45"/>
                      </a:lnTo>
                      <a:lnTo>
                        <a:pt x="666" y="44"/>
                      </a:lnTo>
                      <a:lnTo>
                        <a:pt x="664" y="43"/>
                      </a:lnTo>
                      <a:lnTo>
                        <a:pt x="662" y="43"/>
                      </a:lnTo>
                      <a:lnTo>
                        <a:pt x="661" y="43"/>
                      </a:lnTo>
                      <a:lnTo>
                        <a:pt x="659" y="44"/>
                      </a:lnTo>
                      <a:lnTo>
                        <a:pt x="658" y="45"/>
                      </a:lnTo>
                      <a:lnTo>
                        <a:pt x="658" y="46"/>
                      </a:lnTo>
                      <a:lnTo>
                        <a:pt x="650" y="46"/>
                      </a:lnTo>
                      <a:lnTo>
                        <a:pt x="649" y="45"/>
                      </a:lnTo>
                      <a:lnTo>
                        <a:pt x="649" y="44"/>
                      </a:lnTo>
                      <a:lnTo>
                        <a:pt x="647" y="43"/>
                      </a:lnTo>
                      <a:lnTo>
                        <a:pt x="645" y="43"/>
                      </a:lnTo>
                      <a:lnTo>
                        <a:pt x="644" y="43"/>
                      </a:lnTo>
                      <a:lnTo>
                        <a:pt x="642" y="44"/>
                      </a:lnTo>
                      <a:lnTo>
                        <a:pt x="641" y="45"/>
                      </a:lnTo>
                      <a:lnTo>
                        <a:pt x="641" y="46"/>
                      </a:lnTo>
                      <a:lnTo>
                        <a:pt x="636" y="46"/>
                      </a:lnTo>
                      <a:lnTo>
                        <a:pt x="636" y="45"/>
                      </a:lnTo>
                      <a:lnTo>
                        <a:pt x="635" y="43"/>
                      </a:lnTo>
                      <a:lnTo>
                        <a:pt x="634" y="42"/>
                      </a:lnTo>
                      <a:lnTo>
                        <a:pt x="632" y="41"/>
                      </a:lnTo>
                      <a:lnTo>
                        <a:pt x="630" y="40"/>
                      </a:lnTo>
                      <a:lnTo>
                        <a:pt x="628" y="40"/>
                      </a:lnTo>
                      <a:lnTo>
                        <a:pt x="625" y="41"/>
                      </a:lnTo>
                      <a:lnTo>
                        <a:pt x="623" y="42"/>
                      </a:lnTo>
                      <a:lnTo>
                        <a:pt x="622" y="43"/>
                      </a:lnTo>
                      <a:lnTo>
                        <a:pt x="621" y="45"/>
                      </a:lnTo>
                      <a:lnTo>
                        <a:pt x="621" y="46"/>
                      </a:lnTo>
                      <a:lnTo>
                        <a:pt x="606" y="46"/>
                      </a:lnTo>
                      <a:lnTo>
                        <a:pt x="606" y="45"/>
                      </a:lnTo>
                      <a:lnTo>
                        <a:pt x="605" y="44"/>
                      </a:lnTo>
                      <a:lnTo>
                        <a:pt x="603" y="43"/>
                      </a:lnTo>
                      <a:lnTo>
                        <a:pt x="602" y="43"/>
                      </a:lnTo>
                      <a:lnTo>
                        <a:pt x="600" y="43"/>
                      </a:lnTo>
                      <a:lnTo>
                        <a:pt x="598" y="44"/>
                      </a:lnTo>
                      <a:lnTo>
                        <a:pt x="597" y="45"/>
                      </a:lnTo>
                      <a:lnTo>
                        <a:pt x="597" y="46"/>
                      </a:lnTo>
                      <a:lnTo>
                        <a:pt x="574" y="46"/>
                      </a:lnTo>
                      <a:lnTo>
                        <a:pt x="573" y="45"/>
                      </a:lnTo>
                      <a:lnTo>
                        <a:pt x="572" y="44"/>
                      </a:lnTo>
                      <a:lnTo>
                        <a:pt x="571" y="43"/>
                      </a:lnTo>
                      <a:lnTo>
                        <a:pt x="569" y="43"/>
                      </a:lnTo>
                      <a:lnTo>
                        <a:pt x="568" y="43"/>
                      </a:lnTo>
                      <a:lnTo>
                        <a:pt x="566" y="44"/>
                      </a:lnTo>
                      <a:lnTo>
                        <a:pt x="565" y="45"/>
                      </a:lnTo>
                      <a:lnTo>
                        <a:pt x="565" y="46"/>
                      </a:lnTo>
                      <a:lnTo>
                        <a:pt x="560" y="46"/>
                      </a:lnTo>
                      <a:lnTo>
                        <a:pt x="560" y="45"/>
                      </a:lnTo>
                      <a:lnTo>
                        <a:pt x="559" y="44"/>
                      </a:lnTo>
                      <a:lnTo>
                        <a:pt x="557" y="43"/>
                      </a:lnTo>
                      <a:lnTo>
                        <a:pt x="555" y="43"/>
                      </a:lnTo>
                      <a:lnTo>
                        <a:pt x="554" y="43"/>
                      </a:lnTo>
                      <a:lnTo>
                        <a:pt x="552" y="44"/>
                      </a:lnTo>
                      <a:lnTo>
                        <a:pt x="551" y="45"/>
                      </a:lnTo>
                      <a:lnTo>
                        <a:pt x="551" y="46"/>
                      </a:lnTo>
                      <a:lnTo>
                        <a:pt x="546" y="46"/>
                      </a:lnTo>
                      <a:lnTo>
                        <a:pt x="546" y="45"/>
                      </a:lnTo>
                      <a:lnTo>
                        <a:pt x="545" y="44"/>
                      </a:lnTo>
                      <a:lnTo>
                        <a:pt x="544" y="43"/>
                      </a:lnTo>
                      <a:lnTo>
                        <a:pt x="542" y="43"/>
                      </a:lnTo>
                      <a:lnTo>
                        <a:pt x="540" y="43"/>
                      </a:lnTo>
                      <a:lnTo>
                        <a:pt x="539" y="44"/>
                      </a:lnTo>
                      <a:lnTo>
                        <a:pt x="538" y="45"/>
                      </a:lnTo>
                      <a:lnTo>
                        <a:pt x="537" y="46"/>
                      </a:lnTo>
                      <a:lnTo>
                        <a:pt x="513" y="46"/>
                      </a:lnTo>
                      <a:lnTo>
                        <a:pt x="512" y="45"/>
                      </a:lnTo>
                      <a:lnTo>
                        <a:pt x="511" y="44"/>
                      </a:lnTo>
                      <a:lnTo>
                        <a:pt x="510" y="43"/>
                      </a:lnTo>
                      <a:lnTo>
                        <a:pt x="508" y="43"/>
                      </a:lnTo>
                      <a:lnTo>
                        <a:pt x="506" y="43"/>
                      </a:lnTo>
                      <a:lnTo>
                        <a:pt x="505" y="44"/>
                      </a:lnTo>
                      <a:lnTo>
                        <a:pt x="504" y="45"/>
                      </a:lnTo>
                      <a:lnTo>
                        <a:pt x="504" y="46"/>
                      </a:lnTo>
                      <a:lnTo>
                        <a:pt x="488" y="46"/>
                      </a:lnTo>
                      <a:lnTo>
                        <a:pt x="488" y="45"/>
                      </a:lnTo>
                      <a:lnTo>
                        <a:pt x="487" y="44"/>
                      </a:lnTo>
                      <a:lnTo>
                        <a:pt x="486" y="43"/>
                      </a:lnTo>
                      <a:lnTo>
                        <a:pt x="484" y="43"/>
                      </a:lnTo>
                      <a:lnTo>
                        <a:pt x="482" y="43"/>
                      </a:lnTo>
                      <a:lnTo>
                        <a:pt x="481" y="44"/>
                      </a:lnTo>
                      <a:lnTo>
                        <a:pt x="480" y="45"/>
                      </a:lnTo>
                      <a:lnTo>
                        <a:pt x="479" y="46"/>
                      </a:lnTo>
                      <a:lnTo>
                        <a:pt x="456" y="46"/>
                      </a:lnTo>
                      <a:lnTo>
                        <a:pt x="455" y="45"/>
                      </a:lnTo>
                      <a:lnTo>
                        <a:pt x="455" y="43"/>
                      </a:lnTo>
                      <a:lnTo>
                        <a:pt x="453" y="42"/>
                      </a:lnTo>
                      <a:lnTo>
                        <a:pt x="451" y="41"/>
                      </a:lnTo>
                      <a:lnTo>
                        <a:pt x="449" y="41"/>
                      </a:lnTo>
                      <a:lnTo>
                        <a:pt x="447" y="41"/>
                      </a:lnTo>
                      <a:lnTo>
                        <a:pt x="445" y="42"/>
                      </a:lnTo>
                      <a:lnTo>
                        <a:pt x="444" y="43"/>
                      </a:lnTo>
                      <a:lnTo>
                        <a:pt x="443" y="45"/>
                      </a:lnTo>
                      <a:lnTo>
                        <a:pt x="443" y="46"/>
                      </a:lnTo>
                      <a:lnTo>
                        <a:pt x="434" y="46"/>
                      </a:lnTo>
                      <a:lnTo>
                        <a:pt x="434" y="45"/>
                      </a:lnTo>
                      <a:lnTo>
                        <a:pt x="433" y="44"/>
                      </a:lnTo>
                      <a:lnTo>
                        <a:pt x="431" y="43"/>
                      </a:lnTo>
                      <a:lnTo>
                        <a:pt x="429" y="43"/>
                      </a:lnTo>
                      <a:lnTo>
                        <a:pt x="428" y="43"/>
                      </a:lnTo>
                      <a:lnTo>
                        <a:pt x="426" y="44"/>
                      </a:lnTo>
                      <a:lnTo>
                        <a:pt x="425" y="45"/>
                      </a:lnTo>
                      <a:lnTo>
                        <a:pt x="425" y="46"/>
                      </a:lnTo>
                      <a:lnTo>
                        <a:pt x="395" y="46"/>
                      </a:lnTo>
                      <a:lnTo>
                        <a:pt x="394" y="45"/>
                      </a:lnTo>
                      <a:lnTo>
                        <a:pt x="393" y="44"/>
                      </a:lnTo>
                      <a:lnTo>
                        <a:pt x="392" y="43"/>
                      </a:lnTo>
                      <a:lnTo>
                        <a:pt x="390" y="43"/>
                      </a:lnTo>
                      <a:lnTo>
                        <a:pt x="388" y="43"/>
                      </a:lnTo>
                      <a:lnTo>
                        <a:pt x="387" y="44"/>
                      </a:lnTo>
                      <a:lnTo>
                        <a:pt x="386" y="45"/>
                      </a:lnTo>
                      <a:lnTo>
                        <a:pt x="386" y="46"/>
                      </a:lnTo>
                      <a:lnTo>
                        <a:pt x="343" y="46"/>
                      </a:lnTo>
                      <a:lnTo>
                        <a:pt x="342" y="45"/>
                      </a:lnTo>
                      <a:lnTo>
                        <a:pt x="341" y="44"/>
                      </a:lnTo>
                      <a:lnTo>
                        <a:pt x="340" y="43"/>
                      </a:lnTo>
                      <a:lnTo>
                        <a:pt x="338" y="43"/>
                      </a:lnTo>
                      <a:lnTo>
                        <a:pt x="336" y="43"/>
                      </a:lnTo>
                      <a:lnTo>
                        <a:pt x="335" y="44"/>
                      </a:lnTo>
                      <a:lnTo>
                        <a:pt x="334" y="45"/>
                      </a:lnTo>
                      <a:lnTo>
                        <a:pt x="334" y="46"/>
                      </a:lnTo>
                      <a:lnTo>
                        <a:pt x="323" y="46"/>
                      </a:lnTo>
                      <a:lnTo>
                        <a:pt x="322" y="45"/>
                      </a:lnTo>
                      <a:lnTo>
                        <a:pt x="321" y="44"/>
                      </a:lnTo>
                      <a:lnTo>
                        <a:pt x="320" y="43"/>
                      </a:lnTo>
                      <a:lnTo>
                        <a:pt x="318" y="43"/>
                      </a:lnTo>
                      <a:lnTo>
                        <a:pt x="317" y="43"/>
                      </a:lnTo>
                      <a:lnTo>
                        <a:pt x="315" y="44"/>
                      </a:lnTo>
                      <a:lnTo>
                        <a:pt x="314" y="45"/>
                      </a:lnTo>
                      <a:lnTo>
                        <a:pt x="314" y="46"/>
                      </a:lnTo>
                      <a:lnTo>
                        <a:pt x="279" y="46"/>
                      </a:lnTo>
                      <a:lnTo>
                        <a:pt x="279" y="45"/>
                      </a:lnTo>
                      <a:lnTo>
                        <a:pt x="278" y="44"/>
                      </a:lnTo>
                      <a:lnTo>
                        <a:pt x="276" y="43"/>
                      </a:lnTo>
                      <a:lnTo>
                        <a:pt x="275" y="43"/>
                      </a:lnTo>
                      <a:lnTo>
                        <a:pt x="273" y="43"/>
                      </a:lnTo>
                      <a:lnTo>
                        <a:pt x="271" y="44"/>
                      </a:lnTo>
                      <a:lnTo>
                        <a:pt x="271" y="45"/>
                      </a:lnTo>
                      <a:lnTo>
                        <a:pt x="270" y="46"/>
                      </a:lnTo>
                      <a:lnTo>
                        <a:pt x="197" y="46"/>
                      </a:lnTo>
                      <a:lnTo>
                        <a:pt x="197" y="45"/>
                      </a:lnTo>
                      <a:lnTo>
                        <a:pt x="196" y="44"/>
                      </a:lnTo>
                      <a:lnTo>
                        <a:pt x="195" y="43"/>
                      </a:lnTo>
                      <a:lnTo>
                        <a:pt x="193" y="43"/>
                      </a:lnTo>
                      <a:lnTo>
                        <a:pt x="191" y="43"/>
                      </a:lnTo>
                      <a:lnTo>
                        <a:pt x="190" y="44"/>
                      </a:lnTo>
                      <a:lnTo>
                        <a:pt x="189" y="45"/>
                      </a:lnTo>
                      <a:lnTo>
                        <a:pt x="188" y="46"/>
                      </a:lnTo>
                      <a:lnTo>
                        <a:pt x="128" y="46"/>
                      </a:lnTo>
                      <a:lnTo>
                        <a:pt x="128" y="45"/>
                      </a:lnTo>
                      <a:lnTo>
                        <a:pt x="127" y="44"/>
                      </a:lnTo>
                      <a:lnTo>
                        <a:pt x="125" y="43"/>
                      </a:lnTo>
                      <a:lnTo>
                        <a:pt x="124" y="43"/>
                      </a:lnTo>
                      <a:lnTo>
                        <a:pt x="122" y="43"/>
                      </a:lnTo>
                      <a:lnTo>
                        <a:pt x="120" y="44"/>
                      </a:lnTo>
                      <a:lnTo>
                        <a:pt x="120" y="45"/>
                      </a:lnTo>
                      <a:lnTo>
                        <a:pt x="119" y="46"/>
                      </a:lnTo>
                      <a:lnTo>
                        <a:pt x="97" y="46"/>
                      </a:lnTo>
                      <a:lnTo>
                        <a:pt x="97" y="45"/>
                      </a:lnTo>
                      <a:lnTo>
                        <a:pt x="96" y="44"/>
                      </a:lnTo>
                      <a:lnTo>
                        <a:pt x="94" y="43"/>
                      </a:lnTo>
                      <a:lnTo>
                        <a:pt x="92" y="43"/>
                      </a:lnTo>
                      <a:lnTo>
                        <a:pt x="91" y="43"/>
                      </a:lnTo>
                      <a:lnTo>
                        <a:pt x="89" y="44"/>
                      </a:lnTo>
                      <a:lnTo>
                        <a:pt x="88" y="45"/>
                      </a:lnTo>
                      <a:lnTo>
                        <a:pt x="88" y="46"/>
                      </a:lnTo>
                      <a:lnTo>
                        <a:pt x="82" y="46"/>
                      </a:lnTo>
                      <a:lnTo>
                        <a:pt x="82" y="45"/>
                      </a:lnTo>
                      <a:lnTo>
                        <a:pt x="81" y="44"/>
                      </a:lnTo>
                      <a:lnTo>
                        <a:pt x="80" y="43"/>
                      </a:lnTo>
                      <a:lnTo>
                        <a:pt x="78" y="43"/>
                      </a:lnTo>
                      <a:lnTo>
                        <a:pt x="76" y="43"/>
                      </a:lnTo>
                      <a:lnTo>
                        <a:pt x="75" y="44"/>
                      </a:lnTo>
                      <a:lnTo>
                        <a:pt x="74" y="45"/>
                      </a:lnTo>
                      <a:lnTo>
                        <a:pt x="74" y="46"/>
                      </a:lnTo>
                      <a:lnTo>
                        <a:pt x="17" y="46"/>
                      </a:lnTo>
                      <a:lnTo>
                        <a:pt x="16" y="45"/>
                      </a:lnTo>
                      <a:lnTo>
                        <a:pt x="15" y="44"/>
                      </a:lnTo>
                      <a:lnTo>
                        <a:pt x="14" y="43"/>
                      </a:lnTo>
                      <a:lnTo>
                        <a:pt x="12" y="43"/>
                      </a:lnTo>
                      <a:lnTo>
                        <a:pt x="10" y="43"/>
                      </a:lnTo>
                      <a:lnTo>
                        <a:pt x="9" y="44"/>
                      </a:lnTo>
                      <a:lnTo>
                        <a:pt x="8" y="45"/>
                      </a:lnTo>
                      <a:lnTo>
                        <a:pt x="8" y="46"/>
                      </a:lnTo>
                      <a:lnTo>
                        <a:pt x="0" y="46"/>
                      </a:lnTo>
                      <a:lnTo>
                        <a:pt x="0" y="538"/>
                      </a:lnTo>
                      <a:lnTo>
                        <a:pt x="8" y="538"/>
                      </a:lnTo>
                      <a:lnTo>
                        <a:pt x="8" y="537"/>
                      </a:lnTo>
                      <a:lnTo>
                        <a:pt x="9" y="535"/>
                      </a:lnTo>
                      <a:lnTo>
                        <a:pt x="10" y="535"/>
                      </a:lnTo>
                      <a:lnTo>
                        <a:pt x="12" y="534"/>
                      </a:lnTo>
                      <a:lnTo>
                        <a:pt x="14" y="535"/>
                      </a:lnTo>
                      <a:lnTo>
                        <a:pt x="15" y="535"/>
                      </a:lnTo>
                      <a:lnTo>
                        <a:pt x="16" y="537"/>
                      </a:lnTo>
                      <a:lnTo>
                        <a:pt x="17" y="538"/>
                      </a:lnTo>
                      <a:lnTo>
                        <a:pt x="21" y="538"/>
                      </a:lnTo>
                      <a:lnTo>
                        <a:pt x="21" y="537"/>
                      </a:lnTo>
                      <a:lnTo>
                        <a:pt x="22" y="535"/>
                      </a:lnTo>
                      <a:lnTo>
                        <a:pt x="24" y="535"/>
                      </a:lnTo>
                      <a:lnTo>
                        <a:pt x="25" y="534"/>
                      </a:lnTo>
                      <a:lnTo>
                        <a:pt x="27" y="535"/>
                      </a:lnTo>
                      <a:lnTo>
                        <a:pt x="29" y="535"/>
                      </a:lnTo>
                      <a:lnTo>
                        <a:pt x="30" y="537"/>
                      </a:lnTo>
                      <a:lnTo>
                        <a:pt x="30" y="538"/>
                      </a:lnTo>
                      <a:lnTo>
                        <a:pt x="88" y="538"/>
                      </a:lnTo>
                      <a:lnTo>
                        <a:pt x="88" y="637"/>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68080" y="2928240"/>
                  <a:ext cx="13680" cy="11880"/>
                </a:xfrm>
                <a:custGeom>
                  <a:avLst/>
                  <a:gdLst/>
                  <a:ahLst/>
                  <a:rect l="l" t="t" r="r" b="b"/>
                  <a:pathLst>
                    <a:path w="13" h="9">
                      <a:moveTo>
                        <a:pt x="2" y="0"/>
                      </a:moveTo>
                      <a:lnTo>
                        <a:pt x="13" y="4"/>
                      </a:lnTo>
                      <a:lnTo>
                        <a:pt x="2" y="9"/>
                      </a:lnTo>
                      <a:lnTo>
                        <a:pt x="0" y="7"/>
                      </a:lnTo>
                      <a:lnTo>
                        <a:pt x="0" y="4"/>
                      </a:lnTo>
                      <a:lnTo>
                        <a:pt x="0" y="2"/>
                      </a:lnTo>
                      <a:lnTo>
                        <a:pt x="2"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72" name=""/>
                <p:cNvSpPr/>
                <p:nvPr/>
              </p:nvSpPr>
              <p:spPr>
                <a:xfrm>
                  <a:off x="5923800" y="3553560"/>
                  <a:ext cx="1284840" cy="429840"/>
                </a:xfrm>
                <a:custGeom>
                  <a:avLst/>
                  <a:gdLst/>
                  <a:ahLst/>
                  <a:rect l="l" t="t" r="r" b="b"/>
                  <a:pathLst>
                    <a:path w="1214" h="322">
                      <a:moveTo>
                        <a:pt x="1214" y="6"/>
                      </a:moveTo>
                      <a:lnTo>
                        <a:pt x="1212" y="6"/>
                      </a:lnTo>
                      <a:lnTo>
                        <a:pt x="1212" y="5"/>
                      </a:lnTo>
                      <a:lnTo>
                        <a:pt x="1211" y="4"/>
                      </a:lnTo>
                      <a:lnTo>
                        <a:pt x="1209" y="3"/>
                      </a:lnTo>
                      <a:lnTo>
                        <a:pt x="1208" y="3"/>
                      </a:lnTo>
                      <a:lnTo>
                        <a:pt x="1206" y="3"/>
                      </a:lnTo>
                      <a:lnTo>
                        <a:pt x="1204" y="4"/>
                      </a:lnTo>
                      <a:lnTo>
                        <a:pt x="1204" y="5"/>
                      </a:lnTo>
                      <a:lnTo>
                        <a:pt x="1203" y="6"/>
                      </a:lnTo>
                      <a:lnTo>
                        <a:pt x="1200" y="6"/>
                      </a:lnTo>
                      <a:lnTo>
                        <a:pt x="1199" y="4"/>
                      </a:lnTo>
                      <a:lnTo>
                        <a:pt x="1199" y="3"/>
                      </a:lnTo>
                      <a:lnTo>
                        <a:pt x="1197" y="1"/>
                      </a:lnTo>
                      <a:lnTo>
                        <a:pt x="1195" y="0"/>
                      </a:lnTo>
                      <a:lnTo>
                        <a:pt x="1193" y="0"/>
                      </a:lnTo>
                      <a:lnTo>
                        <a:pt x="1190" y="0"/>
                      </a:lnTo>
                      <a:lnTo>
                        <a:pt x="1188" y="0"/>
                      </a:lnTo>
                      <a:lnTo>
                        <a:pt x="1186" y="1"/>
                      </a:lnTo>
                      <a:lnTo>
                        <a:pt x="1184" y="3"/>
                      </a:lnTo>
                      <a:lnTo>
                        <a:pt x="1183" y="4"/>
                      </a:lnTo>
                      <a:lnTo>
                        <a:pt x="1183" y="6"/>
                      </a:lnTo>
                      <a:lnTo>
                        <a:pt x="1174" y="6"/>
                      </a:lnTo>
                      <a:lnTo>
                        <a:pt x="1173" y="5"/>
                      </a:lnTo>
                      <a:lnTo>
                        <a:pt x="1173" y="4"/>
                      </a:lnTo>
                      <a:lnTo>
                        <a:pt x="1171" y="3"/>
                      </a:lnTo>
                      <a:lnTo>
                        <a:pt x="1169" y="3"/>
                      </a:lnTo>
                      <a:lnTo>
                        <a:pt x="1168" y="3"/>
                      </a:lnTo>
                      <a:lnTo>
                        <a:pt x="1166" y="4"/>
                      </a:lnTo>
                      <a:lnTo>
                        <a:pt x="1165" y="5"/>
                      </a:lnTo>
                      <a:lnTo>
                        <a:pt x="1165" y="6"/>
                      </a:lnTo>
                      <a:lnTo>
                        <a:pt x="1122" y="6"/>
                      </a:lnTo>
                      <a:lnTo>
                        <a:pt x="1122" y="5"/>
                      </a:lnTo>
                      <a:lnTo>
                        <a:pt x="1121" y="4"/>
                      </a:lnTo>
                      <a:lnTo>
                        <a:pt x="1119" y="3"/>
                      </a:lnTo>
                      <a:lnTo>
                        <a:pt x="1118" y="3"/>
                      </a:lnTo>
                      <a:lnTo>
                        <a:pt x="1116" y="3"/>
                      </a:lnTo>
                      <a:lnTo>
                        <a:pt x="1114" y="4"/>
                      </a:lnTo>
                      <a:lnTo>
                        <a:pt x="1114" y="5"/>
                      </a:lnTo>
                      <a:lnTo>
                        <a:pt x="1113" y="6"/>
                      </a:lnTo>
                      <a:lnTo>
                        <a:pt x="1107" y="6"/>
                      </a:lnTo>
                      <a:lnTo>
                        <a:pt x="1107" y="5"/>
                      </a:lnTo>
                      <a:lnTo>
                        <a:pt x="1106" y="4"/>
                      </a:lnTo>
                      <a:lnTo>
                        <a:pt x="1105" y="3"/>
                      </a:lnTo>
                      <a:lnTo>
                        <a:pt x="1103" y="3"/>
                      </a:lnTo>
                      <a:lnTo>
                        <a:pt x="1101" y="3"/>
                      </a:lnTo>
                      <a:lnTo>
                        <a:pt x="1100" y="4"/>
                      </a:lnTo>
                      <a:lnTo>
                        <a:pt x="1099" y="5"/>
                      </a:lnTo>
                      <a:lnTo>
                        <a:pt x="1098" y="6"/>
                      </a:lnTo>
                      <a:lnTo>
                        <a:pt x="1087" y="6"/>
                      </a:lnTo>
                      <a:lnTo>
                        <a:pt x="1087" y="5"/>
                      </a:lnTo>
                      <a:lnTo>
                        <a:pt x="1086" y="4"/>
                      </a:lnTo>
                      <a:lnTo>
                        <a:pt x="1084" y="3"/>
                      </a:lnTo>
                      <a:lnTo>
                        <a:pt x="1083" y="3"/>
                      </a:lnTo>
                      <a:lnTo>
                        <a:pt x="1081" y="3"/>
                      </a:lnTo>
                      <a:lnTo>
                        <a:pt x="1079" y="4"/>
                      </a:lnTo>
                      <a:lnTo>
                        <a:pt x="1079" y="5"/>
                      </a:lnTo>
                      <a:lnTo>
                        <a:pt x="1078" y="6"/>
                      </a:lnTo>
                      <a:lnTo>
                        <a:pt x="1074" y="6"/>
                      </a:lnTo>
                      <a:lnTo>
                        <a:pt x="1073" y="5"/>
                      </a:lnTo>
                      <a:lnTo>
                        <a:pt x="1072" y="4"/>
                      </a:lnTo>
                      <a:lnTo>
                        <a:pt x="1071" y="3"/>
                      </a:lnTo>
                      <a:lnTo>
                        <a:pt x="1069" y="3"/>
                      </a:lnTo>
                      <a:lnTo>
                        <a:pt x="1067" y="3"/>
                      </a:lnTo>
                      <a:lnTo>
                        <a:pt x="1066" y="4"/>
                      </a:lnTo>
                      <a:lnTo>
                        <a:pt x="1065" y="5"/>
                      </a:lnTo>
                      <a:lnTo>
                        <a:pt x="1065" y="6"/>
                      </a:lnTo>
                      <a:lnTo>
                        <a:pt x="1052" y="6"/>
                      </a:lnTo>
                      <a:lnTo>
                        <a:pt x="1051" y="5"/>
                      </a:lnTo>
                      <a:lnTo>
                        <a:pt x="1050" y="4"/>
                      </a:lnTo>
                      <a:lnTo>
                        <a:pt x="1049" y="3"/>
                      </a:lnTo>
                      <a:lnTo>
                        <a:pt x="1047" y="3"/>
                      </a:lnTo>
                      <a:lnTo>
                        <a:pt x="1045" y="3"/>
                      </a:lnTo>
                      <a:lnTo>
                        <a:pt x="1044" y="4"/>
                      </a:lnTo>
                      <a:lnTo>
                        <a:pt x="1043" y="5"/>
                      </a:lnTo>
                      <a:lnTo>
                        <a:pt x="1043" y="6"/>
                      </a:lnTo>
                      <a:lnTo>
                        <a:pt x="1040" y="6"/>
                      </a:lnTo>
                      <a:lnTo>
                        <a:pt x="1039" y="5"/>
                      </a:lnTo>
                      <a:lnTo>
                        <a:pt x="1039" y="4"/>
                      </a:lnTo>
                      <a:lnTo>
                        <a:pt x="1037" y="3"/>
                      </a:lnTo>
                      <a:lnTo>
                        <a:pt x="1035" y="3"/>
                      </a:lnTo>
                      <a:lnTo>
                        <a:pt x="1034" y="3"/>
                      </a:lnTo>
                      <a:lnTo>
                        <a:pt x="1032" y="4"/>
                      </a:lnTo>
                      <a:lnTo>
                        <a:pt x="1031" y="5"/>
                      </a:lnTo>
                      <a:lnTo>
                        <a:pt x="1031" y="6"/>
                      </a:lnTo>
                      <a:lnTo>
                        <a:pt x="1025" y="6"/>
                      </a:lnTo>
                      <a:lnTo>
                        <a:pt x="1024" y="5"/>
                      </a:lnTo>
                      <a:lnTo>
                        <a:pt x="1023" y="4"/>
                      </a:lnTo>
                      <a:lnTo>
                        <a:pt x="1022" y="3"/>
                      </a:lnTo>
                      <a:lnTo>
                        <a:pt x="1020" y="3"/>
                      </a:lnTo>
                      <a:lnTo>
                        <a:pt x="1018" y="3"/>
                      </a:lnTo>
                      <a:lnTo>
                        <a:pt x="1017" y="4"/>
                      </a:lnTo>
                      <a:lnTo>
                        <a:pt x="1016" y="5"/>
                      </a:lnTo>
                      <a:lnTo>
                        <a:pt x="1016" y="6"/>
                      </a:lnTo>
                      <a:lnTo>
                        <a:pt x="1012" y="6"/>
                      </a:lnTo>
                      <a:lnTo>
                        <a:pt x="1011" y="5"/>
                      </a:lnTo>
                      <a:lnTo>
                        <a:pt x="1010" y="4"/>
                      </a:lnTo>
                      <a:lnTo>
                        <a:pt x="1009" y="3"/>
                      </a:lnTo>
                      <a:lnTo>
                        <a:pt x="1007" y="3"/>
                      </a:lnTo>
                      <a:lnTo>
                        <a:pt x="1005" y="3"/>
                      </a:lnTo>
                      <a:lnTo>
                        <a:pt x="1004" y="4"/>
                      </a:lnTo>
                      <a:lnTo>
                        <a:pt x="1003" y="5"/>
                      </a:lnTo>
                      <a:lnTo>
                        <a:pt x="1003" y="6"/>
                      </a:lnTo>
                      <a:lnTo>
                        <a:pt x="974" y="6"/>
                      </a:lnTo>
                      <a:lnTo>
                        <a:pt x="974" y="4"/>
                      </a:lnTo>
                      <a:lnTo>
                        <a:pt x="973" y="3"/>
                      </a:lnTo>
                      <a:lnTo>
                        <a:pt x="971" y="1"/>
                      </a:lnTo>
                      <a:lnTo>
                        <a:pt x="969" y="0"/>
                      </a:lnTo>
                      <a:lnTo>
                        <a:pt x="967" y="0"/>
                      </a:lnTo>
                      <a:lnTo>
                        <a:pt x="964" y="0"/>
                      </a:lnTo>
                      <a:lnTo>
                        <a:pt x="962" y="0"/>
                      </a:lnTo>
                      <a:lnTo>
                        <a:pt x="960" y="1"/>
                      </a:lnTo>
                      <a:lnTo>
                        <a:pt x="958" y="3"/>
                      </a:lnTo>
                      <a:lnTo>
                        <a:pt x="957" y="4"/>
                      </a:lnTo>
                      <a:lnTo>
                        <a:pt x="957" y="6"/>
                      </a:lnTo>
                      <a:lnTo>
                        <a:pt x="933" y="6"/>
                      </a:lnTo>
                      <a:lnTo>
                        <a:pt x="933" y="5"/>
                      </a:lnTo>
                      <a:lnTo>
                        <a:pt x="932" y="4"/>
                      </a:lnTo>
                      <a:lnTo>
                        <a:pt x="931" y="3"/>
                      </a:lnTo>
                      <a:lnTo>
                        <a:pt x="929" y="3"/>
                      </a:lnTo>
                      <a:lnTo>
                        <a:pt x="927" y="3"/>
                      </a:lnTo>
                      <a:lnTo>
                        <a:pt x="926" y="4"/>
                      </a:lnTo>
                      <a:lnTo>
                        <a:pt x="925" y="5"/>
                      </a:lnTo>
                      <a:lnTo>
                        <a:pt x="925" y="6"/>
                      </a:lnTo>
                      <a:lnTo>
                        <a:pt x="889" y="6"/>
                      </a:lnTo>
                      <a:lnTo>
                        <a:pt x="889" y="5"/>
                      </a:lnTo>
                      <a:lnTo>
                        <a:pt x="888" y="4"/>
                      </a:lnTo>
                      <a:lnTo>
                        <a:pt x="887" y="3"/>
                      </a:lnTo>
                      <a:lnTo>
                        <a:pt x="885" y="3"/>
                      </a:lnTo>
                      <a:lnTo>
                        <a:pt x="883" y="3"/>
                      </a:lnTo>
                      <a:lnTo>
                        <a:pt x="882" y="4"/>
                      </a:lnTo>
                      <a:lnTo>
                        <a:pt x="881" y="5"/>
                      </a:lnTo>
                      <a:lnTo>
                        <a:pt x="881" y="6"/>
                      </a:lnTo>
                      <a:lnTo>
                        <a:pt x="776" y="6"/>
                      </a:lnTo>
                      <a:lnTo>
                        <a:pt x="775" y="5"/>
                      </a:lnTo>
                      <a:lnTo>
                        <a:pt x="774" y="4"/>
                      </a:lnTo>
                      <a:lnTo>
                        <a:pt x="773" y="3"/>
                      </a:lnTo>
                      <a:lnTo>
                        <a:pt x="771" y="3"/>
                      </a:lnTo>
                      <a:lnTo>
                        <a:pt x="769" y="3"/>
                      </a:lnTo>
                      <a:lnTo>
                        <a:pt x="768" y="4"/>
                      </a:lnTo>
                      <a:lnTo>
                        <a:pt x="767" y="5"/>
                      </a:lnTo>
                      <a:lnTo>
                        <a:pt x="767" y="6"/>
                      </a:lnTo>
                      <a:lnTo>
                        <a:pt x="765" y="6"/>
                      </a:lnTo>
                      <a:lnTo>
                        <a:pt x="764" y="5"/>
                      </a:lnTo>
                      <a:lnTo>
                        <a:pt x="763" y="4"/>
                      </a:lnTo>
                      <a:lnTo>
                        <a:pt x="762" y="3"/>
                      </a:lnTo>
                      <a:lnTo>
                        <a:pt x="760" y="3"/>
                      </a:lnTo>
                      <a:lnTo>
                        <a:pt x="759" y="3"/>
                      </a:lnTo>
                      <a:lnTo>
                        <a:pt x="757" y="4"/>
                      </a:lnTo>
                      <a:lnTo>
                        <a:pt x="756" y="5"/>
                      </a:lnTo>
                      <a:lnTo>
                        <a:pt x="756" y="6"/>
                      </a:lnTo>
                      <a:lnTo>
                        <a:pt x="648" y="6"/>
                      </a:lnTo>
                      <a:lnTo>
                        <a:pt x="648" y="5"/>
                      </a:lnTo>
                      <a:lnTo>
                        <a:pt x="646" y="4"/>
                      </a:lnTo>
                      <a:lnTo>
                        <a:pt x="645" y="3"/>
                      </a:lnTo>
                      <a:lnTo>
                        <a:pt x="643" y="3"/>
                      </a:lnTo>
                      <a:lnTo>
                        <a:pt x="642" y="3"/>
                      </a:lnTo>
                      <a:lnTo>
                        <a:pt x="640" y="4"/>
                      </a:lnTo>
                      <a:lnTo>
                        <a:pt x="639" y="5"/>
                      </a:lnTo>
                      <a:lnTo>
                        <a:pt x="639" y="6"/>
                      </a:lnTo>
                      <a:lnTo>
                        <a:pt x="638" y="6"/>
                      </a:lnTo>
                      <a:lnTo>
                        <a:pt x="637" y="5"/>
                      </a:lnTo>
                      <a:lnTo>
                        <a:pt x="637" y="3"/>
                      </a:lnTo>
                      <a:lnTo>
                        <a:pt x="635" y="2"/>
                      </a:lnTo>
                      <a:lnTo>
                        <a:pt x="634" y="2"/>
                      </a:lnTo>
                      <a:lnTo>
                        <a:pt x="632" y="2"/>
                      </a:lnTo>
                      <a:lnTo>
                        <a:pt x="630" y="2"/>
                      </a:lnTo>
                      <a:lnTo>
                        <a:pt x="628" y="2"/>
                      </a:lnTo>
                      <a:lnTo>
                        <a:pt x="627" y="3"/>
                      </a:lnTo>
                      <a:lnTo>
                        <a:pt x="626" y="5"/>
                      </a:lnTo>
                      <a:lnTo>
                        <a:pt x="626" y="6"/>
                      </a:lnTo>
                      <a:lnTo>
                        <a:pt x="612" y="6"/>
                      </a:lnTo>
                      <a:lnTo>
                        <a:pt x="612" y="5"/>
                      </a:lnTo>
                      <a:lnTo>
                        <a:pt x="611" y="4"/>
                      </a:lnTo>
                      <a:lnTo>
                        <a:pt x="609" y="3"/>
                      </a:lnTo>
                      <a:lnTo>
                        <a:pt x="608" y="3"/>
                      </a:lnTo>
                      <a:lnTo>
                        <a:pt x="606" y="3"/>
                      </a:lnTo>
                      <a:lnTo>
                        <a:pt x="605" y="4"/>
                      </a:lnTo>
                      <a:lnTo>
                        <a:pt x="603" y="5"/>
                      </a:lnTo>
                      <a:lnTo>
                        <a:pt x="603" y="6"/>
                      </a:lnTo>
                      <a:lnTo>
                        <a:pt x="565" y="6"/>
                      </a:lnTo>
                      <a:lnTo>
                        <a:pt x="565" y="5"/>
                      </a:lnTo>
                      <a:lnTo>
                        <a:pt x="564" y="4"/>
                      </a:lnTo>
                      <a:lnTo>
                        <a:pt x="563" y="3"/>
                      </a:lnTo>
                      <a:lnTo>
                        <a:pt x="561" y="3"/>
                      </a:lnTo>
                      <a:lnTo>
                        <a:pt x="559" y="3"/>
                      </a:lnTo>
                      <a:lnTo>
                        <a:pt x="558" y="4"/>
                      </a:lnTo>
                      <a:lnTo>
                        <a:pt x="557" y="5"/>
                      </a:lnTo>
                      <a:lnTo>
                        <a:pt x="556" y="6"/>
                      </a:lnTo>
                      <a:lnTo>
                        <a:pt x="554" y="6"/>
                      </a:lnTo>
                      <a:lnTo>
                        <a:pt x="553" y="5"/>
                      </a:lnTo>
                      <a:lnTo>
                        <a:pt x="552" y="4"/>
                      </a:lnTo>
                      <a:lnTo>
                        <a:pt x="551" y="3"/>
                      </a:lnTo>
                      <a:lnTo>
                        <a:pt x="549" y="3"/>
                      </a:lnTo>
                      <a:lnTo>
                        <a:pt x="547" y="3"/>
                      </a:lnTo>
                      <a:lnTo>
                        <a:pt x="546" y="4"/>
                      </a:lnTo>
                      <a:lnTo>
                        <a:pt x="545" y="5"/>
                      </a:lnTo>
                      <a:lnTo>
                        <a:pt x="545" y="6"/>
                      </a:lnTo>
                      <a:lnTo>
                        <a:pt x="528" y="6"/>
                      </a:lnTo>
                      <a:lnTo>
                        <a:pt x="528" y="5"/>
                      </a:lnTo>
                      <a:lnTo>
                        <a:pt x="527" y="4"/>
                      </a:lnTo>
                      <a:lnTo>
                        <a:pt x="525" y="3"/>
                      </a:lnTo>
                      <a:lnTo>
                        <a:pt x="524" y="3"/>
                      </a:lnTo>
                      <a:lnTo>
                        <a:pt x="522" y="3"/>
                      </a:lnTo>
                      <a:lnTo>
                        <a:pt x="521" y="4"/>
                      </a:lnTo>
                      <a:lnTo>
                        <a:pt x="520" y="5"/>
                      </a:lnTo>
                      <a:lnTo>
                        <a:pt x="519" y="6"/>
                      </a:lnTo>
                      <a:lnTo>
                        <a:pt x="493" y="6"/>
                      </a:lnTo>
                      <a:lnTo>
                        <a:pt x="492" y="5"/>
                      </a:lnTo>
                      <a:lnTo>
                        <a:pt x="491" y="4"/>
                      </a:lnTo>
                      <a:lnTo>
                        <a:pt x="490" y="3"/>
                      </a:lnTo>
                      <a:lnTo>
                        <a:pt x="488" y="3"/>
                      </a:lnTo>
                      <a:lnTo>
                        <a:pt x="487" y="3"/>
                      </a:lnTo>
                      <a:lnTo>
                        <a:pt x="485" y="4"/>
                      </a:lnTo>
                      <a:lnTo>
                        <a:pt x="484" y="5"/>
                      </a:lnTo>
                      <a:lnTo>
                        <a:pt x="484" y="6"/>
                      </a:lnTo>
                      <a:lnTo>
                        <a:pt x="434" y="6"/>
                      </a:lnTo>
                      <a:lnTo>
                        <a:pt x="434" y="322"/>
                      </a:lnTo>
                      <a:lnTo>
                        <a:pt x="423" y="322"/>
                      </a:lnTo>
                      <a:lnTo>
                        <a:pt x="423" y="321"/>
                      </a:lnTo>
                      <a:lnTo>
                        <a:pt x="422" y="320"/>
                      </a:lnTo>
                      <a:lnTo>
                        <a:pt x="421" y="319"/>
                      </a:lnTo>
                      <a:lnTo>
                        <a:pt x="419" y="319"/>
                      </a:lnTo>
                      <a:lnTo>
                        <a:pt x="417" y="319"/>
                      </a:lnTo>
                      <a:lnTo>
                        <a:pt x="416" y="320"/>
                      </a:lnTo>
                      <a:lnTo>
                        <a:pt x="415" y="321"/>
                      </a:lnTo>
                      <a:lnTo>
                        <a:pt x="415" y="322"/>
                      </a:lnTo>
                      <a:lnTo>
                        <a:pt x="412" y="322"/>
                      </a:lnTo>
                      <a:lnTo>
                        <a:pt x="411" y="321"/>
                      </a:lnTo>
                      <a:lnTo>
                        <a:pt x="410" y="320"/>
                      </a:lnTo>
                      <a:lnTo>
                        <a:pt x="409" y="319"/>
                      </a:lnTo>
                      <a:lnTo>
                        <a:pt x="407" y="319"/>
                      </a:lnTo>
                      <a:lnTo>
                        <a:pt x="405" y="319"/>
                      </a:lnTo>
                      <a:lnTo>
                        <a:pt x="404" y="320"/>
                      </a:lnTo>
                      <a:lnTo>
                        <a:pt x="403" y="321"/>
                      </a:lnTo>
                      <a:lnTo>
                        <a:pt x="403" y="322"/>
                      </a:lnTo>
                      <a:lnTo>
                        <a:pt x="399" y="322"/>
                      </a:lnTo>
                      <a:lnTo>
                        <a:pt x="399" y="321"/>
                      </a:lnTo>
                      <a:lnTo>
                        <a:pt x="398" y="320"/>
                      </a:lnTo>
                      <a:lnTo>
                        <a:pt x="396" y="319"/>
                      </a:lnTo>
                      <a:lnTo>
                        <a:pt x="395" y="319"/>
                      </a:lnTo>
                      <a:lnTo>
                        <a:pt x="393" y="319"/>
                      </a:lnTo>
                      <a:lnTo>
                        <a:pt x="391" y="320"/>
                      </a:lnTo>
                      <a:lnTo>
                        <a:pt x="391" y="321"/>
                      </a:lnTo>
                      <a:lnTo>
                        <a:pt x="390" y="322"/>
                      </a:lnTo>
                      <a:lnTo>
                        <a:pt x="277" y="322"/>
                      </a:lnTo>
                      <a:lnTo>
                        <a:pt x="276" y="321"/>
                      </a:lnTo>
                      <a:lnTo>
                        <a:pt x="275" y="320"/>
                      </a:lnTo>
                      <a:lnTo>
                        <a:pt x="274" y="319"/>
                      </a:lnTo>
                      <a:lnTo>
                        <a:pt x="272" y="319"/>
                      </a:lnTo>
                      <a:lnTo>
                        <a:pt x="270" y="319"/>
                      </a:lnTo>
                      <a:lnTo>
                        <a:pt x="269" y="320"/>
                      </a:lnTo>
                      <a:lnTo>
                        <a:pt x="268" y="321"/>
                      </a:lnTo>
                      <a:lnTo>
                        <a:pt x="268" y="322"/>
                      </a:lnTo>
                      <a:lnTo>
                        <a:pt x="124" y="322"/>
                      </a:lnTo>
                      <a:lnTo>
                        <a:pt x="124" y="321"/>
                      </a:lnTo>
                      <a:lnTo>
                        <a:pt x="123" y="320"/>
                      </a:lnTo>
                      <a:lnTo>
                        <a:pt x="121" y="319"/>
                      </a:lnTo>
                      <a:lnTo>
                        <a:pt x="119" y="319"/>
                      </a:lnTo>
                      <a:lnTo>
                        <a:pt x="118" y="319"/>
                      </a:lnTo>
                      <a:lnTo>
                        <a:pt x="116" y="320"/>
                      </a:lnTo>
                      <a:lnTo>
                        <a:pt x="115" y="321"/>
                      </a:lnTo>
                      <a:lnTo>
                        <a:pt x="115" y="322"/>
                      </a:lnTo>
                      <a:lnTo>
                        <a:pt x="108" y="322"/>
                      </a:lnTo>
                      <a:lnTo>
                        <a:pt x="108" y="321"/>
                      </a:lnTo>
                      <a:lnTo>
                        <a:pt x="107" y="320"/>
                      </a:lnTo>
                      <a:lnTo>
                        <a:pt x="106" y="319"/>
                      </a:lnTo>
                      <a:lnTo>
                        <a:pt x="104" y="319"/>
                      </a:lnTo>
                      <a:lnTo>
                        <a:pt x="102" y="319"/>
                      </a:lnTo>
                      <a:lnTo>
                        <a:pt x="101" y="320"/>
                      </a:lnTo>
                      <a:lnTo>
                        <a:pt x="100" y="321"/>
                      </a:lnTo>
                      <a:lnTo>
                        <a:pt x="99" y="322"/>
                      </a:lnTo>
                      <a:lnTo>
                        <a:pt x="61" y="322"/>
                      </a:lnTo>
                      <a:lnTo>
                        <a:pt x="60" y="321"/>
                      </a:lnTo>
                      <a:lnTo>
                        <a:pt x="59" y="320"/>
                      </a:lnTo>
                      <a:lnTo>
                        <a:pt x="58" y="319"/>
                      </a:lnTo>
                      <a:lnTo>
                        <a:pt x="56" y="319"/>
                      </a:lnTo>
                      <a:lnTo>
                        <a:pt x="54" y="319"/>
                      </a:lnTo>
                      <a:lnTo>
                        <a:pt x="53" y="320"/>
                      </a:lnTo>
                      <a:lnTo>
                        <a:pt x="52" y="321"/>
                      </a:lnTo>
                      <a:lnTo>
                        <a:pt x="52" y="322"/>
                      </a:lnTo>
                      <a:lnTo>
                        <a:pt x="38" y="322"/>
                      </a:lnTo>
                      <a:lnTo>
                        <a:pt x="38" y="321"/>
                      </a:lnTo>
                      <a:lnTo>
                        <a:pt x="37" y="320"/>
                      </a:lnTo>
                      <a:lnTo>
                        <a:pt x="35" y="319"/>
                      </a:lnTo>
                      <a:lnTo>
                        <a:pt x="34" y="319"/>
                      </a:lnTo>
                      <a:lnTo>
                        <a:pt x="32" y="319"/>
                      </a:lnTo>
                      <a:lnTo>
                        <a:pt x="30" y="320"/>
                      </a:lnTo>
                      <a:lnTo>
                        <a:pt x="29" y="321"/>
                      </a:lnTo>
                      <a:lnTo>
                        <a:pt x="29" y="322"/>
                      </a:lnTo>
                      <a:lnTo>
                        <a:pt x="20" y="322"/>
                      </a:lnTo>
                      <a:lnTo>
                        <a:pt x="20" y="321"/>
                      </a:lnTo>
                      <a:lnTo>
                        <a:pt x="19" y="320"/>
                      </a:lnTo>
                      <a:lnTo>
                        <a:pt x="17" y="319"/>
                      </a:lnTo>
                      <a:lnTo>
                        <a:pt x="16" y="319"/>
                      </a:lnTo>
                      <a:lnTo>
                        <a:pt x="14" y="319"/>
                      </a:lnTo>
                      <a:lnTo>
                        <a:pt x="12" y="320"/>
                      </a:lnTo>
                      <a:lnTo>
                        <a:pt x="11" y="321"/>
                      </a:lnTo>
                      <a:lnTo>
                        <a:pt x="11" y="322"/>
                      </a:lnTo>
                      <a:lnTo>
                        <a:pt x="0" y="322"/>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7195320" y="355608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74" name=""/>
                <p:cNvSpPr/>
                <p:nvPr/>
              </p:nvSpPr>
              <p:spPr>
                <a:xfrm>
                  <a:off x="5923800" y="397800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75" name=""/>
                <p:cNvSpPr/>
                <p:nvPr/>
              </p:nvSpPr>
              <p:spPr>
                <a:xfrm>
                  <a:off x="5659200" y="3704400"/>
                  <a:ext cx="1896120" cy="54720"/>
                </a:xfrm>
                <a:custGeom>
                  <a:avLst/>
                  <a:gdLst/>
                  <a:ahLst/>
                  <a:rect l="l" t="t" r="r" b="b"/>
                  <a:pathLst>
                    <a:path w="1791" h="41">
                      <a:moveTo>
                        <a:pt x="1791" y="6"/>
                      </a:moveTo>
                      <a:lnTo>
                        <a:pt x="1790" y="6"/>
                      </a:lnTo>
                      <a:lnTo>
                        <a:pt x="1789" y="5"/>
                      </a:lnTo>
                      <a:lnTo>
                        <a:pt x="1789" y="3"/>
                      </a:lnTo>
                      <a:lnTo>
                        <a:pt x="1787" y="2"/>
                      </a:lnTo>
                      <a:lnTo>
                        <a:pt x="1785" y="1"/>
                      </a:lnTo>
                      <a:lnTo>
                        <a:pt x="1783" y="1"/>
                      </a:lnTo>
                      <a:lnTo>
                        <a:pt x="1781" y="1"/>
                      </a:lnTo>
                      <a:lnTo>
                        <a:pt x="1779" y="2"/>
                      </a:lnTo>
                      <a:lnTo>
                        <a:pt x="1778" y="3"/>
                      </a:lnTo>
                      <a:lnTo>
                        <a:pt x="1777" y="5"/>
                      </a:lnTo>
                      <a:lnTo>
                        <a:pt x="1776" y="6"/>
                      </a:lnTo>
                      <a:lnTo>
                        <a:pt x="1774" y="6"/>
                      </a:lnTo>
                      <a:lnTo>
                        <a:pt x="1774" y="5"/>
                      </a:lnTo>
                      <a:lnTo>
                        <a:pt x="1773" y="4"/>
                      </a:lnTo>
                      <a:lnTo>
                        <a:pt x="1771" y="3"/>
                      </a:lnTo>
                      <a:lnTo>
                        <a:pt x="1770" y="3"/>
                      </a:lnTo>
                      <a:lnTo>
                        <a:pt x="1768" y="3"/>
                      </a:lnTo>
                      <a:lnTo>
                        <a:pt x="1766" y="4"/>
                      </a:lnTo>
                      <a:lnTo>
                        <a:pt x="1765" y="5"/>
                      </a:lnTo>
                      <a:lnTo>
                        <a:pt x="1765" y="6"/>
                      </a:lnTo>
                      <a:lnTo>
                        <a:pt x="1758" y="6"/>
                      </a:lnTo>
                      <a:lnTo>
                        <a:pt x="1757" y="5"/>
                      </a:lnTo>
                      <a:lnTo>
                        <a:pt x="1756" y="4"/>
                      </a:lnTo>
                      <a:lnTo>
                        <a:pt x="1755" y="3"/>
                      </a:lnTo>
                      <a:lnTo>
                        <a:pt x="1753" y="3"/>
                      </a:lnTo>
                      <a:lnTo>
                        <a:pt x="1751" y="3"/>
                      </a:lnTo>
                      <a:lnTo>
                        <a:pt x="1750" y="4"/>
                      </a:lnTo>
                      <a:lnTo>
                        <a:pt x="1749" y="5"/>
                      </a:lnTo>
                      <a:lnTo>
                        <a:pt x="1749" y="6"/>
                      </a:lnTo>
                      <a:lnTo>
                        <a:pt x="1742" y="6"/>
                      </a:lnTo>
                      <a:lnTo>
                        <a:pt x="1742" y="5"/>
                      </a:lnTo>
                      <a:lnTo>
                        <a:pt x="1741" y="3"/>
                      </a:lnTo>
                      <a:lnTo>
                        <a:pt x="1739" y="2"/>
                      </a:lnTo>
                      <a:lnTo>
                        <a:pt x="1737" y="1"/>
                      </a:lnTo>
                      <a:lnTo>
                        <a:pt x="1735" y="1"/>
                      </a:lnTo>
                      <a:lnTo>
                        <a:pt x="1733" y="1"/>
                      </a:lnTo>
                      <a:lnTo>
                        <a:pt x="1731" y="1"/>
                      </a:lnTo>
                      <a:lnTo>
                        <a:pt x="1729" y="2"/>
                      </a:lnTo>
                      <a:lnTo>
                        <a:pt x="1728" y="3"/>
                      </a:lnTo>
                      <a:lnTo>
                        <a:pt x="1727" y="5"/>
                      </a:lnTo>
                      <a:lnTo>
                        <a:pt x="1727" y="6"/>
                      </a:lnTo>
                      <a:lnTo>
                        <a:pt x="1726" y="6"/>
                      </a:lnTo>
                      <a:lnTo>
                        <a:pt x="1725" y="5"/>
                      </a:lnTo>
                      <a:lnTo>
                        <a:pt x="1724" y="4"/>
                      </a:lnTo>
                      <a:lnTo>
                        <a:pt x="1723" y="3"/>
                      </a:lnTo>
                      <a:lnTo>
                        <a:pt x="1721" y="3"/>
                      </a:lnTo>
                      <a:lnTo>
                        <a:pt x="1719" y="3"/>
                      </a:lnTo>
                      <a:lnTo>
                        <a:pt x="1718" y="4"/>
                      </a:lnTo>
                      <a:lnTo>
                        <a:pt x="1717" y="5"/>
                      </a:lnTo>
                      <a:lnTo>
                        <a:pt x="1717" y="6"/>
                      </a:lnTo>
                      <a:lnTo>
                        <a:pt x="1710" y="6"/>
                      </a:lnTo>
                      <a:lnTo>
                        <a:pt x="1709" y="5"/>
                      </a:lnTo>
                      <a:lnTo>
                        <a:pt x="1708" y="4"/>
                      </a:lnTo>
                      <a:lnTo>
                        <a:pt x="1707" y="3"/>
                      </a:lnTo>
                      <a:lnTo>
                        <a:pt x="1705" y="3"/>
                      </a:lnTo>
                      <a:lnTo>
                        <a:pt x="1703" y="3"/>
                      </a:lnTo>
                      <a:lnTo>
                        <a:pt x="1702" y="4"/>
                      </a:lnTo>
                      <a:lnTo>
                        <a:pt x="1701" y="5"/>
                      </a:lnTo>
                      <a:lnTo>
                        <a:pt x="1701" y="6"/>
                      </a:lnTo>
                      <a:lnTo>
                        <a:pt x="1486" y="6"/>
                      </a:lnTo>
                      <a:lnTo>
                        <a:pt x="1485" y="5"/>
                      </a:lnTo>
                      <a:lnTo>
                        <a:pt x="1484" y="4"/>
                      </a:lnTo>
                      <a:lnTo>
                        <a:pt x="1483" y="3"/>
                      </a:lnTo>
                      <a:lnTo>
                        <a:pt x="1481" y="3"/>
                      </a:lnTo>
                      <a:lnTo>
                        <a:pt x="1480" y="3"/>
                      </a:lnTo>
                      <a:lnTo>
                        <a:pt x="1478" y="4"/>
                      </a:lnTo>
                      <a:lnTo>
                        <a:pt x="1477" y="5"/>
                      </a:lnTo>
                      <a:lnTo>
                        <a:pt x="1477" y="6"/>
                      </a:lnTo>
                      <a:lnTo>
                        <a:pt x="1462" y="6"/>
                      </a:lnTo>
                      <a:lnTo>
                        <a:pt x="1462" y="5"/>
                      </a:lnTo>
                      <a:lnTo>
                        <a:pt x="1461" y="4"/>
                      </a:lnTo>
                      <a:lnTo>
                        <a:pt x="1459" y="3"/>
                      </a:lnTo>
                      <a:lnTo>
                        <a:pt x="1458" y="3"/>
                      </a:lnTo>
                      <a:lnTo>
                        <a:pt x="1456" y="3"/>
                      </a:lnTo>
                      <a:lnTo>
                        <a:pt x="1454" y="4"/>
                      </a:lnTo>
                      <a:lnTo>
                        <a:pt x="1454" y="5"/>
                      </a:lnTo>
                      <a:lnTo>
                        <a:pt x="1453" y="6"/>
                      </a:lnTo>
                      <a:lnTo>
                        <a:pt x="1450" y="6"/>
                      </a:lnTo>
                      <a:lnTo>
                        <a:pt x="1449" y="4"/>
                      </a:lnTo>
                      <a:lnTo>
                        <a:pt x="1449" y="3"/>
                      </a:lnTo>
                      <a:lnTo>
                        <a:pt x="1447" y="1"/>
                      </a:lnTo>
                      <a:lnTo>
                        <a:pt x="1445" y="0"/>
                      </a:lnTo>
                      <a:lnTo>
                        <a:pt x="1443" y="0"/>
                      </a:lnTo>
                      <a:lnTo>
                        <a:pt x="1440" y="0"/>
                      </a:lnTo>
                      <a:lnTo>
                        <a:pt x="1438" y="0"/>
                      </a:lnTo>
                      <a:lnTo>
                        <a:pt x="1436" y="1"/>
                      </a:lnTo>
                      <a:lnTo>
                        <a:pt x="1434" y="3"/>
                      </a:lnTo>
                      <a:lnTo>
                        <a:pt x="1433" y="4"/>
                      </a:lnTo>
                      <a:lnTo>
                        <a:pt x="1433" y="6"/>
                      </a:lnTo>
                      <a:lnTo>
                        <a:pt x="1424" y="6"/>
                      </a:lnTo>
                      <a:lnTo>
                        <a:pt x="1424" y="5"/>
                      </a:lnTo>
                      <a:lnTo>
                        <a:pt x="1423" y="4"/>
                      </a:lnTo>
                      <a:lnTo>
                        <a:pt x="1421" y="3"/>
                      </a:lnTo>
                      <a:lnTo>
                        <a:pt x="1420" y="3"/>
                      </a:lnTo>
                      <a:lnTo>
                        <a:pt x="1418" y="3"/>
                      </a:lnTo>
                      <a:lnTo>
                        <a:pt x="1416" y="4"/>
                      </a:lnTo>
                      <a:lnTo>
                        <a:pt x="1415" y="5"/>
                      </a:lnTo>
                      <a:lnTo>
                        <a:pt x="1415" y="6"/>
                      </a:lnTo>
                      <a:lnTo>
                        <a:pt x="1410" y="6"/>
                      </a:lnTo>
                      <a:lnTo>
                        <a:pt x="1409" y="5"/>
                      </a:lnTo>
                      <a:lnTo>
                        <a:pt x="1409" y="4"/>
                      </a:lnTo>
                      <a:lnTo>
                        <a:pt x="1407" y="3"/>
                      </a:lnTo>
                      <a:lnTo>
                        <a:pt x="1405" y="3"/>
                      </a:lnTo>
                      <a:lnTo>
                        <a:pt x="1404" y="3"/>
                      </a:lnTo>
                      <a:lnTo>
                        <a:pt x="1402" y="4"/>
                      </a:lnTo>
                      <a:lnTo>
                        <a:pt x="1401" y="5"/>
                      </a:lnTo>
                      <a:lnTo>
                        <a:pt x="1401" y="6"/>
                      </a:lnTo>
                      <a:lnTo>
                        <a:pt x="1372" y="6"/>
                      </a:lnTo>
                      <a:lnTo>
                        <a:pt x="1372" y="5"/>
                      </a:lnTo>
                      <a:lnTo>
                        <a:pt x="1371" y="4"/>
                      </a:lnTo>
                      <a:lnTo>
                        <a:pt x="1369" y="3"/>
                      </a:lnTo>
                      <a:lnTo>
                        <a:pt x="1368" y="3"/>
                      </a:lnTo>
                      <a:lnTo>
                        <a:pt x="1366" y="3"/>
                      </a:lnTo>
                      <a:lnTo>
                        <a:pt x="1364" y="4"/>
                      </a:lnTo>
                      <a:lnTo>
                        <a:pt x="1364" y="5"/>
                      </a:lnTo>
                      <a:lnTo>
                        <a:pt x="1363" y="6"/>
                      </a:lnTo>
                      <a:lnTo>
                        <a:pt x="1357" y="6"/>
                      </a:lnTo>
                      <a:lnTo>
                        <a:pt x="1357" y="5"/>
                      </a:lnTo>
                      <a:lnTo>
                        <a:pt x="1356" y="4"/>
                      </a:lnTo>
                      <a:lnTo>
                        <a:pt x="1355" y="3"/>
                      </a:lnTo>
                      <a:lnTo>
                        <a:pt x="1353" y="3"/>
                      </a:lnTo>
                      <a:lnTo>
                        <a:pt x="1351" y="3"/>
                      </a:lnTo>
                      <a:lnTo>
                        <a:pt x="1350" y="4"/>
                      </a:lnTo>
                      <a:lnTo>
                        <a:pt x="1349" y="5"/>
                      </a:lnTo>
                      <a:lnTo>
                        <a:pt x="1348" y="6"/>
                      </a:lnTo>
                      <a:lnTo>
                        <a:pt x="1337" y="6"/>
                      </a:lnTo>
                      <a:lnTo>
                        <a:pt x="1337" y="5"/>
                      </a:lnTo>
                      <a:lnTo>
                        <a:pt x="1336" y="4"/>
                      </a:lnTo>
                      <a:lnTo>
                        <a:pt x="1334" y="3"/>
                      </a:lnTo>
                      <a:lnTo>
                        <a:pt x="1333" y="3"/>
                      </a:lnTo>
                      <a:lnTo>
                        <a:pt x="1331" y="3"/>
                      </a:lnTo>
                      <a:lnTo>
                        <a:pt x="1329" y="4"/>
                      </a:lnTo>
                      <a:lnTo>
                        <a:pt x="1329" y="5"/>
                      </a:lnTo>
                      <a:lnTo>
                        <a:pt x="1328" y="6"/>
                      </a:lnTo>
                      <a:lnTo>
                        <a:pt x="1324" y="6"/>
                      </a:lnTo>
                      <a:lnTo>
                        <a:pt x="1323" y="5"/>
                      </a:lnTo>
                      <a:lnTo>
                        <a:pt x="1322" y="4"/>
                      </a:lnTo>
                      <a:lnTo>
                        <a:pt x="1321" y="3"/>
                      </a:lnTo>
                      <a:lnTo>
                        <a:pt x="1319" y="3"/>
                      </a:lnTo>
                      <a:lnTo>
                        <a:pt x="1317" y="3"/>
                      </a:lnTo>
                      <a:lnTo>
                        <a:pt x="1316" y="4"/>
                      </a:lnTo>
                      <a:lnTo>
                        <a:pt x="1315" y="5"/>
                      </a:lnTo>
                      <a:lnTo>
                        <a:pt x="1315" y="6"/>
                      </a:lnTo>
                      <a:lnTo>
                        <a:pt x="1290" y="6"/>
                      </a:lnTo>
                      <a:lnTo>
                        <a:pt x="1289" y="5"/>
                      </a:lnTo>
                      <a:lnTo>
                        <a:pt x="1289" y="4"/>
                      </a:lnTo>
                      <a:lnTo>
                        <a:pt x="1287" y="3"/>
                      </a:lnTo>
                      <a:lnTo>
                        <a:pt x="1285" y="3"/>
                      </a:lnTo>
                      <a:lnTo>
                        <a:pt x="1284" y="3"/>
                      </a:lnTo>
                      <a:lnTo>
                        <a:pt x="1282" y="4"/>
                      </a:lnTo>
                      <a:lnTo>
                        <a:pt x="1281" y="5"/>
                      </a:lnTo>
                      <a:lnTo>
                        <a:pt x="1281" y="6"/>
                      </a:lnTo>
                      <a:lnTo>
                        <a:pt x="1275" y="6"/>
                      </a:lnTo>
                      <a:lnTo>
                        <a:pt x="1274" y="5"/>
                      </a:lnTo>
                      <a:lnTo>
                        <a:pt x="1273" y="4"/>
                      </a:lnTo>
                      <a:lnTo>
                        <a:pt x="1272" y="3"/>
                      </a:lnTo>
                      <a:lnTo>
                        <a:pt x="1270" y="3"/>
                      </a:lnTo>
                      <a:lnTo>
                        <a:pt x="1268" y="3"/>
                      </a:lnTo>
                      <a:lnTo>
                        <a:pt x="1267" y="4"/>
                      </a:lnTo>
                      <a:lnTo>
                        <a:pt x="1266" y="5"/>
                      </a:lnTo>
                      <a:lnTo>
                        <a:pt x="1266" y="6"/>
                      </a:lnTo>
                      <a:lnTo>
                        <a:pt x="1262" y="6"/>
                      </a:lnTo>
                      <a:lnTo>
                        <a:pt x="1261" y="5"/>
                      </a:lnTo>
                      <a:lnTo>
                        <a:pt x="1260" y="4"/>
                      </a:lnTo>
                      <a:lnTo>
                        <a:pt x="1259" y="3"/>
                      </a:lnTo>
                      <a:lnTo>
                        <a:pt x="1257" y="3"/>
                      </a:lnTo>
                      <a:lnTo>
                        <a:pt x="1255" y="3"/>
                      </a:lnTo>
                      <a:lnTo>
                        <a:pt x="1254" y="4"/>
                      </a:lnTo>
                      <a:lnTo>
                        <a:pt x="1253" y="5"/>
                      </a:lnTo>
                      <a:lnTo>
                        <a:pt x="1253" y="6"/>
                      </a:lnTo>
                      <a:lnTo>
                        <a:pt x="1224" y="6"/>
                      </a:lnTo>
                      <a:lnTo>
                        <a:pt x="1224" y="4"/>
                      </a:lnTo>
                      <a:lnTo>
                        <a:pt x="1223" y="3"/>
                      </a:lnTo>
                      <a:lnTo>
                        <a:pt x="1221" y="1"/>
                      </a:lnTo>
                      <a:lnTo>
                        <a:pt x="1219" y="0"/>
                      </a:lnTo>
                      <a:lnTo>
                        <a:pt x="1217" y="0"/>
                      </a:lnTo>
                      <a:lnTo>
                        <a:pt x="1214" y="0"/>
                      </a:lnTo>
                      <a:lnTo>
                        <a:pt x="1212" y="0"/>
                      </a:lnTo>
                      <a:lnTo>
                        <a:pt x="1210" y="1"/>
                      </a:lnTo>
                      <a:lnTo>
                        <a:pt x="1208" y="3"/>
                      </a:lnTo>
                      <a:lnTo>
                        <a:pt x="1207" y="4"/>
                      </a:lnTo>
                      <a:lnTo>
                        <a:pt x="1207" y="6"/>
                      </a:lnTo>
                      <a:lnTo>
                        <a:pt x="1184" y="6"/>
                      </a:lnTo>
                      <a:lnTo>
                        <a:pt x="1183" y="5"/>
                      </a:lnTo>
                      <a:lnTo>
                        <a:pt x="1182" y="4"/>
                      </a:lnTo>
                      <a:lnTo>
                        <a:pt x="1181" y="3"/>
                      </a:lnTo>
                      <a:lnTo>
                        <a:pt x="1179" y="3"/>
                      </a:lnTo>
                      <a:lnTo>
                        <a:pt x="1177" y="3"/>
                      </a:lnTo>
                      <a:lnTo>
                        <a:pt x="1176" y="4"/>
                      </a:lnTo>
                      <a:lnTo>
                        <a:pt x="1175" y="5"/>
                      </a:lnTo>
                      <a:lnTo>
                        <a:pt x="1175" y="6"/>
                      </a:lnTo>
                      <a:lnTo>
                        <a:pt x="1140" y="6"/>
                      </a:lnTo>
                      <a:lnTo>
                        <a:pt x="1139" y="5"/>
                      </a:lnTo>
                      <a:lnTo>
                        <a:pt x="1138" y="4"/>
                      </a:lnTo>
                      <a:lnTo>
                        <a:pt x="1137" y="3"/>
                      </a:lnTo>
                      <a:lnTo>
                        <a:pt x="1135" y="3"/>
                      </a:lnTo>
                      <a:lnTo>
                        <a:pt x="1133" y="3"/>
                      </a:lnTo>
                      <a:lnTo>
                        <a:pt x="1132" y="4"/>
                      </a:lnTo>
                      <a:lnTo>
                        <a:pt x="1131" y="5"/>
                      </a:lnTo>
                      <a:lnTo>
                        <a:pt x="1131" y="6"/>
                      </a:lnTo>
                      <a:lnTo>
                        <a:pt x="964" y="6"/>
                      </a:lnTo>
                      <a:lnTo>
                        <a:pt x="964" y="5"/>
                      </a:lnTo>
                      <a:lnTo>
                        <a:pt x="963" y="4"/>
                      </a:lnTo>
                      <a:lnTo>
                        <a:pt x="961" y="3"/>
                      </a:lnTo>
                      <a:lnTo>
                        <a:pt x="960" y="3"/>
                      </a:lnTo>
                      <a:lnTo>
                        <a:pt x="958" y="3"/>
                      </a:lnTo>
                      <a:lnTo>
                        <a:pt x="956" y="4"/>
                      </a:lnTo>
                      <a:lnTo>
                        <a:pt x="955" y="5"/>
                      </a:lnTo>
                      <a:lnTo>
                        <a:pt x="955" y="6"/>
                      </a:lnTo>
                      <a:lnTo>
                        <a:pt x="912" y="6"/>
                      </a:lnTo>
                      <a:lnTo>
                        <a:pt x="911" y="5"/>
                      </a:lnTo>
                      <a:lnTo>
                        <a:pt x="910" y="4"/>
                      </a:lnTo>
                      <a:lnTo>
                        <a:pt x="909" y="3"/>
                      </a:lnTo>
                      <a:lnTo>
                        <a:pt x="907" y="3"/>
                      </a:lnTo>
                      <a:lnTo>
                        <a:pt x="905" y="3"/>
                      </a:lnTo>
                      <a:lnTo>
                        <a:pt x="904" y="4"/>
                      </a:lnTo>
                      <a:lnTo>
                        <a:pt x="903" y="5"/>
                      </a:lnTo>
                      <a:lnTo>
                        <a:pt x="903" y="6"/>
                      </a:lnTo>
                      <a:lnTo>
                        <a:pt x="888" y="6"/>
                      </a:lnTo>
                      <a:lnTo>
                        <a:pt x="887" y="5"/>
                      </a:lnTo>
                      <a:lnTo>
                        <a:pt x="887" y="4"/>
                      </a:lnTo>
                      <a:lnTo>
                        <a:pt x="885" y="3"/>
                      </a:lnTo>
                      <a:lnTo>
                        <a:pt x="883" y="3"/>
                      </a:lnTo>
                      <a:lnTo>
                        <a:pt x="882" y="3"/>
                      </a:lnTo>
                      <a:lnTo>
                        <a:pt x="880" y="4"/>
                      </a:lnTo>
                      <a:lnTo>
                        <a:pt x="879" y="5"/>
                      </a:lnTo>
                      <a:lnTo>
                        <a:pt x="879" y="6"/>
                      </a:lnTo>
                      <a:lnTo>
                        <a:pt x="815" y="6"/>
                      </a:lnTo>
                      <a:lnTo>
                        <a:pt x="815" y="5"/>
                      </a:lnTo>
                      <a:lnTo>
                        <a:pt x="814" y="4"/>
                      </a:lnTo>
                      <a:lnTo>
                        <a:pt x="813" y="3"/>
                      </a:lnTo>
                      <a:lnTo>
                        <a:pt x="811" y="3"/>
                      </a:lnTo>
                      <a:lnTo>
                        <a:pt x="809" y="3"/>
                      </a:lnTo>
                      <a:lnTo>
                        <a:pt x="808" y="4"/>
                      </a:lnTo>
                      <a:lnTo>
                        <a:pt x="807" y="5"/>
                      </a:lnTo>
                      <a:lnTo>
                        <a:pt x="806" y="6"/>
                      </a:lnTo>
                      <a:lnTo>
                        <a:pt x="804" y="6"/>
                      </a:lnTo>
                      <a:lnTo>
                        <a:pt x="803" y="5"/>
                      </a:lnTo>
                      <a:lnTo>
                        <a:pt x="802" y="4"/>
                      </a:lnTo>
                      <a:lnTo>
                        <a:pt x="801" y="3"/>
                      </a:lnTo>
                      <a:lnTo>
                        <a:pt x="799" y="3"/>
                      </a:lnTo>
                      <a:lnTo>
                        <a:pt x="797" y="3"/>
                      </a:lnTo>
                      <a:lnTo>
                        <a:pt x="796" y="4"/>
                      </a:lnTo>
                      <a:lnTo>
                        <a:pt x="795" y="5"/>
                      </a:lnTo>
                      <a:lnTo>
                        <a:pt x="795" y="6"/>
                      </a:lnTo>
                      <a:lnTo>
                        <a:pt x="743" y="6"/>
                      </a:lnTo>
                      <a:lnTo>
                        <a:pt x="742" y="5"/>
                      </a:lnTo>
                      <a:lnTo>
                        <a:pt x="741" y="4"/>
                      </a:lnTo>
                      <a:lnTo>
                        <a:pt x="740" y="3"/>
                      </a:lnTo>
                      <a:lnTo>
                        <a:pt x="738" y="3"/>
                      </a:lnTo>
                      <a:lnTo>
                        <a:pt x="737" y="3"/>
                      </a:lnTo>
                      <a:lnTo>
                        <a:pt x="735" y="4"/>
                      </a:lnTo>
                      <a:lnTo>
                        <a:pt x="734" y="5"/>
                      </a:lnTo>
                      <a:lnTo>
                        <a:pt x="734" y="6"/>
                      </a:lnTo>
                      <a:lnTo>
                        <a:pt x="689" y="6"/>
                      </a:lnTo>
                      <a:lnTo>
                        <a:pt x="688" y="5"/>
                      </a:lnTo>
                      <a:lnTo>
                        <a:pt x="687" y="4"/>
                      </a:lnTo>
                      <a:lnTo>
                        <a:pt x="686" y="3"/>
                      </a:lnTo>
                      <a:lnTo>
                        <a:pt x="684" y="3"/>
                      </a:lnTo>
                      <a:lnTo>
                        <a:pt x="682" y="3"/>
                      </a:lnTo>
                      <a:lnTo>
                        <a:pt x="681" y="4"/>
                      </a:lnTo>
                      <a:lnTo>
                        <a:pt x="680" y="5"/>
                      </a:lnTo>
                      <a:lnTo>
                        <a:pt x="680" y="6"/>
                      </a:lnTo>
                      <a:lnTo>
                        <a:pt x="679" y="6"/>
                      </a:lnTo>
                      <a:lnTo>
                        <a:pt x="678" y="5"/>
                      </a:lnTo>
                      <a:lnTo>
                        <a:pt x="677" y="3"/>
                      </a:lnTo>
                      <a:lnTo>
                        <a:pt x="676" y="2"/>
                      </a:lnTo>
                      <a:lnTo>
                        <a:pt x="674" y="1"/>
                      </a:lnTo>
                      <a:lnTo>
                        <a:pt x="672" y="1"/>
                      </a:lnTo>
                      <a:lnTo>
                        <a:pt x="670" y="1"/>
                      </a:lnTo>
                      <a:lnTo>
                        <a:pt x="668" y="2"/>
                      </a:lnTo>
                      <a:lnTo>
                        <a:pt x="666" y="3"/>
                      </a:lnTo>
                      <a:lnTo>
                        <a:pt x="665" y="5"/>
                      </a:lnTo>
                      <a:lnTo>
                        <a:pt x="665" y="6"/>
                      </a:lnTo>
                      <a:lnTo>
                        <a:pt x="662" y="6"/>
                      </a:lnTo>
                      <a:lnTo>
                        <a:pt x="661" y="5"/>
                      </a:lnTo>
                      <a:lnTo>
                        <a:pt x="660" y="4"/>
                      </a:lnTo>
                      <a:lnTo>
                        <a:pt x="659" y="3"/>
                      </a:lnTo>
                      <a:lnTo>
                        <a:pt x="657" y="3"/>
                      </a:lnTo>
                      <a:lnTo>
                        <a:pt x="655" y="3"/>
                      </a:lnTo>
                      <a:lnTo>
                        <a:pt x="654" y="4"/>
                      </a:lnTo>
                      <a:lnTo>
                        <a:pt x="653" y="5"/>
                      </a:lnTo>
                      <a:lnTo>
                        <a:pt x="653" y="6"/>
                      </a:lnTo>
                      <a:lnTo>
                        <a:pt x="602" y="6"/>
                      </a:lnTo>
                      <a:lnTo>
                        <a:pt x="602" y="5"/>
                      </a:lnTo>
                      <a:lnTo>
                        <a:pt x="601" y="4"/>
                      </a:lnTo>
                      <a:lnTo>
                        <a:pt x="599" y="3"/>
                      </a:lnTo>
                      <a:lnTo>
                        <a:pt x="598" y="3"/>
                      </a:lnTo>
                      <a:lnTo>
                        <a:pt x="596" y="3"/>
                      </a:lnTo>
                      <a:lnTo>
                        <a:pt x="595" y="4"/>
                      </a:lnTo>
                      <a:lnTo>
                        <a:pt x="594" y="5"/>
                      </a:lnTo>
                      <a:lnTo>
                        <a:pt x="593" y="6"/>
                      </a:lnTo>
                      <a:lnTo>
                        <a:pt x="527" y="6"/>
                      </a:lnTo>
                      <a:lnTo>
                        <a:pt x="526" y="5"/>
                      </a:lnTo>
                      <a:lnTo>
                        <a:pt x="525" y="4"/>
                      </a:lnTo>
                      <a:lnTo>
                        <a:pt x="524" y="3"/>
                      </a:lnTo>
                      <a:lnTo>
                        <a:pt x="522" y="3"/>
                      </a:lnTo>
                      <a:lnTo>
                        <a:pt x="520" y="3"/>
                      </a:lnTo>
                      <a:lnTo>
                        <a:pt x="519" y="4"/>
                      </a:lnTo>
                      <a:lnTo>
                        <a:pt x="518" y="5"/>
                      </a:lnTo>
                      <a:lnTo>
                        <a:pt x="518" y="6"/>
                      </a:lnTo>
                      <a:lnTo>
                        <a:pt x="438" y="6"/>
                      </a:lnTo>
                      <a:lnTo>
                        <a:pt x="438" y="5"/>
                      </a:lnTo>
                      <a:lnTo>
                        <a:pt x="437" y="4"/>
                      </a:lnTo>
                      <a:lnTo>
                        <a:pt x="435" y="3"/>
                      </a:lnTo>
                      <a:lnTo>
                        <a:pt x="433" y="3"/>
                      </a:lnTo>
                      <a:lnTo>
                        <a:pt x="432" y="3"/>
                      </a:lnTo>
                      <a:lnTo>
                        <a:pt x="430" y="4"/>
                      </a:lnTo>
                      <a:lnTo>
                        <a:pt x="429" y="5"/>
                      </a:lnTo>
                      <a:lnTo>
                        <a:pt x="429" y="6"/>
                      </a:lnTo>
                      <a:lnTo>
                        <a:pt x="383" y="6"/>
                      </a:lnTo>
                      <a:lnTo>
                        <a:pt x="382" y="4"/>
                      </a:lnTo>
                      <a:lnTo>
                        <a:pt x="381" y="3"/>
                      </a:lnTo>
                      <a:lnTo>
                        <a:pt x="380" y="1"/>
                      </a:lnTo>
                      <a:lnTo>
                        <a:pt x="377" y="0"/>
                      </a:lnTo>
                      <a:lnTo>
                        <a:pt x="375" y="0"/>
                      </a:lnTo>
                      <a:lnTo>
                        <a:pt x="373" y="0"/>
                      </a:lnTo>
                      <a:lnTo>
                        <a:pt x="370" y="0"/>
                      </a:lnTo>
                      <a:lnTo>
                        <a:pt x="368" y="1"/>
                      </a:lnTo>
                      <a:lnTo>
                        <a:pt x="366" y="3"/>
                      </a:lnTo>
                      <a:lnTo>
                        <a:pt x="365" y="4"/>
                      </a:lnTo>
                      <a:lnTo>
                        <a:pt x="365" y="6"/>
                      </a:lnTo>
                      <a:lnTo>
                        <a:pt x="358" y="6"/>
                      </a:lnTo>
                      <a:lnTo>
                        <a:pt x="358" y="5"/>
                      </a:lnTo>
                      <a:lnTo>
                        <a:pt x="357" y="4"/>
                      </a:lnTo>
                      <a:lnTo>
                        <a:pt x="356" y="3"/>
                      </a:lnTo>
                      <a:lnTo>
                        <a:pt x="354" y="3"/>
                      </a:lnTo>
                      <a:lnTo>
                        <a:pt x="352" y="3"/>
                      </a:lnTo>
                      <a:lnTo>
                        <a:pt x="351" y="4"/>
                      </a:lnTo>
                      <a:lnTo>
                        <a:pt x="350" y="5"/>
                      </a:lnTo>
                      <a:lnTo>
                        <a:pt x="349" y="6"/>
                      </a:lnTo>
                      <a:lnTo>
                        <a:pt x="342" y="6"/>
                      </a:lnTo>
                      <a:lnTo>
                        <a:pt x="342" y="5"/>
                      </a:lnTo>
                      <a:lnTo>
                        <a:pt x="341" y="4"/>
                      </a:lnTo>
                      <a:lnTo>
                        <a:pt x="339" y="3"/>
                      </a:lnTo>
                      <a:lnTo>
                        <a:pt x="338" y="3"/>
                      </a:lnTo>
                      <a:lnTo>
                        <a:pt x="336" y="3"/>
                      </a:lnTo>
                      <a:lnTo>
                        <a:pt x="334" y="4"/>
                      </a:lnTo>
                      <a:lnTo>
                        <a:pt x="333" y="5"/>
                      </a:lnTo>
                      <a:lnTo>
                        <a:pt x="333" y="6"/>
                      </a:lnTo>
                      <a:lnTo>
                        <a:pt x="321" y="6"/>
                      </a:lnTo>
                      <a:lnTo>
                        <a:pt x="321" y="5"/>
                      </a:lnTo>
                      <a:lnTo>
                        <a:pt x="320" y="4"/>
                      </a:lnTo>
                      <a:lnTo>
                        <a:pt x="319" y="3"/>
                      </a:lnTo>
                      <a:lnTo>
                        <a:pt x="317" y="3"/>
                      </a:lnTo>
                      <a:lnTo>
                        <a:pt x="315" y="3"/>
                      </a:lnTo>
                      <a:lnTo>
                        <a:pt x="314" y="4"/>
                      </a:lnTo>
                      <a:lnTo>
                        <a:pt x="313" y="5"/>
                      </a:lnTo>
                      <a:lnTo>
                        <a:pt x="312" y="6"/>
                      </a:lnTo>
                      <a:lnTo>
                        <a:pt x="311" y="6"/>
                      </a:lnTo>
                      <a:lnTo>
                        <a:pt x="310" y="5"/>
                      </a:lnTo>
                      <a:lnTo>
                        <a:pt x="309" y="4"/>
                      </a:lnTo>
                      <a:lnTo>
                        <a:pt x="308" y="3"/>
                      </a:lnTo>
                      <a:lnTo>
                        <a:pt x="306" y="3"/>
                      </a:lnTo>
                      <a:lnTo>
                        <a:pt x="304" y="3"/>
                      </a:lnTo>
                      <a:lnTo>
                        <a:pt x="303" y="4"/>
                      </a:lnTo>
                      <a:lnTo>
                        <a:pt x="302" y="5"/>
                      </a:lnTo>
                      <a:lnTo>
                        <a:pt x="302" y="6"/>
                      </a:lnTo>
                      <a:lnTo>
                        <a:pt x="297" y="6"/>
                      </a:lnTo>
                      <a:lnTo>
                        <a:pt x="297" y="5"/>
                      </a:lnTo>
                      <a:lnTo>
                        <a:pt x="296" y="4"/>
                      </a:lnTo>
                      <a:lnTo>
                        <a:pt x="294" y="3"/>
                      </a:lnTo>
                      <a:lnTo>
                        <a:pt x="293" y="3"/>
                      </a:lnTo>
                      <a:lnTo>
                        <a:pt x="291" y="3"/>
                      </a:lnTo>
                      <a:lnTo>
                        <a:pt x="289" y="4"/>
                      </a:lnTo>
                      <a:lnTo>
                        <a:pt x="288" y="5"/>
                      </a:lnTo>
                      <a:lnTo>
                        <a:pt x="288" y="6"/>
                      </a:lnTo>
                      <a:lnTo>
                        <a:pt x="288" y="6"/>
                      </a:lnTo>
                      <a:lnTo>
                        <a:pt x="288" y="5"/>
                      </a:lnTo>
                      <a:lnTo>
                        <a:pt x="287" y="4"/>
                      </a:lnTo>
                      <a:lnTo>
                        <a:pt x="285" y="3"/>
                      </a:lnTo>
                      <a:lnTo>
                        <a:pt x="284" y="3"/>
                      </a:lnTo>
                      <a:lnTo>
                        <a:pt x="282" y="3"/>
                      </a:lnTo>
                      <a:lnTo>
                        <a:pt x="280" y="4"/>
                      </a:lnTo>
                      <a:lnTo>
                        <a:pt x="279" y="5"/>
                      </a:lnTo>
                      <a:lnTo>
                        <a:pt x="279" y="6"/>
                      </a:lnTo>
                      <a:lnTo>
                        <a:pt x="270" y="6"/>
                      </a:lnTo>
                      <a:lnTo>
                        <a:pt x="270" y="5"/>
                      </a:lnTo>
                      <a:lnTo>
                        <a:pt x="269" y="4"/>
                      </a:lnTo>
                      <a:lnTo>
                        <a:pt x="267" y="3"/>
                      </a:lnTo>
                      <a:lnTo>
                        <a:pt x="266" y="3"/>
                      </a:lnTo>
                      <a:lnTo>
                        <a:pt x="264" y="3"/>
                      </a:lnTo>
                      <a:lnTo>
                        <a:pt x="262" y="4"/>
                      </a:lnTo>
                      <a:lnTo>
                        <a:pt x="261" y="5"/>
                      </a:lnTo>
                      <a:lnTo>
                        <a:pt x="261" y="6"/>
                      </a:lnTo>
                      <a:lnTo>
                        <a:pt x="213" y="6"/>
                      </a:lnTo>
                      <a:lnTo>
                        <a:pt x="212" y="5"/>
                      </a:lnTo>
                      <a:lnTo>
                        <a:pt x="211" y="4"/>
                      </a:lnTo>
                      <a:lnTo>
                        <a:pt x="210" y="3"/>
                      </a:lnTo>
                      <a:lnTo>
                        <a:pt x="208" y="3"/>
                      </a:lnTo>
                      <a:lnTo>
                        <a:pt x="206" y="3"/>
                      </a:lnTo>
                      <a:lnTo>
                        <a:pt x="205" y="4"/>
                      </a:lnTo>
                      <a:lnTo>
                        <a:pt x="204" y="5"/>
                      </a:lnTo>
                      <a:lnTo>
                        <a:pt x="204" y="6"/>
                      </a:lnTo>
                      <a:lnTo>
                        <a:pt x="193" y="6"/>
                      </a:lnTo>
                      <a:lnTo>
                        <a:pt x="192" y="5"/>
                      </a:lnTo>
                      <a:lnTo>
                        <a:pt x="191" y="4"/>
                      </a:lnTo>
                      <a:lnTo>
                        <a:pt x="190" y="3"/>
                      </a:lnTo>
                      <a:lnTo>
                        <a:pt x="188" y="3"/>
                      </a:lnTo>
                      <a:lnTo>
                        <a:pt x="187" y="3"/>
                      </a:lnTo>
                      <a:lnTo>
                        <a:pt x="185" y="4"/>
                      </a:lnTo>
                      <a:lnTo>
                        <a:pt x="184" y="5"/>
                      </a:lnTo>
                      <a:lnTo>
                        <a:pt x="184" y="6"/>
                      </a:lnTo>
                      <a:lnTo>
                        <a:pt x="171" y="6"/>
                      </a:lnTo>
                      <a:lnTo>
                        <a:pt x="171" y="5"/>
                      </a:lnTo>
                      <a:lnTo>
                        <a:pt x="170" y="4"/>
                      </a:lnTo>
                      <a:lnTo>
                        <a:pt x="168" y="3"/>
                      </a:lnTo>
                      <a:lnTo>
                        <a:pt x="166" y="3"/>
                      </a:lnTo>
                      <a:lnTo>
                        <a:pt x="165" y="3"/>
                      </a:lnTo>
                      <a:lnTo>
                        <a:pt x="163" y="4"/>
                      </a:lnTo>
                      <a:lnTo>
                        <a:pt x="162" y="5"/>
                      </a:lnTo>
                      <a:lnTo>
                        <a:pt x="162" y="6"/>
                      </a:lnTo>
                      <a:lnTo>
                        <a:pt x="148" y="6"/>
                      </a:lnTo>
                      <a:lnTo>
                        <a:pt x="147" y="5"/>
                      </a:lnTo>
                      <a:lnTo>
                        <a:pt x="146" y="4"/>
                      </a:lnTo>
                      <a:lnTo>
                        <a:pt x="145" y="3"/>
                      </a:lnTo>
                      <a:lnTo>
                        <a:pt x="143" y="3"/>
                      </a:lnTo>
                      <a:lnTo>
                        <a:pt x="141" y="3"/>
                      </a:lnTo>
                      <a:lnTo>
                        <a:pt x="140" y="4"/>
                      </a:lnTo>
                      <a:lnTo>
                        <a:pt x="139" y="5"/>
                      </a:lnTo>
                      <a:lnTo>
                        <a:pt x="139" y="6"/>
                      </a:lnTo>
                      <a:lnTo>
                        <a:pt x="129" y="6"/>
                      </a:lnTo>
                      <a:lnTo>
                        <a:pt x="129" y="5"/>
                      </a:lnTo>
                      <a:lnTo>
                        <a:pt x="128" y="4"/>
                      </a:lnTo>
                      <a:lnTo>
                        <a:pt x="126" y="3"/>
                      </a:lnTo>
                      <a:lnTo>
                        <a:pt x="125" y="3"/>
                      </a:lnTo>
                      <a:lnTo>
                        <a:pt x="123" y="3"/>
                      </a:lnTo>
                      <a:lnTo>
                        <a:pt x="121" y="4"/>
                      </a:lnTo>
                      <a:lnTo>
                        <a:pt x="121" y="5"/>
                      </a:lnTo>
                      <a:lnTo>
                        <a:pt x="120" y="6"/>
                      </a:lnTo>
                      <a:lnTo>
                        <a:pt x="67" y="6"/>
                      </a:lnTo>
                      <a:lnTo>
                        <a:pt x="66" y="5"/>
                      </a:lnTo>
                      <a:lnTo>
                        <a:pt x="65" y="4"/>
                      </a:lnTo>
                      <a:lnTo>
                        <a:pt x="64" y="3"/>
                      </a:lnTo>
                      <a:lnTo>
                        <a:pt x="62" y="3"/>
                      </a:lnTo>
                      <a:lnTo>
                        <a:pt x="60" y="3"/>
                      </a:lnTo>
                      <a:lnTo>
                        <a:pt x="59" y="4"/>
                      </a:lnTo>
                      <a:lnTo>
                        <a:pt x="58" y="5"/>
                      </a:lnTo>
                      <a:lnTo>
                        <a:pt x="58" y="6"/>
                      </a:lnTo>
                      <a:lnTo>
                        <a:pt x="32" y="6"/>
                      </a:lnTo>
                      <a:lnTo>
                        <a:pt x="32" y="5"/>
                      </a:lnTo>
                      <a:lnTo>
                        <a:pt x="31" y="4"/>
                      </a:lnTo>
                      <a:lnTo>
                        <a:pt x="29" y="3"/>
                      </a:lnTo>
                      <a:lnTo>
                        <a:pt x="27" y="3"/>
                      </a:lnTo>
                      <a:lnTo>
                        <a:pt x="26" y="3"/>
                      </a:lnTo>
                      <a:lnTo>
                        <a:pt x="24" y="4"/>
                      </a:lnTo>
                      <a:lnTo>
                        <a:pt x="23" y="5"/>
                      </a:lnTo>
                      <a:lnTo>
                        <a:pt x="23" y="6"/>
                      </a:lnTo>
                      <a:lnTo>
                        <a:pt x="0" y="6"/>
                      </a:lnTo>
                      <a:lnTo>
                        <a:pt x="0" y="41"/>
                      </a:lnTo>
                    </a:path>
                  </a:pathLst>
                </a:custGeom>
                <a:noFill/>
                <a:ln w="1440">
                  <a:solidFill>
                    <a:srgbClr val="0000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176" name=""/>
                <p:cNvSpPr/>
                <p:nvPr/>
              </p:nvSpPr>
              <p:spPr>
                <a:xfrm>
                  <a:off x="7553160" y="370692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77" name=""/>
                <p:cNvSpPr/>
                <p:nvPr/>
              </p:nvSpPr>
              <p:spPr>
                <a:xfrm>
                  <a:off x="5652720" y="375804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78" name=""/>
                <p:cNvSpPr/>
                <p:nvPr/>
              </p:nvSpPr>
              <p:spPr>
                <a:xfrm>
                  <a:off x="5923800" y="3449160"/>
                  <a:ext cx="1901160" cy="510120"/>
                </a:xfrm>
                <a:custGeom>
                  <a:avLst/>
                  <a:gdLst/>
                  <a:ahLst/>
                  <a:rect l="l" t="t" r="r" b="b"/>
                  <a:pathLst>
                    <a:path w="1796" h="382">
                      <a:moveTo>
                        <a:pt x="1796" y="0"/>
                      </a:moveTo>
                      <a:lnTo>
                        <a:pt x="1796" y="71"/>
                      </a:lnTo>
                      <a:lnTo>
                        <a:pt x="1682" y="71"/>
                      </a:lnTo>
                      <a:lnTo>
                        <a:pt x="1681" y="70"/>
                      </a:lnTo>
                      <a:lnTo>
                        <a:pt x="1680" y="69"/>
                      </a:lnTo>
                      <a:lnTo>
                        <a:pt x="1679" y="68"/>
                      </a:lnTo>
                      <a:lnTo>
                        <a:pt x="1677" y="68"/>
                      </a:lnTo>
                      <a:lnTo>
                        <a:pt x="1675" y="68"/>
                      </a:lnTo>
                      <a:lnTo>
                        <a:pt x="1674" y="69"/>
                      </a:lnTo>
                      <a:lnTo>
                        <a:pt x="1673" y="70"/>
                      </a:lnTo>
                      <a:lnTo>
                        <a:pt x="1673" y="71"/>
                      </a:lnTo>
                      <a:lnTo>
                        <a:pt x="1670" y="71"/>
                      </a:lnTo>
                      <a:lnTo>
                        <a:pt x="1669" y="70"/>
                      </a:lnTo>
                      <a:lnTo>
                        <a:pt x="1668" y="69"/>
                      </a:lnTo>
                      <a:lnTo>
                        <a:pt x="1667" y="68"/>
                      </a:lnTo>
                      <a:lnTo>
                        <a:pt x="1665" y="68"/>
                      </a:lnTo>
                      <a:lnTo>
                        <a:pt x="1664" y="68"/>
                      </a:lnTo>
                      <a:lnTo>
                        <a:pt x="1662" y="69"/>
                      </a:lnTo>
                      <a:lnTo>
                        <a:pt x="1661" y="70"/>
                      </a:lnTo>
                      <a:lnTo>
                        <a:pt x="1661" y="71"/>
                      </a:lnTo>
                      <a:lnTo>
                        <a:pt x="1658" y="71"/>
                      </a:lnTo>
                      <a:lnTo>
                        <a:pt x="1658" y="70"/>
                      </a:lnTo>
                      <a:lnTo>
                        <a:pt x="1657" y="69"/>
                      </a:lnTo>
                      <a:lnTo>
                        <a:pt x="1655" y="68"/>
                      </a:lnTo>
                      <a:lnTo>
                        <a:pt x="1654" y="68"/>
                      </a:lnTo>
                      <a:lnTo>
                        <a:pt x="1652" y="68"/>
                      </a:lnTo>
                      <a:lnTo>
                        <a:pt x="1650" y="69"/>
                      </a:lnTo>
                      <a:lnTo>
                        <a:pt x="1649" y="70"/>
                      </a:lnTo>
                      <a:lnTo>
                        <a:pt x="1649" y="71"/>
                      </a:lnTo>
                      <a:lnTo>
                        <a:pt x="1631" y="71"/>
                      </a:lnTo>
                      <a:lnTo>
                        <a:pt x="1631" y="70"/>
                      </a:lnTo>
                      <a:lnTo>
                        <a:pt x="1630" y="69"/>
                      </a:lnTo>
                      <a:lnTo>
                        <a:pt x="1628" y="68"/>
                      </a:lnTo>
                      <a:lnTo>
                        <a:pt x="1626" y="68"/>
                      </a:lnTo>
                      <a:lnTo>
                        <a:pt x="1625" y="68"/>
                      </a:lnTo>
                      <a:lnTo>
                        <a:pt x="1623" y="69"/>
                      </a:lnTo>
                      <a:lnTo>
                        <a:pt x="1622" y="70"/>
                      </a:lnTo>
                      <a:lnTo>
                        <a:pt x="1622" y="71"/>
                      </a:lnTo>
                      <a:lnTo>
                        <a:pt x="1540" y="71"/>
                      </a:lnTo>
                      <a:lnTo>
                        <a:pt x="1539" y="70"/>
                      </a:lnTo>
                      <a:lnTo>
                        <a:pt x="1539" y="68"/>
                      </a:lnTo>
                      <a:lnTo>
                        <a:pt x="1537" y="67"/>
                      </a:lnTo>
                      <a:lnTo>
                        <a:pt x="1535" y="66"/>
                      </a:lnTo>
                      <a:lnTo>
                        <a:pt x="1533" y="66"/>
                      </a:lnTo>
                      <a:lnTo>
                        <a:pt x="1531" y="66"/>
                      </a:lnTo>
                      <a:lnTo>
                        <a:pt x="1529" y="67"/>
                      </a:lnTo>
                      <a:lnTo>
                        <a:pt x="1528" y="68"/>
                      </a:lnTo>
                      <a:lnTo>
                        <a:pt x="1527" y="70"/>
                      </a:lnTo>
                      <a:lnTo>
                        <a:pt x="1526" y="71"/>
                      </a:lnTo>
                      <a:lnTo>
                        <a:pt x="1524" y="71"/>
                      </a:lnTo>
                      <a:lnTo>
                        <a:pt x="1524" y="70"/>
                      </a:lnTo>
                      <a:lnTo>
                        <a:pt x="1523" y="69"/>
                      </a:lnTo>
                      <a:lnTo>
                        <a:pt x="1521" y="68"/>
                      </a:lnTo>
                      <a:lnTo>
                        <a:pt x="1520" y="68"/>
                      </a:lnTo>
                      <a:lnTo>
                        <a:pt x="1518" y="68"/>
                      </a:lnTo>
                      <a:lnTo>
                        <a:pt x="1516" y="69"/>
                      </a:lnTo>
                      <a:lnTo>
                        <a:pt x="1515" y="70"/>
                      </a:lnTo>
                      <a:lnTo>
                        <a:pt x="1515" y="71"/>
                      </a:lnTo>
                      <a:lnTo>
                        <a:pt x="1508" y="71"/>
                      </a:lnTo>
                      <a:lnTo>
                        <a:pt x="1507" y="70"/>
                      </a:lnTo>
                      <a:lnTo>
                        <a:pt x="1506" y="69"/>
                      </a:lnTo>
                      <a:lnTo>
                        <a:pt x="1505" y="68"/>
                      </a:lnTo>
                      <a:lnTo>
                        <a:pt x="1503" y="68"/>
                      </a:lnTo>
                      <a:lnTo>
                        <a:pt x="1501" y="68"/>
                      </a:lnTo>
                      <a:lnTo>
                        <a:pt x="1500" y="69"/>
                      </a:lnTo>
                      <a:lnTo>
                        <a:pt x="1499" y="70"/>
                      </a:lnTo>
                      <a:lnTo>
                        <a:pt x="1499" y="71"/>
                      </a:lnTo>
                      <a:lnTo>
                        <a:pt x="1492" y="71"/>
                      </a:lnTo>
                      <a:lnTo>
                        <a:pt x="1492" y="70"/>
                      </a:lnTo>
                      <a:lnTo>
                        <a:pt x="1491" y="69"/>
                      </a:lnTo>
                      <a:lnTo>
                        <a:pt x="1489" y="68"/>
                      </a:lnTo>
                      <a:lnTo>
                        <a:pt x="1487" y="68"/>
                      </a:lnTo>
                      <a:lnTo>
                        <a:pt x="1486" y="68"/>
                      </a:lnTo>
                      <a:lnTo>
                        <a:pt x="1484" y="69"/>
                      </a:lnTo>
                      <a:lnTo>
                        <a:pt x="1483" y="70"/>
                      </a:lnTo>
                      <a:lnTo>
                        <a:pt x="1483" y="71"/>
                      </a:lnTo>
                      <a:lnTo>
                        <a:pt x="1481" y="71"/>
                      </a:lnTo>
                      <a:lnTo>
                        <a:pt x="1481" y="382"/>
                      </a:lnTo>
                      <a:lnTo>
                        <a:pt x="1476" y="382"/>
                      </a:lnTo>
                      <a:lnTo>
                        <a:pt x="1475" y="381"/>
                      </a:lnTo>
                      <a:lnTo>
                        <a:pt x="1474" y="380"/>
                      </a:lnTo>
                      <a:lnTo>
                        <a:pt x="1473" y="379"/>
                      </a:lnTo>
                      <a:lnTo>
                        <a:pt x="1471" y="379"/>
                      </a:lnTo>
                      <a:lnTo>
                        <a:pt x="1469" y="379"/>
                      </a:lnTo>
                      <a:lnTo>
                        <a:pt x="1468" y="380"/>
                      </a:lnTo>
                      <a:lnTo>
                        <a:pt x="1467" y="381"/>
                      </a:lnTo>
                      <a:lnTo>
                        <a:pt x="1467" y="382"/>
                      </a:lnTo>
                      <a:lnTo>
                        <a:pt x="1405" y="382"/>
                      </a:lnTo>
                      <a:lnTo>
                        <a:pt x="1404" y="381"/>
                      </a:lnTo>
                      <a:lnTo>
                        <a:pt x="1403" y="380"/>
                      </a:lnTo>
                      <a:lnTo>
                        <a:pt x="1402" y="379"/>
                      </a:lnTo>
                      <a:lnTo>
                        <a:pt x="1400" y="379"/>
                      </a:lnTo>
                      <a:lnTo>
                        <a:pt x="1398" y="379"/>
                      </a:lnTo>
                      <a:lnTo>
                        <a:pt x="1397" y="380"/>
                      </a:lnTo>
                      <a:lnTo>
                        <a:pt x="1396" y="381"/>
                      </a:lnTo>
                      <a:lnTo>
                        <a:pt x="1396" y="382"/>
                      </a:lnTo>
                      <a:lnTo>
                        <a:pt x="1231" y="382"/>
                      </a:lnTo>
                      <a:lnTo>
                        <a:pt x="1230" y="381"/>
                      </a:lnTo>
                      <a:lnTo>
                        <a:pt x="1229" y="380"/>
                      </a:lnTo>
                      <a:lnTo>
                        <a:pt x="1228" y="379"/>
                      </a:lnTo>
                      <a:lnTo>
                        <a:pt x="1226" y="379"/>
                      </a:lnTo>
                      <a:lnTo>
                        <a:pt x="1224" y="379"/>
                      </a:lnTo>
                      <a:lnTo>
                        <a:pt x="1223" y="380"/>
                      </a:lnTo>
                      <a:lnTo>
                        <a:pt x="1222" y="381"/>
                      </a:lnTo>
                      <a:lnTo>
                        <a:pt x="1222" y="382"/>
                      </a:lnTo>
                      <a:lnTo>
                        <a:pt x="1212" y="382"/>
                      </a:lnTo>
                      <a:lnTo>
                        <a:pt x="1212" y="381"/>
                      </a:lnTo>
                      <a:lnTo>
                        <a:pt x="1211" y="380"/>
                      </a:lnTo>
                      <a:lnTo>
                        <a:pt x="1209" y="379"/>
                      </a:lnTo>
                      <a:lnTo>
                        <a:pt x="1208" y="379"/>
                      </a:lnTo>
                      <a:lnTo>
                        <a:pt x="1206" y="379"/>
                      </a:lnTo>
                      <a:lnTo>
                        <a:pt x="1204" y="380"/>
                      </a:lnTo>
                      <a:lnTo>
                        <a:pt x="1204" y="381"/>
                      </a:lnTo>
                      <a:lnTo>
                        <a:pt x="1203" y="382"/>
                      </a:lnTo>
                      <a:lnTo>
                        <a:pt x="1200" y="382"/>
                      </a:lnTo>
                      <a:lnTo>
                        <a:pt x="1199" y="380"/>
                      </a:lnTo>
                      <a:lnTo>
                        <a:pt x="1199" y="379"/>
                      </a:lnTo>
                      <a:lnTo>
                        <a:pt x="1197" y="377"/>
                      </a:lnTo>
                      <a:lnTo>
                        <a:pt x="1195" y="376"/>
                      </a:lnTo>
                      <a:lnTo>
                        <a:pt x="1193" y="376"/>
                      </a:lnTo>
                      <a:lnTo>
                        <a:pt x="1190" y="376"/>
                      </a:lnTo>
                      <a:lnTo>
                        <a:pt x="1188" y="376"/>
                      </a:lnTo>
                      <a:lnTo>
                        <a:pt x="1186" y="377"/>
                      </a:lnTo>
                      <a:lnTo>
                        <a:pt x="1184" y="379"/>
                      </a:lnTo>
                      <a:lnTo>
                        <a:pt x="1183" y="380"/>
                      </a:lnTo>
                      <a:lnTo>
                        <a:pt x="1183" y="382"/>
                      </a:lnTo>
                      <a:lnTo>
                        <a:pt x="1174" y="382"/>
                      </a:lnTo>
                      <a:lnTo>
                        <a:pt x="1174" y="381"/>
                      </a:lnTo>
                      <a:lnTo>
                        <a:pt x="1173" y="380"/>
                      </a:lnTo>
                      <a:lnTo>
                        <a:pt x="1171" y="379"/>
                      </a:lnTo>
                      <a:lnTo>
                        <a:pt x="1170" y="379"/>
                      </a:lnTo>
                      <a:lnTo>
                        <a:pt x="1168" y="379"/>
                      </a:lnTo>
                      <a:lnTo>
                        <a:pt x="1166" y="380"/>
                      </a:lnTo>
                      <a:lnTo>
                        <a:pt x="1165" y="381"/>
                      </a:lnTo>
                      <a:lnTo>
                        <a:pt x="1165" y="382"/>
                      </a:lnTo>
                      <a:lnTo>
                        <a:pt x="1160" y="382"/>
                      </a:lnTo>
                      <a:lnTo>
                        <a:pt x="1159" y="381"/>
                      </a:lnTo>
                      <a:lnTo>
                        <a:pt x="1159" y="380"/>
                      </a:lnTo>
                      <a:lnTo>
                        <a:pt x="1157" y="379"/>
                      </a:lnTo>
                      <a:lnTo>
                        <a:pt x="1155" y="379"/>
                      </a:lnTo>
                      <a:lnTo>
                        <a:pt x="1154" y="379"/>
                      </a:lnTo>
                      <a:lnTo>
                        <a:pt x="1152" y="380"/>
                      </a:lnTo>
                      <a:lnTo>
                        <a:pt x="1151" y="381"/>
                      </a:lnTo>
                      <a:lnTo>
                        <a:pt x="1151" y="382"/>
                      </a:lnTo>
                      <a:lnTo>
                        <a:pt x="1138" y="382"/>
                      </a:lnTo>
                      <a:lnTo>
                        <a:pt x="1137" y="381"/>
                      </a:lnTo>
                      <a:lnTo>
                        <a:pt x="1137" y="380"/>
                      </a:lnTo>
                      <a:lnTo>
                        <a:pt x="1135" y="379"/>
                      </a:lnTo>
                      <a:lnTo>
                        <a:pt x="1133" y="379"/>
                      </a:lnTo>
                      <a:lnTo>
                        <a:pt x="1132" y="379"/>
                      </a:lnTo>
                      <a:lnTo>
                        <a:pt x="1130" y="380"/>
                      </a:lnTo>
                      <a:lnTo>
                        <a:pt x="1129" y="381"/>
                      </a:lnTo>
                      <a:lnTo>
                        <a:pt x="1129" y="382"/>
                      </a:lnTo>
                      <a:lnTo>
                        <a:pt x="1107" y="382"/>
                      </a:lnTo>
                      <a:lnTo>
                        <a:pt x="1107" y="381"/>
                      </a:lnTo>
                      <a:lnTo>
                        <a:pt x="1106" y="380"/>
                      </a:lnTo>
                      <a:lnTo>
                        <a:pt x="1105" y="379"/>
                      </a:lnTo>
                      <a:lnTo>
                        <a:pt x="1103" y="379"/>
                      </a:lnTo>
                      <a:lnTo>
                        <a:pt x="1101" y="379"/>
                      </a:lnTo>
                      <a:lnTo>
                        <a:pt x="1100" y="380"/>
                      </a:lnTo>
                      <a:lnTo>
                        <a:pt x="1099" y="381"/>
                      </a:lnTo>
                      <a:lnTo>
                        <a:pt x="1098" y="382"/>
                      </a:lnTo>
                      <a:lnTo>
                        <a:pt x="1087" y="382"/>
                      </a:lnTo>
                      <a:lnTo>
                        <a:pt x="1087" y="381"/>
                      </a:lnTo>
                      <a:lnTo>
                        <a:pt x="1086" y="380"/>
                      </a:lnTo>
                      <a:lnTo>
                        <a:pt x="1084" y="379"/>
                      </a:lnTo>
                      <a:lnTo>
                        <a:pt x="1083" y="379"/>
                      </a:lnTo>
                      <a:lnTo>
                        <a:pt x="1081" y="379"/>
                      </a:lnTo>
                      <a:lnTo>
                        <a:pt x="1079" y="380"/>
                      </a:lnTo>
                      <a:lnTo>
                        <a:pt x="1079" y="381"/>
                      </a:lnTo>
                      <a:lnTo>
                        <a:pt x="1078" y="382"/>
                      </a:lnTo>
                      <a:lnTo>
                        <a:pt x="1040" y="382"/>
                      </a:lnTo>
                      <a:lnTo>
                        <a:pt x="1039" y="381"/>
                      </a:lnTo>
                      <a:lnTo>
                        <a:pt x="1039" y="380"/>
                      </a:lnTo>
                      <a:lnTo>
                        <a:pt x="1037" y="379"/>
                      </a:lnTo>
                      <a:lnTo>
                        <a:pt x="1035" y="379"/>
                      </a:lnTo>
                      <a:lnTo>
                        <a:pt x="1034" y="379"/>
                      </a:lnTo>
                      <a:lnTo>
                        <a:pt x="1032" y="380"/>
                      </a:lnTo>
                      <a:lnTo>
                        <a:pt x="1031" y="381"/>
                      </a:lnTo>
                      <a:lnTo>
                        <a:pt x="1031" y="382"/>
                      </a:lnTo>
                      <a:lnTo>
                        <a:pt x="1025" y="382"/>
                      </a:lnTo>
                      <a:lnTo>
                        <a:pt x="1024" y="381"/>
                      </a:lnTo>
                      <a:lnTo>
                        <a:pt x="1023" y="380"/>
                      </a:lnTo>
                      <a:lnTo>
                        <a:pt x="1022" y="379"/>
                      </a:lnTo>
                      <a:lnTo>
                        <a:pt x="1020" y="379"/>
                      </a:lnTo>
                      <a:lnTo>
                        <a:pt x="1018" y="379"/>
                      </a:lnTo>
                      <a:lnTo>
                        <a:pt x="1017" y="380"/>
                      </a:lnTo>
                      <a:lnTo>
                        <a:pt x="1016" y="381"/>
                      </a:lnTo>
                      <a:lnTo>
                        <a:pt x="1016" y="382"/>
                      </a:lnTo>
                      <a:lnTo>
                        <a:pt x="1012" y="382"/>
                      </a:lnTo>
                      <a:lnTo>
                        <a:pt x="1011" y="381"/>
                      </a:lnTo>
                      <a:lnTo>
                        <a:pt x="1010" y="380"/>
                      </a:lnTo>
                      <a:lnTo>
                        <a:pt x="1009" y="379"/>
                      </a:lnTo>
                      <a:lnTo>
                        <a:pt x="1007" y="379"/>
                      </a:lnTo>
                      <a:lnTo>
                        <a:pt x="1005" y="379"/>
                      </a:lnTo>
                      <a:lnTo>
                        <a:pt x="1004" y="380"/>
                      </a:lnTo>
                      <a:lnTo>
                        <a:pt x="1003" y="381"/>
                      </a:lnTo>
                      <a:lnTo>
                        <a:pt x="1003" y="382"/>
                      </a:lnTo>
                      <a:lnTo>
                        <a:pt x="974" y="382"/>
                      </a:lnTo>
                      <a:lnTo>
                        <a:pt x="974" y="380"/>
                      </a:lnTo>
                      <a:lnTo>
                        <a:pt x="973" y="379"/>
                      </a:lnTo>
                      <a:lnTo>
                        <a:pt x="971" y="377"/>
                      </a:lnTo>
                      <a:lnTo>
                        <a:pt x="969" y="376"/>
                      </a:lnTo>
                      <a:lnTo>
                        <a:pt x="967" y="376"/>
                      </a:lnTo>
                      <a:lnTo>
                        <a:pt x="964" y="376"/>
                      </a:lnTo>
                      <a:lnTo>
                        <a:pt x="962" y="376"/>
                      </a:lnTo>
                      <a:lnTo>
                        <a:pt x="960" y="377"/>
                      </a:lnTo>
                      <a:lnTo>
                        <a:pt x="958" y="379"/>
                      </a:lnTo>
                      <a:lnTo>
                        <a:pt x="957" y="380"/>
                      </a:lnTo>
                      <a:lnTo>
                        <a:pt x="957" y="382"/>
                      </a:lnTo>
                      <a:lnTo>
                        <a:pt x="934" y="382"/>
                      </a:lnTo>
                      <a:lnTo>
                        <a:pt x="933" y="381"/>
                      </a:lnTo>
                      <a:lnTo>
                        <a:pt x="932" y="380"/>
                      </a:lnTo>
                      <a:lnTo>
                        <a:pt x="931" y="379"/>
                      </a:lnTo>
                      <a:lnTo>
                        <a:pt x="929" y="379"/>
                      </a:lnTo>
                      <a:lnTo>
                        <a:pt x="927" y="379"/>
                      </a:lnTo>
                      <a:lnTo>
                        <a:pt x="926" y="380"/>
                      </a:lnTo>
                      <a:lnTo>
                        <a:pt x="925" y="381"/>
                      </a:lnTo>
                      <a:lnTo>
                        <a:pt x="925" y="382"/>
                      </a:lnTo>
                      <a:lnTo>
                        <a:pt x="918" y="382"/>
                      </a:lnTo>
                      <a:lnTo>
                        <a:pt x="918" y="381"/>
                      </a:lnTo>
                      <a:lnTo>
                        <a:pt x="917" y="380"/>
                      </a:lnTo>
                      <a:lnTo>
                        <a:pt x="916" y="379"/>
                      </a:lnTo>
                      <a:lnTo>
                        <a:pt x="914" y="379"/>
                      </a:lnTo>
                      <a:lnTo>
                        <a:pt x="912" y="379"/>
                      </a:lnTo>
                      <a:lnTo>
                        <a:pt x="911" y="380"/>
                      </a:lnTo>
                      <a:lnTo>
                        <a:pt x="910" y="381"/>
                      </a:lnTo>
                      <a:lnTo>
                        <a:pt x="909" y="382"/>
                      </a:lnTo>
                      <a:lnTo>
                        <a:pt x="890" y="382"/>
                      </a:lnTo>
                      <a:lnTo>
                        <a:pt x="889" y="381"/>
                      </a:lnTo>
                      <a:lnTo>
                        <a:pt x="888" y="380"/>
                      </a:lnTo>
                      <a:lnTo>
                        <a:pt x="887" y="379"/>
                      </a:lnTo>
                      <a:lnTo>
                        <a:pt x="885" y="379"/>
                      </a:lnTo>
                      <a:lnTo>
                        <a:pt x="883" y="379"/>
                      </a:lnTo>
                      <a:lnTo>
                        <a:pt x="882" y="380"/>
                      </a:lnTo>
                      <a:lnTo>
                        <a:pt x="881" y="381"/>
                      </a:lnTo>
                      <a:lnTo>
                        <a:pt x="881" y="382"/>
                      </a:lnTo>
                      <a:lnTo>
                        <a:pt x="638" y="382"/>
                      </a:lnTo>
                      <a:lnTo>
                        <a:pt x="637" y="381"/>
                      </a:lnTo>
                      <a:lnTo>
                        <a:pt x="637" y="380"/>
                      </a:lnTo>
                      <a:lnTo>
                        <a:pt x="635" y="379"/>
                      </a:lnTo>
                      <a:lnTo>
                        <a:pt x="633" y="379"/>
                      </a:lnTo>
                      <a:lnTo>
                        <a:pt x="632" y="379"/>
                      </a:lnTo>
                      <a:lnTo>
                        <a:pt x="630" y="380"/>
                      </a:lnTo>
                      <a:lnTo>
                        <a:pt x="629" y="381"/>
                      </a:lnTo>
                      <a:lnTo>
                        <a:pt x="629" y="382"/>
                      </a:lnTo>
                      <a:lnTo>
                        <a:pt x="617" y="382"/>
                      </a:lnTo>
                      <a:lnTo>
                        <a:pt x="617" y="381"/>
                      </a:lnTo>
                      <a:lnTo>
                        <a:pt x="616" y="380"/>
                      </a:lnTo>
                      <a:lnTo>
                        <a:pt x="615" y="379"/>
                      </a:lnTo>
                      <a:lnTo>
                        <a:pt x="613" y="379"/>
                      </a:lnTo>
                      <a:lnTo>
                        <a:pt x="611" y="379"/>
                      </a:lnTo>
                      <a:lnTo>
                        <a:pt x="610" y="380"/>
                      </a:lnTo>
                      <a:lnTo>
                        <a:pt x="609" y="381"/>
                      </a:lnTo>
                      <a:lnTo>
                        <a:pt x="608" y="382"/>
                      </a:lnTo>
                      <a:lnTo>
                        <a:pt x="565" y="382"/>
                      </a:lnTo>
                      <a:lnTo>
                        <a:pt x="565" y="381"/>
                      </a:lnTo>
                      <a:lnTo>
                        <a:pt x="564" y="380"/>
                      </a:lnTo>
                      <a:lnTo>
                        <a:pt x="563" y="379"/>
                      </a:lnTo>
                      <a:lnTo>
                        <a:pt x="561" y="379"/>
                      </a:lnTo>
                      <a:lnTo>
                        <a:pt x="559" y="379"/>
                      </a:lnTo>
                      <a:lnTo>
                        <a:pt x="558" y="380"/>
                      </a:lnTo>
                      <a:lnTo>
                        <a:pt x="557" y="381"/>
                      </a:lnTo>
                      <a:lnTo>
                        <a:pt x="556" y="382"/>
                      </a:lnTo>
                      <a:lnTo>
                        <a:pt x="554" y="382"/>
                      </a:lnTo>
                      <a:lnTo>
                        <a:pt x="553" y="381"/>
                      </a:lnTo>
                      <a:lnTo>
                        <a:pt x="552" y="380"/>
                      </a:lnTo>
                      <a:lnTo>
                        <a:pt x="551" y="379"/>
                      </a:lnTo>
                      <a:lnTo>
                        <a:pt x="549" y="379"/>
                      </a:lnTo>
                      <a:lnTo>
                        <a:pt x="547" y="379"/>
                      </a:lnTo>
                      <a:lnTo>
                        <a:pt x="546" y="380"/>
                      </a:lnTo>
                      <a:lnTo>
                        <a:pt x="545" y="381"/>
                      </a:lnTo>
                      <a:lnTo>
                        <a:pt x="545" y="382"/>
                      </a:lnTo>
                      <a:lnTo>
                        <a:pt x="493" y="382"/>
                      </a:lnTo>
                      <a:lnTo>
                        <a:pt x="492" y="381"/>
                      </a:lnTo>
                      <a:lnTo>
                        <a:pt x="491" y="380"/>
                      </a:lnTo>
                      <a:lnTo>
                        <a:pt x="490" y="379"/>
                      </a:lnTo>
                      <a:lnTo>
                        <a:pt x="488" y="379"/>
                      </a:lnTo>
                      <a:lnTo>
                        <a:pt x="487" y="379"/>
                      </a:lnTo>
                      <a:lnTo>
                        <a:pt x="485" y="380"/>
                      </a:lnTo>
                      <a:lnTo>
                        <a:pt x="484" y="381"/>
                      </a:lnTo>
                      <a:lnTo>
                        <a:pt x="484" y="382"/>
                      </a:lnTo>
                      <a:lnTo>
                        <a:pt x="464" y="382"/>
                      </a:lnTo>
                      <a:lnTo>
                        <a:pt x="464" y="381"/>
                      </a:lnTo>
                      <a:lnTo>
                        <a:pt x="463" y="380"/>
                      </a:lnTo>
                      <a:lnTo>
                        <a:pt x="461" y="379"/>
                      </a:lnTo>
                      <a:lnTo>
                        <a:pt x="460" y="379"/>
                      </a:lnTo>
                      <a:lnTo>
                        <a:pt x="458" y="379"/>
                      </a:lnTo>
                      <a:lnTo>
                        <a:pt x="456" y="380"/>
                      </a:lnTo>
                      <a:lnTo>
                        <a:pt x="456" y="381"/>
                      </a:lnTo>
                      <a:lnTo>
                        <a:pt x="455" y="382"/>
                      </a:lnTo>
                      <a:lnTo>
                        <a:pt x="439" y="382"/>
                      </a:lnTo>
                      <a:lnTo>
                        <a:pt x="438" y="381"/>
                      </a:lnTo>
                      <a:lnTo>
                        <a:pt x="437" y="380"/>
                      </a:lnTo>
                      <a:lnTo>
                        <a:pt x="436" y="379"/>
                      </a:lnTo>
                      <a:lnTo>
                        <a:pt x="434" y="379"/>
                      </a:lnTo>
                      <a:lnTo>
                        <a:pt x="432" y="379"/>
                      </a:lnTo>
                      <a:lnTo>
                        <a:pt x="431" y="380"/>
                      </a:lnTo>
                      <a:lnTo>
                        <a:pt x="430" y="381"/>
                      </a:lnTo>
                      <a:lnTo>
                        <a:pt x="430" y="382"/>
                      </a:lnTo>
                      <a:lnTo>
                        <a:pt x="423" y="382"/>
                      </a:lnTo>
                      <a:lnTo>
                        <a:pt x="423" y="381"/>
                      </a:lnTo>
                      <a:lnTo>
                        <a:pt x="422" y="380"/>
                      </a:lnTo>
                      <a:lnTo>
                        <a:pt x="421" y="379"/>
                      </a:lnTo>
                      <a:lnTo>
                        <a:pt x="419" y="379"/>
                      </a:lnTo>
                      <a:lnTo>
                        <a:pt x="417" y="379"/>
                      </a:lnTo>
                      <a:lnTo>
                        <a:pt x="416" y="380"/>
                      </a:lnTo>
                      <a:lnTo>
                        <a:pt x="415" y="381"/>
                      </a:lnTo>
                      <a:lnTo>
                        <a:pt x="415" y="382"/>
                      </a:lnTo>
                      <a:lnTo>
                        <a:pt x="412" y="382"/>
                      </a:lnTo>
                      <a:lnTo>
                        <a:pt x="411" y="381"/>
                      </a:lnTo>
                      <a:lnTo>
                        <a:pt x="410" y="380"/>
                      </a:lnTo>
                      <a:lnTo>
                        <a:pt x="409" y="379"/>
                      </a:lnTo>
                      <a:lnTo>
                        <a:pt x="407" y="379"/>
                      </a:lnTo>
                      <a:lnTo>
                        <a:pt x="405" y="379"/>
                      </a:lnTo>
                      <a:lnTo>
                        <a:pt x="404" y="380"/>
                      </a:lnTo>
                      <a:lnTo>
                        <a:pt x="403" y="381"/>
                      </a:lnTo>
                      <a:lnTo>
                        <a:pt x="403" y="382"/>
                      </a:lnTo>
                      <a:lnTo>
                        <a:pt x="399" y="382"/>
                      </a:lnTo>
                      <a:lnTo>
                        <a:pt x="399" y="381"/>
                      </a:lnTo>
                      <a:lnTo>
                        <a:pt x="398" y="380"/>
                      </a:lnTo>
                      <a:lnTo>
                        <a:pt x="396" y="379"/>
                      </a:lnTo>
                      <a:lnTo>
                        <a:pt x="395" y="379"/>
                      </a:lnTo>
                      <a:lnTo>
                        <a:pt x="393" y="379"/>
                      </a:lnTo>
                      <a:lnTo>
                        <a:pt x="391" y="380"/>
                      </a:lnTo>
                      <a:lnTo>
                        <a:pt x="391" y="381"/>
                      </a:lnTo>
                      <a:lnTo>
                        <a:pt x="390" y="382"/>
                      </a:lnTo>
                      <a:lnTo>
                        <a:pt x="277" y="382"/>
                      </a:lnTo>
                      <a:lnTo>
                        <a:pt x="276" y="381"/>
                      </a:lnTo>
                      <a:lnTo>
                        <a:pt x="275" y="380"/>
                      </a:lnTo>
                      <a:lnTo>
                        <a:pt x="274" y="379"/>
                      </a:lnTo>
                      <a:lnTo>
                        <a:pt x="272" y="379"/>
                      </a:lnTo>
                      <a:lnTo>
                        <a:pt x="270" y="379"/>
                      </a:lnTo>
                      <a:lnTo>
                        <a:pt x="269" y="380"/>
                      </a:lnTo>
                      <a:lnTo>
                        <a:pt x="268" y="381"/>
                      </a:lnTo>
                      <a:lnTo>
                        <a:pt x="268" y="382"/>
                      </a:lnTo>
                      <a:lnTo>
                        <a:pt x="124" y="382"/>
                      </a:lnTo>
                      <a:lnTo>
                        <a:pt x="124" y="381"/>
                      </a:lnTo>
                      <a:lnTo>
                        <a:pt x="123" y="380"/>
                      </a:lnTo>
                      <a:lnTo>
                        <a:pt x="121" y="379"/>
                      </a:lnTo>
                      <a:lnTo>
                        <a:pt x="119" y="379"/>
                      </a:lnTo>
                      <a:lnTo>
                        <a:pt x="118" y="379"/>
                      </a:lnTo>
                      <a:lnTo>
                        <a:pt x="116" y="380"/>
                      </a:lnTo>
                      <a:lnTo>
                        <a:pt x="115" y="381"/>
                      </a:lnTo>
                      <a:lnTo>
                        <a:pt x="115" y="382"/>
                      </a:lnTo>
                      <a:lnTo>
                        <a:pt x="108" y="382"/>
                      </a:lnTo>
                      <a:lnTo>
                        <a:pt x="108" y="381"/>
                      </a:lnTo>
                      <a:lnTo>
                        <a:pt x="107" y="380"/>
                      </a:lnTo>
                      <a:lnTo>
                        <a:pt x="106" y="379"/>
                      </a:lnTo>
                      <a:lnTo>
                        <a:pt x="104" y="379"/>
                      </a:lnTo>
                      <a:lnTo>
                        <a:pt x="102" y="379"/>
                      </a:lnTo>
                      <a:lnTo>
                        <a:pt x="101" y="380"/>
                      </a:lnTo>
                      <a:lnTo>
                        <a:pt x="100" y="381"/>
                      </a:lnTo>
                      <a:lnTo>
                        <a:pt x="99" y="382"/>
                      </a:lnTo>
                      <a:lnTo>
                        <a:pt x="61" y="382"/>
                      </a:lnTo>
                      <a:lnTo>
                        <a:pt x="60" y="381"/>
                      </a:lnTo>
                      <a:lnTo>
                        <a:pt x="59" y="380"/>
                      </a:lnTo>
                      <a:lnTo>
                        <a:pt x="58" y="379"/>
                      </a:lnTo>
                      <a:lnTo>
                        <a:pt x="56" y="379"/>
                      </a:lnTo>
                      <a:lnTo>
                        <a:pt x="54" y="379"/>
                      </a:lnTo>
                      <a:lnTo>
                        <a:pt x="53" y="380"/>
                      </a:lnTo>
                      <a:lnTo>
                        <a:pt x="52" y="381"/>
                      </a:lnTo>
                      <a:lnTo>
                        <a:pt x="52" y="382"/>
                      </a:lnTo>
                      <a:lnTo>
                        <a:pt x="38" y="382"/>
                      </a:lnTo>
                      <a:lnTo>
                        <a:pt x="38" y="381"/>
                      </a:lnTo>
                      <a:lnTo>
                        <a:pt x="37" y="380"/>
                      </a:lnTo>
                      <a:lnTo>
                        <a:pt x="35" y="379"/>
                      </a:lnTo>
                      <a:lnTo>
                        <a:pt x="34" y="379"/>
                      </a:lnTo>
                      <a:lnTo>
                        <a:pt x="32" y="379"/>
                      </a:lnTo>
                      <a:lnTo>
                        <a:pt x="30" y="380"/>
                      </a:lnTo>
                      <a:lnTo>
                        <a:pt x="29" y="381"/>
                      </a:lnTo>
                      <a:lnTo>
                        <a:pt x="29" y="382"/>
                      </a:lnTo>
                      <a:lnTo>
                        <a:pt x="20" y="382"/>
                      </a:lnTo>
                      <a:lnTo>
                        <a:pt x="20" y="381"/>
                      </a:lnTo>
                      <a:lnTo>
                        <a:pt x="19" y="380"/>
                      </a:lnTo>
                      <a:lnTo>
                        <a:pt x="17" y="379"/>
                      </a:lnTo>
                      <a:lnTo>
                        <a:pt x="16" y="379"/>
                      </a:lnTo>
                      <a:lnTo>
                        <a:pt x="14" y="379"/>
                      </a:lnTo>
                      <a:lnTo>
                        <a:pt x="12" y="380"/>
                      </a:lnTo>
                      <a:lnTo>
                        <a:pt x="11" y="381"/>
                      </a:lnTo>
                      <a:lnTo>
                        <a:pt x="11" y="382"/>
                      </a:lnTo>
                      <a:lnTo>
                        <a:pt x="0" y="382"/>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7818840" y="3435840"/>
                  <a:ext cx="1260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ff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180" name=""/>
                <p:cNvSpPr/>
                <p:nvPr/>
              </p:nvSpPr>
              <p:spPr>
                <a:xfrm>
                  <a:off x="5923800" y="39542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81" name=""/>
                <p:cNvSpPr/>
                <p:nvPr/>
              </p:nvSpPr>
              <p:spPr>
                <a:xfrm>
                  <a:off x="3675240" y="2642760"/>
                  <a:ext cx="2066400" cy="2871360"/>
                </a:xfrm>
                <a:custGeom>
                  <a:avLst/>
                  <a:gdLst/>
                  <a:ahLst/>
                  <a:rect l="l" t="t" r="r" b="b"/>
                  <a:pathLst>
                    <a:path w="1952" h="2150">
                      <a:moveTo>
                        <a:pt x="1952" y="2110"/>
                      </a:moveTo>
                      <a:lnTo>
                        <a:pt x="1944" y="2112"/>
                      </a:lnTo>
                      <a:lnTo>
                        <a:pt x="1638" y="2112"/>
                      </a:lnTo>
                      <a:lnTo>
                        <a:pt x="1638" y="2150"/>
                      </a:lnTo>
                      <a:lnTo>
                        <a:pt x="884" y="2150"/>
                      </a:lnTo>
                      <a:lnTo>
                        <a:pt x="884" y="2148"/>
                      </a:lnTo>
                      <a:lnTo>
                        <a:pt x="883" y="2147"/>
                      </a:lnTo>
                      <a:lnTo>
                        <a:pt x="882" y="2147"/>
                      </a:lnTo>
                      <a:lnTo>
                        <a:pt x="880" y="2146"/>
                      </a:lnTo>
                      <a:lnTo>
                        <a:pt x="878" y="2147"/>
                      </a:lnTo>
                      <a:lnTo>
                        <a:pt x="877" y="2147"/>
                      </a:lnTo>
                      <a:lnTo>
                        <a:pt x="876" y="2148"/>
                      </a:lnTo>
                      <a:lnTo>
                        <a:pt x="875" y="2150"/>
                      </a:lnTo>
                      <a:lnTo>
                        <a:pt x="0" y="2150"/>
                      </a:lnTo>
                      <a:lnTo>
                        <a:pt x="0" y="52"/>
                      </a:lnTo>
                      <a:lnTo>
                        <a:pt x="276" y="52"/>
                      </a:lnTo>
                      <a:lnTo>
                        <a:pt x="277" y="51"/>
                      </a:lnTo>
                      <a:lnTo>
                        <a:pt x="278" y="50"/>
                      </a:lnTo>
                      <a:lnTo>
                        <a:pt x="279" y="49"/>
                      </a:lnTo>
                      <a:lnTo>
                        <a:pt x="281" y="48"/>
                      </a:lnTo>
                      <a:lnTo>
                        <a:pt x="283" y="49"/>
                      </a:lnTo>
                      <a:lnTo>
                        <a:pt x="284" y="50"/>
                      </a:lnTo>
                      <a:lnTo>
                        <a:pt x="285" y="51"/>
                      </a:lnTo>
                      <a:lnTo>
                        <a:pt x="285" y="52"/>
                      </a:lnTo>
                      <a:lnTo>
                        <a:pt x="336" y="52"/>
                      </a:lnTo>
                      <a:lnTo>
                        <a:pt x="336" y="3"/>
                      </a:lnTo>
                      <a:lnTo>
                        <a:pt x="345" y="3"/>
                      </a:lnTo>
                      <a:lnTo>
                        <a:pt x="345" y="2"/>
                      </a:lnTo>
                      <a:lnTo>
                        <a:pt x="346" y="1"/>
                      </a:lnTo>
                      <a:lnTo>
                        <a:pt x="348" y="0"/>
                      </a:lnTo>
                      <a:lnTo>
                        <a:pt x="350" y="0"/>
                      </a:lnTo>
                      <a:lnTo>
                        <a:pt x="351" y="0"/>
                      </a:lnTo>
                      <a:lnTo>
                        <a:pt x="353" y="1"/>
                      </a:lnTo>
                      <a:lnTo>
                        <a:pt x="354" y="2"/>
                      </a:lnTo>
                      <a:lnTo>
                        <a:pt x="354" y="3"/>
                      </a:lnTo>
                      <a:lnTo>
                        <a:pt x="442"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5740560" y="5455440"/>
                  <a:ext cx="13680" cy="11520"/>
                </a:xfrm>
                <a:custGeom>
                  <a:avLst/>
                  <a:gdLst/>
                  <a:ahLst/>
                  <a:rect l="l" t="t" r="r" b="b"/>
                  <a:pathLst>
                    <a:path w="13" h="9">
                      <a:moveTo>
                        <a:pt x="0" y="0"/>
                      </a:moveTo>
                      <a:lnTo>
                        <a:pt x="13" y="2"/>
                      </a:lnTo>
                      <a:lnTo>
                        <a:pt x="3" y="9"/>
                      </a:lnTo>
                      <a:lnTo>
                        <a:pt x="1" y="7"/>
                      </a:lnTo>
                      <a:lnTo>
                        <a:pt x="0" y="5"/>
                      </a:lnTo>
                      <a:lnTo>
                        <a:pt x="0" y="2"/>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83" name=""/>
                <p:cNvSpPr/>
                <p:nvPr/>
              </p:nvSpPr>
              <p:spPr>
                <a:xfrm>
                  <a:off x="5923800" y="3644280"/>
                  <a:ext cx="193680" cy="232200"/>
                </a:xfrm>
                <a:custGeom>
                  <a:avLst/>
                  <a:gdLst/>
                  <a:ahLst/>
                  <a:rect l="l" t="t" r="r" b="b"/>
                  <a:pathLst>
                    <a:path w="183" h="174">
                      <a:moveTo>
                        <a:pt x="183" y="0"/>
                      </a:moveTo>
                      <a:lnTo>
                        <a:pt x="183" y="174"/>
                      </a:lnTo>
                      <a:lnTo>
                        <a:pt x="124" y="174"/>
                      </a:lnTo>
                      <a:lnTo>
                        <a:pt x="124" y="172"/>
                      </a:lnTo>
                      <a:lnTo>
                        <a:pt x="123" y="171"/>
                      </a:lnTo>
                      <a:lnTo>
                        <a:pt x="121" y="170"/>
                      </a:lnTo>
                      <a:lnTo>
                        <a:pt x="119" y="170"/>
                      </a:lnTo>
                      <a:lnTo>
                        <a:pt x="118" y="170"/>
                      </a:lnTo>
                      <a:lnTo>
                        <a:pt x="116" y="171"/>
                      </a:lnTo>
                      <a:lnTo>
                        <a:pt x="115" y="172"/>
                      </a:lnTo>
                      <a:lnTo>
                        <a:pt x="115" y="174"/>
                      </a:lnTo>
                      <a:lnTo>
                        <a:pt x="108" y="174"/>
                      </a:lnTo>
                      <a:lnTo>
                        <a:pt x="108" y="172"/>
                      </a:lnTo>
                      <a:lnTo>
                        <a:pt x="107" y="171"/>
                      </a:lnTo>
                      <a:lnTo>
                        <a:pt x="106" y="170"/>
                      </a:lnTo>
                      <a:lnTo>
                        <a:pt x="104" y="170"/>
                      </a:lnTo>
                      <a:lnTo>
                        <a:pt x="102" y="170"/>
                      </a:lnTo>
                      <a:lnTo>
                        <a:pt x="101" y="171"/>
                      </a:lnTo>
                      <a:lnTo>
                        <a:pt x="100" y="172"/>
                      </a:lnTo>
                      <a:lnTo>
                        <a:pt x="99" y="174"/>
                      </a:lnTo>
                      <a:lnTo>
                        <a:pt x="71" y="174"/>
                      </a:lnTo>
                      <a:lnTo>
                        <a:pt x="71" y="172"/>
                      </a:lnTo>
                      <a:lnTo>
                        <a:pt x="70" y="171"/>
                      </a:lnTo>
                      <a:lnTo>
                        <a:pt x="69" y="170"/>
                      </a:lnTo>
                      <a:lnTo>
                        <a:pt x="67" y="170"/>
                      </a:lnTo>
                      <a:lnTo>
                        <a:pt x="65" y="170"/>
                      </a:lnTo>
                      <a:lnTo>
                        <a:pt x="64" y="171"/>
                      </a:lnTo>
                      <a:lnTo>
                        <a:pt x="63" y="172"/>
                      </a:lnTo>
                      <a:lnTo>
                        <a:pt x="63" y="174"/>
                      </a:lnTo>
                      <a:lnTo>
                        <a:pt x="61" y="174"/>
                      </a:lnTo>
                      <a:lnTo>
                        <a:pt x="60" y="172"/>
                      </a:lnTo>
                      <a:lnTo>
                        <a:pt x="59" y="171"/>
                      </a:lnTo>
                      <a:lnTo>
                        <a:pt x="58" y="170"/>
                      </a:lnTo>
                      <a:lnTo>
                        <a:pt x="56" y="170"/>
                      </a:lnTo>
                      <a:lnTo>
                        <a:pt x="54" y="170"/>
                      </a:lnTo>
                      <a:lnTo>
                        <a:pt x="53" y="171"/>
                      </a:lnTo>
                      <a:lnTo>
                        <a:pt x="52" y="172"/>
                      </a:lnTo>
                      <a:lnTo>
                        <a:pt x="52" y="174"/>
                      </a:lnTo>
                      <a:lnTo>
                        <a:pt x="38" y="174"/>
                      </a:lnTo>
                      <a:lnTo>
                        <a:pt x="38" y="172"/>
                      </a:lnTo>
                      <a:lnTo>
                        <a:pt x="37" y="171"/>
                      </a:lnTo>
                      <a:lnTo>
                        <a:pt x="35" y="170"/>
                      </a:lnTo>
                      <a:lnTo>
                        <a:pt x="34" y="170"/>
                      </a:lnTo>
                      <a:lnTo>
                        <a:pt x="32" y="170"/>
                      </a:lnTo>
                      <a:lnTo>
                        <a:pt x="30" y="171"/>
                      </a:lnTo>
                      <a:lnTo>
                        <a:pt x="29" y="172"/>
                      </a:lnTo>
                      <a:lnTo>
                        <a:pt x="29" y="174"/>
                      </a:lnTo>
                      <a:lnTo>
                        <a:pt x="20" y="174"/>
                      </a:lnTo>
                      <a:lnTo>
                        <a:pt x="20" y="172"/>
                      </a:lnTo>
                      <a:lnTo>
                        <a:pt x="19" y="171"/>
                      </a:lnTo>
                      <a:lnTo>
                        <a:pt x="17" y="170"/>
                      </a:lnTo>
                      <a:lnTo>
                        <a:pt x="16" y="170"/>
                      </a:lnTo>
                      <a:lnTo>
                        <a:pt x="14" y="170"/>
                      </a:lnTo>
                      <a:lnTo>
                        <a:pt x="12" y="171"/>
                      </a:lnTo>
                      <a:lnTo>
                        <a:pt x="11" y="172"/>
                      </a:lnTo>
                      <a:lnTo>
                        <a:pt x="11" y="174"/>
                      </a:lnTo>
                      <a:lnTo>
                        <a:pt x="0" y="1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111000" y="363096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85" name=""/>
                <p:cNvSpPr/>
                <p:nvPr/>
              </p:nvSpPr>
              <p:spPr>
                <a:xfrm>
                  <a:off x="5923800" y="387000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86" name=""/>
                <p:cNvSpPr/>
                <p:nvPr/>
              </p:nvSpPr>
              <p:spPr>
                <a:xfrm>
                  <a:off x="5504400" y="2111040"/>
                  <a:ext cx="2825640" cy="1788120"/>
                </a:xfrm>
                <a:custGeom>
                  <a:avLst/>
                  <a:gdLst/>
                  <a:ahLst/>
                  <a:rect l="l" t="t" r="r" b="b"/>
                  <a:pathLst>
                    <a:path w="2669" h="1339">
                      <a:moveTo>
                        <a:pt x="2669" y="0"/>
                      </a:moveTo>
                      <a:lnTo>
                        <a:pt x="2669" y="80"/>
                      </a:lnTo>
                      <a:lnTo>
                        <a:pt x="2583" y="80"/>
                      </a:lnTo>
                      <a:lnTo>
                        <a:pt x="2582" y="78"/>
                      </a:lnTo>
                      <a:lnTo>
                        <a:pt x="2581" y="77"/>
                      </a:lnTo>
                      <a:lnTo>
                        <a:pt x="2580" y="77"/>
                      </a:lnTo>
                      <a:lnTo>
                        <a:pt x="2578" y="76"/>
                      </a:lnTo>
                      <a:lnTo>
                        <a:pt x="2576" y="77"/>
                      </a:lnTo>
                      <a:lnTo>
                        <a:pt x="2575" y="77"/>
                      </a:lnTo>
                      <a:lnTo>
                        <a:pt x="2574" y="78"/>
                      </a:lnTo>
                      <a:lnTo>
                        <a:pt x="2574" y="80"/>
                      </a:lnTo>
                      <a:lnTo>
                        <a:pt x="2537" y="80"/>
                      </a:lnTo>
                      <a:lnTo>
                        <a:pt x="2537" y="78"/>
                      </a:lnTo>
                      <a:lnTo>
                        <a:pt x="2536" y="77"/>
                      </a:lnTo>
                      <a:lnTo>
                        <a:pt x="2535" y="76"/>
                      </a:lnTo>
                      <a:lnTo>
                        <a:pt x="2533" y="76"/>
                      </a:lnTo>
                      <a:lnTo>
                        <a:pt x="2532" y="76"/>
                      </a:lnTo>
                      <a:lnTo>
                        <a:pt x="2530" y="76"/>
                      </a:lnTo>
                      <a:lnTo>
                        <a:pt x="2528" y="77"/>
                      </a:lnTo>
                      <a:lnTo>
                        <a:pt x="2528" y="78"/>
                      </a:lnTo>
                      <a:lnTo>
                        <a:pt x="2527" y="80"/>
                      </a:lnTo>
                      <a:lnTo>
                        <a:pt x="2484" y="80"/>
                      </a:lnTo>
                      <a:lnTo>
                        <a:pt x="2484" y="78"/>
                      </a:lnTo>
                      <a:lnTo>
                        <a:pt x="2483" y="77"/>
                      </a:lnTo>
                      <a:lnTo>
                        <a:pt x="2482" y="77"/>
                      </a:lnTo>
                      <a:lnTo>
                        <a:pt x="2480" y="76"/>
                      </a:lnTo>
                      <a:lnTo>
                        <a:pt x="2478" y="77"/>
                      </a:lnTo>
                      <a:lnTo>
                        <a:pt x="2477" y="77"/>
                      </a:lnTo>
                      <a:lnTo>
                        <a:pt x="2476" y="78"/>
                      </a:lnTo>
                      <a:lnTo>
                        <a:pt x="2476" y="80"/>
                      </a:lnTo>
                      <a:lnTo>
                        <a:pt x="2429" y="80"/>
                      </a:lnTo>
                      <a:lnTo>
                        <a:pt x="2428" y="78"/>
                      </a:lnTo>
                      <a:lnTo>
                        <a:pt x="2427" y="77"/>
                      </a:lnTo>
                      <a:lnTo>
                        <a:pt x="2426" y="77"/>
                      </a:lnTo>
                      <a:lnTo>
                        <a:pt x="2424" y="76"/>
                      </a:lnTo>
                      <a:lnTo>
                        <a:pt x="2423" y="77"/>
                      </a:lnTo>
                      <a:lnTo>
                        <a:pt x="2421" y="77"/>
                      </a:lnTo>
                      <a:lnTo>
                        <a:pt x="2420" y="78"/>
                      </a:lnTo>
                      <a:lnTo>
                        <a:pt x="2420" y="80"/>
                      </a:lnTo>
                      <a:lnTo>
                        <a:pt x="2300" y="80"/>
                      </a:lnTo>
                      <a:lnTo>
                        <a:pt x="2300" y="78"/>
                      </a:lnTo>
                      <a:lnTo>
                        <a:pt x="2299" y="77"/>
                      </a:lnTo>
                      <a:lnTo>
                        <a:pt x="2298" y="77"/>
                      </a:lnTo>
                      <a:lnTo>
                        <a:pt x="2296" y="76"/>
                      </a:lnTo>
                      <a:lnTo>
                        <a:pt x="2294" y="77"/>
                      </a:lnTo>
                      <a:lnTo>
                        <a:pt x="2293" y="77"/>
                      </a:lnTo>
                      <a:lnTo>
                        <a:pt x="2292" y="78"/>
                      </a:lnTo>
                      <a:lnTo>
                        <a:pt x="2291" y="80"/>
                      </a:lnTo>
                      <a:lnTo>
                        <a:pt x="2158" y="80"/>
                      </a:lnTo>
                      <a:lnTo>
                        <a:pt x="2157" y="78"/>
                      </a:lnTo>
                      <a:lnTo>
                        <a:pt x="2156" y="77"/>
                      </a:lnTo>
                      <a:lnTo>
                        <a:pt x="2155" y="77"/>
                      </a:lnTo>
                      <a:lnTo>
                        <a:pt x="2153" y="76"/>
                      </a:lnTo>
                      <a:lnTo>
                        <a:pt x="2151" y="77"/>
                      </a:lnTo>
                      <a:lnTo>
                        <a:pt x="2150" y="77"/>
                      </a:lnTo>
                      <a:lnTo>
                        <a:pt x="2149" y="78"/>
                      </a:lnTo>
                      <a:lnTo>
                        <a:pt x="2149" y="80"/>
                      </a:lnTo>
                      <a:lnTo>
                        <a:pt x="2039" y="80"/>
                      </a:lnTo>
                      <a:lnTo>
                        <a:pt x="2039" y="158"/>
                      </a:lnTo>
                      <a:lnTo>
                        <a:pt x="1924" y="158"/>
                      </a:lnTo>
                      <a:lnTo>
                        <a:pt x="1924" y="157"/>
                      </a:lnTo>
                      <a:lnTo>
                        <a:pt x="1923" y="156"/>
                      </a:lnTo>
                      <a:lnTo>
                        <a:pt x="1921" y="155"/>
                      </a:lnTo>
                      <a:lnTo>
                        <a:pt x="1919" y="154"/>
                      </a:lnTo>
                      <a:lnTo>
                        <a:pt x="1918" y="155"/>
                      </a:lnTo>
                      <a:lnTo>
                        <a:pt x="1916" y="156"/>
                      </a:lnTo>
                      <a:lnTo>
                        <a:pt x="1915" y="157"/>
                      </a:lnTo>
                      <a:lnTo>
                        <a:pt x="1915" y="158"/>
                      </a:lnTo>
                      <a:lnTo>
                        <a:pt x="1801" y="158"/>
                      </a:lnTo>
                      <a:lnTo>
                        <a:pt x="1800" y="157"/>
                      </a:lnTo>
                      <a:lnTo>
                        <a:pt x="1799" y="156"/>
                      </a:lnTo>
                      <a:lnTo>
                        <a:pt x="1798" y="155"/>
                      </a:lnTo>
                      <a:lnTo>
                        <a:pt x="1796" y="154"/>
                      </a:lnTo>
                      <a:lnTo>
                        <a:pt x="1794" y="155"/>
                      </a:lnTo>
                      <a:lnTo>
                        <a:pt x="1793" y="156"/>
                      </a:lnTo>
                      <a:lnTo>
                        <a:pt x="1792" y="157"/>
                      </a:lnTo>
                      <a:lnTo>
                        <a:pt x="1792" y="158"/>
                      </a:lnTo>
                      <a:lnTo>
                        <a:pt x="1740" y="158"/>
                      </a:lnTo>
                      <a:lnTo>
                        <a:pt x="1740" y="157"/>
                      </a:lnTo>
                      <a:lnTo>
                        <a:pt x="1738" y="156"/>
                      </a:lnTo>
                      <a:lnTo>
                        <a:pt x="1737" y="155"/>
                      </a:lnTo>
                      <a:lnTo>
                        <a:pt x="1735" y="154"/>
                      </a:lnTo>
                      <a:lnTo>
                        <a:pt x="1734" y="155"/>
                      </a:lnTo>
                      <a:lnTo>
                        <a:pt x="1732" y="156"/>
                      </a:lnTo>
                      <a:lnTo>
                        <a:pt x="1731" y="157"/>
                      </a:lnTo>
                      <a:lnTo>
                        <a:pt x="1731" y="158"/>
                      </a:lnTo>
                      <a:lnTo>
                        <a:pt x="1706" y="158"/>
                      </a:lnTo>
                      <a:lnTo>
                        <a:pt x="1706" y="157"/>
                      </a:lnTo>
                      <a:lnTo>
                        <a:pt x="1705" y="156"/>
                      </a:lnTo>
                      <a:lnTo>
                        <a:pt x="1703" y="155"/>
                      </a:lnTo>
                      <a:lnTo>
                        <a:pt x="1702" y="154"/>
                      </a:lnTo>
                      <a:lnTo>
                        <a:pt x="1700" y="155"/>
                      </a:lnTo>
                      <a:lnTo>
                        <a:pt x="1698" y="156"/>
                      </a:lnTo>
                      <a:lnTo>
                        <a:pt x="1698" y="157"/>
                      </a:lnTo>
                      <a:lnTo>
                        <a:pt x="1697" y="158"/>
                      </a:lnTo>
                      <a:lnTo>
                        <a:pt x="1666" y="158"/>
                      </a:lnTo>
                      <a:lnTo>
                        <a:pt x="1665" y="157"/>
                      </a:lnTo>
                      <a:lnTo>
                        <a:pt x="1664" y="156"/>
                      </a:lnTo>
                      <a:lnTo>
                        <a:pt x="1663" y="155"/>
                      </a:lnTo>
                      <a:lnTo>
                        <a:pt x="1661" y="154"/>
                      </a:lnTo>
                      <a:lnTo>
                        <a:pt x="1659" y="155"/>
                      </a:lnTo>
                      <a:lnTo>
                        <a:pt x="1658" y="156"/>
                      </a:lnTo>
                      <a:lnTo>
                        <a:pt x="1657" y="157"/>
                      </a:lnTo>
                      <a:lnTo>
                        <a:pt x="1656" y="158"/>
                      </a:lnTo>
                      <a:lnTo>
                        <a:pt x="1638" y="158"/>
                      </a:lnTo>
                      <a:lnTo>
                        <a:pt x="1638" y="157"/>
                      </a:lnTo>
                      <a:lnTo>
                        <a:pt x="1637" y="156"/>
                      </a:lnTo>
                      <a:lnTo>
                        <a:pt x="1636" y="155"/>
                      </a:lnTo>
                      <a:lnTo>
                        <a:pt x="1634" y="154"/>
                      </a:lnTo>
                      <a:lnTo>
                        <a:pt x="1632" y="155"/>
                      </a:lnTo>
                      <a:lnTo>
                        <a:pt x="1631" y="156"/>
                      </a:lnTo>
                      <a:lnTo>
                        <a:pt x="1630" y="157"/>
                      </a:lnTo>
                      <a:lnTo>
                        <a:pt x="1629" y="158"/>
                      </a:lnTo>
                      <a:lnTo>
                        <a:pt x="1618" y="158"/>
                      </a:lnTo>
                      <a:lnTo>
                        <a:pt x="1617" y="157"/>
                      </a:lnTo>
                      <a:lnTo>
                        <a:pt x="1617" y="156"/>
                      </a:lnTo>
                      <a:lnTo>
                        <a:pt x="1615" y="155"/>
                      </a:lnTo>
                      <a:lnTo>
                        <a:pt x="1613" y="154"/>
                      </a:lnTo>
                      <a:lnTo>
                        <a:pt x="1612" y="155"/>
                      </a:lnTo>
                      <a:lnTo>
                        <a:pt x="1610" y="156"/>
                      </a:lnTo>
                      <a:lnTo>
                        <a:pt x="1609" y="157"/>
                      </a:lnTo>
                      <a:lnTo>
                        <a:pt x="1609" y="158"/>
                      </a:lnTo>
                      <a:lnTo>
                        <a:pt x="1596" y="158"/>
                      </a:lnTo>
                      <a:lnTo>
                        <a:pt x="1595" y="157"/>
                      </a:lnTo>
                      <a:lnTo>
                        <a:pt x="1595" y="156"/>
                      </a:lnTo>
                      <a:lnTo>
                        <a:pt x="1593" y="155"/>
                      </a:lnTo>
                      <a:lnTo>
                        <a:pt x="1591" y="154"/>
                      </a:lnTo>
                      <a:lnTo>
                        <a:pt x="1590" y="155"/>
                      </a:lnTo>
                      <a:lnTo>
                        <a:pt x="1588" y="156"/>
                      </a:lnTo>
                      <a:lnTo>
                        <a:pt x="1587" y="157"/>
                      </a:lnTo>
                      <a:lnTo>
                        <a:pt x="1587" y="158"/>
                      </a:lnTo>
                      <a:lnTo>
                        <a:pt x="1570" y="158"/>
                      </a:lnTo>
                      <a:lnTo>
                        <a:pt x="1570" y="157"/>
                      </a:lnTo>
                      <a:lnTo>
                        <a:pt x="1569" y="156"/>
                      </a:lnTo>
                      <a:lnTo>
                        <a:pt x="1567" y="155"/>
                      </a:lnTo>
                      <a:lnTo>
                        <a:pt x="1566" y="154"/>
                      </a:lnTo>
                      <a:lnTo>
                        <a:pt x="1564" y="155"/>
                      </a:lnTo>
                      <a:lnTo>
                        <a:pt x="1562" y="156"/>
                      </a:lnTo>
                      <a:lnTo>
                        <a:pt x="1561" y="157"/>
                      </a:lnTo>
                      <a:lnTo>
                        <a:pt x="1561" y="158"/>
                      </a:lnTo>
                      <a:lnTo>
                        <a:pt x="1542" y="158"/>
                      </a:lnTo>
                      <a:lnTo>
                        <a:pt x="1542" y="157"/>
                      </a:lnTo>
                      <a:lnTo>
                        <a:pt x="1541" y="156"/>
                      </a:lnTo>
                      <a:lnTo>
                        <a:pt x="1540" y="155"/>
                      </a:lnTo>
                      <a:lnTo>
                        <a:pt x="1538" y="154"/>
                      </a:lnTo>
                      <a:lnTo>
                        <a:pt x="1536" y="155"/>
                      </a:lnTo>
                      <a:lnTo>
                        <a:pt x="1535" y="156"/>
                      </a:lnTo>
                      <a:lnTo>
                        <a:pt x="1534" y="157"/>
                      </a:lnTo>
                      <a:lnTo>
                        <a:pt x="1533" y="158"/>
                      </a:lnTo>
                      <a:lnTo>
                        <a:pt x="1518" y="158"/>
                      </a:lnTo>
                      <a:lnTo>
                        <a:pt x="1518" y="157"/>
                      </a:lnTo>
                      <a:lnTo>
                        <a:pt x="1517" y="156"/>
                      </a:lnTo>
                      <a:lnTo>
                        <a:pt x="1515" y="155"/>
                      </a:lnTo>
                      <a:lnTo>
                        <a:pt x="1514" y="154"/>
                      </a:lnTo>
                      <a:lnTo>
                        <a:pt x="1512" y="155"/>
                      </a:lnTo>
                      <a:lnTo>
                        <a:pt x="1510" y="156"/>
                      </a:lnTo>
                      <a:lnTo>
                        <a:pt x="1510" y="157"/>
                      </a:lnTo>
                      <a:lnTo>
                        <a:pt x="1509" y="158"/>
                      </a:lnTo>
                      <a:lnTo>
                        <a:pt x="1229" y="158"/>
                      </a:lnTo>
                      <a:lnTo>
                        <a:pt x="1228" y="157"/>
                      </a:lnTo>
                      <a:lnTo>
                        <a:pt x="1227" y="156"/>
                      </a:lnTo>
                      <a:lnTo>
                        <a:pt x="1226" y="155"/>
                      </a:lnTo>
                      <a:lnTo>
                        <a:pt x="1224" y="154"/>
                      </a:lnTo>
                      <a:lnTo>
                        <a:pt x="1223" y="155"/>
                      </a:lnTo>
                      <a:lnTo>
                        <a:pt x="1221" y="156"/>
                      </a:lnTo>
                      <a:lnTo>
                        <a:pt x="1220" y="157"/>
                      </a:lnTo>
                      <a:lnTo>
                        <a:pt x="1220" y="158"/>
                      </a:lnTo>
                      <a:lnTo>
                        <a:pt x="1206" y="158"/>
                      </a:lnTo>
                      <a:lnTo>
                        <a:pt x="1206" y="157"/>
                      </a:lnTo>
                      <a:lnTo>
                        <a:pt x="1205" y="156"/>
                      </a:lnTo>
                      <a:lnTo>
                        <a:pt x="1203" y="155"/>
                      </a:lnTo>
                      <a:lnTo>
                        <a:pt x="1202" y="154"/>
                      </a:lnTo>
                      <a:lnTo>
                        <a:pt x="1200" y="155"/>
                      </a:lnTo>
                      <a:lnTo>
                        <a:pt x="1199" y="156"/>
                      </a:lnTo>
                      <a:lnTo>
                        <a:pt x="1198" y="157"/>
                      </a:lnTo>
                      <a:lnTo>
                        <a:pt x="1197" y="158"/>
                      </a:lnTo>
                      <a:lnTo>
                        <a:pt x="1176" y="158"/>
                      </a:lnTo>
                      <a:lnTo>
                        <a:pt x="1176" y="157"/>
                      </a:lnTo>
                      <a:lnTo>
                        <a:pt x="1174" y="156"/>
                      </a:lnTo>
                      <a:lnTo>
                        <a:pt x="1173" y="155"/>
                      </a:lnTo>
                      <a:lnTo>
                        <a:pt x="1171" y="154"/>
                      </a:lnTo>
                      <a:lnTo>
                        <a:pt x="1170" y="155"/>
                      </a:lnTo>
                      <a:lnTo>
                        <a:pt x="1168" y="156"/>
                      </a:lnTo>
                      <a:lnTo>
                        <a:pt x="1167" y="157"/>
                      </a:lnTo>
                      <a:lnTo>
                        <a:pt x="1167" y="158"/>
                      </a:lnTo>
                      <a:lnTo>
                        <a:pt x="1111" y="158"/>
                      </a:lnTo>
                      <a:lnTo>
                        <a:pt x="1111" y="157"/>
                      </a:lnTo>
                      <a:lnTo>
                        <a:pt x="1110" y="156"/>
                      </a:lnTo>
                      <a:lnTo>
                        <a:pt x="1109" y="155"/>
                      </a:lnTo>
                      <a:lnTo>
                        <a:pt x="1107" y="154"/>
                      </a:lnTo>
                      <a:lnTo>
                        <a:pt x="1105" y="155"/>
                      </a:lnTo>
                      <a:lnTo>
                        <a:pt x="1104" y="156"/>
                      </a:lnTo>
                      <a:lnTo>
                        <a:pt x="1103" y="157"/>
                      </a:lnTo>
                      <a:lnTo>
                        <a:pt x="1102" y="158"/>
                      </a:lnTo>
                      <a:lnTo>
                        <a:pt x="1090" y="158"/>
                      </a:lnTo>
                      <a:lnTo>
                        <a:pt x="1089" y="157"/>
                      </a:lnTo>
                      <a:lnTo>
                        <a:pt x="1088" y="156"/>
                      </a:lnTo>
                      <a:lnTo>
                        <a:pt x="1087" y="155"/>
                      </a:lnTo>
                      <a:lnTo>
                        <a:pt x="1085" y="154"/>
                      </a:lnTo>
                      <a:lnTo>
                        <a:pt x="1084" y="155"/>
                      </a:lnTo>
                      <a:lnTo>
                        <a:pt x="1082" y="156"/>
                      </a:lnTo>
                      <a:lnTo>
                        <a:pt x="1081" y="157"/>
                      </a:lnTo>
                      <a:lnTo>
                        <a:pt x="1081" y="158"/>
                      </a:lnTo>
                      <a:lnTo>
                        <a:pt x="1069" y="158"/>
                      </a:lnTo>
                      <a:lnTo>
                        <a:pt x="1069" y="157"/>
                      </a:lnTo>
                      <a:lnTo>
                        <a:pt x="1068" y="156"/>
                      </a:lnTo>
                      <a:lnTo>
                        <a:pt x="1067" y="155"/>
                      </a:lnTo>
                      <a:lnTo>
                        <a:pt x="1065" y="154"/>
                      </a:lnTo>
                      <a:lnTo>
                        <a:pt x="1063" y="155"/>
                      </a:lnTo>
                      <a:lnTo>
                        <a:pt x="1062" y="156"/>
                      </a:lnTo>
                      <a:lnTo>
                        <a:pt x="1061" y="157"/>
                      </a:lnTo>
                      <a:lnTo>
                        <a:pt x="1060" y="158"/>
                      </a:lnTo>
                      <a:lnTo>
                        <a:pt x="1045" y="158"/>
                      </a:lnTo>
                      <a:lnTo>
                        <a:pt x="1045" y="157"/>
                      </a:lnTo>
                      <a:lnTo>
                        <a:pt x="1044" y="156"/>
                      </a:lnTo>
                      <a:lnTo>
                        <a:pt x="1042" y="155"/>
                      </a:lnTo>
                      <a:lnTo>
                        <a:pt x="1041" y="154"/>
                      </a:lnTo>
                      <a:lnTo>
                        <a:pt x="1039" y="155"/>
                      </a:lnTo>
                      <a:lnTo>
                        <a:pt x="1037" y="156"/>
                      </a:lnTo>
                      <a:lnTo>
                        <a:pt x="1037" y="157"/>
                      </a:lnTo>
                      <a:lnTo>
                        <a:pt x="1036" y="158"/>
                      </a:lnTo>
                      <a:lnTo>
                        <a:pt x="945" y="158"/>
                      </a:lnTo>
                      <a:lnTo>
                        <a:pt x="945" y="157"/>
                      </a:lnTo>
                      <a:lnTo>
                        <a:pt x="944" y="156"/>
                      </a:lnTo>
                      <a:lnTo>
                        <a:pt x="943" y="155"/>
                      </a:lnTo>
                      <a:lnTo>
                        <a:pt x="941" y="154"/>
                      </a:lnTo>
                      <a:lnTo>
                        <a:pt x="939" y="155"/>
                      </a:lnTo>
                      <a:lnTo>
                        <a:pt x="938" y="156"/>
                      </a:lnTo>
                      <a:lnTo>
                        <a:pt x="937" y="157"/>
                      </a:lnTo>
                      <a:lnTo>
                        <a:pt x="936" y="158"/>
                      </a:lnTo>
                      <a:lnTo>
                        <a:pt x="803" y="158"/>
                      </a:lnTo>
                      <a:lnTo>
                        <a:pt x="802" y="157"/>
                      </a:lnTo>
                      <a:lnTo>
                        <a:pt x="801" y="156"/>
                      </a:lnTo>
                      <a:lnTo>
                        <a:pt x="800" y="155"/>
                      </a:lnTo>
                      <a:lnTo>
                        <a:pt x="798" y="154"/>
                      </a:lnTo>
                      <a:lnTo>
                        <a:pt x="796" y="155"/>
                      </a:lnTo>
                      <a:lnTo>
                        <a:pt x="795" y="156"/>
                      </a:lnTo>
                      <a:lnTo>
                        <a:pt x="794" y="157"/>
                      </a:lnTo>
                      <a:lnTo>
                        <a:pt x="794" y="158"/>
                      </a:lnTo>
                      <a:lnTo>
                        <a:pt x="760" y="158"/>
                      </a:lnTo>
                      <a:lnTo>
                        <a:pt x="760" y="157"/>
                      </a:lnTo>
                      <a:lnTo>
                        <a:pt x="759" y="156"/>
                      </a:lnTo>
                      <a:lnTo>
                        <a:pt x="758" y="155"/>
                      </a:lnTo>
                      <a:lnTo>
                        <a:pt x="756" y="154"/>
                      </a:lnTo>
                      <a:lnTo>
                        <a:pt x="754" y="155"/>
                      </a:lnTo>
                      <a:lnTo>
                        <a:pt x="753" y="156"/>
                      </a:lnTo>
                      <a:lnTo>
                        <a:pt x="752" y="157"/>
                      </a:lnTo>
                      <a:lnTo>
                        <a:pt x="751" y="158"/>
                      </a:lnTo>
                      <a:lnTo>
                        <a:pt x="723" y="158"/>
                      </a:lnTo>
                      <a:lnTo>
                        <a:pt x="722" y="157"/>
                      </a:lnTo>
                      <a:lnTo>
                        <a:pt x="722" y="156"/>
                      </a:lnTo>
                      <a:lnTo>
                        <a:pt x="720" y="155"/>
                      </a:lnTo>
                      <a:lnTo>
                        <a:pt x="718" y="154"/>
                      </a:lnTo>
                      <a:lnTo>
                        <a:pt x="717" y="155"/>
                      </a:lnTo>
                      <a:lnTo>
                        <a:pt x="715" y="156"/>
                      </a:lnTo>
                      <a:lnTo>
                        <a:pt x="714" y="157"/>
                      </a:lnTo>
                      <a:lnTo>
                        <a:pt x="714" y="158"/>
                      </a:lnTo>
                      <a:lnTo>
                        <a:pt x="689" y="158"/>
                      </a:lnTo>
                      <a:lnTo>
                        <a:pt x="689" y="157"/>
                      </a:lnTo>
                      <a:lnTo>
                        <a:pt x="688" y="156"/>
                      </a:lnTo>
                      <a:lnTo>
                        <a:pt x="687" y="155"/>
                      </a:lnTo>
                      <a:lnTo>
                        <a:pt x="685" y="154"/>
                      </a:lnTo>
                      <a:lnTo>
                        <a:pt x="683" y="155"/>
                      </a:lnTo>
                      <a:lnTo>
                        <a:pt x="682" y="156"/>
                      </a:lnTo>
                      <a:lnTo>
                        <a:pt x="681" y="157"/>
                      </a:lnTo>
                      <a:lnTo>
                        <a:pt x="680" y="158"/>
                      </a:lnTo>
                      <a:lnTo>
                        <a:pt x="673" y="158"/>
                      </a:lnTo>
                      <a:lnTo>
                        <a:pt x="672" y="157"/>
                      </a:lnTo>
                      <a:lnTo>
                        <a:pt x="671" y="156"/>
                      </a:lnTo>
                      <a:lnTo>
                        <a:pt x="670" y="155"/>
                      </a:lnTo>
                      <a:lnTo>
                        <a:pt x="668" y="154"/>
                      </a:lnTo>
                      <a:lnTo>
                        <a:pt x="666" y="155"/>
                      </a:lnTo>
                      <a:lnTo>
                        <a:pt x="665" y="156"/>
                      </a:lnTo>
                      <a:lnTo>
                        <a:pt x="664" y="157"/>
                      </a:lnTo>
                      <a:lnTo>
                        <a:pt x="664" y="158"/>
                      </a:lnTo>
                      <a:lnTo>
                        <a:pt x="652" y="158"/>
                      </a:lnTo>
                      <a:lnTo>
                        <a:pt x="652" y="156"/>
                      </a:lnTo>
                      <a:lnTo>
                        <a:pt x="651" y="155"/>
                      </a:lnTo>
                      <a:lnTo>
                        <a:pt x="650" y="153"/>
                      </a:lnTo>
                      <a:lnTo>
                        <a:pt x="648" y="152"/>
                      </a:lnTo>
                      <a:lnTo>
                        <a:pt x="646" y="152"/>
                      </a:lnTo>
                      <a:lnTo>
                        <a:pt x="643" y="152"/>
                      </a:lnTo>
                      <a:lnTo>
                        <a:pt x="641" y="152"/>
                      </a:lnTo>
                      <a:lnTo>
                        <a:pt x="639" y="153"/>
                      </a:lnTo>
                      <a:lnTo>
                        <a:pt x="638" y="155"/>
                      </a:lnTo>
                      <a:lnTo>
                        <a:pt x="637" y="156"/>
                      </a:lnTo>
                      <a:lnTo>
                        <a:pt x="637" y="158"/>
                      </a:lnTo>
                      <a:lnTo>
                        <a:pt x="597" y="158"/>
                      </a:lnTo>
                      <a:lnTo>
                        <a:pt x="597" y="157"/>
                      </a:lnTo>
                      <a:lnTo>
                        <a:pt x="596" y="156"/>
                      </a:lnTo>
                      <a:lnTo>
                        <a:pt x="595" y="155"/>
                      </a:lnTo>
                      <a:lnTo>
                        <a:pt x="593" y="154"/>
                      </a:lnTo>
                      <a:lnTo>
                        <a:pt x="591" y="155"/>
                      </a:lnTo>
                      <a:lnTo>
                        <a:pt x="590" y="156"/>
                      </a:lnTo>
                      <a:lnTo>
                        <a:pt x="589" y="157"/>
                      </a:lnTo>
                      <a:lnTo>
                        <a:pt x="588" y="158"/>
                      </a:lnTo>
                      <a:lnTo>
                        <a:pt x="572" y="158"/>
                      </a:lnTo>
                      <a:lnTo>
                        <a:pt x="571" y="157"/>
                      </a:lnTo>
                      <a:lnTo>
                        <a:pt x="570" y="156"/>
                      </a:lnTo>
                      <a:lnTo>
                        <a:pt x="569" y="155"/>
                      </a:lnTo>
                      <a:lnTo>
                        <a:pt x="567" y="154"/>
                      </a:lnTo>
                      <a:lnTo>
                        <a:pt x="566" y="155"/>
                      </a:lnTo>
                      <a:lnTo>
                        <a:pt x="564" y="156"/>
                      </a:lnTo>
                      <a:lnTo>
                        <a:pt x="563" y="157"/>
                      </a:lnTo>
                      <a:lnTo>
                        <a:pt x="563" y="158"/>
                      </a:lnTo>
                      <a:lnTo>
                        <a:pt x="544" y="158"/>
                      </a:lnTo>
                      <a:lnTo>
                        <a:pt x="544" y="157"/>
                      </a:lnTo>
                      <a:lnTo>
                        <a:pt x="543" y="156"/>
                      </a:lnTo>
                      <a:lnTo>
                        <a:pt x="542" y="155"/>
                      </a:lnTo>
                      <a:lnTo>
                        <a:pt x="540" y="154"/>
                      </a:lnTo>
                      <a:lnTo>
                        <a:pt x="538" y="155"/>
                      </a:lnTo>
                      <a:lnTo>
                        <a:pt x="537" y="156"/>
                      </a:lnTo>
                      <a:lnTo>
                        <a:pt x="536" y="157"/>
                      </a:lnTo>
                      <a:lnTo>
                        <a:pt x="535" y="158"/>
                      </a:lnTo>
                      <a:lnTo>
                        <a:pt x="520" y="158"/>
                      </a:lnTo>
                      <a:lnTo>
                        <a:pt x="520" y="157"/>
                      </a:lnTo>
                      <a:lnTo>
                        <a:pt x="519" y="156"/>
                      </a:lnTo>
                      <a:lnTo>
                        <a:pt x="517" y="155"/>
                      </a:lnTo>
                      <a:lnTo>
                        <a:pt x="515" y="154"/>
                      </a:lnTo>
                      <a:lnTo>
                        <a:pt x="514" y="155"/>
                      </a:lnTo>
                      <a:lnTo>
                        <a:pt x="512" y="156"/>
                      </a:lnTo>
                      <a:lnTo>
                        <a:pt x="511" y="157"/>
                      </a:lnTo>
                      <a:lnTo>
                        <a:pt x="511" y="158"/>
                      </a:lnTo>
                      <a:lnTo>
                        <a:pt x="477" y="158"/>
                      </a:lnTo>
                      <a:lnTo>
                        <a:pt x="476" y="157"/>
                      </a:lnTo>
                      <a:lnTo>
                        <a:pt x="475" y="156"/>
                      </a:lnTo>
                      <a:lnTo>
                        <a:pt x="474" y="155"/>
                      </a:lnTo>
                      <a:lnTo>
                        <a:pt x="472" y="154"/>
                      </a:lnTo>
                      <a:lnTo>
                        <a:pt x="471" y="155"/>
                      </a:lnTo>
                      <a:lnTo>
                        <a:pt x="469" y="156"/>
                      </a:lnTo>
                      <a:lnTo>
                        <a:pt x="468" y="157"/>
                      </a:lnTo>
                      <a:lnTo>
                        <a:pt x="468" y="158"/>
                      </a:lnTo>
                      <a:lnTo>
                        <a:pt x="450" y="158"/>
                      </a:lnTo>
                      <a:lnTo>
                        <a:pt x="449" y="157"/>
                      </a:lnTo>
                      <a:lnTo>
                        <a:pt x="448" y="156"/>
                      </a:lnTo>
                      <a:lnTo>
                        <a:pt x="447" y="155"/>
                      </a:lnTo>
                      <a:lnTo>
                        <a:pt x="445" y="154"/>
                      </a:lnTo>
                      <a:lnTo>
                        <a:pt x="444" y="155"/>
                      </a:lnTo>
                      <a:lnTo>
                        <a:pt x="442" y="156"/>
                      </a:lnTo>
                      <a:lnTo>
                        <a:pt x="441" y="157"/>
                      </a:lnTo>
                      <a:lnTo>
                        <a:pt x="441" y="158"/>
                      </a:lnTo>
                      <a:lnTo>
                        <a:pt x="416" y="158"/>
                      </a:lnTo>
                      <a:lnTo>
                        <a:pt x="416" y="157"/>
                      </a:lnTo>
                      <a:lnTo>
                        <a:pt x="415" y="156"/>
                      </a:lnTo>
                      <a:lnTo>
                        <a:pt x="414" y="155"/>
                      </a:lnTo>
                      <a:lnTo>
                        <a:pt x="412" y="154"/>
                      </a:lnTo>
                      <a:lnTo>
                        <a:pt x="410" y="155"/>
                      </a:lnTo>
                      <a:lnTo>
                        <a:pt x="409" y="156"/>
                      </a:lnTo>
                      <a:lnTo>
                        <a:pt x="408" y="157"/>
                      </a:lnTo>
                      <a:lnTo>
                        <a:pt x="407" y="158"/>
                      </a:lnTo>
                      <a:lnTo>
                        <a:pt x="382" y="158"/>
                      </a:lnTo>
                      <a:lnTo>
                        <a:pt x="382" y="157"/>
                      </a:lnTo>
                      <a:lnTo>
                        <a:pt x="381" y="156"/>
                      </a:lnTo>
                      <a:lnTo>
                        <a:pt x="379" y="155"/>
                      </a:lnTo>
                      <a:lnTo>
                        <a:pt x="378" y="154"/>
                      </a:lnTo>
                      <a:lnTo>
                        <a:pt x="376" y="155"/>
                      </a:lnTo>
                      <a:lnTo>
                        <a:pt x="375" y="156"/>
                      </a:lnTo>
                      <a:lnTo>
                        <a:pt x="374" y="157"/>
                      </a:lnTo>
                      <a:lnTo>
                        <a:pt x="373" y="158"/>
                      </a:lnTo>
                      <a:lnTo>
                        <a:pt x="356" y="158"/>
                      </a:lnTo>
                      <a:lnTo>
                        <a:pt x="356" y="157"/>
                      </a:lnTo>
                      <a:lnTo>
                        <a:pt x="355" y="156"/>
                      </a:lnTo>
                      <a:lnTo>
                        <a:pt x="353" y="155"/>
                      </a:lnTo>
                      <a:lnTo>
                        <a:pt x="351" y="154"/>
                      </a:lnTo>
                      <a:lnTo>
                        <a:pt x="350" y="155"/>
                      </a:lnTo>
                      <a:lnTo>
                        <a:pt x="348" y="156"/>
                      </a:lnTo>
                      <a:lnTo>
                        <a:pt x="347" y="157"/>
                      </a:lnTo>
                      <a:lnTo>
                        <a:pt x="347" y="158"/>
                      </a:lnTo>
                      <a:lnTo>
                        <a:pt x="295" y="158"/>
                      </a:lnTo>
                      <a:lnTo>
                        <a:pt x="294" y="157"/>
                      </a:lnTo>
                      <a:lnTo>
                        <a:pt x="294" y="156"/>
                      </a:lnTo>
                      <a:lnTo>
                        <a:pt x="292" y="155"/>
                      </a:lnTo>
                      <a:lnTo>
                        <a:pt x="290" y="154"/>
                      </a:lnTo>
                      <a:lnTo>
                        <a:pt x="289" y="155"/>
                      </a:lnTo>
                      <a:lnTo>
                        <a:pt x="287" y="156"/>
                      </a:lnTo>
                      <a:lnTo>
                        <a:pt x="286" y="157"/>
                      </a:lnTo>
                      <a:lnTo>
                        <a:pt x="286" y="158"/>
                      </a:lnTo>
                      <a:lnTo>
                        <a:pt x="180" y="158"/>
                      </a:lnTo>
                      <a:lnTo>
                        <a:pt x="180" y="157"/>
                      </a:lnTo>
                      <a:lnTo>
                        <a:pt x="179" y="156"/>
                      </a:lnTo>
                      <a:lnTo>
                        <a:pt x="178" y="155"/>
                      </a:lnTo>
                      <a:lnTo>
                        <a:pt x="176" y="154"/>
                      </a:lnTo>
                      <a:lnTo>
                        <a:pt x="174" y="155"/>
                      </a:lnTo>
                      <a:lnTo>
                        <a:pt x="173" y="156"/>
                      </a:lnTo>
                      <a:lnTo>
                        <a:pt x="172" y="157"/>
                      </a:lnTo>
                      <a:lnTo>
                        <a:pt x="172" y="158"/>
                      </a:lnTo>
                      <a:lnTo>
                        <a:pt x="141" y="158"/>
                      </a:lnTo>
                      <a:lnTo>
                        <a:pt x="140" y="157"/>
                      </a:lnTo>
                      <a:lnTo>
                        <a:pt x="139" y="156"/>
                      </a:lnTo>
                      <a:lnTo>
                        <a:pt x="138" y="155"/>
                      </a:lnTo>
                      <a:lnTo>
                        <a:pt x="136" y="154"/>
                      </a:lnTo>
                      <a:lnTo>
                        <a:pt x="134" y="155"/>
                      </a:lnTo>
                      <a:lnTo>
                        <a:pt x="133" y="156"/>
                      </a:lnTo>
                      <a:lnTo>
                        <a:pt x="132" y="157"/>
                      </a:lnTo>
                      <a:lnTo>
                        <a:pt x="132" y="158"/>
                      </a:lnTo>
                      <a:lnTo>
                        <a:pt x="104" y="158"/>
                      </a:lnTo>
                      <a:lnTo>
                        <a:pt x="103" y="157"/>
                      </a:lnTo>
                      <a:lnTo>
                        <a:pt x="102" y="156"/>
                      </a:lnTo>
                      <a:lnTo>
                        <a:pt x="101" y="155"/>
                      </a:lnTo>
                      <a:lnTo>
                        <a:pt x="99" y="154"/>
                      </a:lnTo>
                      <a:lnTo>
                        <a:pt x="97" y="155"/>
                      </a:lnTo>
                      <a:lnTo>
                        <a:pt x="96" y="156"/>
                      </a:lnTo>
                      <a:lnTo>
                        <a:pt x="95" y="157"/>
                      </a:lnTo>
                      <a:lnTo>
                        <a:pt x="95" y="158"/>
                      </a:lnTo>
                      <a:lnTo>
                        <a:pt x="0" y="158"/>
                      </a:lnTo>
                      <a:lnTo>
                        <a:pt x="0" y="1339"/>
                      </a:lnTo>
                      <a:lnTo>
                        <a:pt x="20" y="133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8323560" y="20991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88" name=""/>
                <p:cNvSpPr/>
                <p:nvPr/>
              </p:nvSpPr>
              <p:spPr>
                <a:xfrm>
                  <a:off x="4645800" y="3906000"/>
                  <a:ext cx="879840" cy="92160"/>
                </a:xfrm>
                <a:custGeom>
                  <a:avLst/>
                  <a:gdLst/>
                  <a:ahLst/>
                  <a:rect l="l" t="t" r="r" b="b"/>
                  <a:pathLst>
                    <a:path w="831" h="69">
                      <a:moveTo>
                        <a:pt x="0" y="7"/>
                      </a:moveTo>
                      <a:lnTo>
                        <a:pt x="8" y="7"/>
                      </a:lnTo>
                      <a:lnTo>
                        <a:pt x="9" y="5"/>
                      </a:lnTo>
                      <a:lnTo>
                        <a:pt x="10" y="3"/>
                      </a:lnTo>
                      <a:lnTo>
                        <a:pt x="11" y="2"/>
                      </a:lnTo>
                      <a:lnTo>
                        <a:pt x="13" y="1"/>
                      </a:lnTo>
                      <a:lnTo>
                        <a:pt x="15" y="0"/>
                      </a:lnTo>
                      <a:lnTo>
                        <a:pt x="18" y="0"/>
                      </a:lnTo>
                      <a:lnTo>
                        <a:pt x="20" y="1"/>
                      </a:lnTo>
                      <a:lnTo>
                        <a:pt x="22" y="2"/>
                      </a:lnTo>
                      <a:lnTo>
                        <a:pt x="23" y="3"/>
                      </a:lnTo>
                      <a:lnTo>
                        <a:pt x="24" y="5"/>
                      </a:lnTo>
                      <a:lnTo>
                        <a:pt x="25" y="7"/>
                      </a:lnTo>
                      <a:lnTo>
                        <a:pt x="46" y="7"/>
                      </a:lnTo>
                      <a:lnTo>
                        <a:pt x="47" y="5"/>
                      </a:lnTo>
                      <a:lnTo>
                        <a:pt x="47" y="4"/>
                      </a:lnTo>
                      <a:lnTo>
                        <a:pt x="49" y="4"/>
                      </a:lnTo>
                      <a:lnTo>
                        <a:pt x="51" y="3"/>
                      </a:lnTo>
                      <a:lnTo>
                        <a:pt x="52" y="4"/>
                      </a:lnTo>
                      <a:lnTo>
                        <a:pt x="54" y="4"/>
                      </a:lnTo>
                      <a:lnTo>
                        <a:pt x="55" y="5"/>
                      </a:lnTo>
                      <a:lnTo>
                        <a:pt x="55" y="7"/>
                      </a:lnTo>
                      <a:lnTo>
                        <a:pt x="56" y="7"/>
                      </a:lnTo>
                      <a:lnTo>
                        <a:pt x="57" y="5"/>
                      </a:lnTo>
                      <a:lnTo>
                        <a:pt x="58" y="4"/>
                      </a:lnTo>
                      <a:lnTo>
                        <a:pt x="59" y="4"/>
                      </a:lnTo>
                      <a:lnTo>
                        <a:pt x="61" y="3"/>
                      </a:lnTo>
                      <a:lnTo>
                        <a:pt x="62" y="4"/>
                      </a:lnTo>
                      <a:lnTo>
                        <a:pt x="64" y="4"/>
                      </a:lnTo>
                      <a:lnTo>
                        <a:pt x="65" y="5"/>
                      </a:lnTo>
                      <a:lnTo>
                        <a:pt x="65" y="7"/>
                      </a:lnTo>
                      <a:lnTo>
                        <a:pt x="77" y="7"/>
                      </a:lnTo>
                      <a:lnTo>
                        <a:pt x="78" y="5"/>
                      </a:lnTo>
                      <a:lnTo>
                        <a:pt x="79" y="4"/>
                      </a:lnTo>
                      <a:lnTo>
                        <a:pt x="80" y="4"/>
                      </a:lnTo>
                      <a:lnTo>
                        <a:pt x="82" y="3"/>
                      </a:lnTo>
                      <a:lnTo>
                        <a:pt x="84" y="4"/>
                      </a:lnTo>
                      <a:lnTo>
                        <a:pt x="85" y="4"/>
                      </a:lnTo>
                      <a:lnTo>
                        <a:pt x="86" y="5"/>
                      </a:lnTo>
                      <a:lnTo>
                        <a:pt x="86" y="7"/>
                      </a:lnTo>
                      <a:lnTo>
                        <a:pt x="92" y="7"/>
                      </a:lnTo>
                      <a:lnTo>
                        <a:pt x="92" y="5"/>
                      </a:lnTo>
                      <a:lnTo>
                        <a:pt x="93" y="4"/>
                      </a:lnTo>
                      <a:lnTo>
                        <a:pt x="94" y="4"/>
                      </a:lnTo>
                      <a:lnTo>
                        <a:pt x="96" y="3"/>
                      </a:lnTo>
                      <a:lnTo>
                        <a:pt x="98" y="4"/>
                      </a:lnTo>
                      <a:lnTo>
                        <a:pt x="99" y="4"/>
                      </a:lnTo>
                      <a:lnTo>
                        <a:pt x="100" y="5"/>
                      </a:lnTo>
                      <a:lnTo>
                        <a:pt x="101" y="7"/>
                      </a:lnTo>
                      <a:lnTo>
                        <a:pt x="106" y="7"/>
                      </a:lnTo>
                      <a:lnTo>
                        <a:pt x="106" y="69"/>
                      </a:lnTo>
                      <a:lnTo>
                        <a:pt x="172" y="69"/>
                      </a:lnTo>
                      <a:lnTo>
                        <a:pt x="172" y="68"/>
                      </a:lnTo>
                      <a:lnTo>
                        <a:pt x="173" y="67"/>
                      </a:lnTo>
                      <a:lnTo>
                        <a:pt x="174" y="66"/>
                      </a:lnTo>
                      <a:lnTo>
                        <a:pt x="176" y="66"/>
                      </a:lnTo>
                      <a:lnTo>
                        <a:pt x="178" y="66"/>
                      </a:lnTo>
                      <a:lnTo>
                        <a:pt x="179" y="67"/>
                      </a:lnTo>
                      <a:lnTo>
                        <a:pt x="180" y="68"/>
                      </a:lnTo>
                      <a:lnTo>
                        <a:pt x="181" y="69"/>
                      </a:lnTo>
                      <a:lnTo>
                        <a:pt x="253" y="69"/>
                      </a:lnTo>
                      <a:lnTo>
                        <a:pt x="253" y="68"/>
                      </a:lnTo>
                      <a:lnTo>
                        <a:pt x="254" y="67"/>
                      </a:lnTo>
                      <a:lnTo>
                        <a:pt x="255" y="66"/>
                      </a:lnTo>
                      <a:lnTo>
                        <a:pt x="257" y="66"/>
                      </a:lnTo>
                      <a:lnTo>
                        <a:pt x="259" y="66"/>
                      </a:lnTo>
                      <a:lnTo>
                        <a:pt x="260" y="67"/>
                      </a:lnTo>
                      <a:lnTo>
                        <a:pt x="261" y="68"/>
                      </a:lnTo>
                      <a:lnTo>
                        <a:pt x="262" y="69"/>
                      </a:lnTo>
                      <a:lnTo>
                        <a:pt x="350" y="69"/>
                      </a:lnTo>
                      <a:lnTo>
                        <a:pt x="350" y="68"/>
                      </a:lnTo>
                      <a:lnTo>
                        <a:pt x="351" y="67"/>
                      </a:lnTo>
                      <a:lnTo>
                        <a:pt x="353" y="66"/>
                      </a:lnTo>
                      <a:lnTo>
                        <a:pt x="354" y="66"/>
                      </a:lnTo>
                      <a:lnTo>
                        <a:pt x="356" y="66"/>
                      </a:lnTo>
                      <a:lnTo>
                        <a:pt x="358" y="67"/>
                      </a:lnTo>
                      <a:lnTo>
                        <a:pt x="358" y="68"/>
                      </a:lnTo>
                      <a:lnTo>
                        <a:pt x="359" y="69"/>
                      </a:lnTo>
                      <a:lnTo>
                        <a:pt x="434" y="69"/>
                      </a:lnTo>
                      <a:lnTo>
                        <a:pt x="434" y="67"/>
                      </a:lnTo>
                      <a:lnTo>
                        <a:pt x="435" y="66"/>
                      </a:lnTo>
                      <a:lnTo>
                        <a:pt x="436" y="64"/>
                      </a:lnTo>
                      <a:lnTo>
                        <a:pt x="438" y="63"/>
                      </a:lnTo>
                      <a:lnTo>
                        <a:pt x="440" y="63"/>
                      </a:lnTo>
                      <a:lnTo>
                        <a:pt x="443" y="63"/>
                      </a:lnTo>
                      <a:lnTo>
                        <a:pt x="445" y="63"/>
                      </a:lnTo>
                      <a:lnTo>
                        <a:pt x="447" y="64"/>
                      </a:lnTo>
                      <a:lnTo>
                        <a:pt x="448" y="66"/>
                      </a:lnTo>
                      <a:lnTo>
                        <a:pt x="449" y="67"/>
                      </a:lnTo>
                      <a:lnTo>
                        <a:pt x="449" y="69"/>
                      </a:lnTo>
                      <a:lnTo>
                        <a:pt x="502" y="69"/>
                      </a:lnTo>
                      <a:lnTo>
                        <a:pt x="502" y="68"/>
                      </a:lnTo>
                      <a:lnTo>
                        <a:pt x="503" y="67"/>
                      </a:lnTo>
                      <a:lnTo>
                        <a:pt x="505" y="66"/>
                      </a:lnTo>
                      <a:lnTo>
                        <a:pt x="507" y="66"/>
                      </a:lnTo>
                      <a:lnTo>
                        <a:pt x="508" y="66"/>
                      </a:lnTo>
                      <a:lnTo>
                        <a:pt x="510" y="67"/>
                      </a:lnTo>
                      <a:lnTo>
                        <a:pt x="511" y="68"/>
                      </a:lnTo>
                      <a:lnTo>
                        <a:pt x="511" y="69"/>
                      </a:lnTo>
                      <a:lnTo>
                        <a:pt x="521" y="69"/>
                      </a:lnTo>
                      <a:lnTo>
                        <a:pt x="521" y="68"/>
                      </a:lnTo>
                      <a:lnTo>
                        <a:pt x="522" y="67"/>
                      </a:lnTo>
                      <a:lnTo>
                        <a:pt x="523" y="66"/>
                      </a:lnTo>
                      <a:lnTo>
                        <a:pt x="525" y="66"/>
                      </a:lnTo>
                      <a:lnTo>
                        <a:pt x="527" y="66"/>
                      </a:lnTo>
                      <a:lnTo>
                        <a:pt x="528" y="67"/>
                      </a:lnTo>
                      <a:lnTo>
                        <a:pt x="529" y="68"/>
                      </a:lnTo>
                      <a:lnTo>
                        <a:pt x="530" y="69"/>
                      </a:lnTo>
                      <a:lnTo>
                        <a:pt x="549" y="69"/>
                      </a:lnTo>
                      <a:lnTo>
                        <a:pt x="549" y="68"/>
                      </a:lnTo>
                      <a:lnTo>
                        <a:pt x="550" y="67"/>
                      </a:lnTo>
                      <a:lnTo>
                        <a:pt x="552" y="66"/>
                      </a:lnTo>
                      <a:lnTo>
                        <a:pt x="554" y="66"/>
                      </a:lnTo>
                      <a:lnTo>
                        <a:pt x="555" y="66"/>
                      </a:lnTo>
                      <a:lnTo>
                        <a:pt x="557" y="67"/>
                      </a:lnTo>
                      <a:lnTo>
                        <a:pt x="558" y="68"/>
                      </a:lnTo>
                      <a:lnTo>
                        <a:pt x="558" y="69"/>
                      </a:lnTo>
                      <a:lnTo>
                        <a:pt x="593" y="69"/>
                      </a:lnTo>
                      <a:lnTo>
                        <a:pt x="594" y="68"/>
                      </a:lnTo>
                      <a:lnTo>
                        <a:pt x="594" y="67"/>
                      </a:lnTo>
                      <a:lnTo>
                        <a:pt x="596" y="66"/>
                      </a:lnTo>
                      <a:lnTo>
                        <a:pt x="598" y="66"/>
                      </a:lnTo>
                      <a:lnTo>
                        <a:pt x="599" y="66"/>
                      </a:lnTo>
                      <a:lnTo>
                        <a:pt x="601" y="67"/>
                      </a:lnTo>
                      <a:lnTo>
                        <a:pt x="602" y="68"/>
                      </a:lnTo>
                      <a:lnTo>
                        <a:pt x="602" y="69"/>
                      </a:lnTo>
                      <a:lnTo>
                        <a:pt x="637" y="69"/>
                      </a:lnTo>
                      <a:lnTo>
                        <a:pt x="637" y="68"/>
                      </a:lnTo>
                      <a:lnTo>
                        <a:pt x="638" y="67"/>
                      </a:lnTo>
                      <a:lnTo>
                        <a:pt x="640" y="66"/>
                      </a:lnTo>
                      <a:lnTo>
                        <a:pt x="642" y="66"/>
                      </a:lnTo>
                      <a:lnTo>
                        <a:pt x="643" y="66"/>
                      </a:lnTo>
                      <a:lnTo>
                        <a:pt x="645" y="67"/>
                      </a:lnTo>
                      <a:lnTo>
                        <a:pt x="646" y="68"/>
                      </a:lnTo>
                      <a:lnTo>
                        <a:pt x="646" y="69"/>
                      </a:lnTo>
                      <a:lnTo>
                        <a:pt x="678" y="69"/>
                      </a:lnTo>
                      <a:lnTo>
                        <a:pt x="678" y="68"/>
                      </a:lnTo>
                      <a:lnTo>
                        <a:pt x="679" y="67"/>
                      </a:lnTo>
                      <a:lnTo>
                        <a:pt x="680" y="66"/>
                      </a:lnTo>
                      <a:lnTo>
                        <a:pt x="682" y="66"/>
                      </a:lnTo>
                      <a:lnTo>
                        <a:pt x="684" y="66"/>
                      </a:lnTo>
                      <a:lnTo>
                        <a:pt x="685" y="67"/>
                      </a:lnTo>
                      <a:lnTo>
                        <a:pt x="686" y="68"/>
                      </a:lnTo>
                      <a:lnTo>
                        <a:pt x="687" y="69"/>
                      </a:lnTo>
                      <a:lnTo>
                        <a:pt x="691" y="69"/>
                      </a:lnTo>
                      <a:lnTo>
                        <a:pt x="692" y="68"/>
                      </a:lnTo>
                      <a:lnTo>
                        <a:pt x="692" y="67"/>
                      </a:lnTo>
                      <a:lnTo>
                        <a:pt x="694" y="66"/>
                      </a:lnTo>
                      <a:lnTo>
                        <a:pt x="696" y="66"/>
                      </a:lnTo>
                      <a:lnTo>
                        <a:pt x="697" y="66"/>
                      </a:lnTo>
                      <a:lnTo>
                        <a:pt x="699" y="67"/>
                      </a:lnTo>
                      <a:lnTo>
                        <a:pt x="700" y="68"/>
                      </a:lnTo>
                      <a:lnTo>
                        <a:pt x="700" y="69"/>
                      </a:lnTo>
                      <a:lnTo>
                        <a:pt x="734" y="69"/>
                      </a:lnTo>
                      <a:lnTo>
                        <a:pt x="734" y="68"/>
                      </a:lnTo>
                      <a:lnTo>
                        <a:pt x="735" y="67"/>
                      </a:lnTo>
                      <a:lnTo>
                        <a:pt x="737" y="66"/>
                      </a:lnTo>
                      <a:lnTo>
                        <a:pt x="738" y="66"/>
                      </a:lnTo>
                      <a:lnTo>
                        <a:pt x="740" y="66"/>
                      </a:lnTo>
                      <a:lnTo>
                        <a:pt x="742" y="67"/>
                      </a:lnTo>
                      <a:lnTo>
                        <a:pt x="743" y="68"/>
                      </a:lnTo>
                      <a:lnTo>
                        <a:pt x="743" y="69"/>
                      </a:lnTo>
                      <a:lnTo>
                        <a:pt x="743" y="69"/>
                      </a:lnTo>
                      <a:lnTo>
                        <a:pt x="744" y="68"/>
                      </a:lnTo>
                      <a:lnTo>
                        <a:pt x="745" y="67"/>
                      </a:lnTo>
                      <a:lnTo>
                        <a:pt x="746" y="66"/>
                      </a:lnTo>
                      <a:lnTo>
                        <a:pt x="748" y="66"/>
                      </a:lnTo>
                      <a:lnTo>
                        <a:pt x="750" y="66"/>
                      </a:lnTo>
                      <a:lnTo>
                        <a:pt x="751" y="67"/>
                      </a:lnTo>
                      <a:lnTo>
                        <a:pt x="752" y="68"/>
                      </a:lnTo>
                      <a:lnTo>
                        <a:pt x="752" y="69"/>
                      </a:lnTo>
                      <a:lnTo>
                        <a:pt x="754" y="69"/>
                      </a:lnTo>
                      <a:lnTo>
                        <a:pt x="755" y="67"/>
                      </a:lnTo>
                      <a:lnTo>
                        <a:pt x="756" y="65"/>
                      </a:lnTo>
                      <a:lnTo>
                        <a:pt x="757" y="64"/>
                      </a:lnTo>
                      <a:lnTo>
                        <a:pt x="759" y="63"/>
                      </a:lnTo>
                      <a:lnTo>
                        <a:pt x="762" y="62"/>
                      </a:lnTo>
                      <a:lnTo>
                        <a:pt x="764" y="62"/>
                      </a:lnTo>
                      <a:lnTo>
                        <a:pt x="766" y="63"/>
                      </a:lnTo>
                      <a:lnTo>
                        <a:pt x="769" y="64"/>
                      </a:lnTo>
                      <a:lnTo>
                        <a:pt x="770" y="65"/>
                      </a:lnTo>
                      <a:lnTo>
                        <a:pt x="771" y="67"/>
                      </a:lnTo>
                      <a:lnTo>
                        <a:pt x="772" y="69"/>
                      </a:lnTo>
                      <a:lnTo>
                        <a:pt x="776" y="69"/>
                      </a:lnTo>
                      <a:lnTo>
                        <a:pt x="776" y="67"/>
                      </a:lnTo>
                      <a:lnTo>
                        <a:pt x="777" y="65"/>
                      </a:lnTo>
                      <a:lnTo>
                        <a:pt x="779" y="64"/>
                      </a:lnTo>
                      <a:lnTo>
                        <a:pt x="781" y="63"/>
                      </a:lnTo>
                      <a:lnTo>
                        <a:pt x="783" y="63"/>
                      </a:lnTo>
                      <a:lnTo>
                        <a:pt x="785" y="63"/>
                      </a:lnTo>
                      <a:lnTo>
                        <a:pt x="787" y="63"/>
                      </a:lnTo>
                      <a:lnTo>
                        <a:pt x="790" y="64"/>
                      </a:lnTo>
                      <a:lnTo>
                        <a:pt x="791" y="65"/>
                      </a:lnTo>
                      <a:lnTo>
                        <a:pt x="792" y="67"/>
                      </a:lnTo>
                      <a:lnTo>
                        <a:pt x="792" y="69"/>
                      </a:lnTo>
                      <a:lnTo>
                        <a:pt x="831" y="69"/>
                      </a:lnTo>
                    </a:path>
                  </a:pathLst>
                </a:custGeom>
                <a:noFill/>
                <a:ln w="144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9" name=""/>
                <p:cNvSpPr/>
                <p:nvPr/>
              </p:nvSpPr>
              <p:spPr>
                <a:xfrm>
                  <a:off x="4645800" y="39088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90" name=""/>
                <p:cNvSpPr/>
                <p:nvPr/>
              </p:nvSpPr>
              <p:spPr>
                <a:xfrm>
                  <a:off x="5901480" y="3962160"/>
                  <a:ext cx="2377440" cy="77400"/>
                </a:xfrm>
                <a:custGeom>
                  <a:avLst/>
                  <a:gdLst/>
                  <a:ahLst/>
                  <a:rect l="l" t="t" r="r" b="b"/>
                  <a:pathLst>
                    <a:path w="2246" h="58">
                      <a:moveTo>
                        <a:pt x="0" y="48"/>
                      </a:moveTo>
                      <a:lnTo>
                        <a:pt x="0" y="58"/>
                      </a:lnTo>
                      <a:lnTo>
                        <a:pt x="32" y="58"/>
                      </a:lnTo>
                      <a:lnTo>
                        <a:pt x="32" y="57"/>
                      </a:lnTo>
                      <a:lnTo>
                        <a:pt x="33" y="56"/>
                      </a:lnTo>
                      <a:lnTo>
                        <a:pt x="35" y="55"/>
                      </a:lnTo>
                      <a:lnTo>
                        <a:pt x="37" y="55"/>
                      </a:lnTo>
                      <a:lnTo>
                        <a:pt x="38" y="55"/>
                      </a:lnTo>
                      <a:lnTo>
                        <a:pt x="40" y="56"/>
                      </a:lnTo>
                      <a:lnTo>
                        <a:pt x="41" y="57"/>
                      </a:lnTo>
                      <a:lnTo>
                        <a:pt x="41" y="58"/>
                      </a:lnTo>
                      <a:lnTo>
                        <a:pt x="50" y="58"/>
                      </a:lnTo>
                      <a:lnTo>
                        <a:pt x="50" y="57"/>
                      </a:lnTo>
                      <a:lnTo>
                        <a:pt x="51" y="56"/>
                      </a:lnTo>
                      <a:lnTo>
                        <a:pt x="53" y="55"/>
                      </a:lnTo>
                      <a:lnTo>
                        <a:pt x="55" y="55"/>
                      </a:lnTo>
                      <a:lnTo>
                        <a:pt x="56" y="55"/>
                      </a:lnTo>
                      <a:lnTo>
                        <a:pt x="58" y="56"/>
                      </a:lnTo>
                      <a:lnTo>
                        <a:pt x="59" y="57"/>
                      </a:lnTo>
                      <a:lnTo>
                        <a:pt x="59" y="58"/>
                      </a:lnTo>
                      <a:lnTo>
                        <a:pt x="73" y="58"/>
                      </a:lnTo>
                      <a:lnTo>
                        <a:pt x="73" y="57"/>
                      </a:lnTo>
                      <a:lnTo>
                        <a:pt x="74" y="56"/>
                      </a:lnTo>
                      <a:lnTo>
                        <a:pt x="75" y="55"/>
                      </a:lnTo>
                      <a:lnTo>
                        <a:pt x="77" y="55"/>
                      </a:lnTo>
                      <a:lnTo>
                        <a:pt x="79" y="55"/>
                      </a:lnTo>
                      <a:lnTo>
                        <a:pt x="80" y="56"/>
                      </a:lnTo>
                      <a:lnTo>
                        <a:pt x="81" y="57"/>
                      </a:lnTo>
                      <a:lnTo>
                        <a:pt x="82" y="58"/>
                      </a:lnTo>
                      <a:lnTo>
                        <a:pt x="136" y="58"/>
                      </a:lnTo>
                      <a:lnTo>
                        <a:pt x="136" y="57"/>
                      </a:lnTo>
                      <a:lnTo>
                        <a:pt x="137" y="56"/>
                      </a:lnTo>
                      <a:lnTo>
                        <a:pt x="139" y="55"/>
                      </a:lnTo>
                      <a:lnTo>
                        <a:pt x="140" y="55"/>
                      </a:lnTo>
                      <a:lnTo>
                        <a:pt x="142" y="55"/>
                      </a:lnTo>
                      <a:lnTo>
                        <a:pt x="144" y="56"/>
                      </a:lnTo>
                      <a:lnTo>
                        <a:pt x="145" y="57"/>
                      </a:lnTo>
                      <a:lnTo>
                        <a:pt x="145" y="58"/>
                      </a:lnTo>
                      <a:lnTo>
                        <a:pt x="240" y="58"/>
                      </a:lnTo>
                      <a:lnTo>
                        <a:pt x="241" y="57"/>
                      </a:lnTo>
                      <a:lnTo>
                        <a:pt x="242" y="56"/>
                      </a:lnTo>
                      <a:lnTo>
                        <a:pt x="243" y="55"/>
                      </a:lnTo>
                      <a:lnTo>
                        <a:pt x="245" y="55"/>
                      </a:lnTo>
                      <a:lnTo>
                        <a:pt x="247" y="55"/>
                      </a:lnTo>
                      <a:lnTo>
                        <a:pt x="248" y="56"/>
                      </a:lnTo>
                      <a:lnTo>
                        <a:pt x="249" y="57"/>
                      </a:lnTo>
                      <a:lnTo>
                        <a:pt x="249" y="58"/>
                      </a:lnTo>
                      <a:lnTo>
                        <a:pt x="289" y="58"/>
                      </a:lnTo>
                      <a:lnTo>
                        <a:pt x="289" y="57"/>
                      </a:lnTo>
                      <a:lnTo>
                        <a:pt x="290" y="56"/>
                      </a:lnTo>
                      <a:lnTo>
                        <a:pt x="291" y="55"/>
                      </a:lnTo>
                      <a:lnTo>
                        <a:pt x="293" y="55"/>
                      </a:lnTo>
                      <a:lnTo>
                        <a:pt x="295" y="55"/>
                      </a:lnTo>
                      <a:lnTo>
                        <a:pt x="296" y="56"/>
                      </a:lnTo>
                      <a:lnTo>
                        <a:pt x="297" y="57"/>
                      </a:lnTo>
                      <a:lnTo>
                        <a:pt x="298" y="58"/>
                      </a:lnTo>
                      <a:lnTo>
                        <a:pt x="411" y="58"/>
                      </a:lnTo>
                      <a:lnTo>
                        <a:pt x="411" y="57"/>
                      </a:lnTo>
                      <a:lnTo>
                        <a:pt x="412" y="56"/>
                      </a:lnTo>
                      <a:lnTo>
                        <a:pt x="414" y="55"/>
                      </a:lnTo>
                      <a:lnTo>
                        <a:pt x="415" y="55"/>
                      </a:lnTo>
                      <a:lnTo>
                        <a:pt x="417" y="55"/>
                      </a:lnTo>
                      <a:lnTo>
                        <a:pt x="419" y="56"/>
                      </a:lnTo>
                      <a:lnTo>
                        <a:pt x="420" y="57"/>
                      </a:lnTo>
                      <a:lnTo>
                        <a:pt x="420" y="58"/>
                      </a:lnTo>
                      <a:lnTo>
                        <a:pt x="424" y="58"/>
                      </a:lnTo>
                      <a:lnTo>
                        <a:pt x="424" y="57"/>
                      </a:lnTo>
                      <a:lnTo>
                        <a:pt x="425" y="56"/>
                      </a:lnTo>
                      <a:lnTo>
                        <a:pt x="426" y="55"/>
                      </a:lnTo>
                      <a:lnTo>
                        <a:pt x="428" y="55"/>
                      </a:lnTo>
                      <a:lnTo>
                        <a:pt x="430" y="55"/>
                      </a:lnTo>
                      <a:lnTo>
                        <a:pt x="431" y="56"/>
                      </a:lnTo>
                      <a:lnTo>
                        <a:pt x="432" y="57"/>
                      </a:lnTo>
                      <a:lnTo>
                        <a:pt x="433" y="58"/>
                      </a:lnTo>
                      <a:lnTo>
                        <a:pt x="435" y="58"/>
                      </a:lnTo>
                      <a:lnTo>
                        <a:pt x="436" y="57"/>
                      </a:lnTo>
                      <a:lnTo>
                        <a:pt x="437" y="56"/>
                      </a:lnTo>
                      <a:lnTo>
                        <a:pt x="438" y="55"/>
                      </a:lnTo>
                      <a:lnTo>
                        <a:pt x="440" y="55"/>
                      </a:lnTo>
                      <a:lnTo>
                        <a:pt x="442" y="55"/>
                      </a:lnTo>
                      <a:lnTo>
                        <a:pt x="443" y="56"/>
                      </a:lnTo>
                      <a:lnTo>
                        <a:pt x="444" y="57"/>
                      </a:lnTo>
                      <a:lnTo>
                        <a:pt x="444" y="58"/>
                      </a:lnTo>
                      <a:lnTo>
                        <a:pt x="476" y="58"/>
                      </a:lnTo>
                      <a:lnTo>
                        <a:pt x="476" y="57"/>
                      </a:lnTo>
                      <a:lnTo>
                        <a:pt x="477" y="56"/>
                      </a:lnTo>
                      <a:lnTo>
                        <a:pt x="479" y="55"/>
                      </a:lnTo>
                      <a:lnTo>
                        <a:pt x="481" y="55"/>
                      </a:lnTo>
                      <a:lnTo>
                        <a:pt x="482" y="55"/>
                      </a:lnTo>
                      <a:lnTo>
                        <a:pt x="484" y="56"/>
                      </a:lnTo>
                      <a:lnTo>
                        <a:pt x="485" y="57"/>
                      </a:lnTo>
                      <a:lnTo>
                        <a:pt x="485" y="58"/>
                      </a:lnTo>
                      <a:lnTo>
                        <a:pt x="538" y="58"/>
                      </a:lnTo>
                      <a:lnTo>
                        <a:pt x="538" y="7"/>
                      </a:lnTo>
                      <a:lnTo>
                        <a:pt x="566" y="7"/>
                      </a:lnTo>
                      <a:lnTo>
                        <a:pt x="566" y="5"/>
                      </a:lnTo>
                      <a:lnTo>
                        <a:pt x="567" y="4"/>
                      </a:lnTo>
                      <a:lnTo>
                        <a:pt x="568" y="4"/>
                      </a:lnTo>
                      <a:lnTo>
                        <a:pt x="570" y="3"/>
                      </a:lnTo>
                      <a:lnTo>
                        <a:pt x="572" y="4"/>
                      </a:lnTo>
                      <a:lnTo>
                        <a:pt x="573" y="4"/>
                      </a:lnTo>
                      <a:lnTo>
                        <a:pt x="574" y="5"/>
                      </a:lnTo>
                      <a:lnTo>
                        <a:pt x="575" y="7"/>
                      </a:lnTo>
                      <a:lnTo>
                        <a:pt x="577" y="7"/>
                      </a:lnTo>
                      <a:lnTo>
                        <a:pt x="578" y="5"/>
                      </a:lnTo>
                      <a:lnTo>
                        <a:pt x="579" y="4"/>
                      </a:lnTo>
                      <a:lnTo>
                        <a:pt x="580" y="4"/>
                      </a:lnTo>
                      <a:lnTo>
                        <a:pt x="582" y="3"/>
                      </a:lnTo>
                      <a:lnTo>
                        <a:pt x="584" y="4"/>
                      </a:lnTo>
                      <a:lnTo>
                        <a:pt x="585" y="4"/>
                      </a:lnTo>
                      <a:lnTo>
                        <a:pt x="586" y="5"/>
                      </a:lnTo>
                      <a:lnTo>
                        <a:pt x="586" y="7"/>
                      </a:lnTo>
                      <a:lnTo>
                        <a:pt x="629" y="7"/>
                      </a:lnTo>
                      <a:lnTo>
                        <a:pt x="630" y="5"/>
                      </a:lnTo>
                      <a:lnTo>
                        <a:pt x="631" y="4"/>
                      </a:lnTo>
                      <a:lnTo>
                        <a:pt x="632" y="4"/>
                      </a:lnTo>
                      <a:lnTo>
                        <a:pt x="634" y="3"/>
                      </a:lnTo>
                      <a:lnTo>
                        <a:pt x="635" y="4"/>
                      </a:lnTo>
                      <a:lnTo>
                        <a:pt x="637" y="4"/>
                      </a:lnTo>
                      <a:lnTo>
                        <a:pt x="638" y="5"/>
                      </a:lnTo>
                      <a:lnTo>
                        <a:pt x="638" y="7"/>
                      </a:lnTo>
                      <a:lnTo>
                        <a:pt x="650" y="7"/>
                      </a:lnTo>
                      <a:lnTo>
                        <a:pt x="650" y="5"/>
                      </a:lnTo>
                      <a:lnTo>
                        <a:pt x="651" y="4"/>
                      </a:lnTo>
                      <a:lnTo>
                        <a:pt x="653" y="4"/>
                      </a:lnTo>
                      <a:lnTo>
                        <a:pt x="654" y="3"/>
                      </a:lnTo>
                      <a:lnTo>
                        <a:pt x="656" y="4"/>
                      </a:lnTo>
                      <a:lnTo>
                        <a:pt x="657" y="4"/>
                      </a:lnTo>
                      <a:lnTo>
                        <a:pt x="658" y="5"/>
                      </a:lnTo>
                      <a:lnTo>
                        <a:pt x="659" y="7"/>
                      </a:lnTo>
                      <a:lnTo>
                        <a:pt x="902" y="7"/>
                      </a:lnTo>
                      <a:lnTo>
                        <a:pt x="902" y="5"/>
                      </a:lnTo>
                      <a:lnTo>
                        <a:pt x="903" y="4"/>
                      </a:lnTo>
                      <a:lnTo>
                        <a:pt x="904" y="4"/>
                      </a:lnTo>
                      <a:lnTo>
                        <a:pt x="906" y="3"/>
                      </a:lnTo>
                      <a:lnTo>
                        <a:pt x="908" y="4"/>
                      </a:lnTo>
                      <a:lnTo>
                        <a:pt x="909" y="4"/>
                      </a:lnTo>
                      <a:lnTo>
                        <a:pt x="910" y="5"/>
                      </a:lnTo>
                      <a:lnTo>
                        <a:pt x="910" y="7"/>
                      </a:lnTo>
                      <a:lnTo>
                        <a:pt x="930" y="7"/>
                      </a:lnTo>
                      <a:lnTo>
                        <a:pt x="931" y="5"/>
                      </a:lnTo>
                      <a:lnTo>
                        <a:pt x="932" y="4"/>
                      </a:lnTo>
                      <a:lnTo>
                        <a:pt x="933" y="4"/>
                      </a:lnTo>
                      <a:lnTo>
                        <a:pt x="935" y="3"/>
                      </a:lnTo>
                      <a:lnTo>
                        <a:pt x="937" y="4"/>
                      </a:lnTo>
                      <a:lnTo>
                        <a:pt x="938" y="4"/>
                      </a:lnTo>
                      <a:lnTo>
                        <a:pt x="939" y="5"/>
                      </a:lnTo>
                      <a:lnTo>
                        <a:pt x="939" y="7"/>
                      </a:lnTo>
                      <a:lnTo>
                        <a:pt x="946" y="7"/>
                      </a:lnTo>
                      <a:lnTo>
                        <a:pt x="946" y="5"/>
                      </a:lnTo>
                      <a:lnTo>
                        <a:pt x="947" y="4"/>
                      </a:lnTo>
                      <a:lnTo>
                        <a:pt x="948" y="4"/>
                      </a:lnTo>
                      <a:lnTo>
                        <a:pt x="950" y="3"/>
                      </a:lnTo>
                      <a:lnTo>
                        <a:pt x="952" y="4"/>
                      </a:lnTo>
                      <a:lnTo>
                        <a:pt x="953" y="4"/>
                      </a:lnTo>
                      <a:lnTo>
                        <a:pt x="954" y="5"/>
                      </a:lnTo>
                      <a:lnTo>
                        <a:pt x="954" y="7"/>
                      </a:lnTo>
                      <a:lnTo>
                        <a:pt x="978" y="7"/>
                      </a:lnTo>
                      <a:lnTo>
                        <a:pt x="978" y="5"/>
                      </a:lnTo>
                      <a:lnTo>
                        <a:pt x="979" y="3"/>
                      </a:lnTo>
                      <a:lnTo>
                        <a:pt x="981" y="2"/>
                      </a:lnTo>
                      <a:lnTo>
                        <a:pt x="983" y="1"/>
                      </a:lnTo>
                      <a:lnTo>
                        <a:pt x="985" y="0"/>
                      </a:lnTo>
                      <a:lnTo>
                        <a:pt x="988" y="0"/>
                      </a:lnTo>
                      <a:lnTo>
                        <a:pt x="990" y="1"/>
                      </a:lnTo>
                      <a:lnTo>
                        <a:pt x="992" y="2"/>
                      </a:lnTo>
                      <a:lnTo>
                        <a:pt x="994" y="3"/>
                      </a:lnTo>
                      <a:lnTo>
                        <a:pt x="995" y="5"/>
                      </a:lnTo>
                      <a:lnTo>
                        <a:pt x="995" y="7"/>
                      </a:lnTo>
                      <a:lnTo>
                        <a:pt x="1024" y="7"/>
                      </a:lnTo>
                      <a:lnTo>
                        <a:pt x="1024" y="5"/>
                      </a:lnTo>
                      <a:lnTo>
                        <a:pt x="1025" y="4"/>
                      </a:lnTo>
                      <a:lnTo>
                        <a:pt x="1026" y="4"/>
                      </a:lnTo>
                      <a:lnTo>
                        <a:pt x="1028" y="3"/>
                      </a:lnTo>
                      <a:lnTo>
                        <a:pt x="1030" y="4"/>
                      </a:lnTo>
                      <a:lnTo>
                        <a:pt x="1031" y="4"/>
                      </a:lnTo>
                      <a:lnTo>
                        <a:pt x="1032" y="5"/>
                      </a:lnTo>
                      <a:lnTo>
                        <a:pt x="1033" y="7"/>
                      </a:lnTo>
                      <a:lnTo>
                        <a:pt x="1037" y="7"/>
                      </a:lnTo>
                      <a:lnTo>
                        <a:pt x="1037" y="5"/>
                      </a:lnTo>
                      <a:lnTo>
                        <a:pt x="1038" y="4"/>
                      </a:lnTo>
                      <a:lnTo>
                        <a:pt x="1039" y="4"/>
                      </a:lnTo>
                      <a:lnTo>
                        <a:pt x="1041" y="3"/>
                      </a:lnTo>
                      <a:lnTo>
                        <a:pt x="1043" y="4"/>
                      </a:lnTo>
                      <a:lnTo>
                        <a:pt x="1044" y="4"/>
                      </a:lnTo>
                      <a:lnTo>
                        <a:pt x="1045" y="5"/>
                      </a:lnTo>
                      <a:lnTo>
                        <a:pt x="1046" y="7"/>
                      </a:lnTo>
                      <a:lnTo>
                        <a:pt x="1052" y="7"/>
                      </a:lnTo>
                      <a:lnTo>
                        <a:pt x="1052" y="5"/>
                      </a:lnTo>
                      <a:lnTo>
                        <a:pt x="1053" y="4"/>
                      </a:lnTo>
                      <a:lnTo>
                        <a:pt x="1055" y="4"/>
                      </a:lnTo>
                      <a:lnTo>
                        <a:pt x="1056" y="3"/>
                      </a:lnTo>
                      <a:lnTo>
                        <a:pt x="1058" y="4"/>
                      </a:lnTo>
                      <a:lnTo>
                        <a:pt x="1060" y="4"/>
                      </a:lnTo>
                      <a:lnTo>
                        <a:pt x="1060" y="5"/>
                      </a:lnTo>
                      <a:lnTo>
                        <a:pt x="1061" y="7"/>
                      </a:lnTo>
                      <a:lnTo>
                        <a:pt x="1099" y="7"/>
                      </a:lnTo>
                      <a:lnTo>
                        <a:pt x="1100" y="5"/>
                      </a:lnTo>
                      <a:lnTo>
                        <a:pt x="1100" y="4"/>
                      </a:lnTo>
                      <a:lnTo>
                        <a:pt x="1102" y="4"/>
                      </a:lnTo>
                      <a:lnTo>
                        <a:pt x="1104" y="3"/>
                      </a:lnTo>
                      <a:lnTo>
                        <a:pt x="1105" y="4"/>
                      </a:lnTo>
                      <a:lnTo>
                        <a:pt x="1107" y="4"/>
                      </a:lnTo>
                      <a:lnTo>
                        <a:pt x="1108" y="5"/>
                      </a:lnTo>
                      <a:lnTo>
                        <a:pt x="1108" y="7"/>
                      </a:lnTo>
                      <a:lnTo>
                        <a:pt x="1119" y="7"/>
                      </a:lnTo>
                      <a:lnTo>
                        <a:pt x="1120" y="5"/>
                      </a:lnTo>
                      <a:lnTo>
                        <a:pt x="1121" y="4"/>
                      </a:lnTo>
                      <a:lnTo>
                        <a:pt x="1122" y="4"/>
                      </a:lnTo>
                      <a:lnTo>
                        <a:pt x="1124" y="3"/>
                      </a:lnTo>
                      <a:lnTo>
                        <a:pt x="1126" y="4"/>
                      </a:lnTo>
                      <a:lnTo>
                        <a:pt x="1127" y="4"/>
                      </a:lnTo>
                      <a:lnTo>
                        <a:pt x="1128" y="5"/>
                      </a:lnTo>
                      <a:lnTo>
                        <a:pt x="1128" y="7"/>
                      </a:lnTo>
                      <a:lnTo>
                        <a:pt x="1150" y="7"/>
                      </a:lnTo>
                      <a:lnTo>
                        <a:pt x="1150" y="5"/>
                      </a:lnTo>
                      <a:lnTo>
                        <a:pt x="1151" y="4"/>
                      </a:lnTo>
                      <a:lnTo>
                        <a:pt x="1153" y="4"/>
                      </a:lnTo>
                      <a:lnTo>
                        <a:pt x="1154" y="3"/>
                      </a:lnTo>
                      <a:lnTo>
                        <a:pt x="1156" y="4"/>
                      </a:lnTo>
                      <a:lnTo>
                        <a:pt x="1158" y="4"/>
                      </a:lnTo>
                      <a:lnTo>
                        <a:pt x="1158" y="5"/>
                      </a:lnTo>
                      <a:lnTo>
                        <a:pt x="1159" y="7"/>
                      </a:lnTo>
                      <a:lnTo>
                        <a:pt x="1172" y="7"/>
                      </a:lnTo>
                      <a:lnTo>
                        <a:pt x="1172" y="5"/>
                      </a:lnTo>
                      <a:lnTo>
                        <a:pt x="1173" y="4"/>
                      </a:lnTo>
                      <a:lnTo>
                        <a:pt x="1175" y="4"/>
                      </a:lnTo>
                      <a:lnTo>
                        <a:pt x="1176" y="3"/>
                      </a:lnTo>
                      <a:lnTo>
                        <a:pt x="1178" y="4"/>
                      </a:lnTo>
                      <a:lnTo>
                        <a:pt x="1179" y="4"/>
                      </a:lnTo>
                      <a:lnTo>
                        <a:pt x="1180" y="5"/>
                      </a:lnTo>
                      <a:lnTo>
                        <a:pt x="1181" y="7"/>
                      </a:lnTo>
                      <a:lnTo>
                        <a:pt x="1186" y="7"/>
                      </a:lnTo>
                      <a:lnTo>
                        <a:pt x="1186" y="5"/>
                      </a:lnTo>
                      <a:lnTo>
                        <a:pt x="1187" y="4"/>
                      </a:lnTo>
                      <a:lnTo>
                        <a:pt x="1189" y="4"/>
                      </a:lnTo>
                      <a:lnTo>
                        <a:pt x="1190" y="3"/>
                      </a:lnTo>
                      <a:lnTo>
                        <a:pt x="1192" y="4"/>
                      </a:lnTo>
                      <a:lnTo>
                        <a:pt x="1194" y="4"/>
                      </a:lnTo>
                      <a:lnTo>
                        <a:pt x="1194" y="5"/>
                      </a:lnTo>
                      <a:lnTo>
                        <a:pt x="1195" y="7"/>
                      </a:lnTo>
                      <a:lnTo>
                        <a:pt x="1204" y="7"/>
                      </a:lnTo>
                      <a:lnTo>
                        <a:pt x="1204" y="5"/>
                      </a:lnTo>
                      <a:lnTo>
                        <a:pt x="1205" y="3"/>
                      </a:lnTo>
                      <a:lnTo>
                        <a:pt x="1207" y="2"/>
                      </a:lnTo>
                      <a:lnTo>
                        <a:pt x="1209" y="1"/>
                      </a:lnTo>
                      <a:lnTo>
                        <a:pt x="1211" y="0"/>
                      </a:lnTo>
                      <a:lnTo>
                        <a:pt x="1214" y="0"/>
                      </a:lnTo>
                      <a:lnTo>
                        <a:pt x="1216" y="1"/>
                      </a:lnTo>
                      <a:lnTo>
                        <a:pt x="1218" y="2"/>
                      </a:lnTo>
                      <a:lnTo>
                        <a:pt x="1219" y="3"/>
                      </a:lnTo>
                      <a:lnTo>
                        <a:pt x="1220" y="5"/>
                      </a:lnTo>
                      <a:lnTo>
                        <a:pt x="1221" y="7"/>
                      </a:lnTo>
                      <a:lnTo>
                        <a:pt x="1224" y="7"/>
                      </a:lnTo>
                      <a:lnTo>
                        <a:pt x="1225" y="5"/>
                      </a:lnTo>
                      <a:lnTo>
                        <a:pt x="1225" y="4"/>
                      </a:lnTo>
                      <a:lnTo>
                        <a:pt x="1227" y="4"/>
                      </a:lnTo>
                      <a:lnTo>
                        <a:pt x="1229" y="3"/>
                      </a:lnTo>
                      <a:lnTo>
                        <a:pt x="1230" y="4"/>
                      </a:lnTo>
                      <a:lnTo>
                        <a:pt x="1232" y="4"/>
                      </a:lnTo>
                      <a:lnTo>
                        <a:pt x="1233" y="5"/>
                      </a:lnTo>
                      <a:lnTo>
                        <a:pt x="1233" y="7"/>
                      </a:lnTo>
                      <a:lnTo>
                        <a:pt x="1243" y="7"/>
                      </a:lnTo>
                      <a:lnTo>
                        <a:pt x="1243" y="5"/>
                      </a:lnTo>
                      <a:lnTo>
                        <a:pt x="1244" y="4"/>
                      </a:lnTo>
                      <a:lnTo>
                        <a:pt x="1245" y="4"/>
                      </a:lnTo>
                      <a:lnTo>
                        <a:pt x="1247" y="3"/>
                      </a:lnTo>
                      <a:lnTo>
                        <a:pt x="1249" y="4"/>
                      </a:lnTo>
                      <a:lnTo>
                        <a:pt x="1250" y="4"/>
                      </a:lnTo>
                      <a:lnTo>
                        <a:pt x="1251" y="5"/>
                      </a:lnTo>
                      <a:lnTo>
                        <a:pt x="1252" y="7"/>
                      </a:lnTo>
                      <a:lnTo>
                        <a:pt x="1417" y="7"/>
                      </a:lnTo>
                      <a:lnTo>
                        <a:pt x="1417" y="5"/>
                      </a:lnTo>
                      <a:lnTo>
                        <a:pt x="1418" y="4"/>
                      </a:lnTo>
                      <a:lnTo>
                        <a:pt x="1419" y="4"/>
                      </a:lnTo>
                      <a:lnTo>
                        <a:pt x="1421" y="3"/>
                      </a:lnTo>
                      <a:lnTo>
                        <a:pt x="1423" y="4"/>
                      </a:lnTo>
                      <a:lnTo>
                        <a:pt x="1424" y="4"/>
                      </a:lnTo>
                      <a:lnTo>
                        <a:pt x="1425" y="5"/>
                      </a:lnTo>
                      <a:lnTo>
                        <a:pt x="1426" y="7"/>
                      </a:lnTo>
                      <a:lnTo>
                        <a:pt x="1488" y="7"/>
                      </a:lnTo>
                      <a:lnTo>
                        <a:pt x="1488" y="5"/>
                      </a:lnTo>
                      <a:lnTo>
                        <a:pt x="1489" y="4"/>
                      </a:lnTo>
                      <a:lnTo>
                        <a:pt x="1490" y="4"/>
                      </a:lnTo>
                      <a:lnTo>
                        <a:pt x="1492" y="3"/>
                      </a:lnTo>
                      <a:lnTo>
                        <a:pt x="1494" y="4"/>
                      </a:lnTo>
                      <a:lnTo>
                        <a:pt x="1495" y="4"/>
                      </a:lnTo>
                      <a:lnTo>
                        <a:pt x="1496" y="5"/>
                      </a:lnTo>
                      <a:lnTo>
                        <a:pt x="1497" y="7"/>
                      </a:lnTo>
                      <a:lnTo>
                        <a:pt x="1504" y="7"/>
                      </a:lnTo>
                      <a:lnTo>
                        <a:pt x="1504" y="5"/>
                      </a:lnTo>
                      <a:lnTo>
                        <a:pt x="1505" y="4"/>
                      </a:lnTo>
                      <a:lnTo>
                        <a:pt x="1507" y="4"/>
                      </a:lnTo>
                      <a:lnTo>
                        <a:pt x="1508" y="3"/>
                      </a:lnTo>
                      <a:lnTo>
                        <a:pt x="1510" y="4"/>
                      </a:lnTo>
                      <a:lnTo>
                        <a:pt x="1512" y="4"/>
                      </a:lnTo>
                      <a:lnTo>
                        <a:pt x="1513" y="5"/>
                      </a:lnTo>
                      <a:lnTo>
                        <a:pt x="1513" y="7"/>
                      </a:lnTo>
                      <a:lnTo>
                        <a:pt x="1536" y="7"/>
                      </a:lnTo>
                      <a:lnTo>
                        <a:pt x="1536" y="5"/>
                      </a:lnTo>
                      <a:lnTo>
                        <a:pt x="1537" y="4"/>
                      </a:lnTo>
                      <a:lnTo>
                        <a:pt x="1539" y="4"/>
                      </a:lnTo>
                      <a:lnTo>
                        <a:pt x="1541" y="3"/>
                      </a:lnTo>
                      <a:lnTo>
                        <a:pt x="1542" y="4"/>
                      </a:lnTo>
                      <a:lnTo>
                        <a:pt x="1544" y="4"/>
                      </a:lnTo>
                      <a:lnTo>
                        <a:pt x="1545" y="5"/>
                      </a:lnTo>
                      <a:lnTo>
                        <a:pt x="1545" y="7"/>
                      </a:lnTo>
                      <a:lnTo>
                        <a:pt x="1547" y="7"/>
                      </a:lnTo>
                      <a:lnTo>
                        <a:pt x="1548" y="5"/>
                      </a:lnTo>
                      <a:lnTo>
                        <a:pt x="1549" y="4"/>
                      </a:lnTo>
                      <a:lnTo>
                        <a:pt x="1550" y="3"/>
                      </a:lnTo>
                      <a:lnTo>
                        <a:pt x="1552" y="2"/>
                      </a:lnTo>
                      <a:lnTo>
                        <a:pt x="1554" y="2"/>
                      </a:lnTo>
                      <a:lnTo>
                        <a:pt x="1556" y="2"/>
                      </a:lnTo>
                      <a:lnTo>
                        <a:pt x="1558" y="3"/>
                      </a:lnTo>
                      <a:lnTo>
                        <a:pt x="1560" y="4"/>
                      </a:lnTo>
                      <a:lnTo>
                        <a:pt x="1560" y="5"/>
                      </a:lnTo>
                      <a:lnTo>
                        <a:pt x="1561" y="7"/>
                      </a:lnTo>
                      <a:lnTo>
                        <a:pt x="1579" y="7"/>
                      </a:lnTo>
                      <a:lnTo>
                        <a:pt x="1579" y="5"/>
                      </a:lnTo>
                      <a:lnTo>
                        <a:pt x="1580" y="4"/>
                      </a:lnTo>
                      <a:lnTo>
                        <a:pt x="1582" y="4"/>
                      </a:lnTo>
                      <a:lnTo>
                        <a:pt x="1583" y="3"/>
                      </a:lnTo>
                      <a:lnTo>
                        <a:pt x="1585" y="4"/>
                      </a:lnTo>
                      <a:lnTo>
                        <a:pt x="1586" y="4"/>
                      </a:lnTo>
                      <a:lnTo>
                        <a:pt x="1587" y="5"/>
                      </a:lnTo>
                      <a:lnTo>
                        <a:pt x="1588" y="7"/>
                      </a:lnTo>
                      <a:lnTo>
                        <a:pt x="1619" y="7"/>
                      </a:lnTo>
                      <a:lnTo>
                        <a:pt x="1620" y="5"/>
                      </a:lnTo>
                      <a:lnTo>
                        <a:pt x="1621" y="4"/>
                      </a:lnTo>
                      <a:lnTo>
                        <a:pt x="1622" y="4"/>
                      </a:lnTo>
                      <a:lnTo>
                        <a:pt x="1624" y="3"/>
                      </a:lnTo>
                      <a:lnTo>
                        <a:pt x="1626" y="4"/>
                      </a:lnTo>
                      <a:lnTo>
                        <a:pt x="1627" y="4"/>
                      </a:lnTo>
                      <a:lnTo>
                        <a:pt x="1628" y="5"/>
                      </a:lnTo>
                      <a:lnTo>
                        <a:pt x="1628" y="7"/>
                      </a:lnTo>
                      <a:lnTo>
                        <a:pt x="1667" y="7"/>
                      </a:lnTo>
                      <a:lnTo>
                        <a:pt x="1667" y="5"/>
                      </a:lnTo>
                      <a:lnTo>
                        <a:pt x="1668" y="4"/>
                      </a:lnTo>
                      <a:lnTo>
                        <a:pt x="1669" y="4"/>
                      </a:lnTo>
                      <a:lnTo>
                        <a:pt x="1671" y="3"/>
                      </a:lnTo>
                      <a:lnTo>
                        <a:pt x="1673" y="4"/>
                      </a:lnTo>
                      <a:lnTo>
                        <a:pt x="1674" y="4"/>
                      </a:lnTo>
                      <a:lnTo>
                        <a:pt x="1675" y="5"/>
                      </a:lnTo>
                      <a:lnTo>
                        <a:pt x="1676" y="7"/>
                      </a:lnTo>
                      <a:lnTo>
                        <a:pt x="1761" y="7"/>
                      </a:lnTo>
                      <a:lnTo>
                        <a:pt x="1761" y="5"/>
                      </a:lnTo>
                      <a:lnTo>
                        <a:pt x="1762" y="4"/>
                      </a:lnTo>
                      <a:lnTo>
                        <a:pt x="1763" y="4"/>
                      </a:lnTo>
                      <a:lnTo>
                        <a:pt x="1765" y="3"/>
                      </a:lnTo>
                      <a:lnTo>
                        <a:pt x="1767" y="4"/>
                      </a:lnTo>
                      <a:lnTo>
                        <a:pt x="1768" y="4"/>
                      </a:lnTo>
                      <a:lnTo>
                        <a:pt x="1769" y="5"/>
                      </a:lnTo>
                      <a:lnTo>
                        <a:pt x="1770" y="7"/>
                      </a:lnTo>
                      <a:lnTo>
                        <a:pt x="1872" y="7"/>
                      </a:lnTo>
                      <a:lnTo>
                        <a:pt x="1872" y="5"/>
                      </a:lnTo>
                      <a:lnTo>
                        <a:pt x="1873" y="4"/>
                      </a:lnTo>
                      <a:lnTo>
                        <a:pt x="1875" y="4"/>
                      </a:lnTo>
                      <a:lnTo>
                        <a:pt x="1876" y="3"/>
                      </a:lnTo>
                      <a:lnTo>
                        <a:pt x="1878" y="4"/>
                      </a:lnTo>
                      <a:lnTo>
                        <a:pt x="1879" y="4"/>
                      </a:lnTo>
                      <a:lnTo>
                        <a:pt x="1880" y="5"/>
                      </a:lnTo>
                      <a:lnTo>
                        <a:pt x="1881" y="7"/>
                      </a:lnTo>
                      <a:lnTo>
                        <a:pt x="1950" y="7"/>
                      </a:lnTo>
                      <a:lnTo>
                        <a:pt x="1951" y="5"/>
                      </a:lnTo>
                      <a:lnTo>
                        <a:pt x="1952" y="4"/>
                      </a:lnTo>
                      <a:lnTo>
                        <a:pt x="1953" y="4"/>
                      </a:lnTo>
                      <a:lnTo>
                        <a:pt x="1955" y="3"/>
                      </a:lnTo>
                      <a:lnTo>
                        <a:pt x="1957" y="4"/>
                      </a:lnTo>
                      <a:lnTo>
                        <a:pt x="1958" y="4"/>
                      </a:lnTo>
                      <a:lnTo>
                        <a:pt x="1959" y="5"/>
                      </a:lnTo>
                      <a:lnTo>
                        <a:pt x="1959" y="7"/>
                      </a:lnTo>
                      <a:lnTo>
                        <a:pt x="1991" y="7"/>
                      </a:lnTo>
                      <a:lnTo>
                        <a:pt x="1991" y="5"/>
                      </a:lnTo>
                      <a:lnTo>
                        <a:pt x="1992" y="4"/>
                      </a:lnTo>
                      <a:lnTo>
                        <a:pt x="1994" y="4"/>
                      </a:lnTo>
                      <a:lnTo>
                        <a:pt x="1995" y="3"/>
                      </a:lnTo>
                      <a:lnTo>
                        <a:pt x="1997" y="4"/>
                      </a:lnTo>
                      <a:lnTo>
                        <a:pt x="1998" y="4"/>
                      </a:lnTo>
                      <a:lnTo>
                        <a:pt x="1999" y="5"/>
                      </a:lnTo>
                      <a:lnTo>
                        <a:pt x="2000" y="7"/>
                      </a:lnTo>
                      <a:lnTo>
                        <a:pt x="2004" y="7"/>
                      </a:lnTo>
                      <a:lnTo>
                        <a:pt x="2005" y="5"/>
                      </a:lnTo>
                      <a:lnTo>
                        <a:pt x="2006" y="4"/>
                      </a:lnTo>
                      <a:lnTo>
                        <a:pt x="2007" y="4"/>
                      </a:lnTo>
                      <a:lnTo>
                        <a:pt x="2009" y="3"/>
                      </a:lnTo>
                      <a:lnTo>
                        <a:pt x="2010" y="4"/>
                      </a:lnTo>
                      <a:lnTo>
                        <a:pt x="2012" y="4"/>
                      </a:lnTo>
                      <a:lnTo>
                        <a:pt x="2013" y="5"/>
                      </a:lnTo>
                      <a:lnTo>
                        <a:pt x="2013" y="7"/>
                      </a:lnTo>
                      <a:lnTo>
                        <a:pt x="2031" y="7"/>
                      </a:lnTo>
                      <a:lnTo>
                        <a:pt x="2032" y="5"/>
                      </a:lnTo>
                      <a:lnTo>
                        <a:pt x="2033" y="4"/>
                      </a:lnTo>
                      <a:lnTo>
                        <a:pt x="2034" y="4"/>
                      </a:lnTo>
                      <a:lnTo>
                        <a:pt x="2036" y="3"/>
                      </a:lnTo>
                      <a:lnTo>
                        <a:pt x="2037" y="4"/>
                      </a:lnTo>
                      <a:lnTo>
                        <a:pt x="2039" y="4"/>
                      </a:lnTo>
                      <a:lnTo>
                        <a:pt x="2040" y="5"/>
                      </a:lnTo>
                      <a:lnTo>
                        <a:pt x="2040" y="7"/>
                      </a:lnTo>
                      <a:lnTo>
                        <a:pt x="2050" y="7"/>
                      </a:lnTo>
                      <a:lnTo>
                        <a:pt x="2050" y="5"/>
                      </a:lnTo>
                      <a:lnTo>
                        <a:pt x="2051" y="4"/>
                      </a:lnTo>
                      <a:lnTo>
                        <a:pt x="2053" y="4"/>
                      </a:lnTo>
                      <a:lnTo>
                        <a:pt x="2054" y="3"/>
                      </a:lnTo>
                      <a:lnTo>
                        <a:pt x="2056" y="4"/>
                      </a:lnTo>
                      <a:lnTo>
                        <a:pt x="2057" y="4"/>
                      </a:lnTo>
                      <a:lnTo>
                        <a:pt x="2059" y="5"/>
                      </a:lnTo>
                      <a:lnTo>
                        <a:pt x="2059" y="7"/>
                      </a:lnTo>
                      <a:lnTo>
                        <a:pt x="2059" y="7"/>
                      </a:lnTo>
                      <a:lnTo>
                        <a:pt x="2059" y="5"/>
                      </a:lnTo>
                      <a:lnTo>
                        <a:pt x="2060" y="4"/>
                      </a:lnTo>
                      <a:lnTo>
                        <a:pt x="2062" y="4"/>
                      </a:lnTo>
                      <a:lnTo>
                        <a:pt x="2063" y="3"/>
                      </a:lnTo>
                      <a:lnTo>
                        <a:pt x="2065" y="4"/>
                      </a:lnTo>
                      <a:lnTo>
                        <a:pt x="2067" y="4"/>
                      </a:lnTo>
                      <a:lnTo>
                        <a:pt x="2068" y="5"/>
                      </a:lnTo>
                      <a:lnTo>
                        <a:pt x="2068" y="7"/>
                      </a:lnTo>
                      <a:lnTo>
                        <a:pt x="2086" y="7"/>
                      </a:lnTo>
                      <a:lnTo>
                        <a:pt x="2086" y="5"/>
                      </a:lnTo>
                      <a:lnTo>
                        <a:pt x="2087" y="4"/>
                      </a:lnTo>
                      <a:lnTo>
                        <a:pt x="2089" y="4"/>
                      </a:lnTo>
                      <a:lnTo>
                        <a:pt x="2091" y="3"/>
                      </a:lnTo>
                      <a:lnTo>
                        <a:pt x="2092" y="4"/>
                      </a:lnTo>
                      <a:lnTo>
                        <a:pt x="2094" y="4"/>
                      </a:lnTo>
                      <a:lnTo>
                        <a:pt x="2095" y="5"/>
                      </a:lnTo>
                      <a:lnTo>
                        <a:pt x="2095" y="7"/>
                      </a:lnTo>
                      <a:lnTo>
                        <a:pt x="2100" y="7"/>
                      </a:lnTo>
                      <a:lnTo>
                        <a:pt x="2101" y="5"/>
                      </a:lnTo>
                      <a:lnTo>
                        <a:pt x="2102" y="4"/>
                      </a:lnTo>
                      <a:lnTo>
                        <a:pt x="2103" y="4"/>
                      </a:lnTo>
                      <a:lnTo>
                        <a:pt x="2105" y="3"/>
                      </a:lnTo>
                      <a:lnTo>
                        <a:pt x="2107" y="4"/>
                      </a:lnTo>
                      <a:lnTo>
                        <a:pt x="2108" y="4"/>
                      </a:lnTo>
                      <a:lnTo>
                        <a:pt x="2109" y="5"/>
                      </a:lnTo>
                      <a:lnTo>
                        <a:pt x="2109" y="7"/>
                      </a:lnTo>
                      <a:lnTo>
                        <a:pt x="2173" y="7"/>
                      </a:lnTo>
                      <a:lnTo>
                        <a:pt x="2173" y="5"/>
                      </a:lnTo>
                      <a:lnTo>
                        <a:pt x="2175" y="4"/>
                      </a:lnTo>
                      <a:lnTo>
                        <a:pt x="2176" y="4"/>
                      </a:lnTo>
                      <a:lnTo>
                        <a:pt x="2178" y="3"/>
                      </a:lnTo>
                      <a:lnTo>
                        <a:pt x="2179" y="4"/>
                      </a:lnTo>
                      <a:lnTo>
                        <a:pt x="2181" y="4"/>
                      </a:lnTo>
                      <a:lnTo>
                        <a:pt x="2182" y="5"/>
                      </a:lnTo>
                      <a:lnTo>
                        <a:pt x="2182" y="7"/>
                      </a:lnTo>
                      <a:lnTo>
                        <a:pt x="2246" y="7"/>
                      </a:lnTo>
                      <a:lnTo>
                        <a:pt x="2246" y="24"/>
                      </a:lnTo>
                    </a:path>
                  </a:pathLst>
                </a:custGeom>
                <a:noFill/>
                <a:ln w="1440">
                  <a:solidFill>
                    <a:srgbClr val="0000ff"/>
                  </a:solidFill>
                  <a:round/>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191" name=""/>
                <p:cNvSpPr/>
                <p:nvPr/>
              </p:nvSpPr>
              <p:spPr>
                <a:xfrm>
                  <a:off x="8273160" y="39931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92" name=""/>
                <p:cNvSpPr/>
                <p:nvPr/>
              </p:nvSpPr>
              <p:spPr>
                <a:xfrm>
                  <a:off x="5857920" y="2808000"/>
                  <a:ext cx="1461960" cy="961560"/>
                </a:xfrm>
                <a:custGeom>
                  <a:avLst/>
                  <a:gdLst/>
                  <a:ahLst/>
                  <a:rect l="l" t="t" r="r" b="b"/>
                  <a:pathLst>
                    <a:path w="1381" h="720">
                      <a:moveTo>
                        <a:pt x="0" y="720"/>
                      </a:moveTo>
                      <a:lnTo>
                        <a:pt x="0" y="101"/>
                      </a:lnTo>
                      <a:lnTo>
                        <a:pt x="68" y="101"/>
                      </a:lnTo>
                      <a:lnTo>
                        <a:pt x="68" y="99"/>
                      </a:lnTo>
                      <a:lnTo>
                        <a:pt x="69" y="98"/>
                      </a:lnTo>
                      <a:lnTo>
                        <a:pt x="70" y="97"/>
                      </a:lnTo>
                      <a:lnTo>
                        <a:pt x="72" y="97"/>
                      </a:lnTo>
                      <a:lnTo>
                        <a:pt x="74" y="97"/>
                      </a:lnTo>
                      <a:lnTo>
                        <a:pt x="75" y="98"/>
                      </a:lnTo>
                      <a:lnTo>
                        <a:pt x="76" y="99"/>
                      </a:lnTo>
                      <a:lnTo>
                        <a:pt x="77" y="101"/>
                      </a:lnTo>
                      <a:lnTo>
                        <a:pt x="107" y="101"/>
                      </a:lnTo>
                      <a:lnTo>
                        <a:pt x="107" y="99"/>
                      </a:lnTo>
                      <a:lnTo>
                        <a:pt x="108" y="98"/>
                      </a:lnTo>
                      <a:lnTo>
                        <a:pt x="110" y="97"/>
                      </a:lnTo>
                      <a:lnTo>
                        <a:pt x="111" y="97"/>
                      </a:lnTo>
                      <a:lnTo>
                        <a:pt x="113" y="97"/>
                      </a:lnTo>
                      <a:lnTo>
                        <a:pt x="115" y="98"/>
                      </a:lnTo>
                      <a:lnTo>
                        <a:pt x="116" y="99"/>
                      </a:lnTo>
                      <a:lnTo>
                        <a:pt x="116" y="101"/>
                      </a:lnTo>
                      <a:lnTo>
                        <a:pt x="125" y="101"/>
                      </a:lnTo>
                      <a:lnTo>
                        <a:pt x="125" y="99"/>
                      </a:lnTo>
                      <a:lnTo>
                        <a:pt x="126" y="97"/>
                      </a:lnTo>
                      <a:lnTo>
                        <a:pt x="127" y="96"/>
                      </a:lnTo>
                      <a:lnTo>
                        <a:pt x="129" y="96"/>
                      </a:lnTo>
                      <a:lnTo>
                        <a:pt x="131" y="95"/>
                      </a:lnTo>
                      <a:lnTo>
                        <a:pt x="133" y="96"/>
                      </a:lnTo>
                      <a:lnTo>
                        <a:pt x="135" y="96"/>
                      </a:lnTo>
                      <a:lnTo>
                        <a:pt x="137" y="97"/>
                      </a:lnTo>
                      <a:lnTo>
                        <a:pt x="137" y="99"/>
                      </a:lnTo>
                      <a:lnTo>
                        <a:pt x="138" y="101"/>
                      </a:lnTo>
                      <a:lnTo>
                        <a:pt x="161" y="101"/>
                      </a:lnTo>
                      <a:lnTo>
                        <a:pt x="162" y="99"/>
                      </a:lnTo>
                      <a:lnTo>
                        <a:pt x="163" y="98"/>
                      </a:lnTo>
                      <a:lnTo>
                        <a:pt x="164" y="97"/>
                      </a:lnTo>
                      <a:lnTo>
                        <a:pt x="166" y="97"/>
                      </a:lnTo>
                      <a:lnTo>
                        <a:pt x="168" y="97"/>
                      </a:lnTo>
                      <a:lnTo>
                        <a:pt x="169" y="98"/>
                      </a:lnTo>
                      <a:lnTo>
                        <a:pt x="170" y="99"/>
                      </a:lnTo>
                      <a:lnTo>
                        <a:pt x="170" y="101"/>
                      </a:lnTo>
                      <a:lnTo>
                        <a:pt x="186" y="101"/>
                      </a:lnTo>
                      <a:lnTo>
                        <a:pt x="186" y="99"/>
                      </a:lnTo>
                      <a:lnTo>
                        <a:pt x="187" y="98"/>
                      </a:lnTo>
                      <a:lnTo>
                        <a:pt x="188" y="97"/>
                      </a:lnTo>
                      <a:lnTo>
                        <a:pt x="190" y="97"/>
                      </a:lnTo>
                      <a:lnTo>
                        <a:pt x="192" y="97"/>
                      </a:lnTo>
                      <a:lnTo>
                        <a:pt x="193" y="98"/>
                      </a:lnTo>
                      <a:lnTo>
                        <a:pt x="194" y="99"/>
                      </a:lnTo>
                      <a:lnTo>
                        <a:pt x="195" y="101"/>
                      </a:lnTo>
                      <a:lnTo>
                        <a:pt x="219" y="101"/>
                      </a:lnTo>
                      <a:lnTo>
                        <a:pt x="220" y="99"/>
                      </a:lnTo>
                      <a:lnTo>
                        <a:pt x="221" y="98"/>
                      </a:lnTo>
                      <a:lnTo>
                        <a:pt x="222" y="97"/>
                      </a:lnTo>
                      <a:lnTo>
                        <a:pt x="224" y="97"/>
                      </a:lnTo>
                      <a:lnTo>
                        <a:pt x="226" y="97"/>
                      </a:lnTo>
                      <a:lnTo>
                        <a:pt x="227" y="98"/>
                      </a:lnTo>
                      <a:lnTo>
                        <a:pt x="228" y="99"/>
                      </a:lnTo>
                      <a:lnTo>
                        <a:pt x="228" y="101"/>
                      </a:lnTo>
                      <a:lnTo>
                        <a:pt x="233" y="101"/>
                      </a:lnTo>
                      <a:lnTo>
                        <a:pt x="233" y="99"/>
                      </a:lnTo>
                      <a:lnTo>
                        <a:pt x="234" y="98"/>
                      </a:lnTo>
                      <a:lnTo>
                        <a:pt x="236" y="97"/>
                      </a:lnTo>
                      <a:lnTo>
                        <a:pt x="237" y="97"/>
                      </a:lnTo>
                      <a:lnTo>
                        <a:pt x="239" y="97"/>
                      </a:lnTo>
                      <a:lnTo>
                        <a:pt x="241" y="98"/>
                      </a:lnTo>
                      <a:lnTo>
                        <a:pt x="242" y="99"/>
                      </a:lnTo>
                      <a:lnTo>
                        <a:pt x="242" y="101"/>
                      </a:lnTo>
                      <a:lnTo>
                        <a:pt x="247" y="101"/>
                      </a:lnTo>
                      <a:lnTo>
                        <a:pt x="247" y="99"/>
                      </a:lnTo>
                      <a:lnTo>
                        <a:pt x="248" y="98"/>
                      </a:lnTo>
                      <a:lnTo>
                        <a:pt x="250" y="97"/>
                      </a:lnTo>
                      <a:lnTo>
                        <a:pt x="251" y="97"/>
                      </a:lnTo>
                      <a:lnTo>
                        <a:pt x="253" y="97"/>
                      </a:lnTo>
                      <a:lnTo>
                        <a:pt x="254" y="98"/>
                      </a:lnTo>
                      <a:lnTo>
                        <a:pt x="255" y="99"/>
                      </a:lnTo>
                      <a:lnTo>
                        <a:pt x="256" y="101"/>
                      </a:lnTo>
                      <a:lnTo>
                        <a:pt x="266" y="101"/>
                      </a:lnTo>
                      <a:lnTo>
                        <a:pt x="266" y="99"/>
                      </a:lnTo>
                      <a:lnTo>
                        <a:pt x="267" y="98"/>
                      </a:lnTo>
                      <a:lnTo>
                        <a:pt x="268" y="97"/>
                      </a:lnTo>
                      <a:lnTo>
                        <a:pt x="270" y="97"/>
                      </a:lnTo>
                      <a:lnTo>
                        <a:pt x="272" y="97"/>
                      </a:lnTo>
                      <a:lnTo>
                        <a:pt x="273" y="98"/>
                      </a:lnTo>
                      <a:lnTo>
                        <a:pt x="274" y="99"/>
                      </a:lnTo>
                      <a:lnTo>
                        <a:pt x="275" y="101"/>
                      </a:lnTo>
                      <a:lnTo>
                        <a:pt x="279" y="101"/>
                      </a:lnTo>
                      <a:lnTo>
                        <a:pt x="279" y="99"/>
                      </a:lnTo>
                      <a:lnTo>
                        <a:pt x="280" y="98"/>
                      </a:lnTo>
                      <a:lnTo>
                        <a:pt x="282" y="97"/>
                      </a:lnTo>
                      <a:lnTo>
                        <a:pt x="284" y="97"/>
                      </a:lnTo>
                      <a:lnTo>
                        <a:pt x="285" y="97"/>
                      </a:lnTo>
                      <a:lnTo>
                        <a:pt x="287" y="98"/>
                      </a:lnTo>
                      <a:lnTo>
                        <a:pt x="288" y="99"/>
                      </a:lnTo>
                      <a:lnTo>
                        <a:pt x="288" y="101"/>
                      </a:lnTo>
                      <a:lnTo>
                        <a:pt x="303" y="101"/>
                      </a:lnTo>
                      <a:lnTo>
                        <a:pt x="303" y="99"/>
                      </a:lnTo>
                      <a:lnTo>
                        <a:pt x="304" y="97"/>
                      </a:lnTo>
                      <a:lnTo>
                        <a:pt x="305" y="96"/>
                      </a:lnTo>
                      <a:lnTo>
                        <a:pt x="307" y="95"/>
                      </a:lnTo>
                      <a:lnTo>
                        <a:pt x="309" y="95"/>
                      </a:lnTo>
                      <a:lnTo>
                        <a:pt x="312" y="95"/>
                      </a:lnTo>
                      <a:lnTo>
                        <a:pt x="314" y="95"/>
                      </a:lnTo>
                      <a:lnTo>
                        <a:pt x="316" y="96"/>
                      </a:lnTo>
                      <a:lnTo>
                        <a:pt x="317" y="97"/>
                      </a:lnTo>
                      <a:lnTo>
                        <a:pt x="318" y="99"/>
                      </a:lnTo>
                      <a:lnTo>
                        <a:pt x="318" y="101"/>
                      </a:lnTo>
                      <a:lnTo>
                        <a:pt x="323" y="101"/>
                      </a:lnTo>
                      <a:lnTo>
                        <a:pt x="323" y="99"/>
                      </a:lnTo>
                      <a:lnTo>
                        <a:pt x="324" y="98"/>
                      </a:lnTo>
                      <a:lnTo>
                        <a:pt x="326" y="97"/>
                      </a:lnTo>
                      <a:lnTo>
                        <a:pt x="327" y="97"/>
                      </a:lnTo>
                      <a:lnTo>
                        <a:pt x="329" y="97"/>
                      </a:lnTo>
                      <a:lnTo>
                        <a:pt x="331" y="98"/>
                      </a:lnTo>
                      <a:lnTo>
                        <a:pt x="331" y="99"/>
                      </a:lnTo>
                      <a:lnTo>
                        <a:pt x="332" y="101"/>
                      </a:lnTo>
                      <a:lnTo>
                        <a:pt x="340" y="101"/>
                      </a:lnTo>
                      <a:lnTo>
                        <a:pt x="340" y="99"/>
                      </a:lnTo>
                      <a:lnTo>
                        <a:pt x="341" y="98"/>
                      </a:lnTo>
                      <a:lnTo>
                        <a:pt x="343" y="97"/>
                      </a:lnTo>
                      <a:lnTo>
                        <a:pt x="344" y="97"/>
                      </a:lnTo>
                      <a:lnTo>
                        <a:pt x="346" y="97"/>
                      </a:lnTo>
                      <a:lnTo>
                        <a:pt x="348" y="98"/>
                      </a:lnTo>
                      <a:lnTo>
                        <a:pt x="348" y="99"/>
                      </a:lnTo>
                      <a:lnTo>
                        <a:pt x="349" y="101"/>
                      </a:lnTo>
                      <a:lnTo>
                        <a:pt x="357" y="101"/>
                      </a:lnTo>
                      <a:lnTo>
                        <a:pt x="357" y="99"/>
                      </a:lnTo>
                      <a:lnTo>
                        <a:pt x="358" y="98"/>
                      </a:lnTo>
                      <a:lnTo>
                        <a:pt x="359" y="97"/>
                      </a:lnTo>
                      <a:lnTo>
                        <a:pt x="361" y="97"/>
                      </a:lnTo>
                      <a:lnTo>
                        <a:pt x="363" y="97"/>
                      </a:lnTo>
                      <a:lnTo>
                        <a:pt x="364" y="98"/>
                      </a:lnTo>
                      <a:lnTo>
                        <a:pt x="365" y="99"/>
                      </a:lnTo>
                      <a:lnTo>
                        <a:pt x="366" y="101"/>
                      </a:lnTo>
                      <a:lnTo>
                        <a:pt x="380" y="101"/>
                      </a:lnTo>
                      <a:lnTo>
                        <a:pt x="380" y="99"/>
                      </a:lnTo>
                      <a:lnTo>
                        <a:pt x="381" y="97"/>
                      </a:lnTo>
                      <a:lnTo>
                        <a:pt x="383" y="96"/>
                      </a:lnTo>
                      <a:lnTo>
                        <a:pt x="384" y="95"/>
                      </a:lnTo>
                      <a:lnTo>
                        <a:pt x="387" y="95"/>
                      </a:lnTo>
                      <a:lnTo>
                        <a:pt x="389" y="95"/>
                      </a:lnTo>
                      <a:lnTo>
                        <a:pt x="391" y="95"/>
                      </a:lnTo>
                      <a:lnTo>
                        <a:pt x="393" y="96"/>
                      </a:lnTo>
                      <a:lnTo>
                        <a:pt x="394" y="97"/>
                      </a:lnTo>
                      <a:lnTo>
                        <a:pt x="395" y="99"/>
                      </a:lnTo>
                      <a:lnTo>
                        <a:pt x="396" y="101"/>
                      </a:lnTo>
                      <a:lnTo>
                        <a:pt x="409" y="101"/>
                      </a:lnTo>
                      <a:lnTo>
                        <a:pt x="409" y="99"/>
                      </a:lnTo>
                      <a:lnTo>
                        <a:pt x="410" y="98"/>
                      </a:lnTo>
                      <a:lnTo>
                        <a:pt x="412" y="97"/>
                      </a:lnTo>
                      <a:lnTo>
                        <a:pt x="414" y="97"/>
                      </a:lnTo>
                      <a:lnTo>
                        <a:pt x="415" y="97"/>
                      </a:lnTo>
                      <a:lnTo>
                        <a:pt x="417" y="98"/>
                      </a:lnTo>
                      <a:lnTo>
                        <a:pt x="418" y="99"/>
                      </a:lnTo>
                      <a:lnTo>
                        <a:pt x="418" y="101"/>
                      </a:lnTo>
                      <a:lnTo>
                        <a:pt x="482" y="101"/>
                      </a:lnTo>
                      <a:lnTo>
                        <a:pt x="482" y="99"/>
                      </a:lnTo>
                      <a:lnTo>
                        <a:pt x="483" y="97"/>
                      </a:lnTo>
                      <a:lnTo>
                        <a:pt x="484" y="96"/>
                      </a:lnTo>
                      <a:lnTo>
                        <a:pt x="486" y="96"/>
                      </a:lnTo>
                      <a:lnTo>
                        <a:pt x="488" y="95"/>
                      </a:lnTo>
                      <a:lnTo>
                        <a:pt x="490" y="96"/>
                      </a:lnTo>
                      <a:lnTo>
                        <a:pt x="492" y="96"/>
                      </a:lnTo>
                      <a:lnTo>
                        <a:pt x="494" y="97"/>
                      </a:lnTo>
                      <a:lnTo>
                        <a:pt x="495" y="99"/>
                      </a:lnTo>
                      <a:lnTo>
                        <a:pt x="495" y="101"/>
                      </a:lnTo>
                      <a:lnTo>
                        <a:pt x="502" y="101"/>
                      </a:lnTo>
                      <a:lnTo>
                        <a:pt x="502" y="99"/>
                      </a:lnTo>
                      <a:lnTo>
                        <a:pt x="503" y="98"/>
                      </a:lnTo>
                      <a:lnTo>
                        <a:pt x="505" y="97"/>
                      </a:lnTo>
                      <a:lnTo>
                        <a:pt x="506" y="97"/>
                      </a:lnTo>
                      <a:lnTo>
                        <a:pt x="508" y="97"/>
                      </a:lnTo>
                      <a:lnTo>
                        <a:pt x="510" y="98"/>
                      </a:lnTo>
                      <a:lnTo>
                        <a:pt x="511" y="99"/>
                      </a:lnTo>
                      <a:lnTo>
                        <a:pt x="511" y="101"/>
                      </a:lnTo>
                      <a:lnTo>
                        <a:pt x="522" y="101"/>
                      </a:lnTo>
                      <a:lnTo>
                        <a:pt x="523" y="99"/>
                      </a:lnTo>
                      <a:lnTo>
                        <a:pt x="523" y="98"/>
                      </a:lnTo>
                      <a:lnTo>
                        <a:pt x="525" y="97"/>
                      </a:lnTo>
                      <a:lnTo>
                        <a:pt x="527" y="97"/>
                      </a:lnTo>
                      <a:lnTo>
                        <a:pt x="528" y="97"/>
                      </a:lnTo>
                      <a:lnTo>
                        <a:pt x="530" y="98"/>
                      </a:lnTo>
                      <a:lnTo>
                        <a:pt x="531" y="99"/>
                      </a:lnTo>
                      <a:lnTo>
                        <a:pt x="531" y="101"/>
                      </a:lnTo>
                      <a:lnTo>
                        <a:pt x="546" y="101"/>
                      </a:lnTo>
                      <a:lnTo>
                        <a:pt x="546" y="99"/>
                      </a:lnTo>
                      <a:lnTo>
                        <a:pt x="547" y="98"/>
                      </a:lnTo>
                      <a:lnTo>
                        <a:pt x="549" y="97"/>
                      </a:lnTo>
                      <a:lnTo>
                        <a:pt x="550" y="97"/>
                      </a:lnTo>
                      <a:lnTo>
                        <a:pt x="552" y="97"/>
                      </a:lnTo>
                      <a:lnTo>
                        <a:pt x="553" y="98"/>
                      </a:lnTo>
                      <a:lnTo>
                        <a:pt x="554" y="99"/>
                      </a:lnTo>
                      <a:lnTo>
                        <a:pt x="555" y="101"/>
                      </a:lnTo>
                      <a:lnTo>
                        <a:pt x="567" y="101"/>
                      </a:lnTo>
                      <a:lnTo>
                        <a:pt x="568" y="99"/>
                      </a:lnTo>
                      <a:lnTo>
                        <a:pt x="569" y="98"/>
                      </a:lnTo>
                      <a:lnTo>
                        <a:pt x="570" y="97"/>
                      </a:lnTo>
                      <a:lnTo>
                        <a:pt x="572" y="97"/>
                      </a:lnTo>
                      <a:lnTo>
                        <a:pt x="574" y="97"/>
                      </a:lnTo>
                      <a:lnTo>
                        <a:pt x="575" y="98"/>
                      </a:lnTo>
                      <a:lnTo>
                        <a:pt x="576" y="99"/>
                      </a:lnTo>
                      <a:lnTo>
                        <a:pt x="576" y="101"/>
                      </a:lnTo>
                      <a:lnTo>
                        <a:pt x="587" y="101"/>
                      </a:lnTo>
                      <a:lnTo>
                        <a:pt x="588" y="99"/>
                      </a:lnTo>
                      <a:lnTo>
                        <a:pt x="589" y="98"/>
                      </a:lnTo>
                      <a:lnTo>
                        <a:pt x="590" y="97"/>
                      </a:lnTo>
                      <a:lnTo>
                        <a:pt x="592" y="97"/>
                      </a:lnTo>
                      <a:lnTo>
                        <a:pt x="593" y="97"/>
                      </a:lnTo>
                      <a:lnTo>
                        <a:pt x="595" y="98"/>
                      </a:lnTo>
                      <a:lnTo>
                        <a:pt x="596" y="99"/>
                      </a:lnTo>
                      <a:lnTo>
                        <a:pt x="596" y="101"/>
                      </a:lnTo>
                      <a:lnTo>
                        <a:pt x="607" y="101"/>
                      </a:lnTo>
                      <a:lnTo>
                        <a:pt x="607" y="99"/>
                      </a:lnTo>
                      <a:lnTo>
                        <a:pt x="608" y="98"/>
                      </a:lnTo>
                      <a:lnTo>
                        <a:pt x="609" y="97"/>
                      </a:lnTo>
                      <a:lnTo>
                        <a:pt x="611" y="97"/>
                      </a:lnTo>
                      <a:lnTo>
                        <a:pt x="613" y="97"/>
                      </a:lnTo>
                      <a:lnTo>
                        <a:pt x="614" y="98"/>
                      </a:lnTo>
                      <a:lnTo>
                        <a:pt x="615" y="99"/>
                      </a:lnTo>
                      <a:lnTo>
                        <a:pt x="616" y="101"/>
                      </a:lnTo>
                      <a:lnTo>
                        <a:pt x="626" y="101"/>
                      </a:lnTo>
                      <a:lnTo>
                        <a:pt x="626" y="6"/>
                      </a:lnTo>
                      <a:lnTo>
                        <a:pt x="640" y="6"/>
                      </a:lnTo>
                      <a:lnTo>
                        <a:pt x="641" y="5"/>
                      </a:lnTo>
                      <a:lnTo>
                        <a:pt x="642" y="4"/>
                      </a:lnTo>
                      <a:lnTo>
                        <a:pt x="643" y="3"/>
                      </a:lnTo>
                      <a:lnTo>
                        <a:pt x="645" y="3"/>
                      </a:lnTo>
                      <a:lnTo>
                        <a:pt x="647" y="3"/>
                      </a:lnTo>
                      <a:lnTo>
                        <a:pt x="648" y="4"/>
                      </a:lnTo>
                      <a:lnTo>
                        <a:pt x="649" y="5"/>
                      </a:lnTo>
                      <a:lnTo>
                        <a:pt x="649" y="6"/>
                      </a:lnTo>
                      <a:lnTo>
                        <a:pt x="720" y="6"/>
                      </a:lnTo>
                      <a:lnTo>
                        <a:pt x="720" y="5"/>
                      </a:lnTo>
                      <a:lnTo>
                        <a:pt x="721" y="4"/>
                      </a:lnTo>
                      <a:lnTo>
                        <a:pt x="723" y="3"/>
                      </a:lnTo>
                      <a:lnTo>
                        <a:pt x="724" y="3"/>
                      </a:lnTo>
                      <a:lnTo>
                        <a:pt x="726" y="3"/>
                      </a:lnTo>
                      <a:lnTo>
                        <a:pt x="727" y="4"/>
                      </a:lnTo>
                      <a:lnTo>
                        <a:pt x="728" y="5"/>
                      </a:lnTo>
                      <a:lnTo>
                        <a:pt x="729" y="6"/>
                      </a:lnTo>
                      <a:lnTo>
                        <a:pt x="744" y="6"/>
                      </a:lnTo>
                      <a:lnTo>
                        <a:pt x="744" y="5"/>
                      </a:lnTo>
                      <a:lnTo>
                        <a:pt x="746" y="4"/>
                      </a:lnTo>
                      <a:lnTo>
                        <a:pt x="747" y="3"/>
                      </a:lnTo>
                      <a:lnTo>
                        <a:pt x="749" y="3"/>
                      </a:lnTo>
                      <a:lnTo>
                        <a:pt x="750" y="3"/>
                      </a:lnTo>
                      <a:lnTo>
                        <a:pt x="752" y="4"/>
                      </a:lnTo>
                      <a:lnTo>
                        <a:pt x="753" y="5"/>
                      </a:lnTo>
                      <a:lnTo>
                        <a:pt x="753" y="6"/>
                      </a:lnTo>
                      <a:lnTo>
                        <a:pt x="811" y="6"/>
                      </a:lnTo>
                      <a:lnTo>
                        <a:pt x="812" y="5"/>
                      </a:lnTo>
                      <a:lnTo>
                        <a:pt x="813" y="4"/>
                      </a:lnTo>
                      <a:lnTo>
                        <a:pt x="814" y="3"/>
                      </a:lnTo>
                      <a:lnTo>
                        <a:pt x="816" y="3"/>
                      </a:lnTo>
                      <a:lnTo>
                        <a:pt x="818" y="3"/>
                      </a:lnTo>
                      <a:lnTo>
                        <a:pt x="819" y="4"/>
                      </a:lnTo>
                      <a:lnTo>
                        <a:pt x="820" y="5"/>
                      </a:lnTo>
                      <a:lnTo>
                        <a:pt x="821" y="6"/>
                      </a:lnTo>
                      <a:lnTo>
                        <a:pt x="886" y="6"/>
                      </a:lnTo>
                      <a:lnTo>
                        <a:pt x="886" y="5"/>
                      </a:lnTo>
                      <a:lnTo>
                        <a:pt x="887" y="4"/>
                      </a:lnTo>
                      <a:lnTo>
                        <a:pt x="889" y="3"/>
                      </a:lnTo>
                      <a:lnTo>
                        <a:pt x="890" y="3"/>
                      </a:lnTo>
                      <a:lnTo>
                        <a:pt x="892" y="3"/>
                      </a:lnTo>
                      <a:lnTo>
                        <a:pt x="893" y="4"/>
                      </a:lnTo>
                      <a:lnTo>
                        <a:pt x="894" y="5"/>
                      </a:lnTo>
                      <a:lnTo>
                        <a:pt x="895" y="6"/>
                      </a:lnTo>
                      <a:lnTo>
                        <a:pt x="913" y="6"/>
                      </a:lnTo>
                      <a:lnTo>
                        <a:pt x="913" y="5"/>
                      </a:lnTo>
                      <a:lnTo>
                        <a:pt x="914" y="4"/>
                      </a:lnTo>
                      <a:lnTo>
                        <a:pt x="915" y="3"/>
                      </a:lnTo>
                      <a:lnTo>
                        <a:pt x="917" y="3"/>
                      </a:lnTo>
                      <a:lnTo>
                        <a:pt x="919" y="3"/>
                      </a:lnTo>
                      <a:lnTo>
                        <a:pt x="920" y="4"/>
                      </a:lnTo>
                      <a:lnTo>
                        <a:pt x="921" y="5"/>
                      </a:lnTo>
                      <a:lnTo>
                        <a:pt x="922" y="6"/>
                      </a:lnTo>
                      <a:lnTo>
                        <a:pt x="985" y="6"/>
                      </a:lnTo>
                      <a:lnTo>
                        <a:pt x="985" y="5"/>
                      </a:lnTo>
                      <a:lnTo>
                        <a:pt x="986" y="4"/>
                      </a:lnTo>
                      <a:lnTo>
                        <a:pt x="988" y="3"/>
                      </a:lnTo>
                      <a:lnTo>
                        <a:pt x="989" y="3"/>
                      </a:lnTo>
                      <a:lnTo>
                        <a:pt x="991" y="3"/>
                      </a:lnTo>
                      <a:lnTo>
                        <a:pt x="993" y="4"/>
                      </a:lnTo>
                      <a:lnTo>
                        <a:pt x="993" y="5"/>
                      </a:lnTo>
                      <a:lnTo>
                        <a:pt x="994" y="6"/>
                      </a:lnTo>
                      <a:lnTo>
                        <a:pt x="1025" y="6"/>
                      </a:lnTo>
                      <a:lnTo>
                        <a:pt x="1026" y="5"/>
                      </a:lnTo>
                      <a:lnTo>
                        <a:pt x="1027" y="4"/>
                      </a:lnTo>
                      <a:lnTo>
                        <a:pt x="1028" y="3"/>
                      </a:lnTo>
                      <a:lnTo>
                        <a:pt x="1030" y="3"/>
                      </a:lnTo>
                      <a:lnTo>
                        <a:pt x="1032" y="3"/>
                      </a:lnTo>
                      <a:lnTo>
                        <a:pt x="1033" y="4"/>
                      </a:lnTo>
                      <a:lnTo>
                        <a:pt x="1034" y="5"/>
                      </a:lnTo>
                      <a:lnTo>
                        <a:pt x="1034" y="6"/>
                      </a:lnTo>
                      <a:lnTo>
                        <a:pt x="1046" y="6"/>
                      </a:lnTo>
                      <a:lnTo>
                        <a:pt x="1046" y="5"/>
                      </a:lnTo>
                      <a:lnTo>
                        <a:pt x="1047" y="4"/>
                      </a:lnTo>
                      <a:lnTo>
                        <a:pt x="1049" y="3"/>
                      </a:lnTo>
                      <a:lnTo>
                        <a:pt x="1050" y="3"/>
                      </a:lnTo>
                      <a:lnTo>
                        <a:pt x="1052" y="3"/>
                      </a:lnTo>
                      <a:lnTo>
                        <a:pt x="1054" y="4"/>
                      </a:lnTo>
                      <a:lnTo>
                        <a:pt x="1054" y="5"/>
                      </a:lnTo>
                      <a:lnTo>
                        <a:pt x="1055" y="6"/>
                      </a:lnTo>
                      <a:lnTo>
                        <a:pt x="1074" y="6"/>
                      </a:lnTo>
                      <a:lnTo>
                        <a:pt x="1074" y="5"/>
                      </a:lnTo>
                      <a:lnTo>
                        <a:pt x="1075" y="4"/>
                      </a:lnTo>
                      <a:lnTo>
                        <a:pt x="1077" y="3"/>
                      </a:lnTo>
                      <a:lnTo>
                        <a:pt x="1079" y="3"/>
                      </a:lnTo>
                      <a:lnTo>
                        <a:pt x="1080" y="3"/>
                      </a:lnTo>
                      <a:lnTo>
                        <a:pt x="1082" y="4"/>
                      </a:lnTo>
                      <a:lnTo>
                        <a:pt x="1083" y="5"/>
                      </a:lnTo>
                      <a:lnTo>
                        <a:pt x="1083" y="6"/>
                      </a:lnTo>
                      <a:lnTo>
                        <a:pt x="1109" y="6"/>
                      </a:lnTo>
                      <a:lnTo>
                        <a:pt x="1109" y="5"/>
                      </a:lnTo>
                      <a:lnTo>
                        <a:pt x="1110" y="4"/>
                      </a:lnTo>
                      <a:lnTo>
                        <a:pt x="1111" y="3"/>
                      </a:lnTo>
                      <a:lnTo>
                        <a:pt x="1113" y="3"/>
                      </a:lnTo>
                      <a:lnTo>
                        <a:pt x="1115" y="3"/>
                      </a:lnTo>
                      <a:lnTo>
                        <a:pt x="1116" y="4"/>
                      </a:lnTo>
                      <a:lnTo>
                        <a:pt x="1117" y="5"/>
                      </a:lnTo>
                      <a:lnTo>
                        <a:pt x="1118" y="6"/>
                      </a:lnTo>
                      <a:lnTo>
                        <a:pt x="1127" y="6"/>
                      </a:lnTo>
                      <a:lnTo>
                        <a:pt x="1127" y="5"/>
                      </a:lnTo>
                      <a:lnTo>
                        <a:pt x="1128" y="4"/>
                      </a:lnTo>
                      <a:lnTo>
                        <a:pt x="1129" y="3"/>
                      </a:lnTo>
                      <a:lnTo>
                        <a:pt x="1131" y="3"/>
                      </a:lnTo>
                      <a:lnTo>
                        <a:pt x="1133" y="3"/>
                      </a:lnTo>
                      <a:lnTo>
                        <a:pt x="1134" y="4"/>
                      </a:lnTo>
                      <a:lnTo>
                        <a:pt x="1135" y="5"/>
                      </a:lnTo>
                      <a:lnTo>
                        <a:pt x="1136" y="6"/>
                      </a:lnTo>
                      <a:lnTo>
                        <a:pt x="1140" y="6"/>
                      </a:lnTo>
                      <a:lnTo>
                        <a:pt x="1141" y="5"/>
                      </a:lnTo>
                      <a:lnTo>
                        <a:pt x="1141" y="4"/>
                      </a:lnTo>
                      <a:lnTo>
                        <a:pt x="1143" y="3"/>
                      </a:lnTo>
                      <a:lnTo>
                        <a:pt x="1145" y="3"/>
                      </a:lnTo>
                      <a:lnTo>
                        <a:pt x="1146" y="3"/>
                      </a:lnTo>
                      <a:lnTo>
                        <a:pt x="1148" y="4"/>
                      </a:lnTo>
                      <a:lnTo>
                        <a:pt x="1149" y="5"/>
                      </a:lnTo>
                      <a:lnTo>
                        <a:pt x="1149" y="6"/>
                      </a:lnTo>
                      <a:lnTo>
                        <a:pt x="1159" y="6"/>
                      </a:lnTo>
                      <a:lnTo>
                        <a:pt x="1159" y="5"/>
                      </a:lnTo>
                      <a:lnTo>
                        <a:pt x="1160" y="4"/>
                      </a:lnTo>
                      <a:lnTo>
                        <a:pt x="1161" y="3"/>
                      </a:lnTo>
                      <a:lnTo>
                        <a:pt x="1163" y="3"/>
                      </a:lnTo>
                      <a:lnTo>
                        <a:pt x="1165" y="3"/>
                      </a:lnTo>
                      <a:lnTo>
                        <a:pt x="1166" y="4"/>
                      </a:lnTo>
                      <a:lnTo>
                        <a:pt x="1167" y="5"/>
                      </a:lnTo>
                      <a:lnTo>
                        <a:pt x="1168" y="6"/>
                      </a:lnTo>
                      <a:lnTo>
                        <a:pt x="1175" y="6"/>
                      </a:lnTo>
                      <a:lnTo>
                        <a:pt x="1176" y="5"/>
                      </a:lnTo>
                      <a:lnTo>
                        <a:pt x="1176" y="4"/>
                      </a:lnTo>
                      <a:lnTo>
                        <a:pt x="1178" y="3"/>
                      </a:lnTo>
                      <a:lnTo>
                        <a:pt x="1180" y="3"/>
                      </a:lnTo>
                      <a:lnTo>
                        <a:pt x="1181" y="3"/>
                      </a:lnTo>
                      <a:lnTo>
                        <a:pt x="1183" y="4"/>
                      </a:lnTo>
                      <a:lnTo>
                        <a:pt x="1184" y="5"/>
                      </a:lnTo>
                      <a:lnTo>
                        <a:pt x="1184" y="6"/>
                      </a:lnTo>
                      <a:lnTo>
                        <a:pt x="1186" y="6"/>
                      </a:lnTo>
                      <a:lnTo>
                        <a:pt x="1186" y="4"/>
                      </a:lnTo>
                      <a:lnTo>
                        <a:pt x="1187" y="3"/>
                      </a:lnTo>
                      <a:lnTo>
                        <a:pt x="1188" y="2"/>
                      </a:lnTo>
                      <a:lnTo>
                        <a:pt x="1190" y="1"/>
                      </a:lnTo>
                      <a:lnTo>
                        <a:pt x="1192" y="0"/>
                      </a:lnTo>
                      <a:lnTo>
                        <a:pt x="1195" y="0"/>
                      </a:lnTo>
                      <a:lnTo>
                        <a:pt x="1197" y="1"/>
                      </a:lnTo>
                      <a:lnTo>
                        <a:pt x="1199" y="2"/>
                      </a:lnTo>
                      <a:lnTo>
                        <a:pt x="1200" y="3"/>
                      </a:lnTo>
                      <a:lnTo>
                        <a:pt x="1201" y="4"/>
                      </a:lnTo>
                      <a:lnTo>
                        <a:pt x="1201" y="6"/>
                      </a:lnTo>
                      <a:lnTo>
                        <a:pt x="1227" y="6"/>
                      </a:lnTo>
                      <a:lnTo>
                        <a:pt x="1227" y="5"/>
                      </a:lnTo>
                      <a:lnTo>
                        <a:pt x="1228" y="4"/>
                      </a:lnTo>
                      <a:lnTo>
                        <a:pt x="1230" y="3"/>
                      </a:lnTo>
                      <a:lnTo>
                        <a:pt x="1232" y="3"/>
                      </a:lnTo>
                      <a:lnTo>
                        <a:pt x="1233" y="3"/>
                      </a:lnTo>
                      <a:lnTo>
                        <a:pt x="1235" y="4"/>
                      </a:lnTo>
                      <a:lnTo>
                        <a:pt x="1236" y="5"/>
                      </a:lnTo>
                      <a:lnTo>
                        <a:pt x="1236" y="6"/>
                      </a:lnTo>
                      <a:lnTo>
                        <a:pt x="1245" y="6"/>
                      </a:lnTo>
                      <a:lnTo>
                        <a:pt x="1245" y="4"/>
                      </a:lnTo>
                      <a:lnTo>
                        <a:pt x="1246" y="3"/>
                      </a:lnTo>
                      <a:lnTo>
                        <a:pt x="1248" y="1"/>
                      </a:lnTo>
                      <a:lnTo>
                        <a:pt x="1250" y="0"/>
                      </a:lnTo>
                      <a:lnTo>
                        <a:pt x="1252" y="0"/>
                      </a:lnTo>
                      <a:lnTo>
                        <a:pt x="1255" y="0"/>
                      </a:lnTo>
                      <a:lnTo>
                        <a:pt x="1257" y="0"/>
                      </a:lnTo>
                      <a:lnTo>
                        <a:pt x="1259" y="1"/>
                      </a:lnTo>
                      <a:lnTo>
                        <a:pt x="1260" y="3"/>
                      </a:lnTo>
                      <a:lnTo>
                        <a:pt x="1261" y="4"/>
                      </a:lnTo>
                      <a:lnTo>
                        <a:pt x="1262" y="6"/>
                      </a:lnTo>
                      <a:lnTo>
                        <a:pt x="1275" y="6"/>
                      </a:lnTo>
                      <a:lnTo>
                        <a:pt x="1275" y="5"/>
                      </a:lnTo>
                      <a:lnTo>
                        <a:pt x="1276" y="4"/>
                      </a:lnTo>
                      <a:lnTo>
                        <a:pt x="1278" y="3"/>
                      </a:lnTo>
                      <a:lnTo>
                        <a:pt x="1279" y="3"/>
                      </a:lnTo>
                      <a:lnTo>
                        <a:pt x="1281" y="3"/>
                      </a:lnTo>
                      <a:lnTo>
                        <a:pt x="1283" y="4"/>
                      </a:lnTo>
                      <a:lnTo>
                        <a:pt x="1283" y="5"/>
                      </a:lnTo>
                      <a:lnTo>
                        <a:pt x="1284" y="6"/>
                      </a:lnTo>
                      <a:lnTo>
                        <a:pt x="1295" y="6"/>
                      </a:lnTo>
                      <a:lnTo>
                        <a:pt x="1296" y="5"/>
                      </a:lnTo>
                      <a:lnTo>
                        <a:pt x="1297" y="4"/>
                      </a:lnTo>
                      <a:lnTo>
                        <a:pt x="1298" y="3"/>
                      </a:lnTo>
                      <a:lnTo>
                        <a:pt x="1300" y="3"/>
                      </a:lnTo>
                      <a:lnTo>
                        <a:pt x="1302" y="3"/>
                      </a:lnTo>
                      <a:lnTo>
                        <a:pt x="1303" y="4"/>
                      </a:lnTo>
                      <a:lnTo>
                        <a:pt x="1304" y="5"/>
                      </a:lnTo>
                      <a:lnTo>
                        <a:pt x="1304" y="6"/>
                      </a:lnTo>
                      <a:lnTo>
                        <a:pt x="1309" y="6"/>
                      </a:lnTo>
                      <a:lnTo>
                        <a:pt x="1309" y="5"/>
                      </a:lnTo>
                      <a:lnTo>
                        <a:pt x="1310" y="4"/>
                      </a:lnTo>
                      <a:lnTo>
                        <a:pt x="1312" y="3"/>
                      </a:lnTo>
                      <a:lnTo>
                        <a:pt x="1313" y="3"/>
                      </a:lnTo>
                      <a:lnTo>
                        <a:pt x="1315" y="3"/>
                      </a:lnTo>
                      <a:lnTo>
                        <a:pt x="1317" y="4"/>
                      </a:lnTo>
                      <a:lnTo>
                        <a:pt x="1318" y="5"/>
                      </a:lnTo>
                      <a:lnTo>
                        <a:pt x="1318" y="6"/>
                      </a:lnTo>
                      <a:lnTo>
                        <a:pt x="1322" y="6"/>
                      </a:lnTo>
                      <a:lnTo>
                        <a:pt x="1323" y="5"/>
                      </a:lnTo>
                      <a:lnTo>
                        <a:pt x="1324" y="4"/>
                      </a:lnTo>
                      <a:lnTo>
                        <a:pt x="1325" y="3"/>
                      </a:lnTo>
                      <a:lnTo>
                        <a:pt x="1327" y="3"/>
                      </a:lnTo>
                      <a:lnTo>
                        <a:pt x="1329" y="3"/>
                      </a:lnTo>
                      <a:lnTo>
                        <a:pt x="1330" y="4"/>
                      </a:lnTo>
                      <a:lnTo>
                        <a:pt x="1331" y="5"/>
                      </a:lnTo>
                      <a:lnTo>
                        <a:pt x="1332" y="6"/>
                      </a:lnTo>
                      <a:lnTo>
                        <a:pt x="1347" y="6"/>
                      </a:lnTo>
                      <a:lnTo>
                        <a:pt x="1347" y="48"/>
                      </a:lnTo>
                      <a:lnTo>
                        <a:pt x="1363" y="48"/>
                      </a:lnTo>
                      <a:lnTo>
                        <a:pt x="1364" y="47"/>
                      </a:lnTo>
                      <a:lnTo>
                        <a:pt x="1364" y="45"/>
                      </a:lnTo>
                      <a:lnTo>
                        <a:pt x="1366" y="45"/>
                      </a:lnTo>
                      <a:lnTo>
                        <a:pt x="1368" y="45"/>
                      </a:lnTo>
                      <a:lnTo>
                        <a:pt x="1369" y="45"/>
                      </a:lnTo>
                      <a:lnTo>
                        <a:pt x="1371" y="45"/>
                      </a:lnTo>
                      <a:lnTo>
                        <a:pt x="1372" y="47"/>
                      </a:lnTo>
                      <a:lnTo>
                        <a:pt x="1372" y="48"/>
                      </a:lnTo>
                      <a:lnTo>
                        <a:pt x="1381" y="48"/>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306560" y="286560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94" name=""/>
                <p:cNvSpPr/>
                <p:nvPr/>
              </p:nvSpPr>
              <p:spPr>
                <a:xfrm>
                  <a:off x="5761800" y="4038480"/>
                  <a:ext cx="1894680" cy="529920"/>
                </a:xfrm>
                <a:custGeom>
                  <a:avLst/>
                  <a:gdLst/>
                  <a:ahLst/>
                  <a:rect l="l" t="t" r="r" b="b"/>
                  <a:pathLst>
                    <a:path w="1790" h="397">
                      <a:moveTo>
                        <a:pt x="1790" y="397"/>
                      </a:moveTo>
                      <a:lnTo>
                        <a:pt x="1417" y="397"/>
                      </a:lnTo>
                      <a:lnTo>
                        <a:pt x="1417" y="395"/>
                      </a:lnTo>
                      <a:lnTo>
                        <a:pt x="1416" y="394"/>
                      </a:lnTo>
                      <a:lnTo>
                        <a:pt x="1415" y="393"/>
                      </a:lnTo>
                      <a:lnTo>
                        <a:pt x="1413" y="393"/>
                      </a:lnTo>
                      <a:lnTo>
                        <a:pt x="1411" y="393"/>
                      </a:lnTo>
                      <a:lnTo>
                        <a:pt x="1410" y="394"/>
                      </a:lnTo>
                      <a:lnTo>
                        <a:pt x="1409" y="395"/>
                      </a:lnTo>
                      <a:lnTo>
                        <a:pt x="1408" y="397"/>
                      </a:lnTo>
                      <a:lnTo>
                        <a:pt x="1384" y="397"/>
                      </a:lnTo>
                      <a:lnTo>
                        <a:pt x="1383" y="395"/>
                      </a:lnTo>
                      <a:lnTo>
                        <a:pt x="1382" y="394"/>
                      </a:lnTo>
                      <a:lnTo>
                        <a:pt x="1381" y="393"/>
                      </a:lnTo>
                      <a:lnTo>
                        <a:pt x="1379" y="393"/>
                      </a:lnTo>
                      <a:lnTo>
                        <a:pt x="1377" y="393"/>
                      </a:lnTo>
                      <a:lnTo>
                        <a:pt x="1376" y="394"/>
                      </a:lnTo>
                      <a:lnTo>
                        <a:pt x="1375" y="395"/>
                      </a:lnTo>
                      <a:lnTo>
                        <a:pt x="1375" y="397"/>
                      </a:lnTo>
                      <a:lnTo>
                        <a:pt x="1353" y="397"/>
                      </a:lnTo>
                      <a:lnTo>
                        <a:pt x="1352" y="395"/>
                      </a:lnTo>
                      <a:lnTo>
                        <a:pt x="1352" y="394"/>
                      </a:lnTo>
                      <a:lnTo>
                        <a:pt x="1350" y="393"/>
                      </a:lnTo>
                      <a:lnTo>
                        <a:pt x="1348" y="393"/>
                      </a:lnTo>
                      <a:lnTo>
                        <a:pt x="1347" y="393"/>
                      </a:lnTo>
                      <a:lnTo>
                        <a:pt x="1345" y="394"/>
                      </a:lnTo>
                      <a:lnTo>
                        <a:pt x="1344" y="395"/>
                      </a:lnTo>
                      <a:lnTo>
                        <a:pt x="1344" y="397"/>
                      </a:lnTo>
                      <a:lnTo>
                        <a:pt x="1313" y="397"/>
                      </a:lnTo>
                      <a:lnTo>
                        <a:pt x="1312" y="395"/>
                      </a:lnTo>
                      <a:lnTo>
                        <a:pt x="1312" y="394"/>
                      </a:lnTo>
                      <a:lnTo>
                        <a:pt x="1310" y="393"/>
                      </a:lnTo>
                      <a:lnTo>
                        <a:pt x="1308" y="393"/>
                      </a:lnTo>
                      <a:lnTo>
                        <a:pt x="1307" y="393"/>
                      </a:lnTo>
                      <a:lnTo>
                        <a:pt x="1305" y="394"/>
                      </a:lnTo>
                      <a:lnTo>
                        <a:pt x="1304" y="395"/>
                      </a:lnTo>
                      <a:lnTo>
                        <a:pt x="1304" y="397"/>
                      </a:lnTo>
                      <a:lnTo>
                        <a:pt x="1294" y="397"/>
                      </a:lnTo>
                      <a:lnTo>
                        <a:pt x="1294" y="395"/>
                      </a:lnTo>
                      <a:lnTo>
                        <a:pt x="1293" y="394"/>
                      </a:lnTo>
                      <a:lnTo>
                        <a:pt x="1291" y="393"/>
                      </a:lnTo>
                      <a:lnTo>
                        <a:pt x="1290" y="393"/>
                      </a:lnTo>
                      <a:lnTo>
                        <a:pt x="1288" y="393"/>
                      </a:lnTo>
                      <a:lnTo>
                        <a:pt x="1287" y="394"/>
                      </a:lnTo>
                      <a:lnTo>
                        <a:pt x="1286" y="395"/>
                      </a:lnTo>
                      <a:lnTo>
                        <a:pt x="1285" y="397"/>
                      </a:lnTo>
                      <a:lnTo>
                        <a:pt x="1260" y="397"/>
                      </a:lnTo>
                      <a:lnTo>
                        <a:pt x="1260" y="395"/>
                      </a:lnTo>
                      <a:lnTo>
                        <a:pt x="1259" y="394"/>
                      </a:lnTo>
                      <a:lnTo>
                        <a:pt x="1258" y="393"/>
                      </a:lnTo>
                      <a:lnTo>
                        <a:pt x="1256" y="393"/>
                      </a:lnTo>
                      <a:lnTo>
                        <a:pt x="1254" y="393"/>
                      </a:lnTo>
                      <a:lnTo>
                        <a:pt x="1253" y="394"/>
                      </a:lnTo>
                      <a:lnTo>
                        <a:pt x="1252" y="395"/>
                      </a:lnTo>
                      <a:lnTo>
                        <a:pt x="1251" y="397"/>
                      </a:lnTo>
                      <a:lnTo>
                        <a:pt x="1240" y="397"/>
                      </a:lnTo>
                      <a:lnTo>
                        <a:pt x="1240" y="395"/>
                      </a:lnTo>
                      <a:lnTo>
                        <a:pt x="1239" y="394"/>
                      </a:lnTo>
                      <a:lnTo>
                        <a:pt x="1237" y="393"/>
                      </a:lnTo>
                      <a:lnTo>
                        <a:pt x="1236" y="393"/>
                      </a:lnTo>
                      <a:lnTo>
                        <a:pt x="1234" y="393"/>
                      </a:lnTo>
                      <a:lnTo>
                        <a:pt x="1232" y="394"/>
                      </a:lnTo>
                      <a:lnTo>
                        <a:pt x="1232" y="395"/>
                      </a:lnTo>
                      <a:lnTo>
                        <a:pt x="1231" y="397"/>
                      </a:lnTo>
                      <a:lnTo>
                        <a:pt x="1031" y="397"/>
                      </a:lnTo>
                      <a:lnTo>
                        <a:pt x="1030" y="395"/>
                      </a:lnTo>
                      <a:lnTo>
                        <a:pt x="1029" y="394"/>
                      </a:lnTo>
                      <a:lnTo>
                        <a:pt x="1028" y="393"/>
                      </a:lnTo>
                      <a:lnTo>
                        <a:pt x="1026" y="393"/>
                      </a:lnTo>
                      <a:lnTo>
                        <a:pt x="1025" y="393"/>
                      </a:lnTo>
                      <a:lnTo>
                        <a:pt x="1023" y="394"/>
                      </a:lnTo>
                      <a:lnTo>
                        <a:pt x="1022" y="395"/>
                      </a:lnTo>
                      <a:lnTo>
                        <a:pt x="1022" y="397"/>
                      </a:lnTo>
                      <a:lnTo>
                        <a:pt x="740" y="397"/>
                      </a:lnTo>
                      <a:lnTo>
                        <a:pt x="739" y="395"/>
                      </a:lnTo>
                      <a:lnTo>
                        <a:pt x="738" y="394"/>
                      </a:lnTo>
                      <a:lnTo>
                        <a:pt x="737" y="393"/>
                      </a:lnTo>
                      <a:lnTo>
                        <a:pt x="735" y="393"/>
                      </a:lnTo>
                      <a:lnTo>
                        <a:pt x="734" y="393"/>
                      </a:lnTo>
                      <a:lnTo>
                        <a:pt x="732" y="394"/>
                      </a:lnTo>
                      <a:lnTo>
                        <a:pt x="731" y="395"/>
                      </a:lnTo>
                      <a:lnTo>
                        <a:pt x="731" y="397"/>
                      </a:lnTo>
                      <a:lnTo>
                        <a:pt x="552" y="397"/>
                      </a:lnTo>
                      <a:lnTo>
                        <a:pt x="552" y="395"/>
                      </a:lnTo>
                      <a:lnTo>
                        <a:pt x="551" y="394"/>
                      </a:lnTo>
                      <a:lnTo>
                        <a:pt x="549" y="393"/>
                      </a:lnTo>
                      <a:lnTo>
                        <a:pt x="548" y="393"/>
                      </a:lnTo>
                      <a:lnTo>
                        <a:pt x="546" y="393"/>
                      </a:lnTo>
                      <a:lnTo>
                        <a:pt x="544" y="394"/>
                      </a:lnTo>
                      <a:lnTo>
                        <a:pt x="544" y="395"/>
                      </a:lnTo>
                      <a:lnTo>
                        <a:pt x="543" y="397"/>
                      </a:lnTo>
                      <a:lnTo>
                        <a:pt x="378" y="397"/>
                      </a:lnTo>
                      <a:lnTo>
                        <a:pt x="377" y="395"/>
                      </a:lnTo>
                      <a:lnTo>
                        <a:pt x="376" y="394"/>
                      </a:lnTo>
                      <a:lnTo>
                        <a:pt x="375" y="393"/>
                      </a:lnTo>
                      <a:lnTo>
                        <a:pt x="373" y="393"/>
                      </a:lnTo>
                      <a:lnTo>
                        <a:pt x="372" y="393"/>
                      </a:lnTo>
                      <a:lnTo>
                        <a:pt x="370" y="394"/>
                      </a:lnTo>
                      <a:lnTo>
                        <a:pt x="369" y="395"/>
                      </a:lnTo>
                      <a:lnTo>
                        <a:pt x="369" y="397"/>
                      </a:lnTo>
                      <a:lnTo>
                        <a:pt x="310" y="397"/>
                      </a:lnTo>
                      <a:lnTo>
                        <a:pt x="310" y="326"/>
                      </a:lnTo>
                      <a:lnTo>
                        <a:pt x="277" y="326"/>
                      </a:lnTo>
                      <a:lnTo>
                        <a:pt x="277" y="325"/>
                      </a:lnTo>
                      <a:lnTo>
                        <a:pt x="276" y="323"/>
                      </a:lnTo>
                      <a:lnTo>
                        <a:pt x="274" y="323"/>
                      </a:lnTo>
                      <a:lnTo>
                        <a:pt x="272" y="322"/>
                      </a:lnTo>
                      <a:lnTo>
                        <a:pt x="271" y="323"/>
                      </a:lnTo>
                      <a:lnTo>
                        <a:pt x="269" y="323"/>
                      </a:lnTo>
                      <a:lnTo>
                        <a:pt x="268" y="325"/>
                      </a:lnTo>
                      <a:lnTo>
                        <a:pt x="268" y="326"/>
                      </a:lnTo>
                      <a:lnTo>
                        <a:pt x="245" y="326"/>
                      </a:lnTo>
                      <a:lnTo>
                        <a:pt x="245" y="325"/>
                      </a:lnTo>
                      <a:lnTo>
                        <a:pt x="244" y="323"/>
                      </a:lnTo>
                      <a:lnTo>
                        <a:pt x="242" y="323"/>
                      </a:lnTo>
                      <a:lnTo>
                        <a:pt x="241" y="322"/>
                      </a:lnTo>
                      <a:lnTo>
                        <a:pt x="239" y="323"/>
                      </a:lnTo>
                      <a:lnTo>
                        <a:pt x="237" y="323"/>
                      </a:lnTo>
                      <a:lnTo>
                        <a:pt x="236" y="325"/>
                      </a:lnTo>
                      <a:lnTo>
                        <a:pt x="236" y="326"/>
                      </a:lnTo>
                      <a:lnTo>
                        <a:pt x="214" y="326"/>
                      </a:lnTo>
                      <a:lnTo>
                        <a:pt x="213" y="325"/>
                      </a:lnTo>
                      <a:lnTo>
                        <a:pt x="212" y="323"/>
                      </a:lnTo>
                      <a:lnTo>
                        <a:pt x="211" y="323"/>
                      </a:lnTo>
                      <a:lnTo>
                        <a:pt x="209" y="322"/>
                      </a:lnTo>
                      <a:lnTo>
                        <a:pt x="207" y="323"/>
                      </a:lnTo>
                      <a:lnTo>
                        <a:pt x="206" y="323"/>
                      </a:lnTo>
                      <a:lnTo>
                        <a:pt x="205" y="325"/>
                      </a:lnTo>
                      <a:lnTo>
                        <a:pt x="205" y="326"/>
                      </a:lnTo>
                      <a:lnTo>
                        <a:pt x="191" y="326"/>
                      </a:lnTo>
                      <a:lnTo>
                        <a:pt x="191" y="325"/>
                      </a:lnTo>
                      <a:lnTo>
                        <a:pt x="190" y="323"/>
                      </a:lnTo>
                      <a:lnTo>
                        <a:pt x="188" y="323"/>
                      </a:lnTo>
                      <a:lnTo>
                        <a:pt x="187" y="322"/>
                      </a:lnTo>
                      <a:lnTo>
                        <a:pt x="185" y="323"/>
                      </a:lnTo>
                      <a:lnTo>
                        <a:pt x="183" y="323"/>
                      </a:lnTo>
                      <a:lnTo>
                        <a:pt x="182" y="325"/>
                      </a:lnTo>
                      <a:lnTo>
                        <a:pt x="182" y="326"/>
                      </a:lnTo>
                      <a:lnTo>
                        <a:pt x="139" y="326"/>
                      </a:lnTo>
                      <a:lnTo>
                        <a:pt x="139" y="325"/>
                      </a:lnTo>
                      <a:lnTo>
                        <a:pt x="138" y="323"/>
                      </a:lnTo>
                      <a:lnTo>
                        <a:pt x="136" y="323"/>
                      </a:lnTo>
                      <a:lnTo>
                        <a:pt x="135" y="322"/>
                      </a:lnTo>
                      <a:lnTo>
                        <a:pt x="133" y="323"/>
                      </a:lnTo>
                      <a:lnTo>
                        <a:pt x="132" y="323"/>
                      </a:lnTo>
                      <a:lnTo>
                        <a:pt x="131" y="325"/>
                      </a:lnTo>
                      <a:lnTo>
                        <a:pt x="130" y="326"/>
                      </a:lnTo>
                      <a:lnTo>
                        <a:pt x="0" y="326"/>
                      </a:lnTo>
                      <a:lnTo>
                        <a:pt x="0"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5755320" y="40262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96" name=""/>
                <p:cNvSpPr/>
                <p:nvPr/>
              </p:nvSpPr>
              <p:spPr>
                <a:xfrm>
                  <a:off x="5325480" y="3066120"/>
                  <a:ext cx="254880" cy="1617120"/>
                </a:xfrm>
                <a:custGeom>
                  <a:avLst/>
                  <a:gdLst/>
                  <a:ahLst/>
                  <a:rect l="l" t="t" r="r" b="b"/>
                  <a:pathLst>
                    <a:path w="241" h="1211">
                      <a:moveTo>
                        <a:pt x="241" y="1195"/>
                      </a:moveTo>
                      <a:lnTo>
                        <a:pt x="241" y="1211"/>
                      </a:lnTo>
                      <a:lnTo>
                        <a:pt x="130" y="1211"/>
                      </a:lnTo>
                      <a:lnTo>
                        <a:pt x="129" y="1210"/>
                      </a:lnTo>
                      <a:lnTo>
                        <a:pt x="128" y="1208"/>
                      </a:lnTo>
                      <a:lnTo>
                        <a:pt x="127" y="1208"/>
                      </a:lnTo>
                      <a:lnTo>
                        <a:pt x="125" y="1207"/>
                      </a:lnTo>
                      <a:lnTo>
                        <a:pt x="123" y="1208"/>
                      </a:lnTo>
                      <a:lnTo>
                        <a:pt x="122" y="1208"/>
                      </a:lnTo>
                      <a:lnTo>
                        <a:pt x="121" y="1210"/>
                      </a:lnTo>
                      <a:lnTo>
                        <a:pt x="121" y="1211"/>
                      </a:lnTo>
                      <a:lnTo>
                        <a:pt x="101" y="1211"/>
                      </a:lnTo>
                      <a:lnTo>
                        <a:pt x="101" y="1210"/>
                      </a:lnTo>
                      <a:lnTo>
                        <a:pt x="100" y="1208"/>
                      </a:lnTo>
                      <a:lnTo>
                        <a:pt x="98" y="1208"/>
                      </a:lnTo>
                      <a:lnTo>
                        <a:pt x="96" y="1207"/>
                      </a:lnTo>
                      <a:lnTo>
                        <a:pt x="95" y="1208"/>
                      </a:lnTo>
                      <a:lnTo>
                        <a:pt x="93" y="1208"/>
                      </a:lnTo>
                      <a:lnTo>
                        <a:pt x="92" y="1210"/>
                      </a:lnTo>
                      <a:lnTo>
                        <a:pt x="92" y="1211"/>
                      </a:lnTo>
                      <a:lnTo>
                        <a:pt x="58" y="1211"/>
                      </a:lnTo>
                      <a:lnTo>
                        <a:pt x="58" y="1210"/>
                      </a:lnTo>
                      <a:lnTo>
                        <a:pt x="57" y="1208"/>
                      </a:lnTo>
                      <a:lnTo>
                        <a:pt x="55" y="1208"/>
                      </a:lnTo>
                      <a:lnTo>
                        <a:pt x="54" y="1207"/>
                      </a:lnTo>
                      <a:lnTo>
                        <a:pt x="52" y="1208"/>
                      </a:lnTo>
                      <a:lnTo>
                        <a:pt x="50" y="1208"/>
                      </a:lnTo>
                      <a:lnTo>
                        <a:pt x="50" y="1210"/>
                      </a:lnTo>
                      <a:lnTo>
                        <a:pt x="49" y="1211"/>
                      </a:lnTo>
                      <a:lnTo>
                        <a:pt x="45" y="1211"/>
                      </a:lnTo>
                      <a:lnTo>
                        <a:pt x="44" y="1209"/>
                      </a:lnTo>
                      <a:lnTo>
                        <a:pt x="43" y="1208"/>
                      </a:lnTo>
                      <a:lnTo>
                        <a:pt x="42" y="1206"/>
                      </a:lnTo>
                      <a:lnTo>
                        <a:pt x="40" y="1205"/>
                      </a:lnTo>
                      <a:lnTo>
                        <a:pt x="38" y="1205"/>
                      </a:lnTo>
                      <a:lnTo>
                        <a:pt x="36" y="1205"/>
                      </a:lnTo>
                      <a:lnTo>
                        <a:pt x="34" y="1205"/>
                      </a:lnTo>
                      <a:lnTo>
                        <a:pt x="32" y="1206"/>
                      </a:lnTo>
                      <a:lnTo>
                        <a:pt x="30" y="1208"/>
                      </a:lnTo>
                      <a:lnTo>
                        <a:pt x="29" y="1209"/>
                      </a:lnTo>
                      <a:lnTo>
                        <a:pt x="29" y="1211"/>
                      </a:lnTo>
                      <a:lnTo>
                        <a:pt x="0" y="121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319360" y="3053880"/>
                  <a:ext cx="12600" cy="13320"/>
                </a:xfrm>
                <a:custGeom>
                  <a:avLst/>
                  <a:gdLst/>
                  <a:ahLst/>
                  <a:rect l="l" t="t" r="r" b="b"/>
                  <a:pathLst>
                    <a:path w="12" h="10">
                      <a:moveTo>
                        <a:pt x="0" y="9"/>
                      </a:moveTo>
                      <a:lnTo>
                        <a:pt x="6" y="0"/>
                      </a:lnTo>
                      <a:lnTo>
                        <a:pt x="12" y="9"/>
                      </a:lnTo>
                      <a:lnTo>
                        <a:pt x="9" y="9"/>
                      </a:lnTo>
                      <a:lnTo>
                        <a:pt x="6" y="10"/>
                      </a:lnTo>
                      <a:lnTo>
                        <a:pt x="3"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198" name=""/>
                <p:cNvSpPr/>
                <p:nvPr/>
              </p:nvSpPr>
              <p:spPr>
                <a:xfrm>
                  <a:off x="7722360" y="3558960"/>
                  <a:ext cx="212400" cy="72000"/>
                </a:xfrm>
                <a:prstGeom prst="rect">
                  <a:avLst/>
                </a:prstGeom>
                <a:blipFill rotWithShape="0">
                  <a:blip r:embed="rId106"/>
                  <a:srcRect/>
                  <a:tile tx="0" ty="0" sx="100000" sy="100000" algn="ctr"/>
                </a:blip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199" name=""/>
                <p:cNvSpPr/>
                <p:nvPr/>
              </p:nvSpPr>
              <p:spPr>
                <a:xfrm>
                  <a:off x="7772400" y="3560040"/>
                  <a:ext cx="15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upplier</a:t>
                  </a:r>
                  <a:endParaRPr b="0" lang="en-US" sz="300" spc="-1" strike="noStrike">
                    <a:solidFill>
                      <a:srgbClr val="ffffff"/>
                    </a:solidFill>
                    <a:latin typeface="Arial"/>
                  </a:endParaRPr>
                </a:p>
              </p:txBody>
            </p:sp>
            <p:sp>
              <p:nvSpPr>
                <p:cNvPr id="1200" name=""/>
                <p:cNvSpPr/>
                <p:nvPr/>
              </p:nvSpPr>
              <p:spPr>
                <a:xfrm>
                  <a:off x="7747920" y="359604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mpliance</a:t>
                  </a:r>
                  <a:endParaRPr b="0" lang="en-US" sz="300" spc="-1" strike="noStrike">
                    <a:solidFill>
                      <a:srgbClr val="ffffff"/>
                    </a:solidFill>
                    <a:latin typeface="Arial"/>
                  </a:endParaRPr>
                </a:p>
              </p:txBody>
            </p:sp>
            <p:sp>
              <p:nvSpPr>
                <p:cNvPr id="1201" name=""/>
                <p:cNvSpPr/>
                <p:nvPr/>
              </p:nvSpPr>
              <p:spPr>
                <a:xfrm>
                  <a:off x="7783920" y="3644280"/>
                  <a:ext cx="44280" cy="54720"/>
                </a:xfrm>
                <a:custGeom>
                  <a:avLst/>
                  <a:gdLst/>
                  <a:ahLst/>
                  <a:rect l="l" t="t" r="r" b="b"/>
                  <a:pathLst>
                    <a:path w="42" h="41">
                      <a:moveTo>
                        <a:pt x="42" y="0"/>
                      </a:moveTo>
                      <a:lnTo>
                        <a:pt x="42" y="7"/>
                      </a:lnTo>
                      <a:lnTo>
                        <a:pt x="0" y="7"/>
                      </a:lnTo>
                      <a:lnTo>
                        <a:pt x="0" y="41"/>
                      </a:lnTo>
                    </a:path>
                  </a:pathLst>
                </a:custGeom>
                <a:noFill/>
                <a:ln w="144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202" name=""/>
                <p:cNvSpPr/>
                <p:nvPr/>
              </p:nvSpPr>
              <p:spPr>
                <a:xfrm>
                  <a:off x="7822080" y="3630960"/>
                  <a:ext cx="12600" cy="14400"/>
                </a:xfrm>
                <a:custGeom>
                  <a:avLst/>
                  <a:gdLst/>
                  <a:ahLst/>
                  <a:rect l="l" t="t" r="r" b="b"/>
                  <a:pathLst>
                    <a:path w="12" h="11">
                      <a:moveTo>
                        <a:pt x="0" y="10"/>
                      </a:moveTo>
                      <a:lnTo>
                        <a:pt x="6" y="0"/>
                      </a:lnTo>
                      <a:lnTo>
                        <a:pt x="12" y="10"/>
                      </a:lnTo>
                      <a:lnTo>
                        <a:pt x="9" y="10"/>
                      </a:lnTo>
                      <a:lnTo>
                        <a:pt x="6" y="11"/>
                      </a:lnTo>
                      <a:lnTo>
                        <a:pt x="4"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03" name=""/>
                <p:cNvSpPr/>
                <p:nvPr/>
              </p:nvSpPr>
              <p:spPr>
                <a:xfrm>
                  <a:off x="7520040" y="3602880"/>
                  <a:ext cx="536760" cy="645120"/>
                </a:xfrm>
                <a:custGeom>
                  <a:avLst/>
                  <a:gdLst/>
                  <a:ahLst/>
                  <a:rect l="l" t="t" r="r" b="b"/>
                  <a:pathLst>
                    <a:path w="507" h="483">
                      <a:moveTo>
                        <a:pt x="0" y="483"/>
                      </a:moveTo>
                      <a:lnTo>
                        <a:pt x="18" y="483"/>
                      </a:lnTo>
                      <a:lnTo>
                        <a:pt x="19" y="482"/>
                      </a:lnTo>
                      <a:lnTo>
                        <a:pt x="20" y="480"/>
                      </a:lnTo>
                      <a:lnTo>
                        <a:pt x="21" y="480"/>
                      </a:lnTo>
                      <a:lnTo>
                        <a:pt x="23" y="479"/>
                      </a:lnTo>
                      <a:lnTo>
                        <a:pt x="25" y="480"/>
                      </a:lnTo>
                      <a:lnTo>
                        <a:pt x="26" y="480"/>
                      </a:lnTo>
                      <a:lnTo>
                        <a:pt x="27" y="482"/>
                      </a:lnTo>
                      <a:lnTo>
                        <a:pt x="27" y="483"/>
                      </a:lnTo>
                      <a:lnTo>
                        <a:pt x="90" y="483"/>
                      </a:lnTo>
                      <a:lnTo>
                        <a:pt x="91" y="482"/>
                      </a:lnTo>
                      <a:lnTo>
                        <a:pt x="92" y="480"/>
                      </a:lnTo>
                      <a:lnTo>
                        <a:pt x="93" y="480"/>
                      </a:lnTo>
                      <a:lnTo>
                        <a:pt x="95" y="479"/>
                      </a:lnTo>
                      <a:lnTo>
                        <a:pt x="97" y="480"/>
                      </a:lnTo>
                      <a:lnTo>
                        <a:pt x="98" y="480"/>
                      </a:lnTo>
                      <a:lnTo>
                        <a:pt x="99" y="482"/>
                      </a:lnTo>
                      <a:lnTo>
                        <a:pt x="99" y="483"/>
                      </a:lnTo>
                      <a:lnTo>
                        <a:pt x="104" y="483"/>
                      </a:lnTo>
                      <a:lnTo>
                        <a:pt x="104" y="482"/>
                      </a:lnTo>
                      <a:lnTo>
                        <a:pt x="105" y="480"/>
                      </a:lnTo>
                      <a:lnTo>
                        <a:pt x="106" y="480"/>
                      </a:lnTo>
                      <a:lnTo>
                        <a:pt x="108" y="479"/>
                      </a:lnTo>
                      <a:lnTo>
                        <a:pt x="110" y="480"/>
                      </a:lnTo>
                      <a:lnTo>
                        <a:pt x="111" y="480"/>
                      </a:lnTo>
                      <a:lnTo>
                        <a:pt x="112" y="482"/>
                      </a:lnTo>
                      <a:lnTo>
                        <a:pt x="113" y="483"/>
                      </a:lnTo>
                      <a:lnTo>
                        <a:pt x="281" y="483"/>
                      </a:lnTo>
                      <a:lnTo>
                        <a:pt x="282" y="482"/>
                      </a:lnTo>
                      <a:lnTo>
                        <a:pt x="282" y="480"/>
                      </a:lnTo>
                      <a:lnTo>
                        <a:pt x="284" y="480"/>
                      </a:lnTo>
                      <a:lnTo>
                        <a:pt x="286" y="479"/>
                      </a:lnTo>
                      <a:lnTo>
                        <a:pt x="287" y="480"/>
                      </a:lnTo>
                      <a:lnTo>
                        <a:pt x="289" y="480"/>
                      </a:lnTo>
                      <a:lnTo>
                        <a:pt x="290" y="482"/>
                      </a:lnTo>
                      <a:lnTo>
                        <a:pt x="290" y="483"/>
                      </a:lnTo>
                      <a:lnTo>
                        <a:pt x="467" y="483"/>
                      </a:lnTo>
                      <a:lnTo>
                        <a:pt x="467" y="482"/>
                      </a:lnTo>
                      <a:lnTo>
                        <a:pt x="468" y="480"/>
                      </a:lnTo>
                      <a:lnTo>
                        <a:pt x="470" y="480"/>
                      </a:lnTo>
                      <a:lnTo>
                        <a:pt x="471" y="479"/>
                      </a:lnTo>
                      <a:lnTo>
                        <a:pt x="473" y="480"/>
                      </a:lnTo>
                      <a:lnTo>
                        <a:pt x="475" y="480"/>
                      </a:lnTo>
                      <a:lnTo>
                        <a:pt x="475" y="482"/>
                      </a:lnTo>
                      <a:lnTo>
                        <a:pt x="476" y="483"/>
                      </a:lnTo>
                      <a:lnTo>
                        <a:pt x="507" y="483"/>
                      </a:lnTo>
                      <a:lnTo>
                        <a:pt x="507" y="3"/>
                      </a:lnTo>
                      <a:lnTo>
                        <a:pt x="484" y="3"/>
                      </a:lnTo>
                      <a:lnTo>
                        <a:pt x="484" y="2"/>
                      </a:lnTo>
                      <a:lnTo>
                        <a:pt x="483" y="1"/>
                      </a:lnTo>
                      <a:lnTo>
                        <a:pt x="481" y="0"/>
                      </a:lnTo>
                      <a:lnTo>
                        <a:pt x="480" y="0"/>
                      </a:lnTo>
                      <a:lnTo>
                        <a:pt x="478" y="0"/>
                      </a:lnTo>
                      <a:lnTo>
                        <a:pt x="477" y="1"/>
                      </a:lnTo>
                      <a:lnTo>
                        <a:pt x="476" y="2"/>
                      </a:lnTo>
                      <a:lnTo>
                        <a:pt x="475" y="3"/>
                      </a:lnTo>
                      <a:lnTo>
                        <a:pt x="471" y="3"/>
                      </a:lnTo>
                      <a:lnTo>
                        <a:pt x="470" y="2"/>
                      </a:lnTo>
                      <a:lnTo>
                        <a:pt x="469" y="1"/>
                      </a:lnTo>
                      <a:lnTo>
                        <a:pt x="468" y="0"/>
                      </a:lnTo>
                      <a:lnTo>
                        <a:pt x="466" y="0"/>
                      </a:lnTo>
                      <a:lnTo>
                        <a:pt x="465" y="0"/>
                      </a:lnTo>
                      <a:lnTo>
                        <a:pt x="463" y="1"/>
                      </a:lnTo>
                      <a:lnTo>
                        <a:pt x="462" y="2"/>
                      </a:lnTo>
                      <a:lnTo>
                        <a:pt x="462" y="3"/>
                      </a:lnTo>
                      <a:lnTo>
                        <a:pt x="452" y="3"/>
                      </a:lnTo>
                      <a:lnTo>
                        <a:pt x="452" y="2"/>
                      </a:lnTo>
                      <a:lnTo>
                        <a:pt x="451" y="1"/>
                      </a:lnTo>
                      <a:lnTo>
                        <a:pt x="449" y="0"/>
                      </a:lnTo>
                      <a:lnTo>
                        <a:pt x="448" y="0"/>
                      </a:lnTo>
                      <a:lnTo>
                        <a:pt x="446" y="0"/>
                      </a:lnTo>
                      <a:lnTo>
                        <a:pt x="445" y="1"/>
                      </a:lnTo>
                      <a:lnTo>
                        <a:pt x="444" y="2"/>
                      </a:lnTo>
                      <a:lnTo>
                        <a:pt x="443" y="3"/>
                      </a:lnTo>
                      <a:lnTo>
                        <a:pt x="430" y="3"/>
                      </a:lnTo>
                      <a:lnTo>
                        <a:pt x="430" y="2"/>
                      </a:lnTo>
                      <a:lnTo>
                        <a:pt x="429" y="1"/>
                      </a:lnTo>
                      <a:lnTo>
                        <a:pt x="427" y="0"/>
                      </a:lnTo>
                      <a:lnTo>
                        <a:pt x="426" y="0"/>
                      </a:lnTo>
                      <a:lnTo>
                        <a:pt x="424" y="0"/>
                      </a:lnTo>
                      <a:lnTo>
                        <a:pt x="423" y="1"/>
                      </a:lnTo>
                      <a:lnTo>
                        <a:pt x="422" y="2"/>
                      </a:lnTo>
                      <a:lnTo>
                        <a:pt x="421" y="3"/>
                      </a:lnTo>
                      <a:lnTo>
                        <a:pt x="404" y="3"/>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7935120" y="36014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05" name=""/>
                <p:cNvSpPr/>
                <p:nvPr/>
              </p:nvSpPr>
              <p:spPr>
                <a:xfrm>
                  <a:off x="6767640" y="2969640"/>
                  <a:ext cx="945360" cy="622080"/>
                </a:xfrm>
                <a:custGeom>
                  <a:avLst/>
                  <a:gdLst/>
                  <a:ahLst/>
                  <a:rect l="l" t="t" r="r" b="b"/>
                  <a:pathLst>
                    <a:path w="893" h="466">
                      <a:moveTo>
                        <a:pt x="0" y="0"/>
                      </a:moveTo>
                      <a:lnTo>
                        <a:pt x="0" y="63"/>
                      </a:lnTo>
                      <a:lnTo>
                        <a:pt x="27" y="63"/>
                      </a:lnTo>
                      <a:lnTo>
                        <a:pt x="27" y="61"/>
                      </a:lnTo>
                      <a:lnTo>
                        <a:pt x="28" y="60"/>
                      </a:lnTo>
                      <a:lnTo>
                        <a:pt x="30" y="59"/>
                      </a:lnTo>
                      <a:lnTo>
                        <a:pt x="31" y="59"/>
                      </a:lnTo>
                      <a:lnTo>
                        <a:pt x="33" y="59"/>
                      </a:lnTo>
                      <a:lnTo>
                        <a:pt x="34" y="60"/>
                      </a:lnTo>
                      <a:lnTo>
                        <a:pt x="35" y="61"/>
                      </a:lnTo>
                      <a:lnTo>
                        <a:pt x="36" y="63"/>
                      </a:lnTo>
                      <a:lnTo>
                        <a:pt x="54" y="63"/>
                      </a:lnTo>
                      <a:lnTo>
                        <a:pt x="54" y="61"/>
                      </a:lnTo>
                      <a:lnTo>
                        <a:pt x="55" y="60"/>
                      </a:lnTo>
                      <a:lnTo>
                        <a:pt x="56" y="59"/>
                      </a:lnTo>
                      <a:lnTo>
                        <a:pt x="58" y="59"/>
                      </a:lnTo>
                      <a:lnTo>
                        <a:pt x="60" y="59"/>
                      </a:lnTo>
                      <a:lnTo>
                        <a:pt x="61" y="60"/>
                      </a:lnTo>
                      <a:lnTo>
                        <a:pt x="62" y="61"/>
                      </a:lnTo>
                      <a:lnTo>
                        <a:pt x="63" y="63"/>
                      </a:lnTo>
                      <a:lnTo>
                        <a:pt x="126" y="63"/>
                      </a:lnTo>
                      <a:lnTo>
                        <a:pt x="126" y="61"/>
                      </a:lnTo>
                      <a:lnTo>
                        <a:pt x="127" y="60"/>
                      </a:lnTo>
                      <a:lnTo>
                        <a:pt x="129" y="59"/>
                      </a:lnTo>
                      <a:lnTo>
                        <a:pt x="130" y="59"/>
                      </a:lnTo>
                      <a:lnTo>
                        <a:pt x="132" y="59"/>
                      </a:lnTo>
                      <a:lnTo>
                        <a:pt x="134" y="60"/>
                      </a:lnTo>
                      <a:lnTo>
                        <a:pt x="134" y="61"/>
                      </a:lnTo>
                      <a:lnTo>
                        <a:pt x="135" y="63"/>
                      </a:lnTo>
                      <a:lnTo>
                        <a:pt x="187" y="63"/>
                      </a:lnTo>
                      <a:lnTo>
                        <a:pt x="187" y="61"/>
                      </a:lnTo>
                      <a:lnTo>
                        <a:pt x="188" y="60"/>
                      </a:lnTo>
                      <a:lnTo>
                        <a:pt x="190" y="59"/>
                      </a:lnTo>
                      <a:lnTo>
                        <a:pt x="191" y="59"/>
                      </a:lnTo>
                      <a:lnTo>
                        <a:pt x="193" y="59"/>
                      </a:lnTo>
                      <a:lnTo>
                        <a:pt x="195" y="60"/>
                      </a:lnTo>
                      <a:lnTo>
                        <a:pt x="195" y="61"/>
                      </a:lnTo>
                      <a:lnTo>
                        <a:pt x="196" y="63"/>
                      </a:lnTo>
                      <a:lnTo>
                        <a:pt x="215" y="63"/>
                      </a:lnTo>
                      <a:lnTo>
                        <a:pt x="215" y="61"/>
                      </a:lnTo>
                      <a:lnTo>
                        <a:pt x="216" y="60"/>
                      </a:lnTo>
                      <a:lnTo>
                        <a:pt x="218" y="59"/>
                      </a:lnTo>
                      <a:lnTo>
                        <a:pt x="220" y="59"/>
                      </a:lnTo>
                      <a:lnTo>
                        <a:pt x="221" y="59"/>
                      </a:lnTo>
                      <a:lnTo>
                        <a:pt x="223" y="60"/>
                      </a:lnTo>
                      <a:lnTo>
                        <a:pt x="224" y="61"/>
                      </a:lnTo>
                      <a:lnTo>
                        <a:pt x="224" y="63"/>
                      </a:lnTo>
                      <a:lnTo>
                        <a:pt x="250" y="63"/>
                      </a:lnTo>
                      <a:lnTo>
                        <a:pt x="250" y="61"/>
                      </a:lnTo>
                      <a:lnTo>
                        <a:pt x="251" y="60"/>
                      </a:lnTo>
                      <a:lnTo>
                        <a:pt x="252" y="59"/>
                      </a:lnTo>
                      <a:lnTo>
                        <a:pt x="254" y="59"/>
                      </a:lnTo>
                      <a:lnTo>
                        <a:pt x="256" y="59"/>
                      </a:lnTo>
                      <a:lnTo>
                        <a:pt x="257" y="60"/>
                      </a:lnTo>
                      <a:lnTo>
                        <a:pt x="258" y="61"/>
                      </a:lnTo>
                      <a:lnTo>
                        <a:pt x="259" y="63"/>
                      </a:lnTo>
                      <a:lnTo>
                        <a:pt x="268" y="63"/>
                      </a:lnTo>
                      <a:lnTo>
                        <a:pt x="268" y="61"/>
                      </a:lnTo>
                      <a:lnTo>
                        <a:pt x="269" y="60"/>
                      </a:lnTo>
                      <a:lnTo>
                        <a:pt x="270" y="59"/>
                      </a:lnTo>
                      <a:lnTo>
                        <a:pt x="272" y="59"/>
                      </a:lnTo>
                      <a:lnTo>
                        <a:pt x="274" y="59"/>
                      </a:lnTo>
                      <a:lnTo>
                        <a:pt x="275" y="60"/>
                      </a:lnTo>
                      <a:lnTo>
                        <a:pt x="276" y="61"/>
                      </a:lnTo>
                      <a:lnTo>
                        <a:pt x="277" y="63"/>
                      </a:lnTo>
                      <a:lnTo>
                        <a:pt x="281" y="63"/>
                      </a:lnTo>
                      <a:lnTo>
                        <a:pt x="282" y="61"/>
                      </a:lnTo>
                      <a:lnTo>
                        <a:pt x="282" y="60"/>
                      </a:lnTo>
                      <a:lnTo>
                        <a:pt x="284" y="59"/>
                      </a:lnTo>
                      <a:lnTo>
                        <a:pt x="286" y="59"/>
                      </a:lnTo>
                      <a:lnTo>
                        <a:pt x="287" y="59"/>
                      </a:lnTo>
                      <a:lnTo>
                        <a:pt x="289" y="60"/>
                      </a:lnTo>
                      <a:lnTo>
                        <a:pt x="290" y="61"/>
                      </a:lnTo>
                      <a:lnTo>
                        <a:pt x="290" y="63"/>
                      </a:lnTo>
                      <a:lnTo>
                        <a:pt x="316" y="63"/>
                      </a:lnTo>
                      <a:lnTo>
                        <a:pt x="317" y="61"/>
                      </a:lnTo>
                      <a:lnTo>
                        <a:pt x="317" y="60"/>
                      </a:lnTo>
                      <a:lnTo>
                        <a:pt x="319" y="59"/>
                      </a:lnTo>
                      <a:lnTo>
                        <a:pt x="321" y="59"/>
                      </a:lnTo>
                      <a:lnTo>
                        <a:pt x="322" y="59"/>
                      </a:lnTo>
                      <a:lnTo>
                        <a:pt x="324" y="60"/>
                      </a:lnTo>
                      <a:lnTo>
                        <a:pt x="325" y="61"/>
                      </a:lnTo>
                      <a:lnTo>
                        <a:pt x="325" y="63"/>
                      </a:lnTo>
                      <a:lnTo>
                        <a:pt x="327" y="63"/>
                      </a:lnTo>
                      <a:lnTo>
                        <a:pt x="327" y="61"/>
                      </a:lnTo>
                      <a:lnTo>
                        <a:pt x="328" y="59"/>
                      </a:lnTo>
                      <a:lnTo>
                        <a:pt x="329" y="58"/>
                      </a:lnTo>
                      <a:lnTo>
                        <a:pt x="331" y="57"/>
                      </a:lnTo>
                      <a:lnTo>
                        <a:pt x="333" y="57"/>
                      </a:lnTo>
                      <a:lnTo>
                        <a:pt x="336" y="57"/>
                      </a:lnTo>
                      <a:lnTo>
                        <a:pt x="338" y="57"/>
                      </a:lnTo>
                      <a:lnTo>
                        <a:pt x="340" y="58"/>
                      </a:lnTo>
                      <a:lnTo>
                        <a:pt x="341" y="59"/>
                      </a:lnTo>
                      <a:lnTo>
                        <a:pt x="342" y="61"/>
                      </a:lnTo>
                      <a:lnTo>
                        <a:pt x="342" y="63"/>
                      </a:lnTo>
                      <a:lnTo>
                        <a:pt x="368" y="63"/>
                      </a:lnTo>
                      <a:lnTo>
                        <a:pt x="368" y="61"/>
                      </a:lnTo>
                      <a:lnTo>
                        <a:pt x="369" y="60"/>
                      </a:lnTo>
                      <a:lnTo>
                        <a:pt x="371" y="59"/>
                      </a:lnTo>
                      <a:lnTo>
                        <a:pt x="373" y="59"/>
                      </a:lnTo>
                      <a:lnTo>
                        <a:pt x="374" y="59"/>
                      </a:lnTo>
                      <a:lnTo>
                        <a:pt x="376" y="60"/>
                      </a:lnTo>
                      <a:lnTo>
                        <a:pt x="377" y="61"/>
                      </a:lnTo>
                      <a:lnTo>
                        <a:pt x="377" y="63"/>
                      </a:lnTo>
                      <a:lnTo>
                        <a:pt x="386" y="63"/>
                      </a:lnTo>
                      <a:lnTo>
                        <a:pt x="386" y="61"/>
                      </a:lnTo>
                      <a:lnTo>
                        <a:pt x="387" y="59"/>
                      </a:lnTo>
                      <a:lnTo>
                        <a:pt x="389" y="58"/>
                      </a:lnTo>
                      <a:lnTo>
                        <a:pt x="391" y="57"/>
                      </a:lnTo>
                      <a:lnTo>
                        <a:pt x="393" y="56"/>
                      </a:lnTo>
                      <a:lnTo>
                        <a:pt x="396" y="56"/>
                      </a:lnTo>
                      <a:lnTo>
                        <a:pt x="398" y="57"/>
                      </a:lnTo>
                      <a:lnTo>
                        <a:pt x="400" y="58"/>
                      </a:lnTo>
                      <a:lnTo>
                        <a:pt x="401" y="59"/>
                      </a:lnTo>
                      <a:lnTo>
                        <a:pt x="402" y="61"/>
                      </a:lnTo>
                      <a:lnTo>
                        <a:pt x="403" y="63"/>
                      </a:lnTo>
                      <a:lnTo>
                        <a:pt x="406" y="63"/>
                      </a:lnTo>
                      <a:lnTo>
                        <a:pt x="407" y="61"/>
                      </a:lnTo>
                      <a:lnTo>
                        <a:pt x="407" y="60"/>
                      </a:lnTo>
                      <a:lnTo>
                        <a:pt x="409" y="59"/>
                      </a:lnTo>
                      <a:lnTo>
                        <a:pt x="411" y="59"/>
                      </a:lnTo>
                      <a:lnTo>
                        <a:pt x="412" y="59"/>
                      </a:lnTo>
                      <a:lnTo>
                        <a:pt x="414" y="60"/>
                      </a:lnTo>
                      <a:lnTo>
                        <a:pt x="415" y="61"/>
                      </a:lnTo>
                      <a:lnTo>
                        <a:pt x="415" y="63"/>
                      </a:lnTo>
                      <a:lnTo>
                        <a:pt x="436" y="63"/>
                      </a:lnTo>
                      <a:lnTo>
                        <a:pt x="437" y="61"/>
                      </a:lnTo>
                      <a:lnTo>
                        <a:pt x="438" y="60"/>
                      </a:lnTo>
                      <a:lnTo>
                        <a:pt x="439" y="59"/>
                      </a:lnTo>
                      <a:lnTo>
                        <a:pt x="441" y="59"/>
                      </a:lnTo>
                      <a:lnTo>
                        <a:pt x="443" y="59"/>
                      </a:lnTo>
                      <a:lnTo>
                        <a:pt x="444" y="60"/>
                      </a:lnTo>
                      <a:lnTo>
                        <a:pt x="445" y="61"/>
                      </a:lnTo>
                      <a:lnTo>
                        <a:pt x="445" y="63"/>
                      </a:lnTo>
                      <a:lnTo>
                        <a:pt x="450" y="63"/>
                      </a:lnTo>
                      <a:lnTo>
                        <a:pt x="450" y="61"/>
                      </a:lnTo>
                      <a:lnTo>
                        <a:pt x="451" y="60"/>
                      </a:lnTo>
                      <a:lnTo>
                        <a:pt x="453" y="59"/>
                      </a:lnTo>
                      <a:lnTo>
                        <a:pt x="454" y="59"/>
                      </a:lnTo>
                      <a:lnTo>
                        <a:pt x="456" y="59"/>
                      </a:lnTo>
                      <a:lnTo>
                        <a:pt x="458" y="60"/>
                      </a:lnTo>
                      <a:lnTo>
                        <a:pt x="459" y="61"/>
                      </a:lnTo>
                      <a:lnTo>
                        <a:pt x="459" y="63"/>
                      </a:lnTo>
                      <a:lnTo>
                        <a:pt x="463" y="63"/>
                      </a:lnTo>
                      <a:lnTo>
                        <a:pt x="464" y="61"/>
                      </a:lnTo>
                      <a:lnTo>
                        <a:pt x="465" y="60"/>
                      </a:lnTo>
                      <a:lnTo>
                        <a:pt x="466" y="59"/>
                      </a:lnTo>
                      <a:lnTo>
                        <a:pt x="468" y="59"/>
                      </a:lnTo>
                      <a:lnTo>
                        <a:pt x="470" y="59"/>
                      </a:lnTo>
                      <a:lnTo>
                        <a:pt x="471" y="60"/>
                      </a:lnTo>
                      <a:lnTo>
                        <a:pt x="472" y="61"/>
                      </a:lnTo>
                      <a:lnTo>
                        <a:pt x="473" y="63"/>
                      </a:lnTo>
                      <a:lnTo>
                        <a:pt x="578" y="63"/>
                      </a:lnTo>
                      <a:lnTo>
                        <a:pt x="578" y="61"/>
                      </a:lnTo>
                      <a:lnTo>
                        <a:pt x="579" y="60"/>
                      </a:lnTo>
                      <a:lnTo>
                        <a:pt x="580" y="59"/>
                      </a:lnTo>
                      <a:lnTo>
                        <a:pt x="582" y="59"/>
                      </a:lnTo>
                      <a:lnTo>
                        <a:pt x="584" y="59"/>
                      </a:lnTo>
                      <a:lnTo>
                        <a:pt x="585" y="60"/>
                      </a:lnTo>
                      <a:lnTo>
                        <a:pt x="586" y="61"/>
                      </a:lnTo>
                      <a:lnTo>
                        <a:pt x="587" y="63"/>
                      </a:lnTo>
                      <a:lnTo>
                        <a:pt x="708" y="63"/>
                      </a:lnTo>
                      <a:lnTo>
                        <a:pt x="709" y="61"/>
                      </a:lnTo>
                      <a:lnTo>
                        <a:pt x="710" y="60"/>
                      </a:lnTo>
                      <a:lnTo>
                        <a:pt x="711" y="59"/>
                      </a:lnTo>
                      <a:lnTo>
                        <a:pt x="713" y="59"/>
                      </a:lnTo>
                      <a:lnTo>
                        <a:pt x="715" y="59"/>
                      </a:lnTo>
                      <a:lnTo>
                        <a:pt x="716" y="60"/>
                      </a:lnTo>
                      <a:lnTo>
                        <a:pt x="717" y="61"/>
                      </a:lnTo>
                      <a:lnTo>
                        <a:pt x="717" y="63"/>
                      </a:lnTo>
                      <a:lnTo>
                        <a:pt x="734" y="63"/>
                      </a:lnTo>
                      <a:lnTo>
                        <a:pt x="734" y="61"/>
                      </a:lnTo>
                      <a:lnTo>
                        <a:pt x="735" y="60"/>
                      </a:lnTo>
                      <a:lnTo>
                        <a:pt x="737" y="59"/>
                      </a:lnTo>
                      <a:lnTo>
                        <a:pt x="738" y="59"/>
                      </a:lnTo>
                      <a:lnTo>
                        <a:pt x="740" y="59"/>
                      </a:lnTo>
                      <a:lnTo>
                        <a:pt x="742" y="60"/>
                      </a:lnTo>
                      <a:lnTo>
                        <a:pt x="742" y="61"/>
                      </a:lnTo>
                      <a:lnTo>
                        <a:pt x="743" y="63"/>
                      </a:lnTo>
                      <a:lnTo>
                        <a:pt x="747" y="63"/>
                      </a:lnTo>
                      <a:lnTo>
                        <a:pt x="748" y="61"/>
                      </a:lnTo>
                      <a:lnTo>
                        <a:pt x="749" y="60"/>
                      </a:lnTo>
                      <a:lnTo>
                        <a:pt x="750" y="59"/>
                      </a:lnTo>
                      <a:lnTo>
                        <a:pt x="752" y="59"/>
                      </a:lnTo>
                      <a:lnTo>
                        <a:pt x="753" y="59"/>
                      </a:lnTo>
                      <a:lnTo>
                        <a:pt x="755" y="60"/>
                      </a:lnTo>
                      <a:lnTo>
                        <a:pt x="756" y="61"/>
                      </a:lnTo>
                      <a:lnTo>
                        <a:pt x="756" y="63"/>
                      </a:lnTo>
                      <a:lnTo>
                        <a:pt x="761" y="63"/>
                      </a:lnTo>
                      <a:lnTo>
                        <a:pt x="761" y="61"/>
                      </a:lnTo>
                      <a:lnTo>
                        <a:pt x="762" y="60"/>
                      </a:lnTo>
                      <a:lnTo>
                        <a:pt x="764" y="59"/>
                      </a:lnTo>
                      <a:lnTo>
                        <a:pt x="765" y="59"/>
                      </a:lnTo>
                      <a:lnTo>
                        <a:pt x="767" y="59"/>
                      </a:lnTo>
                      <a:lnTo>
                        <a:pt x="768" y="60"/>
                      </a:lnTo>
                      <a:lnTo>
                        <a:pt x="770" y="61"/>
                      </a:lnTo>
                      <a:lnTo>
                        <a:pt x="770" y="63"/>
                      </a:lnTo>
                      <a:lnTo>
                        <a:pt x="825" y="63"/>
                      </a:lnTo>
                      <a:lnTo>
                        <a:pt x="825" y="61"/>
                      </a:lnTo>
                      <a:lnTo>
                        <a:pt x="826" y="60"/>
                      </a:lnTo>
                      <a:lnTo>
                        <a:pt x="828" y="59"/>
                      </a:lnTo>
                      <a:lnTo>
                        <a:pt x="829" y="59"/>
                      </a:lnTo>
                      <a:lnTo>
                        <a:pt x="831" y="59"/>
                      </a:lnTo>
                      <a:lnTo>
                        <a:pt x="833" y="60"/>
                      </a:lnTo>
                      <a:lnTo>
                        <a:pt x="834" y="61"/>
                      </a:lnTo>
                      <a:lnTo>
                        <a:pt x="834" y="63"/>
                      </a:lnTo>
                      <a:lnTo>
                        <a:pt x="868" y="63"/>
                      </a:lnTo>
                      <a:lnTo>
                        <a:pt x="868" y="466"/>
                      </a:lnTo>
                      <a:lnTo>
                        <a:pt x="876" y="466"/>
                      </a:lnTo>
                      <a:lnTo>
                        <a:pt x="876" y="465"/>
                      </a:lnTo>
                      <a:lnTo>
                        <a:pt x="877" y="463"/>
                      </a:lnTo>
                      <a:lnTo>
                        <a:pt x="878" y="463"/>
                      </a:lnTo>
                      <a:lnTo>
                        <a:pt x="880" y="462"/>
                      </a:lnTo>
                      <a:lnTo>
                        <a:pt x="882" y="463"/>
                      </a:lnTo>
                      <a:lnTo>
                        <a:pt x="883" y="463"/>
                      </a:lnTo>
                      <a:lnTo>
                        <a:pt x="884" y="465"/>
                      </a:lnTo>
                      <a:lnTo>
                        <a:pt x="885" y="466"/>
                      </a:lnTo>
                      <a:lnTo>
                        <a:pt x="893" y="46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7710840" y="3585600"/>
                  <a:ext cx="14760" cy="11880"/>
                </a:xfrm>
                <a:custGeom>
                  <a:avLst/>
                  <a:gdLst/>
                  <a:ahLst/>
                  <a:rect l="l" t="t" r="r" b="b"/>
                  <a:pathLst>
                    <a:path w="14" h="9">
                      <a:moveTo>
                        <a:pt x="2" y="0"/>
                      </a:moveTo>
                      <a:lnTo>
                        <a:pt x="14" y="5"/>
                      </a:lnTo>
                      <a:lnTo>
                        <a:pt x="2" y="9"/>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07" name=""/>
                <p:cNvSpPr/>
                <p:nvPr/>
              </p:nvSpPr>
              <p:spPr>
                <a:xfrm>
                  <a:off x="6792840" y="2701440"/>
                  <a:ext cx="155520" cy="201600"/>
                </a:xfrm>
                <a:custGeom>
                  <a:avLst/>
                  <a:gdLst/>
                  <a:ahLst/>
                  <a:rect l="l" t="t" r="r" b="b"/>
                  <a:pathLst>
                    <a:path w="147" h="151">
                      <a:moveTo>
                        <a:pt x="0" y="151"/>
                      </a:moveTo>
                      <a:lnTo>
                        <a:pt x="3" y="151"/>
                      </a:lnTo>
                      <a:lnTo>
                        <a:pt x="3" y="150"/>
                      </a:lnTo>
                      <a:lnTo>
                        <a:pt x="4" y="149"/>
                      </a:lnTo>
                      <a:lnTo>
                        <a:pt x="6" y="148"/>
                      </a:lnTo>
                      <a:lnTo>
                        <a:pt x="7" y="148"/>
                      </a:lnTo>
                      <a:lnTo>
                        <a:pt x="9" y="148"/>
                      </a:lnTo>
                      <a:lnTo>
                        <a:pt x="10" y="149"/>
                      </a:lnTo>
                      <a:lnTo>
                        <a:pt x="11" y="150"/>
                      </a:lnTo>
                      <a:lnTo>
                        <a:pt x="12" y="151"/>
                      </a:lnTo>
                      <a:lnTo>
                        <a:pt x="30" y="151"/>
                      </a:lnTo>
                      <a:lnTo>
                        <a:pt x="30" y="150"/>
                      </a:lnTo>
                      <a:lnTo>
                        <a:pt x="31" y="149"/>
                      </a:lnTo>
                      <a:lnTo>
                        <a:pt x="32" y="148"/>
                      </a:lnTo>
                      <a:lnTo>
                        <a:pt x="34" y="148"/>
                      </a:lnTo>
                      <a:lnTo>
                        <a:pt x="36" y="148"/>
                      </a:lnTo>
                      <a:lnTo>
                        <a:pt x="37" y="149"/>
                      </a:lnTo>
                      <a:lnTo>
                        <a:pt x="38" y="150"/>
                      </a:lnTo>
                      <a:lnTo>
                        <a:pt x="39" y="151"/>
                      </a:lnTo>
                      <a:lnTo>
                        <a:pt x="102" y="151"/>
                      </a:lnTo>
                      <a:lnTo>
                        <a:pt x="102" y="150"/>
                      </a:lnTo>
                      <a:lnTo>
                        <a:pt x="103" y="149"/>
                      </a:lnTo>
                      <a:lnTo>
                        <a:pt x="105" y="148"/>
                      </a:lnTo>
                      <a:lnTo>
                        <a:pt x="106" y="148"/>
                      </a:lnTo>
                      <a:lnTo>
                        <a:pt x="108" y="148"/>
                      </a:lnTo>
                      <a:lnTo>
                        <a:pt x="110" y="149"/>
                      </a:lnTo>
                      <a:lnTo>
                        <a:pt x="110" y="150"/>
                      </a:lnTo>
                      <a:lnTo>
                        <a:pt x="111" y="151"/>
                      </a:lnTo>
                      <a:lnTo>
                        <a:pt x="147" y="151"/>
                      </a:lnTo>
                      <a:lnTo>
                        <a:pt x="1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6780240" y="28976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09" name=""/>
                <p:cNvSpPr/>
                <p:nvPr/>
              </p:nvSpPr>
              <p:spPr>
                <a:xfrm>
                  <a:off x="6942240" y="26892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10" name=""/>
                <p:cNvSpPr/>
                <p:nvPr/>
              </p:nvSpPr>
              <p:spPr>
                <a:xfrm>
                  <a:off x="6076440" y="2845440"/>
                  <a:ext cx="483480" cy="15840"/>
                </a:xfrm>
                <a:custGeom>
                  <a:avLst/>
                  <a:gdLst/>
                  <a:ahLst/>
                  <a:rect l="l" t="t" r="r" b="b"/>
                  <a:pathLst>
                    <a:path w="457" h="12">
                      <a:moveTo>
                        <a:pt x="457" y="12"/>
                      </a:moveTo>
                      <a:lnTo>
                        <a:pt x="449" y="12"/>
                      </a:lnTo>
                      <a:lnTo>
                        <a:pt x="449" y="6"/>
                      </a:lnTo>
                      <a:lnTo>
                        <a:pt x="443" y="6"/>
                      </a:lnTo>
                      <a:lnTo>
                        <a:pt x="443" y="5"/>
                      </a:lnTo>
                      <a:lnTo>
                        <a:pt x="442" y="4"/>
                      </a:lnTo>
                      <a:lnTo>
                        <a:pt x="441" y="3"/>
                      </a:lnTo>
                      <a:lnTo>
                        <a:pt x="439" y="3"/>
                      </a:lnTo>
                      <a:lnTo>
                        <a:pt x="437" y="3"/>
                      </a:lnTo>
                      <a:lnTo>
                        <a:pt x="436" y="4"/>
                      </a:lnTo>
                      <a:lnTo>
                        <a:pt x="435" y="5"/>
                      </a:lnTo>
                      <a:lnTo>
                        <a:pt x="434" y="6"/>
                      </a:lnTo>
                      <a:lnTo>
                        <a:pt x="425" y="6"/>
                      </a:lnTo>
                      <a:lnTo>
                        <a:pt x="424" y="5"/>
                      </a:lnTo>
                      <a:lnTo>
                        <a:pt x="423" y="4"/>
                      </a:lnTo>
                      <a:lnTo>
                        <a:pt x="422" y="3"/>
                      </a:lnTo>
                      <a:lnTo>
                        <a:pt x="420" y="3"/>
                      </a:lnTo>
                      <a:lnTo>
                        <a:pt x="419" y="3"/>
                      </a:lnTo>
                      <a:lnTo>
                        <a:pt x="417" y="4"/>
                      </a:lnTo>
                      <a:lnTo>
                        <a:pt x="416" y="5"/>
                      </a:lnTo>
                      <a:lnTo>
                        <a:pt x="416" y="6"/>
                      </a:lnTo>
                      <a:lnTo>
                        <a:pt x="390" y="6"/>
                      </a:lnTo>
                      <a:lnTo>
                        <a:pt x="390" y="5"/>
                      </a:lnTo>
                      <a:lnTo>
                        <a:pt x="389" y="4"/>
                      </a:lnTo>
                      <a:lnTo>
                        <a:pt x="387" y="3"/>
                      </a:lnTo>
                      <a:lnTo>
                        <a:pt x="386" y="3"/>
                      </a:lnTo>
                      <a:lnTo>
                        <a:pt x="384" y="3"/>
                      </a:lnTo>
                      <a:lnTo>
                        <a:pt x="383" y="4"/>
                      </a:lnTo>
                      <a:lnTo>
                        <a:pt x="381" y="5"/>
                      </a:lnTo>
                      <a:lnTo>
                        <a:pt x="381" y="6"/>
                      </a:lnTo>
                      <a:lnTo>
                        <a:pt x="370" y="6"/>
                      </a:lnTo>
                      <a:lnTo>
                        <a:pt x="370" y="5"/>
                      </a:lnTo>
                      <a:lnTo>
                        <a:pt x="369" y="4"/>
                      </a:lnTo>
                      <a:lnTo>
                        <a:pt x="368" y="3"/>
                      </a:lnTo>
                      <a:lnTo>
                        <a:pt x="366" y="3"/>
                      </a:lnTo>
                      <a:lnTo>
                        <a:pt x="364" y="3"/>
                      </a:lnTo>
                      <a:lnTo>
                        <a:pt x="363" y="4"/>
                      </a:lnTo>
                      <a:lnTo>
                        <a:pt x="362" y="5"/>
                      </a:lnTo>
                      <a:lnTo>
                        <a:pt x="361" y="6"/>
                      </a:lnTo>
                      <a:lnTo>
                        <a:pt x="349" y="6"/>
                      </a:lnTo>
                      <a:lnTo>
                        <a:pt x="348" y="5"/>
                      </a:lnTo>
                      <a:lnTo>
                        <a:pt x="347" y="4"/>
                      </a:lnTo>
                      <a:lnTo>
                        <a:pt x="346" y="3"/>
                      </a:lnTo>
                      <a:lnTo>
                        <a:pt x="344" y="3"/>
                      </a:lnTo>
                      <a:lnTo>
                        <a:pt x="343" y="3"/>
                      </a:lnTo>
                      <a:lnTo>
                        <a:pt x="341" y="4"/>
                      </a:lnTo>
                      <a:lnTo>
                        <a:pt x="340" y="5"/>
                      </a:lnTo>
                      <a:lnTo>
                        <a:pt x="340" y="6"/>
                      </a:lnTo>
                      <a:lnTo>
                        <a:pt x="325" y="6"/>
                      </a:lnTo>
                      <a:lnTo>
                        <a:pt x="325" y="5"/>
                      </a:lnTo>
                      <a:lnTo>
                        <a:pt x="324" y="4"/>
                      </a:lnTo>
                      <a:lnTo>
                        <a:pt x="322" y="3"/>
                      </a:lnTo>
                      <a:lnTo>
                        <a:pt x="321" y="3"/>
                      </a:lnTo>
                      <a:lnTo>
                        <a:pt x="319" y="3"/>
                      </a:lnTo>
                      <a:lnTo>
                        <a:pt x="317" y="4"/>
                      </a:lnTo>
                      <a:lnTo>
                        <a:pt x="317" y="5"/>
                      </a:lnTo>
                      <a:lnTo>
                        <a:pt x="316" y="6"/>
                      </a:lnTo>
                      <a:lnTo>
                        <a:pt x="305" y="6"/>
                      </a:lnTo>
                      <a:lnTo>
                        <a:pt x="305" y="5"/>
                      </a:lnTo>
                      <a:lnTo>
                        <a:pt x="304" y="4"/>
                      </a:lnTo>
                      <a:lnTo>
                        <a:pt x="302" y="3"/>
                      </a:lnTo>
                      <a:lnTo>
                        <a:pt x="300" y="3"/>
                      </a:lnTo>
                      <a:lnTo>
                        <a:pt x="299" y="3"/>
                      </a:lnTo>
                      <a:lnTo>
                        <a:pt x="297" y="4"/>
                      </a:lnTo>
                      <a:lnTo>
                        <a:pt x="296" y="5"/>
                      </a:lnTo>
                      <a:lnTo>
                        <a:pt x="296" y="6"/>
                      </a:lnTo>
                      <a:lnTo>
                        <a:pt x="289" y="6"/>
                      </a:lnTo>
                      <a:lnTo>
                        <a:pt x="289" y="5"/>
                      </a:lnTo>
                      <a:lnTo>
                        <a:pt x="288" y="3"/>
                      </a:lnTo>
                      <a:lnTo>
                        <a:pt x="286" y="2"/>
                      </a:lnTo>
                      <a:lnTo>
                        <a:pt x="285" y="1"/>
                      </a:lnTo>
                      <a:lnTo>
                        <a:pt x="282" y="1"/>
                      </a:lnTo>
                      <a:lnTo>
                        <a:pt x="280" y="1"/>
                      </a:lnTo>
                      <a:lnTo>
                        <a:pt x="278" y="2"/>
                      </a:lnTo>
                      <a:lnTo>
                        <a:pt x="277" y="3"/>
                      </a:lnTo>
                      <a:lnTo>
                        <a:pt x="276" y="5"/>
                      </a:lnTo>
                      <a:lnTo>
                        <a:pt x="276" y="6"/>
                      </a:lnTo>
                      <a:lnTo>
                        <a:pt x="227" y="6"/>
                      </a:lnTo>
                      <a:lnTo>
                        <a:pt x="227" y="5"/>
                      </a:lnTo>
                      <a:lnTo>
                        <a:pt x="226" y="4"/>
                      </a:lnTo>
                      <a:lnTo>
                        <a:pt x="224" y="3"/>
                      </a:lnTo>
                      <a:lnTo>
                        <a:pt x="223" y="3"/>
                      </a:lnTo>
                      <a:lnTo>
                        <a:pt x="221" y="3"/>
                      </a:lnTo>
                      <a:lnTo>
                        <a:pt x="220" y="4"/>
                      </a:lnTo>
                      <a:lnTo>
                        <a:pt x="219" y="5"/>
                      </a:lnTo>
                      <a:lnTo>
                        <a:pt x="218" y="6"/>
                      </a:lnTo>
                      <a:lnTo>
                        <a:pt x="214" y="6"/>
                      </a:lnTo>
                      <a:lnTo>
                        <a:pt x="213" y="5"/>
                      </a:lnTo>
                      <a:lnTo>
                        <a:pt x="212" y="4"/>
                      </a:lnTo>
                      <a:lnTo>
                        <a:pt x="211" y="3"/>
                      </a:lnTo>
                      <a:lnTo>
                        <a:pt x="209" y="3"/>
                      </a:lnTo>
                      <a:lnTo>
                        <a:pt x="207" y="3"/>
                      </a:lnTo>
                      <a:lnTo>
                        <a:pt x="206" y="4"/>
                      </a:lnTo>
                      <a:lnTo>
                        <a:pt x="205" y="5"/>
                      </a:lnTo>
                      <a:lnTo>
                        <a:pt x="205" y="6"/>
                      </a:lnTo>
                      <a:lnTo>
                        <a:pt x="190" y="6"/>
                      </a:lnTo>
                      <a:lnTo>
                        <a:pt x="189" y="4"/>
                      </a:lnTo>
                      <a:lnTo>
                        <a:pt x="188" y="3"/>
                      </a:lnTo>
                      <a:lnTo>
                        <a:pt x="187" y="1"/>
                      </a:lnTo>
                      <a:lnTo>
                        <a:pt x="185" y="1"/>
                      </a:lnTo>
                      <a:lnTo>
                        <a:pt x="183" y="0"/>
                      </a:lnTo>
                      <a:lnTo>
                        <a:pt x="181" y="0"/>
                      </a:lnTo>
                      <a:lnTo>
                        <a:pt x="178" y="1"/>
                      </a:lnTo>
                      <a:lnTo>
                        <a:pt x="177" y="1"/>
                      </a:lnTo>
                      <a:lnTo>
                        <a:pt x="175" y="3"/>
                      </a:lnTo>
                      <a:lnTo>
                        <a:pt x="174" y="4"/>
                      </a:lnTo>
                      <a:lnTo>
                        <a:pt x="174" y="6"/>
                      </a:lnTo>
                      <a:lnTo>
                        <a:pt x="160" y="6"/>
                      </a:lnTo>
                      <a:lnTo>
                        <a:pt x="159" y="5"/>
                      </a:lnTo>
                      <a:lnTo>
                        <a:pt x="158" y="4"/>
                      </a:lnTo>
                      <a:lnTo>
                        <a:pt x="157" y="3"/>
                      </a:lnTo>
                      <a:lnTo>
                        <a:pt x="155" y="3"/>
                      </a:lnTo>
                      <a:lnTo>
                        <a:pt x="153" y="3"/>
                      </a:lnTo>
                      <a:lnTo>
                        <a:pt x="152" y="4"/>
                      </a:lnTo>
                      <a:lnTo>
                        <a:pt x="151" y="5"/>
                      </a:lnTo>
                      <a:lnTo>
                        <a:pt x="151" y="6"/>
                      </a:lnTo>
                      <a:lnTo>
                        <a:pt x="133" y="6"/>
                      </a:lnTo>
                      <a:lnTo>
                        <a:pt x="132" y="4"/>
                      </a:lnTo>
                      <a:lnTo>
                        <a:pt x="131" y="3"/>
                      </a:lnTo>
                      <a:lnTo>
                        <a:pt x="130" y="1"/>
                      </a:lnTo>
                      <a:lnTo>
                        <a:pt x="128" y="1"/>
                      </a:lnTo>
                      <a:lnTo>
                        <a:pt x="126" y="0"/>
                      </a:lnTo>
                      <a:lnTo>
                        <a:pt x="124" y="0"/>
                      </a:lnTo>
                      <a:lnTo>
                        <a:pt x="122" y="1"/>
                      </a:lnTo>
                      <a:lnTo>
                        <a:pt x="120" y="1"/>
                      </a:lnTo>
                      <a:lnTo>
                        <a:pt x="118" y="3"/>
                      </a:lnTo>
                      <a:lnTo>
                        <a:pt x="117" y="4"/>
                      </a:lnTo>
                      <a:lnTo>
                        <a:pt x="117" y="6"/>
                      </a:lnTo>
                      <a:lnTo>
                        <a:pt x="112" y="6"/>
                      </a:lnTo>
                      <a:lnTo>
                        <a:pt x="112" y="4"/>
                      </a:lnTo>
                      <a:lnTo>
                        <a:pt x="111" y="3"/>
                      </a:lnTo>
                      <a:lnTo>
                        <a:pt x="110" y="1"/>
                      </a:lnTo>
                      <a:lnTo>
                        <a:pt x="108" y="1"/>
                      </a:lnTo>
                      <a:lnTo>
                        <a:pt x="106" y="0"/>
                      </a:lnTo>
                      <a:lnTo>
                        <a:pt x="103" y="0"/>
                      </a:lnTo>
                      <a:lnTo>
                        <a:pt x="101" y="1"/>
                      </a:lnTo>
                      <a:lnTo>
                        <a:pt x="99" y="1"/>
                      </a:lnTo>
                      <a:lnTo>
                        <a:pt x="98" y="3"/>
                      </a:lnTo>
                      <a:lnTo>
                        <a:pt x="97" y="4"/>
                      </a:lnTo>
                      <a:lnTo>
                        <a:pt x="97" y="6"/>
                      </a:lnTo>
                      <a:lnTo>
                        <a:pt x="82" y="6"/>
                      </a:lnTo>
                      <a:lnTo>
                        <a:pt x="82" y="5"/>
                      </a:lnTo>
                      <a:lnTo>
                        <a:pt x="81" y="4"/>
                      </a:lnTo>
                      <a:lnTo>
                        <a:pt x="79" y="3"/>
                      </a:lnTo>
                      <a:lnTo>
                        <a:pt x="78" y="3"/>
                      </a:lnTo>
                      <a:lnTo>
                        <a:pt x="76" y="3"/>
                      </a:lnTo>
                      <a:lnTo>
                        <a:pt x="74" y="4"/>
                      </a:lnTo>
                      <a:lnTo>
                        <a:pt x="73" y="5"/>
                      </a:lnTo>
                      <a:lnTo>
                        <a:pt x="73" y="6"/>
                      </a:lnTo>
                      <a:lnTo>
                        <a:pt x="69" y="6"/>
                      </a:lnTo>
                      <a:lnTo>
                        <a:pt x="68" y="5"/>
                      </a:lnTo>
                      <a:lnTo>
                        <a:pt x="67" y="4"/>
                      </a:lnTo>
                      <a:lnTo>
                        <a:pt x="66" y="3"/>
                      </a:lnTo>
                      <a:lnTo>
                        <a:pt x="64" y="3"/>
                      </a:lnTo>
                      <a:lnTo>
                        <a:pt x="62" y="3"/>
                      </a:lnTo>
                      <a:lnTo>
                        <a:pt x="61" y="4"/>
                      </a:lnTo>
                      <a:lnTo>
                        <a:pt x="60" y="5"/>
                      </a:lnTo>
                      <a:lnTo>
                        <a:pt x="60" y="6"/>
                      </a:lnTo>
                      <a:lnTo>
                        <a:pt x="50" y="6"/>
                      </a:lnTo>
                      <a:lnTo>
                        <a:pt x="49" y="5"/>
                      </a:lnTo>
                      <a:lnTo>
                        <a:pt x="48" y="4"/>
                      </a:lnTo>
                      <a:lnTo>
                        <a:pt x="47" y="3"/>
                      </a:lnTo>
                      <a:lnTo>
                        <a:pt x="45" y="3"/>
                      </a:lnTo>
                      <a:lnTo>
                        <a:pt x="44" y="3"/>
                      </a:lnTo>
                      <a:lnTo>
                        <a:pt x="42" y="4"/>
                      </a:lnTo>
                      <a:lnTo>
                        <a:pt x="41" y="5"/>
                      </a:lnTo>
                      <a:lnTo>
                        <a:pt x="41" y="6"/>
                      </a:lnTo>
                      <a:lnTo>
                        <a:pt x="22" y="6"/>
                      </a:lnTo>
                      <a:lnTo>
                        <a:pt x="22" y="5"/>
                      </a:lnTo>
                      <a:lnTo>
                        <a:pt x="21" y="4"/>
                      </a:lnTo>
                      <a:lnTo>
                        <a:pt x="20" y="3"/>
                      </a:lnTo>
                      <a:lnTo>
                        <a:pt x="18" y="3"/>
                      </a:lnTo>
                      <a:lnTo>
                        <a:pt x="16" y="3"/>
                      </a:lnTo>
                      <a:lnTo>
                        <a:pt x="15" y="4"/>
                      </a:lnTo>
                      <a:lnTo>
                        <a:pt x="14" y="5"/>
                      </a:lnTo>
                      <a:lnTo>
                        <a:pt x="13" y="6"/>
                      </a:lnTo>
                      <a:lnTo>
                        <a:pt x="0" y="6"/>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11" name=""/>
                <p:cNvSpPr/>
                <p:nvPr/>
              </p:nvSpPr>
              <p:spPr>
                <a:xfrm>
                  <a:off x="6558840" y="285624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12" name=""/>
                <p:cNvSpPr/>
                <p:nvPr/>
              </p:nvSpPr>
              <p:spPr>
                <a:xfrm>
                  <a:off x="7162560" y="2275200"/>
                  <a:ext cx="222120" cy="1845720"/>
                </a:xfrm>
                <a:custGeom>
                  <a:avLst/>
                  <a:gdLst/>
                  <a:ahLst/>
                  <a:rect l="l" t="t" r="r" b="b"/>
                  <a:pathLst>
                    <a:path w="210" h="1382">
                      <a:moveTo>
                        <a:pt x="0" y="0"/>
                      </a:moveTo>
                      <a:lnTo>
                        <a:pt x="0" y="1298"/>
                      </a:lnTo>
                      <a:lnTo>
                        <a:pt x="21" y="1298"/>
                      </a:lnTo>
                      <a:lnTo>
                        <a:pt x="21" y="1297"/>
                      </a:lnTo>
                      <a:lnTo>
                        <a:pt x="22" y="1296"/>
                      </a:lnTo>
                      <a:lnTo>
                        <a:pt x="24" y="1295"/>
                      </a:lnTo>
                      <a:lnTo>
                        <a:pt x="25" y="1295"/>
                      </a:lnTo>
                      <a:lnTo>
                        <a:pt x="27" y="1295"/>
                      </a:lnTo>
                      <a:lnTo>
                        <a:pt x="29" y="1296"/>
                      </a:lnTo>
                      <a:lnTo>
                        <a:pt x="29" y="1297"/>
                      </a:lnTo>
                      <a:lnTo>
                        <a:pt x="30" y="1298"/>
                      </a:lnTo>
                      <a:lnTo>
                        <a:pt x="33" y="1298"/>
                      </a:lnTo>
                      <a:lnTo>
                        <a:pt x="34" y="1297"/>
                      </a:lnTo>
                      <a:lnTo>
                        <a:pt x="34" y="1296"/>
                      </a:lnTo>
                      <a:lnTo>
                        <a:pt x="36" y="1295"/>
                      </a:lnTo>
                      <a:lnTo>
                        <a:pt x="38" y="1295"/>
                      </a:lnTo>
                      <a:lnTo>
                        <a:pt x="39" y="1295"/>
                      </a:lnTo>
                      <a:lnTo>
                        <a:pt x="41" y="1296"/>
                      </a:lnTo>
                      <a:lnTo>
                        <a:pt x="42" y="1297"/>
                      </a:lnTo>
                      <a:lnTo>
                        <a:pt x="42" y="1298"/>
                      </a:lnTo>
                      <a:lnTo>
                        <a:pt x="52" y="1298"/>
                      </a:lnTo>
                      <a:lnTo>
                        <a:pt x="52" y="1297"/>
                      </a:lnTo>
                      <a:lnTo>
                        <a:pt x="53" y="1296"/>
                      </a:lnTo>
                      <a:lnTo>
                        <a:pt x="54" y="1295"/>
                      </a:lnTo>
                      <a:lnTo>
                        <a:pt x="56" y="1295"/>
                      </a:lnTo>
                      <a:lnTo>
                        <a:pt x="58" y="1295"/>
                      </a:lnTo>
                      <a:lnTo>
                        <a:pt x="59" y="1296"/>
                      </a:lnTo>
                      <a:lnTo>
                        <a:pt x="60" y="1297"/>
                      </a:lnTo>
                      <a:lnTo>
                        <a:pt x="61" y="1298"/>
                      </a:lnTo>
                      <a:lnTo>
                        <a:pt x="90" y="1298"/>
                      </a:lnTo>
                      <a:lnTo>
                        <a:pt x="91" y="1297"/>
                      </a:lnTo>
                      <a:lnTo>
                        <a:pt x="92" y="1296"/>
                      </a:lnTo>
                      <a:lnTo>
                        <a:pt x="93" y="1295"/>
                      </a:lnTo>
                      <a:lnTo>
                        <a:pt x="95" y="1295"/>
                      </a:lnTo>
                      <a:lnTo>
                        <a:pt x="97" y="1295"/>
                      </a:lnTo>
                      <a:lnTo>
                        <a:pt x="98" y="1296"/>
                      </a:lnTo>
                      <a:lnTo>
                        <a:pt x="99" y="1297"/>
                      </a:lnTo>
                      <a:lnTo>
                        <a:pt x="100" y="1298"/>
                      </a:lnTo>
                      <a:lnTo>
                        <a:pt x="210" y="1298"/>
                      </a:lnTo>
                      <a:lnTo>
                        <a:pt x="210" y="13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7156080" y="2263320"/>
                  <a:ext cx="11520" cy="13320"/>
                </a:xfrm>
                <a:custGeom>
                  <a:avLst/>
                  <a:gdLst/>
                  <a:ahLst/>
                  <a:rect l="l" t="t" r="r" b="b"/>
                  <a:pathLst>
                    <a:path w="11" h="10">
                      <a:moveTo>
                        <a:pt x="0" y="9"/>
                      </a:moveTo>
                      <a:lnTo>
                        <a:pt x="6" y="0"/>
                      </a:lnTo>
                      <a:lnTo>
                        <a:pt x="11" y="9"/>
                      </a:lnTo>
                      <a:lnTo>
                        <a:pt x="8" y="10"/>
                      </a:lnTo>
                      <a:lnTo>
                        <a:pt x="6" y="10"/>
                      </a:lnTo>
                      <a:lnTo>
                        <a:pt x="2"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14" name=""/>
                <p:cNvSpPr/>
                <p:nvPr/>
              </p:nvSpPr>
              <p:spPr>
                <a:xfrm>
                  <a:off x="7378560" y="41198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15" name=""/>
                <p:cNvSpPr/>
                <p:nvPr/>
              </p:nvSpPr>
              <p:spPr>
                <a:xfrm>
                  <a:off x="7533000" y="3803400"/>
                  <a:ext cx="110880" cy="398880"/>
                </a:xfrm>
                <a:custGeom>
                  <a:avLst/>
                  <a:gdLst/>
                  <a:ahLst/>
                  <a:rect l="l" t="t" r="r" b="b"/>
                  <a:pathLst>
                    <a:path w="105" h="299">
                      <a:moveTo>
                        <a:pt x="0" y="299"/>
                      </a:moveTo>
                      <a:lnTo>
                        <a:pt x="6" y="299"/>
                      </a:lnTo>
                      <a:lnTo>
                        <a:pt x="7" y="298"/>
                      </a:lnTo>
                      <a:lnTo>
                        <a:pt x="8" y="297"/>
                      </a:lnTo>
                      <a:lnTo>
                        <a:pt x="9" y="296"/>
                      </a:lnTo>
                      <a:lnTo>
                        <a:pt x="11" y="296"/>
                      </a:lnTo>
                      <a:lnTo>
                        <a:pt x="13" y="296"/>
                      </a:lnTo>
                      <a:lnTo>
                        <a:pt x="14" y="297"/>
                      </a:lnTo>
                      <a:lnTo>
                        <a:pt x="15" y="298"/>
                      </a:lnTo>
                      <a:lnTo>
                        <a:pt x="15" y="299"/>
                      </a:lnTo>
                      <a:lnTo>
                        <a:pt x="42" y="299"/>
                      </a:lnTo>
                      <a:lnTo>
                        <a:pt x="42" y="70"/>
                      </a:lnTo>
                      <a:lnTo>
                        <a:pt x="105" y="70"/>
                      </a:lnTo>
                      <a:lnTo>
                        <a:pt x="10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7520040" y="419580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17" name=""/>
                <p:cNvSpPr/>
                <p:nvPr/>
              </p:nvSpPr>
              <p:spPr>
                <a:xfrm>
                  <a:off x="7637760" y="3791160"/>
                  <a:ext cx="1260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218" name=""/>
                <p:cNvSpPr/>
                <p:nvPr/>
              </p:nvSpPr>
              <p:spPr>
                <a:xfrm>
                  <a:off x="6279480" y="3332880"/>
                  <a:ext cx="1005840" cy="794520"/>
                </a:xfrm>
                <a:custGeom>
                  <a:avLst/>
                  <a:gdLst/>
                  <a:ahLst/>
                  <a:rect l="l" t="t" r="r" b="b"/>
                  <a:pathLst>
                    <a:path w="950" h="595">
                      <a:moveTo>
                        <a:pt x="0" y="0"/>
                      </a:moveTo>
                      <a:lnTo>
                        <a:pt x="0" y="42"/>
                      </a:lnTo>
                      <a:lnTo>
                        <a:pt x="60" y="42"/>
                      </a:lnTo>
                      <a:lnTo>
                        <a:pt x="60" y="41"/>
                      </a:lnTo>
                      <a:lnTo>
                        <a:pt x="61" y="39"/>
                      </a:lnTo>
                      <a:lnTo>
                        <a:pt x="63" y="38"/>
                      </a:lnTo>
                      <a:lnTo>
                        <a:pt x="65" y="37"/>
                      </a:lnTo>
                      <a:lnTo>
                        <a:pt x="67" y="36"/>
                      </a:lnTo>
                      <a:lnTo>
                        <a:pt x="69" y="36"/>
                      </a:lnTo>
                      <a:lnTo>
                        <a:pt x="71" y="37"/>
                      </a:lnTo>
                      <a:lnTo>
                        <a:pt x="73" y="38"/>
                      </a:lnTo>
                      <a:lnTo>
                        <a:pt x="74" y="39"/>
                      </a:lnTo>
                      <a:lnTo>
                        <a:pt x="75" y="41"/>
                      </a:lnTo>
                      <a:lnTo>
                        <a:pt x="76" y="42"/>
                      </a:lnTo>
                      <a:lnTo>
                        <a:pt x="84" y="42"/>
                      </a:lnTo>
                      <a:lnTo>
                        <a:pt x="84" y="41"/>
                      </a:lnTo>
                      <a:lnTo>
                        <a:pt x="85" y="40"/>
                      </a:lnTo>
                      <a:lnTo>
                        <a:pt x="86" y="39"/>
                      </a:lnTo>
                      <a:lnTo>
                        <a:pt x="88" y="39"/>
                      </a:lnTo>
                      <a:lnTo>
                        <a:pt x="90" y="39"/>
                      </a:lnTo>
                      <a:lnTo>
                        <a:pt x="91" y="40"/>
                      </a:lnTo>
                      <a:lnTo>
                        <a:pt x="92" y="41"/>
                      </a:lnTo>
                      <a:lnTo>
                        <a:pt x="93" y="42"/>
                      </a:lnTo>
                      <a:lnTo>
                        <a:pt x="124" y="42"/>
                      </a:lnTo>
                      <a:lnTo>
                        <a:pt x="125" y="41"/>
                      </a:lnTo>
                      <a:lnTo>
                        <a:pt x="125" y="40"/>
                      </a:lnTo>
                      <a:lnTo>
                        <a:pt x="127" y="39"/>
                      </a:lnTo>
                      <a:lnTo>
                        <a:pt x="129" y="39"/>
                      </a:lnTo>
                      <a:lnTo>
                        <a:pt x="130" y="39"/>
                      </a:lnTo>
                      <a:lnTo>
                        <a:pt x="132" y="40"/>
                      </a:lnTo>
                      <a:lnTo>
                        <a:pt x="133" y="41"/>
                      </a:lnTo>
                      <a:lnTo>
                        <a:pt x="133" y="42"/>
                      </a:lnTo>
                      <a:lnTo>
                        <a:pt x="148" y="42"/>
                      </a:lnTo>
                      <a:lnTo>
                        <a:pt x="148" y="41"/>
                      </a:lnTo>
                      <a:lnTo>
                        <a:pt x="149" y="40"/>
                      </a:lnTo>
                      <a:lnTo>
                        <a:pt x="151" y="39"/>
                      </a:lnTo>
                      <a:lnTo>
                        <a:pt x="152" y="39"/>
                      </a:lnTo>
                      <a:lnTo>
                        <a:pt x="154" y="39"/>
                      </a:lnTo>
                      <a:lnTo>
                        <a:pt x="155" y="40"/>
                      </a:lnTo>
                      <a:lnTo>
                        <a:pt x="156" y="41"/>
                      </a:lnTo>
                      <a:lnTo>
                        <a:pt x="157" y="42"/>
                      </a:lnTo>
                      <a:lnTo>
                        <a:pt x="169" y="42"/>
                      </a:lnTo>
                      <a:lnTo>
                        <a:pt x="170" y="41"/>
                      </a:lnTo>
                      <a:lnTo>
                        <a:pt x="171" y="40"/>
                      </a:lnTo>
                      <a:lnTo>
                        <a:pt x="172" y="39"/>
                      </a:lnTo>
                      <a:lnTo>
                        <a:pt x="174" y="39"/>
                      </a:lnTo>
                      <a:lnTo>
                        <a:pt x="176" y="39"/>
                      </a:lnTo>
                      <a:lnTo>
                        <a:pt x="177" y="40"/>
                      </a:lnTo>
                      <a:lnTo>
                        <a:pt x="178" y="41"/>
                      </a:lnTo>
                      <a:lnTo>
                        <a:pt x="178" y="42"/>
                      </a:lnTo>
                      <a:lnTo>
                        <a:pt x="189" y="42"/>
                      </a:lnTo>
                      <a:lnTo>
                        <a:pt x="189" y="41"/>
                      </a:lnTo>
                      <a:lnTo>
                        <a:pt x="191" y="40"/>
                      </a:lnTo>
                      <a:lnTo>
                        <a:pt x="192" y="39"/>
                      </a:lnTo>
                      <a:lnTo>
                        <a:pt x="194" y="39"/>
                      </a:lnTo>
                      <a:lnTo>
                        <a:pt x="195" y="39"/>
                      </a:lnTo>
                      <a:lnTo>
                        <a:pt x="197" y="40"/>
                      </a:lnTo>
                      <a:lnTo>
                        <a:pt x="198" y="41"/>
                      </a:lnTo>
                      <a:lnTo>
                        <a:pt x="198" y="42"/>
                      </a:lnTo>
                      <a:lnTo>
                        <a:pt x="209" y="42"/>
                      </a:lnTo>
                      <a:lnTo>
                        <a:pt x="209" y="41"/>
                      </a:lnTo>
                      <a:lnTo>
                        <a:pt x="210" y="40"/>
                      </a:lnTo>
                      <a:lnTo>
                        <a:pt x="211" y="39"/>
                      </a:lnTo>
                      <a:lnTo>
                        <a:pt x="213" y="39"/>
                      </a:lnTo>
                      <a:lnTo>
                        <a:pt x="215" y="39"/>
                      </a:lnTo>
                      <a:lnTo>
                        <a:pt x="216" y="40"/>
                      </a:lnTo>
                      <a:lnTo>
                        <a:pt x="217" y="41"/>
                      </a:lnTo>
                      <a:lnTo>
                        <a:pt x="218" y="42"/>
                      </a:lnTo>
                      <a:lnTo>
                        <a:pt x="220" y="42"/>
                      </a:lnTo>
                      <a:lnTo>
                        <a:pt x="221" y="41"/>
                      </a:lnTo>
                      <a:lnTo>
                        <a:pt x="222" y="40"/>
                      </a:lnTo>
                      <a:lnTo>
                        <a:pt x="223" y="39"/>
                      </a:lnTo>
                      <a:lnTo>
                        <a:pt x="225" y="39"/>
                      </a:lnTo>
                      <a:lnTo>
                        <a:pt x="227" y="39"/>
                      </a:lnTo>
                      <a:lnTo>
                        <a:pt x="228" y="40"/>
                      </a:lnTo>
                      <a:lnTo>
                        <a:pt x="229" y="41"/>
                      </a:lnTo>
                      <a:lnTo>
                        <a:pt x="229" y="42"/>
                      </a:lnTo>
                      <a:lnTo>
                        <a:pt x="234" y="42"/>
                      </a:lnTo>
                      <a:lnTo>
                        <a:pt x="234" y="41"/>
                      </a:lnTo>
                      <a:lnTo>
                        <a:pt x="235" y="40"/>
                      </a:lnTo>
                      <a:lnTo>
                        <a:pt x="237" y="39"/>
                      </a:lnTo>
                      <a:lnTo>
                        <a:pt x="238" y="39"/>
                      </a:lnTo>
                      <a:lnTo>
                        <a:pt x="240" y="39"/>
                      </a:lnTo>
                      <a:lnTo>
                        <a:pt x="241" y="40"/>
                      </a:lnTo>
                      <a:lnTo>
                        <a:pt x="243" y="41"/>
                      </a:lnTo>
                      <a:lnTo>
                        <a:pt x="243" y="42"/>
                      </a:lnTo>
                      <a:lnTo>
                        <a:pt x="249" y="42"/>
                      </a:lnTo>
                      <a:lnTo>
                        <a:pt x="249" y="41"/>
                      </a:lnTo>
                      <a:lnTo>
                        <a:pt x="250" y="40"/>
                      </a:lnTo>
                      <a:lnTo>
                        <a:pt x="252" y="39"/>
                      </a:lnTo>
                      <a:lnTo>
                        <a:pt x="254" y="39"/>
                      </a:lnTo>
                      <a:lnTo>
                        <a:pt x="255" y="39"/>
                      </a:lnTo>
                      <a:lnTo>
                        <a:pt x="257" y="40"/>
                      </a:lnTo>
                      <a:lnTo>
                        <a:pt x="258" y="41"/>
                      </a:lnTo>
                      <a:lnTo>
                        <a:pt x="258" y="42"/>
                      </a:lnTo>
                      <a:lnTo>
                        <a:pt x="267" y="42"/>
                      </a:lnTo>
                      <a:lnTo>
                        <a:pt x="267" y="41"/>
                      </a:lnTo>
                      <a:lnTo>
                        <a:pt x="269" y="40"/>
                      </a:lnTo>
                      <a:lnTo>
                        <a:pt x="270" y="39"/>
                      </a:lnTo>
                      <a:lnTo>
                        <a:pt x="272" y="39"/>
                      </a:lnTo>
                      <a:lnTo>
                        <a:pt x="273" y="39"/>
                      </a:lnTo>
                      <a:lnTo>
                        <a:pt x="275" y="40"/>
                      </a:lnTo>
                      <a:lnTo>
                        <a:pt x="276" y="41"/>
                      </a:lnTo>
                      <a:lnTo>
                        <a:pt x="276" y="42"/>
                      </a:lnTo>
                      <a:lnTo>
                        <a:pt x="290" y="42"/>
                      </a:lnTo>
                      <a:lnTo>
                        <a:pt x="290" y="41"/>
                      </a:lnTo>
                      <a:lnTo>
                        <a:pt x="291" y="39"/>
                      </a:lnTo>
                      <a:lnTo>
                        <a:pt x="292" y="38"/>
                      </a:lnTo>
                      <a:lnTo>
                        <a:pt x="294" y="38"/>
                      </a:lnTo>
                      <a:lnTo>
                        <a:pt x="296" y="37"/>
                      </a:lnTo>
                      <a:lnTo>
                        <a:pt x="298" y="38"/>
                      </a:lnTo>
                      <a:lnTo>
                        <a:pt x="299" y="38"/>
                      </a:lnTo>
                      <a:lnTo>
                        <a:pt x="301" y="39"/>
                      </a:lnTo>
                      <a:lnTo>
                        <a:pt x="301" y="41"/>
                      </a:lnTo>
                      <a:lnTo>
                        <a:pt x="302" y="42"/>
                      </a:lnTo>
                      <a:lnTo>
                        <a:pt x="303" y="42"/>
                      </a:lnTo>
                      <a:lnTo>
                        <a:pt x="303" y="41"/>
                      </a:lnTo>
                      <a:lnTo>
                        <a:pt x="304" y="40"/>
                      </a:lnTo>
                      <a:lnTo>
                        <a:pt x="306" y="39"/>
                      </a:lnTo>
                      <a:lnTo>
                        <a:pt x="307" y="39"/>
                      </a:lnTo>
                      <a:lnTo>
                        <a:pt x="309" y="39"/>
                      </a:lnTo>
                      <a:lnTo>
                        <a:pt x="310" y="40"/>
                      </a:lnTo>
                      <a:lnTo>
                        <a:pt x="312" y="41"/>
                      </a:lnTo>
                      <a:lnTo>
                        <a:pt x="312" y="42"/>
                      </a:lnTo>
                      <a:lnTo>
                        <a:pt x="320" y="42"/>
                      </a:lnTo>
                      <a:lnTo>
                        <a:pt x="320" y="41"/>
                      </a:lnTo>
                      <a:lnTo>
                        <a:pt x="321" y="40"/>
                      </a:lnTo>
                      <a:lnTo>
                        <a:pt x="323" y="39"/>
                      </a:lnTo>
                      <a:lnTo>
                        <a:pt x="325" y="39"/>
                      </a:lnTo>
                      <a:lnTo>
                        <a:pt x="326" y="39"/>
                      </a:lnTo>
                      <a:lnTo>
                        <a:pt x="328" y="40"/>
                      </a:lnTo>
                      <a:lnTo>
                        <a:pt x="329" y="41"/>
                      </a:lnTo>
                      <a:lnTo>
                        <a:pt x="329" y="42"/>
                      </a:lnTo>
                      <a:lnTo>
                        <a:pt x="330" y="42"/>
                      </a:lnTo>
                      <a:lnTo>
                        <a:pt x="330" y="41"/>
                      </a:lnTo>
                      <a:lnTo>
                        <a:pt x="332" y="40"/>
                      </a:lnTo>
                      <a:lnTo>
                        <a:pt x="333" y="39"/>
                      </a:lnTo>
                      <a:lnTo>
                        <a:pt x="335" y="39"/>
                      </a:lnTo>
                      <a:lnTo>
                        <a:pt x="336" y="39"/>
                      </a:lnTo>
                      <a:lnTo>
                        <a:pt x="338" y="40"/>
                      </a:lnTo>
                      <a:lnTo>
                        <a:pt x="339" y="41"/>
                      </a:lnTo>
                      <a:lnTo>
                        <a:pt x="339" y="42"/>
                      </a:lnTo>
                      <a:lnTo>
                        <a:pt x="364" y="42"/>
                      </a:lnTo>
                      <a:lnTo>
                        <a:pt x="364" y="41"/>
                      </a:lnTo>
                      <a:lnTo>
                        <a:pt x="365" y="40"/>
                      </a:lnTo>
                      <a:lnTo>
                        <a:pt x="367" y="39"/>
                      </a:lnTo>
                      <a:lnTo>
                        <a:pt x="368" y="39"/>
                      </a:lnTo>
                      <a:lnTo>
                        <a:pt x="370" y="39"/>
                      </a:lnTo>
                      <a:lnTo>
                        <a:pt x="372" y="40"/>
                      </a:lnTo>
                      <a:lnTo>
                        <a:pt x="373" y="41"/>
                      </a:lnTo>
                      <a:lnTo>
                        <a:pt x="373" y="42"/>
                      </a:lnTo>
                      <a:lnTo>
                        <a:pt x="420" y="42"/>
                      </a:lnTo>
                      <a:lnTo>
                        <a:pt x="420" y="41"/>
                      </a:lnTo>
                      <a:lnTo>
                        <a:pt x="421" y="40"/>
                      </a:lnTo>
                      <a:lnTo>
                        <a:pt x="423" y="39"/>
                      </a:lnTo>
                      <a:lnTo>
                        <a:pt x="424" y="39"/>
                      </a:lnTo>
                      <a:lnTo>
                        <a:pt x="426" y="39"/>
                      </a:lnTo>
                      <a:lnTo>
                        <a:pt x="427" y="40"/>
                      </a:lnTo>
                      <a:lnTo>
                        <a:pt x="428" y="41"/>
                      </a:lnTo>
                      <a:lnTo>
                        <a:pt x="429" y="42"/>
                      </a:lnTo>
                      <a:lnTo>
                        <a:pt x="525" y="42"/>
                      </a:lnTo>
                      <a:lnTo>
                        <a:pt x="526" y="41"/>
                      </a:lnTo>
                      <a:lnTo>
                        <a:pt x="527" y="40"/>
                      </a:lnTo>
                      <a:lnTo>
                        <a:pt x="528" y="39"/>
                      </a:lnTo>
                      <a:lnTo>
                        <a:pt x="530" y="39"/>
                      </a:lnTo>
                      <a:lnTo>
                        <a:pt x="531" y="39"/>
                      </a:lnTo>
                      <a:lnTo>
                        <a:pt x="533" y="40"/>
                      </a:lnTo>
                      <a:lnTo>
                        <a:pt x="534" y="41"/>
                      </a:lnTo>
                      <a:lnTo>
                        <a:pt x="534" y="42"/>
                      </a:lnTo>
                      <a:lnTo>
                        <a:pt x="589" y="42"/>
                      </a:lnTo>
                      <a:lnTo>
                        <a:pt x="589" y="41"/>
                      </a:lnTo>
                      <a:lnTo>
                        <a:pt x="590" y="40"/>
                      </a:lnTo>
                      <a:lnTo>
                        <a:pt x="591" y="39"/>
                      </a:lnTo>
                      <a:lnTo>
                        <a:pt x="593" y="39"/>
                      </a:lnTo>
                      <a:lnTo>
                        <a:pt x="595" y="39"/>
                      </a:lnTo>
                      <a:lnTo>
                        <a:pt x="596" y="40"/>
                      </a:lnTo>
                      <a:lnTo>
                        <a:pt x="597" y="41"/>
                      </a:lnTo>
                      <a:lnTo>
                        <a:pt x="597" y="42"/>
                      </a:lnTo>
                      <a:lnTo>
                        <a:pt x="625" y="42"/>
                      </a:lnTo>
                      <a:lnTo>
                        <a:pt x="625" y="542"/>
                      </a:lnTo>
                      <a:lnTo>
                        <a:pt x="667" y="542"/>
                      </a:lnTo>
                      <a:lnTo>
                        <a:pt x="667" y="540"/>
                      </a:lnTo>
                      <a:lnTo>
                        <a:pt x="668" y="539"/>
                      </a:lnTo>
                      <a:lnTo>
                        <a:pt x="669" y="538"/>
                      </a:lnTo>
                      <a:lnTo>
                        <a:pt x="671" y="538"/>
                      </a:lnTo>
                      <a:lnTo>
                        <a:pt x="673" y="538"/>
                      </a:lnTo>
                      <a:lnTo>
                        <a:pt x="674" y="539"/>
                      </a:lnTo>
                      <a:lnTo>
                        <a:pt x="675" y="540"/>
                      </a:lnTo>
                      <a:lnTo>
                        <a:pt x="676" y="542"/>
                      </a:lnTo>
                      <a:lnTo>
                        <a:pt x="680" y="542"/>
                      </a:lnTo>
                      <a:lnTo>
                        <a:pt x="680" y="540"/>
                      </a:lnTo>
                      <a:lnTo>
                        <a:pt x="681" y="539"/>
                      </a:lnTo>
                      <a:lnTo>
                        <a:pt x="682" y="538"/>
                      </a:lnTo>
                      <a:lnTo>
                        <a:pt x="684" y="538"/>
                      </a:lnTo>
                      <a:lnTo>
                        <a:pt x="686" y="538"/>
                      </a:lnTo>
                      <a:lnTo>
                        <a:pt x="687" y="539"/>
                      </a:lnTo>
                      <a:lnTo>
                        <a:pt x="688" y="540"/>
                      </a:lnTo>
                      <a:lnTo>
                        <a:pt x="689" y="542"/>
                      </a:lnTo>
                      <a:lnTo>
                        <a:pt x="695" y="542"/>
                      </a:lnTo>
                      <a:lnTo>
                        <a:pt x="695" y="540"/>
                      </a:lnTo>
                      <a:lnTo>
                        <a:pt x="696" y="539"/>
                      </a:lnTo>
                      <a:lnTo>
                        <a:pt x="698" y="538"/>
                      </a:lnTo>
                      <a:lnTo>
                        <a:pt x="699" y="538"/>
                      </a:lnTo>
                      <a:lnTo>
                        <a:pt x="701" y="538"/>
                      </a:lnTo>
                      <a:lnTo>
                        <a:pt x="703" y="539"/>
                      </a:lnTo>
                      <a:lnTo>
                        <a:pt x="703" y="540"/>
                      </a:lnTo>
                      <a:lnTo>
                        <a:pt x="704" y="542"/>
                      </a:lnTo>
                      <a:lnTo>
                        <a:pt x="742" y="542"/>
                      </a:lnTo>
                      <a:lnTo>
                        <a:pt x="743" y="540"/>
                      </a:lnTo>
                      <a:lnTo>
                        <a:pt x="743" y="539"/>
                      </a:lnTo>
                      <a:lnTo>
                        <a:pt x="745" y="538"/>
                      </a:lnTo>
                      <a:lnTo>
                        <a:pt x="747" y="538"/>
                      </a:lnTo>
                      <a:lnTo>
                        <a:pt x="748" y="538"/>
                      </a:lnTo>
                      <a:lnTo>
                        <a:pt x="750" y="539"/>
                      </a:lnTo>
                      <a:lnTo>
                        <a:pt x="751" y="540"/>
                      </a:lnTo>
                      <a:lnTo>
                        <a:pt x="751" y="542"/>
                      </a:lnTo>
                      <a:lnTo>
                        <a:pt x="762" y="542"/>
                      </a:lnTo>
                      <a:lnTo>
                        <a:pt x="763" y="540"/>
                      </a:lnTo>
                      <a:lnTo>
                        <a:pt x="764" y="539"/>
                      </a:lnTo>
                      <a:lnTo>
                        <a:pt x="765" y="538"/>
                      </a:lnTo>
                      <a:lnTo>
                        <a:pt x="767" y="538"/>
                      </a:lnTo>
                      <a:lnTo>
                        <a:pt x="769" y="538"/>
                      </a:lnTo>
                      <a:lnTo>
                        <a:pt x="770" y="539"/>
                      </a:lnTo>
                      <a:lnTo>
                        <a:pt x="771" y="540"/>
                      </a:lnTo>
                      <a:lnTo>
                        <a:pt x="771" y="542"/>
                      </a:lnTo>
                      <a:lnTo>
                        <a:pt x="815" y="542"/>
                      </a:lnTo>
                      <a:lnTo>
                        <a:pt x="815" y="540"/>
                      </a:lnTo>
                      <a:lnTo>
                        <a:pt x="816" y="539"/>
                      </a:lnTo>
                      <a:lnTo>
                        <a:pt x="818" y="538"/>
                      </a:lnTo>
                      <a:lnTo>
                        <a:pt x="819" y="538"/>
                      </a:lnTo>
                      <a:lnTo>
                        <a:pt x="821" y="538"/>
                      </a:lnTo>
                      <a:lnTo>
                        <a:pt x="823" y="539"/>
                      </a:lnTo>
                      <a:lnTo>
                        <a:pt x="823" y="540"/>
                      </a:lnTo>
                      <a:lnTo>
                        <a:pt x="824" y="542"/>
                      </a:lnTo>
                      <a:lnTo>
                        <a:pt x="855" y="542"/>
                      </a:lnTo>
                      <a:lnTo>
                        <a:pt x="855" y="540"/>
                      </a:lnTo>
                      <a:lnTo>
                        <a:pt x="856" y="539"/>
                      </a:lnTo>
                      <a:lnTo>
                        <a:pt x="858" y="538"/>
                      </a:lnTo>
                      <a:lnTo>
                        <a:pt x="859" y="538"/>
                      </a:lnTo>
                      <a:lnTo>
                        <a:pt x="861" y="538"/>
                      </a:lnTo>
                      <a:lnTo>
                        <a:pt x="863" y="539"/>
                      </a:lnTo>
                      <a:lnTo>
                        <a:pt x="863" y="540"/>
                      </a:lnTo>
                      <a:lnTo>
                        <a:pt x="864" y="542"/>
                      </a:lnTo>
                      <a:lnTo>
                        <a:pt x="867" y="542"/>
                      </a:lnTo>
                      <a:lnTo>
                        <a:pt x="868" y="540"/>
                      </a:lnTo>
                      <a:lnTo>
                        <a:pt x="868" y="539"/>
                      </a:lnTo>
                      <a:lnTo>
                        <a:pt x="870" y="538"/>
                      </a:lnTo>
                      <a:lnTo>
                        <a:pt x="872" y="538"/>
                      </a:lnTo>
                      <a:lnTo>
                        <a:pt x="873" y="538"/>
                      </a:lnTo>
                      <a:lnTo>
                        <a:pt x="875" y="539"/>
                      </a:lnTo>
                      <a:lnTo>
                        <a:pt x="876" y="540"/>
                      </a:lnTo>
                      <a:lnTo>
                        <a:pt x="876" y="542"/>
                      </a:lnTo>
                      <a:lnTo>
                        <a:pt x="886" y="542"/>
                      </a:lnTo>
                      <a:lnTo>
                        <a:pt x="886" y="540"/>
                      </a:lnTo>
                      <a:lnTo>
                        <a:pt x="887" y="539"/>
                      </a:lnTo>
                      <a:lnTo>
                        <a:pt x="888" y="538"/>
                      </a:lnTo>
                      <a:lnTo>
                        <a:pt x="890" y="538"/>
                      </a:lnTo>
                      <a:lnTo>
                        <a:pt x="892" y="538"/>
                      </a:lnTo>
                      <a:lnTo>
                        <a:pt x="893" y="539"/>
                      </a:lnTo>
                      <a:lnTo>
                        <a:pt x="894" y="540"/>
                      </a:lnTo>
                      <a:lnTo>
                        <a:pt x="895" y="542"/>
                      </a:lnTo>
                      <a:lnTo>
                        <a:pt x="924" y="542"/>
                      </a:lnTo>
                      <a:lnTo>
                        <a:pt x="925" y="540"/>
                      </a:lnTo>
                      <a:lnTo>
                        <a:pt x="926" y="539"/>
                      </a:lnTo>
                      <a:lnTo>
                        <a:pt x="927" y="538"/>
                      </a:lnTo>
                      <a:lnTo>
                        <a:pt x="929" y="538"/>
                      </a:lnTo>
                      <a:lnTo>
                        <a:pt x="931" y="538"/>
                      </a:lnTo>
                      <a:lnTo>
                        <a:pt x="932" y="539"/>
                      </a:lnTo>
                      <a:lnTo>
                        <a:pt x="933" y="540"/>
                      </a:lnTo>
                      <a:lnTo>
                        <a:pt x="934" y="542"/>
                      </a:lnTo>
                      <a:lnTo>
                        <a:pt x="950" y="542"/>
                      </a:lnTo>
                      <a:lnTo>
                        <a:pt x="950" y="5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6273000" y="33210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20" name=""/>
                <p:cNvSpPr/>
                <p:nvPr/>
              </p:nvSpPr>
              <p:spPr>
                <a:xfrm>
                  <a:off x="6089040" y="2772000"/>
                  <a:ext cx="1173960" cy="1344960"/>
                </a:xfrm>
                <a:custGeom>
                  <a:avLst/>
                  <a:gdLst/>
                  <a:ahLst/>
                  <a:rect l="l" t="t" r="r" b="b"/>
                  <a:pathLst>
                    <a:path w="1109" h="1007">
                      <a:moveTo>
                        <a:pt x="1109" y="1007"/>
                      </a:moveTo>
                      <a:lnTo>
                        <a:pt x="1109" y="905"/>
                      </a:lnTo>
                      <a:lnTo>
                        <a:pt x="1075" y="905"/>
                      </a:lnTo>
                      <a:lnTo>
                        <a:pt x="1074" y="903"/>
                      </a:lnTo>
                      <a:lnTo>
                        <a:pt x="1073" y="902"/>
                      </a:lnTo>
                      <a:lnTo>
                        <a:pt x="1072" y="902"/>
                      </a:lnTo>
                      <a:lnTo>
                        <a:pt x="1070" y="901"/>
                      </a:lnTo>
                      <a:lnTo>
                        <a:pt x="1068" y="902"/>
                      </a:lnTo>
                      <a:lnTo>
                        <a:pt x="1067" y="902"/>
                      </a:lnTo>
                      <a:lnTo>
                        <a:pt x="1066" y="903"/>
                      </a:lnTo>
                      <a:lnTo>
                        <a:pt x="1066" y="905"/>
                      </a:lnTo>
                      <a:lnTo>
                        <a:pt x="1056" y="905"/>
                      </a:lnTo>
                      <a:lnTo>
                        <a:pt x="1056" y="903"/>
                      </a:lnTo>
                      <a:lnTo>
                        <a:pt x="1055" y="902"/>
                      </a:lnTo>
                      <a:lnTo>
                        <a:pt x="1053" y="902"/>
                      </a:lnTo>
                      <a:lnTo>
                        <a:pt x="1052" y="901"/>
                      </a:lnTo>
                      <a:lnTo>
                        <a:pt x="1050" y="902"/>
                      </a:lnTo>
                      <a:lnTo>
                        <a:pt x="1048" y="902"/>
                      </a:lnTo>
                      <a:lnTo>
                        <a:pt x="1048" y="903"/>
                      </a:lnTo>
                      <a:lnTo>
                        <a:pt x="1047" y="905"/>
                      </a:lnTo>
                      <a:lnTo>
                        <a:pt x="1044" y="905"/>
                      </a:lnTo>
                      <a:lnTo>
                        <a:pt x="1043" y="903"/>
                      </a:lnTo>
                      <a:lnTo>
                        <a:pt x="1043" y="902"/>
                      </a:lnTo>
                      <a:lnTo>
                        <a:pt x="1041" y="902"/>
                      </a:lnTo>
                      <a:lnTo>
                        <a:pt x="1039" y="901"/>
                      </a:lnTo>
                      <a:lnTo>
                        <a:pt x="1038" y="902"/>
                      </a:lnTo>
                      <a:lnTo>
                        <a:pt x="1036" y="902"/>
                      </a:lnTo>
                      <a:lnTo>
                        <a:pt x="1035" y="903"/>
                      </a:lnTo>
                      <a:lnTo>
                        <a:pt x="1035" y="905"/>
                      </a:lnTo>
                      <a:lnTo>
                        <a:pt x="1031" y="905"/>
                      </a:lnTo>
                      <a:lnTo>
                        <a:pt x="1031" y="7"/>
                      </a:lnTo>
                      <a:lnTo>
                        <a:pt x="1018" y="7"/>
                      </a:lnTo>
                      <a:lnTo>
                        <a:pt x="1018" y="5"/>
                      </a:lnTo>
                      <a:lnTo>
                        <a:pt x="1017" y="4"/>
                      </a:lnTo>
                      <a:lnTo>
                        <a:pt x="1015" y="4"/>
                      </a:lnTo>
                      <a:lnTo>
                        <a:pt x="1014" y="3"/>
                      </a:lnTo>
                      <a:lnTo>
                        <a:pt x="1012" y="4"/>
                      </a:lnTo>
                      <a:lnTo>
                        <a:pt x="1010" y="4"/>
                      </a:lnTo>
                      <a:lnTo>
                        <a:pt x="1009" y="5"/>
                      </a:lnTo>
                      <a:lnTo>
                        <a:pt x="1009" y="7"/>
                      </a:lnTo>
                      <a:lnTo>
                        <a:pt x="983" y="7"/>
                      </a:lnTo>
                      <a:lnTo>
                        <a:pt x="983" y="5"/>
                      </a:lnTo>
                      <a:lnTo>
                        <a:pt x="982" y="3"/>
                      </a:lnTo>
                      <a:lnTo>
                        <a:pt x="981" y="2"/>
                      </a:lnTo>
                      <a:lnTo>
                        <a:pt x="979" y="1"/>
                      </a:lnTo>
                      <a:lnTo>
                        <a:pt x="977" y="1"/>
                      </a:lnTo>
                      <a:lnTo>
                        <a:pt x="974" y="1"/>
                      </a:lnTo>
                      <a:lnTo>
                        <a:pt x="972" y="1"/>
                      </a:lnTo>
                      <a:lnTo>
                        <a:pt x="970" y="2"/>
                      </a:lnTo>
                      <a:lnTo>
                        <a:pt x="969" y="3"/>
                      </a:lnTo>
                      <a:lnTo>
                        <a:pt x="968" y="5"/>
                      </a:lnTo>
                      <a:lnTo>
                        <a:pt x="968" y="7"/>
                      </a:lnTo>
                      <a:lnTo>
                        <a:pt x="966" y="7"/>
                      </a:lnTo>
                      <a:lnTo>
                        <a:pt x="966" y="5"/>
                      </a:lnTo>
                      <a:lnTo>
                        <a:pt x="965" y="4"/>
                      </a:lnTo>
                      <a:lnTo>
                        <a:pt x="963" y="4"/>
                      </a:lnTo>
                      <a:lnTo>
                        <a:pt x="962" y="3"/>
                      </a:lnTo>
                      <a:lnTo>
                        <a:pt x="960" y="4"/>
                      </a:lnTo>
                      <a:lnTo>
                        <a:pt x="958" y="4"/>
                      </a:lnTo>
                      <a:lnTo>
                        <a:pt x="958" y="5"/>
                      </a:lnTo>
                      <a:lnTo>
                        <a:pt x="957" y="7"/>
                      </a:lnTo>
                      <a:lnTo>
                        <a:pt x="950" y="7"/>
                      </a:lnTo>
                      <a:lnTo>
                        <a:pt x="949" y="5"/>
                      </a:lnTo>
                      <a:lnTo>
                        <a:pt x="948" y="4"/>
                      </a:lnTo>
                      <a:lnTo>
                        <a:pt x="947" y="4"/>
                      </a:lnTo>
                      <a:lnTo>
                        <a:pt x="945" y="3"/>
                      </a:lnTo>
                      <a:lnTo>
                        <a:pt x="943" y="4"/>
                      </a:lnTo>
                      <a:lnTo>
                        <a:pt x="942" y="4"/>
                      </a:lnTo>
                      <a:lnTo>
                        <a:pt x="941" y="5"/>
                      </a:lnTo>
                      <a:lnTo>
                        <a:pt x="941" y="7"/>
                      </a:lnTo>
                      <a:lnTo>
                        <a:pt x="931" y="7"/>
                      </a:lnTo>
                      <a:lnTo>
                        <a:pt x="931" y="5"/>
                      </a:lnTo>
                      <a:lnTo>
                        <a:pt x="930" y="4"/>
                      </a:lnTo>
                      <a:lnTo>
                        <a:pt x="928" y="4"/>
                      </a:lnTo>
                      <a:lnTo>
                        <a:pt x="927" y="3"/>
                      </a:lnTo>
                      <a:lnTo>
                        <a:pt x="925" y="4"/>
                      </a:lnTo>
                      <a:lnTo>
                        <a:pt x="923" y="4"/>
                      </a:lnTo>
                      <a:lnTo>
                        <a:pt x="923" y="5"/>
                      </a:lnTo>
                      <a:lnTo>
                        <a:pt x="922" y="7"/>
                      </a:lnTo>
                      <a:lnTo>
                        <a:pt x="900" y="7"/>
                      </a:lnTo>
                      <a:lnTo>
                        <a:pt x="899" y="5"/>
                      </a:lnTo>
                      <a:lnTo>
                        <a:pt x="898" y="4"/>
                      </a:lnTo>
                      <a:lnTo>
                        <a:pt x="897" y="4"/>
                      </a:lnTo>
                      <a:lnTo>
                        <a:pt x="895" y="3"/>
                      </a:lnTo>
                      <a:lnTo>
                        <a:pt x="893" y="4"/>
                      </a:lnTo>
                      <a:lnTo>
                        <a:pt x="892" y="4"/>
                      </a:lnTo>
                      <a:lnTo>
                        <a:pt x="891" y="5"/>
                      </a:lnTo>
                      <a:lnTo>
                        <a:pt x="891" y="7"/>
                      </a:lnTo>
                      <a:lnTo>
                        <a:pt x="865" y="7"/>
                      </a:lnTo>
                      <a:lnTo>
                        <a:pt x="865" y="5"/>
                      </a:lnTo>
                      <a:lnTo>
                        <a:pt x="864" y="4"/>
                      </a:lnTo>
                      <a:lnTo>
                        <a:pt x="862" y="4"/>
                      </a:lnTo>
                      <a:lnTo>
                        <a:pt x="861" y="3"/>
                      </a:lnTo>
                      <a:lnTo>
                        <a:pt x="859" y="4"/>
                      </a:lnTo>
                      <a:lnTo>
                        <a:pt x="857" y="4"/>
                      </a:lnTo>
                      <a:lnTo>
                        <a:pt x="856" y="5"/>
                      </a:lnTo>
                      <a:lnTo>
                        <a:pt x="856" y="7"/>
                      </a:lnTo>
                      <a:lnTo>
                        <a:pt x="837" y="7"/>
                      </a:lnTo>
                      <a:lnTo>
                        <a:pt x="836" y="5"/>
                      </a:lnTo>
                      <a:lnTo>
                        <a:pt x="836" y="4"/>
                      </a:lnTo>
                      <a:lnTo>
                        <a:pt x="834" y="4"/>
                      </a:lnTo>
                      <a:lnTo>
                        <a:pt x="832" y="3"/>
                      </a:lnTo>
                      <a:lnTo>
                        <a:pt x="831" y="4"/>
                      </a:lnTo>
                      <a:lnTo>
                        <a:pt x="829" y="4"/>
                      </a:lnTo>
                      <a:lnTo>
                        <a:pt x="828" y="5"/>
                      </a:lnTo>
                      <a:lnTo>
                        <a:pt x="828" y="7"/>
                      </a:lnTo>
                      <a:lnTo>
                        <a:pt x="816" y="7"/>
                      </a:lnTo>
                      <a:lnTo>
                        <a:pt x="816" y="5"/>
                      </a:lnTo>
                      <a:lnTo>
                        <a:pt x="815" y="4"/>
                      </a:lnTo>
                      <a:lnTo>
                        <a:pt x="814" y="4"/>
                      </a:lnTo>
                      <a:lnTo>
                        <a:pt x="812" y="3"/>
                      </a:lnTo>
                      <a:lnTo>
                        <a:pt x="810" y="4"/>
                      </a:lnTo>
                      <a:lnTo>
                        <a:pt x="809" y="4"/>
                      </a:lnTo>
                      <a:lnTo>
                        <a:pt x="808" y="5"/>
                      </a:lnTo>
                      <a:lnTo>
                        <a:pt x="807" y="7"/>
                      </a:lnTo>
                      <a:lnTo>
                        <a:pt x="776" y="7"/>
                      </a:lnTo>
                      <a:lnTo>
                        <a:pt x="775" y="5"/>
                      </a:lnTo>
                      <a:lnTo>
                        <a:pt x="775" y="4"/>
                      </a:lnTo>
                      <a:lnTo>
                        <a:pt x="773" y="4"/>
                      </a:lnTo>
                      <a:lnTo>
                        <a:pt x="771" y="3"/>
                      </a:lnTo>
                      <a:lnTo>
                        <a:pt x="770" y="4"/>
                      </a:lnTo>
                      <a:lnTo>
                        <a:pt x="768" y="4"/>
                      </a:lnTo>
                      <a:lnTo>
                        <a:pt x="767" y="5"/>
                      </a:lnTo>
                      <a:lnTo>
                        <a:pt x="767" y="7"/>
                      </a:lnTo>
                      <a:lnTo>
                        <a:pt x="704" y="7"/>
                      </a:lnTo>
                      <a:lnTo>
                        <a:pt x="703" y="5"/>
                      </a:lnTo>
                      <a:lnTo>
                        <a:pt x="702" y="4"/>
                      </a:lnTo>
                      <a:lnTo>
                        <a:pt x="701" y="4"/>
                      </a:lnTo>
                      <a:lnTo>
                        <a:pt x="699" y="3"/>
                      </a:lnTo>
                      <a:lnTo>
                        <a:pt x="697" y="4"/>
                      </a:lnTo>
                      <a:lnTo>
                        <a:pt x="696" y="4"/>
                      </a:lnTo>
                      <a:lnTo>
                        <a:pt x="695" y="5"/>
                      </a:lnTo>
                      <a:lnTo>
                        <a:pt x="695" y="7"/>
                      </a:lnTo>
                      <a:lnTo>
                        <a:pt x="677" y="7"/>
                      </a:lnTo>
                      <a:lnTo>
                        <a:pt x="676" y="5"/>
                      </a:lnTo>
                      <a:lnTo>
                        <a:pt x="675" y="4"/>
                      </a:lnTo>
                      <a:lnTo>
                        <a:pt x="674" y="4"/>
                      </a:lnTo>
                      <a:lnTo>
                        <a:pt x="672" y="3"/>
                      </a:lnTo>
                      <a:lnTo>
                        <a:pt x="671" y="4"/>
                      </a:lnTo>
                      <a:lnTo>
                        <a:pt x="669" y="4"/>
                      </a:lnTo>
                      <a:lnTo>
                        <a:pt x="668" y="5"/>
                      </a:lnTo>
                      <a:lnTo>
                        <a:pt x="668" y="7"/>
                      </a:lnTo>
                      <a:lnTo>
                        <a:pt x="624" y="7"/>
                      </a:lnTo>
                      <a:lnTo>
                        <a:pt x="624" y="5"/>
                      </a:lnTo>
                      <a:lnTo>
                        <a:pt x="622" y="4"/>
                      </a:lnTo>
                      <a:lnTo>
                        <a:pt x="621" y="4"/>
                      </a:lnTo>
                      <a:lnTo>
                        <a:pt x="619" y="3"/>
                      </a:lnTo>
                      <a:lnTo>
                        <a:pt x="618" y="4"/>
                      </a:lnTo>
                      <a:lnTo>
                        <a:pt x="616" y="4"/>
                      </a:lnTo>
                      <a:lnTo>
                        <a:pt x="615" y="5"/>
                      </a:lnTo>
                      <a:lnTo>
                        <a:pt x="615" y="7"/>
                      </a:lnTo>
                      <a:lnTo>
                        <a:pt x="603" y="7"/>
                      </a:lnTo>
                      <a:lnTo>
                        <a:pt x="602" y="5"/>
                      </a:lnTo>
                      <a:lnTo>
                        <a:pt x="601" y="4"/>
                      </a:lnTo>
                      <a:lnTo>
                        <a:pt x="600" y="4"/>
                      </a:lnTo>
                      <a:lnTo>
                        <a:pt x="598" y="3"/>
                      </a:lnTo>
                      <a:lnTo>
                        <a:pt x="596" y="4"/>
                      </a:lnTo>
                      <a:lnTo>
                        <a:pt x="595" y="4"/>
                      </a:lnTo>
                      <a:lnTo>
                        <a:pt x="594" y="5"/>
                      </a:lnTo>
                      <a:lnTo>
                        <a:pt x="593" y="7"/>
                      </a:lnTo>
                      <a:lnTo>
                        <a:pt x="511" y="7"/>
                      </a:lnTo>
                      <a:lnTo>
                        <a:pt x="510" y="5"/>
                      </a:lnTo>
                      <a:lnTo>
                        <a:pt x="510" y="3"/>
                      </a:lnTo>
                      <a:lnTo>
                        <a:pt x="508" y="2"/>
                      </a:lnTo>
                      <a:lnTo>
                        <a:pt x="506" y="1"/>
                      </a:lnTo>
                      <a:lnTo>
                        <a:pt x="504" y="0"/>
                      </a:lnTo>
                      <a:lnTo>
                        <a:pt x="502" y="0"/>
                      </a:lnTo>
                      <a:lnTo>
                        <a:pt x="499" y="0"/>
                      </a:lnTo>
                      <a:lnTo>
                        <a:pt x="497" y="1"/>
                      </a:lnTo>
                      <a:lnTo>
                        <a:pt x="496" y="2"/>
                      </a:lnTo>
                      <a:lnTo>
                        <a:pt x="494" y="3"/>
                      </a:lnTo>
                      <a:lnTo>
                        <a:pt x="493" y="5"/>
                      </a:lnTo>
                      <a:lnTo>
                        <a:pt x="493" y="7"/>
                      </a:lnTo>
                      <a:lnTo>
                        <a:pt x="431" y="7"/>
                      </a:lnTo>
                      <a:lnTo>
                        <a:pt x="431" y="5"/>
                      </a:lnTo>
                      <a:lnTo>
                        <a:pt x="430" y="4"/>
                      </a:lnTo>
                      <a:lnTo>
                        <a:pt x="429" y="4"/>
                      </a:lnTo>
                      <a:lnTo>
                        <a:pt x="427" y="3"/>
                      </a:lnTo>
                      <a:lnTo>
                        <a:pt x="425" y="4"/>
                      </a:lnTo>
                      <a:lnTo>
                        <a:pt x="424" y="4"/>
                      </a:lnTo>
                      <a:lnTo>
                        <a:pt x="423" y="5"/>
                      </a:lnTo>
                      <a:lnTo>
                        <a:pt x="422" y="7"/>
                      </a:lnTo>
                      <a:lnTo>
                        <a:pt x="378" y="7"/>
                      </a:lnTo>
                      <a:lnTo>
                        <a:pt x="378" y="5"/>
                      </a:lnTo>
                      <a:lnTo>
                        <a:pt x="377" y="4"/>
                      </a:lnTo>
                      <a:lnTo>
                        <a:pt x="375" y="4"/>
                      </a:lnTo>
                      <a:lnTo>
                        <a:pt x="374" y="3"/>
                      </a:lnTo>
                      <a:lnTo>
                        <a:pt x="372" y="4"/>
                      </a:lnTo>
                      <a:lnTo>
                        <a:pt x="371" y="4"/>
                      </a:lnTo>
                      <a:lnTo>
                        <a:pt x="370" y="5"/>
                      </a:lnTo>
                      <a:lnTo>
                        <a:pt x="369" y="7"/>
                      </a:lnTo>
                      <a:lnTo>
                        <a:pt x="358" y="7"/>
                      </a:lnTo>
                      <a:lnTo>
                        <a:pt x="358" y="5"/>
                      </a:lnTo>
                      <a:lnTo>
                        <a:pt x="357" y="4"/>
                      </a:lnTo>
                      <a:lnTo>
                        <a:pt x="356" y="4"/>
                      </a:lnTo>
                      <a:lnTo>
                        <a:pt x="354" y="3"/>
                      </a:lnTo>
                      <a:lnTo>
                        <a:pt x="352" y="4"/>
                      </a:lnTo>
                      <a:lnTo>
                        <a:pt x="351" y="4"/>
                      </a:lnTo>
                      <a:lnTo>
                        <a:pt x="350" y="5"/>
                      </a:lnTo>
                      <a:lnTo>
                        <a:pt x="349" y="7"/>
                      </a:lnTo>
                      <a:lnTo>
                        <a:pt x="337" y="7"/>
                      </a:lnTo>
                      <a:lnTo>
                        <a:pt x="336" y="5"/>
                      </a:lnTo>
                      <a:lnTo>
                        <a:pt x="335" y="4"/>
                      </a:lnTo>
                      <a:lnTo>
                        <a:pt x="334" y="4"/>
                      </a:lnTo>
                      <a:lnTo>
                        <a:pt x="332" y="3"/>
                      </a:lnTo>
                      <a:lnTo>
                        <a:pt x="331" y="4"/>
                      </a:lnTo>
                      <a:lnTo>
                        <a:pt x="329" y="4"/>
                      </a:lnTo>
                      <a:lnTo>
                        <a:pt x="328" y="5"/>
                      </a:lnTo>
                      <a:lnTo>
                        <a:pt x="328" y="7"/>
                      </a:lnTo>
                      <a:lnTo>
                        <a:pt x="313" y="7"/>
                      </a:lnTo>
                      <a:lnTo>
                        <a:pt x="313" y="5"/>
                      </a:lnTo>
                      <a:lnTo>
                        <a:pt x="312" y="4"/>
                      </a:lnTo>
                      <a:lnTo>
                        <a:pt x="310" y="4"/>
                      </a:lnTo>
                      <a:lnTo>
                        <a:pt x="309" y="3"/>
                      </a:lnTo>
                      <a:lnTo>
                        <a:pt x="307" y="4"/>
                      </a:lnTo>
                      <a:lnTo>
                        <a:pt x="305" y="4"/>
                      </a:lnTo>
                      <a:lnTo>
                        <a:pt x="305" y="5"/>
                      </a:lnTo>
                      <a:lnTo>
                        <a:pt x="304" y="7"/>
                      </a:lnTo>
                      <a:lnTo>
                        <a:pt x="293" y="7"/>
                      </a:lnTo>
                      <a:lnTo>
                        <a:pt x="293" y="5"/>
                      </a:lnTo>
                      <a:lnTo>
                        <a:pt x="292" y="4"/>
                      </a:lnTo>
                      <a:lnTo>
                        <a:pt x="290" y="4"/>
                      </a:lnTo>
                      <a:lnTo>
                        <a:pt x="288" y="3"/>
                      </a:lnTo>
                      <a:lnTo>
                        <a:pt x="287" y="4"/>
                      </a:lnTo>
                      <a:lnTo>
                        <a:pt x="285" y="4"/>
                      </a:lnTo>
                      <a:lnTo>
                        <a:pt x="284" y="5"/>
                      </a:lnTo>
                      <a:lnTo>
                        <a:pt x="284" y="7"/>
                      </a:lnTo>
                      <a:lnTo>
                        <a:pt x="277" y="7"/>
                      </a:lnTo>
                      <a:lnTo>
                        <a:pt x="277" y="5"/>
                      </a:lnTo>
                      <a:lnTo>
                        <a:pt x="276" y="4"/>
                      </a:lnTo>
                      <a:lnTo>
                        <a:pt x="274" y="3"/>
                      </a:lnTo>
                      <a:lnTo>
                        <a:pt x="273" y="2"/>
                      </a:lnTo>
                      <a:lnTo>
                        <a:pt x="270" y="1"/>
                      </a:lnTo>
                      <a:lnTo>
                        <a:pt x="268" y="2"/>
                      </a:lnTo>
                      <a:lnTo>
                        <a:pt x="266" y="3"/>
                      </a:lnTo>
                      <a:lnTo>
                        <a:pt x="265" y="4"/>
                      </a:lnTo>
                      <a:lnTo>
                        <a:pt x="264" y="5"/>
                      </a:lnTo>
                      <a:lnTo>
                        <a:pt x="264" y="7"/>
                      </a:lnTo>
                      <a:lnTo>
                        <a:pt x="215" y="7"/>
                      </a:lnTo>
                      <a:lnTo>
                        <a:pt x="215" y="5"/>
                      </a:lnTo>
                      <a:lnTo>
                        <a:pt x="214" y="4"/>
                      </a:lnTo>
                      <a:lnTo>
                        <a:pt x="212" y="4"/>
                      </a:lnTo>
                      <a:lnTo>
                        <a:pt x="211" y="3"/>
                      </a:lnTo>
                      <a:lnTo>
                        <a:pt x="209" y="4"/>
                      </a:lnTo>
                      <a:lnTo>
                        <a:pt x="208" y="4"/>
                      </a:lnTo>
                      <a:lnTo>
                        <a:pt x="207" y="5"/>
                      </a:lnTo>
                      <a:lnTo>
                        <a:pt x="206" y="7"/>
                      </a:lnTo>
                      <a:lnTo>
                        <a:pt x="197" y="7"/>
                      </a:lnTo>
                      <a:lnTo>
                        <a:pt x="197" y="96"/>
                      </a:lnTo>
                      <a:lnTo>
                        <a:pt x="178" y="96"/>
                      </a:lnTo>
                      <a:lnTo>
                        <a:pt x="177" y="94"/>
                      </a:lnTo>
                      <a:lnTo>
                        <a:pt x="176" y="93"/>
                      </a:lnTo>
                      <a:lnTo>
                        <a:pt x="175" y="91"/>
                      </a:lnTo>
                      <a:lnTo>
                        <a:pt x="173" y="91"/>
                      </a:lnTo>
                      <a:lnTo>
                        <a:pt x="171" y="90"/>
                      </a:lnTo>
                      <a:lnTo>
                        <a:pt x="169" y="90"/>
                      </a:lnTo>
                      <a:lnTo>
                        <a:pt x="166" y="91"/>
                      </a:lnTo>
                      <a:lnTo>
                        <a:pt x="165" y="91"/>
                      </a:lnTo>
                      <a:lnTo>
                        <a:pt x="163" y="93"/>
                      </a:lnTo>
                      <a:lnTo>
                        <a:pt x="162" y="94"/>
                      </a:lnTo>
                      <a:lnTo>
                        <a:pt x="162" y="96"/>
                      </a:lnTo>
                      <a:lnTo>
                        <a:pt x="148" y="96"/>
                      </a:lnTo>
                      <a:lnTo>
                        <a:pt x="147" y="95"/>
                      </a:lnTo>
                      <a:lnTo>
                        <a:pt x="146" y="94"/>
                      </a:lnTo>
                      <a:lnTo>
                        <a:pt x="145" y="93"/>
                      </a:lnTo>
                      <a:lnTo>
                        <a:pt x="143" y="93"/>
                      </a:lnTo>
                      <a:lnTo>
                        <a:pt x="141" y="93"/>
                      </a:lnTo>
                      <a:lnTo>
                        <a:pt x="140" y="94"/>
                      </a:lnTo>
                      <a:lnTo>
                        <a:pt x="139" y="95"/>
                      </a:lnTo>
                      <a:lnTo>
                        <a:pt x="139" y="96"/>
                      </a:lnTo>
                      <a:lnTo>
                        <a:pt x="131" y="96"/>
                      </a:lnTo>
                      <a:lnTo>
                        <a:pt x="130" y="95"/>
                      </a:lnTo>
                      <a:lnTo>
                        <a:pt x="130" y="94"/>
                      </a:lnTo>
                      <a:lnTo>
                        <a:pt x="128" y="93"/>
                      </a:lnTo>
                      <a:lnTo>
                        <a:pt x="126" y="93"/>
                      </a:lnTo>
                      <a:lnTo>
                        <a:pt x="125" y="93"/>
                      </a:lnTo>
                      <a:lnTo>
                        <a:pt x="123" y="94"/>
                      </a:lnTo>
                      <a:lnTo>
                        <a:pt x="122" y="95"/>
                      </a:lnTo>
                      <a:lnTo>
                        <a:pt x="122" y="96"/>
                      </a:lnTo>
                      <a:lnTo>
                        <a:pt x="114" y="96"/>
                      </a:lnTo>
                      <a:lnTo>
                        <a:pt x="113" y="95"/>
                      </a:lnTo>
                      <a:lnTo>
                        <a:pt x="113" y="94"/>
                      </a:lnTo>
                      <a:lnTo>
                        <a:pt x="111" y="93"/>
                      </a:lnTo>
                      <a:lnTo>
                        <a:pt x="109" y="93"/>
                      </a:lnTo>
                      <a:lnTo>
                        <a:pt x="108" y="93"/>
                      </a:lnTo>
                      <a:lnTo>
                        <a:pt x="106" y="94"/>
                      </a:lnTo>
                      <a:lnTo>
                        <a:pt x="105" y="95"/>
                      </a:lnTo>
                      <a:lnTo>
                        <a:pt x="105" y="96"/>
                      </a:lnTo>
                      <a:lnTo>
                        <a:pt x="100" y="96"/>
                      </a:lnTo>
                      <a:lnTo>
                        <a:pt x="100" y="94"/>
                      </a:lnTo>
                      <a:lnTo>
                        <a:pt x="99" y="93"/>
                      </a:lnTo>
                      <a:lnTo>
                        <a:pt x="98" y="91"/>
                      </a:lnTo>
                      <a:lnTo>
                        <a:pt x="96" y="91"/>
                      </a:lnTo>
                      <a:lnTo>
                        <a:pt x="94" y="90"/>
                      </a:lnTo>
                      <a:lnTo>
                        <a:pt x="91" y="90"/>
                      </a:lnTo>
                      <a:lnTo>
                        <a:pt x="89" y="91"/>
                      </a:lnTo>
                      <a:lnTo>
                        <a:pt x="87" y="91"/>
                      </a:lnTo>
                      <a:lnTo>
                        <a:pt x="86" y="93"/>
                      </a:lnTo>
                      <a:lnTo>
                        <a:pt x="85" y="94"/>
                      </a:lnTo>
                      <a:lnTo>
                        <a:pt x="85" y="96"/>
                      </a:lnTo>
                      <a:lnTo>
                        <a:pt x="70" y="96"/>
                      </a:lnTo>
                      <a:lnTo>
                        <a:pt x="70" y="95"/>
                      </a:lnTo>
                      <a:lnTo>
                        <a:pt x="69" y="94"/>
                      </a:lnTo>
                      <a:lnTo>
                        <a:pt x="67" y="93"/>
                      </a:lnTo>
                      <a:lnTo>
                        <a:pt x="66" y="93"/>
                      </a:lnTo>
                      <a:lnTo>
                        <a:pt x="64" y="93"/>
                      </a:lnTo>
                      <a:lnTo>
                        <a:pt x="62" y="94"/>
                      </a:lnTo>
                      <a:lnTo>
                        <a:pt x="61" y="95"/>
                      </a:lnTo>
                      <a:lnTo>
                        <a:pt x="61" y="96"/>
                      </a:lnTo>
                      <a:lnTo>
                        <a:pt x="57" y="96"/>
                      </a:lnTo>
                      <a:lnTo>
                        <a:pt x="56" y="95"/>
                      </a:lnTo>
                      <a:lnTo>
                        <a:pt x="55" y="94"/>
                      </a:lnTo>
                      <a:lnTo>
                        <a:pt x="54" y="93"/>
                      </a:lnTo>
                      <a:lnTo>
                        <a:pt x="52" y="93"/>
                      </a:lnTo>
                      <a:lnTo>
                        <a:pt x="50" y="93"/>
                      </a:lnTo>
                      <a:lnTo>
                        <a:pt x="49" y="94"/>
                      </a:lnTo>
                      <a:lnTo>
                        <a:pt x="48" y="95"/>
                      </a:lnTo>
                      <a:lnTo>
                        <a:pt x="48" y="96"/>
                      </a:lnTo>
                      <a:lnTo>
                        <a:pt x="38" y="96"/>
                      </a:lnTo>
                      <a:lnTo>
                        <a:pt x="37" y="95"/>
                      </a:lnTo>
                      <a:lnTo>
                        <a:pt x="36" y="94"/>
                      </a:lnTo>
                      <a:lnTo>
                        <a:pt x="35" y="93"/>
                      </a:lnTo>
                      <a:lnTo>
                        <a:pt x="33" y="93"/>
                      </a:lnTo>
                      <a:lnTo>
                        <a:pt x="32" y="93"/>
                      </a:lnTo>
                      <a:lnTo>
                        <a:pt x="30" y="94"/>
                      </a:lnTo>
                      <a:lnTo>
                        <a:pt x="29" y="95"/>
                      </a:lnTo>
                      <a:lnTo>
                        <a:pt x="29" y="96"/>
                      </a:lnTo>
                      <a:lnTo>
                        <a:pt x="10" y="96"/>
                      </a:lnTo>
                      <a:lnTo>
                        <a:pt x="10" y="95"/>
                      </a:lnTo>
                      <a:lnTo>
                        <a:pt x="9" y="94"/>
                      </a:lnTo>
                      <a:lnTo>
                        <a:pt x="8" y="93"/>
                      </a:lnTo>
                      <a:lnTo>
                        <a:pt x="6" y="93"/>
                      </a:lnTo>
                      <a:lnTo>
                        <a:pt x="4" y="93"/>
                      </a:lnTo>
                      <a:lnTo>
                        <a:pt x="3" y="94"/>
                      </a:lnTo>
                      <a:lnTo>
                        <a:pt x="2" y="95"/>
                      </a:lnTo>
                      <a:lnTo>
                        <a:pt x="1" y="96"/>
                      </a:lnTo>
                      <a:lnTo>
                        <a:pt x="0" y="9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7256520" y="411588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22" name=""/>
                <p:cNvSpPr/>
                <p:nvPr/>
              </p:nvSpPr>
              <p:spPr>
                <a:xfrm>
                  <a:off x="6076440" y="289368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23" name=""/>
                <p:cNvSpPr/>
                <p:nvPr/>
              </p:nvSpPr>
              <p:spPr>
                <a:xfrm>
                  <a:off x="7176240" y="2889360"/>
                  <a:ext cx="936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24" name=""/>
                <p:cNvSpPr/>
                <p:nvPr/>
              </p:nvSpPr>
              <p:spPr>
                <a:xfrm>
                  <a:off x="7177320" y="28872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Arial"/>
                    </a:rPr>
                    <a:t>1</a:t>
                  </a:r>
                  <a:endParaRPr b="0" lang="en-US" sz="100" spc="-1" strike="noStrike">
                    <a:solidFill>
                      <a:srgbClr val="ffffff"/>
                    </a:solidFill>
                    <a:latin typeface="Arial"/>
                  </a:endParaRPr>
                </a:p>
              </p:txBody>
            </p:sp>
            <p:sp>
              <p:nvSpPr>
                <p:cNvPr id="1225" name=""/>
                <p:cNvSpPr/>
                <p:nvPr/>
              </p:nvSpPr>
              <p:spPr>
                <a:xfrm>
                  <a:off x="5392440" y="2503800"/>
                  <a:ext cx="459360" cy="221400"/>
                </a:xfrm>
                <a:custGeom>
                  <a:avLst/>
                  <a:gdLst/>
                  <a:ahLst/>
                  <a:rect l="l" t="t" r="r" b="b"/>
                  <a:pathLst>
                    <a:path w="434" h="166">
                      <a:moveTo>
                        <a:pt x="0" y="0"/>
                      </a:moveTo>
                      <a:lnTo>
                        <a:pt x="0" y="44"/>
                      </a:lnTo>
                      <a:lnTo>
                        <a:pt x="29" y="44"/>
                      </a:lnTo>
                      <a:lnTo>
                        <a:pt x="29" y="43"/>
                      </a:lnTo>
                      <a:lnTo>
                        <a:pt x="30" y="42"/>
                      </a:lnTo>
                      <a:lnTo>
                        <a:pt x="32" y="41"/>
                      </a:lnTo>
                      <a:lnTo>
                        <a:pt x="33" y="41"/>
                      </a:lnTo>
                      <a:lnTo>
                        <a:pt x="35" y="41"/>
                      </a:lnTo>
                      <a:lnTo>
                        <a:pt x="37" y="42"/>
                      </a:lnTo>
                      <a:lnTo>
                        <a:pt x="38" y="43"/>
                      </a:lnTo>
                      <a:lnTo>
                        <a:pt x="38" y="44"/>
                      </a:lnTo>
                      <a:lnTo>
                        <a:pt x="49" y="44"/>
                      </a:lnTo>
                      <a:lnTo>
                        <a:pt x="50" y="43"/>
                      </a:lnTo>
                      <a:lnTo>
                        <a:pt x="50" y="42"/>
                      </a:lnTo>
                      <a:lnTo>
                        <a:pt x="52" y="41"/>
                      </a:lnTo>
                      <a:lnTo>
                        <a:pt x="54" y="41"/>
                      </a:lnTo>
                      <a:lnTo>
                        <a:pt x="55" y="41"/>
                      </a:lnTo>
                      <a:lnTo>
                        <a:pt x="57" y="42"/>
                      </a:lnTo>
                      <a:lnTo>
                        <a:pt x="58" y="43"/>
                      </a:lnTo>
                      <a:lnTo>
                        <a:pt x="58" y="44"/>
                      </a:lnTo>
                      <a:lnTo>
                        <a:pt x="71" y="44"/>
                      </a:lnTo>
                      <a:lnTo>
                        <a:pt x="71" y="43"/>
                      </a:lnTo>
                      <a:lnTo>
                        <a:pt x="72" y="41"/>
                      </a:lnTo>
                      <a:lnTo>
                        <a:pt x="74" y="40"/>
                      </a:lnTo>
                      <a:lnTo>
                        <a:pt x="76" y="39"/>
                      </a:lnTo>
                      <a:lnTo>
                        <a:pt x="78" y="38"/>
                      </a:lnTo>
                      <a:lnTo>
                        <a:pt x="80" y="38"/>
                      </a:lnTo>
                      <a:lnTo>
                        <a:pt x="82" y="39"/>
                      </a:lnTo>
                      <a:lnTo>
                        <a:pt x="85" y="40"/>
                      </a:lnTo>
                      <a:lnTo>
                        <a:pt x="86" y="41"/>
                      </a:lnTo>
                      <a:lnTo>
                        <a:pt x="87" y="43"/>
                      </a:lnTo>
                      <a:lnTo>
                        <a:pt x="87" y="44"/>
                      </a:lnTo>
                      <a:lnTo>
                        <a:pt x="102" y="44"/>
                      </a:lnTo>
                      <a:lnTo>
                        <a:pt x="102" y="43"/>
                      </a:lnTo>
                      <a:lnTo>
                        <a:pt x="103" y="42"/>
                      </a:lnTo>
                      <a:lnTo>
                        <a:pt x="105" y="41"/>
                      </a:lnTo>
                      <a:lnTo>
                        <a:pt x="106" y="41"/>
                      </a:lnTo>
                      <a:lnTo>
                        <a:pt x="108" y="41"/>
                      </a:lnTo>
                      <a:lnTo>
                        <a:pt x="110" y="42"/>
                      </a:lnTo>
                      <a:lnTo>
                        <a:pt x="110" y="43"/>
                      </a:lnTo>
                      <a:lnTo>
                        <a:pt x="111" y="44"/>
                      </a:lnTo>
                      <a:lnTo>
                        <a:pt x="130" y="44"/>
                      </a:lnTo>
                      <a:lnTo>
                        <a:pt x="130" y="43"/>
                      </a:lnTo>
                      <a:lnTo>
                        <a:pt x="131" y="42"/>
                      </a:lnTo>
                      <a:lnTo>
                        <a:pt x="132" y="41"/>
                      </a:lnTo>
                      <a:lnTo>
                        <a:pt x="134" y="41"/>
                      </a:lnTo>
                      <a:lnTo>
                        <a:pt x="136" y="41"/>
                      </a:lnTo>
                      <a:lnTo>
                        <a:pt x="137" y="42"/>
                      </a:lnTo>
                      <a:lnTo>
                        <a:pt x="138" y="43"/>
                      </a:lnTo>
                      <a:lnTo>
                        <a:pt x="138" y="44"/>
                      </a:lnTo>
                      <a:lnTo>
                        <a:pt x="195" y="44"/>
                      </a:lnTo>
                      <a:lnTo>
                        <a:pt x="196" y="43"/>
                      </a:lnTo>
                      <a:lnTo>
                        <a:pt x="197" y="42"/>
                      </a:lnTo>
                      <a:lnTo>
                        <a:pt x="198" y="41"/>
                      </a:lnTo>
                      <a:lnTo>
                        <a:pt x="200" y="41"/>
                      </a:lnTo>
                      <a:lnTo>
                        <a:pt x="202" y="41"/>
                      </a:lnTo>
                      <a:lnTo>
                        <a:pt x="203" y="42"/>
                      </a:lnTo>
                      <a:lnTo>
                        <a:pt x="204" y="43"/>
                      </a:lnTo>
                      <a:lnTo>
                        <a:pt x="204" y="44"/>
                      </a:lnTo>
                      <a:lnTo>
                        <a:pt x="346" y="44"/>
                      </a:lnTo>
                      <a:lnTo>
                        <a:pt x="346" y="43"/>
                      </a:lnTo>
                      <a:lnTo>
                        <a:pt x="347" y="42"/>
                      </a:lnTo>
                      <a:lnTo>
                        <a:pt x="348" y="41"/>
                      </a:lnTo>
                      <a:lnTo>
                        <a:pt x="350" y="41"/>
                      </a:lnTo>
                      <a:lnTo>
                        <a:pt x="352" y="41"/>
                      </a:lnTo>
                      <a:lnTo>
                        <a:pt x="353" y="42"/>
                      </a:lnTo>
                      <a:lnTo>
                        <a:pt x="354" y="43"/>
                      </a:lnTo>
                      <a:lnTo>
                        <a:pt x="355" y="44"/>
                      </a:lnTo>
                      <a:lnTo>
                        <a:pt x="367" y="44"/>
                      </a:lnTo>
                      <a:lnTo>
                        <a:pt x="368" y="43"/>
                      </a:lnTo>
                      <a:lnTo>
                        <a:pt x="369" y="42"/>
                      </a:lnTo>
                      <a:lnTo>
                        <a:pt x="370" y="41"/>
                      </a:lnTo>
                      <a:lnTo>
                        <a:pt x="372" y="41"/>
                      </a:lnTo>
                      <a:lnTo>
                        <a:pt x="374" y="41"/>
                      </a:lnTo>
                      <a:lnTo>
                        <a:pt x="375" y="42"/>
                      </a:lnTo>
                      <a:lnTo>
                        <a:pt x="376" y="43"/>
                      </a:lnTo>
                      <a:lnTo>
                        <a:pt x="376" y="44"/>
                      </a:lnTo>
                      <a:lnTo>
                        <a:pt x="434" y="44"/>
                      </a:lnTo>
                      <a:lnTo>
                        <a:pt x="434" y="166"/>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5385960" y="24915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27" name=""/>
                <p:cNvSpPr/>
                <p:nvPr/>
              </p:nvSpPr>
              <p:spPr>
                <a:xfrm>
                  <a:off x="7394400" y="2230920"/>
                  <a:ext cx="304560" cy="1451880"/>
                </a:xfrm>
                <a:custGeom>
                  <a:avLst/>
                  <a:gdLst/>
                  <a:ahLst/>
                  <a:rect l="l" t="t" r="r" b="b"/>
                  <a:pathLst>
                    <a:path w="288" h="1087">
                      <a:moveTo>
                        <a:pt x="288" y="1087"/>
                      </a:moveTo>
                      <a:lnTo>
                        <a:pt x="288" y="386"/>
                      </a:lnTo>
                      <a:lnTo>
                        <a:pt x="188" y="386"/>
                      </a:lnTo>
                      <a:lnTo>
                        <a:pt x="188" y="385"/>
                      </a:lnTo>
                      <a:lnTo>
                        <a:pt x="187" y="384"/>
                      </a:lnTo>
                      <a:lnTo>
                        <a:pt x="186" y="383"/>
                      </a:lnTo>
                      <a:lnTo>
                        <a:pt x="184" y="383"/>
                      </a:lnTo>
                      <a:lnTo>
                        <a:pt x="182" y="383"/>
                      </a:lnTo>
                      <a:lnTo>
                        <a:pt x="181" y="384"/>
                      </a:lnTo>
                      <a:lnTo>
                        <a:pt x="180" y="385"/>
                      </a:lnTo>
                      <a:lnTo>
                        <a:pt x="179" y="386"/>
                      </a:lnTo>
                      <a:lnTo>
                        <a:pt x="178" y="386"/>
                      </a:lnTo>
                      <a:lnTo>
                        <a:pt x="178" y="385"/>
                      </a:lnTo>
                      <a:lnTo>
                        <a:pt x="176" y="384"/>
                      </a:lnTo>
                      <a:lnTo>
                        <a:pt x="175" y="383"/>
                      </a:lnTo>
                      <a:lnTo>
                        <a:pt x="173" y="383"/>
                      </a:lnTo>
                      <a:lnTo>
                        <a:pt x="172" y="383"/>
                      </a:lnTo>
                      <a:lnTo>
                        <a:pt x="170" y="384"/>
                      </a:lnTo>
                      <a:lnTo>
                        <a:pt x="169" y="385"/>
                      </a:lnTo>
                      <a:lnTo>
                        <a:pt x="169" y="386"/>
                      </a:lnTo>
                      <a:lnTo>
                        <a:pt x="151" y="386"/>
                      </a:lnTo>
                      <a:lnTo>
                        <a:pt x="150" y="385"/>
                      </a:lnTo>
                      <a:lnTo>
                        <a:pt x="149" y="384"/>
                      </a:lnTo>
                      <a:lnTo>
                        <a:pt x="148" y="383"/>
                      </a:lnTo>
                      <a:lnTo>
                        <a:pt x="146" y="383"/>
                      </a:lnTo>
                      <a:lnTo>
                        <a:pt x="145" y="383"/>
                      </a:lnTo>
                      <a:lnTo>
                        <a:pt x="143" y="384"/>
                      </a:lnTo>
                      <a:lnTo>
                        <a:pt x="142" y="385"/>
                      </a:lnTo>
                      <a:lnTo>
                        <a:pt x="142" y="386"/>
                      </a:lnTo>
                      <a:lnTo>
                        <a:pt x="64" y="386"/>
                      </a:lnTo>
                      <a:lnTo>
                        <a:pt x="64" y="385"/>
                      </a:lnTo>
                      <a:lnTo>
                        <a:pt x="63" y="384"/>
                      </a:lnTo>
                      <a:lnTo>
                        <a:pt x="62" y="383"/>
                      </a:lnTo>
                      <a:lnTo>
                        <a:pt x="60" y="383"/>
                      </a:lnTo>
                      <a:lnTo>
                        <a:pt x="58" y="383"/>
                      </a:lnTo>
                      <a:lnTo>
                        <a:pt x="57" y="384"/>
                      </a:lnTo>
                      <a:lnTo>
                        <a:pt x="56" y="385"/>
                      </a:lnTo>
                      <a:lnTo>
                        <a:pt x="55" y="386"/>
                      </a:lnTo>
                      <a:lnTo>
                        <a:pt x="11" y="386"/>
                      </a:lnTo>
                      <a:lnTo>
                        <a:pt x="11"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7692840" y="368172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229" name=""/>
                <p:cNvSpPr/>
                <p:nvPr/>
              </p:nvSpPr>
              <p:spPr>
                <a:xfrm>
                  <a:off x="7381440" y="222588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30" name=""/>
                <p:cNvSpPr/>
                <p:nvPr/>
              </p:nvSpPr>
              <p:spPr>
                <a:xfrm>
                  <a:off x="5891760" y="2164320"/>
                  <a:ext cx="1195200" cy="548640"/>
                </a:xfrm>
                <a:custGeom>
                  <a:avLst/>
                  <a:gdLst/>
                  <a:ahLst/>
                  <a:rect l="l" t="t" r="r" b="b"/>
                  <a:pathLst>
                    <a:path w="1129" h="411">
                      <a:moveTo>
                        <a:pt x="1129" y="3"/>
                      </a:moveTo>
                      <a:lnTo>
                        <a:pt x="1120" y="3"/>
                      </a:lnTo>
                      <a:lnTo>
                        <a:pt x="1120" y="2"/>
                      </a:lnTo>
                      <a:lnTo>
                        <a:pt x="1119" y="1"/>
                      </a:lnTo>
                      <a:lnTo>
                        <a:pt x="1117" y="0"/>
                      </a:lnTo>
                      <a:lnTo>
                        <a:pt x="1116" y="0"/>
                      </a:lnTo>
                      <a:lnTo>
                        <a:pt x="1114" y="0"/>
                      </a:lnTo>
                      <a:lnTo>
                        <a:pt x="1113" y="1"/>
                      </a:lnTo>
                      <a:lnTo>
                        <a:pt x="1112" y="2"/>
                      </a:lnTo>
                      <a:lnTo>
                        <a:pt x="1111" y="3"/>
                      </a:lnTo>
                      <a:lnTo>
                        <a:pt x="1107" y="3"/>
                      </a:lnTo>
                      <a:lnTo>
                        <a:pt x="1106" y="2"/>
                      </a:lnTo>
                      <a:lnTo>
                        <a:pt x="1105" y="1"/>
                      </a:lnTo>
                      <a:lnTo>
                        <a:pt x="1104" y="0"/>
                      </a:lnTo>
                      <a:lnTo>
                        <a:pt x="1102" y="0"/>
                      </a:lnTo>
                      <a:lnTo>
                        <a:pt x="1100" y="0"/>
                      </a:lnTo>
                      <a:lnTo>
                        <a:pt x="1099" y="1"/>
                      </a:lnTo>
                      <a:lnTo>
                        <a:pt x="1098" y="2"/>
                      </a:lnTo>
                      <a:lnTo>
                        <a:pt x="1098" y="3"/>
                      </a:lnTo>
                      <a:lnTo>
                        <a:pt x="810" y="3"/>
                      </a:lnTo>
                      <a:lnTo>
                        <a:pt x="810" y="2"/>
                      </a:lnTo>
                      <a:lnTo>
                        <a:pt x="808" y="1"/>
                      </a:lnTo>
                      <a:lnTo>
                        <a:pt x="807" y="0"/>
                      </a:lnTo>
                      <a:lnTo>
                        <a:pt x="805" y="0"/>
                      </a:lnTo>
                      <a:lnTo>
                        <a:pt x="804" y="0"/>
                      </a:lnTo>
                      <a:lnTo>
                        <a:pt x="802" y="1"/>
                      </a:lnTo>
                      <a:lnTo>
                        <a:pt x="801" y="2"/>
                      </a:lnTo>
                      <a:lnTo>
                        <a:pt x="801" y="3"/>
                      </a:lnTo>
                      <a:lnTo>
                        <a:pt x="699" y="3"/>
                      </a:lnTo>
                      <a:lnTo>
                        <a:pt x="699" y="148"/>
                      </a:lnTo>
                      <a:lnTo>
                        <a:pt x="679" y="148"/>
                      </a:lnTo>
                      <a:lnTo>
                        <a:pt x="679" y="147"/>
                      </a:lnTo>
                      <a:lnTo>
                        <a:pt x="678" y="145"/>
                      </a:lnTo>
                      <a:lnTo>
                        <a:pt x="676" y="145"/>
                      </a:lnTo>
                      <a:lnTo>
                        <a:pt x="675" y="144"/>
                      </a:lnTo>
                      <a:lnTo>
                        <a:pt x="673" y="145"/>
                      </a:lnTo>
                      <a:lnTo>
                        <a:pt x="671" y="145"/>
                      </a:lnTo>
                      <a:lnTo>
                        <a:pt x="671" y="147"/>
                      </a:lnTo>
                      <a:lnTo>
                        <a:pt x="670" y="148"/>
                      </a:lnTo>
                      <a:lnTo>
                        <a:pt x="579" y="148"/>
                      </a:lnTo>
                      <a:lnTo>
                        <a:pt x="579" y="147"/>
                      </a:lnTo>
                      <a:lnTo>
                        <a:pt x="578" y="145"/>
                      </a:lnTo>
                      <a:lnTo>
                        <a:pt x="577" y="145"/>
                      </a:lnTo>
                      <a:lnTo>
                        <a:pt x="575" y="144"/>
                      </a:lnTo>
                      <a:lnTo>
                        <a:pt x="573" y="145"/>
                      </a:lnTo>
                      <a:lnTo>
                        <a:pt x="572" y="145"/>
                      </a:lnTo>
                      <a:lnTo>
                        <a:pt x="571" y="147"/>
                      </a:lnTo>
                      <a:lnTo>
                        <a:pt x="570" y="148"/>
                      </a:lnTo>
                      <a:lnTo>
                        <a:pt x="437" y="148"/>
                      </a:lnTo>
                      <a:lnTo>
                        <a:pt x="436" y="147"/>
                      </a:lnTo>
                      <a:lnTo>
                        <a:pt x="435" y="145"/>
                      </a:lnTo>
                      <a:lnTo>
                        <a:pt x="434" y="145"/>
                      </a:lnTo>
                      <a:lnTo>
                        <a:pt x="432" y="144"/>
                      </a:lnTo>
                      <a:lnTo>
                        <a:pt x="430" y="145"/>
                      </a:lnTo>
                      <a:lnTo>
                        <a:pt x="429" y="145"/>
                      </a:lnTo>
                      <a:lnTo>
                        <a:pt x="428" y="147"/>
                      </a:lnTo>
                      <a:lnTo>
                        <a:pt x="428" y="148"/>
                      </a:lnTo>
                      <a:lnTo>
                        <a:pt x="394" y="148"/>
                      </a:lnTo>
                      <a:lnTo>
                        <a:pt x="394" y="147"/>
                      </a:lnTo>
                      <a:lnTo>
                        <a:pt x="393" y="145"/>
                      </a:lnTo>
                      <a:lnTo>
                        <a:pt x="392" y="145"/>
                      </a:lnTo>
                      <a:lnTo>
                        <a:pt x="390" y="144"/>
                      </a:lnTo>
                      <a:lnTo>
                        <a:pt x="388" y="145"/>
                      </a:lnTo>
                      <a:lnTo>
                        <a:pt x="387" y="145"/>
                      </a:lnTo>
                      <a:lnTo>
                        <a:pt x="386" y="147"/>
                      </a:lnTo>
                      <a:lnTo>
                        <a:pt x="385" y="148"/>
                      </a:lnTo>
                      <a:lnTo>
                        <a:pt x="357" y="148"/>
                      </a:lnTo>
                      <a:lnTo>
                        <a:pt x="357" y="147"/>
                      </a:lnTo>
                      <a:lnTo>
                        <a:pt x="356" y="145"/>
                      </a:lnTo>
                      <a:lnTo>
                        <a:pt x="354" y="145"/>
                      </a:lnTo>
                      <a:lnTo>
                        <a:pt x="352" y="144"/>
                      </a:lnTo>
                      <a:lnTo>
                        <a:pt x="351" y="145"/>
                      </a:lnTo>
                      <a:lnTo>
                        <a:pt x="349" y="145"/>
                      </a:lnTo>
                      <a:lnTo>
                        <a:pt x="348" y="147"/>
                      </a:lnTo>
                      <a:lnTo>
                        <a:pt x="348" y="148"/>
                      </a:lnTo>
                      <a:lnTo>
                        <a:pt x="323" y="148"/>
                      </a:lnTo>
                      <a:lnTo>
                        <a:pt x="323" y="147"/>
                      </a:lnTo>
                      <a:lnTo>
                        <a:pt x="322" y="145"/>
                      </a:lnTo>
                      <a:lnTo>
                        <a:pt x="321" y="145"/>
                      </a:lnTo>
                      <a:lnTo>
                        <a:pt x="319" y="144"/>
                      </a:lnTo>
                      <a:lnTo>
                        <a:pt x="317" y="145"/>
                      </a:lnTo>
                      <a:lnTo>
                        <a:pt x="316" y="145"/>
                      </a:lnTo>
                      <a:lnTo>
                        <a:pt x="315" y="147"/>
                      </a:lnTo>
                      <a:lnTo>
                        <a:pt x="314" y="148"/>
                      </a:lnTo>
                      <a:lnTo>
                        <a:pt x="307" y="148"/>
                      </a:lnTo>
                      <a:lnTo>
                        <a:pt x="306" y="146"/>
                      </a:lnTo>
                      <a:lnTo>
                        <a:pt x="305" y="145"/>
                      </a:lnTo>
                      <a:lnTo>
                        <a:pt x="304" y="143"/>
                      </a:lnTo>
                      <a:lnTo>
                        <a:pt x="302" y="142"/>
                      </a:lnTo>
                      <a:lnTo>
                        <a:pt x="300" y="142"/>
                      </a:lnTo>
                      <a:lnTo>
                        <a:pt x="298" y="142"/>
                      </a:lnTo>
                      <a:lnTo>
                        <a:pt x="296" y="142"/>
                      </a:lnTo>
                      <a:lnTo>
                        <a:pt x="294" y="143"/>
                      </a:lnTo>
                      <a:lnTo>
                        <a:pt x="292" y="145"/>
                      </a:lnTo>
                      <a:lnTo>
                        <a:pt x="291" y="146"/>
                      </a:lnTo>
                      <a:lnTo>
                        <a:pt x="291" y="148"/>
                      </a:lnTo>
                      <a:lnTo>
                        <a:pt x="286" y="148"/>
                      </a:lnTo>
                      <a:lnTo>
                        <a:pt x="286" y="146"/>
                      </a:lnTo>
                      <a:lnTo>
                        <a:pt x="285" y="145"/>
                      </a:lnTo>
                      <a:lnTo>
                        <a:pt x="284" y="143"/>
                      </a:lnTo>
                      <a:lnTo>
                        <a:pt x="282" y="142"/>
                      </a:lnTo>
                      <a:lnTo>
                        <a:pt x="280" y="142"/>
                      </a:lnTo>
                      <a:lnTo>
                        <a:pt x="278" y="142"/>
                      </a:lnTo>
                      <a:lnTo>
                        <a:pt x="275" y="142"/>
                      </a:lnTo>
                      <a:lnTo>
                        <a:pt x="273" y="143"/>
                      </a:lnTo>
                      <a:lnTo>
                        <a:pt x="272" y="145"/>
                      </a:lnTo>
                      <a:lnTo>
                        <a:pt x="271" y="146"/>
                      </a:lnTo>
                      <a:lnTo>
                        <a:pt x="271" y="148"/>
                      </a:lnTo>
                      <a:lnTo>
                        <a:pt x="231" y="148"/>
                      </a:lnTo>
                      <a:lnTo>
                        <a:pt x="231" y="147"/>
                      </a:lnTo>
                      <a:lnTo>
                        <a:pt x="230" y="145"/>
                      </a:lnTo>
                      <a:lnTo>
                        <a:pt x="229" y="145"/>
                      </a:lnTo>
                      <a:lnTo>
                        <a:pt x="227" y="144"/>
                      </a:lnTo>
                      <a:lnTo>
                        <a:pt x="225" y="145"/>
                      </a:lnTo>
                      <a:lnTo>
                        <a:pt x="224" y="145"/>
                      </a:lnTo>
                      <a:lnTo>
                        <a:pt x="223" y="147"/>
                      </a:lnTo>
                      <a:lnTo>
                        <a:pt x="223" y="148"/>
                      </a:lnTo>
                      <a:lnTo>
                        <a:pt x="206" y="148"/>
                      </a:lnTo>
                      <a:lnTo>
                        <a:pt x="205" y="147"/>
                      </a:lnTo>
                      <a:lnTo>
                        <a:pt x="204" y="145"/>
                      </a:lnTo>
                      <a:lnTo>
                        <a:pt x="203" y="145"/>
                      </a:lnTo>
                      <a:lnTo>
                        <a:pt x="201" y="144"/>
                      </a:lnTo>
                      <a:lnTo>
                        <a:pt x="200" y="145"/>
                      </a:lnTo>
                      <a:lnTo>
                        <a:pt x="198" y="145"/>
                      </a:lnTo>
                      <a:lnTo>
                        <a:pt x="197" y="147"/>
                      </a:lnTo>
                      <a:lnTo>
                        <a:pt x="197" y="148"/>
                      </a:lnTo>
                      <a:lnTo>
                        <a:pt x="178" y="148"/>
                      </a:lnTo>
                      <a:lnTo>
                        <a:pt x="178" y="147"/>
                      </a:lnTo>
                      <a:lnTo>
                        <a:pt x="177" y="145"/>
                      </a:lnTo>
                      <a:lnTo>
                        <a:pt x="176" y="145"/>
                      </a:lnTo>
                      <a:lnTo>
                        <a:pt x="174" y="144"/>
                      </a:lnTo>
                      <a:lnTo>
                        <a:pt x="172" y="145"/>
                      </a:lnTo>
                      <a:lnTo>
                        <a:pt x="171" y="145"/>
                      </a:lnTo>
                      <a:lnTo>
                        <a:pt x="170" y="147"/>
                      </a:lnTo>
                      <a:lnTo>
                        <a:pt x="169" y="148"/>
                      </a:lnTo>
                      <a:lnTo>
                        <a:pt x="154" y="148"/>
                      </a:lnTo>
                      <a:lnTo>
                        <a:pt x="154" y="147"/>
                      </a:lnTo>
                      <a:lnTo>
                        <a:pt x="153" y="145"/>
                      </a:lnTo>
                      <a:lnTo>
                        <a:pt x="151" y="145"/>
                      </a:lnTo>
                      <a:lnTo>
                        <a:pt x="149" y="144"/>
                      </a:lnTo>
                      <a:lnTo>
                        <a:pt x="148" y="145"/>
                      </a:lnTo>
                      <a:lnTo>
                        <a:pt x="146" y="145"/>
                      </a:lnTo>
                      <a:lnTo>
                        <a:pt x="145" y="147"/>
                      </a:lnTo>
                      <a:lnTo>
                        <a:pt x="145" y="148"/>
                      </a:lnTo>
                      <a:lnTo>
                        <a:pt x="111" y="148"/>
                      </a:lnTo>
                      <a:lnTo>
                        <a:pt x="110" y="147"/>
                      </a:lnTo>
                      <a:lnTo>
                        <a:pt x="109" y="145"/>
                      </a:lnTo>
                      <a:lnTo>
                        <a:pt x="108" y="145"/>
                      </a:lnTo>
                      <a:lnTo>
                        <a:pt x="106" y="144"/>
                      </a:lnTo>
                      <a:lnTo>
                        <a:pt x="105" y="145"/>
                      </a:lnTo>
                      <a:lnTo>
                        <a:pt x="103" y="145"/>
                      </a:lnTo>
                      <a:lnTo>
                        <a:pt x="102" y="147"/>
                      </a:lnTo>
                      <a:lnTo>
                        <a:pt x="102" y="148"/>
                      </a:lnTo>
                      <a:lnTo>
                        <a:pt x="84" y="148"/>
                      </a:lnTo>
                      <a:lnTo>
                        <a:pt x="83" y="147"/>
                      </a:lnTo>
                      <a:lnTo>
                        <a:pt x="82" y="145"/>
                      </a:lnTo>
                      <a:lnTo>
                        <a:pt x="81" y="145"/>
                      </a:lnTo>
                      <a:lnTo>
                        <a:pt x="79" y="144"/>
                      </a:lnTo>
                      <a:lnTo>
                        <a:pt x="78" y="145"/>
                      </a:lnTo>
                      <a:lnTo>
                        <a:pt x="76" y="145"/>
                      </a:lnTo>
                      <a:lnTo>
                        <a:pt x="75" y="147"/>
                      </a:lnTo>
                      <a:lnTo>
                        <a:pt x="75" y="148"/>
                      </a:lnTo>
                      <a:lnTo>
                        <a:pt x="50" y="148"/>
                      </a:lnTo>
                      <a:lnTo>
                        <a:pt x="50" y="147"/>
                      </a:lnTo>
                      <a:lnTo>
                        <a:pt x="49" y="145"/>
                      </a:lnTo>
                      <a:lnTo>
                        <a:pt x="48" y="145"/>
                      </a:lnTo>
                      <a:lnTo>
                        <a:pt x="46" y="144"/>
                      </a:lnTo>
                      <a:lnTo>
                        <a:pt x="44" y="145"/>
                      </a:lnTo>
                      <a:lnTo>
                        <a:pt x="43" y="145"/>
                      </a:lnTo>
                      <a:lnTo>
                        <a:pt x="42" y="147"/>
                      </a:lnTo>
                      <a:lnTo>
                        <a:pt x="41" y="148"/>
                      </a:lnTo>
                      <a:lnTo>
                        <a:pt x="16" y="148"/>
                      </a:lnTo>
                      <a:lnTo>
                        <a:pt x="16" y="147"/>
                      </a:lnTo>
                      <a:lnTo>
                        <a:pt x="15" y="145"/>
                      </a:lnTo>
                      <a:lnTo>
                        <a:pt x="13" y="145"/>
                      </a:lnTo>
                      <a:lnTo>
                        <a:pt x="12" y="144"/>
                      </a:lnTo>
                      <a:lnTo>
                        <a:pt x="10" y="145"/>
                      </a:lnTo>
                      <a:lnTo>
                        <a:pt x="9" y="145"/>
                      </a:lnTo>
                      <a:lnTo>
                        <a:pt x="8" y="147"/>
                      </a:lnTo>
                      <a:lnTo>
                        <a:pt x="7" y="148"/>
                      </a:lnTo>
                      <a:lnTo>
                        <a:pt x="0" y="148"/>
                      </a:lnTo>
                      <a:lnTo>
                        <a:pt x="0" y="411"/>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7073640" y="2163240"/>
                  <a:ext cx="13680" cy="1152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ff00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32" name=""/>
                <p:cNvSpPr/>
                <p:nvPr/>
              </p:nvSpPr>
              <p:spPr>
                <a:xfrm>
                  <a:off x="5886720" y="271188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33" name=""/>
                <p:cNvSpPr/>
                <p:nvPr/>
              </p:nvSpPr>
              <p:spPr>
                <a:xfrm>
                  <a:off x="5401800" y="2220480"/>
                  <a:ext cx="1685160" cy="446040"/>
                </a:xfrm>
                <a:custGeom>
                  <a:avLst/>
                  <a:gdLst/>
                  <a:ahLst/>
                  <a:rect l="l" t="t" r="r" b="b"/>
                  <a:pathLst>
                    <a:path w="1592" h="334">
                      <a:moveTo>
                        <a:pt x="0" y="334"/>
                      </a:moveTo>
                      <a:lnTo>
                        <a:pt x="9" y="334"/>
                      </a:lnTo>
                      <a:lnTo>
                        <a:pt x="9" y="333"/>
                      </a:lnTo>
                      <a:lnTo>
                        <a:pt x="10" y="332"/>
                      </a:lnTo>
                      <a:lnTo>
                        <a:pt x="12" y="331"/>
                      </a:lnTo>
                      <a:lnTo>
                        <a:pt x="13" y="331"/>
                      </a:lnTo>
                      <a:lnTo>
                        <a:pt x="15" y="331"/>
                      </a:lnTo>
                      <a:lnTo>
                        <a:pt x="16" y="332"/>
                      </a:lnTo>
                      <a:lnTo>
                        <a:pt x="18" y="333"/>
                      </a:lnTo>
                      <a:lnTo>
                        <a:pt x="18" y="334"/>
                      </a:lnTo>
                      <a:lnTo>
                        <a:pt x="20" y="334"/>
                      </a:lnTo>
                      <a:lnTo>
                        <a:pt x="20" y="333"/>
                      </a:lnTo>
                      <a:lnTo>
                        <a:pt x="21" y="332"/>
                      </a:lnTo>
                      <a:lnTo>
                        <a:pt x="23" y="331"/>
                      </a:lnTo>
                      <a:lnTo>
                        <a:pt x="24" y="331"/>
                      </a:lnTo>
                      <a:lnTo>
                        <a:pt x="26" y="331"/>
                      </a:lnTo>
                      <a:lnTo>
                        <a:pt x="28" y="332"/>
                      </a:lnTo>
                      <a:lnTo>
                        <a:pt x="29" y="333"/>
                      </a:lnTo>
                      <a:lnTo>
                        <a:pt x="29" y="334"/>
                      </a:lnTo>
                      <a:lnTo>
                        <a:pt x="40" y="334"/>
                      </a:lnTo>
                      <a:lnTo>
                        <a:pt x="41" y="333"/>
                      </a:lnTo>
                      <a:lnTo>
                        <a:pt x="41" y="332"/>
                      </a:lnTo>
                      <a:lnTo>
                        <a:pt x="43" y="331"/>
                      </a:lnTo>
                      <a:lnTo>
                        <a:pt x="45" y="331"/>
                      </a:lnTo>
                      <a:lnTo>
                        <a:pt x="46" y="331"/>
                      </a:lnTo>
                      <a:lnTo>
                        <a:pt x="48" y="332"/>
                      </a:lnTo>
                      <a:lnTo>
                        <a:pt x="49" y="333"/>
                      </a:lnTo>
                      <a:lnTo>
                        <a:pt x="49" y="334"/>
                      </a:lnTo>
                      <a:lnTo>
                        <a:pt x="62" y="334"/>
                      </a:lnTo>
                      <a:lnTo>
                        <a:pt x="62" y="332"/>
                      </a:lnTo>
                      <a:lnTo>
                        <a:pt x="63" y="330"/>
                      </a:lnTo>
                      <a:lnTo>
                        <a:pt x="65" y="329"/>
                      </a:lnTo>
                      <a:lnTo>
                        <a:pt x="67" y="328"/>
                      </a:lnTo>
                      <a:lnTo>
                        <a:pt x="69" y="328"/>
                      </a:lnTo>
                      <a:lnTo>
                        <a:pt x="71" y="328"/>
                      </a:lnTo>
                      <a:lnTo>
                        <a:pt x="73" y="328"/>
                      </a:lnTo>
                      <a:lnTo>
                        <a:pt x="76" y="329"/>
                      </a:lnTo>
                      <a:lnTo>
                        <a:pt x="77" y="330"/>
                      </a:lnTo>
                      <a:lnTo>
                        <a:pt x="78" y="332"/>
                      </a:lnTo>
                      <a:lnTo>
                        <a:pt x="78" y="334"/>
                      </a:lnTo>
                      <a:lnTo>
                        <a:pt x="93" y="334"/>
                      </a:lnTo>
                      <a:lnTo>
                        <a:pt x="93" y="333"/>
                      </a:lnTo>
                      <a:lnTo>
                        <a:pt x="94" y="332"/>
                      </a:lnTo>
                      <a:lnTo>
                        <a:pt x="96" y="331"/>
                      </a:lnTo>
                      <a:lnTo>
                        <a:pt x="97" y="331"/>
                      </a:lnTo>
                      <a:lnTo>
                        <a:pt x="99" y="331"/>
                      </a:lnTo>
                      <a:lnTo>
                        <a:pt x="101" y="332"/>
                      </a:lnTo>
                      <a:lnTo>
                        <a:pt x="101" y="333"/>
                      </a:lnTo>
                      <a:lnTo>
                        <a:pt x="102" y="334"/>
                      </a:lnTo>
                      <a:lnTo>
                        <a:pt x="121" y="334"/>
                      </a:lnTo>
                      <a:lnTo>
                        <a:pt x="121" y="333"/>
                      </a:lnTo>
                      <a:lnTo>
                        <a:pt x="122" y="332"/>
                      </a:lnTo>
                      <a:lnTo>
                        <a:pt x="123" y="331"/>
                      </a:lnTo>
                      <a:lnTo>
                        <a:pt x="125" y="331"/>
                      </a:lnTo>
                      <a:lnTo>
                        <a:pt x="127" y="331"/>
                      </a:lnTo>
                      <a:lnTo>
                        <a:pt x="128" y="332"/>
                      </a:lnTo>
                      <a:lnTo>
                        <a:pt x="129" y="333"/>
                      </a:lnTo>
                      <a:lnTo>
                        <a:pt x="129" y="334"/>
                      </a:lnTo>
                      <a:lnTo>
                        <a:pt x="186" y="334"/>
                      </a:lnTo>
                      <a:lnTo>
                        <a:pt x="187" y="333"/>
                      </a:lnTo>
                      <a:lnTo>
                        <a:pt x="188" y="332"/>
                      </a:lnTo>
                      <a:lnTo>
                        <a:pt x="189" y="331"/>
                      </a:lnTo>
                      <a:lnTo>
                        <a:pt x="191" y="331"/>
                      </a:lnTo>
                      <a:lnTo>
                        <a:pt x="193" y="331"/>
                      </a:lnTo>
                      <a:lnTo>
                        <a:pt x="194" y="332"/>
                      </a:lnTo>
                      <a:lnTo>
                        <a:pt x="195" y="333"/>
                      </a:lnTo>
                      <a:lnTo>
                        <a:pt x="195" y="334"/>
                      </a:lnTo>
                      <a:lnTo>
                        <a:pt x="213" y="334"/>
                      </a:lnTo>
                      <a:lnTo>
                        <a:pt x="214" y="333"/>
                      </a:lnTo>
                      <a:lnTo>
                        <a:pt x="215" y="332"/>
                      </a:lnTo>
                      <a:lnTo>
                        <a:pt x="216" y="331"/>
                      </a:lnTo>
                      <a:lnTo>
                        <a:pt x="218" y="331"/>
                      </a:lnTo>
                      <a:lnTo>
                        <a:pt x="220" y="331"/>
                      </a:lnTo>
                      <a:lnTo>
                        <a:pt x="221" y="332"/>
                      </a:lnTo>
                      <a:lnTo>
                        <a:pt x="222" y="333"/>
                      </a:lnTo>
                      <a:lnTo>
                        <a:pt x="222" y="334"/>
                      </a:lnTo>
                      <a:lnTo>
                        <a:pt x="337" y="334"/>
                      </a:lnTo>
                      <a:lnTo>
                        <a:pt x="337" y="333"/>
                      </a:lnTo>
                      <a:lnTo>
                        <a:pt x="338" y="332"/>
                      </a:lnTo>
                      <a:lnTo>
                        <a:pt x="339" y="331"/>
                      </a:lnTo>
                      <a:lnTo>
                        <a:pt x="341" y="331"/>
                      </a:lnTo>
                      <a:lnTo>
                        <a:pt x="343" y="331"/>
                      </a:lnTo>
                      <a:lnTo>
                        <a:pt x="344" y="332"/>
                      </a:lnTo>
                      <a:lnTo>
                        <a:pt x="345" y="333"/>
                      </a:lnTo>
                      <a:lnTo>
                        <a:pt x="346" y="334"/>
                      </a:lnTo>
                      <a:lnTo>
                        <a:pt x="358" y="334"/>
                      </a:lnTo>
                      <a:lnTo>
                        <a:pt x="359" y="333"/>
                      </a:lnTo>
                      <a:lnTo>
                        <a:pt x="360" y="332"/>
                      </a:lnTo>
                      <a:lnTo>
                        <a:pt x="361" y="331"/>
                      </a:lnTo>
                      <a:lnTo>
                        <a:pt x="363" y="331"/>
                      </a:lnTo>
                      <a:lnTo>
                        <a:pt x="365" y="331"/>
                      </a:lnTo>
                      <a:lnTo>
                        <a:pt x="366" y="332"/>
                      </a:lnTo>
                      <a:lnTo>
                        <a:pt x="367" y="333"/>
                      </a:lnTo>
                      <a:lnTo>
                        <a:pt x="367" y="334"/>
                      </a:lnTo>
                      <a:lnTo>
                        <a:pt x="420" y="334"/>
                      </a:lnTo>
                      <a:lnTo>
                        <a:pt x="421" y="333"/>
                      </a:lnTo>
                      <a:lnTo>
                        <a:pt x="422" y="332"/>
                      </a:lnTo>
                      <a:lnTo>
                        <a:pt x="423" y="331"/>
                      </a:lnTo>
                      <a:lnTo>
                        <a:pt x="425" y="331"/>
                      </a:lnTo>
                      <a:lnTo>
                        <a:pt x="426" y="331"/>
                      </a:lnTo>
                      <a:lnTo>
                        <a:pt x="428" y="332"/>
                      </a:lnTo>
                      <a:lnTo>
                        <a:pt x="429" y="333"/>
                      </a:lnTo>
                      <a:lnTo>
                        <a:pt x="429" y="334"/>
                      </a:lnTo>
                      <a:lnTo>
                        <a:pt x="444" y="334"/>
                      </a:lnTo>
                      <a:lnTo>
                        <a:pt x="444" y="333"/>
                      </a:lnTo>
                      <a:lnTo>
                        <a:pt x="445" y="332"/>
                      </a:lnTo>
                      <a:lnTo>
                        <a:pt x="447" y="331"/>
                      </a:lnTo>
                      <a:lnTo>
                        <a:pt x="448" y="331"/>
                      </a:lnTo>
                      <a:lnTo>
                        <a:pt x="450" y="331"/>
                      </a:lnTo>
                      <a:lnTo>
                        <a:pt x="452" y="332"/>
                      </a:lnTo>
                      <a:lnTo>
                        <a:pt x="453" y="333"/>
                      </a:lnTo>
                      <a:lnTo>
                        <a:pt x="453" y="334"/>
                      </a:lnTo>
                      <a:lnTo>
                        <a:pt x="459" y="334"/>
                      </a:lnTo>
                      <a:lnTo>
                        <a:pt x="459" y="333"/>
                      </a:lnTo>
                      <a:lnTo>
                        <a:pt x="460" y="332"/>
                      </a:lnTo>
                      <a:lnTo>
                        <a:pt x="462" y="331"/>
                      </a:lnTo>
                      <a:lnTo>
                        <a:pt x="463" y="331"/>
                      </a:lnTo>
                      <a:lnTo>
                        <a:pt x="465" y="331"/>
                      </a:lnTo>
                      <a:lnTo>
                        <a:pt x="467" y="332"/>
                      </a:lnTo>
                      <a:lnTo>
                        <a:pt x="468" y="333"/>
                      </a:lnTo>
                      <a:lnTo>
                        <a:pt x="468" y="334"/>
                      </a:lnTo>
                      <a:lnTo>
                        <a:pt x="477" y="334"/>
                      </a:lnTo>
                      <a:lnTo>
                        <a:pt x="477" y="333"/>
                      </a:lnTo>
                      <a:lnTo>
                        <a:pt x="478" y="332"/>
                      </a:lnTo>
                      <a:lnTo>
                        <a:pt x="480" y="331"/>
                      </a:lnTo>
                      <a:lnTo>
                        <a:pt x="482" y="331"/>
                      </a:lnTo>
                      <a:lnTo>
                        <a:pt x="483" y="331"/>
                      </a:lnTo>
                      <a:lnTo>
                        <a:pt x="485" y="332"/>
                      </a:lnTo>
                      <a:lnTo>
                        <a:pt x="486" y="333"/>
                      </a:lnTo>
                      <a:lnTo>
                        <a:pt x="486" y="334"/>
                      </a:lnTo>
                      <a:lnTo>
                        <a:pt x="504" y="334"/>
                      </a:lnTo>
                      <a:lnTo>
                        <a:pt x="505" y="333"/>
                      </a:lnTo>
                      <a:lnTo>
                        <a:pt x="506" y="332"/>
                      </a:lnTo>
                      <a:lnTo>
                        <a:pt x="507" y="331"/>
                      </a:lnTo>
                      <a:lnTo>
                        <a:pt x="509" y="331"/>
                      </a:lnTo>
                      <a:lnTo>
                        <a:pt x="511" y="331"/>
                      </a:lnTo>
                      <a:lnTo>
                        <a:pt x="512" y="332"/>
                      </a:lnTo>
                      <a:lnTo>
                        <a:pt x="513" y="333"/>
                      </a:lnTo>
                      <a:lnTo>
                        <a:pt x="513" y="334"/>
                      </a:lnTo>
                      <a:lnTo>
                        <a:pt x="525" y="334"/>
                      </a:lnTo>
                      <a:lnTo>
                        <a:pt x="525" y="333"/>
                      </a:lnTo>
                      <a:lnTo>
                        <a:pt x="526" y="332"/>
                      </a:lnTo>
                      <a:lnTo>
                        <a:pt x="527" y="331"/>
                      </a:lnTo>
                      <a:lnTo>
                        <a:pt x="529" y="331"/>
                      </a:lnTo>
                      <a:lnTo>
                        <a:pt x="531" y="331"/>
                      </a:lnTo>
                      <a:lnTo>
                        <a:pt x="532" y="332"/>
                      </a:lnTo>
                      <a:lnTo>
                        <a:pt x="533" y="333"/>
                      </a:lnTo>
                      <a:lnTo>
                        <a:pt x="534" y="334"/>
                      </a:lnTo>
                      <a:lnTo>
                        <a:pt x="605" y="334"/>
                      </a:lnTo>
                      <a:lnTo>
                        <a:pt x="605" y="333"/>
                      </a:lnTo>
                      <a:lnTo>
                        <a:pt x="606" y="332"/>
                      </a:lnTo>
                      <a:lnTo>
                        <a:pt x="607" y="331"/>
                      </a:lnTo>
                      <a:lnTo>
                        <a:pt x="609" y="331"/>
                      </a:lnTo>
                      <a:lnTo>
                        <a:pt x="611" y="331"/>
                      </a:lnTo>
                      <a:lnTo>
                        <a:pt x="612" y="332"/>
                      </a:lnTo>
                      <a:lnTo>
                        <a:pt x="613" y="333"/>
                      </a:lnTo>
                      <a:lnTo>
                        <a:pt x="614" y="334"/>
                      </a:lnTo>
                      <a:lnTo>
                        <a:pt x="650" y="334"/>
                      </a:lnTo>
                      <a:lnTo>
                        <a:pt x="651" y="333"/>
                      </a:lnTo>
                      <a:lnTo>
                        <a:pt x="652" y="332"/>
                      </a:lnTo>
                      <a:lnTo>
                        <a:pt x="653" y="331"/>
                      </a:lnTo>
                      <a:lnTo>
                        <a:pt x="655" y="331"/>
                      </a:lnTo>
                      <a:lnTo>
                        <a:pt x="657" y="331"/>
                      </a:lnTo>
                      <a:lnTo>
                        <a:pt x="658" y="332"/>
                      </a:lnTo>
                      <a:lnTo>
                        <a:pt x="659" y="333"/>
                      </a:lnTo>
                      <a:lnTo>
                        <a:pt x="659" y="334"/>
                      </a:lnTo>
                      <a:lnTo>
                        <a:pt x="660" y="334"/>
                      </a:lnTo>
                      <a:lnTo>
                        <a:pt x="660" y="333"/>
                      </a:lnTo>
                      <a:lnTo>
                        <a:pt x="661" y="332"/>
                      </a:lnTo>
                      <a:lnTo>
                        <a:pt x="663" y="331"/>
                      </a:lnTo>
                      <a:lnTo>
                        <a:pt x="664" y="331"/>
                      </a:lnTo>
                      <a:lnTo>
                        <a:pt x="666" y="331"/>
                      </a:lnTo>
                      <a:lnTo>
                        <a:pt x="667" y="332"/>
                      </a:lnTo>
                      <a:lnTo>
                        <a:pt x="668" y="333"/>
                      </a:lnTo>
                      <a:lnTo>
                        <a:pt x="669" y="334"/>
                      </a:lnTo>
                      <a:lnTo>
                        <a:pt x="678" y="334"/>
                      </a:lnTo>
                      <a:lnTo>
                        <a:pt x="678" y="332"/>
                      </a:lnTo>
                      <a:lnTo>
                        <a:pt x="679" y="331"/>
                      </a:lnTo>
                      <a:lnTo>
                        <a:pt x="681" y="330"/>
                      </a:lnTo>
                      <a:lnTo>
                        <a:pt x="682" y="329"/>
                      </a:lnTo>
                      <a:lnTo>
                        <a:pt x="684" y="329"/>
                      </a:lnTo>
                      <a:lnTo>
                        <a:pt x="686" y="329"/>
                      </a:lnTo>
                      <a:lnTo>
                        <a:pt x="688" y="330"/>
                      </a:lnTo>
                      <a:lnTo>
                        <a:pt x="690" y="331"/>
                      </a:lnTo>
                      <a:lnTo>
                        <a:pt x="691" y="332"/>
                      </a:lnTo>
                      <a:lnTo>
                        <a:pt x="691" y="334"/>
                      </a:lnTo>
                      <a:lnTo>
                        <a:pt x="697" y="334"/>
                      </a:lnTo>
                      <a:lnTo>
                        <a:pt x="697" y="333"/>
                      </a:lnTo>
                      <a:lnTo>
                        <a:pt x="698" y="332"/>
                      </a:lnTo>
                      <a:lnTo>
                        <a:pt x="699" y="331"/>
                      </a:lnTo>
                      <a:lnTo>
                        <a:pt x="701" y="331"/>
                      </a:lnTo>
                      <a:lnTo>
                        <a:pt x="703" y="331"/>
                      </a:lnTo>
                      <a:lnTo>
                        <a:pt x="704" y="332"/>
                      </a:lnTo>
                      <a:lnTo>
                        <a:pt x="705" y="333"/>
                      </a:lnTo>
                      <a:lnTo>
                        <a:pt x="705" y="334"/>
                      </a:lnTo>
                      <a:lnTo>
                        <a:pt x="710" y="334"/>
                      </a:lnTo>
                      <a:lnTo>
                        <a:pt x="710" y="333"/>
                      </a:lnTo>
                      <a:lnTo>
                        <a:pt x="711" y="332"/>
                      </a:lnTo>
                      <a:lnTo>
                        <a:pt x="713" y="331"/>
                      </a:lnTo>
                      <a:lnTo>
                        <a:pt x="715" y="331"/>
                      </a:lnTo>
                      <a:lnTo>
                        <a:pt x="716" y="331"/>
                      </a:lnTo>
                      <a:lnTo>
                        <a:pt x="718" y="332"/>
                      </a:lnTo>
                      <a:lnTo>
                        <a:pt x="719" y="333"/>
                      </a:lnTo>
                      <a:lnTo>
                        <a:pt x="719" y="334"/>
                      </a:lnTo>
                      <a:lnTo>
                        <a:pt x="734" y="334"/>
                      </a:lnTo>
                      <a:lnTo>
                        <a:pt x="734" y="332"/>
                      </a:lnTo>
                      <a:lnTo>
                        <a:pt x="735" y="331"/>
                      </a:lnTo>
                      <a:lnTo>
                        <a:pt x="736" y="329"/>
                      </a:lnTo>
                      <a:lnTo>
                        <a:pt x="738" y="328"/>
                      </a:lnTo>
                      <a:lnTo>
                        <a:pt x="740" y="328"/>
                      </a:lnTo>
                      <a:lnTo>
                        <a:pt x="742" y="328"/>
                      </a:lnTo>
                      <a:lnTo>
                        <a:pt x="745" y="328"/>
                      </a:lnTo>
                      <a:lnTo>
                        <a:pt x="747" y="329"/>
                      </a:lnTo>
                      <a:lnTo>
                        <a:pt x="748" y="331"/>
                      </a:lnTo>
                      <a:lnTo>
                        <a:pt x="749" y="332"/>
                      </a:lnTo>
                      <a:lnTo>
                        <a:pt x="749" y="334"/>
                      </a:lnTo>
                      <a:lnTo>
                        <a:pt x="754" y="334"/>
                      </a:lnTo>
                      <a:lnTo>
                        <a:pt x="754" y="332"/>
                      </a:lnTo>
                      <a:lnTo>
                        <a:pt x="755" y="331"/>
                      </a:lnTo>
                      <a:lnTo>
                        <a:pt x="757" y="329"/>
                      </a:lnTo>
                      <a:lnTo>
                        <a:pt x="759" y="328"/>
                      </a:lnTo>
                      <a:lnTo>
                        <a:pt x="761" y="328"/>
                      </a:lnTo>
                      <a:lnTo>
                        <a:pt x="763" y="328"/>
                      </a:lnTo>
                      <a:lnTo>
                        <a:pt x="765" y="328"/>
                      </a:lnTo>
                      <a:lnTo>
                        <a:pt x="767" y="329"/>
                      </a:lnTo>
                      <a:lnTo>
                        <a:pt x="768" y="331"/>
                      </a:lnTo>
                      <a:lnTo>
                        <a:pt x="769" y="332"/>
                      </a:lnTo>
                      <a:lnTo>
                        <a:pt x="770" y="334"/>
                      </a:lnTo>
                      <a:lnTo>
                        <a:pt x="788" y="334"/>
                      </a:lnTo>
                      <a:lnTo>
                        <a:pt x="788" y="333"/>
                      </a:lnTo>
                      <a:lnTo>
                        <a:pt x="789" y="332"/>
                      </a:lnTo>
                      <a:lnTo>
                        <a:pt x="790" y="331"/>
                      </a:lnTo>
                      <a:lnTo>
                        <a:pt x="792" y="331"/>
                      </a:lnTo>
                      <a:lnTo>
                        <a:pt x="794" y="331"/>
                      </a:lnTo>
                      <a:lnTo>
                        <a:pt x="795" y="332"/>
                      </a:lnTo>
                      <a:lnTo>
                        <a:pt x="796" y="333"/>
                      </a:lnTo>
                      <a:lnTo>
                        <a:pt x="797" y="334"/>
                      </a:lnTo>
                      <a:lnTo>
                        <a:pt x="811" y="334"/>
                      </a:lnTo>
                      <a:lnTo>
                        <a:pt x="811" y="332"/>
                      </a:lnTo>
                      <a:lnTo>
                        <a:pt x="812" y="331"/>
                      </a:lnTo>
                      <a:lnTo>
                        <a:pt x="814" y="329"/>
                      </a:lnTo>
                      <a:lnTo>
                        <a:pt x="815" y="328"/>
                      </a:lnTo>
                      <a:lnTo>
                        <a:pt x="818" y="328"/>
                      </a:lnTo>
                      <a:lnTo>
                        <a:pt x="820" y="328"/>
                      </a:lnTo>
                      <a:lnTo>
                        <a:pt x="822" y="328"/>
                      </a:lnTo>
                      <a:lnTo>
                        <a:pt x="824" y="329"/>
                      </a:lnTo>
                      <a:lnTo>
                        <a:pt x="825" y="331"/>
                      </a:lnTo>
                      <a:lnTo>
                        <a:pt x="826" y="332"/>
                      </a:lnTo>
                      <a:lnTo>
                        <a:pt x="827" y="334"/>
                      </a:lnTo>
                      <a:lnTo>
                        <a:pt x="855" y="334"/>
                      </a:lnTo>
                      <a:lnTo>
                        <a:pt x="856" y="333"/>
                      </a:lnTo>
                      <a:lnTo>
                        <a:pt x="857" y="332"/>
                      </a:lnTo>
                      <a:lnTo>
                        <a:pt x="858" y="331"/>
                      </a:lnTo>
                      <a:lnTo>
                        <a:pt x="860" y="331"/>
                      </a:lnTo>
                      <a:lnTo>
                        <a:pt x="861" y="331"/>
                      </a:lnTo>
                      <a:lnTo>
                        <a:pt x="863" y="332"/>
                      </a:lnTo>
                      <a:lnTo>
                        <a:pt x="864" y="333"/>
                      </a:lnTo>
                      <a:lnTo>
                        <a:pt x="864" y="334"/>
                      </a:lnTo>
                      <a:lnTo>
                        <a:pt x="913" y="334"/>
                      </a:lnTo>
                      <a:lnTo>
                        <a:pt x="913" y="333"/>
                      </a:lnTo>
                      <a:lnTo>
                        <a:pt x="914" y="332"/>
                      </a:lnTo>
                      <a:lnTo>
                        <a:pt x="915" y="331"/>
                      </a:lnTo>
                      <a:lnTo>
                        <a:pt x="917" y="331"/>
                      </a:lnTo>
                      <a:lnTo>
                        <a:pt x="919" y="331"/>
                      </a:lnTo>
                      <a:lnTo>
                        <a:pt x="920" y="332"/>
                      </a:lnTo>
                      <a:lnTo>
                        <a:pt x="921" y="333"/>
                      </a:lnTo>
                      <a:lnTo>
                        <a:pt x="922" y="334"/>
                      </a:lnTo>
                      <a:lnTo>
                        <a:pt x="933" y="334"/>
                      </a:lnTo>
                      <a:lnTo>
                        <a:pt x="933" y="333"/>
                      </a:lnTo>
                      <a:lnTo>
                        <a:pt x="934" y="332"/>
                      </a:lnTo>
                      <a:lnTo>
                        <a:pt x="936" y="331"/>
                      </a:lnTo>
                      <a:lnTo>
                        <a:pt x="937" y="331"/>
                      </a:lnTo>
                      <a:lnTo>
                        <a:pt x="939" y="331"/>
                      </a:lnTo>
                      <a:lnTo>
                        <a:pt x="941" y="332"/>
                      </a:lnTo>
                      <a:lnTo>
                        <a:pt x="942" y="333"/>
                      </a:lnTo>
                      <a:lnTo>
                        <a:pt x="942" y="334"/>
                      </a:lnTo>
                      <a:lnTo>
                        <a:pt x="953" y="334"/>
                      </a:lnTo>
                      <a:lnTo>
                        <a:pt x="954" y="333"/>
                      </a:lnTo>
                      <a:lnTo>
                        <a:pt x="954" y="332"/>
                      </a:lnTo>
                      <a:lnTo>
                        <a:pt x="956" y="331"/>
                      </a:lnTo>
                      <a:lnTo>
                        <a:pt x="958" y="331"/>
                      </a:lnTo>
                      <a:lnTo>
                        <a:pt x="959" y="331"/>
                      </a:lnTo>
                      <a:lnTo>
                        <a:pt x="961" y="332"/>
                      </a:lnTo>
                      <a:lnTo>
                        <a:pt x="962" y="333"/>
                      </a:lnTo>
                      <a:lnTo>
                        <a:pt x="962" y="334"/>
                      </a:lnTo>
                      <a:lnTo>
                        <a:pt x="977" y="334"/>
                      </a:lnTo>
                      <a:lnTo>
                        <a:pt x="977" y="333"/>
                      </a:lnTo>
                      <a:lnTo>
                        <a:pt x="978" y="332"/>
                      </a:lnTo>
                      <a:lnTo>
                        <a:pt x="980" y="331"/>
                      </a:lnTo>
                      <a:lnTo>
                        <a:pt x="981" y="331"/>
                      </a:lnTo>
                      <a:lnTo>
                        <a:pt x="983" y="331"/>
                      </a:lnTo>
                      <a:lnTo>
                        <a:pt x="984" y="332"/>
                      </a:lnTo>
                      <a:lnTo>
                        <a:pt x="985" y="333"/>
                      </a:lnTo>
                      <a:lnTo>
                        <a:pt x="986" y="334"/>
                      </a:lnTo>
                      <a:lnTo>
                        <a:pt x="998" y="334"/>
                      </a:lnTo>
                      <a:lnTo>
                        <a:pt x="999" y="333"/>
                      </a:lnTo>
                      <a:lnTo>
                        <a:pt x="1000" y="332"/>
                      </a:lnTo>
                      <a:lnTo>
                        <a:pt x="1001" y="331"/>
                      </a:lnTo>
                      <a:lnTo>
                        <a:pt x="1003" y="331"/>
                      </a:lnTo>
                      <a:lnTo>
                        <a:pt x="1005" y="331"/>
                      </a:lnTo>
                      <a:lnTo>
                        <a:pt x="1006" y="332"/>
                      </a:lnTo>
                      <a:lnTo>
                        <a:pt x="1007" y="333"/>
                      </a:lnTo>
                      <a:lnTo>
                        <a:pt x="1007" y="334"/>
                      </a:lnTo>
                      <a:lnTo>
                        <a:pt x="1071" y="334"/>
                      </a:lnTo>
                      <a:lnTo>
                        <a:pt x="1072" y="333"/>
                      </a:lnTo>
                      <a:lnTo>
                        <a:pt x="1073" y="332"/>
                      </a:lnTo>
                      <a:lnTo>
                        <a:pt x="1074" y="331"/>
                      </a:lnTo>
                      <a:lnTo>
                        <a:pt x="1076" y="331"/>
                      </a:lnTo>
                      <a:lnTo>
                        <a:pt x="1078" y="331"/>
                      </a:lnTo>
                      <a:lnTo>
                        <a:pt x="1079" y="332"/>
                      </a:lnTo>
                      <a:lnTo>
                        <a:pt x="1080" y="333"/>
                      </a:lnTo>
                      <a:lnTo>
                        <a:pt x="1080" y="334"/>
                      </a:lnTo>
                      <a:lnTo>
                        <a:pt x="1142" y="334"/>
                      </a:lnTo>
                      <a:lnTo>
                        <a:pt x="1142" y="332"/>
                      </a:lnTo>
                      <a:lnTo>
                        <a:pt x="1143" y="331"/>
                      </a:lnTo>
                      <a:lnTo>
                        <a:pt x="1145" y="329"/>
                      </a:lnTo>
                      <a:lnTo>
                        <a:pt x="1146" y="328"/>
                      </a:lnTo>
                      <a:lnTo>
                        <a:pt x="1148" y="327"/>
                      </a:lnTo>
                      <a:lnTo>
                        <a:pt x="1151" y="327"/>
                      </a:lnTo>
                      <a:lnTo>
                        <a:pt x="1153" y="327"/>
                      </a:lnTo>
                      <a:lnTo>
                        <a:pt x="1155" y="328"/>
                      </a:lnTo>
                      <a:lnTo>
                        <a:pt x="1157" y="329"/>
                      </a:lnTo>
                      <a:lnTo>
                        <a:pt x="1158" y="331"/>
                      </a:lnTo>
                      <a:lnTo>
                        <a:pt x="1159" y="332"/>
                      </a:lnTo>
                      <a:lnTo>
                        <a:pt x="1160" y="334"/>
                      </a:lnTo>
                      <a:lnTo>
                        <a:pt x="1199" y="334"/>
                      </a:lnTo>
                      <a:lnTo>
                        <a:pt x="1200" y="333"/>
                      </a:lnTo>
                      <a:lnTo>
                        <a:pt x="1201" y="332"/>
                      </a:lnTo>
                      <a:lnTo>
                        <a:pt x="1202" y="331"/>
                      </a:lnTo>
                      <a:lnTo>
                        <a:pt x="1204" y="331"/>
                      </a:lnTo>
                      <a:lnTo>
                        <a:pt x="1206" y="331"/>
                      </a:lnTo>
                      <a:lnTo>
                        <a:pt x="1207" y="332"/>
                      </a:lnTo>
                      <a:lnTo>
                        <a:pt x="1208" y="333"/>
                      </a:lnTo>
                      <a:lnTo>
                        <a:pt x="1208" y="334"/>
                      </a:lnTo>
                      <a:lnTo>
                        <a:pt x="1220" y="334"/>
                      </a:lnTo>
                      <a:lnTo>
                        <a:pt x="1220" y="333"/>
                      </a:lnTo>
                      <a:lnTo>
                        <a:pt x="1221" y="332"/>
                      </a:lnTo>
                      <a:lnTo>
                        <a:pt x="1223" y="331"/>
                      </a:lnTo>
                      <a:lnTo>
                        <a:pt x="1224" y="331"/>
                      </a:lnTo>
                      <a:lnTo>
                        <a:pt x="1226" y="331"/>
                      </a:lnTo>
                      <a:lnTo>
                        <a:pt x="1228" y="332"/>
                      </a:lnTo>
                      <a:lnTo>
                        <a:pt x="1229" y="333"/>
                      </a:lnTo>
                      <a:lnTo>
                        <a:pt x="1229" y="334"/>
                      </a:lnTo>
                      <a:lnTo>
                        <a:pt x="1242" y="334"/>
                      </a:lnTo>
                      <a:lnTo>
                        <a:pt x="1243" y="333"/>
                      </a:lnTo>
                      <a:lnTo>
                        <a:pt x="1244" y="332"/>
                      </a:lnTo>
                      <a:lnTo>
                        <a:pt x="1245" y="331"/>
                      </a:lnTo>
                      <a:lnTo>
                        <a:pt x="1247" y="331"/>
                      </a:lnTo>
                      <a:lnTo>
                        <a:pt x="1249" y="331"/>
                      </a:lnTo>
                      <a:lnTo>
                        <a:pt x="1250" y="332"/>
                      </a:lnTo>
                      <a:lnTo>
                        <a:pt x="1251" y="333"/>
                      </a:lnTo>
                      <a:lnTo>
                        <a:pt x="1252" y="334"/>
                      </a:lnTo>
                      <a:lnTo>
                        <a:pt x="1264" y="334"/>
                      </a:lnTo>
                      <a:lnTo>
                        <a:pt x="1264" y="333"/>
                      </a:lnTo>
                      <a:lnTo>
                        <a:pt x="1265" y="332"/>
                      </a:lnTo>
                      <a:lnTo>
                        <a:pt x="1267" y="331"/>
                      </a:lnTo>
                      <a:lnTo>
                        <a:pt x="1268" y="331"/>
                      </a:lnTo>
                      <a:lnTo>
                        <a:pt x="1270" y="331"/>
                      </a:lnTo>
                      <a:lnTo>
                        <a:pt x="1271" y="332"/>
                      </a:lnTo>
                      <a:lnTo>
                        <a:pt x="1273" y="333"/>
                      </a:lnTo>
                      <a:lnTo>
                        <a:pt x="1273" y="334"/>
                      </a:lnTo>
                      <a:lnTo>
                        <a:pt x="1282" y="334"/>
                      </a:lnTo>
                      <a:lnTo>
                        <a:pt x="1283" y="333"/>
                      </a:lnTo>
                      <a:lnTo>
                        <a:pt x="1284" y="332"/>
                      </a:lnTo>
                      <a:lnTo>
                        <a:pt x="1285" y="331"/>
                      </a:lnTo>
                      <a:lnTo>
                        <a:pt x="1287" y="331"/>
                      </a:lnTo>
                      <a:lnTo>
                        <a:pt x="1289" y="331"/>
                      </a:lnTo>
                      <a:lnTo>
                        <a:pt x="1290" y="332"/>
                      </a:lnTo>
                      <a:lnTo>
                        <a:pt x="1291" y="333"/>
                      </a:lnTo>
                      <a:lnTo>
                        <a:pt x="1291" y="334"/>
                      </a:lnTo>
                      <a:lnTo>
                        <a:pt x="1299" y="334"/>
                      </a:lnTo>
                      <a:lnTo>
                        <a:pt x="1299" y="3"/>
                      </a:lnTo>
                      <a:lnTo>
                        <a:pt x="1317" y="3"/>
                      </a:lnTo>
                      <a:lnTo>
                        <a:pt x="1317" y="2"/>
                      </a:lnTo>
                      <a:lnTo>
                        <a:pt x="1318" y="1"/>
                      </a:lnTo>
                      <a:lnTo>
                        <a:pt x="1320" y="0"/>
                      </a:lnTo>
                      <a:lnTo>
                        <a:pt x="1321" y="0"/>
                      </a:lnTo>
                      <a:lnTo>
                        <a:pt x="1323" y="0"/>
                      </a:lnTo>
                      <a:lnTo>
                        <a:pt x="1324" y="1"/>
                      </a:lnTo>
                      <a:lnTo>
                        <a:pt x="1325" y="2"/>
                      </a:lnTo>
                      <a:lnTo>
                        <a:pt x="1326" y="3"/>
                      </a:lnTo>
                      <a:lnTo>
                        <a:pt x="1561" y="3"/>
                      </a:lnTo>
                      <a:lnTo>
                        <a:pt x="1561" y="2"/>
                      </a:lnTo>
                      <a:lnTo>
                        <a:pt x="1562" y="1"/>
                      </a:lnTo>
                      <a:lnTo>
                        <a:pt x="1563" y="0"/>
                      </a:lnTo>
                      <a:lnTo>
                        <a:pt x="1565" y="0"/>
                      </a:lnTo>
                      <a:lnTo>
                        <a:pt x="1567" y="0"/>
                      </a:lnTo>
                      <a:lnTo>
                        <a:pt x="1568" y="1"/>
                      </a:lnTo>
                      <a:lnTo>
                        <a:pt x="1569" y="2"/>
                      </a:lnTo>
                      <a:lnTo>
                        <a:pt x="1570" y="3"/>
                      </a:lnTo>
                      <a:lnTo>
                        <a:pt x="1574" y="3"/>
                      </a:lnTo>
                      <a:lnTo>
                        <a:pt x="1575" y="2"/>
                      </a:lnTo>
                      <a:lnTo>
                        <a:pt x="1576" y="1"/>
                      </a:lnTo>
                      <a:lnTo>
                        <a:pt x="1577" y="0"/>
                      </a:lnTo>
                      <a:lnTo>
                        <a:pt x="1579" y="0"/>
                      </a:lnTo>
                      <a:lnTo>
                        <a:pt x="1580" y="0"/>
                      </a:lnTo>
                      <a:lnTo>
                        <a:pt x="1582" y="1"/>
                      </a:lnTo>
                      <a:lnTo>
                        <a:pt x="1583" y="2"/>
                      </a:lnTo>
                      <a:lnTo>
                        <a:pt x="1583" y="3"/>
                      </a:lnTo>
                      <a:lnTo>
                        <a:pt x="1592"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5401800" y="266004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35" name=""/>
                <p:cNvSpPr/>
                <p:nvPr/>
              </p:nvSpPr>
              <p:spPr>
                <a:xfrm>
                  <a:off x="4223520" y="3306240"/>
                  <a:ext cx="595800" cy="289800"/>
                </a:xfrm>
                <a:custGeom>
                  <a:avLst/>
                  <a:gdLst/>
                  <a:ahLst/>
                  <a:rect l="l" t="t" r="r" b="b"/>
                  <a:pathLst>
                    <a:path w="563" h="217">
                      <a:moveTo>
                        <a:pt x="0" y="217"/>
                      </a:moveTo>
                      <a:lnTo>
                        <a:pt x="0" y="12"/>
                      </a:lnTo>
                      <a:lnTo>
                        <a:pt x="7" y="12"/>
                      </a:lnTo>
                      <a:lnTo>
                        <a:pt x="7" y="11"/>
                      </a:lnTo>
                      <a:lnTo>
                        <a:pt x="8" y="9"/>
                      </a:lnTo>
                      <a:lnTo>
                        <a:pt x="9" y="9"/>
                      </a:lnTo>
                      <a:lnTo>
                        <a:pt x="11" y="8"/>
                      </a:lnTo>
                      <a:lnTo>
                        <a:pt x="13" y="9"/>
                      </a:lnTo>
                      <a:lnTo>
                        <a:pt x="14" y="9"/>
                      </a:lnTo>
                      <a:lnTo>
                        <a:pt x="15" y="11"/>
                      </a:lnTo>
                      <a:lnTo>
                        <a:pt x="16" y="12"/>
                      </a:lnTo>
                      <a:lnTo>
                        <a:pt x="35" y="12"/>
                      </a:lnTo>
                      <a:lnTo>
                        <a:pt x="35" y="11"/>
                      </a:lnTo>
                      <a:lnTo>
                        <a:pt x="36" y="9"/>
                      </a:lnTo>
                      <a:lnTo>
                        <a:pt x="38" y="9"/>
                      </a:lnTo>
                      <a:lnTo>
                        <a:pt x="39" y="8"/>
                      </a:lnTo>
                      <a:lnTo>
                        <a:pt x="41" y="9"/>
                      </a:lnTo>
                      <a:lnTo>
                        <a:pt x="42" y="9"/>
                      </a:lnTo>
                      <a:lnTo>
                        <a:pt x="43" y="11"/>
                      </a:lnTo>
                      <a:lnTo>
                        <a:pt x="44" y="12"/>
                      </a:lnTo>
                      <a:lnTo>
                        <a:pt x="67" y="12"/>
                      </a:lnTo>
                      <a:lnTo>
                        <a:pt x="68" y="11"/>
                      </a:lnTo>
                      <a:lnTo>
                        <a:pt x="69" y="9"/>
                      </a:lnTo>
                      <a:lnTo>
                        <a:pt x="70" y="9"/>
                      </a:lnTo>
                      <a:lnTo>
                        <a:pt x="72" y="8"/>
                      </a:lnTo>
                      <a:lnTo>
                        <a:pt x="74" y="9"/>
                      </a:lnTo>
                      <a:lnTo>
                        <a:pt x="75" y="9"/>
                      </a:lnTo>
                      <a:lnTo>
                        <a:pt x="76" y="11"/>
                      </a:lnTo>
                      <a:lnTo>
                        <a:pt x="76" y="12"/>
                      </a:lnTo>
                      <a:lnTo>
                        <a:pt x="97" y="12"/>
                      </a:lnTo>
                      <a:lnTo>
                        <a:pt x="98" y="11"/>
                      </a:lnTo>
                      <a:lnTo>
                        <a:pt x="99" y="9"/>
                      </a:lnTo>
                      <a:lnTo>
                        <a:pt x="100" y="9"/>
                      </a:lnTo>
                      <a:lnTo>
                        <a:pt x="102" y="8"/>
                      </a:lnTo>
                      <a:lnTo>
                        <a:pt x="103" y="9"/>
                      </a:lnTo>
                      <a:lnTo>
                        <a:pt x="105" y="9"/>
                      </a:lnTo>
                      <a:lnTo>
                        <a:pt x="106" y="11"/>
                      </a:lnTo>
                      <a:lnTo>
                        <a:pt x="106" y="12"/>
                      </a:lnTo>
                      <a:lnTo>
                        <a:pt x="138" y="12"/>
                      </a:lnTo>
                      <a:lnTo>
                        <a:pt x="138" y="10"/>
                      </a:lnTo>
                      <a:lnTo>
                        <a:pt x="139" y="9"/>
                      </a:lnTo>
                      <a:lnTo>
                        <a:pt x="140" y="7"/>
                      </a:lnTo>
                      <a:lnTo>
                        <a:pt x="142" y="6"/>
                      </a:lnTo>
                      <a:lnTo>
                        <a:pt x="144" y="6"/>
                      </a:lnTo>
                      <a:lnTo>
                        <a:pt x="147" y="6"/>
                      </a:lnTo>
                      <a:lnTo>
                        <a:pt x="149" y="6"/>
                      </a:lnTo>
                      <a:lnTo>
                        <a:pt x="151" y="7"/>
                      </a:lnTo>
                      <a:lnTo>
                        <a:pt x="152" y="9"/>
                      </a:lnTo>
                      <a:lnTo>
                        <a:pt x="153" y="10"/>
                      </a:lnTo>
                      <a:lnTo>
                        <a:pt x="154" y="12"/>
                      </a:lnTo>
                      <a:lnTo>
                        <a:pt x="201" y="12"/>
                      </a:lnTo>
                      <a:lnTo>
                        <a:pt x="202" y="11"/>
                      </a:lnTo>
                      <a:lnTo>
                        <a:pt x="203" y="9"/>
                      </a:lnTo>
                      <a:lnTo>
                        <a:pt x="204" y="9"/>
                      </a:lnTo>
                      <a:lnTo>
                        <a:pt x="206" y="8"/>
                      </a:lnTo>
                      <a:lnTo>
                        <a:pt x="207" y="9"/>
                      </a:lnTo>
                      <a:lnTo>
                        <a:pt x="209" y="9"/>
                      </a:lnTo>
                      <a:lnTo>
                        <a:pt x="210" y="11"/>
                      </a:lnTo>
                      <a:lnTo>
                        <a:pt x="210" y="12"/>
                      </a:lnTo>
                      <a:lnTo>
                        <a:pt x="218" y="12"/>
                      </a:lnTo>
                      <a:lnTo>
                        <a:pt x="219" y="11"/>
                      </a:lnTo>
                      <a:lnTo>
                        <a:pt x="220" y="9"/>
                      </a:lnTo>
                      <a:lnTo>
                        <a:pt x="221" y="9"/>
                      </a:lnTo>
                      <a:lnTo>
                        <a:pt x="223" y="8"/>
                      </a:lnTo>
                      <a:lnTo>
                        <a:pt x="225" y="9"/>
                      </a:lnTo>
                      <a:lnTo>
                        <a:pt x="226" y="9"/>
                      </a:lnTo>
                      <a:lnTo>
                        <a:pt x="227" y="11"/>
                      </a:lnTo>
                      <a:lnTo>
                        <a:pt x="227" y="12"/>
                      </a:lnTo>
                      <a:lnTo>
                        <a:pt x="275" y="12"/>
                      </a:lnTo>
                      <a:lnTo>
                        <a:pt x="276" y="11"/>
                      </a:lnTo>
                      <a:lnTo>
                        <a:pt x="277" y="9"/>
                      </a:lnTo>
                      <a:lnTo>
                        <a:pt x="278" y="9"/>
                      </a:lnTo>
                      <a:lnTo>
                        <a:pt x="280" y="8"/>
                      </a:lnTo>
                      <a:lnTo>
                        <a:pt x="282" y="9"/>
                      </a:lnTo>
                      <a:lnTo>
                        <a:pt x="283" y="9"/>
                      </a:lnTo>
                      <a:lnTo>
                        <a:pt x="284" y="11"/>
                      </a:lnTo>
                      <a:lnTo>
                        <a:pt x="285" y="12"/>
                      </a:lnTo>
                      <a:lnTo>
                        <a:pt x="319" y="12"/>
                      </a:lnTo>
                      <a:lnTo>
                        <a:pt x="319" y="11"/>
                      </a:lnTo>
                      <a:lnTo>
                        <a:pt x="320" y="9"/>
                      </a:lnTo>
                      <a:lnTo>
                        <a:pt x="322" y="9"/>
                      </a:lnTo>
                      <a:lnTo>
                        <a:pt x="323" y="8"/>
                      </a:lnTo>
                      <a:lnTo>
                        <a:pt x="325" y="9"/>
                      </a:lnTo>
                      <a:lnTo>
                        <a:pt x="327" y="9"/>
                      </a:lnTo>
                      <a:lnTo>
                        <a:pt x="328" y="11"/>
                      </a:lnTo>
                      <a:lnTo>
                        <a:pt x="328" y="12"/>
                      </a:lnTo>
                      <a:lnTo>
                        <a:pt x="342" y="12"/>
                      </a:lnTo>
                      <a:lnTo>
                        <a:pt x="343" y="11"/>
                      </a:lnTo>
                      <a:lnTo>
                        <a:pt x="343" y="9"/>
                      </a:lnTo>
                      <a:lnTo>
                        <a:pt x="345" y="9"/>
                      </a:lnTo>
                      <a:lnTo>
                        <a:pt x="347" y="8"/>
                      </a:lnTo>
                      <a:lnTo>
                        <a:pt x="348" y="9"/>
                      </a:lnTo>
                      <a:lnTo>
                        <a:pt x="350" y="9"/>
                      </a:lnTo>
                      <a:lnTo>
                        <a:pt x="351" y="11"/>
                      </a:lnTo>
                      <a:lnTo>
                        <a:pt x="351" y="12"/>
                      </a:lnTo>
                      <a:lnTo>
                        <a:pt x="356" y="12"/>
                      </a:lnTo>
                      <a:lnTo>
                        <a:pt x="356" y="11"/>
                      </a:lnTo>
                      <a:lnTo>
                        <a:pt x="357" y="9"/>
                      </a:lnTo>
                      <a:lnTo>
                        <a:pt x="358" y="9"/>
                      </a:lnTo>
                      <a:lnTo>
                        <a:pt x="360" y="8"/>
                      </a:lnTo>
                      <a:lnTo>
                        <a:pt x="362" y="9"/>
                      </a:lnTo>
                      <a:lnTo>
                        <a:pt x="363" y="9"/>
                      </a:lnTo>
                      <a:lnTo>
                        <a:pt x="364" y="11"/>
                      </a:lnTo>
                      <a:lnTo>
                        <a:pt x="364" y="12"/>
                      </a:lnTo>
                      <a:lnTo>
                        <a:pt x="375" y="12"/>
                      </a:lnTo>
                      <a:lnTo>
                        <a:pt x="375" y="10"/>
                      </a:lnTo>
                      <a:lnTo>
                        <a:pt x="376" y="8"/>
                      </a:lnTo>
                      <a:lnTo>
                        <a:pt x="378" y="7"/>
                      </a:lnTo>
                      <a:lnTo>
                        <a:pt x="380" y="6"/>
                      </a:lnTo>
                      <a:lnTo>
                        <a:pt x="382" y="6"/>
                      </a:lnTo>
                      <a:lnTo>
                        <a:pt x="384" y="6"/>
                      </a:lnTo>
                      <a:lnTo>
                        <a:pt x="387" y="6"/>
                      </a:lnTo>
                      <a:lnTo>
                        <a:pt x="389" y="7"/>
                      </a:lnTo>
                      <a:lnTo>
                        <a:pt x="390" y="8"/>
                      </a:lnTo>
                      <a:lnTo>
                        <a:pt x="391" y="10"/>
                      </a:lnTo>
                      <a:lnTo>
                        <a:pt x="391" y="12"/>
                      </a:lnTo>
                      <a:lnTo>
                        <a:pt x="398" y="12"/>
                      </a:lnTo>
                      <a:lnTo>
                        <a:pt x="398" y="11"/>
                      </a:lnTo>
                      <a:lnTo>
                        <a:pt x="399" y="9"/>
                      </a:lnTo>
                      <a:lnTo>
                        <a:pt x="401" y="9"/>
                      </a:lnTo>
                      <a:lnTo>
                        <a:pt x="402" y="8"/>
                      </a:lnTo>
                      <a:lnTo>
                        <a:pt x="404" y="9"/>
                      </a:lnTo>
                      <a:lnTo>
                        <a:pt x="406" y="9"/>
                      </a:lnTo>
                      <a:lnTo>
                        <a:pt x="406" y="11"/>
                      </a:lnTo>
                      <a:lnTo>
                        <a:pt x="407" y="12"/>
                      </a:lnTo>
                      <a:lnTo>
                        <a:pt x="407" y="12"/>
                      </a:lnTo>
                      <a:lnTo>
                        <a:pt x="408" y="10"/>
                      </a:lnTo>
                      <a:lnTo>
                        <a:pt x="409" y="8"/>
                      </a:lnTo>
                      <a:lnTo>
                        <a:pt x="410" y="7"/>
                      </a:lnTo>
                      <a:lnTo>
                        <a:pt x="412" y="6"/>
                      </a:lnTo>
                      <a:lnTo>
                        <a:pt x="414" y="6"/>
                      </a:lnTo>
                      <a:lnTo>
                        <a:pt x="417" y="6"/>
                      </a:lnTo>
                      <a:lnTo>
                        <a:pt x="419" y="6"/>
                      </a:lnTo>
                      <a:lnTo>
                        <a:pt x="421" y="7"/>
                      </a:lnTo>
                      <a:lnTo>
                        <a:pt x="422" y="8"/>
                      </a:lnTo>
                      <a:lnTo>
                        <a:pt x="423" y="10"/>
                      </a:lnTo>
                      <a:lnTo>
                        <a:pt x="424" y="12"/>
                      </a:lnTo>
                      <a:lnTo>
                        <a:pt x="425" y="12"/>
                      </a:lnTo>
                      <a:lnTo>
                        <a:pt x="426" y="11"/>
                      </a:lnTo>
                      <a:lnTo>
                        <a:pt x="427" y="9"/>
                      </a:lnTo>
                      <a:lnTo>
                        <a:pt x="428" y="9"/>
                      </a:lnTo>
                      <a:lnTo>
                        <a:pt x="430" y="8"/>
                      </a:lnTo>
                      <a:lnTo>
                        <a:pt x="432" y="9"/>
                      </a:lnTo>
                      <a:lnTo>
                        <a:pt x="433" y="9"/>
                      </a:lnTo>
                      <a:lnTo>
                        <a:pt x="434" y="11"/>
                      </a:lnTo>
                      <a:lnTo>
                        <a:pt x="434" y="12"/>
                      </a:lnTo>
                      <a:lnTo>
                        <a:pt x="445" y="12"/>
                      </a:lnTo>
                      <a:lnTo>
                        <a:pt x="446" y="11"/>
                      </a:lnTo>
                      <a:lnTo>
                        <a:pt x="446" y="9"/>
                      </a:lnTo>
                      <a:lnTo>
                        <a:pt x="448" y="9"/>
                      </a:lnTo>
                      <a:lnTo>
                        <a:pt x="450" y="8"/>
                      </a:lnTo>
                      <a:lnTo>
                        <a:pt x="451" y="9"/>
                      </a:lnTo>
                      <a:lnTo>
                        <a:pt x="453" y="9"/>
                      </a:lnTo>
                      <a:lnTo>
                        <a:pt x="454" y="11"/>
                      </a:lnTo>
                      <a:lnTo>
                        <a:pt x="454" y="12"/>
                      </a:lnTo>
                      <a:lnTo>
                        <a:pt x="455" y="12"/>
                      </a:lnTo>
                      <a:lnTo>
                        <a:pt x="456" y="11"/>
                      </a:lnTo>
                      <a:lnTo>
                        <a:pt x="457" y="9"/>
                      </a:lnTo>
                      <a:lnTo>
                        <a:pt x="458" y="9"/>
                      </a:lnTo>
                      <a:lnTo>
                        <a:pt x="460" y="8"/>
                      </a:lnTo>
                      <a:lnTo>
                        <a:pt x="461" y="9"/>
                      </a:lnTo>
                      <a:lnTo>
                        <a:pt x="463" y="9"/>
                      </a:lnTo>
                      <a:lnTo>
                        <a:pt x="464" y="11"/>
                      </a:lnTo>
                      <a:lnTo>
                        <a:pt x="464" y="12"/>
                      </a:lnTo>
                      <a:lnTo>
                        <a:pt x="469" y="12"/>
                      </a:lnTo>
                      <a:lnTo>
                        <a:pt x="469" y="11"/>
                      </a:lnTo>
                      <a:lnTo>
                        <a:pt x="470" y="9"/>
                      </a:lnTo>
                      <a:lnTo>
                        <a:pt x="472" y="9"/>
                      </a:lnTo>
                      <a:lnTo>
                        <a:pt x="473" y="8"/>
                      </a:lnTo>
                      <a:lnTo>
                        <a:pt x="475" y="9"/>
                      </a:lnTo>
                      <a:lnTo>
                        <a:pt x="477" y="9"/>
                      </a:lnTo>
                      <a:lnTo>
                        <a:pt x="477" y="11"/>
                      </a:lnTo>
                      <a:lnTo>
                        <a:pt x="478" y="12"/>
                      </a:lnTo>
                      <a:lnTo>
                        <a:pt x="499" y="12"/>
                      </a:lnTo>
                      <a:lnTo>
                        <a:pt x="500" y="11"/>
                      </a:lnTo>
                      <a:lnTo>
                        <a:pt x="500" y="9"/>
                      </a:lnTo>
                      <a:lnTo>
                        <a:pt x="502" y="9"/>
                      </a:lnTo>
                      <a:lnTo>
                        <a:pt x="504" y="8"/>
                      </a:lnTo>
                      <a:lnTo>
                        <a:pt x="505" y="9"/>
                      </a:lnTo>
                      <a:lnTo>
                        <a:pt x="507" y="9"/>
                      </a:lnTo>
                      <a:lnTo>
                        <a:pt x="508" y="11"/>
                      </a:lnTo>
                      <a:lnTo>
                        <a:pt x="508" y="12"/>
                      </a:lnTo>
                      <a:lnTo>
                        <a:pt x="521" y="12"/>
                      </a:lnTo>
                      <a:lnTo>
                        <a:pt x="521" y="11"/>
                      </a:lnTo>
                      <a:lnTo>
                        <a:pt x="522" y="9"/>
                      </a:lnTo>
                      <a:lnTo>
                        <a:pt x="524" y="9"/>
                      </a:lnTo>
                      <a:lnTo>
                        <a:pt x="526" y="8"/>
                      </a:lnTo>
                      <a:lnTo>
                        <a:pt x="527" y="9"/>
                      </a:lnTo>
                      <a:lnTo>
                        <a:pt x="529" y="9"/>
                      </a:lnTo>
                      <a:lnTo>
                        <a:pt x="530" y="11"/>
                      </a:lnTo>
                      <a:lnTo>
                        <a:pt x="530" y="12"/>
                      </a:lnTo>
                      <a:lnTo>
                        <a:pt x="542" y="12"/>
                      </a:lnTo>
                      <a:lnTo>
                        <a:pt x="542" y="3"/>
                      </a:lnTo>
                      <a:lnTo>
                        <a:pt x="551" y="3"/>
                      </a:lnTo>
                      <a:lnTo>
                        <a:pt x="552" y="2"/>
                      </a:lnTo>
                      <a:lnTo>
                        <a:pt x="553" y="1"/>
                      </a:lnTo>
                      <a:lnTo>
                        <a:pt x="554" y="0"/>
                      </a:lnTo>
                      <a:lnTo>
                        <a:pt x="556" y="0"/>
                      </a:lnTo>
                      <a:lnTo>
                        <a:pt x="558" y="0"/>
                      </a:lnTo>
                      <a:lnTo>
                        <a:pt x="559" y="1"/>
                      </a:lnTo>
                      <a:lnTo>
                        <a:pt x="560" y="2"/>
                      </a:lnTo>
                      <a:lnTo>
                        <a:pt x="560" y="3"/>
                      </a:lnTo>
                      <a:lnTo>
                        <a:pt x="563"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4817520" y="3305160"/>
                  <a:ext cx="13680" cy="11880"/>
                </a:xfrm>
                <a:custGeom>
                  <a:avLst/>
                  <a:gdLst/>
                  <a:ahLst/>
                  <a:rect l="l" t="t" r="r" b="b"/>
                  <a:pathLst>
                    <a:path w="13" h="9">
                      <a:moveTo>
                        <a:pt x="2" y="0"/>
                      </a:moveTo>
                      <a:lnTo>
                        <a:pt x="13"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37" name=""/>
                <p:cNvSpPr/>
                <p:nvPr/>
              </p:nvSpPr>
              <p:spPr>
                <a:xfrm>
                  <a:off x="4102920" y="3962160"/>
                  <a:ext cx="172440" cy="118800"/>
                </a:xfrm>
                <a:prstGeom prst="rect">
                  <a:avLst/>
                </a:prstGeom>
                <a:blipFill rotWithShape="0">
                  <a:blip r:embed="rId10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8" name=""/>
                <p:cNvSpPr/>
                <p:nvPr/>
              </p:nvSpPr>
              <p:spPr>
                <a:xfrm>
                  <a:off x="4127400" y="4002480"/>
                  <a:ext cx="93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 </a:t>
                  </a:r>
                  <a:r>
                    <a:rPr b="1" lang="en-US" sz="300" spc="-1" strike="noStrike">
                      <a:solidFill>
                        <a:srgbClr val="000000"/>
                      </a:solidFill>
                      <a:latin typeface="Arial"/>
                      <a:ea typeface="Arial"/>
                    </a:rPr>
                    <a:t>DRK</a:t>
                  </a:r>
                  <a:endParaRPr b="0" lang="en-US" sz="300" spc="-1" strike="noStrike">
                    <a:solidFill>
                      <a:srgbClr val="ffffff"/>
                    </a:solidFill>
                    <a:latin typeface="Arial"/>
                  </a:endParaRPr>
                </a:p>
              </p:txBody>
            </p:sp>
            <p:sp>
              <p:nvSpPr>
                <p:cNvPr id="1239" name=""/>
                <p:cNvSpPr/>
                <p:nvPr/>
              </p:nvSpPr>
              <p:spPr>
                <a:xfrm>
                  <a:off x="3716280" y="4035600"/>
                  <a:ext cx="254880" cy="69120"/>
                </a:xfrm>
                <a:prstGeom prst="rect">
                  <a:avLst/>
                </a:prstGeom>
                <a:blipFill rotWithShape="0">
                  <a:blip r:embed="rId108"/>
                  <a:srcRect/>
                  <a:tile tx="0" ty="0" sx="100000" sy="100000" algn="ctr"/>
                </a:blipFill>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40" name=""/>
                <p:cNvSpPr/>
                <p:nvPr/>
              </p:nvSpPr>
              <p:spPr>
                <a:xfrm>
                  <a:off x="3804840" y="4054320"/>
                  <a:ext cx="109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BBX</a:t>
                  </a:r>
                  <a:endParaRPr b="0" lang="en-US" sz="300" spc="-1" strike="noStrike">
                    <a:solidFill>
                      <a:srgbClr val="ffffff"/>
                    </a:solidFill>
                    <a:latin typeface="Arial"/>
                  </a:endParaRPr>
                </a:p>
              </p:txBody>
            </p:sp>
            <p:sp>
              <p:nvSpPr>
                <p:cNvPr id="1241" name=""/>
                <p:cNvSpPr/>
                <p:nvPr/>
              </p:nvSpPr>
              <p:spPr>
                <a:xfrm>
                  <a:off x="4653360" y="3282480"/>
                  <a:ext cx="1438560" cy="339120"/>
                </a:xfrm>
                <a:custGeom>
                  <a:avLst/>
                  <a:gdLst/>
                  <a:ahLst/>
                  <a:rect l="l" t="t" r="r" b="b"/>
                  <a:pathLst>
                    <a:path w="1359" h="254">
                      <a:moveTo>
                        <a:pt x="1359" y="9"/>
                      </a:moveTo>
                      <a:lnTo>
                        <a:pt x="1357" y="9"/>
                      </a:lnTo>
                      <a:lnTo>
                        <a:pt x="1356" y="8"/>
                      </a:lnTo>
                      <a:lnTo>
                        <a:pt x="1355" y="7"/>
                      </a:lnTo>
                      <a:lnTo>
                        <a:pt x="1354" y="6"/>
                      </a:lnTo>
                      <a:lnTo>
                        <a:pt x="1352" y="6"/>
                      </a:lnTo>
                      <a:lnTo>
                        <a:pt x="1351" y="6"/>
                      </a:lnTo>
                      <a:lnTo>
                        <a:pt x="1349" y="7"/>
                      </a:lnTo>
                      <a:lnTo>
                        <a:pt x="1348" y="8"/>
                      </a:lnTo>
                      <a:lnTo>
                        <a:pt x="1348" y="9"/>
                      </a:lnTo>
                      <a:lnTo>
                        <a:pt x="1333" y="9"/>
                      </a:lnTo>
                      <a:lnTo>
                        <a:pt x="1332" y="7"/>
                      </a:lnTo>
                      <a:lnTo>
                        <a:pt x="1331" y="5"/>
                      </a:lnTo>
                      <a:lnTo>
                        <a:pt x="1330" y="4"/>
                      </a:lnTo>
                      <a:lnTo>
                        <a:pt x="1327" y="3"/>
                      </a:lnTo>
                      <a:lnTo>
                        <a:pt x="1325" y="2"/>
                      </a:lnTo>
                      <a:lnTo>
                        <a:pt x="1323" y="2"/>
                      </a:lnTo>
                      <a:lnTo>
                        <a:pt x="1320" y="3"/>
                      </a:lnTo>
                      <a:lnTo>
                        <a:pt x="1318" y="4"/>
                      </a:lnTo>
                      <a:lnTo>
                        <a:pt x="1316" y="5"/>
                      </a:lnTo>
                      <a:lnTo>
                        <a:pt x="1315" y="7"/>
                      </a:lnTo>
                      <a:lnTo>
                        <a:pt x="1315" y="9"/>
                      </a:lnTo>
                      <a:lnTo>
                        <a:pt x="1308" y="9"/>
                      </a:lnTo>
                      <a:lnTo>
                        <a:pt x="1308" y="8"/>
                      </a:lnTo>
                      <a:lnTo>
                        <a:pt x="1307" y="7"/>
                      </a:lnTo>
                      <a:lnTo>
                        <a:pt x="1306" y="6"/>
                      </a:lnTo>
                      <a:lnTo>
                        <a:pt x="1304" y="6"/>
                      </a:lnTo>
                      <a:lnTo>
                        <a:pt x="1302" y="6"/>
                      </a:lnTo>
                      <a:lnTo>
                        <a:pt x="1301" y="7"/>
                      </a:lnTo>
                      <a:lnTo>
                        <a:pt x="1300" y="8"/>
                      </a:lnTo>
                      <a:lnTo>
                        <a:pt x="1299" y="9"/>
                      </a:lnTo>
                      <a:lnTo>
                        <a:pt x="1292" y="9"/>
                      </a:lnTo>
                      <a:lnTo>
                        <a:pt x="1292" y="8"/>
                      </a:lnTo>
                      <a:lnTo>
                        <a:pt x="1291" y="7"/>
                      </a:lnTo>
                      <a:lnTo>
                        <a:pt x="1289" y="6"/>
                      </a:lnTo>
                      <a:lnTo>
                        <a:pt x="1288" y="6"/>
                      </a:lnTo>
                      <a:lnTo>
                        <a:pt x="1286" y="6"/>
                      </a:lnTo>
                      <a:lnTo>
                        <a:pt x="1284" y="7"/>
                      </a:lnTo>
                      <a:lnTo>
                        <a:pt x="1283" y="8"/>
                      </a:lnTo>
                      <a:lnTo>
                        <a:pt x="1283" y="9"/>
                      </a:lnTo>
                      <a:lnTo>
                        <a:pt x="1276" y="9"/>
                      </a:lnTo>
                      <a:lnTo>
                        <a:pt x="1275" y="8"/>
                      </a:lnTo>
                      <a:lnTo>
                        <a:pt x="1275" y="6"/>
                      </a:lnTo>
                      <a:lnTo>
                        <a:pt x="1273" y="5"/>
                      </a:lnTo>
                      <a:lnTo>
                        <a:pt x="1271" y="4"/>
                      </a:lnTo>
                      <a:lnTo>
                        <a:pt x="1269" y="4"/>
                      </a:lnTo>
                      <a:lnTo>
                        <a:pt x="1267" y="4"/>
                      </a:lnTo>
                      <a:lnTo>
                        <a:pt x="1265" y="5"/>
                      </a:lnTo>
                      <a:lnTo>
                        <a:pt x="1264" y="6"/>
                      </a:lnTo>
                      <a:lnTo>
                        <a:pt x="1263" y="8"/>
                      </a:lnTo>
                      <a:lnTo>
                        <a:pt x="1263" y="9"/>
                      </a:lnTo>
                      <a:lnTo>
                        <a:pt x="1254" y="9"/>
                      </a:lnTo>
                      <a:lnTo>
                        <a:pt x="1254" y="8"/>
                      </a:lnTo>
                      <a:lnTo>
                        <a:pt x="1253" y="7"/>
                      </a:lnTo>
                      <a:lnTo>
                        <a:pt x="1251" y="6"/>
                      </a:lnTo>
                      <a:lnTo>
                        <a:pt x="1249" y="6"/>
                      </a:lnTo>
                      <a:lnTo>
                        <a:pt x="1248" y="6"/>
                      </a:lnTo>
                      <a:lnTo>
                        <a:pt x="1246" y="7"/>
                      </a:lnTo>
                      <a:lnTo>
                        <a:pt x="1245" y="8"/>
                      </a:lnTo>
                      <a:lnTo>
                        <a:pt x="1245" y="9"/>
                      </a:lnTo>
                      <a:lnTo>
                        <a:pt x="1238" y="9"/>
                      </a:lnTo>
                      <a:lnTo>
                        <a:pt x="1238" y="8"/>
                      </a:lnTo>
                      <a:lnTo>
                        <a:pt x="1237" y="7"/>
                      </a:lnTo>
                      <a:lnTo>
                        <a:pt x="1235" y="6"/>
                      </a:lnTo>
                      <a:lnTo>
                        <a:pt x="1234" y="6"/>
                      </a:lnTo>
                      <a:lnTo>
                        <a:pt x="1232" y="6"/>
                      </a:lnTo>
                      <a:lnTo>
                        <a:pt x="1230" y="7"/>
                      </a:lnTo>
                      <a:lnTo>
                        <a:pt x="1229" y="8"/>
                      </a:lnTo>
                      <a:lnTo>
                        <a:pt x="1229" y="9"/>
                      </a:lnTo>
                      <a:lnTo>
                        <a:pt x="1220" y="9"/>
                      </a:lnTo>
                      <a:lnTo>
                        <a:pt x="1220" y="7"/>
                      </a:lnTo>
                      <a:lnTo>
                        <a:pt x="1219" y="5"/>
                      </a:lnTo>
                      <a:lnTo>
                        <a:pt x="1217" y="3"/>
                      </a:lnTo>
                      <a:lnTo>
                        <a:pt x="1215" y="2"/>
                      </a:lnTo>
                      <a:lnTo>
                        <a:pt x="1213" y="1"/>
                      </a:lnTo>
                      <a:lnTo>
                        <a:pt x="1210" y="0"/>
                      </a:lnTo>
                      <a:lnTo>
                        <a:pt x="1207" y="0"/>
                      </a:lnTo>
                      <a:lnTo>
                        <a:pt x="1205" y="1"/>
                      </a:lnTo>
                      <a:lnTo>
                        <a:pt x="1202" y="2"/>
                      </a:lnTo>
                      <a:lnTo>
                        <a:pt x="1200" y="3"/>
                      </a:lnTo>
                      <a:lnTo>
                        <a:pt x="1199" y="5"/>
                      </a:lnTo>
                      <a:lnTo>
                        <a:pt x="1198" y="7"/>
                      </a:lnTo>
                      <a:lnTo>
                        <a:pt x="1198" y="9"/>
                      </a:lnTo>
                      <a:lnTo>
                        <a:pt x="1178" y="9"/>
                      </a:lnTo>
                      <a:lnTo>
                        <a:pt x="1178" y="8"/>
                      </a:lnTo>
                      <a:lnTo>
                        <a:pt x="1176" y="7"/>
                      </a:lnTo>
                      <a:lnTo>
                        <a:pt x="1175" y="6"/>
                      </a:lnTo>
                      <a:lnTo>
                        <a:pt x="1173" y="6"/>
                      </a:lnTo>
                      <a:lnTo>
                        <a:pt x="1172" y="6"/>
                      </a:lnTo>
                      <a:lnTo>
                        <a:pt x="1170" y="7"/>
                      </a:lnTo>
                      <a:lnTo>
                        <a:pt x="1169" y="8"/>
                      </a:lnTo>
                      <a:lnTo>
                        <a:pt x="1169" y="9"/>
                      </a:lnTo>
                      <a:lnTo>
                        <a:pt x="1163" y="9"/>
                      </a:lnTo>
                      <a:lnTo>
                        <a:pt x="1162" y="8"/>
                      </a:lnTo>
                      <a:lnTo>
                        <a:pt x="1161" y="7"/>
                      </a:lnTo>
                      <a:lnTo>
                        <a:pt x="1160" y="6"/>
                      </a:lnTo>
                      <a:lnTo>
                        <a:pt x="1158" y="6"/>
                      </a:lnTo>
                      <a:lnTo>
                        <a:pt x="1156" y="6"/>
                      </a:lnTo>
                      <a:lnTo>
                        <a:pt x="1155" y="7"/>
                      </a:lnTo>
                      <a:lnTo>
                        <a:pt x="1154" y="8"/>
                      </a:lnTo>
                      <a:lnTo>
                        <a:pt x="1154" y="9"/>
                      </a:lnTo>
                      <a:lnTo>
                        <a:pt x="1143" y="9"/>
                      </a:lnTo>
                      <a:lnTo>
                        <a:pt x="1142" y="7"/>
                      </a:lnTo>
                      <a:lnTo>
                        <a:pt x="1141" y="6"/>
                      </a:lnTo>
                      <a:lnTo>
                        <a:pt x="1140" y="4"/>
                      </a:lnTo>
                      <a:lnTo>
                        <a:pt x="1138" y="3"/>
                      </a:lnTo>
                      <a:lnTo>
                        <a:pt x="1136" y="2"/>
                      </a:lnTo>
                      <a:lnTo>
                        <a:pt x="1134" y="2"/>
                      </a:lnTo>
                      <a:lnTo>
                        <a:pt x="1132" y="2"/>
                      </a:lnTo>
                      <a:lnTo>
                        <a:pt x="1129" y="3"/>
                      </a:lnTo>
                      <a:lnTo>
                        <a:pt x="1128" y="4"/>
                      </a:lnTo>
                      <a:lnTo>
                        <a:pt x="1126" y="6"/>
                      </a:lnTo>
                      <a:lnTo>
                        <a:pt x="1125" y="7"/>
                      </a:lnTo>
                      <a:lnTo>
                        <a:pt x="1125" y="9"/>
                      </a:lnTo>
                      <a:lnTo>
                        <a:pt x="1121" y="9"/>
                      </a:lnTo>
                      <a:lnTo>
                        <a:pt x="1121" y="8"/>
                      </a:lnTo>
                      <a:lnTo>
                        <a:pt x="1120" y="7"/>
                      </a:lnTo>
                      <a:lnTo>
                        <a:pt x="1118" y="6"/>
                      </a:lnTo>
                      <a:lnTo>
                        <a:pt x="1116" y="6"/>
                      </a:lnTo>
                      <a:lnTo>
                        <a:pt x="1115" y="6"/>
                      </a:lnTo>
                      <a:lnTo>
                        <a:pt x="1113" y="7"/>
                      </a:lnTo>
                      <a:lnTo>
                        <a:pt x="1112" y="8"/>
                      </a:lnTo>
                      <a:lnTo>
                        <a:pt x="1112" y="9"/>
                      </a:lnTo>
                      <a:lnTo>
                        <a:pt x="1110" y="9"/>
                      </a:lnTo>
                      <a:lnTo>
                        <a:pt x="1110" y="8"/>
                      </a:lnTo>
                      <a:lnTo>
                        <a:pt x="1109" y="7"/>
                      </a:lnTo>
                      <a:lnTo>
                        <a:pt x="1107" y="6"/>
                      </a:lnTo>
                      <a:lnTo>
                        <a:pt x="1106" y="6"/>
                      </a:lnTo>
                      <a:lnTo>
                        <a:pt x="1104" y="6"/>
                      </a:lnTo>
                      <a:lnTo>
                        <a:pt x="1103" y="7"/>
                      </a:lnTo>
                      <a:lnTo>
                        <a:pt x="1102" y="8"/>
                      </a:lnTo>
                      <a:lnTo>
                        <a:pt x="1101" y="9"/>
                      </a:lnTo>
                      <a:lnTo>
                        <a:pt x="1091" y="9"/>
                      </a:lnTo>
                      <a:lnTo>
                        <a:pt x="1091" y="92"/>
                      </a:lnTo>
                      <a:lnTo>
                        <a:pt x="837" y="92"/>
                      </a:lnTo>
                      <a:lnTo>
                        <a:pt x="836" y="91"/>
                      </a:lnTo>
                      <a:lnTo>
                        <a:pt x="835" y="89"/>
                      </a:lnTo>
                      <a:lnTo>
                        <a:pt x="834" y="89"/>
                      </a:lnTo>
                      <a:lnTo>
                        <a:pt x="832" y="89"/>
                      </a:lnTo>
                      <a:lnTo>
                        <a:pt x="830" y="89"/>
                      </a:lnTo>
                      <a:lnTo>
                        <a:pt x="829" y="89"/>
                      </a:lnTo>
                      <a:lnTo>
                        <a:pt x="828" y="91"/>
                      </a:lnTo>
                      <a:lnTo>
                        <a:pt x="828" y="92"/>
                      </a:lnTo>
                      <a:lnTo>
                        <a:pt x="825" y="92"/>
                      </a:lnTo>
                      <a:lnTo>
                        <a:pt x="824" y="91"/>
                      </a:lnTo>
                      <a:lnTo>
                        <a:pt x="824" y="89"/>
                      </a:lnTo>
                      <a:lnTo>
                        <a:pt x="822" y="89"/>
                      </a:lnTo>
                      <a:lnTo>
                        <a:pt x="820" y="89"/>
                      </a:lnTo>
                      <a:lnTo>
                        <a:pt x="819" y="89"/>
                      </a:lnTo>
                      <a:lnTo>
                        <a:pt x="817" y="89"/>
                      </a:lnTo>
                      <a:lnTo>
                        <a:pt x="816" y="91"/>
                      </a:lnTo>
                      <a:lnTo>
                        <a:pt x="816" y="92"/>
                      </a:lnTo>
                      <a:lnTo>
                        <a:pt x="809" y="92"/>
                      </a:lnTo>
                      <a:lnTo>
                        <a:pt x="808" y="91"/>
                      </a:lnTo>
                      <a:lnTo>
                        <a:pt x="808" y="89"/>
                      </a:lnTo>
                      <a:lnTo>
                        <a:pt x="806" y="89"/>
                      </a:lnTo>
                      <a:lnTo>
                        <a:pt x="804" y="89"/>
                      </a:lnTo>
                      <a:lnTo>
                        <a:pt x="803" y="89"/>
                      </a:lnTo>
                      <a:lnTo>
                        <a:pt x="801" y="89"/>
                      </a:lnTo>
                      <a:lnTo>
                        <a:pt x="800" y="91"/>
                      </a:lnTo>
                      <a:lnTo>
                        <a:pt x="800" y="92"/>
                      </a:lnTo>
                      <a:lnTo>
                        <a:pt x="785" y="92"/>
                      </a:lnTo>
                      <a:lnTo>
                        <a:pt x="785" y="90"/>
                      </a:lnTo>
                      <a:lnTo>
                        <a:pt x="784" y="88"/>
                      </a:lnTo>
                      <a:lnTo>
                        <a:pt x="783" y="87"/>
                      </a:lnTo>
                      <a:lnTo>
                        <a:pt x="781" y="86"/>
                      </a:lnTo>
                      <a:lnTo>
                        <a:pt x="778" y="86"/>
                      </a:lnTo>
                      <a:lnTo>
                        <a:pt x="776" y="86"/>
                      </a:lnTo>
                      <a:lnTo>
                        <a:pt x="774" y="86"/>
                      </a:lnTo>
                      <a:lnTo>
                        <a:pt x="772" y="87"/>
                      </a:lnTo>
                      <a:lnTo>
                        <a:pt x="770" y="88"/>
                      </a:lnTo>
                      <a:lnTo>
                        <a:pt x="769" y="90"/>
                      </a:lnTo>
                      <a:lnTo>
                        <a:pt x="769" y="92"/>
                      </a:lnTo>
                      <a:lnTo>
                        <a:pt x="765" y="92"/>
                      </a:lnTo>
                      <a:lnTo>
                        <a:pt x="764" y="90"/>
                      </a:lnTo>
                      <a:lnTo>
                        <a:pt x="763" y="88"/>
                      </a:lnTo>
                      <a:lnTo>
                        <a:pt x="762" y="87"/>
                      </a:lnTo>
                      <a:lnTo>
                        <a:pt x="759" y="86"/>
                      </a:lnTo>
                      <a:lnTo>
                        <a:pt x="757" y="85"/>
                      </a:lnTo>
                      <a:lnTo>
                        <a:pt x="755" y="85"/>
                      </a:lnTo>
                      <a:lnTo>
                        <a:pt x="752" y="86"/>
                      </a:lnTo>
                      <a:lnTo>
                        <a:pt x="750" y="87"/>
                      </a:lnTo>
                      <a:lnTo>
                        <a:pt x="749" y="88"/>
                      </a:lnTo>
                      <a:lnTo>
                        <a:pt x="748" y="90"/>
                      </a:lnTo>
                      <a:lnTo>
                        <a:pt x="747" y="92"/>
                      </a:lnTo>
                      <a:lnTo>
                        <a:pt x="745" y="92"/>
                      </a:lnTo>
                      <a:lnTo>
                        <a:pt x="745" y="91"/>
                      </a:lnTo>
                      <a:lnTo>
                        <a:pt x="744" y="89"/>
                      </a:lnTo>
                      <a:lnTo>
                        <a:pt x="743" y="89"/>
                      </a:lnTo>
                      <a:lnTo>
                        <a:pt x="741" y="89"/>
                      </a:lnTo>
                      <a:lnTo>
                        <a:pt x="739" y="89"/>
                      </a:lnTo>
                      <a:lnTo>
                        <a:pt x="738" y="89"/>
                      </a:lnTo>
                      <a:lnTo>
                        <a:pt x="737" y="91"/>
                      </a:lnTo>
                      <a:lnTo>
                        <a:pt x="737" y="92"/>
                      </a:lnTo>
                      <a:lnTo>
                        <a:pt x="736" y="92"/>
                      </a:lnTo>
                      <a:lnTo>
                        <a:pt x="736" y="91"/>
                      </a:lnTo>
                      <a:lnTo>
                        <a:pt x="735" y="89"/>
                      </a:lnTo>
                      <a:lnTo>
                        <a:pt x="733" y="89"/>
                      </a:lnTo>
                      <a:lnTo>
                        <a:pt x="731" y="89"/>
                      </a:lnTo>
                      <a:lnTo>
                        <a:pt x="730" y="89"/>
                      </a:lnTo>
                      <a:lnTo>
                        <a:pt x="728" y="89"/>
                      </a:lnTo>
                      <a:lnTo>
                        <a:pt x="727" y="91"/>
                      </a:lnTo>
                      <a:lnTo>
                        <a:pt x="727" y="92"/>
                      </a:lnTo>
                      <a:lnTo>
                        <a:pt x="725" y="92"/>
                      </a:lnTo>
                      <a:lnTo>
                        <a:pt x="725" y="91"/>
                      </a:lnTo>
                      <a:lnTo>
                        <a:pt x="724" y="89"/>
                      </a:lnTo>
                      <a:lnTo>
                        <a:pt x="722" y="89"/>
                      </a:lnTo>
                      <a:lnTo>
                        <a:pt x="720" y="89"/>
                      </a:lnTo>
                      <a:lnTo>
                        <a:pt x="719" y="89"/>
                      </a:lnTo>
                      <a:lnTo>
                        <a:pt x="717" y="89"/>
                      </a:lnTo>
                      <a:lnTo>
                        <a:pt x="716" y="91"/>
                      </a:lnTo>
                      <a:lnTo>
                        <a:pt x="716" y="92"/>
                      </a:lnTo>
                      <a:lnTo>
                        <a:pt x="705" y="92"/>
                      </a:lnTo>
                      <a:lnTo>
                        <a:pt x="705" y="91"/>
                      </a:lnTo>
                      <a:lnTo>
                        <a:pt x="704" y="89"/>
                      </a:lnTo>
                      <a:lnTo>
                        <a:pt x="702" y="89"/>
                      </a:lnTo>
                      <a:lnTo>
                        <a:pt x="701" y="89"/>
                      </a:lnTo>
                      <a:lnTo>
                        <a:pt x="699" y="89"/>
                      </a:lnTo>
                      <a:lnTo>
                        <a:pt x="697" y="89"/>
                      </a:lnTo>
                      <a:lnTo>
                        <a:pt x="696" y="91"/>
                      </a:lnTo>
                      <a:lnTo>
                        <a:pt x="696" y="92"/>
                      </a:lnTo>
                      <a:lnTo>
                        <a:pt x="667" y="92"/>
                      </a:lnTo>
                      <a:lnTo>
                        <a:pt x="667" y="91"/>
                      </a:lnTo>
                      <a:lnTo>
                        <a:pt x="666" y="89"/>
                      </a:lnTo>
                      <a:lnTo>
                        <a:pt x="664" y="89"/>
                      </a:lnTo>
                      <a:lnTo>
                        <a:pt x="663" y="89"/>
                      </a:lnTo>
                      <a:lnTo>
                        <a:pt x="661" y="89"/>
                      </a:lnTo>
                      <a:lnTo>
                        <a:pt x="659" y="89"/>
                      </a:lnTo>
                      <a:lnTo>
                        <a:pt x="658" y="91"/>
                      </a:lnTo>
                      <a:lnTo>
                        <a:pt x="658" y="92"/>
                      </a:lnTo>
                      <a:lnTo>
                        <a:pt x="639" y="92"/>
                      </a:lnTo>
                      <a:lnTo>
                        <a:pt x="639" y="91"/>
                      </a:lnTo>
                      <a:lnTo>
                        <a:pt x="638" y="89"/>
                      </a:lnTo>
                      <a:lnTo>
                        <a:pt x="636" y="89"/>
                      </a:lnTo>
                      <a:lnTo>
                        <a:pt x="635" y="89"/>
                      </a:lnTo>
                      <a:lnTo>
                        <a:pt x="633" y="89"/>
                      </a:lnTo>
                      <a:lnTo>
                        <a:pt x="631" y="89"/>
                      </a:lnTo>
                      <a:lnTo>
                        <a:pt x="630" y="91"/>
                      </a:lnTo>
                      <a:lnTo>
                        <a:pt x="630" y="92"/>
                      </a:lnTo>
                      <a:lnTo>
                        <a:pt x="551" y="92"/>
                      </a:lnTo>
                      <a:lnTo>
                        <a:pt x="551" y="91"/>
                      </a:lnTo>
                      <a:lnTo>
                        <a:pt x="550" y="89"/>
                      </a:lnTo>
                      <a:lnTo>
                        <a:pt x="548" y="89"/>
                      </a:lnTo>
                      <a:lnTo>
                        <a:pt x="547" y="89"/>
                      </a:lnTo>
                      <a:lnTo>
                        <a:pt x="545" y="89"/>
                      </a:lnTo>
                      <a:lnTo>
                        <a:pt x="543" y="89"/>
                      </a:lnTo>
                      <a:lnTo>
                        <a:pt x="542" y="91"/>
                      </a:lnTo>
                      <a:lnTo>
                        <a:pt x="542" y="92"/>
                      </a:lnTo>
                      <a:lnTo>
                        <a:pt x="522" y="92"/>
                      </a:lnTo>
                      <a:lnTo>
                        <a:pt x="521" y="91"/>
                      </a:lnTo>
                      <a:lnTo>
                        <a:pt x="520" y="89"/>
                      </a:lnTo>
                      <a:lnTo>
                        <a:pt x="519" y="89"/>
                      </a:lnTo>
                      <a:lnTo>
                        <a:pt x="517" y="89"/>
                      </a:lnTo>
                      <a:lnTo>
                        <a:pt x="515" y="89"/>
                      </a:lnTo>
                      <a:lnTo>
                        <a:pt x="514" y="89"/>
                      </a:lnTo>
                      <a:lnTo>
                        <a:pt x="513" y="91"/>
                      </a:lnTo>
                      <a:lnTo>
                        <a:pt x="513" y="92"/>
                      </a:lnTo>
                      <a:lnTo>
                        <a:pt x="504" y="92"/>
                      </a:lnTo>
                      <a:lnTo>
                        <a:pt x="504" y="91"/>
                      </a:lnTo>
                      <a:lnTo>
                        <a:pt x="503" y="89"/>
                      </a:lnTo>
                      <a:lnTo>
                        <a:pt x="501" y="89"/>
                      </a:lnTo>
                      <a:lnTo>
                        <a:pt x="500" y="89"/>
                      </a:lnTo>
                      <a:lnTo>
                        <a:pt x="498" y="89"/>
                      </a:lnTo>
                      <a:lnTo>
                        <a:pt x="496" y="89"/>
                      </a:lnTo>
                      <a:lnTo>
                        <a:pt x="495" y="91"/>
                      </a:lnTo>
                      <a:lnTo>
                        <a:pt x="495" y="92"/>
                      </a:lnTo>
                      <a:lnTo>
                        <a:pt x="489" y="92"/>
                      </a:lnTo>
                      <a:lnTo>
                        <a:pt x="489" y="91"/>
                      </a:lnTo>
                      <a:lnTo>
                        <a:pt x="487" y="89"/>
                      </a:lnTo>
                      <a:lnTo>
                        <a:pt x="486" y="89"/>
                      </a:lnTo>
                      <a:lnTo>
                        <a:pt x="484" y="89"/>
                      </a:lnTo>
                      <a:lnTo>
                        <a:pt x="483" y="89"/>
                      </a:lnTo>
                      <a:lnTo>
                        <a:pt x="481" y="89"/>
                      </a:lnTo>
                      <a:lnTo>
                        <a:pt x="480" y="91"/>
                      </a:lnTo>
                      <a:lnTo>
                        <a:pt x="480" y="92"/>
                      </a:lnTo>
                      <a:lnTo>
                        <a:pt x="473" y="92"/>
                      </a:lnTo>
                      <a:lnTo>
                        <a:pt x="472" y="91"/>
                      </a:lnTo>
                      <a:lnTo>
                        <a:pt x="471" y="89"/>
                      </a:lnTo>
                      <a:lnTo>
                        <a:pt x="470" y="89"/>
                      </a:lnTo>
                      <a:lnTo>
                        <a:pt x="468" y="89"/>
                      </a:lnTo>
                      <a:lnTo>
                        <a:pt x="466" y="89"/>
                      </a:lnTo>
                      <a:lnTo>
                        <a:pt x="465" y="89"/>
                      </a:lnTo>
                      <a:lnTo>
                        <a:pt x="464" y="91"/>
                      </a:lnTo>
                      <a:lnTo>
                        <a:pt x="464" y="92"/>
                      </a:lnTo>
                      <a:lnTo>
                        <a:pt x="464" y="92"/>
                      </a:lnTo>
                      <a:lnTo>
                        <a:pt x="463" y="91"/>
                      </a:lnTo>
                      <a:lnTo>
                        <a:pt x="462" y="89"/>
                      </a:lnTo>
                      <a:lnTo>
                        <a:pt x="461" y="89"/>
                      </a:lnTo>
                      <a:lnTo>
                        <a:pt x="459" y="89"/>
                      </a:lnTo>
                      <a:lnTo>
                        <a:pt x="457" y="89"/>
                      </a:lnTo>
                      <a:lnTo>
                        <a:pt x="456" y="89"/>
                      </a:lnTo>
                      <a:lnTo>
                        <a:pt x="455" y="91"/>
                      </a:lnTo>
                      <a:lnTo>
                        <a:pt x="455" y="92"/>
                      </a:lnTo>
                      <a:lnTo>
                        <a:pt x="433" y="92"/>
                      </a:lnTo>
                      <a:lnTo>
                        <a:pt x="432" y="90"/>
                      </a:lnTo>
                      <a:lnTo>
                        <a:pt x="431" y="89"/>
                      </a:lnTo>
                      <a:lnTo>
                        <a:pt x="430" y="88"/>
                      </a:lnTo>
                      <a:lnTo>
                        <a:pt x="428" y="87"/>
                      </a:lnTo>
                      <a:lnTo>
                        <a:pt x="426" y="87"/>
                      </a:lnTo>
                      <a:lnTo>
                        <a:pt x="424" y="87"/>
                      </a:lnTo>
                      <a:lnTo>
                        <a:pt x="422" y="88"/>
                      </a:lnTo>
                      <a:lnTo>
                        <a:pt x="420" y="89"/>
                      </a:lnTo>
                      <a:lnTo>
                        <a:pt x="419" y="90"/>
                      </a:lnTo>
                      <a:lnTo>
                        <a:pt x="419" y="92"/>
                      </a:lnTo>
                      <a:lnTo>
                        <a:pt x="409" y="92"/>
                      </a:lnTo>
                      <a:lnTo>
                        <a:pt x="409" y="91"/>
                      </a:lnTo>
                      <a:lnTo>
                        <a:pt x="408" y="89"/>
                      </a:lnTo>
                      <a:lnTo>
                        <a:pt x="407" y="89"/>
                      </a:lnTo>
                      <a:lnTo>
                        <a:pt x="405" y="89"/>
                      </a:lnTo>
                      <a:lnTo>
                        <a:pt x="403" y="89"/>
                      </a:lnTo>
                      <a:lnTo>
                        <a:pt x="402" y="89"/>
                      </a:lnTo>
                      <a:lnTo>
                        <a:pt x="401" y="91"/>
                      </a:lnTo>
                      <a:lnTo>
                        <a:pt x="401" y="92"/>
                      </a:lnTo>
                      <a:lnTo>
                        <a:pt x="154" y="92"/>
                      </a:lnTo>
                      <a:lnTo>
                        <a:pt x="154" y="91"/>
                      </a:lnTo>
                      <a:lnTo>
                        <a:pt x="153" y="89"/>
                      </a:lnTo>
                      <a:lnTo>
                        <a:pt x="152" y="89"/>
                      </a:lnTo>
                      <a:lnTo>
                        <a:pt x="150" y="89"/>
                      </a:lnTo>
                      <a:lnTo>
                        <a:pt x="148" y="89"/>
                      </a:lnTo>
                      <a:lnTo>
                        <a:pt x="147" y="89"/>
                      </a:lnTo>
                      <a:lnTo>
                        <a:pt x="146" y="91"/>
                      </a:lnTo>
                      <a:lnTo>
                        <a:pt x="145" y="92"/>
                      </a:lnTo>
                      <a:lnTo>
                        <a:pt x="144" y="92"/>
                      </a:lnTo>
                      <a:lnTo>
                        <a:pt x="144" y="90"/>
                      </a:lnTo>
                      <a:lnTo>
                        <a:pt x="143" y="88"/>
                      </a:lnTo>
                      <a:lnTo>
                        <a:pt x="141" y="87"/>
                      </a:lnTo>
                      <a:lnTo>
                        <a:pt x="139" y="86"/>
                      </a:lnTo>
                      <a:lnTo>
                        <a:pt x="137" y="85"/>
                      </a:lnTo>
                      <a:lnTo>
                        <a:pt x="134" y="85"/>
                      </a:lnTo>
                      <a:lnTo>
                        <a:pt x="132" y="86"/>
                      </a:lnTo>
                      <a:lnTo>
                        <a:pt x="130" y="87"/>
                      </a:lnTo>
                      <a:lnTo>
                        <a:pt x="128" y="88"/>
                      </a:lnTo>
                      <a:lnTo>
                        <a:pt x="127" y="90"/>
                      </a:lnTo>
                      <a:lnTo>
                        <a:pt x="127" y="92"/>
                      </a:lnTo>
                      <a:lnTo>
                        <a:pt x="124" y="92"/>
                      </a:lnTo>
                      <a:lnTo>
                        <a:pt x="124" y="91"/>
                      </a:lnTo>
                      <a:lnTo>
                        <a:pt x="123" y="89"/>
                      </a:lnTo>
                      <a:lnTo>
                        <a:pt x="121" y="89"/>
                      </a:lnTo>
                      <a:lnTo>
                        <a:pt x="120" y="89"/>
                      </a:lnTo>
                      <a:lnTo>
                        <a:pt x="118" y="89"/>
                      </a:lnTo>
                      <a:lnTo>
                        <a:pt x="116" y="89"/>
                      </a:lnTo>
                      <a:lnTo>
                        <a:pt x="116" y="91"/>
                      </a:lnTo>
                      <a:lnTo>
                        <a:pt x="115" y="92"/>
                      </a:lnTo>
                      <a:lnTo>
                        <a:pt x="102" y="92"/>
                      </a:lnTo>
                      <a:lnTo>
                        <a:pt x="102" y="91"/>
                      </a:lnTo>
                      <a:lnTo>
                        <a:pt x="101" y="89"/>
                      </a:lnTo>
                      <a:lnTo>
                        <a:pt x="99" y="89"/>
                      </a:lnTo>
                      <a:lnTo>
                        <a:pt x="98" y="89"/>
                      </a:lnTo>
                      <a:lnTo>
                        <a:pt x="96" y="89"/>
                      </a:lnTo>
                      <a:lnTo>
                        <a:pt x="94" y="89"/>
                      </a:lnTo>
                      <a:lnTo>
                        <a:pt x="94" y="91"/>
                      </a:lnTo>
                      <a:lnTo>
                        <a:pt x="93" y="92"/>
                      </a:lnTo>
                      <a:lnTo>
                        <a:pt x="85" y="92"/>
                      </a:lnTo>
                      <a:lnTo>
                        <a:pt x="85" y="254"/>
                      </a:lnTo>
                      <a:lnTo>
                        <a:pt x="72" y="254"/>
                      </a:lnTo>
                      <a:lnTo>
                        <a:pt x="72" y="252"/>
                      </a:lnTo>
                      <a:lnTo>
                        <a:pt x="71" y="251"/>
                      </a:lnTo>
                      <a:lnTo>
                        <a:pt x="69" y="250"/>
                      </a:lnTo>
                      <a:lnTo>
                        <a:pt x="67" y="250"/>
                      </a:lnTo>
                      <a:lnTo>
                        <a:pt x="66" y="250"/>
                      </a:lnTo>
                      <a:lnTo>
                        <a:pt x="64" y="251"/>
                      </a:lnTo>
                      <a:lnTo>
                        <a:pt x="63" y="252"/>
                      </a:lnTo>
                      <a:lnTo>
                        <a:pt x="63" y="254"/>
                      </a:lnTo>
                      <a:lnTo>
                        <a:pt x="58" y="254"/>
                      </a:lnTo>
                      <a:lnTo>
                        <a:pt x="58" y="252"/>
                      </a:lnTo>
                      <a:lnTo>
                        <a:pt x="57" y="251"/>
                      </a:lnTo>
                      <a:lnTo>
                        <a:pt x="55" y="250"/>
                      </a:lnTo>
                      <a:lnTo>
                        <a:pt x="54" y="250"/>
                      </a:lnTo>
                      <a:lnTo>
                        <a:pt x="52" y="250"/>
                      </a:lnTo>
                      <a:lnTo>
                        <a:pt x="51" y="251"/>
                      </a:lnTo>
                      <a:lnTo>
                        <a:pt x="50" y="252"/>
                      </a:lnTo>
                      <a:lnTo>
                        <a:pt x="49" y="254"/>
                      </a:lnTo>
                      <a:lnTo>
                        <a:pt x="48" y="254"/>
                      </a:lnTo>
                      <a:lnTo>
                        <a:pt x="48" y="252"/>
                      </a:lnTo>
                      <a:lnTo>
                        <a:pt x="47" y="251"/>
                      </a:lnTo>
                      <a:lnTo>
                        <a:pt x="45" y="250"/>
                      </a:lnTo>
                      <a:lnTo>
                        <a:pt x="44" y="250"/>
                      </a:lnTo>
                      <a:lnTo>
                        <a:pt x="42" y="250"/>
                      </a:lnTo>
                      <a:lnTo>
                        <a:pt x="40" y="251"/>
                      </a:lnTo>
                      <a:lnTo>
                        <a:pt x="40" y="252"/>
                      </a:lnTo>
                      <a:lnTo>
                        <a:pt x="39" y="254"/>
                      </a:lnTo>
                      <a:lnTo>
                        <a:pt x="28" y="254"/>
                      </a:lnTo>
                      <a:lnTo>
                        <a:pt x="28" y="252"/>
                      </a:lnTo>
                      <a:lnTo>
                        <a:pt x="27" y="251"/>
                      </a:lnTo>
                      <a:lnTo>
                        <a:pt x="26" y="250"/>
                      </a:lnTo>
                      <a:lnTo>
                        <a:pt x="24" y="250"/>
                      </a:lnTo>
                      <a:lnTo>
                        <a:pt x="22" y="250"/>
                      </a:lnTo>
                      <a:lnTo>
                        <a:pt x="21" y="251"/>
                      </a:lnTo>
                      <a:lnTo>
                        <a:pt x="20" y="252"/>
                      </a:lnTo>
                      <a:lnTo>
                        <a:pt x="19" y="254"/>
                      </a:lnTo>
                      <a:lnTo>
                        <a:pt x="18" y="254"/>
                      </a:lnTo>
                      <a:lnTo>
                        <a:pt x="17" y="252"/>
                      </a:lnTo>
                      <a:lnTo>
                        <a:pt x="16" y="250"/>
                      </a:lnTo>
                      <a:lnTo>
                        <a:pt x="15" y="249"/>
                      </a:lnTo>
                      <a:lnTo>
                        <a:pt x="13" y="248"/>
                      </a:lnTo>
                      <a:lnTo>
                        <a:pt x="11" y="247"/>
                      </a:lnTo>
                      <a:lnTo>
                        <a:pt x="8" y="247"/>
                      </a:lnTo>
                      <a:lnTo>
                        <a:pt x="6" y="248"/>
                      </a:lnTo>
                      <a:lnTo>
                        <a:pt x="4" y="249"/>
                      </a:lnTo>
                      <a:lnTo>
                        <a:pt x="3" y="250"/>
                      </a:lnTo>
                      <a:lnTo>
                        <a:pt x="2" y="252"/>
                      </a:lnTo>
                      <a:lnTo>
                        <a:pt x="1" y="254"/>
                      </a:lnTo>
                      <a:lnTo>
                        <a:pt x="0" y="25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4640760" y="361476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43" name=""/>
                <p:cNvSpPr/>
                <p:nvPr/>
              </p:nvSpPr>
              <p:spPr>
                <a:xfrm>
                  <a:off x="5159520" y="2702520"/>
                  <a:ext cx="1910520" cy="2294640"/>
                </a:xfrm>
                <a:custGeom>
                  <a:avLst/>
                  <a:gdLst/>
                  <a:ahLst/>
                  <a:rect l="l" t="t" r="r" b="b"/>
                  <a:pathLst>
                    <a:path w="1805" h="1718">
                      <a:moveTo>
                        <a:pt x="1805" y="0"/>
                      </a:moveTo>
                      <a:lnTo>
                        <a:pt x="1805" y="1522"/>
                      </a:lnTo>
                      <a:lnTo>
                        <a:pt x="1600" y="1522"/>
                      </a:lnTo>
                      <a:lnTo>
                        <a:pt x="1599" y="1520"/>
                      </a:lnTo>
                      <a:lnTo>
                        <a:pt x="1598" y="1518"/>
                      </a:lnTo>
                      <a:lnTo>
                        <a:pt x="1597" y="1517"/>
                      </a:lnTo>
                      <a:lnTo>
                        <a:pt x="1595" y="1516"/>
                      </a:lnTo>
                      <a:lnTo>
                        <a:pt x="1593" y="1516"/>
                      </a:lnTo>
                      <a:lnTo>
                        <a:pt x="1591" y="1516"/>
                      </a:lnTo>
                      <a:lnTo>
                        <a:pt x="1589" y="1517"/>
                      </a:lnTo>
                      <a:lnTo>
                        <a:pt x="1587" y="1518"/>
                      </a:lnTo>
                      <a:lnTo>
                        <a:pt x="1586" y="1520"/>
                      </a:lnTo>
                      <a:lnTo>
                        <a:pt x="1586" y="1522"/>
                      </a:lnTo>
                      <a:lnTo>
                        <a:pt x="1309" y="1522"/>
                      </a:lnTo>
                      <a:lnTo>
                        <a:pt x="1308" y="1520"/>
                      </a:lnTo>
                      <a:lnTo>
                        <a:pt x="1307" y="1519"/>
                      </a:lnTo>
                      <a:lnTo>
                        <a:pt x="1306" y="1518"/>
                      </a:lnTo>
                      <a:lnTo>
                        <a:pt x="1304" y="1518"/>
                      </a:lnTo>
                      <a:lnTo>
                        <a:pt x="1303" y="1518"/>
                      </a:lnTo>
                      <a:lnTo>
                        <a:pt x="1301" y="1519"/>
                      </a:lnTo>
                      <a:lnTo>
                        <a:pt x="1300" y="1520"/>
                      </a:lnTo>
                      <a:lnTo>
                        <a:pt x="1300" y="1522"/>
                      </a:lnTo>
                      <a:lnTo>
                        <a:pt x="1121" y="1522"/>
                      </a:lnTo>
                      <a:lnTo>
                        <a:pt x="1121" y="1520"/>
                      </a:lnTo>
                      <a:lnTo>
                        <a:pt x="1120" y="1519"/>
                      </a:lnTo>
                      <a:lnTo>
                        <a:pt x="1118" y="1518"/>
                      </a:lnTo>
                      <a:lnTo>
                        <a:pt x="1117" y="1518"/>
                      </a:lnTo>
                      <a:lnTo>
                        <a:pt x="1115" y="1518"/>
                      </a:lnTo>
                      <a:lnTo>
                        <a:pt x="1113" y="1519"/>
                      </a:lnTo>
                      <a:lnTo>
                        <a:pt x="1113" y="1520"/>
                      </a:lnTo>
                      <a:lnTo>
                        <a:pt x="1112" y="1522"/>
                      </a:lnTo>
                      <a:lnTo>
                        <a:pt x="814" y="1522"/>
                      </a:lnTo>
                      <a:lnTo>
                        <a:pt x="814" y="1520"/>
                      </a:lnTo>
                      <a:lnTo>
                        <a:pt x="813" y="1519"/>
                      </a:lnTo>
                      <a:lnTo>
                        <a:pt x="811" y="1518"/>
                      </a:lnTo>
                      <a:lnTo>
                        <a:pt x="810" y="1518"/>
                      </a:lnTo>
                      <a:lnTo>
                        <a:pt x="808" y="1518"/>
                      </a:lnTo>
                      <a:lnTo>
                        <a:pt x="806" y="1519"/>
                      </a:lnTo>
                      <a:lnTo>
                        <a:pt x="805" y="1520"/>
                      </a:lnTo>
                      <a:lnTo>
                        <a:pt x="805" y="1522"/>
                      </a:lnTo>
                      <a:lnTo>
                        <a:pt x="760" y="1522"/>
                      </a:lnTo>
                      <a:lnTo>
                        <a:pt x="760" y="1520"/>
                      </a:lnTo>
                      <a:lnTo>
                        <a:pt x="759" y="1519"/>
                      </a:lnTo>
                      <a:lnTo>
                        <a:pt x="757" y="1518"/>
                      </a:lnTo>
                      <a:lnTo>
                        <a:pt x="756" y="1518"/>
                      </a:lnTo>
                      <a:lnTo>
                        <a:pt x="754" y="1518"/>
                      </a:lnTo>
                      <a:lnTo>
                        <a:pt x="752" y="1519"/>
                      </a:lnTo>
                      <a:lnTo>
                        <a:pt x="751" y="1520"/>
                      </a:lnTo>
                      <a:lnTo>
                        <a:pt x="751" y="1522"/>
                      </a:lnTo>
                      <a:lnTo>
                        <a:pt x="708" y="1522"/>
                      </a:lnTo>
                      <a:lnTo>
                        <a:pt x="708" y="1520"/>
                      </a:lnTo>
                      <a:lnTo>
                        <a:pt x="707" y="1519"/>
                      </a:lnTo>
                      <a:lnTo>
                        <a:pt x="705" y="1518"/>
                      </a:lnTo>
                      <a:lnTo>
                        <a:pt x="704" y="1518"/>
                      </a:lnTo>
                      <a:lnTo>
                        <a:pt x="702" y="1518"/>
                      </a:lnTo>
                      <a:lnTo>
                        <a:pt x="701" y="1519"/>
                      </a:lnTo>
                      <a:lnTo>
                        <a:pt x="700" y="1520"/>
                      </a:lnTo>
                      <a:lnTo>
                        <a:pt x="699" y="1522"/>
                      </a:lnTo>
                      <a:lnTo>
                        <a:pt x="615" y="1522"/>
                      </a:lnTo>
                      <a:lnTo>
                        <a:pt x="615" y="1520"/>
                      </a:lnTo>
                      <a:lnTo>
                        <a:pt x="614" y="1519"/>
                      </a:lnTo>
                      <a:lnTo>
                        <a:pt x="613" y="1518"/>
                      </a:lnTo>
                      <a:lnTo>
                        <a:pt x="611" y="1518"/>
                      </a:lnTo>
                      <a:lnTo>
                        <a:pt x="609" y="1518"/>
                      </a:lnTo>
                      <a:lnTo>
                        <a:pt x="608" y="1519"/>
                      </a:lnTo>
                      <a:lnTo>
                        <a:pt x="607" y="1520"/>
                      </a:lnTo>
                      <a:lnTo>
                        <a:pt x="606" y="1522"/>
                      </a:lnTo>
                      <a:lnTo>
                        <a:pt x="433" y="1522"/>
                      </a:lnTo>
                      <a:lnTo>
                        <a:pt x="433" y="1718"/>
                      </a:lnTo>
                      <a:lnTo>
                        <a:pt x="287" y="1718"/>
                      </a:lnTo>
                      <a:lnTo>
                        <a:pt x="286" y="1716"/>
                      </a:lnTo>
                      <a:lnTo>
                        <a:pt x="285" y="1715"/>
                      </a:lnTo>
                      <a:lnTo>
                        <a:pt x="284" y="1715"/>
                      </a:lnTo>
                      <a:lnTo>
                        <a:pt x="282" y="1714"/>
                      </a:lnTo>
                      <a:lnTo>
                        <a:pt x="280" y="1715"/>
                      </a:lnTo>
                      <a:lnTo>
                        <a:pt x="279" y="1715"/>
                      </a:lnTo>
                      <a:lnTo>
                        <a:pt x="278" y="1716"/>
                      </a:lnTo>
                      <a:lnTo>
                        <a:pt x="278" y="1718"/>
                      </a:lnTo>
                      <a:lnTo>
                        <a:pt x="215" y="1718"/>
                      </a:lnTo>
                      <a:lnTo>
                        <a:pt x="215" y="1716"/>
                      </a:lnTo>
                      <a:lnTo>
                        <a:pt x="214" y="1715"/>
                      </a:lnTo>
                      <a:lnTo>
                        <a:pt x="212" y="1715"/>
                      </a:lnTo>
                      <a:lnTo>
                        <a:pt x="211" y="1714"/>
                      </a:lnTo>
                      <a:lnTo>
                        <a:pt x="209" y="1715"/>
                      </a:lnTo>
                      <a:lnTo>
                        <a:pt x="207" y="1715"/>
                      </a:lnTo>
                      <a:lnTo>
                        <a:pt x="207" y="1716"/>
                      </a:lnTo>
                      <a:lnTo>
                        <a:pt x="206" y="1718"/>
                      </a:lnTo>
                      <a:lnTo>
                        <a:pt x="44" y="1718"/>
                      </a:lnTo>
                      <a:lnTo>
                        <a:pt x="44" y="1716"/>
                      </a:lnTo>
                      <a:lnTo>
                        <a:pt x="43" y="1715"/>
                      </a:lnTo>
                      <a:lnTo>
                        <a:pt x="41" y="1715"/>
                      </a:lnTo>
                      <a:lnTo>
                        <a:pt x="40" y="1714"/>
                      </a:lnTo>
                      <a:lnTo>
                        <a:pt x="38" y="1715"/>
                      </a:lnTo>
                      <a:lnTo>
                        <a:pt x="37" y="1715"/>
                      </a:lnTo>
                      <a:lnTo>
                        <a:pt x="36" y="1716"/>
                      </a:lnTo>
                      <a:lnTo>
                        <a:pt x="35" y="1718"/>
                      </a:lnTo>
                      <a:lnTo>
                        <a:pt x="0" y="1718"/>
                      </a:lnTo>
                      <a:lnTo>
                        <a:pt x="0" y="1672"/>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7063920" y="26906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45" name=""/>
                <p:cNvSpPr/>
                <p:nvPr/>
              </p:nvSpPr>
              <p:spPr>
                <a:xfrm>
                  <a:off x="5153040" y="49237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46" name=""/>
                <p:cNvSpPr/>
                <p:nvPr/>
              </p:nvSpPr>
              <p:spPr>
                <a:xfrm>
                  <a:off x="6089040" y="2419560"/>
                  <a:ext cx="2233440" cy="374040"/>
                </a:xfrm>
                <a:custGeom>
                  <a:avLst/>
                  <a:gdLst/>
                  <a:ahLst/>
                  <a:rect l="l" t="t" r="r" b="b"/>
                  <a:pathLst>
                    <a:path w="2110" h="280">
                      <a:moveTo>
                        <a:pt x="0" y="280"/>
                      </a:moveTo>
                      <a:lnTo>
                        <a:pt x="1" y="280"/>
                      </a:lnTo>
                      <a:lnTo>
                        <a:pt x="2" y="279"/>
                      </a:lnTo>
                      <a:lnTo>
                        <a:pt x="3" y="278"/>
                      </a:lnTo>
                      <a:lnTo>
                        <a:pt x="4" y="277"/>
                      </a:lnTo>
                      <a:lnTo>
                        <a:pt x="6" y="277"/>
                      </a:lnTo>
                      <a:lnTo>
                        <a:pt x="8" y="277"/>
                      </a:lnTo>
                      <a:lnTo>
                        <a:pt x="9" y="278"/>
                      </a:lnTo>
                      <a:lnTo>
                        <a:pt x="10" y="279"/>
                      </a:lnTo>
                      <a:lnTo>
                        <a:pt x="10" y="280"/>
                      </a:lnTo>
                      <a:lnTo>
                        <a:pt x="29" y="280"/>
                      </a:lnTo>
                      <a:lnTo>
                        <a:pt x="29" y="279"/>
                      </a:lnTo>
                      <a:lnTo>
                        <a:pt x="30" y="278"/>
                      </a:lnTo>
                      <a:lnTo>
                        <a:pt x="31" y="277"/>
                      </a:lnTo>
                      <a:lnTo>
                        <a:pt x="33" y="277"/>
                      </a:lnTo>
                      <a:lnTo>
                        <a:pt x="35" y="277"/>
                      </a:lnTo>
                      <a:lnTo>
                        <a:pt x="36" y="278"/>
                      </a:lnTo>
                      <a:lnTo>
                        <a:pt x="37" y="279"/>
                      </a:lnTo>
                      <a:lnTo>
                        <a:pt x="38" y="280"/>
                      </a:lnTo>
                      <a:lnTo>
                        <a:pt x="48" y="280"/>
                      </a:lnTo>
                      <a:lnTo>
                        <a:pt x="48" y="279"/>
                      </a:lnTo>
                      <a:lnTo>
                        <a:pt x="49" y="278"/>
                      </a:lnTo>
                      <a:lnTo>
                        <a:pt x="50" y="277"/>
                      </a:lnTo>
                      <a:lnTo>
                        <a:pt x="52" y="277"/>
                      </a:lnTo>
                      <a:lnTo>
                        <a:pt x="54" y="277"/>
                      </a:lnTo>
                      <a:lnTo>
                        <a:pt x="55" y="278"/>
                      </a:lnTo>
                      <a:lnTo>
                        <a:pt x="56" y="279"/>
                      </a:lnTo>
                      <a:lnTo>
                        <a:pt x="57" y="280"/>
                      </a:lnTo>
                      <a:lnTo>
                        <a:pt x="61" y="280"/>
                      </a:lnTo>
                      <a:lnTo>
                        <a:pt x="61" y="279"/>
                      </a:lnTo>
                      <a:lnTo>
                        <a:pt x="62" y="278"/>
                      </a:lnTo>
                      <a:lnTo>
                        <a:pt x="64" y="277"/>
                      </a:lnTo>
                      <a:lnTo>
                        <a:pt x="66" y="277"/>
                      </a:lnTo>
                      <a:lnTo>
                        <a:pt x="67" y="277"/>
                      </a:lnTo>
                      <a:lnTo>
                        <a:pt x="69" y="278"/>
                      </a:lnTo>
                      <a:lnTo>
                        <a:pt x="70" y="279"/>
                      </a:lnTo>
                      <a:lnTo>
                        <a:pt x="70" y="280"/>
                      </a:lnTo>
                      <a:lnTo>
                        <a:pt x="85" y="280"/>
                      </a:lnTo>
                      <a:lnTo>
                        <a:pt x="85" y="278"/>
                      </a:lnTo>
                      <a:lnTo>
                        <a:pt x="86" y="277"/>
                      </a:lnTo>
                      <a:lnTo>
                        <a:pt x="87" y="275"/>
                      </a:lnTo>
                      <a:lnTo>
                        <a:pt x="89" y="275"/>
                      </a:lnTo>
                      <a:lnTo>
                        <a:pt x="91" y="274"/>
                      </a:lnTo>
                      <a:lnTo>
                        <a:pt x="94" y="274"/>
                      </a:lnTo>
                      <a:lnTo>
                        <a:pt x="96" y="275"/>
                      </a:lnTo>
                      <a:lnTo>
                        <a:pt x="98" y="275"/>
                      </a:lnTo>
                      <a:lnTo>
                        <a:pt x="99" y="277"/>
                      </a:lnTo>
                      <a:lnTo>
                        <a:pt x="100" y="278"/>
                      </a:lnTo>
                      <a:lnTo>
                        <a:pt x="100" y="280"/>
                      </a:lnTo>
                      <a:lnTo>
                        <a:pt x="105" y="280"/>
                      </a:lnTo>
                      <a:lnTo>
                        <a:pt x="105" y="278"/>
                      </a:lnTo>
                      <a:lnTo>
                        <a:pt x="106" y="277"/>
                      </a:lnTo>
                      <a:lnTo>
                        <a:pt x="108" y="275"/>
                      </a:lnTo>
                      <a:lnTo>
                        <a:pt x="110" y="275"/>
                      </a:lnTo>
                      <a:lnTo>
                        <a:pt x="112" y="274"/>
                      </a:lnTo>
                      <a:lnTo>
                        <a:pt x="114" y="274"/>
                      </a:lnTo>
                      <a:lnTo>
                        <a:pt x="116" y="275"/>
                      </a:lnTo>
                      <a:lnTo>
                        <a:pt x="118" y="275"/>
                      </a:lnTo>
                      <a:lnTo>
                        <a:pt x="119" y="277"/>
                      </a:lnTo>
                      <a:lnTo>
                        <a:pt x="120" y="278"/>
                      </a:lnTo>
                      <a:lnTo>
                        <a:pt x="121" y="280"/>
                      </a:lnTo>
                      <a:lnTo>
                        <a:pt x="139" y="280"/>
                      </a:lnTo>
                      <a:lnTo>
                        <a:pt x="139" y="279"/>
                      </a:lnTo>
                      <a:lnTo>
                        <a:pt x="140" y="278"/>
                      </a:lnTo>
                      <a:lnTo>
                        <a:pt x="141" y="277"/>
                      </a:lnTo>
                      <a:lnTo>
                        <a:pt x="143" y="277"/>
                      </a:lnTo>
                      <a:lnTo>
                        <a:pt x="145" y="277"/>
                      </a:lnTo>
                      <a:lnTo>
                        <a:pt x="146" y="278"/>
                      </a:lnTo>
                      <a:lnTo>
                        <a:pt x="147" y="279"/>
                      </a:lnTo>
                      <a:lnTo>
                        <a:pt x="148" y="280"/>
                      </a:lnTo>
                      <a:lnTo>
                        <a:pt x="162" y="280"/>
                      </a:lnTo>
                      <a:lnTo>
                        <a:pt x="162" y="278"/>
                      </a:lnTo>
                      <a:lnTo>
                        <a:pt x="163" y="277"/>
                      </a:lnTo>
                      <a:lnTo>
                        <a:pt x="165" y="275"/>
                      </a:lnTo>
                      <a:lnTo>
                        <a:pt x="166" y="275"/>
                      </a:lnTo>
                      <a:lnTo>
                        <a:pt x="169" y="274"/>
                      </a:lnTo>
                      <a:lnTo>
                        <a:pt x="171" y="274"/>
                      </a:lnTo>
                      <a:lnTo>
                        <a:pt x="173" y="275"/>
                      </a:lnTo>
                      <a:lnTo>
                        <a:pt x="175" y="275"/>
                      </a:lnTo>
                      <a:lnTo>
                        <a:pt x="176" y="277"/>
                      </a:lnTo>
                      <a:lnTo>
                        <a:pt x="177" y="278"/>
                      </a:lnTo>
                      <a:lnTo>
                        <a:pt x="178" y="280"/>
                      </a:lnTo>
                      <a:lnTo>
                        <a:pt x="193" y="280"/>
                      </a:lnTo>
                      <a:lnTo>
                        <a:pt x="193" y="279"/>
                      </a:lnTo>
                      <a:lnTo>
                        <a:pt x="194" y="278"/>
                      </a:lnTo>
                      <a:lnTo>
                        <a:pt x="195" y="277"/>
                      </a:lnTo>
                      <a:lnTo>
                        <a:pt x="197" y="277"/>
                      </a:lnTo>
                      <a:lnTo>
                        <a:pt x="199" y="277"/>
                      </a:lnTo>
                      <a:lnTo>
                        <a:pt x="200" y="278"/>
                      </a:lnTo>
                      <a:lnTo>
                        <a:pt x="201" y="279"/>
                      </a:lnTo>
                      <a:lnTo>
                        <a:pt x="202" y="280"/>
                      </a:lnTo>
                      <a:lnTo>
                        <a:pt x="206" y="280"/>
                      </a:lnTo>
                      <a:lnTo>
                        <a:pt x="207" y="279"/>
                      </a:lnTo>
                      <a:lnTo>
                        <a:pt x="208" y="278"/>
                      </a:lnTo>
                      <a:lnTo>
                        <a:pt x="209" y="277"/>
                      </a:lnTo>
                      <a:lnTo>
                        <a:pt x="211" y="277"/>
                      </a:lnTo>
                      <a:lnTo>
                        <a:pt x="212" y="277"/>
                      </a:lnTo>
                      <a:lnTo>
                        <a:pt x="214" y="278"/>
                      </a:lnTo>
                      <a:lnTo>
                        <a:pt x="215" y="279"/>
                      </a:lnTo>
                      <a:lnTo>
                        <a:pt x="215" y="280"/>
                      </a:lnTo>
                      <a:lnTo>
                        <a:pt x="264" y="280"/>
                      </a:lnTo>
                      <a:lnTo>
                        <a:pt x="264" y="278"/>
                      </a:lnTo>
                      <a:lnTo>
                        <a:pt x="265" y="277"/>
                      </a:lnTo>
                      <a:lnTo>
                        <a:pt x="266" y="276"/>
                      </a:lnTo>
                      <a:lnTo>
                        <a:pt x="268" y="275"/>
                      </a:lnTo>
                      <a:lnTo>
                        <a:pt x="270" y="275"/>
                      </a:lnTo>
                      <a:lnTo>
                        <a:pt x="272" y="275"/>
                      </a:lnTo>
                      <a:lnTo>
                        <a:pt x="274" y="276"/>
                      </a:lnTo>
                      <a:lnTo>
                        <a:pt x="276" y="277"/>
                      </a:lnTo>
                      <a:lnTo>
                        <a:pt x="277" y="278"/>
                      </a:lnTo>
                      <a:lnTo>
                        <a:pt x="277" y="280"/>
                      </a:lnTo>
                      <a:lnTo>
                        <a:pt x="284" y="280"/>
                      </a:lnTo>
                      <a:lnTo>
                        <a:pt x="284" y="279"/>
                      </a:lnTo>
                      <a:lnTo>
                        <a:pt x="285" y="278"/>
                      </a:lnTo>
                      <a:lnTo>
                        <a:pt x="287" y="277"/>
                      </a:lnTo>
                      <a:lnTo>
                        <a:pt x="288" y="277"/>
                      </a:lnTo>
                      <a:lnTo>
                        <a:pt x="290" y="277"/>
                      </a:lnTo>
                      <a:lnTo>
                        <a:pt x="292" y="278"/>
                      </a:lnTo>
                      <a:lnTo>
                        <a:pt x="293" y="279"/>
                      </a:lnTo>
                      <a:lnTo>
                        <a:pt x="293" y="280"/>
                      </a:lnTo>
                      <a:lnTo>
                        <a:pt x="304" y="280"/>
                      </a:lnTo>
                      <a:lnTo>
                        <a:pt x="305" y="279"/>
                      </a:lnTo>
                      <a:lnTo>
                        <a:pt x="305" y="278"/>
                      </a:lnTo>
                      <a:lnTo>
                        <a:pt x="307" y="277"/>
                      </a:lnTo>
                      <a:lnTo>
                        <a:pt x="309" y="277"/>
                      </a:lnTo>
                      <a:lnTo>
                        <a:pt x="310" y="277"/>
                      </a:lnTo>
                      <a:lnTo>
                        <a:pt x="312" y="278"/>
                      </a:lnTo>
                      <a:lnTo>
                        <a:pt x="313" y="279"/>
                      </a:lnTo>
                      <a:lnTo>
                        <a:pt x="313" y="280"/>
                      </a:lnTo>
                      <a:lnTo>
                        <a:pt x="328" y="280"/>
                      </a:lnTo>
                      <a:lnTo>
                        <a:pt x="328" y="279"/>
                      </a:lnTo>
                      <a:lnTo>
                        <a:pt x="329" y="278"/>
                      </a:lnTo>
                      <a:lnTo>
                        <a:pt x="331" y="277"/>
                      </a:lnTo>
                      <a:lnTo>
                        <a:pt x="332" y="277"/>
                      </a:lnTo>
                      <a:lnTo>
                        <a:pt x="334" y="277"/>
                      </a:lnTo>
                      <a:lnTo>
                        <a:pt x="335" y="278"/>
                      </a:lnTo>
                      <a:lnTo>
                        <a:pt x="336" y="279"/>
                      </a:lnTo>
                      <a:lnTo>
                        <a:pt x="337" y="280"/>
                      </a:lnTo>
                      <a:lnTo>
                        <a:pt x="349" y="280"/>
                      </a:lnTo>
                      <a:lnTo>
                        <a:pt x="350" y="279"/>
                      </a:lnTo>
                      <a:lnTo>
                        <a:pt x="351" y="278"/>
                      </a:lnTo>
                      <a:lnTo>
                        <a:pt x="352" y="277"/>
                      </a:lnTo>
                      <a:lnTo>
                        <a:pt x="354" y="277"/>
                      </a:lnTo>
                      <a:lnTo>
                        <a:pt x="356" y="277"/>
                      </a:lnTo>
                      <a:lnTo>
                        <a:pt x="357" y="278"/>
                      </a:lnTo>
                      <a:lnTo>
                        <a:pt x="358" y="279"/>
                      </a:lnTo>
                      <a:lnTo>
                        <a:pt x="358" y="280"/>
                      </a:lnTo>
                      <a:lnTo>
                        <a:pt x="369" y="280"/>
                      </a:lnTo>
                      <a:lnTo>
                        <a:pt x="370" y="279"/>
                      </a:lnTo>
                      <a:lnTo>
                        <a:pt x="371" y="278"/>
                      </a:lnTo>
                      <a:lnTo>
                        <a:pt x="372" y="277"/>
                      </a:lnTo>
                      <a:lnTo>
                        <a:pt x="374" y="277"/>
                      </a:lnTo>
                      <a:lnTo>
                        <a:pt x="375" y="277"/>
                      </a:lnTo>
                      <a:lnTo>
                        <a:pt x="377" y="278"/>
                      </a:lnTo>
                      <a:lnTo>
                        <a:pt x="378" y="279"/>
                      </a:lnTo>
                      <a:lnTo>
                        <a:pt x="378" y="280"/>
                      </a:lnTo>
                      <a:lnTo>
                        <a:pt x="422" y="280"/>
                      </a:lnTo>
                      <a:lnTo>
                        <a:pt x="423" y="279"/>
                      </a:lnTo>
                      <a:lnTo>
                        <a:pt x="424" y="278"/>
                      </a:lnTo>
                      <a:lnTo>
                        <a:pt x="425" y="277"/>
                      </a:lnTo>
                      <a:lnTo>
                        <a:pt x="427" y="277"/>
                      </a:lnTo>
                      <a:lnTo>
                        <a:pt x="429" y="277"/>
                      </a:lnTo>
                      <a:lnTo>
                        <a:pt x="430" y="278"/>
                      </a:lnTo>
                      <a:lnTo>
                        <a:pt x="431" y="279"/>
                      </a:lnTo>
                      <a:lnTo>
                        <a:pt x="431" y="280"/>
                      </a:lnTo>
                      <a:lnTo>
                        <a:pt x="493" y="280"/>
                      </a:lnTo>
                      <a:lnTo>
                        <a:pt x="493" y="278"/>
                      </a:lnTo>
                      <a:lnTo>
                        <a:pt x="494" y="277"/>
                      </a:lnTo>
                      <a:lnTo>
                        <a:pt x="496" y="275"/>
                      </a:lnTo>
                      <a:lnTo>
                        <a:pt x="497" y="274"/>
                      </a:lnTo>
                      <a:lnTo>
                        <a:pt x="499" y="273"/>
                      </a:lnTo>
                      <a:lnTo>
                        <a:pt x="502" y="273"/>
                      </a:lnTo>
                      <a:lnTo>
                        <a:pt x="504" y="273"/>
                      </a:lnTo>
                      <a:lnTo>
                        <a:pt x="506" y="274"/>
                      </a:lnTo>
                      <a:lnTo>
                        <a:pt x="508" y="275"/>
                      </a:lnTo>
                      <a:lnTo>
                        <a:pt x="509" y="277"/>
                      </a:lnTo>
                      <a:lnTo>
                        <a:pt x="510" y="278"/>
                      </a:lnTo>
                      <a:lnTo>
                        <a:pt x="511" y="280"/>
                      </a:lnTo>
                      <a:lnTo>
                        <a:pt x="593" y="280"/>
                      </a:lnTo>
                      <a:lnTo>
                        <a:pt x="594" y="279"/>
                      </a:lnTo>
                      <a:lnTo>
                        <a:pt x="595" y="278"/>
                      </a:lnTo>
                      <a:lnTo>
                        <a:pt x="596" y="277"/>
                      </a:lnTo>
                      <a:lnTo>
                        <a:pt x="598" y="277"/>
                      </a:lnTo>
                      <a:lnTo>
                        <a:pt x="600" y="277"/>
                      </a:lnTo>
                      <a:lnTo>
                        <a:pt x="601" y="278"/>
                      </a:lnTo>
                      <a:lnTo>
                        <a:pt x="602" y="279"/>
                      </a:lnTo>
                      <a:lnTo>
                        <a:pt x="603" y="280"/>
                      </a:lnTo>
                      <a:lnTo>
                        <a:pt x="615" y="280"/>
                      </a:lnTo>
                      <a:lnTo>
                        <a:pt x="615" y="279"/>
                      </a:lnTo>
                      <a:lnTo>
                        <a:pt x="616" y="278"/>
                      </a:lnTo>
                      <a:lnTo>
                        <a:pt x="618" y="277"/>
                      </a:lnTo>
                      <a:lnTo>
                        <a:pt x="619" y="277"/>
                      </a:lnTo>
                      <a:lnTo>
                        <a:pt x="621" y="277"/>
                      </a:lnTo>
                      <a:lnTo>
                        <a:pt x="622" y="278"/>
                      </a:lnTo>
                      <a:lnTo>
                        <a:pt x="624" y="279"/>
                      </a:lnTo>
                      <a:lnTo>
                        <a:pt x="624" y="280"/>
                      </a:lnTo>
                      <a:lnTo>
                        <a:pt x="668" y="280"/>
                      </a:lnTo>
                      <a:lnTo>
                        <a:pt x="668" y="279"/>
                      </a:lnTo>
                      <a:lnTo>
                        <a:pt x="669" y="278"/>
                      </a:lnTo>
                      <a:lnTo>
                        <a:pt x="671" y="277"/>
                      </a:lnTo>
                      <a:lnTo>
                        <a:pt x="672" y="277"/>
                      </a:lnTo>
                      <a:lnTo>
                        <a:pt x="674" y="277"/>
                      </a:lnTo>
                      <a:lnTo>
                        <a:pt x="675" y="278"/>
                      </a:lnTo>
                      <a:lnTo>
                        <a:pt x="676" y="279"/>
                      </a:lnTo>
                      <a:lnTo>
                        <a:pt x="677" y="280"/>
                      </a:lnTo>
                      <a:lnTo>
                        <a:pt x="695" y="280"/>
                      </a:lnTo>
                      <a:lnTo>
                        <a:pt x="695" y="279"/>
                      </a:lnTo>
                      <a:lnTo>
                        <a:pt x="696" y="278"/>
                      </a:lnTo>
                      <a:lnTo>
                        <a:pt x="697" y="277"/>
                      </a:lnTo>
                      <a:lnTo>
                        <a:pt x="699" y="277"/>
                      </a:lnTo>
                      <a:lnTo>
                        <a:pt x="701" y="277"/>
                      </a:lnTo>
                      <a:lnTo>
                        <a:pt x="702" y="278"/>
                      </a:lnTo>
                      <a:lnTo>
                        <a:pt x="703" y="279"/>
                      </a:lnTo>
                      <a:lnTo>
                        <a:pt x="704" y="280"/>
                      </a:lnTo>
                      <a:lnTo>
                        <a:pt x="767" y="280"/>
                      </a:lnTo>
                      <a:lnTo>
                        <a:pt x="767" y="279"/>
                      </a:lnTo>
                      <a:lnTo>
                        <a:pt x="768" y="278"/>
                      </a:lnTo>
                      <a:lnTo>
                        <a:pt x="770" y="277"/>
                      </a:lnTo>
                      <a:lnTo>
                        <a:pt x="771" y="277"/>
                      </a:lnTo>
                      <a:lnTo>
                        <a:pt x="773" y="277"/>
                      </a:lnTo>
                      <a:lnTo>
                        <a:pt x="775" y="278"/>
                      </a:lnTo>
                      <a:lnTo>
                        <a:pt x="775" y="279"/>
                      </a:lnTo>
                      <a:lnTo>
                        <a:pt x="776" y="280"/>
                      </a:lnTo>
                      <a:lnTo>
                        <a:pt x="807" y="280"/>
                      </a:lnTo>
                      <a:lnTo>
                        <a:pt x="808" y="279"/>
                      </a:lnTo>
                      <a:lnTo>
                        <a:pt x="809" y="278"/>
                      </a:lnTo>
                      <a:lnTo>
                        <a:pt x="810" y="277"/>
                      </a:lnTo>
                      <a:lnTo>
                        <a:pt x="812" y="277"/>
                      </a:lnTo>
                      <a:lnTo>
                        <a:pt x="814" y="277"/>
                      </a:lnTo>
                      <a:lnTo>
                        <a:pt x="815" y="278"/>
                      </a:lnTo>
                      <a:lnTo>
                        <a:pt x="816" y="279"/>
                      </a:lnTo>
                      <a:lnTo>
                        <a:pt x="816" y="280"/>
                      </a:lnTo>
                      <a:lnTo>
                        <a:pt x="828" y="280"/>
                      </a:lnTo>
                      <a:lnTo>
                        <a:pt x="828" y="279"/>
                      </a:lnTo>
                      <a:lnTo>
                        <a:pt x="829" y="278"/>
                      </a:lnTo>
                      <a:lnTo>
                        <a:pt x="831" y="277"/>
                      </a:lnTo>
                      <a:lnTo>
                        <a:pt x="832" y="277"/>
                      </a:lnTo>
                      <a:lnTo>
                        <a:pt x="834" y="277"/>
                      </a:lnTo>
                      <a:lnTo>
                        <a:pt x="836" y="278"/>
                      </a:lnTo>
                      <a:lnTo>
                        <a:pt x="836" y="279"/>
                      </a:lnTo>
                      <a:lnTo>
                        <a:pt x="837" y="280"/>
                      </a:lnTo>
                      <a:lnTo>
                        <a:pt x="856" y="280"/>
                      </a:lnTo>
                      <a:lnTo>
                        <a:pt x="856" y="279"/>
                      </a:lnTo>
                      <a:lnTo>
                        <a:pt x="857" y="278"/>
                      </a:lnTo>
                      <a:lnTo>
                        <a:pt x="859" y="277"/>
                      </a:lnTo>
                      <a:lnTo>
                        <a:pt x="861" y="277"/>
                      </a:lnTo>
                      <a:lnTo>
                        <a:pt x="862" y="277"/>
                      </a:lnTo>
                      <a:lnTo>
                        <a:pt x="864" y="278"/>
                      </a:lnTo>
                      <a:lnTo>
                        <a:pt x="865" y="279"/>
                      </a:lnTo>
                      <a:lnTo>
                        <a:pt x="865" y="280"/>
                      </a:lnTo>
                      <a:lnTo>
                        <a:pt x="891" y="280"/>
                      </a:lnTo>
                      <a:lnTo>
                        <a:pt x="891" y="279"/>
                      </a:lnTo>
                      <a:lnTo>
                        <a:pt x="892" y="278"/>
                      </a:lnTo>
                      <a:lnTo>
                        <a:pt x="893" y="277"/>
                      </a:lnTo>
                      <a:lnTo>
                        <a:pt x="895" y="277"/>
                      </a:lnTo>
                      <a:lnTo>
                        <a:pt x="897" y="277"/>
                      </a:lnTo>
                      <a:lnTo>
                        <a:pt x="898" y="278"/>
                      </a:lnTo>
                      <a:lnTo>
                        <a:pt x="899" y="279"/>
                      </a:lnTo>
                      <a:lnTo>
                        <a:pt x="900" y="280"/>
                      </a:lnTo>
                      <a:lnTo>
                        <a:pt x="922" y="280"/>
                      </a:lnTo>
                      <a:lnTo>
                        <a:pt x="923" y="279"/>
                      </a:lnTo>
                      <a:lnTo>
                        <a:pt x="923" y="278"/>
                      </a:lnTo>
                      <a:lnTo>
                        <a:pt x="925" y="277"/>
                      </a:lnTo>
                      <a:lnTo>
                        <a:pt x="927" y="277"/>
                      </a:lnTo>
                      <a:lnTo>
                        <a:pt x="928" y="277"/>
                      </a:lnTo>
                      <a:lnTo>
                        <a:pt x="930" y="278"/>
                      </a:lnTo>
                      <a:lnTo>
                        <a:pt x="931" y="279"/>
                      </a:lnTo>
                      <a:lnTo>
                        <a:pt x="931" y="280"/>
                      </a:lnTo>
                      <a:lnTo>
                        <a:pt x="941" y="280"/>
                      </a:lnTo>
                      <a:lnTo>
                        <a:pt x="941" y="279"/>
                      </a:lnTo>
                      <a:lnTo>
                        <a:pt x="942" y="278"/>
                      </a:lnTo>
                      <a:lnTo>
                        <a:pt x="943" y="277"/>
                      </a:lnTo>
                      <a:lnTo>
                        <a:pt x="945" y="277"/>
                      </a:lnTo>
                      <a:lnTo>
                        <a:pt x="947" y="277"/>
                      </a:lnTo>
                      <a:lnTo>
                        <a:pt x="948" y="278"/>
                      </a:lnTo>
                      <a:lnTo>
                        <a:pt x="949" y="279"/>
                      </a:lnTo>
                      <a:lnTo>
                        <a:pt x="950" y="280"/>
                      </a:lnTo>
                      <a:lnTo>
                        <a:pt x="957" y="280"/>
                      </a:lnTo>
                      <a:lnTo>
                        <a:pt x="958" y="279"/>
                      </a:lnTo>
                      <a:lnTo>
                        <a:pt x="958" y="278"/>
                      </a:lnTo>
                      <a:lnTo>
                        <a:pt x="960" y="277"/>
                      </a:lnTo>
                      <a:lnTo>
                        <a:pt x="962" y="277"/>
                      </a:lnTo>
                      <a:lnTo>
                        <a:pt x="963" y="277"/>
                      </a:lnTo>
                      <a:lnTo>
                        <a:pt x="965" y="278"/>
                      </a:lnTo>
                      <a:lnTo>
                        <a:pt x="966" y="279"/>
                      </a:lnTo>
                      <a:lnTo>
                        <a:pt x="966" y="280"/>
                      </a:lnTo>
                      <a:lnTo>
                        <a:pt x="968" y="280"/>
                      </a:lnTo>
                      <a:lnTo>
                        <a:pt x="968" y="278"/>
                      </a:lnTo>
                      <a:lnTo>
                        <a:pt x="969" y="277"/>
                      </a:lnTo>
                      <a:lnTo>
                        <a:pt x="970" y="275"/>
                      </a:lnTo>
                      <a:lnTo>
                        <a:pt x="972" y="275"/>
                      </a:lnTo>
                      <a:lnTo>
                        <a:pt x="974" y="274"/>
                      </a:lnTo>
                      <a:lnTo>
                        <a:pt x="977" y="274"/>
                      </a:lnTo>
                      <a:lnTo>
                        <a:pt x="979" y="275"/>
                      </a:lnTo>
                      <a:lnTo>
                        <a:pt x="981" y="275"/>
                      </a:lnTo>
                      <a:lnTo>
                        <a:pt x="982" y="277"/>
                      </a:lnTo>
                      <a:lnTo>
                        <a:pt x="983" y="278"/>
                      </a:lnTo>
                      <a:lnTo>
                        <a:pt x="983" y="280"/>
                      </a:lnTo>
                      <a:lnTo>
                        <a:pt x="1009" y="280"/>
                      </a:lnTo>
                      <a:lnTo>
                        <a:pt x="1009" y="279"/>
                      </a:lnTo>
                      <a:lnTo>
                        <a:pt x="1010" y="278"/>
                      </a:lnTo>
                      <a:lnTo>
                        <a:pt x="1012" y="277"/>
                      </a:lnTo>
                      <a:lnTo>
                        <a:pt x="1014" y="277"/>
                      </a:lnTo>
                      <a:lnTo>
                        <a:pt x="1015" y="277"/>
                      </a:lnTo>
                      <a:lnTo>
                        <a:pt x="1017" y="278"/>
                      </a:lnTo>
                      <a:lnTo>
                        <a:pt x="1018" y="279"/>
                      </a:lnTo>
                      <a:lnTo>
                        <a:pt x="1018" y="280"/>
                      </a:lnTo>
                      <a:lnTo>
                        <a:pt x="1027" y="280"/>
                      </a:lnTo>
                      <a:lnTo>
                        <a:pt x="1027" y="278"/>
                      </a:lnTo>
                      <a:lnTo>
                        <a:pt x="1028" y="277"/>
                      </a:lnTo>
                      <a:lnTo>
                        <a:pt x="1030" y="275"/>
                      </a:lnTo>
                      <a:lnTo>
                        <a:pt x="1032" y="274"/>
                      </a:lnTo>
                      <a:lnTo>
                        <a:pt x="1034" y="274"/>
                      </a:lnTo>
                      <a:lnTo>
                        <a:pt x="1037" y="274"/>
                      </a:lnTo>
                      <a:lnTo>
                        <a:pt x="1039" y="274"/>
                      </a:lnTo>
                      <a:lnTo>
                        <a:pt x="1041" y="275"/>
                      </a:lnTo>
                      <a:lnTo>
                        <a:pt x="1042" y="277"/>
                      </a:lnTo>
                      <a:lnTo>
                        <a:pt x="1043" y="278"/>
                      </a:lnTo>
                      <a:lnTo>
                        <a:pt x="1044" y="280"/>
                      </a:lnTo>
                      <a:lnTo>
                        <a:pt x="1057" y="280"/>
                      </a:lnTo>
                      <a:lnTo>
                        <a:pt x="1057" y="279"/>
                      </a:lnTo>
                      <a:lnTo>
                        <a:pt x="1058" y="278"/>
                      </a:lnTo>
                      <a:lnTo>
                        <a:pt x="1059" y="277"/>
                      </a:lnTo>
                      <a:lnTo>
                        <a:pt x="1061" y="277"/>
                      </a:lnTo>
                      <a:lnTo>
                        <a:pt x="1063" y="277"/>
                      </a:lnTo>
                      <a:lnTo>
                        <a:pt x="1065" y="278"/>
                      </a:lnTo>
                      <a:lnTo>
                        <a:pt x="1065" y="279"/>
                      </a:lnTo>
                      <a:lnTo>
                        <a:pt x="1066" y="280"/>
                      </a:lnTo>
                      <a:lnTo>
                        <a:pt x="1077" y="280"/>
                      </a:lnTo>
                      <a:lnTo>
                        <a:pt x="1078" y="279"/>
                      </a:lnTo>
                      <a:lnTo>
                        <a:pt x="1079" y="278"/>
                      </a:lnTo>
                      <a:lnTo>
                        <a:pt x="1080" y="277"/>
                      </a:lnTo>
                      <a:lnTo>
                        <a:pt x="1082" y="277"/>
                      </a:lnTo>
                      <a:lnTo>
                        <a:pt x="1084" y="277"/>
                      </a:lnTo>
                      <a:lnTo>
                        <a:pt x="1085" y="278"/>
                      </a:lnTo>
                      <a:lnTo>
                        <a:pt x="1086" y="279"/>
                      </a:lnTo>
                      <a:lnTo>
                        <a:pt x="1086" y="280"/>
                      </a:lnTo>
                      <a:lnTo>
                        <a:pt x="1091" y="280"/>
                      </a:lnTo>
                      <a:lnTo>
                        <a:pt x="1091" y="279"/>
                      </a:lnTo>
                      <a:lnTo>
                        <a:pt x="1092" y="278"/>
                      </a:lnTo>
                      <a:lnTo>
                        <a:pt x="1094" y="277"/>
                      </a:lnTo>
                      <a:lnTo>
                        <a:pt x="1095" y="277"/>
                      </a:lnTo>
                      <a:lnTo>
                        <a:pt x="1097" y="277"/>
                      </a:lnTo>
                      <a:lnTo>
                        <a:pt x="1099" y="278"/>
                      </a:lnTo>
                      <a:lnTo>
                        <a:pt x="1100" y="279"/>
                      </a:lnTo>
                      <a:lnTo>
                        <a:pt x="1100" y="280"/>
                      </a:lnTo>
                      <a:lnTo>
                        <a:pt x="1104" y="280"/>
                      </a:lnTo>
                      <a:lnTo>
                        <a:pt x="1105" y="279"/>
                      </a:lnTo>
                      <a:lnTo>
                        <a:pt x="1106" y="278"/>
                      </a:lnTo>
                      <a:lnTo>
                        <a:pt x="1107" y="277"/>
                      </a:lnTo>
                      <a:lnTo>
                        <a:pt x="1109" y="277"/>
                      </a:lnTo>
                      <a:lnTo>
                        <a:pt x="1111" y="277"/>
                      </a:lnTo>
                      <a:lnTo>
                        <a:pt x="1112" y="278"/>
                      </a:lnTo>
                      <a:lnTo>
                        <a:pt x="1113" y="279"/>
                      </a:lnTo>
                      <a:lnTo>
                        <a:pt x="1114" y="280"/>
                      </a:lnTo>
                      <a:lnTo>
                        <a:pt x="1136" y="280"/>
                      </a:lnTo>
                      <a:lnTo>
                        <a:pt x="1136" y="254"/>
                      </a:lnTo>
                      <a:lnTo>
                        <a:pt x="1145" y="254"/>
                      </a:lnTo>
                      <a:lnTo>
                        <a:pt x="1145" y="253"/>
                      </a:lnTo>
                      <a:lnTo>
                        <a:pt x="1146" y="252"/>
                      </a:lnTo>
                      <a:lnTo>
                        <a:pt x="1148" y="251"/>
                      </a:lnTo>
                      <a:lnTo>
                        <a:pt x="1150" y="251"/>
                      </a:lnTo>
                      <a:lnTo>
                        <a:pt x="1151" y="251"/>
                      </a:lnTo>
                      <a:lnTo>
                        <a:pt x="1153" y="252"/>
                      </a:lnTo>
                      <a:lnTo>
                        <a:pt x="1154" y="253"/>
                      </a:lnTo>
                      <a:lnTo>
                        <a:pt x="1154" y="254"/>
                      </a:lnTo>
                      <a:lnTo>
                        <a:pt x="1288" y="254"/>
                      </a:lnTo>
                      <a:lnTo>
                        <a:pt x="1289" y="253"/>
                      </a:lnTo>
                      <a:lnTo>
                        <a:pt x="1290" y="252"/>
                      </a:lnTo>
                      <a:lnTo>
                        <a:pt x="1291" y="251"/>
                      </a:lnTo>
                      <a:lnTo>
                        <a:pt x="1293" y="251"/>
                      </a:lnTo>
                      <a:lnTo>
                        <a:pt x="1295" y="251"/>
                      </a:lnTo>
                      <a:lnTo>
                        <a:pt x="1296" y="252"/>
                      </a:lnTo>
                      <a:lnTo>
                        <a:pt x="1297" y="253"/>
                      </a:lnTo>
                      <a:lnTo>
                        <a:pt x="1297" y="254"/>
                      </a:lnTo>
                      <a:lnTo>
                        <a:pt x="1375" y="254"/>
                      </a:lnTo>
                      <a:lnTo>
                        <a:pt x="1375" y="253"/>
                      </a:lnTo>
                      <a:lnTo>
                        <a:pt x="1376" y="252"/>
                      </a:lnTo>
                      <a:lnTo>
                        <a:pt x="1378" y="251"/>
                      </a:lnTo>
                      <a:lnTo>
                        <a:pt x="1379" y="251"/>
                      </a:lnTo>
                      <a:lnTo>
                        <a:pt x="1381" y="251"/>
                      </a:lnTo>
                      <a:lnTo>
                        <a:pt x="1382" y="252"/>
                      </a:lnTo>
                      <a:lnTo>
                        <a:pt x="1383" y="253"/>
                      </a:lnTo>
                      <a:lnTo>
                        <a:pt x="1384" y="254"/>
                      </a:lnTo>
                      <a:lnTo>
                        <a:pt x="1402" y="254"/>
                      </a:lnTo>
                      <a:lnTo>
                        <a:pt x="1402" y="253"/>
                      </a:lnTo>
                      <a:lnTo>
                        <a:pt x="1403" y="252"/>
                      </a:lnTo>
                      <a:lnTo>
                        <a:pt x="1405" y="251"/>
                      </a:lnTo>
                      <a:lnTo>
                        <a:pt x="1406" y="251"/>
                      </a:lnTo>
                      <a:lnTo>
                        <a:pt x="1408" y="251"/>
                      </a:lnTo>
                      <a:lnTo>
                        <a:pt x="1409" y="252"/>
                      </a:lnTo>
                      <a:lnTo>
                        <a:pt x="1411" y="253"/>
                      </a:lnTo>
                      <a:lnTo>
                        <a:pt x="1411" y="254"/>
                      </a:lnTo>
                      <a:lnTo>
                        <a:pt x="1412" y="254"/>
                      </a:lnTo>
                      <a:lnTo>
                        <a:pt x="1413" y="253"/>
                      </a:lnTo>
                      <a:lnTo>
                        <a:pt x="1414" y="252"/>
                      </a:lnTo>
                      <a:lnTo>
                        <a:pt x="1415" y="251"/>
                      </a:lnTo>
                      <a:lnTo>
                        <a:pt x="1417" y="251"/>
                      </a:lnTo>
                      <a:lnTo>
                        <a:pt x="1419" y="251"/>
                      </a:lnTo>
                      <a:lnTo>
                        <a:pt x="1420" y="252"/>
                      </a:lnTo>
                      <a:lnTo>
                        <a:pt x="1421" y="253"/>
                      </a:lnTo>
                      <a:lnTo>
                        <a:pt x="1421" y="254"/>
                      </a:lnTo>
                      <a:lnTo>
                        <a:pt x="1517" y="254"/>
                      </a:lnTo>
                      <a:lnTo>
                        <a:pt x="1517" y="253"/>
                      </a:lnTo>
                      <a:lnTo>
                        <a:pt x="1518" y="252"/>
                      </a:lnTo>
                      <a:lnTo>
                        <a:pt x="1519" y="251"/>
                      </a:lnTo>
                      <a:lnTo>
                        <a:pt x="1521" y="251"/>
                      </a:lnTo>
                      <a:lnTo>
                        <a:pt x="1523" y="251"/>
                      </a:lnTo>
                      <a:lnTo>
                        <a:pt x="1524" y="252"/>
                      </a:lnTo>
                      <a:lnTo>
                        <a:pt x="1525" y="253"/>
                      </a:lnTo>
                      <a:lnTo>
                        <a:pt x="1526" y="254"/>
                      </a:lnTo>
                      <a:lnTo>
                        <a:pt x="1562" y="254"/>
                      </a:lnTo>
                      <a:lnTo>
                        <a:pt x="1563" y="253"/>
                      </a:lnTo>
                      <a:lnTo>
                        <a:pt x="1564" y="252"/>
                      </a:lnTo>
                      <a:lnTo>
                        <a:pt x="1565" y="251"/>
                      </a:lnTo>
                      <a:lnTo>
                        <a:pt x="1567" y="251"/>
                      </a:lnTo>
                      <a:lnTo>
                        <a:pt x="1569" y="251"/>
                      </a:lnTo>
                      <a:lnTo>
                        <a:pt x="1570" y="252"/>
                      </a:lnTo>
                      <a:lnTo>
                        <a:pt x="1571" y="253"/>
                      </a:lnTo>
                      <a:lnTo>
                        <a:pt x="1571" y="254"/>
                      </a:lnTo>
                      <a:lnTo>
                        <a:pt x="1644" y="254"/>
                      </a:lnTo>
                      <a:lnTo>
                        <a:pt x="1644" y="253"/>
                      </a:lnTo>
                      <a:lnTo>
                        <a:pt x="1645" y="252"/>
                      </a:lnTo>
                      <a:lnTo>
                        <a:pt x="1646" y="251"/>
                      </a:lnTo>
                      <a:lnTo>
                        <a:pt x="1648" y="251"/>
                      </a:lnTo>
                      <a:lnTo>
                        <a:pt x="1650" y="251"/>
                      </a:lnTo>
                      <a:lnTo>
                        <a:pt x="1651" y="252"/>
                      </a:lnTo>
                      <a:lnTo>
                        <a:pt x="1652" y="253"/>
                      </a:lnTo>
                      <a:lnTo>
                        <a:pt x="1653" y="254"/>
                      </a:lnTo>
                      <a:lnTo>
                        <a:pt x="1712" y="254"/>
                      </a:lnTo>
                      <a:lnTo>
                        <a:pt x="1713" y="253"/>
                      </a:lnTo>
                      <a:lnTo>
                        <a:pt x="1714" y="252"/>
                      </a:lnTo>
                      <a:lnTo>
                        <a:pt x="1715" y="251"/>
                      </a:lnTo>
                      <a:lnTo>
                        <a:pt x="1717" y="251"/>
                      </a:lnTo>
                      <a:lnTo>
                        <a:pt x="1719" y="251"/>
                      </a:lnTo>
                      <a:lnTo>
                        <a:pt x="1720" y="252"/>
                      </a:lnTo>
                      <a:lnTo>
                        <a:pt x="1721" y="253"/>
                      </a:lnTo>
                      <a:lnTo>
                        <a:pt x="1721" y="254"/>
                      </a:lnTo>
                      <a:lnTo>
                        <a:pt x="1739" y="254"/>
                      </a:lnTo>
                      <a:lnTo>
                        <a:pt x="1740" y="253"/>
                      </a:lnTo>
                      <a:lnTo>
                        <a:pt x="1741" y="252"/>
                      </a:lnTo>
                      <a:lnTo>
                        <a:pt x="1742" y="251"/>
                      </a:lnTo>
                      <a:lnTo>
                        <a:pt x="1744" y="251"/>
                      </a:lnTo>
                      <a:lnTo>
                        <a:pt x="1746" y="251"/>
                      </a:lnTo>
                      <a:lnTo>
                        <a:pt x="1747" y="252"/>
                      </a:lnTo>
                      <a:lnTo>
                        <a:pt x="1748" y="253"/>
                      </a:lnTo>
                      <a:lnTo>
                        <a:pt x="1748" y="254"/>
                      </a:lnTo>
                      <a:lnTo>
                        <a:pt x="1814" y="254"/>
                      </a:lnTo>
                      <a:lnTo>
                        <a:pt x="1814" y="253"/>
                      </a:lnTo>
                      <a:lnTo>
                        <a:pt x="1815" y="252"/>
                      </a:lnTo>
                      <a:lnTo>
                        <a:pt x="1817" y="251"/>
                      </a:lnTo>
                      <a:lnTo>
                        <a:pt x="1818" y="251"/>
                      </a:lnTo>
                      <a:lnTo>
                        <a:pt x="1820" y="251"/>
                      </a:lnTo>
                      <a:lnTo>
                        <a:pt x="1821" y="252"/>
                      </a:lnTo>
                      <a:lnTo>
                        <a:pt x="1822" y="253"/>
                      </a:lnTo>
                      <a:lnTo>
                        <a:pt x="1823" y="254"/>
                      </a:lnTo>
                      <a:lnTo>
                        <a:pt x="1827" y="254"/>
                      </a:lnTo>
                      <a:lnTo>
                        <a:pt x="1828" y="253"/>
                      </a:lnTo>
                      <a:lnTo>
                        <a:pt x="1829" y="252"/>
                      </a:lnTo>
                      <a:lnTo>
                        <a:pt x="1830" y="251"/>
                      </a:lnTo>
                      <a:lnTo>
                        <a:pt x="1832" y="251"/>
                      </a:lnTo>
                      <a:lnTo>
                        <a:pt x="1833" y="251"/>
                      </a:lnTo>
                      <a:lnTo>
                        <a:pt x="1835" y="252"/>
                      </a:lnTo>
                      <a:lnTo>
                        <a:pt x="1836" y="253"/>
                      </a:lnTo>
                      <a:lnTo>
                        <a:pt x="1836" y="254"/>
                      </a:lnTo>
                      <a:lnTo>
                        <a:pt x="1923" y="254"/>
                      </a:lnTo>
                      <a:lnTo>
                        <a:pt x="1924" y="253"/>
                      </a:lnTo>
                      <a:lnTo>
                        <a:pt x="1925" y="252"/>
                      </a:lnTo>
                      <a:lnTo>
                        <a:pt x="1926" y="251"/>
                      </a:lnTo>
                      <a:lnTo>
                        <a:pt x="1928" y="251"/>
                      </a:lnTo>
                      <a:lnTo>
                        <a:pt x="1930" y="251"/>
                      </a:lnTo>
                      <a:lnTo>
                        <a:pt x="1931" y="252"/>
                      </a:lnTo>
                      <a:lnTo>
                        <a:pt x="1932" y="253"/>
                      </a:lnTo>
                      <a:lnTo>
                        <a:pt x="1932" y="254"/>
                      </a:lnTo>
                      <a:lnTo>
                        <a:pt x="1951" y="254"/>
                      </a:lnTo>
                      <a:lnTo>
                        <a:pt x="1951" y="253"/>
                      </a:lnTo>
                      <a:lnTo>
                        <a:pt x="1952" y="252"/>
                      </a:lnTo>
                      <a:lnTo>
                        <a:pt x="1953" y="251"/>
                      </a:lnTo>
                      <a:lnTo>
                        <a:pt x="1955" y="251"/>
                      </a:lnTo>
                      <a:lnTo>
                        <a:pt x="1957" y="251"/>
                      </a:lnTo>
                      <a:lnTo>
                        <a:pt x="1958" y="252"/>
                      </a:lnTo>
                      <a:lnTo>
                        <a:pt x="1959" y="253"/>
                      </a:lnTo>
                      <a:lnTo>
                        <a:pt x="1960" y="254"/>
                      </a:lnTo>
                      <a:lnTo>
                        <a:pt x="1975" y="254"/>
                      </a:lnTo>
                      <a:lnTo>
                        <a:pt x="1976" y="253"/>
                      </a:lnTo>
                      <a:lnTo>
                        <a:pt x="1977" y="252"/>
                      </a:lnTo>
                      <a:lnTo>
                        <a:pt x="1978" y="251"/>
                      </a:lnTo>
                      <a:lnTo>
                        <a:pt x="1980" y="251"/>
                      </a:lnTo>
                      <a:lnTo>
                        <a:pt x="1981" y="251"/>
                      </a:lnTo>
                      <a:lnTo>
                        <a:pt x="1983" y="252"/>
                      </a:lnTo>
                      <a:lnTo>
                        <a:pt x="1984" y="253"/>
                      </a:lnTo>
                      <a:lnTo>
                        <a:pt x="1984" y="254"/>
                      </a:lnTo>
                      <a:lnTo>
                        <a:pt x="1989" y="254"/>
                      </a:lnTo>
                      <a:lnTo>
                        <a:pt x="1990" y="253"/>
                      </a:lnTo>
                      <a:lnTo>
                        <a:pt x="1991" y="252"/>
                      </a:lnTo>
                      <a:lnTo>
                        <a:pt x="1992" y="251"/>
                      </a:lnTo>
                      <a:lnTo>
                        <a:pt x="1994" y="251"/>
                      </a:lnTo>
                      <a:lnTo>
                        <a:pt x="1996" y="251"/>
                      </a:lnTo>
                      <a:lnTo>
                        <a:pt x="1997" y="252"/>
                      </a:lnTo>
                      <a:lnTo>
                        <a:pt x="1998" y="253"/>
                      </a:lnTo>
                      <a:lnTo>
                        <a:pt x="1998" y="254"/>
                      </a:lnTo>
                      <a:lnTo>
                        <a:pt x="2060" y="254"/>
                      </a:lnTo>
                      <a:lnTo>
                        <a:pt x="2060" y="253"/>
                      </a:lnTo>
                      <a:lnTo>
                        <a:pt x="2061" y="252"/>
                      </a:lnTo>
                      <a:lnTo>
                        <a:pt x="2063" y="251"/>
                      </a:lnTo>
                      <a:lnTo>
                        <a:pt x="2064" y="251"/>
                      </a:lnTo>
                      <a:lnTo>
                        <a:pt x="2066" y="251"/>
                      </a:lnTo>
                      <a:lnTo>
                        <a:pt x="2067" y="252"/>
                      </a:lnTo>
                      <a:lnTo>
                        <a:pt x="2068" y="253"/>
                      </a:lnTo>
                      <a:lnTo>
                        <a:pt x="2069" y="254"/>
                      </a:lnTo>
                      <a:lnTo>
                        <a:pt x="2110" y="254"/>
                      </a:lnTo>
                      <a:lnTo>
                        <a:pt x="2110"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7" name=""/>
              <p:cNvSpPr/>
              <p:nvPr/>
            </p:nvSpPr>
            <p:spPr>
              <a:xfrm>
                <a:off x="6076440" y="278712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48" name=""/>
              <p:cNvSpPr/>
              <p:nvPr/>
            </p:nvSpPr>
            <p:spPr>
              <a:xfrm>
                <a:off x="5402160" y="2702880"/>
                <a:ext cx="344880" cy="70560"/>
              </a:xfrm>
              <a:custGeom>
                <a:avLst/>
                <a:gdLst/>
                <a:ahLst/>
                <a:rect l="l" t="t" r="r" b="b"/>
                <a:pathLst>
                  <a:path w="326" h="53">
                    <a:moveTo>
                      <a:pt x="0" y="6"/>
                    </a:moveTo>
                    <a:lnTo>
                      <a:pt x="9" y="6"/>
                    </a:lnTo>
                    <a:lnTo>
                      <a:pt x="9" y="5"/>
                    </a:lnTo>
                    <a:lnTo>
                      <a:pt x="10" y="4"/>
                    </a:lnTo>
                    <a:lnTo>
                      <a:pt x="12" y="3"/>
                    </a:lnTo>
                    <a:lnTo>
                      <a:pt x="13" y="3"/>
                    </a:lnTo>
                    <a:lnTo>
                      <a:pt x="15" y="3"/>
                    </a:lnTo>
                    <a:lnTo>
                      <a:pt x="16" y="4"/>
                    </a:lnTo>
                    <a:lnTo>
                      <a:pt x="18" y="5"/>
                    </a:lnTo>
                    <a:lnTo>
                      <a:pt x="18" y="6"/>
                    </a:lnTo>
                    <a:lnTo>
                      <a:pt x="20" y="6"/>
                    </a:lnTo>
                    <a:lnTo>
                      <a:pt x="20" y="5"/>
                    </a:lnTo>
                    <a:lnTo>
                      <a:pt x="21" y="4"/>
                    </a:lnTo>
                    <a:lnTo>
                      <a:pt x="23" y="3"/>
                    </a:lnTo>
                    <a:lnTo>
                      <a:pt x="24" y="3"/>
                    </a:lnTo>
                    <a:lnTo>
                      <a:pt x="26" y="3"/>
                    </a:lnTo>
                    <a:lnTo>
                      <a:pt x="28" y="4"/>
                    </a:lnTo>
                    <a:lnTo>
                      <a:pt x="29" y="5"/>
                    </a:lnTo>
                    <a:lnTo>
                      <a:pt x="29" y="6"/>
                    </a:lnTo>
                    <a:lnTo>
                      <a:pt x="40" y="6"/>
                    </a:lnTo>
                    <a:lnTo>
                      <a:pt x="41" y="5"/>
                    </a:lnTo>
                    <a:lnTo>
                      <a:pt x="41" y="4"/>
                    </a:lnTo>
                    <a:lnTo>
                      <a:pt x="43" y="3"/>
                    </a:lnTo>
                    <a:lnTo>
                      <a:pt x="45" y="3"/>
                    </a:lnTo>
                    <a:lnTo>
                      <a:pt x="46" y="3"/>
                    </a:lnTo>
                    <a:lnTo>
                      <a:pt x="48" y="4"/>
                    </a:lnTo>
                    <a:lnTo>
                      <a:pt x="49" y="5"/>
                    </a:lnTo>
                    <a:lnTo>
                      <a:pt x="49" y="6"/>
                    </a:lnTo>
                    <a:lnTo>
                      <a:pt x="62" y="6"/>
                    </a:lnTo>
                    <a:lnTo>
                      <a:pt x="62" y="4"/>
                    </a:lnTo>
                    <a:lnTo>
                      <a:pt x="63" y="3"/>
                    </a:lnTo>
                    <a:lnTo>
                      <a:pt x="65" y="1"/>
                    </a:lnTo>
                    <a:lnTo>
                      <a:pt x="67" y="0"/>
                    </a:lnTo>
                    <a:lnTo>
                      <a:pt x="69" y="0"/>
                    </a:lnTo>
                    <a:lnTo>
                      <a:pt x="71" y="0"/>
                    </a:lnTo>
                    <a:lnTo>
                      <a:pt x="73" y="0"/>
                    </a:lnTo>
                    <a:lnTo>
                      <a:pt x="76" y="1"/>
                    </a:lnTo>
                    <a:lnTo>
                      <a:pt x="77" y="3"/>
                    </a:lnTo>
                    <a:lnTo>
                      <a:pt x="78" y="4"/>
                    </a:lnTo>
                    <a:lnTo>
                      <a:pt x="78" y="6"/>
                    </a:lnTo>
                    <a:lnTo>
                      <a:pt x="93" y="6"/>
                    </a:lnTo>
                    <a:lnTo>
                      <a:pt x="93" y="5"/>
                    </a:lnTo>
                    <a:lnTo>
                      <a:pt x="94" y="4"/>
                    </a:lnTo>
                    <a:lnTo>
                      <a:pt x="96" y="3"/>
                    </a:lnTo>
                    <a:lnTo>
                      <a:pt x="97" y="3"/>
                    </a:lnTo>
                    <a:lnTo>
                      <a:pt x="99" y="3"/>
                    </a:lnTo>
                    <a:lnTo>
                      <a:pt x="101" y="4"/>
                    </a:lnTo>
                    <a:lnTo>
                      <a:pt x="101" y="5"/>
                    </a:lnTo>
                    <a:lnTo>
                      <a:pt x="102" y="6"/>
                    </a:lnTo>
                    <a:lnTo>
                      <a:pt x="121" y="6"/>
                    </a:lnTo>
                    <a:lnTo>
                      <a:pt x="121" y="5"/>
                    </a:lnTo>
                    <a:lnTo>
                      <a:pt x="122" y="4"/>
                    </a:lnTo>
                    <a:lnTo>
                      <a:pt x="123" y="3"/>
                    </a:lnTo>
                    <a:lnTo>
                      <a:pt x="125" y="3"/>
                    </a:lnTo>
                    <a:lnTo>
                      <a:pt x="127" y="3"/>
                    </a:lnTo>
                    <a:lnTo>
                      <a:pt x="128" y="4"/>
                    </a:lnTo>
                    <a:lnTo>
                      <a:pt x="129" y="5"/>
                    </a:lnTo>
                    <a:lnTo>
                      <a:pt x="129" y="6"/>
                    </a:lnTo>
                    <a:lnTo>
                      <a:pt x="139" y="6"/>
                    </a:lnTo>
                    <a:lnTo>
                      <a:pt x="140" y="5"/>
                    </a:lnTo>
                    <a:lnTo>
                      <a:pt x="141" y="4"/>
                    </a:lnTo>
                    <a:lnTo>
                      <a:pt x="142" y="3"/>
                    </a:lnTo>
                    <a:lnTo>
                      <a:pt x="144" y="3"/>
                    </a:lnTo>
                    <a:lnTo>
                      <a:pt x="145" y="3"/>
                    </a:lnTo>
                    <a:lnTo>
                      <a:pt x="147" y="4"/>
                    </a:lnTo>
                    <a:lnTo>
                      <a:pt x="148" y="5"/>
                    </a:lnTo>
                    <a:lnTo>
                      <a:pt x="148" y="6"/>
                    </a:lnTo>
                    <a:lnTo>
                      <a:pt x="168" y="6"/>
                    </a:lnTo>
                    <a:lnTo>
                      <a:pt x="168" y="5"/>
                    </a:lnTo>
                    <a:lnTo>
                      <a:pt x="169" y="4"/>
                    </a:lnTo>
                    <a:lnTo>
                      <a:pt x="171" y="3"/>
                    </a:lnTo>
                    <a:lnTo>
                      <a:pt x="172" y="3"/>
                    </a:lnTo>
                    <a:lnTo>
                      <a:pt x="174" y="3"/>
                    </a:lnTo>
                    <a:lnTo>
                      <a:pt x="176" y="4"/>
                    </a:lnTo>
                    <a:lnTo>
                      <a:pt x="177" y="5"/>
                    </a:lnTo>
                    <a:lnTo>
                      <a:pt x="177" y="6"/>
                    </a:lnTo>
                    <a:lnTo>
                      <a:pt x="186" y="6"/>
                    </a:lnTo>
                    <a:lnTo>
                      <a:pt x="187" y="5"/>
                    </a:lnTo>
                    <a:lnTo>
                      <a:pt x="188" y="4"/>
                    </a:lnTo>
                    <a:lnTo>
                      <a:pt x="189" y="3"/>
                    </a:lnTo>
                    <a:lnTo>
                      <a:pt x="191" y="3"/>
                    </a:lnTo>
                    <a:lnTo>
                      <a:pt x="193" y="3"/>
                    </a:lnTo>
                    <a:lnTo>
                      <a:pt x="194" y="4"/>
                    </a:lnTo>
                    <a:lnTo>
                      <a:pt x="195" y="5"/>
                    </a:lnTo>
                    <a:lnTo>
                      <a:pt x="195" y="6"/>
                    </a:lnTo>
                    <a:lnTo>
                      <a:pt x="213" y="6"/>
                    </a:lnTo>
                    <a:lnTo>
                      <a:pt x="214" y="5"/>
                    </a:lnTo>
                    <a:lnTo>
                      <a:pt x="215" y="4"/>
                    </a:lnTo>
                    <a:lnTo>
                      <a:pt x="216" y="3"/>
                    </a:lnTo>
                    <a:lnTo>
                      <a:pt x="218" y="3"/>
                    </a:lnTo>
                    <a:lnTo>
                      <a:pt x="220" y="3"/>
                    </a:lnTo>
                    <a:lnTo>
                      <a:pt x="221" y="4"/>
                    </a:lnTo>
                    <a:lnTo>
                      <a:pt x="222" y="5"/>
                    </a:lnTo>
                    <a:lnTo>
                      <a:pt x="222" y="6"/>
                    </a:lnTo>
                    <a:lnTo>
                      <a:pt x="232" y="6"/>
                    </a:lnTo>
                    <a:lnTo>
                      <a:pt x="232" y="5"/>
                    </a:lnTo>
                    <a:lnTo>
                      <a:pt x="233" y="4"/>
                    </a:lnTo>
                    <a:lnTo>
                      <a:pt x="235" y="3"/>
                    </a:lnTo>
                    <a:lnTo>
                      <a:pt x="237" y="3"/>
                    </a:lnTo>
                    <a:lnTo>
                      <a:pt x="238" y="3"/>
                    </a:lnTo>
                    <a:lnTo>
                      <a:pt x="240" y="4"/>
                    </a:lnTo>
                    <a:lnTo>
                      <a:pt x="241" y="5"/>
                    </a:lnTo>
                    <a:lnTo>
                      <a:pt x="241" y="6"/>
                    </a:lnTo>
                    <a:lnTo>
                      <a:pt x="256" y="6"/>
                    </a:lnTo>
                    <a:lnTo>
                      <a:pt x="256" y="53"/>
                    </a:lnTo>
                    <a:lnTo>
                      <a:pt x="301" y="53"/>
                    </a:lnTo>
                    <a:lnTo>
                      <a:pt x="302" y="52"/>
                    </a:lnTo>
                    <a:lnTo>
                      <a:pt x="303" y="50"/>
                    </a:lnTo>
                    <a:lnTo>
                      <a:pt x="304" y="50"/>
                    </a:lnTo>
                    <a:lnTo>
                      <a:pt x="306" y="49"/>
                    </a:lnTo>
                    <a:lnTo>
                      <a:pt x="308" y="50"/>
                    </a:lnTo>
                    <a:lnTo>
                      <a:pt x="309" y="50"/>
                    </a:lnTo>
                    <a:lnTo>
                      <a:pt x="310" y="52"/>
                    </a:lnTo>
                    <a:lnTo>
                      <a:pt x="310" y="53"/>
                    </a:lnTo>
                    <a:lnTo>
                      <a:pt x="326" y="53"/>
                    </a:lnTo>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249" name=""/>
              <p:cNvSpPr/>
              <p:nvPr/>
            </p:nvSpPr>
            <p:spPr>
              <a:xfrm>
                <a:off x="5402160" y="2705400"/>
                <a:ext cx="13680" cy="1152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0" name=""/>
              <p:cNvSpPr/>
              <p:nvPr/>
            </p:nvSpPr>
            <p:spPr>
              <a:xfrm>
                <a:off x="6089040" y="2872440"/>
                <a:ext cx="617040" cy="231120"/>
              </a:xfrm>
              <a:custGeom>
                <a:avLst/>
                <a:gdLst/>
                <a:ahLst/>
                <a:rect l="l" t="t" r="r" b="b"/>
                <a:pathLst>
                  <a:path w="583" h="173">
                    <a:moveTo>
                      <a:pt x="0" y="6"/>
                    </a:moveTo>
                    <a:lnTo>
                      <a:pt x="1" y="6"/>
                    </a:lnTo>
                    <a:lnTo>
                      <a:pt x="2" y="5"/>
                    </a:lnTo>
                    <a:lnTo>
                      <a:pt x="3" y="4"/>
                    </a:lnTo>
                    <a:lnTo>
                      <a:pt x="4" y="3"/>
                    </a:lnTo>
                    <a:lnTo>
                      <a:pt x="6" y="3"/>
                    </a:lnTo>
                    <a:lnTo>
                      <a:pt x="8" y="3"/>
                    </a:lnTo>
                    <a:lnTo>
                      <a:pt x="9" y="4"/>
                    </a:lnTo>
                    <a:lnTo>
                      <a:pt x="10" y="5"/>
                    </a:lnTo>
                    <a:lnTo>
                      <a:pt x="10" y="6"/>
                    </a:lnTo>
                    <a:lnTo>
                      <a:pt x="29" y="6"/>
                    </a:lnTo>
                    <a:lnTo>
                      <a:pt x="29" y="5"/>
                    </a:lnTo>
                    <a:lnTo>
                      <a:pt x="30" y="4"/>
                    </a:lnTo>
                    <a:lnTo>
                      <a:pt x="32" y="3"/>
                    </a:lnTo>
                    <a:lnTo>
                      <a:pt x="33" y="3"/>
                    </a:lnTo>
                    <a:lnTo>
                      <a:pt x="35" y="3"/>
                    </a:lnTo>
                    <a:lnTo>
                      <a:pt x="36" y="4"/>
                    </a:lnTo>
                    <a:lnTo>
                      <a:pt x="37" y="5"/>
                    </a:lnTo>
                    <a:lnTo>
                      <a:pt x="38" y="6"/>
                    </a:lnTo>
                    <a:lnTo>
                      <a:pt x="48" y="6"/>
                    </a:lnTo>
                    <a:lnTo>
                      <a:pt x="48" y="5"/>
                    </a:lnTo>
                    <a:lnTo>
                      <a:pt x="49" y="4"/>
                    </a:lnTo>
                    <a:lnTo>
                      <a:pt x="50" y="3"/>
                    </a:lnTo>
                    <a:lnTo>
                      <a:pt x="52" y="3"/>
                    </a:lnTo>
                    <a:lnTo>
                      <a:pt x="54" y="3"/>
                    </a:lnTo>
                    <a:lnTo>
                      <a:pt x="55" y="4"/>
                    </a:lnTo>
                    <a:lnTo>
                      <a:pt x="56" y="5"/>
                    </a:lnTo>
                    <a:lnTo>
                      <a:pt x="57" y="6"/>
                    </a:lnTo>
                    <a:lnTo>
                      <a:pt x="61" y="6"/>
                    </a:lnTo>
                    <a:lnTo>
                      <a:pt x="61" y="5"/>
                    </a:lnTo>
                    <a:lnTo>
                      <a:pt x="62" y="4"/>
                    </a:lnTo>
                    <a:lnTo>
                      <a:pt x="64" y="3"/>
                    </a:lnTo>
                    <a:lnTo>
                      <a:pt x="66" y="3"/>
                    </a:lnTo>
                    <a:lnTo>
                      <a:pt x="67" y="3"/>
                    </a:lnTo>
                    <a:lnTo>
                      <a:pt x="69" y="4"/>
                    </a:lnTo>
                    <a:lnTo>
                      <a:pt x="70" y="5"/>
                    </a:lnTo>
                    <a:lnTo>
                      <a:pt x="70" y="6"/>
                    </a:lnTo>
                    <a:lnTo>
                      <a:pt x="85" y="6"/>
                    </a:lnTo>
                    <a:lnTo>
                      <a:pt x="85" y="4"/>
                    </a:lnTo>
                    <a:lnTo>
                      <a:pt x="86" y="3"/>
                    </a:lnTo>
                    <a:lnTo>
                      <a:pt x="87" y="2"/>
                    </a:lnTo>
                    <a:lnTo>
                      <a:pt x="89" y="1"/>
                    </a:lnTo>
                    <a:lnTo>
                      <a:pt x="91" y="0"/>
                    </a:lnTo>
                    <a:lnTo>
                      <a:pt x="94" y="0"/>
                    </a:lnTo>
                    <a:lnTo>
                      <a:pt x="96" y="1"/>
                    </a:lnTo>
                    <a:lnTo>
                      <a:pt x="98" y="2"/>
                    </a:lnTo>
                    <a:lnTo>
                      <a:pt x="99" y="3"/>
                    </a:lnTo>
                    <a:lnTo>
                      <a:pt x="100" y="4"/>
                    </a:lnTo>
                    <a:lnTo>
                      <a:pt x="100" y="6"/>
                    </a:lnTo>
                    <a:lnTo>
                      <a:pt x="105" y="6"/>
                    </a:lnTo>
                    <a:lnTo>
                      <a:pt x="105" y="5"/>
                    </a:lnTo>
                    <a:lnTo>
                      <a:pt x="106" y="4"/>
                    </a:lnTo>
                    <a:lnTo>
                      <a:pt x="108" y="3"/>
                    </a:lnTo>
                    <a:lnTo>
                      <a:pt x="109" y="3"/>
                    </a:lnTo>
                    <a:lnTo>
                      <a:pt x="111" y="3"/>
                    </a:lnTo>
                    <a:lnTo>
                      <a:pt x="113" y="4"/>
                    </a:lnTo>
                    <a:lnTo>
                      <a:pt x="113" y="5"/>
                    </a:lnTo>
                    <a:lnTo>
                      <a:pt x="114" y="6"/>
                    </a:lnTo>
                    <a:lnTo>
                      <a:pt x="126" y="6"/>
                    </a:lnTo>
                    <a:lnTo>
                      <a:pt x="126" y="141"/>
                    </a:lnTo>
                    <a:lnTo>
                      <a:pt x="139" y="141"/>
                    </a:lnTo>
                    <a:lnTo>
                      <a:pt x="139" y="139"/>
                    </a:lnTo>
                    <a:lnTo>
                      <a:pt x="140" y="138"/>
                    </a:lnTo>
                    <a:lnTo>
                      <a:pt x="141" y="138"/>
                    </a:lnTo>
                    <a:lnTo>
                      <a:pt x="143" y="137"/>
                    </a:lnTo>
                    <a:lnTo>
                      <a:pt x="145" y="138"/>
                    </a:lnTo>
                    <a:lnTo>
                      <a:pt x="146" y="138"/>
                    </a:lnTo>
                    <a:lnTo>
                      <a:pt x="147" y="139"/>
                    </a:lnTo>
                    <a:lnTo>
                      <a:pt x="148" y="141"/>
                    </a:lnTo>
                    <a:lnTo>
                      <a:pt x="169" y="141"/>
                    </a:lnTo>
                    <a:lnTo>
                      <a:pt x="169" y="139"/>
                    </a:lnTo>
                    <a:lnTo>
                      <a:pt x="170" y="137"/>
                    </a:lnTo>
                    <a:lnTo>
                      <a:pt x="171" y="136"/>
                    </a:lnTo>
                    <a:lnTo>
                      <a:pt x="173" y="135"/>
                    </a:lnTo>
                    <a:lnTo>
                      <a:pt x="176" y="135"/>
                    </a:lnTo>
                    <a:lnTo>
                      <a:pt x="178" y="135"/>
                    </a:lnTo>
                    <a:lnTo>
                      <a:pt x="180" y="135"/>
                    </a:lnTo>
                    <a:lnTo>
                      <a:pt x="182" y="136"/>
                    </a:lnTo>
                    <a:lnTo>
                      <a:pt x="184" y="137"/>
                    </a:lnTo>
                    <a:lnTo>
                      <a:pt x="184" y="139"/>
                    </a:lnTo>
                    <a:lnTo>
                      <a:pt x="185" y="141"/>
                    </a:lnTo>
                    <a:lnTo>
                      <a:pt x="198" y="141"/>
                    </a:lnTo>
                    <a:lnTo>
                      <a:pt x="198" y="139"/>
                    </a:lnTo>
                    <a:lnTo>
                      <a:pt x="199" y="138"/>
                    </a:lnTo>
                    <a:lnTo>
                      <a:pt x="200" y="138"/>
                    </a:lnTo>
                    <a:lnTo>
                      <a:pt x="202" y="137"/>
                    </a:lnTo>
                    <a:lnTo>
                      <a:pt x="204" y="138"/>
                    </a:lnTo>
                    <a:lnTo>
                      <a:pt x="206" y="138"/>
                    </a:lnTo>
                    <a:lnTo>
                      <a:pt x="206" y="139"/>
                    </a:lnTo>
                    <a:lnTo>
                      <a:pt x="207" y="141"/>
                    </a:lnTo>
                    <a:lnTo>
                      <a:pt x="247" y="141"/>
                    </a:lnTo>
                    <a:lnTo>
                      <a:pt x="247" y="139"/>
                    </a:lnTo>
                    <a:lnTo>
                      <a:pt x="248" y="138"/>
                    </a:lnTo>
                    <a:lnTo>
                      <a:pt x="249" y="138"/>
                    </a:lnTo>
                    <a:lnTo>
                      <a:pt x="251" y="137"/>
                    </a:lnTo>
                    <a:lnTo>
                      <a:pt x="253" y="138"/>
                    </a:lnTo>
                    <a:lnTo>
                      <a:pt x="254" y="138"/>
                    </a:lnTo>
                    <a:lnTo>
                      <a:pt x="255" y="139"/>
                    </a:lnTo>
                    <a:lnTo>
                      <a:pt x="256" y="141"/>
                    </a:lnTo>
                    <a:lnTo>
                      <a:pt x="264" y="141"/>
                    </a:lnTo>
                    <a:lnTo>
                      <a:pt x="264" y="139"/>
                    </a:lnTo>
                    <a:lnTo>
                      <a:pt x="265" y="138"/>
                    </a:lnTo>
                    <a:lnTo>
                      <a:pt x="266" y="137"/>
                    </a:lnTo>
                    <a:lnTo>
                      <a:pt x="268" y="136"/>
                    </a:lnTo>
                    <a:lnTo>
                      <a:pt x="270" y="136"/>
                    </a:lnTo>
                    <a:lnTo>
                      <a:pt x="273" y="136"/>
                    </a:lnTo>
                    <a:lnTo>
                      <a:pt x="274" y="137"/>
                    </a:lnTo>
                    <a:lnTo>
                      <a:pt x="276" y="138"/>
                    </a:lnTo>
                    <a:lnTo>
                      <a:pt x="277" y="139"/>
                    </a:lnTo>
                    <a:lnTo>
                      <a:pt x="277" y="141"/>
                    </a:lnTo>
                    <a:lnTo>
                      <a:pt x="304" y="141"/>
                    </a:lnTo>
                    <a:lnTo>
                      <a:pt x="305" y="139"/>
                    </a:lnTo>
                    <a:lnTo>
                      <a:pt x="305" y="138"/>
                    </a:lnTo>
                    <a:lnTo>
                      <a:pt x="307" y="138"/>
                    </a:lnTo>
                    <a:lnTo>
                      <a:pt x="309" y="137"/>
                    </a:lnTo>
                    <a:lnTo>
                      <a:pt x="310" y="138"/>
                    </a:lnTo>
                    <a:lnTo>
                      <a:pt x="312" y="138"/>
                    </a:lnTo>
                    <a:lnTo>
                      <a:pt x="313" y="139"/>
                    </a:lnTo>
                    <a:lnTo>
                      <a:pt x="313" y="141"/>
                    </a:lnTo>
                    <a:lnTo>
                      <a:pt x="328" y="141"/>
                    </a:lnTo>
                    <a:lnTo>
                      <a:pt x="328" y="139"/>
                    </a:lnTo>
                    <a:lnTo>
                      <a:pt x="329" y="138"/>
                    </a:lnTo>
                    <a:lnTo>
                      <a:pt x="331" y="138"/>
                    </a:lnTo>
                    <a:lnTo>
                      <a:pt x="332" y="137"/>
                    </a:lnTo>
                    <a:lnTo>
                      <a:pt x="334" y="138"/>
                    </a:lnTo>
                    <a:lnTo>
                      <a:pt x="335" y="138"/>
                    </a:lnTo>
                    <a:lnTo>
                      <a:pt x="336" y="139"/>
                    </a:lnTo>
                    <a:lnTo>
                      <a:pt x="337" y="141"/>
                    </a:lnTo>
                    <a:lnTo>
                      <a:pt x="350" y="141"/>
                    </a:lnTo>
                    <a:lnTo>
                      <a:pt x="350" y="139"/>
                    </a:lnTo>
                    <a:lnTo>
                      <a:pt x="351" y="138"/>
                    </a:lnTo>
                    <a:lnTo>
                      <a:pt x="352" y="138"/>
                    </a:lnTo>
                    <a:lnTo>
                      <a:pt x="354" y="137"/>
                    </a:lnTo>
                    <a:lnTo>
                      <a:pt x="356" y="138"/>
                    </a:lnTo>
                    <a:lnTo>
                      <a:pt x="357" y="138"/>
                    </a:lnTo>
                    <a:lnTo>
                      <a:pt x="358" y="139"/>
                    </a:lnTo>
                    <a:lnTo>
                      <a:pt x="358" y="141"/>
                    </a:lnTo>
                    <a:lnTo>
                      <a:pt x="369" y="141"/>
                    </a:lnTo>
                    <a:lnTo>
                      <a:pt x="370" y="139"/>
                    </a:lnTo>
                    <a:lnTo>
                      <a:pt x="371" y="138"/>
                    </a:lnTo>
                    <a:lnTo>
                      <a:pt x="372" y="138"/>
                    </a:lnTo>
                    <a:lnTo>
                      <a:pt x="374" y="137"/>
                    </a:lnTo>
                    <a:lnTo>
                      <a:pt x="375" y="138"/>
                    </a:lnTo>
                    <a:lnTo>
                      <a:pt x="377" y="138"/>
                    </a:lnTo>
                    <a:lnTo>
                      <a:pt x="378" y="139"/>
                    </a:lnTo>
                    <a:lnTo>
                      <a:pt x="378" y="141"/>
                    </a:lnTo>
                    <a:lnTo>
                      <a:pt x="389" y="141"/>
                    </a:lnTo>
                    <a:lnTo>
                      <a:pt x="389" y="139"/>
                    </a:lnTo>
                    <a:lnTo>
                      <a:pt x="390" y="138"/>
                    </a:lnTo>
                    <a:lnTo>
                      <a:pt x="391" y="138"/>
                    </a:lnTo>
                    <a:lnTo>
                      <a:pt x="393" y="137"/>
                    </a:lnTo>
                    <a:lnTo>
                      <a:pt x="395" y="138"/>
                    </a:lnTo>
                    <a:lnTo>
                      <a:pt x="396" y="138"/>
                    </a:lnTo>
                    <a:lnTo>
                      <a:pt x="397" y="139"/>
                    </a:lnTo>
                    <a:lnTo>
                      <a:pt x="398" y="141"/>
                    </a:lnTo>
                    <a:lnTo>
                      <a:pt x="400" y="141"/>
                    </a:lnTo>
                    <a:lnTo>
                      <a:pt x="401" y="139"/>
                    </a:lnTo>
                    <a:lnTo>
                      <a:pt x="402" y="138"/>
                    </a:lnTo>
                    <a:lnTo>
                      <a:pt x="403" y="138"/>
                    </a:lnTo>
                    <a:lnTo>
                      <a:pt x="405" y="137"/>
                    </a:lnTo>
                    <a:lnTo>
                      <a:pt x="407" y="138"/>
                    </a:lnTo>
                    <a:lnTo>
                      <a:pt x="408" y="138"/>
                    </a:lnTo>
                    <a:lnTo>
                      <a:pt x="409" y="139"/>
                    </a:lnTo>
                    <a:lnTo>
                      <a:pt x="409" y="141"/>
                    </a:lnTo>
                    <a:lnTo>
                      <a:pt x="422" y="141"/>
                    </a:lnTo>
                    <a:lnTo>
                      <a:pt x="423" y="139"/>
                    </a:lnTo>
                    <a:lnTo>
                      <a:pt x="424" y="138"/>
                    </a:lnTo>
                    <a:lnTo>
                      <a:pt x="425" y="138"/>
                    </a:lnTo>
                    <a:lnTo>
                      <a:pt x="427" y="137"/>
                    </a:lnTo>
                    <a:lnTo>
                      <a:pt x="429" y="138"/>
                    </a:lnTo>
                    <a:lnTo>
                      <a:pt x="430" y="138"/>
                    </a:lnTo>
                    <a:lnTo>
                      <a:pt x="431" y="139"/>
                    </a:lnTo>
                    <a:lnTo>
                      <a:pt x="431" y="141"/>
                    </a:lnTo>
                    <a:lnTo>
                      <a:pt x="483" y="141"/>
                    </a:lnTo>
                    <a:lnTo>
                      <a:pt x="483" y="139"/>
                    </a:lnTo>
                    <a:lnTo>
                      <a:pt x="484" y="138"/>
                    </a:lnTo>
                    <a:lnTo>
                      <a:pt x="486" y="138"/>
                    </a:lnTo>
                    <a:lnTo>
                      <a:pt x="487" y="137"/>
                    </a:lnTo>
                    <a:lnTo>
                      <a:pt x="489" y="138"/>
                    </a:lnTo>
                    <a:lnTo>
                      <a:pt x="491" y="138"/>
                    </a:lnTo>
                    <a:lnTo>
                      <a:pt x="492" y="139"/>
                    </a:lnTo>
                    <a:lnTo>
                      <a:pt x="492" y="141"/>
                    </a:lnTo>
                    <a:lnTo>
                      <a:pt x="510" y="141"/>
                    </a:lnTo>
                    <a:lnTo>
                      <a:pt x="510" y="139"/>
                    </a:lnTo>
                    <a:lnTo>
                      <a:pt x="512" y="138"/>
                    </a:lnTo>
                    <a:lnTo>
                      <a:pt x="513" y="138"/>
                    </a:lnTo>
                    <a:lnTo>
                      <a:pt x="515" y="137"/>
                    </a:lnTo>
                    <a:lnTo>
                      <a:pt x="516" y="138"/>
                    </a:lnTo>
                    <a:lnTo>
                      <a:pt x="518" y="138"/>
                    </a:lnTo>
                    <a:lnTo>
                      <a:pt x="519" y="139"/>
                    </a:lnTo>
                    <a:lnTo>
                      <a:pt x="519" y="141"/>
                    </a:lnTo>
                    <a:lnTo>
                      <a:pt x="551" y="141"/>
                    </a:lnTo>
                    <a:lnTo>
                      <a:pt x="551" y="139"/>
                    </a:lnTo>
                    <a:lnTo>
                      <a:pt x="552" y="138"/>
                    </a:lnTo>
                    <a:lnTo>
                      <a:pt x="554" y="138"/>
                    </a:lnTo>
                    <a:lnTo>
                      <a:pt x="555" y="137"/>
                    </a:lnTo>
                    <a:lnTo>
                      <a:pt x="557" y="138"/>
                    </a:lnTo>
                    <a:lnTo>
                      <a:pt x="558" y="138"/>
                    </a:lnTo>
                    <a:lnTo>
                      <a:pt x="559" y="139"/>
                    </a:lnTo>
                    <a:lnTo>
                      <a:pt x="560" y="141"/>
                    </a:lnTo>
                    <a:lnTo>
                      <a:pt x="583" y="141"/>
                    </a:lnTo>
                    <a:lnTo>
                      <a:pt x="583" y="173"/>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076440" y="2874960"/>
                <a:ext cx="13680" cy="1152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2" name=""/>
              <p:cNvSpPr/>
              <p:nvPr/>
            </p:nvSpPr>
            <p:spPr>
              <a:xfrm>
                <a:off x="6699960" y="31021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53" name=""/>
              <p:cNvSpPr/>
              <p:nvPr/>
            </p:nvSpPr>
            <p:spPr>
              <a:xfrm>
                <a:off x="6059520" y="2934000"/>
                <a:ext cx="513360" cy="1045440"/>
              </a:xfrm>
              <a:custGeom>
                <a:avLst/>
                <a:gdLst/>
                <a:ahLst/>
                <a:rect l="l" t="t" r="r" b="b"/>
                <a:pathLst>
                  <a:path w="485" h="783">
                    <a:moveTo>
                      <a:pt x="485" y="783"/>
                    </a:moveTo>
                    <a:lnTo>
                      <a:pt x="485" y="700"/>
                    </a:lnTo>
                    <a:lnTo>
                      <a:pt x="437" y="700"/>
                    </a:lnTo>
                    <a:lnTo>
                      <a:pt x="437" y="698"/>
                    </a:lnTo>
                    <a:lnTo>
                      <a:pt x="436" y="697"/>
                    </a:lnTo>
                    <a:lnTo>
                      <a:pt x="435" y="697"/>
                    </a:lnTo>
                    <a:lnTo>
                      <a:pt x="433" y="696"/>
                    </a:lnTo>
                    <a:lnTo>
                      <a:pt x="431" y="697"/>
                    </a:lnTo>
                    <a:lnTo>
                      <a:pt x="430" y="697"/>
                    </a:lnTo>
                    <a:lnTo>
                      <a:pt x="429" y="698"/>
                    </a:lnTo>
                    <a:lnTo>
                      <a:pt x="428" y="700"/>
                    </a:lnTo>
                    <a:lnTo>
                      <a:pt x="426" y="700"/>
                    </a:lnTo>
                    <a:lnTo>
                      <a:pt x="425" y="698"/>
                    </a:lnTo>
                    <a:lnTo>
                      <a:pt x="424" y="697"/>
                    </a:lnTo>
                    <a:lnTo>
                      <a:pt x="423" y="697"/>
                    </a:lnTo>
                    <a:lnTo>
                      <a:pt x="421" y="696"/>
                    </a:lnTo>
                    <a:lnTo>
                      <a:pt x="419" y="697"/>
                    </a:lnTo>
                    <a:lnTo>
                      <a:pt x="418" y="697"/>
                    </a:lnTo>
                    <a:lnTo>
                      <a:pt x="417" y="698"/>
                    </a:lnTo>
                    <a:lnTo>
                      <a:pt x="417" y="700"/>
                    </a:lnTo>
                    <a:lnTo>
                      <a:pt x="365" y="700"/>
                    </a:lnTo>
                    <a:lnTo>
                      <a:pt x="364" y="698"/>
                    </a:lnTo>
                    <a:lnTo>
                      <a:pt x="363" y="697"/>
                    </a:lnTo>
                    <a:lnTo>
                      <a:pt x="362" y="697"/>
                    </a:lnTo>
                    <a:lnTo>
                      <a:pt x="360" y="696"/>
                    </a:lnTo>
                    <a:lnTo>
                      <a:pt x="359" y="697"/>
                    </a:lnTo>
                    <a:lnTo>
                      <a:pt x="357" y="697"/>
                    </a:lnTo>
                    <a:lnTo>
                      <a:pt x="356" y="698"/>
                    </a:lnTo>
                    <a:lnTo>
                      <a:pt x="356" y="700"/>
                    </a:lnTo>
                    <a:lnTo>
                      <a:pt x="311" y="700"/>
                    </a:lnTo>
                    <a:lnTo>
                      <a:pt x="310" y="698"/>
                    </a:lnTo>
                    <a:lnTo>
                      <a:pt x="309" y="697"/>
                    </a:lnTo>
                    <a:lnTo>
                      <a:pt x="308" y="697"/>
                    </a:lnTo>
                    <a:lnTo>
                      <a:pt x="306" y="696"/>
                    </a:lnTo>
                    <a:lnTo>
                      <a:pt x="304" y="697"/>
                    </a:lnTo>
                    <a:lnTo>
                      <a:pt x="303" y="697"/>
                    </a:lnTo>
                    <a:lnTo>
                      <a:pt x="302" y="698"/>
                    </a:lnTo>
                    <a:lnTo>
                      <a:pt x="302" y="700"/>
                    </a:lnTo>
                    <a:lnTo>
                      <a:pt x="295" y="700"/>
                    </a:lnTo>
                    <a:lnTo>
                      <a:pt x="295" y="698"/>
                    </a:lnTo>
                    <a:lnTo>
                      <a:pt x="294" y="697"/>
                    </a:lnTo>
                    <a:lnTo>
                      <a:pt x="293" y="697"/>
                    </a:lnTo>
                    <a:lnTo>
                      <a:pt x="291" y="696"/>
                    </a:lnTo>
                    <a:lnTo>
                      <a:pt x="289" y="697"/>
                    </a:lnTo>
                    <a:lnTo>
                      <a:pt x="288" y="697"/>
                    </a:lnTo>
                    <a:lnTo>
                      <a:pt x="287" y="698"/>
                    </a:lnTo>
                    <a:lnTo>
                      <a:pt x="287" y="700"/>
                    </a:lnTo>
                    <a:lnTo>
                      <a:pt x="284" y="700"/>
                    </a:lnTo>
                    <a:lnTo>
                      <a:pt x="283" y="698"/>
                    </a:lnTo>
                    <a:lnTo>
                      <a:pt x="282" y="697"/>
                    </a:lnTo>
                    <a:lnTo>
                      <a:pt x="281" y="697"/>
                    </a:lnTo>
                    <a:lnTo>
                      <a:pt x="279" y="696"/>
                    </a:lnTo>
                    <a:lnTo>
                      <a:pt x="277" y="697"/>
                    </a:lnTo>
                    <a:lnTo>
                      <a:pt x="276" y="697"/>
                    </a:lnTo>
                    <a:lnTo>
                      <a:pt x="275" y="698"/>
                    </a:lnTo>
                    <a:lnTo>
                      <a:pt x="275" y="700"/>
                    </a:lnTo>
                    <a:lnTo>
                      <a:pt x="271" y="700"/>
                    </a:lnTo>
                    <a:lnTo>
                      <a:pt x="271" y="698"/>
                    </a:lnTo>
                    <a:lnTo>
                      <a:pt x="270" y="697"/>
                    </a:lnTo>
                    <a:lnTo>
                      <a:pt x="268" y="697"/>
                    </a:lnTo>
                    <a:lnTo>
                      <a:pt x="267" y="696"/>
                    </a:lnTo>
                    <a:lnTo>
                      <a:pt x="265" y="697"/>
                    </a:lnTo>
                    <a:lnTo>
                      <a:pt x="263" y="697"/>
                    </a:lnTo>
                    <a:lnTo>
                      <a:pt x="263" y="698"/>
                    </a:lnTo>
                    <a:lnTo>
                      <a:pt x="262" y="700"/>
                    </a:lnTo>
                    <a:lnTo>
                      <a:pt x="224" y="700"/>
                    </a:lnTo>
                    <a:lnTo>
                      <a:pt x="224" y="698"/>
                    </a:lnTo>
                    <a:lnTo>
                      <a:pt x="223" y="697"/>
                    </a:lnTo>
                    <a:lnTo>
                      <a:pt x="221" y="697"/>
                    </a:lnTo>
                    <a:lnTo>
                      <a:pt x="220" y="696"/>
                    </a:lnTo>
                    <a:lnTo>
                      <a:pt x="218" y="697"/>
                    </a:lnTo>
                    <a:lnTo>
                      <a:pt x="217" y="697"/>
                    </a:lnTo>
                    <a:lnTo>
                      <a:pt x="216" y="698"/>
                    </a:lnTo>
                    <a:lnTo>
                      <a:pt x="215" y="700"/>
                    </a:lnTo>
                    <a:lnTo>
                      <a:pt x="149" y="700"/>
                    </a:lnTo>
                    <a:lnTo>
                      <a:pt x="148" y="698"/>
                    </a:lnTo>
                    <a:lnTo>
                      <a:pt x="147" y="697"/>
                    </a:lnTo>
                    <a:lnTo>
                      <a:pt x="146" y="697"/>
                    </a:lnTo>
                    <a:lnTo>
                      <a:pt x="144" y="696"/>
                    </a:lnTo>
                    <a:lnTo>
                      <a:pt x="142" y="697"/>
                    </a:lnTo>
                    <a:lnTo>
                      <a:pt x="141" y="697"/>
                    </a:lnTo>
                    <a:lnTo>
                      <a:pt x="140" y="698"/>
                    </a:lnTo>
                    <a:lnTo>
                      <a:pt x="140" y="700"/>
                    </a:lnTo>
                    <a:lnTo>
                      <a:pt x="60" y="700"/>
                    </a:lnTo>
                    <a:lnTo>
                      <a:pt x="60" y="698"/>
                    </a:lnTo>
                    <a:lnTo>
                      <a:pt x="59" y="697"/>
                    </a:lnTo>
                    <a:lnTo>
                      <a:pt x="57" y="697"/>
                    </a:lnTo>
                    <a:lnTo>
                      <a:pt x="55" y="696"/>
                    </a:lnTo>
                    <a:lnTo>
                      <a:pt x="54" y="697"/>
                    </a:lnTo>
                    <a:lnTo>
                      <a:pt x="52" y="697"/>
                    </a:lnTo>
                    <a:lnTo>
                      <a:pt x="51" y="698"/>
                    </a:lnTo>
                    <a:lnTo>
                      <a:pt x="51" y="700"/>
                    </a:lnTo>
                    <a:lnTo>
                      <a:pt x="0" y="7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6566760" y="397836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255" name=""/>
              <p:cNvSpPr/>
              <p:nvPr/>
            </p:nvSpPr>
            <p:spPr>
              <a:xfrm>
                <a:off x="6053040" y="2921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56" name=""/>
              <p:cNvSpPr/>
              <p:nvPr/>
            </p:nvSpPr>
            <p:spPr>
              <a:xfrm>
                <a:off x="5132160" y="2863080"/>
                <a:ext cx="602280" cy="1040400"/>
              </a:xfrm>
              <a:custGeom>
                <a:avLst/>
                <a:gdLst/>
                <a:ahLst/>
                <a:rect l="l" t="t" r="r" b="b"/>
                <a:pathLst>
                  <a:path w="569" h="779">
                    <a:moveTo>
                      <a:pt x="0" y="779"/>
                    </a:moveTo>
                    <a:lnTo>
                      <a:pt x="3" y="779"/>
                    </a:lnTo>
                    <a:lnTo>
                      <a:pt x="3" y="777"/>
                    </a:lnTo>
                    <a:lnTo>
                      <a:pt x="4" y="776"/>
                    </a:lnTo>
                    <a:lnTo>
                      <a:pt x="5" y="776"/>
                    </a:lnTo>
                    <a:lnTo>
                      <a:pt x="7" y="775"/>
                    </a:lnTo>
                    <a:lnTo>
                      <a:pt x="9" y="776"/>
                    </a:lnTo>
                    <a:lnTo>
                      <a:pt x="10" y="776"/>
                    </a:lnTo>
                    <a:lnTo>
                      <a:pt x="11" y="777"/>
                    </a:lnTo>
                    <a:lnTo>
                      <a:pt x="12" y="779"/>
                    </a:lnTo>
                    <a:lnTo>
                      <a:pt x="32" y="779"/>
                    </a:lnTo>
                    <a:lnTo>
                      <a:pt x="32" y="7"/>
                    </a:lnTo>
                    <a:lnTo>
                      <a:pt x="61" y="7"/>
                    </a:lnTo>
                    <a:lnTo>
                      <a:pt x="61" y="5"/>
                    </a:lnTo>
                    <a:lnTo>
                      <a:pt x="62" y="4"/>
                    </a:lnTo>
                    <a:lnTo>
                      <a:pt x="63" y="4"/>
                    </a:lnTo>
                    <a:lnTo>
                      <a:pt x="65" y="3"/>
                    </a:lnTo>
                    <a:lnTo>
                      <a:pt x="67" y="4"/>
                    </a:lnTo>
                    <a:lnTo>
                      <a:pt x="68" y="4"/>
                    </a:lnTo>
                    <a:lnTo>
                      <a:pt x="69" y="5"/>
                    </a:lnTo>
                    <a:lnTo>
                      <a:pt x="70" y="7"/>
                    </a:lnTo>
                    <a:lnTo>
                      <a:pt x="191" y="7"/>
                    </a:lnTo>
                    <a:lnTo>
                      <a:pt x="191" y="5"/>
                    </a:lnTo>
                    <a:lnTo>
                      <a:pt x="192" y="4"/>
                    </a:lnTo>
                    <a:lnTo>
                      <a:pt x="193" y="4"/>
                    </a:lnTo>
                    <a:lnTo>
                      <a:pt x="195" y="3"/>
                    </a:lnTo>
                    <a:lnTo>
                      <a:pt x="197" y="4"/>
                    </a:lnTo>
                    <a:lnTo>
                      <a:pt x="198" y="4"/>
                    </a:lnTo>
                    <a:lnTo>
                      <a:pt x="199" y="5"/>
                    </a:lnTo>
                    <a:lnTo>
                      <a:pt x="200" y="7"/>
                    </a:lnTo>
                    <a:lnTo>
                      <a:pt x="244" y="7"/>
                    </a:lnTo>
                    <a:lnTo>
                      <a:pt x="244" y="5"/>
                    </a:lnTo>
                    <a:lnTo>
                      <a:pt x="245" y="4"/>
                    </a:lnTo>
                    <a:lnTo>
                      <a:pt x="247" y="4"/>
                    </a:lnTo>
                    <a:lnTo>
                      <a:pt x="248" y="3"/>
                    </a:lnTo>
                    <a:lnTo>
                      <a:pt x="250" y="4"/>
                    </a:lnTo>
                    <a:lnTo>
                      <a:pt x="252" y="4"/>
                    </a:lnTo>
                    <a:lnTo>
                      <a:pt x="253" y="5"/>
                    </a:lnTo>
                    <a:lnTo>
                      <a:pt x="253" y="7"/>
                    </a:lnTo>
                    <a:lnTo>
                      <a:pt x="264" y="7"/>
                    </a:lnTo>
                    <a:lnTo>
                      <a:pt x="264" y="5"/>
                    </a:lnTo>
                    <a:lnTo>
                      <a:pt x="265" y="4"/>
                    </a:lnTo>
                    <a:lnTo>
                      <a:pt x="267" y="4"/>
                    </a:lnTo>
                    <a:lnTo>
                      <a:pt x="268" y="3"/>
                    </a:lnTo>
                    <a:lnTo>
                      <a:pt x="270" y="4"/>
                    </a:lnTo>
                    <a:lnTo>
                      <a:pt x="271" y="4"/>
                    </a:lnTo>
                    <a:lnTo>
                      <a:pt x="273" y="5"/>
                    </a:lnTo>
                    <a:lnTo>
                      <a:pt x="273" y="7"/>
                    </a:lnTo>
                    <a:lnTo>
                      <a:pt x="275" y="7"/>
                    </a:lnTo>
                    <a:lnTo>
                      <a:pt x="275" y="5"/>
                    </a:lnTo>
                    <a:lnTo>
                      <a:pt x="276" y="4"/>
                    </a:lnTo>
                    <a:lnTo>
                      <a:pt x="278" y="4"/>
                    </a:lnTo>
                    <a:lnTo>
                      <a:pt x="279" y="3"/>
                    </a:lnTo>
                    <a:lnTo>
                      <a:pt x="281" y="4"/>
                    </a:lnTo>
                    <a:lnTo>
                      <a:pt x="283" y="4"/>
                    </a:lnTo>
                    <a:lnTo>
                      <a:pt x="284" y="5"/>
                    </a:lnTo>
                    <a:lnTo>
                      <a:pt x="284" y="7"/>
                    </a:lnTo>
                    <a:lnTo>
                      <a:pt x="295" y="7"/>
                    </a:lnTo>
                    <a:lnTo>
                      <a:pt x="296" y="5"/>
                    </a:lnTo>
                    <a:lnTo>
                      <a:pt x="296" y="4"/>
                    </a:lnTo>
                    <a:lnTo>
                      <a:pt x="298" y="4"/>
                    </a:lnTo>
                    <a:lnTo>
                      <a:pt x="300" y="3"/>
                    </a:lnTo>
                    <a:lnTo>
                      <a:pt x="301" y="4"/>
                    </a:lnTo>
                    <a:lnTo>
                      <a:pt x="303" y="4"/>
                    </a:lnTo>
                    <a:lnTo>
                      <a:pt x="304" y="5"/>
                    </a:lnTo>
                    <a:lnTo>
                      <a:pt x="304" y="7"/>
                    </a:lnTo>
                    <a:lnTo>
                      <a:pt x="317" y="7"/>
                    </a:lnTo>
                    <a:lnTo>
                      <a:pt x="317" y="5"/>
                    </a:lnTo>
                    <a:lnTo>
                      <a:pt x="318" y="3"/>
                    </a:lnTo>
                    <a:lnTo>
                      <a:pt x="320" y="2"/>
                    </a:lnTo>
                    <a:lnTo>
                      <a:pt x="322" y="1"/>
                    </a:lnTo>
                    <a:lnTo>
                      <a:pt x="324" y="0"/>
                    </a:lnTo>
                    <a:lnTo>
                      <a:pt x="326" y="0"/>
                    </a:lnTo>
                    <a:lnTo>
                      <a:pt x="329" y="1"/>
                    </a:lnTo>
                    <a:lnTo>
                      <a:pt x="331" y="2"/>
                    </a:lnTo>
                    <a:lnTo>
                      <a:pt x="332" y="3"/>
                    </a:lnTo>
                    <a:lnTo>
                      <a:pt x="333" y="5"/>
                    </a:lnTo>
                    <a:lnTo>
                      <a:pt x="333" y="7"/>
                    </a:lnTo>
                    <a:lnTo>
                      <a:pt x="348" y="7"/>
                    </a:lnTo>
                    <a:lnTo>
                      <a:pt x="348" y="5"/>
                    </a:lnTo>
                    <a:lnTo>
                      <a:pt x="349" y="4"/>
                    </a:lnTo>
                    <a:lnTo>
                      <a:pt x="351" y="4"/>
                    </a:lnTo>
                    <a:lnTo>
                      <a:pt x="352" y="3"/>
                    </a:lnTo>
                    <a:lnTo>
                      <a:pt x="354" y="4"/>
                    </a:lnTo>
                    <a:lnTo>
                      <a:pt x="356" y="4"/>
                    </a:lnTo>
                    <a:lnTo>
                      <a:pt x="356" y="5"/>
                    </a:lnTo>
                    <a:lnTo>
                      <a:pt x="357" y="7"/>
                    </a:lnTo>
                    <a:lnTo>
                      <a:pt x="376" y="7"/>
                    </a:lnTo>
                    <a:lnTo>
                      <a:pt x="376" y="5"/>
                    </a:lnTo>
                    <a:lnTo>
                      <a:pt x="377" y="4"/>
                    </a:lnTo>
                    <a:lnTo>
                      <a:pt x="378" y="4"/>
                    </a:lnTo>
                    <a:lnTo>
                      <a:pt x="380" y="3"/>
                    </a:lnTo>
                    <a:lnTo>
                      <a:pt x="382" y="4"/>
                    </a:lnTo>
                    <a:lnTo>
                      <a:pt x="383" y="4"/>
                    </a:lnTo>
                    <a:lnTo>
                      <a:pt x="384" y="5"/>
                    </a:lnTo>
                    <a:lnTo>
                      <a:pt x="385" y="7"/>
                    </a:lnTo>
                    <a:lnTo>
                      <a:pt x="441" y="7"/>
                    </a:lnTo>
                    <a:lnTo>
                      <a:pt x="442" y="5"/>
                    </a:lnTo>
                    <a:lnTo>
                      <a:pt x="443" y="4"/>
                    </a:lnTo>
                    <a:lnTo>
                      <a:pt x="444" y="4"/>
                    </a:lnTo>
                    <a:lnTo>
                      <a:pt x="446" y="3"/>
                    </a:lnTo>
                    <a:lnTo>
                      <a:pt x="448" y="4"/>
                    </a:lnTo>
                    <a:lnTo>
                      <a:pt x="449" y="4"/>
                    </a:lnTo>
                    <a:lnTo>
                      <a:pt x="450" y="5"/>
                    </a:lnTo>
                    <a:lnTo>
                      <a:pt x="450" y="7"/>
                    </a:lnTo>
                    <a:lnTo>
                      <a:pt x="456" y="7"/>
                    </a:lnTo>
                    <a:lnTo>
                      <a:pt x="456" y="5"/>
                    </a:lnTo>
                    <a:lnTo>
                      <a:pt x="457" y="4"/>
                    </a:lnTo>
                    <a:lnTo>
                      <a:pt x="459" y="4"/>
                    </a:lnTo>
                    <a:lnTo>
                      <a:pt x="460" y="3"/>
                    </a:lnTo>
                    <a:lnTo>
                      <a:pt x="462" y="4"/>
                    </a:lnTo>
                    <a:lnTo>
                      <a:pt x="464" y="4"/>
                    </a:lnTo>
                    <a:lnTo>
                      <a:pt x="465" y="5"/>
                    </a:lnTo>
                    <a:lnTo>
                      <a:pt x="465" y="7"/>
                    </a:lnTo>
                    <a:lnTo>
                      <a:pt x="487" y="7"/>
                    </a:lnTo>
                    <a:lnTo>
                      <a:pt x="487" y="5"/>
                    </a:lnTo>
                    <a:lnTo>
                      <a:pt x="488" y="4"/>
                    </a:lnTo>
                    <a:lnTo>
                      <a:pt x="490" y="4"/>
                    </a:lnTo>
                    <a:lnTo>
                      <a:pt x="492" y="3"/>
                    </a:lnTo>
                    <a:lnTo>
                      <a:pt x="493" y="4"/>
                    </a:lnTo>
                    <a:lnTo>
                      <a:pt x="495" y="4"/>
                    </a:lnTo>
                    <a:lnTo>
                      <a:pt x="496" y="5"/>
                    </a:lnTo>
                    <a:lnTo>
                      <a:pt x="496" y="7"/>
                    </a:lnTo>
                    <a:lnTo>
                      <a:pt x="556" y="7"/>
                    </a:lnTo>
                    <a:lnTo>
                      <a:pt x="557" y="5"/>
                    </a:lnTo>
                    <a:lnTo>
                      <a:pt x="558" y="4"/>
                    </a:lnTo>
                    <a:lnTo>
                      <a:pt x="559" y="4"/>
                    </a:lnTo>
                    <a:lnTo>
                      <a:pt x="561" y="3"/>
                    </a:lnTo>
                    <a:lnTo>
                      <a:pt x="563" y="4"/>
                    </a:lnTo>
                    <a:lnTo>
                      <a:pt x="564" y="4"/>
                    </a:lnTo>
                    <a:lnTo>
                      <a:pt x="565" y="5"/>
                    </a:lnTo>
                    <a:lnTo>
                      <a:pt x="565" y="7"/>
                    </a:lnTo>
                    <a:lnTo>
                      <a:pt x="569" y="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5733720" y="286560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8" name=""/>
              <p:cNvSpPr/>
              <p:nvPr/>
            </p:nvSpPr>
            <p:spPr>
              <a:xfrm>
                <a:off x="6034320" y="2934000"/>
                <a:ext cx="126720" cy="1215360"/>
              </a:xfrm>
              <a:custGeom>
                <a:avLst/>
                <a:gdLst/>
                <a:ahLst/>
                <a:rect l="l" t="t" r="r" b="b"/>
                <a:pathLst>
                  <a:path w="120" h="910">
                    <a:moveTo>
                      <a:pt x="120" y="910"/>
                    </a:moveTo>
                    <a:lnTo>
                      <a:pt x="120" y="814"/>
                    </a:lnTo>
                    <a:lnTo>
                      <a:pt x="20" y="814"/>
                    </a:lnTo>
                    <a:lnTo>
                      <a:pt x="20" y="813"/>
                    </a:lnTo>
                    <a:lnTo>
                      <a:pt x="19" y="812"/>
                    </a:lnTo>
                    <a:lnTo>
                      <a:pt x="17" y="811"/>
                    </a:lnTo>
                    <a:lnTo>
                      <a:pt x="15" y="811"/>
                    </a:lnTo>
                    <a:lnTo>
                      <a:pt x="14" y="811"/>
                    </a:lnTo>
                    <a:lnTo>
                      <a:pt x="12" y="812"/>
                    </a:lnTo>
                    <a:lnTo>
                      <a:pt x="11" y="813"/>
                    </a:lnTo>
                    <a:lnTo>
                      <a:pt x="11" y="814"/>
                    </a:lnTo>
                    <a:lnTo>
                      <a:pt x="0" y="81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154920" y="4146840"/>
                <a:ext cx="12600" cy="1440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60" name=""/>
              <p:cNvSpPr/>
              <p:nvPr/>
            </p:nvSpPr>
            <p:spPr>
              <a:xfrm>
                <a:off x="6027840" y="292176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61" name=""/>
              <p:cNvSpPr/>
              <p:nvPr/>
            </p:nvSpPr>
            <p:spPr>
              <a:xfrm>
                <a:off x="5786280" y="2081520"/>
                <a:ext cx="2358720" cy="646560"/>
              </a:xfrm>
              <a:custGeom>
                <a:avLst/>
                <a:gdLst/>
                <a:ahLst/>
                <a:rect l="l" t="t" r="r" b="b"/>
                <a:pathLst>
                  <a:path w="2228" h="484">
                    <a:moveTo>
                      <a:pt x="2228" y="0"/>
                    </a:moveTo>
                    <a:lnTo>
                      <a:pt x="2158" y="0"/>
                    </a:lnTo>
                    <a:lnTo>
                      <a:pt x="2158" y="183"/>
                    </a:lnTo>
                    <a:lnTo>
                      <a:pt x="2122" y="183"/>
                    </a:lnTo>
                    <a:lnTo>
                      <a:pt x="2122" y="181"/>
                    </a:lnTo>
                    <a:lnTo>
                      <a:pt x="2121" y="180"/>
                    </a:lnTo>
                    <a:lnTo>
                      <a:pt x="2119" y="179"/>
                    </a:lnTo>
                    <a:lnTo>
                      <a:pt x="2118" y="179"/>
                    </a:lnTo>
                    <a:lnTo>
                      <a:pt x="2116" y="179"/>
                    </a:lnTo>
                    <a:lnTo>
                      <a:pt x="2115" y="180"/>
                    </a:lnTo>
                    <a:lnTo>
                      <a:pt x="2114" y="181"/>
                    </a:lnTo>
                    <a:lnTo>
                      <a:pt x="2113" y="183"/>
                    </a:lnTo>
                    <a:lnTo>
                      <a:pt x="2034" y="183"/>
                    </a:lnTo>
                    <a:lnTo>
                      <a:pt x="2034" y="181"/>
                    </a:lnTo>
                    <a:lnTo>
                      <a:pt x="2033" y="180"/>
                    </a:lnTo>
                    <a:lnTo>
                      <a:pt x="2032" y="179"/>
                    </a:lnTo>
                    <a:lnTo>
                      <a:pt x="2030" y="179"/>
                    </a:lnTo>
                    <a:lnTo>
                      <a:pt x="2028" y="179"/>
                    </a:lnTo>
                    <a:lnTo>
                      <a:pt x="2027" y="180"/>
                    </a:lnTo>
                    <a:lnTo>
                      <a:pt x="2026" y="181"/>
                    </a:lnTo>
                    <a:lnTo>
                      <a:pt x="2025" y="183"/>
                    </a:lnTo>
                    <a:lnTo>
                      <a:pt x="1960" y="183"/>
                    </a:lnTo>
                    <a:lnTo>
                      <a:pt x="1960" y="181"/>
                    </a:lnTo>
                    <a:lnTo>
                      <a:pt x="1959" y="180"/>
                    </a:lnTo>
                    <a:lnTo>
                      <a:pt x="1957" y="179"/>
                    </a:lnTo>
                    <a:lnTo>
                      <a:pt x="1956" y="179"/>
                    </a:lnTo>
                    <a:lnTo>
                      <a:pt x="1954" y="179"/>
                    </a:lnTo>
                    <a:lnTo>
                      <a:pt x="1952" y="180"/>
                    </a:lnTo>
                    <a:lnTo>
                      <a:pt x="1952" y="181"/>
                    </a:lnTo>
                    <a:lnTo>
                      <a:pt x="1951" y="183"/>
                    </a:lnTo>
                    <a:lnTo>
                      <a:pt x="1658" y="183"/>
                    </a:lnTo>
                    <a:lnTo>
                      <a:pt x="1658" y="181"/>
                    </a:lnTo>
                    <a:lnTo>
                      <a:pt x="1657" y="180"/>
                    </a:lnTo>
                    <a:lnTo>
                      <a:pt x="1655" y="179"/>
                    </a:lnTo>
                    <a:lnTo>
                      <a:pt x="1653" y="179"/>
                    </a:lnTo>
                    <a:lnTo>
                      <a:pt x="1652" y="179"/>
                    </a:lnTo>
                    <a:lnTo>
                      <a:pt x="1650" y="180"/>
                    </a:lnTo>
                    <a:lnTo>
                      <a:pt x="1649" y="181"/>
                    </a:lnTo>
                    <a:lnTo>
                      <a:pt x="1649" y="183"/>
                    </a:lnTo>
                    <a:lnTo>
                      <a:pt x="1535" y="183"/>
                    </a:lnTo>
                    <a:lnTo>
                      <a:pt x="1534" y="181"/>
                    </a:lnTo>
                    <a:lnTo>
                      <a:pt x="1533" y="180"/>
                    </a:lnTo>
                    <a:lnTo>
                      <a:pt x="1532" y="179"/>
                    </a:lnTo>
                    <a:lnTo>
                      <a:pt x="1530" y="179"/>
                    </a:lnTo>
                    <a:lnTo>
                      <a:pt x="1528" y="179"/>
                    </a:lnTo>
                    <a:lnTo>
                      <a:pt x="1527" y="180"/>
                    </a:lnTo>
                    <a:lnTo>
                      <a:pt x="1526" y="181"/>
                    </a:lnTo>
                    <a:lnTo>
                      <a:pt x="1526" y="183"/>
                    </a:lnTo>
                    <a:lnTo>
                      <a:pt x="1474" y="183"/>
                    </a:lnTo>
                    <a:lnTo>
                      <a:pt x="1474" y="181"/>
                    </a:lnTo>
                    <a:lnTo>
                      <a:pt x="1472" y="180"/>
                    </a:lnTo>
                    <a:lnTo>
                      <a:pt x="1471" y="179"/>
                    </a:lnTo>
                    <a:lnTo>
                      <a:pt x="1469" y="179"/>
                    </a:lnTo>
                    <a:lnTo>
                      <a:pt x="1468" y="179"/>
                    </a:lnTo>
                    <a:lnTo>
                      <a:pt x="1466" y="180"/>
                    </a:lnTo>
                    <a:lnTo>
                      <a:pt x="1465" y="181"/>
                    </a:lnTo>
                    <a:lnTo>
                      <a:pt x="1465" y="183"/>
                    </a:lnTo>
                    <a:lnTo>
                      <a:pt x="1440" y="183"/>
                    </a:lnTo>
                    <a:lnTo>
                      <a:pt x="1440" y="181"/>
                    </a:lnTo>
                    <a:lnTo>
                      <a:pt x="1439" y="180"/>
                    </a:lnTo>
                    <a:lnTo>
                      <a:pt x="1437" y="179"/>
                    </a:lnTo>
                    <a:lnTo>
                      <a:pt x="1436" y="179"/>
                    </a:lnTo>
                    <a:lnTo>
                      <a:pt x="1434" y="179"/>
                    </a:lnTo>
                    <a:lnTo>
                      <a:pt x="1432" y="180"/>
                    </a:lnTo>
                    <a:lnTo>
                      <a:pt x="1432" y="181"/>
                    </a:lnTo>
                    <a:lnTo>
                      <a:pt x="1431" y="183"/>
                    </a:lnTo>
                    <a:lnTo>
                      <a:pt x="1400" y="183"/>
                    </a:lnTo>
                    <a:lnTo>
                      <a:pt x="1399" y="181"/>
                    </a:lnTo>
                    <a:lnTo>
                      <a:pt x="1398" y="180"/>
                    </a:lnTo>
                    <a:lnTo>
                      <a:pt x="1397" y="179"/>
                    </a:lnTo>
                    <a:lnTo>
                      <a:pt x="1395" y="179"/>
                    </a:lnTo>
                    <a:lnTo>
                      <a:pt x="1393" y="179"/>
                    </a:lnTo>
                    <a:lnTo>
                      <a:pt x="1392" y="180"/>
                    </a:lnTo>
                    <a:lnTo>
                      <a:pt x="1391" y="181"/>
                    </a:lnTo>
                    <a:lnTo>
                      <a:pt x="1390" y="183"/>
                    </a:lnTo>
                    <a:lnTo>
                      <a:pt x="1372" y="183"/>
                    </a:lnTo>
                    <a:lnTo>
                      <a:pt x="1372" y="181"/>
                    </a:lnTo>
                    <a:lnTo>
                      <a:pt x="1371" y="180"/>
                    </a:lnTo>
                    <a:lnTo>
                      <a:pt x="1370" y="179"/>
                    </a:lnTo>
                    <a:lnTo>
                      <a:pt x="1368" y="179"/>
                    </a:lnTo>
                    <a:lnTo>
                      <a:pt x="1366" y="179"/>
                    </a:lnTo>
                    <a:lnTo>
                      <a:pt x="1365" y="180"/>
                    </a:lnTo>
                    <a:lnTo>
                      <a:pt x="1364" y="181"/>
                    </a:lnTo>
                    <a:lnTo>
                      <a:pt x="1363" y="183"/>
                    </a:lnTo>
                    <a:lnTo>
                      <a:pt x="1352" y="183"/>
                    </a:lnTo>
                    <a:lnTo>
                      <a:pt x="1351" y="181"/>
                    </a:lnTo>
                    <a:lnTo>
                      <a:pt x="1351" y="180"/>
                    </a:lnTo>
                    <a:lnTo>
                      <a:pt x="1349" y="179"/>
                    </a:lnTo>
                    <a:lnTo>
                      <a:pt x="1347" y="179"/>
                    </a:lnTo>
                    <a:lnTo>
                      <a:pt x="1346" y="179"/>
                    </a:lnTo>
                    <a:lnTo>
                      <a:pt x="1344" y="180"/>
                    </a:lnTo>
                    <a:lnTo>
                      <a:pt x="1343" y="181"/>
                    </a:lnTo>
                    <a:lnTo>
                      <a:pt x="1343" y="183"/>
                    </a:lnTo>
                    <a:lnTo>
                      <a:pt x="1330" y="183"/>
                    </a:lnTo>
                    <a:lnTo>
                      <a:pt x="1329" y="181"/>
                    </a:lnTo>
                    <a:lnTo>
                      <a:pt x="1329" y="180"/>
                    </a:lnTo>
                    <a:lnTo>
                      <a:pt x="1327" y="179"/>
                    </a:lnTo>
                    <a:lnTo>
                      <a:pt x="1325" y="179"/>
                    </a:lnTo>
                    <a:lnTo>
                      <a:pt x="1324" y="179"/>
                    </a:lnTo>
                    <a:lnTo>
                      <a:pt x="1322" y="180"/>
                    </a:lnTo>
                    <a:lnTo>
                      <a:pt x="1321" y="181"/>
                    </a:lnTo>
                    <a:lnTo>
                      <a:pt x="1321" y="183"/>
                    </a:lnTo>
                    <a:lnTo>
                      <a:pt x="1304" y="183"/>
                    </a:lnTo>
                    <a:lnTo>
                      <a:pt x="1304" y="181"/>
                    </a:lnTo>
                    <a:lnTo>
                      <a:pt x="1303" y="180"/>
                    </a:lnTo>
                    <a:lnTo>
                      <a:pt x="1301" y="179"/>
                    </a:lnTo>
                    <a:lnTo>
                      <a:pt x="1300" y="179"/>
                    </a:lnTo>
                    <a:lnTo>
                      <a:pt x="1298" y="179"/>
                    </a:lnTo>
                    <a:lnTo>
                      <a:pt x="1296" y="180"/>
                    </a:lnTo>
                    <a:lnTo>
                      <a:pt x="1295" y="181"/>
                    </a:lnTo>
                    <a:lnTo>
                      <a:pt x="1295" y="183"/>
                    </a:lnTo>
                    <a:lnTo>
                      <a:pt x="1276" y="183"/>
                    </a:lnTo>
                    <a:lnTo>
                      <a:pt x="1276" y="181"/>
                    </a:lnTo>
                    <a:lnTo>
                      <a:pt x="1275" y="180"/>
                    </a:lnTo>
                    <a:lnTo>
                      <a:pt x="1274" y="179"/>
                    </a:lnTo>
                    <a:lnTo>
                      <a:pt x="1272" y="179"/>
                    </a:lnTo>
                    <a:lnTo>
                      <a:pt x="1270" y="179"/>
                    </a:lnTo>
                    <a:lnTo>
                      <a:pt x="1269" y="180"/>
                    </a:lnTo>
                    <a:lnTo>
                      <a:pt x="1268" y="181"/>
                    </a:lnTo>
                    <a:lnTo>
                      <a:pt x="1267" y="183"/>
                    </a:lnTo>
                    <a:lnTo>
                      <a:pt x="1252" y="183"/>
                    </a:lnTo>
                    <a:lnTo>
                      <a:pt x="1252" y="181"/>
                    </a:lnTo>
                    <a:lnTo>
                      <a:pt x="1251" y="180"/>
                    </a:lnTo>
                    <a:lnTo>
                      <a:pt x="1249" y="179"/>
                    </a:lnTo>
                    <a:lnTo>
                      <a:pt x="1248" y="179"/>
                    </a:lnTo>
                    <a:lnTo>
                      <a:pt x="1246" y="179"/>
                    </a:lnTo>
                    <a:lnTo>
                      <a:pt x="1244" y="180"/>
                    </a:lnTo>
                    <a:lnTo>
                      <a:pt x="1244" y="181"/>
                    </a:lnTo>
                    <a:lnTo>
                      <a:pt x="1243" y="183"/>
                    </a:lnTo>
                    <a:lnTo>
                      <a:pt x="963" y="183"/>
                    </a:lnTo>
                    <a:lnTo>
                      <a:pt x="962" y="181"/>
                    </a:lnTo>
                    <a:lnTo>
                      <a:pt x="961" y="180"/>
                    </a:lnTo>
                    <a:lnTo>
                      <a:pt x="960" y="179"/>
                    </a:lnTo>
                    <a:lnTo>
                      <a:pt x="958" y="179"/>
                    </a:lnTo>
                    <a:lnTo>
                      <a:pt x="957" y="179"/>
                    </a:lnTo>
                    <a:lnTo>
                      <a:pt x="955" y="180"/>
                    </a:lnTo>
                    <a:lnTo>
                      <a:pt x="954" y="181"/>
                    </a:lnTo>
                    <a:lnTo>
                      <a:pt x="954" y="183"/>
                    </a:lnTo>
                    <a:lnTo>
                      <a:pt x="940" y="183"/>
                    </a:lnTo>
                    <a:lnTo>
                      <a:pt x="940" y="181"/>
                    </a:lnTo>
                    <a:lnTo>
                      <a:pt x="939" y="180"/>
                    </a:lnTo>
                    <a:lnTo>
                      <a:pt x="937" y="179"/>
                    </a:lnTo>
                    <a:lnTo>
                      <a:pt x="936" y="179"/>
                    </a:lnTo>
                    <a:lnTo>
                      <a:pt x="934" y="179"/>
                    </a:lnTo>
                    <a:lnTo>
                      <a:pt x="933" y="180"/>
                    </a:lnTo>
                    <a:lnTo>
                      <a:pt x="932" y="181"/>
                    </a:lnTo>
                    <a:lnTo>
                      <a:pt x="931" y="183"/>
                    </a:lnTo>
                    <a:lnTo>
                      <a:pt x="910" y="183"/>
                    </a:lnTo>
                    <a:lnTo>
                      <a:pt x="910" y="181"/>
                    </a:lnTo>
                    <a:lnTo>
                      <a:pt x="908" y="180"/>
                    </a:lnTo>
                    <a:lnTo>
                      <a:pt x="907" y="179"/>
                    </a:lnTo>
                    <a:lnTo>
                      <a:pt x="905" y="179"/>
                    </a:lnTo>
                    <a:lnTo>
                      <a:pt x="904" y="179"/>
                    </a:lnTo>
                    <a:lnTo>
                      <a:pt x="902" y="180"/>
                    </a:lnTo>
                    <a:lnTo>
                      <a:pt x="901" y="181"/>
                    </a:lnTo>
                    <a:lnTo>
                      <a:pt x="901" y="183"/>
                    </a:lnTo>
                    <a:lnTo>
                      <a:pt x="845" y="183"/>
                    </a:lnTo>
                    <a:lnTo>
                      <a:pt x="845" y="181"/>
                    </a:lnTo>
                    <a:lnTo>
                      <a:pt x="844" y="180"/>
                    </a:lnTo>
                    <a:lnTo>
                      <a:pt x="843" y="179"/>
                    </a:lnTo>
                    <a:lnTo>
                      <a:pt x="841" y="179"/>
                    </a:lnTo>
                    <a:lnTo>
                      <a:pt x="839" y="179"/>
                    </a:lnTo>
                    <a:lnTo>
                      <a:pt x="838" y="180"/>
                    </a:lnTo>
                    <a:lnTo>
                      <a:pt x="837" y="181"/>
                    </a:lnTo>
                    <a:lnTo>
                      <a:pt x="836" y="183"/>
                    </a:lnTo>
                    <a:lnTo>
                      <a:pt x="824" y="183"/>
                    </a:lnTo>
                    <a:lnTo>
                      <a:pt x="823" y="181"/>
                    </a:lnTo>
                    <a:lnTo>
                      <a:pt x="822" y="180"/>
                    </a:lnTo>
                    <a:lnTo>
                      <a:pt x="821" y="179"/>
                    </a:lnTo>
                    <a:lnTo>
                      <a:pt x="819" y="179"/>
                    </a:lnTo>
                    <a:lnTo>
                      <a:pt x="818" y="179"/>
                    </a:lnTo>
                    <a:lnTo>
                      <a:pt x="816" y="180"/>
                    </a:lnTo>
                    <a:lnTo>
                      <a:pt x="815" y="181"/>
                    </a:lnTo>
                    <a:lnTo>
                      <a:pt x="815" y="183"/>
                    </a:lnTo>
                    <a:lnTo>
                      <a:pt x="803" y="183"/>
                    </a:lnTo>
                    <a:lnTo>
                      <a:pt x="803" y="181"/>
                    </a:lnTo>
                    <a:lnTo>
                      <a:pt x="802" y="180"/>
                    </a:lnTo>
                    <a:lnTo>
                      <a:pt x="801" y="179"/>
                    </a:lnTo>
                    <a:lnTo>
                      <a:pt x="799" y="179"/>
                    </a:lnTo>
                    <a:lnTo>
                      <a:pt x="797" y="179"/>
                    </a:lnTo>
                    <a:lnTo>
                      <a:pt x="796" y="180"/>
                    </a:lnTo>
                    <a:lnTo>
                      <a:pt x="795" y="181"/>
                    </a:lnTo>
                    <a:lnTo>
                      <a:pt x="794" y="183"/>
                    </a:lnTo>
                    <a:lnTo>
                      <a:pt x="779" y="183"/>
                    </a:lnTo>
                    <a:lnTo>
                      <a:pt x="779" y="181"/>
                    </a:lnTo>
                    <a:lnTo>
                      <a:pt x="778" y="180"/>
                    </a:lnTo>
                    <a:lnTo>
                      <a:pt x="776" y="179"/>
                    </a:lnTo>
                    <a:lnTo>
                      <a:pt x="775" y="179"/>
                    </a:lnTo>
                    <a:lnTo>
                      <a:pt x="773" y="179"/>
                    </a:lnTo>
                    <a:lnTo>
                      <a:pt x="771" y="180"/>
                    </a:lnTo>
                    <a:lnTo>
                      <a:pt x="771" y="181"/>
                    </a:lnTo>
                    <a:lnTo>
                      <a:pt x="770" y="183"/>
                    </a:lnTo>
                    <a:lnTo>
                      <a:pt x="679" y="183"/>
                    </a:lnTo>
                    <a:lnTo>
                      <a:pt x="679" y="181"/>
                    </a:lnTo>
                    <a:lnTo>
                      <a:pt x="678" y="180"/>
                    </a:lnTo>
                    <a:lnTo>
                      <a:pt x="677" y="179"/>
                    </a:lnTo>
                    <a:lnTo>
                      <a:pt x="675" y="179"/>
                    </a:lnTo>
                    <a:lnTo>
                      <a:pt x="673" y="179"/>
                    </a:lnTo>
                    <a:lnTo>
                      <a:pt x="672" y="180"/>
                    </a:lnTo>
                    <a:lnTo>
                      <a:pt x="671" y="181"/>
                    </a:lnTo>
                    <a:lnTo>
                      <a:pt x="670" y="183"/>
                    </a:lnTo>
                    <a:lnTo>
                      <a:pt x="537" y="183"/>
                    </a:lnTo>
                    <a:lnTo>
                      <a:pt x="536" y="181"/>
                    </a:lnTo>
                    <a:lnTo>
                      <a:pt x="535" y="180"/>
                    </a:lnTo>
                    <a:lnTo>
                      <a:pt x="534" y="179"/>
                    </a:lnTo>
                    <a:lnTo>
                      <a:pt x="532" y="179"/>
                    </a:lnTo>
                    <a:lnTo>
                      <a:pt x="530" y="179"/>
                    </a:lnTo>
                    <a:lnTo>
                      <a:pt x="529" y="180"/>
                    </a:lnTo>
                    <a:lnTo>
                      <a:pt x="528" y="181"/>
                    </a:lnTo>
                    <a:lnTo>
                      <a:pt x="528" y="183"/>
                    </a:lnTo>
                    <a:lnTo>
                      <a:pt x="494" y="183"/>
                    </a:lnTo>
                    <a:lnTo>
                      <a:pt x="494" y="181"/>
                    </a:lnTo>
                    <a:lnTo>
                      <a:pt x="493" y="180"/>
                    </a:lnTo>
                    <a:lnTo>
                      <a:pt x="492" y="179"/>
                    </a:lnTo>
                    <a:lnTo>
                      <a:pt x="490" y="179"/>
                    </a:lnTo>
                    <a:lnTo>
                      <a:pt x="488" y="179"/>
                    </a:lnTo>
                    <a:lnTo>
                      <a:pt x="487" y="180"/>
                    </a:lnTo>
                    <a:lnTo>
                      <a:pt x="486" y="181"/>
                    </a:lnTo>
                    <a:lnTo>
                      <a:pt x="485" y="183"/>
                    </a:lnTo>
                    <a:lnTo>
                      <a:pt x="457" y="183"/>
                    </a:lnTo>
                    <a:lnTo>
                      <a:pt x="457" y="181"/>
                    </a:lnTo>
                    <a:lnTo>
                      <a:pt x="456" y="180"/>
                    </a:lnTo>
                    <a:lnTo>
                      <a:pt x="454" y="179"/>
                    </a:lnTo>
                    <a:lnTo>
                      <a:pt x="452" y="179"/>
                    </a:lnTo>
                    <a:lnTo>
                      <a:pt x="451" y="179"/>
                    </a:lnTo>
                    <a:lnTo>
                      <a:pt x="449" y="180"/>
                    </a:lnTo>
                    <a:lnTo>
                      <a:pt x="448" y="181"/>
                    </a:lnTo>
                    <a:lnTo>
                      <a:pt x="448" y="183"/>
                    </a:lnTo>
                    <a:lnTo>
                      <a:pt x="423" y="183"/>
                    </a:lnTo>
                    <a:lnTo>
                      <a:pt x="423" y="181"/>
                    </a:lnTo>
                    <a:lnTo>
                      <a:pt x="422" y="180"/>
                    </a:lnTo>
                    <a:lnTo>
                      <a:pt x="421" y="179"/>
                    </a:lnTo>
                    <a:lnTo>
                      <a:pt x="419" y="179"/>
                    </a:lnTo>
                    <a:lnTo>
                      <a:pt x="417" y="179"/>
                    </a:lnTo>
                    <a:lnTo>
                      <a:pt x="416" y="180"/>
                    </a:lnTo>
                    <a:lnTo>
                      <a:pt x="415" y="181"/>
                    </a:lnTo>
                    <a:lnTo>
                      <a:pt x="414" y="183"/>
                    </a:lnTo>
                    <a:lnTo>
                      <a:pt x="407" y="183"/>
                    </a:lnTo>
                    <a:lnTo>
                      <a:pt x="406" y="181"/>
                    </a:lnTo>
                    <a:lnTo>
                      <a:pt x="405" y="180"/>
                    </a:lnTo>
                    <a:lnTo>
                      <a:pt x="404" y="179"/>
                    </a:lnTo>
                    <a:lnTo>
                      <a:pt x="402" y="179"/>
                    </a:lnTo>
                    <a:lnTo>
                      <a:pt x="400" y="179"/>
                    </a:lnTo>
                    <a:lnTo>
                      <a:pt x="399" y="180"/>
                    </a:lnTo>
                    <a:lnTo>
                      <a:pt x="398" y="181"/>
                    </a:lnTo>
                    <a:lnTo>
                      <a:pt x="398" y="183"/>
                    </a:lnTo>
                    <a:lnTo>
                      <a:pt x="386" y="183"/>
                    </a:lnTo>
                    <a:lnTo>
                      <a:pt x="386" y="181"/>
                    </a:lnTo>
                    <a:lnTo>
                      <a:pt x="385" y="179"/>
                    </a:lnTo>
                    <a:lnTo>
                      <a:pt x="384" y="178"/>
                    </a:lnTo>
                    <a:lnTo>
                      <a:pt x="382" y="177"/>
                    </a:lnTo>
                    <a:lnTo>
                      <a:pt x="380" y="177"/>
                    </a:lnTo>
                    <a:lnTo>
                      <a:pt x="378" y="177"/>
                    </a:lnTo>
                    <a:lnTo>
                      <a:pt x="375" y="177"/>
                    </a:lnTo>
                    <a:lnTo>
                      <a:pt x="373" y="178"/>
                    </a:lnTo>
                    <a:lnTo>
                      <a:pt x="372" y="179"/>
                    </a:lnTo>
                    <a:lnTo>
                      <a:pt x="371" y="181"/>
                    </a:lnTo>
                    <a:lnTo>
                      <a:pt x="371" y="183"/>
                    </a:lnTo>
                    <a:lnTo>
                      <a:pt x="331" y="183"/>
                    </a:lnTo>
                    <a:lnTo>
                      <a:pt x="331" y="181"/>
                    </a:lnTo>
                    <a:lnTo>
                      <a:pt x="330" y="180"/>
                    </a:lnTo>
                    <a:lnTo>
                      <a:pt x="329" y="179"/>
                    </a:lnTo>
                    <a:lnTo>
                      <a:pt x="327" y="179"/>
                    </a:lnTo>
                    <a:lnTo>
                      <a:pt x="325" y="179"/>
                    </a:lnTo>
                    <a:lnTo>
                      <a:pt x="324" y="180"/>
                    </a:lnTo>
                    <a:lnTo>
                      <a:pt x="323" y="181"/>
                    </a:lnTo>
                    <a:lnTo>
                      <a:pt x="323" y="183"/>
                    </a:lnTo>
                    <a:lnTo>
                      <a:pt x="306" y="183"/>
                    </a:lnTo>
                    <a:lnTo>
                      <a:pt x="305" y="181"/>
                    </a:lnTo>
                    <a:lnTo>
                      <a:pt x="304" y="180"/>
                    </a:lnTo>
                    <a:lnTo>
                      <a:pt x="303" y="179"/>
                    </a:lnTo>
                    <a:lnTo>
                      <a:pt x="301" y="179"/>
                    </a:lnTo>
                    <a:lnTo>
                      <a:pt x="300" y="179"/>
                    </a:lnTo>
                    <a:lnTo>
                      <a:pt x="298" y="180"/>
                    </a:lnTo>
                    <a:lnTo>
                      <a:pt x="297" y="181"/>
                    </a:lnTo>
                    <a:lnTo>
                      <a:pt x="297" y="183"/>
                    </a:lnTo>
                    <a:lnTo>
                      <a:pt x="278" y="183"/>
                    </a:lnTo>
                    <a:lnTo>
                      <a:pt x="278" y="181"/>
                    </a:lnTo>
                    <a:lnTo>
                      <a:pt x="277" y="180"/>
                    </a:lnTo>
                    <a:lnTo>
                      <a:pt x="276" y="179"/>
                    </a:lnTo>
                    <a:lnTo>
                      <a:pt x="274" y="179"/>
                    </a:lnTo>
                    <a:lnTo>
                      <a:pt x="272" y="179"/>
                    </a:lnTo>
                    <a:lnTo>
                      <a:pt x="271" y="180"/>
                    </a:lnTo>
                    <a:lnTo>
                      <a:pt x="270" y="181"/>
                    </a:lnTo>
                    <a:lnTo>
                      <a:pt x="269" y="183"/>
                    </a:lnTo>
                    <a:lnTo>
                      <a:pt x="254" y="183"/>
                    </a:lnTo>
                    <a:lnTo>
                      <a:pt x="254" y="181"/>
                    </a:lnTo>
                    <a:lnTo>
                      <a:pt x="253" y="180"/>
                    </a:lnTo>
                    <a:lnTo>
                      <a:pt x="251" y="179"/>
                    </a:lnTo>
                    <a:lnTo>
                      <a:pt x="249" y="179"/>
                    </a:lnTo>
                    <a:lnTo>
                      <a:pt x="248" y="179"/>
                    </a:lnTo>
                    <a:lnTo>
                      <a:pt x="246" y="180"/>
                    </a:lnTo>
                    <a:lnTo>
                      <a:pt x="245" y="181"/>
                    </a:lnTo>
                    <a:lnTo>
                      <a:pt x="245" y="183"/>
                    </a:lnTo>
                    <a:lnTo>
                      <a:pt x="211" y="183"/>
                    </a:lnTo>
                    <a:lnTo>
                      <a:pt x="210" y="181"/>
                    </a:lnTo>
                    <a:lnTo>
                      <a:pt x="209" y="180"/>
                    </a:lnTo>
                    <a:lnTo>
                      <a:pt x="208" y="179"/>
                    </a:lnTo>
                    <a:lnTo>
                      <a:pt x="206" y="179"/>
                    </a:lnTo>
                    <a:lnTo>
                      <a:pt x="205" y="179"/>
                    </a:lnTo>
                    <a:lnTo>
                      <a:pt x="203" y="180"/>
                    </a:lnTo>
                    <a:lnTo>
                      <a:pt x="202" y="181"/>
                    </a:lnTo>
                    <a:lnTo>
                      <a:pt x="202" y="183"/>
                    </a:lnTo>
                    <a:lnTo>
                      <a:pt x="184" y="183"/>
                    </a:lnTo>
                    <a:lnTo>
                      <a:pt x="183" y="181"/>
                    </a:lnTo>
                    <a:lnTo>
                      <a:pt x="182" y="180"/>
                    </a:lnTo>
                    <a:lnTo>
                      <a:pt x="181" y="179"/>
                    </a:lnTo>
                    <a:lnTo>
                      <a:pt x="179" y="179"/>
                    </a:lnTo>
                    <a:lnTo>
                      <a:pt x="178" y="179"/>
                    </a:lnTo>
                    <a:lnTo>
                      <a:pt x="176" y="180"/>
                    </a:lnTo>
                    <a:lnTo>
                      <a:pt x="175" y="181"/>
                    </a:lnTo>
                    <a:lnTo>
                      <a:pt x="175" y="183"/>
                    </a:lnTo>
                    <a:lnTo>
                      <a:pt x="150" y="183"/>
                    </a:lnTo>
                    <a:lnTo>
                      <a:pt x="150" y="181"/>
                    </a:lnTo>
                    <a:lnTo>
                      <a:pt x="149" y="180"/>
                    </a:lnTo>
                    <a:lnTo>
                      <a:pt x="148" y="179"/>
                    </a:lnTo>
                    <a:lnTo>
                      <a:pt x="146" y="179"/>
                    </a:lnTo>
                    <a:lnTo>
                      <a:pt x="144" y="179"/>
                    </a:lnTo>
                    <a:lnTo>
                      <a:pt x="143" y="180"/>
                    </a:lnTo>
                    <a:lnTo>
                      <a:pt x="142" y="181"/>
                    </a:lnTo>
                    <a:lnTo>
                      <a:pt x="141" y="183"/>
                    </a:lnTo>
                    <a:lnTo>
                      <a:pt x="116" y="183"/>
                    </a:lnTo>
                    <a:lnTo>
                      <a:pt x="116" y="181"/>
                    </a:lnTo>
                    <a:lnTo>
                      <a:pt x="115" y="180"/>
                    </a:lnTo>
                    <a:lnTo>
                      <a:pt x="113" y="179"/>
                    </a:lnTo>
                    <a:lnTo>
                      <a:pt x="112" y="179"/>
                    </a:lnTo>
                    <a:lnTo>
                      <a:pt x="110" y="179"/>
                    </a:lnTo>
                    <a:lnTo>
                      <a:pt x="109" y="180"/>
                    </a:lnTo>
                    <a:lnTo>
                      <a:pt x="108" y="181"/>
                    </a:lnTo>
                    <a:lnTo>
                      <a:pt x="107" y="183"/>
                    </a:lnTo>
                    <a:lnTo>
                      <a:pt x="90" y="183"/>
                    </a:lnTo>
                    <a:lnTo>
                      <a:pt x="90" y="181"/>
                    </a:lnTo>
                    <a:lnTo>
                      <a:pt x="89" y="180"/>
                    </a:lnTo>
                    <a:lnTo>
                      <a:pt x="87" y="179"/>
                    </a:lnTo>
                    <a:lnTo>
                      <a:pt x="86" y="179"/>
                    </a:lnTo>
                    <a:lnTo>
                      <a:pt x="84" y="179"/>
                    </a:lnTo>
                    <a:lnTo>
                      <a:pt x="82" y="180"/>
                    </a:lnTo>
                    <a:lnTo>
                      <a:pt x="81" y="181"/>
                    </a:lnTo>
                    <a:lnTo>
                      <a:pt x="81" y="183"/>
                    </a:lnTo>
                    <a:lnTo>
                      <a:pt x="29" y="183"/>
                    </a:lnTo>
                    <a:lnTo>
                      <a:pt x="28" y="181"/>
                    </a:lnTo>
                    <a:lnTo>
                      <a:pt x="28" y="180"/>
                    </a:lnTo>
                    <a:lnTo>
                      <a:pt x="26" y="179"/>
                    </a:lnTo>
                    <a:lnTo>
                      <a:pt x="24" y="179"/>
                    </a:lnTo>
                    <a:lnTo>
                      <a:pt x="23" y="179"/>
                    </a:lnTo>
                    <a:lnTo>
                      <a:pt x="21" y="180"/>
                    </a:lnTo>
                    <a:lnTo>
                      <a:pt x="20" y="181"/>
                    </a:lnTo>
                    <a:lnTo>
                      <a:pt x="20" y="183"/>
                    </a:lnTo>
                    <a:lnTo>
                      <a:pt x="0" y="183"/>
                    </a:lnTo>
                    <a:lnTo>
                      <a:pt x="0" y="484"/>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8143200" y="2074680"/>
                <a:ext cx="13680" cy="13320"/>
              </a:xfrm>
              <a:custGeom>
                <a:avLst/>
                <a:gdLst/>
                <a:ahLst/>
                <a:rect l="l" t="t" r="r" b="b"/>
                <a:pathLst>
                  <a:path w="13" h="10">
                    <a:moveTo>
                      <a:pt x="2" y="0"/>
                    </a:moveTo>
                    <a:lnTo>
                      <a:pt x="13" y="5"/>
                    </a:lnTo>
                    <a:lnTo>
                      <a:pt x="2" y="10"/>
                    </a:lnTo>
                    <a:lnTo>
                      <a:pt x="0" y="7"/>
                    </a:lnTo>
                    <a:lnTo>
                      <a:pt x="0" y="5"/>
                    </a:lnTo>
                    <a:lnTo>
                      <a:pt x="0" y="3"/>
                    </a:lnTo>
                    <a:lnTo>
                      <a:pt x="2" y="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63" name=""/>
              <p:cNvSpPr/>
              <p:nvPr/>
            </p:nvSpPr>
            <p:spPr>
              <a:xfrm>
                <a:off x="5380920" y="2746800"/>
                <a:ext cx="366120" cy="249840"/>
              </a:xfrm>
              <a:custGeom>
                <a:avLst/>
                <a:gdLst/>
                <a:ahLst/>
                <a:rect l="l" t="t" r="r" b="b"/>
                <a:pathLst>
                  <a:path w="346" h="187">
                    <a:moveTo>
                      <a:pt x="346" y="0"/>
                    </a:moveTo>
                    <a:lnTo>
                      <a:pt x="326" y="0"/>
                    </a:lnTo>
                    <a:lnTo>
                      <a:pt x="326" y="187"/>
                    </a:lnTo>
                    <a:lnTo>
                      <a:pt x="261" y="187"/>
                    </a:lnTo>
                    <a:lnTo>
                      <a:pt x="261" y="185"/>
                    </a:lnTo>
                    <a:lnTo>
                      <a:pt x="260" y="184"/>
                    </a:lnTo>
                    <a:lnTo>
                      <a:pt x="258" y="183"/>
                    </a:lnTo>
                    <a:lnTo>
                      <a:pt x="257" y="183"/>
                    </a:lnTo>
                    <a:lnTo>
                      <a:pt x="255" y="183"/>
                    </a:lnTo>
                    <a:lnTo>
                      <a:pt x="253" y="184"/>
                    </a:lnTo>
                    <a:lnTo>
                      <a:pt x="252" y="185"/>
                    </a:lnTo>
                    <a:lnTo>
                      <a:pt x="252" y="187"/>
                    </a:lnTo>
                    <a:lnTo>
                      <a:pt x="230" y="187"/>
                    </a:lnTo>
                    <a:lnTo>
                      <a:pt x="230" y="185"/>
                    </a:lnTo>
                    <a:lnTo>
                      <a:pt x="229" y="184"/>
                    </a:lnTo>
                    <a:lnTo>
                      <a:pt x="227" y="183"/>
                    </a:lnTo>
                    <a:lnTo>
                      <a:pt x="225" y="183"/>
                    </a:lnTo>
                    <a:lnTo>
                      <a:pt x="224" y="183"/>
                    </a:lnTo>
                    <a:lnTo>
                      <a:pt x="222" y="184"/>
                    </a:lnTo>
                    <a:lnTo>
                      <a:pt x="221" y="185"/>
                    </a:lnTo>
                    <a:lnTo>
                      <a:pt x="221" y="187"/>
                    </a:lnTo>
                    <a:lnTo>
                      <a:pt x="215" y="187"/>
                    </a:lnTo>
                    <a:lnTo>
                      <a:pt x="215" y="185"/>
                    </a:lnTo>
                    <a:lnTo>
                      <a:pt x="214" y="184"/>
                    </a:lnTo>
                    <a:lnTo>
                      <a:pt x="213" y="183"/>
                    </a:lnTo>
                    <a:lnTo>
                      <a:pt x="211" y="183"/>
                    </a:lnTo>
                    <a:lnTo>
                      <a:pt x="209" y="183"/>
                    </a:lnTo>
                    <a:lnTo>
                      <a:pt x="208" y="184"/>
                    </a:lnTo>
                    <a:lnTo>
                      <a:pt x="207" y="185"/>
                    </a:lnTo>
                    <a:lnTo>
                      <a:pt x="206" y="187"/>
                    </a:lnTo>
                    <a:lnTo>
                      <a:pt x="150" y="187"/>
                    </a:lnTo>
                    <a:lnTo>
                      <a:pt x="149" y="185"/>
                    </a:lnTo>
                    <a:lnTo>
                      <a:pt x="148" y="184"/>
                    </a:lnTo>
                    <a:lnTo>
                      <a:pt x="147" y="183"/>
                    </a:lnTo>
                    <a:lnTo>
                      <a:pt x="145" y="183"/>
                    </a:lnTo>
                    <a:lnTo>
                      <a:pt x="143" y="183"/>
                    </a:lnTo>
                    <a:lnTo>
                      <a:pt x="142" y="184"/>
                    </a:lnTo>
                    <a:lnTo>
                      <a:pt x="141" y="185"/>
                    </a:lnTo>
                    <a:lnTo>
                      <a:pt x="141" y="187"/>
                    </a:lnTo>
                    <a:lnTo>
                      <a:pt x="138" y="187"/>
                    </a:lnTo>
                    <a:lnTo>
                      <a:pt x="137" y="185"/>
                    </a:lnTo>
                    <a:lnTo>
                      <a:pt x="137" y="184"/>
                    </a:lnTo>
                    <a:lnTo>
                      <a:pt x="135" y="183"/>
                    </a:lnTo>
                    <a:lnTo>
                      <a:pt x="133" y="183"/>
                    </a:lnTo>
                    <a:lnTo>
                      <a:pt x="132" y="183"/>
                    </a:lnTo>
                    <a:lnTo>
                      <a:pt x="130" y="184"/>
                    </a:lnTo>
                    <a:lnTo>
                      <a:pt x="129" y="185"/>
                    </a:lnTo>
                    <a:lnTo>
                      <a:pt x="129" y="187"/>
                    </a:lnTo>
                    <a:lnTo>
                      <a:pt x="122" y="187"/>
                    </a:lnTo>
                    <a:lnTo>
                      <a:pt x="121" y="185"/>
                    </a:lnTo>
                    <a:lnTo>
                      <a:pt x="121" y="184"/>
                    </a:lnTo>
                    <a:lnTo>
                      <a:pt x="119" y="183"/>
                    </a:lnTo>
                    <a:lnTo>
                      <a:pt x="117" y="183"/>
                    </a:lnTo>
                    <a:lnTo>
                      <a:pt x="116" y="183"/>
                    </a:lnTo>
                    <a:lnTo>
                      <a:pt x="114" y="184"/>
                    </a:lnTo>
                    <a:lnTo>
                      <a:pt x="113" y="185"/>
                    </a:lnTo>
                    <a:lnTo>
                      <a:pt x="113" y="187"/>
                    </a:lnTo>
                    <a:lnTo>
                      <a:pt x="98" y="187"/>
                    </a:lnTo>
                    <a:lnTo>
                      <a:pt x="98" y="185"/>
                    </a:lnTo>
                    <a:lnTo>
                      <a:pt x="97" y="183"/>
                    </a:lnTo>
                    <a:lnTo>
                      <a:pt x="96" y="182"/>
                    </a:lnTo>
                    <a:lnTo>
                      <a:pt x="94" y="181"/>
                    </a:lnTo>
                    <a:lnTo>
                      <a:pt x="91" y="180"/>
                    </a:lnTo>
                    <a:lnTo>
                      <a:pt x="89" y="180"/>
                    </a:lnTo>
                    <a:lnTo>
                      <a:pt x="87" y="181"/>
                    </a:lnTo>
                    <a:lnTo>
                      <a:pt x="85" y="182"/>
                    </a:lnTo>
                    <a:lnTo>
                      <a:pt x="83" y="183"/>
                    </a:lnTo>
                    <a:lnTo>
                      <a:pt x="82" y="185"/>
                    </a:lnTo>
                    <a:lnTo>
                      <a:pt x="82" y="187"/>
                    </a:lnTo>
                    <a:lnTo>
                      <a:pt x="78" y="187"/>
                    </a:lnTo>
                    <a:lnTo>
                      <a:pt x="77" y="185"/>
                    </a:lnTo>
                    <a:lnTo>
                      <a:pt x="76" y="183"/>
                    </a:lnTo>
                    <a:lnTo>
                      <a:pt x="75" y="182"/>
                    </a:lnTo>
                    <a:lnTo>
                      <a:pt x="72" y="180"/>
                    </a:lnTo>
                    <a:lnTo>
                      <a:pt x="70" y="180"/>
                    </a:lnTo>
                    <a:lnTo>
                      <a:pt x="68" y="180"/>
                    </a:lnTo>
                    <a:lnTo>
                      <a:pt x="65" y="180"/>
                    </a:lnTo>
                    <a:lnTo>
                      <a:pt x="63" y="182"/>
                    </a:lnTo>
                    <a:lnTo>
                      <a:pt x="62" y="183"/>
                    </a:lnTo>
                    <a:lnTo>
                      <a:pt x="61" y="185"/>
                    </a:lnTo>
                    <a:lnTo>
                      <a:pt x="60" y="187"/>
                    </a:lnTo>
                    <a:lnTo>
                      <a:pt x="58" y="187"/>
                    </a:lnTo>
                    <a:lnTo>
                      <a:pt x="58" y="185"/>
                    </a:lnTo>
                    <a:lnTo>
                      <a:pt x="57" y="184"/>
                    </a:lnTo>
                    <a:lnTo>
                      <a:pt x="56" y="183"/>
                    </a:lnTo>
                    <a:lnTo>
                      <a:pt x="54" y="183"/>
                    </a:lnTo>
                    <a:lnTo>
                      <a:pt x="52" y="183"/>
                    </a:lnTo>
                    <a:lnTo>
                      <a:pt x="51" y="184"/>
                    </a:lnTo>
                    <a:lnTo>
                      <a:pt x="50" y="185"/>
                    </a:lnTo>
                    <a:lnTo>
                      <a:pt x="50" y="187"/>
                    </a:lnTo>
                    <a:lnTo>
                      <a:pt x="49" y="187"/>
                    </a:lnTo>
                    <a:lnTo>
                      <a:pt x="49" y="185"/>
                    </a:lnTo>
                    <a:lnTo>
                      <a:pt x="48" y="184"/>
                    </a:lnTo>
                    <a:lnTo>
                      <a:pt x="46" y="183"/>
                    </a:lnTo>
                    <a:lnTo>
                      <a:pt x="44" y="183"/>
                    </a:lnTo>
                    <a:lnTo>
                      <a:pt x="43" y="183"/>
                    </a:lnTo>
                    <a:lnTo>
                      <a:pt x="41" y="184"/>
                    </a:lnTo>
                    <a:lnTo>
                      <a:pt x="40" y="185"/>
                    </a:lnTo>
                    <a:lnTo>
                      <a:pt x="40" y="187"/>
                    </a:lnTo>
                    <a:lnTo>
                      <a:pt x="38" y="187"/>
                    </a:lnTo>
                    <a:lnTo>
                      <a:pt x="38" y="185"/>
                    </a:lnTo>
                    <a:lnTo>
                      <a:pt x="36" y="184"/>
                    </a:lnTo>
                    <a:lnTo>
                      <a:pt x="35" y="183"/>
                    </a:lnTo>
                    <a:lnTo>
                      <a:pt x="33" y="183"/>
                    </a:lnTo>
                    <a:lnTo>
                      <a:pt x="32" y="183"/>
                    </a:lnTo>
                    <a:lnTo>
                      <a:pt x="30" y="184"/>
                    </a:lnTo>
                    <a:lnTo>
                      <a:pt x="29" y="185"/>
                    </a:lnTo>
                    <a:lnTo>
                      <a:pt x="29" y="187"/>
                    </a:lnTo>
                    <a:lnTo>
                      <a:pt x="18" y="187"/>
                    </a:lnTo>
                    <a:lnTo>
                      <a:pt x="18" y="185"/>
                    </a:lnTo>
                    <a:lnTo>
                      <a:pt x="17" y="184"/>
                    </a:lnTo>
                    <a:lnTo>
                      <a:pt x="15" y="183"/>
                    </a:lnTo>
                    <a:lnTo>
                      <a:pt x="13" y="183"/>
                    </a:lnTo>
                    <a:lnTo>
                      <a:pt x="12" y="183"/>
                    </a:lnTo>
                    <a:lnTo>
                      <a:pt x="10" y="184"/>
                    </a:lnTo>
                    <a:lnTo>
                      <a:pt x="9" y="185"/>
                    </a:lnTo>
                    <a:lnTo>
                      <a:pt x="9" y="187"/>
                    </a:lnTo>
                    <a:lnTo>
                      <a:pt x="0" y="1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5368320" y="298980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65" name=""/>
              <p:cNvSpPr/>
              <p:nvPr/>
            </p:nvSpPr>
            <p:spPr>
              <a:xfrm>
                <a:off x="5005080" y="2888280"/>
                <a:ext cx="741960" cy="1244880"/>
              </a:xfrm>
              <a:custGeom>
                <a:avLst/>
                <a:gdLst/>
                <a:ahLst/>
                <a:rect l="l" t="t" r="r" b="b"/>
                <a:pathLst>
                  <a:path w="701" h="932">
                    <a:moveTo>
                      <a:pt x="701" y="6"/>
                    </a:moveTo>
                    <a:lnTo>
                      <a:pt x="685" y="6"/>
                    </a:lnTo>
                    <a:lnTo>
                      <a:pt x="685" y="5"/>
                    </a:lnTo>
                    <a:lnTo>
                      <a:pt x="684" y="4"/>
                    </a:lnTo>
                    <a:lnTo>
                      <a:pt x="683" y="3"/>
                    </a:lnTo>
                    <a:lnTo>
                      <a:pt x="681" y="3"/>
                    </a:lnTo>
                    <a:lnTo>
                      <a:pt x="679" y="3"/>
                    </a:lnTo>
                    <a:lnTo>
                      <a:pt x="678" y="4"/>
                    </a:lnTo>
                    <a:lnTo>
                      <a:pt x="677" y="5"/>
                    </a:lnTo>
                    <a:lnTo>
                      <a:pt x="676" y="6"/>
                    </a:lnTo>
                    <a:lnTo>
                      <a:pt x="616" y="6"/>
                    </a:lnTo>
                    <a:lnTo>
                      <a:pt x="616" y="5"/>
                    </a:lnTo>
                    <a:lnTo>
                      <a:pt x="615" y="4"/>
                    </a:lnTo>
                    <a:lnTo>
                      <a:pt x="613" y="3"/>
                    </a:lnTo>
                    <a:lnTo>
                      <a:pt x="612" y="3"/>
                    </a:lnTo>
                    <a:lnTo>
                      <a:pt x="610" y="3"/>
                    </a:lnTo>
                    <a:lnTo>
                      <a:pt x="608" y="4"/>
                    </a:lnTo>
                    <a:lnTo>
                      <a:pt x="607" y="5"/>
                    </a:lnTo>
                    <a:lnTo>
                      <a:pt x="607" y="6"/>
                    </a:lnTo>
                    <a:lnTo>
                      <a:pt x="585" y="6"/>
                    </a:lnTo>
                    <a:lnTo>
                      <a:pt x="585" y="5"/>
                    </a:lnTo>
                    <a:lnTo>
                      <a:pt x="584" y="4"/>
                    </a:lnTo>
                    <a:lnTo>
                      <a:pt x="582" y="3"/>
                    </a:lnTo>
                    <a:lnTo>
                      <a:pt x="580" y="3"/>
                    </a:lnTo>
                    <a:lnTo>
                      <a:pt x="579" y="3"/>
                    </a:lnTo>
                    <a:lnTo>
                      <a:pt x="577" y="4"/>
                    </a:lnTo>
                    <a:lnTo>
                      <a:pt x="576" y="5"/>
                    </a:lnTo>
                    <a:lnTo>
                      <a:pt x="576" y="6"/>
                    </a:lnTo>
                    <a:lnTo>
                      <a:pt x="570" y="6"/>
                    </a:lnTo>
                    <a:lnTo>
                      <a:pt x="570" y="5"/>
                    </a:lnTo>
                    <a:lnTo>
                      <a:pt x="569" y="4"/>
                    </a:lnTo>
                    <a:lnTo>
                      <a:pt x="568" y="3"/>
                    </a:lnTo>
                    <a:lnTo>
                      <a:pt x="566" y="3"/>
                    </a:lnTo>
                    <a:lnTo>
                      <a:pt x="564" y="3"/>
                    </a:lnTo>
                    <a:lnTo>
                      <a:pt x="563" y="4"/>
                    </a:lnTo>
                    <a:lnTo>
                      <a:pt x="562" y="5"/>
                    </a:lnTo>
                    <a:lnTo>
                      <a:pt x="561" y="6"/>
                    </a:lnTo>
                    <a:lnTo>
                      <a:pt x="505" y="6"/>
                    </a:lnTo>
                    <a:lnTo>
                      <a:pt x="504" y="5"/>
                    </a:lnTo>
                    <a:lnTo>
                      <a:pt x="503" y="4"/>
                    </a:lnTo>
                    <a:lnTo>
                      <a:pt x="502" y="3"/>
                    </a:lnTo>
                    <a:lnTo>
                      <a:pt x="500" y="3"/>
                    </a:lnTo>
                    <a:lnTo>
                      <a:pt x="498" y="3"/>
                    </a:lnTo>
                    <a:lnTo>
                      <a:pt x="497" y="4"/>
                    </a:lnTo>
                    <a:lnTo>
                      <a:pt x="496" y="5"/>
                    </a:lnTo>
                    <a:lnTo>
                      <a:pt x="496" y="6"/>
                    </a:lnTo>
                    <a:lnTo>
                      <a:pt x="477" y="6"/>
                    </a:lnTo>
                    <a:lnTo>
                      <a:pt x="476" y="5"/>
                    </a:lnTo>
                    <a:lnTo>
                      <a:pt x="476" y="4"/>
                    </a:lnTo>
                    <a:lnTo>
                      <a:pt x="474" y="3"/>
                    </a:lnTo>
                    <a:lnTo>
                      <a:pt x="472" y="3"/>
                    </a:lnTo>
                    <a:lnTo>
                      <a:pt x="471" y="3"/>
                    </a:lnTo>
                    <a:lnTo>
                      <a:pt x="469" y="4"/>
                    </a:lnTo>
                    <a:lnTo>
                      <a:pt x="468" y="5"/>
                    </a:lnTo>
                    <a:lnTo>
                      <a:pt x="468" y="6"/>
                    </a:lnTo>
                    <a:lnTo>
                      <a:pt x="453" y="6"/>
                    </a:lnTo>
                    <a:lnTo>
                      <a:pt x="453" y="5"/>
                    </a:lnTo>
                    <a:lnTo>
                      <a:pt x="452" y="3"/>
                    </a:lnTo>
                    <a:lnTo>
                      <a:pt x="451" y="2"/>
                    </a:lnTo>
                    <a:lnTo>
                      <a:pt x="449" y="1"/>
                    </a:lnTo>
                    <a:lnTo>
                      <a:pt x="446" y="0"/>
                    </a:lnTo>
                    <a:lnTo>
                      <a:pt x="444" y="0"/>
                    </a:lnTo>
                    <a:lnTo>
                      <a:pt x="442" y="1"/>
                    </a:lnTo>
                    <a:lnTo>
                      <a:pt x="440" y="2"/>
                    </a:lnTo>
                    <a:lnTo>
                      <a:pt x="438" y="3"/>
                    </a:lnTo>
                    <a:lnTo>
                      <a:pt x="437" y="5"/>
                    </a:lnTo>
                    <a:lnTo>
                      <a:pt x="437" y="6"/>
                    </a:lnTo>
                    <a:lnTo>
                      <a:pt x="424" y="6"/>
                    </a:lnTo>
                    <a:lnTo>
                      <a:pt x="424" y="5"/>
                    </a:lnTo>
                    <a:lnTo>
                      <a:pt x="423" y="4"/>
                    </a:lnTo>
                    <a:lnTo>
                      <a:pt x="421" y="3"/>
                    </a:lnTo>
                    <a:lnTo>
                      <a:pt x="420" y="3"/>
                    </a:lnTo>
                    <a:lnTo>
                      <a:pt x="418" y="3"/>
                    </a:lnTo>
                    <a:lnTo>
                      <a:pt x="416" y="4"/>
                    </a:lnTo>
                    <a:lnTo>
                      <a:pt x="416" y="5"/>
                    </a:lnTo>
                    <a:lnTo>
                      <a:pt x="415" y="6"/>
                    </a:lnTo>
                    <a:lnTo>
                      <a:pt x="409" y="6"/>
                    </a:lnTo>
                    <a:lnTo>
                      <a:pt x="409" y="932"/>
                    </a:lnTo>
                    <a:lnTo>
                      <a:pt x="404" y="932"/>
                    </a:lnTo>
                    <a:lnTo>
                      <a:pt x="404" y="931"/>
                    </a:lnTo>
                    <a:lnTo>
                      <a:pt x="403" y="930"/>
                    </a:lnTo>
                    <a:lnTo>
                      <a:pt x="401" y="929"/>
                    </a:lnTo>
                    <a:lnTo>
                      <a:pt x="399" y="928"/>
                    </a:lnTo>
                    <a:lnTo>
                      <a:pt x="398" y="929"/>
                    </a:lnTo>
                    <a:lnTo>
                      <a:pt x="396" y="930"/>
                    </a:lnTo>
                    <a:lnTo>
                      <a:pt x="395" y="931"/>
                    </a:lnTo>
                    <a:lnTo>
                      <a:pt x="395" y="932"/>
                    </a:lnTo>
                    <a:lnTo>
                      <a:pt x="361" y="932"/>
                    </a:lnTo>
                    <a:lnTo>
                      <a:pt x="361" y="931"/>
                    </a:lnTo>
                    <a:lnTo>
                      <a:pt x="360" y="930"/>
                    </a:lnTo>
                    <a:lnTo>
                      <a:pt x="358" y="929"/>
                    </a:lnTo>
                    <a:lnTo>
                      <a:pt x="357" y="928"/>
                    </a:lnTo>
                    <a:lnTo>
                      <a:pt x="355" y="929"/>
                    </a:lnTo>
                    <a:lnTo>
                      <a:pt x="353" y="930"/>
                    </a:lnTo>
                    <a:lnTo>
                      <a:pt x="353" y="931"/>
                    </a:lnTo>
                    <a:lnTo>
                      <a:pt x="352" y="932"/>
                    </a:lnTo>
                    <a:lnTo>
                      <a:pt x="348" y="932"/>
                    </a:lnTo>
                    <a:lnTo>
                      <a:pt x="347" y="930"/>
                    </a:lnTo>
                    <a:lnTo>
                      <a:pt x="346" y="929"/>
                    </a:lnTo>
                    <a:lnTo>
                      <a:pt x="345" y="927"/>
                    </a:lnTo>
                    <a:lnTo>
                      <a:pt x="343" y="926"/>
                    </a:lnTo>
                    <a:lnTo>
                      <a:pt x="341" y="926"/>
                    </a:lnTo>
                    <a:lnTo>
                      <a:pt x="339" y="926"/>
                    </a:lnTo>
                    <a:lnTo>
                      <a:pt x="337" y="926"/>
                    </a:lnTo>
                    <a:lnTo>
                      <a:pt x="335" y="927"/>
                    </a:lnTo>
                    <a:lnTo>
                      <a:pt x="333" y="929"/>
                    </a:lnTo>
                    <a:lnTo>
                      <a:pt x="332" y="930"/>
                    </a:lnTo>
                    <a:lnTo>
                      <a:pt x="332" y="932"/>
                    </a:lnTo>
                    <a:lnTo>
                      <a:pt x="307" y="932"/>
                    </a:lnTo>
                    <a:lnTo>
                      <a:pt x="307" y="931"/>
                    </a:lnTo>
                    <a:lnTo>
                      <a:pt x="306" y="930"/>
                    </a:lnTo>
                    <a:lnTo>
                      <a:pt x="304" y="929"/>
                    </a:lnTo>
                    <a:lnTo>
                      <a:pt x="303" y="928"/>
                    </a:lnTo>
                    <a:lnTo>
                      <a:pt x="301" y="929"/>
                    </a:lnTo>
                    <a:lnTo>
                      <a:pt x="299" y="930"/>
                    </a:lnTo>
                    <a:lnTo>
                      <a:pt x="298" y="931"/>
                    </a:lnTo>
                    <a:lnTo>
                      <a:pt x="298" y="932"/>
                    </a:lnTo>
                    <a:lnTo>
                      <a:pt x="263" y="932"/>
                    </a:lnTo>
                    <a:lnTo>
                      <a:pt x="263" y="931"/>
                    </a:lnTo>
                    <a:lnTo>
                      <a:pt x="262" y="930"/>
                    </a:lnTo>
                    <a:lnTo>
                      <a:pt x="260" y="929"/>
                    </a:lnTo>
                    <a:lnTo>
                      <a:pt x="259" y="928"/>
                    </a:lnTo>
                    <a:lnTo>
                      <a:pt x="257" y="929"/>
                    </a:lnTo>
                    <a:lnTo>
                      <a:pt x="256" y="930"/>
                    </a:lnTo>
                    <a:lnTo>
                      <a:pt x="255" y="931"/>
                    </a:lnTo>
                    <a:lnTo>
                      <a:pt x="254" y="932"/>
                    </a:lnTo>
                    <a:lnTo>
                      <a:pt x="219" y="932"/>
                    </a:lnTo>
                    <a:lnTo>
                      <a:pt x="219" y="931"/>
                    </a:lnTo>
                    <a:lnTo>
                      <a:pt x="218" y="930"/>
                    </a:lnTo>
                    <a:lnTo>
                      <a:pt x="216" y="929"/>
                    </a:lnTo>
                    <a:lnTo>
                      <a:pt x="215" y="928"/>
                    </a:lnTo>
                    <a:lnTo>
                      <a:pt x="213" y="929"/>
                    </a:lnTo>
                    <a:lnTo>
                      <a:pt x="211" y="930"/>
                    </a:lnTo>
                    <a:lnTo>
                      <a:pt x="210" y="931"/>
                    </a:lnTo>
                    <a:lnTo>
                      <a:pt x="210" y="932"/>
                    </a:lnTo>
                    <a:lnTo>
                      <a:pt x="190" y="932"/>
                    </a:lnTo>
                    <a:lnTo>
                      <a:pt x="190" y="931"/>
                    </a:lnTo>
                    <a:lnTo>
                      <a:pt x="189" y="930"/>
                    </a:lnTo>
                    <a:lnTo>
                      <a:pt x="187" y="929"/>
                    </a:lnTo>
                    <a:lnTo>
                      <a:pt x="186" y="928"/>
                    </a:lnTo>
                    <a:lnTo>
                      <a:pt x="184" y="929"/>
                    </a:lnTo>
                    <a:lnTo>
                      <a:pt x="183" y="930"/>
                    </a:lnTo>
                    <a:lnTo>
                      <a:pt x="182" y="931"/>
                    </a:lnTo>
                    <a:lnTo>
                      <a:pt x="181" y="932"/>
                    </a:lnTo>
                    <a:lnTo>
                      <a:pt x="172" y="932"/>
                    </a:lnTo>
                    <a:lnTo>
                      <a:pt x="172" y="931"/>
                    </a:lnTo>
                    <a:lnTo>
                      <a:pt x="171" y="930"/>
                    </a:lnTo>
                    <a:lnTo>
                      <a:pt x="169" y="929"/>
                    </a:lnTo>
                    <a:lnTo>
                      <a:pt x="168" y="928"/>
                    </a:lnTo>
                    <a:lnTo>
                      <a:pt x="166" y="929"/>
                    </a:lnTo>
                    <a:lnTo>
                      <a:pt x="164" y="930"/>
                    </a:lnTo>
                    <a:lnTo>
                      <a:pt x="163" y="931"/>
                    </a:lnTo>
                    <a:lnTo>
                      <a:pt x="163" y="932"/>
                    </a:lnTo>
                    <a:lnTo>
                      <a:pt x="110" y="932"/>
                    </a:lnTo>
                    <a:lnTo>
                      <a:pt x="110" y="931"/>
                    </a:lnTo>
                    <a:lnTo>
                      <a:pt x="109" y="930"/>
                    </a:lnTo>
                    <a:lnTo>
                      <a:pt x="108" y="929"/>
                    </a:lnTo>
                    <a:lnTo>
                      <a:pt x="106" y="928"/>
                    </a:lnTo>
                    <a:lnTo>
                      <a:pt x="104" y="929"/>
                    </a:lnTo>
                    <a:lnTo>
                      <a:pt x="103" y="930"/>
                    </a:lnTo>
                    <a:lnTo>
                      <a:pt x="102" y="931"/>
                    </a:lnTo>
                    <a:lnTo>
                      <a:pt x="101" y="932"/>
                    </a:lnTo>
                    <a:lnTo>
                      <a:pt x="57" y="932"/>
                    </a:lnTo>
                    <a:lnTo>
                      <a:pt x="57" y="931"/>
                    </a:lnTo>
                    <a:lnTo>
                      <a:pt x="56" y="930"/>
                    </a:lnTo>
                    <a:lnTo>
                      <a:pt x="54" y="929"/>
                    </a:lnTo>
                    <a:lnTo>
                      <a:pt x="53" y="928"/>
                    </a:lnTo>
                    <a:lnTo>
                      <a:pt x="51" y="929"/>
                    </a:lnTo>
                    <a:lnTo>
                      <a:pt x="50" y="930"/>
                    </a:lnTo>
                    <a:lnTo>
                      <a:pt x="48" y="931"/>
                    </a:lnTo>
                    <a:lnTo>
                      <a:pt x="48" y="932"/>
                    </a:lnTo>
                    <a:lnTo>
                      <a:pt x="20" y="932"/>
                    </a:lnTo>
                    <a:lnTo>
                      <a:pt x="19" y="931"/>
                    </a:lnTo>
                    <a:lnTo>
                      <a:pt x="19" y="930"/>
                    </a:lnTo>
                    <a:lnTo>
                      <a:pt x="17" y="929"/>
                    </a:lnTo>
                    <a:lnTo>
                      <a:pt x="15" y="928"/>
                    </a:lnTo>
                    <a:lnTo>
                      <a:pt x="14" y="929"/>
                    </a:lnTo>
                    <a:lnTo>
                      <a:pt x="12" y="930"/>
                    </a:lnTo>
                    <a:lnTo>
                      <a:pt x="11" y="931"/>
                    </a:lnTo>
                    <a:lnTo>
                      <a:pt x="11" y="932"/>
                    </a:lnTo>
                    <a:lnTo>
                      <a:pt x="0" y="932"/>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5005080" y="4126680"/>
                <a:ext cx="13680" cy="1152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00ff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67" name=""/>
              <p:cNvSpPr/>
              <p:nvPr/>
            </p:nvSpPr>
            <p:spPr>
              <a:xfrm>
                <a:off x="5995080" y="2921760"/>
                <a:ext cx="1645200" cy="1125720"/>
              </a:xfrm>
              <a:custGeom>
                <a:avLst/>
                <a:gdLst/>
                <a:ahLst/>
                <a:rect l="l" t="t" r="r" b="b"/>
                <a:pathLst>
                  <a:path w="1554" h="843">
                    <a:moveTo>
                      <a:pt x="1554" y="843"/>
                    </a:moveTo>
                    <a:lnTo>
                      <a:pt x="1540" y="843"/>
                    </a:lnTo>
                    <a:lnTo>
                      <a:pt x="1540" y="841"/>
                    </a:lnTo>
                    <a:lnTo>
                      <a:pt x="1539" y="840"/>
                    </a:lnTo>
                    <a:lnTo>
                      <a:pt x="1538" y="839"/>
                    </a:lnTo>
                    <a:lnTo>
                      <a:pt x="1536" y="839"/>
                    </a:lnTo>
                    <a:lnTo>
                      <a:pt x="1534" y="839"/>
                    </a:lnTo>
                    <a:lnTo>
                      <a:pt x="1533" y="840"/>
                    </a:lnTo>
                    <a:lnTo>
                      <a:pt x="1532" y="841"/>
                    </a:lnTo>
                    <a:lnTo>
                      <a:pt x="1531" y="843"/>
                    </a:lnTo>
                    <a:lnTo>
                      <a:pt x="1500" y="843"/>
                    </a:lnTo>
                    <a:lnTo>
                      <a:pt x="1499" y="841"/>
                    </a:lnTo>
                    <a:lnTo>
                      <a:pt x="1498" y="840"/>
                    </a:lnTo>
                    <a:lnTo>
                      <a:pt x="1497" y="839"/>
                    </a:lnTo>
                    <a:lnTo>
                      <a:pt x="1495" y="839"/>
                    </a:lnTo>
                    <a:lnTo>
                      <a:pt x="1494" y="839"/>
                    </a:lnTo>
                    <a:lnTo>
                      <a:pt x="1492" y="840"/>
                    </a:lnTo>
                    <a:lnTo>
                      <a:pt x="1491" y="841"/>
                    </a:lnTo>
                    <a:lnTo>
                      <a:pt x="1491" y="843"/>
                    </a:lnTo>
                    <a:lnTo>
                      <a:pt x="1468" y="843"/>
                    </a:lnTo>
                    <a:lnTo>
                      <a:pt x="1468" y="841"/>
                    </a:lnTo>
                    <a:lnTo>
                      <a:pt x="1467" y="840"/>
                    </a:lnTo>
                    <a:lnTo>
                      <a:pt x="1466" y="839"/>
                    </a:lnTo>
                    <a:lnTo>
                      <a:pt x="1464" y="839"/>
                    </a:lnTo>
                    <a:lnTo>
                      <a:pt x="1462" y="839"/>
                    </a:lnTo>
                    <a:lnTo>
                      <a:pt x="1461" y="840"/>
                    </a:lnTo>
                    <a:lnTo>
                      <a:pt x="1460" y="841"/>
                    </a:lnTo>
                    <a:lnTo>
                      <a:pt x="1459" y="843"/>
                    </a:lnTo>
                    <a:lnTo>
                      <a:pt x="1457" y="843"/>
                    </a:lnTo>
                    <a:lnTo>
                      <a:pt x="1457" y="841"/>
                    </a:lnTo>
                    <a:lnTo>
                      <a:pt x="1456" y="840"/>
                    </a:lnTo>
                    <a:lnTo>
                      <a:pt x="1454" y="839"/>
                    </a:lnTo>
                    <a:lnTo>
                      <a:pt x="1453" y="839"/>
                    </a:lnTo>
                    <a:lnTo>
                      <a:pt x="1451" y="839"/>
                    </a:lnTo>
                    <a:lnTo>
                      <a:pt x="1449" y="840"/>
                    </a:lnTo>
                    <a:lnTo>
                      <a:pt x="1448" y="841"/>
                    </a:lnTo>
                    <a:lnTo>
                      <a:pt x="1448" y="843"/>
                    </a:lnTo>
                    <a:lnTo>
                      <a:pt x="1425" y="843"/>
                    </a:lnTo>
                    <a:lnTo>
                      <a:pt x="1425" y="841"/>
                    </a:lnTo>
                    <a:lnTo>
                      <a:pt x="1424" y="840"/>
                    </a:lnTo>
                    <a:lnTo>
                      <a:pt x="1422" y="839"/>
                    </a:lnTo>
                    <a:lnTo>
                      <a:pt x="1420" y="839"/>
                    </a:lnTo>
                    <a:lnTo>
                      <a:pt x="1419" y="839"/>
                    </a:lnTo>
                    <a:lnTo>
                      <a:pt x="1417" y="840"/>
                    </a:lnTo>
                    <a:lnTo>
                      <a:pt x="1416" y="841"/>
                    </a:lnTo>
                    <a:lnTo>
                      <a:pt x="1416" y="843"/>
                    </a:lnTo>
                    <a:lnTo>
                      <a:pt x="1409" y="843"/>
                    </a:lnTo>
                    <a:lnTo>
                      <a:pt x="1408" y="841"/>
                    </a:lnTo>
                    <a:lnTo>
                      <a:pt x="1407" y="840"/>
                    </a:lnTo>
                    <a:lnTo>
                      <a:pt x="1406" y="839"/>
                    </a:lnTo>
                    <a:lnTo>
                      <a:pt x="1404" y="839"/>
                    </a:lnTo>
                    <a:lnTo>
                      <a:pt x="1402" y="839"/>
                    </a:lnTo>
                    <a:lnTo>
                      <a:pt x="1401" y="840"/>
                    </a:lnTo>
                    <a:lnTo>
                      <a:pt x="1400" y="841"/>
                    </a:lnTo>
                    <a:lnTo>
                      <a:pt x="1400" y="843"/>
                    </a:lnTo>
                    <a:lnTo>
                      <a:pt x="1365" y="843"/>
                    </a:lnTo>
                    <a:lnTo>
                      <a:pt x="1364" y="841"/>
                    </a:lnTo>
                    <a:lnTo>
                      <a:pt x="1363" y="840"/>
                    </a:lnTo>
                    <a:lnTo>
                      <a:pt x="1362" y="839"/>
                    </a:lnTo>
                    <a:lnTo>
                      <a:pt x="1360" y="839"/>
                    </a:lnTo>
                    <a:lnTo>
                      <a:pt x="1358" y="839"/>
                    </a:lnTo>
                    <a:lnTo>
                      <a:pt x="1357" y="840"/>
                    </a:lnTo>
                    <a:lnTo>
                      <a:pt x="1356" y="841"/>
                    </a:lnTo>
                    <a:lnTo>
                      <a:pt x="1356" y="843"/>
                    </a:lnTo>
                    <a:lnTo>
                      <a:pt x="1338" y="843"/>
                    </a:lnTo>
                    <a:lnTo>
                      <a:pt x="1337" y="841"/>
                    </a:lnTo>
                    <a:lnTo>
                      <a:pt x="1336" y="840"/>
                    </a:lnTo>
                    <a:lnTo>
                      <a:pt x="1335" y="839"/>
                    </a:lnTo>
                    <a:lnTo>
                      <a:pt x="1333" y="839"/>
                    </a:lnTo>
                    <a:lnTo>
                      <a:pt x="1331" y="839"/>
                    </a:lnTo>
                    <a:lnTo>
                      <a:pt x="1330" y="840"/>
                    </a:lnTo>
                    <a:lnTo>
                      <a:pt x="1329" y="841"/>
                    </a:lnTo>
                    <a:lnTo>
                      <a:pt x="1329" y="843"/>
                    </a:lnTo>
                    <a:lnTo>
                      <a:pt x="1317" y="843"/>
                    </a:lnTo>
                    <a:lnTo>
                      <a:pt x="1317" y="841"/>
                    </a:lnTo>
                    <a:lnTo>
                      <a:pt x="1316" y="840"/>
                    </a:lnTo>
                    <a:lnTo>
                      <a:pt x="1315" y="839"/>
                    </a:lnTo>
                    <a:lnTo>
                      <a:pt x="1313" y="839"/>
                    </a:lnTo>
                    <a:lnTo>
                      <a:pt x="1311" y="839"/>
                    </a:lnTo>
                    <a:lnTo>
                      <a:pt x="1310" y="840"/>
                    </a:lnTo>
                    <a:lnTo>
                      <a:pt x="1309" y="841"/>
                    </a:lnTo>
                    <a:lnTo>
                      <a:pt x="1308" y="843"/>
                    </a:lnTo>
                    <a:lnTo>
                      <a:pt x="1203" y="843"/>
                    </a:lnTo>
                    <a:lnTo>
                      <a:pt x="1202" y="841"/>
                    </a:lnTo>
                    <a:lnTo>
                      <a:pt x="1201" y="840"/>
                    </a:lnTo>
                    <a:lnTo>
                      <a:pt x="1200" y="839"/>
                    </a:lnTo>
                    <a:lnTo>
                      <a:pt x="1198" y="839"/>
                    </a:lnTo>
                    <a:lnTo>
                      <a:pt x="1196" y="839"/>
                    </a:lnTo>
                    <a:lnTo>
                      <a:pt x="1195" y="840"/>
                    </a:lnTo>
                    <a:lnTo>
                      <a:pt x="1194" y="841"/>
                    </a:lnTo>
                    <a:lnTo>
                      <a:pt x="1193" y="843"/>
                    </a:lnTo>
                    <a:lnTo>
                      <a:pt x="1164" y="843"/>
                    </a:lnTo>
                    <a:lnTo>
                      <a:pt x="1163" y="841"/>
                    </a:lnTo>
                    <a:lnTo>
                      <a:pt x="1162" y="840"/>
                    </a:lnTo>
                    <a:lnTo>
                      <a:pt x="1161" y="839"/>
                    </a:lnTo>
                    <a:lnTo>
                      <a:pt x="1159" y="839"/>
                    </a:lnTo>
                    <a:lnTo>
                      <a:pt x="1157" y="839"/>
                    </a:lnTo>
                    <a:lnTo>
                      <a:pt x="1156" y="840"/>
                    </a:lnTo>
                    <a:lnTo>
                      <a:pt x="1155" y="841"/>
                    </a:lnTo>
                    <a:lnTo>
                      <a:pt x="1155" y="843"/>
                    </a:lnTo>
                    <a:lnTo>
                      <a:pt x="1145" y="843"/>
                    </a:lnTo>
                    <a:lnTo>
                      <a:pt x="1145" y="841"/>
                    </a:lnTo>
                    <a:lnTo>
                      <a:pt x="1144" y="840"/>
                    </a:lnTo>
                    <a:lnTo>
                      <a:pt x="1142" y="839"/>
                    </a:lnTo>
                    <a:lnTo>
                      <a:pt x="1141" y="839"/>
                    </a:lnTo>
                    <a:lnTo>
                      <a:pt x="1139" y="839"/>
                    </a:lnTo>
                    <a:lnTo>
                      <a:pt x="1137" y="840"/>
                    </a:lnTo>
                    <a:lnTo>
                      <a:pt x="1137" y="841"/>
                    </a:lnTo>
                    <a:lnTo>
                      <a:pt x="1136" y="843"/>
                    </a:lnTo>
                    <a:lnTo>
                      <a:pt x="1133" y="843"/>
                    </a:lnTo>
                    <a:lnTo>
                      <a:pt x="1132" y="841"/>
                    </a:lnTo>
                    <a:lnTo>
                      <a:pt x="1132" y="840"/>
                    </a:lnTo>
                    <a:lnTo>
                      <a:pt x="1130" y="839"/>
                    </a:lnTo>
                    <a:lnTo>
                      <a:pt x="1128" y="839"/>
                    </a:lnTo>
                    <a:lnTo>
                      <a:pt x="1127" y="839"/>
                    </a:lnTo>
                    <a:lnTo>
                      <a:pt x="1125" y="840"/>
                    </a:lnTo>
                    <a:lnTo>
                      <a:pt x="1124" y="841"/>
                    </a:lnTo>
                    <a:lnTo>
                      <a:pt x="1124" y="843"/>
                    </a:lnTo>
                    <a:lnTo>
                      <a:pt x="1093" y="843"/>
                    </a:lnTo>
                    <a:lnTo>
                      <a:pt x="1092" y="841"/>
                    </a:lnTo>
                    <a:lnTo>
                      <a:pt x="1091" y="840"/>
                    </a:lnTo>
                    <a:lnTo>
                      <a:pt x="1090" y="839"/>
                    </a:lnTo>
                    <a:lnTo>
                      <a:pt x="1088" y="839"/>
                    </a:lnTo>
                    <a:lnTo>
                      <a:pt x="1087" y="839"/>
                    </a:lnTo>
                    <a:lnTo>
                      <a:pt x="1085" y="840"/>
                    </a:lnTo>
                    <a:lnTo>
                      <a:pt x="1084" y="841"/>
                    </a:lnTo>
                    <a:lnTo>
                      <a:pt x="1084" y="843"/>
                    </a:lnTo>
                    <a:lnTo>
                      <a:pt x="1040" y="843"/>
                    </a:lnTo>
                    <a:lnTo>
                      <a:pt x="1040" y="841"/>
                    </a:lnTo>
                    <a:lnTo>
                      <a:pt x="1039" y="840"/>
                    </a:lnTo>
                    <a:lnTo>
                      <a:pt x="1038" y="839"/>
                    </a:lnTo>
                    <a:lnTo>
                      <a:pt x="1036" y="839"/>
                    </a:lnTo>
                    <a:lnTo>
                      <a:pt x="1034" y="839"/>
                    </a:lnTo>
                    <a:lnTo>
                      <a:pt x="1033" y="840"/>
                    </a:lnTo>
                    <a:lnTo>
                      <a:pt x="1032" y="841"/>
                    </a:lnTo>
                    <a:lnTo>
                      <a:pt x="1031" y="843"/>
                    </a:lnTo>
                    <a:lnTo>
                      <a:pt x="1020" y="843"/>
                    </a:lnTo>
                    <a:lnTo>
                      <a:pt x="1020" y="841"/>
                    </a:lnTo>
                    <a:lnTo>
                      <a:pt x="1019" y="840"/>
                    </a:lnTo>
                    <a:lnTo>
                      <a:pt x="1017" y="839"/>
                    </a:lnTo>
                    <a:lnTo>
                      <a:pt x="1016" y="839"/>
                    </a:lnTo>
                    <a:lnTo>
                      <a:pt x="1014" y="839"/>
                    </a:lnTo>
                    <a:lnTo>
                      <a:pt x="1012" y="840"/>
                    </a:lnTo>
                    <a:lnTo>
                      <a:pt x="1012" y="841"/>
                    </a:lnTo>
                    <a:lnTo>
                      <a:pt x="1011" y="843"/>
                    </a:lnTo>
                    <a:lnTo>
                      <a:pt x="973" y="843"/>
                    </a:lnTo>
                    <a:lnTo>
                      <a:pt x="972" y="841"/>
                    </a:lnTo>
                    <a:lnTo>
                      <a:pt x="972" y="840"/>
                    </a:lnTo>
                    <a:lnTo>
                      <a:pt x="970" y="839"/>
                    </a:lnTo>
                    <a:lnTo>
                      <a:pt x="968" y="839"/>
                    </a:lnTo>
                    <a:lnTo>
                      <a:pt x="967" y="839"/>
                    </a:lnTo>
                    <a:lnTo>
                      <a:pt x="965" y="840"/>
                    </a:lnTo>
                    <a:lnTo>
                      <a:pt x="964" y="841"/>
                    </a:lnTo>
                    <a:lnTo>
                      <a:pt x="964" y="843"/>
                    </a:lnTo>
                    <a:lnTo>
                      <a:pt x="958" y="843"/>
                    </a:lnTo>
                    <a:lnTo>
                      <a:pt x="957" y="841"/>
                    </a:lnTo>
                    <a:lnTo>
                      <a:pt x="956" y="840"/>
                    </a:lnTo>
                    <a:lnTo>
                      <a:pt x="955" y="839"/>
                    </a:lnTo>
                    <a:lnTo>
                      <a:pt x="953" y="839"/>
                    </a:lnTo>
                    <a:lnTo>
                      <a:pt x="951" y="839"/>
                    </a:lnTo>
                    <a:lnTo>
                      <a:pt x="950" y="840"/>
                    </a:lnTo>
                    <a:lnTo>
                      <a:pt x="949" y="841"/>
                    </a:lnTo>
                    <a:lnTo>
                      <a:pt x="949" y="843"/>
                    </a:lnTo>
                    <a:lnTo>
                      <a:pt x="945" y="843"/>
                    </a:lnTo>
                    <a:lnTo>
                      <a:pt x="944" y="841"/>
                    </a:lnTo>
                    <a:lnTo>
                      <a:pt x="943" y="840"/>
                    </a:lnTo>
                    <a:lnTo>
                      <a:pt x="942" y="839"/>
                    </a:lnTo>
                    <a:lnTo>
                      <a:pt x="940" y="839"/>
                    </a:lnTo>
                    <a:lnTo>
                      <a:pt x="938" y="839"/>
                    </a:lnTo>
                    <a:lnTo>
                      <a:pt x="937" y="840"/>
                    </a:lnTo>
                    <a:lnTo>
                      <a:pt x="936" y="841"/>
                    </a:lnTo>
                    <a:lnTo>
                      <a:pt x="936" y="843"/>
                    </a:lnTo>
                    <a:lnTo>
                      <a:pt x="899" y="843"/>
                    </a:lnTo>
                    <a:lnTo>
                      <a:pt x="898" y="841"/>
                    </a:lnTo>
                    <a:lnTo>
                      <a:pt x="897" y="840"/>
                    </a:lnTo>
                    <a:lnTo>
                      <a:pt x="896" y="839"/>
                    </a:lnTo>
                    <a:lnTo>
                      <a:pt x="894" y="839"/>
                    </a:lnTo>
                    <a:lnTo>
                      <a:pt x="892" y="839"/>
                    </a:lnTo>
                    <a:lnTo>
                      <a:pt x="891" y="840"/>
                    </a:lnTo>
                    <a:lnTo>
                      <a:pt x="890" y="841"/>
                    </a:lnTo>
                    <a:lnTo>
                      <a:pt x="890" y="843"/>
                    </a:lnTo>
                    <a:lnTo>
                      <a:pt x="847" y="843"/>
                    </a:lnTo>
                    <a:lnTo>
                      <a:pt x="847" y="722"/>
                    </a:lnTo>
                    <a:lnTo>
                      <a:pt x="822" y="722"/>
                    </a:lnTo>
                    <a:lnTo>
                      <a:pt x="822" y="721"/>
                    </a:lnTo>
                    <a:lnTo>
                      <a:pt x="821" y="720"/>
                    </a:lnTo>
                    <a:lnTo>
                      <a:pt x="820" y="719"/>
                    </a:lnTo>
                    <a:lnTo>
                      <a:pt x="818" y="719"/>
                    </a:lnTo>
                    <a:lnTo>
                      <a:pt x="816" y="719"/>
                    </a:lnTo>
                    <a:lnTo>
                      <a:pt x="815" y="720"/>
                    </a:lnTo>
                    <a:lnTo>
                      <a:pt x="814" y="721"/>
                    </a:lnTo>
                    <a:lnTo>
                      <a:pt x="814" y="722"/>
                    </a:lnTo>
                    <a:lnTo>
                      <a:pt x="571" y="722"/>
                    </a:lnTo>
                    <a:lnTo>
                      <a:pt x="570" y="721"/>
                    </a:lnTo>
                    <a:lnTo>
                      <a:pt x="569" y="720"/>
                    </a:lnTo>
                    <a:lnTo>
                      <a:pt x="568" y="719"/>
                    </a:lnTo>
                    <a:lnTo>
                      <a:pt x="566" y="719"/>
                    </a:lnTo>
                    <a:lnTo>
                      <a:pt x="565" y="719"/>
                    </a:lnTo>
                    <a:lnTo>
                      <a:pt x="563" y="720"/>
                    </a:lnTo>
                    <a:lnTo>
                      <a:pt x="562" y="721"/>
                    </a:lnTo>
                    <a:lnTo>
                      <a:pt x="562" y="722"/>
                    </a:lnTo>
                    <a:lnTo>
                      <a:pt x="550" y="722"/>
                    </a:lnTo>
                    <a:lnTo>
                      <a:pt x="550" y="721"/>
                    </a:lnTo>
                    <a:lnTo>
                      <a:pt x="549" y="720"/>
                    </a:lnTo>
                    <a:lnTo>
                      <a:pt x="547" y="719"/>
                    </a:lnTo>
                    <a:lnTo>
                      <a:pt x="546" y="719"/>
                    </a:lnTo>
                    <a:lnTo>
                      <a:pt x="544" y="719"/>
                    </a:lnTo>
                    <a:lnTo>
                      <a:pt x="543" y="720"/>
                    </a:lnTo>
                    <a:lnTo>
                      <a:pt x="542" y="721"/>
                    </a:lnTo>
                    <a:lnTo>
                      <a:pt x="541" y="722"/>
                    </a:lnTo>
                    <a:lnTo>
                      <a:pt x="498" y="722"/>
                    </a:lnTo>
                    <a:lnTo>
                      <a:pt x="498" y="721"/>
                    </a:lnTo>
                    <a:lnTo>
                      <a:pt x="497" y="720"/>
                    </a:lnTo>
                    <a:lnTo>
                      <a:pt x="496" y="719"/>
                    </a:lnTo>
                    <a:lnTo>
                      <a:pt x="494" y="719"/>
                    </a:lnTo>
                    <a:lnTo>
                      <a:pt x="492" y="719"/>
                    </a:lnTo>
                    <a:lnTo>
                      <a:pt x="491" y="720"/>
                    </a:lnTo>
                    <a:lnTo>
                      <a:pt x="490" y="721"/>
                    </a:lnTo>
                    <a:lnTo>
                      <a:pt x="489" y="722"/>
                    </a:lnTo>
                    <a:lnTo>
                      <a:pt x="487" y="722"/>
                    </a:lnTo>
                    <a:lnTo>
                      <a:pt x="486" y="721"/>
                    </a:lnTo>
                    <a:lnTo>
                      <a:pt x="485" y="720"/>
                    </a:lnTo>
                    <a:lnTo>
                      <a:pt x="484" y="719"/>
                    </a:lnTo>
                    <a:lnTo>
                      <a:pt x="482" y="719"/>
                    </a:lnTo>
                    <a:lnTo>
                      <a:pt x="480" y="719"/>
                    </a:lnTo>
                    <a:lnTo>
                      <a:pt x="479" y="720"/>
                    </a:lnTo>
                    <a:lnTo>
                      <a:pt x="478" y="721"/>
                    </a:lnTo>
                    <a:lnTo>
                      <a:pt x="478" y="722"/>
                    </a:lnTo>
                    <a:lnTo>
                      <a:pt x="426" y="722"/>
                    </a:lnTo>
                    <a:lnTo>
                      <a:pt x="425" y="721"/>
                    </a:lnTo>
                    <a:lnTo>
                      <a:pt x="424" y="720"/>
                    </a:lnTo>
                    <a:lnTo>
                      <a:pt x="423" y="719"/>
                    </a:lnTo>
                    <a:lnTo>
                      <a:pt x="421" y="719"/>
                    </a:lnTo>
                    <a:lnTo>
                      <a:pt x="420" y="719"/>
                    </a:lnTo>
                    <a:lnTo>
                      <a:pt x="418" y="720"/>
                    </a:lnTo>
                    <a:lnTo>
                      <a:pt x="417" y="721"/>
                    </a:lnTo>
                    <a:lnTo>
                      <a:pt x="417" y="722"/>
                    </a:lnTo>
                    <a:lnTo>
                      <a:pt x="372" y="722"/>
                    </a:lnTo>
                    <a:lnTo>
                      <a:pt x="371" y="721"/>
                    </a:lnTo>
                    <a:lnTo>
                      <a:pt x="370" y="720"/>
                    </a:lnTo>
                    <a:lnTo>
                      <a:pt x="369" y="719"/>
                    </a:lnTo>
                    <a:lnTo>
                      <a:pt x="367" y="719"/>
                    </a:lnTo>
                    <a:lnTo>
                      <a:pt x="365" y="719"/>
                    </a:lnTo>
                    <a:lnTo>
                      <a:pt x="364" y="720"/>
                    </a:lnTo>
                    <a:lnTo>
                      <a:pt x="363" y="721"/>
                    </a:lnTo>
                    <a:lnTo>
                      <a:pt x="363" y="722"/>
                    </a:lnTo>
                    <a:lnTo>
                      <a:pt x="356" y="722"/>
                    </a:lnTo>
                    <a:lnTo>
                      <a:pt x="356" y="721"/>
                    </a:lnTo>
                    <a:lnTo>
                      <a:pt x="355" y="720"/>
                    </a:lnTo>
                    <a:lnTo>
                      <a:pt x="354" y="719"/>
                    </a:lnTo>
                    <a:lnTo>
                      <a:pt x="352" y="719"/>
                    </a:lnTo>
                    <a:lnTo>
                      <a:pt x="350" y="719"/>
                    </a:lnTo>
                    <a:lnTo>
                      <a:pt x="349" y="720"/>
                    </a:lnTo>
                    <a:lnTo>
                      <a:pt x="348" y="721"/>
                    </a:lnTo>
                    <a:lnTo>
                      <a:pt x="347" y="722"/>
                    </a:lnTo>
                    <a:lnTo>
                      <a:pt x="345" y="722"/>
                    </a:lnTo>
                    <a:lnTo>
                      <a:pt x="344" y="721"/>
                    </a:lnTo>
                    <a:lnTo>
                      <a:pt x="343" y="720"/>
                    </a:lnTo>
                    <a:lnTo>
                      <a:pt x="342" y="719"/>
                    </a:lnTo>
                    <a:lnTo>
                      <a:pt x="340" y="719"/>
                    </a:lnTo>
                    <a:lnTo>
                      <a:pt x="338" y="719"/>
                    </a:lnTo>
                    <a:lnTo>
                      <a:pt x="337" y="720"/>
                    </a:lnTo>
                    <a:lnTo>
                      <a:pt x="336" y="721"/>
                    </a:lnTo>
                    <a:lnTo>
                      <a:pt x="336" y="722"/>
                    </a:lnTo>
                    <a:lnTo>
                      <a:pt x="332" y="722"/>
                    </a:lnTo>
                    <a:lnTo>
                      <a:pt x="332" y="721"/>
                    </a:lnTo>
                    <a:lnTo>
                      <a:pt x="331" y="720"/>
                    </a:lnTo>
                    <a:lnTo>
                      <a:pt x="329" y="719"/>
                    </a:lnTo>
                    <a:lnTo>
                      <a:pt x="327" y="719"/>
                    </a:lnTo>
                    <a:lnTo>
                      <a:pt x="326" y="719"/>
                    </a:lnTo>
                    <a:lnTo>
                      <a:pt x="324" y="720"/>
                    </a:lnTo>
                    <a:lnTo>
                      <a:pt x="323" y="721"/>
                    </a:lnTo>
                    <a:lnTo>
                      <a:pt x="323" y="722"/>
                    </a:lnTo>
                    <a:lnTo>
                      <a:pt x="285" y="722"/>
                    </a:lnTo>
                    <a:lnTo>
                      <a:pt x="285" y="721"/>
                    </a:lnTo>
                    <a:lnTo>
                      <a:pt x="284" y="720"/>
                    </a:lnTo>
                    <a:lnTo>
                      <a:pt x="282" y="719"/>
                    </a:lnTo>
                    <a:lnTo>
                      <a:pt x="281" y="719"/>
                    </a:lnTo>
                    <a:lnTo>
                      <a:pt x="279" y="719"/>
                    </a:lnTo>
                    <a:lnTo>
                      <a:pt x="278" y="720"/>
                    </a:lnTo>
                    <a:lnTo>
                      <a:pt x="277" y="721"/>
                    </a:lnTo>
                    <a:lnTo>
                      <a:pt x="276" y="722"/>
                    </a:lnTo>
                    <a:lnTo>
                      <a:pt x="210" y="722"/>
                    </a:lnTo>
                    <a:lnTo>
                      <a:pt x="209" y="721"/>
                    </a:lnTo>
                    <a:lnTo>
                      <a:pt x="208" y="720"/>
                    </a:lnTo>
                    <a:lnTo>
                      <a:pt x="207" y="719"/>
                    </a:lnTo>
                    <a:lnTo>
                      <a:pt x="205" y="719"/>
                    </a:lnTo>
                    <a:lnTo>
                      <a:pt x="203" y="719"/>
                    </a:lnTo>
                    <a:lnTo>
                      <a:pt x="202" y="720"/>
                    </a:lnTo>
                    <a:lnTo>
                      <a:pt x="201" y="721"/>
                    </a:lnTo>
                    <a:lnTo>
                      <a:pt x="201" y="722"/>
                    </a:lnTo>
                    <a:lnTo>
                      <a:pt x="57" y="722"/>
                    </a:lnTo>
                    <a:lnTo>
                      <a:pt x="57" y="721"/>
                    </a:lnTo>
                    <a:lnTo>
                      <a:pt x="56" y="720"/>
                    </a:lnTo>
                    <a:lnTo>
                      <a:pt x="54" y="719"/>
                    </a:lnTo>
                    <a:lnTo>
                      <a:pt x="52" y="719"/>
                    </a:lnTo>
                    <a:lnTo>
                      <a:pt x="51" y="719"/>
                    </a:lnTo>
                    <a:lnTo>
                      <a:pt x="49" y="720"/>
                    </a:lnTo>
                    <a:lnTo>
                      <a:pt x="48" y="721"/>
                    </a:lnTo>
                    <a:lnTo>
                      <a:pt x="48" y="722"/>
                    </a:lnTo>
                    <a:lnTo>
                      <a:pt x="41" y="722"/>
                    </a:lnTo>
                    <a:lnTo>
                      <a:pt x="41" y="721"/>
                    </a:lnTo>
                    <a:lnTo>
                      <a:pt x="40" y="720"/>
                    </a:lnTo>
                    <a:lnTo>
                      <a:pt x="39" y="719"/>
                    </a:lnTo>
                    <a:lnTo>
                      <a:pt x="37" y="719"/>
                    </a:lnTo>
                    <a:lnTo>
                      <a:pt x="35" y="719"/>
                    </a:lnTo>
                    <a:lnTo>
                      <a:pt x="34" y="720"/>
                    </a:lnTo>
                    <a:lnTo>
                      <a:pt x="33" y="721"/>
                    </a:lnTo>
                    <a:lnTo>
                      <a:pt x="32" y="722"/>
                    </a:lnTo>
                    <a:lnTo>
                      <a:pt x="0" y="722"/>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7639200" y="404100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69" name=""/>
              <p:cNvSpPr/>
              <p:nvPr/>
            </p:nvSpPr>
            <p:spPr>
              <a:xfrm>
                <a:off x="4501080" y="2508840"/>
                <a:ext cx="1582560" cy="1059120"/>
              </a:xfrm>
              <a:custGeom>
                <a:avLst/>
                <a:gdLst/>
                <a:ahLst/>
                <a:rect l="l" t="t" r="r" b="b"/>
                <a:pathLst>
                  <a:path w="1495" h="793">
                    <a:moveTo>
                      <a:pt x="1495" y="793"/>
                    </a:moveTo>
                    <a:lnTo>
                      <a:pt x="1477" y="793"/>
                    </a:lnTo>
                    <a:lnTo>
                      <a:pt x="1476" y="790"/>
                    </a:lnTo>
                    <a:lnTo>
                      <a:pt x="1475" y="788"/>
                    </a:lnTo>
                    <a:lnTo>
                      <a:pt x="1474" y="786"/>
                    </a:lnTo>
                    <a:lnTo>
                      <a:pt x="1472" y="784"/>
                    </a:lnTo>
                    <a:lnTo>
                      <a:pt x="1469" y="782"/>
                    </a:lnTo>
                    <a:lnTo>
                      <a:pt x="1466" y="781"/>
                    </a:lnTo>
                    <a:lnTo>
                      <a:pt x="1463" y="780"/>
                    </a:lnTo>
                    <a:lnTo>
                      <a:pt x="1460" y="780"/>
                    </a:lnTo>
                    <a:lnTo>
                      <a:pt x="1457" y="780"/>
                    </a:lnTo>
                    <a:lnTo>
                      <a:pt x="1454" y="781"/>
                    </a:lnTo>
                    <a:lnTo>
                      <a:pt x="1451" y="782"/>
                    </a:lnTo>
                    <a:lnTo>
                      <a:pt x="1448" y="784"/>
                    </a:lnTo>
                    <a:lnTo>
                      <a:pt x="1446" y="786"/>
                    </a:lnTo>
                    <a:lnTo>
                      <a:pt x="1445" y="788"/>
                    </a:lnTo>
                    <a:lnTo>
                      <a:pt x="1444" y="790"/>
                    </a:lnTo>
                    <a:lnTo>
                      <a:pt x="1443" y="793"/>
                    </a:lnTo>
                    <a:lnTo>
                      <a:pt x="1436" y="793"/>
                    </a:lnTo>
                    <a:lnTo>
                      <a:pt x="1436" y="791"/>
                    </a:lnTo>
                    <a:lnTo>
                      <a:pt x="1435" y="790"/>
                    </a:lnTo>
                    <a:lnTo>
                      <a:pt x="1433" y="790"/>
                    </a:lnTo>
                    <a:lnTo>
                      <a:pt x="1432" y="789"/>
                    </a:lnTo>
                    <a:lnTo>
                      <a:pt x="1430" y="790"/>
                    </a:lnTo>
                    <a:lnTo>
                      <a:pt x="1428" y="790"/>
                    </a:lnTo>
                    <a:lnTo>
                      <a:pt x="1427" y="791"/>
                    </a:lnTo>
                    <a:lnTo>
                      <a:pt x="1427" y="793"/>
                    </a:lnTo>
                    <a:lnTo>
                      <a:pt x="1415" y="793"/>
                    </a:lnTo>
                    <a:lnTo>
                      <a:pt x="1415" y="791"/>
                    </a:lnTo>
                    <a:lnTo>
                      <a:pt x="1414" y="790"/>
                    </a:lnTo>
                    <a:lnTo>
                      <a:pt x="1413" y="790"/>
                    </a:lnTo>
                    <a:lnTo>
                      <a:pt x="1411" y="789"/>
                    </a:lnTo>
                    <a:lnTo>
                      <a:pt x="1409" y="790"/>
                    </a:lnTo>
                    <a:lnTo>
                      <a:pt x="1408" y="790"/>
                    </a:lnTo>
                    <a:lnTo>
                      <a:pt x="1407" y="791"/>
                    </a:lnTo>
                    <a:lnTo>
                      <a:pt x="1406" y="793"/>
                    </a:lnTo>
                    <a:lnTo>
                      <a:pt x="1405" y="793"/>
                    </a:lnTo>
                    <a:lnTo>
                      <a:pt x="1404" y="791"/>
                    </a:lnTo>
                    <a:lnTo>
                      <a:pt x="1403" y="790"/>
                    </a:lnTo>
                    <a:lnTo>
                      <a:pt x="1402" y="790"/>
                    </a:lnTo>
                    <a:lnTo>
                      <a:pt x="1400" y="789"/>
                    </a:lnTo>
                    <a:lnTo>
                      <a:pt x="1398" y="790"/>
                    </a:lnTo>
                    <a:lnTo>
                      <a:pt x="1397" y="790"/>
                    </a:lnTo>
                    <a:lnTo>
                      <a:pt x="1396" y="791"/>
                    </a:lnTo>
                    <a:lnTo>
                      <a:pt x="1396" y="793"/>
                    </a:lnTo>
                    <a:lnTo>
                      <a:pt x="1391" y="793"/>
                    </a:lnTo>
                    <a:lnTo>
                      <a:pt x="1391" y="791"/>
                    </a:lnTo>
                    <a:lnTo>
                      <a:pt x="1390" y="790"/>
                    </a:lnTo>
                    <a:lnTo>
                      <a:pt x="1388" y="790"/>
                    </a:lnTo>
                    <a:lnTo>
                      <a:pt x="1387" y="789"/>
                    </a:lnTo>
                    <a:lnTo>
                      <a:pt x="1385" y="790"/>
                    </a:lnTo>
                    <a:lnTo>
                      <a:pt x="1383" y="790"/>
                    </a:lnTo>
                    <a:lnTo>
                      <a:pt x="1382" y="791"/>
                    </a:lnTo>
                    <a:lnTo>
                      <a:pt x="1382" y="793"/>
                    </a:lnTo>
                    <a:lnTo>
                      <a:pt x="1382" y="793"/>
                    </a:lnTo>
                    <a:lnTo>
                      <a:pt x="1382" y="791"/>
                    </a:lnTo>
                    <a:lnTo>
                      <a:pt x="1381" y="790"/>
                    </a:lnTo>
                    <a:lnTo>
                      <a:pt x="1379" y="790"/>
                    </a:lnTo>
                    <a:lnTo>
                      <a:pt x="1378" y="789"/>
                    </a:lnTo>
                    <a:lnTo>
                      <a:pt x="1376" y="790"/>
                    </a:lnTo>
                    <a:lnTo>
                      <a:pt x="1374" y="790"/>
                    </a:lnTo>
                    <a:lnTo>
                      <a:pt x="1373" y="791"/>
                    </a:lnTo>
                    <a:lnTo>
                      <a:pt x="1373" y="793"/>
                    </a:lnTo>
                    <a:lnTo>
                      <a:pt x="1364" y="793"/>
                    </a:lnTo>
                    <a:lnTo>
                      <a:pt x="1364" y="791"/>
                    </a:lnTo>
                    <a:lnTo>
                      <a:pt x="1363" y="790"/>
                    </a:lnTo>
                    <a:lnTo>
                      <a:pt x="1361" y="790"/>
                    </a:lnTo>
                    <a:lnTo>
                      <a:pt x="1360" y="789"/>
                    </a:lnTo>
                    <a:lnTo>
                      <a:pt x="1358" y="790"/>
                    </a:lnTo>
                    <a:lnTo>
                      <a:pt x="1356" y="790"/>
                    </a:lnTo>
                    <a:lnTo>
                      <a:pt x="1355" y="791"/>
                    </a:lnTo>
                    <a:lnTo>
                      <a:pt x="1355" y="793"/>
                    </a:lnTo>
                    <a:lnTo>
                      <a:pt x="1331" y="793"/>
                    </a:lnTo>
                    <a:lnTo>
                      <a:pt x="1331" y="791"/>
                    </a:lnTo>
                    <a:lnTo>
                      <a:pt x="1330" y="790"/>
                    </a:lnTo>
                    <a:lnTo>
                      <a:pt x="1328" y="790"/>
                    </a:lnTo>
                    <a:lnTo>
                      <a:pt x="1327" y="789"/>
                    </a:lnTo>
                    <a:lnTo>
                      <a:pt x="1325" y="790"/>
                    </a:lnTo>
                    <a:lnTo>
                      <a:pt x="1323" y="790"/>
                    </a:lnTo>
                    <a:lnTo>
                      <a:pt x="1322" y="791"/>
                    </a:lnTo>
                    <a:lnTo>
                      <a:pt x="1322" y="793"/>
                    </a:lnTo>
                    <a:lnTo>
                      <a:pt x="1307" y="793"/>
                    </a:lnTo>
                    <a:lnTo>
                      <a:pt x="1306" y="791"/>
                    </a:lnTo>
                    <a:lnTo>
                      <a:pt x="1305" y="790"/>
                    </a:lnTo>
                    <a:lnTo>
                      <a:pt x="1304" y="790"/>
                    </a:lnTo>
                    <a:lnTo>
                      <a:pt x="1302" y="789"/>
                    </a:lnTo>
                    <a:lnTo>
                      <a:pt x="1300" y="790"/>
                    </a:lnTo>
                    <a:lnTo>
                      <a:pt x="1299" y="790"/>
                    </a:lnTo>
                    <a:lnTo>
                      <a:pt x="1298" y="791"/>
                    </a:lnTo>
                    <a:lnTo>
                      <a:pt x="1298" y="793"/>
                    </a:lnTo>
                    <a:lnTo>
                      <a:pt x="1287" y="793"/>
                    </a:lnTo>
                    <a:lnTo>
                      <a:pt x="1286" y="791"/>
                    </a:lnTo>
                    <a:lnTo>
                      <a:pt x="1285" y="790"/>
                    </a:lnTo>
                    <a:lnTo>
                      <a:pt x="1284" y="790"/>
                    </a:lnTo>
                    <a:lnTo>
                      <a:pt x="1282" y="789"/>
                    </a:lnTo>
                    <a:lnTo>
                      <a:pt x="1281" y="790"/>
                    </a:lnTo>
                    <a:lnTo>
                      <a:pt x="1279" y="790"/>
                    </a:lnTo>
                    <a:lnTo>
                      <a:pt x="1278" y="791"/>
                    </a:lnTo>
                    <a:lnTo>
                      <a:pt x="1278" y="793"/>
                    </a:lnTo>
                    <a:lnTo>
                      <a:pt x="1273" y="793"/>
                    </a:lnTo>
                    <a:lnTo>
                      <a:pt x="1273" y="498"/>
                    </a:lnTo>
                    <a:lnTo>
                      <a:pt x="1265" y="498"/>
                    </a:lnTo>
                    <a:lnTo>
                      <a:pt x="1265" y="496"/>
                    </a:lnTo>
                    <a:lnTo>
                      <a:pt x="1264" y="495"/>
                    </a:lnTo>
                    <a:lnTo>
                      <a:pt x="1262" y="494"/>
                    </a:lnTo>
                    <a:lnTo>
                      <a:pt x="1260" y="494"/>
                    </a:lnTo>
                    <a:lnTo>
                      <a:pt x="1259" y="494"/>
                    </a:lnTo>
                    <a:lnTo>
                      <a:pt x="1257" y="495"/>
                    </a:lnTo>
                    <a:lnTo>
                      <a:pt x="1256" y="496"/>
                    </a:lnTo>
                    <a:lnTo>
                      <a:pt x="1256" y="498"/>
                    </a:lnTo>
                    <a:lnTo>
                      <a:pt x="1254" y="498"/>
                    </a:lnTo>
                    <a:lnTo>
                      <a:pt x="1254" y="496"/>
                    </a:lnTo>
                    <a:lnTo>
                      <a:pt x="1253" y="495"/>
                    </a:lnTo>
                    <a:lnTo>
                      <a:pt x="1251" y="494"/>
                    </a:lnTo>
                    <a:lnTo>
                      <a:pt x="1250" y="494"/>
                    </a:lnTo>
                    <a:lnTo>
                      <a:pt x="1248" y="494"/>
                    </a:lnTo>
                    <a:lnTo>
                      <a:pt x="1247" y="495"/>
                    </a:lnTo>
                    <a:lnTo>
                      <a:pt x="1246" y="496"/>
                    </a:lnTo>
                    <a:lnTo>
                      <a:pt x="1245" y="498"/>
                    </a:lnTo>
                    <a:lnTo>
                      <a:pt x="1243" y="498"/>
                    </a:lnTo>
                    <a:lnTo>
                      <a:pt x="1243" y="496"/>
                    </a:lnTo>
                    <a:lnTo>
                      <a:pt x="1242" y="495"/>
                    </a:lnTo>
                    <a:lnTo>
                      <a:pt x="1240" y="493"/>
                    </a:lnTo>
                    <a:lnTo>
                      <a:pt x="1239" y="493"/>
                    </a:lnTo>
                    <a:lnTo>
                      <a:pt x="1237" y="492"/>
                    </a:lnTo>
                    <a:lnTo>
                      <a:pt x="1235" y="493"/>
                    </a:lnTo>
                    <a:lnTo>
                      <a:pt x="1233" y="493"/>
                    </a:lnTo>
                    <a:lnTo>
                      <a:pt x="1231" y="495"/>
                    </a:lnTo>
                    <a:lnTo>
                      <a:pt x="1230" y="496"/>
                    </a:lnTo>
                    <a:lnTo>
                      <a:pt x="1230" y="498"/>
                    </a:lnTo>
                    <a:lnTo>
                      <a:pt x="1226" y="498"/>
                    </a:lnTo>
                    <a:lnTo>
                      <a:pt x="1225" y="496"/>
                    </a:lnTo>
                    <a:lnTo>
                      <a:pt x="1224" y="495"/>
                    </a:lnTo>
                    <a:lnTo>
                      <a:pt x="1223" y="494"/>
                    </a:lnTo>
                    <a:lnTo>
                      <a:pt x="1221" y="494"/>
                    </a:lnTo>
                    <a:lnTo>
                      <a:pt x="1219" y="494"/>
                    </a:lnTo>
                    <a:lnTo>
                      <a:pt x="1218" y="495"/>
                    </a:lnTo>
                    <a:lnTo>
                      <a:pt x="1217" y="496"/>
                    </a:lnTo>
                    <a:lnTo>
                      <a:pt x="1217" y="498"/>
                    </a:lnTo>
                    <a:lnTo>
                      <a:pt x="1042" y="498"/>
                    </a:lnTo>
                    <a:lnTo>
                      <a:pt x="1042" y="3"/>
                    </a:lnTo>
                    <a:lnTo>
                      <a:pt x="981" y="3"/>
                    </a:lnTo>
                    <a:lnTo>
                      <a:pt x="980" y="2"/>
                    </a:lnTo>
                    <a:lnTo>
                      <a:pt x="979" y="1"/>
                    </a:lnTo>
                    <a:lnTo>
                      <a:pt x="978" y="0"/>
                    </a:lnTo>
                    <a:lnTo>
                      <a:pt x="976" y="0"/>
                    </a:lnTo>
                    <a:lnTo>
                      <a:pt x="974" y="0"/>
                    </a:lnTo>
                    <a:lnTo>
                      <a:pt x="973" y="1"/>
                    </a:lnTo>
                    <a:lnTo>
                      <a:pt x="972" y="2"/>
                    </a:lnTo>
                    <a:lnTo>
                      <a:pt x="972" y="3"/>
                    </a:lnTo>
                    <a:lnTo>
                      <a:pt x="953" y="3"/>
                    </a:lnTo>
                    <a:lnTo>
                      <a:pt x="952" y="2"/>
                    </a:lnTo>
                    <a:lnTo>
                      <a:pt x="952" y="1"/>
                    </a:lnTo>
                    <a:lnTo>
                      <a:pt x="950" y="0"/>
                    </a:lnTo>
                    <a:lnTo>
                      <a:pt x="948" y="0"/>
                    </a:lnTo>
                    <a:lnTo>
                      <a:pt x="947" y="0"/>
                    </a:lnTo>
                    <a:lnTo>
                      <a:pt x="945" y="1"/>
                    </a:lnTo>
                    <a:lnTo>
                      <a:pt x="944" y="2"/>
                    </a:lnTo>
                    <a:lnTo>
                      <a:pt x="944" y="3"/>
                    </a:lnTo>
                    <a:lnTo>
                      <a:pt x="922" y="3"/>
                    </a:lnTo>
                    <a:lnTo>
                      <a:pt x="921" y="2"/>
                    </a:lnTo>
                    <a:lnTo>
                      <a:pt x="920" y="1"/>
                    </a:lnTo>
                    <a:lnTo>
                      <a:pt x="919" y="0"/>
                    </a:lnTo>
                    <a:lnTo>
                      <a:pt x="917" y="0"/>
                    </a:lnTo>
                    <a:lnTo>
                      <a:pt x="915" y="0"/>
                    </a:lnTo>
                    <a:lnTo>
                      <a:pt x="914" y="1"/>
                    </a:lnTo>
                    <a:lnTo>
                      <a:pt x="913" y="2"/>
                    </a:lnTo>
                    <a:lnTo>
                      <a:pt x="913" y="3"/>
                    </a:lnTo>
                    <a:lnTo>
                      <a:pt x="900" y="3"/>
                    </a:lnTo>
                    <a:lnTo>
                      <a:pt x="900" y="2"/>
                    </a:lnTo>
                    <a:lnTo>
                      <a:pt x="899" y="1"/>
                    </a:lnTo>
                    <a:lnTo>
                      <a:pt x="897" y="0"/>
                    </a:lnTo>
                    <a:lnTo>
                      <a:pt x="896" y="0"/>
                    </a:lnTo>
                    <a:lnTo>
                      <a:pt x="894" y="0"/>
                    </a:lnTo>
                    <a:lnTo>
                      <a:pt x="892" y="1"/>
                    </a:lnTo>
                    <a:lnTo>
                      <a:pt x="892" y="2"/>
                    </a:lnTo>
                    <a:lnTo>
                      <a:pt x="891" y="3"/>
                    </a:lnTo>
                    <a:lnTo>
                      <a:pt x="880" y="3"/>
                    </a:lnTo>
                    <a:lnTo>
                      <a:pt x="880" y="2"/>
                    </a:lnTo>
                    <a:lnTo>
                      <a:pt x="879" y="1"/>
                    </a:lnTo>
                    <a:lnTo>
                      <a:pt x="877" y="0"/>
                    </a:lnTo>
                    <a:lnTo>
                      <a:pt x="875" y="0"/>
                    </a:lnTo>
                    <a:lnTo>
                      <a:pt x="874" y="0"/>
                    </a:lnTo>
                    <a:lnTo>
                      <a:pt x="872" y="1"/>
                    </a:lnTo>
                    <a:lnTo>
                      <a:pt x="871" y="2"/>
                    </a:lnTo>
                    <a:lnTo>
                      <a:pt x="871" y="3"/>
                    </a:lnTo>
                    <a:lnTo>
                      <a:pt x="846" y="3"/>
                    </a:lnTo>
                    <a:lnTo>
                      <a:pt x="846" y="2"/>
                    </a:lnTo>
                    <a:lnTo>
                      <a:pt x="845" y="1"/>
                    </a:lnTo>
                    <a:lnTo>
                      <a:pt x="843" y="0"/>
                    </a:lnTo>
                    <a:lnTo>
                      <a:pt x="842" y="0"/>
                    </a:lnTo>
                    <a:lnTo>
                      <a:pt x="840" y="0"/>
                    </a:lnTo>
                    <a:lnTo>
                      <a:pt x="838" y="1"/>
                    </a:lnTo>
                    <a:lnTo>
                      <a:pt x="838" y="2"/>
                    </a:lnTo>
                    <a:lnTo>
                      <a:pt x="837" y="3"/>
                    </a:lnTo>
                    <a:lnTo>
                      <a:pt x="817" y="3"/>
                    </a:lnTo>
                    <a:lnTo>
                      <a:pt x="817" y="2"/>
                    </a:lnTo>
                    <a:lnTo>
                      <a:pt x="816" y="1"/>
                    </a:lnTo>
                    <a:lnTo>
                      <a:pt x="815" y="0"/>
                    </a:lnTo>
                    <a:lnTo>
                      <a:pt x="813" y="0"/>
                    </a:lnTo>
                    <a:lnTo>
                      <a:pt x="811" y="0"/>
                    </a:lnTo>
                    <a:lnTo>
                      <a:pt x="810" y="1"/>
                    </a:lnTo>
                    <a:lnTo>
                      <a:pt x="809" y="2"/>
                    </a:lnTo>
                    <a:lnTo>
                      <a:pt x="808" y="3"/>
                    </a:lnTo>
                    <a:lnTo>
                      <a:pt x="790" y="3"/>
                    </a:lnTo>
                    <a:lnTo>
                      <a:pt x="790" y="2"/>
                    </a:lnTo>
                    <a:lnTo>
                      <a:pt x="789" y="1"/>
                    </a:lnTo>
                    <a:lnTo>
                      <a:pt x="788" y="0"/>
                    </a:lnTo>
                    <a:lnTo>
                      <a:pt x="786" y="0"/>
                    </a:lnTo>
                    <a:lnTo>
                      <a:pt x="784" y="0"/>
                    </a:lnTo>
                    <a:lnTo>
                      <a:pt x="783" y="1"/>
                    </a:lnTo>
                    <a:lnTo>
                      <a:pt x="782" y="2"/>
                    </a:lnTo>
                    <a:lnTo>
                      <a:pt x="781" y="3"/>
                    </a:lnTo>
                    <a:lnTo>
                      <a:pt x="765" y="3"/>
                    </a:lnTo>
                    <a:lnTo>
                      <a:pt x="765" y="2"/>
                    </a:lnTo>
                    <a:lnTo>
                      <a:pt x="764" y="1"/>
                    </a:lnTo>
                    <a:lnTo>
                      <a:pt x="762" y="0"/>
                    </a:lnTo>
                    <a:lnTo>
                      <a:pt x="761" y="0"/>
                    </a:lnTo>
                    <a:lnTo>
                      <a:pt x="759" y="0"/>
                    </a:lnTo>
                    <a:lnTo>
                      <a:pt x="757" y="1"/>
                    </a:lnTo>
                    <a:lnTo>
                      <a:pt x="756" y="2"/>
                    </a:lnTo>
                    <a:lnTo>
                      <a:pt x="756" y="3"/>
                    </a:lnTo>
                    <a:lnTo>
                      <a:pt x="704" y="3"/>
                    </a:lnTo>
                    <a:lnTo>
                      <a:pt x="704" y="2"/>
                    </a:lnTo>
                    <a:lnTo>
                      <a:pt x="703" y="1"/>
                    </a:lnTo>
                    <a:lnTo>
                      <a:pt x="702" y="0"/>
                    </a:lnTo>
                    <a:lnTo>
                      <a:pt x="700" y="0"/>
                    </a:lnTo>
                    <a:lnTo>
                      <a:pt x="698" y="0"/>
                    </a:lnTo>
                    <a:lnTo>
                      <a:pt x="697" y="1"/>
                    </a:lnTo>
                    <a:lnTo>
                      <a:pt x="696" y="2"/>
                    </a:lnTo>
                    <a:lnTo>
                      <a:pt x="695" y="3"/>
                    </a:lnTo>
                    <a:lnTo>
                      <a:pt x="572" y="3"/>
                    </a:lnTo>
                    <a:lnTo>
                      <a:pt x="572" y="2"/>
                    </a:lnTo>
                    <a:lnTo>
                      <a:pt x="571" y="1"/>
                    </a:lnTo>
                    <a:lnTo>
                      <a:pt x="569" y="0"/>
                    </a:lnTo>
                    <a:lnTo>
                      <a:pt x="568" y="0"/>
                    </a:lnTo>
                    <a:lnTo>
                      <a:pt x="566" y="0"/>
                    </a:lnTo>
                    <a:lnTo>
                      <a:pt x="564" y="1"/>
                    </a:lnTo>
                    <a:lnTo>
                      <a:pt x="563" y="2"/>
                    </a:lnTo>
                    <a:lnTo>
                      <a:pt x="563" y="3"/>
                    </a:lnTo>
                    <a:lnTo>
                      <a:pt x="557" y="3"/>
                    </a:lnTo>
                    <a:lnTo>
                      <a:pt x="556" y="2"/>
                    </a:lnTo>
                    <a:lnTo>
                      <a:pt x="555" y="1"/>
                    </a:lnTo>
                    <a:lnTo>
                      <a:pt x="554" y="0"/>
                    </a:lnTo>
                    <a:lnTo>
                      <a:pt x="552" y="0"/>
                    </a:lnTo>
                    <a:lnTo>
                      <a:pt x="550" y="0"/>
                    </a:lnTo>
                    <a:lnTo>
                      <a:pt x="549" y="1"/>
                    </a:lnTo>
                    <a:lnTo>
                      <a:pt x="548" y="2"/>
                    </a:lnTo>
                    <a:lnTo>
                      <a:pt x="548" y="3"/>
                    </a:lnTo>
                    <a:lnTo>
                      <a:pt x="522" y="3"/>
                    </a:lnTo>
                    <a:lnTo>
                      <a:pt x="522" y="2"/>
                    </a:lnTo>
                    <a:lnTo>
                      <a:pt x="521" y="1"/>
                    </a:lnTo>
                    <a:lnTo>
                      <a:pt x="519" y="0"/>
                    </a:lnTo>
                    <a:lnTo>
                      <a:pt x="518" y="0"/>
                    </a:lnTo>
                    <a:lnTo>
                      <a:pt x="516" y="0"/>
                    </a:lnTo>
                    <a:lnTo>
                      <a:pt x="515" y="1"/>
                    </a:lnTo>
                    <a:lnTo>
                      <a:pt x="514" y="2"/>
                    </a:lnTo>
                    <a:lnTo>
                      <a:pt x="513" y="3"/>
                    </a:lnTo>
                    <a:lnTo>
                      <a:pt x="509" y="3"/>
                    </a:lnTo>
                    <a:lnTo>
                      <a:pt x="508" y="2"/>
                    </a:lnTo>
                    <a:lnTo>
                      <a:pt x="507" y="1"/>
                    </a:lnTo>
                    <a:lnTo>
                      <a:pt x="506" y="0"/>
                    </a:lnTo>
                    <a:lnTo>
                      <a:pt x="504" y="0"/>
                    </a:lnTo>
                    <a:lnTo>
                      <a:pt x="503" y="0"/>
                    </a:lnTo>
                    <a:lnTo>
                      <a:pt x="501" y="1"/>
                    </a:lnTo>
                    <a:lnTo>
                      <a:pt x="500" y="2"/>
                    </a:lnTo>
                    <a:lnTo>
                      <a:pt x="500" y="3"/>
                    </a:lnTo>
                    <a:lnTo>
                      <a:pt x="330" y="3"/>
                    </a:lnTo>
                    <a:lnTo>
                      <a:pt x="329" y="2"/>
                    </a:lnTo>
                    <a:lnTo>
                      <a:pt x="328" y="1"/>
                    </a:lnTo>
                    <a:lnTo>
                      <a:pt x="327" y="0"/>
                    </a:lnTo>
                    <a:lnTo>
                      <a:pt x="325" y="0"/>
                    </a:lnTo>
                    <a:lnTo>
                      <a:pt x="323" y="0"/>
                    </a:lnTo>
                    <a:lnTo>
                      <a:pt x="322" y="1"/>
                    </a:lnTo>
                    <a:lnTo>
                      <a:pt x="321" y="2"/>
                    </a:lnTo>
                    <a:lnTo>
                      <a:pt x="321" y="3"/>
                    </a:lnTo>
                    <a:lnTo>
                      <a:pt x="172" y="3"/>
                    </a:lnTo>
                    <a:lnTo>
                      <a:pt x="172" y="2"/>
                    </a:lnTo>
                    <a:lnTo>
                      <a:pt x="171" y="1"/>
                    </a:lnTo>
                    <a:lnTo>
                      <a:pt x="170" y="0"/>
                    </a:lnTo>
                    <a:lnTo>
                      <a:pt x="168" y="0"/>
                    </a:lnTo>
                    <a:lnTo>
                      <a:pt x="166" y="0"/>
                    </a:lnTo>
                    <a:lnTo>
                      <a:pt x="165" y="1"/>
                    </a:lnTo>
                    <a:lnTo>
                      <a:pt x="164" y="2"/>
                    </a:lnTo>
                    <a:lnTo>
                      <a:pt x="163" y="3"/>
                    </a:lnTo>
                    <a:lnTo>
                      <a:pt x="154" y="3"/>
                    </a:lnTo>
                    <a:lnTo>
                      <a:pt x="154" y="2"/>
                    </a:lnTo>
                    <a:lnTo>
                      <a:pt x="153" y="1"/>
                    </a:lnTo>
                    <a:lnTo>
                      <a:pt x="151" y="0"/>
                    </a:lnTo>
                    <a:lnTo>
                      <a:pt x="150" y="0"/>
                    </a:lnTo>
                    <a:lnTo>
                      <a:pt x="148" y="0"/>
                    </a:lnTo>
                    <a:lnTo>
                      <a:pt x="147" y="1"/>
                    </a:lnTo>
                    <a:lnTo>
                      <a:pt x="146" y="2"/>
                    </a:lnTo>
                    <a:lnTo>
                      <a:pt x="145" y="3"/>
                    </a:lnTo>
                    <a:lnTo>
                      <a:pt x="89" y="3"/>
                    </a:lnTo>
                    <a:lnTo>
                      <a:pt x="89" y="2"/>
                    </a:lnTo>
                    <a:lnTo>
                      <a:pt x="88" y="1"/>
                    </a:lnTo>
                    <a:lnTo>
                      <a:pt x="86" y="0"/>
                    </a:lnTo>
                    <a:lnTo>
                      <a:pt x="85" y="0"/>
                    </a:lnTo>
                    <a:lnTo>
                      <a:pt x="83" y="0"/>
                    </a:lnTo>
                    <a:lnTo>
                      <a:pt x="81" y="1"/>
                    </a:lnTo>
                    <a:lnTo>
                      <a:pt x="81" y="2"/>
                    </a:lnTo>
                    <a:lnTo>
                      <a:pt x="80" y="3"/>
                    </a:lnTo>
                    <a:lnTo>
                      <a:pt x="29" y="3"/>
                    </a:lnTo>
                    <a:lnTo>
                      <a:pt x="29" y="2"/>
                    </a:lnTo>
                    <a:lnTo>
                      <a:pt x="28" y="1"/>
                    </a:lnTo>
                    <a:lnTo>
                      <a:pt x="26" y="0"/>
                    </a:lnTo>
                    <a:lnTo>
                      <a:pt x="25" y="0"/>
                    </a:lnTo>
                    <a:lnTo>
                      <a:pt x="23" y="0"/>
                    </a:lnTo>
                    <a:lnTo>
                      <a:pt x="22" y="1"/>
                    </a:lnTo>
                    <a:lnTo>
                      <a:pt x="21" y="2"/>
                    </a:lnTo>
                    <a:lnTo>
                      <a:pt x="20" y="3"/>
                    </a:lnTo>
                    <a:lnTo>
                      <a:pt x="0"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4488480" y="2507760"/>
                <a:ext cx="1476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71" name=""/>
              <p:cNvSpPr/>
              <p:nvPr/>
            </p:nvSpPr>
            <p:spPr>
              <a:xfrm>
                <a:off x="6398280" y="5194080"/>
                <a:ext cx="86760" cy="158760"/>
              </a:xfrm>
              <a:custGeom>
                <a:avLst/>
                <a:gdLst/>
                <a:ahLst/>
                <a:rect l="l" t="t" r="r" b="b"/>
                <a:pathLst>
                  <a:path w="82" h="119">
                    <a:moveTo>
                      <a:pt x="0" y="0"/>
                    </a:moveTo>
                    <a:lnTo>
                      <a:pt x="61" y="0"/>
                    </a:lnTo>
                    <a:lnTo>
                      <a:pt x="61" y="119"/>
                    </a:lnTo>
                    <a:lnTo>
                      <a:pt x="82" y="119"/>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483960" y="534636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73" name=""/>
              <p:cNvSpPr/>
              <p:nvPr/>
            </p:nvSpPr>
            <p:spPr>
              <a:xfrm>
                <a:off x="6894000" y="5319360"/>
                <a:ext cx="571320" cy="208080"/>
              </a:xfrm>
              <a:prstGeom prst="rect">
                <a:avLst/>
              </a:prstGeom>
              <a:blipFill rotWithShape="0">
                <a:blip r:embed="rId10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6913440" y="5358240"/>
                <a:ext cx="711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u="sng">
                    <a:solidFill>
                      <a:srgbClr val="000000"/>
                    </a:solidFill>
                    <a:uFillTx/>
                    <a:latin typeface="Arial"/>
                    <a:ea typeface="Arial"/>
                  </a:rPr>
                  <a:t>Misc Accounting/Finance Apps - PC/NT</a:t>
                </a:r>
                <a:endParaRPr b="0" lang="en-US" sz="300" spc="-1" strike="noStrike">
                  <a:solidFill>
                    <a:srgbClr val="ffffff"/>
                  </a:solidFill>
                  <a:latin typeface="Arial"/>
                </a:endParaRPr>
              </a:p>
            </p:txBody>
          </p:sp>
          <p:sp>
            <p:nvSpPr>
              <p:cNvPr id="1275" name=""/>
              <p:cNvSpPr/>
              <p:nvPr/>
            </p:nvSpPr>
            <p:spPr>
              <a:xfrm>
                <a:off x="4817520" y="4409640"/>
                <a:ext cx="2076120" cy="1013760"/>
              </a:xfrm>
              <a:custGeom>
                <a:avLst/>
                <a:gdLst/>
                <a:ahLst/>
                <a:rect l="l" t="t" r="r" b="b"/>
                <a:pathLst>
                  <a:path w="1961" h="759">
                    <a:moveTo>
                      <a:pt x="0" y="0"/>
                    </a:moveTo>
                    <a:lnTo>
                      <a:pt x="0" y="477"/>
                    </a:lnTo>
                    <a:lnTo>
                      <a:pt x="77" y="477"/>
                    </a:lnTo>
                    <a:lnTo>
                      <a:pt x="77" y="476"/>
                    </a:lnTo>
                    <a:lnTo>
                      <a:pt x="78" y="475"/>
                    </a:lnTo>
                    <a:lnTo>
                      <a:pt x="79" y="474"/>
                    </a:lnTo>
                    <a:lnTo>
                      <a:pt x="81" y="474"/>
                    </a:lnTo>
                    <a:lnTo>
                      <a:pt x="83" y="474"/>
                    </a:lnTo>
                    <a:lnTo>
                      <a:pt x="84" y="475"/>
                    </a:lnTo>
                    <a:lnTo>
                      <a:pt x="85" y="476"/>
                    </a:lnTo>
                    <a:lnTo>
                      <a:pt x="86" y="477"/>
                    </a:lnTo>
                    <a:lnTo>
                      <a:pt x="122" y="477"/>
                    </a:lnTo>
                    <a:lnTo>
                      <a:pt x="122" y="742"/>
                    </a:lnTo>
                    <a:lnTo>
                      <a:pt x="145" y="742"/>
                    </a:lnTo>
                    <a:lnTo>
                      <a:pt x="145" y="741"/>
                    </a:lnTo>
                    <a:lnTo>
                      <a:pt x="146" y="740"/>
                    </a:lnTo>
                    <a:lnTo>
                      <a:pt x="148" y="739"/>
                    </a:lnTo>
                    <a:lnTo>
                      <a:pt x="149" y="739"/>
                    </a:lnTo>
                    <a:lnTo>
                      <a:pt x="151" y="739"/>
                    </a:lnTo>
                    <a:lnTo>
                      <a:pt x="152" y="740"/>
                    </a:lnTo>
                    <a:lnTo>
                      <a:pt x="153" y="741"/>
                    </a:lnTo>
                    <a:lnTo>
                      <a:pt x="154" y="742"/>
                    </a:lnTo>
                    <a:lnTo>
                      <a:pt x="1909" y="742"/>
                    </a:lnTo>
                    <a:lnTo>
                      <a:pt x="1909" y="741"/>
                    </a:lnTo>
                    <a:lnTo>
                      <a:pt x="1910" y="740"/>
                    </a:lnTo>
                    <a:lnTo>
                      <a:pt x="1912" y="739"/>
                    </a:lnTo>
                    <a:lnTo>
                      <a:pt x="1913" y="739"/>
                    </a:lnTo>
                    <a:lnTo>
                      <a:pt x="1915" y="739"/>
                    </a:lnTo>
                    <a:lnTo>
                      <a:pt x="1916" y="740"/>
                    </a:lnTo>
                    <a:lnTo>
                      <a:pt x="1917" y="741"/>
                    </a:lnTo>
                    <a:lnTo>
                      <a:pt x="1918" y="742"/>
                    </a:lnTo>
                    <a:lnTo>
                      <a:pt x="1934" y="742"/>
                    </a:lnTo>
                    <a:lnTo>
                      <a:pt x="1934" y="741"/>
                    </a:lnTo>
                    <a:lnTo>
                      <a:pt x="1935" y="740"/>
                    </a:lnTo>
                    <a:lnTo>
                      <a:pt x="1937" y="739"/>
                    </a:lnTo>
                    <a:lnTo>
                      <a:pt x="1939" y="739"/>
                    </a:lnTo>
                    <a:lnTo>
                      <a:pt x="1940" y="739"/>
                    </a:lnTo>
                    <a:lnTo>
                      <a:pt x="1942" y="740"/>
                    </a:lnTo>
                    <a:lnTo>
                      <a:pt x="1943" y="741"/>
                    </a:lnTo>
                    <a:lnTo>
                      <a:pt x="1943" y="742"/>
                    </a:lnTo>
                    <a:lnTo>
                      <a:pt x="1947" y="742"/>
                    </a:lnTo>
                    <a:lnTo>
                      <a:pt x="1947" y="759"/>
                    </a:lnTo>
                    <a:lnTo>
                      <a:pt x="1961" y="7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4811400" y="43977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77" name=""/>
              <p:cNvSpPr/>
              <p:nvPr/>
            </p:nvSpPr>
            <p:spPr>
              <a:xfrm>
                <a:off x="4209840" y="4746600"/>
                <a:ext cx="162000" cy="110520"/>
              </a:xfrm>
              <a:prstGeom prst="rect">
                <a:avLst/>
              </a:prstGeom>
              <a:blipFill rotWithShape="0">
                <a:blip r:embed="rId11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4254840" y="478548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IMS</a:t>
                </a:r>
                <a:endParaRPr b="0" lang="en-US" sz="300" spc="-1" strike="noStrike">
                  <a:solidFill>
                    <a:srgbClr val="ffffff"/>
                  </a:solidFill>
                  <a:latin typeface="Arial"/>
                </a:endParaRPr>
              </a:p>
            </p:txBody>
          </p:sp>
          <p:sp>
            <p:nvSpPr>
              <p:cNvPr id="1279" name=""/>
              <p:cNvSpPr/>
              <p:nvPr/>
            </p:nvSpPr>
            <p:spPr>
              <a:xfrm>
                <a:off x="3680640" y="4731840"/>
                <a:ext cx="329040" cy="160200"/>
              </a:xfrm>
              <a:prstGeom prst="rect">
                <a:avLst/>
              </a:prstGeom>
              <a:blipFill rotWithShape="0">
                <a:blip r:embed="rId11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3699000" y="4745160"/>
                <a:ext cx="26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ngr Approval</a:t>
                </a:r>
                <a:endParaRPr b="0" lang="en-US" sz="300" spc="-1" strike="noStrike">
                  <a:solidFill>
                    <a:srgbClr val="ffffff"/>
                  </a:solidFill>
                  <a:latin typeface="Arial"/>
                </a:endParaRPr>
              </a:p>
            </p:txBody>
          </p:sp>
          <p:sp>
            <p:nvSpPr>
              <p:cNvPr id="1281" name=""/>
              <p:cNvSpPr/>
              <p:nvPr/>
            </p:nvSpPr>
            <p:spPr>
              <a:xfrm>
                <a:off x="3728880" y="4781160"/>
                <a:ext cx="309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atch Forcasting</a:t>
                </a:r>
                <a:endParaRPr b="0" lang="en-US" sz="300" spc="-1" strike="noStrike">
                  <a:solidFill>
                    <a:srgbClr val="ffffff"/>
                  </a:solidFill>
                  <a:latin typeface="Arial"/>
                </a:endParaRPr>
              </a:p>
            </p:txBody>
          </p:sp>
          <p:sp>
            <p:nvSpPr>
              <p:cNvPr id="1282" name=""/>
              <p:cNvSpPr/>
              <p:nvPr/>
            </p:nvSpPr>
            <p:spPr>
              <a:xfrm>
                <a:off x="3729240" y="4812120"/>
                <a:ext cx="30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d Measurement</a:t>
                </a:r>
                <a:endParaRPr b="0" lang="en-US" sz="300" spc="-1" strike="noStrike">
                  <a:solidFill>
                    <a:srgbClr val="ffffff"/>
                  </a:solidFill>
                  <a:latin typeface="Arial"/>
                </a:endParaRPr>
              </a:p>
            </p:txBody>
          </p:sp>
          <p:sp>
            <p:nvSpPr>
              <p:cNvPr id="1283" name=""/>
              <p:cNvSpPr/>
              <p:nvPr/>
            </p:nvSpPr>
            <p:spPr>
              <a:xfrm>
                <a:off x="4220640" y="4941360"/>
                <a:ext cx="160560" cy="82800"/>
              </a:xfrm>
              <a:prstGeom prst="rect">
                <a:avLst/>
              </a:prstGeom>
              <a:blipFill rotWithShape="0">
                <a:blip r:embed="rId112"/>
                <a:srcRect/>
                <a:tile tx="0" ty="0" sx="100000" sy="100000" algn="ctr"/>
              </a:blip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284" name=""/>
              <p:cNvSpPr/>
              <p:nvPr/>
            </p:nvSpPr>
            <p:spPr>
              <a:xfrm>
                <a:off x="4264200" y="494820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IMS</a:t>
                </a:r>
                <a:endParaRPr b="0" lang="en-US" sz="300" spc="-1" strike="noStrike">
                  <a:solidFill>
                    <a:srgbClr val="ffffff"/>
                  </a:solidFill>
                  <a:latin typeface="Arial"/>
                </a:endParaRPr>
              </a:p>
            </p:txBody>
          </p:sp>
          <p:sp>
            <p:nvSpPr>
              <p:cNvPr id="1285" name=""/>
              <p:cNvSpPr/>
              <p:nvPr/>
            </p:nvSpPr>
            <p:spPr>
              <a:xfrm>
                <a:off x="4233960" y="4980240"/>
                <a:ext cx="17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orting</a:t>
                </a:r>
                <a:endParaRPr b="0" lang="en-US" sz="300" spc="-1" strike="noStrike">
                  <a:solidFill>
                    <a:srgbClr val="ffffff"/>
                  </a:solidFill>
                  <a:latin typeface="Arial"/>
                </a:endParaRPr>
              </a:p>
            </p:txBody>
          </p:sp>
          <p:sp>
            <p:nvSpPr>
              <p:cNvPr id="1286" name=""/>
              <p:cNvSpPr/>
              <p:nvPr/>
            </p:nvSpPr>
            <p:spPr>
              <a:xfrm>
                <a:off x="3827880" y="4972320"/>
                <a:ext cx="159840" cy="83880"/>
              </a:xfrm>
              <a:prstGeom prst="rect">
                <a:avLst/>
              </a:prstGeom>
              <a:blipFill rotWithShape="0">
                <a:blip r:embed="rId113"/>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287" name=""/>
              <p:cNvSpPr/>
              <p:nvPr/>
            </p:nvSpPr>
            <p:spPr>
              <a:xfrm>
                <a:off x="3887280" y="4976280"/>
                <a:ext cx="511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d</a:t>
                </a:r>
                <a:endParaRPr b="0" lang="en-US" sz="300" spc="-1" strike="noStrike">
                  <a:solidFill>
                    <a:srgbClr val="ffffff"/>
                  </a:solidFill>
                  <a:latin typeface="Arial"/>
                </a:endParaRPr>
              </a:p>
            </p:txBody>
          </p:sp>
          <p:sp>
            <p:nvSpPr>
              <p:cNvPr id="1288" name=""/>
              <p:cNvSpPr/>
              <p:nvPr/>
            </p:nvSpPr>
            <p:spPr>
              <a:xfrm>
                <a:off x="3844800" y="5012280"/>
                <a:ext cx="17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Launcher</a:t>
                </a:r>
                <a:endParaRPr b="0" lang="en-US" sz="300" spc="-1" strike="noStrike">
                  <a:solidFill>
                    <a:srgbClr val="ffffff"/>
                  </a:solidFill>
                  <a:latin typeface="Arial"/>
                </a:endParaRPr>
              </a:p>
            </p:txBody>
          </p:sp>
          <p:sp>
            <p:nvSpPr>
              <p:cNvPr id="1289" name=""/>
              <p:cNvSpPr/>
              <p:nvPr/>
            </p:nvSpPr>
            <p:spPr>
              <a:xfrm>
                <a:off x="4022640" y="4802760"/>
                <a:ext cx="174240" cy="9360"/>
              </a:xfrm>
              <a:custGeom>
                <a:avLst/>
                <a:gdLst/>
                <a:ahLst/>
                <a:rect l="l" t="t" r="r" b="b"/>
                <a:pathLst>
                  <a:path w="165" h="7">
                    <a:moveTo>
                      <a:pt x="0" y="7"/>
                    </a:moveTo>
                    <a:lnTo>
                      <a:pt x="8" y="7"/>
                    </a:lnTo>
                    <a:lnTo>
                      <a:pt x="8" y="0"/>
                    </a:lnTo>
                    <a:lnTo>
                      <a:pt x="165" y="0"/>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290" name=""/>
              <p:cNvSpPr/>
              <p:nvPr/>
            </p:nvSpPr>
            <p:spPr>
              <a:xfrm>
                <a:off x="4010040" y="480636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91" name=""/>
              <p:cNvSpPr/>
              <p:nvPr/>
            </p:nvSpPr>
            <p:spPr>
              <a:xfrm>
                <a:off x="4196160" y="479592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92" name=""/>
              <p:cNvSpPr/>
              <p:nvPr/>
            </p:nvSpPr>
            <p:spPr>
              <a:xfrm>
                <a:off x="5074920" y="3065760"/>
                <a:ext cx="157680" cy="1652400"/>
              </a:xfrm>
              <a:custGeom>
                <a:avLst/>
                <a:gdLst/>
                <a:ahLst/>
                <a:rect l="l" t="t" r="r" b="b"/>
                <a:pathLst>
                  <a:path w="149" h="1237">
                    <a:moveTo>
                      <a:pt x="149" y="0"/>
                    </a:moveTo>
                    <a:lnTo>
                      <a:pt x="149" y="1107"/>
                    </a:lnTo>
                    <a:lnTo>
                      <a:pt x="124" y="1107"/>
                    </a:lnTo>
                    <a:lnTo>
                      <a:pt x="124" y="1105"/>
                    </a:lnTo>
                    <a:lnTo>
                      <a:pt x="123" y="1104"/>
                    </a:lnTo>
                    <a:lnTo>
                      <a:pt x="121" y="1103"/>
                    </a:lnTo>
                    <a:lnTo>
                      <a:pt x="120" y="1103"/>
                    </a:lnTo>
                    <a:lnTo>
                      <a:pt x="118" y="1103"/>
                    </a:lnTo>
                    <a:lnTo>
                      <a:pt x="117" y="1104"/>
                    </a:lnTo>
                    <a:lnTo>
                      <a:pt x="115" y="1105"/>
                    </a:lnTo>
                    <a:lnTo>
                      <a:pt x="115" y="1107"/>
                    </a:lnTo>
                    <a:lnTo>
                      <a:pt x="106" y="1107"/>
                    </a:lnTo>
                    <a:lnTo>
                      <a:pt x="106" y="1105"/>
                    </a:lnTo>
                    <a:lnTo>
                      <a:pt x="105" y="1104"/>
                    </a:lnTo>
                    <a:lnTo>
                      <a:pt x="103" y="1103"/>
                    </a:lnTo>
                    <a:lnTo>
                      <a:pt x="102" y="1103"/>
                    </a:lnTo>
                    <a:lnTo>
                      <a:pt x="100" y="1103"/>
                    </a:lnTo>
                    <a:lnTo>
                      <a:pt x="98" y="1104"/>
                    </a:lnTo>
                    <a:lnTo>
                      <a:pt x="97" y="1105"/>
                    </a:lnTo>
                    <a:lnTo>
                      <a:pt x="97" y="1107"/>
                    </a:lnTo>
                    <a:lnTo>
                      <a:pt x="44" y="1107"/>
                    </a:lnTo>
                    <a:lnTo>
                      <a:pt x="44" y="1105"/>
                    </a:lnTo>
                    <a:lnTo>
                      <a:pt x="43" y="1104"/>
                    </a:lnTo>
                    <a:lnTo>
                      <a:pt x="42" y="1103"/>
                    </a:lnTo>
                    <a:lnTo>
                      <a:pt x="40" y="1103"/>
                    </a:lnTo>
                    <a:lnTo>
                      <a:pt x="38" y="1103"/>
                    </a:lnTo>
                    <a:lnTo>
                      <a:pt x="37" y="1104"/>
                    </a:lnTo>
                    <a:lnTo>
                      <a:pt x="36" y="1105"/>
                    </a:lnTo>
                    <a:lnTo>
                      <a:pt x="35" y="1107"/>
                    </a:lnTo>
                    <a:lnTo>
                      <a:pt x="0" y="1107"/>
                    </a:lnTo>
                    <a:lnTo>
                      <a:pt x="0" y="1237"/>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5226120" y="3054240"/>
                <a:ext cx="12600" cy="13320"/>
              </a:xfrm>
              <a:custGeom>
                <a:avLst/>
                <a:gdLst/>
                <a:ahLst/>
                <a:rect l="l" t="t" r="r" b="b"/>
                <a:pathLst>
                  <a:path w="12" h="10">
                    <a:moveTo>
                      <a:pt x="0" y="9"/>
                    </a:moveTo>
                    <a:lnTo>
                      <a:pt x="6" y="0"/>
                    </a:lnTo>
                    <a:lnTo>
                      <a:pt x="12" y="9"/>
                    </a:lnTo>
                    <a:lnTo>
                      <a:pt x="9" y="9"/>
                    </a:lnTo>
                    <a:lnTo>
                      <a:pt x="6" y="10"/>
                    </a:lnTo>
                    <a:lnTo>
                      <a:pt x="2" y="9"/>
                    </a:lnTo>
                    <a:lnTo>
                      <a:pt x="0" y="9"/>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94" name=""/>
              <p:cNvSpPr/>
              <p:nvPr/>
            </p:nvSpPr>
            <p:spPr>
              <a:xfrm>
                <a:off x="3987720" y="4822560"/>
                <a:ext cx="213840" cy="192240"/>
              </a:xfrm>
              <a:custGeom>
                <a:avLst/>
                <a:gdLst/>
                <a:ahLst/>
                <a:rect l="l" t="t" r="r" b="b"/>
                <a:pathLst>
                  <a:path w="202" h="144">
                    <a:moveTo>
                      <a:pt x="0" y="144"/>
                    </a:moveTo>
                    <a:lnTo>
                      <a:pt x="190" y="144"/>
                    </a:lnTo>
                    <a:lnTo>
                      <a:pt x="190" y="0"/>
                    </a:lnTo>
                    <a:lnTo>
                      <a:pt x="20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4199400" y="4817160"/>
                <a:ext cx="11520" cy="11880"/>
              </a:xfrm>
              <a:custGeom>
                <a:avLst/>
                <a:gdLst/>
                <a:ahLst/>
                <a:rect l="l" t="t" r="r" b="b"/>
                <a:pathLst>
                  <a:path w="11" h="9">
                    <a:moveTo>
                      <a:pt x="11" y="4"/>
                    </a:moveTo>
                    <a:lnTo>
                      <a:pt x="0" y="9"/>
                    </a:lnTo>
                    <a:lnTo>
                      <a:pt x="0" y="7"/>
                    </a:lnTo>
                    <a:lnTo>
                      <a:pt x="1" y="4"/>
                    </a:lnTo>
                    <a:lnTo>
                      <a:pt x="0" y="2"/>
                    </a:lnTo>
                    <a:lnTo>
                      <a:pt x="0" y="0"/>
                    </a:lnTo>
                    <a:lnTo>
                      <a:pt x="11"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96" name=""/>
              <p:cNvSpPr/>
              <p:nvPr/>
            </p:nvSpPr>
            <p:spPr>
              <a:xfrm>
                <a:off x="4290480" y="4857480"/>
                <a:ext cx="10440" cy="72000"/>
              </a:xfrm>
              <a:custGeom>
                <a:avLst/>
                <a:gdLst/>
                <a:ahLst/>
                <a:rect l="l" t="t" r="r" b="b"/>
                <a:pathLst>
                  <a:path w="10" h="54">
                    <a:moveTo>
                      <a:pt x="0" y="0"/>
                    </a:moveTo>
                    <a:lnTo>
                      <a:pt x="0" y="16"/>
                    </a:lnTo>
                    <a:lnTo>
                      <a:pt x="10" y="16"/>
                    </a:lnTo>
                    <a:lnTo>
                      <a:pt x="10" y="54"/>
                    </a:lnTo>
                  </a:path>
                </a:pathLst>
              </a:custGeom>
              <a:noFill/>
              <a:ln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297" name=""/>
              <p:cNvSpPr/>
              <p:nvPr/>
            </p:nvSpPr>
            <p:spPr>
              <a:xfrm>
                <a:off x="4294800" y="49280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298" name=""/>
              <p:cNvSpPr/>
              <p:nvPr/>
            </p:nvSpPr>
            <p:spPr>
              <a:xfrm>
                <a:off x="4131720" y="3756600"/>
                <a:ext cx="172440" cy="118800"/>
              </a:xfrm>
              <a:prstGeom prst="rect">
                <a:avLst/>
              </a:prstGeom>
              <a:blipFill rotWithShape="0">
                <a:blip r:embed="rId1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4156920" y="3783240"/>
                <a:ext cx="66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kt</a:t>
                </a:r>
                <a:endParaRPr b="0" lang="en-US" sz="300" spc="-1" strike="noStrike">
                  <a:solidFill>
                    <a:srgbClr val="ffffff"/>
                  </a:solidFill>
                  <a:latin typeface="Arial"/>
                </a:endParaRPr>
              </a:p>
            </p:txBody>
          </p:sp>
          <p:sp>
            <p:nvSpPr>
              <p:cNvPr id="1300" name=""/>
              <p:cNvSpPr/>
              <p:nvPr/>
            </p:nvSpPr>
            <p:spPr>
              <a:xfrm>
                <a:off x="4150080" y="3815280"/>
                <a:ext cx="18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actions</a:t>
                </a:r>
                <a:endParaRPr b="0" lang="en-US" sz="300" spc="-1" strike="noStrike">
                  <a:solidFill>
                    <a:srgbClr val="ffffff"/>
                  </a:solidFill>
                  <a:latin typeface="Arial"/>
                </a:endParaRPr>
              </a:p>
            </p:txBody>
          </p:sp>
          <p:sp>
            <p:nvSpPr>
              <p:cNvPr id="1301" name=""/>
              <p:cNvSpPr/>
              <p:nvPr/>
            </p:nvSpPr>
            <p:spPr>
              <a:xfrm>
                <a:off x="4217400" y="3367800"/>
                <a:ext cx="253800" cy="388440"/>
              </a:xfrm>
              <a:custGeom>
                <a:avLst/>
                <a:gdLst/>
                <a:ahLst/>
                <a:rect l="l" t="t" r="r" b="b"/>
                <a:pathLst>
                  <a:path w="240" h="291">
                    <a:moveTo>
                      <a:pt x="0" y="291"/>
                    </a:moveTo>
                    <a:lnTo>
                      <a:pt x="0" y="224"/>
                    </a:lnTo>
                    <a:lnTo>
                      <a:pt x="71" y="224"/>
                    </a:lnTo>
                    <a:lnTo>
                      <a:pt x="71" y="222"/>
                    </a:lnTo>
                    <a:lnTo>
                      <a:pt x="72" y="221"/>
                    </a:lnTo>
                    <a:lnTo>
                      <a:pt x="74" y="220"/>
                    </a:lnTo>
                    <a:lnTo>
                      <a:pt x="75" y="220"/>
                    </a:lnTo>
                    <a:lnTo>
                      <a:pt x="77" y="220"/>
                    </a:lnTo>
                    <a:lnTo>
                      <a:pt x="79" y="221"/>
                    </a:lnTo>
                    <a:lnTo>
                      <a:pt x="80" y="222"/>
                    </a:lnTo>
                    <a:lnTo>
                      <a:pt x="80" y="224"/>
                    </a:lnTo>
                    <a:lnTo>
                      <a:pt x="103" y="224"/>
                    </a:lnTo>
                    <a:lnTo>
                      <a:pt x="104" y="222"/>
                    </a:lnTo>
                    <a:lnTo>
                      <a:pt x="105" y="221"/>
                    </a:lnTo>
                    <a:lnTo>
                      <a:pt x="106" y="220"/>
                    </a:lnTo>
                    <a:lnTo>
                      <a:pt x="108" y="220"/>
                    </a:lnTo>
                    <a:lnTo>
                      <a:pt x="109" y="220"/>
                    </a:lnTo>
                    <a:lnTo>
                      <a:pt x="111" y="221"/>
                    </a:lnTo>
                    <a:lnTo>
                      <a:pt x="112" y="222"/>
                    </a:lnTo>
                    <a:lnTo>
                      <a:pt x="112" y="224"/>
                    </a:lnTo>
                    <a:lnTo>
                      <a:pt x="115" y="224"/>
                    </a:lnTo>
                    <a:lnTo>
                      <a:pt x="115" y="9"/>
                    </a:lnTo>
                    <a:lnTo>
                      <a:pt x="144" y="9"/>
                    </a:lnTo>
                    <a:lnTo>
                      <a:pt x="144" y="7"/>
                    </a:lnTo>
                    <a:lnTo>
                      <a:pt x="145" y="5"/>
                    </a:lnTo>
                    <a:lnTo>
                      <a:pt x="146" y="3"/>
                    </a:lnTo>
                    <a:lnTo>
                      <a:pt x="148" y="2"/>
                    </a:lnTo>
                    <a:lnTo>
                      <a:pt x="151" y="1"/>
                    </a:lnTo>
                    <a:lnTo>
                      <a:pt x="154" y="0"/>
                    </a:lnTo>
                    <a:lnTo>
                      <a:pt x="156" y="0"/>
                    </a:lnTo>
                    <a:lnTo>
                      <a:pt x="159" y="1"/>
                    </a:lnTo>
                    <a:lnTo>
                      <a:pt x="161" y="2"/>
                    </a:lnTo>
                    <a:lnTo>
                      <a:pt x="164" y="3"/>
                    </a:lnTo>
                    <a:lnTo>
                      <a:pt x="165" y="5"/>
                    </a:lnTo>
                    <a:lnTo>
                      <a:pt x="166" y="7"/>
                    </a:lnTo>
                    <a:lnTo>
                      <a:pt x="166" y="9"/>
                    </a:lnTo>
                    <a:lnTo>
                      <a:pt x="224" y="9"/>
                    </a:lnTo>
                    <a:lnTo>
                      <a:pt x="225" y="8"/>
                    </a:lnTo>
                    <a:lnTo>
                      <a:pt x="226" y="7"/>
                    </a:lnTo>
                    <a:lnTo>
                      <a:pt x="227" y="6"/>
                    </a:lnTo>
                    <a:lnTo>
                      <a:pt x="229" y="6"/>
                    </a:lnTo>
                    <a:lnTo>
                      <a:pt x="231" y="6"/>
                    </a:lnTo>
                    <a:lnTo>
                      <a:pt x="232" y="7"/>
                    </a:lnTo>
                    <a:lnTo>
                      <a:pt x="233" y="8"/>
                    </a:lnTo>
                    <a:lnTo>
                      <a:pt x="233" y="9"/>
                    </a:lnTo>
                    <a:lnTo>
                      <a:pt x="240" y="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469400" y="337320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03" name=""/>
              <p:cNvSpPr/>
              <p:nvPr/>
            </p:nvSpPr>
            <p:spPr>
              <a:xfrm>
                <a:off x="3804480" y="3254400"/>
                <a:ext cx="399960" cy="563400"/>
              </a:xfrm>
              <a:custGeom>
                <a:avLst/>
                <a:gdLst/>
                <a:ahLst/>
                <a:rect l="l" t="t" r="r" b="b"/>
                <a:pathLst>
                  <a:path w="378" h="422">
                    <a:moveTo>
                      <a:pt x="378" y="0"/>
                    </a:moveTo>
                    <a:lnTo>
                      <a:pt x="378" y="236"/>
                    </a:lnTo>
                    <a:lnTo>
                      <a:pt x="282" y="236"/>
                    </a:lnTo>
                    <a:lnTo>
                      <a:pt x="282" y="418"/>
                    </a:lnTo>
                    <a:lnTo>
                      <a:pt x="279" y="418"/>
                    </a:lnTo>
                    <a:lnTo>
                      <a:pt x="279" y="417"/>
                    </a:lnTo>
                    <a:lnTo>
                      <a:pt x="278" y="416"/>
                    </a:lnTo>
                    <a:lnTo>
                      <a:pt x="277" y="415"/>
                    </a:lnTo>
                    <a:lnTo>
                      <a:pt x="275" y="415"/>
                    </a:lnTo>
                    <a:lnTo>
                      <a:pt x="273" y="415"/>
                    </a:lnTo>
                    <a:lnTo>
                      <a:pt x="272" y="416"/>
                    </a:lnTo>
                    <a:lnTo>
                      <a:pt x="271" y="417"/>
                    </a:lnTo>
                    <a:lnTo>
                      <a:pt x="270" y="418"/>
                    </a:lnTo>
                    <a:lnTo>
                      <a:pt x="262" y="418"/>
                    </a:lnTo>
                    <a:lnTo>
                      <a:pt x="262" y="417"/>
                    </a:lnTo>
                    <a:lnTo>
                      <a:pt x="261" y="416"/>
                    </a:lnTo>
                    <a:lnTo>
                      <a:pt x="260" y="415"/>
                    </a:lnTo>
                    <a:lnTo>
                      <a:pt x="258" y="415"/>
                    </a:lnTo>
                    <a:lnTo>
                      <a:pt x="256" y="415"/>
                    </a:lnTo>
                    <a:lnTo>
                      <a:pt x="255" y="416"/>
                    </a:lnTo>
                    <a:lnTo>
                      <a:pt x="254" y="417"/>
                    </a:lnTo>
                    <a:lnTo>
                      <a:pt x="253" y="418"/>
                    </a:lnTo>
                    <a:lnTo>
                      <a:pt x="246" y="418"/>
                    </a:lnTo>
                    <a:lnTo>
                      <a:pt x="245" y="417"/>
                    </a:lnTo>
                    <a:lnTo>
                      <a:pt x="244" y="416"/>
                    </a:lnTo>
                    <a:lnTo>
                      <a:pt x="243" y="415"/>
                    </a:lnTo>
                    <a:lnTo>
                      <a:pt x="241" y="415"/>
                    </a:lnTo>
                    <a:lnTo>
                      <a:pt x="239" y="415"/>
                    </a:lnTo>
                    <a:lnTo>
                      <a:pt x="238" y="416"/>
                    </a:lnTo>
                    <a:lnTo>
                      <a:pt x="237" y="417"/>
                    </a:lnTo>
                    <a:lnTo>
                      <a:pt x="237" y="418"/>
                    </a:lnTo>
                    <a:lnTo>
                      <a:pt x="0" y="418"/>
                    </a:lnTo>
                    <a:lnTo>
                      <a:pt x="0" y="422"/>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4198320" y="3241080"/>
                <a:ext cx="1224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05" name=""/>
              <p:cNvSpPr/>
              <p:nvPr/>
            </p:nvSpPr>
            <p:spPr>
              <a:xfrm>
                <a:off x="3798360" y="38167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06" name=""/>
              <p:cNvSpPr/>
              <p:nvPr/>
            </p:nvSpPr>
            <p:spPr>
              <a:xfrm>
                <a:off x="6204600" y="3321000"/>
                <a:ext cx="7200" cy="171000"/>
              </a:xfrm>
              <a:custGeom>
                <a:avLst/>
                <a:gdLst/>
                <a:ahLst/>
                <a:rect l="l" t="t" r="r" b="b"/>
                <a:pathLst>
                  <a:path w="7" h="128">
                    <a:moveTo>
                      <a:pt x="0" y="0"/>
                    </a:moveTo>
                    <a:lnTo>
                      <a:pt x="0" y="15"/>
                    </a:lnTo>
                    <a:lnTo>
                      <a:pt x="7" y="15"/>
                    </a:lnTo>
                    <a:lnTo>
                      <a:pt x="7" y="12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6205680" y="34909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08" name=""/>
              <p:cNvSpPr/>
              <p:nvPr/>
            </p:nvSpPr>
            <p:spPr>
              <a:xfrm>
                <a:off x="6341040" y="3331800"/>
                <a:ext cx="337680" cy="194760"/>
              </a:xfrm>
              <a:custGeom>
                <a:avLst/>
                <a:gdLst/>
                <a:ahLst/>
                <a:rect l="l" t="t" r="r" b="b"/>
                <a:pathLst>
                  <a:path w="319" h="146">
                    <a:moveTo>
                      <a:pt x="319" y="0"/>
                    </a:moveTo>
                    <a:lnTo>
                      <a:pt x="310" y="0"/>
                    </a:lnTo>
                    <a:lnTo>
                      <a:pt x="310" y="146"/>
                    </a:lnTo>
                    <a:lnTo>
                      <a:pt x="254" y="146"/>
                    </a:lnTo>
                    <a:lnTo>
                      <a:pt x="254" y="145"/>
                    </a:lnTo>
                    <a:lnTo>
                      <a:pt x="252" y="144"/>
                    </a:lnTo>
                    <a:lnTo>
                      <a:pt x="251" y="143"/>
                    </a:lnTo>
                    <a:lnTo>
                      <a:pt x="249" y="143"/>
                    </a:lnTo>
                    <a:lnTo>
                      <a:pt x="248" y="143"/>
                    </a:lnTo>
                    <a:lnTo>
                      <a:pt x="246" y="144"/>
                    </a:lnTo>
                    <a:lnTo>
                      <a:pt x="245" y="145"/>
                    </a:lnTo>
                    <a:lnTo>
                      <a:pt x="245" y="146"/>
                    </a:lnTo>
                    <a:lnTo>
                      <a:pt x="244" y="146"/>
                    </a:lnTo>
                    <a:lnTo>
                      <a:pt x="243" y="145"/>
                    </a:lnTo>
                    <a:lnTo>
                      <a:pt x="243" y="143"/>
                    </a:lnTo>
                    <a:lnTo>
                      <a:pt x="241" y="142"/>
                    </a:lnTo>
                    <a:lnTo>
                      <a:pt x="240" y="142"/>
                    </a:lnTo>
                    <a:lnTo>
                      <a:pt x="238" y="141"/>
                    </a:lnTo>
                    <a:lnTo>
                      <a:pt x="236" y="142"/>
                    </a:lnTo>
                    <a:lnTo>
                      <a:pt x="234" y="142"/>
                    </a:lnTo>
                    <a:lnTo>
                      <a:pt x="233" y="143"/>
                    </a:lnTo>
                    <a:lnTo>
                      <a:pt x="232" y="145"/>
                    </a:lnTo>
                    <a:lnTo>
                      <a:pt x="232" y="146"/>
                    </a:lnTo>
                    <a:lnTo>
                      <a:pt x="218" y="146"/>
                    </a:lnTo>
                    <a:lnTo>
                      <a:pt x="218" y="145"/>
                    </a:lnTo>
                    <a:lnTo>
                      <a:pt x="217" y="144"/>
                    </a:lnTo>
                    <a:lnTo>
                      <a:pt x="215" y="143"/>
                    </a:lnTo>
                    <a:lnTo>
                      <a:pt x="214" y="143"/>
                    </a:lnTo>
                    <a:lnTo>
                      <a:pt x="212" y="143"/>
                    </a:lnTo>
                    <a:lnTo>
                      <a:pt x="211" y="144"/>
                    </a:lnTo>
                    <a:lnTo>
                      <a:pt x="209" y="145"/>
                    </a:lnTo>
                    <a:lnTo>
                      <a:pt x="209" y="146"/>
                    </a:lnTo>
                    <a:lnTo>
                      <a:pt x="171" y="146"/>
                    </a:lnTo>
                    <a:lnTo>
                      <a:pt x="171" y="145"/>
                    </a:lnTo>
                    <a:lnTo>
                      <a:pt x="170" y="144"/>
                    </a:lnTo>
                    <a:lnTo>
                      <a:pt x="169" y="143"/>
                    </a:lnTo>
                    <a:lnTo>
                      <a:pt x="167" y="143"/>
                    </a:lnTo>
                    <a:lnTo>
                      <a:pt x="165" y="143"/>
                    </a:lnTo>
                    <a:lnTo>
                      <a:pt x="164" y="144"/>
                    </a:lnTo>
                    <a:lnTo>
                      <a:pt x="163" y="145"/>
                    </a:lnTo>
                    <a:lnTo>
                      <a:pt x="162" y="146"/>
                    </a:lnTo>
                    <a:lnTo>
                      <a:pt x="160" y="146"/>
                    </a:lnTo>
                    <a:lnTo>
                      <a:pt x="159" y="145"/>
                    </a:lnTo>
                    <a:lnTo>
                      <a:pt x="158" y="144"/>
                    </a:lnTo>
                    <a:lnTo>
                      <a:pt x="157" y="143"/>
                    </a:lnTo>
                    <a:lnTo>
                      <a:pt x="155" y="143"/>
                    </a:lnTo>
                    <a:lnTo>
                      <a:pt x="153" y="143"/>
                    </a:lnTo>
                    <a:lnTo>
                      <a:pt x="152" y="144"/>
                    </a:lnTo>
                    <a:lnTo>
                      <a:pt x="151" y="145"/>
                    </a:lnTo>
                    <a:lnTo>
                      <a:pt x="151" y="146"/>
                    </a:lnTo>
                    <a:lnTo>
                      <a:pt x="99" y="146"/>
                    </a:lnTo>
                    <a:lnTo>
                      <a:pt x="98" y="145"/>
                    </a:lnTo>
                    <a:lnTo>
                      <a:pt x="97" y="144"/>
                    </a:lnTo>
                    <a:lnTo>
                      <a:pt x="96" y="143"/>
                    </a:lnTo>
                    <a:lnTo>
                      <a:pt x="94" y="143"/>
                    </a:lnTo>
                    <a:lnTo>
                      <a:pt x="93" y="143"/>
                    </a:lnTo>
                    <a:lnTo>
                      <a:pt x="91" y="144"/>
                    </a:lnTo>
                    <a:lnTo>
                      <a:pt x="90" y="145"/>
                    </a:lnTo>
                    <a:lnTo>
                      <a:pt x="90" y="146"/>
                    </a:lnTo>
                    <a:lnTo>
                      <a:pt x="35" y="146"/>
                    </a:lnTo>
                    <a:lnTo>
                      <a:pt x="34" y="145"/>
                    </a:lnTo>
                    <a:lnTo>
                      <a:pt x="33" y="144"/>
                    </a:lnTo>
                    <a:lnTo>
                      <a:pt x="32" y="143"/>
                    </a:lnTo>
                    <a:lnTo>
                      <a:pt x="30" y="143"/>
                    </a:lnTo>
                    <a:lnTo>
                      <a:pt x="28" y="143"/>
                    </a:lnTo>
                    <a:lnTo>
                      <a:pt x="27" y="144"/>
                    </a:lnTo>
                    <a:lnTo>
                      <a:pt x="26" y="145"/>
                    </a:lnTo>
                    <a:lnTo>
                      <a:pt x="26" y="146"/>
                    </a:lnTo>
                    <a:lnTo>
                      <a:pt x="18" y="146"/>
                    </a:lnTo>
                    <a:lnTo>
                      <a:pt x="17" y="145"/>
                    </a:lnTo>
                    <a:lnTo>
                      <a:pt x="16" y="144"/>
                    </a:lnTo>
                    <a:lnTo>
                      <a:pt x="15" y="143"/>
                    </a:lnTo>
                    <a:lnTo>
                      <a:pt x="13" y="143"/>
                    </a:lnTo>
                    <a:lnTo>
                      <a:pt x="11" y="143"/>
                    </a:lnTo>
                    <a:lnTo>
                      <a:pt x="10" y="144"/>
                    </a:lnTo>
                    <a:lnTo>
                      <a:pt x="9" y="145"/>
                    </a:lnTo>
                    <a:lnTo>
                      <a:pt x="9" y="146"/>
                    </a:lnTo>
                    <a:lnTo>
                      <a:pt x="0" y="146"/>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6676920" y="3326400"/>
                <a:ext cx="1440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0" name=""/>
              <p:cNvSpPr/>
              <p:nvPr/>
            </p:nvSpPr>
            <p:spPr>
              <a:xfrm>
                <a:off x="6341040" y="352044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11" name=""/>
              <p:cNvSpPr/>
              <p:nvPr/>
            </p:nvSpPr>
            <p:spPr>
              <a:xfrm>
                <a:off x="6212160" y="3631320"/>
                <a:ext cx="527040" cy="787680"/>
              </a:xfrm>
              <a:custGeom>
                <a:avLst/>
                <a:gdLst/>
                <a:ahLst/>
                <a:rect l="l" t="t" r="r" b="b"/>
                <a:pathLst>
                  <a:path w="498" h="590">
                    <a:moveTo>
                      <a:pt x="498" y="590"/>
                    </a:moveTo>
                    <a:lnTo>
                      <a:pt x="498" y="491"/>
                    </a:lnTo>
                    <a:lnTo>
                      <a:pt x="339" y="491"/>
                    </a:lnTo>
                    <a:lnTo>
                      <a:pt x="339" y="489"/>
                    </a:lnTo>
                    <a:lnTo>
                      <a:pt x="338" y="488"/>
                    </a:lnTo>
                    <a:lnTo>
                      <a:pt x="336" y="487"/>
                    </a:lnTo>
                    <a:lnTo>
                      <a:pt x="334" y="487"/>
                    </a:lnTo>
                    <a:lnTo>
                      <a:pt x="333" y="487"/>
                    </a:lnTo>
                    <a:lnTo>
                      <a:pt x="331" y="488"/>
                    </a:lnTo>
                    <a:lnTo>
                      <a:pt x="330" y="489"/>
                    </a:lnTo>
                    <a:lnTo>
                      <a:pt x="330" y="491"/>
                    </a:lnTo>
                    <a:lnTo>
                      <a:pt x="282" y="491"/>
                    </a:lnTo>
                    <a:lnTo>
                      <a:pt x="281" y="489"/>
                    </a:lnTo>
                    <a:lnTo>
                      <a:pt x="280" y="488"/>
                    </a:lnTo>
                    <a:lnTo>
                      <a:pt x="279" y="487"/>
                    </a:lnTo>
                    <a:lnTo>
                      <a:pt x="277" y="487"/>
                    </a:lnTo>
                    <a:lnTo>
                      <a:pt x="275" y="487"/>
                    </a:lnTo>
                    <a:lnTo>
                      <a:pt x="274" y="488"/>
                    </a:lnTo>
                    <a:lnTo>
                      <a:pt x="273" y="489"/>
                    </a:lnTo>
                    <a:lnTo>
                      <a:pt x="273" y="491"/>
                    </a:lnTo>
                    <a:lnTo>
                      <a:pt x="244" y="491"/>
                    </a:lnTo>
                    <a:lnTo>
                      <a:pt x="244" y="489"/>
                    </a:lnTo>
                    <a:lnTo>
                      <a:pt x="243" y="488"/>
                    </a:lnTo>
                    <a:lnTo>
                      <a:pt x="242" y="487"/>
                    </a:lnTo>
                    <a:lnTo>
                      <a:pt x="240" y="487"/>
                    </a:lnTo>
                    <a:lnTo>
                      <a:pt x="238" y="487"/>
                    </a:lnTo>
                    <a:lnTo>
                      <a:pt x="237" y="488"/>
                    </a:lnTo>
                    <a:lnTo>
                      <a:pt x="236" y="489"/>
                    </a:lnTo>
                    <a:lnTo>
                      <a:pt x="235" y="491"/>
                    </a:lnTo>
                    <a:lnTo>
                      <a:pt x="127" y="491"/>
                    </a:lnTo>
                    <a:lnTo>
                      <a:pt x="127" y="489"/>
                    </a:lnTo>
                    <a:lnTo>
                      <a:pt x="126" y="488"/>
                    </a:lnTo>
                    <a:lnTo>
                      <a:pt x="124" y="487"/>
                    </a:lnTo>
                    <a:lnTo>
                      <a:pt x="123" y="487"/>
                    </a:lnTo>
                    <a:lnTo>
                      <a:pt x="121" y="487"/>
                    </a:lnTo>
                    <a:lnTo>
                      <a:pt x="119" y="488"/>
                    </a:lnTo>
                    <a:lnTo>
                      <a:pt x="119" y="489"/>
                    </a:lnTo>
                    <a:lnTo>
                      <a:pt x="118" y="491"/>
                    </a:lnTo>
                    <a:lnTo>
                      <a:pt x="108" y="491"/>
                    </a:lnTo>
                    <a:lnTo>
                      <a:pt x="108" y="341"/>
                    </a:lnTo>
                    <a:lnTo>
                      <a:pt x="21" y="341"/>
                    </a:lnTo>
                    <a:lnTo>
                      <a:pt x="21" y="339"/>
                    </a:lnTo>
                    <a:lnTo>
                      <a:pt x="20" y="338"/>
                    </a:lnTo>
                    <a:lnTo>
                      <a:pt x="19" y="337"/>
                    </a:lnTo>
                    <a:lnTo>
                      <a:pt x="17" y="337"/>
                    </a:lnTo>
                    <a:lnTo>
                      <a:pt x="15" y="337"/>
                    </a:lnTo>
                    <a:lnTo>
                      <a:pt x="14" y="338"/>
                    </a:lnTo>
                    <a:lnTo>
                      <a:pt x="13" y="339"/>
                    </a:lnTo>
                    <a:lnTo>
                      <a:pt x="12" y="341"/>
                    </a:lnTo>
                    <a:lnTo>
                      <a:pt x="0" y="34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6732720" y="441792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13" name=""/>
              <p:cNvSpPr/>
              <p:nvPr/>
            </p:nvSpPr>
            <p:spPr>
              <a:xfrm>
                <a:off x="6341040" y="2689560"/>
                <a:ext cx="564120" cy="878760"/>
              </a:xfrm>
              <a:custGeom>
                <a:avLst/>
                <a:gdLst/>
                <a:ahLst/>
                <a:rect l="l" t="t" r="r" b="b"/>
                <a:pathLst>
                  <a:path w="533" h="658">
                    <a:moveTo>
                      <a:pt x="533" y="0"/>
                    </a:moveTo>
                    <a:lnTo>
                      <a:pt x="533" y="288"/>
                    </a:lnTo>
                    <a:lnTo>
                      <a:pt x="466" y="288"/>
                    </a:lnTo>
                    <a:lnTo>
                      <a:pt x="465" y="287"/>
                    </a:lnTo>
                    <a:lnTo>
                      <a:pt x="464" y="286"/>
                    </a:lnTo>
                    <a:lnTo>
                      <a:pt x="463" y="285"/>
                    </a:lnTo>
                    <a:lnTo>
                      <a:pt x="461" y="285"/>
                    </a:lnTo>
                    <a:lnTo>
                      <a:pt x="459" y="285"/>
                    </a:lnTo>
                    <a:lnTo>
                      <a:pt x="458" y="286"/>
                    </a:lnTo>
                    <a:lnTo>
                      <a:pt x="457" y="287"/>
                    </a:lnTo>
                    <a:lnTo>
                      <a:pt x="457" y="288"/>
                    </a:lnTo>
                    <a:lnTo>
                      <a:pt x="439" y="288"/>
                    </a:lnTo>
                    <a:lnTo>
                      <a:pt x="438" y="287"/>
                    </a:lnTo>
                    <a:lnTo>
                      <a:pt x="437" y="286"/>
                    </a:lnTo>
                    <a:lnTo>
                      <a:pt x="436" y="285"/>
                    </a:lnTo>
                    <a:lnTo>
                      <a:pt x="434" y="285"/>
                    </a:lnTo>
                    <a:lnTo>
                      <a:pt x="433" y="285"/>
                    </a:lnTo>
                    <a:lnTo>
                      <a:pt x="431" y="286"/>
                    </a:lnTo>
                    <a:lnTo>
                      <a:pt x="430" y="287"/>
                    </a:lnTo>
                    <a:lnTo>
                      <a:pt x="430" y="288"/>
                    </a:lnTo>
                    <a:lnTo>
                      <a:pt x="350" y="288"/>
                    </a:lnTo>
                    <a:lnTo>
                      <a:pt x="349" y="287"/>
                    </a:lnTo>
                    <a:lnTo>
                      <a:pt x="348" y="286"/>
                    </a:lnTo>
                    <a:lnTo>
                      <a:pt x="347" y="285"/>
                    </a:lnTo>
                    <a:lnTo>
                      <a:pt x="345" y="285"/>
                    </a:lnTo>
                    <a:lnTo>
                      <a:pt x="343" y="285"/>
                    </a:lnTo>
                    <a:lnTo>
                      <a:pt x="342" y="286"/>
                    </a:lnTo>
                    <a:lnTo>
                      <a:pt x="341" y="287"/>
                    </a:lnTo>
                    <a:lnTo>
                      <a:pt x="341" y="288"/>
                    </a:lnTo>
                    <a:lnTo>
                      <a:pt x="322" y="288"/>
                    </a:lnTo>
                    <a:lnTo>
                      <a:pt x="321" y="287"/>
                    </a:lnTo>
                    <a:lnTo>
                      <a:pt x="320" y="286"/>
                    </a:lnTo>
                    <a:lnTo>
                      <a:pt x="319" y="285"/>
                    </a:lnTo>
                    <a:lnTo>
                      <a:pt x="317" y="285"/>
                    </a:lnTo>
                    <a:lnTo>
                      <a:pt x="316" y="285"/>
                    </a:lnTo>
                    <a:lnTo>
                      <a:pt x="314" y="286"/>
                    </a:lnTo>
                    <a:lnTo>
                      <a:pt x="313" y="287"/>
                    </a:lnTo>
                    <a:lnTo>
                      <a:pt x="313" y="288"/>
                    </a:lnTo>
                    <a:lnTo>
                      <a:pt x="281" y="288"/>
                    </a:lnTo>
                    <a:lnTo>
                      <a:pt x="281" y="287"/>
                    </a:lnTo>
                    <a:lnTo>
                      <a:pt x="280" y="286"/>
                    </a:lnTo>
                    <a:lnTo>
                      <a:pt x="278" y="285"/>
                    </a:lnTo>
                    <a:lnTo>
                      <a:pt x="277" y="285"/>
                    </a:lnTo>
                    <a:lnTo>
                      <a:pt x="275" y="285"/>
                    </a:lnTo>
                    <a:lnTo>
                      <a:pt x="274" y="286"/>
                    </a:lnTo>
                    <a:lnTo>
                      <a:pt x="272" y="287"/>
                    </a:lnTo>
                    <a:lnTo>
                      <a:pt x="272" y="288"/>
                    </a:lnTo>
                    <a:lnTo>
                      <a:pt x="254" y="288"/>
                    </a:lnTo>
                    <a:lnTo>
                      <a:pt x="254" y="287"/>
                    </a:lnTo>
                    <a:lnTo>
                      <a:pt x="252" y="286"/>
                    </a:lnTo>
                    <a:lnTo>
                      <a:pt x="251" y="285"/>
                    </a:lnTo>
                    <a:lnTo>
                      <a:pt x="249" y="285"/>
                    </a:lnTo>
                    <a:lnTo>
                      <a:pt x="248" y="285"/>
                    </a:lnTo>
                    <a:lnTo>
                      <a:pt x="246" y="286"/>
                    </a:lnTo>
                    <a:lnTo>
                      <a:pt x="245" y="287"/>
                    </a:lnTo>
                    <a:lnTo>
                      <a:pt x="245" y="288"/>
                    </a:lnTo>
                    <a:lnTo>
                      <a:pt x="236" y="288"/>
                    </a:lnTo>
                    <a:lnTo>
                      <a:pt x="236" y="658"/>
                    </a:lnTo>
                    <a:lnTo>
                      <a:pt x="218" y="658"/>
                    </a:lnTo>
                    <a:lnTo>
                      <a:pt x="218" y="656"/>
                    </a:lnTo>
                    <a:lnTo>
                      <a:pt x="217" y="655"/>
                    </a:lnTo>
                    <a:lnTo>
                      <a:pt x="215" y="655"/>
                    </a:lnTo>
                    <a:lnTo>
                      <a:pt x="214" y="654"/>
                    </a:lnTo>
                    <a:lnTo>
                      <a:pt x="212" y="655"/>
                    </a:lnTo>
                    <a:lnTo>
                      <a:pt x="211" y="655"/>
                    </a:lnTo>
                    <a:lnTo>
                      <a:pt x="209" y="656"/>
                    </a:lnTo>
                    <a:lnTo>
                      <a:pt x="209" y="658"/>
                    </a:lnTo>
                    <a:lnTo>
                      <a:pt x="171" y="658"/>
                    </a:lnTo>
                    <a:lnTo>
                      <a:pt x="171" y="656"/>
                    </a:lnTo>
                    <a:lnTo>
                      <a:pt x="170" y="655"/>
                    </a:lnTo>
                    <a:lnTo>
                      <a:pt x="169" y="655"/>
                    </a:lnTo>
                    <a:lnTo>
                      <a:pt x="167" y="654"/>
                    </a:lnTo>
                    <a:lnTo>
                      <a:pt x="165" y="655"/>
                    </a:lnTo>
                    <a:lnTo>
                      <a:pt x="164" y="655"/>
                    </a:lnTo>
                    <a:lnTo>
                      <a:pt x="163" y="656"/>
                    </a:lnTo>
                    <a:lnTo>
                      <a:pt x="162" y="658"/>
                    </a:lnTo>
                    <a:lnTo>
                      <a:pt x="160" y="658"/>
                    </a:lnTo>
                    <a:lnTo>
                      <a:pt x="159" y="656"/>
                    </a:lnTo>
                    <a:lnTo>
                      <a:pt x="158" y="655"/>
                    </a:lnTo>
                    <a:lnTo>
                      <a:pt x="157" y="655"/>
                    </a:lnTo>
                    <a:lnTo>
                      <a:pt x="155" y="654"/>
                    </a:lnTo>
                    <a:lnTo>
                      <a:pt x="153" y="655"/>
                    </a:lnTo>
                    <a:lnTo>
                      <a:pt x="152" y="655"/>
                    </a:lnTo>
                    <a:lnTo>
                      <a:pt x="151" y="656"/>
                    </a:lnTo>
                    <a:lnTo>
                      <a:pt x="151" y="658"/>
                    </a:lnTo>
                    <a:lnTo>
                      <a:pt x="134" y="658"/>
                    </a:lnTo>
                    <a:lnTo>
                      <a:pt x="134" y="656"/>
                    </a:lnTo>
                    <a:lnTo>
                      <a:pt x="133" y="655"/>
                    </a:lnTo>
                    <a:lnTo>
                      <a:pt x="131" y="655"/>
                    </a:lnTo>
                    <a:lnTo>
                      <a:pt x="130" y="654"/>
                    </a:lnTo>
                    <a:lnTo>
                      <a:pt x="128" y="655"/>
                    </a:lnTo>
                    <a:lnTo>
                      <a:pt x="127" y="655"/>
                    </a:lnTo>
                    <a:lnTo>
                      <a:pt x="126" y="656"/>
                    </a:lnTo>
                    <a:lnTo>
                      <a:pt x="125" y="658"/>
                    </a:lnTo>
                    <a:lnTo>
                      <a:pt x="99" y="658"/>
                    </a:lnTo>
                    <a:lnTo>
                      <a:pt x="98" y="656"/>
                    </a:lnTo>
                    <a:lnTo>
                      <a:pt x="97" y="655"/>
                    </a:lnTo>
                    <a:lnTo>
                      <a:pt x="96" y="655"/>
                    </a:lnTo>
                    <a:lnTo>
                      <a:pt x="94" y="654"/>
                    </a:lnTo>
                    <a:lnTo>
                      <a:pt x="93" y="655"/>
                    </a:lnTo>
                    <a:lnTo>
                      <a:pt x="91" y="655"/>
                    </a:lnTo>
                    <a:lnTo>
                      <a:pt x="90" y="656"/>
                    </a:lnTo>
                    <a:lnTo>
                      <a:pt x="90" y="658"/>
                    </a:lnTo>
                    <a:lnTo>
                      <a:pt x="45" y="658"/>
                    </a:lnTo>
                    <a:lnTo>
                      <a:pt x="44" y="656"/>
                    </a:lnTo>
                    <a:lnTo>
                      <a:pt x="43" y="655"/>
                    </a:lnTo>
                    <a:lnTo>
                      <a:pt x="42" y="655"/>
                    </a:lnTo>
                    <a:lnTo>
                      <a:pt x="40" y="654"/>
                    </a:lnTo>
                    <a:lnTo>
                      <a:pt x="38" y="655"/>
                    </a:lnTo>
                    <a:lnTo>
                      <a:pt x="37" y="655"/>
                    </a:lnTo>
                    <a:lnTo>
                      <a:pt x="36" y="656"/>
                    </a:lnTo>
                    <a:lnTo>
                      <a:pt x="36" y="658"/>
                    </a:lnTo>
                    <a:lnTo>
                      <a:pt x="35" y="658"/>
                    </a:lnTo>
                    <a:lnTo>
                      <a:pt x="34" y="656"/>
                    </a:lnTo>
                    <a:lnTo>
                      <a:pt x="33" y="655"/>
                    </a:lnTo>
                    <a:lnTo>
                      <a:pt x="32" y="655"/>
                    </a:lnTo>
                    <a:lnTo>
                      <a:pt x="30" y="654"/>
                    </a:lnTo>
                    <a:lnTo>
                      <a:pt x="28" y="655"/>
                    </a:lnTo>
                    <a:lnTo>
                      <a:pt x="27" y="655"/>
                    </a:lnTo>
                    <a:lnTo>
                      <a:pt x="26" y="656"/>
                    </a:lnTo>
                    <a:lnTo>
                      <a:pt x="26" y="658"/>
                    </a:lnTo>
                    <a:lnTo>
                      <a:pt x="18" y="658"/>
                    </a:lnTo>
                    <a:lnTo>
                      <a:pt x="17" y="656"/>
                    </a:lnTo>
                    <a:lnTo>
                      <a:pt x="16" y="655"/>
                    </a:lnTo>
                    <a:lnTo>
                      <a:pt x="15" y="655"/>
                    </a:lnTo>
                    <a:lnTo>
                      <a:pt x="13" y="654"/>
                    </a:lnTo>
                    <a:lnTo>
                      <a:pt x="11" y="655"/>
                    </a:lnTo>
                    <a:lnTo>
                      <a:pt x="10" y="655"/>
                    </a:lnTo>
                    <a:lnTo>
                      <a:pt x="9" y="656"/>
                    </a:lnTo>
                    <a:lnTo>
                      <a:pt x="9" y="658"/>
                    </a:lnTo>
                    <a:lnTo>
                      <a:pt x="0" y="65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6341040" y="35614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5" name=""/>
              <p:cNvSpPr/>
              <p:nvPr/>
            </p:nvSpPr>
            <p:spPr>
              <a:xfrm>
                <a:off x="4994640" y="2205720"/>
                <a:ext cx="1378080" cy="826920"/>
              </a:xfrm>
              <a:custGeom>
                <a:avLst/>
                <a:gdLst/>
                <a:ahLst/>
                <a:rect l="l" t="t" r="r" b="b"/>
                <a:pathLst>
                  <a:path w="1302" h="619">
                    <a:moveTo>
                      <a:pt x="0" y="619"/>
                    </a:moveTo>
                    <a:lnTo>
                      <a:pt x="52" y="619"/>
                    </a:lnTo>
                    <a:lnTo>
                      <a:pt x="52" y="3"/>
                    </a:lnTo>
                    <a:lnTo>
                      <a:pt x="97" y="3"/>
                    </a:lnTo>
                    <a:lnTo>
                      <a:pt x="97" y="2"/>
                    </a:lnTo>
                    <a:lnTo>
                      <a:pt x="98" y="1"/>
                    </a:lnTo>
                    <a:lnTo>
                      <a:pt x="100" y="0"/>
                    </a:lnTo>
                    <a:lnTo>
                      <a:pt x="102" y="0"/>
                    </a:lnTo>
                    <a:lnTo>
                      <a:pt x="103" y="0"/>
                    </a:lnTo>
                    <a:lnTo>
                      <a:pt x="105" y="1"/>
                    </a:lnTo>
                    <a:lnTo>
                      <a:pt x="106" y="2"/>
                    </a:lnTo>
                    <a:lnTo>
                      <a:pt x="106" y="3"/>
                    </a:lnTo>
                    <a:lnTo>
                      <a:pt x="346" y="3"/>
                    </a:lnTo>
                    <a:lnTo>
                      <a:pt x="346" y="2"/>
                    </a:lnTo>
                    <a:lnTo>
                      <a:pt x="347" y="1"/>
                    </a:lnTo>
                    <a:lnTo>
                      <a:pt x="349" y="0"/>
                    </a:lnTo>
                    <a:lnTo>
                      <a:pt x="350" y="0"/>
                    </a:lnTo>
                    <a:lnTo>
                      <a:pt x="352" y="0"/>
                    </a:lnTo>
                    <a:lnTo>
                      <a:pt x="354" y="1"/>
                    </a:lnTo>
                    <a:lnTo>
                      <a:pt x="354" y="2"/>
                    </a:lnTo>
                    <a:lnTo>
                      <a:pt x="355" y="3"/>
                    </a:lnTo>
                    <a:lnTo>
                      <a:pt x="412" y="3"/>
                    </a:lnTo>
                    <a:lnTo>
                      <a:pt x="412" y="2"/>
                    </a:lnTo>
                    <a:lnTo>
                      <a:pt x="413" y="1"/>
                    </a:lnTo>
                    <a:lnTo>
                      <a:pt x="414" y="0"/>
                    </a:lnTo>
                    <a:lnTo>
                      <a:pt x="416" y="0"/>
                    </a:lnTo>
                    <a:lnTo>
                      <a:pt x="418" y="0"/>
                    </a:lnTo>
                    <a:lnTo>
                      <a:pt x="419" y="1"/>
                    </a:lnTo>
                    <a:lnTo>
                      <a:pt x="420" y="2"/>
                    </a:lnTo>
                    <a:lnTo>
                      <a:pt x="421" y="3"/>
                    </a:lnTo>
                    <a:lnTo>
                      <a:pt x="581" y="3"/>
                    </a:lnTo>
                    <a:lnTo>
                      <a:pt x="581" y="149"/>
                    </a:lnTo>
                    <a:lnTo>
                      <a:pt x="722" y="149"/>
                    </a:lnTo>
                    <a:lnTo>
                      <a:pt x="722" y="148"/>
                    </a:lnTo>
                    <a:lnTo>
                      <a:pt x="723" y="147"/>
                    </a:lnTo>
                    <a:lnTo>
                      <a:pt x="724" y="146"/>
                    </a:lnTo>
                    <a:lnTo>
                      <a:pt x="726" y="146"/>
                    </a:lnTo>
                    <a:lnTo>
                      <a:pt x="728" y="146"/>
                    </a:lnTo>
                    <a:lnTo>
                      <a:pt x="729" y="147"/>
                    </a:lnTo>
                    <a:lnTo>
                      <a:pt x="730" y="148"/>
                    </a:lnTo>
                    <a:lnTo>
                      <a:pt x="731" y="149"/>
                    </a:lnTo>
                    <a:lnTo>
                      <a:pt x="743" y="149"/>
                    </a:lnTo>
                    <a:lnTo>
                      <a:pt x="744" y="148"/>
                    </a:lnTo>
                    <a:lnTo>
                      <a:pt x="745" y="147"/>
                    </a:lnTo>
                    <a:lnTo>
                      <a:pt x="746" y="146"/>
                    </a:lnTo>
                    <a:lnTo>
                      <a:pt x="748" y="146"/>
                    </a:lnTo>
                    <a:lnTo>
                      <a:pt x="750" y="146"/>
                    </a:lnTo>
                    <a:lnTo>
                      <a:pt x="751" y="147"/>
                    </a:lnTo>
                    <a:lnTo>
                      <a:pt x="752" y="148"/>
                    </a:lnTo>
                    <a:lnTo>
                      <a:pt x="752" y="149"/>
                    </a:lnTo>
                    <a:lnTo>
                      <a:pt x="768" y="149"/>
                    </a:lnTo>
                    <a:lnTo>
                      <a:pt x="768" y="148"/>
                    </a:lnTo>
                    <a:lnTo>
                      <a:pt x="769" y="147"/>
                    </a:lnTo>
                    <a:lnTo>
                      <a:pt x="771" y="146"/>
                    </a:lnTo>
                    <a:lnTo>
                      <a:pt x="772" y="146"/>
                    </a:lnTo>
                    <a:lnTo>
                      <a:pt x="774" y="146"/>
                    </a:lnTo>
                    <a:lnTo>
                      <a:pt x="776" y="147"/>
                    </a:lnTo>
                    <a:lnTo>
                      <a:pt x="776" y="148"/>
                    </a:lnTo>
                    <a:lnTo>
                      <a:pt x="777" y="149"/>
                    </a:lnTo>
                    <a:lnTo>
                      <a:pt x="829" y="149"/>
                    </a:lnTo>
                    <a:lnTo>
                      <a:pt x="829" y="148"/>
                    </a:lnTo>
                    <a:lnTo>
                      <a:pt x="830" y="147"/>
                    </a:lnTo>
                    <a:lnTo>
                      <a:pt x="832" y="146"/>
                    </a:lnTo>
                    <a:lnTo>
                      <a:pt x="833" y="146"/>
                    </a:lnTo>
                    <a:lnTo>
                      <a:pt x="835" y="146"/>
                    </a:lnTo>
                    <a:lnTo>
                      <a:pt x="837" y="147"/>
                    </a:lnTo>
                    <a:lnTo>
                      <a:pt x="838" y="148"/>
                    </a:lnTo>
                    <a:lnTo>
                      <a:pt x="838" y="149"/>
                    </a:lnTo>
                    <a:lnTo>
                      <a:pt x="844" y="149"/>
                    </a:lnTo>
                    <a:lnTo>
                      <a:pt x="844" y="148"/>
                    </a:lnTo>
                    <a:lnTo>
                      <a:pt x="845" y="147"/>
                    </a:lnTo>
                    <a:lnTo>
                      <a:pt x="847" y="146"/>
                    </a:lnTo>
                    <a:lnTo>
                      <a:pt x="848" y="146"/>
                    </a:lnTo>
                    <a:lnTo>
                      <a:pt x="850" y="146"/>
                    </a:lnTo>
                    <a:lnTo>
                      <a:pt x="852" y="147"/>
                    </a:lnTo>
                    <a:lnTo>
                      <a:pt x="853" y="148"/>
                    </a:lnTo>
                    <a:lnTo>
                      <a:pt x="853" y="149"/>
                    </a:lnTo>
                    <a:lnTo>
                      <a:pt x="855" y="149"/>
                    </a:lnTo>
                    <a:lnTo>
                      <a:pt x="856" y="148"/>
                    </a:lnTo>
                    <a:lnTo>
                      <a:pt x="857" y="147"/>
                    </a:lnTo>
                    <a:lnTo>
                      <a:pt x="858" y="146"/>
                    </a:lnTo>
                    <a:lnTo>
                      <a:pt x="860" y="146"/>
                    </a:lnTo>
                    <a:lnTo>
                      <a:pt x="861" y="146"/>
                    </a:lnTo>
                    <a:lnTo>
                      <a:pt x="863" y="147"/>
                    </a:lnTo>
                    <a:lnTo>
                      <a:pt x="864" y="148"/>
                    </a:lnTo>
                    <a:lnTo>
                      <a:pt x="864" y="149"/>
                    </a:lnTo>
                    <a:lnTo>
                      <a:pt x="889" y="149"/>
                    </a:lnTo>
                    <a:lnTo>
                      <a:pt x="890" y="148"/>
                    </a:lnTo>
                    <a:lnTo>
                      <a:pt x="891" y="147"/>
                    </a:lnTo>
                    <a:lnTo>
                      <a:pt x="892" y="146"/>
                    </a:lnTo>
                    <a:lnTo>
                      <a:pt x="894" y="146"/>
                    </a:lnTo>
                    <a:lnTo>
                      <a:pt x="896" y="146"/>
                    </a:lnTo>
                    <a:lnTo>
                      <a:pt x="897" y="147"/>
                    </a:lnTo>
                    <a:lnTo>
                      <a:pt x="898" y="148"/>
                    </a:lnTo>
                    <a:lnTo>
                      <a:pt x="898" y="149"/>
                    </a:lnTo>
                    <a:lnTo>
                      <a:pt x="923" y="149"/>
                    </a:lnTo>
                    <a:lnTo>
                      <a:pt x="923" y="148"/>
                    </a:lnTo>
                    <a:lnTo>
                      <a:pt x="924" y="147"/>
                    </a:lnTo>
                    <a:lnTo>
                      <a:pt x="926" y="146"/>
                    </a:lnTo>
                    <a:lnTo>
                      <a:pt x="927" y="146"/>
                    </a:lnTo>
                    <a:lnTo>
                      <a:pt x="929" y="146"/>
                    </a:lnTo>
                    <a:lnTo>
                      <a:pt x="930" y="147"/>
                    </a:lnTo>
                    <a:lnTo>
                      <a:pt x="931" y="148"/>
                    </a:lnTo>
                    <a:lnTo>
                      <a:pt x="932" y="149"/>
                    </a:lnTo>
                    <a:lnTo>
                      <a:pt x="950" y="149"/>
                    </a:lnTo>
                    <a:lnTo>
                      <a:pt x="950" y="148"/>
                    </a:lnTo>
                    <a:lnTo>
                      <a:pt x="951" y="147"/>
                    </a:lnTo>
                    <a:lnTo>
                      <a:pt x="953" y="146"/>
                    </a:lnTo>
                    <a:lnTo>
                      <a:pt x="954" y="146"/>
                    </a:lnTo>
                    <a:lnTo>
                      <a:pt x="956" y="146"/>
                    </a:lnTo>
                    <a:lnTo>
                      <a:pt x="957" y="147"/>
                    </a:lnTo>
                    <a:lnTo>
                      <a:pt x="958" y="148"/>
                    </a:lnTo>
                    <a:lnTo>
                      <a:pt x="959" y="149"/>
                    </a:lnTo>
                    <a:lnTo>
                      <a:pt x="1017" y="149"/>
                    </a:lnTo>
                    <a:lnTo>
                      <a:pt x="1018" y="148"/>
                    </a:lnTo>
                    <a:lnTo>
                      <a:pt x="1019" y="147"/>
                    </a:lnTo>
                    <a:lnTo>
                      <a:pt x="1020" y="146"/>
                    </a:lnTo>
                    <a:lnTo>
                      <a:pt x="1022" y="146"/>
                    </a:lnTo>
                    <a:lnTo>
                      <a:pt x="1024" y="146"/>
                    </a:lnTo>
                    <a:lnTo>
                      <a:pt x="1025" y="147"/>
                    </a:lnTo>
                    <a:lnTo>
                      <a:pt x="1026" y="148"/>
                    </a:lnTo>
                    <a:lnTo>
                      <a:pt x="1026" y="149"/>
                    </a:lnTo>
                    <a:lnTo>
                      <a:pt x="1045" y="149"/>
                    </a:lnTo>
                    <a:lnTo>
                      <a:pt x="1045" y="148"/>
                    </a:lnTo>
                    <a:lnTo>
                      <a:pt x="1046" y="147"/>
                    </a:lnTo>
                    <a:lnTo>
                      <a:pt x="1048" y="146"/>
                    </a:lnTo>
                    <a:lnTo>
                      <a:pt x="1049" y="146"/>
                    </a:lnTo>
                    <a:lnTo>
                      <a:pt x="1051" y="146"/>
                    </a:lnTo>
                    <a:lnTo>
                      <a:pt x="1052" y="147"/>
                    </a:lnTo>
                    <a:lnTo>
                      <a:pt x="1053" y="148"/>
                    </a:lnTo>
                    <a:lnTo>
                      <a:pt x="1054" y="149"/>
                    </a:lnTo>
                    <a:lnTo>
                      <a:pt x="1063" y="149"/>
                    </a:lnTo>
                    <a:lnTo>
                      <a:pt x="1063" y="148"/>
                    </a:lnTo>
                    <a:lnTo>
                      <a:pt x="1064" y="146"/>
                    </a:lnTo>
                    <a:lnTo>
                      <a:pt x="1066" y="145"/>
                    </a:lnTo>
                    <a:lnTo>
                      <a:pt x="1068" y="144"/>
                    </a:lnTo>
                    <a:lnTo>
                      <a:pt x="1070" y="143"/>
                    </a:lnTo>
                    <a:lnTo>
                      <a:pt x="1072" y="143"/>
                    </a:lnTo>
                    <a:lnTo>
                      <a:pt x="1075" y="144"/>
                    </a:lnTo>
                    <a:lnTo>
                      <a:pt x="1077" y="145"/>
                    </a:lnTo>
                    <a:lnTo>
                      <a:pt x="1078" y="146"/>
                    </a:lnTo>
                    <a:lnTo>
                      <a:pt x="1079" y="148"/>
                    </a:lnTo>
                    <a:lnTo>
                      <a:pt x="1079" y="149"/>
                    </a:lnTo>
                    <a:lnTo>
                      <a:pt x="1082" y="149"/>
                    </a:lnTo>
                    <a:lnTo>
                      <a:pt x="1082" y="148"/>
                    </a:lnTo>
                    <a:lnTo>
                      <a:pt x="1083" y="147"/>
                    </a:lnTo>
                    <a:lnTo>
                      <a:pt x="1084" y="146"/>
                    </a:lnTo>
                    <a:lnTo>
                      <a:pt x="1086" y="146"/>
                    </a:lnTo>
                    <a:lnTo>
                      <a:pt x="1088" y="146"/>
                    </a:lnTo>
                    <a:lnTo>
                      <a:pt x="1089" y="147"/>
                    </a:lnTo>
                    <a:lnTo>
                      <a:pt x="1090" y="148"/>
                    </a:lnTo>
                    <a:lnTo>
                      <a:pt x="1091" y="149"/>
                    </a:lnTo>
                    <a:lnTo>
                      <a:pt x="1095" y="149"/>
                    </a:lnTo>
                    <a:lnTo>
                      <a:pt x="1095" y="148"/>
                    </a:lnTo>
                    <a:lnTo>
                      <a:pt x="1096" y="147"/>
                    </a:lnTo>
                    <a:lnTo>
                      <a:pt x="1098" y="146"/>
                    </a:lnTo>
                    <a:lnTo>
                      <a:pt x="1100" y="146"/>
                    </a:lnTo>
                    <a:lnTo>
                      <a:pt x="1101" y="146"/>
                    </a:lnTo>
                    <a:lnTo>
                      <a:pt x="1103" y="147"/>
                    </a:lnTo>
                    <a:lnTo>
                      <a:pt x="1104" y="148"/>
                    </a:lnTo>
                    <a:lnTo>
                      <a:pt x="1104" y="149"/>
                    </a:lnTo>
                    <a:lnTo>
                      <a:pt x="1119" y="149"/>
                    </a:lnTo>
                    <a:lnTo>
                      <a:pt x="1119" y="148"/>
                    </a:lnTo>
                    <a:lnTo>
                      <a:pt x="1120" y="146"/>
                    </a:lnTo>
                    <a:lnTo>
                      <a:pt x="1121" y="145"/>
                    </a:lnTo>
                    <a:lnTo>
                      <a:pt x="1123" y="144"/>
                    </a:lnTo>
                    <a:lnTo>
                      <a:pt x="1125" y="144"/>
                    </a:lnTo>
                    <a:lnTo>
                      <a:pt x="1128" y="144"/>
                    </a:lnTo>
                    <a:lnTo>
                      <a:pt x="1130" y="144"/>
                    </a:lnTo>
                    <a:lnTo>
                      <a:pt x="1132" y="145"/>
                    </a:lnTo>
                    <a:lnTo>
                      <a:pt x="1133" y="146"/>
                    </a:lnTo>
                    <a:lnTo>
                      <a:pt x="1134" y="148"/>
                    </a:lnTo>
                    <a:lnTo>
                      <a:pt x="1134" y="149"/>
                    </a:lnTo>
                    <a:lnTo>
                      <a:pt x="1139" y="149"/>
                    </a:lnTo>
                    <a:lnTo>
                      <a:pt x="1139" y="148"/>
                    </a:lnTo>
                    <a:lnTo>
                      <a:pt x="1140" y="146"/>
                    </a:lnTo>
                    <a:lnTo>
                      <a:pt x="1142" y="145"/>
                    </a:lnTo>
                    <a:lnTo>
                      <a:pt x="1144" y="144"/>
                    </a:lnTo>
                    <a:lnTo>
                      <a:pt x="1146" y="144"/>
                    </a:lnTo>
                    <a:lnTo>
                      <a:pt x="1148" y="144"/>
                    </a:lnTo>
                    <a:lnTo>
                      <a:pt x="1150" y="144"/>
                    </a:lnTo>
                    <a:lnTo>
                      <a:pt x="1152" y="145"/>
                    </a:lnTo>
                    <a:lnTo>
                      <a:pt x="1153" y="146"/>
                    </a:lnTo>
                    <a:lnTo>
                      <a:pt x="1154" y="148"/>
                    </a:lnTo>
                    <a:lnTo>
                      <a:pt x="1155" y="149"/>
                    </a:lnTo>
                    <a:lnTo>
                      <a:pt x="1196" y="149"/>
                    </a:lnTo>
                    <a:lnTo>
                      <a:pt x="1196" y="148"/>
                    </a:lnTo>
                    <a:lnTo>
                      <a:pt x="1197" y="147"/>
                    </a:lnTo>
                    <a:lnTo>
                      <a:pt x="1199" y="146"/>
                    </a:lnTo>
                    <a:lnTo>
                      <a:pt x="1200" y="146"/>
                    </a:lnTo>
                    <a:lnTo>
                      <a:pt x="1202" y="146"/>
                    </a:lnTo>
                    <a:lnTo>
                      <a:pt x="1204" y="147"/>
                    </a:lnTo>
                    <a:lnTo>
                      <a:pt x="1205" y="148"/>
                    </a:lnTo>
                    <a:lnTo>
                      <a:pt x="1205" y="149"/>
                    </a:lnTo>
                    <a:lnTo>
                      <a:pt x="1280" y="149"/>
                    </a:lnTo>
                    <a:lnTo>
                      <a:pt x="1280" y="3"/>
                    </a:lnTo>
                    <a:lnTo>
                      <a:pt x="1302" y="3"/>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6372000" y="220428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7" name=""/>
              <p:cNvSpPr/>
              <p:nvPr/>
            </p:nvSpPr>
            <p:spPr>
              <a:xfrm>
                <a:off x="5106600" y="2745360"/>
                <a:ext cx="977040" cy="781200"/>
              </a:xfrm>
              <a:custGeom>
                <a:avLst/>
                <a:gdLst/>
                <a:ahLst/>
                <a:rect l="l" t="t" r="r" b="b"/>
                <a:pathLst>
                  <a:path w="923" h="585">
                    <a:moveTo>
                      <a:pt x="923" y="585"/>
                    </a:moveTo>
                    <a:lnTo>
                      <a:pt x="905" y="585"/>
                    </a:lnTo>
                    <a:lnTo>
                      <a:pt x="904" y="583"/>
                    </a:lnTo>
                    <a:lnTo>
                      <a:pt x="903" y="580"/>
                    </a:lnTo>
                    <a:lnTo>
                      <a:pt x="902" y="578"/>
                    </a:lnTo>
                    <a:lnTo>
                      <a:pt x="900" y="576"/>
                    </a:lnTo>
                    <a:lnTo>
                      <a:pt x="897" y="575"/>
                    </a:lnTo>
                    <a:lnTo>
                      <a:pt x="894" y="573"/>
                    </a:lnTo>
                    <a:lnTo>
                      <a:pt x="891" y="573"/>
                    </a:lnTo>
                    <a:lnTo>
                      <a:pt x="888" y="572"/>
                    </a:lnTo>
                    <a:lnTo>
                      <a:pt x="885" y="573"/>
                    </a:lnTo>
                    <a:lnTo>
                      <a:pt x="882" y="573"/>
                    </a:lnTo>
                    <a:lnTo>
                      <a:pt x="879" y="575"/>
                    </a:lnTo>
                    <a:lnTo>
                      <a:pt x="876" y="576"/>
                    </a:lnTo>
                    <a:lnTo>
                      <a:pt x="874" y="578"/>
                    </a:lnTo>
                    <a:lnTo>
                      <a:pt x="873" y="580"/>
                    </a:lnTo>
                    <a:lnTo>
                      <a:pt x="872" y="583"/>
                    </a:lnTo>
                    <a:lnTo>
                      <a:pt x="871" y="585"/>
                    </a:lnTo>
                    <a:lnTo>
                      <a:pt x="864" y="585"/>
                    </a:lnTo>
                    <a:lnTo>
                      <a:pt x="864" y="584"/>
                    </a:lnTo>
                    <a:lnTo>
                      <a:pt x="863" y="583"/>
                    </a:lnTo>
                    <a:lnTo>
                      <a:pt x="861" y="582"/>
                    </a:lnTo>
                    <a:lnTo>
                      <a:pt x="860" y="582"/>
                    </a:lnTo>
                    <a:lnTo>
                      <a:pt x="858" y="582"/>
                    </a:lnTo>
                    <a:lnTo>
                      <a:pt x="856" y="583"/>
                    </a:lnTo>
                    <a:lnTo>
                      <a:pt x="855" y="584"/>
                    </a:lnTo>
                    <a:lnTo>
                      <a:pt x="855" y="585"/>
                    </a:lnTo>
                    <a:lnTo>
                      <a:pt x="843" y="585"/>
                    </a:lnTo>
                    <a:lnTo>
                      <a:pt x="843" y="584"/>
                    </a:lnTo>
                    <a:lnTo>
                      <a:pt x="842" y="583"/>
                    </a:lnTo>
                    <a:lnTo>
                      <a:pt x="841" y="582"/>
                    </a:lnTo>
                    <a:lnTo>
                      <a:pt x="839" y="582"/>
                    </a:lnTo>
                    <a:lnTo>
                      <a:pt x="837" y="582"/>
                    </a:lnTo>
                    <a:lnTo>
                      <a:pt x="836" y="583"/>
                    </a:lnTo>
                    <a:lnTo>
                      <a:pt x="835" y="584"/>
                    </a:lnTo>
                    <a:lnTo>
                      <a:pt x="834" y="585"/>
                    </a:lnTo>
                    <a:lnTo>
                      <a:pt x="833" y="585"/>
                    </a:lnTo>
                    <a:lnTo>
                      <a:pt x="832" y="584"/>
                    </a:lnTo>
                    <a:lnTo>
                      <a:pt x="831" y="583"/>
                    </a:lnTo>
                    <a:lnTo>
                      <a:pt x="830" y="582"/>
                    </a:lnTo>
                    <a:lnTo>
                      <a:pt x="828" y="582"/>
                    </a:lnTo>
                    <a:lnTo>
                      <a:pt x="826" y="582"/>
                    </a:lnTo>
                    <a:lnTo>
                      <a:pt x="825" y="583"/>
                    </a:lnTo>
                    <a:lnTo>
                      <a:pt x="824" y="584"/>
                    </a:lnTo>
                    <a:lnTo>
                      <a:pt x="824" y="585"/>
                    </a:lnTo>
                    <a:lnTo>
                      <a:pt x="819" y="585"/>
                    </a:lnTo>
                    <a:lnTo>
                      <a:pt x="819" y="584"/>
                    </a:lnTo>
                    <a:lnTo>
                      <a:pt x="818" y="583"/>
                    </a:lnTo>
                    <a:lnTo>
                      <a:pt x="816" y="582"/>
                    </a:lnTo>
                    <a:lnTo>
                      <a:pt x="815" y="582"/>
                    </a:lnTo>
                    <a:lnTo>
                      <a:pt x="813" y="582"/>
                    </a:lnTo>
                    <a:lnTo>
                      <a:pt x="811" y="583"/>
                    </a:lnTo>
                    <a:lnTo>
                      <a:pt x="810" y="584"/>
                    </a:lnTo>
                    <a:lnTo>
                      <a:pt x="810" y="585"/>
                    </a:lnTo>
                    <a:lnTo>
                      <a:pt x="810" y="585"/>
                    </a:lnTo>
                    <a:lnTo>
                      <a:pt x="810" y="584"/>
                    </a:lnTo>
                    <a:lnTo>
                      <a:pt x="809" y="583"/>
                    </a:lnTo>
                    <a:lnTo>
                      <a:pt x="807" y="582"/>
                    </a:lnTo>
                    <a:lnTo>
                      <a:pt x="806" y="582"/>
                    </a:lnTo>
                    <a:lnTo>
                      <a:pt x="804" y="582"/>
                    </a:lnTo>
                    <a:lnTo>
                      <a:pt x="802" y="583"/>
                    </a:lnTo>
                    <a:lnTo>
                      <a:pt x="801" y="584"/>
                    </a:lnTo>
                    <a:lnTo>
                      <a:pt x="801" y="585"/>
                    </a:lnTo>
                    <a:lnTo>
                      <a:pt x="792" y="585"/>
                    </a:lnTo>
                    <a:lnTo>
                      <a:pt x="792" y="584"/>
                    </a:lnTo>
                    <a:lnTo>
                      <a:pt x="791" y="583"/>
                    </a:lnTo>
                    <a:lnTo>
                      <a:pt x="789" y="582"/>
                    </a:lnTo>
                    <a:lnTo>
                      <a:pt x="788" y="582"/>
                    </a:lnTo>
                    <a:lnTo>
                      <a:pt x="786" y="582"/>
                    </a:lnTo>
                    <a:lnTo>
                      <a:pt x="784" y="583"/>
                    </a:lnTo>
                    <a:lnTo>
                      <a:pt x="783" y="584"/>
                    </a:lnTo>
                    <a:lnTo>
                      <a:pt x="783" y="585"/>
                    </a:lnTo>
                    <a:lnTo>
                      <a:pt x="770" y="585"/>
                    </a:lnTo>
                    <a:lnTo>
                      <a:pt x="770" y="584"/>
                    </a:lnTo>
                    <a:lnTo>
                      <a:pt x="769" y="583"/>
                    </a:lnTo>
                    <a:lnTo>
                      <a:pt x="767" y="582"/>
                    </a:lnTo>
                    <a:lnTo>
                      <a:pt x="766" y="582"/>
                    </a:lnTo>
                    <a:lnTo>
                      <a:pt x="764" y="582"/>
                    </a:lnTo>
                    <a:lnTo>
                      <a:pt x="762" y="583"/>
                    </a:lnTo>
                    <a:lnTo>
                      <a:pt x="761" y="584"/>
                    </a:lnTo>
                    <a:lnTo>
                      <a:pt x="761" y="585"/>
                    </a:lnTo>
                    <a:lnTo>
                      <a:pt x="759" y="585"/>
                    </a:lnTo>
                    <a:lnTo>
                      <a:pt x="759" y="584"/>
                    </a:lnTo>
                    <a:lnTo>
                      <a:pt x="758" y="583"/>
                    </a:lnTo>
                    <a:lnTo>
                      <a:pt x="756" y="582"/>
                    </a:lnTo>
                    <a:lnTo>
                      <a:pt x="755" y="582"/>
                    </a:lnTo>
                    <a:lnTo>
                      <a:pt x="753" y="582"/>
                    </a:lnTo>
                    <a:lnTo>
                      <a:pt x="751" y="583"/>
                    </a:lnTo>
                    <a:lnTo>
                      <a:pt x="750" y="584"/>
                    </a:lnTo>
                    <a:lnTo>
                      <a:pt x="750" y="585"/>
                    </a:lnTo>
                    <a:lnTo>
                      <a:pt x="747" y="585"/>
                    </a:lnTo>
                    <a:lnTo>
                      <a:pt x="747" y="502"/>
                    </a:lnTo>
                    <a:lnTo>
                      <a:pt x="735" y="502"/>
                    </a:lnTo>
                    <a:lnTo>
                      <a:pt x="734" y="500"/>
                    </a:lnTo>
                    <a:lnTo>
                      <a:pt x="733" y="499"/>
                    </a:lnTo>
                    <a:lnTo>
                      <a:pt x="732" y="499"/>
                    </a:lnTo>
                    <a:lnTo>
                      <a:pt x="730" y="498"/>
                    </a:lnTo>
                    <a:lnTo>
                      <a:pt x="728" y="499"/>
                    </a:lnTo>
                    <a:lnTo>
                      <a:pt x="727" y="499"/>
                    </a:lnTo>
                    <a:lnTo>
                      <a:pt x="726" y="500"/>
                    </a:lnTo>
                    <a:lnTo>
                      <a:pt x="726" y="502"/>
                    </a:lnTo>
                    <a:lnTo>
                      <a:pt x="715" y="502"/>
                    </a:lnTo>
                    <a:lnTo>
                      <a:pt x="714" y="500"/>
                    </a:lnTo>
                    <a:lnTo>
                      <a:pt x="713" y="498"/>
                    </a:lnTo>
                    <a:lnTo>
                      <a:pt x="712" y="497"/>
                    </a:lnTo>
                    <a:lnTo>
                      <a:pt x="710" y="496"/>
                    </a:lnTo>
                    <a:lnTo>
                      <a:pt x="708" y="495"/>
                    </a:lnTo>
                    <a:lnTo>
                      <a:pt x="706" y="495"/>
                    </a:lnTo>
                    <a:lnTo>
                      <a:pt x="704" y="495"/>
                    </a:lnTo>
                    <a:lnTo>
                      <a:pt x="701" y="496"/>
                    </a:lnTo>
                    <a:lnTo>
                      <a:pt x="699" y="497"/>
                    </a:lnTo>
                    <a:lnTo>
                      <a:pt x="698" y="498"/>
                    </a:lnTo>
                    <a:lnTo>
                      <a:pt x="697" y="500"/>
                    </a:lnTo>
                    <a:lnTo>
                      <a:pt x="697" y="502"/>
                    </a:lnTo>
                    <a:lnTo>
                      <a:pt x="693" y="502"/>
                    </a:lnTo>
                    <a:lnTo>
                      <a:pt x="693" y="500"/>
                    </a:lnTo>
                    <a:lnTo>
                      <a:pt x="692" y="499"/>
                    </a:lnTo>
                    <a:lnTo>
                      <a:pt x="690" y="499"/>
                    </a:lnTo>
                    <a:lnTo>
                      <a:pt x="688" y="498"/>
                    </a:lnTo>
                    <a:lnTo>
                      <a:pt x="687" y="499"/>
                    </a:lnTo>
                    <a:lnTo>
                      <a:pt x="685" y="499"/>
                    </a:lnTo>
                    <a:lnTo>
                      <a:pt x="684" y="500"/>
                    </a:lnTo>
                    <a:lnTo>
                      <a:pt x="684" y="502"/>
                    </a:lnTo>
                    <a:lnTo>
                      <a:pt x="682" y="502"/>
                    </a:lnTo>
                    <a:lnTo>
                      <a:pt x="682" y="500"/>
                    </a:lnTo>
                    <a:lnTo>
                      <a:pt x="681" y="499"/>
                    </a:lnTo>
                    <a:lnTo>
                      <a:pt x="679" y="499"/>
                    </a:lnTo>
                    <a:lnTo>
                      <a:pt x="678" y="498"/>
                    </a:lnTo>
                    <a:lnTo>
                      <a:pt x="676" y="499"/>
                    </a:lnTo>
                    <a:lnTo>
                      <a:pt x="675" y="499"/>
                    </a:lnTo>
                    <a:lnTo>
                      <a:pt x="674" y="500"/>
                    </a:lnTo>
                    <a:lnTo>
                      <a:pt x="673" y="502"/>
                    </a:lnTo>
                    <a:lnTo>
                      <a:pt x="671" y="502"/>
                    </a:lnTo>
                    <a:lnTo>
                      <a:pt x="671" y="500"/>
                    </a:lnTo>
                    <a:lnTo>
                      <a:pt x="670" y="499"/>
                    </a:lnTo>
                    <a:lnTo>
                      <a:pt x="668" y="499"/>
                    </a:lnTo>
                    <a:lnTo>
                      <a:pt x="667" y="498"/>
                    </a:lnTo>
                    <a:lnTo>
                      <a:pt x="665" y="499"/>
                    </a:lnTo>
                    <a:lnTo>
                      <a:pt x="663" y="499"/>
                    </a:lnTo>
                    <a:lnTo>
                      <a:pt x="663" y="500"/>
                    </a:lnTo>
                    <a:lnTo>
                      <a:pt x="662" y="502"/>
                    </a:lnTo>
                    <a:lnTo>
                      <a:pt x="409" y="502"/>
                    </a:lnTo>
                    <a:lnTo>
                      <a:pt x="408" y="500"/>
                    </a:lnTo>
                    <a:lnTo>
                      <a:pt x="407" y="499"/>
                    </a:lnTo>
                    <a:lnTo>
                      <a:pt x="406" y="499"/>
                    </a:lnTo>
                    <a:lnTo>
                      <a:pt x="404" y="498"/>
                    </a:lnTo>
                    <a:lnTo>
                      <a:pt x="402" y="499"/>
                    </a:lnTo>
                    <a:lnTo>
                      <a:pt x="401" y="499"/>
                    </a:lnTo>
                    <a:lnTo>
                      <a:pt x="400" y="500"/>
                    </a:lnTo>
                    <a:lnTo>
                      <a:pt x="400" y="502"/>
                    </a:lnTo>
                    <a:lnTo>
                      <a:pt x="397" y="502"/>
                    </a:lnTo>
                    <a:lnTo>
                      <a:pt x="396" y="500"/>
                    </a:lnTo>
                    <a:lnTo>
                      <a:pt x="396" y="499"/>
                    </a:lnTo>
                    <a:lnTo>
                      <a:pt x="394" y="499"/>
                    </a:lnTo>
                    <a:lnTo>
                      <a:pt x="392" y="498"/>
                    </a:lnTo>
                    <a:lnTo>
                      <a:pt x="391" y="499"/>
                    </a:lnTo>
                    <a:lnTo>
                      <a:pt x="389" y="499"/>
                    </a:lnTo>
                    <a:lnTo>
                      <a:pt x="388" y="500"/>
                    </a:lnTo>
                    <a:lnTo>
                      <a:pt x="388" y="502"/>
                    </a:lnTo>
                    <a:lnTo>
                      <a:pt x="381" y="502"/>
                    </a:lnTo>
                    <a:lnTo>
                      <a:pt x="380" y="500"/>
                    </a:lnTo>
                    <a:lnTo>
                      <a:pt x="380" y="499"/>
                    </a:lnTo>
                    <a:lnTo>
                      <a:pt x="378" y="499"/>
                    </a:lnTo>
                    <a:lnTo>
                      <a:pt x="376" y="498"/>
                    </a:lnTo>
                    <a:lnTo>
                      <a:pt x="375" y="499"/>
                    </a:lnTo>
                    <a:lnTo>
                      <a:pt x="373" y="499"/>
                    </a:lnTo>
                    <a:lnTo>
                      <a:pt x="372" y="500"/>
                    </a:lnTo>
                    <a:lnTo>
                      <a:pt x="372" y="502"/>
                    </a:lnTo>
                    <a:lnTo>
                      <a:pt x="357" y="502"/>
                    </a:lnTo>
                    <a:lnTo>
                      <a:pt x="357" y="500"/>
                    </a:lnTo>
                    <a:lnTo>
                      <a:pt x="356" y="498"/>
                    </a:lnTo>
                    <a:lnTo>
                      <a:pt x="355" y="497"/>
                    </a:lnTo>
                    <a:lnTo>
                      <a:pt x="353" y="496"/>
                    </a:lnTo>
                    <a:lnTo>
                      <a:pt x="350" y="495"/>
                    </a:lnTo>
                    <a:lnTo>
                      <a:pt x="348" y="495"/>
                    </a:lnTo>
                    <a:lnTo>
                      <a:pt x="346" y="496"/>
                    </a:lnTo>
                    <a:lnTo>
                      <a:pt x="344" y="497"/>
                    </a:lnTo>
                    <a:lnTo>
                      <a:pt x="342" y="498"/>
                    </a:lnTo>
                    <a:lnTo>
                      <a:pt x="341" y="500"/>
                    </a:lnTo>
                    <a:lnTo>
                      <a:pt x="341" y="502"/>
                    </a:lnTo>
                    <a:lnTo>
                      <a:pt x="337" y="502"/>
                    </a:lnTo>
                    <a:lnTo>
                      <a:pt x="336" y="500"/>
                    </a:lnTo>
                    <a:lnTo>
                      <a:pt x="335" y="498"/>
                    </a:lnTo>
                    <a:lnTo>
                      <a:pt x="334" y="497"/>
                    </a:lnTo>
                    <a:lnTo>
                      <a:pt x="331" y="496"/>
                    </a:lnTo>
                    <a:lnTo>
                      <a:pt x="329" y="495"/>
                    </a:lnTo>
                    <a:lnTo>
                      <a:pt x="327" y="495"/>
                    </a:lnTo>
                    <a:lnTo>
                      <a:pt x="324" y="496"/>
                    </a:lnTo>
                    <a:lnTo>
                      <a:pt x="322" y="497"/>
                    </a:lnTo>
                    <a:lnTo>
                      <a:pt x="321" y="498"/>
                    </a:lnTo>
                    <a:lnTo>
                      <a:pt x="320" y="500"/>
                    </a:lnTo>
                    <a:lnTo>
                      <a:pt x="319" y="502"/>
                    </a:lnTo>
                    <a:lnTo>
                      <a:pt x="317" y="502"/>
                    </a:lnTo>
                    <a:lnTo>
                      <a:pt x="317" y="500"/>
                    </a:lnTo>
                    <a:lnTo>
                      <a:pt x="316" y="499"/>
                    </a:lnTo>
                    <a:lnTo>
                      <a:pt x="315" y="499"/>
                    </a:lnTo>
                    <a:lnTo>
                      <a:pt x="313" y="498"/>
                    </a:lnTo>
                    <a:lnTo>
                      <a:pt x="311" y="499"/>
                    </a:lnTo>
                    <a:lnTo>
                      <a:pt x="310" y="499"/>
                    </a:lnTo>
                    <a:lnTo>
                      <a:pt x="309" y="500"/>
                    </a:lnTo>
                    <a:lnTo>
                      <a:pt x="309" y="502"/>
                    </a:lnTo>
                    <a:lnTo>
                      <a:pt x="308" y="502"/>
                    </a:lnTo>
                    <a:lnTo>
                      <a:pt x="308" y="500"/>
                    </a:lnTo>
                    <a:lnTo>
                      <a:pt x="307" y="499"/>
                    </a:lnTo>
                    <a:lnTo>
                      <a:pt x="305" y="499"/>
                    </a:lnTo>
                    <a:lnTo>
                      <a:pt x="303" y="498"/>
                    </a:lnTo>
                    <a:lnTo>
                      <a:pt x="302" y="499"/>
                    </a:lnTo>
                    <a:lnTo>
                      <a:pt x="300" y="499"/>
                    </a:lnTo>
                    <a:lnTo>
                      <a:pt x="299" y="500"/>
                    </a:lnTo>
                    <a:lnTo>
                      <a:pt x="299" y="502"/>
                    </a:lnTo>
                    <a:lnTo>
                      <a:pt x="297" y="502"/>
                    </a:lnTo>
                    <a:lnTo>
                      <a:pt x="297" y="500"/>
                    </a:lnTo>
                    <a:lnTo>
                      <a:pt x="296" y="499"/>
                    </a:lnTo>
                    <a:lnTo>
                      <a:pt x="294" y="499"/>
                    </a:lnTo>
                    <a:lnTo>
                      <a:pt x="292" y="498"/>
                    </a:lnTo>
                    <a:lnTo>
                      <a:pt x="291" y="499"/>
                    </a:lnTo>
                    <a:lnTo>
                      <a:pt x="289" y="499"/>
                    </a:lnTo>
                    <a:lnTo>
                      <a:pt x="288" y="500"/>
                    </a:lnTo>
                    <a:lnTo>
                      <a:pt x="288" y="502"/>
                    </a:lnTo>
                    <a:lnTo>
                      <a:pt x="277" y="502"/>
                    </a:lnTo>
                    <a:lnTo>
                      <a:pt x="277" y="500"/>
                    </a:lnTo>
                    <a:lnTo>
                      <a:pt x="276" y="499"/>
                    </a:lnTo>
                    <a:lnTo>
                      <a:pt x="274" y="499"/>
                    </a:lnTo>
                    <a:lnTo>
                      <a:pt x="273" y="498"/>
                    </a:lnTo>
                    <a:lnTo>
                      <a:pt x="271" y="499"/>
                    </a:lnTo>
                    <a:lnTo>
                      <a:pt x="269" y="499"/>
                    </a:lnTo>
                    <a:lnTo>
                      <a:pt x="268" y="500"/>
                    </a:lnTo>
                    <a:lnTo>
                      <a:pt x="268" y="502"/>
                    </a:lnTo>
                    <a:lnTo>
                      <a:pt x="239" y="502"/>
                    </a:lnTo>
                    <a:lnTo>
                      <a:pt x="239" y="500"/>
                    </a:lnTo>
                    <a:lnTo>
                      <a:pt x="238" y="499"/>
                    </a:lnTo>
                    <a:lnTo>
                      <a:pt x="236" y="499"/>
                    </a:lnTo>
                    <a:lnTo>
                      <a:pt x="235" y="498"/>
                    </a:lnTo>
                    <a:lnTo>
                      <a:pt x="233" y="499"/>
                    </a:lnTo>
                    <a:lnTo>
                      <a:pt x="231" y="499"/>
                    </a:lnTo>
                    <a:lnTo>
                      <a:pt x="230" y="500"/>
                    </a:lnTo>
                    <a:lnTo>
                      <a:pt x="230" y="502"/>
                    </a:lnTo>
                    <a:lnTo>
                      <a:pt x="211" y="502"/>
                    </a:lnTo>
                    <a:lnTo>
                      <a:pt x="211" y="500"/>
                    </a:lnTo>
                    <a:lnTo>
                      <a:pt x="210" y="499"/>
                    </a:lnTo>
                    <a:lnTo>
                      <a:pt x="208" y="499"/>
                    </a:lnTo>
                    <a:lnTo>
                      <a:pt x="207" y="498"/>
                    </a:lnTo>
                    <a:lnTo>
                      <a:pt x="205" y="499"/>
                    </a:lnTo>
                    <a:lnTo>
                      <a:pt x="203" y="499"/>
                    </a:lnTo>
                    <a:lnTo>
                      <a:pt x="202" y="500"/>
                    </a:lnTo>
                    <a:lnTo>
                      <a:pt x="202" y="502"/>
                    </a:lnTo>
                    <a:lnTo>
                      <a:pt x="123" y="502"/>
                    </a:lnTo>
                    <a:lnTo>
                      <a:pt x="123" y="500"/>
                    </a:lnTo>
                    <a:lnTo>
                      <a:pt x="122" y="499"/>
                    </a:lnTo>
                    <a:lnTo>
                      <a:pt x="120" y="499"/>
                    </a:lnTo>
                    <a:lnTo>
                      <a:pt x="119" y="498"/>
                    </a:lnTo>
                    <a:lnTo>
                      <a:pt x="117" y="499"/>
                    </a:lnTo>
                    <a:lnTo>
                      <a:pt x="115" y="499"/>
                    </a:lnTo>
                    <a:lnTo>
                      <a:pt x="114" y="500"/>
                    </a:lnTo>
                    <a:lnTo>
                      <a:pt x="114" y="502"/>
                    </a:lnTo>
                    <a:lnTo>
                      <a:pt x="94" y="502"/>
                    </a:lnTo>
                    <a:lnTo>
                      <a:pt x="93" y="500"/>
                    </a:lnTo>
                    <a:lnTo>
                      <a:pt x="92" y="499"/>
                    </a:lnTo>
                    <a:lnTo>
                      <a:pt x="91" y="499"/>
                    </a:lnTo>
                    <a:lnTo>
                      <a:pt x="89" y="498"/>
                    </a:lnTo>
                    <a:lnTo>
                      <a:pt x="87" y="499"/>
                    </a:lnTo>
                    <a:lnTo>
                      <a:pt x="86" y="499"/>
                    </a:lnTo>
                    <a:lnTo>
                      <a:pt x="85" y="500"/>
                    </a:lnTo>
                    <a:lnTo>
                      <a:pt x="85" y="502"/>
                    </a:lnTo>
                    <a:lnTo>
                      <a:pt x="76" y="502"/>
                    </a:lnTo>
                    <a:lnTo>
                      <a:pt x="76" y="500"/>
                    </a:lnTo>
                    <a:lnTo>
                      <a:pt x="75" y="499"/>
                    </a:lnTo>
                    <a:lnTo>
                      <a:pt x="73" y="499"/>
                    </a:lnTo>
                    <a:lnTo>
                      <a:pt x="72" y="498"/>
                    </a:lnTo>
                    <a:lnTo>
                      <a:pt x="70" y="499"/>
                    </a:lnTo>
                    <a:lnTo>
                      <a:pt x="68" y="499"/>
                    </a:lnTo>
                    <a:lnTo>
                      <a:pt x="67" y="500"/>
                    </a:lnTo>
                    <a:lnTo>
                      <a:pt x="67" y="502"/>
                    </a:lnTo>
                    <a:lnTo>
                      <a:pt x="61" y="502"/>
                    </a:lnTo>
                    <a:lnTo>
                      <a:pt x="61" y="500"/>
                    </a:lnTo>
                    <a:lnTo>
                      <a:pt x="59" y="499"/>
                    </a:lnTo>
                    <a:lnTo>
                      <a:pt x="58" y="499"/>
                    </a:lnTo>
                    <a:lnTo>
                      <a:pt x="56" y="498"/>
                    </a:lnTo>
                    <a:lnTo>
                      <a:pt x="55" y="499"/>
                    </a:lnTo>
                    <a:lnTo>
                      <a:pt x="53" y="499"/>
                    </a:lnTo>
                    <a:lnTo>
                      <a:pt x="52" y="500"/>
                    </a:lnTo>
                    <a:lnTo>
                      <a:pt x="52" y="502"/>
                    </a:lnTo>
                    <a:lnTo>
                      <a:pt x="45" y="502"/>
                    </a:lnTo>
                    <a:lnTo>
                      <a:pt x="44" y="500"/>
                    </a:lnTo>
                    <a:lnTo>
                      <a:pt x="43" y="499"/>
                    </a:lnTo>
                    <a:lnTo>
                      <a:pt x="42" y="499"/>
                    </a:lnTo>
                    <a:lnTo>
                      <a:pt x="40" y="498"/>
                    </a:lnTo>
                    <a:lnTo>
                      <a:pt x="38" y="499"/>
                    </a:lnTo>
                    <a:lnTo>
                      <a:pt x="37" y="499"/>
                    </a:lnTo>
                    <a:lnTo>
                      <a:pt x="36" y="500"/>
                    </a:lnTo>
                    <a:lnTo>
                      <a:pt x="36" y="502"/>
                    </a:lnTo>
                    <a:lnTo>
                      <a:pt x="36" y="502"/>
                    </a:lnTo>
                    <a:lnTo>
                      <a:pt x="35" y="500"/>
                    </a:lnTo>
                    <a:lnTo>
                      <a:pt x="34" y="499"/>
                    </a:lnTo>
                    <a:lnTo>
                      <a:pt x="33" y="499"/>
                    </a:lnTo>
                    <a:lnTo>
                      <a:pt x="31" y="498"/>
                    </a:lnTo>
                    <a:lnTo>
                      <a:pt x="29" y="499"/>
                    </a:lnTo>
                    <a:lnTo>
                      <a:pt x="28" y="499"/>
                    </a:lnTo>
                    <a:lnTo>
                      <a:pt x="27" y="500"/>
                    </a:lnTo>
                    <a:lnTo>
                      <a:pt x="27" y="502"/>
                    </a:lnTo>
                    <a:lnTo>
                      <a:pt x="0" y="502"/>
                    </a:lnTo>
                    <a:lnTo>
                      <a:pt x="0" y="6"/>
                    </a:lnTo>
                    <a:lnTo>
                      <a:pt x="11" y="6"/>
                    </a:lnTo>
                    <a:lnTo>
                      <a:pt x="12" y="5"/>
                    </a:lnTo>
                    <a:lnTo>
                      <a:pt x="13" y="4"/>
                    </a:lnTo>
                    <a:lnTo>
                      <a:pt x="14" y="3"/>
                    </a:lnTo>
                    <a:lnTo>
                      <a:pt x="16" y="3"/>
                    </a:lnTo>
                    <a:lnTo>
                      <a:pt x="18" y="3"/>
                    </a:lnTo>
                    <a:lnTo>
                      <a:pt x="19" y="4"/>
                    </a:lnTo>
                    <a:lnTo>
                      <a:pt x="20" y="5"/>
                    </a:lnTo>
                    <a:lnTo>
                      <a:pt x="20" y="6"/>
                    </a:lnTo>
                    <a:lnTo>
                      <a:pt x="33" y="6"/>
                    </a:lnTo>
                    <a:lnTo>
                      <a:pt x="34" y="5"/>
                    </a:lnTo>
                    <a:lnTo>
                      <a:pt x="35" y="4"/>
                    </a:lnTo>
                    <a:lnTo>
                      <a:pt x="36" y="3"/>
                    </a:lnTo>
                    <a:lnTo>
                      <a:pt x="38" y="3"/>
                    </a:lnTo>
                    <a:lnTo>
                      <a:pt x="39" y="3"/>
                    </a:lnTo>
                    <a:lnTo>
                      <a:pt x="41" y="4"/>
                    </a:lnTo>
                    <a:lnTo>
                      <a:pt x="42" y="5"/>
                    </a:lnTo>
                    <a:lnTo>
                      <a:pt x="42" y="6"/>
                    </a:lnTo>
                    <a:lnTo>
                      <a:pt x="85" y="6"/>
                    </a:lnTo>
                    <a:lnTo>
                      <a:pt x="85" y="5"/>
                    </a:lnTo>
                    <a:lnTo>
                      <a:pt x="86" y="4"/>
                    </a:lnTo>
                    <a:lnTo>
                      <a:pt x="87" y="3"/>
                    </a:lnTo>
                    <a:lnTo>
                      <a:pt x="89" y="3"/>
                    </a:lnTo>
                    <a:lnTo>
                      <a:pt x="91" y="3"/>
                    </a:lnTo>
                    <a:lnTo>
                      <a:pt x="92" y="4"/>
                    </a:lnTo>
                    <a:lnTo>
                      <a:pt x="93" y="5"/>
                    </a:lnTo>
                    <a:lnTo>
                      <a:pt x="94" y="6"/>
                    </a:lnTo>
                    <a:lnTo>
                      <a:pt x="127" y="6"/>
                    </a:lnTo>
                    <a:lnTo>
                      <a:pt x="1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5234760" y="27334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19" name=""/>
              <p:cNvSpPr/>
              <p:nvPr/>
            </p:nvSpPr>
            <p:spPr>
              <a:xfrm>
                <a:off x="6269040" y="2252520"/>
                <a:ext cx="407520" cy="1240560"/>
              </a:xfrm>
              <a:custGeom>
                <a:avLst/>
                <a:gdLst/>
                <a:ahLst/>
                <a:rect l="l" t="t" r="r" b="b"/>
                <a:pathLst>
                  <a:path w="385" h="929">
                    <a:moveTo>
                      <a:pt x="0" y="929"/>
                    </a:moveTo>
                    <a:lnTo>
                      <a:pt x="0" y="884"/>
                    </a:lnTo>
                    <a:lnTo>
                      <a:pt x="77" y="884"/>
                    </a:lnTo>
                    <a:lnTo>
                      <a:pt x="77" y="882"/>
                    </a:lnTo>
                    <a:lnTo>
                      <a:pt x="78" y="881"/>
                    </a:lnTo>
                    <a:lnTo>
                      <a:pt x="79" y="881"/>
                    </a:lnTo>
                    <a:lnTo>
                      <a:pt x="81" y="880"/>
                    </a:lnTo>
                    <a:lnTo>
                      <a:pt x="83" y="881"/>
                    </a:lnTo>
                    <a:lnTo>
                      <a:pt x="84" y="881"/>
                    </a:lnTo>
                    <a:lnTo>
                      <a:pt x="85" y="882"/>
                    </a:lnTo>
                    <a:lnTo>
                      <a:pt x="86" y="884"/>
                    </a:lnTo>
                    <a:lnTo>
                      <a:pt x="94" y="884"/>
                    </a:lnTo>
                    <a:lnTo>
                      <a:pt x="94" y="882"/>
                    </a:lnTo>
                    <a:lnTo>
                      <a:pt x="95" y="881"/>
                    </a:lnTo>
                    <a:lnTo>
                      <a:pt x="96" y="881"/>
                    </a:lnTo>
                    <a:lnTo>
                      <a:pt x="98" y="880"/>
                    </a:lnTo>
                    <a:lnTo>
                      <a:pt x="100" y="881"/>
                    </a:lnTo>
                    <a:lnTo>
                      <a:pt x="101" y="881"/>
                    </a:lnTo>
                    <a:lnTo>
                      <a:pt x="102" y="882"/>
                    </a:lnTo>
                    <a:lnTo>
                      <a:pt x="103" y="884"/>
                    </a:lnTo>
                    <a:lnTo>
                      <a:pt x="134" y="884"/>
                    </a:lnTo>
                    <a:lnTo>
                      <a:pt x="135" y="882"/>
                    </a:lnTo>
                    <a:lnTo>
                      <a:pt x="135" y="881"/>
                    </a:lnTo>
                    <a:lnTo>
                      <a:pt x="137" y="881"/>
                    </a:lnTo>
                    <a:lnTo>
                      <a:pt x="139" y="880"/>
                    </a:lnTo>
                    <a:lnTo>
                      <a:pt x="140" y="881"/>
                    </a:lnTo>
                    <a:lnTo>
                      <a:pt x="142" y="881"/>
                    </a:lnTo>
                    <a:lnTo>
                      <a:pt x="143" y="882"/>
                    </a:lnTo>
                    <a:lnTo>
                      <a:pt x="143" y="884"/>
                    </a:lnTo>
                    <a:lnTo>
                      <a:pt x="158" y="884"/>
                    </a:lnTo>
                    <a:lnTo>
                      <a:pt x="158" y="882"/>
                    </a:lnTo>
                    <a:lnTo>
                      <a:pt x="159" y="881"/>
                    </a:lnTo>
                    <a:lnTo>
                      <a:pt x="161" y="881"/>
                    </a:lnTo>
                    <a:lnTo>
                      <a:pt x="162" y="880"/>
                    </a:lnTo>
                    <a:lnTo>
                      <a:pt x="164" y="881"/>
                    </a:lnTo>
                    <a:lnTo>
                      <a:pt x="165" y="881"/>
                    </a:lnTo>
                    <a:lnTo>
                      <a:pt x="166" y="882"/>
                    </a:lnTo>
                    <a:lnTo>
                      <a:pt x="167" y="884"/>
                    </a:lnTo>
                    <a:lnTo>
                      <a:pt x="204" y="884"/>
                    </a:lnTo>
                    <a:lnTo>
                      <a:pt x="204" y="352"/>
                    </a:lnTo>
                    <a:lnTo>
                      <a:pt x="252" y="352"/>
                    </a:lnTo>
                    <a:lnTo>
                      <a:pt x="253" y="351"/>
                    </a:lnTo>
                    <a:lnTo>
                      <a:pt x="254" y="350"/>
                    </a:lnTo>
                    <a:lnTo>
                      <a:pt x="255" y="349"/>
                    </a:lnTo>
                    <a:lnTo>
                      <a:pt x="257" y="349"/>
                    </a:lnTo>
                    <a:lnTo>
                      <a:pt x="259" y="349"/>
                    </a:lnTo>
                    <a:lnTo>
                      <a:pt x="260" y="350"/>
                    </a:lnTo>
                    <a:lnTo>
                      <a:pt x="261" y="351"/>
                    </a:lnTo>
                    <a:lnTo>
                      <a:pt x="261" y="352"/>
                    </a:lnTo>
                    <a:lnTo>
                      <a:pt x="323" y="352"/>
                    </a:lnTo>
                    <a:lnTo>
                      <a:pt x="323" y="351"/>
                    </a:lnTo>
                    <a:lnTo>
                      <a:pt x="324" y="349"/>
                    </a:lnTo>
                    <a:lnTo>
                      <a:pt x="325" y="348"/>
                    </a:lnTo>
                    <a:lnTo>
                      <a:pt x="327" y="346"/>
                    </a:lnTo>
                    <a:lnTo>
                      <a:pt x="329" y="346"/>
                    </a:lnTo>
                    <a:lnTo>
                      <a:pt x="332" y="346"/>
                    </a:lnTo>
                    <a:lnTo>
                      <a:pt x="334" y="346"/>
                    </a:lnTo>
                    <a:lnTo>
                      <a:pt x="336" y="346"/>
                    </a:lnTo>
                    <a:lnTo>
                      <a:pt x="338" y="348"/>
                    </a:lnTo>
                    <a:lnTo>
                      <a:pt x="339" y="349"/>
                    </a:lnTo>
                    <a:lnTo>
                      <a:pt x="340" y="351"/>
                    </a:lnTo>
                    <a:lnTo>
                      <a:pt x="341" y="352"/>
                    </a:lnTo>
                    <a:lnTo>
                      <a:pt x="385" y="352"/>
                    </a:lnTo>
                    <a:lnTo>
                      <a:pt x="385" y="15"/>
                    </a:lnTo>
                    <a:lnTo>
                      <a:pt x="368" y="15"/>
                    </a:lnTo>
                    <a:lnTo>
                      <a:pt x="367" y="14"/>
                    </a:lnTo>
                    <a:lnTo>
                      <a:pt x="366" y="13"/>
                    </a:lnTo>
                    <a:lnTo>
                      <a:pt x="365" y="12"/>
                    </a:lnTo>
                    <a:lnTo>
                      <a:pt x="363" y="12"/>
                    </a:lnTo>
                    <a:lnTo>
                      <a:pt x="362" y="12"/>
                    </a:lnTo>
                    <a:lnTo>
                      <a:pt x="360" y="13"/>
                    </a:lnTo>
                    <a:lnTo>
                      <a:pt x="359" y="14"/>
                    </a:lnTo>
                    <a:lnTo>
                      <a:pt x="359" y="15"/>
                    </a:lnTo>
                    <a:lnTo>
                      <a:pt x="347" y="15"/>
                    </a:lnTo>
                    <a:lnTo>
                      <a:pt x="347" y="14"/>
                    </a:lnTo>
                    <a:lnTo>
                      <a:pt x="346" y="13"/>
                    </a:lnTo>
                    <a:lnTo>
                      <a:pt x="345" y="12"/>
                    </a:lnTo>
                    <a:lnTo>
                      <a:pt x="343" y="12"/>
                    </a:lnTo>
                    <a:lnTo>
                      <a:pt x="341" y="12"/>
                    </a:lnTo>
                    <a:lnTo>
                      <a:pt x="340" y="13"/>
                    </a:lnTo>
                    <a:lnTo>
                      <a:pt x="339" y="14"/>
                    </a:lnTo>
                    <a:lnTo>
                      <a:pt x="338" y="15"/>
                    </a:lnTo>
                    <a:lnTo>
                      <a:pt x="301" y="15"/>
                    </a:lnTo>
                    <a:lnTo>
                      <a:pt x="3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6262920" y="3492000"/>
                <a:ext cx="12240" cy="14400"/>
              </a:xfrm>
              <a:custGeom>
                <a:avLst/>
                <a:gdLst/>
                <a:ahLst/>
                <a:rect l="l" t="t" r="r" b="b"/>
                <a:pathLst>
                  <a:path w="12" h="11">
                    <a:moveTo>
                      <a:pt x="12" y="1"/>
                    </a:moveTo>
                    <a:lnTo>
                      <a:pt x="6" y="11"/>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21" name=""/>
              <p:cNvSpPr/>
              <p:nvPr/>
            </p:nvSpPr>
            <p:spPr>
              <a:xfrm>
                <a:off x="7458120" y="3555000"/>
                <a:ext cx="162720" cy="142920"/>
              </a:xfrm>
              <a:custGeom>
                <a:avLst/>
                <a:gdLst/>
                <a:ahLst/>
                <a:rect l="l" t="t" r="r" b="b"/>
                <a:pathLst>
                  <a:path w="154" h="107">
                    <a:moveTo>
                      <a:pt x="154" y="107"/>
                    </a:moveTo>
                    <a:lnTo>
                      <a:pt x="154" y="5"/>
                    </a:lnTo>
                    <a:lnTo>
                      <a:pt x="91" y="5"/>
                    </a:lnTo>
                    <a:lnTo>
                      <a:pt x="90" y="4"/>
                    </a:lnTo>
                    <a:lnTo>
                      <a:pt x="90" y="2"/>
                    </a:lnTo>
                    <a:lnTo>
                      <a:pt x="88" y="1"/>
                    </a:lnTo>
                    <a:lnTo>
                      <a:pt x="86" y="0"/>
                    </a:lnTo>
                    <a:lnTo>
                      <a:pt x="84" y="0"/>
                    </a:lnTo>
                    <a:lnTo>
                      <a:pt x="82" y="0"/>
                    </a:lnTo>
                    <a:lnTo>
                      <a:pt x="80" y="1"/>
                    </a:lnTo>
                    <a:lnTo>
                      <a:pt x="79" y="2"/>
                    </a:lnTo>
                    <a:lnTo>
                      <a:pt x="78" y="4"/>
                    </a:lnTo>
                    <a:lnTo>
                      <a:pt x="77" y="5"/>
                    </a:lnTo>
                    <a:lnTo>
                      <a:pt x="75" y="5"/>
                    </a:lnTo>
                    <a:lnTo>
                      <a:pt x="75" y="4"/>
                    </a:lnTo>
                    <a:lnTo>
                      <a:pt x="74" y="3"/>
                    </a:lnTo>
                    <a:lnTo>
                      <a:pt x="72" y="2"/>
                    </a:lnTo>
                    <a:lnTo>
                      <a:pt x="71" y="2"/>
                    </a:lnTo>
                    <a:lnTo>
                      <a:pt x="69" y="2"/>
                    </a:lnTo>
                    <a:lnTo>
                      <a:pt x="67" y="3"/>
                    </a:lnTo>
                    <a:lnTo>
                      <a:pt x="66" y="4"/>
                    </a:lnTo>
                    <a:lnTo>
                      <a:pt x="66" y="5"/>
                    </a:lnTo>
                    <a:lnTo>
                      <a:pt x="59" y="5"/>
                    </a:lnTo>
                    <a:lnTo>
                      <a:pt x="58" y="4"/>
                    </a:lnTo>
                    <a:lnTo>
                      <a:pt x="57" y="3"/>
                    </a:lnTo>
                    <a:lnTo>
                      <a:pt x="56" y="2"/>
                    </a:lnTo>
                    <a:lnTo>
                      <a:pt x="54" y="2"/>
                    </a:lnTo>
                    <a:lnTo>
                      <a:pt x="52" y="2"/>
                    </a:lnTo>
                    <a:lnTo>
                      <a:pt x="51" y="3"/>
                    </a:lnTo>
                    <a:lnTo>
                      <a:pt x="50" y="4"/>
                    </a:lnTo>
                    <a:lnTo>
                      <a:pt x="50" y="5"/>
                    </a:lnTo>
                    <a:lnTo>
                      <a:pt x="43" y="5"/>
                    </a:lnTo>
                    <a:lnTo>
                      <a:pt x="43" y="4"/>
                    </a:lnTo>
                    <a:lnTo>
                      <a:pt x="42" y="2"/>
                    </a:lnTo>
                    <a:lnTo>
                      <a:pt x="40" y="1"/>
                    </a:lnTo>
                    <a:lnTo>
                      <a:pt x="38" y="0"/>
                    </a:lnTo>
                    <a:lnTo>
                      <a:pt x="36" y="0"/>
                    </a:lnTo>
                    <a:lnTo>
                      <a:pt x="34" y="0"/>
                    </a:lnTo>
                    <a:lnTo>
                      <a:pt x="32" y="0"/>
                    </a:lnTo>
                    <a:lnTo>
                      <a:pt x="30" y="1"/>
                    </a:lnTo>
                    <a:lnTo>
                      <a:pt x="29" y="2"/>
                    </a:lnTo>
                    <a:lnTo>
                      <a:pt x="28" y="4"/>
                    </a:lnTo>
                    <a:lnTo>
                      <a:pt x="28" y="5"/>
                    </a:lnTo>
                    <a:lnTo>
                      <a:pt x="27" y="5"/>
                    </a:lnTo>
                    <a:lnTo>
                      <a:pt x="26" y="4"/>
                    </a:lnTo>
                    <a:lnTo>
                      <a:pt x="25" y="3"/>
                    </a:lnTo>
                    <a:lnTo>
                      <a:pt x="24" y="2"/>
                    </a:lnTo>
                    <a:lnTo>
                      <a:pt x="22" y="2"/>
                    </a:lnTo>
                    <a:lnTo>
                      <a:pt x="20" y="2"/>
                    </a:lnTo>
                    <a:lnTo>
                      <a:pt x="19" y="3"/>
                    </a:lnTo>
                    <a:lnTo>
                      <a:pt x="18" y="4"/>
                    </a:lnTo>
                    <a:lnTo>
                      <a:pt x="18" y="5"/>
                    </a:lnTo>
                    <a:lnTo>
                      <a:pt x="11" y="5"/>
                    </a:lnTo>
                    <a:lnTo>
                      <a:pt x="10" y="4"/>
                    </a:lnTo>
                    <a:lnTo>
                      <a:pt x="9" y="3"/>
                    </a:lnTo>
                    <a:lnTo>
                      <a:pt x="8" y="2"/>
                    </a:lnTo>
                    <a:lnTo>
                      <a:pt x="6" y="2"/>
                    </a:lnTo>
                    <a:lnTo>
                      <a:pt x="4" y="2"/>
                    </a:lnTo>
                    <a:lnTo>
                      <a:pt x="3" y="3"/>
                    </a:lnTo>
                    <a:lnTo>
                      <a:pt x="2" y="4"/>
                    </a:lnTo>
                    <a:lnTo>
                      <a:pt x="2" y="5"/>
                    </a:lnTo>
                    <a:lnTo>
                      <a:pt x="0"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445520" y="3556440"/>
                <a:ext cx="14760" cy="1152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3" name=""/>
              <p:cNvSpPr/>
              <p:nvPr/>
            </p:nvSpPr>
            <p:spPr>
              <a:xfrm>
                <a:off x="6341040" y="3545640"/>
                <a:ext cx="1251000" cy="153360"/>
              </a:xfrm>
              <a:custGeom>
                <a:avLst/>
                <a:gdLst/>
                <a:ahLst/>
                <a:rect l="l" t="t" r="r" b="b"/>
                <a:pathLst>
                  <a:path w="1182" h="115">
                    <a:moveTo>
                      <a:pt x="1182" y="115"/>
                    </a:moveTo>
                    <a:lnTo>
                      <a:pt x="1182" y="61"/>
                    </a:lnTo>
                    <a:lnTo>
                      <a:pt x="1146" y="61"/>
                    </a:lnTo>
                    <a:lnTo>
                      <a:pt x="1145" y="59"/>
                    </a:lnTo>
                    <a:lnTo>
                      <a:pt x="1145" y="58"/>
                    </a:lnTo>
                    <a:lnTo>
                      <a:pt x="1143" y="57"/>
                    </a:lnTo>
                    <a:lnTo>
                      <a:pt x="1141" y="56"/>
                    </a:lnTo>
                    <a:lnTo>
                      <a:pt x="1139" y="56"/>
                    </a:lnTo>
                    <a:lnTo>
                      <a:pt x="1137" y="56"/>
                    </a:lnTo>
                    <a:lnTo>
                      <a:pt x="1135" y="57"/>
                    </a:lnTo>
                    <a:lnTo>
                      <a:pt x="1134" y="58"/>
                    </a:lnTo>
                    <a:lnTo>
                      <a:pt x="1133" y="59"/>
                    </a:lnTo>
                    <a:lnTo>
                      <a:pt x="1132" y="61"/>
                    </a:lnTo>
                    <a:lnTo>
                      <a:pt x="1130" y="61"/>
                    </a:lnTo>
                    <a:lnTo>
                      <a:pt x="1130" y="60"/>
                    </a:lnTo>
                    <a:lnTo>
                      <a:pt x="1129" y="58"/>
                    </a:lnTo>
                    <a:lnTo>
                      <a:pt x="1127" y="58"/>
                    </a:lnTo>
                    <a:lnTo>
                      <a:pt x="1126" y="57"/>
                    </a:lnTo>
                    <a:lnTo>
                      <a:pt x="1124" y="58"/>
                    </a:lnTo>
                    <a:lnTo>
                      <a:pt x="1122" y="58"/>
                    </a:lnTo>
                    <a:lnTo>
                      <a:pt x="1121" y="60"/>
                    </a:lnTo>
                    <a:lnTo>
                      <a:pt x="1121" y="61"/>
                    </a:lnTo>
                    <a:lnTo>
                      <a:pt x="1114" y="61"/>
                    </a:lnTo>
                    <a:lnTo>
                      <a:pt x="1113" y="60"/>
                    </a:lnTo>
                    <a:lnTo>
                      <a:pt x="1112" y="58"/>
                    </a:lnTo>
                    <a:lnTo>
                      <a:pt x="1111" y="58"/>
                    </a:lnTo>
                    <a:lnTo>
                      <a:pt x="1109" y="57"/>
                    </a:lnTo>
                    <a:lnTo>
                      <a:pt x="1107" y="58"/>
                    </a:lnTo>
                    <a:lnTo>
                      <a:pt x="1106" y="58"/>
                    </a:lnTo>
                    <a:lnTo>
                      <a:pt x="1105" y="60"/>
                    </a:lnTo>
                    <a:lnTo>
                      <a:pt x="1105" y="61"/>
                    </a:lnTo>
                    <a:lnTo>
                      <a:pt x="1098" y="61"/>
                    </a:lnTo>
                    <a:lnTo>
                      <a:pt x="1098" y="59"/>
                    </a:lnTo>
                    <a:lnTo>
                      <a:pt x="1097" y="58"/>
                    </a:lnTo>
                    <a:lnTo>
                      <a:pt x="1095" y="56"/>
                    </a:lnTo>
                    <a:lnTo>
                      <a:pt x="1093" y="55"/>
                    </a:lnTo>
                    <a:lnTo>
                      <a:pt x="1091" y="55"/>
                    </a:lnTo>
                    <a:lnTo>
                      <a:pt x="1089" y="55"/>
                    </a:lnTo>
                    <a:lnTo>
                      <a:pt x="1087" y="55"/>
                    </a:lnTo>
                    <a:lnTo>
                      <a:pt x="1085" y="56"/>
                    </a:lnTo>
                    <a:lnTo>
                      <a:pt x="1084" y="58"/>
                    </a:lnTo>
                    <a:lnTo>
                      <a:pt x="1083" y="59"/>
                    </a:lnTo>
                    <a:lnTo>
                      <a:pt x="1083" y="61"/>
                    </a:lnTo>
                    <a:lnTo>
                      <a:pt x="1082" y="61"/>
                    </a:lnTo>
                    <a:lnTo>
                      <a:pt x="1081" y="60"/>
                    </a:lnTo>
                    <a:lnTo>
                      <a:pt x="1080" y="58"/>
                    </a:lnTo>
                    <a:lnTo>
                      <a:pt x="1079" y="58"/>
                    </a:lnTo>
                    <a:lnTo>
                      <a:pt x="1077" y="57"/>
                    </a:lnTo>
                    <a:lnTo>
                      <a:pt x="1075" y="58"/>
                    </a:lnTo>
                    <a:lnTo>
                      <a:pt x="1074" y="58"/>
                    </a:lnTo>
                    <a:lnTo>
                      <a:pt x="1073" y="60"/>
                    </a:lnTo>
                    <a:lnTo>
                      <a:pt x="1073" y="61"/>
                    </a:lnTo>
                    <a:lnTo>
                      <a:pt x="1066" y="61"/>
                    </a:lnTo>
                    <a:lnTo>
                      <a:pt x="1065" y="60"/>
                    </a:lnTo>
                    <a:lnTo>
                      <a:pt x="1064" y="58"/>
                    </a:lnTo>
                    <a:lnTo>
                      <a:pt x="1063" y="58"/>
                    </a:lnTo>
                    <a:lnTo>
                      <a:pt x="1061" y="57"/>
                    </a:lnTo>
                    <a:lnTo>
                      <a:pt x="1059" y="58"/>
                    </a:lnTo>
                    <a:lnTo>
                      <a:pt x="1058" y="58"/>
                    </a:lnTo>
                    <a:lnTo>
                      <a:pt x="1057" y="60"/>
                    </a:lnTo>
                    <a:lnTo>
                      <a:pt x="1057" y="61"/>
                    </a:lnTo>
                    <a:lnTo>
                      <a:pt x="818" y="61"/>
                    </a:lnTo>
                    <a:lnTo>
                      <a:pt x="818" y="60"/>
                    </a:lnTo>
                    <a:lnTo>
                      <a:pt x="817" y="58"/>
                    </a:lnTo>
                    <a:lnTo>
                      <a:pt x="815" y="58"/>
                    </a:lnTo>
                    <a:lnTo>
                      <a:pt x="814" y="57"/>
                    </a:lnTo>
                    <a:lnTo>
                      <a:pt x="812" y="58"/>
                    </a:lnTo>
                    <a:lnTo>
                      <a:pt x="810" y="58"/>
                    </a:lnTo>
                    <a:lnTo>
                      <a:pt x="810" y="60"/>
                    </a:lnTo>
                    <a:lnTo>
                      <a:pt x="809" y="61"/>
                    </a:lnTo>
                    <a:lnTo>
                      <a:pt x="806" y="61"/>
                    </a:lnTo>
                    <a:lnTo>
                      <a:pt x="805" y="59"/>
                    </a:lnTo>
                    <a:lnTo>
                      <a:pt x="805" y="57"/>
                    </a:lnTo>
                    <a:lnTo>
                      <a:pt x="803" y="56"/>
                    </a:lnTo>
                    <a:lnTo>
                      <a:pt x="801" y="55"/>
                    </a:lnTo>
                    <a:lnTo>
                      <a:pt x="799" y="54"/>
                    </a:lnTo>
                    <a:lnTo>
                      <a:pt x="796" y="54"/>
                    </a:lnTo>
                    <a:lnTo>
                      <a:pt x="794" y="55"/>
                    </a:lnTo>
                    <a:lnTo>
                      <a:pt x="792" y="56"/>
                    </a:lnTo>
                    <a:lnTo>
                      <a:pt x="790" y="57"/>
                    </a:lnTo>
                    <a:lnTo>
                      <a:pt x="789" y="59"/>
                    </a:lnTo>
                    <a:lnTo>
                      <a:pt x="789" y="61"/>
                    </a:lnTo>
                    <a:lnTo>
                      <a:pt x="780" y="61"/>
                    </a:lnTo>
                    <a:lnTo>
                      <a:pt x="780" y="60"/>
                    </a:lnTo>
                    <a:lnTo>
                      <a:pt x="779" y="58"/>
                    </a:lnTo>
                    <a:lnTo>
                      <a:pt x="777" y="58"/>
                    </a:lnTo>
                    <a:lnTo>
                      <a:pt x="776" y="57"/>
                    </a:lnTo>
                    <a:lnTo>
                      <a:pt x="774" y="58"/>
                    </a:lnTo>
                    <a:lnTo>
                      <a:pt x="772" y="58"/>
                    </a:lnTo>
                    <a:lnTo>
                      <a:pt x="771" y="60"/>
                    </a:lnTo>
                    <a:lnTo>
                      <a:pt x="771" y="61"/>
                    </a:lnTo>
                    <a:lnTo>
                      <a:pt x="766" y="61"/>
                    </a:lnTo>
                    <a:lnTo>
                      <a:pt x="765" y="60"/>
                    </a:lnTo>
                    <a:lnTo>
                      <a:pt x="765" y="58"/>
                    </a:lnTo>
                    <a:lnTo>
                      <a:pt x="763" y="58"/>
                    </a:lnTo>
                    <a:lnTo>
                      <a:pt x="761" y="57"/>
                    </a:lnTo>
                    <a:lnTo>
                      <a:pt x="760" y="58"/>
                    </a:lnTo>
                    <a:lnTo>
                      <a:pt x="758" y="58"/>
                    </a:lnTo>
                    <a:lnTo>
                      <a:pt x="757" y="60"/>
                    </a:lnTo>
                    <a:lnTo>
                      <a:pt x="757" y="61"/>
                    </a:lnTo>
                    <a:lnTo>
                      <a:pt x="728" y="61"/>
                    </a:lnTo>
                    <a:lnTo>
                      <a:pt x="728" y="60"/>
                    </a:lnTo>
                    <a:lnTo>
                      <a:pt x="727" y="58"/>
                    </a:lnTo>
                    <a:lnTo>
                      <a:pt x="725" y="58"/>
                    </a:lnTo>
                    <a:lnTo>
                      <a:pt x="724" y="57"/>
                    </a:lnTo>
                    <a:lnTo>
                      <a:pt x="722" y="58"/>
                    </a:lnTo>
                    <a:lnTo>
                      <a:pt x="720" y="58"/>
                    </a:lnTo>
                    <a:lnTo>
                      <a:pt x="720" y="60"/>
                    </a:lnTo>
                    <a:lnTo>
                      <a:pt x="719" y="61"/>
                    </a:lnTo>
                    <a:lnTo>
                      <a:pt x="713" y="61"/>
                    </a:lnTo>
                    <a:lnTo>
                      <a:pt x="713" y="60"/>
                    </a:lnTo>
                    <a:lnTo>
                      <a:pt x="712" y="58"/>
                    </a:lnTo>
                    <a:lnTo>
                      <a:pt x="711" y="58"/>
                    </a:lnTo>
                    <a:lnTo>
                      <a:pt x="709" y="57"/>
                    </a:lnTo>
                    <a:lnTo>
                      <a:pt x="707" y="58"/>
                    </a:lnTo>
                    <a:lnTo>
                      <a:pt x="706" y="58"/>
                    </a:lnTo>
                    <a:lnTo>
                      <a:pt x="705" y="60"/>
                    </a:lnTo>
                    <a:lnTo>
                      <a:pt x="704" y="61"/>
                    </a:lnTo>
                    <a:lnTo>
                      <a:pt x="693" y="61"/>
                    </a:lnTo>
                    <a:lnTo>
                      <a:pt x="693" y="60"/>
                    </a:lnTo>
                    <a:lnTo>
                      <a:pt x="692" y="58"/>
                    </a:lnTo>
                    <a:lnTo>
                      <a:pt x="690" y="58"/>
                    </a:lnTo>
                    <a:lnTo>
                      <a:pt x="689" y="57"/>
                    </a:lnTo>
                    <a:lnTo>
                      <a:pt x="687" y="58"/>
                    </a:lnTo>
                    <a:lnTo>
                      <a:pt x="685" y="58"/>
                    </a:lnTo>
                    <a:lnTo>
                      <a:pt x="685" y="60"/>
                    </a:lnTo>
                    <a:lnTo>
                      <a:pt x="684" y="61"/>
                    </a:lnTo>
                    <a:lnTo>
                      <a:pt x="680" y="61"/>
                    </a:lnTo>
                    <a:lnTo>
                      <a:pt x="679" y="60"/>
                    </a:lnTo>
                    <a:lnTo>
                      <a:pt x="678" y="58"/>
                    </a:lnTo>
                    <a:lnTo>
                      <a:pt x="677" y="58"/>
                    </a:lnTo>
                    <a:lnTo>
                      <a:pt x="675" y="57"/>
                    </a:lnTo>
                    <a:lnTo>
                      <a:pt x="673" y="58"/>
                    </a:lnTo>
                    <a:lnTo>
                      <a:pt x="672" y="58"/>
                    </a:lnTo>
                    <a:lnTo>
                      <a:pt x="671" y="60"/>
                    </a:lnTo>
                    <a:lnTo>
                      <a:pt x="671" y="61"/>
                    </a:lnTo>
                    <a:lnTo>
                      <a:pt x="653" y="61"/>
                    </a:lnTo>
                    <a:lnTo>
                      <a:pt x="653" y="7"/>
                    </a:lnTo>
                    <a:lnTo>
                      <a:pt x="646" y="7"/>
                    </a:lnTo>
                    <a:lnTo>
                      <a:pt x="645" y="6"/>
                    </a:lnTo>
                    <a:lnTo>
                      <a:pt x="645" y="5"/>
                    </a:lnTo>
                    <a:lnTo>
                      <a:pt x="643" y="4"/>
                    </a:lnTo>
                    <a:lnTo>
                      <a:pt x="641" y="4"/>
                    </a:lnTo>
                    <a:lnTo>
                      <a:pt x="640" y="4"/>
                    </a:lnTo>
                    <a:lnTo>
                      <a:pt x="638" y="5"/>
                    </a:lnTo>
                    <a:lnTo>
                      <a:pt x="637" y="6"/>
                    </a:lnTo>
                    <a:lnTo>
                      <a:pt x="637" y="7"/>
                    </a:lnTo>
                    <a:lnTo>
                      <a:pt x="631" y="7"/>
                    </a:lnTo>
                    <a:lnTo>
                      <a:pt x="630" y="6"/>
                    </a:lnTo>
                    <a:lnTo>
                      <a:pt x="629" y="5"/>
                    </a:lnTo>
                    <a:lnTo>
                      <a:pt x="628" y="4"/>
                    </a:lnTo>
                    <a:lnTo>
                      <a:pt x="626" y="4"/>
                    </a:lnTo>
                    <a:lnTo>
                      <a:pt x="624" y="4"/>
                    </a:lnTo>
                    <a:lnTo>
                      <a:pt x="623" y="5"/>
                    </a:lnTo>
                    <a:lnTo>
                      <a:pt x="622" y="6"/>
                    </a:lnTo>
                    <a:lnTo>
                      <a:pt x="622" y="7"/>
                    </a:lnTo>
                    <a:lnTo>
                      <a:pt x="618" y="7"/>
                    </a:lnTo>
                    <a:lnTo>
                      <a:pt x="617" y="6"/>
                    </a:lnTo>
                    <a:lnTo>
                      <a:pt x="616" y="5"/>
                    </a:lnTo>
                    <a:lnTo>
                      <a:pt x="615" y="4"/>
                    </a:lnTo>
                    <a:lnTo>
                      <a:pt x="613" y="4"/>
                    </a:lnTo>
                    <a:lnTo>
                      <a:pt x="611" y="4"/>
                    </a:lnTo>
                    <a:lnTo>
                      <a:pt x="610" y="5"/>
                    </a:lnTo>
                    <a:lnTo>
                      <a:pt x="609" y="6"/>
                    </a:lnTo>
                    <a:lnTo>
                      <a:pt x="609" y="7"/>
                    </a:lnTo>
                    <a:lnTo>
                      <a:pt x="580" y="7"/>
                    </a:lnTo>
                    <a:lnTo>
                      <a:pt x="580" y="5"/>
                    </a:lnTo>
                    <a:lnTo>
                      <a:pt x="579" y="3"/>
                    </a:lnTo>
                    <a:lnTo>
                      <a:pt x="577" y="2"/>
                    </a:lnTo>
                    <a:lnTo>
                      <a:pt x="575" y="1"/>
                    </a:lnTo>
                    <a:lnTo>
                      <a:pt x="573" y="0"/>
                    </a:lnTo>
                    <a:lnTo>
                      <a:pt x="570" y="0"/>
                    </a:lnTo>
                    <a:lnTo>
                      <a:pt x="568" y="1"/>
                    </a:lnTo>
                    <a:lnTo>
                      <a:pt x="566" y="2"/>
                    </a:lnTo>
                    <a:lnTo>
                      <a:pt x="564" y="3"/>
                    </a:lnTo>
                    <a:lnTo>
                      <a:pt x="563" y="5"/>
                    </a:lnTo>
                    <a:lnTo>
                      <a:pt x="563" y="7"/>
                    </a:lnTo>
                    <a:lnTo>
                      <a:pt x="539" y="7"/>
                    </a:lnTo>
                    <a:lnTo>
                      <a:pt x="539" y="6"/>
                    </a:lnTo>
                    <a:lnTo>
                      <a:pt x="538" y="5"/>
                    </a:lnTo>
                    <a:lnTo>
                      <a:pt x="537" y="4"/>
                    </a:lnTo>
                    <a:lnTo>
                      <a:pt x="535" y="4"/>
                    </a:lnTo>
                    <a:lnTo>
                      <a:pt x="533" y="4"/>
                    </a:lnTo>
                    <a:lnTo>
                      <a:pt x="532" y="5"/>
                    </a:lnTo>
                    <a:lnTo>
                      <a:pt x="531" y="6"/>
                    </a:lnTo>
                    <a:lnTo>
                      <a:pt x="531" y="7"/>
                    </a:lnTo>
                    <a:lnTo>
                      <a:pt x="496" y="7"/>
                    </a:lnTo>
                    <a:lnTo>
                      <a:pt x="495" y="6"/>
                    </a:lnTo>
                    <a:lnTo>
                      <a:pt x="494" y="5"/>
                    </a:lnTo>
                    <a:lnTo>
                      <a:pt x="493" y="4"/>
                    </a:lnTo>
                    <a:lnTo>
                      <a:pt x="491" y="4"/>
                    </a:lnTo>
                    <a:lnTo>
                      <a:pt x="489" y="4"/>
                    </a:lnTo>
                    <a:lnTo>
                      <a:pt x="488" y="5"/>
                    </a:lnTo>
                    <a:lnTo>
                      <a:pt x="487" y="6"/>
                    </a:lnTo>
                    <a:lnTo>
                      <a:pt x="487" y="7"/>
                    </a:lnTo>
                    <a:lnTo>
                      <a:pt x="382" y="7"/>
                    </a:lnTo>
                    <a:lnTo>
                      <a:pt x="381" y="6"/>
                    </a:lnTo>
                    <a:lnTo>
                      <a:pt x="380" y="5"/>
                    </a:lnTo>
                    <a:lnTo>
                      <a:pt x="379" y="4"/>
                    </a:lnTo>
                    <a:lnTo>
                      <a:pt x="377" y="4"/>
                    </a:lnTo>
                    <a:lnTo>
                      <a:pt x="375" y="4"/>
                    </a:lnTo>
                    <a:lnTo>
                      <a:pt x="374" y="5"/>
                    </a:lnTo>
                    <a:lnTo>
                      <a:pt x="373" y="6"/>
                    </a:lnTo>
                    <a:lnTo>
                      <a:pt x="373" y="7"/>
                    </a:lnTo>
                    <a:lnTo>
                      <a:pt x="371" y="7"/>
                    </a:lnTo>
                    <a:lnTo>
                      <a:pt x="370" y="6"/>
                    </a:lnTo>
                    <a:lnTo>
                      <a:pt x="369" y="5"/>
                    </a:lnTo>
                    <a:lnTo>
                      <a:pt x="368" y="4"/>
                    </a:lnTo>
                    <a:lnTo>
                      <a:pt x="366" y="4"/>
                    </a:lnTo>
                    <a:lnTo>
                      <a:pt x="365" y="4"/>
                    </a:lnTo>
                    <a:lnTo>
                      <a:pt x="363" y="5"/>
                    </a:lnTo>
                    <a:lnTo>
                      <a:pt x="362" y="6"/>
                    </a:lnTo>
                    <a:lnTo>
                      <a:pt x="362" y="7"/>
                    </a:lnTo>
                    <a:lnTo>
                      <a:pt x="254" y="7"/>
                    </a:lnTo>
                    <a:lnTo>
                      <a:pt x="254" y="6"/>
                    </a:lnTo>
                    <a:lnTo>
                      <a:pt x="252" y="5"/>
                    </a:lnTo>
                    <a:lnTo>
                      <a:pt x="251" y="4"/>
                    </a:lnTo>
                    <a:lnTo>
                      <a:pt x="249" y="4"/>
                    </a:lnTo>
                    <a:lnTo>
                      <a:pt x="248" y="4"/>
                    </a:lnTo>
                    <a:lnTo>
                      <a:pt x="246" y="5"/>
                    </a:lnTo>
                    <a:lnTo>
                      <a:pt x="245" y="6"/>
                    </a:lnTo>
                    <a:lnTo>
                      <a:pt x="245" y="7"/>
                    </a:lnTo>
                    <a:lnTo>
                      <a:pt x="244" y="7"/>
                    </a:lnTo>
                    <a:lnTo>
                      <a:pt x="243" y="6"/>
                    </a:lnTo>
                    <a:lnTo>
                      <a:pt x="243" y="4"/>
                    </a:lnTo>
                    <a:lnTo>
                      <a:pt x="241" y="3"/>
                    </a:lnTo>
                    <a:lnTo>
                      <a:pt x="240" y="3"/>
                    </a:lnTo>
                    <a:lnTo>
                      <a:pt x="238" y="2"/>
                    </a:lnTo>
                    <a:lnTo>
                      <a:pt x="236" y="3"/>
                    </a:lnTo>
                    <a:lnTo>
                      <a:pt x="234" y="3"/>
                    </a:lnTo>
                    <a:lnTo>
                      <a:pt x="233" y="4"/>
                    </a:lnTo>
                    <a:lnTo>
                      <a:pt x="232" y="6"/>
                    </a:lnTo>
                    <a:lnTo>
                      <a:pt x="232" y="7"/>
                    </a:lnTo>
                    <a:lnTo>
                      <a:pt x="218" y="7"/>
                    </a:lnTo>
                    <a:lnTo>
                      <a:pt x="218" y="6"/>
                    </a:lnTo>
                    <a:lnTo>
                      <a:pt x="217" y="5"/>
                    </a:lnTo>
                    <a:lnTo>
                      <a:pt x="215" y="4"/>
                    </a:lnTo>
                    <a:lnTo>
                      <a:pt x="214" y="4"/>
                    </a:lnTo>
                    <a:lnTo>
                      <a:pt x="212" y="4"/>
                    </a:lnTo>
                    <a:lnTo>
                      <a:pt x="211" y="5"/>
                    </a:lnTo>
                    <a:lnTo>
                      <a:pt x="209" y="6"/>
                    </a:lnTo>
                    <a:lnTo>
                      <a:pt x="209" y="7"/>
                    </a:lnTo>
                    <a:lnTo>
                      <a:pt x="171" y="7"/>
                    </a:lnTo>
                    <a:lnTo>
                      <a:pt x="171" y="6"/>
                    </a:lnTo>
                    <a:lnTo>
                      <a:pt x="170" y="5"/>
                    </a:lnTo>
                    <a:lnTo>
                      <a:pt x="169" y="4"/>
                    </a:lnTo>
                    <a:lnTo>
                      <a:pt x="167" y="4"/>
                    </a:lnTo>
                    <a:lnTo>
                      <a:pt x="165" y="4"/>
                    </a:lnTo>
                    <a:lnTo>
                      <a:pt x="164" y="5"/>
                    </a:lnTo>
                    <a:lnTo>
                      <a:pt x="163" y="6"/>
                    </a:lnTo>
                    <a:lnTo>
                      <a:pt x="162" y="7"/>
                    </a:lnTo>
                    <a:lnTo>
                      <a:pt x="160" y="7"/>
                    </a:lnTo>
                    <a:lnTo>
                      <a:pt x="159" y="6"/>
                    </a:lnTo>
                    <a:lnTo>
                      <a:pt x="158" y="5"/>
                    </a:lnTo>
                    <a:lnTo>
                      <a:pt x="157" y="4"/>
                    </a:lnTo>
                    <a:lnTo>
                      <a:pt x="155" y="4"/>
                    </a:lnTo>
                    <a:lnTo>
                      <a:pt x="153" y="4"/>
                    </a:lnTo>
                    <a:lnTo>
                      <a:pt x="152" y="5"/>
                    </a:lnTo>
                    <a:lnTo>
                      <a:pt x="151" y="6"/>
                    </a:lnTo>
                    <a:lnTo>
                      <a:pt x="151" y="7"/>
                    </a:lnTo>
                    <a:lnTo>
                      <a:pt x="130" y="7"/>
                    </a:lnTo>
                    <a:lnTo>
                      <a:pt x="130" y="50"/>
                    </a:lnTo>
                    <a:lnTo>
                      <a:pt x="99" y="50"/>
                    </a:lnTo>
                    <a:lnTo>
                      <a:pt x="98" y="49"/>
                    </a:lnTo>
                    <a:lnTo>
                      <a:pt x="97" y="48"/>
                    </a:lnTo>
                    <a:lnTo>
                      <a:pt x="96" y="47"/>
                    </a:lnTo>
                    <a:lnTo>
                      <a:pt x="94" y="47"/>
                    </a:lnTo>
                    <a:lnTo>
                      <a:pt x="93" y="47"/>
                    </a:lnTo>
                    <a:lnTo>
                      <a:pt x="91" y="48"/>
                    </a:lnTo>
                    <a:lnTo>
                      <a:pt x="90" y="49"/>
                    </a:lnTo>
                    <a:lnTo>
                      <a:pt x="90" y="50"/>
                    </a:lnTo>
                    <a:lnTo>
                      <a:pt x="45" y="50"/>
                    </a:lnTo>
                    <a:lnTo>
                      <a:pt x="44" y="49"/>
                    </a:lnTo>
                    <a:lnTo>
                      <a:pt x="43" y="48"/>
                    </a:lnTo>
                    <a:lnTo>
                      <a:pt x="42" y="47"/>
                    </a:lnTo>
                    <a:lnTo>
                      <a:pt x="40" y="47"/>
                    </a:lnTo>
                    <a:lnTo>
                      <a:pt x="38" y="47"/>
                    </a:lnTo>
                    <a:lnTo>
                      <a:pt x="37" y="48"/>
                    </a:lnTo>
                    <a:lnTo>
                      <a:pt x="36" y="49"/>
                    </a:lnTo>
                    <a:lnTo>
                      <a:pt x="36" y="50"/>
                    </a:lnTo>
                    <a:lnTo>
                      <a:pt x="35" y="50"/>
                    </a:lnTo>
                    <a:lnTo>
                      <a:pt x="34" y="49"/>
                    </a:lnTo>
                    <a:lnTo>
                      <a:pt x="33" y="48"/>
                    </a:lnTo>
                    <a:lnTo>
                      <a:pt x="32" y="47"/>
                    </a:lnTo>
                    <a:lnTo>
                      <a:pt x="30" y="47"/>
                    </a:lnTo>
                    <a:lnTo>
                      <a:pt x="28" y="47"/>
                    </a:lnTo>
                    <a:lnTo>
                      <a:pt x="27" y="48"/>
                    </a:lnTo>
                    <a:lnTo>
                      <a:pt x="26" y="49"/>
                    </a:lnTo>
                    <a:lnTo>
                      <a:pt x="26" y="50"/>
                    </a:lnTo>
                    <a:lnTo>
                      <a:pt x="18" y="50"/>
                    </a:lnTo>
                    <a:lnTo>
                      <a:pt x="17" y="49"/>
                    </a:lnTo>
                    <a:lnTo>
                      <a:pt x="16" y="48"/>
                    </a:lnTo>
                    <a:lnTo>
                      <a:pt x="15" y="47"/>
                    </a:lnTo>
                    <a:lnTo>
                      <a:pt x="13" y="47"/>
                    </a:lnTo>
                    <a:lnTo>
                      <a:pt x="11" y="47"/>
                    </a:lnTo>
                    <a:lnTo>
                      <a:pt x="10" y="48"/>
                    </a:lnTo>
                    <a:lnTo>
                      <a:pt x="9" y="49"/>
                    </a:lnTo>
                    <a:lnTo>
                      <a:pt x="9" y="50"/>
                    </a:lnTo>
                    <a:lnTo>
                      <a:pt x="0" y="5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6341040" y="3606840"/>
                <a:ext cx="13680" cy="1188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25" name=""/>
              <p:cNvSpPr/>
              <p:nvPr/>
            </p:nvSpPr>
            <p:spPr>
              <a:xfrm>
                <a:off x="6240600" y="2419560"/>
                <a:ext cx="2131200" cy="1073520"/>
              </a:xfrm>
              <a:custGeom>
                <a:avLst/>
                <a:gdLst/>
                <a:ahLst/>
                <a:rect l="l" t="t" r="r" b="b"/>
                <a:pathLst>
                  <a:path w="2013" h="804">
                    <a:moveTo>
                      <a:pt x="2013" y="0"/>
                    </a:moveTo>
                    <a:lnTo>
                      <a:pt x="2013" y="370"/>
                    </a:lnTo>
                    <a:lnTo>
                      <a:pt x="1926" y="370"/>
                    </a:lnTo>
                    <a:lnTo>
                      <a:pt x="1925" y="369"/>
                    </a:lnTo>
                    <a:lnTo>
                      <a:pt x="1924" y="368"/>
                    </a:lnTo>
                    <a:lnTo>
                      <a:pt x="1923" y="367"/>
                    </a:lnTo>
                    <a:lnTo>
                      <a:pt x="1921" y="367"/>
                    </a:lnTo>
                    <a:lnTo>
                      <a:pt x="1920" y="367"/>
                    </a:lnTo>
                    <a:lnTo>
                      <a:pt x="1918" y="368"/>
                    </a:lnTo>
                    <a:lnTo>
                      <a:pt x="1917" y="369"/>
                    </a:lnTo>
                    <a:lnTo>
                      <a:pt x="1917" y="370"/>
                    </a:lnTo>
                    <a:lnTo>
                      <a:pt x="1855" y="370"/>
                    </a:lnTo>
                    <a:lnTo>
                      <a:pt x="1855" y="369"/>
                    </a:lnTo>
                    <a:lnTo>
                      <a:pt x="1854" y="368"/>
                    </a:lnTo>
                    <a:lnTo>
                      <a:pt x="1853" y="367"/>
                    </a:lnTo>
                    <a:lnTo>
                      <a:pt x="1851" y="367"/>
                    </a:lnTo>
                    <a:lnTo>
                      <a:pt x="1849" y="367"/>
                    </a:lnTo>
                    <a:lnTo>
                      <a:pt x="1848" y="368"/>
                    </a:lnTo>
                    <a:lnTo>
                      <a:pt x="1847" y="369"/>
                    </a:lnTo>
                    <a:lnTo>
                      <a:pt x="1846" y="370"/>
                    </a:lnTo>
                    <a:lnTo>
                      <a:pt x="1841" y="370"/>
                    </a:lnTo>
                    <a:lnTo>
                      <a:pt x="1841" y="369"/>
                    </a:lnTo>
                    <a:lnTo>
                      <a:pt x="1840" y="368"/>
                    </a:lnTo>
                    <a:lnTo>
                      <a:pt x="1838" y="367"/>
                    </a:lnTo>
                    <a:lnTo>
                      <a:pt x="1837" y="367"/>
                    </a:lnTo>
                    <a:lnTo>
                      <a:pt x="1835" y="367"/>
                    </a:lnTo>
                    <a:lnTo>
                      <a:pt x="1834" y="368"/>
                    </a:lnTo>
                    <a:lnTo>
                      <a:pt x="1833" y="369"/>
                    </a:lnTo>
                    <a:lnTo>
                      <a:pt x="1832" y="370"/>
                    </a:lnTo>
                    <a:lnTo>
                      <a:pt x="1817" y="370"/>
                    </a:lnTo>
                    <a:lnTo>
                      <a:pt x="1816" y="369"/>
                    </a:lnTo>
                    <a:lnTo>
                      <a:pt x="1815" y="368"/>
                    </a:lnTo>
                    <a:lnTo>
                      <a:pt x="1814" y="367"/>
                    </a:lnTo>
                    <a:lnTo>
                      <a:pt x="1812" y="367"/>
                    </a:lnTo>
                    <a:lnTo>
                      <a:pt x="1810" y="367"/>
                    </a:lnTo>
                    <a:lnTo>
                      <a:pt x="1809" y="368"/>
                    </a:lnTo>
                    <a:lnTo>
                      <a:pt x="1808" y="369"/>
                    </a:lnTo>
                    <a:lnTo>
                      <a:pt x="1808" y="370"/>
                    </a:lnTo>
                    <a:lnTo>
                      <a:pt x="1789" y="370"/>
                    </a:lnTo>
                    <a:lnTo>
                      <a:pt x="1789" y="369"/>
                    </a:lnTo>
                    <a:lnTo>
                      <a:pt x="1788" y="368"/>
                    </a:lnTo>
                    <a:lnTo>
                      <a:pt x="1787" y="367"/>
                    </a:lnTo>
                    <a:lnTo>
                      <a:pt x="1785" y="367"/>
                    </a:lnTo>
                    <a:lnTo>
                      <a:pt x="1783" y="367"/>
                    </a:lnTo>
                    <a:lnTo>
                      <a:pt x="1782" y="368"/>
                    </a:lnTo>
                    <a:lnTo>
                      <a:pt x="1781" y="369"/>
                    </a:lnTo>
                    <a:lnTo>
                      <a:pt x="1780" y="370"/>
                    </a:lnTo>
                    <a:lnTo>
                      <a:pt x="1729" y="370"/>
                    </a:lnTo>
                    <a:lnTo>
                      <a:pt x="1729" y="610"/>
                    </a:lnTo>
                    <a:lnTo>
                      <a:pt x="1693" y="610"/>
                    </a:lnTo>
                    <a:lnTo>
                      <a:pt x="1693" y="609"/>
                    </a:lnTo>
                    <a:lnTo>
                      <a:pt x="1692" y="608"/>
                    </a:lnTo>
                    <a:lnTo>
                      <a:pt x="1690" y="607"/>
                    </a:lnTo>
                    <a:lnTo>
                      <a:pt x="1689" y="607"/>
                    </a:lnTo>
                    <a:lnTo>
                      <a:pt x="1687" y="607"/>
                    </a:lnTo>
                    <a:lnTo>
                      <a:pt x="1686" y="608"/>
                    </a:lnTo>
                    <a:lnTo>
                      <a:pt x="1685" y="609"/>
                    </a:lnTo>
                    <a:lnTo>
                      <a:pt x="1684" y="610"/>
                    </a:lnTo>
                    <a:lnTo>
                      <a:pt x="1680" y="610"/>
                    </a:lnTo>
                    <a:lnTo>
                      <a:pt x="1679" y="609"/>
                    </a:lnTo>
                    <a:lnTo>
                      <a:pt x="1678" y="608"/>
                    </a:lnTo>
                    <a:lnTo>
                      <a:pt x="1677" y="607"/>
                    </a:lnTo>
                    <a:lnTo>
                      <a:pt x="1675" y="607"/>
                    </a:lnTo>
                    <a:lnTo>
                      <a:pt x="1674" y="607"/>
                    </a:lnTo>
                    <a:lnTo>
                      <a:pt x="1672" y="608"/>
                    </a:lnTo>
                    <a:lnTo>
                      <a:pt x="1671" y="609"/>
                    </a:lnTo>
                    <a:lnTo>
                      <a:pt x="1671" y="610"/>
                    </a:lnTo>
                    <a:lnTo>
                      <a:pt x="1639" y="610"/>
                    </a:lnTo>
                    <a:lnTo>
                      <a:pt x="1639" y="609"/>
                    </a:lnTo>
                    <a:lnTo>
                      <a:pt x="1638" y="608"/>
                    </a:lnTo>
                    <a:lnTo>
                      <a:pt x="1636" y="607"/>
                    </a:lnTo>
                    <a:lnTo>
                      <a:pt x="1635" y="607"/>
                    </a:lnTo>
                    <a:lnTo>
                      <a:pt x="1633" y="607"/>
                    </a:lnTo>
                    <a:lnTo>
                      <a:pt x="1632" y="608"/>
                    </a:lnTo>
                    <a:lnTo>
                      <a:pt x="1631" y="609"/>
                    </a:lnTo>
                    <a:lnTo>
                      <a:pt x="1630" y="610"/>
                    </a:lnTo>
                    <a:lnTo>
                      <a:pt x="1506" y="610"/>
                    </a:lnTo>
                    <a:lnTo>
                      <a:pt x="1506" y="609"/>
                    </a:lnTo>
                    <a:lnTo>
                      <a:pt x="1505" y="608"/>
                    </a:lnTo>
                    <a:lnTo>
                      <a:pt x="1504" y="607"/>
                    </a:lnTo>
                    <a:lnTo>
                      <a:pt x="1502" y="607"/>
                    </a:lnTo>
                    <a:lnTo>
                      <a:pt x="1500" y="607"/>
                    </a:lnTo>
                    <a:lnTo>
                      <a:pt x="1499" y="608"/>
                    </a:lnTo>
                    <a:lnTo>
                      <a:pt x="1498" y="609"/>
                    </a:lnTo>
                    <a:lnTo>
                      <a:pt x="1497" y="610"/>
                    </a:lnTo>
                    <a:lnTo>
                      <a:pt x="1428" y="610"/>
                    </a:lnTo>
                    <a:lnTo>
                      <a:pt x="1428" y="609"/>
                    </a:lnTo>
                    <a:lnTo>
                      <a:pt x="1427" y="608"/>
                    </a:lnTo>
                    <a:lnTo>
                      <a:pt x="1426" y="607"/>
                    </a:lnTo>
                    <a:lnTo>
                      <a:pt x="1424" y="607"/>
                    </a:lnTo>
                    <a:lnTo>
                      <a:pt x="1422" y="607"/>
                    </a:lnTo>
                    <a:lnTo>
                      <a:pt x="1421" y="608"/>
                    </a:lnTo>
                    <a:lnTo>
                      <a:pt x="1420" y="609"/>
                    </a:lnTo>
                    <a:lnTo>
                      <a:pt x="1419" y="610"/>
                    </a:lnTo>
                    <a:lnTo>
                      <a:pt x="1383" y="610"/>
                    </a:lnTo>
                    <a:lnTo>
                      <a:pt x="1382" y="609"/>
                    </a:lnTo>
                    <a:lnTo>
                      <a:pt x="1381" y="608"/>
                    </a:lnTo>
                    <a:lnTo>
                      <a:pt x="1380" y="607"/>
                    </a:lnTo>
                    <a:lnTo>
                      <a:pt x="1378" y="607"/>
                    </a:lnTo>
                    <a:lnTo>
                      <a:pt x="1376" y="607"/>
                    </a:lnTo>
                    <a:lnTo>
                      <a:pt x="1375" y="608"/>
                    </a:lnTo>
                    <a:lnTo>
                      <a:pt x="1374" y="609"/>
                    </a:lnTo>
                    <a:lnTo>
                      <a:pt x="1374" y="610"/>
                    </a:lnTo>
                    <a:lnTo>
                      <a:pt x="1371" y="610"/>
                    </a:lnTo>
                    <a:lnTo>
                      <a:pt x="1370" y="609"/>
                    </a:lnTo>
                    <a:lnTo>
                      <a:pt x="1369" y="608"/>
                    </a:lnTo>
                    <a:lnTo>
                      <a:pt x="1368" y="607"/>
                    </a:lnTo>
                    <a:lnTo>
                      <a:pt x="1366" y="607"/>
                    </a:lnTo>
                    <a:lnTo>
                      <a:pt x="1365" y="607"/>
                    </a:lnTo>
                    <a:lnTo>
                      <a:pt x="1363" y="608"/>
                    </a:lnTo>
                    <a:lnTo>
                      <a:pt x="1362" y="609"/>
                    </a:lnTo>
                    <a:lnTo>
                      <a:pt x="1362" y="610"/>
                    </a:lnTo>
                    <a:lnTo>
                      <a:pt x="1332" y="610"/>
                    </a:lnTo>
                    <a:lnTo>
                      <a:pt x="1332" y="609"/>
                    </a:lnTo>
                    <a:lnTo>
                      <a:pt x="1331" y="608"/>
                    </a:lnTo>
                    <a:lnTo>
                      <a:pt x="1329" y="607"/>
                    </a:lnTo>
                    <a:lnTo>
                      <a:pt x="1327" y="607"/>
                    </a:lnTo>
                    <a:lnTo>
                      <a:pt x="1326" y="607"/>
                    </a:lnTo>
                    <a:lnTo>
                      <a:pt x="1324" y="608"/>
                    </a:lnTo>
                    <a:lnTo>
                      <a:pt x="1323" y="609"/>
                    </a:lnTo>
                    <a:lnTo>
                      <a:pt x="1323" y="610"/>
                    </a:lnTo>
                    <a:lnTo>
                      <a:pt x="1290" y="610"/>
                    </a:lnTo>
                    <a:lnTo>
                      <a:pt x="1290" y="746"/>
                    </a:lnTo>
                    <a:lnTo>
                      <a:pt x="1254" y="746"/>
                    </a:lnTo>
                    <a:lnTo>
                      <a:pt x="1254" y="744"/>
                    </a:lnTo>
                    <a:lnTo>
                      <a:pt x="1253" y="743"/>
                    </a:lnTo>
                    <a:lnTo>
                      <a:pt x="1251" y="743"/>
                    </a:lnTo>
                    <a:lnTo>
                      <a:pt x="1250" y="742"/>
                    </a:lnTo>
                    <a:lnTo>
                      <a:pt x="1248" y="743"/>
                    </a:lnTo>
                    <a:lnTo>
                      <a:pt x="1247" y="743"/>
                    </a:lnTo>
                    <a:lnTo>
                      <a:pt x="1246" y="744"/>
                    </a:lnTo>
                    <a:lnTo>
                      <a:pt x="1245" y="746"/>
                    </a:lnTo>
                    <a:lnTo>
                      <a:pt x="1241" y="746"/>
                    </a:lnTo>
                    <a:lnTo>
                      <a:pt x="1240" y="744"/>
                    </a:lnTo>
                    <a:lnTo>
                      <a:pt x="1239" y="743"/>
                    </a:lnTo>
                    <a:lnTo>
                      <a:pt x="1238" y="743"/>
                    </a:lnTo>
                    <a:lnTo>
                      <a:pt x="1236" y="742"/>
                    </a:lnTo>
                    <a:lnTo>
                      <a:pt x="1235" y="743"/>
                    </a:lnTo>
                    <a:lnTo>
                      <a:pt x="1233" y="743"/>
                    </a:lnTo>
                    <a:lnTo>
                      <a:pt x="1232" y="744"/>
                    </a:lnTo>
                    <a:lnTo>
                      <a:pt x="1232" y="746"/>
                    </a:lnTo>
                    <a:lnTo>
                      <a:pt x="1193" y="746"/>
                    </a:lnTo>
                    <a:lnTo>
                      <a:pt x="1193" y="744"/>
                    </a:lnTo>
                    <a:lnTo>
                      <a:pt x="1192" y="743"/>
                    </a:lnTo>
                    <a:lnTo>
                      <a:pt x="1190" y="743"/>
                    </a:lnTo>
                    <a:lnTo>
                      <a:pt x="1188" y="742"/>
                    </a:lnTo>
                    <a:lnTo>
                      <a:pt x="1187" y="743"/>
                    </a:lnTo>
                    <a:lnTo>
                      <a:pt x="1185" y="743"/>
                    </a:lnTo>
                    <a:lnTo>
                      <a:pt x="1184" y="744"/>
                    </a:lnTo>
                    <a:lnTo>
                      <a:pt x="1184" y="746"/>
                    </a:lnTo>
                    <a:lnTo>
                      <a:pt x="1177" y="746"/>
                    </a:lnTo>
                    <a:lnTo>
                      <a:pt x="1176" y="744"/>
                    </a:lnTo>
                    <a:lnTo>
                      <a:pt x="1175" y="743"/>
                    </a:lnTo>
                    <a:lnTo>
                      <a:pt x="1174" y="743"/>
                    </a:lnTo>
                    <a:lnTo>
                      <a:pt x="1172" y="742"/>
                    </a:lnTo>
                    <a:lnTo>
                      <a:pt x="1170" y="743"/>
                    </a:lnTo>
                    <a:lnTo>
                      <a:pt x="1169" y="743"/>
                    </a:lnTo>
                    <a:lnTo>
                      <a:pt x="1168" y="744"/>
                    </a:lnTo>
                    <a:lnTo>
                      <a:pt x="1168" y="746"/>
                    </a:lnTo>
                    <a:lnTo>
                      <a:pt x="1161" y="746"/>
                    </a:lnTo>
                    <a:lnTo>
                      <a:pt x="1160" y="744"/>
                    </a:lnTo>
                    <a:lnTo>
                      <a:pt x="1159" y="743"/>
                    </a:lnTo>
                    <a:lnTo>
                      <a:pt x="1158" y="743"/>
                    </a:lnTo>
                    <a:lnTo>
                      <a:pt x="1156" y="742"/>
                    </a:lnTo>
                    <a:lnTo>
                      <a:pt x="1154" y="743"/>
                    </a:lnTo>
                    <a:lnTo>
                      <a:pt x="1153" y="743"/>
                    </a:lnTo>
                    <a:lnTo>
                      <a:pt x="1152" y="744"/>
                    </a:lnTo>
                    <a:lnTo>
                      <a:pt x="1152" y="746"/>
                    </a:lnTo>
                    <a:lnTo>
                      <a:pt x="1119" y="746"/>
                    </a:lnTo>
                    <a:lnTo>
                      <a:pt x="1119" y="744"/>
                    </a:lnTo>
                    <a:lnTo>
                      <a:pt x="1118" y="743"/>
                    </a:lnTo>
                    <a:lnTo>
                      <a:pt x="1116" y="743"/>
                    </a:lnTo>
                    <a:lnTo>
                      <a:pt x="1115" y="742"/>
                    </a:lnTo>
                    <a:lnTo>
                      <a:pt x="1113" y="743"/>
                    </a:lnTo>
                    <a:lnTo>
                      <a:pt x="1112" y="743"/>
                    </a:lnTo>
                    <a:lnTo>
                      <a:pt x="1110" y="744"/>
                    </a:lnTo>
                    <a:lnTo>
                      <a:pt x="1110" y="746"/>
                    </a:lnTo>
                    <a:lnTo>
                      <a:pt x="1031" y="746"/>
                    </a:lnTo>
                    <a:lnTo>
                      <a:pt x="1031" y="744"/>
                    </a:lnTo>
                    <a:lnTo>
                      <a:pt x="1030" y="743"/>
                    </a:lnTo>
                    <a:lnTo>
                      <a:pt x="1028" y="743"/>
                    </a:lnTo>
                    <a:lnTo>
                      <a:pt x="1027" y="742"/>
                    </a:lnTo>
                    <a:lnTo>
                      <a:pt x="1025" y="743"/>
                    </a:lnTo>
                    <a:lnTo>
                      <a:pt x="1024" y="743"/>
                    </a:lnTo>
                    <a:lnTo>
                      <a:pt x="1023" y="744"/>
                    </a:lnTo>
                    <a:lnTo>
                      <a:pt x="1022" y="746"/>
                    </a:lnTo>
                    <a:lnTo>
                      <a:pt x="943" y="746"/>
                    </a:lnTo>
                    <a:lnTo>
                      <a:pt x="943" y="744"/>
                    </a:lnTo>
                    <a:lnTo>
                      <a:pt x="942" y="743"/>
                    </a:lnTo>
                    <a:lnTo>
                      <a:pt x="941" y="743"/>
                    </a:lnTo>
                    <a:lnTo>
                      <a:pt x="939" y="742"/>
                    </a:lnTo>
                    <a:lnTo>
                      <a:pt x="937" y="743"/>
                    </a:lnTo>
                    <a:lnTo>
                      <a:pt x="936" y="743"/>
                    </a:lnTo>
                    <a:lnTo>
                      <a:pt x="935" y="744"/>
                    </a:lnTo>
                    <a:lnTo>
                      <a:pt x="934" y="746"/>
                    </a:lnTo>
                    <a:lnTo>
                      <a:pt x="913" y="746"/>
                    </a:lnTo>
                    <a:lnTo>
                      <a:pt x="913" y="744"/>
                    </a:lnTo>
                    <a:lnTo>
                      <a:pt x="912" y="743"/>
                    </a:lnTo>
                    <a:lnTo>
                      <a:pt x="910" y="743"/>
                    </a:lnTo>
                    <a:lnTo>
                      <a:pt x="909" y="742"/>
                    </a:lnTo>
                    <a:lnTo>
                      <a:pt x="907" y="743"/>
                    </a:lnTo>
                    <a:lnTo>
                      <a:pt x="905" y="743"/>
                    </a:lnTo>
                    <a:lnTo>
                      <a:pt x="905" y="744"/>
                    </a:lnTo>
                    <a:lnTo>
                      <a:pt x="904" y="746"/>
                    </a:lnTo>
                    <a:lnTo>
                      <a:pt x="901" y="746"/>
                    </a:lnTo>
                    <a:lnTo>
                      <a:pt x="900" y="744"/>
                    </a:lnTo>
                    <a:lnTo>
                      <a:pt x="900" y="742"/>
                    </a:lnTo>
                    <a:lnTo>
                      <a:pt x="898" y="741"/>
                    </a:lnTo>
                    <a:lnTo>
                      <a:pt x="896" y="740"/>
                    </a:lnTo>
                    <a:lnTo>
                      <a:pt x="894" y="739"/>
                    </a:lnTo>
                    <a:lnTo>
                      <a:pt x="891" y="739"/>
                    </a:lnTo>
                    <a:lnTo>
                      <a:pt x="889" y="740"/>
                    </a:lnTo>
                    <a:lnTo>
                      <a:pt x="887" y="741"/>
                    </a:lnTo>
                    <a:lnTo>
                      <a:pt x="885" y="742"/>
                    </a:lnTo>
                    <a:lnTo>
                      <a:pt x="884" y="744"/>
                    </a:lnTo>
                    <a:lnTo>
                      <a:pt x="884" y="746"/>
                    </a:lnTo>
                    <a:lnTo>
                      <a:pt x="875" y="746"/>
                    </a:lnTo>
                    <a:lnTo>
                      <a:pt x="875" y="744"/>
                    </a:lnTo>
                    <a:lnTo>
                      <a:pt x="874" y="743"/>
                    </a:lnTo>
                    <a:lnTo>
                      <a:pt x="872" y="743"/>
                    </a:lnTo>
                    <a:lnTo>
                      <a:pt x="871" y="742"/>
                    </a:lnTo>
                    <a:lnTo>
                      <a:pt x="869" y="743"/>
                    </a:lnTo>
                    <a:lnTo>
                      <a:pt x="867" y="743"/>
                    </a:lnTo>
                    <a:lnTo>
                      <a:pt x="866" y="744"/>
                    </a:lnTo>
                    <a:lnTo>
                      <a:pt x="866" y="746"/>
                    </a:lnTo>
                    <a:lnTo>
                      <a:pt x="823" y="746"/>
                    </a:lnTo>
                    <a:lnTo>
                      <a:pt x="823" y="744"/>
                    </a:lnTo>
                    <a:lnTo>
                      <a:pt x="822" y="743"/>
                    </a:lnTo>
                    <a:lnTo>
                      <a:pt x="820" y="743"/>
                    </a:lnTo>
                    <a:lnTo>
                      <a:pt x="819" y="742"/>
                    </a:lnTo>
                    <a:lnTo>
                      <a:pt x="817" y="743"/>
                    </a:lnTo>
                    <a:lnTo>
                      <a:pt x="815" y="743"/>
                    </a:lnTo>
                    <a:lnTo>
                      <a:pt x="815" y="744"/>
                    </a:lnTo>
                    <a:lnTo>
                      <a:pt x="814" y="746"/>
                    </a:lnTo>
                    <a:lnTo>
                      <a:pt x="788" y="746"/>
                    </a:lnTo>
                    <a:lnTo>
                      <a:pt x="788" y="744"/>
                    </a:lnTo>
                    <a:lnTo>
                      <a:pt x="787" y="743"/>
                    </a:lnTo>
                    <a:lnTo>
                      <a:pt x="785" y="743"/>
                    </a:lnTo>
                    <a:lnTo>
                      <a:pt x="784" y="742"/>
                    </a:lnTo>
                    <a:lnTo>
                      <a:pt x="782" y="743"/>
                    </a:lnTo>
                    <a:lnTo>
                      <a:pt x="780" y="743"/>
                    </a:lnTo>
                    <a:lnTo>
                      <a:pt x="780" y="744"/>
                    </a:lnTo>
                    <a:lnTo>
                      <a:pt x="779" y="746"/>
                    </a:lnTo>
                    <a:lnTo>
                      <a:pt x="775" y="746"/>
                    </a:lnTo>
                    <a:lnTo>
                      <a:pt x="774" y="744"/>
                    </a:lnTo>
                    <a:lnTo>
                      <a:pt x="773" y="743"/>
                    </a:lnTo>
                    <a:lnTo>
                      <a:pt x="772" y="743"/>
                    </a:lnTo>
                    <a:lnTo>
                      <a:pt x="770" y="742"/>
                    </a:lnTo>
                    <a:lnTo>
                      <a:pt x="768" y="743"/>
                    </a:lnTo>
                    <a:lnTo>
                      <a:pt x="767" y="743"/>
                    </a:lnTo>
                    <a:lnTo>
                      <a:pt x="766" y="744"/>
                    </a:lnTo>
                    <a:lnTo>
                      <a:pt x="766" y="746"/>
                    </a:lnTo>
                    <a:lnTo>
                      <a:pt x="713" y="746"/>
                    </a:lnTo>
                    <a:lnTo>
                      <a:pt x="712" y="744"/>
                    </a:lnTo>
                    <a:lnTo>
                      <a:pt x="711" y="743"/>
                    </a:lnTo>
                    <a:lnTo>
                      <a:pt x="710" y="743"/>
                    </a:lnTo>
                    <a:lnTo>
                      <a:pt x="708" y="742"/>
                    </a:lnTo>
                    <a:lnTo>
                      <a:pt x="706" y="743"/>
                    </a:lnTo>
                    <a:lnTo>
                      <a:pt x="705" y="743"/>
                    </a:lnTo>
                    <a:lnTo>
                      <a:pt x="704" y="744"/>
                    </a:lnTo>
                    <a:lnTo>
                      <a:pt x="704" y="746"/>
                    </a:lnTo>
                    <a:lnTo>
                      <a:pt x="675" y="746"/>
                    </a:lnTo>
                    <a:lnTo>
                      <a:pt x="675" y="744"/>
                    </a:lnTo>
                    <a:lnTo>
                      <a:pt x="674" y="742"/>
                    </a:lnTo>
                    <a:lnTo>
                      <a:pt x="672" y="741"/>
                    </a:lnTo>
                    <a:lnTo>
                      <a:pt x="670" y="740"/>
                    </a:lnTo>
                    <a:lnTo>
                      <a:pt x="668" y="739"/>
                    </a:lnTo>
                    <a:lnTo>
                      <a:pt x="665" y="739"/>
                    </a:lnTo>
                    <a:lnTo>
                      <a:pt x="663" y="740"/>
                    </a:lnTo>
                    <a:lnTo>
                      <a:pt x="661" y="741"/>
                    </a:lnTo>
                    <a:lnTo>
                      <a:pt x="659" y="742"/>
                    </a:lnTo>
                    <a:lnTo>
                      <a:pt x="658" y="744"/>
                    </a:lnTo>
                    <a:lnTo>
                      <a:pt x="658" y="746"/>
                    </a:lnTo>
                    <a:lnTo>
                      <a:pt x="634" y="746"/>
                    </a:lnTo>
                    <a:lnTo>
                      <a:pt x="634" y="744"/>
                    </a:lnTo>
                    <a:lnTo>
                      <a:pt x="633" y="743"/>
                    </a:lnTo>
                    <a:lnTo>
                      <a:pt x="632" y="743"/>
                    </a:lnTo>
                    <a:lnTo>
                      <a:pt x="630" y="742"/>
                    </a:lnTo>
                    <a:lnTo>
                      <a:pt x="628" y="743"/>
                    </a:lnTo>
                    <a:lnTo>
                      <a:pt x="627" y="743"/>
                    </a:lnTo>
                    <a:lnTo>
                      <a:pt x="626" y="744"/>
                    </a:lnTo>
                    <a:lnTo>
                      <a:pt x="626" y="746"/>
                    </a:lnTo>
                    <a:lnTo>
                      <a:pt x="571" y="746"/>
                    </a:lnTo>
                    <a:lnTo>
                      <a:pt x="571" y="744"/>
                    </a:lnTo>
                    <a:lnTo>
                      <a:pt x="570" y="743"/>
                    </a:lnTo>
                    <a:lnTo>
                      <a:pt x="568" y="743"/>
                    </a:lnTo>
                    <a:lnTo>
                      <a:pt x="567" y="742"/>
                    </a:lnTo>
                    <a:lnTo>
                      <a:pt x="565" y="743"/>
                    </a:lnTo>
                    <a:lnTo>
                      <a:pt x="564" y="743"/>
                    </a:lnTo>
                    <a:lnTo>
                      <a:pt x="563" y="744"/>
                    </a:lnTo>
                    <a:lnTo>
                      <a:pt x="562" y="746"/>
                    </a:lnTo>
                    <a:lnTo>
                      <a:pt x="466" y="746"/>
                    </a:lnTo>
                    <a:lnTo>
                      <a:pt x="465" y="744"/>
                    </a:lnTo>
                    <a:lnTo>
                      <a:pt x="464" y="743"/>
                    </a:lnTo>
                    <a:lnTo>
                      <a:pt x="463" y="743"/>
                    </a:lnTo>
                    <a:lnTo>
                      <a:pt x="461" y="742"/>
                    </a:lnTo>
                    <a:lnTo>
                      <a:pt x="460" y="743"/>
                    </a:lnTo>
                    <a:lnTo>
                      <a:pt x="458" y="743"/>
                    </a:lnTo>
                    <a:lnTo>
                      <a:pt x="457" y="744"/>
                    </a:lnTo>
                    <a:lnTo>
                      <a:pt x="457" y="746"/>
                    </a:lnTo>
                    <a:lnTo>
                      <a:pt x="410" y="746"/>
                    </a:lnTo>
                    <a:lnTo>
                      <a:pt x="410" y="744"/>
                    </a:lnTo>
                    <a:lnTo>
                      <a:pt x="409" y="743"/>
                    </a:lnTo>
                    <a:lnTo>
                      <a:pt x="407" y="743"/>
                    </a:lnTo>
                    <a:lnTo>
                      <a:pt x="405" y="742"/>
                    </a:lnTo>
                    <a:lnTo>
                      <a:pt x="404" y="743"/>
                    </a:lnTo>
                    <a:lnTo>
                      <a:pt x="402" y="743"/>
                    </a:lnTo>
                    <a:lnTo>
                      <a:pt x="401" y="744"/>
                    </a:lnTo>
                    <a:lnTo>
                      <a:pt x="401" y="746"/>
                    </a:lnTo>
                    <a:lnTo>
                      <a:pt x="376" y="746"/>
                    </a:lnTo>
                    <a:lnTo>
                      <a:pt x="376" y="744"/>
                    </a:lnTo>
                    <a:lnTo>
                      <a:pt x="375" y="743"/>
                    </a:lnTo>
                    <a:lnTo>
                      <a:pt x="373" y="743"/>
                    </a:lnTo>
                    <a:lnTo>
                      <a:pt x="372" y="742"/>
                    </a:lnTo>
                    <a:lnTo>
                      <a:pt x="370" y="743"/>
                    </a:lnTo>
                    <a:lnTo>
                      <a:pt x="369" y="743"/>
                    </a:lnTo>
                    <a:lnTo>
                      <a:pt x="367" y="744"/>
                    </a:lnTo>
                    <a:lnTo>
                      <a:pt x="367" y="746"/>
                    </a:lnTo>
                    <a:lnTo>
                      <a:pt x="366" y="746"/>
                    </a:lnTo>
                    <a:lnTo>
                      <a:pt x="366" y="744"/>
                    </a:lnTo>
                    <a:lnTo>
                      <a:pt x="365" y="743"/>
                    </a:lnTo>
                    <a:lnTo>
                      <a:pt x="363" y="743"/>
                    </a:lnTo>
                    <a:lnTo>
                      <a:pt x="362" y="742"/>
                    </a:lnTo>
                    <a:lnTo>
                      <a:pt x="360" y="743"/>
                    </a:lnTo>
                    <a:lnTo>
                      <a:pt x="358" y="743"/>
                    </a:lnTo>
                    <a:lnTo>
                      <a:pt x="357" y="744"/>
                    </a:lnTo>
                    <a:lnTo>
                      <a:pt x="357" y="746"/>
                    </a:lnTo>
                    <a:lnTo>
                      <a:pt x="349" y="746"/>
                    </a:lnTo>
                    <a:lnTo>
                      <a:pt x="349" y="744"/>
                    </a:lnTo>
                    <a:lnTo>
                      <a:pt x="347" y="743"/>
                    </a:lnTo>
                    <a:lnTo>
                      <a:pt x="346" y="743"/>
                    </a:lnTo>
                    <a:lnTo>
                      <a:pt x="344" y="742"/>
                    </a:lnTo>
                    <a:lnTo>
                      <a:pt x="343" y="743"/>
                    </a:lnTo>
                    <a:lnTo>
                      <a:pt x="341" y="743"/>
                    </a:lnTo>
                    <a:lnTo>
                      <a:pt x="340" y="744"/>
                    </a:lnTo>
                    <a:lnTo>
                      <a:pt x="340" y="746"/>
                    </a:lnTo>
                    <a:lnTo>
                      <a:pt x="339" y="746"/>
                    </a:lnTo>
                    <a:lnTo>
                      <a:pt x="338" y="744"/>
                    </a:lnTo>
                    <a:lnTo>
                      <a:pt x="338" y="743"/>
                    </a:lnTo>
                    <a:lnTo>
                      <a:pt x="336" y="742"/>
                    </a:lnTo>
                    <a:lnTo>
                      <a:pt x="335" y="741"/>
                    </a:lnTo>
                    <a:lnTo>
                      <a:pt x="333" y="741"/>
                    </a:lnTo>
                    <a:lnTo>
                      <a:pt x="331" y="741"/>
                    </a:lnTo>
                    <a:lnTo>
                      <a:pt x="329" y="742"/>
                    </a:lnTo>
                    <a:lnTo>
                      <a:pt x="328" y="743"/>
                    </a:lnTo>
                    <a:lnTo>
                      <a:pt x="327" y="744"/>
                    </a:lnTo>
                    <a:lnTo>
                      <a:pt x="327" y="746"/>
                    </a:lnTo>
                    <a:lnTo>
                      <a:pt x="313" y="746"/>
                    </a:lnTo>
                    <a:lnTo>
                      <a:pt x="313" y="744"/>
                    </a:lnTo>
                    <a:lnTo>
                      <a:pt x="312" y="743"/>
                    </a:lnTo>
                    <a:lnTo>
                      <a:pt x="310" y="743"/>
                    </a:lnTo>
                    <a:lnTo>
                      <a:pt x="309" y="742"/>
                    </a:lnTo>
                    <a:lnTo>
                      <a:pt x="307" y="743"/>
                    </a:lnTo>
                    <a:lnTo>
                      <a:pt x="306" y="743"/>
                    </a:lnTo>
                    <a:lnTo>
                      <a:pt x="304" y="744"/>
                    </a:lnTo>
                    <a:lnTo>
                      <a:pt x="304" y="746"/>
                    </a:lnTo>
                    <a:lnTo>
                      <a:pt x="295" y="746"/>
                    </a:lnTo>
                    <a:lnTo>
                      <a:pt x="295" y="744"/>
                    </a:lnTo>
                    <a:lnTo>
                      <a:pt x="294" y="743"/>
                    </a:lnTo>
                    <a:lnTo>
                      <a:pt x="292" y="743"/>
                    </a:lnTo>
                    <a:lnTo>
                      <a:pt x="291" y="742"/>
                    </a:lnTo>
                    <a:lnTo>
                      <a:pt x="289" y="743"/>
                    </a:lnTo>
                    <a:lnTo>
                      <a:pt x="287" y="743"/>
                    </a:lnTo>
                    <a:lnTo>
                      <a:pt x="286" y="744"/>
                    </a:lnTo>
                    <a:lnTo>
                      <a:pt x="286" y="746"/>
                    </a:lnTo>
                    <a:lnTo>
                      <a:pt x="280" y="746"/>
                    </a:lnTo>
                    <a:lnTo>
                      <a:pt x="280" y="744"/>
                    </a:lnTo>
                    <a:lnTo>
                      <a:pt x="279" y="743"/>
                    </a:lnTo>
                    <a:lnTo>
                      <a:pt x="277" y="743"/>
                    </a:lnTo>
                    <a:lnTo>
                      <a:pt x="275" y="742"/>
                    </a:lnTo>
                    <a:lnTo>
                      <a:pt x="274" y="743"/>
                    </a:lnTo>
                    <a:lnTo>
                      <a:pt x="272" y="743"/>
                    </a:lnTo>
                    <a:lnTo>
                      <a:pt x="271" y="744"/>
                    </a:lnTo>
                    <a:lnTo>
                      <a:pt x="271" y="746"/>
                    </a:lnTo>
                    <a:lnTo>
                      <a:pt x="266" y="746"/>
                    </a:lnTo>
                    <a:lnTo>
                      <a:pt x="266" y="744"/>
                    </a:lnTo>
                    <a:lnTo>
                      <a:pt x="265" y="743"/>
                    </a:lnTo>
                    <a:lnTo>
                      <a:pt x="264" y="743"/>
                    </a:lnTo>
                    <a:lnTo>
                      <a:pt x="262" y="742"/>
                    </a:lnTo>
                    <a:lnTo>
                      <a:pt x="260" y="743"/>
                    </a:lnTo>
                    <a:lnTo>
                      <a:pt x="259" y="743"/>
                    </a:lnTo>
                    <a:lnTo>
                      <a:pt x="258" y="744"/>
                    </a:lnTo>
                    <a:lnTo>
                      <a:pt x="257" y="746"/>
                    </a:lnTo>
                    <a:lnTo>
                      <a:pt x="255" y="746"/>
                    </a:lnTo>
                    <a:lnTo>
                      <a:pt x="254" y="744"/>
                    </a:lnTo>
                    <a:lnTo>
                      <a:pt x="253" y="743"/>
                    </a:lnTo>
                    <a:lnTo>
                      <a:pt x="252" y="743"/>
                    </a:lnTo>
                    <a:lnTo>
                      <a:pt x="250" y="742"/>
                    </a:lnTo>
                    <a:lnTo>
                      <a:pt x="248" y="743"/>
                    </a:lnTo>
                    <a:lnTo>
                      <a:pt x="247" y="743"/>
                    </a:lnTo>
                    <a:lnTo>
                      <a:pt x="246" y="744"/>
                    </a:lnTo>
                    <a:lnTo>
                      <a:pt x="246" y="746"/>
                    </a:lnTo>
                    <a:lnTo>
                      <a:pt x="235" y="746"/>
                    </a:lnTo>
                    <a:lnTo>
                      <a:pt x="235" y="744"/>
                    </a:lnTo>
                    <a:lnTo>
                      <a:pt x="234" y="743"/>
                    </a:lnTo>
                    <a:lnTo>
                      <a:pt x="232" y="743"/>
                    </a:lnTo>
                    <a:lnTo>
                      <a:pt x="231" y="742"/>
                    </a:lnTo>
                    <a:lnTo>
                      <a:pt x="229" y="743"/>
                    </a:lnTo>
                    <a:lnTo>
                      <a:pt x="228" y="743"/>
                    </a:lnTo>
                    <a:lnTo>
                      <a:pt x="227" y="744"/>
                    </a:lnTo>
                    <a:lnTo>
                      <a:pt x="226" y="746"/>
                    </a:lnTo>
                    <a:lnTo>
                      <a:pt x="194" y="746"/>
                    </a:lnTo>
                    <a:lnTo>
                      <a:pt x="193" y="744"/>
                    </a:lnTo>
                    <a:lnTo>
                      <a:pt x="192" y="743"/>
                    </a:lnTo>
                    <a:lnTo>
                      <a:pt x="191" y="743"/>
                    </a:lnTo>
                    <a:lnTo>
                      <a:pt x="189" y="742"/>
                    </a:lnTo>
                    <a:lnTo>
                      <a:pt x="188" y="743"/>
                    </a:lnTo>
                    <a:lnTo>
                      <a:pt x="186" y="743"/>
                    </a:lnTo>
                    <a:lnTo>
                      <a:pt x="185" y="744"/>
                    </a:lnTo>
                    <a:lnTo>
                      <a:pt x="185" y="746"/>
                    </a:lnTo>
                    <a:lnTo>
                      <a:pt x="170" y="746"/>
                    </a:lnTo>
                    <a:lnTo>
                      <a:pt x="170" y="744"/>
                    </a:lnTo>
                    <a:lnTo>
                      <a:pt x="169" y="743"/>
                    </a:lnTo>
                    <a:lnTo>
                      <a:pt x="167" y="743"/>
                    </a:lnTo>
                    <a:lnTo>
                      <a:pt x="166" y="742"/>
                    </a:lnTo>
                    <a:lnTo>
                      <a:pt x="164" y="743"/>
                    </a:lnTo>
                    <a:lnTo>
                      <a:pt x="162" y="743"/>
                    </a:lnTo>
                    <a:lnTo>
                      <a:pt x="162" y="744"/>
                    </a:lnTo>
                    <a:lnTo>
                      <a:pt x="161" y="746"/>
                    </a:lnTo>
                    <a:lnTo>
                      <a:pt x="130" y="746"/>
                    </a:lnTo>
                    <a:lnTo>
                      <a:pt x="129" y="744"/>
                    </a:lnTo>
                    <a:lnTo>
                      <a:pt x="128" y="743"/>
                    </a:lnTo>
                    <a:lnTo>
                      <a:pt x="127" y="743"/>
                    </a:lnTo>
                    <a:lnTo>
                      <a:pt x="125" y="742"/>
                    </a:lnTo>
                    <a:lnTo>
                      <a:pt x="123" y="743"/>
                    </a:lnTo>
                    <a:lnTo>
                      <a:pt x="122" y="743"/>
                    </a:lnTo>
                    <a:lnTo>
                      <a:pt x="121" y="744"/>
                    </a:lnTo>
                    <a:lnTo>
                      <a:pt x="121" y="746"/>
                    </a:lnTo>
                    <a:lnTo>
                      <a:pt x="113" y="746"/>
                    </a:lnTo>
                    <a:lnTo>
                      <a:pt x="112" y="744"/>
                    </a:lnTo>
                    <a:lnTo>
                      <a:pt x="112" y="742"/>
                    </a:lnTo>
                    <a:lnTo>
                      <a:pt x="110" y="741"/>
                    </a:lnTo>
                    <a:lnTo>
                      <a:pt x="108" y="740"/>
                    </a:lnTo>
                    <a:lnTo>
                      <a:pt x="106" y="740"/>
                    </a:lnTo>
                    <a:lnTo>
                      <a:pt x="104" y="740"/>
                    </a:lnTo>
                    <a:lnTo>
                      <a:pt x="102" y="740"/>
                    </a:lnTo>
                    <a:lnTo>
                      <a:pt x="100" y="741"/>
                    </a:lnTo>
                    <a:lnTo>
                      <a:pt x="98" y="742"/>
                    </a:lnTo>
                    <a:lnTo>
                      <a:pt x="97" y="744"/>
                    </a:lnTo>
                    <a:lnTo>
                      <a:pt x="97" y="746"/>
                    </a:lnTo>
                    <a:lnTo>
                      <a:pt x="0" y="746"/>
                    </a:lnTo>
                    <a:lnTo>
                      <a:pt x="0" y="80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6234120" y="3492000"/>
                <a:ext cx="12600" cy="14400"/>
              </a:xfrm>
              <a:custGeom>
                <a:avLst/>
                <a:gdLst/>
                <a:ahLst/>
                <a:rect l="l" t="t" r="r" b="b"/>
                <a:pathLst>
                  <a:path w="12" h="11">
                    <a:moveTo>
                      <a:pt x="12" y="1"/>
                    </a:moveTo>
                    <a:lnTo>
                      <a:pt x="6" y="11"/>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27" name=""/>
              <p:cNvSpPr/>
              <p:nvPr/>
            </p:nvSpPr>
            <p:spPr>
              <a:xfrm>
                <a:off x="6292440" y="3631320"/>
                <a:ext cx="1378080" cy="373680"/>
              </a:xfrm>
              <a:custGeom>
                <a:avLst/>
                <a:gdLst/>
                <a:ahLst/>
                <a:rect l="l" t="t" r="r" b="b"/>
                <a:pathLst>
                  <a:path w="1302" h="280">
                    <a:moveTo>
                      <a:pt x="1302" y="280"/>
                    </a:moveTo>
                    <a:lnTo>
                      <a:pt x="1302" y="238"/>
                    </a:lnTo>
                    <a:lnTo>
                      <a:pt x="1259" y="238"/>
                    </a:lnTo>
                    <a:lnTo>
                      <a:pt x="1259" y="236"/>
                    </a:lnTo>
                    <a:lnTo>
                      <a:pt x="1258" y="235"/>
                    </a:lnTo>
                    <a:lnTo>
                      <a:pt x="1257" y="234"/>
                    </a:lnTo>
                    <a:lnTo>
                      <a:pt x="1255" y="234"/>
                    </a:lnTo>
                    <a:lnTo>
                      <a:pt x="1253" y="234"/>
                    </a:lnTo>
                    <a:lnTo>
                      <a:pt x="1252" y="235"/>
                    </a:lnTo>
                    <a:lnTo>
                      <a:pt x="1251" y="236"/>
                    </a:lnTo>
                    <a:lnTo>
                      <a:pt x="1250" y="238"/>
                    </a:lnTo>
                    <a:lnTo>
                      <a:pt x="1219" y="238"/>
                    </a:lnTo>
                    <a:lnTo>
                      <a:pt x="1218" y="236"/>
                    </a:lnTo>
                    <a:lnTo>
                      <a:pt x="1217" y="235"/>
                    </a:lnTo>
                    <a:lnTo>
                      <a:pt x="1216" y="234"/>
                    </a:lnTo>
                    <a:lnTo>
                      <a:pt x="1214" y="234"/>
                    </a:lnTo>
                    <a:lnTo>
                      <a:pt x="1213" y="234"/>
                    </a:lnTo>
                    <a:lnTo>
                      <a:pt x="1211" y="235"/>
                    </a:lnTo>
                    <a:lnTo>
                      <a:pt x="1210" y="236"/>
                    </a:lnTo>
                    <a:lnTo>
                      <a:pt x="1210" y="238"/>
                    </a:lnTo>
                    <a:lnTo>
                      <a:pt x="1192" y="238"/>
                    </a:lnTo>
                    <a:lnTo>
                      <a:pt x="1191" y="236"/>
                    </a:lnTo>
                    <a:lnTo>
                      <a:pt x="1191" y="235"/>
                    </a:lnTo>
                    <a:lnTo>
                      <a:pt x="1189" y="233"/>
                    </a:lnTo>
                    <a:lnTo>
                      <a:pt x="1187" y="233"/>
                    </a:lnTo>
                    <a:lnTo>
                      <a:pt x="1185" y="232"/>
                    </a:lnTo>
                    <a:lnTo>
                      <a:pt x="1183" y="233"/>
                    </a:lnTo>
                    <a:lnTo>
                      <a:pt x="1181" y="233"/>
                    </a:lnTo>
                    <a:lnTo>
                      <a:pt x="1180" y="235"/>
                    </a:lnTo>
                    <a:lnTo>
                      <a:pt x="1179" y="236"/>
                    </a:lnTo>
                    <a:lnTo>
                      <a:pt x="1178" y="238"/>
                    </a:lnTo>
                    <a:lnTo>
                      <a:pt x="1176" y="238"/>
                    </a:lnTo>
                    <a:lnTo>
                      <a:pt x="1176" y="236"/>
                    </a:lnTo>
                    <a:lnTo>
                      <a:pt x="1175" y="235"/>
                    </a:lnTo>
                    <a:lnTo>
                      <a:pt x="1173" y="234"/>
                    </a:lnTo>
                    <a:lnTo>
                      <a:pt x="1172" y="234"/>
                    </a:lnTo>
                    <a:lnTo>
                      <a:pt x="1170" y="234"/>
                    </a:lnTo>
                    <a:lnTo>
                      <a:pt x="1168" y="235"/>
                    </a:lnTo>
                    <a:lnTo>
                      <a:pt x="1167" y="236"/>
                    </a:lnTo>
                    <a:lnTo>
                      <a:pt x="1167" y="238"/>
                    </a:lnTo>
                    <a:lnTo>
                      <a:pt x="1144" y="238"/>
                    </a:lnTo>
                    <a:lnTo>
                      <a:pt x="1144" y="236"/>
                    </a:lnTo>
                    <a:lnTo>
                      <a:pt x="1143" y="234"/>
                    </a:lnTo>
                    <a:lnTo>
                      <a:pt x="1141" y="233"/>
                    </a:lnTo>
                    <a:lnTo>
                      <a:pt x="1139" y="232"/>
                    </a:lnTo>
                    <a:lnTo>
                      <a:pt x="1137" y="232"/>
                    </a:lnTo>
                    <a:lnTo>
                      <a:pt x="1135" y="232"/>
                    </a:lnTo>
                    <a:lnTo>
                      <a:pt x="1133" y="232"/>
                    </a:lnTo>
                    <a:lnTo>
                      <a:pt x="1131" y="233"/>
                    </a:lnTo>
                    <a:lnTo>
                      <a:pt x="1130" y="234"/>
                    </a:lnTo>
                    <a:lnTo>
                      <a:pt x="1129" y="236"/>
                    </a:lnTo>
                    <a:lnTo>
                      <a:pt x="1129" y="238"/>
                    </a:lnTo>
                    <a:lnTo>
                      <a:pt x="1128" y="238"/>
                    </a:lnTo>
                    <a:lnTo>
                      <a:pt x="1127" y="236"/>
                    </a:lnTo>
                    <a:lnTo>
                      <a:pt x="1126" y="235"/>
                    </a:lnTo>
                    <a:lnTo>
                      <a:pt x="1125" y="234"/>
                    </a:lnTo>
                    <a:lnTo>
                      <a:pt x="1123" y="234"/>
                    </a:lnTo>
                    <a:lnTo>
                      <a:pt x="1121" y="234"/>
                    </a:lnTo>
                    <a:lnTo>
                      <a:pt x="1120" y="235"/>
                    </a:lnTo>
                    <a:lnTo>
                      <a:pt x="1119" y="236"/>
                    </a:lnTo>
                    <a:lnTo>
                      <a:pt x="1119" y="238"/>
                    </a:lnTo>
                    <a:lnTo>
                      <a:pt x="1057" y="238"/>
                    </a:lnTo>
                    <a:lnTo>
                      <a:pt x="1056" y="236"/>
                    </a:lnTo>
                    <a:lnTo>
                      <a:pt x="1055" y="235"/>
                    </a:lnTo>
                    <a:lnTo>
                      <a:pt x="1054" y="234"/>
                    </a:lnTo>
                    <a:lnTo>
                      <a:pt x="1052" y="234"/>
                    </a:lnTo>
                    <a:lnTo>
                      <a:pt x="1050" y="234"/>
                    </a:lnTo>
                    <a:lnTo>
                      <a:pt x="1049" y="235"/>
                    </a:lnTo>
                    <a:lnTo>
                      <a:pt x="1048" y="236"/>
                    </a:lnTo>
                    <a:lnTo>
                      <a:pt x="1048" y="238"/>
                    </a:lnTo>
                    <a:lnTo>
                      <a:pt x="883" y="238"/>
                    </a:lnTo>
                    <a:lnTo>
                      <a:pt x="882" y="236"/>
                    </a:lnTo>
                    <a:lnTo>
                      <a:pt x="881" y="235"/>
                    </a:lnTo>
                    <a:lnTo>
                      <a:pt x="880" y="234"/>
                    </a:lnTo>
                    <a:lnTo>
                      <a:pt x="878" y="234"/>
                    </a:lnTo>
                    <a:lnTo>
                      <a:pt x="876" y="234"/>
                    </a:lnTo>
                    <a:lnTo>
                      <a:pt x="875" y="235"/>
                    </a:lnTo>
                    <a:lnTo>
                      <a:pt x="874" y="236"/>
                    </a:lnTo>
                    <a:lnTo>
                      <a:pt x="874" y="238"/>
                    </a:lnTo>
                    <a:lnTo>
                      <a:pt x="864" y="238"/>
                    </a:lnTo>
                    <a:lnTo>
                      <a:pt x="864" y="236"/>
                    </a:lnTo>
                    <a:lnTo>
                      <a:pt x="863" y="235"/>
                    </a:lnTo>
                    <a:lnTo>
                      <a:pt x="861" y="234"/>
                    </a:lnTo>
                    <a:lnTo>
                      <a:pt x="860" y="234"/>
                    </a:lnTo>
                    <a:lnTo>
                      <a:pt x="858" y="234"/>
                    </a:lnTo>
                    <a:lnTo>
                      <a:pt x="856" y="235"/>
                    </a:lnTo>
                    <a:lnTo>
                      <a:pt x="856" y="236"/>
                    </a:lnTo>
                    <a:lnTo>
                      <a:pt x="855" y="238"/>
                    </a:lnTo>
                    <a:lnTo>
                      <a:pt x="852" y="238"/>
                    </a:lnTo>
                    <a:lnTo>
                      <a:pt x="851" y="236"/>
                    </a:lnTo>
                    <a:lnTo>
                      <a:pt x="851" y="234"/>
                    </a:lnTo>
                    <a:lnTo>
                      <a:pt x="849" y="233"/>
                    </a:lnTo>
                    <a:lnTo>
                      <a:pt x="847" y="232"/>
                    </a:lnTo>
                    <a:lnTo>
                      <a:pt x="845" y="231"/>
                    </a:lnTo>
                    <a:lnTo>
                      <a:pt x="842" y="231"/>
                    </a:lnTo>
                    <a:lnTo>
                      <a:pt x="840" y="232"/>
                    </a:lnTo>
                    <a:lnTo>
                      <a:pt x="838" y="233"/>
                    </a:lnTo>
                    <a:lnTo>
                      <a:pt x="836" y="234"/>
                    </a:lnTo>
                    <a:lnTo>
                      <a:pt x="835" y="236"/>
                    </a:lnTo>
                    <a:lnTo>
                      <a:pt x="835" y="238"/>
                    </a:lnTo>
                    <a:lnTo>
                      <a:pt x="826" y="238"/>
                    </a:lnTo>
                    <a:lnTo>
                      <a:pt x="826" y="236"/>
                    </a:lnTo>
                    <a:lnTo>
                      <a:pt x="825" y="235"/>
                    </a:lnTo>
                    <a:lnTo>
                      <a:pt x="823" y="234"/>
                    </a:lnTo>
                    <a:lnTo>
                      <a:pt x="822" y="234"/>
                    </a:lnTo>
                    <a:lnTo>
                      <a:pt x="820" y="234"/>
                    </a:lnTo>
                    <a:lnTo>
                      <a:pt x="818" y="235"/>
                    </a:lnTo>
                    <a:lnTo>
                      <a:pt x="817" y="236"/>
                    </a:lnTo>
                    <a:lnTo>
                      <a:pt x="817" y="238"/>
                    </a:lnTo>
                    <a:lnTo>
                      <a:pt x="812" y="238"/>
                    </a:lnTo>
                    <a:lnTo>
                      <a:pt x="811" y="236"/>
                    </a:lnTo>
                    <a:lnTo>
                      <a:pt x="811" y="235"/>
                    </a:lnTo>
                    <a:lnTo>
                      <a:pt x="809" y="234"/>
                    </a:lnTo>
                    <a:lnTo>
                      <a:pt x="807" y="234"/>
                    </a:lnTo>
                    <a:lnTo>
                      <a:pt x="806" y="234"/>
                    </a:lnTo>
                    <a:lnTo>
                      <a:pt x="804" y="235"/>
                    </a:lnTo>
                    <a:lnTo>
                      <a:pt x="803" y="236"/>
                    </a:lnTo>
                    <a:lnTo>
                      <a:pt x="803" y="238"/>
                    </a:lnTo>
                    <a:lnTo>
                      <a:pt x="790" y="238"/>
                    </a:lnTo>
                    <a:lnTo>
                      <a:pt x="789" y="236"/>
                    </a:lnTo>
                    <a:lnTo>
                      <a:pt x="789" y="235"/>
                    </a:lnTo>
                    <a:lnTo>
                      <a:pt x="787" y="234"/>
                    </a:lnTo>
                    <a:lnTo>
                      <a:pt x="785" y="234"/>
                    </a:lnTo>
                    <a:lnTo>
                      <a:pt x="784" y="234"/>
                    </a:lnTo>
                    <a:lnTo>
                      <a:pt x="782" y="235"/>
                    </a:lnTo>
                    <a:lnTo>
                      <a:pt x="781" y="236"/>
                    </a:lnTo>
                    <a:lnTo>
                      <a:pt x="781" y="238"/>
                    </a:lnTo>
                    <a:lnTo>
                      <a:pt x="759" y="238"/>
                    </a:lnTo>
                    <a:lnTo>
                      <a:pt x="759" y="236"/>
                    </a:lnTo>
                    <a:lnTo>
                      <a:pt x="758" y="235"/>
                    </a:lnTo>
                    <a:lnTo>
                      <a:pt x="757" y="234"/>
                    </a:lnTo>
                    <a:lnTo>
                      <a:pt x="755" y="234"/>
                    </a:lnTo>
                    <a:lnTo>
                      <a:pt x="753" y="234"/>
                    </a:lnTo>
                    <a:lnTo>
                      <a:pt x="752" y="235"/>
                    </a:lnTo>
                    <a:lnTo>
                      <a:pt x="751" y="236"/>
                    </a:lnTo>
                    <a:lnTo>
                      <a:pt x="750" y="238"/>
                    </a:lnTo>
                    <a:lnTo>
                      <a:pt x="739" y="238"/>
                    </a:lnTo>
                    <a:lnTo>
                      <a:pt x="739" y="236"/>
                    </a:lnTo>
                    <a:lnTo>
                      <a:pt x="738" y="235"/>
                    </a:lnTo>
                    <a:lnTo>
                      <a:pt x="736" y="234"/>
                    </a:lnTo>
                    <a:lnTo>
                      <a:pt x="735" y="234"/>
                    </a:lnTo>
                    <a:lnTo>
                      <a:pt x="733" y="234"/>
                    </a:lnTo>
                    <a:lnTo>
                      <a:pt x="731" y="235"/>
                    </a:lnTo>
                    <a:lnTo>
                      <a:pt x="731" y="236"/>
                    </a:lnTo>
                    <a:lnTo>
                      <a:pt x="730" y="238"/>
                    </a:lnTo>
                    <a:lnTo>
                      <a:pt x="692" y="238"/>
                    </a:lnTo>
                    <a:lnTo>
                      <a:pt x="691" y="236"/>
                    </a:lnTo>
                    <a:lnTo>
                      <a:pt x="691" y="235"/>
                    </a:lnTo>
                    <a:lnTo>
                      <a:pt x="689" y="234"/>
                    </a:lnTo>
                    <a:lnTo>
                      <a:pt x="687" y="234"/>
                    </a:lnTo>
                    <a:lnTo>
                      <a:pt x="686" y="234"/>
                    </a:lnTo>
                    <a:lnTo>
                      <a:pt x="684" y="235"/>
                    </a:lnTo>
                    <a:lnTo>
                      <a:pt x="683" y="236"/>
                    </a:lnTo>
                    <a:lnTo>
                      <a:pt x="683" y="238"/>
                    </a:lnTo>
                    <a:lnTo>
                      <a:pt x="677" y="238"/>
                    </a:lnTo>
                    <a:lnTo>
                      <a:pt x="676" y="236"/>
                    </a:lnTo>
                    <a:lnTo>
                      <a:pt x="675" y="235"/>
                    </a:lnTo>
                    <a:lnTo>
                      <a:pt x="674" y="234"/>
                    </a:lnTo>
                    <a:lnTo>
                      <a:pt x="672" y="234"/>
                    </a:lnTo>
                    <a:lnTo>
                      <a:pt x="670" y="234"/>
                    </a:lnTo>
                    <a:lnTo>
                      <a:pt x="669" y="235"/>
                    </a:lnTo>
                    <a:lnTo>
                      <a:pt x="668" y="236"/>
                    </a:lnTo>
                    <a:lnTo>
                      <a:pt x="668" y="238"/>
                    </a:lnTo>
                    <a:lnTo>
                      <a:pt x="664" y="238"/>
                    </a:lnTo>
                    <a:lnTo>
                      <a:pt x="663" y="236"/>
                    </a:lnTo>
                    <a:lnTo>
                      <a:pt x="662" y="235"/>
                    </a:lnTo>
                    <a:lnTo>
                      <a:pt x="661" y="234"/>
                    </a:lnTo>
                    <a:lnTo>
                      <a:pt x="659" y="234"/>
                    </a:lnTo>
                    <a:lnTo>
                      <a:pt x="657" y="234"/>
                    </a:lnTo>
                    <a:lnTo>
                      <a:pt x="656" y="235"/>
                    </a:lnTo>
                    <a:lnTo>
                      <a:pt x="655" y="236"/>
                    </a:lnTo>
                    <a:lnTo>
                      <a:pt x="655" y="238"/>
                    </a:lnTo>
                    <a:lnTo>
                      <a:pt x="626" y="238"/>
                    </a:lnTo>
                    <a:lnTo>
                      <a:pt x="626" y="236"/>
                    </a:lnTo>
                    <a:lnTo>
                      <a:pt x="625" y="234"/>
                    </a:lnTo>
                    <a:lnTo>
                      <a:pt x="623" y="233"/>
                    </a:lnTo>
                    <a:lnTo>
                      <a:pt x="621" y="232"/>
                    </a:lnTo>
                    <a:lnTo>
                      <a:pt x="619" y="231"/>
                    </a:lnTo>
                    <a:lnTo>
                      <a:pt x="616" y="231"/>
                    </a:lnTo>
                    <a:lnTo>
                      <a:pt x="614" y="232"/>
                    </a:lnTo>
                    <a:lnTo>
                      <a:pt x="612" y="233"/>
                    </a:lnTo>
                    <a:lnTo>
                      <a:pt x="610" y="234"/>
                    </a:lnTo>
                    <a:lnTo>
                      <a:pt x="609" y="236"/>
                    </a:lnTo>
                    <a:lnTo>
                      <a:pt x="609" y="238"/>
                    </a:lnTo>
                    <a:lnTo>
                      <a:pt x="585" y="238"/>
                    </a:lnTo>
                    <a:lnTo>
                      <a:pt x="585" y="236"/>
                    </a:lnTo>
                    <a:lnTo>
                      <a:pt x="584" y="235"/>
                    </a:lnTo>
                    <a:lnTo>
                      <a:pt x="583" y="234"/>
                    </a:lnTo>
                    <a:lnTo>
                      <a:pt x="581" y="234"/>
                    </a:lnTo>
                    <a:lnTo>
                      <a:pt x="579" y="234"/>
                    </a:lnTo>
                    <a:lnTo>
                      <a:pt x="578" y="235"/>
                    </a:lnTo>
                    <a:lnTo>
                      <a:pt x="577" y="236"/>
                    </a:lnTo>
                    <a:lnTo>
                      <a:pt x="577" y="238"/>
                    </a:lnTo>
                    <a:lnTo>
                      <a:pt x="570" y="238"/>
                    </a:lnTo>
                    <a:lnTo>
                      <a:pt x="570" y="236"/>
                    </a:lnTo>
                    <a:lnTo>
                      <a:pt x="569" y="235"/>
                    </a:lnTo>
                    <a:lnTo>
                      <a:pt x="568" y="234"/>
                    </a:lnTo>
                    <a:lnTo>
                      <a:pt x="566" y="234"/>
                    </a:lnTo>
                    <a:lnTo>
                      <a:pt x="564" y="234"/>
                    </a:lnTo>
                    <a:lnTo>
                      <a:pt x="563" y="235"/>
                    </a:lnTo>
                    <a:lnTo>
                      <a:pt x="562" y="236"/>
                    </a:lnTo>
                    <a:lnTo>
                      <a:pt x="561" y="238"/>
                    </a:lnTo>
                    <a:lnTo>
                      <a:pt x="542" y="238"/>
                    </a:lnTo>
                    <a:lnTo>
                      <a:pt x="541" y="236"/>
                    </a:lnTo>
                    <a:lnTo>
                      <a:pt x="540" y="235"/>
                    </a:lnTo>
                    <a:lnTo>
                      <a:pt x="539" y="234"/>
                    </a:lnTo>
                    <a:lnTo>
                      <a:pt x="537" y="234"/>
                    </a:lnTo>
                    <a:lnTo>
                      <a:pt x="535" y="234"/>
                    </a:lnTo>
                    <a:lnTo>
                      <a:pt x="534" y="235"/>
                    </a:lnTo>
                    <a:lnTo>
                      <a:pt x="533" y="236"/>
                    </a:lnTo>
                    <a:lnTo>
                      <a:pt x="533" y="238"/>
                    </a:lnTo>
                    <a:lnTo>
                      <a:pt x="290" y="238"/>
                    </a:lnTo>
                    <a:lnTo>
                      <a:pt x="289" y="236"/>
                    </a:lnTo>
                    <a:lnTo>
                      <a:pt x="288" y="235"/>
                    </a:lnTo>
                    <a:lnTo>
                      <a:pt x="287" y="234"/>
                    </a:lnTo>
                    <a:lnTo>
                      <a:pt x="285" y="234"/>
                    </a:lnTo>
                    <a:lnTo>
                      <a:pt x="284" y="234"/>
                    </a:lnTo>
                    <a:lnTo>
                      <a:pt x="282" y="235"/>
                    </a:lnTo>
                    <a:lnTo>
                      <a:pt x="281" y="236"/>
                    </a:lnTo>
                    <a:lnTo>
                      <a:pt x="281" y="238"/>
                    </a:lnTo>
                    <a:lnTo>
                      <a:pt x="269" y="238"/>
                    </a:lnTo>
                    <a:lnTo>
                      <a:pt x="269" y="236"/>
                    </a:lnTo>
                    <a:lnTo>
                      <a:pt x="268" y="235"/>
                    </a:lnTo>
                    <a:lnTo>
                      <a:pt x="266" y="234"/>
                    </a:lnTo>
                    <a:lnTo>
                      <a:pt x="265" y="234"/>
                    </a:lnTo>
                    <a:lnTo>
                      <a:pt x="263" y="234"/>
                    </a:lnTo>
                    <a:lnTo>
                      <a:pt x="262" y="235"/>
                    </a:lnTo>
                    <a:lnTo>
                      <a:pt x="261" y="236"/>
                    </a:lnTo>
                    <a:lnTo>
                      <a:pt x="260" y="238"/>
                    </a:lnTo>
                    <a:lnTo>
                      <a:pt x="217" y="238"/>
                    </a:lnTo>
                    <a:lnTo>
                      <a:pt x="217" y="236"/>
                    </a:lnTo>
                    <a:lnTo>
                      <a:pt x="216" y="235"/>
                    </a:lnTo>
                    <a:lnTo>
                      <a:pt x="215" y="234"/>
                    </a:lnTo>
                    <a:lnTo>
                      <a:pt x="213" y="234"/>
                    </a:lnTo>
                    <a:lnTo>
                      <a:pt x="211" y="234"/>
                    </a:lnTo>
                    <a:lnTo>
                      <a:pt x="210" y="235"/>
                    </a:lnTo>
                    <a:lnTo>
                      <a:pt x="209" y="236"/>
                    </a:lnTo>
                    <a:lnTo>
                      <a:pt x="208" y="238"/>
                    </a:lnTo>
                    <a:lnTo>
                      <a:pt x="206" y="238"/>
                    </a:lnTo>
                    <a:lnTo>
                      <a:pt x="205" y="236"/>
                    </a:lnTo>
                    <a:lnTo>
                      <a:pt x="204" y="235"/>
                    </a:lnTo>
                    <a:lnTo>
                      <a:pt x="203" y="234"/>
                    </a:lnTo>
                    <a:lnTo>
                      <a:pt x="201" y="234"/>
                    </a:lnTo>
                    <a:lnTo>
                      <a:pt x="199" y="234"/>
                    </a:lnTo>
                    <a:lnTo>
                      <a:pt x="198" y="235"/>
                    </a:lnTo>
                    <a:lnTo>
                      <a:pt x="197" y="236"/>
                    </a:lnTo>
                    <a:lnTo>
                      <a:pt x="197" y="238"/>
                    </a:lnTo>
                    <a:lnTo>
                      <a:pt x="145" y="238"/>
                    </a:lnTo>
                    <a:lnTo>
                      <a:pt x="144" y="236"/>
                    </a:lnTo>
                    <a:lnTo>
                      <a:pt x="143" y="235"/>
                    </a:lnTo>
                    <a:lnTo>
                      <a:pt x="142" y="234"/>
                    </a:lnTo>
                    <a:lnTo>
                      <a:pt x="140" y="234"/>
                    </a:lnTo>
                    <a:lnTo>
                      <a:pt x="139" y="234"/>
                    </a:lnTo>
                    <a:lnTo>
                      <a:pt x="137" y="235"/>
                    </a:lnTo>
                    <a:lnTo>
                      <a:pt x="136" y="236"/>
                    </a:lnTo>
                    <a:lnTo>
                      <a:pt x="136" y="238"/>
                    </a:lnTo>
                    <a:lnTo>
                      <a:pt x="116" y="238"/>
                    </a:lnTo>
                    <a:lnTo>
                      <a:pt x="116" y="236"/>
                    </a:lnTo>
                    <a:lnTo>
                      <a:pt x="115" y="235"/>
                    </a:lnTo>
                    <a:lnTo>
                      <a:pt x="113" y="234"/>
                    </a:lnTo>
                    <a:lnTo>
                      <a:pt x="112" y="234"/>
                    </a:lnTo>
                    <a:lnTo>
                      <a:pt x="110" y="234"/>
                    </a:lnTo>
                    <a:lnTo>
                      <a:pt x="108" y="235"/>
                    </a:lnTo>
                    <a:lnTo>
                      <a:pt x="107" y="236"/>
                    </a:lnTo>
                    <a:lnTo>
                      <a:pt x="107" y="238"/>
                    </a:lnTo>
                    <a:lnTo>
                      <a:pt x="91" y="238"/>
                    </a:lnTo>
                    <a:lnTo>
                      <a:pt x="90" y="236"/>
                    </a:lnTo>
                    <a:lnTo>
                      <a:pt x="89" y="235"/>
                    </a:lnTo>
                    <a:lnTo>
                      <a:pt x="88" y="234"/>
                    </a:lnTo>
                    <a:lnTo>
                      <a:pt x="86" y="234"/>
                    </a:lnTo>
                    <a:lnTo>
                      <a:pt x="84" y="234"/>
                    </a:lnTo>
                    <a:lnTo>
                      <a:pt x="83" y="235"/>
                    </a:lnTo>
                    <a:lnTo>
                      <a:pt x="82" y="236"/>
                    </a:lnTo>
                    <a:lnTo>
                      <a:pt x="82" y="238"/>
                    </a:lnTo>
                    <a:lnTo>
                      <a:pt x="75" y="238"/>
                    </a:lnTo>
                    <a:lnTo>
                      <a:pt x="75" y="236"/>
                    </a:lnTo>
                    <a:lnTo>
                      <a:pt x="74" y="235"/>
                    </a:lnTo>
                    <a:lnTo>
                      <a:pt x="73" y="234"/>
                    </a:lnTo>
                    <a:lnTo>
                      <a:pt x="71" y="234"/>
                    </a:lnTo>
                    <a:lnTo>
                      <a:pt x="69" y="234"/>
                    </a:lnTo>
                    <a:lnTo>
                      <a:pt x="68" y="235"/>
                    </a:lnTo>
                    <a:lnTo>
                      <a:pt x="67" y="236"/>
                    </a:lnTo>
                    <a:lnTo>
                      <a:pt x="66" y="238"/>
                    </a:lnTo>
                    <a:lnTo>
                      <a:pt x="64" y="238"/>
                    </a:lnTo>
                    <a:lnTo>
                      <a:pt x="63" y="236"/>
                    </a:lnTo>
                    <a:lnTo>
                      <a:pt x="62" y="235"/>
                    </a:lnTo>
                    <a:lnTo>
                      <a:pt x="61" y="234"/>
                    </a:lnTo>
                    <a:lnTo>
                      <a:pt x="59" y="234"/>
                    </a:lnTo>
                    <a:lnTo>
                      <a:pt x="57" y="234"/>
                    </a:lnTo>
                    <a:lnTo>
                      <a:pt x="56" y="235"/>
                    </a:lnTo>
                    <a:lnTo>
                      <a:pt x="55" y="236"/>
                    </a:lnTo>
                    <a:lnTo>
                      <a:pt x="55" y="238"/>
                    </a:lnTo>
                    <a:lnTo>
                      <a:pt x="51" y="238"/>
                    </a:lnTo>
                    <a:lnTo>
                      <a:pt x="51" y="236"/>
                    </a:lnTo>
                    <a:lnTo>
                      <a:pt x="50" y="235"/>
                    </a:lnTo>
                    <a:lnTo>
                      <a:pt x="48" y="234"/>
                    </a:lnTo>
                    <a:lnTo>
                      <a:pt x="46" y="234"/>
                    </a:lnTo>
                    <a:lnTo>
                      <a:pt x="45" y="234"/>
                    </a:lnTo>
                    <a:lnTo>
                      <a:pt x="43" y="235"/>
                    </a:lnTo>
                    <a:lnTo>
                      <a:pt x="42" y="236"/>
                    </a:lnTo>
                    <a:lnTo>
                      <a:pt x="42" y="238"/>
                    </a:lnTo>
                    <a:lnTo>
                      <a:pt x="0" y="238"/>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7664400" y="400392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29" name=""/>
              <p:cNvSpPr/>
              <p:nvPr/>
            </p:nvSpPr>
            <p:spPr>
              <a:xfrm>
                <a:off x="7423200" y="3764880"/>
                <a:ext cx="785520" cy="166680"/>
              </a:xfrm>
              <a:custGeom>
                <a:avLst/>
                <a:gdLst/>
                <a:ahLst/>
                <a:rect l="l" t="t" r="r" b="b"/>
                <a:pathLst>
                  <a:path w="742" h="125">
                    <a:moveTo>
                      <a:pt x="0" y="113"/>
                    </a:moveTo>
                    <a:lnTo>
                      <a:pt x="0" y="125"/>
                    </a:lnTo>
                    <a:lnTo>
                      <a:pt x="51" y="125"/>
                    </a:lnTo>
                    <a:lnTo>
                      <a:pt x="51" y="123"/>
                    </a:lnTo>
                    <a:lnTo>
                      <a:pt x="52" y="122"/>
                    </a:lnTo>
                    <a:lnTo>
                      <a:pt x="53" y="121"/>
                    </a:lnTo>
                    <a:lnTo>
                      <a:pt x="55" y="121"/>
                    </a:lnTo>
                    <a:lnTo>
                      <a:pt x="57" y="121"/>
                    </a:lnTo>
                    <a:lnTo>
                      <a:pt x="58" y="122"/>
                    </a:lnTo>
                    <a:lnTo>
                      <a:pt x="59" y="123"/>
                    </a:lnTo>
                    <a:lnTo>
                      <a:pt x="60" y="125"/>
                    </a:lnTo>
                    <a:lnTo>
                      <a:pt x="61" y="125"/>
                    </a:lnTo>
                    <a:lnTo>
                      <a:pt x="61" y="123"/>
                    </a:lnTo>
                    <a:lnTo>
                      <a:pt x="62" y="122"/>
                    </a:lnTo>
                    <a:lnTo>
                      <a:pt x="63" y="120"/>
                    </a:lnTo>
                    <a:lnTo>
                      <a:pt x="65" y="119"/>
                    </a:lnTo>
                    <a:lnTo>
                      <a:pt x="67" y="119"/>
                    </a:lnTo>
                    <a:lnTo>
                      <a:pt x="69" y="119"/>
                    </a:lnTo>
                    <a:lnTo>
                      <a:pt x="71" y="119"/>
                    </a:lnTo>
                    <a:lnTo>
                      <a:pt x="73" y="120"/>
                    </a:lnTo>
                    <a:lnTo>
                      <a:pt x="75" y="122"/>
                    </a:lnTo>
                    <a:lnTo>
                      <a:pt x="76" y="123"/>
                    </a:lnTo>
                    <a:lnTo>
                      <a:pt x="76" y="125"/>
                    </a:lnTo>
                    <a:lnTo>
                      <a:pt x="99" y="125"/>
                    </a:lnTo>
                    <a:lnTo>
                      <a:pt x="99" y="123"/>
                    </a:lnTo>
                    <a:lnTo>
                      <a:pt x="100" y="122"/>
                    </a:lnTo>
                    <a:lnTo>
                      <a:pt x="102" y="121"/>
                    </a:lnTo>
                    <a:lnTo>
                      <a:pt x="104" y="121"/>
                    </a:lnTo>
                    <a:lnTo>
                      <a:pt x="105" y="121"/>
                    </a:lnTo>
                    <a:lnTo>
                      <a:pt x="107" y="122"/>
                    </a:lnTo>
                    <a:lnTo>
                      <a:pt x="108" y="123"/>
                    </a:lnTo>
                    <a:lnTo>
                      <a:pt x="108" y="125"/>
                    </a:lnTo>
                    <a:lnTo>
                      <a:pt x="110" y="125"/>
                    </a:lnTo>
                    <a:lnTo>
                      <a:pt x="111" y="123"/>
                    </a:lnTo>
                    <a:lnTo>
                      <a:pt x="112" y="122"/>
                    </a:lnTo>
                    <a:lnTo>
                      <a:pt x="113" y="120"/>
                    </a:lnTo>
                    <a:lnTo>
                      <a:pt x="115" y="120"/>
                    </a:lnTo>
                    <a:lnTo>
                      <a:pt x="117" y="119"/>
                    </a:lnTo>
                    <a:lnTo>
                      <a:pt x="119" y="120"/>
                    </a:lnTo>
                    <a:lnTo>
                      <a:pt x="121" y="120"/>
                    </a:lnTo>
                    <a:lnTo>
                      <a:pt x="123" y="122"/>
                    </a:lnTo>
                    <a:lnTo>
                      <a:pt x="123" y="123"/>
                    </a:lnTo>
                    <a:lnTo>
                      <a:pt x="124" y="125"/>
                    </a:lnTo>
                    <a:lnTo>
                      <a:pt x="142" y="125"/>
                    </a:lnTo>
                    <a:lnTo>
                      <a:pt x="142" y="123"/>
                    </a:lnTo>
                    <a:lnTo>
                      <a:pt x="143" y="122"/>
                    </a:lnTo>
                    <a:lnTo>
                      <a:pt x="145" y="121"/>
                    </a:lnTo>
                    <a:lnTo>
                      <a:pt x="146" y="121"/>
                    </a:lnTo>
                    <a:lnTo>
                      <a:pt x="148" y="121"/>
                    </a:lnTo>
                    <a:lnTo>
                      <a:pt x="149" y="122"/>
                    </a:lnTo>
                    <a:lnTo>
                      <a:pt x="150" y="123"/>
                    </a:lnTo>
                    <a:lnTo>
                      <a:pt x="151" y="125"/>
                    </a:lnTo>
                    <a:lnTo>
                      <a:pt x="182" y="125"/>
                    </a:lnTo>
                    <a:lnTo>
                      <a:pt x="183" y="123"/>
                    </a:lnTo>
                    <a:lnTo>
                      <a:pt x="184" y="122"/>
                    </a:lnTo>
                    <a:lnTo>
                      <a:pt x="185" y="121"/>
                    </a:lnTo>
                    <a:lnTo>
                      <a:pt x="187" y="121"/>
                    </a:lnTo>
                    <a:lnTo>
                      <a:pt x="189" y="121"/>
                    </a:lnTo>
                    <a:lnTo>
                      <a:pt x="190" y="122"/>
                    </a:lnTo>
                    <a:lnTo>
                      <a:pt x="191" y="123"/>
                    </a:lnTo>
                    <a:lnTo>
                      <a:pt x="191" y="125"/>
                    </a:lnTo>
                    <a:lnTo>
                      <a:pt x="324" y="125"/>
                    </a:lnTo>
                    <a:lnTo>
                      <a:pt x="324" y="123"/>
                    </a:lnTo>
                    <a:lnTo>
                      <a:pt x="325" y="122"/>
                    </a:lnTo>
                    <a:lnTo>
                      <a:pt x="326" y="121"/>
                    </a:lnTo>
                    <a:lnTo>
                      <a:pt x="328" y="121"/>
                    </a:lnTo>
                    <a:lnTo>
                      <a:pt x="330" y="121"/>
                    </a:lnTo>
                    <a:lnTo>
                      <a:pt x="331" y="122"/>
                    </a:lnTo>
                    <a:lnTo>
                      <a:pt x="332" y="123"/>
                    </a:lnTo>
                    <a:lnTo>
                      <a:pt x="333" y="125"/>
                    </a:lnTo>
                    <a:lnTo>
                      <a:pt x="435" y="125"/>
                    </a:lnTo>
                    <a:lnTo>
                      <a:pt x="435" y="123"/>
                    </a:lnTo>
                    <a:lnTo>
                      <a:pt x="436" y="122"/>
                    </a:lnTo>
                    <a:lnTo>
                      <a:pt x="438" y="121"/>
                    </a:lnTo>
                    <a:lnTo>
                      <a:pt x="439" y="121"/>
                    </a:lnTo>
                    <a:lnTo>
                      <a:pt x="441" y="121"/>
                    </a:lnTo>
                    <a:lnTo>
                      <a:pt x="442" y="122"/>
                    </a:lnTo>
                    <a:lnTo>
                      <a:pt x="443" y="123"/>
                    </a:lnTo>
                    <a:lnTo>
                      <a:pt x="444" y="125"/>
                    </a:lnTo>
                    <a:lnTo>
                      <a:pt x="470" y="125"/>
                    </a:lnTo>
                    <a:lnTo>
                      <a:pt x="470" y="3"/>
                    </a:lnTo>
                    <a:lnTo>
                      <a:pt x="513" y="3"/>
                    </a:lnTo>
                    <a:lnTo>
                      <a:pt x="514" y="2"/>
                    </a:lnTo>
                    <a:lnTo>
                      <a:pt x="515" y="1"/>
                    </a:lnTo>
                    <a:lnTo>
                      <a:pt x="516" y="0"/>
                    </a:lnTo>
                    <a:lnTo>
                      <a:pt x="518" y="0"/>
                    </a:lnTo>
                    <a:lnTo>
                      <a:pt x="520" y="0"/>
                    </a:lnTo>
                    <a:lnTo>
                      <a:pt x="521" y="1"/>
                    </a:lnTo>
                    <a:lnTo>
                      <a:pt x="522" y="2"/>
                    </a:lnTo>
                    <a:lnTo>
                      <a:pt x="522" y="3"/>
                    </a:lnTo>
                    <a:lnTo>
                      <a:pt x="535" y="3"/>
                    </a:lnTo>
                    <a:lnTo>
                      <a:pt x="536" y="2"/>
                    </a:lnTo>
                    <a:lnTo>
                      <a:pt x="537" y="1"/>
                    </a:lnTo>
                    <a:lnTo>
                      <a:pt x="538" y="0"/>
                    </a:lnTo>
                    <a:lnTo>
                      <a:pt x="540" y="0"/>
                    </a:lnTo>
                    <a:lnTo>
                      <a:pt x="541" y="0"/>
                    </a:lnTo>
                    <a:lnTo>
                      <a:pt x="543" y="1"/>
                    </a:lnTo>
                    <a:lnTo>
                      <a:pt x="544" y="2"/>
                    </a:lnTo>
                    <a:lnTo>
                      <a:pt x="544" y="3"/>
                    </a:lnTo>
                    <a:lnTo>
                      <a:pt x="554" y="3"/>
                    </a:lnTo>
                    <a:lnTo>
                      <a:pt x="554" y="2"/>
                    </a:lnTo>
                    <a:lnTo>
                      <a:pt x="555" y="1"/>
                    </a:lnTo>
                    <a:lnTo>
                      <a:pt x="557" y="0"/>
                    </a:lnTo>
                    <a:lnTo>
                      <a:pt x="558" y="0"/>
                    </a:lnTo>
                    <a:lnTo>
                      <a:pt x="560" y="0"/>
                    </a:lnTo>
                    <a:lnTo>
                      <a:pt x="561" y="1"/>
                    </a:lnTo>
                    <a:lnTo>
                      <a:pt x="562" y="2"/>
                    </a:lnTo>
                    <a:lnTo>
                      <a:pt x="563" y="3"/>
                    </a:lnTo>
                    <a:lnTo>
                      <a:pt x="567" y="3"/>
                    </a:lnTo>
                    <a:lnTo>
                      <a:pt x="568" y="2"/>
                    </a:lnTo>
                    <a:lnTo>
                      <a:pt x="569" y="1"/>
                    </a:lnTo>
                    <a:lnTo>
                      <a:pt x="570" y="0"/>
                    </a:lnTo>
                    <a:lnTo>
                      <a:pt x="572" y="0"/>
                    </a:lnTo>
                    <a:lnTo>
                      <a:pt x="573" y="0"/>
                    </a:lnTo>
                    <a:lnTo>
                      <a:pt x="575" y="1"/>
                    </a:lnTo>
                    <a:lnTo>
                      <a:pt x="576" y="2"/>
                    </a:lnTo>
                    <a:lnTo>
                      <a:pt x="576" y="3"/>
                    </a:lnTo>
                    <a:lnTo>
                      <a:pt x="594" y="3"/>
                    </a:lnTo>
                    <a:lnTo>
                      <a:pt x="595" y="2"/>
                    </a:lnTo>
                    <a:lnTo>
                      <a:pt x="596" y="1"/>
                    </a:lnTo>
                    <a:lnTo>
                      <a:pt x="597" y="0"/>
                    </a:lnTo>
                    <a:lnTo>
                      <a:pt x="599" y="0"/>
                    </a:lnTo>
                    <a:lnTo>
                      <a:pt x="600" y="0"/>
                    </a:lnTo>
                    <a:lnTo>
                      <a:pt x="602" y="1"/>
                    </a:lnTo>
                    <a:lnTo>
                      <a:pt x="603" y="2"/>
                    </a:lnTo>
                    <a:lnTo>
                      <a:pt x="603" y="3"/>
                    </a:lnTo>
                    <a:lnTo>
                      <a:pt x="622" y="3"/>
                    </a:lnTo>
                    <a:lnTo>
                      <a:pt x="622" y="2"/>
                    </a:lnTo>
                    <a:lnTo>
                      <a:pt x="623" y="1"/>
                    </a:lnTo>
                    <a:lnTo>
                      <a:pt x="625" y="0"/>
                    </a:lnTo>
                    <a:lnTo>
                      <a:pt x="626" y="0"/>
                    </a:lnTo>
                    <a:lnTo>
                      <a:pt x="628" y="0"/>
                    </a:lnTo>
                    <a:lnTo>
                      <a:pt x="630" y="1"/>
                    </a:lnTo>
                    <a:lnTo>
                      <a:pt x="631" y="2"/>
                    </a:lnTo>
                    <a:lnTo>
                      <a:pt x="631" y="3"/>
                    </a:lnTo>
                    <a:lnTo>
                      <a:pt x="649" y="3"/>
                    </a:lnTo>
                    <a:lnTo>
                      <a:pt x="649" y="2"/>
                    </a:lnTo>
                    <a:lnTo>
                      <a:pt x="650" y="1"/>
                    </a:lnTo>
                    <a:lnTo>
                      <a:pt x="652" y="0"/>
                    </a:lnTo>
                    <a:lnTo>
                      <a:pt x="654" y="0"/>
                    </a:lnTo>
                    <a:lnTo>
                      <a:pt x="655" y="0"/>
                    </a:lnTo>
                    <a:lnTo>
                      <a:pt x="657" y="1"/>
                    </a:lnTo>
                    <a:lnTo>
                      <a:pt x="658" y="2"/>
                    </a:lnTo>
                    <a:lnTo>
                      <a:pt x="658" y="3"/>
                    </a:lnTo>
                    <a:lnTo>
                      <a:pt x="663" y="3"/>
                    </a:lnTo>
                    <a:lnTo>
                      <a:pt x="664" y="2"/>
                    </a:lnTo>
                    <a:lnTo>
                      <a:pt x="665" y="1"/>
                    </a:lnTo>
                    <a:lnTo>
                      <a:pt x="666" y="0"/>
                    </a:lnTo>
                    <a:lnTo>
                      <a:pt x="668" y="0"/>
                    </a:lnTo>
                    <a:lnTo>
                      <a:pt x="670" y="0"/>
                    </a:lnTo>
                    <a:lnTo>
                      <a:pt x="671" y="1"/>
                    </a:lnTo>
                    <a:lnTo>
                      <a:pt x="672" y="2"/>
                    </a:lnTo>
                    <a:lnTo>
                      <a:pt x="672" y="3"/>
                    </a:lnTo>
                    <a:lnTo>
                      <a:pt x="742"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8207640" y="376344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1" name=""/>
              <p:cNvSpPr/>
              <p:nvPr/>
            </p:nvSpPr>
            <p:spPr>
              <a:xfrm>
                <a:off x="6176160" y="2619720"/>
                <a:ext cx="240120" cy="886680"/>
              </a:xfrm>
              <a:custGeom>
                <a:avLst/>
                <a:gdLst/>
                <a:ahLst/>
                <a:rect l="l" t="t" r="r" b="b"/>
                <a:pathLst>
                  <a:path w="227" h="664">
                    <a:moveTo>
                      <a:pt x="0" y="664"/>
                    </a:moveTo>
                    <a:lnTo>
                      <a:pt x="0" y="636"/>
                    </a:lnTo>
                    <a:lnTo>
                      <a:pt x="30" y="636"/>
                    </a:lnTo>
                    <a:lnTo>
                      <a:pt x="30" y="635"/>
                    </a:lnTo>
                    <a:lnTo>
                      <a:pt x="31" y="634"/>
                    </a:lnTo>
                    <a:lnTo>
                      <a:pt x="32" y="633"/>
                    </a:lnTo>
                    <a:lnTo>
                      <a:pt x="34" y="633"/>
                    </a:lnTo>
                    <a:lnTo>
                      <a:pt x="36" y="633"/>
                    </a:lnTo>
                    <a:lnTo>
                      <a:pt x="37" y="634"/>
                    </a:lnTo>
                    <a:lnTo>
                      <a:pt x="38" y="635"/>
                    </a:lnTo>
                    <a:lnTo>
                      <a:pt x="39" y="636"/>
                    </a:lnTo>
                    <a:lnTo>
                      <a:pt x="57" y="636"/>
                    </a:lnTo>
                    <a:lnTo>
                      <a:pt x="57" y="635"/>
                    </a:lnTo>
                    <a:lnTo>
                      <a:pt x="58" y="634"/>
                    </a:lnTo>
                    <a:lnTo>
                      <a:pt x="59" y="633"/>
                    </a:lnTo>
                    <a:lnTo>
                      <a:pt x="61" y="633"/>
                    </a:lnTo>
                    <a:lnTo>
                      <a:pt x="63" y="633"/>
                    </a:lnTo>
                    <a:lnTo>
                      <a:pt x="64" y="634"/>
                    </a:lnTo>
                    <a:lnTo>
                      <a:pt x="65" y="635"/>
                    </a:lnTo>
                    <a:lnTo>
                      <a:pt x="66" y="636"/>
                    </a:lnTo>
                    <a:lnTo>
                      <a:pt x="84" y="636"/>
                    </a:lnTo>
                    <a:lnTo>
                      <a:pt x="84" y="635"/>
                    </a:lnTo>
                    <a:lnTo>
                      <a:pt x="85" y="634"/>
                    </a:lnTo>
                    <a:lnTo>
                      <a:pt x="86" y="633"/>
                    </a:lnTo>
                    <a:lnTo>
                      <a:pt x="88" y="633"/>
                    </a:lnTo>
                    <a:lnTo>
                      <a:pt x="90" y="633"/>
                    </a:lnTo>
                    <a:lnTo>
                      <a:pt x="91" y="634"/>
                    </a:lnTo>
                    <a:lnTo>
                      <a:pt x="92" y="635"/>
                    </a:lnTo>
                    <a:lnTo>
                      <a:pt x="93" y="636"/>
                    </a:lnTo>
                    <a:lnTo>
                      <a:pt x="105" y="636"/>
                    </a:lnTo>
                    <a:lnTo>
                      <a:pt x="106" y="635"/>
                    </a:lnTo>
                    <a:lnTo>
                      <a:pt x="107" y="634"/>
                    </a:lnTo>
                    <a:lnTo>
                      <a:pt x="108" y="633"/>
                    </a:lnTo>
                    <a:lnTo>
                      <a:pt x="110" y="633"/>
                    </a:lnTo>
                    <a:lnTo>
                      <a:pt x="111" y="633"/>
                    </a:lnTo>
                    <a:lnTo>
                      <a:pt x="113" y="634"/>
                    </a:lnTo>
                    <a:lnTo>
                      <a:pt x="114" y="635"/>
                    </a:lnTo>
                    <a:lnTo>
                      <a:pt x="114" y="636"/>
                    </a:lnTo>
                    <a:lnTo>
                      <a:pt x="165" y="636"/>
                    </a:lnTo>
                    <a:lnTo>
                      <a:pt x="165" y="635"/>
                    </a:lnTo>
                    <a:lnTo>
                      <a:pt x="166" y="634"/>
                    </a:lnTo>
                    <a:lnTo>
                      <a:pt x="167" y="633"/>
                    </a:lnTo>
                    <a:lnTo>
                      <a:pt x="169" y="633"/>
                    </a:lnTo>
                    <a:lnTo>
                      <a:pt x="171" y="633"/>
                    </a:lnTo>
                    <a:lnTo>
                      <a:pt x="172" y="634"/>
                    </a:lnTo>
                    <a:lnTo>
                      <a:pt x="173" y="635"/>
                    </a:lnTo>
                    <a:lnTo>
                      <a:pt x="174" y="636"/>
                    </a:lnTo>
                    <a:lnTo>
                      <a:pt x="182" y="636"/>
                    </a:lnTo>
                    <a:lnTo>
                      <a:pt x="182" y="635"/>
                    </a:lnTo>
                    <a:lnTo>
                      <a:pt x="183" y="634"/>
                    </a:lnTo>
                    <a:lnTo>
                      <a:pt x="184" y="633"/>
                    </a:lnTo>
                    <a:lnTo>
                      <a:pt x="186" y="633"/>
                    </a:lnTo>
                    <a:lnTo>
                      <a:pt x="188" y="633"/>
                    </a:lnTo>
                    <a:lnTo>
                      <a:pt x="189" y="634"/>
                    </a:lnTo>
                    <a:lnTo>
                      <a:pt x="190" y="635"/>
                    </a:lnTo>
                    <a:lnTo>
                      <a:pt x="191" y="636"/>
                    </a:lnTo>
                    <a:lnTo>
                      <a:pt x="227" y="636"/>
                    </a:lnTo>
                    <a:lnTo>
                      <a:pt x="2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6409800" y="26078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33" name=""/>
              <p:cNvSpPr/>
              <p:nvPr/>
            </p:nvSpPr>
            <p:spPr>
              <a:xfrm>
                <a:off x="5361840" y="2149560"/>
                <a:ext cx="3004560" cy="450000"/>
              </a:xfrm>
              <a:custGeom>
                <a:avLst/>
                <a:gdLst/>
                <a:ahLst/>
                <a:rect l="l" t="t" r="r" b="b"/>
                <a:pathLst>
                  <a:path w="2838" h="337">
                    <a:moveTo>
                      <a:pt x="0" y="337"/>
                    </a:moveTo>
                    <a:lnTo>
                      <a:pt x="0" y="261"/>
                    </a:lnTo>
                    <a:lnTo>
                      <a:pt x="24" y="261"/>
                    </a:lnTo>
                    <a:lnTo>
                      <a:pt x="25" y="260"/>
                    </a:lnTo>
                    <a:lnTo>
                      <a:pt x="25" y="259"/>
                    </a:lnTo>
                    <a:lnTo>
                      <a:pt x="27" y="258"/>
                    </a:lnTo>
                    <a:lnTo>
                      <a:pt x="29" y="258"/>
                    </a:lnTo>
                    <a:lnTo>
                      <a:pt x="30" y="258"/>
                    </a:lnTo>
                    <a:lnTo>
                      <a:pt x="32" y="259"/>
                    </a:lnTo>
                    <a:lnTo>
                      <a:pt x="33" y="260"/>
                    </a:lnTo>
                    <a:lnTo>
                      <a:pt x="33" y="261"/>
                    </a:lnTo>
                    <a:lnTo>
                      <a:pt x="58" y="261"/>
                    </a:lnTo>
                    <a:lnTo>
                      <a:pt x="58" y="260"/>
                    </a:lnTo>
                    <a:lnTo>
                      <a:pt x="59" y="259"/>
                    </a:lnTo>
                    <a:lnTo>
                      <a:pt x="61" y="258"/>
                    </a:lnTo>
                    <a:lnTo>
                      <a:pt x="62" y="258"/>
                    </a:lnTo>
                    <a:lnTo>
                      <a:pt x="64" y="258"/>
                    </a:lnTo>
                    <a:lnTo>
                      <a:pt x="66" y="259"/>
                    </a:lnTo>
                    <a:lnTo>
                      <a:pt x="67" y="260"/>
                    </a:lnTo>
                    <a:lnTo>
                      <a:pt x="67" y="261"/>
                    </a:lnTo>
                    <a:lnTo>
                      <a:pt x="69" y="261"/>
                    </a:lnTo>
                    <a:lnTo>
                      <a:pt x="69" y="4"/>
                    </a:lnTo>
                    <a:lnTo>
                      <a:pt x="307" y="4"/>
                    </a:lnTo>
                    <a:lnTo>
                      <a:pt x="307" y="2"/>
                    </a:lnTo>
                    <a:lnTo>
                      <a:pt x="308" y="1"/>
                    </a:lnTo>
                    <a:lnTo>
                      <a:pt x="309" y="1"/>
                    </a:lnTo>
                    <a:lnTo>
                      <a:pt x="311" y="0"/>
                    </a:lnTo>
                    <a:lnTo>
                      <a:pt x="313" y="1"/>
                    </a:lnTo>
                    <a:lnTo>
                      <a:pt x="314" y="1"/>
                    </a:lnTo>
                    <a:lnTo>
                      <a:pt x="315" y="2"/>
                    </a:lnTo>
                    <a:lnTo>
                      <a:pt x="316" y="4"/>
                    </a:lnTo>
                    <a:lnTo>
                      <a:pt x="421" y="4"/>
                    </a:lnTo>
                    <a:lnTo>
                      <a:pt x="421" y="2"/>
                    </a:lnTo>
                    <a:lnTo>
                      <a:pt x="422" y="1"/>
                    </a:lnTo>
                    <a:lnTo>
                      <a:pt x="424" y="1"/>
                    </a:lnTo>
                    <a:lnTo>
                      <a:pt x="425" y="0"/>
                    </a:lnTo>
                    <a:lnTo>
                      <a:pt x="427" y="1"/>
                    </a:lnTo>
                    <a:lnTo>
                      <a:pt x="429" y="1"/>
                    </a:lnTo>
                    <a:lnTo>
                      <a:pt x="429" y="2"/>
                    </a:lnTo>
                    <a:lnTo>
                      <a:pt x="430" y="4"/>
                    </a:lnTo>
                    <a:lnTo>
                      <a:pt x="468" y="4"/>
                    </a:lnTo>
                    <a:lnTo>
                      <a:pt x="468" y="2"/>
                    </a:lnTo>
                    <a:lnTo>
                      <a:pt x="469" y="1"/>
                    </a:lnTo>
                    <a:lnTo>
                      <a:pt x="471" y="1"/>
                    </a:lnTo>
                    <a:lnTo>
                      <a:pt x="472" y="0"/>
                    </a:lnTo>
                    <a:lnTo>
                      <a:pt x="474" y="1"/>
                    </a:lnTo>
                    <a:lnTo>
                      <a:pt x="475" y="1"/>
                    </a:lnTo>
                    <a:lnTo>
                      <a:pt x="476" y="2"/>
                    </a:lnTo>
                    <a:lnTo>
                      <a:pt x="477" y="4"/>
                    </a:lnTo>
                    <a:lnTo>
                      <a:pt x="815" y="4"/>
                    </a:lnTo>
                    <a:lnTo>
                      <a:pt x="816" y="2"/>
                    </a:lnTo>
                    <a:lnTo>
                      <a:pt x="817" y="1"/>
                    </a:lnTo>
                    <a:lnTo>
                      <a:pt x="818" y="1"/>
                    </a:lnTo>
                    <a:lnTo>
                      <a:pt x="820" y="0"/>
                    </a:lnTo>
                    <a:lnTo>
                      <a:pt x="822" y="1"/>
                    </a:lnTo>
                    <a:lnTo>
                      <a:pt x="823" y="1"/>
                    </a:lnTo>
                    <a:lnTo>
                      <a:pt x="824" y="2"/>
                    </a:lnTo>
                    <a:lnTo>
                      <a:pt x="824" y="4"/>
                    </a:lnTo>
                    <a:lnTo>
                      <a:pt x="1302" y="4"/>
                    </a:lnTo>
                    <a:lnTo>
                      <a:pt x="1302" y="2"/>
                    </a:lnTo>
                    <a:lnTo>
                      <a:pt x="1303" y="1"/>
                    </a:lnTo>
                    <a:lnTo>
                      <a:pt x="1305" y="1"/>
                    </a:lnTo>
                    <a:lnTo>
                      <a:pt x="1306" y="0"/>
                    </a:lnTo>
                    <a:lnTo>
                      <a:pt x="1308" y="1"/>
                    </a:lnTo>
                    <a:lnTo>
                      <a:pt x="1309" y="1"/>
                    </a:lnTo>
                    <a:lnTo>
                      <a:pt x="1311" y="2"/>
                    </a:lnTo>
                    <a:lnTo>
                      <a:pt x="1311" y="4"/>
                    </a:lnTo>
                    <a:lnTo>
                      <a:pt x="1617" y="4"/>
                    </a:lnTo>
                    <a:lnTo>
                      <a:pt x="1617" y="90"/>
                    </a:lnTo>
                    <a:lnTo>
                      <a:pt x="1644" y="90"/>
                    </a:lnTo>
                    <a:lnTo>
                      <a:pt x="1645" y="88"/>
                    </a:lnTo>
                    <a:lnTo>
                      <a:pt x="1645" y="87"/>
                    </a:lnTo>
                    <a:lnTo>
                      <a:pt x="1647" y="87"/>
                    </a:lnTo>
                    <a:lnTo>
                      <a:pt x="1649" y="86"/>
                    </a:lnTo>
                    <a:lnTo>
                      <a:pt x="1650" y="87"/>
                    </a:lnTo>
                    <a:lnTo>
                      <a:pt x="1652" y="87"/>
                    </a:lnTo>
                    <a:lnTo>
                      <a:pt x="1653" y="88"/>
                    </a:lnTo>
                    <a:lnTo>
                      <a:pt x="1653" y="90"/>
                    </a:lnTo>
                    <a:lnTo>
                      <a:pt x="1668" y="90"/>
                    </a:lnTo>
                    <a:lnTo>
                      <a:pt x="1669" y="88"/>
                    </a:lnTo>
                    <a:lnTo>
                      <a:pt x="1670" y="87"/>
                    </a:lnTo>
                    <a:lnTo>
                      <a:pt x="1671" y="87"/>
                    </a:lnTo>
                    <a:lnTo>
                      <a:pt x="1673" y="86"/>
                    </a:lnTo>
                    <a:lnTo>
                      <a:pt x="1675" y="87"/>
                    </a:lnTo>
                    <a:lnTo>
                      <a:pt x="1676" y="87"/>
                    </a:lnTo>
                    <a:lnTo>
                      <a:pt x="1677" y="88"/>
                    </a:lnTo>
                    <a:lnTo>
                      <a:pt x="1677" y="90"/>
                    </a:lnTo>
                    <a:lnTo>
                      <a:pt x="1696" y="90"/>
                    </a:lnTo>
                    <a:lnTo>
                      <a:pt x="1696" y="88"/>
                    </a:lnTo>
                    <a:lnTo>
                      <a:pt x="1697" y="87"/>
                    </a:lnTo>
                    <a:lnTo>
                      <a:pt x="1699" y="87"/>
                    </a:lnTo>
                    <a:lnTo>
                      <a:pt x="1701" y="86"/>
                    </a:lnTo>
                    <a:lnTo>
                      <a:pt x="1702" y="87"/>
                    </a:lnTo>
                    <a:lnTo>
                      <a:pt x="1704" y="87"/>
                    </a:lnTo>
                    <a:lnTo>
                      <a:pt x="1705" y="88"/>
                    </a:lnTo>
                    <a:lnTo>
                      <a:pt x="1705" y="90"/>
                    </a:lnTo>
                    <a:lnTo>
                      <a:pt x="1722" y="90"/>
                    </a:lnTo>
                    <a:lnTo>
                      <a:pt x="1722" y="88"/>
                    </a:lnTo>
                    <a:lnTo>
                      <a:pt x="1723" y="87"/>
                    </a:lnTo>
                    <a:lnTo>
                      <a:pt x="1725" y="87"/>
                    </a:lnTo>
                    <a:lnTo>
                      <a:pt x="1726" y="86"/>
                    </a:lnTo>
                    <a:lnTo>
                      <a:pt x="1728" y="87"/>
                    </a:lnTo>
                    <a:lnTo>
                      <a:pt x="1730" y="87"/>
                    </a:lnTo>
                    <a:lnTo>
                      <a:pt x="1730" y="88"/>
                    </a:lnTo>
                    <a:lnTo>
                      <a:pt x="1731" y="90"/>
                    </a:lnTo>
                    <a:lnTo>
                      <a:pt x="1744" y="90"/>
                    </a:lnTo>
                    <a:lnTo>
                      <a:pt x="1744" y="88"/>
                    </a:lnTo>
                    <a:lnTo>
                      <a:pt x="1745" y="87"/>
                    </a:lnTo>
                    <a:lnTo>
                      <a:pt x="1747" y="87"/>
                    </a:lnTo>
                    <a:lnTo>
                      <a:pt x="1748" y="86"/>
                    </a:lnTo>
                    <a:lnTo>
                      <a:pt x="1750" y="87"/>
                    </a:lnTo>
                    <a:lnTo>
                      <a:pt x="1752" y="87"/>
                    </a:lnTo>
                    <a:lnTo>
                      <a:pt x="1752" y="88"/>
                    </a:lnTo>
                    <a:lnTo>
                      <a:pt x="1753" y="90"/>
                    </a:lnTo>
                    <a:lnTo>
                      <a:pt x="1764" y="90"/>
                    </a:lnTo>
                    <a:lnTo>
                      <a:pt x="1765" y="88"/>
                    </a:lnTo>
                    <a:lnTo>
                      <a:pt x="1766" y="87"/>
                    </a:lnTo>
                    <a:lnTo>
                      <a:pt x="1767" y="87"/>
                    </a:lnTo>
                    <a:lnTo>
                      <a:pt x="1769" y="86"/>
                    </a:lnTo>
                    <a:lnTo>
                      <a:pt x="1771" y="87"/>
                    </a:lnTo>
                    <a:lnTo>
                      <a:pt x="1772" y="87"/>
                    </a:lnTo>
                    <a:lnTo>
                      <a:pt x="1773" y="88"/>
                    </a:lnTo>
                    <a:lnTo>
                      <a:pt x="1773" y="90"/>
                    </a:lnTo>
                    <a:lnTo>
                      <a:pt x="1807" y="90"/>
                    </a:lnTo>
                    <a:lnTo>
                      <a:pt x="1808" y="88"/>
                    </a:lnTo>
                    <a:lnTo>
                      <a:pt x="1809" y="87"/>
                    </a:lnTo>
                    <a:lnTo>
                      <a:pt x="1810" y="87"/>
                    </a:lnTo>
                    <a:lnTo>
                      <a:pt x="1812" y="86"/>
                    </a:lnTo>
                    <a:lnTo>
                      <a:pt x="1813" y="87"/>
                    </a:lnTo>
                    <a:lnTo>
                      <a:pt x="1815" y="87"/>
                    </a:lnTo>
                    <a:lnTo>
                      <a:pt x="1816" y="88"/>
                    </a:lnTo>
                    <a:lnTo>
                      <a:pt x="1816" y="90"/>
                    </a:lnTo>
                    <a:lnTo>
                      <a:pt x="1927" y="90"/>
                    </a:lnTo>
                    <a:lnTo>
                      <a:pt x="1927" y="88"/>
                    </a:lnTo>
                    <a:lnTo>
                      <a:pt x="1928" y="87"/>
                    </a:lnTo>
                    <a:lnTo>
                      <a:pt x="1929" y="87"/>
                    </a:lnTo>
                    <a:lnTo>
                      <a:pt x="1931" y="86"/>
                    </a:lnTo>
                    <a:lnTo>
                      <a:pt x="1933" y="87"/>
                    </a:lnTo>
                    <a:lnTo>
                      <a:pt x="1934" y="87"/>
                    </a:lnTo>
                    <a:lnTo>
                      <a:pt x="1935" y="88"/>
                    </a:lnTo>
                    <a:lnTo>
                      <a:pt x="1936" y="90"/>
                    </a:lnTo>
                    <a:lnTo>
                      <a:pt x="2050" y="90"/>
                    </a:lnTo>
                    <a:lnTo>
                      <a:pt x="2050" y="88"/>
                    </a:lnTo>
                    <a:lnTo>
                      <a:pt x="2051" y="87"/>
                    </a:lnTo>
                    <a:lnTo>
                      <a:pt x="2053" y="87"/>
                    </a:lnTo>
                    <a:lnTo>
                      <a:pt x="2054" y="86"/>
                    </a:lnTo>
                    <a:lnTo>
                      <a:pt x="2056" y="87"/>
                    </a:lnTo>
                    <a:lnTo>
                      <a:pt x="2058" y="87"/>
                    </a:lnTo>
                    <a:lnTo>
                      <a:pt x="2059" y="88"/>
                    </a:lnTo>
                    <a:lnTo>
                      <a:pt x="2059" y="90"/>
                    </a:lnTo>
                    <a:lnTo>
                      <a:pt x="2087" y="90"/>
                    </a:lnTo>
                    <a:lnTo>
                      <a:pt x="2087" y="25"/>
                    </a:lnTo>
                    <a:lnTo>
                      <a:pt x="2284" y="25"/>
                    </a:lnTo>
                    <a:lnTo>
                      <a:pt x="2284" y="23"/>
                    </a:lnTo>
                    <a:lnTo>
                      <a:pt x="2285" y="22"/>
                    </a:lnTo>
                    <a:lnTo>
                      <a:pt x="2286" y="21"/>
                    </a:lnTo>
                    <a:lnTo>
                      <a:pt x="2288" y="21"/>
                    </a:lnTo>
                    <a:lnTo>
                      <a:pt x="2290" y="21"/>
                    </a:lnTo>
                    <a:lnTo>
                      <a:pt x="2291" y="22"/>
                    </a:lnTo>
                    <a:lnTo>
                      <a:pt x="2292" y="23"/>
                    </a:lnTo>
                    <a:lnTo>
                      <a:pt x="2293" y="25"/>
                    </a:lnTo>
                    <a:lnTo>
                      <a:pt x="2426" y="25"/>
                    </a:lnTo>
                    <a:lnTo>
                      <a:pt x="2427" y="23"/>
                    </a:lnTo>
                    <a:lnTo>
                      <a:pt x="2428" y="22"/>
                    </a:lnTo>
                    <a:lnTo>
                      <a:pt x="2429" y="21"/>
                    </a:lnTo>
                    <a:lnTo>
                      <a:pt x="2431" y="21"/>
                    </a:lnTo>
                    <a:lnTo>
                      <a:pt x="2433" y="21"/>
                    </a:lnTo>
                    <a:lnTo>
                      <a:pt x="2434" y="22"/>
                    </a:lnTo>
                    <a:lnTo>
                      <a:pt x="2435" y="23"/>
                    </a:lnTo>
                    <a:lnTo>
                      <a:pt x="2435" y="25"/>
                    </a:lnTo>
                    <a:lnTo>
                      <a:pt x="2555" y="25"/>
                    </a:lnTo>
                    <a:lnTo>
                      <a:pt x="2555" y="23"/>
                    </a:lnTo>
                    <a:lnTo>
                      <a:pt x="2556" y="22"/>
                    </a:lnTo>
                    <a:lnTo>
                      <a:pt x="2558" y="21"/>
                    </a:lnTo>
                    <a:lnTo>
                      <a:pt x="2559" y="21"/>
                    </a:lnTo>
                    <a:lnTo>
                      <a:pt x="2561" y="21"/>
                    </a:lnTo>
                    <a:lnTo>
                      <a:pt x="2562" y="22"/>
                    </a:lnTo>
                    <a:lnTo>
                      <a:pt x="2563" y="23"/>
                    </a:lnTo>
                    <a:lnTo>
                      <a:pt x="2564" y="25"/>
                    </a:lnTo>
                    <a:lnTo>
                      <a:pt x="2610" y="25"/>
                    </a:lnTo>
                    <a:lnTo>
                      <a:pt x="2611" y="23"/>
                    </a:lnTo>
                    <a:lnTo>
                      <a:pt x="2612" y="22"/>
                    </a:lnTo>
                    <a:lnTo>
                      <a:pt x="2613" y="21"/>
                    </a:lnTo>
                    <a:lnTo>
                      <a:pt x="2615" y="21"/>
                    </a:lnTo>
                    <a:lnTo>
                      <a:pt x="2617" y="21"/>
                    </a:lnTo>
                    <a:lnTo>
                      <a:pt x="2618" y="22"/>
                    </a:lnTo>
                    <a:lnTo>
                      <a:pt x="2619" y="23"/>
                    </a:lnTo>
                    <a:lnTo>
                      <a:pt x="2619" y="25"/>
                    </a:lnTo>
                    <a:lnTo>
                      <a:pt x="2662" y="25"/>
                    </a:lnTo>
                    <a:lnTo>
                      <a:pt x="2663" y="23"/>
                    </a:lnTo>
                    <a:lnTo>
                      <a:pt x="2663" y="22"/>
                    </a:lnTo>
                    <a:lnTo>
                      <a:pt x="2665" y="21"/>
                    </a:lnTo>
                    <a:lnTo>
                      <a:pt x="2667" y="21"/>
                    </a:lnTo>
                    <a:lnTo>
                      <a:pt x="2668" y="21"/>
                    </a:lnTo>
                    <a:lnTo>
                      <a:pt x="2670" y="21"/>
                    </a:lnTo>
                    <a:lnTo>
                      <a:pt x="2671" y="22"/>
                    </a:lnTo>
                    <a:lnTo>
                      <a:pt x="2672" y="23"/>
                    </a:lnTo>
                    <a:lnTo>
                      <a:pt x="2672" y="25"/>
                    </a:lnTo>
                    <a:lnTo>
                      <a:pt x="2799" y="25"/>
                    </a:lnTo>
                    <a:lnTo>
                      <a:pt x="2799" y="23"/>
                    </a:lnTo>
                    <a:lnTo>
                      <a:pt x="2800" y="22"/>
                    </a:lnTo>
                    <a:lnTo>
                      <a:pt x="2802" y="21"/>
                    </a:lnTo>
                    <a:lnTo>
                      <a:pt x="2804" y="21"/>
                    </a:lnTo>
                    <a:lnTo>
                      <a:pt x="2805" y="21"/>
                    </a:lnTo>
                    <a:lnTo>
                      <a:pt x="2807" y="22"/>
                    </a:lnTo>
                    <a:lnTo>
                      <a:pt x="2808" y="23"/>
                    </a:lnTo>
                    <a:lnTo>
                      <a:pt x="2808" y="25"/>
                    </a:lnTo>
                    <a:lnTo>
                      <a:pt x="2838" y="25"/>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8364240" y="2176200"/>
                <a:ext cx="1476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5" name=""/>
              <p:cNvSpPr/>
              <p:nvPr/>
            </p:nvSpPr>
            <p:spPr>
              <a:xfrm>
                <a:off x="7047360" y="3306600"/>
                <a:ext cx="1097640" cy="53280"/>
              </a:xfrm>
              <a:custGeom>
                <a:avLst/>
                <a:gdLst/>
                <a:ahLst/>
                <a:rect l="l" t="t" r="r" b="b"/>
                <a:pathLst>
                  <a:path w="1037" h="40">
                    <a:moveTo>
                      <a:pt x="0" y="6"/>
                    </a:moveTo>
                    <a:lnTo>
                      <a:pt x="4" y="6"/>
                    </a:lnTo>
                    <a:lnTo>
                      <a:pt x="4" y="5"/>
                    </a:lnTo>
                    <a:lnTo>
                      <a:pt x="5" y="4"/>
                    </a:lnTo>
                    <a:lnTo>
                      <a:pt x="6" y="3"/>
                    </a:lnTo>
                    <a:lnTo>
                      <a:pt x="8" y="3"/>
                    </a:lnTo>
                    <a:lnTo>
                      <a:pt x="10" y="3"/>
                    </a:lnTo>
                    <a:lnTo>
                      <a:pt x="11" y="4"/>
                    </a:lnTo>
                    <a:lnTo>
                      <a:pt x="12" y="5"/>
                    </a:lnTo>
                    <a:lnTo>
                      <a:pt x="13" y="6"/>
                    </a:lnTo>
                    <a:lnTo>
                      <a:pt x="17" y="6"/>
                    </a:lnTo>
                    <a:lnTo>
                      <a:pt x="18" y="5"/>
                    </a:lnTo>
                    <a:lnTo>
                      <a:pt x="18" y="4"/>
                    </a:lnTo>
                    <a:lnTo>
                      <a:pt x="20" y="3"/>
                    </a:lnTo>
                    <a:lnTo>
                      <a:pt x="22" y="3"/>
                    </a:lnTo>
                    <a:lnTo>
                      <a:pt x="23" y="3"/>
                    </a:lnTo>
                    <a:lnTo>
                      <a:pt x="25" y="4"/>
                    </a:lnTo>
                    <a:lnTo>
                      <a:pt x="26" y="5"/>
                    </a:lnTo>
                    <a:lnTo>
                      <a:pt x="26" y="6"/>
                    </a:lnTo>
                    <a:lnTo>
                      <a:pt x="52" y="6"/>
                    </a:lnTo>
                    <a:lnTo>
                      <a:pt x="53" y="5"/>
                    </a:lnTo>
                    <a:lnTo>
                      <a:pt x="53" y="4"/>
                    </a:lnTo>
                    <a:lnTo>
                      <a:pt x="55" y="3"/>
                    </a:lnTo>
                    <a:lnTo>
                      <a:pt x="57" y="3"/>
                    </a:lnTo>
                    <a:lnTo>
                      <a:pt x="58" y="3"/>
                    </a:lnTo>
                    <a:lnTo>
                      <a:pt x="60" y="4"/>
                    </a:lnTo>
                    <a:lnTo>
                      <a:pt x="61" y="5"/>
                    </a:lnTo>
                    <a:lnTo>
                      <a:pt x="61" y="6"/>
                    </a:lnTo>
                    <a:lnTo>
                      <a:pt x="104" y="6"/>
                    </a:lnTo>
                    <a:lnTo>
                      <a:pt x="104" y="5"/>
                    </a:lnTo>
                    <a:lnTo>
                      <a:pt x="105" y="4"/>
                    </a:lnTo>
                    <a:lnTo>
                      <a:pt x="107" y="3"/>
                    </a:lnTo>
                    <a:lnTo>
                      <a:pt x="109" y="3"/>
                    </a:lnTo>
                    <a:lnTo>
                      <a:pt x="110" y="3"/>
                    </a:lnTo>
                    <a:lnTo>
                      <a:pt x="112" y="4"/>
                    </a:lnTo>
                    <a:lnTo>
                      <a:pt x="113" y="5"/>
                    </a:lnTo>
                    <a:lnTo>
                      <a:pt x="113" y="6"/>
                    </a:lnTo>
                    <a:lnTo>
                      <a:pt x="122" y="6"/>
                    </a:lnTo>
                    <a:lnTo>
                      <a:pt x="122" y="4"/>
                    </a:lnTo>
                    <a:lnTo>
                      <a:pt x="123" y="3"/>
                    </a:lnTo>
                    <a:lnTo>
                      <a:pt x="125" y="1"/>
                    </a:lnTo>
                    <a:lnTo>
                      <a:pt x="127" y="0"/>
                    </a:lnTo>
                    <a:lnTo>
                      <a:pt x="129" y="0"/>
                    </a:lnTo>
                    <a:lnTo>
                      <a:pt x="132" y="0"/>
                    </a:lnTo>
                    <a:lnTo>
                      <a:pt x="134" y="0"/>
                    </a:lnTo>
                    <a:lnTo>
                      <a:pt x="136" y="1"/>
                    </a:lnTo>
                    <a:lnTo>
                      <a:pt x="137" y="3"/>
                    </a:lnTo>
                    <a:lnTo>
                      <a:pt x="138" y="4"/>
                    </a:lnTo>
                    <a:lnTo>
                      <a:pt x="139" y="6"/>
                    </a:lnTo>
                    <a:lnTo>
                      <a:pt x="142" y="6"/>
                    </a:lnTo>
                    <a:lnTo>
                      <a:pt x="143" y="5"/>
                    </a:lnTo>
                    <a:lnTo>
                      <a:pt x="143" y="4"/>
                    </a:lnTo>
                    <a:lnTo>
                      <a:pt x="145" y="3"/>
                    </a:lnTo>
                    <a:lnTo>
                      <a:pt x="147" y="3"/>
                    </a:lnTo>
                    <a:lnTo>
                      <a:pt x="148" y="3"/>
                    </a:lnTo>
                    <a:lnTo>
                      <a:pt x="150" y="4"/>
                    </a:lnTo>
                    <a:lnTo>
                      <a:pt x="151" y="5"/>
                    </a:lnTo>
                    <a:lnTo>
                      <a:pt x="151" y="6"/>
                    </a:lnTo>
                    <a:lnTo>
                      <a:pt x="172" y="6"/>
                    </a:lnTo>
                    <a:lnTo>
                      <a:pt x="173" y="5"/>
                    </a:lnTo>
                    <a:lnTo>
                      <a:pt x="174" y="4"/>
                    </a:lnTo>
                    <a:lnTo>
                      <a:pt x="175" y="3"/>
                    </a:lnTo>
                    <a:lnTo>
                      <a:pt x="177" y="3"/>
                    </a:lnTo>
                    <a:lnTo>
                      <a:pt x="179" y="3"/>
                    </a:lnTo>
                    <a:lnTo>
                      <a:pt x="180" y="4"/>
                    </a:lnTo>
                    <a:lnTo>
                      <a:pt x="181" y="5"/>
                    </a:lnTo>
                    <a:lnTo>
                      <a:pt x="181" y="6"/>
                    </a:lnTo>
                    <a:lnTo>
                      <a:pt x="186" y="6"/>
                    </a:lnTo>
                    <a:lnTo>
                      <a:pt x="186" y="5"/>
                    </a:lnTo>
                    <a:lnTo>
                      <a:pt x="187" y="4"/>
                    </a:lnTo>
                    <a:lnTo>
                      <a:pt x="189" y="3"/>
                    </a:lnTo>
                    <a:lnTo>
                      <a:pt x="190" y="3"/>
                    </a:lnTo>
                    <a:lnTo>
                      <a:pt x="192" y="3"/>
                    </a:lnTo>
                    <a:lnTo>
                      <a:pt x="194" y="4"/>
                    </a:lnTo>
                    <a:lnTo>
                      <a:pt x="195" y="5"/>
                    </a:lnTo>
                    <a:lnTo>
                      <a:pt x="195" y="6"/>
                    </a:lnTo>
                    <a:lnTo>
                      <a:pt x="199" y="6"/>
                    </a:lnTo>
                    <a:lnTo>
                      <a:pt x="200" y="5"/>
                    </a:lnTo>
                    <a:lnTo>
                      <a:pt x="201" y="4"/>
                    </a:lnTo>
                    <a:lnTo>
                      <a:pt x="202" y="3"/>
                    </a:lnTo>
                    <a:lnTo>
                      <a:pt x="204" y="3"/>
                    </a:lnTo>
                    <a:lnTo>
                      <a:pt x="206" y="3"/>
                    </a:lnTo>
                    <a:lnTo>
                      <a:pt x="207" y="4"/>
                    </a:lnTo>
                    <a:lnTo>
                      <a:pt x="208" y="5"/>
                    </a:lnTo>
                    <a:lnTo>
                      <a:pt x="209" y="6"/>
                    </a:lnTo>
                    <a:lnTo>
                      <a:pt x="348" y="6"/>
                    </a:lnTo>
                    <a:lnTo>
                      <a:pt x="348" y="5"/>
                    </a:lnTo>
                    <a:lnTo>
                      <a:pt x="350" y="4"/>
                    </a:lnTo>
                    <a:lnTo>
                      <a:pt x="351" y="3"/>
                    </a:lnTo>
                    <a:lnTo>
                      <a:pt x="353" y="3"/>
                    </a:lnTo>
                    <a:lnTo>
                      <a:pt x="354" y="3"/>
                    </a:lnTo>
                    <a:lnTo>
                      <a:pt x="356" y="4"/>
                    </a:lnTo>
                    <a:lnTo>
                      <a:pt x="357" y="5"/>
                    </a:lnTo>
                    <a:lnTo>
                      <a:pt x="357" y="6"/>
                    </a:lnTo>
                    <a:lnTo>
                      <a:pt x="390" y="6"/>
                    </a:lnTo>
                    <a:lnTo>
                      <a:pt x="390" y="5"/>
                    </a:lnTo>
                    <a:lnTo>
                      <a:pt x="391" y="4"/>
                    </a:lnTo>
                    <a:lnTo>
                      <a:pt x="392" y="3"/>
                    </a:lnTo>
                    <a:lnTo>
                      <a:pt x="394" y="3"/>
                    </a:lnTo>
                    <a:lnTo>
                      <a:pt x="396" y="3"/>
                    </a:lnTo>
                    <a:lnTo>
                      <a:pt x="397" y="4"/>
                    </a:lnTo>
                    <a:lnTo>
                      <a:pt x="398" y="5"/>
                    </a:lnTo>
                    <a:lnTo>
                      <a:pt x="399" y="6"/>
                    </a:lnTo>
                    <a:lnTo>
                      <a:pt x="406" y="6"/>
                    </a:lnTo>
                    <a:lnTo>
                      <a:pt x="406" y="5"/>
                    </a:lnTo>
                    <a:lnTo>
                      <a:pt x="407" y="4"/>
                    </a:lnTo>
                    <a:lnTo>
                      <a:pt x="408" y="3"/>
                    </a:lnTo>
                    <a:lnTo>
                      <a:pt x="410" y="3"/>
                    </a:lnTo>
                    <a:lnTo>
                      <a:pt x="412" y="3"/>
                    </a:lnTo>
                    <a:lnTo>
                      <a:pt x="413" y="4"/>
                    </a:lnTo>
                    <a:lnTo>
                      <a:pt x="414" y="5"/>
                    </a:lnTo>
                    <a:lnTo>
                      <a:pt x="415" y="6"/>
                    </a:lnTo>
                    <a:lnTo>
                      <a:pt x="470" y="6"/>
                    </a:lnTo>
                    <a:lnTo>
                      <a:pt x="470" y="5"/>
                    </a:lnTo>
                    <a:lnTo>
                      <a:pt x="471" y="4"/>
                    </a:lnTo>
                    <a:lnTo>
                      <a:pt x="473" y="3"/>
                    </a:lnTo>
                    <a:lnTo>
                      <a:pt x="474" y="3"/>
                    </a:lnTo>
                    <a:lnTo>
                      <a:pt x="476" y="3"/>
                    </a:lnTo>
                    <a:lnTo>
                      <a:pt x="478" y="4"/>
                    </a:lnTo>
                    <a:lnTo>
                      <a:pt x="478" y="5"/>
                    </a:lnTo>
                    <a:lnTo>
                      <a:pt x="479" y="6"/>
                    </a:lnTo>
                    <a:lnTo>
                      <a:pt x="483" y="6"/>
                    </a:lnTo>
                    <a:lnTo>
                      <a:pt x="484" y="5"/>
                    </a:lnTo>
                    <a:lnTo>
                      <a:pt x="485" y="4"/>
                    </a:lnTo>
                    <a:lnTo>
                      <a:pt x="486" y="3"/>
                    </a:lnTo>
                    <a:lnTo>
                      <a:pt x="488" y="3"/>
                    </a:lnTo>
                    <a:lnTo>
                      <a:pt x="489" y="3"/>
                    </a:lnTo>
                    <a:lnTo>
                      <a:pt x="491" y="4"/>
                    </a:lnTo>
                    <a:lnTo>
                      <a:pt x="492" y="5"/>
                    </a:lnTo>
                    <a:lnTo>
                      <a:pt x="492" y="6"/>
                    </a:lnTo>
                    <a:lnTo>
                      <a:pt x="497" y="6"/>
                    </a:lnTo>
                    <a:lnTo>
                      <a:pt x="497" y="5"/>
                    </a:lnTo>
                    <a:lnTo>
                      <a:pt x="498" y="4"/>
                    </a:lnTo>
                    <a:lnTo>
                      <a:pt x="500" y="3"/>
                    </a:lnTo>
                    <a:lnTo>
                      <a:pt x="501" y="3"/>
                    </a:lnTo>
                    <a:lnTo>
                      <a:pt x="503" y="3"/>
                    </a:lnTo>
                    <a:lnTo>
                      <a:pt x="505" y="4"/>
                    </a:lnTo>
                    <a:lnTo>
                      <a:pt x="506" y="5"/>
                    </a:lnTo>
                    <a:lnTo>
                      <a:pt x="506" y="6"/>
                    </a:lnTo>
                    <a:lnTo>
                      <a:pt x="524" y="6"/>
                    </a:lnTo>
                    <a:lnTo>
                      <a:pt x="524" y="5"/>
                    </a:lnTo>
                    <a:lnTo>
                      <a:pt x="525" y="4"/>
                    </a:lnTo>
                    <a:lnTo>
                      <a:pt x="527" y="3"/>
                    </a:lnTo>
                    <a:lnTo>
                      <a:pt x="528" y="3"/>
                    </a:lnTo>
                    <a:lnTo>
                      <a:pt x="530" y="3"/>
                    </a:lnTo>
                    <a:lnTo>
                      <a:pt x="531" y="4"/>
                    </a:lnTo>
                    <a:lnTo>
                      <a:pt x="532" y="5"/>
                    </a:lnTo>
                    <a:lnTo>
                      <a:pt x="533" y="6"/>
                    </a:lnTo>
                    <a:lnTo>
                      <a:pt x="561" y="6"/>
                    </a:lnTo>
                    <a:lnTo>
                      <a:pt x="561" y="5"/>
                    </a:lnTo>
                    <a:lnTo>
                      <a:pt x="562" y="4"/>
                    </a:lnTo>
                    <a:lnTo>
                      <a:pt x="564" y="3"/>
                    </a:lnTo>
                    <a:lnTo>
                      <a:pt x="565" y="3"/>
                    </a:lnTo>
                    <a:lnTo>
                      <a:pt x="567" y="3"/>
                    </a:lnTo>
                    <a:lnTo>
                      <a:pt x="569" y="4"/>
                    </a:lnTo>
                    <a:lnTo>
                      <a:pt x="570" y="5"/>
                    </a:lnTo>
                    <a:lnTo>
                      <a:pt x="570" y="6"/>
                    </a:lnTo>
                    <a:lnTo>
                      <a:pt x="600" y="6"/>
                    </a:lnTo>
                    <a:lnTo>
                      <a:pt x="600" y="5"/>
                    </a:lnTo>
                    <a:lnTo>
                      <a:pt x="601" y="4"/>
                    </a:lnTo>
                    <a:lnTo>
                      <a:pt x="603" y="3"/>
                    </a:lnTo>
                    <a:lnTo>
                      <a:pt x="604" y="3"/>
                    </a:lnTo>
                    <a:lnTo>
                      <a:pt x="606" y="3"/>
                    </a:lnTo>
                    <a:lnTo>
                      <a:pt x="607" y="4"/>
                    </a:lnTo>
                    <a:lnTo>
                      <a:pt x="608" y="5"/>
                    </a:lnTo>
                    <a:lnTo>
                      <a:pt x="609" y="6"/>
                    </a:lnTo>
                    <a:lnTo>
                      <a:pt x="612" y="6"/>
                    </a:lnTo>
                    <a:lnTo>
                      <a:pt x="612" y="5"/>
                    </a:lnTo>
                    <a:lnTo>
                      <a:pt x="613" y="4"/>
                    </a:lnTo>
                    <a:lnTo>
                      <a:pt x="614" y="3"/>
                    </a:lnTo>
                    <a:lnTo>
                      <a:pt x="616" y="3"/>
                    </a:lnTo>
                    <a:lnTo>
                      <a:pt x="618" y="3"/>
                    </a:lnTo>
                    <a:lnTo>
                      <a:pt x="619" y="4"/>
                    </a:lnTo>
                    <a:lnTo>
                      <a:pt x="620" y="5"/>
                    </a:lnTo>
                    <a:lnTo>
                      <a:pt x="621" y="6"/>
                    </a:lnTo>
                    <a:lnTo>
                      <a:pt x="709" y="6"/>
                    </a:lnTo>
                    <a:lnTo>
                      <a:pt x="709" y="5"/>
                    </a:lnTo>
                    <a:lnTo>
                      <a:pt x="710" y="4"/>
                    </a:lnTo>
                    <a:lnTo>
                      <a:pt x="711" y="3"/>
                    </a:lnTo>
                    <a:lnTo>
                      <a:pt x="713" y="3"/>
                    </a:lnTo>
                    <a:lnTo>
                      <a:pt x="715" y="3"/>
                    </a:lnTo>
                    <a:lnTo>
                      <a:pt x="716" y="4"/>
                    </a:lnTo>
                    <a:lnTo>
                      <a:pt x="717" y="5"/>
                    </a:lnTo>
                    <a:lnTo>
                      <a:pt x="717" y="6"/>
                    </a:lnTo>
                    <a:lnTo>
                      <a:pt x="736" y="6"/>
                    </a:lnTo>
                    <a:lnTo>
                      <a:pt x="736" y="5"/>
                    </a:lnTo>
                    <a:lnTo>
                      <a:pt x="737" y="4"/>
                    </a:lnTo>
                    <a:lnTo>
                      <a:pt x="738" y="3"/>
                    </a:lnTo>
                    <a:lnTo>
                      <a:pt x="740" y="3"/>
                    </a:lnTo>
                    <a:lnTo>
                      <a:pt x="742" y="3"/>
                    </a:lnTo>
                    <a:lnTo>
                      <a:pt x="743" y="4"/>
                    </a:lnTo>
                    <a:lnTo>
                      <a:pt x="744" y="5"/>
                    </a:lnTo>
                    <a:lnTo>
                      <a:pt x="744" y="6"/>
                    </a:lnTo>
                    <a:lnTo>
                      <a:pt x="868" y="6"/>
                    </a:lnTo>
                    <a:lnTo>
                      <a:pt x="869" y="5"/>
                    </a:lnTo>
                    <a:lnTo>
                      <a:pt x="870" y="4"/>
                    </a:lnTo>
                    <a:lnTo>
                      <a:pt x="871" y="3"/>
                    </a:lnTo>
                    <a:lnTo>
                      <a:pt x="873" y="3"/>
                    </a:lnTo>
                    <a:lnTo>
                      <a:pt x="874" y="3"/>
                    </a:lnTo>
                    <a:lnTo>
                      <a:pt x="876" y="4"/>
                    </a:lnTo>
                    <a:lnTo>
                      <a:pt x="877" y="5"/>
                    </a:lnTo>
                    <a:lnTo>
                      <a:pt x="877" y="6"/>
                    </a:lnTo>
                    <a:lnTo>
                      <a:pt x="909" y="6"/>
                    </a:lnTo>
                    <a:lnTo>
                      <a:pt x="909" y="5"/>
                    </a:lnTo>
                    <a:lnTo>
                      <a:pt x="910" y="4"/>
                    </a:lnTo>
                    <a:lnTo>
                      <a:pt x="912" y="3"/>
                    </a:lnTo>
                    <a:lnTo>
                      <a:pt x="913" y="3"/>
                    </a:lnTo>
                    <a:lnTo>
                      <a:pt x="915" y="3"/>
                    </a:lnTo>
                    <a:lnTo>
                      <a:pt x="916" y="4"/>
                    </a:lnTo>
                    <a:lnTo>
                      <a:pt x="917" y="5"/>
                    </a:lnTo>
                    <a:lnTo>
                      <a:pt x="918" y="6"/>
                    </a:lnTo>
                    <a:lnTo>
                      <a:pt x="922" y="6"/>
                    </a:lnTo>
                    <a:lnTo>
                      <a:pt x="923" y="5"/>
                    </a:lnTo>
                    <a:lnTo>
                      <a:pt x="924" y="4"/>
                    </a:lnTo>
                    <a:lnTo>
                      <a:pt x="925" y="3"/>
                    </a:lnTo>
                    <a:lnTo>
                      <a:pt x="927" y="3"/>
                    </a:lnTo>
                    <a:lnTo>
                      <a:pt x="928" y="3"/>
                    </a:lnTo>
                    <a:lnTo>
                      <a:pt x="930" y="4"/>
                    </a:lnTo>
                    <a:lnTo>
                      <a:pt x="931" y="5"/>
                    </a:lnTo>
                    <a:lnTo>
                      <a:pt x="931" y="6"/>
                    </a:lnTo>
                    <a:lnTo>
                      <a:pt x="940" y="6"/>
                    </a:lnTo>
                    <a:lnTo>
                      <a:pt x="940" y="40"/>
                    </a:lnTo>
                    <a:lnTo>
                      <a:pt x="969" y="40"/>
                    </a:lnTo>
                    <a:lnTo>
                      <a:pt x="970" y="39"/>
                    </a:lnTo>
                    <a:lnTo>
                      <a:pt x="971" y="38"/>
                    </a:lnTo>
                    <a:lnTo>
                      <a:pt x="972" y="37"/>
                    </a:lnTo>
                    <a:lnTo>
                      <a:pt x="974" y="37"/>
                    </a:lnTo>
                    <a:lnTo>
                      <a:pt x="976" y="37"/>
                    </a:lnTo>
                    <a:lnTo>
                      <a:pt x="977" y="38"/>
                    </a:lnTo>
                    <a:lnTo>
                      <a:pt x="978" y="39"/>
                    </a:lnTo>
                    <a:lnTo>
                      <a:pt x="979" y="40"/>
                    </a:lnTo>
                    <a:lnTo>
                      <a:pt x="1004" y="40"/>
                    </a:lnTo>
                    <a:lnTo>
                      <a:pt x="1004" y="39"/>
                    </a:lnTo>
                    <a:lnTo>
                      <a:pt x="1005" y="38"/>
                    </a:lnTo>
                    <a:lnTo>
                      <a:pt x="1007" y="37"/>
                    </a:lnTo>
                    <a:lnTo>
                      <a:pt x="1009" y="37"/>
                    </a:lnTo>
                    <a:lnTo>
                      <a:pt x="1010" y="37"/>
                    </a:lnTo>
                    <a:lnTo>
                      <a:pt x="1012" y="38"/>
                    </a:lnTo>
                    <a:lnTo>
                      <a:pt x="1013" y="39"/>
                    </a:lnTo>
                    <a:lnTo>
                      <a:pt x="1013" y="40"/>
                    </a:lnTo>
                    <a:lnTo>
                      <a:pt x="1019" y="40"/>
                    </a:lnTo>
                    <a:lnTo>
                      <a:pt x="1019" y="39"/>
                    </a:lnTo>
                    <a:lnTo>
                      <a:pt x="1020" y="38"/>
                    </a:lnTo>
                    <a:lnTo>
                      <a:pt x="1021" y="37"/>
                    </a:lnTo>
                    <a:lnTo>
                      <a:pt x="1023" y="37"/>
                    </a:lnTo>
                    <a:lnTo>
                      <a:pt x="1025" y="37"/>
                    </a:lnTo>
                    <a:lnTo>
                      <a:pt x="1026" y="38"/>
                    </a:lnTo>
                    <a:lnTo>
                      <a:pt x="1027" y="39"/>
                    </a:lnTo>
                    <a:lnTo>
                      <a:pt x="1027" y="40"/>
                    </a:lnTo>
                    <a:lnTo>
                      <a:pt x="1037" y="40"/>
                    </a:lnTo>
                  </a:path>
                </a:pathLst>
              </a:custGeom>
              <a:noFill/>
              <a:ln w="1440">
                <a:solidFill>
                  <a:srgbClr val="ff0000"/>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336" name=""/>
              <p:cNvSpPr/>
              <p:nvPr/>
            </p:nvSpPr>
            <p:spPr>
              <a:xfrm>
                <a:off x="7034400" y="3309120"/>
                <a:ext cx="13680" cy="11520"/>
              </a:xfrm>
              <a:custGeom>
                <a:avLst/>
                <a:gdLst/>
                <a:ahLst/>
                <a:rect l="l" t="t" r="r" b="b"/>
                <a:pathLst>
                  <a:path w="13" h="9">
                    <a:moveTo>
                      <a:pt x="12" y="9"/>
                    </a:moveTo>
                    <a:lnTo>
                      <a:pt x="0" y="4"/>
                    </a:lnTo>
                    <a:lnTo>
                      <a:pt x="12" y="0"/>
                    </a:lnTo>
                    <a:lnTo>
                      <a:pt x="13" y="2"/>
                    </a:lnTo>
                    <a:lnTo>
                      <a:pt x="13" y="4"/>
                    </a:lnTo>
                    <a:lnTo>
                      <a:pt x="13" y="7"/>
                    </a:lnTo>
                    <a:lnTo>
                      <a:pt x="12" y="9"/>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37" name=""/>
              <p:cNvSpPr/>
              <p:nvPr/>
            </p:nvSpPr>
            <p:spPr>
              <a:xfrm>
                <a:off x="8130240" y="3353040"/>
                <a:ext cx="14760" cy="13320"/>
              </a:xfrm>
              <a:custGeom>
                <a:avLst/>
                <a:gdLst/>
                <a:ahLst/>
                <a:rect l="l" t="t" r="r" b="b"/>
                <a:pathLst>
                  <a:path w="14" h="10">
                    <a:moveTo>
                      <a:pt x="2" y="0"/>
                    </a:moveTo>
                    <a:lnTo>
                      <a:pt x="14" y="5"/>
                    </a:lnTo>
                    <a:lnTo>
                      <a:pt x="2" y="10"/>
                    </a:lnTo>
                    <a:lnTo>
                      <a:pt x="1" y="7"/>
                    </a:lnTo>
                    <a:lnTo>
                      <a:pt x="0" y="5"/>
                    </a:lnTo>
                    <a:lnTo>
                      <a:pt x="1" y="3"/>
                    </a:lnTo>
                    <a:lnTo>
                      <a:pt x="2" y="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38" name=""/>
              <p:cNvSpPr/>
              <p:nvPr/>
            </p:nvSpPr>
            <p:spPr>
              <a:xfrm>
                <a:off x="6318000" y="3205080"/>
                <a:ext cx="361080" cy="6480"/>
              </a:xfrm>
              <a:custGeom>
                <a:avLst/>
                <a:gdLst/>
                <a:ahLst/>
                <a:rect l="l" t="t" r="r" b="b"/>
                <a:pathLst>
                  <a:path w="341" h="5">
                    <a:moveTo>
                      <a:pt x="341" y="5"/>
                    </a:moveTo>
                    <a:lnTo>
                      <a:pt x="332" y="5"/>
                    </a:lnTo>
                    <a:lnTo>
                      <a:pt x="332" y="5"/>
                    </a:lnTo>
                    <a:lnTo>
                      <a:pt x="303" y="5"/>
                    </a:lnTo>
                    <a:lnTo>
                      <a:pt x="303" y="4"/>
                    </a:lnTo>
                    <a:lnTo>
                      <a:pt x="302" y="3"/>
                    </a:lnTo>
                    <a:lnTo>
                      <a:pt x="300" y="2"/>
                    </a:lnTo>
                    <a:lnTo>
                      <a:pt x="299" y="2"/>
                    </a:lnTo>
                    <a:lnTo>
                      <a:pt x="297" y="2"/>
                    </a:lnTo>
                    <a:lnTo>
                      <a:pt x="296" y="3"/>
                    </a:lnTo>
                    <a:lnTo>
                      <a:pt x="294" y="4"/>
                    </a:lnTo>
                    <a:lnTo>
                      <a:pt x="294" y="5"/>
                    </a:lnTo>
                    <a:lnTo>
                      <a:pt x="276" y="5"/>
                    </a:lnTo>
                    <a:lnTo>
                      <a:pt x="276" y="4"/>
                    </a:lnTo>
                    <a:lnTo>
                      <a:pt x="274" y="3"/>
                    </a:lnTo>
                    <a:lnTo>
                      <a:pt x="273" y="2"/>
                    </a:lnTo>
                    <a:lnTo>
                      <a:pt x="271" y="2"/>
                    </a:lnTo>
                    <a:lnTo>
                      <a:pt x="270" y="2"/>
                    </a:lnTo>
                    <a:lnTo>
                      <a:pt x="268" y="3"/>
                    </a:lnTo>
                    <a:lnTo>
                      <a:pt x="267" y="4"/>
                    </a:lnTo>
                    <a:lnTo>
                      <a:pt x="267" y="5"/>
                    </a:lnTo>
                    <a:lnTo>
                      <a:pt x="266" y="5"/>
                    </a:lnTo>
                    <a:lnTo>
                      <a:pt x="265" y="4"/>
                    </a:lnTo>
                    <a:lnTo>
                      <a:pt x="265" y="2"/>
                    </a:lnTo>
                    <a:lnTo>
                      <a:pt x="263" y="1"/>
                    </a:lnTo>
                    <a:lnTo>
                      <a:pt x="262" y="1"/>
                    </a:lnTo>
                    <a:lnTo>
                      <a:pt x="260" y="0"/>
                    </a:lnTo>
                    <a:lnTo>
                      <a:pt x="258" y="1"/>
                    </a:lnTo>
                    <a:lnTo>
                      <a:pt x="256" y="1"/>
                    </a:lnTo>
                    <a:lnTo>
                      <a:pt x="255" y="2"/>
                    </a:lnTo>
                    <a:lnTo>
                      <a:pt x="254" y="4"/>
                    </a:lnTo>
                    <a:lnTo>
                      <a:pt x="254" y="5"/>
                    </a:lnTo>
                    <a:lnTo>
                      <a:pt x="207" y="5"/>
                    </a:lnTo>
                    <a:lnTo>
                      <a:pt x="207" y="4"/>
                    </a:lnTo>
                    <a:lnTo>
                      <a:pt x="206" y="3"/>
                    </a:lnTo>
                    <a:lnTo>
                      <a:pt x="204" y="2"/>
                    </a:lnTo>
                    <a:lnTo>
                      <a:pt x="202" y="2"/>
                    </a:lnTo>
                    <a:lnTo>
                      <a:pt x="201" y="2"/>
                    </a:lnTo>
                    <a:lnTo>
                      <a:pt x="199" y="3"/>
                    </a:lnTo>
                    <a:lnTo>
                      <a:pt x="198" y="4"/>
                    </a:lnTo>
                    <a:lnTo>
                      <a:pt x="198" y="5"/>
                    </a:lnTo>
                    <a:lnTo>
                      <a:pt x="193" y="5"/>
                    </a:lnTo>
                    <a:lnTo>
                      <a:pt x="193" y="4"/>
                    </a:lnTo>
                    <a:lnTo>
                      <a:pt x="192" y="3"/>
                    </a:lnTo>
                    <a:lnTo>
                      <a:pt x="191" y="2"/>
                    </a:lnTo>
                    <a:lnTo>
                      <a:pt x="189" y="2"/>
                    </a:lnTo>
                    <a:lnTo>
                      <a:pt x="187" y="2"/>
                    </a:lnTo>
                    <a:lnTo>
                      <a:pt x="186" y="3"/>
                    </a:lnTo>
                    <a:lnTo>
                      <a:pt x="185" y="4"/>
                    </a:lnTo>
                    <a:lnTo>
                      <a:pt x="184" y="5"/>
                    </a:lnTo>
                    <a:lnTo>
                      <a:pt x="182" y="5"/>
                    </a:lnTo>
                    <a:lnTo>
                      <a:pt x="181" y="4"/>
                    </a:lnTo>
                    <a:lnTo>
                      <a:pt x="180" y="3"/>
                    </a:lnTo>
                    <a:lnTo>
                      <a:pt x="179" y="2"/>
                    </a:lnTo>
                    <a:lnTo>
                      <a:pt x="177" y="2"/>
                    </a:lnTo>
                    <a:lnTo>
                      <a:pt x="175" y="2"/>
                    </a:lnTo>
                    <a:lnTo>
                      <a:pt x="174" y="3"/>
                    </a:lnTo>
                    <a:lnTo>
                      <a:pt x="173" y="4"/>
                    </a:lnTo>
                    <a:lnTo>
                      <a:pt x="173" y="5"/>
                    </a:lnTo>
                    <a:lnTo>
                      <a:pt x="162" y="5"/>
                    </a:lnTo>
                    <a:lnTo>
                      <a:pt x="162" y="4"/>
                    </a:lnTo>
                    <a:lnTo>
                      <a:pt x="161" y="3"/>
                    </a:lnTo>
                    <a:lnTo>
                      <a:pt x="159" y="2"/>
                    </a:lnTo>
                    <a:lnTo>
                      <a:pt x="158" y="2"/>
                    </a:lnTo>
                    <a:lnTo>
                      <a:pt x="156" y="2"/>
                    </a:lnTo>
                    <a:lnTo>
                      <a:pt x="155" y="3"/>
                    </a:lnTo>
                    <a:lnTo>
                      <a:pt x="154" y="4"/>
                    </a:lnTo>
                    <a:lnTo>
                      <a:pt x="153" y="5"/>
                    </a:lnTo>
                    <a:lnTo>
                      <a:pt x="142" y="5"/>
                    </a:lnTo>
                    <a:lnTo>
                      <a:pt x="142" y="4"/>
                    </a:lnTo>
                    <a:lnTo>
                      <a:pt x="141" y="3"/>
                    </a:lnTo>
                    <a:lnTo>
                      <a:pt x="140" y="2"/>
                    </a:lnTo>
                    <a:lnTo>
                      <a:pt x="138" y="2"/>
                    </a:lnTo>
                    <a:lnTo>
                      <a:pt x="136" y="2"/>
                    </a:lnTo>
                    <a:lnTo>
                      <a:pt x="135" y="3"/>
                    </a:lnTo>
                    <a:lnTo>
                      <a:pt x="134" y="4"/>
                    </a:lnTo>
                    <a:lnTo>
                      <a:pt x="133" y="5"/>
                    </a:lnTo>
                    <a:lnTo>
                      <a:pt x="121" y="5"/>
                    </a:lnTo>
                    <a:lnTo>
                      <a:pt x="120" y="4"/>
                    </a:lnTo>
                    <a:lnTo>
                      <a:pt x="119" y="3"/>
                    </a:lnTo>
                    <a:lnTo>
                      <a:pt x="118" y="2"/>
                    </a:lnTo>
                    <a:lnTo>
                      <a:pt x="116" y="2"/>
                    </a:lnTo>
                    <a:lnTo>
                      <a:pt x="115" y="2"/>
                    </a:lnTo>
                    <a:lnTo>
                      <a:pt x="113" y="3"/>
                    </a:lnTo>
                    <a:lnTo>
                      <a:pt x="112" y="4"/>
                    </a:lnTo>
                    <a:lnTo>
                      <a:pt x="112" y="5"/>
                    </a:lnTo>
                    <a:lnTo>
                      <a:pt x="97" y="5"/>
                    </a:lnTo>
                    <a:lnTo>
                      <a:pt x="97" y="4"/>
                    </a:lnTo>
                    <a:lnTo>
                      <a:pt x="96" y="3"/>
                    </a:lnTo>
                    <a:lnTo>
                      <a:pt x="94" y="2"/>
                    </a:lnTo>
                    <a:lnTo>
                      <a:pt x="93" y="2"/>
                    </a:lnTo>
                    <a:lnTo>
                      <a:pt x="91" y="2"/>
                    </a:lnTo>
                    <a:lnTo>
                      <a:pt x="89" y="3"/>
                    </a:lnTo>
                    <a:lnTo>
                      <a:pt x="89" y="4"/>
                    </a:lnTo>
                    <a:lnTo>
                      <a:pt x="88" y="5"/>
                    </a:lnTo>
                    <a:lnTo>
                      <a:pt x="61" y="5"/>
                    </a:lnTo>
                    <a:lnTo>
                      <a:pt x="61" y="4"/>
                    </a:lnTo>
                    <a:lnTo>
                      <a:pt x="60" y="2"/>
                    </a:lnTo>
                    <a:lnTo>
                      <a:pt x="58" y="1"/>
                    </a:lnTo>
                    <a:lnTo>
                      <a:pt x="57" y="0"/>
                    </a:lnTo>
                    <a:lnTo>
                      <a:pt x="54" y="0"/>
                    </a:lnTo>
                    <a:lnTo>
                      <a:pt x="52" y="0"/>
                    </a:lnTo>
                    <a:lnTo>
                      <a:pt x="50" y="1"/>
                    </a:lnTo>
                    <a:lnTo>
                      <a:pt x="49" y="2"/>
                    </a:lnTo>
                    <a:lnTo>
                      <a:pt x="48" y="4"/>
                    </a:lnTo>
                    <a:lnTo>
                      <a:pt x="48" y="5"/>
                    </a:lnTo>
                    <a:lnTo>
                      <a:pt x="40" y="5"/>
                    </a:lnTo>
                    <a:lnTo>
                      <a:pt x="39" y="4"/>
                    </a:lnTo>
                    <a:lnTo>
                      <a:pt x="38" y="3"/>
                    </a:lnTo>
                    <a:lnTo>
                      <a:pt x="37" y="2"/>
                    </a:lnTo>
                    <a:lnTo>
                      <a:pt x="35" y="2"/>
                    </a:lnTo>
                    <a:lnTo>
                      <a:pt x="33" y="2"/>
                    </a:lnTo>
                    <a:lnTo>
                      <a:pt x="32" y="3"/>
                    </a:lnTo>
                    <a:lnTo>
                      <a:pt x="31" y="4"/>
                    </a:lnTo>
                    <a:lnTo>
                      <a:pt x="31" y="5"/>
                    </a:lnTo>
                    <a:lnTo>
                      <a:pt x="0" y="5"/>
                    </a:lnTo>
                  </a:path>
                </a:pathLst>
              </a:custGeom>
              <a:noFill/>
              <a:ln w="1440">
                <a:solidFill>
                  <a:srgbClr val="0000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339" name=""/>
              <p:cNvSpPr/>
              <p:nvPr/>
            </p:nvSpPr>
            <p:spPr>
              <a:xfrm>
                <a:off x="6676920" y="3206160"/>
                <a:ext cx="1440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40" name=""/>
              <p:cNvSpPr/>
              <p:nvPr/>
            </p:nvSpPr>
            <p:spPr>
              <a:xfrm>
                <a:off x="5109840" y="3276000"/>
                <a:ext cx="1581480" cy="552600"/>
              </a:xfrm>
              <a:custGeom>
                <a:avLst/>
                <a:gdLst/>
                <a:ahLst/>
                <a:rect l="l" t="t" r="r" b="b"/>
                <a:pathLst>
                  <a:path w="1494" h="414">
                    <a:moveTo>
                      <a:pt x="0" y="414"/>
                    </a:moveTo>
                    <a:lnTo>
                      <a:pt x="0" y="110"/>
                    </a:lnTo>
                    <a:lnTo>
                      <a:pt x="24" y="110"/>
                    </a:lnTo>
                    <a:lnTo>
                      <a:pt x="24" y="109"/>
                    </a:lnTo>
                    <a:lnTo>
                      <a:pt x="25" y="107"/>
                    </a:lnTo>
                    <a:lnTo>
                      <a:pt x="26" y="107"/>
                    </a:lnTo>
                    <a:lnTo>
                      <a:pt x="28" y="106"/>
                    </a:lnTo>
                    <a:lnTo>
                      <a:pt x="30" y="107"/>
                    </a:lnTo>
                    <a:lnTo>
                      <a:pt x="31" y="107"/>
                    </a:lnTo>
                    <a:lnTo>
                      <a:pt x="32" y="109"/>
                    </a:lnTo>
                    <a:lnTo>
                      <a:pt x="33" y="110"/>
                    </a:lnTo>
                    <a:lnTo>
                      <a:pt x="33" y="110"/>
                    </a:lnTo>
                    <a:lnTo>
                      <a:pt x="33" y="109"/>
                    </a:lnTo>
                    <a:lnTo>
                      <a:pt x="34" y="107"/>
                    </a:lnTo>
                    <a:lnTo>
                      <a:pt x="35" y="107"/>
                    </a:lnTo>
                    <a:lnTo>
                      <a:pt x="37" y="106"/>
                    </a:lnTo>
                    <a:lnTo>
                      <a:pt x="39" y="107"/>
                    </a:lnTo>
                    <a:lnTo>
                      <a:pt x="40" y="107"/>
                    </a:lnTo>
                    <a:lnTo>
                      <a:pt x="41" y="109"/>
                    </a:lnTo>
                    <a:lnTo>
                      <a:pt x="42" y="110"/>
                    </a:lnTo>
                    <a:lnTo>
                      <a:pt x="49" y="110"/>
                    </a:lnTo>
                    <a:lnTo>
                      <a:pt x="49" y="109"/>
                    </a:lnTo>
                    <a:lnTo>
                      <a:pt x="50" y="107"/>
                    </a:lnTo>
                    <a:lnTo>
                      <a:pt x="52" y="107"/>
                    </a:lnTo>
                    <a:lnTo>
                      <a:pt x="53" y="106"/>
                    </a:lnTo>
                    <a:lnTo>
                      <a:pt x="55" y="107"/>
                    </a:lnTo>
                    <a:lnTo>
                      <a:pt x="56" y="107"/>
                    </a:lnTo>
                    <a:lnTo>
                      <a:pt x="57" y="109"/>
                    </a:lnTo>
                    <a:lnTo>
                      <a:pt x="58" y="110"/>
                    </a:lnTo>
                    <a:lnTo>
                      <a:pt x="64" y="110"/>
                    </a:lnTo>
                    <a:lnTo>
                      <a:pt x="64" y="109"/>
                    </a:lnTo>
                    <a:lnTo>
                      <a:pt x="65" y="107"/>
                    </a:lnTo>
                    <a:lnTo>
                      <a:pt x="67" y="107"/>
                    </a:lnTo>
                    <a:lnTo>
                      <a:pt x="69" y="106"/>
                    </a:lnTo>
                    <a:lnTo>
                      <a:pt x="70" y="107"/>
                    </a:lnTo>
                    <a:lnTo>
                      <a:pt x="72" y="107"/>
                    </a:lnTo>
                    <a:lnTo>
                      <a:pt x="73" y="109"/>
                    </a:lnTo>
                    <a:lnTo>
                      <a:pt x="73" y="110"/>
                    </a:lnTo>
                    <a:lnTo>
                      <a:pt x="82" y="110"/>
                    </a:lnTo>
                    <a:lnTo>
                      <a:pt x="82" y="109"/>
                    </a:lnTo>
                    <a:lnTo>
                      <a:pt x="83" y="107"/>
                    </a:lnTo>
                    <a:lnTo>
                      <a:pt x="84" y="107"/>
                    </a:lnTo>
                    <a:lnTo>
                      <a:pt x="86" y="106"/>
                    </a:lnTo>
                    <a:lnTo>
                      <a:pt x="88" y="107"/>
                    </a:lnTo>
                    <a:lnTo>
                      <a:pt x="89" y="107"/>
                    </a:lnTo>
                    <a:lnTo>
                      <a:pt x="90" y="109"/>
                    </a:lnTo>
                    <a:lnTo>
                      <a:pt x="91" y="110"/>
                    </a:lnTo>
                    <a:lnTo>
                      <a:pt x="111" y="110"/>
                    </a:lnTo>
                    <a:lnTo>
                      <a:pt x="111" y="109"/>
                    </a:lnTo>
                    <a:lnTo>
                      <a:pt x="112" y="107"/>
                    </a:lnTo>
                    <a:lnTo>
                      <a:pt x="114" y="107"/>
                    </a:lnTo>
                    <a:lnTo>
                      <a:pt x="116" y="106"/>
                    </a:lnTo>
                    <a:lnTo>
                      <a:pt x="117" y="107"/>
                    </a:lnTo>
                    <a:lnTo>
                      <a:pt x="119" y="107"/>
                    </a:lnTo>
                    <a:lnTo>
                      <a:pt x="120" y="109"/>
                    </a:lnTo>
                    <a:lnTo>
                      <a:pt x="120" y="110"/>
                    </a:lnTo>
                    <a:lnTo>
                      <a:pt x="199" y="110"/>
                    </a:lnTo>
                    <a:lnTo>
                      <a:pt x="199" y="109"/>
                    </a:lnTo>
                    <a:lnTo>
                      <a:pt x="200" y="107"/>
                    </a:lnTo>
                    <a:lnTo>
                      <a:pt x="202" y="107"/>
                    </a:lnTo>
                    <a:lnTo>
                      <a:pt x="204" y="106"/>
                    </a:lnTo>
                    <a:lnTo>
                      <a:pt x="205" y="107"/>
                    </a:lnTo>
                    <a:lnTo>
                      <a:pt x="207" y="107"/>
                    </a:lnTo>
                    <a:lnTo>
                      <a:pt x="208" y="109"/>
                    </a:lnTo>
                    <a:lnTo>
                      <a:pt x="208" y="110"/>
                    </a:lnTo>
                    <a:lnTo>
                      <a:pt x="227" y="110"/>
                    </a:lnTo>
                    <a:lnTo>
                      <a:pt x="227" y="109"/>
                    </a:lnTo>
                    <a:lnTo>
                      <a:pt x="228" y="107"/>
                    </a:lnTo>
                    <a:lnTo>
                      <a:pt x="230" y="107"/>
                    </a:lnTo>
                    <a:lnTo>
                      <a:pt x="232" y="106"/>
                    </a:lnTo>
                    <a:lnTo>
                      <a:pt x="233" y="107"/>
                    </a:lnTo>
                    <a:lnTo>
                      <a:pt x="235" y="107"/>
                    </a:lnTo>
                    <a:lnTo>
                      <a:pt x="236" y="109"/>
                    </a:lnTo>
                    <a:lnTo>
                      <a:pt x="236" y="110"/>
                    </a:lnTo>
                    <a:lnTo>
                      <a:pt x="265" y="110"/>
                    </a:lnTo>
                    <a:lnTo>
                      <a:pt x="265" y="109"/>
                    </a:lnTo>
                    <a:lnTo>
                      <a:pt x="266" y="107"/>
                    </a:lnTo>
                    <a:lnTo>
                      <a:pt x="268" y="107"/>
                    </a:lnTo>
                    <a:lnTo>
                      <a:pt x="269" y="106"/>
                    </a:lnTo>
                    <a:lnTo>
                      <a:pt x="271" y="107"/>
                    </a:lnTo>
                    <a:lnTo>
                      <a:pt x="273" y="107"/>
                    </a:lnTo>
                    <a:lnTo>
                      <a:pt x="274" y="109"/>
                    </a:lnTo>
                    <a:lnTo>
                      <a:pt x="274" y="110"/>
                    </a:lnTo>
                    <a:lnTo>
                      <a:pt x="285" y="110"/>
                    </a:lnTo>
                    <a:lnTo>
                      <a:pt x="285" y="109"/>
                    </a:lnTo>
                    <a:lnTo>
                      <a:pt x="286" y="107"/>
                    </a:lnTo>
                    <a:lnTo>
                      <a:pt x="288" y="107"/>
                    </a:lnTo>
                    <a:lnTo>
                      <a:pt x="289" y="106"/>
                    </a:lnTo>
                    <a:lnTo>
                      <a:pt x="291" y="107"/>
                    </a:lnTo>
                    <a:lnTo>
                      <a:pt x="292" y="107"/>
                    </a:lnTo>
                    <a:lnTo>
                      <a:pt x="294" y="109"/>
                    </a:lnTo>
                    <a:lnTo>
                      <a:pt x="294" y="110"/>
                    </a:lnTo>
                    <a:lnTo>
                      <a:pt x="296" y="110"/>
                    </a:lnTo>
                    <a:lnTo>
                      <a:pt x="296" y="109"/>
                    </a:lnTo>
                    <a:lnTo>
                      <a:pt x="297" y="107"/>
                    </a:lnTo>
                    <a:lnTo>
                      <a:pt x="299" y="107"/>
                    </a:lnTo>
                    <a:lnTo>
                      <a:pt x="300" y="106"/>
                    </a:lnTo>
                    <a:lnTo>
                      <a:pt x="302" y="107"/>
                    </a:lnTo>
                    <a:lnTo>
                      <a:pt x="304" y="107"/>
                    </a:lnTo>
                    <a:lnTo>
                      <a:pt x="305" y="109"/>
                    </a:lnTo>
                    <a:lnTo>
                      <a:pt x="305" y="110"/>
                    </a:lnTo>
                    <a:lnTo>
                      <a:pt x="306" y="110"/>
                    </a:lnTo>
                    <a:lnTo>
                      <a:pt x="306" y="109"/>
                    </a:lnTo>
                    <a:lnTo>
                      <a:pt x="307" y="107"/>
                    </a:lnTo>
                    <a:lnTo>
                      <a:pt x="308" y="107"/>
                    </a:lnTo>
                    <a:lnTo>
                      <a:pt x="310" y="106"/>
                    </a:lnTo>
                    <a:lnTo>
                      <a:pt x="312" y="107"/>
                    </a:lnTo>
                    <a:lnTo>
                      <a:pt x="313" y="107"/>
                    </a:lnTo>
                    <a:lnTo>
                      <a:pt x="314" y="109"/>
                    </a:lnTo>
                    <a:lnTo>
                      <a:pt x="314" y="110"/>
                    </a:lnTo>
                    <a:lnTo>
                      <a:pt x="316" y="110"/>
                    </a:lnTo>
                    <a:lnTo>
                      <a:pt x="317" y="108"/>
                    </a:lnTo>
                    <a:lnTo>
                      <a:pt x="318" y="106"/>
                    </a:lnTo>
                    <a:lnTo>
                      <a:pt x="319" y="105"/>
                    </a:lnTo>
                    <a:lnTo>
                      <a:pt x="321" y="104"/>
                    </a:lnTo>
                    <a:lnTo>
                      <a:pt x="324" y="103"/>
                    </a:lnTo>
                    <a:lnTo>
                      <a:pt x="326" y="103"/>
                    </a:lnTo>
                    <a:lnTo>
                      <a:pt x="328" y="104"/>
                    </a:lnTo>
                    <a:lnTo>
                      <a:pt x="331" y="105"/>
                    </a:lnTo>
                    <a:lnTo>
                      <a:pt x="332" y="106"/>
                    </a:lnTo>
                    <a:lnTo>
                      <a:pt x="333" y="108"/>
                    </a:lnTo>
                    <a:lnTo>
                      <a:pt x="334" y="110"/>
                    </a:lnTo>
                    <a:lnTo>
                      <a:pt x="338" y="110"/>
                    </a:lnTo>
                    <a:lnTo>
                      <a:pt x="338" y="108"/>
                    </a:lnTo>
                    <a:lnTo>
                      <a:pt x="339" y="106"/>
                    </a:lnTo>
                    <a:lnTo>
                      <a:pt x="341" y="105"/>
                    </a:lnTo>
                    <a:lnTo>
                      <a:pt x="343" y="104"/>
                    </a:lnTo>
                    <a:lnTo>
                      <a:pt x="345" y="104"/>
                    </a:lnTo>
                    <a:lnTo>
                      <a:pt x="347" y="104"/>
                    </a:lnTo>
                    <a:lnTo>
                      <a:pt x="350" y="104"/>
                    </a:lnTo>
                    <a:lnTo>
                      <a:pt x="352" y="105"/>
                    </a:lnTo>
                    <a:lnTo>
                      <a:pt x="353" y="106"/>
                    </a:lnTo>
                    <a:lnTo>
                      <a:pt x="354" y="108"/>
                    </a:lnTo>
                    <a:lnTo>
                      <a:pt x="354" y="110"/>
                    </a:lnTo>
                    <a:lnTo>
                      <a:pt x="369" y="110"/>
                    </a:lnTo>
                    <a:lnTo>
                      <a:pt x="369" y="109"/>
                    </a:lnTo>
                    <a:lnTo>
                      <a:pt x="370" y="107"/>
                    </a:lnTo>
                    <a:lnTo>
                      <a:pt x="372" y="107"/>
                    </a:lnTo>
                    <a:lnTo>
                      <a:pt x="373" y="106"/>
                    </a:lnTo>
                    <a:lnTo>
                      <a:pt x="375" y="107"/>
                    </a:lnTo>
                    <a:lnTo>
                      <a:pt x="377" y="107"/>
                    </a:lnTo>
                    <a:lnTo>
                      <a:pt x="377" y="109"/>
                    </a:lnTo>
                    <a:lnTo>
                      <a:pt x="378" y="110"/>
                    </a:lnTo>
                    <a:lnTo>
                      <a:pt x="385" y="110"/>
                    </a:lnTo>
                    <a:lnTo>
                      <a:pt x="385" y="109"/>
                    </a:lnTo>
                    <a:lnTo>
                      <a:pt x="386" y="107"/>
                    </a:lnTo>
                    <a:lnTo>
                      <a:pt x="388" y="107"/>
                    </a:lnTo>
                    <a:lnTo>
                      <a:pt x="389" y="106"/>
                    </a:lnTo>
                    <a:lnTo>
                      <a:pt x="391" y="107"/>
                    </a:lnTo>
                    <a:lnTo>
                      <a:pt x="393" y="107"/>
                    </a:lnTo>
                    <a:lnTo>
                      <a:pt x="393" y="109"/>
                    </a:lnTo>
                    <a:lnTo>
                      <a:pt x="394" y="110"/>
                    </a:lnTo>
                    <a:lnTo>
                      <a:pt x="397" y="110"/>
                    </a:lnTo>
                    <a:lnTo>
                      <a:pt x="397" y="109"/>
                    </a:lnTo>
                    <a:lnTo>
                      <a:pt x="398" y="107"/>
                    </a:lnTo>
                    <a:lnTo>
                      <a:pt x="399" y="107"/>
                    </a:lnTo>
                    <a:lnTo>
                      <a:pt x="401" y="106"/>
                    </a:lnTo>
                    <a:lnTo>
                      <a:pt x="403" y="107"/>
                    </a:lnTo>
                    <a:lnTo>
                      <a:pt x="404" y="107"/>
                    </a:lnTo>
                    <a:lnTo>
                      <a:pt x="405" y="109"/>
                    </a:lnTo>
                    <a:lnTo>
                      <a:pt x="406" y="110"/>
                    </a:lnTo>
                    <a:lnTo>
                      <a:pt x="659" y="110"/>
                    </a:lnTo>
                    <a:lnTo>
                      <a:pt x="660" y="109"/>
                    </a:lnTo>
                    <a:lnTo>
                      <a:pt x="660" y="107"/>
                    </a:lnTo>
                    <a:lnTo>
                      <a:pt x="662" y="107"/>
                    </a:lnTo>
                    <a:lnTo>
                      <a:pt x="664" y="106"/>
                    </a:lnTo>
                    <a:lnTo>
                      <a:pt x="665" y="107"/>
                    </a:lnTo>
                    <a:lnTo>
                      <a:pt x="667" y="107"/>
                    </a:lnTo>
                    <a:lnTo>
                      <a:pt x="668" y="109"/>
                    </a:lnTo>
                    <a:lnTo>
                      <a:pt x="668" y="110"/>
                    </a:lnTo>
                    <a:lnTo>
                      <a:pt x="670" y="110"/>
                    </a:lnTo>
                    <a:lnTo>
                      <a:pt x="671" y="109"/>
                    </a:lnTo>
                    <a:lnTo>
                      <a:pt x="672" y="107"/>
                    </a:lnTo>
                    <a:lnTo>
                      <a:pt x="673" y="107"/>
                    </a:lnTo>
                    <a:lnTo>
                      <a:pt x="675" y="106"/>
                    </a:lnTo>
                    <a:lnTo>
                      <a:pt x="676" y="107"/>
                    </a:lnTo>
                    <a:lnTo>
                      <a:pt x="678" y="107"/>
                    </a:lnTo>
                    <a:lnTo>
                      <a:pt x="679" y="109"/>
                    </a:lnTo>
                    <a:lnTo>
                      <a:pt x="679" y="110"/>
                    </a:lnTo>
                    <a:lnTo>
                      <a:pt x="681" y="110"/>
                    </a:lnTo>
                    <a:lnTo>
                      <a:pt x="681" y="109"/>
                    </a:lnTo>
                    <a:lnTo>
                      <a:pt x="682" y="107"/>
                    </a:lnTo>
                    <a:lnTo>
                      <a:pt x="684" y="107"/>
                    </a:lnTo>
                    <a:lnTo>
                      <a:pt x="685" y="106"/>
                    </a:lnTo>
                    <a:lnTo>
                      <a:pt x="687" y="107"/>
                    </a:lnTo>
                    <a:lnTo>
                      <a:pt x="689" y="107"/>
                    </a:lnTo>
                    <a:lnTo>
                      <a:pt x="690" y="109"/>
                    </a:lnTo>
                    <a:lnTo>
                      <a:pt x="690" y="110"/>
                    </a:lnTo>
                    <a:lnTo>
                      <a:pt x="694" y="110"/>
                    </a:lnTo>
                    <a:lnTo>
                      <a:pt x="694" y="108"/>
                    </a:lnTo>
                    <a:lnTo>
                      <a:pt x="695" y="106"/>
                    </a:lnTo>
                    <a:lnTo>
                      <a:pt x="696" y="105"/>
                    </a:lnTo>
                    <a:lnTo>
                      <a:pt x="698" y="104"/>
                    </a:lnTo>
                    <a:lnTo>
                      <a:pt x="700" y="103"/>
                    </a:lnTo>
                    <a:lnTo>
                      <a:pt x="703" y="103"/>
                    </a:lnTo>
                    <a:lnTo>
                      <a:pt x="705" y="103"/>
                    </a:lnTo>
                    <a:lnTo>
                      <a:pt x="707" y="104"/>
                    </a:lnTo>
                    <a:lnTo>
                      <a:pt x="709" y="105"/>
                    </a:lnTo>
                    <a:lnTo>
                      <a:pt x="710" y="106"/>
                    </a:lnTo>
                    <a:lnTo>
                      <a:pt x="711" y="108"/>
                    </a:lnTo>
                    <a:lnTo>
                      <a:pt x="712" y="110"/>
                    </a:lnTo>
                    <a:lnTo>
                      <a:pt x="723" y="110"/>
                    </a:lnTo>
                    <a:lnTo>
                      <a:pt x="723" y="109"/>
                    </a:lnTo>
                    <a:lnTo>
                      <a:pt x="724" y="107"/>
                    </a:lnTo>
                    <a:lnTo>
                      <a:pt x="725" y="107"/>
                    </a:lnTo>
                    <a:lnTo>
                      <a:pt x="727" y="106"/>
                    </a:lnTo>
                    <a:lnTo>
                      <a:pt x="729" y="107"/>
                    </a:lnTo>
                    <a:lnTo>
                      <a:pt x="730" y="107"/>
                    </a:lnTo>
                    <a:lnTo>
                      <a:pt x="731" y="109"/>
                    </a:lnTo>
                    <a:lnTo>
                      <a:pt x="732" y="110"/>
                    </a:lnTo>
                    <a:lnTo>
                      <a:pt x="739" y="110"/>
                    </a:lnTo>
                    <a:lnTo>
                      <a:pt x="740" y="108"/>
                    </a:lnTo>
                    <a:lnTo>
                      <a:pt x="741" y="106"/>
                    </a:lnTo>
                    <a:lnTo>
                      <a:pt x="742" y="105"/>
                    </a:lnTo>
                    <a:lnTo>
                      <a:pt x="744" y="104"/>
                    </a:lnTo>
                    <a:lnTo>
                      <a:pt x="747" y="104"/>
                    </a:lnTo>
                    <a:lnTo>
                      <a:pt x="749" y="104"/>
                    </a:lnTo>
                    <a:lnTo>
                      <a:pt x="751" y="104"/>
                    </a:lnTo>
                    <a:lnTo>
                      <a:pt x="753" y="105"/>
                    </a:lnTo>
                    <a:lnTo>
                      <a:pt x="755" y="106"/>
                    </a:lnTo>
                    <a:lnTo>
                      <a:pt x="756" y="108"/>
                    </a:lnTo>
                    <a:lnTo>
                      <a:pt x="756" y="110"/>
                    </a:lnTo>
                    <a:lnTo>
                      <a:pt x="758" y="110"/>
                    </a:lnTo>
                    <a:lnTo>
                      <a:pt x="758" y="109"/>
                    </a:lnTo>
                    <a:lnTo>
                      <a:pt x="759" y="107"/>
                    </a:lnTo>
                    <a:lnTo>
                      <a:pt x="761" y="107"/>
                    </a:lnTo>
                    <a:lnTo>
                      <a:pt x="763" y="106"/>
                    </a:lnTo>
                    <a:lnTo>
                      <a:pt x="764" y="107"/>
                    </a:lnTo>
                    <a:lnTo>
                      <a:pt x="766" y="107"/>
                    </a:lnTo>
                    <a:lnTo>
                      <a:pt x="767" y="109"/>
                    </a:lnTo>
                    <a:lnTo>
                      <a:pt x="767" y="110"/>
                    </a:lnTo>
                    <a:lnTo>
                      <a:pt x="780" y="110"/>
                    </a:lnTo>
                    <a:lnTo>
                      <a:pt x="780" y="109"/>
                    </a:lnTo>
                    <a:lnTo>
                      <a:pt x="781" y="107"/>
                    </a:lnTo>
                    <a:lnTo>
                      <a:pt x="783" y="107"/>
                    </a:lnTo>
                    <a:lnTo>
                      <a:pt x="785" y="106"/>
                    </a:lnTo>
                    <a:lnTo>
                      <a:pt x="786" y="107"/>
                    </a:lnTo>
                    <a:lnTo>
                      <a:pt x="788" y="107"/>
                    </a:lnTo>
                    <a:lnTo>
                      <a:pt x="789" y="109"/>
                    </a:lnTo>
                    <a:lnTo>
                      <a:pt x="789" y="110"/>
                    </a:lnTo>
                    <a:lnTo>
                      <a:pt x="798" y="110"/>
                    </a:lnTo>
                    <a:lnTo>
                      <a:pt x="798" y="109"/>
                    </a:lnTo>
                    <a:lnTo>
                      <a:pt x="799" y="107"/>
                    </a:lnTo>
                    <a:lnTo>
                      <a:pt x="801" y="107"/>
                    </a:lnTo>
                    <a:lnTo>
                      <a:pt x="803" y="106"/>
                    </a:lnTo>
                    <a:lnTo>
                      <a:pt x="804" y="107"/>
                    </a:lnTo>
                    <a:lnTo>
                      <a:pt x="806" y="107"/>
                    </a:lnTo>
                    <a:lnTo>
                      <a:pt x="807" y="109"/>
                    </a:lnTo>
                    <a:lnTo>
                      <a:pt x="807" y="110"/>
                    </a:lnTo>
                    <a:lnTo>
                      <a:pt x="814" y="110"/>
                    </a:lnTo>
                    <a:lnTo>
                      <a:pt x="814" y="108"/>
                    </a:lnTo>
                    <a:lnTo>
                      <a:pt x="815" y="107"/>
                    </a:lnTo>
                    <a:lnTo>
                      <a:pt x="817" y="105"/>
                    </a:lnTo>
                    <a:lnTo>
                      <a:pt x="819" y="105"/>
                    </a:lnTo>
                    <a:lnTo>
                      <a:pt x="821" y="104"/>
                    </a:lnTo>
                    <a:lnTo>
                      <a:pt x="823" y="104"/>
                    </a:lnTo>
                    <a:lnTo>
                      <a:pt x="825" y="105"/>
                    </a:lnTo>
                    <a:lnTo>
                      <a:pt x="827" y="105"/>
                    </a:lnTo>
                    <a:lnTo>
                      <a:pt x="828" y="107"/>
                    </a:lnTo>
                    <a:lnTo>
                      <a:pt x="829" y="108"/>
                    </a:lnTo>
                    <a:lnTo>
                      <a:pt x="830" y="110"/>
                    </a:lnTo>
                    <a:lnTo>
                      <a:pt x="831" y="110"/>
                    </a:lnTo>
                    <a:lnTo>
                      <a:pt x="832" y="108"/>
                    </a:lnTo>
                    <a:lnTo>
                      <a:pt x="833" y="107"/>
                    </a:lnTo>
                    <a:lnTo>
                      <a:pt x="834" y="106"/>
                    </a:lnTo>
                    <a:lnTo>
                      <a:pt x="836" y="105"/>
                    </a:lnTo>
                    <a:lnTo>
                      <a:pt x="838" y="105"/>
                    </a:lnTo>
                    <a:lnTo>
                      <a:pt x="840" y="105"/>
                    </a:lnTo>
                    <a:lnTo>
                      <a:pt x="842" y="106"/>
                    </a:lnTo>
                    <a:lnTo>
                      <a:pt x="844" y="107"/>
                    </a:lnTo>
                    <a:lnTo>
                      <a:pt x="844" y="108"/>
                    </a:lnTo>
                    <a:lnTo>
                      <a:pt x="845" y="110"/>
                    </a:lnTo>
                    <a:lnTo>
                      <a:pt x="852" y="110"/>
                    </a:lnTo>
                    <a:lnTo>
                      <a:pt x="852" y="109"/>
                    </a:lnTo>
                    <a:lnTo>
                      <a:pt x="853" y="107"/>
                    </a:lnTo>
                    <a:lnTo>
                      <a:pt x="855" y="107"/>
                    </a:lnTo>
                    <a:lnTo>
                      <a:pt x="857" y="106"/>
                    </a:lnTo>
                    <a:lnTo>
                      <a:pt x="858" y="107"/>
                    </a:lnTo>
                    <a:lnTo>
                      <a:pt x="860" y="107"/>
                    </a:lnTo>
                    <a:lnTo>
                      <a:pt x="861" y="109"/>
                    </a:lnTo>
                    <a:lnTo>
                      <a:pt x="861" y="110"/>
                    </a:lnTo>
                    <a:lnTo>
                      <a:pt x="868" y="110"/>
                    </a:lnTo>
                    <a:lnTo>
                      <a:pt x="869" y="109"/>
                    </a:lnTo>
                    <a:lnTo>
                      <a:pt x="870" y="107"/>
                    </a:lnTo>
                    <a:lnTo>
                      <a:pt x="871" y="107"/>
                    </a:lnTo>
                    <a:lnTo>
                      <a:pt x="873" y="106"/>
                    </a:lnTo>
                    <a:lnTo>
                      <a:pt x="875" y="107"/>
                    </a:lnTo>
                    <a:lnTo>
                      <a:pt x="876" y="107"/>
                    </a:lnTo>
                    <a:lnTo>
                      <a:pt x="877" y="109"/>
                    </a:lnTo>
                    <a:lnTo>
                      <a:pt x="877" y="110"/>
                    </a:lnTo>
                    <a:lnTo>
                      <a:pt x="884" y="110"/>
                    </a:lnTo>
                    <a:lnTo>
                      <a:pt x="884" y="108"/>
                    </a:lnTo>
                    <a:lnTo>
                      <a:pt x="885" y="106"/>
                    </a:lnTo>
                    <a:lnTo>
                      <a:pt x="887" y="105"/>
                    </a:lnTo>
                    <a:lnTo>
                      <a:pt x="889" y="104"/>
                    </a:lnTo>
                    <a:lnTo>
                      <a:pt x="892" y="103"/>
                    </a:lnTo>
                    <a:lnTo>
                      <a:pt x="894" y="103"/>
                    </a:lnTo>
                    <a:lnTo>
                      <a:pt x="896" y="104"/>
                    </a:lnTo>
                    <a:lnTo>
                      <a:pt x="899" y="105"/>
                    </a:lnTo>
                    <a:lnTo>
                      <a:pt x="900" y="106"/>
                    </a:lnTo>
                    <a:lnTo>
                      <a:pt x="901" y="108"/>
                    </a:lnTo>
                    <a:lnTo>
                      <a:pt x="902" y="110"/>
                    </a:lnTo>
                    <a:lnTo>
                      <a:pt x="917" y="110"/>
                    </a:lnTo>
                    <a:lnTo>
                      <a:pt x="917" y="109"/>
                    </a:lnTo>
                    <a:lnTo>
                      <a:pt x="918" y="107"/>
                    </a:lnTo>
                    <a:lnTo>
                      <a:pt x="920" y="107"/>
                    </a:lnTo>
                    <a:lnTo>
                      <a:pt x="921" y="106"/>
                    </a:lnTo>
                    <a:lnTo>
                      <a:pt x="923" y="107"/>
                    </a:lnTo>
                    <a:lnTo>
                      <a:pt x="924" y="107"/>
                    </a:lnTo>
                    <a:lnTo>
                      <a:pt x="925" y="109"/>
                    </a:lnTo>
                    <a:lnTo>
                      <a:pt x="926" y="110"/>
                    </a:lnTo>
                    <a:lnTo>
                      <a:pt x="959" y="110"/>
                    </a:lnTo>
                    <a:lnTo>
                      <a:pt x="959" y="109"/>
                    </a:lnTo>
                    <a:lnTo>
                      <a:pt x="960" y="107"/>
                    </a:lnTo>
                    <a:lnTo>
                      <a:pt x="962" y="107"/>
                    </a:lnTo>
                    <a:lnTo>
                      <a:pt x="964" y="106"/>
                    </a:lnTo>
                    <a:lnTo>
                      <a:pt x="965" y="107"/>
                    </a:lnTo>
                    <a:lnTo>
                      <a:pt x="967" y="107"/>
                    </a:lnTo>
                    <a:lnTo>
                      <a:pt x="968" y="109"/>
                    </a:lnTo>
                    <a:lnTo>
                      <a:pt x="968" y="110"/>
                    </a:lnTo>
                    <a:lnTo>
                      <a:pt x="995" y="110"/>
                    </a:lnTo>
                    <a:lnTo>
                      <a:pt x="995" y="109"/>
                    </a:lnTo>
                    <a:lnTo>
                      <a:pt x="996" y="107"/>
                    </a:lnTo>
                    <a:lnTo>
                      <a:pt x="997" y="107"/>
                    </a:lnTo>
                    <a:lnTo>
                      <a:pt x="999" y="106"/>
                    </a:lnTo>
                    <a:lnTo>
                      <a:pt x="1001" y="107"/>
                    </a:lnTo>
                    <a:lnTo>
                      <a:pt x="1002" y="107"/>
                    </a:lnTo>
                    <a:lnTo>
                      <a:pt x="1003" y="109"/>
                    </a:lnTo>
                    <a:lnTo>
                      <a:pt x="1003" y="110"/>
                    </a:lnTo>
                    <a:lnTo>
                      <a:pt x="1037" y="110"/>
                    </a:lnTo>
                    <a:lnTo>
                      <a:pt x="1037" y="109"/>
                    </a:lnTo>
                    <a:lnTo>
                      <a:pt x="1038" y="107"/>
                    </a:lnTo>
                    <a:lnTo>
                      <a:pt x="1039" y="107"/>
                    </a:lnTo>
                    <a:lnTo>
                      <a:pt x="1041" y="106"/>
                    </a:lnTo>
                    <a:lnTo>
                      <a:pt x="1043" y="107"/>
                    </a:lnTo>
                    <a:lnTo>
                      <a:pt x="1044" y="107"/>
                    </a:lnTo>
                    <a:lnTo>
                      <a:pt x="1045" y="109"/>
                    </a:lnTo>
                    <a:lnTo>
                      <a:pt x="1046" y="110"/>
                    </a:lnTo>
                    <a:lnTo>
                      <a:pt x="1064" y="110"/>
                    </a:lnTo>
                    <a:lnTo>
                      <a:pt x="1064" y="109"/>
                    </a:lnTo>
                    <a:lnTo>
                      <a:pt x="1065" y="107"/>
                    </a:lnTo>
                    <a:lnTo>
                      <a:pt x="1066" y="107"/>
                    </a:lnTo>
                    <a:lnTo>
                      <a:pt x="1068" y="106"/>
                    </a:lnTo>
                    <a:lnTo>
                      <a:pt x="1070" y="107"/>
                    </a:lnTo>
                    <a:lnTo>
                      <a:pt x="1071" y="107"/>
                    </a:lnTo>
                    <a:lnTo>
                      <a:pt x="1072" y="109"/>
                    </a:lnTo>
                    <a:lnTo>
                      <a:pt x="1073" y="110"/>
                    </a:lnTo>
                    <a:lnTo>
                      <a:pt x="1169" y="110"/>
                    </a:lnTo>
                    <a:lnTo>
                      <a:pt x="1169" y="6"/>
                    </a:lnTo>
                    <a:lnTo>
                      <a:pt x="1172" y="6"/>
                    </a:lnTo>
                    <a:lnTo>
                      <a:pt x="1172" y="4"/>
                    </a:lnTo>
                    <a:lnTo>
                      <a:pt x="1173" y="3"/>
                    </a:lnTo>
                    <a:lnTo>
                      <a:pt x="1174" y="2"/>
                    </a:lnTo>
                    <a:lnTo>
                      <a:pt x="1176" y="2"/>
                    </a:lnTo>
                    <a:lnTo>
                      <a:pt x="1178" y="2"/>
                    </a:lnTo>
                    <a:lnTo>
                      <a:pt x="1179" y="3"/>
                    </a:lnTo>
                    <a:lnTo>
                      <a:pt x="1180" y="4"/>
                    </a:lnTo>
                    <a:lnTo>
                      <a:pt x="1181" y="6"/>
                    </a:lnTo>
                    <a:lnTo>
                      <a:pt x="1189" y="6"/>
                    </a:lnTo>
                    <a:lnTo>
                      <a:pt x="1189" y="4"/>
                    </a:lnTo>
                    <a:lnTo>
                      <a:pt x="1190" y="3"/>
                    </a:lnTo>
                    <a:lnTo>
                      <a:pt x="1191" y="1"/>
                    </a:lnTo>
                    <a:lnTo>
                      <a:pt x="1193" y="1"/>
                    </a:lnTo>
                    <a:lnTo>
                      <a:pt x="1195" y="0"/>
                    </a:lnTo>
                    <a:lnTo>
                      <a:pt x="1197" y="1"/>
                    </a:lnTo>
                    <a:lnTo>
                      <a:pt x="1199" y="1"/>
                    </a:lnTo>
                    <a:lnTo>
                      <a:pt x="1201" y="3"/>
                    </a:lnTo>
                    <a:lnTo>
                      <a:pt x="1202" y="4"/>
                    </a:lnTo>
                    <a:lnTo>
                      <a:pt x="1202" y="6"/>
                    </a:lnTo>
                    <a:lnTo>
                      <a:pt x="1229" y="6"/>
                    </a:lnTo>
                    <a:lnTo>
                      <a:pt x="1230" y="4"/>
                    </a:lnTo>
                    <a:lnTo>
                      <a:pt x="1230" y="3"/>
                    </a:lnTo>
                    <a:lnTo>
                      <a:pt x="1232" y="2"/>
                    </a:lnTo>
                    <a:lnTo>
                      <a:pt x="1234" y="2"/>
                    </a:lnTo>
                    <a:lnTo>
                      <a:pt x="1235" y="2"/>
                    </a:lnTo>
                    <a:lnTo>
                      <a:pt x="1237" y="3"/>
                    </a:lnTo>
                    <a:lnTo>
                      <a:pt x="1238" y="4"/>
                    </a:lnTo>
                    <a:lnTo>
                      <a:pt x="1238" y="6"/>
                    </a:lnTo>
                    <a:lnTo>
                      <a:pt x="1253" y="6"/>
                    </a:lnTo>
                    <a:lnTo>
                      <a:pt x="1253" y="4"/>
                    </a:lnTo>
                    <a:lnTo>
                      <a:pt x="1254" y="3"/>
                    </a:lnTo>
                    <a:lnTo>
                      <a:pt x="1256" y="2"/>
                    </a:lnTo>
                    <a:lnTo>
                      <a:pt x="1257" y="2"/>
                    </a:lnTo>
                    <a:lnTo>
                      <a:pt x="1259" y="2"/>
                    </a:lnTo>
                    <a:lnTo>
                      <a:pt x="1260" y="3"/>
                    </a:lnTo>
                    <a:lnTo>
                      <a:pt x="1261" y="4"/>
                    </a:lnTo>
                    <a:lnTo>
                      <a:pt x="1262" y="6"/>
                    </a:lnTo>
                    <a:lnTo>
                      <a:pt x="1274" y="6"/>
                    </a:lnTo>
                    <a:lnTo>
                      <a:pt x="1275" y="4"/>
                    </a:lnTo>
                    <a:lnTo>
                      <a:pt x="1276" y="3"/>
                    </a:lnTo>
                    <a:lnTo>
                      <a:pt x="1277" y="2"/>
                    </a:lnTo>
                    <a:lnTo>
                      <a:pt x="1279" y="2"/>
                    </a:lnTo>
                    <a:lnTo>
                      <a:pt x="1281" y="2"/>
                    </a:lnTo>
                    <a:lnTo>
                      <a:pt x="1282" y="3"/>
                    </a:lnTo>
                    <a:lnTo>
                      <a:pt x="1283" y="4"/>
                    </a:lnTo>
                    <a:lnTo>
                      <a:pt x="1283" y="6"/>
                    </a:lnTo>
                    <a:lnTo>
                      <a:pt x="1294" y="6"/>
                    </a:lnTo>
                    <a:lnTo>
                      <a:pt x="1295" y="4"/>
                    </a:lnTo>
                    <a:lnTo>
                      <a:pt x="1296" y="3"/>
                    </a:lnTo>
                    <a:lnTo>
                      <a:pt x="1297" y="2"/>
                    </a:lnTo>
                    <a:lnTo>
                      <a:pt x="1299" y="2"/>
                    </a:lnTo>
                    <a:lnTo>
                      <a:pt x="1300" y="2"/>
                    </a:lnTo>
                    <a:lnTo>
                      <a:pt x="1302" y="3"/>
                    </a:lnTo>
                    <a:lnTo>
                      <a:pt x="1303" y="4"/>
                    </a:lnTo>
                    <a:lnTo>
                      <a:pt x="1303" y="6"/>
                    </a:lnTo>
                    <a:lnTo>
                      <a:pt x="1314" y="6"/>
                    </a:lnTo>
                    <a:lnTo>
                      <a:pt x="1314" y="4"/>
                    </a:lnTo>
                    <a:lnTo>
                      <a:pt x="1315" y="3"/>
                    </a:lnTo>
                    <a:lnTo>
                      <a:pt x="1316" y="2"/>
                    </a:lnTo>
                    <a:lnTo>
                      <a:pt x="1318" y="2"/>
                    </a:lnTo>
                    <a:lnTo>
                      <a:pt x="1320" y="2"/>
                    </a:lnTo>
                    <a:lnTo>
                      <a:pt x="1321" y="3"/>
                    </a:lnTo>
                    <a:lnTo>
                      <a:pt x="1322" y="4"/>
                    </a:lnTo>
                    <a:lnTo>
                      <a:pt x="1323" y="6"/>
                    </a:lnTo>
                    <a:lnTo>
                      <a:pt x="1325" y="6"/>
                    </a:lnTo>
                    <a:lnTo>
                      <a:pt x="1326" y="4"/>
                    </a:lnTo>
                    <a:lnTo>
                      <a:pt x="1327" y="3"/>
                    </a:lnTo>
                    <a:lnTo>
                      <a:pt x="1328" y="2"/>
                    </a:lnTo>
                    <a:lnTo>
                      <a:pt x="1330" y="2"/>
                    </a:lnTo>
                    <a:lnTo>
                      <a:pt x="1332" y="2"/>
                    </a:lnTo>
                    <a:lnTo>
                      <a:pt x="1333" y="3"/>
                    </a:lnTo>
                    <a:lnTo>
                      <a:pt x="1334" y="4"/>
                    </a:lnTo>
                    <a:lnTo>
                      <a:pt x="1334" y="6"/>
                    </a:lnTo>
                    <a:lnTo>
                      <a:pt x="1339" y="6"/>
                    </a:lnTo>
                    <a:lnTo>
                      <a:pt x="1339" y="4"/>
                    </a:lnTo>
                    <a:lnTo>
                      <a:pt x="1340" y="3"/>
                    </a:lnTo>
                    <a:lnTo>
                      <a:pt x="1342" y="2"/>
                    </a:lnTo>
                    <a:lnTo>
                      <a:pt x="1343" y="2"/>
                    </a:lnTo>
                    <a:lnTo>
                      <a:pt x="1345" y="2"/>
                    </a:lnTo>
                    <a:lnTo>
                      <a:pt x="1347" y="3"/>
                    </a:lnTo>
                    <a:lnTo>
                      <a:pt x="1348" y="4"/>
                    </a:lnTo>
                    <a:lnTo>
                      <a:pt x="1348" y="6"/>
                    </a:lnTo>
                    <a:lnTo>
                      <a:pt x="1354" y="6"/>
                    </a:lnTo>
                    <a:lnTo>
                      <a:pt x="1354" y="4"/>
                    </a:lnTo>
                    <a:lnTo>
                      <a:pt x="1355" y="3"/>
                    </a:lnTo>
                    <a:lnTo>
                      <a:pt x="1357" y="2"/>
                    </a:lnTo>
                    <a:lnTo>
                      <a:pt x="1359" y="2"/>
                    </a:lnTo>
                    <a:lnTo>
                      <a:pt x="1360" y="2"/>
                    </a:lnTo>
                    <a:lnTo>
                      <a:pt x="1362" y="3"/>
                    </a:lnTo>
                    <a:lnTo>
                      <a:pt x="1363" y="4"/>
                    </a:lnTo>
                    <a:lnTo>
                      <a:pt x="1363" y="6"/>
                    </a:lnTo>
                    <a:lnTo>
                      <a:pt x="1372" y="6"/>
                    </a:lnTo>
                    <a:lnTo>
                      <a:pt x="1372" y="4"/>
                    </a:lnTo>
                    <a:lnTo>
                      <a:pt x="1374" y="3"/>
                    </a:lnTo>
                    <a:lnTo>
                      <a:pt x="1375" y="2"/>
                    </a:lnTo>
                    <a:lnTo>
                      <a:pt x="1377" y="2"/>
                    </a:lnTo>
                    <a:lnTo>
                      <a:pt x="1378" y="2"/>
                    </a:lnTo>
                    <a:lnTo>
                      <a:pt x="1380" y="3"/>
                    </a:lnTo>
                    <a:lnTo>
                      <a:pt x="1381" y="4"/>
                    </a:lnTo>
                    <a:lnTo>
                      <a:pt x="1381" y="6"/>
                    </a:lnTo>
                    <a:lnTo>
                      <a:pt x="1395" y="6"/>
                    </a:lnTo>
                    <a:lnTo>
                      <a:pt x="1395" y="4"/>
                    </a:lnTo>
                    <a:lnTo>
                      <a:pt x="1396" y="3"/>
                    </a:lnTo>
                    <a:lnTo>
                      <a:pt x="1397" y="2"/>
                    </a:lnTo>
                    <a:lnTo>
                      <a:pt x="1399" y="1"/>
                    </a:lnTo>
                    <a:lnTo>
                      <a:pt x="1401" y="1"/>
                    </a:lnTo>
                    <a:lnTo>
                      <a:pt x="1403" y="1"/>
                    </a:lnTo>
                    <a:lnTo>
                      <a:pt x="1404" y="2"/>
                    </a:lnTo>
                    <a:lnTo>
                      <a:pt x="1406" y="3"/>
                    </a:lnTo>
                    <a:lnTo>
                      <a:pt x="1406" y="4"/>
                    </a:lnTo>
                    <a:lnTo>
                      <a:pt x="1407" y="6"/>
                    </a:lnTo>
                    <a:lnTo>
                      <a:pt x="1408" y="6"/>
                    </a:lnTo>
                    <a:lnTo>
                      <a:pt x="1408" y="4"/>
                    </a:lnTo>
                    <a:lnTo>
                      <a:pt x="1409" y="3"/>
                    </a:lnTo>
                    <a:lnTo>
                      <a:pt x="1411" y="2"/>
                    </a:lnTo>
                    <a:lnTo>
                      <a:pt x="1412" y="2"/>
                    </a:lnTo>
                    <a:lnTo>
                      <a:pt x="1414" y="2"/>
                    </a:lnTo>
                    <a:lnTo>
                      <a:pt x="1415" y="3"/>
                    </a:lnTo>
                    <a:lnTo>
                      <a:pt x="1417" y="4"/>
                    </a:lnTo>
                    <a:lnTo>
                      <a:pt x="1417" y="6"/>
                    </a:lnTo>
                    <a:lnTo>
                      <a:pt x="1435" y="6"/>
                    </a:lnTo>
                    <a:lnTo>
                      <a:pt x="1435" y="4"/>
                    </a:lnTo>
                    <a:lnTo>
                      <a:pt x="1437" y="3"/>
                    </a:lnTo>
                    <a:lnTo>
                      <a:pt x="1438" y="2"/>
                    </a:lnTo>
                    <a:lnTo>
                      <a:pt x="1440" y="2"/>
                    </a:lnTo>
                    <a:lnTo>
                      <a:pt x="1441" y="2"/>
                    </a:lnTo>
                    <a:lnTo>
                      <a:pt x="1443" y="3"/>
                    </a:lnTo>
                    <a:lnTo>
                      <a:pt x="1444" y="4"/>
                    </a:lnTo>
                    <a:lnTo>
                      <a:pt x="1444" y="6"/>
                    </a:lnTo>
                    <a:lnTo>
                      <a:pt x="1494" y="6"/>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5103720" y="38275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ff"/>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42" name=""/>
              <p:cNvSpPr/>
              <p:nvPr/>
            </p:nvSpPr>
            <p:spPr>
              <a:xfrm>
                <a:off x="6603480" y="2179080"/>
                <a:ext cx="196920" cy="924480"/>
              </a:xfrm>
              <a:custGeom>
                <a:avLst/>
                <a:gdLst/>
                <a:ahLst/>
                <a:rect l="l" t="t" r="r" b="b"/>
                <a:pathLst>
                  <a:path w="186" h="692">
                    <a:moveTo>
                      <a:pt x="186" y="692"/>
                    </a:moveTo>
                    <a:lnTo>
                      <a:pt x="186" y="3"/>
                    </a:lnTo>
                    <a:lnTo>
                      <a:pt x="138" y="3"/>
                    </a:lnTo>
                    <a:lnTo>
                      <a:pt x="138" y="2"/>
                    </a:lnTo>
                    <a:lnTo>
                      <a:pt x="136" y="1"/>
                    </a:lnTo>
                    <a:lnTo>
                      <a:pt x="135" y="0"/>
                    </a:lnTo>
                    <a:lnTo>
                      <a:pt x="133" y="0"/>
                    </a:lnTo>
                    <a:lnTo>
                      <a:pt x="132" y="0"/>
                    </a:lnTo>
                    <a:lnTo>
                      <a:pt x="130" y="1"/>
                    </a:lnTo>
                    <a:lnTo>
                      <a:pt x="129" y="2"/>
                    </a:lnTo>
                    <a:lnTo>
                      <a:pt x="129" y="3"/>
                    </a:lnTo>
                    <a:lnTo>
                      <a:pt x="31" y="3"/>
                    </a:lnTo>
                    <a:lnTo>
                      <a:pt x="31" y="2"/>
                    </a:lnTo>
                    <a:lnTo>
                      <a:pt x="30" y="1"/>
                    </a:lnTo>
                    <a:lnTo>
                      <a:pt x="29" y="0"/>
                    </a:lnTo>
                    <a:lnTo>
                      <a:pt x="27" y="0"/>
                    </a:lnTo>
                    <a:lnTo>
                      <a:pt x="25" y="0"/>
                    </a:lnTo>
                    <a:lnTo>
                      <a:pt x="24" y="1"/>
                    </a:lnTo>
                    <a:lnTo>
                      <a:pt x="23" y="2"/>
                    </a:lnTo>
                    <a:lnTo>
                      <a:pt x="22" y="3"/>
                    </a:lnTo>
                    <a:lnTo>
                      <a:pt x="0" y="3"/>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6794280" y="31021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44" name=""/>
              <p:cNvSpPr/>
              <p:nvPr/>
            </p:nvSpPr>
            <p:spPr>
              <a:xfrm>
                <a:off x="6950880" y="3354480"/>
                <a:ext cx="871920" cy="650160"/>
              </a:xfrm>
              <a:custGeom>
                <a:avLst/>
                <a:gdLst/>
                <a:ahLst/>
                <a:rect l="l" t="t" r="r" b="b"/>
                <a:pathLst>
                  <a:path w="824" h="487">
                    <a:moveTo>
                      <a:pt x="824" y="487"/>
                    </a:moveTo>
                    <a:lnTo>
                      <a:pt x="824" y="476"/>
                    </a:lnTo>
                    <a:lnTo>
                      <a:pt x="779" y="476"/>
                    </a:lnTo>
                    <a:lnTo>
                      <a:pt x="778" y="474"/>
                    </a:lnTo>
                    <a:lnTo>
                      <a:pt x="777" y="473"/>
                    </a:lnTo>
                    <a:lnTo>
                      <a:pt x="776" y="472"/>
                    </a:lnTo>
                    <a:lnTo>
                      <a:pt x="774" y="472"/>
                    </a:lnTo>
                    <a:lnTo>
                      <a:pt x="772" y="472"/>
                    </a:lnTo>
                    <a:lnTo>
                      <a:pt x="771" y="473"/>
                    </a:lnTo>
                    <a:lnTo>
                      <a:pt x="770" y="474"/>
                    </a:lnTo>
                    <a:lnTo>
                      <a:pt x="770" y="476"/>
                    </a:lnTo>
                    <a:lnTo>
                      <a:pt x="685" y="476"/>
                    </a:lnTo>
                    <a:lnTo>
                      <a:pt x="684" y="474"/>
                    </a:lnTo>
                    <a:lnTo>
                      <a:pt x="683" y="473"/>
                    </a:lnTo>
                    <a:lnTo>
                      <a:pt x="682" y="472"/>
                    </a:lnTo>
                    <a:lnTo>
                      <a:pt x="680" y="472"/>
                    </a:lnTo>
                    <a:lnTo>
                      <a:pt x="678" y="472"/>
                    </a:lnTo>
                    <a:lnTo>
                      <a:pt x="677" y="473"/>
                    </a:lnTo>
                    <a:lnTo>
                      <a:pt x="676" y="474"/>
                    </a:lnTo>
                    <a:lnTo>
                      <a:pt x="676" y="476"/>
                    </a:lnTo>
                    <a:lnTo>
                      <a:pt x="637" y="476"/>
                    </a:lnTo>
                    <a:lnTo>
                      <a:pt x="637" y="474"/>
                    </a:lnTo>
                    <a:lnTo>
                      <a:pt x="636" y="473"/>
                    </a:lnTo>
                    <a:lnTo>
                      <a:pt x="635" y="472"/>
                    </a:lnTo>
                    <a:lnTo>
                      <a:pt x="633" y="472"/>
                    </a:lnTo>
                    <a:lnTo>
                      <a:pt x="631" y="472"/>
                    </a:lnTo>
                    <a:lnTo>
                      <a:pt x="630" y="473"/>
                    </a:lnTo>
                    <a:lnTo>
                      <a:pt x="629" y="474"/>
                    </a:lnTo>
                    <a:lnTo>
                      <a:pt x="628" y="476"/>
                    </a:lnTo>
                    <a:lnTo>
                      <a:pt x="597" y="476"/>
                    </a:lnTo>
                    <a:lnTo>
                      <a:pt x="596" y="474"/>
                    </a:lnTo>
                    <a:lnTo>
                      <a:pt x="595" y="473"/>
                    </a:lnTo>
                    <a:lnTo>
                      <a:pt x="594" y="472"/>
                    </a:lnTo>
                    <a:lnTo>
                      <a:pt x="592" y="472"/>
                    </a:lnTo>
                    <a:lnTo>
                      <a:pt x="591" y="472"/>
                    </a:lnTo>
                    <a:lnTo>
                      <a:pt x="589" y="473"/>
                    </a:lnTo>
                    <a:lnTo>
                      <a:pt x="588" y="474"/>
                    </a:lnTo>
                    <a:lnTo>
                      <a:pt x="588" y="476"/>
                    </a:lnTo>
                    <a:lnTo>
                      <a:pt x="570" y="476"/>
                    </a:lnTo>
                    <a:lnTo>
                      <a:pt x="569" y="474"/>
                    </a:lnTo>
                    <a:lnTo>
                      <a:pt x="569" y="473"/>
                    </a:lnTo>
                    <a:lnTo>
                      <a:pt x="567" y="471"/>
                    </a:lnTo>
                    <a:lnTo>
                      <a:pt x="565" y="471"/>
                    </a:lnTo>
                    <a:lnTo>
                      <a:pt x="563" y="471"/>
                    </a:lnTo>
                    <a:lnTo>
                      <a:pt x="561" y="471"/>
                    </a:lnTo>
                    <a:lnTo>
                      <a:pt x="559" y="471"/>
                    </a:lnTo>
                    <a:lnTo>
                      <a:pt x="558" y="473"/>
                    </a:lnTo>
                    <a:lnTo>
                      <a:pt x="557" y="474"/>
                    </a:lnTo>
                    <a:lnTo>
                      <a:pt x="556" y="476"/>
                    </a:lnTo>
                    <a:lnTo>
                      <a:pt x="554" y="476"/>
                    </a:lnTo>
                    <a:lnTo>
                      <a:pt x="554" y="474"/>
                    </a:lnTo>
                    <a:lnTo>
                      <a:pt x="553" y="473"/>
                    </a:lnTo>
                    <a:lnTo>
                      <a:pt x="551" y="472"/>
                    </a:lnTo>
                    <a:lnTo>
                      <a:pt x="550" y="472"/>
                    </a:lnTo>
                    <a:lnTo>
                      <a:pt x="548" y="472"/>
                    </a:lnTo>
                    <a:lnTo>
                      <a:pt x="546" y="473"/>
                    </a:lnTo>
                    <a:lnTo>
                      <a:pt x="545" y="474"/>
                    </a:lnTo>
                    <a:lnTo>
                      <a:pt x="545" y="476"/>
                    </a:lnTo>
                    <a:lnTo>
                      <a:pt x="522" y="476"/>
                    </a:lnTo>
                    <a:lnTo>
                      <a:pt x="522" y="474"/>
                    </a:lnTo>
                    <a:lnTo>
                      <a:pt x="521" y="473"/>
                    </a:lnTo>
                    <a:lnTo>
                      <a:pt x="519" y="472"/>
                    </a:lnTo>
                    <a:lnTo>
                      <a:pt x="517" y="472"/>
                    </a:lnTo>
                    <a:lnTo>
                      <a:pt x="516" y="472"/>
                    </a:lnTo>
                    <a:lnTo>
                      <a:pt x="514" y="473"/>
                    </a:lnTo>
                    <a:lnTo>
                      <a:pt x="513" y="474"/>
                    </a:lnTo>
                    <a:lnTo>
                      <a:pt x="513" y="476"/>
                    </a:lnTo>
                    <a:lnTo>
                      <a:pt x="506" y="476"/>
                    </a:lnTo>
                    <a:lnTo>
                      <a:pt x="505" y="474"/>
                    </a:lnTo>
                    <a:lnTo>
                      <a:pt x="504" y="473"/>
                    </a:lnTo>
                    <a:lnTo>
                      <a:pt x="503" y="472"/>
                    </a:lnTo>
                    <a:lnTo>
                      <a:pt x="501" y="472"/>
                    </a:lnTo>
                    <a:lnTo>
                      <a:pt x="499" y="472"/>
                    </a:lnTo>
                    <a:lnTo>
                      <a:pt x="498" y="473"/>
                    </a:lnTo>
                    <a:lnTo>
                      <a:pt x="497" y="474"/>
                    </a:lnTo>
                    <a:lnTo>
                      <a:pt x="497" y="476"/>
                    </a:lnTo>
                    <a:lnTo>
                      <a:pt x="435" y="476"/>
                    </a:lnTo>
                    <a:lnTo>
                      <a:pt x="434" y="474"/>
                    </a:lnTo>
                    <a:lnTo>
                      <a:pt x="433" y="473"/>
                    </a:lnTo>
                    <a:lnTo>
                      <a:pt x="432" y="472"/>
                    </a:lnTo>
                    <a:lnTo>
                      <a:pt x="430" y="472"/>
                    </a:lnTo>
                    <a:lnTo>
                      <a:pt x="428" y="472"/>
                    </a:lnTo>
                    <a:lnTo>
                      <a:pt x="427" y="473"/>
                    </a:lnTo>
                    <a:lnTo>
                      <a:pt x="426" y="474"/>
                    </a:lnTo>
                    <a:lnTo>
                      <a:pt x="426" y="476"/>
                    </a:lnTo>
                    <a:lnTo>
                      <a:pt x="300" y="476"/>
                    </a:lnTo>
                    <a:lnTo>
                      <a:pt x="299" y="474"/>
                    </a:lnTo>
                    <a:lnTo>
                      <a:pt x="298" y="473"/>
                    </a:lnTo>
                    <a:lnTo>
                      <a:pt x="297" y="472"/>
                    </a:lnTo>
                    <a:lnTo>
                      <a:pt x="295" y="472"/>
                    </a:lnTo>
                    <a:lnTo>
                      <a:pt x="293" y="472"/>
                    </a:lnTo>
                    <a:lnTo>
                      <a:pt x="292" y="473"/>
                    </a:lnTo>
                    <a:lnTo>
                      <a:pt x="291" y="474"/>
                    </a:lnTo>
                    <a:lnTo>
                      <a:pt x="290" y="476"/>
                    </a:lnTo>
                    <a:lnTo>
                      <a:pt x="261" y="476"/>
                    </a:lnTo>
                    <a:lnTo>
                      <a:pt x="260" y="474"/>
                    </a:lnTo>
                    <a:lnTo>
                      <a:pt x="259" y="473"/>
                    </a:lnTo>
                    <a:lnTo>
                      <a:pt x="258" y="472"/>
                    </a:lnTo>
                    <a:lnTo>
                      <a:pt x="256" y="472"/>
                    </a:lnTo>
                    <a:lnTo>
                      <a:pt x="254" y="472"/>
                    </a:lnTo>
                    <a:lnTo>
                      <a:pt x="253" y="473"/>
                    </a:lnTo>
                    <a:lnTo>
                      <a:pt x="252" y="474"/>
                    </a:lnTo>
                    <a:lnTo>
                      <a:pt x="252" y="476"/>
                    </a:lnTo>
                    <a:lnTo>
                      <a:pt x="242" y="476"/>
                    </a:lnTo>
                    <a:lnTo>
                      <a:pt x="242" y="474"/>
                    </a:lnTo>
                    <a:lnTo>
                      <a:pt x="241" y="473"/>
                    </a:lnTo>
                    <a:lnTo>
                      <a:pt x="239" y="472"/>
                    </a:lnTo>
                    <a:lnTo>
                      <a:pt x="238" y="472"/>
                    </a:lnTo>
                    <a:lnTo>
                      <a:pt x="236" y="472"/>
                    </a:lnTo>
                    <a:lnTo>
                      <a:pt x="234" y="473"/>
                    </a:lnTo>
                    <a:lnTo>
                      <a:pt x="234" y="474"/>
                    </a:lnTo>
                    <a:lnTo>
                      <a:pt x="233" y="476"/>
                    </a:lnTo>
                    <a:lnTo>
                      <a:pt x="230" y="476"/>
                    </a:lnTo>
                    <a:lnTo>
                      <a:pt x="229" y="474"/>
                    </a:lnTo>
                    <a:lnTo>
                      <a:pt x="229" y="473"/>
                    </a:lnTo>
                    <a:lnTo>
                      <a:pt x="227" y="472"/>
                    </a:lnTo>
                    <a:lnTo>
                      <a:pt x="225" y="472"/>
                    </a:lnTo>
                    <a:lnTo>
                      <a:pt x="224" y="472"/>
                    </a:lnTo>
                    <a:lnTo>
                      <a:pt x="222" y="473"/>
                    </a:lnTo>
                    <a:lnTo>
                      <a:pt x="221" y="474"/>
                    </a:lnTo>
                    <a:lnTo>
                      <a:pt x="221" y="476"/>
                    </a:lnTo>
                    <a:lnTo>
                      <a:pt x="204" y="476"/>
                    </a:lnTo>
                    <a:lnTo>
                      <a:pt x="204" y="474"/>
                    </a:lnTo>
                    <a:lnTo>
                      <a:pt x="203" y="473"/>
                    </a:lnTo>
                    <a:lnTo>
                      <a:pt x="201" y="472"/>
                    </a:lnTo>
                    <a:lnTo>
                      <a:pt x="200" y="472"/>
                    </a:lnTo>
                    <a:lnTo>
                      <a:pt x="198" y="472"/>
                    </a:lnTo>
                    <a:lnTo>
                      <a:pt x="196" y="473"/>
                    </a:lnTo>
                    <a:lnTo>
                      <a:pt x="195" y="474"/>
                    </a:lnTo>
                    <a:lnTo>
                      <a:pt x="195" y="476"/>
                    </a:lnTo>
                    <a:lnTo>
                      <a:pt x="190" y="476"/>
                    </a:lnTo>
                    <a:lnTo>
                      <a:pt x="189" y="474"/>
                    </a:lnTo>
                    <a:lnTo>
                      <a:pt x="189" y="473"/>
                    </a:lnTo>
                    <a:lnTo>
                      <a:pt x="187" y="472"/>
                    </a:lnTo>
                    <a:lnTo>
                      <a:pt x="185" y="472"/>
                    </a:lnTo>
                    <a:lnTo>
                      <a:pt x="184" y="472"/>
                    </a:lnTo>
                    <a:lnTo>
                      <a:pt x="182" y="473"/>
                    </a:lnTo>
                    <a:lnTo>
                      <a:pt x="181" y="474"/>
                    </a:lnTo>
                    <a:lnTo>
                      <a:pt x="181" y="476"/>
                    </a:lnTo>
                    <a:lnTo>
                      <a:pt x="168" y="476"/>
                    </a:lnTo>
                    <a:lnTo>
                      <a:pt x="167" y="474"/>
                    </a:lnTo>
                    <a:lnTo>
                      <a:pt x="167" y="473"/>
                    </a:lnTo>
                    <a:lnTo>
                      <a:pt x="165" y="472"/>
                    </a:lnTo>
                    <a:lnTo>
                      <a:pt x="163" y="472"/>
                    </a:lnTo>
                    <a:lnTo>
                      <a:pt x="162" y="472"/>
                    </a:lnTo>
                    <a:lnTo>
                      <a:pt x="160" y="473"/>
                    </a:lnTo>
                    <a:lnTo>
                      <a:pt x="159" y="474"/>
                    </a:lnTo>
                    <a:lnTo>
                      <a:pt x="159" y="476"/>
                    </a:lnTo>
                    <a:lnTo>
                      <a:pt x="137" y="476"/>
                    </a:lnTo>
                    <a:lnTo>
                      <a:pt x="137" y="474"/>
                    </a:lnTo>
                    <a:lnTo>
                      <a:pt x="136" y="473"/>
                    </a:lnTo>
                    <a:lnTo>
                      <a:pt x="135" y="472"/>
                    </a:lnTo>
                    <a:lnTo>
                      <a:pt x="133" y="472"/>
                    </a:lnTo>
                    <a:lnTo>
                      <a:pt x="131" y="472"/>
                    </a:lnTo>
                    <a:lnTo>
                      <a:pt x="130" y="473"/>
                    </a:lnTo>
                    <a:lnTo>
                      <a:pt x="129" y="474"/>
                    </a:lnTo>
                    <a:lnTo>
                      <a:pt x="128" y="476"/>
                    </a:lnTo>
                    <a:lnTo>
                      <a:pt x="117" y="476"/>
                    </a:lnTo>
                    <a:lnTo>
                      <a:pt x="117" y="474"/>
                    </a:lnTo>
                    <a:lnTo>
                      <a:pt x="116" y="473"/>
                    </a:lnTo>
                    <a:lnTo>
                      <a:pt x="114" y="472"/>
                    </a:lnTo>
                    <a:lnTo>
                      <a:pt x="113" y="472"/>
                    </a:lnTo>
                    <a:lnTo>
                      <a:pt x="111" y="472"/>
                    </a:lnTo>
                    <a:lnTo>
                      <a:pt x="109" y="473"/>
                    </a:lnTo>
                    <a:lnTo>
                      <a:pt x="109" y="474"/>
                    </a:lnTo>
                    <a:lnTo>
                      <a:pt x="108" y="476"/>
                    </a:lnTo>
                    <a:lnTo>
                      <a:pt x="70" y="476"/>
                    </a:lnTo>
                    <a:lnTo>
                      <a:pt x="69" y="474"/>
                    </a:lnTo>
                    <a:lnTo>
                      <a:pt x="69" y="473"/>
                    </a:lnTo>
                    <a:lnTo>
                      <a:pt x="67" y="472"/>
                    </a:lnTo>
                    <a:lnTo>
                      <a:pt x="65" y="472"/>
                    </a:lnTo>
                    <a:lnTo>
                      <a:pt x="64" y="472"/>
                    </a:lnTo>
                    <a:lnTo>
                      <a:pt x="62" y="473"/>
                    </a:lnTo>
                    <a:lnTo>
                      <a:pt x="61" y="474"/>
                    </a:lnTo>
                    <a:lnTo>
                      <a:pt x="61" y="476"/>
                    </a:lnTo>
                    <a:lnTo>
                      <a:pt x="55" y="476"/>
                    </a:lnTo>
                    <a:lnTo>
                      <a:pt x="54" y="474"/>
                    </a:lnTo>
                    <a:lnTo>
                      <a:pt x="53" y="473"/>
                    </a:lnTo>
                    <a:lnTo>
                      <a:pt x="52" y="472"/>
                    </a:lnTo>
                    <a:lnTo>
                      <a:pt x="50" y="472"/>
                    </a:lnTo>
                    <a:lnTo>
                      <a:pt x="48" y="472"/>
                    </a:lnTo>
                    <a:lnTo>
                      <a:pt x="47" y="473"/>
                    </a:lnTo>
                    <a:lnTo>
                      <a:pt x="46" y="474"/>
                    </a:lnTo>
                    <a:lnTo>
                      <a:pt x="46" y="476"/>
                    </a:lnTo>
                    <a:lnTo>
                      <a:pt x="42" y="476"/>
                    </a:lnTo>
                    <a:lnTo>
                      <a:pt x="41" y="474"/>
                    </a:lnTo>
                    <a:lnTo>
                      <a:pt x="40" y="473"/>
                    </a:lnTo>
                    <a:lnTo>
                      <a:pt x="39" y="472"/>
                    </a:lnTo>
                    <a:lnTo>
                      <a:pt x="37" y="472"/>
                    </a:lnTo>
                    <a:lnTo>
                      <a:pt x="35" y="472"/>
                    </a:lnTo>
                    <a:lnTo>
                      <a:pt x="34" y="473"/>
                    </a:lnTo>
                    <a:lnTo>
                      <a:pt x="33" y="474"/>
                    </a:lnTo>
                    <a:lnTo>
                      <a:pt x="33" y="476"/>
                    </a:lnTo>
                    <a:lnTo>
                      <a:pt x="0" y="476"/>
                    </a:lnTo>
                    <a:lnTo>
                      <a:pt x="0" y="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7817040" y="400392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46" name=""/>
              <p:cNvSpPr/>
              <p:nvPr/>
            </p:nvSpPr>
            <p:spPr>
              <a:xfrm>
                <a:off x="7947000" y="3413520"/>
                <a:ext cx="24480" cy="591480"/>
              </a:xfrm>
              <a:custGeom>
                <a:avLst/>
                <a:gdLst/>
                <a:ahLst/>
                <a:rect l="l" t="t" r="r" b="b"/>
                <a:pathLst>
                  <a:path w="23" h="443">
                    <a:moveTo>
                      <a:pt x="2" y="0"/>
                    </a:moveTo>
                    <a:lnTo>
                      <a:pt x="23" y="0"/>
                    </a:lnTo>
                    <a:lnTo>
                      <a:pt x="23" y="437"/>
                    </a:lnTo>
                    <a:lnTo>
                      <a:pt x="0" y="437"/>
                    </a:lnTo>
                    <a:lnTo>
                      <a:pt x="0" y="4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7940880" y="400392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48" name=""/>
              <p:cNvSpPr/>
              <p:nvPr/>
            </p:nvSpPr>
            <p:spPr>
              <a:xfrm>
                <a:off x="4867200" y="3692520"/>
                <a:ext cx="173520" cy="66600"/>
              </a:xfrm>
              <a:prstGeom prst="rect">
                <a:avLst/>
              </a:prstGeom>
              <a:blipFill rotWithShape="0">
                <a:blip r:embed="rId115"/>
                <a:srcRect/>
                <a:tile tx="0" ty="0" sx="100000" sy="100000" algn="ctr"/>
              </a:blip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9" name=""/>
              <p:cNvSpPr/>
              <p:nvPr/>
            </p:nvSpPr>
            <p:spPr>
              <a:xfrm>
                <a:off x="4918680" y="3690000"/>
                <a:ext cx="9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pec</a:t>
                </a:r>
                <a:endParaRPr b="0" lang="en-US" sz="300" spc="-1" strike="noStrike">
                  <a:solidFill>
                    <a:srgbClr val="ffffff"/>
                  </a:solidFill>
                  <a:latin typeface="Arial"/>
                </a:endParaRPr>
              </a:p>
            </p:txBody>
          </p:sp>
          <p:sp>
            <p:nvSpPr>
              <p:cNvPr id="1350" name=""/>
              <p:cNvSpPr/>
              <p:nvPr/>
            </p:nvSpPr>
            <p:spPr>
              <a:xfrm>
                <a:off x="4904280" y="3726000"/>
                <a:ext cx="130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ource</a:t>
                </a:r>
                <a:endParaRPr b="0" lang="en-US" sz="300" spc="-1" strike="noStrike">
                  <a:solidFill>
                    <a:srgbClr val="ffffff"/>
                  </a:solidFill>
                  <a:latin typeface="Arial"/>
                </a:endParaRPr>
              </a:p>
            </p:txBody>
          </p:sp>
          <p:sp>
            <p:nvSpPr>
              <p:cNvPr id="1351" name=""/>
              <p:cNvSpPr/>
              <p:nvPr/>
            </p:nvSpPr>
            <p:spPr>
              <a:xfrm>
                <a:off x="5018040" y="3228840"/>
                <a:ext cx="1673280" cy="450000"/>
              </a:xfrm>
              <a:custGeom>
                <a:avLst/>
                <a:gdLst/>
                <a:ahLst/>
                <a:rect l="l" t="t" r="r" b="b"/>
                <a:pathLst>
                  <a:path w="1581" h="337">
                    <a:moveTo>
                      <a:pt x="0" y="337"/>
                    </a:moveTo>
                    <a:lnTo>
                      <a:pt x="0" y="322"/>
                    </a:lnTo>
                    <a:lnTo>
                      <a:pt x="42" y="322"/>
                    </a:lnTo>
                    <a:lnTo>
                      <a:pt x="43" y="321"/>
                    </a:lnTo>
                    <a:lnTo>
                      <a:pt x="44" y="320"/>
                    </a:lnTo>
                    <a:lnTo>
                      <a:pt x="45" y="319"/>
                    </a:lnTo>
                    <a:lnTo>
                      <a:pt x="47" y="319"/>
                    </a:lnTo>
                    <a:lnTo>
                      <a:pt x="49" y="319"/>
                    </a:lnTo>
                    <a:lnTo>
                      <a:pt x="50" y="320"/>
                    </a:lnTo>
                    <a:lnTo>
                      <a:pt x="51" y="321"/>
                    </a:lnTo>
                    <a:lnTo>
                      <a:pt x="51" y="322"/>
                    </a:lnTo>
                    <a:lnTo>
                      <a:pt x="56" y="322"/>
                    </a:lnTo>
                    <a:lnTo>
                      <a:pt x="57" y="321"/>
                    </a:lnTo>
                    <a:lnTo>
                      <a:pt x="58" y="320"/>
                    </a:lnTo>
                    <a:lnTo>
                      <a:pt x="59" y="319"/>
                    </a:lnTo>
                    <a:lnTo>
                      <a:pt x="61" y="319"/>
                    </a:lnTo>
                    <a:lnTo>
                      <a:pt x="63" y="319"/>
                    </a:lnTo>
                    <a:lnTo>
                      <a:pt x="64" y="320"/>
                    </a:lnTo>
                    <a:lnTo>
                      <a:pt x="65" y="321"/>
                    </a:lnTo>
                    <a:lnTo>
                      <a:pt x="65" y="322"/>
                    </a:lnTo>
                    <a:lnTo>
                      <a:pt x="75" y="322"/>
                    </a:lnTo>
                    <a:lnTo>
                      <a:pt x="75" y="320"/>
                    </a:lnTo>
                    <a:lnTo>
                      <a:pt x="76" y="319"/>
                    </a:lnTo>
                    <a:lnTo>
                      <a:pt x="78" y="317"/>
                    </a:lnTo>
                    <a:lnTo>
                      <a:pt x="80" y="316"/>
                    </a:lnTo>
                    <a:lnTo>
                      <a:pt x="82" y="316"/>
                    </a:lnTo>
                    <a:lnTo>
                      <a:pt x="85" y="316"/>
                    </a:lnTo>
                    <a:lnTo>
                      <a:pt x="87" y="316"/>
                    </a:lnTo>
                    <a:lnTo>
                      <a:pt x="89" y="317"/>
                    </a:lnTo>
                    <a:lnTo>
                      <a:pt x="90" y="319"/>
                    </a:lnTo>
                    <a:lnTo>
                      <a:pt x="91" y="320"/>
                    </a:lnTo>
                    <a:lnTo>
                      <a:pt x="92" y="322"/>
                    </a:lnTo>
                    <a:lnTo>
                      <a:pt x="111" y="322"/>
                    </a:lnTo>
                    <a:lnTo>
                      <a:pt x="111" y="321"/>
                    </a:lnTo>
                    <a:lnTo>
                      <a:pt x="112" y="320"/>
                    </a:lnTo>
                    <a:lnTo>
                      <a:pt x="113" y="319"/>
                    </a:lnTo>
                    <a:lnTo>
                      <a:pt x="115" y="319"/>
                    </a:lnTo>
                    <a:lnTo>
                      <a:pt x="117" y="319"/>
                    </a:lnTo>
                    <a:lnTo>
                      <a:pt x="118" y="320"/>
                    </a:lnTo>
                    <a:lnTo>
                      <a:pt x="119" y="321"/>
                    </a:lnTo>
                    <a:lnTo>
                      <a:pt x="120" y="322"/>
                    </a:lnTo>
                    <a:lnTo>
                      <a:pt x="120" y="322"/>
                    </a:lnTo>
                    <a:lnTo>
                      <a:pt x="120" y="321"/>
                    </a:lnTo>
                    <a:lnTo>
                      <a:pt x="121" y="320"/>
                    </a:lnTo>
                    <a:lnTo>
                      <a:pt x="122" y="319"/>
                    </a:lnTo>
                    <a:lnTo>
                      <a:pt x="124" y="319"/>
                    </a:lnTo>
                    <a:lnTo>
                      <a:pt x="126" y="319"/>
                    </a:lnTo>
                    <a:lnTo>
                      <a:pt x="127" y="320"/>
                    </a:lnTo>
                    <a:lnTo>
                      <a:pt x="128" y="321"/>
                    </a:lnTo>
                    <a:lnTo>
                      <a:pt x="129" y="322"/>
                    </a:lnTo>
                    <a:lnTo>
                      <a:pt x="136" y="322"/>
                    </a:lnTo>
                    <a:lnTo>
                      <a:pt x="136" y="321"/>
                    </a:lnTo>
                    <a:lnTo>
                      <a:pt x="137" y="320"/>
                    </a:lnTo>
                    <a:lnTo>
                      <a:pt x="139" y="319"/>
                    </a:lnTo>
                    <a:lnTo>
                      <a:pt x="140" y="319"/>
                    </a:lnTo>
                    <a:lnTo>
                      <a:pt x="142" y="319"/>
                    </a:lnTo>
                    <a:lnTo>
                      <a:pt x="143" y="320"/>
                    </a:lnTo>
                    <a:lnTo>
                      <a:pt x="144" y="321"/>
                    </a:lnTo>
                    <a:lnTo>
                      <a:pt x="145" y="322"/>
                    </a:lnTo>
                    <a:lnTo>
                      <a:pt x="151" y="322"/>
                    </a:lnTo>
                    <a:lnTo>
                      <a:pt x="151" y="321"/>
                    </a:lnTo>
                    <a:lnTo>
                      <a:pt x="152" y="320"/>
                    </a:lnTo>
                    <a:lnTo>
                      <a:pt x="154" y="319"/>
                    </a:lnTo>
                    <a:lnTo>
                      <a:pt x="156" y="319"/>
                    </a:lnTo>
                    <a:lnTo>
                      <a:pt x="157" y="319"/>
                    </a:lnTo>
                    <a:lnTo>
                      <a:pt x="159" y="320"/>
                    </a:lnTo>
                    <a:lnTo>
                      <a:pt x="160" y="321"/>
                    </a:lnTo>
                    <a:lnTo>
                      <a:pt x="160" y="322"/>
                    </a:lnTo>
                    <a:lnTo>
                      <a:pt x="169" y="322"/>
                    </a:lnTo>
                    <a:lnTo>
                      <a:pt x="169" y="321"/>
                    </a:lnTo>
                    <a:lnTo>
                      <a:pt x="170" y="320"/>
                    </a:lnTo>
                    <a:lnTo>
                      <a:pt x="171" y="319"/>
                    </a:lnTo>
                    <a:lnTo>
                      <a:pt x="173" y="319"/>
                    </a:lnTo>
                    <a:lnTo>
                      <a:pt x="175" y="319"/>
                    </a:lnTo>
                    <a:lnTo>
                      <a:pt x="176" y="320"/>
                    </a:lnTo>
                    <a:lnTo>
                      <a:pt x="177" y="321"/>
                    </a:lnTo>
                    <a:lnTo>
                      <a:pt x="178" y="322"/>
                    </a:lnTo>
                    <a:lnTo>
                      <a:pt x="198" y="322"/>
                    </a:lnTo>
                    <a:lnTo>
                      <a:pt x="198" y="321"/>
                    </a:lnTo>
                    <a:lnTo>
                      <a:pt x="199" y="320"/>
                    </a:lnTo>
                    <a:lnTo>
                      <a:pt x="201" y="319"/>
                    </a:lnTo>
                    <a:lnTo>
                      <a:pt x="203" y="319"/>
                    </a:lnTo>
                    <a:lnTo>
                      <a:pt x="204" y="319"/>
                    </a:lnTo>
                    <a:lnTo>
                      <a:pt x="206" y="320"/>
                    </a:lnTo>
                    <a:lnTo>
                      <a:pt x="207" y="321"/>
                    </a:lnTo>
                    <a:lnTo>
                      <a:pt x="207" y="322"/>
                    </a:lnTo>
                    <a:lnTo>
                      <a:pt x="259" y="322"/>
                    </a:lnTo>
                    <a:lnTo>
                      <a:pt x="259" y="321"/>
                    </a:lnTo>
                    <a:lnTo>
                      <a:pt x="260" y="320"/>
                    </a:lnTo>
                    <a:lnTo>
                      <a:pt x="262" y="319"/>
                    </a:lnTo>
                    <a:lnTo>
                      <a:pt x="264" y="319"/>
                    </a:lnTo>
                    <a:lnTo>
                      <a:pt x="265" y="319"/>
                    </a:lnTo>
                    <a:lnTo>
                      <a:pt x="267" y="320"/>
                    </a:lnTo>
                    <a:lnTo>
                      <a:pt x="268" y="321"/>
                    </a:lnTo>
                    <a:lnTo>
                      <a:pt x="268" y="322"/>
                    </a:lnTo>
                    <a:lnTo>
                      <a:pt x="286" y="322"/>
                    </a:lnTo>
                    <a:lnTo>
                      <a:pt x="286" y="321"/>
                    </a:lnTo>
                    <a:lnTo>
                      <a:pt x="287" y="320"/>
                    </a:lnTo>
                    <a:lnTo>
                      <a:pt x="289" y="319"/>
                    </a:lnTo>
                    <a:lnTo>
                      <a:pt x="291" y="319"/>
                    </a:lnTo>
                    <a:lnTo>
                      <a:pt x="292" y="319"/>
                    </a:lnTo>
                    <a:lnTo>
                      <a:pt x="294" y="320"/>
                    </a:lnTo>
                    <a:lnTo>
                      <a:pt x="295" y="321"/>
                    </a:lnTo>
                    <a:lnTo>
                      <a:pt x="295" y="322"/>
                    </a:lnTo>
                    <a:lnTo>
                      <a:pt x="314" y="322"/>
                    </a:lnTo>
                    <a:lnTo>
                      <a:pt x="314" y="321"/>
                    </a:lnTo>
                    <a:lnTo>
                      <a:pt x="315" y="320"/>
                    </a:lnTo>
                    <a:lnTo>
                      <a:pt x="317" y="319"/>
                    </a:lnTo>
                    <a:lnTo>
                      <a:pt x="319" y="319"/>
                    </a:lnTo>
                    <a:lnTo>
                      <a:pt x="320" y="319"/>
                    </a:lnTo>
                    <a:lnTo>
                      <a:pt x="322" y="320"/>
                    </a:lnTo>
                    <a:lnTo>
                      <a:pt x="323" y="321"/>
                    </a:lnTo>
                    <a:lnTo>
                      <a:pt x="323" y="322"/>
                    </a:lnTo>
                    <a:lnTo>
                      <a:pt x="327" y="322"/>
                    </a:lnTo>
                    <a:lnTo>
                      <a:pt x="327" y="321"/>
                    </a:lnTo>
                    <a:lnTo>
                      <a:pt x="328" y="320"/>
                    </a:lnTo>
                    <a:lnTo>
                      <a:pt x="329" y="319"/>
                    </a:lnTo>
                    <a:lnTo>
                      <a:pt x="331" y="319"/>
                    </a:lnTo>
                    <a:lnTo>
                      <a:pt x="333" y="319"/>
                    </a:lnTo>
                    <a:lnTo>
                      <a:pt x="334" y="320"/>
                    </a:lnTo>
                    <a:lnTo>
                      <a:pt x="335" y="321"/>
                    </a:lnTo>
                    <a:lnTo>
                      <a:pt x="336" y="322"/>
                    </a:lnTo>
                    <a:lnTo>
                      <a:pt x="340" y="322"/>
                    </a:lnTo>
                    <a:lnTo>
                      <a:pt x="341" y="321"/>
                    </a:lnTo>
                    <a:lnTo>
                      <a:pt x="341" y="320"/>
                    </a:lnTo>
                    <a:lnTo>
                      <a:pt x="343" y="319"/>
                    </a:lnTo>
                    <a:lnTo>
                      <a:pt x="345" y="319"/>
                    </a:lnTo>
                    <a:lnTo>
                      <a:pt x="346" y="319"/>
                    </a:lnTo>
                    <a:lnTo>
                      <a:pt x="348" y="320"/>
                    </a:lnTo>
                    <a:lnTo>
                      <a:pt x="349" y="321"/>
                    </a:lnTo>
                    <a:lnTo>
                      <a:pt x="349" y="322"/>
                    </a:lnTo>
                    <a:lnTo>
                      <a:pt x="352" y="322"/>
                    </a:lnTo>
                    <a:lnTo>
                      <a:pt x="352" y="321"/>
                    </a:lnTo>
                    <a:lnTo>
                      <a:pt x="353" y="320"/>
                    </a:lnTo>
                    <a:lnTo>
                      <a:pt x="355" y="319"/>
                    </a:lnTo>
                    <a:lnTo>
                      <a:pt x="356" y="319"/>
                    </a:lnTo>
                    <a:lnTo>
                      <a:pt x="358" y="319"/>
                    </a:lnTo>
                    <a:lnTo>
                      <a:pt x="360" y="320"/>
                    </a:lnTo>
                    <a:lnTo>
                      <a:pt x="361" y="321"/>
                    </a:lnTo>
                    <a:lnTo>
                      <a:pt x="361" y="322"/>
                    </a:lnTo>
                    <a:lnTo>
                      <a:pt x="372" y="322"/>
                    </a:lnTo>
                    <a:lnTo>
                      <a:pt x="372" y="321"/>
                    </a:lnTo>
                    <a:lnTo>
                      <a:pt x="373" y="320"/>
                    </a:lnTo>
                    <a:lnTo>
                      <a:pt x="375" y="319"/>
                    </a:lnTo>
                    <a:lnTo>
                      <a:pt x="376" y="319"/>
                    </a:lnTo>
                    <a:lnTo>
                      <a:pt x="378" y="319"/>
                    </a:lnTo>
                    <a:lnTo>
                      <a:pt x="379" y="320"/>
                    </a:lnTo>
                    <a:lnTo>
                      <a:pt x="381" y="321"/>
                    </a:lnTo>
                    <a:lnTo>
                      <a:pt x="381" y="322"/>
                    </a:lnTo>
                    <a:lnTo>
                      <a:pt x="383" y="322"/>
                    </a:lnTo>
                    <a:lnTo>
                      <a:pt x="383" y="321"/>
                    </a:lnTo>
                    <a:lnTo>
                      <a:pt x="384" y="320"/>
                    </a:lnTo>
                    <a:lnTo>
                      <a:pt x="386" y="319"/>
                    </a:lnTo>
                    <a:lnTo>
                      <a:pt x="387" y="319"/>
                    </a:lnTo>
                    <a:lnTo>
                      <a:pt x="389" y="319"/>
                    </a:lnTo>
                    <a:lnTo>
                      <a:pt x="391" y="320"/>
                    </a:lnTo>
                    <a:lnTo>
                      <a:pt x="392" y="321"/>
                    </a:lnTo>
                    <a:lnTo>
                      <a:pt x="392" y="322"/>
                    </a:lnTo>
                    <a:lnTo>
                      <a:pt x="393" y="322"/>
                    </a:lnTo>
                    <a:lnTo>
                      <a:pt x="393" y="321"/>
                    </a:lnTo>
                    <a:lnTo>
                      <a:pt x="394" y="320"/>
                    </a:lnTo>
                    <a:lnTo>
                      <a:pt x="395" y="319"/>
                    </a:lnTo>
                    <a:lnTo>
                      <a:pt x="397" y="319"/>
                    </a:lnTo>
                    <a:lnTo>
                      <a:pt x="399" y="319"/>
                    </a:lnTo>
                    <a:lnTo>
                      <a:pt x="400" y="320"/>
                    </a:lnTo>
                    <a:lnTo>
                      <a:pt x="401" y="321"/>
                    </a:lnTo>
                    <a:lnTo>
                      <a:pt x="401" y="322"/>
                    </a:lnTo>
                    <a:lnTo>
                      <a:pt x="403" y="322"/>
                    </a:lnTo>
                    <a:lnTo>
                      <a:pt x="404" y="320"/>
                    </a:lnTo>
                    <a:lnTo>
                      <a:pt x="405" y="319"/>
                    </a:lnTo>
                    <a:lnTo>
                      <a:pt x="406" y="317"/>
                    </a:lnTo>
                    <a:lnTo>
                      <a:pt x="408" y="316"/>
                    </a:lnTo>
                    <a:lnTo>
                      <a:pt x="411" y="316"/>
                    </a:lnTo>
                    <a:lnTo>
                      <a:pt x="413" y="316"/>
                    </a:lnTo>
                    <a:lnTo>
                      <a:pt x="415" y="316"/>
                    </a:lnTo>
                    <a:lnTo>
                      <a:pt x="418" y="317"/>
                    </a:lnTo>
                    <a:lnTo>
                      <a:pt x="419" y="319"/>
                    </a:lnTo>
                    <a:lnTo>
                      <a:pt x="420" y="320"/>
                    </a:lnTo>
                    <a:lnTo>
                      <a:pt x="421" y="322"/>
                    </a:lnTo>
                    <a:lnTo>
                      <a:pt x="425" y="322"/>
                    </a:lnTo>
                    <a:lnTo>
                      <a:pt x="425" y="320"/>
                    </a:lnTo>
                    <a:lnTo>
                      <a:pt x="426" y="319"/>
                    </a:lnTo>
                    <a:lnTo>
                      <a:pt x="428" y="317"/>
                    </a:lnTo>
                    <a:lnTo>
                      <a:pt x="430" y="316"/>
                    </a:lnTo>
                    <a:lnTo>
                      <a:pt x="432" y="316"/>
                    </a:lnTo>
                    <a:lnTo>
                      <a:pt x="434" y="316"/>
                    </a:lnTo>
                    <a:lnTo>
                      <a:pt x="437" y="316"/>
                    </a:lnTo>
                    <a:lnTo>
                      <a:pt x="439" y="317"/>
                    </a:lnTo>
                    <a:lnTo>
                      <a:pt x="440" y="319"/>
                    </a:lnTo>
                    <a:lnTo>
                      <a:pt x="441" y="320"/>
                    </a:lnTo>
                    <a:lnTo>
                      <a:pt x="441" y="322"/>
                    </a:lnTo>
                    <a:lnTo>
                      <a:pt x="456" y="322"/>
                    </a:lnTo>
                    <a:lnTo>
                      <a:pt x="456" y="321"/>
                    </a:lnTo>
                    <a:lnTo>
                      <a:pt x="457" y="320"/>
                    </a:lnTo>
                    <a:lnTo>
                      <a:pt x="459" y="319"/>
                    </a:lnTo>
                    <a:lnTo>
                      <a:pt x="460" y="319"/>
                    </a:lnTo>
                    <a:lnTo>
                      <a:pt x="462" y="319"/>
                    </a:lnTo>
                    <a:lnTo>
                      <a:pt x="464" y="320"/>
                    </a:lnTo>
                    <a:lnTo>
                      <a:pt x="464" y="321"/>
                    </a:lnTo>
                    <a:lnTo>
                      <a:pt x="465" y="322"/>
                    </a:lnTo>
                    <a:lnTo>
                      <a:pt x="484" y="322"/>
                    </a:lnTo>
                    <a:lnTo>
                      <a:pt x="484" y="321"/>
                    </a:lnTo>
                    <a:lnTo>
                      <a:pt x="485" y="320"/>
                    </a:lnTo>
                    <a:lnTo>
                      <a:pt x="486" y="319"/>
                    </a:lnTo>
                    <a:lnTo>
                      <a:pt x="488" y="319"/>
                    </a:lnTo>
                    <a:lnTo>
                      <a:pt x="490" y="319"/>
                    </a:lnTo>
                    <a:lnTo>
                      <a:pt x="491" y="320"/>
                    </a:lnTo>
                    <a:lnTo>
                      <a:pt x="492" y="321"/>
                    </a:lnTo>
                    <a:lnTo>
                      <a:pt x="493" y="322"/>
                    </a:lnTo>
                    <a:lnTo>
                      <a:pt x="497" y="322"/>
                    </a:lnTo>
                    <a:lnTo>
                      <a:pt x="497" y="321"/>
                    </a:lnTo>
                    <a:lnTo>
                      <a:pt x="498" y="320"/>
                    </a:lnTo>
                    <a:lnTo>
                      <a:pt x="500" y="319"/>
                    </a:lnTo>
                    <a:lnTo>
                      <a:pt x="501" y="319"/>
                    </a:lnTo>
                    <a:lnTo>
                      <a:pt x="503" y="319"/>
                    </a:lnTo>
                    <a:lnTo>
                      <a:pt x="505" y="320"/>
                    </a:lnTo>
                    <a:lnTo>
                      <a:pt x="506" y="321"/>
                    </a:lnTo>
                    <a:lnTo>
                      <a:pt x="506" y="322"/>
                    </a:lnTo>
                    <a:lnTo>
                      <a:pt x="559" y="322"/>
                    </a:lnTo>
                    <a:lnTo>
                      <a:pt x="560" y="321"/>
                    </a:lnTo>
                    <a:lnTo>
                      <a:pt x="561" y="320"/>
                    </a:lnTo>
                    <a:lnTo>
                      <a:pt x="562" y="319"/>
                    </a:lnTo>
                    <a:lnTo>
                      <a:pt x="564" y="319"/>
                    </a:lnTo>
                    <a:lnTo>
                      <a:pt x="566" y="319"/>
                    </a:lnTo>
                    <a:lnTo>
                      <a:pt x="567" y="320"/>
                    </a:lnTo>
                    <a:lnTo>
                      <a:pt x="568" y="321"/>
                    </a:lnTo>
                    <a:lnTo>
                      <a:pt x="568" y="322"/>
                    </a:lnTo>
                    <a:lnTo>
                      <a:pt x="629" y="322"/>
                    </a:lnTo>
                    <a:lnTo>
                      <a:pt x="629" y="321"/>
                    </a:lnTo>
                    <a:lnTo>
                      <a:pt x="630" y="320"/>
                    </a:lnTo>
                    <a:lnTo>
                      <a:pt x="632" y="319"/>
                    </a:lnTo>
                    <a:lnTo>
                      <a:pt x="633" y="319"/>
                    </a:lnTo>
                    <a:lnTo>
                      <a:pt x="635" y="319"/>
                    </a:lnTo>
                    <a:lnTo>
                      <a:pt x="637" y="320"/>
                    </a:lnTo>
                    <a:lnTo>
                      <a:pt x="638" y="321"/>
                    </a:lnTo>
                    <a:lnTo>
                      <a:pt x="638" y="322"/>
                    </a:lnTo>
                    <a:lnTo>
                      <a:pt x="664" y="322"/>
                    </a:lnTo>
                    <a:lnTo>
                      <a:pt x="664" y="321"/>
                    </a:lnTo>
                    <a:lnTo>
                      <a:pt x="665" y="320"/>
                    </a:lnTo>
                    <a:lnTo>
                      <a:pt x="666" y="319"/>
                    </a:lnTo>
                    <a:lnTo>
                      <a:pt x="668" y="319"/>
                    </a:lnTo>
                    <a:lnTo>
                      <a:pt x="670" y="319"/>
                    </a:lnTo>
                    <a:lnTo>
                      <a:pt x="671" y="320"/>
                    </a:lnTo>
                    <a:lnTo>
                      <a:pt x="672" y="321"/>
                    </a:lnTo>
                    <a:lnTo>
                      <a:pt x="673" y="322"/>
                    </a:lnTo>
                    <a:lnTo>
                      <a:pt x="745" y="322"/>
                    </a:lnTo>
                    <a:lnTo>
                      <a:pt x="745" y="321"/>
                    </a:lnTo>
                    <a:lnTo>
                      <a:pt x="746" y="320"/>
                    </a:lnTo>
                    <a:lnTo>
                      <a:pt x="747" y="319"/>
                    </a:lnTo>
                    <a:lnTo>
                      <a:pt x="749" y="319"/>
                    </a:lnTo>
                    <a:lnTo>
                      <a:pt x="751" y="319"/>
                    </a:lnTo>
                    <a:lnTo>
                      <a:pt x="752" y="320"/>
                    </a:lnTo>
                    <a:lnTo>
                      <a:pt x="753" y="321"/>
                    </a:lnTo>
                    <a:lnTo>
                      <a:pt x="754" y="322"/>
                    </a:lnTo>
                    <a:lnTo>
                      <a:pt x="768" y="322"/>
                    </a:lnTo>
                    <a:lnTo>
                      <a:pt x="768" y="321"/>
                    </a:lnTo>
                    <a:lnTo>
                      <a:pt x="769" y="320"/>
                    </a:lnTo>
                    <a:lnTo>
                      <a:pt x="771" y="319"/>
                    </a:lnTo>
                    <a:lnTo>
                      <a:pt x="772" y="319"/>
                    </a:lnTo>
                    <a:lnTo>
                      <a:pt x="774" y="319"/>
                    </a:lnTo>
                    <a:lnTo>
                      <a:pt x="776" y="320"/>
                    </a:lnTo>
                    <a:lnTo>
                      <a:pt x="777" y="321"/>
                    </a:lnTo>
                    <a:lnTo>
                      <a:pt x="777" y="322"/>
                    </a:lnTo>
                    <a:lnTo>
                      <a:pt x="790" y="322"/>
                    </a:lnTo>
                    <a:lnTo>
                      <a:pt x="790" y="321"/>
                    </a:lnTo>
                    <a:lnTo>
                      <a:pt x="791" y="320"/>
                    </a:lnTo>
                    <a:lnTo>
                      <a:pt x="793" y="319"/>
                    </a:lnTo>
                    <a:lnTo>
                      <a:pt x="794" y="319"/>
                    </a:lnTo>
                    <a:lnTo>
                      <a:pt x="796" y="319"/>
                    </a:lnTo>
                    <a:lnTo>
                      <a:pt x="797" y="320"/>
                    </a:lnTo>
                    <a:lnTo>
                      <a:pt x="798" y="321"/>
                    </a:lnTo>
                    <a:lnTo>
                      <a:pt x="799" y="322"/>
                    </a:lnTo>
                    <a:lnTo>
                      <a:pt x="810" y="322"/>
                    </a:lnTo>
                    <a:lnTo>
                      <a:pt x="810" y="321"/>
                    </a:lnTo>
                    <a:lnTo>
                      <a:pt x="811" y="320"/>
                    </a:lnTo>
                    <a:lnTo>
                      <a:pt x="812" y="319"/>
                    </a:lnTo>
                    <a:lnTo>
                      <a:pt x="814" y="319"/>
                    </a:lnTo>
                    <a:lnTo>
                      <a:pt x="816" y="319"/>
                    </a:lnTo>
                    <a:lnTo>
                      <a:pt x="817" y="320"/>
                    </a:lnTo>
                    <a:lnTo>
                      <a:pt x="818" y="321"/>
                    </a:lnTo>
                    <a:lnTo>
                      <a:pt x="819" y="322"/>
                    </a:lnTo>
                    <a:lnTo>
                      <a:pt x="834" y="322"/>
                    </a:lnTo>
                    <a:lnTo>
                      <a:pt x="834" y="321"/>
                    </a:lnTo>
                    <a:lnTo>
                      <a:pt x="835" y="320"/>
                    </a:lnTo>
                    <a:lnTo>
                      <a:pt x="837" y="319"/>
                    </a:lnTo>
                    <a:lnTo>
                      <a:pt x="839" y="319"/>
                    </a:lnTo>
                    <a:lnTo>
                      <a:pt x="840" y="319"/>
                    </a:lnTo>
                    <a:lnTo>
                      <a:pt x="842" y="320"/>
                    </a:lnTo>
                    <a:lnTo>
                      <a:pt x="843" y="321"/>
                    </a:lnTo>
                    <a:lnTo>
                      <a:pt x="843" y="322"/>
                    </a:lnTo>
                    <a:lnTo>
                      <a:pt x="867" y="322"/>
                    </a:lnTo>
                    <a:lnTo>
                      <a:pt x="867" y="321"/>
                    </a:lnTo>
                    <a:lnTo>
                      <a:pt x="868" y="320"/>
                    </a:lnTo>
                    <a:lnTo>
                      <a:pt x="870" y="319"/>
                    </a:lnTo>
                    <a:lnTo>
                      <a:pt x="872" y="319"/>
                    </a:lnTo>
                    <a:lnTo>
                      <a:pt x="873" y="319"/>
                    </a:lnTo>
                    <a:lnTo>
                      <a:pt x="875" y="320"/>
                    </a:lnTo>
                    <a:lnTo>
                      <a:pt x="876" y="321"/>
                    </a:lnTo>
                    <a:lnTo>
                      <a:pt x="876" y="322"/>
                    </a:lnTo>
                    <a:lnTo>
                      <a:pt x="885" y="322"/>
                    </a:lnTo>
                    <a:lnTo>
                      <a:pt x="885" y="321"/>
                    </a:lnTo>
                    <a:lnTo>
                      <a:pt x="886" y="320"/>
                    </a:lnTo>
                    <a:lnTo>
                      <a:pt x="888" y="319"/>
                    </a:lnTo>
                    <a:lnTo>
                      <a:pt x="890" y="319"/>
                    </a:lnTo>
                    <a:lnTo>
                      <a:pt x="891" y="319"/>
                    </a:lnTo>
                    <a:lnTo>
                      <a:pt x="893" y="320"/>
                    </a:lnTo>
                    <a:lnTo>
                      <a:pt x="894" y="321"/>
                    </a:lnTo>
                    <a:lnTo>
                      <a:pt x="894" y="322"/>
                    </a:lnTo>
                    <a:lnTo>
                      <a:pt x="894" y="322"/>
                    </a:lnTo>
                    <a:lnTo>
                      <a:pt x="894" y="321"/>
                    </a:lnTo>
                    <a:lnTo>
                      <a:pt x="895" y="320"/>
                    </a:lnTo>
                    <a:lnTo>
                      <a:pt x="897" y="319"/>
                    </a:lnTo>
                    <a:lnTo>
                      <a:pt x="899" y="319"/>
                    </a:lnTo>
                    <a:lnTo>
                      <a:pt x="900" y="319"/>
                    </a:lnTo>
                    <a:lnTo>
                      <a:pt x="902" y="320"/>
                    </a:lnTo>
                    <a:lnTo>
                      <a:pt x="903" y="321"/>
                    </a:lnTo>
                    <a:lnTo>
                      <a:pt x="903" y="322"/>
                    </a:lnTo>
                    <a:lnTo>
                      <a:pt x="908" y="322"/>
                    </a:lnTo>
                    <a:lnTo>
                      <a:pt x="908" y="321"/>
                    </a:lnTo>
                    <a:lnTo>
                      <a:pt x="909" y="320"/>
                    </a:lnTo>
                    <a:lnTo>
                      <a:pt x="910" y="319"/>
                    </a:lnTo>
                    <a:lnTo>
                      <a:pt x="912" y="319"/>
                    </a:lnTo>
                    <a:lnTo>
                      <a:pt x="914" y="319"/>
                    </a:lnTo>
                    <a:lnTo>
                      <a:pt x="915" y="320"/>
                    </a:lnTo>
                    <a:lnTo>
                      <a:pt x="916" y="321"/>
                    </a:lnTo>
                    <a:lnTo>
                      <a:pt x="917" y="322"/>
                    </a:lnTo>
                    <a:lnTo>
                      <a:pt x="918" y="322"/>
                    </a:lnTo>
                    <a:lnTo>
                      <a:pt x="919" y="321"/>
                    </a:lnTo>
                    <a:lnTo>
                      <a:pt x="920" y="320"/>
                    </a:lnTo>
                    <a:lnTo>
                      <a:pt x="921" y="319"/>
                    </a:lnTo>
                    <a:lnTo>
                      <a:pt x="923" y="319"/>
                    </a:lnTo>
                    <a:lnTo>
                      <a:pt x="925" y="319"/>
                    </a:lnTo>
                    <a:lnTo>
                      <a:pt x="926" y="320"/>
                    </a:lnTo>
                    <a:lnTo>
                      <a:pt x="927" y="321"/>
                    </a:lnTo>
                    <a:lnTo>
                      <a:pt x="927" y="322"/>
                    </a:lnTo>
                    <a:lnTo>
                      <a:pt x="939" y="322"/>
                    </a:lnTo>
                    <a:lnTo>
                      <a:pt x="939" y="321"/>
                    </a:lnTo>
                    <a:lnTo>
                      <a:pt x="940" y="320"/>
                    </a:lnTo>
                    <a:lnTo>
                      <a:pt x="942" y="319"/>
                    </a:lnTo>
                    <a:lnTo>
                      <a:pt x="944" y="319"/>
                    </a:lnTo>
                    <a:lnTo>
                      <a:pt x="945" y="319"/>
                    </a:lnTo>
                    <a:lnTo>
                      <a:pt x="947" y="320"/>
                    </a:lnTo>
                    <a:lnTo>
                      <a:pt x="948" y="321"/>
                    </a:lnTo>
                    <a:lnTo>
                      <a:pt x="948" y="322"/>
                    </a:lnTo>
                    <a:lnTo>
                      <a:pt x="955" y="322"/>
                    </a:lnTo>
                    <a:lnTo>
                      <a:pt x="956" y="321"/>
                    </a:lnTo>
                    <a:lnTo>
                      <a:pt x="957" y="320"/>
                    </a:lnTo>
                    <a:lnTo>
                      <a:pt x="958" y="319"/>
                    </a:lnTo>
                    <a:lnTo>
                      <a:pt x="960" y="319"/>
                    </a:lnTo>
                    <a:lnTo>
                      <a:pt x="962" y="319"/>
                    </a:lnTo>
                    <a:lnTo>
                      <a:pt x="963" y="320"/>
                    </a:lnTo>
                    <a:lnTo>
                      <a:pt x="964" y="321"/>
                    </a:lnTo>
                    <a:lnTo>
                      <a:pt x="964" y="322"/>
                    </a:lnTo>
                    <a:lnTo>
                      <a:pt x="971" y="322"/>
                    </a:lnTo>
                    <a:lnTo>
                      <a:pt x="971" y="320"/>
                    </a:lnTo>
                    <a:lnTo>
                      <a:pt x="972" y="319"/>
                    </a:lnTo>
                    <a:lnTo>
                      <a:pt x="974" y="317"/>
                    </a:lnTo>
                    <a:lnTo>
                      <a:pt x="976" y="316"/>
                    </a:lnTo>
                    <a:lnTo>
                      <a:pt x="979" y="316"/>
                    </a:lnTo>
                    <a:lnTo>
                      <a:pt x="981" y="316"/>
                    </a:lnTo>
                    <a:lnTo>
                      <a:pt x="983" y="316"/>
                    </a:lnTo>
                    <a:lnTo>
                      <a:pt x="986" y="317"/>
                    </a:lnTo>
                    <a:lnTo>
                      <a:pt x="987" y="319"/>
                    </a:lnTo>
                    <a:lnTo>
                      <a:pt x="988" y="320"/>
                    </a:lnTo>
                    <a:lnTo>
                      <a:pt x="989" y="322"/>
                    </a:lnTo>
                    <a:lnTo>
                      <a:pt x="1035" y="322"/>
                    </a:lnTo>
                    <a:lnTo>
                      <a:pt x="1035" y="321"/>
                    </a:lnTo>
                    <a:lnTo>
                      <a:pt x="1036" y="320"/>
                    </a:lnTo>
                    <a:lnTo>
                      <a:pt x="1038" y="319"/>
                    </a:lnTo>
                    <a:lnTo>
                      <a:pt x="1039" y="319"/>
                    </a:lnTo>
                    <a:lnTo>
                      <a:pt x="1041" y="319"/>
                    </a:lnTo>
                    <a:lnTo>
                      <a:pt x="1043" y="320"/>
                    </a:lnTo>
                    <a:lnTo>
                      <a:pt x="1044" y="321"/>
                    </a:lnTo>
                    <a:lnTo>
                      <a:pt x="1044" y="322"/>
                    </a:lnTo>
                    <a:lnTo>
                      <a:pt x="1124" y="322"/>
                    </a:lnTo>
                    <a:lnTo>
                      <a:pt x="1124" y="321"/>
                    </a:lnTo>
                    <a:lnTo>
                      <a:pt x="1125" y="320"/>
                    </a:lnTo>
                    <a:lnTo>
                      <a:pt x="1126" y="319"/>
                    </a:lnTo>
                    <a:lnTo>
                      <a:pt x="1128" y="319"/>
                    </a:lnTo>
                    <a:lnTo>
                      <a:pt x="1130" y="319"/>
                    </a:lnTo>
                    <a:lnTo>
                      <a:pt x="1131" y="320"/>
                    </a:lnTo>
                    <a:lnTo>
                      <a:pt x="1132" y="321"/>
                    </a:lnTo>
                    <a:lnTo>
                      <a:pt x="1133" y="322"/>
                    </a:lnTo>
                    <a:lnTo>
                      <a:pt x="1199" y="322"/>
                    </a:lnTo>
                    <a:lnTo>
                      <a:pt x="1200" y="321"/>
                    </a:lnTo>
                    <a:lnTo>
                      <a:pt x="1201" y="320"/>
                    </a:lnTo>
                    <a:lnTo>
                      <a:pt x="1202" y="319"/>
                    </a:lnTo>
                    <a:lnTo>
                      <a:pt x="1204" y="319"/>
                    </a:lnTo>
                    <a:lnTo>
                      <a:pt x="1205" y="319"/>
                    </a:lnTo>
                    <a:lnTo>
                      <a:pt x="1207" y="320"/>
                    </a:lnTo>
                    <a:lnTo>
                      <a:pt x="1208" y="321"/>
                    </a:lnTo>
                    <a:lnTo>
                      <a:pt x="1208" y="322"/>
                    </a:lnTo>
                    <a:lnTo>
                      <a:pt x="1259" y="322"/>
                    </a:lnTo>
                    <a:lnTo>
                      <a:pt x="1259" y="321"/>
                    </a:lnTo>
                    <a:lnTo>
                      <a:pt x="1260" y="320"/>
                    </a:lnTo>
                    <a:lnTo>
                      <a:pt x="1261" y="319"/>
                    </a:lnTo>
                    <a:lnTo>
                      <a:pt x="1263" y="319"/>
                    </a:lnTo>
                    <a:lnTo>
                      <a:pt x="1265" y="319"/>
                    </a:lnTo>
                    <a:lnTo>
                      <a:pt x="1266" y="320"/>
                    </a:lnTo>
                    <a:lnTo>
                      <a:pt x="1267" y="321"/>
                    </a:lnTo>
                    <a:lnTo>
                      <a:pt x="1268" y="322"/>
                    </a:lnTo>
                    <a:lnTo>
                      <a:pt x="1276" y="322"/>
                    </a:lnTo>
                    <a:lnTo>
                      <a:pt x="1276" y="321"/>
                    </a:lnTo>
                    <a:lnTo>
                      <a:pt x="1277" y="320"/>
                    </a:lnTo>
                    <a:lnTo>
                      <a:pt x="1278" y="319"/>
                    </a:lnTo>
                    <a:lnTo>
                      <a:pt x="1280" y="319"/>
                    </a:lnTo>
                    <a:lnTo>
                      <a:pt x="1282" y="319"/>
                    </a:lnTo>
                    <a:lnTo>
                      <a:pt x="1283" y="320"/>
                    </a:lnTo>
                    <a:lnTo>
                      <a:pt x="1284" y="321"/>
                    </a:lnTo>
                    <a:lnTo>
                      <a:pt x="1285" y="322"/>
                    </a:lnTo>
                    <a:lnTo>
                      <a:pt x="1286" y="322"/>
                    </a:lnTo>
                    <a:lnTo>
                      <a:pt x="1286" y="321"/>
                    </a:lnTo>
                    <a:lnTo>
                      <a:pt x="1287" y="320"/>
                    </a:lnTo>
                    <a:lnTo>
                      <a:pt x="1288" y="319"/>
                    </a:lnTo>
                    <a:lnTo>
                      <a:pt x="1290" y="319"/>
                    </a:lnTo>
                    <a:lnTo>
                      <a:pt x="1292" y="319"/>
                    </a:lnTo>
                    <a:lnTo>
                      <a:pt x="1293" y="320"/>
                    </a:lnTo>
                    <a:lnTo>
                      <a:pt x="1294" y="321"/>
                    </a:lnTo>
                    <a:lnTo>
                      <a:pt x="1295" y="322"/>
                    </a:lnTo>
                    <a:lnTo>
                      <a:pt x="1340" y="322"/>
                    </a:lnTo>
                    <a:lnTo>
                      <a:pt x="1340" y="321"/>
                    </a:lnTo>
                    <a:lnTo>
                      <a:pt x="1341" y="320"/>
                    </a:lnTo>
                    <a:lnTo>
                      <a:pt x="1343" y="319"/>
                    </a:lnTo>
                    <a:lnTo>
                      <a:pt x="1344" y="319"/>
                    </a:lnTo>
                    <a:lnTo>
                      <a:pt x="1346" y="319"/>
                    </a:lnTo>
                    <a:lnTo>
                      <a:pt x="1347" y="320"/>
                    </a:lnTo>
                    <a:lnTo>
                      <a:pt x="1348" y="321"/>
                    </a:lnTo>
                    <a:lnTo>
                      <a:pt x="1349" y="322"/>
                    </a:lnTo>
                    <a:lnTo>
                      <a:pt x="1401" y="322"/>
                    </a:lnTo>
                    <a:lnTo>
                      <a:pt x="1401" y="321"/>
                    </a:lnTo>
                    <a:lnTo>
                      <a:pt x="1402" y="320"/>
                    </a:lnTo>
                    <a:lnTo>
                      <a:pt x="1403" y="319"/>
                    </a:lnTo>
                    <a:lnTo>
                      <a:pt x="1405" y="319"/>
                    </a:lnTo>
                    <a:lnTo>
                      <a:pt x="1407" y="319"/>
                    </a:lnTo>
                    <a:lnTo>
                      <a:pt x="1408" y="320"/>
                    </a:lnTo>
                    <a:lnTo>
                      <a:pt x="1409" y="321"/>
                    </a:lnTo>
                    <a:lnTo>
                      <a:pt x="1410" y="322"/>
                    </a:lnTo>
                    <a:lnTo>
                      <a:pt x="1412" y="322"/>
                    </a:lnTo>
                    <a:lnTo>
                      <a:pt x="1413" y="321"/>
                    </a:lnTo>
                    <a:lnTo>
                      <a:pt x="1414" y="320"/>
                    </a:lnTo>
                    <a:lnTo>
                      <a:pt x="1415" y="319"/>
                    </a:lnTo>
                    <a:lnTo>
                      <a:pt x="1417" y="319"/>
                    </a:lnTo>
                    <a:lnTo>
                      <a:pt x="1419" y="319"/>
                    </a:lnTo>
                    <a:lnTo>
                      <a:pt x="1420" y="320"/>
                    </a:lnTo>
                    <a:lnTo>
                      <a:pt x="1421" y="321"/>
                    </a:lnTo>
                    <a:lnTo>
                      <a:pt x="1421" y="322"/>
                    </a:lnTo>
                    <a:lnTo>
                      <a:pt x="1464" y="322"/>
                    </a:lnTo>
                    <a:lnTo>
                      <a:pt x="1464" y="5"/>
                    </a:lnTo>
                    <a:lnTo>
                      <a:pt x="1482" y="5"/>
                    </a:lnTo>
                    <a:lnTo>
                      <a:pt x="1482" y="3"/>
                    </a:lnTo>
                    <a:lnTo>
                      <a:pt x="1483" y="2"/>
                    </a:lnTo>
                    <a:lnTo>
                      <a:pt x="1484" y="1"/>
                    </a:lnTo>
                    <a:lnTo>
                      <a:pt x="1486" y="0"/>
                    </a:lnTo>
                    <a:lnTo>
                      <a:pt x="1488" y="0"/>
                    </a:lnTo>
                    <a:lnTo>
                      <a:pt x="1490" y="0"/>
                    </a:lnTo>
                    <a:lnTo>
                      <a:pt x="1491" y="1"/>
                    </a:lnTo>
                    <a:lnTo>
                      <a:pt x="1493" y="2"/>
                    </a:lnTo>
                    <a:lnTo>
                      <a:pt x="1493" y="3"/>
                    </a:lnTo>
                    <a:lnTo>
                      <a:pt x="1494" y="5"/>
                    </a:lnTo>
                    <a:lnTo>
                      <a:pt x="1495" y="5"/>
                    </a:lnTo>
                    <a:lnTo>
                      <a:pt x="1495" y="3"/>
                    </a:lnTo>
                    <a:lnTo>
                      <a:pt x="1496" y="2"/>
                    </a:lnTo>
                    <a:lnTo>
                      <a:pt x="1498" y="2"/>
                    </a:lnTo>
                    <a:lnTo>
                      <a:pt x="1499" y="1"/>
                    </a:lnTo>
                    <a:lnTo>
                      <a:pt x="1501" y="2"/>
                    </a:lnTo>
                    <a:lnTo>
                      <a:pt x="1502" y="2"/>
                    </a:lnTo>
                    <a:lnTo>
                      <a:pt x="1504" y="3"/>
                    </a:lnTo>
                    <a:lnTo>
                      <a:pt x="1504" y="5"/>
                    </a:lnTo>
                    <a:lnTo>
                      <a:pt x="1522" y="5"/>
                    </a:lnTo>
                    <a:lnTo>
                      <a:pt x="1522" y="3"/>
                    </a:lnTo>
                    <a:lnTo>
                      <a:pt x="1524" y="2"/>
                    </a:lnTo>
                    <a:lnTo>
                      <a:pt x="1525" y="2"/>
                    </a:lnTo>
                    <a:lnTo>
                      <a:pt x="1527" y="1"/>
                    </a:lnTo>
                    <a:lnTo>
                      <a:pt x="1528" y="2"/>
                    </a:lnTo>
                    <a:lnTo>
                      <a:pt x="1530" y="2"/>
                    </a:lnTo>
                    <a:lnTo>
                      <a:pt x="1531" y="3"/>
                    </a:lnTo>
                    <a:lnTo>
                      <a:pt x="1531" y="5"/>
                    </a:lnTo>
                    <a:lnTo>
                      <a:pt x="1581" y="5"/>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5011560" y="367632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ff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353" name=""/>
              <p:cNvSpPr/>
              <p:nvPr/>
            </p:nvSpPr>
            <p:spPr>
              <a:xfrm>
                <a:off x="4591080" y="3946320"/>
                <a:ext cx="195480" cy="15840"/>
              </a:xfrm>
              <a:custGeom>
                <a:avLst/>
                <a:gdLst/>
                <a:ahLst/>
                <a:rect l="l" t="t" r="r" b="b"/>
                <a:pathLst>
                  <a:path w="185" h="12">
                    <a:moveTo>
                      <a:pt x="0" y="6"/>
                    </a:moveTo>
                    <a:lnTo>
                      <a:pt x="0" y="12"/>
                    </a:lnTo>
                    <a:lnTo>
                      <a:pt x="60" y="12"/>
                    </a:lnTo>
                    <a:lnTo>
                      <a:pt x="61" y="10"/>
                    </a:lnTo>
                    <a:lnTo>
                      <a:pt x="62" y="8"/>
                    </a:lnTo>
                    <a:lnTo>
                      <a:pt x="63" y="7"/>
                    </a:lnTo>
                    <a:lnTo>
                      <a:pt x="65" y="6"/>
                    </a:lnTo>
                    <a:lnTo>
                      <a:pt x="67" y="6"/>
                    </a:lnTo>
                    <a:lnTo>
                      <a:pt x="70" y="6"/>
                    </a:lnTo>
                    <a:lnTo>
                      <a:pt x="72" y="6"/>
                    </a:lnTo>
                    <a:lnTo>
                      <a:pt x="74" y="7"/>
                    </a:lnTo>
                    <a:lnTo>
                      <a:pt x="75" y="8"/>
                    </a:lnTo>
                    <a:lnTo>
                      <a:pt x="76" y="10"/>
                    </a:lnTo>
                    <a:lnTo>
                      <a:pt x="77" y="12"/>
                    </a:lnTo>
                    <a:lnTo>
                      <a:pt x="98" y="12"/>
                    </a:lnTo>
                    <a:lnTo>
                      <a:pt x="99" y="11"/>
                    </a:lnTo>
                    <a:lnTo>
                      <a:pt x="99" y="9"/>
                    </a:lnTo>
                    <a:lnTo>
                      <a:pt x="101" y="9"/>
                    </a:lnTo>
                    <a:lnTo>
                      <a:pt x="103" y="8"/>
                    </a:lnTo>
                    <a:lnTo>
                      <a:pt x="104" y="9"/>
                    </a:lnTo>
                    <a:lnTo>
                      <a:pt x="106" y="9"/>
                    </a:lnTo>
                    <a:lnTo>
                      <a:pt x="107" y="11"/>
                    </a:lnTo>
                    <a:lnTo>
                      <a:pt x="107" y="12"/>
                    </a:lnTo>
                    <a:lnTo>
                      <a:pt x="108" y="12"/>
                    </a:lnTo>
                    <a:lnTo>
                      <a:pt x="109" y="11"/>
                    </a:lnTo>
                    <a:lnTo>
                      <a:pt x="110" y="9"/>
                    </a:lnTo>
                    <a:lnTo>
                      <a:pt x="111" y="9"/>
                    </a:lnTo>
                    <a:lnTo>
                      <a:pt x="113" y="8"/>
                    </a:lnTo>
                    <a:lnTo>
                      <a:pt x="114" y="9"/>
                    </a:lnTo>
                    <a:lnTo>
                      <a:pt x="116" y="9"/>
                    </a:lnTo>
                    <a:lnTo>
                      <a:pt x="117" y="11"/>
                    </a:lnTo>
                    <a:lnTo>
                      <a:pt x="117" y="12"/>
                    </a:lnTo>
                    <a:lnTo>
                      <a:pt x="129" y="12"/>
                    </a:lnTo>
                    <a:lnTo>
                      <a:pt x="130" y="11"/>
                    </a:lnTo>
                    <a:lnTo>
                      <a:pt x="131" y="9"/>
                    </a:lnTo>
                    <a:lnTo>
                      <a:pt x="132" y="9"/>
                    </a:lnTo>
                    <a:lnTo>
                      <a:pt x="134" y="8"/>
                    </a:lnTo>
                    <a:lnTo>
                      <a:pt x="136" y="9"/>
                    </a:lnTo>
                    <a:lnTo>
                      <a:pt x="137" y="9"/>
                    </a:lnTo>
                    <a:lnTo>
                      <a:pt x="138" y="11"/>
                    </a:lnTo>
                    <a:lnTo>
                      <a:pt x="138" y="12"/>
                    </a:lnTo>
                    <a:lnTo>
                      <a:pt x="144" y="12"/>
                    </a:lnTo>
                    <a:lnTo>
                      <a:pt x="144" y="11"/>
                    </a:lnTo>
                    <a:lnTo>
                      <a:pt x="145" y="9"/>
                    </a:lnTo>
                    <a:lnTo>
                      <a:pt x="146" y="9"/>
                    </a:lnTo>
                    <a:lnTo>
                      <a:pt x="148" y="8"/>
                    </a:lnTo>
                    <a:lnTo>
                      <a:pt x="150" y="9"/>
                    </a:lnTo>
                    <a:lnTo>
                      <a:pt x="151" y="9"/>
                    </a:lnTo>
                    <a:lnTo>
                      <a:pt x="152" y="11"/>
                    </a:lnTo>
                    <a:lnTo>
                      <a:pt x="153" y="12"/>
                    </a:lnTo>
                    <a:lnTo>
                      <a:pt x="154" y="12"/>
                    </a:lnTo>
                    <a:lnTo>
                      <a:pt x="154" y="11"/>
                    </a:lnTo>
                    <a:lnTo>
                      <a:pt x="155" y="9"/>
                    </a:lnTo>
                    <a:lnTo>
                      <a:pt x="157" y="9"/>
                    </a:lnTo>
                    <a:lnTo>
                      <a:pt x="158" y="8"/>
                    </a:lnTo>
                    <a:lnTo>
                      <a:pt x="160" y="9"/>
                    </a:lnTo>
                    <a:lnTo>
                      <a:pt x="162" y="9"/>
                    </a:lnTo>
                    <a:lnTo>
                      <a:pt x="162" y="11"/>
                    </a:lnTo>
                    <a:lnTo>
                      <a:pt x="163" y="12"/>
                    </a:lnTo>
                    <a:lnTo>
                      <a:pt x="176" y="12"/>
                    </a:lnTo>
                    <a:lnTo>
                      <a:pt x="176" y="0"/>
                    </a:lnTo>
                    <a:lnTo>
                      <a:pt x="185"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54" name=""/>
              <p:cNvSpPr/>
              <p:nvPr/>
            </p:nvSpPr>
            <p:spPr>
              <a:xfrm>
                <a:off x="4584600" y="3940920"/>
                <a:ext cx="12600" cy="14400"/>
              </a:xfrm>
              <a:custGeom>
                <a:avLst/>
                <a:gdLst/>
                <a:ahLst/>
                <a:rect l="l" t="t" r="r" b="b"/>
                <a:pathLst>
                  <a:path w="12" h="11">
                    <a:moveTo>
                      <a:pt x="0" y="10"/>
                    </a:moveTo>
                    <a:lnTo>
                      <a:pt x="6" y="0"/>
                    </a:lnTo>
                    <a:lnTo>
                      <a:pt x="12" y="10"/>
                    </a:lnTo>
                    <a:lnTo>
                      <a:pt x="9" y="11"/>
                    </a:lnTo>
                    <a:lnTo>
                      <a:pt x="6" y="11"/>
                    </a:lnTo>
                    <a:lnTo>
                      <a:pt x="3" y="11"/>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55" name=""/>
              <p:cNvSpPr/>
              <p:nvPr/>
            </p:nvSpPr>
            <p:spPr>
              <a:xfrm>
                <a:off x="4785120" y="3939480"/>
                <a:ext cx="14400" cy="13320"/>
              </a:xfrm>
              <a:custGeom>
                <a:avLst/>
                <a:gdLst/>
                <a:ahLst/>
                <a:rect l="l" t="t" r="r" b="b"/>
                <a:pathLst>
                  <a:path w="14" h="10">
                    <a:moveTo>
                      <a:pt x="2" y="0"/>
                    </a:moveTo>
                    <a:lnTo>
                      <a:pt x="14" y="5"/>
                    </a:lnTo>
                    <a:lnTo>
                      <a:pt x="2" y="10"/>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56" name=""/>
              <p:cNvSpPr/>
              <p:nvPr/>
            </p:nvSpPr>
            <p:spPr>
              <a:xfrm flipV="1">
                <a:off x="4581720" y="4105440"/>
                <a:ext cx="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357" name=""/>
              <p:cNvSpPr/>
              <p:nvPr/>
            </p:nvSpPr>
            <p:spPr>
              <a:xfrm>
                <a:off x="4486320" y="3695040"/>
                <a:ext cx="28440" cy="128160"/>
              </a:xfrm>
              <a:custGeom>
                <a:avLst/>
                <a:gdLst/>
                <a:ahLst/>
                <a:rect l="l" t="t" r="r" b="b"/>
                <a:pathLst>
                  <a:path w="27" h="96">
                    <a:moveTo>
                      <a:pt x="27" y="0"/>
                    </a:moveTo>
                    <a:lnTo>
                      <a:pt x="27" y="6"/>
                    </a:lnTo>
                    <a:lnTo>
                      <a:pt x="0" y="6"/>
                    </a:lnTo>
                    <a:lnTo>
                      <a:pt x="0" y="9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4508640" y="36831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59" name=""/>
              <p:cNvSpPr/>
              <p:nvPr/>
            </p:nvSpPr>
            <p:spPr>
              <a:xfrm>
                <a:off x="6318000" y="3290400"/>
                <a:ext cx="1452240" cy="714240"/>
              </a:xfrm>
              <a:custGeom>
                <a:avLst/>
                <a:gdLst/>
                <a:ahLst/>
                <a:rect l="l" t="t" r="r" b="b"/>
                <a:pathLst>
                  <a:path w="1372" h="535">
                    <a:moveTo>
                      <a:pt x="1372" y="535"/>
                    </a:moveTo>
                    <a:lnTo>
                      <a:pt x="1372" y="436"/>
                    </a:lnTo>
                    <a:lnTo>
                      <a:pt x="1310" y="436"/>
                    </a:lnTo>
                    <a:lnTo>
                      <a:pt x="1309" y="435"/>
                    </a:lnTo>
                    <a:lnTo>
                      <a:pt x="1308" y="434"/>
                    </a:lnTo>
                    <a:lnTo>
                      <a:pt x="1307" y="433"/>
                    </a:lnTo>
                    <a:lnTo>
                      <a:pt x="1305" y="433"/>
                    </a:lnTo>
                    <a:lnTo>
                      <a:pt x="1303" y="433"/>
                    </a:lnTo>
                    <a:lnTo>
                      <a:pt x="1302" y="434"/>
                    </a:lnTo>
                    <a:lnTo>
                      <a:pt x="1301" y="435"/>
                    </a:lnTo>
                    <a:lnTo>
                      <a:pt x="1301" y="436"/>
                    </a:lnTo>
                    <a:lnTo>
                      <a:pt x="1258" y="436"/>
                    </a:lnTo>
                    <a:lnTo>
                      <a:pt x="1257" y="435"/>
                    </a:lnTo>
                    <a:lnTo>
                      <a:pt x="1256" y="434"/>
                    </a:lnTo>
                    <a:lnTo>
                      <a:pt x="1255" y="433"/>
                    </a:lnTo>
                    <a:lnTo>
                      <a:pt x="1253" y="433"/>
                    </a:lnTo>
                    <a:lnTo>
                      <a:pt x="1251" y="433"/>
                    </a:lnTo>
                    <a:lnTo>
                      <a:pt x="1250" y="434"/>
                    </a:lnTo>
                    <a:lnTo>
                      <a:pt x="1249" y="435"/>
                    </a:lnTo>
                    <a:lnTo>
                      <a:pt x="1249" y="436"/>
                    </a:lnTo>
                    <a:lnTo>
                      <a:pt x="1168" y="436"/>
                    </a:lnTo>
                    <a:lnTo>
                      <a:pt x="1167" y="434"/>
                    </a:lnTo>
                    <a:lnTo>
                      <a:pt x="1167" y="433"/>
                    </a:lnTo>
                    <a:lnTo>
                      <a:pt x="1165" y="432"/>
                    </a:lnTo>
                    <a:lnTo>
                      <a:pt x="1163" y="431"/>
                    </a:lnTo>
                    <a:lnTo>
                      <a:pt x="1161" y="431"/>
                    </a:lnTo>
                    <a:lnTo>
                      <a:pt x="1159" y="431"/>
                    </a:lnTo>
                    <a:lnTo>
                      <a:pt x="1157" y="432"/>
                    </a:lnTo>
                    <a:lnTo>
                      <a:pt x="1156" y="433"/>
                    </a:lnTo>
                    <a:lnTo>
                      <a:pt x="1155" y="434"/>
                    </a:lnTo>
                    <a:lnTo>
                      <a:pt x="1154" y="436"/>
                    </a:lnTo>
                    <a:lnTo>
                      <a:pt x="1152" y="436"/>
                    </a:lnTo>
                    <a:lnTo>
                      <a:pt x="1152" y="435"/>
                    </a:lnTo>
                    <a:lnTo>
                      <a:pt x="1151" y="434"/>
                    </a:lnTo>
                    <a:lnTo>
                      <a:pt x="1149" y="433"/>
                    </a:lnTo>
                    <a:lnTo>
                      <a:pt x="1148" y="433"/>
                    </a:lnTo>
                    <a:lnTo>
                      <a:pt x="1146" y="433"/>
                    </a:lnTo>
                    <a:lnTo>
                      <a:pt x="1144" y="434"/>
                    </a:lnTo>
                    <a:lnTo>
                      <a:pt x="1143" y="435"/>
                    </a:lnTo>
                    <a:lnTo>
                      <a:pt x="1143" y="436"/>
                    </a:lnTo>
                    <a:lnTo>
                      <a:pt x="1131" y="436"/>
                    </a:lnTo>
                    <a:lnTo>
                      <a:pt x="1131" y="149"/>
                    </a:lnTo>
                    <a:lnTo>
                      <a:pt x="1120" y="149"/>
                    </a:lnTo>
                    <a:lnTo>
                      <a:pt x="1120" y="148"/>
                    </a:lnTo>
                    <a:lnTo>
                      <a:pt x="1119" y="147"/>
                    </a:lnTo>
                    <a:lnTo>
                      <a:pt x="1117" y="146"/>
                    </a:lnTo>
                    <a:lnTo>
                      <a:pt x="1115" y="146"/>
                    </a:lnTo>
                    <a:lnTo>
                      <a:pt x="1114" y="146"/>
                    </a:lnTo>
                    <a:lnTo>
                      <a:pt x="1112" y="147"/>
                    </a:lnTo>
                    <a:lnTo>
                      <a:pt x="1111" y="148"/>
                    </a:lnTo>
                    <a:lnTo>
                      <a:pt x="1111" y="149"/>
                    </a:lnTo>
                    <a:lnTo>
                      <a:pt x="1104" y="149"/>
                    </a:lnTo>
                    <a:lnTo>
                      <a:pt x="1103" y="148"/>
                    </a:lnTo>
                    <a:lnTo>
                      <a:pt x="1102" y="147"/>
                    </a:lnTo>
                    <a:lnTo>
                      <a:pt x="1101" y="146"/>
                    </a:lnTo>
                    <a:lnTo>
                      <a:pt x="1099" y="146"/>
                    </a:lnTo>
                    <a:lnTo>
                      <a:pt x="1097" y="146"/>
                    </a:lnTo>
                    <a:lnTo>
                      <a:pt x="1096" y="147"/>
                    </a:lnTo>
                    <a:lnTo>
                      <a:pt x="1095" y="148"/>
                    </a:lnTo>
                    <a:lnTo>
                      <a:pt x="1095" y="149"/>
                    </a:lnTo>
                    <a:lnTo>
                      <a:pt x="1088" y="149"/>
                    </a:lnTo>
                    <a:lnTo>
                      <a:pt x="1087" y="148"/>
                    </a:lnTo>
                    <a:lnTo>
                      <a:pt x="1086" y="147"/>
                    </a:lnTo>
                    <a:lnTo>
                      <a:pt x="1085" y="146"/>
                    </a:lnTo>
                    <a:lnTo>
                      <a:pt x="1083" y="146"/>
                    </a:lnTo>
                    <a:lnTo>
                      <a:pt x="1081" y="146"/>
                    </a:lnTo>
                    <a:lnTo>
                      <a:pt x="1080" y="147"/>
                    </a:lnTo>
                    <a:lnTo>
                      <a:pt x="1079" y="148"/>
                    </a:lnTo>
                    <a:lnTo>
                      <a:pt x="1079" y="149"/>
                    </a:lnTo>
                    <a:lnTo>
                      <a:pt x="958" y="149"/>
                    </a:lnTo>
                    <a:lnTo>
                      <a:pt x="958" y="148"/>
                    </a:lnTo>
                    <a:lnTo>
                      <a:pt x="957" y="147"/>
                    </a:lnTo>
                    <a:lnTo>
                      <a:pt x="955" y="146"/>
                    </a:lnTo>
                    <a:lnTo>
                      <a:pt x="954" y="146"/>
                    </a:lnTo>
                    <a:lnTo>
                      <a:pt x="952" y="146"/>
                    </a:lnTo>
                    <a:lnTo>
                      <a:pt x="951" y="147"/>
                    </a:lnTo>
                    <a:lnTo>
                      <a:pt x="950" y="148"/>
                    </a:lnTo>
                    <a:lnTo>
                      <a:pt x="949" y="149"/>
                    </a:lnTo>
                    <a:lnTo>
                      <a:pt x="840" y="149"/>
                    </a:lnTo>
                    <a:lnTo>
                      <a:pt x="840" y="148"/>
                    </a:lnTo>
                    <a:lnTo>
                      <a:pt x="839" y="147"/>
                    </a:lnTo>
                    <a:lnTo>
                      <a:pt x="837" y="146"/>
                    </a:lnTo>
                    <a:lnTo>
                      <a:pt x="836" y="146"/>
                    </a:lnTo>
                    <a:lnTo>
                      <a:pt x="834" y="146"/>
                    </a:lnTo>
                    <a:lnTo>
                      <a:pt x="832" y="147"/>
                    </a:lnTo>
                    <a:lnTo>
                      <a:pt x="832" y="148"/>
                    </a:lnTo>
                    <a:lnTo>
                      <a:pt x="831" y="149"/>
                    </a:lnTo>
                    <a:lnTo>
                      <a:pt x="828" y="149"/>
                    </a:lnTo>
                    <a:lnTo>
                      <a:pt x="827" y="147"/>
                    </a:lnTo>
                    <a:lnTo>
                      <a:pt x="827" y="146"/>
                    </a:lnTo>
                    <a:lnTo>
                      <a:pt x="825" y="144"/>
                    </a:lnTo>
                    <a:lnTo>
                      <a:pt x="823" y="143"/>
                    </a:lnTo>
                    <a:lnTo>
                      <a:pt x="821" y="143"/>
                    </a:lnTo>
                    <a:lnTo>
                      <a:pt x="818" y="143"/>
                    </a:lnTo>
                    <a:lnTo>
                      <a:pt x="816" y="143"/>
                    </a:lnTo>
                    <a:lnTo>
                      <a:pt x="814" y="144"/>
                    </a:lnTo>
                    <a:lnTo>
                      <a:pt x="812" y="146"/>
                    </a:lnTo>
                    <a:lnTo>
                      <a:pt x="811" y="147"/>
                    </a:lnTo>
                    <a:lnTo>
                      <a:pt x="811" y="149"/>
                    </a:lnTo>
                    <a:lnTo>
                      <a:pt x="802" y="149"/>
                    </a:lnTo>
                    <a:lnTo>
                      <a:pt x="802" y="148"/>
                    </a:lnTo>
                    <a:lnTo>
                      <a:pt x="801" y="147"/>
                    </a:lnTo>
                    <a:lnTo>
                      <a:pt x="799" y="146"/>
                    </a:lnTo>
                    <a:lnTo>
                      <a:pt x="798" y="146"/>
                    </a:lnTo>
                    <a:lnTo>
                      <a:pt x="796" y="146"/>
                    </a:lnTo>
                    <a:lnTo>
                      <a:pt x="794" y="147"/>
                    </a:lnTo>
                    <a:lnTo>
                      <a:pt x="793" y="148"/>
                    </a:lnTo>
                    <a:lnTo>
                      <a:pt x="793" y="149"/>
                    </a:lnTo>
                    <a:lnTo>
                      <a:pt x="750" y="149"/>
                    </a:lnTo>
                    <a:lnTo>
                      <a:pt x="750" y="148"/>
                    </a:lnTo>
                    <a:lnTo>
                      <a:pt x="749" y="147"/>
                    </a:lnTo>
                    <a:lnTo>
                      <a:pt x="747" y="146"/>
                    </a:lnTo>
                    <a:lnTo>
                      <a:pt x="746" y="146"/>
                    </a:lnTo>
                    <a:lnTo>
                      <a:pt x="744" y="146"/>
                    </a:lnTo>
                    <a:lnTo>
                      <a:pt x="742" y="147"/>
                    </a:lnTo>
                    <a:lnTo>
                      <a:pt x="742" y="148"/>
                    </a:lnTo>
                    <a:lnTo>
                      <a:pt x="741" y="149"/>
                    </a:lnTo>
                    <a:lnTo>
                      <a:pt x="735" y="149"/>
                    </a:lnTo>
                    <a:lnTo>
                      <a:pt x="735" y="148"/>
                    </a:lnTo>
                    <a:lnTo>
                      <a:pt x="734" y="147"/>
                    </a:lnTo>
                    <a:lnTo>
                      <a:pt x="733" y="146"/>
                    </a:lnTo>
                    <a:lnTo>
                      <a:pt x="731" y="146"/>
                    </a:lnTo>
                    <a:lnTo>
                      <a:pt x="729" y="146"/>
                    </a:lnTo>
                    <a:lnTo>
                      <a:pt x="728" y="147"/>
                    </a:lnTo>
                    <a:lnTo>
                      <a:pt x="727" y="148"/>
                    </a:lnTo>
                    <a:lnTo>
                      <a:pt x="726" y="149"/>
                    </a:lnTo>
                    <a:lnTo>
                      <a:pt x="715" y="149"/>
                    </a:lnTo>
                    <a:lnTo>
                      <a:pt x="715" y="148"/>
                    </a:lnTo>
                    <a:lnTo>
                      <a:pt x="714" y="147"/>
                    </a:lnTo>
                    <a:lnTo>
                      <a:pt x="712" y="146"/>
                    </a:lnTo>
                    <a:lnTo>
                      <a:pt x="711" y="146"/>
                    </a:lnTo>
                    <a:lnTo>
                      <a:pt x="709" y="146"/>
                    </a:lnTo>
                    <a:lnTo>
                      <a:pt x="707" y="147"/>
                    </a:lnTo>
                    <a:lnTo>
                      <a:pt x="707" y="148"/>
                    </a:lnTo>
                    <a:lnTo>
                      <a:pt x="706" y="149"/>
                    </a:lnTo>
                    <a:lnTo>
                      <a:pt x="702" y="149"/>
                    </a:lnTo>
                    <a:lnTo>
                      <a:pt x="701" y="148"/>
                    </a:lnTo>
                    <a:lnTo>
                      <a:pt x="700" y="147"/>
                    </a:lnTo>
                    <a:lnTo>
                      <a:pt x="699" y="146"/>
                    </a:lnTo>
                    <a:lnTo>
                      <a:pt x="697" y="146"/>
                    </a:lnTo>
                    <a:lnTo>
                      <a:pt x="695" y="146"/>
                    </a:lnTo>
                    <a:lnTo>
                      <a:pt x="694" y="147"/>
                    </a:lnTo>
                    <a:lnTo>
                      <a:pt x="693" y="148"/>
                    </a:lnTo>
                    <a:lnTo>
                      <a:pt x="693" y="149"/>
                    </a:lnTo>
                    <a:lnTo>
                      <a:pt x="668" y="149"/>
                    </a:lnTo>
                    <a:lnTo>
                      <a:pt x="667" y="148"/>
                    </a:lnTo>
                    <a:lnTo>
                      <a:pt x="667" y="147"/>
                    </a:lnTo>
                    <a:lnTo>
                      <a:pt x="665" y="146"/>
                    </a:lnTo>
                    <a:lnTo>
                      <a:pt x="663" y="146"/>
                    </a:lnTo>
                    <a:lnTo>
                      <a:pt x="662" y="146"/>
                    </a:lnTo>
                    <a:lnTo>
                      <a:pt x="660" y="147"/>
                    </a:lnTo>
                    <a:lnTo>
                      <a:pt x="659" y="148"/>
                    </a:lnTo>
                    <a:lnTo>
                      <a:pt x="659" y="149"/>
                    </a:lnTo>
                    <a:lnTo>
                      <a:pt x="640" y="149"/>
                    </a:lnTo>
                    <a:lnTo>
                      <a:pt x="639" y="148"/>
                    </a:lnTo>
                    <a:lnTo>
                      <a:pt x="638" y="147"/>
                    </a:lnTo>
                    <a:lnTo>
                      <a:pt x="637" y="146"/>
                    </a:lnTo>
                    <a:lnTo>
                      <a:pt x="635" y="146"/>
                    </a:lnTo>
                    <a:lnTo>
                      <a:pt x="633" y="146"/>
                    </a:lnTo>
                    <a:lnTo>
                      <a:pt x="632" y="147"/>
                    </a:lnTo>
                    <a:lnTo>
                      <a:pt x="631" y="148"/>
                    </a:lnTo>
                    <a:lnTo>
                      <a:pt x="631" y="149"/>
                    </a:lnTo>
                    <a:lnTo>
                      <a:pt x="602" y="149"/>
                    </a:lnTo>
                    <a:lnTo>
                      <a:pt x="602" y="147"/>
                    </a:lnTo>
                    <a:lnTo>
                      <a:pt x="601" y="146"/>
                    </a:lnTo>
                    <a:lnTo>
                      <a:pt x="599" y="144"/>
                    </a:lnTo>
                    <a:lnTo>
                      <a:pt x="597" y="143"/>
                    </a:lnTo>
                    <a:lnTo>
                      <a:pt x="595" y="142"/>
                    </a:lnTo>
                    <a:lnTo>
                      <a:pt x="592" y="142"/>
                    </a:lnTo>
                    <a:lnTo>
                      <a:pt x="590" y="143"/>
                    </a:lnTo>
                    <a:lnTo>
                      <a:pt x="588" y="144"/>
                    </a:lnTo>
                    <a:lnTo>
                      <a:pt x="586" y="146"/>
                    </a:lnTo>
                    <a:lnTo>
                      <a:pt x="585" y="147"/>
                    </a:lnTo>
                    <a:lnTo>
                      <a:pt x="585" y="149"/>
                    </a:lnTo>
                    <a:lnTo>
                      <a:pt x="561" y="149"/>
                    </a:lnTo>
                    <a:lnTo>
                      <a:pt x="561" y="148"/>
                    </a:lnTo>
                    <a:lnTo>
                      <a:pt x="560" y="147"/>
                    </a:lnTo>
                    <a:lnTo>
                      <a:pt x="559" y="146"/>
                    </a:lnTo>
                    <a:lnTo>
                      <a:pt x="557" y="146"/>
                    </a:lnTo>
                    <a:lnTo>
                      <a:pt x="555" y="146"/>
                    </a:lnTo>
                    <a:lnTo>
                      <a:pt x="554" y="147"/>
                    </a:lnTo>
                    <a:lnTo>
                      <a:pt x="553" y="148"/>
                    </a:lnTo>
                    <a:lnTo>
                      <a:pt x="553" y="149"/>
                    </a:lnTo>
                    <a:lnTo>
                      <a:pt x="517" y="149"/>
                    </a:lnTo>
                    <a:lnTo>
                      <a:pt x="517" y="148"/>
                    </a:lnTo>
                    <a:lnTo>
                      <a:pt x="516" y="147"/>
                    </a:lnTo>
                    <a:lnTo>
                      <a:pt x="515" y="146"/>
                    </a:lnTo>
                    <a:lnTo>
                      <a:pt x="513" y="146"/>
                    </a:lnTo>
                    <a:lnTo>
                      <a:pt x="511" y="146"/>
                    </a:lnTo>
                    <a:lnTo>
                      <a:pt x="510" y="147"/>
                    </a:lnTo>
                    <a:lnTo>
                      <a:pt x="509" y="148"/>
                    </a:lnTo>
                    <a:lnTo>
                      <a:pt x="509" y="149"/>
                    </a:lnTo>
                    <a:lnTo>
                      <a:pt x="498" y="149"/>
                    </a:lnTo>
                    <a:lnTo>
                      <a:pt x="498" y="148"/>
                    </a:lnTo>
                    <a:lnTo>
                      <a:pt x="497" y="147"/>
                    </a:lnTo>
                    <a:lnTo>
                      <a:pt x="495" y="146"/>
                    </a:lnTo>
                    <a:lnTo>
                      <a:pt x="494" y="146"/>
                    </a:lnTo>
                    <a:lnTo>
                      <a:pt x="492" y="146"/>
                    </a:lnTo>
                    <a:lnTo>
                      <a:pt x="491" y="147"/>
                    </a:lnTo>
                    <a:lnTo>
                      <a:pt x="490" y="148"/>
                    </a:lnTo>
                    <a:lnTo>
                      <a:pt x="489" y="149"/>
                    </a:lnTo>
                    <a:lnTo>
                      <a:pt x="393" y="149"/>
                    </a:lnTo>
                    <a:lnTo>
                      <a:pt x="392" y="148"/>
                    </a:lnTo>
                    <a:lnTo>
                      <a:pt x="391" y="147"/>
                    </a:lnTo>
                    <a:lnTo>
                      <a:pt x="390" y="146"/>
                    </a:lnTo>
                    <a:lnTo>
                      <a:pt x="388" y="146"/>
                    </a:lnTo>
                    <a:lnTo>
                      <a:pt x="387" y="146"/>
                    </a:lnTo>
                    <a:lnTo>
                      <a:pt x="385" y="147"/>
                    </a:lnTo>
                    <a:lnTo>
                      <a:pt x="384" y="148"/>
                    </a:lnTo>
                    <a:lnTo>
                      <a:pt x="384" y="149"/>
                    </a:lnTo>
                    <a:lnTo>
                      <a:pt x="337" y="149"/>
                    </a:lnTo>
                    <a:lnTo>
                      <a:pt x="337" y="148"/>
                    </a:lnTo>
                    <a:lnTo>
                      <a:pt x="336" y="147"/>
                    </a:lnTo>
                    <a:lnTo>
                      <a:pt x="334" y="146"/>
                    </a:lnTo>
                    <a:lnTo>
                      <a:pt x="332" y="146"/>
                    </a:lnTo>
                    <a:lnTo>
                      <a:pt x="331" y="146"/>
                    </a:lnTo>
                    <a:lnTo>
                      <a:pt x="329" y="147"/>
                    </a:lnTo>
                    <a:lnTo>
                      <a:pt x="328" y="148"/>
                    </a:lnTo>
                    <a:lnTo>
                      <a:pt x="328" y="149"/>
                    </a:lnTo>
                    <a:lnTo>
                      <a:pt x="289" y="149"/>
                    </a:lnTo>
                    <a:lnTo>
                      <a:pt x="289" y="6"/>
                    </a:lnTo>
                    <a:lnTo>
                      <a:pt x="276" y="6"/>
                    </a:lnTo>
                    <a:lnTo>
                      <a:pt x="276" y="5"/>
                    </a:lnTo>
                    <a:lnTo>
                      <a:pt x="274" y="4"/>
                    </a:lnTo>
                    <a:lnTo>
                      <a:pt x="273" y="3"/>
                    </a:lnTo>
                    <a:lnTo>
                      <a:pt x="271" y="3"/>
                    </a:lnTo>
                    <a:lnTo>
                      <a:pt x="270" y="3"/>
                    </a:lnTo>
                    <a:lnTo>
                      <a:pt x="268" y="4"/>
                    </a:lnTo>
                    <a:lnTo>
                      <a:pt x="267" y="5"/>
                    </a:lnTo>
                    <a:lnTo>
                      <a:pt x="267" y="6"/>
                    </a:lnTo>
                    <a:lnTo>
                      <a:pt x="266" y="6"/>
                    </a:lnTo>
                    <a:lnTo>
                      <a:pt x="265" y="5"/>
                    </a:lnTo>
                    <a:lnTo>
                      <a:pt x="265" y="4"/>
                    </a:lnTo>
                    <a:lnTo>
                      <a:pt x="263" y="3"/>
                    </a:lnTo>
                    <a:lnTo>
                      <a:pt x="262" y="2"/>
                    </a:lnTo>
                    <a:lnTo>
                      <a:pt x="260" y="2"/>
                    </a:lnTo>
                    <a:lnTo>
                      <a:pt x="258" y="2"/>
                    </a:lnTo>
                    <a:lnTo>
                      <a:pt x="256" y="3"/>
                    </a:lnTo>
                    <a:lnTo>
                      <a:pt x="255" y="4"/>
                    </a:lnTo>
                    <a:lnTo>
                      <a:pt x="254" y="5"/>
                    </a:lnTo>
                    <a:lnTo>
                      <a:pt x="254" y="6"/>
                    </a:lnTo>
                    <a:lnTo>
                      <a:pt x="240" y="6"/>
                    </a:lnTo>
                    <a:lnTo>
                      <a:pt x="240" y="5"/>
                    </a:lnTo>
                    <a:lnTo>
                      <a:pt x="239" y="4"/>
                    </a:lnTo>
                    <a:lnTo>
                      <a:pt x="237" y="3"/>
                    </a:lnTo>
                    <a:lnTo>
                      <a:pt x="236" y="3"/>
                    </a:lnTo>
                    <a:lnTo>
                      <a:pt x="234" y="3"/>
                    </a:lnTo>
                    <a:lnTo>
                      <a:pt x="233" y="4"/>
                    </a:lnTo>
                    <a:lnTo>
                      <a:pt x="231" y="5"/>
                    </a:lnTo>
                    <a:lnTo>
                      <a:pt x="231" y="6"/>
                    </a:lnTo>
                    <a:lnTo>
                      <a:pt x="222" y="6"/>
                    </a:lnTo>
                    <a:lnTo>
                      <a:pt x="222" y="5"/>
                    </a:lnTo>
                    <a:lnTo>
                      <a:pt x="221" y="4"/>
                    </a:lnTo>
                    <a:lnTo>
                      <a:pt x="219" y="3"/>
                    </a:lnTo>
                    <a:lnTo>
                      <a:pt x="218" y="3"/>
                    </a:lnTo>
                    <a:lnTo>
                      <a:pt x="216" y="3"/>
                    </a:lnTo>
                    <a:lnTo>
                      <a:pt x="214" y="4"/>
                    </a:lnTo>
                    <a:lnTo>
                      <a:pt x="213" y="5"/>
                    </a:lnTo>
                    <a:lnTo>
                      <a:pt x="213" y="6"/>
                    </a:lnTo>
                    <a:lnTo>
                      <a:pt x="207" y="6"/>
                    </a:lnTo>
                    <a:lnTo>
                      <a:pt x="207" y="5"/>
                    </a:lnTo>
                    <a:lnTo>
                      <a:pt x="206" y="4"/>
                    </a:lnTo>
                    <a:lnTo>
                      <a:pt x="204" y="3"/>
                    </a:lnTo>
                    <a:lnTo>
                      <a:pt x="202" y="3"/>
                    </a:lnTo>
                    <a:lnTo>
                      <a:pt x="201" y="3"/>
                    </a:lnTo>
                    <a:lnTo>
                      <a:pt x="199" y="4"/>
                    </a:lnTo>
                    <a:lnTo>
                      <a:pt x="198" y="5"/>
                    </a:lnTo>
                    <a:lnTo>
                      <a:pt x="198" y="6"/>
                    </a:lnTo>
                    <a:lnTo>
                      <a:pt x="193" y="6"/>
                    </a:lnTo>
                    <a:lnTo>
                      <a:pt x="193" y="5"/>
                    </a:lnTo>
                    <a:lnTo>
                      <a:pt x="192" y="4"/>
                    </a:lnTo>
                    <a:lnTo>
                      <a:pt x="191" y="3"/>
                    </a:lnTo>
                    <a:lnTo>
                      <a:pt x="189" y="3"/>
                    </a:lnTo>
                    <a:lnTo>
                      <a:pt x="187" y="3"/>
                    </a:lnTo>
                    <a:lnTo>
                      <a:pt x="186" y="4"/>
                    </a:lnTo>
                    <a:lnTo>
                      <a:pt x="185" y="5"/>
                    </a:lnTo>
                    <a:lnTo>
                      <a:pt x="184" y="6"/>
                    </a:lnTo>
                    <a:lnTo>
                      <a:pt x="182" y="6"/>
                    </a:lnTo>
                    <a:lnTo>
                      <a:pt x="181" y="5"/>
                    </a:lnTo>
                    <a:lnTo>
                      <a:pt x="180" y="4"/>
                    </a:lnTo>
                    <a:lnTo>
                      <a:pt x="179" y="3"/>
                    </a:lnTo>
                    <a:lnTo>
                      <a:pt x="177" y="3"/>
                    </a:lnTo>
                    <a:lnTo>
                      <a:pt x="175" y="3"/>
                    </a:lnTo>
                    <a:lnTo>
                      <a:pt x="174" y="4"/>
                    </a:lnTo>
                    <a:lnTo>
                      <a:pt x="173" y="5"/>
                    </a:lnTo>
                    <a:lnTo>
                      <a:pt x="173" y="6"/>
                    </a:lnTo>
                    <a:lnTo>
                      <a:pt x="162" y="6"/>
                    </a:lnTo>
                    <a:lnTo>
                      <a:pt x="162" y="5"/>
                    </a:lnTo>
                    <a:lnTo>
                      <a:pt x="161" y="4"/>
                    </a:lnTo>
                    <a:lnTo>
                      <a:pt x="159" y="3"/>
                    </a:lnTo>
                    <a:lnTo>
                      <a:pt x="158" y="3"/>
                    </a:lnTo>
                    <a:lnTo>
                      <a:pt x="156" y="3"/>
                    </a:lnTo>
                    <a:lnTo>
                      <a:pt x="155" y="4"/>
                    </a:lnTo>
                    <a:lnTo>
                      <a:pt x="153" y="5"/>
                    </a:lnTo>
                    <a:lnTo>
                      <a:pt x="153" y="6"/>
                    </a:lnTo>
                    <a:lnTo>
                      <a:pt x="142" y="6"/>
                    </a:lnTo>
                    <a:lnTo>
                      <a:pt x="142" y="5"/>
                    </a:lnTo>
                    <a:lnTo>
                      <a:pt x="141" y="4"/>
                    </a:lnTo>
                    <a:lnTo>
                      <a:pt x="140" y="3"/>
                    </a:lnTo>
                    <a:lnTo>
                      <a:pt x="138" y="3"/>
                    </a:lnTo>
                    <a:lnTo>
                      <a:pt x="136" y="3"/>
                    </a:lnTo>
                    <a:lnTo>
                      <a:pt x="135" y="4"/>
                    </a:lnTo>
                    <a:lnTo>
                      <a:pt x="134" y="5"/>
                    </a:lnTo>
                    <a:lnTo>
                      <a:pt x="133" y="6"/>
                    </a:lnTo>
                    <a:lnTo>
                      <a:pt x="121" y="6"/>
                    </a:lnTo>
                    <a:lnTo>
                      <a:pt x="120" y="5"/>
                    </a:lnTo>
                    <a:lnTo>
                      <a:pt x="119" y="4"/>
                    </a:lnTo>
                    <a:lnTo>
                      <a:pt x="118" y="3"/>
                    </a:lnTo>
                    <a:lnTo>
                      <a:pt x="116" y="3"/>
                    </a:lnTo>
                    <a:lnTo>
                      <a:pt x="115" y="3"/>
                    </a:lnTo>
                    <a:lnTo>
                      <a:pt x="113" y="4"/>
                    </a:lnTo>
                    <a:lnTo>
                      <a:pt x="112" y="5"/>
                    </a:lnTo>
                    <a:lnTo>
                      <a:pt x="112" y="6"/>
                    </a:lnTo>
                    <a:lnTo>
                      <a:pt x="97" y="6"/>
                    </a:lnTo>
                    <a:lnTo>
                      <a:pt x="97" y="5"/>
                    </a:lnTo>
                    <a:lnTo>
                      <a:pt x="96" y="4"/>
                    </a:lnTo>
                    <a:lnTo>
                      <a:pt x="94" y="3"/>
                    </a:lnTo>
                    <a:lnTo>
                      <a:pt x="93" y="3"/>
                    </a:lnTo>
                    <a:lnTo>
                      <a:pt x="91" y="3"/>
                    </a:lnTo>
                    <a:lnTo>
                      <a:pt x="89" y="4"/>
                    </a:lnTo>
                    <a:lnTo>
                      <a:pt x="89" y="5"/>
                    </a:lnTo>
                    <a:lnTo>
                      <a:pt x="88" y="6"/>
                    </a:lnTo>
                    <a:lnTo>
                      <a:pt x="61" y="6"/>
                    </a:lnTo>
                    <a:lnTo>
                      <a:pt x="61" y="5"/>
                    </a:lnTo>
                    <a:lnTo>
                      <a:pt x="60" y="3"/>
                    </a:lnTo>
                    <a:lnTo>
                      <a:pt x="58" y="2"/>
                    </a:lnTo>
                    <a:lnTo>
                      <a:pt x="57" y="1"/>
                    </a:lnTo>
                    <a:lnTo>
                      <a:pt x="54" y="1"/>
                    </a:lnTo>
                    <a:lnTo>
                      <a:pt x="52" y="1"/>
                    </a:lnTo>
                    <a:lnTo>
                      <a:pt x="50" y="2"/>
                    </a:lnTo>
                    <a:lnTo>
                      <a:pt x="49" y="3"/>
                    </a:lnTo>
                    <a:lnTo>
                      <a:pt x="48" y="5"/>
                    </a:lnTo>
                    <a:lnTo>
                      <a:pt x="48" y="6"/>
                    </a:lnTo>
                    <a:lnTo>
                      <a:pt x="40" y="6"/>
                    </a:lnTo>
                    <a:lnTo>
                      <a:pt x="39" y="5"/>
                    </a:lnTo>
                    <a:lnTo>
                      <a:pt x="39" y="3"/>
                    </a:lnTo>
                    <a:lnTo>
                      <a:pt x="37" y="2"/>
                    </a:lnTo>
                    <a:lnTo>
                      <a:pt x="35" y="1"/>
                    </a:lnTo>
                    <a:lnTo>
                      <a:pt x="33" y="0"/>
                    </a:lnTo>
                    <a:lnTo>
                      <a:pt x="31" y="0"/>
                    </a:lnTo>
                    <a:lnTo>
                      <a:pt x="29" y="1"/>
                    </a:lnTo>
                    <a:lnTo>
                      <a:pt x="27" y="2"/>
                    </a:lnTo>
                    <a:lnTo>
                      <a:pt x="25" y="3"/>
                    </a:lnTo>
                    <a:lnTo>
                      <a:pt x="24" y="5"/>
                    </a:lnTo>
                    <a:lnTo>
                      <a:pt x="24" y="6"/>
                    </a:lnTo>
                    <a:lnTo>
                      <a:pt x="0"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7763760" y="4003920"/>
                <a:ext cx="12600" cy="1440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61" name=""/>
              <p:cNvSpPr/>
              <p:nvPr/>
            </p:nvSpPr>
            <p:spPr>
              <a:xfrm>
                <a:off x="6557040" y="2252520"/>
                <a:ext cx="1471680" cy="1839240"/>
              </a:xfrm>
              <a:custGeom>
                <a:avLst/>
                <a:gdLst/>
                <a:ahLst/>
                <a:rect l="l" t="t" r="r" b="b"/>
                <a:pathLst>
                  <a:path w="1390" h="1377">
                    <a:moveTo>
                      <a:pt x="1368" y="1377"/>
                    </a:moveTo>
                    <a:lnTo>
                      <a:pt x="1390" y="1377"/>
                    </a:lnTo>
                    <a:lnTo>
                      <a:pt x="1390" y="39"/>
                    </a:lnTo>
                    <a:lnTo>
                      <a:pt x="1306" y="39"/>
                    </a:lnTo>
                    <a:lnTo>
                      <a:pt x="1306" y="38"/>
                    </a:lnTo>
                    <a:lnTo>
                      <a:pt x="1305" y="36"/>
                    </a:lnTo>
                    <a:lnTo>
                      <a:pt x="1304" y="36"/>
                    </a:lnTo>
                    <a:lnTo>
                      <a:pt x="1302" y="35"/>
                    </a:lnTo>
                    <a:lnTo>
                      <a:pt x="1300" y="36"/>
                    </a:lnTo>
                    <a:lnTo>
                      <a:pt x="1299" y="36"/>
                    </a:lnTo>
                    <a:lnTo>
                      <a:pt x="1298" y="38"/>
                    </a:lnTo>
                    <a:lnTo>
                      <a:pt x="1297" y="39"/>
                    </a:lnTo>
                    <a:lnTo>
                      <a:pt x="1232" y="39"/>
                    </a:lnTo>
                    <a:lnTo>
                      <a:pt x="1232" y="38"/>
                    </a:lnTo>
                    <a:lnTo>
                      <a:pt x="1231" y="36"/>
                    </a:lnTo>
                    <a:lnTo>
                      <a:pt x="1229" y="36"/>
                    </a:lnTo>
                    <a:lnTo>
                      <a:pt x="1228" y="35"/>
                    </a:lnTo>
                    <a:lnTo>
                      <a:pt x="1226" y="36"/>
                    </a:lnTo>
                    <a:lnTo>
                      <a:pt x="1224" y="36"/>
                    </a:lnTo>
                    <a:lnTo>
                      <a:pt x="1224" y="38"/>
                    </a:lnTo>
                    <a:lnTo>
                      <a:pt x="1223" y="39"/>
                    </a:lnTo>
                    <a:lnTo>
                      <a:pt x="1087" y="39"/>
                    </a:lnTo>
                    <a:lnTo>
                      <a:pt x="1087" y="38"/>
                    </a:lnTo>
                    <a:lnTo>
                      <a:pt x="1086" y="36"/>
                    </a:lnTo>
                    <a:lnTo>
                      <a:pt x="1084" y="36"/>
                    </a:lnTo>
                    <a:lnTo>
                      <a:pt x="1083" y="35"/>
                    </a:lnTo>
                    <a:lnTo>
                      <a:pt x="1081" y="36"/>
                    </a:lnTo>
                    <a:lnTo>
                      <a:pt x="1079" y="36"/>
                    </a:lnTo>
                    <a:lnTo>
                      <a:pt x="1079" y="38"/>
                    </a:lnTo>
                    <a:lnTo>
                      <a:pt x="1078" y="39"/>
                    </a:lnTo>
                    <a:lnTo>
                      <a:pt x="1050" y="39"/>
                    </a:lnTo>
                    <a:lnTo>
                      <a:pt x="1049" y="38"/>
                    </a:lnTo>
                    <a:lnTo>
                      <a:pt x="1048" y="36"/>
                    </a:lnTo>
                    <a:lnTo>
                      <a:pt x="1047" y="36"/>
                    </a:lnTo>
                    <a:lnTo>
                      <a:pt x="1045" y="35"/>
                    </a:lnTo>
                    <a:lnTo>
                      <a:pt x="1044" y="36"/>
                    </a:lnTo>
                    <a:lnTo>
                      <a:pt x="1042" y="36"/>
                    </a:lnTo>
                    <a:lnTo>
                      <a:pt x="1041" y="38"/>
                    </a:lnTo>
                    <a:lnTo>
                      <a:pt x="1041" y="39"/>
                    </a:lnTo>
                    <a:lnTo>
                      <a:pt x="930" y="39"/>
                    </a:lnTo>
                    <a:lnTo>
                      <a:pt x="930" y="38"/>
                    </a:lnTo>
                    <a:lnTo>
                      <a:pt x="929" y="36"/>
                    </a:lnTo>
                    <a:lnTo>
                      <a:pt x="927" y="36"/>
                    </a:lnTo>
                    <a:lnTo>
                      <a:pt x="925" y="35"/>
                    </a:lnTo>
                    <a:lnTo>
                      <a:pt x="924" y="36"/>
                    </a:lnTo>
                    <a:lnTo>
                      <a:pt x="922" y="36"/>
                    </a:lnTo>
                    <a:lnTo>
                      <a:pt x="921" y="38"/>
                    </a:lnTo>
                    <a:lnTo>
                      <a:pt x="921" y="39"/>
                    </a:lnTo>
                    <a:lnTo>
                      <a:pt x="807" y="39"/>
                    </a:lnTo>
                    <a:lnTo>
                      <a:pt x="806" y="38"/>
                    </a:lnTo>
                    <a:lnTo>
                      <a:pt x="805" y="36"/>
                    </a:lnTo>
                    <a:lnTo>
                      <a:pt x="804" y="36"/>
                    </a:lnTo>
                    <a:lnTo>
                      <a:pt x="802" y="35"/>
                    </a:lnTo>
                    <a:lnTo>
                      <a:pt x="800" y="36"/>
                    </a:lnTo>
                    <a:lnTo>
                      <a:pt x="799" y="36"/>
                    </a:lnTo>
                    <a:lnTo>
                      <a:pt x="798" y="38"/>
                    </a:lnTo>
                    <a:lnTo>
                      <a:pt x="798" y="39"/>
                    </a:lnTo>
                    <a:lnTo>
                      <a:pt x="746" y="39"/>
                    </a:lnTo>
                    <a:lnTo>
                      <a:pt x="746" y="38"/>
                    </a:lnTo>
                    <a:lnTo>
                      <a:pt x="744" y="36"/>
                    </a:lnTo>
                    <a:lnTo>
                      <a:pt x="743" y="36"/>
                    </a:lnTo>
                    <a:lnTo>
                      <a:pt x="741" y="35"/>
                    </a:lnTo>
                    <a:lnTo>
                      <a:pt x="740" y="36"/>
                    </a:lnTo>
                    <a:lnTo>
                      <a:pt x="738" y="36"/>
                    </a:lnTo>
                    <a:lnTo>
                      <a:pt x="737" y="38"/>
                    </a:lnTo>
                    <a:lnTo>
                      <a:pt x="737" y="39"/>
                    </a:lnTo>
                    <a:lnTo>
                      <a:pt x="672" y="39"/>
                    </a:lnTo>
                    <a:lnTo>
                      <a:pt x="671" y="38"/>
                    </a:lnTo>
                    <a:lnTo>
                      <a:pt x="670" y="36"/>
                    </a:lnTo>
                    <a:lnTo>
                      <a:pt x="669" y="36"/>
                    </a:lnTo>
                    <a:lnTo>
                      <a:pt x="667" y="35"/>
                    </a:lnTo>
                    <a:lnTo>
                      <a:pt x="665" y="36"/>
                    </a:lnTo>
                    <a:lnTo>
                      <a:pt x="664" y="36"/>
                    </a:lnTo>
                    <a:lnTo>
                      <a:pt x="663" y="38"/>
                    </a:lnTo>
                    <a:lnTo>
                      <a:pt x="662" y="39"/>
                    </a:lnTo>
                    <a:lnTo>
                      <a:pt x="644" y="39"/>
                    </a:lnTo>
                    <a:lnTo>
                      <a:pt x="644" y="38"/>
                    </a:lnTo>
                    <a:lnTo>
                      <a:pt x="643" y="36"/>
                    </a:lnTo>
                    <a:lnTo>
                      <a:pt x="642" y="36"/>
                    </a:lnTo>
                    <a:lnTo>
                      <a:pt x="640" y="35"/>
                    </a:lnTo>
                    <a:lnTo>
                      <a:pt x="638" y="36"/>
                    </a:lnTo>
                    <a:lnTo>
                      <a:pt x="637" y="36"/>
                    </a:lnTo>
                    <a:lnTo>
                      <a:pt x="636" y="38"/>
                    </a:lnTo>
                    <a:lnTo>
                      <a:pt x="635" y="39"/>
                    </a:lnTo>
                    <a:lnTo>
                      <a:pt x="624" y="39"/>
                    </a:lnTo>
                    <a:lnTo>
                      <a:pt x="623" y="38"/>
                    </a:lnTo>
                    <a:lnTo>
                      <a:pt x="623" y="36"/>
                    </a:lnTo>
                    <a:lnTo>
                      <a:pt x="621" y="36"/>
                    </a:lnTo>
                    <a:lnTo>
                      <a:pt x="619" y="35"/>
                    </a:lnTo>
                    <a:lnTo>
                      <a:pt x="618" y="36"/>
                    </a:lnTo>
                    <a:lnTo>
                      <a:pt x="616" y="36"/>
                    </a:lnTo>
                    <a:lnTo>
                      <a:pt x="615" y="38"/>
                    </a:lnTo>
                    <a:lnTo>
                      <a:pt x="615" y="39"/>
                    </a:lnTo>
                    <a:lnTo>
                      <a:pt x="602" y="39"/>
                    </a:lnTo>
                    <a:lnTo>
                      <a:pt x="601" y="38"/>
                    </a:lnTo>
                    <a:lnTo>
                      <a:pt x="601" y="36"/>
                    </a:lnTo>
                    <a:lnTo>
                      <a:pt x="599" y="36"/>
                    </a:lnTo>
                    <a:lnTo>
                      <a:pt x="597" y="35"/>
                    </a:lnTo>
                    <a:lnTo>
                      <a:pt x="596" y="36"/>
                    </a:lnTo>
                    <a:lnTo>
                      <a:pt x="594" y="36"/>
                    </a:lnTo>
                    <a:lnTo>
                      <a:pt x="593" y="38"/>
                    </a:lnTo>
                    <a:lnTo>
                      <a:pt x="593" y="39"/>
                    </a:lnTo>
                    <a:lnTo>
                      <a:pt x="576" y="39"/>
                    </a:lnTo>
                    <a:lnTo>
                      <a:pt x="576" y="38"/>
                    </a:lnTo>
                    <a:lnTo>
                      <a:pt x="575" y="36"/>
                    </a:lnTo>
                    <a:lnTo>
                      <a:pt x="573" y="36"/>
                    </a:lnTo>
                    <a:lnTo>
                      <a:pt x="572" y="35"/>
                    </a:lnTo>
                    <a:lnTo>
                      <a:pt x="570" y="36"/>
                    </a:lnTo>
                    <a:lnTo>
                      <a:pt x="568" y="36"/>
                    </a:lnTo>
                    <a:lnTo>
                      <a:pt x="567" y="38"/>
                    </a:lnTo>
                    <a:lnTo>
                      <a:pt x="567" y="39"/>
                    </a:lnTo>
                    <a:lnTo>
                      <a:pt x="548" y="39"/>
                    </a:lnTo>
                    <a:lnTo>
                      <a:pt x="548" y="38"/>
                    </a:lnTo>
                    <a:lnTo>
                      <a:pt x="547" y="36"/>
                    </a:lnTo>
                    <a:lnTo>
                      <a:pt x="546" y="36"/>
                    </a:lnTo>
                    <a:lnTo>
                      <a:pt x="544" y="35"/>
                    </a:lnTo>
                    <a:lnTo>
                      <a:pt x="542" y="36"/>
                    </a:lnTo>
                    <a:lnTo>
                      <a:pt x="541" y="36"/>
                    </a:lnTo>
                    <a:lnTo>
                      <a:pt x="540" y="38"/>
                    </a:lnTo>
                    <a:lnTo>
                      <a:pt x="539" y="39"/>
                    </a:lnTo>
                    <a:lnTo>
                      <a:pt x="524" y="39"/>
                    </a:lnTo>
                    <a:lnTo>
                      <a:pt x="524" y="38"/>
                    </a:lnTo>
                    <a:lnTo>
                      <a:pt x="523" y="36"/>
                    </a:lnTo>
                    <a:lnTo>
                      <a:pt x="521" y="36"/>
                    </a:lnTo>
                    <a:lnTo>
                      <a:pt x="520" y="35"/>
                    </a:lnTo>
                    <a:lnTo>
                      <a:pt x="518" y="36"/>
                    </a:lnTo>
                    <a:lnTo>
                      <a:pt x="516" y="36"/>
                    </a:lnTo>
                    <a:lnTo>
                      <a:pt x="516" y="38"/>
                    </a:lnTo>
                    <a:lnTo>
                      <a:pt x="515" y="39"/>
                    </a:lnTo>
                    <a:lnTo>
                      <a:pt x="235" y="39"/>
                    </a:lnTo>
                    <a:lnTo>
                      <a:pt x="234" y="38"/>
                    </a:lnTo>
                    <a:lnTo>
                      <a:pt x="233" y="36"/>
                    </a:lnTo>
                    <a:lnTo>
                      <a:pt x="232" y="36"/>
                    </a:lnTo>
                    <a:lnTo>
                      <a:pt x="230" y="35"/>
                    </a:lnTo>
                    <a:lnTo>
                      <a:pt x="229" y="36"/>
                    </a:lnTo>
                    <a:lnTo>
                      <a:pt x="227" y="36"/>
                    </a:lnTo>
                    <a:lnTo>
                      <a:pt x="226" y="38"/>
                    </a:lnTo>
                    <a:lnTo>
                      <a:pt x="226" y="39"/>
                    </a:lnTo>
                    <a:lnTo>
                      <a:pt x="212" y="39"/>
                    </a:lnTo>
                    <a:lnTo>
                      <a:pt x="212" y="38"/>
                    </a:lnTo>
                    <a:lnTo>
                      <a:pt x="211" y="36"/>
                    </a:lnTo>
                    <a:lnTo>
                      <a:pt x="209" y="36"/>
                    </a:lnTo>
                    <a:lnTo>
                      <a:pt x="208" y="35"/>
                    </a:lnTo>
                    <a:lnTo>
                      <a:pt x="206" y="36"/>
                    </a:lnTo>
                    <a:lnTo>
                      <a:pt x="205" y="36"/>
                    </a:lnTo>
                    <a:lnTo>
                      <a:pt x="204" y="38"/>
                    </a:lnTo>
                    <a:lnTo>
                      <a:pt x="203" y="39"/>
                    </a:lnTo>
                    <a:lnTo>
                      <a:pt x="182" y="39"/>
                    </a:lnTo>
                    <a:lnTo>
                      <a:pt x="182" y="38"/>
                    </a:lnTo>
                    <a:lnTo>
                      <a:pt x="180" y="36"/>
                    </a:lnTo>
                    <a:lnTo>
                      <a:pt x="179" y="36"/>
                    </a:lnTo>
                    <a:lnTo>
                      <a:pt x="177" y="35"/>
                    </a:lnTo>
                    <a:lnTo>
                      <a:pt x="176" y="36"/>
                    </a:lnTo>
                    <a:lnTo>
                      <a:pt x="174" y="36"/>
                    </a:lnTo>
                    <a:lnTo>
                      <a:pt x="173" y="38"/>
                    </a:lnTo>
                    <a:lnTo>
                      <a:pt x="173" y="39"/>
                    </a:lnTo>
                    <a:lnTo>
                      <a:pt x="117" y="39"/>
                    </a:lnTo>
                    <a:lnTo>
                      <a:pt x="117" y="38"/>
                    </a:lnTo>
                    <a:lnTo>
                      <a:pt x="116" y="36"/>
                    </a:lnTo>
                    <a:lnTo>
                      <a:pt x="115" y="36"/>
                    </a:lnTo>
                    <a:lnTo>
                      <a:pt x="113" y="35"/>
                    </a:lnTo>
                    <a:lnTo>
                      <a:pt x="111" y="36"/>
                    </a:lnTo>
                    <a:lnTo>
                      <a:pt x="110" y="36"/>
                    </a:lnTo>
                    <a:lnTo>
                      <a:pt x="109" y="38"/>
                    </a:lnTo>
                    <a:lnTo>
                      <a:pt x="108" y="39"/>
                    </a:lnTo>
                    <a:lnTo>
                      <a:pt x="96" y="39"/>
                    </a:lnTo>
                    <a:lnTo>
                      <a:pt x="95" y="38"/>
                    </a:lnTo>
                    <a:lnTo>
                      <a:pt x="94" y="36"/>
                    </a:lnTo>
                    <a:lnTo>
                      <a:pt x="93" y="36"/>
                    </a:lnTo>
                    <a:lnTo>
                      <a:pt x="91" y="35"/>
                    </a:lnTo>
                    <a:lnTo>
                      <a:pt x="90" y="36"/>
                    </a:lnTo>
                    <a:lnTo>
                      <a:pt x="88" y="36"/>
                    </a:lnTo>
                    <a:lnTo>
                      <a:pt x="87" y="38"/>
                    </a:lnTo>
                    <a:lnTo>
                      <a:pt x="87" y="39"/>
                    </a:lnTo>
                    <a:lnTo>
                      <a:pt x="75" y="39"/>
                    </a:lnTo>
                    <a:lnTo>
                      <a:pt x="75" y="38"/>
                    </a:lnTo>
                    <a:lnTo>
                      <a:pt x="74" y="36"/>
                    </a:lnTo>
                    <a:lnTo>
                      <a:pt x="73" y="36"/>
                    </a:lnTo>
                    <a:lnTo>
                      <a:pt x="71" y="35"/>
                    </a:lnTo>
                    <a:lnTo>
                      <a:pt x="69" y="36"/>
                    </a:lnTo>
                    <a:lnTo>
                      <a:pt x="68" y="36"/>
                    </a:lnTo>
                    <a:lnTo>
                      <a:pt x="67" y="38"/>
                    </a:lnTo>
                    <a:lnTo>
                      <a:pt x="66" y="39"/>
                    </a:lnTo>
                    <a:lnTo>
                      <a:pt x="51" y="39"/>
                    </a:lnTo>
                    <a:lnTo>
                      <a:pt x="51" y="38"/>
                    </a:lnTo>
                    <a:lnTo>
                      <a:pt x="50" y="36"/>
                    </a:lnTo>
                    <a:lnTo>
                      <a:pt x="48" y="36"/>
                    </a:lnTo>
                    <a:lnTo>
                      <a:pt x="47" y="35"/>
                    </a:lnTo>
                    <a:lnTo>
                      <a:pt x="45" y="36"/>
                    </a:lnTo>
                    <a:lnTo>
                      <a:pt x="43" y="36"/>
                    </a:lnTo>
                    <a:lnTo>
                      <a:pt x="43" y="38"/>
                    </a:lnTo>
                    <a:lnTo>
                      <a:pt x="42" y="39"/>
                    </a:lnTo>
                    <a:lnTo>
                      <a:pt x="0" y="39"/>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7992720" y="408528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63" name=""/>
              <p:cNvSpPr/>
              <p:nvPr/>
            </p:nvSpPr>
            <p:spPr>
              <a:xfrm>
                <a:off x="3780360" y="4459320"/>
                <a:ext cx="36720" cy="45360"/>
              </a:xfrm>
              <a:custGeom>
                <a:avLst/>
                <a:gdLst/>
                <a:ahLst/>
                <a:rect l="l" t="t" r="r" b="b"/>
                <a:pathLst>
                  <a:path w="35" h="34">
                    <a:moveTo>
                      <a:pt x="35" y="0"/>
                    </a:moveTo>
                    <a:lnTo>
                      <a:pt x="35" y="6"/>
                    </a:lnTo>
                    <a:lnTo>
                      <a:pt x="0" y="6"/>
                    </a:lnTo>
                    <a:lnTo>
                      <a:pt x="0" y="34"/>
                    </a:lnTo>
                  </a:path>
                </a:pathLst>
              </a:custGeom>
              <a:noFill/>
              <a:ln w="14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364" name=""/>
              <p:cNvSpPr/>
              <p:nvPr/>
            </p:nvSpPr>
            <p:spPr>
              <a:xfrm>
                <a:off x="3810960" y="44474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65" name=""/>
              <p:cNvSpPr/>
              <p:nvPr/>
            </p:nvSpPr>
            <p:spPr>
              <a:xfrm>
                <a:off x="3773880" y="4502160"/>
                <a:ext cx="12600" cy="1440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66" name=""/>
              <p:cNvSpPr/>
              <p:nvPr/>
            </p:nvSpPr>
            <p:spPr>
              <a:xfrm>
                <a:off x="3971880" y="4017240"/>
                <a:ext cx="118440" cy="53280"/>
              </a:xfrm>
              <a:custGeom>
                <a:avLst/>
                <a:gdLst/>
                <a:ahLst/>
                <a:rect l="l" t="t" r="r" b="b"/>
                <a:pathLst>
                  <a:path w="112" h="40">
                    <a:moveTo>
                      <a:pt x="0" y="40"/>
                    </a:moveTo>
                    <a:lnTo>
                      <a:pt x="20" y="40"/>
                    </a:lnTo>
                    <a:lnTo>
                      <a:pt x="20" y="3"/>
                    </a:lnTo>
                    <a:lnTo>
                      <a:pt x="36" y="3"/>
                    </a:lnTo>
                    <a:lnTo>
                      <a:pt x="37" y="2"/>
                    </a:lnTo>
                    <a:lnTo>
                      <a:pt x="37" y="1"/>
                    </a:lnTo>
                    <a:lnTo>
                      <a:pt x="39" y="0"/>
                    </a:lnTo>
                    <a:lnTo>
                      <a:pt x="41" y="0"/>
                    </a:lnTo>
                    <a:lnTo>
                      <a:pt x="42" y="0"/>
                    </a:lnTo>
                    <a:lnTo>
                      <a:pt x="44" y="1"/>
                    </a:lnTo>
                    <a:lnTo>
                      <a:pt x="45" y="2"/>
                    </a:lnTo>
                    <a:lnTo>
                      <a:pt x="45" y="3"/>
                    </a:lnTo>
                    <a:lnTo>
                      <a:pt x="112" y="3"/>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367" name=""/>
              <p:cNvSpPr/>
              <p:nvPr/>
            </p:nvSpPr>
            <p:spPr>
              <a:xfrm>
                <a:off x="4088160" y="4015800"/>
                <a:ext cx="14760" cy="1152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68" name=""/>
              <p:cNvSpPr/>
              <p:nvPr/>
            </p:nvSpPr>
            <p:spPr>
              <a:xfrm>
                <a:off x="5793840" y="3327840"/>
                <a:ext cx="1881000" cy="357480"/>
              </a:xfrm>
              <a:custGeom>
                <a:avLst/>
                <a:gdLst/>
                <a:ahLst/>
                <a:rect l="l" t="t" r="r" b="b"/>
                <a:pathLst>
                  <a:path w="1777" h="268">
                    <a:moveTo>
                      <a:pt x="1777" y="268"/>
                    </a:moveTo>
                    <a:lnTo>
                      <a:pt x="1777" y="30"/>
                    </a:lnTo>
                    <a:lnTo>
                      <a:pt x="1754" y="30"/>
                    </a:lnTo>
                    <a:lnTo>
                      <a:pt x="1754" y="29"/>
                    </a:lnTo>
                    <a:lnTo>
                      <a:pt x="1753" y="28"/>
                    </a:lnTo>
                    <a:lnTo>
                      <a:pt x="1751" y="27"/>
                    </a:lnTo>
                    <a:lnTo>
                      <a:pt x="1749" y="27"/>
                    </a:lnTo>
                    <a:lnTo>
                      <a:pt x="1748" y="27"/>
                    </a:lnTo>
                    <a:lnTo>
                      <a:pt x="1746" y="28"/>
                    </a:lnTo>
                    <a:lnTo>
                      <a:pt x="1745" y="29"/>
                    </a:lnTo>
                    <a:lnTo>
                      <a:pt x="1745" y="30"/>
                    </a:lnTo>
                    <a:lnTo>
                      <a:pt x="1717" y="30"/>
                    </a:lnTo>
                    <a:lnTo>
                      <a:pt x="1716" y="29"/>
                    </a:lnTo>
                    <a:lnTo>
                      <a:pt x="1715" y="28"/>
                    </a:lnTo>
                    <a:lnTo>
                      <a:pt x="1714" y="27"/>
                    </a:lnTo>
                    <a:lnTo>
                      <a:pt x="1712" y="27"/>
                    </a:lnTo>
                    <a:lnTo>
                      <a:pt x="1711" y="27"/>
                    </a:lnTo>
                    <a:lnTo>
                      <a:pt x="1709" y="28"/>
                    </a:lnTo>
                    <a:lnTo>
                      <a:pt x="1708" y="29"/>
                    </a:lnTo>
                    <a:lnTo>
                      <a:pt x="1708" y="30"/>
                    </a:lnTo>
                    <a:lnTo>
                      <a:pt x="1690" y="30"/>
                    </a:lnTo>
                    <a:lnTo>
                      <a:pt x="1690" y="29"/>
                    </a:lnTo>
                    <a:lnTo>
                      <a:pt x="1688" y="28"/>
                    </a:lnTo>
                    <a:lnTo>
                      <a:pt x="1687" y="27"/>
                    </a:lnTo>
                    <a:lnTo>
                      <a:pt x="1685" y="27"/>
                    </a:lnTo>
                    <a:lnTo>
                      <a:pt x="1684" y="27"/>
                    </a:lnTo>
                    <a:lnTo>
                      <a:pt x="1682" y="28"/>
                    </a:lnTo>
                    <a:lnTo>
                      <a:pt x="1681" y="29"/>
                    </a:lnTo>
                    <a:lnTo>
                      <a:pt x="1681" y="30"/>
                    </a:lnTo>
                    <a:lnTo>
                      <a:pt x="1676" y="30"/>
                    </a:lnTo>
                    <a:lnTo>
                      <a:pt x="1676" y="29"/>
                    </a:lnTo>
                    <a:lnTo>
                      <a:pt x="1675" y="28"/>
                    </a:lnTo>
                    <a:lnTo>
                      <a:pt x="1673" y="27"/>
                    </a:lnTo>
                    <a:lnTo>
                      <a:pt x="1672" y="27"/>
                    </a:lnTo>
                    <a:lnTo>
                      <a:pt x="1670" y="27"/>
                    </a:lnTo>
                    <a:lnTo>
                      <a:pt x="1669" y="28"/>
                    </a:lnTo>
                    <a:lnTo>
                      <a:pt x="1668" y="29"/>
                    </a:lnTo>
                    <a:lnTo>
                      <a:pt x="1667" y="30"/>
                    </a:lnTo>
                    <a:lnTo>
                      <a:pt x="1663" y="30"/>
                    </a:lnTo>
                    <a:lnTo>
                      <a:pt x="1662" y="29"/>
                    </a:lnTo>
                    <a:lnTo>
                      <a:pt x="1661" y="28"/>
                    </a:lnTo>
                    <a:lnTo>
                      <a:pt x="1660" y="27"/>
                    </a:lnTo>
                    <a:lnTo>
                      <a:pt x="1658" y="27"/>
                    </a:lnTo>
                    <a:lnTo>
                      <a:pt x="1657" y="27"/>
                    </a:lnTo>
                    <a:lnTo>
                      <a:pt x="1655" y="28"/>
                    </a:lnTo>
                    <a:lnTo>
                      <a:pt x="1654" y="29"/>
                    </a:lnTo>
                    <a:lnTo>
                      <a:pt x="1654" y="30"/>
                    </a:lnTo>
                    <a:lnTo>
                      <a:pt x="1599" y="30"/>
                    </a:lnTo>
                    <a:lnTo>
                      <a:pt x="1598" y="29"/>
                    </a:lnTo>
                    <a:lnTo>
                      <a:pt x="1597" y="28"/>
                    </a:lnTo>
                    <a:lnTo>
                      <a:pt x="1596" y="27"/>
                    </a:lnTo>
                    <a:lnTo>
                      <a:pt x="1594" y="27"/>
                    </a:lnTo>
                    <a:lnTo>
                      <a:pt x="1592" y="27"/>
                    </a:lnTo>
                    <a:lnTo>
                      <a:pt x="1591" y="28"/>
                    </a:lnTo>
                    <a:lnTo>
                      <a:pt x="1590" y="29"/>
                    </a:lnTo>
                    <a:lnTo>
                      <a:pt x="1590" y="30"/>
                    </a:lnTo>
                    <a:lnTo>
                      <a:pt x="1583" y="30"/>
                    </a:lnTo>
                    <a:lnTo>
                      <a:pt x="1582" y="29"/>
                    </a:lnTo>
                    <a:lnTo>
                      <a:pt x="1581" y="28"/>
                    </a:lnTo>
                    <a:lnTo>
                      <a:pt x="1580" y="27"/>
                    </a:lnTo>
                    <a:lnTo>
                      <a:pt x="1578" y="27"/>
                    </a:lnTo>
                    <a:lnTo>
                      <a:pt x="1576" y="27"/>
                    </a:lnTo>
                    <a:lnTo>
                      <a:pt x="1575" y="28"/>
                    </a:lnTo>
                    <a:lnTo>
                      <a:pt x="1574" y="29"/>
                    </a:lnTo>
                    <a:lnTo>
                      <a:pt x="1574" y="30"/>
                    </a:lnTo>
                    <a:lnTo>
                      <a:pt x="1541" y="30"/>
                    </a:lnTo>
                    <a:lnTo>
                      <a:pt x="1541" y="29"/>
                    </a:lnTo>
                    <a:lnTo>
                      <a:pt x="1540" y="28"/>
                    </a:lnTo>
                    <a:lnTo>
                      <a:pt x="1538" y="27"/>
                    </a:lnTo>
                    <a:lnTo>
                      <a:pt x="1537" y="27"/>
                    </a:lnTo>
                    <a:lnTo>
                      <a:pt x="1535" y="27"/>
                    </a:lnTo>
                    <a:lnTo>
                      <a:pt x="1534" y="28"/>
                    </a:lnTo>
                    <a:lnTo>
                      <a:pt x="1532" y="29"/>
                    </a:lnTo>
                    <a:lnTo>
                      <a:pt x="1532" y="30"/>
                    </a:lnTo>
                    <a:lnTo>
                      <a:pt x="1453" y="30"/>
                    </a:lnTo>
                    <a:lnTo>
                      <a:pt x="1453" y="29"/>
                    </a:lnTo>
                    <a:lnTo>
                      <a:pt x="1452" y="28"/>
                    </a:lnTo>
                    <a:lnTo>
                      <a:pt x="1450" y="27"/>
                    </a:lnTo>
                    <a:lnTo>
                      <a:pt x="1449" y="27"/>
                    </a:lnTo>
                    <a:lnTo>
                      <a:pt x="1447" y="27"/>
                    </a:lnTo>
                    <a:lnTo>
                      <a:pt x="1446" y="28"/>
                    </a:lnTo>
                    <a:lnTo>
                      <a:pt x="1445" y="29"/>
                    </a:lnTo>
                    <a:lnTo>
                      <a:pt x="1444" y="30"/>
                    </a:lnTo>
                    <a:lnTo>
                      <a:pt x="1365" y="30"/>
                    </a:lnTo>
                    <a:lnTo>
                      <a:pt x="1365" y="29"/>
                    </a:lnTo>
                    <a:lnTo>
                      <a:pt x="1364" y="28"/>
                    </a:lnTo>
                    <a:lnTo>
                      <a:pt x="1363" y="27"/>
                    </a:lnTo>
                    <a:lnTo>
                      <a:pt x="1361" y="27"/>
                    </a:lnTo>
                    <a:lnTo>
                      <a:pt x="1359" y="27"/>
                    </a:lnTo>
                    <a:lnTo>
                      <a:pt x="1358" y="28"/>
                    </a:lnTo>
                    <a:lnTo>
                      <a:pt x="1357" y="29"/>
                    </a:lnTo>
                    <a:lnTo>
                      <a:pt x="1356" y="30"/>
                    </a:lnTo>
                    <a:lnTo>
                      <a:pt x="1335" y="30"/>
                    </a:lnTo>
                    <a:lnTo>
                      <a:pt x="1335" y="29"/>
                    </a:lnTo>
                    <a:lnTo>
                      <a:pt x="1334" y="28"/>
                    </a:lnTo>
                    <a:lnTo>
                      <a:pt x="1332" y="27"/>
                    </a:lnTo>
                    <a:lnTo>
                      <a:pt x="1331" y="27"/>
                    </a:lnTo>
                    <a:lnTo>
                      <a:pt x="1329" y="27"/>
                    </a:lnTo>
                    <a:lnTo>
                      <a:pt x="1327" y="28"/>
                    </a:lnTo>
                    <a:lnTo>
                      <a:pt x="1327" y="29"/>
                    </a:lnTo>
                    <a:lnTo>
                      <a:pt x="1326" y="30"/>
                    </a:lnTo>
                    <a:lnTo>
                      <a:pt x="1323" y="30"/>
                    </a:lnTo>
                    <a:lnTo>
                      <a:pt x="1322" y="29"/>
                    </a:lnTo>
                    <a:lnTo>
                      <a:pt x="1322" y="27"/>
                    </a:lnTo>
                    <a:lnTo>
                      <a:pt x="1320" y="26"/>
                    </a:lnTo>
                    <a:lnTo>
                      <a:pt x="1318" y="24"/>
                    </a:lnTo>
                    <a:lnTo>
                      <a:pt x="1316" y="24"/>
                    </a:lnTo>
                    <a:lnTo>
                      <a:pt x="1313" y="24"/>
                    </a:lnTo>
                    <a:lnTo>
                      <a:pt x="1311" y="24"/>
                    </a:lnTo>
                    <a:lnTo>
                      <a:pt x="1309" y="26"/>
                    </a:lnTo>
                    <a:lnTo>
                      <a:pt x="1307" y="27"/>
                    </a:lnTo>
                    <a:lnTo>
                      <a:pt x="1306" y="29"/>
                    </a:lnTo>
                    <a:lnTo>
                      <a:pt x="1306" y="30"/>
                    </a:lnTo>
                    <a:lnTo>
                      <a:pt x="1297" y="30"/>
                    </a:lnTo>
                    <a:lnTo>
                      <a:pt x="1296" y="29"/>
                    </a:lnTo>
                    <a:lnTo>
                      <a:pt x="1296" y="28"/>
                    </a:lnTo>
                    <a:lnTo>
                      <a:pt x="1294" y="27"/>
                    </a:lnTo>
                    <a:lnTo>
                      <a:pt x="1292" y="27"/>
                    </a:lnTo>
                    <a:lnTo>
                      <a:pt x="1291" y="27"/>
                    </a:lnTo>
                    <a:lnTo>
                      <a:pt x="1289" y="28"/>
                    </a:lnTo>
                    <a:lnTo>
                      <a:pt x="1288" y="29"/>
                    </a:lnTo>
                    <a:lnTo>
                      <a:pt x="1288" y="30"/>
                    </a:lnTo>
                    <a:lnTo>
                      <a:pt x="1245" y="30"/>
                    </a:lnTo>
                    <a:lnTo>
                      <a:pt x="1245" y="29"/>
                    </a:lnTo>
                    <a:lnTo>
                      <a:pt x="1244" y="28"/>
                    </a:lnTo>
                    <a:lnTo>
                      <a:pt x="1242" y="27"/>
                    </a:lnTo>
                    <a:lnTo>
                      <a:pt x="1241" y="27"/>
                    </a:lnTo>
                    <a:lnTo>
                      <a:pt x="1239" y="27"/>
                    </a:lnTo>
                    <a:lnTo>
                      <a:pt x="1237" y="28"/>
                    </a:lnTo>
                    <a:lnTo>
                      <a:pt x="1237" y="29"/>
                    </a:lnTo>
                    <a:lnTo>
                      <a:pt x="1236" y="30"/>
                    </a:lnTo>
                    <a:lnTo>
                      <a:pt x="1210" y="30"/>
                    </a:lnTo>
                    <a:lnTo>
                      <a:pt x="1210" y="29"/>
                    </a:lnTo>
                    <a:lnTo>
                      <a:pt x="1209" y="28"/>
                    </a:lnTo>
                    <a:lnTo>
                      <a:pt x="1207" y="27"/>
                    </a:lnTo>
                    <a:lnTo>
                      <a:pt x="1206" y="27"/>
                    </a:lnTo>
                    <a:lnTo>
                      <a:pt x="1204" y="27"/>
                    </a:lnTo>
                    <a:lnTo>
                      <a:pt x="1202" y="28"/>
                    </a:lnTo>
                    <a:lnTo>
                      <a:pt x="1202" y="29"/>
                    </a:lnTo>
                    <a:lnTo>
                      <a:pt x="1201" y="30"/>
                    </a:lnTo>
                    <a:lnTo>
                      <a:pt x="1197" y="30"/>
                    </a:lnTo>
                    <a:lnTo>
                      <a:pt x="1196" y="29"/>
                    </a:lnTo>
                    <a:lnTo>
                      <a:pt x="1195" y="28"/>
                    </a:lnTo>
                    <a:lnTo>
                      <a:pt x="1194" y="27"/>
                    </a:lnTo>
                    <a:lnTo>
                      <a:pt x="1192" y="27"/>
                    </a:lnTo>
                    <a:lnTo>
                      <a:pt x="1190" y="27"/>
                    </a:lnTo>
                    <a:lnTo>
                      <a:pt x="1189" y="28"/>
                    </a:lnTo>
                    <a:lnTo>
                      <a:pt x="1188" y="29"/>
                    </a:lnTo>
                    <a:lnTo>
                      <a:pt x="1188" y="30"/>
                    </a:lnTo>
                    <a:lnTo>
                      <a:pt x="1162" y="30"/>
                    </a:lnTo>
                    <a:lnTo>
                      <a:pt x="1162" y="29"/>
                    </a:lnTo>
                    <a:lnTo>
                      <a:pt x="1161" y="28"/>
                    </a:lnTo>
                    <a:lnTo>
                      <a:pt x="1159" y="27"/>
                    </a:lnTo>
                    <a:lnTo>
                      <a:pt x="1157" y="27"/>
                    </a:lnTo>
                    <a:lnTo>
                      <a:pt x="1156" y="27"/>
                    </a:lnTo>
                    <a:lnTo>
                      <a:pt x="1154" y="28"/>
                    </a:lnTo>
                    <a:lnTo>
                      <a:pt x="1153" y="29"/>
                    </a:lnTo>
                    <a:lnTo>
                      <a:pt x="1153" y="30"/>
                    </a:lnTo>
                    <a:lnTo>
                      <a:pt x="1135" y="30"/>
                    </a:lnTo>
                    <a:lnTo>
                      <a:pt x="1134" y="29"/>
                    </a:lnTo>
                    <a:lnTo>
                      <a:pt x="1133" y="28"/>
                    </a:lnTo>
                    <a:lnTo>
                      <a:pt x="1132" y="27"/>
                    </a:lnTo>
                    <a:lnTo>
                      <a:pt x="1130" y="27"/>
                    </a:lnTo>
                    <a:lnTo>
                      <a:pt x="1128" y="27"/>
                    </a:lnTo>
                    <a:lnTo>
                      <a:pt x="1127" y="28"/>
                    </a:lnTo>
                    <a:lnTo>
                      <a:pt x="1126" y="29"/>
                    </a:lnTo>
                    <a:lnTo>
                      <a:pt x="1126" y="30"/>
                    </a:lnTo>
                    <a:lnTo>
                      <a:pt x="1097" y="30"/>
                    </a:lnTo>
                    <a:lnTo>
                      <a:pt x="1097" y="29"/>
                    </a:lnTo>
                    <a:lnTo>
                      <a:pt x="1096" y="28"/>
                    </a:lnTo>
                    <a:lnTo>
                      <a:pt x="1094" y="27"/>
                    </a:lnTo>
                    <a:lnTo>
                      <a:pt x="1092" y="27"/>
                    </a:lnTo>
                    <a:lnTo>
                      <a:pt x="1091" y="27"/>
                    </a:lnTo>
                    <a:lnTo>
                      <a:pt x="1089" y="28"/>
                    </a:lnTo>
                    <a:lnTo>
                      <a:pt x="1088" y="29"/>
                    </a:lnTo>
                    <a:lnTo>
                      <a:pt x="1088" y="30"/>
                    </a:lnTo>
                    <a:lnTo>
                      <a:pt x="1056" y="30"/>
                    </a:lnTo>
                    <a:lnTo>
                      <a:pt x="1056" y="29"/>
                    </a:lnTo>
                    <a:lnTo>
                      <a:pt x="1055" y="28"/>
                    </a:lnTo>
                    <a:lnTo>
                      <a:pt x="1054" y="27"/>
                    </a:lnTo>
                    <a:lnTo>
                      <a:pt x="1052" y="27"/>
                    </a:lnTo>
                    <a:lnTo>
                      <a:pt x="1050" y="27"/>
                    </a:lnTo>
                    <a:lnTo>
                      <a:pt x="1049" y="28"/>
                    </a:lnTo>
                    <a:lnTo>
                      <a:pt x="1048" y="29"/>
                    </a:lnTo>
                    <a:lnTo>
                      <a:pt x="1048" y="30"/>
                    </a:lnTo>
                    <a:lnTo>
                      <a:pt x="993" y="30"/>
                    </a:lnTo>
                    <a:lnTo>
                      <a:pt x="993" y="29"/>
                    </a:lnTo>
                    <a:lnTo>
                      <a:pt x="992" y="28"/>
                    </a:lnTo>
                    <a:lnTo>
                      <a:pt x="990" y="27"/>
                    </a:lnTo>
                    <a:lnTo>
                      <a:pt x="989" y="27"/>
                    </a:lnTo>
                    <a:lnTo>
                      <a:pt x="987" y="27"/>
                    </a:lnTo>
                    <a:lnTo>
                      <a:pt x="986" y="28"/>
                    </a:lnTo>
                    <a:lnTo>
                      <a:pt x="985" y="29"/>
                    </a:lnTo>
                    <a:lnTo>
                      <a:pt x="984" y="30"/>
                    </a:lnTo>
                    <a:lnTo>
                      <a:pt x="888" y="30"/>
                    </a:lnTo>
                    <a:lnTo>
                      <a:pt x="887" y="29"/>
                    </a:lnTo>
                    <a:lnTo>
                      <a:pt x="886" y="28"/>
                    </a:lnTo>
                    <a:lnTo>
                      <a:pt x="885" y="27"/>
                    </a:lnTo>
                    <a:lnTo>
                      <a:pt x="883" y="27"/>
                    </a:lnTo>
                    <a:lnTo>
                      <a:pt x="882" y="27"/>
                    </a:lnTo>
                    <a:lnTo>
                      <a:pt x="880" y="28"/>
                    </a:lnTo>
                    <a:lnTo>
                      <a:pt x="879" y="29"/>
                    </a:lnTo>
                    <a:lnTo>
                      <a:pt x="879" y="30"/>
                    </a:lnTo>
                    <a:lnTo>
                      <a:pt x="832" y="30"/>
                    </a:lnTo>
                    <a:lnTo>
                      <a:pt x="832" y="29"/>
                    </a:lnTo>
                    <a:lnTo>
                      <a:pt x="831" y="28"/>
                    </a:lnTo>
                    <a:lnTo>
                      <a:pt x="829" y="27"/>
                    </a:lnTo>
                    <a:lnTo>
                      <a:pt x="827" y="27"/>
                    </a:lnTo>
                    <a:lnTo>
                      <a:pt x="826" y="27"/>
                    </a:lnTo>
                    <a:lnTo>
                      <a:pt x="824" y="28"/>
                    </a:lnTo>
                    <a:lnTo>
                      <a:pt x="823" y="29"/>
                    </a:lnTo>
                    <a:lnTo>
                      <a:pt x="823" y="30"/>
                    </a:lnTo>
                    <a:lnTo>
                      <a:pt x="798" y="30"/>
                    </a:lnTo>
                    <a:lnTo>
                      <a:pt x="798" y="29"/>
                    </a:lnTo>
                    <a:lnTo>
                      <a:pt x="797" y="28"/>
                    </a:lnTo>
                    <a:lnTo>
                      <a:pt x="795" y="27"/>
                    </a:lnTo>
                    <a:lnTo>
                      <a:pt x="794" y="27"/>
                    </a:lnTo>
                    <a:lnTo>
                      <a:pt x="792" y="27"/>
                    </a:lnTo>
                    <a:lnTo>
                      <a:pt x="791" y="28"/>
                    </a:lnTo>
                    <a:lnTo>
                      <a:pt x="789" y="29"/>
                    </a:lnTo>
                    <a:lnTo>
                      <a:pt x="789" y="30"/>
                    </a:lnTo>
                    <a:lnTo>
                      <a:pt x="788" y="30"/>
                    </a:lnTo>
                    <a:lnTo>
                      <a:pt x="788" y="29"/>
                    </a:lnTo>
                    <a:lnTo>
                      <a:pt x="787" y="28"/>
                    </a:lnTo>
                    <a:lnTo>
                      <a:pt x="785" y="27"/>
                    </a:lnTo>
                    <a:lnTo>
                      <a:pt x="784" y="27"/>
                    </a:lnTo>
                    <a:lnTo>
                      <a:pt x="782" y="27"/>
                    </a:lnTo>
                    <a:lnTo>
                      <a:pt x="780" y="28"/>
                    </a:lnTo>
                    <a:lnTo>
                      <a:pt x="779" y="29"/>
                    </a:lnTo>
                    <a:lnTo>
                      <a:pt x="779" y="30"/>
                    </a:lnTo>
                    <a:lnTo>
                      <a:pt x="771" y="30"/>
                    </a:lnTo>
                    <a:lnTo>
                      <a:pt x="771" y="29"/>
                    </a:lnTo>
                    <a:lnTo>
                      <a:pt x="769" y="28"/>
                    </a:lnTo>
                    <a:lnTo>
                      <a:pt x="768" y="27"/>
                    </a:lnTo>
                    <a:lnTo>
                      <a:pt x="766" y="27"/>
                    </a:lnTo>
                    <a:lnTo>
                      <a:pt x="765" y="27"/>
                    </a:lnTo>
                    <a:lnTo>
                      <a:pt x="763" y="28"/>
                    </a:lnTo>
                    <a:lnTo>
                      <a:pt x="762" y="29"/>
                    </a:lnTo>
                    <a:lnTo>
                      <a:pt x="762" y="30"/>
                    </a:lnTo>
                    <a:lnTo>
                      <a:pt x="761" y="30"/>
                    </a:lnTo>
                    <a:lnTo>
                      <a:pt x="760" y="29"/>
                    </a:lnTo>
                    <a:lnTo>
                      <a:pt x="760" y="28"/>
                    </a:lnTo>
                    <a:lnTo>
                      <a:pt x="758" y="27"/>
                    </a:lnTo>
                    <a:lnTo>
                      <a:pt x="757" y="26"/>
                    </a:lnTo>
                    <a:lnTo>
                      <a:pt x="755" y="26"/>
                    </a:lnTo>
                    <a:lnTo>
                      <a:pt x="753" y="26"/>
                    </a:lnTo>
                    <a:lnTo>
                      <a:pt x="751" y="27"/>
                    </a:lnTo>
                    <a:lnTo>
                      <a:pt x="750" y="28"/>
                    </a:lnTo>
                    <a:lnTo>
                      <a:pt x="749" y="29"/>
                    </a:lnTo>
                    <a:lnTo>
                      <a:pt x="749" y="30"/>
                    </a:lnTo>
                    <a:lnTo>
                      <a:pt x="735" y="30"/>
                    </a:lnTo>
                    <a:lnTo>
                      <a:pt x="735" y="29"/>
                    </a:lnTo>
                    <a:lnTo>
                      <a:pt x="734" y="28"/>
                    </a:lnTo>
                    <a:lnTo>
                      <a:pt x="732" y="27"/>
                    </a:lnTo>
                    <a:lnTo>
                      <a:pt x="731" y="27"/>
                    </a:lnTo>
                    <a:lnTo>
                      <a:pt x="729" y="27"/>
                    </a:lnTo>
                    <a:lnTo>
                      <a:pt x="728" y="28"/>
                    </a:lnTo>
                    <a:lnTo>
                      <a:pt x="726" y="29"/>
                    </a:lnTo>
                    <a:lnTo>
                      <a:pt x="726" y="30"/>
                    </a:lnTo>
                    <a:lnTo>
                      <a:pt x="717" y="30"/>
                    </a:lnTo>
                    <a:lnTo>
                      <a:pt x="717" y="29"/>
                    </a:lnTo>
                    <a:lnTo>
                      <a:pt x="716" y="28"/>
                    </a:lnTo>
                    <a:lnTo>
                      <a:pt x="714" y="27"/>
                    </a:lnTo>
                    <a:lnTo>
                      <a:pt x="713" y="27"/>
                    </a:lnTo>
                    <a:lnTo>
                      <a:pt x="711" y="27"/>
                    </a:lnTo>
                    <a:lnTo>
                      <a:pt x="709" y="28"/>
                    </a:lnTo>
                    <a:lnTo>
                      <a:pt x="708" y="29"/>
                    </a:lnTo>
                    <a:lnTo>
                      <a:pt x="708" y="30"/>
                    </a:lnTo>
                    <a:lnTo>
                      <a:pt x="702" y="30"/>
                    </a:lnTo>
                    <a:lnTo>
                      <a:pt x="702" y="29"/>
                    </a:lnTo>
                    <a:lnTo>
                      <a:pt x="700" y="28"/>
                    </a:lnTo>
                    <a:lnTo>
                      <a:pt x="699" y="27"/>
                    </a:lnTo>
                    <a:lnTo>
                      <a:pt x="697" y="27"/>
                    </a:lnTo>
                    <a:lnTo>
                      <a:pt x="696" y="27"/>
                    </a:lnTo>
                    <a:lnTo>
                      <a:pt x="694" y="28"/>
                    </a:lnTo>
                    <a:lnTo>
                      <a:pt x="693" y="29"/>
                    </a:lnTo>
                    <a:lnTo>
                      <a:pt x="693" y="30"/>
                    </a:lnTo>
                    <a:lnTo>
                      <a:pt x="688" y="30"/>
                    </a:lnTo>
                    <a:lnTo>
                      <a:pt x="688" y="29"/>
                    </a:lnTo>
                    <a:lnTo>
                      <a:pt x="687" y="28"/>
                    </a:lnTo>
                    <a:lnTo>
                      <a:pt x="686" y="27"/>
                    </a:lnTo>
                    <a:lnTo>
                      <a:pt x="684" y="27"/>
                    </a:lnTo>
                    <a:lnTo>
                      <a:pt x="682" y="27"/>
                    </a:lnTo>
                    <a:lnTo>
                      <a:pt x="681" y="28"/>
                    </a:lnTo>
                    <a:lnTo>
                      <a:pt x="680" y="29"/>
                    </a:lnTo>
                    <a:lnTo>
                      <a:pt x="679" y="30"/>
                    </a:lnTo>
                    <a:lnTo>
                      <a:pt x="677" y="30"/>
                    </a:lnTo>
                    <a:lnTo>
                      <a:pt x="676" y="29"/>
                    </a:lnTo>
                    <a:lnTo>
                      <a:pt x="675" y="28"/>
                    </a:lnTo>
                    <a:lnTo>
                      <a:pt x="674" y="27"/>
                    </a:lnTo>
                    <a:lnTo>
                      <a:pt x="672" y="27"/>
                    </a:lnTo>
                    <a:lnTo>
                      <a:pt x="670" y="27"/>
                    </a:lnTo>
                    <a:lnTo>
                      <a:pt x="669" y="28"/>
                    </a:lnTo>
                    <a:lnTo>
                      <a:pt x="668" y="29"/>
                    </a:lnTo>
                    <a:lnTo>
                      <a:pt x="668" y="30"/>
                    </a:lnTo>
                    <a:lnTo>
                      <a:pt x="657" y="30"/>
                    </a:lnTo>
                    <a:lnTo>
                      <a:pt x="657" y="29"/>
                    </a:lnTo>
                    <a:lnTo>
                      <a:pt x="656" y="28"/>
                    </a:lnTo>
                    <a:lnTo>
                      <a:pt x="654" y="27"/>
                    </a:lnTo>
                    <a:lnTo>
                      <a:pt x="653" y="27"/>
                    </a:lnTo>
                    <a:lnTo>
                      <a:pt x="651" y="27"/>
                    </a:lnTo>
                    <a:lnTo>
                      <a:pt x="650" y="28"/>
                    </a:lnTo>
                    <a:lnTo>
                      <a:pt x="648" y="29"/>
                    </a:lnTo>
                    <a:lnTo>
                      <a:pt x="648" y="30"/>
                    </a:lnTo>
                    <a:lnTo>
                      <a:pt x="637" y="30"/>
                    </a:lnTo>
                    <a:lnTo>
                      <a:pt x="637" y="29"/>
                    </a:lnTo>
                    <a:lnTo>
                      <a:pt x="636" y="28"/>
                    </a:lnTo>
                    <a:lnTo>
                      <a:pt x="635" y="27"/>
                    </a:lnTo>
                    <a:lnTo>
                      <a:pt x="633" y="27"/>
                    </a:lnTo>
                    <a:lnTo>
                      <a:pt x="631" y="27"/>
                    </a:lnTo>
                    <a:lnTo>
                      <a:pt x="630" y="28"/>
                    </a:lnTo>
                    <a:lnTo>
                      <a:pt x="629" y="29"/>
                    </a:lnTo>
                    <a:lnTo>
                      <a:pt x="628" y="30"/>
                    </a:lnTo>
                    <a:lnTo>
                      <a:pt x="616" y="30"/>
                    </a:lnTo>
                    <a:lnTo>
                      <a:pt x="615" y="29"/>
                    </a:lnTo>
                    <a:lnTo>
                      <a:pt x="614" y="28"/>
                    </a:lnTo>
                    <a:lnTo>
                      <a:pt x="613" y="27"/>
                    </a:lnTo>
                    <a:lnTo>
                      <a:pt x="611" y="27"/>
                    </a:lnTo>
                    <a:lnTo>
                      <a:pt x="610" y="27"/>
                    </a:lnTo>
                    <a:lnTo>
                      <a:pt x="608" y="28"/>
                    </a:lnTo>
                    <a:lnTo>
                      <a:pt x="607" y="29"/>
                    </a:lnTo>
                    <a:lnTo>
                      <a:pt x="607" y="30"/>
                    </a:lnTo>
                    <a:lnTo>
                      <a:pt x="592" y="30"/>
                    </a:lnTo>
                    <a:lnTo>
                      <a:pt x="592" y="29"/>
                    </a:lnTo>
                    <a:lnTo>
                      <a:pt x="591" y="28"/>
                    </a:lnTo>
                    <a:lnTo>
                      <a:pt x="589" y="27"/>
                    </a:lnTo>
                    <a:lnTo>
                      <a:pt x="588" y="27"/>
                    </a:lnTo>
                    <a:lnTo>
                      <a:pt x="586" y="27"/>
                    </a:lnTo>
                    <a:lnTo>
                      <a:pt x="584" y="28"/>
                    </a:lnTo>
                    <a:lnTo>
                      <a:pt x="584" y="29"/>
                    </a:lnTo>
                    <a:lnTo>
                      <a:pt x="583" y="30"/>
                    </a:lnTo>
                    <a:lnTo>
                      <a:pt x="556" y="30"/>
                    </a:lnTo>
                    <a:lnTo>
                      <a:pt x="556" y="29"/>
                    </a:lnTo>
                    <a:lnTo>
                      <a:pt x="555" y="27"/>
                    </a:lnTo>
                    <a:lnTo>
                      <a:pt x="553" y="26"/>
                    </a:lnTo>
                    <a:lnTo>
                      <a:pt x="552" y="26"/>
                    </a:lnTo>
                    <a:lnTo>
                      <a:pt x="549" y="25"/>
                    </a:lnTo>
                    <a:lnTo>
                      <a:pt x="547" y="26"/>
                    </a:lnTo>
                    <a:lnTo>
                      <a:pt x="545" y="26"/>
                    </a:lnTo>
                    <a:lnTo>
                      <a:pt x="544" y="27"/>
                    </a:lnTo>
                    <a:lnTo>
                      <a:pt x="543" y="29"/>
                    </a:lnTo>
                    <a:lnTo>
                      <a:pt x="543" y="30"/>
                    </a:lnTo>
                    <a:lnTo>
                      <a:pt x="535" y="30"/>
                    </a:lnTo>
                    <a:lnTo>
                      <a:pt x="534" y="29"/>
                    </a:lnTo>
                    <a:lnTo>
                      <a:pt x="534" y="27"/>
                    </a:lnTo>
                    <a:lnTo>
                      <a:pt x="532" y="26"/>
                    </a:lnTo>
                    <a:lnTo>
                      <a:pt x="530" y="25"/>
                    </a:lnTo>
                    <a:lnTo>
                      <a:pt x="528" y="24"/>
                    </a:lnTo>
                    <a:lnTo>
                      <a:pt x="526" y="24"/>
                    </a:lnTo>
                    <a:lnTo>
                      <a:pt x="524" y="25"/>
                    </a:lnTo>
                    <a:lnTo>
                      <a:pt x="522" y="26"/>
                    </a:lnTo>
                    <a:lnTo>
                      <a:pt x="520" y="27"/>
                    </a:lnTo>
                    <a:lnTo>
                      <a:pt x="519" y="29"/>
                    </a:lnTo>
                    <a:lnTo>
                      <a:pt x="519" y="30"/>
                    </a:lnTo>
                    <a:lnTo>
                      <a:pt x="464" y="30"/>
                    </a:lnTo>
                    <a:lnTo>
                      <a:pt x="463" y="29"/>
                    </a:lnTo>
                    <a:lnTo>
                      <a:pt x="463" y="28"/>
                    </a:lnTo>
                    <a:lnTo>
                      <a:pt x="461" y="27"/>
                    </a:lnTo>
                    <a:lnTo>
                      <a:pt x="459" y="27"/>
                    </a:lnTo>
                    <a:lnTo>
                      <a:pt x="458" y="27"/>
                    </a:lnTo>
                    <a:lnTo>
                      <a:pt x="456" y="28"/>
                    </a:lnTo>
                    <a:lnTo>
                      <a:pt x="455" y="29"/>
                    </a:lnTo>
                    <a:lnTo>
                      <a:pt x="455" y="30"/>
                    </a:lnTo>
                    <a:lnTo>
                      <a:pt x="400" y="30"/>
                    </a:lnTo>
                    <a:lnTo>
                      <a:pt x="399" y="29"/>
                    </a:lnTo>
                    <a:lnTo>
                      <a:pt x="398" y="28"/>
                    </a:lnTo>
                    <a:lnTo>
                      <a:pt x="397" y="27"/>
                    </a:lnTo>
                    <a:lnTo>
                      <a:pt x="395" y="27"/>
                    </a:lnTo>
                    <a:lnTo>
                      <a:pt x="393" y="27"/>
                    </a:lnTo>
                    <a:lnTo>
                      <a:pt x="392" y="28"/>
                    </a:lnTo>
                    <a:lnTo>
                      <a:pt x="391" y="29"/>
                    </a:lnTo>
                    <a:lnTo>
                      <a:pt x="391" y="30"/>
                    </a:lnTo>
                    <a:lnTo>
                      <a:pt x="357" y="30"/>
                    </a:lnTo>
                    <a:lnTo>
                      <a:pt x="357" y="29"/>
                    </a:lnTo>
                    <a:lnTo>
                      <a:pt x="356" y="28"/>
                    </a:lnTo>
                    <a:lnTo>
                      <a:pt x="355" y="27"/>
                    </a:lnTo>
                    <a:lnTo>
                      <a:pt x="353" y="27"/>
                    </a:lnTo>
                    <a:lnTo>
                      <a:pt x="351" y="27"/>
                    </a:lnTo>
                    <a:lnTo>
                      <a:pt x="350" y="28"/>
                    </a:lnTo>
                    <a:lnTo>
                      <a:pt x="349" y="29"/>
                    </a:lnTo>
                    <a:lnTo>
                      <a:pt x="348" y="30"/>
                    </a:lnTo>
                    <a:lnTo>
                      <a:pt x="322" y="30"/>
                    </a:lnTo>
                    <a:lnTo>
                      <a:pt x="322" y="29"/>
                    </a:lnTo>
                    <a:lnTo>
                      <a:pt x="321" y="28"/>
                    </a:lnTo>
                    <a:lnTo>
                      <a:pt x="319" y="27"/>
                    </a:lnTo>
                    <a:lnTo>
                      <a:pt x="318" y="27"/>
                    </a:lnTo>
                    <a:lnTo>
                      <a:pt x="316" y="27"/>
                    </a:lnTo>
                    <a:lnTo>
                      <a:pt x="314" y="28"/>
                    </a:lnTo>
                    <a:lnTo>
                      <a:pt x="313" y="29"/>
                    </a:lnTo>
                    <a:lnTo>
                      <a:pt x="313" y="30"/>
                    </a:lnTo>
                    <a:lnTo>
                      <a:pt x="280" y="30"/>
                    </a:lnTo>
                    <a:lnTo>
                      <a:pt x="279" y="29"/>
                    </a:lnTo>
                    <a:lnTo>
                      <a:pt x="278" y="28"/>
                    </a:lnTo>
                    <a:lnTo>
                      <a:pt x="277" y="27"/>
                    </a:lnTo>
                    <a:lnTo>
                      <a:pt x="275" y="27"/>
                    </a:lnTo>
                    <a:lnTo>
                      <a:pt x="273" y="27"/>
                    </a:lnTo>
                    <a:lnTo>
                      <a:pt x="272" y="28"/>
                    </a:lnTo>
                    <a:lnTo>
                      <a:pt x="271" y="29"/>
                    </a:lnTo>
                    <a:lnTo>
                      <a:pt x="271" y="30"/>
                    </a:lnTo>
                    <a:lnTo>
                      <a:pt x="256" y="30"/>
                    </a:lnTo>
                    <a:lnTo>
                      <a:pt x="255" y="29"/>
                    </a:lnTo>
                    <a:lnTo>
                      <a:pt x="254" y="27"/>
                    </a:lnTo>
                    <a:lnTo>
                      <a:pt x="253" y="25"/>
                    </a:lnTo>
                    <a:lnTo>
                      <a:pt x="250" y="24"/>
                    </a:lnTo>
                    <a:lnTo>
                      <a:pt x="248" y="24"/>
                    </a:lnTo>
                    <a:lnTo>
                      <a:pt x="246" y="24"/>
                    </a:lnTo>
                    <a:lnTo>
                      <a:pt x="243" y="24"/>
                    </a:lnTo>
                    <a:lnTo>
                      <a:pt x="241" y="25"/>
                    </a:lnTo>
                    <a:lnTo>
                      <a:pt x="239" y="27"/>
                    </a:lnTo>
                    <a:lnTo>
                      <a:pt x="238" y="29"/>
                    </a:lnTo>
                    <a:lnTo>
                      <a:pt x="238" y="30"/>
                    </a:lnTo>
                    <a:lnTo>
                      <a:pt x="231" y="30"/>
                    </a:lnTo>
                    <a:lnTo>
                      <a:pt x="231" y="29"/>
                    </a:lnTo>
                    <a:lnTo>
                      <a:pt x="230" y="28"/>
                    </a:lnTo>
                    <a:lnTo>
                      <a:pt x="229" y="27"/>
                    </a:lnTo>
                    <a:lnTo>
                      <a:pt x="227" y="27"/>
                    </a:lnTo>
                    <a:lnTo>
                      <a:pt x="225" y="27"/>
                    </a:lnTo>
                    <a:lnTo>
                      <a:pt x="224" y="28"/>
                    </a:lnTo>
                    <a:lnTo>
                      <a:pt x="223" y="29"/>
                    </a:lnTo>
                    <a:lnTo>
                      <a:pt x="222" y="30"/>
                    </a:lnTo>
                    <a:lnTo>
                      <a:pt x="215" y="30"/>
                    </a:lnTo>
                    <a:lnTo>
                      <a:pt x="215" y="29"/>
                    </a:lnTo>
                    <a:lnTo>
                      <a:pt x="214" y="28"/>
                    </a:lnTo>
                    <a:lnTo>
                      <a:pt x="212" y="27"/>
                    </a:lnTo>
                    <a:lnTo>
                      <a:pt x="211" y="27"/>
                    </a:lnTo>
                    <a:lnTo>
                      <a:pt x="209" y="27"/>
                    </a:lnTo>
                    <a:lnTo>
                      <a:pt x="207" y="28"/>
                    </a:lnTo>
                    <a:lnTo>
                      <a:pt x="206" y="29"/>
                    </a:lnTo>
                    <a:lnTo>
                      <a:pt x="206" y="30"/>
                    </a:lnTo>
                    <a:lnTo>
                      <a:pt x="199" y="30"/>
                    </a:lnTo>
                    <a:lnTo>
                      <a:pt x="198" y="29"/>
                    </a:lnTo>
                    <a:lnTo>
                      <a:pt x="198" y="27"/>
                    </a:lnTo>
                    <a:lnTo>
                      <a:pt x="196" y="26"/>
                    </a:lnTo>
                    <a:lnTo>
                      <a:pt x="194" y="26"/>
                    </a:lnTo>
                    <a:lnTo>
                      <a:pt x="192" y="25"/>
                    </a:lnTo>
                    <a:lnTo>
                      <a:pt x="190" y="26"/>
                    </a:lnTo>
                    <a:lnTo>
                      <a:pt x="188" y="26"/>
                    </a:lnTo>
                    <a:lnTo>
                      <a:pt x="187" y="27"/>
                    </a:lnTo>
                    <a:lnTo>
                      <a:pt x="186" y="29"/>
                    </a:lnTo>
                    <a:lnTo>
                      <a:pt x="186" y="30"/>
                    </a:lnTo>
                    <a:lnTo>
                      <a:pt x="184" y="30"/>
                    </a:lnTo>
                    <a:lnTo>
                      <a:pt x="183" y="29"/>
                    </a:lnTo>
                    <a:lnTo>
                      <a:pt x="182" y="27"/>
                    </a:lnTo>
                    <a:lnTo>
                      <a:pt x="181" y="26"/>
                    </a:lnTo>
                    <a:lnTo>
                      <a:pt x="179" y="25"/>
                    </a:lnTo>
                    <a:lnTo>
                      <a:pt x="177" y="24"/>
                    </a:lnTo>
                    <a:lnTo>
                      <a:pt x="175" y="24"/>
                    </a:lnTo>
                    <a:lnTo>
                      <a:pt x="172" y="25"/>
                    </a:lnTo>
                    <a:lnTo>
                      <a:pt x="171" y="26"/>
                    </a:lnTo>
                    <a:lnTo>
                      <a:pt x="169" y="27"/>
                    </a:lnTo>
                    <a:lnTo>
                      <a:pt x="168" y="29"/>
                    </a:lnTo>
                    <a:lnTo>
                      <a:pt x="168" y="30"/>
                    </a:lnTo>
                    <a:lnTo>
                      <a:pt x="161" y="30"/>
                    </a:lnTo>
                    <a:lnTo>
                      <a:pt x="161" y="29"/>
                    </a:lnTo>
                    <a:lnTo>
                      <a:pt x="160" y="28"/>
                    </a:lnTo>
                    <a:lnTo>
                      <a:pt x="158" y="27"/>
                    </a:lnTo>
                    <a:lnTo>
                      <a:pt x="157" y="27"/>
                    </a:lnTo>
                    <a:lnTo>
                      <a:pt x="155" y="27"/>
                    </a:lnTo>
                    <a:lnTo>
                      <a:pt x="153" y="28"/>
                    </a:lnTo>
                    <a:lnTo>
                      <a:pt x="152" y="29"/>
                    </a:lnTo>
                    <a:lnTo>
                      <a:pt x="152" y="30"/>
                    </a:lnTo>
                    <a:lnTo>
                      <a:pt x="143" y="30"/>
                    </a:lnTo>
                    <a:lnTo>
                      <a:pt x="143" y="29"/>
                    </a:lnTo>
                    <a:lnTo>
                      <a:pt x="142" y="28"/>
                    </a:lnTo>
                    <a:lnTo>
                      <a:pt x="140" y="27"/>
                    </a:lnTo>
                    <a:lnTo>
                      <a:pt x="139" y="27"/>
                    </a:lnTo>
                    <a:lnTo>
                      <a:pt x="137" y="27"/>
                    </a:lnTo>
                    <a:lnTo>
                      <a:pt x="135" y="28"/>
                    </a:lnTo>
                    <a:lnTo>
                      <a:pt x="134" y="29"/>
                    </a:lnTo>
                    <a:lnTo>
                      <a:pt x="134" y="30"/>
                    </a:lnTo>
                    <a:lnTo>
                      <a:pt x="125" y="30"/>
                    </a:lnTo>
                    <a:lnTo>
                      <a:pt x="125" y="7"/>
                    </a:lnTo>
                    <a:lnTo>
                      <a:pt x="86" y="7"/>
                    </a:lnTo>
                    <a:lnTo>
                      <a:pt x="85" y="6"/>
                    </a:lnTo>
                    <a:lnTo>
                      <a:pt x="84" y="5"/>
                    </a:lnTo>
                    <a:lnTo>
                      <a:pt x="83" y="4"/>
                    </a:lnTo>
                    <a:lnTo>
                      <a:pt x="81" y="4"/>
                    </a:lnTo>
                    <a:lnTo>
                      <a:pt x="79" y="4"/>
                    </a:lnTo>
                    <a:lnTo>
                      <a:pt x="78" y="5"/>
                    </a:lnTo>
                    <a:lnTo>
                      <a:pt x="77" y="6"/>
                    </a:lnTo>
                    <a:lnTo>
                      <a:pt x="77" y="7"/>
                    </a:lnTo>
                    <a:lnTo>
                      <a:pt x="66" y="7"/>
                    </a:lnTo>
                    <a:lnTo>
                      <a:pt x="65" y="5"/>
                    </a:lnTo>
                    <a:lnTo>
                      <a:pt x="64" y="4"/>
                    </a:lnTo>
                    <a:lnTo>
                      <a:pt x="63" y="2"/>
                    </a:lnTo>
                    <a:lnTo>
                      <a:pt x="61" y="1"/>
                    </a:lnTo>
                    <a:lnTo>
                      <a:pt x="59" y="0"/>
                    </a:lnTo>
                    <a:lnTo>
                      <a:pt x="57" y="0"/>
                    </a:lnTo>
                    <a:lnTo>
                      <a:pt x="55" y="0"/>
                    </a:lnTo>
                    <a:lnTo>
                      <a:pt x="52" y="1"/>
                    </a:lnTo>
                    <a:lnTo>
                      <a:pt x="50" y="2"/>
                    </a:lnTo>
                    <a:lnTo>
                      <a:pt x="49" y="4"/>
                    </a:lnTo>
                    <a:lnTo>
                      <a:pt x="48" y="5"/>
                    </a:lnTo>
                    <a:lnTo>
                      <a:pt x="48" y="7"/>
                    </a:lnTo>
                    <a:lnTo>
                      <a:pt x="44" y="7"/>
                    </a:lnTo>
                    <a:lnTo>
                      <a:pt x="43" y="6"/>
                    </a:lnTo>
                    <a:lnTo>
                      <a:pt x="43" y="5"/>
                    </a:lnTo>
                    <a:lnTo>
                      <a:pt x="41" y="4"/>
                    </a:lnTo>
                    <a:lnTo>
                      <a:pt x="39" y="4"/>
                    </a:lnTo>
                    <a:lnTo>
                      <a:pt x="38" y="4"/>
                    </a:lnTo>
                    <a:lnTo>
                      <a:pt x="36" y="5"/>
                    </a:lnTo>
                    <a:lnTo>
                      <a:pt x="35" y="6"/>
                    </a:lnTo>
                    <a:lnTo>
                      <a:pt x="35" y="7"/>
                    </a:lnTo>
                    <a:lnTo>
                      <a:pt x="33" y="7"/>
                    </a:lnTo>
                    <a:lnTo>
                      <a:pt x="33" y="6"/>
                    </a:lnTo>
                    <a:lnTo>
                      <a:pt x="32" y="5"/>
                    </a:lnTo>
                    <a:lnTo>
                      <a:pt x="30" y="4"/>
                    </a:lnTo>
                    <a:lnTo>
                      <a:pt x="29" y="4"/>
                    </a:lnTo>
                    <a:lnTo>
                      <a:pt x="27" y="4"/>
                    </a:lnTo>
                    <a:lnTo>
                      <a:pt x="26" y="5"/>
                    </a:lnTo>
                    <a:lnTo>
                      <a:pt x="25" y="6"/>
                    </a:lnTo>
                    <a:lnTo>
                      <a:pt x="24" y="7"/>
                    </a:lnTo>
                    <a:lnTo>
                      <a:pt x="22" y="7"/>
                    </a:lnTo>
                    <a:lnTo>
                      <a:pt x="22" y="6"/>
                    </a:lnTo>
                    <a:lnTo>
                      <a:pt x="21" y="4"/>
                    </a:lnTo>
                    <a:lnTo>
                      <a:pt x="19" y="3"/>
                    </a:lnTo>
                    <a:lnTo>
                      <a:pt x="18" y="2"/>
                    </a:lnTo>
                    <a:lnTo>
                      <a:pt x="15" y="2"/>
                    </a:lnTo>
                    <a:lnTo>
                      <a:pt x="14" y="2"/>
                    </a:lnTo>
                    <a:lnTo>
                      <a:pt x="12" y="3"/>
                    </a:lnTo>
                    <a:lnTo>
                      <a:pt x="10" y="4"/>
                    </a:lnTo>
                    <a:lnTo>
                      <a:pt x="9" y="6"/>
                    </a:lnTo>
                    <a:lnTo>
                      <a:pt x="9" y="7"/>
                    </a:lnTo>
                    <a:lnTo>
                      <a:pt x="0" y="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7668720" y="3684600"/>
                <a:ext cx="11520" cy="13320"/>
              </a:xfrm>
              <a:custGeom>
                <a:avLst/>
                <a:gdLst/>
                <a:ahLst/>
                <a:rect l="l" t="t" r="r" b="b"/>
                <a:pathLst>
                  <a:path w="11" h="10">
                    <a:moveTo>
                      <a:pt x="11" y="1"/>
                    </a:moveTo>
                    <a:lnTo>
                      <a:pt x="6" y="10"/>
                    </a:lnTo>
                    <a:lnTo>
                      <a:pt x="0" y="1"/>
                    </a:lnTo>
                    <a:lnTo>
                      <a:pt x="2" y="0"/>
                    </a:lnTo>
                    <a:lnTo>
                      <a:pt x="6" y="0"/>
                    </a:lnTo>
                    <a:lnTo>
                      <a:pt x="8"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70" name=""/>
              <p:cNvSpPr/>
              <p:nvPr/>
            </p:nvSpPr>
            <p:spPr>
              <a:xfrm>
                <a:off x="5793840" y="3331800"/>
                <a:ext cx="13680" cy="1152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1" name=""/>
              <p:cNvSpPr/>
              <p:nvPr/>
            </p:nvSpPr>
            <p:spPr>
              <a:xfrm>
                <a:off x="5793840" y="3243600"/>
                <a:ext cx="298440" cy="78480"/>
              </a:xfrm>
              <a:custGeom>
                <a:avLst/>
                <a:gdLst/>
                <a:ahLst/>
                <a:rect l="l" t="t" r="r" b="b"/>
                <a:pathLst>
                  <a:path w="282" h="59">
                    <a:moveTo>
                      <a:pt x="0" y="59"/>
                    </a:moveTo>
                    <a:lnTo>
                      <a:pt x="9" y="59"/>
                    </a:lnTo>
                    <a:lnTo>
                      <a:pt x="9" y="57"/>
                    </a:lnTo>
                    <a:lnTo>
                      <a:pt x="10" y="56"/>
                    </a:lnTo>
                    <a:lnTo>
                      <a:pt x="12" y="55"/>
                    </a:lnTo>
                    <a:lnTo>
                      <a:pt x="14" y="54"/>
                    </a:lnTo>
                    <a:lnTo>
                      <a:pt x="15" y="54"/>
                    </a:lnTo>
                    <a:lnTo>
                      <a:pt x="18" y="54"/>
                    </a:lnTo>
                    <a:lnTo>
                      <a:pt x="19" y="55"/>
                    </a:lnTo>
                    <a:lnTo>
                      <a:pt x="21" y="56"/>
                    </a:lnTo>
                    <a:lnTo>
                      <a:pt x="22" y="57"/>
                    </a:lnTo>
                    <a:lnTo>
                      <a:pt x="22" y="59"/>
                    </a:lnTo>
                    <a:lnTo>
                      <a:pt x="24" y="59"/>
                    </a:lnTo>
                    <a:lnTo>
                      <a:pt x="25" y="58"/>
                    </a:lnTo>
                    <a:lnTo>
                      <a:pt x="26" y="56"/>
                    </a:lnTo>
                    <a:lnTo>
                      <a:pt x="27" y="56"/>
                    </a:lnTo>
                    <a:lnTo>
                      <a:pt x="29" y="55"/>
                    </a:lnTo>
                    <a:lnTo>
                      <a:pt x="30" y="56"/>
                    </a:lnTo>
                    <a:lnTo>
                      <a:pt x="32" y="56"/>
                    </a:lnTo>
                    <a:lnTo>
                      <a:pt x="33" y="58"/>
                    </a:lnTo>
                    <a:lnTo>
                      <a:pt x="33" y="59"/>
                    </a:lnTo>
                    <a:lnTo>
                      <a:pt x="35" y="59"/>
                    </a:lnTo>
                    <a:lnTo>
                      <a:pt x="35" y="58"/>
                    </a:lnTo>
                    <a:lnTo>
                      <a:pt x="36" y="56"/>
                    </a:lnTo>
                    <a:lnTo>
                      <a:pt x="38" y="56"/>
                    </a:lnTo>
                    <a:lnTo>
                      <a:pt x="39" y="55"/>
                    </a:lnTo>
                    <a:lnTo>
                      <a:pt x="41" y="56"/>
                    </a:lnTo>
                    <a:lnTo>
                      <a:pt x="43" y="56"/>
                    </a:lnTo>
                    <a:lnTo>
                      <a:pt x="43" y="58"/>
                    </a:lnTo>
                    <a:lnTo>
                      <a:pt x="44" y="59"/>
                    </a:lnTo>
                    <a:lnTo>
                      <a:pt x="48" y="59"/>
                    </a:lnTo>
                    <a:lnTo>
                      <a:pt x="48" y="57"/>
                    </a:lnTo>
                    <a:lnTo>
                      <a:pt x="49" y="55"/>
                    </a:lnTo>
                    <a:lnTo>
                      <a:pt x="50" y="54"/>
                    </a:lnTo>
                    <a:lnTo>
                      <a:pt x="52" y="53"/>
                    </a:lnTo>
                    <a:lnTo>
                      <a:pt x="54" y="52"/>
                    </a:lnTo>
                    <a:lnTo>
                      <a:pt x="57" y="52"/>
                    </a:lnTo>
                    <a:lnTo>
                      <a:pt x="59" y="52"/>
                    </a:lnTo>
                    <a:lnTo>
                      <a:pt x="61" y="53"/>
                    </a:lnTo>
                    <a:lnTo>
                      <a:pt x="63" y="54"/>
                    </a:lnTo>
                    <a:lnTo>
                      <a:pt x="64" y="55"/>
                    </a:lnTo>
                    <a:lnTo>
                      <a:pt x="65" y="57"/>
                    </a:lnTo>
                    <a:lnTo>
                      <a:pt x="66" y="59"/>
                    </a:lnTo>
                    <a:lnTo>
                      <a:pt x="77" y="59"/>
                    </a:lnTo>
                    <a:lnTo>
                      <a:pt x="77" y="58"/>
                    </a:lnTo>
                    <a:lnTo>
                      <a:pt x="78" y="56"/>
                    </a:lnTo>
                    <a:lnTo>
                      <a:pt x="79" y="56"/>
                    </a:lnTo>
                    <a:lnTo>
                      <a:pt x="81" y="55"/>
                    </a:lnTo>
                    <a:lnTo>
                      <a:pt x="83" y="56"/>
                    </a:lnTo>
                    <a:lnTo>
                      <a:pt x="84" y="56"/>
                    </a:lnTo>
                    <a:lnTo>
                      <a:pt x="85" y="58"/>
                    </a:lnTo>
                    <a:lnTo>
                      <a:pt x="86" y="59"/>
                    </a:lnTo>
                    <a:lnTo>
                      <a:pt x="96" y="59"/>
                    </a:lnTo>
                    <a:lnTo>
                      <a:pt x="96" y="9"/>
                    </a:lnTo>
                    <a:lnTo>
                      <a:pt x="121" y="9"/>
                    </a:lnTo>
                    <a:lnTo>
                      <a:pt x="121" y="7"/>
                    </a:lnTo>
                    <a:lnTo>
                      <a:pt x="122" y="5"/>
                    </a:lnTo>
                    <a:lnTo>
                      <a:pt x="123" y="3"/>
                    </a:lnTo>
                    <a:lnTo>
                      <a:pt x="125" y="2"/>
                    </a:lnTo>
                    <a:lnTo>
                      <a:pt x="128" y="1"/>
                    </a:lnTo>
                    <a:lnTo>
                      <a:pt x="130" y="0"/>
                    </a:lnTo>
                    <a:lnTo>
                      <a:pt x="133" y="0"/>
                    </a:lnTo>
                    <a:lnTo>
                      <a:pt x="136" y="1"/>
                    </a:lnTo>
                    <a:lnTo>
                      <a:pt x="138" y="2"/>
                    </a:lnTo>
                    <a:lnTo>
                      <a:pt x="140" y="3"/>
                    </a:lnTo>
                    <a:lnTo>
                      <a:pt x="142" y="5"/>
                    </a:lnTo>
                    <a:lnTo>
                      <a:pt x="143" y="7"/>
                    </a:lnTo>
                    <a:lnTo>
                      <a:pt x="143" y="9"/>
                    </a:lnTo>
                    <a:lnTo>
                      <a:pt x="152" y="9"/>
                    </a:lnTo>
                    <a:lnTo>
                      <a:pt x="152" y="8"/>
                    </a:lnTo>
                    <a:lnTo>
                      <a:pt x="153" y="6"/>
                    </a:lnTo>
                    <a:lnTo>
                      <a:pt x="155" y="6"/>
                    </a:lnTo>
                    <a:lnTo>
                      <a:pt x="157" y="5"/>
                    </a:lnTo>
                    <a:lnTo>
                      <a:pt x="158" y="6"/>
                    </a:lnTo>
                    <a:lnTo>
                      <a:pt x="160" y="6"/>
                    </a:lnTo>
                    <a:lnTo>
                      <a:pt x="161" y="8"/>
                    </a:lnTo>
                    <a:lnTo>
                      <a:pt x="161" y="9"/>
                    </a:lnTo>
                    <a:lnTo>
                      <a:pt x="168" y="9"/>
                    </a:lnTo>
                    <a:lnTo>
                      <a:pt x="168" y="8"/>
                    </a:lnTo>
                    <a:lnTo>
                      <a:pt x="169" y="6"/>
                    </a:lnTo>
                    <a:lnTo>
                      <a:pt x="171" y="6"/>
                    </a:lnTo>
                    <a:lnTo>
                      <a:pt x="172" y="5"/>
                    </a:lnTo>
                    <a:lnTo>
                      <a:pt x="174" y="6"/>
                    </a:lnTo>
                    <a:lnTo>
                      <a:pt x="176" y="6"/>
                    </a:lnTo>
                    <a:lnTo>
                      <a:pt x="177" y="8"/>
                    </a:lnTo>
                    <a:lnTo>
                      <a:pt x="177" y="9"/>
                    </a:lnTo>
                    <a:lnTo>
                      <a:pt x="185" y="9"/>
                    </a:lnTo>
                    <a:lnTo>
                      <a:pt x="186" y="7"/>
                    </a:lnTo>
                    <a:lnTo>
                      <a:pt x="187" y="6"/>
                    </a:lnTo>
                    <a:lnTo>
                      <a:pt x="188" y="5"/>
                    </a:lnTo>
                    <a:lnTo>
                      <a:pt x="190" y="4"/>
                    </a:lnTo>
                    <a:lnTo>
                      <a:pt x="192" y="4"/>
                    </a:lnTo>
                    <a:lnTo>
                      <a:pt x="194" y="4"/>
                    </a:lnTo>
                    <a:lnTo>
                      <a:pt x="196" y="5"/>
                    </a:lnTo>
                    <a:lnTo>
                      <a:pt x="198" y="6"/>
                    </a:lnTo>
                    <a:lnTo>
                      <a:pt x="198" y="7"/>
                    </a:lnTo>
                    <a:lnTo>
                      <a:pt x="199" y="9"/>
                    </a:lnTo>
                    <a:lnTo>
                      <a:pt x="206" y="9"/>
                    </a:lnTo>
                    <a:lnTo>
                      <a:pt x="206" y="8"/>
                    </a:lnTo>
                    <a:lnTo>
                      <a:pt x="207" y="6"/>
                    </a:lnTo>
                    <a:lnTo>
                      <a:pt x="209" y="6"/>
                    </a:lnTo>
                    <a:lnTo>
                      <a:pt x="211" y="5"/>
                    </a:lnTo>
                    <a:lnTo>
                      <a:pt x="212" y="6"/>
                    </a:lnTo>
                    <a:lnTo>
                      <a:pt x="214" y="6"/>
                    </a:lnTo>
                    <a:lnTo>
                      <a:pt x="215" y="8"/>
                    </a:lnTo>
                    <a:lnTo>
                      <a:pt x="215" y="9"/>
                    </a:lnTo>
                    <a:lnTo>
                      <a:pt x="222" y="9"/>
                    </a:lnTo>
                    <a:lnTo>
                      <a:pt x="223" y="8"/>
                    </a:lnTo>
                    <a:lnTo>
                      <a:pt x="224" y="6"/>
                    </a:lnTo>
                    <a:lnTo>
                      <a:pt x="225" y="6"/>
                    </a:lnTo>
                    <a:lnTo>
                      <a:pt x="227" y="5"/>
                    </a:lnTo>
                    <a:lnTo>
                      <a:pt x="229" y="6"/>
                    </a:lnTo>
                    <a:lnTo>
                      <a:pt x="230" y="6"/>
                    </a:lnTo>
                    <a:lnTo>
                      <a:pt x="231" y="8"/>
                    </a:lnTo>
                    <a:lnTo>
                      <a:pt x="231" y="9"/>
                    </a:lnTo>
                    <a:lnTo>
                      <a:pt x="238" y="9"/>
                    </a:lnTo>
                    <a:lnTo>
                      <a:pt x="238" y="7"/>
                    </a:lnTo>
                    <a:lnTo>
                      <a:pt x="239" y="5"/>
                    </a:lnTo>
                    <a:lnTo>
                      <a:pt x="241" y="4"/>
                    </a:lnTo>
                    <a:lnTo>
                      <a:pt x="243" y="3"/>
                    </a:lnTo>
                    <a:lnTo>
                      <a:pt x="246" y="2"/>
                    </a:lnTo>
                    <a:lnTo>
                      <a:pt x="248" y="2"/>
                    </a:lnTo>
                    <a:lnTo>
                      <a:pt x="250" y="3"/>
                    </a:lnTo>
                    <a:lnTo>
                      <a:pt x="253" y="4"/>
                    </a:lnTo>
                    <a:lnTo>
                      <a:pt x="254" y="5"/>
                    </a:lnTo>
                    <a:lnTo>
                      <a:pt x="255" y="7"/>
                    </a:lnTo>
                    <a:lnTo>
                      <a:pt x="256" y="9"/>
                    </a:lnTo>
                    <a:lnTo>
                      <a:pt x="271" y="9"/>
                    </a:lnTo>
                    <a:lnTo>
                      <a:pt x="271" y="8"/>
                    </a:lnTo>
                    <a:lnTo>
                      <a:pt x="272" y="6"/>
                    </a:lnTo>
                    <a:lnTo>
                      <a:pt x="274" y="6"/>
                    </a:lnTo>
                    <a:lnTo>
                      <a:pt x="275" y="5"/>
                    </a:lnTo>
                    <a:lnTo>
                      <a:pt x="277" y="6"/>
                    </a:lnTo>
                    <a:lnTo>
                      <a:pt x="278" y="6"/>
                    </a:lnTo>
                    <a:lnTo>
                      <a:pt x="279" y="8"/>
                    </a:lnTo>
                    <a:lnTo>
                      <a:pt x="280" y="9"/>
                    </a:lnTo>
                    <a:lnTo>
                      <a:pt x="282" y="9"/>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372" name=""/>
              <p:cNvSpPr/>
              <p:nvPr/>
            </p:nvSpPr>
            <p:spPr>
              <a:xfrm>
                <a:off x="5793840" y="331596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73" name=""/>
              <p:cNvSpPr/>
              <p:nvPr/>
            </p:nvSpPr>
            <p:spPr>
              <a:xfrm>
                <a:off x="5747400" y="3389040"/>
                <a:ext cx="1489320" cy="806760"/>
              </a:xfrm>
              <a:custGeom>
                <a:avLst/>
                <a:gdLst/>
                <a:ahLst/>
                <a:rect l="l" t="t" r="r" b="b"/>
                <a:pathLst>
                  <a:path w="1407" h="604">
                    <a:moveTo>
                      <a:pt x="1407" y="604"/>
                    </a:moveTo>
                    <a:lnTo>
                      <a:pt x="1398" y="604"/>
                    </a:lnTo>
                    <a:lnTo>
                      <a:pt x="1397" y="602"/>
                    </a:lnTo>
                    <a:lnTo>
                      <a:pt x="1396" y="601"/>
                    </a:lnTo>
                    <a:lnTo>
                      <a:pt x="1395" y="601"/>
                    </a:lnTo>
                    <a:lnTo>
                      <a:pt x="1393" y="600"/>
                    </a:lnTo>
                    <a:lnTo>
                      <a:pt x="1391" y="601"/>
                    </a:lnTo>
                    <a:lnTo>
                      <a:pt x="1390" y="601"/>
                    </a:lnTo>
                    <a:lnTo>
                      <a:pt x="1389" y="602"/>
                    </a:lnTo>
                    <a:lnTo>
                      <a:pt x="1389" y="604"/>
                    </a:lnTo>
                    <a:lnTo>
                      <a:pt x="1379" y="604"/>
                    </a:lnTo>
                    <a:lnTo>
                      <a:pt x="1379" y="602"/>
                    </a:lnTo>
                    <a:lnTo>
                      <a:pt x="1378" y="601"/>
                    </a:lnTo>
                    <a:lnTo>
                      <a:pt x="1376" y="601"/>
                    </a:lnTo>
                    <a:lnTo>
                      <a:pt x="1375" y="600"/>
                    </a:lnTo>
                    <a:lnTo>
                      <a:pt x="1373" y="601"/>
                    </a:lnTo>
                    <a:lnTo>
                      <a:pt x="1371" y="601"/>
                    </a:lnTo>
                    <a:lnTo>
                      <a:pt x="1371" y="602"/>
                    </a:lnTo>
                    <a:lnTo>
                      <a:pt x="1370" y="604"/>
                    </a:lnTo>
                    <a:lnTo>
                      <a:pt x="1367" y="604"/>
                    </a:lnTo>
                    <a:lnTo>
                      <a:pt x="1366" y="602"/>
                    </a:lnTo>
                    <a:lnTo>
                      <a:pt x="1366" y="601"/>
                    </a:lnTo>
                    <a:lnTo>
                      <a:pt x="1364" y="601"/>
                    </a:lnTo>
                    <a:lnTo>
                      <a:pt x="1362" y="600"/>
                    </a:lnTo>
                    <a:lnTo>
                      <a:pt x="1361" y="601"/>
                    </a:lnTo>
                    <a:lnTo>
                      <a:pt x="1359" y="601"/>
                    </a:lnTo>
                    <a:lnTo>
                      <a:pt x="1358" y="602"/>
                    </a:lnTo>
                    <a:lnTo>
                      <a:pt x="1358" y="604"/>
                    </a:lnTo>
                    <a:lnTo>
                      <a:pt x="1327" y="604"/>
                    </a:lnTo>
                    <a:lnTo>
                      <a:pt x="1326" y="602"/>
                    </a:lnTo>
                    <a:lnTo>
                      <a:pt x="1326" y="601"/>
                    </a:lnTo>
                    <a:lnTo>
                      <a:pt x="1324" y="601"/>
                    </a:lnTo>
                    <a:lnTo>
                      <a:pt x="1322" y="600"/>
                    </a:lnTo>
                    <a:lnTo>
                      <a:pt x="1321" y="601"/>
                    </a:lnTo>
                    <a:lnTo>
                      <a:pt x="1319" y="601"/>
                    </a:lnTo>
                    <a:lnTo>
                      <a:pt x="1318" y="602"/>
                    </a:lnTo>
                    <a:lnTo>
                      <a:pt x="1318" y="604"/>
                    </a:lnTo>
                    <a:lnTo>
                      <a:pt x="1274" y="604"/>
                    </a:lnTo>
                    <a:lnTo>
                      <a:pt x="1274" y="602"/>
                    </a:lnTo>
                    <a:lnTo>
                      <a:pt x="1273" y="601"/>
                    </a:lnTo>
                    <a:lnTo>
                      <a:pt x="1272" y="601"/>
                    </a:lnTo>
                    <a:lnTo>
                      <a:pt x="1270" y="600"/>
                    </a:lnTo>
                    <a:lnTo>
                      <a:pt x="1268" y="601"/>
                    </a:lnTo>
                    <a:lnTo>
                      <a:pt x="1267" y="601"/>
                    </a:lnTo>
                    <a:lnTo>
                      <a:pt x="1266" y="602"/>
                    </a:lnTo>
                    <a:lnTo>
                      <a:pt x="1265" y="604"/>
                    </a:lnTo>
                    <a:lnTo>
                      <a:pt x="1254" y="604"/>
                    </a:lnTo>
                    <a:lnTo>
                      <a:pt x="1254" y="602"/>
                    </a:lnTo>
                    <a:lnTo>
                      <a:pt x="1253" y="601"/>
                    </a:lnTo>
                    <a:lnTo>
                      <a:pt x="1251" y="601"/>
                    </a:lnTo>
                    <a:lnTo>
                      <a:pt x="1250" y="600"/>
                    </a:lnTo>
                    <a:lnTo>
                      <a:pt x="1248" y="601"/>
                    </a:lnTo>
                    <a:lnTo>
                      <a:pt x="1246" y="601"/>
                    </a:lnTo>
                    <a:lnTo>
                      <a:pt x="1246" y="602"/>
                    </a:lnTo>
                    <a:lnTo>
                      <a:pt x="1245" y="604"/>
                    </a:lnTo>
                    <a:lnTo>
                      <a:pt x="1207" y="604"/>
                    </a:lnTo>
                    <a:lnTo>
                      <a:pt x="1206" y="602"/>
                    </a:lnTo>
                    <a:lnTo>
                      <a:pt x="1206" y="601"/>
                    </a:lnTo>
                    <a:lnTo>
                      <a:pt x="1204" y="601"/>
                    </a:lnTo>
                    <a:lnTo>
                      <a:pt x="1202" y="600"/>
                    </a:lnTo>
                    <a:lnTo>
                      <a:pt x="1201" y="601"/>
                    </a:lnTo>
                    <a:lnTo>
                      <a:pt x="1199" y="601"/>
                    </a:lnTo>
                    <a:lnTo>
                      <a:pt x="1198" y="602"/>
                    </a:lnTo>
                    <a:lnTo>
                      <a:pt x="1198" y="604"/>
                    </a:lnTo>
                    <a:lnTo>
                      <a:pt x="1192" y="604"/>
                    </a:lnTo>
                    <a:lnTo>
                      <a:pt x="1191" y="602"/>
                    </a:lnTo>
                    <a:lnTo>
                      <a:pt x="1190" y="601"/>
                    </a:lnTo>
                    <a:lnTo>
                      <a:pt x="1189" y="601"/>
                    </a:lnTo>
                    <a:lnTo>
                      <a:pt x="1187" y="600"/>
                    </a:lnTo>
                    <a:lnTo>
                      <a:pt x="1185" y="601"/>
                    </a:lnTo>
                    <a:lnTo>
                      <a:pt x="1184" y="601"/>
                    </a:lnTo>
                    <a:lnTo>
                      <a:pt x="1183" y="602"/>
                    </a:lnTo>
                    <a:lnTo>
                      <a:pt x="1183" y="604"/>
                    </a:lnTo>
                    <a:lnTo>
                      <a:pt x="1057" y="604"/>
                    </a:lnTo>
                    <a:lnTo>
                      <a:pt x="1056" y="602"/>
                    </a:lnTo>
                    <a:lnTo>
                      <a:pt x="1055" y="601"/>
                    </a:lnTo>
                    <a:lnTo>
                      <a:pt x="1054" y="601"/>
                    </a:lnTo>
                    <a:lnTo>
                      <a:pt x="1052" y="600"/>
                    </a:lnTo>
                    <a:lnTo>
                      <a:pt x="1050" y="601"/>
                    </a:lnTo>
                    <a:lnTo>
                      <a:pt x="1049" y="601"/>
                    </a:lnTo>
                    <a:lnTo>
                      <a:pt x="1048" y="602"/>
                    </a:lnTo>
                    <a:lnTo>
                      <a:pt x="1048" y="604"/>
                    </a:lnTo>
                    <a:lnTo>
                      <a:pt x="732" y="604"/>
                    </a:lnTo>
                    <a:lnTo>
                      <a:pt x="732" y="602"/>
                    </a:lnTo>
                    <a:lnTo>
                      <a:pt x="731" y="601"/>
                    </a:lnTo>
                    <a:lnTo>
                      <a:pt x="730" y="601"/>
                    </a:lnTo>
                    <a:lnTo>
                      <a:pt x="728" y="600"/>
                    </a:lnTo>
                    <a:lnTo>
                      <a:pt x="726" y="601"/>
                    </a:lnTo>
                    <a:lnTo>
                      <a:pt x="725" y="601"/>
                    </a:lnTo>
                    <a:lnTo>
                      <a:pt x="724" y="602"/>
                    </a:lnTo>
                    <a:lnTo>
                      <a:pt x="723" y="604"/>
                    </a:lnTo>
                    <a:lnTo>
                      <a:pt x="721" y="604"/>
                    </a:lnTo>
                    <a:lnTo>
                      <a:pt x="720" y="602"/>
                    </a:lnTo>
                    <a:lnTo>
                      <a:pt x="719" y="601"/>
                    </a:lnTo>
                    <a:lnTo>
                      <a:pt x="718" y="601"/>
                    </a:lnTo>
                    <a:lnTo>
                      <a:pt x="716" y="600"/>
                    </a:lnTo>
                    <a:lnTo>
                      <a:pt x="714" y="601"/>
                    </a:lnTo>
                    <a:lnTo>
                      <a:pt x="713" y="601"/>
                    </a:lnTo>
                    <a:lnTo>
                      <a:pt x="712" y="602"/>
                    </a:lnTo>
                    <a:lnTo>
                      <a:pt x="712" y="604"/>
                    </a:lnTo>
                    <a:lnTo>
                      <a:pt x="586" y="604"/>
                    </a:lnTo>
                    <a:lnTo>
                      <a:pt x="586" y="208"/>
                    </a:lnTo>
                    <a:lnTo>
                      <a:pt x="579" y="208"/>
                    </a:lnTo>
                    <a:lnTo>
                      <a:pt x="578" y="207"/>
                    </a:lnTo>
                    <a:lnTo>
                      <a:pt x="577" y="206"/>
                    </a:lnTo>
                    <a:lnTo>
                      <a:pt x="576" y="205"/>
                    </a:lnTo>
                    <a:lnTo>
                      <a:pt x="574" y="205"/>
                    </a:lnTo>
                    <a:lnTo>
                      <a:pt x="572" y="205"/>
                    </a:lnTo>
                    <a:lnTo>
                      <a:pt x="571" y="206"/>
                    </a:lnTo>
                    <a:lnTo>
                      <a:pt x="570" y="207"/>
                    </a:lnTo>
                    <a:lnTo>
                      <a:pt x="570" y="208"/>
                    </a:lnTo>
                    <a:lnTo>
                      <a:pt x="519" y="208"/>
                    </a:lnTo>
                    <a:lnTo>
                      <a:pt x="519" y="207"/>
                    </a:lnTo>
                    <a:lnTo>
                      <a:pt x="518" y="206"/>
                    </a:lnTo>
                    <a:lnTo>
                      <a:pt x="516" y="205"/>
                    </a:lnTo>
                    <a:lnTo>
                      <a:pt x="515" y="205"/>
                    </a:lnTo>
                    <a:lnTo>
                      <a:pt x="513" y="205"/>
                    </a:lnTo>
                    <a:lnTo>
                      <a:pt x="512" y="206"/>
                    </a:lnTo>
                    <a:lnTo>
                      <a:pt x="511" y="207"/>
                    </a:lnTo>
                    <a:lnTo>
                      <a:pt x="510" y="208"/>
                    </a:lnTo>
                    <a:lnTo>
                      <a:pt x="444" y="208"/>
                    </a:lnTo>
                    <a:lnTo>
                      <a:pt x="443" y="207"/>
                    </a:lnTo>
                    <a:lnTo>
                      <a:pt x="442" y="206"/>
                    </a:lnTo>
                    <a:lnTo>
                      <a:pt x="441" y="205"/>
                    </a:lnTo>
                    <a:lnTo>
                      <a:pt x="439" y="205"/>
                    </a:lnTo>
                    <a:lnTo>
                      <a:pt x="437" y="205"/>
                    </a:lnTo>
                    <a:lnTo>
                      <a:pt x="436" y="206"/>
                    </a:lnTo>
                    <a:lnTo>
                      <a:pt x="435" y="207"/>
                    </a:lnTo>
                    <a:lnTo>
                      <a:pt x="435" y="208"/>
                    </a:lnTo>
                    <a:lnTo>
                      <a:pt x="355" y="208"/>
                    </a:lnTo>
                    <a:lnTo>
                      <a:pt x="355" y="207"/>
                    </a:lnTo>
                    <a:lnTo>
                      <a:pt x="354" y="206"/>
                    </a:lnTo>
                    <a:lnTo>
                      <a:pt x="352" y="205"/>
                    </a:lnTo>
                    <a:lnTo>
                      <a:pt x="350" y="205"/>
                    </a:lnTo>
                    <a:lnTo>
                      <a:pt x="349" y="205"/>
                    </a:lnTo>
                    <a:lnTo>
                      <a:pt x="347" y="206"/>
                    </a:lnTo>
                    <a:lnTo>
                      <a:pt x="346" y="207"/>
                    </a:lnTo>
                    <a:lnTo>
                      <a:pt x="346" y="208"/>
                    </a:lnTo>
                    <a:lnTo>
                      <a:pt x="300" y="208"/>
                    </a:lnTo>
                    <a:lnTo>
                      <a:pt x="299" y="206"/>
                    </a:lnTo>
                    <a:lnTo>
                      <a:pt x="298" y="204"/>
                    </a:lnTo>
                    <a:lnTo>
                      <a:pt x="297" y="203"/>
                    </a:lnTo>
                    <a:lnTo>
                      <a:pt x="294" y="202"/>
                    </a:lnTo>
                    <a:lnTo>
                      <a:pt x="292" y="201"/>
                    </a:lnTo>
                    <a:lnTo>
                      <a:pt x="290" y="201"/>
                    </a:lnTo>
                    <a:lnTo>
                      <a:pt x="287" y="202"/>
                    </a:lnTo>
                    <a:lnTo>
                      <a:pt x="285" y="203"/>
                    </a:lnTo>
                    <a:lnTo>
                      <a:pt x="283" y="204"/>
                    </a:lnTo>
                    <a:lnTo>
                      <a:pt x="282" y="206"/>
                    </a:lnTo>
                    <a:lnTo>
                      <a:pt x="282" y="208"/>
                    </a:lnTo>
                    <a:lnTo>
                      <a:pt x="275" y="208"/>
                    </a:lnTo>
                    <a:lnTo>
                      <a:pt x="275" y="207"/>
                    </a:lnTo>
                    <a:lnTo>
                      <a:pt x="274" y="206"/>
                    </a:lnTo>
                    <a:lnTo>
                      <a:pt x="273" y="205"/>
                    </a:lnTo>
                    <a:lnTo>
                      <a:pt x="271" y="205"/>
                    </a:lnTo>
                    <a:lnTo>
                      <a:pt x="269" y="205"/>
                    </a:lnTo>
                    <a:lnTo>
                      <a:pt x="268" y="206"/>
                    </a:lnTo>
                    <a:lnTo>
                      <a:pt x="267" y="207"/>
                    </a:lnTo>
                    <a:lnTo>
                      <a:pt x="266" y="208"/>
                    </a:lnTo>
                    <a:lnTo>
                      <a:pt x="259" y="208"/>
                    </a:lnTo>
                    <a:lnTo>
                      <a:pt x="259" y="207"/>
                    </a:lnTo>
                    <a:lnTo>
                      <a:pt x="258" y="206"/>
                    </a:lnTo>
                    <a:lnTo>
                      <a:pt x="256" y="205"/>
                    </a:lnTo>
                    <a:lnTo>
                      <a:pt x="255" y="205"/>
                    </a:lnTo>
                    <a:lnTo>
                      <a:pt x="253" y="205"/>
                    </a:lnTo>
                    <a:lnTo>
                      <a:pt x="251" y="206"/>
                    </a:lnTo>
                    <a:lnTo>
                      <a:pt x="250" y="207"/>
                    </a:lnTo>
                    <a:lnTo>
                      <a:pt x="250" y="208"/>
                    </a:lnTo>
                    <a:lnTo>
                      <a:pt x="238" y="208"/>
                    </a:lnTo>
                    <a:lnTo>
                      <a:pt x="238" y="207"/>
                    </a:lnTo>
                    <a:lnTo>
                      <a:pt x="237" y="206"/>
                    </a:lnTo>
                    <a:lnTo>
                      <a:pt x="236" y="205"/>
                    </a:lnTo>
                    <a:lnTo>
                      <a:pt x="234" y="205"/>
                    </a:lnTo>
                    <a:lnTo>
                      <a:pt x="232" y="205"/>
                    </a:lnTo>
                    <a:lnTo>
                      <a:pt x="231" y="206"/>
                    </a:lnTo>
                    <a:lnTo>
                      <a:pt x="230" y="207"/>
                    </a:lnTo>
                    <a:lnTo>
                      <a:pt x="229" y="208"/>
                    </a:lnTo>
                    <a:lnTo>
                      <a:pt x="228" y="208"/>
                    </a:lnTo>
                    <a:lnTo>
                      <a:pt x="227" y="207"/>
                    </a:lnTo>
                    <a:lnTo>
                      <a:pt x="226" y="206"/>
                    </a:lnTo>
                    <a:lnTo>
                      <a:pt x="225" y="205"/>
                    </a:lnTo>
                    <a:lnTo>
                      <a:pt x="223" y="205"/>
                    </a:lnTo>
                    <a:lnTo>
                      <a:pt x="221" y="205"/>
                    </a:lnTo>
                    <a:lnTo>
                      <a:pt x="220" y="206"/>
                    </a:lnTo>
                    <a:lnTo>
                      <a:pt x="219" y="207"/>
                    </a:lnTo>
                    <a:lnTo>
                      <a:pt x="219" y="208"/>
                    </a:lnTo>
                    <a:lnTo>
                      <a:pt x="214" y="208"/>
                    </a:lnTo>
                    <a:lnTo>
                      <a:pt x="214" y="207"/>
                    </a:lnTo>
                    <a:lnTo>
                      <a:pt x="213" y="206"/>
                    </a:lnTo>
                    <a:lnTo>
                      <a:pt x="211" y="205"/>
                    </a:lnTo>
                    <a:lnTo>
                      <a:pt x="210" y="205"/>
                    </a:lnTo>
                    <a:lnTo>
                      <a:pt x="208" y="205"/>
                    </a:lnTo>
                    <a:lnTo>
                      <a:pt x="206" y="206"/>
                    </a:lnTo>
                    <a:lnTo>
                      <a:pt x="205" y="207"/>
                    </a:lnTo>
                    <a:lnTo>
                      <a:pt x="205" y="208"/>
                    </a:lnTo>
                    <a:lnTo>
                      <a:pt x="205" y="208"/>
                    </a:lnTo>
                    <a:lnTo>
                      <a:pt x="205" y="207"/>
                    </a:lnTo>
                    <a:lnTo>
                      <a:pt x="204" y="206"/>
                    </a:lnTo>
                    <a:lnTo>
                      <a:pt x="202" y="205"/>
                    </a:lnTo>
                    <a:lnTo>
                      <a:pt x="201" y="205"/>
                    </a:lnTo>
                    <a:lnTo>
                      <a:pt x="199" y="205"/>
                    </a:lnTo>
                    <a:lnTo>
                      <a:pt x="197" y="206"/>
                    </a:lnTo>
                    <a:lnTo>
                      <a:pt x="196" y="207"/>
                    </a:lnTo>
                    <a:lnTo>
                      <a:pt x="196" y="208"/>
                    </a:lnTo>
                    <a:lnTo>
                      <a:pt x="187" y="208"/>
                    </a:lnTo>
                    <a:lnTo>
                      <a:pt x="187" y="207"/>
                    </a:lnTo>
                    <a:lnTo>
                      <a:pt x="186" y="206"/>
                    </a:lnTo>
                    <a:lnTo>
                      <a:pt x="184" y="205"/>
                    </a:lnTo>
                    <a:lnTo>
                      <a:pt x="183" y="205"/>
                    </a:lnTo>
                    <a:lnTo>
                      <a:pt x="181" y="205"/>
                    </a:lnTo>
                    <a:lnTo>
                      <a:pt x="179" y="206"/>
                    </a:lnTo>
                    <a:lnTo>
                      <a:pt x="178" y="207"/>
                    </a:lnTo>
                    <a:lnTo>
                      <a:pt x="178" y="208"/>
                    </a:lnTo>
                    <a:lnTo>
                      <a:pt x="150" y="208"/>
                    </a:lnTo>
                    <a:lnTo>
                      <a:pt x="150" y="7"/>
                    </a:lnTo>
                    <a:lnTo>
                      <a:pt x="130" y="7"/>
                    </a:lnTo>
                    <a:lnTo>
                      <a:pt x="129" y="5"/>
                    </a:lnTo>
                    <a:lnTo>
                      <a:pt x="128" y="4"/>
                    </a:lnTo>
                    <a:lnTo>
                      <a:pt x="127" y="4"/>
                    </a:lnTo>
                    <a:lnTo>
                      <a:pt x="125" y="3"/>
                    </a:lnTo>
                    <a:lnTo>
                      <a:pt x="123" y="4"/>
                    </a:lnTo>
                    <a:lnTo>
                      <a:pt x="122" y="4"/>
                    </a:lnTo>
                    <a:lnTo>
                      <a:pt x="121" y="5"/>
                    </a:lnTo>
                    <a:lnTo>
                      <a:pt x="121" y="7"/>
                    </a:lnTo>
                    <a:lnTo>
                      <a:pt x="110" y="7"/>
                    </a:lnTo>
                    <a:lnTo>
                      <a:pt x="109" y="5"/>
                    </a:lnTo>
                    <a:lnTo>
                      <a:pt x="108" y="3"/>
                    </a:lnTo>
                    <a:lnTo>
                      <a:pt x="107" y="2"/>
                    </a:lnTo>
                    <a:lnTo>
                      <a:pt x="105" y="1"/>
                    </a:lnTo>
                    <a:lnTo>
                      <a:pt x="103" y="0"/>
                    </a:lnTo>
                    <a:lnTo>
                      <a:pt x="101" y="0"/>
                    </a:lnTo>
                    <a:lnTo>
                      <a:pt x="99" y="0"/>
                    </a:lnTo>
                    <a:lnTo>
                      <a:pt x="96" y="1"/>
                    </a:lnTo>
                    <a:lnTo>
                      <a:pt x="94" y="2"/>
                    </a:lnTo>
                    <a:lnTo>
                      <a:pt x="93" y="3"/>
                    </a:lnTo>
                    <a:lnTo>
                      <a:pt x="92" y="5"/>
                    </a:lnTo>
                    <a:lnTo>
                      <a:pt x="92" y="7"/>
                    </a:lnTo>
                    <a:lnTo>
                      <a:pt x="88" y="7"/>
                    </a:lnTo>
                    <a:lnTo>
                      <a:pt x="87" y="5"/>
                    </a:lnTo>
                    <a:lnTo>
                      <a:pt x="87" y="4"/>
                    </a:lnTo>
                    <a:lnTo>
                      <a:pt x="85" y="4"/>
                    </a:lnTo>
                    <a:lnTo>
                      <a:pt x="83" y="3"/>
                    </a:lnTo>
                    <a:lnTo>
                      <a:pt x="82" y="4"/>
                    </a:lnTo>
                    <a:lnTo>
                      <a:pt x="80" y="4"/>
                    </a:lnTo>
                    <a:lnTo>
                      <a:pt x="79" y="5"/>
                    </a:lnTo>
                    <a:lnTo>
                      <a:pt x="79" y="7"/>
                    </a:lnTo>
                    <a:lnTo>
                      <a:pt x="77" y="7"/>
                    </a:lnTo>
                    <a:lnTo>
                      <a:pt x="77" y="5"/>
                    </a:lnTo>
                    <a:lnTo>
                      <a:pt x="76" y="4"/>
                    </a:lnTo>
                    <a:lnTo>
                      <a:pt x="74" y="4"/>
                    </a:lnTo>
                    <a:lnTo>
                      <a:pt x="73" y="3"/>
                    </a:lnTo>
                    <a:lnTo>
                      <a:pt x="71" y="4"/>
                    </a:lnTo>
                    <a:lnTo>
                      <a:pt x="70" y="4"/>
                    </a:lnTo>
                    <a:lnTo>
                      <a:pt x="69" y="5"/>
                    </a:lnTo>
                    <a:lnTo>
                      <a:pt x="68" y="7"/>
                    </a:lnTo>
                    <a:lnTo>
                      <a:pt x="66" y="7"/>
                    </a:lnTo>
                    <a:lnTo>
                      <a:pt x="66" y="5"/>
                    </a:lnTo>
                    <a:lnTo>
                      <a:pt x="65" y="4"/>
                    </a:lnTo>
                    <a:lnTo>
                      <a:pt x="63" y="3"/>
                    </a:lnTo>
                    <a:lnTo>
                      <a:pt x="62" y="2"/>
                    </a:lnTo>
                    <a:lnTo>
                      <a:pt x="59" y="2"/>
                    </a:lnTo>
                    <a:lnTo>
                      <a:pt x="58" y="2"/>
                    </a:lnTo>
                    <a:lnTo>
                      <a:pt x="56" y="3"/>
                    </a:lnTo>
                    <a:lnTo>
                      <a:pt x="54" y="4"/>
                    </a:lnTo>
                    <a:lnTo>
                      <a:pt x="53" y="5"/>
                    </a:lnTo>
                    <a:lnTo>
                      <a:pt x="53" y="7"/>
                    </a:lnTo>
                    <a:lnTo>
                      <a:pt x="0" y="7"/>
                    </a:lnTo>
                    <a:lnTo>
                      <a:pt x="0"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7234920" y="4189320"/>
                <a:ext cx="13680" cy="11520"/>
              </a:xfrm>
              <a:custGeom>
                <a:avLst/>
                <a:gdLst/>
                <a:ahLst/>
                <a:rect l="l" t="t" r="r" b="b"/>
                <a:pathLst>
                  <a:path w="13" h="9">
                    <a:moveTo>
                      <a:pt x="2" y="0"/>
                    </a:moveTo>
                    <a:lnTo>
                      <a:pt x="13"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5" name=""/>
              <p:cNvSpPr/>
              <p:nvPr/>
            </p:nvSpPr>
            <p:spPr>
              <a:xfrm>
                <a:off x="5740920" y="3384000"/>
                <a:ext cx="12240" cy="14400"/>
              </a:xfrm>
              <a:custGeom>
                <a:avLst/>
                <a:gdLst/>
                <a:ahLst/>
                <a:rect l="l" t="t" r="r" b="b"/>
                <a:pathLst>
                  <a:path w="12" h="11">
                    <a:moveTo>
                      <a:pt x="0" y="9"/>
                    </a:moveTo>
                    <a:lnTo>
                      <a:pt x="6" y="0"/>
                    </a:lnTo>
                    <a:lnTo>
                      <a:pt x="12" y="9"/>
                    </a:lnTo>
                    <a:lnTo>
                      <a:pt x="9" y="10"/>
                    </a:lnTo>
                    <a:lnTo>
                      <a:pt x="6" y="11"/>
                    </a:lnTo>
                    <a:lnTo>
                      <a:pt x="3" y="1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76" name=""/>
              <p:cNvSpPr/>
              <p:nvPr/>
            </p:nvSpPr>
            <p:spPr>
              <a:xfrm>
                <a:off x="5768280" y="2899080"/>
                <a:ext cx="804600" cy="379080"/>
              </a:xfrm>
              <a:custGeom>
                <a:avLst/>
                <a:gdLst/>
                <a:ahLst/>
                <a:rect l="l" t="t" r="r" b="b"/>
                <a:pathLst>
                  <a:path w="760" h="284">
                    <a:moveTo>
                      <a:pt x="0" y="284"/>
                    </a:moveTo>
                    <a:lnTo>
                      <a:pt x="0" y="274"/>
                    </a:lnTo>
                    <a:lnTo>
                      <a:pt x="38" y="274"/>
                    </a:lnTo>
                    <a:lnTo>
                      <a:pt x="38" y="127"/>
                    </a:lnTo>
                    <a:lnTo>
                      <a:pt x="48" y="127"/>
                    </a:lnTo>
                    <a:lnTo>
                      <a:pt x="49" y="125"/>
                    </a:lnTo>
                    <a:lnTo>
                      <a:pt x="50" y="124"/>
                    </a:lnTo>
                    <a:lnTo>
                      <a:pt x="51" y="124"/>
                    </a:lnTo>
                    <a:lnTo>
                      <a:pt x="53" y="123"/>
                    </a:lnTo>
                    <a:lnTo>
                      <a:pt x="54" y="124"/>
                    </a:lnTo>
                    <a:lnTo>
                      <a:pt x="56" y="124"/>
                    </a:lnTo>
                    <a:lnTo>
                      <a:pt x="57" y="125"/>
                    </a:lnTo>
                    <a:lnTo>
                      <a:pt x="57" y="127"/>
                    </a:lnTo>
                    <a:lnTo>
                      <a:pt x="81" y="127"/>
                    </a:lnTo>
                    <a:lnTo>
                      <a:pt x="81" y="125"/>
                    </a:lnTo>
                    <a:lnTo>
                      <a:pt x="82" y="124"/>
                    </a:lnTo>
                    <a:lnTo>
                      <a:pt x="84" y="124"/>
                    </a:lnTo>
                    <a:lnTo>
                      <a:pt x="85" y="123"/>
                    </a:lnTo>
                    <a:lnTo>
                      <a:pt x="87" y="124"/>
                    </a:lnTo>
                    <a:lnTo>
                      <a:pt x="88" y="124"/>
                    </a:lnTo>
                    <a:lnTo>
                      <a:pt x="89" y="125"/>
                    </a:lnTo>
                    <a:lnTo>
                      <a:pt x="90" y="127"/>
                    </a:lnTo>
                    <a:lnTo>
                      <a:pt x="101" y="127"/>
                    </a:lnTo>
                    <a:lnTo>
                      <a:pt x="101" y="125"/>
                    </a:lnTo>
                    <a:lnTo>
                      <a:pt x="102" y="124"/>
                    </a:lnTo>
                    <a:lnTo>
                      <a:pt x="103" y="124"/>
                    </a:lnTo>
                    <a:lnTo>
                      <a:pt x="105" y="123"/>
                    </a:lnTo>
                    <a:lnTo>
                      <a:pt x="107" y="124"/>
                    </a:lnTo>
                    <a:lnTo>
                      <a:pt x="108" y="124"/>
                    </a:lnTo>
                    <a:lnTo>
                      <a:pt x="109" y="125"/>
                    </a:lnTo>
                    <a:lnTo>
                      <a:pt x="110" y="127"/>
                    </a:lnTo>
                    <a:lnTo>
                      <a:pt x="145" y="127"/>
                    </a:lnTo>
                    <a:lnTo>
                      <a:pt x="145" y="125"/>
                    </a:lnTo>
                    <a:lnTo>
                      <a:pt x="146" y="123"/>
                    </a:lnTo>
                    <a:lnTo>
                      <a:pt x="147" y="122"/>
                    </a:lnTo>
                    <a:lnTo>
                      <a:pt x="150" y="121"/>
                    </a:lnTo>
                    <a:lnTo>
                      <a:pt x="152" y="120"/>
                    </a:lnTo>
                    <a:lnTo>
                      <a:pt x="154" y="120"/>
                    </a:lnTo>
                    <a:lnTo>
                      <a:pt x="157" y="121"/>
                    </a:lnTo>
                    <a:lnTo>
                      <a:pt x="159" y="122"/>
                    </a:lnTo>
                    <a:lnTo>
                      <a:pt x="160" y="123"/>
                    </a:lnTo>
                    <a:lnTo>
                      <a:pt x="161" y="125"/>
                    </a:lnTo>
                    <a:lnTo>
                      <a:pt x="162" y="127"/>
                    </a:lnTo>
                    <a:lnTo>
                      <a:pt x="176" y="127"/>
                    </a:lnTo>
                    <a:lnTo>
                      <a:pt x="176" y="125"/>
                    </a:lnTo>
                    <a:lnTo>
                      <a:pt x="177" y="124"/>
                    </a:lnTo>
                    <a:lnTo>
                      <a:pt x="179" y="124"/>
                    </a:lnTo>
                    <a:lnTo>
                      <a:pt x="181" y="123"/>
                    </a:lnTo>
                    <a:lnTo>
                      <a:pt x="182" y="124"/>
                    </a:lnTo>
                    <a:lnTo>
                      <a:pt x="184" y="124"/>
                    </a:lnTo>
                    <a:lnTo>
                      <a:pt x="185" y="125"/>
                    </a:lnTo>
                    <a:lnTo>
                      <a:pt x="185" y="127"/>
                    </a:lnTo>
                    <a:lnTo>
                      <a:pt x="192" y="127"/>
                    </a:lnTo>
                    <a:lnTo>
                      <a:pt x="192" y="125"/>
                    </a:lnTo>
                    <a:lnTo>
                      <a:pt x="193" y="124"/>
                    </a:lnTo>
                    <a:lnTo>
                      <a:pt x="195" y="124"/>
                    </a:lnTo>
                    <a:lnTo>
                      <a:pt x="196" y="123"/>
                    </a:lnTo>
                    <a:lnTo>
                      <a:pt x="198" y="124"/>
                    </a:lnTo>
                    <a:lnTo>
                      <a:pt x="200" y="124"/>
                    </a:lnTo>
                    <a:lnTo>
                      <a:pt x="201" y="125"/>
                    </a:lnTo>
                    <a:lnTo>
                      <a:pt x="201" y="127"/>
                    </a:lnTo>
                    <a:lnTo>
                      <a:pt x="209" y="127"/>
                    </a:lnTo>
                    <a:lnTo>
                      <a:pt x="210" y="125"/>
                    </a:lnTo>
                    <a:lnTo>
                      <a:pt x="211" y="124"/>
                    </a:lnTo>
                    <a:lnTo>
                      <a:pt x="212" y="122"/>
                    </a:lnTo>
                    <a:lnTo>
                      <a:pt x="214" y="122"/>
                    </a:lnTo>
                    <a:lnTo>
                      <a:pt x="216" y="121"/>
                    </a:lnTo>
                    <a:lnTo>
                      <a:pt x="218" y="122"/>
                    </a:lnTo>
                    <a:lnTo>
                      <a:pt x="220" y="122"/>
                    </a:lnTo>
                    <a:lnTo>
                      <a:pt x="222" y="124"/>
                    </a:lnTo>
                    <a:lnTo>
                      <a:pt x="222" y="125"/>
                    </a:lnTo>
                    <a:lnTo>
                      <a:pt x="223" y="127"/>
                    </a:lnTo>
                    <a:lnTo>
                      <a:pt x="246" y="127"/>
                    </a:lnTo>
                    <a:lnTo>
                      <a:pt x="247" y="125"/>
                    </a:lnTo>
                    <a:lnTo>
                      <a:pt x="248" y="124"/>
                    </a:lnTo>
                    <a:lnTo>
                      <a:pt x="249" y="124"/>
                    </a:lnTo>
                    <a:lnTo>
                      <a:pt x="251" y="123"/>
                    </a:lnTo>
                    <a:lnTo>
                      <a:pt x="253" y="124"/>
                    </a:lnTo>
                    <a:lnTo>
                      <a:pt x="254" y="124"/>
                    </a:lnTo>
                    <a:lnTo>
                      <a:pt x="255" y="125"/>
                    </a:lnTo>
                    <a:lnTo>
                      <a:pt x="255" y="127"/>
                    </a:lnTo>
                    <a:lnTo>
                      <a:pt x="262" y="127"/>
                    </a:lnTo>
                    <a:lnTo>
                      <a:pt x="262" y="125"/>
                    </a:lnTo>
                    <a:lnTo>
                      <a:pt x="263" y="123"/>
                    </a:lnTo>
                    <a:lnTo>
                      <a:pt x="265" y="122"/>
                    </a:lnTo>
                    <a:lnTo>
                      <a:pt x="267" y="120"/>
                    </a:lnTo>
                    <a:lnTo>
                      <a:pt x="270" y="120"/>
                    </a:lnTo>
                    <a:lnTo>
                      <a:pt x="272" y="120"/>
                    </a:lnTo>
                    <a:lnTo>
                      <a:pt x="274" y="120"/>
                    </a:lnTo>
                    <a:lnTo>
                      <a:pt x="277" y="122"/>
                    </a:lnTo>
                    <a:lnTo>
                      <a:pt x="278" y="123"/>
                    </a:lnTo>
                    <a:lnTo>
                      <a:pt x="279" y="125"/>
                    </a:lnTo>
                    <a:lnTo>
                      <a:pt x="280" y="127"/>
                    </a:lnTo>
                    <a:lnTo>
                      <a:pt x="322" y="127"/>
                    </a:lnTo>
                    <a:lnTo>
                      <a:pt x="322" y="10"/>
                    </a:lnTo>
                    <a:lnTo>
                      <a:pt x="332" y="10"/>
                    </a:lnTo>
                    <a:lnTo>
                      <a:pt x="332" y="9"/>
                    </a:lnTo>
                    <a:lnTo>
                      <a:pt x="333" y="8"/>
                    </a:lnTo>
                    <a:lnTo>
                      <a:pt x="335" y="7"/>
                    </a:lnTo>
                    <a:lnTo>
                      <a:pt x="336" y="7"/>
                    </a:lnTo>
                    <a:lnTo>
                      <a:pt x="338" y="7"/>
                    </a:lnTo>
                    <a:lnTo>
                      <a:pt x="339" y="8"/>
                    </a:lnTo>
                    <a:lnTo>
                      <a:pt x="340" y="9"/>
                    </a:lnTo>
                    <a:lnTo>
                      <a:pt x="341" y="10"/>
                    </a:lnTo>
                    <a:lnTo>
                      <a:pt x="351" y="10"/>
                    </a:lnTo>
                    <a:lnTo>
                      <a:pt x="351" y="9"/>
                    </a:lnTo>
                    <a:lnTo>
                      <a:pt x="352" y="8"/>
                    </a:lnTo>
                    <a:lnTo>
                      <a:pt x="353" y="7"/>
                    </a:lnTo>
                    <a:lnTo>
                      <a:pt x="355" y="7"/>
                    </a:lnTo>
                    <a:lnTo>
                      <a:pt x="357" y="7"/>
                    </a:lnTo>
                    <a:lnTo>
                      <a:pt x="358" y="8"/>
                    </a:lnTo>
                    <a:lnTo>
                      <a:pt x="359" y="9"/>
                    </a:lnTo>
                    <a:lnTo>
                      <a:pt x="359" y="10"/>
                    </a:lnTo>
                    <a:lnTo>
                      <a:pt x="364" y="10"/>
                    </a:lnTo>
                    <a:lnTo>
                      <a:pt x="364" y="9"/>
                    </a:lnTo>
                    <a:lnTo>
                      <a:pt x="365" y="8"/>
                    </a:lnTo>
                    <a:lnTo>
                      <a:pt x="367" y="7"/>
                    </a:lnTo>
                    <a:lnTo>
                      <a:pt x="369" y="7"/>
                    </a:lnTo>
                    <a:lnTo>
                      <a:pt x="370" y="7"/>
                    </a:lnTo>
                    <a:lnTo>
                      <a:pt x="372" y="8"/>
                    </a:lnTo>
                    <a:lnTo>
                      <a:pt x="373" y="9"/>
                    </a:lnTo>
                    <a:lnTo>
                      <a:pt x="373" y="10"/>
                    </a:lnTo>
                    <a:lnTo>
                      <a:pt x="388" y="10"/>
                    </a:lnTo>
                    <a:lnTo>
                      <a:pt x="388" y="8"/>
                    </a:lnTo>
                    <a:lnTo>
                      <a:pt x="389" y="7"/>
                    </a:lnTo>
                    <a:lnTo>
                      <a:pt x="390" y="5"/>
                    </a:lnTo>
                    <a:lnTo>
                      <a:pt x="392" y="4"/>
                    </a:lnTo>
                    <a:lnTo>
                      <a:pt x="394" y="4"/>
                    </a:lnTo>
                    <a:lnTo>
                      <a:pt x="396" y="4"/>
                    </a:lnTo>
                    <a:lnTo>
                      <a:pt x="399" y="4"/>
                    </a:lnTo>
                    <a:lnTo>
                      <a:pt x="401" y="5"/>
                    </a:lnTo>
                    <a:lnTo>
                      <a:pt x="402" y="7"/>
                    </a:lnTo>
                    <a:lnTo>
                      <a:pt x="403" y="8"/>
                    </a:lnTo>
                    <a:lnTo>
                      <a:pt x="403" y="10"/>
                    </a:lnTo>
                    <a:lnTo>
                      <a:pt x="408" y="10"/>
                    </a:lnTo>
                    <a:lnTo>
                      <a:pt x="408" y="9"/>
                    </a:lnTo>
                    <a:lnTo>
                      <a:pt x="409" y="8"/>
                    </a:lnTo>
                    <a:lnTo>
                      <a:pt x="411" y="7"/>
                    </a:lnTo>
                    <a:lnTo>
                      <a:pt x="412" y="7"/>
                    </a:lnTo>
                    <a:lnTo>
                      <a:pt x="414" y="7"/>
                    </a:lnTo>
                    <a:lnTo>
                      <a:pt x="416" y="8"/>
                    </a:lnTo>
                    <a:lnTo>
                      <a:pt x="416" y="9"/>
                    </a:lnTo>
                    <a:lnTo>
                      <a:pt x="417" y="10"/>
                    </a:lnTo>
                    <a:lnTo>
                      <a:pt x="425" y="10"/>
                    </a:lnTo>
                    <a:lnTo>
                      <a:pt x="425" y="9"/>
                    </a:lnTo>
                    <a:lnTo>
                      <a:pt x="426" y="8"/>
                    </a:lnTo>
                    <a:lnTo>
                      <a:pt x="428" y="7"/>
                    </a:lnTo>
                    <a:lnTo>
                      <a:pt x="429" y="7"/>
                    </a:lnTo>
                    <a:lnTo>
                      <a:pt x="431" y="7"/>
                    </a:lnTo>
                    <a:lnTo>
                      <a:pt x="433" y="8"/>
                    </a:lnTo>
                    <a:lnTo>
                      <a:pt x="433" y="9"/>
                    </a:lnTo>
                    <a:lnTo>
                      <a:pt x="434" y="10"/>
                    </a:lnTo>
                    <a:lnTo>
                      <a:pt x="442" y="10"/>
                    </a:lnTo>
                    <a:lnTo>
                      <a:pt x="442" y="9"/>
                    </a:lnTo>
                    <a:lnTo>
                      <a:pt x="443" y="8"/>
                    </a:lnTo>
                    <a:lnTo>
                      <a:pt x="444" y="7"/>
                    </a:lnTo>
                    <a:lnTo>
                      <a:pt x="446" y="7"/>
                    </a:lnTo>
                    <a:lnTo>
                      <a:pt x="448" y="7"/>
                    </a:lnTo>
                    <a:lnTo>
                      <a:pt x="449" y="8"/>
                    </a:lnTo>
                    <a:lnTo>
                      <a:pt x="450" y="9"/>
                    </a:lnTo>
                    <a:lnTo>
                      <a:pt x="451" y="10"/>
                    </a:lnTo>
                    <a:lnTo>
                      <a:pt x="465" y="10"/>
                    </a:lnTo>
                    <a:lnTo>
                      <a:pt x="465" y="8"/>
                    </a:lnTo>
                    <a:lnTo>
                      <a:pt x="466" y="7"/>
                    </a:lnTo>
                    <a:lnTo>
                      <a:pt x="467" y="5"/>
                    </a:lnTo>
                    <a:lnTo>
                      <a:pt x="469" y="4"/>
                    </a:lnTo>
                    <a:lnTo>
                      <a:pt x="472" y="4"/>
                    </a:lnTo>
                    <a:lnTo>
                      <a:pt x="474" y="4"/>
                    </a:lnTo>
                    <a:lnTo>
                      <a:pt x="476" y="4"/>
                    </a:lnTo>
                    <a:lnTo>
                      <a:pt x="478" y="5"/>
                    </a:lnTo>
                    <a:lnTo>
                      <a:pt x="479" y="7"/>
                    </a:lnTo>
                    <a:lnTo>
                      <a:pt x="480" y="8"/>
                    </a:lnTo>
                    <a:lnTo>
                      <a:pt x="480" y="10"/>
                    </a:lnTo>
                    <a:lnTo>
                      <a:pt x="509" y="10"/>
                    </a:lnTo>
                    <a:lnTo>
                      <a:pt x="510" y="9"/>
                    </a:lnTo>
                    <a:lnTo>
                      <a:pt x="511" y="8"/>
                    </a:lnTo>
                    <a:lnTo>
                      <a:pt x="512" y="7"/>
                    </a:lnTo>
                    <a:lnTo>
                      <a:pt x="514" y="7"/>
                    </a:lnTo>
                    <a:lnTo>
                      <a:pt x="515" y="7"/>
                    </a:lnTo>
                    <a:lnTo>
                      <a:pt x="517" y="8"/>
                    </a:lnTo>
                    <a:lnTo>
                      <a:pt x="518" y="9"/>
                    </a:lnTo>
                    <a:lnTo>
                      <a:pt x="518" y="10"/>
                    </a:lnTo>
                    <a:lnTo>
                      <a:pt x="567" y="10"/>
                    </a:lnTo>
                    <a:lnTo>
                      <a:pt x="567" y="8"/>
                    </a:lnTo>
                    <a:lnTo>
                      <a:pt x="568" y="7"/>
                    </a:lnTo>
                    <a:lnTo>
                      <a:pt x="569" y="6"/>
                    </a:lnTo>
                    <a:lnTo>
                      <a:pt x="571" y="5"/>
                    </a:lnTo>
                    <a:lnTo>
                      <a:pt x="573" y="5"/>
                    </a:lnTo>
                    <a:lnTo>
                      <a:pt x="575" y="5"/>
                    </a:lnTo>
                    <a:lnTo>
                      <a:pt x="577" y="6"/>
                    </a:lnTo>
                    <a:lnTo>
                      <a:pt x="579" y="7"/>
                    </a:lnTo>
                    <a:lnTo>
                      <a:pt x="580" y="8"/>
                    </a:lnTo>
                    <a:lnTo>
                      <a:pt x="580" y="10"/>
                    </a:lnTo>
                    <a:lnTo>
                      <a:pt x="587" y="10"/>
                    </a:lnTo>
                    <a:lnTo>
                      <a:pt x="587" y="9"/>
                    </a:lnTo>
                    <a:lnTo>
                      <a:pt x="588" y="8"/>
                    </a:lnTo>
                    <a:lnTo>
                      <a:pt x="590" y="7"/>
                    </a:lnTo>
                    <a:lnTo>
                      <a:pt x="591" y="7"/>
                    </a:lnTo>
                    <a:lnTo>
                      <a:pt x="593" y="7"/>
                    </a:lnTo>
                    <a:lnTo>
                      <a:pt x="595" y="8"/>
                    </a:lnTo>
                    <a:lnTo>
                      <a:pt x="596" y="9"/>
                    </a:lnTo>
                    <a:lnTo>
                      <a:pt x="596" y="10"/>
                    </a:lnTo>
                    <a:lnTo>
                      <a:pt x="607" y="10"/>
                    </a:lnTo>
                    <a:lnTo>
                      <a:pt x="608" y="9"/>
                    </a:lnTo>
                    <a:lnTo>
                      <a:pt x="608" y="8"/>
                    </a:lnTo>
                    <a:lnTo>
                      <a:pt x="610" y="7"/>
                    </a:lnTo>
                    <a:lnTo>
                      <a:pt x="612" y="7"/>
                    </a:lnTo>
                    <a:lnTo>
                      <a:pt x="613" y="7"/>
                    </a:lnTo>
                    <a:lnTo>
                      <a:pt x="615" y="8"/>
                    </a:lnTo>
                    <a:lnTo>
                      <a:pt x="616" y="9"/>
                    </a:lnTo>
                    <a:lnTo>
                      <a:pt x="616" y="10"/>
                    </a:lnTo>
                    <a:lnTo>
                      <a:pt x="631" y="10"/>
                    </a:lnTo>
                    <a:lnTo>
                      <a:pt x="631" y="9"/>
                    </a:lnTo>
                    <a:lnTo>
                      <a:pt x="632" y="8"/>
                    </a:lnTo>
                    <a:lnTo>
                      <a:pt x="634" y="7"/>
                    </a:lnTo>
                    <a:lnTo>
                      <a:pt x="635" y="7"/>
                    </a:lnTo>
                    <a:lnTo>
                      <a:pt x="637" y="7"/>
                    </a:lnTo>
                    <a:lnTo>
                      <a:pt x="638" y="8"/>
                    </a:lnTo>
                    <a:lnTo>
                      <a:pt x="639" y="9"/>
                    </a:lnTo>
                    <a:lnTo>
                      <a:pt x="640" y="10"/>
                    </a:lnTo>
                    <a:lnTo>
                      <a:pt x="651" y="10"/>
                    </a:lnTo>
                    <a:lnTo>
                      <a:pt x="651" y="3"/>
                    </a:lnTo>
                    <a:lnTo>
                      <a:pt x="652" y="3"/>
                    </a:lnTo>
                    <a:lnTo>
                      <a:pt x="653" y="2"/>
                    </a:lnTo>
                    <a:lnTo>
                      <a:pt x="654" y="1"/>
                    </a:lnTo>
                    <a:lnTo>
                      <a:pt x="655" y="0"/>
                    </a:lnTo>
                    <a:lnTo>
                      <a:pt x="657" y="0"/>
                    </a:lnTo>
                    <a:lnTo>
                      <a:pt x="659" y="0"/>
                    </a:lnTo>
                    <a:lnTo>
                      <a:pt x="660" y="1"/>
                    </a:lnTo>
                    <a:lnTo>
                      <a:pt x="661" y="2"/>
                    </a:lnTo>
                    <a:lnTo>
                      <a:pt x="661" y="3"/>
                    </a:lnTo>
                    <a:lnTo>
                      <a:pt x="672" y="3"/>
                    </a:lnTo>
                    <a:lnTo>
                      <a:pt x="672" y="2"/>
                    </a:lnTo>
                    <a:lnTo>
                      <a:pt x="674" y="1"/>
                    </a:lnTo>
                    <a:lnTo>
                      <a:pt x="675" y="0"/>
                    </a:lnTo>
                    <a:lnTo>
                      <a:pt x="677" y="0"/>
                    </a:lnTo>
                    <a:lnTo>
                      <a:pt x="678" y="0"/>
                    </a:lnTo>
                    <a:lnTo>
                      <a:pt x="680" y="1"/>
                    </a:lnTo>
                    <a:lnTo>
                      <a:pt x="681" y="2"/>
                    </a:lnTo>
                    <a:lnTo>
                      <a:pt x="681" y="3"/>
                    </a:lnTo>
                    <a:lnTo>
                      <a:pt x="707" y="3"/>
                    </a:lnTo>
                    <a:lnTo>
                      <a:pt x="707" y="2"/>
                    </a:lnTo>
                    <a:lnTo>
                      <a:pt x="708" y="1"/>
                    </a:lnTo>
                    <a:lnTo>
                      <a:pt x="710" y="0"/>
                    </a:lnTo>
                    <a:lnTo>
                      <a:pt x="711" y="0"/>
                    </a:lnTo>
                    <a:lnTo>
                      <a:pt x="713" y="0"/>
                    </a:lnTo>
                    <a:lnTo>
                      <a:pt x="714" y="1"/>
                    </a:lnTo>
                    <a:lnTo>
                      <a:pt x="715" y="2"/>
                    </a:lnTo>
                    <a:lnTo>
                      <a:pt x="716" y="3"/>
                    </a:lnTo>
                    <a:lnTo>
                      <a:pt x="725" y="3"/>
                    </a:lnTo>
                    <a:lnTo>
                      <a:pt x="726" y="2"/>
                    </a:lnTo>
                    <a:lnTo>
                      <a:pt x="727" y="1"/>
                    </a:lnTo>
                    <a:lnTo>
                      <a:pt x="728" y="0"/>
                    </a:lnTo>
                    <a:lnTo>
                      <a:pt x="730" y="0"/>
                    </a:lnTo>
                    <a:lnTo>
                      <a:pt x="732" y="0"/>
                    </a:lnTo>
                    <a:lnTo>
                      <a:pt x="733" y="1"/>
                    </a:lnTo>
                    <a:lnTo>
                      <a:pt x="734" y="2"/>
                    </a:lnTo>
                    <a:lnTo>
                      <a:pt x="734" y="3"/>
                    </a:lnTo>
                    <a:lnTo>
                      <a:pt x="760" y="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62160" y="32770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78" name=""/>
              <p:cNvSpPr/>
              <p:nvPr/>
            </p:nvSpPr>
            <p:spPr>
              <a:xfrm>
                <a:off x="5557680" y="3189960"/>
                <a:ext cx="222120" cy="61200"/>
              </a:xfrm>
              <a:prstGeom prst="rect">
                <a:avLst/>
              </a:prstGeom>
              <a:blipFill rotWithShape="0">
                <a:blip r:embed="rId116"/>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379" name=""/>
              <p:cNvSpPr/>
              <p:nvPr/>
            </p:nvSpPr>
            <p:spPr>
              <a:xfrm>
                <a:off x="5564160" y="3187800"/>
                <a:ext cx="139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website</a:t>
                </a:r>
                <a:endParaRPr b="0" lang="en-US" sz="300" spc="-1" strike="noStrike">
                  <a:solidFill>
                    <a:srgbClr val="ffffff"/>
                  </a:solidFill>
                  <a:latin typeface="Arial"/>
                </a:endParaRPr>
              </a:p>
            </p:txBody>
          </p:sp>
          <p:sp>
            <p:nvSpPr>
              <p:cNvPr id="1380" name=""/>
              <p:cNvSpPr/>
              <p:nvPr/>
            </p:nvSpPr>
            <p:spPr>
              <a:xfrm>
                <a:off x="5668920" y="3263760"/>
                <a:ext cx="12600" cy="14400"/>
              </a:xfrm>
              <a:custGeom>
                <a:avLst/>
                <a:gdLst/>
                <a:ahLst/>
                <a:rect l="l" t="t" r="r" b="b"/>
                <a:pathLst>
                  <a:path w="12" h="11">
                    <a:moveTo>
                      <a:pt x="0" y="0"/>
                    </a:moveTo>
                    <a:lnTo>
                      <a:pt x="0" y="6"/>
                    </a:lnTo>
                    <a:lnTo>
                      <a:pt x="12" y="6"/>
                    </a:lnTo>
                    <a:lnTo>
                      <a:pt x="12" y="11"/>
                    </a:lnTo>
                  </a:path>
                </a:pathLst>
              </a:custGeom>
              <a:noFill/>
              <a:ln w="14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81" name=""/>
              <p:cNvSpPr/>
              <p:nvPr/>
            </p:nvSpPr>
            <p:spPr>
              <a:xfrm>
                <a:off x="5662440" y="32515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82" name=""/>
              <p:cNvSpPr/>
              <p:nvPr/>
            </p:nvSpPr>
            <p:spPr>
              <a:xfrm>
                <a:off x="5675400" y="3277080"/>
                <a:ext cx="12600" cy="13320"/>
              </a:xfrm>
              <a:custGeom>
                <a:avLst/>
                <a:gdLst/>
                <a:ahLst/>
                <a:rect l="l" t="t" r="r" b="b"/>
                <a:pathLst>
                  <a:path w="12" h="10">
                    <a:moveTo>
                      <a:pt x="12" y="1"/>
                    </a:moveTo>
                    <a:lnTo>
                      <a:pt x="6" y="10"/>
                    </a:lnTo>
                    <a:lnTo>
                      <a:pt x="0" y="1"/>
                    </a:lnTo>
                    <a:lnTo>
                      <a:pt x="2"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83" name=""/>
              <p:cNvSpPr/>
              <p:nvPr/>
            </p:nvSpPr>
            <p:spPr>
              <a:xfrm>
                <a:off x="4612320" y="3353040"/>
                <a:ext cx="943200" cy="32040"/>
              </a:xfrm>
              <a:custGeom>
                <a:avLst/>
                <a:gdLst/>
                <a:ahLst/>
                <a:rect l="l" t="t" r="r" b="b"/>
                <a:pathLst>
                  <a:path w="891" h="24">
                    <a:moveTo>
                      <a:pt x="891" y="7"/>
                    </a:moveTo>
                    <a:lnTo>
                      <a:pt x="876" y="7"/>
                    </a:lnTo>
                    <a:lnTo>
                      <a:pt x="875" y="5"/>
                    </a:lnTo>
                    <a:lnTo>
                      <a:pt x="874" y="4"/>
                    </a:lnTo>
                    <a:lnTo>
                      <a:pt x="873" y="3"/>
                    </a:lnTo>
                    <a:lnTo>
                      <a:pt x="871" y="3"/>
                    </a:lnTo>
                    <a:lnTo>
                      <a:pt x="869" y="3"/>
                    </a:lnTo>
                    <a:lnTo>
                      <a:pt x="868" y="4"/>
                    </a:lnTo>
                    <a:lnTo>
                      <a:pt x="867" y="5"/>
                    </a:lnTo>
                    <a:lnTo>
                      <a:pt x="867" y="7"/>
                    </a:lnTo>
                    <a:lnTo>
                      <a:pt x="864" y="7"/>
                    </a:lnTo>
                    <a:lnTo>
                      <a:pt x="863" y="5"/>
                    </a:lnTo>
                    <a:lnTo>
                      <a:pt x="863" y="4"/>
                    </a:lnTo>
                    <a:lnTo>
                      <a:pt x="861" y="3"/>
                    </a:lnTo>
                    <a:lnTo>
                      <a:pt x="859" y="3"/>
                    </a:lnTo>
                    <a:lnTo>
                      <a:pt x="858" y="3"/>
                    </a:lnTo>
                    <a:lnTo>
                      <a:pt x="856" y="4"/>
                    </a:lnTo>
                    <a:lnTo>
                      <a:pt x="855" y="5"/>
                    </a:lnTo>
                    <a:lnTo>
                      <a:pt x="855" y="7"/>
                    </a:lnTo>
                    <a:lnTo>
                      <a:pt x="848" y="7"/>
                    </a:lnTo>
                    <a:lnTo>
                      <a:pt x="847" y="5"/>
                    </a:lnTo>
                    <a:lnTo>
                      <a:pt x="847" y="4"/>
                    </a:lnTo>
                    <a:lnTo>
                      <a:pt x="845" y="3"/>
                    </a:lnTo>
                    <a:lnTo>
                      <a:pt x="843" y="3"/>
                    </a:lnTo>
                    <a:lnTo>
                      <a:pt x="842" y="3"/>
                    </a:lnTo>
                    <a:lnTo>
                      <a:pt x="840" y="4"/>
                    </a:lnTo>
                    <a:lnTo>
                      <a:pt x="839" y="5"/>
                    </a:lnTo>
                    <a:lnTo>
                      <a:pt x="839" y="7"/>
                    </a:lnTo>
                    <a:lnTo>
                      <a:pt x="824" y="7"/>
                    </a:lnTo>
                    <a:lnTo>
                      <a:pt x="824" y="5"/>
                    </a:lnTo>
                    <a:lnTo>
                      <a:pt x="823" y="3"/>
                    </a:lnTo>
                    <a:lnTo>
                      <a:pt x="822" y="2"/>
                    </a:lnTo>
                    <a:lnTo>
                      <a:pt x="820" y="1"/>
                    </a:lnTo>
                    <a:lnTo>
                      <a:pt x="817" y="0"/>
                    </a:lnTo>
                    <a:lnTo>
                      <a:pt x="815" y="0"/>
                    </a:lnTo>
                    <a:lnTo>
                      <a:pt x="813" y="1"/>
                    </a:lnTo>
                    <a:lnTo>
                      <a:pt x="811" y="2"/>
                    </a:lnTo>
                    <a:lnTo>
                      <a:pt x="809" y="3"/>
                    </a:lnTo>
                    <a:lnTo>
                      <a:pt x="808" y="5"/>
                    </a:lnTo>
                    <a:lnTo>
                      <a:pt x="808" y="7"/>
                    </a:lnTo>
                    <a:lnTo>
                      <a:pt x="804" y="7"/>
                    </a:lnTo>
                    <a:lnTo>
                      <a:pt x="803" y="5"/>
                    </a:lnTo>
                    <a:lnTo>
                      <a:pt x="802" y="3"/>
                    </a:lnTo>
                    <a:lnTo>
                      <a:pt x="801" y="1"/>
                    </a:lnTo>
                    <a:lnTo>
                      <a:pt x="798" y="0"/>
                    </a:lnTo>
                    <a:lnTo>
                      <a:pt x="796" y="0"/>
                    </a:lnTo>
                    <a:lnTo>
                      <a:pt x="794" y="0"/>
                    </a:lnTo>
                    <a:lnTo>
                      <a:pt x="791" y="0"/>
                    </a:lnTo>
                    <a:lnTo>
                      <a:pt x="789" y="1"/>
                    </a:lnTo>
                    <a:lnTo>
                      <a:pt x="788" y="3"/>
                    </a:lnTo>
                    <a:lnTo>
                      <a:pt x="787" y="5"/>
                    </a:lnTo>
                    <a:lnTo>
                      <a:pt x="786" y="7"/>
                    </a:lnTo>
                    <a:lnTo>
                      <a:pt x="784" y="7"/>
                    </a:lnTo>
                    <a:lnTo>
                      <a:pt x="784" y="5"/>
                    </a:lnTo>
                    <a:lnTo>
                      <a:pt x="783" y="4"/>
                    </a:lnTo>
                    <a:lnTo>
                      <a:pt x="782" y="3"/>
                    </a:lnTo>
                    <a:lnTo>
                      <a:pt x="780" y="3"/>
                    </a:lnTo>
                    <a:lnTo>
                      <a:pt x="778" y="3"/>
                    </a:lnTo>
                    <a:lnTo>
                      <a:pt x="777" y="4"/>
                    </a:lnTo>
                    <a:lnTo>
                      <a:pt x="776" y="5"/>
                    </a:lnTo>
                    <a:lnTo>
                      <a:pt x="776" y="7"/>
                    </a:lnTo>
                    <a:lnTo>
                      <a:pt x="775" y="7"/>
                    </a:lnTo>
                    <a:lnTo>
                      <a:pt x="775" y="5"/>
                    </a:lnTo>
                    <a:lnTo>
                      <a:pt x="774" y="4"/>
                    </a:lnTo>
                    <a:lnTo>
                      <a:pt x="772" y="3"/>
                    </a:lnTo>
                    <a:lnTo>
                      <a:pt x="770" y="3"/>
                    </a:lnTo>
                    <a:lnTo>
                      <a:pt x="769" y="3"/>
                    </a:lnTo>
                    <a:lnTo>
                      <a:pt x="767" y="4"/>
                    </a:lnTo>
                    <a:lnTo>
                      <a:pt x="766" y="5"/>
                    </a:lnTo>
                    <a:lnTo>
                      <a:pt x="766" y="7"/>
                    </a:lnTo>
                    <a:lnTo>
                      <a:pt x="764" y="7"/>
                    </a:lnTo>
                    <a:lnTo>
                      <a:pt x="764" y="5"/>
                    </a:lnTo>
                    <a:lnTo>
                      <a:pt x="762" y="4"/>
                    </a:lnTo>
                    <a:lnTo>
                      <a:pt x="761" y="3"/>
                    </a:lnTo>
                    <a:lnTo>
                      <a:pt x="759" y="3"/>
                    </a:lnTo>
                    <a:lnTo>
                      <a:pt x="758" y="3"/>
                    </a:lnTo>
                    <a:lnTo>
                      <a:pt x="756" y="4"/>
                    </a:lnTo>
                    <a:lnTo>
                      <a:pt x="755" y="5"/>
                    </a:lnTo>
                    <a:lnTo>
                      <a:pt x="755" y="7"/>
                    </a:lnTo>
                    <a:lnTo>
                      <a:pt x="744" y="7"/>
                    </a:lnTo>
                    <a:lnTo>
                      <a:pt x="744" y="5"/>
                    </a:lnTo>
                    <a:lnTo>
                      <a:pt x="743" y="4"/>
                    </a:lnTo>
                    <a:lnTo>
                      <a:pt x="741" y="3"/>
                    </a:lnTo>
                    <a:lnTo>
                      <a:pt x="739" y="3"/>
                    </a:lnTo>
                    <a:lnTo>
                      <a:pt x="738" y="3"/>
                    </a:lnTo>
                    <a:lnTo>
                      <a:pt x="736" y="4"/>
                    </a:lnTo>
                    <a:lnTo>
                      <a:pt x="735" y="5"/>
                    </a:lnTo>
                    <a:lnTo>
                      <a:pt x="735" y="7"/>
                    </a:lnTo>
                    <a:lnTo>
                      <a:pt x="706" y="7"/>
                    </a:lnTo>
                    <a:lnTo>
                      <a:pt x="706" y="5"/>
                    </a:lnTo>
                    <a:lnTo>
                      <a:pt x="705" y="4"/>
                    </a:lnTo>
                    <a:lnTo>
                      <a:pt x="703" y="3"/>
                    </a:lnTo>
                    <a:lnTo>
                      <a:pt x="702" y="3"/>
                    </a:lnTo>
                    <a:lnTo>
                      <a:pt x="700" y="3"/>
                    </a:lnTo>
                    <a:lnTo>
                      <a:pt x="698" y="4"/>
                    </a:lnTo>
                    <a:lnTo>
                      <a:pt x="697" y="5"/>
                    </a:lnTo>
                    <a:lnTo>
                      <a:pt x="697" y="7"/>
                    </a:lnTo>
                    <a:lnTo>
                      <a:pt x="678" y="7"/>
                    </a:lnTo>
                    <a:lnTo>
                      <a:pt x="678" y="5"/>
                    </a:lnTo>
                    <a:lnTo>
                      <a:pt x="677" y="4"/>
                    </a:lnTo>
                    <a:lnTo>
                      <a:pt x="675" y="3"/>
                    </a:lnTo>
                    <a:lnTo>
                      <a:pt x="674" y="3"/>
                    </a:lnTo>
                    <a:lnTo>
                      <a:pt x="672" y="3"/>
                    </a:lnTo>
                    <a:lnTo>
                      <a:pt x="670" y="4"/>
                    </a:lnTo>
                    <a:lnTo>
                      <a:pt x="669" y="5"/>
                    </a:lnTo>
                    <a:lnTo>
                      <a:pt x="669" y="7"/>
                    </a:lnTo>
                    <a:lnTo>
                      <a:pt x="643" y="7"/>
                    </a:lnTo>
                    <a:lnTo>
                      <a:pt x="643" y="24"/>
                    </a:lnTo>
                    <a:lnTo>
                      <a:pt x="590" y="24"/>
                    </a:lnTo>
                    <a:lnTo>
                      <a:pt x="590" y="23"/>
                    </a:lnTo>
                    <a:lnTo>
                      <a:pt x="589" y="22"/>
                    </a:lnTo>
                    <a:lnTo>
                      <a:pt x="587" y="21"/>
                    </a:lnTo>
                    <a:lnTo>
                      <a:pt x="586" y="20"/>
                    </a:lnTo>
                    <a:lnTo>
                      <a:pt x="584" y="21"/>
                    </a:lnTo>
                    <a:lnTo>
                      <a:pt x="582" y="22"/>
                    </a:lnTo>
                    <a:lnTo>
                      <a:pt x="581" y="23"/>
                    </a:lnTo>
                    <a:lnTo>
                      <a:pt x="581" y="24"/>
                    </a:lnTo>
                    <a:lnTo>
                      <a:pt x="561" y="24"/>
                    </a:lnTo>
                    <a:lnTo>
                      <a:pt x="560" y="23"/>
                    </a:lnTo>
                    <a:lnTo>
                      <a:pt x="559" y="22"/>
                    </a:lnTo>
                    <a:lnTo>
                      <a:pt x="558" y="21"/>
                    </a:lnTo>
                    <a:lnTo>
                      <a:pt x="556" y="20"/>
                    </a:lnTo>
                    <a:lnTo>
                      <a:pt x="554" y="21"/>
                    </a:lnTo>
                    <a:lnTo>
                      <a:pt x="553" y="22"/>
                    </a:lnTo>
                    <a:lnTo>
                      <a:pt x="552" y="23"/>
                    </a:lnTo>
                    <a:lnTo>
                      <a:pt x="552" y="24"/>
                    </a:lnTo>
                    <a:lnTo>
                      <a:pt x="543" y="24"/>
                    </a:lnTo>
                    <a:lnTo>
                      <a:pt x="543" y="23"/>
                    </a:lnTo>
                    <a:lnTo>
                      <a:pt x="542" y="22"/>
                    </a:lnTo>
                    <a:lnTo>
                      <a:pt x="540" y="21"/>
                    </a:lnTo>
                    <a:lnTo>
                      <a:pt x="539" y="20"/>
                    </a:lnTo>
                    <a:lnTo>
                      <a:pt x="537" y="21"/>
                    </a:lnTo>
                    <a:lnTo>
                      <a:pt x="535" y="22"/>
                    </a:lnTo>
                    <a:lnTo>
                      <a:pt x="534" y="23"/>
                    </a:lnTo>
                    <a:lnTo>
                      <a:pt x="534" y="24"/>
                    </a:lnTo>
                    <a:lnTo>
                      <a:pt x="528" y="24"/>
                    </a:lnTo>
                    <a:lnTo>
                      <a:pt x="528" y="23"/>
                    </a:lnTo>
                    <a:lnTo>
                      <a:pt x="526" y="22"/>
                    </a:lnTo>
                    <a:lnTo>
                      <a:pt x="525" y="21"/>
                    </a:lnTo>
                    <a:lnTo>
                      <a:pt x="523" y="20"/>
                    </a:lnTo>
                    <a:lnTo>
                      <a:pt x="522" y="21"/>
                    </a:lnTo>
                    <a:lnTo>
                      <a:pt x="520" y="22"/>
                    </a:lnTo>
                    <a:lnTo>
                      <a:pt x="519" y="23"/>
                    </a:lnTo>
                    <a:lnTo>
                      <a:pt x="519" y="24"/>
                    </a:lnTo>
                    <a:lnTo>
                      <a:pt x="512" y="24"/>
                    </a:lnTo>
                    <a:lnTo>
                      <a:pt x="511" y="23"/>
                    </a:lnTo>
                    <a:lnTo>
                      <a:pt x="510" y="22"/>
                    </a:lnTo>
                    <a:lnTo>
                      <a:pt x="509" y="21"/>
                    </a:lnTo>
                    <a:lnTo>
                      <a:pt x="507" y="20"/>
                    </a:lnTo>
                    <a:lnTo>
                      <a:pt x="505" y="21"/>
                    </a:lnTo>
                    <a:lnTo>
                      <a:pt x="504" y="22"/>
                    </a:lnTo>
                    <a:lnTo>
                      <a:pt x="503" y="23"/>
                    </a:lnTo>
                    <a:lnTo>
                      <a:pt x="503" y="24"/>
                    </a:lnTo>
                    <a:lnTo>
                      <a:pt x="503" y="24"/>
                    </a:lnTo>
                    <a:lnTo>
                      <a:pt x="502" y="23"/>
                    </a:lnTo>
                    <a:lnTo>
                      <a:pt x="501" y="22"/>
                    </a:lnTo>
                    <a:lnTo>
                      <a:pt x="500" y="21"/>
                    </a:lnTo>
                    <a:lnTo>
                      <a:pt x="498" y="20"/>
                    </a:lnTo>
                    <a:lnTo>
                      <a:pt x="496" y="21"/>
                    </a:lnTo>
                    <a:lnTo>
                      <a:pt x="495" y="22"/>
                    </a:lnTo>
                    <a:lnTo>
                      <a:pt x="494" y="23"/>
                    </a:lnTo>
                    <a:lnTo>
                      <a:pt x="494" y="24"/>
                    </a:lnTo>
                    <a:lnTo>
                      <a:pt x="472" y="24"/>
                    </a:lnTo>
                    <a:lnTo>
                      <a:pt x="471" y="22"/>
                    </a:lnTo>
                    <a:lnTo>
                      <a:pt x="470" y="21"/>
                    </a:lnTo>
                    <a:lnTo>
                      <a:pt x="469" y="20"/>
                    </a:lnTo>
                    <a:lnTo>
                      <a:pt x="467" y="19"/>
                    </a:lnTo>
                    <a:lnTo>
                      <a:pt x="465" y="19"/>
                    </a:lnTo>
                    <a:lnTo>
                      <a:pt x="463" y="19"/>
                    </a:lnTo>
                    <a:lnTo>
                      <a:pt x="461" y="20"/>
                    </a:lnTo>
                    <a:lnTo>
                      <a:pt x="459" y="21"/>
                    </a:lnTo>
                    <a:lnTo>
                      <a:pt x="458" y="22"/>
                    </a:lnTo>
                    <a:lnTo>
                      <a:pt x="458" y="24"/>
                    </a:lnTo>
                    <a:lnTo>
                      <a:pt x="448" y="24"/>
                    </a:lnTo>
                    <a:lnTo>
                      <a:pt x="448" y="23"/>
                    </a:lnTo>
                    <a:lnTo>
                      <a:pt x="447" y="22"/>
                    </a:lnTo>
                    <a:lnTo>
                      <a:pt x="446" y="21"/>
                    </a:lnTo>
                    <a:lnTo>
                      <a:pt x="444" y="20"/>
                    </a:lnTo>
                    <a:lnTo>
                      <a:pt x="442" y="21"/>
                    </a:lnTo>
                    <a:lnTo>
                      <a:pt x="441" y="22"/>
                    </a:lnTo>
                    <a:lnTo>
                      <a:pt x="440" y="23"/>
                    </a:lnTo>
                    <a:lnTo>
                      <a:pt x="440" y="24"/>
                    </a:lnTo>
                    <a:lnTo>
                      <a:pt x="193" y="24"/>
                    </a:lnTo>
                    <a:lnTo>
                      <a:pt x="193" y="23"/>
                    </a:lnTo>
                    <a:lnTo>
                      <a:pt x="192" y="22"/>
                    </a:lnTo>
                    <a:lnTo>
                      <a:pt x="191" y="21"/>
                    </a:lnTo>
                    <a:lnTo>
                      <a:pt x="189" y="20"/>
                    </a:lnTo>
                    <a:lnTo>
                      <a:pt x="187" y="21"/>
                    </a:lnTo>
                    <a:lnTo>
                      <a:pt x="186" y="22"/>
                    </a:lnTo>
                    <a:lnTo>
                      <a:pt x="185" y="23"/>
                    </a:lnTo>
                    <a:lnTo>
                      <a:pt x="184" y="24"/>
                    </a:lnTo>
                    <a:lnTo>
                      <a:pt x="183" y="24"/>
                    </a:lnTo>
                    <a:lnTo>
                      <a:pt x="183" y="22"/>
                    </a:lnTo>
                    <a:lnTo>
                      <a:pt x="182" y="20"/>
                    </a:lnTo>
                    <a:lnTo>
                      <a:pt x="180" y="19"/>
                    </a:lnTo>
                    <a:lnTo>
                      <a:pt x="178" y="18"/>
                    </a:lnTo>
                    <a:lnTo>
                      <a:pt x="176" y="17"/>
                    </a:lnTo>
                    <a:lnTo>
                      <a:pt x="173" y="17"/>
                    </a:lnTo>
                    <a:lnTo>
                      <a:pt x="171" y="18"/>
                    </a:lnTo>
                    <a:lnTo>
                      <a:pt x="169" y="19"/>
                    </a:lnTo>
                    <a:lnTo>
                      <a:pt x="167" y="20"/>
                    </a:lnTo>
                    <a:lnTo>
                      <a:pt x="166" y="22"/>
                    </a:lnTo>
                    <a:lnTo>
                      <a:pt x="166" y="24"/>
                    </a:lnTo>
                    <a:lnTo>
                      <a:pt x="163" y="24"/>
                    </a:lnTo>
                    <a:lnTo>
                      <a:pt x="163" y="23"/>
                    </a:lnTo>
                    <a:lnTo>
                      <a:pt x="162" y="22"/>
                    </a:lnTo>
                    <a:lnTo>
                      <a:pt x="160" y="21"/>
                    </a:lnTo>
                    <a:lnTo>
                      <a:pt x="159" y="20"/>
                    </a:lnTo>
                    <a:lnTo>
                      <a:pt x="157" y="21"/>
                    </a:lnTo>
                    <a:lnTo>
                      <a:pt x="155" y="22"/>
                    </a:lnTo>
                    <a:lnTo>
                      <a:pt x="155" y="23"/>
                    </a:lnTo>
                    <a:lnTo>
                      <a:pt x="154" y="24"/>
                    </a:lnTo>
                    <a:lnTo>
                      <a:pt x="141" y="24"/>
                    </a:lnTo>
                    <a:lnTo>
                      <a:pt x="141" y="23"/>
                    </a:lnTo>
                    <a:lnTo>
                      <a:pt x="140" y="22"/>
                    </a:lnTo>
                    <a:lnTo>
                      <a:pt x="138" y="21"/>
                    </a:lnTo>
                    <a:lnTo>
                      <a:pt x="137" y="20"/>
                    </a:lnTo>
                    <a:lnTo>
                      <a:pt x="135" y="21"/>
                    </a:lnTo>
                    <a:lnTo>
                      <a:pt x="133" y="22"/>
                    </a:lnTo>
                    <a:lnTo>
                      <a:pt x="133" y="23"/>
                    </a:lnTo>
                    <a:lnTo>
                      <a:pt x="132" y="24"/>
                    </a:lnTo>
                    <a:lnTo>
                      <a:pt x="111" y="24"/>
                    </a:lnTo>
                    <a:lnTo>
                      <a:pt x="111" y="23"/>
                    </a:lnTo>
                    <a:lnTo>
                      <a:pt x="110" y="22"/>
                    </a:lnTo>
                    <a:lnTo>
                      <a:pt x="108" y="21"/>
                    </a:lnTo>
                    <a:lnTo>
                      <a:pt x="106" y="20"/>
                    </a:lnTo>
                    <a:lnTo>
                      <a:pt x="105" y="21"/>
                    </a:lnTo>
                    <a:lnTo>
                      <a:pt x="103" y="22"/>
                    </a:lnTo>
                    <a:lnTo>
                      <a:pt x="102" y="23"/>
                    </a:lnTo>
                    <a:lnTo>
                      <a:pt x="102" y="24"/>
                    </a:lnTo>
                    <a:lnTo>
                      <a:pt x="97" y="24"/>
                    </a:lnTo>
                    <a:lnTo>
                      <a:pt x="97" y="23"/>
                    </a:lnTo>
                    <a:lnTo>
                      <a:pt x="96" y="22"/>
                    </a:lnTo>
                    <a:lnTo>
                      <a:pt x="94" y="21"/>
                    </a:lnTo>
                    <a:lnTo>
                      <a:pt x="93" y="20"/>
                    </a:lnTo>
                    <a:lnTo>
                      <a:pt x="91" y="21"/>
                    </a:lnTo>
                    <a:lnTo>
                      <a:pt x="90" y="22"/>
                    </a:lnTo>
                    <a:lnTo>
                      <a:pt x="89" y="23"/>
                    </a:lnTo>
                    <a:lnTo>
                      <a:pt x="88" y="24"/>
                    </a:lnTo>
                    <a:lnTo>
                      <a:pt x="87" y="24"/>
                    </a:lnTo>
                    <a:lnTo>
                      <a:pt x="87" y="23"/>
                    </a:lnTo>
                    <a:lnTo>
                      <a:pt x="86" y="22"/>
                    </a:lnTo>
                    <a:lnTo>
                      <a:pt x="84" y="21"/>
                    </a:lnTo>
                    <a:lnTo>
                      <a:pt x="83" y="20"/>
                    </a:lnTo>
                    <a:lnTo>
                      <a:pt x="81" y="21"/>
                    </a:lnTo>
                    <a:lnTo>
                      <a:pt x="79" y="22"/>
                    </a:lnTo>
                    <a:lnTo>
                      <a:pt x="79" y="23"/>
                    </a:lnTo>
                    <a:lnTo>
                      <a:pt x="78" y="24"/>
                    </a:lnTo>
                    <a:lnTo>
                      <a:pt x="67" y="24"/>
                    </a:lnTo>
                    <a:lnTo>
                      <a:pt x="67" y="23"/>
                    </a:lnTo>
                    <a:lnTo>
                      <a:pt x="66" y="22"/>
                    </a:lnTo>
                    <a:lnTo>
                      <a:pt x="65" y="21"/>
                    </a:lnTo>
                    <a:lnTo>
                      <a:pt x="63" y="20"/>
                    </a:lnTo>
                    <a:lnTo>
                      <a:pt x="61" y="21"/>
                    </a:lnTo>
                    <a:lnTo>
                      <a:pt x="60" y="22"/>
                    </a:lnTo>
                    <a:lnTo>
                      <a:pt x="59" y="23"/>
                    </a:lnTo>
                    <a:lnTo>
                      <a:pt x="58" y="24"/>
                    </a:lnTo>
                    <a:lnTo>
                      <a:pt x="57" y="24"/>
                    </a:lnTo>
                    <a:lnTo>
                      <a:pt x="56" y="22"/>
                    </a:lnTo>
                    <a:lnTo>
                      <a:pt x="55" y="20"/>
                    </a:lnTo>
                    <a:lnTo>
                      <a:pt x="54" y="19"/>
                    </a:lnTo>
                    <a:lnTo>
                      <a:pt x="52" y="18"/>
                    </a:lnTo>
                    <a:lnTo>
                      <a:pt x="50" y="18"/>
                    </a:lnTo>
                    <a:lnTo>
                      <a:pt x="47" y="18"/>
                    </a:lnTo>
                    <a:lnTo>
                      <a:pt x="45" y="18"/>
                    </a:lnTo>
                    <a:lnTo>
                      <a:pt x="43" y="19"/>
                    </a:lnTo>
                    <a:lnTo>
                      <a:pt x="42" y="20"/>
                    </a:lnTo>
                    <a:lnTo>
                      <a:pt x="41" y="22"/>
                    </a:lnTo>
                    <a:lnTo>
                      <a:pt x="40" y="24"/>
                    </a:lnTo>
                    <a:lnTo>
                      <a:pt x="40" y="24"/>
                    </a:lnTo>
                    <a:lnTo>
                      <a:pt x="39" y="23"/>
                    </a:lnTo>
                    <a:lnTo>
                      <a:pt x="39" y="22"/>
                    </a:lnTo>
                    <a:lnTo>
                      <a:pt x="37" y="21"/>
                    </a:lnTo>
                    <a:lnTo>
                      <a:pt x="35" y="20"/>
                    </a:lnTo>
                    <a:lnTo>
                      <a:pt x="34" y="21"/>
                    </a:lnTo>
                    <a:lnTo>
                      <a:pt x="32" y="22"/>
                    </a:lnTo>
                    <a:lnTo>
                      <a:pt x="31" y="23"/>
                    </a:lnTo>
                    <a:lnTo>
                      <a:pt x="31" y="24"/>
                    </a:lnTo>
                    <a:lnTo>
                      <a:pt x="25" y="24"/>
                    </a:lnTo>
                    <a:lnTo>
                      <a:pt x="25" y="7"/>
                    </a:lnTo>
                    <a:lnTo>
                      <a:pt x="25" y="7"/>
                    </a:lnTo>
                    <a:lnTo>
                      <a:pt x="24" y="5"/>
                    </a:lnTo>
                    <a:lnTo>
                      <a:pt x="23" y="4"/>
                    </a:lnTo>
                    <a:lnTo>
                      <a:pt x="22" y="2"/>
                    </a:lnTo>
                    <a:lnTo>
                      <a:pt x="20" y="1"/>
                    </a:lnTo>
                    <a:lnTo>
                      <a:pt x="17" y="1"/>
                    </a:lnTo>
                    <a:lnTo>
                      <a:pt x="15" y="1"/>
                    </a:lnTo>
                    <a:lnTo>
                      <a:pt x="13" y="1"/>
                    </a:lnTo>
                    <a:lnTo>
                      <a:pt x="11" y="2"/>
                    </a:lnTo>
                    <a:lnTo>
                      <a:pt x="9" y="4"/>
                    </a:lnTo>
                    <a:lnTo>
                      <a:pt x="8" y="5"/>
                    </a:lnTo>
                    <a:lnTo>
                      <a:pt x="8" y="7"/>
                    </a:lnTo>
                    <a:lnTo>
                      <a:pt x="0" y="7"/>
                    </a:lnTo>
                  </a:path>
                </a:pathLst>
              </a:custGeom>
              <a:noFill/>
              <a:ln w="144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84" name=""/>
              <p:cNvSpPr/>
              <p:nvPr/>
            </p:nvSpPr>
            <p:spPr>
              <a:xfrm>
                <a:off x="5554440" y="335592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85" name=""/>
              <p:cNvSpPr/>
              <p:nvPr/>
            </p:nvSpPr>
            <p:spPr>
              <a:xfrm>
                <a:off x="4605120" y="3211560"/>
                <a:ext cx="939960" cy="137520"/>
              </a:xfrm>
              <a:custGeom>
                <a:avLst/>
                <a:gdLst/>
                <a:ahLst/>
                <a:rect l="l" t="t" r="r" b="b"/>
                <a:pathLst>
                  <a:path w="888" h="103">
                    <a:moveTo>
                      <a:pt x="888" y="7"/>
                    </a:moveTo>
                    <a:lnTo>
                      <a:pt x="882" y="7"/>
                    </a:lnTo>
                    <a:lnTo>
                      <a:pt x="882" y="5"/>
                    </a:lnTo>
                    <a:lnTo>
                      <a:pt x="881" y="4"/>
                    </a:lnTo>
                    <a:lnTo>
                      <a:pt x="880" y="4"/>
                    </a:lnTo>
                    <a:lnTo>
                      <a:pt x="878" y="3"/>
                    </a:lnTo>
                    <a:lnTo>
                      <a:pt x="876" y="4"/>
                    </a:lnTo>
                    <a:lnTo>
                      <a:pt x="875" y="4"/>
                    </a:lnTo>
                    <a:lnTo>
                      <a:pt x="874" y="5"/>
                    </a:lnTo>
                    <a:lnTo>
                      <a:pt x="874" y="7"/>
                    </a:lnTo>
                    <a:lnTo>
                      <a:pt x="871" y="7"/>
                    </a:lnTo>
                    <a:lnTo>
                      <a:pt x="870" y="5"/>
                    </a:lnTo>
                    <a:lnTo>
                      <a:pt x="870" y="4"/>
                    </a:lnTo>
                    <a:lnTo>
                      <a:pt x="868" y="4"/>
                    </a:lnTo>
                    <a:lnTo>
                      <a:pt x="866" y="3"/>
                    </a:lnTo>
                    <a:lnTo>
                      <a:pt x="865" y="4"/>
                    </a:lnTo>
                    <a:lnTo>
                      <a:pt x="863" y="4"/>
                    </a:lnTo>
                    <a:lnTo>
                      <a:pt x="862" y="5"/>
                    </a:lnTo>
                    <a:lnTo>
                      <a:pt x="862" y="7"/>
                    </a:lnTo>
                    <a:lnTo>
                      <a:pt x="855" y="7"/>
                    </a:lnTo>
                    <a:lnTo>
                      <a:pt x="854" y="5"/>
                    </a:lnTo>
                    <a:lnTo>
                      <a:pt x="854" y="4"/>
                    </a:lnTo>
                    <a:lnTo>
                      <a:pt x="852" y="4"/>
                    </a:lnTo>
                    <a:lnTo>
                      <a:pt x="850" y="3"/>
                    </a:lnTo>
                    <a:lnTo>
                      <a:pt x="849" y="4"/>
                    </a:lnTo>
                    <a:lnTo>
                      <a:pt x="847" y="4"/>
                    </a:lnTo>
                    <a:lnTo>
                      <a:pt x="846" y="5"/>
                    </a:lnTo>
                    <a:lnTo>
                      <a:pt x="846" y="7"/>
                    </a:lnTo>
                    <a:lnTo>
                      <a:pt x="831" y="7"/>
                    </a:lnTo>
                    <a:lnTo>
                      <a:pt x="831" y="5"/>
                    </a:lnTo>
                    <a:lnTo>
                      <a:pt x="830" y="3"/>
                    </a:lnTo>
                    <a:lnTo>
                      <a:pt x="829" y="2"/>
                    </a:lnTo>
                    <a:lnTo>
                      <a:pt x="827" y="1"/>
                    </a:lnTo>
                    <a:lnTo>
                      <a:pt x="824" y="0"/>
                    </a:lnTo>
                    <a:lnTo>
                      <a:pt x="822" y="0"/>
                    </a:lnTo>
                    <a:lnTo>
                      <a:pt x="820" y="1"/>
                    </a:lnTo>
                    <a:lnTo>
                      <a:pt x="818" y="2"/>
                    </a:lnTo>
                    <a:lnTo>
                      <a:pt x="816" y="3"/>
                    </a:lnTo>
                    <a:lnTo>
                      <a:pt x="815" y="5"/>
                    </a:lnTo>
                    <a:lnTo>
                      <a:pt x="815" y="7"/>
                    </a:lnTo>
                    <a:lnTo>
                      <a:pt x="811" y="7"/>
                    </a:lnTo>
                    <a:lnTo>
                      <a:pt x="810" y="5"/>
                    </a:lnTo>
                    <a:lnTo>
                      <a:pt x="809" y="3"/>
                    </a:lnTo>
                    <a:lnTo>
                      <a:pt x="808" y="2"/>
                    </a:lnTo>
                    <a:lnTo>
                      <a:pt x="805" y="1"/>
                    </a:lnTo>
                    <a:lnTo>
                      <a:pt x="803" y="0"/>
                    </a:lnTo>
                    <a:lnTo>
                      <a:pt x="801" y="0"/>
                    </a:lnTo>
                    <a:lnTo>
                      <a:pt x="798" y="1"/>
                    </a:lnTo>
                    <a:lnTo>
                      <a:pt x="796" y="2"/>
                    </a:lnTo>
                    <a:lnTo>
                      <a:pt x="795" y="3"/>
                    </a:lnTo>
                    <a:lnTo>
                      <a:pt x="794" y="5"/>
                    </a:lnTo>
                    <a:lnTo>
                      <a:pt x="793" y="7"/>
                    </a:lnTo>
                    <a:lnTo>
                      <a:pt x="791" y="7"/>
                    </a:lnTo>
                    <a:lnTo>
                      <a:pt x="791" y="5"/>
                    </a:lnTo>
                    <a:lnTo>
                      <a:pt x="790" y="4"/>
                    </a:lnTo>
                    <a:lnTo>
                      <a:pt x="789" y="4"/>
                    </a:lnTo>
                    <a:lnTo>
                      <a:pt x="787" y="3"/>
                    </a:lnTo>
                    <a:lnTo>
                      <a:pt x="785" y="4"/>
                    </a:lnTo>
                    <a:lnTo>
                      <a:pt x="784" y="4"/>
                    </a:lnTo>
                    <a:lnTo>
                      <a:pt x="783" y="5"/>
                    </a:lnTo>
                    <a:lnTo>
                      <a:pt x="782" y="7"/>
                    </a:lnTo>
                    <a:lnTo>
                      <a:pt x="782" y="7"/>
                    </a:lnTo>
                    <a:lnTo>
                      <a:pt x="782" y="5"/>
                    </a:lnTo>
                    <a:lnTo>
                      <a:pt x="781" y="4"/>
                    </a:lnTo>
                    <a:lnTo>
                      <a:pt x="779" y="4"/>
                    </a:lnTo>
                    <a:lnTo>
                      <a:pt x="777" y="3"/>
                    </a:lnTo>
                    <a:lnTo>
                      <a:pt x="776" y="4"/>
                    </a:lnTo>
                    <a:lnTo>
                      <a:pt x="774" y="4"/>
                    </a:lnTo>
                    <a:lnTo>
                      <a:pt x="773" y="5"/>
                    </a:lnTo>
                    <a:lnTo>
                      <a:pt x="773" y="7"/>
                    </a:lnTo>
                    <a:lnTo>
                      <a:pt x="771" y="7"/>
                    </a:lnTo>
                    <a:lnTo>
                      <a:pt x="771" y="5"/>
                    </a:lnTo>
                    <a:lnTo>
                      <a:pt x="769" y="4"/>
                    </a:lnTo>
                    <a:lnTo>
                      <a:pt x="768" y="4"/>
                    </a:lnTo>
                    <a:lnTo>
                      <a:pt x="766" y="3"/>
                    </a:lnTo>
                    <a:lnTo>
                      <a:pt x="765" y="4"/>
                    </a:lnTo>
                    <a:lnTo>
                      <a:pt x="763" y="4"/>
                    </a:lnTo>
                    <a:lnTo>
                      <a:pt x="762" y="5"/>
                    </a:lnTo>
                    <a:lnTo>
                      <a:pt x="762" y="7"/>
                    </a:lnTo>
                    <a:lnTo>
                      <a:pt x="751" y="7"/>
                    </a:lnTo>
                    <a:lnTo>
                      <a:pt x="751" y="5"/>
                    </a:lnTo>
                    <a:lnTo>
                      <a:pt x="750" y="4"/>
                    </a:lnTo>
                    <a:lnTo>
                      <a:pt x="748" y="4"/>
                    </a:lnTo>
                    <a:lnTo>
                      <a:pt x="746" y="3"/>
                    </a:lnTo>
                    <a:lnTo>
                      <a:pt x="745" y="4"/>
                    </a:lnTo>
                    <a:lnTo>
                      <a:pt x="743" y="4"/>
                    </a:lnTo>
                    <a:lnTo>
                      <a:pt x="742" y="5"/>
                    </a:lnTo>
                    <a:lnTo>
                      <a:pt x="742" y="7"/>
                    </a:lnTo>
                    <a:lnTo>
                      <a:pt x="713" y="7"/>
                    </a:lnTo>
                    <a:lnTo>
                      <a:pt x="713" y="5"/>
                    </a:lnTo>
                    <a:lnTo>
                      <a:pt x="712" y="4"/>
                    </a:lnTo>
                    <a:lnTo>
                      <a:pt x="710" y="4"/>
                    </a:lnTo>
                    <a:lnTo>
                      <a:pt x="708" y="3"/>
                    </a:lnTo>
                    <a:lnTo>
                      <a:pt x="707" y="4"/>
                    </a:lnTo>
                    <a:lnTo>
                      <a:pt x="705" y="4"/>
                    </a:lnTo>
                    <a:lnTo>
                      <a:pt x="704" y="5"/>
                    </a:lnTo>
                    <a:lnTo>
                      <a:pt x="704" y="7"/>
                    </a:lnTo>
                    <a:lnTo>
                      <a:pt x="685" y="7"/>
                    </a:lnTo>
                    <a:lnTo>
                      <a:pt x="685" y="5"/>
                    </a:lnTo>
                    <a:lnTo>
                      <a:pt x="684" y="4"/>
                    </a:lnTo>
                    <a:lnTo>
                      <a:pt x="682" y="4"/>
                    </a:lnTo>
                    <a:lnTo>
                      <a:pt x="681" y="3"/>
                    </a:lnTo>
                    <a:lnTo>
                      <a:pt x="679" y="4"/>
                    </a:lnTo>
                    <a:lnTo>
                      <a:pt x="677" y="4"/>
                    </a:lnTo>
                    <a:lnTo>
                      <a:pt x="676" y="5"/>
                    </a:lnTo>
                    <a:lnTo>
                      <a:pt x="676" y="7"/>
                    </a:lnTo>
                    <a:lnTo>
                      <a:pt x="647" y="7"/>
                    </a:lnTo>
                    <a:lnTo>
                      <a:pt x="647" y="20"/>
                    </a:lnTo>
                    <a:lnTo>
                      <a:pt x="597" y="20"/>
                    </a:lnTo>
                    <a:lnTo>
                      <a:pt x="597" y="18"/>
                    </a:lnTo>
                    <a:lnTo>
                      <a:pt x="596" y="17"/>
                    </a:lnTo>
                    <a:lnTo>
                      <a:pt x="594" y="16"/>
                    </a:lnTo>
                    <a:lnTo>
                      <a:pt x="593" y="16"/>
                    </a:lnTo>
                    <a:lnTo>
                      <a:pt x="591" y="16"/>
                    </a:lnTo>
                    <a:lnTo>
                      <a:pt x="589" y="17"/>
                    </a:lnTo>
                    <a:lnTo>
                      <a:pt x="588" y="18"/>
                    </a:lnTo>
                    <a:lnTo>
                      <a:pt x="588" y="20"/>
                    </a:lnTo>
                    <a:lnTo>
                      <a:pt x="568" y="20"/>
                    </a:lnTo>
                    <a:lnTo>
                      <a:pt x="567" y="18"/>
                    </a:lnTo>
                    <a:lnTo>
                      <a:pt x="566" y="17"/>
                    </a:lnTo>
                    <a:lnTo>
                      <a:pt x="565" y="16"/>
                    </a:lnTo>
                    <a:lnTo>
                      <a:pt x="563" y="16"/>
                    </a:lnTo>
                    <a:lnTo>
                      <a:pt x="561" y="16"/>
                    </a:lnTo>
                    <a:lnTo>
                      <a:pt x="560" y="17"/>
                    </a:lnTo>
                    <a:lnTo>
                      <a:pt x="559" y="18"/>
                    </a:lnTo>
                    <a:lnTo>
                      <a:pt x="559" y="20"/>
                    </a:lnTo>
                    <a:lnTo>
                      <a:pt x="550" y="20"/>
                    </a:lnTo>
                    <a:lnTo>
                      <a:pt x="550" y="18"/>
                    </a:lnTo>
                    <a:lnTo>
                      <a:pt x="549" y="17"/>
                    </a:lnTo>
                    <a:lnTo>
                      <a:pt x="547" y="16"/>
                    </a:lnTo>
                    <a:lnTo>
                      <a:pt x="546" y="16"/>
                    </a:lnTo>
                    <a:lnTo>
                      <a:pt x="544" y="16"/>
                    </a:lnTo>
                    <a:lnTo>
                      <a:pt x="542" y="17"/>
                    </a:lnTo>
                    <a:lnTo>
                      <a:pt x="541" y="18"/>
                    </a:lnTo>
                    <a:lnTo>
                      <a:pt x="541" y="20"/>
                    </a:lnTo>
                    <a:lnTo>
                      <a:pt x="535" y="20"/>
                    </a:lnTo>
                    <a:lnTo>
                      <a:pt x="534" y="18"/>
                    </a:lnTo>
                    <a:lnTo>
                      <a:pt x="533" y="17"/>
                    </a:lnTo>
                    <a:lnTo>
                      <a:pt x="532" y="16"/>
                    </a:lnTo>
                    <a:lnTo>
                      <a:pt x="530" y="16"/>
                    </a:lnTo>
                    <a:lnTo>
                      <a:pt x="529" y="16"/>
                    </a:lnTo>
                    <a:lnTo>
                      <a:pt x="527" y="17"/>
                    </a:lnTo>
                    <a:lnTo>
                      <a:pt x="526" y="18"/>
                    </a:lnTo>
                    <a:lnTo>
                      <a:pt x="526" y="20"/>
                    </a:lnTo>
                    <a:lnTo>
                      <a:pt x="510" y="20"/>
                    </a:lnTo>
                    <a:lnTo>
                      <a:pt x="509" y="18"/>
                    </a:lnTo>
                    <a:lnTo>
                      <a:pt x="508" y="17"/>
                    </a:lnTo>
                    <a:lnTo>
                      <a:pt x="507" y="16"/>
                    </a:lnTo>
                    <a:lnTo>
                      <a:pt x="505" y="16"/>
                    </a:lnTo>
                    <a:lnTo>
                      <a:pt x="503" y="16"/>
                    </a:lnTo>
                    <a:lnTo>
                      <a:pt x="502" y="17"/>
                    </a:lnTo>
                    <a:lnTo>
                      <a:pt x="501" y="18"/>
                    </a:lnTo>
                    <a:lnTo>
                      <a:pt x="501" y="20"/>
                    </a:lnTo>
                    <a:lnTo>
                      <a:pt x="479" y="20"/>
                    </a:lnTo>
                    <a:lnTo>
                      <a:pt x="478" y="18"/>
                    </a:lnTo>
                    <a:lnTo>
                      <a:pt x="477" y="17"/>
                    </a:lnTo>
                    <a:lnTo>
                      <a:pt x="476" y="16"/>
                    </a:lnTo>
                    <a:lnTo>
                      <a:pt x="474" y="15"/>
                    </a:lnTo>
                    <a:lnTo>
                      <a:pt x="472" y="15"/>
                    </a:lnTo>
                    <a:lnTo>
                      <a:pt x="470" y="15"/>
                    </a:lnTo>
                    <a:lnTo>
                      <a:pt x="468" y="16"/>
                    </a:lnTo>
                    <a:lnTo>
                      <a:pt x="466" y="17"/>
                    </a:lnTo>
                    <a:lnTo>
                      <a:pt x="465" y="18"/>
                    </a:lnTo>
                    <a:lnTo>
                      <a:pt x="465" y="20"/>
                    </a:lnTo>
                    <a:lnTo>
                      <a:pt x="455" y="20"/>
                    </a:lnTo>
                    <a:lnTo>
                      <a:pt x="455" y="18"/>
                    </a:lnTo>
                    <a:lnTo>
                      <a:pt x="454" y="17"/>
                    </a:lnTo>
                    <a:lnTo>
                      <a:pt x="453" y="16"/>
                    </a:lnTo>
                    <a:lnTo>
                      <a:pt x="451" y="16"/>
                    </a:lnTo>
                    <a:lnTo>
                      <a:pt x="449" y="16"/>
                    </a:lnTo>
                    <a:lnTo>
                      <a:pt x="448" y="17"/>
                    </a:lnTo>
                    <a:lnTo>
                      <a:pt x="447" y="18"/>
                    </a:lnTo>
                    <a:lnTo>
                      <a:pt x="446" y="20"/>
                    </a:lnTo>
                    <a:lnTo>
                      <a:pt x="200" y="20"/>
                    </a:lnTo>
                    <a:lnTo>
                      <a:pt x="200" y="18"/>
                    </a:lnTo>
                    <a:lnTo>
                      <a:pt x="199" y="17"/>
                    </a:lnTo>
                    <a:lnTo>
                      <a:pt x="198" y="16"/>
                    </a:lnTo>
                    <a:lnTo>
                      <a:pt x="196" y="16"/>
                    </a:lnTo>
                    <a:lnTo>
                      <a:pt x="194" y="16"/>
                    </a:lnTo>
                    <a:lnTo>
                      <a:pt x="193" y="17"/>
                    </a:lnTo>
                    <a:lnTo>
                      <a:pt x="192" y="18"/>
                    </a:lnTo>
                    <a:lnTo>
                      <a:pt x="191" y="20"/>
                    </a:lnTo>
                    <a:lnTo>
                      <a:pt x="182" y="20"/>
                    </a:lnTo>
                    <a:lnTo>
                      <a:pt x="182" y="18"/>
                    </a:lnTo>
                    <a:lnTo>
                      <a:pt x="181" y="17"/>
                    </a:lnTo>
                    <a:lnTo>
                      <a:pt x="179" y="16"/>
                    </a:lnTo>
                    <a:lnTo>
                      <a:pt x="177" y="16"/>
                    </a:lnTo>
                    <a:lnTo>
                      <a:pt x="176" y="16"/>
                    </a:lnTo>
                    <a:lnTo>
                      <a:pt x="174" y="17"/>
                    </a:lnTo>
                    <a:lnTo>
                      <a:pt x="173" y="18"/>
                    </a:lnTo>
                    <a:lnTo>
                      <a:pt x="173" y="20"/>
                    </a:lnTo>
                    <a:lnTo>
                      <a:pt x="170" y="20"/>
                    </a:lnTo>
                    <a:lnTo>
                      <a:pt x="170" y="18"/>
                    </a:lnTo>
                    <a:lnTo>
                      <a:pt x="169" y="17"/>
                    </a:lnTo>
                    <a:lnTo>
                      <a:pt x="167" y="16"/>
                    </a:lnTo>
                    <a:lnTo>
                      <a:pt x="166" y="16"/>
                    </a:lnTo>
                    <a:lnTo>
                      <a:pt x="164" y="16"/>
                    </a:lnTo>
                    <a:lnTo>
                      <a:pt x="162" y="17"/>
                    </a:lnTo>
                    <a:lnTo>
                      <a:pt x="161" y="18"/>
                    </a:lnTo>
                    <a:lnTo>
                      <a:pt x="161" y="20"/>
                    </a:lnTo>
                    <a:lnTo>
                      <a:pt x="148" y="20"/>
                    </a:lnTo>
                    <a:lnTo>
                      <a:pt x="148" y="18"/>
                    </a:lnTo>
                    <a:lnTo>
                      <a:pt x="147" y="17"/>
                    </a:lnTo>
                    <a:lnTo>
                      <a:pt x="145" y="16"/>
                    </a:lnTo>
                    <a:lnTo>
                      <a:pt x="144" y="16"/>
                    </a:lnTo>
                    <a:lnTo>
                      <a:pt x="142" y="16"/>
                    </a:lnTo>
                    <a:lnTo>
                      <a:pt x="140" y="17"/>
                    </a:lnTo>
                    <a:lnTo>
                      <a:pt x="140" y="18"/>
                    </a:lnTo>
                    <a:lnTo>
                      <a:pt x="139" y="20"/>
                    </a:lnTo>
                    <a:lnTo>
                      <a:pt x="139" y="20"/>
                    </a:lnTo>
                    <a:lnTo>
                      <a:pt x="138" y="18"/>
                    </a:lnTo>
                    <a:lnTo>
                      <a:pt x="138" y="17"/>
                    </a:lnTo>
                    <a:lnTo>
                      <a:pt x="136" y="16"/>
                    </a:lnTo>
                    <a:lnTo>
                      <a:pt x="134" y="16"/>
                    </a:lnTo>
                    <a:lnTo>
                      <a:pt x="133" y="16"/>
                    </a:lnTo>
                    <a:lnTo>
                      <a:pt x="131" y="17"/>
                    </a:lnTo>
                    <a:lnTo>
                      <a:pt x="130" y="18"/>
                    </a:lnTo>
                    <a:lnTo>
                      <a:pt x="130" y="20"/>
                    </a:lnTo>
                    <a:lnTo>
                      <a:pt x="118" y="20"/>
                    </a:lnTo>
                    <a:lnTo>
                      <a:pt x="118" y="18"/>
                    </a:lnTo>
                    <a:lnTo>
                      <a:pt x="117" y="17"/>
                    </a:lnTo>
                    <a:lnTo>
                      <a:pt x="115" y="16"/>
                    </a:lnTo>
                    <a:lnTo>
                      <a:pt x="113" y="16"/>
                    </a:lnTo>
                    <a:lnTo>
                      <a:pt x="112" y="16"/>
                    </a:lnTo>
                    <a:lnTo>
                      <a:pt x="110" y="17"/>
                    </a:lnTo>
                    <a:lnTo>
                      <a:pt x="109" y="18"/>
                    </a:lnTo>
                    <a:lnTo>
                      <a:pt x="109" y="20"/>
                    </a:lnTo>
                    <a:lnTo>
                      <a:pt x="104" y="20"/>
                    </a:lnTo>
                    <a:lnTo>
                      <a:pt x="104" y="18"/>
                    </a:lnTo>
                    <a:lnTo>
                      <a:pt x="103" y="17"/>
                    </a:lnTo>
                    <a:lnTo>
                      <a:pt x="101" y="16"/>
                    </a:lnTo>
                    <a:lnTo>
                      <a:pt x="100" y="16"/>
                    </a:lnTo>
                    <a:lnTo>
                      <a:pt x="98" y="16"/>
                    </a:lnTo>
                    <a:lnTo>
                      <a:pt x="97" y="17"/>
                    </a:lnTo>
                    <a:lnTo>
                      <a:pt x="96" y="18"/>
                    </a:lnTo>
                    <a:lnTo>
                      <a:pt x="95" y="20"/>
                    </a:lnTo>
                    <a:lnTo>
                      <a:pt x="94" y="20"/>
                    </a:lnTo>
                    <a:lnTo>
                      <a:pt x="94" y="18"/>
                    </a:lnTo>
                    <a:lnTo>
                      <a:pt x="93" y="17"/>
                    </a:lnTo>
                    <a:lnTo>
                      <a:pt x="91" y="16"/>
                    </a:lnTo>
                    <a:lnTo>
                      <a:pt x="90" y="16"/>
                    </a:lnTo>
                    <a:lnTo>
                      <a:pt x="88" y="16"/>
                    </a:lnTo>
                    <a:lnTo>
                      <a:pt x="86" y="17"/>
                    </a:lnTo>
                    <a:lnTo>
                      <a:pt x="86" y="18"/>
                    </a:lnTo>
                    <a:lnTo>
                      <a:pt x="85" y="20"/>
                    </a:lnTo>
                    <a:lnTo>
                      <a:pt x="74" y="20"/>
                    </a:lnTo>
                    <a:lnTo>
                      <a:pt x="74" y="18"/>
                    </a:lnTo>
                    <a:lnTo>
                      <a:pt x="73" y="17"/>
                    </a:lnTo>
                    <a:lnTo>
                      <a:pt x="72" y="16"/>
                    </a:lnTo>
                    <a:lnTo>
                      <a:pt x="70" y="16"/>
                    </a:lnTo>
                    <a:lnTo>
                      <a:pt x="68" y="16"/>
                    </a:lnTo>
                    <a:lnTo>
                      <a:pt x="67" y="17"/>
                    </a:lnTo>
                    <a:lnTo>
                      <a:pt x="66" y="18"/>
                    </a:lnTo>
                    <a:lnTo>
                      <a:pt x="65" y="20"/>
                    </a:lnTo>
                    <a:lnTo>
                      <a:pt x="56" y="20"/>
                    </a:lnTo>
                    <a:lnTo>
                      <a:pt x="56" y="18"/>
                    </a:lnTo>
                    <a:lnTo>
                      <a:pt x="55" y="17"/>
                    </a:lnTo>
                    <a:lnTo>
                      <a:pt x="53" y="16"/>
                    </a:lnTo>
                    <a:lnTo>
                      <a:pt x="52" y="16"/>
                    </a:lnTo>
                    <a:lnTo>
                      <a:pt x="50" y="16"/>
                    </a:lnTo>
                    <a:lnTo>
                      <a:pt x="49" y="17"/>
                    </a:lnTo>
                    <a:lnTo>
                      <a:pt x="48" y="18"/>
                    </a:lnTo>
                    <a:lnTo>
                      <a:pt x="47" y="20"/>
                    </a:lnTo>
                    <a:lnTo>
                      <a:pt x="47" y="20"/>
                    </a:lnTo>
                    <a:lnTo>
                      <a:pt x="46" y="18"/>
                    </a:lnTo>
                    <a:lnTo>
                      <a:pt x="46" y="17"/>
                    </a:lnTo>
                    <a:lnTo>
                      <a:pt x="44" y="16"/>
                    </a:lnTo>
                    <a:lnTo>
                      <a:pt x="42" y="16"/>
                    </a:lnTo>
                    <a:lnTo>
                      <a:pt x="41" y="16"/>
                    </a:lnTo>
                    <a:lnTo>
                      <a:pt x="39" y="17"/>
                    </a:lnTo>
                    <a:lnTo>
                      <a:pt x="38" y="18"/>
                    </a:lnTo>
                    <a:lnTo>
                      <a:pt x="38" y="20"/>
                    </a:lnTo>
                    <a:lnTo>
                      <a:pt x="32" y="20"/>
                    </a:lnTo>
                    <a:lnTo>
                      <a:pt x="31" y="18"/>
                    </a:lnTo>
                    <a:lnTo>
                      <a:pt x="30" y="16"/>
                    </a:lnTo>
                    <a:lnTo>
                      <a:pt x="29" y="15"/>
                    </a:lnTo>
                    <a:lnTo>
                      <a:pt x="27" y="14"/>
                    </a:lnTo>
                    <a:lnTo>
                      <a:pt x="24" y="13"/>
                    </a:lnTo>
                    <a:lnTo>
                      <a:pt x="22" y="13"/>
                    </a:lnTo>
                    <a:lnTo>
                      <a:pt x="20" y="14"/>
                    </a:lnTo>
                    <a:lnTo>
                      <a:pt x="18" y="15"/>
                    </a:lnTo>
                    <a:lnTo>
                      <a:pt x="16" y="16"/>
                    </a:lnTo>
                    <a:lnTo>
                      <a:pt x="15" y="18"/>
                    </a:lnTo>
                    <a:lnTo>
                      <a:pt x="15" y="20"/>
                    </a:lnTo>
                    <a:lnTo>
                      <a:pt x="0" y="20"/>
                    </a:lnTo>
                    <a:lnTo>
                      <a:pt x="0"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5544000" y="3214440"/>
                <a:ext cx="13680" cy="1152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87" name=""/>
              <p:cNvSpPr/>
              <p:nvPr/>
            </p:nvSpPr>
            <p:spPr>
              <a:xfrm>
                <a:off x="3843720" y="3664440"/>
                <a:ext cx="314280" cy="358920"/>
              </a:xfrm>
              <a:custGeom>
                <a:avLst/>
                <a:gdLst/>
                <a:ahLst/>
                <a:rect l="l" t="t" r="r" b="b"/>
                <a:pathLst>
                  <a:path w="297" h="269">
                    <a:moveTo>
                      <a:pt x="297" y="0"/>
                    </a:moveTo>
                    <a:lnTo>
                      <a:pt x="297" y="33"/>
                    </a:lnTo>
                    <a:lnTo>
                      <a:pt x="263" y="33"/>
                    </a:lnTo>
                    <a:lnTo>
                      <a:pt x="262" y="31"/>
                    </a:lnTo>
                    <a:lnTo>
                      <a:pt x="261" y="30"/>
                    </a:lnTo>
                    <a:lnTo>
                      <a:pt x="260" y="30"/>
                    </a:lnTo>
                    <a:lnTo>
                      <a:pt x="258" y="29"/>
                    </a:lnTo>
                    <a:lnTo>
                      <a:pt x="256" y="30"/>
                    </a:lnTo>
                    <a:lnTo>
                      <a:pt x="255" y="30"/>
                    </a:lnTo>
                    <a:lnTo>
                      <a:pt x="254" y="31"/>
                    </a:lnTo>
                    <a:lnTo>
                      <a:pt x="254" y="33"/>
                    </a:lnTo>
                    <a:lnTo>
                      <a:pt x="249" y="33"/>
                    </a:lnTo>
                    <a:lnTo>
                      <a:pt x="249" y="31"/>
                    </a:lnTo>
                    <a:lnTo>
                      <a:pt x="248" y="30"/>
                    </a:lnTo>
                    <a:lnTo>
                      <a:pt x="246" y="30"/>
                    </a:lnTo>
                    <a:lnTo>
                      <a:pt x="245" y="29"/>
                    </a:lnTo>
                    <a:lnTo>
                      <a:pt x="243" y="30"/>
                    </a:lnTo>
                    <a:lnTo>
                      <a:pt x="241" y="30"/>
                    </a:lnTo>
                    <a:lnTo>
                      <a:pt x="240" y="31"/>
                    </a:lnTo>
                    <a:lnTo>
                      <a:pt x="240" y="33"/>
                    </a:lnTo>
                    <a:lnTo>
                      <a:pt x="225" y="33"/>
                    </a:lnTo>
                    <a:lnTo>
                      <a:pt x="225" y="31"/>
                    </a:lnTo>
                    <a:lnTo>
                      <a:pt x="224" y="30"/>
                    </a:lnTo>
                    <a:lnTo>
                      <a:pt x="223" y="30"/>
                    </a:lnTo>
                    <a:lnTo>
                      <a:pt x="221" y="29"/>
                    </a:lnTo>
                    <a:lnTo>
                      <a:pt x="219" y="30"/>
                    </a:lnTo>
                    <a:lnTo>
                      <a:pt x="218" y="30"/>
                    </a:lnTo>
                    <a:lnTo>
                      <a:pt x="217" y="31"/>
                    </a:lnTo>
                    <a:lnTo>
                      <a:pt x="216" y="33"/>
                    </a:lnTo>
                    <a:lnTo>
                      <a:pt x="204" y="33"/>
                    </a:lnTo>
                    <a:lnTo>
                      <a:pt x="204" y="226"/>
                    </a:lnTo>
                    <a:lnTo>
                      <a:pt x="166" y="226"/>
                    </a:lnTo>
                    <a:lnTo>
                      <a:pt x="166" y="224"/>
                    </a:lnTo>
                    <a:lnTo>
                      <a:pt x="165" y="223"/>
                    </a:lnTo>
                    <a:lnTo>
                      <a:pt x="163" y="223"/>
                    </a:lnTo>
                    <a:lnTo>
                      <a:pt x="162" y="222"/>
                    </a:lnTo>
                    <a:lnTo>
                      <a:pt x="160" y="223"/>
                    </a:lnTo>
                    <a:lnTo>
                      <a:pt x="158" y="223"/>
                    </a:lnTo>
                    <a:lnTo>
                      <a:pt x="158" y="224"/>
                    </a:lnTo>
                    <a:lnTo>
                      <a:pt x="157" y="226"/>
                    </a:lnTo>
                    <a:lnTo>
                      <a:pt x="0" y="226"/>
                    </a:lnTo>
                    <a:lnTo>
                      <a:pt x="0" y="26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4151880" y="365256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89" name=""/>
              <p:cNvSpPr/>
              <p:nvPr/>
            </p:nvSpPr>
            <p:spPr>
              <a:xfrm>
                <a:off x="3838320" y="402264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90" name=""/>
              <p:cNvSpPr/>
              <p:nvPr/>
            </p:nvSpPr>
            <p:spPr>
              <a:xfrm>
                <a:off x="4095720" y="3652560"/>
                <a:ext cx="95040" cy="334080"/>
              </a:xfrm>
              <a:custGeom>
                <a:avLst/>
                <a:gdLst/>
                <a:ahLst/>
                <a:rect l="l" t="t" r="r" b="b"/>
                <a:pathLst>
                  <a:path w="90" h="250">
                    <a:moveTo>
                      <a:pt x="90" y="0"/>
                    </a:moveTo>
                    <a:lnTo>
                      <a:pt x="90" y="52"/>
                    </a:lnTo>
                    <a:lnTo>
                      <a:pt x="25" y="52"/>
                    </a:lnTo>
                    <a:lnTo>
                      <a:pt x="24" y="51"/>
                    </a:lnTo>
                    <a:lnTo>
                      <a:pt x="23" y="50"/>
                    </a:lnTo>
                    <a:lnTo>
                      <a:pt x="22" y="49"/>
                    </a:lnTo>
                    <a:lnTo>
                      <a:pt x="20" y="49"/>
                    </a:lnTo>
                    <a:lnTo>
                      <a:pt x="18" y="49"/>
                    </a:lnTo>
                    <a:lnTo>
                      <a:pt x="17" y="50"/>
                    </a:lnTo>
                    <a:lnTo>
                      <a:pt x="16" y="51"/>
                    </a:lnTo>
                    <a:lnTo>
                      <a:pt x="16" y="52"/>
                    </a:lnTo>
                    <a:lnTo>
                      <a:pt x="11" y="52"/>
                    </a:lnTo>
                    <a:lnTo>
                      <a:pt x="11" y="51"/>
                    </a:lnTo>
                    <a:lnTo>
                      <a:pt x="10" y="50"/>
                    </a:lnTo>
                    <a:lnTo>
                      <a:pt x="8" y="49"/>
                    </a:lnTo>
                    <a:lnTo>
                      <a:pt x="7" y="49"/>
                    </a:lnTo>
                    <a:lnTo>
                      <a:pt x="5" y="49"/>
                    </a:lnTo>
                    <a:lnTo>
                      <a:pt x="3" y="50"/>
                    </a:lnTo>
                    <a:lnTo>
                      <a:pt x="2" y="51"/>
                    </a:lnTo>
                    <a:lnTo>
                      <a:pt x="2" y="52"/>
                    </a:lnTo>
                    <a:lnTo>
                      <a:pt x="0" y="52"/>
                    </a:lnTo>
                    <a:lnTo>
                      <a:pt x="0" y="250"/>
                    </a:lnTo>
                    <a:lnTo>
                      <a:pt x="7" y="25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4088160" y="398124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92" name=""/>
              <p:cNvSpPr/>
              <p:nvPr/>
            </p:nvSpPr>
            <p:spPr>
              <a:xfrm>
                <a:off x="3916800" y="3846240"/>
                <a:ext cx="214560" cy="658440"/>
              </a:xfrm>
              <a:custGeom>
                <a:avLst/>
                <a:gdLst/>
                <a:ahLst/>
                <a:rect l="l" t="t" r="r" b="b"/>
                <a:pathLst>
                  <a:path w="203" h="493">
                    <a:moveTo>
                      <a:pt x="0" y="493"/>
                    </a:moveTo>
                    <a:lnTo>
                      <a:pt x="0" y="460"/>
                    </a:lnTo>
                    <a:lnTo>
                      <a:pt x="15" y="460"/>
                    </a:lnTo>
                    <a:lnTo>
                      <a:pt x="15" y="204"/>
                    </a:lnTo>
                    <a:lnTo>
                      <a:pt x="93" y="204"/>
                    </a:lnTo>
                    <a:lnTo>
                      <a:pt x="93" y="4"/>
                    </a:lnTo>
                    <a:lnTo>
                      <a:pt x="131" y="4"/>
                    </a:lnTo>
                    <a:lnTo>
                      <a:pt x="131" y="2"/>
                    </a:lnTo>
                    <a:lnTo>
                      <a:pt x="132" y="1"/>
                    </a:lnTo>
                    <a:lnTo>
                      <a:pt x="133" y="0"/>
                    </a:lnTo>
                    <a:lnTo>
                      <a:pt x="135" y="0"/>
                    </a:lnTo>
                    <a:lnTo>
                      <a:pt x="137" y="0"/>
                    </a:lnTo>
                    <a:lnTo>
                      <a:pt x="138" y="1"/>
                    </a:lnTo>
                    <a:lnTo>
                      <a:pt x="139" y="2"/>
                    </a:lnTo>
                    <a:lnTo>
                      <a:pt x="140" y="4"/>
                    </a:lnTo>
                    <a:lnTo>
                      <a:pt x="147" y="4"/>
                    </a:lnTo>
                    <a:lnTo>
                      <a:pt x="148" y="2"/>
                    </a:lnTo>
                    <a:lnTo>
                      <a:pt x="149" y="1"/>
                    </a:lnTo>
                    <a:lnTo>
                      <a:pt x="150" y="0"/>
                    </a:lnTo>
                    <a:lnTo>
                      <a:pt x="152" y="0"/>
                    </a:lnTo>
                    <a:lnTo>
                      <a:pt x="154" y="0"/>
                    </a:lnTo>
                    <a:lnTo>
                      <a:pt x="155" y="1"/>
                    </a:lnTo>
                    <a:lnTo>
                      <a:pt x="156" y="2"/>
                    </a:lnTo>
                    <a:lnTo>
                      <a:pt x="156" y="4"/>
                    </a:lnTo>
                    <a:lnTo>
                      <a:pt x="164" y="4"/>
                    </a:lnTo>
                    <a:lnTo>
                      <a:pt x="165" y="2"/>
                    </a:lnTo>
                    <a:lnTo>
                      <a:pt x="166" y="1"/>
                    </a:lnTo>
                    <a:lnTo>
                      <a:pt x="167" y="0"/>
                    </a:lnTo>
                    <a:lnTo>
                      <a:pt x="169" y="0"/>
                    </a:lnTo>
                    <a:lnTo>
                      <a:pt x="171" y="0"/>
                    </a:lnTo>
                    <a:lnTo>
                      <a:pt x="172" y="1"/>
                    </a:lnTo>
                    <a:lnTo>
                      <a:pt x="173" y="2"/>
                    </a:lnTo>
                    <a:lnTo>
                      <a:pt x="173" y="4"/>
                    </a:lnTo>
                    <a:lnTo>
                      <a:pt x="203" y="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3910320" y="4502160"/>
                <a:ext cx="12600" cy="1440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4" name=""/>
              <p:cNvSpPr/>
              <p:nvPr/>
            </p:nvSpPr>
            <p:spPr>
              <a:xfrm>
                <a:off x="4109400" y="4117320"/>
                <a:ext cx="128880" cy="87840"/>
              </a:xfrm>
              <a:prstGeom prst="rect">
                <a:avLst/>
              </a:prstGeom>
              <a:blipFill rotWithShape="0">
                <a:blip r:embed="rId117"/>
                <a:srcRect/>
                <a:tile tx="0" ty="0" sx="100000" sy="100000" algn="ctr"/>
              </a:blip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95" name=""/>
              <p:cNvSpPr/>
              <p:nvPr/>
            </p:nvSpPr>
            <p:spPr>
              <a:xfrm>
                <a:off x="4124880" y="4125240"/>
                <a:ext cx="12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bate</a:t>
                </a:r>
                <a:endParaRPr b="0" lang="en-US" sz="300" spc="-1" strike="noStrike">
                  <a:solidFill>
                    <a:srgbClr val="ffffff"/>
                  </a:solidFill>
                  <a:latin typeface="Arial"/>
                </a:endParaRPr>
              </a:p>
            </p:txBody>
          </p:sp>
          <p:sp>
            <p:nvSpPr>
              <p:cNvPr id="1396" name=""/>
              <p:cNvSpPr/>
              <p:nvPr/>
            </p:nvSpPr>
            <p:spPr>
              <a:xfrm>
                <a:off x="4113360" y="4161240"/>
                <a:ext cx="15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Transfer</a:t>
                </a:r>
                <a:endParaRPr b="0" lang="en-US" sz="300" spc="-1" strike="noStrike">
                  <a:solidFill>
                    <a:srgbClr val="ffffff"/>
                  </a:solidFill>
                  <a:latin typeface="Arial"/>
                </a:endParaRPr>
              </a:p>
            </p:txBody>
          </p:sp>
          <p:sp>
            <p:nvSpPr>
              <p:cNvPr id="1397" name=""/>
              <p:cNvSpPr/>
              <p:nvPr/>
            </p:nvSpPr>
            <p:spPr>
              <a:xfrm>
                <a:off x="4238640" y="3422880"/>
                <a:ext cx="308880" cy="738360"/>
              </a:xfrm>
              <a:custGeom>
                <a:avLst/>
                <a:gdLst/>
                <a:ahLst/>
                <a:rect l="l" t="t" r="r" b="b"/>
                <a:pathLst>
                  <a:path w="292" h="553">
                    <a:moveTo>
                      <a:pt x="292" y="0"/>
                    </a:moveTo>
                    <a:lnTo>
                      <a:pt x="292" y="63"/>
                    </a:lnTo>
                    <a:lnTo>
                      <a:pt x="259" y="63"/>
                    </a:lnTo>
                    <a:lnTo>
                      <a:pt x="259" y="61"/>
                    </a:lnTo>
                    <a:lnTo>
                      <a:pt x="258" y="60"/>
                    </a:lnTo>
                    <a:lnTo>
                      <a:pt x="256" y="59"/>
                    </a:lnTo>
                    <a:lnTo>
                      <a:pt x="255" y="59"/>
                    </a:lnTo>
                    <a:lnTo>
                      <a:pt x="253" y="59"/>
                    </a:lnTo>
                    <a:lnTo>
                      <a:pt x="251" y="60"/>
                    </a:lnTo>
                    <a:lnTo>
                      <a:pt x="251" y="61"/>
                    </a:lnTo>
                    <a:lnTo>
                      <a:pt x="250" y="63"/>
                    </a:lnTo>
                    <a:lnTo>
                      <a:pt x="146" y="63"/>
                    </a:lnTo>
                    <a:lnTo>
                      <a:pt x="146" y="60"/>
                    </a:lnTo>
                    <a:lnTo>
                      <a:pt x="145" y="58"/>
                    </a:lnTo>
                    <a:lnTo>
                      <a:pt x="144" y="57"/>
                    </a:lnTo>
                    <a:lnTo>
                      <a:pt x="141" y="55"/>
                    </a:lnTo>
                    <a:lnTo>
                      <a:pt x="139" y="54"/>
                    </a:lnTo>
                    <a:lnTo>
                      <a:pt x="136" y="54"/>
                    </a:lnTo>
                    <a:lnTo>
                      <a:pt x="134" y="54"/>
                    </a:lnTo>
                    <a:lnTo>
                      <a:pt x="131" y="54"/>
                    </a:lnTo>
                    <a:lnTo>
                      <a:pt x="128" y="55"/>
                    </a:lnTo>
                    <a:lnTo>
                      <a:pt x="126" y="57"/>
                    </a:lnTo>
                    <a:lnTo>
                      <a:pt x="125" y="58"/>
                    </a:lnTo>
                    <a:lnTo>
                      <a:pt x="124" y="60"/>
                    </a:lnTo>
                    <a:lnTo>
                      <a:pt x="124" y="63"/>
                    </a:lnTo>
                    <a:lnTo>
                      <a:pt x="115" y="63"/>
                    </a:lnTo>
                    <a:lnTo>
                      <a:pt x="115" y="553"/>
                    </a:lnTo>
                    <a:lnTo>
                      <a:pt x="106" y="553"/>
                    </a:lnTo>
                    <a:lnTo>
                      <a:pt x="105" y="551"/>
                    </a:lnTo>
                    <a:lnTo>
                      <a:pt x="104" y="550"/>
                    </a:lnTo>
                    <a:lnTo>
                      <a:pt x="103" y="550"/>
                    </a:lnTo>
                    <a:lnTo>
                      <a:pt x="101" y="549"/>
                    </a:lnTo>
                    <a:lnTo>
                      <a:pt x="100" y="550"/>
                    </a:lnTo>
                    <a:lnTo>
                      <a:pt x="98" y="550"/>
                    </a:lnTo>
                    <a:lnTo>
                      <a:pt x="97" y="551"/>
                    </a:lnTo>
                    <a:lnTo>
                      <a:pt x="97" y="553"/>
                    </a:lnTo>
                    <a:lnTo>
                      <a:pt x="87" y="553"/>
                    </a:lnTo>
                    <a:lnTo>
                      <a:pt x="86" y="551"/>
                    </a:lnTo>
                    <a:lnTo>
                      <a:pt x="86" y="549"/>
                    </a:lnTo>
                    <a:lnTo>
                      <a:pt x="84" y="548"/>
                    </a:lnTo>
                    <a:lnTo>
                      <a:pt x="82" y="547"/>
                    </a:lnTo>
                    <a:lnTo>
                      <a:pt x="80" y="547"/>
                    </a:lnTo>
                    <a:lnTo>
                      <a:pt x="78" y="547"/>
                    </a:lnTo>
                    <a:lnTo>
                      <a:pt x="76" y="547"/>
                    </a:lnTo>
                    <a:lnTo>
                      <a:pt x="74" y="548"/>
                    </a:lnTo>
                    <a:lnTo>
                      <a:pt x="72" y="549"/>
                    </a:lnTo>
                    <a:lnTo>
                      <a:pt x="71" y="551"/>
                    </a:lnTo>
                    <a:lnTo>
                      <a:pt x="71" y="553"/>
                    </a:lnTo>
                    <a:lnTo>
                      <a:pt x="0" y="55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4541400" y="341064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399" name=""/>
              <p:cNvSpPr/>
              <p:nvPr/>
            </p:nvSpPr>
            <p:spPr>
              <a:xfrm>
                <a:off x="4160160" y="4367160"/>
                <a:ext cx="156240" cy="106920"/>
              </a:xfrm>
              <a:prstGeom prst="rect">
                <a:avLst/>
              </a:prstGeom>
              <a:blipFill rotWithShape="0">
                <a:blip r:embed="rId11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4206960" y="4388400"/>
                <a:ext cx="83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ign</a:t>
                </a:r>
                <a:endParaRPr b="0" lang="en-US" sz="300" spc="-1" strike="noStrike">
                  <a:solidFill>
                    <a:srgbClr val="ffffff"/>
                  </a:solidFill>
                  <a:latin typeface="Arial"/>
                </a:endParaRPr>
              </a:p>
            </p:txBody>
          </p:sp>
          <p:sp>
            <p:nvSpPr>
              <p:cNvPr id="1401" name=""/>
              <p:cNvSpPr/>
              <p:nvPr/>
            </p:nvSpPr>
            <p:spPr>
              <a:xfrm>
                <a:off x="4184280" y="442044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1402" name=""/>
              <p:cNvSpPr/>
              <p:nvPr/>
            </p:nvSpPr>
            <p:spPr>
              <a:xfrm>
                <a:off x="4038480" y="4577040"/>
                <a:ext cx="207360" cy="87840"/>
              </a:xfrm>
              <a:prstGeom prst="rect">
                <a:avLst/>
              </a:prstGeom>
              <a:blipFill rotWithShape="0">
                <a:blip r:embed="rId119"/>
                <a:srcRect/>
                <a:tile tx="0" ty="0" sx="100000" sy="100000" algn="ctr"/>
              </a:blip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03" name=""/>
              <p:cNvSpPr/>
              <p:nvPr/>
            </p:nvSpPr>
            <p:spPr>
              <a:xfrm>
                <a:off x="4051440" y="4586040"/>
                <a:ext cx="11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Writer</a:t>
                </a:r>
                <a:endParaRPr b="0" lang="en-US" sz="300" spc="-1" strike="noStrike">
                  <a:solidFill>
                    <a:srgbClr val="ffffff"/>
                  </a:solidFill>
                  <a:latin typeface="Arial"/>
                </a:endParaRPr>
              </a:p>
            </p:txBody>
          </p:sp>
          <p:sp>
            <p:nvSpPr>
              <p:cNvPr id="1404" name=""/>
              <p:cNvSpPr/>
              <p:nvPr/>
            </p:nvSpPr>
            <p:spPr>
              <a:xfrm>
                <a:off x="4063680" y="4622400"/>
                <a:ext cx="204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Workspace</a:t>
                </a:r>
                <a:endParaRPr b="0" lang="en-US" sz="300" spc="-1" strike="noStrike">
                  <a:solidFill>
                    <a:srgbClr val="ffffff"/>
                  </a:solidFill>
                  <a:latin typeface="Arial"/>
                </a:endParaRPr>
              </a:p>
            </p:txBody>
          </p:sp>
          <p:sp>
            <p:nvSpPr>
              <p:cNvPr id="1405" name=""/>
              <p:cNvSpPr/>
              <p:nvPr/>
            </p:nvSpPr>
            <p:spPr>
              <a:xfrm>
                <a:off x="3966480" y="4241520"/>
                <a:ext cx="214560" cy="89280"/>
              </a:xfrm>
              <a:prstGeom prst="rect">
                <a:avLst/>
              </a:prstGeom>
              <a:blipFill rotWithShape="0">
                <a:blip r:embed="rId120"/>
                <a:srcRect/>
                <a:tile tx="0" ty="0" sx="100000" sy="100000" algn="ctr"/>
              </a:blipFill>
              <a:ln w="0">
                <a:solidFill>
                  <a:srgbClr val="000000"/>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06" name=""/>
              <p:cNvSpPr/>
              <p:nvPr/>
            </p:nvSpPr>
            <p:spPr>
              <a:xfrm>
                <a:off x="3993480" y="4285440"/>
                <a:ext cx="208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werSuite</a:t>
                </a:r>
                <a:endParaRPr b="0" lang="en-US" sz="300" spc="-1" strike="noStrike">
                  <a:solidFill>
                    <a:srgbClr val="ffffff"/>
                  </a:solidFill>
                  <a:latin typeface="Arial"/>
                </a:endParaRPr>
              </a:p>
            </p:txBody>
          </p:sp>
          <p:sp>
            <p:nvSpPr>
              <p:cNvPr id="1407" name=""/>
              <p:cNvSpPr/>
              <p:nvPr/>
            </p:nvSpPr>
            <p:spPr>
              <a:xfrm>
                <a:off x="4258800" y="4026600"/>
                <a:ext cx="1326240" cy="594000"/>
              </a:xfrm>
              <a:custGeom>
                <a:avLst/>
                <a:gdLst/>
                <a:ahLst/>
                <a:rect l="l" t="t" r="r" b="b"/>
                <a:pathLst>
                  <a:path w="1253" h="445">
                    <a:moveTo>
                      <a:pt x="0" y="445"/>
                    </a:moveTo>
                    <a:lnTo>
                      <a:pt x="112" y="445"/>
                    </a:lnTo>
                    <a:lnTo>
                      <a:pt x="112" y="443"/>
                    </a:lnTo>
                    <a:lnTo>
                      <a:pt x="113" y="442"/>
                    </a:lnTo>
                    <a:lnTo>
                      <a:pt x="114" y="442"/>
                    </a:lnTo>
                    <a:lnTo>
                      <a:pt x="116" y="441"/>
                    </a:lnTo>
                    <a:lnTo>
                      <a:pt x="118" y="442"/>
                    </a:lnTo>
                    <a:lnTo>
                      <a:pt x="119" y="442"/>
                    </a:lnTo>
                    <a:lnTo>
                      <a:pt x="120" y="443"/>
                    </a:lnTo>
                    <a:lnTo>
                      <a:pt x="121" y="445"/>
                    </a:lnTo>
                    <a:lnTo>
                      <a:pt x="189" y="445"/>
                    </a:lnTo>
                    <a:lnTo>
                      <a:pt x="190" y="443"/>
                    </a:lnTo>
                    <a:lnTo>
                      <a:pt x="191" y="442"/>
                    </a:lnTo>
                    <a:lnTo>
                      <a:pt x="192" y="442"/>
                    </a:lnTo>
                    <a:lnTo>
                      <a:pt x="194" y="441"/>
                    </a:lnTo>
                    <a:lnTo>
                      <a:pt x="195" y="442"/>
                    </a:lnTo>
                    <a:lnTo>
                      <a:pt x="197" y="442"/>
                    </a:lnTo>
                    <a:lnTo>
                      <a:pt x="198" y="443"/>
                    </a:lnTo>
                    <a:lnTo>
                      <a:pt x="198" y="445"/>
                    </a:lnTo>
                    <a:lnTo>
                      <a:pt x="250" y="445"/>
                    </a:lnTo>
                    <a:lnTo>
                      <a:pt x="250" y="443"/>
                    </a:lnTo>
                    <a:lnTo>
                      <a:pt x="251" y="442"/>
                    </a:lnTo>
                    <a:lnTo>
                      <a:pt x="253" y="442"/>
                    </a:lnTo>
                    <a:lnTo>
                      <a:pt x="255" y="441"/>
                    </a:lnTo>
                    <a:lnTo>
                      <a:pt x="256" y="442"/>
                    </a:lnTo>
                    <a:lnTo>
                      <a:pt x="258" y="442"/>
                    </a:lnTo>
                    <a:lnTo>
                      <a:pt x="259" y="443"/>
                    </a:lnTo>
                    <a:lnTo>
                      <a:pt x="259" y="445"/>
                    </a:lnTo>
                    <a:lnTo>
                      <a:pt x="324" y="445"/>
                    </a:lnTo>
                    <a:lnTo>
                      <a:pt x="325" y="443"/>
                    </a:lnTo>
                    <a:lnTo>
                      <a:pt x="326" y="442"/>
                    </a:lnTo>
                    <a:lnTo>
                      <a:pt x="327" y="442"/>
                    </a:lnTo>
                    <a:lnTo>
                      <a:pt x="329" y="441"/>
                    </a:lnTo>
                    <a:lnTo>
                      <a:pt x="331" y="442"/>
                    </a:lnTo>
                    <a:lnTo>
                      <a:pt x="332" y="442"/>
                    </a:lnTo>
                    <a:lnTo>
                      <a:pt x="333" y="443"/>
                    </a:lnTo>
                    <a:lnTo>
                      <a:pt x="333" y="445"/>
                    </a:lnTo>
                    <a:lnTo>
                      <a:pt x="375" y="445"/>
                    </a:lnTo>
                    <a:lnTo>
                      <a:pt x="375" y="443"/>
                    </a:lnTo>
                    <a:lnTo>
                      <a:pt x="376" y="441"/>
                    </a:lnTo>
                    <a:lnTo>
                      <a:pt x="378" y="440"/>
                    </a:lnTo>
                    <a:lnTo>
                      <a:pt x="380" y="439"/>
                    </a:lnTo>
                    <a:lnTo>
                      <a:pt x="382" y="439"/>
                    </a:lnTo>
                    <a:lnTo>
                      <a:pt x="384" y="439"/>
                    </a:lnTo>
                    <a:lnTo>
                      <a:pt x="386" y="439"/>
                    </a:lnTo>
                    <a:lnTo>
                      <a:pt x="388" y="440"/>
                    </a:lnTo>
                    <a:lnTo>
                      <a:pt x="389" y="441"/>
                    </a:lnTo>
                    <a:lnTo>
                      <a:pt x="390" y="443"/>
                    </a:lnTo>
                    <a:lnTo>
                      <a:pt x="391" y="445"/>
                    </a:lnTo>
                    <a:lnTo>
                      <a:pt x="478" y="445"/>
                    </a:lnTo>
                    <a:lnTo>
                      <a:pt x="478" y="443"/>
                    </a:lnTo>
                    <a:lnTo>
                      <a:pt x="480" y="442"/>
                    </a:lnTo>
                    <a:lnTo>
                      <a:pt x="481" y="442"/>
                    </a:lnTo>
                    <a:lnTo>
                      <a:pt x="483" y="441"/>
                    </a:lnTo>
                    <a:lnTo>
                      <a:pt x="484" y="442"/>
                    </a:lnTo>
                    <a:lnTo>
                      <a:pt x="486" y="442"/>
                    </a:lnTo>
                    <a:lnTo>
                      <a:pt x="487" y="443"/>
                    </a:lnTo>
                    <a:lnTo>
                      <a:pt x="487" y="445"/>
                    </a:lnTo>
                    <a:lnTo>
                      <a:pt x="523" y="445"/>
                    </a:lnTo>
                    <a:lnTo>
                      <a:pt x="523" y="443"/>
                    </a:lnTo>
                    <a:lnTo>
                      <a:pt x="524" y="442"/>
                    </a:lnTo>
                    <a:lnTo>
                      <a:pt x="526" y="442"/>
                    </a:lnTo>
                    <a:lnTo>
                      <a:pt x="528" y="441"/>
                    </a:lnTo>
                    <a:lnTo>
                      <a:pt x="529" y="442"/>
                    </a:lnTo>
                    <a:lnTo>
                      <a:pt x="531" y="442"/>
                    </a:lnTo>
                    <a:lnTo>
                      <a:pt x="532" y="443"/>
                    </a:lnTo>
                    <a:lnTo>
                      <a:pt x="532" y="445"/>
                    </a:lnTo>
                    <a:lnTo>
                      <a:pt x="726" y="445"/>
                    </a:lnTo>
                    <a:lnTo>
                      <a:pt x="727" y="443"/>
                    </a:lnTo>
                    <a:lnTo>
                      <a:pt x="728" y="442"/>
                    </a:lnTo>
                    <a:lnTo>
                      <a:pt x="729" y="442"/>
                    </a:lnTo>
                    <a:lnTo>
                      <a:pt x="731" y="441"/>
                    </a:lnTo>
                    <a:lnTo>
                      <a:pt x="733" y="442"/>
                    </a:lnTo>
                    <a:lnTo>
                      <a:pt x="734" y="442"/>
                    </a:lnTo>
                    <a:lnTo>
                      <a:pt x="735" y="443"/>
                    </a:lnTo>
                    <a:lnTo>
                      <a:pt x="735" y="445"/>
                    </a:lnTo>
                    <a:lnTo>
                      <a:pt x="766" y="445"/>
                    </a:lnTo>
                    <a:lnTo>
                      <a:pt x="767" y="443"/>
                    </a:lnTo>
                    <a:lnTo>
                      <a:pt x="768" y="442"/>
                    </a:lnTo>
                    <a:lnTo>
                      <a:pt x="769" y="442"/>
                    </a:lnTo>
                    <a:lnTo>
                      <a:pt x="771" y="441"/>
                    </a:lnTo>
                    <a:lnTo>
                      <a:pt x="773" y="442"/>
                    </a:lnTo>
                    <a:lnTo>
                      <a:pt x="774" y="442"/>
                    </a:lnTo>
                    <a:lnTo>
                      <a:pt x="775" y="443"/>
                    </a:lnTo>
                    <a:lnTo>
                      <a:pt x="775" y="445"/>
                    </a:lnTo>
                    <a:lnTo>
                      <a:pt x="806" y="445"/>
                    </a:lnTo>
                    <a:lnTo>
                      <a:pt x="807" y="443"/>
                    </a:lnTo>
                    <a:lnTo>
                      <a:pt x="808" y="442"/>
                    </a:lnTo>
                    <a:lnTo>
                      <a:pt x="809" y="442"/>
                    </a:lnTo>
                    <a:lnTo>
                      <a:pt x="811" y="441"/>
                    </a:lnTo>
                    <a:lnTo>
                      <a:pt x="813" y="442"/>
                    </a:lnTo>
                    <a:lnTo>
                      <a:pt x="814" y="442"/>
                    </a:lnTo>
                    <a:lnTo>
                      <a:pt x="815" y="443"/>
                    </a:lnTo>
                    <a:lnTo>
                      <a:pt x="815" y="445"/>
                    </a:lnTo>
                    <a:lnTo>
                      <a:pt x="846" y="445"/>
                    </a:lnTo>
                    <a:lnTo>
                      <a:pt x="847" y="443"/>
                    </a:lnTo>
                    <a:lnTo>
                      <a:pt x="848" y="442"/>
                    </a:lnTo>
                    <a:lnTo>
                      <a:pt x="849" y="442"/>
                    </a:lnTo>
                    <a:lnTo>
                      <a:pt x="851" y="441"/>
                    </a:lnTo>
                    <a:lnTo>
                      <a:pt x="852" y="442"/>
                    </a:lnTo>
                    <a:lnTo>
                      <a:pt x="854" y="442"/>
                    </a:lnTo>
                    <a:lnTo>
                      <a:pt x="855" y="443"/>
                    </a:lnTo>
                    <a:lnTo>
                      <a:pt x="855" y="445"/>
                    </a:lnTo>
                    <a:lnTo>
                      <a:pt x="868" y="445"/>
                    </a:lnTo>
                    <a:lnTo>
                      <a:pt x="868" y="443"/>
                    </a:lnTo>
                    <a:lnTo>
                      <a:pt x="869" y="442"/>
                    </a:lnTo>
                    <a:lnTo>
                      <a:pt x="871" y="442"/>
                    </a:lnTo>
                    <a:lnTo>
                      <a:pt x="873" y="441"/>
                    </a:lnTo>
                    <a:lnTo>
                      <a:pt x="874" y="442"/>
                    </a:lnTo>
                    <a:lnTo>
                      <a:pt x="876" y="442"/>
                    </a:lnTo>
                    <a:lnTo>
                      <a:pt x="877" y="443"/>
                    </a:lnTo>
                    <a:lnTo>
                      <a:pt x="877" y="445"/>
                    </a:lnTo>
                    <a:lnTo>
                      <a:pt x="886" y="445"/>
                    </a:lnTo>
                    <a:lnTo>
                      <a:pt x="887" y="443"/>
                    </a:lnTo>
                    <a:lnTo>
                      <a:pt x="888" y="442"/>
                    </a:lnTo>
                    <a:lnTo>
                      <a:pt x="889" y="442"/>
                    </a:lnTo>
                    <a:lnTo>
                      <a:pt x="891" y="441"/>
                    </a:lnTo>
                    <a:lnTo>
                      <a:pt x="892" y="442"/>
                    </a:lnTo>
                    <a:lnTo>
                      <a:pt x="894" y="442"/>
                    </a:lnTo>
                    <a:lnTo>
                      <a:pt x="895" y="443"/>
                    </a:lnTo>
                    <a:lnTo>
                      <a:pt x="895" y="445"/>
                    </a:lnTo>
                    <a:lnTo>
                      <a:pt x="926" y="445"/>
                    </a:lnTo>
                    <a:lnTo>
                      <a:pt x="926" y="443"/>
                    </a:lnTo>
                    <a:lnTo>
                      <a:pt x="927" y="442"/>
                    </a:lnTo>
                    <a:lnTo>
                      <a:pt x="929" y="442"/>
                    </a:lnTo>
                    <a:lnTo>
                      <a:pt x="931" y="441"/>
                    </a:lnTo>
                    <a:lnTo>
                      <a:pt x="932" y="442"/>
                    </a:lnTo>
                    <a:lnTo>
                      <a:pt x="934" y="442"/>
                    </a:lnTo>
                    <a:lnTo>
                      <a:pt x="935" y="443"/>
                    </a:lnTo>
                    <a:lnTo>
                      <a:pt x="935" y="445"/>
                    </a:lnTo>
                    <a:lnTo>
                      <a:pt x="997" y="445"/>
                    </a:lnTo>
                    <a:lnTo>
                      <a:pt x="998" y="443"/>
                    </a:lnTo>
                    <a:lnTo>
                      <a:pt x="998" y="442"/>
                    </a:lnTo>
                    <a:lnTo>
                      <a:pt x="1000" y="440"/>
                    </a:lnTo>
                    <a:lnTo>
                      <a:pt x="1002" y="440"/>
                    </a:lnTo>
                    <a:lnTo>
                      <a:pt x="1004" y="439"/>
                    </a:lnTo>
                    <a:lnTo>
                      <a:pt x="1006" y="439"/>
                    </a:lnTo>
                    <a:lnTo>
                      <a:pt x="1008" y="440"/>
                    </a:lnTo>
                    <a:lnTo>
                      <a:pt x="1010" y="440"/>
                    </a:lnTo>
                    <a:lnTo>
                      <a:pt x="1011" y="442"/>
                    </a:lnTo>
                    <a:lnTo>
                      <a:pt x="1012" y="443"/>
                    </a:lnTo>
                    <a:lnTo>
                      <a:pt x="1012" y="445"/>
                    </a:lnTo>
                    <a:lnTo>
                      <a:pt x="1037" y="445"/>
                    </a:lnTo>
                    <a:lnTo>
                      <a:pt x="1037" y="443"/>
                    </a:lnTo>
                    <a:lnTo>
                      <a:pt x="1038" y="441"/>
                    </a:lnTo>
                    <a:lnTo>
                      <a:pt x="1040" y="440"/>
                    </a:lnTo>
                    <a:lnTo>
                      <a:pt x="1042" y="439"/>
                    </a:lnTo>
                    <a:lnTo>
                      <a:pt x="1044" y="439"/>
                    </a:lnTo>
                    <a:lnTo>
                      <a:pt x="1046" y="439"/>
                    </a:lnTo>
                    <a:lnTo>
                      <a:pt x="1048" y="439"/>
                    </a:lnTo>
                    <a:lnTo>
                      <a:pt x="1050" y="440"/>
                    </a:lnTo>
                    <a:lnTo>
                      <a:pt x="1051" y="441"/>
                    </a:lnTo>
                    <a:lnTo>
                      <a:pt x="1052" y="443"/>
                    </a:lnTo>
                    <a:lnTo>
                      <a:pt x="1052" y="445"/>
                    </a:lnTo>
                    <a:lnTo>
                      <a:pt x="1057" y="445"/>
                    </a:lnTo>
                    <a:lnTo>
                      <a:pt x="1058" y="443"/>
                    </a:lnTo>
                    <a:lnTo>
                      <a:pt x="1058" y="442"/>
                    </a:lnTo>
                    <a:lnTo>
                      <a:pt x="1060" y="442"/>
                    </a:lnTo>
                    <a:lnTo>
                      <a:pt x="1062" y="441"/>
                    </a:lnTo>
                    <a:lnTo>
                      <a:pt x="1063" y="442"/>
                    </a:lnTo>
                    <a:lnTo>
                      <a:pt x="1065" y="442"/>
                    </a:lnTo>
                    <a:lnTo>
                      <a:pt x="1066" y="443"/>
                    </a:lnTo>
                    <a:lnTo>
                      <a:pt x="1066" y="445"/>
                    </a:lnTo>
                    <a:lnTo>
                      <a:pt x="1100" y="445"/>
                    </a:lnTo>
                    <a:lnTo>
                      <a:pt x="1100" y="443"/>
                    </a:lnTo>
                    <a:lnTo>
                      <a:pt x="1101" y="442"/>
                    </a:lnTo>
                    <a:lnTo>
                      <a:pt x="1103" y="442"/>
                    </a:lnTo>
                    <a:lnTo>
                      <a:pt x="1104" y="441"/>
                    </a:lnTo>
                    <a:lnTo>
                      <a:pt x="1106" y="442"/>
                    </a:lnTo>
                    <a:lnTo>
                      <a:pt x="1108" y="442"/>
                    </a:lnTo>
                    <a:lnTo>
                      <a:pt x="1109" y="443"/>
                    </a:lnTo>
                    <a:lnTo>
                      <a:pt x="1109" y="445"/>
                    </a:lnTo>
                    <a:lnTo>
                      <a:pt x="1129" y="445"/>
                    </a:lnTo>
                    <a:lnTo>
                      <a:pt x="1129" y="443"/>
                    </a:lnTo>
                    <a:lnTo>
                      <a:pt x="1130" y="442"/>
                    </a:lnTo>
                    <a:lnTo>
                      <a:pt x="1131" y="442"/>
                    </a:lnTo>
                    <a:lnTo>
                      <a:pt x="1133" y="441"/>
                    </a:lnTo>
                    <a:lnTo>
                      <a:pt x="1135" y="442"/>
                    </a:lnTo>
                    <a:lnTo>
                      <a:pt x="1136" y="442"/>
                    </a:lnTo>
                    <a:lnTo>
                      <a:pt x="1137" y="443"/>
                    </a:lnTo>
                    <a:lnTo>
                      <a:pt x="1138" y="445"/>
                    </a:lnTo>
                    <a:lnTo>
                      <a:pt x="1182" y="445"/>
                    </a:lnTo>
                    <a:lnTo>
                      <a:pt x="1182" y="335"/>
                    </a:lnTo>
                    <a:lnTo>
                      <a:pt x="1253" y="335"/>
                    </a:lnTo>
                    <a:lnTo>
                      <a:pt x="1253"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a:off x="4246200" y="461412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09" name=""/>
              <p:cNvSpPr/>
              <p:nvPr/>
            </p:nvSpPr>
            <p:spPr>
              <a:xfrm>
                <a:off x="4074480" y="4343040"/>
                <a:ext cx="23040" cy="236160"/>
              </a:xfrm>
              <a:custGeom>
                <a:avLst/>
                <a:gdLst/>
                <a:ahLst/>
                <a:rect l="l" t="t" r="r" b="b"/>
                <a:pathLst>
                  <a:path w="22" h="177">
                    <a:moveTo>
                      <a:pt x="22" y="177"/>
                    </a:moveTo>
                    <a:lnTo>
                      <a:pt x="22" y="159"/>
                    </a:lnTo>
                    <a:lnTo>
                      <a:pt x="0" y="159"/>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4068000" y="4330800"/>
                <a:ext cx="11520" cy="13320"/>
              </a:xfrm>
              <a:custGeom>
                <a:avLst/>
                <a:gdLst/>
                <a:ahLst/>
                <a:rect l="l" t="t" r="r" b="b"/>
                <a:pathLst>
                  <a:path w="11" h="10">
                    <a:moveTo>
                      <a:pt x="0" y="9"/>
                    </a:moveTo>
                    <a:lnTo>
                      <a:pt x="6" y="0"/>
                    </a:lnTo>
                    <a:lnTo>
                      <a:pt x="11" y="9"/>
                    </a:lnTo>
                    <a:lnTo>
                      <a:pt x="9" y="10"/>
                    </a:lnTo>
                    <a:lnTo>
                      <a:pt x="6" y="10"/>
                    </a:lnTo>
                    <a:lnTo>
                      <a:pt x="2"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11" name=""/>
              <p:cNvSpPr/>
              <p:nvPr/>
            </p:nvSpPr>
            <p:spPr>
              <a:xfrm>
                <a:off x="4171680" y="4487400"/>
                <a:ext cx="18000" cy="91800"/>
              </a:xfrm>
              <a:custGeom>
                <a:avLst/>
                <a:gdLst/>
                <a:ahLst/>
                <a:rect l="l" t="t" r="r" b="b"/>
                <a:pathLst>
                  <a:path w="17" h="69">
                    <a:moveTo>
                      <a:pt x="0" y="69"/>
                    </a:moveTo>
                    <a:lnTo>
                      <a:pt x="0" y="51"/>
                    </a:lnTo>
                    <a:lnTo>
                      <a:pt x="17" y="51"/>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2" name=""/>
              <p:cNvSpPr/>
              <p:nvPr/>
            </p:nvSpPr>
            <p:spPr>
              <a:xfrm>
                <a:off x="4183560" y="4474080"/>
                <a:ext cx="1260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413" name=""/>
              <p:cNvSpPr/>
              <p:nvPr/>
            </p:nvSpPr>
            <p:spPr>
              <a:xfrm>
                <a:off x="3737880" y="4214880"/>
                <a:ext cx="128880" cy="87840"/>
              </a:xfrm>
              <a:prstGeom prst="rect">
                <a:avLst/>
              </a:prstGeom>
              <a:blipFill rotWithShape="0">
                <a:blip r:embed="rId121"/>
                <a:srcRect/>
                <a:tile tx="0" ty="0" sx="100000" sy="100000" algn="ctr"/>
              </a:blip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14" name=""/>
              <p:cNvSpPr/>
              <p:nvPr/>
            </p:nvSpPr>
            <p:spPr>
              <a:xfrm>
                <a:off x="3764160" y="4225680"/>
                <a:ext cx="98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re</a:t>
                </a:r>
                <a:endParaRPr b="0" lang="en-US" sz="300" spc="-1" strike="noStrike">
                  <a:solidFill>
                    <a:srgbClr val="ffffff"/>
                  </a:solidFill>
                  <a:latin typeface="Arial"/>
                </a:endParaRPr>
              </a:p>
            </p:txBody>
          </p:sp>
          <p:sp>
            <p:nvSpPr>
              <p:cNvPr id="1415" name=""/>
              <p:cNvSpPr/>
              <p:nvPr/>
            </p:nvSpPr>
            <p:spPr>
              <a:xfrm>
                <a:off x="3748320" y="4257720"/>
                <a:ext cx="139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onitor</a:t>
                </a:r>
                <a:endParaRPr b="0" lang="en-US" sz="300" spc="-1" strike="noStrike">
                  <a:solidFill>
                    <a:srgbClr val="ffffff"/>
                  </a:solidFill>
                  <a:latin typeface="Arial"/>
                </a:endParaRPr>
              </a:p>
            </p:txBody>
          </p:sp>
          <p:sp>
            <p:nvSpPr>
              <p:cNvPr id="1416" name=""/>
              <p:cNvSpPr/>
              <p:nvPr/>
            </p:nvSpPr>
            <p:spPr>
              <a:xfrm>
                <a:off x="3878640" y="4253400"/>
                <a:ext cx="87840" cy="33480"/>
              </a:xfrm>
              <a:custGeom>
                <a:avLst/>
                <a:gdLst/>
                <a:ahLst/>
                <a:rect l="l" t="t" r="r" b="b"/>
                <a:pathLst>
                  <a:path w="83" h="25">
                    <a:moveTo>
                      <a:pt x="83" y="25"/>
                    </a:moveTo>
                    <a:lnTo>
                      <a:pt x="63" y="25"/>
                    </a:lnTo>
                    <a:lnTo>
                      <a:pt x="63" y="4"/>
                    </a:lnTo>
                    <a:lnTo>
                      <a:pt x="56" y="4"/>
                    </a:lnTo>
                    <a:lnTo>
                      <a:pt x="55" y="3"/>
                    </a:lnTo>
                    <a:lnTo>
                      <a:pt x="54" y="1"/>
                    </a:lnTo>
                    <a:lnTo>
                      <a:pt x="53" y="1"/>
                    </a:lnTo>
                    <a:lnTo>
                      <a:pt x="51" y="0"/>
                    </a:lnTo>
                    <a:lnTo>
                      <a:pt x="49" y="1"/>
                    </a:lnTo>
                    <a:lnTo>
                      <a:pt x="48" y="1"/>
                    </a:lnTo>
                    <a:lnTo>
                      <a:pt x="47" y="3"/>
                    </a:lnTo>
                    <a:lnTo>
                      <a:pt x="47" y="4"/>
                    </a:lnTo>
                    <a:lnTo>
                      <a:pt x="13" y="4"/>
                    </a:lnTo>
                    <a:lnTo>
                      <a:pt x="13" y="3"/>
                    </a:lnTo>
                    <a:lnTo>
                      <a:pt x="12" y="1"/>
                    </a:lnTo>
                    <a:lnTo>
                      <a:pt x="11" y="1"/>
                    </a:lnTo>
                    <a:lnTo>
                      <a:pt x="9" y="0"/>
                    </a:lnTo>
                    <a:lnTo>
                      <a:pt x="7" y="1"/>
                    </a:lnTo>
                    <a:lnTo>
                      <a:pt x="6" y="1"/>
                    </a:lnTo>
                    <a:lnTo>
                      <a:pt x="5" y="3"/>
                    </a:lnTo>
                    <a:lnTo>
                      <a:pt x="4" y="4"/>
                    </a:lnTo>
                    <a:lnTo>
                      <a:pt x="0" y="4"/>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17" name=""/>
              <p:cNvSpPr/>
              <p:nvPr/>
            </p:nvSpPr>
            <p:spPr>
              <a:xfrm>
                <a:off x="3866760" y="425232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18" name=""/>
              <p:cNvSpPr/>
              <p:nvPr/>
            </p:nvSpPr>
            <p:spPr>
              <a:xfrm>
                <a:off x="3888360" y="4105440"/>
                <a:ext cx="259200" cy="285840"/>
              </a:xfrm>
              <a:custGeom>
                <a:avLst/>
                <a:gdLst/>
                <a:ahLst/>
                <a:rect l="l" t="t" r="r" b="b"/>
                <a:pathLst>
                  <a:path w="245" h="214">
                    <a:moveTo>
                      <a:pt x="245" y="214"/>
                    </a:moveTo>
                    <a:lnTo>
                      <a:pt x="180" y="214"/>
                    </a:lnTo>
                    <a:lnTo>
                      <a:pt x="180" y="213"/>
                    </a:lnTo>
                    <a:lnTo>
                      <a:pt x="179" y="211"/>
                    </a:lnTo>
                    <a:lnTo>
                      <a:pt x="177" y="211"/>
                    </a:lnTo>
                    <a:lnTo>
                      <a:pt x="176" y="210"/>
                    </a:lnTo>
                    <a:lnTo>
                      <a:pt x="174" y="211"/>
                    </a:lnTo>
                    <a:lnTo>
                      <a:pt x="172" y="211"/>
                    </a:lnTo>
                    <a:lnTo>
                      <a:pt x="171" y="213"/>
                    </a:lnTo>
                    <a:lnTo>
                      <a:pt x="171" y="214"/>
                    </a:lnTo>
                    <a:lnTo>
                      <a:pt x="56" y="214"/>
                    </a:lnTo>
                    <a:lnTo>
                      <a:pt x="56" y="195"/>
                    </a:lnTo>
                    <a:lnTo>
                      <a:pt x="47" y="195"/>
                    </a:lnTo>
                    <a:lnTo>
                      <a:pt x="46" y="194"/>
                    </a:lnTo>
                    <a:lnTo>
                      <a:pt x="45" y="192"/>
                    </a:lnTo>
                    <a:lnTo>
                      <a:pt x="44" y="192"/>
                    </a:lnTo>
                    <a:lnTo>
                      <a:pt x="42" y="192"/>
                    </a:lnTo>
                    <a:lnTo>
                      <a:pt x="40" y="192"/>
                    </a:lnTo>
                    <a:lnTo>
                      <a:pt x="39" y="192"/>
                    </a:lnTo>
                    <a:lnTo>
                      <a:pt x="38" y="194"/>
                    </a:lnTo>
                    <a:lnTo>
                      <a:pt x="38" y="195"/>
                    </a:lnTo>
                    <a:lnTo>
                      <a:pt x="0" y="19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a:off x="4145400" y="4384440"/>
                <a:ext cx="14760" cy="13320"/>
              </a:xfrm>
              <a:custGeom>
                <a:avLst/>
                <a:gdLst/>
                <a:ahLst/>
                <a:rect l="l" t="t" r="r" b="b"/>
                <a:pathLst>
                  <a:path w="14" h="10">
                    <a:moveTo>
                      <a:pt x="2" y="0"/>
                    </a:moveTo>
                    <a:lnTo>
                      <a:pt x="14" y="5"/>
                    </a:lnTo>
                    <a:lnTo>
                      <a:pt x="2" y="10"/>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20" name=""/>
              <p:cNvSpPr/>
              <p:nvPr/>
            </p:nvSpPr>
            <p:spPr>
              <a:xfrm>
                <a:off x="4231080" y="3652560"/>
                <a:ext cx="86760" cy="704880"/>
              </a:xfrm>
              <a:custGeom>
                <a:avLst/>
                <a:gdLst/>
                <a:ahLst/>
                <a:rect l="l" t="t" r="r" b="b"/>
                <a:pathLst>
                  <a:path w="82" h="528">
                    <a:moveTo>
                      <a:pt x="62" y="0"/>
                    </a:moveTo>
                    <a:lnTo>
                      <a:pt x="62" y="68"/>
                    </a:lnTo>
                    <a:lnTo>
                      <a:pt x="82" y="68"/>
                    </a:lnTo>
                    <a:lnTo>
                      <a:pt x="82" y="489"/>
                    </a:lnTo>
                    <a:lnTo>
                      <a:pt x="0" y="489"/>
                    </a:lnTo>
                    <a:lnTo>
                      <a:pt x="0" y="52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4224960" y="435636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22" name=""/>
              <p:cNvSpPr/>
              <p:nvPr/>
            </p:nvSpPr>
            <p:spPr>
              <a:xfrm>
                <a:off x="4329720" y="3978360"/>
                <a:ext cx="502920" cy="412560"/>
              </a:xfrm>
              <a:custGeom>
                <a:avLst/>
                <a:gdLst/>
                <a:ahLst/>
                <a:rect l="l" t="t" r="r" b="b"/>
                <a:pathLst>
                  <a:path w="475" h="309">
                    <a:moveTo>
                      <a:pt x="475" y="0"/>
                    </a:moveTo>
                    <a:lnTo>
                      <a:pt x="475" y="61"/>
                    </a:lnTo>
                    <a:lnTo>
                      <a:pt x="420" y="61"/>
                    </a:lnTo>
                    <a:lnTo>
                      <a:pt x="420" y="60"/>
                    </a:lnTo>
                    <a:lnTo>
                      <a:pt x="419" y="59"/>
                    </a:lnTo>
                    <a:lnTo>
                      <a:pt x="417" y="58"/>
                    </a:lnTo>
                    <a:lnTo>
                      <a:pt x="416" y="58"/>
                    </a:lnTo>
                    <a:lnTo>
                      <a:pt x="414" y="58"/>
                    </a:lnTo>
                    <a:lnTo>
                      <a:pt x="413" y="59"/>
                    </a:lnTo>
                    <a:lnTo>
                      <a:pt x="411" y="60"/>
                    </a:lnTo>
                    <a:lnTo>
                      <a:pt x="411" y="61"/>
                    </a:lnTo>
                    <a:lnTo>
                      <a:pt x="400" y="61"/>
                    </a:lnTo>
                    <a:lnTo>
                      <a:pt x="399" y="60"/>
                    </a:lnTo>
                    <a:lnTo>
                      <a:pt x="398" y="59"/>
                    </a:lnTo>
                    <a:lnTo>
                      <a:pt x="397" y="58"/>
                    </a:lnTo>
                    <a:lnTo>
                      <a:pt x="395" y="58"/>
                    </a:lnTo>
                    <a:lnTo>
                      <a:pt x="393" y="58"/>
                    </a:lnTo>
                    <a:lnTo>
                      <a:pt x="392" y="59"/>
                    </a:lnTo>
                    <a:lnTo>
                      <a:pt x="391" y="60"/>
                    </a:lnTo>
                    <a:lnTo>
                      <a:pt x="391" y="61"/>
                    </a:lnTo>
                    <a:lnTo>
                      <a:pt x="385" y="61"/>
                    </a:lnTo>
                    <a:lnTo>
                      <a:pt x="385" y="60"/>
                    </a:lnTo>
                    <a:lnTo>
                      <a:pt x="384" y="59"/>
                    </a:lnTo>
                    <a:lnTo>
                      <a:pt x="383" y="58"/>
                    </a:lnTo>
                    <a:lnTo>
                      <a:pt x="381" y="58"/>
                    </a:lnTo>
                    <a:lnTo>
                      <a:pt x="379" y="58"/>
                    </a:lnTo>
                    <a:lnTo>
                      <a:pt x="378" y="59"/>
                    </a:lnTo>
                    <a:lnTo>
                      <a:pt x="377" y="60"/>
                    </a:lnTo>
                    <a:lnTo>
                      <a:pt x="376" y="61"/>
                    </a:lnTo>
                    <a:lnTo>
                      <a:pt x="364" y="61"/>
                    </a:lnTo>
                    <a:lnTo>
                      <a:pt x="364" y="60"/>
                    </a:lnTo>
                    <a:lnTo>
                      <a:pt x="363" y="59"/>
                    </a:lnTo>
                    <a:lnTo>
                      <a:pt x="361" y="58"/>
                    </a:lnTo>
                    <a:lnTo>
                      <a:pt x="360" y="58"/>
                    </a:lnTo>
                    <a:lnTo>
                      <a:pt x="358" y="58"/>
                    </a:lnTo>
                    <a:lnTo>
                      <a:pt x="357" y="59"/>
                    </a:lnTo>
                    <a:lnTo>
                      <a:pt x="356" y="60"/>
                    </a:lnTo>
                    <a:lnTo>
                      <a:pt x="355" y="61"/>
                    </a:lnTo>
                    <a:lnTo>
                      <a:pt x="324" y="61"/>
                    </a:lnTo>
                    <a:lnTo>
                      <a:pt x="323" y="60"/>
                    </a:lnTo>
                    <a:lnTo>
                      <a:pt x="322" y="59"/>
                    </a:lnTo>
                    <a:lnTo>
                      <a:pt x="321" y="58"/>
                    </a:lnTo>
                    <a:lnTo>
                      <a:pt x="319" y="58"/>
                    </a:lnTo>
                    <a:lnTo>
                      <a:pt x="318" y="58"/>
                    </a:lnTo>
                    <a:lnTo>
                      <a:pt x="316" y="59"/>
                    </a:lnTo>
                    <a:lnTo>
                      <a:pt x="315" y="60"/>
                    </a:lnTo>
                    <a:lnTo>
                      <a:pt x="315" y="61"/>
                    </a:lnTo>
                    <a:lnTo>
                      <a:pt x="292" y="61"/>
                    </a:lnTo>
                    <a:lnTo>
                      <a:pt x="292" y="309"/>
                    </a:lnTo>
                    <a:lnTo>
                      <a:pt x="266" y="309"/>
                    </a:lnTo>
                    <a:lnTo>
                      <a:pt x="266" y="308"/>
                    </a:lnTo>
                    <a:lnTo>
                      <a:pt x="265" y="306"/>
                    </a:lnTo>
                    <a:lnTo>
                      <a:pt x="264" y="306"/>
                    </a:lnTo>
                    <a:lnTo>
                      <a:pt x="262" y="305"/>
                    </a:lnTo>
                    <a:lnTo>
                      <a:pt x="260" y="306"/>
                    </a:lnTo>
                    <a:lnTo>
                      <a:pt x="259" y="306"/>
                    </a:lnTo>
                    <a:lnTo>
                      <a:pt x="258" y="308"/>
                    </a:lnTo>
                    <a:lnTo>
                      <a:pt x="257" y="309"/>
                    </a:lnTo>
                    <a:lnTo>
                      <a:pt x="192" y="309"/>
                    </a:lnTo>
                    <a:lnTo>
                      <a:pt x="192" y="308"/>
                    </a:lnTo>
                    <a:lnTo>
                      <a:pt x="191" y="306"/>
                    </a:lnTo>
                    <a:lnTo>
                      <a:pt x="189" y="306"/>
                    </a:lnTo>
                    <a:lnTo>
                      <a:pt x="188" y="305"/>
                    </a:lnTo>
                    <a:lnTo>
                      <a:pt x="186" y="306"/>
                    </a:lnTo>
                    <a:lnTo>
                      <a:pt x="184" y="306"/>
                    </a:lnTo>
                    <a:lnTo>
                      <a:pt x="183" y="308"/>
                    </a:lnTo>
                    <a:lnTo>
                      <a:pt x="183" y="309"/>
                    </a:lnTo>
                    <a:lnTo>
                      <a:pt x="131" y="309"/>
                    </a:lnTo>
                    <a:lnTo>
                      <a:pt x="131" y="308"/>
                    </a:lnTo>
                    <a:lnTo>
                      <a:pt x="130" y="306"/>
                    </a:lnTo>
                    <a:lnTo>
                      <a:pt x="128" y="306"/>
                    </a:lnTo>
                    <a:lnTo>
                      <a:pt x="127" y="305"/>
                    </a:lnTo>
                    <a:lnTo>
                      <a:pt x="125" y="306"/>
                    </a:lnTo>
                    <a:lnTo>
                      <a:pt x="124" y="306"/>
                    </a:lnTo>
                    <a:lnTo>
                      <a:pt x="123" y="308"/>
                    </a:lnTo>
                    <a:lnTo>
                      <a:pt x="122" y="309"/>
                    </a:lnTo>
                    <a:lnTo>
                      <a:pt x="60" y="309"/>
                    </a:lnTo>
                    <a:lnTo>
                      <a:pt x="60" y="307"/>
                    </a:lnTo>
                    <a:lnTo>
                      <a:pt x="59" y="306"/>
                    </a:lnTo>
                    <a:lnTo>
                      <a:pt x="58" y="304"/>
                    </a:lnTo>
                    <a:lnTo>
                      <a:pt x="56" y="303"/>
                    </a:lnTo>
                    <a:lnTo>
                      <a:pt x="54" y="303"/>
                    </a:lnTo>
                    <a:lnTo>
                      <a:pt x="51" y="303"/>
                    </a:lnTo>
                    <a:lnTo>
                      <a:pt x="49" y="303"/>
                    </a:lnTo>
                    <a:lnTo>
                      <a:pt x="47" y="304"/>
                    </a:lnTo>
                    <a:lnTo>
                      <a:pt x="46" y="306"/>
                    </a:lnTo>
                    <a:lnTo>
                      <a:pt x="45" y="307"/>
                    </a:lnTo>
                    <a:lnTo>
                      <a:pt x="45" y="309"/>
                    </a:lnTo>
                    <a:lnTo>
                      <a:pt x="20" y="309"/>
                    </a:lnTo>
                    <a:lnTo>
                      <a:pt x="19" y="308"/>
                    </a:lnTo>
                    <a:lnTo>
                      <a:pt x="18" y="306"/>
                    </a:lnTo>
                    <a:lnTo>
                      <a:pt x="17" y="306"/>
                    </a:lnTo>
                    <a:lnTo>
                      <a:pt x="15" y="305"/>
                    </a:lnTo>
                    <a:lnTo>
                      <a:pt x="14" y="306"/>
                    </a:lnTo>
                    <a:lnTo>
                      <a:pt x="12" y="306"/>
                    </a:lnTo>
                    <a:lnTo>
                      <a:pt x="11" y="308"/>
                    </a:lnTo>
                    <a:lnTo>
                      <a:pt x="11" y="309"/>
                    </a:lnTo>
                    <a:lnTo>
                      <a:pt x="0" y="3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826160" y="3966120"/>
                <a:ext cx="1224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24" name=""/>
              <p:cNvSpPr/>
              <p:nvPr/>
            </p:nvSpPr>
            <p:spPr>
              <a:xfrm>
                <a:off x="4316760" y="4384440"/>
                <a:ext cx="14760" cy="13320"/>
              </a:xfrm>
              <a:custGeom>
                <a:avLst/>
                <a:gdLst/>
                <a:ahLst/>
                <a:rect l="l" t="t" r="r" b="b"/>
                <a:pathLst>
                  <a:path w="14" h="10">
                    <a:moveTo>
                      <a:pt x="12" y="10"/>
                    </a:moveTo>
                    <a:lnTo>
                      <a:pt x="0" y="5"/>
                    </a:lnTo>
                    <a:lnTo>
                      <a:pt x="12" y="0"/>
                    </a:lnTo>
                    <a:lnTo>
                      <a:pt x="13" y="3"/>
                    </a:lnTo>
                    <a:lnTo>
                      <a:pt x="14"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25" name=""/>
              <p:cNvSpPr/>
              <p:nvPr/>
            </p:nvSpPr>
            <p:spPr>
              <a:xfrm>
                <a:off x="4260960" y="3811320"/>
                <a:ext cx="64440" cy="548640"/>
              </a:xfrm>
              <a:custGeom>
                <a:avLst/>
                <a:gdLst/>
                <a:ahLst/>
                <a:rect l="l" t="t" r="r" b="b"/>
                <a:pathLst>
                  <a:path w="61" h="411">
                    <a:moveTo>
                      <a:pt x="41" y="4"/>
                    </a:moveTo>
                    <a:lnTo>
                      <a:pt x="50" y="4"/>
                    </a:lnTo>
                    <a:lnTo>
                      <a:pt x="50" y="2"/>
                    </a:lnTo>
                    <a:lnTo>
                      <a:pt x="51" y="1"/>
                    </a:lnTo>
                    <a:lnTo>
                      <a:pt x="53" y="0"/>
                    </a:lnTo>
                    <a:lnTo>
                      <a:pt x="55" y="0"/>
                    </a:lnTo>
                    <a:lnTo>
                      <a:pt x="56" y="0"/>
                    </a:lnTo>
                    <a:lnTo>
                      <a:pt x="58" y="1"/>
                    </a:lnTo>
                    <a:lnTo>
                      <a:pt x="59" y="2"/>
                    </a:lnTo>
                    <a:lnTo>
                      <a:pt x="59" y="4"/>
                    </a:lnTo>
                    <a:lnTo>
                      <a:pt x="61" y="4"/>
                    </a:lnTo>
                    <a:lnTo>
                      <a:pt x="61" y="401"/>
                    </a:lnTo>
                    <a:lnTo>
                      <a:pt x="0" y="401"/>
                    </a:lnTo>
                    <a:lnTo>
                      <a:pt x="0" y="411"/>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4254480" y="435744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427" name=""/>
              <p:cNvSpPr/>
              <p:nvPr/>
            </p:nvSpPr>
            <p:spPr>
              <a:xfrm>
                <a:off x="4204800" y="4205520"/>
                <a:ext cx="12600" cy="154440"/>
              </a:xfrm>
              <a:custGeom>
                <a:avLst/>
                <a:gdLst/>
                <a:ahLst/>
                <a:rect l="l" t="t" r="r" b="b"/>
                <a:pathLst>
                  <a:path w="12" h="116">
                    <a:moveTo>
                      <a:pt x="0" y="116"/>
                    </a:moveTo>
                    <a:lnTo>
                      <a:pt x="0" y="106"/>
                    </a:lnTo>
                    <a:lnTo>
                      <a:pt x="12" y="106"/>
                    </a:lnTo>
                    <a:lnTo>
                      <a:pt x="1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4198320" y="4357440"/>
                <a:ext cx="1224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429" name=""/>
              <p:cNvSpPr/>
              <p:nvPr/>
            </p:nvSpPr>
            <p:spPr>
              <a:xfrm>
                <a:off x="3921120" y="4408560"/>
                <a:ext cx="229680" cy="11880"/>
              </a:xfrm>
              <a:custGeom>
                <a:avLst/>
                <a:gdLst/>
                <a:ahLst/>
                <a:rect l="l" t="t" r="r" b="b"/>
                <a:pathLst>
                  <a:path w="217" h="9">
                    <a:moveTo>
                      <a:pt x="0" y="3"/>
                    </a:moveTo>
                    <a:lnTo>
                      <a:pt x="7" y="3"/>
                    </a:lnTo>
                    <a:lnTo>
                      <a:pt x="7" y="2"/>
                    </a:lnTo>
                    <a:lnTo>
                      <a:pt x="8" y="1"/>
                    </a:lnTo>
                    <a:lnTo>
                      <a:pt x="9" y="0"/>
                    </a:lnTo>
                    <a:lnTo>
                      <a:pt x="11" y="0"/>
                    </a:lnTo>
                    <a:lnTo>
                      <a:pt x="13" y="0"/>
                    </a:lnTo>
                    <a:lnTo>
                      <a:pt x="14" y="1"/>
                    </a:lnTo>
                    <a:lnTo>
                      <a:pt x="15" y="2"/>
                    </a:lnTo>
                    <a:lnTo>
                      <a:pt x="16" y="3"/>
                    </a:lnTo>
                    <a:lnTo>
                      <a:pt x="31" y="3"/>
                    </a:lnTo>
                    <a:lnTo>
                      <a:pt x="31" y="9"/>
                    </a:lnTo>
                    <a:lnTo>
                      <a:pt x="140" y="9"/>
                    </a:lnTo>
                    <a:lnTo>
                      <a:pt x="140" y="8"/>
                    </a:lnTo>
                    <a:lnTo>
                      <a:pt x="141" y="7"/>
                    </a:lnTo>
                    <a:lnTo>
                      <a:pt x="143" y="6"/>
                    </a:lnTo>
                    <a:lnTo>
                      <a:pt x="145" y="6"/>
                    </a:lnTo>
                    <a:lnTo>
                      <a:pt x="146" y="6"/>
                    </a:lnTo>
                    <a:lnTo>
                      <a:pt x="148" y="7"/>
                    </a:lnTo>
                    <a:lnTo>
                      <a:pt x="149" y="8"/>
                    </a:lnTo>
                    <a:lnTo>
                      <a:pt x="149" y="9"/>
                    </a:lnTo>
                    <a:lnTo>
                      <a:pt x="217" y="9"/>
                    </a:lnTo>
                  </a:path>
                </a:pathLst>
              </a:custGeom>
              <a:noFill/>
              <a:ln w="14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30" name=""/>
              <p:cNvSpPr/>
              <p:nvPr/>
            </p:nvSpPr>
            <p:spPr>
              <a:xfrm>
                <a:off x="3921120" y="4407120"/>
                <a:ext cx="13680" cy="11520"/>
              </a:xfrm>
              <a:custGeom>
                <a:avLst/>
                <a:gdLst/>
                <a:ahLst/>
                <a:rect l="l" t="t" r="r" b="b"/>
                <a:pathLst>
                  <a:path w="13" h="9">
                    <a:moveTo>
                      <a:pt x="11" y="9"/>
                    </a:moveTo>
                    <a:lnTo>
                      <a:pt x="0" y="4"/>
                    </a:lnTo>
                    <a:lnTo>
                      <a:pt x="11" y="0"/>
                    </a:lnTo>
                    <a:lnTo>
                      <a:pt x="12" y="2"/>
                    </a:lnTo>
                    <a:lnTo>
                      <a:pt x="13" y="4"/>
                    </a:lnTo>
                    <a:lnTo>
                      <a:pt x="12" y="7"/>
                    </a:lnTo>
                    <a:lnTo>
                      <a:pt x="11"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1" name=""/>
              <p:cNvSpPr/>
              <p:nvPr/>
            </p:nvSpPr>
            <p:spPr>
              <a:xfrm>
                <a:off x="4147560" y="4415040"/>
                <a:ext cx="12600" cy="11880"/>
              </a:xfrm>
              <a:custGeom>
                <a:avLst/>
                <a:gdLst/>
                <a:ahLst/>
                <a:rect l="l" t="t" r="r" b="b"/>
                <a:pathLst>
                  <a:path w="12" h="9">
                    <a:moveTo>
                      <a:pt x="12" y="4"/>
                    </a:moveTo>
                    <a:lnTo>
                      <a:pt x="0" y="9"/>
                    </a:lnTo>
                    <a:lnTo>
                      <a:pt x="1" y="7"/>
                    </a:lnTo>
                    <a:lnTo>
                      <a:pt x="1" y="4"/>
                    </a:lnTo>
                    <a:lnTo>
                      <a:pt x="1" y="2"/>
                    </a:lnTo>
                    <a:lnTo>
                      <a:pt x="0" y="0"/>
                    </a:lnTo>
                    <a:lnTo>
                      <a:pt x="12"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32" name=""/>
              <p:cNvSpPr/>
              <p:nvPr/>
            </p:nvSpPr>
            <p:spPr>
              <a:xfrm>
                <a:off x="4316760" y="3389040"/>
                <a:ext cx="154440" cy="1031400"/>
              </a:xfrm>
              <a:custGeom>
                <a:avLst/>
                <a:gdLst/>
                <a:ahLst/>
                <a:rect l="l" t="t" r="r" b="b"/>
                <a:pathLst>
                  <a:path w="146" h="772">
                    <a:moveTo>
                      <a:pt x="146" y="9"/>
                    </a:moveTo>
                    <a:lnTo>
                      <a:pt x="139" y="9"/>
                    </a:lnTo>
                    <a:lnTo>
                      <a:pt x="139" y="7"/>
                    </a:lnTo>
                    <a:lnTo>
                      <a:pt x="138" y="6"/>
                    </a:lnTo>
                    <a:lnTo>
                      <a:pt x="137" y="5"/>
                    </a:lnTo>
                    <a:lnTo>
                      <a:pt x="135" y="5"/>
                    </a:lnTo>
                    <a:lnTo>
                      <a:pt x="133" y="5"/>
                    </a:lnTo>
                    <a:lnTo>
                      <a:pt x="132" y="6"/>
                    </a:lnTo>
                    <a:lnTo>
                      <a:pt x="131" y="7"/>
                    </a:lnTo>
                    <a:lnTo>
                      <a:pt x="130" y="9"/>
                    </a:lnTo>
                    <a:lnTo>
                      <a:pt x="72" y="9"/>
                    </a:lnTo>
                    <a:lnTo>
                      <a:pt x="72" y="7"/>
                    </a:lnTo>
                    <a:lnTo>
                      <a:pt x="71" y="5"/>
                    </a:lnTo>
                    <a:lnTo>
                      <a:pt x="70" y="3"/>
                    </a:lnTo>
                    <a:lnTo>
                      <a:pt x="67" y="1"/>
                    </a:lnTo>
                    <a:lnTo>
                      <a:pt x="65" y="0"/>
                    </a:lnTo>
                    <a:lnTo>
                      <a:pt x="62" y="0"/>
                    </a:lnTo>
                    <a:lnTo>
                      <a:pt x="60" y="0"/>
                    </a:lnTo>
                    <a:lnTo>
                      <a:pt x="57" y="0"/>
                    </a:lnTo>
                    <a:lnTo>
                      <a:pt x="54" y="1"/>
                    </a:lnTo>
                    <a:lnTo>
                      <a:pt x="52" y="3"/>
                    </a:lnTo>
                    <a:lnTo>
                      <a:pt x="51" y="5"/>
                    </a:lnTo>
                    <a:lnTo>
                      <a:pt x="50" y="7"/>
                    </a:lnTo>
                    <a:lnTo>
                      <a:pt x="50" y="9"/>
                    </a:lnTo>
                    <a:lnTo>
                      <a:pt x="27" y="9"/>
                    </a:lnTo>
                    <a:lnTo>
                      <a:pt x="27" y="772"/>
                    </a:lnTo>
                    <a:lnTo>
                      <a:pt x="0"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4469400" y="339444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34" name=""/>
              <p:cNvSpPr/>
              <p:nvPr/>
            </p:nvSpPr>
            <p:spPr>
              <a:xfrm>
                <a:off x="3945600" y="3341160"/>
                <a:ext cx="874080" cy="694440"/>
              </a:xfrm>
              <a:custGeom>
                <a:avLst/>
                <a:gdLst/>
                <a:ahLst/>
                <a:rect l="l" t="t" r="r" b="b"/>
                <a:pathLst>
                  <a:path w="826" h="520">
                    <a:moveTo>
                      <a:pt x="826" y="4"/>
                    </a:moveTo>
                    <a:lnTo>
                      <a:pt x="823" y="4"/>
                    </a:lnTo>
                    <a:lnTo>
                      <a:pt x="823" y="2"/>
                    </a:lnTo>
                    <a:lnTo>
                      <a:pt x="822" y="1"/>
                    </a:lnTo>
                    <a:lnTo>
                      <a:pt x="821" y="0"/>
                    </a:lnTo>
                    <a:lnTo>
                      <a:pt x="819" y="0"/>
                    </a:lnTo>
                    <a:lnTo>
                      <a:pt x="817" y="0"/>
                    </a:lnTo>
                    <a:lnTo>
                      <a:pt x="816" y="1"/>
                    </a:lnTo>
                    <a:lnTo>
                      <a:pt x="815" y="2"/>
                    </a:lnTo>
                    <a:lnTo>
                      <a:pt x="814" y="4"/>
                    </a:lnTo>
                    <a:lnTo>
                      <a:pt x="809" y="4"/>
                    </a:lnTo>
                    <a:lnTo>
                      <a:pt x="809" y="73"/>
                    </a:lnTo>
                    <a:lnTo>
                      <a:pt x="793" y="73"/>
                    </a:lnTo>
                    <a:lnTo>
                      <a:pt x="793" y="72"/>
                    </a:lnTo>
                    <a:lnTo>
                      <a:pt x="792" y="71"/>
                    </a:lnTo>
                    <a:lnTo>
                      <a:pt x="790" y="70"/>
                    </a:lnTo>
                    <a:lnTo>
                      <a:pt x="789" y="70"/>
                    </a:lnTo>
                    <a:lnTo>
                      <a:pt x="787" y="70"/>
                    </a:lnTo>
                    <a:lnTo>
                      <a:pt x="785" y="71"/>
                    </a:lnTo>
                    <a:lnTo>
                      <a:pt x="784" y="72"/>
                    </a:lnTo>
                    <a:lnTo>
                      <a:pt x="784" y="73"/>
                    </a:lnTo>
                    <a:lnTo>
                      <a:pt x="771" y="73"/>
                    </a:lnTo>
                    <a:lnTo>
                      <a:pt x="771" y="72"/>
                    </a:lnTo>
                    <a:lnTo>
                      <a:pt x="770" y="71"/>
                    </a:lnTo>
                    <a:lnTo>
                      <a:pt x="768" y="70"/>
                    </a:lnTo>
                    <a:lnTo>
                      <a:pt x="767" y="70"/>
                    </a:lnTo>
                    <a:lnTo>
                      <a:pt x="765" y="70"/>
                    </a:lnTo>
                    <a:lnTo>
                      <a:pt x="763" y="71"/>
                    </a:lnTo>
                    <a:lnTo>
                      <a:pt x="763" y="72"/>
                    </a:lnTo>
                    <a:lnTo>
                      <a:pt x="762" y="73"/>
                    </a:lnTo>
                    <a:lnTo>
                      <a:pt x="758" y="73"/>
                    </a:lnTo>
                    <a:lnTo>
                      <a:pt x="758" y="72"/>
                    </a:lnTo>
                    <a:lnTo>
                      <a:pt x="757" y="71"/>
                    </a:lnTo>
                    <a:lnTo>
                      <a:pt x="756" y="70"/>
                    </a:lnTo>
                    <a:lnTo>
                      <a:pt x="754" y="70"/>
                    </a:lnTo>
                    <a:lnTo>
                      <a:pt x="752" y="70"/>
                    </a:lnTo>
                    <a:lnTo>
                      <a:pt x="751" y="71"/>
                    </a:lnTo>
                    <a:lnTo>
                      <a:pt x="750" y="72"/>
                    </a:lnTo>
                    <a:lnTo>
                      <a:pt x="749" y="73"/>
                    </a:lnTo>
                    <a:lnTo>
                      <a:pt x="741" y="73"/>
                    </a:lnTo>
                    <a:lnTo>
                      <a:pt x="740" y="72"/>
                    </a:lnTo>
                    <a:lnTo>
                      <a:pt x="740" y="71"/>
                    </a:lnTo>
                    <a:lnTo>
                      <a:pt x="738" y="70"/>
                    </a:lnTo>
                    <a:lnTo>
                      <a:pt x="736" y="70"/>
                    </a:lnTo>
                    <a:lnTo>
                      <a:pt x="735" y="70"/>
                    </a:lnTo>
                    <a:lnTo>
                      <a:pt x="733" y="71"/>
                    </a:lnTo>
                    <a:lnTo>
                      <a:pt x="732" y="72"/>
                    </a:lnTo>
                    <a:lnTo>
                      <a:pt x="732" y="73"/>
                    </a:lnTo>
                    <a:lnTo>
                      <a:pt x="727" y="73"/>
                    </a:lnTo>
                    <a:lnTo>
                      <a:pt x="727" y="72"/>
                    </a:lnTo>
                    <a:lnTo>
                      <a:pt x="726" y="71"/>
                    </a:lnTo>
                    <a:lnTo>
                      <a:pt x="724" y="70"/>
                    </a:lnTo>
                    <a:lnTo>
                      <a:pt x="723" y="70"/>
                    </a:lnTo>
                    <a:lnTo>
                      <a:pt x="721" y="70"/>
                    </a:lnTo>
                    <a:lnTo>
                      <a:pt x="720" y="71"/>
                    </a:lnTo>
                    <a:lnTo>
                      <a:pt x="719" y="72"/>
                    </a:lnTo>
                    <a:lnTo>
                      <a:pt x="718" y="73"/>
                    </a:lnTo>
                    <a:lnTo>
                      <a:pt x="717" y="73"/>
                    </a:lnTo>
                    <a:lnTo>
                      <a:pt x="717" y="72"/>
                    </a:lnTo>
                    <a:lnTo>
                      <a:pt x="716" y="71"/>
                    </a:lnTo>
                    <a:lnTo>
                      <a:pt x="714" y="70"/>
                    </a:lnTo>
                    <a:lnTo>
                      <a:pt x="713" y="70"/>
                    </a:lnTo>
                    <a:lnTo>
                      <a:pt x="711" y="70"/>
                    </a:lnTo>
                    <a:lnTo>
                      <a:pt x="709" y="71"/>
                    </a:lnTo>
                    <a:lnTo>
                      <a:pt x="709" y="72"/>
                    </a:lnTo>
                    <a:lnTo>
                      <a:pt x="708" y="73"/>
                    </a:lnTo>
                    <a:lnTo>
                      <a:pt x="697" y="73"/>
                    </a:lnTo>
                    <a:lnTo>
                      <a:pt x="697" y="72"/>
                    </a:lnTo>
                    <a:lnTo>
                      <a:pt x="696" y="71"/>
                    </a:lnTo>
                    <a:lnTo>
                      <a:pt x="695" y="70"/>
                    </a:lnTo>
                    <a:lnTo>
                      <a:pt x="693" y="70"/>
                    </a:lnTo>
                    <a:lnTo>
                      <a:pt x="691" y="70"/>
                    </a:lnTo>
                    <a:lnTo>
                      <a:pt x="690" y="71"/>
                    </a:lnTo>
                    <a:lnTo>
                      <a:pt x="689" y="72"/>
                    </a:lnTo>
                    <a:lnTo>
                      <a:pt x="688" y="73"/>
                    </a:lnTo>
                    <a:lnTo>
                      <a:pt x="687" y="73"/>
                    </a:lnTo>
                    <a:lnTo>
                      <a:pt x="686" y="72"/>
                    </a:lnTo>
                    <a:lnTo>
                      <a:pt x="685" y="70"/>
                    </a:lnTo>
                    <a:lnTo>
                      <a:pt x="684" y="69"/>
                    </a:lnTo>
                    <a:lnTo>
                      <a:pt x="682" y="68"/>
                    </a:lnTo>
                    <a:lnTo>
                      <a:pt x="680" y="67"/>
                    </a:lnTo>
                    <a:lnTo>
                      <a:pt x="677" y="67"/>
                    </a:lnTo>
                    <a:lnTo>
                      <a:pt x="675" y="68"/>
                    </a:lnTo>
                    <a:lnTo>
                      <a:pt x="673" y="69"/>
                    </a:lnTo>
                    <a:lnTo>
                      <a:pt x="672" y="70"/>
                    </a:lnTo>
                    <a:lnTo>
                      <a:pt x="671" y="72"/>
                    </a:lnTo>
                    <a:lnTo>
                      <a:pt x="670" y="73"/>
                    </a:lnTo>
                    <a:lnTo>
                      <a:pt x="670" y="73"/>
                    </a:lnTo>
                    <a:lnTo>
                      <a:pt x="669" y="72"/>
                    </a:lnTo>
                    <a:lnTo>
                      <a:pt x="669" y="71"/>
                    </a:lnTo>
                    <a:lnTo>
                      <a:pt x="667" y="70"/>
                    </a:lnTo>
                    <a:lnTo>
                      <a:pt x="665" y="70"/>
                    </a:lnTo>
                    <a:lnTo>
                      <a:pt x="664" y="70"/>
                    </a:lnTo>
                    <a:lnTo>
                      <a:pt x="662" y="71"/>
                    </a:lnTo>
                    <a:lnTo>
                      <a:pt x="661" y="72"/>
                    </a:lnTo>
                    <a:lnTo>
                      <a:pt x="661" y="73"/>
                    </a:lnTo>
                    <a:lnTo>
                      <a:pt x="573" y="73"/>
                    </a:lnTo>
                    <a:lnTo>
                      <a:pt x="573" y="72"/>
                    </a:lnTo>
                    <a:lnTo>
                      <a:pt x="572" y="71"/>
                    </a:lnTo>
                    <a:lnTo>
                      <a:pt x="571" y="70"/>
                    </a:lnTo>
                    <a:lnTo>
                      <a:pt x="569" y="70"/>
                    </a:lnTo>
                    <a:lnTo>
                      <a:pt x="567" y="70"/>
                    </a:lnTo>
                    <a:lnTo>
                      <a:pt x="566" y="71"/>
                    </a:lnTo>
                    <a:lnTo>
                      <a:pt x="565" y="72"/>
                    </a:lnTo>
                    <a:lnTo>
                      <a:pt x="565" y="73"/>
                    </a:lnTo>
                    <a:lnTo>
                      <a:pt x="536" y="73"/>
                    </a:lnTo>
                    <a:lnTo>
                      <a:pt x="536" y="72"/>
                    </a:lnTo>
                    <a:lnTo>
                      <a:pt x="535" y="71"/>
                    </a:lnTo>
                    <a:lnTo>
                      <a:pt x="533" y="70"/>
                    </a:lnTo>
                    <a:lnTo>
                      <a:pt x="532" y="70"/>
                    </a:lnTo>
                    <a:lnTo>
                      <a:pt x="530" y="70"/>
                    </a:lnTo>
                    <a:lnTo>
                      <a:pt x="528" y="71"/>
                    </a:lnTo>
                    <a:lnTo>
                      <a:pt x="528" y="72"/>
                    </a:lnTo>
                    <a:lnTo>
                      <a:pt x="527" y="73"/>
                    </a:lnTo>
                    <a:lnTo>
                      <a:pt x="490" y="73"/>
                    </a:lnTo>
                    <a:lnTo>
                      <a:pt x="490" y="72"/>
                    </a:lnTo>
                    <a:lnTo>
                      <a:pt x="489" y="71"/>
                    </a:lnTo>
                    <a:lnTo>
                      <a:pt x="488" y="70"/>
                    </a:lnTo>
                    <a:lnTo>
                      <a:pt x="486" y="70"/>
                    </a:lnTo>
                    <a:lnTo>
                      <a:pt x="484" y="70"/>
                    </a:lnTo>
                    <a:lnTo>
                      <a:pt x="483" y="71"/>
                    </a:lnTo>
                    <a:lnTo>
                      <a:pt x="482" y="72"/>
                    </a:lnTo>
                    <a:lnTo>
                      <a:pt x="481" y="73"/>
                    </a:lnTo>
                    <a:lnTo>
                      <a:pt x="423" y="73"/>
                    </a:lnTo>
                    <a:lnTo>
                      <a:pt x="423" y="71"/>
                    </a:lnTo>
                    <a:lnTo>
                      <a:pt x="422" y="69"/>
                    </a:lnTo>
                    <a:lnTo>
                      <a:pt x="421" y="68"/>
                    </a:lnTo>
                    <a:lnTo>
                      <a:pt x="418" y="66"/>
                    </a:lnTo>
                    <a:lnTo>
                      <a:pt x="416" y="65"/>
                    </a:lnTo>
                    <a:lnTo>
                      <a:pt x="413" y="65"/>
                    </a:lnTo>
                    <a:lnTo>
                      <a:pt x="411" y="65"/>
                    </a:lnTo>
                    <a:lnTo>
                      <a:pt x="408" y="65"/>
                    </a:lnTo>
                    <a:lnTo>
                      <a:pt x="405" y="66"/>
                    </a:lnTo>
                    <a:lnTo>
                      <a:pt x="403" y="68"/>
                    </a:lnTo>
                    <a:lnTo>
                      <a:pt x="402" y="69"/>
                    </a:lnTo>
                    <a:lnTo>
                      <a:pt x="401" y="71"/>
                    </a:lnTo>
                    <a:lnTo>
                      <a:pt x="401" y="73"/>
                    </a:lnTo>
                    <a:lnTo>
                      <a:pt x="383" y="73"/>
                    </a:lnTo>
                    <a:lnTo>
                      <a:pt x="382" y="71"/>
                    </a:lnTo>
                    <a:lnTo>
                      <a:pt x="381" y="69"/>
                    </a:lnTo>
                    <a:lnTo>
                      <a:pt x="380" y="68"/>
                    </a:lnTo>
                    <a:lnTo>
                      <a:pt x="378" y="66"/>
                    </a:lnTo>
                    <a:lnTo>
                      <a:pt x="375" y="65"/>
                    </a:lnTo>
                    <a:lnTo>
                      <a:pt x="373" y="65"/>
                    </a:lnTo>
                    <a:lnTo>
                      <a:pt x="370" y="65"/>
                    </a:lnTo>
                    <a:lnTo>
                      <a:pt x="368" y="65"/>
                    </a:lnTo>
                    <a:lnTo>
                      <a:pt x="365" y="66"/>
                    </a:lnTo>
                    <a:lnTo>
                      <a:pt x="363" y="68"/>
                    </a:lnTo>
                    <a:lnTo>
                      <a:pt x="362" y="69"/>
                    </a:lnTo>
                    <a:lnTo>
                      <a:pt x="361" y="71"/>
                    </a:lnTo>
                    <a:lnTo>
                      <a:pt x="360" y="73"/>
                    </a:lnTo>
                    <a:lnTo>
                      <a:pt x="339" y="73"/>
                    </a:lnTo>
                    <a:lnTo>
                      <a:pt x="339" y="72"/>
                    </a:lnTo>
                    <a:lnTo>
                      <a:pt x="338" y="71"/>
                    </a:lnTo>
                    <a:lnTo>
                      <a:pt x="337" y="70"/>
                    </a:lnTo>
                    <a:lnTo>
                      <a:pt x="335" y="70"/>
                    </a:lnTo>
                    <a:lnTo>
                      <a:pt x="333" y="70"/>
                    </a:lnTo>
                    <a:lnTo>
                      <a:pt x="332" y="71"/>
                    </a:lnTo>
                    <a:lnTo>
                      <a:pt x="331" y="72"/>
                    </a:lnTo>
                    <a:lnTo>
                      <a:pt x="330" y="73"/>
                    </a:lnTo>
                    <a:lnTo>
                      <a:pt x="279" y="73"/>
                    </a:lnTo>
                    <a:lnTo>
                      <a:pt x="278" y="72"/>
                    </a:lnTo>
                    <a:lnTo>
                      <a:pt x="277" y="71"/>
                    </a:lnTo>
                    <a:lnTo>
                      <a:pt x="276" y="70"/>
                    </a:lnTo>
                    <a:lnTo>
                      <a:pt x="274" y="70"/>
                    </a:lnTo>
                    <a:lnTo>
                      <a:pt x="272" y="70"/>
                    </a:lnTo>
                    <a:lnTo>
                      <a:pt x="271" y="71"/>
                    </a:lnTo>
                    <a:lnTo>
                      <a:pt x="270" y="72"/>
                    </a:lnTo>
                    <a:lnTo>
                      <a:pt x="270" y="73"/>
                    </a:lnTo>
                    <a:lnTo>
                      <a:pt x="268" y="73"/>
                    </a:lnTo>
                    <a:lnTo>
                      <a:pt x="268" y="72"/>
                    </a:lnTo>
                    <a:lnTo>
                      <a:pt x="267" y="71"/>
                    </a:lnTo>
                    <a:lnTo>
                      <a:pt x="265" y="70"/>
                    </a:lnTo>
                    <a:lnTo>
                      <a:pt x="263" y="70"/>
                    </a:lnTo>
                    <a:lnTo>
                      <a:pt x="262" y="70"/>
                    </a:lnTo>
                    <a:lnTo>
                      <a:pt x="260" y="71"/>
                    </a:lnTo>
                    <a:lnTo>
                      <a:pt x="259" y="72"/>
                    </a:lnTo>
                    <a:lnTo>
                      <a:pt x="259" y="73"/>
                    </a:lnTo>
                    <a:lnTo>
                      <a:pt x="250" y="73"/>
                    </a:lnTo>
                    <a:lnTo>
                      <a:pt x="249" y="72"/>
                    </a:lnTo>
                    <a:lnTo>
                      <a:pt x="248" y="71"/>
                    </a:lnTo>
                    <a:lnTo>
                      <a:pt x="247" y="70"/>
                    </a:lnTo>
                    <a:lnTo>
                      <a:pt x="245" y="70"/>
                    </a:lnTo>
                    <a:lnTo>
                      <a:pt x="243" y="70"/>
                    </a:lnTo>
                    <a:lnTo>
                      <a:pt x="242" y="71"/>
                    </a:lnTo>
                    <a:lnTo>
                      <a:pt x="241" y="72"/>
                    </a:lnTo>
                    <a:lnTo>
                      <a:pt x="241" y="73"/>
                    </a:lnTo>
                    <a:lnTo>
                      <a:pt x="125" y="73"/>
                    </a:lnTo>
                    <a:lnTo>
                      <a:pt x="125" y="494"/>
                    </a:lnTo>
                    <a:lnTo>
                      <a:pt x="70" y="494"/>
                    </a:lnTo>
                    <a:lnTo>
                      <a:pt x="70" y="492"/>
                    </a:lnTo>
                    <a:lnTo>
                      <a:pt x="69" y="491"/>
                    </a:lnTo>
                    <a:lnTo>
                      <a:pt x="67" y="491"/>
                    </a:lnTo>
                    <a:lnTo>
                      <a:pt x="66" y="490"/>
                    </a:lnTo>
                    <a:lnTo>
                      <a:pt x="64" y="491"/>
                    </a:lnTo>
                    <a:lnTo>
                      <a:pt x="62" y="491"/>
                    </a:lnTo>
                    <a:lnTo>
                      <a:pt x="61" y="492"/>
                    </a:lnTo>
                    <a:lnTo>
                      <a:pt x="61" y="494"/>
                    </a:lnTo>
                    <a:lnTo>
                      <a:pt x="0" y="494"/>
                    </a:lnTo>
                    <a:lnTo>
                      <a:pt x="0" y="520"/>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4817520" y="3339720"/>
                <a:ext cx="13680" cy="11880"/>
              </a:xfrm>
              <a:custGeom>
                <a:avLst/>
                <a:gdLst/>
                <a:ahLst/>
                <a:rect l="l" t="t" r="r" b="b"/>
                <a:pathLst>
                  <a:path w="13" h="9">
                    <a:moveTo>
                      <a:pt x="2" y="0"/>
                    </a:moveTo>
                    <a:lnTo>
                      <a:pt x="13" y="5"/>
                    </a:lnTo>
                    <a:lnTo>
                      <a:pt x="2" y="9"/>
                    </a:lnTo>
                    <a:lnTo>
                      <a:pt x="1" y="7"/>
                    </a:lnTo>
                    <a:lnTo>
                      <a:pt x="0" y="5"/>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36" name=""/>
              <p:cNvSpPr/>
              <p:nvPr/>
            </p:nvSpPr>
            <p:spPr>
              <a:xfrm>
                <a:off x="4316760" y="3716640"/>
                <a:ext cx="537840" cy="741240"/>
              </a:xfrm>
              <a:custGeom>
                <a:avLst/>
                <a:gdLst/>
                <a:ahLst/>
                <a:rect l="l" t="t" r="r" b="b"/>
                <a:pathLst>
                  <a:path w="508" h="555">
                    <a:moveTo>
                      <a:pt x="508" y="7"/>
                    </a:moveTo>
                    <a:lnTo>
                      <a:pt x="420" y="7"/>
                    </a:lnTo>
                    <a:lnTo>
                      <a:pt x="420" y="5"/>
                    </a:lnTo>
                    <a:lnTo>
                      <a:pt x="419" y="3"/>
                    </a:lnTo>
                    <a:lnTo>
                      <a:pt x="417" y="2"/>
                    </a:lnTo>
                    <a:lnTo>
                      <a:pt x="415" y="1"/>
                    </a:lnTo>
                    <a:lnTo>
                      <a:pt x="413" y="0"/>
                    </a:lnTo>
                    <a:lnTo>
                      <a:pt x="410" y="0"/>
                    </a:lnTo>
                    <a:lnTo>
                      <a:pt x="408" y="1"/>
                    </a:lnTo>
                    <a:lnTo>
                      <a:pt x="406" y="2"/>
                    </a:lnTo>
                    <a:lnTo>
                      <a:pt x="404" y="3"/>
                    </a:lnTo>
                    <a:lnTo>
                      <a:pt x="403" y="5"/>
                    </a:lnTo>
                    <a:lnTo>
                      <a:pt x="403" y="7"/>
                    </a:lnTo>
                    <a:lnTo>
                      <a:pt x="393" y="7"/>
                    </a:lnTo>
                    <a:lnTo>
                      <a:pt x="393" y="555"/>
                    </a:lnTo>
                    <a:lnTo>
                      <a:pt x="336" y="555"/>
                    </a:lnTo>
                    <a:lnTo>
                      <a:pt x="335" y="553"/>
                    </a:lnTo>
                    <a:lnTo>
                      <a:pt x="334" y="552"/>
                    </a:lnTo>
                    <a:lnTo>
                      <a:pt x="333" y="550"/>
                    </a:lnTo>
                    <a:lnTo>
                      <a:pt x="331" y="549"/>
                    </a:lnTo>
                    <a:lnTo>
                      <a:pt x="329" y="549"/>
                    </a:lnTo>
                    <a:lnTo>
                      <a:pt x="327" y="549"/>
                    </a:lnTo>
                    <a:lnTo>
                      <a:pt x="325" y="549"/>
                    </a:lnTo>
                    <a:lnTo>
                      <a:pt x="323" y="550"/>
                    </a:lnTo>
                    <a:lnTo>
                      <a:pt x="321" y="552"/>
                    </a:lnTo>
                    <a:lnTo>
                      <a:pt x="320" y="553"/>
                    </a:lnTo>
                    <a:lnTo>
                      <a:pt x="320" y="555"/>
                    </a:lnTo>
                    <a:lnTo>
                      <a:pt x="278" y="555"/>
                    </a:lnTo>
                    <a:lnTo>
                      <a:pt x="278" y="553"/>
                    </a:lnTo>
                    <a:lnTo>
                      <a:pt x="277" y="552"/>
                    </a:lnTo>
                    <a:lnTo>
                      <a:pt x="276" y="552"/>
                    </a:lnTo>
                    <a:lnTo>
                      <a:pt x="274" y="551"/>
                    </a:lnTo>
                    <a:lnTo>
                      <a:pt x="272" y="552"/>
                    </a:lnTo>
                    <a:lnTo>
                      <a:pt x="271" y="552"/>
                    </a:lnTo>
                    <a:lnTo>
                      <a:pt x="270" y="553"/>
                    </a:lnTo>
                    <a:lnTo>
                      <a:pt x="269" y="555"/>
                    </a:lnTo>
                    <a:lnTo>
                      <a:pt x="204" y="555"/>
                    </a:lnTo>
                    <a:lnTo>
                      <a:pt x="204" y="553"/>
                    </a:lnTo>
                    <a:lnTo>
                      <a:pt x="203" y="552"/>
                    </a:lnTo>
                    <a:lnTo>
                      <a:pt x="201" y="552"/>
                    </a:lnTo>
                    <a:lnTo>
                      <a:pt x="200" y="551"/>
                    </a:lnTo>
                    <a:lnTo>
                      <a:pt x="198" y="552"/>
                    </a:lnTo>
                    <a:lnTo>
                      <a:pt x="196" y="552"/>
                    </a:lnTo>
                    <a:lnTo>
                      <a:pt x="195" y="553"/>
                    </a:lnTo>
                    <a:lnTo>
                      <a:pt x="195" y="555"/>
                    </a:lnTo>
                    <a:lnTo>
                      <a:pt x="143" y="555"/>
                    </a:lnTo>
                    <a:lnTo>
                      <a:pt x="143" y="553"/>
                    </a:lnTo>
                    <a:lnTo>
                      <a:pt x="142" y="552"/>
                    </a:lnTo>
                    <a:lnTo>
                      <a:pt x="140" y="552"/>
                    </a:lnTo>
                    <a:lnTo>
                      <a:pt x="139" y="551"/>
                    </a:lnTo>
                    <a:lnTo>
                      <a:pt x="137" y="552"/>
                    </a:lnTo>
                    <a:lnTo>
                      <a:pt x="136" y="552"/>
                    </a:lnTo>
                    <a:lnTo>
                      <a:pt x="135" y="553"/>
                    </a:lnTo>
                    <a:lnTo>
                      <a:pt x="134" y="555"/>
                    </a:lnTo>
                    <a:lnTo>
                      <a:pt x="72" y="555"/>
                    </a:lnTo>
                    <a:lnTo>
                      <a:pt x="72" y="553"/>
                    </a:lnTo>
                    <a:lnTo>
                      <a:pt x="71" y="552"/>
                    </a:lnTo>
                    <a:lnTo>
                      <a:pt x="70" y="550"/>
                    </a:lnTo>
                    <a:lnTo>
                      <a:pt x="68" y="549"/>
                    </a:lnTo>
                    <a:lnTo>
                      <a:pt x="66" y="549"/>
                    </a:lnTo>
                    <a:lnTo>
                      <a:pt x="63" y="549"/>
                    </a:lnTo>
                    <a:lnTo>
                      <a:pt x="61" y="549"/>
                    </a:lnTo>
                    <a:lnTo>
                      <a:pt x="59" y="550"/>
                    </a:lnTo>
                    <a:lnTo>
                      <a:pt x="58" y="552"/>
                    </a:lnTo>
                    <a:lnTo>
                      <a:pt x="57" y="553"/>
                    </a:lnTo>
                    <a:lnTo>
                      <a:pt x="57" y="555"/>
                    </a:lnTo>
                    <a:lnTo>
                      <a:pt x="0" y="5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4853520" y="3719520"/>
                <a:ext cx="13680" cy="11520"/>
              </a:xfrm>
              <a:custGeom>
                <a:avLst/>
                <a:gdLst/>
                <a:ahLst/>
                <a:rect l="l" t="t" r="r" b="b"/>
                <a:pathLst>
                  <a:path w="13" h="9">
                    <a:moveTo>
                      <a:pt x="1" y="0"/>
                    </a:moveTo>
                    <a:lnTo>
                      <a:pt x="13" y="5"/>
                    </a:lnTo>
                    <a:lnTo>
                      <a:pt x="1" y="9"/>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8" name=""/>
              <p:cNvSpPr/>
              <p:nvPr/>
            </p:nvSpPr>
            <p:spPr>
              <a:xfrm>
                <a:off x="4944600" y="2572920"/>
                <a:ext cx="1337040" cy="9360"/>
              </a:xfrm>
              <a:custGeom>
                <a:avLst/>
                <a:gdLst/>
                <a:ahLst/>
                <a:rect l="l" t="t" r="r" b="b"/>
                <a:pathLst>
                  <a:path w="1263" h="7">
                    <a:moveTo>
                      <a:pt x="0" y="7"/>
                    </a:moveTo>
                    <a:lnTo>
                      <a:pt x="20" y="7"/>
                    </a:lnTo>
                    <a:lnTo>
                      <a:pt x="20" y="6"/>
                    </a:lnTo>
                    <a:lnTo>
                      <a:pt x="41" y="6"/>
                    </a:lnTo>
                    <a:lnTo>
                      <a:pt x="42" y="5"/>
                    </a:lnTo>
                    <a:lnTo>
                      <a:pt x="43" y="4"/>
                    </a:lnTo>
                    <a:lnTo>
                      <a:pt x="44" y="3"/>
                    </a:lnTo>
                    <a:lnTo>
                      <a:pt x="46" y="3"/>
                    </a:lnTo>
                    <a:lnTo>
                      <a:pt x="47" y="3"/>
                    </a:lnTo>
                    <a:lnTo>
                      <a:pt x="49" y="4"/>
                    </a:lnTo>
                    <a:lnTo>
                      <a:pt x="50" y="5"/>
                    </a:lnTo>
                    <a:lnTo>
                      <a:pt x="50" y="6"/>
                    </a:lnTo>
                    <a:lnTo>
                      <a:pt x="81" y="6"/>
                    </a:lnTo>
                    <a:lnTo>
                      <a:pt x="81" y="5"/>
                    </a:lnTo>
                    <a:lnTo>
                      <a:pt x="82" y="4"/>
                    </a:lnTo>
                    <a:lnTo>
                      <a:pt x="84" y="3"/>
                    </a:lnTo>
                    <a:lnTo>
                      <a:pt x="85" y="3"/>
                    </a:lnTo>
                    <a:lnTo>
                      <a:pt x="87" y="3"/>
                    </a:lnTo>
                    <a:lnTo>
                      <a:pt x="88" y="4"/>
                    </a:lnTo>
                    <a:lnTo>
                      <a:pt x="89" y="5"/>
                    </a:lnTo>
                    <a:lnTo>
                      <a:pt x="90" y="6"/>
                    </a:lnTo>
                    <a:lnTo>
                      <a:pt x="94" y="6"/>
                    </a:lnTo>
                    <a:lnTo>
                      <a:pt x="95" y="5"/>
                    </a:lnTo>
                    <a:lnTo>
                      <a:pt x="96" y="4"/>
                    </a:lnTo>
                    <a:lnTo>
                      <a:pt x="97" y="3"/>
                    </a:lnTo>
                    <a:lnTo>
                      <a:pt x="99" y="3"/>
                    </a:lnTo>
                    <a:lnTo>
                      <a:pt x="100" y="3"/>
                    </a:lnTo>
                    <a:lnTo>
                      <a:pt x="102" y="4"/>
                    </a:lnTo>
                    <a:lnTo>
                      <a:pt x="103" y="5"/>
                    </a:lnTo>
                    <a:lnTo>
                      <a:pt x="103" y="6"/>
                    </a:lnTo>
                    <a:lnTo>
                      <a:pt x="129" y="6"/>
                    </a:lnTo>
                    <a:lnTo>
                      <a:pt x="129" y="5"/>
                    </a:lnTo>
                    <a:lnTo>
                      <a:pt x="130" y="4"/>
                    </a:lnTo>
                    <a:lnTo>
                      <a:pt x="131" y="3"/>
                    </a:lnTo>
                    <a:lnTo>
                      <a:pt x="133" y="3"/>
                    </a:lnTo>
                    <a:lnTo>
                      <a:pt x="135" y="3"/>
                    </a:lnTo>
                    <a:lnTo>
                      <a:pt x="136" y="4"/>
                    </a:lnTo>
                    <a:lnTo>
                      <a:pt x="137" y="5"/>
                    </a:lnTo>
                    <a:lnTo>
                      <a:pt x="138" y="6"/>
                    </a:lnTo>
                    <a:lnTo>
                      <a:pt x="144" y="6"/>
                    </a:lnTo>
                    <a:lnTo>
                      <a:pt x="144" y="5"/>
                    </a:lnTo>
                    <a:lnTo>
                      <a:pt x="145" y="4"/>
                    </a:lnTo>
                    <a:lnTo>
                      <a:pt x="147" y="3"/>
                    </a:lnTo>
                    <a:lnTo>
                      <a:pt x="149" y="3"/>
                    </a:lnTo>
                    <a:lnTo>
                      <a:pt x="150" y="3"/>
                    </a:lnTo>
                    <a:lnTo>
                      <a:pt x="152" y="4"/>
                    </a:lnTo>
                    <a:lnTo>
                      <a:pt x="153" y="5"/>
                    </a:lnTo>
                    <a:lnTo>
                      <a:pt x="153" y="6"/>
                    </a:lnTo>
                    <a:lnTo>
                      <a:pt x="337" y="6"/>
                    </a:lnTo>
                    <a:lnTo>
                      <a:pt x="337" y="5"/>
                    </a:lnTo>
                    <a:lnTo>
                      <a:pt x="338" y="4"/>
                    </a:lnTo>
                    <a:lnTo>
                      <a:pt x="340" y="3"/>
                    </a:lnTo>
                    <a:lnTo>
                      <a:pt x="342" y="3"/>
                    </a:lnTo>
                    <a:lnTo>
                      <a:pt x="343" y="3"/>
                    </a:lnTo>
                    <a:lnTo>
                      <a:pt x="345" y="4"/>
                    </a:lnTo>
                    <a:lnTo>
                      <a:pt x="346" y="5"/>
                    </a:lnTo>
                    <a:lnTo>
                      <a:pt x="346" y="6"/>
                    </a:lnTo>
                    <a:lnTo>
                      <a:pt x="389" y="6"/>
                    </a:lnTo>
                    <a:lnTo>
                      <a:pt x="390" y="5"/>
                    </a:lnTo>
                    <a:lnTo>
                      <a:pt x="391" y="4"/>
                    </a:lnTo>
                    <a:lnTo>
                      <a:pt x="392" y="3"/>
                    </a:lnTo>
                    <a:lnTo>
                      <a:pt x="394" y="3"/>
                    </a:lnTo>
                    <a:lnTo>
                      <a:pt x="396" y="3"/>
                    </a:lnTo>
                    <a:lnTo>
                      <a:pt x="397" y="4"/>
                    </a:lnTo>
                    <a:lnTo>
                      <a:pt x="398" y="5"/>
                    </a:lnTo>
                    <a:lnTo>
                      <a:pt x="398" y="6"/>
                    </a:lnTo>
                    <a:lnTo>
                      <a:pt x="452" y="6"/>
                    </a:lnTo>
                    <a:lnTo>
                      <a:pt x="452" y="5"/>
                    </a:lnTo>
                    <a:lnTo>
                      <a:pt x="453" y="4"/>
                    </a:lnTo>
                    <a:lnTo>
                      <a:pt x="455" y="3"/>
                    </a:lnTo>
                    <a:lnTo>
                      <a:pt x="456" y="3"/>
                    </a:lnTo>
                    <a:lnTo>
                      <a:pt x="458" y="3"/>
                    </a:lnTo>
                    <a:lnTo>
                      <a:pt x="460" y="4"/>
                    </a:lnTo>
                    <a:lnTo>
                      <a:pt x="461" y="5"/>
                    </a:lnTo>
                    <a:lnTo>
                      <a:pt x="461" y="6"/>
                    </a:lnTo>
                    <a:lnTo>
                      <a:pt x="472" y="6"/>
                    </a:lnTo>
                    <a:lnTo>
                      <a:pt x="473" y="5"/>
                    </a:lnTo>
                    <a:lnTo>
                      <a:pt x="473" y="4"/>
                    </a:lnTo>
                    <a:lnTo>
                      <a:pt x="475" y="3"/>
                    </a:lnTo>
                    <a:lnTo>
                      <a:pt x="477" y="3"/>
                    </a:lnTo>
                    <a:lnTo>
                      <a:pt x="478" y="3"/>
                    </a:lnTo>
                    <a:lnTo>
                      <a:pt x="480" y="4"/>
                    </a:lnTo>
                    <a:lnTo>
                      <a:pt x="481" y="5"/>
                    </a:lnTo>
                    <a:lnTo>
                      <a:pt x="481" y="6"/>
                    </a:lnTo>
                    <a:lnTo>
                      <a:pt x="494" y="6"/>
                    </a:lnTo>
                    <a:lnTo>
                      <a:pt x="494" y="5"/>
                    </a:lnTo>
                    <a:lnTo>
                      <a:pt x="495" y="3"/>
                    </a:lnTo>
                    <a:lnTo>
                      <a:pt x="497" y="1"/>
                    </a:lnTo>
                    <a:lnTo>
                      <a:pt x="499" y="0"/>
                    </a:lnTo>
                    <a:lnTo>
                      <a:pt x="501" y="0"/>
                    </a:lnTo>
                    <a:lnTo>
                      <a:pt x="503" y="0"/>
                    </a:lnTo>
                    <a:lnTo>
                      <a:pt x="505" y="0"/>
                    </a:lnTo>
                    <a:lnTo>
                      <a:pt x="508" y="1"/>
                    </a:lnTo>
                    <a:lnTo>
                      <a:pt x="509" y="3"/>
                    </a:lnTo>
                    <a:lnTo>
                      <a:pt x="510" y="5"/>
                    </a:lnTo>
                    <a:lnTo>
                      <a:pt x="510" y="6"/>
                    </a:lnTo>
                    <a:lnTo>
                      <a:pt x="525" y="6"/>
                    </a:lnTo>
                    <a:lnTo>
                      <a:pt x="525" y="5"/>
                    </a:lnTo>
                    <a:lnTo>
                      <a:pt x="526" y="4"/>
                    </a:lnTo>
                    <a:lnTo>
                      <a:pt x="528" y="3"/>
                    </a:lnTo>
                    <a:lnTo>
                      <a:pt x="529" y="3"/>
                    </a:lnTo>
                    <a:lnTo>
                      <a:pt x="531" y="3"/>
                    </a:lnTo>
                    <a:lnTo>
                      <a:pt x="533" y="4"/>
                    </a:lnTo>
                    <a:lnTo>
                      <a:pt x="533" y="5"/>
                    </a:lnTo>
                    <a:lnTo>
                      <a:pt x="534" y="6"/>
                    </a:lnTo>
                    <a:lnTo>
                      <a:pt x="553" y="6"/>
                    </a:lnTo>
                    <a:lnTo>
                      <a:pt x="553" y="5"/>
                    </a:lnTo>
                    <a:lnTo>
                      <a:pt x="554" y="4"/>
                    </a:lnTo>
                    <a:lnTo>
                      <a:pt x="555" y="3"/>
                    </a:lnTo>
                    <a:lnTo>
                      <a:pt x="557" y="3"/>
                    </a:lnTo>
                    <a:lnTo>
                      <a:pt x="559" y="3"/>
                    </a:lnTo>
                    <a:lnTo>
                      <a:pt x="560" y="4"/>
                    </a:lnTo>
                    <a:lnTo>
                      <a:pt x="561" y="5"/>
                    </a:lnTo>
                    <a:lnTo>
                      <a:pt x="561" y="6"/>
                    </a:lnTo>
                    <a:lnTo>
                      <a:pt x="618" y="6"/>
                    </a:lnTo>
                    <a:lnTo>
                      <a:pt x="619" y="5"/>
                    </a:lnTo>
                    <a:lnTo>
                      <a:pt x="620" y="4"/>
                    </a:lnTo>
                    <a:lnTo>
                      <a:pt x="621" y="3"/>
                    </a:lnTo>
                    <a:lnTo>
                      <a:pt x="623" y="3"/>
                    </a:lnTo>
                    <a:lnTo>
                      <a:pt x="625" y="3"/>
                    </a:lnTo>
                    <a:lnTo>
                      <a:pt x="626" y="4"/>
                    </a:lnTo>
                    <a:lnTo>
                      <a:pt x="627" y="5"/>
                    </a:lnTo>
                    <a:lnTo>
                      <a:pt x="627" y="6"/>
                    </a:lnTo>
                    <a:lnTo>
                      <a:pt x="645" y="6"/>
                    </a:lnTo>
                    <a:lnTo>
                      <a:pt x="646" y="5"/>
                    </a:lnTo>
                    <a:lnTo>
                      <a:pt x="647" y="4"/>
                    </a:lnTo>
                    <a:lnTo>
                      <a:pt x="648" y="3"/>
                    </a:lnTo>
                    <a:lnTo>
                      <a:pt x="650" y="3"/>
                    </a:lnTo>
                    <a:lnTo>
                      <a:pt x="652" y="3"/>
                    </a:lnTo>
                    <a:lnTo>
                      <a:pt x="653" y="4"/>
                    </a:lnTo>
                    <a:lnTo>
                      <a:pt x="654" y="5"/>
                    </a:lnTo>
                    <a:lnTo>
                      <a:pt x="654" y="6"/>
                    </a:lnTo>
                    <a:lnTo>
                      <a:pt x="769" y="6"/>
                    </a:lnTo>
                    <a:lnTo>
                      <a:pt x="769" y="5"/>
                    </a:lnTo>
                    <a:lnTo>
                      <a:pt x="770" y="4"/>
                    </a:lnTo>
                    <a:lnTo>
                      <a:pt x="771" y="3"/>
                    </a:lnTo>
                    <a:lnTo>
                      <a:pt x="773" y="3"/>
                    </a:lnTo>
                    <a:lnTo>
                      <a:pt x="775" y="3"/>
                    </a:lnTo>
                    <a:lnTo>
                      <a:pt x="776" y="4"/>
                    </a:lnTo>
                    <a:lnTo>
                      <a:pt x="777" y="5"/>
                    </a:lnTo>
                    <a:lnTo>
                      <a:pt x="778" y="6"/>
                    </a:lnTo>
                    <a:lnTo>
                      <a:pt x="790" y="6"/>
                    </a:lnTo>
                    <a:lnTo>
                      <a:pt x="791" y="5"/>
                    </a:lnTo>
                    <a:lnTo>
                      <a:pt x="792" y="4"/>
                    </a:lnTo>
                    <a:lnTo>
                      <a:pt x="793" y="3"/>
                    </a:lnTo>
                    <a:lnTo>
                      <a:pt x="795" y="3"/>
                    </a:lnTo>
                    <a:lnTo>
                      <a:pt x="797" y="3"/>
                    </a:lnTo>
                    <a:lnTo>
                      <a:pt x="798" y="4"/>
                    </a:lnTo>
                    <a:lnTo>
                      <a:pt x="799" y="5"/>
                    </a:lnTo>
                    <a:lnTo>
                      <a:pt x="799" y="6"/>
                    </a:lnTo>
                    <a:lnTo>
                      <a:pt x="852" y="6"/>
                    </a:lnTo>
                    <a:lnTo>
                      <a:pt x="853" y="5"/>
                    </a:lnTo>
                    <a:lnTo>
                      <a:pt x="854" y="4"/>
                    </a:lnTo>
                    <a:lnTo>
                      <a:pt x="855" y="3"/>
                    </a:lnTo>
                    <a:lnTo>
                      <a:pt x="857" y="3"/>
                    </a:lnTo>
                    <a:lnTo>
                      <a:pt x="858" y="3"/>
                    </a:lnTo>
                    <a:lnTo>
                      <a:pt x="860" y="4"/>
                    </a:lnTo>
                    <a:lnTo>
                      <a:pt x="861" y="5"/>
                    </a:lnTo>
                    <a:lnTo>
                      <a:pt x="861" y="6"/>
                    </a:lnTo>
                    <a:lnTo>
                      <a:pt x="876" y="6"/>
                    </a:lnTo>
                    <a:lnTo>
                      <a:pt x="876" y="5"/>
                    </a:lnTo>
                    <a:lnTo>
                      <a:pt x="877" y="4"/>
                    </a:lnTo>
                    <a:lnTo>
                      <a:pt x="879" y="3"/>
                    </a:lnTo>
                    <a:lnTo>
                      <a:pt x="880" y="3"/>
                    </a:lnTo>
                    <a:lnTo>
                      <a:pt x="882" y="3"/>
                    </a:lnTo>
                    <a:lnTo>
                      <a:pt x="884" y="4"/>
                    </a:lnTo>
                    <a:lnTo>
                      <a:pt x="885" y="5"/>
                    </a:lnTo>
                    <a:lnTo>
                      <a:pt x="885" y="6"/>
                    </a:lnTo>
                    <a:lnTo>
                      <a:pt x="891" y="6"/>
                    </a:lnTo>
                    <a:lnTo>
                      <a:pt x="891" y="5"/>
                    </a:lnTo>
                    <a:lnTo>
                      <a:pt x="892" y="4"/>
                    </a:lnTo>
                    <a:lnTo>
                      <a:pt x="894" y="3"/>
                    </a:lnTo>
                    <a:lnTo>
                      <a:pt x="895" y="3"/>
                    </a:lnTo>
                    <a:lnTo>
                      <a:pt x="897" y="3"/>
                    </a:lnTo>
                    <a:lnTo>
                      <a:pt x="899" y="4"/>
                    </a:lnTo>
                    <a:lnTo>
                      <a:pt x="900" y="5"/>
                    </a:lnTo>
                    <a:lnTo>
                      <a:pt x="900" y="6"/>
                    </a:lnTo>
                    <a:lnTo>
                      <a:pt x="909" y="6"/>
                    </a:lnTo>
                    <a:lnTo>
                      <a:pt x="909" y="5"/>
                    </a:lnTo>
                    <a:lnTo>
                      <a:pt x="910" y="4"/>
                    </a:lnTo>
                    <a:lnTo>
                      <a:pt x="912" y="3"/>
                    </a:lnTo>
                    <a:lnTo>
                      <a:pt x="914" y="3"/>
                    </a:lnTo>
                    <a:lnTo>
                      <a:pt x="915" y="3"/>
                    </a:lnTo>
                    <a:lnTo>
                      <a:pt x="917" y="4"/>
                    </a:lnTo>
                    <a:lnTo>
                      <a:pt x="918" y="5"/>
                    </a:lnTo>
                    <a:lnTo>
                      <a:pt x="918" y="6"/>
                    </a:lnTo>
                    <a:lnTo>
                      <a:pt x="936" y="6"/>
                    </a:lnTo>
                    <a:lnTo>
                      <a:pt x="937" y="5"/>
                    </a:lnTo>
                    <a:lnTo>
                      <a:pt x="938" y="4"/>
                    </a:lnTo>
                    <a:lnTo>
                      <a:pt x="939" y="3"/>
                    </a:lnTo>
                    <a:lnTo>
                      <a:pt x="941" y="3"/>
                    </a:lnTo>
                    <a:lnTo>
                      <a:pt x="943" y="3"/>
                    </a:lnTo>
                    <a:lnTo>
                      <a:pt x="944" y="4"/>
                    </a:lnTo>
                    <a:lnTo>
                      <a:pt x="945" y="5"/>
                    </a:lnTo>
                    <a:lnTo>
                      <a:pt x="945" y="6"/>
                    </a:lnTo>
                    <a:lnTo>
                      <a:pt x="957" y="6"/>
                    </a:lnTo>
                    <a:lnTo>
                      <a:pt x="957" y="5"/>
                    </a:lnTo>
                    <a:lnTo>
                      <a:pt x="958" y="4"/>
                    </a:lnTo>
                    <a:lnTo>
                      <a:pt x="959" y="3"/>
                    </a:lnTo>
                    <a:lnTo>
                      <a:pt x="961" y="3"/>
                    </a:lnTo>
                    <a:lnTo>
                      <a:pt x="963" y="3"/>
                    </a:lnTo>
                    <a:lnTo>
                      <a:pt x="964" y="4"/>
                    </a:lnTo>
                    <a:lnTo>
                      <a:pt x="965" y="5"/>
                    </a:lnTo>
                    <a:lnTo>
                      <a:pt x="966" y="6"/>
                    </a:lnTo>
                    <a:lnTo>
                      <a:pt x="1037" y="6"/>
                    </a:lnTo>
                    <a:lnTo>
                      <a:pt x="1037" y="5"/>
                    </a:lnTo>
                    <a:lnTo>
                      <a:pt x="1038" y="4"/>
                    </a:lnTo>
                    <a:lnTo>
                      <a:pt x="1039" y="3"/>
                    </a:lnTo>
                    <a:lnTo>
                      <a:pt x="1041" y="3"/>
                    </a:lnTo>
                    <a:lnTo>
                      <a:pt x="1043" y="3"/>
                    </a:lnTo>
                    <a:lnTo>
                      <a:pt x="1044" y="4"/>
                    </a:lnTo>
                    <a:lnTo>
                      <a:pt x="1045" y="5"/>
                    </a:lnTo>
                    <a:lnTo>
                      <a:pt x="1046" y="6"/>
                    </a:lnTo>
                    <a:lnTo>
                      <a:pt x="1064" y="6"/>
                    </a:lnTo>
                    <a:lnTo>
                      <a:pt x="1065" y="5"/>
                    </a:lnTo>
                    <a:lnTo>
                      <a:pt x="1066" y="4"/>
                    </a:lnTo>
                    <a:lnTo>
                      <a:pt x="1067" y="3"/>
                    </a:lnTo>
                    <a:lnTo>
                      <a:pt x="1069" y="3"/>
                    </a:lnTo>
                    <a:lnTo>
                      <a:pt x="1071" y="3"/>
                    </a:lnTo>
                    <a:lnTo>
                      <a:pt x="1072" y="4"/>
                    </a:lnTo>
                    <a:lnTo>
                      <a:pt x="1073" y="5"/>
                    </a:lnTo>
                    <a:lnTo>
                      <a:pt x="1073" y="6"/>
                    </a:lnTo>
                    <a:lnTo>
                      <a:pt x="1092" y="6"/>
                    </a:lnTo>
                    <a:lnTo>
                      <a:pt x="1092" y="5"/>
                    </a:lnTo>
                    <a:lnTo>
                      <a:pt x="1093" y="4"/>
                    </a:lnTo>
                    <a:lnTo>
                      <a:pt x="1095" y="3"/>
                    </a:lnTo>
                    <a:lnTo>
                      <a:pt x="1096" y="3"/>
                    </a:lnTo>
                    <a:lnTo>
                      <a:pt x="1098" y="3"/>
                    </a:lnTo>
                    <a:lnTo>
                      <a:pt x="1099" y="4"/>
                    </a:lnTo>
                    <a:lnTo>
                      <a:pt x="1100" y="5"/>
                    </a:lnTo>
                    <a:lnTo>
                      <a:pt x="1101" y="6"/>
                    </a:lnTo>
                    <a:lnTo>
                      <a:pt x="1110" y="6"/>
                    </a:lnTo>
                    <a:lnTo>
                      <a:pt x="1110" y="5"/>
                    </a:lnTo>
                    <a:lnTo>
                      <a:pt x="1111" y="3"/>
                    </a:lnTo>
                    <a:lnTo>
                      <a:pt x="1113" y="2"/>
                    </a:lnTo>
                    <a:lnTo>
                      <a:pt x="1114" y="1"/>
                    </a:lnTo>
                    <a:lnTo>
                      <a:pt x="1116" y="1"/>
                    </a:lnTo>
                    <a:lnTo>
                      <a:pt x="1118" y="1"/>
                    </a:lnTo>
                    <a:lnTo>
                      <a:pt x="1120" y="2"/>
                    </a:lnTo>
                    <a:lnTo>
                      <a:pt x="1122" y="3"/>
                    </a:lnTo>
                    <a:lnTo>
                      <a:pt x="1123" y="5"/>
                    </a:lnTo>
                    <a:lnTo>
                      <a:pt x="1123" y="6"/>
                    </a:lnTo>
                    <a:lnTo>
                      <a:pt x="1129" y="6"/>
                    </a:lnTo>
                    <a:lnTo>
                      <a:pt x="1129" y="5"/>
                    </a:lnTo>
                    <a:lnTo>
                      <a:pt x="1130" y="4"/>
                    </a:lnTo>
                    <a:lnTo>
                      <a:pt x="1131" y="3"/>
                    </a:lnTo>
                    <a:lnTo>
                      <a:pt x="1133" y="3"/>
                    </a:lnTo>
                    <a:lnTo>
                      <a:pt x="1135" y="3"/>
                    </a:lnTo>
                    <a:lnTo>
                      <a:pt x="1136" y="4"/>
                    </a:lnTo>
                    <a:lnTo>
                      <a:pt x="1137" y="5"/>
                    </a:lnTo>
                    <a:lnTo>
                      <a:pt x="1137" y="6"/>
                    </a:lnTo>
                    <a:lnTo>
                      <a:pt x="1142" y="6"/>
                    </a:lnTo>
                    <a:lnTo>
                      <a:pt x="1142" y="5"/>
                    </a:lnTo>
                    <a:lnTo>
                      <a:pt x="1143" y="4"/>
                    </a:lnTo>
                    <a:lnTo>
                      <a:pt x="1145" y="3"/>
                    </a:lnTo>
                    <a:lnTo>
                      <a:pt x="1147" y="3"/>
                    </a:lnTo>
                    <a:lnTo>
                      <a:pt x="1148" y="3"/>
                    </a:lnTo>
                    <a:lnTo>
                      <a:pt x="1150" y="4"/>
                    </a:lnTo>
                    <a:lnTo>
                      <a:pt x="1151" y="5"/>
                    </a:lnTo>
                    <a:lnTo>
                      <a:pt x="1151" y="6"/>
                    </a:lnTo>
                    <a:lnTo>
                      <a:pt x="1166" y="6"/>
                    </a:lnTo>
                    <a:lnTo>
                      <a:pt x="1166" y="5"/>
                    </a:lnTo>
                    <a:lnTo>
                      <a:pt x="1167" y="3"/>
                    </a:lnTo>
                    <a:lnTo>
                      <a:pt x="1168" y="2"/>
                    </a:lnTo>
                    <a:lnTo>
                      <a:pt x="1170" y="1"/>
                    </a:lnTo>
                    <a:lnTo>
                      <a:pt x="1172" y="0"/>
                    </a:lnTo>
                    <a:lnTo>
                      <a:pt x="1174" y="0"/>
                    </a:lnTo>
                    <a:lnTo>
                      <a:pt x="1177" y="1"/>
                    </a:lnTo>
                    <a:lnTo>
                      <a:pt x="1179" y="2"/>
                    </a:lnTo>
                    <a:lnTo>
                      <a:pt x="1180" y="3"/>
                    </a:lnTo>
                    <a:lnTo>
                      <a:pt x="1181" y="5"/>
                    </a:lnTo>
                    <a:lnTo>
                      <a:pt x="1181" y="6"/>
                    </a:lnTo>
                    <a:lnTo>
                      <a:pt x="1186" y="6"/>
                    </a:lnTo>
                    <a:lnTo>
                      <a:pt x="1186" y="5"/>
                    </a:lnTo>
                    <a:lnTo>
                      <a:pt x="1187" y="3"/>
                    </a:lnTo>
                    <a:lnTo>
                      <a:pt x="1189" y="2"/>
                    </a:lnTo>
                    <a:lnTo>
                      <a:pt x="1191" y="1"/>
                    </a:lnTo>
                    <a:lnTo>
                      <a:pt x="1193" y="0"/>
                    </a:lnTo>
                    <a:lnTo>
                      <a:pt x="1195" y="0"/>
                    </a:lnTo>
                    <a:lnTo>
                      <a:pt x="1197" y="1"/>
                    </a:lnTo>
                    <a:lnTo>
                      <a:pt x="1199" y="2"/>
                    </a:lnTo>
                    <a:lnTo>
                      <a:pt x="1200" y="3"/>
                    </a:lnTo>
                    <a:lnTo>
                      <a:pt x="1201" y="5"/>
                    </a:lnTo>
                    <a:lnTo>
                      <a:pt x="1202" y="6"/>
                    </a:lnTo>
                    <a:lnTo>
                      <a:pt x="1243" y="6"/>
                    </a:lnTo>
                    <a:lnTo>
                      <a:pt x="1243" y="5"/>
                    </a:lnTo>
                    <a:lnTo>
                      <a:pt x="1244" y="3"/>
                    </a:lnTo>
                    <a:lnTo>
                      <a:pt x="1245" y="2"/>
                    </a:lnTo>
                    <a:lnTo>
                      <a:pt x="1247" y="1"/>
                    </a:lnTo>
                    <a:lnTo>
                      <a:pt x="1250" y="0"/>
                    </a:lnTo>
                    <a:lnTo>
                      <a:pt x="1252" y="0"/>
                    </a:lnTo>
                    <a:lnTo>
                      <a:pt x="1254" y="1"/>
                    </a:lnTo>
                    <a:lnTo>
                      <a:pt x="1256" y="2"/>
                    </a:lnTo>
                    <a:lnTo>
                      <a:pt x="1257" y="3"/>
                    </a:lnTo>
                    <a:lnTo>
                      <a:pt x="1258" y="5"/>
                    </a:lnTo>
                    <a:lnTo>
                      <a:pt x="1258" y="6"/>
                    </a:lnTo>
                    <a:lnTo>
                      <a:pt x="1263" y="6"/>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39" name=""/>
              <p:cNvSpPr/>
              <p:nvPr/>
            </p:nvSpPr>
            <p:spPr>
              <a:xfrm>
                <a:off x="6279840" y="257580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40" name=""/>
              <p:cNvSpPr/>
              <p:nvPr/>
            </p:nvSpPr>
            <p:spPr>
              <a:xfrm>
                <a:off x="4103280" y="2237760"/>
                <a:ext cx="228240" cy="83880"/>
              </a:xfrm>
              <a:prstGeom prst="rect">
                <a:avLst/>
              </a:prstGeom>
              <a:blipFill rotWithShape="0">
                <a:blip r:embed="rId122"/>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41" name=""/>
              <p:cNvSpPr/>
              <p:nvPr/>
            </p:nvSpPr>
            <p:spPr>
              <a:xfrm>
                <a:off x="4126680" y="2263320"/>
                <a:ext cx="163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alendar</a:t>
                </a:r>
                <a:endParaRPr b="0" lang="en-US" sz="300" spc="-1" strike="noStrike">
                  <a:solidFill>
                    <a:srgbClr val="ffffff"/>
                  </a:solidFill>
                  <a:latin typeface="Arial"/>
                </a:endParaRPr>
              </a:p>
            </p:txBody>
          </p:sp>
          <p:sp>
            <p:nvSpPr>
              <p:cNvPr id="1442" name=""/>
              <p:cNvSpPr/>
              <p:nvPr/>
            </p:nvSpPr>
            <p:spPr>
              <a:xfrm>
                <a:off x="3716640" y="2378160"/>
                <a:ext cx="228600" cy="50760"/>
              </a:xfrm>
              <a:prstGeom prst="rect">
                <a:avLst/>
              </a:prstGeom>
              <a:blipFill rotWithShape="0">
                <a:blip r:embed="rId123"/>
                <a:srcRect/>
                <a:tile tx="0" ty="0" sx="100000" sy="100000" algn="ctr"/>
              </a:blip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43" name=""/>
              <p:cNvSpPr/>
              <p:nvPr/>
            </p:nvSpPr>
            <p:spPr>
              <a:xfrm>
                <a:off x="3728520" y="2383560"/>
                <a:ext cx="270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tores &amp; Mrkts</a:t>
                </a:r>
                <a:endParaRPr b="0" lang="en-US" sz="300" spc="-1" strike="noStrike">
                  <a:solidFill>
                    <a:srgbClr val="ffffff"/>
                  </a:solidFill>
                  <a:latin typeface="Arial"/>
                </a:endParaRPr>
              </a:p>
            </p:txBody>
          </p:sp>
          <p:sp>
            <p:nvSpPr>
              <p:cNvPr id="1444" name=""/>
              <p:cNvSpPr/>
              <p:nvPr/>
            </p:nvSpPr>
            <p:spPr>
              <a:xfrm>
                <a:off x="3711240" y="2301840"/>
                <a:ext cx="228600" cy="59760"/>
              </a:xfrm>
              <a:prstGeom prst="rect">
                <a:avLst/>
              </a:prstGeom>
              <a:blipFill rotWithShape="0">
                <a:blip r:embed="rId124"/>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445" name=""/>
              <p:cNvSpPr/>
              <p:nvPr/>
            </p:nvSpPr>
            <p:spPr>
              <a:xfrm>
                <a:off x="3754800" y="2314080"/>
                <a:ext cx="186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Due Dates</a:t>
                </a:r>
                <a:endParaRPr b="0" lang="en-US" sz="300" spc="-1" strike="noStrike">
                  <a:solidFill>
                    <a:srgbClr val="ffffff"/>
                  </a:solidFill>
                  <a:latin typeface="Arial"/>
                </a:endParaRPr>
              </a:p>
            </p:txBody>
          </p:sp>
          <p:sp>
            <p:nvSpPr>
              <p:cNvPr id="1446" name=""/>
              <p:cNvSpPr/>
              <p:nvPr/>
            </p:nvSpPr>
            <p:spPr>
              <a:xfrm>
                <a:off x="3714480" y="2438280"/>
                <a:ext cx="228600" cy="59760"/>
              </a:xfrm>
              <a:prstGeom prst="rect">
                <a:avLst/>
              </a:prstGeom>
              <a:blipFill rotWithShape="0">
                <a:blip r:embed="rId125"/>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447" name=""/>
              <p:cNvSpPr/>
              <p:nvPr/>
            </p:nvSpPr>
            <p:spPr>
              <a:xfrm>
                <a:off x="3753000" y="2452680"/>
                <a:ext cx="200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mart Plus</a:t>
                </a:r>
                <a:endParaRPr b="0" lang="en-US" sz="300" spc="-1" strike="noStrike">
                  <a:solidFill>
                    <a:srgbClr val="ffffff"/>
                  </a:solidFill>
                  <a:latin typeface="Arial"/>
                </a:endParaRPr>
              </a:p>
            </p:txBody>
          </p:sp>
          <p:sp>
            <p:nvSpPr>
              <p:cNvPr id="1448" name=""/>
              <p:cNvSpPr/>
              <p:nvPr/>
            </p:nvSpPr>
            <p:spPr>
              <a:xfrm>
                <a:off x="4431240" y="2205720"/>
                <a:ext cx="228240" cy="83880"/>
              </a:xfrm>
              <a:prstGeom prst="rect">
                <a:avLst/>
              </a:prstGeom>
              <a:blipFill rotWithShape="0">
                <a:blip r:embed="rId126"/>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49" name=""/>
              <p:cNvSpPr/>
              <p:nvPr/>
            </p:nvSpPr>
            <p:spPr>
              <a:xfrm>
                <a:off x="4476600" y="2216520"/>
                <a:ext cx="18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sertions</a:t>
                </a:r>
                <a:endParaRPr b="0" lang="en-US" sz="300" spc="-1" strike="noStrike">
                  <a:solidFill>
                    <a:srgbClr val="ffffff"/>
                  </a:solidFill>
                  <a:latin typeface="Arial"/>
                </a:endParaRPr>
              </a:p>
            </p:txBody>
          </p:sp>
          <p:sp>
            <p:nvSpPr>
              <p:cNvPr id="1450" name=""/>
              <p:cNvSpPr/>
              <p:nvPr/>
            </p:nvSpPr>
            <p:spPr>
              <a:xfrm>
                <a:off x="4498200" y="2248200"/>
                <a:ext cx="12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Orders</a:t>
                </a:r>
                <a:endParaRPr b="0" lang="en-US" sz="300" spc="-1" strike="noStrike">
                  <a:solidFill>
                    <a:srgbClr val="ffffff"/>
                  </a:solidFill>
                  <a:latin typeface="Arial"/>
                </a:endParaRPr>
              </a:p>
            </p:txBody>
          </p:sp>
          <p:sp>
            <p:nvSpPr>
              <p:cNvPr id="1451" name=""/>
              <p:cNvSpPr/>
              <p:nvPr/>
            </p:nvSpPr>
            <p:spPr>
              <a:xfrm>
                <a:off x="4336200" y="2036160"/>
                <a:ext cx="228240" cy="83880"/>
              </a:xfrm>
              <a:prstGeom prst="rect">
                <a:avLst/>
              </a:prstGeom>
              <a:blipFill rotWithShape="0">
                <a:blip r:embed="rId127"/>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52" name=""/>
              <p:cNvSpPr/>
              <p:nvPr/>
            </p:nvSpPr>
            <p:spPr>
              <a:xfrm>
                <a:off x="4401000" y="2044080"/>
                <a:ext cx="130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udget</a:t>
                </a:r>
                <a:endParaRPr b="0" lang="en-US" sz="300" spc="-1" strike="noStrike">
                  <a:solidFill>
                    <a:srgbClr val="ffffff"/>
                  </a:solidFill>
                  <a:latin typeface="Arial"/>
                </a:endParaRPr>
              </a:p>
            </p:txBody>
          </p:sp>
          <p:sp>
            <p:nvSpPr>
              <p:cNvPr id="1453" name=""/>
              <p:cNvSpPr/>
              <p:nvPr/>
            </p:nvSpPr>
            <p:spPr>
              <a:xfrm>
                <a:off x="4358160" y="2080080"/>
                <a:ext cx="24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Analysis Tool</a:t>
                </a:r>
                <a:endParaRPr b="0" lang="en-US" sz="300" spc="-1" strike="noStrike">
                  <a:solidFill>
                    <a:srgbClr val="ffffff"/>
                  </a:solidFill>
                  <a:latin typeface="Arial"/>
                </a:endParaRPr>
              </a:p>
            </p:txBody>
          </p:sp>
          <p:sp>
            <p:nvSpPr>
              <p:cNvPr id="1454" name=""/>
              <p:cNvSpPr/>
              <p:nvPr/>
            </p:nvSpPr>
            <p:spPr>
              <a:xfrm>
                <a:off x="4731840" y="2307240"/>
                <a:ext cx="207360" cy="60840"/>
              </a:xfrm>
              <a:prstGeom prst="rect">
                <a:avLst/>
              </a:prstGeom>
              <a:blipFill rotWithShape="0">
                <a:blip r:embed="rId128"/>
                <a:srcRect/>
                <a:tile tx="0" ty="0" sx="100000" sy="100000" algn="ctr"/>
              </a:blip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455" name=""/>
              <p:cNvSpPr/>
              <p:nvPr/>
            </p:nvSpPr>
            <p:spPr>
              <a:xfrm>
                <a:off x="4746240" y="2322000"/>
                <a:ext cx="238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nt Costing</a:t>
                </a:r>
                <a:endParaRPr b="0" lang="en-US" sz="300" spc="-1" strike="noStrike">
                  <a:solidFill>
                    <a:srgbClr val="ffffff"/>
                  </a:solidFill>
                  <a:latin typeface="Arial"/>
                </a:endParaRPr>
              </a:p>
            </p:txBody>
          </p:sp>
          <p:sp>
            <p:nvSpPr>
              <p:cNvPr id="1456" name=""/>
              <p:cNvSpPr/>
              <p:nvPr/>
            </p:nvSpPr>
            <p:spPr>
              <a:xfrm>
                <a:off x="4474440" y="2340720"/>
                <a:ext cx="196920" cy="59760"/>
              </a:xfrm>
              <a:prstGeom prst="rect">
                <a:avLst/>
              </a:prstGeom>
              <a:blipFill rotWithShape="0">
                <a:blip r:embed="rId129"/>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457" name=""/>
              <p:cNvSpPr/>
              <p:nvPr/>
            </p:nvSpPr>
            <p:spPr>
              <a:xfrm>
                <a:off x="4494960" y="235404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voice App</a:t>
                </a:r>
                <a:endParaRPr b="0" lang="en-US" sz="300" spc="-1" strike="noStrike">
                  <a:solidFill>
                    <a:srgbClr val="ffffff"/>
                  </a:solidFill>
                  <a:latin typeface="Arial"/>
                </a:endParaRPr>
              </a:p>
            </p:txBody>
          </p:sp>
          <p:sp>
            <p:nvSpPr>
              <p:cNvPr id="1458" name=""/>
              <p:cNvSpPr/>
              <p:nvPr/>
            </p:nvSpPr>
            <p:spPr>
              <a:xfrm>
                <a:off x="3709080" y="2224440"/>
                <a:ext cx="228600" cy="62640"/>
              </a:xfrm>
              <a:prstGeom prst="rect">
                <a:avLst/>
              </a:prstGeom>
              <a:blipFill rotWithShape="0">
                <a:blip r:embed="rId130"/>
                <a:srcRect/>
                <a:tile tx="0" ty="0" sx="100000" sy="100000" algn="ctr"/>
              </a:blip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459" name=""/>
              <p:cNvSpPr/>
              <p:nvPr/>
            </p:nvSpPr>
            <p:spPr>
              <a:xfrm>
                <a:off x="3742560" y="2237760"/>
                <a:ext cx="14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orts</a:t>
                </a:r>
                <a:endParaRPr b="0" lang="en-US" sz="300" spc="-1" strike="noStrike">
                  <a:solidFill>
                    <a:srgbClr val="ffffff"/>
                  </a:solidFill>
                  <a:latin typeface="Arial"/>
                </a:endParaRPr>
              </a:p>
            </p:txBody>
          </p:sp>
          <p:sp>
            <p:nvSpPr>
              <p:cNvPr id="1460" name=""/>
              <p:cNvSpPr/>
              <p:nvPr/>
            </p:nvSpPr>
            <p:spPr>
              <a:xfrm>
                <a:off x="3950640" y="2255400"/>
                <a:ext cx="150120" cy="2160"/>
              </a:xfrm>
              <a:custGeom>
                <a:avLst/>
                <a:gdLst/>
                <a:ahLst/>
                <a:rect l="l" t="t" r="r" b="b"/>
                <a:pathLst>
                  <a:path w="142" h="2">
                    <a:moveTo>
                      <a:pt x="0" y="0"/>
                    </a:moveTo>
                    <a:lnTo>
                      <a:pt x="8" y="0"/>
                    </a:lnTo>
                    <a:lnTo>
                      <a:pt x="8" y="2"/>
                    </a:lnTo>
                    <a:lnTo>
                      <a:pt x="142" y="2"/>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61" name=""/>
              <p:cNvSpPr/>
              <p:nvPr/>
            </p:nvSpPr>
            <p:spPr>
              <a:xfrm>
                <a:off x="3938040" y="2250000"/>
                <a:ext cx="1440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62" name=""/>
              <p:cNvSpPr/>
              <p:nvPr/>
            </p:nvSpPr>
            <p:spPr>
              <a:xfrm>
                <a:off x="3952800" y="2280600"/>
                <a:ext cx="150480" cy="50760"/>
              </a:xfrm>
              <a:custGeom>
                <a:avLst/>
                <a:gdLst/>
                <a:ahLst/>
                <a:rect l="l" t="t" r="r" b="b"/>
                <a:pathLst>
                  <a:path w="142" h="38">
                    <a:moveTo>
                      <a:pt x="0" y="38"/>
                    </a:moveTo>
                    <a:lnTo>
                      <a:pt x="9" y="38"/>
                    </a:lnTo>
                    <a:lnTo>
                      <a:pt x="9" y="0"/>
                    </a:lnTo>
                    <a:lnTo>
                      <a:pt x="142" y="0"/>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3" name=""/>
              <p:cNvSpPr/>
              <p:nvPr/>
            </p:nvSpPr>
            <p:spPr>
              <a:xfrm>
                <a:off x="3940200" y="2325960"/>
                <a:ext cx="1440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64" name=""/>
              <p:cNvSpPr/>
              <p:nvPr/>
            </p:nvSpPr>
            <p:spPr>
              <a:xfrm>
                <a:off x="3954960" y="2304720"/>
                <a:ext cx="134280" cy="98640"/>
              </a:xfrm>
              <a:custGeom>
                <a:avLst/>
                <a:gdLst/>
                <a:ahLst/>
                <a:rect l="l" t="t" r="r" b="b"/>
                <a:pathLst>
                  <a:path w="127" h="74">
                    <a:moveTo>
                      <a:pt x="0" y="74"/>
                    </a:moveTo>
                    <a:lnTo>
                      <a:pt x="18" y="74"/>
                    </a:lnTo>
                    <a:lnTo>
                      <a:pt x="18" y="0"/>
                    </a:lnTo>
                    <a:lnTo>
                      <a:pt x="1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945600" y="2396880"/>
                <a:ext cx="12600" cy="11880"/>
              </a:xfrm>
              <a:custGeom>
                <a:avLst/>
                <a:gdLst/>
                <a:ahLst/>
                <a:rect l="l" t="t" r="r" b="b"/>
                <a:pathLst>
                  <a:path w="12" h="9">
                    <a:moveTo>
                      <a:pt x="0" y="5"/>
                    </a:moveTo>
                    <a:lnTo>
                      <a:pt x="12" y="0"/>
                    </a:lnTo>
                    <a:lnTo>
                      <a:pt x="11" y="2"/>
                    </a:lnTo>
                    <a:lnTo>
                      <a:pt x="10" y="5"/>
                    </a:lnTo>
                    <a:lnTo>
                      <a:pt x="11" y="7"/>
                    </a:lnTo>
                    <a:lnTo>
                      <a:pt x="12" y="9"/>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66" name=""/>
              <p:cNvSpPr/>
              <p:nvPr/>
            </p:nvSpPr>
            <p:spPr>
              <a:xfrm>
                <a:off x="4087440" y="2299320"/>
                <a:ext cx="13680" cy="11880"/>
              </a:xfrm>
              <a:custGeom>
                <a:avLst/>
                <a:gdLst/>
                <a:ahLst/>
                <a:rect l="l" t="t" r="r" b="b"/>
                <a:pathLst>
                  <a:path w="13" h="9">
                    <a:moveTo>
                      <a:pt x="2" y="0"/>
                    </a:moveTo>
                    <a:lnTo>
                      <a:pt x="13" y="4"/>
                    </a:lnTo>
                    <a:lnTo>
                      <a:pt x="2" y="9"/>
                    </a:lnTo>
                    <a:lnTo>
                      <a:pt x="0" y="7"/>
                    </a:lnTo>
                    <a:lnTo>
                      <a:pt x="0" y="4"/>
                    </a:lnTo>
                    <a:lnTo>
                      <a:pt x="0"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67" name=""/>
              <p:cNvSpPr/>
              <p:nvPr/>
            </p:nvSpPr>
            <p:spPr>
              <a:xfrm>
                <a:off x="4002480" y="2368440"/>
                <a:ext cx="228240" cy="82800"/>
              </a:xfrm>
              <a:prstGeom prst="rect">
                <a:avLst/>
              </a:prstGeom>
              <a:blipFill rotWithShape="0">
                <a:blip r:embed="rId131"/>
                <a:srcRect/>
                <a:tile tx="0" ty="0" sx="100000" sy="100000" algn="ctr"/>
              </a:blip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8" name=""/>
              <p:cNvSpPr/>
              <p:nvPr/>
            </p:nvSpPr>
            <p:spPr>
              <a:xfrm>
                <a:off x="4044960" y="2375280"/>
                <a:ext cx="186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roadcast</a:t>
                </a:r>
                <a:endParaRPr b="0" lang="en-US" sz="300" spc="-1" strike="noStrike">
                  <a:solidFill>
                    <a:srgbClr val="ffffff"/>
                  </a:solidFill>
                  <a:latin typeface="Arial"/>
                </a:endParaRPr>
              </a:p>
            </p:txBody>
          </p:sp>
          <p:sp>
            <p:nvSpPr>
              <p:cNvPr id="1469" name=""/>
              <p:cNvSpPr/>
              <p:nvPr/>
            </p:nvSpPr>
            <p:spPr>
              <a:xfrm>
                <a:off x="4082760" y="2408760"/>
                <a:ext cx="9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Filter</a:t>
                </a:r>
                <a:endParaRPr b="0" lang="en-US" sz="300" spc="-1" strike="noStrike">
                  <a:solidFill>
                    <a:srgbClr val="ffffff"/>
                  </a:solidFill>
                  <a:latin typeface="Arial"/>
                </a:endParaRPr>
              </a:p>
            </p:txBody>
          </p:sp>
          <p:sp>
            <p:nvSpPr>
              <p:cNvPr id="1470" name=""/>
              <p:cNvSpPr/>
              <p:nvPr/>
            </p:nvSpPr>
            <p:spPr>
              <a:xfrm>
                <a:off x="3711240" y="2507760"/>
                <a:ext cx="228600" cy="59760"/>
              </a:xfrm>
              <a:prstGeom prst="rect">
                <a:avLst/>
              </a:prstGeom>
              <a:blipFill rotWithShape="0">
                <a:blip r:embed="rId132"/>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471" name=""/>
              <p:cNvSpPr/>
              <p:nvPr/>
            </p:nvSpPr>
            <p:spPr>
              <a:xfrm>
                <a:off x="3749760" y="2504880"/>
                <a:ext cx="200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mart Plus</a:t>
                </a:r>
                <a:endParaRPr b="0" lang="en-US" sz="300" spc="-1" strike="noStrike">
                  <a:solidFill>
                    <a:srgbClr val="ffffff"/>
                  </a:solidFill>
                  <a:latin typeface="Arial"/>
                </a:endParaRPr>
              </a:p>
            </p:txBody>
          </p:sp>
          <p:sp>
            <p:nvSpPr>
              <p:cNvPr id="1472" name=""/>
              <p:cNvSpPr/>
              <p:nvPr/>
            </p:nvSpPr>
            <p:spPr>
              <a:xfrm>
                <a:off x="3763080" y="2538360"/>
                <a:ext cx="171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Launcher</a:t>
                </a:r>
                <a:endParaRPr b="0" lang="en-US" sz="300" spc="-1" strike="noStrike">
                  <a:solidFill>
                    <a:srgbClr val="ffffff"/>
                  </a:solidFill>
                  <a:latin typeface="Arial"/>
                </a:endParaRPr>
              </a:p>
            </p:txBody>
          </p:sp>
          <p:sp>
            <p:nvSpPr>
              <p:cNvPr id="1473" name=""/>
              <p:cNvSpPr/>
              <p:nvPr/>
            </p:nvSpPr>
            <p:spPr>
              <a:xfrm>
                <a:off x="3690360" y="2468880"/>
                <a:ext cx="20880" cy="69120"/>
              </a:xfrm>
              <a:custGeom>
                <a:avLst/>
                <a:gdLst/>
                <a:ahLst/>
                <a:rect l="l" t="t" r="r" b="b"/>
                <a:pathLst>
                  <a:path w="20" h="52">
                    <a:moveTo>
                      <a:pt x="20" y="52"/>
                    </a:moveTo>
                    <a:lnTo>
                      <a:pt x="0" y="52"/>
                    </a:lnTo>
                    <a:lnTo>
                      <a:pt x="0" y="0"/>
                    </a:lnTo>
                    <a:lnTo>
                      <a:pt x="11" y="0"/>
                    </a:lnTo>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474" name=""/>
              <p:cNvSpPr/>
              <p:nvPr/>
            </p:nvSpPr>
            <p:spPr>
              <a:xfrm>
                <a:off x="3699720" y="2462040"/>
                <a:ext cx="1440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75" name=""/>
              <p:cNvSpPr/>
              <p:nvPr/>
            </p:nvSpPr>
            <p:spPr>
              <a:xfrm>
                <a:off x="3943440" y="2410200"/>
                <a:ext cx="46440" cy="58680"/>
              </a:xfrm>
              <a:custGeom>
                <a:avLst/>
                <a:gdLst/>
                <a:ahLst/>
                <a:rect l="l" t="t" r="r" b="b"/>
                <a:pathLst>
                  <a:path w="44" h="44">
                    <a:moveTo>
                      <a:pt x="0" y="44"/>
                    </a:moveTo>
                    <a:lnTo>
                      <a:pt x="36" y="44"/>
                    </a:lnTo>
                    <a:lnTo>
                      <a:pt x="36" y="0"/>
                    </a:lnTo>
                    <a:lnTo>
                      <a:pt x="44"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76" name=""/>
              <p:cNvSpPr/>
              <p:nvPr/>
            </p:nvSpPr>
            <p:spPr>
              <a:xfrm>
                <a:off x="3988800" y="240336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77" name=""/>
              <p:cNvSpPr/>
              <p:nvPr/>
            </p:nvSpPr>
            <p:spPr>
              <a:xfrm>
                <a:off x="4020480" y="2454480"/>
                <a:ext cx="83520" cy="27720"/>
              </a:xfrm>
              <a:custGeom>
                <a:avLst/>
                <a:gdLst/>
                <a:ahLst/>
                <a:rect l="l" t="t" r="r" b="b"/>
                <a:pathLst>
                  <a:path w="79" h="21">
                    <a:moveTo>
                      <a:pt x="0" y="0"/>
                    </a:moveTo>
                    <a:lnTo>
                      <a:pt x="0" y="21"/>
                    </a:lnTo>
                    <a:lnTo>
                      <a:pt x="79" y="21"/>
                    </a:lnTo>
                  </a:path>
                </a:pathLst>
              </a:custGeom>
              <a:noFill/>
              <a:ln w="144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478" name=""/>
              <p:cNvSpPr/>
              <p:nvPr/>
            </p:nvSpPr>
            <p:spPr>
              <a:xfrm>
                <a:off x="4103280" y="247536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79" name=""/>
              <p:cNvSpPr/>
              <p:nvPr/>
            </p:nvSpPr>
            <p:spPr>
              <a:xfrm>
                <a:off x="4126320" y="2332440"/>
                <a:ext cx="30600" cy="36000"/>
              </a:xfrm>
              <a:custGeom>
                <a:avLst/>
                <a:gdLst/>
                <a:ahLst/>
                <a:rect l="l" t="t" r="r" b="b"/>
                <a:pathLst>
                  <a:path w="29" h="27">
                    <a:moveTo>
                      <a:pt x="29" y="27"/>
                    </a:moveTo>
                    <a:lnTo>
                      <a:pt x="29" y="11"/>
                    </a:lnTo>
                    <a:lnTo>
                      <a:pt x="0" y="11"/>
                    </a:lnTo>
                    <a:lnTo>
                      <a:pt x="0" y="0"/>
                    </a:lnTo>
                  </a:path>
                </a:pathLst>
              </a:custGeom>
              <a:noFill/>
              <a:ln w="144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80" name=""/>
              <p:cNvSpPr/>
              <p:nvPr/>
            </p:nvSpPr>
            <p:spPr>
              <a:xfrm>
                <a:off x="4119840" y="23209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81" name=""/>
              <p:cNvSpPr/>
              <p:nvPr/>
            </p:nvSpPr>
            <p:spPr>
              <a:xfrm>
                <a:off x="4303080" y="2400840"/>
                <a:ext cx="189360" cy="51840"/>
              </a:xfrm>
              <a:custGeom>
                <a:avLst/>
                <a:gdLst/>
                <a:ahLst/>
                <a:rect l="l" t="t" r="r" b="b"/>
                <a:pathLst>
                  <a:path w="179" h="39">
                    <a:moveTo>
                      <a:pt x="179" y="0"/>
                    </a:moveTo>
                    <a:lnTo>
                      <a:pt x="179" y="27"/>
                    </a:lnTo>
                    <a:lnTo>
                      <a:pt x="133" y="27"/>
                    </a:lnTo>
                    <a:lnTo>
                      <a:pt x="132" y="26"/>
                    </a:lnTo>
                    <a:lnTo>
                      <a:pt x="131" y="24"/>
                    </a:lnTo>
                    <a:lnTo>
                      <a:pt x="130" y="24"/>
                    </a:lnTo>
                    <a:lnTo>
                      <a:pt x="128" y="24"/>
                    </a:lnTo>
                    <a:lnTo>
                      <a:pt x="126" y="24"/>
                    </a:lnTo>
                    <a:lnTo>
                      <a:pt x="125" y="24"/>
                    </a:lnTo>
                    <a:lnTo>
                      <a:pt x="124" y="26"/>
                    </a:lnTo>
                    <a:lnTo>
                      <a:pt x="124" y="27"/>
                    </a:lnTo>
                    <a:lnTo>
                      <a:pt x="0" y="27"/>
                    </a:lnTo>
                    <a:lnTo>
                      <a:pt x="0" y="39"/>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482" name=""/>
              <p:cNvSpPr/>
              <p:nvPr/>
            </p:nvSpPr>
            <p:spPr>
              <a:xfrm>
                <a:off x="4296960" y="24516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83" name=""/>
              <p:cNvSpPr/>
              <p:nvPr/>
            </p:nvSpPr>
            <p:spPr>
              <a:xfrm>
                <a:off x="4545720" y="2289960"/>
                <a:ext cx="62280" cy="38520"/>
              </a:xfrm>
              <a:custGeom>
                <a:avLst/>
                <a:gdLst/>
                <a:ahLst/>
                <a:rect l="l" t="t" r="r" b="b"/>
                <a:pathLst>
                  <a:path w="59" h="29">
                    <a:moveTo>
                      <a:pt x="59" y="29"/>
                    </a:moveTo>
                    <a:lnTo>
                      <a:pt x="59" y="22"/>
                    </a:lnTo>
                    <a:lnTo>
                      <a:pt x="0" y="22"/>
                    </a:lnTo>
                    <a:lnTo>
                      <a:pt x="0" y="0"/>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484" name=""/>
              <p:cNvSpPr/>
              <p:nvPr/>
            </p:nvSpPr>
            <p:spPr>
              <a:xfrm>
                <a:off x="4601880" y="23274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85" name=""/>
              <p:cNvSpPr/>
              <p:nvPr/>
            </p:nvSpPr>
            <p:spPr>
              <a:xfrm>
                <a:off x="4248360" y="2350080"/>
                <a:ext cx="196560" cy="59760"/>
              </a:xfrm>
              <a:prstGeom prst="rect">
                <a:avLst/>
              </a:prstGeom>
              <a:blipFill rotWithShape="0">
                <a:blip r:embed="rId133"/>
                <a:srcRect/>
                <a:tile tx="0" ty="0" sx="100000" sy="100000" algn="ctr"/>
              </a:blip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486" name=""/>
              <p:cNvSpPr/>
              <p:nvPr/>
            </p:nvSpPr>
            <p:spPr>
              <a:xfrm>
                <a:off x="4295160" y="2345760"/>
                <a:ext cx="142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General</a:t>
                </a:r>
                <a:endParaRPr b="0" lang="en-US" sz="300" spc="-1" strike="noStrike">
                  <a:solidFill>
                    <a:srgbClr val="ffffff"/>
                  </a:solidFill>
                  <a:latin typeface="Arial"/>
                </a:endParaRPr>
              </a:p>
            </p:txBody>
          </p:sp>
          <p:sp>
            <p:nvSpPr>
              <p:cNvPr id="1487" name=""/>
              <p:cNvSpPr/>
              <p:nvPr/>
            </p:nvSpPr>
            <p:spPr>
              <a:xfrm>
                <a:off x="4257360" y="2379600"/>
                <a:ext cx="230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intenance</a:t>
                </a:r>
                <a:endParaRPr b="0" lang="en-US" sz="300" spc="-1" strike="noStrike">
                  <a:solidFill>
                    <a:srgbClr val="ffffff"/>
                  </a:solidFill>
                  <a:latin typeface="Arial"/>
                </a:endParaRPr>
              </a:p>
            </p:txBody>
          </p:sp>
          <p:sp>
            <p:nvSpPr>
              <p:cNvPr id="1488" name=""/>
              <p:cNvSpPr/>
              <p:nvPr/>
            </p:nvSpPr>
            <p:spPr>
              <a:xfrm>
                <a:off x="4346640" y="2288520"/>
                <a:ext cx="110160" cy="49320"/>
              </a:xfrm>
              <a:custGeom>
                <a:avLst/>
                <a:gdLst/>
                <a:ahLst/>
                <a:rect l="l" t="t" r="r" b="b"/>
                <a:pathLst>
                  <a:path w="104" h="37">
                    <a:moveTo>
                      <a:pt x="104" y="0"/>
                    </a:moveTo>
                    <a:lnTo>
                      <a:pt x="104" y="16"/>
                    </a:lnTo>
                    <a:lnTo>
                      <a:pt x="0" y="16"/>
                    </a:lnTo>
                    <a:lnTo>
                      <a:pt x="0" y="37"/>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89" name=""/>
              <p:cNvSpPr/>
              <p:nvPr/>
            </p:nvSpPr>
            <p:spPr>
              <a:xfrm>
                <a:off x="4340160" y="2335320"/>
                <a:ext cx="12600" cy="14760"/>
              </a:xfrm>
              <a:custGeom>
                <a:avLst/>
                <a:gdLst/>
                <a:ahLst/>
                <a:rect l="l" t="t" r="r" b="b"/>
                <a:pathLst>
                  <a:path w="12" h="11">
                    <a:moveTo>
                      <a:pt x="12" y="2"/>
                    </a:moveTo>
                    <a:lnTo>
                      <a:pt x="6" y="11"/>
                    </a:lnTo>
                    <a:lnTo>
                      <a:pt x="0" y="2"/>
                    </a:lnTo>
                    <a:lnTo>
                      <a:pt x="3" y="1"/>
                    </a:lnTo>
                    <a:lnTo>
                      <a:pt x="6" y="0"/>
                    </a:lnTo>
                    <a:lnTo>
                      <a:pt x="9" y="1"/>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490" name=""/>
              <p:cNvSpPr/>
              <p:nvPr/>
            </p:nvSpPr>
            <p:spPr>
              <a:xfrm>
                <a:off x="4217400" y="2334240"/>
                <a:ext cx="60120" cy="2520"/>
              </a:xfrm>
              <a:custGeom>
                <a:avLst/>
                <a:gdLst/>
                <a:ahLst/>
                <a:rect l="l" t="t" r="r" b="b"/>
                <a:pathLst>
                  <a:path w="57" h="2">
                    <a:moveTo>
                      <a:pt x="57" y="2"/>
                    </a:moveTo>
                    <a:lnTo>
                      <a:pt x="57" y="1"/>
                    </a:lnTo>
                    <a:lnTo>
                      <a:pt x="0" y="1"/>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91" name=""/>
              <p:cNvSpPr/>
              <p:nvPr/>
            </p:nvSpPr>
            <p:spPr>
              <a:xfrm>
                <a:off x="4271400" y="23353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92" name=""/>
              <p:cNvSpPr/>
              <p:nvPr/>
            </p:nvSpPr>
            <p:spPr>
              <a:xfrm>
                <a:off x="4210920" y="23220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93" name=""/>
              <p:cNvSpPr/>
              <p:nvPr/>
            </p:nvSpPr>
            <p:spPr>
              <a:xfrm>
                <a:off x="4331880" y="2247120"/>
                <a:ext cx="87840" cy="33120"/>
              </a:xfrm>
              <a:custGeom>
                <a:avLst/>
                <a:gdLst/>
                <a:ahLst/>
                <a:rect l="l" t="t" r="r" b="b"/>
                <a:pathLst>
                  <a:path w="83" h="25">
                    <a:moveTo>
                      <a:pt x="0" y="25"/>
                    </a:moveTo>
                    <a:lnTo>
                      <a:pt x="20" y="25"/>
                    </a:lnTo>
                    <a:lnTo>
                      <a:pt x="20" y="0"/>
                    </a:lnTo>
                    <a:lnTo>
                      <a:pt x="83" y="0"/>
                    </a:lnTo>
                  </a:path>
                </a:pathLst>
              </a:custGeom>
              <a:noFill/>
              <a:ln w="1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494" name=""/>
              <p:cNvSpPr/>
              <p:nvPr/>
            </p:nvSpPr>
            <p:spPr>
              <a:xfrm>
                <a:off x="4417560" y="224172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95" name=""/>
              <p:cNvSpPr/>
              <p:nvPr/>
            </p:nvSpPr>
            <p:spPr>
              <a:xfrm>
                <a:off x="4438800" y="2368440"/>
                <a:ext cx="396720" cy="83880"/>
              </a:xfrm>
              <a:custGeom>
                <a:avLst/>
                <a:gdLst/>
                <a:ahLst/>
                <a:rect l="l" t="t" r="r" b="b"/>
                <a:pathLst>
                  <a:path w="375" h="63">
                    <a:moveTo>
                      <a:pt x="375" y="0"/>
                    </a:moveTo>
                    <a:lnTo>
                      <a:pt x="375" y="44"/>
                    </a:lnTo>
                    <a:lnTo>
                      <a:pt x="231" y="44"/>
                    </a:lnTo>
                    <a:lnTo>
                      <a:pt x="231" y="43"/>
                    </a:lnTo>
                    <a:lnTo>
                      <a:pt x="230" y="42"/>
                    </a:lnTo>
                    <a:lnTo>
                      <a:pt x="229" y="41"/>
                    </a:lnTo>
                    <a:lnTo>
                      <a:pt x="227" y="41"/>
                    </a:lnTo>
                    <a:lnTo>
                      <a:pt x="225" y="41"/>
                    </a:lnTo>
                    <a:lnTo>
                      <a:pt x="224" y="42"/>
                    </a:lnTo>
                    <a:lnTo>
                      <a:pt x="223" y="43"/>
                    </a:lnTo>
                    <a:lnTo>
                      <a:pt x="222" y="44"/>
                    </a:lnTo>
                    <a:lnTo>
                      <a:pt x="55" y="44"/>
                    </a:lnTo>
                    <a:lnTo>
                      <a:pt x="55" y="43"/>
                    </a:lnTo>
                    <a:lnTo>
                      <a:pt x="54" y="42"/>
                    </a:lnTo>
                    <a:lnTo>
                      <a:pt x="53" y="41"/>
                    </a:lnTo>
                    <a:lnTo>
                      <a:pt x="51" y="41"/>
                    </a:lnTo>
                    <a:lnTo>
                      <a:pt x="49" y="41"/>
                    </a:lnTo>
                    <a:lnTo>
                      <a:pt x="48" y="42"/>
                    </a:lnTo>
                    <a:lnTo>
                      <a:pt x="47" y="43"/>
                    </a:lnTo>
                    <a:lnTo>
                      <a:pt x="46" y="44"/>
                    </a:lnTo>
                    <a:lnTo>
                      <a:pt x="0" y="44"/>
                    </a:lnTo>
                    <a:lnTo>
                      <a:pt x="0" y="6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96" name=""/>
              <p:cNvSpPr/>
              <p:nvPr/>
            </p:nvSpPr>
            <p:spPr>
              <a:xfrm>
                <a:off x="4432320" y="24516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97" name=""/>
              <p:cNvSpPr/>
              <p:nvPr/>
            </p:nvSpPr>
            <p:spPr>
              <a:xfrm>
                <a:off x="4713120" y="2183040"/>
                <a:ext cx="207360" cy="63000"/>
              </a:xfrm>
              <a:prstGeom prst="rect">
                <a:avLst/>
              </a:prstGeom>
              <a:blipFill rotWithShape="0">
                <a:blip r:embed="rId134"/>
                <a:srcRect/>
                <a:tile tx="0" ty="0" sx="100000" sy="100000" algn="ctr"/>
              </a:blip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498" name=""/>
              <p:cNvSpPr/>
              <p:nvPr/>
            </p:nvSpPr>
            <p:spPr>
              <a:xfrm>
                <a:off x="4744800" y="2200320"/>
                <a:ext cx="1897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nter PO</a:t>
                </a:r>
                <a:endParaRPr b="0" lang="en-US" sz="300" spc="-1" strike="noStrike">
                  <a:solidFill>
                    <a:srgbClr val="ffffff"/>
                  </a:solidFill>
                  <a:latin typeface="Arial"/>
                </a:endParaRPr>
              </a:p>
            </p:txBody>
          </p:sp>
          <p:sp>
            <p:nvSpPr>
              <p:cNvPr id="1499" name=""/>
              <p:cNvSpPr/>
              <p:nvPr/>
            </p:nvSpPr>
            <p:spPr>
              <a:xfrm>
                <a:off x="4816800" y="2246040"/>
                <a:ext cx="18720" cy="47520"/>
              </a:xfrm>
              <a:custGeom>
                <a:avLst/>
                <a:gdLst/>
                <a:ahLst/>
                <a:rect l="l" t="t" r="r" b="b"/>
                <a:pathLst>
                  <a:path w="18" h="36">
                    <a:moveTo>
                      <a:pt x="18" y="36"/>
                    </a:moveTo>
                    <a:lnTo>
                      <a:pt x="18" y="35"/>
                    </a:lnTo>
                    <a:lnTo>
                      <a:pt x="0" y="35"/>
                    </a:lnTo>
                    <a:lnTo>
                      <a:pt x="0" y="0"/>
                    </a:lnTo>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00" name=""/>
              <p:cNvSpPr/>
              <p:nvPr/>
            </p:nvSpPr>
            <p:spPr>
              <a:xfrm>
                <a:off x="4829400" y="229248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501" name=""/>
              <p:cNvSpPr/>
              <p:nvPr/>
            </p:nvSpPr>
            <p:spPr>
              <a:xfrm>
                <a:off x="4638960" y="2093400"/>
                <a:ext cx="207360" cy="61200"/>
              </a:xfrm>
              <a:prstGeom prst="rect">
                <a:avLst/>
              </a:prstGeom>
              <a:blipFill rotWithShape="0">
                <a:blip r:embed="rId135"/>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502" name=""/>
              <p:cNvSpPr/>
              <p:nvPr/>
            </p:nvSpPr>
            <p:spPr>
              <a:xfrm>
                <a:off x="4698000" y="2090880"/>
                <a:ext cx="124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inter</a:t>
                </a:r>
                <a:endParaRPr b="0" lang="en-US" sz="300" spc="-1" strike="noStrike">
                  <a:solidFill>
                    <a:srgbClr val="ffffff"/>
                  </a:solidFill>
                  <a:latin typeface="Arial"/>
                </a:endParaRPr>
              </a:p>
            </p:txBody>
          </p:sp>
          <p:sp>
            <p:nvSpPr>
              <p:cNvPr id="1503" name=""/>
              <p:cNvSpPr/>
              <p:nvPr/>
            </p:nvSpPr>
            <p:spPr>
              <a:xfrm>
                <a:off x="4657320" y="2124000"/>
                <a:ext cx="230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intenance</a:t>
                </a:r>
                <a:endParaRPr b="0" lang="en-US" sz="300" spc="-1" strike="noStrike">
                  <a:solidFill>
                    <a:srgbClr val="ffffff"/>
                  </a:solidFill>
                  <a:latin typeface="Arial"/>
                </a:endParaRPr>
              </a:p>
            </p:txBody>
          </p:sp>
          <p:sp>
            <p:nvSpPr>
              <p:cNvPr id="1504" name=""/>
              <p:cNvSpPr/>
              <p:nvPr/>
            </p:nvSpPr>
            <p:spPr>
              <a:xfrm>
                <a:off x="4816800" y="2124000"/>
                <a:ext cx="44280" cy="46800"/>
              </a:xfrm>
              <a:custGeom>
                <a:avLst/>
                <a:gdLst/>
                <a:ahLst/>
                <a:rect l="l" t="t" r="r" b="b"/>
                <a:pathLst>
                  <a:path w="42" h="35">
                    <a:moveTo>
                      <a:pt x="28" y="0"/>
                    </a:moveTo>
                    <a:lnTo>
                      <a:pt x="42" y="0"/>
                    </a:lnTo>
                    <a:lnTo>
                      <a:pt x="42" y="33"/>
                    </a:lnTo>
                    <a:lnTo>
                      <a:pt x="0" y="33"/>
                    </a:lnTo>
                    <a:lnTo>
                      <a:pt x="0" y="35"/>
                    </a:lnTo>
                  </a:path>
                </a:pathLst>
              </a:custGeom>
              <a:noFill/>
              <a:ln w="144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1505" name=""/>
              <p:cNvSpPr/>
              <p:nvPr/>
            </p:nvSpPr>
            <p:spPr>
              <a:xfrm>
                <a:off x="4810320" y="2169720"/>
                <a:ext cx="12600" cy="13320"/>
              </a:xfrm>
              <a:custGeom>
                <a:avLst/>
                <a:gdLst/>
                <a:ahLst/>
                <a:rect l="l" t="t" r="r" b="b"/>
                <a:pathLst>
                  <a:path w="12" h="10">
                    <a:moveTo>
                      <a:pt x="12" y="1"/>
                    </a:moveTo>
                    <a:lnTo>
                      <a:pt x="6" y="10"/>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06" name=""/>
              <p:cNvSpPr/>
              <p:nvPr/>
            </p:nvSpPr>
            <p:spPr>
              <a:xfrm>
                <a:off x="4298040" y="2124000"/>
                <a:ext cx="327960" cy="113400"/>
              </a:xfrm>
              <a:custGeom>
                <a:avLst/>
                <a:gdLst/>
                <a:ahLst/>
                <a:rect l="l" t="t" r="r" b="b"/>
                <a:pathLst>
                  <a:path w="310" h="85">
                    <a:moveTo>
                      <a:pt x="310" y="0"/>
                    </a:moveTo>
                    <a:lnTo>
                      <a:pt x="279" y="0"/>
                    </a:lnTo>
                    <a:lnTo>
                      <a:pt x="279" y="7"/>
                    </a:lnTo>
                    <a:lnTo>
                      <a:pt x="267" y="7"/>
                    </a:lnTo>
                    <a:lnTo>
                      <a:pt x="267" y="6"/>
                    </a:lnTo>
                    <a:lnTo>
                      <a:pt x="266" y="5"/>
                    </a:lnTo>
                    <a:lnTo>
                      <a:pt x="265" y="4"/>
                    </a:lnTo>
                    <a:lnTo>
                      <a:pt x="263" y="4"/>
                    </a:lnTo>
                    <a:lnTo>
                      <a:pt x="261" y="4"/>
                    </a:lnTo>
                    <a:lnTo>
                      <a:pt x="260" y="5"/>
                    </a:lnTo>
                    <a:lnTo>
                      <a:pt x="259" y="6"/>
                    </a:lnTo>
                    <a:lnTo>
                      <a:pt x="259" y="7"/>
                    </a:lnTo>
                    <a:lnTo>
                      <a:pt x="187" y="7"/>
                    </a:lnTo>
                    <a:lnTo>
                      <a:pt x="187" y="6"/>
                    </a:lnTo>
                    <a:lnTo>
                      <a:pt x="186" y="5"/>
                    </a:lnTo>
                    <a:lnTo>
                      <a:pt x="184" y="4"/>
                    </a:lnTo>
                    <a:lnTo>
                      <a:pt x="182" y="4"/>
                    </a:lnTo>
                    <a:lnTo>
                      <a:pt x="181" y="4"/>
                    </a:lnTo>
                    <a:lnTo>
                      <a:pt x="179" y="5"/>
                    </a:lnTo>
                    <a:lnTo>
                      <a:pt x="178" y="6"/>
                    </a:lnTo>
                    <a:lnTo>
                      <a:pt x="178" y="7"/>
                    </a:lnTo>
                    <a:lnTo>
                      <a:pt x="67" y="7"/>
                    </a:lnTo>
                    <a:lnTo>
                      <a:pt x="67" y="6"/>
                    </a:lnTo>
                    <a:lnTo>
                      <a:pt x="66" y="5"/>
                    </a:lnTo>
                    <a:lnTo>
                      <a:pt x="64" y="4"/>
                    </a:lnTo>
                    <a:lnTo>
                      <a:pt x="63" y="4"/>
                    </a:lnTo>
                    <a:lnTo>
                      <a:pt x="61" y="4"/>
                    </a:lnTo>
                    <a:lnTo>
                      <a:pt x="60" y="5"/>
                    </a:lnTo>
                    <a:lnTo>
                      <a:pt x="59" y="6"/>
                    </a:lnTo>
                    <a:lnTo>
                      <a:pt x="58" y="7"/>
                    </a:lnTo>
                    <a:lnTo>
                      <a:pt x="0" y="7"/>
                    </a:lnTo>
                    <a:lnTo>
                      <a:pt x="0"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4625280" y="2117520"/>
                <a:ext cx="13680" cy="11880"/>
              </a:xfrm>
              <a:custGeom>
                <a:avLst/>
                <a:gdLst/>
                <a:ahLst/>
                <a:rect l="l" t="t" r="r" b="b"/>
                <a:pathLst>
                  <a:path w="13" h="9">
                    <a:moveTo>
                      <a:pt x="1" y="0"/>
                    </a:moveTo>
                    <a:lnTo>
                      <a:pt x="13" y="5"/>
                    </a:lnTo>
                    <a:lnTo>
                      <a:pt x="1" y="9"/>
                    </a:lnTo>
                    <a:lnTo>
                      <a:pt x="0" y="7"/>
                    </a:lnTo>
                    <a:lnTo>
                      <a:pt x="0" y="5"/>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08" name=""/>
              <p:cNvSpPr/>
              <p:nvPr/>
            </p:nvSpPr>
            <p:spPr>
              <a:xfrm>
                <a:off x="4331880" y="2130840"/>
                <a:ext cx="32760" cy="117360"/>
              </a:xfrm>
              <a:custGeom>
                <a:avLst/>
                <a:gdLst/>
                <a:ahLst/>
                <a:rect l="l" t="t" r="r" b="b"/>
                <a:pathLst>
                  <a:path w="31" h="88">
                    <a:moveTo>
                      <a:pt x="0" y="88"/>
                    </a:moveTo>
                    <a:lnTo>
                      <a:pt x="7" y="88"/>
                    </a:lnTo>
                    <a:lnTo>
                      <a:pt x="7" y="45"/>
                    </a:lnTo>
                    <a:lnTo>
                      <a:pt x="31" y="45"/>
                    </a:lnTo>
                    <a:lnTo>
                      <a:pt x="3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4358160" y="21189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10" name=""/>
              <p:cNvSpPr/>
              <p:nvPr/>
            </p:nvSpPr>
            <p:spPr>
              <a:xfrm>
                <a:off x="4602960" y="1999800"/>
                <a:ext cx="207360" cy="61200"/>
              </a:xfrm>
              <a:prstGeom prst="rect">
                <a:avLst/>
              </a:prstGeom>
              <a:blipFill rotWithShape="0">
                <a:blip r:embed="rId136"/>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511" name=""/>
              <p:cNvSpPr/>
              <p:nvPr/>
            </p:nvSpPr>
            <p:spPr>
              <a:xfrm>
                <a:off x="4660920" y="1995840"/>
                <a:ext cx="131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Vendor</a:t>
                </a:r>
                <a:endParaRPr b="0" lang="en-US" sz="300" spc="-1" strike="noStrike">
                  <a:solidFill>
                    <a:srgbClr val="ffffff"/>
                  </a:solidFill>
                  <a:latin typeface="Arial"/>
                </a:endParaRPr>
              </a:p>
            </p:txBody>
          </p:sp>
          <p:sp>
            <p:nvSpPr>
              <p:cNvPr id="1512" name=""/>
              <p:cNvSpPr/>
              <p:nvPr/>
            </p:nvSpPr>
            <p:spPr>
              <a:xfrm>
                <a:off x="4622760" y="2037600"/>
                <a:ext cx="2307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Maintenance</a:t>
                </a:r>
                <a:endParaRPr b="0" lang="en-US" sz="300" spc="-1" strike="noStrike">
                  <a:solidFill>
                    <a:srgbClr val="ffffff"/>
                  </a:solidFill>
                  <a:latin typeface="Arial"/>
                </a:endParaRPr>
              </a:p>
            </p:txBody>
          </p:sp>
          <p:sp>
            <p:nvSpPr>
              <p:cNvPr id="1513" name=""/>
              <p:cNvSpPr/>
              <p:nvPr/>
            </p:nvSpPr>
            <p:spPr>
              <a:xfrm>
                <a:off x="4577400" y="2030760"/>
                <a:ext cx="25200" cy="46440"/>
              </a:xfrm>
              <a:custGeom>
                <a:avLst/>
                <a:gdLst/>
                <a:ahLst/>
                <a:rect l="l" t="t" r="r" b="b"/>
                <a:pathLst>
                  <a:path w="24" h="35">
                    <a:moveTo>
                      <a:pt x="24" y="0"/>
                    </a:moveTo>
                    <a:lnTo>
                      <a:pt x="11" y="0"/>
                    </a:lnTo>
                    <a:lnTo>
                      <a:pt x="11" y="35"/>
                    </a:lnTo>
                    <a:lnTo>
                      <a:pt x="0" y="35"/>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514" name=""/>
              <p:cNvSpPr/>
              <p:nvPr/>
            </p:nvSpPr>
            <p:spPr>
              <a:xfrm>
                <a:off x="4564440" y="2072160"/>
                <a:ext cx="14760" cy="11880"/>
              </a:xfrm>
              <a:custGeom>
                <a:avLst/>
                <a:gdLst/>
                <a:ahLst/>
                <a:rect l="l" t="t" r="r" b="b"/>
                <a:pathLst>
                  <a:path w="14" h="9">
                    <a:moveTo>
                      <a:pt x="12" y="9"/>
                    </a:moveTo>
                    <a:lnTo>
                      <a:pt x="0" y="4"/>
                    </a:lnTo>
                    <a:lnTo>
                      <a:pt x="12" y="0"/>
                    </a:lnTo>
                    <a:lnTo>
                      <a:pt x="13" y="2"/>
                    </a:lnTo>
                    <a:lnTo>
                      <a:pt x="14" y="4"/>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15" name=""/>
              <p:cNvSpPr/>
              <p:nvPr/>
            </p:nvSpPr>
            <p:spPr>
              <a:xfrm>
                <a:off x="4456800" y="2132280"/>
                <a:ext cx="33840" cy="73080"/>
              </a:xfrm>
              <a:custGeom>
                <a:avLst/>
                <a:gdLst/>
                <a:ahLst/>
                <a:rect l="l" t="t" r="r" b="b"/>
                <a:pathLst>
                  <a:path w="32" h="55">
                    <a:moveTo>
                      <a:pt x="0" y="55"/>
                    </a:moveTo>
                    <a:lnTo>
                      <a:pt x="0" y="39"/>
                    </a:lnTo>
                    <a:lnTo>
                      <a:pt x="32" y="39"/>
                    </a:lnTo>
                    <a:lnTo>
                      <a:pt x="32" y="0"/>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16" name=""/>
              <p:cNvSpPr/>
              <p:nvPr/>
            </p:nvSpPr>
            <p:spPr>
              <a:xfrm>
                <a:off x="4484160" y="2120040"/>
                <a:ext cx="12600" cy="13320"/>
              </a:xfrm>
              <a:custGeom>
                <a:avLst/>
                <a:gdLst/>
                <a:ahLst/>
                <a:rect l="l" t="t" r="r" b="b"/>
                <a:pathLst>
                  <a:path w="12" h="10">
                    <a:moveTo>
                      <a:pt x="0" y="9"/>
                    </a:moveTo>
                    <a:lnTo>
                      <a:pt x="6" y="0"/>
                    </a:lnTo>
                    <a:lnTo>
                      <a:pt x="12" y="9"/>
                    </a:lnTo>
                    <a:lnTo>
                      <a:pt x="10"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17" name=""/>
              <p:cNvSpPr/>
              <p:nvPr/>
            </p:nvSpPr>
            <p:spPr>
              <a:xfrm>
                <a:off x="4545720" y="2060280"/>
                <a:ext cx="81360" cy="133560"/>
              </a:xfrm>
              <a:custGeom>
                <a:avLst/>
                <a:gdLst/>
                <a:ahLst/>
                <a:rect l="l" t="t" r="r" b="b"/>
                <a:pathLst>
                  <a:path w="77" h="100">
                    <a:moveTo>
                      <a:pt x="77" y="0"/>
                    </a:moveTo>
                    <a:lnTo>
                      <a:pt x="77" y="21"/>
                    </a:lnTo>
                    <a:lnTo>
                      <a:pt x="29" y="21"/>
                    </a:lnTo>
                    <a:lnTo>
                      <a:pt x="29" y="83"/>
                    </a:lnTo>
                    <a:lnTo>
                      <a:pt x="0" y="83"/>
                    </a:lnTo>
                    <a:lnTo>
                      <a:pt x="0" y="10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4539240" y="21924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19" name=""/>
              <p:cNvSpPr/>
              <p:nvPr/>
            </p:nvSpPr>
            <p:spPr>
              <a:xfrm>
                <a:off x="4390920" y="1905120"/>
                <a:ext cx="207360" cy="61200"/>
              </a:xfrm>
              <a:prstGeom prst="rect">
                <a:avLst/>
              </a:prstGeom>
              <a:blipFill rotWithShape="0">
                <a:blip r:embed="rId137"/>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520" name=""/>
              <p:cNvSpPr/>
              <p:nvPr/>
            </p:nvSpPr>
            <p:spPr>
              <a:xfrm>
                <a:off x="4401000" y="1917360"/>
                <a:ext cx="24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Vendor Setup</a:t>
                </a:r>
                <a:endParaRPr b="0" lang="en-US" sz="300" spc="-1" strike="noStrike">
                  <a:solidFill>
                    <a:srgbClr val="ffffff"/>
                  </a:solidFill>
                  <a:latin typeface="Arial"/>
                </a:endParaRPr>
              </a:p>
            </p:txBody>
          </p:sp>
          <p:sp>
            <p:nvSpPr>
              <p:cNvPr id="1521" name=""/>
              <p:cNvSpPr/>
              <p:nvPr/>
            </p:nvSpPr>
            <p:spPr>
              <a:xfrm>
                <a:off x="4598640" y="1936080"/>
                <a:ext cx="108000" cy="51840"/>
              </a:xfrm>
              <a:custGeom>
                <a:avLst/>
                <a:gdLst/>
                <a:ahLst/>
                <a:rect l="l" t="t" r="r" b="b"/>
                <a:pathLst>
                  <a:path w="102" h="39">
                    <a:moveTo>
                      <a:pt x="0" y="0"/>
                    </a:moveTo>
                    <a:lnTo>
                      <a:pt x="102" y="0"/>
                    </a:lnTo>
                    <a:lnTo>
                      <a:pt x="102" y="39"/>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522" name=""/>
              <p:cNvSpPr/>
              <p:nvPr/>
            </p:nvSpPr>
            <p:spPr>
              <a:xfrm>
                <a:off x="4700160" y="19864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23" name=""/>
              <p:cNvSpPr/>
              <p:nvPr/>
            </p:nvSpPr>
            <p:spPr>
              <a:xfrm>
                <a:off x="4257720" y="1936080"/>
                <a:ext cx="133200" cy="289800"/>
              </a:xfrm>
              <a:custGeom>
                <a:avLst/>
                <a:gdLst/>
                <a:ahLst/>
                <a:rect l="l" t="t" r="r" b="b"/>
                <a:pathLst>
                  <a:path w="126" h="217">
                    <a:moveTo>
                      <a:pt x="126" y="0"/>
                    </a:moveTo>
                    <a:lnTo>
                      <a:pt x="24" y="0"/>
                    </a:lnTo>
                    <a:lnTo>
                      <a:pt x="24" y="200"/>
                    </a:lnTo>
                    <a:lnTo>
                      <a:pt x="0" y="200"/>
                    </a:lnTo>
                    <a:lnTo>
                      <a:pt x="0" y="2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251240" y="22244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25" name=""/>
              <p:cNvSpPr/>
              <p:nvPr/>
            </p:nvSpPr>
            <p:spPr>
              <a:xfrm>
                <a:off x="5726160" y="5149800"/>
                <a:ext cx="160560" cy="83880"/>
              </a:xfrm>
              <a:prstGeom prst="rect">
                <a:avLst/>
              </a:prstGeom>
              <a:blipFill rotWithShape="0">
                <a:blip r:embed="rId138"/>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26" name=""/>
              <p:cNvSpPr/>
              <p:nvPr/>
            </p:nvSpPr>
            <p:spPr>
              <a:xfrm>
                <a:off x="5736600" y="517788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nnect 3</a:t>
                </a:r>
                <a:endParaRPr b="0" lang="en-US" sz="300" spc="-1" strike="noStrike">
                  <a:solidFill>
                    <a:srgbClr val="ffffff"/>
                  </a:solidFill>
                  <a:latin typeface="Arial"/>
                </a:endParaRPr>
              </a:p>
            </p:txBody>
          </p:sp>
          <p:sp>
            <p:nvSpPr>
              <p:cNvPr id="1527" name=""/>
              <p:cNvSpPr/>
              <p:nvPr/>
            </p:nvSpPr>
            <p:spPr>
              <a:xfrm>
                <a:off x="5850000" y="5275440"/>
                <a:ext cx="160560" cy="83880"/>
              </a:xfrm>
              <a:prstGeom prst="rect">
                <a:avLst/>
              </a:prstGeom>
              <a:blipFill rotWithShape="0">
                <a:blip r:embed="rId139"/>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28" name=""/>
              <p:cNvSpPr/>
              <p:nvPr/>
            </p:nvSpPr>
            <p:spPr>
              <a:xfrm>
                <a:off x="5860440" y="528480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nnect 3</a:t>
                </a:r>
                <a:endParaRPr b="0" lang="en-US" sz="300" spc="-1" strike="noStrike">
                  <a:solidFill>
                    <a:srgbClr val="ffffff"/>
                  </a:solidFill>
                  <a:latin typeface="Arial"/>
                </a:endParaRPr>
              </a:p>
            </p:txBody>
          </p:sp>
          <p:sp>
            <p:nvSpPr>
              <p:cNvPr id="1529" name=""/>
              <p:cNvSpPr/>
              <p:nvPr/>
            </p:nvSpPr>
            <p:spPr>
              <a:xfrm>
                <a:off x="5875560" y="5316840"/>
                <a:ext cx="14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orts</a:t>
                </a:r>
                <a:endParaRPr b="0" lang="en-US" sz="300" spc="-1" strike="noStrike">
                  <a:solidFill>
                    <a:srgbClr val="ffffff"/>
                  </a:solidFill>
                  <a:latin typeface="Arial"/>
                </a:endParaRPr>
              </a:p>
            </p:txBody>
          </p:sp>
          <p:sp>
            <p:nvSpPr>
              <p:cNvPr id="1530" name=""/>
              <p:cNvSpPr/>
              <p:nvPr/>
            </p:nvSpPr>
            <p:spPr>
              <a:xfrm>
                <a:off x="5572440" y="5278320"/>
                <a:ext cx="214920" cy="83880"/>
              </a:xfrm>
              <a:prstGeom prst="rect">
                <a:avLst/>
              </a:prstGeom>
              <a:blipFill rotWithShape="0">
                <a:blip r:embed="rId140"/>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31" name=""/>
              <p:cNvSpPr/>
              <p:nvPr/>
            </p:nvSpPr>
            <p:spPr>
              <a:xfrm>
                <a:off x="5609520" y="5284800"/>
                <a:ext cx="183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Connect 3</a:t>
                </a:r>
                <a:endParaRPr b="0" lang="en-US" sz="300" spc="-1" strike="noStrike">
                  <a:solidFill>
                    <a:srgbClr val="ffffff"/>
                  </a:solidFill>
                  <a:latin typeface="Arial"/>
                </a:endParaRPr>
              </a:p>
            </p:txBody>
          </p:sp>
          <p:sp>
            <p:nvSpPr>
              <p:cNvPr id="1532" name=""/>
              <p:cNvSpPr/>
              <p:nvPr/>
            </p:nvSpPr>
            <p:spPr>
              <a:xfrm>
                <a:off x="5596920" y="5320800"/>
                <a:ext cx="22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DF Transfe</a:t>
                </a:r>
                <a:endParaRPr b="0" lang="en-US" sz="300" spc="-1" strike="noStrike">
                  <a:solidFill>
                    <a:srgbClr val="ffffff"/>
                  </a:solidFill>
                  <a:latin typeface="Arial"/>
                </a:endParaRPr>
              </a:p>
            </p:txBody>
          </p:sp>
          <p:sp>
            <p:nvSpPr>
              <p:cNvPr id="1533" name=""/>
              <p:cNvSpPr/>
              <p:nvPr/>
            </p:nvSpPr>
            <p:spPr>
              <a:xfrm>
                <a:off x="5679720" y="5234040"/>
                <a:ext cx="78120" cy="32040"/>
              </a:xfrm>
              <a:custGeom>
                <a:avLst/>
                <a:gdLst/>
                <a:ahLst/>
                <a:rect l="l" t="t" r="r" b="b"/>
                <a:pathLst>
                  <a:path w="74" h="24">
                    <a:moveTo>
                      <a:pt x="74" y="0"/>
                    </a:moveTo>
                    <a:lnTo>
                      <a:pt x="74" y="16"/>
                    </a:lnTo>
                    <a:lnTo>
                      <a:pt x="0" y="16"/>
                    </a:lnTo>
                    <a:lnTo>
                      <a:pt x="0" y="24"/>
                    </a:lnTo>
                  </a:path>
                </a:pathLst>
              </a:custGeom>
              <a:noFill/>
              <a:ln w="144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534" name=""/>
              <p:cNvSpPr/>
              <p:nvPr/>
            </p:nvSpPr>
            <p:spPr>
              <a:xfrm>
                <a:off x="5674320" y="5265000"/>
                <a:ext cx="11520" cy="13320"/>
              </a:xfrm>
              <a:custGeom>
                <a:avLst/>
                <a:gdLst/>
                <a:ahLst/>
                <a:rect l="l" t="t" r="r" b="b"/>
                <a:pathLst>
                  <a:path w="11" h="10">
                    <a:moveTo>
                      <a:pt x="11" y="1"/>
                    </a:moveTo>
                    <a:lnTo>
                      <a:pt x="5" y="10"/>
                    </a:lnTo>
                    <a:lnTo>
                      <a:pt x="0" y="1"/>
                    </a:lnTo>
                    <a:lnTo>
                      <a:pt x="2" y="0"/>
                    </a:lnTo>
                    <a:lnTo>
                      <a:pt x="5" y="0"/>
                    </a:lnTo>
                    <a:lnTo>
                      <a:pt x="9" y="0"/>
                    </a:lnTo>
                    <a:lnTo>
                      <a:pt x="11"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35" name=""/>
              <p:cNvSpPr/>
              <p:nvPr/>
            </p:nvSpPr>
            <p:spPr>
              <a:xfrm>
                <a:off x="5865840" y="5235480"/>
                <a:ext cx="64440" cy="27720"/>
              </a:xfrm>
              <a:custGeom>
                <a:avLst/>
                <a:gdLst/>
                <a:ahLst/>
                <a:rect l="l" t="t" r="r" b="b"/>
                <a:pathLst>
                  <a:path w="61" h="21">
                    <a:moveTo>
                      <a:pt x="0" y="0"/>
                    </a:moveTo>
                    <a:lnTo>
                      <a:pt x="0" y="15"/>
                    </a:lnTo>
                    <a:lnTo>
                      <a:pt x="61" y="15"/>
                    </a:lnTo>
                    <a:lnTo>
                      <a:pt x="61" y="21"/>
                    </a:lnTo>
                  </a:path>
                </a:pathLst>
              </a:custGeom>
              <a:noFill/>
              <a:ln w="144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36" name=""/>
              <p:cNvSpPr/>
              <p:nvPr/>
            </p:nvSpPr>
            <p:spPr>
              <a:xfrm>
                <a:off x="5923800" y="52621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37" name=""/>
              <p:cNvSpPr/>
              <p:nvPr/>
            </p:nvSpPr>
            <p:spPr>
              <a:xfrm>
                <a:off x="5806440" y="4286880"/>
                <a:ext cx="350280" cy="850680"/>
              </a:xfrm>
              <a:custGeom>
                <a:avLst/>
                <a:gdLst/>
                <a:ahLst/>
                <a:rect l="l" t="t" r="r" b="b"/>
                <a:pathLst>
                  <a:path w="331" h="637">
                    <a:moveTo>
                      <a:pt x="0" y="637"/>
                    </a:moveTo>
                    <a:lnTo>
                      <a:pt x="0" y="292"/>
                    </a:lnTo>
                    <a:lnTo>
                      <a:pt x="88" y="292"/>
                    </a:lnTo>
                    <a:lnTo>
                      <a:pt x="89" y="290"/>
                    </a:lnTo>
                    <a:lnTo>
                      <a:pt x="90" y="289"/>
                    </a:lnTo>
                    <a:lnTo>
                      <a:pt x="91" y="288"/>
                    </a:lnTo>
                    <a:lnTo>
                      <a:pt x="93" y="288"/>
                    </a:lnTo>
                    <a:lnTo>
                      <a:pt x="94" y="288"/>
                    </a:lnTo>
                    <a:lnTo>
                      <a:pt x="96" y="289"/>
                    </a:lnTo>
                    <a:lnTo>
                      <a:pt x="97" y="290"/>
                    </a:lnTo>
                    <a:lnTo>
                      <a:pt x="97" y="292"/>
                    </a:lnTo>
                    <a:lnTo>
                      <a:pt x="140" y="292"/>
                    </a:lnTo>
                    <a:lnTo>
                      <a:pt x="140" y="290"/>
                    </a:lnTo>
                    <a:lnTo>
                      <a:pt x="141" y="289"/>
                    </a:lnTo>
                    <a:lnTo>
                      <a:pt x="143" y="288"/>
                    </a:lnTo>
                    <a:lnTo>
                      <a:pt x="145" y="288"/>
                    </a:lnTo>
                    <a:lnTo>
                      <a:pt x="146" y="288"/>
                    </a:lnTo>
                    <a:lnTo>
                      <a:pt x="148" y="289"/>
                    </a:lnTo>
                    <a:lnTo>
                      <a:pt x="149" y="290"/>
                    </a:lnTo>
                    <a:lnTo>
                      <a:pt x="149" y="292"/>
                    </a:lnTo>
                    <a:lnTo>
                      <a:pt x="194" y="292"/>
                    </a:lnTo>
                    <a:lnTo>
                      <a:pt x="194" y="290"/>
                    </a:lnTo>
                    <a:lnTo>
                      <a:pt x="195" y="289"/>
                    </a:lnTo>
                    <a:lnTo>
                      <a:pt x="197" y="288"/>
                    </a:lnTo>
                    <a:lnTo>
                      <a:pt x="199" y="288"/>
                    </a:lnTo>
                    <a:lnTo>
                      <a:pt x="200" y="288"/>
                    </a:lnTo>
                    <a:lnTo>
                      <a:pt x="202" y="289"/>
                    </a:lnTo>
                    <a:lnTo>
                      <a:pt x="203" y="290"/>
                    </a:lnTo>
                    <a:lnTo>
                      <a:pt x="203" y="292"/>
                    </a:lnTo>
                    <a:lnTo>
                      <a:pt x="331" y="292"/>
                    </a:lnTo>
                    <a:lnTo>
                      <a:pt x="33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5799960" y="51364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39" name=""/>
              <p:cNvSpPr/>
              <p:nvPr/>
            </p:nvSpPr>
            <p:spPr>
              <a:xfrm>
                <a:off x="4988160" y="3769920"/>
                <a:ext cx="6480" cy="70560"/>
              </a:xfrm>
              <a:custGeom>
                <a:avLst/>
                <a:gdLst/>
                <a:ahLst/>
                <a:rect l="l" t="t" r="r" b="b"/>
                <a:pathLst>
                  <a:path w="6" h="53">
                    <a:moveTo>
                      <a:pt x="6" y="0"/>
                    </a:moveTo>
                    <a:lnTo>
                      <a:pt x="6" y="8"/>
                    </a:lnTo>
                    <a:lnTo>
                      <a:pt x="0" y="8"/>
                    </a:lnTo>
                    <a:lnTo>
                      <a:pt x="0" y="53"/>
                    </a:lnTo>
                  </a:path>
                </a:pathLst>
              </a:custGeom>
              <a:noFill/>
              <a:ln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540" name=""/>
              <p:cNvSpPr/>
              <p:nvPr/>
            </p:nvSpPr>
            <p:spPr>
              <a:xfrm>
                <a:off x="4988160" y="3757680"/>
                <a:ext cx="1260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541" name=""/>
              <p:cNvSpPr/>
              <p:nvPr/>
            </p:nvSpPr>
            <p:spPr>
              <a:xfrm>
                <a:off x="4828320" y="3481560"/>
                <a:ext cx="224280" cy="66600"/>
              </a:xfrm>
              <a:prstGeom prst="rect">
                <a:avLst/>
              </a:prstGeom>
              <a:blipFill rotWithShape="0">
                <a:blip r:embed="rId141"/>
                <a:srcRect/>
                <a:tile tx="0" ty="0" sx="100000" sy="100000" algn="ctr"/>
              </a:blip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42" name=""/>
              <p:cNvSpPr/>
              <p:nvPr/>
            </p:nvSpPr>
            <p:spPr>
              <a:xfrm>
                <a:off x="4852080" y="3481560"/>
                <a:ext cx="232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pec Source</a:t>
                </a:r>
                <a:endParaRPr b="0" lang="en-US" sz="300" spc="-1" strike="noStrike">
                  <a:solidFill>
                    <a:srgbClr val="ffffff"/>
                  </a:solidFill>
                  <a:latin typeface="Arial"/>
                </a:endParaRPr>
              </a:p>
            </p:txBody>
          </p:sp>
          <p:sp>
            <p:nvSpPr>
              <p:cNvPr id="1543" name=""/>
              <p:cNvSpPr/>
              <p:nvPr/>
            </p:nvSpPr>
            <p:spPr>
              <a:xfrm>
                <a:off x="4847400" y="3515040"/>
                <a:ext cx="250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KU Tracking</a:t>
                </a:r>
                <a:endParaRPr b="0" lang="en-US" sz="300" spc="-1" strike="noStrike">
                  <a:solidFill>
                    <a:srgbClr val="ffffff"/>
                  </a:solidFill>
                  <a:latin typeface="Arial"/>
                </a:endParaRPr>
              </a:p>
            </p:txBody>
          </p:sp>
          <p:sp>
            <p:nvSpPr>
              <p:cNvPr id="1544" name=""/>
              <p:cNvSpPr/>
              <p:nvPr/>
            </p:nvSpPr>
            <p:spPr>
              <a:xfrm>
                <a:off x="4940640" y="3560400"/>
                <a:ext cx="56880" cy="131760"/>
              </a:xfrm>
              <a:custGeom>
                <a:avLst/>
                <a:gdLst/>
                <a:ahLst/>
                <a:rect l="l" t="t" r="r" b="b"/>
                <a:pathLst>
                  <a:path w="54" h="99">
                    <a:moveTo>
                      <a:pt x="0" y="0"/>
                    </a:moveTo>
                    <a:lnTo>
                      <a:pt x="0" y="7"/>
                    </a:lnTo>
                    <a:lnTo>
                      <a:pt x="54" y="7"/>
                    </a:lnTo>
                    <a:lnTo>
                      <a:pt x="54" y="83"/>
                    </a:lnTo>
                    <a:lnTo>
                      <a:pt x="13" y="83"/>
                    </a:lnTo>
                    <a:lnTo>
                      <a:pt x="13" y="9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934160" y="354816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46" name=""/>
              <p:cNvSpPr/>
              <p:nvPr/>
            </p:nvSpPr>
            <p:spPr>
              <a:xfrm>
                <a:off x="5289840" y="2880360"/>
                <a:ext cx="2487960" cy="210960"/>
              </a:xfrm>
              <a:custGeom>
                <a:avLst/>
                <a:gdLst/>
                <a:ahLst/>
                <a:rect l="l" t="t" r="r" b="b"/>
                <a:pathLst>
                  <a:path w="2350" h="158">
                    <a:moveTo>
                      <a:pt x="0" y="139"/>
                    </a:moveTo>
                    <a:lnTo>
                      <a:pt x="0" y="158"/>
                    </a:lnTo>
                    <a:lnTo>
                      <a:pt x="29" y="158"/>
                    </a:lnTo>
                    <a:lnTo>
                      <a:pt x="29" y="157"/>
                    </a:lnTo>
                    <a:lnTo>
                      <a:pt x="30" y="156"/>
                    </a:lnTo>
                    <a:lnTo>
                      <a:pt x="32" y="155"/>
                    </a:lnTo>
                    <a:lnTo>
                      <a:pt x="34" y="155"/>
                    </a:lnTo>
                    <a:lnTo>
                      <a:pt x="35" y="155"/>
                    </a:lnTo>
                    <a:lnTo>
                      <a:pt x="37" y="156"/>
                    </a:lnTo>
                    <a:lnTo>
                      <a:pt x="38" y="157"/>
                    </a:lnTo>
                    <a:lnTo>
                      <a:pt x="38" y="158"/>
                    </a:lnTo>
                    <a:lnTo>
                      <a:pt x="57" y="158"/>
                    </a:lnTo>
                    <a:lnTo>
                      <a:pt x="57" y="157"/>
                    </a:lnTo>
                    <a:lnTo>
                      <a:pt x="58" y="156"/>
                    </a:lnTo>
                    <a:lnTo>
                      <a:pt x="60" y="155"/>
                    </a:lnTo>
                    <a:lnTo>
                      <a:pt x="62" y="155"/>
                    </a:lnTo>
                    <a:lnTo>
                      <a:pt x="63" y="155"/>
                    </a:lnTo>
                    <a:lnTo>
                      <a:pt x="65" y="156"/>
                    </a:lnTo>
                    <a:lnTo>
                      <a:pt x="66" y="157"/>
                    </a:lnTo>
                    <a:lnTo>
                      <a:pt x="66" y="158"/>
                    </a:lnTo>
                    <a:lnTo>
                      <a:pt x="95" y="158"/>
                    </a:lnTo>
                    <a:lnTo>
                      <a:pt x="95" y="157"/>
                    </a:lnTo>
                    <a:lnTo>
                      <a:pt x="96" y="156"/>
                    </a:lnTo>
                    <a:lnTo>
                      <a:pt x="98" y="155"/>
                    </a:lnTo>
                    <a:lnTo>
                      <a:pt x="99" y="155"/>
                    </a:lnTo>
                    <a:lnTo>
                      <a:pt x="101" y="155"/>
                    </a:lnTo>
                    <a:lnTo>
                      <a:pt x="103" y="156"/>
                    </a:lnTo>
                    <a:lnTo>
                      <a:pt x="104" y="157"/>
                    </a:lnTo>
                    <a:lnTo>
                      <a:pt x="104" y="158"/>
                    </a:lnTo>
                    <a:lnTo>
                      <a:pt x="115" y="158"/>
                    </a:lnTo>
                    <a:lnTo>
                      <a:pt x="115" y="157"/>
                    </a:lnTo>
                    <a:lnTo>
                      <a:pt x="116" y="156"/>
                    </a:lnTo>
                    <a:lnTo>
                      <a:pt x="118" y="155"/>
                    </a:lnTo>
                    <a:lnTo>
                      <a:pt x="119" y="155"/>
                    </a:lnTo>
                    <a:lnTo>
                      <a:pt x="121" y="155"/>
                    </a:lnTo>
                    <a:lnTo>
                      <a:pt x="122" y="156"/>
                    </a:lnTo>
                    <a:lnTo>
                      <a:pt x="124" y="157"/>
                    </a:lnTo>
                    <a:lnTo>
                      <a:pt x="124" y="158"/>
                    </a:lnTo>
                    <a:lnTo>
                      <a:pt x="126" y="158"/>
                    </a:lnTo>
                    <a:lnTo>
                      <a:pt x="126" y="157"/>
                    </a:lnTo>
                    <a:lnTo>
                      <a:pt x="127" y="156"/>
                    </a:lnTo>
                    <a:lnTo>
                      <a:pt x="129" y="155"/>
                    </a:lnTo>
                    <a:lnTo>
                      <a:pt x="130" y="155"/>
                    </a:lnTo>
                    <a:lnTo>
                      <a:pt x="132" y="155"/>
                    </a:lnTo>
                    <a:lnTo>
                      <a:pt x="134" y="156"/>
                    </a:lnTo>
                    <a:lnTo>
                      <a:pt x="135" y="157"/>
                    </a:lnTo>
                    <a:lnTo>
                      <a:pt x="135" y="158"/>
                    </a:lnTo>
                    <a:lnTo>
                      <a:pt x="136" y="158"/>
                    </a:lnTo>
                    <a:lnTo>
                      <a:pt x="136" y="157"/>
                    </a:lnTo>
                    <a:lnTo>
                      <a:pt x="137" y="156"/>
                    </a:lnTo>
                    <a:lnTo>
                      <a:pt x="138" y="155"/>
                    </a:lnTo>
                    <a:lnTo>
                      <a:pt x="140" y="155"/>
                    </a:lnTo>
                    <a:lnTo>
                      <a:pt x="142" y="155"/>
                    </a:lnTo>
                    <a:lnTo>
                      <a:pt x="143" y="156"/>
                    </a:lnTo>
                    <a:lnTo>
                      <a:pt x="144" y="157"/>
                    </a:lnTo>
                    <a:lnTo>
                      <a:pt x="144" y="158"/>
                    </a:lnTo>
                    <a:lnTo>
                      <a:pt x="146" y="158"/>
                    </a:lnTo>
                    <a:lnTo>
                      <a:pt x="147" y="156"/>
                    </a:lnTo>
                    <a:lnTo>
                      <a:pt x="148" y="155"/>
                    </a:lnTo>
                    <a:lnTo>
                      <a:pt x="149" y="153"/>
                    </a:lnTo>
                    <a:lnTo>
                      <a:pt x="151" y="152"/>
                    </a:lnTo>
                    <a:lnTo>
                      <a:pt x="154" y="152"/>
                    </a:lnTo>
                    <a:lnTo>
                      <a:pt x="156" y="152"/>
                    </a:lnTo>
                    <a:lnTo>
                      <a:pt x="158" y="152"/>
                    </a:lnTo>
                    <a:lnTo>
                      <a:pt x="161" y="153"/>
                    </a:lnTo>
                    <a:lnTo>
                      <a:pt x="162" y="155"/>
                    </a:lnTo>
                    <a:lnTo>
                      <a:pt x="163" y="156"/>
                    </a:lnTo>
                    <a:lnTo>
                      <a:pt x="164" y="158"/>
                    </a:lnTo>
                    <a:lnTo>
                      <a:pt x="168" y="158"/>
                    </a:lnTo>
                    <a:lnTo>
                      <a:pt x="168" y="157"/>
                    </a:lnTo>
                    <a:lnTo>
                      <a:pt x="169" y="155"/>
                    </a:lnTo>
                    <a:lnTo>
                      <a:pt x="171" y="153"/>
                    </a:lnTo>
                    <a:lnTo>
                      <a:pt x="173" y="152"/>
                    </a:lnTo>
                    <a:lnTo>
                      <a:pt x="175" y="152"/>
                    </a:lnTo>
                    <a:lnTo>
                      <a:pt x="177" y="152"/>
                    </a:lnTo>
                    <a:lnTo>
                      <a:pt x="180" y="152"/>
                    </a:lnTo>
                    <a:lnTo>
                      <a:pt x="182" y="153"/>
                    </a:lnTo>
                    <a:lnTo>
                      <a:pt x="183" y="155"/>
                    </a:lnTo>
                    <a:lnTo>
                      <a:pt x="184" y="157"/>
                    </a:lnTo>
                    <a:lnTo>
                      <a:pt x="184" y="158"/>
                    </a:lnTo>
                    <a:lnTo>
                      <a:pt x="199" y="158"/>
                    </a:lnTo>
                    <a:lnTo>
                      <a:pt x="199" y="157"/>
                    </a:lnTo>
                    <a:lnTo>
                      <a:pt x="200" y="156"/>
                    </a:lnTo>
                    <a:lnTo>
                      <a:pt x="202" y="155"/>
                    </a:lnTo>
                    <a:lnTo>
                      <a:pt x="203" y="155"/>
                    </a:lnTo>
                    <a:lnTo>
                      <a:pt x="205" y="155"/>
                    </a:lnTo>
                    <a:lnTo>
                      <a:pt x="207" y="156"/>
                    </a:lnTo>
                    <a:lnTo>
                      <a:pt x="207" y="157"/>
                    </a:lnTo>
                    <a:lnTo>
                      <a:pt x="208" y="158"/>
                    </a:lnTo>
                    <a:lnTo>
                      <a:pt x="215" y="158"/>
                    </a:lnTo>
                    <a:lnTo>
                      <a:pt x="215" y="157"/>
                    </a:lnTo>
                    <a:lnTo>
                      <a:pt x="216" y="156"/>
                    </a:lnTo>
                    <a:lnTo>
                      <a:pt x="218" y="155"/>
                    </a:lnTo>
                    <a:lnTo>
                      <a:pt x="219" y="155"/>
                    </a:lnTo>
                    <a:lnTo>
                      <a:pt x="221" y="155"/>
                    </a:lnTo>
                    <a:lnTo>
                      <a:pt x="223" y="156"/>
                    </a:lnTo>
                    <a:lnTo>
                      <a:pt x="223" y="157"/>
                    </a:lnTo>
                    <a:lnTo>
                      <a:pt x="224" y="158"/>
                    </a:lnTo>
                    <a:lnTo>
                      <a:pt x="227" y="158"/>
                    </a:lnTo>
                    <a:lnTo>
                      <a:pt x="227" y="157"/>
                    </a:lnTo>
                    <a:lnTo>
                      <a:pt x="228" y="156"/>
                    </a:lnTo>
                    <a:lnTo>
                      <a:pt x="229" y="155"/>
                    </a:lnTo>
                    <a:lnTo>
                      <a:pt x="231" y="155"/>
                    </a:lnTo>
                    <a:lnTo>
                      <a:pt x="233" y="155"/>
                    </a:lnTo>
                    <a:lnTo>
                      <a:pt x="234" y="156"/>
                    </a:lnTo>
                    <a:lnTo>
                      <a:pt x="235" y="157"/>
                    </a:lnTo>
                    <a:lnTo>
                      <a:pt x="236" y="158"/>
                    </a:lnTo>
                    <a:lnTo>
                      <a:pt x="292" y="158"/>
                    </a:lnTo>
                    <a:lnTo>
                      <a:pt x="293" y="157"/>
                    </a:lnTo>
                    <a:lnTo>
                      <a:pt x="294" y="156"/>
                    </a:lnTo>
                    <a:lnTo>
                      <a:pt x="295" y="155"/>
                    </a:lnTo>
                    <a:lnTo>
                      <a:pt x="297" y="155"/>
                    </a:lnTo>
                    <a:lnTo>
                      <a:pt x="299" y="155"/>
                    </a:lnTo>
                    <a:lnTo>
                      <a:pt x="300" y="156"/>
                    </a:lnTo>
                    <a:lnTo>
                      <a:pt x="301" y="157"/>
                    </a:lnTo>
                    <a:lnTo>
                      <a:pt x="301" y="158"/>
                    </a:lnTo>
                    <a:lnTo>
                      <a:pt x="338" y="158"/>
                    </a:lnTo>
                    <a:lnTo>
                      <a:pt x="338" y="157"/>
                    </a:lnTo>
                    <a:lnTo>
                      <a:pt x="339" y="156"/>
                    </a:lnTo>
                    <a:lnTo>
                      <a:pt x="341" y="155"/>
                    </a:lnTo>
                    <a:lnTo>
                      <a:pt x="343" y="155"/>
                    </a:lnTo>
                    <a:lnTo>
                      <a:pt x="344" y="155"/>
                    </a:lnTo>
                    <a:lnTo>
                      <a:pt x="346" y="156"/>
                    </a:lnTo>
                    <a:lnTo>
                      <a:pt x="347" y="157"/>
                    </a:lnTo>
                    <a:lnTo>
                      <a:pt x="347" y="158"/>
                    </a:lnTo>
                    <a:lnTo>
                      <a:pt x="472" y="158"/>
                    </a:lnTo>
                    <a:lnTo>
                      <a:pt x="472" y="157"/>
                    </a:lnTo>
                    <a:lnTo>
                      <a:pt x="473" y="156"/>
                    </a:lnTo>
                    <a:lnTo>
                      <a:pt x="474" y="155"/>
                    </a:lnTo>
                    <a:lnTo>
                      <a:pt x="476" y="155"/>
                    </a:lnTo>
                    <a:lnTo>
                      <a:pt x="478" y="155"/>
                    </a:lnTo>
                    <a:lnTo>
                      <a:pt x="479" y="156"/>
                    </a:lnTo>
                    <a:lnTo>
                      <a:pt x="480" y="157"/>
                    </a:lnTo>
                    <a:lnTo>
                      <a:pt x="481" y="158"/>
                    </a:lnTo>
                    <a:lnTo>
                      <a:pt x="485" y="158"/>
                    </a:lnTo>
                    <a:lnTo>
                      <a:pt x="485" y="157"/>
                    </a:lnTo>
                    <a:lnTo>
                      <a:pt x="486" y="155"/>
                    </a:lnTo>
                    <a:lnTo>
                      <a:pt x="488" y="154"/>
                    </a:lnTo>
                    <a:lnTo>
                      <a:pt x="490" y="154"/>
                    </a:lnTo>
                    <a:lnTo>
                      <a:pt x="492" y="153"/>
                    </a:lnTo>
                    <a:lnTo>
                      <a:pt x="494" y="154"/>
                    </a:lnTo>
                    <a:lnTo>
                      <a:pt x="495" y="154"/>
                    </a:lnTo>
                    <a:lnTo>
                      <a:pt x="497" y="155"/>
                    </a:lnTo>
                    <a:lnTo>
                      <a:pt x="498" y="157"/>
                    </a:lnTo>
                    <a:lnTo>
                      <a:pt x="498" y="158"/>
                    </a:lnTo>
                    <a:lnTo>
                      <a:pt x="500" y="158"/>
                    </a:lnTo>
                    <a:lnTo>
                      <a:pt x="501" y="157"/>
                    </a:lnTo>
                    <a:lnTo>
                      <a:pt x="502" y="156"/>
                    </a:lnTo>
                    <a:lnTo>
                      <a:pt x="503" y="155"/>
                    </a:lnTo>
                    <a:lnTo>
                      <a:pt x="505" y="155"/>
                    </a:lnTo>
                    <a:lnTo>
                      <a:pt x="506" y="155"/>
                    </a:lnTo>
                    <a:lnTo>
                      <a:pt x="508" y="156"/>
                    </a:lnTo>
                    <a:lnTo>
                      <a:pt x="509" y="157"/>
                    </a:lnTo>
                    <a:lnTo>
                      <a:pt x="509" y="158"/>
                    </a:lnTo>
                    <a:lnTo>
                      <a:pt x="533" y="158"/>
                    </a:lnTo>
                    <a:lnTo>
                      <a:pt x="533" y="157"/>
                    </a:lnTo>
                    <a:lnTo>
                      <a:pt x="534" y="156"/>
                    </a:lnTo>
                    <a:lnTo>
                      <a:pt x="536" y="155"/>
                    </a:lnTo>
                    <a:lnTo>
                      <a:pt x="537" y="155"/>
                    </a:lnTo>
                    <a:lnTo>
                      <a:pt x="539" y="155"/>
                    </a:lnTo>
                    <a:lnTo>
                      <a:pt x="540" y="156"/>
                    </a:lnTo>
                    <a:lnTo>
                      <a:pt x="541" y="157"/>
                    </a:lnTo>
                    <a:lnTo>
                      <a:pt x="542" y="158"/>
                    </a:lnTo>
                    <a:lnTo>
                      <a:pt x="553" y="158"/>
                    </a:lnTo>
                    <a:lnTo>
                      <a:pt x="553" y="157"/>
                    </a:lnTo>
                    <a:lnTo>
                      <a:pt x="554" y="156"/>
                    </a:lnTo>
                    <a:lnTo>
                      <a:pt x="555" y="155"/>
                    </a:lnTo>
                    <a:lnTo>
                      <a:pt x="557" y="155"/>
                    </a:lnTo>
                    <a:lnTo>
                      <a:pt x="559" y="155"/>
                    </a:lnTo>
                    <a:lnTo>
                      <a:pt x="560" y="156"/>
                    </a:lnTo>
                    <a:lnTo>
                      <a:pt x="561" y="157"/>
                    </a:lnTo>
                    <a:lnTo>
                      <a:pt x="562" y="158"/>
                    </a:lnTo>
                    <a:lnTo>
                      <a:pt x="597" y="158"/>
                    </a:lnTo>
                    <a:lnTo>
                      <a:pt x="597" y="156"/>
                    </a:lnTo>
                    <a:lnTo>
                      <a:pt x="598" y="155"/>
                    </a:lnTo>
                    <a:lnTo>
                      <a:pt x="599" y="153"/>
                    </a:lnTo>
                    <a:lnTo>
                      <a:pt x="602" y="152"/>
                    </a:lnTo>
                    <a:lnTo>
                      <a:pt x="604" y="152"/>
                    </a:lnTo>
                    <a:lnTo>
                      <a:pt x="606" y="152"/>
                    </a:lnTo>
                    <a:lnTo>
                      <a:pt x="609" y="152"/>
                    </a:lnTo>
                    <a:lnTo>
                      <a:pt x="611" y="153"/>
                    </a:lnTo>
                    <a:lnTo>
                      <a:pt x="612" y="155"/>
                    </a:lnTo>
                    <a:lnTo>
                      <a:pt x="613" y="156"/>
                    </a:lnTo>
                    <a:lnTo>
                      <a:pt x="614" y="158"/>
                    </a:lnTo>
                    <a:lnTo>
                      <a:pt x="628" y="158"/>
                    </a:lnTo>
                    <a:lnTo>
                      <a:pt x="628" y="157"/>
                    </a:lnTo>
                    <a:lnTo>
                      <a:pt x="629" y="156"/>
                    </a:lnTo>
                    <a:lnTo>
                      <a:pt x="631" y="155"/>
                    </a:lnTo>
                    <a:lnTo>
                      <a:pt x="633" y="155"/>
                    </a:lnTo>
                    <a:lnTo>
                      <a:pt x="634" y="155"/>
                    </a:lnTo>
                    <a:lnTo>
                      <a:pt x="636" y="156"/>
                    </a:lnTo>
                    <a:lnTo>
                      <a:pt x="637" y="157"/>
                    </a:lnTo>
                    <a:lnTo>
                      <a:pt x="637" y="158"/>
                    </a:lnTo>
                    <a:lnTo>
                      <a:pt x="644" y="158"/>
                    </a:lnTo>
                    <a:lnTo>
                      <a:pt x="644" y="157"/>
                    </a:lnTo>
                    <a:lnTo>
                      <a:pt x="645" y="156"/>
                    </a:lnTo>
                    <a:lnTo>
                      <a:pt x="647" y="155"/>
                    </a:lnTo>
                    <a:lnTo>
                      <a:pt x="648" y="155"/>
                    </a:lnTo>
                    <a:lnTo>
                      <a:pt x="650" y="155"/>
                    </a:lnTo>
                    <a:lnTo>
                      <a:pt x="652" y="156"/>
                    </a:lnTo>
                    <a:lnTo>
                      <a:pt x="653" y="157"/>
                    </a:lnTo>
                    <a:lnTo>
                      <a:pt x="653" y="158"/>
                    </a:lnTo>
                    <a:lnTo>
                      <a:pt x="661" y="158"/>
                    </a:lnTo>
                    <a:lnTo>
                      <a:pt x="662" y="157"/>
                    </a:lnTo>
                    <a:lnTo>
                      <a:pt x="663" y="155"/>
                    </a:lnTo>
                    <a:lnTo>
                      <a:pt x="664" y="154"/>
                    </a:lnTo>
                    <a:lnTo>
                      <a:pt x="666" y="153"/>
                    </a:lnTo>
                    <a:lnTo>
                      <a:pt x="668" y="153"/>
                    </a:lnTo>
                    <a:lnTo>
                      <a:pt x="670" y="153"/>
                    </a:lnTo>
                    <a:lnTo>
                      <a:pt x="672" y="154"/>
                    </a:lnTo>
                    <a:lnTo>
                      <a:pt x="674" y="155"/>
                    </a:lnTo>
                    <a:lnTo>
                      <a:pt x="674" y="157"/>
                    </a:lnTo>
                    <a:lnTo>
                      <a:pt x="675" y="158"/>
                    </a:lnTo>
                    <a:lnTo>
                      <a:pt x="698" y="158"/>
                    </a:lnTo>
                    <a:lnTo>
                      <a:pt x="699" y="157"/>
                    </a:lnTo>
                    <a:lnTo>
                      <a:pt x="700" y="156"/>
                    </a:lnTo>
                    <a:lnTo>
                      <a:pt x="701" y="155"/>
                    </a:lnTo>
                    <a:lnTo>
                      <a:pt x="703" y="155"/>
                    </a:lnTo>
                    <a:lnTo>
                      <a:pt x="705" y="155"/>
                    </a:lnTo>
                    <a:lnTo>
                      <a:pt x="706" y="156"/>
                    </a:lnTo>
                    <a:lnTo>
                      <a:pt x="707" y="157"/>
                    </a:lnTo>
                    <a:lnTo>
                      <a:pt x="707" y="158"/>
                    </a:lnTo>
                    <a:lnTo>
                      <a:pt x="714" y="158"/>
                    </a:lnTo>
                    <a:lnTo>
                      <a:pt x="714" y="156"/>
                    </a:lnTo>
                    <a:lnTo>
                      <a:pt x="715" y="155"/>
                    </a:lnTo>
                    <a:lnTo>
                      <a:pt x="717" y="153"/>
                    </a:lnTo>
                    <a:lnTo>
                      <a:pt x="719" y="152"/>
                    </a:lnTo>
                    <a:lnTo>
                      <a:pt x="722" y="152"/>
                    </a:lnTo>
                    <a:lnTo>
                      <a:pt x="724" y="152"/>
                    </a:lnTo>
                    <a:lnTo>
                      <a:pt x="726" y="152"/>
                    </a:lnTo>
                    <a:lnTo>
                      <a:pt x="729" y="153"/>
                    </a:lnTo>
                    <a:lnTo>
                      <a:pt x="730" y="155"/>
                    </a:lnTo>
                    <a:lnTo>
                      <a:pt x="731" y="156"/>
                    </a:lnTo>
                    <a:lnTo>
                      <a:pt x="732" y="158"/>
                    </a:lnTo>
                    <a:lnTo>
                      <a:pt x="789" y="158"/>
                    </a:lnTo>
                    <a:lnTo>
                      <a:pt x="789" y="157"/>
                    </a:lnTo>
                    <a:lnTo>
                      <a:pt x="790" y="156"/>
                    </a:lnTo>
                    <a:lnTo>
                      <a:pt x="792" y="155"/>
                    </a:lnTo>
                    <a:lnTo>
                      <a:pt x="794" y="155"/>
                    </a:lnTo>
                    <a:lnTo>
                      <a:pt x="795" y="155"/>
                    </a:lnTo>
                    <a:lnTo>
                      <a:pt x="797" y="156"/>
                    </a:lnTo>
                    <a:lnTo>
                      <a:pt x="798" y="157"/>
                    </a:lnTo>
                    <a:lnTo>
                      <a:pt x="798" y="158"/>
                    </a:lnTo>
                    <a:lnTo>
                      <a:pt x="816" y="158"/>
                    </a:lnTo>
                    <a:lnTo>
                      <a:pt x="816" y="157"/>
                    </a:lnTo>
                    <a:lnTo>
                      <a:pt x="817" y="156"/>
                    </a:lnTo>
                    <a:lnTo>
                      <a:pt x="819" y="155"/>
                    </a:lnTo>
                    <a:lnTo>
                      <a:pt x="821" y="155"/>
                    </a:lnTo>
                    <a:lnTo>
                      <a:pt x="822" y="155"/>
                    </a:lnTo>
                    <a:lnTo>
                      <a:pt x="824" y="156"/>
                    </a:lnTo>
                    <a:lnTo>
                      <a:pt x="825" y="157"/>
                    </a:lnTo>
                    <a:lnTo>
                      <a:pt x="825" y="158"/>
                    </a:lnTo>
                    <a:lnTo>
                      <a:pt x="846" y="158"/>
                    </a:lnTo>
                    <a:lnTo>
                      <a:pt x="847" y="157"/>
                    </a:lnTo>
                    <a:lnTo>
                      <a:pt x="848" y="156"/>
                    </a:lnTo>
                    <a:lnTo>
                      <a:pt x="849" y="155"/>
                    </a:lnTo>
                    <a:lnTo>
                      <a:pt x="851" y="155"/>
                    </a:lnTo>
                    <a:lnTo>
                      <a:pt x="853" y="155"/>
                    </a:lnTo>
                    <a:lnTo>
                      <a:pt x="854" y="156"/>
                    </a:lnTo>
                    <a:lnTo>
                      <a:pt x="855" y="157"/>
                    </a:lnTo>
                    <a:lnTo>
                      <a:pt x="855" y="158"/>
                    </a:lnTo>
                    <a:lnTo>
                      <a:pt x="860" y="158"/>
                    </a:lnTo>
                    <a:lnTo>
                      <a:pt x="860" y="157"/>
                    </a:lnTo>
                    <a:lnTo>
                      <a:pt x="861" y="156"/>
                    </a:lnTo>
                    <a:lnTo>
                      <a:pt x="863" y="155"/>
                    </a:lnTo>
                    <a:lnTo>
                      <a:pt x="864" y="155"/>
                    </a:lnTo>
                    <a:lnTo>
                      <a:pt x="866" y="155"/>
                    </a:lnTo>
                    <a:lnTo>
                      <a:pt x="868" y="156"/>
                    </a:lnTo>
                    <a:lnTo>
                      <a:pt x="868" y="157"/>
                    </a:lnTo>
                    <a:lnTo>
                      <a:pt x="869" y="158"/>
                    </a:lnTo>
                    <a:lnTo>
                      <a:pt x="924" y="158"/>
                    </a:lnTo>
                    <a:lnTo>
                      <a:pt x="924" y="157"/>
                    </a:lnTo>
                    <a:lnTo>
                      <a:pt x="925" y="155"/>
                    </a:lnTo>
                    <a:lnTo>
                      <a:pt x="926" y="154"/>
                    </a:lnTo>
                    <a:lnTo>
                      <a:pt x="928" y="153"/>
                    </a:lnTo>
                    <a:lnTo>
                      <a:pt x="931" y="152"/>
                    </a:lnTo>
                    <a:lnTo>
                      <a:pt x="933" y="152"/>
                    </a:lnTo>
                    <a:lnTo>
                      <a:pt x="935" y="153"/>
                    </a:lnTo>
                    <a:lnTo>
                      <a:pt x="937" y="154"/>
                    </a:lnTo>
                    <a:lnTo>
                      <a:pt x="939" y="155"/>
                    </a:lnTo>
                    <a:lnTo>
                      <a:pt x="939" y="157"/>
                    </a:lnTo>
                    <a:lnTo>
                      <a:pt x="940" y="158"/>
                    </a:lnTo>
                    <a:lnTo>
                      <a:pt x="953" y="158"/>
                    </a:lnTo>
                    <a:lnTo>
                      <a:pt x="953" y="157"/>
                    </a:lnTo>
                    <a:lnTo>
                      <a:pt x="954" y="156"/>
                    </a:lnTo>
                    <a:lnTo>
                      <a:pt x="955" y="155"/>
                    </a:lnTo>
                    <a:lnTo>
                      <a:pt x="957" y="155"/>
                    </a:lnTo>
                    <a:lnTo>
                      <a:pt x="959" y="155"/>
                    </a:lnTo>
                    <a:lnTo>
                      <a:pt x="961" y="156"/>
                    </a:lnTo>
                    <a:lnTo>
                      <a:pt x="961" y="157"/>
                    </a:lnTo>
                    <a:lnTo>
                      <a:pt x="962" y="158"/>
                    </a:lnTo>
                    <a:lnTo>
                      <a:pt x="1002" y="158"/>
                    </a:lnTo>
                    <a:lnTo>
                      <a:pt x="1002" y="157"/>
                    </a:lnTo>
                    <a:lnTo>
                      <a:pt x="1003" y="156"/>
                    </a:lnTo>
                    <a:lnTo>
                      <a:pt x="1004" y="155"/>
                    </a:lnTo>
                    <a:lnTo>
                      <a:pt x="1006" y="155"/>
                    </a:lnTo>
                    <a:lnTo>
                      <a:pt x="1008" y="155"/>
                    </a:lnTo>
                    <a:lnTo>
                      <a:pt x="1009" y="156"/>
                    </a:lnTo>
                    <a:lnTo>
                      <a:pt x="1010" y="157"/>
                    </a:lnTo>
                    <a:lnTo>
                      <a:pt x="1011" y="158"/>
                    </a:lnTo>
                    <a:lnTo>
                      <a:pt x="1019" y="158"/>
                    </a:lnTo>
                    <a:lnTo>
                      <a:pt x="1019" y="157"/>
                    </a:lnTo>
                    <a:lnTo>
                      <a:pt x="1020" y="155"/>
                    </a:lnTo>
                    <a:lnTo>
                      <a:pt x="1021" y="154"/>
                    </a:lnTo>
                    <a:lnTo>
                      <a:pt x="1023" y="153"/>
                    </a:lnTo>
                    <a:lnTo>
                      <a:pt x="1025" y="153"/>
                    </a:lnTo>
                    <a:lnTo>
                      <a:pt x="1027" y="153"/>
                    </a:lnTo>
                    <a:lnTo>
                      <a:pt x="1029" y="154"/>
                    </a:lnTo>
                    <a:lnTo>
                      <a:pt x="1031" y="155"/>
                    </a:lnTo>
                    <a:lnTo>
                      <a:pt x="1032" y="157"/>
                    </a:lnTo>
                    <a:lnTo>
                      <a:pt x="1032" y="158"/>
                    </a:lnTo>
                    <a:lnTo>
                      <a:pt x="1059" y="158"/>
                    </a:lnTo>
                    <a:lnTo>
                      <a:pt x="1060" y="157"/>
                    </a:lnTo>
                    <a:lnTo>
                      <a:pt x="1060" y="156"/>
                    </a:lnTo>
                    <a:lnTo>
                      <a:pt x="1062" y="155"/>
                    </a:lnTo>
                    <a:lnTo>
                      <a:pt x="1064" y="155"/>
                    </a:lnTo>
                    <a:lnTo>
                      <a:pt x="1065" y="155"/>
                    </a:lnTo>
                    <a:lnTo>
                      <a:pt x="1067" y="156"/>
                    </a:lnTo>
                    <a:lnTo>
                      <a:pt x="1068" y="157"/>
                    </a:lnTo>
                    <a:lnTo>
                      <a:pt x="1068" y="158"/>
                    </a:lnTo>
                    <a:lnTo>
                      <a:pt x="1083" y="158"/>
                    </a:lnTo>
                    <a:lnTo>
                      <a:pt x="1083" y="157"/>
                    </a:lnTo>
                    <a:lnTo>
                      <a:pt x="1084" y="156"/>
                    </a:lnTo>
                    <a:lnTo>
                      <a:pt x="1086" y="155"/>
                    </a:lnTo>
                    <a:lnTo>
                      <a:pt x="1087" y="155"/>
                    </a:lnTo>
                    <a:lnTo>
                      <a:pt x="1089" y="155"/>
                    </a:lnTo>
                    <a:lnTo>
                      <a:pt x="1090" y="156"/>
                    </a:lnTo>
                    <a:lnTo>
                      <a:pt x="1091" y="157"/>
                    </a:lnTo>
                    <a:lnTo>
                      <a:pt x="1092" y="158"/>
                    </a:lnTo>
                    <a:lnTo>
                      <a:pt x="1104" y="158"/>
                    </a:lnTo>
                    <a:lnTo>
                      <a:pt x="1105" y="157"/>
                    </a:lnTo>
                    <a:lnTo>
                      <a:pt x="1106" y="156"/>
                    </a:lnTo>
                    <a:lnTo>
                      <a:pt x="1107" y="155"/>
                    </a:lnTo>
                    <a:lnTo>
                      <a:pt x="1109" y="155"/>
                    </a:lnTo>
                    <a:lnTo>
                      <a:pt x="1111" y="155"/>
                    </a:lnTo>
                    <a:lnTo>
                      <a:pt x="1112" y="156"/>
                    </a:lnTo>
                    <a:lnTo>
                      <a:pt x="1113" y="157"/>
                    </a:lnTo>
                    <a:lnTo>
                      <a:pt x="1113" y="158"/>
                    </a:lnTo>
                    <a:lnTo>
                      <a:pt x="1124" y="158"/>
                    </a:lnTo>
                    <a:lnTo>
                      <a:pt x="1125" y="157"/>
                    </a:lnTo>
                    <a:lnTo>
                      <a:pt x="1126" y="156"/>
                    </a:lnTo>
                    <a:lnTo>
                      <a:pt x="1127" y="155"/>
                    </a:lnTo>
                    <a:lnTo>
                      <a:pt x="1129" y="155"/>
                    </a:lnTo>
                    <a:lnTo>
                      <a:pt x="1130" y="155"/>
                    </a:lnTo>
                    <a:lnTo>
                      <a:pt x="1132" y="156"/>
                    </a:lnTo>
                    <a:lnTo>
                      <a:pt x="1133" y="157"/>
                    </a:lnTo>
                    <a:lnTo>
                      <a:pt x="1133" y="158"/>
                    </a:lnTo>
                    <a:lnTo>
                      <a:pt x="1144" y="158"/>
                    </a:lnTo>
                    <a:lnTo>
                      <a:pt x="1144" y="157"/>
                    </a:lnTo>
                    <a:lnTo>
                      <a:pt x="1145" y="156"/>
                    </a:lnTo>
                    <a:lnTo>
                      <a:pt x="1146" y="155"/>
                    </a:lnTo>
                    <a:lnTo>
                      <a:pt x="1148" y="155"/>
                    </a:lnTo>
                    <a:lnTo>
                      <a:pt x="1150" y="155"/>
                    </a:lnTo>
                    <a:lnTo>
                      <a:pt x="1151" y="156"/>
                    </a:lnTo>
                    <a:lnTo>
                      <a:pt x="1152" y="157"/>
                    </a:lnTo>
                    <a:lnTo>
                      <a:pt x="1153" y="158"/>
                    </a:lnTo>
                    <a:lnTo>
                      <a:pt x="1155" y="158"/>
                    </a:lnTo>
                    <a:lnTo>
                      <a:pt x="1156" y="157"/>
                    </a:lnTo>
                    <a:lnTo>
                      <a:pt x="1157" y="156"/>
                    </a:lnTo>
                    <a:lnTo>
                      <a:pt x="1158" y="155"/>
                    </a:lnTo>
                    <a:lnTo>
                      <a:pt x="1160" y="155"/>
                    </a:lnTo>
                    <a:lnTo>
                      <a:pt x="1162" y="155"/>
                    </a:lnTo>
                    <a:lnTo>
                      <a:pt x="1163" y="156"/>
                    </a:lnTo>
                    <a:lnTo>
                      <a:pt x="1164" y="157"/>
                    </a:lnTo>
                    <a:lnTo>
                      <a:pt x="1164" y="158"/>
                    </a:lnTo>
                    <a:lnTo>
                      <a:pt x="1177" y="158"/>
                    </a:lnTo>
                    <a:lnTo>
                      <a:pt x="1178" y="157"/>
                    </a:lnTo>
                    <a:lnTo>
                      <a:pt x="1179" y="156"/>
                    </a:lnTo>
                    <a:lnTo>
                      <a:pt x="1180" y="155"/>
                    </a:lnTo>
                    <a:lnTo>
                      <a:pt x="1182" y="155"/>
                    </a:lnTo>
                    <a:lnTo>
                      <a:pt x="1184" y="155"/>
                    </a:lnTo>
                    <a:lnTo>
                      <a:pt x="1185" y="156"/>
                    </a:lnTo>
                    <a:lnTo>
                      <a:pt x="1186" y="157"/>
                    </a:lnTo>
                    <a:lnTo>
                      <a:pt x="1186" y="158"/>
                    </a:lnTo>
                    <a:lnTo>
                      <a:pt x="1225" y="158"/>
                    </a:lnTo>
                    <a:lnTo>
                      <a:pt x="1225" y="157"/>
                    </a:lnTo>
                    <a:lnTo>
                      <a:pt x="1226" y="156"/>
                    </a:lnTo>
                    <a:lnTo>
                      <a:pt x="1227" y="155"/>
                    </a:lnTo>
                    <a:lnTo>
                      <a:pt x="1229" y="155"/>
                    </a:lnTo>
                    <a:lnTo>
                      <a:pt x="1231" y="155"/>
                    </a:lnTo>
                    <a:lnTo>
                      <a:pt x="1232" y="156"/>
                    </a:lnTo>
                    <a:lnTo>
                      <a:pt x="1233" y="157"/>
                    </a:lnTo>
                    <a:lnTo>
                      <a:pt x="1234" y="158"/>
                    </a:lnTo>
                    <a:lnTo>
                      <a:pt x="1238" y="158"/>
                    </a:lnTo>
                    <a:lnTo>
                      <a:pt x="1238" y="157"/>
                    </a:lnTo>
                    <a:lnTo>
                      <a:pt x="1239" y="156"/>
                    </a:lnTo>
                    <a:lnTo>
                      <a:pt x="1241" y="155"/>
                    </a:lnTo>
                    <a:lnTo>
                      <a:pt x="1242" y="155"/>
                    </a:lnTo>
                    <a:lnTo>
                      <a:pt x="1244" y="155"/>
                    </a:lnTo>
                    <a:lnTo>
                      <a:pt x="1245" y="156"/>
                    </a:lnTo>
                    <a:lnTo>
                      <a:pt x="1247" y="157"/>
                    </a:lnTo>
                    <a:lnTo>
                      <a:pt x="1247" y="158"/>
                    </a:lnTo>
                    <a:lnTo>
                      <a:pt x="1265" y="158"/>
                    </a:lnTo>
                    <a:lnTo>
                      <a:pt x="1265" y="157"/>
                    </a:lnTo>
                    <a:lnTo>
                      <a:pt x="1267" y="156"/>
                    </a:lnTo>
                    <a:lnTo>
                      <a:pt x="1268" y="155"/>
                    </a:lnTo>
                    <a:lnTo>
                      <a:pt x="1270" y="155"/>
                    </a:lnTo>
                    <a:lnTo>
                      <a:pt x="1271" y="155"/>
                    </a:lnTo>
                    <a:lnTo>
                      <a:pt x="1273" y="156"/>
                    </a:lnTo>
                    <a:lnTo>
                      <a:pt x="1274" y="157"/>
                    </a:lnTo>
                    <a:lnTo>
                      <a:pt x="1274" y="158"/>
                    </a:lnTo>
                    <a:lnTo>
                      <a:pt x="1306" y="158"/>
                    </a:lnTo>
                    <a:lnTo>
                      <a:pt x="1306" y="157"/>
                    </a:lnTo>
                    <a:lnTo>
                      <a:pt x="1307" y="156"/>
                    </a:lnTo>
                    <a:lnTo>
                      <a:pt x="1309" y="155"/>
                    </a:lnTo>
                    <a:lnTo>
                      <a:pt x="1310" y="155"/>
                    </a:lnTo>
                    <a:lnTo>
                      <a:pt x="1312" y="155"/>
                    </a:lnTo>
                    <a:lnTo>
                      <a:pt x="1313" y="156"/>
                    </a:lnTo>
                    <a:lnTo>
                      <a:pt x="1314" y="157"/>
                    </a:lnTo>
                    <a:lnTo>
                      <a:pt x="1315" y="158"/>
                    </a:lnTo>
                    <a:lnTo>
                      <a:pt x="1334" y="158"/>
                    </a:lnTo>
                    <a:lnTo>
                      <a:pt x="1334" y="157"/>
                    </a:lnTo>
                    <a:lnTo>
                      <a:pt x="1335" y="156"/>
                    </a:lnTo>
                    <a:lnTo>
                      <a:pt x="1336" y="155"/>
                    </a:lnTo>
                    <a:lnTo>
                      <a:pt x="1338" y="155"/>
                    </a:lnTo>
                    <a:lnTo>
                      <a:pt x="1340" y="155"/>
                    </a:lnTo>
                    <a:lnTo>
                      <a:pt x="1341" y="156"/>
                    </a:lnTo>
                    <a:lnTo>
                      <a:pt x="1342" y="157"/>
                    </a:lnTo>
                    <a:lnTo>
                      <a:pt x="1343" y="158"/>
                    </a:lnTo>
                    <a:lnTo>
                      <a:pt x="1423" y="158"/>
                    </a:lnTo>
                    <a:lnTo>
                      <a:pt x="1423" y="157"/>
                    </a:lnTo>
                    <a:lnTo>
                      <a:pt x="1424" y="156"/>
                    </a:lnTo>
                    <a:lnTo>
                      <a:pt x="1426" y="155"/>
                    </a:lnTo>
                    <a:lnTo>
                      <a:pt x="1427" y="155"/>
                    </a:lnTo>
                    <a:lnTo>
                      <a:pt x="1429" y="155"/>
                    </a:lnTo>
                    <a:lnTo>
                      <a:pt x="1430" y="156"/>
                    </a:lnTo>
                    <a:lnTo>
                      <a:pt x="1431" y="157"/>
                    </a:lnTo>
                    <a:lnTo>
                      <a:pt x="1432" y="158"/>
                    </a:lnTo>
                    <a:lnTo>
                      <a:pt x="1450" y="158"/>
                    </a:lnTo>
                    <a:lnTo>
                      <a:pt x="1450" y="157"/>
                    </a:lnTo>
                    <a:lnTo>
                      <a:pt x="1451" y="156"/>
                    </a:lnTo>
                    <a:lnTo>
                      <a:pt x="1452" y="155"/>
                    </a:lnTo>
                    <a:lnTo>
                      <a:pt x="1454" y="155"/>
                    </a:lnTo>
                    <a:lnTo>
                      <a:pt x="1456" y="155"/>
                    </a:lnTo>
                    <a:lnTo>
                      <a:pt x="1457" y="156"/>
                    </a:lnTo>
                    <a:lnTo>
                      <a:pt x="1458" y="157"/>
                    </a:lnTo>
                    <a:lnTo>
                      <a:pt x="1459" y="158"/>
                    </a:lnTo>
                    <a:lnTo>
                      <a:pt x="1583" y="158"/>
                    </a:lnTo>
                    <a:lnTo>
                      <a:pt x="1583" y="157"/>
                    </a:lnTo>
                    <a:lnTo>
                      <a:pt x="1584" y="156"/>
                    </a:lnTo>
                    <a:lnTo>
                      <a:pt x="1586" y="155"/>
                    </a:lnTo>
                    <a:lnTo>
                      <a:pt x="1587" y="155"/>
                    </a:lnTo>
                    <a:lnTo>
                      <a:pt x="1589" y="155"/>
                    </a:lnTo>
                    <a:lnTo>
                      <a:pt x="1591" y="156"/>
                    </a:lnTo>
                    <a:lnTo>
                      <a:pt x="1591" y="157"/>
                    </a:lnTo>
                    <a:lnTo>
                      <a:pt x="1592" y="158"/>
                    </a:lnTo>
                    <a:lnTo>
                      <a:pt x="1611" y="158"/>
                    </a:lnTo>
                    <a:lnTo>
                      <a:pt x="1611" y="157"/>
                    </a:lnTo>
                    <a:lnTo>
                      <a:pt x="1612" y="156"/>
                    </a:lnTo>
                    <a:lnTo>
                      <a:pt x="1614" y="155"/>
                    </a:lnTo>
                    <a:lnTo>
                      <a:pt x="1616" y="155"/>
                    </a:lnTo>
                    <a:lnTo>
                      <a:pt x="1617" y="155"/>
                    </a:lnTo>
                    <a:lnTo>
                      <a:pt x="1619" y="156"/>
                    </a:lnTo>
                    <a:lnTo>
                      <a:pt x="1620" y="157"/>
                    </a:lnTo>
                    <a:lnTo>
                      <a:pt x="1620" y="158"/>
                    </a:lnTo>
                    <a:lnTo>
                      <a:pt x="1646" y="158"/>
                    </a:lnTo>
                    <a:lnTo>
                      <a:pt x="1646" y="157"/>
                    </a:lnTo>
                    <a:lnTo>
                      <a:pt x="1647" y="156"/>
                    </a:lnTo>
                    <a:lnTo>
                      <a:pt x="1648" y="155"/>
                    </a:lnTo>
                    <a:lnTo>
                      <a:pt x="1650" y="155"/>
                    </a:lnTo>
                    <a:lnTo>
                      <a:pt x="1652" y="155"/>
                    </a:lnTo>
                    <a:lnTo>
                      <a:pt x="1653" y="156"/>
                    </a:lnTo>
                    <a:lnTo>
                      <a:pt x="1654" y="157"/>
                    </a:lnTo>
                    <a:lnTo>
                      <a:pt x="1655" y="158"/>
                    </a:lnTo>
                    <a:lnTo>
                      <a:pt x="1664" y="158"/>
                    </a:lnTo>
                    <a:lnTo>
                      <a:pt x="1664" y="157"/>
                    </a:lnTo>
                    <a:lnTo>
                      <a:pt x="1665" y="156"/>
                    </a:lnTo>
                    <a:lnTo>
                      <a:pt x="1666" y="155"/>
                    </a:lnTo>
                    <a:lnTo>
                      <a:pt x="1668" y="155"/>
                    </a:lnTo>
                    <a:lnTo>
                      <a:pt x="1670" y="155"/>
                    </a:lnTo>
                    <a:lnTo>
                      <a:pt x="1671" y="156"/>
                    </a:lnTo>
                    <a:lnTo>
                      <a:pt x="1672" y="157"/>
                    </a:lnTo>
                    <a:lnTo>
                      <a:pt x="1673" y="158"/>
                    </a:lnTo>
                    <a:lnTo>
                      <a:pt x="1677" y="158"/>
                    </a:lnTo>
                    <a:lnTo>
                      <a:pt x="1678" y="157"/>
                    </a:lnTo>
                    <a:lnTo>
                      <a:pt x="1678" y="156"/>
                    </a:lnTo>
                    <a:lnTo>
                      <a:pt x="1680" y="155"/>
                    </a:lnTo>
                    <a:lnTo>
                      <a:pt x="1682" y="155"/>
                    </a:lnTo>
                    <a:lnTo>
                      <a:pt x="1683" y="155"/>
                    </a:lnTo>
                    <a:lnTo>
                      <a:pt x="1685" y="156"/>
                    </a:lnTo>
                    <a:lnTo>
                      <a:pt x="1686" y="157"/>
                    </a:lnTo>
                    <a:lnTo>
                      <a:pt x="1686" y="158"/>
                    </a:lnTo>
                    <a:lnTo>
                      <a:pt x="1712" y="158"/>
                    </a:lnTo>
                    <a:lnTo>
                      <a:pt x="1713" y="157"/>
                    </a:lnTo>
                    <a:lnTo>
                      <a:pt x="1713" y="156"/>
                    </a:lnTo>
                    <a:lnTo>
                      <a:pt x="1715" y="155"/>
                    </a:lnTo>
                    <a:lnTo>
                      <a:pt x="1717" y="155"/>
                    </a:lnTo>
                    <a:lnTo>
                      <a:pt x="1718" y="155"/>
                    </a:lnTo>
                    <a:lnTo>
                      <a:pt x="1720" y="156"/>
                    </a:lnTo>
                    <a:lnTo>
                      <a:pt x="1721" y="157"/>
                    </a:lnTo>
                    <a:lnTo>
                      <a:pt x="1721" y="158"/>
                    </a:lnTo>
                    <a:lnTo>
                      <a:pt x="1723" y="158"/>
                    </a:lnTo>
                    <a:lnTo>
                      <a:pt x="1723" y="157"/>
                    </a:lnTo>
                    <a:lnTo>
                      <a:pt x="1724" y="155"/>
                    </a:lnTo>
                    <a:lnTo>
                      <a:pt x="1725" y="154"/>
                    </a:lnTo>
                    <a:lnTo>
                      <a:pt x="1727" y="153"/>
                    </a:lnTo>
                    <a:lnTo>
                      <a:pt x="1729" y="152"/>
                    </a:lnTo>
                    <a:lnTo>
                      <a:pt x="1732" y="152"/>
                    </a:lnTo>
                    <a:lnTo>
                      <a:pt x="1734" y="153"/>
                    </a:lnTo>
                    <a:lnTo>
                      <a:pt x="1736" y="154"/>
                    </a:lnTo>
                    <a:lnTo>
                      <a:pt x="1737" y="155"/>
                    </a:lnTo>
                    <a:lnTo>
                      <a:pt x="1738" y="157"/>
                    </a:lnTo>
                    <a:lnTo>
                      <a:pt x="1738" y="158"/>
                    </a:lnTo>
                    <a:lnTo>
                      <a:pt x="1764" y="158"/>
                    </a:lnTo>
                    <a:lnTo>
                      <a:pt x="1764" y="157"/>
                    </a:lnTo>
                    <a:lnTo>
                      <a:pt x="1765" y="156"/>
                    </a:lnTo>
                    <a:lnTo>
                      <a:pt x="1767" y="155"/>
                    </a:lnTo>
                    <a:lnTo>
                      <a:pt x="1769" y="155"/>
                    </a:lnTo>
                    <a:lnTo>
                      <a:pt x="1770" y="155"/>
                    </a:lnTo>
                    <a:lnTo>
                      <a:pt x="1772" y="156"/>
                    </a:lnTo>
                    <a:lnTo>
                      <a:pt x="1773" y="157"/>
                    </a:lnTo>
                    <a:lnTo>
                      <a:pt x="1773" y="158"/>
                    </a:lnTo>
                    <a:lnTo>
                      <a:pt x="1782" y="158"/>
                    </a:lnTo>
                    <a:lnTo>
                      <a:pt x="1782" y="156"/>
                    </a:lnTo>
                    <a:lnTo>
                      <a:pt x="1783" y="155"/>
                    </a:lnTo>
                    <a:lnTo>
                      <a:pt x="1785" y="153"/>
                    </a:lnTo>
                    <a:lnTo>
                      <a:pt x="1787" y="152"/>
                    </a:lnTo>
                    <a:lnTo>
                      <a:pt x="1789" y="152"/>
                    </a:lnTo>
                    <a:lnTo>
                      <a:pt x="1792" y="152"/>
                    </a:lnTo>
                    <a:lnTo>
                      <a:pt x="1794" y="152"/>
                    </a:lnTo>
                    <a:lnTo>
                      <a:pt x="1796" y="153"/>
                    </a:lnTo>
                    <a:lnTo>
                      <a:pt x="1797" y="155"/>
                    </a:lnTo>
                    <a:lnTo>
                      <a:pt x="1798" y="156"/>
                    </a:lnTo>
                    <a:lnTo>
                      <a:pt x="1799" y="158"/>
                    </a:lnTo>
                    <a:lnTo>
                      <a:pt x="1802" y="158"/>
                    </a:lnTo>
                    <a:lnTo>
                      <a:pt x="1803" y="157"/>
                    </a:lnTo>
                    <a:lnTo>
                      <a:pt x="1803" y="156"/>
                    </a:lnTo>
                    <a:lnTo>
                      <a:pt x="1805" y="155"/>
                    </a:lnTo>
                    <a:lnTo>
                      <a:pt x="1807" y="155"/>
                    </a:lnTo>
                    <a:lnTo>
                      <a:pt x="1808" y="155"/>
                    </a:lnTo>
                    <a:lnTo>
                      <a:pt x="1810" y="156"/>
                    </a:lnTo>
                    <a:lnTo>
                      <a:pt x="1811" y="157"/>
                    </a:lnTo>
                    <a:lnTo>
                      <a:pt x="1811" y="158"/>
                    </a:lnTo>
                    <a:lnTo>
                      <a:pt x="1832" y="158"/>
                    </a:lnTo>
                    <a:lnTo>
                      <a:pt x="1833" y="157"/>
                    </a:lnTo>
                    <a:lnTo>
                      <a:pt x="1834" y="156"/>
                    </a:lnTo>
                    <a:lnTo>
                      <a:pt x="1835" y="155"/>
                    </a:lnTo>
                    <a:lnTo>
                      <a:pt x="1837" y="155"/>
                    </a:lnTo>
                    <a:lnTo>
                      <a:pt x="1839" y="155"/>
                    </a:lnTo>
                    <a:lnTo>
                      <a:pt x="1840" y="156"/>
                    </a:lnTo>
                    <a:lnTo>
                      <a:pt x="1841" y="157"/>
                    </a:lnTo>
                    <a:lnTo>
                      <a:pt x="1841" y="158"/>
                    </a:lnTo>
                    <a:lnTo>
                      <a:pt x="1846" y="158"/>
                    </a:lnTo>
                    <a:lnTo>
                      <a:pt x="1846" y="157"/>
                    </a:lnTo>
                    <a:lnTo>
                      <a:pt x="1847" y="156"/>
                    </a:lnTo>
                    <a:lnTo>
                      <a:pt x="1849" y="155"/>
                    </a:lnTo>
                    <a:lnTo>
                      <a:pt x="1850" y="155"/>
                    </a:lnTo>
                    <a:lnTo>
                      <a:pt x="1852" y="155"/>
                    </a:lnTo>
                    <a:lnTo>
                      <a:pt x="1854" y="156"/>
                    </a:lnTo>
                    <a:lnTo>
                      <a:pt x="1855" y="157"/>
                    </a:lnTo>
                    <a:lnTo>
                      <a:pt x="1855" y="158"/>
                    </a:lnTo>
                    <a:lnTo>
                      <a:pt x="1859" y="158"/>
                    </a:lnTo>
                    <a:lnTo>
                      <a:pt x="1860" y="157"/>
                    </a:lnTo>
                    <a:lnTo>
                      <a:pt x="1861" y="156"/>
                    </a:lnTo>
                    <a:lnTo>
                      <a:pt x="1862" y="155"/>
                    </a:lnTo>
                    <a:lnTo>
                      <a:pt x="1864" y="155"/>
                    </a:lnTo>
                    <a:lnTo>
                      <a:pt x="1866" y="155"/>
                    </a:lnTo>
                    <a:lnTo>
                      <a:pt x="1867" y="156"/>
                    </a:lnTo>
                    <a:lnTo>
                      <a:pt x="1868" y="157"/>
                    </a:lnTo>
                    <a:lnTo>
                      <a:pt x="1869" y="158"/>
                    </a:lnTo>
                    <a:lnTo>
                      <a:pt x="1974" y="158"/>
                    </a:lnTo>
                    <a:lnTo>
                      <a:pt x="1974" y="157"/>
                    </a:lnTo>
                    <a:lnTo>
                      <a:pt x="1975" y="156"/>
                    </a:lnTo>
                    <a:lnTo>
                      <a:pt x="1976" y="155"/>
                    </a:lnTo>
                    <a:lnTo>
                      <a:pt x="1978" y="155"/>
                    </a:lnTo>
                    <a:lnTo>
                      <a:pt x="1980" y="155"/>
                    </a:lnTo>
                    <a:lnTo>
                      <a:pt x="1981" y="156"/>
                    </a:lnTo>
                    <a:lnTo>
                      <a:pt x="1982" y="157"/>
                    </a:lnTo>
                    <a:lnTo>
                      <a:pt x="1983" y="158"/>
                    </a:lnTo>
                    <a:lnTo>
                      <a:pt x="2104" y="158"/>
                    </a:lnTo>
                    <a:lnTo>
                      <a:pt x="2105" y="157"/>
                    </a:lnTo>
                    <a:lnTo>
                      <a:pt x="2106" y="156"/>
                    </a:lnTo>
                    <a:lnTo>
                      <a:pt x="2107" y="155"/>
                    </a:lnTo>
                    <a:lnTo>
                      <a:pt x="2109" y="155"/>
                    </a:lnTo>
                    <a:lnTo>
                      <a:pt x="2111" y="155"/>
                    </a:lnTo>
                    <a:lnTo>
                      <a:pt x="2112" y="156"/>
                    </a:lnTo>
                    <a:lnTo>
                      <a:pt x="2113" y="157"/>
                    </a:lnTo>
                    <a:lnTo>
                      <a:pt x="2113" y="158"/>
                    </a:lnTo>
                    <a:lnTo>
                      <a:pt x="2130" y="158"/>
                    </a:lnTo>
                    <a:lnTo>
                      <a:pt x="2130" y="157"/>
                    </a:lnTo>
                    <a:lnTo>
                      <a:pt x="2131" y="156"/>
                    </a:lnTo>
                    <a:lnTo>
                      <a:pt x="2133" y="155"/>
                    </a:lnTo>
                    <a:lnTo>
                      <a:pt x="2134" y="155"/>
                    </a:lnTo>
                    <a:lnTo>
                      <a:pt x="2136" y="155"/>
                    </a:lnTo>
                    <a:lnTo>
                      <a:pt x="2137" y="156"/>
                    </a:lnTo>
                    <a:lnTo>
                      <a:pt x="2138" y="157"/>
                    </a:lnTo>
                    <a:lnTo>
                      <a:pt x="2139" y="158"/>
                    </a:lnTo>
                    <a:lnTo>
                      <a:pt x="2143" y="158"/>
                    </a:lnTo>
                    <a:lnTo>
                      <a:pt x="2144" y="157"/>
                    </a:lnTo>
                    <a:lnTo>
                      <a:pt x="2145" y="156"/>
                    </a:lnTo>
                    <a:lnTo>
                      <a:pt x="2146" y="155"/>
                    </a:lnTo>
                    <a:lnTo>
                      <a:pt x="2148" y="155"/>
                    </a:lnTo>
                    <a:lnTo>
                      <a:pt x="2149" y="155"/>
                    </a:lnTo>
                    <a:lnTo>
                      <a:pt x="2151" y="156"/>
                    </a:lnTo>
                    <a:lnTo>
                      <a:pt x="2152" y="157"/>
                    </a:lnTo>
                    <a:lnTo>
                      <a:pt x="2152" y="158"/>
                    </a:lnTo>
                    <a:lnTo>
                      <a:pt x="2157" y="158"/>
                    </a:lnTo>
                    <a:lnTo>
                      <a:pt x="2157" y="157"/>
                    </a:lnTo>
                    <a:lnTo>
                      <a:pt x="2158" y="156"/>
                    </a:lnTo>
                    <a:lnTo>
                      <a:pt x="2160" y="155"/>
                    </a:lnTo>
                    <a:lnTo>
                      <a:pt x="2161" y="155"/>
                    </a:lnTo>
                    <a:lnTo>
                      <a:pt x="2163" y="155"/>
                    </a:lnTo>
                    <a:lnTo>
                      <a:pt x="2164" y="156"/>
                    </a:lnTo>
                    <a:lnTo>
                      <a:pt x="2166" y="157"/>
                    </a:lnTo>
                    <a:lnTo>
                      <a:pt x="2166" y="158"/>
                    </a:lnTo>
                    <a:lnTo>
                      <a:pt x="2221" y="158"/>
                    </a:lnTo>
                    <a:lnTo>
                      <a:pt x="2221" y="157"/>
                    </a:lnTo>
                    <a:lnTo>
                      <a:pt x="2222" y="156"/>
                    </a:lnTo>
                    <a:lnTo>
                      <a:pt x="2224" y="155"/>
                    </a:lnTo>
                    <a:lnTo>
                      <a:pt x="2225" y="155"/>
                    </a:lnTo>
                    <a:lnTo>
                      <a:pt x="2227" y="155"/>
                    </a:lnTo>
                    <a:lnTo>
                      <a:pt x="2229" y="156"/>
                    </a:lnTo>
                    <a:lnTo>
                      <a:pt x="2230" y="157"/>
                    </a:lnTo>
                    <a:lnTo>
                      <a:pt x="2230" y="158"/>
                    </a:lnTo>
                    <a:lnTo>
                      <a:pt x="2260" y="158"/>
                    </a:lnTo>
                    <a:lnTo>
                      <a:pt x="2260" y="157"/>
                    </a:lnTo>
                    <a:lnTo>
                      <a:pt x="2261" y="156"/>
                    </a:lnTo>
                    <a:lnTo>
                      <a:pt x="2263" y="155"/>
                    </a:lnTo>
                    <a:lnTo>
                      <a:pt x="2264" y="155"/>
                    </a:lnTo>
                    <a:lnTo>
                      <a:pt x="2266" y="155"/>
                    </a:lnTo>
                    <a:lnTo>
                      <a:pt x="2267" y="156"/>
                    </a:lnTo>
                    <a:lnTo>
                      <a:pt x="2268" y="157"/>
                    </a:lnTo>
                    <a:lnTo>
                      <a:pt x="2269" y="158"/>
                    </a:lnTo>
                    <a:lnTo>
                      <a:pt x="2272" y="158"/>
                    </a:lnTo>
                    <a:lnTo>
                      <a:pt x="2272" y="157"/>
                    </a:lnTo>
                    <a:lnTo>
                      <a:pt x="2273" y="156"/>
                    </a:lnTo>
                    <a:lnTo>
                      <a:pt x="2274" y="155"/>
                    </a:lnTo>
                    <a:lnTo>
                      <a:pt x="2276" y="155"/>
                    </a:lnTo>
                    <a:lnTo>
                      <a:pt x="2278" y="155"/>
                    </a:lnTo>
                    <a:lnTo>
                      <a:pt x="2279" y="156"/>
                    </a:lnTo>
                    <a:lnTo>
                      <a:pt x="2280" y="157"/>
                    </a:lnTo>
                    <a:lnTo>
                      <a:pt x="2281" y="158"/>
                    </a:lnTo>
                    <a:lnTo>
                      <a:pt x="2317" y="158"/>
                    </a:lnTo>
                    <a:lnTo>
                      <a:pt x="2318" y="156"/>
                    </a:lnTo>
                    <a:lnTo>
                      <a:pt x="2319" y="155"/>
                    </a:lnTo>
                    <a:lnTo>
                      <a:pt x="2320" y="153"/>
                    </a:lnTo>
                    <a:lnTo>
                      <a:pt x="2322" y="152"/>
                    </a:lnTo>
                    <a:lnTo>
                      <a:pt x="2325" y="152"/>
                    </a:lnTo>
                    <a:lnTo>
                      <a:pt x="2327" y="152"/>
                    </a:lnTo>
                    <a:lnTo>
                      <a:pt x="2330" y="152"/>
                    </a:lnTo>
                    <a:lnTo>
                      <a:pt x="2332" y="153"/>
                    </a:lnTo>
                    <a:lnTo>
                      <a:pt x="2333" y="155"/>
                    </a:lnTo>
                    <a:lnTo>
                      <a:pt x="2334" y="156"/>
                    </a:lnTo>
                    <a:lnTo>
                      <a:pt x="2335" y="158"/>
                    </a:lnTo>
                    <a:lnTo>
                      <a:pt x="2337" y="158"/>
                    </a:lnTo>
                    <a:lnTo>
                      <a:pt x="2337" y="0"/>
                    </a:lnTo>
                    <a:lnTo>
                      <a:pt x="235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283720" y="3054240"/>
                <a:ext cx="12240" cy="13320"/>
              </a:xfrm>
              <a:custGeom>
                <a:avLst/>
                <a:gdLst/>
                <a:ahLst/>
                <a:rect l="l" t="t" r="r" b="b"/>
                <a:pathLst>
                  <a:path w="12" h="10">
                    <a:moveTo>
                      <a:pt x="0" y="9"/>
                    </a:moveTo>
                    <a:lnTo>
                      <a:pt x="6" y="0"/>
                    </a:lnTo>
                    <a:lnTo>
                      <a:pt x="12" y="9"/>
                    </a:lnTo>
                    <a:lnTo>
                      <a:pt x="9" y="9"/>
                    </a:lnTo>
                    <a:lnTo>
                      <a:pt x="6" y="10"/>
                    </a:lnTo>
                    <a:lnTo>
                      <a:pt x="3"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48" name=""/>
              <p:cNvSpPr/>
              <p:nvPr/>
            </p:nvSpPr>
            <p:spPr>
              <a:xfrm>
                <a:off x="5132160" y="3333240"/>
                <a:ext cx="1035360" cy="540720"/>
              </a:xfrm>
              <a:custGeom>
                <a:avLst/>
                <a:gdLst/>
                <a:ahLst/>
                <a:rect l="l" t="t" r="r" b="b"/>
                <a:pathLst>
                  <a:path w="978" h="405">
                    <a:moveTo>
                      <a:pt x="978" y="0"/>
                    </a:moveTo>
                    <a:lnTo>
                      <a:pt x="978" y="83"/>
                    </a:lnTo>
                    <a:lnTo>
                      <a:pt x="947" y="83"/>
                    </a:lnTo>
                    <a:lnTo>
                      <a:pt x="947" y="81"/>
                    </a:lnTo>
                    <a:lnTo>
                      <a:pt x="946" y="80"/>
                    </a:lnTo>
                    <a:lnTo>
                      <a:pt x="944" y="79"/>
                    </a:lnTo>
                    <a:lnTo>
                      <a:pt x="943" y="79"/>
                    </a:lnTo>
                    <a:lnTo>
                      <a:pt x="941" y="79"/>
                    </a:lnTo>
                    <a:lnTo>
                      <a:pt x="939" y="80"/>
                    </a:lnTo>
                    <a:lnTo>
                      <a:pt x="938" y="81"/>
                    </a:lnTo>
                    <a:lnTo>
                      <a:pt x="938" y="83"/>
                    </a:lnTo>
                    <a:lnTo>
                      <a:pt x="905" y="83"/>
                    </a:lnTo>
                    <a:lnTo>
                      <a:pt x="904" y="81"/>
                    </a:lnTo>
                    <a:lnTo>
                      <a:pt x="903" y="80"/>
                    </a:lnTo>
                    <a:lnTo>
                      <a:pt x="902" y="79"/>
                    </a:lnTo>
                    <a:lnTo>
                      <a:pt x="900" y="79"/>
                    </a:lnTo>
                    <a:lnTo>
                      <a:pt x="898" y="79"/>
                    </a:lnTo>
                    <a:lnTo>
                      <a:pt x="897" y="80"/>
                    </a:lnTo>
                    <a:lnTo>
                      <a:pt x="896" y="81"/>
                    </a:lnTo>
                    <a:lnTo>
                      <a:pt x="896" y="83"/>
                    </a:lnTo>
                    <a:lnTo>
                      <a:pt x="881" y="83"/>
                    </a:lnTo>
                    <a:lnTo>
                      <a:pt x="880" y="81"/>
                    </a:lnTo>
                    <a:lnTo>
                      <a:pt x="879" y="79"/>
                    </a:lnTo>
                    <a:lnTo>
                      <a:pt x="878" y="77"/>
                    </a:lnTo>
                    <a:lnTo>
                      <a:pt x="875" y="76"/>
                    </a:lnTo>
                    <a:lnTo>
                      <a:pt x="873" y="76"/>
                    </a:lnTo>
                    <a:lnTo>
                      <a:pt x="871" y="76"/>
                    </a:lnTo>
                    <a:lnTo>
                      <a:pt x="868" y="76"/>
                    </a:lnTo>
                    <a:lnTo>
                      <a:pt x="866" y="77"/>
                    </a:lnTo>
                    <a:lnTo>
                      <a:pt x="864" y="79"/>
                    </a:lnTo>
                    <a:lnTo>
                      <a:pt x="863" y="81"/>
                    </a:lnTo>
                    <a:lnTo>
                      <a:pt x="863" y="83"/>
                    </a:lnTo>
                    <a:lnTo>
                      <a:pt x="856" y="83"/>
                    </a:lnTo>
                    <a:lnTo>
                      <a:pt x="856" y="81"/>
                    </a:lnTo>
                    <a:lnTo>
                      <a:pt x="855" y="80"/>
                    </a:lnTo>
                    <a:lnTo>
                      <a:pt x="854" y="79"/>
                    </a:lnTo>
                    <a:lnTo>
                      <a:pt x="852" y="79"/>
                    </a:lnTo>
                    <a:lnTo>
                      <a:pt x="850" y="79"/>
                    </a:lnTo>
                    <a:lnTo>
                      <a:pt x="849" y="80"/>
                    </a:lnTo>
                    <a:lnTo>
                      <a:pt x="848" y="81"/>
                    </a:lnTo>
                    <a:lnTo>
                      <a:pt x="847" y="83"/>
                    </a:lnTo>
                    <a:lnTo>
                      <a:pt x="840" y="83"/>
                    </a:lnTo>
                    <a:lnTo>
                      <a:pt x="840" y="81"/>
                    </a:lnTo>
                    <a:lnTo>
                      <a:pt x="839" y="80"/>
                    </a:lnTo>
                    <a:lnTo>
                      <a:pt x="837" y="79"/>
                    </a:lnTo>
                    <a:lnTo>
                      <a:pt x="836" y="79"/>
                    </a:lnTo>
                    <a:lnTo>
                      <a:pt x="834" y="79"/>
                    </a:lnTo>
                    <a:lnTo>
                      <a:pt x="832" y="80"/>
                    </a:lnTo>
                    <a:lnTo>
                      <a:pt x="831" y="81"/>
                    </a:lnTo>
                    <a:lnTo>
                      <a:pt x="831" y="83"/>
                    </a:lnTo>
                    <a:lnTo>
                      <a:pt x="824" y="83"/>
                    </a:lnTo>
                    <a:lnTo>
                      <a:pt x="823" y="81"/>
                    </a:lnTo>
                    <a:lnTo>
                      <a:pt x="823" y="80"/>
                    </a:lnTo>
                    <a:lnTo>
                      <a:pt x="821" y="78"/>
                    </a:lnTo>
                    <a:lnTo>
                      <a:pt x="819" y="78"/>
                    </a:lnTo>
                    <a:lnTo>
                      <a:pt x="817" y="77"/>
                    </a:lnTo>
                    <a:lnTo>
                      <a:pt x="815" y="78"/>
                    </a:lnTo>
                    <a:lnTo>
                      <a:pt x="813" y="78"/>
                    </a:lnTo>
                    <a:lnTo>
                      <a:pt x="812" y="80"/>
                    </a:lnTo>
                    <a:lnTo>
                      <a:pt x="811" y="81"/>
                    </a:lnTo>
                    <a:lnTo>
                      <a:pt x="811" y="83"/>
                    </a:lnTo>
                    <a:lnTo>
                      <a:pt x="809" y="83"/>
                    </a:lnTo>
                    <a:lnTo>
                      <a:pt x="808" y="81"/>
                    </a:lnTo>
                    <a:lnTo>
                      <a:pt x="807" y="80"/>
                    </a:lnTo>
                    <a:lnTo>
                      <a:pt x="806" y="79"/>
                    </a:lnTo>
                    <a:lnTo>
                      <a:pt x="804" y="79"/>
                    </a:lnTo>
                    <a:lnTo>
                      <a:pt x="802" y="79"/>
                    </a:lnTo>
                    <a:lnTo>
                      <a:pt x="801" y="80"/>
                    </a:lnTo>
                    <a:lnTo>
                      <a:pt x="800" y="81"/>
                    </a:lnTo>
                    <a:lnTo>
                      <a:pt x="800" y="83"/>
                    </a:lnTo>
                    <a:lnTo>
                      <a:pt x="791" y="83"/>
                    </a:lnTo>
                    <a:lnTo>
                      <a:pt x="791" y="300"/>
                    </a:lnTo>
                    <a:lnTo>
                      <a:pt x="786" y="300"/>
                    </a:lnTo>
                    <a:lnTo>
                      <a:pt x="786" y="299"/>
                    </a:lnTo>
                    <a:lnTo>
                      <a:pt x="785" y="298"/>
                    </a:lnTo>
                    <a:lnTo>
                      <a:pt x="783" y="297"/>
                    </a:lnTo>
                    <a:lnTo>
                      <a:pt x="782" y="297"/>
                    </a:lnTo>
                    <a:lnTo>
                      <a:pt x="780" y="297"/>
                    </a:lnTo>
                    <a:lnTo>
                      <a:pt x="778" y="298"/>
                    </a:lnTo>
                    <a:lnTo>
                      <a:pt x="777" y="299"/>
                    </a:lnTo>
                    <a:lnTo>
                      <a:pt x="777" y="300"/>
                    </a:lnTo>
                    <a:lnTo>
                      <a:pt x="768" y="300"/>
                    </a:lnTo>
                    <a:lnTo>
                      <a:pt x="768" y="299"/>
                    </a:lnTo>
                    <a:lnTo>
                      <a:pt x="767" y="298"/>
                    </a:lnTo>
                    <a:lnTo>
                      <a:pt x="765" y="297"/>
                    </a:lnTo>
                    <a:lnTo>
                      <a:pt x="764" y="297"/>
                    </a:lnTo>
                    <a:lnTo>
                      <a:pt x="762" y="297"/>
                    </a:lnTo>
                    <a:lnTo>
                      <a:pt x="760" y="298"/>
                    </a:lnTo>
                    <a:lnTo>
                      <a:pt x="759" y="299"/>
                    </a:lnTo>
                    <a:lnTo>
                      <a:pt x="759" y="300"/>
                    </a:lnTo>
                    <a:lnTo>
                      <a:pt x="738" y="300"/>
                    </a:lnTo>
                    <a:lnTo>
                      <a:pt x="738" y="299"/>
                    </a:lnTo>
                    <a:lnTo>
                      <a:pt x="737" y="298"/>
                    </a:lnTo>
                    <a:lnTo>
                      <a:pt x="736" y="297"/>
                    </a:lnTo>
                    <a:lnTo>
                      <a:pt x="734" y="297"/>
                    </a:lnTo>
                    <a:lnTo>
                      <a:pt x="732" y="297"/>
                    </a:lnTo>
                    <a:lnTo>
                      <a:pt x="731" y="298"/>
                    </a:lnTo>
                    <a:lnTo>
                      <a:pt x="730" y="299"/>
                    </a:lnTo>
                    <a:lnTo>
                      <a:pt x="729" y="300"/>
                    </a:lnTo>
                    <a:lnTo>
                      <a:pt x="711" y="300"/>
                    </a:lnTo>
                    <a:lnTo>
                      <a:pt x="710" y="299"/>
                    </a:lnTo>
                    <a:lnTo>
                      <a:pt x="709" y="298"/>
                    </a:lnTo>
                    <a:lnTo>
                      <a:pt x="708" y="297"/>
                    </a:lnTo>
                    <a:lnTo>
                      <a:pt x="706" y="297"/>
                    </a:lnTo>
                    <a:lnTo>
                      <a:pt x="704" y="297"/>
                    </a:lnTo>
                    <a:lnTo>
                      <a:pt x="703" y="298"/>
                    </a:lnTo>
                    <a:lnTo>
                      <a:pt x="702" y="299"/>
                    </a:lnTo>
                    <a:lnTo>
                      <a:pt x="702" y="300"/>
                    </a:lnTo>
                    <a:lnTo>
                      <a:pt x="691" y="300"/>
                    </a:lnTo>
                    <a:lnTo>
                      <a:pt x="690" y="299"/>
                    </a:lnTo>
                    <a:lnTo>
                      <a:pt x="689" y="298"/>
                    </a:lnTo>
                    <a:lnTo>
                      <a:pt x="688" y="297"/>
                    </a:lnTo>
                    <a:lnTo>
                      <a:pt x="686" y="297"/>
                    </a:lnTo>
                    <a:lnTo>
                      <a:pt x="684" y="297"/>
                    </a:lnTo>
                    <a:lnTo>
                      <a:pt x="683" y="298"/>
                    </a:lnTo>
                    <a:lnTo>
                      <a:pt x="682" y="299"/>
                    </a:lnTo>
                    <a:lnTo>
                      <a:pt x="682" y="300"/>
                    </a:lnTo>
                    <a:lnTo>
                      <a:pt x="669" y="300"/>
                    </a:lnTo>
                    <a:lnTo>
                      <a:pt x="669" y="299"/>
                    </a:lnTo>
                    <a:lnTo>
                      <a:pt x="668" y="298"/>
                    </a:lnTo>
                    <a:lnTo>
                      <a:pt x="666" y="297"/>
                    </a:lnTo>
                    <a:lnTo>
                      <a:pt x="664" y="297"/>
                    </a:lnTo>
                    <a:lnTo>
                      <a:pt x="663" y="297"/>
                    </a:lnTo>
                    <a:lnTo>
                      <a:pt x="661" y="298"/>
                    </a:lnTo>
                    <a:lnTo>
                      <a:pt x="660" y="299"/>
                    </a:lnTo>
                    <a:lnTo>
                      <a:pt x="660" y="300"/>
                    </a:lnTo>
                    <a:lnTo>
                      <a:pt x="646" y="300"/>
                    </a:lnTo>
                    <a:lnTo>
                      <a:pt x="645" y="299"/>
                    </a:lnTo>
                    <a:lnTo>
                      <a:pt x="644" y="298"/>
                    </a:lnTo>
                    <a:lnTo>
                      <a:pt x="643" y="297"/>
                    </a:lnTo>
                    <a:lnTo>
                      <a:pt x="641" y="297"/>
                    </a:lnTo>
                    <a:lnTo>
                      <a:pt x="639" y="297"/>
                    </a:lnTo>
                    <a:lnTo>
                      <a:pt x="638" y="298"/>
                    </a:lnTo>
                    <a:lnTo>
                      <a:pt x="637" y="299"/>
                    </a:lnTo>
                    <a:lnTo>
                      <a:pt x="637" y="300"/>
                    </a:lnTo>
                    <a:lnTo>
                      <a:pt x="627" y="300"/>
                    </a:lnTo>
                    <a:lnTo>
                      <a:pt x="627" y="299"/>
                    </a:lnTo>
                    <a:lnTo>
                      <a:pt x="626" y="298"/>
                    </a:lnTo>
                    <a:lnTo>
                      <a:pt x="624" y="297"/>
                    </a:lnTo>
                    <a:lnTo>
                      <a:pt x="623" y="297"/>
                    </a:lnTo>
                    <a:lnTo>
                      <a:pt x="621" y="297"/>
                    </a:lnTo>
                    <a:lnTo>
                      <a:pt x="619" y="298"/>
                    </a:lnTo>
                    <a:lnTo>
                      <a:pt x="619" y="299"/>
                    </a:lnTo>
                    <a:lnTo>
                      <a:pt x="618" y="300"/>
                    </a:lnTo>
                    <a:lnTo>
                      <a:pt x="565" y="300"/>
                    </a:lnTo>
                    <a:lnTo>
                      <a:pt x="564" y="299"/>
                    </a:lnTo>
                    <a:lnTo>
                      <a:pt x="563" y="298"/>
                    </a:lnTo>
                    <a:lnTo>
                      <a:pt x="562" y="297"/>
                    </a:lnTo>
                    <a:lnTo>
                      <a:pt x="560" y="297"/>
                    </a:lnTo>
                    <a:lnTo>
                      <a:pt x="558" y="297"/>
                    </a:lnTo>
                    <a:lnTo>
                      <a:pt x="557" y="298"/>
                    </a:lnTo>
                    <a:lnTo>
                      <a:pt x="556" y="299"/>
                    </a:lnTo>
                    <a:lnTo>
                      <a:pt x="556" y="300"/>
                    </a:lnTo>
                    <a:lnTo>
                      <a:pt x="530" y="300"/>
                    </a:lnTo>
                    <a:lnTo>
                      <a:pt x="530" y="299"/>
                    </a:lnTo>
                    <a:lnTo>
                      <a:pt x="529" y="298"/>
                    </a:lnTo>
                    <a:lnTo>
                      <a:pt x="527" y="297"/>
                    </a:lnTo>
                    <a:lnTo>
                      <a:pt x="525" y="297"/>
                    </a:lnTo>
                    <a:lnTo>
                      <a:pt x="524" y="297"/>
                    </a:lnTo>
                    <a:lnTo>
                      <a:pt x="522" y="298"/>
                    </a:lnTo>
                    <a:lnTo>
                      <a:pt x="521" y="299"/>
                    </a:lnTo>
                    <a:lnTo>
                      <a:pt x="521" y="300"/>
                    </a:lnTo>
                    <a:lnTo>
                      <a:pt x="502" y="300"/>
                    </a:lnTo>
                    <a:lnTo>
                      <a:pt x="502" y="299"/>
                    </a:lnTo>
                    <a:lnTo>
                      <a:pt x="501" y="298"/>
                    </a:lnTo>
                    <a:lnTo>
                      <a:pt x="499" y="297"/>
                    </a:lnTo>
                    <a:lnTo>
                      <a:pt x="498" y="297"/>
                    </a:lnTo>
                    <a:lnTo>
                      <a:pt x="496" y="297"/>
                    </a:lnTo>
                    <a:lnTo>
                      <a:pt x="494" y="298"/>
                    </a:lnTo>
                    <a:lnTo>
                      <a:pt x="494" y="299"/>
                    </a:lnTo>
                    <a:lnTo>
                      <a:pt x="493" y="300"/>
                    </a:lnTo>
                    <a:lnTo>
                      <a:pt x="460" y="300"/>
                    </a:lnTo>
                    <a:lnTo>
                      <a:pt x="460" y="299"/>
                    </a:lnTo>
                    <a:lnTo>
                      <a:pt x="459" y="298"/>
                    </a:lnTo>
                    <a:lnTo>
                      <a:pt x="458" y="297"/>
                    </a:lnTo>
                    <a:lnTo>
                      <a:pt x="456" y="297"/>
                    </a:lnTo>
                    <a:lnTo>
                      <a:pt x="454" y="297"/>
                    </a:lnTo>
                    <a:lnTo>
                      <a:pt x="453" y="298"/>
                    </a:lnTo>
                    <a:lnTo>
                      <a:pt x="452" y="299"/>
                    </a:lnTo>
                    <a:lnTo>
                      <a:pt x="451" y="300"/>
                    </a:lnTo>
                    <a:lnTo>
                      <a:pt x="398" y="300"/>
                    </a:lnTo>
                    <a:lnTo>
                      <a:pt x="398" y="299"/>
                    </a:lnTo>
                    <a:lnTo>
                      <a:pt x="397" y="298"/>
                    </a:lnTo>
                    <a:lnTo>
                      <a:pt x="395" y="297"/>
                    </a:lnTo>
                    <a:lnTo>
                      <a:pt x="393" y="297"/>
                    </a:lnTo>
                    <a:lnTo>
                      <a:pt x="392" y="297"/>
                    </a:lnTo>
                    <a:lnTo>
                      <a:pt x="390" y="298"/>
                    </a:lnTo>
                    <a:lnTo>
                      <a:pt x="389" y="299"/>
                    </a:lnTo>
                    <a:lnTo>
                      <a:pt x="389" y="300"/>
                    </a:lnTo>
                    <a:lnTo>
                      <a:pt x="357" y="300"/>
                    </a:lnTo>
                    <a:lnTo>
                      <a:pt x="356" y="299"/>
                    </a:lnTo>
                    <a:lnTo>
                      <a:pt x="356" y="298"/>
                    </a:lnTo>
                    <a:lnTo>
                      <a:pt x="354" y="297"/>
                    </a:lnTo>
                    <a:lnTo>
                      <a:pt x="352" y="297"/>
                    </a:lnTo>
                    <a:lnTo>
                      <a:pt x="351" y="297"/>
                    </a:lnTo>
                    <a:lnTo>
                      <a:pt x="349" y="298"/>
                    </a:lnTo>
                    <a:lnTo>
                      <a:pt x="348" y="299"/>
                    </a:lnTo>
                    <a:lnTo>
                      <a:pt x="348" y="300"/>
                    </a:lnTo>
                    <a:lnTo>
                      <a:pt x="333" y="300"/>
                    </a:lnTo>
                    <a:lnTo>
                      <a:pt x="333" y="298"/>
                    </a:lnTo>
                    <a:lnTo>
                      <a:pt x="332" y="297"/>
                    </a:lnTo>
                    <a:lnTo>
                      <a:pt x="331" y="295"/>
                    </a:lnTo>
                    <a:lnTo>
                      <a:pt x="329" y="294"/>
                    </a:lnTo>
                    <a:lnTo>
                      <a:pt x="326" y="294"/>
                    </a:lnTo>
                    <a:lnTo>
                      <a:pt x="324" y="294"/>
                    </a:lnTo>
                    <a:lnTo>
                      <a:pt x="322" y="294"/>
                    </a:lnTo>
                    <a:lnTo>
                      <a:pt x="320" y="295"/>
                    </a:lnTo>
                    <a:lnTo>
                      <a:pt x="318" y="297"/>
                    </a:lnTo>
                    <a:lnTo>
                      <a:pt x="317" y="298"/>
                    </a:lnTo>
                    <a:lnTo>
                      <a:pt x="317" y="300"/>
                    </a:lnTo>
                    <a:lnTo>
                      <a:pt x="313" y="300"/>
                    </a:lnTo>
                    <a:lnTo>
                      <a:pt x="312" y="298"/>
                    </a:lnTo>
                    <a:lnTo>
                      <a:pt x="311" y="297"/>
                    </a:lnTo>
                    <a:lnTo>
                      <a:pt x="310" y="295"/>
                    </a:lnTo>
                    <a:lnTo>
                      <a:pt x="307" y="294"/>
                    </a:lnTo>
                    <a:lnTo>
                      <a:pt x="305" y="294"/>
                    </a:lnTo>
                    <a:lnTo>
                      <a:pt x="303" y="294"/>
                    </a:lnTo>
                    <a:lnTo>
                      <a:pt x="300" y="294"/>
                    </a:lnTo>
                    <a:lnTo>
                      <a:pt x="298" y="295"/>
                    </a:lnTo>
                    <a:lnTo>
                      <a:pt x="297" y="297"/>
                    </a:lnTo>
                    <a:lnTo>
                      <a:pt x="296" y="298"/>
                    </a:lnTo>
                    <a:lnTo>
                      <a:pt x="295" y="300"/>
                    </a:lnTo>
                    <a:lnTo>
                      <a:pt x="293" y="300"/>
                    </a:lnTo>
                    <a:lnTo>
                      <a:pt x="293" y="299"/>
                    </a:lnTo>
                    <a:lnTo>
                      <a:pt x="292" y="298"/>
                    </a:lnTo>
                    <a:lnTo>
                      <a:pt x="291" y="297"/>
                    </a:lnTo>
                    <a:lnTo>
                      <a:pt x="289" y="297"/>
                    </a:lnTo>
                    <a:lnTo>
                      <a:pt x="287" y="297"/>
                    </a:lnTo>
                    <a:lnTo>
                      <a:pt x="286" y="298"/>
                    </a:lnTo>
                    <a:lnTo>
                      <a:pt x="285" y="299"/>
                    </a:lnTo>
                    <a:lnTo>
                      <a:pt x="285" y="300"/>
                    </a:lnTo>
                    <a:lnTo>
                      <a:pt x="284" y="300"/>
                    </a:lnTo>
                    <a:lnTo>
                      <a:pt x="284" y="299"/>
                    </a:lnTo>
                    <a:lnTo>
                      <a:pt x="283" y="298"/>
                    </a:lnTo>
                    <a:lnTo>
                      <a:pt x="281" y="297"/>
                    </a:lnTo>
                    <a:lnTo>
                      <a:pt x="279" y="297"/>
                    </a:lnTo>
                    <a:lnTo>
                      <a:pt x="278" y="297"/>
                    </a:lnTo>
                    <a:lnTo>
                      <a:pt x="276" y="298"/>
                    </a:lnTo>
                    <a:lnTo>
                      <a:pt x="275" y="299"/>
                    </a:lnTo>
                    <a:lnTo>
                      <a:pt x="275" y="300"/>
                    </a:lnTo>
                    <a:lnTo>
                      <a:pt x="273" y="300"/>
                    </a:lnTo>
                    <a:lnTo>
                      <a:pt x="273" y="299"/>
                    </a:lnTo>
                    <a:lnTo>
                      <a:pt x="271" y="298"/>
                    </a:lnTo>
                    <a:lnTo>
                      <a:pt x="270" y="297"/>
                    </a:lnTo>
                    <a:lnTo>
                      <a:pt x="268" y="297"/>
                    </a:lnTo>
                    <a:lnTo>
                      <a:pt x="267" y="297"/>
                    </a:lnTo>
                    <a:lnTo>
                      <a:pt x="265" y="298"/>
                    </a:lnTo>
                    <a:lnTo>
                      <a:pt x="264" y="299"/>
                    </a:lnTo>
                    <a:lnTo>
                      <a:pt x="264" y="300"/>
                    </a:lnTo>
                    <a:lnTo>
                      <a:pt x="253" y="300"/>
                    </a:lnTo>
                    <a:lnTo>
                      <a:pt x="253" y="299"/>
                    </a:lnTo>
                    <a:lnTo>
                      <a:pt x="252" y="298"/>
                    </a:lnTo>
                    <a:lnTo>
                      <a:pt x="250" y="297"/>
                    </a:lnTo>
                    <a:lnTo>
                      <a:pt x="248" y="297"/>
                    </a:lnTo>
                    <a:lnTo>
                      <a:pt x="247" y="297"/>
                    </a:lnTo>
                    <a:lnTo>
                      <a:pt x="245" y="298"/>
                    </a:lnTo>
                    <a:lnTo>
                      <a:pt x="244" y="299"/>
                    </a:lnTo>
                    <a:lnTo>
                      <a:pt x="244" y="300"/>
                    </a:lnTo>
                    <a:lnTo>
                      <a:pt x="241" y="300"/>
                    </a:lnTo>
                    <a:lnTo>
                      <a:pt x="241" y="299"/>
                    </a:lnTo>
                    <a:lnTo>
                      <a:pt x="240" y="298"/>
                    </a:lnTo>
                    <a:lnTo>
                      <a:pt x="238" y="297"/>
                    </a:lnTo>
                    <a:lnTo>
                      <a:pt x="237" y="297"/>
                    </a:lnTo>
                    <a:lnTo>
                      <a:pt x="235" y="297"/>
                    </a:lnTo>
                    <a:lnTo>
                      <a:pt x="233" y="298"/>
                    </a:lnTo>
                    <a:lnTo>
                      <a:pt x="233" y="299"/>
                    </a:lnTo>
                    <a:lnTo>
                      <a:pt x="232" y="300"/>
                    </a:lnTo>
                    <a:lnTo>
                      <a:pt x="228" y="300"/>
                    </a:lnTo>
                    <a:lnTo>
                      <a:pt x="227" y="299"/>
                    </a:lnTo>
                    <a:lnTo>
                      <a:pt x="226" y="298"/>
                    </a:lnTo>
                    <a:lnTo>
                      <a:pt x="225" y="297"/>
                    </a:lnTo>
                    <a:lnTo>
                      <a:pt x="223" y="297"/>
                    </a:lnTo>
                    <a:lnTo>
                      <a:pt x="221" y="297"/>
                    </a:lnTo>
                    <a:lnTo>
                      <a:pt x="220" y="298"/>
                    </a:lnTo>
                    <a:lnTo>
                      <a:pt x="219" y="299"/>
                    </a:lnTo>
                    <a:lnTo>
                      <a:pt x="219" y="300"/>
                    </a:lnTo>
                    <a:lnTo>
                      <a:pt x="215" y="300"/>
                    </a:lnTo>
                    <a:lnTo>
                      <a:pt x="215" y="299"/>
                    </a:lnTo>
                    <a:lnTo>
                      <a:pt x="214" y="298"/>
                    </a:lnTo>
                    <a:lnTo>
                      <a:pt x="212" y="297"/>
                    </a:lnTo>
                    <a:lnTo>
                      <a:pt x="211" y="297"/>
                    </a:lnTo>
                    <a:lnTo>
                      <a:pt x="209" y="297"/>
                    </a:lnTo>
                    <a:lnTo>
                      <a:pt x="207" y="298"/>
                    </a:lnTo>
                    <a:lnTo>
                      <a:pt x="206" y="299"/>
                    </a:lnTo>
                    <a:lnTo>
                      <a:pt x="206" y="300"/>
                    </a:lnTo>
                    <a:lnTo>
                      <a:pt x="187" y="300"/>
                    </a:lnTo>
                    <a:lnTo>
                      <a:pt x="187" y="299"/>
                    </a:lnTo>
                    <a:lnTo>
                      <a:pt x="186" y="298"/>
                    </a:lnTo>
                    <a:lnTo>
                      <a:pt x="184" y="297"/>
                    </a:lnTo>
                    <a:lnTo>
                      <a:pt x="183" y="297"/>
                    </a:lnTo>
                    <a:lnTo>
                      <a:pt x="181" y="297"/>
                    </a:lnTo>
                    <a:lnTo>
                      <a:pt x="179" y="298"/>
                    </a:lnTo>
                    <a:lnTo>
                      <a:pt x="178" y="299"/>
                    </a:lnTo>
                    <a:lnTo>
                      <a:pt x="178" y="300"/>
                    </a:lnTo>
                    <a:lnTo>
                      <a:pt x="160" y="300"/>
                    </a:lnTo>
                    <a:lnTo>
                      <a:pt x="160" y="299"/>
                    </a:lnTo>
                    <a:lnTo>
                      <a:pt x="159" y="298"/>
                    </a:lnTo>
                    <a:lnTo>
                      <a:pt x="157" y="297"/>
                    </a:lnTo>
                    <a:lnTo>
                      <a:pt x="156" y="297"/>
                    </a:lnTo>
                    <a:lnTo>
                      <a:pt x="154" y="297"/>
                    </a:lnTo>
                    <a:lnTo>
                      <a:pt x="152" y="298"/>
                    </a:lnTo>
                    <a:lnTo>
                      <a:pt x="151" y="299"/>
                    </a:lnTo>
                    <a:lnTo>
                      <a:pt x="151" y="300"/>
                    </a:lnTo>
                    <a:lnTo>
                      <a:pt x="125" y="300"/>
                    </a:lnTo>
                    <a:lnTo>
                      <a:pt x="125" y="405"/>
                    </a:lnTo>
                    <a:lnTo>
                      <a:pt x="99" y="405"/>
                    </a:lnTo>
                    <a:lnTo>
                      <a:pt x="99" y="403"/>
                    </a:lnTo>
                    <a:lnTo>
                      <a:pt x="98" y="402"/>
                    </a:lnTo>
                    <a:lnTo>
                      <a:pt x="96" y="401"/>
                    </a:lnTo>
                    <a:lnTo>
                      <a:pt x="95" y="401"/>
                    </a:lnTo>
                    <a:lnTo>
                      <a:pt x="93" y="401"/>
                    </a:lnTo>
                    <a:lnTo>
                      <a:pt x="91" y="402"/>
                    </a:lnTo>
                    <a:lnTo>
                      <a:pt x="90" y="403"/>
                    </a:lnTo>
                    <a:lnTo>
                      <a:pt x="90" y="405"/>
                    </a:lnTo>
                    <a:lnTo>
                      <a:pt x="52" y="405"/>
                    </a:lnTo>
                    <a:lnTo>
                      <a:pt x="52" y="403"/>
                    </a:lnTo>
                    <a:lnTo>
                      <a:pt x="51" y="402"/>
                    </a:lnTo>
                    <a:lnTo>
                      <a:pt x="49" y="401"/>
                    </a:lnTo>
                    <a:lnTo>
                      <a:pt x="48" y="401"/>
                    </a:lnTo>
                    <a:lnTo>
                      <a:pt x="46" y="401"/>
                    </a:lnTo>
                    <a:lnTo>
                      <a:pt x="44" y="402"/>
                    </a:lnTo>
                    <a:lnTo>
                      <a:pt x="43" y="403"/>
                    </a:lnTo>
                    <a:lnTo>
                      <a:pt x="43" y="405"/>
                    </a:lnTo>
                    <a:lnTo>
                      <a:pt x="37" y="405"/>
                    </a:lnTo>
                    <a:lnTo>
                      <a:pt x="36" y="403"/>
                    </a:lnTo>
                    <a:lnTo>
                      <a:pt x="35" y="402"/>
                    </a:lnTo>
                    <a:lnTo>
                      <a:pt x="34" y="401"/>
                    </a:lnTo>
                    <a:lnTo>
                      <a:pt x="32" y="401"/>
                    </a:lnTo>
                    <a:lnTo>
                      <a:pt x="31" y="401"/>
                    </a:lnTo>
                    <a:lnTo>
                      <a:pt x="29" y="402"/>
                    </a:lnTo>
                    <a:lnTo>
                      <a:pt x="28" y="403"/>
                    </a:lnTo>
                    <a:lnTo>
                      <a:pt x="28" y="405"/>
                    </a:lnTo>
                    <a:lnTo>
                      <a:pt x="12" y="405"/>
                    </a:lnTo>
                    <a:lnTo>
                      <a:pt x="11" y="403"/>
                    </a:lnTo>
                    <a:lnTo>
                      <a:pt x="10" y="402"/>
                    </a:lnTo>
                    <a:lnTo>
                      <a:pt x="9" y="401"/>
                    </a:lnTo>
                    <a:lnTo>
                      <a:pt x="7" y="401"/>
                    </a:lnTo>
                    <a:lnTo>
                      <a:pt x="5" y="401"/>
                    </a:lnTo>
                    <a:lnTo>
                      <a:pt x="4" y="402"/>
                    </a:lnTo>
                    <a:lnTo>
                      <a:pt x="3" y="403"/>
                    </a:lnTo>
                    <a:lnTo>
                      <a:pt x="3" y="405"/>
                    </a:lnTo>
                    <a:lnTo>
                      <a:pt x="0" y="4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6161040" y="332100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0" name=""/>
              <p:cNvSpPr/>
              <p:nvPr/>
            </p:nvSpPr>
            <p:spPr>
              <a:xfrm>
                <a:off x="4304520" y="3760560"/>
                <a:ext cx="517320" cy="68040"/>
              </a:xfrm>
              <a:custGeom>
                <a:avLst/>
                <a:gdLst/>
                <a:ahLst/>
                <a:rect l="l" t="t" r="r" b="b"/>
                <a:pathLst>
                  <a:path w="489" h="51">
                    <a:moveTo>
                      <a:pt x="0" y="9"/>
                    </a:moveTo>
                    <a:lnTo>
                      <a:pt x="9" y="9"/>
                    </a:lnTo>
                    <a:lnTo>
                      <a:pt x="9" y="8"/>
                    </a:lnTo>
                    <a:lnTo>
                      <a:pt x="10" y="7"/>
                    </a:lnTo>
                    <a:lnTo>
                      <a:pt x="12" y="6"/>
                    </a:lnTo>
                    <a:lnTo>
                      <a:pt x="14" y="6"/>
                    </a:lnTo>
                    <a:lnTo>
                      <a:pt x="15" y="6"/>
                    </a:lnTo>
                    <a:lnTo>
                      <a:pt x="17" y="7"/>
                    </a:lnTo>
                    <a:lnTo>
                      <a:pt x="18" y="8"/>
                    </a:lnTo>
                    <a:lnTo>
                      <a:pt x="18" y="9"/>
                    </a:lnTo>
                    <a:lnTo>
                      <a:pt x="35" y="9"/>
                    </a:lnTo>
                    <a:lnTo>
                      <a:pt x="35" y="7"/>
                    </a:lnTo>
                    <a:lnTo>
                      <a:pt x="36" y="5"/>
                    </a:lnTo>
                    <a:lnTo>
                      <a:pt x="38" y="3"/>
                    </a:lnTo>
                    <a:lnTo>
                      <a:pt x="40" y="2"/>
                    </a:lnTo>
                    <a:lnTo>
                      <a:pt x="42" y="1"/>
                    </a:lnTo>
                    <a:lnTo>
                      <a:pt x="45" y="0"/>
                    </a:lnTo>
                    <a:lnTo>
                      <a:pt x="47" y="0"/>
                    </a:lnTo>
                    <a:lnTo>
                      <a:pt x="50" y="1"/>
                    </a:lnTo>
                    <a:lnTo>
                      <a:pt x="52" y="2"/>
                    </a:lnTo>
                    <a:lnTo>
                      <a:pt x="55" y="3"/>
                    </a:lnTo>
                    <a:lnTo>
                      <a:pt x="56" y="5"/>
                    </a:lnTo>
                    <a:lnTo>
                      <a:pt x="57" y="7"/>
                    </a:lnTo>
                    <a:lnTo>
                      <a:pt x="57" y="9"/>
                    </a:lnTo>
                    <a:lnTo>
                      <a:pt x="62" y="9"/>
                    </a:lnTo>
                    <a:lnTo>
                      <a:pt x="62" y="7"/>
                    </a:lnTo>
                    <a:lnTo>
                      <a:pt x="63" y="5"/>
                    </a:lnTo>
                    <a:lnTo>
                      <a:pt x="64" y="3"/>
                    </a:lnTo>
                    <a:lnTo>
                      <a:pt x="66" y="2"/>
                    </a:lnTo>
                    <a:lnTo>
                      <a:pt x="69" y="1"/>
                    </a:lnTo>
                    <a:lnTo>
                      <a:pt x="72" y="0"/>
                    </a:lnTo>
                    <a:lnTo>
                      <a:pt x="74" y="0"/>
                    </a:lnTo>
                    <a:lnTo>
                      <a:pt x="77" y="1"/>
                    </a:lnTo>
                    <a:lnTo>
                      <a:pt x="79" y="2"/>
                    </a:lnTo>
                    <a:lnTo>
                      <a:pt x="82" y="3"/>
                    </a:lnTo>
                    <a:lnTo>
                      <a:pt x="83" y="5"/>
                    </a:lnTo>
                    <a:lnTo>
                      <a:pt x="84" y="7"/>
                    </a:lnTo>
                    <a:lnTo>
                      <a:pt x="84" y="9"/>
                    </a:lnTo>
                    <a:lnTo>
                      <a:pt x="102" y="9"/>
                    </a:lnTo>
                    <a:lnTo>
                      <a:pt x="103" y="8"/>
                    </a:lnTo>
                    <a:lnTo>
                      <a:pt x="104" y="7"/>
                    </a:lnTo>
                    <a:lnTo>
                      <a:pt x="105" y="6"/>
                    </a:lnTo>
                    <a:lnTo>
                      <a:pt x="107" y="6"/>
                    </a:lnTo>
                    <a:lnTo>
                      <a:pt x="109" y="6"/>
                    </a:lnTo>
                    <a:lnTo>
                      <a:pt x="110" y="7"/>
                    </a:lnTo>
                    <a:lnTo>
                      <a:pt x="111" y="8"/>
                    </a:lnTo>
                    <a:lnTo>
                      <a:pt x="111" y="9"/>
                    </a:lnTo>
                    <a:lnTo>
                      <a:pt x="167" y="9"/>
                    </a:lnTo>
                    <a:lnTo>
                      <a:pt x="168" y="8"/>
                    </a:lnTo>
                    <a:lnTo>
                      <a:pt x="169" y="7"/>
                    </a:lnTo>
                    <a:lnTo>
                      <a:pt x="170" y="6"/>
                    </a:lnTo>
                    <a:lnTo>
                      <a:pt x="172" y="6"/>
                    </a:lnTo>
                    <a:lnTo>
                      <a:pt x="173" y="6"/>
                    </a:lnTo>
                    <a:lnTo>
                      <a:pt x="175" y="7"/>
                    </a:lnTo>
                    <a:lnTo>
                      <a:pt x="176" y="8"/>
                    </a:lnTo>
                    <a:lnTo>
                      <a:pt x="176" y="9"/>
                    </a:lnTo>
                    <a:lnTo>
                      <a:pt x="214" y="9"/>
                    </a:lnTo>
                    <a:lnTo>
                      <a:pt x="214" y="8"/>
                    </a:lnTo>
                    <a:lnTo>
                      <a:pt x="215" y="7"/>
                    </a:lnTo>
                    <a:lnTo>
                      <a:pt x="217" y="6"/>
                    </a:lnTo>
                    <a:lnTo>
                      <a:pt x="218" y="6"/>
                    </a:lnTo>
                    <a:lnTo>
                      <a:pt x="220" y="6"/>
                    </a:lnTo>
                    <a:lnTo>
                      <a:pt x="221" y="7"/>
                    </a:lnTo>
                    <a:lnTo>
                      <a:pt x="222" y="8"/>
                    </a:lnTo>
                    <a:lnTo>
                      <a:pt x="223" y="9"/>
                    </a:lnTo>
                    <a:lnTo>
                      <a:pt x="331" y="9"/>
                    </a:lnTo>
                    <a:lnTo>
                      <a:pt x="332" y="7"/>
                    </a:lnTo>
                    <a:lnTo>
                      <a:pt x="333" y="6"/>
                    </a:lnTo>
                    <a:lnTo>
                      <a:pt x="334" y="4"/>
                    </a:lnTo>
                    <a:lnTo>
                      <a:pt x="336" y="3"/>
                    </a:lnTo>
                    <a:lnTo>
                      <a:pt x="338" y="3"/>
                    </a:lnTo>
                    <a:lnTo>
                      <a:pt x="341" y="3"/>
                    </a:lnTo>
                    <a:lnTo>
                      <a:pt x="343" y="3"/>
                    </a:lnTo>
                    <a:lnTo>
                      <a:pt x="345" y="4"/>
                    </a:lnTo>
                    <a:lnTo>
                      <a:pt x="346" y="6"/>
                    </a:lnTo>
                    <a:lnTo>
                      <a:pt x="347" y="7"/>
                    </a:lnTo>
                    <a:lnTo>
                      <a:pt x="348" y="9"/>
                    </a:lnTo>
                    <a:lnTo>
                      <a:pt x="369" y="9"/>
                    </a:lnTo>
                    <a:lnTo>
                      <a:pt x="370" y="8"/>
                    </a:lnTo>
                    <a:lnTo>
                      <a:pt x="370" y="7"/>
                    </a:lnTo>
                    <a:lnTo>
                      <a:pt x="372" y="6"/>
                    </a:lnTo>
                    <a:lnTo>
                      <a:pt x="374" y="6"/>
                    </a:lnTo>
                    <a:lnTo>
                      <a:pt x="375" y="6"/>
                    </a:lnTo>
                    <a:lnTo>
                      <a:pt x="377" y="7"/>
                    </a:lnTo>
                    <a:lnTo>
                      <a:pt x="378" y="8"/>
                    </a:lnTo>
                    <a:lnTo>
                      <a:pt x="378" y="9"/>
                    </a:lnTo>
                    <a:lnTo>
                      <a:pt x="379" y="9"/>
                    </a:lnTo>
                    <a:lnTo>
                      <a:pt x="380" y="8"/>
                    </a:lnTo>
                    <a:lnTo>
                      <a:pt x="381" y="7"/>
                    </a:lnTo>
                    <a:lnTo>
                      <a:pt x="382" y="6"/>
                    </a:lnTo>
                    <a:lnTo>
                      <a:pt x="384" y="6"/>
                    </a:lnTo>
                    <a:lnTo>
                      <a:pt x="385" y="6"/>
                    </a:lnTo>
                    <a:lnTo>
                      <a:pt x="387" y="7"/>
                    </a:lnTo>
                    <a:lnTo>
                      <a:pt x="388" y="8"/>
                    </a:lnTo>
                    <a:lnTo>
                      <a:pt x="388" y="9"/>
                    </a:lnTo>
                    <a:lnTo>
                      <a:pt x="400" y="9"/>
                    </a:lnTo>
                    <a:lnTo>
                      <a:pt x="401" y="8"/>
                    </a:lnTo>
                    <a:lnTo>
                      <a:pt x="402" y="7"/>
                    </a:lnTo>
                    <a:lnTo>
                      <a:pt x="403" y="6"/>
                    </a:lnTo>
                    <a:lnTo>
                      <a:pt x="405" y="6"/>
                    </a:lnTo>
                    <a:lnTo>
                      <a:pt x="407" y="6"/>
                    </a:lnTo>
                    <a:lnTo>
                      <a:pt x="408" y="7"/>
                    </a:lnTo>
                    <a:lnTo>
                      <a:pt x="409" y="8"/>
                    </a:lnTo>
                    <a:lnTo>
                      <a:pt x="409" y="9"/>
                    </a:lnTo>
                    <a:lnTo>
                      <a:pt x="415" y="9"/>
                    </a:lnTo>
                    <a:lnTo>
                      <a:pt x="415" y="7"/>
                    </a:lnTo>
                    <a:lnTo>
                      <a:pt x="416" y="5"/>
                    </a:lnTo>
                    <a:lnTo>
                      <a:pt x="418" y="4"/>
                    </a:lnTo>
                    <a:lnTo>
                      <a:pt x="420" y="3"/>
                    </a:lnTo>
                    <a:lnTo>
                      <a:pt x="422" y="2"/>
                    </a:lnTo>
                    <a:lnTo>
                      <a:pt x="425" y="2"/>
                    </a:lnTo>
                    <a:lnTo>
                      <a:pt x="427" y="3"/>
                    </a:lnTo>
                    <a:lnTo>
                      <a:pt x="429" y="4"/>
                    </a:lnTo>
                    <a:lnTo>
                      <a:pt x="431" y="5"/>
                    </a:lnTo>
                    <a:lnTo>
                      <a:pt x="432" y="7"/>
                    </a:lnTo>
                    <a:lnTo>
                      <a:pt x="432" y="9"/>
                    </a:lnTo>
                    <a:lnTo>
                      <a:pt x="489" y="9"/>
                    </a:lnTo>
                    <a:lnTo>
                      <a:pt x="489" y="5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551" name=""/>
              <p:cNvSpPr/>
              <p:nvPr/>
            </p:nvSpPr>
            <p:spPr>
              <a:xfrm>
                <a:off x="4304520" y="3765960"/>
                <a:ext cx="14400" cy="13320"/>
              </a:xfrm>
              <a:custGeom>
                <a:avLst/>
                <a:gdLst/>
                <a:ahLst/>
                <a:rect l="l" t="t" r="r" b="b"/>
                <a:pathLst>
                  <a:path w="14" h="10">
                    <a:moveTo>
                      <a:pt x="12" y="10"/>
                    </a:moveTo>
                    <a:lnTo>
                      <a:pt x="0" y="5"/>
                    </a:lnTo>
                    <a:lnTo>
                      <a:pt x="12" y="0"/>
                    </a:lnTo>
                    <a:lnTo>
                      <a:pt x="13" y="3"/>
                    </a:lnTo>
                    <a:lnTo>
                      <a:pt x="14"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2" name=""/>
              <p:cNvSpPr/>
              <p:nvPr/>
            </p:nvSpPr>
            <p:spPr>
              <a:xfrm>
                <a:off x="4815360" y="38275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3" name=""/>
              <p:cNvSpPr/>
              <p:nvPr/>
            </p:nvSpPr>
            <p:spPr>
              <a:xfrm>
                <a:off x="5361840" y="2433960"/>
                <a:ext cx="2937600" cy="318960"/>
              </a:xfrm>
              <a:custGeom>
                <a:avLst/>
                <a:gdLst/>
                <a:ahLst/>
                <a:rect l="l" t="t" r="r" b="b"/>
                <a:pathLst>
                  <a:path w="2775" h="239">
                    <a:moveTo>
                      <a:pt x="0" y="233"/>
                    </a:moveTo>
                    <a:lnTo>
                      <a:pt x="0" y="239"/>
                    </a:lnTo>
                    <a:lnTo>
                      <a:pt x="47" y="239"/>
                    </a:lnTo>
                    <a:lnTo>
                      <a:pt x="47" y="238"/>
                    </a:lnTo>
                    <a:lnTo>
                      <a:pt x="48" y="237"/>
                    </a:lnTo>
                    <a:lnTo>
                      <a:pt x="50" y="236"/>
                    </a:lnTo>
                    <a:lnTo>
                      <a:pt x="51" y="236"/>
                    </a:lnTo>
                    <a:lnTo>
                      <a:pt x="53" y="236"/>
                    </a:lnTo>
                    <a:lnTo>
                      <a:pt x="55" y="237"/>
                    </a:lnTo>
                    <a:lnTo>
                      <a:pt x="56" y="238"/>
                    </a:lnTo>
                    <a:lnTo>
                      <a:pt x="56" y="239"/>
                    </a:lnTo>
                    <a:lnTo>
                      <a:pt x="58" y="239"/>
                    </a:lnTo>
                    <a:lnTo>
                      <a:pt x="58" y="238"/>
                    </a:lnTo>
                    <a:lnTo>
                      <a:pt x="59" y="237"/>
                    </a:lnTo>
                    <a:lnTo>
                      <a:pt x="61" y="236"/>
                    </a:lnTo>
                    <a:lnTo>
                      <a:pt x="62" y="236"/>
                    </a:lnTo>
                    <a:lnTo>
                      <a:pt x="64" y="236"/>
                    </a:lnTo>
                    <a:lnTo>
                      <a:pt x="66" y="237"/>
                    </a:lnTo>
                    <a:lnTo>
                      <a:pt x="67" y="238"/>
                    </a:lnTo>
                    <a:lnTo>
                      <a:pt x="67" y="239"/>
                    </a:lnTo>
                    <a:lnTo>
                      <a:pt x="78" y="239"/>
                    </a:lnTo>
                    <a:lnTo>
                      <a:pt x="79" y="238"/>
                    </a:lnTo>
                    <a:lnTo>
                      <a:pt x="79" y="237"/>
                    </a:lnTo>
                    <a:lnTo>
                      <a:pt x="81" y="236"/>
                    </a:lnTo>
                    <a:lnTo>
                      <a:pt x="83" y="236"/>
                    </a:lnTo>
                    <a:lnTo>
                      <a:pt x="85" y="236"/>
                    </a:lnTo>
                    <a:lnTo>
                      <a:pt x="86" y="237"/>
                    </a:lnTo>
                    <a:lnTo>
                      <a:pt x="87" y="238"/>
                    </a:lnTo>
                    <a:lnTo>
                      <a:pt x="87" y="239"/>
                    </a:lnTo>
                    <a:lnTo>
                      <a:pt x="100" y="239"/>
                    </a:lnTo>
                    <a:lnTo>
                      <a:pt x="100" y="237"/>
                    </a:lnTo>
                    <a:lnTo>
                      <a:pt x="101" y="236"/>
                    </a:lnTo>
                    <a:lnTo>
                      <a:pt x="103" y="234"/>
                    </a:lnTo>
                    <a:lnTo>
                      <a:pt x="105" y="233"/>
                    </a:lnTo>
                    <a:lnTo>
                      <a:pt x="107" y="233"/>
                    </a:lnTo>
                    <a:lnTo>
                      <a:pt x="109" y="233"/>
                    </a:lnTo>
                    <a:lnTo>
                      <a:pt x="112" y="233"/>
                    </a:lnTo>
                    <a:lnTo>
                      <a:pt x="114" y="234"/>
                    </a:lnTo>
                    <a:lnTo>
                      <a:pt x="115" y="236"/>
                    </a:lnTo>
                    <a:lnTo>
                      <a:pt x="116" y="237"/>
                    </a:lnTo>
                    <a:lnTo>
                      <a:pt x="116" y="239"/>
                    </a:lnTo>
                    <a:lnTo>
                      <a:pt x="131" y="239"/>
                    </a:lnTo>
                    <a:lnTo>
                      <a:pt x="131" y="238"/>
                    </a:lnTo>
                    <a:lnTo>
                      <a:pt x="132" y="237"/>
                    </a:lnTo>
                    <a:lnTo>
                      <a:pt x="134" y="236"/>
                    </a:lnTo>
                    <a:lnTo>
                      <a:pt x="135" y="236"/>
                    </a:lnTo>
                    <a:lnTo>
                      <a:pt x="137" y="236"/>
                    </a:lnTo>
                    <a:lnTo>
                      <a:pt x="139" y="237"/>
                    </a:lnTo>
                    <a:lnTo>
                      <a:pt x="139" y="238"/>
                    </a:lnTo>
                    <a:lnTo>
                      <a:pt x="140" y="239"/>
                    </a:lnTo>
                    <a:lnTo>
                      <a:pt x="159" y="239"/>
                    </a:lnTo>
                    <a:lnTo>
                      <a:pt x="159" y="238"/>
                    </a:lnTo>
                    <a:lnTo>
                      <a:pt x="160" y="237"/>
                    </a:lnTo>
                    <a:lnTo>
                      <a:pt x="161" y="236"/>
                    </a:lnTo>
                    <a:lnTo>
                      <a:pt x="163" y="236"/>
                    </a:lnTo>
                    <a:lnTo>
                      <a:pt x="165" y="236"/>
                    </a:lnTo>
                    <a:lnTo>
                      <a:pt x="166" y="237"/>
                    </a:lnTo>
                    <a:lnTo>
                      <a:pt x="167" y="238"/>
                    </a:lnTo>
                    <a:lnTo>
                      <a:pt x="168" y="239"/>
                    </a:lnTo>
                    <a:lnTo>
                      <a:pt x="177" y="239"/>
                    </a:lnTo>
                    <a:lnTo>
                      <a:pt x="178" y="238"/>
                    </a:lnTo>
                    <a:lnTo>
                      <a:pt x="179" y="237"/>
                    </a:lnTo>
                    <a:lnTo>
                      <a:pt x="180" y="236"/>
                    </a:lnTo>
                    <a:lnTo>
                      <a:pt x="182" y="236"/>
                    </a:lnTo>
                    <a:lnTo>
                      <a:pt x="183" y="236"/>
                    </a:lnTo>
                    <a:lnTo>
                      <a:pt x="185" y="237"/>
                    </a:lnTo>
                    <a:lnTo>
                      <a:pt x="186" y="238"/>
                    </a:lnTo>
                    <a:lnTo>
                      <a:pt x="186" y="239"/>
                    </a:lnTo>
                    <a:lnTo>
                      <a:pt x="210" y="239"/>
                    </a:lnTo>
                    <a:lnTo>
                      <a:pt x="210" y="203"/>
                    </a:lnTo>
                    <a:lnTo>
                      <a:pt x="224" y="203"/>
                    </a:lnTo>
                    <a:lnTo>
                      <a:pt x="225" y="202"/>
                    </a:lnTo>
                    <a:lnTo>
                      <a:pt x="226" y="201"/>
                    </a:lnTo>
                    <a:lnTo>
                      <a:pt x="227" y="200"/>
                    </a:lnTo>
                    <a:lnTo>
                      <a:pt x="229" y="200"/>
                    </a:lnTo>
                    <a:lnTo>
                      <a:pt x="231" y="200"/>
                    </a:lnTo>
                    <a:lnTo>
                      <a:pt x="232" y="201"/>
                    </a:lnTo>
                    <a:lnTo>
                      <a:pt x="233" y="202"/>
                    </a:lnTo>
                    <a:lnTo>
                      <a:pt x="233" y="203"/>
                    </a:lnTo>
                    <a:lnTo>
                      <a:pt x="251" y="203"/>
                    </a:lnTo>
                    <a:lnTo>
                      <a:pt x="252" y="202"/>
                    </a:lnTo>
                    <a:lnTo>
                      <a:pt x="253" y="201"/>
                    </a:lnTo>
                    <a:lnTo>
                      <a:pt x="254" y="200"/>
                    </a:lnTo>
                    <a:lnTo>
                      <a:pt x="256" y="200"/>
                    </a:lnTo>
                    <a:lnTo>
                      <a:pt x="258" y="200"/>
                    </a:lnTo>
                    <a:lnTo>
                      <a:pt x="259" y="201"/>
                    </a:lnTo>
                    <a:lnTo>
                      <a:pt x="260" y="202"/>
                    </a:lnTo>
                    <a:lnTo>
                      <a:pt x="260" y="203"/>
                    </a:lnTo>
                    <a:lnTo>
                      <a:pt x="270" y="203"/>
                    </a:lnTo>
                    <a:lnTo>
                      <a:pt x="270" y="202"/>
                    </a:lnTo>
                    <a:lnTo>
                      <a:pt x="271" y="201"/>
                    </a:lnTo>
                    <a:lnTo>
                      <a:pt x="273" y="200"/>
                    </a:lnTo>
                    <a:lnTo>
                      <a:pt x="275" y="200"/>
                    </a:lnTo>
                    <a:lnTo>
                      <a:pt x="276" y="200"/>
                    </a:lnTo>
                    <a:lnTo>
                      <a:pt x="278" y="201"/>
                    </a:lnTo>
                    <a:lnTo>
                      <a:pt x="279" y="202"/>
                    </a:lnTo>
                    <a:lnTo>
                      <a:pt x="279" y="203"/>
                    </a:lnTo>
                    <a:lnTo>
                      <a:pt x="375" y="203"/>
                    </a:lnTo>
                    <a:lnTo>
                      <a:pt x="375" y="202"/>
                    </a:lnTo>
                    <a:lnTo>
                      <a:pt x="376" y="201"/>
                    </a:lnTo>
                    <a:lnTo>
                      <a:pt x="377" y="200"/>
                    </a:lnTo>
                    <a:lnTo>
                      <a:pt x="379" y="200"/>
                    </a:lnTo>
                    <a:lnTo>
                      <a:pt x="381" y="200"/>
                    </a:lnTo>
                    <a:lnTo>
                      <a:pt x="382" y="201"/>
                    </a:lnTo>
                    <a:lnTo>
                      <a:pt x="383" y="202"/>
                    </a:lnTo>
                    <a:lnTo>
                      <a:pt x="384" y="203"/>
                    </a:lnTo>
                    <a:lnTo>
                      <a:pt x="396" y="203"/>
                    </a:lnTo>
                    <a:lnTo>
                      <a:pt x="397" y="202"/>
                    </a:lnTo>
                    <a:lnTo>
                      <a:pt x="398" y="201"/>
                    </a:lnTo>
                    <a:lnTo>
                      <a:pt x="399" y="200"/>
                    </a:lnTo>
                    <a:lnTo>
                      <a:pt x="401" y="200"/>
                    </a:lnTo>
                    <a:lnTo>
                      <a:pt x="403" y="200"/>
                    </a:lnTo>
                    <a:lnTo>
                      <a:pt x="404" y="201"/>
                    </a:lnTo>
                    <a:lnTo>
                      <a:pt x="405" y="202"/>
                    </a:lnTo>
                    <a:lnTo>
                      <a:pt x="405" y="203"/>
                    </a:lnTo>
                    <a:lnTo>
                      <a:pt x="458" y="203"/>
                    </a:lnTo>
                    <a:lnTo>
                      <a:pt x="459" y="202"/>
                    </a:lnTo>
                    <a:lnTo>
                      <a:pt x="460" y="201"/>
                    </a:lnTo>
                    <a:lnTo>
                      <a:pt x="461" y="200"/>
                    </a:lnTo>
                    <a:lnTo>
                      <a:pt x="463" y="200"/>
                    </a:lnTo>
                    <a:lnTo>
                      <a:pt x="464" y="200"/>
                    </a:lnTo>
                    <a:lnTo>
                      <a:pt x="466" y="201"/>
                    </a:lnTo>
                    <a:lnTo>
                      <a:pt x="467" y="202"/>
                    </a:lnTo>
                    <a:lnTo>
                      <a:pt x="467" y="203"/>
                    </a:lnTo>
                    <a:lnTo>
                      <a:pt x="497" y="203"/>
                    </a:lnTo>
                    <a:lnTo>
                      <a:pt x="497" y="202"/>
                    </a:lnTo>
                    <a:lnTo>
                      <a:pt x="498" y="201"/>
                    </a:lnTo>
                    <a:lnTo>
                      <a:pt x="500" y="200"/>
                    </a:lnTo>
                    <a:lnTo>
                      <a:pt x="501" y="200"/>
                    </a:lnTo>
                    <a:lnTo>
                      <a:pt x="503" y="200"/>
                    </a:lnTo>
                    <a:lnTo>
                      <a:pt x="505" y="201"/>
                    </a:lnTo>
                    <a:lnTo>
                      <a:pt x="506" y="202"/>
                    </a:lnTo>
                    <a:lnTo>
                      <a:pt x="506" y="203"/>
                    </a:lnTo>
                    <a:lnTo>
                      <a:pt x="515" y="203"/>
                    </a:lnTo>
                    <a:lnTo>
                      <a:pt x="515" y="202"/>
                    </a:lnTo>
                    <a:lnTo>
                      <a:pt x="516" y="201"/>
                    </a:lnTo>
                    <a:lnTo>
                      <a:pt x="518" y="200"/>
                    </a:lnTo>
                    <a:lnTo>
                      <a:pt x="520" y="200"/>
                    </a:lnTo>
                    <a:lnTo>
                      <a:pt x="521" y="200"/>
                    </a:lnTo>
                    <a:lnTo>
                      <a:pt x="523" y="201"/>
                    </a:lnTo>
                    <a:lnTo>
                      <a:pt x="524" y="202"/>
                    </a:lnTo>
                    <a:lnTo>
                      <a:pt x="524" y="203"/>
                    </a:lnTo>
                    <a:lnTo>
                      <a:pt x="539" y="203"/>
                    </a:lnTo>
                    <a:lnTo>
                      <a:pt x="539" y="202"/>
                    </a:lnTo>
                    <a:lnTo>
                      <a:pt x="540" y="201"/>
                    </a:lnTo>
                    <a:lnTo>
                      <a:pt x="542" y="200"/>
                    </a:lnTo>
                    <a:lnTo>
                      <a:pt x="543" y="200"/>
                    </a:lnTo>
                    <a:lnTo>
                      <a:pt x="545" y="200"/>
                    </a:lnTo>
                    <a:lnTo>
                      <a:pt x="547" y="201"/>
                    </a:lnTo>
                    <a:lnTo>
                      <a:pt x="547" y="202"/>
                    </a:lnTo>
                    <a:lnTo>
                      <a:pt x="548" y="203"/>
                    </a:lnTo>
                    <a:lnTo>
                      <a:pt x="563" y="203"/>
                    </a:lnTo>
                    <a:lnTo>
                      <a:pt x="563" y="202"/>
                    </a:lnTo>
                    <a:lnTo>
                      <a:pt x="564" y="201"/>
                    </a:lnTo>
                    <a:lnTo>
                      <a:pt x="565" y="200"/>
                    </a:lnTo>
                    <a:lnTo>
                      <a:pt x="567" y="200"/>
                    </a:lnTo>
                    <a:lnTo>
                      <a:pt x="569" y="200"/>
                    </a:lnTo>
                    <a:lnTo>
                      <a:pt x="570" y="201"/>
                    </a:lnTo>
                    <a:lnTo>
                      <a:pt x="571" y="202"/>
                    </a:lnTo>
                    <a:lnTo>
                      <a:pt x="572" y="203"/>
                    </a:lnTo>
                    <a:lnTo>
                      <a:pt x="643" y="203"/>
                    </a:lnTo>
                    <a:lnTo>
                      <a:pt x="643" y="202"/>
                    </a:lnTo>
                    <a:lnTo>
                      <a:pt x="644" y="201"/>
                    </a:lnTo>
                    <a:lnTo>
                      <a:pt x="645" y="200"/>
                    </a:lnTo>
                    <a:lnTo>
                      <a:pt x="647" y="200"/>
                    </a:lnTo>
                    <a:lnTo>
                      <a:pt x="649" y="200"/>
                    </a:lnTo>
                    <a:lnTo>
                      <a:pt x="650" y="201"/>
                    </a:lnTo>
                    <a:lnTo>
                      <a:pt x="651" y="202"/>
                    </a:lnTo>
                    <a:lnTo>
                      <a:pt x="652" y="203"/>
                    </a:lnTo>
                    <a:lnTo>
                      <a:pt x="688" y="203"/>
                    </a:lnTo>
                    <a:lnTo>
                      <a:pt x="689" y="202"/>
                    </a:lnTo>
                    <a:lnTo>
                      <a:pt x="690" y="201"/>
                    </a:lnTo>
                    <a:lnTo>
                      <a:pt x="691" y="200"/>
                    </a:lnTo>
                    <a:lnTo>
                      <a:pt x="693" y="200"/>
                    </a:lnTo>
                    <a:lnTo>
                      <a:pt x="695" y="200"/>
                    </a:lnTo>
                    <a:lnTo>
                      <a:pt x="696" y="201"/>
                    </a:lnTo>
                    <a:lnTo>
                      <a:pt x="697" y="202"/>
                    </a:lnTo>
                    <a:lnTo>
                      <a:pt x="697" y="203"/>
                    </a:lnTo>
                    <a:lnTo>
                      <a:pt x="698" y="203"/>
                    </a:lnTo>
                    <a:lnTo>
                      <a:pt x="698" y="202"/>
                    </a:lnTo>
                    <a:lnTo>
                      <a:pt x="699" y="201"/>
                    </a:lnTo>
                    <a:lnTo>
                      <a:pt x="701" y="200"/>
                    </a:lnTo>
                    <a:lnTo>
                      <a:pt x="702" y="200"/>
                    </a:lnTo>
                    <a:lnTo>
                      <a:pt x="704" y="200"/>
                    </a:lnTo>
                    <a:lnTo>
                      <a:pt x="705" y="201"/>
                    </a:lnTo>
                    <a:lnTo>
                      <a:pt x="706" y="202"/>
                    </a:lnTo>
                    <a:lnTo>
                      <a:pt x="707" y="203"/>
                    </a:lnTo>
                    <a:lnTo>
                      <a:pt x="716" y="203"/>
                    </a:lnTo>
                    <a:lnTo>
                      <a:pt x="716" y="202"/>
                    </a:lnTo>
                    <a:lnTo>
                      <a:pt x="717" y="200"/>
                    </a:lnTo>
                    <a:lnTo>
                      <a:pt x="719" y="199"/>
                    </a:lnTo>
                    <a:lnTo>
                      <a:pt x="720" y="198"/>
                    </a:lnTo>
                    <a:lnTo>
                      <a:pt x="722" y="198"/>
                    </a:lnTo>
                    <a:lnTo>
                      <a:pt x="725" y="198"/>
                    </a:lnTo>
                    <a:lnTo>
                      <a:pt x="726" y="199"/>
                    </a:lnTo>
                    <a:lnTo>
                      <a:pt x="728" y="200"/>
                    </a:lnTo>
                    <a:lnTo>
                      <a:pt x="729" y="202"/>
                    </a:lnTo>
                    <a:lnTo>
                      <a:pt x="729" y="203"/>
                    </a:lnTo>
                    <a:lnTo>
                      <a:pt x="735" y="203"/>
                    </a:lnTo>
                    <a:lnTo>
                      <a:pt x="735" y="202"/>
                    </a:lnTo>
                    <a:lnTo>
                      <a:pt x="736" y="201"/>
                    </a:lnTo>
                    <a:lnTo>
                      <a:pt x="737" y="200"/>
                    </a:lnTo>
                    <a:lnTo>
                      <a:pt x="739" y="200"/>
                    </a:lnTo>
                    <a:lnTo>
                      <a:pt x="741" y="200"/>
                    </a:lnTo>
                    <a:lnTo>
                      <a:pt x="742" y="201"/>
                    </a:lnTo>
                    <a:lnTo>
                      <a:pt x="743" y="202"/>
                    </a:lnTo>
                    <a:lnTo>
                      <a:pt x="744" y="203"/>
                    </a:lnTo>
                    <a:lnTo>
                      <a:pt x="748" y="203"/>
                    </a:lnTo>
                    <a:lnTo>
                      <a:pt x="748" y="202"/>
                    </a:lnTo>
                    <a:lnTo>
                      <a:pt x="749" y="201"/>
                    </a:lnTo>
                    <a:lnTo>
                      <a:pt x="751" y="200"/>
                    </a:lnTo>
                    <a:lnTo>
                      <a:pt x="753" y="200"/>
                    </a:lnTo>
                    <a:lnTo>
                      <a:pt x="754" y="200"/>
                    </a:lnTo>
                    <a:lnTo>
                      <a:pt x="756" y="201"/>
                    </a:lnTo>
                    <a:lnTo>
                      <a:pt x="757" y="202"/>
                    </a:lnTo>
                    <a:lnTo>
                      <a:pt x="757" y="203"/>
                    </a:lnTo>
                    <a:lnTo>
                      <a:pt x="772" y="203"/>
                    </a:lnTo>
                    <a:lnTo>
                      <a:pt x="772" y="202"/>
                    </a:lnTo>
                    <a:lnTo>
                      <a:pt x="773" y="200"/>
                    </a:lnTo>
                    <a:lnTo>
                      <a:pt x="774" y="199"/>
                    </a:lnTo>
                    <a:lnTo>
                      <a:pt x="776" y="198"/>
                    </a:lnTo>
                    <a:lnTo>
                      <a:pt x="778" y="197"/>
                    </a:lnTo>
                    <a:lnTo>
                      <a:pt x="781" y="197"/>
                    </a:lnTo>
                    <a:lnTo>
                      <a:pt x="783" y="198"/>
                    </a:lnTo>
                    <a:lnTo>
                      <a:pt x="785" y="199"/>
                    </a:lnTo>
                    <a:lnTo>
                      <a:pt x="786" y="200"/>
                    </a:lnTo>
                    <a:lnTo>
                      <a:pt x="787" y="202"/>
                    </a:lnTo>
                    <a:lnTo>
                      <a:pt x="787" y="203"/>
                    </a:lnTo>
                    <a:lnTo>
                      <a:pt x="792" y="203"/>
                    </a:lnTo>
                    <a:lnTo>
                      <a:pt x="792" y="202"/>
                    </a:lnTo>
                    <a:lnTo>
                      <a:pt x="793" y="200"/>
                    </a:lnTo>
                    <a:lnTo>
                      <a:pt x="795" y="199"/>
                    </a:lnTo>
                    <a:lnTo>
                      <a:pt x="797" y="198"/>
                    </a:lnTo>
                    <a:lnTo>
                      <a:pt x="799" y="197"/>
                    </a:lnTo>
                    <a:lnTo>
                      <a:pt x="801" y="197"/>
                    </a:lnTo>
                    <a:lnTo>
                      <a:pt x="803" y="198"/>
                    </a:lnTo>
                    <a:lnTo>
                      <a:pt x="805" y="199"/>
                    </a:lnTo>
                    <a:lnTo>
                      <a:pt x="806" y="200"/>
                    </a:lnTo>
                    <a:lnTo>
                      <a:pt x="807" y="202"/>
                    </a:lnTo>
                    <a:lnTo>
                      <a:pt x="808" y="203"/>
                    </a:lnTo>
                    <a:lnTo>
                      <a:pt x="826" y="203"/>
                    </a:lnTo>
                    <a:lnTo>
                      <a:pt x="826" y="202"/>
                    </a:lnTo>
                    <a:lnTo>
                      <a:pt x="827" y="201"/>
                    </a:lnTo>
                    <a:lnTo>
                      <a:pt x="828" y="200"/>
                    </a:lnTo>
                    <a:lnTo>
                      <a:pt x="830" y="200"/>
                    </a:lnTo>
                    <a:lnTo>
                      <a:pt x="832" y="200"/>
                    </a:lnTo>
                    <a:lnTo>
                      <a:pt x="833" y="201"/>
                    </a:lnTo>
                    <a:lnTo>
                      <a:pt x="834" y="202"/>
                    </a:lnTo>
                    <a:lnTo>
                      <a:pt x="835" y="203"/>
                    </a:lnTo>
                    <a:lnTo>
                      <a:pt x="849" y="203"/>
                    </a:lnTo>
                    <a:lnTo>
                      <a:pt x="849" y="202"/>
                    </a:lnTo>
                    <a:lnTo>
                      <a:pt x="850" y="200"/>
                    </a:lnTo>
                    <a:lnTo>
                      <a:pt x="852" y="199"/>
                    </a:lnTo>
                    <a:lnTo>
                      <a:pt x="853" y="198"/>
                    </a:lnTo>
                    <a:lnTo>
                      <a:pt x="856" y="197"/>
                    </a:lnTo>
                    <a:lnTo>
                      <a:pt x="858" y="197"/>
                    </a:lnTo>
                    <a:lnTo>
                      <a:pt x="860" y="198"/>
                    </a:lnTo>
                    <a:lnTo>
                      <a:pt x="862" y="199"/>
                    </a:lnTo>
                    <a:lnTo>
                      <a:pt x="863" y="200"/>
                    </a:lnTo>
                    <a:lnTo>
                      <a:pt x="864" y="202"/>
                    </a:lnTo>
                    <a:lnTo>
                      <a:pt x="865" y="203"/>
                    </a:lnTo>
                    <a:lnTo>
                      <a:pt x="893" y="203"/>
                    </a:lnTo>
                    <a:lnTo>
                      <a:pt x="894" y="202"/>
                    </a:lnTo>
                    <a:lnTo>
                      <a:pt x="895" y="201"/>
                    </a:lnTo>
                    <a:lnTo>
                      <a:pt x="896" y="200"/>
                    </a:lnTo>
                    <a:lnTo>
                      <a:pt x="898" y="200"/>
                    </a:lnTo>
                    <a:lnTo>
                      <a:pt x="899" y="200"/>
                    </a:lnTo>
                    <a:lnTo>
                      <a:pt x="901" y="201"/>
                    </a:lnTo>
                    <a:lnTo>
                      <a:pt x="902" y="202"/>
                    </a:lnTo>
                    <a:lnTo>
                      <a:pt x="902" y="203"/>
                    </a:lnTo>
                    <a:lnTo>
                      <a:pt x="951" y="203"/>
                    </a:lnTo>
                    <a:lnTo>
                      <a:pt x="951" y="202"/>
                    </a:lnTo>
                    <a:lnTo>
                      <a:pt x="952" y="201"/>
                    </a:lnTo>
                    <a:lnTo>
                      <a:pt x="953" y="200"/>
                    </a:lnTo>
                    <a:lnTo>
                      <a:pt x="955" y="200"/>
                    </a:lnTo>
                    <a:lnTo>
                      <a:pt x="957" y="200"/>
                    </a:lnTo>
                    <a:lnTo>
                      <a:pt x="958" y="201"/>
                    </a:lnTo>
                    <a:lnTo>
                      <a:pt x="959" y="202"/>
                    </a:lnTo>
                    <a:lnTo>
                      <a:pt x="960" y="203"/>
                    </a:lnTo>
                    <a:lnTo>
                      <a:pt x="971" y="203"/>
                    </a:lnTo>
                    <a:lnTo>
                      <a:pt x="971" y="202"/>
                    </a:lnTo>
                    <a:lnTo>
                      <a:pt x="972" y="201"/>
                    </a:lnTo>
                    <a:lnTo>
                      <a:pt x="974" y="200"/>
                    </a:lnTo>
                    <a:lnTo>
                      <a:pt x="975" y="200"/>
                    </a:lnTo>
                    <a:lnTo>
                      <a:pt x="977" y="200"/>
                    </a:lnTo>
                    <a:lnTo>
                      <a:pt x="979" y="201"/>
                    </a:lnTo>
                    <a:lnTo>
                      <a:pt x="980" y="202"/>
                    </a:lnTo>
                    <a:lnTo>
                      <a:pt x="980" y="203"/>
                    </a:lnTo>
                    <a:lnTo>
                      <a:pt x="991" y="203"/>
                    </a:lnTo>
                    <a:lnTo>
                      <a:pt x="992" y="202"/>
                    </a:lnTo>
                    <a:lnTo>
                      <a:pt x="992" y="201"/>
                    </a:lnTo>
                    <a:lnTo>
                      <a:pt x="994" y="200"/>
                    </a:lnTo>
                    <a:lnTo>
                      <a:pt x="996" y="200"/>
                    </a:lnTo>
                    <a:lnTo>
                      <a:pt x="997" y="200"/>
                    </a:lnTo>
                    <a:lnTo>
                      <a:pt x="999" y="201"/>
                    </a:lnTo>
                    <a:lnTo>
                      <a:pt x="1000" y="202"/>
                    </a:lnTo>
                    <a:lnTo>
                      <a:pt x="1000" y="203"/>
                    </a:lnTo>
                    <a:lnTo>
                      <a:pt x="1015" y="203"/>
                    </a:lnTo>
                    <a:lnTo>
                      <a:pt x="1015" y="202"/>
                    </a:lnTo>
                    <a:lnTo>
                      <a:pt x="1016" y="201"/>
                    </a:lnTo>
                    <a:lnTo>
                      <a:pt x="1018" y="200"/>
                    </a:lnTo>
                    <a:lnTo>
                      <a:pt x="1019" y="200"/>
                    </a:lnTo>
                    <a:lnTo>
                      <a:pt x="1021" y="200"/>
                    </a:lnTo>
                    <a:lnTo>
                      <a:pt x="1022" y="201"/>
                    </a:lnTo>
                    <a:lnTo>
                      <a:pt x="1023" y="202"/>
                    </a:lnTo>
                    <a:lnTo>
                      <a:pt x="1024" y="203"/>
                    </a:lnTo>
                    <a:lnTo>
                      <a:pt x="1037" y="203"/>
                    </a:lnTo>
                    <a:lnTo>
                      <a:pt x="1037" y="202"/>
                    </a:lnTo>
                    <a:lnTo>
                      <a:pt x="1038" y="201"/>
                    </a:lnTo>
                    <a:lnTo>
                      <a:pt x="1039" y="200"/>
                    </a:lnTo>
                    <a:lnTo>
                      <a:pt x="1041" y="200"/>
                    </a:lnTo>
                    <a:lnTo>
                      <a:pt x="1043" y="200"/>
                    </a:lnTo>
                    <a:lnTo>
                      <a:pt x="1044" y="201"/>
                    </a:lnTo>
                    <a:lnTo>
                      <a:pt x="1045" y="202"/>
                    </a:lnTo>
                    <a:lnTo>
                      <a:pt x="1045" y="203"/>
                    </a:lnTo>
                    <a:lnTo>
                      <a:pt x="1109" y="203"/>
                    </a:lnTo>
                    <a:lnTo>
                      <a:pt x="1110" y="202"/>
                    </a:lnTo>
                    <a:lnTo>
                      <a:pt x="1111" y="201"/>
                    </a:lnTo>
                    <a:lnTo>
                      <a:pt x="1112" y="200"/>
                    </a:lnTo>
                    <a:lnTo>
                      <a:pt x="1114" y="200"/>
                    </a:lnTo>
                    <a:lnTo>
                      <a:pt x="1116" y="200"/>
                    </a:lnTo>
                    <a:lnTo>
                      <a:pt x="1117" y="201"/>
                    </a:lnTo>
                    <a:lnTo>
                      <a:pt x="1118" y="202"/>
                    </a:lnTo>
                    <a:lnTo>
                      <a:pt x="1118" y="203"/>
                    </a:lnTo>
                    <a:lnTo>
                      <a:pt x="1180" y="203"/>
                    </a:lnTo>
                    <a:lnTo>
                      <a:pt x="1180" y="202"/>
                    </a:lnTo>
                    <a:lnTo>
                      <a:pt x="1181" y="200"/>
                    </a:lnTo>
                    <a:lnTo>
                      <a:pt x="1183" y="199"/>
                    </a:lnTo>
                    <a:lnTo>
                      <a:pt x="1184" y="198"/>
                    </a:lnTo>
                    <a:lnTo>
                      <a:pt x="1186" y="197"/>
                    </a:lnTo>
                    <a:lnTo>
                      <a:pt x="1189" y="197"/>
                    </a:lnTo>
                    <a:lnTo>
                      <a:pt x="1191" y="197"/>
                    </a:lnTo>
                    <a:lnTo>
                      <a:pt x="1193" y="198"/>
                    </a:lnTo>
                    <a:lnTo>
                      <a:pt x="1195" y="199"/>
                    </a:lnTo>
                    <a:lnTo>
                      <a:pt x="1197" y="200"/>
                    </a:lnTo>
                    <a:lnTo>
                      <a:pt x="1197" y="202"/>
                    </a:lnTo>
                    <a:lnTo>
                      <a:pt x="1198" y="203"/>
                    </a:lnTo>
                    <a:lnTo>
                      <a:pt x="1237" y="203"/>
                    </a:lnTo>
                    <a:lnTo>
                      <a:pt x="1238" y="202"/>
                    </a:lnTo>
                    <a:lnTo>
                      <a:pt x="1239" y="201"/>
                    </a:lnTo>
                    <a:lnTo>
                      <a:pt x="1240" y="200"/>
                    </a:lnTo>
                    <a:lnTo>
                      <a:pt x="1242" y="200"/>
                    </a:lnTo>
                    <a:lnTo>
                      <a:pt x="1244" y="200"/>
                    </a:lnTo>
                    <a:lnTo>
                      <a:pt x="1245" y="201"/>
                    </a:lnTo>
                    <a:lnTo>
                      <a:pt x="1246" y="202"/>
                    </a:lnTo>
                    <a:lnTo>
                      <a:pt x="1246" y="203"/>
                    </a:lnTo>
                    <a:lnTo>
                      <a:pt x="1262" y="203"/>
                    </a:lnTo>
                    <a:lnTo>
                      <a:pt x="1262" y="79"/>
                    </a:lnTo>
                    <a:lnTo>
                      <a:pt x="1280" y="79"/>
                    </a:lnTo>
                    <a:lnTo>
                      <a:pt x="1281" y="78"/>
                    </a:lnTo>
                    <a:lnTo>
                      <a:pt x="1282" y="76"/>
                    </a:lnTo>
                    <a:lnTo>
                      <a:pt x="1283" y="76"/>
                    </a:lnTo>
                    <a:lnTo>
                      <a:pt x="1285" y="75"/>
                    </a:lnTo>
                    <a:lnTo>
                      <a:pt x="1287" y="76"/>
                    </a:lnTo>
                    <a:lnTo>
                      <a:pt x="1288" y="76"/>
                    </a:lnTo>
                    <a:lnTo>
                      <a:pt x="1289" y="78"/>
                    </a:lnTo>
                    <a:lnTo>
                      <a:pt x="1290" y="79"/>
                    </a:lnTo>
                    <a:lnTo>
                      <a:pt x="1302" y="79"/>
                    </a:lnTo>
                    <a:lnTo>
                      <a:pt x="1302" y="78"/>
                    </a:lnTo>
                    <a:lnTo>
                      <a:pt x="1303" y="76"/>
                    </a:lnTo>
                    <a:lnTo>
                      <a:pt x="1305" y="76"/>
                    </a:lnTo>
                    <a:lnTo>
                      <a:pt x="1306" y="75"/>
                    </a:lnTo>
                    <a:lnTo>
                      <a:pt x="1308" y="76"/>
                    </a:lnTo>
                    <a:lnTo>
                      <a:pt x="1309" y="76"/>
                    </a:lnTo>
                    <a:lnTo>
                      <a:pt x="1311" y="78"/>
                    </a:lnTo>
                    <a:lnTo>
                      <a:pt x="1311" y="79"/>
                    </a:lnTo>
                    <a:lnTo>
                      <a:pt x="1332" y="79"/>
                    </a:lnTo>
                    <a:lnTo>
                      <a:pt x="1333" y="78"/>
                    </a:lnTo>
                    <a:lnTo>
                      <a:pt x="1334" y="76"/>
                    </a:lnTo>
                    <a:lnTo>
                      <a:pt x="1335" y="76"/>
                    </a:lnTo>
                    <a:lnTo>
                      <a:pt x="1337" y="75"/>
                    </a:lnTo>
                    <a:lnTo>
                      <a:pt x="1338" y="76"/>
                    </a:lnTo>
                    <a:lnTo>
                      <a:pt x="1340" y="76"/>
                    </a:lnTo>
                    <a:lnTo>
                      <a:pt x="1341" y="78"/>
                    </a:lnTo>
                    <a:lnTo>
                      <a:pt x="1341" y="79"/>
                    </a:lnTo>
                    <a:lnTo>
                      <a:pt x="1355" y="79"/>
                    </a:lnTo>
                    <a:lnTo>
                      <a:pt x="1355" y="78"/>
                    </a:lnTo>
                    <a:lnTo>
                      <a:pt x="1356" y="76"/>
                    </a:lnTo>
                    <a:lnTo>
                      <a:pt x="1358" y="76"/>
                    </a:lnTo>
                    <a:lnTo>
                      <a:pt x="1359" y="75"/>
                    </a:lnTo>
                    <a:lnTo>
                      <a:pt x="1361" y="76"/>
                    </a:lnTo>
                    <a:lnTo>
                      <a:pt x="1362" y="76"/>
                    </a:lnTo>
                    <a:lnTo>
                      <a:pt x="1363" y="78"/>
                    </a:lnTo>
                    <a:lnTo>
                      <a:pt x="1364" y="79"/>
                    </a:lnTo>
                    <a:lnTo>
                      <a:pt x="1602" y="79"/>
                    </a:lnTo>
                    <a:lnTo>
                      <a:pt x="1602" y="78"/>
                    </a:lnTo>
                    <a:lnTo>
                      <a:pt x="1603" y="76"/>
                    </a:lnTo>
                    <a:lnTo>
                      <a:pt x="1605" y="76"/>
                    </a:lnTo>
                    <a:lnTo>
                      <a:pt x="1607" y="75"/>
                    </a:lnTo>
                    <a:lnTo>
                      <a:pt x="1608" y="76"/>
                    </a:lnTo>
                    <a:lnTo>
                      <a:pt x="1610" y="76"/>
                    </a:lnTo>
                    <a:lnTo>
                      <a:pt x="1611" y="78"/>
                    </a:lnTo>
                    <a:lnTo>
                      <a:pt x="1611" y="79"/>
                    </a:lnTo>
                    <a:lnTo>
                      <a:pt x="1644" y="79"/>
                    </a:lnTo>
                    <a:lnTo>
                      <a:pt x="1645" y="78"/>
                    </a:lnTo>
                    <a:lnTo>
                      <a:pt x="1645" y="76"/>
                    </a:lnTo>
                    <a:lnTo>
                      <a:pt x="1647" y="76"/>
                    </a:lnTo>
                    <a:lnTo>
                      <a:pt x="1649" y="75"/>
                    </a:lnTo>
                    <a:lnTo>
                      <a:pt x="1650" y="76"/>
                    </a:lnTo>
                    <a:lnTo>
                      <a:pt x="1652" y="76"/>
                    </a:lnTo>
                    <a:lnTo>
                      <a:pt x="1653" y="78"/>
                    </a:lnTo>
                    <a:lnTo>
                      <a:pt x="1653" y="79"/>
                    </a:lnTo>
                    <a:lnTo>
                      <a:pt x="1677" y="79"/>
                    </a:lnTo>
                    <a:lnTo>
                      <a:pt x="1677" y="78"/>
                    </a:lnTo>
                    <a:lnTo>
                      <a:pt x="1678" y="76"/>
                    </a:lnTo>
                    <a:lnTo>
                      <a:pt x="1679" y="76"/>
                    </a:lnTo>
                    <a:lnTo>
                      <a:pt x="1681" y="75"/>
                    </a:lnTo>
                    <a:lnTo>
                      <a:pt x="1683" y="76"/>
                    </a:lnTo>
                    <a:lnTo>
                      <a:pt x="1684" y="76"/>
                    </a:lnTo>
                    <a:lnTo>
                      <a:pt x="1685" y="78"/>
                    </a:lnTo>
                    <a:lnTo>
                      <a:pt x="1686" y="79"/>
                    </a:lnTo>
                    <a:lnTo>
                      <a:pt x="1696" y="79"/>
                    </a:lnTo>
                    <a:lnTo>
                      <a:pt x="1696" y="78"/>
                    </a:lnTo>
                    <a:lnTo>
                      <a:pt x="1697" y="76"/>
                    </a:lnTo>
                    <a:lnTo>
                      <a:pt x="1699" y="76"/>
                    </a:lnTo>
                    <a:lnTo>
                      <a:pt x="1701" y="75"/>
                    </a:lnTo>
                    <a:lnTo>
                      <a:pt x="1702" y="76"/>
                    </a:lnTo>
                    <a:lnTo>
                      <a:pt x="1704" y="76"/>
                    </a:lnTo>
                    <a:lnTo>
                      <a:pt x="1705" y="78"/>
                    </a:lnTo>
                    <a:lnTo>
                      <a:pt x="1705" y="79"/>
                    </a:lnTo>
                    <a:lnTo>
                      <a:pt x="1722" y="79"/>
                    </a:lnTo>
                    <a:lnTo>
                      <a:pt x="1722" y="78"/>
                    </a:lnTo>
                    <a:lnTo>
                      <a:pt x="1723" y="76"/>
                    </a:lnTo>
                    <a:lnTo>
                      <a:pt x="1725" y="76"/>
                    </a:lnTo>
                    <a:lnTo>
                      <a:pt x="1726" y="75"/>
                    </a:lnTo>
                    <a:lnTo>
                      <a:pt x="1728" y="76"/>
                    </a:lnTo>
                    <a:lnTo>
                      <a:pt x="1730" y="76"/>
                    </a:lnTo>
                    <a:lnTo>
                      <a:pt x="1730" y="78"/>
                    </a:lnTo>
                    <a:lnTo>
                      <a:pt x="1731" y="79"/>
                    </a:lnTo>
                    <a:lnTo>
                      <a:pt x="1744" y="79"/>
                    </a:lnTo>
                    <a:lnTo>
                      <a:pt x="1744" y="78"/>
                    </a:lnTo>
                    <a:lnTo>
                      <a:pt x="1745" y="76"/>
                    </a:lnTo>
                    <a:lnTo>
                      <a:pt x="1747" y="76"/>
                    </a:lnTo>
                    <a:lnTo>
                      <a:pt x="1748" y="75"/>
                    </a:lnTo>
                    <a:lnTo>
                      <a:pt x="1750" y="76"/>
                    </a:lnTo>
                    <a:lnTo>
                      <a:pt x="1752" y="76"/>
                    </a:lnTo>
                    <a:lnTo>
                      <a:pt x="1752" y="78"/>
                    </a:lnTo>
                    <a:lnTo>
                      <a:pt x="1753" y="79"/>
                    </a:lnTo>
                    <a:lnTo>
                      <a:pt x="1764" y="79"/>
                    </a:lnTo>
                    <a:lnTo>
                      <a:pt x="1765" y="78"/>
                    </a:lnTo>
                    <a:lnTo>
                      <a:pt x="1766" y="76"/>
                    </a:lnTo>
                    <a:lnTo>
                      <a:pt x="1767" y="76"/>
                    </a:lnTo>
                    <a:lnTo>
                      <a:pt x="1769" y="75"/>
                    </a:lnTo>
                    <a:lnTo>
                      <a:pt x="1771" y="76"/>
                    </a:lnTo>
                    <a:lnTo>
                      <a:pt x="1772" y="76"/>
                    </a:lnTo>
                    <a:lnTo>
                      <a:pt x="1773" y="78"/>
                    </a:lnTo>
                    <a:lnTo>
                      <a:pt x="1773" y="79"/>
                    </a:lnTo>
                    <a:lnTo>
                      <a:pt x="1791" y="79"/>
                    </a:lnTo>
                    <a:lnTo>
                      <a:pt x="1792" y="78"/>
                    </a:lnTo>
                    <a:lnTo>
                      <a:pt x="1793" y="76"/>
                    </a:lnTo>
                    <a:lnTo>
                      <a:pt x="1794" y="76"/>
                    </a:lnTo>
                    <a:lnTo>
                      <a:pt x="1796" y="75"/>
                    </a:lnTo>
                    <a:lnTo>
                      <a:pt x="1798" y="76"/>
                    </a:lnTo>
                    <a:lnTo>
                      <a:pt x="1799" y="76"/>
                    </a:lnTo>
                    <a:lnTo>
                      <a:pt x="1800" y="78"/>
                    </a:lnTo>
                    <a:lnTo>
                      <a:pt x="1801" y="79"/>
                    </a:lnTo>
                    <a:lnTo>
                      <a:pt x="1832" y="79"/>
                    </a:lnTo>
                    <a:lnTo>
                      <a:pt x="1833" y="78"/>
                    </a:lnTo>
                    <a:lnTo>
                      <a:pt x="1833" y="76"/>
                    </a:lnTo>
                    <a:lnTo>
                      <a:pt x="1835" y="76"/>
                    </a:lnTo>
                    <a:lnTo>
                      <a:pt x="1837" y="75"/>
                    </a:lnTo>
                    <a:lnTo>
                      <a:pt x="1838" y="76"/>
                    </a:lnTo>
                    <a:lnTo>
                      <a:pt x="1840" y="76"/>
                    </a:lnTo>
                    <a:lnTo>
                      <a:pt x="1841" y="78"/>
                    </a:lnTo>
                    <a:lnTo>
                      <a:pt x="1841" y="79"/>
                    </a:lnTo>
                    <a:lnTo>
                      <a:pt x="1866" y="79"/>
                    </a:lnTo>
                    <a:lnTo>
                      <a:pt x="1866" y="78"/>
                    </a:lnTo>
                    <a:lnTo>
                      <a:pt x="1867" y="76"/>
                    </a:lnTo>
                    <a:lnTo>
                      <a:pt x="1869" y="76"/>
                    </a:lnTo>
                    <a:lnTo>
                      <a:pt x="1870" y="75"/>
                    </a:lnTo>
                    <a:lnTo>
                      <a:pt x="1872" y="76"/>
                    </a:lnTo>
                    <a:lnTo>
                      <a:pt x="1873" y="76"/>
                    </a:lnTo>
                    <a:lnTo>
                      <a:pt x="1875" y="78"/>
                    </a:lnTo>
                    <a:lnTo>
                      <a:pt x="1875" y="79"/>
                    </a:lnTo>
                    <a:lnTo>
                      <a:pt x="1893" y="79"/>
                    </a:lnTo>
                    <a:lnTo>
                      <a:pt x="1893" y="78"/>
                    </a:lnTo>
                    <a:lnTo>
                      <a:pt x="1894" y="76"/>
                    </a:lnTo>
                    <a:lnTo>
                      <a:pt x="1896" y="76"/>
                    </a:lnTo>
                    <a:lnTo>
                      <a:pt x="1897" y="75"/>
                    </a:lnTo>
                    <a:lnTo>
                      <a:pt x="1899" y="76"/>
                    </a:lnTo>
                    <a:lnTo>
                      <a:pt x="1900" y="76"/>
                    </a:lnTo>
                    <a:lnTo>
                      <a:pt x="1902" y="78"/>
                    </a:lnTo>
                    <a:lnTo>
                      <a:pt x="1902" y="79"/>
                    </a:lnTo>
                    <a:lnTo>
                      <a:pt x="1927" y="79"/>
                    </a:lnTo>
                    <a:lnTo>
                      <a:pt x="1927" y="78"/>
                    </a:lnTo>
                    <a:lnTo>
                      <a:pt x="1928" y="76"/>
                    </a:lnTo>
                    <a:lnTo>
                      <a:pt x="1929" y="76"/>
                    </a:lnTo>
                    <a:lnTo>
                      <a:pt x="1931" y="75"/>
                    </a:lnTo>
                    <a:lnTo>
                      <a:pt x="1933" y="76"/>
                    </a:lnTo>
                    <a:lnTo>
                      <a:pt x="1934" y="76"/>
                    </a:lnTo>
                    <a:lnTo>
                      <a:pt x="1935" y="78"/>
                    </a:lnTo>
                    <a:lnTo>
                      <a:pt x="1936" y="79"/>
                    </a:lnTo>
                    <a:lnTo>
                      <a:pt x="2050" y="79"/>
                    </a:lnTo>
                    <a:lnTo>
                      <a:pt x="2050" y="78"/>
                    </a:lnTo>
                    <a:lnTo>
                      <a:pt x="2051" y="76"/>
                    </a:lnTo>
                    <a:lnTo>
                      <a:pt x="2053" y="76"/>
                    </a:lnTo>
                    <a:lnTo>
                      <a:pt x="2054" y="75"/>
                    </a:lnTo>
                    <a:lnTo>
                      <a:pt x="2056" y="76"/>
                    </a:lnTo>
                    <a:lnTo>
                      <a:pt x="2058" y="76"/>
                    </a:lnTo>
                    <a:lnTo>
                      <a:pt x="2059" y="78"/>
                    </a:lnTo>
                    <a:lnTo>
                      <a:pt x="2059" y="79"/>
                    </a:lnTo>
                    <a:lnTo>
                      <a:pt x="2249" y="79"/>
                    </a:lnTo>
                    <a:lnTo>
                      <a:pt x="2250" y="78"/>
                    </a:lnTo>
                    <a:lnTo>
                      <a:pt x="2251" y="76"/>
                    </a:lnTo>
                    <a:lnTo>
                      <a:pt x="2252" y="76"/>
                    </a:lnTo>
                    <a:lnTo>
                      <a:pt x="2254" y="75"/>
                    </a:lnTo>
                    <a:lnTo>
                      <a:pt x="2256" y="76"/>
                    </a:lnTo>
                    <a:lnTo>
                      <a:pt x="2257" y="76"/>
                    </a:lnTo>
                    <a:lnTo>
                      <a:pt x="2258" y="78"/>
                    </a:lnTo>
                    <a:lnTo>
                      <a:pt x="2258" y="79"/>
                    </a:lnTo>
                    <a:lnTo>
                      <a:pt x="2426" y="79"/>
                    </a:lnTo>
                    <a:lnTo>
                      <a:pt x="2427" y="78"/>
                    </a:lnTo>
                    <a:lnTo>
                      <a:pt x="2428" y="76"/>
                    </a:lnTo>
                    <a:lnTo>
                      <a:pt x="2429" y="76"/>
                    </a:lnTo>
                    <a:lnTo>
                      <a:pt x="2431" y="75"/>
                    </a:lnTo>
                    <a:lnTo>
                      <a:pt x="2433" y="76"/>
                    </a:lnTo>
                    <a:lnTo>
                      <a:pt x="2434" y="76"/>
                    </a:lnTo>
                    <a:lnTo>
                      <a:pt x="2435" y="78"/>
                    </a:lnTo>
                    <a:lnTo>
                      <a:pt x="2435" y="79"/>
                    </a:lnTo>
                    <a:lnTo>
                      <a:pt x="2501" y="79"/>
                    </a:lnTo>
                    <a:lnTo>
                      <a:pt x="2501" y="78"/>
                    </a:lnTo>
                    <a:lnTo>
                      <a:pt x="2502" y="76"/>
                    </a:lnTo>
                    <a:lnTo>
                      <a:pt x="2504" y="76"/>
                    </a:lnTo>
                    <a:lnTo>
                      <a:pt x="2505" y="75"/>
                    </a:lnTo>
                    <a:lnTo>
                      <a:pt x="2507" y="76"/>
                    </a:lnTo>
                    <a:lnTo>
                      <a:pt x="2508" y="76"/>
                    </a:lnTo>
                    <a:lnTo>
                      <a:pt x="2509" y="78"/>
                    </a:lnTo>
                    <a:lnTo>
                      <a:pt x="2510" y="79"/>
                    </a:lnTo>
                    <a:lnTo>
                      <a:pt x="2514" y="79"/>
                    </a:lnTo>
                    <a:lnTo>
                      <a:pt x="2515" y="78"/>
                    </a:lnTo>
                    <a:lnTo>
                      <a:pt x="2516" y="76"/>
                    </a:lnTo>
                    <a:lnTo>
                      <a:pt x="2517" y="76"/>
                    </a:lnTo>
                    <a:lnTo>
                      <a:pt x="2519" y="75"/>
                    </a:lnTo>
                    <a:lnTo>
                      <a:pt x="2520" y="76"/>
                    </a:lnTo>
                    <a:lnTo>
                      <a:pt x="2522" y="76"/>
                    </a:lnTo>
                    <a:lnTo>
                      <a:pt x="2523" y="78"/>
                    </a:lnTo>
                    <a:lnTo>
                      <a:pt x="2523" y="79"/>
                    </a:lnTo>
                    <a:lnTo>
                      <a:pt x="2611" y="79"/>
                    </a:lnTo>
                    <a:lnTo>
                      <a:pt x="2611" y="78"/>
                    </a:lnTo>
                    <a:lnTo>
                      <a:pt x="2612" y="76"/>
                    </a:lnTo>
                    <a:lnTo>
                      <a:pt x="2613" y="76"/>
                    </a:lnTo>
                    <a:lnTo>
                      <a:pt x="2615" y="75"/>
                    </a:lnTo>
                    <a:lnTo>
                      <a:pt x="2617" y="76"/>
                    </a:lnTo>
                    <a:lnTo>
                      <a:pt x="2618" y="76"/>
                    </a:lnTo>
                    <a:lnTo>
                      <a:pt x="2619" y="78"/>
                    </a:lnTo>
                    <a:lnTo>
                      <a:pt x="2619" y="79"/>
                    </a:lnTo>
                    <a:lnTo>
                      <a:pt x="2638" y="79"/>
                    </a:lnTo>
                    <a:lnTo>
                      <a:pt x="2638" y="78"/>
                    </a:lnTo>
                    <a:lnTo>
                      <a:pt x="2639" y="76"/>
                    </a:lnTo>
                    <a:lnTo>
                      <a:pt x="2640" y="76"/>
                    </a:lnTo>
                    <a:lnTo>
                      <a:pt x="2642" y="75"/>
                    </a:lnTo>
                    <a:lnTo>
                      <a:pt x="2644" y="76"/>
                    </a:lnTo>
                    <a:lnTo>
                      <a:pt x="2645" y="76"/>
                    </a:lnTo>
                    <a:lnTo>
                      <a:pt x="2646" y="78"/>
                    </a:lnTo>
                    <a:lnTo>
                      <a:pt x="2647" y="79"/>
                    </a:lnTo>
                    <a:lnTo>
                      <a:pt x="2662" y="79"/>
                    </a:lnTo>
                    <a:lnTo>
                      <a:pt x="2663" y="78"/>
                    </a:lnTo>
                    <a:lnTo>
                      <a:pt x="2664" y="76"/>
                    </a:lnTo>
                    <a:lnTo>
                      <a:pt x="2665" y="76"/>
                    </a:lnTo>
                    <a:lnTo>
                      <a:pt x="2667" y="75"/>
                    </a:lnTo>
                    <a:lnTo>
                      <a:pt x="2668" y="76"/>
                    </a:lnTo>
                    <a:lnTo>
                      <a:pt x="2670" y="76"/>
                    </a:lnTo>
                    <a:lnTo>
                      <a:pt x="2671" y="78"/>
                    </a:lnTo>
                    <a:lnTo>
                      <a:pt x="2671" y="79"/>
                    </a:lnTo>
                    <a:lnTo>
                      <a:pt x="2747" y="79"/>
                    </a:lnTo>
                    <a:lnTo>
                      <a:pt x="2747" y="78"/>
                    </a:lnTo>
                    <a:lnTo>
                      <a:pt x="2748" y="76"/>
                    </a:lnTo>
                    <a:lnTo>
                      <a:pt x="2750" y="76"/>
                    </a:lnTo>
                    <a:lnTo>
                      <a:pt x="2751" y="75"/>
                    </a:lnTo>
                    <a:lnTo>
                      <a:pt x="2753" y="76"/>
                    </a:lnTo>
                    <a:lnTo>
                      <a:pt x="2754" y="76"/>
                    </a:lnTo>
                    <a:lnTo>
                      <a:pt x="2755" y="78"/>
                    </a:lnTo>
                    <a:lnTo>
                      <a:pt x="2756" y="79"/>
                    </a:lnTo>
                    <a:lnTo>
                      <a:pt x="2775" y="79"/>
                    </a:lnTo>
                    <a:lnTo>
                      <a:pt x="277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5355360" y="27334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5" name=""/>
              <p:cNvSpPr/>
              <p:nvPr/>
            </p:nvSpPr>
            <p:spPr>
              <a:xfrm>
                <a:off x="8293320" y="24220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6" name=""/>
              <p:cNvSpPr/>
              <p:nvPr/>
            </p:nvSpPr>
            <p:spPr>
              <a:xfrm>
                <a:off x="5321520" y="2745360"/>
                <a:ext cx="770760" cy="457920"/>
              </a:xfrm>
              <a:custGeom>
                <a:avLst/>
                <a:gdLst/>
                <a:ahLst/>
                <a:rect l="l" t="t" r="r" b="b"/>
                <a:pathLst>
                  <a:path w="728" h="343">
                    <a:moveTo>
                      <a:pt x="728" y="343"/>
                    </a:moveTo>
                    <a:lnTo>
                      <a:pt x="726" y="343"/>
                    </a:lnTo>
                    <a:lnTo>
                      <a:pt x="725" y="341"/>
                    </a:lnTo>
                    <a:lnTo>
                      <a:pt x="724" y="340"/>
                    </a:lnTo>
                    <a:lnTo>
                      <a:pt x="723" y="339"/>
                    </a:lnTo>
                    <a:lnTo>
                      <a:pt x="721" y="339"/>
                    </a:lnTo>
                    <a:lnTo>
                      <a:pt x="720" y="339"/>
                    </a:lnTo>
                    <a:lnTo>
                      <a:pt x="718" y="340"/>
                    </a:lnTo>
                    <a:lnTo>
                      <a:pt x="717" y="341"/>
                    </a:lnTo>
                    <a:lnTo>
                      <a:pt x="717" y="343"/>
                    </a:lnTo>
                    <a:lnTo>
                      <a:pt x="702" y="343"/>
                    </a:lnTo>
                    <a:lnTo>
                      <a:pt x="701" y="341"/>
                    </a:lnTo>
                    <a:lnTo>
                      <a:pt x="700" y="339"/>
                    </a:lnTo>
                    <a:lnTo>
                      <a:pt x="699" y="338"/>
                    </a:lnTo>
                    <a:lnTo>
                      <a:pt x="696" y="336"/>
                    </a:lnTo>
                    <a:lnTo>
                      <a:pt x="694" y="336"/>
                    </a:lnTo>
                    <a:lnTo>
                      <a:pt x="692" y="336"/>
                    </a:lnTo>
                    <a:lnTo>
                      <a:pt x="689" y="336"/>
                    </a:lnTo>
                    <a:lnTo>
                      <a:pt x="687" y="338"/>
                    </a:lnTo>
                    <a:lnTo>
                      <a:pt x="685" y="339"/>
                    </a:lnTo>
                    <a:lnTo>
                      <a:pt x="684" y="341"/>
                    </a:lnTo>
                    <a:lnTo>
                      <a:pt x="684" y="343"/>
                    </a:lnTo>
                    <a:lnTo>
                      <a:pt x="677" y="343"/>
                    </a:lnTo>
                    <a:lnTo>
                      <a:pt x="677" y="341"/>
                    </a:lnTo>
                    <a:lnTo>
                      <a:pt x="676" y="340"/>
                    </a:lnTo>
                    <a:lnTo>
                      <a:pt x="675" y="339"/>
                    </a:lnTo>
                    <a:lnTo>
                      <a:pt x="673" y="339"/>
                    </a:lnTo>
                    <a:lnTo>
                      <a:pt x="671" y="339"/>
                    </a:lnTo>
                    <a:lnTo>
                      <a:pt x="670" y="340"/>
                    </a:lnTo>
                    <a:lnTo>
                      <a:pt x="669" y="341"/>
                    </a:lnTo>
                    <a:lnTo>
                      <a:pt x="668" y="343"/>
                    </a:lnTo>
                    <a:lnTo>
                      <a:pt x="661" y="343"/>
                    </a:lnTo>
                    <a:lnTo>
                      <a:pt x="661" y="341"/>
                    </a:lnTo>
                    <a:lnTo>
                      <a:pt x="660" y="340"/>
                    </a:lnTo>
                    <a:lnTo>
                      <a:pt x="658" y="339"/>
                    </a:lnTo>
                    <a:lnTo>
                      <a:pt x="657" y="339"/>
                    </a:lnTo>
                    <a:lnTo>
                      <a:pt x="655" y="339"/>
                    </a:lnTo>
                    <a:lnTo>
                      <a:pt x="653" y="340"/>
                    </a:lnTo>
                    <a:lnTo>
                      <a:pt x="652" y="341"/>
                    </a:lnTo>
                    <a:lnTo>
                      <a:pt x="652" y="343"/>
                    </a:lnTo>
                    <a:lnTo>
                      <a:pt x="645" y="343"/>
                    </a:lnTo>
                    <a:lnTo>
                      <a:pt x="644" y="341"/>
                    </a:lnTo>
                    <a:lnTo>
                      <a:pt x="644" y="340"/>
                    </a:lnTo>
                    <a:lnTo>
                      <a:pt x="642" y="339"/>
                    </a:lnTo>
                    <a:lnTo>
                      <a:pt x="640" y="338"/>
                    </a:lnTo>
                    <a:lnTo>
                      <a:pt x="638" y="338"/>
                    </a:lnTo>
                    <a:lnTo>
                      <a:pt x="636" y="338"/>
                    </a:lnTo>
                    <a:lnTo>
                      <a:pt x="634" y="339"/>
                    </a:lnTo>
                    <a:lnTo>
                      <a:pt x="633" y="340"/>
                    </a:lnTo>
                    <a:lnTo>
                      <a:pt x="632" y="341"/>
                    </a:lnTo>
                    <a:lnTo>
                      <a:pt x="632" y="343"/>
                    </a:lnTo>
                    <a:lnTo>
                      <a:pt x="623" y="343"/>
                    </a:lnTo>
                    <a:lnTo>
                      <a:pt x="623" y="341"/>
                    </a:lnTo>
                    <a:lnTo>
                      <a:pt x="622" y="340"/>
                    </a:lnTo>
                    <a:lnTo>
                      <a:pt x="620" y="339"/>
                    </a:lnTo>
                    <a:lnTo>
                      <a:pt x="618" y="339"/>
                    </a:lnTo>
                    <a:lnTo>
                      <a:pt x="617" y="339"/>
                    </a:lnTo>
                    <a:lnTo>
                      <a:pt x="615" y="340"/>
                    </a:lnTo>
                    <a:lnTo>
                      <a:pt x="614" y="341"/>
                    </a:lnTo>
                    <a:lnTo>
                      <a:pt x="614" y="343"/>
                    </a:lnTo>
                    <a:lnTo>
                      <a:pt x="607" y="343"/>
                    </a:lnTo>
                    <a:lnTo>
                      <a:pt x="607" y="341"/>
                    </a:lnTo>
                    <a:lnTo>
                      <a:pt x="606" y="340"/>
                    </a:lnTo>
                    <a:lnTo>
                      <a:pt x="604" y="339"/>
                    </a:lnTo>
                    <a:lnTo>
                      <a:pt x="603" y="339"/>
                    </a:lnTo>
                    <a:lnTo>
                      <a:pt x="601" y="339"/>
                    </a:lnTo>
                    <a:lnTo>
                      <a:pt x="599" y="340"/>
                    </a:lnTo>
                    <a:lnTo>
                      <a:pt x="598" y="341"/>
                    </a:lnTo>
                    <a:lnTo>
                      <a:pt x="598" y="343"/>
                    </a:lnTo>
                    <a:lnTo>
                      <a:pt x="589" y="343"/>
                    </a:lnTo>
                    <a:lnTo>
                      <a:pt x="589" y="341"/>
                    </a:lnTo>
                    <a:lnTo>
                      <a:pt x="588" y="339"/>
                    </a:lnTo>
                    <a:lnTo>
                      <a:pt x="586" y="337"/>
                    </a:lnTo>
                    <a:lnTo>
                      <a:pt x="584" y="336"/>
                    </a:lnTo>
                    <a:lnTo>
                      <a:pt x="582" y="335"/>
                    </a:lnTo>
                    <a:lnTo>
                      <a:pt x="579" y="334"/>
                    </a:lnTo>
                    <a:lnTo>
                      <a:pt x="576" y="334"/>
                    </a:lnTo>
                    <a:lnTo>
                      <a:pt x="574" y="335"/>
                    </a:lnTo>
                    <a:lnTo>
                      <a:pt x="571" y="336"/>
                    </a:lnTo>
                    <a:lnTo>
                      <a:pt x="569" y="337"/>
                    </a:lnTo>
                    <a:lnTo>
                      <a:pt x="568" y="339"/>
                    </a:lnTo>
                    <a:lnTo>
                      <a:pt x="567" y="341"/>
                    </a:lnTo>
                    <a:lnTo>
                      <a:pt x="567" y="343"/>
                    </a:lnTo>
                    <a:lnTo>
                      <a:pt x="532" y="343"/>
                    </a:lnTo>
                    <a:lnTo>
                      <a:pt x="531" y="341"/>
                    </a:lnTo>
                    <a:lnTo>
                      <a:pt x="530" y="340"/>
                    </a:lnTo>
                    <a:lnTo>
                      <a:pt x="529" y="339"/>
                    </a:lnTo>
                    <a:lnTo>
                      <a:pt x="527" y="339"/>
                    </a:lnTo>
                    <a:lnTo>
                      <a:pt x="525" y="339"/>
                    </a:lnTo>
                    <a:lnTo>
                      <a:pt x="524" y="340"/>
                    </a:lnTo>
                    <a:lnTo>
                      <a:pt x="523" y="341"/>
                    </a:lnTo>
                    <a:lnTo>
                      <a:pt x="523" y="343"/>
                    </a:lnTo>
                    <a:lnTo>
                      <a:pt x="512" y="343"/>
                    </a:lnTo>
                    <a:lnTo>
                      <a:pt x="511" y="341"/>
                    </a:lnTo>
                    <a:lnTo>
                      <a:pt x="510" y="339"/>
                    </a:lnTo>
                    <a:lnTo>
                      <a:pt x="509" y="338"/>
                    </a:lnTo>
                    <a:lnTo>
                      <a:pt x="507" y="337"/>
                    </a:lnTo>
                    <a:lnTo>
                      <a:pt x="505" y="336"/>
                    </a:lnTo>
                    <a:lnTo>
                      <a:pt x="503" y="336"/>
                    </a:lnTo>
                    <a:lnTo>
                      <a:pt x="501" y="336"/>
                    </a:lnTo>
                    <a:lnTo>
                      <a:pt x="498" y="337"/>
                    </a:lnTo>
                    <a:lnTo>
                      <a:pt x="497" y="338"/>
                    </a:lnTo>
                    <a:lnTo>
                      <a:pt x="495" y="339"/>
                    </a:lnTo>
                    <a:lnTo>
                      <a:pt x="494" y="341"/>
                    </a:lnTo>
                    <a:lnTo>
                      <a:pt x="494" y="343"/>
                    </a:lnTo>
                    <a:lnTo>
                      <a:pt x="490" y="343"/>
                    </a:lnTo>
                    <a:lnTo>
                      <a:pt x="490" y="341"/>
                    </a:lnTo>
                    <a:lnTo>
                      <a:pt x="489" y="340"/>
                    </a:lnTo>
                    <a:lnTo>
                      <a:pt x="487" y="339"/>
                    </a:lnTo>
                    <a:lnTo>
                      <a:pt x="485" y="339"/>
                    </a:lnTo>
                    <a:lnTo>
                      <a:pt x="484" y="339"/>
                    </a:lnTo>
                    <a:lnTo>
                      <a:pt x="482" y="340"/>
                    </a:lnTo>
                    <a:lnTo>
                      <a:pt x="481" y="341"/>
                    </a:lnTo>
                    <a:lnTo>
                      <a:pt x="481" y="343"/>
                    </a:lnTo>
                    <a:lnTo>
                      <a:pt x="479" y="343"/>
                    </a:lnTo>
                    <a:lnTo>
                      <a:pt x="479" y="341"/>
                    </a:lnTo>
                    <a:lnTo>
                      <a:pt x="478" y="340"/>
                    </a:lnTo>
                    <a:lnTo>
                      <a:pt x="476" y="339"/>
                    </a:lnTo>
                    <a:lnTo>
                      <a:pt x="475" y="339"/>
                    </a:lnTo>
                    <a:lnTo>
                      <a:pt x="473" y="339"/>
                    </a:lnTo>
                    <a:lnTo>
                      <a:pt x="472" y="340"/>
                    </a:lnTo>
                    <a:lnTo>
                      <a:pt x="471" y="341"/>
                    </a:lnTo>
                    <a:lnTo>
                      <a:pt x="470" y="343"/>
                    </a:lnTo>
                    <a:lnTo>
                      <a:pt x="468" y="343"/>
                    </a:lnTo>
                    <a:lnTo>
                      <a:pt x="468" y="341"/>
                    </a:lnTo>
                    <a:lnTo>
                      <a:pt x="467" y="340"/>
                    </a:lnTo>
                    <a:lnTo>
                      <a:pt x="465" y="339"/>
                    </a:lnTo>
                    <a:lnTo>
                      <a:pt x="464" y="338"/>
                    </a:lnTo>
                    <a:lnTo>
                      <a:pt x="462" y="338"/>
                    </a:lnTo>
                    <a:lnTo>
                      <a:pt x="460" y="338"/>
                    </a:lnTo>
                    <a:lnTo>
                      <a:pt x="458" y="339"/>
                    </a:lnTo>
                    <a:lnTo>
                      <a:pt x="456" y="340"/>
                    </a:lnTo>
                    <a:lnTo>
                      <a:pt x="455" y="341"/>
                    </a:lnTo>
                    <a:lnTo>
                      <a:pt x="455" y="343"/>
                    </a:lnTo>
                    <a:lnTo>
                      <a:pt x="446" y="343"/>
                    </a:lnTo>
                    <a:lnTo>
                      <a:pt x="446" y="241"/>
                    </a:lnTo>
                    <a:lnTo>
                      <a:pt x="317" y="241"/>
                    </a:lnTo>
                    <a:lnTo>
                      <a:pt x="317" y="240"/>
                    </a:lnTo>
                    <a:lnTo>
                      <a:pt x="316" y="239"/>
                    </a:lnTo>
                    <a:lnTo>
                      <a:pt x="314" y="238"/>
                    </a:lnTo>
                    <a:lnTo>
                      <a:pt x="313" y="238"/>
                    </a:lnTo>
                    <a:lnTo>
                      <a:pt x="311" y="238"/>
                    </a:lnTo>
                    <a:lnTo>
                      <a:pt x="309" y="239"/>
                    </a:lnTo>
                    <a:lnTo>
                      <a:pt x="308" y="240"/>
                    </a:lnTo>
                    <a:lnTo>
                      <a:pt x="308" y="241"/>
                    </a:lnTo>
                    <a:lnTo>
                      <a:pt x="281" y="241"/>
                    </a:lnTo>
                    <a:lnTo>
                      <a:pt x="281" y="85"/>
                    </a:lnTo>
                    <a:lnTo>
                      <a:pt x="271" y="85"/>
                    </a:lnTo>
                    <a:lnTo>
                      <a:pt x="271" y="84"/>
                    </a:lnTo>
                    <a:lnTo>
                      <a:pt x="270" y="83"/>
                    </a:lnTo>
                    <a:lnTo>
                      <a:pt x="269" y="82"/>
                    </a:lnTo>
                    <a:lnTo>
                      <a:pt x="267" y="82"/>
                    </a:lnTo>
                    <a:lnTo>
                      <a:pt x="265" y="82"/>
                    </a:lnTo>
                    <a:lnTo>
                      <a:pt x="264" y="83"/>
                    </a:lnTo>
                    <a:lnTo>
                      <a:pt x="263" y="84"/>
                    </a:lnTo>
                    <a:lnTo>
                      <a:pt x="262" y="85"/>
                    </a:lnTo>
                    <a:lnTo>
                      <a:pt x="206" y="85"/>
                    </a:lnTo>
                    <a:lnTo>
                      <a:pt x="205" y="84"/>
                    </a:lnTo>
                    <a:lnTo>
                      <a:pt x="204" y="83"/>
                    </a:lnTo>
                    <a:lnTo>
                      <a:pt x="203" y="82"/>
                    </a:lnTo>
                    <a:lnTo>
                      <a:pt x="201" y="82"/>
                    </a:lnTo>
                    <a:lnTo>
                      <a:pt x="199" y="82"/>
                    </a:lnTo>
                    <a:lnTo>
                      <a:pt x="198" y="83"/>
                    </a:lnTo>
                    <a:lnTo>
                      <a:pt x="197" y="84"/>
                    </a:lnTo>
                    <a:lnTo>
                      <a:pt x="197" y="85"/>
                    </a:lnTo>
                    <a:lnTo>
                      <a:pt x="178" y="85"/>
                    </a:lnTo>
                    <a:lnTo>
                      <a:pt x="177" y="84"/>
                    </a:lnTo>
                    <a:lnTo>
                      <a:pt x="177" y="83"/>
                    </a:lnTo>
                    <a:lnTo>
                      <a:pt x="175" y="82"/>
                    </a:lnTo>
                    <a:lnTo>
                      <a:pt x="173" y="82"/>
                    </a:lnTo>
                    <a:lnTo>
                      <a:pt x="172" y="82"/>
                    </a:lnTo>
                    <a:lnTo>
                      <a:pt x="170" y="83"/>
                    </a:lnTo>
                    <a:lnTo>
                      <a:pt x="169" y="84"/>
                    </a:lnTo>
                    <a:lnTo>
                      <a:pt x="169" y="85"/>
                    </a:lnTo>
                    <a:lnTo>
                      <a:pt x="154" y="85"/>
                    </a:lnTo>
                    <a:lnTo>
                      <a:pt x="154" y="83"/>
                    </a:lnTo>
                    <a:lnTo>
                      <a:pt x="153" y="82"/>
                    </a:lnTo>
                    <a:lnTo>
                      <a:pt x="152" y="80"/>
                    </a:lnTo>
                    <a:lnTo>
                      <a:pt x="150" y="79"/>
                    </a:lnTo>
                    <a:lnTo>
                      <a:pt x="147" y="79"/>
                    </a:lnTo>
                    <a:lnTo>
                      <a:pt x="145" y="79"/>
                    </a:lnTo>
                    <a:lnTo>
                      <a:pt x="143" y="79"/>
                    </a:lnTo>
                    <a:lnTo>
                      <a:pt x="141" y="80"/>
                    </a:lnTo>
                    <a:lnTo>
                      <a:pt x="139" y="82"/>
                    </a:lnTo>
                    <a:lnTo>
                      <a:pt x="138" y="83"/>
                    </a:lnTo>
                    <a:lnTo>
                      <a:pt x="138" y="85"/>
                    </a:lnTo>
                    <a:lnTo>
                      <a:pt x="125" y="85"/>
                    </a:lnTo>
                    <a:lnTo>
                      <a:pt x="125" y="84"/>
                    </a:lnTo>
                    <a:lnTo>
                      <a:pt x="124" y="83"/>
                    </a:lnTo>
                    <a:lnTo>
                      <a:pt x="122" y="82"/>
                    </a:lnTo>
                    <a:lnTo>
                      <a:pt x="121" y="82"/>
                    </a:lnTo>
                    <a:lnTo>
                      <a:pt x="119" y="82"/>
                    </a:lnTo>
                    <a:lnTo>
                      <a:pt x="117" y="83"/>
                    </a:lnTo>
                    <a:lnTo>
                      <a:pt x="117" y="84"/>
                    </a:lnTo>
                    <a:lnTo>
                      <a:pt x="116" y="85"/>
                    </a:lnTo>
                    <a:lnTo>
                      <a:pt x="105" y="85"/>
                    </a:lnTo>
                    <a:lnTo>
                      <a:pt x="105" y="84"/>
                    </a:lnTo>
                    <a:lnTo>
                      <a:pt x="104" y="83"/>
                    </a:lnTo>
                    <a:lnTo>
                      <a:pt x="102" y="82"/>
                    </a:lnTo>
                    <a:lnTo>
                      <a:pt x="100" y="82"/>
                    </a:lnTo>
                    <a:lnTo>
                      <a:pt x="99" y="82"/>
                    </a:lnTo>
                    <a:lnTo>
                      <a:pt x="97" y="83"/>
                    </a:lnTo>
                    <a:lnTo>
                      <a:pt x="96" y="84"/>
                    </a:lnTo>
                    <a:lnTo>
                      <a:pt x="96" y="85"/>
                    </a:lnTo>
                    <a:lnTo>
                      <a:pt x="94" y="85"/>
                    </a:lnTo>
                    <a:lnTo>
                      <a:pt x="94" y="84"/>
                    </a:lnTo>
                    <a:lnTo>
                      <a:pt x="93" y="83"/>
                    </a:lnTo>
                    <a:lnTo>
                      <a:pt x="91" y="82"/>
                    </a:lnTo>
                    <a:lnTo>
                      <a:pt x="89" y="82"/>
                    </a:lnTo>
                    <a:lnTo>
                      <a:pt x="88" y="82"/>
                    </a:lnTo>
                    <a:lnTo>
                      <a:pt x="86" y="83"/>
                    </a:lnTo>
                    <a:lnTo>
                      <a:pt x="85" y="84"/>
                    </a:lnTo>
                    <a:lnTo>
                      <a:pt x="85" y="85"/>
                    </a:lnTo>
                    <a:lnTo>
                      <a:pt x="74" y="85"/>
                    </a:lnTo>
                    <a:lnTo>
                      <a:pt x="74" y="84"/>
                    </a:lnTo>
                    <a:lnTo>
                      <a:pt x="73" y="83"/>
                    </a:lnTo>
                    <a:lnTo>
                      <a:pt x="71" y="82"/>
                    </a:lnTo>
                    <a:lnTo>
                      <a:pt x="70" y="82"/>
                    </a:lnTo>
                    <a:lnTo>
                      <a:pt x="68" y="82"/>
                    </a:lnTo>
                    <a:lnTo>
                      <a:pt x="66" y="83"/>
                    </a:lnTo>
                    <a:lnTo>
                      <a:pt x="65" y="84"/>
                    </a:lnTo>
                    <a:lnTo>
                      <a:pt x="65" y="85"/>
                    </a:lnTo>
                    <a:lnTo>
                      <a:pt x="21" y="85"/>
                    </a:lnTo>
                    <a:lnTo>
                      <a:pt x="20" y="84"/>
                    </a:lnTo>
                    <a:lnTo>
                      <a:pt x="19" y="83"/>
                    </a:lnTo>
                    <a:lnTo>
                      <a:pt x="18" y="82"/>
                    </a:lnTo>
                    <a:lnTo>
                      <a:pt x="16" y="82"/>
                    </a:lnTo>
                    <a:lnTo>
                      <a:pt x="14" y="82"/>
                    </a:lnTo>
                    <a:lnTo>
                      <a:pt x="13" y="83"/>
                    </a:lnTo>
                    <a:lnTo>
                      <a:pt x="12" y="84"/>
                    </a:lnTo>
                    <a:lnTo>
                      <a:pt x="12" y="85"/>
                    </a:lnTo>
                    <a:lnTo>
                      <a:pt x="0" y="8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5315400" y="273348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58" name=""/>
              <p:cNvSpPr/>
              <p:nvPr/>
            </p:nvSpPr>
            <p:spPr>
              <a:xfrm>
                <a:off x="5123880" y="2701080"/>
                <a:ext cx="1555200" cy="429840"/>
              </a:xfrm>
              <a:custGeom>
                <a:avLst/>
                <a:gdLst/>
                <a:ahLst/>
                <a:rect l="l" t="t" r="r" b="b"/>
                <a:pathLst>
                  <a:path w="1469" h="322">
                    <a:moveTo>
                      <a:pt x="1469" y="322"/>
                    </a:moveTo>
                    <a:lnTo>
                      <a:pt x="1431" y="322"/>
                    </a:lnTo>
                    <a:lnTo>
                      <a:pt x="1431" y="320"/>
                    </a:lnTo>
                    <a:lnTo>
                      <a:pt x="1430" y="319"/>
                    </a:lnTo>
                    <a:lnTo>
                      <a:pt x="1428" y="318"/>
                    </a:lnTo>
                    <a:lnTo>
                      <a:pt x="1427" y="318"/>
                    </a:lnTo>
                    <a:lnTo>
                      <a:pt x="1425" y="318"/>
                    </a:lnTo>
                    <a:lnTo>
                      <a:pt x="1424" y="319"/>
                    </a:lnTo>
                    <a:lnTo>
                      <a:pt x="1422" y="320"/>
                    </a:lnTo>
                    <a:lnTo>
                      <a:pt x="1422" y="322"/>
                    </a:lnTo>
                    <a:lnTo>
                      <a:pt x="1404" y="322"/>
                    </a:lnTo>
                    <a:lnTo>
                      <a:pt x="1404" y="320"/>
                    </a:lnTo>
                    <a:lnTo>
                      <a:pt x="1402" y="319"/>
                    </a:lnTo>
                    <a:lnTo>
                      <a:pt x="1401" y="318"/>
                    </a:lnTo>
                    <a:lnTo>
                      <a:pt x="1399" y="318"/>
                    </a:lnTo>
                    <a:lnTo>
                      <a:pt x="1398" y="318"/>
                    </a:lnTo>
                    <a:lnTo>
                      <a:pt x="1396" y="319"/>
                    </a:lnTo>
                    <a:lnTo>
                      <a:pt x="1395" y="320"/>
                    </a:lnTo>
                    <a:lnTo>
                      <a:pt x="1395" y="322"/>
                    </a:lnTo>
                    <a:lnTo>
                      <a:pt x="1391" y="322"/>
                    </a:lnTo>
                    <a:lnTo>
                      <a:pt x="1390" y="320"/>
                    </a:lnTo>
                    <a:lnTo>
                      <a:pt x="1389" y="319"/>
                    </a:lnTo>
                    <a:lnTo>
                      <a:pt x="1388" y="318"/>
                    </a:lnTo>
                    <a:lnTo>
                      <a:pt x="1386" y="318"/>
                    </a:lnTo>
                    <a:lnTo>
                      <a:pt x="1384" y="318"/>
                    </a:lnTo>
                    <a:lnTo>
                      <a:pt x="1383" y="319"/>
                    </a:lnTo>
                    <a:lnTo>
                      <a:pt x="1382" y="320"/>
                    </a:lnTo>
                    <a:lnTo>
                      <a:pt x="1382" y="322"/>
                    </a:lnTo>
                    <a:lnTo>
                      <a:pt x="1343" y="322"/>
                    </a:lnTo>
                    <a:lnTo>
                      <a:pt x="1343" y="320"/>
                    </a:lnTo>
                    <a:lnTo>
                      <a:pt x="1342" y="318"/>
                    </a:lnTo>
                    <a:lnTo>
                      <a:pt x="1340" y="316"/>
                    </a:lnTo>
                    <a:lnTo>
                      <a:pt x="1338" y="315"/>
                    </a:lnTo>
                    <a:lnTo>
                      <a:pt x="1336" y="315"/>
                    </a:lnTo>
                    <a:lnTo>
                      <a:pt x="1333" y="315"/>
                    </a:lnTo>
                    <a:lnTo>
                      <a:pt x="1331" y="315"/>
                    </a:lnTo>
                    <a:lnTo>
                      <a:pt x="1329" y="316"/>
                    </a:lnTo>
                    <a:lnTo>
                      <a:pt x="1327" y="318"/>
                    </a:lnTo>
                    <a:lnTo>
                      <a:pt x="1326" y="320"/>
                    </a:lnTo>
                    <a:lnTo>
                      <a:pt x="1326" y="322"/>
                    </a:lnTo>
                    <a:lnTo>
                      <a:pt x="1321" y="322"/>
                    </a:lnTo>
                    <a:lnTo>
                      <a:pt x="1321" y="320"/>
                    </a:lnTo>
                    <a:lnTo>
                      <a:pt x="1320" y="319"/>
                    </a:lnTo>
                    <a:lnTo>
                      <a:pt x="1319" y="318"/>
                    </a:lnTo>
                    <a:lnTo>
                      <a:pt x="1317" y="318"/>
                    </a:lnTo>
                    <a:lnTo>
                      <a:pt x="1315" y="318"/>
                    </a:lnTo>
                    <a:lnTo>
                      <a:pt x="1314" y="319"/>
                    </a:lnTo>
                    <a:lnTo>
                      <a:pt x="1313" y="320"/>
                    </a:lnTo>
                    <a:lnTo>
                      <a:pt x="1312" y="322"/>
                    </a:lnTo>
                    <a:lnTo>
                      <a:pt x="1310" y="322"/>
                    </a:lnTo>
                    <a:lnTo>
                      <a:pt x="1309" y="320"/>
                    </a:lnTo>
                    <a:lnTo>
                      <a:pt x="1308" y="319"/>
                    </a:lnTo>
                    <a:lnTo>
                      <a:pt x="1307" y="318"/>
                    </a:lnTo>
                    <a:lnTo>
                      <a:pt x="1305" y="318"/>
                    </a:lnTo>
                    <a:lnTo>
                      <a:pt x="1303" y="318"/>
                    </a:lnTo>
                    <a:lnTo>
                      <a:pt x="1302" y="319"/>
                    </a:lnTo>
                    <a:lnTo>
                      <a:pt x="1301" y="320"/>
                    </a:lnTo>
                    <a:lnTo>
                      <a:pt x="1301" y="322"/>
                    </a:lnTo>
                    <a:lnTo>
                      <a:pt x="1290" y="322"/>
                    </a:lnTo>
                    <a:lnTo>
                      <a:pt x="1290" y="320"/>
                    </a:lnTo>
                    <a:lnTo>
                      <a:pt x="1289" y="319"/>
                    </a:lnTo>
                    <a:lnTo>
                      <a:pt x="1287" y="318"/>
                    </a:lnTo>
                    <a:lnTo>
                      <a:pt x="1286" y="318"/>
                    </a:lnTo>
                    <a:lnTo>
                      <a:pt x="1284" y="318"/>
                    </a:lnTo>
                    <a:lnTo>
                      <a:pt x="1283" y="319"/>
                    </a:lnTo>
                    <a:lnTo>
                      <a:pt x="1282" y="320"/>
                    </a:lnTo>
                    <a:lnTo>
                      <a:pt x="1281" y="322"/>
                    </a:lnTo>
                    <a:lnTo>
                      <a:pt x="1270" y="322"/>
                    </a:lnTo>
                    <a:lnTo>
                      <a:pt x="1270" y="320"/>
                    </a:lnTo>
                    <a:lnTo>
                      <a:pt x="1269" y="319"/>
                    </a:lnTo>
                    <a:lnTo>
                      <a:pt x="1268" y="318"/>
                    </a:lnTo>
                    <a:lnTo>
                      <a:pt x="1266" y="318"/>
                    </a:lnTo>
                    <a:lnTo>
                      <a:pt x="1264" y="318"/>
                    </a:lnTo>
                    <a:lnTo>
                      <a:pt x="1263" y="319"/>
                    </a:lnTo>
                    <a:lnTo>
                      <a:pt x="1262" y="320"/>
                    </a:lnTo>
                    <a:lnTo>
                      <a:pt x="1261" y="322"/>
                    </a:lnTo>
                    <a:lnTo>
                      <a:pt x="1249" y="322"/>
                    </a:lnTo>
                    <a:lnTo>
                      <a:pt x="1248" y="320"/>
                    </a:lnTo>
                    <a:lnTo>
                      <a:pt x="1247" y="319"/>
                    </a:lnTo>
                    <a:lnTo>
                      <a:pt x="1246" y="318"/>
                    </a:lnTo>
                    <a:lnTo>
                      <a:pt x="1244" y="318"/>
                    </a:lnTo>
                    <a:lnTo>
                      <a:pt x="1243" y="318"/>
                    </a:lnTo>
                    <a:lnTo>
                      <a:pt x="1241" y="319"/>
                    </a:lnTo>
                    <a:lnTo>
                      <a:pt x="1240" y="320"/>
                    </a:lnTo>
                    <a:lnTo>
                      <a:pt x="1240" y="322"/>
                    </a:lnTo>
                    <a:lnTo>
                      <a:pt x="1225" y="322"/>
                    </a:lnTo>
                    <a:lnTo>
                      <a:pt x="1225" y="320"/>
                    </a:lnTo>
                    <a:lnTo>
                      <a:pt x="1224" y="319"/>
                    </a:lnTo>
                    <a:lnTo>
                      <a:pt x="1222" y="318"/>
                    </a:lnTo>
                    <a:lnTo>
                      <a:pt x="1221" y="318"/>
                    </a:lnTo>
                    <a:lnTo>
                      <a:pt x="1219" y="318"/>
                    </a:lnTo>
                    <a:lnTo>
                      <a:pt x="1217" y="319"/>
                    </a:lnTo>
                    <a:lnTo>
                      <a:pt x="1217" y="320"/>
                    </a:lnTo>
                    <a:lnTo>
                      <a:pt x="1216" y="322"/>
                    </a:lnTo>
                    <a:lnTo>
                      <a:pt x="1189" y="322"/>
                    </a:lnTo>
                    <a:lnTo>
                      <a:pt x="1189" y="320"/>
                    </a:lnTo>
                    <a:lnTo>
                      <a:pt x="1188" y="319"/>
                    </a:lnTo>
                    <a:lnTo>
                      <a:pt x="1186" y="317"/>
                    </a:lnTo>
                    <a:lnTo>
                      <a:pt x="1185" y="317"/>
                    </a:lnTo>
                    <a:lnTo>
                      <a:pt x="1182" y="316"/>
                    </a:lnTo>
                    <a:lnTo>
                      <a:pt x="1180" y="317"/>
                    </a:lnTo>
                    <a:lnTo>
                      <a:pt x="1178" y="317"/>
                    </a:lnTo>
                    <a:lnTo>
                      <a:pt x="1177" y="319"/>
                    </a:lnTo>
                    <a:lnTo>
                      <a:pt x="1176" y="320"/>
                    </a:lnTo>
                    <a:lnTo>
                      <a:pt x="1176" y="322"/>
                    </a:lnTo>
                    <a:lnTo>
                      <a:pt x="1168" y="322"/>
                    </a:lnTo>
                    <a:lnTo>
                      <a:pt x="1167" y="320"/>
                    </a:lnTo>
                    <a:lnTo>
                      <a:pt x="1166" y="319"/>
                    </a:lnTo>
                    <a:lnTo>
                      <a:pt x="1165" y="318"/>
                    </a:lnTo>
                    <a:lnTo>
                      <a:pt x="1163" y="318"/>
                    </a:lnTo>
                    <a:lnTo>
                      <a:pt x="1161" y="318"/>
                    </a:lnTo>
                    <a:lnTo>
                      <a:pt x="1160" y="319"/>
                    </a:lnTo>
                    <a:lnTo>
                      <a:pt x="1159" y="320"/>
                    </a:lnTo>
                    <a:lnTo>
                      <a:pt x="1159" y="322"/>
                    </a:lnTo>
                    <a:lnTo>
                      <a:pt x="1119" y="322"/>
                    </a:lnTo>
                    <a:lnTo>
                      <a:pt x="1118" y="320"/>
                    </a:lnTo>
                    <a:lnTo>
                      <a:pt x="1118" y="319"/>
                    </a:lnTo>
                    <a:lnTo>
                      <a:pt x="1116" y="318"/>
                    </a:lnTo>
                    <a:lnTo>
                      <a:pt x="1114" y="318"/>
                    </a:lnTo>
                    <a:lnTo>
                      <a:pt x="1112" y="318"/>
                    </a:lnTo>
                    <a:lnTo>
                      <a:pt x="1111" y="319"/>
                    </a:lnTo>
                    <a:lnTo>
                      <a:pt x="1110" y="320"/>
                    </a:lnTo>
                    <a:lnTo>
                      <a:pt x="1110" y="322"/>
                    </a:lnTo>
                    <a:lnTo>
                      <a:pt x="1097" y="322"/>
                    </a:lnTo>
                    <a:lnTo>
                      <a:pt x="1096" y="320"/>
                    </a:lnTo>
                    <a:lnTo>
                      <a:pt x="1096" y="318"/>
                    </a:lnTo>
                    <a:lnTo>
                      <a:pt x="1094" y="317"/>
                    </a:lnTo>
                    <a:lnTo>
                      <a:pt x="1092" y="316"/>
                    </a:lnTo>
                    <a:lnTo>
                      <a:pt x="1090" y="315"/>
                    </a:lnTo>
                    <a:lnTo>
                      <a:pt x="1088" y="315"/>
                    </a:lnTo>
                    <a:lnTo>
                      <a:pt x="1085" y="316"/>
                    </a:lnTo>
                    <a:lnTo>
                      <a:pt x="1083" y="317"/>
                    </a:lnTo>
                    <a:lnTo>
                      <a:pt x="1082" y="318"/>
                    </a:lnTo>
                    <a:lnTo>
                      <a:pt x="1081" y="320"/>
                    </a:lnTo>
                    <a:lnTo>
                      <a:pt x="1081" y="322"/>
                    </a:lnTo>
                    <a:lnTo>
                      <a:pt x="1026" y="322"/>
                    </a:lnTo>
                    <a:lnTo>
                      <a:pt x="1025" y="320"/>
                    </a:lnTo>
                    <a:lnTo>
                      <a:pt x="1025" y="319"/>
                    </a:lnTo>
                    <a:lnTo>
                      <a:pt x="1023" y="318"/>
                    </a:lnTo>
                    <a:lnTo>
                      <a:pt x="1021" y="318"/>
                    </a:lnTo>
                    <a:lnTo>
                      <a:pt x="1020" y="318"/>
                    </a:lnTo>
                    <a:lnTo>
                      <a:pt x="1018" y="319"/>
                    </a:lnTo>
                    <a:lnTo>
                      <a:pt x="1017" y="320"/>
                    </a:lnTo>
                    <a:lnTo>
                      <a:pt x="1017" y="322"/>
                    </a:lnTo>
                    <a:lnTo>
                      <a:pt x="1012" y="322"/>
                    </a:lnTo>
                    <a:lnTo>
                      <a:pt x="1012" y="320"/>
                    </a:lnTo>
                    <a:lnTo>
                      <a:pt x="1011" y="319"/>
                    </a:lnTo>
                    <a:lnTo>
                      <a:pt x="1010" y="318"/>
                    </a:lnTo>
                    <a:lnTo>
                      <a:pt x="1008" y="318"/>
                    </a:lnTo>
                    <a:lnTo>
                      <a:pt x="1006" y="318"/>
                    </a:lnTo>
                    <a:lnTo>
                      <a:pt x="1005" y="319"/>
                    </a:lnTo>
                    <a:lnTo>
                      <a:pt x="1004" y="320"/>
                    </a:lnTo>
                    <a:lnTo>
                      <a:pt x="1003" y="322"/>
                    </a:lnTo>
                    <a:lnTo>
                      <a:pt x="982" y="322"/>
                    </a:lnTo>
                    <a:lnTo>
                      <a:pt x="982" y="320"/>
                    </a:lnTo>
                    <a:lnTo>
                      <a:pt x="981" y="319"/>
                    </a:lnTo>
                    <a:lnTo>
                      <a:pt x="979" y="318"/>
                    </a:lnTo>
                    <a:lnTo>
                      <a:pt x="978" y="318"/>
                    </a:lnTo>
                    <a:lnTo>
                      <a:pt x="976" y="318"/>
                    </a:lnTo>
                    <a:lnTo>
                      <a:pt x="974" y="319"/>
                    </a:lnTo>
                    <a:lnTo>
                      <a:pt x="973" y="320"/>
                    </a:lnTo>
                    <a:lnTo>
                      <a:pt x="973" y="322"/>
                    </a:lnTo>
                    <a:lnTo>
                      <a:pt x="955" y="322"/>
                    </a:lnTo>
                    <a:lnTo>
                      <a:pt x="955" y="320"/>
                    </a:lnTo>
                    <a:lnTo>
                      <a:pt x="954" y="319"/>
                    </a:lnTo>
                    <a:lnTo>
                      <a:pt x="952" y="318"/>
                    </a:lnTo>
                    <a:lnTo>
                      <a:pt x="951" y="318"/>
                    </a:lnTo>
                    <a:lnTo>
                      <a:pt x="949" y="318"/>
                    </a:lnTo>
                    <a:lnTo>
                      <a:pt x="947" y="319"/>
                    </a:lnTo>
                    <a:lnTo>
                      <a:pt x="946" y="320"/>
                    </a:lnTo>
                    <a:lnTo>
                      <a:pt x="946" y="322"/>
                    </a:lnTo>
                    <a:lnTo>
                      <a:pt x="889" y="322"/>
                    </a:lnTo>
                    <a:lnTo>
                      <a:pt x="888" y="320"/>
                    </a:lnTo>
                    <a:lnTo>
                      <a:pt x="887" y="318"/>
                    </a:lnTo>
                    <a:lnTo>
                      <a:pt x="886" y="316"/>
                    </a:lnTo>
                    <a:lnTo>
                      <a:pt x="883" y="315"/>
                    </a:lnTo>
                    <a:lnTo>
                      <a:pt x="881" y="315"/>
                    </a:lnTo>
                    <a:lnTo>
                      <a:pt x="879" y="315"/>
                    </a:lnTo>
                    <a:lnTo>
                      <a:pt x="876" y="315"/>
                    </a:lnTo>
                    <a:lnTo>
                      <a:pt x="874" y="316"/>
                    </a:lnTo>
                    <a:lnTo>
                      <a:pt x="872" y="318"/>
                    </a:lnTo>
                    <a:lnTo>
                      <a:pt x="871" y="320"/>
                    </a:lnTo>
                    <a:lnTo>
                      <a:pt x="871" y="322"/>
                    </a:lnTo>
                    <a:lnTo>
                      <a:pt x="864" y="322"/>
                    </a:lnTo>
                    <a:lnTo>
                      <a:pt x="864" y="320"/>
                    </a:lnTo>
                    <a:lnTo>
                      <a:pt x="863" y="319"/>
                    </a:lnTo>
                    <a:lnTo>
                      <a:pt x="862" y="318"/>
                    </a:lnTo>
                    <a:lnTo>
                      <a:pt x="860" y="318"/>
                    </a:lnTo>
                    <a:lnTo>
                      <a:pt x="858" y="318"/>
                    </a:lnTo>
                    <a:lnTo>
                      <a:pt x="857" y="319"/>
                    </a:lnTo>
                    <a:lnTo>
                      <a:pt x="856" y="320"/>
                    </a:lnTo>
                    <a:lnTo>
                      <a:pt x="855" y="322"/>
                    </a:lnTo>
                    <a:lnTo>
                      <a:pt x="832" y="322"/>
                    </a:lnTo>
                    <a:lnTo>
                      <a:pt x="831" y="320"/>
                    </a:lnTo>
                    <a:lnTo>
                      <a:pt x="831" y="319"/>
                    </a:lnTo>
                    <a:lnTo>
                      <a:pt x="829" y="317"/>
                    </a:lnTo>
                    <a:lnTo>
                      <a:pt x="827" y="317"/>
                    </a:lnTo>
                    <a:lnTo>
                      <a:pt x="825" y="316"/>
                    </a:lnTo>
                    <a:lnTo>
                      <a:pt x="823" y="317"/>
                    </a:lnTo>
                    <a:lnTo>
                      <a:pt x="821" y="317"/>
                    </a:lnTo>
                    <a:lnTo>
                      <a:pt x="820" y="319"/>
                    </a:lnTo>
                    <a:lnTo>
                      <a:pt x="819" y="320"/>
                    </a:lnTo>
                    <a:lnTo>
                      <a:pt x="819" y="322"/>
                    </a:lnTo>
                    <a:lnTo>
                      <a:pt x="810" y="322"/>
                    </a:lnTo>
                    <a:lnTo>
                      <a:pt x="810" y="320"/>
                    </a:lnTo>
                    <a:lnTo>
                      <a:pt x="809" y="319"/>
                    </a:lnTo>
                    <a:lnTo>
                      <a:pt x="807" y="318"/>
                    </a:lnTo>
                    <a:lnTo>
                      <a:pt x="805" y="318"/>
                    </a:lnTo>
                    <a:lnTo>
                      <a:pt x="804" y="318"/>
                    </a:lnTo>
                    <a:lnTo>
                      <a:pt x="802" y="319"/>
                    </a:lnTo>
                    <a:lnTo>
                      <a:pt x="801" y="320"/>
                    </a:lnTo>
                    <a:lnTo>
                      <a:pt x="801" y="322"/>
                    </a:lnTo>
                    <a:lnTo>
                      <a:pt x="794" y="322"/>
                    </a:lnTo>
                    <a:lnTo>
                      <a:pt x="794" y="320"/>
                    </a:lnTo>
                    <a:lnTo>
                      <a:pt x="793" y="319"/>
                    </a:lnTo>
                    <a:lnTo>
                      <a:pt x="791" y="318"/>
                    </a:lnTo>
                    <a:lnTo>
                      <a:pt x="790" y="318"/>
                    </a:lnTo>
                    <a:lnTo>
                      <a:pt x="788" y="318"/>
                    </a:lnTo>
                    <a:lnTo>
                      <a:pt x="786" y="319"/>
                    </a:lnTo>
                    <a:lnTo>
                      <a:pt x="785" y="320"/>
                    </a:lnTo>
                    <a:lnTo>
                      <a:pt x="785" y="322"/>
                    </a:lnTo>
                    <a:lnTo>
                      <a:pt x="776" y="322"/>
                    </a:lnTo>
                    <a:lnTo>
                      <a:pt x="776" y="319"/>
                    </a:lnTo>
                    <a:lnTo>
                      <a:pt x="775" y="318"/>
                    </a:lnTo>
                    <a:lnTo>
                      <a:pt x="773" y="316"/>
                    </a:lnTo>
                    <a:lnTo>
                      <a:pt x="771" y="314"/>
                    </a:lnTo>
                    <a:lnTo>
                      <a:pt x="769" y="313"/>
                    </a:lnTo>
                    <a:lnTo>
                      <a:pt x="766" y="313"/>
                    </a:lnTo>
                    <a:lnTo>
                      <a:pt x="763" y="313"/>
                    </a:lnTo>
                    <a:lnTo>
                      <a:pt x="761" y="313"/>
                    </a:lnTo>
                    <a:lnTo>
                      <a:pt x="758" y="314"/>
                    </a:lnTo>
                    <a:lnTo>
                      <a:pt x="756" y="316"/>
                    </a:lnTo>
                    <a:lnTo>
                      <a:pt x="755" y="318"/>
                    </a:lnTo>
                    <a:lnTo>
                      <a:pt x="754" y="319"/>
                    </a:lnTo>
                    <a:lnTo>
                      <a:pt x="754" y="322"/>
                    </a:lnTo>
                    <a:lnTo>
                      <a:pt x="719" y="322"/>
                    </a:lnTo>
                    <a:lnTo>
                      <a:pt x="718" y="320"/>
                    </a:lnTo>
                    <a:lnTo>
                      <a:pt x="717" y="319"/>
                    </a:lnTo>
                    <a:lnTo>
                      <a:pt x="716" y="318"/>
                    </a:lnTo>
                    <a:lnTo>
                      <a:pt x="714" y="318"/>
                    </a:lnTo>
                    <a:lnTo>
                      <a:pt x="712" y="318"/>
                    </a:lnTo>
                    <a:lnTo>
                      <a:pt x="711" y="319"/>
                    </a:lnTo>
                    <a:lnTo>
                      <a:pt x="710" y="320"/>
                    </a:lnTo>
                    <a:lnTo>
                      <a:pt x="710" y="322"/>
                    </a:lnTo>
                    <a:lnTo>
                      <a:pt x="699" y="322"/>
                    </a:lnTo>
                    <a:lnTo>
                      <a:pt x="698" y="320"/>
                    </a:lnTo>
                    <a:lnTo>
                      <a:pt x="697" y="319"/>
                    </a:lnTo>
                    <a:lnTo>
                      <a:pt x="696" y="318"/>
                    </a:lnTo>
                    <a:lnTo>
                      <a:pt x="694" y="318"/>
                    </a:lnTo>
                    <a:lnTo>
                      <a:pt x="693" y="318"/>
                    </a:lnTo>
                    <a:lnTo>
                      <a:pt x="691" y="319"/>
                    </a:lnTo>
                    <a:lnTo>
                      <a:pt x="690" y="320"/>
                    </a:lnTo>
                    <a:lnTo>
                      <a:pt x="690" y="322"/>
                    </a:lnTo>
                    <a:lnTo>
                      <a:pt x="666" y="322"/>
                    </a:lnTo>
                    <a:lnTo>
                      <a:pt x="666" y="320"/>
                    </a:lnTo>
                    <a:lnTo>
                      <a:pt x="665" y="319"/>
                    </a:lnTo>
                    <a:lnTo>
                      <a:pt x="663" y="318"/>
                    </a:lnTo>
                    <a:lnTo>
                      <a:pt x="662" y="318"/>
                    </a:lnTo>
                    <a:lnTo>
                      <a:pt x="660" y="318"/>
                    </a:lnTo>
                    <a:lnTo>
                      <a:pt x="659" y="319"/>
                    </a:lnTo>
                    <a:lnTo>
                      <a:pt x="658" y="320"/>
                    </a:lnTo>
                    <a:lnTo>
                      <a:pt x="657" y="322"/>
                    </a:lnTo>
                    <a:lnTo>
                      <a:pt x="655" y="322"/>
                    </a:lnTo>
                    <a:lnTo>
                      <a:pt x="655" y="320"/>
                    </a:lnTo>
                    <a:lnTo>
                      <a:pt x="654" y="319"/>
                    </a:lnTo>
                    <a:lnTo>
                      <a:pt x="652" y="317"/>
                    </a:lnTo>
                    <a:lnTo>
                      <a:pt x="651" y="317"/>
                    </a:lnTo>
                    <a:lnTo>
                      <a:pt x="649" y="317"/>
                    </a:lnTo>
                    <a:lnTo>
                      <a:pt x="647" y="317"/>
                    </a:lnTo>
                    <a:lnTo>
                      <a:pt x="645" y="317"/>
                    </a:lnTo>
                    <a:lnTo>
                      <a:pt x="643" y="319"/>
                    </a:lnTo>
                    <a:lnTo>
                      <a:pt x="642" y="320"/>
                    </a:lnTo>
                    <a:lnTo>
                      <a:pt x="642" y="322"/>
                    </a:lnTo>
                    <a:lnTo>
                      <a:pt x="638" y="322"/>
                    </a:lnTo>
                    <a:lnTo>
                      <a:pt x="637" y="320"/>
                    </a:lnTo>
                    <a:lnTo>
                      <a:pt x="636" y="319"/>
                    </a:lnTo>
                    <a:lnTo>
                      <a:pt x="635" y="318"/>
                    </a:lnTo>
                    <a:lnTo>
                      <a:pt x="633" y="318"/>
                    </a:lnTo>
                    <a:lnTo>
                      <a:pt x="631" y="318"/>
                    </a:lnTo>
                    <a:lnTo>
                      <a:pt x="630" y="319"/>
                    </a:lnTo>
                    <a:lnTo>
                      <a:pt x="629" y="320"/>
                    </a:lnTo>
                    <a:lnTo>
                      <a:pt x="629" y="322"/>
                    </a:lnTo>
                    <a:lnTo>
                      <a:pt x="504" y="322"/>
                    </a:lnTo>
                    <a:lnTo>
                      <a:pt x="504" y="320"/>
                    </a:lnTo>
                    <a:lnTo>
                      <a:pt x="503" y="319"/>
                    </a:lnTo>
                    <a:lnTo>
                      <a:pt x="501" y="318"/>
                    </a:lnTo>
                    <a:lnTo>
                      <a:pt x="500" y="318"/>
                    </a:lnTo>
                    <a:lnTo>
                      <a:pt x="498" y="318"/>
                    </a:lnTo>
                    <a:lnTo>
                      <a:pt x="496" y="319"/>
                    </a:lnTo>
                    <a:lnTo>
                      <a:pt x="495" y="320"/>
                    </a:lnTo>
                    <a:lnTo>
                      <a:pt x="495" y="322"/>
                    </a:lnTo>
                    <a:lnTo>
                      <a:pt x="458" y="322"/>
                    </a:lnTo>
                    <a:lnTo>
                      <a:pt x="458" y="320"/>
                    </a:lnTo>
                    <a:lnTo>
                      <a:pt x="457" y="319"/>
                    </a:lnTo>
                    <a:lnTo>
                      <a:pt x="456" y="318"/>
                    </a:lnTo>
                    <a:lnTo>
                      <a:pt x="454" y="318"/>
                    </a:lnTo>
                    <a:lnTo>
                      <a:pt x="452" y="318"/>
                    </a:lnTo>
                    <a:lnTo>
                      <a:pt x="451" y="319"/>
                    </a:lnTo>
                    <a:lnTo>
                      <a:pt x="450" y="320"/>
                    </a:lnTo>
                    <a:lnTo>
                      <a:pt x="449" y="322"/>
                    </a:lnTo>
                    <a:lnTo>
                      <a:pt x="393" y="322"/>
                    </a:lnTo>
                    <a:lnTo>
                      <a:pt x="392" y="320"/>
                    </a:lnTo>
                    <a:lnTo>
                      <a:pt x="391" y="319"/>
                    </a:lnTo>
                    <a:lnTo>
                      <a:pt x="390" y="318"/>
                    </a:lnTo>
                    <a:lnTo>
                      <a:pt x="388" y="318"/>
                    </a:lnTo>
                    <a:lnTo>
                      <a:pt x="386" y="318"/>
                    </a:lnTo>
                    <a:lnTo>
                      <a:pt x="385" y="319"/>
                    </a:lnTo>
                    <a:lnTo>
                      <a:pt x="384" y="320"/>
                    </a:lnTo>
                    <a:lnTo>
                      <a:pt x="384" y="322"/>
                    </a:lnTo>
                    <a:lnTo>
                      <a:pt x="381" y="322"/>
                    </a:lnTo>
                    <a:lnTo>
                      <a:pt x="380" y="320"/>
                    </a:lnTo>
                    <a:lnTo>
                      <a:pt x="380" y="319"/>
                    </a:lnTo>
                    <a:lnTo>
                      <a:pt x="378" y="318"/>
                    </a:lnTo>
                    <a:lnTo>
                      <a:pt x="376" y="318"/>
                    </a:lnTo>
                    <a:lnTo>
                      <a:pt x="375" y="318"/>
                    </a:lnTo>
                    <a:lnTo>
                      <a:pt x="373" y="319"/>
                    </a:lnTo>
                    <a:lnTo>
                      <a:pt x="372" y="320"/>
                    </a:lnTo>
                    <a:lnTo>
                      <a:pt x="372" y="322"/>
                    </a:lnTo>
                    <a:lnTo>
                      <a:pt x="365" y="322"/>
                    </a:lnTo>
                    <a:lnTo>
                      <a:pt x="364" y="320"/>
                    </a:lnTo>
                    <a:lnTo>
                      <a:pt x="364" y="319"/>
                    </a:lnTo>
                    <a:lnTo>
                      <a:pt x="362" y="318"/>
                    </a:lnTo>
                    <a:lnTo>
                      <a:pt x="360" y="318"/>
                    </a:lnTo>
                    <a:lnTo>
                      <a:pt x="359" y="318"/>
                    </a:lnTo>
                    <a:lnTo>
                      <a:pt x="357" y="319"/>
                    </a:lnTo>
                    <a:lnTo>
                      <a:pt x="356" y="320"/>
                    </a:lnTo>
                    <a:lnTo>
                      <a:pt x="356" y="322"/>
                    </a:lnTo>
                    <a:lnTo>
                      <a:pt x="341" y="322"/>
                    </a:lnTo>
                    <a:lnTo>
                      <a:pt x="341" y="320"/>
                    </a:lnTo>
                    <a:lnTo>
                      <a:pt x="340" y="318"/>
                    </a:lnTo>
                    <a:lnTo>
                      <a:pt x="339" y="317"/>
                    </a:lnTo>
                    <a:lnTo>
                      <a:pt x="337" y="316"/>
                    </a:lnTo>
                    <a:lnTo>
                      <a:pt x="334" y="315"/>
                    </a:lnTo>
                    <a:lnTo>
                      <a:pt x="332" y="315"/>
                    </a:lnTo>
                    <a:lnTo>
                      <a:pt x="330" y="316"/>
                    </a:lnTo>
                    <a:lnTo>
                      <a:pt x="328" y="317"/>
                    </a:lnTo>
                    <a:lnTo>
                      <a:pt x="326" y="318"/>
                    </a:lnTo>
                    <a:lnTo>
                      <a:pt x="325" y="320"/>
                    </a:lnTo>
                    <a:lnTo>
                      <a:pt x="325" y="322"/>
                    </a:lnTo>
                    <a:lnTo>
                      <a:pt x="321" y="322"/>
                    </a:lnTo>
                    <a:lnTo>
                      <a:pt x="320" y="320"/>
                    </a:lnTo>
                    <a:lnTo>
                      <a:pt x="319" y="318"/>
                    </a:lnTo>
                    <a:lnTo>
                      <a:pt x="318" y="316"/>
                    </a:lnTo>
                    <a:lnTo>
                      <a:pt x="315" y="315"/>
                    </a:lnTo>
                    <a:lnTo>
                      <a:pt x="313" y="315"/>
                    </a:lnTo>
                    <a:lnTo>
                      <a:pt x="311" y="315"/>
                    </a:lnTo>
                    <a:lnTo>
                      <a:pt x="308" y="315"/>
                    </a:lnTo>
                    <a:lnTo>
                      <a:pt x="306" y="316"/>
                    </a:lnTo>
                    <a:lnTo>
                      <a:pt x="305" y="318"/>
                    </a:lnTo>
                    <a:lnTo>
                      <a:pt x="304" y="320"/>
                    </a:lnTo>
                    <a:lnTo>
                      <a:pt x="303" y="322"/>
                    </a:lnTo>
                    <a:lnTo>
                      <a:pt x="301" y="322"/>
                    </a:lnTo>
                    <a:lnTo>
                      <a:pt x="301" y="320"/>
                    </a:lnTo>
                    <a:lnTo>
                      <a:pt x="300" y="319"/>
                    </a:lnTo>
                    <a:lnTo>
                      <a:pt x="299" y="318"/>
                    </a:lnTo>
                    <a:lnTo>
                      <a:pt x="297" y="318"/>
                    </a:lnTo>
                    <a:lnTo>
                      <a:pt x="295" y="318"/>
                    </a:lnTo>
                    <a:lnTo>
                      <a:pt x="294" y="319"/>
                    </a:lnTo>
                    <a:lnTo>
                      <a:pt x="293" y="320"/>
                    </a:lnTo>
                    <a:lnTo>
                      <a:pt x="293" y="322"/>
                    </a:lnTo>
                    <a:lnTo>
                      <a:pt x="292" y="322"/>
                    </a:lnTo>
                    <a:lnTo>
                      <a:pt x="292" y="320"/>
                    </a:lnTo>
                    <a:lnTo>
                      <a:pt x="291" y="319"/>
                    </a:lnTo>
                    <a:lnTo>
                      <a:pt x="289" y="318"/>
                    </a:lnTo>
                    <a:lnTo>
                      <a:pt x="287" y="318"/>
                    </a:lnTo>
                    <a:lnTo>
                      <a:pt x="286" y="318"/>
                    </a:lnTo>
                    <a:lnTo>
                      <a:pt x="284" y="319"/>
                    </a:lnTo>
                    <a:lnTo>
                      <a:pt x="283" y="320"/>
                    </a:lnTo>
                    <a:lnTo>
                      <a:pt x="283" y="322"/>
                    </a:lnTo>
                    <a:lnTo>
                      <a:pt x="281" y="322"/>
                    </a:lnTo>
                    <a:lnTo>
                      <a:pt x="281" y="320"/>
                    </a:lnTo>
                    <a:lnTo>
                      <a:pt x="279" y="319"/>
                    </a:lnTo>
                    <a:lnTo>
                      <a:pt x="278" y="318"/>
                    </a:lnTo>
                    <a:lnTo>
                      <a:pt x="276" y="318"/>
                    </a:lnTo>
                    <a:lnTo>
                      <a:pt x="275" y="318"/>
                    </a:lnTo>
                    <a:lnTo>
                      <a:pt x="273" y="319"/>
                    </a:lnTo>
                    <a:lnTo>
                      <a:pt x="272" y="320"/>
                    </a:lnTo>
                    <a:lnTo>
                      <a:pt x="272" y="322"/>
                    </a:lnTo>
                    <a:lnTo>
                      <a:pt x="261" y="322"/>
                    </a:lnTo>
                    <a:lnTo>
                      <a:pt x="261" y="320"/>
                    </a:lnTo>
                    <a:lnTo>
                      <a:pt x="260" y="319"/>
                    </a:lnTo>
                    <a:lnTo>
                      <a:pt x="258" y="318"/>
                    </a:lnTo>
                    <a:lnTo>
                      <a:pt x="256" y="318"/>
                    </a:lnTo>
                    <a:lnTo>
                      <a:pt x="255" y="318"/>
                    </a:lnTo>
                    <a:lnTo>
                      <a:pt x="253" y="319"/>
                    </a:lnTo>
                    <a:lnTo>
                      <a:pt x="252" y="320"/>
                    </a:lnTo>
                    <a:lnTo>
                      <a:pt x="252" y="322"/>
                    </a:lnTo>
                    <a:lnTo>
                      <a:pt x="223" y="322"/>
                    </a:lnTo>
                    <a:lnTo>
                      <a:pt x="223" y="320"/>
                    </a:lnTo>
                    <a:lnTo>
                      <a:pt x="222" y="319"/>
                    </a:lnTo>
                    <a:lnTo>
                      <a:pt x="220" y="318"/>
                    </a:lnTo>
                    <a:lnTo>
                      <a:pt x="219" y="318"/>
                    </a:lnTo>
                    <a:lnTo>
                      <a:pt x="217" y="318"/>
                    </a:lnTo>
                    <a:lnTo>
                      <a:pt x="215" y="319"/>
                    </a:lnTo>
                    <a:lnTo>
                      <a:pt x="214" y="320"/>
                    </a:lnTo>
                    <a:lnTo>
                      <a:pt x="214" y="322"/>
                    </a:lnTo>
                    <a:lnTo>
                      <a:pt x="195" y="322"/>
                    </a:lnTo>
                    <a:lnTo>
                      <a:pt x="195" y="320"/>
                    </a:lnTo>
                    <a:lnTo>
                      <a:pt x="194" y="319"/>
                    </a:lnTo>
                    <a:lnTo>
                      <a:pt x="192" y="318"/>
                    </a:lnTo>
                    <a:lnTo>
                      <a:pt x="191" y="318"/>
                    </a:lnTo>
                    <a:lnTo>
                      <a:pt x="189" y="318"/>
                    </a:lnTo>
                    <a:lnTo>
                      <a:pt x="187" y="319"/>
                    </a:lnTo>
                    <a:lnTo>
                      <a:pt x="186" y="320"/>
                    </a:lnTo>
                    <a:lnTo>
                      <a:pt x="186" y="322"/>
                    </a:lnTo>
                    <a:lnTo>
                      <a:pt x="107" y="322"/>
                    </a:lnTo>
                    <a:lnTo>
                      <a:pt x="107" y="320"/>
                    </a:lnTo>
                    <a:lnTo>
                      <a:pt x="106" y="319"/>
                    </a:lnTo>
                    <a:lnTo>
                      <a:pt x="104" y="318"/>
                    </a:lnTo>
                    <a:lnTo>
                      <a:pt x="103" y="318"/>
                    </a:lnTo>
                    <a:lnTo>
                      <a:pt x="101" y="318"/>
                    </a:lnTo>
                    <a:lnTo>
                      <a:pt x="99" y="319"/>
                    </a:lnTo>
                    <a:lnTo>
                      <a:pt x="98" y="320"/>
                    </a:lnTo>
                    <a:lnTo>
                      <a:pt x="98" y="322"/>
                    </a:lnTo>
                    <a:lnTo>
                      <a:pt x="78" y="322"/>
                    </a:lnTo>
                    <a:lnTo>
                      <a:pt x="77" y="320"/>
                    </a:lnTo>
                    <a:lnTo>
                      <a:pt x="76" y="319"/>
                    </a:lnTo>
                    <a:lnTo>
                      <a:pt x="75" y="318"/>
                    </a:lnTo>
                    <a:lnTo>
                      <a:pt x="73" y="318"/>
                    </a:lnTo>
                    <a:lnTo>
                      <a:pt x="71" y="318"/>
                    </a:lnTo>
                    <a:lnTo>
                      <a:pt x="70" y="319"/>
                    </a:lnTo>
                    <a:lnTo>
                      <a:pt x="69" y="320"/>
                    </a:lnTo>
                    <a:lnTo>
                      <a:pt x="69" y="322"/>
                    </a:lnTo>
                    <a:lnTo>
                      <a:pt x="60" y="322"/>
                    </a:lnTo>
                    <a:lnTo>
                      <a:pt x="60" y="320"/>
                    </a:lnTo>
                    <a:lnTo>
                      <a:pt x="59" y="319"/>
                    </a:lnTo>
                    <a:lnTo>
                      <a:pt x="57" y="318"/>
                    </a:lnTo>
                    <a:lnTo>
                      <a:pt x="56" y="318"/>
                    </a:lnTo>
                    <a:lnTo>
                      <a:pt x="54" y="318"/>
                    </a:lnTo>
                    <a:lnTo>
                      <a:pt x="52" y="319"/>
                    </a:lnTo>
                    <a:lnTo>
                      <a:pt x="51" y="320"/>
                    </a:lnTo>
                    <a:lnTo>
                      <a:pt x="51" y="322"/>
                    </a:lnTo>
                    <a:lnTo>
                      <a:pt x="45" y="322"/>
                    </a:lnTo>
                    <a:lnTo>
                      <a:pt x="44" y="320"/>
                    </a:lnTo>
                    <a:lnTo>
                      <a:pt x="43" y="319"/>
                    </a:lnTo>
                    <a:lnTo>
                      <a:pt x="42" y="318"/>
                    </a:lnTo>
                    <a:lnTo>
                      <a:pt x="40" y="318"/>
                    </a:lnTo>
                    <a:lnTo>
                      <a:pt x="39" y="318"/>
                    </a:lnTo>
                    <a:lnTo>
                      <a:pt x="37" y="319"/>
                    </a:lnTo>
                    <a:lnTo>
                      <a:pt x="36" y="320"/>
                    </a:lnTo>
                    <a:lnTo>
                      <a:pt x="36" y="322"/>
                    </a:lnTo>
                    <a:lnTo>
                      <a:pt x="26" y="322"/>
                    </a:lnTo>
                    <a:lnTo>
                      <a:pt x="26" y="320"/>
                    </a:lnTo>
                    <a:lnTo>
                      <a:pt x="25" y="318"/>
                    </a:lnTo>
                    <a:lnTo>
                      <a:pt x="23" y="317"/>
                    </a:lnTo>
                    <a:lnTo>
                      <a:pt x="22" y="316"/>
                    </a:lnTo>
                    <a:lnTo>
                      <a:pt x="20" y="316"/>
                    </a:lnTo>
                    <a:lnTo>
                      <a:pt x="17" y="316"/>
                    </a:lnTo>
                    <a:lnTo>
                      <a:pt x="15" y="316"/>
                    </a:lnTo>
                    <a:lnTo>
                      <a:pt x="13" y="317"/>
                    </a:lnTo>
                    <a:lnTo>
                      <a:pt x="12" y="318"/>
                    </a:lnTo>
                    <a:lnTo>
                      <a:pt x="11" y="320"/>
                    </a:lnTo>
                    <a:lnTo>
                      <a:pt x="11" y="322"/>
                    </a:lnTo>
                    <a:lnTo>
                      <a:pt x="0" y="322"/>
                    </a:lnTo>
                    <a:lnTo>
                      <a:pt x="0" y="4"/>
                    </a:lnTo>
                    <a:lnTo>
                      <a:pt x="17" y="4"/>
                    </a:lnTo>
                    <a:lnTo>
                      <a:pt x="18" y="2"/>
                    </a:lnTo>
                    <a:lnTo>
                      <a:pt x="19" y="1"/>
                    </a:lnTo>
                    <a:lnTo>
                      <a:pt x="20" y="1"/>
                    </a:lnTo>
                    <a:lnTo>
                      <a:pt x="22" y="0"/>
                    </a:lnTo>
                    <a:lnTo>
                      <a:pt x="23" y="1"/>
                    </a:lnTo>
                    <a:lnTo>
                      <a:pt x="25" y="1"/>
                    </a:lnTo>
                    <a:lnTo>
                      <a:pt x="26" y="2"/>
                    </a:lnTo>
                    <a:lnTo>
                      <a:pt x="26" y="4"/>
                    </a:lnTo>
                    <a:lnTo>
                      <a:pt x="35" y="4"/>
                    </a:lnTo>
                  </a:path>
                </a:pathLst>
              </a:custGeom>
              <a:no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6676920" y="3124800"/>
                <a:ext cx="14400" cy="11880"/>
              </a:xfrm>
              <a:custGeom>
                <a:avLst/>
                <a:gdLst/>
                <a:ahLst/>
                <a:rect l="l" t="t" r="r" b="b"/>
                <a:pathLst>
                  <a:path w="14" h="9">
                    <a:moveTo>
                      <a:pt x="2" y="0"/>
                    </a:moveTo>
                    <a:lnTo>
                      <a:pt x="14" y="5"/>
                    </a:lnTo>
                    <a:lnTo>
                      <a:pt x="2" y="9"/>
                    </a:lnTo>
                    <a:lnTo>
                      <a:pt x="1" y="7"/>
                    </a:lnTo>
                    <a:lnTo>
                      <a:pt x="0" y="5"/>
                    </a:lnTo>
                    <a:lnTo>
                      <a:pt x="1" y="2"/>
                    </a:lnTo>
                    <a:lnTo>
                      <a:pt x="2" y="0"/>
                    </a:lnTo>
                    <a:close/>
                  </a:path>
                </a:pathLst>
              </a:custGeom>
              <a:solidFill>
                <a:srgbClr val="ff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60" name=""/>
              <p:cNvSpPr/>
              <p:nvPr/>
            </p:nvSpPr>
            <p:spPr>
              <a:xfrm>
                <a:off x="6562440" y="2157840"/>
                <a:ext cx="1704240" cy="118440"/>
              </a:xfrm>
              <a:custGeom>
                <a:avLst/>
                <a:gdLst/>
                <a:ahLst/>
                <a:rect l="l" t="t" r="r" b="b"/>
                <a:pathLst>
                  <a:path w="1610" h="89">
                    <a:moveTo>
                      <a:pt x="0" y="10"/>
                    </a:moveTo>
                    <a:lnTo>
                      <a:pt x="0" y="3"/>
                    </a:lnTo>
                    <a:lnTo>
                      <a:pt x="168" y="3"/>
                    </a:lnTo>
                    <a:lnTo>
                      <a:pt x="168" y="2"/>
                    </a:lnTo>
                    <a:lnTo>
                      <a:pt x="169" y="1"/>
                    </a:lnTo>
                    <a:lnTo>
                      <a:pt x="171" y="0"/>
                    </a:lnTo>
                    <a:lnTo>
                      <a:pt x="172" y="0"/>
                    </a:lnTo>
                    <a:lnTo>
                      <a:pt x="174" y="0"/>
                    </a:lnTo>
                    <a:lnTo>
                      <a:pt x="175" y="1"/>
                    </a:lnTo>
                    <a:lnTo>
                      <a:pt x="177" y="2"/>
                    </a:lnTo>
                    <a:lnTo>
                      <a:pt x="177" y="3"/>
                    </a:lnTo>
                    <a:lnTo>
                      <a:pt x="469" y="3"/>
                    </a:lnTo>
                    <a:lnTo>
                      <a:pt x="469" y="89"/>
                    </a:lnTo>
                    <a:lnTo>
                      <a:pt x="510" y="89"/>
                    </a:lnTo>
                    <a:lnTo>
                      <a:pt x="511" y="88"/>
                    </a:lnTo>
                    <a:lnTo>
                      <a:pt x="511" y="87"/>
                    </a:lnTo>
                    <a:lnTo>
                      <a:pt x="513" y="86"/>
                    </a:lnTo>
                    <a:lnTo>
                      <a:pt x="515" y="86"/>
                    </a:lnTo>
                    <a:lnTo>
                      <a:pt x="516" y="86"/>
                    </a:lnTo>
                    <a:lnTo>
                      <a:pt x="518" y="87"/>
                    </a:lnTo>
                    <a:lnTo>
                      <a:pt x="519" y="88"/>
                    </a:lnTo>
                    <a:lnTo>
                      <a:pt x="519" y="89"/>
                    </a:lnTo>
                    <a:lnTo>
                      <a:pt x="534" y="89"/>
                    </a:lnTo>
                    <a:lnTo>
                      <a:pt x="535" y="88"/>
                    </a:lnTo>
                    <a:lnTo>
                      <a:pt x="536" y="87"/>
                    </a:lnTo>
                    <a:lnTo>
                      <a:pt x="537" y="86"/>
                    </a:lnTo>
                    <a:lnTo>
                      <a:pt x="539" y="86"/>
                    </a:lnTo>
                    <a:lnTo>
                      <a:pt x="541" y="86"/>
                    </a:lnTo>
                    <a:lnTo>
                      <a:pt x="542" y="87"/>
                    </a:lnTo>
                    <a:lnTo>
                      <a:pt x="543" y="88"/>
                    </a:lnTo>
                    <a:lnTo>
                      <a:pt x="543" y="89"/>
                    </a:lnTo>
                    <a:lnTo>
                      <a:pt x="562" y="89"/>
                    </a:lnTo>
                    <a:lnTo>
                      <a:pt x="562" y="88"/>
                    </a:lnTo>
                    <a:lnTo>
                      <a:pt x="563" y="87"/>
                    </a:lnTo>
                    <a:lnTo>
                      <a:pt x="565" y="86"/>
                    </a:lnTo>
                    <a:lnTo>
                      <a:pt x="567" y="86"/>
                    </a:lnTo>
                    <a:lnTo>
                      <a:pt x="568" y="86"/>
                    </a:lnTo>
                    <a:lnTo>
                      <a:pt x="570" y="87"/>
                    </a:lnTo>
                    <a:lnTo>
                      <a:pt x="571" y="88"/>
                    </a:lnTo>
                    <a:lnTo>
                      <a:pt x="571" y="89"/>
                    </a:lnTo>
                    <a:lnTo>
                      <a:pt x="588" y="89"/>
                    </a:lnTo>
                    <a:lnTo>
                      <a:pt x="588" y="88"/>
                    </a:lnTo>
                    <a:lnTo>
                      <a:pt x="589" y="87"/>
                    </a:lnTo>
                    <a:lnTo>
                      <a:pt x="591" y="86"/>
                    </a:lnTo>
                    <a:lnTo>
                      <a:pt x="592" y="86"/>
                    </a:lnTo>
                    <a:lnTo>
                      <a:pt x="594" y="86"/>
                    </a:lnTo>
                    <a:lnTo>
                      <a:pt x="596" y="87"/>
                    </a:lnTo>
                    <a:lnTo>
                      <a:pt x="596" y="88"/>
                    </a:lnTo>
                    <a:lnTo>
                      <a:pt x="597" y="89"/>
                    </a:lnTo>
                    <a:lnTo>
                      <a:pt x="610" y="89"/>
                    </a:lnTo>
                    <a:lnTo>
                      <a:pt x="610" y="88"/>
                    </a:lnTo>
                    <a:lnTo>
                      <a:pt x="611" y="87"/>
                    </a:lnTo>
                    <a:lnTo>
                      <a:pt x="613" y="86"/>
                    </a:lnTo>
                    <a:lnTo>
                      <a:pt x="614" y="86"/>
                    </a:lnTo>
                    <a:lnTo>
                      <a:pt x="616" y="86"/>
                    </a:lnTo>
                    <a:lnTo>
                      <a:pt x="618" y="87"/>
                    </a:lnTo>
                    <a:lnTo>
                      <a:pt x="618" y="88"/>
                    </a:lnTo>
                    <a:lnTo>
                      <a:pt x="619" y="89"/>
                    </a:lnTo>
                    <a:lnTo>
                      <a:pt x="630" y="89"/>
                    </a:lnTo>
                    <a:lnTo>
                      <a:pt x="631" y="88"/>
                    </a:lnTo>
                    <a:lnTo>
                      <a:pt x="632" y="87"/>
                    </a:lnTo>
                    <a:lnTo>
                      <a:pt x="633" y="86"/>
                    </a:lnTo>
                    <a:lnTo>
                      <a:pt x="635" y="86"/>
                    </a:lnTo>
                    <a:lnTo>
                      <a:pt x="637" y="86"/>
                    </a:lnTo>
                    <a:lnTo>
                      <a:pt x="638" y="87"/>
                    </a:lnTo>
                    <a:lnTo>
                      <a:pt x="639" y="88"/>
                    </a:lnTo>
                    <a:lnTo>
                      <a:pt x="639" y="89"/>
                    </a:lnTo>
                    <a:lnTo>
                      <a:pt x="673" y="89"/>
                    </a:lnTo>
                    <a:lnTo>
                      <a:pt x="674" y="88"/>
                    </a:lnTo>
                    <a:lnTo>
                      <a:pt x="675" y="87"/>
                    </a:lnTo>
                    <a:lnTo>
                      <a:pt x="676" y="86"/>
                    </a:lnTo>
                    <a:lnTo>
                      <a:pt x="678" y="86"/>
                    </a:lnTo>
                    <a:lnTo>
                      <a:pt x="679" y="86"/>
                    </a:lnTo>
                    <a:lnTo>
                      <a:pt x="681" y="87"/>
                    </a:lnTo>
                    <a:lnTo>
                      <a:pt x="682" y="88"/>
                    </a:lnTo>
                    <a:lnTo>
                      <a:pt x="682" y="89"/>
                    </a:lnTo>
                    <a:lnTo>
                      <a:pt x="793" y="89"/>
                    </a:lnTo>
                    <a:lnTo>
                      <a:pt x="793" y="88"/>
                    </a:lnTo>
                    <a:lnTo>
                      <a:pt x="794" y="87"/>
                    </a:lnTo>
                    <a:lnTo>
                      <a:pt x="795" y="86"/>
                    </a:lnTo>
                    <a:lnTo>
                      <a:pt x="797" y="86"/>
                    </a:lnTo>
                    <a:lnTo>
                      <a:pt x="799" y="86"/>
                    </a:lnTo>
                    <a:lnTo>
                      <a:pt x="800" y="87"/>
                    </a:lnTo>
                    <a:lnTo>
                      <a:pt x="801" y="88"/>
                    </a:lnTo>
                    <a:lnTo>
                      <a:pt x="802" y="89"/>
                    </a:lnTo>
                    <a:lnTo>
                      <a:pt x="916" y="89"/>
                    </a:lnTo>
                    <a:lnTo>
                      <a:pt x="916" y="88"/>
                    </a:lnTo>
                    <a:lnTo>
                      <a:pt x="917" y="87"/>
                    </a:lnTo>
                    <a:lnTo>
                      <a:pt x="919" y="86"/>
                    </a:lnTo>
                    <a:lnTo>
                      <a:pt x="920" y="86"/>
                    </a:lnTo>
                    <a:lnTo>
                      <a:pt x="922" y="86"/>
                    </a:lnTo>
                    <a:lnTo>
                      <a:pt x="924" y="87"/>
                    </a:lnTo>
                    <a:lnTo>
                      <a:pt x="925" y="88"/>
                    </a:lnTo>
                    <a:lnTo>
                      <a:pt x="925" y="89"/>
                    </a:lnTo>
                    <a:lnTo>
                      <a:pt x="1013" y="89"/>
                    </a:lnTo>
                    <a:lnTo>
                      <a:pt x="1013" y="55"/>
                    </a:lnTo>
                    <a:lnTo>
                      <a:pt x="1036" y="55"/>
                    </a:lnTo>
                    <a:lnTo>
                      <a:pt x="1036" y="54"/>
                    </a:lnTo>
                    <a:lnTo>
                      <a:pt x="1037" y="53"/>
                    </a:lnTo>
                    <a:lnTo>
                      <a:pt x="1039" y="52"/>
                    </a:lnTo>
                    <a:lnTo>
                      <a:pt x="1040" y="52"/>
                    </a:lnTo>
                    <a:lnTo>
                      <a:pt x="1042" y="52"/>
                    </a:lnTo>
                    <a:lnTo>
                      <a:pt x="1043" y="53"/>
                    </a:lnTo>
                    <a:lnTo>
                      <a:pt x="1044" y="54"/>
                    </a:lnTo>
                    <a:lnTo>
                      <a:pt x="1045" y="55"/>
                    </a:lnTo>
                    <a:lnTo>
                      <a:pt x="1150" y="55"/>
                    </a:lnTo>
                    <a:lnTo>
                      <a:pt x="1150" y="54"/>
                    </a:lnTo>
                    <a:lnTo>
                      <a:pt x="1151" y="53"/>
                    </a:lnTo>
                    <a:lnTo>
                      <a:pt x="1152" y="52"/>
                    </a:lnTo>
                    <a:lnTo>
                      <a:pt x="1154" y="52"/>
                    </a:lnTo>
                    <a:lnTo>
                      <a:pt x="1156" y="52"/>
                    </a:lnTo>
                    <a:lnTo>
                      <a:pt x="1157" y="53"/>
                    </a:lnTo>
                    <a:lnTo>
                      <a:pt x="1158" y="54"/>
                    </a:lnTo>
                    <a:lnTo>
                      <a:pt x="1159" y="55"/>
                    </a:lnTo>
                    <a:lnTo>
                      <a:pt x="1292" y="55"/>
                    </a:lnTo>
                    <a:lnTo>
                      <a:pt x="1293" y="54"/>
                    </a:lnTo>
                    <a:lnTo>
                      <a:pt x="1294" y="53"/>
                    </a:lnTo>
                    <a:lnTo>
                      <a:pt x="1295" y="52"/>
                    </a:lnTo>
                    <a:lnTo>
                      <a:pt x="1297" y="52"/>
                    </a:lnTo>
                    <a:lnTo>
                      <a:pt x="1299" y="52"/>
                    </a:lnTo>
                    <a:lnTo>
                      <a:pt x="1300" y="53"/>
                    </a:lnTo>
                    <a:lnTo>
                      <a:pt x="1301" y="54"/>
                    </a:lnTo>
                    <a:lnTo>
                      <a:pt x="1301" y="55"/>
                    </a:lnTo>
                    <a:lnTo>
                      <a:pt x="1421" y="55"/>
                    </a:lnTo>
                    <a:lnTo>
                      <a:pt x="1421" y="54"/>
                    </a:lnTo>
                    <a:lnTo>
                      <a:pt x="1422" y="53"/>
                    </a:lnTo>
                    <a:lnTo>
                      <a:pt x="1424" y="52"/>
                    </a:lnTo>
                    <a:lnTo>
                      <a:pt x="1425" y="52"/>
                    </a:lnTo>
                    <a:lnTo>
                      <a:pt x="1427" y="52"/>
                    </a:lnTo>
                    <a:lnTo>
                      <a:pt x="1428" y="53"/>
                    </a:lnTo>
                    <a:lnTo>
                      <a:pt x="1429" y="54"/>
                    </a:lnTo>
                    <a:lnTo>
                      <a:pt x="1430" y="55"/>
                    </a:lnTo>
                    <a:lnTo>
                      <a:pt x="1476" y="55"/>
                    </a:lnTo>
                    <a:lnTo>
                      <a:pt x="1477" y="54"/>
                    </a:lnTo>
                    <a:lnTo>
                      <a:pt x="1478" y="53"/>
                    </a:lnTo>
                    <a:lnTo>
                      <a:pt x="1479" y="52"/>
                    </a:lnTo>
                    <a:lnTo>
                      <a:pt x="1481" y="52"/>
                    </a:lnTo>
                    <a:lnTo>
                      <a:pt x="1483" y="52"/>
                    </a:lnTo>
                    <a:lnTo>
                      <a:pt x="1484" y="53"/>
                    </a:lnTo>
                    <a:lnTo>
                      <a:pt x="1485" y="54"/>
                    </a:lnTo>
                    <a:lnTo>
                      <a:pt x="1485" y="55"/>
                    </a:lnTo>
                    <a:lnTo>
                      <a:pt x="1528" y="55"/>
                    </a:lnTo>
                    <a:lnTo>
                      <a:pt x="1529" y="54"/>
                    </a:lnTo>
                    <a:lnTo>
                      <a:pt x="1529" y="53"/>
                    </a:lnTo>
                    <a:lnTo>
                      <a:pt x="1531" y="52"/>
                    </a:lnTo>
                    <a:lnTo>
                      <a:pt x="1533" y="51"/>
                    </a:lnTo>
                    <a:lnTo>
                      <a:pt x="1534" y="51"/>
                    </a:lnTo>
                    <a:lnTo>
                      <a:pt x="1536" y="52"/>
                    </a:lnTo>
                    <a:lnTo>
                      <a:pt x="1537" y="53"/>
                    </a:lnTo>
                    <a:lnTo>
                      <a:pt x="1538" y="54"/>
                    </a:lnTo>
                    <a:lnTo>
                      <a:pt x="1538" y="55"/>
                    </a:lnTo>
                    <a:lnTo>
                      <a:pt x="1575" y="55"/>
                    </a:lnTo>
                    <a:lnTo>
                      <a:pt x="1575" y="54"/>
                    </a:lnTo>
                    <a:lnTo>
                      <a:pt x="1576" y="53"/>
                    </a:lnTo>
                    <a:lnTo>
                      <a:pt x="1577" y="52"/>
                    </a:lnTo>
                    <a:lnTo>
                      <a:pt x="1579" y="52"/>
                    </a:lnTo>
                    <a:lnTo>
                      <a:pt x="1581" y="52"/>
                    </a:lnTo>
                    <a:lnTo>
                      <a:pt x="1582" y="53"/>
                    </a:lnTo>
                    <a:lnTo>
                      <a:pt x="1583" y="54"/>
                    </a:lnTo>
                    <a:lnTo>
                      <a:pt x="1583" y="55"/>
                    </a:lnTo>
                    <a:lnTo>
                      <a:pt x="1610" y="55"/>
                    </a:lnTo>
                    <a:lnTo>
                      <a:pt x="1610" y="6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6555960" y="215784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2" name=""/>
              <p:cNvSpPr/>
              <p:nvPr/>
            </p:nvSpPr>
            <p:spPr>
              <a:xfrm>
                <a:off x="8260560" y="22482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3" name=""/>
              <p:cNvSpPr/>
              <p:nvPr/>
            </p:nvSpPr>
            <p:spPr>
              <a:xfrm>
                <a:off x="5793840" y="2264400"/>
                <a:ext cx="621360" cy="1040760"/>
              </a:xfrm>
              <a:custGeom>
                <a:avLst/>
                <a:gdLst/>
                <a:ahLst/>
                <a:rect l="l" t="t" r="r" b="b"/>
                <a:pathLst>
                  <a:path w="587" h="779">
                    <a:moveTo>
                      <a:pt x="587" y="0"/>
                    </a:moveTo>
                    <a:lnTo>
                      <a:pt x="587" y="10"/>
                    </a:lnTo>
                    <a:lnTo>
                      <a:pt x="530" y="10"/>
                    </a:lnTo>
                    <a:lnTo>
                      <a:pt x="529" y="9"/>
                    </a:lnTo>
                    <a:lnTo>
                      <a:pt x="528" y="8"/>
                    </a:lnTo>
                    <a:lnTo>
                      <a:pt x="527" y="7"/>
                    </a:lnTo>
                    <a:lnTo>
                      <a:pt x="525" y="7"/>
                    </a:lnTo>
                    <a:lnTo>
                      <a:pt x="523" y="7"/>
                    </a:lnTo>
                    <a:lnTo>
                      <a:pt x="522" y="8"/>
                    </a:lnTo>
                    <a:lnTo>
                      <a:pt x="521" y="9"/>
                    </a:lnTo>
                    <a:lnTo>
                      <a:pt x="521" y="10"/>
                    </a:lnTo>
                    <a:lnTo>
                      <a:pt x="487" y="10"/>
                    </a:lnTo>
                    <a:lnTo>
                      <a:pt x="487" y="9"/>
                    </a:lnTo>
                    <a:lnTo>
                      <a:pt x="486" y="8"/>
                    </a:lnTo>
                    <a:lnTo>
                      <a:pt x="485" y="7"/>
                    </a:lnTo>
                    <a:lnTo>
                      <a:pt x="483" y="7"/>
                    </a:lnTo>
                    <a:lnTo>
                      <a:pt x="481" y="7"/>
                    </a:lnTo>
                    <a:lnTo>
                      <a:pt x="480" y="8"/>
                    </a:lnTo>
                    <a:lnTo>
                      <a:pt x="479" y="9"/>
                    </a:lnTo>
                    <a:lnTo>
                      <a:pt x="478" y="10"/>
                    </a:lnTo>
                    <a:lnTo>
                      <a:pt x="445" y="10"/>
                    </a:lnTo>
                    <a:lnTo>
                      <a:pt x="445" y="571"/>
                    </a:lnTo>
                    <a:lnTo>
                      <a:pt x="427" y="571"/>
                    </a:lnTo>
                    <a:lnTo>
                      <a:pt x="426" y="570"/>
                    </a:lnTo>
                    <a:lnTo>
                      <a:pt x="425" y="568"/>
                    </a:lnTo>
                    <a:lnTo>
                      <a:pt x="424" y="568"/>
                    </a:lnTo>
                    <a:lnTo>
                      <a:pt x="422" y="567"/>
                    </a:lnTo>
                    <a:lnTo>
                      <a:pt x="420" y="568"/>
                    </a:lnTo>
                    <a:lnTo>
                      <a:pt x="419" y="568"/>
                    </a:lnTo>
                    <a:lnTo>
                      <a:pt x="418" y="570"/>
                    </a:lnTo>
                    <a:lnTo>
                      <a:pt x="418" y="571"/>
                    </a:lnTo>
                    <a:lnTo>
                      <a:pt x="410" y="571"/>
                    </a:lnTo>
                    <a:lnTo>
                      <a:pt x="409" y="570"/>
                    </a:lnTo>
                    <a:lnTo>
                      <a:pt x="409" y="568"/>
                    </a:lnTo>
                    <a:lnTo>
                      <a:pt x="407" y="568"/>
                    </a:lnTo>
                    <a:lnTo>
                      <a:pt x="405" y="567"/>
                    </a:lnTo>
                    <a:lnTo>
                      <a:pt x="404" y="568"/>
                    </a:lnTo>
                    <a:lnTo>
                      <a:pt x="402" y="568"/>
                    </a:lnTo>
                    <a:lnTo>
                      <a:pt x="401" y="570"/>
                    </a:lnTo>
                    <a:lnTo>
                      <a:pt x="401" y="571"/>
                    </a:lnTo>
                    <a:lnTo>
                      <a:pt x="393" y="571"/>
                    </a:lnTo>
                    <a:lnTo>
                      <a:pt x="392" y="570"/>
                    </a:lnTo>
                    <a:lnTo>
                      <a:pt x="392" y="568"/>
                    </a:lnTo>
                    <a:lnTo>
                      <a:pt x="390" y="568"/>
                    </a:lnTo>
                    <a:lnTo>
                      <a:pt x="388" y="567"/>
                    </a:lnTo>
                    <a:lnTo>
                      <a:pt x="387" y="568"/>
                    </a:lnTo>
                    <a:lnTo>
                      <a:pt x="385" y="568"/>
                    </a:lnTo>
                    <a:lnTo>
                      <a:pt x="384" y="570"/>
                    </a:lnTo>
                    <a:lnTo>
                      <a:pt x="384" y="571"/>
                    </a:lnTo>
                    <a:lnTo>
                      <a:pt x="379" y="571"/>
                    </a:lnTo>
                    <a:lnTo>
                      <a:pt x="379" y="570"/>
                    </a:lnTo>
                    <a:lnTo>
                      <a:pt x="378" y="568"/>
                    </a:lnTo>
                    <a:lnTo>
                      <a:pt x="377" y="568"/>
                    </a:lnTo>
                    <a:lnTo>
                      <a:pt x="375" y="567"/>
                    </a:lnTo>
                    <a:lnTo>
                      <a:pt x="373" y="568"/>
                    </a:lnTo>
                    <a:lnTo>
                      <a:pt x="372" y="568"/>
                    </a:lnTo>
                    <a:lnTo>
                      <a:pt x="371" y="570"/>
                    </a:lnTo>
                    <a:lnTo>
                      <a:pt x="370" y="571"/>
                    </a:lnTo>
                    <a:lnTo>
                      <a:pt x="349" y="571"/>
                    </a:lnTo>
                    <a:lnTo>
                      <a:pt x="349" y="570"/>
                    </a:lnTo>
                    <a:lnTo>
                      <a:pt x="348" y="568"/>
                    </a:lnTo>
                    <a:lnTo>
                      <a:pt x="346" y="568"/>
                    </a:lnTo>
                    <a:lnTo>
                      <a:pt x="345" y="567"/>
                    </a:lnTo>
                    <a:lnTo>
                      <a:pt x="343" y="568"/>
                    </a:lnTo>
                    <a:lnTo>
                      <a:pt x="341" y="568"/>
                    </a:lnTo>
                    <a:lnTo>
                      <a:pt x="340" y="570"/>
                    </a:lnTo>
                    <a:lnTo>
                      <a:pt x="340" y="571"/>
                    </a:lnTo>
                    <a:lnTo>
                      <a:pt x="317" y="571"/>
                    </a:lnTo>
                    <a:lnTo>
                      <a:pt x="316" y="570"/>
                    </a:lnTo>
                    <a:lnTo>
                      <a:pt x="315" y="568"/>
                    </a:lnTo>
                    <a:lnTo>
                      <a:pt x="314" y="568"/>
                    </a:lnTo>
                    <a:lnTo>
                      <a:pt x="312" y="567"/>
                    </a:lnTo>
                    <a:lnTo>
                      <a:pt x="311" y="568"/>
                    </a:lnTo>
                    <a:lnTo>
                      <a:pt x="309" y="568"/>
                    </a:lnTo>
                    <a:lnTo>
                      <a:pt x="308" y="570"/>
                    </a:lnTo>
                    <a:lnTo>
                      <a:pt x="308" y="571"/>
                    </a:lnTo>
                    <a:lnTo>
                      <a:pt x="303" y="571"/>
                    </a:lnTo>
                    <a:lnTo>
                      <a:pt x="303" y="570"/>
                    </a:lnTo>
                    <a:lnTo>
                      <a:pt x="302" y="568"/>
                    </a:lnTo>
                    <a:lnTo>
                      <a:pt x="300" y="568"/>
                    </a:lnTo>
                    <a:lnTo>
                      <a:pt x="298" y="567"/>
                    </a:lnTo>
                    <a:lnTo>
                      <a:pt x="297" y="568"/>
                    </a:lnTo>
                    <a:lnTo>
                      <a:pt x="295" y="568"/>
                    </a:lnTo>
                    <a:lnTo>
                      <a:pt x="294" y="570"/>
                    </a:lnTo>
                    <a:lnTo>
                      <a:pt x="294" y="571"/>
                    </a:lnTo>
                    <a:lnTo>
                      <a:pt x="289" y="571"/>
                    </a:lnTo>
                    <a:lnTo>
                      <a:pt x="289" y="570"/>
                    </a:lnTo>
                    <a:lnTo>
                      <a:pt x="288" y="568"/>
                    </a:lnTo>
                    <a:lnTo>
                      <a:pt x="287" y="568"/>
                    </a:lnTo>
                    <a:lnTo>
                      <a:pt x="285" y="567"/>
                    </a:lnTo>
                    <a:lnTo>
                      <a:pt x="283" y="568"/>
                    </a:lnTo>
                    <a:lnTo>
                      <a:pt x="282" y="568"/>
                    </a:lnTo>
                    <a:lnTo>
                      <a:pt x="281" y="570"/>
                    </a:lnTo>
                    <a:lnTo>
                      <a:pt x="280" y="571"/>
                    </a:lnTo>
                    <a:lnTo>
                      <a:pt x="256" y="571"/>
                    </a:lnTo>
                    <a:lnTo>
                      <a:pt x="255" y="570"/>
                    </a:lnTo>
                    <a:lnTo>
                      <a:pt x="254" y="568"/>
                    </a:lnTo>
                    <a:lnTo>
                      <a:pt x="253" y="568"/>
                    </a:lnTo>
                    <a:lnTo>
                      <a:pt x="251" y="567"/>
                    </a:lnTo>
                    <a:lnTo>
                      <a:pt x="249" y="568"/>
                    </a:lnTo>
                    <a:lnTo>
                      <a:pt x="248" y="568"/>
                    </a:lnTo>
                    <a:lnTo>
                      <a:pt x="247" y="570"/>
                    </a:lnTo>
                    <a:lnTo>
                      <a:pt x="247" y="571"/>
                    </a:lnTo>
                    <a:lnTo>
                      <a:pt x="231" y="571"/>
                    </a:lnTo>
                    <a:lnTo>
                      <a:pt x="231" y="570"/>
                    </a:lnTo>
                    <a:lnTo>
                      <a:pt x="230" y="568"/>
                    </a:lnTo>
                    <a:lnTo>
                      <a:pt x="229" y="568"/>
                    </a:lnTo>
                    <a:lnTo>
                      <a:pt x="227" y="567"/>
                    </a:lnTo>
                    <a:lnTo>
                      <a:pt x="225" y="568"/>
                    </a:lnTo>
                    <a:lnTo>
                      <a:pt x="224" y="568"/>
                    </a:lnTo>
                    <a:lnTo>
                      <a:pt x="223" y="570"/>
                    </a:lnTo>
                    <a:lnTo>
                      <a:pt x="222" y="571"/>
                    </a:lnTo>
                    <a:lnTo>
                      <a:pt x="199" y="571"/>
                    </a:lnTo>
                    <a:lnTo>
                      <a:pt x="198" y="569"/>
                    </a:lnTo>
                    <a:lnTo>
                      <a:pt x="198" y="568"/>
                    </a:lnTo>
                    <a:lnTo>
                      <a:pt x="196" y="567"/>
                    </a:lnTo>
                    <a:lnTo>
                      <a:pt x="194" y="566"/>
                    </a:lnTo>
                    <a:lnTo>
                      <a:pt x="192" y="566"/>
                    </a:lnTo>
                    <a:lnTo>
                      <a:pt x="190" y="566"/>
                    </a:lnTo>
                    <a:lnTo>
                      <a:pt x="188" y="567"/>
                    </a:lnTo>
                    <a:lnTo>
                      <a:pt x="187" y="568"/>
                    </a:lnTo>
                    <a:lnTo>
                      <a:pt x="186" y="569"/>
                    </a:lnTo>
                    <a:lnTo>
                      <a:pt x="186" y="571"/>
                    </a:lnTo>
                    <a:lnTo>
                      <a:pt x="177" y="571"/>
                    </a:lnTo>
                    <a:lnTo>
                      <a:pt x="177" y="570"/>
                    </a:lnTo>
                    <a:lnTo>
                      <a:pt x="176" y="568"/>
                    </a:lnTo>
                    <a:lnTo>
                      <a:pt x="174" y="568"/>
                    </a:lnTo>
                    <a:lnTo>
                      <a:pt x="172" y="567"/>
                    </a:lnTo>
                    <a:lnTo>
                      <a:pt x="171" y="568"/>
                    </a:lnTo>
                    <a:lnTo>
                      <a:pt x="169" y="568"/>
                    </a:lnTo>
                    <a:lnTo>
                      <a:pt x="168" y="570"/>
                    </a:lnTo>
                    <a:lnTo>
                      <a:pt x="168" y="571"/>
                    </a:lnTo>
                    <a:lnTo>
                      <a:pt x="138" y="571"/>
                    </a:lnTo>
                    <a:lnTo>
                      <a:pt x="137" y="570"/>
                    </a:lnTo>
                    <a:lnTo>
                      <a:pt x="136" y="568"/>
                    </a:lnTo>
                    <a:lnTo>
                      <a:pt x="135" y="568"/>
                    </a:lnTo>
                    <a:lnTo>
                      <a:pt x="133" y="567"/>
                    </a:lnTo>
                    <a:lnTo>
                      <a:pt x="131" y="568"/>
                    </a:lnTo>
                    <a:lnTo>
                      <a:pt x="130" y="568"/>
                    </a:lnTo>
                    <a:lnTo>
                      <a:pt x="129" y="570"/>
                    </a:lnTo>
                    <a:lnTo>
                      <a:pt x="129" y="571"/>
                    </a:lnTo>
                    <a:lnTo>
                      <a:pt x="125" y="571"/>
                    </a:lnTo>
                    <a:lnTo>
                      <a:pt x="125" y="779"/>
                    </a:lnTo>
                    <a:lnTo>
                      <a:pt x="101" y="779"/>
                    </a:lnTo>
                    <a:lnTo>
                      <a:pt x="100" y="778"/>
                    </a:lnTo>
                    <a:lnTo>
                      <a:pt x="99" y="777"/>
                    </a:lnTo>
                    <a:lnTo>
                      <a:pt x="98" y="776"/>
                    </a:lnTo>
                    <a:lnTo>
                      <a:pt x="96" y="776"/>
                    </a:lnTo>
                    <a:lnTo>
                      <a:pt x="95" y="776"/>
                    </a:lnTo>
                    <a:lnTo>
                      <a:pt x="93" y="777"/>
                    </a:lnTo>
                    <a:lnTo>
                      <a:pt x="92" y="778"/>
                    </a:lnTo>
                    <a:lnTo>
                      <a:pt x="92" y="779"/>
                    </a:lnTo>
                    <a:lnTo>
                      <a:pt x="86" y="779"/>
                    </a:lnTo>
                    <a:lnTo>
                      <a:pt x="85" y="778"/>
                    </a:lnTo>
                    <a:lnTo>
                      <a:pt x="84" y="777"/>
                    </a:lnTo>
                    <a:lnTo>
                      <a:pt x="83" y="776"/>
                    </a:lnTo>
                    <a:lnTo>
                      <a:pt x="81" y="776"/>
                    </a:lnTo>
                    <a:lnTo>
                      <a:pt x="79" y="776"/>
                    </a:lnTo>
                    <a:lnTo>
                      <a:pt x="78" y="777"/>
                    </a:lnTo>
                    <a:lnTo>
                      <a:pt x="77" y="778"/>
                    </a:lnTo>
                    <a:lnTo>
                      <a:pt x="77" y="779"/>
                    </a:lnTo>
                    <a:lnTo>
                      <a:pt x="66" y="779"/>
                    </a:lnTo>
                    <a:lnTo>
                      <a:pt x="65" y="777"/>
                    </a:lnTo>
                    <a:lnTo>
                      <a:pt x="64" y="776"/>
                    </a:lnTo>
                    <a:lnTo>
                      <a:pt x="63" y="774"/>
                    </a:lnTo>
                    <a:lnTo>
                      <a:pt x="61" y="773"/>
                    </a:lnTo>
                    <a:lnTo>
                      <a:pt x="59" y="772"/>
                    </a:lnTo>
                    <a:lnTo>
                      <a:pt x="57" y="772"/>
                    </a:lnTo>
                    <a:lnTo>
                      <a:pt x="55" y="772"/>
                    </a:lnTo>
                    <a:lnTo>
                      <a:pt x="52" y="773"/>
                    </a:lnTo>
                    <a:lnTo>
                      <a:pt x="50" y="774"/>
                    </a:lnTo>
                    <a:lnTo>
                      <a:pt x="49" y="776"/>
                    </a:lnTo>
                    <a:lnTo>
                      <a:pt x="48" y="777"/>
                    </a:lnTo>
                    <a:lnTo>
                      <a:pt x="48" y="779"/>
                    </a:lnTo>
                    <a:lnTo>
                      <a:pt x="44" y="779"/>
                    </a:lnTo>
                    <a:lnTo>
                      <a:pt x="43" y="778"/>
                    </a:lnTo>
                    <a:lnTo>
                      <a:pt x="43" y="777"/>
                    </a:lnTo>
                    <a:lnTo>
                      <a:pt x="41" y="776"/>
                    </a:lnTo>
                    <a:lnTo>
                      <a:pt x="39" y="776"/>
                    </a:lnTo>
                    <a:lnTo>
                      <a:pt x="38" y="776"/>
                    </a:lnTo>
                    <a:lnTo>
                      <a:pt x="36" y="777"/>
                    </a:lnTo>
                    <a:lnTo>
                      <a:pt x="35" y="778"/>
                    </a:lnTo>
                    <a:lnTo>
                      <a:pt x="35" y="779"/>
                    </a:lnTo>
                    <a:lnTo>
                      <a:pt x="33" y="779"/>
                    </a:lnTo>
                    <a:lnTo>
                      <a:pt x="33" y="778"/>
                    </a:lnTo>
                    <a:lnTo>
                      <a:pt x="32" y="777"/>
                    </a:lnTo>
                    <a:lnTo>
                      <a:pt x="30" y="776"/>
                    </a:lnTo>
                    <a:lnTo>
                      <a:pt x="29" y="776"/>
                    </a:lnTo>
                    <a:lnTo>
                      <a:pt x="27" y="776"/>
                    </a:lnTo>
                    <a:lnTo>
                      <a:pt x="26" y="777"/>
                    </a:lnTo>
                    <a:lnTo>
                      <a:pt x="25" y="778"/>
                    </a:lnTo>
                    <a:lnTo>
                      <a:pt x="24" y="779"/>
                    </a:lnTo>
                    <a:lnTo>
                      <a:pt x="22" y="779"/>
                    </a:lnTo>
                    <a:lnTo>
                      <a:pt x="22" y="777"/>
                    </a:lnTo>
                    <a:lnTo>
                      <a:pt x="21" y="776"/>
                    </a:lnTo>
                    <a:lnTo>
                      <a:pt x="19" y="775"/>
                    </a:lnTo>
                    <a:lnTo>
                      <a:pt x="18" y="774"/>
                    </a:lnTo>
                    <a:lnTo>
                      <a:pt x="15" y="774"/>
                    </a:lnTo>
                    <a:lnTo>
                      <a:pt x="14" y="774"/>
                    </a:lnTo>
                    <a:lnTo>
                      <a:pt x="12" y="775"/>
                    </a:lnTo>
                    <a:lnTo>
                      <a:pt x="10" y="776"/>
                    </a:lnTo>
                    <a:lnTo>
                      <a:pt x="9" y="777"/>
                    </a:lnTo>
                    <a:lnTo>
                      <a:pt x="9" y="779"/>
                    </a:lnTo>
                    <a:lnTo>
                      <a:pt x="0" y="7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6409080" y="22525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5" name=""/>
              <p:cNvSpPr/>
              <p:nvPr/>
            </p:nvSpPr>
            <p:spPr>
              <a:xfrm>
                <a:off x="5793840" y="3298680"/>
                <a:ext cx="13680" cy="13320"/>
              </a:xfrm>
              <a:custGeom>
                <a:avLst/>
                <a:gdLst/>
                <a:ahLst/>
                <a:rect l="l" t="t" r="r" b="b"/>
                <a:pathLst>
                  <a:path w="13" h="10">
                    <a:moveTo>
                      <a:pt x="12" y="10"/>
                    </a:moveTo>
                    <a:lnTo>
                      <a:pt x="0" y="5"/>
                    </a:lnTo>
                    <a:lnTo>
                      <a:pt x="12" y="0"/>
                    </a:lnTo>
                    <a:lnTo>
                      <a:pt x="13" y="3"/>
                    </a:lnTo>
                    <a:lnTo>
                      <a:pt x="13" y="5"/>
                    </a:lnTo>
                    <a:lnTo>
                      <a:pt x="13" y="7"/>
                    </a:lnTo>
                    <a:lnTo>
                      <a:pt x="12"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6" name=""/>
              <p:cNvSpPr/>
              <p:nvPr/>
            </p:nvSpPr>
            <p:spPr>
              <a:xfrm>
                <a:off x="6204600" y="2335320"/>
                <a:ext cx="1992240" cy="842760"/>
              </a:xfrm>
              <a:custGeom>
                <a:avLst/>
                <a:gdLst/>
                <a:ahLst/>
                <a:rect l="l" t="t" r="r" b="b"/>
                <a:pathLst>
                  <a:path w="1882" h="631">
                    <a:moveTo>
                      <a:pt x="0" y="631"/>
                    </a:moveTo>
                    <a:lnTo>
                      <a:pt x="0" y="4"/>
                    </a:lnTo>
                    <a:lnTo>
                      <a:pt x="3" y="4"/>
                    </a:lnTo>
                    <a:lnTo>
                      <a:pt x="3" y="3"/>
                    </a:lnTo>
                    <a:lnTo>
                      <a:pt x="4" y="1"/>
                    </a:lnTo>
                    <a:lnTo>
                      <a:pt x="5" y="1"/>
                    </a:lnTo>
                    <a:lnTo>
                      <a:pt x="7" y="0"/>
                    </a:lnTo>
                    <a:lnTo>
                      <a:pt x="9" y="1"/>
                    </a:lnTo>
                    <a:lnTo>
                      <a:pt x="10" y="1"/>
                    </a:lnTo>
                    <a:lnTo>
                      <a:pt x="11" y="3"/>
                    </a:lnTo>
                    <a:lnTo>
                      <a:pt x="12" y="4"/>
                    </a:lnTo>
                    <a:lnTo>
                      <a:pt x="19" y="4"/>
                    </a:lnTo>
                    <a:lnTo>
                      <a:pt x="20" y="3"/>
                    </a:lnTo>
                    <a:lnTo>
                      <a:pt x="21" y="1"/>
                    </a:lnTo>
                    <a:lnTo>
                      <a:pt x="22" y="1"/>
                    </a:lnTo>
                    <a:lnTo>
                      <a:pt x="24" y="0"/>
                    </a:lnTo>
                    <a:lnTo>
                      <a:pt x="26" y="1"/>
                    </a:lnTo>
                    <a:lnTo>
                      <a:pt x="27" y="1"/>
                    </a:lnTo>
                    <a:lnTo>
                      <a:pt x="28" y="3"/>
                    </a:lnTo>
                    <a:lnTo>
                      <a:pt x="28" y="4"/>
                    </a:lnTo>
                    <a:lnTo>
                      <a:pt x="53" y="4"/>
                    </a:lnTo>
                    <a:lnTo>
                      <a:pt x="53" y="3"/>
                    </a:lnTo>
                    <a:lnTo>
                      <a:pt x="54" y="1"/>
                    </a:lnTo>
                    <a:lnTo>
                      <a:pt x="56" y="1"/>
                    </a:lnTo>
                    <a:lnTo>
                      <a:pt x="57" y="0"/>
                    </a:lnTo>
                    <a:lnTo>
                      <a:pt x="59" y="1"/>
                    </a:lnTo>
                    <a:lnTo>
                      <a:pt x="61" y="1"/>
                    </a:lnTo>
                    <a:lnTo>
                      <a:pt x="61" y="3"/>
                    </a:lnTo>
                    <a:lnTo>
                      <a:pt x="62" y="4"/>
                    </a:lnTo>
                    <a:lnTo>
                      <a:pt x="90" y="4"/>
                    </a:lnTo>
                    <a:lnTo>
                      <a:pt x="91" y="3"/>
                    </a:lnTo>
                    <a:lnTo>
                      <a:pt x="92" y="1"/>
                    </a:lnTo>
                    <a:lnTo>
                      <a:pt x="93" y="1"/>
                    </a:lnTo>
                    <a:lnTo>
                      <a:pt x="95" y="0"/>
                    </a:lnTo>
                    <a:lnTo>
                      <a:pt x="97" y="1"/>
                    </a:lnTo>
                    <a:lnTo>
                      <a:pt x="98" y="1"/>
                    </a:lnTo>
                    <a:lnTo>
                      <a:pt x="99" y="3"/>
                    </a:lnTo>
                    <a:lnTo>
                      <a:pt x="99" y="4"/>
                    </a:lnTo>
                    <a:lnTo>
                      <a:pt x="133" y="4"/>
                    </a:lnTo>
                    <a:lnTo>
                      <a:pt x="133" y="3"/>
                    </a:lnTo>
                    <a:lnTo>
                      <a:pt x="134" y="1"/>
                    </a:lnTo>
                    <a:lnTo>
                      <a:pt x="135" y="1"/>
                    </a:lnTo>
                    <a:lnTo>
                      <a:pt x="137" y="0"/>
                    </a:lnTo>
                    <a:lnTo>
                      <a:pt x="139" y="1"/>
                    </a:lnTo>
                    <a:lnTo>
                      <a:pt x="140" y="1"/>
                    </a:lnTo>
                    <a:lnTo>
                      <a:pt x="141" y="3"/>
                    </a:lnTo>
                    <a:lnTo>
                      <a:pt x="142" y="4"/>
                    </a:lnTo>
                    <a:lnTo>
                      <a:pt x="275" y="4"/>
                    </a:lnTo>
                    <a:lnTo>
                      <a:pt x="276" y="3"/>
                    </a:lnTo>
                    <a:lnTo>
                      <a:pt x="277" y="1"/>
                    </a:lnTo>
                    <a:lnTo>
                      <a:pt x="278" y="1"/>
                    </a:lnTo>
                    <a:lnTo>
                      <a:pt x="280" y="0"/>
                    </a:lnTo>
                    <a:lnTo>
                      <a:pt x="282" y="1"/>
                    </a:lnTo>
                    <a:lnTo>
                      <a:pt x="283" y="1"/>
                    </a:lnTo>
                    <a:lnTo>
                      <a:pt x="284" y="3"/>
                    </a:lnTo>
                    <a:lnTo>
                      <a:pt x="284" y="4"/>
                    </a:lnTo>
                    <a:lnTo>
                      <a:pt x="375" y="4"/>
                    </a:lnTo>
                    <a:lnTo>
                      <a:pt x="376" y="3"/>
                    </a:lnTo>
                    <a:lnTo>
                      <a:pt x="376" y="1"/>
                    </a:lnTo>
                    <a:lnTo>
                      <a:pt x="378" y="1"/>
                    </a:lnTo>
                    <a:lnTo>
                      <a:pt x="380" y="0"/>
                    </a:lnTo>
                    <a:lnTo>
                      <a:pt x="381" y="1"/>
                    </a:lnTo>
                    <a:lnTo>
                      <a:pt x="383" y="1"/>
                    </a:lnTo>
                    <a:lnTo>
                      <a:pt x="384" y="3"/>
                    </a:lnTo>
                    <a:lnTo>
                      <a:pt x="384" y="4"/>
                    </a:lnTo>
                    <a:lnTo>
                      <a:pt x="399" y="4"/>
                    </a:lnTo>
                    <a:lnTo>
                      <a:pt x="400" y="3"/>
                    </a:lnTo>
                    <a:lnTo>
                      <a:pt x="401" y="1"/>
                    </a:lnTo>
                    <a:lnTo>
                      <a:pt x="402" y="1"/>
                    </a:lnTo>
                    <a:lnTo>
                      <a:pt x="404" y="0"/>
                    </a:lnTo>
                    <a:lnTo>
                      <a:pt x="406" y="1"/>
                    </a:lnTo>
                    <a:lnTo>
                      <a:pt x="407" y="1"/>
                    </a:lnTo>
                    <a:lnTo>
                      <a:pt x="408" y="3"/>
                    </a:lnTo>
                    <a:lnTo>
                      <a:pt x="408" y="4"/>
                    </a:lnTo>
                    <a:lnTo>
                      <a:pt x="420" y="4"/>
                    </a:lnTo>
                    <a:lnTo>
                      <a:pt x="420" y="3"/>
                    </a:lnTo>
                    <a:lnTo>
                      <a:pt x="421" y="1"/>
                    </a:lnTo>
                    <a:lnTo>
                      <a:pt x="423" y="1"/>
                    </a:lnTo>
                    <a:lnTo>
                      <a:pt x="424" y="0"/>
                    </a:lnTo>
                    <a:lnTo>
                      <a:pt x="426" y="1"/>
                    </a:lnTo>
                    <a:lnTo>
                      <a:pt x="427" y="1"/>
                    </a:lnTo>
                    <a:lnTo>
                      <a:pt x="428" y="3"/>
                    </a:lnTo>
                    <a:lnTo>
                      <a:pt x="429" y="4"/>
                    </a:lnTo>
                    <a:lnTo>
                      <a:pt x="441" y="4"/>
                    </a:lnTo>
                    <a:lnTo>
                      <a:pt x="442" y="3"/>
                    </a:lnTo>
                    <a:lnTo>
                      <a:pt x="443" y="1"/>
                    </a:lnTo>
                    <a:lnTo>
                      <a:pt x="444" y="1"/>
                    </a:lnTo>
                    <a:lnTo>
                      <a:pt x="446" y="0"/>
                    </a:lnTo>
                    <a:lnTo>
                      <a:pt x="448" y="1"/>
                    </a:lnTo>
                    <a:lnTo>
                      <a:pt x="449" y="1"/>
                    </a:lnTo>
                    <a:lnTo>
                      <a:pt x="450" y="3"/>
                    </a:lnTo>
                    <a:lnTo>
                      <a:pt x="450" y="4"/>
                    </a:lnTo>
                    <a:lnTo>
                      <a:pt x="506" y="4"/>
                    </a:lnTo>
                    <a:lnTo>
                      <a:pt x="506" y="3"/>
                    </a:lnTo>
                    <a:lnTo>
                      <a:pt x="507" y="1"/>
                    </a:lnTo>
                    <a:lnTo>
                      <a:pt x="509" y="1"/>
                    </a:lnTo>
                    <a:lnTo>
                      <a:pt x="510" y="0"/>
                    </a:lnTo>
                    <a:lnTo>
                      <a:pt x="512" y="1"/>
                    </a:lnTo>
                    <a:lnTo>
                      <a:pt x="513" y="1"/>
                    </a:lnTo>
                    <a:lnTo>
                      <a:pt x="515" y="3"/>
                    </a:lnTo>
                    <a:lnTo>
                      <a:pt x="515" y="4"/>
                    </a:lnTo>
                    <a:lnTo>
                      <a:pt x="536" y="4"/>
                    </a:lnTo>
                    <a:lnTo>
                      <a:pt x="537" y="3"/>
                    </a:lnTo>
                    <a:lnTo>
                      <a:pt x="538" y="1"/>
                    </a:lnTo>
                    <a:lnTo>
                      <a:pt x="539" y="1"/>
                    </a:lnTo>
                    <a:lnTo>
                      <a:pt x="541" y="0"/>
                    </a:lnTo>
                    <a:lnTo>
                      <a:pt x="542" y="1"/>
                    </a:lnTo>
                    <a:lnTo>
                      <a:pt x="544" y="1"/>
                    </a:lnTo>
                    <a:lnTo>
                      <a:pt x="545" y="3"/>
                    </a:lnTo>
                    <a:lnTo>
                      <a:pt x="545" y="4"/>
                    </a:lnTo>
                    <a:lnTo>
                      <a:pt x="559" y="4"/>
                    </a:lnTo>
                    <a:lnTo>
                      <a:pt x="559" y="3"/>
                    </a:lnTo>
                    <a:lnTo>
                      <a:pt x="560" y="1"/>
                    </a:lnTo>
                    <a:lnTo>
                      <a:pt x="562" y="1"/>
                    </a:lnTo>
                    <a:lnTo>
                      <a:pt x="563" y="0"/>
                    </a:lnTo>
                    <a:lnTo>
                      <a:pt x="565" y="1"/>
                    </a:lnTo>
                    <a:lnTo>
                      <a:pt x="566" y="1"/>
                    </a:lnTo>
                    <a:lnTo>
                      <a:pt x="567" y="3"/>
                    </a:lnTo>
                    <a:lnTo>
                      <a:pt x="568" y="4"/>
                    </a:lnTo>
                    <a:lnTo>
                      <a:pt x="848" y="4"/>
                    </a:lnTo>
                    <a:lnTo>
                      <a:pt x="849" y="3"/>
                    </a:lnTo>
                    <a:lnTo>
                      <a:pt x="849" y="1"/>
                    </a:lnTo>
                    <a:lnTo>
                      <a:pt x="851" y="1"/>
                    </a:lnTo>
                    <a:lnTo>
                      <a:pt x="853" y="0"/>
                    </a:lnTo>
                    <a:lnTo>
                      <a:pt x="854" y="1"/>
                    </a:lnTo>
                    <a:lnTo>
                      <a:pt x="856" y="1"/>
                    </a:lnTo>
                    <a:lnTo>
                      <a:pt x="857" y="3"/>
                    </a:lnTo>
                    <a:lnTo>
                      <a:pt x="857" y="4"/>
                    </a:lnTo>
                    <a:lnTo>
                      <a:pt x="872" y="4"/>
                    </a:lnTo>
                    <a:lnTo>
                      <a:pt x="873" y="3"/>
                    </a:lnTo>
                    <a:lnTo>
                      <a:pt x="874" y="1"/>
                    </a:lnTo>
                    <a:lnTo>
                      <a:pt x="875" y="1"/>
                    </a:lnTo>
                    <a:lnTo>
                      <a:pt x="877" y="0"/>
                    </a:lnTo>
                    <a:lnTo>
                      <a:pt x="879" y="1"/>
                    </a:lnTo>
                    <a:lnTo>
                      <a:pt x="880" y="1"/>
                    </a:lnTo>
                    <a:lnTo>
                      <a:pt x="881" y="3"/>
                    </a:lnTo>
                    <a:lnTo>
                      <a:pt x="881" y="4"/>
                    </a:lnTo>
                    <a:lnTo>
                      <a:pt x="900" y="4"/>
                    </a:lnTo>
                    <a:lnTo>
                      <a:pt x="900" y="3"/>
                    </a:lnTo>
                    <a:lnTo>
                      <a:pt x="901" y="1"/>
                    </a:lnTo>
                    <a:lnTo>
                      <a:pt x="903" y="1"/>
                    </a:lnTo>
                    <a:lnTo>
                      <a:pt x="905" y="0"/>
                    </a:lnTo>
                    <a:lnTo>
                      <a:pt x="906" y="1"/>
                    </a:lnTo>
                    <a:lnTo>
                      <a:pt x="908" y="1"/>
                    </a:lnTo>
                    <a:lnTo>
                      <a:pt x="909" y="3"/>
                    </a:lnTo>
                    <a:lnTo>
                      <a:pt x="909" y="4"/>
                    </a:lnTo>
                    <a:lnTo>
                      <a:pt x="926" y="4"/>
                    </a:lnTo>
                    <a:lnTo>
                      <a:pt x="926" y="3"/>
                    </a:lnTo>
                    <a:lnTo>
                      <a:pt x="927" y="1"/>
                    </a:lnTo>
                    <a:lnTo>
                      <a:pt x="929" y="1"/>
                    </a:lnTo>
                    <a:lnTo>
                      <a:pt x="930" y="0"/>
                    </a:lnTo>
                    <a:lnTo>
                      <a:pt x="932" y="1"/>
                    </a:lnTo>
                    <a:lnTo>
                      <a:pt x="934" y="1"/>
                    </a:lnTo>
                    <a:lnTo>
                      <a:pt x="934" y="3"/>
                    </a:lnTo>
                    <a:lnTo>
                      <a:pt x="935" y="4"/>
                    </a:lnTo>
                    <a:lnTo>
                      <a:pt x="948" y="4"/>
                    </a:lnTo>
                    <a:lnTo>
                      <a:pt x="948" y="3"/>
                    </a:lnTo>
                    <a:lnTo>
                      <a:pt x="949" y="1"/>
                    </a:lnTo>
                    <a:lnTo>
                      <a:pt x="951" y="1"/>
                    </a:lnTo>
                    <a:lnTo>
                      <a:pt x="952" y="0"/>
                    </a:lnTo>
                    <a:lnTo>
                      <a:pt x="954" y="1"/>
                    </a:lnTo>
                    <a:lnTo>
                      <a:pt x="956" y="1"/>
                    </a:lnTo>
                    <a:lnTo>
                      <a:pt x="956" y="3"/>
                    </a:lnTo>
                    <a:lnTo>
                      <a:pt x="957" y="4"/>
                    </a:lnTo>
                    <a:lnTo>
                      <a:pt x="968" y="4"/>
                    </a:lnTo>
                    <a:lnTo>
                      <a:pt x="969" y="3"/>
                    </a:lnTo>
                    <a:lnTo>
                      <a:pt x="970" y="1"/>
                    </a:lnTo>
                    <a:lnTo>
                      <a:pt x="971" y="1"/>
                    </a:lnTo>
                    <a:lnTo>
                      <a:pt x="973" y="0"/>
                    </a:lnTo>
                    <a:lnTo>
                      <a:pt x="975" y="1"/>
                    </a:lnTo>
                    <a:lnTo>
                      <a:pt x="976" y="1"/>
                    </a:lnTo>
                    <a:lnTo>
                      <a:pt x="977" y="3"/>
                    </a:lnTo>
                    <a:lnTo>
                      <a:pt x="977" y="4"/>
                    </a:lnTo>
                    <a:lnTo>
                      <a:pt x="995" y="4"/>
                    </a:lnTo>
                    <a:lnTo>
                      <a:pt x="996" y="3"/>
                    </a:lnTo>
                    <a:lnTo>
                      <a:pt x="997" y="1"/>
                    </a:lnTo>
                    <a:lnTo>
                      <a:pt x="998" y="1"/>
                    </a:lnTo>
                    <a:lnTo>
                      <a:pt x="1000" y="0"/>
                    </a:lnTo>
                    <a:lnTo>
                      <a:pt x="1002" y="1"/>
                    </a:lnTo>
                    <a:lnTo>
                      <a:pt x="1003" y="1"/>
                    </a:lnTo>
                    <a:lnTo>
                      <a:pt x="1004" y="3"/>
                    </a:lnTo>
                    <a:lnTo>
                      <a:pt x="1005" y="4"/>
                    </a:lnTo>
                    <a:lnTo>
                      <a:pt x="1036" y="4"/>
                    </a:lnTo>
                    <a:lnTo>
                      <a:pt x="1037" y="3"/>
                    </a:lnTo>
                    <a:lnTo>
                      <a:pt x="1037" y="1"/>
                    </a:lnTo>
                    <a:lnTo>
                      <a:pt x="1039" y="1"/>
                    </a:lnTo>
                    <a:lnTo>
                      <a:pt x="1041" y="0"/>
                    </a:lnTo>
                    <a:lnTo>
                      <a:pt x="1042" y="1"/>
                    </a:lnTo>
                    <a:lnTo>
                      <a:pt x="1044" y="1"/>
                    </a:lnTo>
                    <a:lnTo>
                      <a:pt x="1045" y="3"/>
                    </a:lnTo>
                    <a:lnTo>
                      <a:pt x="1045" y="4"/>
                    </a:lnTo>
                    <a:lnTo>
                      <a:pt x="1070" y="4"/>
                    </a:lnTo>
                    <a:lnTo>
                      <a:pt x="1070" y="3"/>
                    </a:lnTo>
                    <a:lnTo>
                      <a:pt x="1071" y="1"/>
                    </a:lnTo>
                    <a:lnTo>
                      <a:pt x="1073" y="1"/>
                    </a:lnTo>
                    <a:lnTo>
                      <a:pt x="1074" y="0"/>
                    </a:lnTo>
                    <a:lnTo>
                      <a:pt x="1076" y="1"/>
                    </a:lnTo>
                    <a:lnTo>
                      <a:pt x="1077" y="1"/>
                    </a:lnTo>
                    <a:lnTo>
                      <a:pt x="1079" y="3"/>
                    </a:lnTo>
                    <a:lnTo>
                      <a:pt x="1079" y="4"/>
                    </a:lnTo>
                    <a:lnTo>
                      <a:pt x="1131" y="4"/>
                    </a:lnTo>
                    <a:lnTo>
                      <a:pt x="1131" y="3"/>
                    </a:lnTo>
                    <a:lnTo>
                      <a:pt x="1132" y="1"/>
                    </a:lnTo>
                    <a:lnTo>
                      <a:pt x="1133" y="1"/>
                    </a:lnTo>
                    <a:lnTo>
                      <a:pt x="1135" y="0"/>
                    </a:lnTo>
                    <a:lnTo>
                      <a:pt x="1137" y="1"/>
                    </a:lnTo>
                    <a:lnTo>
                      <a:pt x="1138" y="1"/>
                    </a:lnTo>
                    <a:lnTo>
                      <a:pt x="1139" y="3"/>
                    </a:lnTo>
                    <a:lnTo>
                      <a:pt x="1140" y="4"/>
                    </a:lnTo>
                    <a:lnTo>
                      <a:pt x="1254" y="4"/>
                    </a:lnTo>
                    <a:lnTo>
                      <a:pt x="1254" y="3"/>
                    </a:lnTo>
                    <a:lnTo>
                      <a:pt x="1255" y="1"/>
                    </a:lnTo>
                    <a:lnTo>
                      <a:pt x="1257" y="1"/>
                    </a:lnTo>
                    <a:lnTo>
                      <a:pt x="1258" y="0"/>
                    </a:lnTo>
                    <a:lnTo>
                      <a:pt x="1260" y="1"/>
                    </a:lnTo>
                    <a:lnTo>
                      <a:pt x="1262" y="1"/>
                    </a:lnTo>
                    <a:lnTo>
                      <a:pt x="1263" y="3"/>
                    </a:lnTo>
                    <a:lnTo>
                      <a:pt x="1263" y="4"/>
                    </a:lnTo>
                    <a:lnTo>
                      <a:pt x="1556" y="4"/>
                    </a:lnTo>
                    <a:lnTo>
                      <a:pt x="1557" y="3"/>
                    </a:lnTo>
                    <a:lnTo>
                      <a:pt x="1557" y="1"/>
                    </a:lnTo>
                    <a:lnTo>
                      <a:pt x="1559" y="1"/>
                    </a:lnTo>
                    <a:lnTo>
                      <a:pt x="1561" y="0"/>
                    </a:lnTo>
                    <a:lnTo>
                      <a:pt x="1562" y="1"/>
                    </a:lnTo>
                    <a:lnTo>
                      <a:pt x="1564" y="1"/>
                    </a:lnTo>
                    <a:lnTo>
                      <a:pt x="1565" y="3"/>
                    </a:lnTo>
                    <a:lnTo>
                      <a:pt x="1565" y="4"/>
                    </a:lnTo>
                    <a:lnTo>
                      <a:pt x="1630" y="4"/>
                    </a:lnTo>
                    <a:lnTo>
                      <a:pt x="1631" y="3"/>
                    </a:lnTo>
                    <a:lnTo>
                      <a:pt x="1632" y="1"/>
                    </a:lnTo>
                    <a:lnTo>
                      <a:pt x="1633" y="1"/>
                    </a:lnTo>
                    <a:lnTo>
                      <a:pt x="1635" y="0"/>
                    </a:lnTo>
                    <a:lnTo>
                      <a:pt x="1637" y="1"/>
                    </a:lnTo>
                    <a:lnTo>
                      <a:pt x="1638" y="1"/>
                    </a:lnTo>
                    <a:lnTo>
                      <a:pt x="1639" y="3"/>
                    </a:lnTo>
                    <a:lnTo>
                      <a:pt x="1639" y="4"/>
                    </a:lnTo>
                    <a:lnTo>
                      <a:pt x="1718" y="4"/>
                    </a:lnTo>
                    <a:lnTo>
                      <a:pt x="1719" y="3"/>
                    </a:lnTo>
                    <a:lnTo>
                      <a:pt x="1720" y="1"/>
                    </a:lnTo>
                    <a:lnTo>
                      <a:pt x="1721" y="1"/>
                    </a:lnTo>
                    <a:lnTo>
                      <a:pt x="1723" y="0"/>
                    </a:lnTo>
                    <a:lnTo>
                      <a:pt x="1724" y="1"/>
                    </a:lnTo>
                    <a:lnTo>
                      <a:pt x="1726" y="1"/>
                    </a:lnTo>
                    <a:lnTo>
                      <a:pt x="1727" y="3"/>
                    </a:lnTo>
                    <a:lnTo>
                      <a:pt x="1727" y="4"/>
                    </a:lnTo>
                    <a:lnTo>
                      <a:pt x="1814" y="4"/>
                    </a:lnTo>
                    <a:lnTo>
                      <a:pt x="1815" y="3"/>
                    </a:lnTo>
                    <a:lnTo>
                      <a:pt x="1816" y="1"/>
                    </a:lnTo>
                    <a:lnTo>
                      <a:pt x="1817" y="1"/>
                    </a:lnTo>
                    <a:lnTo>
                      <a:pt x="1819" y="0"/>
                    </a:lnTo>
                    <a:lnTo>
                      <a:pt x="1821" y="1"/>
                    </a:lnTo>
                    <a:lnTo>
                      <a:pt x="1822" y="1"/>
                    </a:lnTo>
                    <a:lnTo>
                      <a:pt x="1823" y="3"/>
                    </a:lnTo>
                    <a:lnTo>
                      <a:pt x="1823" y="4"/>
                    </a:lnTo>
                    <a:lnTo>
                      <a:pt x="1866" y="4"/>
                    </a:lnTo>
                    <a:lnTo>
                      <a:pt x="1867" y="3"/>
                    </a:lnTo>
                    <a:lnTo>
                      <a:pt x="1867" y="1"/>
                    </a:lnTo>
                    <a:lnTo>
                      <a:pt x="1869" y="0"/>
                    </a:lnTo>
                    <a:lnTo>
                      <a:pt x="1871" y="0"/>
                    </a:lnTo>
                    <a:lnTo>
                      <a:pt x="1872" y="0"/>
                    </a:lnTo>
                    <a:lnTo>
                      <a:pt x="1874" y="0"/>
                    </a:lnTo>
                    <a:lnTo>
                      <a:pt x="1875" y="1"/>
                    </a:lnTo>
                    <a:lnTo>
                      <a:pt x="1876" y="3"/>
                    </a:lnTo>
                    <a:lnTo>
                      <a:pt x="1876" y="4"/>
                    </a:lnTo>
                    <a:lnTo>
                      <a:pt x="1882" y="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6198480" y="3176640"/>
                <a:ext cx="1224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8" name=""/>
              <p:cNvSpPr/>
              <p:nvPr/>
            </p:nvSpPr>
            <p:spPr>
              <a:xfrm>
                <a:off x="8196120" y="2334240"/>
                <a:ext cx="13680" cy="13320"/>
              </a:xfrm>
              <a:custGeom>
                <a:avLst/>
                <a:gdLst/>
                <a:ahLst/>
                <a:rect l="l" t="t" r="r" b="b"/>
                <a:pathLst>
                  <a:path w="13" h="10">
                    <a:moveTo>
                      <a:pt x="1" y="0"/>
                    </a:moveTo>
                    <a:lnTo>
                      <a:pt x="13" y="5"/>
                    </a:lnTo>
                    <a:lnTo>
                      <a:pt x="1" y="10"/>
                    </a:lnTo>
                    <a:lnTo>
                      <a:pt x="0" y="7"/>
                    </a:lnTo>
                    <a:lnTo>
                      <a:pt x="0" y="5"/>
                    </a:lnTo>
                    <a:lnTo>
                      <a:pt x="0" y="3"/>
                    </a:lnTo>
                    <a:lnTo>
                      <a:pt x="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69" name=""/>
              <p:cNvSpPr/>
              <p:nvPr/>
            </p:nvSpPr>
            <p:spPr>
              <a:xfrm>
                <a:off x="5810760" y="2264400"/>
                <a:ext cx="2398680" cy="1494720"/>
              </a:xfrm>
              <a:custGeom>
                <a:avLst/>
                <a:gdLst/>
                <a:ahLst/>
                <a:rect l="l" t="t" r="r" b="b"/>
                <a:pathLst>
                  <a:path w="2266" h="1119">
                    <a:moveTo>
                      <a:pt x="0" y="1119"/>
                    </a:moveTo>
                    <a:lnTo>
                      <a:pt x="0" y="1035"/>
                    </a:lnTo>
                    <a:lnTo>
                      <a:pt x="13" y="1035"/>
                    </a:lnTo>
                    <a:lnTo>
                      <a:pt x="13" y="553"/>
                    </a:lnTo>
                    <a:lnTo>
                      <a:pt x="41" y="553"/>
                    </a:lnTo>
                    <a:lnTo>
                      <a:pt x="41" y="551"/>
                    </a:lnTo>
                    <a:lnTo>
                      <a:pt x="42" y="550"/>
                    </a:lnTo>
                    <a:lnTo>
                      <a:pt x="44" y="550"/>
                    </a:lnTo>
                    <a:lnTo>
                      <a:pt x="45" y="549"/>
                    </a:lnTo>
                    <a:lnTo>
                      <a:pt x="47" y="550"/>
                    </a:lnTo>
                    <a:lnTo>
                      <a:pt x="48" y="550"/>
                    </a:lnTo>
                    <a:lnTo>
                      <a:pt x="49" y="551"/>
                    </a:lnTo>
                    <a:lnTo>
                      <a:pt x="50" y="553"/>
                    </a:lnTo>
                    <a:lnTo>
                      <a:pt x="61" y="553"/>
                    </a:lnTo>
                    <a:lnTo>
                      <a:pt x="61" y="551"/>
                    </a:lnTo>
                    <a:lnTo>
                      <a:pt x="62" y="550"/>
                    </a:lnTo>
                    <a:lnTo>
                      <a:pt x="63" y="550"/>
                    </a:lnTo>
                    <a:lnTo>
                      <a:pt x="65" y="549"/>
                    </a:lnTo>
                    <a:lnTo>
                      <a:pt x="67" y="550"/>
                    </a:lnTo>
                    <a:lnTo>
                      <a:pt x="68" y="550"/>
                    </a:lnTo>
                    <a:lnTo>
                      <a:pt x="69" y="551"/>
                    </a:lnTo>
                    <a:lnTo>
                      <a:pt x="70" y="553"/>
                    </a:lnTo>
                    <a:lnTo>
                      <a:pt x="113" y="553"/>
                    </a:lnTo>
                    <a:lnTo>
                      <a:pt x="113" y="551"/>
                    </a:lnTo>
                    <a:lnTo>
                      <a:pt x="114" y="550"/>
                    </a:lnTo>
                    <a:lnTo>
                      <a:pt x="115" y="550"/>
                    </a:lnTo>
                    <a:lnTo>
                      <a:pt x="117" y="549"/>
                    </a:lnTo>
                    <a:lnTo>
                      <a:pt x="119" y="550"/>
                    </a:lnTo>
                    <a:lnTo>
                      <a:pt x="120" y="550"/>
                    </a:lnTo>
                    <a:lnTo>
                      <a:pt x="121" y="551"/>
                    </a:lnTo>
                    <a:lnTo>
                      <a:pt x="122" y="553"/>
                    </a:lnTo>
                    <a:lnTo>
                      <a:pt x="152" y="553"/>
                    </a:lnTo>
                    <a:lnTo>
                      <a:pt x="152" y="551"/>
                    </a:lnTo>
                    <a:lnTo>
                      <a:pt x="153" y="550"/>
                    </a:lnTo>
                    <a:lnTo>
                      <a:pt x="155" y="550"/>
                    </a:lnTo>
                    <a:lnTo>
                      <a:pt x="156" y="549"/>
                    </a:lnTo>
                    <a:lnTo>
                      <a:pt x="158" y="550"/>
                    </a:lnTo>
                    <a:lnTo>
                      <a:pt x="160" y="550"/>
                    </a:lnTo>
                    <a:lnTo>
                      <a:pt x="161" y="551"/>
                    </a:lnTo>
                    <a:lnTo>
                      <a:pt x="161" y="553"/>
                    </a:lnTo>
                    <a:lnTo>
                      <a:pt x="170" y="553"/>
                    </a:lnTo>
                    <a:lnTo>
                      <a:pt x="170" y="551"/>
                    </a:lnTo>
                    <a:lnTo>
                      <a:pt x="171" y="550"/>
                    </a:lnTo>
                    <a:lnTo>
                      <a:pt x="172" y="549"/>
                    </a:lnTo>
                    <a:lnTo>
                      <a:pt x="174" y="548"/>
                    </a:lnTo>
                    <a:lnTo>
                      <a:pt x="176" y="548"/>
                    </a:lnTo>
                    <a:lnTo>
                      <a:pt x="178" y="548"/>
                    </a:lnTo>
                    <a:lnTo>
                      <a:pt x="180" y="549"/>
                    </a:lnTo>
                    <a:lnTo>
                      <a:pt x="182" y="550"/>
                    </a:lnTo>
                    <a:lnTo>
                      <a:pt x="182" y="551"/>
                    </a:lnTo>
                    <a:lnTo>
                      <a:pt x="183" y="553"/>
                    </a:lnTo>
                    <a:lnTo>
                      <a:pt x="206" y="553"/>
                    </a:lnTo>
                    <a:lnTo>
                      <a:pt x="207" y="551"/>
                    </a:lnTo>
                    <a:lnTo>
                      <a:pt x="208" y="550"/>
                    </a:lnTo>
                    <a:lnTo>
                      <a:pt x="209" y="550"/>
                    </a:lnTo>
                    <a:lnTo>
                      <a:pt x="211" y="549"/>
                    </a:lnTo>
                    <a:lnTo>
                      <a:pt x="213" y="550"/>
                    </a:lnTo>
                    <a:lnTo>
                      <a:pt x="214" y="550"/>
                    </a:lnTo>
                    <a:lnTo>
                      <a:pt x="215" y="551"/>
                    </a:lnTo>
                    <a:lnTo>
                      <a:pt x="215" y="553"/>
                    </a:lnTo>
                    <a:lnTo>
                      <a:pt x="231" y="553"/>
                    </a:lnTo>
                    <a:lnTo>
                      <a:pt x="231" y="551"/>
                    </a:lnTo>
                    <a:lnTo>
                      <a:pt x="232" y="550"/>
                    </a:lnTo>
                    <a:lnTo>
                      <a:pt x="233" y="550"/>
                    </a:lnTo>
                    <a:lnTo>
                      <a:pt x="235" y="549"/>
                    </a:lnTo>
                    <a:lnTo>
                      <a:pt x="237" y="550"/>
                    </a:lnTo>
                    <a:lnTo>
                      <a:pt x="238" y="550"/>
                    </a:lnTo>
                    <a:lnTo>
                      <a:pt x="239" y="551"/>
                    </a:lnTo>
                    <a:lnTo>
                      <a:pt x="240" y="553"/>
                    </a:lnTo>
                    <a:lnTo>
                      <a:pt x="264" y="553"/>
                    </a:lnTo>
                    <a:lnTo>
                      <a:pt x="265" y="551"/>
                    </a:lnTo>
                    <a:lnTo>
                      <a:pt x="266" y="550"/>
                    </a:lnTo>
                    <a:lnTo>
                      <a:pt x="267" y="550"/>
                    </a:lnTo>
                    <a:lnTo>
                      <a:pt x="269" y="549"/>
                    </a:lnTo>
                    <a:lnTo>
                      <a:pt x="271" y="550"/>
                    </a:lnTo>
                    <a:lnTo>
                      <a:pt x="272" y="550"/>
                    </a:lnTo>
                    <a:lnTo>
                      <a:pt x="273" y="551"/>
                    </a:lnTo>
                    <a:lnTo>
                      <a:pt x="273" y="553"/>
                    </a:lnTo>
                    <a:lnTo>
                      <a:pt x="278" y="553"/>
                    </a:lnTo>
                    <a:lnTo>
                      <a:pt x="278" y="551"/>
                    </a:lnTo>
                    <a:lnTo>
                      <a:pt x="279" y="550"/>
                    </a:lnTo>
                    <a:lnTo>
                      <a:pt x="281" y="550"/>
                    </a:lnTo>
                    <a:lnTo>
                      <a:pt x="282" y="549"/>
                    </a:lnTo>
                    <a:lnTo>
                      <a:pt x="284" y="550"/>
                    </a:lnTo>
                    <a:lnTo>
                      <a:pt x="286" y="550"/>
                    </a:lnTo>
                    <a:lnTo>
                      <a:pt x="287" y="551"/>
                    </a:lnTo>
                    <a:lnTo>
                      <a:pt x="287" y="553"/>
                    </a:lnTo>
                    <a:lnTo>
                      <a:pt x="292" y="553"/>
                    </a:lnTo>
                    <a:lnTo>
                      <a:pt x="292" y="551"/>
                    </a:lnTo>
                    <a:lnTo>
                      <a:pt x="293" y="550"/>
                    </a:lnTo>
                    <a:lnTo>
                      <a:pt x="295" y="550"/>
                    </a:lnTo>
                    <a:lnTo>
                      <a:pt x="296" y="549"/>
                    </a:lnTo>
                    <a:lnTo>
                      <a:pt x="298" y="550"/>
                    </a:lnTo>
                    <a:lnTo>
                      <a:pt x="299" y="550"/>
                    </a:lnTo>
                    <a:lnTo>
                      <a:pt x="300" y="551"/>
                    </a:lnTo>
                    <a:lnTo>
                      <a:pt x="301" y="553"/>
                    </a:lnTo>
                    <a:lnTo>
                      <a:pt x="324" y="553"/>
                    </a:lnTo>
                    <a:lnTo>
                      <a:pt x="324" y="551"/>
                    </a:lnTo>
                    <a:lnTo>
                      <a:pt x="325" y="550"/>
                    </a:lnTo>
                    <a:lnTo>
                      <a:pt x="327" y="550"/>
                    </a:lnTo>
                    <a:lnTo>
                      <a:pt x="329" y="549"/>
                    </a:lnTo>
                    <a:lnTo>
                      <a:pt x="330" y="550"/>
                    </a:lnTo>
                    <a:lnTo>
                      <a:pt x="332" y="550"/>
                    </a:lnTo>
                    <a:lnTo>
                      <a:pt x="333" y="551"/>
                    </a:lnTo>
                    <a:lnTo>
                      <a:pt x="333" y="553"/>
                    </a:lnTo>
                    <a:lnTo>
                      <a:pt x="352" y="553"/>
                    </a:lnTo>
                    <a:lnTo>
                      <a:pt x="352" y="34"/>
                    </a:lnTo>
                    <a:lnTo>
                      <a:pt x="354" y="34"/>
                    </a:lnTo>
                    <a:lnTo>
                      <a:pt x="355" y="32"/>
                    </a:lnTo>
                    <a:lnTo>
                      <a:pt x="356" y="31"/>
                    </a:lnTo>
                    <a:lnTo>
                      <a:pt x="357" y="31"/>
                    </a:lnTo>
                    <a:lnTo>
                      <a:pt x="359" y="30"/>
                    </a:lnTo>
                    <a:lnTo>
                      <a:pt x="361" y="31"/>
                    </a:lnTo>
                    <a:lnTo>
                      <a:pt x="362" y="31"/>
                    </a:lnTo>
                    <a:lnTo>
                      <a:pt x="363" y="32"/>
                    </a:lnTo>
                    <a:lnTo>
                      <a:pt x="363" y="34"/>
                    </a:lnTo>
                    <a:lnTo>
                      <a:pt x="375" y="34"/>
                    </a:lnTo>
                    <a:lnTo>
                      <a:pt x="375" y="32"/>
                    </a:lnTo>
                    <a:lnTo>
                      <a:pt x="376" y="31"/>
                    </a:lnTo>
                    <a:lnTo>
                      <a:pt x="377" y="31"/>
                    </a:lnTo>
                    <a:lnTo>
                      <a:pt x="379" y="30"/>
                    </a:lnTo>
                    <a:lnTo>
                      <a:pt x="381" y="31"/>
                    </a:lnTo>
                    <a:lnTo>
                      <a:pt x="382" y="31"/>
                    </a:lnTo>
                    <a:lnTo>
                      <a:pt x="383" y="32"/>
                    </a:lnTo>
                    <a:lnTo>
                      <a:pt x="384" y="34"/>
                    </a:lnTo>
                    <a:lnTo>
                      <a:pt x="391" y="34"/>
                    </a:lnTo>
                    <a:lnTo>
                      <a:pt x="392" y="32"/>
                    </a:lnTo>
                    <a:lnTo>
                      <a:pt x="393" y="31"/>
                    </a:lnTo>
                    <a:lnTo>
                      <a:pt x="394" y="31"/>
                    </a:lnTo>
                    <a:lnTo>
                      <a:pt x="396" y="30"/>
                    </a:lnTo>
                    <a:lnTo>
                      <a:pt x="398" y="31"/>
                    </a:lnTo>
                    <a:lnTo>
                      <a:pt x="399" y="31"/>
                    </a:lnTo>
                    <a:lnTo>
                      <a:pt x="400" y="32"/>
                    </a:lnTo>
                    <a:lnTo>
                      <a:pt x="400" y="34"/>
                    </a:lnTo>
                    <a:lnTo>
                      <a:pt x="425" y="34"/>
                    </a:lnTo>
                    <a:lnTo>
                      <a:pt x="425" y="32"/>
                    </a:lnTo>
                    <a:lnTo>
                      <a:pt x="426" y="31"/>
                    </a:lnTo>
                    <a:lnTo>
                      <a:pt x="428" y="31"/>
                    </a:lnTo>
                    <a:lnTo>
                      <a:pt x="429" y="30"/>
                    </a:lnTo>
                    <a:lnTo>
                      <a:pt x="431" y="31"/>
                    </a:lnTo>
                    <a:lnTo>
                      <a:pt x="433" y="31"/>
                    </a:lnTo>
                    <a:lnTo>
                      <a:pt x="434" y="32"/>
                    </a:lnTo>
                    <a:lnTo>
                      <a:pt x="434" y="34"/>
                    </a:lnTo>
                    <a:lnTo>
                      <a:pt x="462" y="34"/>
                    </a:lnTo>
                    <a:lnTo>
                      <a:pt x="463" y="32"/>
                    </a:lnTo>
                    <a:lnTo>
                      <a:pt x="464" y="31"/>
                    </a:lnTo>
                    <a:lnTo>
                      <a:pt x="465" y="31"/>
                    </a:lnTo>
                    <a:lnTo>
                      <a:pt x="467" y="30"/>
                    </a:lnTo>
                    <a:lnTo>
                      <a:pt x="469" y="31"/>
                    </a:lnTo>
                    <a:lnTo>
                      <a:pt x="470" y="31"/>
                    </a:lnTo>
                    <a:lnTo>
                      <a:pt x="471" y="32"/>
                    </a:lnTo>
                    <a:lnTo>
                      <a:pt x="471" y="34"/>
                    </a:lnTo>
                    <a:lnTo>
                      <a:pt x="505" y="34"/>
                    </a:lnTo>
                    <a:lnTo>
                      <a:pt x="505" y="32"/>
                    </a:lnTo>
                    <a:lnTo>
                      <a:pt x="506" y="31"/>
                    </a:lnTo>
                    <a:lnTo>
                      <a:pt x="507" y="31"/>
                    </a:lnTo>
                    <a:lnTo>
                      <a:pt x="509" y="30"/>
                    </a:lnTo>
                    <a:lnTo>
                      <a:pt x="511" y="31"/>
                    </a:lnTo>
                    <a:lnTo>
                      <a:pt x="512" y="31"/>
                    </a:lnTo>
                    <a:lnTo>
                      <a:pt x="513" y="32"/>
                    </a:lnTo>
                    <a:lnTo>
                      <a:pt x="514" y="34"/>
                    </a:lnTo>
                    <a:lnTo>
                      <a:pt x="603" y="34"/>
                    </a:lnTo>
                    <a:lnTo>
                      <a:pt x="603" y="32"/>
                    </a:lnTo>
                    <a:lnTo>
                      <a:pt x="604" y="31"/>
                    </a:lnTo>
                    <a:lnTo>
                      <a:pt x="605" y="31"/>
                    </a:lnTo>
                    <a:lnTo>
                      <a:pt x="607" y="30"/>
                    </a:lnTo>
                    <a:lnTo>
                      <a:pt x="609" y="31"/>
                    </a:lnTo>
                    <a:lnTo>
                      <a:pt x="610" y="31"/>
                    </a:lnTo>
                    <a:lnTo>
                      <a:pt x="611" y="32"/>
                    </a:lnTo>
                    <a:lnTo>
                      <a:pt x="612" y="34"/>
                    </a:lnTo>
                    <a:lnTo>
                      <a:pt x="647" y="34"/>
                    </a:lnTo>
                    <a:lnTo>
                      <a:pt x="648" y="32"/>
                    </a:lnTo>
                    <a:lnTo>
                      <a:pt x="649" y="31"/>
                    </a:lnTo>
                    <a:lnTo>
                      <a:pt x="650" y="31"/>
                    </a:lnTo>
                    <a:lnTo>
                      <a:pt x="652" y="30"/>
                    </a:lnTo>
                    <a:lnTo>
                      <a:pt x="654" y="31"/>
                    </a:lnTo>
                    <a:lnTo>
                      <a:pt x="655" y="31"/>
                    </a:lnTo>
                    <a:lnTo>
                      <a:pt x="656" y="32"/>
                    </a:lnTo>
                    <a:lnTo>
                      <a:pt x="656" y="34"/>
                    </a:lnTo>
                    <a:lnTo>
                      <a:pt x="747" y="34"/>
                    </a:lnTo>
                    <a:lnTo>
                      <a:pt x="748" y="32"/>
                    </a:lnTo>
                    <a:lnTo>
                      <a:pt x="748" y="31"/>
                    </a:lnTo>
                    <a:lnTo>
                      <a:pt x="750" y="31"/>
                    </a:lnTo>
                    <a:lnTo>
                      <a:pt x="752" y="30"/>
                    </a:lnTo>
                    <a:lnTo>
                      <a:pt x="753" y="31"/>
                    </a:lnTo>
                    <a:lnTo>
                      <a:pt x="755" y="31"/>
                    </a:lnTo>
                    <a:lnTo>
                      <a:pt x="756" y="32"/>
                    </a:lnTo>
                    <a:lnTo>
                      <a:pt x="756" y="34"/>
                    </a:lnTo>
                    <a:lnTo>
                      <a:pt x="771" y="34"/>
                    </a:lnTo>
                    <a:lnTo>
                      <a:pt x="772" y="32"/>
                    </a:lnTo>
                    <a:lnTo>
                      <a:pt x="773" y="31"/>
                    </a:lnTo>
                    <a:lnTo>
                      <a:pt x="774" y="31"/>
                    </a:lnTo>
                    <a:lnTo>
                      <a:pt x="776" y="30"/>
                    </a:lnTo>
                    <a:lnTo>
                      <a:pt x="778" y="31"/>
                    </a:lnTo>
                    <a:lnTo>
                      <a:pt x="779" y="31"/>
                    </a:lnTo>
                    <a:lnTo>
                      <a:pt x="780" y="32"/>
                    </a:lnTo>
                    <a:lnTo>
                      <a:pt x="780" y="34"/>
                    </a:lnTo>
                    <a:lnTo>
                      <a:pt x="792" y="34"/>
                    </a:lnTo>
                    <a:lnTo>
                      <a:pt x="792" y="32"/>
                    </a:lnTo>
                    <a:lnTo>
                      <a:pt x="793" y="31"/>
                    </a:lnTo>
                    <a:lnTo>
                      <a:pt x="795" y="31"/>
                    </a:lnTo>
                    <a:lnTo>
                      <a:pt x="796" y="30"/>
                    </a:lnTo>
                    <a:lnTo>
                      <a:pt x="798" y="31"/>
                    </a:lnTo>
                    <a:lnTo>
                      <a:pt x="799" y="31"/>
                    </a:lnTo>
                    <a:lnTo>
                      <a:pt x="800" y="32"/>
                    </a:lnTo>
                    <a:lnTo>
                      <a:pt x="801" y="34"/>
                    </a:lnTo>
                    <a:lnTo>
                      <a:pt x="813" y="34"/>
                    </a:lnTo>
                    <a:lnTo>
                      <a:pt x="814" y="32"/>
                    </a:lnTo>
                    <a:lnTo>
                      <a:pt x="815" y="31"/>
                    </a:lnTo>
                    <a:lnTo>
                      <a:pt x="816" y="31"/>
                    </a:lnTo>
                    <a:lnTo>
                      <a:pt x="818" y="30"/>
                    </a:lnTo>
                    <a:lnTo>
                      <a:pt x="820" y="31"/>
                    </a:lnTo>
                    <a:lnTo>
                      <a:pt x="821" y="31"/>
                    </a:lnTo>
                    <a:lnTo>
                      <a:pt x="822" y="32"/>
                    </a:lnTo>
                    <a:lnTo>
                      <a:pt x="822" y="34"/>
                    </a:lnTo>
                    <a:lnTo>
                      <a:pt x="878" y="34"/>
                    </a:lnTo>
                    <a:lnTo>
                      <a:pt x="878" y="32"/>
                    </a:lnTo>
                    <a:lnTo>
                      <a:pt x="879" y="31"/>
                    </a:lnTo>
                    <a:lnTo>
                      <a:pt x="881" y="31"/>
                    </a:lnTo>
                    <a:lnTo>
                      <a:pt x="882" y="30"/>
                    </a:lnTo>
                    <a:lnTo>
                      <a:pt x="884" y="31"/>
                    </a:lnTo>
                    <a:lnTo>
                      <a:pt x="885" y="31"/>
                    </a:lnTo>
                    <a:lnTo>
                      <a:pt x="887" y="32"/>
                    </a:lnTo>
                    <a:lnTo>
                      <a:pt x="887" y="34"/>
                    </a:lnTo>
                    <a:lnTo>
                      <a:pt x="908" y="34"/>
                    </a:lnTo>
                    <a:lnTo>
                      <a:pt x="909" y="32"/>
                    </a:lnTo>
                    <a:lnTo>
                      <a:pt x="910" y="31"/>
                    </a:lnTo>
                    <a:lnTo>
                      <a:pt x="911" y="31"/>
                    </a:lnTo>
                    <a:lnTo>
                      <a:pt x="913" y="30"/>
                    </a:lnTo>
                    <a:lnTo>
                      <a:pt x="914" y="31"/>
                    </a:lnTo>
                    <a:lnTo>
                      <a:pt x="916" y="31"/>
                    </a:lnTo>
                    <a:lnTo>
                      <a:pt x="917" y="32"/>
                    </a:lnTo>
                    <a:lnTo>
                      <a:pt x="917" y="34"/>
                    </a:lnTo>
                    <a:lnTo>
                      <a:pt x="931" y="34"/>
                    </a:lnTo>
                    <a:lnTo>
                      <a:pt x="931" y="32"/>
                    </a:lnTo>
                    <a:lnTo>
                      <a:pt x="932" y="31"/>
                    </a:lnTo>
                    <a:lnTo>
                      <a:pt x="934" y="31"/>
                    </a:lnTo>
                    <a:lnTo>
                      <a:pt x="935" y="30"/>
                    </a:lnTo>
                    <a:lnTo>
                      <a:pt x="937" y="31"/>
                    </a:lnTo>
                    <a:lnTo>
                      <a:pt x="938" y="31"/>
                    </a:lnTo>
                    <a:lnTo>
                      <a:pt x="939" y="32"/>
                    </a:lnTo>
                    <a:lnTo>
                      <a:pt x="940" y="34"/>
                    </a:lnTo>
                    <a:lnTo>
                      <a:pt x="1220" y="34"/>
                    </a:lnTo>
                    <a:lnTo>
                      <a:pt x="1221" y="32"/>
                    </a:lnTo>
                    <a:lnTo>
                      <a:pt x="1221" y="31"/>
                    </a:lnTo>
                    <a:lnTo>
                      <a:pt x="1223" y="31"/>
                    </a:lnTo>
                    <a:lnTo>
                      <a:pt x="1225" y="30"/>
                    </a:lnTo>
                    <a:lnTo>
                      <a:pt x="1226" y="31"/>
                    </a:lnTo>
                    <a:lnTo>
                      <a:pt x="1228" y="31"/>
                    </a:lnTo>
                    <a:lnTo>
                      <a:pt x="1229" y="32"/>
                    </a:lnTo>
                    <a:lnTo>
                      <a:pt x="1229" y="34"/>
                    </a:lnTo>
                    <a:lnTo>
                      <a:pt x="1244" y="34"/>
                    </a:lnTo>
                    <a:lnTo>
                      <a:pt x="1245" y="32"/>
                    </a:lnTo>
                    <a:lnTo>
                      <a:pt x="1246" y="31"/>
                    </a:lnTo>
                    <a:lnTo>
                      <a:pt x="1247" y="31"/>
                    </a:lnTo>
                    <a:lnTo>
                      <a:pt x="1249" y="30"/>
                    </a:lnTo>
                    <a:lnTo>
                      <a:pt x="1251" y="31"/>
                    </a:lnTo>
                    <a:lnTo>
                      <a:pt x="1252" y="31"/>
                    </a:lnTo>
                    <a:lnTo>
                      <a:pt x="1253" y="32"/>
                    </a:lnTo>
                    <a:lnTo>
                      <a:pt x="1253" y="34"/>
                    </a:lnTo>
                    <a:lnTo>
                      <a:pt x="1272" y="34"/>
                    </a:lnTo>
                    <a:lnTo>
                      <a:pt x="1272" y="32"/>
                    </a:lnTo>
                    <a:lnTo>
                      <a:pt x="1273" y="31"/>
                    </a:lnTo>
                    <a:lnTo>
                      <a:pt x="1275" y="31"/>
                    </a:lnTo>
                    <a:lnTo>
                      <a:pt x="1277" y="30"/>
                    </a:lnTo>
                    <a:lnTo>
                      <a:pt x="1278" y="31"/>
                    </a:lnTo>
                    <a:lnTo>
                      <a:pt x="1280" y="31"/>
                    </a:lnTo>
                    <a:lnTo>
                      <a:pt x="1281" y="32"/>
                    </a:lnTo>
                    <a:lnTo>
                      <a:pt x="1281" y="34"/>
                    </a:lnTo>
                    <a:lnTo>
                      <a:pt x="1298" y="34"/>
                    </a:lnTo>
                    <a:lnTo>
                      <a:pt x="1298" y="32"/>
                    </a:lnTo>
                    <a:lnTo>
                      <a:pt x="1299" y="31"/>
                    </a:lnTo>
                    <a:lnTo>
                      <a:pt x="1301" y="31"/>
                    </a:lnTo>
                    <a:lnTo>
                      <a:pt x="1302" y="30"/>
                    </a:lnTo>
                    <a:lnTo>
                      <a:pt x="1304" y="31"/>
                    </a:lnTo>
                    <a:lnTo>
                      <a:pt x="1306" y="31"/>
                    </a:lnTo>
                    <a:lnTo>
                      <a:pt x="1306" y="32"/>
                    </a:lnTo>
                    <a:lnTo>
                      <a:pt x="1307" y="34"/>
                    </a:lnTo>
                    <a:lnTo>
                      <a:pt x="1320" y="34"/>
                    </a:lnTo>
                    <a:lnTo>
                      <a:pt x="1320" y="32"/>
                    </a:lnTo>
                    <a:lnTo>
                      <a:pt x="1321" y="31"/>
                    </a:lnTo>
                    <a:lnTo>
                      <a:pt x="1323" y="31"/>
                    </a:lnTo>
                    <a:lnTo>
                      <a:pt x="1324" y="30"/>
                    </a:lnTo>
                    <a:lnTo>
                      <a:pt x="1326" y="31"/>
                    </a:lnTo>
                    <a:lnTo>
                      <a:pt x="1328" y="31"/>
                    </a:lnTo>
                    <a:lnTo>
                      <a:pt x="1328" y="32"/>
                    </a:lnTo>
                    <a:lnTo>
                      <a:pt x="1329" y="34"/>
                    </a:lnTo>
                    <a:lnTo>
                      <a:pt x="1340" y="34"/>
                    </a:lnTo>
                    <a:lnTo>
                      <a:pt x="1341" y="32"/>
                    </a:lnTo>
                    <a:lnTo>
                      <a:pt x="1342" y="31"/>
                    </a:lnTo>
                    <a:lnTo>
                      <a:pt x="1343" y="31"/>
                    </a:lnTo>
                    <a:lnTo>
                      <a:pt x="1345" y="30"/>
                    </a:lnTo>
                    <a:lnTo>
                      <a:pt x="1347" y="31"/>
                    </a:lnTo>
                    <a:lnTo>
                      <a:pt x="1348" y="31"/>
                    </a:lnTo>
                    <a:lnTo>
                      <a:pt x="1349" y="32"/>
                    </a:lnTo>
                    <a:lnTo>
                      <a:pt x="1349" y="34"/>
                    </a:lnTo>
                    <a:lnTo>
                      <a:pt x="1367" y="34"/>
                    </a:lnTo>
                    <a:lnTo>
                      <a:pt x="1368" y="32"/>
                    </a:lnTo>
                    <a:lnTo>
                      <a:pt x="1369" y="31"/>
                    </a:lnTo>
                    <a:lnTo>
                      <a:pt x="1370" y="31"/>
                    </a:lnTo>
                    <a:lnTo>
                      <a:pt x="1372" y="30"/>
                    </a:lnTo>
                    <a:lnTo>
                      <a:pt x="1374" y="31"/>
                    </a:lnTo>
                    <a:lnTo>
                      <a:pt x="1375" y="31"/>
                    </a:lnTo>
                    <a:lnTo>
                      <a:pt x="1376" y="32"/>
                    </a:lnTo>
                    <a:lnTo>
                      <a:pt x="1377" y="34"/>
                    </a:lnTo>
                    <a:lnTo>
                      <a:pt x="1442" y="34"/>
                    </a:lnTo>
                    <a:lnTo>
                      <a:pt x="1442" y="32"/>
                    </a:lnTo>
                    <a:lnTo>
                      <a:pt x="1443" y="31"/>
                    </a:lnTo>
                    <a:lnTo>
                      <a:pt x="1445" y="31"/>
                    </a:lnTo>
                    <a:lnTo>
                      <a:pt x="1446" y="30"/>
                    </a:lnTo>
                    <a:lnTo>
                      <a:pt x="1448" y="31"/>
                    </a:lnTo>
                    <a:lnTo>
                      <a:pt x="1449" y="31"/>
                    </a:lnTo>
                    <a:lnTo>
                      <a:pt x="1451" y="32"/>
                    </a:lnTo>
                    <a:lnTo>
                      <a:pt x="1451" y="34"/>
                    </a:lnTo>
                    <a:lnTo>
                      <a:pt x="1503" y="34"/>
                    </a:lnTo>
                    <a:lnTo>
                      <a:pt x="1503" y="32"/>
                    </a:lnTo>
                    <a:lnTo>
                      <a:pt x="1504" y="31"/>
                    </a:lnTo>
                    <a:lnTo>
                      <a:pt x="1505" y="31"/>
                    </a:lnTo>
                    <a:lnTo>
                      <a:pt x="1507" y="30"/>
                    </a:lnTo>
                    <a:lnTo>
                      <a:pt x="1509" y="31"/>
                    </a:lnTo>
                    <a:lnTo>
                      <a:pt x="1510" y="31"/>
                    </a:lnTo>
                    <a:lnTo>
                      <a:pt x="1511" y="32"/>
                    </a:lnTo>
                    <a:lnTo>
                      <a:pt x="1512" y="34"/>
                    </a:lnTo>
                    <a:lnTo>
                      <a:pt x="1626" y="34"/>
                    </a:lnTo>
                    <a:lnTo>
                      <a:pt x="1626" y="32"/>
                    </a:lnTo>
                    <a:lnTo>
                      <a:pt x="1627" y="31"/>
                    </a:lnTo>
                    <a:lnTo>
                      <a:pt x="1629" y="31"/>
                    </a:lnTo>
                    <a:lnTo>
                      <a:pt x="1630" y="30"/>
                    </a:lnTo>
                    <a:lnTo>
                      <a:pt x="1632" y="31"/>
                    </a:lnTo>
                    <a:lnTo>
                      <a:pt x="1634" y="31"/>
                    </a:lnTo>
                    <a:lnTo>
                      <a:pt x="1635" y="32"/>
                    </a:lnTo>
                    <a:lnTo>
                      <a:pt x="1635" y="34"/>
                    </a:lnTo>
                    <a:lnTo>
                      <a:pt x="1746" y="34"/>
                    </a:lnTo>
                    <a:lnTo>
                      <a:pt x="1746" y="32"/>
                    </a:lnTo>
                    <a:lnTo>
                      <a:pt x="1747" y="31"/>
                    </a:lnTo>
                    <a:lnTo>
                      <a:pt x="1749" y="31"/>
                    </a:lnTo>
                    <a:lnTo>
                      <a:pt x="1750" y="30"/>
                    </a:lnTo>
                    <a:lnTo>
                      <a:pt x="1752" y="31"/>
                    </a:lnTo>
                    <a:lnTo>
                      <a:pt x="1753" y="31"/>
                    </a:lnTo>
                    <a:lnTo>
                      <a:pt x="1754" y="32"/>
                    </a:lnTo>
                    <a:lnTo>
                      <a:pt x="1755" y="34"/>
                    </a:lnTo>
                    <a:lnTo>
                      <a:pt x="1788" y="34"/>
                    </a:lnTo>
                    <a:lnTo>
                      <a:pt x="1788" y="4"/>
                    </a:lnTo>
                    <a:lnTo>
                      <a:pt x="1860" y="4"/>
                    </a:lnTo>
                    <a:lnTo>
                      <a:pt x="1860" y="3"/>
                    </a:lnTo>
                    <a:lnTo>
                      <a:pt x="1861" y="1"/>
                    </a:lnTo>
                    <a:lnTo>
                      <a:pt x="1862" y="1"/>
                    </a:lnTo>
                    <a:lnTo>
                      <a:pt x="1864" y="0"/>
                    </a:lnTo>
                    <a:lnTo>
                      <a:pt x="1866" y="1"/>
                    </a:lnTo>
                    <a:lnTo>
                      <a:pt x="1867" y="1"/>
                    </a:lnTo>
                    <a:lnTo>
                      <a:pt x="1868" y="3"/>
                    </a:lnTo>
                    <a:lnTo>
                      <a:pt x="1869" y="4"/>
                    </a:lnTo>
                    <a:lnTo>
                      <a:pt x="2002" y="4"/>
                    </a:lnTo>
                    <a:lnTo>
                      <a:pt x="2003" y="3"/>
                    </a:lnTo>
                    <a:lnTo>
                      <a:pt x="2004" y="1"/>
                    </a:lnTo>
                    <a:lnTo>
                      <a:pt x="2005" y="1"/>
                    </a:lnTo>
                    <a:lnTo>
                      <a:pt x="2007" y="0"/>
                    </a:lnTo>
                    <a:lnTo>
                      <a:pt x="2009" y="1"/>
                    </a:lnTo>
                    <a:lnTo>
                      <a:pt x="2010" y="1"/>
                    </a:lnTo>
                    <a:lnTo>
                      <a:pt x="2011" y="3"/>
                    </a:lnTo>
                    <a:lnTo>
                      <a:pt x="2011" y="4"/>
                    </a:lnTo>
                    <a:lnTo>
                      <a:pt x="2131" y="4"/>
                    </a:lnTo>
                    <a:lnTo>
                      <a:pt x="2131" y="3"/>
                    </a:lnTo>
                    <a:lnTo>
                      <a:pt x="2132" y="1"/>
                    </a:lnTo>
                    <a:lnTo>
                      <a:pt x="2134" y="1"/>
                    </a:lnTo>
                    <a:lnTo>
                      <a:pt x="2135" y="0"/>
                    </a:lnTo>
                    <a:lnTo>
                      <a:pt x="2137" y="1"/>
                    </a:lnTo>
                    <a:lnTo>
                      <a:pt x="2138" y="1"/>
                    </a:lnTo>
                    <a:lnTo>
                      <a:pt x="2139" y="3"/>
                    </a:lnTo>
                    <a:lnTo>
                      <a:pt x="2140" y="4"/>
                    </a:lnTo>
                    <a:lnTo>
                      <a:pt x="2186" y="4"/>
                    </a:lnTo>
                    <a:lnTo>
                      <a:pt x="2187" y="3"/>
                    </a:lnTo>
                    <a:lnTo>
                      <a:pt x="2188" y="1"/>
                    </a:lnTo>
                    <a:lnTo>
                      <a:pt x="2189" y="1"/>
                    </a:lnTo>
                    <a:lnTo>
                      <a:pt x="2191" y="0"/>
                    </a:lnTo>
                    <a:lnTo>
                      <a:pt x="2193" y="1"/>
                    </a:lnTo>
                    <a:lnTo>
                      <a:pt x="2194" y="1"/>
                    </a:lnTo>
                    <a:lnTo>
                      <a:pt x="2195" y="3"/>
                    </a:lnTo>
                    <a:lnTo>
                      <a:pt x="2195" y="4"/>
                    </a:lnTo>
                    <a:lnTo>
                      <a:pt x="2238" y="4"/>
                    </a:lnTo>
                    <a:lnTo>
                      <a:pt x="2239" y="3"/>
                    </a:lnTo>
                    <a:lnTo>
                      <a:pt x="2239" y="1"/>
                    </a:lnTo>
                    <a:lnTo>
                      <a:pt x="2241" y="0"/>
                    </a:lnTo>
                    <a:lnTo>
                      <a:pt x="2243" y="0"/>
                    </a:lnTo>
                    <a:lnTo>
                      <a:pt x="2244" y="0"/>
                    </a:lnTo>
                    <a:lnTo>
                      <a:pt x="2246" y="0"/>
                    </a:lnTo>
                    <a:lnTo>
                      <a:pt x="2247" y="1"/>
                    </a:lnTo>
                    <a:lnTo>
                      <a:pt x="2248" y="3"/>
                    </a:lnTo>
                    <a:lnTo>
                      <a:pt x="2248" y="4"/>
                    </a:lnTo>
                    <a:lnTo>
                      <a:pt x="2266" y="4"/>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5804280" y="375768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571" name=""/>
              <p:cNvSpPr/>
              <p:nvPr/>
            </p:nvSpPr>
            <p:spPr>
              <a:xfrm>
                <a:off x="6302880" y="3015360"/>
                <a:ext cx="1527480" cy="297720"/>
              </a:xfrm>
              <a:custGeom>
                <a:avLst/>
                <a:gdLst/>
                <a:ahLst/>
                <a:rect l="l" t="t" r="r" b="b"/>
                <a:pathLst>
                  <a:path w="1443" h="223">
                    <a:moveTo>
                      <a:pt x="0" y="132"/>
                    </a:moveTo>
                    <a:lnTo>
                      <a:pt x="0" y="6"/>
                    </a:lnTo>
                    <a:lnTo>
                      <a:pt x="45" y="6"/>
                    </a:lnTo>
                    <a:lnTo>
                      <a:pt x="45" y="5"/>
                    </a:lnTo>
                    <a:lnTo>
                      <a:pt x="46" y="4"/>
                    </a:lnTo>
                    <a:lnTo>
                      <a:pt x="47" y="3"/>
                    </a:lnTo>
                    <a:lnTo>
                      <a:pt x="49" y="3"/>
                    </a:lnTo>
                    <a:lnTo>
                      <a:pt x="51" y="3"/>
                    </a:lnTo>
                    <a:lnTo>
                      <a:pt x="52" y="4"/>
                    </a:lnTo>
                    <a:lnTo>
                      <a:pt x="53" y="5"/>
                    </a:lnTo>
                    <a:lnTo>
                      <a:pt x="54" y="6"/>
                    </a:lnTo>
                    <a:lnTo>
                      <a:pt x="62" y="6"/>
                    </a:lnTo>
                    <a:lnTo>
                      <a:pt x="62" y="5"/>
                    </a:lnTo>
                    <a:lnTo>
                      <a:pt x="63" y="3"/>
                    </a:lnTo>
                    <a:lnTo>
                      <a:pt x="64" y="2"/>
                    </a:lnTo>
                    <a:lnTo>
                      <a:pt x="66" y="1"/>
                    </a:lnTo>
                    <a:lnTo>
                      <a:pt x="68" y="1"/>
                    </a:lnTo>
                    <a:lnTo>
                      <a:pt x="70" y="1"/>
                    </a:lnTo>
                    <a:lnTo>
                      <a:pt x="72" y="2"/>
                    </a:lnTo>
                    <a:lnTo>
                      <a:pt x="74" y="3"/>
                    </a:lnTo>
                    <a:lnTo>
                      <a:pt x="75" y="5"/>
                    </a:lnTo>
                    <a:lnTo>
                      <a:pt x="75" y="6"/>
                    </a:lnTo>
                    <a:lnTo>
                      <a:pt x="82" y="6"/>
                    </a:lnTo>
                    <a:lnTo>
                      <a:pt x="82" y="5"/>
                    </a:lnTo>
                    <a:lnTo>
                      <a:pt x="83" y="4"/>
                    </a:lnTo>
                    <a:lnTo>
                      <a:pt x="85" y="3"/>
                    </a:lnTo>
                    <a:lnTo>
                      <a:pt x="86" y="3"/>
                    </a:lnTo>
                    <a:lnTo>
                      <a:pt x="88" y="3"/>
                    </a:lnTo>
                    <a:lnTo>
                      <a:pt x="90" y="4"/>
                    </a:lnTo>
                    <a:lnTo>
                      <a:pt x="91" y="5"/>
                    </a:lnTo>
                    <a:lnTo>
                      <a:pt x="91" y="6"/>
                    </a:lnTo>
                    <a:lnTo>
                      <a:pt x="102" y="6"/>
                    </a:lnTo>
                    <a:lnTo>
                      <a:pt x="103" y="5"/>
                    </a:lnTo>
                    <a:lnTo>
                      <a:pt x="103" y="4"/>
                    </a:lnTo>
                    <a:lnTo>
                      <a:pt x="105" y="3"/>
                    </a:lnTo>
                    <a:lnTo>
                      <a:pt x="107" y="3"/>
                    </a:lnTo>
                    <a:lnTo>
                      <a:pt x="108" y="3"/>
                    </a:lnTo>
                    <a:lnTo>
                      <a:pt x="110" y="4"/>
                    </a:lnTo>
                    <a:lnTo>
                      <a:pt x="111" y="5"/>
                    </a:lnTo>
                    <a:lnTo>
                      <a:pt x="111" y="6"/>
                    </a:lnTo>
                    <a:lnTo>
                      <a:pt x="126" y="6"/>
                    </a:lnTo>
                    <a:lnTo>
                      <a:pt x="126" y="5"/>
                    </a:lnTo>
                    <a:lnTo>
                      <a:pt x="127" y="4"/>
                    </a:lnTo>
                    <a:lnTo>
                      <a:pt x="129" y="3"/>
                    </a:lnTo>
                    <a:lnTo>
                      <a:pt x="130" y="3"/>
                    </a:lnTo>
                    <a:lnTo>
                      <a:pt x="132" y="3"/>
                    </a:lnTo>
                    <a:lnTo>
                      <a:pt x="133" y="4"/>
                    </a:lnTo>
                    <a:lnTo>
                      <a:pt x="134" y="5"/>
                    </a:lnTo>
                    <a:lnTo>
                      <a:pt x="135" y="6"/>
                    </a:lnTo>
                    <a:lnTo>
                      <a:pt x="147" y="6"/>
                    </a:lnTo>
                    <a:lnTo>
                      <a:pt x="148" y="5"/>
                    </a:lnTo>
                    <a:lnTo>
                      <a:pt x="149" y="4"/>
                    </a:lnTo>
                    <a:lnTo>
                      <a:pt x="150" y="3"/>
                    </a:lnTo>
                    <a:lnTo>
                      <a:pt x="152" y="3"/>
                    </a:lnTo>
                    <a:lnTo>
                      <a:pt x="154" y="3"/>
                    </a:lnTo>
                    <a:lnTo>
                      <a:pt x="155" y="4"/>
                    </a:lnTo>
                    <a:lnTo>
                      <a:pt x="156" y="5"/>
                    </a:lnTo>
                    <a:lnTo>
                      <a:pt x="156" y="6"/>
                    </a:lnTo>
                    <a:lnTo>
                      <a:pt x="167" y="6"/>
                    </a:lnTo>
                    <a:lnTo>
                      <a:pt x="167" y="5"/>
                    </a:lnTo>
                    <a:lnTo>
                      <a:pt x="169" y="4"/>
                    </a:lnTo>
                    <a:lnTo>
                      <a:pt x="170" y="3"/>
                    </a:lnTo>
                    <a:lnTo>
                      <a:pt x="172" y="3"/>
                    </a:lnTo>
                    <a:lnTo>
                      <a:pt x="173" y="3"/>
                    </a:lnTo>
                    <a:lnTo>
                      <a:pt x="175" y="4"/>
                    </a:lnTo>
                    <a:lnTo>
                      <a:pt x="176" y="5"/>
                    </a:lnTo>
                    <a:lnTo>
                      <a:pt x="176" y="6"/>
                    </a:lnTo>
                    <a:lnTo>
                      <a:pt x="187" y="6"/>
                    </a:lnTo>
                    <a:lnTo>
                      <a:pt x="187" y="5"/>
                    </a:lnTo>
                    <a:lnTo>
                      <a:pt x="188" y="4"/>
                    </a:lnTo>
                    <a:lnTo>
                      <a:pt x="189" y="3"/>
                    </a:lnTo>
                    <a:lnTo>
                      <a:pt x="191" y="3"/>
                    </a:lnTo>
                    <a:lnTo>
                      <a:pt x="193" y="3"/>
                    </a:lnTo>
                    <a:lnTo>
                      <a:pt x="194" y="4"/>
                    </a:lnTo>
                    <a:lnTo>
                      <a:pt x="195" y="5"/>
                    </a:lnTo>
                    <a:lnTo>
                      <a:pt x="196" y="6"/>
                    </a:lnTo>
                    <a:lnTo>
                      <a:pt x="220" y="6"/>
                    </a:lnTo>
                    <a:lnTo>
                      <a:pt x="221" y="5"/>
                    </a:lnTo>
                    <a:lnTo>
                      <a:pt x="222" y="4"/>
                    </a:lnTo>
                    <a:lnTo>
                      <a:pt x="223" y="3"/>
                    </a:lnTo>
                    <a:lnTo>
                      <a:pt x="225" y="3"/>
                    </a:lnTo>
                    <a:lnTo>
                      <a:pt x="227" y="3"/>
                    </a:lnTo>
                    <a:lnTo>
                      <a:pt x="228" y="4"/>
                    </a:lnTo>
                    <a:lnTo>
                      <a:pt x="229" y="5"/>
                    </a:lnTo>
                    <a:lnTo>
                      <a:pt x="229" y="6"/>
                    </a:lnTo>
                    <a:lnTo>
                      <a:pt x="281" y="6"/>
                    </a:lnTo>
                    <a:lnTo>
                      <a:pt x="281" y="5"/>
                    </a:lnTo>
                    <a:lnTo>
                      <a:pt x="282" y="4"/>
                    </a:lnTo>
                    <a:lnTo>
                      <a:pt x="284" y="3"/>
                    </a:lnTo>
                    <a:lnTo>
                      <a:pt x="285" y="3"/>
                    </a:lnTo>
                    <a:lnTo>
                      <a:pt x="287" y="3"/>
                    </a:lnTo>
                    <a:lnTo>
                      <a:pt x="288" y="4"/>
                    </a:lnTo>
                    <a:lnTo>
                      <a:pt x="290" y="5"/>
                    </a:lnTo>
                    <a:lnTo>
                      <a:pt x="290" y="6"/>
                    </a:lnTo>
                    <a:lnTo>
                      <a:pt x="324" y="6"/>
                    </a:lnTo>
                    <a:lnTo>
                      <a:pt x="324" y="5"/>
                    </a:lnTo>
                    <a:lnTo>
                      <a:pt x="326" y="4"/>
                    </a:lnTo>
                    <a:lnTo>
                      <a:pt x="327" y="3"/>
                    </a:lnTo>
                    <a:lnTo>
                      <a:pt x="329" y="3"/>
                    </a:lnTo>
                    <a:lnTo>
                      <a:pt x="330" y="3"/>
                    </a:lnTo>
                    <a:lnTo>
                      <a:pt x="332" y="4"/>
                    </a:lnTo>
                    <a:lnTo>
                      <a:pt x="333" y="5"/>
                    </a:lnTo>
                    <a:lnTo>
                      <a:pt x="333" y="6"/>
                    </a:lnTo>
                    <a:lnTo>
                      <a:pt x="349" y="6"/>
                    </a:lnTo>
                    <a:lnTo>
                      <a:pt x="349" y="5"/>
                    </a:lnTo>
                    <a:lnTo>
                      <a:pt x="350" y="4"/>
                    </a:lnTo>
                    <a:lnTo>
                      <a:pt x="352" y="3"/>
                    </a:lnTo>
                    <a:lnTo>
                      <a:pt x="353" y="3"/>
                    </a:lnTo>
                    <a:lnTo>
                      <a:pt x="355" y="3"/>
                    </a:lnTo>
                    <a:lnTo>
                      <a:pt x="356" y="4"/>
                    </a:lnTo>
                    <a:lnTo>
                      <a:pt x="357" y="5"/>
                    </a:lnTo>
                    <a:lnTo>
                      <a:pt x="358" y="6"/>
                    </a:lnTo>
                    <a:lnTo>
                      <a:pt x="416" y="6"/>
                    </a:lnTo>
                    <a:lnTo>
                      <a:pt x="417" y="5"/>
                    </a:lnTo>
                    <a:lnTo>
                      <a:pt x="418" y="4"/>
                    </a:lnTo>
                    <a:lnTo>
                      <a:pt x="419" y="3"/>
                    </a:lnTo>
                    <a:lnTo>
                      <a:pt x="421" y="3"/>
                    </a:lnTo>
                    <a:lnTo>
                      <a:pt x="422" y="3"/>
                    </a:lnTo>
                    <a:lnTo>
                      <a:pt x="424" y="4"/>
                    </a:lnTo>
                    <a:lnTo>
                      <a:pt x="425" y="5"/>
                    </a:lnTo>
                    <a:lnTo>
                      <a:pt x="425" y="6"/>
                    </a:lnTo>
                    <a:lnTo>
                      <a:pt x="434" y="6"/>
                    </a:lnTo>
                    <a:lnTo>
                      <a:pt x="435" y="5"/>
                    </a:lnTo>
                    <a:lnTo>
                      <a:pt x="436" y="4"/>
                    </a:lnTo>
                    <a:lnTo>
                      <a:pt x="437" y="3"/>
                    </a:lnTo>
                    <a:lnTo>
                      <a:pt x="439" y="3"/>
                    </a:lnTo>
                    <a:lnTo>
                      <a:pt x="441" y="3"/>
                    </a:lnTo>
                    <a:lnTo>
                      <a:pt x="442" y="4"/>
                    </a:lnTo>
                    <a:lnTo>
                      <a:pt x="443" y="5"/>
                    </a:lnTo>
                    <a:lnTo>
                      <a:pt x="443" y="6"/>
                    </a:lnTo>
                    <a:lnTo>
                      <a:pt x="466" y="6"/>
                    </a:lnTo>
                    <a:lnTo>
                      <a:pt x="466" y="5"/>
                    </a:lnTo>
                    <a:lnTo>
                      <a:pt x="467" y="4"/>
                    </a:lnTo>
                    <a:lnTo>
                      <a:pt x="469" y="3"/>
                    </a:lnTo>
                    <a:lnTo>
                      <a:pt x="470" y="3"/>
                    </a:lnTo>
                    <a:lnTo>
                      <a:pt x="472" y="3"/>
                    </a:lnTo>
                    <a:lnTo>
                      <a:pt x="473" y="4"/>
                    </a:lnTo>
                    <a:lnTo>
                      <a:pt x="474" y="5"/>
                    </a:lnTo>
                    <a:lnTo>
                      <a:pt x="475" y="6"/>
                    </a:lnTo>
                    <a:lnTo>
                      <a:pt x="493" y="6"/>
                    </a:lnTo>
                    <a:lnTo>
                      <a:pt x="493" y="5"/>
                    </a:lnTo>
                    <a:lnTo>
                      <a:pt x="494" y="4"/>
                    </a:lnTo>
                    <a:lnTo>
                      <a:pt x="495" y="3"/>
                    </a:lnTo>
                    <a:lnTo>
                      <a:pt x="497" y="3"/>
                    </a:lnTo>
                    <a:lnTo>
                      <a:pt x="499" y="3"/>
                    </a:lnTo>
                    <a:lnTo>
                      <a:pt x="500" y="4"/>
                    </a:lnTo>
                    <a:lnTo>
                      <a:pt x="501" y="5"/>
                    </a:lnTo>
                    <a:lnTo>
                      <a:pt x="502" y="6"/>
                    </a:lnTo>
                    <a:lnTo>
                      <a:pt x="565" y="6"/>
                    </a:lnTo>
                    <a:lnTo>
                      <a:pt x="565" y="5"/>
                    </a:lnTo>
                    <a:lnTo>
                      <a:pt x="566" y="4"/>
                    </a:lnTo>
                    <a:lnTo>
                      <a:pt x="568" y="3"/>
                    </a:lnTo>
                    <a:lnTo>
                      <a:pt x="569" y="3"/>
                    </a:lnTo>
                    <a:lnTo>
                      <a:pt x="571" y="3"/>
                    </a:lnTo>
                    <a:lnTo>
                      <a:pt x="573" y="4"/>
                    </a:lnTo>
                    <a:lnTo>
                      <a:pt x="573" y="5"/>
                    </a:lnTo>
                    <a:lnTo>
                      <a:pt x="574" y="6"/>
                    </a:lnTo>
                    <a:lnTo>
                      <a:pt x="626" y="6"/>
                    </a:lnTo>
                    <a:lnTo>
                      <a:pt x="626" y="5"/>
                    </a:lnTo>
                    <a:lnTo>
                      <a:pt x="627" y="4"/>
                    </a:lnTo>
                    <a:lnTo>
                      <a:pt x="629" y="3"/>
                    </a:lnTo>
                    <a:lnTo>
                      <a:pt x="630" y="3"/>
                    </a:lnTo>
                    <a:lnTo>
                      <a:pt x="632" y="3"/>
                    </a:lnTo>
                    <a:lnTo>
                      <a:pt x="633" y="4"/>
                    </a:lnTo>
                    <a:lnTo>
                      <a:pt x="634" y="5"/>
                    </a:lnTo>
                    <a:lnTo>
                      <a:pt x="635" y="6"/>
                    </a:lnTo>
                    <a:lnTo>
                      <a:pt x="654" y="6"/>
                    </a:lnTo>
                    <a:lnTo>
                      <a:pt x="654" y="5"/>
                    </a:lnTo>
                    <a:lnTo>
                      <a:pt x="655" y="4"/>
                    </a:lnTo>
                    <a:lnTo>
                      <a:pt x="657" y="3"/>
                    </a:lnTo>
                    <a:lnTo>
                      <a:pt x="659" y="3"/>
                    </a:lnTo>
                    <a:lnTo>
                      <a:pt x="660" y="3"/>
                    </a:lnTo>
                    <a:lnTo>
                      <a:pt x="662" y="4"/>
                    </a:lnTo>
                    <a:lnTo>
                      <a:pt x="663" y="5"/>
                    </a:lnTo>
                    <a:lnTo>
                      <a:pt x="663" y="6"/>
                    </a:lnTo>
                    <a:lnTo>
                      <a:pt x="689" y="6"/>
                    </a:lnTo>
                    <a:lnTo>
                      <a:pt x="689" y="5"/>
                    </a:lnTo>
                    <a:lnTo>
                      <a:pt x="690" y="4"/>
                    </a:lnTo>
                    <a:lnTo>
                      <a:pt x="691" y="3"/>
                    </a:lnTo>
                    <a:lnTo>
                      <a:pt x="693" y="3"/>
                    </a:lnTo>
                    <a:lnTo>
                      <a:pt x="695" y="3"/>
                    </a:lnTo>
                    <a:lnTo>
                      <a:pt x="696" y="4"/>
                    </a:lnTo>
                    <a:lnTo>
                      <a:pt x="697" y="5"/>
                    </a:lnTo>
                    <a:lnTo>
                      <a:pt x="698" y="6"/>
                    </a:lnTo>
                    <a:lnTo>
                      <a:pt x="707" y="6"/>
                    </a:lnTo>
                    <a:lnTo>
                      <a:pt x="707" y="5"/>
                    </a:lnTo>
                    <a:lnTo>
                      <a:pt x="708" y="4"/>
                    </a:lnTo>
                    <a:lnTo>
                      <a:pt x="709" y="3"/>
                    </a:lnTo>
                    <a:lnTo>
                      <a:pt x="711" y="3"/>
                    </a:lnTo>
                    <a:lnTo>
                      <a:pt x="713" y="3"/>
                    </a:lnTo>
                    <a:lnTo>
                      <a:pt x="714" y="4"/>
                    </a:lnTo>
                    <a:lnTo>
                      <a:pt x="715" y="5"/>
                    </a:lnTo>
                    <a:lnTo>
                      <a:pt x="716" y="6"/>
                    </a:lnTo>
                    <a:lnTo>
                      <a:pt x="720" y="6"/>
                    </a:lnTo>
                    <a:lnTo>
                      <a:pt x="721" y="5"/>
                    </a:lnTo>
                    <a:lnTo>
                      <a:pt x="721" y="4"/>
                    </a:lnTo>
                    <a:lnTo>
                      <a:pt x="723" y="3"/>
                    </a:lnTo>
                    <a:lnTo>
                      <a:pt x="725" y="3"/>
                    </a:lnTo>
                    <a:lnTo>
                      <a:pt x="726" y="3"/>
                    </a:lnTo>
                    <a:lnTo>
                      <a:pt x="728" y="4"/>
                    </a:lnTo>
                    <a:lnTo>
                      <a:pt x="729" y="5"/>
                    </a:lnTo>
                    <a:lnTo>
                      <a:pt x="729" y="6"/>
                    </a:lnTo>
                    <a:lnTo>
                      <a:pt x="755" y="6"/>
                    </a:lnTo>
                    <a:lnTo>
                      <a:pt x="756" y="5"/>
                    </a:lnTo>
                    <a:lnTo>
                      <a:pt x="756" y="4"/>
                    </a:lnTo>
                    <a:lnTo>
                      <a:pt x="758" y="3"/>
                    </a:lnTo>
                    <a:lnTo>
                      <a:pt x="760" y="3"/>
                    </a:lnTo>
                    <a:lnTo>
                      <a:pt x="761" y="3"/>
                    </a:lnTo>
                    <a:lnTo>
                      <a:pt x="763" y="4"/>
                    </a:lnTo>
                    <a:lnTo>
                      <a:pt x="764" y="5"/>
                    </a:lnTo>
                    <a:lnTo>
                      <a:pt x="764" y="6"/>
                    </a:lnTo>
                    <a:lnTo>
                      <a:pt x="766" y="6"/>
                    </a:lnTo>
                    <a:lnTo>
                      <a:pt x="766" y="5"/>
                    </a:lnTo>
                    <a:lnTo>
                      <a:pt x="767" y="3"/>
                    </a:lnTo>
                    <a:lnTo>
                      <a:pt x="768" y="2"/>
                    </a:lnTo>
                    <a:lnTo>
                      <a:pt x="770" y="1"/>
                    </a:lnTo>
                    <a:lnTo>
                      <a:pt x="772" y="0"/>
                    </a:lnTo>
                    <a:lnTo>
                      <a:pt x="775" y="0"/>
                    </a:lnTo>
                    <a:lnTo>
                      <a:pt x="777" y="1"/>
                    </a:lnTo>
                    <a:lnTo>
                      <a:pt x="779" y="2"/>
                    </a:lnTo>
                    <a:lnTo>
                      <a:pt x="780" y="3"/>
                    </a:lnTo>
                    <a:lnTo>
                      <a:pt x="781" y="5"/>
                    </a:lnTo>
                    <a:lnTo>
                      <a:pt x="781" y="6"/>
                    </a:lnTo>
                    <a:lnTo>
                      <a:pt x="807" y="6"/>
                    </a:lnTo>
                    <a:lnTo>
                      <a:pt x="807" y="5"/>
                    </a:lnTo>
                    <a:lnTo>
                      <a:pt x="808" y="4"/>
                    </a:lnTo>
                    <a:lnTo>
                      <a:pt x="810" y="3"/>
                    </a:lnTo>
                    <a:lnTo>
                      <a:pt x="811" y="3"/>
                    </a:lnTo>
                    <a:lnTo>
                      <a:pt x="813" y="3"/>
                    </a:lnTo>
                    <a:lnTo>
                      <a:pt x="815" y="4"/>
                    </a:lnTo>
                    <a:lnTo>
                      <a:pt x="815" y="5"/>
                    </a:lnTo>
                    <a:lnTo>
                      <a:pt x="816" y="6"/>
                    </a:lnTo>
                    <a:lnTo>
                      <a:pt x="825" y="6"/>
                    </a:lnTo>
                    <a:lnTo>
                      <a:pt x="825" y="4"/>
                    </a:lnTo>
                    <a:lnTo>
                      <a:pt x="826" y="3"/>
                    </a:lnTo>
                    <a:lnTo>
                      <a:pt x="828" y="1"/>
                    </a:lnTo>
                    <a:lnTo>
                      <a:pt x="830" y="0"/>
                    </a:lnTo>
                    <a:lnTo>
                      <a:pt x="832" y="0"/>
                    </a:lnTo>
                    <a:lnTo>
                      <a:pt x="835" y="0"/>
                    </a:lnTo>
                    <a:lnTo>
                      <a:pt x="837" y="0"/>
                    </a:lnTo>
                    <a:lnTo>
                      <a:pt x="839" y="1"/>
                    </a:lnTo>
                    <a:lnTo>
                      <a:pt x="840" y="3"/>
                    </a:lnTo>
                    <a:lnTo>
                      <a:pt x="841" y="4"/>
                    </a:lnTo>
                    <a:lnTo>
                      <a:pt x="842" y="6"/>
                    </a:lnTo>
                    <a:lnTo>
                      <a:pt x="845" y="6"/>
                    </a:lnTo>
                    <a:lnTo>
                      <a:pt x="846" y="5"/>
                    </a:lnTo>
                    <a:lnTo>
                      <a:pt x="846" y="4"/>
                    </a:lnTo>
                    <a:lnTo>
                      <a:pt x="848" y="3"/>
                    </a:lnTo>
                    <a:lnTo>
                      <a:pt x="850" y="3"/>
                    </a:lnTo>
                    <a:lnTo>
                      <a:pt x="851" y="3"/>
                    </a:lnTo>
                    <a:lnTo>
                      <a:pt x="853" y="4"/>
                    </a:lnTo>
                    <a:lnTo>
                      <a:pt x="854" y="5"/>
                    </a:lnTo>
                    <a:lnTo>
                      <a:pt x="854" y="6"/>
                    </a:lnTo>
                    <a:lnTo>
                      <a:pt x="875" y="6"/>
                    </a:lnTo>
                    <a:lnTo>
                      <a:pt x="876" y="5"/>
                    </a:lnTo>
                    <a:lnTo>
                      <a:pt x="877" y="4"/>
                    </a:lnTo>
                    <a:lnTo>
                      <a:pt x="878" y="3"/>
                    </a:lnTo>
                    <a:lnTo>
                      <a:pt x="880" y="3"/>
                    </a:lnTo>
                    <a:lnTo>
                      <a:pt x="882" y="3"/>
                    </a:lnTo>
                    <a:lnTo>
                      <a:pt x="883" y="4"/>
                    </a:lnTo>
                    <a:lnTo>
                      <a:pt x="884" y="5"/>
                    </a:lnTo>
                    <a:lnTo>
                      <a:pt x="884" y="6"/>
                    </a:lnTo>
                    <a:lnTo>
                      <a:pt x="889" y="6"/>
                    </a:lnTo>
                    <a:lnTo>
                      <a:pt x="889" y="5"/>
                    </a:lnTo>
                    <a:lnTo>
                      <a:pt x="890" y="4"/>
                    </a:lnTo>
                    <a:lnTo>
                      <a:pt x="892" y="3"/>
                    </a:lnTo>
                    <a:lnTo>
                      <a:pt x="893" y="3"/>
                    </a:lnTo>
                    <a:lnTo>
                      <a:pt x="895" y="3"/>
                    </a:lnTo>
                    <a:lnTo>
                      <a:pt x="897" y="4"/>
                    </a:lnTo>
                    <a:lnTo>
                      <a:pt x="898" y="5"/>
                    </a:lnTo>
                    <a:lnTo>
                      <a:pt x="898" y="6"/>
                    </a:lnTo>
                    <a:lnTo>
                      <a:pt x="902" y="6"/>
                    </a:lnTo>
                    <a:lnTo>
                      <a:pt x="903" y="5"/>
                    </a:lnTo>
                    <a:lnTo>
                      <a:pt x="904" y="4"/>
                    </a:lnTo>
                    <a:lnTo>
                      <a:pt x="905" y="3"/>
                    </a:lnTo>
                    <a:lnTo>
                      <a:pt x="907" y="3"/>
                    </a:lnTo>
                    <a:lnTo>
                      <a:pt x="909" y="3"/>
                    </a:lnTo>
                    <a:lnTo>
                      <a:pt x="910" y="4"/>
                    </a:lnTo>
                    <a:lnTo>
                      <a:pt x="911" y="5"/>
                    </a:lnTo>
                    <a:lnTo>
                      <a:pt x="912" y="6"/>
                    </a:lnTo>
                    <a:lnTo>
                      <a:pt x="1017" y="6"/>
                    </a:lnTo>
                    <a:lnTo>
                      <a:pt x="1017" y="5"/>
                    </a:lnTo>
                    <a:lnTo>
                      <a:pt x="1018" y="4"/>
                    </a:lnTo>
                    <a:lnTo>
                      <a:pt x="1019" y="3"/>
                    </a:lnTo>
                    <a:lnTo>
                      <a:pt x="1021" y="3"/>
                    </a:lnTo>
                    <a:lnTo>
                      <a:pt x="1023" y="3"/>
                    </a:lnTo>
                    <a:lnTo>
                      <a:pt x="1024" y="4"/>
                    </a:lnTo>
                    <a:lnTo>
                      <a:pt x="1025" y="5"/>
                    </a:lnTo>
                    <a:lnTo>
                      <a:pt x="1026" y="6"/>
                    </a:lnTo>
                    <a:lnTo>
                      <a:pt x="1152" y="6"/>
                    </a:lnTo>
                    <a:lnTo>
                      <a:pt x="1152" y="115"/>
                    </a:lnTo>
                    <a:lnTo>
                      <a:pt x="1173" y="115"/>
                    </a:lnTo>
                    <a:lnTo>
                      <a:pt x="1173" y="113"/>
                    </a:lnTo>
                    <a:lnTo>
                      <a:pt x="1174" y="112"/>
                    </a:lnTo>
                    <a:lnTo>
                      <a:pt x="1176" y="111"/>
                    </a:lnTo>
                    <a:lnTo>
                      <a:pt x="1177" y="111"/>
                    </a:lnTo>
                    <a:lnTo>
                      <a:pt x="1179" y="111"/>
                    </a:lnTo>
                    <a:lnTo>
                      <a:pt x="1180" y="112"/>
                    </a:lnTo>
                    <a:lnTo>
                      <a:pt x="1181" y="113"/>
                    </a:lnTo>
                    <a:lnTo>
                      <a:pt x="1182" y="115"/>
                    </a:lnTo>
                    <a:lnTo>
                      <a:pt x="1186" y="115"/>
                    </a:lnTo>
                    <a:lnTo>
                      <a:pt x="1187" y="113"/>
                    </a:lnTo>
                    <a:lnTo>
                      <a:pt x="1188" y="112"/>
                    </a:lnTo>
                    <a:lnTo>
                      <a:pt x="1189" y="111"/>
                    </a:lnTo>
                    <a:lnTo>
                      <a:pt x="1191" y="111"/>
                    </a:lnTo>
                    <a:lnTo>
                      <a:pt x="1192" y="111"/>
                    </a:lnTo>
                    <a:lnTo>
                      <a:pt x="1194" y="112"/>
                    </a:lnTo>
                    <a:lnTo>
                      <a:pt x="1195" y="113"/>
                    </a:lnTo>
                    <a:lnTo>
                      <a:pt x="1195" y="115"/>
                    </a:lnTo>
                    <a:lnTo>
                      <a:pt x="1200" y="115"/>
                    </a:lnTo>
                    <a:lnTo>
                      <a:pt x="1200" y="113"/>
                    </a:lnTo>
                    <a:lnTo>
                      <a:pt x="1201" y="112"/>
                    </a:lnTo>
                    <a:lnTo>
                      <a:pt x="1203" y="111"/>
                    </a:lnTo>
                    <a:lnTo>
                      <a:pt x="1204" y="111"/>
                    </a:lnTo>
                    <a:lnTo>
                      <a:pt x="1206" y="111"/>
                    </a:lnTo>
                    <a:lnTo>
                      <a:pt x="1207" y="112"/>
                    </a:lnTo>
                    <a:lnTo>
                      <a:pt x="1208" y="113"/>
                    </a:lnTo>
                    <a:lnTo>
                      <a:pt x="1209" y="115"/>
                    </a:lnTo>
                    <a:lnTo>
                      <a:pt x="1264" y="115"/>
                    </a:lnTo>
                    <a:lnTo>
                      <a:pt x="1264" y="113"/>
                    </a:lnTo>
                    <a:lnTo>
                      <a:pt x="1265" y="112"/>
                    </a:lnTo>
                    <a:lnTo>
                      <a:pt x="1267" y="111"/>
                    </a:lnTo>
                    <a:lnTo>
                      <a:pt x="1268" y="111"/>
                    </a:lnTo>
                    <a:lnTo>
                      <a:pt x="1270" y="111"/>
                    </a:lnTo>
                    <a:lnTo>
                      <a:pt x="1272" y="112"/>
                    </a:lnTo>
                    <a:lnTo>
                      <a:pt x="1273" y="113"/>
                    </a:lnTo>
                    <a:lnTo>
                      <a:pt x="1273" y="115"/>
                    </a:lnTo>
                    <a:lnTo>
                      <a:pt x="1303" y="115"/>
                    </a:lnTo>
                    <a:lnTo>
                      <a:pt x="1303" y="113"/>
                    </a:lnTo>
                    <a:lnTo>
                      <a:pt x="1304" y="112"/>
                    </a:lnTo>
                    <a:lnTo>
                      <a:pt x="1306" y="111"/>
                    </a:lnTo>
                    <a:lnTo>
                      <a:pt x="1307" y="111"/>
                    </a:lnTo>
                    <a:lnTo>
                      <a:pt x="1309" y="111"/>
                    </a:lnTo>
                    <a:lnTo>
                      <a:pt x="1310" y="112"/>
                    </a:lnTo>
                    <a:lnTo>
                      <a:pt x="1311" y="113"/>
                    </a:lnTo>
                    <a:lnTo>
                      <a:pt x="1312" y="115"/>
                    </a:lnTo>
                    <a:lnTo>
                      <a:pt x="1315" y="115"/>
                    </a:lnTo>
                    <a:lnTo>
                      <a:pt x="1315" y="113"/>
                    </a:lnTo>
                    <a:lnTo>
                      <a:pt x="1316" y="112"/>
                    </a:lnTo>
                    <a:lnTo>
                      <a:pt x="1317" y="111"/>
                    </a:lnTo>
                    <a:lnTo>
                      <a:pt x="1319" y="111"/>
                    </a:lnTo>
                    <a:lnTo>
                      <a:pt x="1321" y="111"/>
                    </a:lnTo>
                    <a:lnTo>
                      <a:pt x="1322" y="112"/>
                    </a:lnTo>
                    <a:lnTo>
                      <a:pt x="1323" y="113"/>
                    </a:lnTo>
                    <a:lnTo>
                      <a:pt x="1324" y="115"/>
                    </a:lnTo>
                    <a:lnTo>
                      <a:pt x="1360" y="115"/>
                    </a:lnTo>
                    <a:lnTo>
                      <a:pt x="1361" y="113"/>
                    </a:lnTo>
                    <a:lnTo>
                      <a:pt x="1362" y="111"/>
                    </a:lnTo>
                    <a:lnTo>
                      <a:pt x="1363" y="110"/>
                    </a:lnTo>
                    <a:lnTo>
                      <a:pt x="1365" y="109"/>
                    </a:lnTo>
                    <a:lnTo>
                      <a:pt x="1368" y="108"/>
                    </a:lnTo>
                    <a:lnTo>
                      <a:pt x="1370" y="108"/>
                    </a:lnTo>
                    <a:lnTo>
                      <a:pt x="1373" y="109"/>
                    </a:lnTo>
                    <a:lnTo>
                      <a:pt x="1375" y="110"/>
                    </a:lnTo>
                    <a:lnTo>
                      <a:pt x="1376" y="111"/>
                    </a:lnTo>
                    <a:lnTo>
                      <a:pt x="1377" y="113"/>
                    </a:lnTo>
                    <a:lnTo>
                      <a:pt x="1378" y="115"/>
                    </a:lnTo>
                    <a:lnTo>
                      <a:pt x="1443" y="115"/>
                    </a:lnTo>
                    <a:lnTo>
                      <a:pt x="1443" y="22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7824600" y="331200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73" name=""/>
              <p:cNvSpPr/>
              <p:nvPr/>
            </p:nvSpPr>
            <p:spPr>
              <a:xfrm>
                <a:off x="6158880" y="2094840"/>
                <a:ext cx="86760" cy="1096560"/>
              </a:xfrm>
              <a:custGeom>
                <a:avLst/>
                <a:gdLst/>
                <a:ahLst/>
                <a:rect l="l" t="t" r="r" b="b"/>
                <a:pathLst>
                  <a:path w="82" h="821">
                    <a:moveTo>
                      <a:pt x="0" y="821"/>
                    </a:moveTo>
                    <a:lnTo>
                      <a:pt x="0" y="217"/>
                    </a:lnTo>
                    <a:lnTo>
                      <a:pt x="19" y="217"/>
                    </a:lnTo>
                    <a:lnTo>
                      <a:pt x="19" y="215"/>
                    </a:lnTo>
                    <a:lnTo>
                      <a:pt x="20" y="214"/>
                    </a:lnTo>
                    <a:lnTo>
                      <a:pt x="21" y="212"/>
                    </a:lnTo>
                    <a:lnTo>
                      <a:pt x="23" y="211"/>
                    </a:lnTo>
                    <a:lnTo>
                      <a:pt x="25" y="211"/>
                    </a:lnTo>
                    <a:lnTo>
                      <a:pt x="27" y="211"/>
                    </a:lnTo>
                    <a:lnTo>
                      <a:pt x="30" y="211"/>
                    </a:lnTo>
                    <a:lnTo>
                      <a:pt x="32" y="212"/>
                    </a:lnTo>
                    <a:lnTo>
                      <a:pt x="33" y="214"/>
                    </a:lnTo>
                    <a:lnTo>
                      <a:pt x="34" y="215"/>
                    </a:lnTo>
                    <a:lnTo>
                      <a:pt x="34" y="217"/>
                    </a:lnTo>
                    <a:lnTo>
                      <a:pt x="39" y="217"/>
                    </a:lnTo>
                    <a:lnTo>
                      <a:pt x="39" y="215"/>
                    </a:lnTo>
                    <a:lnTo>
                      <a:pt x="40" y="214"/>
                    </a:lnTo>
                    <a:lnTo>
                      <a:pt x="42" y="212"/>
                    </a:lnTo>
                    <a:lnTo>
                      <a:pt x="44" y="211"/>
                    </a:lnTo>
                    <a:lnTo>
                      <a:pt x="46" y="211"/>
                    </a:lnTo>
                    <a:lnTo>
                      <a:pt x="48" y="211"/>
                    </a:lnTo>
                    <a:lnTo>
                      <a:pt x="50" y="211"/>
                    </a:lnTo>
                    <a:lnTo>
                      <a:pt x="52" y="212"/>
                    </a:lnTo>
                    <a:lnTo>
                      <a:pt x="53" y="214"/>
                    </a:lnTo>
                    <a:lnTo>
                      <a:pt x="54" y="215"/>
                    </a:lnTo>
                    <a:lnTo>
                      <a:pt x="55" y="217"/>
                    </a:lnTo>
                    <a:lnTo>
                      <a:pt x="67" y="217"/>
                    </a:lnTo>
                    <a:lnTo>
                      <a:pt x="67" y="0"/>
                    </a:lnTo>
                    <a:lnTo>
                      <a:pt x="8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6244920" y="2089440"/>
                <a:ext cx="13680" cy="1152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5" name=""/>
              <p:cNvSpPr/>
              <p:nvPr/>
            </p:nvSpPr>
            <p:spPr>
              <a:xfrm>
                <a:off x="7949160" y="3176640"/>
                <a:ext cx="408600" cy="169560"/>
              </a:xfrm>
              <a:custGeom>
                <a:avLst/>
                <a:gdLst/>
                <a:ahLst/>
                <a:rect l="l" t="t" r="r" b="b"/>
                <a:pathLst>
                  <a:path w="386" h="127">
                    <a:moveTo>
                      <a:pt x="0" y="127"/>
                    </a:moveTo>
                    <a:lnTo>
                      <a:pt x="21" y="127"/>
                    </a:lnTo>
                    <a:lnTo>
                      <a:pt x="21" y="7"/>
                    </a:lnTo>
                    <a:lnTo>
                      <a:pt x="57" y="7"/>
                    </a:lnTo>
                    <a:lnTo>
                      <a:pt x="57" y="5"/>
                    </a:lnTo>
                    <a:lnTo>
                      <a:pt x="58" y="4"/>
                    </a:lnTo>
                    <a:lnTo>
                      <a:pt x="60" y="3"/>
                    </a:lnTo>
                    <a:lnTo>
                      <a:pt x="61" y="3"/>
                    </a:lnTo>
                    <a:lnTo>
                      <a:pt x="63" y="3"/>
                    </a:lnTo>
                    <a:lnTo>
                      <a:pt x="64" y="4"/>
                    </a:lnTo>
                    <a:lnTo>
                      <a:pt x="65" y="5"/>
                    </a:lnTo>
                    <a:lnTo>
                      <a:pt x="66" y="7"/>
                    </a:lnTo>
                    <a:lnTo>
                      <a:pt x="70" y="7"/>
                    </a:lnTo>
                    <a:lnTo>
                      <a:pt x="71" y="5"/>
                    </a:lnTo>
                    <a:lnTo>
                      <a:pt x="72" y="4"/>
                    </a:lnTo>
                    <a:lnTo>
                      <a:pt x="73" y="3"/>
                    </a:lnTo>
                    <a:lnTo>
                      <a:pt x="75" y="3"/>
                    </a:lnTo>
                    <a:lnTo>
                      <a:pt x="76" y="3"/>
                    </a:lnTo>
                    <a:lnTo>
                      <a:pt x="78" y="4"/>
                    </a:lnTo>
                    <a:lnTo>
                      <a:pt x="79" y="5"/>
                    </a:lnTo>
                    <a:lnTo>
                      <a:pt x="79" y="7"/>
                    </a:lnTo>
                    <a:lnTo>
                      <a:pt x="111" y="7"/>
                    </a:lnTo>
                    <a:lnTo>
                      <a:pt x="111" y="5"/>
                    </a:lnTo>
                    <a:lnTo>
                      <a:pt x="112" y="4"/>
                    </a:lnTo>
                    <a:lnTo>
                      <a:pt x="114" y="3"/>
                    </a:lnTo>
                    <a:lnTo>
                      <a:pt x="115" y="3"/>
                    </a:lnTo>
                    <a:lnTo>
                      <a:pt x="117" y="3"/>
                    </a:lnTo>
                    <a:lnTo>
                      <a:pt x="118" y="4"/>
                    </a:lnTo>
                    <a:lnTo>
                      <a:pt x="119" y="5"/>
                    </a:lnTo>
                    <a:lnTo>
                      <a:pt x="120" y="7"/>
                    </a:lnTo>
                    <a:lnTo>
                      <a:pt x="152" y="7"/>
                    </a:lnTo>
                    <a:lnTo>
                      <a:pt x="152" y="5"/>
                    </a:lnTo>
                    <a:lnTo>
                      <a:pt x="153" y="4"/>
                    </a:lnTo>
                    <a:lnTo>
                      <a:pt x="155" y="3"/>
                    </a:lnTo>
                    <a:lnTo>
                      <a:pt x="157" y="3"/>
                    </a:lnTo>
                    <a:lnTo>
                      <a:pt x="158" y="3"/>
                    </a:lnTo>
                    <a:lnTo>
                      <a:pt x="160" y="4"/>
                    </a:lnTo>
                    <a:lnTo>
                      <a:pt x="161" y="5"/>
                    </a:lnTo>
                    <a:lnTo>
                      <a:pt x="161" y="7"/>
                    </a:lnTo>
                    <a:lnTo>
                      <a:pt x="166" y="7"/>
                    </a:lnTo>
                    <a:lnTo>
                      <a:pt x="167" y="5"/>
                    </a:lnTo>
                    <a:lnTo>
                      <a:pt x="168" y="4"/>
                    </a:lnTo>
                    <a:lnTo>
                      <a:pt x="169" y="3"/>
                    </a:lnTo>
                    <a:lnTo>
                      <a:pt x="171" y="3"/>
                    </a:lnTo>
                    <a:lnTo>
                      <a:pt x="173" y="3"/>
                    </a:lnTo>
                    <a:lnTo>
                      <a:pt x="174" y="4"/>
                    </a:lnTo>
                    <a:lnTo>
                      <a:pt x="175" y="5"/>
                    </a:lnTo>
                    <a:lnTo>
                      <a:pt x="175" y="7"/>
                    </a:lnTo>
                    <a:lnTo>
                      <a:pt x="194" y="7"/>
                    </a:lnTo>
                    <a:lnTo>
                      <a:pt x="194" y="5"/>
                    </a:lnTo>
                    <a:lnTo>
                      <a:pt x="195" y="4"/>
                    </a:lnTo>
                    <a:lnTo>
                      <a:pt x="196" y="3"/>
                    </a:lnTo>
                    <a:lnTo>
                      <a:pt x="198" y="3"/>
                    </a:lnTo>
                    <a:lnTo>
                      <a:pt x="200" y="3"/>
                    </a:lnTo>
                    <a:lnTo>
                      <a:pt x="201" y="4"/>
                    </a:lnTo>
                    <a:lnTo>
                      <a:pt x="202" y="5"/>
                    </a:lnTo>
                    <a:lnTo>
                      <a:pt x="203" y="7"/>
                    </a:lnTo>
                    <a:lnTo>
                      <a:pt x="218" y="7"/>
                    </a:lnTo>
                    <a:lnTo>
                      <a:pt x="219" y="5"/>
                    </a:lnTo>
                    <a:lnTo>
                      <a:pt x="220" y="4"/>
                    </a:lnTo>
                    <a:lnTo>
                      <a:pt x="221" y="3"/>
                    </a:lnTo>
                    <a:lnTo>
                      <a:pt x="223" y="3"/>
                    </a:lnTo>
                    <a:lnTo>
                      <a:pt x="224" y="3"/>
                    </a:lnTo>
                    <a:lnTo>
                      <a:pt x="226" y="4"/>
                    </a:lnTo>
                    <a:lnTo>
                      <a:pt x="227" y="5"/>
                    </a:lnTo>
                    <a:lnTo>
                      <a:pt x="227" y="7"/>
                    </a:lnTo>
                    <a:lnTo>
                      <a:pt x="232" y="7"/>
                    </a:lnTo>
                    <a:lnTo>
                      <a:pt x="233" y="5"/>
                    </a:lnTo>
                    <a:lnTo>
                      <a:pt x="234" y="4"/>
                    </a:lnTo>
                    <a:lnTo>
                      <a:pt x="235" y="3"/>
                    </a:lnTo>
                    <a:lnTo>
                      <a:pt x="237" y="3"/>
                    </a:lnTo>
                    <a:lnTo>
                      <a:pt x="239" y="3"/>
                    </a:lnTo>
                    <a:lnTo>
                      <a:pt x="240" y="4"/>
                    </a:lnTo>
                    <a:lnTo>
                      <a:pt x="241" y="5"/>
                    </a:lnTo>
                    <a:lnTo>
                      <a:pt x="241" y="7"/>
                    </a:lnTo>
                    <a:lnTo>
                      <a:pt x="386" y="7"/>
                    </a:lnTo>
                    <a:lnTo>
                      <a:pt x="386" y="0"/>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8351640" y="3165120"/>
                <a:ext cx="11520" cy="13320"/>
              </a:xfrm>
              <a:custGeom>
                <a:avLst/>
                <a:gdLst/>
                <a:ahLst/>
                <a:rect l="l" t="t" r="r" b="b"/>
                <a:pathLst>
                  <a:path w="11" h="10">
                    <a:moveTo>
                      <a:pt x="0" y="9"/>
                    </a:moveTo>
                    <a:lnTo>
                      <a:pt x="6" y="0"/>
                    </a:lnTo>
                    <a:lnTo>
                      <a:pt x="11" y="9"/>
                    </a:lnTo>
                    <a:lnTo>
                      <a:pt x="9" y="10"/>
                    </a:lnTo>
                    <a:lnTo>
                      <a:pt x="6" y="10"/>
                    </a:lnTo>
                    <a:lnTo>
                      <a:pt x="2" y="10"/>
                    </a:lnTo>
                    <a:lnTo>
                      <a:pt x="0" y="9"/>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77" name=""/>
              <p:cNvSpPr/>
              <p:nvPr/>
            </p:nvSpPr>
            <p:spPr>
              <a:xfrm>
                <a:off x="5074920" y="2086920"/>
                <a:ext cx="198720" cy="97200"/>
              </a:xfrm>
              <a:prstGeom prst="rect">
                <a:avLst/>
              </a:prstGeom>
              <a:blipFill rotWithShape="0">
                <a:blip r:embed="rId14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5103720" y="2100240"/>
                <a:ext cx="1821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20-Sales</a:t>
                </a:r>
                <a:endParaRPr b="0" lang="en-US" sz="300" spc="-1" strike="noStrike">
                  <a:solidFill>
                    <a:srgbClr val="ffffff"/>
                  </a:solidFill>
                  <a:latin typeface="Arial"/>
                </a:endParaRPr>
              </a:p>
            </p:txBody>
          </p:sp>
          <p:sp>
            <p:nvSpPr>
              <p:cNvPr id="1579" name=""/>
              <p:cNvSpPr/>
              <p:nvPr/>
            </p:nvSpPr>
            <p:spPr>
              <a:xfrm>
                <a:off x="5129280" y="2132280"/>
                <a:ext cx="127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olling</a:t>
                </a:r>
                <a:endParaRPr b="0" lang="en-US" sz="300" spc="-1" strike="noStrike">
                  <a:solidFill>
                    <a:srgbClr val="ffffff"/>
                  </a:solidFill>
                  <a:latin typeface="Arial"/>
                </a:endParaRPr>
              </a:p>
            </p:txBody>
          </p:sp>
          <p:sp>
            <p:nvSpPr>
              <p:cNvPr id="1580" name=""/>
              <p:cNvSpPr/>
              <p:nvPr/>
            </p:nvSpPr>
            <p:spPr>
              <a:xfrm>
                <a:off x="5275080" y="2132280"/>
                <a:ext cx="586440" cy="58680"/>
              </a:xfrm>
              <a:custGeom>
                <a:avLst/>
                <a:gdLst/>
                <a:ahLst/>
                <a:rect l="l" t="t" r="r" b="b"/>
                <a:pathLst>
                  <a:path w="554" h="44">
                    <a:moveTo>
                      <a:pt x="0" y="4"/>
                    </a:moveTo>
                    <a:lnTo>
                      <a:pt x="389" y="4"/>
                    </a:lnTo>
                    <a:lnTo>
                      <a:pt x="389" y="2"/>
                    </a:lnTo>
                    <a:lnTo>
                      <a:pt x="390" y="1"/>
                    </a:lnTo>
                    <a:lnTo>
                      <a:pt x="391" y="0"/>
                    </a:lnTo>
                    <a:lnTo>
                      <a:pt x="393" y="0"/>
                    </a:lnTo>
                    <a:lnTo>
                      <a:pt x="395" y="0"/>
                    </a:lnTo>
                    <a:lnTo>
                      <a:pt x="396" y="1"/>
                    </a:lnTo>
                    <a:lnTo>
                      <a:pt x="397" y="2"/>
                    </a:lnTo>
                    <a:lnTo>
                      <a:pt x="398" y="4"/>
                    </a:lnTo>
                    <a:lnTo>
                      <a:pt x="503" y="4"/>
                    </a:lnTo>
                    <a:lnTo>
                      <a:pt x="503" y="2"/>
                    </a:lnTo>
                    <a:lnTo>
                      <a:pt x="504" y="1"/>
                    </a:lnTo>
                    <a:lnTo>
                      <a:pt x="506" y="0"/>
                    </a:lnTo>
                    <a:lnTo>
                      <a:pt x="507" y="0"/>
                    </a:lnTo>
                    <a:lnTo>
                      <a:pt x="509" y="0"/>
                    </a:lnTo>
                    <a:lnTo>
                      <a:pt x="511" y="1"/>
                    </a:lnTo>
                    <a:lnTo>
                      <a:pt x="511" y="2"/>
                    </a:lnTo>
                    <a:lnTo>
                      <a:pt x="512" y="4"/>
                    </a:lnTo>
                    <a:lnTo>
                      <a:pt x="554" y="4"/>
                    </a:lnTo>
                    <a:lnTo>
                      <a:pt x="554" y="44"/>
                    </a:lnTo>
                  </a:path>
                </a:pathLst>
              </a:custGeom>
              <a:noFill/>
              <a:ln w="1440">
                <a:solidFill>
                  <a:srgbClr val="00ff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81" name=""/>
              <p:cNvSpPr/>
              <p:nvPr/>
            </p:nvSpPr>
            <p:spPr>
              <a:xfrm>
                <a:off x="5855400" y="218952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82" name=""/>
              <p:cNvSpPr/>
              <p:nvPr/>
            </p:nvSpPr>
            <p:spPr>
              <a:xfrm>
                <a:off x="4591080" y="2130840"/>
                <a:ext cx="470880" cy="1220760"/>
              </a:xfrm>
              <a:custGeom>
                <a:avLst/>
                <a:gdLst/>
                <a:ahLst/>
                <a:rect l="l" t="t" r="r" b="b"/>
                <a:pathLst>
                  <a:path w="445" h="914">
                    <a:moveTo>
                      <a:pt x="445" y="3"/>
                    </a:moveTo>
                    <a:lnTo>
                      <a:pt x="408" y="3"/>
                    </a:lnTo>
                    <a:lnTo>
                      <a:pt x="408" y="2"/>
                    </a:lnTo>
                    <a:lnTo>
                      <a:pt x="407" y="1"/>
                    </a:lnTo>
                    <a:lnTo>
                      <a:pt x="405" y="0"/>
                    </a:lnTo>
                    <a:lnTo>
                      <a:pt x="404" y="0"/>
                    </a:lnTo>
                    <a:lnTo>
                      <a:pt x="402" y="0"/>
                    </a:lnTo>
                    <a:lnTo>
                      <a:pt x="401" y="1"/>
                    </a:lnTo>
                    <a:lnTo>
                      <a:pt x="400" y="2"/>
                    </a:lnTo>
                    <a:lnTo>
                      <a:pt x="399" y="3"/>
                    </a:lnTo>
                    <a:lnTo>
                      <a:pt x="347" y="3"/>
                    </a:lnTo>
                    <a:lnTo>
                      <a:pt x="347" y="246"/>
                    </a:lnTo>
                    <a:lnTo>
                      <a:pt x="87" y="246"/>
                    </a:lnTo>
                    <a:lnTo>
                      <a:pt x="87" y="245"/>
                    </a:lnTo>
                    <a:lnTo>
                      <a:pt x="86" y="243"/>
                    </a:lnTo>
                    <a:lnTo>
                      <a:pt x="85" y="243"/>
                    </a:lnTo>
                    <a:lnTo>
                      <a:pt x="83" y="242"/>
                    </a:lnTo>
                    <a:lnTo>
                      <a:pt x="81" y="243"/>
                    </a:lnTo>
                    <a:lnTo>
                      <a:pt x="80" y="243"/>
                    </a:lnTo>
                    <a:lnTo>
                      <a:pt x="79" y="245"/>
                    </a:lnTo>
                    <a:lnTo>
                      <a:pt x="78" y="246"/>
                    </a:lnTo>
                    <a:lnTo>
                      <a:pt x="0" y="246"/>
                    </a:lnTo>
                    <a:lnTo>
                      <a:pt x="0" y="91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5061240" y="2129760"/>
                <a:ext cx="13680" cy="11880"/>
              </a:xfrm>
              <a:custGeom>
                <a:avLst/>
                <a:gdLst/>
                <a:ahLst/>
                <a:rect l="l" t="t" r="r" b="b"/>
                <a:pathLst>
                  <a:path w="13" h="9">
                    <a:moveTo>
                      <a:pt x="1" y="0"/>
                    </a:moveTo>
                    <a:lnTo>
                      <a:pt x="13" y="4"/>
                    </a:lnTo>
                    <a:lnTo>
                      <a:pt x="1" y="9"/>
                    </a:lnTo>
                    <a:lnTo>
                      <a:pt x="0" y="7"/>
                    </a:lnTo>
                    <a:lnTo>
                      <a:pt x="0" y="4"/>
                    </a:lnTo>
                    <a:lnTo>
                      <a:pt x="0" y="2"/>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4" name=""/>
              <p:cNvSpPr/>
              <p:nvPr/>
            </p:nvSpPr>
            <p:spPr>
              <a:xfrm>
                <a:off x="4646160" y="2197800"/>
                <a:ext cx="456120" cy="1684440"/>
              </a:xfrm>
              <a:custGeom>
                <a:avLst/>
                <a:gdLst/>
                <a:ahLst/>
                <a:rect l="l" t="t" r="r" b="b"/>
                <a:pathLst>
                  <a:path w="431" h="1261">
                    <a:moveTo>
                      <a:pt x="431" y="0"/>
                    </a:moveTo>
                    <a:lnTo>
                      <a:pt x="431" y="1195"/>
                    </a:lnTo>
                    <a:lnTo>
                      <a:pt x="416" y="1195"/>
                    </a:lnTo>
                    <a:lnTo>
                      <a:pt x="416" y="1193"/>
                    </a:lnTo>
                    <a:lnTo>
                      <a:pt x="415" y="1192"/>
                    </a:lnTo>
                    <a:lnTo>
                      <a:pt x="414" y="1191"/>
                    </a:lnTo>
                    <a:lnTo>
                      <a:pt x="412" y="1191"/>
                    </a:lnTo>
                    <a:lnTo>
                      <a:pt x="410" y="1191"/>
                    </a:lnTo>
                    <a:lnTo>
                      <a:pt x="409" y="1192"/>
                    </a:lnTo>
                    <a:lnTo>
                      <a:pt x="408" y="1193"/>
                    </a:lnTo>
                    <a:lnTo>
                      <a:pt x="407" y="1195"/>
                    </a:lnTo>
                    <a:lnTo>
                      <a:pt x="385" y="1195"/>
                    </a:lnTo>
                    <a:lnTo>
                      <a:pt x="385" y="1193"/>
                    </a:lnTo>
                    <a:lnTo>
                      <a:pt x="384" y="1192"/>
                    </a:lnTo>
                    <a:lnTo>
                      <a:pt x="382" y="1191"/>
                    </a:lnTo>
                    <a:lnTo>
                      <a:pt x="380" y="1191"/>
                    </a:lnTo>
                    <a:lnTo>
                      <a:pt x="379" y="1191"/>
                    </a:lnTo>
                    <a:lnTo>
                      <a:pt x="377" y="1192"/>
                    </a:lnTo>
                    <a:lnTo>
                      <a:pt x="376" y="1193"/>
                    </a:lnTo>
                    <a:lnTo>
                      <a:pt x="376" y="1195"/>
                    </a:lnTo>
                    <a:lnTo>
                      <a:pt x="354" y="1195"/>
                    </a:lnTo>
                    <a:lnTo>
                      <a:pt x="353" y="1193"/>
                    </a:lnTo>
                    <a:lnTo>
                      <a:pt x="352" y="1192"/>
                    </a:lnTo>
                    <a:lnTo>
                      <a:pt x="351" y="1191"/>
                    </a:lnTo>
                    <a:lnTo>
                      <a:pt x="349" y="1191"/>
                    </a:lnTo>
                    <a:lnTo>
                      <a:pt x="347" y="1191"/>
                    </a:lnTo>
                    <a:lnTo>
                      <a:pt x="346" y="1192"/>
                    </a:lnTo>
                    <a:lnTo>
                      <a:pt x="345" y="1193"/>
                    </a:lnTo>
                    <a:lnTo>
                      <a:pt x="345" y="1195"/>
                    </a:lnTo>
                    <a:lnTo>
                      <a:pt x="327" y="1195"/>
                    </a:lnTo>
                    <a:lnTo>
                      <a:pt x="327" y="1193"/>
                    </a:lnTo>
                    <a:lnTo>
                      <a:pt x="326" y="1192"/>
                    </a:lnTo>
                    <a:lnTo>
                      <a:pt x="325" y="1191"/>
                    </a:lnTo>
                    <a:lnTo>
                      <a:pt x="323" y="1191"/>
                    </a:lnTo>
                    <a:lnTo>
                      <a:pt x="321" y="1191"/>
                    </a:lnTo>
                    <a:lnTo>
                      <a:pt x="320" y="1192"/>
                    </a:lnTo>
                    <a:lnTo>
                      <a:pt x="319" y="1193"/>
                    </a:lnTo>
                    <a:lnTo>
                      <a:pt x="318" y="1195"/>
                    </a:lnTo>
                    <a:lnTo>
                      <a:pt x="170" y="1195"/>
                    </a:lnTo>
                    <a:lnTo>
                      <a:pt x="170" y="1193"/>
                    </a:lnTo>
                    <a:lnTo>
                      <a:pt x="169" y="1192"/>
                    </a:lnTo>
                    <a:lnTo>
                      <a:pt x="167" y="1191"/>
                    </a:lnTo>
                    <a:lnTo>
                      <a:pt x="166" y="1191"/>
                    </a:lnTo>
                    <a:lnTo>
                      <a:pt x="164" y="1191"/>
                    </a:lnTo>
                    <a:lnTo>
                      <a:pt x="162" y="1192"/>
                    </a:lnTo>
                    <a:lnTo>
                      <a:pt x="161" y="1193"/>
                    </a:lnTo>
                    <a:lnTo>
                      <a:pt x="161" y="1195"/>
                    </a:lnTo>
                    <a:lnTo>
                      <a:pt x="132" y="1195"/>
                    </a:lnTo>
                    <a:lnTo>
                      <a:pt x="132" y="1261"/>
                    </a:lnTo>
                    <a:lnTo>
                      <a:pt x="101" y="1261"/>
                    </a:lnTo>
                    <a:lnTo>
                      <a:pt x="100" y="1260"/>
                    </a:lnTo>
                    <a:lnTo>
                      <a:pt x="99" y="1259"/>
                    </a:lnTo>
                    <a:lnTo>
                      <a:pt x="98" y="1258"/>
                    </a:lnTo>
                    <a:lnTo>
                      <a:pt x="96" y="1258"/>
                    </a:lnTo>
                    <a:lnTo>
                      <a:pt x="94" y="1258"/>
                    </a:lnTo>
                    <a:lnTo>
                      <a:pt x="93" y="1259"/>
                    </a:lnTo>
                    <a:lnTo>
                      <a:pt x="92" y="1260"/>
                    </a:lnTo>
                    <a:lnTo>
                      <a:pt x="92" y="1261"/>
                    </a:lnTo>
                    <a:lnTo>
                      <a:pt x="86" y="1261"/>
                    </a:lnTo>
                    <a:lnTo>
                      <a:pt x="86" y="1260"/>
                    </a:lnTo>
                    <a:lnTo>
                      <a:pt x="85" y="1259"/>
                    </a:lnTo>
                    <a:lnTo>
                      <a:pt x="84" y="1258"/>
                    </a:lnTo>
                    <a:lnTo>
                      <a:pt x="82" y="1258"/>
                    </a:lnTo>
                    <a:lnTo>
                      <a:pt x="80" y="1258"/>
                    </a:lnTo>
                    <a:lnTo>
                      <a:pt x="79" y="1259"/>
                    </a:lnTo>
                    <a:lnTo>
                      <a:pt x="78" y="1260"/>
                    </a:lnTo>
                    <a:lnTo>
                      <a:pt x="77" y="1261"/>
                    </a:lnTo>
                    <a:lnTo>
                      <a:pt x="65" y="1261"/>
                    </a:lnTo>
                    <a:lnTo>
                      <a:pt x="65" y="1260"/>
                    </a:lnTo>
                    <a:lnTo>
                      <a:pt x="64" y="1259"/>
                    </a:lnTo>
                    <a:lnTo>
                      <a:pt x="62" y="1258"/>
                    </a:lnTo>
                    <a:lnTo>
                      <a:pt x="61" y="1258"/>
                    </a:lnTo>
                    <a:lnTo>
                      <a:pt x="59" y="1258"/>
                    </a:lnTo>
                    <a:lnTo>
                      <a:pt x="58" y="1259"/>
                    </a:lnTo>
                    <a:lnTo>
                      <a:pt x="57" y="1260"/>
                    </a:lnTo>
                    <a:lnTo>
                      <a:pt x="56" y="1261"/>
                    </a:lnTo>
                    <a:lnTo>
                      <a:pt x="55" y="1261"/>
                    </a:lnTo>
                    <a:lnTo>
                      <a:pt x="55" y="1260"/>
                    </a:lnTo>
                    <a:lnTo>
                      <a:pt x="54" y="1259"/>
                    </a:lnTo>
                    <a:lnTo>
                      <a:pt x="52" y="1258"/>
                    </a:lnTo>
                    <a:lnTo>
                      <a:pt x="51" y="1258"/>
                    </a:lnTo>
                    <a:lnTo>
                      <a:pt x="49" y="1258"/>
                    </a:lnTo>
                    <a:lnTo>
                      <a:pt x="47" y="1259"/>
                    </a:lnTo>
                    <a:lnTo>
                      <a:pt x="47" y="1260"/>
                    </a:lnTo>
                    <a:lnTo>
                      <a:pt x="46" y="1261"/>
                    </a:lnTo>
                    <a:lnTo>
                      <a:pt x="25" y="1261"/>
                    </a:lnTo>
                    <a:lnTo>
                      <a:pt x="24" y="1259"/>
                    </a:lnTo>
                    <a:lnTo>
                      <a:pt x="23" y="1258"/>
                    </a:lnTo>
                    <a:lnTo>
                      <a:pt x="22" y="1256"/>
                    </a:lnTo>
                    <a:lnTo>
                      <a:pt x="20" y="1255"/>
                    </a:lnTo>
                    <a:lnTo>
                      <a:pt x="18" y="1255"/>
                    </a:lnTo>
                    <a:lnTo>
                      <a:pt x="15" y="1255"/>
                    </a:lnTo>
                    <a:lnTo>
                      <a:pt x="13" y="1255"/>
                    </a:lnTo>
                    <a:lnTo>
                      <a:pt x="11" y="1256"/>
                    </a:lnTo>
                    <a:lnTo>
                      <a:pt x="10" y="1258"/>
                    </a:lnTo>
                    <a:lnTo>
                      <a:pt x="9" y="1259"/>
                    </a:lnTo>
                    <a:lnTo>
                      <a:pt x="8" y="1261"/>
                    </a:lnTo>
                    <a:lnTo>
                      <a:pt x="0" y="1261"/>
                    </a:lnTo>
                  </a:path>
                </a:pathLst>
              </a:custGeom>
              <a:noFill/>
              <a:ln w="1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5096160" y="2185560"/>
                <a:ext cx="11520" cy="14760"/>
              </a:xfrm>
              <a:custGeom>
                <a:avLst/>
                <a:gdLst/>
                <a:ahLst/>
                <a:rect l="l" t="t" r="r" b="b"/>
                <a:pathLst>
                  <a:path w="11" h="11">
                    <a:moveTo>
                      <a:pt x="0" y="9"/>
                    </a:moveTo>
                    <a:lnTo>
                      <a:pt x="6" y="0"/>
                    </a:lnTo>
                    <a:lnTo>
                      <a:pt x="11" y="9"/>
                    </a:lnTo>
                    <a:lnTo>
                      <a:pt x="9" y="10"/>
                    </a:lnTo>
                    <a:lnTo>
                      <a:pt x="6" y="11"/>
                    </a:lnTo>
                    <a:lnTo>
                      <a:pt x="2" y="10"/>
                    </a:lnTo>
                    <a:lnTo>
                      <a:pt x="0" y="9"/>
                    </a:lnTo>
                    <a:close/>
                  </a:path>
                </a:pathLst>
              </a:custGeom>
              <a:solidFill>
                <a:srgbClr val="00ff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586" name=""/>
              <p:cNvSpPr/>
              <p:nvPr/>
            </p:nvSpPr>
            <p:spPr>
              <a:xfrm>
                <a:off x="4646160" y="3876840"/>
                <a:ext cx="13680" cy="11880"/>
              </a:xfrm>
              <a:custGeom>
                <a:avLst/>
                <a:gdLst/>
                <a:ahLst/>
                <a:rect l="l" t="t" r="r" b="b"/>
                <a:pathLst>
                  <a:path w="13" h="9">
                    <a:moveTo>
                      <a:pt x="12" y="9"/>
                    </a:moveTo>
                    <a:lnTo>
                      <a:pt x="0" y="4"/>
                    </a:lnTo>
                    <a:lnTo>
                      <a:pt x="12" y="0"/>
                    </a:lnTo>
                    <a:lnTo>
                      <a:pt x="13" y="2"/>
                    </a:lnTo>
                    <a:lnTo>
                      <a:pt x="13" y="4"/>
                    </a:lnTo>
                    <a:lnTo>
                      <a:pt x="13" y="6"/>
                    </a:lnTo>
                    <a:lnTo>
                      <a:pt x="12" y="9"/>
                    </a:lnTo>
                    <a:close/>
                  </a:path>
                </a:pathLst>
              </a:custGeom>
              <a:solidFill>
                <a:srgbClr val="00ff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7" name=""/>
              <p:cNvSpPr/>
              <p:nvPr/>
            </p:nvSpPr>
            <p:spPr>
              <a:xfrm>
                <a:off x="5274000" y="2162880"/>
                <a:ext cx="1152720" cy="320760"/>
              </a:xfrm>
              <a:custGeom>
                <a:avLst/>
                <a:gdLst/>
                <a:ahLst/>
                <a:rect l="l" t="t" r="r" b="b"/>
                <a:pathLst>
                  <a:path w="1089" h="240">
                    <a:moveTo>
                      <a:pt x="1089" y="240"/>
                    </a:moveTo>
                    <a:lnTo>
                      <a:pt x="1089" y="168"/>
                    </a:lnTo>
                    <a:lnTo>
                      <a:pt x="1021" y="168"/>
                    </a:lnTo>
                    <a:lnTo>
                      <a:pt x="1020" y="167"/>
                    </a:lnTo>
                    <a:lnTo>
                      <a:pt x="1019" y="166"/>
                    </a:lnTo>
                    <a:lnTo>
                      <a:pt x="1018" y="165"/>
                    </a:lnTo>
                    <a:lnTo>
                      <a:pt x="1016" y="165"/>
                    </a:lnTo>
                    <a:lnTo>
                      <a:pt x="1014" y="165"/>
                    </a:lnTo>
                    <a:lnTo>
                      <a:pt x="1013" y="166"/>
                    </a:lnTo>
                    <a:lnTo>
                      <a:pt x="1012" y="167"/>
                    </a:lnTo>
                    <a:lnTo>
                      <a:pt x="1012" y="168"/>
                    </a:lnTo>
                    <a:lnTo>
                      <a:pt x="974" y="168"/>
                    </a:lnTo>
                    <a:lnTo>
                      <a:pt x="974" y="4"/>
                    </a:lnTo>
                    <a:lnTo>
                      <a:pt x="907" y="4"/>
                    </a:lnTo>
                    <a:lnTo>
                      <a:pt x="907" y="2"/>
                    </a:lnTo>
                    <a:lnTo>
                      <a:pt x="906" y="1"/>
                    </a:lnTo>
                    <a:lnTo>
                      <a:pt x="905" y="1"/>
                    </a:lnTo>
                    <a:lnTo>
                      <a:pt x="903" y="0"/>
                    </a:lnTo>
                    <a:lnTo>
                      <a:pt x="901" y="1"/>
                    </a:lnTo>
                    <a:lnTo>
                      <a:pt x="900" y="1"/>
                    </a:lnTo>
                    <a:lnTo>
                      <a:pt x="899" y="2"/>
                    </a:lnTo>
                    <a:lnTo>
                      <a:pt x="898" y="4"/>
                    </a:lnTo>
                    <a:lnTo>
                      <a:pt x="560" y="4"/>
                    </a:lnTo>
                    <a:lnTo>
                      <a:pt x="559" y="2"/>
                    </a:lnTo>
                    <a:lnTo>
                      <a:pt x="558" y="1"/>
                    </a:lnTo>
                    <a:lnTo>
                      <a:pt x="557" y="1"/>
                    </a:lnTo>
                    <a:lnTo>
                      <a:pt x="555" y="0"/>
                    </a:lnTo>
                    <a:lnTo>
                      <a:pt x="554" y="1"/>
                    </a:lnTo>
                    <a:lnTo>
                      <a:pt x="552" y="1"/>
                    </a:lnTo>
                    <a:lnTo>
                      <a:pt x="551" y="2"/>
                    </a:lnTo>
                    <a:lnTo>
                      <a:pt x="551" y="4"/>
                    </a:lnTo>
                    <a:lnTo>
                      <a:pt x="513" y="4"/>
                    </a:lnTo>
                    <a:lnTo>
                      <a:pt x="512" y="2"/>
                    </a:lnTo>
                    <a:lnTo>
                      <a:pt x="512" y="1"/>
                    </a:lnTo>
                    <a:lnTo>
                      <a:pt x="510" y="1"/>
                    </a:lnTo>
                    <a:lnTo>
                      <a:pt x="508" y="0"/>
                    </a:lnTo>
                    <a:lnTo>
                      <a:pt x="507" y="1"/>
                    </a:lnTo>
                    <a:lnTo>
                      <a:pt x="505" y="1"/>
                    </a:lnTo>
                    <a:lnTo>
                      <a:pt x="504" y="2"/>
                    </a:lnTo>
                    <a:lnTo>
                      <a:pt x="504" y="4"/>
                    </a:lnTo>
                    <a:lnTo>
                      <a:pt x="399" y="4"/>
                    </a:lnTo>
                    <a:lnTo>
                      <a:pt x="398" y="2"/>
                    </a:lnTo>
                    <a:lnTo>
                      <a:pt x="397" y="1"/>
                    </a:lnTo>
                    <a:lnTo>
                      <a:pt x="396" y="1"/>
                    </a:lnTo>
                    <a:lnTo>
                      <a:pt x="394" y="0"/>
                    </a:lnTo>
                    <a:lnTo>
                      <a:pt x="392" y="1"/>
                    </a:lnTo>
                    <a:lnTo>
                      <a:pt x="391" y="1"/>
                    </a:lnTo>
                    <a:lnTo>
                      <a:pt x="390" y="2"/>
                    </a:lnTo>
                    <a:lnTo>
                      <a:pt x="390" y="4"/>
                    </a:lnTo>
                    <a:lnTo>
                      <a:pt x="157" y="4"/>
                    </a:lnTo>
                    <a:lnTo>
                      <a:pt x="156" y="2"/>
                    </a:lnTo>
                    <a:lnTo>
                      <a:pt x="155" y="1"/>
                    </a:lnTo>
                    <a:lnTo>
                      <a:pt x="154" y="1"/>
                    </a:lnTo>
                    <a:lnTo>
                      <a:pt x="152" y="0"/>
                    </a:lnTo>
                    <a:lnTo>
                      <a:pt x="150" y="1"/>
                    </a:lnTo>
                    <a:lnTo>
                      <a:pt x="149" y="1"/>
                    </a:lnTo>
                    <a:lnTo>
                      <a:pt x="148" y="2"/>
                    </a:lnTo>
                    <a:lnTo>
                      <a:pt x="148" y="4"/>
                    </a:lnTo>
                    <a:lnTo>
                      <a:pt x="91" y="4"/>
                    </a:lnTo>
                    <a:lnTo>
                      <a:pt x="90" y="2"/>
                    </a:lnTo>
                    <a:lnTo>
                      <a:pt x="90" y="1"/>
                    </a:lnTo>
                    <a:lnTo>
                      <a:pt x="88" y="1"/>
                    </a:lnTo>
                    <a:lnTo>
                      <a:pt x="86" y="0"/>
                    </a:lnTo>
                    <a:lnTo>
                      <a:pt x="85" y="1"/>
                    </a:lnTo>
                    <a:lnTo>
                      <a:pt x="83" y="1"/>
                    </a:lnTo>
                    <a:lnTo>
                      <a:pt x="82" y="2"/>
                    </a:lnTo>
                    <a:lnTo>
                      <a:pt x="82" y="4"/>
                    </a:lnTo>
                    <a:lnTo>
                      <a:pt x="0" y="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6420600" y="2482200"/>
                <a:ext cx="1224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589" name=""/>
              <p:cNvSpPr/>
              <p:nvPr/>
            </p:nvSpPr>
            <p:spPr>
              <a:xfrm>
                <a:off x="4625280" y="2522160"/>
                <a:ext cx="1656720" cy="878760"/>
              </a:xfrm>
              <a:custGeom>
                <a:avLst/>
                <a:gdLst/>
                <a:ahLst/>
                <a:rect l="l" t="t" r="r" b="b"/>
                <a:pathLst>
                  <a:path w="1565" h="658">
                    <a:moveTo>
                      <a:pt x="0" y="658"/>
                    </a:moveTo>
                    <a:lnTo>
                      <a:pt x="8" y="658"/>
                    </a:lnTo>
                    <a:lnTo>
                      <a:pt x="8" y="6"/>
                    </a:lnTo>
                    <a:lnTo>
                      <a:pt x="28" y="6"/>
                    </a:lnTo>
                    <a:lnTo>
                      <a:pt x="29" y="5"/>
                    </a:lnTo>
                    <a:lnTo>
                      <a:pt x="30" y="4"/>
                    </a:lnTo>
                    <a:lnTo>
                      <a:pt x="31" y="3"/>
                    </a:lnTo>
                    <a:lnTo>
                      <a:pt x="33" y="3"/>
                    </a:lnTo>
                    <a:lnTo>
                      <a:pt x="34" y="3"/>
                    </a:lnTo>
                    <a:lnTo>
                      <a:pt x="36" y="4"/>
                    </a:lnTo>
                    <a:lnTo>
                      <a:pt x="37" y="5"/>
                    </a:lnTo>
                    <a:lnTo>
                      <a:pt x="37" y="6"/>
                    </a:lnTo>
                    <a:lnTo>
                      <a:pt x="46" y="6"/>
                    </a:lnTo>
                    <a:lnTo>
                      <a:pt x="47" y="5"/>
                    </a:lnTo>
                    <a:lnTo>
                      <a:pt x="48" y="4"/>
                    </a:lnTo>
                    <a:lnTo>
                      <a:pt x="49" y="3"/>
                    </a:lnTo>
                    <a:lnTo>
                      <a:pt x="51" y="3"/>
                    </a:lnTo>
                    <a:lnTo>
                      <a:pt x="53" y="3"/>
                    </a:lnTo>
                    <a:lnTo>
                      <a:pt x="54" y="4"/>
                    </a:lnTo>
                    <a:lnTo>
                      <a:pt x="55" y="5"/>
                    </a:lnTo>
                    <a:lnTo>
                      <a:pt x="55" y="6"/>
                    </a:lnTo>
                    <a:lnTo>
                      <a:pt x="204" y="6"/>
                    </a:lnTo>
                    <a:lnTo>
                      <a:pt x="204" y="5"/>
                    </a:lnTo>
                    <a:lnTo>
                      <a:pt x="205" y="4"/>
                    </a:lnTo>
                    <a:lnTo>
                      <a:pt x="206" y="3"/>
                    </a:lnTo>
                    <a:lnTo>
                      <a:pt x="208" y="3"/>
                    </a:lnTo>
                    <a:lnTo>
                      <a:pt x="210" y="3"/>
                    </a:lnTo>
                    <a:lnTo>
                      <a:pt x="211" y="4"/>
                    </a:lnTo>
                    <a:lnTo>
                      <a:pt x="212" y="5"/>
                    </a:lnTo>
                    <a:lnTo>
                      <a:pt x="213" y="6"/>
                    </a:lnTo>
                    <a:lnTo>
                      <a:pt x="383" y="6"/>
                    </a:lnTo>
                    <a:lnTo>
                      <a:pt x="383" y="5"/>
                    </a:lnTo>
                    <a:lnTo>
                      <a:pt x="384" y="4"/>
                    </a:lnTo>
                    <a:lnTo>
                      <a:pt x="386" y="3"/>
                    </a:lnTo>
                    <a:lnTo>
                      <a:pt x="387" y="3"/>
                    </a:lnTo>
                    <a:lnTo>
                      <a:pt x="389" y="3"/>
                    </a:lnTo>
                    <a:lnTo>
                      <a:pt x="390" y="4"/>
                    </a:lnTo>
                    <a:lnTo>
                      <a:pt x="391" y="5"/>
                    </a:lnTo>
                    <a:lnTo>
                      <a:pt x="392" y="6"/>
                    </a:lnTo>
                    <a:lnTo>
                      <a:pt x="396" y="6"/>
                    </a:lnTo>
                    <a:lnTo>
                      <a:pt x="397" y="5"/>
                    </a:lnTo>
                    <a:lnTo>
                      <a:pt x="398" y="4"/>
                    </a:lnTo>
                    <a:lnTo>
                      <a:pt x="399" y="3"/>
                    </a:lnTo>
                    <a:lnTo>
                      <a:pt x="401" y="3"/>
                    </a:lnTo>
                    <a:lnTo>
                      <a:pt x="402" y="3"/>
                    </a:lnTo>
                    <a:lnTo>
                      <a:pt x="404" y="4"/>
                    </a:lnTo>
                    <a:lnTo>
                      <a:pt x="405" y="5"/>
                    </a:lnTo>
                    <a:lnTo>
                      <a:pt x="405" y="6"/>
                    </a:lnTo>
                    <a:lnTo>
                      <a:pt x="431" y="6"/>
                    </a:lnTo>
                    <a:lnTo>
                      <a:pt x="431" y="5"/>
                    </a:lnTo>
                    <a:lnTo>
                      <a:pt x="432" y="4"/>
                    </a:lnTo>
                    <a:lnTo>
                      <a:pt x="433" y="3"/>
                    </a:lnTo>
                    <a:lnTo>
                      <a:pt x="435" y="3"/>
                    </a:lnTo>
                    <a:lnTo>
                      <a:pt x="437" y="3"/>
                    </a:lnTo>
                    <a:lnTo>
                      <a:pt x="438" y="4"/>
                    </a:lnTo>
                    <a:lnTo>
                      <a:pt x="439" y="5"/>
                    </a:lnTo>
                    <a:lnTo>
                      <a:pt x="440" y="6"/>
                    </a:lnTo>
                    <a:lnTo>
                      <a:pt x="446" y="6"/>
                    </a:lnTo>
                    <a:lnTo>
                      <a:pt x="446" y="5"/>
                    </a:lnTo>
                    <a:lnTo>
                      <a:pt x="447" y="4"/>
                    </a:lnTo>
                    <a:lnTo>
                      <a:pt x="449" y="3"/>
                    </a:lnTo>
                    <a:lnTo>
                      <a:pt x="451" y="3"/>
                    </a:lnTo>
                    <a:lnTo>
                      <a:pt x="452" y="3"/>
                    </a:lnTo>
                    <a:lnTo>
                      <a:pt x="454" y="4"/>
                    </a:lnTo>
                    <a:lnTo>
                      <a:pt x="455" y="5"/>
                    </a:lnTo>
                    <a:lnTo>
                      <a:pt x="455" y="6"/>
                    </a:lnTo>
                    <a:lnTo>
                      <a:pt x="578" y="6"/>
                    </a:lnTo>
                    <a:lnTo>
                      <a:pt x="579" y="5"/>
                    </a:lnTo>
                    <a:lnTo>
                      <a:pt x="580" y="4"/>
                    </a:lnTo>
                    <a:lnTo>
                      <a:pt x="581" y="3"/>
                    </a:lnTo>
                    <a:lnTo>
                      <a:pt x="583" y="3"/>
                    </a:lnTo>
                    <a:lnTo>
                      <a:pt x="585" y="3"/>
                    </a:lnTo>
                    <a:lnTo>
                      <a:pt x="586" y="4"/>
                    </a:lnTo>
                    <a:lnTo>
                      <a:pt x="587" y="5"/>
                    </a:lnTo>
                    <a:lnTo>
                      <a:pt x="587" y="6"/>
                    </a:lnTo>
                    <a:lnTo>
                      <a:pt x="639" y="6"/>
                    </a:lnTo>
                    <a:lnTo>
                      <a:pt x="639" y="5"/>
                    </a:lnTo>
                    <a:lnTo>
                      <a:pt x="640" y="4"/>
                    </a:lnTo>
                    <a:lnTo>
                      <a:pt x="642" y="3"/>
                    </a:lnTo>
                    <a:lnTo>
                      <a:pt x="644" y="3"/>
                    </a:lnTo>
                    <a:lnTo>
                      <a:pt x="645" y="3"/>
                    </a:lnTo>
                    <a:lnTo>
                      <a:pt x="647" y="4"/>
                    </a:lnTo>
                    <a:lnTo>
                      <a:pt x="648" y="5"/>
                    </a:lnTo>
                    <a:lnTo>
                      <a:pt x="648" y="6"/>
                    </a:lnTo>
                    <a:lnTo>
                      <a:pt x="691" y="6"/>
                    </a:lnTo>
                    <a:lnTo>
                      <a:pt x="692" y="5"/>
                    </a:lnTo>
                    <a:lnTo>
                      <a:pt x="693" y="4"/>
                    </a:lnTo>
                    <a:lnTo>
                      <a:pt x="694" y="3"/>
                    </a:lnTo>
                    <a:lnTo>
                      <a:pt x="696" y="3"/>
                    </a:lnTo>
                    <a:lnTo>
                      <a:pt x="698" y="3"/>
                    </a:lnTo>
                    <a:lnTo>
                      <a:pt x="699" y="4"/>
                    </a:lnTo>
                    <a:lnTo>
                      <a:pt x="700" y="5"/>
                    </a:lnTo>
                    <a:lnTo>
                      <a:pt x="700" y="6"/>
                    </a:lnTo>
                    <a:lnTo>
                      <a:pt x="720" y="6"/>
                    </a:lnTo>
                    <a:lnTo>
                      <a:pt x="721" y="5"/>
                    </a:lnTo>
                    <a:lnTo>
                      <a:pt x="721" y="4"/>
                    </a:lnTo>
                    <a:lnTo>
                      <a:pt x="723" y="3"/>
                    </a:lnTo>
                    <a:lnTo>
                      <a:pt x="725" y="3"/>
                    </a:lnTo>
                    <a:lnTo>
                      <a:pt x="726" y="3"/>
                    </a:lnTo>
                    <a:lnTo>
                      <a:pt x="728" y="4"/>
                    </a:lnTo>
                    <a:lnTo>
                      <a:pt x="729" y="5"/>
                    </a:lnTo>
                    <a:lnTo>
                      <a:pt x="729" y="6"/>
                    </a:lnTo>
                    <a:lnTo>
                      <a:pt x="754" y="6"/>
                    </a:lnTo>
                    <a:lnTo>
                      <a:pt x="754" y="5"/>
                    </a:lnTo>
                    <a:lnTo>
                      <a:pt x="755" y="4"/>
                    </a:lnTo>
                    <a:lnTo>
                      <a:pt x="757" y="3"/>
                    </a:lnTo>
                    <a:lnTo>
                      <a:pt x="758" y="3"/>
                    </a:lnTo>
                    <a:lnTo>
                      <a:pt x="760" y="3"/>
                    </a:lnTo>
                    <a:lnTo>
                      <a:pt x="762" y="4"/>
                    </a:lnTo>
                    <a:lnTo>
                      <a:pt x="763" y="5"/>
                    </a:lnTo>
                    <a:lnTo>
                      <a:pt x="763" y="6"/>
                    </a:lnTo>
                    <a:lnTo>
                      <a:pt x="774" y="6"/>
                    </a:lnTo>
                    <a:lnTo>
                      <a:pt x="775" y="5"/>
                    </a:lnTo>
                    <a:lnTo>
                      <a:pt x="775" y="4"/>
                    </a:lnTo>
                    <a:lnTo>
                      <a:pt x="777" y="3"/>
                    </a:lnTo>
                    <a:lnTo>
                      <a:pt x="779" y="3"/>
                    </a:lnTo>
                    <a:lnTo>
                      <a:pt x="780" y="3"/>
                    </a:lnTo>
                    <a:lnTo>
                      <a:pt x="782" y="4"/>
                    </a:lnTo>
                    <a:lnTo>
                      <a:pt x="783" y="5"/>
                    </a:lnTo>
                    <a:lnTo>
                      <a:pt x="783" y="6"/>
                    </a:lnTo>
                    <a:lnTo>
                      <a:pt x="796" y="6"/>
                    </a:lnTo>
                    <a:lnTo>
                      <a:pt x="796" y="5"/>
                    </a:lnTo>
                    <a:lnTo>
                      <a:pt x="797" y="4"/>
                    </a:lnTo>
                    <a:lnTo>
                      <a:pt x="798" y="3"/>
                    </a:lnTo>
                    <a:lnTo>
                      <a:pt x="800" y="3"/>
                    </a:lnTo>
                    <a:lnTo>
                      <a:pt x="802" y="3"/>
                    </a:lnTo>
                    <a:lnTo>
                      <a:pt x="803" y="4"/>
                    </a:lnTo>
                    <a:lnTo>
                      <a:pt x="804" y="5"/>
                    </a:lnTo>
                    <a:lnTo>
                      <a:pt x="805" y="6"/>
                    </a:lnTo>
                    <a:lnTo>
                      <a:pt x="827" y="6"/>
                    </a:lnTo>
                    <a:lnTo>
                      <a:pt x="827" y="5"/>
                    </a:lnTo>
                    <a:lnTo>
                      <a:pt x="828" y="4"/>
                    </a:lnTo>
                    <a:lnTo>
                      <a:pt x="830" y="3"/>
                    </a:lnTo>
                    <a:lnTo>
                      <a:pt x="831" y="3"/>
                    </a:lnTo>
                    <a:lnTo>
                      <a:pt x="833" y="3"/>
                    </a:lnTo>
                    <a:lnTo>
                      <a:pt x="835" y="4"/>
                    </a:lnTo>
                    <a:lnTo>
                      <a:pt x="835" y="5"/>
                    </a:lnTo>
                    <a:lnTo>
                      <a:pt x="836" y="6"/>
                    </a:lnTo>
                    <a:lnTo>
                      <a:pt x="855" y="6"/>
                    </a:lnTo>
                    <a:lnTo>
                      <a:pt x="855" y="5"/>
                    </a:lnTo>
                    <a:lnTo>
                      <a:pt x="856" y="4"/>
                    </a:lnTo>
                    <a:lnTo>
                      <a:pt x="857" y="3"/>
                    </a:lnTo>
                    <a:lnTo>
                      <a:pt x="859" y="3"/>
                    </a:lnTo>
                    <a:lnTo>
                      <a:pt x="861" y="3"/>
                    </a:lnTo>
                    <a:lnTo>
                      <a:pt x="862" y="4"/>
                    </a:lnTo>
                    <a:lnTo>
                      <a:pt x="863" y="5"/>
                    </a:lnTo>
                    <a:lnTo>
                      <a:pt x="864" y="6"/>
                    </a:lnTo>
                    <a:lnTo>
                      <a:pt x="920" y="6"/>
                    </a:lnTo>
                    <a:lnTo>
                      <a:pt x="921" y="5"/>
                    </a:lnTo>
                    <a:lnTo>
                      <a:pt x="922" y="4"/>
                    </a:lnTo>
                    <a:lnTo>
                      <a:pt x="923" y="3"/>
                    </a:lnTo>
                    <a:lnTo>
                      <a:pt x="925" y="3"/>
                    </a:lnTo>
                    <a:lnTo>
                      <a:pt x="927" y="3"/>
                    </a:lnTo>
                    <a:lnTo>
                      <a:pt x="928" y="4"/>
                    </a:lnTo>
                    <a:lnTo>
                      <a:pt x="929" y="5"/>
                    </a:lnTo>
                    <a:lnTo>
                      <a:pt x="929" y="6"/>
                    </a:lnTo>
                    <a:lnTo>
                      <a:pt x="1071" y="6"/>
                    </a:lnTo>
                    <a:lnTo>
                      <a:pt x="1071" y="5"/>
                    </a:lnTo>
                    <a:lnTo>
                      <a:pt x="1072" y="4"/>
                    </a:lnTo>
                    <a:lnTo>
                      <a:pt x="1073" y="3"/>
                    </a:lnTo>
                    <a:lnTo>
                      <a:pt x="1075" y="3"/>
                    </a:lnTo>
                    <a:lnTo>
                      <a:pt x="1077" y="3"/>
                    </a:lnTo>
                    <a:lnTo>
                      <a:pt x="1078" y="4"/>
                    </a:lnTo>
                    <a:lnTo>
                      <a:pt x="1079" y="5"/>
                    </a:lnTo>
                    <a:lnTo>
                      <a:pt x="1080" y="6"/>
                    </a:lnTo>
                    <a:lnTo>
                      <a:pt x="1092" y="6"/>
                    </a:lnTo>
                    <a:lnTo>
                      <a:pt x="1093" y="5"/>
                    </a:lnTo>
                    <a:lnTo>
                      <a:pt x="1094" y="4"/>
                    </a:lnTo>
                    <a:lnTo>
                      <a:pt x="1095" y="3"/>
                    </a:lnTo>
                    <a:lnTo>
                      <a:pt x="1097" y="3"/>
                    </a:lnTo>
                    <a:lnTo>
                      <a:pt x="1099" y="3"/>
                    </a:lnTo>
                    <a:lnTo>
                      <a:pt x="1100" y="4"/>
                    </a:lnTo>
                    <a:lnTo>
                      <a:pt x="1101" y="5"/>
                    </a:lnTo>
                    <a:lnTo>
                      <a:pt x="1101" y="6"/>
                    </a:lnTo>
                    <a:lnTo>
                      <a:pt x="1178" y="6"/>
                    </a:lnTo>
                    <a:lnTo>
                      <a:pt x="1178" y="5"/>
                    </a:lnTo>
                    <a:lnTo>
                      <a:pt x="1179" y="4"/>
                    </a:lnTo>
                    <a:lnTo>
                      <a:pt x="1181" y="3"/>
                    </a:lnTo>
                    <a:lnTo>
                      <a:pt x="1182" y="3"/>
                    </a:lnTo>
                    <a:lnTo>
                      <a:pt x="1184" y="3"/>
                    </a:lnTo>
                    <a:lnTo>
                      <a:pt x="1186" y="4"/>
                    </a:lnTo>
                    <a:lnTo>
                      <a:pt x="1187" y="5"/>
                    </a:lnTo>
                    <a:lnTo>
                      <a:pt x="1187" y="6"/>
                    </a:lnTo>
                    <a:lnTo>
                      <a:pt x="1193" y="6"/>
                    </a:lnTo>
                    <a:lnTo>
                      <a:pt x="1193" y="5"/>
                    </a:lnTo>
                    <a:lnTo>
                      <a:pt x="1194" y="4"/>
                    </a:lnTo>
                    <a:lnTo>
                      <a:pt x="1196" y="3"/>
                    </a:lnTo>
                    <a:lnTo>
                      <a:pt x="1197" y="3"/>
                    </a:lnTo>
                    <a:lnTo>
                      <a:pt x="1199" y="3"/>
                    </a:lnTo>
                    <a:lnTo>
                      <a:pt x="1201" y="4"/>
                    </a:lnTo>
                    <a:lnTo>
                      <a:pt x="1202" y="5"/>
                    </a:lnTo>
                    <a:lnTo>
                      <a:pt x="1202" y="6"/>
                    </a:lnTo>
                    <a:lnTo>
                      <a:pt x="1211" y="6"/>
                    </a:lnTo>
                    <a:lnTo>
                      <a:pt x="1211" y="5"/>
                    </a:lnTo>
                    <a:lnTo>
                      <a:pt x="1212" y="4"/>
                    </a:lnTo>
                    <a:lnTo>
                      <a:pt x="1214" y="3"/>
                    </a:lnTo>
                    <a:lnTo>
                      <a:pt x="1216" y="3"/>
                    </a:lnTo>
                    <a:lnTo>
                      <a:pt x="1217" y="3"/>
                    </a:lnTo>
                    <a:lnTo>
                      <a:pt x="1219" y="4"/>
                    </a:lnTo>
                    <a:lnTo>
                      <a:pt x="1220" y="5"/>
                    </a:lnTo>
                    <a:lnTo>
                      <a:pt x="1220" y="6"/>
                    </a:lnTo>
                    <a:lnTo>
                      <a:pt x="1238" y="6"/>
                    </a:lnTo>
                    <a:lnTo>
                      <a:pt x="1239" y="5"/>
                    </a:lnTo>
                    <a:lnTo>
                      <a:pt x="1240" y="4"/>
                    </a:lnTo>
                    <a:lnTo>
                      <a:pt x="1241" y="3"/>
                    </a:lnTo>
                    <a:lnTo>
                      <a:pt x="1243" y="3"/>
                    </a:lnTo>
                    <a:lnTo>
                      <a:pt x="1245" y="3"/>
                    </a:lnTo>
                    <a:lnTo>
                      <a:pt x="1246" y="4"/>
                    </a:lnTo>
                    <a:lnTo>
                      <a:pt x="1247" y="5"/>
                    </a:lnTo>
                    <a:lnTo>
                      <a:pt x="1247" y="6"/>
                    </a:lnTo>
                    <a:lnTo>
                      <a:pt x="1259" y="6"/>
                    </a:lnTo>
                    <a:lnTo>
                      <a:pt x="1259" y="5"/>
                    </a:lnTo>
                    <a:lnTo>
                      <a:pt x="1260" y="4"/>
                    </a:lnTo>
                    <a:lnTo>
                      <a:pt x="1261" y="3"/>
                    </a:lnTo>
                    <a:lnTo>
                      <a:pt x="1263" y="3"/>
                    </a:lnTo>
                    <a:lnTo>
                      <a:pt x="1265" y="3"/>
                    </a:lnTo>
                    <a:lnTo>
                      <a:pt x="1266" y="4"/>
                    </a:lnTo>
                    <a:lnTo>
                      <a:pt x="1267" y="5"/>
                    </a:lnTo>
                    <a:lnTo>
                      <a:pt x="1268" y="6"/>
                    </a:lnTo>
                    <a:lnTo>
                      <a:pt x="1339" y="6"/>
                    </a:lnTo>
                    <a:lnTo>
                      <a:pt x="1339" y="5"/>
                    </a:lnTo>
                    <a:lnTo>
                      <a:pt x="1340" y="4"/>
                    </a:lnTo>
                    <a:lnTo>
                      <a:pt x="1341" y="3"/>
                    </a:lnTo>
                    <a:lnTo>
                      <a:pt x="1343" y="3"/>
                    </a:lnTo>
                    <a:lnTo>
                      <a:pt x="1345" y="3"/>
                    </a:lnTo>
                    <a:lnTo>
                      <a:pt x="1346" y="4"/>
                    </a:lnTo>
                    <a:lnTo>
                      <a:pt x="1347" y="5"/>
                    </a:lnTo>
                    <a:lnTo>
                      <a:pt x="1348" y="6"/>
                    </a:lnTo>
                    <a:lnTo>
                      <a:pt x="1366" y="6"/>
                    </a:lnTo>
                    <a:lnTo>
                      <a:pt x="1367" y="5"/>
                    </a:lnTo>
                    <a:lnTo>
                      <a:pt x="1368" y="4"/>
                    </a:lnTo>
                    <a:lnTo>
                      <a:pt x="1369" y="3"/>
                    </a:lnTo>
                    <a:lnTo>
                      <a:pt x="1371" y="3"/>
                    </a:lnTo>
                    <a:lnTo>
                      <a:pt x="1373" y="3"/>
                    </a:lnTo>
                    <a:lnTo>
                      <a:pt x="1374" y="4"/>
                    </a:lnTo>
                    <a:lnTo>
                      <a:pt x="1375" y="5"/>
                    </a:lnTo>
                    <a:lnTo>
                      <a:pt x="1375" y="6"/>
                    </a:lnTo>
                    <a:lnTo>
                      <a:pt x="1394" y="6"/>
                    </a:lnTo>
                    <a:lnTo>
                      <a:pt x="1394" y="5"/>
                    </a:lnTo>
                    <a:lnTo>
                      <a:pt x="1395" y="4"/>
                    </a:lnTo>
                    <a:lnTo>
                      <a:pt x="1397" y="3"/>
                    </a:lnTo>
                    <a:lnTo>
                      <a:pt x="1398" y="3"/>
                    </a:lnTo>
                    <a:lnTo>
                      <a:pt x="1400" y="3"/>
                    </a:lnTo>
                    <a:lnTo>
                      <a:pt x="1401" y="4"/>
                    </a:lnTo>
                    <a:lnTo>
                      <a:pt x="1402" y="5"/>
                    </a:lnTo>
                    <a:lnTo>
                      <a:pt x="1403" y="6"/>
                    </a:lnTo>
                    <a:lnTo>
                      <a:pt x="1412" y="6"/>
                    </a:lnTo>
                    <a:lnTo>
                      <a:pt x="1412" y="5"/>
                    </a:lnTo>
                    <a:lnTo>
                      <a:pt x="1413" y="3"/>
                    </a:lnTo>
                    <a:lnTo>
                      <a:pt x="1415" y="2"/>
                    </a:lnTo>
                    <a:lnTo>
                      <a:pt x="1416" y="1"/>
                    </a:lnTo>
                    <a:lnTo>
                      <a:pt x="1418" y="1"/>
                    </a:lnTo>
                    <a:lnTo>
                      <a:pt x="1420" y="1"/>
                    </a:lnTo>
                    <a:lnTo>
                      <a:pt x="1422" y="2"/>
                    </a:lnTo>
                    <a:lnTo>
                      <a:pt x="1424" y="3"/>
                    </a:lnTo>
                    <a:lnTo>
                      <a:pt x="1425" y="5"/>
                    </a:lnTo>
                    <a:lnTo>
                      <a:pt x="1425" y="6"/>
                    </a:lnTo>
                    <a:lnTo>
                      <a:pt x="1431" y="6"/>
                    </a:lnTo>
                    <a:lnTo>
                      <a:pt x="1431" y="5"/>
                    </a:lnTo>
                    <a:lnTo>
                      <a:pt x="1432" y="4"/>
                    </a:lnTo>
                    <a:lnTo>
                      <a:pt x="1433" y="3"/>
                    </a:lnTo>
                    <a:lnTo>
                      <a:pt x="1435" y="3"/>
                    </a:lnTo>
                    <a:lnTo>
                      <a:pt x="1437" y="3"/>
                    </a:lnTo>
                    <a:lnTo>
                      <a:pt x="1438" y="4"/>
                    </a:lnTo>
                    <a:lnTo>
                      <a:pt x="1439" y="5"/>
                    </a:lnTo>
                    <a:lnTo>
                      <a:pt x="1439" y="6"/>
                    </a:lnTo>
                    <a:lnTo>
                      <a:pt x="1444" y="6"/>
                    </a:lnTo>
                    <a:lnTo>
                      <a:pt x="1444" y="5"/>
                    </a:lnTo>
                    <a:lnTo>
                      <a:pt x="1445" y="4"/>
                    </a:lnTo>
                    <a:lnTo>
                      <a:pt x="1447" y="3"/>
                    </a:lnTo>
                    <a:lnTo>
                      <a:pt x="1449" y="3"/>
                    </a:lnTo>
                    <a:lnTo>
                      <a:pt x="1450" y="3"/>
                    </a:lnTo>
                    <a:lnTo>
                      <a:pt x="1452" y="4"/>
                    </a:lnTo>
                    <a:lnTo>
                      <a:pt x="1453" y="5"/>
                    </a:lnTo>
                    <a:lnTo>
                      <a:pt x="1453" y="6"/>
                    </a:lnTo>
                    <a:lnTo>
                      <a:pt x="1468" y="6"/>
                    </a:lnTo>
                    <a:lnTo>
                      <a:pt x="1468" y="5"/>
                    </a:lnTo>
                    <a:lnTo>
                      <a:pt x="1469" y="3"/>
                    </a:lnTo>
                    <a:lnTo>
                      <a:pt x="1470" y="2"/>
                    </a:lnTo>
                    <a:lnTo>
                      <a:pt x="1472" y="1"/>
                    </a:lnTo>
                    <a:lnTo>
                      <a:pt x="1474" y="0"/>
                    </a:lnTo>
                    <a:lnTo>
                      <a:pt x="1476" y="0"/>
                    </a:lnTo>
                    <a:lnTo>
                      <a:pt x="1479" y="1"/>
                    </a:lnTo>
                    <a:lnTo>
                      <a:pt x="1481" y="2"/>
                    </a:lnTo>
                    <a:lnTo>
                      <a:pt x="1482" y="3"/>
                    </a:lnTo>
                    <a:lnTo>
                      <a:pt x="1483" y="5"/>
                    </a:lnTo>
                    <a:lnTo>
                      <a:pt x="1483" y="6"/>
                    </a:lnTo>
                    <a:lnTo>
                      <a:pt x="1488" y="6"/>
                    </a:lnTo>
                    <a:lnTo>
                      <a:pt x="1488" y="5"/>
                    </a:lnTo>
                    <a:lnTo>
                      <a:pt x="1489" y="3"/>
                    </a:lnTo>
                    <a:lnTo>
                      <a:pt x="1491" y="2"/>
                    </a:lnTo>
                    <a:lnTo>
                      <a:pt x="1493" y="1"/>
                    </a:lnTo>
                    <a:lnTo>
                      <a:pt x="1495" y="0"/>
                    </a:lnTo>
                    <a:lnTo>
                      <a:pt x="1497" y="0"/>
                    </a:lnTo>
                    <a:lnTo>
                      <a:pt x="1499" y="1"/>
                    </a:lnTo>
                    <a:lnTo>
                      <a:pt x="1501" y="2"/>
                    </a:lnTo>
                    <a:lnTo>
                      <a:pt x="1502" y="3"/>
                    </a:lnTo>
                    <a:lnTo>
                      <a:pt x="1503" y="5"/>
                    </a:lnTo>
                    <a:lnTo>
                      <a:pt x="1504" y="6"/>
                    </a:lnTo>
                    <a:lnTo>
                      <a:pt x="1545" y="6"/>
                    </a:lnTo>
                    <a:lnTo>
                      <a:pt x="1545" y="5"/>
                    </a:lnTo>
                    <a:lnTo>
                      <a:pt x="1546" y="3"/>
                    </a:lnTo>
                    <a:lnTo>
                      <a:pt x="1547" y="2"/>
                    </a:lnTo>
                    <a:lnTo>
                      <a:pt x="1549" y="1"/>
                    </a:lnTo>
                    <a:lnTo>
                      <a:pt x="1552" y="0"/>
                    </a:lnTo>
                    <a:lnTo>
                      <a:pt x="1554" y="0"/>
                    </a:lnTo>
                    <a:lnTo>
                      <a:pt x="1556" y="1"/>
                    </a:lnTo>
                    <a:lnTo>
                      <a:pt x="1558" y="2"/>
                    </a:lnTo>
                    <a:lnTo>
                      <a:pt x="1559" y="3"/>
                    </a:lnTo>
                    <a:lnTo>
                      <a:pt x="1560" y="5"/>
                    </a:lnTo>
                    <a:lnTo>
                      <a:pt x="1560" y="6"/>
                    </a:lnTo>
                    <a:lnTo>
                      <a:pt x="1565" y="6"/>
                    </a:lnTo>
                  </a:path>
                </a:pathLst>
              </a:custGeom>
              <a:noFill/>
              <a:ln w="1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612320" y="339444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1" name=""/>
              <p:cNvSpPr/>
              <p:nvPr/>
            </p:nvSpPr>
            <p:spPr>
              <a:xfrm>
                <a:off x="6279840" y="2525040"/>
                <a:ext cx="14760" cy="11880"/>
              </a:xfrm>
              <a:custGeom>
                <a:avLst/>
                <a:gdLst/>
                <a:ahLst/>
                <a:rect l="l" t="t" r="r" b="b"/>
                <a:pathLst>
                  <a:path w="14" h="9">
                    <a:moveTo>
                      <a:pt x="2" y="0"/>
                    </a:moveTo>
                    <a:lnTo>
                      <a:pt x="14" y="4"/>
                    </a:lnTo>
                    <a:lnTo>
                      <a:pt x="2" y="9"/>
                    </a:lnTo>
                    <a:lnTo>
                      <a:pt x="1" y="7"/>
                    </a:lnTo>
                    <a:lnTo>
                      <a:pt x="0" y="4"/>
                    </a:lnTo>
                    <a:lnTo>
                      <a:pt x="1" y="2"/>
                    </a:lnTo>
                    <a:lnTo>
                      <a:pt x="2" y="0"/>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2" name=""/>
              <p:cNvSpPr/>
              <p:nvPr/>
            </p:nvSpPr>
            <p:spPr>
              <a:xfrm>
                <a:off x="3938040" y="3285000"/>
                <a:ext cx="139680" cy="56160"/>
              </a:xfrm>
              <a:prstGeom prst="rect">
                <a:avLst/>
              </a:prstGeom>
              <a:blipFill rotWithShape="0">
                <a:blip r:embed="rId143"/>
                <a:srcRect/>
                <a:tile tx="0" ty="0" sx="100000" sy="100000" algn="ctr"/>
              </a:blip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3" name=""/>
              <p:cNvSpPr/>
              <p:nvPr/>
            </p:nvSpPr>
            <p:spPr>
              <a:xfrm>
                <a:off x="3953880" y="3294360"/>
                <a:ext cx="142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odigy</a:t>
                </a:r>
                <a:endParaRPr b="0" lang="en-US" sz="300" spc="-1" strike="noStrike">
                  <a:solidFill>
                    <a:srgbClr val="ffffff"/>
                  </a:solidFill>
                  <a:latin typeface="Arial"/>
                </a:endParaRPr>
              </a:p>
            </p:txBody>
          </p:sp>
          <p:sp>
            <p:nvSpPr>
              <p:cNvPr id="1594" name=""/>
              <p:cNvSpPr/>
              <p:nvPr/>
            </p:nvSpPr>
            <p:spPr>
              <a:xfrm>
                <a:off x="4090320" y="3300840"/>
                <a:ext cx="392760" cy="58680"/>
              </a:xfrm>
              <a:custGeom>
                <a:avLst/>
                <a:gdLst/>
                <a:ahLst/>
                <a:rect l="l" t="t" r="r" b="b"/>
                <a:pathLst>
                  <a:path w="371" h="44">
                    <a:moveTo>
                      <a:pt x="0" y="4"/>
                    </a:moveTo>
                    <a:lnTo>
                      <a:pt x="29" y="4"/>
                    </a:lnTo>
                    <a:lnTo>
                      <a:pt x="29" y="2"/>
                    </a:lnTo>
                    <a:lnTo>
                      <a:pt x="30" y="1"/>
                    </a:lnTo>
                    <a:lnTo>
                      <a:pt x="32" y="0"/>
                    </a:lnTo>
                    <a:lnTo>
                      <a:pt x="34" y="0"/>
                    </a:lnTo>
                    <a:lnTo>
                      <a:pt x="35" y="0"/>
                    </a:lnTo>
                    <a:lnTo>
                      <a:pt x="37" y="1"/>
                    </a:lnTo>
                    <a:lnTo>
                      <a:pt x="38" y="2"/>
                    </a:lnTo>
                    <a:lnTo>
                      <a:pt x="38" y="4"/>
                    </a:lnTo>
                    <a:lnTo>
                      <a:pt x="104" y="4"/>
                    </a:lnTo>
                    <a:lnTo>
                      <a:pt x="104" y="2"/>
                    </a:lnTo>
                    <a:lnTo>
                      <a:pt x="105" y="1"/>
                    </a:lnTo>
                    <a:lnTo>
                      <a:pt x="106" y="0"/>
                    </a:lnTo>
                    <a:lnTo>
                      <a:pt x="108" y="0"/>
                    </a:lnTo>
                    <a:lnTo>
                      <a:pt x="110" y="0"/>
                    </a:lnTo>
                    <a:lnTo>
                      <a:pt x="111" y="1"/>
                    </a:lnTo>
                    <a:lnTo>
                      <a:pt x="112" y="2"/>
                    </a:lnTo>
                    <a:lnTo>
                      <a:pt x="113" y="4"/>
                    </a:lnTo>
                    <a:lnTo>
                      <a:pt x="133" y="4"/>
                    </a:lnTo>
                    <a:lnTo>
                      <a:pt x="133" y="2"/>
                    </a:lnTo>
                    <a:lnTo>
                      <a:pt x="134" y="1"/>
                    </a:lnTo>
                    <a:lnTo>
                      <a:pt x="135" y="0"/>
                    </a:lnTo>
                    <a:lnTo>
                      <a:pt x="137" y="0"/>
                    </a:lnTo>
                    <a:lnTo>
                      <a:pt x="139" y="0"/>
                    </a:lnTo>
                    <a:lnTo>
                      <a:pt x="140" y="1"/>
                    </a:lnTo>
                    <a:lnTo>
                      <a:pt x="141" y="2"/>
                    </a:lnTo>
                    <a:lnTo>
                      <a:pt x="142" y="4"/>
                    </a:lnTo>
                    <a:lnTo>
                      <a:pt x="165" y="4"/>
                    </a:lnTo>
                    <a:lnTo>
                      <a:pt x="165" y="44"/>
                    </a:lnTo>
                    <a:lnTo>
                      <a:pt x="193" y="44"/>
                    </a:lnTo>
                    <a:lnTo>
                      <a:pt x="194" y="43"/>
                    </a:lnTo>
                    <a:lnTo>
                      <a:pt x="195" y="42"/>
                    </a:lnTo>
                    <a:lnTo>
                      <a:pt x="196" y="41"/>
                    </a:lnTo>
                    <a:lnTo>
                      <a:pt x="198" y="41"/>
                    </a:lnTo>
                    <a:lnTo>
                      <a:pt x="200" y="41"/>
                    </a:lnTo>
                    <a:lnTo>
                      <a:pt x="201" y="42"/>
                    </a:lnTo>
                    <a:lnTo>
                      <a:pt x="202" y="43"/>
                    </a:lnTo>
                    <a:lnTo>
                      <a:pt x="202" y="44"/>
                    </a:lnTo>
                    <a:lnTo>
                      <a:pt x="223" y="44"/>
                    </a:lnTo>
                    <a:lnTo>
                      <a:pt x="224" y="43"/>
                    </a:lnTo>
                    <a:lnTo>
                      <a:pt x="225" y="42"/>
                    </a:lnTo>
                    <a:lnTo>
                      <a:pt x="226" y="41"/>
                    </a:lnTo>
                    <a:lnTo>
                      <a:pt x="228" y="41"/>
                    </a:lnTo>
                    <a:lnTo>
                      <a:pt x="229" y="41"/>
                    </a:lnTo>
                    <a:lnTo>
                      <a:pt x="231" y="42"/>
                    </a:lnTo>
                    <a:lnTo>
                      <a:pt x="232" y="43"/>
                    </a:lnTo>
                    <a:lnTo>
                      <a:pt x="232" y="44"/>
                    </a:lnTo>
                    <a:lnTo>
                      <a:pt x="264" y="44"/>
                    </a:lnTo>
                    <a:lnTo>
                      <a:pt x="264" y="42"/>
                    </a:lnTo>
                    <a:lnTo>
                      <a:pt x="265" y="40"/>
                    </a:lnTo>
                    <a:lnTo>
                      <a:pt x="266" y="38"/>
                    </a:lnTo>
                    <a:lnTo>
                      <a:pt x="268" y="37"/>
                    </a:lnTo>
                    <a:lnTo>
                      <a:pt x="271" y="36"/>
                    </a:lnTo>
                    <a:lnTo>
                      <a:pt x="274" y="35"/>
                    </a:lnTo>
                    <a:lnTo>
                      <a:pt x="276" y="35"/>
                    </a:lnTo>
                    <a:lnTo>
                      <a:pt x="279" y="36"/>
                    </a:lnTo>
                    <a:lnTo>
                      <a:pt x="281" y="37"/>
                    </a:lnTo>
                    <a:lnTo>
                      <a:pt x="284" y="38"/>
                    </a:lnTo>
                    <a:lnTo>
                      <a:pt x="285" y="40"/>
                    </a:lnTo>
                    <a:lnTo>
                      <a:pt x="286" y="42"/>
                    </a:lnTo>
                    <a:lnTo>
                      <a:pt x="286" y="44"/>
                    </a:lnTo>
                    <a:lnTo>
                      <a:pt x="344" y="44"/>
                    </a:lnTo>
                    <a:lnTo>
                      <a:pt x="345" y="43"/>
                    </a:lnTo>
                    <a:lnTo>
                      <a:pt x="346" y="42"/>
                    </a:lnTo>
                    <a:lnTo>
                      <a:pt x="347" y="41"/>
                    </a:lnTo>
                    <a:lnTo>
                      <a:pt x="349" y="41"/>
                    </a:lnTo>
                    <a:lnTo>
                      <a:pt x="351" y="41"/>
                    </a:lnTo>
                    <a:lnTo>
                      <a:pt x="352" y="42"/>
                    </a:lnTo>
                    <a:lnTo>
                      <a:pt x="353" y="43"/>
                    </a:lnTo>
                    <a:lnTo>
                      <a:pt x="353" y="44"/>
                    </a:lnTo>
                    <a:lnTo>
                      <a:pt x="371" y="44"/>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95" name=""/>
              <p:cNvSpPr/>
              <p:nvPr/>
            </p:nvSpPr>
            <p:spPr>
              <a:xfrm>
                <a:off x="4078800" y="3299760"/>
                <a:ext cx="13680" cy="1188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6" name=""/>
              <p:cNvSpPr/>
              <p:nvPr/>
            </p:nvSpPr>
            <p:spPr>
              <a:xfrm>
                <a:off x="4126320" y="5079240"/>
                <a:ext cx="160560" cy="83880"/>
              </a:xfrm>
              <a:prstGeom prst="rect">
                <a:avLst/>
              </a:prstGeom>
              <a:blipFill rotWithShape="0">
                <a:blip r:embed="rId144"/>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97" name=""/>
              <p:cNvSpPr/>
              <p:nvPr/>
            </p:nvSpPr>
            <p:spPr>
              <a:xfrm>
                <a:off x="4174920" y="5103000"/>
                <a:ext cx="78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SP</a:t>
                </a:r>
                <a:endParaRPr b="0" lang="en-US" sz="300" spc="-1" strike="noStrike">
                  <a:solidFill>
                    <a:srgbClr val="ffffff"/>
                  </a:solidFill>
                  <a:latin typeface="Arial"/>
                </a:endParaRPr>
              </a:p>
            </p:txBody>
          </p:sp>
          <p:sp>
            <p:nvSpPr>
              <p:cNvPr id="1598" name=""/>
              <p:cNvSpPr/>
              <p:nvPr/>
            </p:nvSpPr>
            <p:spPr>
              <a:xfrm>
                <a:off x="4147560" y="5232600"/>
                <a:ext cx="173520" cy="83880"/>
              </a:xfrm>
              <a:prstGeom prst="rect">
                <a:avLst/>
              </a:prstGeom>
              <a:blipFill rotWithShape="0">
                <a:blip r:embed="rId145"/>
                <a:srcRect/>
                <a:tile tx="0" ty="0" sx="100000" sy="100000" algn="ctr"/>
              </a:blip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99" name=""/>
              <p:cNvSpPr/>
              <p:nvPr/>
            </p:nvSpPr>
            <p:spPr>
              <a:xfrm>
                <a:off x="4176360" y="5240520"/>
                <a:ext cx="151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n-Home</a:t>
                </a:r>
                <a:endParaRPr b="0" lang="en-US" sz="300" spc="-1" strike="noStrike">
                  <a:solidFill>
                    <a:srgbClr val="ffffff"/>
                  </a:solidFill>
                  <a:latin typeface="Arial"/>
                </a:endParaRPr>
              </a:p>
            </p:txBody>
          </p:sp>
          <p:sp>
            <p:nvSpPr>
              <p:cNvPr id="1600" name=""/>
              <p:cNvSpPr/>
              <p:nvPr/>
            </p:nvSpPr>
            <p:spPr>
              <a:xfrm>
                <a:off x="4187880" y="5271480"/>
                <a:ext cx="1195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Repair</a:t>
                </a:r>
                <a:endParaRPr b="0" lang="en-US" sz="300" spc="-1" strike="noStrike">
                  <a:solidFill>
                    <a:srgbClr val="ffffff"/>
                  </a:solidFill>
                  <a:latin typeface="Arial"/>
                </a:endParaRPr>
              </a:p>
            </p:txBody>
          </p:sp>
          <p:sp>
            <p:nvSpPr>
              <p:cNvPr id="1601" name=""/>
              <p:cNvSpPr/>
              <p:nvPr/>
            </p:nvSpPr>
            <p:spPr>
              <a:xfrm>
                <a:off x="4152960" y="5375880"/>
                <a:ext cx="160560" cy="82440"/>
              </a:xfrm>
              <a:prstGeom prst="rect">
                <a:avLst/>
              </a:prstGeom>
              <a:blipFill rotWithShape="0">
                <a:blip r:embed="rId146"/>
                <a:srcRect/>
                <a:tile tx="0" ty="0" sx="100000" sy="100000" algn="ctr"/>
              </a:blip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02" name=""/>
              <p:cNvSpPr/>
              <p:nvPr/>
            </p:nvSpPr>
            <p:spPr>
              <a:xfrm>
                <a:off x="4168440" y="5369040"/>
                <a:ext cx="166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Warranty</a:t>
                </a:r>
                <a:endParaRPr b="0" lang="en-US" sz="300" spc="-1" strike="noStrike">
                  <a:solidFill>
                    <a:srgbClr val="ffffff"/>
                  </a:solidFill>
                  <a:latin typeface="Arial"/>
                </a:endParaRPr>
              </a:p>
            </p:txBody>
          </p:sp>
          <p:sp>
            <p:nvSpPr>
              <p:cNvPr id="1603" name=""/>
              <p:cNvSpPr/>
              <p:nvPr/>
            </p:nvSpPr>
            <p:spPr>
              <a:xfrm>
                <a:off x="4190400" y="5399640"/>
                <a:ext cx="116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Billing</a:t>
                </a:r>
                <a:endParaRPr b="0" lang="en-US" sz="300" spc="-1" strike="noStrike">
                  <a:solidFill>
                    <a:srgbClr val="ffffff"/>
                  </a:solidFill>
                  <a:latin typeface="Arial"/>
                </a:endParaRPr>
              </a:p>
            </p:txBody>
          </p:sp>
          <p:sp>
            <p:nvSpPr>
              <p:cNvPr id="1604" name=""/>
              <p:cNvSpPr/>
              <p:nvPr/>
            </p:nvSpPr>
            <p:spPr>
              <a:xfrm>
                <a:off x="4181040" y="5431680"/>
                <a:ext cx="1364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System</a:t>
                </a:r>
                <a:endParaRPr b="0" lang="en-US" sz="300" spc="-1" strike="noStrike">
                  <a:solidFill>
                    <a:srgbClr val="ffffff"/>
                  </a:solidFill>
                  <a:latin typeface="Arial"/>
                </a:endParaRPr>
              </a:p>
            </p:txBody>
          </p:sp>
          <p:sp>
            <p:nvSpPr>
              <p:cNvPr id="1605" name=""/>
              <p:cNvSpPr/>
              <p:nvPr/>
            </p:nvSpPr>
            <p:spPr>
              <a:xfrm>
                <a:off x="4326480" y="5416920"/>
                <a:ext cx="69840" cy="53280"/>
              </a:xfrm>
              <a:custGeom>
                <a:avLst/>
                <a:gdLst/>
                <a:ahLst/>
                <a:rect l="l" t="t" r="r" b="b"/>
                <a:pathLst>
                  <a:path w="66" h="40">
                    <a:moveTo>
                      <a:pt x="0" y="0"/>
                    </a:moveTo>
                    <a:lnTo>
                      <a:pt x="8" y="0"/>
                    </a:lnTo>
                    <a:lnTo>
                      <a:pt x="8" y="40"/>
                    </a:lnTo>
                    <a:lnTo>
                      <a:pt x="66" y="40"/>
                    </a:lnTo>
                  </a:path>
                </a:pathLst>
              </a:custGeom>
              <a:noFill/>
              <a:ln w="14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06" name=""/>
              <p:cNvSpPr/>
              <p:nvPr/>
            </p:nvSpPr>
            <p:spPr>
              <a:xfrm>
                <a:off x="4313880" y="5410440"/>
                <a:ext cx="13680" cy="11880"/>
              </a:xfrm>
              <a:custGeom>
                <a:avLst/>
                <a:gdLst/>
                <a:ahLst/>
                <a:rect l="l" t="t" r="r" b="b"/>
                <a:pathLst>
                  <a:path w="13" h="9">
                    <a:moveTo>
                      <a:pt x="12" y="9"/>
                    </a:moveTo>
                    <a:lnTo>
                      <a:pt x="0" y="5"/>
                    </a:lnTo>
                    <a:lnTo>
                      <a:pt x="12" y="0"/>
                    </a:lnTo>
                    <a:lnTo>
                      <a:pt x="13" y="3"/>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7" name=""/>
              <p:cNvSpPr/>
              <p:nvPr/>
            </p:nvSpPr>
            <p:spPr>
              <a:xfrm>
                <a:off x="4233240" y="5316840"/>
                <a:ext cx="720" cy="45360"/>
              </a:xfrm>
              <a:custGeom>
                <a:avLst/>
                <a:gdLst/>
                <a:ahLst/>
                <a:rect l="l" t="t" r="r" b="b"/>
                <a:pathLst>
                  <a:path w="1" h="34">
                    <a:moveTo>
                      <a:pt x="1" y="0"/>
                    </a:moveTo>
                    <a:lnTo>
                      <a:pt x="1" y="15"/>
                    </a:lnTo>
                    <a:lnTo>
                      <a:pt x="0" y="15"/>
                    </a:lnTo>
                    <a:lnTo>
                      <a:pt x="0" y="34"/>
                    </a:lnTo>
                  </a:path>
                </a:pathLst>
              </a:custGeom>
              <a:noFill/>
              <a:ln w="14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608" name=""/>
              <p:cNvSpPr/>
              <p:nvPr/>
            </p:nvSpPr>
            <p:spPr>
              <a:xfrm>
                <a:off x="4227120" y="5360760"/>
                <a:ext cx="12600" cy="14760"/>
              </a:xfrm>
              <a:custGeom>
                <a:avLst/>
                <a:gdLst/>
                <a:ahLst/>
                <a:rect l="l" t="t" r="r" b="b"/>
                <a:pathLst>
                  <a:path w="12" h="11">
                    <a:moveTo>
                      <a:pt x="12" y="1"/>
                    </a:moveTo>
                    <a:lnTo>
                      <a:pt x="6" y="11"/>
                    </a:lnTo>
                    <a:lnTo>
                      <a:pt x="0" y="1"/>
                    </a:lnTo>
                    <a:lnTo>
                      <a:pt x="3" y="1"/>
                    </a:lnTo>
                    <a:lnTo>
                      <a:pt x="6" y="0"/>
                    </a:lnTo>
                    <a:lnTo>
                      <a:pt x="9" y="1"/>
                    </a:lnTo>
                    <a:lnTo>
                      <a:pt x="12"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609" name=""/>
              <p:cNvSpPr/>
              <p:nvPr/>
            </p:nvSpPr>
            <p:spPr>
              <a:xfrm>
                <a:off x="4206960" y="5175360"/>
                <a:ext cx="27360" cy="45360"/>
              </a:xfrm>
              <a:custGeom>
                <a:avLst/>
                <a:gdLst/>
                <a:ahLst/>
                <a:rect l="l" t="t" r="r" b="b"/>
                <a:pathLst>
                  <a:path w="26" h="34">
                    <a:moveTo>
                      <a:pt x="26" y="34"/>
                    </a:moveTo>
                    <a:lnTo>
                      <a:pt x="26" y="27"/>
                    </a:lnTo>
                    <a:lnTo>
                      <a:pt x="0" y="27"/>
                    </a:lnTo>
                    <a:lnTo>
                      <a:pt x="0" y="0"/>
                    </a:lnTo>
                  </a:path>
                </a:pathLst>
              </a:custGeom>
              <a:noFill/>
              <a:ln w="14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610" name=""/>
              <p:cNvSpPr/>
              <p:nvPr/>
            </p:nvSpPr>
            <p:spPr>
              <a:xfrm>
                <a:off x="4227840" y="5219280"/>
                <a:ext cx="12600" cy="13320"/>
              </a:xfrm>
              <a:custGeom>
                <a:avLst/>
                <a:gdLst/>
                <a:ahLst/>
                <a:rect l="l" t="t" r="r" b="b"/>
                <a:pathLst>
                  <a:path w="12" h="10">
                    <a:moveTo>
                      <a:pt x="12" y="1"/>
                    </a:moveTo>
                    <a:lnTo>
                      <a:pt x="6" y="10"/>
                    </a:lnTo>
                    <a:lnTo>
                      <a:pt x="0" y="1"/>
                    </a:lnTo>
                    <a:lnTo>
                      <a:pt x="3" y="0"/>
                    </a:lnTo>
                    <a:lnTo>
                      <a:pt x="6" y="0"/>
                    </a:lnTo>
                    <a:lnTo>
                      <a:pt x="9" y="0"/>
                    </a:lnTo>
                    <a:lnTo>
                      <a:pt x="12"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11" name=""/>
              <p:cNvSpPr/>
              <p:nvPr/>
            </p:nvSpPr>
            <p:spPr>
              <a:xfrm>
                <a:off x="4200480" y="5163120"/>
                <a:ext cx="12600" cy="13320"/>
              </a:xfrm>
              <a:custGeom>
                <a:avLst/>
                <a:gdLst/>
                <a:ahLst/>
                <a:rect l="l" t="t" r="r" b="b"/>
                <a:pathLst>
                  <a:path w="12" h="10">
                    <a:moveTo>
                      <a:pt x="0" y="9"/>
                    </a:moveTo>
                    <a:lnTo>
                      <a:pt x="6" y="0"/>
                    </a:lnTo>
                    <a:lnTo>
                      <a:pt x="12" y="9"/>
                    </a:lnTo>
                    <a:lnTo>
                      <a:pt x="9" y="10"/>
                    </a:lnTo>
                    <a:lnTo>
                      <a:pt x="6" y="10"/>
                    </a:lnTo>
                    <a:lnTo>
                      <a:pt x="3" y="1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12" name=""/>
              <p:cNvSpPr/>
              <p:nvPr/>
            </p:nvSpPr>
            <p:spPr>
              <a:xfrm>
                <a:off x="4300200" y="5121720"/>
                <a:ext cx="83520" cy="289800"/>
              </a:xfrm>
              <a:custGeom>
                <a:avLst/>
                <a:gdLst/>
                <a:ahLst/>
                <a:rect l="l" t="t" r="r" b="b"/>
                <a:pathLst>
                  <a:path w="79" h="217">
                    <a:moveTo>
                      <a:pt x="79" y="217"/>
                    </a:moveTo>
                    <a:lnTo>
                      <a:pt x="70" y="217"/>
                    </a:lnTo>
                    <a:lnTo>
                      <a:pt x="70"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4381560" y="5405040"/>
                <a:ext cx="14760" cy="13320"/>
              </a:xfrm>
              <a:custGeom>
                <a:avLst/>
                <a:gdLst/>
                <a:ahLst/>
                <a:rect l="l" t="t" r="r" b="b"/>
                <a:pathLst>
                  <a:path w="14" h="10">
                    <a:moveTo>
                      <a:pt x="2" y="0"/>
                    </a:moveTo>
                    <a:lnTo>
                      <a:pt x="14" y="5"/>
                    </a:lnTo>
                    <a:lnTo>
                      <a:pt x="2" y="10"/>
                    </a:lnTo>
                    <a:lnTo>
                      <a:pt x="1" y="7"/>
                    </a:lnTo>
                    <a:lnTo>
                      <a:pt x="0" y="5"/>
                    </a:lnTo>
                    <a:lnTo>
                      <a:pt x="1" y="3"/>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14" name=""/>
              <p:cNvSpPr/>
              <p:nvPr/>
            </p:nvSpPr>
            <p:spPr>
              <a:xfrm>
                <a:off x="4287240" y="5115240"/>
                <a:ext cx="13680" cy="11520"/>
              </a:xfrm>
              <a:custGeom>
                <a:avLst/>
                <a:gdLst/>
                <a:ahLst/>
                <a:rect l="l" t="t" r="r" b="b"/>
                <a:pathLst>
                  <a:path w="13" h="9">
                    <a:moveTo>
                      <a:pt x="12" y="9"/>
                    </a:moveTo>
                    <a:lnTo>
                      <a:pt x="0" y="5"/>
                    </a:lnTo>
                    <a:lnTo>
                      <a:pt x="12" y="0"/>
                    </a:lnTo>
                    <a:lnTo>
                      <a:pt x="13" y="2"/>
                    </a:lnTo>
                    <a:lnTo>
                      <a:pt x="13" y="5"/>
                    </a:lnTo>
                    <a:lnTo>
                      <a:pt x="13" y="7"/>
                    </a:lnTo>
                    <a:lnTo>
                      <a:pt x="12" y="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5" name=""/>
              <p:cNvSpPr/>
              <p:nvPr/>
            </p:nvSpPr>
            <p:spPr>
              <a:xfrm>
                <a:off x="4607280" y="3449520"/>
                <a:ext cx="3468960" cy="2079720"/>
              </a:xfrm>
              <a:custGeom>
                <a:avLst/>
                <a:gdLst/>
                <a:ahLst/>
                <a:rect l="l" t="t" r="r" b="b"/>
                <a:pathLst>
                  <a:path w="3277" h="1557">
                    <a:moveTo>
                      <a:pt x="3139" y="0"/>
                    </a:moveTo>
                    <a:lnTo>
                      <a:pt x="3139" y="12"/>
                    </a:lnTo>
                    <a:lnTo>
                      <a:pt x="3173" y="12"/>
                    </a:lnTo>
                    <a:lnTo>
                      <a:pt x="3174" y="11"/>
                    </a:lnTo>
                    <a:lnTo>
                      <a:pt x="3175" y="10"/>
                    </a:lnTo>
                    <a:lnTo>
                      <a:pt x="3176" y="9"/>
                    </a:lnTo>
                    <a:lnTo>
                      <a:pt x="3178" y="8"/>
                    </a:lnTo>
                    <a:lnTo>
                      <a:pt x="3180" y="9"/>
                    </a:lnTo>
                    <a:lnTo>
                      <a:pt x="3181" y="10"/>
                    </a:lnTo>
                    <a:lnTo>
                      <a:pt x="3182" y="11"/>
                    </a:lnTo>
                    <a:lnTo>
                      <a:pt x="3182" y="12"/>
                    </a:lnTo>
                    <a:lnTo>
                      <a:pt x="3200" y="12"/>
                    </a:lnTo>
                    <a:lnTo>
                      <a:pt x="3200" y="298"/>
                    </a:lnTo>
                    <a:lnTo>
                      <a:pt x="3214" y="298"/>
                    </a:lnTo>
                    <a:lnTo>
                      <a:pt x="3214" y="297"/>
                    </a:lnTo>
                    <a:lnTo>
                      <a:pt x="3215" y="296"/>
                    </a:lnTo>
                    <a:lnTo>
                      <a:pt x="3217" y="295"/>
                    </a:lnTo>
                    <a:lnTo>
                      <a:pt x="3218" y="295"/>
                    </a:lnTo>
                    <a:lnTo>
                      <a:pt x="3220" y="295"/>
                    </a:lnTo>
                    <a:lnTo>
                      <a:pt x="3221" y="296"/>
                    </a:lnTo>
                    <a:lnTo>
                      <a:pt x="3222" y="297"/>
                    </a:lnTo>
                    <a:lnTo>
                      <a:pt x="3223" y="298"/>
                    </a:lnTo>
                    <a:lnTo>
                      <a:pt x="3227" y="298"/>
                    </a:lnTo>
                    <a:lnTo>
                      <a:pt x="3228" y="297"/>
                    </a:lnTo>
                    <a:lnTo>
                      <a:pt x="3229" y="296"/>
                    </a:lnTo>
                    <a:lnTo>
                      <a:pt x="3230" y="295"/>
                    </a:lnTo>
                    <a:lnTo>
                      <a:pt x="3232" y="295"/>
                    </a:lnTo>
                    <a:lnTo>
                      <a:pt x="3233" y="295"/>
                    </a:lnTo>
                    <a:lnTo>
                      <a:pt x="3235" y="296"/>
                    </a:lnTo>
                    <a:lnTo>
                      <a:pt x="3236" y="297"/>
                    </a:lnTo>
                    <a:lnTo>
                      <a:pt x="3236" y="298"/>
                    </a:lnTo>
                    <a:lnTo>
                      <a:pt x="3254" y="298"/>
                    </a:lnTo>
                    <a:lnTo>
                      <a:pt x="3255" y="297"/>
                    </a:lnTo>
                    <a:lnTo>
                      <a:pt x="3256" y="296"/>
                    </a:lnTo>
                    <a:lnTo>
                      <a:pt x="3257" y="295"/>
                    </a:lnTo>
                    <a:lnTo>
                      <a:pt x="3259" y="295"/>
                    </a:lnTo>
                    <a:lnTo>
                      <a:pt x="3260" y="295"/>
                    </a:lnTo>
                    <a:lnTo>
                      <a:pt x="3262" y="296"/>
                    </a:lnTo>
                    <a:lnTo>
                      <a:pt x="3263" y="297"/>
                    </a:lnTo>
                    <a:lnTo>
                      <a:pt x="3263" y="298"/>
                    </a:lnTo>
                    <a:lnTo>
                      <a:pt x="3277" y="298"/>
                    </a:lnTo>
                    <a:lnTo>
                      <a:pt x="3277" y="950"/>
                    </a:lnTo>
                    <a:lnTo>
                      <a:pt x="2699" y="950"/>
                    </a:lnTo>
                    <a:lnTo>
                      <a:pt x="2699" y="949"/>
                    </a:lnTo>
                    <a:lnTo>
                      <a:pt x="2698" y="947"/>
                    </a:lnTo>
                    <a:lnTo>
                      <a:pt x="2696" y="947"/>
                    </a:lnTo>
                    <a:lnTo>
                      <a:pt x="2695" y="946"/>
                    </a:lnTo>
                    <a:lnTo>
                      <a:pt x="2693" y="947"/>
                    </a:lnTo>
                    <a:lnTo>
                      <a:pt x="2692" y="947"/>
                    </a:lnTo>
                    <a:lnTo>
                      <a:pt x="2691" y="949"/>
                    </a:lnTo>
                    <a:lnTo>
                      <a:pt x="2690" y="950"/>
                    </a:lnTo>
                    <a:lnTo>
                      <a:pt x="2508" y="950"/>
                    </a:lnTo>
                    <a:lnTo>
                      <a:pt x="2508" y="949"/>
                    </a:lnTo>
                    <a:lnTo>
                      <a:pt x="2507" y="947"/>
                    </a:lnTo>
                    <a:lnTo>
                      <a:pt x="2506" y="947"/>
                    </a:lnTo>
                    <a:lnTo>
                      <a:pt x="2504" y="946"/>
                    </a:lnTo>
                    <a:lnTo>
                      <a:pt x="2502" y="947"/>
                    </a:lnTo>
                    <a:lnTo>
                      <a:pt x="2501" y="947"/>
                    </a:lnTo>
                    <a:lnTo>
                      <a:pt x="2500" y="949"/>
                    </a:lnTo>
                    <a:lnTo>
                      <a:pt x="2499" y="950"/>
                    </a:lnTo>
                    <a:lnTo>
                      <a:pt x="2475" y="950"/>
                    </a:lnTo>
                    <a:lnTo>
                      <a:pt x="2474" y="949"/>
                    </a:lnTo>
                    <a:lnTo>
                      <a:pt x="2473" y="947"/>
                    </a:lnTo>
                    <a:lnTo>
                      <a:pt x="2472" y="947"/>
                    </a:lnTo>
                    <a:lnTo>
                      <a:pt x="2470" y="946"/>
                    </a:lnTo>
                    <a:lnTo>
                      <a:pt x="2468" y="947"/>
                    </a:lnTo>
                    <a:lnTo>
                      <a:pt x="2467" y="947"/>
                    </a:lnTo>
                    <a:lnTo>
                      <a:pt x="2466" y="949"/>
                    </a:lnTo>
                    <a:lnTo>
                      <a:pt x="2466" y="950"/>
                    </a:lnTo>
                    <a:lnTo>
                      <a:pt x="2404" y="950"/>
                    </a:lnTo>
                    <a:lnTo>
                      <a:pt x="2403" y="949"/>
                    </a:lnTo>
                    <a:lnTo>
                      <a:pt x="2402" y="947"/>
                    </a:lnTo>
                    <a:lnTo>
                      <a:pt x="2401" y="947"/>
                    </a:lnTo>
                    <a:lnTo>
                      <a:pt x="2399" y="946"/>
                    </a:lnTo>
                    <a:lnTo>
                      <a:pt x="2398" y="947"/>
                    </a:lnTo>
                    <a:lnTo>
                      <a:pt x="2396" y="947"/>
                    </a:lnTo>
                    <a:lnTo>
                      <a:pt x="2395" y="949"/>
                    </a:lnTo>
                    <a:lnTo>
                      <a:pt x="2395" y="950"/>
                    </a:lnTo>
                    <a:lnTo>
                      <a:pt x="2351" y="950"/>
                    </a:lnTo>
                    <a:lnTo>
                      <a:pt x="2351" y="949"/>
                    </a:lnTo>
                    <a:lnTo>
                      <a:pt x="2350" y="947"/>
                    </a:lnTo>
                    <a:lnTo>
                      <a:pt x="2349" y="947"/>
                    </a:lnTo>
                    <a:lnTo>
                      <a:pt x="2347" y="946"/>
                    </a:lnTo>
                    <a:lnTo>
                      <a:pt x="2345" y="947"/>
                    </a:lnTo>
                    <a:lnTo>
                      <a:pt x="2344" y="947"/>
                    </a:lnTo>
                    <a:lnTo>
                      <a:pt x="2343" y="949"/>
                    </a:lnTo>
                    <a:lnTo>
                      <a:pt x="2342" y="950"/>
                    </a:lnTo>
                    <a:lnTo>
                      <a:pt x="2331" y="950"/>
                    </a:lnTo>
                    <a:lnTo>
                      <a:pt x="2331" y="949"/>
                    </a:lnTo>
                    <a:lnTo>
                      <a:pt x="2330" y="947"/>
                    </a:lnTo>
                    <a:lnTo>
                      <a:pt x="2328" y="947"/>
                    </a:lnTo>
                    <a:lnTo>
                      <a:pt x="2327" y="946"/>
                    </a:lnTo>
                    <a:lnTo>
                      <a:pt x="2325" y="947"/>
                    </a:lnTo>
                    <a:lnTo>
                      <a:pt x="2323" y="947"/>
                    </a:lnTo>
                    <a:lnTo>
                      <a:pt x="2323" y="949"/>
                    </a:lnTo>
                    <a:lnTo>
                      <a:pt x="2322" y="950"/>
                    </a:lnTo>
                    <a:lnTo>
                      <a:pt x="2122" y="950"/>
                    </a:lnTo>
                    <a:lnTo>
                      <a:pt x="2121" y="949"/>
                    </a:lnTo>
                    <a:lnTo>
                      <a:pt x="2120" y="947"/>
                    </a:lnTo>
                    <a:lnTo>
                      <a:pt x="2119" y="947"/>
                    </a:lnTo>
                    <a:lnTo>
                      <a:pt x="2117" y="946"/>
                    </a:lnTo>
                    <a:lnTo>
                      <a:pt x="2116" y="947"/>
                    </a:lnTo>
                    <a:lnTo>
                      <a:pt x="2114" y="947"/>
                    </a:lnTo>
                    <a:lnTo>
                      <a:pt x="2113" y="949"/>
                    </a:lnTo>
                    <a:lnTo>
                      <a:pt x="2113" y="950"/>
                    </a:lnTo>
                    <a:lnTo>
                      <a:pt x="2112" y="950"/>
                    </a:lnTo>
                    <a:lnTo>
                      <a:pt x="2112" y="1557"/>
                    </a:lnTo>
                    <a:lnTo>
                      <a:pt x="0" y="1557"/>
                    </a:lnTo>
                    <a:lnTo>
                      <a:pt x="0" y="15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7923960" y="3436200"/>
                <a:ext cx="12600" cy="1440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17" name=""/>
              <p:cNvSpPr/>
              <p:nvPr/>
            </p:nvSpPr>
            <p:spPr>
              <a:xfrm>
                <a:off x="4600800" y="5475600"/>
                <a:ext cx="12600" cy="14760"/>
              </a:xfrm>
              <a:custGeom>
                <a:avLst/>
                <a:gdLst/>
                <a:ahLst/>
                <a:rect l="l" t="t" r="r" b="b"/>
                <a:pathLst>
                  <a:path w="12" h="11">
                    <a:moveTo>
                      <a:pt x="0" y="9"/>
                    </a:moveTo>
                    <a:lnTo>
                      <a:pt x="6" y="0"/>
                    </a:lnTo>
                    <a:lnTo>
                      <a:pt x="12" y="9"/>
                    </a:lnTo>
                    <a:lnTo>
                      <a:pt x="9" y="10"/>
                    </a:lnTo>
                    <a:lnTo>
                      <a:pt x="6" y="11"/>
                    </a:lnTo>
                    <a:lnTo>
                      <a:pt x="3" y="10"/>
                    </a:lnTo>
                    <a:lnTo>
                      <a:pt x="0"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618" name=""/>
              <p:cNvSpPr/>
              <p:nvPr/>
            </p:nvSpPr>
            <p:spPr>
              <a:xfrm>
                <a:off x="4865400" y="2016000"/>
                <a:ext cx="305640" cy="61200"/>
              </a:xfrm>
              <a:prstGeom prst="rect">
                <a:avLst/>
              </a:prstGeom>
              <a:blipFill rotWithShape="0">
                <a:blip r:embed="rId147"/>
                <a:srcRect/>
                <a:tile tx="0" ty="0" sx="100000" sy="100000" algn="ctr"/>
              </a:blip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619" name=""/>
              <p:cNvSpPr/>
              <p:nvPr/>
            </p:nvSpPr>
            <p:spPr>
              <a:xfrm>
                <a:off x="4903920" y="2010960"/>
                <a:ext cx="3024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Process Servers</a:t>
                </a:r>
                <a:endParaRPr b="0" lang="en-US" sz="300" spc="-1" strike="noStrike">
                  <a:solidFill>
                    <a:srgbClr val="ffffff"/>
                  </a:solidFill>
                  <a:latin typeface="Arial"/>
                </a:endParaRPr>
              </a:p>
            </p:txBody>
          </p:sp>
          <p:sp>
            <p:nvSpPr>
              <p:cNvPr id="1620" name=""/>
              <p:cNvSpPr/>
              <p:nvPr/>
            </p:nvSpPr>
            <p:spPr>
              <a:xfrm>
                <a:off x="4956120" y="2050920"/>
                <a:ext cx="169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ea typeface="Arial"/>
                  </a:rPr>
                  <a:t>(Imaging)</a:t>
                </a:r>
                <a:endParaRPr b="0" lang="en-US" sz="300" spc="-1" strike="noStrike">
                  <a:solidFill>
                    <a:srgbClr val="ffffff"/>
                  </a:solidFill>
                  <a:latin typeface="Arial"/>
                </a:endParaRPr>
              </a:p>
            </p:txBody>
          </p:sp>
          <p:sp>
            <p:nvSpPr>
              <p:cNvPr id="1621" name=""/>
              <p:cNvSpPr/>
              <p:nvPr/>
            </p:nvSpPr>
            <p:spPr>
              <a:xfrm>
                <a:off x="4474440" y="2089440"/>
                <a:ext cx="543960" cy="375120"/>
              </a:xfrm>
              <a:custGeom>
                <a:avLst/>
                <a:gdLst/>
                <a:ahLst/>
                <a:rect l="l" t="t" r="r" b="b"/>
                <a:pathLst>
                  <a:path w="514" h="281">
                    <a:moveTo>
                      <a:pt x="514" y="0"/>
                    </a:moveTo>
                    <a:lnTo>
                      <a:pt x="514" y="268"/>
                    </a:lnTo>
                    <a:lnTo>
                      <a:pt x="478" y="268"/>
                    </a:lnTo>
                    <a:lnTo>
                      <a:pt x="478" y="267"/>
                    </a:lnTo>
                    <a:lnTo>
                      <a:pt x="477" y="265"/>
                    </a:lnTo>
                    <a:lnTo>
                      <a:pt x="475" y="265"/>
                    </a:lnTo>
                    <a:lnTo>
                      <a:pt x="473" y="264"/>
                    </a:lnTo>
                    <a:lnTo>
                      <a:pt x="472" y="265"/>
                    </a:lnTo>
                    <a:lnTo>
                      <a:pt x="470" y="265"/>
                    </a:lnTo>
                    <a:lnTo>
                      <a:pt x="469" y="267"/>
                    </a:lnTo>
                    <a:lnTo>
                      <a:pt x="469" y="268"/>
                    </a:lnTo>
                    <a:lnTo>
                      <a:pt x="462" y="268"/>
                    </a:lnTo>
                    <a:lnTo>
                      <a:pt x="462" y="267"/>
                    </a:lnTo>
                    <a:lnTo>
                      <a:pt x="461" y="265"/>
                    </a:lnTo>
                    <a:lnTo>
                      <a:pt x="459" y="265"/>
                    </a:lnTo>
                    <a:lnTo>
                      <a:pt x="457" y="264"/>
                    </a:lnTo>
                    <a:lnTo>
                      <a:pt x="456" y="265"/>
                    </a:lnTo>
                    <a:lnTo>
                      <a:pt x="454" y="265"/>
                    </a:lnTo>
                    <a:lnTo>
                      <a:pt x="453" y="267"/>
                    </a:lnTo>
                    <a:lnTo>
                      <a:pt x="453" y="268"/>
                    </a:lnTo>
                    <a:lnTo>
                      <a:pt x="197" y="268"/>
                    </a:lnTo>
                    <a:lnTo>
                      <a:pt x="197" y="267"/>
                    </a:lnTo>
                    <a:lnTo>
                      <a:pt x="196" y="265"/>
                    </a:lnTo>
                    <a:lnTo>
                      <a:pt x="195" y="265"/>
                    </a:lnTo>
                    <a:lnTo>
                      <a:pt x="193" y="264"/>
                    </a:lnTo>
                    <a:lnTo>
                      <a:pt x="191" y="265"/>
                    </a:lnTo>
                    <a:lnTo>
                      <a:pt x="190" y="265"/>
                    </a:lnTo>
                    <a:lnTo>
                      <a:pt x="189" y="267"/>
                    </a:lnTo>
                    <a:lnTo>
                      <a:pt x="188" y="268"/>
                    </a:lnTo>
                    <a:lnTo>
                      <a:pt x="0" y="268"/>
                    </a:lnTo>
                    <a:lnTo>
                      <a:pt x="0" y="281"/>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5012640" y="2077560"/>
                <a:ext cx="12600" cy="14760"/>
              </a:xfrm>
              <a:custGeom>
                <a:avLst/>
                <a:gdLst/>
                <a:ahLst/>
                <a:rect l="l" t="t" r="r" b="b"/>
                <a:pathLst>
                  <a:path w="12" h="11">
                    <a:moveTo>
                      <a:pt x="0" y="10"/>
                    </a:moveTo>
                    <a:lnTo>
                      <a:pt x="6" y="0"/>
                    </a:lnTo>
                    <a:lnTo>
                      <a:pt x="12" y="10"/>
                    </a:lnTo>
                    <a:lnTo>
                      <a:pt x="9" y="10"/>
                    </a:lnTo>
                    <a:lnTo>
                      <a:pt x="6" y="11"/>
                    </a:lnTo>
                    <a:lnTo>
                      <a:pt x="3" y="10"/>
                    </a:lnTo>
                    <a:lnTo>
                      <a:pt x="0" y="10"/>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623" name=""/>
              <p:cNvSpPr/>
              <p:nvPr/>
            </p:nvSpPr>
            <p:spPr>
              <a:xfrm>
                <a:off x="5934600" y="2921760"/>
                <a:ext cx="1818720" cy="1671120"/>
              </a:xfrm>
              <a:custGeom>
                <a:avLst/>
                <a:gdLst/>
                <a:ahLst/>
                <a:rect l="l" t="t" r="r" b="b"/>
                <a:pathLst>
                  <a:path w="1718" h="1251">
                    <a:moveTo>
                      <a:pt x="0" y="0"/>
                    </a:moveTo>
                    <a:lnTo>
                      <a:pt x="0" y="301"/>
                    </a:lnTo>
                    <a:lnTo>
                      <a:pt x="1" y="301"/>
                    </a:lnTo>
                    <a:lnTo>
                      <a:pt x="1" y="299"/>
                    </a:lnTo>
                    <a:lnTo>
                      <a:pt x="2" y="298"/>
                    </a:lnTo>
                    <a:lnTo>
                      <a:pt x="4" y="297"/>
                    </a:lnTo>
                    <a:lnTo>
                      <a:pt x="6" y="297"/>
                    </a:lnTo>
                    <a:lnTo>
                      <a:pt x="7" y="297"/>
                    </a:lnTo>
                    <a:lnTo>
                      <a:pt x="9" y="298"/>
                    </a:lnTo>
                    <a:lnTo>
                      <a:pt x="10" y="299"/>
                    </a:lnTo>
                    <a:lnTo>
                      <a:pt x="10" y="301"/>
                    </a:lnTo>
                    <a:lnTo>
                      <a:pt x="19" y="301"/>
                    </a:lnTo>
                    <a:lnTo>
                      <a:pt x="19" y="299"/>
                    </a:lnTo>
                    <a:lnTo>
                      <a:pt x="20" y="298"/>
                    </a:lnTo>
                    <a:lnTo>
                      <a:pt x="22" y="297"/>
                    </a:lnTo>
                    <a:lnTo>
                      <a:pt x="24" y="297"/>
                    </a:lnTo>
                    <a:lnTo>
                      <a:pt x="25" y="297"/>
                    </a:lnTo>
                    <a:lnTo>
                      <a:pt x="27" y="298"/>
                    </a:lnTo>
                    <a:lnTo>
                      <a:pt x="28" y="299"/>
                    </a:lnTo>
                    <a:lnTo>
                      <a:pt x="28" y="301"/>
                    </a:lnTo>
                    <a:lnTo>
                      <a:pt x="35" y="301"/>
                    </a:lnTo>
                    <a:lnTo>
                      <a:pt x="35" y="299"/>
                    </a:lnTo>
                    <a:lnTo>
                      <a:pt x="36" y="298"/>
                    </a:lnTo>
                    <a:lnTo>
                      <a:pt x="38" y="297"/>
                    </a:lnTo>
                    <a:lnTo>
                      <a:pt x="39" y="297"/>
                    </a:lnTo>
                    <a:lnTo>
                      <a:pt x="41" y="297"/>
                    </a:lnTo>
                    <a:lnTo>
                      <a:pt x="43" y="298"/>
                    </a:lnTo>
                    <a:lnTo>
                      <a:pt x="44" y="299"/>
                    </a:lnTo>
                    <a:lnTo>
                      <a:pt x="44" y="301"/>
                    </a:lnTo>
                    <a:lnTo>
                      <a:pt x="46" y="301"/>
                    </a:lnTo>
                    <a:lnTo>
                      <a:pt x="46" y="1251"/>
                    </a:lnTo>
                    <a:lnTo>
                      <a:pt x="73" y="1251"/>
                    </a:lnTo>
                    <a:lnTo>
                      <a:pt x="73" y="1250"/>
                    </a:lnTo>
                    <a:lnTo>
                      <a:pt x="74" y="1249"/>
                    </a:lnTo>
                    <a:lnTo>
                      <a:pt x="76" y="1248"/>
                    </a:lnTo>
                    <a:lnTo>
                      <a:pt x="78" y="1248"/>
                    </a:lnTo>
                    <a:lnTo>
                      <a:pt x="79" y="1248"/>
                    </a:lnTo>
                    <a:lnTo>
                      <a:pt x="81" y="1249"/>
                    </a:lnTo>
                    <a:lnTo>
                      <a:pt x="82" y="1250"/>
                    </a:lnTo>
                    <a:lnTo>
                      <a:pt x="82" y="1251"/>
                    </a:lnTo>
                    <a:lnTo>
                      <a:pt x="206" y="1251"/>
                    </a:lnTo>
                    <a:lnTo>
                      <a:pt x="206" y="1250"/>
                    </a:lnTo>
                    <a:lnTo>
                      <a:pt x="207" y="1249"/>
                    </a:lnTo>
                    <a:lnTo>
                      <a:pt x="209" y="1248"/>
                    </a:lnTo>
                    <a:lnTo>
                      <a:pt x="210" y="1248"/>
                    </a:lnTo>
                    <a:lnTo>
                      <a:pt x="212" y="1248"/>
                    </a:lnTo>
                    <a:lnTo>
                      <a:pt x="213" y="1249"/>
                    </a:lnTo>
                    <a:lnTo>
                      <a:pt x="214" y="1250"/>
                    </a:lnTo>
                    <a:lnTo>
                      <a:pt x="215" y="1251"/>
                    </a:lnTo>
                    <a:lnTo>
                      <a:pt x="380" y="1251"/>
                    </a:lnTo>
                    <a:lnTo>
                      <a:pt x="381" y="1250"/>
                    </a:lnTo>
                    <a:lnTo>
                      <a:pt x="381" y="1249"/>
                    </a:lnTo>
                    <a:lnTo>
                      <a:pt x="383" y="1248"/>
                    </a:lnTo>
                    <a:lnTo>
                      <a:pt x="385" y="1248"/>
                    </a:lnTo>
                    <a:lnTo>
                      <a:pt x="386" y="1248"/>
                    </a:lnTo>
                    <a:lnTo>
                      <a:pt x="388" y="1249"/>
                    </a:lnTo>
                    <a:lnTo>
                      <a:pt x="389" y="1250"/>
                    </a:lnTo>
                    <a:lnTo>
                      <a:pt x="389" y="1251"/>
                    </a:lnTo>
                    <a:lnTo>
                      <a:pt x="568" y="1251"/>
                    </a:lnTo>
                    <a:lnTo>
                      <a:pt x="568" y="1250"/>
                    </a:lnTo>
                    <a:lnTo>
                      <a:pt x="569" y="1249"/>
                    </a:lnTo>
                    <a:lnTo>
                      <a:pt x="571" y="1248"/>
                    </a:lnTo>
                    <a:lnTo>
                      <a:pt x="572" y="1248"/>
                    </a:lnTo>
                    <a:lnTo>
                      <a:pt x="574" y="1248"/>
                    </a:lnTo>
                    <a:lnTo>
                      <a:pt x="575" y="1249"/>
                    </a:lnTo>
                    <a:lnTo>
                      <a:pt x="576" y="1250"/>
                    </a:lnTo>
                    <a:lnTo>
                      <a:pt x="577" y="1251"/>
                    </a:lnTo>
                    <a:lnTo>
                      <a:pt x="859" y="1251"/>
                    </a:lnTo>
                    <a:lnTo>
                      <a:pt x="859" y="1250"/>
                    </a:lnTo>
                    <a:lnTo>
                      <a:pt x="860" y="1249"/>
                    </a:lnTo>
                    <a:lnTo>
                      <a:pt x="862" y="1248"/>
                    </a:lnTo>
                    <a:lnTo>
                      <a:pt x="863" y="1248"/>
                    </a:lnTo>
                    <a:lnTo>
                      <a:pt x="865" y="1248"/>
                    </a:lnTo>
                    <a:lnTo>
                      <a:pt x="866" y="1249"/>
                    </a:lnTo>
                    <a:lnTo>
                      <a:pt x="867" y="1250"/>
                    </a:lnTo>
                    <a:lnTo>
                      <a:pt x="868" y="1251"/>
                    </a:lnTo>
                    <a:lnTo>
                      <a:pt x="1068" y="1251"/>
                    </a:lnTo>
                    <a:lnTo>
                      <a:pt x="1069" y="1250"/>
                    </a:lnTo>
                    <a:lnTo>
                      <a:pt x="1069" y="1249"/>
                    </a:lnTo>
                    <a:lnTo>
                      <a:pt x="1071" y="1248"/>
                    </a:lnTo>
                    <a:lnTo>
                      <a:pt x="1073" y="1248"/>
                    </a:lnTo>
                    <a:lnTo>
                      <a:pt x="1074" y="1248"/>
                    </a:lnTo>
                    <a:lnTo>
                      <a:pt x="1076" y="1249"/>
                    </a:lnTo>
                    <a:lnTo>
                      <a:pt x="1077" y="1250"/>
                    </a:lnTo>
                    <a:lnTo>
                      <a:pt x="1077" y="1251"/>
                    </a:lnTo>
                    <a:lnTo>
                      <a:pt x="1088" y="1251"/>
                    </a:lnTo>
                    <a:lnTo>
                      <a:pt x="1089" y="1250"/>
                    </a:lnTo>
                    <a:lnTo>
                      <a:pt x="1090" y="1249"/>
                    </a:lnTo>
                    <a:lnTo>
                      <a:pt x="1091" y="1248"/>
                    </a:lnTo>
                    <a:lnTo>
                      <a:pt x="1093" y="1248"/>
                    </a:lnTo>
                    <a:lnTo>
                      <a:pt x="1095" y="1248"/>
                    </a:lnTo>
                    <a:lnTo>
                      <a:pt x="1096" y="1249"/>
                    </a:lnTo>
                    <a:lnTo>
                      <a:pt x="1097" y="1250"/>
                    </a:lnTo>
                    <a:lnTo>
                      <a:pt x="1097" y="1251"/>
                    </a:lnTo>
                    <a:lnTo>
                      <a:pt x="1122" y="1251"/>
                    </a:lnTo>
                    <a:lnTo>
                      <a:pt x="1123" y="1250"/>
                    </a:lnTo>
                    <a:lnTo>
                      <a:pt x="1124" y="1249"/>
                    </a:lnTo>
                    <a:lnTo>
                      <a:pt x="1125" y="1248"/>
                    </a:lnTo>
                    <a:lnTo>
                      <a:pt x="1127" y="1248"/>
                    </a:lnTo>
                    <a:lnTo>
                      <a:pt x="1128" y="1248"/>
                    </a:lnTo>
                    <a:lnTo>
                      <a:pt x="1130" y="1249"/>
                    </a:lnTo>
                    <a:lnTo>
                      <a:pt x="1131" y="1250"/>
                    </a:lnTo>
                    <a:lnTo>
                      <a:pt x="1131" y="1251"/>
                    </a:lnTo>
                    <a:lnTo>
                      <a:pt x="1141" y="1251"/>
                    </a:lnTo>
                    <a:lnTo>
                      <a:pt x="1141" y="1250"/>
                    </a:lnTo>
                    <a:lnTo>
                      <a:pt x="1142" y="1249"/>
                    </a:lnTo>
                    <a:lnTo>
                      <a:pt x="1144" y="1248"/>
                    </a:lnTo>
                    <a:lnTo>
                      <a:pt x="1145" y="1248"/>
                    </a:lnTo>
                    <a:lnTo>
                      <a:pt x="1147" y="1248"/>
                    </a:lnTo>
                    <a:lnTo>
                      <a:pt x="1149" y="1249"/>
                    </a:lnTo>
                    <a:lnTo>
                      <a:pt x="1149" y="1250"/>
                    </a:lnTo>
                    <a:lnTo>
                      <a:pt x="1150" y="1251"/>
                    </a:lnTo>
                    <a:lnTo>
                      <a:pt x="1212" y="1251"/>
                    </a:lnTo>
                    <a:lnTo>
                      <a:pt x="1212" y="1250"/>
                    </a:lnTo>
                    <a:lnTo>
                      <a:pt x="1213" y="1249"/>
                    </a:lnTo>
                    <a:lnTo>
                      <a:pt x="1214" y="1248"/>
                    </a:lnTo>
                    <a:lnTo>
                      <a:pt x="1216" y="1248"/>
                    </a:lnTo>
                    <a:lnTo>
                      <a:pt x="1218" y="1248"/>
                    </a:lnTo>
                    <a:lnTo>
                      <a:pt x="1219" y="1249"/>
                    </a:lnTo>
                    <a:lnTo>
                      <a:pt x="1220" y="1250"/>
                    </a:lnTo>
                    <a:lnTo>
                      <a:pt x="1221" y="1251"/>
                    </a:lnTo>
                    <a:lnTo>
                      <a:pt x="1245" y="1251"/>
                    </a:lnTo>
                    <a:lnTo>
                      <a:pt x="1246" y="1250"/>
                    </a:lnTo>
                    <a:lnTo>
                      <a:pt x="1247" y="1249"/>
                    </a:lnTo>
                    <a:lnTo>
                      <a:pt x="1248" y="1248"/>
                    </a:lnTo>
                    <a:lnTo>
                      <a:pt x="1250" y="1248"/>
                    </a:lnTo>
                    <a:lnTo>
                      <a:pt x="1252" y="1248"/>
                    </a:lnTo>
                    <a:lnTo>
                      <a:pt x="1253" y="1249"/>
                    </a:lnTo>
                    <a:lnTo>
                      <a:pt x="1254" y="1250"/>
                    </a:lnTo>
                    <a:lnTo>
                      <a:pt x="1254" y="1251"/>
                    </a:lnTo>
                    <a:lnTo>
                      <a:pt x="1718" y="1251"/>
                    </a:lnTo>
                    <a:lnTo>
                      <a:pt x="1718" y="12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7747200" y="4568760"/>
                <a:ext cx="12600" cy="14760"/>
              </a:xfrm>
              <a:custGeom>
                <a:avLst/>
                <a:gdLst/>
                <a:ahLst/>
                <a:rect l="l" t="t" r="r" b="b"/>
                <a:pathLst>
                  <a:path w="12" h="11">
                    <a:moveTo>
                      <a:pt x="0" y="9"/>
                    </a:moveTo>
                    <a:lnTo>
                      <a:pt x="6" y="0"/>
                    </a:lnTo>
                    <a:lnTo>
                      <a:pt x="12" y="9"/>
                    </a:lnTo>
                    <a:lnTo>
                      <a:pt x="9" y="10"/>
                    </a:lnTo>
                    <a:lnTo>
                      <a:pt x="6" y="11"/>
                    </a:lnTo>
                    <a:lnTo>
                      <a:pt x="3" y="10"/>
                    </a:lnTo>
                    <a:lnTo>
                      <a:pt x="0"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grpSp>
      </p:grpSp>
      <p:sp>
        <p:nvSpPr>
          <p:cNvPr id="1625" name="PlaceHolder 1"/>
          <p:cNvSpPr>
            <a:spLocks noGrp="1"/>
          </p:cNvSpPr>
          <p:nvPr>
            <p:ph type="title"/>
          </p:nvPr>
        </p:nvSpPr>
        <p:spPr>
          <a:xfrm>
            <a:off x="160200" y="461520"/>
            <a:ext cx="83217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their pain?</a:t>
            </a:r>
            <a:endParaRPr b="0" lang="en-US" sz="2800" spc="-1" strike="noStrike">
              <a:solidFill>
                <a:srgbClr val="7889fb"/>
              </a:solidFill>
              <a:latin typeface="Arial"/>
            </a:endParaRPr>
          </a:p>
        </p:txBody>
      </p:sp>
      <p:sp>
        <p:nvSpPr>
          <p:cNvPr id="1626" name=""/>
          <p:cNvSpPr/>
          <p:nvPr/>
        </p:nvSpPr>
        <p:spPr>
          <a:xfrm>
            <a:off x="228600" y="1143000"/>
            <a:ext cx="849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he CIO has ever increasing application maintenance costs.</a:t>
            </a:r>
            <a:endParaRPr b="0" lang="en-US" sz="2000" spc="-1" strike="noStrike">
              <a:solidFill>
                <a:srgbClr val="ffffff"/>
              </a:solidFill>
              <a:latin typeface="Arial"/>
            </a:endParaRPr>
          </a:p>
        </p:txBody>
      </p:sp>
      <p:sp>
        <p:nvSpPr>
          <p:cNvPr id="1627" name=""/>
          <p:cNvSpPr/>
          <p:nvPr/>
        </p:nvSpPr>
        <p:spPr>
          <a:xfrm>
            <a:off x="243000" y="1806480"/>
            <a:ext cx="3144600" cy="3848040"/>
          </a:xfrm>
          <a:prstGeom prst="rect">
            <a:avLst/>
          </a:prstGeom>
          <a:gradFill rotWithShape="0">
            <a:gsLst>
              <a:gs pos="0">
                <a:srgbClr val="6c96c4">
                  <a:alpha val="56078"/>
                </a:srgbClr>
              </a:gs>
              <a:gs pos="100000">
                <a:srgbClr val="ffffff">
                  <a:alpha val="59215"/>
                </a:srgbClr>
              </a:gs>
            </a:gsLst>
            <a:lin ang="5400000"/>
          </a:gradFill>
          <a:ln w="38160">
            <a:solidFill>
              <a:srgbClr val="808080"/>
            </a:solidFill>
            <a:miter/>
          </a:ln>
        </p:spPr>
        <p:style>
          <a:lnRef idx="0"/>
          <a:fillRef idx="0"/>
          <a:effectRef idx="0"/>
          <a:fontRef idx="minor"/>
        </p:style>
        <p:txBody>
          <a:bodyPr wrap="none" lIns="90000" rIns="90000" tIns="18000" bIns="46800" anchor="ctr">
            <a:noAutofit/>
          </a:bodyPr>
          <a:p>
            <a:endParaRPr b="0" lang="en-US" sz="1800" spc="-1" strike="noStrike">
              <a:solidFill>
                <a:srgbClr val="ffffff"/>
              </a:solidFill>
              <a:latin typeface="Arial"/>
            </a:endParaRPr>
          </a:p>
        </p:txBody>
      </p:sp>
      <p:sp>
        <p:nvSpPr>
          <p:cNvPr id="1628" name=""/>
          <p:cNvSpPr/>
          <p:nvPr/>
        </p:nvSpPr>
        <p:spPr>
          <a:xfrm>
            <a:off x="355680" y="1854360"/>
            <a:ext cx="30081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In 2004, </a:t>
            </a:r>
            <a:r>
              <a:rPr b="1" i="1" lang="en-US" sz="2000" spc="-1" strike="noStrike">
                <a:solidFill>
                  <a:srgbClr val="000099"/>
                </a:solidFill>
                <a:latin typeface="Arial"/>
                <a:ea typeface="Arial"/>
              </a:rPr>
              <a:t>73%</a:t>
            </a:r>
            <a:r>
              <a:rPr b="1" i="1" lang="en-US" sz="2000" spc="-1" strike="noStrike">
                <a:solidFill>
                  <a:srgbClr val="ffffff"/>
                </a:solidFill>
                <a:latin typeface="Arial"/>
                <a:ea typeface="Arial"/>
              </a:rPr>
              <a:t> of I.T. budgets were spent on maintenance</a:t>
            </a:r>
            <a:r>
              <a:rPr b="0" i="1" lang="en-US" sz="2000" spc="-1" strike="noStrike">
                <a:solidFill>
                  <a:srgbClr val="ffffff"/>
                </a:solidFill>
                <a:latin typeface="Arial"/>
                <a:ea typeface="Arial"/>
              </a:rPr>
              <a:t> and 27% on new invest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In 2005, survey respondents expect to spend </a:t>
            </a:r>
            <a:r>
              <a:rPr b="1" i="1" lang="en-US" sz="2000" spc="-1" strike="noStrike">
                <a:solidFill>
                  <a:srgbClr val="000099"/>
                </a:solidFill>
                <a:latin typeface="Arial"/>
                <a:ea typeface="Arial"/>
              </a:rPr>
              <a:t>76%</a:t>
            </a:r>
            <a:r>
              <a:rPr b="1" i="1" lang="en-US" sz="2000" spc="-1" strike="noStrike">
                <a:solidFill>
                  <a:srgbClr val="ffffff"/>
                </a:solidFill>
                <a:latin typeface="Arial"/>
                <a:ea typeface="Arial"/>
              </a:rPr>
              <a:t> on maintenance</a:t>
            </a:r>
            <a:r>
              <a:rPr b="0" i="1" lang="en-US" sz="2000" spc="-1" strike="noStrike">
                <a:solidFill>
                  <a:srgbClr val="ffffff"/>
                </a:solidFill>
                <a:latin typeface="Arial"/>
                <a:ea typeface="Arial"/>
              </a:rPr>
              <a:t>, leaving just 24% for new investments.”</a:t>
            </a:r>
            <a:endParaRPr b="0" lang="en-US" sz="2000" spc="-1" strike="noStrike">
              <a:solidFill>
                <a:srgbClr val="ffffff"/>
              </a:solidFill>
              <a:latin typeface="Arial"/>
            </a:endParaRPr>
          </a:p>
          <a:p>
            <a:pPr lvl="1" marL="457200" indent="-231840" algn="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rester Research*</a:t>
            </a:r>
            <a:endParaRPr b="0" lang="en-US" sz="1600" spc="-1" strike="noStrike">
              <a:solidFill>
                <a:srgbClr val="ffffff"/>
              </a:solidFill>
              <a:latin typeface="Arial"/>
            </a:endParaRPr>
          </a:p>
        </p:txBody>
      </p:sp>
      <p:sp>
        <p:nvSpPr>
          <p:cNvPr id="1629" name=""/>
          <p:cNvSpPr/>
          <p:nvPr/>
        </p:nvSpPr>
        <p:spPr>
          <a:xfrm>
            <a:off x="1295280" y="6105600"/>
            <a:ext cx="7591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PM Tools Will Reach $500 Million To $700 Million By 2008, Forrester Research, Phil Murphy, July 2005</a:t>
            </a:r>
            <a:endParaRPr b="0" lang="en-US" sz="1200" spc="-1" strike="noStrike">
              <a:solidFill>
                <a:srgbClr val="ffffff"/>
              </a:solidFill>
              <a:latin typeface="Arial"/>
            </a:endParaRPr>
          </a:p>
        </p:txBody>
      </p:sp>
      <p:sp>
        <p:nvSpPr>
          <p:cNvPr id="3" name="PlaceHolder 2"/>
          <p:cNvSpPr>
            <a:spLocks noGrp="1"/>
          </p:cNvSpPr>
          <p:nvPr>
            <p:ph type="sldNum" idx="4"/>
          </p:nvPr>
        </p:nvSpPr>
        <p:spPr/>
        <p:txBody>
          <a:bodyPr/>
          <a:p>
            <a:fld id="{2E7F96CE-6564-4890-886A-E137C90F32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85680" y="552240"/>
            <a:ext cx="91440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problem: interface logic is buried within applications</a:t>
            </a:r>
            <a:endParaRPr b="0" lang="en-US" sz="2800" spc="-1" strike="noStrike">
              <a:solidFill>
                <a:srgbClr val="7889fb"/>
              </a:solidFill>
              <a:latin typeface="Arial"/>
            </a:endParaRPr>
          </a:p>
        </p:txBody>
      </p:sp>
      <p:grpSp>
        <p:nvGrpSpPr>
          <p:cNvPr id="1631" name=""/>
          <p:cNvGrpSpPr/>
          <p:nvPr/>
        </p:nvGrpSpPr>
        <p:grpSpPr>
          <a:xfrm>
            <a:off x="546120" y="3363840"/>
            <a:ext cx="1695600" cy="1657440"/>
            <a:chOff x="546120" y="3363840"/>
            <a:chExt cx="1695600" cy="1657440"/>
          </a:xfrm>
        </p:grpSpPr>
        <p:sp>
          <p:nvSpPr>
            <p:cNvPr id="1632" name=""/>
            <p:cNvSpPr/>
            <p:nvPr/>
          </p:nvSpPr>
          <p:spPr>
            <a:xfrm>
              <a:off x="625320" y="3363840"/>
              <a:ext cx="1521000" cy="165744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33" name=""/>
            <p:cNvSpPr/>
            <p:nvPr/>
          </p:nvSpPr>
          <p:spPr>
            <a:xfrm>
              <a:off x="784800" y="46609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634" name=""/>
            <p:cNvGrpSpPr/>
            <p:nvPr/>
          </p:nvGrpSpPr>
          <p:grpSpPr>
            <a:xfrm>
              <a:off x="546120" y="3768840"/>
              <a:ext cx="1695600" cy="550800"/>
              <a:chOff x="546120" y="3768840"/>
              <a:chExt cx="1695600" cy="550800"/>
            </a:xfrm>
          </p:grpSpPr>
          <p:sp>
            <p:nvSpPr>
              <p:cNvPr id="1635" name=""/>
              <p:cNvSpPr/>
              <p:nvPr/>
            </p:nvSpPr>
            <p:spPr>
              <a:xfrm>
                <a:off x="692280" y="380376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36" name=""/>
              <p:cNvSpPr/>
              <p:nvPr/>
            </p:nvSpPr>
            <p:spPr>
              <a:xfrm>
                <a:off x="546120" y="376884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grpSp>
        <p:nvGrpSpPr>
          <p:cNvPr id="1637" name=""/>
          <p:cNvGrpSpPr/>
          <p:nvPr/>
        </p:nvGrpSpPr>
        <p:grpSpPr>
          <a:xfrm>
            <a:off x="228600" y="1380960"/>
            <a:ext cx="6717960" cy="1684440"/>
            <a:chOff x="228600" y="1380960"/>
            <a:chExt cx="6717960" cy="1684440"/>
          </a:xfrm>
        </p:grpSpPr>
        <p:sp>
          <p:nvSpPr>
            <p:cNvPr id="1638" name=""/>
            <p:cNvSpPr/>
            <p:nvPr/>
          </p:nvSpPr>
          <p:spPr>
            <a:xfrm>
              <a:off x="3363480" y="1405080"/>
              <a:ext cx="358308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THE RESULT:</a:t>
              </a:r>
              <a:r>
                <a:rPr b="1" lang="en-US" sz="1800" spc="-1" strike="noStrike" u="sng">
                  <a:solidFill>
                    <a:srgbClr val="04148e"/>
                  </a:solidFill>
                  <a:uFillTx/>
                  <a:latin typeface="Arial"/>
                  <a:ea typeface="Arial"/>
                </a:rPr>
                <a:t> </a:t>
              </a:r>
              <a:r>
                <a:rPr b="1" lang="en-US" sz="1800" spc="-1" strike="noStrike" u="sng">
                  <a:solidFill>
                    <a:srgbClr val="ffffff"/>
                  </a:solidFill>
                  <a:uFillTx/>
                  <a:latin typeface="Arial"/>
                  <a:ea typeface="Arial"/>
                </a:rPr>
                <a:t>COMPLEXITY</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48e"/>
                  </a:solidFill>
                  <a:latin typeface="Arial"/>
                  <a:ea typeface="Arial"/>
                </a:rPr>
                <a:t>Companies spend their I.T. budgets managing interfaces not applications.</a:t>
              </a:r>
              <a:endParaRPr b="0" lang="en-US" sz="1800" spc="-1" strike="noStrike">
                <a:solidFill>
                  <a:srgbClr val="ffffff"/>
                </a:solidFill>
                <a:latin typeface="Arial"/>
              </a:endParaRPr>
            </a:p>
          </p:txBody>
        </p:sp>
        <p:grpSp>
          <p:nvGrpSpPr>
            <p:cNvPr id="1639" name=""/>
            <p:cNvGrpSpPr/>
            <p:nvPr/>
          </p:nvGrpSpPr>
          <p:grpSpPr>
            <a:xfrm>
              <a:off x="228600" y="1380960"/>
              <a:ext cx="3002400" cy="1684440"/>
              <a:chOff x="228600" y="1380960"/>
              <a:chExt cx="3002400" cy="1684440"/>
            </a:xfrm>
          </p:grpSpPr>
          <p:pic>
            <p:nvPicPr>
              <p:cNvPr id="1640" name="" descr=""/>
              <p:cNvPicPr/>
              <p:nvPr/>
            </p:nvPicPr>
            <p:blipFill>
              <a:blip r:embed="rId1"/>
              <a:stretch/>
            </p:blipFill>
            <p:spPr>
              <a:xfrm>
                <a:off x="228600" y="1380960"/>
                <a:ext cx="3002400" cy="1684440"/>
              </a:xfrm>
              <a:prstGeom prst="rect">
                <a:avLst/>
              </a:prstGeom>
              <a:ln w="0">
                <a:noFill/>
              </a:ln>
            </p:spPr>
          </p:pic>
        </p:grpSp>
      </p:grpSp>
      <p:sp>
        <p:nvSpPr>
          <p:cNvPr id="1641" name="PlaceHolder 2"/>
          <p:cNvSpPr>
            <a:spLocks noGrp="1"/>
          </p:cNvSpPr>
          <p:nvPr>
            <p:ph/>
          </p:nvPr>
        </p:nvSpPr>
        <p:spPr>
          <a:xfrm>
            <a:off x="531360" y="5070240"/>
            <a:ext cx="8610840" cy="36828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the application interface means opening up the application</a:t>
            </a:r>
            <a:endParaRPr b="0" lang="en-US" sz="1800" spc="-1" strike="noStrike">
              <a:solidFill>
                <a:srgbClr val="000000"/>
              </a:solidFill>
              <a:latin typeface="Arial"/>
            </a:endParaRPr>
          </a:p>
        </p:txBody>
      </p:sp>
      <p:sp>
        <p:nvSpPr>
          <p:cNvPr id="1642" name=""/>
          <p:cNvSpPr/>
          <p:nvPr/>
        </p:nvSpPr>
        <p:spPr>
          <a:xfrm>
            <a:off x="531720" y="6108840"/>
            <a:ext cx="7189920" cy="366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nterface logic soon exceeds business logic.</a:t>
            </a:r>
            <a:endParaRPr b="0" lang="en-US" sz="1800" spc="-1" strike="noStrike">
              <a:solidFill>
                <a:srgbClr val="ffffff"/>
              </a:solidFill>
              <a:latin typeface="Arial"/>
            </a:endParaRPr>
          </a:p>
        </p:txBody>
      </p:sp>
      <p:sp>
        <p:nvSpPr>
          <p:cNvPr id="1643" name=""/>
          <p:cNvSpPr/>
          <p:nvPr/>
        </p:nvSpPr>
        <p:spPr>
          <a:xfrm>
            <a:off x="531720" y="5745240"/>
            <a:ext cx="8610840" cy="3682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more interfaces, the more changes are required</a:t>
            </a:r>
            <a:endParaRPr b="0" lang="en-US" sz="1800" spc="-1" strike="noStrike">
              <a:solidFill>
                <a:srgbClr val="ffffff"/>
              </a:solidFill>
              <a:latin typeface="Arial"/>
            </a:endParaRPr>
          </a:p>
        </p:txBody>
      </p:sp>
      <p:sp>
        <p:nvSpPr>
          <p:cNvPr id="1644" name=""/>
          <p:cNvSpPr/>
          <p:nvPr/>
        </p:nvSpPr>
        <p:spPr>
          <a:xfrm>
            <a:off x="530280" y="5391000"/>
            <a:ext cx="7765920" cy="3668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lications are tightly coupled; one application change affects another </a:t>
            </a:r>
            <a:endParaRPr b="0" lang="en-US" sz="1800" spc="-1" strike="noStrike">
              <a:solidFill>
                <a:srgbClr val="ffffff"/>
              </a:solidFill>
              <a:latin typeface="Arial"/>
            </a:endParaRPr>
          </a:p>
        </p:txBody>
      </p:sp>
      <p:grpSp>
        <p:nvGrpSpPr>
          <p:cNvPr id="1645" name=""/>
          <p:cNvGrpSpPr/>
          <p:nvPr/>
        </p:nvGrpSpPr>
        <p:grpSpPr>
          <a:xfrm>
            <a:off x="2857680" y="2847960"/>
            <a:ext cx="1542960" cy="2054160"/>
            <a:chOff x="2857680" y="2847960"/>
            <a:chExt cx="1542960" cy="2054160"/>
          </a:xfrm>
        </p:grpSpPr>
        <p:sp>
          <p:nvSpPr>
            <p:cNvPr id="1646" name=""/>
            <p:cNvSpPr/>
            <p:nvPr/>
          </p:nvSpPr>
          <p:spPr>
            <a:xfrm>
              <a:off x="2859480" y="3244680"/>
              <a:ext cx="1520640" cy="165744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47" name=""/>
            <p:cNvSpPr/>
            <p:nvPr/>
          </p:nvSpPr>
          <p:spPr>
            <a:xfrm>
              <a:off x="3018600" y="454176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648" name=""/>
            <p:cNvGrpSpPr/>
            <p:nvPr/>
          </p:nvGrpSpPr>
          <p:grpSpPr>
            <a:xfrm>
              <a:off x="2857680" y="3641400"/>
              <a:ext cx="1542960" cy="520920"/>
              <a:chOff x="2857680" y="3641400"/>
              <a:chExt cx="1542960" cy="520920"/>
            </a:xfrm>
          </p:grpSpPr>
          <p:sp>
            <p:nvSpPr>
              <p:cNvPr id="1649" name=""/>
              <p:cNvSpPr/>
              <p:nvPr/>
            </p:nvSpPr>
            <p:spPr>
              <a:xfrm>
                <a:off x="2940120" y="367812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50" name=""/>
              <p:cNvSpPr/>
              <p:nvPr/>
            </p:nvSpPr>
            <p:spPr>
              <a:xfrm>
                <a:off x="2857680" y="36414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651" name=""/>
            <p:cNvGrpSpPr/>
            <p:nvPr/>
          </p:nvGrpSpPr>
          <p:grpSpPr>
            <a:xfrm>
              <a:off x="3157560" y="2847960"/>
              <a:ext cx="915840" cy="1150920"/>
              <a:chOff x="3157560" y="2847960"/>
              <a:chExt cx="915840" cy="1150920"/>
            </a:xfrm>
          </p:grpSpPr>
          <p:sp>
            <p:nvSpPr>
              <p:cNvPr id="1652" name=""/>
              <p:cNvSpPr/>
              <p:nvPr/>
            </p:nvSpPr>
            <p:spPr>
              <a:xfrm>
                <a:off x="3608640" y="2847960"/>
                <a:ext cx="15840" cy="115092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53" name=""/>
              <p:cNvGrpSpPr/>
              <p:nvPr/>
            </p:nvGrpSpPr>
            <p:grpSpPr>
              <a:xfrm>
                <a:off x="3157560" y="3416040"/>
                <a:ext cx="915840" cy="150480"/>
                <a:chOff x="3157560" y="3416040"/>
                <a:chExt cx="915840" cy="150480"/>
              </a:xfrm>
            </p:grpSpPr>
            <p:grpSp>
              <p:nvGrpSpPr>
                <p:cNvPr id="1654" name=""/>
                <p:cNvGrpSpPr/>
                <p:nvPr/>
              </p:nvGrpSpPr>
              <p:grpSpPr>
                <a:xfrm>
                  <a:off x="3157560" y="3416040"/>
                  <a:ext cx="176040" cy="144360"/>
                  <a:chOff x="3157560" y="3416040"/>
                  <a:chExt cx="176040" cy="144360"/>
                </a:xfrm>
              </p:grpSpPr>
              <p:sp>
                <p:nvSpPr>
                  <p:cNvPr id="1655" name=""/>
                  <p:cNvSpPr/>
                  <p:nvPr/>
                </p:nvSpPr>
                <p:spPr>
                  <a:xfrm flipH="1" flipV="1">
                    <a:off x="3157560" y="3416040"/>
                    <a:ext cx="176040" cy="42120"/>
                  </a:xfrm>
                  <a:prstGeom prst="line">
                    <a:avLst/>
                  </a:prstGeom>
                  <a:ln w="2844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1656" name=""/>
                  <p:cNvSpPr/>
                  <p:nvPr/>
                </p:nvSpPr>
                <p:spPr>
                  <a:xfrm flipH="1">
                    <a:off x="3157560" y="3518280"/>
                    <a:ext cx="176040" cy="42120"/>
                  </a:xfrm>
                  <a:prstGeom prst="line">
                    <a:avLst/>
                  </a:prstGeom>
                  <a:ln w="3816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grpSp>
            <p:grpSp>
              <p:nvGrpSpPr>
                <p:cNvPr id="1657" name=""/>
                <p:cNvGrpSpPr/>
                <p:nvPr/>
              </p:nvGrpSpPr>
              <p:grpSpPr>
                <a:xfrm>
                  <a:off x="3897360" y="3422160"/>
                  <a:ext cx="176040" cy="144360"/>
                  <a:chOff x="3897360" y="3422160"/>
                  <a:chExt cx="176040" cy="144360"/>
                </a:xfrm>
              </p:grpSpPr>
              <p:sp>
                <p:nvSpPr>
                  <p:cNvPr id="1658" name=""/>
                  <p:cNvSpPr/>
                  <p:nvPr/>
                </p:nvSpPr>
                <p:spPr>
                  <a:xfrm flipV="1">
                    <a:off x="3897360" y="3422160"/>
                    <a:ext cx="176040" cy="42120"/>
                  </a:xfrm>
                  <a:prstGeom prst="line">
                    <a:avLst/>
                  </a:prstGeom>
                  <a:ln w="2844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1659" name=""/>
                  <p:cNvSpPr/>
                  <p:nvPr/>
                </p:nvSpPr>
                <p:spPr>
                  <a:xfrm>
                    <a:off x="3897360" y="3524400"/>
                    <a:ext cx="176040" cy="42120"/>
                  </a:xfrm>
                  <a:prstGeom prst="line">
                    <a:avLst/>
                  </a:prstGeom>
                  <a:ln w="3816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grpSp>
          </p:grpSp>
          <p:grpSp>
            <p:nvGrpSpPr>
              <p:cNvPr id="1660" name=""/>
              <p:cNvGrpSpPr/>
              <p:nvPr/>
            </p:nvGrpSpPr>
            <p:grpSpPr>
              <a:xfrm>
                <a:off x="3166920" y="3846600"/>
                <a:ext cx="900720" cy="148320"/>
                <a:chOff x="3166920" y="3846600"/>
                <a:chExt cx="900720" cy="148320"/>
              </a:xfrm>
            </p:grpSpPr>
            <p:grpSp>
              <p:nvGrpSpPr>
                <p:cNvPr id="1661" name=""/>
                <p:cNvGrpSpPr/>
                <p:nvPr/>
              </p:nvGrpSpPr>
              <p:grpSpPr>
                <a:xfrm>
                  <a:off x="3166920" y="3846600"/>
                  <a:ext cx="176040" cy="142200"/>
                  <a:chOff x="3166920" y="3846600"/>
                  <a:chExt cx="176040" cy="142200"/>
                </a:xfrm>
              </p:grpSpPr>
              <p:sp>
                <p:nvSpPr>
                  <p:cNvPr id="1662" name=""/>
                  <p:cNvSpPr/>
                  <p:nvPr/>
                </p:nvSpPr>
                <p:spPr>
                  <a:xfrm flipH="1" flipV="1">
                    <a:off x="3166920" y="3846600"/>
                    <a:ext cx="176040" cy="41760"/>
                  </a:xfrm>
                  <a:prstGeom prst="line">
                    <a:avLst/>
                  </a:prstGeom>
                  <a:ln w="2844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3" name=""/>
                  <p:cNvSpPr/>
                  <p:nvPr/>
                </p:nvSpPr>
                <p:spPr>
                  <a:xfrm flipH="1">
                    <a:off x="3166920" y="3947040"/>
                    <a:ext cx="176040" cy="41760"/>
                  </a:xfrm>
                  <a:prstGeom prst="line">
                    <a:avLst/>
                  </a:prstGeom>
                  <a:ln w="3816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grpSp>
            <p:grpSp>
              <p:nvGrpSpPr>
                <p:cNvPr id="1664" name=""/>
                <p:cNvGrpSpPr/>
                <p:nvPr/>
              </p:nvGrpSpPr>
              <p:grpSpPr>
                <a:xfrm>
                  <a:off x="3891600" y="3852720"/>
                  <a:ext cx="176040" cy="142200"/>
                  <a:chOff x="3891600" y="3852720"/>
                  <a:chExt cx="176040" cy="142200"/>
                </a:xfrm>
              </p:grpSpPr>
              <p:sp>
                <p:nvSpPr>
                  <p:cNvPr id="1665" name=""/>
                  <p:cNvSpPr/>
                  <p:nvPr/>
                </p:nvSpPr>
                <p:spPr>
                  <a:xfrm flipV="1">
                    <a:off x="3891600" y="3852720"/>
                    <a:ext cx="176040" cy="41760"/>
                  </a:xfrm>
                  <a:prstGeom prst="line">
                    <a:avLst/>
                  </a:prstGeom>
                  <a:ln w="2844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6" name=""/>
                  <p:cNvSpPr/>
                  <p:nvPr/>
                </p:nvSpPr>
                <p:spPr>
                  <a:xfrm>
                    <a:off x="3891600" y="3953160"/>
                    <a:ext cx="176040" cy="41760"/>
                  </a:xfrm>
                  <a:prstGeom prst="line">
                    <a:avLst/>
                  </a:prstGeom>
                  <a:ln w="3816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grpSp>
          </p:grpSp>
        </p:grpSp>
      </p:grpSp>
      <p:grpSp>
        <p:nvGrpSpPr>
          <p:cNvPr id="1667" name=""/>
          <p:cNvGrpSpPr/>
          <p:nvPr/>
        </p:nvGrpSpPr>
        <p:grpSpPr>
          <a:xfrm>
            <a:off x="2635200" y="2967120"/>
            <a:ext cx="1695600" cy="2054160"/>
            <a:chOff x="2635200" y="2967120"/>
            <a:chExt cx="1695600" cy="2054160"/>
          </a:xfrm>
        </p:grpSpPr>
        <p:sp>
          <p:nvSpPr>
            <p:cNvPr id="1668" name=""/>
            <p:cNvSpPr/>
            <p:nvPr/>
          </p:nvSpPr>
          <p:spPr>
            <a:xfrm>
              <a:off x="2706840" y="3363840"/>
              <a:ext cx="1520640" cy="165744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69" name=""/>
            <p:cNvSpPr/>
            <p:nvPr/>
          </p:nvSpPr>
          <p:spPr>
            <a:xfrm>
              <a:off x="2865960" y="46609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670" name=""/>
            <p:cNvGrpSpPr/>
            <p:nvPr/>
          </p:nvGrpSpPr>
          <p:grpSpPr>
            <a:xfrm>
              <a:off x="2635200" y="3778200"/>
              <a:ext cx="1695600" cy="550800"/>
              <a:chOff x="2635200" y="3778200"/>
              <a:chExt cx="1695600" cy="550800"/>
            </a:xfrm>
          </p:grpSpPr>
          <p:sp>
            <p:nvSpPr>
              <p:cNvPr id="1671" name=""/>
              <p:cNvSpPr/>
              <p:nvPr/>
            </p:nvSpPr>
            <p:spPr>
              <a:xfrm>
                <a:off x="2781360" y="381312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72" name=""/>
              <p:cNvSpPr/>
              <p:nvPr/>
            </p:nvSpPr>
            <p:spPr>
              <a:xfrm>
                <a:off x="2635200" y="377820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673" name=""/>
            <p:cNvGrpSpPr/>
            <p:nvPr/>
          </p:nvGrpSpPr>
          <p:grpSpPr>
            <a:xfrm>
              <a:off x="3004920" y="2967120"/>
              <a:ext cx="915840" cy="1150920"/>
              <a:chOff x="3004920" y="2967120"/>
              <a:chExt cx="915840" cy="1150920"/>
            </a:xfrm>
          </p:grpSpPr>
          <p:sp>
            <p:nvSpPr>
              <p:cNvPr id="1674" name=""/>
              <p:cNvSpPr/>
              <p:nvPr/>
            </p:nvSpPr>
            <p:spPr>
              <a:xfrm>
                <a:off x="3456000" y="2967120"/>
                <a:ext cx="15840" cy="115092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75" name=""/>
              <p:cNvGrpSpPr/>
              <p:nvPr/>
            </p:nvGrpSpPr>
            <p:grpSpPr>
              <a:xfrm>
                <a:off x="3004920" y="3535200"/>
                <a:ext cx="915840" cy="150480"/>
                <a:chOff x="3004920" y="3535200"/>
                <a:chExt cx="915840" cy="150480"/>
              </a:xfrm>
            </p:grpSpPr>
            <p:grpSp>
              <p:nvGrpSpPr>
                <p:cNvPr id="1676" name=""/>
                <p:cNvGrpSpPr/>
                <p:nvPr/>
              </p:nvGrpSpPr>
              <p:grpSpPr>
                <a:xfrm>
                  <a:off x="3004920" y="3535200"/>
                  <a:ext cx="176040" cy="144360"/>
                  <a:chOff x="3004920" y="3535200"/>
                  <a:chExt cx="176040" cy="144360"/>
                </a:xfrm>
              </p:grpSpPr>
              <p:sp>
                <p:nvSpPr>
                  <p:cNvPr id="1677" name=""/>
                  <p:cNvSpPr/>
                  <p:nvPr/>
                </p:nvSpPr>
                <p:spPr>
                  <a:xfrm flipH="1" flipV="1">
                    <a:off x="3004920" y="3535200"/>
                    <a:ext cx="176040" cy="42120"/>
                  </a:xfrm>
                  <a:prstGeom prst="line">
                    <a:avLst/>
                  </a:prstGeom>
                  <a:ln w="2844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1678" name=""/>
                  <p:cNvSpPr/>
                  <p:nvPr/>
                </p:nvSpPr>
                <p:spPr>
                  <a:xfrm flipH="1">
                    <a:off x="3004920" y="3637440"/>
                    <a:ext cx="176040" cy="42120"/>
                  </a:xfrm>
                  <a:prstGeom prst="line">
                    <a:avLst/>
                  </a:prstGeom>
                  <a:ln w="3816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grpSp>
            <p:grpSp>
              <p:nvGrpSpPr>
                <p:cNvPr id="1679" name=""/>
                <p:cNvGrpSpPr/>
                <p:nvPr/>
              </p:nvGrpSpPr>
              <p:grpSpPr>
                <a:xfrm>
                  <a:off x="3744720" y="3541320"/>
                  <a:ext cx="176040" cy="144360"/>
                  <a:chOff x="3744720" y="3541320"/>
                  <a:chExt cx="176040" cy="144360"/>
                </a:xfrm>
              </p:grpSpPr>
              <p:sp>
                <p:nvSpPr>
                  <p:cNvPr id="1680" name=""/>
                  <p:cNvSpPr/>
                  <p:nvPr/>
                </p:nvSpPr>
                <p:spPr>
                  <a:xfrm flipV="1">
                    <a:off x="3744720" y="3541320"/>
                    <a:ext cx="176040" cy="42120"/>
                  </a:xfrm>
                  <a:prstGeom prst="line">
                    <a:avLst/>
                  </a:prstGeom>
                  <a:ln w="2844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1681" name=""/>
                  <p:cNvSpPr/>
                  <p:nvPr/>
                </p:nvSpPr>
                <p:spPr>
                  <a:xfrm>
                    <a:off x="3744720" y="3643560"/>
                    <a:ext cx="176040" cy="42120"/>
                  </a:xfrm>
                  <a:prstGeom prst="line">
                    <a:avLst/>
                  </a:prstGeom>
                  <a:ln w="38160">
                    <a:solidFill>
                      <a:srgbClr val="000099"/>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grpSp>
          </p:grpSp>
          <p:grpSp>
            <p:nvGrpSpPr>
              <p:cNvPr id="1682" name=""/>
              <p:cNvGrpSpPr/>
              <p:nvPr/>
            </p:nvGrpSpPr>
            <p:grpSpPr>
              <a:xfrm>
                <a:off x="3014280" y="3965760"/>
                <a:ext cx="900720" cy="148320"/>
                <a:chOff x="3014280" y="3965760"/>
                <a:chExt cx="900720" cy="148320"/>
              </a:xfrm>
            </p:grpSpPr>
            <p:grpSp>
              <p:nvGrpSpPr>
                <p:cNvPr id="1683" name=""/>
                <p:cNvGrpSpPr/>
                <p:nvPr/>
              </p:nvGrpSpPr>
              <p:grpSpPr>
                <a:xfrm>
                  <a:off x="3014280" y="3965760"/>
                  <a:ext cx="176040" cy="142200"/>
                  <a:chOff x="3014280" y="3965760"/>
                  <a:chExt cx="176040" cy="142200"/>
                </a:xfrm>
              </p:grpSpPr>
              <p:sp>
                <p:nvSpPr>
                  <p:cNvPr id="1684" name=""/>
                  <p:cNvSpPr/>
                  <p:nvPr/>
                </p:nvSpPr>
                <p:spPr>
                  <a:xfrm flipH="1" flipV="1">
                    <a:off x="3014280" y="3965760"/>
                    <a:ext cx="176040" cy="41760"/>
                  </a:xfrm>
                  <a:prstGeom prst="line">
                    <a:avLst/>
                  </a:prstGeom>
                  <a:ln w="2844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85" name=""/>
                  <p:cNvSpPr/>
                  <p:nvPr/>
                </p:nvSpPr>
                <p:spPr>
                  <a:xfrm flipH="1">
                    <a:off x="3014280" y="4066200"/>
                    <a:ext cx="176040" cy="41760"/>
                  </a:xfrm>
                  <a:prstGeom prst="line">
                    <a:avLst/>
                  </a:prstGeom>
                  <a:ln w="3816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grpSp>
            <p:grpSp>
              <p:nvGrpSpPr>
                <p:cNvPr id="1686" name=""/>
                <p:cNvGrpSpPr/>
                <p:nvPr/>
              </p:nvGrpSpPr>
              <p:grpSpPr>
                <a:xfrm>
                  <a:off x="3738960" y="3971880"/>
                  <a:ext cx="176040" cy="142200"/>
                  <a:chOff x="3738960" y="3971880"/>
                  <a:chExt cx="176040" cy="142200"/>
                </a:xfrm>
              </p:grpSpPr>
              <p:sp>
                <p:nvSpPr>
                  <p:cNvPr id="1687" name=""/>
                  <p:cNvSpPr/>
                  <p:nvPr/>
                </p:nvSpPr>
                <p:spPr>
                  <a:xfrm flipV="1">
                    <a:off x="3738960" y="3971880"/>
                    <a:ext cx="176040" cy="41760"/>
                  </a:xfrm>
                  <a:prstGeom prst="line">
                    <a:avLst/>
                  </a:prstGeom>
                  <a:ln w="2844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88" name=""/>
                  <p:cNvSpPr/>
                  <p:nvPr/>
                </p:nvSpPr>
                <p:spPr>
                  <a:xfrm>
                    <a:off x="3738960" y="4072320"/>
                    <a:ext cx="176040" cy="41760"/>
                  </a:xfrm>
                  <a:prstGeom prst="line">
                    <a:avLst/>
                  </a:prstGeom>
                  <a:ln w="38160">
                    <a:solidFill>
                      <a:srgbClr val="000099"/>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grpSp>
          </p:grpSp>
        </p:grpSp>
      </p:grpSp>
      <p:grpSp>
        <p:nvGrpSpPr>
          <p:cNvPr id="1689" name=""/>
          <p:cNvGrpSpPr/>
          <p:nvPr/>
        </p:nvGrpSpPr>
        <p:grpSpPr>
          <a:xfrm>
            <a:off x="4724280" y="2173320"/>
            <a:ext cx="1904760" cy="2841480"/>
            <a:chOff x="4724280" y="2173320"/>
            <a:chExt cx="1904760" cy="2841480"/>
          </a:xfrm>
        </p:grpSpPr>
        <p:grpSp>
          <p:nvGrpSpPr>
            <p:cNvPr id="1690" name=""/>
            <p:cNvGrpSpPr/>
            <p:nvPr/>
          </p:nvGrpSpPr>
          <p:grpSpPr>
            <a:xfrm>
              <a:off x="5076720" y="2173320"/>
              <a:ext cx="1552320" cy="2631960"/>
              <a:chOff x="5076720" y="2173320"/>
              <a:chExt cx="1552320" cy="2631960"/>
            </a:xfrm>
          </p:grpSpPr>
          <p:sp>
            <p:nvSpPr>
              <p:cNvPr id="1691" name=""/>
              <p:cNvSpPr/>
              <p:nvPr/>
            </p:nvSpPr>
            <p:spPr>
              <a:xfrm>
                <a:off x="5083200" y="2635200"/>
                <a:ext cx="1520640" cy="21700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2" name=""/>
              <p:cNvSpPr/>
              <p:nvPr/>
            </p:nvSpPr>
            <p:spPr>
              <a:xfrm>
                <a:off x="5242320" y="44449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693" name=""/>
              <p:cNvGrpSpPr/>
              <p:nvPr/>
            </p:nvGrpSpPr>
            <p:grpSpPr>
              <a:xfrm>
                <a:off x="5076720" y="3560760"/>
                <a:ext cx="1542960" cy="520200"/>
                <a:chOff x="5076720" y="3560760"/>
                <a:chExt cx="1542960" cy="520200"/>
              </a:xfrm>
            </p:grpSpPr>
            <p:sp>
              <p:nvSpPr>
                <p:cNvPr id="1694" name=""/>
                <p:cNvSpPr/>
                <p:nvPr/>
              </p:nvSpPr>
              <p:spPr>
                <a:xfrm>
                  <a:off x="5159160" y="3597120"/>
                  <a:ext cx="1378080" cy="48384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5" name=""/>
                <p:cNvSpPr/>
                <p:nvPr/>
              </p:nvSpPr>
              <p:spPr>
                <a:xfrm>
                  <a:off x="5076720" y="356076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696" name=""/>
              <p:cNvGrpSpPr/>
              <p:nvPr/>
            </p:nvGrpSpPr>
            <p:grpSpPr>
              <a:xfrm>
                <a:off x="5086080" y="3014640"/>
                <a:ext cx="1542960" cy="520200"/>
                <a:chOff x="5086080" y="3014640"/>
                <a:chExt cx="1542960" cy="520200"/>
              </a:xfrm>
            </p:grpSpPr>
            <p:sp>
              <p:nvSpPr>
                <p:cNvPr id="1697" name=""/>
                <p:cNvSpPr/>
                <p:nvPr/>
              </p:nvSpPr>
              <p:spPr>
                <a:xfrm>
                  <a:off x="5168520" y="3051000"/>
                  <a:ext cx="1378080" cy="48384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8" name=""/>
                <p:cNvSpPr/>
                <p:nvPr/>
              </p:nvSpPr>
              <p:spPr>
                <a:xfrm>
                  <a:off x="5086080" y="301464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699" name=""/>
              <p:cNvGrpSpPr/>
              <p:nvPr/>
            </p:nvGrpSpPr>
            <p:grpSpPr>
              <a:xfrm>
                <a:off x="5354280" y="2173320"/>
                <a:ext cx="937800" cy="1772280"/>
                <a:chOff x="5354280" y="2173320"/>
                <a:chExt cx="937800" cy="1772280"/>
              </a:xfrm>
            </p:grpSpPr>
            <p:sp>
              <p:nvSpPr>
                <p:cNvPr id="1700" name=""/>
                <p:cNvSpPr/>
                <p:nvPr/>
              </p:nvSpPr>
              <p:spPr>
                <a:xfrm>
                  <a:off x="5827680" y="2173320"/>
                  <a:ext cx="15480" cy="173016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1" name=""/>
                <p:cNvGrpSpPr/>
                <p:nvPr/>
              </p:nvGrpSpPr>
              <p:grpSpPr>
                <a:xfrm>
                  <a:off x="5376240" y="3171600"/>
                  <a:ext cx="915840" cy="224640"/>
                  <a:chOff x="5376240" y="3171600"/>
                  <a:chExt cx="915840" cy="224640"/>
                </a:xfrm>
              </p:grpSpPr>
              <p:grpSp>
                <p:nvGrpSpPr>
                  <p:cNvPr id="1702" name=""/>
                  <p:cNvGrpSpPr/>
                  <p:nvPr/>
                </p:nvGrpSpPr>
                <p:grpSpPr>
                  <a:xfrm>
                    <a:off x="5376240" y="3171600"/>
                    <a:ext cx="176040" cy="215640"/>
                    <a:chOff x="5376240" y="3171600"/>
                    <a:chExt cx="176040" cy="215640"/>
                  </a:xfrm>
                </p:grpSpPr>
                <p:sp>
                  <p:nvSpPr>
                    <p:cNvPr id="1703" name=""/>
                    <p:cNvSpPr/>
                    <p:nvPr/>
                  </p:nvSpPr>
                  <p:spPr>
                    <a:xfrm flipH="1" flipV="1">
                      <a:off x="5376240" y="31716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04" name=""/>
                    <p:cNvSpPr/>
                    <p:nvPr/>
                  </p:nvSpPr>
                  <p:spPr>
                    <a:xfrm flipH="1">
                      <a:off x="5376240" y="33238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05" name=""/>
                  <p:cNvGrpSpPr/>
                  <p:nvPr/>
                </p:nvGrpSpPr>
                <p:grpSpPr>
                  <a:xfrm>
                    <a:off x="6116040" y="3180600"/>
                    <a:ext cx="176040" cy="215640"/>
                    <a:chOff x="6116040" y="3180600"/>
                    <a:chExt cx="176040" cy="215640"/>
                  </a:xfrm>
                </p:grpSpPr>
                <p:sp>
                  <p:nvSpPr>
                    <p:cNvPr id="1706" name=""/>
                    <p:cNvSpPr/>
                    <p:nvPr/>
                  </p:nvSpPr>
                  <p:spPr>
                    <a:xfrm flipV="1">
                      <a:off x="6116040" y="31806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07" name=""/>
                    <p:cNvSpPr/>
                    <p:nvPr/>
                  </p:nvSpPr>
                  <p:spPr>
                    <a:xfrm>
                      <a:off x="6116040" y="33328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08" name=""/>
                <p:cNvGrpSpPr/>
                <p:nvPr/>
              </p:nvGrpSpPr>
              <p:grpSpPr>
                <a:xfrm>
                  <a:off x="5386320" y="3720600"/>
                  <a:ext cx="899280" cy="225000"/>
                  <a:chOff x="5386320" y="3720600"/>
                  <a:chExt cx="899280" cy="225000"/>
                </a:xfrm>
              </p:grpSpPr>
              <p:grpSp>
                <p:nvGrpSpPr>
                  <p:cNvPr id="1709" name=""/>
                  <p:cNvGrpSpPr/>
                  <p:nvPr/>
                </p:nvGrpSpPr>
                <p:grpSpPr>
                  <a:xfrm>
                    <a:off x="5386320" y="3720600"/>
                    <a:ext cx="175680" cy="215640"/>
                    <a:chOff x="5386320" y="3720600"/>
                    <a:chExt cx="175680" cy="215640"/>
                  </a:xfrm>
                </p:grpSpPr>
                <p:sp>
                  <p:nvSpPr>
                    <p:cNvPr id="1710" name=""/>
                    <p:cNvSpPr/>
                    <p:nvPr/>
                  </p:nvSpPr>
                  <p:spPr>
                    <a:xfrm flipH="1" flipV="1">
                      <a:off x="5386320" y="3720600"/>
                      <a:ext cx="17568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11" name=""/>
                    <p:cNvSpPr/>
                    <p:nvPr/>
                  </p:nvSpPr>
                  <p:spPr>
                    <a:xfrm flipH="1">
                      <a:off x="5386320" y="3872880"/>
                      <a:ext cx="17568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12" name=""/>
                  <p:cNvGrpSpPr/>
                  <p:nvPr/>
                </p:nvGrpSpPr>
                <p:grpSpPr>
                  <a:xfrm>
                    <a:off x="6109560" y="3729960"/>
                    <a:ext cx="176040" cy="215640"/>
                    <a:chOff x="6109560" y="3729960"/>
                    <a:chExt cx="176040" cy="215640"/>
                  </a:xfrm>
                </p:grpSpPr>
                <p:sp>
                  <p:nvSpPr>
                    <p:cNvPr id="1713" name=""/>
                    <p:cNvSpPr/>
                    <p:nvPr/>
                  </p:nvSpPr>
                  <p:spPr>
                    <a:xfrm flipV="1">
                      <a:off x="6109560" y="37299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14" name=""/>
                    <p:cNvSpPr/>
                    <p:nvPr/>
                  </p:nvSpPr>
                  <p:spPr>
                    <a:xfrm>
                      <a:off x="6109560" y="38822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15" name=""/>
                <p:cNvGrpSpPr/>
                <p:nvPr/>
              </p:nvGrpSpPr>
              <p:grpSpPr>
                <a:xfrm>
                  <a:off x="5354280" y="2736360"/>
                  <a:ext cx="915840" cy="225000"/>
                  <a:chOff x="5354280" y="2736360"/>
                  <a:chExt cx="915840" cy="225000"/>
                </a:xfrm>
              </p:grpSpPr>
              <p:grpSp>
                <p:nvGrpSpPr>
                  <p:cNvPr id="1716" name=""/>
                  <p:cNvGrpSpPr/>
                  <p:nvPr/>
                </p:nvGrpSpPr>
                <p:grpSpPr>
                  <a:xfrm>
                    <a:off x="5354280" y="2736360"/>
                    <a:ext cx="176040" cy="215640"/>
                    <a:chOff x="5354280" y="2736360"/>
                    <a:chExt cx="176040" cy="215640"/>
                  </a:xfrm>
                </p:grpSpPr>
                <p:sp>
                  <p:nvSpPr>
                    <p:cNvPr id="1717" name=""/>
                    <p:cNvSpPr/>
                    <p:nvPr/>
                  </p:nvSpPr>
                  <p:spPr>
                    <a:xfrm flipH="1" flipV="1">
                      <a:off x="5354280" y="27363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18" name=""/>
                    <p:cNvSpPr/>
                    <p:nvPr/>
                  </p:nvSpPr>
                  <p:spPr>
                    <a:xfrm flipH="1">
                      <a:off x="5354280" y="28886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19" name=""/>
                  <p:cNvGrpSpPr/>
                  <p:nvPr/>
                </p:nvGrpSpPr>
                <p:grpSpPr>
                  <a:xfrm>
                    <a:off x="6094080" y="2745720"/>
                    <a:ext cx="176040" cy="215640"/>
                    <a:chOff x="6094080" y="2745720"/>
                    <a:chExt cx="176040" cy="215640"/>
                  </a:xfrm>
                </p:grpSpPr>
                <p:sp>
                  <p:nvSpPr>
                    <p:cNvPr id="1720" name=""/>
                    <p:cNvSpPr/>
                    <p:nvPr/>
                  </p:nvSpPr>
                  <p:spPr>
                    <a:xfrm flipV="1">
                      <a:off x="6094080" y="27457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21" name=""/>
                    <p:cNvSpPr/>
                    <p:nvPr/>
                  </p:nvSpPr>
                  <p:spPr>
                    <a:xfrm>
                      <a:off x="6094080" y="28980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grpSp>
          <p:nvGrpSpPr>
            <p:cNvPr id="1722" name=""/>
            <p:cNvGrpSpPr/>
            <p:nvPr/>
          </p:nvGrpSpPr>
          <p:grpSpPr>
            <a:xfrm>
              <a:off x="4938840" y="2278080"/>
              <a:ext cx="1551960" cy="2631960"/>
              <a:chOff x="4938840" y="2278080"/>
              <a:chExt cx="1551960" cy="2631960"/>
            </a:xfrm>
          </p:grpSpPr>
          <p:sp>
            <p:nvSpPr>
              <p:cNvPr id="1723" name=""/>
              <p:cNvSpPr/>
              <p:nvPr/>
            </p:nvSpPr>
            <p:spPr>
              <a:xfrm>
                <a:off x="4944960" y="2739960"/>
                <a:ext cx="1520280" cy="21700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24" name=""/>
              <p:cNvSpPr/>
              <p:nvPr/>
            </p:nvSpPr>
            <p:spPr>
              <a:xfrm>
                <a:off x="5104080" y="454968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725" name=""/>
              <p:cNvGrpSpPr/>
              <p:nvPr/>
            </p:nvGrpSpPr>
            <p:grpSpPr>
              <a:xfrm>
                <a:off x="4938840" y="3665520"/>
                <a:ext cx="1542600" cy="520200"/>
                <a:chOff x="4938840" y="3665520"/>
                <a:chExt cx="1542600" cy="520200"/>
              </a:xfrm>
            </p:grpSpPr>
            <p:sp>
              <p:nvSpPr>
                <p:cNvPr id="1726" name=""/>
                <p:cNvSpPr/>
                <p:nvPr/>
              </p:nvSpPr>
              <p:spPr>
                <a:xfrm>
                  <a:off x="5020920" y="3701880"/>
                  <a:ext cx="1377720" cy="48384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27" name=""/>
                <p:cNvSpPr/>
                <p:nvPr/>
              </p:nvSpPr>
              <p:spPr>
                <a:xfrm>
                  <a:off x="4938840" y="3665520"/>
                  <a:ext cx="1542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728" name=""/>
              <p:cNvGrpSpPr/>
              <p:nvPr/>
            </p:nvGrpSpPr>
            <p:grpSpPr>
              <a:xfrm>
                <a:off x="4947840" y="3119400"/>
                <a:ext cx="1542960" cy="520200"/>
                <a:chOff x="4947840" y="3119400"/>
                <a:chExt cx="1542960" cy="520200"/>
              </a:xfrm>
            </p:grpSpPr>
            <p:sp>
              <p:nvSpPr>
                <p:cNvPr id="1729" name=""/>
                <p:cNvSpPr/>
                <p:nvPr/>
              </p:nvSpPr>
              <p:spPr>
                <a:xfrm>
                  <a:off x="5030280" y="3155760"/>
                  <a:ext cx="1378080" cy="48384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30" name=""/>
                <p:cNvSpPr/>
                <p:nvPr/>
              </p:nvSpPr>
              <p:spPr>
                <a:xfrm>
                  <a:off x="4947840" y="31194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731" name=""/>
              <p:cNvGrpSpPr/>
              <p:nvPr/>
            </p:nvGrpSpPr>
            <p:grpSpPr>
              <a:xfrm>
                <a:off x="5216040" y="2278080"/>
                <a:ext cx="937440" cy="1772280"/>
                <a:chOff x="5216040" y="2278080"/>
                <a:chExt cx="937440" cy="1772280"/>
              </a:xfrm>
            </p:grpSpPr>
            <p:sp>
              <p:nvSpPr>
                <p:cNvPr id="1732" name=""/>
                <p:cNvSpPr/>
                <p:nvPr/>
              </p:nvSpPr>
              <p:spPr>
                <a:xfrm>
                  <a:off x="5689080" y="2278080"/>
                  <a:ext cx="15480" cy="173016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33" name=""/>
                <p:cNvGrpSpPr/>
                <p:nvPr/>
              </p:nvGrpSpPr>
              <p:grpSpPr>
                <a:xfrm>
                  <a:off x="5238000" y="3276360"/>
                  <a:ext cx="915480" cy="224640"/>
                  <a:chOff x="5238000" y="3276360"/>
                  <a:chExt cx="915480" cy="224640"/>
                </a:xfrm>
              </p:grpSpPr>
              <p:grpSp>
                <p:nvGrpSpPr>
                  <p:cNvPr id="1734" name=""/>
                  <p:cNvGrpSpPr/>
                  <p:nvPr/>
                </p:nvGrpSpPr>
                <p:grpSpPr>
                  <a:xfrm>
                    <a:off x="5238000" y="3276360"/>
                    <a:ext cx="176040" cy="215640"/>
                    <a:chOff x="5238000" y="3276360"/>
                    <a:chExt cx="176040" cy="215640"/>
                  </a:xfrm>
                </p:grpSpPr>
                <p:sp>
                  <p:nvSpPr>
                    <p:cNvPr id="1735" name=""/>
                    <p:cNvSpPr/>
                    <p:nvPr/>
                  </p:nvSpPr>
                  <p:spPr>
                    <a:xfrm flipH="1" flipV="1">
                      <a:off x="5238000" y="32763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36" name=""/>
                    <p:cNvSpPr/>
                    <p:nvPr/>
                  </p:nvSpPr>
                  <p:spPr>
                    <a:xfrm flipH="1">
                      <a:off x="5238000" y="34286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37" name=""/>
                  <p:cNvGrpSpPr/>
                  <p:nvPr/>
                </p:nvGrpSpPr>
                <p:grpSpPr>
                  <a:xfrm>
                    <a:off x="5977440" y="3285360"/>
                    <a:ext cx="176040" cy="215640"/>
                    <a:chOff x="5977440" y="3285360"/>
                    <a:chExt cx="176040" cy="215640"/>
                  </a:xfrm>
                </p:grpSpPr>
                <p:sp>
                  <p:nvSpPr>
                    <p:cNvPr id="1738" name=""/>
                    <p:cNvSpPr/>
                    <p:nvPr/>
                  </p:nvSpPr>
                  <p:spPr>
                    <a:xfrm flipV="1">
                      <a:off x="5977440" y="32853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39" name=""/>
                    <p:cNvSpPr/>
                    <p:nvPr/>
                  </p:nvSpPr>
                  <p:spPr>
                    <a:xfrm>
                      <a:off x="5977440" y="34376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40" name=""/>
                <p:cNvGrpSpPr/>
                <p:nvPr/>
              </p:nvGrpSpPr>
              <p:grpSpPr>
                <a:xfrm>
                  <a:off x="5248080" y="3825360"/>
                  <a:ext cx="898920" cy="225000"/>
                  <a:chOff x="5248080" y="3825360"/>
                  <a:chExt cx="898920" cy="225000"/>
                </a:xfrm>
              </p:grpSpPr>
              <p:grpSp>
                <p:nvGrpSpPr>
                  <p:cNvPr id="1741" name=""/>
                  <p:cNvGrpSpPr/>
                  <p:nvPr/>
                </p:nvGrpSpPr>
                <p:grpSpPr>
                  <a:xfrm>
                    <a:off x="5248080" y="3825360"/>
                    <a:ext cx="175680" cy="215640"/>
                    <a:chOff x="5248080" y="3825360"/>
                    <a:chExt cx="175680" cy="215640"/>
                  </a:xfrm>
                </p:grpSpPr>
                <p:sp>
                  <p:nvSpPr>
                    <p:cNvPr id="1742" name=""/>
                    <p:cNvSpPr/>
                    <p:nvPr/>
                  </p:nvSpPr>
                  <p:spPr>
                    <a:xfrm flipH="1" flipV="1">
                      <a:off x="5248080" y="3825360"/>
                      <a:ext cx="17568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43" name=""/>
                    <p:cNvSpPr/>
                    <p:nvPr/>
                  </p:nvSpPr>
                  <p:spPr>
                    <a:xfrm flipH="1">
                      <a:off x="5248080" y="3977640"/>
                      <a:ext cx="17568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44" name=""/>
                  <p:cNvGrpSpPr/>
                  <p:nvPr/>
                </p:nvGrpSpPr>
                <p:grpSpPr>
                  <a:xfrm>
                    <a:off x="5970960" y="3834720"/>
                    <a:ext cx="176040" cy="215640"/>
                    <a:chOff x="5970960" y="3834720"/>
                    <a:chExt cx="176040" cy="215640"/>
                  </a:xfrm>
                </p:grpSpPr>
                <p:sp>
                  <p:nvSpPr>
                    <p:cNvPr id="1745" name=""/>
                    <p:cNvSpPr/>
                    <p:nvPr/>
                  </p:nvSpPr>
                  <p:spPr>
                    <a:xfrm flipV="1">
                      <a:off x="5970960" y="38347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46" name=""/>
                    <p:cNvSpPr/>
                    <p:nvPr/>
                  </p:nvSpPr>
                  <p:spPr>
                    <a:xfrm>
                      <a:off x="5970960" y="39870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47" name=""/>
                <p:cNvGrpSpPr/>
                <p:nvPr/>
              </p:nvGrpSpPr>
              <p:grpSpPr>
                <a:xfrm>
                  <a:off x="5216040" y="2841120"/>
                  <a:ext cx="915480" cy="225000"/>
                  <a:chOff x="5216040" y="2841120"/>
                  <a:chExt cx="915480" cy="225000"/>
                </a:xfrm>
              </p:grpSpPr>
              <p:grpSp>
                <p:nvGrpSpPr>
                  <p:cNvPr id="1748" name=""/>
                  <p:cNvGrpSpPr/>
                  <p:nvPr/>
                </p:nvGrpSpPr>
                <p:grpSpPr>
                  <a:xfrm>
                    <a:off x="5216040" y="2841120"/>
                    <a:ext cx="176040" cy="215640"/>
                    <a:chOff x="5216040" y="2841120"/>
                    <a:chExt cx="176040" cy="215640"/>
                  </a:xfrm>
                </p:grpSpPr>
                <p:sp>
                  <p:nvSpPr>
                    <p:cNvPr id="1749" name=""/>
                    <p:cNvSpPr/>
                    <p:nvPr/>
                  </p:nvSpPr>
                  <p:spPr>
                    <a:xfrm flipH="1" flipV="1">
                      <a:off x="5216040" y="28411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50" name=""/>
                    <p:cNvSpPr/>
                    <p:nvPr/>
                  </p:nvSpPr>
                  <p:spPr>
                    <a:xfrm flipH="1">
                      <a:off x="5216040" y="29934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51" name=""/>
                  <p:cNvGrpSpPr/>
                  <p:nvPr/>
                </p:nvGrpSpPr>
                <p:grpSpPr>
                  <a:xfrm>
                    <a:off x="5955480" y="2850480"/>
                    <a:ext cx="176040" cy="215640"/>
                    <a:chOff x="5955480" y="2850480"/>
                    <a:chExt cx="176040" cy="215640"/>
                  </a:xfrm>
                </p:grpSpPr>
                <p:sp>
                  <p:nvSpPr>
                    <p:cNvPr id="1752" name=""/>
                    <p:cNvSpPr/>
                    <p:nvPr/>
                  </p:nvSpPr>
                  <p:spPr>
                    <a:xfrm flipV="1">
                      <a:off x="5955480" y="2850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53" name=""/>
                    <p:cNvSpPr/>
                    <p:nvPr/>
                  </p:nvSpPr>
                  <p:spPr>
                    <a:xfrm>
                      <a:off x="5955480" y="3002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sp>
          <p:nvSpPr>
            <p:cNvPr id="1754" name=""/>
            <p:cNvSpPr/>
            <p:nvPr/>
          </p:nvSpPr>
          <p:spPr>
            <a:xfrm>
              <a:off x="4807080" y="2844720"/>
              <a:ext cx="1520640" cy="21700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55" name=""/>
            <p:cNvSpPr/>
            <p:nvPr/>
          </p:nvSpPr>
          <p:spPr>
            <a:xfrm>
              <a:off x="4966200" y="465444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756" name=""/>
            <p:cNvGrpSpPr/>
            <p:nvPr/>
          </p:nvGrpSpPr>
          <p:grpSpPr>
            <a:xfrm>
              <a:off x="4724280" y="3772080"/>
              <a:ext cx="1695600" cy="550800"/>
              <a:chOff x="4724280" y="3772080"/>
              <a:chExt cx="1695600" cy="550800"/>
            </a:xfrm>
          </p:grpSpPr>
          <p:sp>
            <p:nvSpPr>
              <p:cNvPr id="1757" name=""/>
              <p:cNvSpPr/>
              <p:nvPr/>
            </p:nvSpPr>
            <p:spPr>
              <a:xfrm>
                <a:off x="4870440" y="380700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58" name=""/>
              <p:cNvSpPr/>
              <p:nvPr/>
            </p:nvSpPr>
            <p:spPr>
              <a:xfrm>
                <a:off x="4724280" y="377208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759" name=""/>
            <p:cNvGrpSpPr/>
            <p:nvPr/>
          </p:nvGrpSpPr>
          <p:grpSpPr>
            <a:xfrm>
              <a:off x="4734000" y="3209760"/>
              <a:ext cx="1695240" cy="550800"/>
              <a:chOff x="4734000" y="3209760"/>
              <a:chExt cx="1695240" cy="550800"/>
            </a:xfrm>
          </p:grpSpPr>
          <p:sp>
            <p:nvSpPr>
              <p:cNvPr id="1760" name=""/>
              <p:cNvSpPr/>
              <p:nvPr/>
            </p:nvSpPr>
            <p:spPr>
              <a:xfrm>
                <a:off x="4879800" y="3244680"/>
                <a:ext cx="137736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61" name=""/>
              <p:cNvSpPr/>
              <p:nvPr/>
            </p:nvSpPr>
            <p:spPr>
              <a:xfrm>
                <a:off x="4734000" y="3209760"/>
                <a:ext cx="1695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762" name=""/>
            <p:cNvGrpSpPr/>
            <p:nvPr/>
          </p:nvGrpSpPr>
          <p:grpSpPr>
            <a:xfrm>
              <a:off x="5078160" y="2382840"/>
              <a:ext cx="937800" cy="1773000"/>
              <a:chOff x="5078160" y="2382840"/>
              <a:chExt cx="937800" cy="1773000"/>
            </a:xfrm>
          </p:grpSpPr>
          <p:sp>
            <p:nvSpPr>
              <p:cNvPr id="1763" name=""/>
              <p:cNvSpPr/>
              <p:nvPr/>
            </p:nvSpPr>
            <p:spPr>
              <a:xfrm>
                <a:off x="5551560" y="2382840"/>
                <a:ext cx="15480" cy="173052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64" name=""/>
              <p:cNvGrpSpPr/>
              <p:nvPr/>
            </p:nvGrpSpPr>
            <p:grpSpPr>
              <a:xfrm>
                <a:off x="5100120" y="3381480"/>
                <a:ext cx="915840" cy="225000"/>
                <a:chOff x="5100120" y="3381480"/>
                <a:chExt cx="915840" cy="225000"/>
              </a:xfrm>
            </p:grpSpPr>
            <p:grpSp>
              <p:nvGrpSpPr>
                <p:cNvPr id="1765" name=""/>
                <p:cNvGrpSpPr/>
                <p:nvPr/>
              </p:nvGrpSpPr>
              <p:grpSpPr>
                <a:xfrm>
                  <a:off x="5100120" y="3381480"/>
                  <a:ext cx="176040" cy="215640"/>
                  <a:chOff x="5100120" y="3381480"/>
                  <a:chExt cx="176040" cy="215640"/>
                </a:xfrm>
              </p:grpSpPr>
              <p:sp>
                <p:nvSpPr>
                  <p:cNvPr id="1766" name=""/>
                  <p:cNvSpPr/>
                  <p:nvPr/>
                </p:nvSpPr>
                <p:spPr>
                  <a:xfrm flipH="1" flipV="1">
                    <a:off x="5100120" y="3381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67" name=""/>
                  <p:cNvSpPr/>
                  <p:nvPr/>
                </p:nvSpPr>
                <p:spPr>
                  <a:xfrm flipH="1">
                    <a:off x="5100120" y="3533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68" name=""/>
                <p:cNvGrpSpPr/>
                <p:nvPr/>
              </p:nvGrpSpPr>
              <p:grpSpPr>
                <a:xfrm>
                  <a:off x="5839920" y="3390840"/>
                  <a:ext cx="176040" cy="215640"/>
                  <a:chOff x="5839920" y="3390840"/>
                  <a:chExt cx="176040" cy="215640"/>
                </a:xfrm>
              </p:grpSpPr>
              <p:sp>
                <p:nvSpPr>
                  <p:cNvPr id="1769" name=""/>
                  <p:cNvSpPr/>
                  <p:nvPr/>
                </p:nvSpPr>
                <p:spPr>
                  <a:xfrm flipV="1">
                    <a:off x="5839920" y="33908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70" name=""/>
                  <p:cNvSpPr/>
                  <p:nvPr/>
                </p:nvSpPr>
                <p:spPr>
                  <a:xfrm>
                    <a:off x="5839920" y="35431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71" name=""/>
              <p:cNvGrpSpPr/>
              <p:nvPr/>
            </p:nvGrpSpPr>
            <p:grpSpPr>
              <a:xfrm>
                <a:off x="5110200" y="3930480"/>
                <a:ext cx="899280" cy="225360"/>
                <a:chOff x="5110200" y="3930480"/>
                <a:chExt cx="899280" cy="225360"/>
              </a:xfrm>
            </p:grpSpPr>
            <p:grpSp>
              <p:nvGrpSpPr>
                <p:cNvPr id="1772" name=""/>
                <p:cNvGrpSpPr/>
                <p:nvPr/>
              </p:nvGrpSpPr>
              <p:grpSpPr>
                <a:xfrm>
                  <a:off x="5110200" y="3930480"/>
                  <a:ext cx="175680" cy="215640"/>
                  <a:chOff x="5110200" y="3930480"/>
                  <a:chExt cx="175680" cy="215640"/>
                </a:xfrm>
              </p:grpSpPr>
              <p:sp>
                <p:nvSpPr>
                  <p:cNvPr id="1773" name=""/>
                  <p:cNvSpPr/>
                  <p:nvPr/>
                </p:nvSpPr>
                <p:spPr>
                  <a:xfrm flipH="1" flipV="1">
                    <a:off x="5110200" y="3930480"/>
                    <a:ext cx="17568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74" name=""/>
                  <p:cNvSpPr/>
                  <p:nvPr/>
                </p:nvSpPr>
                <p:spPr>
                  <a:xfrm flipH="1">
                    <a:off x="5110200" y="4082760"/>
                    <a:ext cx="17568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75" name=""/>
                <p:cNvGrpSpPr/>
                <p:nvPr/>
              </p:nvGrpSpPr>
              <p:grpSpPr>
                <a:xfrm>
                  <a:off x="5833440" y="3940200"/>
                  <a:ext cx="176040" cy="215640"/>
                  <a:chOff x="5833440" y="3940200"/>
                  <a:chExt cx="176040" cy="215640"/>
                </a:xfrm>
              </p:grpSpPr>
              <p:sp>
                <p:nvSpPr>
                  <p:cNvPr id="1776" name=""/>
                  <p:cNvSpPr/>
                  <p:nvPr/>
                </p:nvSpPr>
                <p:spPr>
                  <a:xfrm flipV="1">
                    <a:off x="5833440" y="39402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77" name=""/>
                  <p:cNvSpPr/>
                  <p:nvPr/>
                </p:nvSpPr>
                <p:spPr>
                  <a:xfrm>
                    <a:off x="5833440" y="40924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778" name=""/>
              <p:cNvGrpSpPr/>
              <p:nvPr/>
            </p:nvGrpSpPr>
            <p:grpSpPr>
              <a:xfrm>
                <a:off x="5078160" y="2946240"/>
                <a:ext cx="915840" cy="225000"/>
                <a:chOff x="5078160" y="2946240"/>
                <a:chExt cx="915840" cy="225000"/>
              </a:xfrm>
            </p:grpSpPr>
            <p:grpSp>
              <p:nvGrpSpPr>
                <p:cNvPr id="1779" name=""/>
                <p:cNvGrpSpPr/>
                <p:nvPr/>
              </p:nvGrpSpPr>
              <p:grpSpPr>
                <a:xfrm>
                  <a:off x="5078160" y="2946240"/>
                  <a:ext cx="176040" cy="215640"/>
                  <a:chOff x="5078160" y="2946240"/>
                  <a:chExt cx="176040" cy="215640"/>
                </a:xfrm>
              </p:grpSpPr>
              <p:sp>
                <p:nvSpPr>
                  <p:cNvPr id="1780" name=""/>
                  <p:cNvSpPr/>
                  <p:nvPr/>
                </p:nvSpPr>
                <p:spPr>
                  <a:xfrm flipH="1" flipV="1">
                    <a:off x="5078160" y="29462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81" name=""/>
                  <p:cNvSpPr/>
                  <p:nvPr/>
                </p:nvSpPr>
                <p:spPr>
                  <a:xfrm flipH="1">
                    <a:off x="5078160" y="30985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782" name=""/>
                <p:cNvGrpSpPr/>
                <p:nvPr/>
              </p:nvGrpSpPr>
              <p:grpSpPr>
                <a:xfrm>
                  <a:off x="5817960" y="2955600"/>
                  <a:ext cx="176040" cy="215640"/>
                  <a:chOff x="5817960" y="2955600"/>
                  <a:chExt cx="176040" cy="215640"/>
                </a:xfrm>
              </p:grpSpPr>
              <p:sp>
                <p:nvSpPr>
                  <p:cNvPr id="1783" name=""/>
                  <p:cNvSpPr/>
                  <p:nvPr/>
                </p:nvSpPr>
                <p:spPr>
                  <a:xfrm flipV="1">
                    <a:off x="5817960" y="29556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784" name=""/>
                  <p:cNvSpPr/>
                  <p:nvPr/>
                </p:nvSpPr>
                <p:spPr>
                  <a:xfrm>
                    <a:off x="5817960" y="31078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grpSp>
        <p:nvGrpSpPr>
          <p:cNvPr id="1785" name=""/>
          <p:cNvGrpSpPr/>
          <p:nvPr/>
        </p:nvGrpSpPr>
        <p:grpSpPr>
          <a:xfrm>
            <a:off x="6843600" y="1065240"/>
            <a:ext cx="2063880" cy="3943440"/>
            <a:chOff x="6843600" y="1065240"/>
            <a:chExt cx="2063880" cy="3943440"/>
          </a:xfrm>
        </p:grpSpPr>
        <p:grpSp>
          <p:nvGrpSpPr>
            <p:cNvPr id="1786" name=""/>
            <p:cNvGrpSpPr/>
            <p:nvPr/>
          </p:nvGrpSpPr>
          <p:grpSpPr>
            <a:xfrm>
              <a:off x="7364520" y="1065240"/>
              <a:ext cx="1542960" cy="3643200"/>
              <a:chOff x="7364520" y="1065240"/>
              <a:chExt cx="1542960" cy="3643200"/>
            </a:xfrm>
          </p:grpSpPr>
          <p:sp>
            <p:nvSpPr>
              <p:cNvPr id="1787" name=""/>
              <p:cNvSpPr/>
              <p:nvPr/>
            </p:nvSpPr>
            <p:spPr>
              <a:xfrm>
                <a:off x="7372440" y="1382760"/>
                <a:ext cx="1520640" cy="33256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88" name=""/>
              <p:cNvSpPr/>
              <p:nvPr/>
            </p:nvSpPr>
            <p:spPr>
              <a:xfrm>
                <a:off x="7531560" y="434808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789" name=""/>
              <p:cNvGrpSpPr/>
              <p:nvPr/>
            </p:nvGrpSpPr>
            <p:grpSpPr>
              <a:xfrm>
                <a:off x="7364520" y="3463920"/>
                <a:ext cx="1542960" cy="520920"/>
                <a:chOff x="7364520" y="3463920"/>
                <a:chExt cx="1542960" cy="520920"/>
              </a:xfrm>
            </p:grpSpPr>
            <p:sp>
              <p:nvSpPr>
                <p:cNvPr id="1790" name=""/>
                <p:cNvSpPr/>
                <p:nvPr/>
              </p:nvSpPr>
              <p:spPr>
                <a:xfrm>
                  <a:off x="7446960" y="350064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1" name=""/>
                <p:cNvSpPr/>
                <p:nvPr/>
              </p:nvSpPr>
              <p:spPr>
                <a:xfrm>
                  <a:off x="7364520" y="346392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792" name=""/>
              <p:cNvGrpSpPr/>
              <p:nvPr/>
            </p:nvGrpSpPr>
            <p:grpSpPr>
              <a:xfrm>
                <a:off x="7364520" y="2917800"/>
                <a:ext cx="1542960" cy="520920"/>
                <a:chOff x="7364520" y="2917800"/>
                <a:chExt cx="1542960" cy="520920"/>
              </a:xfrm>
            </p:grpSpPr>
            <p:sp>
              <p:nvSpPr>
                <p:cNvPr id="1793" name=""/>
                <p:cNvSpPr/>
                <p:nvPr/>
              </p:nvSpPr>
              <p:spPr>
                <a:xfrm>
                  <a:off x="7446960" y="295452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4" name=""/>
                <p:cNvSpPr/>
                <p:nvPr/>
              </p:nvSpPr>
              <p:spPr>
                <a:xfrm>
                  <a:off x="7364520" y="29178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795" name=""/>
              <p:cNvGrpSpPr/>
              <p:nvPr/>
            </p:nvGrpSpPr>
            <p:grpSpPr>
              <a:xfrm>
                <a:off x="7364520" y="2355840"/>
                <a:ext cx="1542960" cy="520920"/>
                <a:chOff x="7364520" y="2355840"/>
                <a:chExt cx="1542960" cy="520920"/>
              </a:xfrm>
            </p:grpSpPr>
            <p:sp>
              <p:nvSpPr>
                <p:cNvPr id="1796" name=""/>
                <p:cNvSpPr/>
                <p:nvPr/>
              </p:nvSpPr>
              <p:spPr>
                <a:xfrm>
                  <a:off x="7446960" y="239256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7" name=""/>
                <p:cNvSpPr/>
                <p:nvPr/>
              </p:nvSpPr>
              <p:spPr>
                <a:xfrm>
                  <a:off x="7364520" y="235584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798" name=""/>
              <p:cNvGrpSpPr/>
              <p:nvPr/>
            </p:nvGrpSpPr>
            <p:grpSpPr>
              <a:xfrm>
                <a:off x="7364520" y="1793880"/>
                <a:ext cx="1542960" cy="520920"/>
                <a:chOff x="7364520" y="1793880"/>
                <a:chExt cx="1542960" cy="520920"/>
              </a:xfrm>
            </p:grpSpPr>
            <p:sp>
              <p:nvSpPr>
                <p:cNvPr id="1799" name=""/>
                <p:cNvSpPr/>
                <p:nvPr/>
              </p:nvSpPr>
              <p:spPr>
                <a:xfrm>
                  <a:off x="7446960" y="183060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00" name=""/>
                <p:cNvSpPr/>
                <p:nvPr/>
              </p:nvSpPr>
              <p:spPr>
                <a:xfrm>
                  <a:off x="7364520" y="179388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01" name=""/>
              <p:cNvGrpSpPr/>
              <p:nvPr/>
            </p:nvGrpSpPr>
            <p:grpSpPr>
              <a:xfrm>
                <a:off x="7643520" y="1065240"/>
                <a:ext cx="938160" cy="2783880"/>
                <a:chOff x="7643520" y="1065240"/>
                <a:chExt cx="938160" cy="2783880"/>
              </a:xfrm>
            </p:grpSpPr>
            <p:sp>
              <p:nvSpPr>
                <p:cNvPr id="1802" name=""/>
                <p:cNvSpPr/>
                <p:nvPr/>
              </p:nvSpPr>
              <p:spPr>
                <a:xfrm>
                  <a:off x="8116920" y="1065240"/>
                  <a:ext cx="15840" cy="274140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03" name=""/>
                <p:cNvGrpSpPr/>
                <p:nvPr/>
              </p:nvGrpSpPr>
              <p:grpSpPr>
                <a:xfrm>
                  <a:off x="7665840" y="3075120"/>
                  <a:ext cx="915840" cy="225000"/>
                  <a:chOff x="7665840" y="3075120"/>
                  <a:chExt cx="915840" cy="225000"/>
                </a:xfrm>
              </p:grpSpPr>
              <p:grpSp>
                <p:nvGrpSpPr>
                  <p:cNvPr id="1804" name=""/>
                  <p:cNvGrpSpPr/>
                  <p:nvPr/>
                </p:nvGrpSpPr>
                <p:grpSpPr>
                  <a:xfrm>
                    <a:off x="7665840" y="3075120"/>
                    <a:ext cx="176040" cy="215640"/>
                    <a:chOff x="7665840" y="3075120"/>
                    <a:chExt cx="176040" cy="215640"/>
                  </a:xfrm>
                </p:grpSpPr>
                <p:sp>
                  <p:nvSpPr>
                    <p:cNvPr id="1805" name=""/>
                    <p:cNvSpPr/>
                    <p:nvPr/>
                  </p:nvSpPr>
                  <p:spPr>
                    <a:xfrm flipH="1" flipV="1">
                      <a:off x="7665840" y="30751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06" name=""/>
                    <p:cNvSpPr/>
                    <p:nvPr/>
                  </p:nvSpPr>
                  <p:spPr>
                    <a:xfrm flipH="1">
                      <a:off x="7665840" y="32274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07" name=""/>
                  <p:cNvGrpSpPr/>
                  <p:nvPr/>
                </p:nvGrpSpPr>
                <p:grpSpPr>
                  <a:xfrm>
                    <a:off x="8405640" y="3084480"/>
                    <a:ext cx="176040" cy="215640"/>
                    <a:chOff x="8405640" y="3084480"/>
                    <a:chExt cx="176040" cy="215640"/>
                  </a:xfrm>
                </p:grpSpPr>
                <p:sp>
                  <p:nvSpPr>
                    <p:cNvPr id="1808" name=""/>
                    <p:cNvSpPr/>
                    <p:nvPr/>
                  </p:nvSpPr>
                  <p:spPr>
                    <a:xfrm flipV="1">
                      <a:off x="8405640" y="3084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09" name=""/>
                    <p:cNvSpPr/>
                    <p:nvPr/>
                  </p:nvSpPr>
                  <p:spPr>
                    <a:xfrm>
                      <a:off x="8405640" y="3236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10" name=""/>
                <p:cNvGrpSpPr/>
                <p:nvPr/>
              </p:nvGrpSpPr>
              <p:grpSpPr>
                <a:xfrm>
                  <a:off x="7675200" y="3624120"/>
                  <a:ext cx="900720" cy="225000"/>
                  <a:chOff x="7675200" y="3624120"/>
                  <a:chExt cx="900720" cy="225000"/>
                </a:xfrm>
              </p:grpSpPr>
              <p:grpSp>
                <p:nvGrpSpPr>
                  <p:cNvPr id="1811" name=""/>
                  <p:cNvGrpSpPr/>
                  <p:nvPr/>
                </p:nvGrpSpPr>
                <p:grpSpPr>
                  <a:xfrm>
                    <a:off x="7675200" y="3624120"/>
                    <a:ext cx="176040" cy="215640"/>
                    <a:chOff x="7675200" y="3624120"/>
                    <a:chExt cx="176040" cy="215640"/>
                  </a:xfrm>
                </p:grpSpPr>
                <p:sp>
                  <p:nvSpPr>
                    <p:cNvPr id="1812" name=""/>
                    <p:cNvSpPr/>
                    <p:nvPr/>
                  </p:nvSpPr>
                  <p:spPr>
                    <a:xfrm flipH="1" flipV="1">
                      <a:off x="7675200" y="36241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13" name=""/>
                    <p:cNvSpPr/>
                    <p:nvPr/>
                  </p:nvSpPr>
                  <p:spPr>
                    <a:xfrm flipH="1">
                      <a:off x="7675200" y="37764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14" name=""/>
                  <p:cNvGrpSpPr/>
                  <p:nvPr/>
                </p:nvGrpSpPr>
                <p:grpSpPr>
                  <a:xfrm>
                    <a:off x="8399880" y="3633480"/>
                    <a:ext cx="176040" cy="215640"/>
                    <a:chOff x="8399880" y="3633480"/>
                    <a:chExt cx="176040" cy="215640"/>
                  </a:xfrm>
                </p:grpSpPr>
                <p:sp>
                  <p:nvSpPr>
                    <p:cNvPr id="1815" name=""/>
                    <p:cNvSpPr/>
                    <p:nvPr/>
                  </p:nvSpPr>
                  <p:spPr>
                    <a:xfrm flipV="1">
                      <a:off x="8399880" y="3633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16" name=""/>
                    <p:cNvSpPr/>
                    <p:nvPr/>
                  </p:nvSpPr>
                  <p:spPr>
                    <a:xfrm>
                      <a:off x="8399880" y="3785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17" name=""/>
                <p:cNvGrpSpPr/>
                <p:nvPr/>
              </p:nvGrpSpPr>
              <p:grpSpPr>
                <a:xfrm>
                  <a:off x="7643520" y="2512800"/>
                  <a:ext cx="915840" cy="225000"/>
                  <a:chOff x="7643520" y="2512800"/>
                  <a:chExt cx="915840" cy="225000"/>
                </a:xfrm>
              </p:grpSpPr>
              <p:grpSp>
                <p:nvGrpSpPr>
                  <p:cNvPr id="1818" name=""/>
                  <p:cNvGrpSpPr/>
                  <p:nvPr/>
                </p:nvGrpSpPr>
                <p:grpSpPr>
                  <a:xfrm>
                    <a:off x="7643520" y="2512800"/>
                    <a:ext cx="176040" cy="215640"/>
                    <a:chOff x="7643520" y="2512800"/>
                    <a:chExt cx="176040" cy="215640"/>
                  </a:xfrm>
                </p:grpSpPr>
                <p:sp>
                  <p:nvSpPr>
                    <p:cNvPr id="1819" name=""/>
                    <p:cNvSpPr/>
                    <p:nvPr/>
                  </p:nvSpPr>
                  <p:spPr>
                    <a:xfrm flipH="1" flipV="1">
                      <a:off x="7643520" y="25128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20" name=""/>
                    <p:cNvSpPr/>
                    <p:nvPr/>
                  </p:nvSpPr>
                  <p:spPr>
                    <a:xfrm flipH="1">
                      <a:off x="7643520" y="26650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21" name=""/>
                  <p:cNvGrpSpPr/>
                  <p:nvPr/>
                </p:nvGrpSpPr>
                <p:grpSpPr>
                  <a:xfrm>
                    <a:off x="8383320" y="2522160"/>
                    <a:ext cx="176040" cy="215640"/>
                    <a:chOff x="8383320" y="2522160"/>
                    <a:chExt cx="176040" cy="215640"/>
                  </a:xfrm>
                </p:grpSpPr>
                <p:sp>
                  <p:nvSpPr>
                    <p:cNvPr id="1822" name=""/>
                    <p:cNvSpPr/>
                    <p:nvPr/>
                  </p:nvSpPr>
                  <p:spPr>
                    <a:xfrm flipV="1">
                      <a:off x="8383320" y="25221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23" name=""/>
                    <p:cNvSpPr/>
                    <p:nvPr/>
                  </p:nvSpPr>
                  <p:spPr>
                    <a:xfrm>
                      <a:off x="8383320" y="26744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24" name=""/>
                <p:cNvGrpSpPr/>
                <p:nvPr/>
              </p:nvGrpSpPr>
              <p:grpSpPr>
                <a:xfrm>
                  <a:off x="7652880" y="1950840"/>
                  <a:ext cx="916920" cy="225000"/>
                  <a:chOff x="7652880" y="1950840"/>
                  <a:chExt cx="916920" cy="225000"/>
                </a:xfrm>
              </p:grpSpPr>
              <p:grpSp>
                <p:nvGrpSpPr>
                  <p:cNvPr id="1825" name=""/>
                  <p:cNvGrpSpPr/>
                  <p:nvPr/>
                </p:nvGrpSpPr>
                <p:grpSpPr>
                  <a:xfrm>
                    <a:off x="7652880" y="1950840"/>
                    <a:ext cx="176040" cy="215640"/>
                    <a:chOff x="7652880" y="1950840"/>
                    <a:chExt cx="176040" cy="215640"/>
                  </a:xfrm>
                </p:grpSpPr>
                <p:sp>
                  <p:nvSpPr>
                    <p:cNvPr id="1826" name=""/>
                    <p:cNvSpPr/>
                    <p:nvPr/>
                  </p:nvSpPr>
                  <p:spPr>
                    <a:xfrm flipH="1" flipV="1">
                      <a:off x="7652880" y="19508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27" name=""/>
                    <p:cNvSpPr/>
                    <p:nvPr/>
                  </p:nvSpPr>
                  <p:spPr>
                    <a:xfrm flipH="1">
                      <a:off x="7652880" y="21031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28" name=""/>
                  <p:cNvGrpSpPr/>
                  <p:nvPr/>
                </p:nvGrpSpPr>
                <p:grpSpPr>
                  <a:xfrm>
                    <a:off x="8393760" y="1960200"/>
                    <a:ext cx="176040" cy="215640"/>
                    <a:chOff x="8393760" y="1960200"/>
                    <a:chExt cx="176040" cy="215640"/>
                  </a:xfrm>
                </p:grpSpPr>
                <p:sp>
                  <p:nvSpPr>
                    <p:cNvPr id="1829" name=""/>
                    <p:cNvSpPr/>
                    <p:nvPr/>
                  </p:nvSpPr>
                  <p:spPr>
                    <a:xfrm flipV="1">
                      <a:off x="8393760" y="19602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30" name=""/>
                    <p:cNvSpPr/>
                    <p:nvPr/>
                  </p:nvSpPr>
                  <p:spPr>
                    <a:xfrm>
                      <a:off x="8393760" y="21124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31" name=""/>
                <p:cNvGrpSpPr/>
                <p:nvPr/>
              </p:nvGrpSpPr>
              <p:grpSpPr>
                <a:xfrm>
                  <a:off x="7662600" y="1484280"/>
                  <a:ext cx="915840" cy="225000"/>
                  <a:chOff x="7662600" y="1484280"/>
                  <a:chExt cx="915840" cy="225000"/>
                </a:xfrm>
              </p:grpSpPr>
              <p:grpSp>
                <p:nvGrpSpPr>
                  <p:cNvPr id="1832" name=""/>
                  <p:cNvGrpSpPr/>
                  <p:nvPr/>
                </p:nvGrpSpPr>
                <p:grpSpPr>
                  <a:xfrm>
                    <a:off x="7662600" y="1484280"/>
                    <a:ext cx="176040" cy="215640"/>
                    <a:chOff x="7662600" y="1484280"/>
                    <a:chExt cx="176040" cy="215640"/>
                  </a:xfrm>
                </p:grpSpPr>
                <p:sp>
                  <p:nvSpPr>
                    <p:cNvPr id="1833" name=""/>
                    <p:cNvSpPr/>
                    <p:nvPr/>
                  </p:nvSpPr>
                  <p:spPr>
                    <a:xfrm flipH="1" flipV="1">
                      <a:off x="7662600" y="14842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34" name=""/>
                    <p:cNvSpPr/>
                    <p:nvPr/>
                  </p:nvSpPr>
                  <p:spPr>
                    <a:xfrm flipH="1">
                      <a:off x="7662600" y="16365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35" name=""/>
                  <p:cNvGrpSpPr/>
                  <p:nvPr/>
                </p:nvGrpSpPr>
                <p:grpSpPr>
                  <a:xfrm>
                    <a:off x="8402400" y="1493640"/>
                    <a:ext cx="176040" cy="215640"/>
                    <a:chOff x="8402400" y="1493640"/>
                    <a:chExt cx="176040" cy="215640"/>
                  </a:xfrm>
                </p:grpSpPr>
                <p:sp>
                  <p:nvSpPr>
                    <p:cNvPr id="1836" name=""/>
                    <p:cNvSpPr/>
                    <p:nvPr/>
                  </p:nvSpPr>
                  <p:spPr>
                    <a:xfrm flipV="1">
                      <a:off x="8402400" y="14936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37" name=""/>
                    <p:cNvSpPr/>
                    <p:nvPr/>
                  </p:nvSpPr>
                  <p:spPr>
                    <a:xfrm>
                      <a:off x="8402400" y="16459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grpSp>
          <p:nvGrpSpPr>
            <p:cNvPr id="1838" name=""/>
            <p:cNvGrpSpPr/>
            <p:nvPr/>
          </p:nvGrpSpPr>
          <p:grpSpPr>
            <a:xfrm>
              <a:off x="7211880" y="1155600"/>
              <a:ext cx="1542960" cy="3643200"/>
              <a:chOff x="7211880" y="1155600"/>
              <a:chExt cx="1542960" cy="3643200"/>
            </a:xfrm>
          </p:grpSpPr>
          <p:sp>
            <p:nvSpPr>
              <p:cNvPr id="1839" name=""/>
              <p:cNvSpPr/>
              <p:nvPr/>
            </p:nvSpPr>
            <p:spPr>
              <a:xfrm>
                <a:off x="7219800" y="1473120"/>
                <a:ext cx="1520640" cy="33256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40" name=""/>
              <p:cNvSpPr/>
              <p:nvPr/>
            </p:nvSpPr>
            <p:spPr>
              <a:xfrm>
                <a:off x="7378920" y="443844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841" name=""/>
              <p:cNvGrpSpPr/>
              <p:nvPr/>
            </p:nvGrpSpPr>
            <p:grpSpPr>
              <a:xfrm>
                <a:off x="7211880" y="3554280"/>
                <a:ext cx="1542960" cy="520920"/>
                <a:chOff x="7211880" y="3554280"/>
                <a:chExt cx="1542960" cy="520920"/>
              </a:xfrm>
            </p:grpSpPr>
            <p:sp>
              <p:nvSpPr>
                <p:cNvPr id="1842" name=""/>
                <p:cNvSpPr/>
                <p:nvPr/>
              </p:nvSpPr>
              <p:spPr>
                <a:xfrm>
                  <a:off x="7294320" y="359100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43" name=""/>
                <p:cNvSpPr/>
                <p:nvPr/>
              </p:nvSpPr>
              <p:spPr>
                <a:xfrm>
                  <a:off x="7211880" y="355428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44" name=""/>
              <p:cNvGrpSpPr/>
              <p:nvPr/>
            </p:nvGrpSpPr>
            <p:grpSpPr>
              <a:xfrm>
                <a:off x="7211880" y="3008160"/>
                <a:ext cx="1542960" cy="520920"/>
                <a:chOff x="7211880" y="3008160"/>
                <a:chExt cx="1542960" cy="520920"/>
              </a:xfrm>
            </p:grpSpPr>
            <p:sp>
              <p:nvSpPr>
                <p:cNvPr id="1845" name=""/>
                <p:cNvSpPr/>
                <p:nvPr/>
              </p:nvSpPr>
              <p:spPr>
                <a:xfrm>
                  <a:off x="7294320" y="304488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46" name=""/>
                <p:cNvSpPr/>
                <p:nvPr/>
              </p:nvSpPr>
              <p:spPr>
                <a:xfrm>
                  <a:off x="7211880" y="300816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47" name=""/>
              <p:cNvGrpSpPr/>
              <p:nvPr/>
            </p:nvGrpSpPr>
            <p:grpSpPr>
              <a:xfrm>
                <a:off x="7211880" y="2446200"/>
                <a:ext cx="1542960" cy="520920"/>
                <a:chOff x="7211880" y="2446200"/>
                <a:chExt cx="1542960" cy="520920"/>
              </a:xfrm>
            </p:grpSpPr>
            <p:sp>
              <p:nvSpPr>
                <p:cNvPr id="1848" name=""/>
                <p:cNvSpPr/>
                <p:nvPr/>
              </p:nvSpPr>
              <p:spPr>
                <a:xfrm>
                  <a:off x="7294320" y="248292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49" name=""/>
                <p:cNvSpPr/>
                <p:nvPr/>
              </p:nvSpPr>
              <p:spPr>
                <a:xfrm>
                  <a:off x="7211880" y="24462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50" name=""/>
              <p:cNvGrpSpPr/>
              <p:nvPr/>
            </p:nvGrpSpPr>
            <p:grpSpPr>
              <a:xfrm>
                <a:off x="7211880" y="1884240"/>
                <a:ext cx="1542960" cy="520920"/>
                <a:chOff x="7211880" y="1884240"/>
                <a:chExt cx="1542960" cy="520920"/>
              </a:xfrm>
            </p:grpSpPr>
            <p:sp>
              <p:nvSpPr>
                <p:cNvPr id="1851" name=""/>
                <p:cNvSpPr/>
                <p:nvPr/>
              </p:nvSpPr>
              <p:spPr>
                <a:xfrm>
                  <a:off x="7294320" y="192096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52" name=""/>
                <p:cNvSpPr/>
                <p:nvPr/>
              </p:nvSpPr>
              <p:spPr>
                <a:xfrm>
                  <a:off x="7211880" y="188424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53" name=""/>
              <p:cNvGrpSpPr/>
              <p:nvPr/>
            </p:nvGrpSpPr>
            <p:grpSpPr>
              <a:xfrm>
                <a:off x="7490880" y="1155600"/>
                <a:ext cx="938160" cy="2783880"/>
                <a:chOff x="7490880" y="1155600"/>
                <a:chExt cx="938160" cy="2783880"/>
              </a:xfrm>
            </p:grpSpPr>
            <p:sp>
              <p:nvSpPr>
                <p:cNvPr id="1854" name=""/>
                <p:cNvSpPr/>
                <p:nvPr/>
              </p:nvSpPr>
              <p:spPr>
                <a:xfrm>
                  <a:off x="7964280" y="1155600"/>
                  <a:ext cx="15840" cy="274140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55" name=""/>
                <p:cNvGrpSpPr/>
                <p:nvPr/>
              </p:nvGrpSpPr>
              <p:grpSpPr>
                <a:xfrm>
                  <a:off x="7513200" y="3165480"/>
                  <a:ext cx="915840" cy="225000"/>
                  <a:chOff x="7513200" y="3165480"/>
                  <a:chExt cx="915840" cy="225000"/>
                </a:xfrm>
              </p:grpSpPr>
              <p:grpSp>
                <p:nvGrpSpPr>
                  <p:cNvPr id="1856" name=""/>
                  <p:cNvGrpSpPr/>
                  <p:nvPr/>
                </p:nvGrpSpPr>
                <p:grpSpPr>
                  <a:xfrm>
                    <a:off x="7513200" y="3165480"/>
                    <a:ext cx="176040" cy="215640"/>
                    <a:chOff x="7513200" y="3165480"/>
                    <a:chExt cx="176040" cy="215640"/>
                  </a:xfrm>
                </p:grpSpPr>
                <p:sp>
                  <p:nvSpPr>
                    <p:cNvPr id="1857" name=""/>
                    <p:cNvSpPr/>
                    <p:nvPr/>
                  </p:nvSpPr>
                  <p:spPr>
                    <a:xfrm flipH="1" flipV="1">
                      <a:off x="7513200" y="3165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58" name=""/>
                    <p:cNvSpPr/>
                    <p:nvPr/>
                  </p:nvSpPr>
                  <p:spPr>
                    <a:xfrm flipH="1">
                      <a:off x="7513200" y="3317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59" name=""/>
                  <p:cNvGrpSpPr/>
                  <p:nvPr/>
                </p:nvGrpSpPr>
                <p:grpSpPr>
                  <a:xfrm>
                    <a:off x="8253000" y="3174840"/>
                    <a:ext cx="176040" cy="215640"/>
                    <a:chOff x="8253000" y="3174840"/>
                    <a:chExt cx="176040" cy="215640"/>
                  </a:xfrm>
                </p:grpSpPr>
                <p:sp>
                  <p:nvSpPr>
                    <p:cNvPr id="1860" name=""/>
                    <p:cNvSpPr/>
                    <p:nvPr/>
                  </p:nvSpPr>
                  <p:spPr>
                    <a:xfrm flipV="1">
                      <a:off x="8253000" y="31748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61" name=""/>
                    <p:cNvSpPr/>
                    <p:nvPr/>
                  </p:nvSpPr>
                  <p:spPr>
                    <a:xfrm>
                      <a:off x="8253000" y="33271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62" name=""/>
                <p:cNvGrpSpPr/>
                <p:nvPr/>
              </p:nvGrpSpPr>
              <p:grpSpPr>
                <a:xfrm>
                  <a:off x="7522560" y="3714480"/>
                  <a:ext cx="900720" cy="225000"/>
                  <a:chOff x="7522560" y="3714480"/>
                  <a:chExt cx="900720" cy="225000"/>
                </a:xfrm>
              </p:grpSpPr>
              <p:grpSp>
                <p:nvGrpSpPr>
                  <p:cNvPr id="1863" name=""/>
                  <p:cNvGrpSpPr/>
                  <p:nvPr/>
                </p:nvGrpSpPr>
                <p:grpSpPr>
                  <a:xfrm>
                    <a:off x="7522560" y="3714480"/>
                    <a:ext cx="176040" cy="215640"/>
                    <a:chOff x="7522560" y="3714480"/>
                    <a:chExt cx="176040" cy="215640"/>
                  </a:xfrm>
                </p:grpSpPr>
                <p:sp>
                  <p:nvSpPr>
                    <p:cNvPr id="1864" name=""/>
                    <p:cNvSpPr/>
                    <p:nvPr/>
                  </p:nvSpPr>
                  <p:spPr>
                    <a:xfrm flipH="1" flipV="1">
                      <a:off x="7522560" y="37144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65" name=""/>
                    <p:cNvSpPr/>
                    <p:nvPr/>
                  </p:nvSpPr>
                  <p:spPr>
                    <a:xfrm flipH="1">
                      <a:off x="7522560" y="38667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66" name=""/>
                  <p:cNvGrpSpPr/>
                  <p:nvPr/>
                </p:nvGrpSpPr>
                <p:grpSpPr>
                  <a:xfrm>
                    <a:off x="8247240" y="3723840"/>
                    <a:ext cx="176040" cy="215640"/>
                    <a:chOff x="8247240" y="3723840"/>
                    <a:chExt cx="176040" cy="215640"/>
                  </a:xfrm>
                </p:grpSpPr>
                <p:sp>
                  <p:nvSpPr>
                    <p:cNvPr id="1867" name=""/>
                    <p:cNvSpPr/>
                    <p:nvPr/>
                  </p:nvSpPr>
                  <p:spPr>
                    <a:xfrm flipV="1">
                      <a:off x="8247240" y="37238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68" name=""/>
                    <p:cNvSpPr/>
                    <p:nvPr/>
                  </p:nvSpPr>
                  <p:spPr>
                    <a:xfrm>
                      <a:off x="8247240" y="38761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69" name=""/>
                <p:cNvGrpSpPr/>
                <p:nvPr/>
              </p:nvGrpSpPr>
              <p:grpSpPr>
                <a:xfrm>
                  <a:off x="7490880" y="2603160"/>
                  <a:ext cx="915840" cy="225000"/>
                  <a:chOff x="7490880" y="2603160"/>
                  <a:chExt cx="915840" cy="225000"/>
                </a:xfrm>
              </p:grpSpPr>
              <p:grpSp>
                <p:nvGrpSpPr>
                  <p:cNvPr id="1870" name=""/>
                  <p:cNvGrpSpPr/>
                  <p:nvPr/>
                </p:nvGrpSpPr>
                <p:grpSpPr>
                  <a:xfrm>
                    <a:off x="7490880" y="2603160"/>
                    <a:ext cx="176040" cy="215640"/>
                    <a:chOff x="7490880" y="2603160"/>
                    <a:chExt cx="176040" cy="215640"/>
                  </a:xfrm>
                </p:grpSpPr>
                <p:sp>
                  <p:nvSpPr>
                    <p:cNvPr id="1871" name=""/>
                    <p:cNvSpPr/>
                    <p:nvPr/>
                  </p:nvSpPr>
                  <p:spPr>
                    <a:xfrm flipH="1" flipV="1">
                      <a:off x="7490880" y="26031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72" name=""/>
                    <p:cNvSpPr/>
                    <p:nvPr/>
                  </p:nvSpPr>
                  <p:spPr>
                    <a:xfrm flipH="1">
                      <a:off x="7490880" y="27554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73" name=""/>
                  <p:cNvGrpSpPr/>
                  <p:nvPr/>
                </p:nvGrpSpPr>
                <p:grpSpPr>
                  <a:xfrm>
                    <a:off x="8230680" y="2612520"/>
                    <a:ext cx="176040" cy="215640"/>
                    <a:chOff x="8230680" y="2612520"/>
                    <a:chExt cx="176040" cy="215640"/>
                  </a:xfrm>
                </p:grpSpPr>
                <p:sp>
                  <p:nvSpPr>
                    <p:cNvPr id="1874" name=""/>
                    <p:cNvSpPr/>
                    <p:nvPr/>
                  </p:nvSpPr>
                  <p:spPr>
                    <a:xfrm flipV="1">
                      <a:off x="8230680" y="26125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75" name=""/>
                    <p:cNvSpPr/>
                    <p:nvPr/>
                  </p:nvSpPr>
                  <p:spPr>
                    <a:xfrm>
                      <a:off x="8230680" y="27648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76" name=""/>
                <p:cNvGrpSpPr/>
                <p:nvPr/>
              </p:nvGrpSpPr>
              <p:grpSpPr>
                <a:xfrm>
                  <a:off x="7500240" y="2041200"/>
                  <a:ext cx="916920" cy="225000"/>
                  <a:chOff x="7500240" y="2041200"/>
                  <a:chExt cx="916920" cy="225000"/>
                </a:xfrm>
              </p:grpSpPr>
              <p:grpSp>
                <p:nvGrpSpPr>
                  <p:cNvPr id="1877" name=""/>
                  <p:cNvGrpSpPr/>
                  <p:nvPr/>
                </p:nvGrpSpPr>
                <p:grpSpPr>
                  <a:xfrm>
                    <a:off x="7500240" y="2041200"/>
                    <a:ext cx="176040" cy="215640"/>
                    <a:chOff x="7500240" y="2041200"/>
                    <a:chExt cx="176040" cy="215640"/>
                  </a:xfrm>
                </p:grpSpPr>
                <p:sp>
                  <p:nvSpPr>
                    <p:cNvPr id="1878" name=""/>
                    <p:cNvSpPr/>
                    <p:nvPr/>
                  </p:nvSpPr>
                  <p:spPr>
                    <a:xfrm flipH="1" flipV="1">
                      <a:off x="7500240" y="20412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79" name=""/>
                    <p:cNvSpPr/>
                    <p:nvPr/>
                  </p:nvSpPr>
                  <p:spPr>
                    <a:xfrm flipH="1">
                      <a:off x="7500240" y="21934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80" name=""/>
                  <p:cNvGrpSpPr/>
                  <p:nvPr/>
                </p:nvGrpSpPr>
                <p:grpSpPr>
                  <a:xfrm>
                    <a:off x="8241120" y="2050560"/>
                    <a:ext cx="176040" cy="215640"/>
                    <a:chOff x="8241120" y="2050560"/>
                    <a:chExt cx="176040" cy="215640"/>
                  </a:xfrm>
                </p:grpSpPr>
                <p:sp>
                  <p:nvSpPr>
                    <p:cNvPr id="1881" name=""/>
                    <p:cNvSpPr/>
                    <p:nvPr/>
                  </p:nvSpPr>
                  <p:spPr>
                    <a:xfrm flipV="1">
                      <a:off x="8241120" y="20505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82" name=""/>
                    <p:cNvSpPr/>
                    <p:nvPr/>
                  </p:nvSpPr>
                  <p:spPr>
                    <a:xfrm>
                      <a:off x="8241120" y="22028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883" name=""/>
                <p:cNvGrpSpPr/>
                <p:nvPr/>
              </p:nvGrpSpPr>
              <p:grpSpPr>
                <a:xfrm>
                  <a:off x="7509960" y="1574640"/>
                  <a:ext cx="915840" cy="225000"/>
                  <a:chOff x="7509960" y="1574640"/>
                  <a:chExt cx="915840" cy="225000"/>
                </a:xfrm>
              </p:grpSpPr>
              <p:grpSp>
                <p:nvGrpSpPr>
                  <p:cNvPr id="1884" name=""/>
                  <p:cNvGrpSpPr/>
                  <p:nvPr/>
                </p:nvGrpSpPr>
                <p:grpSpPr>
                  <a:xfrm>
                    <a:off x="7509960" y="1574640"/>
                    <a:ext cx="176040" cy="215640"/>
                    <a:chOff x="7509960" y="1574640"/>
                    <a:chExt cx="176040" cy="215640"/>
                  </a:xfrm>
                </p:grpSpPr>
                <p:sp>
                  <p:nvSpPr>
                    <p:cNvPr id="1885" name=""/>
                    <p:cNvSpPr/>
                    <p:nvPr/>
                  </p:nvSpPr>
                  <p:spPr>
                    <a:xfrm flipH="1" flipV="1">
                      <a:off x="7509960" y="15746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86" name=""/>
                    <p:cNvSpPr/>
                    <p:nvPr/>
                  </p:nvSpPr>
                  <p:spPr>
                    <a:xfrm flipH="1">
                      <a:off x="7509960" y="17269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887" name=""/>
                  <p:cNvGrpSpPr/>
                  <p:nvPr/>
                </p:nvGrpSpPr>
                <p:grpSpPr>
                  <a:xfrm>
                    <a:off x="8249760" y="1584000"/>
                    <a:ext cx="176040" cy="215640"/>
                    <a:chOff x="8249760" y="1584000"/>
                    <a:chExt cx="176040" cy="215640"/>
                  </a:xfrm>
                </p:grpSpPr>
                <p:sp>
                  <p:nvSpPr>
                    <p:cNvPr id="1888" name=""/>
                    <p:cNvSpPr/>
                    <p:nvPr/>
                  </p:nvSpPr>
                  <p:spPr>
                    <a:xfrm flipV="1">
                      <a:off x="8249760" y="15840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889" name=""/>
                    <p:cNvSpPr/>
                    <p:nvPr/>
                  </p:nvSpPr>
                  <p:spPr>
                    <a:xfrm>
                      <a:off x="8249760" y="17362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grpSp>
          <p:nvGrpSpPr>
            <p:cNvPr id="1890" name=""/>
            <p:cNvGrpSpPr/>
            <p:nvPr/>
          </p:nvGrpSpPr>
          <p:grpSpPr>
            <a:xfrm>
              <a:off x="7059600" y="1260360"/>
              <a:ext cx="1542960" cy="3643200"/>
              <a:chOff x="7059600" y="1260360"/>
              <a:chExt cx="1542960" cy="3643200"/>
            </a:xfrm>
          </p:grpSpPr>
          <p:sp>
            <p:nvSpPr>
              <p:cNvPr id="1891" name=""/>
              <p:cNvSpPr/>
              <p:nvPr/>
            </p:nvSpPr>
            <p:spPr>
              <a:xfrm>
                <a:off x="7067520" y="1577880"/>
                <a:ext cx="1520640" cy="332568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92" name=""/>
              <p:cNvSpPr/>
              <p:nvPr/>
            </p:nvSpPr>
            <p:spPr>
              <a:xfrm>
                <a:off x="7226640" y="454320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893" name=""/>
              <p:cNvGrpSpPr/>
              <p:nvPr/>
            </p:nvGrpSpPr>
            <p:grpSpPr>
              <a:xfrm>
                <a:off x="7059600" y="3659040"/>
                <a:ext cx="1542960" cy="520920"/>
                <a:chOff x="7059600" y="3659040"/>
                <a:chExt cx="1542960" cy="520920"/>
              </a:xfrm>
            </p:grpSpPr>
            <p:sp>
              <p:nvSpPr>
                <p:cNvPr id="1894" name=""/>
                <p:cNvSpPr/>
                <p:nvPr/>
              </p:nvSpPr>
              <p:spPr>
                <a:xfrm>
                  <a:off x="7142040" y="369576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95" name=""/>
                <p:cNvSpPr/>
                <p:nvPr/>
              </p:nvSpPr>
              <p:spPr>
                <a:xfrm>
                  <a:off x="7059600" y="365904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96" name=""/>
              <p:cNvGrpSpPr/>
              <p:nvPr/>
            </p:nvGrpSpPr>
            <p:grpSpPr>
              <a:xfrm>
                <a:off x="7059600" y="3112920"/>
                <a:ext cx="1542960" cy="520920"/>
                <a:chOff x="7059600" y="3112920"/>
                <a:chExt cx="1542960" cy="520920"/>
              </a:xfrm>
            </p:grpSpPr>
            <p:sp>
              <p:nvSpPr>
                <p:cNvPr id="1897" name=""/>
                <p:cNvSpPr/>
                <p:nvPr/>
              </p:nvSpPr>
              <p:spPr>
                <a:xfrm>
                  <a:off x="7142040" y="314964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98" name=""/>
                <p:cNvSpPr/>
                <p:nvPr/>
              </p:nvSpPr>
              <p:spPr>
                <a:xfrm>
                  <a:off x="7059600" y="311292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899" name=""/>
              <p:cNvGrpSpPr/>
              <p:nvPr/>
            </p:nvGrpSpPr>
            <p:grpSpPr>
              <a:xfrm>
                <a:off x="7059600" y="2550960"/>
                <a:ext cx="1542960" cy="520920"/>
                <a:chOff x="7059600" y="2550960"/>
                <a:chExt cx="1542960" cy="520920"/>
              </a:xfrm>
            </p:grpSpPr>
            <p:sp>
              <p:nvSpPr>
                <p:cNvPr id="1900" name=""/>
                <p:cNvSpPr/>
                <p:nvPr/>
              </p:nvSpPr>
              <p:spPr>
                <a:xfrm>
                  <a:off x="7142040" y="258768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01" name=""/>
                <p:cNvSpPr/>
                <p:nvPr/>
              </p:nvSpPr>
              <p:spPr>
                <a:xfrm>
                  <a:off x="7059600" y="255096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902" name=""/>
              <p:cNvGrpSpPr/>
              <p:nvPr/>
            </p:nvGrpSpPr>
            <p:grpSpPr>
              <a:xfrm>
                <a:off x="7059600" y="1989000"/>
                <a:ext cx="1542960" cy="520920"/>
                <a:chOff x="7059600" y="1989000"/>
                <a:chExt cx="1542960" cy="520920"/>
              </a:xfrm>
            </p:grpSpPr>
            <p:sp>
              <p:nvSpPr>
                <p:cNvPr id="1903" name=""/>
                <p:cNvSpPr/>
                <p:nvPr/>
              </p:nvSpPr>
              <p:spPr>
                <a:xfrm>
                  <a:off x="7142040" y="2025720"/>
                  <a:ext cx="137808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04" name=""/>
                <p:cNvSpPr/>
                <p:nvPr/>
              </p:nvSpPr>
              <p:spPr>
                <a:xfrm>
                  <a:off x="7059600" y="19890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nterface logic</a:t>
                  </a:r>
                  <a:endParaRPr b="0" lang="en-US" sz="1000" spc="-1" strike="noStrike">
                    <a:solidFill>
                      <a:srgbClr val="ffffff"/>
                    </a:solidFill>
                    <a:latin typeface="Arial"/>
                  </a:endParaRPr>
                </a:p>
              </p:txBody>
            </p:sp>
          </p:grpSp>
          <p:grpSp>
            <p:nvGrpSpPr>
              <p:cNvPr id="1905" name=""/>
              <p:cNvGrpSpPr/>
              <p:nvPr/>
            </p:nvGrpSpPr>
            <p:grpSpPr>
              <a:xfrm>
                <a:off x="7338600" y="1260360"/>
                <a:ext cx="938160" cy="2783880"/>
                <a:chOff x="7338600" y="1260360"/>
                <a:chExt cx="938160" cy="2783880"/>
              </a:xfrm>
            </p:grpSpPr>
            <p:sp>
              <p:nvSpPr>
                <p:cNvPr id="1906" name=""/>
                <p:cNvSpPr/>
                <p:nvPr/>
              </p:nvSpPr>
              <p:spPr>
                <a:xfrm>
                  <a:off x="7812000" y="1260360"/>
                  <a:ext cx="15840" cy="274140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7" name=""/>
                <p:cNvGrpSpPr/>
                <p:nvPr/>
              </p:nvGrpSpPr>
              <p:grpSpPr>
                <a:xfrm>
                  <a:off x="7360920" y="3270240"/>
                  <a:ext cx="915840" cy="225000"/>
                  <a:chOff x="7360920" y="3270240"/>
                  <a:chExt cx="915840" cy="225000"/>
                </a:xfrm>
              </p:grpSpPr>
              <p:grpSp>
                <p:nvGrpSpPr>
                  <p:cNvPr id="1908" name=""/>
                  <p:cNvGrpSpPr/>
                  <p:nvPr/>
                </p:nvGrpSpPr>
                <p:grpSpPr>
                  <a:xfrm>
                    <a:off x="7360920" y="3270240"/>
                    <a:ext cx="176040" cy="215640"/>
                    <a:chOff x="7360920" y="3270240"/>
                    <a:chExt cx="176040" cy="215640"/>
                  </a:xfrm>
                </p:grpSpPr>
                <p:sp>
                  <p:nvSpPr>
                    <p:cNvPr id="1909" name=""/>
                    <p:cNvSpPr/>
                    <p:nvPr/>
                  </p:nvSpPr>
                  <p:spPr>
                    <a:xfrm flipH="1" flipV="1">
                      <a:off x="7360920" y="32702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10" name=""/>
                    <p:cNvSpPr/>
                    <p:nvPr/>
                  </p:nvSpPr>
                  <p:spPr>
                    <a:xfrm flipH="1">
                      <a:off x="7360920" y="34225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11" name=""/>
                  <p:cNvGrpSpPr/>
                  <p:nvPr/>
                </p:nvGrpSpPr>
                <p:grpSpPr>
                  <a:xfrm>
                    <a:off x="8100720" y="3279600"/>
                    <a:ext cx="176040" cy="215640"/>
                    <a:chOff x="8100720" y="3279600"/>
                    <a:chExt cx="176040" cy="215640"/>
                  </a:xfrm>
                </p:grpSpPr>
                <p:sp>
                  <p:nvSpPr>
                    <p:cNvPr id="1912" name=""/>
                    <p:cNvSpPr/>
                    <p:nvPr/>
                  </p:nvSpPr>
                  <p:spPr>
                    <a:xfrm flipV="1">
                      <a:off x="8100720" y="32796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13" name=""/>
                    <p:cNvSpPr/>
                    <p:nvPr/>
                  </p:nvSpPr>
                  <p:spPr>
                    <a:xfrm>
                      <a:off x="8100720" y="34318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14" name=""/>
                <p:cNvGrpSpPr/>
                <p:nvPr/>
              </p:nvGrpSpPr>
              <p:grpSpPr>
                <a:xfrm>
                  <a:off x="7370280" y="3819240"/>
                  <a:ext cx="900720" cy="225000"/>
                  <a:chOff x="7370280" y="3819240"/>
                  <a:chExt cx="900720" cy="225000"/>
                </a:xfrm>
              </p:grpSpPr>
              <p:grpSp>
                <p:nvGrpSpPr>
                  <p:cNvPr id="1915" name=""/>
                  <p:cNvGrpSpPr/>
                  <p:nvPr/>
                </p:nvGrpSpPr>
                <p:grpSpPr>
                  <a:xfrm>
                    <a:off x="7370280" y="3819240"/>
                    <a:ext cx="176040" cy="215640"/>
                    <a:chOff x="7370280" y="3819240"/>
                    <a:chExt cx="176040" cy="215640"/>
                  </a:xfrm>
                </p:grpSpPr>
                <p:sp>
                  <p:nvSpPr>
                    <p:cNvPr id="1916" name=""/>
                    <p:cNvSpPr/>
                    <p:nvPr/>
                  </p:nvSpPr>
                  <p:spPr>
                    <a:xfrm flipH="1" flipV="1">
                      <a:off x="7370280" y="38192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17" name=""/>
                    <p:cNvSpPr/>
                    <p:nvPr/>
                  </p:nvSpPr>
                  <p:spPr>
                    <a:xfrm flipH="1">
                      <a:off x="7370280" y="39715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18" name=""/>
                  <p:cNvGrpSpPr/>
                  <p:nvPr/>
                </p:nvGrpSpPr>
                <p:grpSpPr>
                  <a:xfrm>
                    <a:off x="8094960" y="3828600"/>
                    <a:ext cx="176040" cy="215640"/>
                    <a:chOff x="8094960" y="3828600"/>
                    <a:chExt cx="176040" cy="215640"/>
                  </a:xfrm>
                </p:grpSpPr>
                <p:sp>
                  <p:nvSpPr>
                    <p:cNvPr id="1919" name=""/>
                    <p:cNvSpPr/>
                    <p:nvPr/>
                  </p:nvSpPr>
                  <p:spPr>
                    <a:xfrm flipV="1">
                      <a:off x="8094960" y="38286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20" name=""/>
                    <p:cNvSpPr/>
                    <p:nvPr/>
                  </p:nvSpPr>
                  <p:spPr>
                    <a:xfrm>
                      <a:off x="8094960" y="39808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21" name=""/>
                <p:cNvGrpSpPr/>
                <p:nvPr/>
              </p:nvGrpSpPr>
              <p:grpSpPr>
                <a:xfrm>
                  <a:off x="7338600" y="2707920"/>
                  <a:ext cx="915840" cy="225000"/>
                  <a:chOff x="7338600" y="2707920"/>
                  <a:chExt cx="915840" cy="225000"/>
                </a:xfrm>
              </p:grpSpPr>
              <p:grpSp>
                <p:nvGrpSpPr>
                  <p:cNvPr id="1922" name=""/>
                  <p:cNvGrpSpPr/>
                  <p:nvPr/>
                </p:nvGrpSpPr>
                <p:grpSpPr>
                  <a:xfrm>
                    <a:off x="7338600" y="2707920"/>
                    <a:ext cx="176040" cy="215640"/>
                    <a:chOff x="7338600" y="2707920"/>
                    <a:chExt cx="176040" cy="215640"/>
                  </a:xfrm>
                </p:grpSpPr>
                <p:sp>
                  <p:nvSpPr>
                    <p:cNvPr id="1923" name=""/>
                    <p:cNvSpPr/>
                    <p:nvPr/>
                  </p:nvSpPr>
                  <p:spPr>
                    <a:xfrm flipH="1" flipV="1">
                      <a:off x="7338600" y="27079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24" name=""/>
                    <p:cNvSpPr/>
                    <p:nvPr/>
                  </p:nvSpPr>
                  <p:spPr>
                    <a:xfrm flipH="1">
                      <a:off x="7338600" y="28602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25" name=""/>
                  <p:cNvGrpSpPr/>
                  <p:nvPr/>
                </p:nvGrpSpPr>
                <p:grpSpPr>
                  <a:xfrm>
                    <a:off x="8078400" y="2717280"/>
                    <a:ext cx="176040" cy="215640"/>
                    <a:chOff x="8078400" y="2717280"/>
                    <a:chExt cx="176040" cy="215640"/>
                  </a:xfrm>
                </p:grpSpPr>
                <p:sp>
                  <p:nvSpPr>
                    <p:cNvPr id="1926" name=""/>
                    <p:cNvSpPr/>
                    <p:nvPr/>
                  </p:nvSpPr>
                  <p:spPr>
                    <a:xfrm flipV="1">
                      <a:off x="8078400" y="27172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27" name=""/>
                    <p:cNvSpPr/>
                    <p:nvPr/>
                  </p:nvSpPr>
                  <p:spPr>
                    <a:xfrm>
                      <a:off x="8078400" y="28695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28" name=""/>
                <p:cNvGrpSpPr/>
                <p:nvPr/>
              </p:nvGrpSpPr>
              <p:grpSpPr>
                <a:xfrm>
                  <a:off x="7347960" y="2145960"/>
                  <a:ext cx="916920" cy="225000"/>
                  <a:chOff x="7347960" y="2145960"/>
                  <a:chExt cx="916920" cy="225000"/>
                </a:xfrm>
              </p:grpSpPr>
              <p:grpSp>
                <p:nvGrpSpPr>
                  <p:cNvPr id="1929" name=""/>
                  <p:cNvGrpSpPr/>
                  <p:nvPr/>
                </p:nvGrpSpPr>
                <p:grpSpPr>
                  <a:xfrm>
                    <a:off x="7347960" y="2145960"/>
                    <a:ext cx="176040" cy="215640"/>
                    <a:chOff x="7347960" y="2145960"/>
                    <a:chExt cx="176040" cy="215640"/>
                  </a:xfrm>
                </p:grpSpPr>
                <p:sp>
                  <p:nvSpPr>
                    <p:cNvPr id="1930" name=""/>
                    <p:cNvSpPr/>
                    <p:nvPr/>
                  </p:nvSpPr>
                  <p:spPr>
                    <a:xfrm flipH="1" flipV="1">
                      <a:off x="7347960" y="21459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31" name=""/>
                    <p:cNvSpPr/>
                    <p:nvPr/>
                  </p:nvSpPr>
                  <p:spPr>
                    <a:xfrm flipH="1">
                      <a:off x="7347960" y="22982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32" name=""/>
                  <p:cNvGrpSpPr/>
                  <p:nvPr/>
                </p:nvGrpSpPr>
                <p:grpSpPr>
                  <a:xfrm>
                    <a:off x="8088840" y="2155320"/>
                    <a:ext cx="176040" cy="215640"/>
                    <a:chOff x="8088840" y="2155320"/>
                    <a:chExt cx="176040" cy="215640"/>
                  </a:xfrm>
                </p:grpSpPr>
                <p:sp>
                  <p:nvSpPr>
                    <p:cNvPr id="1933" name=""/>
                    <p:cNvSpPr/>
                    <p:nvPr/>
                  </p:nvSpPr>
                  <p:spPr>
                    <a:xfrm flipV="1">
                      <a:off x="8088840" y="21553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34" name=""/>
                    <p:cNvSpPr/>
                    <p:nvPr/>
                  </p:nvSpPr>
                  <p:spPr>
                    <a:xfrm>
                      <a:off x="8088840" y="23076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35" name=""/>
                <p:cNvGrpSpPr/>
                <p:nvPr/>
              </p:nvGrpSpPr>
              <p:grpSpPr>
                <a:xfrm>
                  <a:off x="7357680" y="1679400"/>
                  <a:ext cx="915840" cy="225000"/>
                  <a:chOff x="7357680" y="1679400"/>
                  <a:chExt cx="915840" cy="225000"/>
                </a:xfrm>
              </p:grpSpPr>
              <p:grpSp>
                <p:nvGrpSpPr>
                  <p:cNvPr id="1936" name=""/>
                  <p:cNvGrpSpPr/>
                  <p:nvPr/>
                </p:nvGrpSpPr>
                <p:grpSpPr>
                  <a:xfrm>
                    <a:off x="7357680" y="1679400"/>
                    <a:ext cx="176040" cy="215640"/>
                    <a:chOff x="7357680" y="1679400"/>
                    <a:chExt cx="176040" cy="215640"/>
                  </a:xfrm>
                </p:grpSpPr>
                <p:sp>
                  <p:nvSpPr>
                    <p:cNvPr id="1937" name=""/>
                    <p:cNvSpPr/>
                    <p:nvPr/>
                  </p:nvSpPr>
                  <p:spPr>
                    <a:xfrm flipH="1" flipV="1">
                      <a:off x="7357680" y="16794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38" name=""/>
                    <p:cNvSpPr/>
                    <p:nvPr/>
                  </p:nvSpPr>
                  <p:spPr>
                    <a:xfrm flipH="1">
                      <a:off x="7357680" y="18316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39" name=""/>
                  <p:cNvGrpSpPr/>
                  <p:nvPr/>
                </p:nvGrpSpPr>
                <p:grpSpPr>
                  <a:xfrm>
                    <a:off x="8097480" y="1688760"/>
                    <a:ext cx="176040" cy="215640"/>
                    <a:chOff x="8097480" y="1688760"/>
                    <a:chExt cx="176040" cy="215640"/>
                  </a:xfrm>
                </p:grpSpPr>
                <p:sp>
                  <p:nvSpPr>
                    <p:cNvPr id="1940" name=""/>
                    <p:cNvSpPr/>
                    <p:nvPr/>
                  </p:nvSpPr>
                  <p:spPr>
                    <a:xfrm flipV="1">
                      <a:off x="8097480" y="16887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41" name=""/>
                    <p:cNvSpPr/>
                    <p:nvPr/>
                  </p:nvSpPr>
                  <p:spPr>
                    <a:xfrm>
                      <a:off x="8097480" y="18410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sp>
          <p:nvSpPr>
            <p:cNvPr id="1942" name=""/>
            <p:cNvSpPr/>
            <p:nvPr/>
          </p:nvSpPr>
          <p:spPr>
            <a:xfrm>
              <a:off x="6915240" y="1682640"/>
              <a:ext cx="1520640" cy="3326040"/>
            </a:xfrm>
            <a:prstGeom prst="rect">
              <a:avLst/>
            </a:prstGeom>
            <a:gradFill rotWithShape="0">
              <a:gsLst>
                <a:gs pos="0">
                  <a:srgbClr val="6b6b6b"/>
                </a:gs>
                <a:gs pos="100000">
                  <a:srgbClr val="eaeaea"/>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43" name=""/>
            <p:cNvSpPr/>
            <p:nvPr/>
          </p:nvSpPr>
          <p:spPr>
            <a:xfrm>
              <a:off x="7074360" y="46483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ffffff"/>
                </a:solidFill>
                <a:latin typeface="Arial"/>
              </a:endParaRPr>
            </a:p>
          </p:txBody>
        </p:sp>
        <p:grpSp>
          <p:nvGrpSpPr>
            <p:cNvPr id="1944" name=""/>
            <p:cNvGrpSpPr/>
            <p:nvPr/>
          </p:nvGrpSpPr>
          <p:grpSpPr>
            <a:xfrm>
              <a:off x="6843600" y="3781440"/>
              <a:ext cx="1695600" cy="550800"/>
              <a:chOff x="6843600" y="3781440"/>
              <a:chExt cx="1695600" cy="550800"/>
            </a:xfrm>
          </p:grpSpPr>
          <p:sp>
            <p:nvSpPr>
              <p:cNvPr id="1945" name=""/>
              <p:cNvSpPr/>
              <p:nvPr/>
            </p:nvSpPr>
            <p:spPr>
              <a:xfrm>
                <a:off x="6989760" y="381636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46" name=""/>
              <p:cNvSpPr/>
              <p:nvPr/>
            </p:nvSpPr>
            <p:spPr>
              <a:xfrm>
                <a:off x="6843600" y="378144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947" name=""/>
            <p:cNvGrpSpPr/>
            <p:nvPr/>
          </p:nvGrpSpPr>
          <p:grpSpPr>
            <a:xfrm>
              <a:off x="6843600" y="3219480"/>
              <a:ext cx="1695600" cy="550800"/>
              <a:chOff x="6843600" y="3219480"/>
              <a:chExt cx="1695600" cy="550800"/>
            </a:xfrm>
          </p:grpSpPr>
          <p:sp>
            <p:nvSpPr>
              <p:cNvPr id="1948" name=""/>
              <p:cNvSpPr/>
              <p:nvPr/>
            </p:nvSpPr>
            <p:spPr>
              <a:xfrm>
                <a:off x="6989760" y="325440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49" name=""/>
              <p:cNvSpPr/>
              <p:nvPr/>
            </p:nvSpPr>
            <p:spPr>
              <a:xfrm>
                <a:off x="6843600" y="321948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950" name=""/>
            <p:cNvGrpSpPr/>
            <p:nvPr/>
          </p:nvGrpSpPr>
          <p:grpSpPr>
            <a:xfrm>
              <a:off x="6843600" y="2657520"/>
              <a:ext cx="1695600" cy="550800"/>
              <a:chOff x="6843600" y="2657520"/>
              <a:chExt cx="1695600" cy="550800"/>
            </a:xfrm>
          </p:grpSpPr>
          <p:sp>
            <p:nvSpPr>
              <p:cNvPr id="1951" name=""/>
              <p:cNvSpPr/>
              <p:nvPr/>
            </p:nvSpPr>
            <p:spPr>
              <a:xfrm>
                <a:off x="6989760" y="269244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52" name=""/>
              <p:cNvSpPr/>
              <p:nvPr/>
            </p:nvSpPr>
            <p:spPr>
              <a:xfrm>
                <a:off x="6843600" y="265752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953" name=""/>
            <p:cNvGrpSpPr/>
            <p:nvPr/>
          </p:nvGrpSpPr>
          <p:grpSpPr>
            <a:xfrm>
              <a:off x="6843600" y="2095560"/>
              <a:ext cx="1695600" cy="550800"/>
              <a:chOff x="6843600" y="2095560"/>
              <a:chExt cx="1695600" cy="550800"/>
            </a:xfrm>
          </p:grpSpPr>
          <p:sp>
            <p:nvSpPr>
              <p:cNvPr id="1954" name=""/>
              <p:cNvSpPr/>
              <p:nvPr/>
            </p:nvSpPr>
            <p:spPr>
              <a:xfrm>
                <a:off x="6989760" y="2130480"/>
                <a:ext cx="1377720" cy="484200"/>
              </a:xfrm>
              <a:prstGeom prst="rect">
                <a:avLst/>
              </a:prstGeom>
              <a:gradFill rotWithShape="0">
                <a:gsLst>
                  <a:gs pos="0">
                    <a:srgbClr val="7889fb"/>
                  </a:gs>
                  <a:gs pos="100000">
                    <a:srgbClr val="373f73"/>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55" name=""/>
              <p:cNvSpPr/>
              <p:nvPr/>
            </p:nvSpPr>
            <p:spPr>
              <a:xfrm>
                <a:off x="6843600" y="2095560"/>
                <a:ext cx="1695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face Lo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FTP, Sockets,,HTTP,</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Arial"/>
                  </a:rPr>
                  <a:t>IIOP, Transformation)</a:t>
                </a:r>
                <a:endParaRPr b="0" lang="en-US" sz="900" spc="-1" strike="noStrike">
                  <a:solidFill>
                    <a:srgbClr val="ffffff"/>
                  </a:solidFill>
                  <a:latin typeface="Arial"/>
                </a:endParaRPr>
              </a:p>
            </p:txBody>
          </p:sp>
        </p:grpSp>
        <p:grpSp>
          <p:nvGrpSpPr>
            <p:cNvPr id="1956" name=""/>
            <p:cNvGrpSpPr/>
            <p:nvPr/>
          </p:nvGrpSpPr>
          <p:grpSpPr>
            <a:xfrm>
              <a:off x="7186320" y="1365120"/>
              <a:ext cx="938160" cy="2783880"/>
              <a:chOff x="7186320" y="1365120"/>
              <a:chExt cx="938160" cy="2783880"/>
            </a:xfrm>
          </p:grpSpPr>
          <p:sp>
            <p:nvSpPr>
              <p:cNvPr id="1957" name=""/>
              <p:cNvSpPr/>
              <p:nvPr/>
            </p:nvSpPr>
            <p:spPr>
              <a:xfrm>
                <a:off x="7659720" y="1365120"/>
                <a:ext cx="15840" cy="2741400"/>
              </a:xfrm>
              <a:prstGeom prst="line">
                <a:avLst/>
              </a:prstGeom>
              <a:ln w="11448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58" name=""/>
              <p:cNvGrpSpPr/>
              <p:nvPr/>
            </p:nvGrpSpPr>
            <p:grpSpPr>
              <a:xfrm>
                <a:off x="7208640" y="3375000"/>
                <a:ext cx="915840" cy="225000"/>
                <a:chOff x="7208640" y="3375000"/>
                <a:chExt cx="915840" cy="225000"/>
              </a:xfrm>
            </p:grpSpPr>
            <p:grpSp>
              <p:nvGrpSpPr>
                <p:cNvPr id="1959" name=""/>
                <p:cNvGrpSpPr/>
                <p:nvPr/>
              </p:nvGrpSpPr>
              <p:grpSpPr>
                <a:xfrm>
                  <a:off x="7208640" y="3375000"/>
                  <a:ext cx="176040" cy="215640"/>
                  <a:chOff x="7208640" y="3375000"/>
                  <a:chExt cx="176040" cy="215640"/>
                </a:xfrm>
              </p:grpSpPr>
              <p:sp>
                <p:nvSpPr>
                  <p:cNvPr id="1960" name=""/>
                  <p:cNvSpPr/>
                  <p:nvPr/>
                </p:nvSpPr>
                <p:spPr>
                  <a:xfrm flipH="1" flipV="1">
                    <a:off x="7208640" y="33750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61" name=""/>
                  <p:cNvSpPr/>
                  <p:nvPr/>
                </p:nvSpPr>
                <p:spPr>
                  <a:xfrm flipH="1">
                    <a:off x="7208640" y="35272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62" name=""/>
                <p:cNvGrpSpPr/>
                <p:nvPr/>
              </p:nvGrpSpPr>
              <p:grpSpPr>
                <a:xfrm>
                  <a:off x="7948440" y="3384360"/>
                  <a:ext cx="176040" cy="215640"/>
                  <a:chOff x="7948440" y="3384360"/>
                  <a:chExt cx="176040" cy="215640"/>
                </a:xfrm>
              </p:grpSpPr>
              <p:sp>
                <p:nvSpPr>
                  <p:cNvPr id="1963" name=""/>
                  <p:cNvSpPr/>
                  <p:nvPr/>
                </p:nvSpPr>
                <p:spPr>
                  <a:xfrm flipV="1">
                    <a:off x="7948440" y="33843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64" name=""/>
                  <p:cNvSpPr/>
                  <p:nvPr/>
                </p:nvSpPr>
                <p:spPr>
                  <a:xfrm>
                    <a:off x="7948440" y="35366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65" name=""/>
              <p:cNvGrpSpPr/>
              <p:nvPr/>
            </p:nvGrpSpPr>
            <p:grpSpPr>
              <a:xfrm>
                <a:off x="7218000" y="3924000"/>
                <a:ext cx="900720" cy="225000"/>
                <a:chOff x="7218000" y="3924000"/>
                <a:chExt cx="900720" cy="225000"/>
              </a:xfrm>
            </p:grpSpPr>
            <p:grpSp>
              <p:nvGrpSpPr>
                <p:cNvPr id="1966" name=""/>
                <p:cNvGrpSpPr/>
                <p:nvPr/>
              </p:nvGrpSpPr>
              <p:grpSpPr>
                <a:xfrm>
                  <a:off x="7218000" y="3924000"/>
                  <a:ext cx="176040" cy="215640"/>
                  <a:chOff x="7218000" y="3924000"/>
                  <a:chExt cx="176040" cy="215640"/>
                </a:xfrm>
              </p:grpSpPr>
              <p:sp>
                <p:nvSpPr>
                  <p:cNvPr id="1967" name=""/>
                  <p:cNvSpPr/>
                  <p:nvPr/>
                </p:nvSpPr>
                <p:spPr>
                  <a:xfrm flipH="1" flipV="1">
                    <a:off x="7218000" y="392400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68" name=""/>
                  <p:cNvSpPr/>
                  <p:nvPr/>
                </p:nvSpPr>
                <p:spPr>
                  <a:xfrm flipH="1">
                    <a:off x="7218000" y="407628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69" name=""/>
                <p:cNvGrpSpPr/>
                <p:nvPr/>
              </p:nvGrpSpPr>
              <p:grpSpPr>
                <a:xfrm>
                  <a:off x="7942680" y="3933360"/>
                  <a:ext cx="176040" cy="215640"/>
                  <a:chOff x="7942680" y="3933360"/>
                  <a:chExt cx="176040" cy="215640"/>
                </a:xfrm>
              </p:grpSpPr>
              <p:sp>
                <p:nvSpPr>
                  <p:cNvPr id="1970" name=""/>
                  <p:cNvSpPr/>
                  <p:nvPr/>
                </p:nvSpPr>
                <p:spPr>
                  <a:xfrm flipV="1">
                    <a:off x="7942680" y="39333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71" name=""/>
                  <p:cNvSpPr/>
                  <p:nvPr/>
                </p:nvSpPr>
                <p:spPr>
                  <a:xfrm>
                    <a:off x="7942680" y="40856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72" name=""/>
              <p:cNvGrpSpPr/>
              <p:nvPr/>
            </p:nvGrpSpPr>
            <p:grpSpPr>
              <a:xfrm>
                <a:off x="7186320" y="2812680"/>
                <a:ext cx="915840" cy="225000"/>
                <a:chOff x="7186320" y="2812680"/>
                <a:chExt cx="915840" cy="225000"/>
              </a:xfrm>
            </p:grpSpPr>
            <p:grpSp>
              <p:nvGrpSpPr>
                <p:cNvPr id="1973" name=""/>
                <p:cNvGrpSpPr/>
                <p:nvPr/>
              </p:nvGrpSpPr>
              <p:grpSpPr>
                <a:xfrm>
                  <a:off x="7186320" y="2812680"/>
                  <a:ext cx="176040" cy="215640"/>
                  <a:chOff x="7186320" y="2812680"/>
                  <a:chExt cx="176040" cy="215640"/>
                </a:xfrm>
              </p:grpSpPr>
              <p:sp>
                <p:nvSpPr>
                  <p:cNvPr id="1974" name=""/>
                  <p:cNvSpPr/>
                  <p:nvPr/>
                </p:nvSpPr>
                <p:spPr>
                  <a:xfrm flipH="1" flipV="1">
                    <a:off x="7186320" y="28126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75" name=""/>
                  <p:cNvSpPr/>
                  <p:nvPr/>
                </p:nvSpPr>
                <p:spPr>
                  <a:xfrm flipH="1">
                    <a:off x="7186320" y="29649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76" name=""/>
                <p:cNvGrpSpPr/>
                <p:nvPr/>
              </p:nvGrpSpPr>
              <p:grpSpPr>
                <a:xfrm>
                  <a:off x="7926120" y="2822040"/>
                  <a:ext cx="176040" cy="215640"/>
                  <a:chOff x="7926120" y="2822040"/>
                  <a:chExt cx="176040" cy="215640"/>
                </a:xfrm>
              </p:grpSpPr>
              <p:sp>
                <p:nvSpPr>
                  <p:cNvPr id="1977" name=""/>
                  <p:cNvSpPr/>
                  <p:nvPr/>
                </p:nvSpPr>
                <p:spPr>
                  <a:xfrm flipV="1">
                    <a:off x="7926120" y="282204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78" name=""/>
                  <p:cNvSpPr/>
                  <p:nvPr/>
                </p:nvSpPr>
                <p:spPr>
                  <a:xfrm>
                    <a:off x="7926120" y="297432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79" name=""/>
              <p:cNvGrpSpPr/>
              <p:nvPr/>
            </p:nvGrpSpPr>
            <p:grpSpPr>
              <a:xfrm>
                <a:off x="7195680" y="2250720"/>
                <a:ext cx="916920" cy="225000"/>
                <a:chOff x="7195680" y="2250720"/>
                <a:chExt cx="916920" cy="225000"/>
              </a:xfrm>
            </p:grpSpPr>
            <p:grpSp>
              <p:nvGrpSpPr>
                <p:cNvPr id="1980" name=""/>
                <p:cNvGrpSpPr/>
                <p:nvPr/>
              </p:nvGrpSpPr>
              <p:grpSpPr>
                <a:xfrm>
                  <a:off x="7195680" y="2250720"/>
                  <a:ext cx="176040" cy="215640"/>
                  <a:chOff x="7195680" y="2250720"/>
                  <a:chExt cx="176040" cy="215640"/>
                </a:xfrm>
              </p:grpSpPr>
              <p:sp>
                <p:nvSpPr>
                  <p:cNvPr id="1981" name=""/>
                  <p:cNvSpPr/>
                  <p:nvPr/>
                </p:nvSpPr>
                <p:spPr>
                  <a:xfrm flipH="1" flipV="1">
                    <a:off x="7195680" y="22507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82" name=""/>
                  <p:cNvSpPr/>
                  <p:nvPr/>
                </p:nvSpPr>
                <p:spPr>
                  <a:xfrm flipH="1">
                    <a:off x="7195680" y="24030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83" name=""/>
                <p:cNvGrpSpPr/>
                <p:nvPr/>
              </p:nvGrpSpPr>
              <p:grpSpPr>
                <a:xfrm>
                  <a:off x="7936560" y="2260080"/>
                  <a:ext cx="176040" cy="215640"/>
                  <a:chOff x="7936560" y="2260080"/>
                  <a:chExt cx="176040" cy="215640"/>
                </a:xfrm>
              </p:grpSpPr>
              <p:sp>
                <p:nvSpPr>
                  <p:cNvPr id="1984" name=""/>
                  <p:cNvSpPr/>
                  <p:nvPr/>
                </p:nvSpPr>
                <p:spPr>
                  <a:xfrm flipV="1">
                    <a:off x="7936560" y="226008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85" name=""/>
                  <p:cNvSpPr/>
                  <p:nvPr/>
                </p:nvSpPr>
                <p:spPr>
                  <a:xfrm>
                    <a:off x="7936560" y="241236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nvGrpSpPr>
              <p:cNvPr id="1986" name=""/>
              <p:cNvGrpSpPr/>
              <p:nvPr/>
            </p:nvGrpSpPr>
            <p:grpSpPr>
              <a:xfrm>
                <a:off x="7205400" y="1784160"/>
                <a:ext cx="915840" cy="225000"/>
                <a:chOff x="7205400" y="1784160"/>
                <a:chExt cx="915840" cy="225000"/>
              </a:xfrm>
            </p:grpSpPr>
            <p:grpSp>
              <p:nvGrpSpPr>
                <p:cNvPr id="1987" name=""/>
                <p:cNvGrpSpPr/>
                <p:nvPr/>
              </p:nvGrpSpPr>
              <p:grpSpPr>
                <a:xfrm>
                  <a:off x="7205400" y="1784160"/>
                  <a:ext cx="176040" cy="215640"/>
                  <a:chOff x="7205400" y="1784160"/>
                  <a:chExt cx="176040" cy="215640"/>
                </a:xfrm>
              </p:grpSpPr>
              <p:sp>
                <p:nvSpPr>
                  <p:cNvPr id="1988" name=""/>
                  <p:cNvSpPr/>
                  <p:nvPr/>
                </p:nvSpPr>
                <p:spPr>
                  <a:xfrm flipH="1" flipV="1">
                    <a:off x="7205400" y="178416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89" name=""/>
                  <p:cNvSpPr/>
                  <p:nvPr/>
                </p:nvSpPr>
                <p:spPr>
                  <a:xfrm flipH="1">
                    <a:off x="7205400" y="193644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nvGrpSpPr>
                <p:cNvPr id="1990" name=""/>
                <p:cNvGrpSpPr/>
                <p:nvPr/>
              </p:nvGrpSpPr>
              <p:grpSpPr>
                <a:xfrm>
                  <a:off x="7945200" y="1793520"/>
                  <a:ext cx="176040" cy="215640"/>
                  <a:chOff x="7945200" y="1793520"/>
                  <a:chExt cx="176040" cy="215640"/>
                </a:xfrm>
              </p:grpSpPr>
              <p:sp>
                <p:nvSpPr>
                  <p:cNvPr id="1991" name=""/>
                  <p:cNvSpPr/>
                  <p:nvPr/>
                </p:nvSpPr>
                <p:spPr>
                  <a:xfrm flipV="1">
                    <a:off x="7945200" y="1793520"/>
                    <a:ext cx="176040" cy="63360"/>
                  </a:xfrm>
                  <a:prstGeom prst="line">
                    <a:avLst/>
                  </a:prstGeom>
                  <a:ln w="2844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1992" name=""/>
                  <p:cNvSpPr/>
                  <p:nvPr/>
                </p:nvSpPr>
                <p:spPr>
                  <a:xfrm>
                    <a:off x="7945200" y="1945800"/>
                    <a:ext cx="176040" cy="63360"/>
                  </a:xfrm>
                  <a:prstGeom prst="line">
                    <a:avLst/>
                  </a:prstGeom>
                  <a:ln w="38160">
                    <a:solidFill>
                      <a:srgbClr val="000099"/>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grpSp>
          </p:grpSp>
        </p:grpSp>
      </p:grpSp>
      <p:sp>
        <p:nvSpPr>
          <p:cNvPr id="4" name="PlaceHolder 3"/>
          <p:cNvSpPr>
            <a:spLocks noGrp="1"/>
          </p:cNvSpPr>
          <p:nvPr>
            <p:ph type="sldNum" idx="4"/>
          </p:nvPr>
        </p:nvSpPr>
        <p:spPr/>
        <p:txBody>
          <a:bodyPr/>
          <a:p>
            <a:fld id="{C880AB34-8851-4441-9EDA-F502BDD43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153720" y="456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lay: ESB, Message Broker, and MQ  Prospecting</a:t>
            </a:r>
            <a:endParaRPr b="0" lang="en-US" sz="2800" spc="-1" strike="noStrike">
              <a:solidFill>
                <a:srgbClr val="7889fb"/>
              </a:solidFill>
              <a:latin typeface="Arial"/>
            </a:endParaRPr>
          </a:p>
        </p:txBody>
      </p:sp>
      <p:sp>
        <p:nvSpPr>
          <p:cNvPr id="1994" name="PlaceHolder 2"/>
          <p:cNvSpPr>
            <a:spLocks noGrp="1"/>
          </p:cNvSpPr>
          <p:nvPr>
            <p:ph/>
          </p:nvPr>
        </p:nvSpPr>
        <p:spPr>
          <a:xfrm>
            <a:off x="323640" y="1196640"/>
            <a:ext cx="8569080" cy="5111640"/>
          </a:xfrm>
          <a:prstGeom prst="rect">
            <a:avLst/>
          </a:prstGeom>
          <a:noFill/>
          <a:ln w="12600">
            <a:solidFill>
              <a:srgbClr val="333399"/>
            </a:solidFill>
            <a:miter/>
          </a:ln>
        </p:spPr>
        <p:txBody>
          <a:bodyPr lIns="90000" rIns="90000" tIns="46800" bIns="46800" anchor="t">
            <a:normAutofit/>
          </a:bodyPr>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Pain Point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ing complexity and application maintenance costs impairing flexibility</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enough budget available to service new application development</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O -- cost of managing file-based (FTP) connectivity</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O/CEO -- potential Sarbanes-Oxley or other regulatory compliance audit assessing possibility of people tampering with file data</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ing for a competitive advantage in market response and event identification</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market; need a better return on operational asset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liferation of technologies within LOB’s I.T. organizations – central I.T. wants to get back more control</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I.T. is being asked to provide message backbone service that interface with LOB’s messaging – must be able to provide quality of service guarantee</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Questions to Qualify your Prospects</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are you spending today on application development and maintenance?</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FTP, TCP/IP Sockets, or HTTP coding is your organization doing?</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you doing data transformation in a central broker or within your applications? </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you pass a compliance audit associated with data movement if you were asked?</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you manage transactions right across your enterprise? </a:t>
            </a: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9A250B10-AB95-4BA1-80FF-DD668E214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153720" y="579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om to call?</a:t>
            </a:r>
            <a:endParaRPr b="0" lang="en-US" sz="2800" spc="-1" strike="noStrike">
              <a:solidFill>
                <a:srgbClr val="7889fb"/>
              </a:solidFill>
              <a:latin typeface="Arial"/>
            </a:endParaRPr>
          </a:p>
        </p:txBody>
      </p:sp>
      <p:sp>
        <p:nvSpPr>
          <p:cNvPr id="1996" name="PlaceHolder 2"/>
          <p:cNvSpPr>
            <a:spLocks noGrp="1"/>
          </p:cNvSpPr>
          <p:nvPr>
            <p:ph/>
          </p:nvPr>
        </p:nvSpPr>
        <p:spPr>
          <a:xfrm>
            <a:off x="785880" y="1375920"/>
            <a:ext cx="7548480" cy="502452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audience: IT decision makers, IT architects, CIO/CTO</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ross industry with strong emphasis on FSS, Manufacturing, Retail.</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Messaging</a:t>
            </a:r>
            <a:endParaRPr b="0" lang="en-US" sz="16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Only WebSphere delivers the most comprehensive Enterprise Service Bus solutions to power your SOA and reduce the cost of building and maintaining application interfaces while reducing risk!  No one integrates applications more easily, realiably, extensively and quickly:</a:t>
            </a:r>
            <a:endParaRPr b="0" lang="en-US" sz="1400" spc="-1" strike="noStrike">
              <a:solidFill>
                <a:srgbClr val="000000"/>
              </a:solidFill>
              <a:latin typeface="Arial"/>
            </a:endParaRPr>
          </a:p>
          <a:p>
            <a:pPr lvl="2" marL="682560" indent="-223920">
              <a:lnSpc>
                <a:spcPct val="8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asily</a:t>
            </a:r>
            <a:r>
              <a:rPr b="0" lang="fr-CH" sz="1400" spc="-1" strike="noStrike">
                <a:solidFill>
                  <a:srgbClr val="000000"/>
                </a:solidFill>
                <a:latin typeface="Arial"/>
              </a:rPr>
              <a:t>:  new tooling requires minimal programming skills and the products are simple to install, deploy and manage.</a:t>
            </a:r>
            <a:endParaRPr b="0" lang="en-US" sz="1400" spc="-1" strike="noStrike">
              <a:solidFill>
                <a:srgbClr val="000000"/>
              </a:solidFill>
              <a:latin typeface="Arial"/>
            </a:endParaRPr>
          </a:p>
          <a:p>
            <a:pPr lvl="2" marL="682560" indent="-223920">
              <a:lnSpc>
                <a:spcPct val="8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Reliably:</a:t>
            </a:r>
            <a:r>
              <a:rPr b="0" lang="fr-CH" sz="1400" spc="-1" strike="noStrike">
                <a:solidFill>
                  <a:srgbClr val="000000"/>
                </a:solidFill>
                <a:latin typeface="Arial"/>
              </a:rPr>
              <a:t>  End-to-end reliability and secure exchange of information between systems and applications.  12k+ integration clients strong, processing tens of billions of messages and hundreds of trillions of dollars everyday. Supports performance of traditional backoffice applications and processing systems.  Both ESB offerings built on proven, production tested products. 12+ years as an industy leader and investment in integration product innovation.  </a:t>
            </a:r>
            <a:endParaRPr b="0" lang="en-US" sz="1400" spc="-1" strike="noStrike">
              <a:solidFill>
                <a:srgbClr val="000000"/>
              </a:solidFill>
              <a:latin typeface="Arial"/>
            </a:endParaRPr>
          </a:p>
          <a:p>
            <a:pPr lvl="2" marL="682560" indent="-223920">
              <a:lnSpc>
                <a:spcPct val="8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xtensively</a:t>
            </a:r>
            <a:r>
              <a:rPr b="0" lang="fr-CH" sz="1400" spc="-1" strike="noStrike">
                <a:solidFill>
                  <a:srgbClr val="000000"/>
                </a:solidFill>
                <a:latin typeface="Arial"/>
              </a:rPr>
              <a:t>:  unmatched in terms of ability to deliver universal data transformation and connectivity.  Integrate virtually and reuse virtually all assets in your entire enterprise – applications, sources of data, systems, platforms, devices, sensors, and APIs – both proprietary and standards based, regardless of platform and programming language whether or not the comply to standards.  Over 80+ supported platform configurations. With IBM’s products it will saves 3 times the cost of custom connectivity or FTP.</a:t>
            </a:r>
            <a:endParaRPr b="0" lang="en-US" sz="1400" spc="-1" strike="noStrike">
              <a:solidFill>
                <a:srgbClr val="000000"/>
              </a:solidFill>
              <a:latin typeface="Arial"/>
            </a:endParaRPr>
          </a:p>
          <a:p>
            <a:pPr lvl="2" marL="682560" indent="-223920">
              <a:lnSpc>
                <a:spcPct val="8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Quickly</a:t>
            </a:r>
            <a:r>
              <a:rPr b="0" lang="fr-CH" sz="1400" spc="-1" strike="noStrike">
                <a:solidFill>
                  <a:srgbClr val="000000"/>
                </a:solidFill>
                <a:latin typeface="Arial"/>
              </a:rPr>
              <a:t> : prebuilt adapters rapidly link in a wide range of custom and packaged applications into your infrastructure reducing your time to value, maximising reuse of existing assets without altering them.</a:t>
            </a:r>
            <a:endParaRPr b="0" lang="en-US" sz="1400" spc="-1" strike="noStrike">
              <a:solidFill>
                <a:srgbClr val="000000"/>
              </a:solidFill>
              <a:latin typeface="Arial"/>
            </a:endParaRPr>
          </a:p>
          <a:p>
            <a:pPr marL="22860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8D8CB2D1-1025-4508-8513-A14C3439D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
          <p:cNvSpPr/>
          <p:nvPr/>
        </p:nvSpPr>
        <p:spPr>
          <a:xfrm>
            <a:off x="112680" y="550800"/>
            <a:ext cx="89312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The Business Value of an Enterprise Service Bus</a:t>
            </a:r>
            <a:endParaRPr b="0" lang="en-US" sz="2800" spc="-1" strike="noStrike">
              <a:solidFill>
                <a:srgbClr val="ffffff"/>
              </a:solidFill>
              <a:latin typeface="Arial"/>
            </a:endParaRPr>
          </a:p>
        </p:txBody>
      </p:sp>
      <p:sp>
        <p:nvSpPr>
          <p:cNvPr id="1998" name=""/>
          <p:cNvSpPr/>
          <p:nvPr/>
        </p:nvSpPr>
        <p:spPr>
          <a:xfrm flipH="1" flipV="1">
            <a:off x="4276800" y="3034440"/>
            <a:ext cx="1047600" cy="1047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99" name=""/>
          <p:cNvSpPr/>
          <p:nvPr/>
        </p:nvSpPr>
        <p:spPr>
          <a:xfrm flipH="1" flipV="1">
            <a:off x="388080" y="3034440"/>
            <a:ext cx="1070280" cy="10476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0" name=""/>
          <p:cNvSpPr/>
          <p:nvPr/>
        </p:nvSpPr>
        <p:spPr>
          <a:xfrm flipH="1" flipV="1">
            <a:off x="382680" y="2358360"/>
            <a:ext cx="1076400" cy="59508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1" name=""/>
          <p:cNvSpPr/>
          <p:nvPr/>
        </p:nvSpPr>
        <p:spPr>
          <a:xfrm flipH="1">
            <a:off x="243720" y="2344680"/>
            <a:ext cx="1320840" cy="6685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ve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servation</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cess</a:t>
            </a:r>
            <a:endParaRPr b="0" lang="en-US" sz="1400" spc="-1" strike="noStrike">
              <a:solidFill>
                <a:srgbClr val="ffffff"/>
              </a:solidFill>
              <a:latin typeface="Arial"/>
            </a:endParaRPr>
          </a:p>
        </p:txBody>
      </p:sp>
      <p:sp>
        <p:nvSpPr>
          <p:cNvPr id="2002" name=""/>
          <p:cNvSpPr/>
          <p:nvPr/>
        </p:nvSpPr>
        <p:spPr>
          <a:xfrm flipH="1" flipV="1">
            <a:off x="3010680" y="3031560"/>
            <a:ext cx="1143000" cy="10764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3" name=""/>
          <p:cNvSpPr/>
          <p:nvPr/>
        </p:nvSpPr>
        <p:spPr>
          <a:xfrm flipH="1" flipV="1">
            <a:off x="2977560" y="4518720"/>
            <a:ext cx="1137960" cy="1177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nvGrpSpPr>
          <p:cNvPr id="2004" name=""/>
          <p:cNvGrpSpPr/>
          <p:nvPr/>
        </p:nvGrpSpPr>
        <p:grpSpPr>
          <a:xfrm>
            <a:off x="1703160" y="4692600"/>
            <a:ext cx="1145520" cy="691560"/>
            <a:chOff x="1703160" y="4692600"/>
            <a:chExt cx="1145520" cy="691560"/>
          </a:xfrm>
        </p:grpSpPr>
        <p:sp>
          <p:nvSpPr>
            <p:cNvPr id="2005" name=""/>
            <p:cNvSpPr/>
            <p:nvPr/>
          </p:nvSpPr>
          <p:spPr>
            <a:xfrm flipH="1" flipV="1">
              <a:off x="1702800" y="4716000"/>
              <a:ext cx="1138680" cy="668160"/>
            </a:xfrm>
            <a:prstGeom prst="rect">
              <a:avLst/>
            </a:prstGeom>
            <a:solidFill>
              <a:srgbClr val="ffffff"/>
            </a:solidFill>
            <a:ln w="2844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6" name=""/>
            <p:cNvSpPr/>
            <p:nvPr/>
          </p:nvSpPr>
          <p:spPr>
            <a:xfrm flipH="1">
              <a:off x="1724760" y="4692600"/>
              <a:ext cx="112392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ligh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vailability</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grpSp>
      <p:sp>
        <p:nvSpPr>
          <p:cNvPr id="2007" name=""/>
          <p:cNvSpPr/>
          <p:nvPr/>
        </p:nvSpPr>
        <p:spPr>
          <a:xfrm flipH="1" flipV="1">
            <a:off x="1731960" y="4518720"/>
            <a:ext cx="1138320" cy="1177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8" name=""/>
          <p:cNvSpPr/>
          <p:nvPr/>
        </p:nvSpPr>
        <p:spPr>
          <a:xfrm flipH="1" flipV="1">
            <a:off x="371520" y="4518720"/>
            <a:ext cx="1138320" cy="1177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9" name=""/>
          <p:cNvSpPr/>
          <p:nvPr/>
        </p:nvSpPr>
        <p:spPr>
          <a:xfrm flipH="1" flipV="1">
            <a:off x="4197240" y="4518720"/>
            <a:ext cx="1138320" cy="1177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10" name=""/>
          <p:cNvSpPr/>
          <p:nvPr/>
        </p:nvSpPr>
        <p:spPr>
          <a:xfrm>
            <a:off x="461880" y="3654360"/>
            <a:ext cx="4791240" cy="360360"/>
          </a:xfrm>
          <a:prstGeom prst="rect">
            <a:avLst/>
          </a:prstGeom>
          <a:gradFill rotWithShape="0">
            <a:gsLst>
              <a:gs pos="0">
                <a:srgbClr val="7889fb"/>
              </a:gs>
              <a:gs pos="50000">
                <a:srgbClr val="373f73"/>
              </a:gs>
              <a:gs pos="100000">
                <a:srgbClr val="7889fb"/>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11" name=""/>
          <p:cNvSpPr/>
          <p:nvPr/>
        </p:nvSpPr>
        <p:spPr>
          <a:xfrm>
            <a:off x="934920" y="3151080"/>
            <a:ext cx="180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2" name=""/>
          <p:cNvSpPr/>
          <p:nvPr/>
        </p:nvSpPr>
        <p:spPr>
          <a:xfrm>
            <a:off x="3540240" y="31510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3" name=""/>
          <p:cNvSpPr/>
          <p:nvPr/>
        </p:nvSpPr>
        <p:spPr>
          <a:xfrm>
            <a:off x="4741920" y="31510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4" name=""/>
          <p:cNvSpPr/>
          <p:nvPr/>
        </p:nvSpPr>
        <p:spPr>
          <a:xfrm>
            <a:off x="932040" y="40114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5" name=""/>
          <p:cNvSpPr/>
          <p:nvPr/>
        </p:nvSpPr>
        <p:spPr>
          <a:xfrm>
            <a:off x="2292480" y="40114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6" name=""/>
          <p:cNvSpPr/>
          <p:nvPr/>
        </p:nvSpPr>
        <p:spPr>
          <a:xfrm>
            <a:off x="3537000" y="40114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7" name=""/>
          <p:cNvSpPr/>
          <p:nvPr/>
        </p:nvSpPr>
        <p:spPr>
          <a:xfrm>
            <a:off x="4737240" y="4011480"/>
            <a:ext cx="1440" cy="47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8" name=""/>
          <p:cNvSpPr/>
          <p:nvPr/>
        </p:nvSpPr>
        <p:spPr>
          <a:xfrm>
            <a:off x="2065320" y="3139920"/>
            <a:ext cx="160200" cy="4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1319400" y="3676680"/>
            <a:ext cx="24012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nterprise Service Bus</a:t>
            </a:r>
            <a:endParaRPr b="0" lang="en-US" sz="1600" spc="-1" strike="noStrike">
              <a:solidFill>
                <a:srgbClr val="ffffff"/>
              </a:solidFill>
              <a:latin typeface="Arial"/>
            </a:endParaRPr>
          </a:p>
        </p:txBody>
      </p:sp>
      <p:grpSp>
        <p:nvGrpSpPr>
          <p:cNvPr id="2020" name=""/>
          <p:cNvGrpSpPr/>
          <p:nvPr/>
        </p:nvGrpSpPr>
        <p:grpSpPr>
          <a:xfrm>
            <a:off x="1626840" y="2352240"/>
            <a:ext cx="1245960" cy="789120"/>
            <a:chOff x="1626840" y="2352240"/>
            <a:chExt cx="1245960" cy="789120"/>
          </a:xfrm>
        </p:grpSpPr>
        <p:sp>
          <p:nvSpPr>
            <p:cNvPr id="2021" name=""/>
            <p:cNvSpPr/>
            <p:nvPr/>
          </p:nvSpPr>
          <p:spPr>
            <a:xfrm flipH="1" flipV="1">
              <a:off x="1656720" y="3036240"/>
              <a:ext cx="1216080" cy="105120"/>
            </a:xfrm>
            <a:prstGeom prst="rect">
              <a:avLst/>
            </a:prstGeom>
            <a:solidFill>
              <a:srgbClr val="7889fb"/>
            </a:solid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2" name=""/>
            <p:cNvSpPr/>
            <p:nvPr/>
          </p:nvSpPr>
          <p:spPr>
            <a:xfrm flipH="1" flipV="1">
              <a:off x="1626480" y="2351880"/>
              <a:ext cx="1224360" cy="5994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3" name=""/>
            <p:cNvSpPr/>
            <p:nvPr/>
          </p:nvSpPr>
          <p:spPr>
            <a:xfrm flipH="1">
              <a:off x="1641960" y="2363760"/>
              <a:ext cx="1198800" cy="6685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W Check</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veler</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grpSp>
      <p:sp>
        <p:nvSpPr>
          <p:cNvPr id="2024" name=""/>
          <p:cNvSpPr/>
          <p:nvPr/>
        </p:nvSpPr>
        <p:spPr>
          <a:xfrm flipH="1" flipV="1">
            <a:off x="3007440" y="2341440"/>
            <a:ext cx="1150920" cy="61272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5" name=""/>
          <p:cNvSpPr/>
          <p:nvPr/>
        </p:nvSpPr>
        <p:spPr>
          <a:xfrm flipH="1" flipV="1">
            <a:off x="4264200" y="2355840"/>
            <a:ext cx="1055520" cy="59832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6" name=""/>
          <p:cNvSpPr/>
          <p:nvPr/>
        </p:nvSpPr>
        <p:spPr>
          <a:xfrm flipH="1" flipV="1">
            <a:off x="358560" y="4686480"/>
            <a:ext cx="1147680" cy="66816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7" name=""/>
          <p:cNvSpPr/>
          <p:nvPr/>
        </p:nvSpPr>
        <p:spPr>
          <a:xfrm flipH="1" flipV="1">
            <a:off x="2968560" y="4686480"/>
            <a:ext cx="1147680" cy="66816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8" name=""/>
          <p:cNvSpPr/>
          <p:nvPr/>
        </p:nvSpPr>
        <p:spPr>
          <a:xfrm flipH="1" flipV="1">
            <a:off x="4192560" y="4686480"/>
            <a:ext cx="1147680" cy="66816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9" name=""/>
          <p:cNvSpPr/>
          <p:nvPr/>
        </p:nvSpPr>
        <p:spPr>
          <a:xfrm flipH="1">
            <a:off x="2988720" y="4705200"/>
            <a:ext cx="10681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ook Hote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sp>
        <p:nvSpPr>
          <p:cNvPr id="2030" name=""/>
          <p:cNvSpPr/>
          <p:nvPr/>
        </p:nvSpPr>
        <p:spPr>
          <a:xfrm flipH="1">
            <a:off x="320760" y="4637160"/>
            <a:ext cx="11462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ote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vailability</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sp>
        <p:nvSpPr>
          <p:cNvPr id="2031" name=""/>
          <p:cNvSpPr/>
          <p:nvPr/>
        </p:nvSpPr>
        <p:spPr>
          <a:xfrm flipH="1">
            <a:off x="4287960" y="4705200"/>
            <a:ext cx="9381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ook Car</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grpSp>
        <p:nvGrpSpPr>
          <p:cNvPr id="2032" name=""/>
          <p:cNvGrpSpPr/>
          <p:nvPr/>
        </p:nvGrpSpPr>
        <p:grpSpPr>
          <a:xfrm>
            <a:off x="1152000" y="5551560"/>
            <a:ext cx="1141920" cy="713520"/>
            <a:chOff x="1152000" y="5551560"/>
            <a:chExt cx="1141920" cy="713520"/>
          </a:xfrm>
        </p:grpSpPr>
        <p:sp>
          <p:nvSpPr>
            <p:cNvPr id="2033" name=""/>
            <p:cNvSpPr/>
            <p:nvPr/>
          </p:nvSpPr>
          <p:spPr>
            <a:xfrm flipH="1" flipV="1">
              <a:off x="1151640" y="5589720"/>
              <a:ext cx="1131480" cy="67500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34" name=""/>
            <p:cNvSpPr/>
            <p:nvPr/>
          </p:nvSpPr>
          <p:spPr>
            <a:xfrm flipH="1">
              <a:off x="1163520" y="5551560"/>
              <a:ext cx="11300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W Fligh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vailability</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grpSp>
      <p:grpSp>
        <p:nvGrpSpPr>
          <p:cNvPr id="2035" name=""/>
          <p:cNvGrpSpPr/>
          <p:nvPr/>
        </p:nvGrpSpPr>
        <p:grpSpPr>
          <a:xfrm>
            <a:off x="1672920" y="4664160"/>
            <a:ext cx="1185840" cy="727920"/>
            <a:chOff x="1672920" y="4664160"/>
            <a:chExt cx="1185840" cy="727920"/>
          </a:xfrm>
        </p:grpSpPr>
        <p:sp>
          <p:nvSpPr>
            <p:cNvPr id="2036" name=""/>
            <p:cNvSpPr/>
            <p:nvPr/>
          </p:nvSpPr>
          <p:spPr>
            <a:xfrm flipH="1" flipV="1">
              <a:off x="1710360" y="4723200"/>
              <a:ext cx="1148400" cy="668520"/>
            </a:xfrm>
            <a:prstGeom prst="rect">
              <a:avLst/>
            </a:prstGeom>
            <a:gradFill rotWithShape="0">
              <a:gsLst>
                <a:gs pos="0">
                  <a:srgbClr val="009999"/>
                </a:gs>
                <a:gs pos="50000">
                  <a:srgbClr val="65c1c1"/>
                </a:gs>
                <a:gs pos="100000">
                  <a:srgbClr val="009999"/>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37" name=""/>
            <p:cNvSpPr/>
            <p:nvPr/>
          </p:nvSpPr>
          <p:spPr>
            <a:xfrm flipH="1">
              <a:off x="1672920" y="4664160"/>
              <a:ext cx="112392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OLD Fligh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vailability</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grpSp>
      <p:sp>
        <p:nvSpPr>
          <p:cNvPr id="2038" name=""/>
          <p:cNvSpPr/>
          <p:nvPr/>
        </p:nvSpPr>
        <p:spPr>
          <a:xfrm flipH="1">
            <a:off x="4264200" y="2328840"/>
            <a:ext cx="10159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ook Fligh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sp>
        <p:nvSpPr>
          <p:cNvPr id="2039" name=""/>
          <p:cNvSpPr/>
          <p:nvPr/>
        </p:nvSpPr>
        <p:spPr>
          <a:xfrm flipH="1">
            <a:off x="3002040" y="2335320"/>
            <a:ext cx="12110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eck Credi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ice</a:t>
            </a:r>
            <a:endParaRPr b="0" lang="en-US" sz="1400" spc="-1" strike="noStrike">
              <a:solidFill>
                <a:srgbClr val="ffffff"/>
              </a:solidFill>
              <a:latin typeface="Arial"/>
            </a:endParaRPr>
          </a:p>
        </p:txBody>
      </p:sp>
      <p:sp>
        <p:nvSpPr>
          <p:cNvPr id="2040" name=""/>
          <p:cNvSpPr/>
          <p:nvPr/>
        </p:nvSpPr>
        <p:spPr>
          <a:xfrm rot="10800000">
            <a:off x="5429160" y="4229280"/>
            <a:ext cx="3486240" cy="1643040"/>
          </a:xfrm>
          <a:custGeom>
            <a:avLst/>
            <a:gdLst>
              <a:gd name="textAreaLeft" fmla="*/ 0 w 3486240"/>
              <a:gd name="textAreaRight" fmla="*/ 3486600 w 3486240"/>
              <a:gd name="textAreaTop" fmla="*/ 0 h 1643040"/>
              <a:gd name="textAreaBottom" fmla="*/ 1643400 h 1643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f2f75"/>
              </a:gs>
              <a:gs pos="100000">
                <a:srgbClr val="6666ff"/>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p:cNvSpPr/>
          <p:nvPr/>
        </p:nvSpPr>
        <p:spPr>
          <a:xfrm>
            <a:off x="5951520" y="4533840"/>
            <a:ext cx="3033720" cy="1255680"/>
          </a:xfrm>
          <a:prstGeom prst="rect">
            <a:avLst/>
          </a:prstGeom>
          <a:noFill/>
          <a:ln w="0">
            <a:noFill/>
          </a:ln>
        </p:spPr>
        <p:style>
          <a:lnRef idx="0"/>
          <a:fillRef idx="0"/>
          <a:effectRef idx="0"/>
          <a:fontRef idx="minor"/>
        </p:style>
        <p:txBody>
          <a:bodyPr lIns="90000" rIns="90000" tIns="46800" bIns="46800" anchor="t">
            <a:norm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hange services with no  impact to existing services</a:t>
            </a:r>
            <a:endParaRPr b="0" lang="en-US" sz="1800" spc="-1" strike="noStrike">
              <a:solidFill>
                <a:srgbClr val="ffffff"/>
              </a:solidFill>
              <a:latin typeface="Arial"/>
            </a:endParaRPr>
          </a:p>
        </p:txBody>
      </p:sp>
      <p:sp>
        <p:nvSpPr>
          <p:cNvPr id="2042" name=""/>
          <p:cNvSpPr/>
          <p:nvPr/>
        </p:nvSpPr>
        <p:spPr>
          <a:xfrm rot="10800000">
            <a:off x="5414760" y="1923840"/>
            <a:ext cx="3485880" cy="1643040"/>
          </a:xfrm>
          <a:custGeom>
            <a:avLst/>
            <a:gdLst>
              <a:gd name="textAreaLeft" fmla="*/ 0 w 3485880"/>
              <a:gd name="textAreaRight" fmla="*/ 3486240 w 3485880"/>
              <a:gd name="textAreaTop" fmla="*/ 0 h 1643040"/>
              <a:gd name="textAreaBottom" fmla="*/ 1643400 h 1643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f2f75"/>
              </a:gs>
              <a:gs pos="100000">
                <a:srgbClr val="6666ff"/>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3" name=""/>
          <p:cNvSpPr/>
          <p:nvPr/>
        </p:nvSpPr>
        <p:spPr>
          <a:xfrm>
            <a:off x="6289560" y="2343240"/>
            <a:ext cx="2319480" cy="1255680"/>
          </a:xfrm>
          <a:prstGeom prst="rect">
            <a:avLst/>
          </a:prstGeom>
          <a:noFill/>
          <a:ln w="0">
            <a:noFill/>
          </a:ln>
        </p:spPr>
        <p:style>
          <a:lnRef idx="0"/>
          <a:fillRef idx="0"/>
          <a:effectRef idx="0"/>
          <a:fontRef idx="minor"/>
        </p:style>
        <p:txBody>
          <a:bodyPr lIns="90000" rIns="90000" tIns="46800" bIns="46800" anchor="t">
            <a:normAutofit/>
          </a:bodyPr>
          <a:p>
            <a:pP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d new services faster</a:t>
            </a:r>
            <a:endParaRPr b="0" lang="en-US" sz="1800" spc="-1" strike="noStrike">
              <a:solidFill>
                <a:srgbClr val="ffffff"/>
              </a:solidFill>
              <a:latin typeface="Arial"/>
            </a:endParaRPr>
          </a:p>
        </p:txBody>
      </p:sp>
      <p:sp>
        <p:nvSpPr>
          <p:cNvPr id="2044" name=""/>
          <p:cNvSpPr/>
          <p:nvPr/>
        </p:nvSpPr>
        <p:spPr>
          <a:xfrm>
            <a:off x="826200" y="1066680"/>
            <a:ext cx="744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Change your IT without disrupting everything el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A183D179-DC60-45BF-BFC2-F974A1C3880C}"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2020"/>
                                        </p:tgtEl>
                                        <p:attrNameLst>
                                          <p:attrName>style.visibility</p:attrName>
                                        </p:attrNameLst>
                                      </p:cBhvr>
                                      <p:to>
                                        <p:strVal val="visible"/>
                                      </p:to>
                                    </p:set>
                                    <p:anim calcmode="lin" valueType="num">
                                      <p:cBhvr additive="base">
                                        <p:cTn id="7" dur="1000" fill="hold"/>
                                        <p:tgtEl>
                                          <p:spTgt spid="2020"/>
                                        </p:tgtEl>
                                        <p:attrNameLst>
                                          <p:attrName>ppt_x</p:attrName>
                                        </p:attrNameLst>
                                      </p:cBhvr>
                                      <p:tavLst>
                                        <p:tav tm="0">
                                          <p:val>
                                            <p:strVal val="0-#ppt_w/2"/>
                                          </p:val>
                                        </p:tav>
                                        <p:tav tm="100000">
                                          <p:val>
                                            <p:strVal val="#ppt_x"/>
                                          </p:val>
                                        </p:tav>
                                      </p:tavLst>
                                    </p:anim>
                                    <p:anim calcmode="lin" valueType="num">
                                      <p:cBhvr additive="base">
                                        <p:cTn id="8" dur="1000" fill="hold"/>
                                        <p:tgtEl>
                                          <p:spTgt spid="202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0"/>
                                  </p:stCondLst>
                                  <p:childTnLst>
                                    <p:set>
                                      <p:cBhvr>
                                        <p:cTn id="11" dur="1" fill="hold">
                                          <p:stCondLst>
                                            <p:cond delay="0"/>
                                          </p:stCondLst>
                                        </p:cTn>
                                        <p:tgtEl>
                                          <p:spTgt spid="2018"/>
                                        </p:tgtEl>
                                        <p:attrNameLst>
                                          <p:attrName>style.visibility</p:attrName>
                                        </p:attrNameLst>
                                      </p:cBhvr>
                                      <p:to>
                                        <p:strVal val="visible"/>
                                      </p:to>
                                    </p:set>
                                    <p:anim calcmode="lin" valueType="num">
                                      <p:cBhvr additive="base">
                                        <p:cTn id="12" dur="500" fill="hold"/>
                                        <p:tgtEl>
                                          <p:spTgt spid="2018"/>
                                        </p:tgtEl>
                                        <p:attrNameLst>
                                          <p:attrName>ppt_x</p:attrName>
                                        </p:attrNameLst>
                                      </p:cBhvr>
                                      <p:tavLst>
                                        <p:tav tm="0">
                                          <p:val>
                                            <p:strVal val="0-#ppt_w/2"/>
                                          </p:val>
                                        </p:tav>
                                        <p:tav tm="100000">
                                          <p:val>
                                            <p:strVal val="#ppt_x"/>
                                          </p:val>
                                        </p:tav>
                                      </p:tavLst>
                                    </p:anim>
                                    <p:anim calcmode="lin" valueType="num">
                                      <p:cBhvr additive="base">
                                        <p:cTn id="13" dur="500" fill="hold"/>
                                        <p:tgtEl>
                                          <p:spTgt spid="2018"/>
                                        </p:tgtEl>
                                        <p:attrNameLst>
                                          <p:attrName>ppt_y</p:attrName>
                                        </p:attrNameLst>
                                      </p:cBhvr>
                                      <p:tavLst>
                                        <p:tav tm="0">
                                          <p:val>
                                            <p:strVal val="0-#ppt_h/2"/>
                                          </p:val>
                                        </p:tav>
                                        <p:tav tm="100000">
                                          <p:val>
                                            <p:strVal val="#ppt_y"/>
                                          </p:val>
                                        </p:tav>
                                      </p:tavLst>
                                    </p:anim>
                                  </p:childTnLst>
                                </p:cTn>
                              </p:par>
                            </p:childTnLst>
                          </p:cTn>
                        </p:par>
                        <p:par>
                          <p:cTn id="14" fill="hold">
                            <p:stCondLst>
                              <p:cond delay="1500"/>
                            </p:stCondLst>
                            <p:childTnLst>
                              <p:par>
                                <p:cTn id="15" nodeType="afterEffect" fill="hold" presetClass="path" presetID="0">
                                  <p:stCondLst>
                                    <p:cond delay="0"/>
                                  </p:stCondLst>
                                  <p:childTnLst>
                                    <p:animMotion origin="layout" path="M 0.00261 0.00347 L 0.10261 0.13681 E">
                                      <p:cBhvr>
                                        <p:cTn id="16" dur="2000" fill="hold"/>
                                        <p:tgtEl>
                                          <p:spTgt spid="2035"/>
                                        </p:tgtEl>
                                      </p:cBhvr>
                                    </p:animMotion>
                                  </p:childTnLst>
                                </p:cTn>
                              </p:par>
                              <p:par>
                                <p:cTn id="17" nodeType="withEffect" fill="hold" presetClass="entr" presetID="9">
                                  <p:stCondLst>
                                    <p:cond delay="0"/>
                                  </p:stCondLst>
                                  <p:childTnLst>
                                    <p:set>
                                      <p:cBhvr>
                                        <p:cTn id="18" dur="1" fill="hold">
                                          <p:stCondLst>
                                            <p:cond delay="0"/>
                                          </p:stCondLst>
                                        </p:cTn>
                                        <p:tgtEl>
                                          <p:spTgt spid="2004"/>
                                        </p:tgtEl>
                                        <p:attrNameLst>
                                          <p:attrName>style.visibility</p:attrName>
                                        </p:attrNameLst>
                                      </p:cBhvr>
                                      <p:to>
                                        <p:strVal val="visible"/>
                                      </p:to>
                                    </p:set>
                                    <p:animEffect filter="dissolve" transition="in">
                                      <p:cBhvr additive="repl">
                                        <p:cTn id="19" dur="1000"/>
                                        <p:tgtEl>
                                          <p:spTgt spid="2004"/>
                                        </p:tgtEl>
                                      </p:cBhvr>
                                    </p:animEffect>
                                  </p:childTnLst>
                                </p:cTn>
                              </p:par>
                            </p:childTnLst>
                          </p:cTn>
                        </p:par>
                        <p:par>
                          <p:cTn id="20" fill="hold">
                            <p:stCondLst>
                              <p:cond delay="3500"/>
                            </p:stCondLst>
                            <p:childTnLst>
                              <p:par>
                                <p:cTn id="21" nodeType="afterEffect" fill="hold" presetClass="exit" presetID="9">
                                  <p:stCondLst>
                                    <p:cond delay="0"/>
                                  </p:stCondLst>
                                  <p:childTnLst>
                                    <p:animEffect filter="dissolve" transition="out">
                                      <p:cBhvr additive="repl">
                                        <p:cTn id="22" dur="500"/>
                                        <p:tgtEl>
                                          <p:spTgt spid="2004"/>
                                        </p:tgtEl>
                                      </p:cBhvr>
                                    </p:animEffect>
                                    <p:set>
                                      <p:cBhvr>
                                        <p:cTn id="23" dur="1" fill="hold">
                                          <p:stCondLst>
                                            <p:cond delay="499"/>
                                          </p:stCondLst>
                                        </p:cTn>
                                        <p:tgtEl>
                                          <p:spTgt spid="2004"/>
                                        </p:tgtEl>
                                        <p:attrNameLst>
                                          <p:attrName>style.visibility</p:attrName>
                                        </p:attrNameLst>
                                      </p:cBhvr>
                                      <p:to>
                                        <p:strVal val="hidden"/>
                                      </p:to>
                                    </p:set>
                                  </p:childTnLst>
                                </p:cTn>
                              </p:par>
                              <p:par>
                                <p:cTn id="24" nodeType="withEffect" fill="hold" presetClass="path" presetID="64">
                                  <p:stCondLst>
                                    <p:cond delay="0"/>
                                  </p:stCondLst>
                                  <p:childTnLst>
                                    <p:animMotion origin="layout" path="M 0.00521 0.00417 L 0.06285 -0.12925 E">
                                      <p:cBhvr>
                                        <p:cTn id="25" dur="2000" fill="hold"/>
                                        <p:tgtEl>
                                          <p:spTgt spid="20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
          <p:cNvSpPr/>
          <p:nvPr/>
        </p:nvSpPr>
        <p:spPr>
          <a:xfrm>
            <a:off x="44280" y="1219320"/>
            <a:ext cx="8991720" cy="2514600"/>
          </a:xfrm>
          <a:prstGeom prst="rect">
            <a:avLst/>
          </a:prstGeom>
          <a:blipFill rotWithShape="0">
            <a:blip r:embed="rId1"/>
            <a:srcRect/>
            <a:stretch/>
          </a:blip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46" name=""/>
          <p:cNvSpPr/>
          <p:nvPr/>
        </p:nvSpPr>
        <p:spPr>
          <a:xfrm>
            <a:off x="44280" y="3886200"/>
            <a:ext cx="8991720" cy="2438280"/>
          </a:xfrm>
          <a:prstGeom prst="rect">
            <a:avLst/>
          </a:prstGeom>
          <a:blipFill rotWithShape="0">
            <a:blip r:embed="rId2"/>
            <a:srcRect/>
            <a:stretch/>
          </a:blip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47" name="PlaceHolder 1"/>
          <p:cNvSpPr>
            <a:spLocks noGrp="1"/>
          </p:cNvSpPr>
          <p:nvPr>
            <p:ph type="title"/>
          </p:nvPr>
        </p:nvSpPr>
        <p:spPr>
          <a:xfrm>
            <a:off x="154080" y="609120"/>
            <a:ext cx="8989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IBM offering for an ESB</a:t>
            </a:r>
            <a:endParaRPr b="0" lang="en-US" sz="2800" spc="-1" strike="noStrike">
              <a:solidFill>
                <a:srgbClr val="7889fb"/>
              </a:solidFill>
              <a:latin typeface="Arial"/>
            </a:endParaRPr>
          </a:p>
        </p:txBody>
      </p:sp>
      <p:sp>
        <p:nvSpPr>
          <p:cNvPr id="2048" name=""/>
          <p:cNvSpPr/>
          <p:nvPr/>
        </p:nvSpPr>
        <p:spPr>
          <a:xfrm>
            <a:off x="34920" y="1219320"/>
            <a:ext cx="72864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9" name=""/>
          <p:cNvSpPr/>
          <p:nvPr/>
        </p:nvSpPr>
        <p:spPr>
          <a:xfrm>
            <a:off x="187560" y="1295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a:t>
            </a:r>
            <a:endParaRPr b="0" lang="en-US" sz="2800" spc="-1" strike="noStrike">
              <a:solidFill>
                <a:srgbClr val="ffffff"/>
              </a:solidFill>
              <a:latin typeface="Arial"/>
            </a:endParaRPr>
          </a:p>
        </p:txBody>
      </p:sp>
      <p:sp>
        <p:nvSpPr>
          <p:cNvPr id="2050" name=""/>
          <p:cNvSpPr/>
          <p:nvPr/>
        </p:nvSpPr>
        <p:spPr>
          <a:xfrm>
            <a:off x="958680" y="1303200"/>
            <a:ext cx="4527720" cy="2430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889fb"/>
                </a:solidFill>
                <a:latin typeface="Arial"/>
                <a:ea typeface="Arial"/>
              </a:rPr>
              <a:t>A Basic ESB:</a:t>
            </a:r>
            <a:r>
              <a:rPr b="0" lang="en-US" sz="1800" spc="-1" strike="noStrike">
                <a:solidFill>
                  <a:srgbClr val="000000"/>
                </a:solidFill>
                <a:latin typeface="Arial"/>
                <a:ea typeface="Arial"/>
              </a:rPr>
              <a:t> </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bSphere ESB V6, </a:t>
            </a:r>
            <a:r>
              <a:rPr b="0" lang="en-US" sz="1800" spc="-1" strike="noStrike">
                <a:solidFill>
                  <a:srgbClr val="000000"/>
                </a:solidFill>
                <a:latin typeface="Arial"/>
                <a:ea typeface="Arial"/>
              </a:rPr>
              <a:t>a new product delivering an Enterprise Service Bus, </a:t>
            </a:r>
            <a:r>
              <a:rPr b="1" i="1" lang="en-US" sz="1800" spc="-1" strike="noStrike">
                <a:solidFill>
                  <a:srgbClr val="7889fb"/>
                </a:solidFill>
                <a:latin typeface="Arial"/>
                <a:ea typeface="Arial"/>
              </a:rPr>
              <a:t>built on top of and leveraging</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WebSphere Application Server.</a:t>
            </a:r>
            <a:r>
              <a:rPr b="0" lang="en-US" sz="1800" spc="-1" strike="noStrike">
                <a:solidFill>
                  <a:srgbClr val="000000"/>
                </a:solidFill>
                <a:latin typeface="Arial"/>
                <a:ea typeface="Arial"/>
              </a:rPr>
              <a:t> Facilitates SOA for Web services.  Uniquely able to connect to WebSphere MQ networks.</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2960" indent="-34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12960" indent="-34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51" name=""/>
          <p:cNvSpPr/>
          <p:nvPr/>
        </p:nvSpPr>
        <p:spPr>
          <a:xfrm>
            <a:off x="958680" y="3962520"/>
            <a:ext cx="4572000" cy="826920"/>
          </a:xfrm>
          <a:prstGeom prst="rect">
            <a:avLst/>
          </a:prstGeom>
          <a:noFill/>
          <a:ln w="0">
            <a:noFill/>
          </a:ln>
        </p:spPr>
        <p:style>
          <a:lnRef idx="0"/>
          <a:fillRef idx="0"/>
          <a:effectRef idx="0"/>
          <a:fontRef idx="minor"/>
        </p:style>
        <p:txBody>
          <a:bodyPr lIns="90000" rIns="90000" tIns="46800" bIns="46800" anchor="t">
            <a:normAutofit fontScale="55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889fb"/>
                </a:solidFill>
                <a:latin typeface="Arial"/>
                <a:ea typeface="Arial"/>
              </a:rPr>
              <a:t>An Advanced ESB:</a:t>
            </a:r>
            <a:endParaRPr b="0" lang="en-US" sz="19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bSphere Message Broker V6, </a:t>
            </a:r>
            <a:r>
              <a:rPr b="0" lang="en-US" sz="1800" spc="-1" strike="noStrike">
                <a:solidFill>
                  <a:srgbClr val="000000"/>
                </a:solidFill>
                <a:latin typeface="Arial"/>
                <a:ea typeface="Arial"/>
              </a:rPr>
              <a:t>a new version of our proven product, </a:t>
            </a:r>
            <a:r>
              <a:rPr b="1" i="1" lang="en-US" sz="1800" spc="-1" strike="noStrike">
                <a:solidFill>
                  <a:srgbClr val="7889fb"/>
                </a:solidFill>
                <a:latin typeface="Arial"/>
                <a:ea typeface="Arial"/>
              </a:rPr>
              <a:t>built on top of and leveraging</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WebSphere MQ.</a:t>
            </a:r>
            <a:r>
              <a:rPr b="0" lang="en-US" sz="1800" spc="-1" strike="noStrike">
                <a:solidFill>
                  <a:srgbClr val="000000"/>
                </a:solidFill>
                <a:latin typeface="Arial"/>
                <a:ea typeface="Arial"/>
              </a:rPr>
              <a:t> Delivers an </a:t>
            </a:r>
            <a:r>
              <a:rPr b="0" i="1" lang="en-US" sz="1800" spc="-1" strike="noStrike">
                <a:solidFill>
                  <a:srgbClr val="000000"/>
                </a:solidFill>
                <a:latin typeface="Arial"/>
                <a:ea typeface="Arial"/>
              </a:rPr>
              <a:t>advanced</a:t>
            </a:r>
            <a:r>
              <a:rPr b="0" lang="en-US" sz="1800" spc="-1" strike="noStrike">
                <a:solidFill>
                  <a:srgbClr val="000000"/>
                </a:solidFill>
                <a:latin typeface="Arial"/>
                <a:ea typeface="Arial"/>
              </a:rPr>
              <a:t> Enterprise Service Bus facilitating SOA for existing (non-Web Services) applications.</a:t>
            </a:r>
            <a:endParaRPr b="0" lang="en-US" sz="1800" spc="-1" strike="noStrike">
              <a:solidFill>
                <a:srgbClr val="ffffff"/>
              </a:solidFill>
              <a:latin typeface="Arial"/>
            </a:endParaRPr>
          </a:p>
        </p:txBody>
      </p:sp>
      <p:sp>
        <p:nvSpPr>
          <p:cNvPr id="2052" name=""/>
          <p:cNvSpPr/>
          <p:nvPr/>
        </p:nvSpPr>
        <p:spPr>
          <a:xfrm>
            <a:off x="34920" y="3886200"/>
            <a:ext cx="728640" cy="671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p:cNvSpPr/>
          <p:nvPr/>
        </p:nvSpPr>
        <p:spPr>
          <a:xfrm>
            <a:off x="201960" y="39574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2</a:t>
            </a:r>
            <a:endParaRPr b="0" lang="en-US" sz="2800" spc="-1" strike="noStrike">
              <a:solidFill>
                <a:srgbClr val="ffffff"/>
              </a:solidFill>
              <a:latin typeface="Arial"/>
            </a:endParaRPr>
          </a:p>
        </p:txBody>
      </p:sp>
      <p:pic>
        <p:nvPicPr>
          <p:cNvPr id="2054" name="" descr=""/>
          <p:cNvPicPr/>
          <p:nvPr/>
        </p:nvPicPr>
        <p:blipFill>
          <a:blip r:embed="rId3"/>
          <a:stretch/>
        </p:blipFill>
        <p:spPr>
          <a:xfrm>
            <a:off x="5683320" y="2438280"/>
            <a:ext cx="2971800" cy="1262160"/>
          </a:xfrm>
          <a:prstGeom prst="rect">
            <a:avLst/>
          </a:prstGeom>
          <a:ln w="0">
            <a:noFill/>
          </a:ln>
        </p:spPr>
      </p:pic>
      <p:pic>
        <p:nvPicPr>
          <p:cNvPr id="2055" name="" descr=""/>
          <p:cNvPicPr/>
          <p:nvPr/>
        </p:nvPicPr>
        <p:blipFill>
          <a:blip r:embed="rId4"/>
          <a:stretch/>
        </p:blipFill>
        <p:spPr>
          <a:xfrm>
            <a:off x="5835600" y="4957920"/>
            <a:ext cx="2895480" cy="1442880"/>
          </a:xfrm>
          <a:prstGeom prst="rect">
            <a:avLst/>
          </a:prstGeom>
          <a:ln w="0">
            <a:noFill/>
          </a:ln>
        </p:spPr>
      </p:pic>
      <p:sp>
        <p:nvSpPr>
          <p:cNvPr id="2056" name=""/>
          <p:cNvSpPr/>
          <p:nvPr/>
        </p:nvSpPr>
        <p:spPr>
          <a:xfrm>
            <a:off x="6292800" y="950400"/>
            <a:ext cx="2314800" cy="1890000"/>
          </a:xfrm>
          <a:prstGeom prst="irregularSeal1">
            <a:avLst/>
          </a:prstGeom>
          <a:gradFill rotWithShape="0">
            <a:gsLst>
              <a:gs pos="0">
                <a:srgbClr val="6767c1"/>
              </a:gs>
              <a:gs pos="50000">
                <a:srgbClr val="8989ff"/>
              </a:gs>
              <a:gs pos="100000">
                <a:srgbClr val="6767c1"/>
              </a:gs>
            </a:gsLst>
            <a:lin ang="5400000"/>
          </a:gra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New product</a:t>
            </a:r>
            <a:endParaRPr b="0" lang="en-US" sz="1800" spc="-1" strike="noStrike">
              <a:solidFill>
                <a:srgbClr val="ffffff"/>
              </a:solidFill>
              <a:latin typeface="Arial"/>
            </a:endParaRPr>
          </a:p>
        </p:txBody>
      </p:sp>
      <p:sp>
        <p:nvSpPr>
          <p:cNvPr id="2057" name=""/>
          <p:cNvSpPr/>
          <p:nvPr/>
        </p:nvSpPr>
        <p:spPr>
          <a:xfrm>
            <a:off x="6445080" y="3468240"/>
            <a:ext cx="2314800" cy="1890000"/>
          </a:xfrm>
          <a:prstGeom prst="irregularSeal1">
            <a:avLst/>
          </a:prstGeom>
          <a:gradFill rotWithShape="0">
            <a:gsLst>
              <a:gs pos="0">
                <a:srgbClr val="6767c1"/>
              </a:gs>
              <a:gs pos="50000">
                <a:srgbClr val="8989ff"/>
              </a:gs>
              <a:gs pos="100000">
                <a:srgbClr val="6767c1"/>
              </a:gs>
            </a:gsLst>
            <a:lin ang="5400000"/>
          </a:gra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New version</a:t>
            </a:r>
            <a:endParaRPr b="0" lang="en-US" sz="1800" spc="-1" strike="noStrike">
              <a:solidFill>
                <a:srgbClr val="ffffff"/>
              </a:solidFill>
              <a:latin typeface="Arial"/>
            </a:endParaRPr>
          </a:p>
        </p:txBody>
      </p:sp>
      <p:sp>
        <p:nvSpPr>
          <p:cNvPr id="3" name="PlaceHolder 2"/>
          <p:cNvSpPr>
            <a:spLocks noGrp="1"/>
          </p:cNvSpPr>
          <p:nvPr>
            <p:ph type="sldNum" idx="4"/>
          </p:nvPr>
        </p:nvSpPr>
        <p:spPr/>
        <p:txBody>
          <a:bodyPr/>
          <a:p>
            <a:fld id="{7C5271AF-8BF1-482C-8618-AECDADB73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8" name=""/>
          <p:cNvGrpSpPr/>
          <p:nvPr/>
        </p:nvGrpSpPr>
        <p:grpSpPr>
          <a:xfrm>
            <a:off x="345960" y="2365200"/>
            <a:ext cx="337320" cy="2786040"/>
            <a:chOff x="345960" y="2365200"/>
            <a:chExt cx="337320" cy="2786040"/>
          </a:xfrm>
        </p:grpSpPr>
        <p:sp>
          <p:nvSpPr>
            <p:cNvPr id="2059" name=""/>
            <p:cNvSpPr/>
            <p:nvPr/>
          </p:nvSpPr>
          <p:spPr>
            <a:xfrm>
              <a:off x="669960" y="2365200"/>
              <a:ext cx="0" cy="2786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0" name=""/>
            <p:cNvSpPr/>
            <p:nvPr/>
          </p:nvSpPr>
          <p:spPr>
            <a:xfrm rot="16200000">
              <a:off x="-756720" y="3558960"/>
              <a:ext cx="254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One Integrated Platform</a:t>
              </a:r>
              <a:endParaRPr b="0" lang="en-US" sz="1600" spc="-1" strike="noStrike">
                <a:solidFill>
                  <a:srgbClr val="ffffff"/>
                </a:solidFill>
                <a:latin typeface="Arial"/>
              </a:endParaRPr>
            </a:p>
          </p:txBody>
        </p:sp>
      </p:grpSp>
      <p:sp>
        <p:nvSpPr>
          <p:cNvPr id="2061" name="PlaceHolder 1"/>
          <p:cNvSpPr>
            <a:spLocks noGrp="1"/>
          </p:cNvSpPr>
          <p:nvPr>
            <p:ph type="title"/>
          </p:nvPr>
        </p:nvSpPr>
        <p:spPr>
          <a:xfrm>
            <a:off x="0" y="457200"/>
            <a:ext cx="9144000" cy="806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IBM is providing two types of ESB – with tight connectivity between each</a:t>
            </a:r>
            <a:endParaRPr b="0" lang="en-US" sz="2600" spc="-1" strike="noStrike">
              <a:solidFill>
                <a:srgbClr val="7889fb"/>
              </a:solidFill>
              <a:latin typeface="Arial"/>
            </a:endParaRPr>
          </a:p>
        </p:txBody>
      </p:sp>
      <p:grpSp>
        <p:nvGrpSpPr>
          <p:cNvPr id="2062" name=""/>
          <p:cNvGrpSpPr/>
          <p:nvPr/>
        </p:nvGrpSpPr>
        <p:grpSpPr>
          <a:xfrm>
            <a:off x="1676520" y="5181480"/>
            <a:ext cx="809640" cy="276480"/>
            <a:chOff x="1676520" y="5181480"/>
            <a:chExt cx="809640" cy="276480"/>
          </a:xfrm>
        </p:grpSpPr>
        <p:sp>
          <p:nvSpPr>
            <p:cNvPr id="2063" name=""/>
            <p:cNvSpPr/>
            <p:nvPr/>
          </p:nvSpPr>
          <p:spPr>
            <a:xfrm flipV="1">
              <a:off x="1676520" y="5181480"/>
              <a:ext cx="0" cy="27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
            <p:cNvSpPr/>
            <p:nvPr/>
          </p:nvSpPr>
          <p:spPr>
            <a:xfrm flipV="1">
              <a:off x="2081160" y="5181480"/>
              <a:ext cx="0" cy="27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flipV="1">
              <a:off x="2486160" y="5181480"/>
              <a:ext cx="0" cy="27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6" name=""/>
          <p:cNvSpPr/>
          <p:nvPr/>
        </p:nvSpPr>
        <p:spPr>
          <a:xfrm>
            <a:off x="838080" y="5410080"/>
            <a:ext cx="24386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40052"/>
                </a:solidFill>
                <a:uFillTx/>
                <a:latin typeface="Arial"/>
                <a:ea typeface="Arial"/>
              </a:rPr>
              <a:t>J2EE/SOA standard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0052"/>
                </a:solidFill>
                <a:latin typeface="Arial"/>
                <a:ea typeface="Arial"/>
              </a:rPr>
              <a:t>J2EE, JMS, HTTP, SOAP, UDDI, XML, WSDL, BPEL, SCA</a:t>
            </a:r>
            <a:endParaRPr b="0" lang="en-US" sz="1400" spc="-1" strike="noStrike">
              <a:solidFill>
                <a:srgbClr val="ffffff"/>
              </a:solidFill>
              <a:latin typeface="Arial"/>
            </a:endParaRPr>
          </a:p>
        </p:txBody>
      </p:sp>
      <p:grpSp>
        <p:nvGrpSpPr>
          <p:cNvPr id="2067" name=""/>
          <p:cNvGrpSpPr/>
          <p:nvPr/>
        </p:nvGrpSpPr>
        <p:grpSpPr>
          <a:xfrm>
            <a:off x="990720" y="2362320"/>
            <a:ext cx="2209680" cy="2811240"/>
            <a:chOff x="990720" y="2362320"/>
            <a:chExt cx="2209680" cy="2811240"/>
          </a:xfrm>
        </p:grpSpPr>
        <p:sp>
          <p:nvSpPr>
            <p:cNvPr id="2068" name=""/>
            <p:cNvSpPr/>
            <p:nvPr/>
          </p:nvSpPr>
          <p:spPr>
            <a:xfrm>
              <a:off x="990720" y="2362320"/>
              <a:ext cx="2209680" cy="2811240"/>
            </a:xfrm>
            <a:prstGeom prst="rect">
              <a:avLst/>
            </a:prstGeom>
            <a:solidFill>
              <a:srgbClr val="e4c9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69" name=""/>
            <p:cNvSpPr/>
            <p:nvPr/>
          </p:nvSpPr>
          <p:spPr>
            <a:xfrm>
              <a:off x="1107720" y="2482920"/>
              <a:ext cx="1941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ebSphere</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ocess Server v6</a:t>
              </a:r>
              <a:endParaRPr b="0" lang="en-US" sz="1600" spc="-1" strike="noStrike">
                <a:solidFill>
                  <a:srgbClr val="ffffff"/>
                </a:solidFill>
                <a:latin typeface="Arial"/>
              </a:endParaRPr>
            </a:p>
          </p:txBody>
        </p:sp>
      </p:grpSp>
      <p:sp>
        <p:nvSpPr>
          <p:cNvPr id="2070" name=""/>
          <p:cNvSpPr/>
          <p:nvPr/>
        </p:nvSpPr>
        <p:spPr>
          <a:xfrm>
            <a:off x="1054080" y="3505320"/>
            <a:ext cx="2068560" cy="1614240"/>
          </a:xfrm>
          <a:prstGeom prst="rect">
            <a:avLst/>
          </a:prstGeom>
          <a:solidFill>
            <a:srgbClr val="7889fb"/>
          </a:solidFill>
          <a:ln w="57240">
            <a:solidFill>
              <a:srgbClr val="0000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1" name=""/>
          <p:cNvSpPr/>
          <p:nvPr/>
        </p:nvSpPr>
        <p:spPr>
          <a:xfrm>
            <a:off x="1371600" y="3648240"/>
            <a:ext cx="14382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WebSpher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ESB v6</a:t>
            </a:r>
            <a:endParaRPr b="0" lang="en-US" sz="1800" spc="-1" strike="noStrike">
              <a:solidFill>
                <a:srgbClr val="ffffff"/>
              </a:solidFill>
              <a:latin typeface="Arial"/>
            </a:endParaRPr>
          </a:p>
        </p:txBody>
      </p:sp>
      <p:grpSp>
        <p:nvGrpSpPr>
          <p:cNvPr id="2072" name=""/>
          <p:cNvGrpSpPr/>
          <p:nvPr/>
        </p:nvGrpSpPr>
        <p:grpSpPr>
          <a:xfrm>
            <a:off x="1120680" y="4335480"/>
            <a:ext cx="1935000" cy="750600"/>
            <a:chOff x="1120680" y="4335480"/>
            <a:chExt cx="1935000" cy="750600"/>
          </a:xfrm>
        </p:grpSpPr>
        <p:sp>
          <p:nvSpPr>
            <p:cNvPr id="2073" name=""/>
            <p:cNvSpPr/>
            <p:nvPr/>
          </p:nvSpPr>
          <p:spPr>
            <a:xfrm>
              <a:off x="1120680" y="4343400"/>
              <a:ext cx="1935000" cy="711360"/>
            </a:xfrm>
            <a:prstGeom prst="rect">
              <a:avLst/>
            </a:prstGeom>
            <a:solidFill>
              <a:srgbClr val="e4c9ff">
                <a:alpha val="6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4" name=""/>
            <p:cNvSpPr/>
            <p:nvPr/>
          </p:nvSpPr>
          <p:spPr>
            <a:xfrm>
              <a:off x="1176120" y="4335480"/>
              <a:ext cx="18036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WebSphere Application Server v6</a:t>
              </a:r>
              <a:endParaRPr b="0" lang="en-US" sz="1600" spc="-1" strike="noStrike">
                <a:solidFill>
                  <a:srgbClr val="ffffff"/>
                </a:solidFill>
                <a:latin typeface="Arial"/>
              </a:endParaRPr>
            </a:p>
          </p:txBody>
        </p:sp>
      </p:grpSp>
      <p:sp>
        <p:nvSpPr>
          <p:cNvPr id="2075" name=""/>
          <p:cNvSpPr/>
          <p:nvPr/>
        </p:nvSpPr>
        <p:spPr>
          <a:xfrm>
            <a:off x="3276720" y="3505320"/>
            <a:ext cx="5497560" cy="838080"/>
          </a:xfrm>
          <a:prstGeom prst="rect">
            <a:avLst/>
          </a:prstGeom>
          <a:solidFill>
            <a:srgbClr val="7889fb"/>
          </a:solidFill>
          <a:ln w="57240">
            <a:solidFill>
              <a:srgbClr val="0000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6" name=""/>
          <p:cNvSpPr/>
          <p:nvPr/>
        </p:nvSpPr>
        <p:spPr>
          <a:xfrm>
            <a:off x="4197240" y="3546360"/>
            <a:ext cx="3580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WebSphere Message Broker v6</a:t>
            </a:r>
            <a:endParaRPr b="0" lang="en-US" sz="1800" spc="-1" strike="noStrike">
              <a:solidFill>
                <a:srgbClr val="ffffff"/>
              </a:solidFill>
              <a:latin typeface="Arial"/>
            </a:endParaRPr>
          </a:p>
        </p:txBody>
      </p:sp>
      <p:sp>
        <p:nvSpPr>
          <p:cNvPr id="2077" name=""/>
          <p:cNvSpPr/>
          <p:nvPr/>
        </p:nvSpPr>
        <p:spPr>
          <a:xfrm>
            <a:off x="2819520" y="3886200"/>
            <a:ext cx="7617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4267080" y="1612800"/>
            <a:ext cx="41911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 </a:t>
            </a:r>
            <a:r>
              <a:rPr b="1" i="1" lang="en-US" sz="1600" spc="-1" strike="noStrike">
                <a:solidFill>
                  <a:srgbClr val="0416c2"/>
                </a:solidFill>
                <a:latin typeface="Arial"/>
                <a:ea typeface="Arial"/>
              </a:rPr>
              <a:t>Plugs into the IBM SOA platform</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416c2"/>
                </a:solidFill>
                <a:latin typeface="Arial"/>
                <a:ea typeface="Arial"/>
              </a:rPr>
              <a:t>providing high-speed data movement and universal mediation…</a:t>
            </a:r>
            <a:endParaRPr b="0" lang="en-US" sz="1600" spc="-1" strike="noStrike">
              <a:solidFill>
                <a:srgbClr val="ffffff"/>
              </a:solidFill>
              <a:latin typeface="Arial"/>
            </a:endParaRPr>
          </a:p>
        </p:txBody>
      </p:sp>
      <p:sp>
        <p:nvSpPr>
          <p:cNvPr id="2079" name=""/>
          <p:cNvSpPr/>
          <p:nvPr/>
        </p:nvSpPr>
        <p:spPr>
          <a:xfrm>
            <a:off x="4419720" y="2558880"/>
            <a:ext cx="38862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416c2"/>
                </a:solidFill>
                <a:latin typeface="Arial"/>
                <a:ea typeface="Arial"/>
              </a:rPr>
              <a:t>…</a:t>
            </a:r>
            <a:r>
              <a:rPr b="1" i="1" lang="en-US" sz="1600" spc="-1" strike="noStrike">
                <a:solidFill>
                  <a:srgbClr val="0416c2"/>
                </a:solidFill>
                <a:latin typeface="Arial"/>
                <a:ea typeface="Arial"/>
              </a:rPr>
              <a:t>enabling non-SOA applications to participate as services.</a:t>
            </a:r>
            <a:endParaRPr b="0" lang="en-US" sz="1600" spc="-1" strike="noStrike">
              <a:solidFill>
                <a:srgbClr val="ffffff"/>
              </a:solidFill>
              <a:latin typeface="Arial"/>
            </a:endParaRPr>
          </a:p>
        </p:txBody>
      </p:sp>
      <p:sp>
        <p:nvSpPr>
          <p:cNvPr id="2080" name=""/>
          <p:cNvSpPr/>
          <p:nvPr/>
        </p:nvSpPr>
        <p:spPr>
          <a:xfrm>
            <a:off x="4191120" y="4724280"/>
            <a:ext cx="18288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on-Java OSs</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COBOL, RPG, C++, Perl, etc.)</a:t>
            </a:r>
            <a:endParaRPr b="0" lang="en-US" sz="1400" spc="-1" strike="noStrike">
              <a:solidFill>
                <a:srgbClr val="ffffff"/>
              </a:solidFill>
              <a:latin typeface="Arial"/>
            </a:endParaRPr>
          </a:p>
        </p:txBody>
      </p:sp>
      <p:sp>
        <p:nvSpPr>
          <p:cNvPr id="2081" name=""/>
          <p:cNvSpPr/>
          <p:nvPr/>
        </p:nvSpPr>
        <p:spPr>
          <a:xfrm>
            <a:off x="7162920" y="4748040"/>
            <a:ext cx="190476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on-WS/J2EE transports</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MQI, SCADA, FTP, TIBCO RV, MSMQ)</a:t>
            </a:r>
            <a:endParaRPr b="0" lang="en-US" sz="1400" spc="-1" strike="noStrike">
              <a:solidFill>
                <a:srgbClr val="ffffff"/>
              </a:solidFill>
              <a:latin typeface="Arial"/>
            </a:endParaRPr>
          </a:p>
        </p:txBody>
      </p:sp>
      <p:sp>
        <p:nvSpPr>
          <p:cNvPr id="2082" name=""/>
          <p:cNvSpPr/>
          <p:nvPr/>
        </p:nvSpPr>
        <p:spPr>
          <a:xfrm>
            <a:off x="3048120" y="5486400"/>
            <a:ext cx="198108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on-WS/J2EE technologies</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uxedo, IMS, CICS, etc.)</a:t>
            </a:r>
            <a:endParaRPr b="0" lang="en-US" sz="1400" spc="-1" strike="noStrike">
              <a:solidFill>
                <a:srgbClr val="ffffff"/>
              </a:solidFill>
              <a:latin typeface="Arial"/>
            </a:endParaRPr>
          </a:p>
        </p:txBody>
      </p:sp>
      <p:sp>
        <p:nvSpPr>
          <p:cNvPr id="2083" name=""/>
          <p:cNvSpPr/>
          <p:nvPr/>
        </p:nvSpPr>
        <p:spPr>
          <a:xfrm>
            <a:off x="5486400" y="5486400"/>
            <a:ext cx="220968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on-XML formats</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EDI, SWIFT, HIPAA, ACORD, Custom formats, etc.)</a:t>
            </a:r>
            <a:endParaRPr b="0" lang="en-US" sz="1400" spc="-1" strike="noStrike">
              <a:solidFill>
                <a:srgbClr val="ffffff"/>
              </a:solidFill>
              <a:latin typeface="Arial"/>
            </a:endParaRPr>
          </a:p>
        </p:txBody>
      </p:sp>
      <p:sp>
        <p:nvSpPr>
          <p:cNvPr id="2084" name=""/>
          <p:cNvSpPr/>
          <p:nvPr/>
        </p:nvSpPr>
        <p:spPr>
          <a:xfrm flipV="1">
            <a:off x="6553080" y="4419360"/>
            <a:ext cx="0" cy="106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5" name=""/>
          <p:cNvSpPr/>
          <p:nvPr/>
        </p:nvSpPr>
        <p:spPr>
          <a:xfrm>
            <a:off x="1069920" y="1255680"/>
            <a:ext cx="20080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 Basic ESB</a:t>
            </a:r>
            <a:endParaRPr b="0" lang="en-US" sz="2400" spc="-1" strike="noStrike">
              <a:solidFill>
                <a:srgbClr val="ffffff"/>
              </a:solidFill>
              <a:latin typeface="Arial"/>
            </a:endParaRPr>
          </a:p>
        </p:txBody>
      </p:sp>
      <p:sp>
        <p:nvSpPr>
          <p:cNvPr id="2086" name=""/>
          <p:cNvSpPr/>
          <p:nvPr/>
        </p:nvSpPr>
        <p:spPr>
          <a:xfrm>
            <a:off x="930240" y="1600200"/>
            <a:ext cx="23464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416c2"/>
                </a:solidFill>
                <a:latin typeface="Arial"/>
                <a:ea typeface="Arial"/>
              </a:rPr>
              <a:t>Part of a complete SOA lifecycle platform</a:t>
            </a:r>
            <a:endParaRPr b="0" lang="en-US" sz="1600" spc="-1" strike="noStrike">
              <a:solidFill>
                <a:srgbClr val="ffffff"/>
              </a:solidFill>
              <a:latin typeface="Arial"/>
            </a:endParaRPr>
          </a:p>
        </p:txBody>
      </p:sp>
      <p:sp>
        <p:nvSpPr>
          <p:cNvPr id="2087" name=""/>
          <p:cNvSpPr/>
          <p:nvPr/>
        </p:nvSpPr>
        <p:spPr>
          <a:xfrm flipV="1">
            <a:off x="5029200" y="4419360"/>
            <a:ext cx="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8" name=""/>
          <p:cNvSpPr/>
          <p:nvPr/>
        </p:nvSpPr>
        <p:spPr>
          <a:xfrm flipV="1">
            <a:off x="4038480" y="4419360"/>
            <a:ext cx="0" cy="106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9" name=""/>
          <p:cNvSpPr/>
          <p:nvPr/>
        </p:nvSpPr>
        <p:spPr>
          <a:xfrm flipV="1">
            <a:off x="8077320" y="44197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0" name=""/>
          <p:cNvSpPr/>
          <p:nvPr/>
        </p:nvSpPr>
        <p:spPr>
          <a:xfrm>
            <a:off x="4944240" y="1255680"/>
            <a:ext cx="28353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n Advanced ESB</a:t>
            </a:r>
            <a:endParaRPr b="0" lang="en-US" sz="2400" spc="-1" strike="noStrike">
              <a:solidFill>
                <a:srgbClr val="ffffff"/>
              </a:solidFill>
              <a:latin typeface="Arial"/>
            </a:endParaRPr>
          </a:p>
        </p:txBody>
      </p:sp>
      <p:sp>
        <p:nvSpPr>
          <p:cNvPr id="2091" name=""/>
          <p:cNvSpPr/>
          <p:nvPr/>
        </p:nvSpPr>
        <p:spPr>
          <a:xfrm>
            <a:off x="185760" y="1295280"/>
            <a:ext cx="728640" cy="6717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2" name=""/>
          <p:cNvSpPr/>
          <p:nvPr/>
        </p:nvSpPr>
        <p:spPr>
          <a:xfrm>
            <a:off x="352800" y="1366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grpSp>
        <p:nvGrpSpPr>
          <p:cNvPr id="2093" name=""/>
          <p:cNvGrpSpPr/>
          <p:nvPr/>
        </p:nvGrpSpPr>
        <p:grpSpPr>
          <a:xfrm>
            <a:off x="3733920" y="1295280"/>
            <a:ext cx="728640" cy="671760"/>
            <a:chOff x="3733920" y="1295280"/>
            <a:chExt cx="728640" cy="671760"/>
          </a:xfrm>
        </p:grpSpPr>
        <p:sp>
          <p:nvSpPr>
            <p:cNvPr id="2094" name=""/>
            <p:cNvSpPr/>
            <p:nvPr/>
          </p:nvSpPr>
          <p:spPr>
            <a:xfrm>
              <a:off x="3733920" y="1295280"/>
              <a:ext cx="728640" cy="6717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5" name=""/>
            <p:cNvSpPr/>
            <p:nvPr/>
          </p:nvSpPr>
          <p:spPr>
            <a:xfrm>
              <a:off x="3900600" y="1366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grpSp>
      <p:sp>
        <p:nvSpPr>
          <p:cNvPr id="2096" name=""/>
          <p:cNvSpPr/>
          <p:nvPr/>
        </p:nvSpPr>
        <p:spPr>
          <a:xfrm>
            <a:off x="4349880" y="3886200"/>
            <a:ext cx="3276360" cy="380880"/>
          </a:xfrm>
          <a:prstGeom prst="rect">
            <a:avLst/>
          </a:prstGeom>
          <a:solidFill>
            <a:srgbClr val="7889fb"/>
          </a:solidFill>
          <a:ln w="57240">
            <a:solidFill>
              <a:srgbClr val="0000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97" name=""/>
          <p:cNvSpPr/>
          <p:nvPr/>
        </p:nvSpPr>
        <p:spPr>
          <a:xfrm>
            <a:off x="4894200" y="3906720"/>
            <a:ext cx="21877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WebSphere MQ v6</a:t>
            </a:r>
            <a:endParaRPr b="0" lang="en-US" sz="1800" spc="-1" strike="noStrike">
              <a:solidFill>
                <a:srgbClr val="ffffff"/>
              </a:solidFill>
              <a:latin typeface="Arial"/>
            </a:endParaRPr>
          </a:p>
        </p:txBody>
      </p:sp>
      <p:sp>
        <p:nvSpPr>
          <p:cNvPr id="3" name="PlaceHolder 2"/>
          <p:cNvSpPr>
            <a:spLocks noGrp="1"/>
          </p:cNvSpPr>
          <p:nvPr>
            <p:ph type="sldNum" idx="4"/>
          </p:nvPr>
        </p:nvSpPr>
        <p:spPr/>
        <p:txBody>
          <a:bodyPr/>
          <a:p>
            <a:fld id="{A9FECF7C-AD4D-4AC0-9101-647F37081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21:07:39Z</dcterms:created>
  <dc:creator>Lynn Jonas and Francine Nunley</dc:creator>
  <dc:description>Last update: March 7, 2006</dc:description>
  <dc:language>en-US</dc:language>
  <cp:lastModifiedBy>IBM_USER</cp:lastModifiedBy>
  <dcterms:modified xsi:type="dcterms:W3CDTF">2006-03-07T23:29:42Z</dcterms:modified>
  <cp:revision>74</cp:revision>
  <dc:subject/>
  <dc:title>WS ESB, Message Broker, and MQ Sales Play Overview</dc:title>
</cp:coreProperties>
</file>