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4080" y="620640"/>
            <a:ext cx="8989920" cy="18334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4080" y="620640"/>
            <a:ext cx="8989920" cy="18334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876"/>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45360"/>
            <a:ext cx="9144000" cy="512640"/>
          </a:xfrm>
          <a:prstGeom prst="rect">
            <a:avLst/>
          </a:prstGeom>
          <a:ln w="0">
            <a:noFill/>
          </a:ln>
        </p:spPr>
      </p:pic>
      <p:pic>
        <p:nvPicPr>
          <p:cNvPr id="1" name="" descr=""/>
          <p:cNvPicPr/>
          <p:nvPr/>
        </p:nvPicPr>
        <p:blipFill>
          <a:blip r:embed="rId3"/>
          <a:stretch/>
        </p:blipFill>
        <p:spPr>
          <a:xfrm>
            <a:off x="0" y="0"/>
            <a:ext cx="9144000" cy="457200"/>
          </a:xfrm>
          <a:prstGeom prst="rect">
            <a:avLst/>
          </a:prstGeom>
          <a:ln w="0">
            <a:noFill/>
          </a:ln>
        </p:spPr>
      </p:pic>
      <p:sp>
        <p:nvSpPr>
          <p:cNvPr id="2" name="PlaceHolder 1"/>
          <p:cNvSpPr>
            <a:spLocks noGrp="1"/>
          </p:cNvSpPr>
          <p:nvPr>
            <p:ph type="title"/>
          </p:nvPr>
        </p:nvSpPr>
        <p:spPr>
          <a:xfrm>
            <a:off x="154080" y="620640"/>
            <a:ext cx="89899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876"/>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876"/>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876"/>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876"/>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876"/>
              </a:spcBef>
              <a:spcAft>
                <a:spcPts val="374"/>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876"/>
              </a:spcBef>
              <a:spcAft>
                <a:spcPts val="374"/>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4" name="" descr=""/>
          <p:cNvPicPr/>
          <p:nvPr/>
        </p:nvPicPr>
        <p:blipFill>
          <a:blip r:embed="rId4"/>
          <a:srcRect l="0" t="0" r="6654" b="0"/>
          <a:stretch/>
        </p:blipFill>
        <p:spPr>
          <a:xfrm>
            <a:off x="8369280" y="108000"/>
            <a:ext cx="622440" cy="247680"/>
          </a:xfrm>
          <a:prstGeom prst="rect">
            <a:avLst/>
          </a:prstGeom>
          <a:ln w="0">
            <a:noFill/>
          </a:ln>
        </p:spPr>
      </p:pic>
      <p:sp>
        <p:nvSpPr>
          <p:cNvPr id="5" name=""/>
          <p:cNvSpPr/>
          <p:nvPr/>
        </p:nvSpPr>
        <p:spPr>
          <a:xfrm flipV="1">
            <a:off x="992160" y="2170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942840" y="147600"/>
            <a:ext cx="541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WebSphere Channel Marketing</a:t>
            </a:r>
            <a:endParaRPr b="0" lang="en-US" sz="1400" spc="-1" strike="noStrike">
              <a:solidFill>
                <a:srgbClr val="000000"/>
              </a:solidFill>
              <a:latin typeface="Arial"/>
            </a:endParaRPr>
          </a:p>
        </p:txBody>
      </p:sp>
      <p:sp>
        <p:nvSpPr>
          <p:cNvPr id="7" name=""/>
          <p:cNvSpPr/>
          <p:nvPr/>
        </p:nvSpPr>
        <p:spPr>
          <a:xfrm flipV="1">
            <a:off x="992160" y="632916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5"/>
          <a:stretch/>
        </p:blipFill>
        <p:spPr>
          <a:xfrm>
            <a:off x="7162920" y="6413400"/>
            <a:ext cx="1841400" cy="341280"/>
          </a:xfrm>
          <a:prstGeom prst="rect">
            <a:avLst/>
          </a:prstGeom>
          <a:ln w="0">
            <a:noFill/>
          </a:ln>
        </p:spPr>
      </p:pic>
      <p:sp>
        <p:nvSpPr>
          <p:cNvPr id="9" name=""/>
          <p:cNvSpPr/>
          <p:nvPr/>
        </p:nvSpPr>
        <p:spPr>
          <a:xfrm>
            <a:off x="-378000" y="6400800"/>
            <a:ext cx="17913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a:t>
            </a:r>
            <a:fld id="{3C1B18A3-C356-4BB3-93DD-EEE47FC429D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4908600"/>
            <a:ext cx="9144000" cy="1949400"/>
          </a:xfrm>
          <a:prstGeom prst="rect">
            <a:avLst/>
          </a:prstGeom>
          <a:ln w="0">
            <a:noFill/>
          </a:ln>
        </p:spPr>
      </p:pic>
      <p:pic>
        <p:nvPicPr>
          <p:cNvPr id="47" name="" descr=""/>
          <p:cNvPicPr/>
          <p:nvPr/>
        </p:nvPicPr>
        <p:blipFill>
          <a:blip r:embed="rId3"/>
          <a:stretch/>
        </p:blipFill>
        <p:spPr>
          <a:xfrm>
            <a:off x="0" y="0"/>
            <a:ext cx="9144000" cy="1751040"/>
          </a:xfrm>
          <a:prstGeom prst="rect">
            <a:avLst/>
          </a:prstGeom>
          <a:ln w="0">
            <a:noFill/>
          </a:ln>
        </p:spPr>
      </p:pic>
      <p:pic>
        <p:nvPicPr>
          <p:cNvPr id="48" name="" descr=""/>
          <p:cNvPicPr/>
          <p:nvPr/>
        </p:nvPicPr>
        <p:blipFill>
          <a:blip r:embed="rId4"/>
          <a:srcRect l="0" t="0" r="-8246" b="-32877"/>
          <a:stretch/>
        </p:blipFill>
        <p:spPr>
          <a:xfrm>
            <a:off x="7524720" y="687240"/>
            <a:ext cx="1162080" cy="532080"/>
          </a:xfrm>
          <a:prstGeom prst="rect">
            <a:avLst/>
          </a:prstGeom>
          <a:ln w="0">
            <a:noFill/>
          </a:ln>
        </p:spPr>
      </p:pic>
      <p:sp>
        <p:nvSpPr>
          <p:cNvPr id="49" name=""/>
          <p:cNvSpPr/>
          <p:nvPr/>
        </p:nvSpPr>
        <p:spPr>
          <a:xfrm flipV="1">
            <a:off x="145404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5 IBM Corporation</a:t>
            </a:r>
            <a:endParaRPr b="0" lang="en-US" sz="1000" spc="-1" strike="noStrike">
              <a:solidFill>
                <a:srgbClr val="000000"/>
              </a:solidFill>
              <a:latin typeface="Arial"/>
            </a:endParaRPr>
          </a:p>
        </p:txBody>
      </p:sp>
      <p:sp>
        <p:nvSpPr>
          <p:cNvPr id="51" name=""/>
          <p:cNvSpPr/>
          <p:nvPr/>
        </p:nvSpPr>
        <p:spPr>
          <a:xfrm>
            <a:off x="1405080" y="1292400"/>
            <a:ext cx="541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WebSphere Channel Marketing</a:t>
            </a:r>
            <a:endParaRPr b="0" lang="en-US" sz="1400" spc="-1" strike="noStrike">
              <a:solidFill>
                <a:srgbClr val="000000"/>
              </a:solidFill>
              <a:latin typeface="Arial"/>
            </a:endParaRPr>
          </a:p>
        </p:txBody>
      </p:sp>
      <p:sp>
        <p:nvSpPr>
          <p:cNvPr id="52" name=""/>
          <p:cNvSpPr/>
          <p:nvPr/>
        </p:nvSpPr>
        <p:spPr>
          <a:xfrm flipV="1">
            <a:off x="1454040" y="4888080"/>
            <a:ext cx="0" cy="40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1454040" y="3812760"/>
            <a:ext cx="0" cy="1128600"/>
          </a:xfrm>
          <a:prstGeom prst="line">
            <a:avLst/>
          </a:prstGeom>
          <a:ln w="12600">
            <a:solidFill>
              <a:srgbClr val="949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5"/>
          <a:stretch/>
        </p:blipFill>
        <p:spPr>
          <a:xfrm>
            <a:off x="6531120" y="5533920"/>
            <a:ext cx="24098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bm.com/software/integration/wsesb/support" TargetMode="External"/><Relationship Id="rId2" Type="http://schemas.openxmlformats.org/officeDocument/2006/relationships/hyperlink" Target="http://www.ibm.com/software/integration/wsesb/suppor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4080" y="620640"/>
            <a:ext cx="8989920" cy="340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t Sheet for WebSphere Enterprise Service Bus (ESB) Version 6.0.1 – </a:t>
            </a:r>
            <a:r>
              <a:rPr b="0" i="1" lang="en-US" sz="1800" spc="-1" strike="noStrike">
                <a:solidFill>
                  <a:srgbClr val="3333cc"/>
                </a:solidFill>
                <a:latin typeface="Arial"/>
              </a:rPr>
              <a:t>page 1 of 2</a:t>
            </a:r>
            <a:endParaRPr b="0" lang="en-US" sz="1800" spc="-1" strike="noStrike">
              <a:solidFill>
                <a:srgbClr val="000000"/>
              </a:solidFill>
              <a:latin typeface="Arial"/>
            </a:endParaRPr>
          </a:p>
        </p:txBody>
      </p:sp>
      <p:sp>
        <p:nvSpPr>
          <p:cNvPr id="92" name=""/>
          <p:cNvSpPr/>
          <p:nvPr/>
        </p:nvSpPr>
        <p:spPr>
          <a:xfrm>
            <a:off x="152280" y="990720"/>
            <a:ext cx="8763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Prospecting "cheat sheets" -- a concise overview, including value proposition, target audience, customer needs, benefits and prospecting questions </a:t>
            </a:r>
            <a:r>
              <a:rPr b="0" lang="en-US" sz="1600" spc="-1" strike="noStrike" u="sng">
                <a:solidFill>
                  <a:srgbClr val="3333cc"/>
                </a:solidFill>
                <a:uFillTx/>
                <a:latin typeface="Arial"/>
              </a:rPr>
              <a:t> </a:t>
            </a:r>
            <a:endParaRPr b="0" lang="en-US" sz="1600" spc="-1" strike="noStrike">
              <a:solidFill>
                <a:srgbClr val="000000"/>
              </a:solidFill>
              <a:latin typeface="Arial"/>
            </a:endParaRPr>
          </a:p>
        </p:txBody>
      </p:sp>
      <p:sp>
        <p:nvSpPr>
          <p:cNvPr id="93" name=""/>
          <p:cNvSpPr/>
          <p:nvPr/>
        </p:nvSpPr>
        <p:spPr>
          <a:xfrm>
            <a:off x="152280" y="1600200"/>
            <a:ext cx="8610840" cy="44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today’s competitive environment, 75% of all Chief Executive Officers (CEO) place a high or very high priority on the </a:t>
            </a:r>
            <a:r>
              <a:rPr b="1" lang="en-US" sz="900" spc="-1" strike="noStrike">
                <a:solidFill>
                  <a:srgbClr val="000000"/>
                </a:solidFill>
                <a:latin typeface="Arial"/>
                <a:ea typeface="Times New Roman"/>
              </a:rPr>
              <a:t>ability to respond rapidly</a:t>
            </a:r>
            <a:r>
              <a:rPr b="0" lang="en-US" sz="900" spc="-1" strike="noStrike">
                <a:solidFill>
                  <a:srgbClr val="000000"/>
                </a:solidFill>
                <a:latin typeface="Arial"/>
                <a:ea typeface="Times New Roman"/>
              </a:rPr>
              <a:t>. However, only 1 in 10 of these same CEOs believes that their organization has the ability to be very responsive to react to changing market conditions. Reducing integration complexity and on-going maintenance costs are the key issu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Value Propos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BM WebSphere Enterprise Service Bus (WebSphere ESB) is a flexible connectivity infrastructure for integrating applications and services, designed to enable the development of a service-oriented architecture (SOA). WebSphere ESB is at the heart of an SOA, powering it by reducing the number and complexity of interfaces. It allows you to focus on your core business, rather than your IT.</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vides a total solution for managing Web services connectivity, interactions, services hosting, and services mediation environment.</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ows you to securely and reliably share information between applications in a cost effective manner from both development and maintenance perspectives. </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lps you easily add new services or change existing ones without impacting current IT environment.</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mproves system performance and availability by offloading message processing and isolating complex mediation tasks in a dedicated integration serv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Target Audience</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Customer Size:</a:t>
            </a:r>
            <a:r>
              <a:rPr b="0" lang="en-US" sz="900" spc="-1" strike="noStrike">
                <a:solidFill>
                  <a:srgbClr val="000000"/>
                </a:solidFill>
                <a:latin typeface="Arial"/>
                <a:ea typeface="Times New Roman"/>
              </a:rPr>
              <a:t>  companies with more than 500 employees</a:t>
            </a:r>
            <a:endParaRPr b="0" lang="en-US" sz="9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Industries: </a:t>
            </a:r>
            <a:r>
              <a:rPr b="0" lang="en-US" sz="900" spc="-1" strike="noStrike">
                <a:solidFill>
                  <a:srgbClr val="000000"/>
                </a:solidFill>
                <a:latin typeface="Arial"/>
                <a:ea typeface="Times New Roman"/>
              </a:rPr>
              <a:t> Banking, Government, Wholesale Distribution, Retail, Insurance, Automotive</a:t>
            </a:r>
            <a:endParaRPr b="0" lang="en-US" sz="9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Typical Sponsors:</a:t>
            </a:r>
            <a:r>
              <a:rPr b="0" lang="en-US" sz="900" spc="-1" strike="noStrike">
                <a:solidFill>
                  <a:srgbClr val="000000"/>
                </a:solidFill>
                <a:latin typeface="Arial"/>
                <a:ea typeface="Times New Roman"/>
              </a:rPr>
              <a:t> IT Decision Makers, LOB Exec, CIO, IT Architec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Customer Needs</a:t>
            </a:r>
            <a:endParaRPr b="0" lang="en-US" sz="10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I need a system that can deliver information to other departments or applications as quickly, economically, and flexibly as possible.” </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I have limited skills in house and need a solution that is easier to learn, quicker and simpler to get up and running, and less expensive to implement and manage than building from scratch.”</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I need the ability to grow capabilities as needs evolve.”</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I have an increasingly diverse and incompatible range of applications, partners, and platforms, some of which use interaction styles not supported by my existing implementation.”</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My company is standardizing on Web services as the method of integration with business systems.”</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My environment is becoming increasingly heterogeneous and we need to securely and robustly connect .NET (and other) systems to our J2EE systems.”</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Our many stores, branches, and warehouses are physically dispersed. Each has a variety of applications that need to exchange information locally, but for architectural and cost reasons, we are forced to do all necessary message processing at the back-end hub, rather than at sourc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741600"/>
            <a:ext cx="8610480" cy="32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Benefits</a:t>
            </a:r>
            <a:endParaRPr b="0" lang="en-US" sz="1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ivers “smart integration” to connect your assets through service-oriented interfaces with standard-based integration supporting Web services connectivity and JMS messaging.</a:t>
            </a:r>
            <a:endParaRPr b="0" lang="en-US" sz="9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fers ease-of-use. WebSphere Integration Developer is the tool of choice for developing, testing, and deploying integration solutions in an integrated, interactive, and visual development environment. Use the same tool to build solutions deploying to WebSphere Process Server as your integration needs change.</a:t>
            </a:r>
            <a:endParaRPr b="0" lang="en-US" sz="9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aps faster ROI and saves time and development costs by using pre-built mediations such as XML transformation, content-based routing, and message logging. </a:t>
            </a:r>
            <a:endParaRPr b="0" lang="en-US" sz="9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amless integration with WebSphere platform. Built on WAS providing industry-leading level of availability, scalability, and performance. Furthermore, WebSphere ESB integrates with Tivoli Security and Systems Management offerings </a:t>
            </a:r>
            <a:r>
              <a:rPr b="0" lang="en-US" sz="900" spc="-1" strike="noStrike">
                <a:solidFill>
                  <a:srgbClr val="000000"/>
                </a:solidFill>
                <a:latin typeface="Arial"/>
                <a:ea typeface="MS Mincho"/>
              </a:rPr>
              <a:t>for comprehensive management and monitoring of the flow of information across the busin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Questions to ask to identify a project</a:t>
            </a:r>
            <a:endParaRPr b="0" lang="en-US" sz="1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Would you like to be able to standardize on an integration infrastructure that connects applications with clear extensible path as your business needs change and grow?” </a:t>
            </a:r>
            <a:endParaRPr b="0" lang="en-US" sz="9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Is your software maintenance budget growing unwieldy as you try to maintain your point-to-point links between applications that have grown exponentially in number and complexity?” </a:t>
            </a:r>
            <a:endParaRPr b="0" lang="en-US" sz="9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r>
              <a:rPr b="0" lang="en-US" sz="900" spc="-1" strike="noStrike">
                <a:solidFill>
                  <a:srgbClr val="000000"/>
                </a:solidFill>
                <a:latin typeface="Arial"/>
                <a:ea typeface="MS Mincho"/>
              </a:rPr>
              <a:t>Are you looking at maximizing your investment in business applications and expose these applications and data to meet new business opportuniti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Platfor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95" name=""/>
          <p:cNvGraphicFramePr/>
          <p:nvPr/>
        </p:nvGraphicFramePr>
        <p:xfrm>
          <a:off x="343080" y="3797280"/>
          <a:ext cx="2857320" cy="2298600"/>
        </p:xfrm>
        <a:graphic>
          <a:graphicData uri="http://schemas.openxmlformats.org/drawingml/2006/table">
            <a:tbl>
              <a:tblPr/>
              <a:tblGrid>
                <a:gridCol w="1371240"/>
                <a:gridCol w="1486080"/>
              </a:tblGrid>
              <a:tr h="30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ea typeface="Times New Roman"/>
                        </a:rPr>
                        <a:t>Operating System / SW</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ea typeface="SimSun"/>
                        </a:rPr>
                        <a:t>Hardware Platform</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AIX </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pSeries </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HP-UX </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PA-RISC</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Linux on iSeries or pSeries</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iSeries models support LPAR (64-bit kernel support only), or pSeries/OpenPower/KS20</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Linux for Intel</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Intel Pentium (or equivalent)</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Linux for zSeries</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zSeries</a:t>
                      </a:r>
                      <a:endParaRPr b="0" lang="en-US" sz="8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Windows 2000 Adv, 2003 Stand. &amp; Enter.</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tel Pentium (or equivalent)</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Sun Solaris 9</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laris SPARC</a:t>
                      </a:r>
                      <a:endParaRPr b="0" lang="en-US" sz="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3429000" y="3502800"/>
            <a:ext cx="5410080" cy="17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cc"/>
                </a:solidFill>
                <a:uFillTx/>
                <a:latin typeface="Arial"/>
                <a:ea typeface="Times New Roman"/>
              </a:rPr>
              <a:t>Competition / Competitive Advanta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ea typeface="Times New Roman"/>
              </a:rPr>
              <a:t>Main competitors</a:t>
            </a:r>
            <a:r>
              <a:rPr b="1" lang="en-US"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ibco, BEA AquaLogic, Sonic ESB, WebMethods Servicenet, Oracle Integration InterConnect, SAP XI Integration Broker, MS BizTal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ea typeface="Times New Roman"/>
              </a:rPr>
              <a:t>Competitive Advantages of WebSphere ESB V6.0.1:  </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ight integration with complementary visual development tools that require minimal Java skills.</a:t>
            </a:r>
            <a:endParaRPr b="0" lang="en-US" sz="10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rovides a built-in link to WebSphere MQ ensuring there is no loss of transactional context</a:t>
            </a:r>
            <a:endParaRPr b="0" lang="en-US" sz="900" spc="-1" strike="noStrike">
              <a:solidFill>
                <a:srgbClr val="000000"/>
              </a:solidFill>
              <a:latin typeface="Arial"/>
            </a:endParaRPr>
          </a:p>
          <a:p>
            <a:pPr lvl="1" marL="566640" indent="-109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Built on top of WAS inheriting all of its QOS attributes for superior reliability and manageability.</a:t>
            </a:r>
            <a:endParaRPr b="0" lang="en-US" sz="900" spc="-1" strike="noStrike">
              <a:solidFill>
                <a:srgbClr val="000000"/>
              </a:solidFill>
              <a:latin typeface="Arial"/>
            </a:endParaRPr>
          </a:p>
        </p:txBody>
      </p:sp>
      <p:sp>
        <p:nvSpPr>
          <p:cNvPr id="97" name="PlaceHolder 1"/>
          <p:cNvSpPr>
            <a:spLocks noGrp="1"/>
          </p:cNvSpPr>
          <p:nvPr>
            <p:ph type="title"/>
          </p:nvPr>
        </p:nvSpPr>
        <p:spPr>
          <a:xfrm>
            <a:off x="154080" y="457200"/>
            <a:ext cx="8989920" cy="340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t Sheet for WebSphere Enterprise Service Bus (ESB) Version 6.0.1 – </a:t>
            </a:r>
            <a:r>
              <a:rPr b="0" i="1" lang="en-US" sz="1800" spc="-1" strike="noStrike">
                <a:solidFill>
                  <a:srgbClr val="3333cc"/>
                </a:solidFill>
                <a:latin typeface="Arial"/>
              </a:rPr>
              <a:t>page 2 of 2</a:t>
            </a:r>
            <a:endParaRPr b="0" lang="en-US" sz="1800" spc="-1" strike="noStrike">
              <a:solidFill>
                <a:srgbClr val="000000"/>
              </a:solidFill>
              <a:latin typeface="Arial"/>
            </a:endParaRPr>
          </a:p>
        </p:txBody>
      </p:sp>
      <p:sp>
        <p:nvSpPr>
          <p:cNvPr id="98" name=""/>
          <p:cNvSpPr/>
          <p:nvPr/>
        </p:nvSpPr>
        <p:spPr>
          <a:xfrm>
            <a:off x="22860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NOTE: For additional information and documentation go to: </a:t>
            </a:r>
            <a:r>
              <a:rPr b="1" lang="en-US" sz="900" spc="-1" strike="noStrike" u="sng">
                <a:solidFill>
                  <a:srgbClr val="000000"/>
                </a:solidFill>
                <a:uFillTx/>
                <a:latin typeface="Arial"/>
                <a:hlinkClick r:id="rId1"/>
              </a:rPr>
              <a:t>http://</a:t>
            </a:r>
            <a:r>
              <a:rPr b="1" lang="en-US" sz="900" spc="-1" strike="noStrike" u="sng">
                <a:solidFill>
                  <a:srgbClr val="000000"/>
                </a:solidFill>
                <a:uFillTx/>
                <a:latin typeface="Arial"/>
                <a:hlinkClick r:id="rId2"/>
              </a:rPr>
              <a:t>www.ibm.com/software/integration/wsesb/support</a:t>
            </a:r>
            <a:endParaRPr b="0" lang="en-US" sz="900" spc="-1" strike="noStrike">
              <a:solidFill>
                <a:srgbClr val="000000"/>
              </a:solidFill>
              <a:latin typeface="Arial"/>
            </a:endParaRPr>
          </a:p>
        </p:txBody>
      </p:sp>
      <p:sp>
        <p:nvSpPr>
          <p:cNvPr id="99" name=""/>
          <p:cNvSpPr/>
          <p:nvPr/>
        </p:nvSpPr>
        <p:spPr>
          <a:xfrm>
            <a:off x="3352680" y="3809880"/>
            <a:ext cx="548640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5:30:21Z</dcterms:created>
  <dc:creator>Francine Anthony</dc:creator>
  <dc:description>Last Update: March 7, 2006</dc:description>
  <dc:language>en-US</dc:language>
  <cp:lastModifiedBy>IBM_USER</cp:lastModifiedBy>
  <dcterms:modified xsi:type="dcterms:W3CDTF">2006-03-07T20:40:13Z</dcterms:modified>
  <cp:revision>201</cp:revision>
  <dc:subject/>
  <dc:title>ESB Cheat Sheet</dc:title>
</cp:coreProperties>
</file>