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7960" y="6148440"/>
            <a:ext cx="80964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7960" y="6189480"/>
            <a:ext cx="80964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97960" y="6148440"/>
            <a:ext cx="39492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13040" y="6148440"/>
            <a:ext cx="39492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7960" y="6189480"/>
            <a:ext cx="39492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13040" y="6189480"/>
            <a:ext cx="39492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97960" y="6148440"/>
            <a:ext cx="26064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871920" y="6148440"/>
            <a:ext cx="26064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46240" y="6148440"/>
            <a:ext cx="26064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97960" y="6189480"/>
            <a:ext cx="26064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871920" y="6189480"/>
            <a:ext cx="26064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1146240" y="6189480"/>
            <a:ext cx="26064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7960" y="6148440"/>
            <a:ext cx="394920" cy="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013040" y="6148440"/>
            <a:ext cx="394920" cy="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90240" y="2493720"/>
            <a:ext cx="795492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7960" y="6148440"/>
            <a:ext cx="39492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13040" y="6148440"/>
            <a:ext cx="394920" cy="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960" y="6189480"/>
            <a:ext cx="39492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7960" y="6148440"/>
            <a:ext cx="394920" cy="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13040" y="6148440"/>
            <a:ext cx="39492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3040" y="6189480"/>
            <a:ext cx="39492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7960" y="6148440"/>
            <a:ext cx="39492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3040" y="6148440"/>
            <a:ext cx="39492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7960" y="6189480"/>
            <a:ext cx="80964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7960" y="6148440"/>
            <a:ext cx="80964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97960" y="6189480"/>
            <a:ext cx="80964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97960" y="6148440"/>
            <a:ext cx="39492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013040" y="6148440"/>
            <a:ext cx="39492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960" y="6189480"/>
            <a:ext cx="39492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13040" y="6189480"/>
            <a:ext cx="39492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97960" y="6148440"/>
            <a:ext cx="26064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871920" y="6148440"/>
            <a:ext cx="26064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6240" y="6148440"/>
            <a:ext cx="26064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97960" y="6189480"/>
            <a:ext cx="26064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871920" y="6189480"/>
            <a:ext cx="26064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1146240" y="6189480"/>
            <a:ext cx="26064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97960" y="6148440"/>
            <a:ext cx="394920" cy="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1013040" y="6148440"/>
            <a:ext cx="394920" cy="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0240" y="2493720"/>
            <a:ext cx="795492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97960" y="6148440"/>
            <a:ext cx="39492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1013040" y="6148440"/>
            <a:ext cx="394920" cy="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97960" y="6189480"/>
            <a:ext cx="39492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97960" y="6148440"/>
            <a:ext cx="394920" cy="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1013040" y="6148440"/>
            <a:ext cx="39492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13040" y="6189480"/>
            <a:ext cx="39492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97960" y="6148440"/>
            <a:ext cx="39492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13040" y="6148440"/>
            <a:ext cx="39492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97960" y="6189480"/>
            <a:ext cx="809640" cy="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02320"/>
            <a:ext cx="9144000" cy="38736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a3a1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a3a1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a3a1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a3a1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a3a1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5680" y="903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6480000"/>
            <a:ext cx="9145440" cy="3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1440" y="4789440"/>
            <a:ext cx="9141120" cy="37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750960" y="6556320"/>
            <a:ext cx="1955880" cy="301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a3a1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00a3a1"/>
              </a:solidFill>
              <a:latin typeface="Arial"/>
            </a:endParaRPr>
          </a:p>
          <a:p>
            <a:pPr lvl="1" marL="457200" indent="7920" algn="ctr">
              <a:spcBef>
                <a:spcPts val="499"/>
              </a:spcBef>
              <a:spcAft>
                <a:spcPts val="300"/>
              </a:spcAft>
              <a:buClr>
                <a:srgbClr val="00a3a1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a3a1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a3a1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a3a1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billman@us.ibm.com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2.png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13.png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09360" y="235404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ing WebSphere Portal with HA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lick-to-Action</a:t>
            </a:r>
            <a:br>
              <a:rPr sz="2400"/>
            </a:b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il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120" y="5357880"/>
            <a:ext cx="830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b Billm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isa Blal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ld Wide BI Interact Sales Speciali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rld Wide BI Interact Sales Le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billman@us.ibm.c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lalock@us.ibm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IBM WebSphere® Host Access Transformation Services Benefits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2760" y="1744200"/>
            <a:ext cx="4540320" cy="34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00a3a1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forms 3270 and 5250 screens into HTML dynamically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a3a1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grates host applications in a very short timeframe (in hours) without recoding any application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a3a1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es with IBM WebSphere® Portal, IBM WebSphere® Application Server and IBM WebSphere® Studio.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950000" y="1801800"/>
            <a:ext cx="3598560" cy="27385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36600" y="5238720"/>
            <a:ext cx="834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M WebSphere® Host Access Transformation Services (HA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 Quickly and easily extend your legacy applic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8320" y="2125800"/>
            <a:ext cx="7955280" cy="20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ank You!!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84160" y="2908440"/>
            <a:ext cx="74948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224000" y="1681200"/>
            <a:ext cx="650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9880" y="1003320"/>
            <a:ext cx="67672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purpose of this presentation is to introduce the JK Enterprise WebSphere Portal demo with HATS and Click-to-A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demo includes the following element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TS (Host Access Transformation Servic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-to-A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ople Awaren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Document Manag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ivity Compon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recommended that the user of this presentation also review the script for the JK Enterprise Portal Demo with HATS and Click-to-A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Series Application – Part Number Quer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080" y="1370160"/>
            <a:ext cx="6046560" cy="3836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33440" y="1550880"/>
            <a:ext cx="6057720" cy="3872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04880" y="1758960"/>
            <a:ext cx="6064200" cy="3867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905040" y="1928880"/>
            <a:ext cx="6213240" cy="3951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1154160" y="2052720"/>
            <a:ext cx="645300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Series Application – Product Category Quer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93760" y="1330200"/>
            <a:ext cx="6200640" cy="3935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04640" y="1571760"/>
            <a:ext cx="6197760" cy="3960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31720" y="1830240"/>
            <a:ext cx="6148440" cy="392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622440" y="2089080"/>
          <a:ext cx="6116400" cy="3880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2440" y="2089080"/>
                    <a:ext cx="6116400" cy="38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731880" y="2314440"/>
          <a:ext cx="6497640" cy="4137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1880" y="2314440"/>
                    <a:ext cx="6497640" cy="41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ATS - C2A Portlet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425920" y="4100400"/>
            <a:ext cx="3524400" cy="143856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5541840" y="1658880"/>
            <a:ext cx="2719080" cy="2117880"/>
            <a:chOff x="5541840" y="1658880"/>
            <a:chExt cx="2719080" cy="2117880"/>
          </a:xfrm>
        </p:grpSpPr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5541840" y="1658880"/>
              <a:ext cx="2206080" cy="169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>
              <a:off x="5643720" y="1738800"/>
              <a:ext cx="2210400" cy="171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4"/>
            <a:stretch/>
          </p:blipFill>
          <p:spPr>
            <a:xfrm>
              <a:off x="5742720" y="1830600"/>
              <a:ext cx="2212560" cy="171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5"/>
            <a:stretch/>
          </p:blipFill>
          <p:spPr>
            <a:xfrm>
              <a:off x="5815800" y="1905840"/>
              <a:ext cx="2266920" cy="174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6"/>
            <a:stretch/>
          </p:blipFill>
          <p:spPr>
            <a:xfrm>
              <a:off x="5906520" y="1960560"/>
              <a:ext cx="2354400" cy="181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260280" y="1954080"/>
            <a:ext cx="2413080" cy="2506680"/>
            <a:chOff x="260280" y="1954080"/>
            <a:chExt cx="2413080" cy="2506680"/>
          </a:xfrm>
        </p:grpSpPr>
        <p:pic>
          <p:nvPicPr>
            <p:cNvPr id="119" name="" descr=""/>
            <p:cNvPicPr/>
            <p:nvPr/>
          </p:nvPicPr>
          <p:blipFill>
            <a:blip r:embed="rId7"/>
            <a:stretch/>
          </p:blipFill>
          <p:spPr>
            <a:xfrm>
              <a:off x="260280" y="1954080"/>
              <a:ext cx="2157480" cy="19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8"/>
            <a:stretch/>
          </p:blipFill>
          <p:spPr>
            <a:xfrm>
              <a:off x="298800" y="2072160"/>
              <a:ext cx="2156400" cy="193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9"/>
            <a:stretch/>
          </p:blipFill>
          <p:spPr>
            <a:xfrm>
              <a:off x="342720" y="2198520"/>
              <a:ext cx="2139120" cy="19191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22" name=""/>
            <p:cNvGraphicFramePr/>
            <p:nvPr/>
          </p:nvGraphicFramePr>
          <p:xfrm>
            <a:off x="374400" y="2325240"/>
            <a:ext cx="2127960" cy="18990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74400" y="2325240"/>
                      <a:ext cx="2127960" cy="189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4" name=""/>
            <p:cNvGraphicFramePr/>
            <p:nvPr/>
          </p:nvGraphicFramePr>
          <p:xfrm>
            <a:off x="412560" y="2435760"/>
            <a:ext cx="2260800" cy="202500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25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12560" y="2435760"/>
                      <a:ext cx="2260800" cy="202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26" name=""/>
          <p:cNvGraphicFramePr/>
          <p:nvPr/>
        </p:nvGraphicFramePr>
        <p:xfrm>
          <a:off x="2874960" y="1568520"/>
          <a:ext cx="1895400" cy="39020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874960" y="1568520"/>
                    <a:ext cx="1895400" cy="39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2A Enabl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221000" y="1552680"/>
          <a:ext cx="2089440" cy="23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1000" y="1552680"/>
                    <a:ext cx="2089440" cy="23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5783400" y="3611520"/>
          <a:ext cx="2382840" cy="245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83400" y="3611520"/>
                    <a:ext cx="2382840" cy="24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406440" y="1455840"/>
          <a:ext cx="2282760" cy="4738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6440" y="1455840"/>
                    <a:ext cx="2282760" cy="47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 flipV="1">
            <a:off x="1781280" y="2438280"/>
            <a:ext cx="2998800" cy="2262240"/>
          </a:xfrm>
          <a:prstGeom prst="line">
            <a:avLst/>
          </a:prstGeom>
          <a:ln w="2232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716120" y="4203720"/>
            <a:ext cx="4925880" cy="689040"/>
          </a:xfrm>
          <a:prstGeom prst="line">
            <a:avLst/>
          </a:prstGeom>
          <a:ln w="2232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03400" y="3798720"/>
            <a:ext cx="2475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end Part Number to one or both portle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68000"/>
            <a:ext cx="851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textual Presence Awareness – “Supercharged” IM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50920" y="1054080"/>
            <a:ext cx="8688240" cy="52578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flipV="1">
            <a:off x="2889360" y="5060880"/>
            <a:ext cx="136440" cy="642960"/>
          </a:xfrm>
          <a:prstGeom prst="line">
            <a:avLst/>
          </a:prstGeom>
          <a:ln w="2232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60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 Portal Productivity Component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5600" y="1492200"/>
            <a:ext cx="4913280" cy="42544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275000" y="2457360"/>
            <a:ext cx="4378320" cy="35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617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89fb"/>
                </a:solidFill>
                <a:latin typeface="Arial"/>
              </a:rPr>
              <a:t>IBM WebSphere® Portal Benefit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-360" y="1461600"/>
            <a:ext cx="39877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a3a1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pplication Integr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spcBef>
                <a:spcPts val="437"/>
              </a:spcBef>
              <a:spcAft>
                <a:spcPts val="264"/>
              </a:spcAft>
              <a:buClr>
                <a:srgbClr val="00a3a1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nect to virtually any application in your enterpri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a3a1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tegrate at the g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spcBef>
                <a:spcPts val="437"/>
              </a:spcBef>
              <a:spcAft>
                <a:spcPts val="264"/>
              </a:spcAft>
              <a:buClr>
                <a:srgbClr val="00a3a1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bine disparate applications into meaningful work func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a3a1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llabor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spcBef>
                <a:spcPts val="437"/>
              </a:spcBef>
              <a:spcAft>
                <a:spcPts val="264"/>
              </a:spcAft>
              <a:buClr>
                <a:srgbClr val="00a3a1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mits real-time, person-to-person communications for more efficient work environment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spcBef>
                <a:spcPts val="437"/>
              </a:spcBef>
              <a:spcAft>
                <a:spcPts val="264"/>
              </a:spcAft>
              <a:buClr>
                <a:srgbClr val="00a3a1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re documents across the enterprise with security and access control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938760" y="1644480"/>
            <a:ext cx="4949640" cy="33973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0" y="5522760"/>
            <a:ext cx="869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M WebSphere® Por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ingle workplace for everything you 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>Industrie Brand Partners</dc:creator>
  <dc:description/>
  <dc:language>en-US</dc:language>
  <cp:lastModifiedBy>Bob Billman</cp:lastModifiedBy>
  <dcterms:modified xsi:type="dcterms:W3CDTF">2004-04-16T15:34:48Z</dcterms:modified>
  <cp:revision>491</cp:revision>
  <dc:subject>IBM Presentation System</dc:subject>
  <dc:title>IBM blue-and-white template</dc:title>
</cp:coreProperties>
</file>