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0B9-FD07-495C-8145-844222AB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2760" y="482400"/>
            <a:ext cx="8688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2760" y="2144880"/>
            <a:ext cx="868824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760" y="4554720"/>
            <a:ext cx="868824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8BFC-7618-4E33-B0D4-B51EA794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2760" y="482400"/>
            <a:ext cx="8688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2760" y="2144880"/>
            <a:ext cx="42397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4880" y="2144880"/>
            <a:ext cx="42397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2760" y="4554720"/>
            <a:ext cx="42397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4880" y="4554720"/>
            <a:ext cx="42397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2440-B5EA-41A2-83AA-4B6493CE6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2760" y="482400"/>
            <a:ext cx="8688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2760" y="2144880"/>
            <a:ext cx="27972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0360" y="2144880"/>
            <a:ext cx="27972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57600" y="2144880"/>
            <a:ext cx="27972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2760" y="4554720"/>
            <a:ext cx="27972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0360" y="4554720"/>
            <a:ext cx="27972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57600" y="4554720"/>
            <a:ext cx="27972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552-7577-4D95-870D-4CE67CEC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2760" y="482400"/>
            <a:ext cx="8688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2760" y="2144880"/>
            <a:ext cx="868824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56D-6C30-49A7-8EAC-065EAA95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2760" y="482400"/>
            <a:ext cx="8688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2760" y="2144880"/>
            <a:ext cx="868824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254-F650-4FC0-B971-EA3C6EFB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2760" y="482400"/>
            <a:ext cx="8688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2760" y="2144880"/>
            <a:ext cx="42397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4880" y="2144880"/>
            <a:ext cx="42397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92E6-14A8-4193-ABAD-4BE54F2D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2760" y="482400"/>
            <a:ext cx="8688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E51D-AAF1-42E3-9A19-4D165884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2760" y="482400"/>
            <a:ext cx="868824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B55F-D754-474B-A936-23F2BA6E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2760" y="482400"/>
            <a:ext cx="8688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2760" y="2144880"/>
            <a:ext cx="42397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4880" y="2144880"/>
            <a:ext cx="42397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2760" y="4554720"/>
            <a:ext cx="42397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39FB-52A8-41C7-8A90-4982A79A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2760" y="482400"/>
            <a:ext cx="8688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2760" y="2144880"/>
            <a:ext cx="423972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4880" y="2144880"/>
            <a:ext cx="42397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4880" y="4554720"/>
            <a:ext cx="42397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537E-79DE-4057-913C-462FD766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2760" y="482400"/>
            <a:ext cx="8688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2760" y="2144880"/>
            <a:ext cx="42397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4880" y="2144880"/>
            <a:ext cx="423972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760" y="4554720"/>
            <a:ext cx="868824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672B-1E9F-4187-923F-C8CEAF80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2760" y="482400"/>
            <a:ext cx="86882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2760" y="2144880"/>
            <a:ext cx="868824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F80E-E747-409B-89BB-755E95FC89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722160" y="-181080"/>
            <a:ext cx="9375840" cy="60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GB" sz="5600" spc="-1" strike="noStrike">
                <a:solidFill>
                  <a:srgbClr val="000000"/>
                </a:solidFill>
                <a:latin typeface="Arial"/>
              </a:rPr>
              <a:t>Hints and Tip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GB" sz="5600" spc="-1" strike="noStrike">
                <a:solidFill>
                  <a:srgbClr val="000000"/>
                </a:solidFill>
                <a:latin typeface="Arial"/>
              </a:rPr>
              <a:t>For Presenting Scenarion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7080" y="4398840"/>
            <a:ext cx="93124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Arial"/>
              </a:rPr>
              <a:t>June 2001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71480" y="331920"/>
            <a:ext cx="832176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099880" y="1919160"/>
            <a:ext cx="79232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0680" indent="-2206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Contact the customer contact before the visit/present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8120" indent="-250920">
              <a:lnSpc>
                <a:spcPct val="100000"/>
              </a:lnSpc>
              <a:buClr>
                <a:srgbClr val="0000ff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ensure that all the details you have been given are correct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8120" indent="-250920">
              <a:lnSpc>
                <a:spcPct val="100000"/>
              </a:lnSpc>
              <a:buClr>
                <a:srgbClr val="0000ff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find the customres pains and try to uses these to choose the correct scenario to match thes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8120" indent="-250920">
              <a:lnSpc>
                <a:spcPct val="100000"/>
              </a:lnSpc>
              <a:buClr>
                <a:srgbClr val="0000ff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find out the infastructure of the customer and try to prepare your presentations/materials to show a fit with the solutio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Perpare the presentation and demonstration and agree the content with the sales rep if possibl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79520" y="431640"/>
            <a:ext cx="82407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Arial"/>
              </a:rPr>
              <a:t>Pre - Presentatio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09520" y="336600"/>
            <a:ext cx="19605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GB" sz="3900" spc="-1" strike="noStrike">
                <a:solidFill>
                  <a:srgbClr val="0060a0"/>
                </a:solidFill>
                <a:latin typeface="Times New Roman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71480" y="331920"/>
            <a:ext cx="832176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099880" y="1919160"/>
            <a:ext cx="79232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0680" indent="-2206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Customise the presentation or demo to fit the customer and their situation and pai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Ensure that the presentation fits the audiance (the correct technical level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Have a backup ! ! 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Try to find and answer all the questions you think might come up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79520" y="431640"/>
            <a:ext cx="82407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Arial"/>
              </a:rPr>
              <a:t>Pre - Presentatio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209520" y="336600"/>
            <a:ext cx="19605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GB" sz="3900" spc="-1" strike="noStrike">
                <a:solidFill>
                  <a:srgbClr val="0060a0"/>
                </a:solidFill>
                <a:latin typeface="Times New Roman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1480" y="331920"/>
            <a:ext cx="832176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099880" y="1918800"/>
            <a:ext cx="7923240" cy="56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0680" indent="-2206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Competive qu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8120" indent="-250920">
              <a:lnSpc>
                <a:spcPct val="100000"/>
              </a:lnSpc>
              <a:buClr>
                <a:srgbClr val="0000ff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have a knowledge of the customers but don't comment on their solutions or products. This can look very unprofesional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8120" indent="-250920">
              <a:lnSpc>
                <a:spcPct val="100000"/>
              </a:lnSpc>
              <a:buClr>
                <a:srgbClr val="0000ff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Try to turn the questions in to positives for our solutio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Feature War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8120" indent="-250920">
              <a:lnSpc>
                <a:spcPct val="100000"/>
              </a:lnSpc>
              <a:buClr>
                <a:srgbClr val="0000ff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try to sell the solution and not the products and individual features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8120" indent="-250920">
              <a:lnSpc>
                <a:spcPct val="100000"/>
              </a:lnSpc>
              <a:buClr>
                <a:srgbClr val="0000ff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Don't get dragged in to a feature wa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79520" y="431640"/>
            <a:ext cx="82407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209520" y="336600"/>
            <a:ext cx="19605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GB" sz="3900" spc="-1" strike="noStrike">
                <a:solidFill>
                  <a:srgbClr val="0060a0"/>
                </a:solidFill>
                <a:latin typeface="Times New Roman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71480" y="331920"/>
            <a:ext cx="832176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099880" y="1918800"/>
            <a:ext cx="7923240" cy="56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0680" indent="-2206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Let the customer talk, take the opertunity to listen to the customer and fit his problems into the solutio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Listen for oppertunities to expand the solution or create new oppertuniti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79520" y="431640"/>
            <a:ext cx="82407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-209520" y="336600"/>
            <a:ext cx="19605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GB" sz="3900" spc="-1" strike="noStrike">
                <a:solidFill>
                  <a:srgbClr val="0060a0"/>
                </a:solidFill>
                <a:latin typeface="Times New Roman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671480" y="331920"/>
            <a:ext cx="832176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099880" y="1918800"/>
            <a:ext cx="7923240" cy="56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0680" indent="-2206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Get Ba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08120" indent="-250920">
              <a:lnSpc>
                <a:spcPct val="100000"/>
              </a:lnSpc>
              <a:buClr>
                <a:srgbClr val="0000ff"/>
              </a:buClr>
              <a:buSzPct val="90000"/>
              <a:buFont typeface="Monotype Sorts" charset="2"/>
              <a:buChar char=""/>
              <a:tabLst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  <a:tab algn="l" pos="101347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from the presentation offer to get back to the customer, keep the communication flowing between you and the custome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Try to get as much feed back as possibl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Ensure you follow up any un answered question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79520" y="431640"/>
            <a:ext cx="82407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Arial"/>
              </a:rPr>
              <a:t>Post Presentatio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209520" y="336600"/>
            <a:ext cx="19605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GB" sz="3900" spc="-1" strike="noStrike">
                <a:solidFill>
                  <a:srgbClr val="0060a0"/>
                </a:solidFill>
                <a:latin typeface="Times New Roman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71480" y="331920"/>
            <a:ext cx="8321760" cy="0"/>
          </a:xfrm>
          <a:prstGeom prst="line">
            <a:avLst/>
          </a:prstGeom>
          <a:ln w="1872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099880" y="1918800"/>
            <a:ext cx="7923240" cy="569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0680" indent="-2206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Continue contact with the contacts you make, even if you loose the deal, you may get a reference of how the competition didn't perform after they purchase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Keep up the contact and try to cutivate the customer into a referenc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00ff"/>
              </a:buClr>
              <a:buSzPct val="46000"/>
              <a:buFont typeface="Monotype Sorts" charset="2"/>
              <a:buChar char=""/>
              <a:tabLst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Keep an eye open for more solution oppertunities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79520" y="431640"/>
            <a:ext cx="82407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GB" sz="4600" spc="-1" strike="noStrike">
                <a:solidFill>
                  <a:srgbClr val="000000"/>
                </a:solidFill>
                <a:latin typeface="Arial"/>
              </a:rPr>
              <a:t>Post Presentation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209520" y="336600"/>
            <a:ext cx="196056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GB" sz="3900" spc="-1" strike="noStrike">
                <a:solidFill>
                  <a:srgbClr val="0060a0"/>
                </a:solidFill>
                <a:latin typeface="Times New Roman"/>
              </a:rPr>
              <a:t>  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7:21:44Z</dcterms:created>
  <dc:creator>Rob Veck</dc:creator>
  <dc:description/>
  <dc:language>en-US</dc:language>
  <cp:lastModifiedBy>Rob Veck</cp:lastModifiedBy>
  <dcterms:modified xsi:type="dcterms:W3CDTF">2001-05-25T17:22:03Z</dcterms:modified>
  <cp:revision>1</cp:revision>
  <dc:subject/>
  <dc:title>PowerPoint Presentation</dc:title>
</cp:coreProperties>
</file>