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851-89CE-415C-A646-DD9F511E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4600" y="444600"/>
            <a:ext cx="80071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976040"/>
            <a:ext cx="800712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4196520"/>
            <a:ext cx="800712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CF50-40FF-4384-954E-50B07F1B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4600" y="444600"/>
            <a:ext cx="80071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976040"/>
            <a:ext cx="390744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7880" y="1976040"/>
            <a:ext cx="390744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4196520"/>
            <a:ext cx="390744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7880" y="4196520"/>
            <a:ext cx="390744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025-1138-41F5-BA3C-D09C67EB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4600" y="444600"/>
            <a:ext cx="80071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976040"/>
            <a:ext cx="25779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1800" y="1976040"/>
            <a:ext cx="25779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59000" y="1976040"/>
            <a:ext cx="25779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4196520"/>
            <a:ext cx="25779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1800" y="4196520"/>
            <a:ext cx="25779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59000" y="4196520"/>
            <a:ext cx="25779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DEA3-9A3C-4974-9E8E-018E6144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4600" y="444600"/>
            <a:ext cx="80071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976040"/>
            <a:ext cx="800712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8A29-D899-4908-AF2B-AEA8928F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4600" y="444600"/>
            <a:ext cx="80071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976040"/>
            <a:ext cx="800712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C34-3B6A-4F6C-81F0-077304F6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4600" y="444600"/>
            <a:ext cx="80071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976040"/>
            <a:ext cx="390744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7880" y="1976040"/>
            <a:ext cx="390744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471-EBD5-4CFD-BE52-4CF0D3D7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4600" y="444600"/>
            <a:ext cx="80071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01A-373B-4645-836C-F6BFE5B9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4600" y="444600"/>
            <a:ext cx="8007120" cy="61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B47-3847-4B3E-9F68-54F154B0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4600" y="444600"/>
            <a:ext cx="80071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976040"/>
            <a:ext cx="390744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7880" y="1976040"/>
            <a:ext cx="390744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4196520"/>
            <a:ext cx="390744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7BC1-6FBF-4C98-A305-F4AA007D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4600" y="444600"/>
            <a:ext cx="80071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976040"/>
            <a:ext cx="390744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7880" y="1976040"/>
            <a:ext cx="390744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7880" y="4196520"/>
            <a:ext cx="390744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92E-DDAD-4B67-B3D9-9627E0D3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4600" y="444600"/>
            <a:ext cx="80071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976040"/>
            <a:ext cx="390744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7880" y="1976040"/>
            <a:ext cx="390744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4196520"/>
            <a:ext cx="800712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36B8-F15B-400E-922F-A67C1FF5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4600" y="444600"/>
            <a:ext cx="80071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4600" y="1976040"/>
            <a:ext cx="800712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5F8E-946B-4A37-AB24-224A379877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900000" y="104760"/>
            <a:ext cx="864072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Hints and Tips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For Presenting Scenarios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33480" y="4325760"/>
            <a:ext cx="85820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June 200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74800" y="577800"/>
            <a:ext cx="7989840" cy="0"/>
          </a:xfrm>
          <a:prstGeom prst="line">
            <a:avLst/>
          </a:prstGeom>
          <a:ln w="1836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169720" y="2039400"/>
            <a:ext cx="7302600" cy="54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3040" indent="-2030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tact the customer contact before the visit/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195120">
              <a:lnSpc>
                <a:spcPct val="100000"/>
              </a:lnSpc>
              <a:buClr>
                <a:srgbClr val="0000ff"/>
              </a:buClr>
              <a:buSzPct val="90000"/>
              <a:buFont typeface="Monotype Sorts" charset="2"/>
              <a:buChar char=""/>
              <a:tabLst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nsure that all the details you have been given are corr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195120">
              <a:lnSpc>
                <a:spcPct val="100000"/>
              </a:lnSpc>
              <a:buClr>
                <a:srgbClr val="0000ff"/>
              </a:buClr>
              <a:buSzPct val="90000"/>
              <a:buFont typeface="Monotype Sorts" charset="2"/>
              <a:buChar char=""/>
              <a:tabLst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ind the customers pains and try to uses these to choose the correct scenario to match the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195120">
              <a:lnSpc>
                <a:spcPct val="100000"/>
              </a:lnSpc>
              <a:buClr>
                <a:srgbClr val="0000ff"/>
              </a:buClr>
              <a:buSzPct val="90000"/>
              <a:buFont typeface="Monotype Sorts" charset="2"/>
              <a:buChar char=""/>
              <a:tabLst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ind out the infrastructure of the customer and try to prepare your presentations/materials to show a fit with the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epare the presentation and demonstration and agree the content with the sales rep if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35320" y="669960"/>
            <a:ext cx="759456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Pre - Present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0" y="582480"/>
            <a:ext cx="180792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GB" sz="3600" spc="-1" strike="noStrike">
                <a:solidFill>
                  <a:srgbClr val="0060a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74800" y="577800"/>
            <a:ext cx="7989840" cy="0"/>
          </a:xfrm>
          <a:prstGeom prst="line">
            <a:avLst/>
          </a:prstGeom>
          <a:ln w="1836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169720" y="2039400"/>
            <a:ext cx="7302600" cy="54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3040" indent="-2030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stomize the presentation or demo to fit the customer and their situation and p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nsure that the presentation fits the audience (the correct technical lev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ave a backup ! !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ry to find and answer all the questions you think might come u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35320" y="669960"/>
            <a:ext cx="759456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Pre - Present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400" y="582480"/>
            <a:ext cx="180792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GB" sz="3600" spc="-1" strike="noStrike">
                <a:solidFill>
                  <a:srgbClr val="0060a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74800" y="577800"/>
            <a:ext cx="7989840" cy="0"/>
          </a:xfrm>
          <a:prstGeom prst="line">
            <a:avLst/>
          </a:prstGeom>
          <a:ln w="1836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169720" y="2039760"/>
            <a:ext cx="7302600" cy="52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3040" indent="-2030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etitive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195120">
              <a:lnSpc>
                <a:spcPct val="100000"/>
              </a:lnSpc>
              <a:buClr>
                <a:srgbClr val="0000ff"/>
              </a:buClr>
              <a:buSzPct val="90000"/>
              <a:buFont typeface="Monotype Sorts" charset="2"/>
              <a:buChar char=""/>
              <a:tabLst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ave a knowledge of the customers but don't comment on their solutions or products. This can look very unprofess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195120">
              <a:lnSpc>
                <a:spcPct val="100000"/>
              </a:lnSpc>
              <a:buClr>
                <a:srgbClr val="0000ff"/>
              </a:buClr>
              <a:buSzPct val="90000"/>
              <a:buFont typeface="Monotype Sorts" charset="2"/>
              <a:buChar char=""/>
              <a:tabLst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ry to turn the questions in to positives for our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eature Wa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195120">
              <a:lnSpc>
                <a:spcPct val="100000"/>
              </a:lnSpc>
              <a:buClr>
                <a:srgbClr val="0000ff"/>
              </a:buClr>
              <a:buSzPct val="90000"/>
              <a:buFont typeface="Monotype Sorts" charset="2"/>
              <a:buChar char=""/>
              <a:tabLst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ry to sell the solution and not the products and individual featu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195120">
              <a:lnSpc>
                <a:spcPct val="100000"/>
              </a:lnSpc>
              <a:buClr>
                <a:srgbClr val="0000ff"/>
              </a:buClr>
              <a:buSzPct val="90000"/>
              <a:buFont typeface="Monotype Sorts" charset="2"/>
              <a:buChar char=""/>
              <a:tabLst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on't get dragged in to a feature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35320" y="669960"/>
            <a:ext cx="759456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400" y="582480"/>
            <a:ext cx="180792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GB" sz="3600" spc="-1" strike="noStrike">
                <a:solidFill>
                  <a:srgbClr val="0060a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74800" y="577800"/>
            <a:ext cx="7989840" cy="0"/>
          </a:xfrm>
          <a:prstGeom prst="line">
            <a:avLst/>
          </a:prstGeom>
          <a:ln w="1836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169720" y="2039760"/>
            <a:ext cx="7302600" cy="52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3040" indent="-2030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et the customer talk, take the opportunity to listen to the customer and fit his problems into the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isten for opportunities to expand the solution or create new opportuni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35320" y="669960"/>
            <a:ext cx="759456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400" y="582480"/>
            <a:ext cx="180792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GB" sz="3600" spc="-1" strike="noStrike">
                <a:solidFill>
                  <a:srgbClr val="0060a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74800" y="577800"/>
            <a:ext cx="7989840" cy="0"/>
          </a:xfrm>
          <a:prstGeom prst="line">
            <a:avLst/>
          </a:prstGeom>
          <a:ln w="1836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169720" y="2039760"/>
            <a:ext cx="7302600" cy="52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3040" indent="-2030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et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195120">
              <a:lnSpc>
                <a:spcPct val="100000"/>
              </a:lnSpc>
              <a:buClr>
                <a:srgbClr val="0000ff"/>
              </a:buClr>
              <a:buSzPct val="90000"/>
              <a:buFont typeface="Monotype Sorts" charset="2"/>
              <a:buChar char=""/>
              <a:tabLst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rom the presentation offer to get back to the customer, keep the communication flowing between you and the custo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ry to get as much feed back as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nsure you follow up any un answered ques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35320" y="669960"/>
            <a:ext cx="759456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Post Present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0" y="582480"/>
            <a:ext cx="180792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GB" sz="3600" spc="-1" strike="noStrike">
                <a:solidFill>
                  <a:srgbClr val="0060a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74800" y="577800"/>
            <a:ext cx="7989840" cy="0"/>
          </a:xfrm>
          <a:prstGeom prst="line">
            <a:avLst/>
          </a:prstGeom>
          <a:ln w="1836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169720" y="2039760"/>
            <a:ext cx="7302600" cy="52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3040" indent="-2030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tinue contact with the contacts you make, even if you loose the deal, you may get a reference of how the competition didn't perform after they purcha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Keep up the contact and try to cultivate the customer into a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Keep an eye open for more solution opportuni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35320" y="669960"/>
            <a:ext cx="759456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Post Present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400" y="582480"/>
            <a:ext cx="180792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GB" sz="3600" spc="-1" strike="noStrike">
                <a:solidFill>
                  <a:srgbClr val="0060a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15:14:06Z</dcterms:created>
  <dc:creator>Rob Veck</dc:creator>
  <dc:description/>
  <dc:language>en-US</dc:language>
  <cp:lastModifiedBy>Rob Veck</cp:lastModifiedBy>
  <dcterms:modified xsi:type="dcterms:W3CDTF">2001-08-06T15:14:07Z</dcterms:modified>
  <cp:revision>1</cp:revision>
  <dc:subject/>
  <dc:title>PowerPoint Presentation</dc:title>
</cp:coreProperties>
</file>