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anske Tex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Danske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anske Tex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Danske Headline"/>
              </a:rPr>
              <a:t>Click to move the slide</a:t>
            </a:r>
            <a:endParaRPr b="0" lang="en-US" sz="42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Danske Tex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Danske Tex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Danske Tex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F30-1CB7-413B-82B2-3AC041334A6F}" type="slidenum">
              <a:rPr b="0" lang="en-GB" sz="1200" spc="-1" strike="noStrike">
                <a:solidFill>
                  <a:srgbClr val="000000"/>
                </a:solidFill>
                <a:latin typeface="Danske Tex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udvikling som udviklingsprojekter er i da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å fra at udvikle traditionelle udviklingsproces med host programmer startende med Dataanalyse etc. 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process. Begyndende med Websider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aliseret ved at brugeren og web udviklere bygger sider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udviklere udtrække inf om data til backend program. Interface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gen udvikler implementerer definitionen i VAGen programme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en er fleksibel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 af processen manuel men i samarbejde med IBM lab automatisere proce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ition er ren dataareal og kan bruges i andre sammehæn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a very simple drawing of the current Danske Bank VAGen Web security mod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ically there are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An user has invoked a link to a VAGen Web transaction from the Corporate Portal (Hence the user is assumed to be authorized at this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When the Gateway servlet invokes the mirror transaction on MVS a CICS EXIT is performed and the user is authenticated and validated against the selected transaction. This CICS EXIT is made as an assembler program and regarded as a short term solu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we what to do long-term, is to run the WebSphere Application Server as a “Trusted Node” Hence all security mechanism is placed in step 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9B3-D771-464F-B1A3-26EC4943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63200" y="4454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09B-5D79-472A-9895-A813B1A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2288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E4A-8754-4F50-BAAC-F0459061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220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6084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6320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220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6084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5BF-FA35-4281-9E1D-8B8A6FDA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50960" y="1371240"/>
            <a:ext cx="6959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8C9-DD6D-4958-96E8-BBB23241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2288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63200" y="4454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2288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1220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0840" y="2438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6320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1220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0840" y="4454280"/>
            <a:ext cx="223668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AF9-7131-4CEB-AA6B-8429F8F5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6BC-6F9C-4600-B477-86A9B91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EA0-5421-4E11-84FE-48E357B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50960" y="1371240"/>
            <a:ext cx="6959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9E4-3685-4819-A654-3DD9B7ED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C6D-9749-4902-BBFA-17034A4B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3859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2880" y="4454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DCE-164F-4220-9A86-99ACEAA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2880" y="2438280"/>
            <a:ext cx="338976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63200" y="4454280"/>
            <a:ext cx="6946920" cy="18406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B5D-550E-4CD6-864C-38B5925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35000"/>
            <a:ext cx="9144000" cy="555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Danske Headline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 fontScale="93000"/>
          </a:bodyPr>
          <a:p>
            <a:pPr marL="259560" indent="-2595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1" marL="641880" indent="-21384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2" marL="1015560" indent="-2037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3" marL="1386360" indent="-2019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4" marL="1758240" indent="-2019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5" marL="1758240" indent="-2019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  <a:p>
            <a:pPr lvl="6" marL="1758240" indent="-201960">
              <a:lnSpc>
                <a:spcPct val="105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Danske Tex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Danske Tex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520" y="656604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ffffff"/>
                </a:solidFill>
                <a:latin typeface="Danske Headline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Danske Headline Regular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33640" y="656604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ffffff"/>
                </a:solidFill>
                <a:latin typeface="Danske Headline 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Danske Headline Regular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00640" y="656604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ffffff"/>
                </a:solidFill>
                <a:latin typeface="Danske Headline 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80D0204-2A36-4F87-A272-FD4BB37ABCB1}" type="slidenum">
              <a:rPr b="0" lang="en-US" sz="1300" spc="-1" strike="noStrike">
                <a:solidFill>
                  <a:srgbClr val="ffffff"/>
                </a:solidFill>
                <a:latin typeface="Danske Headline Regular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2108160"/>
            <a:ext cx="9144000" cy="0"/>
          </a:xfrm>
          <a:prstGeom prst="line">
            <a:avLst/>
          </a:prstGeom>
          <a:ln w="6480">
            <a:solidFill>
              <a:srgbClr val="0042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db_top" descr=""/>
          <p:cNvPicPr/>
          <p:nvPr/>
        </p:nvPicPr>
        <p:blipFill>
          <a:blip r:embed="rId2"/>
          <a:stretch/>
        </p:blipFill>
        <p:spPr>
          <a:xfrm>
            <a:off x="0" y="0"/>
            <a:ext cx="1778040" cy="1035000"/>
          </a:xfrm>
          <a:prstGeom prst="rect">
            <a:avLst/>
          </a:prstGeom>
          <a:ln w="0">
            <a:noFill/>
          </a:ln>
        </p:spPr>
      </p:pic>
      <p:pic>
        <p:nvPicPr>
          <p:cNvPr id="8" name="DA%20BA%20BC%20DB%208%20mm" descr=""/>
          <p:cNvPicPr/>
          <p:nvPr/>
        </p:nvPicPr>
        <p:blipFill>
          <a:blip r:embed="rId3"/>
          <a:stretch/>
        </p:blipFill>
        <p:spPr>
          <a:xfrm>
            <a:off x="6692760" y="338040"/>
            <a:ext cx="1994040" cy="36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767120"/>
            <a:ext cx="9144000" cy="2090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893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b_1024" descr=""/>
          <p:cNvPicPr/>
          <p:nvPr/>
        </p:nvPicPr>
        <p:blipFill>
          <a:blip r:embed="rId2"/>
          <a:stretch/>
        </p:blipFill>
        <p:spPr>
          <a:xfrm>
            <a:off x="0" y="103500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45920" y="2057400"/>
            <a:ext cx="6831000" cy="914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Danske Headline"/>
              </a:rPr>
              <a:t>Click to edit the title text format</a:t>
            </a:r>
            <a:endParaRPr b="0" lang="en-US" sz="42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64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%20BA%20BC%20DB%208%20mm" descr=""/>
          <p:cNvPicPr/>
          <p:nvPr/>
        </p:nvPicPr>
        <p:blipFill>
          <a:blip r:embed="rId3"/>
          <a:stretch/>
        </p:blipFill>
        <p:spPr>
          <a:xfrm>
            <a:off x="6692760" y="338040"/>
            <a:ext cx="1994040" cy="36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Danske Headline"/>
              </a:rPr>
              <a:t>Click to edit the outline text format</a:t>
            </a: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  <a:p>
            <a:pPr lvl="1" marL="436680" indent="0" algn="ctr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Danske Text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Danske Text"/>
            </a:endParaRPr>
          </a:p>
          <a:p>
            <a:pPr lvl="2" marL="873000" algn="ctr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Danske Text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Danske Text"/>
            </a:endParaRPr>
          </a:p>
          <a:p>
            <a:pPr lvl="3" marL="1273320" algn="ctr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4" marL="1673280" algn="ctr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5" marL="1673280"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6" marL="1673280"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5920" y="2057400"/>
            <a:ext cx="6831000" cy="9144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Danske Headline"/>
              </a:rPr>
              <a:t>VAGen at Danske Bank</a:t>
            </a:r>
            <a:endParaRPr b="0" lang="en-US" sz="42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38000" y="3111480"/>
            <a:ext cx="6832440" cy="12952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Danske Headline"/>
              </a:rPr>
              <a:t>Experiences using </a:t>
            </a: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  <a:p>
            <a:pPr indent="0" algn="ctr">
              <a:lnSpc>
                <a:spcPct val="105000"/>
              </a:lnSpc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Danske Headline"/>
              </a:rPr>
              <a:t>VAGen web transactions</a:t>
            </a:r>
            <a:endParaRPr b="0" lang="en-US" sz="3100" spc="-1" strike="noStrike">
              <a:solidFill>
                <a:srgbClr val="003366"/>
              </a:solidFill>
              <a:latin typeface="Danske Headline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6019920"/>
            <a:ext cx="6832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algn="ctr">
              <a:lnSpc>
                <a:spcPct val="105000"/>
              </a:lnSpc>
              <a:spcBef>
                <a:spcPts val="3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Danske Headline"/>
              </a:rPr>
              <a:t>By Project Manager Niels-Kristian Soegaard, Danske Bank, Copenhagen, Denma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32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Danske Headline"/>
              </a:rPr>
              <a:t>Nice ,November 15th, 2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71121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VAGen Web Development Process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pic>
        <p:nvPicPr>
          <p:cNvPr id="151" name="COMPBORD" descr=""/>
          <p:cNvPicPr/>
          <p:nvPr/>
        </p:nvPicPr>
        <p:blipFill>
          <a:blip r:embed="rId1"/>
          <a:stretch/>
        </p:blipFill>
        <p:spPr>
          <a:xfrm>
            <a:off x="1143000" y="4114800"/>
            <a:ext cx="944640" cy="1179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14600" y="3886200"/>
            <a:ext cx="12193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Danske Text"/>
              </a:rPr>
              <a:t>VAGe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(3-lay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19360" y="4495680"/>
            <a:ext cx="9907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9360" y="4876920"/>
            <a:ext cx="9907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19360" y="5257800"/>
            <a:ext cx="9907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7656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7656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FREMVIS" descr=""/>
          <p:cNvPicPr/>
          <p:nvPr/>
        </p:nvPicPr>
        <p:blipFill>
          <a:blip r:embed="rId2"/>
          <a:stretch/>
        </p:blipFill>
        <p:spPr>
          <a:xfrm>
            <a:off x="7620120" y="4114800"/>
            <a:ext cx="1079280" cy="12272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447920" y="2666880"/>
            <a:ext cx="28954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Business log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2666880"/>
            <a:ext cx="28958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resentation log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392720"/>
            <a:ext cx="914400" cy="66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Interfac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(UI Rec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4267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41972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Web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715000" y="5181480"/>
            <a:ext cx="1523880" cy="685800"/>
            <a:chOff x="5715000" y="5181480"/>
            <a:chExt cx="1523880" cy="685800"/>
          </a:xfrm>
        </p:grpSpPr>
        <p:sp>
          <p:nvSpPr>
            <p:cNvPr id="166" name=""/>
            <p:cNvSpPr/>
            <p:nvPr/>
          </p:nvSpPr>
          <p:spPr>
            <a:xfrm>
              <a:off x="5715000" y="5181480"/>
              <a:ext cx="533520" cy="685800"/>
            </a:xfrm>
            <a:prstGeom prst="leftRightArrow">
              <a:avLst>
                <a:gd name="adj1" fmla="val 50000"/>
                <a:gd name="adj2" fmla="val 1990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5257800"/>
              <a:ext cx="8380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Danske Text"/>
                </a:rPr>
                <a:t>W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791320" y="4267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4267080"/>
            <a:ext cx="53352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38680" y="42670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6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Run time setup 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666880"/>
            <a:ext cx="4419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108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WebSphere Application Server 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3429000"/>
            <a:ext cx="7621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Personal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66688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MV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3352680"/>
            <a:ext cx="9907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429000"/>
            <a:ext cx="9907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ICS Transaction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3429000"/>
            <a:ext cx="99036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429000"/>
            <a:ext cx="9907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Gateway 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42900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342900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342900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62160" y="4191120"/>
            <a:ext cx="567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52880" y="4191120"/>
            <a:ext cx="566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4040" y="4175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367800">
            <a:off x="212400" y="3866760"/>
            <a:ext cx="1011240" cy="304920"/>
          </a:xfrm>
          <a:custGeom>
            <a:avLst/>
            <a:gdLst/>
            <a:ahLst/>
            <a:rect l="l" t="t" r="r" b="b"/>
            <a:pathLst>
              <a:path w="637" h="192">
                <a:moveTo>
                  <a:pt x="0" y="0"/>
                </a:moveTo>
                <a:lnTo>
                  <a:pt x="363" y="51"/>
                </a:lnTo>
                <a:lnTo>
                  <a:pt x="72" y="102"/>
                </a:lnTo>
                <a:lnTo>
                  <a:pt x="637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2940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4114800"/>
            <a:ext cx="457200" cy="4572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472428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V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UI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Java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472428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V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Res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380988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80988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472428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ust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85520" y="4371120"/>
            <a:ext cx="820080" cy="55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438156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493280" y="4266360"/>
            <a:ext cx="67680" cy="56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4419720"/>
            <a:ext cx="152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1263200">
            <a:off x="151560" y="4648320"/>
            <a:ext cx="1011240" cy="304560"/>
          </a:xfrm>
          <a:custGeom>
            <a:avLst/>
            <a:gdLst/>
            <a:ahLst/>
            <a:rect l="l" t="t" r="r" b="b"/>
            <a:pathLst>
              <a:path w="637" h="192">
                <a:moveTo>
                  <a:pt x="0" y="0"/>
                </a:moveTo>
                <a:lnTo>
                  <a:pt x="363" y="51"/>
                </a:lnTo>
                <a:lnTo>
                  <a:pt x="72" y="102"/>
                </a:lnTo>
                <a:lnTo>
                  <a:pt x="637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4419720"/>
            <a:ext cx="152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Operational experiences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Stability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MVS CICS communication the weak spot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Monitoring with WAS Admin Console and Tivoli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erformance (preliminary numbers)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It can be fast! 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Response times between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0,15 sec. (5 Concurrent users) and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1 sec. (25 Concurrent users)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0">
              <a:lnSpc>
                <a:spcPct val="105000"/>
              </a:lnSpc>
              <a:spcBef>
                <a:spcPts val="476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Runtime Security issues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709956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 fontScale="91000"/>
          </a:bodyPr>
          <a:p>
            <a:pPr marL="254160" indent="-2541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Runtime environment not accessible or customizable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54160" indent="-2541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GatewayServlet and third tier VAGen components is IBM proprietary 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28200" indent="-20916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Not possible to implement general VAGen web solutions in enterprise business porta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28200" indent="-20916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Nor possible to implement internet business solutions in VAGen 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28200" indent="-20916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Integration of corporate company framework using portal services.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28200" indent="-20916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Authentication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2" marL="993600" indent="-199440">
              <a:lnSpc>
                <a:spcPct val="105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Before initialization of Gateway </a:t>
            </a:r>
            <a:endParaRPr b="0" lang="en-US" sz="1600" spc="-1" strike="noStrike">
              <a:solidFill>
                <a:srgbClr val="000000"/>
              </a:solidFill>
              <a:latin typeface="Danske Text"/>
            </a:endParaRPr>
          </a:p>
          <a:p>
            <a:pPr lvl="1" marL="628200" indent="-20916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Error logging, Audit logging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54160" indent="0">
              <a:lnSpc>
                <a:spcPct val="105000"/>
              </a:lnSpc>
              <a:spcBef>
                <a:spcPts val="476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Solution: Web Runtime Exits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Exits at GatewayServlet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Access to session and form data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Access to application data send to backend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Possible to attach more data before sending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Possible to terminate session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Exits at backend (MVS CICS)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Possible to invoke different exit programs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Access to data received from GatewayServlet 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Possible to terminate session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ossible to write in the GatewayServlet trace log.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Future VAGen Security model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2666880"/>
            <a:ext cx="4419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108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WebSphere Application Server 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3429000"/>
            <a:ext cx="7621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Personal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266688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MV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67480" y="3352680"/>
            <a:ext cx="9907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429000"/>
            <a:ext cx="9907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ICS Transactrion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3429000"/>
            <a:ext cx="99036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C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429000"/>
            <a:ext cx="99072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Gateway 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5029200"/>
            <a:ext cx="1523880" cy="641520"/>
          </a:xfrm>
          <a:prstGeom prst="rect">
            <a:avLst/>
          </a:prstGeom>
          <a:gradFill rotWithShape="0">
            <a:gsLst>
              <a:gs pos="0">
                <a:srgbClr val="fafefa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Danske Text"/>
              </a:rPr>
              <a:t>CICS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UI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Ow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342900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429000"/>
            <a:ext cx="0" cy="1523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62160" y="4191120"/>
            <a:ext cx="567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2880" y="4191120"/>
            <a:ext cx="566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24040" y="4175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2760" y="3429000"/>
            <a:ext cx="1011240" cy="304920"/>
          </a:xfrm>
          <a:custGeom>
            <a:avLst/>
            <a:gdLst/>
            <a:ahLst/>
            <a:rect l="l" t="t" r="r" b="b"/>
            <a:pathLst>
              <a:path w="637" h="192">
                <a:moveTo>
                  <a:pt x="0" y="0"/>
                </a:moveTo>
                <a:lnTo>
                  <a:pt x="363" y="51"/>
                </a:lnTo>
                <a:lnTo>
                  <a:pt x="72" y="102"/>
                </a:lnTo>
                <a:lnTo>
                  <a:pt x="637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952880"/>
            <a:ext cx="1371600" cy="82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Danske Text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UI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Sess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anske Text"/>
              </a:rPr>
              <a:t>Ow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2940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91120"/>
            <a:ext cx="457200" cy="761760"/>
          </a:xfrm>
          <a:prstGeom prst="line">
            <a:avLst/>
          </a:prstGeom>
          <a:ln w="5724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2400" y="4114800"/>
            <a:ext cx="457200" cy="4572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4191120"/>
            <a:ext cx="381240" cy="1218960"/>
          </a:xfrm>
          <a:prstGeom prst="line">
            <a:avLst/>
          </a:prstGeom>
          <a:ln w="57240">
            <a:solidFill>
              <a:srgbClr val="99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4191120"/>
            <a:ext cx="1143000" cy="761760"/>
          </a:xfrm>
          <a:prstGeom prst="line">
            <a:avLst/>
          </a:prstGeom>
          <a:ln w="5724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75000">
            <a:off x="227880" y="3885840"/>
            <a:ext cx="1011240" cy="304920"/>
          </a:xfrm>
          <a:custGeom>
            <a:avLst/>
            <a:gdLst/>
            <a:ahLst/>
            <a:rect l="l" t="t" r="r" b="b"/>
            <a:pathLst>
              <a:path w="637" h="192">
                <a:moveTo>
                  <a:pt x="0" y="0"/>
                </a:moveTo>
                <a:lnTo>
                  <a:pt x="363" y="51"/>
                </a:lnTo>
                <a:lnTo>
                  <a:pt x="72" y="102"/>
                </a:lnTo>
                <a:lnTo>
                  <a:pt x="637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038480"/>
            <a:ext cx="152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2408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152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Danske Tex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About Danske Bank 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IT department 1.600 Employee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VAGen 400 Developer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VAGen applications  - approximately 10.000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VAGen &gt;LOC 75 mill. 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VAGen used on following platform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MVS CICS, MVS Batch, WebSphere NT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WebSphere zOS in future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rogramming Solution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TUI, Batch, Javawrappers, Web Transactions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Objectives for pilot project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Focus area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Tools &amp; technology acceptable and meaningfull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Development process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ApplicationArchitecture 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Succes factors (In Random order)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Productivity, Stability, Scalability, Integraton to legacy, and existing (development) organizational processes, a.o.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0">
              <a:lnSpc>
                <a:spcPct val="105000"/>
              </a:lnSpc>
              <a:spcBef>
                <a:spcPts val="476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Pilot project - A dealer tool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 fontScale="96000"/>
          </a:bodyPr>
          <a:p>
            <a:pPr marL="267840" indent="-2678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A small not business critical 3270 VAGen application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67840" indent="-2678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Developed using the product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VAGen v4.0/VisualAge for Java v3.0.2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WebSphere Studio v3.0.2 &amp; v3.5.3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WebSphere Application Server v3.0.2 &amp; v3.5.3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67840" indent="-2678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Starting August ‘00 and in pilot production August ‘01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67840" indent="-2678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Experiences done in various areas.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VAGen Web Transactions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WebSphere Application Server Runtime environment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62760" indent="-22068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JSP development in WebSphere Studio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67840" indent="0">
              <a:lnSpc>
                <a:spcPct val="105000"/>
              </a:lnSpc>
              <a:spcBef>
                <a:spcPts val="476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Development process (1/2)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Develop business logic and test it using the ITF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Generate runtime module, JSP’s and UI-bean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Use WebSphere Studio to customize generated JSP’s to work within Danske Bank’s framework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Test customized JSP’s in WebSphere Test Environment and WebSphere Application Server NT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952880" y="2362320"/>
            <a:ext cx="3429000" cy="1218600"/>
            <a:chOff x="4952880" y="2362320"/>
            <a:chExt cx="3429000" cy="1218600"/>
          </a:xfrm>
        </p:grpSpPr>
        <p:sp>
          <p:nvSpPr>
            <p:cNvPr id="107" name=""/>
            <p:cNvSpPr/>
            <p:nvPr/>
          </p:nvSpPr>
          <p:spPr>
            <a:xfrm>
              <a:off x="6705720" y="236232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eee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Web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Stu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880" y="28195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10080" y="2971440"/>
              <a:ext cx="1295640" cy="609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Development process (2/ 2)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81080" y="2362320"/>
            <a:ext cx="3581640" cy="2654280"/>
            <a:chOff x="1981080" y="2362320"/>
            <a:chExt cx="3581640" cy="2654280"/>
          </a:xfrm>
        </p:grpSpPr>
        <p:grpSp>
          <p:nvGrpSpPr>
            <p:cNvPr id="112" name=""/>
            <p:cNvGrpSpPr/>
            <p:nvPr/>
          </p:nvGrpSpPr>
          <p:grpSpPr>
            <a:xfrm>
              <a:off x="1981080" y="2362320"/>
              <a:ext cx="3581640" cy="2654280"/>
              <a:chOff x="1981080" y="2362320"/>
              <a:chExt cx="3581640" cy="2654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981080" y="2362320"/>
                <a:ext cx="3476880" cy="2654280"/>
                <a:chOff x="1981080" y="2362320"/>
                <a:chExt cx="3476880" cy="2654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62320" y="2362320"/>
                  <a:ext cx="914400" cy="914400"/>
                </a:xfrm>
                <a:prstGeom prst="lightningBol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100400" y="2590920"/>
                  <a:ext cx="816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anske Text"/>
                    </a:rPr>
                    <a:t>JSP’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62160" y="4191120"/>
                  <a:ext cx="1738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anske Text"/>
                    </a:rPr>
                    <a:t>Executab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anske Text"/>
                    </a:rPr>
                    <a:t>modu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88080" y="3276720"/>
                  <a:ext cx="1469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Danske Text"/>
                    </a:rPr>
                    <a:t>UI-bea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981080" y="281952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00400" y="2819520"/>
                  <a:ext cx="838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200400" y="2819520"/>
                  <a:ext cx="83808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2819520"/>
                  <a:ext cx="0" cy="144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4038480" y="4191120"/>
                <a:ext cx="1524240" cy="82548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ad5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Danske Text"/>
                  </a:rPr>
                  <a:t>OS/39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Danske Text"/>
                  </a:rPr>
                  <a:t>Ho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352680" y="464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04920" y="2362320"/>
            <a:ext cx="1676160" cy="3809880"/>
            <a:chOff x="304920" y="2362320"/>
            <a:chExt cx="1676160" cy="3809880"/>
          </a:xfrm>
        </p:grpSpPr>
        <p:sp>
          <p:nvSpPr>
            <p:cNvPr id="125" name=""/>
            <p:cNvSpPr/>
            <p:nvPr/>
          </p:nvSpPr>
          <p:spPr>
            <a:xfrm>
              <a:off x="304920" y="236232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eaffc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VAGen 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525780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3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43000" y="3276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300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920" y="380988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eaffc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IT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038480" y="3276720"/>
            <a:ext cx="4996440" cy="3200400"/>
            <a:chOff x="4038480" y="3276720"/>
            <a:chExt cx="4996440" cy="3200400"/>
          </a:xfrm>
        </p:grpSpPr>
        <p:sp>
          <p:nvSpPr>
            <p:cNvPr id="131" name=""/>
            <p:cNvSpPr/>
            <p:nvPr/>
          </p:nvSpPr>
          <p:spPr>
            <a:xfrm>
              <a:off x="5410080" y="3581280"/>
              <a:ext cx="12956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5257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38480" y="5334120"/>
              <a:ext cx="1676520" cy="1143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ad5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Frame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715000" y="5029200"/>
              <a:ext cx="9907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4572000"/>
              <a:ext cx="11430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64080" y="350532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anske Text"/>
                </a:rPr>
                <a:t>UI-be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86280" y="3505320"/>
              <a:ext cx="144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anske Text"/>
                </a:rPr>
                <a:t>Custom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Danske Text"/>
                </a:rPr>
                <a:t>J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086600" y="38098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08660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276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4114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556272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c3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05720" y="4343400"/>
              <a:ext cx="16761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eee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Web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Danske Text"/>
                </a:rPr>
                <a:t>Test En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Experiences in the pilot project (1/2)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Tools development platform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The biggest challenges have been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Integration between VAGen, WebSphere Studio and WAS NT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anske Text"/>
              </a:rPr>
              <a:t>Test environment - which to use?</a:t>
            </a:r>
            <a:endParaRPr b="0" lang="en-US" sz="19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oor debugging facilities for JSP element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WebSphere Test Environment - a little tricky… Special config needed because of framework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Easy to do once infrastructure and first application is in place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anske Headline"/>
              </a:rPr>
              <a:t>Experiences in the pilot project (2/2)</a:t>
            </a:r>
            <a:endParaRPr b="0" lang="en-US" sz="26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A sound  application architecture 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Parallel development of business logic and presentation (JSP) is hard to keep in sync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Challenges in JSP development is implementing standard corporate services and portal design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Organizational speciallization most likely needed between business &amp; presentation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Only a waterfall model supported by the tools in the current version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50960" y="1371240"/>
            <a:ext cx="695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Danske Headline"/>
              </a:rPr>
              <a:t>Experiences with VAGen v4.0</a:t>
            </a:r>
            <a:endParaRPr b="0" lang="en-US" sz="3400" spc="-1" strike="noStrike">
              <a:solidFill>
                <a:srgbClr val="000000"/>
              </a:solidFill>
              <a:latin typeface="Danske Headlin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63200" y="2438280"/>
            <a:ext cx="6946920" cy="38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279360" indent="-27936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Danske Text"/>
              </a:rPr>
              <a:t>VAGen programming the easy part</a:t>
            </a:r>
            <a:endParaRPr b="0" lang="en-US" sz="23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Danske Text"/>
              </a:rPr>
              <a:t>Generation process stable and predictable</a:t>
            </a:r>
            <a:endParaRPr b="0" lang="en-US" sz="2300" spc="-1" strike="noStrike">
              <a:solidFill>
                <a:srgbClr val="000000"/>
              </a:solidFill>
              <a:latin typeface="Danske Text"/>
            </a:endParaRPr>
          </a:p>
          <a:p>
            <a:pPr marL="279360" indent="-279360">
              <a:lnSpc>
                <a:spcPct val="105000"/>
              </a:lnSpc>
              <a:spcBef>
                <a:spcPts val="575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Danske Text"/>
              </a:rPr>
              <a:t>State handling meets the requirements for business solutions</a:t>
            </a:r>
            <a:endParaRPr b="0" lang="en-US" sz="23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Intranet programs -&gt; State full/state les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  <a:p>
            <a:pPr lvl="1" marL="690480" indent="-230040">
              <a:lnSpc>
                <a:spcPct val="105000"/>
              </a:lnSpc>
              <a:spcBef>
                <a:spcPts val="524"/>
              </a:spcBef>
              <a:buClr>
                <a:srgbClr val="000000"/>
              </a:buClr>
              <a:buSzPct val="80000"/>
              <a:buFont typeface="Danske Text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anske Text"/>
              </a:rPr>
              <a:t>Internet programs -&gt; State less</a:t>
            </a:r>
            <a:endParaRPr b="0" lang="en-US" sz="2100" spc="-1" strike="noStrike">
              <a:solidFill>
                <a:srgbClr val="000000"/>
              </a:solidFill>
              <a:latin typeface="Danske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2:16:14Z</dcterms:created>
  <dc:creator>DDB Koncern</dc:creator>
  <dc:description/>
  <dc:language>en-US</dc:language>
  <cp:lastModifiedBy>DDB Koncern</cp:lastModifiedBy>
  <cp:lastPrinted>2001-11-14T08:08:55Z</cp:lastPrinted>
  <dcterms:modified xsi:type="dcterms:W3CDTF">2001-11-15T10:30:40Z</dcterms:modified>
  <cp:revision>36</cp:revision>
  <dc:subject/>
  <dc:title>No Slide Title</dc:title>
</cp:coreProperties>
</file>