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D932-A55F-4DB2-B9C1-BF42DADFB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0240" y="35276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3034-0090-42FA-B52E-ABF6BF28D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6580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AFA6-E274-4BA1-A1F0-6CDCDEF13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7944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828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9024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7944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828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6447-BE2C-42B2-83BB-D0187D666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22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3D5E-F02B-480A-ACCE-47AC69FE6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6580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0240" y="35276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46580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7944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68280" y="33494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024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07944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768280" y="3527640"/>
            <a:ext cx="25606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7591-4243-461A-8D34-C7795EE21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7832-7E07-4B4A-BAD0-07E311584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07B9-239D-490E-873A-60A49E988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0240" y="2493720"/>
            <a:ext cx="7954920" cy="22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64D5-BD3D-4303-8EE0-663D538CB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9FBA-12FF-451E-B6CA-1FF57BA7A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3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65800" y="35276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6018-0A09-4067-BEDB-2C6074851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024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5800" y="3349440"/>
            <a:ext cx="388116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0240" y="3527640"/>
            <a:ext cx="7953480" cy="1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DE75-C35A-466B-BEF7-BE2946894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064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7640" y="6442200"/>
            <a:ext cx="916020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3720" y="808200"/>
            <a:ext cx="8467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85760" y="1776240"/>
            <a:ext cx="75484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561"/>
              </a:spcBef>
              <a:spcAft>
                <a:spcPts val="337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25600" y="12384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| Lotus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27880" y="6529320"/>
            <a:ext cx="673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F3FB-8AF4-4299-930C-3A7D22AEC386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3496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876920" y="6529320"/>
            <a:ext cx="20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52280" y="652932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53040"/>
            <a:ext cx="9144000" cy="17604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59640" y="5214960"/>
            <a:ext cx="2162160" cy="399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7640" y="4776840"/>
            <a:ext cx="9160200" cy="37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-104122" b="-43386"/>
          <a:stretch/>
        </p:blipFill>
        <p:spPr>
          <a:xfrm>
            <a:off x="1890720" y="4164120"/>
            <a:ext cx="2984400" cy="4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74120" y="687240"/>
            <a:ext cx="1162080" cy="559440"/>
            <a:chOff x="7674120" y="687240"/>
            <a:chExt cx="1162080" cy="559440"/>
          </a:xfrm>
        </p:grpSpPr>
        <p:pic>
          <p:nvPicPr>
            <p:cNvPr id="53" name="" descr=""/>
            <p:cNvPicPr/>
            <p:nvPr/>
          </p:nvPicPr>
          <p:blipFill>
            <a:blip r:embed="rId5"/>
            <a:srcRect l="0" t="0" r="6463" b="0"/>
            <a:stretch/>
          </p:blipFill>
          <p:spPr>
            <a:xfrm>
              <a:off x="7674120" y="687240"/>
              <a:ext cx="1003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606160" y="969840"/>
              <a:ext cx="230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130176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8874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550280" y="3762360"/>
            <a:ext cx="1420560" cy="95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33640" y="5638680"/>
            <a:ext cx="523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roof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280" y="6408720"/>
            <a:ext cx="622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BM Product Introduction + Expl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5920" y="5181480"/>
            <a:ext cx="2484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300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ing the value of WebSphere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0240" y="3349440"/>
            <a:ext cx="7953480" cy="3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bSphere Portal Server v5.1.0.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9:16:15Z</dcterms:created>
  <dc:creator>Alex Butterfield</dc:creator>
  <dc:description/>
  <dc:language>en-US</dc:language>
  <cp:lastModifiedBy>Roger Best</cp:lastModifiedBy>
  <dcterms:modified xsi:type="dcterms:W3CDTF">2005-10-03T20:18:43Z</dcterms:modified>
  <cp:revision>11</cp:revision>
  <dc:subject/>
  <dc:title>Slide 1</dc:title>
</cp:coreProperties>
</file>