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28.wmf" ContentType="image/x-wmf"/>
  <Override PartName="/ppt/media/image30.png" ContentType="image/png"/>
  <Override PartName="/ppt/media/image27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11.wmf" ContentType="image/x-wmf"/>
  <Override PartName="/ppt/media/image3.png" ContentType="image/png"/>
  <Override PartName="/ppt/media/image33.png" ContentType="image/png"/>
  <Override PartName="/ppt/media/image12.wmf" ContentType="image/x-wmf"/>
  <Override PartName="/ppt/media/image4.png" ContentType="image/png"/>
  <Override PartName="/ppt/media/image34.png" ContentType="image/png"/>
  <Override PartName="/ppt/media/image13.png" ContentType="image/png"/>
  <Override PartName="/ppt/media/image37.png" ContentType="image/png"/>
  <Override PartName="/ppt/media/image40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42.png" ContentType="image/png"/>
  <Override PartName="/ppt/media/image43.png" ContentType="image/png"/>
  <Override PartName="/ppt/media/image10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5.png" ContentType="image/png"/>
  <Override PartName="/ppt/media/image5.png" ContentType="image/png"/>
  <Override PartName="/ppt/media/image38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3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5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CFC4E5-CC09-49D0-9D08-AA97423499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kUI Handle is used to close the pa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290520" y="4505040"/>
            <a:ext cx="6734160" cy="4321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rURL - Even if the LDAP Server is on local host, recommend using the fully qualified host n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va does not handle multi-threading applications very well – handle sequencing of activities. BPEL will do this in a standardized manner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ndle sequencing of activities in an applic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 that it is language-independent but IBM attempts to turn it into a Java based standard. Allowing for Java Snippe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ff is also an extension to BPEL. Will talk about that in a later slide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allows you to schedule delayed deletions. If you were deleting a lot of data you could schedule the DB delete to happen at a later time so as not to affect end us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6E2A4-B442-4111-B137-F4238744CF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75484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85760" y="4215960"/>
            <a:ext cx="75484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BF3DA-A2B9-4C53-B0F5-FCA36AC3AE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3960" y="177624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85760" y="421596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3960" y="421596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519A4-82DA-4530-B7D2-72593E01FC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243036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38160" y="1776240"/>
            <a:ext cx="243036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90200" y="1776240"/>
            <a:ext cx="243036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85760" y="4215960"/>
            <a:ext cx="243036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38160" y="4215960"/>
            <a:ext cx="243036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90200" y="4215960"/>
            <a:ext cx="243036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A402A-888C-408C-AC25-2FCF54EA5E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85760" y="1776240"/>
            <a:ext cx="7548480" cy="46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754848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368352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53960" y="1776240"/>
            <a:ext cx="368352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3720" y="808200"/>
            <a:ext cx="8467560" cy="22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3960" y="1776240"/>
            <a:ext cx="368352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85760" y="421596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85760" y="1776240"/>
            <a:ext cx="7548480" cy="46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1A215-6B61-439D-A744-964FE8871A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368352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53960" y="177624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53960" y="421596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53960" y="177624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85760" y="4215960"/>
            <a:ext cx="75484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75484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85760" y="4215960"/>
            <a:ext cx="75484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53960" y="177624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85760" y="421596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953960" y="421596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243036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638160" y="1776240"/>
            <a:ext cx="243036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190200" y="1776240"/>
            <a:ext cx="243036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85760" y="4215960"/>
            <a:ext cx="243036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638160" y="4215960"/>
            <a:ext cx="243036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190200" y="4215960"/>
            <a:ext cx="243036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754848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3F1A0-93EC-4EF6-96A1-1F9838BF9F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368352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3960" y="1776240"/>
            <a:ext cx="368352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1A57B-0D7F-407D-A7B7-090B798D64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87D51-DACE-4E91-8609-3D3FD9C872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3720" y="808200"/>
            <a:ext cx="8467560" cy="22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CA712-45DF-4691-A4DC-D262D73F34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3960" y="1776240"/>
            <a:ext cx="368352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85760" y="421596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49458-91B6-4B8A-B0E2-98BB85C511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368352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3960" y="177624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3960" y="421596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77E5D-D63A-4B0A-B5BF-CEDCAC2091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3960" y="1776240"/>
            <a:ext cx="368352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85760" y="4215960"/>
            <a:ext cx="75484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C6D9C-DC5D-48DB-8B9C-EDD2487702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0640"/>
            <a:ext cx="9144000" cy="38736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-17640" y="6442200"/>
            <a:ext cx="9160200" cy="30456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85760" y="1776240"/>
            <a:ext cx="754848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223920"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12960" indent="-228600"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143000" indent="-228600"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143000" indent="-22860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143000" indent="-22860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436760" y="123840"/>
            <a:ext cx="616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| Lotus softwar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5 IBM Corpo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8327880" y="6529320"/>
            <a:ext cx="67320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9B865-DCD9-4205-8CCE-F6C12CB2BEEC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43496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152280" y="6529320"/>
            <a:ext cx="289584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876920" y="6529320"/>
            <a:ext cx="2057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ustom Administ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5153040"/>
            <a:ext cx="9144000" cy="17604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659640" y="5214960"/>
            <a:ext cx="2162160" cy="399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-17640" y="4776840"/>
            <a:ext cx="9160200" cy="377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rcRect l="0" t="0" r="-104122" b="-43386"/>
          <a:stretch/>
        </p:blipFill>
        <p:spPr>
          <a:xfrm>
            <a:off x="1890720" y="4164120"/>
            <a:ext cx="2984400" cy="434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7674120" y="687240"/>
            <a:ext cx="1162080" cy="559440"/>
            <a:chOff x="7674120" y="687240"/>
            <a:chExt cx="1162080" cy="559440"/>
          </a:xfrm>
        </p:grpSpPr>
        <p:pic>
          <p:nvPicPr>
            <p:cNvPr id="53" name="" descr=""/>
            <p:cNvPicPr/>
            <p:nvPr/>
          </p:nvPicPr>
          <p:blipFill>
            <a:blip r:embed="rId5"/>
            <a:srcRect l="0" t="0" r="6463" b="0"/>
            <a:stretch/>
          </p:blipFill>
          <p:spPr>
            <a:xfrm>
              <a:off x="7674120" y="687240"/>
              <a:ext cx="1003320" cy="4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8606160" y="969840"/>
              <a:ext cx="23004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®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31840" y="1301760"/>
            <a:ext cx="4104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887480" y="1362240"/>
            <a:ext cx="0" cy="328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8880" y="6248520"/>
            <a:ext cx="164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5 IBM Corpo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7550280" y="3762360"/>
            <a:ext cx="1420560" cy="954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033640" y="5638680"/>
            <a:ext cx="5235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BM Proof of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25280" y="6408720"/>
            <a:ext cx="6222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BM Product Introduction + Explo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7"/>
          <a:stretch/>
        </p:blipFill>
        <p:spPr>
          <a:xfrm>
            <a:off x="7550280" y="3762360"/>
            <a:ext cx="1420560" cy="954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033640" y="5638680"/>
            <a:ext cx="5235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BM Proof of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5280" y="6408720"/>
            <a:ext cx="6222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BM Product Introduction + Explo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 algn="ctr">
              <a:spcBef>
                <a:spcPts val="300"/>
              </a:spcBef>
              <a:spcAft>
                <a:spcPts val="300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455760" algn="ctr">
              <a:spcBef>
                <a:spcPts val="300"/>
              </a:spcBef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687240" algn="ctr">
              <a:spcBef>
                <a:spcPts val="300"/>
              </a:spcBef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 algn="ctr">
              <a:spcBef>
                <a:spcPts val="300"/>
              </a:spcBef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Por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390240" y="3349440"/>
            <a:ext cx="7953480" cy="3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ebSphere Portal Server v5.1.0.1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ortal Access Control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754848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6721200" cy="44848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705720" y="3657600"/>
            <a:ext cx="8380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B2C1B-D1AE-45EA-AF5C-CD8EE07ACCF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289512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uman Interaction Interfac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F7641-9322-4DBB-96BD-FEE9ACAF45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77724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PE Admin Console – Template Lis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914400" y="1371600"/>
            <a:ext cx="7543800" cy="4963320"/>
            <a:chOff x="914400" y="1371600"/>
            <a:chExt cx="7543800" cy="4963320"/>
          </a:xfrm>
        </p:grpSpPr>
        <p:graphicFrame>
          <p:nvGraphicFramePr>
            <p:cNvPr id="157" name=""/>
            <p:cNvGraphicFramePr/>
            <p:nvPr/>
          </p:nvGraphicFramePr>
          <p:xfrm>
            <a:off x="914400" y="1371600"/>
            <a:ext cx="7543800" cy="4800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14400" y="1371600"/>
                      <a:ext cx="7543800" cy="4800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9" name=""/>
            <p:cNvSpPr/>
            <p:nvPr/>
          </p:nvSpPr>
          <p:spPr>
            <a:xfrm>
              <a:off x="987480" y="4401720"/>
              <a:ext cx="1098360" cy="288360"/>
            </a:xfrm>
            <a:prstGeom prst="ellipse">
              <a:avLst/>
            </a:prstGeom>
            <a:noFill/>
            <a:ln w="28440">
              <a:solidFill>
                <a:srgbClr val="ec04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891520" y="3247200"/>
              <a:ext cx="1098360" cy="288360"/>
            </a:xfrm>
            <a:prstGeom prst="ellipse">
              <a:avLst/>
            </a:prstGeom>
            <a:noFill/>
            <a:ln w="28440">
              <a:solidFill>
                <a:srgbClr val="ec04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87480" y="2309040"/>
              <a:ext cx="1098360" cy="288360"/>
            </a:xfrm>
            <a:prstGeom prst="ellipse">
              <a:avLst/>
            </a:prstGeom>
            <a:noFill/>
            <a:ln w="28440">
              <a:solidFill>
                <a:srgbClr val="ec04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914400" y="3030840"/>
              <a:ext cx="1317960" cy="1082160"/>
            </a:xfrm>
            <a:prstGeom prst="ellipse">
              <a:avLst/>
            </a:prstGeom>
            <a:noFill/>
            <a:ln w="28440">
              <a:solidFill>
                <a:srgbClr val="ec04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012760" y="4618080"/>
              <a:ext cx="512640" cy="1009800"/>
            </a:xfrm>
            <a:prstGeom prst="line">
              <a:avLst/>
            </a:prstGeom>
            <a:ln w="28440">
              <a:solidFill>
                <a:srgbClr val="ec04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525760" y="5267520"/>
              <a:ext cx="2138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l the business process templates that you can work wit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3917160" y="2813760"/>
              <a:ext cx="1904040" cy="649080"/>
            </a:xfrm>
            <a:prstGeom prst="line">
              <a:avLst/>
            </a:prstGeom>
            <a:ln w="28440">
              <a:solidFill>
                <a:srgbClr val="ec04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48120" y="2597760"/>
              <a:ext cx="213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ss Star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086200" y="2525400"/>
              <a:ext cx="1317960" cy="0"/>
            </a:xfrm>
            <a:prstGeom prst="line">
              <a:avLst/>
            </a:prstGeom>
            <a:ln w="28440">
              <a:solidFill>
                <a:srgbClr val="ec04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404520" y="2309040"/>
              <a:ext cx="213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signed Task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32360" y="3752280"/>
              <a:ext cx="3588840" cy="1370520"/>
            </a:xfrm>
            <a:prstGeom prst="line">
              <a:avLst/>
            </a:prstGeom>
            <a:ln w="28440">
              <a:solidFill>
                <a:srgbClr val="ec04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748120" y="5050800"/>
              <a:ext cx="213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ss Maintena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B336F-7753-412B-A698-33ED8FF7F97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PE Admin Console – Task Processing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685800" y="1295280"/>
          <a:ext cx="4876920" cy="507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295280"/>
                    <a:ext cx="4876920" cy="507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3276720" y="2590920"/>
          <a:ext cx="5181480" cy="194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2590920"/>
                    <a:ext cx="5181480" cy="19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4876920" y="4114800"/>
            <a:ext cx="76176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905120" y="4572000"/>
            <a:ext cx="2057400" cy="1752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1905120"/>
            <a:ext cx="1066680" cy="5331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69FCF-4561-4FF7-8D27-8D1D8378C25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77724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rocess Portal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tals make the ideal interface for the human component of business process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Sphere Portal V5.1.x exploits the process engine of Business Process Choreographer to integrate existing business processes and applications into the por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Sphere Global Security is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tal displays visua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mp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notify users when they are assigned a new tas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mp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ink users to the My Tasks portlet, where they can view, claim, and launch tasks on a new portal pag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295280" y="5029200"/>
          <a:ext cx="6586560" cy="119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5029200"/>
                    <a:ext cx="658656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523880" y="5257800"/>
            <a:ext cx="1676520" cy="685800"/>
          </a:xfrm>
          <a:prstGeom prst="ellipse">
            <a:avLst/>
          </a:prstGeom>
          <a:noFill/>
          <a:ln w="28440">
            <a:solidFill>
              <a:srgbClr val="ec04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676520" y="4495680"/>
            <a:ext cx="228600" cy="762120"/>
          </a:xfrm>
          <a:prstGeom prst="line">
            <a:avLst/>
          </a:prstGeom>
          <a:ln w="28440">
            <a:solidFill>
              <a:srgbClr val="ec042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5474E-6C2D-4057-A254-AE72E7323C6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4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mponents of the Process Portal Appl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d by portal and lists the users assigned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tle, short description and 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view, claim or start. Click on hyperlink to be taken to the Task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 Page Definition for each task that requires human inte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portlets required to do the work associated with th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ally 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 Processing Port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ality to process a single task; Task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ask is complete, closes the page and returns to Task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C19A9-48BB-42B3-B664-0057372EE48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ask List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228600" y="1752480"/>
          <a:ext cx="8763120" cy="36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752480"/>
                    <a:ext cx="8763120" cy="36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152280" y="3886200"/>
            <a:ext cx="1600200" cy="609480"/>
          </a:xfrm>
          <a:prstGeom prst="ellipse">
            <a:avLst/>
          </a:prstGeom>
          <a:noFill/>
          <a:ln w="28440">
            <a:solidFill>
              <a:srgbClr val="ec04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86200" y="2057400"/>
            <a:ext cx="1219320" cy="380880"/>
          </a:xfrm>
          <a:prstGeom prst="ellipse">
            <a:avLst/>
          </a:prstGeom>
          <a:noFill/>
          <a:ln w="28440">
            <a:solidFill>
              <a:srgbClr val="ec04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6320" y="2438280"/>
            <a:ext cx="1218960" cy="381240"/>
          </a:xfrm>
          <a:prstGeom prst="ellipse">
            <a:avLst/>
          </a:prstGeom>
          <a:noFill/>
          <a:ln w="28440">
            <a:solidFill>
              <a:srgbClr val="ec04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066680" y="5105520"/>
            <a:ext cx="2667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cess Starter is displayed to users with Process Admin R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52680" y="4267080"/>
            <a:ext cx="266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ask List shows all assigned Tasks for the logged on 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248520" y="4419720"/>
            <a:ext cx="2666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y Tasks Page is Page linked to from “You have x tasks assigned”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4495680"/>
            <a:ext cx="304920" cy="762120"/>
          </a:xfrm>
          <a:prstGeom prst="line">
            <a:avLst/>
          </a:prstGeom>
          <a:ln w="28440">
            <a:solidFill>
              <a:srgbClr val="ec042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52880" y="2362320"/>
            <a:ext cx="2210040" cy="2057400"/>
          </a:xfrm>
          <a:prstGeom prst="line">
            <a:avLst/>
          </a:prstGeom>
          <a:ln w="28440">
            <a:solidFill>
              <a:srgbClr val="ec042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143000" y="2743200"/>
            <a:ext cx="2209680" cy="1828800"/>
          </a:xfrm>
          <a:prstGeom prst="line">
            <a:avLst/>
          </a:prstGeom>
          <a:ln w="28440">
            <a:solidFill>
              <a:srgbClr val="ec042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CFFA3-D065-467A-97F0-1042E9E1BFB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77724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ask Pag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80880" y="1676520"/>
          <a:ext cx="4953240" cy="28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76520"/>
                    <a:ext cx="4953240" cy="28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990720" y="5334120"/>
          <a:ext cx="7238880" cy="81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5334120"/>
                    <a:ext cx="723888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5081760" y="2814480"/>
          <a:ext cx="3477960" cy="2943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81760" y="2814480"/>
                    <a:ext cx="3477960" cy="29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685800" y="5638680"/>
            <a:ext cx="2057400" cy="381240"/>
          </a:xfrm>
          <a:prstGeom prst="ellipse">
            <a:avLst/>
          </a:prstGeom>
          <a:noFill/>
          <a:ln w="28440">
            <a:solidFill>
              <a:srgbClr val="ec04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800" y="2590920"/>
            <a:ext cx="2057400" cy="380880"/>
          </a:xfrm>
          <a:prstGeom prst="ellipse">
            <a:avLst/>
          </a:prstGeom>
          <a:noFill/>
          <a:ln w="28440">
            <a:solidFill>
              <a:srgbClr val="ec04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76520" y="4114800"/>
            <a:ext cx="1371600" cy="228600"/>
          </a:xfrm>
          <a:prstGeom prst="ellipse">
            <a:avLst/>
          </a:prstGeom>
          <a:noFill/>
          <a:ln w="28440">
            <a:solidFill>
              <a:srgbClr val="ec04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00600" y="4419720"/>
            <a:ext cx="1371600" cy="228600"/>
          </a:xfrm>
          <a:prstGeom prst="ellipse">
            <a:avLst/>
          </a:prstGeom>
          <a:noFill/>
          <a:ln w="28440">
            <a:solidFill>
              <a:srgbClr val="ec04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858360" y="3657600"/>
            <a:ext cx="15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d Portl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410080" y="1752480"/>
            <a:ext cx="3124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fine Task Page under Task Page Definitions - invi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4920" y="449568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ge goes away when task processing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3048120" y="2514240"/>
            <a:ext cx="2438280" cy="1676520"/>
          </a:xfrm>
          <a:prstGeom prst="line">
            <a:avLst/>
          </a:prstGeom>
          <a:ln w="19080">
            <a:solidFill>
              <a:srgbClr val="ec042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886200" y="2514240"/>
            <a:ext cx="1523880" cy="228600"/>
          </a:xfrm>
          <a:prstGeom prst="line">
            <a:avLst/>
          </a:prstGeom>
          <a:ln w="19080">
            <a:solidFill>
              <a:srgbClr val="ec042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685800" y="5105160"/>
            <a:ext cx="76320" cy="685800"/>
          </a:xfrm>
          <a:prstGeom prst="line">
            <a:avLst/>
          </a:prstGeom>
          <a:ln w="19080">
            <a:solidFill>
              <a:srgbClr val="ec042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5943600" y="3885840"/>
            <a:ext cx="990720" cy="609480"/>
          </a:xfrm>
          <a:prstGeom prst="line">
            <a:avLst/>
          </a:prstGeom>
          <a:ln w="19080">
            <a:solidFill>
              <a:srgbClr val="ec042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57D1F-78C2-49B4-AEA7-2E168C6BAD0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ask Processing Portle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990720" y="1676520"/>
          <a:ext cx="7238880" cy="41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7238880" cy="41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6095880" y="4419720"/>
            <a:ext cx="275904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ditional Supporting Portlets can also be on this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C65C9-FCA8-493D-B872-978FEA0F0B3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240" y="289512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evelopmen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7380D-99AB-40CF-94EA-8046FEDDB74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ession Object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426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completing this session, you should be able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235080">
              <a:spcBef>
                <a:spcPts val="349"/>
              </a:spcBef>
              <a:spcAft>
                <a:spcPts val="349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asic Terminology Overview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455760">
              <a:spcBef>
                <a:spcPts val="337"/>
              </a:spcBef>
              <a:spcAft>
                <a:spcPts val="337"/>
              </a:spcAft>
              <a:buClr>
                <a:srgbClr val="7889f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 Processes, Portals, Roles, Process P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235080">
              <a:spcBef>
                <a:spcPts val="349"/>
              </a:spcBef>
              <a:spcAft>
                <a:spcPts val="349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velopment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235080">
              <a:spcBef>
                <a:spcPts val="349"/>
              </a:spcBef>
              <a:spcAft>
                <a:spcPts val="349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ployment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235080">
              <a:spcBef>
                <a:spcPts val="349"/>
              </a:spcBef>
              <a:spcAft>
                <a:spcPts val="349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ortal as the User Interface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952880" y="2362320"/>
            <a:ext cx="3699000" cy="331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D01EE-DE2A-4B21-A80F-250DBDA702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77724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evelopment Tool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ional Application Developer v6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Sphere Studio Application Developer Integration Edition v5.1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BI Modeler &lt;optiona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Sphere Portal and Process Choreograp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ocess Choreographer (BPE) is on server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mbedded Messaging Installed or MQ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uman Task Manager for Abstracting Staff Suppor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6172200" y="4343400"/>
            <a:ext cx="2514600" cy="203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2B8D3-C352-4DBD-BCB0-2CF349E7283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7724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evelopment Rol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2122560" y="2814480"/>
            <a:ext cx="1743120" cy="20815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410080" y="1371600"/>
            <a:ext cx="1868760" cy="17733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5673600" y="4284720"/>
            <a:ext cx="1814760" cy="20127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 flipV="1">
            <a:off x="3352680" y="2666880"/>
            <a:ext cx="198144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581280" y="4038480"/>
            <a:ext cx="1828800" cy="838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79680" y="4873680"/>
            <a:ext cx="41335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cess Desig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t Client UI identif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port classes for complex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181480" y="3124080"/>
            <a:ext cx="33530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rtlet Develo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reates process portlet using Task 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54440" y="121932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rtal Administra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4920" y="1600200"/>
            <a:ext cx="49528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ploys portlet to a page and adds Custom Unique Name = to Client 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ds supporting portle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25ECC-F6AA-4A60-A498-284E198434F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7724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rocess Designer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4467240" cy="495288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666880" y="4419720"/>
            <a:ext cx="1371600" cy="533160"/>
          </a:xfrm>
          <a:prstGeom prst="ellipse">
            <a:avLst/>
          </a:prstGeom>
          <a:noFill/>
          <a:ln w="19080">
            <a:solidFill>
              <a:srgbClr val="ec04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86400" y="4800600"/>
            <a:ext cx="21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entifies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038480" y="4724280"/>
            <a:ext cx="1447920" cy="228600"/>
          </a:xfrm>
          <a:prstGeom prst="line">
            <a:avLst/>
          </a:prstGeom>
          <a:ln w="28440">
            <a:solidFill>
              <a:srgbClr val="ec042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4800600" y="1600200"/>
          <a:ext cx="3505320" cy="186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0600" y="1600200"/>
                    <a:ext cx="3505320" cy="18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4726800" y="3733920"/>
            <a:ext cx="383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el interpreted to .BP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809880" y="3124080"/>
            <a:ext cx="1981440" cy="0"/>
          </a:xfrm>
          <a:prstGeom prst="line">
            <a:avLst/>
          </a:prstGeom>
          <a:ln w="19080">
            <a:solidFill>
              <a:srgbClr val="ec042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2D93E-8D21-4DFC-B6C0-8BF0D668CE8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77724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efining the Client UI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371600" y="1523880"/>
          <a:ext cx="6477120" cy="457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523880"/>
                    <a:ext cx="6477120" cy="45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981080" y="2895480"/>
            <a:ext cx="28116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at runtime in the Portal to look up task pag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133720" y="5181480"/>
            <a:ext cx="5257800" cy="762120"/>
          </a:xfrm>
          <a:prstGeom prst="rect">
            <a:avLst/>
          </a:prstGeom>
          <a:noFill/>
          <a:ln w="28440">
            <a:solidFill>
              <a:srgbClr val="ec04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715000" y="2895480"/>
            <a:ext cx="1371600" cy="457200"/>
          </a:xfrm>
          <a:prstGeom prst="rect">
            <a:avLst/>
          </a:prstGeom>
          <a:noFill/>
          <a:ln w="28440">
            <a:solidFill>
              <a:srgbClr val="ec04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39AE5-24F6-4BB8-B6C8-A6B2788D47B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990720" y="1371600"/>
          <a:ext cx="6887880" cy="486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371600"/>
                    <a:ext cx="6887880" cy="48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560" y="83772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efining the Rol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99840" y="2971440"/>
            <a:ext cx="370044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s Role to Verb. Verb abstracts user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1981080" y="4800600"/>
            <a:ext cx="5334120" cy="155088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2133720" y="4876920"/>
            <a:ext cx="5257800" cy="761760"/>
          </a:xfrm>
          <a:prstGeom prst="rect">
            <a:avLst/>
          </a:prstGeom>
          <a:noFill/>
          <a:ln w="28440">
            <a:solidFill>
              <a:srgbClr val="ec04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715000" y="2590920"/>
            <a:ext cx="1371600" cy="457200"/>
          </a:xfrm>
          <a:prstGeom prst="rect">
            <a:avLst/>
          </a:prstGeom>
          <a:noFill/>
          <a:ln w="28440">
            <a:solidFill>
              <a:srgbClr val="ec04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62ACF-3184-4C97-9D19-FF7EEB71026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ackaging: “ProcessEAR”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37004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ervice Project to package the artif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processes (.bpel) in defined pack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SDL to describe the interface to the process itse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JB/RDB Mapp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d Deploy Co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ort all packages without *_msg and create a JAR to be added to Portlet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4495680" y="2057400"/>
          <a:ext cx="4191120" cy="33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2057400"/>
                    <a:ext cx="4191120" cy="33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"/>
          <p:cNvSpPr/>
          <p:nvPr/>
        </p:nvSpPr>
        <p:spPr>
          <a:xfrm>
            <a:off x="609480" y="4495680"/>
            <a:ext cx="3810240" cy="1143000"/>
          </a:xfrm>
          <a:prstGeom prst="rect">
            <a:avLst/>
          </a:prstGeom>
          <a:noFill/>
          <a:ln w="28440">
            <a:solidFill>
              <a:srgbClr val="ec04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7FA59-F516-45A1-8539-D58676A222A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eploying the Proces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BI SF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ing insta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DB created (default is Cloudscap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PE and HumanTask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4114800" y="1752480"/>
          <a:ext cx="4191120" cy="285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752480"/>
                    <a:ext cx="4191120" cy="28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4419720" y="3962520"/>
          <a:ext cx="4495680" cy="226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3962520"/>
                    <a:ext cx="4495680" cy="22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9686E-A605-4478-895D-0021B2541F1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28240" y="289512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ortlet Developmen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A5CEE-659C-4682-8390-32F301234BC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9" name=""/>
          <p:cNvGraphicFramePr/>
          <p:nvPr/>
        </p:nvGraphicFramePr>
        <p:xfrm>
          <a:off x="152280" y="4038480"/>
          <a:ext cx="3810240" cy="188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38480"/>
                    <a:ext cx="3810240" cy="18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77724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rocess Starter Portle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3429000" y="1828800"/>
          <a:ext cx="5486400" cy="425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1828800"/>
                    <a:ext cx="5486400" cy="42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228600" y="1447920"/>
          <a:ext cx="3962520" cy="2359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447920"/>
                    <a:ext cx="3962520" cy="23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3886200" y="5181480"/>
            <a:ext cx="4038480" cy="533520"/>
          </a:xfrm>
          <a:prstGeom prst="ellipse">
            <a:avLst/>
          </a:prstGeom>
          <a:noFill/>
          <a:ln w="28440">
            <a:solidFill>
              <a:srgbClr val="ec04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52280" y="4800600"/>
            <a:ext cx="3200400" cy="1295280"/>
          </a:xfrm>
          <a:prstGeom prst="rect">
            <a:avLst/>
          </a:prstGeom>
          <a:noFill/>
          <a:ln w="28440">
            <a:solidFill>
              <a:srgbClr val="ec04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3962160" y="3657240"/>
            <a:ext cx="75960" cy="1676520"/>
          </a:xfrm>
          <a:prstGeom prst="line">
            <a:avLst/>
          </a:prstGeom>
          <a:ln w="9360">
            <a:solidFill>
              <a:srgbClr val="ec042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038480" y="2666880"/>
            <a:ext cx="4038840" cy="533520"/>
          </a:xfrm>
          <a:prstGeom prst="ellipse">
            <a:avLst/>
          </a:prstGeom>
          <a:noFill/>
          <a:ln w="28440">
            <a:solidFill>
              <a:srgbClr val="ec04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C3F84-CD84-423A-AB3D-8041F5BD28A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0" name=""/>
          <p:cNvGraphicFramePr/>
          <p:nvPr/>
        </p:nvGraphicFramePr>
        <p:xfrm>
          <a:off x="2971800" y="4114800"/>
          <a:ext cx="5867280" cy="175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4114800"/>
                    <a:ext cx="5867280" cy="17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77724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ask Processing Portle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51920" y="144792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 API, Task UI Manager API, Property Broker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12"/>
              </a:spcBef>
              <a:spcAft>
                <a:spcPts val="312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ceives from Task List through wiring: ReturnPageID, TaskID, TaskUIHandl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12"/>
              </a:spcBef>
              <a:spcAft>
                <a:spcPts val="312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ocesses the Task by obtaining TaskManagerDelegate. Dynamically set the “OutputMessage”, then closes the page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4648320" y="1676520"/>
          <a:ext cx="4006800" cy="22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676520"/>
                    <a:ext cx="40068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"/>
          <p:cNvSpPr/>
          <p:nvPr/>
        </p:nvSpPr>
        <p:spPr>
          <a:xfrm>
            <a:off x="3886200" y="5410080"/>
            <a:ext cx="4876920" cy="533520"/>
          </a:xfrm>
          <a:prstGeom prst="rect">
            <a:avLst/>
          </a:prstGeom>
          <a:noFill/>
          <a:ln w="28440">
            <a:solidFill>
              <a:srgbClr val="ec04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809880" y="4648320"/>
            <a:ext cx="5105520" cy="228600"/>
          </a:xfrm>
          <a:prstGeom prst="rect">
            <a:avLst/>
          </a:prstGeom>
          <a:noFill/>
          <a:ln w="19080">
            <a:solidFill>
              <a:srgbClr val="ec04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5791320" y="3276720"/>
            <a:ext cx="838080" cy="1371600"/>
          </a:xfrm>
          <a:prstGeom prst="line">
            <a:avLst/>
          </a:prstGeom>
          <a:ln w="9360">
            <a:solidFill>
              <a:srgbClr val="ec042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53B5E-3416-43C3-B7CB-B1CCCA7B237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5410080" y="2811600"/>
            <a:ext cx="3429000" cy="3208320"/>
            <a:chOff x="5410080" y="2811600"/>
            <a:chExt cx="3429000" cy="3208320"/>
          </a:xfrm>
        </p:grpSpPr>
        <p:pic>
          <p:nvPicPr>
            <p:cNvPr id="115" name="" descr=""/>
            <p:cNvPicPr/>
            <p:nvPr/>
          </p:nvPicPr>
          <p:blipFill>
            <a:blip r:embed="rId1"/>
            <a:stretch/>
          </p:blipFill>
          <p:spPr>
            <a:xfrm>
              <a:off x="5410080" y="2811600"/>
              <a:ext cx="3429000" cy="32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6768720" y="4159080"/>
              <a:ext cx="738360" cy="44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s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rt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255720" y="3152880"/>
              <a:ext cx="1491480" cy="68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gr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bSphere Por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555520" y="3957480"/>
              <a:ext cx="1082520" cy="87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abor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tif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munic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624800" y="4073040"/>
              <a:ext cx="1035000" cy="77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sonaliz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s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335640" y="5167080"/>
              <a:ext cx="1558080" cy="68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ecute/Moni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Process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7724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otivation for a Process Portal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5867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ing good business processes is not en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icient execution is becoming a key factor of su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12"/>
              </a:spcBef>
              <a:spcAft>
                <a:spcPts val="312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ovide access to everybody – employees, customers, supplier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12"/>
              </a:spcBef>
              <a:spcAft>
                <a:spcPts val="312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esent the staff tasks to the right people at the right tim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12"/>
              </a:spcBef>
              <a:spcAft>
                <a:spcPts val="312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utomatic person fail-over for approva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s coming toge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12"/>
              </a:spcBef>
              <a:spcAft>
                <a:spcPts val="312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JSR 168 – Portlet Specific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12"/>
              </a:spcBef>
              <a:spcAft>
                <a:spcPts val="312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JSR 170 – Java Content Repositor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12"/>
              </a:spcBef>
              <a:spcAft>
                <a:spcPts val="312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JSR 172 – Web Servic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12"/>
              </a:spcBef>
              <a:spcAft>
                <a:spcPts val="312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BPEL4WS – Now BP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spcAft>
                <a:spcPts val="3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02514-FF19-49EA-AD42-42BA2016C6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eploy to Portal Server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4191120" cy="287496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5081760" y="1949400"/>
            <a:ext cx="2882880" cy="232416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304920" y="2590920"/>
            <a:ext cx="2209680" cy="533160"/>
          </a:xfrm>
          <a:prstGeom prst="ellipse">
            <a:avLst/>
          </a:prstGeom>
          <a:noFill/>
          <a:ln w="28440">
            <a:solidFill>
              <a:srgbClr val="ec04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648320" y="3048120"/>
            <a:ext cx="2438280" cy="685800"/>
          </a:xfrm>
          <a:prstGeom prst="ellipse">
            <a:avLst/>
          </a:prstGeom>
          <a:noFill/>
          <a:ln w="28440">
            <a:solidFill>
              <a:srgbClr val="ec04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3"/>
          <a:stretch/>
        </p:blipFill>
        <p:spPr>
          <a:xfrm>
            <a:off x="2971800" y="4191120"/>
            <a:ext cx="5562720" cy="19382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2514600" y="4114800"/>
            <a:ext cx="2438280" cy="685800"/>
          </a:xfrm>
          <a:prstGeom prst="ellipse">
            <a:avLst/>
          </a:prstGeom>
          <a:noFill/>
          <a:ln w="28440">
            <a:solidFill>
              <a:srgbClr val="ec04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4C52D-E552-4819-B05D-A2AC68EEBD5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28240" y="289512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dditional Consideration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244DF-AD05-4894-BCAD-694A203C6C7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77724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atabase and Security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spcAft>
                <a:spcPts val="52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ault is Cloudsc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complete EJB to RDB mapping to use other DBs. (more lik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the DataSource n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spcAft>
                <a:spcPts val="52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Security enabled to display users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B6B51-F94D-4C46-BD0B-2CE19A50891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77724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xamp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08120" y="1554120"/>
            <a:ext cx="7788240" cy="46706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2509920" y="5172120"/>
            <a:ext cx="2930400" cy="268200"/>
          </a:xfrm>
          <a:prstGeom prst="ellipse">
            <a:avLst/>
          </a:prstGeom>
          <a:noFill/>
          <a:ln w="22320">
            <a:solidFill>
              <a:srgbClr val="ec04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17840" y="5780160"/>
            <a:ext cx="2930400" cy="268200"/>
          </a:xfrm>
          <a:prstGeom prst="ellipse">
            <a:avLst/>
          </a:prstGeom>
          <a:noFill/>
          <a:ln w="22320">
            <a:solidFill>
              <a:srgbClr val="ec04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A4EC4-D1D1-4D46-9C1D-2F4733CC255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4679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andling Faults &amp; Compensation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5484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ul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 task cannot be completed a Web Services fault can be thrown (Java Exception) This needs to be hand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n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abandon a process but must instead behave transactionally. Rollback or Rollback to a certain poi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handle Faults and Compensations by adding Staff Support. Ex. When the Flight is not available, a Reservation Assistant will make a call to the Individual and ask to schedule on another day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7C61A-A1FA-4327-9082-3BEDBAD0026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ompensation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33520" y="1295280"/>
          <a:ext cx="4800600" cy="495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95280"/>
                    <a:ext cx="4800600" cy="495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"/>
          <p:cNvSpPr/>
          <p:nvPr/>
        </p:nvSpPr>
        <p:spPr>
          <a:xfrm>
            <a:off x="1295280" y="5562720"/>
            <a:ext cx="4114800" cy="304560"/>
          </a:xfrm>
          <a:prstGeom prst="ellipse">
            <a:avLst/>
          </a:prstGeom>
          <a:noFill/>
          <a:ln w="28440">
            <a:solidFill>
              <a:srgbClr val="ec04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562720" y="1981080"/>
            <a:ext cx="327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 Default the Process will not track the changes they will make to the backend system. So you have to tell the entire process to keep track of chang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809880" y="1295280"/>
            <a:ext cx="1219320" cy="381240"/>
          </a:xfrm>
          <a:prstGeom prst="ellipse">
            <a:avLst/>
          </a:prstGeom>
          <a:noFill/>
          <a:ln w="28440">
            <a:solidFill>
              <a:srgbClr val="ec04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 flipV="1">
            <a:off x="4952880" y="1600200"/>
            <a:ext cx="914400" cy="380880"/>
          </a:xfrm>
          <a:prstGeom prst="line">
            <a:avLst/>
          </a:prstGeom>
          <a:ln w="28440">
            <a:solidFill>
              <a:srgbClr val="ec042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7B5E6-608D-412C-9481-00AAD402966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5133960" cy="571500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ault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4343400"/>
            <a:ext cx="1371600" cy="533520"/>
          </a:xfrm>
          <a:prstGeom prst="ellipse">
            <a:avLst/>
          </a:prstGeom>
          <a:noFill/>
          <a:ln w="28440">
            <a:solidFill>
              <a:srgbClr val="ec04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410080" y="1600200"/>
            <a:ext cx="3353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ll throw a “NoUpgradesAvailable” Java exception. Written to SystemOut.log. Handle it with Staff to approve or re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828800" y="3352680"/>
            <a:ext cx="380880" cy="304920"/>
          </a:xfrm>
          <a:prstGeom prst="ellipse">
            <a:avLst/>
          </a:prstGeom>
          <a:noFill/>
          <a:ln w="28440">
            <a:solidFill>
              <a:srgbClr val="ec04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133720" y="3657600"/>
            <a:ext cx="152280" cy="533520"/>
          </a:xfrm>
          <a:prstGeom prst="line">
            <a:avLst/>
          </a:prstGeom>
          <a:ln w="9360">
            <a:solidFill>
              <a:srgbClr val="ec042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3E741-B786-496A-82A7-1875C6C1AE1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ession Summary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754848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w that you have completed this session, you should be able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37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 the basic concepts behind the Process Por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37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able to see value in the Role based Human Interface aspect of the Por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37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Development Roles, Tools and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264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0979A-8198-4D16-999B-9184092A6FC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Lab Exercise 1.x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85760" y="1776240"/>
            <a:ext cx="754848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 1.x – Process Por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337"/>
              </a:spcBef>
              <a:spcAft>
                <a:spcPts val="337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Process Starter Port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337"/>
              </a:spcBef>
              <a:spcAft>
                <a:spcPts val="337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Task Processing Port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337"/>
              </a:spcBef>
              <a:spcAft>
                <a:spcPts val="337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loy Task – related Port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337"/>
              </a:spcBef>
              <a:spcAft>
                <a:spcPts val="337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 Portal Administrative Tasks to handle Task Process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337"/>
              </a:spcBef>
              <a:spcAft>
                <a:spcPts val="337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out the Task Processing Port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079B1-11A4-4CD4-B8D0-410B50A862E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240" y="289512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efinitions: Business Process Engine (BPE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FEB12-5AFD-4343-8DDC-EBEB3015CB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PEL (Business Process Execution Languag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54848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al specification of business processes and business interaction protoco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337"/>
              </a:spcBef>
              <a:spcAft>
                <a:spcPts val="337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s Web Services interaction model for business transaction suppor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able and Abstract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337"/>
              </a:spcBef>
              <a:spcAft>
                <a:spcPts val="337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 allow business to exchange messages w/o revealing behavior of involved pa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s sequencing of process activities, correlation, recovery for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ff” is an ex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6320" y="5105520"/>
            <a:ext cx="3352680" cy="11430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28600" y="5257800"/>
            <a:ext cx="520560" cy="4572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62120" y="5181480"/>
            <a:ext cx="243828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Rece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Wait for a message to arrive. Optionally start a new process instance when the message arr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8120" y="5105520"/>
            <a:ext cx="3352680" cy="11430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124080" y="5238720"/>
            <a:ext cx="559080" cy="5526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019920" y="5105520"/>
            <a:ext cx="3047760" cy="11430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6095880" y="5257800"/>
            <a:ext cx="457200" cy="4078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553080" y="5181480"/>
            <a:ext cx="2438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Synchronizes two activities that are enclosed in a Flow (i.e, enforces a certain execution orde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657600" y="5181480"/>
            <a:ext cx="243828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vo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nvoke a one-way or a request-response operation offered by a part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B5EAA-E18E-4E4F-A3AC-FA62C04CFB5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Proces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/ sequence of activities or tasks that follow certain rules and conditions to achieve a business obj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Model is a template from which each process is instanti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es can be non-interruptible (short) or interruptible (lo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interruptible processes, like loan approval, can have tasks requiring human inter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tasks defined in the process model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ff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3223D-910B-4689-B58E-241726D79F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Non-Interruptible   vs. 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      Interruptible Process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38862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flows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235080">
              <a:spcBef>
                <a:spcPts val="312"/>
              </a:spcBef>
              <a:spcAft>
                <a:spcPts val="312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hort runn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235080">
              <a:spcBef>
                <a:spcPts val="312"/>
              </a:spcBef>
              <a:spcAft>
                <a:spcPts val="312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akes some input parameters and the caller waits while the synchronous process executes and returns a resul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235080">
              <a:spcBef>
                <a:spcPts val="312"/>
              </a:spcBef>
              <a:spcAft>
                <a:spcPts val="312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ngle Transaction; no transactional stat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235080">
              <a:spcBef>
                <a:spcPts val="312"/>
              </a:spcBef>
              <a:spcAft>
                <a:spcPts val="312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oes not support human interaction at any point or asynchronous process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48320" y="1447920"/>
            <a:ext cx="335268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ng-running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12"/>
              </a:spcBef>
              <a:spcAft>
                <a:spcPts val="312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Sequence of transactions chained together through JMS messages; current state is kept by the BP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12"/>
              </a:spcBef>
              <a:spcAft>
                <a:spcPts val="312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Kicked off by an API call, JMS Message, SOAP service request; can last days, weeks…can span downtimes of the host environm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12"/>
              </a:spcBef>
              <a:spcAft>
                <a:spcPts val="312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Involve asynchronous service invocations, human interaction,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495288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  <a:ea typeface="Arial"/>
              </a:rPr>
              <a:t>Ex. Deposit Money in a Checking 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7280" y="5810400"/>
            <a:ext cx="30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  <a:ea typeface="Arial"/>
              </a:rPr>
              <a:t>Ex. Home Loa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A02D1-C098-4671-8697-F089D15563A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PE – Staff Suppor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49568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ff activity is not executed by a piece of code but rather performed through the interaction of a particular person through a GUI, in this case Port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ople are assigned to Staff Activities through Staff Qu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235080">
              <a:spcBef>
                <a:spcPts val="349"/>
              </a:spcBef>
              <a:spcAft>
                <a:spcPts val="349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solved against an organizational directory and return a list of peop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can ex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as long running as humans don’t operate in milliseco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5562720" y="1600200"/>
          <a:ext cx="3208320" cy="456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600200"/>
                    <a:ext cx="3208320" cy="456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BD2CC-EB5F-40B5-BF50-EAB44FC6788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taff – Verb Suppor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647676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tracts queries from underlying user repository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of predefined staff query ver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body does not work for Portal. Must define an actual Ow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2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52280" y="4191120"/>
            <a:ext cx="6172200" cy="19303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191120" y="3276720"/>
            <a:ext cx="4824360" cy="1906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+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4F74A-06DB-414F-A93D-7DBDB80F69D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5T19:16:15Z</dcterms:created>
  <dc:creator>Alex Butterfield</dc:creator>
  <dc:description/>
  <dc:language>en-US</dc:language>
  <cp:lastModifiedBy>IBM_User</cp:lastModifiedBy>
  <dcterms:modified xsi:type="dcterms:W3CDTF">2005-08-26T00:57:19Z</dcterms:modified>
  <cp:revision>63</cp:revision>
  <dc:subject/>
  <dc:title>Slide 1</dc:title>
</cp:coreProperties>
</file>