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3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4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5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5BECB4-F132-44FF-938E-8FB0DCC94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F4C895-57AC-4FDE-AC68-B193F9891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F383EA-CCF4-49B1-B81A-777E3EFA0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ividual “chunks” of data or busines objects.  A Business Object would be 1 row from a table, one Form from a domino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business objects have to coinform to the Business Object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can Update or delete themselc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a bit like EJ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ed by Bus Obj Adapter for use by the Portlet in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is simply a collection of properties but the proberties each have a fixed set of meta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for JDBC each object would represent a row, each property a colum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3701D0-FBDC-4EB7-A359-2493E8B3C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49B03B-068F-4622-AD2D-6111CE03F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3718C3-3177-479F-91AC-88F5AEA87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977184-8612-46CE-9734-8D1CCDE41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BEF090-720F-48A4-913A-01E2B2090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29880" y="4404960"/>
            <a:ext cx="51246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of using the code is left to a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48FAE6-FD4C-4E51-9B4D-0FC32E71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AI Architecture is an IBM proprietary architecture that is not yet fully docum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available on WP 4.2 as well as WP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2E1FFC-7AB1-4A2F-8238-5CB1C63F6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ut of the box user ready portlets that use the WPAI architecture are incl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486023-16A4-4CDD-B594-01AC55D87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Back ends (JDBC, Domino or the enterprise Applications) are presented as a Business Object Adapter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pecific Business Object Adapter is needed for each Back end Business Object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I templates represent a particular “style” of UI inete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 you could define a UI Template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k in a searchable key fiel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layed summary for all thos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ed for DELETE confi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ete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“Mass Delete” UI template could be applied to any BO Adap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cumentation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A23248-F9E0-4F1B-A525-E4C3D95B1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 User interacts with the Application Portlet Builder. – which is “just”  a port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pplication Portlet Builder communicates to the Business Object adapter to build a list of options for the builder and continues to run a dialogue appropriate for that bui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 JDBC – search and 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the creation of Configuration Data and selection of a User Interaction Temp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B264B8-5E6D-488D-B8B4-9F2CBFF29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 User interacts with the Application Portlet Bui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the creation of Configuration Data and selection of a User Interaction Temp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CD8D-E051-4D1A-873C-030BE4015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BBA8-58AB-47A1-B1C5-A7A4A9840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4CF5-186E-43FE-ABC4-D770B53C3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1051-E664-4059-9745-11B05DB75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C0A0-3171-4353-B3F6-802CE0910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8CF5-68EA-4D4A-A2A2-E8C59E9CD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D721-BEA8-45BC-BC63-EEDCAE88D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9524-E94B-4379-A87E-A2CEEA3EA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ABB2-6E79-450B-8333-B2A8ADFCC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EC03-5CDF-4547-B83D-6EC774AAB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BE8D-DA1B-4819-9F93-EF515FED5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50C0-1B2B-4359-A6E5-1FB75B61A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064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17640" y="6442200"/>
            <a:ext cx="916020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36760" y="123840"/>
            <a:ext cx="61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| Lotus softwa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327880" y="6529320"/>
            <a:ext cx="673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9ADC-F705-4E9E-9B70-6AD84BC098A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52280" y="652932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876920" y="6529320"/>
            <a:ext cx="297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ebSphere Portlet Application Integ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53040"/>
            <a:ext cx="9144000" cy="17604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659640" y="5214960"/>
            <a:ext cx="2162160" cy="39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7640" y="4776840"/>
            <a:ext cx="9160200" cy="37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0" r="-104122" b="-43386"/>
          <a:stretch/>
        </p:blipFill>
        <p:spPr>
          <a:xfrm>
            <a:off x="1890720" y="4164120"/>
            <a:ext cx="2984400" cy="4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74120" y="687240"/>
            <a:ext cx="1162080" cy="559440"/>
            <a:chOff x="7674120" y="687240"/>
            <a:chExt cx="1162080" cy="559440"/>
          </a:xfrm>
        </p:grpSpPr>
        <p:pic>
          <p:nvPicPr>
            <p:cNvPr id="53" name="" descr=""/>
            <p:cNvPicPr/>
            <p:nvPr/>
          </p:nvPicPr>
          <p:blipFill>
            <a:blip r:embed="rId5"/>
            <a:srcRect l="0" t="0" r="6463" b="0"/>
            <a:stretch/>
          </p:blipFill>
          <p:spPr>
            <a:xfrm>
              <a:off x="7674120" y="687240"/>
              <a:ext cx="1003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606160" y="96984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130176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8874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550280" y="3762360"/>
            <a:ext cx="1420560" cy="95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33640" y="5638680"/>
            <a:ext cx="523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 Proof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280" y="6408720"/>
            <a:ext cx="622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M Product Introduction + Expl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550280" y="3762360"/>
            <a:ext cx="1420560" cy="95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33640" y="5638680"/>
            <a:ext cx="523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 Proof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280" y="6408720"/>
            <a:ext cx="622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M Product Introduction + Expl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phere Portlet Application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bSphere Portal Server v5.1.0.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Object Adapt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1520" y="1507680"/>
            <a:ext cx="73486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rs are implemented per back-end 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responsible for communication to back-end by using J2EE resource adapters (J2EE Connector Architecture - JCA) in WA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used by Portlet Builders to discover and explore the Business objects available, and to determine the parameterization nee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used by the Application Portlet instances as Business Object factori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Portal supplies Business Object Adapter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762120"/>
            <a:ext cx="2759040" cy="636480"/>
          </a:xfrm>
          <a:custGeom>
            <a:avLst/>
            <a:gdLst>
              <a:gd name="textAreaLeft" fmla="*/ 606600 w 2759040"/>
              <a:gd name="textAreaRight" fmla="*/ 2152440 w 2759040"/>
              <a:gd name="textAreaTop" fmla="*/ 140040 h 636480"/>
              <a:gd name="textAreaBottom" fmla="*/ 496440 h 63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Objec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954F-34DB-4B10-A028-255E5B9034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Objects – what are they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1520" y="1595520"/>
            <a:ext cx="76993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are representations of objects in a “Back-End” system, all Business Objects, of whatever Type (JDBC, Domino etc)  have certain common character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have a fixed set of valid operations associated with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, Retrieve, Update and Dele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consist of collections of properties and metadata about the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abel (locale specif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ype – String, Integer, Float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ing WPAI Compliant Model – we allow for nested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key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primary key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required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computed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n have multiple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761160" y="317520"/>
            <a:ext cx="2048040" cy="812880"/>
            <a:chOff x="6761160" y="317520"/>
            <a:chExt cx="2048040" cy="812880"/>
          </a:xfrm>
        </p:grpSpPr>
        <p:sp>
          <p:nvSpPr>
            <p:cNvPr id="193" name=""/>
            <p:cNvSpPr/>
            <p:nvPr/>
          </p:nvSpPr>
          <p:spPr>
            <a:xfrm>
              <a:off x="8783640" y="317520"/>
              <a:ext cx="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61160" y="636480"/>
              <a:ext cx="1754280" cy="493920"/>
            </a:xfrm>
            <a:prstGeom prst="flowChartPreparation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15240" y="596880"/>
              <a:ext cx="1754280" cy="493560"/>
            </a:xfrm>
            <a:prstGeom prst="flowChartPreparation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54920" y="558720"/>
              <a:ext cx="1754280" cy="493920"/>
            </a:xfrm>
            <a:prstGeom prst="flowChartPreparation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BB34-EC5B-4FE6-8143-BDFB1AA18A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UI Templa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1520" y="1393920"/>
            <a:ext cx="73486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 Templates are generic user interfaces that allow users to work with Business Objects; e.g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f-service template allows users to view Business Object instances they are permitted to see and update them if all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-and-browse template allows users to search and view details of Business Object instances to locate information they requi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 Templates rely on homogeneity of Business Obje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Business Objects support the same fixed set of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Business Objects have the same set of meta-data attribut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 Templates may allow for customization in a manner that is specific to them; e.g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look-and-feel sc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isable/enable sub-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838080"/>
            <a:ext cx="1114560" cy="530280"/>
          </a:xfrm>
          <a:prstGeom prst="foldedCorner">
            <a:avLst>
              <a:gd name="adj" fmla="val 12500"/>
            </a:avLst>
          </a:prstGeom>
          <a:solidFill>
            <a:srgbClr val="e1e1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I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7A7C-E231-4A8C-91EA-5EDFBCA409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Portlet Inst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120" y="146988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let instances bind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ustomized UI Templ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ustomized Business Object type obtained from a specific Adapt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ation of Business Objects involves overriding and/or augmenting meta-data attributes associated with its fields; e.g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ing some fields invi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ng which fields appear in a summary view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PAI ships with a number of pre-built instances with Adap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out-of-the-box function for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ver commonly used functions of back-end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609480"/>
            <a:ext cx="1992240" cy="935280"/>
          </a:xfrm>
          <a:prstGeom prst="flowChartAlternateProcess">
            <a:avLst/>
          </a:prstGeom>
          <a:solidFill>
            <a:srgbClr val="b3ff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 Portlet 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D991-67E9-4A66-9D2E-45C808C444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Portlet Build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120" y="1431720"/>
            <a:ext cx="7348680" cy="44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for Business Power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oding 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-and-click interfa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uilder per back-end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, Siebel builder, PeopleSoft builder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s all portlet instances corresponding to back-end appli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customize pre-built portlet in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 UI Template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 Business Object meta-data attribut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create new portlet in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Business Object type and set/change meta-data attribu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UI Template and set/change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61160" y="714600"/>
            <a:ext cx="1843200" cy="580680"/>
          </a:xfrm>
          <a:prstGeom prst="flowChartProcess">
            <a:avLst/>
          </a:prstGeom>
          <a:solidFill>
            <a:srgbClr val="7889f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pplication Portlet Bui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FB70-DF7E-4F4D-B8DC-984D09A315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curity in the WPA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120" y="1393560"/>
            <a:ext cx="7348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lect from following schemes for Application Portlet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back-end user id and password for all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end user id and password same as the one for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cit use of portal credential vaul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 automatically created for back-end user id/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 use of portal credential v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slot used for retrieving back-end user id/passwo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ortlet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s super-user id/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to be able to discover all Business Object types and associated meta-data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F2DD-AE2A-44EB-B5A6-20909DB862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120" y="1355400"/>
            <a:ext cx="7348680" cy="29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Architecture of WP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Portlet Builders are used to construct new Portlets without program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4329-E4DE-41C9-834F-AE3CAAE6C2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ab 2.5 – WebSphere Portal Application Integrator: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34832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 Key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JDBC Builder to create a Por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ing Data from a DB2 Dat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‘People Awareness’ to your Por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E903-89FD-4890-BA56-9D47D7A011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ssion 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ng this session, you should be able to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n overview of WPAI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existing architecture and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2B9A-0794-42C5-AC16-525842341E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74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WebSphere Portal Application Integra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WPA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let Build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426960" y="6574680"/>
            <a:ext cx="1939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F3E7-62E7-4628-96BE-15CF763325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5520" y="6631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PAI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7440" y="1123560"/>
            <a:ext cx="73486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AI designed for rapidly creating Portlets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end business applications and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formation Systems – SAP, Siebel, PeopleSoft, Oracle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al Databases – DB2, Oracle, Informix, SQL Server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applications – Domino, Ariba, Documentum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AI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number of portlets providing access to data and applications from major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and easy to use portlet build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or Business Power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of new portle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 and customization of portlets without 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imilar function in Studio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or Develo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good starting point for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for complete customization of portl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EAD9-B013-4FB9-A66C-5750628A0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liverab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7440" y="1355760"/>
            <a:ext cx="73486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-of-the-box port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lets can be installed and used immedi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let Bui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ower users use these portlets to create new portl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eed for programmers to write low-level functions for connections, security, data bean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usability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sign-on using the portal credential v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support for Click-2-Action and People 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d for pervasive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7A34-6455-4B69-9A72-36014221C0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7440" y="1355760"/>
            <a:ext cx="734868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 Adapter 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psulates back-end specifi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repositories of business objects with a common set of methods for accessing and manipul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 Template 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s generic user interfaces that allow users to work with business objects in different 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ser coupling between user interface and back-end specif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user interfaces to be reused across back-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0344-8752-4D15-A013-C6CA9A0970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5520" y="808200"/>
            <a:ext cx="8467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ower User – Creates Portlet Instan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87800" y="4040280"/>
            <a:ext cx="0" cy="268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81560" y="2776680"/>
            <a:ext cx="2235240" cy="8064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uilder chooses and configures BO Adapter and UI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00160" y="2046240"/>
            <a:ext cx="1843200" cy="614520"/>
          </a:xfrm>
          <a:prstGeom prst="wedgeEllipseCallout">
            <a:avLst>
              <a:gd name="adj1" fmla="val -40351"/>
              <a:gd name="adj2" fmla="val 99611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uilder itself runs as a port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3680" y="3487680"/>
            <a:ext cx="8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wer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1840" y="2911320"/>
          <a:ext cx="77004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911320"/>
                    <a:ext cx="770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996920" y="2973600"/>
            <a:ext cx="1843200" cy="580680"/>
          </a:xfrm>
          <a:prstGeom prst="flowChartProcess">
            <a:avLst/>
          </a:prstGeom>
          <a:solidFill>
            <a:srgbClr val="7889f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rtlet Bui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1480" y="5041800"/>
            <a:ext cx="1992600" cy="935280"/>
          </a:xfrm>
          <a:prstGeom prst="flowChartAlternateProcess">
            <a:avLst/>
          </a:prstGeom>
          <a:solidFill>
            <a:srgbClr val="b3ff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 Portlet 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86120" y="5117040"/>
            <a:ext cx="2568600" cy="773640"/>
          </a:xfrm>
          <a:prstGeom prst="parallelogram">
            <a:avLst>
              <a:gd name="adj" fmla="val 83004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 Portlet 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27480" y="1832040"/>
            <a:ext cx="2759040" cy="636480"/>
          </a:xfrm>
          <a:custGeom>
            <a:avLst/>
            <a:gdLst>
              <a:gd name="textAreaLeft" fmla="*/ 606600 w 2759040"/>
              <a:gd name="textAreaRight" fmla="*/ 2152440 w 2759040"/>
              <a:gd name="textAreaTop" fmla="*/ 140040 h 636480"/>
              <a:gd name="textAreaBottom" fmla="*/ 496440 h 63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Objec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48320" y="3962520"/>
            <a:ext cx="1422360" cy="793800"/>
            <a:chOff x="4648320" y="3962520"/>
            <a:chExt cx="1422360" cy="793800"/>
          </a:xfrm>
        </p:grpSpPr>
        <p:sp>
          <p:nvSpPr>
            <p:cNvPr id="134" name=""/>
            <p:cNvSpPr/>
            <p:nvPr/>
          </p:nvSpPr>
          <p:spPr>
            <a:xfrm>
              <a:off x="5454720" y="4219560"/>
              <a:ext cx="0" cy="53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48320" y="4146480"/>
              <a:ext cx="1114200" cy="530280"/>
            </a:xfrm>
            <a:prstGeom prst="foldedCorner">
              <a:avLst>
                <a:gd name="adj" fmla="val 12500"/>
              </a:avLst>
            </a:prstGeom>
            <a:solidFill>
              <a:srgbClr val="e1e1e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2400" y="4068720"/>
              <a:ext cx="1114200" cy="530280"/>
            </a:xfrm>
            <a:prstGeom prst="foldedCorner">
              <a:avLst>
                <a:gd name="adj" fmla="val 12500"/>
              </a:avLst>
            </a:prstGeom>
            <a:solidFill>
              <a:srgbClr val="e1e1e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56120" y="3962520"/>
              <a:ext cx="1114560" cy="530280"/>
            </a:xfrm>
            <a:prstGeom prst="foldedCorner">
              <a:avLst>
                <a:gd name="adj" fmla="val 12500"/>
              </a:avLst>
            </a:prstGeom>
            <a:solidFill>
              <a:srgbClr val="e1e1e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I 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1752480" y="3581280"/>
            <a:ext cx="1113120" cy="142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82880" y="3583080"/>
            <a:ext cx="1112760" cy="142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809880"/>
            <a:ext cx="2404800" cy="730440"/>
          </a:xfrm>
          <a:prstGeom prst="wedgeEllipseCallout">
            <a:avLst>
              <a:gd name="adj1" fmla="val 13500"/>
              <a:gd name="adj2" fmla="val 23259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uilder generates configuration data for a portlet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843360" y="2314080"/>
            <a:ext cx="922320" cy="884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97160"/>
            <a:ext cx="922320" cy="88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13560" y="1778040"/>
            <a:ext cx="1552680" cy="9018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ack-end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2238480"/>
            <a:ext cx="960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38240" y="3274920"/>
            <a:ext cx="960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EE0F-9C19-4017-AE8D-12D78C2486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ortal Administrator – Places new Portlet on Pag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84840" y="523404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80880" y="3657600"/>
          <a:ext cx="67176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657600"/>
                    <a:ext cx="671760" cy="6285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27160" y="4541760"/>
            <a:ext cx="160164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3429000"/>
            <a:ext cx="1992240" cy="934920"/>
          </a:xfrm>
          <a:prstGeom prst="flowChartAlternateProcess">
            <a:avLst/>
          </a:prstGeom>
          <a:solidFill>
            <a:srgbClr val="b3ff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min Portl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2320" y="3924360"/>
            <a:ext cx="73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038480"/>
            <a:ext cx="22543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1447920"/>
            <a:ext cx="2000160" cy="698400"/>
          </a:xfrm>
          <a:prstGeom prst="wedgeEllipseCallout">
            <a:avLst>
              <a:gd name="adj1" fmla="val -16032"/>
              <a:gd name="adj2" fmla="val 11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oks to administrator like any other Concrete Portle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666880"/>
            <a:ext cx="1992240" cy="935280"/>
          </a:xfrm>
          <a:prstGeom prst="flowChartAlternateProcess">
            <a:avLst/>
          </a:prstGeom>
          <a:solidFill>
            <a:srgbClr val="b3ff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 Portlet 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6720" y="4158360"/>
            <a:ext cx="1637640" cy="1587960"/>
          </a:xfrm>
          <a:prstGeom prst="verticalScroll">
            <a:avLst>
              <a:gd name="adj" fmla="val 12500"/>
            </a:avLst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g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por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35053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886200" y="3123720"/>
            <a:ext cx="20257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32AC-9A09-4740-A872-C3FBDD0DC2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720" y="807840"/>
            <a:ext cx="8467560" cy="48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d User – Executes Portlet Instan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31080" y="1700280"/>
            <a:ext cx="1920600" cy="806400"/>
          </a:xfrm>
          <a:prstGeom prst="wedgeEllipseCallout">
            <a:avLst>
              <a:gd name="adj1" fmla="val -74791"/>
              <a:gd name="adj2" fmla="val 4783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I Template represents desired user interaction with Business Ob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99360" y="2583000"/>
            <a:ext cx="1690560" cy="806400"/>
          </a:xfrm>
          <a:prstGeom prst="wedgeEllipseCallout">
            <a:avLst>
              <a:gd name="adj1" fmla="val -68592"/>
              <a:gd name="adj2" fmla="val 7401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dapter provides access to Business Object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0" y="3389400"/>
          <a:ext cx="77004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3389400"/>
                    <a:ext cx="77004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34960" y="3927600"/>
          <a:ext cx="67140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960" y="3927600"/>
                    <a:ext cx="671400" cy="62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27200" y="3197160"/>
          <a:ext cx="733320" cy="5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3197160"/>
                    <a:ext cx="733320" cy="57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7160" y="4541760"/>
            <a:ext cx="1114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27080" y="3427560"/>
            <a:ext cx="1992600" cy="934920"/>
          </a:xfrm>
          <a:prstGeom prst="flowChartAlternateProcess">
            <a:avLst/>
          </a:prstGeom>
          <a:solidFill>
            <a:srgbClr val="b3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 Portlet 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84240" y="2116440"/>
            <a:ext cx="2571840" cy="773640"/>
          </a:xfrm>
          <a:prstGeom prst="parallelogram">
            <a:avLst>
              <a:gd name="adj" fmla="val 831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 Portlet 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56080" y="2436840"/>
            <a:ext cx="1114560" cy="530280"/>
          </a:xfrm>
          <a:prstGeom prst="foldedCorner">
            <a:avLst>
              <a:gd name="adj" fmla="val 12500"/>
            </a:avLst>
          </a:prstGeom>
          <a:solidFill>
            <a:srgbClr val="e1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I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45360" y="3598920"/>
            <a:ext cx="2759040" cy="636480"/>
          </a:xfrm>
          <a:custGeom>
            <a:avLst/>
            <a:gdLst>
              <a:gd name="textAreaLeft" fmla="*/ 606600 w 2759040"/>
              <a:gd name="textAreaRight" fmla="*/ 2152440 w 2759040"/>
              <a:gd name="textAreaTop" fmla="*/ 140040 h 636480"/>
              <a:gd name="textAreaBottom" fmla="*/ 496440 h 63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Objec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53400" y="5022720"/>
            <a:ext cx="1552320" cy="9018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-end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962520" y="3429000"/>
            <a:ext cx="2132640" cy="812880"/>
            <a:chOff x="3962520" y="3429000"/>
            <a:chExt cx="2132640" cy="812880"/>
          </a:xfrm>
        </p:grpSpPr>
        <p:sp>
          <p:nvSpPr>
            <p:cNvPr id="175" name=""/>
            <p:cNvSpPr/>
            <p:nvPr/>
          </p:nvSpPr>
          <p:spPr>
            <a:xfrm>
              <a:off x="6069240" y="3429000"/>
              <a:ext cx="0" cy="53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3747960"/>
              <a:ext cx="1827000" cy="493920"/>
            </a:xfrm>
            <a:prstGeom prst="flowChartPreparation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22720" y="3708360"/>
              <a:ext cx="1827000" cy="493560"/>
            </a:xfrm>
            <a:prstGeom prst="flowChartPreparation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8160" y="3670200"/>
              <a:ext cx="1827000" cy="493920"/>
            </a:xfrm>
            <a:prstGeom prst="flowChartPreparation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O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2320" y="3924360"/>
            <a:ext cx="73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921040" y="296676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921040" y="2966760"/>
            <a:ext cx="1496880" cy="460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17880" y="3927600"/>
            <a:ext cx="730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1080" y="3905280"/>
            <a:ext cx="73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43880" y="4235400"/>
            <a:ext cx="0" cy="766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4419720"/>
            <a:ext cx="2000160" cy="698400"/>
          </a:xfrm>
          <a:prstGeom prst="wedgeEllipseCallout">
            <a:avLst>
              <a:gd name="adj1" fmla="val -43810"/>
              <a:gd name="adj2" fmla="val -9181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rtlet operates on Business Objects obtained fron BO adap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4114800"/>
            <a:ext cx="3124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A407-71AA-4D0B-A833-1C3BA18735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9:16:15Z</dcterms:created>
  <dc:creator>Alex Butterfield</dc:creator>
  <dc:description/>
  <dc:language>en-US</dc:language>
  <cp:lastModifiedBy>Roger Best</cp:lastModifiedBy>
  <dcterms:modified xsi:type="dcterms:W3CDTF">2005-08-18T19:56:27Z</dcterms:modified>
  <cp:revision>22</cp:revision>
  <dc:subject/>
  <dc:title>Slide 1</dc:title>
</cp:coreProperties>
</file>