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E571B-C2C2-47B9-A943-8C1E0DB40B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90240" y="3349440"/>
            <a:ext cx="7953480" cy="1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0240" y="3527640"/>
            <a:ext cx="7953480" cy="1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C10E8-F3F7-4B4C-B1F5-6FE67CC978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90240" y="3349440"/>
            <a:ext cx="3881160" cy="1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65800" y="3349440"/>
            <a:ext cx="3881160" cy="1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90240" y="3527640"/>
            <a:ext cx="3881160" cy="1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465800" y="3527640"/>
            <a:ext cx="3881160" cy="1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E9F1B-166F-4592-92BC-3637274B26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90240" y="3349440"/>
            <a:ext cx="2560680" cy="1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079440" y="3349440"/>
            <a:ext cx="2560680" cy="1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768280" y="3349440"/>
            <a:ext cx="2560680" cy="1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90240" y="3527640"/>
            <a:ext cx="2560680" cy="1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079440" y="3527640"/>
            <a:ext cx="2560680" cy="1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768280" y="3527640"/>
            <a:ext cx="2560680" cy="1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69532-3065-439E-808E-97BAB4E65B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90240" y="3349440"/>
            <a:ext cx="7953480" cy="3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0240" y="3349440"/>
            <a:ext cx="7953480" cy="3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0240" y="3349440"/>
            <a:ext cx="3881160" cy="3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65800" y="3349440"/>
            <a:ext cx="3881160" cy="3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90240" y="2493720"/>
            <a:ext cx="7954920" cy="22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0240" y="3349440"/>
            <a:ext cx="3881160" cy="1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465800" y="3349440"/>
            <a:ext cx="3881160" cy="3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90240" y="3527640"/>
            <a:ext cx="3881160" cy="1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90240" y="3349440"/>
            <a:ext cx="7953480" cy="3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B509E-0D71-4E17-88DB-1375A5E7B1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0240" y="3349440"/>
            <a:ext cx="3881160" cy="3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465800" y="3349440"/>
            <a:ext cx="3881160" cy="1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465800" y="3527640"/>
            <a:ext cx="3881160" cy="1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0240" y="3349440"/>
            <a:ext cx="3881160" cy="1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465800" y="3349440"/>
            <a:ext cx="3881160" cy="1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90240" y="3527640"/>
            <a:ext cx="7953480" cy="1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0240" y="3349440"/>
            <a:ext cx="7953480" cy="1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0240" y="3527640"/>
            <a:ext cx="7953480" cy="1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0240" y="3349440"/>
            <a:ext cx="3881160" cy="1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465800" y="3349440"/>
            <a:ext cx="3881160" cy="1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90240" y="3527640"/>
            <a:ext cx="3881160" cy="1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465800" y="3527640"/>
            <a:ext cx="3881160" cy="1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0240" y="3349440"/>
            <a:ext cx="2560680" cy="1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079440" y="3349440"/>
            <a:ext cx="2560680" cy="1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768280" y="3349440"/>
            <a:ext cx="2560680" cy="1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90240" y="3527640"/>
            <a:ext cx="2560680" cy="1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079440" y="3527640"/>
            <a:ext cx="2560680" cy="1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768280" y="3527640"/>
            <a:ext cx="2560680" cy="1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90240" y="3349440"/>
            <a:ext cx="7953480" cy="3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008AD-615E-4EAF-BA45-76DC224A64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90240" y="3349440"/>
            <a:ext cx="3881160" cy="3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65800" y="3349440"/>
            <a:ext cx="3881160" cy="3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76DEA-A905-445E-AFBC-698F18A18A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F8C2D-EB99-4CE5-B1C0-247230FFE4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390240" y="2493720"/>
            <a:ext cx="7954920" cy="22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43A3F-1019-4AFE-B380-90D64AE163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0240" y="3349440"/>
            <a:ext cx="3881160" cy="1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65800" y="3349440"/>
            <a:ext cx="3881160" cy="3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90240" y="3527640"/>
            <a:ext cx="3881160" cy="1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F38CC-D65E-487B-B440-51F48EC61E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0240" y="3349440"/>
            <a:ext cx="3881160" cy="3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65800" y="3349440"/>
            <a:ext cx="3881160" cy="1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465800" y="3527640"/>
            <a:ext cx="3881160" cy="1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E9BF3-5A3D-426B-8ADE-1527156E22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0240" y="3349440"/>
            <a:ext cx="3881160" cy="1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65800" y="3349440"/>
            <a:ext cx="3881160" cy="1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90240" y="3527640"/>
            <a:ext cx="7953480" cy="1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0CF25-0E11-45A8-A98C-8FEF724867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0640"/>
            <a:ext cx="9144000" cy="38736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-17640" y="6442200"/>
            <a:ext cx="9160200" cy="30456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85760" y="1776240"/>
            <a:ext cx="754848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223920"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912960" indent="-228600"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143000" indent="-228600"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143000" indent="-22860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143000" indent="-22860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425600" y="123840"/>
            <a:ext cx="310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| Lotus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8327880" y="6529320"/>
            <a:ext cx="67320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5A07D-0C9A-4C00-8519-03DA0DF0EEBB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43496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4876920" y="6529320"/>
            <a:ext cx="2057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esentation Title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152280" y="6529320"/>
            <a:ext cx="289584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5153040"/>
            <a:ext cx="9144000" cy="17604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659640" y="5214960"/>
            <a:ext cx="2162160" cy="3999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-17640" y="4776840"/>
            <a:ext cx="9160200" cy="377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rcRect l="0" t="0" r="-104122" b="-43386"/>
          <a:stretch/>
        </p:blipFill>
        <p:spPr>
          <a:xfrm>
            <a:off x="1890720" y="4164120"/>
            <a:ext cx="2984400" cy="434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7674120" y="687240"/>
            <a:ext cx="1162080" cy="559440"/>
            <a:chOff x="7674120" y="687240"/>
            <a:chExt cx="1162080" cy="559440"/>
          </a:xfrm>
        </p:grpSpPr>
        <p:pic>
          <p:nvPicPr>
            <p:cNvPr id="53" name="" descr=""/>
            <p:cNvPicPr/>
            <p:nvPr/>
          </p:nvPicPr>
          <p:blipFill>
            <a:blip r:embed="rId5"/>
            <a:srcRect l="0" t="0" r="6463" b="0"/>
            <a:stretch/>
          </p:blipFill>
          <p:spPr>
            <a:xfrm>
              <a:off x="7674120" y="687240"/>
              <a:ext cx="1003320" cy="4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8606160" y="969840"/>
              <a:ext cx="23004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®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31840" y="1301760"/>
            <a:ext cx="4104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887480" y="1362240"/>
            <a:ext cx="0" cy="328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8880" y="6248520"/>
            <a:ext cx="164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5 IBM Corpo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7550280" y="3762360"/>
            <a:ext cx="1420560" cy="954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033640" y="5638680"/>
            <a:ext cx="5235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BM Proof of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25280" y="6408720"/>
            <a:ext cx="6222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BM Product Introduction + Explo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5920" y="5181480"/>
            <a:ext cx="2484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Arial"/>
              </a:rPr>
              <a:t>La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 algn="ctr">
              <a:spcBef>
                <a:spcPts val="300"/>
              </a:spcBef>
              <a:spcAft>
                <a:spcPts val="300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455760" algn="ctr">
              <a:spcBef>
                <a:spcPts val="300"/>
              </a:spcBef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687240" algn="ctr">
              <a:spcBef>
                <a:spcPts val="300"/>
              </a:spcBef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 algn="ctr">
              <a:spcBef>
                <a:spcPts val="300"/>
              </a:spcBef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overing the value of WebSphere Por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90240" y="3349440"/>
            <a:ext cx="7953480" cy="3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ebSphere Portal v5.1.0.1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5T19:16:15Z</dcterms:created>
  <dc:creator>Alex Butterfield</dc:creator>
  <dc:description/>
  <dc:language>en-US</dc:language>
  <cp:lastModifiedBy>Roger Best</cp:lastModifiedBy>
  <dcterms:modified xsi:type="dcterms:W3CDTF">2005-10-05T17:50:19Z</dcterms:modified>
  <cp:revision>10</cp:revision>
  <dc:subject/>
  <dc:title>Slide 1</dc:title>
</cp:coreProperties>
</file>