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C5AF-B516-4E1C-9267-3476A3B19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240" y="266436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4D70-3E64-4933-82A2-0E80ECCC5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246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1EA3-20E4-48FE-9714-9520E9B4E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464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6140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24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464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6140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9192-E623-4B86-9E2A-408C152F7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240" y="1079280"/>
            <a:ext cx="8774280" cy="30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2db6b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877428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2840" y="39492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000" spc="-1" strike="noStrike">
              <a:solidFill>
                <a:srgbClr val="2db6b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240" y="1079280"/>
            <a:ext cx="8774280" cy="30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2db6b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E7C2-AB8A-453B-9488-BD88398DE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246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240" y="266436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246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9464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140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24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9464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140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9E7B-F3CF-4E19-B81D-CAB6553B5E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240" y="1079280"/>
            <a:ext cx="8774280" cy="30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2db6b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74C9-E41A-4B05-9BF4-09C0E54FCF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877428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6415-E723-4532-9E55-2BB051516E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6259-8D04-44A6-A156-3DF7B5DF4B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2310-B8D9-4739-8E30-32C0B1845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877428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FA15-9171-4521-A68A-1EE6AC096C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2840" y="39492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000" spc="-1" strike="noStrike">
              <a:solidFill>
                <a:srgbClr val="2db6b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8428-3C73-4F04-9033-DE25D3DED7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92A2-63A1-4210-9193-8B9387A946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E555-8301-4421-8521-315AA98980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00CB-D01F-45AA-9CD9-7475E523CF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28240" y="266436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43F9-17E2-4A26-8B49-89B8DFC3EE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1DEB-76EB-4EE5-9043-A897D40DA2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19464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6140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22824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19464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6140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94D1-B4F2-4FED-B452-5927CF9EAE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28240" y="1079280"/>
            <a:ext cx="8774280" cy="30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2db6b3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877428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C7D0-7D07-456E-88B3-59BA1D4DC4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2840" y="39492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000" spc="-1" strike="noStrike">
              <a:solidFill>
                <a:srgbClr val="2db6b3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7246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28240" y="266436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7246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9464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61400" y="107928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2824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9464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61400" y="2664360"/>
            <a:ext cx="282492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6878-E557-4FE3-A6A8-DB1FEFCA8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2840" y="39492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000" spc="-1" strike="noStrike">
              <a:solidFill>
                <a:srgbClr val="2db6b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F729-1EE2-4B52-B62C-4B5128B4F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D62A-D29A-4292-9A08-1CE189781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24640" y="266436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3D31-C186-4476-98E1-E045077D9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079280"/>
            <a:ext cx="428184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2664360"/>
            <a:ext cx="8774280" cy="14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7359-C37C-4817-87E1-0B7C25986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1640"/>
            <a:ext cx="9144000" cy="306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2880" y="52560"/>
            <a:ext cx="180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91240" y="6499080"/>
            <a:ext cx="3340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154080" y="6559560"/>
            <a:ext cx="1006560" cy="2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FA5D-F58E-47AE-9C37-12588A0AF8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190520" y="6550200"/>
            <a:ext cx="7953480" cy="307800"/>
            <a:chOff x="1190520" y="6550200"/>
            <a:chExt cx="7953480" cy="307800"/>
          </a:xfrm>
        </p:grpSpPr>
        <p:graphicFrame>
          <p:nvGraphicFramePr>
            <p:cNvPr id="8" name=""/>
            <p:cNvGraphicFramePr/>
            <p:nvPr/>
          </p:nvGraphicFramePr>
          <p:xfrm>
            <a:off x="1190520" y="6550200"/>
            <a:ext cx="7953480" cy="30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90520" y="6550200"/>
                      <a:ext cx="795348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1190520" y="6554880"/>
            <a:ext cx="1665360" cy="30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90520" y="6554880"/>
                      <a:ext cx="166536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" name="" descr=""/>
          <p:cNvPicPr/>
          <p:nvPr/>
        </p:nvPicPr>
        <p:blipFill>
          <a:blip r:embed="rId7"/>
          <a:stretch/>
        </p:blipFill>
        <p:spPr>
          <a:xfrm>
            <a:off x="0" y="387360"/>
            <a:ext cx="9144000" cy="616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4721400"/>
            <a:ext cx="9144000" cy="455400"/>
            <a:chOff x="0" y="4721400"/>
            <a:chExt cx="9144000" cy="455400"/>
          </a:xfrm>
        </p:grpSpPr>
        <p:graphicFrame>
          <p:nvGraphicFramePr>
            <p:cNvPr id="56" name=""/>
            <p:cNvGraphicFramePr/>
            <p:nvPr/>
          </p:nvGraphicFramePr>
          <p:xfrm>
            <a:off x="0" y="4721400"/>
            <a:ext cx="91440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721400"/>
                      <a:ext cx="91440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0" y="4729320"/>
            <a:ext cx="192240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729320"/>
                      <a:ext cx="19224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551640"/>
            <a:ext cx="9144000" cy="306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228240" y="1079280"/>
            <a:ext cx="8774280" cy="303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2271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666720" indent="-209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89676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1430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1430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442160" y="52560"/>
            <a:ext cx="194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91240" y="6499080"/>
            <a:ext cx="3340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2"/>
          </p:nvPr>
        </p:nvSpPr>
        <p:spPr>
          <a:xfrm>
            <a:off x="154080" y="6559560"/>
            <a:ext cx="1006560" cy="2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79A-2734-4541-9A99-69FE9D04416A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190520" y="6550200"/>
            <a:ext cx="7953480" cy="307800"/>
            <a:chOff x="1190520" y="6550200"/>
            <a:chExt cx="7953480" cy="307800"/>
          </a:xfrm>
        </p:grpSpPr>
        <p:graphicFrame>
          <p:nvGraphicFramePr>
            <p:cNvPr id="106" name=""/>
            <p:cNvGraphicFramePr/>
            <p:nvPr/>
          </p:nvGraphicFramePr>
          <p:xfrm>
            <a:off x="1190520" y="6550200"/>
            <a:ext cx="7953480" cy="307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190520" y="6550200"/>
                      <a:ext cx="795348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1190520" y="6554880"/>
            <a:ext cx="1665360" cy="303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190520" y="6554880"/>
                      <a:ext cx="166536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4721400"/>
            <a:ext cx="9144000" cy="455400"/>
            <a:chOff x="0" y="4721400"/>
            <a:chExt cx="9144000" cy="455400"/>
          </a:xfrm>
        </p:grpSpPr>
        <p:graphicFrame>
          <p:nvGraphicFramePr>
            <p:cNvPr id="153" name=""/>
            <p:cNvGraphicFramePr/>
            <p:nvPr/>
          </p:nvGraphicFramePr>
          <p:xfrm>
            <a:off x="0" y="4721400"/>
            <a:ext cx="91440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721400"/>
                      <a:ext cx="91440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0" y="4729320"/>
            <a:ext cx="192240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729320"/>
                      <a:ext cx="19224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ddi.xmethods.net/inquire" TargetMode="External"/><Relationship Id="rId3" Type="http://schemas.openxmlformats.org/officeDocument/2006/relationships/hyperlink" Target="http://www.xmethods.org/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serviceobjects.com/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0200" y="4208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emperature Web Service Scenario </a:t>
            </a: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(Internet Web Service) </a:t>
            </a:r>
            <a:r>
              <a:rPr b="0" lang="en-US" sz="1000" spc="-1" strike="noStrike">
                <a:solidFill>
                  <a:srgbClr val="7889fb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0840" y="907920"/>
            <a:ext cx="8574120" cy="7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Arial Narrow"/>
                <a:hlinkClick r:id="rId2"/>
              </a:rPr>
              <a:t>http://uddi.xmethods.net/inqui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 and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Arial Narrow"/>
                <a:hlinkClick r:id="rId3"/>
              </a:rPr>
              <a:t>http://www.xmethods.or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rag-n-drop ease-of-u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85760" y="1717560"/>
            <a:ext cx="864864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6886440" y="493560"/>
            <a:ext cx="2257560" cy="80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4952880" y="3925800"/>
            <a:ext cx="419112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258840" y="4106880"/>
            <a:ext cx="4610160" cy="13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EA02-DECD-4800-9D32-5FA960652B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ather Web Service Scenario (Internet MS.NET Web Service) </a:t>
            </a:r>
            <a:r>
              <a:rPr b="0" lang="en-US" sz="900" spc="-1" strike="noStrike">
                <a:solidFill>
                  <a:srgbClr val="7889fb"/>
                </a:solidFill>
                <a:latin typeface="Arial"/>
              </a:rPr>
              <a:t>1 </a:t>
            </a:r>
            <a:endParaRPr b="0" lang="en-US" sz="9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0840" y="907560"/>
            <a:ext cx="8574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Arial Narrow"/>
                <a:hlinkClick r:id="rId2"/>
              </a:rPr>
              <a:t>www.serviceobjects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WSDL: http://ws2.serviceobjects.net/fw/FastWeather.asmx?WSDL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68120" y="1825560"/>
            <a:ext cx="5229360" cy="446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436920" y="1569960"/>
            <a:ext cx="5430960" cy="433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43CE-3B2A-423A-8D9D-76F7630829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" y="394920"/>
            <a:ext cx="8629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ransferFunds EJB Web Service </a:t>
            </a: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(Local in RAD Workspace)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7889fb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7889fb"/>
                </a:solidFill>
                <a:latin typeface="Arial"/>
              </a:rPr>
              <a:t>(1 2 3 4)</a:t>
            </a:r>
            <a:endParaRPr b="0" lang="en-US" sz="9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0840" y="907560"/>
            <a:ext cx="8574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localhost:9080/BankEJBWebServices/wsdl/com/myco/bank/ejb/AccountMgr.wsdl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0160" y="1469880"/>
            <a:ext cx="4533840" cy="238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541520" y="2487600"/>
            <a:ext cx="453384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187880" y="3465360"/>
            <a:ext cx="4543200" cy="30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78E5-872E-4D70-86E3-885408F44F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840" y="39492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fer Funds Scenario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1600" y="923760"/>
            <a:ext cx="894240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 Narrow"/>
              </a:rPr>
              <a:t>Logon page and binding customer number into user session/sta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 Narrow"/>
              </a:rPr>
              <a:t>Main Menu page with welcome greeting using user session &amp; Relational Record SDO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 Narrow"/>
              </a:rPr>
              <a:t>Account Balances page using Relational Record SDO and user sess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nsfer Funds page using Web Service and SDO account numbers combo bo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 Narrow"/>
              </a:rPr>
              <a:t>Web site navigation and common look-and-feel using Web Site Designer &amp; Templat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 Narrow"/>
              </a:rPr>
              <a:t>Rich thin client tab panel view for account summary consolid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 Narrow"/>
              </a:rPr>
              <a:t>Portal Portlet development, testing, customization and Click-to-Action integr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230040" y="3449520"/>
            <a:ext cx="2581560" cy="9334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264960" y="4640400"/>
            <a:ext cx="4051080" cy="1775880"/>
            <a:chOff x="264960" y="4640400"/>
            <a:chExt cx="4051080" cy="1775880"/>
          </a:xfrm>
        </p:grpSpPr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318960" y="4885560"/>
              <a:ext cx="3997080" cy="153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"/>
            <a:stretch/>
          </p:blipFill>
          <p:spPr>
            <a:xfrm>
              <a:off x="381600" y="4663440"/>
              <a:ext cx="360288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64960" y="4640400"/>
              <a:ext cx="4033800" cy="17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11"/>
          <a:srcRect l="0" t="0" r="0" b="31124"/>
          <a:stretch/>
        </p:blipFill>
        <p:spPr>
          <a:xfrm>
            <a:off x="3030480" y="3300480"/>
            <a:ext cx="2578320" cy="1287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5843520" y="3438360"/>
            <a:ext cx="2905200" cy="28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33BCA-9889-49BD-A80F-B374B3B774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 </cp:lastModifiedBy>
  <dcterms:modified xsi:type="dcterms:W3CDTF">2004-11-08T21:50:33Z</dcterms:modified>
  <cp:revision>1235</cp:revision>
  <dc:subject>IBM Presentation System</dc:subject>
  <dc:title>IBM blue-and-white template</dc:title>
</cp:coreProperties>
</file>