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3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4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22B96E-681D-4643-988B-6F66ADEB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689606-DEE1-4C44-BE9F-BF380993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514520" y="923760"/>
            <a:ext cx="3924360" cy="2943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4760" y="4000320"/>
            <a:ext cx="602316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2F6E-31F8-4CED-B6AF-FF1F386F0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99E7-C261-424F-B563-B9198D662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B0D7-E66E-4EFE-A6F6-DEDEE6918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76BD-97E1-4C0E-BB04-0004ED660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DBBF-86DD-446C-BB6A-BF6114EAB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010D-6DE5-40C1-BFF8-E4C86034E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C7D8-1859-418F-AD77-11F5F7E43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3CD2-9610-4EE9-AABF-F27C1B3E4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65E3-1752-4B6C-B1B6-5BA90532A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A86C-A6AC-4213-B447-F330AB964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F2B6-DD07-4D3B-B023-C6193B627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20C8-F0A6-4FD0-AAAA-BAC83071F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6040" y="52560"/>
            <a:ext cx="371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91240" y="6499080"/>
            <a:ext cx="334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388-E223-4EDC-9F41-D45B5A9C48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190520" y="6550200"/>
            <a:ext cx="7953480" cy="307800"/>
            <a:chOff x="1190520" y="6550200"/>
            <a:chExt cx="7953480" cy="307800"/>
          </a:xfrm>
        </p:grpSpPr>
        <p:graphicFrame>
          <p:nvGraphicFramePr>
            <p:cNvPr id="10" name=""/>
            <p:cNvGraphicFramePr/>
            <p:nvPr/>
          </p:nvGraphicFramePr>
          <p:xfrm>
            <a:off x="1190520" y="6550200"/>
            <a:ext cx="7953480" cy="30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90520" y="6550200"/>
                      <a:ext cx="795348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1190520" y="6554880"/>
            <a:ext cx="166536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0520" y="6554880"/>
                      <a:ext cx="16653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24560" y="6270480"/>
            <a:ext cx="15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9600" y="5375160"/>
            <a:ext cx="2074680" cy="3016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721400"/>
            <a:ext cx="9144000" cy="455400"/>
            <a:chOff x="0" y="4721400"/>
            <a:chExt cx="9144000" cy="455400"/>
          </a:xfrm>
        </p:grpSpPr>
        <p:graphicFrame>
          <p:nvGraphicFramePr>
            <p:cNvPr id="60" name=""/>
            <p:cNvGraphicFramePr/>
            <p:nvPr/>
          </p:nvGraphicFramePr>
          <p:xfrm>
            <a:off x="0" y="4721400"/>
            <a:ext cx="914400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721400"/>
                      <a:ext cx="91440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0" y="4729320"/>
            <a:ext cx="19224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4729320"/>
                      <a:ext cx="19224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bSphere </a:t>
            </a: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udio </a:t>
            </a: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plication </a:t>
            </a: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veloper - Top 10 Lis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2880" y="1240920"/>
            <a:ext cx="7539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n-the-fly code changes and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pages, sites, Struts and Java Server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2EE and EJ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and 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spcAft>
                <a:spcPts val="561"/>
              </a:spcAft>
              <a:buClr>
                <a:srgbClr val="2db6b3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ynamic build, as you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37"/>
              </a:spcBef>
              <a:spcAft>
                <a:spcPts val="4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tensibility: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ng, Modeling, Frameworks, Testing, Teaming, Best Practices, Patterns, IBM Server toolkits and beyo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&gt;300 plugi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00" y="870120"/>
            <a:ext cx="763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J2EE to Web Services, WebSphere Studio has breadth and depth…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59520" y="274788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6160" y="3238560"/>
            <a:ext cx="2639880" cy="50328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E103-A3FB-468D-833E-8B3C9EF7DF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4760" y="1096920"/>
            <a:ext cx="8388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TD/XSD Schema Ed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Visual tooling for working with DTDs/XSD Sch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Generate between XML and database sch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Generate XML Beans to ease XML 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ML/XSD/DTD Ed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ode completion Content Ass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Source, hierarchical and graphical vi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ML-to-XML Mapping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SL Trace and Debug to test and visualize transform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ML from Relational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222120"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buClr>
                <a:srgbClr val="2db6b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Generate XML, XSL, XSD from SQL or database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537120"/>
            <a:ext cx="7696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100" spc="-1" strike="noStrike">
                <a:solidFill>
                  <a:srgbClr val="7889fb"/>
                </a:solidFill>
                <a:latin typeface="Arial Narrow"/>
              </a:rPr>
              <a:t>XML, XSL, XSD, DTD Too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13400" y="638280"/>
            <a:ext cx="3630600" cy="15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24560" y="2452680"/>
            <a:ext cx="3619440" cy="148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129360" y="4216320"/>
            <a:ext cx="2544840" cy="199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0570400">
            <a:off x="7660800" y="0"/>
            <a:ext cx="806400" cy="228600"/>
          </a:xfrm>
          <a:prstGeom prst="rect">
            <a:avLst/>
          </a:prstGeom>
        </p:spPr>
        <p:txBody>
          <a:bodyPr wrap="none" lIns="0" rIns="0" tIns="0" bIns="0" anchor="t" anchorCtr="1">
            <a:prstTxWarp prst="textDeflateBottom">
              <a:avLst>
                <a:gd name="adj" fmla="val 76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e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6969240" y="189000"/>
            <a:ext cx="52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900" spc="-1" strike="noStrike">
                <a:solidFill>
                  <a:srgbClr val="000099"/>
                </a:solidFill>
                <a:latin typeface="Arial Narrow"/>
              </a:rPr>
              <a:t>(1, 2, 3, 4, 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DD1B-C1E7-41FC-AFAB-9379E3806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 USER</cp:lastModifiedBy>
  <dcterms:modified xsi:type="dcterms:W3CDTF">2004-02-27T20:35:54Z</dcterms:modified>
  <cp:revision>747</cp:revision>
  <dc:subject>IBM Presentation System</dc:subject>
  <dc:title>IBM blue-and-white template</dc:title>
</cp:coreProperties>
</file>