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086B-B42A-479A-AA1F-FFA734E63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964B-91F7-4F93-A23A-73A1E6249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FEC8-AB93-4D66-9351-A3FEB5C5B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3058-512C-4D1F-9DE0-2B1A887C6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9680" y="40428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58C1-FB7D-4D39-BDFF-4AF2D60DD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8B28-A592-43C7-8B06-590249F45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6BF9-452A-4EE3-BB3B-87C9F5254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4840-DFF3-4B84-93C5-DA4D011BC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9680" y="40428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06BA-BC64-4654-AE6D-6662811F8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49B4-122F-4E19-BF3C-BCBE65C22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244A-1660-4990-8CBE-A47F20956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C217-9D5D-4C54-8F31-143A27D5C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1640"/>
            <a:ext cx="9144000" cy="306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6040" y="52560"/>
            <a:ext cx="371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91240" y="6499080"/>
            <a:ext cx="3340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59560"/>
            <a:ext cx="1006560" cy="2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E65C-2B8D-43A6-80A2-B6C44D50112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190520" y="6550200"/>
            <a:ext cx="7953480" cy="307800"/>
            <a:chOff x="1190520" y="6550200"/>
            <a:chExt cx="7953480" cy="307800"/>
          </a:xfrm>
        </p:grpSpPr>
        <p:graphicFrame>
          <p:nvGraphicFramePr>
            <p:cNvPr id="10" name=""/>
            <p:cNvGraphicFramePr/>
            <p:nvPr/>
          </p:nvGraphicFramePr>
          <p:xfrm>
            <a:off x="1190520" y="6550200"/>
            <a:ext cx="7953480" cy="30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90520" y="6550200"/>
                      <a:ext cx="795348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1190520" y="6554880"/>
            <a:ext cx="1665360" cy="30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90520" y="6554880"/>
                      <a:ext cx="166536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24560" y="6270480"/>
            <a:ext cx="15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4721400"/>
            <a:ext cx="9144000" cy="455400"/>
            <a:chOff x="0" y="4721400"/>
            <a:chExt cx="9144000" cy="455400"/>
          </a:xfrm>
        </p:grpSpPr>
        <p:graphicFrame>
          <p:nvGraphicFramePr>
            <p:cNvPr id="60" name=""/>
            <p:cNvGraphicFramePr/>
            <p:nvPr/>
          </p:nvGraphicFramePr>
          <p:xfrm>
            <a:off x="0" y="4721400"/>
            <a:ext cx="914400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721400"/>
                      <a:ext cx="91440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0" y="4729320"/>
            <a:ext cx="19224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4729320"/>
                      <a:ext cx="19224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3120" y="1054080"/>
            <a:ext cx="8628120" cy="51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ased on Eclipse 2.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Eclipse 2.1 new features list/screenshots available at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http://download.eclipse.org/downloads/drops/R-2.1-200303272130/whats-new.htm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gnificant Performance enhanc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ot Method Replace (Immediate Code Changes, while app running, in debug m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ull Speed Debugger (Faster Debug Performa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eb Site Designer (Visual Tree Builder for web site Layout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eb Services Explorer and WSDL Graphics Editor/Vie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eb Services Updated Support (AXIS, JAX-RPC, JSR-109, enhanced Microsoft Interop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Java Visual Editor (JVE) (Fat Client builder substantially enhanced: Event support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pping EJBs to database vie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ML Visualization (Small subset of Rational XDE - EJB/UML tool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QLJ Support - SQLJ editor, SQLJ Profiles,  DB2 SQLJ Stored procedure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ploitation of DB2 UDB V8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dditional platform support of RedHat V8.0 and Suse V8.1 and remote deploy to AIX5.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AS 5.0.2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ebLogic Deployment Plugin (bundled and new updates via the web starting September, 200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Studio V5.1 “What’s New” Highlights</a:t>
            </a:r>
            <a:br>
              <a:rPr sz="24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(Released August, 2003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A899-DF0A-46A6-AA9F-C1B907DBC55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 USER</cp:lastModifiedBy>
  <dcterms:modified xsi:type="dcterms:W3CDTF">2003-09-04T21:03:27Z</dcterms:modified>
  <cp:revision>571</cp:revision>
  <dc:subject>IBM Presentation System</dc:subject>
  <dc:title>IBM blue-and-white template</dc:title>
</cp:coreProperties>
</file>