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2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3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4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A89250B-2A13-4CF0-82DE-7577B8DF5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FF2022-0632-4548-A1F0-C119C829C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er Quality Applications in a fraction of tim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nly Enterprise Developer offers integrated tooling to build new EIS syste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F10B42-C75D-4D4A-9016-171002F4F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008000" y="711360"/>
            <a:ext cx="4743360" cy="35575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00000" y="4505400"/>
            <a:ext cx="4959360" cy="4270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terprise Developer is IBM's most comprehensive end-to-end development environment for the assembly of large-scale, dynamic web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pporting more Runtime Platfor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F3C76-1090-4096-8825-2B8C9A565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DE6C-9276-465A-8D94-5FD6B1C301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65AC-E5BB-4DF6-BC8B-FB6EE4309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3925-DEA0-4A8F-8CB8-639C6225F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3D28-10DE-458D-9B22-A54920894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46140-0319-442B-B671-83950FE3A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5A21-3698-4A4C-94E5-174AA9B07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AA14-EC7B-4F96-9471-4469E3571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9680" y="404280"/>
            <a:ext cx="8245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FF1B-8B15-4B2E-AE8F-6E617D0510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48A5-218C-4F80-8CBB-1586D3F4A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F3F7-3DE5-40C6-B793-8340D3DCA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3FD5-53B0-4815-A178-0A37E9FE89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1640"/>
            <a:ext cx="9144000" cy="30636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9680" y="404280"/>
            <a:ext cx="8245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59560"/>
            <a:ext cx="1006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CC0-DDF3-4D79-9E87-87D84F2EB34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190520" y="6550200"/>
          <a:ext cx="7953480" cy="30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6550200"/>
                    <a:ext cx="795348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3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862280" y="4041720"/>
            <a:ext cx="2074680" cy="301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0" y="4721400"/>
          <a:ext cx="9144000" cy="44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21400"/>
                    <a:ext cx="91440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bspherecentral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Name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Title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b6b3"/>
                </a:solidFill>
                <a:latin typeface="Arial"/>
              </a:rPr>
              <a:t>Company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67840" y="2499840"/>
            <a:ext cx="861228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Stud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prise Develop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5 Technical Overview</a:t>
            </a:r>
            <a:br>
              <a:rPr sz="2400"/>
            </a:br>
            <a:br>
              <a:rPr sz="2400"/>
            </a:b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parate Presentations for other Editions available at </a:t>
            </a:r>
            <a:r>
              <a:rPr b="0" lang="en-US" sz="16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http://WebSphereCentral.com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76280" y="48276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Developer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57320" y="2992320"/>
            <a:ext cx="4121280" cy="2644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427560" y="2252520"/>
            <a:ext cx="3727440" cy="2551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60640" y="2131920"/>
            <a:ext cx="170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ct compil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39040" y="3308400"/>
            <a:ext cx="1433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uble click on the err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38680" y="6060960"/>
            <a:ext cx="1322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it sour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7000" y="868320"/>
            <a:ext cx="5668920" cy="2255760"/>
          </a:xfrm>
          <a:custGeom>
            <a:avLst/>
            <a:gdLst/>
            <a:ahLst/>
            <a:rect l="l" t="t" r="r" b="b"/>
            <a:pathLst>
              <a:path w="3921" h="1604">
                <a:moveTo>
                  <a:pt x="3921" y="1604"/>
                </a:moveTo>
                <a:cubicBezTo>
                  <a:pt x="3289" y="389"/>
                  <a:pt x="1308" y="0"/>
                  <a:pt x="0" y="833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56080" y="4035600"/>
            <a:ext cx="3152880" cy="2170080"/>
          </a:xfrm>
          <a:custGeom>
            <a:avLst/>
            <a:gdLst/>
            <a:ahLst/>
            <a:rect l="l" t="t" r="r" b="b"/>
            <a:pathLst>
              <a:path w="2182" h="1542">
                <a:moveTo>
                  <a:pt x="0" y="1542"/>
                </a:moveTo>
                <a:cubicBezTo>
                  <a:pt x="1258" y="1516"/>
                  <a:pt x="2182" y="786"/>
                  <a:pt x="1956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920" y="2610000"/>
            <a:ext cx="3583080" cy="3968640"/>
          </a:xfrm>
          <a:custGeom>
            <a:avLst/>
            <a:gdLst/>
            <a:ahLst/>
            <a:rect l="l" t="t" r="r" b="b"/>
            <a:pathLst>
              <a:path w="2479" h="2821">
                <a:moveTo>
                  <a:pt x="1033" y="0"/>
                </a:moveTo>
                <a:cubicBezTo>
                  <a:pt x="0" y="1086"/>
                  <a:pt x="975" y="2821"/>
                  <a:pt x="2479" y="2569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14800" y="2387520"/>
            <a:ext cx="2143080" cy="434880"/>
          </a:xfrm>
          <a:prstGeom prst="rect">
            <a:avLst/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ed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51200" y="5199120"/>
            <a:ext cx="1366920" cy="434880"/>
          </a:xfrm>
          <a:prstGeom prst="rect">
            <a:avLst/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EA04-31BF-4489-A5EC-5A956BBD62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1680" y="51120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DE for z/OS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44560" y="1427040"/>
            <a:ext cx="6367680" cy="1562400"/>
          </a:xfrm>
          <a:prstGeom prst="rect">
            <a:avLst/>
          </a:prstGeom>
          <a:solidFill>
            <a:srgbClr val="9ad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44560" y="3489480"/>
            <a:ext cx="6357960" cy="23270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44560" y="1760400"/>
            <a:ext cx="6345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74880" y="2725560"/>
            <a:ext cx="6105600" cy="196920"/>
          </a:xfrm>
          <a:prstGeom prst="rect">
            <a:avLst/>
          </a:prstGeom>
          <a:gradFill rotWithShape="0">
            <a:gsLst>
              <a:gs pos="0">
                <a:srgbClr val="e56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81360" y="2746440"/>
            <a:ext cx="46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44560" y="1434960"/>
            <a:ext cx="6357960" cy="335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84240" y="1454040"/>
            <a:ext cx="1468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z/OS, S/39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2160" y="3825720"/>
            <a:ext cx="6088320" cy="1617840"/>
          </a:xfrm>
          <a:prstGeom prst="rect">
            <a:avLst/>
          </a:prstGeom>
          <a:gradFill rotWithShape="0">
            <a:gsLst>
              <a:gs pos="0">
                <a:srgbClr val="00efe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8640" y="1898640"/>
            <a:ext cx="1287360" cy="747720"/>
          </a:xfrm>
          <a:prstGeom prst="rect">
            <a:avLst/>
          </a:prstGeom>
          <a:gradFill rotWithShape="0">
            <a:gsLst>
              <a:gs pos="0">
                <a:srgbClr val="00efe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8520" y="1898640"/>
            <a:ext cx="1288800" cy="747720"/>
          </a:xfrm>
          <a:prstGeom prst="rect">
            <a:avLst/>
          </a:prstGeom>
          <a:gradFill rotWithShape="0">
            <a:gsLst>
              <a:gs pos="0">
                <a:srgbClr val="00efe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76920" y="1898640"/>
            <a:ext cx="1289160" cy="758880"/>
          </a:xfrm>
          <a:prstGeom prst="rect">
            <a:avLst/>
          </a:prstGeom>
          <a:gradFill rotWithShape="0">
            <a:gsLst>
              <a:gs pos="0">
                <a:srgbClr val="00efe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46160" y="1998720"/>
            <a:ext cx="1154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M HTTP Serve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97600" y="1987560"/>
            <a:ext cx="134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bsyste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50000" y="1998720"/>
            <a:ext cx="1155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174760"/>
            <a:ext cx="1109880" cy="4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594240" y="2174760"/>
            <a:ext cx="1108080" cy="441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8880" y="2174760"/>
            <a:ext cx="1108080" cy="43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90800" y="2174760"/>
            <a:ext cx="1108080" cy="4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0000" y="2252520"/>
            <a:ext cx="92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eign File System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78120" y="2316240"/>
            <a:ext cx="924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b Monitor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62480" y="2187720"/>
            <a:ext cx="92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anguage Environmen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73840" y="2260440"/>
            <a:ext cx="92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mote Commands serve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64280" y="2462040"/>
            <a:ext cx="925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bug Too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68880" y="2422440"/>
            <a:ext cx="1098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74880" y="3549600"/>
            <a:ext cx="6105600" cy="196920"/>
          </a:xfrm>
          <a:prstGeom prst="rect">
            <a:avLst/>
          </a:prstGeom>
          <a:gradFill rotWithShape="0">
            <a:gsLst>
              <a:gs pos="0">
                <a:srgbClr val="e560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81360" y="3567240"/>
            <a:ext cx="46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44560" y="5514840"/>
            <a:ext cx="6357960" cy="290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ad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87480" y="5516640"/>
            <a:ext cx="141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49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ndows 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62560" y="3960720"/>
            <a:ext cx="880920" cy="113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11520" y="4471920"/>
            <a:ext cx="79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ob Moni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94480" y="3960720"/>
            <a:ext cx="874440" cy="113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57760" y="4479840"/>
            <a:ext cx="94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stributed Debugg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924600" y="3960720"/>
            <a:ext cx="879480" cy="113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96160" y="4479840"/>
            <a:ext cx="941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SO Command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16360" y="3960720"/>
            <a:ext cx="874440" cy="1136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28960" y="4465800"/>
            <a:ext cx="855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V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24840" y="2616120"/>
            <a:ext cx="150840" cy="1316160"/>
          </a:xfrm>
          <a:custGeom>
            <a:avLst/>
            <a:gdLst/>
            <a:ahLst/>
            <a:rect l="l" t="t" r="r" b="b"/>
            <a:pathLst>
              <a:path w="105" h="935">
                <a:moveTo>
                  <a:pt x="70" y="935"/>
                </a:moveTo>
                <a:lnTo>
                  <a:pt x="0" y="419"/>
                </a:lnTo>
                <a:lnTo>
                  <a:pt x="105" y="496"/>
                </a:lnTo>
                <a:lnTo>
                  <a:pt x="55" y="0"/>
                </a:lnTo>
              </a:path>
            </a:pathLst>
          </a:custGeom>
          <a:noFill/>
          <a:ln w="63360">
            <a:solidFill>
              <a:srgbClr val="da003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52680" y="3746160"/>
            <a:ext cx="0" cy="2142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29200" y="2646360"/>
            <a:ext cx="587160" cy="1295280"/>
          </a:xfrm>
          <a:custGeom>
            <a:avLst/>
            <a:gdLst/>
            <a:ahLst/>
            <a:rect l="l" t="t" r="r" b="b"/>
            <a:pathLst>
              <a:path w="406" h="921">
                <a:moveTo>
                  <a:pt x="406" y="921"/>
                </a:moveTo>
                <a:lnTo>
                  <a:pt x="55" y="387"/>
                </a:lnTo>
                <a:lnTo>
                  <a:pt x="230" y="499"/>
                </a:lnTo>
                <a:lnTo>
                  <a:pt x="0" y="0"/>
                </a:lnTo>
              </a:path>
            </a:pathLst>
          </a:custGeom>
          <a:noFill/>
          <a:ln w="63360">
            <a:solidFill>
              <a:srgbClr val="da003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2616120"/>
            <a:ext cx="152280" cy="1316160"/>
          </a:xfrm>
          <a:custGeom>
            <a:avLst/>
            <a:gdLst/>
            <a:ahLst/>
            <a:rect l="l" t="t" r="r" b="b"/>
            <a:pathLst>
              <a:path w="105" h="935">
                <a:moveTo>
                  <a:pt x="71" y="935"/>
                </a:moveTo>
                <a:lnTo>
                  <a:pt x="0" y="419"/>
                </a:lnTo>
                <a:lnTo>
                  <a:pt x="105" y="496"/>
                </a:lnTo>
                <a:lnTo>
                  <a:pt x="56" y="0"/>
                </a:lnTo>
              </a:path>
            </a:pathLst>
          </a:custGeom>
          <a:noFill/>
          <a:ln w="63360">
            <a:solidFill>
              <a:srgbClr val="da003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48040" y="2546280"/>
            <a:ext cx="152280" cy="1314360"/>
          </a:xfrm>
          <a:custGeom>
            <a:avLst/>
            <a:gdLst/>
            <a:ahLst/>
            <a:rect l="l" t="t" r="r" b="b"/>
            <a:pathLst>
              <a:path w="105" h="934">
                <a:moveTo>
                  <a:pt x="69" y="934"/>
                </a:moveTo>
                <a:lnTo>
                  <a:pt x="0" y="418"/>
                </a:lnTo>
                <a:lnTo>
                  <a:pt x="105" y="495"/>
                </a:lnTo>
                <a:lnTo>
                  <a:pt x="55" y="0"/>
                </a:lnTo>
              </a:path>
            </a:pathLst>
          </a:custGeom>
          <a:noFill/>
          <a:ln w="63360">
            <a:solidFill>
              <a:srgbClr val="da0030"/>
            </a:solidFill>
            <a:round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79880" y="5081760"/>
            <a:ext cx="4033800" cy="98280"/>
          </a:xfrm>
          <a:custGeom>
            <a:avLst/>
            <a:gdLst/>
            <a:ahLst/>
            <a:rect l="l" t="t" r="r" b="b"/>
            <a:pathLst>
              <a:path w="2790" h="70">
                <a:moveTo>
                  <a:pt x="2790" y="0"/>
                </a:moveTo>
                <a:lnTo>
                  <a:pt x="2790" y="70"/>
                </a:lnTo>
                <a:lnTo>
                  <a:pt x="0" y="70"/>
                </a:lnTo>
                <a:lnTo>
                  <a:pt x="0" y="6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03440" y="5099040"/>
            <a:ext cx="1208160" cy="60480"/>
          </a:xfrm>
          <a:custGeom>
            <a:avLst/>
            <a:gdLst/>
            <a:ahLst/>
            <a:rect l="l" t="t" r="r" b="b"/>
            <a:pathLst>
              <a:path w="836" h="42">
                <a:moveTo>
                  <a:pt x="836" y="0"/>
                </a:moveTo>
                <a:lnTo>
                  <a:pt x="836" y="42"/>
                </a:lnTo>
                <a:lnTo>
                  <a:pt x="0" y="42"/>
                </a:lnTo>
                <a:lnTo>
                  <a:pt x="0" y="0"/>
                </a:lnTo>
              </a:path>
            </a:pathLst>
          </a:custGeom>
          <a:noFill/>
          <a:ln w="507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62440" y="2597040"/>
            <a:ext cx="0" cy="12708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551720" y="3746160"/>
            <a:ext cx="0" cy="2142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14880" y="3746160"/>
            <a:ext cx="0" cy="214200"/>
          </a:xfrm>
          <a:prstGeom prst="line">
            <a:avLst/>
          </a:prstGeom>
          <a:ln w="507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60800" y="5226120"/>
            <a:ext cx="348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phere Studio Enterprise Develop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C83D-B1C9-42EE-9E51-7F97FAB73B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03280" y="47304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 Services Deployment Enhanc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87280" y="1459080"/>
            <a:ext cx="74818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xtends XML transformation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able Transform services in CICS and IMS runti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Utilize High Performance XML Transform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xtend web services to traditional business app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abling COBOL &amp; PL/I applications as Web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re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ransformer modu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Transforms input and output XML messag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an be used in a CICS mirror transac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an be called from an IMS appli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JCL to enable transformer module as CICS front-e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Complete CICS trans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139A-7230-4204-A0F1-C411A2D954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14440" y="47304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Web Services and Transfor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77280" y="5681520"/>
            <a:ext cx="99360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5760" y="1311120"/>
            <a:ext cx="669312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76320" indent="-76320">
              <a:spcAft>
                <a:spcPts val="264"/>
              </a:spcAft>
              <a:buClr>
                <a:srgbClr val="80808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broadest toolkit for Web Services, inclu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390600" indent="-1177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ice creation from existing Java or COBOL program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2" marL="663480" indent="-1159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cluding transformer generation on z/OS environment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0600" indent="-1177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ice implementation from existing Web Services (WSDL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0600" indent="-1177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lient generation for Web Services test and verificatio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0600" indent="-1177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eb Services consumption: generate Java Proxy from WSD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390600" indent="-117720">
              <a:lnSpc>
                <a:spcPct val="100000"/>
              </a:lnSpc>
              <a:spcAft>
                <a:spcPts val="238"/>
              </a:spcAft>
              <a:buClr>
                <a:srgbClr val="da0030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interface to UDDI Registries to                                                                          browse, discover, download, publish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92560" y="2541600"/>
            <a:ext cx="1332000" cy="684360"/>
          </a:xfrm>
          <a:prstGeom prst="hexagon">
            <a:avLst>
              <a:gd name="adj" fmla="val 48659"/>
              <a:gd name="vf" fmla="val 115470"/>
            </a:avLst>
          </a:prstGeom>
          <a:solidFill>
            <a:srgbClr val="ffff6d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zard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51000" y="5862600"/>
            <a:ext cx="700200" cy="533520"/>
          </a:xfrm>
          <a:prstGeom prst="flowChartDocument">
            <a:avLst/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.wsd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5200" y="5867280"/>
            <a:ext cx="817560" cy="428760"/>
          </a:xfrm>
          <a:prstGeom prst="flowChartDocument">
            <a:avLst/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ds.x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81600" y="6243480"/>
            <a:ext cx="59364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18320" y="2727360"/>
            <a:ext cx="1851120" cy="3400560"/>
          </a:xfrm>
          <a:prstGeom prst="rect">
            <a:avLst/>
          </a:prstGeom>
          <a:gradFill rotWithShape="0">
            <a:gsLst>
              <a:gs pos="0">
                <a:srgbClr val="ffff6d"/>
              </a:gs>
              <a:gs pos="50000">
                <a:srgbClr val="ffff00"/>
              </a:gs>
              <a:gs pos="100000">
                <a:srgbClr val="ffff6d"/>
              </a:gs>
            </a:gsLst>
            <a:lin ang="81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765840" y="5454720"/>
            <a:ext cx="1087560" cy="600120"/>
          </a:xfrm>
          <a:prstGeom prst="rect">
            <a:avLst/>
          </a:prstGeom>
          <a:solidFill>
            <a:srgbClr val="ffb7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3480" y="5502240"/>
            <a:ext cx="8157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97600" y="3311640"/>
            <a:ext cx="4680" cy="326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61200" y="2917800"/>
            <a:ext cx="1182600" cy="496800"/>
          </a:xfrm>
          <a:prstGeom prst="rect">
            <a:avLst/>
          </a:prstGeom>
          <a:solidFill>
            <a:srgbClr val="ffb7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261200" y="3032280"/>
            <a:ext cx="11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ML Pars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8238960" y="3417840"/>
            <a:ext cx="0" cy="13557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51520" y="3059280"/>
            <a:ext cx="1052640" cy="25560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5880" y="3144960"/>
            <a:ext cx="69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T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261200" y="4786200"/>
            <a:ext cx="1182600" cy="495360"/>
          </a:xfrm>
          <a:prstGeom prst="rect">
            <a:avLst/>
          </a:prstGeom>
          <a:solidFill>
            <a:srgbClr val="ffb7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19880" y="4843440"/>
            <a:ext cx="1130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XML/COBO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65840" y="3625920"/>
            <a:ext cx="1182600" cy="495360"/>
          </a:xfrm>
          <a:prstGeom prst="rect">
            <a:avLst/>
          </a:prstGeom>
          <a:solidFill>
            <a:srgbClr val="ffb7e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737400" y="3681360"/>
            <a:ext cx="131616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ransform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river TX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84920" y="4125960"/>
            <a:ext cx="0" cy="6033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29280" y="4183200"/>
            <a:ext cx="0" cy="1268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3795840"/>
            <a:ext cx="2603520" cy="1643040"/>
          </a:xfrm>
          <a:prstGeom prst="rect">
            <a:avLst/>
          </a:prstGeom>
          <a:solidFill>
            <a:srgbClr val="e6e6e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52960" y="3944880"/>
            <a:ext cx="647640" cy="612720"/>
          </a:xfrm>
          <a:prstGeom prst="flowChartSummingJunction">
            <a:avLst/>
          </a:prstGeom>
          <a:solidFill>
            <a:srgbClr val="00efe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6120" y="4110120"/>
            <a:ext cx="293760" cy="2826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16360" y="4272120"/>
            <a:ext cx="809640" cy="680760"/>
          </a:xfrm>
          <a:prstGeom prst="rect">
            <a:avLst/>
          </a:prstGeom>
          <a:gradFill rotWithShape="0">
            <a:gsLst>
              <a:gs pos="0">
                <a:srgbClr val="e1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6680" y="3959280"/>
            <a:ext cx="1962000" cy="1152360"/>
          </a:xfrm>
          <a:prstGeom prst="rect">
            <a:avLst/>
          </a:prstGeom>
          <a:solidFill>
            <a:srgbClr val="e6e6e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6680" y="4368960"/>
            <a:ext cx="404640" cy="380880"/>
          </a:xfrm>
          <a:prstGeom prst="flowChartSummingJunction">
            <a:avLst/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14680" y="4470480"/>
            <a:ext cx="185760" cy="1792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23960" y="4162320"/>
            <a:ext cx="800280" cy="265320"/>
          </a:xfrm>
          <a:prstGeom prst="rect">
            <a:avLst/>
          </a:prstGeom>
          <a:solidFill>
            <a:srgbClr val="ff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estCli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4618080"/>
            <a:ext cx="817560" cy="264960"/>
          </a:xfrm>
          <a:prstGeom prst="rect">
            <a:avLst/>
          </a:prstGeom>
          <a:solidFill>
            <a:srgbClr val="0000d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lient-Ap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27120" y="3681360"/>
            <a:ext cx="542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19280" y="47894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986200" y="4321080"/>
            <a:ext cx="527040" cy="569880"/>
          </a:xfrm>
          <a:prstGeom prst="rect">
            <a:avLst/>
          </a:prstGeom>
          <a:gradFill rotWithShape="0">
            <a:gsLst>
              <a:gs pos="0">
                <a:srgbClr val="e1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35600" y="4734000"/>
            <a:ext cx="901800" cy="463320"/>
          </a:xfrm>
          <a:prstGeom prst="rect">
            <a:avLst/>
          </a:prstGeom>
          <a:solidFill>
            <a:srgbClr val="82e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62600" y="4898880"/>
            <a:ext cx="7668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2EE CIC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25720" y="3540240"/>
            <a:ext cx="644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WA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24240" y="4319640"/>
            <a:ext cx="233280" cy="81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38600" y="4575240"/>
            <a:ext cx="258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389400" y="4602240"/>
            <a:ext cx="50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401920" y="4705200"/>
            <a:ext cx="235080" cy="82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0400" y="4294080"/>
            <a:ext cx="507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69040" y="4475160"/>
            <a:ext cx="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35600" y="3314880"/>
            <a:ext cx="554040" cy="1641240"/>
          </a:xfrm>
          <a:custGeom>
            <a:avLst/>
            <a:gdLst/>
            <a:ahLst/>
            <a:rect l="l" t="t" r="r" b="b"/>
            <a:pathLst>
              <a:path w="383" h="1167">
                <a:moveTo>
                  <a:pt x="0" y="1167"/>
                </a:moveTo>
                <a:lnTo>
                  <a:pt x="383" y="1167"/>
                </a:lnTo>
                <a:lnTo>
                  <a:pt x="383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02200" y="4257720"/>
            <a:ext cx="795600" cy="485640"/>
          </a:xfrm>
          <a:prstGeom prst="roundRect">
            <a:avLst>
              <a:gd name="adj" fmla="val 16667"/>
            </a:avLst>
          </a:prstGeom>
          <a:solidFill>
            <a:srgbClr val="ff7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66000" y="4336920"/>
            <a:ext cx="501480" cy="3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910960" y="3014640"/>
            <a:ext cx="1349640" cy="15159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301840" y="2892600"/>
            <a:ext cx="1898640" cy="13525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67360" y="3255840"/>
            <a:ext cx="568080" cy="25480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403960" y="3144960"/>
            <a:ext cx="1380960" cy="255420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18080" y="2971800"/>
            <a:ext cx="1830600" cy="18781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5087520" y="3260520"/>
            <a:ext cx="57240" cy="9414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368160" y="3095640"/>
            <a:ext cx="995400" cy="27781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45440" y="1387440"/>
            <a:ext cx="1506600" cy="1555920"/>
          </a:xfrm>
          <a:custGeom>
            <a:avLst/>
            <a:gdLst/>
            <a:ahLst/>
            <a:rect l="l" t="t" r="r" b="b"/>
            <a:pathLst>
              <a:path w="1042" h="1106">
                <a:moveTo>
                  <a:pt x="519" y="335"/>
                </a:moveTo>
                <a:lnTo>
                  <a:pt x="372" y="256"/>
                </a:lnTo>
                <a:lnTo>
                  <a:pt x="349" y="369"/>
                </a:lnTo>
                <a:lnTo>
                  <a:pt x="42" y="234"/>
                </a:lnTo>
                <a:lnTo>
                  <a:pt x="266" y="504"/>
                </a:lnTo>
                <a:lnTo>
                  <a:pt x="91" y="546"/>
                </a:lnTo>
                <a:lnTo>
                  <a:pt x="254" y="661"/>
                </a:lnTo>
                <a:lnTo>
                  <a:pt x="0" y="829"/>
                </a:lnTo>
                <a:lnTo>
                  <a:pt x="332" y="752"/>
                </a:lnTo>
                <a:lnTo>
                  <a:pt x="239" y="930"/>
                </a:lnTo>
                <a:lnTo>
                  <a:pt x="435" y="854"/>
                </a:lnTo>
                <a:lnTo>
                  <a:pt x="491" y="1106"/>
                </a:lnTo>
                <a:lnTo>
                  <a:pt x="543" y="854"/>
                </a:lnTo>
                <a:lnTo>
                  <a:pt x="693" y="964"/>
                </a:lnTo>
                <a:lnTo>
                  <a:pt x="719" y="806"/>
                </a:lnTo>
                <a:lnTo>
                  <a:pt x="1042" y="983"/>
                </a:lnTo>
                <a:lnTo>
                  <a:pt x="774" y="685"/>
                </a:lnTo>
                <a:lnTo>
                  <a:pt x="923" y="613"/>
                </a:lnTo>
                <a:lnTo>
                  <a:pt x="806" y="524"/>
                </a:lnTo>
                <a:lnTo>
                  <a:pt x="967" y="334"/>
                </a:lnTo>
                <a:lnTo>
                  <a:pt x="733" y="386"/>
                </a:lnTo>
                <a:lnTo>
                  <a:pt x="729" y="253"/>
                </a:lnTo>
                <a:lnTo>
                  <a:pt x="632" y="313"/>
                </a:lnTo>
                <a:lnTo>
                  <a:pt x="589" y="0"/>
                </a:lnTo>
                <a:lnTo>
                  <a:pt x="519" y="335"/>
                </a:lnTo>
                <a:close/>
              </a:path>
            </a:pathLst>
          </a:custGeom>
          <a:solidFill>
            <a:srgbClr val="5a5a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145280" y="1285920"/>
            <a:ext cx="1550880" cy="1557360"/>
          </a:xfrm>
          <a:custGeom>
            <a:avLst/>
            <a:gdLst/>
            <a:ahLst/>
            <a:rect l="l" t="t" r="r" b="b"/>
            <a:pathLst>
              <a:path w="1073" h="1107">
                <a:moveTo>
                  <a:pt x="551" y="336"/>
                </a:moveTo>
                <a:lnTo>
                  <a:pt x="404" y="257"/>
                </a:lnTo>
                <a:lnTo>
                  <a:pt x="381" y="369"/>
                </a:lnTo>
                <a:lnTo>
                  <a:pt x="74" y="235"/>
                </a:lnTo>
                <a:lnTo>
                  <a:pt x="298" y="504"/>
                </a:lnTo>
                <a:lnTo>
                  <a:pt x="123" y="547"/>
                </a:lnTo>
                <a:lnTo>
                  <a:pt x="286" y="662"/>
                </a:lnTo>
                <a:lnTo>
                  <a:pt x="0" y="842"/>
                </a:lnTo>
                <a:lnTo>
                  <a:pt x="364" y="752"/>
                </a:lnTo>
                <a:lnTo>
                  <a:pt x="271" y="931"/>
                </a:lnTo>
                <a:lnTo>
                  <a:pt x="467" y="855"/>
                </a:lnTo>
                <a:lnTo>
                  <a:pt x="522" y="1107"/>
                </a:lnTo>
                <a:lnTo>
                  <a:pt x="574" y="855"/>
                </a:lnTo>
                <a:lnTo>
                  <a:pt x="725" y="964"/>
                </a:lnTo>
                <a:lnTo>
                  <a:pt x="750" y="807"/>
                </a:lnTo>
                <a:lnTo>
                  <a:pt x="1073" y="982"/>
                </a:lnTo>
                <a:lnTo>
                  <a:pt x="806" y="685"/>
                </a:lnTo>
                <a:lnTo>
                  <a:pt x="955" y="614"/>
                </a:lnTo>
                <a:lnTo>
                  <a:pt x="838" y="524"/>
                </a:lnTo>
                <a:lnTo>
                  <a:pt x="999" y="334"/>
                </a:lnTo>
                <a:lnTo>
                  <a:pt x="765" y="386"/>
                </a:lnTo>
                <a:lnTo>
                  <a:pt x="760" y="253"/>
                </a:lnTo>
                <a:lnTo>
                  <a:pt x="664" y="313"/>
                </a:lnTo>
                <a:lnTo>
                  <a:pt x="620" y="0"/>
                </a:lnTo>
                <a:lnTo>
                  <a:pt x="551" y="33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d5d500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9a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63040" y="2011320"/>
            <a:ext cx="42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79C1-9A74-42AD-8521-B9690CC12D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252440" y="1309680"/>
            <a:ext cx="506088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Validate/prevent syntax errors during cod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Animate and Debug the application Flow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56200" y="2049480"/>
            <a:ext cx="2422800" cy="35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Traditional Debugg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88880" indent="-16200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Java and JSP debugg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88880" indent="-16200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COBOL, PL/I debugg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88880" indent="-16200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EGL debugger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Code Profil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88880" indent="-16200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Java and Distribute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Resource monitor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WebSphere Test Environmen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Object Level Tracing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Third party test tool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88880" indent="-162000">
              <a:lnSpc>
                <a:spcPct val="100000"/>
              </a:lnSpc>
              <a:spcAft>
                <a:spcPts val="275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 Narrow"/>
              </a:rPr>
              <a:t>Mercury, Sitrak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282680" y="2004840"/>
            <a:ext cx="4456080" cy="40989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14440" y="51120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esting and Debug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BD52-174E-44BE-8F53-3455DC2C88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19200" y="50148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ilding and Deplo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11280"/>
            <a:ext cx="360" cy="82260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65440" y="2343240"/>
            <a:ext cx="5154480" cy="3854520"/>
          </a:xfrm>
          <a:prstGeom prst="rect">
            <a:avLst/>
          </a:prstGeom>
          <a:solidFill>
            <a:srgbClr val="e8f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359400" y="2527200"/>
            <a:ext cx="789120" cy="511200"/>
          </a:xfrm>
          <a:custGeom>
            <a:avLst/>
            <a:gdLst/>
            <a:ahLst/>
            <a:rect l="l" t="t" r="r" b="b"/>
            <a:pathLst>
              <a:path w="545" h="364">
                <a:moveTo>
                  <a:pt x="457" y="290"/>
                </a:moveTo>
                <a:cubicBezTo>
                  <a:pt x="457" y="290"/>
                  <a:pt x="457" y="290"/>
                  <a:pt x="457" y="290"/>
                </a:cubicBezTo>
                <a:cubicBezTo>
                  <a:pt x="92" y="290"/>
                  <a:pt x="92" y="290"/>
                  <a:pt x="92" y="290"/>
                </a:cubicBezTo>
                <a:cubicBezTo>
                  <a:pt x="91" y="361"/>
                  <a:pt x="91" y="361"/>
                  <a:pt x="91" y="361"/>
                </a:cubicBezTo>
                <a:cubicBezTo>
                  <a:pt x="0" y="174"/>
                  <a:pt x="0" y="174"/>
                  <a:pt x="0" y="174"/>
                </a:cubicBezTo>
                <a:cubicBezTo>
                  <a:pt x="91" y="0"/>
                  <a:pt x="91" y="0"/>
                  <a:pt x="91" y="0"/>
                </a:cubicBezTo>
                <a:cubicBezTo>
                  <a:pt x="92" y="66"/>
                  <a:pt x="92" y="66"/>
                  <a:pt x="92" y="66"/>
                </a:cubicBezTo>
                <a:cubicBezTo>
                  <a:pt x="458" y="66"/>
                  <a:pt x="458" y="66"/>
                  <a:pt x="458" y="66"/>
                </a:cubicBezTo>
                <a:cubicBezTo>
                  <a:pt x="458" y="0"/>
                  <a:pt x="458" y="0"/>
                  <a:pt x="458" y="0"/>
                </a:cubicBezTo>
                <a:cubicBezTo>
                  <a:pt x="545" y="179"/>
                  <a:pt x="545" y="179"/>
                  <a:pt x="545" y="179"/>
                </a:cubicBezTo>
                <a:cubicBezTo>
                  <a:pt x="457" y="364"/>
                  <a:pt x="457" y="364"/>
                  <a:pt x="457" y="364"/>
                </a:cubicBez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27800" y="2371680"/>
            <a:ext cx="569880" cy="7207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63840" y="3024360"/>
            <a:ext cx="4298760" cy="2152440"/>
          </a:xfrm>
          <a:prstGeom prst="rightArrow">
            <a:avLst>
              <a:gd name="adj1" fmla="val 50000"/>
              <a:gd name="adj2" fmla="val 49929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de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26280" y="3438360"/>
            <a:ext cx="788760" cy="511200"/>
          </a:xfrm>
          <a:custGeom>
            <a:avLst/>
            <a:gdLst/>
            <a:ahLst/>
            <a:rect l="l" t="t" r="r" b="b"/>
            <a:pathLst>
              <a:path w="545" h="364">
                <a:moveTo>
                  <a:pt x="457" y="290"/>
                </a:moveTo>
                <a:cubicBezTo>
                  <a:pt x="457" y="290"/>
                  <a:pt x="457" y="290"/>
                  <a:pt x="457" y="290"/>
                </a:cubicBezTo>
                <a:cubicBezTo>
                  <a:pt x="92" y="290"/>
                  <a:pt x="92" y="290"/>
                  <a:pt x="92" y="290"/>
                </a:cubicBezTo>
                <a:cubicBezTo>
                  <a:pt x="91" y="360"/>
                  <a:pt x="91" y="360"/>
                  <a:pt x="91" y="360"/>
                </a:cubicBezTo>
                <a:cubicBezTo>
                  <a:pt x="0" y="174"/>
                  <a:pt x="0" y="174"/>
                  <a:pt x="0" y="174"/>
                </a:cubicBezTo>
                <a:cubicBezTo>
                  <a:pt x="91" y="0"/>
                  <a:pt x="91" y="0"/>
                  <a:pt x="91" y="0"/>
                </a:cubicBezTo>
                <a:cubicBezTo>
                  <a:pt x="92" y="66"/>
                  <a:pt x="92" y="66"/>
                  <a:pt x="92" y="66"/>
                </a:cubicBezTo>
                <a:cubicBezTo>
                  <a:pt x="459" y="66"/>
                  <a:pt x="459" y="66"/>
                  <a:pt x="459" y="66"/>
                </a:cubicBezTo>
                <a:cubicBezTo>
                  <a:pt x="459" y="0"/>
                  <a:pt x="459" y="0"/>
                  <a:pt x="459" y="0"/>
                </a:cubicBezTo>
                <a:cubicBezTo>
                  <a:pt x="545" y="179"/>
                  <a:pt x="545" y="179"/>
                  <a:pt x="545" y="179"/>
                </a:cubicBezTo>
                <a:cubicBezTo>
                  <a:pt x="457" y="364"/>
                  <a:pt x="457" y="364"/>
                  <a:pt x="457" y="364"/>
                </a:cubicBez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364440" y="4406760"/>
            <a:ext cx="787320" cy="514440"/>
          </a:xfrm>
          <a:custGeom>
            <a:avLst/>
            <a:gdLst/>
            <a:ahLst/>
            <a:rect l="l" t="t" r="r" b="b"/>
            <a:pathLst>
              <a:path w="545" h="365">
                <a:moveTo>
                  <a:pt x="455" y="291"/>
                </a:moveTo>
                <a:cubicBezTo>
                  <a:pt x="455" y="291"/>
                  <a:pt x="455" y="291"/>
                  <a:pt x="455" y="291"/>
                </a:cubicBezTo>
                <a:cubicBezTo>
                  <a:pt x="91" y="291"/>
                  <a:pt x="91" y="291"/>
                  <a:pt x="91" y="291"/>
                </a:cubicBezTo>
                <a:cubicBezTo>
                  <a:pt x="91" y="361"/>
                  <a:pt x="91" y="361"/>
                  <a:pt x="91" y="361"/>
                </a:cubicBezTo>
                <a:cubicBezTo>
                  <a:pt x="0" y="175"/>
                  <a:pt x="0" y="175"/>
                  <a:pt x="0" y="175"/>
                </a:cubicBezTo>
                <a:cubicBezTo>
                  <a:pt x="91" y="0"/>
                  <a:pt x="91" y="0"/>
                  <a:pt x="91" y="0"/>
                </a:cubicBezTo>
                <a:cubicBezTo>
                  <a:pt x="91" y="67"/>
                  <a:pt x="91" y="67"/>
                  <a:pt x="91" y="67"/>
                </a:cubicBezTo>
                <a:cubicBezTo>
                  <a:pt x="458" y="67"/>
                  <a:pt x="458" y="67"/>
                  <a:pt x="458" y="67"/>
                </a:cubicBezTo>
                <a:cubicBezTo>
                  <a:pt x="458" y="0"/>
                  <a:pt x="458" y="0"/>
                  <a:pt x="458" y="0"/>
                </a:cubicBezTo>
                <a:cubicBezTo>
                  <a:pt x="545" y="180"/>
                  <a:pt x="545" y="180"/>
                  <a:pt x="545" y="180"/>
                </a:cubicBezTo>
                <a:cubicBezTo>
                  <a:pt x="455" y="365"/>
                  <a:pt x="455" y="365"/>
                  <a:pt x="455" y="365"/>
                </a:cubicBez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02240" y="5396040"/>
            <a:ext cx="787680" cy="512640"/>
          </a:xfrm>
          <a:custGeom>
            <a:avLst/>
            <a:gdLst/>
            <a:ahLst/>
            <a:rect l="l" t="t" r="r" b="b"/>
            <a:pathLst>
              <a:path w="545" h="364">
                <a:moveTo>
                  <a:pt x="456" y="290"/>
                </a:moveTo>
                <a:cubicBezTo>
                  <a:pt x="456" y="290"/>
                  <a:pt x="456" y="290"/>
                  <a:pt x="456" y="290"/>
                </a:cubicBezTo>
                <a:cubicBezTo>
                  <a:pt x="92" y="290"/>
                  <a:pt x="92" y="290"/>
                  <a:pt x="92" y="290"/>
                </a:cubicBezTo>
                <a:cubicBezTo>
                  <a:pt x="91" y="361"/>
                  <a:pt x="91" y="361"/>
                  <a:pt x="91" y="361"/>
                </a:cubicBezTo>
                <a:cubicBezTo>
                  <a:pt x="0" y="175"/>
                  <a:pt x="0" y="175"/>
                  <a:pt x="0" y="175"/>
                </a:cubicBezTo>
                <a:cubicBezTo>
                  <a:pt x="91" y="0"/>
                  <a:pt x="91" y="0"/>
                  <a:pt x="91" y="0"/>
                </a:cubicBezTo>
                <a:cubicBezTo>
                  <a:pt x="92" y="67"/>
                  <a:pt x="92" y="67"/>
                  <a:pt x="92" y="67"/>
                </a:cubicBezTo>
                <a:cubicBezTo>
                  <a:pt x="459" y="67"/>
                  <a:pt x="459" y="67"/>
                  <a:pt x="459" y="67"/>
                </a:cubicBezTo>
                <a:cubicBezTo>
                  <a:pt x="459" y="0"/>
                  <a:pt x="459" y="0"/>
                  <a:pt x="459" y="0"/>
                </a:cubicBezTo>
                <a:cubicBezTo>
                  <a:pt x="545" y="180"/>
                  <a:pt x="545" y="180"/>
                  <a:pt x="545" y="180"/>
                </a:cubicBezTo>
                <a:cubicBezTo>
                  <a:pt x="456" y="364"/>
                  <a:pt x="456" y="364"/>
                  <a:pt x="456" y="364"/>
                </a:cubicBezTo>
                <a:close/>
              </a:path>
            </a:pathLst>
          </a:custGeom>
          <a:solidFill>
            <a:srgbClr val="ffffa4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22480" y="284472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079720" y="288936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144880" y="292572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12920" y="2971800"/>
            <a:ext cx="5716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68560" y="3726000"/>
            <a:ext cx="571320" cy="72216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5800" y="3773520"/>
            <a:ext cx="569880" cy="71748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92400" y="3808440"/>
            <a:ext cx="57132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60440" y="3854520"/>
            <a:ext cx="57024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116080" y="461016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3320" y="4654440"/>
            <a:ext cx="569880" cy="7225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39920" y="469116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08320" y="4737240"/>
            <a:ext cx="569880" cy="720720"/>
          </a:xfrm>
          <a:prstGeom prst="rect">
            <a:avLst/>
          </a:prstGeom>
          <a:solidFill>
            <a:srgbClr val="ffffd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70160" y="2922480"/>
            <a:ext cx="569880" cy="719280"/>
          </a:xfrm>
          <a:prstGeom prst="rect">
            <a:avLst/>
          </a:prstGeom>
          <a:solidFill>
            <a:srgbClr val="fff1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78080" y="3824280"/>
            <a:ext cx="569880" cy="719280"/>
          </a:xfrm>
          <a:prstGeom prst="rect">
            <a:avLst/>
          </a:prstGeom>
          <a:solidFill>
            <a:srgbClr val="fff1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86000" y="4726080"/>
            <a:ext cx="569880" cy="720720"/>
          </a:xfrm>
          <a:prstGeom prst="rect">
            <a:avLst/>
          </a:prstGeom>
          <a:solidFill>
            <a:srgbClr val="fff1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52720" y="2932200"/>
            <a:ext cx="1229040" cy="254304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929120" y="3606840"/>
            <a:ext cx="1098720" cy="33012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35600" y="3924360"/>
            <a:ext cx="1104840" cy="33012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5600" y="4243320"/>
            <a:ext cx="1096920" cy="328680"/>
          </a:xfrm>
          <a:prstGeom prst="rect">
            <a:avLst/>
          </a:prstGeom>
          <a:solidFill>
            <a:srgbClr val="dbdb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45440" y="3332160"/>
            <a:ext cx="569880" cy="7207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61280" y="4294080"/>
            <a:ext cx="569880" cy="71748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359480" y="5322960"/>
            <a:ext cx="570240" cy="71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49640" y="3214800"/>
            <a:ext cx="37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89240" y="4022640"/>
            <a:ext cx="627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73480" y="4987800"/>
            <a:ext cx="363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GL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35320" y="3056040"/>
            <a:ext cx="39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71680" y="3948120"/>
            <a:ext cx="40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09840" y="4838760"/>
            <a:ext cx="398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62600" y="3687840"/>
            <a:ext cx="103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 comm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68720" y="4017960"/>
            <a:ext cx="103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 comm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78440" y="4344840"/>
            <a:ext cx="103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ild command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86360" y="3614760"/>
            <a:ext cx="79524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262320" y="5478480"/>
            <a:ext cx="4827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46400" y="5492880"/>
            <a:ext cx="473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202360" y="5427720"/>
            <a:ext cx="714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mand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08880" y="2701800"/>
            <a:ext cx="21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505640" y="3595680"/>
            <a:ext cx="26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04200" y="4554360"/>
            <a:ext cx="330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5573880"/>
            <a:ext cx="32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S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3720" y="2616120"/>
            <a:ext cx="4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551640" y="3548160"/>
            <a:ext cx="401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558120" y="4508640"/>
            <a:ext cx="401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566040" y="5487840"/>
            <a:ext cx="399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cke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97160" y="248112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T Cli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00320" y="1268280"/>
            <a:ext cx="5148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Automated Build based on Build Plans (XML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Automatic transfer to target machi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103320" indent="-10332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Narrow"/>
              </a:rPr>
              <a:t>Run build commands on target machi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EADB-6B6D-47E2-8C45-633F485864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124600" y="2773440"/>
            <a:ext cx="2073240" cy="2163600"/>
          </a:xfrm>
          <a:prstGeom prst="rect">
            <a:avLst/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89120" y="1413000"/>
            <a:ext cx="3159000" cy="3504960"/>
          </a:xfrm>
          <a:prstGeom prst="rect">
            <a:avLst/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0200" y="1298520"/>
            <a:ext cx="1477800" cy="1222560"/>
          </a:xfrm>
          <a:custGeom>
            <a:avLst/>
            <a:gdLst>
              <a:gd name="textAreaLeft" fmla="*/ 337320 w 1477800"/>
              <a:gd name="textAreaRight" fmla="*/ 1140480 w 1477800"/>
              <a:gd name="textAreaTop" fmla="*/ 279000 h 1222560"/>
              <a:gd name="textAreaBottom" fmla="*/ 943560 h 122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28640" y="2651040"/>
            <a:ext cx="766800" cy="970200"/>
          </a:xfrm>
          <a:prstGeom prst="rect">
            <a:avLst/>
          </a:prstGeom>
          <a:solidFill>
            <a:srgbClr val="a9f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SP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8000" y="2604960"/>
            <a:ext cx="777960" cy="97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81520" y="1509840"/>
            <a:ext cx="769680" cy="836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ve Java Logi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1720" y="2924280"/>
            <a:ext cx="770040" cy="973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ICS Logi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21120" y="2360520"/>
            <a:ext cx="766800" cy="1003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L generated Java Logi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8200" y="3898800"/>
            <a:ext cx="770040" cy="973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16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GL generated COBOL Logic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375160" y="3348000"/>
            <a:ext cx="138240" cy="146160"/>
          </a:xfrm>
          <a:prstGeom prst="ellipse">
            <a:avLst/>
          </a:prstGeom>
          <a:solidFill>
            <a:srgbClr val="00efe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37080" y="3343320"/>
            <a:ext cx="136440" cy="146160"/>
          </a:xfrm>
          <a:prstGeom prst="ellipse">
            <a:avLst/>
          </a:prstGeom>
          <a:solidFill>
            <a:srgbClr val="00efe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73520" y="3414600"/>
            <a:ext cx="6987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96040" y="4319640"/>
            <a:ext cx="137880" cy="147600"/>
          </a:xfrm>
          <a:prstGeom prst="ellipse">
            <a:avLst/>
          </a:prstGeom>
          <a:solidFill>
            <a:srgbClr val="00efe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4317840"/>
            <a:ext cx="135000" cy="142920"/>
          </a:xfrm>
          <a:prstGeom prst="ellipse">
            <a:avLst/>
          </a:prstGeom>
          <a:solidFill>
            <a:srgbClr val="00efe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94400" y="4383000"/>
            <a:ext cx="6951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06920" y="3484440"/>
            <a:ext cx="853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xml, J2EE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627440" y="4479840"/>
            <a:ext cx="84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494000" y="3102120"/>
            <a:ext cx="425160" cy="410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2655720" y="1934640"/>
            <a:ext cx="1235160" cy="10033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681280" y="2870280"/>
            <a:ext cx="1254240" cy="2318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70120" y="3381480"/>
            <a:ext cx="1860480" cy="363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70120" y="3452760"/>
            <a:ext cx="1878120" cy="93996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03480" y="1460520"/>
            <a:ext cx="8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195880" y="2825640"/>
            <a:ext cx="30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524560" y="3414240"/>
            <a:ext cx="598320" cy="32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43640" y="4392720"/>
            <a:ext cx="5871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82720" y="5234040"/>
            <a:ext cx="79992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960018"/>
                </a:solidFill>
                <a:latin typeface="Arial"/>
              </a:rPr>
              <a:t>Customers want to build robust web applications and services leveraging heterogeneous technologies and skill sets.  And want a solution which speeds them through the entire development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00480" y="1246320"/>
            <a:ext cx="404352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3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47600" indent="-4428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bine middle-tier (web) and host logic in web application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47600" indent="-4428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vide high speed access to host components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47600" indent="-4428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D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47600" indent="-4428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gacy COBOL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lvl="1" marL="147600" indent="-44280">
              <a:lnSpc>
                <a:spcPct val="100000"/>
              </a:lnSpc>
              <a:spcAft>
                <a:spcPts val="238"/>
              </a:spcAft>
              <a:buClr>
                <a:srgbClr val="80808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use currently executing legacy applica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6560" y="50148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xtending the Enterprise to the W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8EC5-23E6-47A0-BA4F-969B7BABB9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04720" y="51120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BM's Application Development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81280" y="2963880"/>
            <a:ext cx="1819080" cy="1739880"/>
          </a:xfrm>
          <a:prstGeom prst="rect">
            <a:avLst/>
          </a:prstGeom>
          <a:solidFill>
            <a:srgbClr val="d2d2d2"/>
          </a:solidFill>
          <a:ln w="507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10080" y="4114800"/>
            <a:ext cx="3138480" cy="1379520"/>
          </a:xfrm>
          <a:prstGeom prst="rect">
            <a:avLst/>
          </a:prstGeom>
          <a:solidFill>
            <a:srgbClr val="d2d2d2"/>
          </a:solidFill>
          <a:ln w="507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783480" y="2070000"/>
            <a:ext cx="1193760" cy="2057400"/>
          </a:xfrm>
          <a:prstGeom prst="rect">
            <a:avLst/>
          </a:prstGeom>
          <a:solidFill>
            <a:srgbClr val="d2d2d2"/>
          </a:solidFill>
          <a:ln w="5076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34040" y="4237200"/>
            <a:ext cx="619200" cy="480960"/>
          </a:xfrm>
          <a:custGeom>
            <a:avLst/>
            <a:gdLst/>
            <a:ahLst/>
            <a:rect l="l" t="t" r="r" b="b"/>
            <a:pathLst>
              <a:path w="428" h="342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2"/>
                  <a:pt x="0" y="342"/>
                  <a:pt x="0" y="171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29520" y="2573280"/>
            <a:ext cx="646200" cy="484200"/>
          </a:xfrm>
          <a:custGeom>
            <a:avLst/>
            <a:gdLst/>
            <a:ahLst/>
            <a:rect l="l" t="t" r="r" b="b"/>
            <a:pathLst>
              <a:path w="447" h="344">
                <a:moveTo>
                  <a:pt x="0" y="172"/>
                </a:moveTo>
                <a:cubicBezTo>
                  <a:pt x="0" y="0"/>
                  <a:pt x="447" y="0"/>
                  <a:pt x="447" y="172"/>
                </a:cubicBezTo>
                <a:cubicBezTo>
                  <a:pt x="447" y="344"/>
                  <a:pt x="0" y="344"/>
                  <a:pt x="0" y="172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21640" y="3770280"/>
            <a:ext cx="617400" cy="4842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2"/>
                </a:moveTo>
                <a:cubicBezTo>
                  <a:pt x="0" y="0"/>
                  <a:pt x="428" y="0"/>
                  <a:pt x="428" y="172"/>
                </a:cubicBezTo>
                <a:cubicBezTo>
                  <a:pt x="428" y="344"/>
                  <a:pt x="0" y="344"/>
                  <a:pt x="0" y="172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53200" y="3178080"/>
            <a:ext cx="617760" cy="480960"/>
          </a:xfrm>
          <a:custGeom>
            <a:avLst/>
            <a:gdLst/>
            <a:ahLst/>
            <a:rect l="l" t="t" r="r" b="b"/>
            <a:pathLst>
              <a:path w="427" h="342">
                <a:moveTo>
                  <a:pt x="0" y="171"/>
                </a:moveTo>
                <a:cubicBezTo>
                  <a:pt x="0" y="0"/>
                  <a:pt x="427" y="0"/>
                  <a:pt x="427" y="171"/>
                </a:cubicBezTo>
                <a:cubicBezTo>
                  <a:pt x="427" y="342"/>
                  <a:pt x="0" y="342"/>
                  <a:pt x="0" y="171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365800" y="4529160"/>
            <a:ext cx="619200" cy="48096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3"/>
                </a:moveTo>
                <a:cubicBezTo>
                  <a:pt x="0" y="0"/>
                  <a:pt x="428" y="0"/>
                  <a:pt x="428" y="173"/>
                </a:cubicBezTo>
                <a:cubicBezTo>
                  <a:pt x="428" y="343"/>
                  <a:pt x="0" y="343"/>
                  <a:pt x="0" y="173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1320" y="3780000"/>
            <a:ext cx="619200" cy="48240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2"/>
                </a:moveTo>
                <a:cubicBezTo>
                  <a:pt x="0" y="0"/>
                  <a:pt x="428" y="0"/>
                  <a:pt x="428" y="172"/>
                </a:cubicBezTo>
                <a:cubicBezTo>
                  <a:pt x="428" y="343"/>
                  <a:pt x="0" y="343"/>
                  <a:pt x="0" y="172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27520" y="4237200"/>
            <a:ext cx="618840" cy="480960"/>
          </a:xfrm>
          <a:custGeom>
            <a:avLst/>
            <a:gdLst/>
            <a:ahLst/>
            <a:rect l="l" t="t" r="r" b="b"/>
            <a:pathLst>
              <a:path w="428" h="342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2"/>
                  <a:pt x="0" y="342"/>
                  <a:pt x="0" y="171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00360" y="2575080"/>
            <a:ext cx="615960" cy="482400"/>
          </a:xfrm>
          <a:custGeom>
            <a:avLst/>
            <a:gdLst/>
            <a:ahLst/>
            <a:rect l="l" t="t" r="r" b="b"/>
            <a:pathLst>
              <a:path w="427" h="343">
                <a:moveTo>
                  <a:pt x="0" y="172"/>
                </a:moveTo>
                <a:cubicBezTo>
                  <a:pt x="0" y="0"/>
                  <a:pt x="427" y="0"/>
                  <a:pt x="427" y="172"/>
                </a:cubicBezTo>
                <a:cubicBezTo>
                  <a:pt x="427" y="343"/>
                  <a:pt x="0" y="343"/>
                  <a:pt x="0" y="172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927080" y="3176640"/>
            <a:ext cx="654120" cy="482400"/>
          </a:xfrm>
          <a:custGeom>
            <a:avLst/>
            <a:gdLst/>
            <a:ahLst/>
            <a:rect l="l" t="t" r="r" b="b"/>
            <a:pathLst>
              <a:path w="453" h="343">
                <a:moveTo>
                  <a:pt x="0" y="171"/>
                </a:moveTo>
                <a:cubicBezTo>
                  <a:pt x="0" y="0"/>
                  <a:pt x="453" y="0"/>
                  <a:pt x="453" y="171"/>
                </a:cubicBezTo>
                <a:cubicBezTo>
                  <a:pt x="453" y="343"/>
                  <a:pt x="0" y="343"/>
                  <a:pt x="0" y="171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87840" y="4538520"/>
            <a:ext cx="617400" cy="4842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2"/>
                </a:moveTo>
                <a:cubicBezTo>
                  <a:pt x="0" y="0"/>
                  <a:pt x="428" y="0"/>
                  <a:pt x="428" y="172"/>
                </a:cubicBezTo>
                <a:cubicBezTo>
                  <a:pt x="428" y="344"/>
                  <a:pt x="0" y="344"/>
                  <a:pt x="0" y="172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30600" y="4630680"/>
            <a:ext cx="617760" cy="4842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3"/>
                </a:moveTo>
                <a:cubicBezTo>
                  <a:pt x="0" y="0"/>
                  <a:pt x="428" y="0"/>
                  <a:pt x="428" y="173"/>
                </a:cubicBezTo>
                <a:cubicBezTo>
                  <a:pt x="428" y="344"/>
                  <a:pt x="0" y="344"/>
                  <a:pt x="0" y="173"/>
                </a:cubicBezTo>
                <a:close/>
              </a:path>
            </a:pathLst>
          </a:custGeom>
          <a:solidFill>
            <a:srgbClr val="808080"/>
          </a:solidFill>
          <a:ln w="25560">
            <a:solidFill>
              <a:srgbClr val="d2d2d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65560" y="5715000"/>
            <a:ext cx="201132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808080"/>
                </a:solidFill>
                <a:latin typeface="Times New Roman"/>
              </a:rPr>
              <a:t>Develop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570560" y="1743120"/>
            <a:ext cx="506160" cy="662040"/>
          </a:xfrm>
          <a:prstGeom prst="flowChartMagneticDisk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19560" y="1857240"/>
            <a:ext cx="466920" cy="701640"/>
          </a:xfrm>
          <a:prstGeom prst="flowChartMagneticDisk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003560" y="2044800"/>
            <a:ext cx="576360" cy="734760"/>
          </a:xfrm>
          <a:prstGeom prst="flowChartMagneticDisk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17920" y="2556000"/>
            <a:ext cx="534960" cy="639720"/>
          </a:xfrm>
          <a:prstGeom prst="flowChartMagneticDisk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973760" y="2527200"/>
            <a:ext cx="522000" cy="608040"/>
          </a:xfrm>
          <a:prstGeom prst="flowChartMagneticDisk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67320" y="1611360"/>
            <a:ext cx="539640" cy="758880"/>
          </a:xfrm>
          <a:prstGeom prst="flowChartMagneticDisk">
            <a:avLst/>
          </a:prstGeom>
          <a:gradFill rotWithShape="0">
            <a:gsLst>
              <a:gs pos="0">
                <a:srgbClr val="ffffff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Build, Deploy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16680" y="1751040"/>
            <a:ext cx="498240" cy="760320"/>
          </a:xfrm>
          <a:prstGeom prst="flowChartMagneticDisk">
            <a:avLst/>
          </a:prstGeom>
          <a:gradFill rotWithShape="0">
            <a:gsLst>
              <a:gs pos="0">
                <a:srgbClr val="ffffff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Tests,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Test da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00680" y="1940040"/>
            <a:ext cx="610920" cy="790560"/>
          </a:xfrm>
          <a:prstGeom prst="flowChartMagneticDisk">
            <a:avLst/>
          </a:prstGeom>
          <a:gradFill rotWithShape="0">
            <a:gsLst>
              <a:gs pos="0">
                <a:srgbClr val="f0f0f0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Appl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Structur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13240" y="2449440"/>
            <a:ext cx="571680" cy="700200"/>
          </a:xfrm>
          <a:prstGeom prst="flowChartMagneticDisk">
            <a:avLst/>
          </a:prstGeom>
          <a:gradFill rotWithShape="0">
            <a:gsLst>
              <a:gs pos="0">
                <a:srgbClr val="ffffff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Verdana"/>
              </a:rPr>
              <a:t>Source Cod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71960" y="2421000"/>
            <a:ext cx="554040" cy="666720"/>
          </a:xfrm>
          <a:prstGeom prst="flowChartMagneticDisk">
            <a:avLst/>
          </a:prstGeom>
          <a:gradFill rotWithShape="0">
            <a:gsLst>
              <a:gs pos="0">
                <a:srgbClr val="ffffff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62400" y="5173560"/>
            <a:ext cx="215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549c"/>
                </a:solidFill>
                <a:latin typeface="Arial"/>
              </a:rPr>
              <a:t>WS Enterprise Develop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19840" y="2100240"/>
            <a:ext cx="1152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549c"/>
                </a:solidFill>
                <a:latin typeface="Arial"/>
              </a:rPr>
              <a:t>Fault Analyz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549c"/>
                </a:solidFill>
                <a:latin typeface="Arial"/>
              </a:rPr>
              <a:t>File Manag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42080" y="2560680"/>
            <a:ext cx="968400" cy="515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4040" y="2638440"/>
            <a:ext cx="5610240" cy="2162160"/>
          </a:xfrm>
          <a:custGeom>
            <a:avLst/>
            <a:gdLst/>
            <a:ahLst/>
            <a:rect l="l" t="t" r="r" b="b"/>
            <a:pathLst>
              <a:path w="3882" h="1537">
                <a:moveTo>
                  <a:pt x="59" y="17"/>
                </a:moveTo>
                <a:cubicBezTo>
                  <a:pt x="0" y="844"/>
                  <a:pt x="863" y="1537"/>
                  <a:pt x="1947" y="1533"/>
                </a:cubicBezTo>
                <a:cubicBezTo>
                  <a:pt x="3034" y="1526"/>
                  <a:pt x="3882" y="824"/>
                  <a:pt x="3810" y="0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097680" y="4152960"/>
            <a:ext cx="617400" cy="48240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3"/>
                  <a:pt x="0" y="343"/>
                  <a:pt x="0" y="171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191360" y="2489040"/>
            <a:ext cx="646200" cy="482760"/>
          </a:xfrm>
          <a:custGeom>
            <a:avLst/>
            <a:gdLst/>
            <a:ahLst/>
            <a:rect l="l" t="t" r="r" b="b"/>
            <a:pathLst>
              <a:path w="447" h="344">
                <a:moveTo>
                  <a:pt x="0" y="173"/>
                </a:moveTo>
                <a:cubicBezTo>
                  <a:pt x="0" y="0"/>
                  <a:pt x="447" y="0"/>
                  <a:pt x="447" y="173"/>
                </a:cubicBezTo>
                <a:cubicBezTo>
                  <a:pt x="447" y="344"/>
                  <a:pt x="0" y="344"/>
                  <a:pt x="0" y="173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83480" y="3687840"/>
            <a:ext cx="619200" cy="48240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3"/>
                  <a:pt x="0" y="343"/>
                  <a:pt x="0" y="171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115040" y="3092400"/>
            <a:ext cx="617760" cy="48276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2"/>
                </a:moveTo>
                <a:cubicBezTo>
                  <a:pt x="0" y="0"/>
                  <a:pt x="428" y="0"/>
                  <a:pt x="428" y="172"/>
                </a:cubicBezTo>
                <a:cubicBezTo>
                  <a:pt x="428" y="343"/>
                  <a:pt x="0" y="343"/>
                  <a:pt x="0" y="172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27640" y="4443480"/>
            <a:ext cx="619200" cy="4842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3"/>
                </a:moveTo>
                <a:cubicBezTo>
                  <a:pt x="0" y="0"/>
                  <a:pt x="428" y="0"/>
                  <a:pt x="428" y="173"/>
                </a:cubicBezTo>
                <a:cubicBezTo>
                  <a:pt x="428" y="344"/>
                  <a:pt x="0" y="344"/>
                  <a:pt x="0" y="173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43160" y="3697200"/>
            <a:ext cx="619200" cy="480960"/>
          </a:xfrm>
          <a:custGeom>
            <a:avLst/>
            <a:gdLst/>
            <a:ahLst/>
            <a:rect l="l" t="t" r="r" b="b"/>
            <a:pathLst>
              <a:path w="428" h="342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2"/>
                  <a:pt x="0" y="342"/>
                  <a:pt x="0" y="171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889360" y="4152960"/>
            <a:ext cx="618840" cy="482400"/>
          </a:xfrm>
          <a:custGeom>
            <a:avLst/>
            <a:gdLst/>
            <a:ahLst/>
            <a:rect l="l" t="t" r="r" b="b"/>
            <a:pathLst>
              <a:path w="428" h="343">
                <a:moveTo>
                  <a:pt x="0" y="171"/>
                </a:moveTo>
                <a:cubicBezTo>
                  <a:pt x="0" y="0"/>
                  <a:pt x="428" y="0"/>
                  <a:pt x="428" y="171"/>
                </a:cubicBezTo>
                <a:cubicBezTo>
                  <a:pt x="428" y="343"/>
                  <a:pt x="0" y="343"/>
                  <a:pt x="0" y="171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62200" y="2489040"/>
            <a:ext cx="617400" cy="482760"/>
          </a:xfrm>
          <a:custGeom>
            <a:avLst/>
            <a:gdLst/>
            <a:ahLst/>
            <a:rect l="l" t="t" r="r" b="b"/>
            <a:pathLst>
              <a:path w="427" h="343">
                <a:moveTo>
                  <a:pt x="0" y="173"/>
                </a:moveTo>
                <a:cubicBezTo>
                  <a:pt x="0" y="0"/>
                  <a:pt x="427" y="0"/>
                  <a:pt x="427" y="173"/>
                </a:cubicBezTo>
                <a:cubicBezTo>
                  <a:pt x="427" y="343"/>
                  <a:pt x="0" y="343"/>
                  <a:pt x="0" y="173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89280" y="3092400"/>
            <a:ext cx="655560" cy="482760"/>
          </a:xfrm>
          <a:custGeom>
            <a:avLst/>
            <a:gdLst/>
            <a:ahLst/>
            <a:rect l="l" t="t" r="r" b="b"/>
            <a:pathLst>
              <a:path w="453" h="343">
                <a:moveTo>
                  <a:pt x="0" y="171"/>
                </a:moveTo>
                <a:cubicBezTo>
                  <a:pt x="0" y="0"/>
                  <a:pt x="453" y="0"/>
                  <a:pt x="453" y="171"/>
                </a:cubicBezTo>
                <a:cubicBezTo>
                  <a:pt x="453" y="343"/>
                  <a:pt x="0" y="343"/>
                  <a:pt x="0" y="171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49680" y="4454640"/>
            <a:ext cx="619200" cy="4824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2"/>
                </a:moveTo>
                <a:cubicBezTo>
                  <a:pt x="0" y="0"/>
                  <a:pt x="428" y="0"/>
                  <a:pt x="428" y="172"/>
                </a:cubicBezTo>
                <a:cubicBezTo>
                  <a:pt x="428" y="344"/>
                  <a:pt x="0" y="344"/>
                  <a:pt x="0" y="172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492800" y="4546440"/>
            <a:ext cx="618840" cy="484200"/>
          </a:xfrm>
          <a:custGeom>
            <a:avLst/>
            <a:gdLst/>
            <a:ahLst/>
            <a:rect l="l" t="t" r="r" b="b"/>
            <a:pathLst>
              <a:path w="428" h="344">
                <a:moveTo>
                  <a:pt x="0" y="173"/>
                </a:moveTo>
                <a:cubicBezTo>
                  <a:pt x="0" y="0"/>
                  <a:pt x="428" y="0"/>
                  <a:pt x="428" y="173"/>
                </a:cubicBezTo>
                <a:cubicBezTo>
                  <a:pt x="428" y="344"/>
                  <a:pt x="0" y="344"/>
                  <a:pt x="0" y="173"/>
                </a:cubicBez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73920" y="4333680"/>
            <a:ext cx="68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Debu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30960" y="2696400"/>
            <a:ext cx="611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464646"/>
                </a:solidFill>
                <a:latin typeface="Arial"/>
              </a:rPr>
              <a:t>Deploymen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21360" y="3880800"/>
            <a:ext cx="368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Te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69040" y="3279600"/>
            <a:ext cx="53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Promo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08240" y="3867480"/>
            <a:ext cx="70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464646"/>
                </a:solidFill>
                <a:latin typeface="Arial"/>
              </a:rPr>
              <a:t>Understand  App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03400" y="4285080"/>
            <a:ext cx="57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464646"/>
                </a:solidFill>
                <a:latin typeface="Arial"/>
              </a:rPr>
              <a:t>Analyze Impact 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805040" y="26316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Busines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reques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93960" y="3206160"/>
            <a:ext cx="64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464646"/>
                </a:solidFill>
                <a:latin typeface="Arial"/>
              </a:rPr>
              <a:t>Estimate effort/cost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451480" y="4640400"/>
            <a:ext cx="3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Buil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93960" y="4643640"/>
            <a:ext cx="56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464646"/>
                </a:solidFill>
                <a:latin typeface="Arial"/>
              </a:rPr>
              <a:t>Generat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02240" y="4737960"/>
            <a:ext cx="38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15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800" spc="-1" strike="noStrike">
                <a:solidFill>
                  <a:srgbClr val="464646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52840" y="3152880"/>
            <a:ext cx="111276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549c"/>
                </a:solidFill>
                <a:latin typeface="Arial"/>
              </a:rPr>
              <a:t>WebSpher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100" spc="-1" strike="noStrike">
                <a:solidFill>
                  <a:srgbClr val="00549c"/>
                </a:solidFill>
                <a:latin typeface="Arial"/>
              </a:rPr>
              <a:t>Studio Asset Analyz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08080" y="1927080"/>
            <a:ext cx="16905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919191"/>
                </a:solidFill>
                <a:latin typeface="Times New Roman"/>
              </a:rPr>
              <a:t>Discover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43560" y="1486080"/>
            <a:ext cx="20178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900" spc="-1" strike="noStrike">
                <a:solidFill>
                  <a:srgbClr val="919191"/>
                </a:solidFill>
                <a:latin typeface="Times New Roman"/>
              </a:rPr>
              <a:t>Deploym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2908440" y="2602080"/>
            <a:ext cx="873000" cy="466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18040" y="330192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11320" y="3876840"/>
            <a:ext cx="7094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1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59C1-EE1C-4179-86CE-4044951650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716040" y="1262160"/>
            <a:ext cx="82389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4760" indent="-104760">
              <a:spcAft>
                <a:spcPts val="374"/>
              </a:spcAft>
              <a:buClr>
                <a:srgbClr val="400097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ing End-to-End Understanding across developer comm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04760" indent="-104760">
              <a:spcAft>
                <a:spcPts val="374"/>
              </a:spcAft>
              <a:buClr>
                <a:srgbClr val="400097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ization support for zOS and distributed Assets so that all developer levels can easily understand business proces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485640"/>
            <a:ext cx="7659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Studio Asset Analyz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4278240" y="2662200"/>
            <a:ext cx="4532400" cy="32814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987480" y="2811600"/>
            <a:ext cx="2833560" cy="31255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1647720" y="2558880"/>
            <a:ext cx="549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100" spc="-1" strike="noStrike">
                <a:solidFill>
                  <a:srgbClr val="400097"/>
                </a:solidFill>
                <a:latin typeface="Arial"/>
              </a:rPr>
              <a:t>zO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94440" y="2616120"/>
            <a:ext cx="1440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100" spc="-1" strike="noStrike">
                <a:solidFill>
                  <a:srgbClr val="400097"/>
                </a:solidFill>
                <a:latin typeface="Arial"/>
              </a:rPr>
              <a:t>distributed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1EA0-5E98-44ED-A3FF-77A44CFB7E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586480" y="3914640"/>
            <a:ext cx="2498760" cy="1758960"/>
          </a:xfrm>
          <a:prstGeom prst="rect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83280" y="5815080"/>
            <a:ext cx="1693800" cy="574560"/>
          </a:xfrm>
          <a:prstGeom prst="rect">
            <a:avLst/>
          </a:pr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80000" y="3894120"/>
            <a:ext cx="2482920" cy="1752480"/>
          </a:xfrm>
          <a:prstGeom prst="rect">
            <a:avLst/>
          </a:prstGeom>
          <a:gradFill rotWithShape="0">
            <a:gsLst>
              <a:gs pos="0">
                <a:srgbClr val="aaaa8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68800" y="5745240"/>
            <a:ext cx="95400" cy="842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35680" y="5837400"/>
            <a:ext cx="161640" cy="314280"/>
          </a:xfrm>
          <a:custGeom>
            <a:avLst/>
            <a:gdLst/>
            <a:ahLst/>
            <a:rect l="l" t="t" r="r" b="b"/>
            <a:pathLst>
              <a:path w="112" h="224">
                <a:moveTo>
                  <a:pt x="56" y="108"/>
                </a:moveTo>
                <a:cubicBezTo>
                  <a:pt x="56" y="108"/>
                  <a:pt x="56" y="108"/>
                  <a:pt x="56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59" y="108"/>
                  <a:pt x="59" y="108"/>
                  <a:pt x="59" y="108"/>
                </a:cubicBezTo>
                <a:cubicBezTo>
                  <a:pt x="59" y="213"/>
                  <a:pt x="59" y="213"/>
                  <a:pt x="59" y="213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60" y="224"/>
                  <a:pt x="83" y="224"/>
                  <a:pt x="84" y="214"/>
                </a:cubicBezTo>
                <a:cubicBezTo>
                  <a:pt x="84" y="212"/>
                  <a:pt x="84" y="212"/>
                  <a:pt x="84" y="212"/>
                </a:cubicBezTo>
                <a:cubicBezTo>
                  <a:pt x="84" y="39"/>
                  <a:pt x="84" y="39"/>
                  <a:pt x="84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3"/>
                  <a:pt x="111" y="112"/>
                  <a:pt x="112" y="101"/>
                </a:cubicBezTo>
                <a:cubicBezTo>
                  <a:pt x="112" y="27"/>
                  <a:pt x="112" y="27"/>
                  <a:pt x="112" y="27"/>
                </a:cubicBezTo>
                <a:cubicBezTo>
                  <a:pt x="112" y="27"/>
                  <a:pt x="112" y="27"/>
                  <a:pt x="112" y="27"/>
                </a:cubicBezTo>
                <a:cubicBezTo>
                  <a:pt x="112" y="27"/>
                  <a:pt x="112" y="27"/>
                  <a:pt x="112" y="27"/>
                </a:cubicBezTo>
                <a:cubicBezTo>
                  <a:pt x="111" y="13"/>
                  <a:pt x="98" y="2"/>
                  <a:pt x="84" y="1"/>
                </a:cubicBezTo>
                <a:cubicBezTo>
                  <a:pt x="83" y="0"/>
                  <a:pt x="83" y="0"/>
                  <a:pt x="83" y="0"/>
                </a:cubicBezTo>
                <a:cubicBezTo>
                  <a:pt x="83" y="0"/>
                  <a:pt x="83" y="0"/>
                  <a:pt x="83" y="0"/>
                </a:cubicBezTo>
                <a:cubicBezTo>
                  <a:pt x="59" y="2"/>
                  <a:pt x="59" y="2"/>
                  <a:pt x="59" y="2"/>
                </a:cubicBezTo>
                <a:cubicBezTo>
                  <a:pt x="59" y="0"/>
                  <a:pt x="59" y="0"/>
                  <a:pt x="59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1"/>
                  <a:pt x="26" y="1"/>
                  <a:pt x="26" y="1"/>
                </a:cubicBezTo>
                <a:cubicBezTo>
                  <a:pt x="12" y="2"/>
                  <a:pt x="0" y="13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101"/>
                  <a:pt x="0" y="101"/>
                  <a:pt x="0" y="101"/>
                </a:cubicBezTo>
                <a:cubicBezTo>
                  <a:pt x="2" y="112"/>
                  <a:pt x="19" y="113"/>
                  <a:pt x="23" y="102"/>
                </a:cubicBezTo>
                <a:cubicBezTo>
                  <a:pt x="23" y="39"/>
                  <a:pt x="23" y="39"/>
                  <a:pt x="23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6" y="212"/>
                  <a:pt x="26" y="212"/>
                  <a:pt x="26" y="212"/>
                </a:cubicBezTo>
                <a:cubicBezTo>
                  <a:pt x="26" y="214"/>
                  <a:pt x="26" y="214"/>
                  <a:pt x="26" y="214"/>
                </a:cubicBezTo>
                <a:cubicBezTo>
                  <a:pt x="26" y="224"/>
                  <a:pt x="52" y="224"/>
                  <a:pt x="52" y="214"/>
                </a:cubicBezTo>
                <a:cubicBezTo>
                  <a:pt x="53" y="213"/>
                  <a:pt x="53" y="213"/>
                  <a:pt x="53" y="213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56" y="108"/>
                  <a:pt x="56" y="108"/>
                  <a:pt x="56" y="108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213"/>
                  <a:pt x="53" y="213"/>
                  <a:pt x="53" y="213"/>
                </a:cubicBezTo>
                <a:cubicBezTo>
                  <a:pt x="53" y="108"/>
                  <a:pt x="53" y="108"/>
                  <a:pt x="53" y="10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61040" y="5837400"/>
            <a:ext cx="199800" cy="314280"/>
          </a:xfrm>
          <a:custGeom>
            <a:avLst/>
            <a:gdLst/>
            <a:ahLst/>
            <a:rect l="l" t="t" r="r" b="b"/>
            <a:pathLst>
              <a:path w="138" h="224">
                <a:moveTo>
                  <a:pt x="47" y="0"/>
                </a:moveTo>
                <a:cubicBezTo>
                  <a:pt x="47" y="0"/>
                  <a:pt x="47" y="0"/>
                  <a:pt x="47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36" y="4"/>
                  <a:pt x="34" y="5"/>
                  <a:pt x="22" y="24"/>
                </a:cubicBezTo>
                <a:cubicBezTo>
                  <a:pt x="22" y="25"/>
                  <a:pt x="22" y="25"/>
                  <a:pt x="22" y="2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108"/>
                  <a:pt x="11" y="105"/>
                  <a:pt x="14" y="96"/>
                </a:cubicBezTo>
                <a:cubicBezTo>
                  <a:pt x="14" y="97"/>
                  <a:pt x="14" y="97"/>
                  <a:pt x="14" y="97"/>
                </a:cubicBezTo>
                <a:cubicBezTo>
                  <a:pt x="41" y="33"/>
                  <a:pt x="41" y="33"/>
                  <a:pt x="41" y="33"/>
                </a:cubicBezTo>
                <a:cubicBezTo>
                  <a:pt x="41" y="33"/>
                  <a:pt x="41" y="33"/>
                  <a:pt x="41" y="33"/>
                </a:cubicBezTo>
                <a:cubicBezTo>
                  <a:pt x="44" y="33"/>
                  <a:pt x="44" y="33"/>
                  <a:pt x="44" y="33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46" y="141"/>
                  <a:pt x="46" y="141"/>
                  <a:pt x="46" y="141"/>
                </a:cubicBezTo>
                <a:cubicBezTo>
                  <a:pt x="46" y="215"/>
                  <a:pt x="46" y="215"/>
                  <a:pt x="46" y="215"/>
                </a:cubicBezTo>
                <a:cubicBezTo>
                  <a:pt x="46" y="224"/>
                  <a:pt x="65" y="224"/>
                  <a:pt x="65" y="215"/>
                </a:cubicBezTo>
                <a:cubicBezTo>
                  <a:pt x="65" y="141"/>
                  <a:pt x="65" y="141"/>
                  <a:pt x="65" y="141"/>
                </a:cubicBezTo>
                <a:cubicBezTo>
                  <a:pt x="65" y="141"/>
                  <a:pt x="65" y="141"/>
                  <a:pt x="65" y="141"/>
                </a:cubicBezTo>
                <a:cubicBezTo>
                  <a:pt x="68" y="141"/>
                  <a:pt x="68" y="141"/>
                  <a:pt x="68" y="141"/>
                </a:cubicBezTo>
                <a:cubicBezTo>
                  <a:pt x="71" y="141"/>
                  <a:pt x="71" y="141"/>
                  <a:pt x="71" y="141"/>
                </a:cubicBezTo>
                <a:cubicBezTo>
                  <a:pt x="71" y="215"/>
                  <a:pt x="71" y="215"/>
                  <a:pt x="71" y="215"/>
                </a:cubicBezTo>
                <a:cubicBezTo>
                  <a:pt x="72" y="224"/>
                  <a:pt x="90" y="224"/>
                  <a:pt x="90" y="215"/>
                </a:cubicBezTo>
                <a:cubicBezTo>
                  <a:pt x="90" y="141"/>
                  <a:pt x="90" y="141"/>
                  <a:pt x="90" y="141"/>
                </a:cubicBezTo>
                <a:cubicBezTo>
                  <a:pt x="122" y="141"/>
                  <a:pt x="122" y="141"/>
                  <a:pt x="122" y="141"/>
                </a:cubicBezTo>
                <a:cubicBezTo>
                  <a:pt x="92" y="33"/>
                  <a:pt x="92" y="33"/>
                  <a:pt x="92" y="33"/>
                </a:cubicBezTo>
                <a:cubicBezTo>
                  <a:pt x="95" y="33"/>
                  <a:pt x="95" y="33"/>
                  <a:pt x="95" y="33"/>
                </a:cubicBezTo>
                <a:cubicBezTo>
                  <a:pt x="96" y="33"/>
                  <a:pt x="96" y="33"/>
                  <a:pt x="96" y="33"/>
                </a:cubicBezTo>
                <a:cubicBezTo>
                  <a:pt x="121" y="97"/>
                  <a:pt x="121" y="97"/>
                  <a:pt x="121" y="97"/>
                </a:cubicBezTo>
                <a:cubicBezTo>
                  <a:pt x="120" y="96"/>
                  <a:pt x="120" y="96"/>
                  <a:pt x="120" y="96"/>
                </a:cubicBezTo>
                <a:cubicBezTo>
                  <a:pt x="122" y="105"/>
                  <a:pt x="138" y="108"/>
                  <a:pt x="137" y="95"/>
                </a:cubicBezTo>
                <a:cubicBezTo>
                  <a:pt x="137" y="95"/>
                  <a:pt x="137" y="95"/>
                  <a:pt x="137" y="95"/>
                </a:cubicBezTo>
                <a:cubicBezTo>
                  <a:pt x="112" y="25"/>
                  <a:pt x="112" y="25"/>
                  <a:pt x="112" y="25"/>
                </a:cubicBezTo>
                <a:cubicBezTo>
                  <a:pt x="112" y="24"/>
                  <a:pt x="112" y="24"/>
                  <a:pt x="112" y="24"/>
                </a:cubicBezTo>
                <a:cubicBezTo>
                  <a:pt x="102" y="5"/>
                  <a:pt x="100" y="4"/>
                  <a:pt x="87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68" y="0"/>
                  <a:pt x="68" y="0"/>
                  <a:pt x="68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13240" y="5743440"/>
            <a:ext cx="92160" cy="82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95840" y="6172200"/>
            <a:ext cx="96660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business analysts, system analysts, developers, testers, project manager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80120" y="5851440"/>
            <a:ext cx="758880" cy="474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VisualAge Enterprise Suite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634000" y="4133880"/>
            <a:ext cx="6494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ource Scanning Tool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69200" y="4089240"/>
            <a:ext cx="730080" cy="520920"/>
          </a:xfrm>
          <a:prstGeom prst="ellipse">
            <a:avLst/>
          </a:prstGeom>
          <a:gradFill rotWithShape="0">
            <a:gsLst>
              <a:gs pos="0">
                <a:srgbClr val="6e8cc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46960" y="4336920"/>
            <a:ext cx="4968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Knowledge Store (DB2)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94600" y="4341960"/>
            <a:ext cx="22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453360" y="4883040"/>
            <a:ext cx="641160" cy="347760"/>
          </a:xfrm>
          <a:prstGeom prst="rect">
            <a:avLst/>
          </a:prstGeom>
          <a:gradFill rotWithShape="0">
            <a:gsLst>
              <a:gs pos="0">
                <a:srgbClr val="d5968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105680" y="4875120"/>
            <a:ext cx="682560" cy="355680"/>
          </a:xfrm>
          <a:prstGeom prst="rect">
            <a:avLst/>
          </a:prstGeom>
          <a:gradFill rotWithShape="0">
            <a:gsLst>
              <a:gs pos="0">
                <a:srgbClr val="7a80c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Connector Information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37200" y="5235480"/>
            <a:ext cx="1585800" cy="246240"/>
          </a:xfrm>
          <a:prstGeom prst="rect">
            <a:avLst/>
          </a:prstGeom>
          <a:gradFill rotWithShape="0">
            <a:gsLst>
              <a:gs pos="0">
                <a:srgbClr val="7fa25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Netscape / I.E. User Interface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107040" y="4603320"/>
            <a:ext cx="392040" cy="273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7067160" y="4646520"/>
            <a:ext cx="30492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59560" y="5473800"/>
            <a:ext cx="270000" cy="387360"/>
          </a:xfrm>
          <a:custGeom>
            <a:avLst/>
            <a:gdLst/>
            <a:ahLst/>
            <a:rect l="l" t="t" r="r" b="b"/>
            <a:pathLst>
              <a:path w="187" h="275">
                <a:moveTo>
                  <a:pt x="187" y="0"/>
                </a:moveTo>
                <a:lnTo>
                  <a:pt x="84" y="123"/>
                </a:lnTo>
                <a:lnTo>
                  <a:pt x="131" y="130"/>
                </a:lnTo>
                <a:lnTo>
                  <a:pt x="0" y="275"/>
                </a:lnTo>
                <a:lnTo>
                  <a:pt x="99" y="142"/>
                </a:lnTo>
                <a:lnTo>
                  <a:pt x="50" y="132"/>
                </a:lnTo>
                <a:close/>
              </a:path>
            </a:pathLst>
          </a:custGeom>
          <a:solidFill>
            <a:srgbClr val="c0a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97440" y="4883040"/>
            <a:ext cx="642960" cy="347760"/>
          </a:xfrm>
          <a:prstGeom prst="rect">
            <a:avLst/>
          </a:prstGeom>
          <a:gradFill rotWithShape="0">
            <a:gsLst>
              <a:gs pos="0">
                <a:srgbClr val="7ca17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Impact Analysi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718320" y="4652640"/>
            <a:ext cx="55440" cy="244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7930800" y="4240080"/>
            <a:ext cx="37620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flipV="1">
            <a:off x="7948080" y="4341960"/>
            <a:ext cx="373320" cy="14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344800" y="4132440"/>
            <a:ext cx="253800" cy="204480"/>
          </a:xfrm>
          <a:prstGeom prst="flowChartMagneticDisk">
            <a:avLst/>
          </a:prstGeom>
          <a:gradFill rotWithShape="0">
            <a:gsLst>
              <a:gs pos="0">
                <a:srgbClr val="f0f0f0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344800" y="4359240"/>
            <a:ext cx="253800" cy="206280"/>
          </a:xfrm>
          <a:prstGeom prst="flowChartMagneticDisk">
            <a:avLst/>
          </a:prstGeom>
          <a:gradFill rotWithShape="0">
            <a:gsLst>
              <a:gs pos="0">
                <a:srgbClr val="f0f0f0"/>
              </a:gs>
              <a:gs pos="100000">
                <a:srgbClr val="b790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301880" y="4133880"/>
            <a:ext cx="647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ource Scanning Tool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7180200" y="4334040"/>
            <a:ext cx="22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920" y="3916440"/>
            <a:ext cx="56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Enterprise Customer AD artifact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649840" y="3914640"/>
            <a:ext cx="234792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WebSphere Studio Asset Analyzer V2.0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984360" y="5840280"/>
            <a:ext cx="703080" cy="4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WebSphere 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tudio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72360" y="4676760"/>
            <a:ext cx="6732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31000" y="5470560"/>
            <a:ext cx="504720" cy="380880"/>
          </a:xfrm>
          <a:custGeom>
            <a:avLst/>
            <a:gdLst/>
            <a:ahLst/>
            <a:rect l="l" t="t" r="r" b="b"/>
            <a:pathLst>
              <a:path w="349" h="270">
                <a:moveTo>
                  <a:pt x="0" y="0"/>
                </a:moveTo>
                <a:lnTo>
                  <a:pt x="154" y="146"/>
                </a:lnTo>
                <a:lnTo>
                  <a:pt x="167" y="86"/>
                </a:lnTo>
                <a:lnTo>
                  <a:pt x="349" y="270"/>
                </a:lnTo>
                <a:lnTo>
                  <a:pt x="179" y="128"/>
                </a:lnTo>
                <a:lnTo>
                  <a:pt x="163" y="193"/>
                </a:lnTo>
                <a:close/>
              </a:path>
            </a:pathLst>
          </a:custGeom>
          <a:solidFill>
            <a:srgbClr val="c0a2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19040" y="51120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Studio Asset Analy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1920240" y="4057560"/>
            <a:ext cx="1392120" cy="234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200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zOS or OS/390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865160" y="4046400"/>
            <a:ext cx="1424160" cy="2324160"/>
          </a:xfrm>
          <a:prstGeom prst="rect">
            <a:avLst/>
          </a:prstGeom>
          <a:gradFill rotWithShape="0">
            <a:gsLst>
              <a:gs pos="0">
                <a:srgbClr val="6495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200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00" spc="-1" strike="noStrike">
                <a:solidFill>
                  <a:srgbClr val="ffffff"/>
                </a:solidFill>
                <a:latin typeface="Arial"/>
              </a:rPr>
              <a:t>zOS or OS/390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2613960" y="4425840"/>
            <a:ext cx="617400" cy="105408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a0a0a0"/>
                </a:solidFill>
                <a:latin typeface="Arial"/>
              </a:rPr>
              <a:t>Inventory Tool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Quick scanner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COBO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PL/I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C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JC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CIC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a0a0a0"/>
                </a:solidFill>
                <a:latin typeface="Arial"/>
              </a:rPr>
              <a:t>IM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589120" y="4197240"/>
            <a:ext cx="620640" cy="2078280"/>
          </a:xfrm>
          <a:prstGeom prst="rect">
            <a:avLst/>
          </a:prstGeom>
          <a:gradFill rotWithShape="0">
            <a:gsLst>
              <a:gs pos="0">
                <a:srgbClr val="b7908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" spc="-1" strike="noStrike">
                <a:solidFill>
                  <a:srgbClr val="280078"/>
                </a:solidFill>
                <a:latin typeface="Arial"/>
              </a:rPr>
              <a:t>Inventory Tool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Quick scanner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COBO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PL/I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C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JC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CIC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IM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Java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C/C++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JSP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XM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HTML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WAR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EAR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Aft>
                <a:spcPts val="5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00" spc="-1" strike="noStrike">
                <a:solidFill>
                  <a:srgbClr val="280078"/>
                </a:solidFill>
                <a:latin typeface="Arial"/>
              </a:rPr>
              <a:t>EJB&amp;EJB jar files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0360" y="4491000"/>
            <a:ext cx="34920" cy="457200"/>
          </a:xfrm>
          <a:custGeom>
            <a:avLst/>
            <a:gdLst/>
            <a:ahLst/>
            <a:rect l="l" t="t" r="r" b="b"/>
            <a:pathLst>
              <a:path w="25" h="325">
                <a:moveTo>
                  <a:pt x="25" y="301"/>
                </a:moveTo>
                <a:lnTo>
                  <a:pt x="0" y="325"/>
                </a:lnTo>
                <a:lnTo>
                  <a:pt x="0" y="23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dcf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84400" y="4813200"/>
            <a:ext cx="388800" cy="44640"/>
          </a:xfrm>
          <a:custGeom>
            <a:avLst/>
            <a:gdLst/>
            <a:ahLst/>
            <a:rect l="l" t="t" r="r" b="b"/>
            <a:pathLst>
              <a:path w="269" h="32">
                <a:moveTo>
                  <a:pt x="237" y="30"/>
                </a:moveTo>
                <a:lnTo>
                  <a:pt x="0" y="32"/>
                </a:lnTo>
                <a:lnTo>
                  <a:pt x="21" y="5"/>
                </a:lnTo>
                <a:lnTo>
                  <a:pt x="269" y="0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092320" y="4589640"/>
            <a:ext cx="44280" cy="280800"/>
          </a:xfrm>
          <a:custGeom>
            <a:avLst/>
            <a:gdLst/>
            <a:ahLst/>
            <a:rect l="l" t="t" r="r" b="b"/>
            <a:pathLst>
              <a:path w="31" h="200">
                <a:moveTo>
                  <a:pt x="0" y="26"/>
                </a:moveTo>
                <a:lnTo>
                  <a:pt x="31" y="0"/>
                </a:lnTo>
                <a:lnTo>
                  <a:pt x="31" y="174"/>
                </a:lnTo>
                <a:lnTo>
                  <a:pt x="0" y="200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22560" y="4491000"/>
            <a:ext cx="569880" cy="424080"/>
          </a:xfrm>
          <a:custGeom>
            <a:avLst/>
            <a:gdLst/>
            <a:ahLst/>
            <a:rect l="l" t="t" r="r" b="b"/>
            <a:pathLst>
              <a:path w="395" h="302">
                <a:moveTo>
                  <a:pt x="237" y="234"/>
                </a:moveTo>
                <a:lnTo>
                  <a:pt x="0" y="234"/>
                </a:lnTo>
                <a:lnTo>
                  <a:pt x="0" y="68"/>
                </a:lnTo>
                <a:lnTo>
                  <a:pt x="237" y="68"/>
                </a:lnTo>
                <a:lnTo>
                  <a:pt x="237" y="0"/>
                </a:lnTo>
                <a:lnTo>
                  <a:pt x="395" y="153"/>
                </a:lnTo>
                <a:lnTo>
                  <a:pt x="237" y="302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917000" y="4221000"/>
            <a:ext cx="453960" cy="2034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917000" y="4497480"/>
            <a:ext cx="447480" cy="1508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917000" y="4705200"/>
            <a:ext cx="453960" cy="1620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917000" y="4937040"/>
            <a:ext cx="453960" cy="168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854360" y="3863880"/>
            <a:ext cx="1325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12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700" spc="-1" strike="noStrike">
                <a:solidFill>
                  <a:srgbClr val="919191"/>
                </a:solidFill>
                <a:latin typeface="Arial"/>
              </a:rPr>
              <a:t>Data Collection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903320" y="4467240"/>
            <a:ext cx="47304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JCL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903320" y="4680000"/>
            <a:ext cx="473040" cy="18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CIC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903320" y="4911840"/>
            <a:ext cx="4730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IM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902600" y="4195800"/>
            <a:ext cx="48276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Sourc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917000" y="5175360"/>
            <a:ext cx="453960" cy="168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903320" y="5149800"/>
            <a:ext cx="4730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HTML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1917000" y="5850000"/>
            <a:ext cx="453960" cy="168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903320" y="5826240"/>
            <a:ext cx="4730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JSP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43320" y="5369040"/>
            <a:ext cx="36360" cy="455400"/>
          </a:xfrm>
          <a:custGeom>
            <a:avLst/>
            <a:gdLst/>
            <a:ahLst/>
            <a:rect l="l" t="t" r="r" b="b"/>
            <a:pathLst>
              <a:path w="25" h="324">
                <a:moveTo>
                  <a:pt x="25" y="300"/>
                </a:moveTo>
                <a:lnTo>
                  <a:pt x="0" y="324"/>
                </a:lnTo>
                <a:lnTo>
                  <a:pt x="0" y="23"/>
                </a:lnTo>
                <a:lnTo>
                  <a:pt x="23" y="0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dcf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097000" y="5689440"/>
            <a:ext cx="387360" cy="44640"/>
          </a:xfrm>
          <a:custGeom>
            <a:avLst/>
            <a:gdLst/>
            <a:ahLst/>
            <a:rect l="l" t="t" r="r" b="b"/>
            <a:pathLst>
              <a:path w="268" h="31">
                <a:moveTo>
                  <a:pt x="238" y="30"/>
                </a:moveTo>
                <a:lnTo>
                  <a:pt x="0" y="31"/>
                </a:lnTo>
                <a:lnTo>
                  <a:pt x="21" y="5"/>
                </a:lnTo>
                <a:lnTo>
                  <a:pt x="268" y="0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104920" y="5465880"/>
            <a:ext cx="44640" cy="282600"/>
          </a:xfrm>
          <a:custGeom>
            <a:avLst/>
            <a:gdLst/>
            <a:ahLst/>
            <a:rect l="l" t="t" r="r" b="b"/>
            <a:pathLst>
              <a:path w="31" h="201">
                <a:moveTo>
                  <a:pt x="0" y="27"/>
                </a:moveTo>
                <a:lnTo>
                  <a:pt x="31" y="0"/>
                </a:lnTo>
                <a:lnTo>
                  <a:pt x="31" y="174"/>
                </a:lnTo>
                <a:lnTo>
                  <a:pt x="0" y="201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133720" y="5367240"/>
            <a:ext cx="571320" cy="425520"/>
          </a:xfrm>
          <a:custGeom>
            <a:avLst/>
            <a:gdLst/>
            <a:ahLst/>
            <a:rect l="l" t="t" r="r" b="b"/>
            <a:pathLst>
              <a:path w="395" h="303">
                <a:moveTo>
                  <a:pt x="237" y="235"/>
                </a:moveTo>
                <a:lnTo>
                  <a:pt x="0" y="235"/>
                </a:lnTo>
                <a:lnTo>
                  <a:pt x="0" y="68"/>
                </a:lnTo>
                <a:lnTo>
                  <a:pt x="237" y="68"/>
                </a:lnTo>
                <a:lnTo>
                  <a:pt x="237" y="0"/>
                </a:lnTo>
                <a:lnTo>
                  <a:pt x="395" y="153"/>
                </a:lnTo>
                <a:lnTo>
                  <a:pt x="237" y="303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1917000" y="6066000"/>
            <a:ext cx="453960" cy="1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1903320" y="6039000"/>
            <a:ext cx="4730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EJB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917000" y="5407200"/>
            <a:ext cx="453960" cy="169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903320" y="5383080"/>
            <a:ext cx="47304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Java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917000" y="5622840"/>
            <a:ext cx="453960" cy="1666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903320" y="5597640"/>
            <a:ext cx="47304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Aft>
                <a:spcPts val="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280078"/>
                </a:solidFill>
                <a:latin typeface="Arial"/>
              </a:rPr>
              <a:t>C/C++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544200" y="3800520"/>
            <a:ext cx="1413000" cy="628560"/>
          </a:xfrm>
          <a:prstGeom prst="rect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2380680" y="1677960"/>
            <a:ext cx="1052280" cy="519120"/>
          </a:xfrm>
          <a:prstGeom prst="rect">
            <a:avLst/>
          </a:prstGeom>
          <a:gradFill rotWithShape="0">
            <a:gsLst>
              <a:gs pos="0">
                <a:srgbClr val="6495b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400480" y="1728720"/>
            <a:ext cx="1188720" cy="3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Understand component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fine relationship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nd Transaction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nd JCL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Narrow Scop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664080" y="1674720"/>
            <a:ext cx="1077840" cy="522360"/>
          </a:xfrm>
          <a:prstGeom prst="rect">
            <a:avLst/>
          </a:prstGeom>
          <a:gradFill rotWithShape="0">
            <a:gsLst>
              <a:gs pos="0">
                <a:srgbClr val="d4d6a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727440" y="1790640"/>
            <a:ext cx="9684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fine program flow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fine data items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data flow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060240" y="1677960"/>
            <a:ext cx="1078200" cy="520560"/>
          </a:xfrm>
          <a:prstGeom prst="rect">
            <a:avLst/>
          </a:prstGeom>
          <a:gradFill rotWithShape="0">
            <a:gsLst>
              <a:gs pos="0">
                <a:srgbClr val="aaaa8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138720" y="1784520"/>
            <a:ext cx="97812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nd Databas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nd Fil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Find Relationship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Generate test case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57160" y="1449360"/>
            <a:ext cx="1360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overy/Pla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316240" y="1333440"/>
            <a:ext cx="1257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81360" y="1360440"/>
            <a:ext cx="1158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siness Knowled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86520" y="1341360"/>
            <a:ext cx="12319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7295400" y="1677960"/>
            <a:ext cx="870120" cy="520560"/>
          </a:xfrm>
          <a:prstGeom prst="rect">
            <a:avLst/>
          </a:prstGeom>
          <a:gradFill rotWithShape="0">
            <a:gsLst>
              <a:gs pos="0">
                <a:srgbClr val="b7908b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34280" y="1778040"/>
            <a:ext cx="865080" cy="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fine candidate connector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78840" y="1352520"/>
            <a:ext cx="1049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Busines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3354480" y="1725480"/>
            <a:ext cx="299880" cy="279360"/>
          </a:xfrm>
          <a:prstGeom prst="line">
            <a:avLst/>
          </a:prstGeom>
          <a:ln w="25560">
            <a:solidFill>
              <a:srgbClr val="46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322960" y="1731960"/>
            <a:ext cx="299880" cy="2793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993000" y="1724040"/>
            <a:ext cx="301680" cy="279360"/>
          </a:xfrm>
          <a:prstGeom prst="line">
            <a:avLst/>
          </a:prstGeom>
          <a:ln w="25560">
            <a:solidFill>
              <a:srgbClr val="46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2065320" y="1743120"/>
            <a:ext cx="299880" cy="279360"/>
          </a:xfrm>
          <a:prstGeom prst="line">
            <a:avLst/>
          </a:prstGeom>
          <a:ln w="25560">
            <a:solidFill>
              <a:srgbClr val="46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1100160" y="1677960"/>
            <a:ext cx="1000080" cy="523800"/>
          </a:xfrm>
          <a:prstGeom prst="rect">
            <a:avLst/>
          </a:pr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138320" y="1773360"/>
            <a:ext cx="874800" cy="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Understand business requirements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efine application boundaries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4875120" y="1677960"/>
            <a:ext cx="1077840" cy="520560"/>
          </a:xfrm>
          <a:prstGeom prst="rect">
            <a:avLst/>
          </a:prstGeom>
          <a:gradFill rotWithShape="0">
            <a:gsLst>
              <a:gs pos="0">
                <a:srgbClr val="f0c5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19760" y="1770120"/>
            <a:ext cx="979560" cy="1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Generate statement of work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3760" indent="-23760">
              <a:spcAft>
                <a:spcPts val="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reate schedule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915080" y="1357200"/>
            <a:ext cx="1230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559400" y="1725480"/>
            <a:ext cx="298440" cy="279360"/>
          </a:xfrm>
          <a:prstGeom prst="line">
            <a:avLst/>
          </a:prstGeom>
          <a:ln w="25560">
            <a:solidFill>
              <a:srgbClr val="46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743440" y="1725480"/>
            <a:ext cx="298440" cy="279360"/>
          </a:xfrm>
          <a:prstGeom prst="line">
            <a:avLst/>
          </a:prstGeom>
          <a:ln w="25560">
            <a:solidFill>
              <a:srgbClr val="46464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545640" y="3800520"/>
            <a:ext cx="1413000" cy="62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793080" y="2354400"/>
            <a:ext cx="7829640" cy="1363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759600" y="2292480"/>
            <a:ext cx="7828200" cy="1373040"/>
          </a:xfrm>
          <a:prstGeom prst="rect">
            <a:avLst/>
          </a:prstGeom>
          <a:solidFill>
            <a:srgbClr val="6495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52560" y="3056040"/>
            <a:ext cx="1068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Application Artifacts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243160" y="3040200"/>
            <a:ext cx="106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Structure and Processing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24400" y="3040200"/>
            <a:ext cx="106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Data flow and impact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354560" y="3030480"/>
            <a:ext cx="1171440" cy="819360"/>
          </a:xfrm>
          <a:prstGeom prst="line">
            <a:avLst/>
          </a:prstGeom>
          <a:ln w="50760">
            <a:solidFill>
              <a:srgbClr val="46464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29360" y="3040200"/>
            <a:ext cx="1068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E-Business Rating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4736880" y="2989440"/>
            <a:ext cx="1508040" cy="807840"/>
          </a:xfrm>
          <a:prstGeom prst="line">
            <a:avLst/>
          </a:prstGeom>
          <a:ln w="50760">
            <a:solidFill>
              <a:srgbClr val="46464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443720" y="3040200"/>
            <a:ext cx="1068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onnector Intelligence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60480" y="263052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03600" y="2625840"/>
            <a:ext cx="270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802480" y="2638440"/>
            <a:ext cx="396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197840" y="2622600"/>
            <a:ext cx="317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148840" y="2357280"/>
            <a:ext cx="1082520" cy="64296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2173320" y="2336760"/>
            <a:ext cx="1014480" cy="63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844880" y="2328840"/>
            <a:ext cx="1067040" cy="67140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4811760" y="2297160"/>
            <a:ext cx="1055520" cy="67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200640" y="2381400"/>
            <a:ext cx="1092240" cy="618840"/>
          </a:xfrm>
          <a:prstGeom prst="rect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6167520" y="2341440"/>
            <a:ext cx="1092240" cy="619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7523280" y="2357280"/>
            <a:ext cx="1031760" cy="642960"/>
          </a:xfrm>
          <a:prstGeom prst="rect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7524720" y="2328840"/>
            <a:ext cx="1031760" cy="642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887400" y="2408400"/>
            <a:ext cx="1014480" cy="58896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60400" y="2414520"/>
            <a:ext cx="1020960" cy="58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89440" y="2944800"/>
            <a:ext cx="884160" cy="843120"/>
          </a:xfrm>
          <a:prstGeom prst="line">
            <a:avLst/>
          </a:prstGeom>
          <a:ln w="50760">
            <a:solidFill>
              <a:srgbClr val="46464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19480" y="3014640"/>
            <a:ext cx="115920" cy="792360"/>
          </a:xfrm>
          <a:prstGeom prst="line">
            <a:avLst/>
          </a:prstGeom>
          <a:ln w="50760">
            <a:solidFill>
              <a:srgbClr val="46464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247920" y="2597040"/>
            <a:ext cx="268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484440" y="2357280"/>
            <a:ext cx="1084320" cy="642960"/>
          </a:xfrm>
          <a:prstGeom prst="rect">
            <a:avLst/>
          </a:pr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508200" y="2336760"/>
            <a:ext cx="1014480" cy="63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80080" y="3024360"/>
            <a:ext cx="1069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3360" indent="-63360">
              <a:spcAft>
                <a:spcPts val="113"/>
              </a:spcAft>
              <a:buClr>
                <a:srgbClr val="280078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Code Extraction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4987800" y="3038400"/>
            <a:ext cx="2565360" cy="835200"/>
          </a:xfrm>
          <a:prstGeom prst="line">
            <a:avLst/>
          </a:prstGeom>
          <a:ln w="50760">
            <a:solidFill>
              <a:srgbClr val="46464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49240" y="3397320"/>
            <a:ext cx="111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00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527280" y="3824280"/>
            <a:ext cx="1487520" cy="641520"/>
          </a:xfrm>
          <a:prstGeom prst="rect">
            <a:avLst/>
          </a:prstGeom>
          <a:solidFill>
            <a:srgbClr val="46464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3537000" y="3789360"/>
            <a:ext cx="1479600" cy="65556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 flipH="1">
            <a:off x="3530520" y="3794040"/>
            <a:ext cx="1486080" cy="641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847800" y="2365200"/>
            <a:ext cx="1052280" cy="60192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2173320" y="2371680"/>
            <a:ext cx="1036440" cy="60948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3510000" y="23716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>
            <a:off x="4834080" y="2355840"/>
            <a:ext cx="1012680" cy="62064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 flipH="1">
            <a:off x="6195240" y="2354400"/>
            <a:ext cx="1135080" cy="6238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6"/>
          <a:stretch/>
        </p:blipFill>
        <p:spPr>
          <a:xfrm>
            <a:off x="6186600" y="2341440"/>
            <a:ext cx="1133280" cy="623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 flipH="1">
            <a:off x="6186600" y="2341440"/>
            <a:ext cx="1133280" cy="627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6189840" y="2549520"/>
            <a:ext cx="1123920" cy="4158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8"/>
          <a:stretch/>
        </p:blipFill>
        <p:spPr>
          <a:xfrm>
            <a:off x="7540560" y="2332080"/>
            <a:ext cx="1014480" cy="65088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4375080" y="5022720"/>
            <a:ext cx="36720" cy="457200"/>
          </a:xfrm>
          <a:custGeom>
            <a:avLst/>
            <a:gdLst/>
            <a:ahLst/>
            <a:rect l="l" t="t" r="r" b="b"/>
            <a:pathLst>
              <a:path w="25" h="325">
                <a:moveTo>
                  <a:pt x="25" y="301"/>
                </a:moveTo>
                <a:lnTo>
                  <a:pt x="0" y="325"/>
                </a:lnTo>
                <a:lnTo>
                  <a:pt x="0" y="23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dcf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030560" y="5345280"/>
            <a:ext cx="387360" cy="44280"/>
          </a:xfrm>
          <a:custGeom>
            <a:avLst/>
            <a:gdLst/>
            <a:ahLst/>
            <a:rect l="l" t="t" r="r" b="b"/>
            <a:pathLst>
              <a:path w="268" h="31">
                <a:moveTo>
                  <a:pt x="236" y="30"/>
                </a:moveTo>
                <a:lnTo>
                  <a:pt x="0" y="31"/>
                </a:lnTo>
                <a:lnTo>
                  <a:pt x="21" y="5"/>
                </a:lnTo>
                <a:lnTo>
                  <a:pt x="268" y="0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037040" y="5121360"/>
            <a:ext cx="44280" cy="282600"/>
          </a:xfrm>
          <a:custGeom>
            <a:avLst/>
            <a:gdLst/>
            <a:ahLst/>
            <a:rect l="l" t="t" r="r" b="b"/>
            <a:pathLst>
              <a:path w="31" h="201">
                <a:moveTo>
                  <a:pt x="0" y="27"/>
                </a:moveTo>
                <a:lnTo>
                  <a:pt x="31" y="0"/>
                </a:lnTo>
                <a:lnTo>
                  <a:pt x="31" y="174"/>
                </a:lnTo>
                <a:lnTo>
                  <a:pt x="0" y="201"/>
                </a:lnTo>
                <a:close/>
              </a:path>
            </a:pathLst>
          </a:custGeom>
          <a:solidFill>
            <a:srgbClr val="c0a25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022720"/>
            <a:ext cx="571320" cy="424080"/>
          </a:xfrm>
          <a:custGeom>
            <a:avLst/>
            <a:gdLst/>
            <a:ahLst/>
            <a:rect l="l" t="t" r="r" b="b"/>
            <a:pathLst>
              <a:path w="395" h="301">
                <a:moveTo>
                  <a:pt x="237" y="234"/>
                </a:moveTo>
                <a:lnTo>
                  <a:pt x="0" y="234"/>
                </a:lnTo>
                <a:lnTo>
                  <a:pt x="0" y="67"/>
                </a:lnTo>
                <a:lnTo>
                  <a:pt x="237" y="67"/>
                </a:lnTo>
                <a:lnTo>
                  <a:pt x="237" y="0"/>
                </a:lnTo>
                <a:lnTo>
                  <a:pt x="395" y="152"/>
                </a:lnTo>
                <a:lnTo>
                  <a:pt x="237" y="301"/>
                </a:lnTo>
                <a:close/>
              </a:path>
            </a:pathLst>
          </a:custGeom>
          <a:gradFill rotWithShape="0">
            <a:gsLst>
              <a:gs pos="0">
                <a:srgbClr val="c0a250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E953-77C3-42F4-BCC5-83C7FA2F73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38320" y="369000"/>
            <a:ext cx="7175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Aft>
                <a:spcPts val="539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555480"/>
            <a:ext cx="6976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Software Plat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Value Pro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96000" y="5329080"/>
            <a:ext cx="3985920" cy="1403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75320" y="5634000"/>
            <a:ext cx="31003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200" spc="-1" strike="noStrike">
                <a:solidFill>
                  <a:srgbClr val="e10000"/>
                </a:solidFill>
                <a:latin typeface="Arial Black"/>
              </a:rPr>
              <a:t>in a F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06920" y="5421240"/>
            <a:ext cx="309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Higher Quality Application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0640" y="6184800"/>
            <a:ext cx="133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 Black"/>
              </a:rPr>
              <a:t>of the Tim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53080" y="5200560"/>
            <a:ext cx="423720" cy="1666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39680" y="5246640"/>
            <a:ext cx="4343400" cy="13352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84680" y="2038320"/>
            <a:ext cx="31719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Help customers deliver, grow &amp; differentiate their e-business to sustain competitive advantage</a:t>
            </a: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4230720"/>
            <a:ext cx="3160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 Black"/>
              </a:rPr>
              <a:t>Tools + Infrastructure +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i="1" lang="en-US" sz="1200" spc="-1" strike="noStrike">
                <a:solidFill>
                  <a:srgbClr val="008000"/>
                </a:solidFill>
                <a:latin typeface="Arial Black"/>
              </a:rPr>
              <a:t>Open Technology +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640" y="1521000"/>
            <a:ext cx="4303800" cy="376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AFDA-C349-4E4B-91D5-8675BF2F7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187280" y="1459080"/>
            <a:ext cx="772344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omprehensive end-to-end development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ingle development environment provides integration of process, tools, infrastructure and asse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More runtimes, developers, and too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ebSphere Application Server, CICS, IMS runtim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eb, Java, and Enterprise Develop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Java, J2EE, Web, XML, COBOL, EGL, and Web servic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Higher-quality applications in a fraction of the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Language sensitive editor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Integrated WebSphere Server test environ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Integrated deployment automation tool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Visual Builder, XML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74840" y="49212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DA17-4AAC-46F3-8685-CBDD3F1E57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84200" y="55872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Developer Over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1459080"/>
            <a:ext cx="7481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IBM's most comprehensive end-to-end development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For the assembly of large-scale, dynamic web applic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uppor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re RAD too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re develop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ore runtime platfor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D395-3B20-4C8D-8891-9602AF90B5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65280" y="63504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ey Benefits of Enterprise Develo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7280" y="1459080"/>
            <a:ext cx="748188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IDE for Enterprise Develop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xtends benefits of Workbench features/tooling to support COBOL, PL/1, EGL (4GL) develop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Eventual migration path for users of VisualAge COBOL, VisualAge PL/1, and VisualAge Generato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velopment support for traditional runti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ICS, IMS, batch for z/OS and S/390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C10E-5B44-4F35-A2CA-77F4525847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98520" y="649440"/>
            <a:ext cx="7681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Studio Enterprise Developer V5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87280" y="1459080"/>
            <a:ext cx="74818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nterprise Generation Language (EG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Rapid develop using a high level specification langu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IDE for z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teractive, workstation-based development for mainframe  COBOL and PL/I app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162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Web Services for Traditional Business Logic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Enabling COBOL &amp; PL/I applications as Web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roviding high performance XML transform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78C36-54A0-4AF5-B03A-EF17F48ED1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79600" y="63504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Generation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459080"/>
            <a:ext cx="774720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asy to learn, whatever your business language ski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Oracle, Coolgen, RPG, COBOL,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Simple, fast application develop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r multiple application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Called servers, batch, 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r multiple data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DB2, Oracle, JDBC, ODB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Sequential, Indexed, Relativ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MQSeries, VSAM, CICS TD, CICS TS, 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r multiple runti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ebSphere Application Server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2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z/OS batch, CICS, ..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99CF-AA4A-4208-803B-4A152CA331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84160" y="2827440"/>
            <a:ext cx="1524240" cy="256536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G Constru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 I/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59080" y="2827440"/>
            <a:ext cx="1960560" cy="256536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L Constructs (R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L I/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624120"/>
            <a:ext cx="2268720" cy="188136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L Additions (R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nized Synta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 Stat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-dimensional arr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sted Struct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level Qualifi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61240" y="2847960"/>
            <a:ext cx="2108160" cy="2441520"/>
          </a:xfrm>
          <a:prstGeom prst="rect">
            <a:avLst/>
          </a:prstGeom>
          <a:solidFill>
            <a:srgbClr val="e6e6e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L Constructs (R1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Transa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S DB/D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 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473040"/>
            <a:ext cx="6976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Generation Langu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39760" y="5621400"/>
            <a:ext cx="7899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700" spc="-1" strike="noStrike">
                <a:solidFill>
                  <a:srgbClr val="da0030"/>
                </a:solidFill>
                <a:latin typeface="Arial"/>
              </a:rPr>
              <a:t>Bringing forward and enhancing the core technologies created over the last 20+ years in VisualAge Generator and CS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312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4480" y="1324080"/>
            <a:ext cx="77166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A new name, linked to IBM’s WebSphere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Migration path from VisualAge Generator's 4G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68040">
              <a:lnSpc>
                <a:spcPct val="100000"/>
              </a:lnSpc>
              <a:spcAft>
                <a:spcPts val="388"/>
              </a:spcAft>
              <a:buClr>
                <a:srgbClr val="000000"/>
              </a:buClr>
              <a:buFont typeface="Arial Narrow"/>
              <a:buChar char="–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 Narrow"/>
              </a:rPr>
              <a:t>with significant additions and enhancements necessary for robust e-business Web Application developmen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9240" y="3432240"/>
            <a:ext cx="43200" cy="550800"/>
          </a:xfrm>
          <a:custGeom>
            <a:avLst/>
            <a:gdLst/>
            <a:ahLst/>
            <a:rect l="l" t="t" r="r" b="b"/>
            <a:pathLst>
              <a:path w="29" h="391">
                <a:moveTo>
                  <a:pt x="29" y="362"/>
                </a:moveTo>
                <a:lnTo>
                  <a:pt x="0" y="391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bcffb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7840" y="3821040"/>
            <a:ext cx="452520" cy="52560"/>
          </a:xfrm>
          <a:custGeom>
            <a:avLst/>
            <a:gdLst/>
            <a:ahLst/>
            <a:rect l="l" t="t" r="r" b="b"/>
            <a:pathLst>
              <a:path w="313" h="37">
                <a:moveTo>
                  <a:pt x="276" y="35"/>
                </a:moveTo>
                <a:lnTo>
                  <a:pt x="0" y="37"/>
                </a:lnTo>
                <a:lnTo>
                  <a:pt x="25" y="6"/>
                </a:lnTo>
                <a:lnTo>
                  <a:pt x="313" y="0"/>
                </a:lnTo>
                <a:close/>
              </a:path>
            </a:pathLst>
          </a:custGeom>
          <a:solidFill>
            <a:srgbClr val="009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6040" y="3546360"/>
            <a:ext cx="44640" cy="327240"/>
          </a:xfrm>
          <a:custGeom>
            <a:avLst/>
            <a:gdLst/>
            <a:ahLst/>
            <a:rect l="l" t="t" r="r" b="b"/>
            <a:pathLst>
              <a:path w="31" h="232">
                <a:moveTo>
                  <a:pt x="0" y="32"/>
                </a:moveTo>
                <a:lnTo>
                  <a:pt x="31" y="0"/>
                </a:lnTo>
                <a:lnTo>
                  <a:pt x="31" y="201"/>
                </a:lnTo>
                <a:lnTo>
                  <a:pt x="0" y="232"/>
                </a:lnTo>
                <a:close/>
              </a:path>
            </a:pathLst>
          </a:custGeom>
          <a:solidFill>
            <a:srgbClr val="bcffb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60680" y="3430440"/>
            <a:ext cx="663480" cy="514440"/>
          </a:xfrm>
          <a:custGeom>
            <a:avLst/>
            <a:gdLst/>
            <a:ahLst/>
            <a:rect l="l" t="t" r="r" b="b"/>
            <a:pathLst>
              <a:path w="459" h="365">
                <a:moveTo>
                  <a:pt x="276" y="283"/>
                </a:moveTo>
                <a:lnTo>
                  <a:pt x="0" y="283"/>
                </a:lnTo>
                <a:lnTo>
                  <a:pt x="0" y="82"/>
                </a:lnTo>
                <a:lnTo>
                  <a:pt x="276" y="82"/>
                </a:lnTo>
                <a:lnTo>
                  <a:pt x="276" y="0"/>
                </a:lnTo>
                <a:lnTo>
                  <a:pt x="459" y="184"/>
                </a:lnTo>
                <a:lnTo>
                  <a:pt x="276" y="365"/>
                </a:lnTo>
                <a:close/>
              </a:path>
            </a:pathLst>
          </a:custGeom>
          <a:gradFill rotWithShape="0">
            <a:gsLst>
              <a:gs pos="0">
                <a:srgbClr val="00b400"/>
              </a:gs>
              <a:gs pos="100000">
                <a:srgbClr val="f0ffd7"/>
              </a:gs>
            </a:gsLst>
            <a:lin ang="135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1640" y="3338640"/>
            <a:ext cx="42840" cy="549000"/>
          </a:xfrm>
          <a:custGeom>
            <a:avLst/>
            <a:gdLst/>
            <a:ahLst/>
            <a:rect l="l" t="t" r="r" b="b"/>
            <a:pathLst>
              <a:path w="29" h="391">
                <a:moveTo>
                  <a:pt x="29" y="362"/>
                </a:moveTo>
                <a:lnTo>
                  <a:pt x="0" y="391"/>
                </a:lnTo>
                <a:lnTo>
                  <a:pt x="0" y="28"/>
                </a:lnTo>
                <a:lnTo>
                  <a:pt x="28" y="0"/>
                </a:lnTo>
                <a:close/>
              </a:path>
            </a:pathLst>
          </a:custGeom>
          <a:solidFill>
            <a:srgbClr val="bcffb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49880" y="3726000"/>
            <a:ext cx="452520" cy="52200"/>
          </a:xfrm>
          <a:custGeom>
            <a:avLst/>
            <a:gdLst/>
            <a:ahLst/>
            <a:rect l="l" t="t" r="r" b="b"/>
            <a:pathLst>
              <a:path w="313" h="37">
                <a:moveTo>
                  <a:pt x="276" y="35"/>
                </a:moveTo>
                <a:lnTo>
                  <a:pt x="0" y="37"/>
                </a:lnTo>
                <a:lnTo>
                  <a:pt x="25" y="6"/>
                </a:lnTo>
                <a:lnTo>
                  <a:pt x="313" y="0"/>
                </a:lnTo>
                <a:close/>
              </a:path>
            </a:pathLst>
          </a:custGeom>
          <a:solidFill>
            <a:srgbClr val="0098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48440" y="3452760"/>
            <a:ext cx="46080" cy="325440"/>
          </a:xfrm>
          <a:custGeom>
            <a:avLst/>
            <a:gdLst/>
            <a:ahLst/>
            <a:rect l="l" t="t" r="r" b="b"/>
            <a:pathLst>
              <a:path w="31" h="232">
                <a:moveTo>
                  <a:pt x="0" y="31"/>
                </a:moveTo>
                <a:lnTo>
                  <a:pt x="31" y="0"/>
                </a:lnTo>
                <a:lnTo>
                  <a:pt x="31" y="201"/>
                </a:lnTo>
                <a:lnTo>
                  <a:pt x="0" y="232"/>
                </a:lnTo>
                <a:close/>
              </a:path>
            </a:pathLst>
          </a:custGeom>
          <a:solidFill>
            <a:srgbClr val="bcffb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94520" y="3336840"/>
            <a:ext cx="663480" cy="513000"/>
          </a:xfrm>
          <a:custGeom>
            <a:avLst/>
            <a:gdLst/>
            <a:ahLst/>
            <a:rect l="l" t="t" r="r" b="b"/>
            <a:pathLst>
              <a:path w="459" h="365">
                <a:moveTo>
                  <a:pt x="276" y="283"/>
                </a:moveTo>
                <a:lnTo>
                  <a:pt x="0" y="283"/>
                </a:lnTo>
                <a:lnTo>
                  <a:pt x="0" y="82"/>
                </a:lnTo>
                <a:lnTo>
                  <a:pt x="276" y="82"/>
                </a:lnTo>
                <a:lnTo>
                  <a:pt x="276" y="0"/>
                </a:lnTo>
                <a:lnTo>
                  <a:pt x="459" y="184"/>
                </a:lnTo>
                <a:lnTo>
                  <a:pt x="276" y="365"/>
                </a:lnTo>
                <a:close/>
              </a:path>
            </a:pathLst>
          </a:custGeom>
          <a:gradFill rotWithShape="0">
            <a:gsLst>
              <a:gs pos="0">
                <a:srgbClr val="00b400"/>
              </a:gs>
              <a:gs pos="100000">
                <a:srgbClr val="f0ffd7"/>
              </a:gs>
            </a:gsLst>
            <a:lin ang="13500000"/>
          </a:gra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C4EB-66AB-430D-9B5E-B31022FC7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3560" y="50148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DE for z/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1459080"/>
            <a:ext cx="74818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Interactive, workstation-based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aster development with less err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Host offload of development CPU cyc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Edit/compile/debug on the works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Language sensitive editing: COBOL, PL/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ata Assista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BMS Map Ed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Performance Analyz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39680" indent="-13968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Font typeface="WingDings" charset="2"/>
              <a:buChar char="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Prepare output on the mainfr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Job generation, submission, and monito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3400" indent="-236520">
              <a:lnSpc>
                <a:spcPct val="100000"/>
              </a:lnSpc>
              <a:spcAft>
                <a:spcPts val="414"/>
              </a:spcAft>
              <a:buClr>
                <a:srgbClr val="000000"/>
              </a:buClr>
              <a:buFont typeface="LotusWP Type"/>
              <a:buChar char="ƒ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TSO command exec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CB5B-2BAA-48BF-9A58-B68AE8E58C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23800" y="520560"/>
            <a:ext cx="6977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SPF based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932200" y="2236680"/>
            <a:ext cx="3776400" cy="27590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89200" y="1344600"/>
            <a:ext cx="223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bmit compile jo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1351080"/>
            <a:ext cx="1722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p to SDSF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4040" y="1587600"/>
            <a:ext cx="11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lect job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85160" y="2300400"/>
            <a:ext cx="1663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error msg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67520" y="3121200"/>
            <a:ext cx="17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code line (remember erro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42320" y="4576680"/>
            <a:ext cx="172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ap to edit sess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26320" y="5603760"/>
            <a:ext cx="974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it JC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5400" y="5607000"/>
            <a:ext cx="1322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it sour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7560" y="5605560"/>
            <a:ext cx="159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code lin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06560" y="4602240"/>
            <a:ext cx="1547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nge cod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27080" y="3384720"/>
            <a:ext cx="13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it sourc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7320" y="2168640"/>
            <a:ext cx="9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Aft>
                <a:spcPts val="388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dit JC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27400" y="1521000"/>
            <a:ext cx="33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51560" y="1569960"/>
            <a:ext cx="493920" cy="92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78800" y="1892160"/>
            <a:ext cx="0" cy="3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89960" y="2637000"/>
            <a:ext cx="0" cy="460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10480" y="4071960"/>
            <a:ext cx="0" cy="461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7307280" y="5207040"/>
            <a:ext cx="18576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67440" y="5749920"/>
            <a:ext cx="579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776760" y="5749920"/>
            <a:ext cx="55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1960560" y="4965480"/>
            <a:ext cx="185760" cy="463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1703520" y="3811320"/>
            <a:ext cx="0" cy="70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1712880" y="2563560"/>
            <a:ext cx="0" cy="765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785960" y="1680840"/>
            <a:ext cx="37152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16120" y="4522680"/>
            <a:ext cx="2023920" cy="466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A4E1-5EFB-4A4F-BCCB-12A5B6F0C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</cp:lastModifiedBy>
  <dcterms:modified xsi:type="dcterms:W3CDTF">2003-05-26T12:44:13Z</dcterms:modified>
  <cp:revision>562</cp:revision>
  <dc:subject>IBM Presentation System</dc:subject>
  <dc:title>IBM blue-and-white template</dc:title>
</cp:coreProperties>
</file>