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246320" y="696960"/>
            <a:ext cx="45050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DC80B-F4D6-4CE5-89A2-3B0F3FAD5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46320" y="696960"/>
            <a:ext cx="45050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the development of high quality applications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 rapidly integrating emerging technologies to make business processes more efficient - but also managing their affect on the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flexible team developmen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specialized development for a broad mix of middle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growing diversity of developer roles and inter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BB4-A46E-47C2-8EAF-8BF6E666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241-16AE-45DE-B86F-ED86AF1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1F3-B18C-4142-A42D-438ED7B9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479-BEDC-436F-AEAC-1AFA7016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1B6-E871-4693-9270-640BBD03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1B9-4DBD-48A4-8FEE-1D9CE30B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BBB-9E4E-41FB-8E43-6576EF20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53E-1FC1-4F80-A756-C0864C36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A53-7B5D-410D-84F4-5274063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2DF-8A7C-4E7D-8900-5A9E95C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2A6-2E49-4617-87D6-99F9F71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CCB-A30D-4F5D-82E3-1708EFC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5CE-E264-4BCA-A165-E379C3FA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6600" y="56880"/>
            <a:ext cx="9928440" cy="7560720"/>
            <a:chOff x="66600" y="56880"/>
            <a:chExt cx="9928440" cy="7560720"/>
          </a:xfrm>
        </p:grpSpPr>
        <p:grpSp>
          <p:nvGrpSpPr>
            <p:cNvPr id="4" name=""/>
            <p:cNvGrpSpPr/>
            <p:nvPr/>
          </p:nvGrpSpPr>
          <p:grpSpPr>
            <a:xfrm>
              <a:off x="66600" y="56880"/>
              <a:ext cx="9928440" cy="7560720"/>
              <a:chOff x="66600" y="56880"/>
              <a:chExt cx="9928440" cy="7560720"/>
            </a:xfrm>
          </p:grpSpPr>
          <p:sp>
            <p:nvSpPr>
              <p:cNvPr id="5" name=""/>
              <p:cNvSpPr/>
              <p:nvPr/>
            </p:nvSpPr>
            <p:spPr>
              <a:xfrm flipV="1">
                <a:off x="330120" y="56880"/>
                <a:ext cx="9664920" cy="1144800"/>
              </a:xfrm>
              <a:prstGeom prst="roundRect">
                <a:avLst>
                  <a:gd name="adj" fmla="val 0"/>
                </a:avLst>
              </a:prstGeom>
              <a:solidFill>
                <a:srgbClr val="002f80"/>
              </a:solidFill>
              <a:ln w="18720">
                <a:solidFill>
                  <a:srgbClr val="002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66600" y="56520"/>
                <a:ext cx="65160" cy="251316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-360 h 2513160"/>
                  <a:gd name="textAreaBottom" fmla="*/ 2513160 h 2513160"/>
                </a:gdLst>
                <a:ahLst/>
                <a:rect l="textAreaLeft" t="textAreaTop" r="textAreaRight" b="textAreaBottom"/>
                <a:pathLst>
                  <a:path w="21600" h="828633">
                    <a:moveTo>
                      <a:pt x="0" y="0"/>
                    </a:moveTo>
                    <a:arcTo wR="0" hR="0" stAng="16200000" swAng="-5400000"/>
                    <a:lnTo>
                      <a:pt x="0" y="828633"/>
                    </a:lnTo>
                    <a:arcTo wR="0" hR="0" stAng="10800000" swAng="-5400000"/>
                    <a:lnTo>
                      <a:pt x="21600" y="8286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a000"/>
              </a:solidFill>
              <a:ln w="1872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66600" y="2574360"/>
                <a:ext cx="65160" cy="251316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-360 h 2513160"/>
                  <a:gd name="textAreaBottom" fmla="*/ 2513160 h 2513160"/>
                </a:gdLst>
                <a:ahLst/>
                <a:rect l="textAreaLeft" t="textAreaTop" r="textAreaRight" b="textAreaBottom"/>
                <a:pathLst>
                  <a:path w="21600" h="828633">
                    <a:moveTo>
                      <a:pt x="0" y="0"/>
                    </a:moveTo>
                    <a:arcTo wR="0" hR="0" stAng="16200000" swAng="-5400000"/>
                    <a:lnTo>
                      <a:pt x="0" y="828633"/>
                    </a:lnTo>
                    <a:arcTo wR="0" hR="0" stAng="10800000" swAng="-5400000"/>
                    <a:lnTo>
                      <a:pt x="21600" y="8286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66600" y="5092560"/>
                <a:ext cx="65160" cy="2513520"/>
              </a:xfrm>
              <a:custGeom>
                <a:avLst/>
                <a:gdLst/>
                <a:ahLst/>
                <a:rect l="l" t="t" r="r" b="b"/>
                <a:pathLst>
                  <a:path w="21600" h="828752">
                    <a:moveTo>
                      <a:pt x="0" y="0"/>
                    </a:moveTo>
                    <a:arcTo wR="0" hR="0" stAng="16200000" swAng="-5400000"/>
                    <a:lnTo>
                      <a:pt x="0" y="828752"/>
                    </a:lnTo>
                    <a:arcTo wR="0" hR="0" stAng="10800000" swAng="-5400000"/>
                    <a:lnTo>
                      <a:pt x="21600" y="82875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0000"/>
              </a:solidFill>
              <a:ln w="187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V="1">
                <a:off x="131760" y="57240"/>
                <a:ext cx="336600" cy="75596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-360 h 7559640"/>
                  <a:gd name="textAreaBottom" fmla="*/ 7559640 h 7559640"/>
                </a:gdLst>
                <a:ahLst/>
                <a:rect l="textAreaLeft" t="textAreaTop" r="textAreaRight" b="textAreaBottom"/>
                <a:pathLst>
                  <a:path w="21600" h="484615">
                    <a:moveTo>
                      <a:pt x="0" y="0"/>
                    </a:moveTo>
                    <a:arcTo wR="0" hR="0" stAng="16200000" swAng="-5400000"/>
                    <a:lnTo>
                      <a:pt x="0" y="484615"/>
                    </a:lnTo>
                    <a:arcTo wR="0" hR="0" stAng="10800000" swAng="-5400000"/>
                    <a:lnTo>
                      <a:pt x="21600" y="48461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140ff"/>
              </a:solidFill>
              <a:ln w="18720">
                <a:solidFill>
                  <a:srgbClr val="c14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1368360" y="1276560"/>
              <a:ext cx="8626680" cy="0"/>
            </a:xfrm>
            <a:prstGeom prst="line">
              <a:avLst/>
            </a:prstGeom>
            <a:ln w="1872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92120" y="4780080"/>
            <a:ext cx="8804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hat's N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52800" y="2259000"/>
          <a:ext cx="556416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2259000"/>
                    <a:ext cx="556416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33240" y="5489640"/>
          <a:ext cx="914400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240" y="5489640"/>
                    <a:ext cx="91440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33240" y="14716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21b"/>
                </a:solidFill>
                <a:latin typeface="Comic Sans MS"/>
              </a:rPr>
              <a:t>WebSphere Studio V5 </a:t>
            </a:r>
            <a:r>
              <a:rPr b="1" lang="en-US" sz="3600" spc="-1" strike="noStrike" u="sng">
                <a:solidFill>
                  <a:srgbClr val="d2021b"/>
                </a:solidFill>
                <a:uFillTx/>
                <a:latin typeface="Comic Sans MS"/>
              </a:rPr>
              <a:t>What’s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92040" y="1854000"/>
            <a:ext cx="926460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rver and project path references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asier to share server configurations and EAR projects across a team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Sphere Configuration/Instance Ed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ditors will be able to configure all WebSphere configuration/instance parameter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nhanced ANT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ommand line build of project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oudscape, Oracle 9i, and Merant Type 4 JDBC driver sup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43160" y="1958760"/>
            <a:ext cx="9239040" cy="28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xtended XS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SL debug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SL Editor (w/code assis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path wiz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Wizard for creating conditional processing in XSL (xsl:choos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nhanced XML schema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xample doc generation from XS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3160" y="1430280"/>
            <a:ext cx="923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XML Tool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6160" y="5483160"/>
            <a:ext cx="923904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DL Export capability for creating/updating 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upport for database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Query builder supports queries over vi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ored Procedure Bui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5018040"/>
            <a:ext cx="923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Data Tools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XML and Data Tools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05000" y="1752480"/>
            <a:ext cx="9239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ivate UDDI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UDDI v2 suppor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DDI Explorer Updated (Now called Web Services Explo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dds support for Web service discovery through Web Service Inspection Language (WSIL)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ch p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SR 101 - "JAX-RPC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 stub generation and programm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XIS ru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SR 109 - Enterprise Web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2EE deployment model for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eb Services Tools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2800" y="5057640"/>
            <a:ext cx="23479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951600" y="1486080"/>
            <a:ext cx="2409840" cy="13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98440" y="307800"/>
            <a:ext cx="83584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T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1670040"/>
            <a:ext cx="896436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Build and manage well-structured web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ster development and application underst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ruts-based implementa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Visual Buil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isual design and assembly of web applica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iz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tup a Struts web project (create new or convert exis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reate a Struts-based JSP or convert an exi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reate ActionForm and Action subclasses, configuration fi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truts configuration file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ppings to Actions, ActionForms , ActionForward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44600" y="307800"/>
            <a:ext cx="835992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Visual design using yellow sticky no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15960" y="3530520"/>
            <a:ext cx="884520" cy="1022400"/>
          </a:xfrm>
          <a:custGeom>
            <a:avLst/>
            <a:gdLst>
              <a:gd name="textAreaLeft" fmla="*/ 0 w 884520"/>
              <a:gd name="textAreaRight" fmla="*/ 884880 w 884520"/>
              <a:gd name="textAreaTop" fmla="*/ 0 h 1022400"/>
              <a:gd name="textAreaBottom" fmla="*/ 1022400 h 102240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arcTo wR="0" hR="0" stAng="16200000" swAng="-5400000"/>
                <a:lnTo>
                  <a:pt x="0" y="24966"/>
                </a:lnTo>
                <a:arcTo wR="0" hR="0" stAng="10800000" swAng="-5400000"/>
                <a:lnTo>
                  <a:pt x="21600" y="2496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62040" y="3564000"/>
            <a:ext cx="100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Brok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H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8840" y="4280040"/>
            <a:ext cx="274680" cy="206280"/>
          </a:xfrm>
          <a:custGeom>
            <a:avLst/>
            <a:gdLst/>
            <a:ahLst/>
            <a:rect l="l" t="t" r="r" b="b"/>
            <a:pathLst>
              <a:path w="173" h="130">
                <a:moveTo>
                  <a:pt x="21" y="0"/>
                </a:moveTo>
                <a:lnTo>
                  <a:pt x="17" y="1"/>
                </a:lnTo>
                <a:lnTo>
                  <a:pt x="13" y="2"/>
                </a:lnTo>
                <a:lnTo>
                  <a:pt x="7" y="6"/>
                </a:lnTo>
                <a:lnTo>
                  <a:pt x="2" y="14"/>
                </a:lnTo>
                <a:lnTo>
                  <a:pt x="1" y="17"/>
                </a:lnTo>
                <a:lnTo>
                  <a:pt x="0" y="21"/>
                </a:lnTo>
                <a:lnTo>
                  <a:pt x="0" y="108"/>
                </a:lnTo>
                <a:lnTo>
                  <a:pt x="1" y="111"/>
                </a:lnTo>
                <a:lnTo>
                  <a:pt x="2" y="115"/>
                </a:lnTo>
                <a:lnTo>
                  <a:pt x="7" y="122"/>
                </a:lnTo>
                <a:lnTo>
                  <a:pt x="13" y="127"/>
                </a:lnTo>
                <a:lnTo>
                  <a:pt x="17" y="129"/>
                </a:lnTo>
                <a:lnTo>
                  <a:pt x="21" y="129"/>
                </a:lnTo>
                <a:lnTo>
                  <a:pt x="150" y="129"/>
                </a:lnTo>
                <a:lnTo>
                  <a:pt x="155" y="129"/>
                </a:lnTo>
                <a:lnTo>
                  <a:pt x="158" y="127"/>
                </a:lnTo>
                <a:lnTo>
                  <a:pt x="165" y="122"/>
                </a:lnTo>
                <a:lnTo>
                  <a:pt x="170" y="115"/>
                </a:lnTo>
                <a:lnTo>
                  <a:pt x="172" y="111"/>
                </a:lnTo>
                <a:lnTo>
                  <a:pt x="172" y="108"/>
                </a:lnTo>
                <a:lnTo>
                  <a:pt x="172" y="21"/>
                </a:lnTo>
                <a:lnTo>
                  <a:pt x="172" y="17"/>
                </a:lnTo>
                <a:lnTo>
                  <a:pt x="170" y="14"/>
                </a:lnTo>
                <a:lnTo>
                  <a:pt x="165" y="6"/>
                </a:lnTo>
                <a:lnTo>
                  <a:pt x="158" y="2"/>
                </a:lnTo>
                <a:lnTo>
                  <a:pt x="155" y="1"/>
                </a:lnTo>
                <a:lnTo>
                  <a:pt x="150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30400" y="4280040"/>
            <a:ext cx="4762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760" y="4006800"/>
            <a:ext cx="680760" cy="206280"/>
          </a:xfrm>
          <a:custGeom>
            <a:avLst/>
            <a:gdLst/>
            <a:ahLst/>
            <a:rect l="l" t="t" r="r" b="b"/>
            <a:pathLst>
              <a:path w="429" h="130">
                <a:moveTo>
                  <a:pt x="20" y="0"/>
                </a:moveTo>
                <a:lnTo>
                  <a:pt x="16" y="1"/>
                </a:lnTo>
                <a:lnTo>
                  <a:pt x="12" y="2"/>
                </a:lnTo>
                <a:lnTo>
                  <a:pt x="5" y="7"/>
                </a:lnTo>
                <a:lnTo>
                  <a:pt x="1" y="14"/>
                </a:lnTo>
                <a:lnTo>
                  <a:pt x="0" y="17"/>
                </a:lnTo>
                <a:lnTo>
                  <a:pt x="0" y="22"/>
                </a:lnTo>
                <a:lnTo>
                  <a:pt x="0" y="107"/>
                </a:lnTo>
                <a:lnTo>
                  <a:pt x="0" y="112"/>
                </a:lnTo>
                <a:lnTo>
                  <a:pt x="1" y="116"/>
                </a:lnTo>
                <a:lnTo>
                  <a:pt x="5" y="122"/>
                </a:lnTo>
                <a:lnTo>
                  <a:pt x="12" y="127"/>
                </a:lnTo>
                <a:lnTo>
                  <a:pt x="16" y="129"/>
                </a:lnTo>
                <a:lnTo>
                  <a:pt x="20" y="129"/>
                </a:lnTo>
                <a:lnTo>
                  <a:pt x="406" y="129"/>
                </a:lnTo>
                <a:lnTo>
                  <a:pt x="411" y="129"/>
                </a:lnTo>
                <a:lnTo>
                  <a:pt x="414" y="127"/>
                </a:lnTo>
                <a:lnTo>
                  <a:pt x="421" y="122"/>
                </a:lnTo>
                <a:lnTo>
                  <a:pt x="426" y="116"/>
                </a:lnTo>
                <a:lnTo>
                  <a:pt x="428" y="112"/>
                </a:lnTo>
                <a:lnTo>
                  <a:pt x="428" y="107"/>
                </a:lnTo>
                <a:lnTo>
                  <a:pt x="428" y="22"/>
                </a:lnTo>
                <a:lnTo>
                  <a:pt x="428" y="17"/>
                </a:lnTo>
                <a:lnTo>
                  <a:pt x="426" y="14"/>
                </a:lnTo>
                <a:lnTo>
                  <a:pt x="421" y="7"/>
                </a:lnTo>
                <a:lnTo>
                  <a:pt x="414" y="2"/>
                </a:lnTo>
                <a:lnTo>
                  <a:pt x="411" y="1"/>
                </a:lnTo>
                <a:lnTo>
                  <a:pt x="406" y="0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2800" y="3994200"/>
            <a:ext cx="1144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New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52560" y="4376880"/>
            <a:ext cx="187200" cy="914400"/>
          </a:xfrm>
          <a:custGeom>
            <a:avLst/>
            <a:gdLst/>
            <a:ahLst/>
            <a:rect l="l" t="t" r="r" b="b"/>
            <a:pathLst>
              <a:path w="118" h="576">
                <a:moveTo>
                  <a:pt x="18" y="0"/>
                </a:moveTo>
                <a:lnTo>
                  <a:pt x="0" y="11"/>
                </a:lnTo>
                <a:lnTo>
                  <a:pt x="20" y="45"/>
                </a:lnTo>
                <a:lnTo>
                  <a:pt x="41" y="78"/>
                </a:lnTo>
                <a:lnTo>
                  <a:pt x="61" y="113"/>
                </a:lnTo>
                <a:lnTo>
                  <a:pt x="70" y="132"/>
                </a:lnTo>
                <a:lnTo>
                  <a:pt x="77" y="149"/>
                </a:lnTo>
                <a:lnTo>
                  <a:pt x="77" y="150"/>
                </a:lnTo>
                <a:lnTo>
                  <a:pt x="85" y="177"/>
                </a:lnTo>
                <a:lnTo>
                  <a:pt x="93" y="204"/>
                </a:lnTo>
                <a:lnTo>
                  <a:pt x="101" y="198"/>
                </a:lnTo>
                <a:lnTo>
                  <a:pt x="91" y="198"/>
                </a:lnTo>
                <a:lnTo>
                  <a:pt x="94" y="225"/>
                </a:lnTo>
                <a:lnTo>
                  <a:pt x="95" y="252"/>
                </a:lnTo>
                <a:lnTo>
                  <a:pt x="95" y="279"/>
                </a:lnTo>
                <a:lnTo>
                  <a:pt x="94" y="306"/>
                </a:lnTo>
                <a:lnTo>
                  <a:pt x="91" y="335"/>
                </a:lnTo>
                <a:lnTo>
                  <a:pt x="86" y="360"/>
                </a:lnTo>
                <a:lnTo>
                  <a:pt x="76" y="416"/>
                </a:lnTo>
                <a:lnTo>
                  <a:pt x="68" y="468"/>
                </a:lnTo>
                <a:lnTo>
                  <a:pt x="63" y="495"/>
                </a:lnTo>
                <a:lnTo>
                  <a:pt x="59" y="522"/>
                </a:lnTo>
                <a:lnTo>
                  <a:pt x="57" y="550"/>
                </a:lnTo>
                <a:lnTo>
                  <a:pt x="57" y="575"/>
                </a:lnTo>
                <a:lnTo>
                  <a:pt x="78" y="575"/>
                </a:lnTo>
                <a:lnTo>
                  <a:pt x="79" y="550"/>
                </a:lnTo>
                <a:lnTo>
                  <a:pt x="81" y="522"/>
                </a:lnTo>
                <a:lnTo>
                  <a:pt x="84" y="495"/>
                </a:lnTo>
                <a:lnTo>
                  <a:pt x="90" y="468"/>
                </a:lnTo>
                <a:lnTo>
                  <a:pt x="98" y="416"/>
                </a:lnTo>
                <a:lnTo>
                  <a:pt x="109" y="360"/>
                </a:lnTo>
                <a:lnTo>
                  <a:pt x="112" y="335"/>
                </a:lnTo>
                <a:lnTo>
                  <a:pt x="115" y="306"/>
                </a:lnTo>
                <a:lnTo>
                  <a:pt x="117" y="279"/>
                </a:lnTo>
                <a:lnTo>
                  <a:pt x="117" y="252"/>
                </a:lnTo>
                <a:lnTo>
                  <a:pt x="116" y="225"/>
                </a:lnTo>
                <a:lnTo>
                  <a:pt x="112" y="198"/>
                </a:lnTo>
                <a:lnTo>
                  <a:pt x="112" y="195"/>
                </a:lnTo>
                <a:lnTo>
                  <a:pt x="105" y="168"/>
                </a:lnTo>
                <a:lnTo>
                  <a:pt x="97" y="143"/>
                </a:lnTo>
                <a:lnTo>
                  <a:pt x="87" y="146"/>
                </a:lnTo>
                <a:lnTo>
                  <a:pt x="97" y="143"/>
                </a:lnTo>
                <a:lnTo>
                  <a:pt x="90" y="124"/>
                </a:lnTo>
                <a:lnTo>
                  <a:pt x="81" y="105"/>
                </a:lnTo>
                <a:lnTo>
                  <a:pt x="60" y="69"/>
                </a:lnTo>
                <a:lnTo>
                  <a:pt x="39" y="36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97200" y="5132520"/>
            <a:ext cx="152280" cy="158760"/>
          </a:xfrm>
          <a:custGeom>
            <a:avLst/>
            <a:gdLst/>
            <a:ahLst/>
            <a:rect l="l" t="t" r="r" b="b"/>
            <a:pathLst>
              <a:path w="96" h="100">
                <a:moveTo>
                  <a:pt x="0" y="0"/>
                </a:moveTo>
                <a:lnTo>
                  <a:pt x="40" y="99"/>
                </a:lnTo>
                <a:lnTo>
                  <a:pt x="95" y="8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5680" y="5373720"/>
            <a:ext cx="14018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eneral links to our public stuff and external sites of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48280" y="2057400"/>
            <a:ext cx="885960" cy="1023840"/>
          </a:xfrm>
          <a:custGeom>
            <a:avLst/>
            <a:gdLst>
              <a:gd name="textAreaLeft" fmla="*/ 0 w 885960"/>
              <a:gd name="textAreaRight" fmla="*/ 886320 w 885960"/>
              <a:gd name="textAreaTop" fmla="*/ 360 h 1023840"/>
              <a:gd name="textAreaBottom" fmla="*/ 1024560 h 1023840"/>
            </a:gdLst>
            <a:ahLst/>
            <a:rect l="textAreaLeft" t="textAreaTop" r="textAreaRight" b="textAreaBottom"/>
            <a:pathLst>
              <a:path w="21600" h="24960">
                <a:moveTo>
                  <a:pt x="0" y="0"/>
                </a:moveTo>
                <a:arcTo wR="0" hR="0" stAng="16200000" swAng="-5400000"/>
                <a:lnTo>
                  <a:pt x="0" y="24960"/>
                </a:lnTo>
                <a:arcTo wR="0" hR="0" stAng="10800000" swAng="-5400000"/>
                <a:lnTo>
                  <a:pt x="21600" y="249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94360" y="2016000"/>
            <a:ext cx="820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Accou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4720" y="2690640"/>
            <a:ext cx="1028880" cy="1441800"/>
          </a:xfrm>
          <a:custGeom>
            <a:avLst/>
            <a:gdLst/>
            <a:ahLst/>
            <a:rect l="l" t="t" r="r" b="b"/>
            <a:pathLst>
              <a:path w="648" h="908">
                <a:moveTo>
                  <a:pt x="0" y="889"/>
                </a:moveTo>
                <a:lnTo>
                  <a:pt x="11" y="907"/>
                </a:lnTo>
                <a:lnTo>
                  <a:pt x="34" y="893"/>
                </a:lnTo>
                <a:lnTo>
                  <a:pt x="55" y="879"/>
                </a:lnTo>
                <a:lnTo>
                  <a:pt x="60" y="876"/>
                </a:lnTo>
                <a:lnTo>
                  <a:pt x="80" y="862"/>
                </a:lnTo>
                <a:lnTo>
                  <a:pt x="101" y="846"/>
                </a:lnTo>
                <a:lnTo>
                  <a:pt x="138" y="815"/>
                </a:lnTo>
                <a:lnTo>
                  <a:pt x="175" y="784"/>
                </a:lnTo>
                <a:lnTo>
                  <a:pt x="207" y="753"/>
                </a:lnTo>
                <a:lnTo>
                  <a:pt x="237" y="720"/>
                </a:lnTo>
                <a:lnTo>
                  <a:pt x="265" y="687"/>
                </a:lnTo>
                <a:lnTo>
                  <a:pt x="293" y="654"/>
                </a:lnTo>
                <a:lnTo>
                  <a:pt x="319" y="619"/>
                </a:lnTo>
                <a:lnTo>
                  <a:pt x="343" y="583"/>
                </a:lnTo>
                <a:lnTo>
                  <a:pt x="368" y="545"/>
                </a:lnTo>
                <a:lnTo>
                  <a:pt x="393" y="509"/>
                </a:lnTo>
                <a:lnTo>
                  <a:pt x="395" y="505"/>
                </a:lnTo>
                <a:lnTo>
                  <a:pt x="422" y="466"/>
                </a:lnTo>
                <a:lnTo>
                  <a:pt x="411" y="463"/>
                </a:lnTo>
                <a:lnTo>
                  <a:pt x="419" y="471"/>
                </a:lnTo>
                <a:lnTo>
                  <a:pt x="447" y="431"/>
                </a:lnTo>
                <a:lnTo>
                  <a:pt x="475" y="390"/>
                </a:lnTo>
                <a:lnTo>
                  <a:pt x="506" y="348"/>
                </a:lnTo>
                <a:lnTo>
                  <a:pt x="507" y="345"/>
                </a:lnTo>
                <a:lnTo>
                  <a:pt x="508" y="343"/>
                </a:lnTo>
                <a:lnTo>
                  <a:pt x="511" y="327"/>
                </a:lnTo>
                <a:lnTo>
                  <a:pt x="511" y="324"/>
                </a:lnTo>
                <a:lnTo>
                  <a:pt x="514" y="306"/>
                </a:lnTo>
                <a:lnTo>
                  <a:pt x="518" y="287"/>
                </a:lnTo>
                <a:lnTo>
                  <a:pt x="521" y="267"/>
                </a:lnTo>
                <a:lnTo>
                  <a:pt x="529" y="224"/>
                </a:lnTo>
                <a:lnTo>
                  <a:pt x="536" y="182"/>
                </a:lnTo>
                <a:lnTo>
                  <a:pt x="524" y="182"/>
                </a:lnTo>
                <a:lnTo>
                  <a:pt x="535" y="186"/>
                </a:lnTo>
                <a:lnTo>
                  <a:pt x="544" y="145"/>
                </a:lnTo>
                <a:lnTo>
                  <a:pt x="547" y="125"/>
                </a:lnTo>
                <a:lnTo>
                  <a:pt x="553" y="106"/>
                </a:lnTo>
                <a:lnTo>
                  <a:pt x="559" y="87"/>
                </a:lnTo>
                <a:lnTo>
                  <a:pt x="565" y="69"/>
                </a:lnTo>
                <a:lnTo>
                  <a:pt x="571" y="54"/>
                </a:lnTo>
                <a:lnTo>
                  <a:pt x="578" y="40"/>
                </a:lnTo>
                <a:lnTo>
                  <a:pt x="579" y="37"/>
                </a:lnTo>
                <a:lnTo>
                  <a:pt x="579" y="33"/>
                </a:lnTo>
                <a:lnTo>
                  <a:pt x="580" y="29"/>
                </a:lnTo>
                <a:lnTo>
                  <a:pt x="580" y="25"/>
                </a:lnTo>
                <a:lnTo>
                  <a:pt x="582" y="21"/>
                </a:lnTo>
                <a:lnTo>
                  <a:pt x="571" y="21"/>
                </a:lnTo>
                <a:lnTo>
                  <a:pt x="580" y="25"/>
                </a:lnTo>
                <a:lnTo>
                  <a:pt x="582" y="23"/>
                </a:lnTo>
                <a:lnTo>
                  <a:pt x="583" y="19"/>
                </a:lnTo>
                <a:lnTo>
                  <a:pt x="573" y="15"/>
                </a:lnTo>
                <a:lnTo>
                  <a:pt x="580" y="23"/>
                </a:lnTo>
                <a:lnTo>
                  <a:pt x="577" y="26"/>
                </a:lnTo>
                <a:lnTo>
                  <a:pt x="580" y="25"/>
                </a:lnTo>
                <a:lnTo>
                  <a:pt x="576" y="14"/>
                </a:lnTo>
                <a:lnTo>
                  <a:pt x="576" y="26"/>
                </a:lnTo>
                <a:lnTo>
                  <a:pt x="582" y="26"/>
                </a:lnTo>
                <a:lnTo>
                  <a:pt x="584" y="26"/>
                </a:lnTo>
                <a:lnTo>
                  <a:pt x="589" y="27"/>
                </a:lnTo>
                <a:lnTo>
                  <a:pt x="594" y="27"/>
                </a:lnTo>
                <a:lnTo>
                  <a:pt x="602" y="27"/>
                </a:lnTo>
                <a:lnTo>
                  <a:pt x="609" y="26"/>
                </a:lnTo>
                <a:lnTo>
                  <a:pt x="620" y="26"/>
                </a:lnTo>
                <a:lnTo>
                  <a:pt x="625" y="25"/>
                </a:lnTo>
                <a:lnTo>
                  <a:pt x="630" y="25"/>
                </a:lnTo>
                <a:lnTo>
                  <a:pt x="634" y="23"/>
                </a:lnTo>
                <a:lnTo>
                  <a:pt x="637" y="22"/>
                </a:lnTo>
                <a:lnTo>
                  <a:pt x="638" y="22"/>
                </a:lnTo>
                <a:lnTo>
                  <a:pt x="642" y="19"/>
                </a:lnTo>
                <a:lnTo>
                  <a:pt x="643" y="19"/>
                </a:lnTo>
                <a:lnTo>
                  <a:pt x="646" y="15"/>
                </a:lnTo>
                <a:lnTo>
                  <a:pt x="647" y="11"/>
                </a:lnTo>
                <a:lnTo>
                  <a:pt x="646" y="8"/>
                </a:lnTo>
                <a:lnTo>
                  <a:pt x="643" y="4"/>
                </a:lnTo>
                <a:lnTo>
                  <a:pt x="643" y="3"/>
                </a:lnTo>
                <a:lnTo>
                  <a:pt x="639" y="1"/>
                </a:lnTo>
                <a:lnTo>
                  <a:pt x="637" y="1"/>
                </a:lnTo>
                <a:lnTo>
                  <a:pt x="633" y="0"/>
                </a:lnTo>
                <a:lnTo>
                  <a:pt x="630" y="0"/>
                </a:lnTo>
                <a:lnTo>
                  <a:pt x="628" y="0"/>
                </a:lnTo>
                <a:lnTo>
                  <a:pt x="628" y="11"/>
                </a:lnTo>
                <a:lnTo>
                  <a:pt x="633" y="20"/>
                </a:lnTo>
                <a:lnTo>
                  <a:pt x="637" y="18"/>
                </a:lnTo>
                <a:lnTo>
                  <a:pt x="638" y="14"/>
                </a:lnTo>
                <a:lnTo>
                  <a:pt x="639" y="11"/>
                </a:lnTo>
                <a:lnTo>
                  <a:pt x="638" y="6"/>
                </a:lnTo>
                <a:lnTo>
                  <a:pt x="637" y="2"/>
                </a:lnTo>
                <a:lnTo>
                  <a:pt x="633" y="1"/>
                </a:lnTo>
                <a:lnTo>
                  <a:pt x="628" y="21"/>
                </a:lnTo>
                <a:lnTo>
                  <a:pt x="630" y="21"/>
                </a:lnTo>
                <a:lnTo>
                  <a:pt x="631" y="21"/>
                </a:lnTo>
                <a:lnTo>
                  <a:pt x="634" y="21"/>
                </a:lnTo>
                <a:lnTo>
                  <a:pt x="638" y="21"/>
                </a:lnTo>
                <a:lnTo>
                  <a:pt x="638" y="0"/>
                </a:lnTo>
                <a:lnTo>
                  <a:pt x="634" y="0"/>
                </a:lnTo>
                <a:lnTo>
                  <a:pt x="631" y="0"/>
                </a:lnTo>
                <a:lnTo>
                  <a:pt x="630" y="0"/>
                </a:lnTo>
                <a:lnTo>
                  <a:pt x="628" y="0"/>
                </a:lnTo>
                <a:lnTo>
                  <a:pt x="625" y="1"/>
                </a:lnTo>
                <a:lnTo>
                  <a:pt x="622" y="2"/>
                </a:lnTo>
                <a:lnTo>
                  <a:pt x="619" y="6"/>
                </a:lnTo>
                <a:lnTo>
                  <a:pt x="618" y="11"/>
                </a:lnTo>
                <a:lnTo>
                  <a:pt x="619" y="14"/>
                </a:lnTo>
                <a:lnTo>
                  <a:pt x="622" y="18"/>
                </a:lnTo>
                <a:lnTo>
                  <a:pt x="625" y="20"/>
                </a:lnTo>
                <a:lnTo>
                  <a:pt x="628" y="21"/>
                </a:lnTo>
                <a:lnTo>
                  <a:pt x="630" y="21"/>
                </a:lnTo>
                <a:lnTo>
                  <a:pt x="633" y="21"/>
                </a:lnTo>
                <a:lnTo>
                  <a:pt x="633" y="11"/>
                </a:lnTo>
                <a:lnTo>
                  <a:pt x="628" y="20"/>
                </a:lnTo>
                <a:lnTo>
                  <a:pt x="631" y="21"/>
                </a:lnTo>
                <a:lnTo>
                  <a:pt x="635" y="11"/>
                </a:lnTo>
                <a:lnTo>
                  <a:pt x="628" y="19"/>
                </a:lnTo>
                <a:lnTo>
                  <a:pt x="628" y="19"/>
                </a:lnTo>
                <a:lnTo>
                  <a:pt x="626" y="8"/>
                </a:lnTo>
                <a:lnTo>
                  <a:pt x="625" y="11"/>
                </a:lnTo>
                <a:lnTo>
                  <a:pt x="626" y="15"/>
                </a:lnTo>
                <a:lnTo>
                  <a:pt x="636" y="11"/>
                </a:lnTo>
                <a:lnTo>
                  <a:pt x="628" y="4"/>
                </a:lnTo>
                <a:lnTo>
                  <a:pt x="626" y="4"/>
                </a:lnTo>
                <a:lnTo>
                  <a:pt x="635" y="11"/>
                </a:lnTo>
                <a:lnTo>
                  <a:pt x="630" y="2"/>
                </a:lnTo>
                <a:lnTo>
                  <a:pt x="630" y="2"/>
                </a:lnTo>
                <a:lnTo>
                  <a:pt x="626" y="3"/>
                </a:lnTo>
                <a:lnTo>
                  <a:pt x="630" y="13"/>
                </a:lnTo>
                <a:lnTo>
                  <a:pt x="630" y="2"/>
                </a:lnTo>
                <a:lnTo>
                  <a:pt x="625" y="3"/>
                </a:lnTo>
                <a:lnTo>
                  <a:pt x="618" y="6"/>
                </a:lnTo>
                <a:lnTo>
                  <a:pt x="609" y="6"/>
                </a:lnTo>
                <a:lnTo>
                  <a:pt x="602" y="6"/>
                </a:lnTo>
                <a:lnTo>
                  <a:pt x="594" y="6"/>
                </a:lnTo>
                <a:lnTo>
                  <a:pt x="589" y="6"/>
                </a:lnTo>
                <a:lnTo>
                  <a:pt x="584" y="6"/>
                </a:lnTo>
                <a:lnTo>
                  <a:pt x="582" y="6"/>
                </a:lnTo>
                <a:lnTo>
                  <a:pt x="576" y="4"/>
                </a:lnTo>
                <a:lnTo>
                  <a:pt x="572" y="6"/>
                </a:lnTo>
                <a:lnTo>
                  <a:pt x="569" y="6"/>
                </a:lnTo>
                <a:lnTo>
                  <a:pt x="565" y="8"/>
                </a:lnTo>
                <a:lnTo>
                  <a:pt x="564" y="11"/>
                </a:lnTo>
                <a:lnTo>
                  <a:pt x="561" y="14"/>
                </a:lnTo>
                <a:lnTo>
                  <a:pt x="561" y="17"/>
                </a:lnTo>
                <a:lnTo>
                  <a:pt x="560" y="21"/>
                </a:lnTo>
                <a:lnTo>
                  <a:pt x="560" y="21"/>
                </a:lnTo>
                <a:lnTo>
                  <a:pt x="559" y="25"/>
                </a:lnTo>
                <a:lnTo>
                  <a:pt x="559" y="29"/>
                </a:lnTo>
                <a:lnTo>
                  <a:pt x="569" y="29"/>
                </a:lnTo>
                <a:lnTo>
                  <a:pt x="559" y="25"/>
                </a:lnTo>
                <a:lnTo>
                  <a:pt x="559" y="33"/>
                </a:lnTo>
                <a:lnTo>
                  <a:pt x="567" y="35"/>
                </a:lnTo>
                <a:lnTo>
                  <a:pt x="559" y="30"/>
                </a:lnTo>
                <a:lnTo>
                  <a:pt x="551" y="45"/>
                </a:lnTo>
                <a:lnTo>
                  <a:pt x="545" y="61"/>
                </a:lnTo>
                <a:lnTo>
                  <a:pt x="539" y="79"/>
                </a:lnTo>
                <a:lnTo>
                  <a:pt x="534" y="97"/>
                </a:lnTo>
                <a:lnTo>
                  <a:pt x="529" y="116"/>
                </a:lnTo>
                <a:lnTo>
                  <a:pt x="524" y="138"/>
                </a:lnTo>
                <a:lnTo>
                  <a:pt x="515" y="179"/>
                </a:lnTo>
                <a:lnTo>
                  <a:pt x="514" y="182"/>
                </a:lnTo>
                <a:lnTo>
                  <a:pt x="514" y="182"/>
                </a:lnTo>
                <a:lnTo>
                  <a:pt x="507" y="224"/>
                </a:lnTo>
                <a:lnTo>
                  <a:pt x="499" y="267"/>
                </a:lnTo>
                <a:lnTo>
                  <a:pt x="496" y="287"/>
                </a:lnTo>
                <a:lnTo>
                  <a:pt x="494" y="306"/>
                </a:lnTo>
                <a:lnTo>
                  <a:pt x="490" y="324"/>
                </a:lnTo>
                <a:lnTo>
                  <a:pt x="501" y="324"/>
                </a:lnTo>
                <a:lnTo>
                  <a:pt x="491" y="319"/>
                </a:lnTo>
                <a:lnTo>
                  <a:pt x="488" y="340"/>
                </a:lnTo>
                <a:lnTo>
                  <a:pt x="497" y="341"/>
                </a:lnTo>
                <a:lnTo>
                  <a:pt x="490" y="334"/>
                </a:lnTo>
                <a:lnTo>
                  <a:pt x="459" y="375"/>
                </a:lnTo>
                <a:lnTo>
                  <a:pt x="432" y="416"/>
                </a:lnTo>
                <a:lnTo>
                  <a:pt x="405" y="456"/>
                </a:lnTo>
                <a:lnTo>
                  <a:pt x="402" y="459"/>
                </a:lnTo>
                <a:lnTo>
                  <a:pt x="376" y="498"/>
                </a:lnTo>
                <a:lnTo>
                  <a:pt x="386" y="502"/>
                </a:lnTo>
                <a:lnTo>
                  <a:pt x="378" y="494"/>
                </a:lnTo>
                <a:lnTo>
                  <a:pt x="353" y="531"/>
                </a:lnTo>
                <a:lnTo>
                  <a:pt x="329" y="568"/>
                </a:lnTo>
                <a:lnTo>
                  <a:pt x="303" y="604"/>
                </a:lnTo>
                <a:lnTo>
                  <a:pt x="278" y="639"/>
                </a:lnTo>
                <a:lnTo>
                  <a:pt x="251" y="672"/>
                </a:lnTo>
                <a:lnTo>
                  <a:pt x="222" y="705"/>
                </a:lnTo>
                <a:lnTo>
                  <a:pt x="192" y="738"/>
                </a:lnTo>
                <a:lnTo>
                  <a:pt x="160" y="769"/>
                </a:lnTo>
                <a:lnTo>
                  <a:pt x="124" y="800"/>
                </a:lnTo>
                <a:lnTo>
                  <a:pt x="87" y="831"/>
                </a:lnTo>
                <a:lnTo>
                  <a:pt x="66" y="846"/>
                </a:lnTo>
                <a:lnTo>
                  <a:pt x="44" y="861"/>
                </a:lnTo>
                <a:lnTo>
                  <a:pt x="51" y="868"/>
                </a:lnTo>
                <a:lnTo>
                  <a:pt x="47" y="859"/>
                </a:lnTo>
                <a:lnTo>
                  <a:pt x="26" y="873"/>
                </a:lnTo>
                <a:lnTo>
                  <a:pt x="0" y="889"/>
                </a:lnTo>
                <a:lnTo>
                  <a:pt x="0" y="88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169920" cy="144360"/>
          </a:xfrm>
          <a:custGeom>
            <a:avLst/>
            <a:gdLst/>
            <a:ahLst/>
            <a:rect l="l" t="t" r="r" b="b"/>
            <a:pathLst>
              <a:path w="107" h="91">
                <a:moveTo>
                  <a:pt x="50" y="90"/>
                </a:moveTo>
                <a:lnTo>
                  <a:pt x="106" y="0"/>
                </a:lnTo>
                <a:lnTo>
                  <a:pt x="0" y="9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478240"/>
            <a:ext cx="666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98960" y="3451320"/>
            <a:ext cx="887400" cy="1022400"/>
          </a:xfrm>
          <a:custGeom>
            <a:avLst/>
            <a:gdLst>
              <a:gd name="textAreaLeft" fmla="*/ 0 w 887400"/>
              <a:gd name="textAreaRight" fmla="*/ 887760 w 88740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21600" h="24885">
                <a:moveTo>
                  <a:pt x="0" y="0"/>
                </a:moveTo>
                <a:arcTo wR="0" hR="0" stAng="16200000" swAng="-5400000"/>
                <a:lnTo>
                  <a:pt x="0" y="24885"/>
                </a:lnTo>
                <a:arcTo wR="0" hR="0" stAng="10800000" swAng="-5400000"/>
                <a:lnTo>
                  <a:pt x="21600" y="2488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1280" y="3470400"/>
            <a:ext cx="880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3800" y="4195800"/>
            <a:ext cx="1090800" cy="90360"/>
          </a:xfrm>
          <a:custGeom>
            <a:avLst/>
            <a:gdLst/>
            <a:ahLst/>
            <a:rect l="l" t="t" r="r" b="b"/>
            <a:pathLst>
              <a:path w="687" h="57">
                <a:moveTo>
                  <a:pt x="1" y="32"/>
                </a:moveTo>
                <a:lnTo>
                  <a:pt x="0" y="54"/>
                </a:lnTo>
                <a:lnTo>
                  <a:pt x="42" y="55"/>
                </a:lnTo>
                <a:lnTo>
                  <a:pt x="86" y="56"/>
                </a:lnTo>
                <a:lnTo>
                  <a:pt x="128" y="55"/>
                </a:lnTo>
                <a:lnTo>
                  <a:pt x="171" y="53"/>
                </a:lnTo>
                <a:lnTo>
                  <a:pt x="257" y="47"/>
                </a:lnTo>
                <a:lnTo>
                  <a:pt x="344" y="41"/>
                </a:lnTo>
                <a:lnTo>
                  <a:pt x="430" y="34"/>
                </a:lnTo>
                <a:lnTo>
                  <a:pt x="516" y="27"/>
                </a:lnTo>
                <a:lnTo>
                  <a:pt x="601" y="22"/>
                </a:lnTo>
                <a:lnTo>
                  <a:pt x="644" y="21"/>
                </a:lnTo>
                <a:lnTo>
                  <a:pt x="686" y="20"/>
                </a:lnTo>
                <a:lnTo>
                  <a:pt x="686" y="0"/>
                </a:lnTo>
                <a:lnTo>
                  <a:pt x="644" y="1"/>
                </a:lnTo>
                <a:lnTo>
                  <a:pt x="601" y="1"/>
                </a:lnTo>
                <a:lnTo>
                  <a:pt x="516" y="6"/>
                </a:lnTo>
                <a:lnTo>
                  <a:pt x="430" y="13"/>
                </a:lnTo>
                <a:lnTo>
                  <a:pt x="344" y="20"/>
                </a:lnTo>
                <a:lnTo>
                  <a:pt x="257" y="26"/>
                </a:lnTo>
                <a:lnTo>
                  <a:pt x="171" y="32"/>
                </a:lnTo>
                <a:lnTo>
                  <a:pt x="128" y="34"/>
                </a:lnTo>
                <a:lnTo>
                  <a:pt x="86" y="34"/>
                </a:lnTo>
                <a:lnTo>
                  <a:pt x="42" y="34"/>
                </a:lnTo>
                <a:lnTo>
                  <a:pt x="1" y="32"/>
                </a:lnTo>
                <a:lnTo>
                  <a:pt x="1" y="3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70520" y="4140360"/>
            <a:ext cx="15408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2" y="96"/>
                </a:moveTo>
                <a:lnTo>
                  <a:pt x="96" y="45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49880" y="4221000"/>
            <a:ext cx="407880" cy="206640"/>
          </a:xfrm>
          <a:custGeom>
            <a:avLst/>
            <a:gdLst/>
            <a:ahLst/>
            <a:rect l="l" t="t" r="r" b="b"/>
            <a:pathLst>
              <a:path w="257" h="130">
                <a:moveTo>
                  <a:pt x="20" y="0"/>
                </a:moveTo>
                <a:lnTo>
                  <a:pt x="17" y="2"/>
                </a:lnTo>
                <a:lnTo>
                  <a:pt x="13" y="3"/>
                </a:lnTo>
                <a:lnTo>
                  <a:pt x="6" y="6"/>
                </a:lnTo>
                <a:lnTo>
                  <a:pt x="1" y="14"/>
                </a:lnTo>
                <a:lnTo>
                  <a:pt x="1" y="18"/>
                </a:lnTo>
                <a:lnTo>
                  <a:pt x="0" y="22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6" y="122"/>
                </a:lnTo>
                <a:lnTo>
                  <a:pt x="13" y="127"/>
                </a:lnTo>
                <a:lnTo>
                  <a:pt x="17" y="129"/>
                </a:lnTo>
                <a:lnTo>
                  <a:pt x="20" y="129"/>
                </a:lnTo>
                <a:lnTo>
                  <a:pt x="235" y="129"/>
                </a:lnTo>
                <a:lnTo>
                  <a:pt x="239" y="129"/>
                </a:lnTo>
                <a:lnTo>
                  <a:pt x="244" y="127"/>
                </a:lnTo>
                <a:lnTo>
                  <a:pt x="250" y="122"/>
                </a:lnTo>
                <a:lnTo>
                  <a:pt x="255" y="116"/>
                </a:lnTo>
                <a:lnTo>
                  <a:pt x="256" y="112"/>
                </a:lnTo>
                <a:lnTo>
                  <a:pt x="256" y="107"/>
                </a:lnTo>
                <a:lnTo>
                  <a:pt x="256" y="22"/>
                </a:lnTo>
                <a:lnTo>
                  <a:pt x="256" y="18"/>
                </a:lnTo>
                <a:lnTo>
                  <a:pt x="255" y="14"/>
                </a:lnTo>
                <a:lnTo>
                  <a:pt x="250" y="6"/>
                </a:lnTo>
                <a:lnTo>
                  <a:pt x="244" y="3"/>
                </a:lnTo>
                <a:lnTo>
                  <a:pt x="239" y="2"/>
                </a:lnTo>
                <a:lnTo>
                  <a:pt x="235" y="0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68960" y="4200480"/>
            <a:ext cx="61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Qu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49880" y="5572080"/>
            <a:ext cx="887400" cy="1020960"/>
          </a:xfrm>
          <a:custGeom>
            <a:avLst/>
            <a:gdLst>
              <a:gd name="textAreaLeft" fmla="*/ 0 w 887400"/>
              <a:gd name="textAreaRight" fmla="*/ 887760 w 887400"/>
              <a:gd name="textAreaTop" fmla="*/ 360 h 1020960"/>
              <a:gd name="textAreaBottom" fmla="*/ 1021680 h 1020960"/>
            </a:gdLst>
            <a:ahLst/>
            <a:rect l="textAreaLeft" t="textAreaTop" r="textAreaRight" b="textAreaBottom"/>
            <a:pathLst>
              <a:path w="21600" h="24850">
                <a:moveTo>
                  <a:pt x="0" y="0"/>
                </a:moveTo>
                <a:arcTo wR="0" hR="0" stAng="16200000" swAng="-5400000"/>
                <a:lnTo>
                  <a:pt x="0" y="24850"/>
                </a:lnTo>
                <a:arcTo wR="0" hR="0" stAng="10800000" swAng="-5400000"/>
                <a:lnTo>
                  <a:pt x="21600" y="2485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0520" y="5603760"/>
            <a:ext cx="696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21200" y="4365720"/>
            <a:ext cx="2119320" cy="1377720"/>
          </a:xfrm>
          <a:custGeom>
            <a:avLst/>
            <a:gdLst/>
            <a:ahLst/>
            <a:rect l="l" t="t" r="r" b="b"/>
            <a:pathLst>
              <a:path w="1335" h="868">
                <a:moveTo>
                  <a:pt x="3" y="0"/>
                </a:moveTo>
                <a:lnTo>
                  <a:pt x="0" y="20"/>
                </a:lnTo>
                <a:lnTo>
                  <a:pt x="50" y="28"/>
                </a:lnTo>
                <a:lnTo>
                  <a:pt x="96" y="38"/>
                </a:lnTo>
                <a:lnTo>
                  <a:pt x="96" y="27"/>
                </a:lnTo>
                <a:lnTo>
                  <a:pt x="92" y="37"/>
                </a:lnTo>
                <a:lnTo>
                  <a:pt x="138" y="47"/>
                </a:lnTo>
                <a:lnTo>
                  <a:pt x="188" y="58"/>
                </a:lnTo>
                <a:lnTo>
                  <a:pt x="201" y="63"/>
                </a:lnTo>
                <a:lnTo>
                  <a:pt x="212" y="71"/>
                </a:lnTo>
                <a:lnTo>
                  <a:pt x="217" y="60"/>
                </a:lnTo>
                <a:lnTo>
                  <a:pt x="209" y="68"/>
                </a:lnTo>
                <a:lnTo>
                  <a:pt x="220" y="76"/>
                </a:lnTo>
                <a:lnTo>
                  <a:pt x="232" y="88"/>
                </a:lnTo>
                <a:lnTo>
                  <a:pt x="242" y="99"/>
                </a:lnTo>
                <a:lnTo>
                  <a:pt x="254" y="109"/>
                </a:lnTo>
                <a:lnTo>
                  <a:pt x="265" y="118"/>
                </a:lnTo>
                <a:lnTo>
                  <a:pt x="269" y="120"/>
                </a:lnTo>
                <a:lnTo>
                  <a:pt x="280" y="128"/>
                </a:lnTo>
                <a:lnTo>
                  <a:pt x="345" y="160"/>
                </a:lnTo>
                <a:lnTo>
                  <a:pt x="410" y="193"/>
                </a:lnTo>
                <a:lnTo>
                  <a:pt x="478" y="224"/>
                </a:lnTo>
                <a:lnTo>
                  <a:pt x="547" y="254"/>
                </a:lnTo>
                <a:lnTo>
                  <a:pt x="618" y="282"/>
                </a:lnTo>
                <a:lnTo>
                  <a:pt x="689" y="308"/>
                </a:lnTo>
                <a:lnTo>
                  <a:pt x="724" y="319"/>
                </a:lnTo>
                <a:lnTo>
                  <a:pt x="759" y="329"/>
                </a:lnTo>
                <a:lnTo>
                  <a:pt x="795" y="340"/>
                </a:lnTo>
                <a:lnTo>
                  <a:pt x="833" y="348"/>
                </a:lnTo>
                <a:lnTo>
                  <a:pt x="834" y="338"/>
                </a:lnTo>
                <a:lnTo>
                  <a:pt x="828" y="345"/>
                </a:lnTo>
                <a:lnTo>
                  <a:pt x="838" y="357"/>
                </a:lnTo>
                <a:lnTo>
                  <a:pt x="852" y="367"/>
                </a:lnTo>
                <a:lnTo>
                  <a:pt x="879" y="388"/>
                </a:lnTo>
                <a:lnTo>
                  <a:pt x="905" y="410"/>
                </a:lnTo>
                <a:lnTo>
                  <a:pt x="920" y="420"/>
                </a:lnTo>
                <a:lnTo>
                  <a:pt x="929" y="432"/>
                </a:lnTo>
                <a:lnTo>
                  <a:pt x="938" y="425"/>
                </a:lnTo>
                <a:lnTo>
                  <a:pt x="929" y="432"/>
                </a:lnTo>
                <a:lnTo>
                  <a:pt x="934" y="438"/>
                </a:lnTo>
                <a:lnTo>
                  <a:pt x="942" y="431"/>
                </a:lnTo>
                <a:lnTo>
                  <a:pt x="932" y="434"/>
                </a:lnTo>
                <a:lnTo>
                  <a:pt x="934" y="442"/>
                </a:lnTo>
                <a:lnTo>
                  <a:pt x="939" y="456"/>
                </a:lnTo>
                <a:lnTo>
                  <a:pt x="944" y="471"/>
                </a:lnTo>
                <a:lnTo>
                  <a:pt x="947" y="477"/>
                </a:lnTo>
                <a:lnTo>
                  <a:pt x="948" y="480"/>
                </a:lnTo>
                <a:lnTo>
                  <a:pt x="952" y="485"/>
                </a:lnTo>
                <a:lnTo>
                  <a:pt x="962" y="498"/>
                </a:lnTo>
                <a:lnTo>
                  <a:pt x="969" y="508"/>
                </a:lnTo>
                <a:lnTo>
                  <a:pt x="976" y="517"/>
                </a:lnTo>
                <a:lnTo>
                  <a:pt x="983" y="523"/>
                </a:lnTo>
                <a:lnTo>
                  <a:pt x="988" y="530"/>
                </a:lnTo>
                <a:lnTo>
                  <a:pt x="993" y="536"/>
                </a:lnTo>
                <a:lnTo>
                  <a:pt x="1006" y="544"/>
                </a:lnTo>
                <a:lnTo>
                  <a:pt x="1009" y="547"/>
                </a:lnTo>
                <a:lnTo>
                  <a:pt x="1022" y="553"/>
                </a:lnTo>
                <a:lnTo>
                  <a:pt x="1035" y="559"/>
                </a:lnTo>
                <a:lnTo>
                  <a:pt x="1045" y="563"/>
                </a:lnTo>
                <a:lnTo>
                  <a:pt x="1053" y="567"/>
                </a:lnTo>
                <a:lnTo>
                  <a:pt x="1063" y="571"/>
                </a:lnTo>
                <a:lnTo>
                  <a:pt x="1074" y="576"/>
                </a:lnTo>
                <a:lnTo>
                  <a:pt x="1078" y="565"/>
                </a:lnTo>
                <a:lnTo>
                  <a:pt x="1072" y="574"/>
                </a:lnTo>
                <a:lnTo>
                  <a:pt x="1101" y="604"/>
                </a:lnTo>
                <a:lnTo>
                  <a:pt x="1131" y="634"/>
                </a:lnTo>
                <a:lnTo>
                  <a:pt x="1160" y="663"/>
                </a:lnTo>
                <a:lnTo>
                  <a:pt x="1193" y="691"/>
                </a:lnTo>
                <a:lnTo>
                  <a:pt x="1201" y="684"/>
                </a:lnTo>
                <a:lnTo>
                  <a:pt x="1191" y="689"/>
                </a:lnTo>
                <a:lnTo>
                  <a:pt x="1193" y="694"/>
                </a:lnTo>
                <a:lnTo>
                  <a:pt x="1197" y="698"/>
                </a:lnTo>
                <a:lnTo>
                  <a:pt x="1201" y="703"/>
                </a:lnTo>
                <a:lnTo>
                  <a:pt x="1208" y="711"/>
                </a:lnTo>
                <a:lnTo>
                  <a:pt x="1219" y="720"/>
                </a:lnTo>
                <a:lnTo>
                  <a:pt x="1224" y="725"/>
                </a:lnTo>
                <a:lnTo>
                  <a:pt x="1227" y="730"/>
                </a:lnTo>
                <a:lnTo>
                  <a:pt x="1235" y="723"/>
                </a:lnTo>
                <a:lnTo>
                  <a:pt x="1226" y="726"/>
                </a:lnTo>
                <a:lnTo>
                  <a:pt x="1231" y="744"/>
                </a:lnTo>
                <a:lnTo>
                  <a:pt x="1239" y="759"/>
                </a:lnTo>
                <a:lnTo>
                  <a:pt x="1246" y="773"/>
                </a:lnTo>
                <a:lnTo>
                  <a:pt x="1253" y="789"/>
                </a:lnTo>
                <a:lnTo>
                  <a:pt x="1263" y="786"/>
                </a:lnTo>
                <a:lnTo>
                  <a:pt x="1253" y="789"/>
                </a:lnTo>
                <a:lnTo>
                  <a:pt x="1254" y="797"/>
                </a:lnTo>
                <a:lnTo>
                  <a:pt x="1264" y="794"/>
                </a:lnTo>
                <a:lnTo>
                  <a:pt x="1253" y="794"/>
                </a:lnTo>
                <a:lnTo>
                  <a:pt x="1256" y="801"/>
                </a:lnTo>
                <a:lnTo>
                  <a:pt x="1257" y="806"/>
                </a:lnTo>
                <a:lnTo>
                  <a:pt x="1258" y="814"/>
                </a:lnTo>
                <a:lnTo>
                  <a:pt x="1262" y="822"/>
                </a:lnTo>
                <a:lnTo>
                  <a:pt x="1264" y="826"/>
                </a:lnTo>
                <a:lnTo>
                  <a:pt x="1266" y="829"/>
                </a:lnTo>
                <a:lnTo>
                  <a:pt x="1270" y="834"/>
                </a:lnTo>
                <a:lnTo>
                  <a:pt x="1277" y="838"/>
                </a:lnTo>
                <a:lnTo>
                  <a:pt x="1283" y="843"/>
                </a:lnTo>
                <a:lnTo>
                  <a:pt x="1289" y="847"/>
                </a:lnTo>
                <a:lnTo>
                  <a:pt x="1295" y="852"/>
                </a:lnTo>
                <a:lnTo>
                  <a:pt x="1299" y="854"/>
                </a:lnTo>
                <a:lnTo>
                  <a:pt x="1303" y="857"/>
                </a:lnTo>
                <a:lnTo>
                  <a:pt x="1307" y="847"/>
                </a:lnTo>
                <a:lnTo>
                  <a:pt x="1299" y="855"/>
                </a:lnTo>
                <a:lnTo>
                  <a:pt x="1304" y="859"/>
                </a:lnTo>
                <a:lnTo>
                  <a:pt x="1309" y="861"/>
                </a:lnTo>
                <a:lnTo>
                  <a:pt x="1313" y="863"/>
                </a:lnTo>
                <a:lnTo>
                  <a:pt x="1315" y="865"/>
                </a:lnTo>
                <a:lnTo>
                  <a:pt x="1316" y="865"/>
                </a:lnTo>
                <a:lnTo>
                  <a:pt x="1318" y="866"/>
                </a:lnTo>
                <a:lnTo>
                  <a:pt x="1322" y="857"/>
                </a:lnTo>
                <a:lnTo>
                  <a:pt x="1313" y="852"/>
                </a:lnTo>
                <a:lnTo>
                  <a:pt x="1312" y="857"/>
                </a:lnTo>
                <a:lnTo>
                  <a:pt x="1313" y="860"/>
                </a:lnTo>
                <a:lnTo>
                  <a:pt x="1314" y="863"/>
                </a:lnTo>
                <a:lnTo>
                  <a:pt x="1314" y="848"/>
                </a:lnTo>
                <a:lnTo>
                  <a:pt x="1314" y="849"/>
                </a:lnTo>
                <a:lnTo>
                  <a:pt x="1322" y="857"/>
                </a:lnTo>
                <a:lnTo>
                  <a:pt x="1318" y="846"/>
                </a:lnTo>
                <a:lnTo>
                  <a:pt x="1322" y="844"/>
                </a:lnTo>
                <a:lnTo>
                  <a:pt x="1320" y="844"/>
                </a:lnTo>
                <a:lnTo>
                  <a:pt x="1318" y="844"/>
                </a:lnTo>
                <a:lnTo>
                  <a:pt x="1318" y="867"/>
                </a:lnTo>
                <a:lnTo>
                  <a:pt x="1320" y="867"/>
                </a:lnTo>
                <a:lnTo>
                  <a:pt x="1322" y="867"/>
                </a:lnTo>
                <a:lnTo>
                  <a:pt x="1326" y="866"/>
                </a:lnTo>
                <a:lnTo>
                  <a:pt x="1329" y="864"/>
                </a:lnTo>
                <a:lnTo>
                  <a:pt x="1329" y="863"/>
                </a:lnTo>
                <a:lnTo>
                  <a:pt x="1332" y="860"/>
                </a:lnTo>
                <a:lnTo>
                  <a:pt x="1334" y="857"/>
                </a:lnTo>
                <a:lnTo>
                  <a:pt x="1332" y="852"/>
                </a:lnTo>
                <a:lnTo>
                  <a:pt x="1329" y="848"/>
                </a:lnTo>
                <a:lnTo>
                  <a:pt x="1326" y="846"/>
                </a:lnTo>
                <a:lnTo>
                  <a:pt x="1325" y="844"/>
                </a:lnTo>
                <a:lnTo>
                  <a:pt x="1323" y="844"/>
                </a:lnTo>
                <a:lnTo>
                  <a:pt x="1320" y="843"/>
                </a:lnTo>
                <a:lnTo>
                  <a:pt x="1316" y="854"/>
                </a:lnTo>
                <a:lnTo>
                  <a:pt x="1324" y="846"/>
                </a:lnTo>
                <a:lnTo>
                  <a:pt x="1316" y="842"/>
                </a:lnTo>
                <a:lnTo>
                  <a:pt x="1314" y="839"/>
                </a:lnTo>
                <a:lnTo>
                  <a:pt x="1311" y="837"/>
                </a:lnTo>
                <a:lnTo>
                  <a:pt x="1307" y="834"/>
                </a:lnTo>
                <a:lnTo>
                  <a:pt x="1302" y="843"/>
                </a:lnTo>
                <a:lnTo>
                  <a:pt x="1311" y="837"/>
                </a:lnTo>
                <a:lnTo>
                  <a:pt x="1304" y="832"/>
                </a:lnTo>
                <a:lnTo>
                  <a:pt x="1299" y="828"/>
                </a:lnTo>
                <a:lnTo>
                  <a:pt x="1292" y="823"/>
                </a:lnTo>
                <a:lnTo>
                  <a:pt x="1286" y="818"/>
                </a:lnTo>
                <a:lnTo>
                  <a:pt x="1281" y="814"/>
                </a:lnTo>
                <a:lnTo>
                  <a:pt x="1274" y="821"/>
                </a:lnTo>
                <a:lnTo>
                  <a:pt x="1284" y="817"/>
                </a:lnTo>
                <a:lnTo>
                  <a:pt x="1281" y="813"/>
                </a:lnTo>
                <a:lnTo>
                  <a:pt x="1278" y="806"/>
                </a:lnTo>
                <a:lnTo>
                  <a:pt x="1276" y="797"/>
                </a:lnTo>
                <a:lnTo>
                  <a:pt x="1266" y="801"/>
                </a:lnTo>
                <a:lnTo>
                  <a:pt x="1277" y="801"/>
                </a:lnTo>
                <a:lnTo>
                  <a:pt x="1275" y="794"/>
                </a:lnTo>
                <a:lnTo>
                  <a:pt x="1274" y="789"/>
                </a:lnTo>
                <a:lnTo>
                  <a:pt x="1273" y="782"/>
                </a:lnTo>
                <a:lnTo>
                  <a:pt x="1273" y="782"/>
                </a:lnTo>
                <a:lnTo>
                  <a:pt x="1265" y="766"/>
                </a:lnTo>
                <a:lnTo>
                  <a:pt x="1258" y="751"/>
                </a:lnTo>
                <a:lnTo>
                  <a:pt x="1251" y="736"/>
                </a:lnTo>
                <a:lnTo>
                  <a:pt x="1246" y="720"/>
                </a:lnTo>
                <a:lnTo>
                  <a:pt x="1246" y="719"/>
                </a:lnTo>
                <a:lnTo>
                  <a:pt x="1245" y="717"/>
                </a:lnTo>
                <a:lnTo>
                  <a:pt x="1239" y="709"/>
                </a:lnTo>
                <a:lnTo>
                  <a:pt x="1234" y="705"/>
                </a:lnTo>
                <a:lnTo>
                  <a:pt x="1224" y="696"/>
                </a:lnTo>
                <a:lnTo>
                  <a:pt x="1215" y="688"/>
                </a:lnTo>
                <a:lnTo>
                  <a:pt x="1211" y="683"/>
                </a:lnTo>
                <a:lnTo>
                  <a:pt x="1203" y="690"/>
                </a:lnTo>
                <a:lnTo>
                  <a:pt x="1214" y="686"/>
                </a:lnTo>
                <a:lnTo>
                  <a:pt x="1209" y="679"/>
                </a:lnTo>
                <a:lnTo>
                  <a:pt x="1207" y="677"/>
                </a:lnTo>
                <a:lnTo>
                  <a:pt x="1207" y="676"/>
                </a:lnTo>
                <a:lnTo>
                  <a:pt x="1176" y="647"/>
                </a:lnTo>
                <a:lnTo>
                  <a:pt x="1145" y="619"/>
                </a:lnTo>
                <a:lnTo>
                  <a:pt x="1117" y="589"/>
                </a:lnTo>
                <a:lnTo>
                  <a:pt x="1087" y="559"/>
                </a:lnTo>
                <a:lnTo>
                  <a:pt x="1086" y="559"/>
                </a:lnTo>
                <a:lnTo>
                  <a:pt x="1083" y="557"/>
                </a:lnTo>
                <a:lnTo>
                  <a:pt x="1072" y="552"/>
                </a:lnTo>
                <a:lnTo>
                  <a:pt x="1062" y="547"/>
                </a:lnTo>
                <a:lnTo>
                  <a:pt x="1052" y="543"/>
                </a:lnTo>
                <a:lnTo>
                  <a:pt x="1044" y="540"/>
                </a:lnTo>
                <a:lnTo>
                  <a:pt x="1030" y="534"/>
                </a:lnTo>
                <a:lnTo>
                  <a:pt x="1018" y="527"/>
                </a:lnTo>
                <a:lnTo>
                  <a:pt x="1013" y="538"/>
                </a:lnTo>
                <a:lnTo>
                  <a:pt x="1021" y="529"/>
                </a:lnTo>
                <a:lnTo>
                  <a:pt x="1009" y="520"/>
                </a:lnTo>
                <a:lnTo>
                  <a:pt x="1004" y="515"/>
                </a:lnTo>
                <a:lnTo>
                  <a:pt x="998" y="509"/>
                </a:lnTo>
                <a:lnTo>
                  <a:pt x="991" y="501"/>
                </a:lnTo>
                <a:lnTo>
                  <a:pt x="985" y="493"/>
                </a:lnTo>
                <a:lnTo>
                  <a:pt x="977" y="483"/>
                </a:lnTo>
                <a:lnTo>
                  <a:pt x="969" y="472"/>
                </a:lnTo>
                <a:lnTo>
                  <a:pt x="964" y="465"/>
                </a:lnTo>
                <a:lnTo>
                  <a:pt x="957" y="472"/>
                </a:lnTo>
                <a:lnTo>
                  <a:pt x="966" y="468"/>
                </a:lnTo>
                <a:lnTo>
                  <a:pt x="963" y="462"/>
                </a:lnTo>
                <a:lnTo>
                  <a:pt x="958" y="448"/>
                </a:lnTo>
                <a:lnTo>
                  <a:pt x="955" y="433"/>
                </a:lnTo>
                <a:lnTo>
                  <a:pt x="951" y="426"/>
                </a:lnTo>
                <a:lnTo>
                  <a:pt x="948" y="423"/>
                </a:lnTo>
                <a:lnTo>
                  <a:pt x="945" y="418"/>
                </a:lnTo>
                <a:lnTo>
                  <a:pt x="945" y="417"/>
                </a:lnTo>
                <a:lnTo>
                  <a:pt x="934" y="405"/>
                </a:lnTo>
                <a:lnTo>
                  <a:pt x="921" y="394"/>
                </a:lnTo>
                <a:lnTo>
                  <a:pt x="894" y="372"/>
                </a:lnTo>
                <a:lnTo>
                  <a:pt x="867" y="353"/>
                </a:lnTo>
                <a:lnTo>
                  <a:pt x="854" y="343"/>
                </a:lnTo>
                <a:lnTo>
                  <a:pt x="843" y="331"/>
                </a:lnTo>
                <a:lnTo>
                  <a:pt x="838" y="328"/>
                </a:lnTo>
                <a:lnTo>
                  <a:pt x="837" y="328"/>
                </a:lnTo>
                <a:lnTo>
                  <a:pt x="803" y="319"/>
                </a:lnTo>
                <a:lnTo>
                  <a:pt x="767" y="311"/>
                </a:lnTo>
                <a:lnTo>
                  <a:pt x="732" y="300"/>
                </a:lnTo>
                <a:lnTo>
                  <a:pt x="697" y="288"/>
                </a:lnTo>
                <a:lnTo>
                  <a:pt x="626" y="262"/>
                </a:lnTo>
                <a:lnTo>
                  <a:pt x="556" y="235"/>
                </a:lnTo>
                <a:lnTo>
                  <a:pt x="486" y="203"/>
                </a:lnTo>
                <a:lnTo>
                  <a:pt x="418" y="173"/>
                </a:lnTo>
                <a:lnTo>
                  <a:pt x="353" y="141"/>
                </a:lnTo>
                <a:lnTo>
                  <a:pt x="290" y="110"/>
                </a:lnTo>
                <a:lnTo>
                  <a:pt x="277" y="100"/>
                </a:lnTo>
                <a:lnTo>
                  <a:pt x="273" y="110"/>
                </a:lnTo>
                <a:lnTo>
                  <a:pt x="280" y="103"/>
                </a:lnTo>
                <a:lnTo>
                  <a:pt x="269" y="93"/>
                </a:lnTo>
                <a:lnTo>
                  <a:pt x="257" y="84"/>
                </a:lnTo>
                <a:lnTo>
                  <a:pt x="247" y="73"/>
                </a:lnTo>
                <a:lnTo>
                  <a:pt x="236" y="61"/>
                </a:lnTo>
                <a:lnTo>
                  <a:pt x="224" y="54"/>
                </a:lnTo>
                <a:lnTo>
                  <a:pt x="220" y="50"/>
                </a:lnTo>
                <a:lnTo>
                  <a:pt x="208" y="43"/>
                </a:lnTo>
                <a:lnTo>
                  <a:pt x="192" y="38"/>
                </a:lnTo>
                <a:lnTo>
                  <a:pt x="147" y="27"/>
                </a:lnTo>
                <a:lnTo>
                  <a:pt x="100" y="18"/>
                </a:lnTo>
                <a:lnTo>
                  <a:pt x="96" y="17"/>
                </a:lnTo>
                <a:lnTo>
                  <a:pt x="50" y="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1240" y="5546880"/>
            <a:ext cx="153720" cy="168120"/>
          </a:xfrm>
          <a:custGeom>
            <a:avLst/>
            <a:gdLst/>
            <a:ahLst/>
            <a:rect l="l" t="t" r="r" b="b"/>
            <a:pathLst>
              <a:path w="97" h="106">
                <a:moveTo>
                  <a:pt x="0" y="57"/>
                </a:moveTo>
                <a:lnTo>
                  <a:pt x="96" y="105"/>
                </a:lnTo>
                <a:lnTo>
                  <a:pt x="77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34000" y="6321600"/>
            <a:ext cx="411480" cy="206280"/>
          </a:xfrm>
          <a:custGeom>
            <a:avLst/>
            <a:gdLst/>
            <a:ahLst/>
            <a:rect l="l" t="t" r="r" b="b"/>
            <a:pathLst>
              <a:path w="259" h="130">
                <a:moveTo>
                  <a:pt x="22" y="0"/>
                </a:moveTo>
                <a:lnTo>
                  <a:pt x="17" y="1"/>
                </a:lnTo>
                <a:lnTo>
                  <a:pt x="14" y="2"/>
                </a:lnTo>
                <a:lnTo>
                  <a:pt x="7" y="6"/>
                </a:lnTo>
                <a:lnTo>
                  <a:pt x="2" y="13"/>
                </a:lnTo>
                <a:lnTo>
                  <a:pt x="0" y="18"/>
                </a:lnTo>
                <a:lnTo>
                  <a:pt x="0" y="22"/>
                </a:lnTo>
                <a:lnTo>
                  <a:pt x="0" y="108"/>
                </a:lnTo>
                <a:lnTo>
                  <a:pt x="0" y="112"/>
                </a:lnTo>
                <a:lnTo>
                  <a:pt x="2" y="115"/>
                </a:lnTo>
                <a:lnTo>
                  <a:pt x="7" y="123"/>
                </a:lnTo>
                <a:lnTo>
                  <a:pt x="14" y="127"/>
                </a:lnTo>
                <a:lnTo>
                  <a:pt x="17" y="129"/>
                </a:lnTo>
                <a:lnTo>
                  <a:pt x="22" y="129"/>
                </a:lnTo>
                <a:lnTo>
                  <a:pt x="236" y="129"/>
                </a:lnTo>
                <a:lnTo>
                  <a:pt x="241" y="129"/>
                </a:lnTo>
                <a:lnTo>
                  <a:pt x="244" y="127"/>
                </a:lnTo>
                <a:lnTo>
                  <a:pt x="252" y="123"/>
                </a:lnTo>
                <a:lnTo>
                  <a:pt x="256" y="115"/>
                </a:lnTo>
                <a:lnTo>
                  <a:pt x="258" y="112"/>
                </a:lnTo>
                <a:lnTo>
                  <a:pt x="258" y="108"/>
                </a:lnTo>
                <a:lnTo>
                  <a:pt x="258" y="22"/>
                </a:lnTo>
                <a:lnTo>
                  <a:pt x="258" y="18"/>
                </a:lnTo>
                <a:lnTo>
                  <a:pt x="256" y="13"/>
                </a:lnTo>
                <a:lnTo>
                  <a:pt x="252" y="6"/>
                </a:lnTo>
                <a:lnTo>
                  <a:pt x="244" y="2"/>
                </a:lnTo>
                <a:lnTo>
                  <a:pt x="241" y="1"/>
                </a:lnTo>
                <a:lnTo>
                  <a:pt x="236" y="0"/>
                </a:lnTo>
                <a:lnTo>
                  <a:pt x="22" y="0"/>
                </a:lnTo>
                <a:lnTo>
                  <a:pt x="22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4880" y="6299280"/>
            <a:ext cx="596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16480" y="5851440"/>
            <a:ext cx="987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 / s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929720" y="3191040"/>
            <a:ext cx="885600" cy="1023840"/>
          </a:xfrm>
          <a:custGeom>
            <a:avLst/>
            <a:gdLst>
              <a:gd name="textAreaLeft" fmla="*/ 0 w 885600"/>
              <a:gd name="textAreaRight" fmla="*/ 885960 w 885600"/>
              <a:gd name="textAreaTop" fmla="*/ 360 h 1023840"/>
              <a:gd name="textAreaBottom" fmla="*/ 1024560 h 1023840"/>
            </a:gdLst>
            <a:ahLst/>
            <a:rect l="textAreaLeft" t="textAreaTop" r="textAreaRight" b="textAreaBottom"/>
            <a:pathLst>
              <a:path w="21600" h="24970">
                <a:moveTo>
                  <a:pt x="0" y="0"/>
                </a:moveTo>
                <a:arcTo wR="0" hR="0" stAng="16200000" swAng="-5400000"/>
                <a:lnTo>
                  <a:pt x="0" y="24970"/>
                </a:lnTo>
                <a:arcTo wR="0" hR="0" stAng="10800000" swAng="-5400000"/>
                <a:lnTo>
                  <a:pt x="21600" y="249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5560" y="3213000"/>
            <a:ext cx="758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Quot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2480" y="3879720"/>
            <a:ext cx="2212920" cy="100080"/>
          </a:xfrm>
          <a:custGeom>
            <a:avLst/>
            <a:gdLst/>
            <a:ahLst/>
            <a:rect l="l" t="t" r="r" b="b"/>
            <a:pathLst>
              <a:path w="1394" h="63">
                <a:moveTo>
                  <a:pt x="0" y="41"/>
                </a:moveTo>
                <a:lnTo>
                  <a:pt x="2" y="62"/>
                </a:lnTo>
                <a:lnTo>
                  <a:pt x="184" y="56"/>
                </a:lnTo>
                <a:lnTo>
                  <a:pt x="364" y="48"/>
                </a:lnTo>
                <a:lnTo>
                  <a:pt x="547" y="40"/>
                </a:lnTo>
                <a:lnTo>
                  <a:pt x="640" y="37"/>
                </a:lnTo>
                <a:lnTo>
                  <a:pt x="732" y="35"/>
                </a:lnTo>
                <a:lnTo>
                  <a:pt x="964" y="31"/>
                </a:lnTo>
                <a:lnTo>
                  <a:pt x="1196" y="25"/>
                </a:lnTo>
                <a:lnTo>
                  <a:pt x="1198" y="25"/>
                </a:lnTo>
                <a:lnTo>
                  <a:pt x="1209" y="24"/>
                </a:lnTo>
                <a:lnTo>
                  <a:pt x="1223" y="24"/>
                </a:lnTo>
                <a:lnTo>
                  <a:pt x="1240" y="24"/>
                </a:lnTo>
                <a:lnTo>
                  <a:pt x="1256" y="24"/>
                </a:lnTo>
                <a:lnTo>
                  <a:pt x="1287" y="24"/>
                </a:lnTo>
                <a:lnTo>
                  <a:pt x="1303" y="24"/>
                </a:lnTo>
                <a:lnTo>
                  <a:pt x="1316" y="24"/>
                </a:lnTo>
                <a:lnTo>
                  <a:pt x="1318" y="24"/>
                </a:lnTo>
                <a:lnTo>
                  <a:pt x="1324" y="24"/>
                </a:lnTo>
                <a:lnTo>
                  <a:pt x="1330" y="23"/>
                </a:lnTo>
                <a:lnTo>
                  <a:pt x="1346" y="23"/>
                </a:lnTo>
                <a:lnTo>
                  <a:pt x="1354" y="22"/>
                </a:lnTo>
                <a:lnTo>
                  <a:pt x="1359" y="22"/>
                </a:lnTo>
                <a:lnTo>
                  <a:pt x="1363" y="22"/>
                </a:lnTo>
                <a:lnTo>
                  <a:pt x="1365" y="22"/>
                </a:lnTo>
                <a:lnTo>
                  <a:pt x="1367" y="22"/>
                </a:lnTo>
                <a:lnTo>
                  <a:pt x="1373" y="21"/>
                </a:lnTo>
                <a:lnTo>
                  <a:pt x="1381" y="21"/>
                </a:lnTo>
                <a:lnTo>
                  <a:pt x="1382" y="21"/>
                </a:lnTo>
                <a:lnTo>
                  <a:pt x="1383" y="20"/>
                </a:lnTo>
                <a:lnTo>
                  <a:pt x="1388" y="20"/>
                </a:lnTo>
                <a:lnTo>
                  <a:pt x="1392" y="20"/>
                </a:lnTo>
                <a:lnTo>
                  <a:pt x="1393" y="20"/>
                </a:lnTo>
                <a:lnTo>
                  <a:pt x="1393" y="0"/>
                </a:lnTo>
                <a:lnTo>
                  <a:pt x="1392" y="0"/>
                </a:lnTo>
                <a:lnTo>
                  <a:pt x="1388" y="0"/>
                </a:lnTo>
                <a:lnTo>
                  <a:pt x="1383" y="0"/>
                </a:lnTo>
                <a:lnTo>
                  <a:pt x="1378" y="2"/>
                </a:lnTo>
                <a:lnTo>
                  <a:pt x="1381" y="10"/>
                </a:lnTo>
                <a:lnTo>
                  <a:pt x="1381" y="0"/>
                </a:lnTo>
                <a:lnTo>
                  <a:pt x="1373" y="0"/>
                </a:lnTo>
                <a:lnTo>
                  <a:pt x="1363" y="3"/>
                </a:lnTo>
                <a:lnTo>
                  <a:pt x="1365" y="12"/>
                </a:lnTo>
                <a:lnTo>
                  <a:pt x="1365" y="2"/>
                </a:lnTo>
                <a:lnTo>
                  <a:pt x="1363" y="2"/>
                </a:lnTo>
                <a:lnTo>
                  <a:pt x="1359" y="2"/>
                </a:lnTo>
                <a:lnTo>
                  <a:pt x="1354" y="2"/>
                </a:lnTo>
                <a:lnTo>
                  <a:pt x="1346" y="3"/>
                </a:lnTo>
                <a:lnTo>
                  <a:pt x="1330" y="3"/>
                </a:lnTo>
                <a:lnTo>
                  <a:pt x="1324" y="4"/>
                </a:lnTo>
                <a:lnTo>
                  <a:pt x="1316" y="4"/>
                </a:lnTo>
                <a:lnTo>
                  <a:pt x="1316" y="13"/>
                </a:lnTo>
                <a:lnTo>
                  <a:pt x="1316" y="4"/>
                </a:lnTo>
                <a:lnTo>
                  <a:pt x="1303" y="4"/>
                </a:lnTo>
                <a:lnTo>
                  <a:pt x="1287" y="4"/>
                </a:lnTo>
                <a:lnTo>
                  <a:pt x="1256" y="4"/>
                </a:lnTo>
                <a:lnTo>
                  <a:pt x="1240" y="4"/>
                </a:lnTo>
                <a:lnTo>
                  <a:pt x="1223" y="4"/>
                </a:lnTo>
                <a:lnTo>
                  <a:pt x="1209" y="4"/>
                </a:lnTo>
                <a:lnTo>
                  <a:pt x="1196" y="4"/>
                </a:lnTo>
                <a:lnTo>
                  <a:pt x="1196" y="14"/>
                </a:lnTo>
                <a:lnTo>
                  <a:pt x="1196" y="4"/>
                </a:lnTo>
                <a:lnTo>
                  <a:pt x="964" y="9"/>
                </a:lnTo>
                <a:lnTo>
                  <a:pt x="732" y="13"/>
                </a:lnTo>
                <a:lnTo>
                  <a:pt x="640" y="16"/>
                </a:lnTo>
                <a:lnTo>
                  <a:pt x="547" y="19"/>
                </a:lnTo>
                <a:lnTo>
                  <a:pt x="364" y="26"/>
                </a:lnTo>
                <a:lnTo>
                  <a:pt x="184" y="33"/>
                </a:lnTo>
                <a:lnTo>
                  <a:pt x="0" y="41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8080" y="3825720"/>
            <a:ext cx="157320" cy="154080"/>
          </a:xfrm>
          <a:custGeom>
            <a:avLst/>
            <a:gdLst/>
            <a:ahLst/>
            <a:rect l="l" t="t" r="r" b="b"/>
            <a:pathLst>
              <a:path w="99" h="97">
                <a:moveTo>
                  <a:pt x="4" y="96"/>
                </a:moveTo>
                <a:lnTo>
                  <a:pt x="98" y="44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186760" y="5766840"/>
            <a:ext cx="1004760" cy="1022040"/>
          </a:xfrm>
          <a:custGeom>
            <a:avLst/>
            <a:gdLst>
              <a:gd name="textAreaLeft" fmla="*/ 0 w 1004760"/>
              <a:gd name="textAreaRight" fmla="*/ 1005120 w 1004760"/>
              <a:gd name="textAreaTop" fmla="*/ -360 h 1022040"/>
              <a:gd name="textAreaBottom" fmla="*/ 1022040 h 1022040"/>
            </a:gdLst>
            <a:ahLst/>
            <a:rect l="textAreaLeft" t="textAreaTop" r="textAreaRight" b="textAreaBottom"/>
            <a:pathLst>
              <a:path w="21600" h="21971">
                <a:moveTo>
                  <a:pt x="0" y="0"/>
                </a:moveTo>
                <a:arcTo wR="0" hR="0" stAng="16200000" swAng="-5400000"/>
                <a:lnTo>
                  <a:pt x="0" y="21971"/>
                </a:lnTo>
                <a:arcTo wR="0" hR="0" stAng="10800000" swAng="-5400000"/>
                <a:lnTo>
                  <a:pt x="21600" y="21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15200" y="5773680"/>
            <a:ext cx="830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Trad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6168960"/>
            <a:ext cx="1182600" cy="152640"/>
          </a:xfrm>
          <a:custGeom>
            <a:avLst/>
            <a:gdLst/>
            <a:ahLst/>
            <a:rect l="l" t="t" r="r" b="b"/>
            <a:pathLst>
              <a:path w="745" h="96">
                <a:moveTo>
                  <a:pt x="1" y="79"/>
                </a:moveTo>
                <a:lnTo>
                  <a:pt x="0" y="94"/>
                </a:lnTo>
                <a:lnTo>
                  <a:pt x="47" y="95"/>
                </a:lnTo>
                <a:lnTo>
                  <a:pt x="92" y="94"/>
                </a:lnTo>
                <a:lnTo>
                  <a:pt x="139" y="92"/>
                </a:lnTo>
                <a:lnTo>
                  <a:pt x="184" y="89"/>
                </a:lnTo>
                <a:lnTo>
                  <a:pt x="229" y="84"/>
                </a:lnTo>
                <a:lnTo>
                  <a:pt x="275" y="79"/>
                </a:lnTo>
                <a:lnTo>
                  <a:pt x="319" y="73"/>
                </a:lnTo>
                <a:lnTo>
                  <a:pt x="365" y="67"/>
                </a:lnTo>
                <a:lnTo>
                  <a:pt x="455" y="54"/>
                </a:lnTo>
                <a:lnTo>
                  <a:pt x="545" y="41"/>
                </a:lnTo>
                <a:lnTo>
                  <a:pt x="590" y="33"/>
                </a:lnTo>
                <a:lnTo>
                  <a:pt x="635" y="27"/>
                </a:lnTo>
                <a:lnTo>
                  <a:pt x="680" y="23"/>
                </a:lnTo>
                <a:lnTo>
                  <a:pt x="727" y="19"/>
                </a:lnTo>
                <a:lnTo>
                  <a:pt x="730" y="18"/>
                </a:lnTo>
                <a:lnTo>
                  <a:pt x="731" y="18"/>
                </a:lnTo>
                <a:lnTo>
                  <a:pt x="733" y="16"/>
                </a:lnTo>
                <a:lnTo>
                  <a:pt x="737" y="15"/>
                </a:lnTo>
                <a:lnTo>
                  <a:pt x="741" y="14"/>
                </a:lnTo>
                <a:lnTo>
                  <a:pt x="744" y="12"/>
                </a:lnTo>
                <a:lnTo>
                  <a:pt x="733" y="0"/>
                </a:lnTo>
                <a:lnTo>
                  <a:pt x="733" y="0"/>
                </a:lnTo>
                <a:lnTo>
                  <a:pt x="730" y="1"/>
                </a:lnTo>
                <a:lnTo>
                  <a:pt x="726" y="3"/>
                </a:lnTo>
                <a:lnTo>
                  <a:pt x="722" y="5"/>
                </a:lnTo>
                <a:lnTo>
                  <a:pt x="726" y="11"/>
                </a:lnTo>
                <a:lnTo>
                  <a:pt x="725" y="5"/>
                </a:lnTo>
                <a:lnTo>
                  <a:pt x="680" y="8"/>
                </a:lnTo>
                <a:lnTo>
                  <a:pt x="635" y="14"/>
                </a:lnTo>
                <a:lnTo>
                  <a:pt x="590" y="19"/>
                </a:lnTo>
                <a:lnTo>
                  <a:pt x="545" y="25"/>
                </a:lnTo>
                <a:lnTo>
                  <a:pt x="455" y="39"/>
                </a:lnTo>
                <a:lnTo>
                  <a:pt x="365" y="52"/>
                </a:lnTo>
                <a:lnTo>
                  <a:pt x="319" y="58"/>
                </a:lnTo>
                <a:lnTo>
                  <a:pt x="275" y="65"/>
                </a:lnTo>
                <a:lnTo>
                  <a:pt x="229" y="69"/>
                </a:lnTo>
                <a:lnTo>
                  <a:pt x="184" y="74"/>
                </a:lnTo>
                <a:lnTo>
                  <a:pt x="139" y="76"/>
                </a:lnTo>
                <a:lnTo>
                  <a:pt x="92" y="79"/>
                </a:lnTo>
                <a:lnTo>
                  <a:pt x="47" y="80"/>
                </a:lnTo>
                <a:lnTo>
                  <a:pt x="1" y="79"/>
                </a:lnTo>
                <a:lnTo>
                  <a:pt x="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69320" y="6110280"/>
            <a:ext cx="166680" cy="150840"/>
          </a:xfrm>
          <a:custGeom>
            <a:avLst/>
            <a:gdLst/>
            <a:ahLst/>
            <a:rect l="l" t="t" r="r" b="b"/>
            <a:pathLst>
              <a:path w="105" h="95">
                <a:moveTo>
                  <a:pt x="19" y="94"/>
                </a:moveTo>
                <a:lnTo>
                  <a:pt x="104" y="28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0760" y="627840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de confi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9200" y="3405240"/>
            <a:ext cx="138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l time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64240" y="4062240"/>
            <a:ext cx="1157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g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62680" y="2276640"/>
            <a:ext cx="16002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hiller"/>
              </a:rPr>
              <a:t>Service differen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8840" y="2101680"/>
            <a:ext cx="885960" cy="1022400"/>
          </a:xfrm>
          <a:custGeom>
            <a:avLst/>
            <a:gdLst>
              <a:gd name="textAreaLeft" fmla="*/ 0 w 885960"/>
              <a:gd name="textAreaRight" fmla="*/ 886320 w 88596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21600" h="24925">
                <a:moveTo>
                  <a:pt x="0" y="0"/>
                </a:moveTo>
                <a:arcTo wR="0" hR="0" stAng="16200000" swAng="-5400000"/>
                <a:lnTo>
                  <a:pt x="0" y="24925"/>
                </a:lnTo>
                <a:arcTo wR="0" hR="0" stAng="10800000" swAng="-5400000"/>
                <a:lnTo>
                  <a:pt x="21600" y="2492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89080" y="2133720"/>
            <a:ext cx="1119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8080" y="2901960"/>
            <a:ext cx="374760" cy="1184400"/>
          </a:xfrm>
          <a:custGeom>
            <a:avLst/>
            <a:gdLst/>
            <a:ahLst/>
            <a:rect l="l" t="t" r="r" b="b"/>
            <a:pathLst>
              <a:path w="236" h="746">
                <a:moveTo>
                  <a:pt x="0" y="724"/>
                </a:moveTo>
                <a:lnTo>
                  <a:pt x="5" y="745"/>
                </a:lnTo>
                <a:lnTo>
                  <a:pt x="18" y="742"/>
                </a:lnTo>
                <a:lnTo>
                  <a:pt x="13" y="732"/>
                </a:lnTo>
                <a:lnTo>
                  <a:pt x="13" y="743"/>
                </a:lnTo>
                <a:lnTo>
                  <a:pt x="24" y="742"/>
                </a:lnTo>
                <a:lnTo>
                  <a:pt x="44" y="740"/>
                </a:lnTo>
                <a:lnTo>
                  <a:pt x="55" y="737"/>
                </a:lnTo>
                <a:lnTo>
                  <a:pt x="59" y="736"/>
                </a:lnTo>
                <a:lnTo>
                  <a:pt x="70" y="734"/>
                </a:lnTo>
                <a:lnTo>
                  <a:pt x="79" y="731"/>
                </a:lnTo>
                <a:lnTo>
                  <a:pt x="83" y="728"/>
                </a:lnTo>
                <a:lnTo>
                  <a:pt x="89" y="722"/>
                </a:lnTo>
                <a:lnTo>
                  <a:pt x="90" y="722"/>
                </a:lnTo>
                <a:lnTo>
                  <a:pt x="108" y="703"/>
                </a:lnTo>
                <a:lnTo>
                  <a:pt x="125" y="686"/>
                </a:lnTo>
                <a:lnTo>
                  <a:pt x="138" y="668"/>
                </a:lnTo>
                <a:lnTo>
                  <a:pt x="150" y="651"/>
                </a:lnTo>
                <a:lnTo>
                  <a:pt x="153" y="647"/>
                </a:lnTo>
                <a:lnTo>
                  <a:pt x="163" y="630"/>
                </a:lnTo>
                <a:lnTo>
                  <a:pt x="170" y="613"/>
                </a:lnTo>
                <a:lnTo>
                  <a:pt x="178" y="597"/>
                </a:lnTo>
                <a:lnTo>
                  <a:pt x="184" y="580"/>
                </a:lnTo>
                <a:lnTo>
                  <a:pt x="188" y="564"/>
                </a:lnTo>
                <a:lnTo>
                  <a:pt x="192" y="546"/>
                </a:lnTo>
                <a:lnTo>
                  <a:pt x="192" y="541"/>
                </a:lnTo>
                <a:lnTo>
                  <a:pt x="195" y="522"/>
                </a:lnTo>
                <a:lnTo>
                  <a:pt x="198" y="504"/>
                </a:lnTo>
                <a:lnTo>
                  <a:pt x="201" y="484"/>
                </a:lnTo>
                <a:lnTo>
                  <a:pt x="203" y="463"/>
                </a:lnTo>
                <a:lnTo>
                  <a:pt x="204" y="440"/>
                </a:lnTo>
                <a:lnTo>
                  <a:pt x="207" y="418"/>
                </a:lnTo>
                <a:lnTo>
                  <a:pt x="207" y="417"/>
                </a:lnTo>
                <a:lnTo>
                  <a:pt x="218" y="312"/>
                </a:lnTo>
                <a:lnTo>
                  <a:pt x="227" y="208"/>
                </a:lnTo>
                <a:lnTo>
                  <a:pt x="229" y="156"/>
                </a:lnTo>
                <a:lnTo>
                  <a:pt x="233" y="104"/>
                </a:lnTo>
                <a:lnTo>
                  <a:pt x="234" y="52"/>
                </a:lnTo>
                <a:lnTo>
                  <a:pt x="235" y="0"/>
                </a:lnTo>
                <a:lnTo>
                  <a:pt x="213" y="0"/>
                </a:lnTo>
                <a:lnTo>
                  <a:pt x="213" y="52"/>
                </a:lnTo>
                <a:lnTo>
                  <a:pt x="211" y="104"/>
                </a:lnTo>
                <a:lnTo>
                  <a:pt x="208" y="156"/>
                </a:lnTo>
                <a:lnTo>
                  <a:pt x="206" y="208"/>
                </a:lnTo>
                <a:lnTo>
                  <a:pt x="196" y="312"/>
                </a:lnTo>
                <a:lnTo>
                  <a:pt x="185" y="415"/>
                </a:lnTo>
                <a:lnTo>
                  <a:pt x="196" y="416"/>
                </a:lnTo>
                <a:lnTo>
                  <a:pt x="185" y="415"/>
                </a:lnTo>
                <a:lnTo>
                  <a:pt x="183" y="440"/>
                </a:lnTo>
                <a:lnTo>
                  <a:pt x="181" y="463"/>
                </a:lnTo>
                <a:lnTo>
                  <a:pt x="180" y="484"/>
                </a:lnTo>
                <a:lnTo>
                  <a:pt x="177" y="504"/>
                </a:lnTo>
                <a:lnTo>
                  <a:pt x="173" y="522"/>
                </a:lnTo>
                <a:lnTo>
                  <a:pt x="171" y="541"/>
                </a:lnTo>
                <a:lnTo>
                  <a:pt x="183" y="541"/>
                </a:lnTo>
                <a:lnTo>
                  <a:pt x="171" y="538"/>
                </a:lnTo>
                <a:lnTo>
                  <a:pt x="169" y="555"/>
                </a:lnTo>
                <a:lnTo>
                  <a:pt x="165" y="572"/>
                </a:lnTo>
                <a:lnTo>
                  <a:pt x="158" y="589"/>
                </a:lnTo>
                <a:lnTo>
                  <a:pt x="150" y="605"/>
                </a:lnTo>
                <a:lnTo>
                  <a:pt x="142" y="621"/>
                </a:lnTo>
                <a:lnTo>
                  <a:pt x="132" y="639"/>
                </a:lnTo>
                <a:lnTo>
                  <a:pt x="142" y="643"/>
                </a:lnTo>
                <a:lnTo>
                  <a:pt x="134" y="635"/>
                </a:lnTo>
                <a:lnTo>
                  <a:pt x="124" y="653"/>
                </a:lnTo>
                <a:lnTo>
                  <a:pt x="109" y="670"/>
                </a:lnTo>
                <a:lnTo>
                  <a:pt x="93" y="688"/>
                </a:lnTo>
                <a:lnTo>
                  <a:pt x="75" y="707"/>
                </a:lnTo>
                <a:lnTo>
                  <a:pt x="83" y="714"/>
                </a:lnTo>
                <a:lnTo>
                  <a:pt x="75" y="707"/>
                </a:lnTo>
                <a:lnTo>
                  <a:pt x="67" y="712"/>
                </a:lnTo>
                <a:lnTo>
                  <a:pt x="74" y="721"/>
                </a:lnTo>
                <a:lnTo>
                  <a:pt x="70" y="710"/>
                </a:lnTo>
                <a:lnTo>
                  <a:pt x="62" y="714"/>
                </a:lnTo>
                <a:lnTo>
                  <a:pt x="52" y="717"/>
                </a:lnTo>
                <a:lnTo>
                  <a:pt x="55" y="728"/>
                </a:lnTo>
                <a:lnTo>
                  <a:pt x="55" y="716"/>
                </a:lnTo>
                <a:lnTo>
                  <a:pt x="44" y="718"/>
                </a:lnTo>
                <a:lnTo>
                  <a:pt x="24" y="721"/>
                </a:lnTo>
                <a:lnTo>
                  <a:pt x="13" y="721"/>
                </a:lnTo>
                <a:lnTo>
                  <a:pt x="10" y="722"/>
                </a:lnTo>
                <a:lnTo>
                  <a:pt x="0" y="724"/>
                </a:lnTo>
                <a:lnTo>
                  <a:pt x="0" y="7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90196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96" y="96"/>
                </a:moveTo>
                <a:lnTo>
                  <a:pt x="49" y="0"/>
                </a:lnTo>
                <a:lnTo>
                  <a:pt x="0" y="94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7040" y="215424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deal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th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47840" y="3461760"/>
            <a:ext cx="887760" cy="1022040"/>
          </a:xfrm>
          <a:custGeom>
            <a:avLst/>
            <a:gdLst>
              <a:gd name="textAreaLeft" fmla="*/ 0 w 887760"/>
              <a:gd name="textAreaRight" fmla="*/ 888120 w 887760"/>
              <a:gd name="textAreaTop" fmla="*/ -360 h 1022040"/>
              <a:gd name="textAreaBottom" fmla="*/ 1022040 h 1022040"/>
            </a:gdLst>
            <a:ahLst/>
            <a:rect l="textAreaLeft" t="textAreaTop" r="textAreaRight" b="textAreaBottom"/>
            <a:pathLst>
              <a:path w="21600" h="24866">
                <a:moveTo>
                  <a:pt x="0" y="0"/>
                </a:moveTo>
                <a:arcTo wR="0" hR="0" stAng="16200000" swAng="-5400000"/>
                <a:lnTo>
                  <a:pt x="0" y="24866"/>
                </a:lnTo>
                <a:arcTo wR="0" hR="0" stAng="10800000" swAng="-5400000"/>
                <a:lnTo>
                  <a:pt x="21600" y="2486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0160" y="3463920"/>
            <a:ext cx="895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hiller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3789360"/>
            <a:ext cx="900000" cy="546120"/>
          </a:xfrm>
          <a:custGeom>
            <a:avLst/>
            <a:gdLst/>
            <a:ahLst/>
            <a:rect l="l" t="t" r="r" b="b"/>
            <a:pathLst>
              <a:path w="567" h="344">
                <a:moveTo>
                  <a:pt x="0" y="323"/>
                </a:moveTo>
                <a:lnTo>
                  <a:pt x="2" y="343"/>
                </a:lnTo>
                <a:lnTo>
                  <a:pt x="28" y="338"/>
                </a:lnTo>
                <a:lnTo>
                  <a:pt x="32" y="336"/>
                </a:lnTo>
                <a:lnTo>
                  <a:pt x="60" y="329"/>
                </a:lnTo>
                <a:lnTo>
                  <a:pt x="90" y="319"/>
                </a:lnTo>
                <a:lnTo>
                  <a:pt x="120" y="306"/>
                </a:lnTo>
                <a:lnTo>
                  <a:pt x="151" y="293"/>
                </a:lnTo>
                <a:lnTo>
                  <a:pt x="181" y="276"/>
                </a:lnTo>
                <a:lnTo>
                  <a:pt x="212" y="259"/>
                </a:lnTo>
                <a:lnTo>
                  <a:pt x="241" y="243"/>
                </a:lnTo>
                <a:lnTo>
                  <a:pt x="271" y="224"/>
                </a:lnTo>
                <a:lnTo>
                  <a:pt x="299" y="205"/>
                </a:lnTo>
                <a:lnTo>
                  <a:pt x="327" y="187"/>
                </a:lnTo>
                <a:lnTo>
                  <a:pt x="330" y="186"/>
                </a:lnTo>
                <a:lnTo>
                  <a:pt x="357" y="167"/>
                </a:lnTo>
                <a:lnTo>
                  <a:pt x="381" y="150"/>
                </a:lnTo>
                <a:lnTo>
                  <a:pt x="404" y="132"/>
                </a:lnTo>
                <a:lnTo>
                  <a:pt x="426" y="117"/>
                </a:lnTo>
                <a:lnTo>
                  <a:pt x="442" y="105"/>
                </a:lnTo>
                <a:lnTo>
                  <a:pt x="455" y="95"/>
                </a:lnTo>
                <a:lnTo>
                  <a:pt x="465" y="88"/>
                </a:lnTo>
                <a:lnTo>
                  <a:pt x="474" y="81"/>
                </a:lnTo>
                <a:lnTo>
                  <a:pt x="482" y="75"/>
                </a:lnTo>
                <a:lnTo>
                  <a:pt x="496" y="62"/>
                </a:lnTo>
                <a:lnTo>
                  <a:pt x="508" y="52"/>
                </a:lnTo>
                <a:lnTo>
                  <a:pt x="515" y="45"/>
                </a:lnTo>
                <a:lnTo>
                  <a:pt x="523" y="38"/>
                </a:lnTo>
                <a:lnTo>
                  <a:pt x="527" y="33"/>
                </a:lnTo>
                <a:lnTo>
                  <a:pt x="531" y="27"/>
                </a:lnTo>
                <a:lnTo>
                  <a:pt x="535" y="24"/>
                </a:lnTo>
                <a:lnTo>
                  <a:pt x="538" y="21"/>
                </a:lnTo>
                <a:lnTo>
                  <a:pt x="530" y="13"/>
                </a:lnTo>
                <a:lnTo>
                  <a:pt x="534" y="23"/>
                </a:lnTo>
                <a:lnTo>
                  <a:pt x="538" y="21"/>
                </a:lnTo>
                <a:lnTo>
                  <a:pt x="540" y="21"/>
                </a:lnTo>
                <a:lnTo>
                  <a:pt x="538" y="10"/>
                </a:lnTo>
                <a:lnTo>
                  <a:pt x="538" y="21"/>
                </a:lnTo>
                <a:lnTo>
                  <a:pt x="542" y="21"/>
                </a:lnTo>
                <a:lnTo>
                  <a:pt x="549" y="21"/>
                </a:lnTo>
                <a:lnTo>
                  <a:pt x="556" y="21"/>
                </a:lnTo>
                <a:lnTo>
                  <a:pt x="566" y="21"/>
                </a:lnTo>
                <a:lnTo>
                  <a:pt x="566" y="0"/>
                </a:lnTo>
                <a:lnTo>
                  <a:pt x="556" y="0"/>
                </a:lnTo>
                <a:lnTo>
                  <a:pt x="549" y="0"/>
                </a:lnTo>
                <a:lnTo>
                  <a:pt x="542" y="0"/>
                </a:lnTo>
                <a:lnTo>
                  <a:pt x="538" y="0"/>
                </a:lnTo>
                <a:lnTo>
                  <a:pt x="533" y="1"/>
                </a:lnTo>
                <a:lnTo>
                  <a:pt x="529" y="2"/>
                </a:lnTo>
                <a:lnTo>
                  <a:pt x="525" y="4"/>
                </a:lnTo>
                <a:lnTo>
                  <a:pt x="523" y="6"/>
                </a:lnTo>
                <a:lnTo>
                  <a:pt x="519" y="8"/>
                </a:lnTo>
                <a:lnTo>
                  <a:pt x="516" y="12"/>
                </a:lnTo>
                <a:lnTo>
                  <a:pt x="513" y="17"/>
                </a:lnTo>
                <a:lnTo>
                  <a:pt x="508" y="22"/>
                </a:lnTo>
                <a:lnTo>
                  <a:pt x="500" y="29"/>
                </a:lnTo>
                <a:lnTo>
                  <a:pt x="492" y="38"/>
                </a:lnTo>
                <a:lnTo>
                  <a:pt x="480" y="47"/>
                </a:lnTo>
                <a:lnTo>
                  <a:pt x="467" y="61"/>
                </a:lnTo>
                <a:lnTo>
                  <a:pt x="458" y="66"/>
                </a:lnTo>
                <a:lnTo>
                  <a:pt x="450" y="74"/>
                </a:lnTo>
                <a:lnTo>
                  <a:pt x="440" y="80"/>
                </a:lnTo>
                <a:lnTo>
                  <a:pt x="430" y="88"/>
                </a:lnTo>
                <a:lnTo>
                  <a:pt x="410" y="103"/>
                </a:lnTo>
                <a:lnTo>
                  <a:pt x="389" y="117"/>
                </a:lnTo>
                <a:lnTo>
                  <a:pt x="366" y="134"/>
                </a:lnTo>
                <a:lnTo>
                  <a:pt x="342" y="151"/>
                </a:lnTo>
                <a:lnTo>
                  <a:pt x="315" y="170"/>
                </a:lnTo>
                <a:lnTo>
                  <a:pt x="323" y="177"/>
                </a:lnTo>
                <a:lnTo>
                  <a:pt x="319" y="169"/>
                </a:lnTo>
                <a:lnTo>
                  <a:pt x="291" y="187"/>
                </a:lnTo>
                <a:lnTo>
                  <a:pt x="261" y="204"/>
                </a:lnTo>
                <a:lnTo>
                  <a:pt x="234" y="223"/>
                </a:lnTo>
                <a:lnTo>
                  <a:pt x="203" y="240"/>
                </a:lnTo>
                <a:lnTo>
                  <a:pt x="173" y="257"/>
                </a:lnTo>
                <a:lnTo>
                  <a:pt x="142" y="274"/>
                </a:lnTo>
                <a:lnTo>
                  <a:pt x="112" y="286"/>
                </a:lnTo>
                <a:lnTo>
                  <a:pt x="81" y="299"/>
                </a:lnTo>
                <a:lnTo>
                  <a:pt x="52" y="310"/>
                </a:lnTo>
                <a:lnTo>
                  <a:pt x="23" y="317"/>
                </a:lnTo>
                <a:lnTo>
                  <a:pt x="28" y="326"/>
                </a:lnTo>
                <a:lnTo>
                  <a:pt x="28" y="316"/>
                </a:lnTo>
                <a:lnTo>
                  <a:pt x="0" y="323"/>
                </a:lnTo>
                <a:lnTo>
                  <a:pt x="0" y="32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8400" y="3803760"/>
            <a:ext cx="169920" cy="145800"/>
          </a:xfrm>
          <a:custGeom>
            <a:avLst/>
            <a:gdLst/>
            <a:ahLst/>
            <a:rect l="l" t="t" r="r" b="b"/>
            <a:pathLst>
              <a:path w="107" h="92">
                <a:moveTo>
                  <a:pt x="49" y="91"/>
                </a:moveTo>
                <a:lnTo>
                  <a:pt x="106" y="0"/>
                </a:lnTo>
                <a:lnTo>
                  <a:pt x="0" y="1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352680" y="3687120"/>
            <a:ext cx="506520" cy="409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4720" y="3654360"/>
            <a:ext cx="636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Use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47840" y="4143240"/>
            <a:ext cx="615960" cy="2476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8640" y="4146480"/>
            <a:ext cx="345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G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60840" y="4192560"/>
            <a:ext cx="328680" cy="179280"/>
          </a:xfrm>
          <a:custGeom>
            <a:avLst/>
            <a:gdLst/>
            <a:ahLst/>
            <a:rect l="l" t="t" r="r" b="b"/>
            <a:pathLst>
              <a:path w="207" h="113">
                <a:moveTo>
                  <a:pt x="9" y="8"/>
                </a:moveTo>
                <a:lnTo>
                  <a:pt x="34" y="8"/>
                </a:lnTo>
                <a:lnTo>
                  <a:pt x="60" y="6"/>
                </a:lnTo>
                <a:lnTo>
                  <a:pt x="83" y="5"/>
                </a:lnTo>
                <a:lnTo>
                  <a:pt x="105" y="3"/>
                </a:lnTo>
                <a:lnTo>
                  <a:pt x="125" y="2"/>
                </a:lnTo>
                <a:lnTo>
                  <a:pt x="143" y="1"/>
                </a:lnTo>
                <a:lnTo>
                  <a:pt x="159" y="0"/>
                </a:lnTo>
                <a:lnTo>
                  <a:pt x="173" y="1"/>
                </a:lnTo>
                <a:lnTo>
                  <a:pt x="184" y="3"/>
                </a:lnTo>
                <a:lnTo>
                  <a:pt x="194" y="6"/>
                </a:lnTo>
                <a:lnTo>
                  <a:pt x="200" y="12"/>
                </a:lnTo>
                <a:lnTo>
                  <a:pt x="204" y="22"/>
                </a:lnTo>
                <a:lnTo>
                  <a:pt x="206" y="32"/>
                </a:lnTo>
                <a:lnTo>
                  <a:pt x="204" y="46"/>
                </a:lnTo>
                <a:lnTo>
                  <a:pt x="203" y="55"/>
                </a:lnTo>
                <a:lnTo>
                  <a:pt x="200" y="64"/>
                </a:lnTo>
                <a:lnTo>
                  <a:pt x="197" y="74"/>
                </a:lnTo>
                <a:lnTo>
                  <a:pt x="194" y="86"/>
                </a:lnTo>
                <a:lnTo>
                  <a:pt x="194" y="91"/>
                </a:lnTo>
                <a:lnTo>
                  <a:pt x="194" y="99"/>
                </a:lnTo>
                <a:lnTo>
                  <a:pt x="194" y="105"/>
                </a:lnTo>
                <a:lnTo>
                  <a:pt x="192" y="109"/>
                </a:lnTo>
                <a:lnTo>
                  <a:pt x="190" y="110"/>
                </a:lnTo>
                <a:lnTo>
                  <a:pt x="185" y="112"/>
                </a:lnTo>
                <a:lnTo>
                  <a:pt x="181" y="112"/>
                </a:lnTo>
                <a:lnTo>
                  <a:pt x="172" y="110"/>
                </a:lnTo>
                <a:lnTo>
                  <a:pt x="162" y="107"/>
                </a:lnTo>
                <a:lnTo>
                  <a:pt x="154" y="105"/>
                </a:lnTo>
                <a:lnTo>
                  <a:pt x="135" y="103"/>
                </a:lnTo>
                <a:lnTo>
                  <a:pt x="115" y="102"/>
                </a:lnTo>
                <a:lnTo>
                  <a:pt x="109" y="99"/>
                </a:lnTo>
                <a:lnTo>
                  <a:pt x="105" y="99"/>
                </a:lnTo>
                <a:lnTo>
                  <a:pt x="100" y="97"/>
                </a:lnTo>
                <a:lnTo>
                  <a:pt x="96" y="97"/>
                </a:lnTo>
                <a:lnTo>
                  <a:pt x="91" y="97"/>
                </a:lnTo>
                <a:lnTo>
                  <a:pt x="87" y="97"/>
                </a:lnTo>
                <a:lnTo>
                  <a:pt x="81" y="97"/>
                </a:lnTo>
                <a:lnTo>
                  <a:pt x="75" y="97"/>
                </a:lnTo>
                <a:lnTo>
                  <a:pt x="71" y="99"/>
                </a:lnTo>
                <a:lnTo>
                  <a:pt x="65" y="99"/>
                </a:lnTo>
                <a:lnTo>
                  <a:pt x="57" y="99"/>
                </a:lnTo>
                <a:lnTo>
                  <a:pt x="48" y="101"/>
                </a:lnTo>
                <a:lnTo>
                  <a:pt x="36" y="102"/>
                </a:lnTo>
                <a:lnTo>
                  <a:pt x="32" y="102"/>
                </a:lnTo>
                <a:lnTo>
                  <a:pt x="28" y="104"/>
                </a:lnTo>
                <a:lnTo>
                  <a:pt x="17" y="109"/>
                </a:lnTo>
                <a:lnTo>
                  <a:pt x="14" y="109"/>
                </a:lnTo>
                <a:lnTo>
                  <a:pt x="9" y="110"/>
                </a:lnTo>
                <a:lnTo>
                  <a:pt x="6" y="109"/>
                </a:lnTo>
                <a:lnTo>
                  <a:pt x="4" y="105"/>
                </a:lnTo>
                <a:lnTo>
                  <a:pt x="1" y="94"/>
                </a:lnTo>
                <a:lnTo>
                  <a:pt x="0" y="80"/>
                </a:lnTo>
                <a:lnTo>
                  <a:pt x="1" y="69"/>
                </a:lnTo>
                <a:lnTo>
                  <a:pt x="2" y="57"/>
                </a:lnTo>
                <a:lnTo>
                  <a:pt x="6" y="32"/>
                </a:lnTo>
                <a:lnTo>
                  <a:pt x="9" y="21"/>
                </a:lnTo>
                <a:lnTo>
                  <a:pt x="9" y="8"/>
                </a:lnTo>
                <a:lnTo>
                  <a:pt x="9" y="8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416480"/>
            <a:ext cx="750960" cy="409680"/>
          </a:xfrm>
          <a:custGeom>
            <a:avLst/>
            <a:gdLst/>
            <a:ahLst/>
            <a:rect l="l" t="t" r="r" b="b"/>
            <a:pathLst>
              <a:path w="473" h="258">
                <a:moveTo>
                  <a:pt x="0" y="257"/>
                </a:moveTo>
                <a:lnTo>
                  <a:pt x="1" y="231"/>
                </a:lnTo>
                <a:lnTo>
                  <a:pt x="4" y="206"/>
                </a:lnTo>
                <a:lnTo>
                  <a:pt x="8" y="185"/>
                </a:lnTo>
                <a:lnTo>
                  <a:pt x="11" y="166"/>
                </a:lnTo>
                <a:lnTo>
                  <a:pt x="14" y="158"/>
                </a:lnTo>
                <a:lnTo>
                  <a:pt x="18" y="151"/>
                </a:lnTo>
                <a:lnTo>
                  <a:pt x="21" y="143"/>
                </a:lnTo>
                <a:lnTo>
                  <a:pt x="24" y="138"/>
                </a:lnTo>
                <a:lnTo>
                  <a:pt x="28" y="133"/>
                </a:lnTo>
                <a:lnTo>
                  <a:pt x="31" y="131"/>
                </a:lnTo>
                <a:lnTo>
                  <a:pt x="36" y="129"/>
                </a:lnTo>
                <a:lnTo>
                  <a:pt x="39" y="128"/>
                </a:lnTo>
                <a:lnTo>
                  <a:pt x="197" y="128"/>
                </a:lnTo>
                <a:lnTo>
                  <a:pt x="200" y="127"/>
                </a:lnTo>
                <a:lnTo>
                  <a:pt x="204" y="125"/>
                </a:lnTo>
                <a:lnTo>
                  <a:pt x="208" y="123"/>
                </a:lnTo>
                <a:lnTo>
                  <a:pt x="212" y="118"/>
                </a:lnTo>
                <a:lnTo>
                  <a:pt x="216" y="114"/>
                </a:lnTo>
                <a:lnTo>
                  <a:pt x="219" y="107"/>
                </a:lnTo>
                <a:lnTo>
                  <a:pt x="222" y="99"/>
                </a:lnTo>
                <a:lnTo>
                  <a:pt x="224" y="91"/>
                </a:lnTo>
                <a:lnTo>
                  <a:pt x="229" y="72"/>
                </a:lnTo>
                <a:lnTo>
                  <a:pt x="233" y="50"/>
                </a:lnTo>
                <a:lnTo>
                  <a:pt x="235" y="25"/>
                </a:lnTo>
                <a:lnTo>
                  <a:pt x="236" y="0"/>
                </a:lnTo>
                <a:lnTo>
                  <a:pt x="238" y="25"/>
                </a:lnTo>
                <a:lnTo>
                  <a:pt x="239" y="50"/>
                </a:lnTo>
                <a:lnTo>
                  <a:pt x="243" y="72"/>
                </a:lnTo>
                <a:lnTo>
                  <a:pt x="247" y="91"/>
                </a:lnTo>
                <a:lnTo>
                  <a:pt x="250" y="99"/>
                </a:lnTo>
                <a:lnTo>
                  <a:pt x="254" y="107"/>
                </a:lnTo>
                <a:lnTo>
                  <a:pt x="257" y="114"/>
                </a:lnTo>
                <a:lnTo>
                  <a:pt x="260" y="118"/>
                </a:lnTo>
                <a:lnTo>
                  <a:pt x="264" y="123"/>
                </a:lnTo>
                <a:lnTo>
                  <a:pt x="267" y="125"/>
                </a:lnTo>
                <a:lnTo>
                  <a:pt x="272" y="127"/>
                </a:lnTo>
                <a:lnTo>
                  <a:pt x="274" y="128"/>
                </a:lnTo>
                <a:lnTo>
                  <a:pt x="433" y="128"/>
                </a:lnTo>
                <a:lnTo>
                  <a:pt x="437" y="129"/>
                </a:lnTo>
                <a:lnTo>
                  <a:pt x="440" y="131"/>
                </a:lnTo>
                <a:lnTo>
                  <a:pt x="443" y="133"/>
                </a:lnTo>
                <a:lnTo>
                  <a:pt x="448" y="138"/>
                </a:lnTo>
                <a:lnTo>
                  <a:pt x="452" y="143"/>
                </a:lnTo>
                <a:lnTo>
                  <a:pt x="454" y="151"/>
                </a:lnTo>
                <a:lnTo>
                  <a:pt x="457" y="158"/>
                </a:lnTo>
                <a:lnTo>
                  <a:pt x="461" y="166"/>
                </a:lnTo>
                <a:lnTo>
                  <a:pt x="465" y="185"/>
                </a:lnTo>
                <a:lnTo>
                  <a:pt x="469" y="206"/>
                </a:lnTo>
                <a:lnTo>
                  <a:pt x="471" y="231"/>
                </a:lnTo>
                <a:lnTo>
                  <a:pt x="472" y="257"/>
                </a:lnTo>
              </a:path>
            </a:pathLst>
          </a:custGeom>
          <a:noFill/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8840" y="4646520"/>
            <a:ext cx="636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(l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Tr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6200" y="5742000"/>
            <a:ext cx="1674720" cy="839880"/>
          </a:xfrm>
          <a:custGeom>
            <a:avLst/>
            <a:gdLst/>
            <a:ahLst/>
            <a:rect l="l" t="t" r="r" b="b"/>
            <a:pathLst>
              <a:path w="1055" h="529">
                <a:moveTo>
                  <a:pt x="192" y="51"/>
                </a:moveTo>
                <a:lnTo>
                  <a:pt x="160" y="60"/>
                </a:lnTo>
                <a:lnTo>
                  <a:pt x="129" y="67"/>
                </a:lnTo>
                <a:lnTo>
                  <a:pt x="98" y="76"/>
                </a:lnTo>
                <a:lnTo>
                  <a:pt x="83" y="81"/>
                </a:lnTo>
                <a:lnTo>
                  <a:pt x="68" y="89"/>
                </a:lnTo>
                <a:lnTo>
                  <a:pt x="60" y="93"/>
                </a:lnTo>
                <a:lnTo>
                  <a:pt x="53" y="99"/>
                </a:lnTo>
                <a:lnTo>
                  <a:pt x="45" y="107"/>
                </a:lnTo>
                <a:lnTo>
                  <a:pt x="39" y="115"/>
                </a:lnTo>
                <a:lnTo>
                  <a:pt x="33" y="121"/>
                </a:lnTo>
                <a:lnTo>
                  <a:pt x="27" y="127"/>
                </a:lnTo>
                <a:lnTo>
                  <a:pt x="25" y="132"/>
                </a:lnTo>
                <a:lnTo>
                  <a:pt x="25" y="132"/>
                </a:lnTo>
                <a:lnTo>
                  <a:pt x="19" y="154"/>
                </a:lnTo>
                <a:lnTo>
                  <a:pt x="14" y="172"/>
                </a:lnTo>
                <a:lnTo>
                  <a:pt x="10" y="188"/>
                </a:lnTo>
                <a:lnTo>
                  <a:pt x="7" y="202"/>
                </a:lnTo>
                <a:lnTo>
                  <a:pt x="3" y="215"/>
                </a:lnTo>
                <a:lnTo>
                  <a:pt x="2" y="225"/>
                </a:lnTo>
                <a:lnTo>
                  <a:pt x="0" y="246"/>
                </a:lnTo>
                <a:lnTo>
                  <a:pt x="0" y="257"/>
                </a:lnTo>
                <a:lnTo>
                  <a:pt x="0" y="268"/>
                </a:lnTo>
                <a:lnTo>
                  <a:pt x="1" y="282"/>
                </a:lnTo>
                <a:lnTo>
                  <a:pt x="3" y="296"/>
                </a:lnTo>
                <a:lnTo>
                  <a:pt x="4" y="313"/>
                </a:lnTo>
                <a:lnTo>
                  <a:pt x="8" y="333"/>
                </a:lnTo>
                <a:lnTo>
                  <a:pt x="9" y="344"/>
                </a:lnTo>
                <a:lnTo>
                  <a:pt x="11" y="356"/>
                </a:lnTo>
                <a:lnTo>
                  <a:pt x="13" y="368"/>
                </a:lnTo>
                <a:lnTo>
                  <a:pt x="15" y="381"/>
                </a:lnTo>
                <a:lnTo>
                  <a:pt x="16" y="396"/>
                </a:lnTo>
                <a:lnTo>
                  <a:pt x="19" y="410"/>
                </a:lnTo>
                <a:lnTo>
                  <a:pt x="21" y="418"/>
                </a:lnTo>
                <a:lnTo>
                  <a:pt x="25" y="423"/>
                </a:lnTo>
                <a:lnTo>
                  <a:pt x="27" y="429"/>
                </a:lnTo>
                <a:lnTo>
                  <a:pt x="33" y="434"/>
                </a:lnTo>
                <a:lnTo>
                  <a:pt x="43" y="440"/>
                </a:lnTo>
                <a:lnTo>
                  <a:pt x="54" y="444"/>
                </a:lnTo>
                <a:lnTo>
                  <a:pt x="67" y="447"/>
                </a:lnTo>
                <a:lnTo>
                  <a:pt x="79" y="449"/>
                </a:lnTo>
                <a:lnTo>
                  <a:pt x="105" y="452"/>
                </a:lnTo>
                <a:lnTo>
                  <a:pt x="117" y="453"/>
                </a:lnTo>
                <a:lnTo>
                  <a:pt x="129" y="456"/>
                </a:lnTo>
                <a:lnTo>
                  <a:pt x="162" y="467"/>
                </a:lnTo>
                <a:lnTo>
                  <a:pt x="195" y="476"/>
                </a:lnTo>
                <a:lnTo>
                  <a:pt x="225" y="485"/>
                </a:lnTo>
                <a:lnTo>
                  <a:pt x="254" y="491"/>
                </a:lnTo>
                <a:lnTo>
                  <a:pt x="284" y="498"/>
                </a:lnTo>
                <a:lnTo>
                  <a:pt x="314" y="504"/>
                </a:lnTo>
                <a:lnTo>
                  <a:pt x="373" y="513"/>
                </a:lnTo>
                <a:lnTo>
                  <a:pt x="433" y="519"/>
                </a:lnTo>
                <a:lnTo>
                  <a:pt x="494" y="523"/>
                </a:lnTo>
                <a:lnTo>
                  <a:pt x="559" y="526"/>
                </a:lnTo>
                <a:lnTo>
                  <a:pt x="592" y="527"/>
                </a:lnTo>
                <a:lnTo>
                  <a:pt x="626" y="528"/>
                </a:lnTo>
                <a:lnTo>
                  <a:pt x="650" y="526"/>
                </a:lnTo>
                <a:lnTo>
                  <a:pt x="675" y="526"/>
                </a:lnTo>
                <a:lnTo>
                  <a:pt x="695" y="524"/>
                </a:lnTo>
                <a:lnTo>
                  <a:pt x="715" y="524"/>
                </a:lnTo>
                <a:lnTo>
                  <a:pt x="733" y="523"/>
                </a:lnTo>
                <a:lnTo>
                  <a:pt x="751" y="523"/>
                </a:lnTo>
                <a:lnTo>
                  <a:pt x="767" y="523"/>
                </a:lnTo>
                <a:lnTo>
                  <a:pt x="782" y="522"/>
                </a:lnTo>
                <a:lnTo>
                  <a:pt x="796" y="522"/>
                </a:lnTo>
                <a:lnTo>
                  <a:pt x="808" y="520"/>
                </a:lnTo>
                <a:lnTo>
                  <a:pt x="829" y="519"/>
                </a:lnTo>
                <a:lnTo>
                  <a:pt x="848" y="516"/>
                </a:lnTo>
                <a:lnTo>
                  <a:pt x="866" y="512"/>
                </a:lnTo>
                <a:lnTo>
                  <a:pt x="882" y="506"/>
                </a:lnTo>
                <a:lnTo>
                  <a:pt x="896" y="499"/>
                </a:lnTo>
                <a:lnTo>
                  <a:pt x="911" y="488"/>
                </a:lnTo>
                <a:lnTo>
                  <a:pt x="926" y="476"/>
                </a:lnTo>
                <a:lnTo>
                  <a:pt x="941" y="461"/>
                </a:lnTo>
                <a:lnTo>
                  <a:pt x="951" y="452"/>
                </a:lnTo>
                <a:lnTo>
                  <a:pt x="959" y="441"/>
                </a:lnTo>
                <a:lnTo>
                  <a:pt x="970" y="431"/>
                </a:lnTo>
                <a:lnTo>
                  <a:pt x="981" y="419"/>
                </a:lnTo>
                <a:lnTo>
                  <a:pt x="994" y="405"/>
                </a:lnTo>
                <a:lnTo>
                  <a:pt x="1007" y="392"/>
                </a:lnTo>
                <a:lnTo>
                  <a:pt x="1017" y="358"/>
                </a:lnTo>
                <a:lnTo>
                  <a:pt x="1024" y="342"/>
                </a:lnTo>
                <a:lnTo>
                  <a:pt x="1027" y="325"/>
                </a:lnTo>
                <a:lnTo>
                  <a:pt x="1032" y="311"/>
                </a:lnTo>
                <a:lnTo>
                  <a:pt x="1037" y="294"/>
                </a:lnTo>
                <a:lnTo>
                  <a:pt x="1041" y="276"/>
                </a:lnTo>
                <a:lnTo>
                  <a:pt x="1045" y="259"/>
                </a:lnTo>
                <a:lnTo>
                  <a:pt x="1047" y="244"/>
                </a:lnTo>
                <a:lnTo>
                  <a:pt x="1050" y="237"/>
                </a:lnTo>
                <a:lnTo>
                  <a:pt x="1051" y="231"/>
                </a:lnTo>
                <a:lnTo>
                  <a:pt x="1052" y="227"/>
                </a:lnTo>
                <a:lnTo>
                  <a:pt x="1053" y="223"/>
                </a:lnTo>
                <a:lnTo>
                  <a:pt x="1054" y="221"/>
                </a:lnTo>
                <a:lnTo>
                  <a:pt x="1054" y="220"/>
                </a:lnTo>
                <a:lnTo>
                  <a:pt x="1051" y="183"/>
                </a:lnTo>
                <a:lnTo>
                  <a:pt x="1047" y="145"/>
                </a:lnTo>
                <a:lnTo>
                  <a:pt x="1044" y="107"/>
                </a:lnTo>
                <a:lnTo>
                  <a:pt x="1041" y="89"/>
                </a:lnTo>
                <a:lnTo>
                  <a:pt x="1038" y="69"/>
                </a:lnTo>
                <a:lnTo>
                  <a:pt x="1034" y="63"/>
                </a:lnTo>
                <a:lnTo>
                  <a:pt x="1031" y="59"/>
                </a:lnTo>
                <a:lnTo>
                  <a:pt x="1024" y="54"/>
                </a:lnTo>
                <a:lnTo>
                  <a:pt x="1016" y="49"/>
                </a:lnTo>
                <a:lnTo>
                  <a:pt x="1007" y="47"/>
                </a:lnTo>
                <a:lnTo>
                  <a:pt x="997" y="43"/>
                </a:lnTo>
                <a:lnTo>
                  <a:pt x="977" y="36"/>
                </a:lnTo>
                <a:lnTo>
                  <a:pt x="956" y="33"/>
                </a:lnTo>
                <a:lnTo>
                  <a:pt x="947" y="33"/>
                </a:lnTo>
                <a:lnTo>
                  <a:pt x="939" y="30"/>
                </a:lnTo>
                <a:lnTo>
                  <a:pt x="930" y="29"/>
                </a:lnTo>
                <a:lnTo>
                  <a:pt x="927" y="29"/>
                </a:lnTo>
                <a:lnTo>
                  <a:pt x="923" y="29"/>
                </a:lnTo>
                <a:lnTo>
                  <a:pt x="922" y="29"/>
                </a:lnTo>
                <a:lnTo>
                  <a:pt x="863" y="20"/>
                </a:lnTo>
                <a:lnTo>
                  <a:pt x="805" y="15"/>
                </a:lnTo>
                <a:lnTo>
                  <a:pt x="748" y="11"/>
                </a:lnTo>
                <a:lnTo>
                  <a:pt x="689" y="8"/>
                </a:lnTo>
                <a:lnTo>
                  <a:pt x="633" y="6"/>
                </a:lnTo>
                <a:lnTo>
                  <a:pt x="574" y="4"/>
                </a:lnTo>
                <a:lnTo>
                  <a:pt x="458" y="2"/>
                </a:lnTo>
                <a:lnTo>
                  <a:pt x="435" y="2"/>
                </a:lnTo>
                <a:lnTo>
                  <a:pt x="411" y="1"/>
                </a:lnTo>
                <a:lnTo>
                  <a:pt x="364" y="0"/>
                </a:lnTo>
                <a:lnTo>
                  <a:pt x="340" y="0"/>
                </a:lnTo>
                <a:lnTo>
                  <a:pt x="317" y="1"/>
                </a:lnTo>
                <a:lnTo>
                  <a:pt x="294" y="4"/>
                </a:lnTo>
                <a:lnTo>
                  <a:pt x="271" y="9"/>
                </a:lnTo>
                <a:lnTo>
                  <a:pt x="258" y="15"/>
                </a:lnTo>
                <a:lnTo>
                  <a:pt x="245" y="20"/>
                </a:lnTo>
                <a:lnTo>
                  <a:pt x="232" y="26"/>
                </a:lnTo>
                <a:lnTo>
                  <a:pt x="218" y="33"/>
                </a:lnTo>
                <a:lnTo>
                  <a:pt x="217" y="33"/>
                </a:lnTo>
                <a:lnTo>
                  <a:pt x="215" y="35"/>
                </a:lnTo>
                <a:lnTo>
                  <a:pt x="208" y="38"/>
                </a:lnTo>
                <a:lnTo>
                  <a:pt x="199" y="43"/>
                </a:lnTo>
                <a:lnTo>
                  <a:pt x="194" y="48"/>
                </a:lnTo>
                <a:lnTo>
                  <a:pt x="186" y="51"/>
                </a:lnTo>
                <a:lnTo>
                  <a:pt x="183" y="53"/>
                </a:lnTo>
                <a:lnTo>
                  <a:pt x="183" y="54"/>
                </a:lnTo>
                <a:lnTo>
                  <a:pt x="183" y="54"/>
                </a:lnTo>
                <a:lnTo>
                  <a:pt x="184" y="54"/>
                </a:lnTo>
                <a:lnTo>
                  <a:pt x="188" y="53"/>
                </a:lnTo>
                <a:lnTo>
                  <a:pt x="192" y="51"/>
                </a:lnTo>
                <a:lnTo>
                  <a:pt x="192" y="51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97240" y="5875200"/>
            <a:ext cx="1198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30120" indent="-330120">
              <a:lnSpc>
                <a:spcPct val="100000"/>
              </a:lnSpc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Want to reuse Login components for Employee 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22560" y="4521240"/>
            <a:ext cx="233280" cy="1324080"/>
          </a:xfrm>
          <a:custGeom>
            <a:avLst/>
            <a:gdLst/>
            <a:ahLst/>
            <a:rect l="l" t="t" r="r" b="b"/>
            <a:pathLst>
              <a:path w="147" h="834">
                <a:moveTo>
                  <a:pt x="146" y="2"/>
                </a:moveTo>
                <a:lnTo>
                  <a:pt x="125" y="0"/>
                </a:lnTo>
                <a:lnTo>
                  <a:pt x="121" y="32"/>
                </a:lnTo>
                <a:lnTo>
                  <a:pt x="118" y="61"/>
                </a:lnTo>
                <a:lnTo>
                  <a:pt x="116" y="90"/>
                </a:lnTo>
                <a:lnTo>
                  <a:pt x="113" y="116"/>
                </a:lnTo>
                <a:lnTo>
                  <a:pt x="111" y="142"/>
                </a:lnTo>
                <a:lnTo>
                  <a:pt x="107" y="166"/>
                </a:lnTo>
                <a:lnTo>
                  <a:pt x="100" y="213"/>
                </a:lnTo>
                <a:lnTo>
                  <a:pt x="111" y="213"/>
                </a:lnTo>
                <a:lnTo>
                  <a:pt x="101" y="210"/>
                </a:lnTo>
                <a:lnTo>
                  <a:pt x="90" y="257"/>
                </a:lnTo>
                <a:lnTo>
                  <a:pt x="85" y="280"/>
                </a:lnTo>
                <a:lnTo>
                  <a:pt x="77" y="303"/>
                </a:lnTo>
                <a:lnTo>
                  <a:pt x="69" y="328"/>
                </a:lnTo>
                <a:lnTo>
                  <a:pt x="60" y="354"/>
                </a:lnTo>
                <a:lnTo>
                  <a:pt x="47" y="381"/>
                </a:lnTo>
                <a:lnTo>
                  <a:pt x="37" y="408"/>
                </a:lnTo>
                <a:lnTo>
                  <a:pt x="35" y="411"/>
                </a:lnTo>
                <a:lnTo>
                  <a:pt x="24" y="464"/>
                </a:lnTo>
                <a:lnTo>
                  <a:pt x="23" y="467"/>
                </a:lnTo>
                <a:lnTo>
                  <a:pt x="13" y="522"/>
                </a:lnTo>
                <a:lnTo>
                  <a:pt x="4" y="576"/>
                </a:lnTo>
                <a:lnTo>
                  <a:pt x="2" y="604"/>
                </a:lnTo>
                <a:lnTo>
                  <a:pt x="0" y="633"/>
                </a:lnTo>
                <a:lnTo>
                  <a:pt x="0" y="633"/>
                </a:lnTo>
                <a:lnTo>
                  <a:pt x="0" y="636"/>
                </a:lnTo>
                <a:lnTo>
                  <a:pt x="3" y="651"/>
                </a:lnTo>
                <a:lnTo>
                  <a:pt x="6" y="664"/>
                </a:lnTo>
                <a:lnTo>
                  <a:pt x="10" y="679"/>
                </a:lnTo>
                <a:lnTo>
                  <a:pt x="15" y="694"/>
                </a:lnTo>
                <a:lnTo>
                  <a:pt x="20" y="708"/>
                </a:lnTo>
                <a:lnTo>
                  <a:pt x="27" y="720"/>
                </a:lnTo>
                <a:lnTo>
                  <a:pt x="34" y="732"/>
                </a:lnTo>
                <a:lnTo>
                  <a:pt x="37" y="736"/>
                </a:lnTo>
                <a:lnTo>
                  <a:pt x="46" y="746"/>
                </a:lnTo>
                <a:lnTo>
                  <a:pt x="54" y="739"/>
                </a:lnTo>
                <a:lnTo>
                  <a:pt x="45" y="743"/>
                </a:lnTo>
                <a:lnTo>
                  <a:pt x="50" y="757"/>
                </a:lnTo>
                <a:lnTo>
                  <a:pt x="57" y="768"/>
                </a:lnTo>
                <a:lnTo>
                  <a:pt x="63" y="778"/>
                </a:lnTo>
                <a:lnTo>
                  <a:pt x="69" y="787"/>
                </a:lnTo>
                <a:lnTo>
                  <a:pt x="74" y="798"/>
                </a:lnTo>
                <a:lnTo>
                  <a:pt x="78" y="808"/>
                </a:lnTo>
                <a:lnTo>
                  <a:pt x="82" y="821"/>
                </a:lnTo>
                <a:lnTo>
                  <a:pt x="92" y="817"/>
                </a:lnTo>
                <a:lnTo>
                  <a:pt x="81" y="817"/>
                </a:lnTo>
                <a:lnTo>
                  <a:pt x="82" y="825"/>
                </a:lnTo>
                <a:lnTo>
                  <a:pt x="82" y="833"/>
                </a:lnTo>
                <a:lnTo>
                  <a:pt x="104" y="833"/>
                </a:lnTo>
                <a:lnTo>
                  <a:pt x="104" y="825"/>
                </a:lnTo>
                <a:lnTo>
                  <a:pt x="103" y="817"/>
                </a:lnTo>
                <a:lnTo>
                  <a:pt x="101" y="814"/>
                </a:lnTo>
                <a:lnTo>
                  <a:pt x="99" y="800"/>
                </a:lnTo>
                <a:lnTo>
                  <a:pt x="93" y="789"/>
                </a:lnTo>
                <a:lnTo>
                  <a:pt x="88" y="780"/>
                </a:lnTo>
                <a:lnTo>
                  <a:pt x="82" y="770"/>
                </a:lnTo>
                <a:lnTo>
                  <a:pt x="75" y="761"/>
                </a:lnTo>
                <a:lnTo>
                  <a:pt x="69" y="748"/>
                </a:lnTo>
                <a:lnTo>
                  <a:pt x="63" y="735"/>
                </a:lnTo>
                <a:lnTo>
                  <a:pt x="63" y="734"/>
                </a:lnTo>
                <a:lnTo>
                  <a:pt x="61" y="731"/>
                </a:lnTo>
                <a:lnTo>
                  <a:pt x="61" y="731"/>
                </a:lnTo>
                <a:lnTo>
                  <a:pt x="52" y="720"/>
                </a:lnTo>
                <a:lnTo>
                  <a:pt x="45" y="729"/>
                </a:lnTo>
                <a:lnTo>
                  <a:pt x="54" y="724"/>
                </a:lnTo>
                <a:lnTo>
                  <a:pt x="46" y="713"/>
                </a:lnTo>
                <a:lnTo>
                  <a:pt x="40" y="699"/>
                </a:lnTo>
                <a:lnTo>
                  <a:pt x="34" y="686"/>
                </a:lnTo>
                <a:lnTo>
                  <a:pt x="29" y="673"/>
                </a:lnTo>
                <a:lnTo>
                  <a:pt x="25" y="656"/>
                </a:lnTo>
                <a:lnTo>
                  <a:pt x="22" y="643"/>
                </a:lnTo>
                <a:lnTo>
                  <a:pt x="21" y="632"/>
                </a:lnTo>
                <a:lnTo>
                  <a:pt x="10" y="633"/>
                </a:lnTo>
                <a:lnTo>
                  <a:pt x="21" y="634"/>
                </a:lnTo>
                <a:lnTo>
                  <a:pt x="22" y="604"/>
                </a:lnTo>
                <a:lnTo>
                  <a:pt x="25" y="576"/>
                </a:lnTo>
                <a:lnTo>
                  <a:pt x="34" y="522"/>
                </a:lnTo>
                <a:lnTo>
                  <a:pt x="45" y="467"/>
                </a:lnTo>
                <a:lnTo>
                  <a:pt x="34" y="467"/>
                </a:lnTo>
                <a:lnTo>
                  <a:pt x="45" y="473"/>
                </a:lnTo>
                <a:lnTo>
                  <a:pt x="57" y="415"/>
                </a:lnTo>
                <a:lnTo>
                  <a:pt x="46" y="413"/>
                </a:lnTo>
                <a:lnTo>
                  <a:pt x="55" y="417"/>
                </a:lnTo>
                <a:lnTo>
                  <a:pt x="67" y="388"/>
                </a:lnTo>
                <a:lnTo>
                  <a:pt x="79" y="361"/>
                </a:lnTo>
                <a:lnTo>
                  <a:pt x="88" y="336"/>
                </a:lnTo>
                <a:lnTo>
                  <a:pt x="97" y="312"/>
                </a:lnTo>
                <a:lnTo>
                  <a:pt x="104" y="287"/>
                </a:lnTo>
                <a:lnTo>
                  <a:pt x="111" y="264"/>
                </a:lnTo>
                <a:lnTo>
                  <a:pt x="120" y="218"/>
                </a:lnTo>
                <a:lnTo>
                  <a:pt x="121" y="213"/>
                </a:lnTo>
                <a:lnTo>
                  <a:pt x="121" y="213"/>
                </a:lnTo>
                <a:lnTo>
                  <a:pt x="129" y="166"/>
                </a:lnTo>
                <a:lnTo>
                  <a:pt x="132" y="142"/>
                </a:lnTo>
                <a:lnTo>
                  <a:pt x="134" y="116"/>
                </a:lnTo>
                <a:lnTo>
                  <a:pt x="137" y="90"/>
                </a:lnTo>
                <a:lnTo>
                  <a:pt x="140" y="61"/>
                </a:lnTo>
                <a:lnTo>
                  <a:pt x="143" y="32"/>
                </a:lnTo>
                <a:lnTo>
                  <a:pt x="146" y="2"/>
                </a:lnTo>
                <a:lnTo>
                  <a:pt x="14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44000" y="6475320"/>
            <a:ext cx="1293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ing upd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44600" y="298080"/>
            <a:ext cx="83599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Application Examp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02400" y="2951280"/>
            <a:ext cx="922320" cy="2584440"/>
            <a:chOff x="5702400" y="2951280"/>
            <a:chExt cx="922320" cy="2584440"/>
          </a:xfrm>
        </p:grpSpPr>
        <p:grpSp>
          <p:nvGrpSpPr>
            <p:cNvPr id="170" name=""/>
            <p:cNvGrpSpPr/>
            <p:nvPr/>
          </p:nvGrpSpPr>
          <p:grpSpPr>
            <a:xfrm>
              <a:off x="5703840" y="2951280"/>
              <a:ext cx="916200" cy="515880"/>
              <a:chOff x="5703840" y="2951280"/>
              <a:chExt cx="916200" cy="515880"/>
            </a:xfrm>
          </p:grpSpPr>
          <p:sp>
            <p:nvSpPr>
              <p:cNvPr id="171" name=""/>
              <p:cNvSpPr/>
              <p:nvPr/>
            </p:nvSpPr>
            <p:spPr>
              <a:xfrm>
                <a:off x="5703840" y="2951280"/>
                <a:ext cx="91620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89520" y="3027240"/>
                <a:ext cx="7794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703840" y="3618000"/>
              <a:ext cx="916200" cy="517320"/>
              <a:chOff x="5703840" y="3618000"/>
              <a:chExt cx="916200" cy="517320"/>
            </a:xfrm>
          </p:grpSpPr>
          <p:sp>
            <p:nvSpPr>
              <p:cNvPr id="174" name=""/>
              <p:cNvSpPr/>
              <p:nvPr/>
            </p:nvSpPr>
            <p:spPr>
              <a:xfrm>
                <a:off x="5703840" y="361800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89520" y="3693960"/>
                <a:ext cx="77940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02400" y="4319640"/>
              <a:ext cx="915840" cy="515880"/>
              <a:chOff x="5702400" y="4319640"/>
              <a:chExt cx="915840" cy="515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702400" y="4319640"/>
                <a:ext cx="91584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86280" y="4395960"/>
                <a:ext cx="78264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710320" y="5018040"/>
              <a:ext cx="914400" cy="517680"/>
              <a:chOff x="5710320" y="5018040"/>
              <a:chExt cx="914400" cy="517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710320" y="501804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94200" y="5094360"/>
                <a:ext cx="78120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6242040" y="3000240"/>
            <a:ext cx="923760" cy="2586240"/>
            <a:chOff x="6242040" y="3000240"/>
            <a:chExt cx="923760" cy="2586240"/>
          </a:xfrm>
        </p:grpSpPr>
        <p:grpSp>
          <p:nvGrpSpPr>
            <p:cNvPr id="183" name=""/>
            <p:cNvGrpSpPr/>
            <p:nvPr/>
          </p:nvGrpSpPr>
          <p:grpSpPr>
            <a:xfrm>
              <a:off x="6245280" y="3000240"/>
              <a:ext cx="912600" cy="517680"/>
              <a:chOff x="6245280" y="3000240"/>
              <a:chExt cx="912600" cy="517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245280" y="3000240"/>
                <a:ext cx="912600" cy="517680"/>
              </a:xfrm>
              <a:custGeom>
                <a:avLst/>
                <a:gdLst/>
                <a:ahLst/>
                <a:rect l="l" t="t" r="r" b="b"/>
                <a:pathLst>
                  <a:path w="575" h="326">
                    <a:moveTo>
                      <a:pt x="0" y="325"/>
                    </a:moveTo>
                    <a:lnTo>
                      <a:pt x="574" y="325"/>
                    </a:lnTo>
                    <a:lnTo>
                      <a:pt x="574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9520" y="307656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45280" y="3668760"/>
              <a:ext cx="912600" cy="517320"/>
              <a:chOff x="6245280" y="3668760"/>
              <a:chExt cx="912600" cy="517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245280" y="3668760"/>
                <a:ext cx="912600" cy="517320"/>
              </a:xfrm>
              <a:custGeom>
                <a:avLst/>
                <a:gdLst/>
                <a:ahLst/>
                <a:rect l="l" t="t" r="r" b="b"/>
                <a:pathLst>
                  <a:path w="575" h="326">
                    <a:moveTo>
                      <a:pt x="0" y="325"/>
                    </a:moveTo>
                    <a:lnTo>
                      <a:pt x="574" y="325"/>
                    </a:lnTo>
                    <a:lnTo>
                      <a:pt x="574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29520" y="374508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42040" y="4368960"/>
              <a:ext cx="915840" cy="515880"/>
              <a:chOff x="6242040" y="4368960"/>
              <a:chExt cx="915840" cy="515880"/>
            </a:xfrm>
          </p:grpSpPr>
          <p:sp>
            <p:nvSpPr>
              <p:cNvPr id="190" name=""/>
              <p:cNvSpPr/>
              <p:nvPr/>
            </p:nvSpPr>
            <p:spPr>
              <a:xfrm>
                <a:off x="6242040" y="4368960"/>
                <a:ext cx="91584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26280" y="444492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49960" y="5068800"/>
              <a:ext cx="915840" cy="517680"/>
              <a:chOff x="6249960" y="5068800"/>
              <a:chExt cx="915840" cy="517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49960" y="5068800"/>
                <a:ext cx="915840" cy="51768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34200" y="514512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3230640" y="3687840"/>
            <a:ext cx="1598400" cy="1106280"/>
            <a:chOff x="3230640" y="3687840"/>
            <a:chExt cx="1598400" cy="1106280"/>
          </a:xfrm>
        </p:grpSpPr>
        <p:sp>
          <p:nvSpPr>
            <p:cNvPr id="196" name=""/>
            <p:cNvSpPr/>
            <p:nvPr/>
          </p:nvSpPr>
          <p:spPr>
            <a:xfrm>
              <a:off x="3230640" y="3687840"/>
              <a:ext cx="1598400" cy="1106280"/>
            </a:xfrm>
            <a:custGeom>
              <a:avLst/>
              <a:gdLst/>
              <a:ahLst/>
              <a:rect l="l" t="t" r="r" b="b"/>
              <a:pathLst>
                <a:path w="1007" h="697">
                  <a:moveTo>
                    <a:pt x="0" y="696"/>
                  </a:moveTo>
                  <a:lnTo>
                    <a:pt x="1006" y="696"/>
                  </a:lnTo>
                  <a:lnTo>
                    <a:pt x="1006" y="0"/>
                  </a:lnTo>
                  <a:lnTo>
                    <a:pt x="0" y="0"/>
                  </a:lnTo>
                  <a:lnTo>
                    <a:pt x="0" y="696"/>
                  </a:lnTo>
                  <a:lnTo>
                    <a:pt x="0" y="696"/>
                  </a:lnTo>
                </a:path>
              </a:pathLst>
            </a:custGeom>
            <a:solidFill>
              <a:srgbClr val="e262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78240" y="3852720"/>
              <a:ext cx="136692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r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l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87520" y="2048040"/>
            <a:ext cx="119376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8200" y="2141640"/>
            <a:ext cx="1189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1040" y="2048040"/>
            <a:ext cx="7477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12800" y="2986200"/>
            <a:ext cx="925560" cy="2585880"/>
            <a:chOff x="1612800" y="2986200"/>
            <a:chExt cx="925560" cy="2585880"/>
          </a:xfrm>
        </p:grpSpPr>
        <p:grpSp>
          <p:nvGrpSpPr>
            <p:cNvPr id="202" name=""/>
            <p:cNvGrpSpPr/>
            <p:nvPr/>
          </p:nvGrpSpPr>
          <p:grpSpPr>
            <a:xfrm>
              <a:off x="1616040" y="2986200"/>
              <a:ext cx="916200" cy="517320"/>
              <a:chOff x="1616040" y="2986200"/>
              <a:chExt cx="916200" cy="517320"/>
            </a:xfrm>
          </p:grpSpPr>
          <p:sp>
            <p:nvSpPr>
              <p:cNvPr id="203" name=""/>
              <p:cNvSpPr/>
              <p:nvPr/>
            </p:nvSpPr>
            <p:spPr>
              <a:xfrm>
                <a:off x="1616040" y="298620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00280" y="306216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Welco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16040" y="3652920"/>
              <a:ext cx="916200" cy="519120"/>
              <a:chOff x="1616040" y="3652920"/>
              <a:chExt cx="916200" cy="5191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16040" y="3652920"/>
                <a:ext cx="916200" cy="519120"/>
              </a:xfrm>
              <a:custGeom>
                <a:avLst/>
                <a:gdLst/>
                <a:ahLst/>
                <a:rect l="l" t="t" r="r" b="b"/>
                <a:pathLst>
                  <a:path w="577" h="327">
                    <a:moveTo>
                      <a:pt x="0" y="326"/>
                    </a:moveTo>
                    <a:lnTo>
                      <a:pt x="576" y="326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00280" y="3730680"/>
                <a:ext cx="7826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o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612800" y="4354560"/>
              <a:ext cx="916200" cy="517320"/>
              <a:chOff x="1612800" y="4354560"/>
              <a:chExt cx="916200" cy="5173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2800" y="435456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98480" y="443088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22520" y="5054760"/>
              <a:ext cx="915840" cy="517320"/>
              <a:chOff x="1622520" y="5054760"/>
              <a:chExt cx="915840" cy="517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22520" y="5054760"/>
                <a:ext cx="91584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06400" y="513072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7837560" y="2976480"/>
            <a:ext cx="923760" cy="2586240"/>
            <a:chOff x="7837560" y="2976480"/>
            <a:chExt cx="923760" cy="2586240"/>
          </a:xfrm>
        </p:grpSpPr>
        <p:grpSp>
          <p:nvGrpSpPr>
            <p:cNvPr id="215" name=""/>
            <p:cNvGrpSpPr/>
            <p:nvPr/>
          </p:nvGrpSpPr>
          <p:grpSpPr>
            <a:xfrm>
              <a:off x="7840800" y="2976480"/>
              <a:ext cx="914400" cy="517680"/>
              <a:chOff x="7840800" y="2976480"/>
              <a:chExt cx="914400" cy="517680"/>
            </a:xfrm>
          </p:grpSpPr>
          <p:sp>
            <p:nvSpPr>
              <p:cNvPr id="216" name=""/>
              <p:cNvSpPr/>
              <p:nvPr/>
            </p:nvSpPr>
            <p:spPr>
              <a:xfrm>
                <a:off x="7840800" y="297648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24680" y="305280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840800" y="3645000"/>
              <a:ext cx="914400" cy="517320"/>
              <a:chOff x="7840800" y="3645000"/>
              <a:chExt cx="914400" cy="517320"/>
            </a:xfrm>
          </p:grpSpPr>
          <p:sp>
            <p:nvSpPr>
              <p:cNvPr id="219" name=""/>
              <p:cNvSpPr/>
              <p:nvPr/>
            </p:nvSpPr>
            <p:spPr>
              <a:xfrm>
                <a:off x="7840800" y="3645000"/>
                <a:ext cx="914400" cy="51732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720960"/>
                <a:ext cx="781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837560" y="4344840"/>
              <a:ext cx="914400" cy="516240"/>
              <a:chOff x="7837560" y="4344840"/>
              <a:chExt cx="914400" cy="51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837560" y="4344840"/>
                <a:ext cx="914400" cy="516240"/>
              </a:xfrm>
              <a:custGeom>
                <a:avLst/>
                <a:gdLst/>
                <a:ahLst/>
                <a:rect l="l" t="t" r="r" b="b"/>
                <a:pathLst>
                  <a:path w="576" h="325">
                    <a:moveTo>
                      <a:pt x="0" y="324"/>
                    </a:moveTo>
                    <a:lnTo>
                      <a:pt x="575" y="324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21800" y="442116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846920" y="5045040"/>
              <a:ext cx="914400" cy="517680"/>
              <a:chOff x="7846920" y="5045040"/>
              <a:chExt cx="914400" cy="517680"/>
            </a:xfrm>
          </p:grpSpPr>
          <p:sp>
            <p:nvSpPr>
              <p:cNvPr id="225" name=""/>
              <p:cNvSpPr/>
              <p:nvPr/>
            </p:nvSpPr>
            <p:spPr>
              <a:xfrm>
                <a:off x="7846920" y="504504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31160" y="512136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7758000" y="2048040"/>
            <a:ext cx="992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36920" y="2995560"/>
            <a:ext cx="677880" cy="116856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25760" y="4140000"/>
            <a:ext cx="711000" cy="140796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824360" y="4200480"/>
            <a:ext cx="811440" cy="1363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33720" y="2995560"/>
            <a:ext cx="796680" cy="1228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25880" y="4808520"/>
            <a:ext cx="0" cy="72864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054240" y="5541840"/>
            <a:ext cx="2222640" cy="1481400"/>
            <a:chOff x="3054240" y="5541840"/>
            <a:chExt cx="2222640" cy="1481400"/>
          </a:xfrm>
        </p:grpSpPr>
        <p:sp>
          <p:nvSpPr>
            <p:cNvPr id="234" name=""/>
            <p:cNvSpPr/>
            <p:nvPr/>
          </p:nvSpPr>
          <p:spPr>
            <a:xfrm>
              <a:off x="3054240" y="5541840"/>
              <a:ext cx="2222640" cy="1481400"/>
            </a:xfrm>
            <a:custGeom>
              <a:avLst/>
              <a:gdLst/>
              <a:ahLst/>
              <a:rect l="l" t="t" r="r" b="b"/>
              <a:pathLst>
                <a:path w="1400" h="933">
                  <a:moveTo>
                    <a:pt x="0" y="932"/>
                  </a:moveTo>
                  <a:lnTo>
                    <a:pt x="1399" y="932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0" y="932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60880" y="5761080"/>
              <a:ext cx="1896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ts-config.x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on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m B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140600" y="325764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0600" y="392112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40600" y="458784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40600" y="526248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982000" y="3887640"/>
            <a:ext cx="814320" cy="744840"/>
            <a:chOff x="8982000" y="3887640"/>
            <a:chExt cx="814320" cy="744840"/>
          </a:xfrm>
        </p:grpSpPr>
        <p:sp>
          <p:nvSpPr>
            <p:cNvPr id="241" name=""/>
            <p:cNvSpPr/>
            <p:nvPr/>
          </p:nvSpPr>
          <p:spPr>
            <a:xfrm>
              <a:off x="8982000" y="3887640"/>
              <a:ext cx="814320" cy="270000"/>
            </a:xfrm>
            <a:custGeom>
              <a:avLst/>
              <a:gdLst/>
              <a:ahLst/>
              <a:rect l="l" t="t" r="r" b="b"/>
              <a:pathLst>
                <a:path w="513" h="170">
                  <a:moveTo>
                    <a:pt x="0" y="85"/>
                  </a:moveTo>
                  <a:lnTo>
                    <a:pt x="6" y="66"/>
                  </a:lnTo>
                  <a:lnTo>
                    <a:pt x="22" y="49"/>
                  </a:lnTo>
                  <a:lnTo>
                    <a:pt x="46" y="35"/>
                  </a:lnTo>
                  <a:lnTo>
                    <a:pt x="80" y="22"/>
                  </a:lnTo>
                  <a:lnTo>
                    <a:pt x="118" y="13"/>
                  </a:lnTo>
                  <a:lnTo>
                    <a:pt x="161" y="7"/>
                  </a:lnTo>
                  <a:lnTo>
                    <a:pt x="207" y="3"/>
                  </a:lnTo>
                  <a:lnTo>
                    <a:pt x="255" y="0"/>
                  </a:lnTo>
                  <a:lnTo>
                    <a:pt x="302" y="3"/>
                  </a:lnTo>
                  <a:lnTo>
                    <a:pt x="348" y="7"/>
                  </a:lnTo>
                  <a:lnTo>
                    <a:pt x="392" y="13"/>
                  </a:lnTo>
                  <a:lnTo>
                    <a:pt x="431" y="22"/>
                  </a:lnTo>
                  <a:lnTo>
                    <a:pt x="463" y="35"/>
                  </a:lnTo>
                  <a:lnTo>
                    <a:pt x="489" y="49"/>
                  </a:lnTo>
                  <a:lnTo>
                    <a:pt x="506" y="66"/>
                  </a:lnTo>
                  <a:lnTo>
                    <a:pt x="512" y="85"/>
                  </a:lnTo>
                  <a:lnTo>
                    <a:pt x="506" y="106"/>
                  </a:lnTo>
                  <a:lnTo>
                    <a:pt x="489" y="122"/>
                  </a:lnTo>
                  <a:lnTo>
                    <a:pt x="463" y="138"/>
                  </a:lnTo>
                  <a:lnTo>
                    <a:pt x="431" y="148"/>
                  </a:lnTo>
                  <a:lnTo>
                    <a:pt x="392" y="159"/>
                  </a:lnTo>
                  <a:lnTo>
                    <a:pt x="348" y="165"/>
                  </a:lnTo>
                  <a:lnTo>
                    <a:pt x="302" y="168"/>
                  </a:lnTo>
                  <a:lnTo>
                    <a:pt x="255" y="169"/>
                  </a:lnTo>
                  <a:lnTo>
                    <a:pt x="207" y="168"/>
                  </a:lnTo>
                  <a:lnTo>
                    <a:pt x="161" y="165"/>
                  </a:lnTo>
                  <a:lnTo>
                    <a:pt x="118" y="159"/>
                  </a:lnTo>
                  <a:lnTo>
                    <a:pt x="80" y="148"/>
                  </a:lnTo>
                  <a:lnTo>
                    <a:pt x="46" y="138"/>
                  </a:lnTo>
                  <a:lnTo>
                    <a:pt x="22" y="122"/>
                  </a:lnTo>
                  <a:lnTo>
                    <a:pt x="6" y="106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d0b1a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983800" y="4014720"/>
              <a:ext cx="811080" cy="617760"/>
            </a:xfrm>
            <a:custGeom>
              <a:avLst/>
              <a:gdLst/>
              <a:ahLst/>
              <a:rect l="l" t="t" r="r" b="b"/>
              <a:pathLst>
                <a:path w="511" h="389">
                  <a:moveTo>
                    <a:pt x="0" y="312"/>
                  </a:moveTo>
                  <a:lnTo>
                    <a:pt x="11" y="327"/>
                  </a:lnTo>
                  <a:lnTo>
                    <a:pt x="36" y="347"/>
                  </a:lnTo>
                  <a:lnTo>
                    <a:pt x="59" y="359"/>
                  </a:lnTo>
                  <a:lnTo>
                    <a:pt x="89" y="369"/>
                  </a:lnTo>
                  <a:lnTo>
                    <a:pt x="126" y="381"/>
                  </a:lnTo>
                  <a:lnTo>
                    <a:pt x="170" y="385"/>
                  </a:lnTo>
                  <a:lnTo>
                    <a:pt x="199" y="388"/>
                  </a:lnTo>
                  <a:lnTo>
                    <a:pt x="228" y="388"/>
                  </a:lnTo>
                  <a:lnTo>
                    <a:pt x="262" y="388"/>
                  </a:lnTo>
                  <a:lnTo>
                    <a:pt x="290" y="388"/>
                  </a:lnTo>
                  <a:lnTo>
                    <a:pt x="320" y="388"/>
                  </a:lnTo>
                  <a:lnTo>
                    <a:pt x="351" y="383"/>
                  </a:lnTo>
                  <a:lnTo>
                    <a:pt x="380" y="379"/>
                  </a:lnTo>
                  <a:lnTo>
                    <a:pt x="407" y="374"/>
                  </a:lnTo>
                  <a:lnTo>
                    <a:pt x="445" y="362"/>
                  </a:lnTo>
                  <a:lnTo>
                    <a:pt x="468" y="352"/>
                  </a:lnTo>
                  <a:lnTo>
                    <a:pt x="486" y="342"/>
                  </a:lnTo>
                  <a:lnTo>
                    <a:pt x="504" y="327"/>
                  </a:lnTo>
                  <a:lnTo>
                    <a:pt x="510" y="313"/>
                  </a:lnTo>
                  <a:lnTo>
                    <a:pt x="510" y="0"/>
                  </a:lnTo>
                  <a:lnTo>
                    <a:pt x="505" y="17"/>
                  </a:lnTo>
                  <a:lnTo>
                    <a:pt x="489" y="37"/>
                  </a:lnTo>
                  <a:lnTo>
                    <a:pt x="465" y="52"/>
                  </a:lnTo>
                  <a:lnTo>
                    <a:pt x="440" y="61"/>
                  </a:lnTo>
                  <a:lnTo>
                    <a:pt x="414" y="70"/>
                  </a:lnTo>
                  <a:lnTo>
                    <a:pt x="381" y="75"/>
                  </a:lnTo>
                  <a:lnTo>
                    <a:pt x="352" y="81"/>
                  </a:lnTo>
                  <a:lnTo>
                    <a:pt x="326" y="83"/>
                  </a:lnTo>
                  <a:lnTo>
                    <a:pt x="295" y="85"/>
                  </a:lnTo>
                  <a:lnTo>
                    <a:pt x="266" y="87"/>
                  </a:lnTo>
                  <a:lnTo>
                    <a:pt x="232" y="87"/>
                  </a:lnTo>
                  <a:lnTo>
                    <a:pt x="201" y="85"/>
                  </a:lnTo>
                  <a:lnTo>
                    <a:pt x="178" y="83"/>
                  </a:lnTo>
                  <a:lnTo>
                    <a:pt x="153" y="77"/>
                  </a:lnTo>
                  <a:lnTo>
                    <a:pt x="124" y="75"/>
                  </a:lnTo>
                  <a:lnTo>
                    <a:pt x="96" y="68"/>
                  </a:lnTo>
                  <a:lnTo>
                    <a:pt x="67" y="61"/>
                  </a:lnTo>
                  <a:lnTo>
                    <a:pt x="43" y="50"/>
                  </a:lnTo>
                  <a:lnTo>
                    <a:pt x="24" y="37"/>
                  </a:lnTo>
                  <a:lnTo>
                    <a:pt x="7" y="21"/>
                  </a:lnTo>
                  <a:lnTo>
                    <a:pt x="1" y="2"/>
                  </a:lnTo>
                  <a:lnTo>
                    <a:pt x="0" y="312"/>
                  </a:lnTo>
                  <a:lnTo>
                    <a:pt x="0" y="312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39240" y="4199040"/>
              <a:ext cx="7351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8758080" y="4665240"/>
            <a:ext cx="416160" cy="65556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753400" y="4454280"/>
            <a:ext cx="187560" cy="15876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71040" y="3222720"/>
            <a:ext cx="368280" cy="66672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58080" y="3962520"/>
            <a:ext cx="201600" cy="16668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91160" y="2048040"/>
            <a:ext cx="7477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36560" y="2830680"/>
            <a:ext cx="7037640" cy="4186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47280" y="114120"/>
            <a:ext cx="83581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Visual Buil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6480" y="1206360"/>
            <a:ext cx="7931160" cy="3738600"/>
            <a:chOff x="636480" y="1206360"/>
            <a:chExt cx="7931160" cy="3738600"/>
          </a:xfrm>
        </p:grpSpPr>
        <p:sp>
          <p:nvSpPr>
            <p:cNvPr id="252" name=""/>
            <p:cNvSpPr/>
            <p:nvPr/>
          </p:nvSpPr>
          <p:spPr>
            <a:xfrm>
              <a:off x="636480" y="1206360"/>
              <a:ext cx="4416480" cy="1463760"/>
            </a:xfrm>
            <a:prstGeom prst="rect">
              <a:avLst/>
            </a:prstGeom>
            <a:solidFill>
              <a:srgbClr val="c1f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19240" indent="-21924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"/>
                <a:tabLst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Desig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Define web page flo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Add actions (business logic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063440" y="4251240"/>
              <a:ext cx="2832120" cy="693720"/>
              <a:chOff x="1063440" y="4251240"/>
              <a:chExt cx="2832120" cy="693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063440" y="4251240"/>
                <a:ext cx="2832120" cy="693720"/>
              </a:xfrm>
              <a:custGeom>
                <a:avLst/>
                <a:gdLst/>
                <a:ahLst/>
                <a:rect l="l" t="t" r="r" b="b"/>
                <a:pathLst>
                  <a:path w="1784" h="437">
                    <a:moveTo>
                      <a:pt x="1131" y="436"/>
                    </a:moveTo>
                    <a:lnTo>
                      <a:pt x="1131" y="351"/>
                    </a:lnTo>
                    <a:lnTo>
                      <a:pt x="3" y="350"/>
                    </a:lnTo>
                    <a:lnTo>
                      <a:pt x="0" y="98"/>
                    </a:lnTo>
                    <a:lnTo>
                      <a:pt x="1125" y="98"/>
                    </a:lnTo>
                    <a:lnTo>
                      <a:pt x="1124" y="0"/>
                    </a:lnTo>
                    <a:lnTo>
                      <a:pt x="1783" y="219"/>
                    </a:lnTo>
                    <a:lnTo>
                      <a:pt x="1131" y="436"/>
                    </a:lnTo>
                    <a:lnTo>
                      <a:pt x="1131" y="436"/>
                    </a:lnTo>
                  </a:path>
                </a:pathLst>
              </a:custGeom>
              <a:solidFill>
                <a:srgbClr val="c1ffd5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16080" y="4460760"/>
                <a:ext cx="21826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fine page fl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070680" y="3682800"/>
              <a:ext cx="2496960" cy="694080"/>
              <a:chOff x="6070680" y="3682800"/>
              <a:chExt cx="2496960" cy="694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070680" y="3682800"/>
                <a:ext cx="2496960" cy="694080"/>
              </a:xfrm>
              <a:custGeom>
                <a:avLst/>
                <a:gdLst/>
                <a:ahLst/>
                <a:rect l="l" t="t" r="r" b="b"/>
                <a:pathLst>
                  <a:path w="1573" h="437">
                    <a:moveTo>
                      <a:pt x="574" y="436"/>
                    </a:moveTo>
                    <a:lnTo>
                      <a:pt x="574" y="351"/>
                    </a:lnTo>
                    <a:lnTo>
                      <a:pt x="1569" y="350"/>
                    </a:lnTo>
                    <a:lnTo>
                      <a:pt x="1572" y="98"/>
                    </a:lnTo>
                    <a:lnTo>
                      <a:pt x="579" y="98"/>
                    </a:lnTo>
                    <a:lnTo>
                      <a:pt x="580" y="0"/>
                    </a:lnTo>
                    <a:lnTo>
                      <a:pt x="0" y="219"/>
                    </a:lnTo>
                    <a:lnTo>
                      <a:pt x="574" y="436"/>
                    </a:lnTo>
                    <a:lnTo>
                      <a:pt x="574" y="436"/>
                    </a:lnTo>
                  </a:path>
                </a:pathLst>
              </a:custGeom>
              <a:solidFill>
                <a:srgbClr val="c1ffd5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97720" y="3892680"/>
                <a:ext cx="1923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dd Ac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3287880" y="1206360"/>
            <a:ext cx="6083280" cy="5465880"/>
            <a:chOff x="3287880" y="1206360"/>
            <a:chExt cx="6083280" cy="5465880"/>
          </a:xfrm>
        </p:grpSpPr>
        <p:sp>
          <p:nvSpPr>
            <p:cNvPr id="260" name=""/>
            <p:cNvSpPr/>
            <p:nvPr/>
          </p:nvSpPr>
          <p:spPr>
            <a:xfrm>
              <a:off x="4953240" y="1206360"/>
              <a:ext cx="4417920" cy="1427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19240" indent="-21924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"/>
                <a:tabLst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Defin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"Realize" the par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58840" indent="-244440">
                <a:lnSpc>
                  <a:spcPct val="100000"/>
                </a:lnSpc>
                <a:buClr>
                  <a:srgbClr val="000000"/>
                </a:buClr>
                <a:buSzPct val="70000"/>
                <a:buFont typeface="Arial"/>
                <a:buChar char="–"/>
                <a:tabLst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  <a:tab algn="l" pos="10617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JSP, Java, COBOL, EG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287880" y="4840200"/>
              <a:ext cx="1727280" cy="1459080"/>
              <a:chOff x="3287880" y="4840200"/>
              <a:chExt cx="1727280" cy="1459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287880" y="4840200"/>
                <a:ext cx="1727280" cy="1459080"/>
              </a:xfrm>
              <a:custGeom>
                <a:avLst/>
                <a:gdLst/>
                <a:ahLst/>
                <a:rect l="l" t="t" r="r" b="b"/>
                <a:pathLst>
                  <a:path w="1088" h="919">
                    <a:moveTo>
                      <a:pt x="854" y="468"/>
                    </a:moveTo>
                    <a:lnTo>
                      <a:pt x="801" y="401"/>
                    </a:lnTo>
                    <a:lnTo>
                      <a:pt x="161" y="918"/>
                    </a:lnTo>
                    <a:lnTo>
                      <a:pt x="0" y="724"/>
                    </a:lnTo>
                    <a:lnTo>
                      <a:pt x="639" y="208"/>
                    </a:lnTo>
                    <a:lnTo>
                      <a:pt x="576" y="133"/>
                    </a:lnTo>
                    <a:lnTo>
                      <a:pt x="1087" y="0"/>
                    </a:lnTo>
                    <a:lnTo>
                      <a:pt x="854" y="468"/>
                    </a:lnTo>
                    <a:lnTo>
                      <a:pt x="854" y="468"/>
                    </a:lnTo>
                  </a:path>
                </a:pathLst>
              </a:custGeom>
              <a:solidFill>
                <a:srgbClr val="ffff8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260000">
                <a:off x="3333960" y="5452560"/>
                <a:ext cx="159228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aliz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143760" y="5238720"/>
              <a:ext cx="1743120" cy="1433520"/>
              <a:chOff x="6143760" y="5238720"/>
              <a:chExt cx="1743120" cy="1433520"/>
            </a:xfrm>
          </p:grpSpPr>
          <p:sp>
            <p:nvSpPr>
              <p:cNvPr id="265" name=""/>
              <p:cNvSpPr/>
              <p:nvPr/>
            </p:nvSpPr>
            <p:spPr>
              <a:xfrm>
                <a:off x="6143760" y="5238720"/>
                <a:ext cx="1743120" cy="1433520"/>
              </a:xfrm>
              <a:custGeom>
                <a:avLst/>
                <a:gdLst/>
                <a:ahLst/>
                <a:rect l="l" t="t" r="r" b="b"/>
                <a:pathLst>
                  <a:path w="1098" h="903">
                    <a:moveTo>
                      <a:pt x="240" y="463"/>
                    </a:moveTo>
                    <a:lnTo>
                      <a:pt x="292" y="395"/>
                    </a:lnTo>
                    <a:lnTo>
                      <a:pt x="940" y="902"/>
                    </a:lnTo>
                    <a:lnTo>
                      <a:pt x="1097" y="705"/>
                    </a:lnTo>
                    <a:lnTo>
                      <a:pt x="452" y="200"/>
                    </a:lnTo>
                    <a:lnTo>
                      <a:pt x="512" y="124"/>
                    </a:lnTo>
                    <a:lnTo>
                      <a:pt x="0" y="0"/>
                    </a:lnTo>
                    <a:lnTo>
                      <a:pt x="240" y="463"/>
                    </a:lnTo>
                    <a:lnTo>
                      <a:pt x="240" y="463"/>
                    </a:lnTo>
                  </a:path>
                </a:pathLst>
              </a:custGeom>
              <a:solidFill>
                <a:srgbClr val="ffff8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280000">
                <a:off x="6315120" y="5832000"/>
                <a:ext cx="1592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n-Realiz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32000" y="1552320"/>
            <a:ext cx="923904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Visual Tool for developing GUI components (Swing or AW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and Applets are suppor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ull round trippin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ing the visuals automatically changes the source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and GUI shown together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etadata used to describe visuals (unlike VisualAge for Jav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uns in separate JV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the project classpath, so different JREs can be used as nee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 Visual Editor designed to help developers build/layout GU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are no visual connections in firs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er adds GUI logic in 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code not generated in firs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80000"/>
              </a:lnSpc>
              <a:buNone/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 (J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06560" y="1819440"/>
            <a:ext cx="6813720" cy="47685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76000" y="4689360"/>
            <a:ext cx="133812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ansL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ws child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 contai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t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63680" y="6943680"/>
            <a:ext cx="6675480" cy="6206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7840" y="7067520"/>
            <a:ext cx="6357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avaBean selected in GUI and applicable code section sel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43560" y="1268280"/>
            <a:ext cx="4246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op new Java Beans from toolbar palet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741320" y="4827600"/>
            <a:ext cx="582840" cy="5824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951240" y="1600200"/>
            <a:ext cx="461880" cy="4636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875800" y="2048040"/>
            <a:ext cx="1191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anInfo Proper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781840" y="2657520"/>
            <a:ext cx="463320" cy="4636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55280" y="1552680"/>
            <a:ext cx="910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asy migration from VisualAge for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ort source from VisualAge for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ort into WebSphere Studio Application Develo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Java Visual Editor Source Parser designed to work from code generated from VisualAge for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vjXXX instance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mporting source from other IDEs not supported in first release of Java Visual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 -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35000" y="1733400"/>
            <a:ext cx="86536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Eclipse 2.0 base – Many new enhancements for heads-down coding activities</a:t>
            </a:r>
            <a:br>
              <a:rPr sz="1900"/>
            </a:b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wnload.eclipse.org/downloads/documentation/2.0/html/plugins/org.eclipse.platform.doc.user/topics_WhatsNew.htm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2EE Tooling for EJB2.0 including: MDB, Local Interfaces, persistence, EJB QL, etc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oncurrent support of both J2EE 1.2/1.3 projects and WebSphere Application Server V4/V5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Page Tooling – Usability and XML JSP pag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Services, XML/XSL, Database and Performance Profile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Struts Visual Buil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ava Visual Builder (JVE) for Java thick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Component Test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fit, finish and integration for SCM team server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performance of automated builds (faster incremental compiler and parsing valid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36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ponent Tes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case definition, execution and analysis for Java and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80000"/>
              </a:lnSpc>
              <a:buNone/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bject level prof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ier performa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2EE Agent allows for J2EE Application Profi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og Analy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is of WebSphere Application Server activity lo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esting, Profiling and Analysis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VS Team Environment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62080" y="1695600"/>
            <a:ext cx="441792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CVS Repository Explor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erspective used for browsing CVS reposi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VS Console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hows messages returned from CVS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sistent CVS terms used throug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Branch instead of Str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le Compression options for  transferring files to CVS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02400" y="1623960"/>
            <a:ext cx="441792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resources must be explicitly added to CV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xt/Binary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dentify what file types are text or bin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ynchronize outgoing changes optim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Only outgoing changes are synchron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Reduced network traff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VS Deco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Visual indicators next to resource display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3600" y="7102440"/>
            <a:ext cx="8724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c20041"/>
                </a:solidFill>
                <a:latin typeface="Arial"/>
              </a:rPr>
              <a:t>http://download.eclipse.org/downloads/documentation/2.0/html/plugins/org.eclipse.platform.doc.user/whatsNew/wnTe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earCase Team Environment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697040"/>
            <a:ext cx="92394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ame Space Vers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f files are moved/deleted/renamed, ClearCase will perform the equivalent SCM op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nother Benefit: Refactoring will work with Clear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utomatic checkout when editing a re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ynchronization between ClearCase tools and workbe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.g. Update Snapshot tool will automatically refresh worksp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mproved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exists with other SCM providers (including CV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upport for hijacke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eference to automatically connect to ClearCase upon star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35000" y="1733400"/>
            <a:ext cx="86536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Eclipse 2.0 base – Many new enhancements for heads-down coding activities</a:t>
            </a:r>
            <a:br>
              <a:rPr sz="19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wnload.eclipse.org/downloads/documentation/2.0/html/plugins/org.eclipse.platform.doc.user/topics_WhatsNew.htm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2EE Tooling for EJB2.0 including: MDB, Local Interfaces, persistence, EJB QL, etc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oncurrent support of both J2EE 1.2/1.3 projects and WebSphere Application Server V4/V5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Page Tooling – Usability and XML JSP pag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Services, XML/XSL, Database and Performance Profile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ava Visual Builder (JVE) for Java thick client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Component Test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fit, finish and integration for SCM team server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performance of automated builds (faster incremental compiler and parsing valid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6480" y="1509840"/>
            <a:ext cx="4418280" cy="81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ster startup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lug-in information cach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Refactoring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ull up, Self encapsulation, Inline local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urround with Try/Catch blo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ring Externalization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Code Assi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ava keyword support (if then, while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emplate support (developers can add their own templat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doc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ine numbers in Java Ed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27640" y="1550880"/>
            <a:ext cx="4417920" cy="63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JDK 1.4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upport for Assert keyword, Hot-method repl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Quick Fix (Prompt for possible resolutions for compilation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an also be used to quickly create new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Unit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Unit wizards, JUnit views, Run in JU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 Browsing Persp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Tea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Optimistic or Pessimistic lock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Key Eclipse 2.0 Platform Enhancements in V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32000" y="1552320"/>
            <a:ext cx="9239040" cy="24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current support for J2EE 1.2 and J2EE 1.3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current support for WebSphere Application Server Version 4 and Version 5 Configurations/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kes migration easi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ustomers can migrate at their pace to WebSphere Application Server Version 5 (but still take advantage of new tool enhancem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2/1.3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62120" y="4189320"/>
            <a:ext cx="525168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JB 2.0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Message-driven be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action-aware components that process asynchronous JM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MP 2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ainer-manag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cal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2397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oids IIOP/RMI overhead when invoking EJBs within same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ultiple vendor/schema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ny-to-many O/R map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JB Query Language (EJB Q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es query methods (finder and select) for CMP EJ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able across EJB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e across EJB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Generate multiple persistence implem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 SQLJ or J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3 Tool Enhancements - EJB T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vlet 2.3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SP 1.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Servlet 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SP Docu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syntax for JS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d Visual Page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ual/Source editor for HTML/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ts visual taglib ren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vaScript Edi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Web P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3 Tool Enhancements - Web T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07040" y="1552680"/>
            <a:ext cx="3951360" cy="35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95480" y="1644480"/>
            <a:ext cx="923904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2EE Project structure simpl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JB project \bin folder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mported_classes.jar file eliminated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4160" y="3659040"/>
            <a:ext cx="2421000" cy="203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30840" y="3710160"/>
            <a:ext cx="1530360" cy="139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7240" y="3262320"/>
            <a:ext cx="203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sion 4 (ol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13400" y="3262320"/>
            <a:ext cx="217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sion 5 (new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13400" y="4033800"/>
            <a:ext cx="671400" cy="757440"/>
            <a:chOff x="4613400" y="4033800"/>
            <a:chExt cx="671400" cy="757440"/>
          </a:xfrm>
        </p:grpSpPr>
        <p:sp>
          <p:nvSpPr>
            <p:cNvPr id="82" name=""/>
            <p:cNvSpPr/>
            <p:nvPr/>
          </p:nvSpPr>
          <p:spPr>
            <a:xfrm>
              <a:off x="4808520" y="4411800"/>
              <a:ext cx="476280" cy="377640"/>
            </a:xfrm>
            <a:custGeom>
              <a:avLst/>
              <a:gdLst/>
              <a:ahLst/>
              <a:rect l="l" t="t" r="r" b="b"/>
              <a:pathLst>
                <a:path w="300" h="238">
                  <a:moveTo>
                    <a:pt x="0" y="237"/>
                  </a:moveTo>
                  <a:lnTo>
                    <a:pt x="299" y="0"/>
                  </a:lnTo>
                  <a:lnTo>
                    <a:pt x="225" y="0"/>
                  </a:lnTo>
                  <a:lnTo>
                    <a:pt x="67" y="122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c21212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7080" y="4365720"/>
              <a:ext cx="215640" cy="425520"/>
            </a:xfrm>
            <a:custGeom>
              <a:avLst/>
              <a:gdLst/>
              <a:ahLst/>
              <a:rect l="l" t="t" r="r" b="b"/>
              <a:pathLst>
                <a:path w="136" h="268">
                  <a:moveTo>
                    <a:pt x="24" y="64"/>
                  </a:moveTo>
                  <a:lnTo>
                    <a:pt x="40" y="135"/>
                  </a:lnTo>
                  <a:lnTo>
                    <a:pt x="0" y="267"/>
                  </a:lnTo>
                  <a:lnTo>
                    <a:pt x="55" y="187"/>
                  </a:lnTo>
                  <a:lnTo>
                    <a:pt x="135" y="0"/>
                  </a:lnTo>
                  <a:lnTo>
                    <a:pt x="24" y="64"/>
                  </a:lnTo>
                  <a:lnTo>
                    <a:pt x="24" y="64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2040" y="4033800"/>
              <a:ext cx="482760" cy="380880"/>
            </a:xfrm>
            <a:custGeom>
              <a:avLst/>
              <a:gdLst/>
              <a:ahLst/>
              <a:rect l="l" t="t" r="r" b="b"/>
              <a:pathLst>
                <a:path w="304" h="240">
                  <a:moveTo>
                    <a:pt x="0" y="0"/>
                  </a:moveTo>
                  <a:lnTo>
                    <a:pt x="303" y="239"/>
                  </a:lnTo>
                  <a:lnTo>
                    <a:pt x="229" y="239"/>
                  </a:lnTo>
                  <a:lnTo>
                    <a:pt x="71" y="1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3400" y="4245120"/>
              <a:ext cx="155520" cy="352440"/>
            </a:xfrm>
            <a:custGeom>
              <a:avLst/>
              <a:gdLst/>
              <a:ahLst/>
              <a:rect l="l" t="t" r="r" b="b"/>
              <a:pathLst>
                <a:path w="98" h="222">
                  <a:moveTo>
                    <a:pt x="0" y="0"/>
                  </a:moveTo>
                  <a:lnTo>
                    <a:pt x="0" y="221"/>
                  </a:lnTo>
                  <a:lnTo>
                    <a:pt x="97" y="154"/>
                  </a:lnTo>
                  <a:lnTo>
                    <a:pt x="94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3840" y="4033800"/>
              <a:ext cx="214200" cy="42084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22" y="203"/>
                  </a:moveTo>
                  <a:lnTo>
                    <a:pt x="39" y="133"/>
                  </a:lnTo>
                  <a:lnTo>
                    <a:pt x="0" y="0"/>
                  </a:lnTo>
                  <a:lnTo>
                    <a:pt x="52" y="81"/>
                  </a:lnTo>
                  <a:lnTo>
                    <a:pt x="134" y="264"/>
                  </a:lnTo>
                  <a:lnTo>
                    <a:pt x="22" y="203"/>
                  </a:lnTo>
                  <a:lnTo>
                    <a:pt x="22" y="203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14840" y="4245120"/>
              <a:ext cx="352440" cy="69840"/>
            </a:xfrm>
            <a:custGeom>
              <a:avLst/>
              <a:gdLst/>
              <a:ahLst/>
              <a:rect l="l" t="t" r="r" b="b"/>
              <a:pathLst>
                <a:path w="222" h="44">
                  <a:moveTo>
                    <a:pt x="35" y="35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221" y="43"/>
                  </a:lnTo>
                  <a:lnTo>
                    <a:pt x="35" y="35"/>
                  </a:lnTo>
                  <a:lnTo>
                    <a:pt x="35" y="35"/>
                  </a:lnTo>
                </a:path>
              </a:pathLst>
            </a:custGeom>
            <a:solidFill>
              <a:srgbClr val="ff9f7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13400" y="4524480"/>
              <a:ext cx="361800" cy="7308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46" y="0"/>
                  </a:moveTo>
                  <a:lnTo>
                    <a:pt x="0" y="45"/>
                  </a:lnTo>
                  <a:lnTo>
                    <a:pt x="158" y="45"/>
                  </a:lnTo>
                  <a:lnTo>
                    <a:pt x="227" y="0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8320" y="4152960"/>
              <a:ext cx="565200" cy="530280"/>
            </a:xfrm>
            <a:custGeom>
              <a:avLst/>
              <a:gdLst/>
              <a:ahLst/>
              <a:rect l="l" t="t" r="r" b="b"/>
              <a:pathLst>
                <a:path w="356" h="334">
                  <a:moveTo>
                    <a:pt x="355" y="164"/>
                  </a:moveTo>
                  <a:lnTo>
                    <a:pt x="355" y="164"/>
                  </a:lnTo>
                  <a:lnTo>
                    <a:pt x="145" y="0"/>
                  </a:lnTo>
                  <a:lnTo>
                    <a:pt x="170" y="81"/>
                  </a:lnTo>
                  <a:lnTo>
                    <a:pt x="0" y="81"/>
                  </a:lnTo>
                  <a:lnTo>
                    <a:pt x="0" y="257"/>
                  </a:lnTo>
                  <a:lnTo>
                    <a:pt x="170" y="257"/>
                  </a:lnTo>
                  <a:lnTo>
                    <a:pt x="145" y="333"/>
                  </a:lnTo>
                  <a:lnTo>
                    <a:pt x="355" y="164"/>
                  </a:lnTo>
                  <a:lnTo>
                    <a:pt x="355" y="164"/>
                  </a:lnTo>
                </a:path>
              </a:pathLst>
            </a:custGeom>
            <a:solidFill>
              <a:srgbClr val="ff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95480" y="1644480"/>
            <a:ext cx="923904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asier to handle external projects in J2EE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eveloper identifies external projects to be used in J2E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Build-time/run-time classpath automatically upd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Utility projects can be debugged during execution of J2E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uring EAR export, JARs of the external projects will be placed in EA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tility JAR bui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roduces output JAR from Java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100000"/>
              </a:lnSpc>
              <a:buNone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eeps output JAR in synch with project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1649160"/>
            <a:ext cx="331452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lat look for J2EE ed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asier to work with configuring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eployment descrip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2880" y="1649520"/>
            <a:ext cx="6202440" cy="58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5:01:22Z</dcterms:created>
  <dc:creator>Bill Hahn</dc:creator>
  <dc:description/>
  <dc:language>en-US</dc:language>
  <cp:lastModifiedBy>IBM</cp:lastModifiedBy>
  <dcterms:modified xsi:type="dcterms:W3CDTF">2003-02-21T18:53:36Z</dcterms:modified>
  <cp:revision>6</cp:revision>
  <dc:subject/>
  <dc:title>Slide 1</dc:title>
</cp:coreProperties>
</file>