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DCE0-1CC0-4471-840E-5D55F90BE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VE style mode would be used by seasoned Java develop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ustomize high level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ride internal layout, visuals, properties,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ustomize log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LS, naming, optimization, specific intra relationships not supported by RAD component custom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/ Debug /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 with the rest of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phere Studio Application Developer has built in tools for application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ing captures and views various performance relate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same machine or remote machine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Java applications or J2EE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2EE profiling shows performance information based on J2EE application structure and works across multiple J2EE servers, again either the same machine or remote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608120" y="871560"/>
            <a:ext cx="3643200" cy="27320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228240" y="3668760"/>
            <a:ext cx="6305400" cy="4788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484280" y="911160"/>
            <a:ext cx="3890880" cy="291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60440" y="4254120"/>
            <a:ext cx="594360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st updated: 12/17/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482840" y="911160"/>
            <a:ext cx="3892320" cy="29196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60440" y="4254120"/>
            <a:ext cx="5943600" cy="4202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ast updated: 5/25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ivoli Monitoring -- (Network performance, messaging and collaboration, Web infrastructure, database); Perform monitoring on essential system resources to detect bottlenecks and potential problems, and to automatically recover from critical situations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monito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Tivoli Enterprise Cons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enterprise-conso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Tivoli Monitoring for Transactio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monitor-transac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Tivoli Monitoring for Networ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monitor-net-performanc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Tivoli Monitoring for Messaging and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monitor-messag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Tivoli Monitoring fo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monitor-db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voli Monitoring for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monitor-app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voli Monitoring for Web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monitor-web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ivoli Security -- (Access, identity, privacy); Automate identity management and security even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Tivoli Access Manager for Business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access-mgr-bus-integ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Tivoli Access Manager for e-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access-mgr-e-bu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Tivoli Access Manager for Opera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voli Access Manager for Operating Systems secures AIX, HP-UX, Solaris, Red Hat Linux, and SuSE Lin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access-mgr-operating-sy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Tivoli Identity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analyzer-lotus-domin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Tivoli Privacy Manager for e-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privacy-mgr-e-bu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M Tivoli® Configuration Mana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-306.ibm.com/software/tivoli/products/config-mg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85B7-8BC8-4D66-B1CE-13E7A14DD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7939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520" y="2860560"/>
            <a:ext cx="7939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DAD1-48FB-4F0A-9DEF-C54F75789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6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8520" y="286056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6520" y="286056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BE73-8CCA-42C8-9388-0607C2B9B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72680" y="136008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56840" y="136008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8520" y="286056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72680" y="286056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56840" y="286056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35BC-35E2-49C7-A7DC-59AAF3E5B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88520" y="1360080"/>
            <a:ext cx="793908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7939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38739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520" y="1360080"/>
            <a:ext cx="38739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54080" y="622440"/>
            <a:ext cx="89899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6520" y="1360080"/>
            <a:ext cx="38739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8520" y="286056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88520" y="1360080"/>
            <a:ext cx="793908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50B5-327C-46B4-AD54-B6BE44231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38739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6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6520" y="286056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56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8520" y="2860560"/>
            <a:ext cx="7939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7939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520" y="2860560"/>
            <a:ext cx="7939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56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8520" y="286056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6520" y="286056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72680" y="136008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56840" y="136008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8520" y="286056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72680" y="286056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56840" y="2860560"/>
            <a:ext cx="2556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7939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52FA-FCFD-4802-B255-CD53BEEBE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38739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6520" y="1360080"/>
            <a:ext cx="38739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35D9-DFCC-4240-B9BB-427139BB2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4130-0A66-4C6B-ACE8-EEB98F9B5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4080" y="622440"/>
            <a:ext cx="898992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1A02-3328-4EF6-BFFD-E0F98E778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6520" y="1360080"/>
            <a:ext cx="38739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286056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8D0A-C4B5-4009-B58E-7E0F2BC4B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38739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6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6520" y="286056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BE0B-C805-4A3F-8064-67F68E19E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6520" y="1360080"/>
            <a:ext cx="3873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8520" y="2860560"/>
            <a:ext cx="7939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1D90-0476-4556-BF30-DE88C1709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02320"/>
            <a:ext cx="9144000" cy="387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360080"/>
            <a:ext cx="7939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1125"/>
              </a:spcBef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76440" indent="-228600">
              <a:spcBef>
                <a:spcPts val="1125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907920" indent="-230040">
              <a:spcBef>
                <a:spcPts val="1125"/>
              </a:spcBef>
              <a:buClr>
                <a:srgbClr val="33cccc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138320" indent="-228600">
              <a:spcBef>
                <a:spcPts val="1125"/>
              </a:spcBef>
              <a:buClr>
                <a:srgbClr val="33cccc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138320" indent="-228600">
              <a:spcBef>
                <a:spcPts val="1125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138320" indent="-228600">
              <a:spcBef>
                <a:spcPts val="1125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-4680" y="6553080"/>
            <a:ext cx="914868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36040" y="90360"/>
            <a:ext cx="342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  |  Rational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0" y="653688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4CD6-6D40-4E75-985A-17E08CB5944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351760" y="6531120"/>
            <a:ext cx="1986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BM Confident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0240" y="2494080"/>
            <a:ext cx="7954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4789440"/>
            <a:ext cx="914256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955880" y="4424400"/>
            <a:ext cx="1581120" cy="291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0099cc"/>
              </a:solidFill>
              <a:latin typeface="Arial"/>
            </a:endParaRPr>
          </a:p>
          <a:p>
            <a:pPr lvl="1" marL="457200" indent="-227160" algn="ctr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66560" algn="ctr">
              <a:spcBef>
                <a:spcPts val="400"/>
              </a:spcBef>
              <a:buClr>
                <a:srgbClr val="33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693720" algn="ctr">
              <a:spcBef>
                <a:spcPts val="400"/>
              </a:spcBef>
              <a:buClr>
                <a:srgbClr val="33cccc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9080" algn="ctr">
              <a:spcBef>
                <a:spcPts val="400"/>
              </a:spcBef>
              <a:buClr>
                <a:srgbClr val="33cccc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9080">
              <a:spcBef>
                <a:spcPts val="4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9080">
              <a:spcBef>
                <a:spcPts val="400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0240" y="2494080"/>
            <a:ext cx="795492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Sphere Studio Roadmap</a:t>
            </a:r>
            <a:br>
              <a:rPr sz="2000"/>
            </a:br>
            <a:br>
              <a:rPr sz="20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Q 2004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Confidential – Content and Dates subject to ch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 flipV="1">
            <a:off x="1173240" y="1027080"/>
            <a:ext cx="6635520" cy="434664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78200" y="1247760"/>
            <a:ext cx="2765520" cy="185436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dent U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47680" y="1347840"/>
            <a:ext cx="6513480" cy="4070160"/>
            <a:chOff x="1147680" y="1347840"/>
            <a:chExt cx="6513480" cy="4070160"/>
          </a:xfrm>
        </p:grpSpPr>
        <p:sp>
          <p:nvSpPr>
            <p:cNvPr id="237" name=""/>
            <p:cNvSpPr/>
            <p:nvPr/>
          </p:nvSpPr>
          <p:spPr>
            <a:xfrm>
              <a:off x="1149480" y="1347840"/>
              <a:ext cx="0" cy="407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47680" y="5408280"/>
              <a:ext cx="651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173640" y="5411880"/>
            <a:ext cx="156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 and Exper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2960" y="13446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33720" y="2359080"/>
            <a:ext cx="2765520" cy="1854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y to D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73240" y="3524400"/>
            <a:ext cx="2765520" cy="1854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/ Ear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3967200"/>
            <a:ext cx="1578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lcome Experien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duct Tour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ni vide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OB Tutorial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OB Samp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o for returning user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nks to web cont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nks to formal educ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43120" y="2873520"/>
            <a:ext cx="2137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w m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 Search (product and web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ext Sensitive Hel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UP Advis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eat Sheet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mple / Tutorial Galleri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elp Syste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02720" y="1587600"/>
            <a:ext cx="12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D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nal Universit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dbook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cess educ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UP Configura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party book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9142400">
            <a:off x="1774080" y="2800080"/>
            <a:ext cx="90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hite Paper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9264800">
            <a:off x="5787000" y="3820320"/>
            <a:ext cx="176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rmal Classroom educ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9277400">
            <a:off x="5822640" y="3548880"/>
            <a:ext cx="123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b based train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9142400">
            <a:off x="3153600" y="1528560"/>
            <a:ext cx="90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hite Paper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64080" y="3968640"/>
            <a:ext cx="1125720" cy="23112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ick Success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080" y="2728800"/>
            <a:ext cx="1360440" cy="23112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coming Productiv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03560" y="1706400"/>
            <a:ext cx="1892160" cy="23112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eloping skills and experti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49600" y="5778360"/>
            <a:ext cx="535608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ation designed to take the user from early successes….then helping them become productive…..and then helping them develop appropriate skills and experti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roaden Appeal - Managing the Learning Curve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roaden Appeal - Eclipse V3 enhancement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793908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responsive 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 enhanced concurrency support and asynchronous task man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d UI complexity through progressive disclo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pabilities support enables a tool to filter the views, wizards, actions, etc available initially available to 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 trigger points more advanced function is reveal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s can adjust the amount of initial func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ams can share preference set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anded user settings/preferences support with multiple scop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V2.x partner tools will work with RAD V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 degree of binary compatibility between V2.x Eclipse plug-ins and Eclipse V3-based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consult your vendor to determine the status of the tools you 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895840" cy="2368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3200400" cy="2612880"/>
          </a:xfrm>
          <a:prstGeom prst="rect">
            <a:avLst/>
          </a:prstGeom>
          <a:ln w="0">
            <a:noFill/>
          </a:ln>
        </p:spPr>
      </p:pic>
      <p:cxnSp>
        <p:nvCxnSpPr>
          <p:cNvPr id="259" name=""/>
          <p:cNvCxnSpPr/>
          <p:nvPr/>
        </p:nvCxnSpPr>
        <p:spPr>
          <a:xfrm flipV="1">
            <a:off x="3352680" y="2571480"/>
            <a:ext cx="2286720" cy="957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60" name=""/>
          <p:cNvCxnSpPr>
            <a:stCxn id="257" idx="3"/>
            <a:endCxn id="258" idx="0"/>
          </p:cNvCxnSpPr>
          <p:nvPr/>
        </p:nvCxnSpPr>
        <p:spPr>
          <a:xfrm>
            <a:off x="3276720" y="2479680"/>
            <a:ext cx="1676880" cy="1254960"/>
          </a:xfrm>
          <a:prstGeom prst="straightConnector1">
            <a:avLst/>
          </a:prstGeom>
          <a:ln w="0">
            <a:noFill/>
          </a:ln>
        </p:spPr>
      </p:cxnSp>
      <p:sp>
        <p:nvSpPr>
          <p:cNvPr id="261" name=""/>
          <p:cNvSpPr/>
          <p:nvPr/>
        </p:nvSpPr>
        <p:spPr>
          <a:xfrm flipV="1">
            <a:off x="2286000" y="2133360"/>
            <a:ext cx="45720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286000" y="1980720"/>
            <a:ext cx="426708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76720" y="1905120"/>
            <a:ext cx="236196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1219320"/>
            <a:ext cx="1984320" cy="841320"/>
          </a:xfrm>
          <a:prstGeom prst="wedgeRoundRectCallout">
            <a:avLst>
              <a:gd name="adj1" fmla="val 59680"/>
              <a:gd name="adj2" fmla="val 9113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Designer to develop the contents of each Web p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4038480"/>
            <a:ext cx="1984320" cy="841320"/>
          </a:xfrm>
          <a:prstGeom prst="wedgeRoundRectCallout">
            <a:avLst>
              <a:gd name="adj1" fmla="val 319"/>
              <a:gd name="adj2" fmla="val -998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ite designer helps you import, create, and edit a whole Web si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4648320"/>
            <a:ext cx="1984320" cy="841320"/>
          </a:xfrm>
          <a:prstGeom prst="wedgeRoundRectCallout">
            <a:avLst>
              <a:gd name="adj1" fmla="val -54958"/>
              <a:gd name="adj2" fmla="val 68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diagram showing page flow and event actions for JSF compon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638680" y="1295280"/>
            <a:ext cx="3200400" cy="25527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aise Productivity - Web Application Development Tool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35000" y="2205000"/>
            <a:ext cx="4556160" cy="42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uitive, higher level synta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stractions to utilize latest runtimes, but mask their complex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Handl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 Access/MQ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Controllers (JSF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actional capabilities (CICS/IMS/WA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ll-outs/services ac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programming model simplifi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ight integration with “Seoul” and Web Diagram Edi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PageLoad” event…used to get data for p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L code associated with page has access to controls on JS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66560">
              <a:lnSpc>
                <a:spcPct val="90000"/>
              </a:lnSpc>
              <a:spcBef>
                <a:spcPts val="224"/>
              </a:spcBef>
              <a:buClr>
                <a:srgbClr val="33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de Assis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66560">
              <a:lnSpc>
                <a:spcPct val="90000"/>
              </a:lnSpc>
              <a:spcBef>
                <a:spcPts val="224"/>
              </a:spcBef>
              <a:buClr>
                <a:srgbClr val="33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tting valu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te management handled automatical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ch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alidation, formatting, &amp; editing rules definable for data eleme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ore consistent handling of data at key transition poi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ore rapid development by eliminating the mundane task of coding this behavior all over the pla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57320" y="2098440"/>
            <a:ext cx="43578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loyable to ALL IBM platforms/runtimes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mally t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66560">
              <a:lnSpc>
                <a:spcPct val="90000"/>
              </a:lnSpc>
              <a:spcBef>
                <a:spcPts val="249"/>
              </a:spcBef>
              <a:buClr>
                <a:srgbClr val="33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indow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66560">
              <a:lnSpc>
                <a:spcPct val="90000"/>
              </a:lnSpc>
              <a:spcBef>
                <a:spcPts val="249"/>
              </a:spcBef>
              <a:buClr>
                <a:srgbClr val="33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IX, Linux, (Solaris in v 6.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66560">
              <a:lnSpc>
                <a:spcPct val="90000"/>
              </a:lnSpc>
              <a:spcBef>
                <a:spcPts val="249"/>
              </a:spcBef>
              <a:buClr>
                <a:srgbClr val="33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-series, z-seri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66560">
              <a:lnSpc>
                <a:spcPct val="90000"/>
              </a:lnSpc>
              <a:spcBef>
                <a:spcPts val="249"/>
              </a:spcBef>
              <a:buClr>
                <a:srgbClr val="33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2EE applic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66560">
              <a:lnSpc>
                <a:spcPct val="90000"/>
              </a:lnSpc>
              <a:spcBef>
                <a:spcPts val="249"/>
              </a:spcBef>
              <a:buClr>
                <a:srgbClr val="33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nd-alone Java ap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66560">
              <a:lnSpc>
                <a:spcPct val="90000"/>
              </a:lnSpc>
              <a:spcBef>
                <a:spcPts val="249"/>
              </a:spcBef>
              <a:buClr>
                <a:srgbClr val="33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BOL for CICS, IMS (version 6.0), and bat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een Screen” UI’s supported as well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r migration and maintenance of existing applica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270, 52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indows and Unix also (based on “curses” library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gration Path fo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sualAge Genera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formix 4G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ther 4GL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ailable i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bsphere Studio Enterprise Developer 5.0: all platforms/runtim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312"/>
              </a:spcBef>
              <a:spcAft>
                <a:spcPts val="187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bsphere Studio Site Developer 5.1.2: Java deployment on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338120" y="1155600"/>
            <a:ext cx="4645080" cy="1092240"/>
            <a:chOff x="1338120" y="1155600"/>
            <a:chExt cx="4645080" cy="1092240"/>
          </a:xfrm>
        </p:grpSpPr>
        <p:sp>
          <p:nvSpPr>
            <p:cNvPr id="272" name=""/>
            <p:cNvSpPr/>
            <p:nvPr/>
          </p:nvSpPr>
          <p:spPr>
            <a:xfrm>
              <a:off x="1338120" y="1155600"/>
              <a:ext cx="4645080" cy="109224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  <a:effectLst>
              <a:outerShdw dist="89604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676520" y="1347480"/>
              <a:ext cx="3298680" cy="685440"/>
              <a:chOff x="1676520" y="1347480"/>
              <a:chExt cx="3298680" cy="685440"/>
            </a:xfrm>
          </p:grpSpPr>
          <p:sp>
            <p:nvSpPr>
              <p:cNvPr id="274" name=""/>
              <p:cNvSpPr/>
              <p:nvPr/>
            </p:nvSpPr>
            <p:spPr>
              <a:xfrm>
                <a:off x="3984480" y="1395360"/>
                <a:ext cx="990720" cy="60948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isual Tool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84480" y="1852560"/>
                <a:ext cx="990720" cy="15228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Runtim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84480" y="1699920"/>
                <a:ext cx="838080" cy="1526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Jav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984480" y="1547640"/>
                <a:ext cx="685800" cy="15228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G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17600" y="1801800"/>
                <a:ext cx="66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0000"/>
                    </a:solidFill>
                    <a:latin typeface="Times New Roman"/>
                  </a:rPr>
                  <a:t>Flexibility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118320" y="1347480"/>
                <a:ext cx="659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0000"/>
                    </a:solidFill>
                    <a:latin typeface="Times New Roman"/>
                  </a:rPr>
                  <a:t>Simplicity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3450960" y="1547280"/>
                <a:ext cx="0" cy="304920"/>
              </a:xfrm>
              <a:prstGeom prst="line">
                <a:avLst/>
              </a:prstGeom>
              <a:ln w="9360">
                <a:solidFill>
                  <a:srgbClr val="1c1c1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676520" y="1527120"/>
                <a:ext cx="1442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ff"/>
                    </a:solidFill>
                    <a:latin typeface="Times New Roman"/>
                  </a:rPr>
                  <a:t>The Right Balance!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PlaceHolder 3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ighlights: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Rapid Application Development in Web Developer using EG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314880" y="1320840"/>
            <a:ext cx="5608440" cy="5067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-360" y="1498320"/>
            <a:ext cx="3352680" cy="8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Customization” – full Java/Swing/SW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ighlights: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Web Developer Rich Client User Interface Support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53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MS PGothic"/>
              </a:rPr>
              <a:t>Extend Integration - Portal and Portlet Development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675640" cy="42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25"/>
              </a:spcBef>
              <a:buNone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1st Class Support for Portal Application Develop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spcBef>
                <a:spcPts val="462"/>
              </a:spcBef>
              <a:spcAft>
                <a:spcPts val="275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MS PGothic"/>
              </a:rPr>
              <a:t>Portal Toolkit is fully integrated to support portal and portlet development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spcBef>
                <a:spcPts val="462"/>
              </a:spcBef>
              <a:spcAft>
                <a:spcPts val="275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MS PGothic"/>
              </a:rPr>
              <a:t>Enhances Portlet Development above v5.1.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spcBef>
                <a:spcPts val="462"/>
              </a:spcBef>
              <a:spcAft>
                <a:spcPts val="275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MS PGothic"/>
              </a:rPr>
              <a:t>Provides Portal Test Environment for WP 5.0.2.2 and WP 5.1 (post v6)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hat’s 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Visual Themes and Skins development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Portal Designer – New tool for customizing portal page ( layout, navigation link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Business Portlet Development using WPAI (WebSphere Portal Application Integrator ) for WP 5.1 - SAP, Seibel portl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Import / Deployment Wizards for Portal Page and Portl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MS PGothic"/>
              </a:rPr>
              <a:t>Portal Page Design Tool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reating Portal P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981080" y="1981080"/>
          <a:ext cx="52437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2437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4038480" y="4419720"/>
            <a:ext cx="2286000" cy="685800"/>
          </a:xfrm>
          <a:prstGeom prst="wedgeRoundRectCallout">
            <a:avLst>
              <a:gd name="adj1" fmla="val -20763"/>
              <a:gd name="adj2" fmla="val -110185"/>
              <a:gd name="adj3" fmla="val 16667"/>
            </a:avLst>
          </a:prstGeom>
          <a:solidFill>
            <a:srgbClr val="000000"/>
          </a:solidFill>
          <a:ln w="12600">
            <a:solidFill>
              <a:srgbClr val="7889fb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Visualize and custom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Portal p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1447920"/>
            <a:ext cx="2133720" cy="533160"/>
          </a:xfrm>
          <a:prstGeom prst="wedgeRoundRectCallout">
            <a:avLst>
              <a:gd name="adj1" fmla="val -25370"/>
              <a:gd name="adj2" fmla="val 152976"/>
              <a:gd name="adj3" fmla="val 16667"/>
            </a:avLst>
          </a:prstGeom>
          <a:solidFill>
            <a:srgbClr val="000000"/>
          </a:solidFill>
          <a:ln w="12600">
            <a:solidFill>
              <a:srgbClr val="7889fb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rag and drop a page, label, portlet,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95240" y="836640"/>
            <a:ext cx="16891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WP 5.0.2.2 only in 6.0 G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WP 5.1 support: Post-6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228600" y="2209680"/>
          <a:ext cx="524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524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MS PGothic"/>
              </a:rPr>
              <a:t>Portal Page Design Tools (cont.)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793908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Visual Themes and Skins Ed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3909960" y="2732040"/>
            <a:ext cx="5027760" cy="3897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066680" y="5562720"/>
            <a:ext cx="1981440" cy="533160"/>
          </a:xfrm>
          <a:prstGeom prst="wedgeRoundRectCallout">
            <a:avLst>
              <a:gd name="adj1" fmla="val 26041"/>
              <a:gd name="adj2" fmla="val -122023"/>
              <a:gd name="adj3" fmla="val 16667"/>
            </a:avLst>
          </a:prstGeom>
          <a:solidFill>
            <a:srgbClr val="000000"/>
          </a:solidFill>
          <a:ln w="12600">
            <a:solidFill>
              <a:srgbClr val="7889fb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diting JSP files for Themes and Ski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29200" y="5791320"/>
            <a:ext cx="1981080" cy="533160"/>
          </a:xfrm>
          <a:prstGeom prst="wedgeRoundRectCallout">
            <a:avLst>
              <a:gd name="adj1" fmla="val 26041"/>
              <a:gd name="adj2" fmla="val -122023"/>
              <a:gd name="adj3" fmla="val 16667"/>
            </a:avLst>
          </a:prstGeom>
          <a:solidFill>
            <a:srgbClr val="000000"/>
          </a:solidFill>
          <a:ln w="12600">
            <a:solidFill>
              <a:srgbClr val="7889fb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diting Style She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95240" y="836640"/>
            <a:ext cx="16891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WP 5.0.2.2 only in 6.0 G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WP 5.1 support: Post-6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895480" y="1538280"/>
            <a:ext cx="5764320" cy="43196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11200" y="3825720"/>
            <a:ext cx="1528560" cy="11685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154080" y="2209680"/>
            <a:ext cx="2143080" cy="15033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116080" y="2209680"/>
            <a:ext cx="846360" cy="676440"/>
          </a:xfrm>
          <a:prstGeom prst="leftRightArrow">
            <a:avLst>
              <a:gd name="adj1" fmla="val 50000"/>
              <a:gd name="adj2" fmla="val 24908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Import &amp; Expor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Configu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71760" y="1652760"/>
            <a:ext cx="846000" cy="649080"/>
          </a:xfrm>
          <a:prstGeom prst="rightArrow">
            <a:avLst>
              <a:gd name="adj1" fmla="val 50000"/>
              <a:gd name="adj2" fmla="val 32585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Crea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Portal Projec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115360" y="4060800"/>
            <a:ext cx="846360" cy="649440"/>
          </a:xfrm>
          <a:prstGeom prst="rightArrow">
            <a:avLst>
              <a:gd name="adj1" fmla="val 50000"/>
              <a:gd name="adj2" fmla="val 32580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Test and Debu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16080" y="4994280"/>
            <a:ext cx="846360" cy="676440"/>
          </a:xfrm>
          <a:prstGeom prst="leftRightArrow">
            <a:avLst>
              <a:gd name="adj1" fmla="val 50000"/>
              <a:gd name="adj2" fmla="val 24908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Check-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Check-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821720" y="2209680"/>
            <a:ext cx="1154160" cy="503280"/>
          </a:xfrm>
          <a:prstGeom prst="wedgeEllipseCallout">
            <a:avLst>
              <a:gd name="adj1" fmla="val -33768"/>
              <a:gd name="adj2" fmla="val 111199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Pla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(Page Grou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137440" y="3282840"/>
            <a:ext cx="838440" cy="430200"/>
          </a:xfrm>
          <a:prstGeom prst="wedgeEllipseCallout">
            <a:avLst>
              <a:gd name="adj1" fmla="val -129546"/>
              <a:gd name="adj2" fmla="val 3081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29320" y="3360600"/>
            <a:ext cx="981000" cy="352440"/>
          </a:xfrm>
          <a:prstGeom prst="wedgeEllipseCallout">
            <a:avLst>
              <a:gd name="adj1" fmla="val -55337"/>
              <a:gd name="adj2" fmla="val 13738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Portle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16240" y="2711520"/>
            <a:ext cx="846360" cy="649080"/>
          </a:xfrm>
          <a:prstGeom prst="rightArrow">
            <a:avLst>
              <a:gd name="adj1" fmla="val 50000"/>
              <a:gd name="adj2" fmla="val 3259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Crea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Place &amp; Pag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9120" y="174456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Arial Narrow"/>
                <a:ea typeface="MS PGothic"/>
              </a:rPr>
              <a:t>Por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Arial Narrow"/>
                <a:ea typeface="MS PGothic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65480" y="519120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Arial Narrow"/>
                <a:ea typeface="MS PGothic"/>
              </a:rPr>
              <a:t>Team</a:t>
            </a:r>
            <a:br>
              <a:rPr sz="1200"/>
            </a:br>
            <a:r>
              <a:rPr b="1" lang="en-US" sz="1200" spc="-1" strike="noStrike">
                <a:solidFill>
                  <a:srgbClr val="0099cc"/>
                </a:solidFill>
                <a:latin typeface="Arial Narrow"/>
                <a:ea typeface="MS PGothic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62600" y="6105600"/>
            <a:ext cx="2009880" cy="25704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rtal Site Desig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068560" y="3035160"/>
            <a:ext cx="846000" cy="649440"/>
          </a:xfrm>
          <a:prstGeom prst="rightArrow">
            <a:avLst>
              <a:gd name="adj1" fmla="val 50000"/>
              <a:gd name="adj2" fmla="val 325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Deplo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Artifac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81760" y="4395960"/>
            <a:ext cx="1257120" cy="3711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57960" y="4414680"/>
            <a:ext cx="54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Appl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them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927000" y="5183280"/>
            <a:ext cx="514440" cy="4744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461880" y="1700280"/>
            <a:ext cx="514440" cy="4744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ighlights: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Application Developer Portal Construction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ighlights: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Application Developer Rapid Deployment to WAS v6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88520" y="1360080"/>
            <a:ext cx="793908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ified development of WebSphere Applications via Annotation-based 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JB and deployment information is maintained as metadata (Xdoclet tags) in Java cla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76440" indent="-228600">
              <a:spcBef>
                <a:spcPts val="4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ows the developer to create and maintain a single artif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tifacts needed at runtime (eg. EJB and J2EE deployment descriptors) are generat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loyment Auto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e automatic installation of applications and modules onto a running WebSphere Serv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76440" indent="-228600">
              <a:spcBef>
                <a:spcPts val="4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deployment to a ‘staging server’, not just ‘unit test server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both local and remote servers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fine-grained application 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76440" indent="-228600">
              <a:spcBef>
                <a:spcPts val="4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fect the application in the minimum way possible to reflect the detected ch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V="1">
            <a:off x="380880" y="1904760"/>
            <a:ext cx="7462800" cy="4103640"/>
          </a:xfrm>
          <a:prstGeom prst="line">
            <a:avLst/>
          </a:prstGeom>
          <a:ln w="114480">
            <a:solidFill>
              <a:srgbClr val="c0c0c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6080" y="648360"/>
            <a:ext cx="6966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Aft>
                <a:spcPts val="4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3048120"/>
            <a:ext cx="22860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 indent="-57240">
              <a:lnSpc>
                <a:spcPct val="8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.2 WSSD/WS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981080"/>
            <a:ext cx="20955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 indent="-57240">
              <a:lnSpc>
                <a:spcPct val="8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.0 WSSD/WS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 indent="-57240">
              <a:lnSpc>
                <a:spcPct val="8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er Rational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85800" y="5246640"/>
            <a:ext cx="1295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8/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8520" y="2286000"/>
            <a:ext cx="113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Q/04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800600"/>
            <a:ext cx="1981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 indent="-57240">
              <a:lnSpc>
                <a:spcPct val="8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 WSSD/WS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038480"/>
            <a:ext cx="22860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240" indent="-57240">
              <a:lnSpc>
                <a:spcPct val="8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.1 WSSD/WS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4267080"/>
            <a:ext cx="12952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/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3200400"/>
            <a:ext cx="12952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6/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794280" y="5019480"/>
            <a:ext cx="184320" cy="47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rot="10800000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6843600" y="4660560"/>
            <a:ext cx="424080" cy="116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 vert="eaVer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Outl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WebSphere Studio Site &amp; Application Developer Releases – 2003/2004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2454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ighlights: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Validate Code for Best Practices – Code Review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05720" cy="40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Project/Workspace to find problems of various types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i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va Best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ational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EE Specific (includes Sab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tial Bu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e interactive reports with violations and metr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 explanations, examples, and quick fixes for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 users to create enable/disable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 users to create their own rules based on rule 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de Review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046240" y="1128600"/>
            <a:ext cx="48974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ighlights: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Component Test Automation Overview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734868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va class, EJB and Web Services (incl. .Net) components te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the JUnit frame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 testing guid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to test first based on static metr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ated test case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test patter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driven te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ated regression te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d with Code Co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management support through integration with ClearCase &amp; ClearQu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the OMG Testing Pro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 rot="19828200">
            <a:off x="2729880" y="5183640"/>
            <a:ext cx="979200" cy="368280"/>
          </a:xfrm>
          <a:prstGeom prst="rect">
            <a:avLst/>
          </a:prstGeom>
          <a:noFill/>
          <a:ln w="38160">
            <a:solidFill>
              <a:srgbClr val="7889f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Mo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02680" y="1917720"/>
            <a:ext cx="3289320" cy="449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228600"/>
                <a:tab algn="l" pos="57312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t-in tools helps developer isolate and fix performance problem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228600"/>
                <a:tab algn="l" pos="57312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sequence dia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17136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57312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callgrap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17136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57312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ne level Code Cove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17136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57312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vanced memory leak det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171360"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57312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defined probe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228600"/>
                <a:tab algn="l" pos="57312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iling tools can seamlessly trace across multiple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343400" y="990720"/>
            <a:ext cx="4648320" cy="5105160"/>
            <a:chOff x="4343400" y="990720"/>
            <a:chExt cx="4648320" cy="5105160"/>
          </a:xfrm>
        </p:grpSpPr>
        <p:sp>
          <p:nvSpPr>
            <p:cNvPr id="335" name=""/>
            <p:cNvSpPr/>
            <p:nvPr/>
          </p:nvSpPr>
          <p:spPr>
            <a:xfrm>
              <a:off x="4343400" y="990720"/>
              <a:ext cx="4648320" cy="5105160"/>
            </a:xfrm>
            <a:prstGeom prst="rect">
              <a:avLst/>
            </a:pr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6" name="" descr=""/>
            <p:cNvPicPr/>
            <p:nvPr/>
          </p:nvPicPr>
          <p:blipFill>
            <a:blip r:embed="rId1"/>
            <a:stretch/>
          </p:blipFill>
          <p:spPr>
            <a:xfrm>
              <a:off x="5410080" y="1143000"/>
              <a:ext cx="275292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495680" y="4654440"/>
              <a:ext cx="1828800" cy="1326960"/>
            </a:xfrm>
            <a:prstGeom prst="rect">
              <a:avLst/>
            </a:prstGeom>
            <a:solidFill>
              <a:srgbClr val="969696">
                <a:alpha val="3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rver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34320" y="4654440"/>
              <a:ext cx="1828800" cy="1326960"/>
            </a:xfrm>
            <a:prstGeom prst="rect">
              <a:avLst/>
            </a:prstGeom>
            <a:solidFill>
              <a:srgbClr val="969696">
                <a:alpha val="3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rver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48320" y="4952520"/>
              <a:ext cx="1447560" cy="47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gent Controll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86600" y="4952520"/>
              <a:ext cx="1447920" cy="47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gent Controll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5595840"/>
              <a:ext cx="1143000" cy="35496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ervle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38880" y="5578200"/>
              <a:ext cx="1143000" cy="35496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JB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57150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800600" y="3276720"/>
              <a:ext cx="13716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943600" y="3276720"/>
              <a:ext cx="7621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696080" y="3352320"/>
              <a:ext cx="5335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65600" y="3703680"/>
              <a:ext cx="833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ni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33920"/>
              <a:ext cx="981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race 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72400" y="3581280"/>
              <a:ext cx="981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race 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54080" y="622080"/>
            <a:ext cx="8989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ighlights: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Application Developer - Runtime Analysis with PurifyPlus Technology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ighlights: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Application Developer - Visually Browse and Edit 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88520" y="1207800"/>
            <a:ext cx="7939080" cy="53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UML ed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ML class diagrams for Java, EJB and C+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F1X, and IE editing for data ob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dit/refactor through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wse, Navigate and Query through dia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pic diagrams for automatic diagram cre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ML 2.0 interaction diagrams fo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sualizing method bo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vadoc integration for dia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6040" indent="-2160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d printing sup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bility and workflow improv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76440" indent="-228600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isted diagram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76440" indent="-228600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owse dia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76440" indent="-228600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-diagram edi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76440" indent="-228600">
              <a:lnSpc>
                <a:spcPct val="90000"/>
              </a:lnSpc>
              <a:spcBef>
                <a:spcPts val="4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gram Explor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overhead way of adopt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ML and visual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840200" y="3276720"/>
            <a:ext cx="430380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03120" y="1486080"/>
            <a:ext cx="4556160" cy="44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ll Dynamic View suppo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 system notificatio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d compare/merge suppo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grated with Eclipse compare/merge framewor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d Disconnected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nual Disconnec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kspace / view man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pport for workspace switching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tup &amp; Getting Sta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st practices and online help improv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865760" y="1517760"/>
            <a:ext cx="3755880" cy="1417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6907320" y="1874880"/>
            <a:ext cx="1352520" cy="5364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Highlights: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ClearCase SCM Adapter Enhancement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454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rocess Guidance - RUP Navigator – Context Sensitive 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47680" y="1085760"/>
            <a:ext cx="5857920" cy="42433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229280" y="2502000"/>
            <a:ext cx="45529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7880" y="2114640"/>
            <a:ext cx="7788240" cy="240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225440" y="1446120"/>
            <a:ext cx="6693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4680" y="1389240"/>
            <a:ext cx="8569440" cy="508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6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he IBM Software Development Platform</a:t>
            </a:r>
            <a:br>
              <a:rPr sz="2000"/>
            </a:b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A complete, open, modular, and proven solution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0" b="32806"/>
          <a:stretch/>
        </p:blipFill>
        <p:spPr>
          <a:xfrm>
            <a:off x="779400" y="1628640"/>
            <a:ext cx="1008000" cy="676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0" t="0" r="0" b="32806"/>
          <a:stretch/>
        </p:blipFill>
        <p:spPr>
          <a:xfrm>
            <a:off x="2338560" y="1628640"/>
            <a:ext cx="1008000" cy="676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0" t="0" r="0" b="32920"/>
          <a:stretch/>
        </p:blipFill>
        <p:spPr>
          <a:xfrm>
            <a:off x="3859200" y="1628640"/>
            <a:ext cx="1006560" cy="676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rcRect l="0" t="0" r="0" b="32806"/>
          <a:stretch/>
        </p:blipFill>
        <p:spPr>
          <a:xfrm>
            <a:off x="5427720" y="1628640"/>
            <a:ext cx="1008000" cy="676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2190600"/>
            <a:ext cx="105732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naly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3560" y="2190600"/>
            <a:ext cx="127944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rchit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2190600"/>
            <a:ext cx="143820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0040" y="2192400"/>
            <a:ext cx="150336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7840" y="2660760"/>
            <a:ext cx="1323720" cy="149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struct, transform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tegrat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nd generat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48160" y="2855880"/>
            <a:ext cx="1168560" cy="127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esign, create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nd execute te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9880" y="2584440"/>
            <a:ext cx="1420920" cy="16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odel, simula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ssemble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nd monitor business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3600" y="2954160"/>
            <a:ext cx="1346400" cy="84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pplications and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97040" y="5354640"/>
            <a:ext cx="70578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ccccff">
                    <a:alpha val="69000"/>
                  </a:srgbClr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TEAM  UNIFYING  PLATFORM</a:t>
            </a:r>
            <a:endParaRPr b="0" lang="en-US" sz="1400" spc="1" strike="noStrike">
              <a:ln w="0">
                <a:noFill/>
              </a:ln>
              <a:solidFill>
                <a:srgbClr val="ccccff">
                  <a:alpha val="69000"/>
                </a:srgbClr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2306520" y="4497480"/>
            <a:ext cx="2843280" cy="84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174600" indent="-174600">
              <a:lnSpc>
                <a:spcPct val="8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ollow a commo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ack project st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anage requir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6960" y="4497480"/>
            <a:ext cx="2843280" cy="87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174600" indent="-174600">
              <a:lnSpc>
                <a:spcPct val="75000"/>
              </a:lnSpc>
              <a:spcBef>
                <a:spcPts val="56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anage chang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nd as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56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anage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rcRect l="0" t="0" r="0" b="32920"/>
          <a:stretch/>
        </p:blipFill>
        <p:spPr>
          <a:xfrm>
            <a:off x="785880" y="4229280"/>
            <a:ext cx="1008000" cy="676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93640" y="4853160"/>
            <a:ext cx="133344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Projec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7"/>
          <a:srcRect l="0" t="0" r="0" b="37284"/>
          <a:stretch/>
        </p:blipFill>
        <p:spPr>
          <a:xfrm>
            <a:off x="7029360" y="1590840"/>
            <a:ext cx="1067040" cy="711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92840" y="2759040"/>
            <a:ext cx="1401840" cy="127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8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ovision, configure, tune and troubleshoot 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2192400"/>
            <a:ext cx="169056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minist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0240" y="2494080"/>
            <a:ext cx="7954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 Slid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o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457200" y="990720"/>
          <a:ext cx="8163000" cy="4414680"/>
        </p:xfrm>
        <a:graphic>
          <a:graphicData uri="http://schemas.openxmlformats.org/drawingml/2006/table">
            <a:tbl>
              <a:tblPr/>
              <a:tblGrid>
                <a:gridCol w="2071800"/>
                <a:gridCol w="609120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F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>
                      <a:noFill/>
                    </a:lnT>
                    <a:lnB w="5760">
                      <a:solidFill>
                        <a:srgbClr val="5f5f5f"/>
                      </a:solidFill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porate and web develop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Wh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</a:t>
                      </a:r>
                      <a:r>
                        <a:rPr b="0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uild dynamic Web applications, Web services and Java 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IBM Rational Web Develo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an easy-to-use, integrated development environment for visually constructing, testing and deploying 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Th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s Java development easier for developers new to Java and faster for every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Unli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rosoft Visual Studio.NET, BEA WebLogic Workshop and Macromedia DreamWeav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Our produ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s built on Eclipse – an open, industry-supported platform for development tools – so you can adapt and extend your development environment with best-of-breed plug-in tools from IBM, IBM Business Partners and the Eclipse community to match your needs and to maximize developer produ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0" y="0"/>
            <a:ext cx="9144000" cy="50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ational Web Developer positioning</a:t>
            </a:r>
            <a:br>
              <a:rPr sz="2400"/>
            </a:br>
            <a:r>
              <a:rPr b="0" i="1" lang="en-US" sz="1700" spc="-1" strike="noStrike">
                <a:solidFill>
                  <a:srgbClr val="ffcc66"/>
                </a:solidFill>
                <a:latin typeface="Arial"/>
              </a:rPr>
              <a:t>Formerly known as WebSphere Studio Site Develop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457200" y="941400"/>
          <a:ext cx="8163000" cy="4911840"/>
        </p:xfrm>
        <a:graphic>
          <a:graphicData uri="http://schemas.openxmlformats.org/drawingml/2006/table">
            <a:tbl>
              <a:tblPr/>
              <a:tblGrid>
                <a:gridCol w="2071800"/>
                <a:gridCol w="609120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F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>
                      <a:noFill/>
                    </a:lnT>
                    <a:lnB w="5760">
                      <a:solidFill>
                        <a:srgbClr val="5f5f5f"/>
                      </a:solidFill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, Java and J2EE developers and development tea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Wh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</a:t>
                      </a:r>
                      <a:r>
                        <a:rPr b="0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uild Web applications, Web services, Java applications, J2EE applications and Portal 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IBM Rational Application Develo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rehensive integrated development environment for visually designing, constructing, testing, profiling and deploying 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Th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s application design and performance, increases individual and team productivity and shortens the development and test cyc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Unli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rosoft Visual Studio.NET, BEA WebLogic Workshop and Borland JBuil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7889fb"/>
                          </a:solidFill>
                          <a:latin typeface="Arial"/>
                        </a:rPr>
                        <a:t>Our produ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14246"/>
                        </a:gs>
                        <a:gs pos="100000">
                          <a:srgbClr val="dadce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s built on Eclipse – an open, industry-supported platform for development tools – so you can adapt and extend your development environment with best-of-breed plug-in tools from IBM, IBM Business Partners and the Eclipse community to match your needs and to maximize developer productivit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>
                      <a:noFill/>
                    </a:lnR>
                    <a:lnT w="5760">
                      <a:solidFill>
                        <a:srgbClr val="5f5f5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0" y="0"/>
            <a:ext cx="9144000" cy="50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ational Application Developer positioning</a:t>
            </a:r>
            <a:br>
              <a:rPr sz="2000"/>
            </a:b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ffcc66"/>
                </a:solidFill>
                <a:latin typeface="Arial"/>
              </a:rPr>
              <a:t>Formerly known as WebSphere Studio Application Develop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7800" y="1114560"/>
            <a:ext cx="7988400" cy="532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27360" y="4597560"/>
            <a:ext cx="2244600" cy="86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176040" indent="-176040">
              <a:lnSpc>
                <a:spcPct val="100000"/>
              </a:lnSpc>
              <a:spcBef>
                <a:spcPts val="176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ational Unified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76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ational ClearC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76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ational ClearQu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5120" y="4597560"/>
            <a:ext cx="3402000" cy="86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176040" indent="-176040">
              <a:lnSpc>
                <a:spcPct val="100000"/>
              </a:lnSpc>
              <a:spcBef>
                <a:spcPts val="176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ational RequisitePr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76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ational Test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176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ational ProjectCons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0" b="26073"/>
          <a:stretch/>
        </p:blipFill>
        <p:spPr>
          <a:xfrm>
            <a:off x="6608880" y="1527120"/>
            <a:ext cx="1035000" cy="7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0" t="0" r="0" b="32806"/>
          <a:stretch/>
        </p:blipFill>
        <p:spPr>
          <a:xfrm>
            <a:off x="1550880" y="1577880"/>
            <a:ext cx="1008000" cy="676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rcRect l="0" t="0" r="0" b="32806"/>
          <a:stretch/>
        </p:blipFill>
        <p:spPr>
          <a:xfrm>
            <a:off x="2843280" y="1577880"/>
            <a:ext cx="1008000" cy="676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rcRect l="0" t="0" r="0" b="32920"/>
          <a:stretch/>
        </p:blipFill>
        <p:spPr>
          <a:xfrm>
            <a:off x="4065480" y="1577880"/>
            <a:ext cx="1006560" cy="676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rcRect l="0" t="0" r="0" b="32806"/>
          <a:stretch/>
        </p:blipFill>
        <p:spPr>
          <a:xfrm>
            <a:off x="5302080" y="1577880"/>
            <a:ext cx="1008360" cy="676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38200" y="2038320"/>
            <a:ext cx="105732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7040" y="2038320"/>
            <a:ext cx="127980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chit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94040" y="2038320"/>
            <a:ext cx="143820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41800" y="2038320"/>
            <a:ext cx="150336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61120" y="2050920"/>
            <a:ext cx="169056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minist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7"/>
          <a:srcRect l="0" t="0" r="0" b="41578"/>
          <a:stretch/>
        </p:blipFill>
        <p:spPr>
          <a:xfrm>
            <a:off x="1550880" y="4440240"/>
            <a:ext cx="1008000" cy="588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46120" y="3398760"/>
            <a:ext cx="10321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98720" y="4952880"/>
            <a:ext cx="179064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jec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1840" y="5580000"/>
            <a:ext cx="613404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ccccff">
                    <a:alpha val="69000"/>
                  </a:srgbClr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TEAM  UNIFYING  PLATFORM</a:t>
            </a:r>
            <a:endParaRPr b="0" lang="en-US" sz="1400" spc="1" strike="noStrike">
              <a:ln w="0">
                <a:noFill/>
              </a:ln>
              <a:solidFill>
                <a:srgbClr val="ccccff">
                  <a:alpha val="69000"/>
                </a:srgbClr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he IBM Software Development Platform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30800" y="4151160"/>
            <a:ext cx="11239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Rational Performance Te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6400" y="3522600"/>
            <a:ext cx="11080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Rational Rob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208560" y="2643120"/>
            <a:ext cx="1233360" cy="892080"/>
            <a:chOff x="6208560" y="2643120"/>
            <a:chExt cx="1233360" cy="892080"/>
          </a:xfrm>
        </p:grpSpPr>
        <p:sp>
          <p:nvSpPr>
            <p:cNvPr id="159" name=""/>
            <p:cNvSpPr/>
            <p:nvPr/>
          </p:nvSpPr>
          <p:spPr>
            <a:xfrm>
              <a:off x="6208560" y="2643120"/>
              <a:ext cx="123336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38800" y="2797200"/>
              <a:ext cx="1073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207040" y="3097080"/>
            <a:ext cx="1155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Rational Functional Te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82720" y="2627280"/>
            <a:ext cx="114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Rational</a:t>
            </a:r>
            <a:br>
              <a:rPr sz="1200"/>
            </a:b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Software Archi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84520" y="3992400"/>
            <a:ext cx="1171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Rational</a:t>
            </a:r>
            <a:br>
              <a:rPr sz="1200"/>
            </a:b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Software Mode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30480" y="4249800"/>
            <a:ext cx="1146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Rational PurifyP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6040" y="2940120"/>
            <a:ext cx="1109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Rational</a:t>
            </a:r>
            <a:br>
              <a:rPr sz="1200"/>
            </a:b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Web Develo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08520" y="3722760"/>
            <a:ext cx="1173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Rational Rose XDE Developer for Visual Stud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43440" y="2451240"/>
            <a:ext cx="113508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Rational Application Develo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6040" y="3325680"/>
            <a:ext cx="1109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WBI Foundatio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Toolk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57200" y="3397320"/>
            <a:ext cx="1168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Rational RequisiteP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08240" y="2624040"/>
            <a:ext cx="1296360" cy="1200240"/>
            <a:chOff x="1308240" y="2624040"/>
            <a:chExt cx="1296360" cy="1200240"/>
          </a:xfrm>
        </p:grpSpPr>
        <p:sp>
          <p:nvSpPr>
            <p:cNvPr id="171" name=""/>
            <p:cNvSpPr/>
            <p:nvPr/>
          </p:nvSpPr>
          <p:spPr>
            <a:xfrm>
              <a:off x="1327680" y="2624040"/>
              <a:ext cx="125928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08240" y="2851200"/>
              <a:ext cx="129636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398600" y="2451240"/>
            <a:ext cx="11383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WebSphere Business Integrator Modeler &amp; Moni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4840" y="4051440"/>
            <a:ext cx="1154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Rational</a:t>
            </a:r>
            <a:br>
              <a:rPr sz="1200"/>
            </a:b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Software Mode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27560" y="2451240"/>
            <a:ext cx="11289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Rational</a:t>
            </a:r>
            <a:br>
              <a:rPr sz="1200"/>
            </a:b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Performance Analy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96200" y="2451240"/>
            <a:ext cx="115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 Narrow"/>
              </a:rPr>
              <a:t>Tivoli</a:t>
            </a:r>
            <a:br>
              <a:rPr sz="1200"/>
            </a:br>
            <a:r>
              <a:rPr b="1" lang="it-IT" sz="1200" spc="-1" strike="noStrike">
                <a:solidFill>
                  <a:srgbClr val="ffffff"/>
                </a:solidFill>
                <a:latin typeface="Arial Narrow"/>
              </a:rPr>
              <a:t>Monito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05560" y="3114720"/>
            <a:ext cx="11509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 Narrow"/>
              </a:rPr>
              <a:t>Tivoli 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96200" y="4048200"/>
            <a:ext cx="11509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 Narrow"/>
              </a:rPr>
              <a:t>Tivoli Configuration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08800" y="3645000"/>
            <a:ext cx="11509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 Narrow"/>
              </a:rPr>
              <a:t>Tivoli Orchestr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520" y="6097680"/>
            <a:ext cx="797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 Rational Performance Analyst is intended for both Developers and Tes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37280" y="3774960"/>
            <a:ext cx="112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 Narrow"/>
              </a:rPr>
              <a:t>Rational Manual Te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95560" y="2295360"/>
            <a:ext cx="1229040" cy="1000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4840" y="9795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cc"/>
                </a:solidFill>
                <a:latin typeface="Arial"/>
              </a:rPr>
              <a:t>4Q 2004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12760" y="1623960"/>
            <a:ext cx="8798040" cy="4646520"/>
            <a:chOff x="212760" y="1623960"/>
            <a:chExt cx="8798040" cy="4646520"/>
          </a:xfrm>
        </p:grpSpPr>
        <p:sp>
          <p:nvSpPr>
            <p:cNvPr id="185" name=""/>
            <p:cNvSpPr/>
            <p:nvPr/>
          </p:nvSpPr>
          <p:spPr>
            <a:xfrm>
              <a:off x="212760" y="1623960"/>
              <a:ext cx="7192800" cy="113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1785" dir="2700000" blurRad="0" rotWithShape="0">
                <a:srgbClr val="99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 marL="111240" indent="-111240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en-US" sz="1800" spc="-1" strike="noStrike">
                  <a:solidFill>
                    <a:srgbClr val="7889fb"/>
                  </a:solidFill>
                  <a:latin typeface="Arial"/>
                </a:rPr>
                <a:t>Broaden Appe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buClr>
                  <a:srgbClr val="ffffff"/>
                </a:buClr>
                <a:buFont typeface="Arial"/>
                <a:buChar char="•"/>
                <a:tabLst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ser assistance model that assists the user in developing the appropriate skills and experti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buClr>
                  <a:srgbClr val="ffffff"/>
                </a:buClr>
                <a:buFont typeface="Arial"/>
                <a:buChar char="•"/>
                <a:tabLst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creased coverage and focus on needs of practitioner roles (business analyst,  architect, developer, te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buClr>
                  <a:srgbClr val="ffffff"/>
                </a:buClr>
                <a:buFont typeface="Arial"/>
                <a:buChar char="•"/>
                <a:tabLst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I simplification to hide unneeded tools – based on user roles and activit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8320" y="2890800"/>
              <a:ext cx="6672240" cy="1033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1785" dir="2700000" blurRad="0" rotWithShape="0">
                <a:srgbClr val="99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 marL="111240" indent="-111240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en-US" sz="1800" spc="-1" strike="noStrike">
                  <a:solidFill>
                    <a:srgbClr val="7889fb"/>
                  </a:solidFill>
                  <a:latin typeface="Arial"/>
                </a:rPr>
                <a:t>Raise Productiv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buClr>
                  <a:srgbClr val="ffffff"/>
                </a:buClr>
                <a:buFont typeface="Arial"/>
                <a:buChar char="•"/>
                <a:tabLst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implify model-driven workflows and run-time programming mod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buClr>
                  <a:srgbClr val="ffffff"/>
                </a:buClr>
                <a:buFont typeface="Arial"/>
                <a:buChar char="•"/>
                <a:tabLst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grated process guidance and tool assist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buClr>
                  <a:srgbClr val="ffffff"/>
                </a:buClr>
                <a:buFont typeface="Arial"/>
                <a:buChar char="•"/>
                <a:tabLst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pid deployment (WebSphere and Portal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97120" y="4025880"/>
              <a:ext cx="6672240" cy="1033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1785" dir="2700000" blurRad="0" rotWithShape="0">
                <a:srgbClr val="99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 marL="111240" indent="-111240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en-US" sz="1800" spc="-1" strike="noStrike">
                  <a:solidFill>
                    <a:srgbClr val="7889fb"/>
                  </a:solidFill>
                  <a:latin typeface="Arial"/>
                </a:rPr>
                <a:t>Extend Integr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buClr>
                  <a:srgbClr val="ffffff"/>
                </a:buClr>
                <a:buFont typeface="Arial"/>
                <a:buChar char="•"/>
                <a:tabLst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epen integrations with change management and configuration management solu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buClr>
                  <a:srgbClr val="ffffff"/>
                </a:buClr>
                <a:buFont typeface="Arial"/>
                <a:buChar char="•"/>
                <a:tabLst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tensibility framework to support customization and extensibility by customers and partn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buClr>
                  <a:srgbClr val="ffffff"/>
                </a:buClr>
                <a:buFont typeface="Arial"/>
                <a:buChar char="•"/>
                <a:tabLst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raceability from requirements thru analysis, design and implement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38560" y="5237280"/>
              <a:ext cx="6672240" cy="103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1785" dir="2700000" blurRad="0" rotWithShape="0">
                <a:srgbClr val="99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 marL="111240" indent="-111240">
                <a:spcBef>
                  <a:spcPts val="1125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en-US" sz="1800" spc="-1" strike="noStrike">
                  <a:solidFill>
                    <a:srgbClr val="7889fb"/>
                  </a:solidFill>
                  <a:latin typeface="Arial"/>
                </a:rPr>
                <a:t>Maintain Standards Concurrenc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mpliance with the latest standards and platform technolog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indent="-111240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ML, RAS, J2EE, Web Services, JSP, JSF, SDO, XM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004 – 2005 Strategic Themes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BM Rational “Atlantic” Desktop Release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9160" y="1179000"/>
            <a:ext cx="7939080" cy="53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jor new release of Design &amp; Construction tools and Quality tool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common Eclipse 3 platform, deeply integr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on ease of use enhancements, including e-Sup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P integ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Sphere Studio Site Developer and WebSphere Studio Application Developer re-brand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nal Web Developer (simplified web application and service constructi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nal Application Developer (= RWD + enterprise app development, test, debu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w Modeling products based on UML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nal Software Modeler (UML 2 modeling, patterns, report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nal Software Architect (= RSM + RAD + transforms + application analy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w Testing products based on Eclipse Hyades frame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nal Functional Tester (automated testing for J2, .NET and We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nal Performance Tester (load test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nal Manual Tester (manual test creation, execution and managem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nal Performance Analyst (pre and post-production performance analy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-21384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also multiple testing capabilities for developers and architects  in the appropriate tool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13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876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tional Professional Bundle = bundle of all desktop 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2880" y="2371680"/>
            <a:ext cx="8224920" cy="789120"/>
          </a:xfrm>
          <a:prstGeom prst="rect">
            <a:avLst/>
          </a:prstGeom>
          <a:noFill/>
          <a:ln w="38160">
            <a:solidFill>
              <a:srgbClr val="7889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588000" y="955800"/>
            <a:ext cx="2203200" cy="560160"/>
            <a:chOff x="6588000" y="955800"/>
            <a:chExt cx="2203200" cy="560160"/>
          </a:xfrm>
        </p:grpSpPr>
        <p:sp>
          <p:nvSpPr>
            <p:cNvPr id="194" name=""/>
            <p:cNvSpPr/>
            <p:nvPr/>
          </p:nvSpPr>
          <p:spPr>
            <a:xfrm>
              <a:off x="6588000" y="955800"/>
              <a:ext cx="2203200" cy="560160"/>
            </a:xfrm>
            <a:prstGeom prst="wedgeRectCallout">
              <a:avLst>
                <a:gd name="adj1" fmla="val -97837"/>
                <a:gd name="adj2" fmla="val 198157"/>
              </a:avLst>
            </a:prstGeom>
            <a:solidFill>
              <a:srgbClr val="7889fb">
                <a:alpha val="6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86280" y="1085760"/>
              <a:ext cx="1971720" cy="365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Focus of this present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631960" y="1973160"/>
            <a:ext cx="3306960" cy="4267440"/>
          </a:xfrm>
          <a:prstGeom prst="cube">
            <a:avLst>
              <a:gd name="adj" fmla="val 3273"/>
            </a:avLst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BM Rational Web Develo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59040" y="465120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clipse Java Development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6440" y="41212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6440" y="362916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terprise Generation 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46440" y="314784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 Client UI constr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6440" y="265572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UI constr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61120" y="4452840"/>
            <a:ext cx="2719440" cy="177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309" y="5124"/>
                </a:moveTo>
                <a:lnTo>
                  <a:pt x="-605" y="1392"/>
                </a:lnTo>
              </a:path>
              <a:path w="21600" h="21600">
                <a:moveTo>
                  <a:pt x="-605" y="0"/>
                </a:moveTo>
                <a:lnTo>
                  <a:pt x="-605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clipse Java Development Too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2SE development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de completion, search, refacto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ble Team APIs to support CM integration (CVS, ClearCase, and many othe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g-in Development Environment for extensi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0280" y="4157640"/>
            <a:ext cx="1876320" cy="194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307" y="-2192"/>
                </a:moveTo>
                <a:lnTo>
                  <a:pt x="22477" y="1273"/>
                </a:lnTo>
              </a:path>
              <a:path w="21600" h="21600">
                <a:moveTo>
                  <a:pt x="22477" y="0"/>
                </a:moveTo>
                <a:lnTo>
                  <a:pt x="22477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GL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ified 4GL for Web Application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User Interface Programs Support (3270, Curs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sualAge Generator -&gt; EGL Migration Too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 Runtime Tar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2120" y="3429000"/>
            <a:ext cx="2479680" cy="55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569" y="38695"/>
                </a:moveTo>
                <a:lnTo>
                  <a:pt x="-664" y="4443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XML Too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ML and XSD tooling sup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65800" y="2170080"/>
            <a:ext cx="2479680" cy="56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09" y="47314"/>
                </a:moveTo>
                <a:lnTo>
                  <a:pt x="-664" y="4356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ich Client UI constructio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 Visual Editor for rich client com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s Swing, AWT, SWT wid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080" y="1873080"/>
            <a:ext cx="2000160" cy="13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257" y="17601"/>
                </a:moveTo>
                <a:lnTo>
                  <a:pt x="22423" y="1894"/>
                </a:lnTo>
              </a:path>
              <a:path w="21600" h="21600">
                <a:moveTo>
                  <a:pt x="22423" y="0"/>
                </a:moveTo>
                <a:lnTo>
                  <a:pt x="22423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Web UI constructio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sual site layout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g-and-drop web client construction supporting range of web client technolog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TML, JSP, Servl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ruts, JSF and S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5360" y="1022400"/>
            <a:ext cx="590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9900"/>
                </a:solidFill>
                <a:latin typeface="Arial"/>
              </a:rPr>
              <a:t>Follow on to WebSphere Studio Site Developer</a:t>
            </a:r>
            <a:br>
              <a:rPr sz="1400"/>
            </a:br>
            <a:r>
              <a:rPr b="0" i="1" lang="en-US" sz="1400" spc="-1" strike="noStrike">
                <a:solidFill>
                  <a:srgbClr val="ff9900"/>
                </a:solidFill>
                <a:latin typeface="Arial"/>
              </a:rPr>
              <a:t>New Rapid Application Development capabilities focused on ease of us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BM Rational Web Developer Overview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44920" y="1090440"/>
            <a:ext cx="3306600" cy="5272200"/>
          </a:xfrm>
          <a:prstGeom prst="cube">
            <a:avLst>
              <a:gd name="adj" fmla="val 3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BM Rational Application Develo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4640" y="571500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learCase 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59040" y="524016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P Configuration for J2E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59040" y="475452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ational Web Develop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54800" y="4560840"/>
            <a:ext cx="2479680" cy="153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98" y="-960"/>
                </a:moveTo>
                <a:lnTo>
                  <a:pt x="-664" y="1607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UML Visual Editors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ass diagrams for Java/EJB structu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quence diagrams for method body visualiz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DEF1X/IE diagrams for Database and XML sche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topic diagram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avadoc integ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sual refacto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1080" y="3298680"/>
            <a:ext cx="2166840" cy="283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429" y="2142"/>
                </a:moveTo>
                <a:lnTo>
                  <a:pt x="22360" y="871"/>
                </a:lnTo>
              </a:path>
              <a:path w="21600" h="21600">
                <a:moveTo>
                  <a:pt x="22360" y="0"/>
                </a:moveTo>
                <a:lnTo>
                  <a:pt x="22360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de Analysis Tools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oth static source code analysis and dynamic runtime analy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 code analysis for rule violation detection: Java/EJB coding practices, internationalization, accessibility, architectural constraints, API deprec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quence diagram runtime trace with performance, thread and code coverage annot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vanced memory leak detec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ote data collection across multiple serv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-defined run-time prob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ractive reports and metric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0560" y="3654360"/>
            <a:ext cx="2479680" cy="55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707" y="15120"/>
                </a:moveTo>
                <a:lnTo>
                  <a:pt x="-664" y="4443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Web Services Tools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SDL visual edito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DDI Registry brows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37160" y="2693880"/>
            <a:ext cx="2479680" cy="56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92" y="12827"/>
                </a:moveTo>
                <a:lnTo>
                  <a:pt x="-664" y="4356"/>
                </a:lnTo>
              </a:path>
              <a:path w="21600" h="21600">
                <a:moveTo>
                  <a:pt x="-664" y="0"/>
                </a:moveTo>
                <a:lnTo>
                  <a:pt x="-664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Portal/Portlet Design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sual Portal site and page layout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sual Portlet layout and previe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ted Portal test environ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3680" y="1492200"/>
            <a:ext cx="1797120" cy="13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339" y="17601"/>
                </a:moveTo>
                <a:lnTo>
                  <a:pt x="22516" y="1894"/>
                </a:lnTo>
              </a:path>
              <a:path w="21600" h="21600">
                <a:moveTo>
                  <a:pt x="22516" y="0"/>
                </a:moveTo>
                <a:lnTo>
                  <a:pt x="22516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J2EE/EJB Tooling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2EE construction too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pports WebSphere and WebLogi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pports J2EE 1.3 and 1.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apid Deployment for WAS v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ted WAS test environme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55800" y="4262400"/>
            <a:ext cx="2909880" cy="60660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ML Visual Edito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63720" y="376884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Services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59040" y="32734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de Analysis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59040" y="278136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/Portlet Design T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59040" y="230040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2EE/EJB Too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59040" y="1808280"/>
            <a:ext cx="2909880" cy="606240"/>
          </a:xfrm>
          <a:prstGeom prst="cube">
            <a:avLst>
              <a:gd name="adj" fmla="val 28273"/>
            </a:avLst>
          </a:prstGeom>
          <a:gradFill rotWithShape="0">
            <a:gsLst>
              <a:gs pos="0">
                <a:srgbClr val="7889fb"/>
              </a:gs>
              <a:gs pos="100000">
                <a:srgbClr val="373f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onent/Unit Te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02240" y="1060560"/>
            <a:ext cx="2741760" cy="122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29" y="19001"/>
                </a:moveTo>
                <a:lnTo>
                  <a:pt x="-600" y="2012"/>
                </a:lnTo>
              </a:path>
              <a:path w="21600" h="21600">
                <a:moveTo>
                  <a:pt x="-600" y="0"/>
                </a:moveTo>
                <a:lnTo>
                  <a:pt x="-600" y="21600"/>
                </a:ln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Component/Unit Test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Unit-based testing of Java, EJB and Web Servi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est prioritization recommendation based on code analy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utomated test case generation through usage of test patter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pool editor for data-driven tes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9440" indent="-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080" y="622080"/>
            <a:ext cx="89899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BM Rational Application Developer Overview: Follow on to WSAD</a:t>
            </a:r>
            <a:br>
              <a:rPr sz="2000"/>
            </a:b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359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876"/>
              </a:spcBef>
              <a:spcAft>
                <a:spcPts val="264"/>
              </a:spcAft>
              <a:buClr>
                <a:srgbClr val="33cccc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arning Guide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an int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es the value and benef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s the tools available with suggestions for using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to other education sources for prerequisite skill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33cccc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utorial Gallery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sy way to access all tutorial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33cccc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mple Gallery 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Clr>
                <a:srgbClr val="33cccc"/>
              </a:buClr>
              <a:buFont typeface="Webdings" charset="2"/>
              <a:buChar char="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sy one-stop shopping for samples and their docum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110000"/>
              </a:lnSpc>
              <a:spcBef>
                <a:spcPts val="451"/>
              </a:spcBef>
              <a:spcAft>
                <a:spcPts val="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s and purpose identifi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110000"/>
              </a:lnSpc>
              <a:spcBef>
                <a:spcPts val="451"/>
              </a:spcBef>
              <a:spcAft>
                <a:spcPts val="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up requirements reduced or elimi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65120">
              <a:lnSpc>
                <a:spcPct val="110000"/>
              </a:lnSpc>
              <a:spcBef>
                <a:spcPts val="451"/>
              </a:spcBef>
              <a:spcAft>
                <a:spcPts val="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lick – make this a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6512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228600"/>
                <a:tab algn="l" pos="74304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724280" y="1295280"/>
          <a:ext cx="41911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295280"/>
                    <a:ext cx="41911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819520" y="4572000"/>
            <a:ext cx="1874880" cy="1874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751400" y="5638680"/>
            <a:ext cx="947160" cy="365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o v5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94280" y="914400"/>
            <a:ext cx="1073880" cy="365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v6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362320"/>
            <a:ext cx="1131840" cy="1757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66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udio Categori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17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howcase Samp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17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mple Applica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17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echnology Samp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17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17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b categories too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54080" y="622440"/>
            <a:ext cx="89899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roaden Appeal – Focusing on Ease of Learning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56:00Z</dcterms:created>
  <dc:creator>Dave Locke</dc:creator>
  <dc:description/>
  <dc:language>en-US</dc:language>
  <cp:lastModifiedBy>IBM USER</cp:lastModifiedBy>
  <dcterms:modified xsi:type="dcterms:W3CDTF">2004-08-12T19:34:15Z</dcterms:modified>
  <cp:revision>116</cp:revision>
  <dc:subject/>
  <dc:title>Atlantic &amp; SR3 Enablement Strawman DT SSR &amp; DT TSS  19 March 2004</dc:title>
</cp:coreProperties>
</file>