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a3a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0232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a3a1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buClr>
                <a:srgbClr val="00a3a1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a3a1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buClr>
                <a:srgbClr val="00a3a1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6040" y="90360"/>
            <a:ext cx="34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Rational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6480000"/>
            <a:ext cx="9145440" cy="30492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8518680" y="6502320"/>
            <a:ext cx="717120" cy="447120"/>
            <a:chOff x="8518680" y="6502320"/>
            <a:chExt cx="717120" cy="447120"/>
          </a:xfrm>
        </p:grpSpPr>
        <p:pic>
          <p:nvPicPr>
            <p:cNvPr id="9" name="" descr=""/>
            <p:cNvPicPr/>
            <p:nvPr/>
          </p:nvPicPr>
          <p:blipFill>
            <a:blip r:embed="rId4"/>
            <a:srcRect l="0" t="0" r="6463" b="0"/>
            <a:stretch/>
          </p:blipFill>
          <p:spPr>
            <a:xfrm>
              <a:off x="8518680" y="6502320"/>
              <a:ext cx="60048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9052560" y="6672600"/>
              <a:ext cx="183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®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6525000" y="6486480"/>
            <a:ext cx="198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BM Confid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40" y="4789440"/>
            <a:ext cx="914112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908000" y="4157640"/>
            <a:ext cx="1581480" cy="291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32960" y="6486480"/>
            <a:ext cx="198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BM Confid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31960" y="1973160"/>
            <a:ext cx="3306960" cy="4267440"/>
          </a:xfrm>
          <a:prstGeom prst="cube">
            <a:avLst>
              <a:gd name="adj" fmla="val 3273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Web Develo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5281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Web Developer Overview</a:t>
            </a:r>
            <a:br>
              <a:rPr sz="2000"/>
            </a:b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Follow on to WSSD</a:t>
            </a:r>
            <a:br>
              <a:rPr sz="1800"/>
            </a:b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New RAD development capabilities focused on ease of use</a:t>
            </a:r>
            <a:br>
              <a:rPr sz="2400"/>
            </a:b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59040" y="465120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clipse Java Development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6440" y="41212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6440" y="362916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prise Generation 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6440" y="314784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 Client UI constr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6440" y="265572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UI constr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61120" y="4452840"/>
            <a:ext cx="2719440" cy="177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09" y="5124"/>
                </a:moveTo>
                <a:lnTo>
                  <a:pt x="-605" y="1392"/>
                </a:lnTo>
              </a:path>
              <a:path w="21600" h="21600">
                <a:moveTo>
                  <a:pt x="-605" y="0"/>
                </a:moveTo>
                <a:lnTo>
                  <a:pt x="-60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clipse Java Development Too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2SE development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e completion, search, refacto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ble Team APIs to support CM integration (CVS, ClearCase, and many othe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-in Development Environment for exte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280" y="4157640"/>
            <a:ext cx="1876320" cy="194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307" y="-2192"/>
                </a:moveTo>
                <a:lnTo>
                  <a:pt x="22477" y="1273"/>
                </a:lnTo>
              </a:path>
              <a:path w="21600" h="21600">
                <a:moveTo>
                  <a:pt x="22477" y="0"/>
                </a:moveTo>
                <a:lnTo>
                  <a:pt x="22477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GL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ified 4GL for Web Application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User Interface Programs Support (3270, Curs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sualAge Generator -&gt; EGL Migration Too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 Runtime 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42120" y="3429000"/>
            <a:ext cx="2479680" cy="55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69" y="38695"/>
                </a:moveTo>
                <a:lnTo>
                  <a:pt x="-664" y="4443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XML Too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ML and XSD tooling sup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65800" y="2170080"/>
            <a:ext cx="2479680" cy="56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09" y="47314"/>
                </a:moveTo>
                <a:lnTo>
                  <a:pt x="-664" y="4356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ich Client UI constructio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 Visual Editor for rich client com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s Swing, AWT, SWT wid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1080" y="1873080"/>
            <a:ext cx="2000160" cy="13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257" y="17601"/>
                </a:moveTo>
                <a:lnTo>
                  <a:pt x="22423" y="1894"/>
                </a:lnTo>
              </a:path>
              <a:path w="21600" h="21600">
                <a:moveTo>
                  <a:pt x="22423" y="0"/>
                </a:moveTo>
                <a:lnTo>
                  <a:pt x="22423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eb UI constructio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sual site layout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g-and-drop web client construction supporting range of web client technolog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TML, JSP, Servl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ruts, JSF and S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44920" y="1090440"/>
            <a:ext cx="3306600" cy="527220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Application Develo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4640" y="571500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arCase 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59040" y="524016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P Configuration for J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529920"/>
            <a:ext cx="899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Application Developer Overview: </a:t>
            </a: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Follow on to WSAD</a:t>
            </a:r>
            <a:br>
              <a:rPr sz="2400"/>
            </a:b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59040" y="475452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ational Web Develop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54800" y="4560840"/>
            <a:ext cx="2479680" cy="153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98" y="-960"/>
                </a:moveTo>
                <a:lnTo>
                  <a:pt x="-664" y="1607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UML Visual Editor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ass diagrams for Java/EJB stru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quence diagrams for method body visualiz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DEF1X/IE diagrams for Database and XML sche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topic diagr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avadoc integ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 refacto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1080" y="3298680"/>
            <a:ext cx="2166840" cy="283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429" y="2142"/>
                </a:moveTo>
                <a:lnTo>
                  <a:pt x="22360" y="871"/>
                </a:lnTo>
              </a:path>
              <a:path w="21600" h="21600">
                <a:moveTo>
                  <a:pt x="22360" y="0"/>
                </a:moveTo>
                <a:lnTo>
                  <a:pt x="22360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de Analysis Tool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oth static source code analysis and dynamic runtime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 code analysis for rule violation detection: Java/EJB coding practices, internationalization, accessibility, architectural constraints, API depre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quence diagram runtime trace with performance, thread and code coverage anno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vanced memory leak detec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ote data collection across multiple serv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-defined run-time prob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ractive reports and metric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0560" y="3654360"/>
            <a:ext cx="2479680" cy="55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07" y="15120"/>
                </a:moveTo>
                <a:lnTo>
                  <a:pt x="-664" y="4443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Web Services Tool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SDL visual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DDI Registry brows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37160" y="2693880"/>
            <a:ext cx="2479680" cy="5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92" y="12827"/>
                </a:moveTo>
                <a:lnTo>
                  <a:pt x="-664" y="4356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ortal/Portlet Design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 Portal site and page layout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 Portlet layout and previe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ted Portal test environ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3680" y="1492200"/>
            <a:ext cx="1797120" cy="13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9" y="17601"/>
                </a:moveTo>
                <a:lnTo>
                  <a:pt x="22516" y="1894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J2EE/EJB Tooling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2EE construction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ports WebSphere and WebLogi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pid Deployment for W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ted WAS test environ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5800" y="426240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ML Visual Edi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63720" y="37688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Services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59040" y="32734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de Analysis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9040" y="278136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/Portlet Design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59040" y="230040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2EE/EJB Too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59040" y="18082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onent/Unit 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02240" y="1060560"/>
            <a:ext cx="2741760" cy="122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9" y="19001"/>
                </a:moveTo>
                <a:lnTo>
                  <a:pt x="-600" y="2012"/>
                </a:lnTo>
              </a:path>
              <a:path w="21600" h="21600">
                <a:moveTo>
                  <a:pt x="-600" y="0"/>
                </a:moveTo>
                <a:lnTo>
                  <a:pt x="-600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mponent/Unit Test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Unit-based testing of Java, EJB and Web 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st prioritization recommendation based on code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omated test case generation through usage of test patter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pool editor for data-driven tes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44920" y="1415880"/>
            <a:ext cx="3306600" cy="398304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Software Mode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4640" y="45356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learCase 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59040" y="405756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ML 2.0 Model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2680" y="512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Software Modeler Product Overview:</a:t>
            </a:r>
            <a:br>
              <a:rPr sz="2000"/>
            </a:b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Entry product modeling subset of IBM Rational Software Architect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59040" y="356868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port Gen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59040" y="308124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tern/Transformation Auth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59040" y="25988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usable Asset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4408560"/>
            <a:ext cx="2143080" cy="184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056" y="-854"/>
                </a:moveTo>
                <a:lnTo>
                  <a:pt x="-768" y="1336"/>
                </a:lnTo>
              </a:path>
              <a:path w="21600" h="21600">
                <a:moveTo>
                  <a:pt x="-768" y="0"/>
                </a:moveTo>
                <a:lnTo>
                  <a:pt x="-768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UML 2.0 Modeling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ML 2.0 Diagrams for Class, Communication, Component, Composite Structure, Deployment, Activity, Sequence, State, and Use Ca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ML Profile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CL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omatic diagram gene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tensive open AP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ava-based “scripting” for extensibility leveraging the Eclipse JD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3753000"/>
            <a:ext cx="1911240" cy="105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184" y="2895"/>
                </a:moveTo>
                <a:lnTo>
                  <a:pt x="22461" y="2342"/>
                </a:lnTo>
              </a:path>
              <a:path w="21600" h="21600">
                <a:moveTo>
                  <a:pt x="22461" y="0"/>
                </a:moveTo>
                <a:lnTo>
                  <a:pt x="22461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Report Gene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ML and XML based data extraction and repor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tensive prin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ceability reporting and custom quer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2982960"/>
            <a:ext cx="2479680" cy="12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87" y="5547"/>
                </a:moveTo>
                <a:lnTo>
                  <a:pt x="-664" y="2017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attern/Transform Authoring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mple UML-to-code transforms for EJB, Java, and C++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lective language to UML harves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ttern cont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ttern/Transform authoring framework and 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680" y="2023920"/>
            <a:ext cx="1895400" cy="13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071" y="15996"/>
                </a:moveTo>
                <a:lnTo>
                  <a:pt x="22468" y="1894"/>
                </a:lnTo>
              </a:path>
              <a:path w="21600" h="21600">
                <a:moveTo>
                  <a:pt x="22468" y="0"/>
                </a:moveTo>
                <a:lnTo>
                  <a:pt x="22468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Reusable Asset Brows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owse and import assets from a reposi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ckage model and development artifacts into a RAS bund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59040" y="21034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fecycle Integ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64320" y="1521000"/>
            <a:ext cx="2479680" cy="12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095" y="16641"/>
                </a:moveTo>
                <a:lnTo>
                  <a:pt x="-664" y="2017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Lifecycle Integration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ag-and-drop association of RequisitePro requirements with model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rface to CM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 compare/mer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cument generation with So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64000" y="1600200"/>
            <a:ext cx="3306600" cy="424980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Software Archit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3720" y="51832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arCase 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8120" y="470844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P Configuration for SW Archit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080" y="5414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Software Architect Product Overview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8120" y="422280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pplication Develop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8120" y="37306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/C++ Development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8120" y="323856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oftware Model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8120" y="275760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ML Language Trans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8120" y="22654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va Application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21320" y="4041720"/>
            <a:ext cx="2479680" cy="67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49" y="50"/>
                </a:moveTo>
                <a:lnTo>
                  <a:pt x="-664" y="3634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/C++ Development Tool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/C++ editors and build manage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piler and debugger integ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ML code edito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00880" y="2003400"/>
            <a:ext cx="2479680" cy="98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45" y="22577"/>
                </a:moveTo>
                <a:lnTo>
                  <a:pt x="-664" y="2512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UML Language Transform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mple UML-to-code transforms for EJB, Java, and C++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lective language to UML harves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ttern/Transform authoring framework and 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3680" y="2533680"/>
            <a:ext cx="1797120" cy="156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9" y="286"/>
                </a:moveTo>
                <a:lnTo>
                  <a:pt x="22516" y="1582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Application Analysi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chitectural discovery and analysis with stability metric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omated anti-pattern and pattern detec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plementation level architectural rules and quick fix repai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201080" y="965160"/>
            <a:ext cx="1638000" cy="77472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4000" y="1400040"/>
            <a:ext cx="3306600" cy="482148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Manual Te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22400" y="5516640"/>
            <a:ext cx="291024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arCase 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22400" y="4941720"/>
            <a:ext cx="291024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ability-driven featu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22400" y="4367160"/>
            <a:ext cx="291024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/Ex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080" y="5414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Manual Tester Overview</a:t>
            </a:r>
            <a:br>
              <a:rPr sz="2000"/>
            </a:b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New!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2400" y="3790800"/>
            <a:ext cx="291024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intrusion execution pa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22400" y="3216240"/>
            <a:ext cx="291024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izable input and test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22400" y="2641680"/>
            <a:ext cx="291024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 script libr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2065320"/>
            <a:ext cx="291024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ual Test Ed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840" y="3222720"/>
            <a:ext cx="1797120" cy="7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645" y="8856"/>
                </a:moveTo>
                <a:lnTo>
                  <a:pt x="22516" y="3374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ustomiz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stom fields for both assisted data entry and test results stor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00880" y="3200400"/>
            <a:ext cx="2365200" cy="94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7" y="19422"/>
                </a:moveTo>
                <a:lnTo>
                  <a:pt x="-696" y="2614"/>
                </a:lnTo>
              </a:path>
              <a:path w="21600" h="21600">
                <a:moveTo>
                  <a:pt x="-696" y="0"/>
                </a:moveTo>
                <a:lnTo>
                  <a:pt x="-69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Non-intrus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obtrusive test execution window to free desktop real esta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n be used to run tests stored both locally and remot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720" y="4340160"/>
            <a:ext cx="1797120" cy="84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034" y="9280"/>
                </a:moveTo>
                <a:lnTo>
                  <a:pt x="22516" y="2918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Import/Ex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ports manual test source files in csv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ports test results to csv forma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00880" y="4610160"/>
            <a:ext cx="2365200" cy="11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75" y="10934"/>
                </a:moveTo>
                <a:lnTo>
                  <a:pt x="-696" y="2145"/>
                </a:lnTo>
              </a:path>
              <a:path w="21600" h="21600">
                <a:moveTo>
                  <a:pt x="-696" y="0"/>
                </a:moveTo>
                <a:lnTo>
                  <a:pt x="-69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Us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vides low barrier of entry for business analysts (who test) and testers alik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ports drag&amp;drop, copy/paste and other ease-of-use enhancem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uilt for Day One productiv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88120" y="965160"/>
            <a:ext cx="171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ual test generation and exec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6120" y="5370480"/>
            <a:ext cx="1797120" cy="24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400" y="40173"/>
                </a:moveTo>
                <a:lnTo>
                  <a:pt x="22516" y="9906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learCaseLT in the 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787400"/>
            <a:ext cx="1720800" cy="100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795" y="14161"/>
                </a:moveTo>
                <a:lnTo>
                  <a:pt x="22556" y="2457"/>
                </a:lnTo>
              </a:path>
              <a:path w="21600" h="21600">
                <a:moveTo>
                  <a:pt x="22556" y="0"/>
                </a:moveTo>
                <a:lnTo>
                  <a:pt x="2255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ext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xt editor for manual test cre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rmits creation of both test steps and verification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00880" y="1828800"/>
            <a:ext cx="2479680" cy="81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141" y="28143"/>
                </a:moveTo>
                <a:lnTo>
                  <a:pt x="-664" y="3020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ibrary for common test procedu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st procedure reuse supports content linkage (e.g. modifying one instance modifies all instance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760" y="5773680"/>
            <a:ext cx="644400" cy="665280"/>
          </a:xfrm>
          <a:prstGeom prst="star5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yades inside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210440" y="927000"/>
            <a:ext cx="1638360" cy="77472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4000" y="1600200"/>
            <a:ext cx="3306600" cy="480852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Functional Te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14760" y="38624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ux-based test autho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51120" y="571644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arCase 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4080" y="5414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Functional Tester Overview</a:t>
            </a:r>
            <a:br>
              <a:rPr sz="2000"/>
            </a:b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New and improved!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03680" y="516240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nual Te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6280" y="455616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clipse Java Development Tool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39960" y="330372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zard and table-bas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-driven tes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79640" y="213516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s Java, .NET, Web an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minal emulator-based ap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1480" y="27352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ava and VB.NET-bas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 scrip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00880" y="2003400"/>
            <a:ext cx="2403360" cy="127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03" y="17404"/>
                </a:moveTo>
                <a:lnTo>
                  <a:pt x="-685" y="1937"/>
                </a:lnTo>
              </a:path>
              <a:path w="21600" h="21600">
                <a:moveTo>
                  <a:pt x="-685" y="0"/>
                </a:moveTo>
                <a:lnTo>
                  <a:pt x="-68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est Script Langu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 has choice of two test script languages – Java and VB.N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oice of Java implies usage of Eclipse/RAD/RSA-based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oice of VB.NET implies usage of VS.NET-based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dentical capabilities in both edito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1492200"/>
            <a:ext cx="1797120" cy="103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9" y="22129"/>
                </a:moveTo>
                <a:lnTo>
                  <a:pt x="22516" y="2382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GUI Technolog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omates regression testing of Java, .NET, Web and terminal emulator-based applic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" y="3092400"/>
            <a:ext cx="1797120" cy="79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797" y="14012"/>
                </a:moveTo>
                <a:lnTo>
                  <a:pt x="22516" y="3104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Ease-of-u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mplified data-driven testing enabled by wizards and Excel-like data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3480" y="3527280"/>
            <a:ext cx="2403360" cy="83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0" y="16682"/>
                </a:moveTo>
                <a:lnTo>
                  <a:pt x="-685" y="2951"/>
                </a:lnTo>
              </a:path>
              <a:path w="21600" h="21600">
                <a:moveTo>
                  <a:pt x="-685" y="0"/>
                </a:moveTo>
                <a:lnTo>
                  <a:pt x="-68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Improved Linux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s can author and modify test scripts on Linux (no recorder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st execution on Windows and Linu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3040" y="4552920"/>
            <a:ext cx="1797120" cy="79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813" y="9528"/>
                </a:moveTo>
                <a:lnTo>
                  <a:pt x="22516" y="3104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Eclipse avail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en using Java scripting, full Eclipse JDT features are accessi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26080" y="4632480"/>
            <a:ext cx="2403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75" y="28026"/>
                </a:moveTo>
                <a:lnTo>
                  <a:pt x="-685" y="4284"/>
                </a:lnTo>
              </a:path>
              <a:path w="21600" h="21600">
                <a:moveTo>
                  <a:pt x="-685" y="0"/>
                </a:moveTo>
                <a:lnTo>
                  <a:pt x="-68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Manual Tester in the box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ustomers receive one Manual Tester license per Functional Tester licen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1640" y="5610240"/>
            <a:ext cx="2403360" cy="3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517" y="27133"/>
                </a:moveTo>
                <a:lnTo>
                  <a:pt x="-685" y="7661"/>
                </a:lnTo>
              </a:path>
              <a:path w="21600" h="21600">
                <a:moveTo>
                  <a:pt x="-685" y="0"/>
                </a:moveTo>
                <a:lnTo>
                  <a:pt x="-68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learCaseLT in the 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88120" y="965160"/>
            <a:ext cx="171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utomated functional regression tes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64000" y="1600200"/>
            <a:ext cx="3306600" cy="480852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rformance Te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14760" y="38624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aphical test scheduler an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profil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51120" y="571644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arCase 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080" y="5414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Performance Tester Overview</a:t>
            </a:r>
            <a:br>
              <a:rPr sz="2000"/>
            </a:b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New!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03680" y="51404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clipse Java Development Tool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39960" y="330372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scalability hyper-thread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ion architectu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8120" y="275760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eamlined test script displa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8120" y="22654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/S load tes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00880" y="2003400"/>
            <a:ext cx="2479680" cy="98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45" y="22577"/>
                </a:moveTo>
                <a:lnTo>
                  <a:pt x="-664" y="2512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est model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st viewer hides underlying complexity of Java-based test scrip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kes test script comprehension and modification simple for novice performance te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3680" y="1492200"/>
            <a:ext cx="1714320" cy="124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800" y="18361"/>
                </a:moveTo>
                <a:lnTo>
                  <a:pt x="22560" y="1976"/>
                </a:lnTo>
              </a:path>
              <a:path w="21600" h="21600">
                <a:moveTo>
                  <a:pt x="22560" y="0"/>
                </a:moveTo>
                <a:lnTo>
                  <a:pt x="22560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Load Tes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w load test recorder and execution eng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ports HTTP/S; additional protocol support (e.g. ERP) planned for late 2004 / early 200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65520" y="447192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dows, UNIX, Linux, zSerie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ad generation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3360" y="3092400"/>
            <a:ext cx="1860480" cy="102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861" y="12759"/>
                </a:moveTo>
                <a:lnTo>
                  <a:pt x="22485" y="2411"/>
                </a:lnTo>
              </a:path>
              <a:path w="21600" h="21600">
                <a:moveTo>
                  <a:pt x="22485" y="0"/>
                </a:moveTo>
                <a:lnTo>
                  <a:pt x="2248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High scal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igh scalability, low footprint due to hyper-threaded archite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gnificant improvement over Robot technolog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5320" y="3616200"/>
            <a:ext cx="2479680" cy="62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66" y="19194"/>
                </a:moveTo>
                <a:lnTo>
                  <a:pt x="-664" y="3937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Test schedul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aphical user profiling and transaction model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760" y="4489560"/>
            <a:ext cx="1860480" cy="85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714" y="7865"/>
                </a:moveTo>
                <a:lnTo>
                  <a:pt x="22485" y="2875"/>
                </a:lnTo>
              </a:path>
              <a:path w="21600" h="21600">
                <a:moveTo>
                  <a:pt x="22485" y="0"/>
                </a:moveTo>
                <a:lnTo>
                  <a:pt x="2248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latform Sup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iple platform support for load gene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zSeries agent permits super-scalabil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99360" y="4683240"/>
            <a:ext cx="2479680" cy="44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28" y="30454"/>
                </a:moveTo>
                <a:lnTo>
                  <a:pt x="-664" y="5495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Eclipse-bas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ns inside Eclipse/RSA/RAD sh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62720" y="5483160"/>
            <a:ext cx="2479680" cy="2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02" y="36847"/>
                </a:moveTo>
                <a:lnTo>
                  <a:pt x="-664" y="8317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learCaseLT in the 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10440" y="1108080"/>
            <a:ext cx="1638360" cy="566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88120" y="1146240"/>
            <a:ext cx="17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ad and performance tes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760" y="5773680"/>
            <a:ext cx="644400" cy="665280"/>
          </a:xfrm>
          <a:prstGeom prst="star5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yades inside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664000" y="1704960"/>
            <a:ext cx="3306600" cy="424656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rformance Analy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14760" y="396720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 developer and tester UI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eir 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080" y="5414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Performance Analyst Overview</a:t>
            </a:r>
            <a:br>
              <a:rPr sz="2000"/>
            </a:br>
            <a:r>
              <a:rPr b="0" i="1" lang="en-US" sz="1800" spc="-1" strike="noStrike">
                <a:solidFill>
                  <a:srgbClr val="7889fb"/>
                </a:solidFill>
                <a:latin typeface="Arial"/>
              </a:rPr>
              <a:t>New!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03680" y="524520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clipse Java Development Tool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39960" y="34084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ynamic data correl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8120" y="286236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 profiling an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8120" y="23702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de, transaction and log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15000" y="2108160"/>
            <a:ext cx="2365560" cy="1338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582" y="16578"/>
                </a:moveTo>
                <a:lnTo>
                  <a:pt x="-696" y="1845"/>
                </a:lnTo>
              </a:path>
              <a:path w="21600" h="21600">
                <a:moveTo>
                  <a:pt x="-696" y="0"/>
                </a:moveTo>
                <a:lnTo>
                  <a:pt x="-69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Multi-tier Performance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mplifies detection, analysis and understanding of performance problems in pre- and post-deployment environm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n be used in production environment or during load tests in the test la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3680" y="1882800"/>
            <a:ext cx="1784520" cy="107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016" y="16750"/>
                </a:moveTo>
                <a:lnTo>
                  <a:pt x="22522" y="2297"/>
                </a:lnTo>
              </a:path>
              <a:path w="21600" h="21600">
                <a:moveTo>
                  <a:pt x="22522" y="0"/>
                </a:moveTo>
                <a:lnTo>
                  <a:pt x="22522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Multi-perspective tr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bines runtime analysis, transaction profiling and application log analysis for developers and test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65520" y="457668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bines Rational, Tivoli, Candle &amp;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onomic Computing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2600" y="3209760"/>
            <a:ext cx="1736640" cy="12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025" y="9770"/>
                </a:moveTo>
                <a:lnTo>
                  <a:pt x="22548" y="1927"/>
                </a:lnTo>
              </a:path>
              <a:path w="21600" h="21600">
                <a:moveTo>
                  <a:pt x="22548" y="0"/>
                </a:moveTo>
                <a:lnTo>
                  <a:pt x="22548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Data correl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ynchronizes visualization of transaction data with code-level and log-level detai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rmits transaction rollback/rollforwar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10240" y="3755880"/>
            <a:ext cx="2479680" cy="89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62" y="12622"/>
                </a:moveTo>
                <a:lnTo>
                  <a:pt x="-664" y="2762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ustomized U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 presentation is customized for the user and displayed in their workspace – RSA/RAD for the developer, Performance Tester for the tes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720" y="4670280"/>
            <a:ext cx="1784520" cy="77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325" y="6636"/>
                </a:moveTo>
                <a:lnTo>
                  <a:pt x="22522" y="3207"/>
                </a:lnTo>
              </a:path>
              <a:path w="21600" h="21600">
                <a:moveTo>
                  <a:pt x="22522" y="0"/>
                </a:moveTo>
                <a:lnTo>
                  <a:pt x="22522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ross-brand Specialis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esents multiple cross-brand selling/upselling opportunit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43560" y="5011560"/>
            <a:ext cx="171000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165" y="22422"/>
                </a:moveTo>
                <a:lnTo>
                  <a:pt x="-963" y="5381"/>
                </a:lnTo>
              </a:path>
              <a:path w="21600" h="21600">
                <a:moveTo>
                  <a:pt x="-963" y="0"/>
                </a:moveTo>
                <a:lnTo>
                  <a:pt x="-963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Eclipse-based U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osted in Eclipse she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10440" y="1089000"/>
            <a:ext cx="1638360" cy="77472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88120" y="1212840"/>
            <a:ext cx="17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- and post-production performance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760" y="5773680"/>
            <a:ext cx="644400" cy="665280"/>
          </a:xfrm>
          <a:prstGeom prst="star5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yades inside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56:00Z</dcterms:created>
  <dc:creator>Dave Locke</dc:creator>
  <dc:description/>
  <dc:language>en-US</dc:language>
  <cp:lastModifiedBy>IBM USER</cp:lastModifiedBy>
  <dcterms:modified xsi:type="dcterms:W3CDTF">2004-08-12T19:33:56Z</dcterms:modified>
  <cp:revision>100</cp:revision>
  <dc:subject/>
  <dc:title>Atlantic &amp; SR3 Enablement Strawman DT SSR &amp; DT TSS  19 March 2004</dc:title>
</cp:coreProperties>
</file>