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916C1-B3C4-448C-906C-6C65D4C3F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beyond capability offered in current JCA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9850-810F-4D56-BC28-9A6231F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E491-397D-461F-ACAF-BC17CEEE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7CAA-3EDE-4942-AA2F-BF206152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201E-CD60-4CB3-847D-7FBA0685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923B-B758-4C65-9E2F-B22BBBE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8F1E-8FC9-4F2B-9617-0A1867C6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48C2-90CE-42AA-AC58-B1A91766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F09D-AD31-49B6-B870-E589201F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D3FF-7405-4F66-9C37-7D091419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4C14-CB80-400D-ABD6-0082C04A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0DA9-4C41-4652-9BA3-B49229F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CC40-15F4-4C82-9811-0EBCE053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9A68-FDBB-44D1-85B9-FB04E21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35CA-9773-437A-B6EE-68797141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C13C-C405-4623-A6EB-6D1FC16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06A-2E04-4160-B6FB-DC8C76B3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4240-452D-46C1-820F-D38B75A0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3978-5CCC-40A4-90CE-91B81112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E237-E434-4ECA-B3C9-48BE8C3E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E98B-555E-4CAF-BCD7-6AEC2457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8A96-0E0E-4580-92D9-4039B00D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A6B5-82C7-47A3-814B-77D8125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7DD7-5721-44EE-90FA-911BC1F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E44F-8714-4DBA-885D-F73A3EFE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747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70640"/>
            <a:ext cx="9144000" cy="3747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7160">
              <a:spcBef>
                <a:spcPts val="751"/>
              </a:spcBef>
              <a:spcAft>
                <a:spcPts val="451"/>
              </a:spcAft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2560" indent="-223920">
              <a:spcBef>
                <a:spcPts val="751"/>
              </a:spcBef>
              <a:spcAft>
                <a:spcPts val="451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12960" indent="-228600">
              <a:spcBef>
                <a:spcPts val="751"/>
              </a:spcBef>
              <a:spcAft>
                <a:spcPts val="451"/>
              </a:spcAft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228600">
              <a:spcBef>
                <a:spcPts val="751"/>
              </a:spcBef>
              <a:spcAft>
                <a:spcPts val="451"/>
              </a:spcAft>
              <a:buClr>
                <a:srgbClr val="d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228600"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228600"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762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27010" r="0" b="52403"/>
          <a:stretch/>
        </p:blipFill>
        <p:spPr>
          <a:xfrm>
            <a:off x="1440" y="1440"/>
            <a:ext cx="9144000" cy="376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5400" y="5256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ebSphere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043C-0F36-40D0-B821-DAF58C3CA313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AS 5.02 e-ST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6CEF-A48B-4D1F-85B1-6EA06FAE9B68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479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59520"/>
            <a:ext cx="9144000" cy="16920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9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5168880"/>
            <a:ext cx="9144000" cy="1695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ftr" idx="4"/>
          </p:nvPr>
        </p:nvSpPr>
        <p:spPr>
          <a:xfrm>
            <a:off x="2023920" y="6221520"/>
            <a:ext cx="2897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WAS 5.02 e-STEW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5"/>
          </p:nvPr>
        </p:nvSpPr>
        <p:spPr>
          <a:xfrm>
            <a:off x="5391000" y="6221520"/>
            <a:ext cx="17719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3005-A604-417E-A2AE-F4BBE04CC900}" type="datetime"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3747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0640"/>
            <a:ext cx="9144000" cy="3747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7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27010" r="0" b="52403"/>
          <a:stretch/>
        </p:blipFill>
        <p:spPr>
          <a:xfrm>
            <a:off x="1440" y="1440"/>
            <a:ext cx="9144000" cy="376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5400" y="5256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ebSphere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3"/>
          <p:cNvSpPr>
            <a:spLocks noGrp="1"/>
          </p:cNvSpPr>
          <p:nvPr>
            <p:ph type="sldNum" idx="6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BACA-D207-43B2-9D8C-320ECA6FB90B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7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AS 5.02 e-ST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dt" idx="8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98A4-3D61-4213-9D86-E493A10671E5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159520"/>
            <a:ext cx="9144000" cy="16920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95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5168880"/>
            <a:ext cx="9144000" cy="16956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ftr" idx="9"/>
          </p:nvPr>
        </p:nvSpPr>
        <p:spPr>
          <a:xfrm>
            <a:off x="2023920" y="6221520"/>
            <a:ext cx="2897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WAS 5.02 e-STE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391000" y="6221520"/>
            <a:ext cx="17719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9D8A-231A-4B2E-8EAA-7A523E894042}" type="datetime"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9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phere Enterprise 5.0.2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949400" y="4106880"/>
            <a:ext cx="64008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24F17E1C-C1FF-4592-8A60-6C18901B45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Mixed Node Cell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876920" y="2057400"/>
          <a:ext cx="426708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057400"/>
                    <a:ext cx="42670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0" y="1447920"/>
            <a:ext cx="48769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WAS 5.0 all nodes in a cell must be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nterprise or base no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S-E 5.0.2 allows the coexistence of Base and Enterprise nodes in a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ixed Node Cell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implified management of mixed no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cremental and non-intrus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08E0-FD12-4447-9F83-CA5758366D4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1AD76E21-18E7-48E3-9D40-6645F1000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WebSphere Business Integration Adapters (WB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Mixed Node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c Workloa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Mirrored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Process Choreography Web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A6E4-D652-48D1-B0A4-A7AB06C5C68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787667E0-FF30-4907-B293-7276884D96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ynamic Workload Managemen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5.0 introduced static we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-E 5.0.2 adds dynamic workloa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ing by Edge (Content Based Rou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ors added for WebSphere workload management - </a:t>
            </a:r>
            <a:r>
              <a:rPr b="1" lang="en-US" sz="2400" spc="-1" strike="noStrike">
                <a:solidFill>
                  <a:srgbClr val="2db6b3"/>
                </a:solidFill>
                <a:latin typeface="Arial"/>
              </a:rPr>
              <a:t>WLMAdvi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or driven b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U utilization predominantly but takes into account EJB and Web request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A6C0-9B35-466D-B96A-08982A720A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9098ECEA-2558-4F5F-88AA-07BEA762D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WebSphere Business Integration Adapters (WB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Mixed Node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Dynamic Workloa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rored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Process Choreography Web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9662-DA2C-4477-B89F-1049E4F066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B4A12270-76C9-4028-A8EE-04B966C29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Mirrored (Backup) Cluster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rored Cluster’ is a backup cluster that mirrors the primary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649"/>
              </a:spcBef>
              <a:spcAft>
                <a:spcPts val="3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JB requests on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rored clusters enable failover of an EJB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649"/>
              </a:spcBef>
              <a:spcAft>
                <a:spcPts val="3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lover from primary cluster to backup cluster when all cluster members of the primary cluster are non-operatio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649"/>
              </a:spcBef>
              <a:spcAft>
                <a:spcPts val="3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lover is transparent and automa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649"/>
              </a:spcBef>
              <a:spcAft>
                <a:spcPts val="3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ent requests can be serviced if primary cluster is not operatio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to mirrored clusters, at least one member o the cluster had to be operational for EJB requests to be servi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7586-AC5D-43F7-B425-B489F6218D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4623BD89-A539-452A-B461-F7C4E30B8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Mirrored Cluster Consideratio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rvers (deployment manager, node agent, application servers) for both the primary cluster and the backup cluster must be at WAS-E 5.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cluster and backup cluster must be in  separate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uster must have a unique name within a ce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cluster can have only one backup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 Clients need to be in separate process to EJ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442A-5D17-4CE1-8ADB-AAA1B31997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425D7E07-BB24-42BF-86FF-5BBA1D99C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Mirrored Cluster Architecture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8080" y="1752480"/>
            <a:ext cx="22003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mary Clust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5800" y="2362320"/>
            <a:ext cx="2514600" cy="2743200"/>
            <a:chOff x="685800" y="2362320"/>
            <a:chExt cx="2514600" cy="2743200"/>
          </a:xfrm>
        </p:grpSpPr>
        <p:sp>
          <p:nvSpPr>
            <p:cNvPr id="247" name=""/>
            <p:cNvSpPr/>
            <p:nvPr/>
          </p:nvSpPr>
          <p:spPr>
            <a:xfrm>
              <a:off x="685800" y="2362320"/>
              <a:ext cx="2514600" cy="27432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2514600"/>
              <a:ext cx="2210040" cy="685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uster Member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352680"/>
              <a:ext cx="2210040" cy="685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uster Member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4191120"/>
              <a:ext cx="2210040" cy="685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uster Member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6095880" y="1752480"/>
            <a:ext cx="22003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up Clust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43600" y="2362320"/>
            <a:ext cx="2514600" cy="2819160"/>
            <a:chOff x="5943600" y="2362320"/>
            <a:chExt cx="2514600" cy="2819160"/>
          </a:xfrm>
        </p:grpSpPr>
        <p:sp>
          <p:nvSpPr>
            <p:cNvPr id="253" name=""/>
            <p:cNvSpPr/>
            <p:nvPr/>
          </p:nvSpPr>
          <p:spPr>
            <a:xfrm>
              <a:off x="5943600" y="2362320"/>
              <a:ext cx="2514600" cy="28191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590920"/>
              <a:ext cx="2210040" cy="685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uster Member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5880" y="3429000"/>
              <a:ext cx="2210040" cy="685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uster Member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4267080"/>
              <a:ext cx="2210040" cy="685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luster Member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9880" y="4800600"/>
            <a:ext cx="1067040" cy="60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4952880"/>
            <a:ext cx="1066680" cy="609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5105520"/>
            <a:ext cx="1066680" cy="609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14800" y="5867280"/>
            <a:ext cx="885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048120" y="2895480"/>
            <a:ext cx="8380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048120" y="388620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048120" y="4572000"/>
            <a:ext cx="7617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724280" y="2971800"/>
            <a:ext cx="1371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876920" y="3733560"/>
            <a:ext cx="121896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6920" y="4495320"/>
            <a:ext cx="12189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F1BD-CD8A-4994-80CA-9B7D7E9178F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F13882E9-F229-4261-A674-C2D9A8392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WebSphere Business Integration Adapters (WB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Mixed Node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Dynamic Workloa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Mirrored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Choreography Web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BBF8-5908-4D4D-B864-8A258D4EBF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CD7A16A2-48B3-406A-AA19-05E09B5BF3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Process Choreography Web Client Enhancement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nsation re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instance mon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able Vi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custom process instance list (e.g. process instances in 'stopped' st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custom process template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custom work item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Query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3CC-2292-467C-84F9-4AF634BEE8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B898EBC7-5C6B-4E44-857D-B89422D8C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mproved Process Choreographer Web Client - 1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14400" y="1447920"/>
          <a:ext cx="7772400" cy="47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77240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46DD-06BC-4313-AEE1-D161965B034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BB97DC5F-A03E-43B9-A64A-52431E050C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phere Business Integration Adapters (WB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ed Node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c Workloa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rored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Choreography Web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7296-6325-4A1F-94BC-1C9EF73F59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833C2DCA-DA6F-4364-8715-0B5D3D6D5A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mproved Process Choreographer Web Client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90720" y="1503360"/>
          <a:ext cx="769608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03360"/>
                    <a:ext cx="769608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401A-29B3-487C-9602-2FA11A1F390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CBC1E6E7-07C5-4054-B399-84B005DF63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-E 5.0.2 continues the Enterprise theme of  solving 'large-scale' software development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-E 5.0.2 establishes WebSphere Enterprise as an integration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-2178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a sophisticated integr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-E 5.0.2 delivers extended qualities-of-service in workload management and fai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ed Node Cells allow for incremental and flexible cell top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9842-CA14-469C-8609-FD0524AACD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A2159A1E-6183-456C-AB2C-81F6E466F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BRBeans Rule Management Application Enhancement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BRBeans configuration vali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 business rules are configured with the correct Java RuleImplementors and/or correct depend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/eliminate configuration errors from surfacing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management for dependent r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 "Edit" facility for depend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update rule references to rules being renamed, moved or co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20880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rule references when a rule is deleted for review by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5E2-C9A6-4C5E-911C-504E6091DE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9E133766-080E-4C86-8535-F2F3F9737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WebSphere Enterprise 5.0.2 Them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Integration Capabili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Qualities-of-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ments to existing cap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99B-CBF5-44A5-B870-FB831CA17F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E18109B9-9B4E-416B-A126-48D3DA7AE3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WebSphere Enterprise 5.0.2 At a Glance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52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Integration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6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WebSphere Business Integration Adapters (W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Qualities-of-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6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ed Clusters, Dynamic Workloa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6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od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ments to existing cap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6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horeography Web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2066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Beans Rule Manage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F431-C5BB-4147-A6B8-68E8491FA2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7C6A20A5-D3DA-430A-924D-9CC77DBB8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phere Business Integration Adapters (WB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Mixed Node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Dynamic Workloa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Mirrored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Process Choreography Web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1556-949B-49E0-A935-5697D14DCC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84704671-264E-446C-A20C-3153F0C1A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WebSphere Business Integration Adapters Overview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ers sit between the integration server (i.e., WAS-E) and the Enterprise Information System (E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IA have been architected to be stand-al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1096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un with the WebSphere Interchange Server,  WMQI and WAS-E 5.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1096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adapter sold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+ WebSphere Business Integration Adapters for WebSphere Application Server available on June 30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1096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, SAP, MetaSolv, Ariba, SW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0D70-DAEE-4857-8B38-B8DDA9E04B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84211CCA-5ECA-4B87-BAE8-BEFB97E31C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WBIA Value Propositi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WAS-E to support a more sophisticated integration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and efficient development of J2EE applications that exchange information with an E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-E provides a single administration model for WBIA and non-WBIA as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monitoring and management of the ad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ers are feature 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nchronous, event-detection, full API support, transactional, bi-directional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0B8E-B3FF-4A69-8A17-2F935305CA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31E8C6B2-2B78-4A84-AE9C-0E333DE83A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7280" y="583920"/>
            <a:ext cx="82454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WBIA with WebSphere Enterprise 5.0.2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0040" y="1937880"/>
            <a:ext cx="391464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05560" indent="-20556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54160"/>
                <a:tab algn="l" pos="825480"/>
                <a:tab algn="l" pos="1270080"/>
                <a:tab algn="l" pos="1778040"/>
                <a:tab algn="l" pos="228600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ers run as separat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54160"/>
                <a:tab algn="l" pos="825480"/>
                <a:tab algn="l" pos="1270080"/>
                <a:tab algn="l" pos="1778040"/>
                <a:tab algn="l" pos="228600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er operations exposed by WSAD-IE as Web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54160"/>
                <a:tab algn="l" pos="825480"/>
                <a:tab algn="l" pos="1270080"/>
                <a:tab algn="l" pos="1778040"/>
                <a:tab algn="l" pos="228600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Objects described as XML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54160"/>
                <a:tab algn="l" pos="825480"/>
                <a:tab algn="l" pos="1270080"/>
                <a:tab algn="l" pos="1778040"/>
                <a:tab algn="l" pos="228600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Driven Beans are used for event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54160"/>
                <a:tab algn="l" pos="825480"/>
                <a:tab algn="l" pos="1270080"/>
                <a:tab algn="l" pos="1778040"/>
                <a:tab algn="l" pos="228600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MS is the connectivity trans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54160"/>
                <a:tab algn="l" pos="825480"/>
                <a:tab algn="l" pos="1270080"/>
                <a:tab algn="l" pos="1778040"/>
                <a:tab algn="l" pos="228600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monitoring and management of the adap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92080" y="1760400"/>
            <a:ext cx="2637000" cy="195912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ebSphere Applic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rver Enterpri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08240" y="5541840"/>
            <a:ext cx="1873080" cy="6764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85800" y="3179880"/>
            <a:ext cx="1179720" cy="404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D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97160" y="2481120"/>
            <a:ext cx="1439640" cy="6112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low (option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394160"/>
            <a:ext cx="1525320" cy="4064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dapter Framewor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800600"/>
            <a:ext cx="1525320" cy="404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pecific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mpon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41640" y="5205240"/>
            <a:ext cx="207720" cy="336600"/>
          </a:xfrm>
          <a:prstGeom prst="upDownArrow">
            <a:avLst>
              <a:gd name="adj1" fmla="val 50000"/>
              <a:gd name="adj2" fmla="val 32259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1872720" y="3709800"/>
            <a:ext cx="674640" cy="693720"/>
          </a:xfrm>
          <a:prstGeom prst="flowChartPunchedTap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 anchorCtr="1" vert="eaVert" rot="10800000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JM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5E9-A8B5-4A34-8B61-1738F75D4C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34AACA48-292E-4255-8BE9-AF1685B6A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WebSphere Business Integration Adapters (WB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ed Node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Dynamic Workloa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Mirrored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Process Choreography Web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89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7908-FD33-4078-A755-D2012FA485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7FF1630E-145B-44CB-B07D-293557900F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9:18:13Z</dcterms:created>
  <dc:creator>Rick Weaver</dc:creator>
  <dc:description>Blue Onyx Deluxe, Blue Pearl Deluxe:  Generally for "customer-facing" presentations
-  Blue Pearl Deluxe is useful for one-on-one laptop presentations and for easy printing.  Textures on the opening screen carry through the blue bands on text slides.
-  Blue Onyx Deluxe relies heavily on black for maximum contrast, particularly in projection.
Blue Onyx Basic, Blue Pearl Basic:  Intended for basic internal presentations.  May also be used for customers.
-  Blue Onyx Basic uses black throughout for maximum contrast, particularly in projection.
-  Blue Pearl Basic works well for one-on-one laptop presentations and makes printing easy.
</dc:description>
  <dc:language>en-US</dc:language>
  <cp:lastModifiedBy>IBM USER</cp:lastModifiedBy>
  <dcterms:modified xsi:type="dcterms:W3CDTF">2003-09-04T20:47:21Z</dcterms:modified>
  <cp:revision>184</cp:revision>
  <dc:subject/>
  <dc:title>IBM Presentations: Blue Pearl DeLuxe template</dc:title>
</cp:coreProperties>
</file>