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7.png" ContentType="image/png"/>
  <Override PartName="/ppt/media/image1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31.wmf" ContentType="image/x-wmf"/>
  <Override PartName="/ppt/media/image13.jpeg" ContentType="image/jpeg"/>
  <Override PartName="/ppt/media/image23.png" ContentType="image/png"/>
  <Override PartName="/ppt/media/image32.wmf" ContentType="image/x-wmf"/>
  <Override PartName="/ppt/media/image33.wmf" ContentType="image/x-wmf"/>
  <Override PartName="/ppt/media/image6.png" ContentType="image/png"/>
  <Override PartName="/ppt/media/image34.wmf" ContentType="image/x-wmf"/>
  <Override PartName="/ppt/media/image10.jpeg" ContentType="image/jpeg"/>
  <Override PartName="/ppt/media/image1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0.wmf" ContentType="image/x-wmf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3C805-59E2-4842-846C-24FAEFD8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440" y="381456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BC168-D7FA-468D-BD92-10C40EDC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992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98F2A-BD26-4E1A-BE04-94426E2E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452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360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44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452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360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BF06D-44A6-436B-B1FA-52EE5B2A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CF4C-3AAA-4C51-AB50-2ABE5E1D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992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440" y="381456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992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452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360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44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452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360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5AA98-3D58-41BA-98CF-A4E80CE1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47C5A-D87E-4113-A3CD-E7D50B7A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8B2D2-21EF-4C65-82AD-BAD069FD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0B2C0-12B5-4E5A-BED6-1F94345E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DE619-2936-4481-83B3-833665AC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992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E32EC-7E02-4541-AB71-8DC30D00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8F23A-2D46-4219-B4CE-DC319D1E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747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70640"/>
            <a:ext cx="9144000" cy="3747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-228600">
              <a:spcBef>
                <a:spcPts val="7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-228600">
              <a:spcBef>
                <a:spcPts val="7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54041" r="0" b="23777"/>
          <a:stretch/>
        </p:blipFill>
        <p:spPr>
          <a:xfrm>
            <a:off x="0" y="6475320"/>
            <a:ext cx="9144000" cy="3762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27010" r="0" b="52403"/>
          <a:stretch/>
        </p:blipFill>
        <p:spPr>
          <a:xfrm>
            <a:off x="1440" y="1440"/>
            <a:ext cx="9144000" cy="376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3240" y="52560"/>
            <a:ext cx="28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W WebSphere Technical 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724360" y="6499080"/>
            <a:ext cx="330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154080" y="650052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316F-AAC9-4512-A8D6-9B3A75761095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447560" y="6500520"/>
            <a:ext cx="38113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dt" idx="3"/>
          </p:nvPr>
        </p:nvSpPr>
        <p:spPr>
          <a:xfrm>
            <a:off x="5455800" y="6500520"/>
            <a:ext cx="19465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1447920" y="647064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16923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159520"/>
            <a:ext cx="9144000" cy="16920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95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rcRect l="0" t="0" r="-8246" b="-32877"/>
          <a:stretch/>
        </p:blipFill>
        <p:spPr>
          <a:xfrm>
            <a:off x="7524720" y="687240"/>
            <a:ext cx="1162080" cy="532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 WebSphere Technical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0" y="5168880"/>
            <a:ext cx="9144000" cy="1695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ftr" idx="4"/>
          </p:nvPr>
        </p:nvSpPr>
        <p:spPr>
          <a:xfrm>
            <a:off x="2023920" y="6221520"/>
            <a:ext cx="289728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5"/>
          </p:nvPr>
        </p:nvSpPr>
        <p:spPr>
          <a:xfrm>
            <a:off x="5391000" y="6221520"/>
            <a:ext cx="17719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863720" y="4217760"/>
            <a:ext cx="0" cy="933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862280" y="1362240"/>
            <a:ext cx="0" cy="32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-227160" algn="ctr"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5760" algn="ctr">
              <a:spcBef>
                <a:spcPts val="499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687240" algn="ctr">
              <a:spcBef>
                <a:spcPts val="49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 algn="ctr"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27.png"/><Relationship Id="rId16" Type="http://schemas.openxmlformats.org/officeDocument/2006/relationships/image" Target="../media/image27.png"/><Relationship Id="rId17" Type="http://schemas.openxmlformats.org/officeDocument/2006/relationships/image" Target="../media/image27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2.wmf"/><Relationship Id="rId5" Type="http://schemas.openxmlformats.org/officeDocument/2006/relationships/image" Target="../media/image31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2.wmf"/><Relationship Id="rId5" Type="http://schemas.openxmlformats.org/officeDocument/2006/relationships/image" Target="../media/image31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0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19996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Application Design, Development, and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541680" y="4169880"/>
            <a:ext cx="23083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</a:t>
            </a:r>
            <a:r>
              <a:rPr b="0" lang="en-US" sz="2800" spc="-1" strike="noStrike">
                <a:solidFill>
                  <a:srgbClr val="2db6b3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99ff"/>
                </a:solidFill>
                <a:latin typeface="Arial Black"/>
              </a:rPr>
              <a:t>C</a:t>
            </a:r>
            <a:r>
              <a:rPr b="1" lang="en-US" sz="2800" spc="-1" strike="noStrike">
                <a:solidFill>
                  <a:srgbClr val="3399ff"/>
                </a:solidFill>
                <a:latin typeface="Arial Black"/>
              </a:rPr>
              <a:t>ycle</a:t>
            </a:r>
            <a:endParaRPr b="0" lang="en-US" sz="2800" spc="-1" strike="noStrike">
              <a:solidFill>
                <a:srgbClr val="2db6b3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835600" y="3154320"/>
            <a:ext cx="1727280" cy="1654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276960" y="3816360"/>
            <a:ext cx="104292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Web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ff"/>
                </a:solidFill>
                <a:latin typeface="Arial"/>
              </a:rPr>
              <a:t>R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79840" y="3637080"/>
            <a:ext cx="280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add the</a:t>
            </a:r>
            <a:r>
              <a:rPr b="0" lang="en-US" sz="2400" spc="-1" strike="noStrike">
                <a:solidFill>
                  <a:srgbClr val="2db6b3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cc3399"/>
                </a:solidFill>
                <a:latin typeface="Arial Black"/>
                <a:ea typeface="Arial"/>
              </a:rPr>
              <a:t>L</a:t>
            </a:r>
            <a:r>
              <a:rPr b="1" lang="en-US" sz="2800" spc="-1" strike="noStrike">
                <a:solidFill>
                  <a:srgbClr val="cc3399"/>
                </a:solidFill>
                <a:latin typeface="Arial Black"/>
                <a:ea typeface="Arial"/>
              </a:rPr>
              <a:t>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4080" y="7567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development is a team sport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4080" y="517680"/>
            <a:ext cx="898992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3040" y="1781280"/>
            <a:ext cx="8275680" cy="351468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100000">
                <a:srgbClr val="dfe3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55600" y="1219320"/>
            <a:ext cx="1544760" cy="1544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7243920" y="3193920"/>
            <a:ext cx="1544400" cy="15447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267680" y="4678200"/>
            <a:ext cx="149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velo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3971880" y="4618080"/>
            <a:ext cx="1544760" cy="1544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81360" y="610380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ject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704880" y="3171960"/>
            <a:ext cx="1544760" cy="15462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042920" y="4646520"/>
            <a:ext cx="8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2173320" y="1859040"/>
            <a:ext cx="1668600" cy="1670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597120" y="2884320"/>
            <a:ext cx="235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siness Analysts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4051440" y="1447920"/>
            <a:ext cx="1544400" cy="15444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279520" y="3325680"/>
            <a:ext cx="141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on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7"/>
          <a:stretch/>
        </p:blipFill>
        <p:spPr>
          <a:xfrm>
            <a:off x="5759280" y="4064040"/>
            <a:ext cx="1544760" cy="1546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935680" y="5546880"/>
            <a:ext cx="119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stem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2165400" y="4226040"/>
            <a:ext cx="1668240" cy="16700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300400" y="5713560"/>
            <a:ext cx="13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leas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9"/>
          <a:stretch/>
        </p:blipFill>
        <p:spPr>
          <a:xfrm>
            <a:off x="5738760" y="1959120"/>
            <a:ext cx="1670040" cy="16700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978520" y="3473280"/>
            <a:ext cx="116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rchit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93720" y="1278000"/>
            <a:ext cx="233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IO, IT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958680" y="1558800"/>
            <a:ext cx="7251840" cy="4483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3f4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9840" y="5249880"/>
            <a:ext cx="181764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8de"/>
                </a:solidFill>
                <a:latin typeface="Arial"/>
                <a:ea typeface="Arial"/>
              </a:rPr>
              <a:t>Continuously Verify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627960" y="5249880"/>
            <a:ext cx="2133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8de"/>
                </a:solidFill>
                <a:latin typeface="Arial"/>
                <a:ea typeface="Arial"/>
              </a:rPr>
              <a:t>Model</a:t>
            </a:r>
            <a:br>
              <a:rPr sz="2000"/>
            </a:br>
            <a:r>
              <a:rPr b="1" lang="en-US" sz="2000" spc="-1" strike="noStrike">
                <a:solidFill>
                  <a:srgbClr val="5b58de"/>
                </a:solidFill>
                <a:latin typeface="Arial"/>
                <a:ea typeface="Arial"/>
              </a:rPr>
              <a:t>Vis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456000" y="585144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8de"/>
                </a:solidFill>
                <a:latin typeface="Arial"/>
                <a:ea typeface="Arial"/>
              </a:rPr>
              <a:t>Use Component Archite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00440" y="1258920"/>
            <a:ext cx="34495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8de"/>
                </a:solidFill>
                <a:latin typeface="Arial"/>
                <a:ea typeface="Arial"/>
              </a:rPr>
              <a:t>Develop Itera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51640" y="1625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8de"/>
                </a:solidFill>
                <a:latin typeface="Arial"/>
                <a:ea typeface="Arial"/>
              </a:rPr>
              <a:t>Manage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3680" y="1625760"/>
            <a:ext cx="1571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8de"/>
                </a:solidFill>
                <a:latin typeface="Arial"/>
                <a:ea typeface="Arial"/>
              </a:rPr>
              <a:t>Manag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00440" y="1812960"/>
            <a:ext cx="190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59480" y="236052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sset Analysis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use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29280" y="3767040"/>
            <a:ext cx="198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ava &amp; JavaScri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45080" y="4321080"/>
            <a:ext cx="240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ML and Web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59520" y="486576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b page and 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55960" y="5113440"/>
            <a:ext cx="148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rt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60720" y="486576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BOL, PL/1, R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25520" y="3940200"/>
            <a:ext cx="19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mino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76480" y="3551400"/>
            <a:ext cx="19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303200" y="3022560"/>
            <a:ext cx="19861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unctional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Stress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81200" y="2408400"/>
            <a:ext cx="1985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 Monitor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44800" y="1812960"/>
            <a:ext cx="198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 Monit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59600" y="3435480"/>
            <a:ext cx="19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isual Co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06520" y="4381560"/>
            <a:ext cx="19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, C++ 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73760" y="3019320"/>
            <a:ext cx="19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664080" y="2786040"/>
            <a:ext cx="1904760" cy="18241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065480" y="4511520"/>
            <a:ext cx="13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320" y="533520"/>
            <a:ext cx="876132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75120" y="2905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pl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214960" y="29289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4080" y="523800"/>
            <a:ext cx="8989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4080" y="6573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teams must collaborate throughout the cycle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50920" y="1125360"/>
            <a:ext cx="2592360" cy="4248360"/>
          </a:xfrm>
          <a:prstGeom prst="rect">
            <a:avLst/>
          </a:prstGeom>
          <a:gradFill rotWithShape="0">
            <a:gsLst>
              <a:gs pos="0">
                <a:srgbClr val="ff0000">
                  <a:alpha val="60392"/>
                </a:srgbClr>
              </a:gs>
              <a:gs pos="100000">
                <a:srgbClr val="b5130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72360" y="1125360"/>
            <a:ext cx="2592360" cy="4248360"/>
          </a:xfrm>
          <a:prstGeom prst="rect">
            <a:avLst/>
          </a:prstGeom>
          <a:gradFill rotWithShape="0">
            <a:gsLst>
              <a:gs pos="0">
                <a:srgbClr val="7889fb">
                  <a:alpha val="60392"/>
                </a:srgbClr>
              </a:gs>
              <a:gs pos="100000">
                <a:srgbClr val="373f7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59280" y="1125360"/>
            <a:ext cx="3168360" cy="4248360"/>
          </a:xfrm>
          <a:prstGeom prst="rect">
            <a:avLst/>
          </a:prstGeom>
          <a:gradFill rotWithShape="0">
            <a:gsLst>
              <a:gs pos="0">
                <a:srgbClr val="ffff00">
                  <a:alpha val="60392"/>
                </a:srgbClr>
              </a:gs>
              <a:gs pos="100000">
                <a:srgbClr val="7575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0920" y="5445000"/>
            <a:ext cx="8713800" cy="7207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d400d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080" y="5536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1840" y="2060640"/>
            <a:ext cx="2468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Capture Business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Use Case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Identify components for re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59280" y="2084400"/>
            <a:ext cx="302544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 Application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/OS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2EE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 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 Services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2ME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ecialized server development (e.g. Portal, Voice, Commerce, Domin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 Unit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24560" y="2060640"/>
            <a:ext cx="2468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 System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 Performance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. Deplo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 Manage and Mon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435400" y="5613480"/>
            <a:ext cx="154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"/>
          <p:cNvCxnSpPr/>
          <p:nvPr/>
        </p:nvCxnSpPr>
        <p:spPr>
          <a:xfrm flipH="1" flipV="1">
            <a:off x="250200" y="3357360"/>
            <a:ext cx="8661960" cy="111600"/>
          </a:xfrm>
          <a:prstGeom prst="bentConnector5">
            <a:avLst>
              <a:gd name="adj1" fmla="val -1741"/>
              <a:gd name="adj2" fmla="val -2597087"/>
              <a:gd name="adj3" fmla="val 101774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3586320" y="6188040"/>
            <a:ext cx="19713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velop Iterativ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00360" y="335772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12000" y="342900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172360" y="404640"/>
            <a:ext cx="719280" cy="6890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156360" y="5597640"/>
            <a:ext cx="9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ect Tra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26920" y="5300640"/>
            <a:ext cx="142920" cy="216000"/>
          </a:xfrm>
          <a:prstGeom prst="upDownArrow">
            <a:avLst>
              <a:gd name="adj1" fmla="val 50000"/>
              <a:gd name="adj2" fmla="val 30086"/>
            </a:avLst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781440" y="5300640"/>
            <a:ext cx="142920" cy="216000"/>
          </a:xfrm>
          <a:prstGeom prst="upDownArrow">
            <a:avLst>
              <a:gd name="adj1" fmla="val 50000"/>
              <a:gd name="adj2" fmla="val 30086"/>
            </a:avLst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877080" y="5300640"/>
            <a:ext cx="142920" cy="216000"/>
          </a:xfrm>
          <a:prstGeom prst="upDownArrow">
            <a:avLst>
              <a:gd name="adj1" fmla="val 50000"/>
              <a:gd name="adj2" fmla="val 30086"/>
            </a:avLst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172360" y="5300640"/>
            <a:ext cx="142920" cy="216000"/>
          </a:xfrm>
          <a:prstGeom prst="upDownArrow">
            <a:avLst>
              <a:gd name="adj1" fmla="val 50000"/>
              <a:gd name="adj2" fmla="val 30086"/>
            </a:avLst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21440" y="5300640"/>
            <a:ext cx="142560" cy="216000"/>
          </a:xfrm>
          <a:prstGeom prst="upDownArrow">
            <a:avLst>
              <a:gd name="adj1" fmla="val 50000"/>
              <a:gd name="adj2" fmla="val 30163"/>
            </a:avLst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81080" y="5300640"/>
            <a:ext cx="142920" cy="216000"/>
          </a:xfrm>
          <a:prstGeom prst="upDownArrow">
            <a:avLst>
              <a:gd name="adj1" fmla="val 50000"/>
              <a:gd name="adj2" fmla="val 30086"/>
            </a:avLst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4000" y="5581800"/>
            <a:ext cx="145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am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26240" y="5591160"/>
            <a:ext cx="151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4080" y="5493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s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0920" y="1125360"/>
            <a:ext cx="2592360" cy="4248360"/>
          </a:xfrm>
          <a:prstGeom prst="rect">
            <a:avLst/>
          </a:prstGeom>
          <a:gradFill rotWithShape="0">
            <a:gsLst>
              <a:gs pos="0">
                <a:srgbClr val="ff0000">
                  <a:alpha val="60392"/>
                </a:srgbClr>
              </a:gs>
              <a:gs pos="100000">
                <a:srgbClr val="b5130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372360" y="1125360"/>
            <a:ext cx="2592360" cy="4248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59280" y="1125360"/>
            <a:ext cx="3168360" cy="4248360"/>
          </a:xfrm>
          <a:prstGeom prst="rect">
            <a:avLst/>
          </a:prstGeom>
          <a:gradFill rotWithShape="0">
            <a:gsLst>
              <a:gs pos="0">
                <a:srgbClr val="ffff00">
                  <a:alpha val="60392"/>
                </a:srgbClr>
              </a:gs>
              <a:gs pos="100000">
                <a:srgbClr val="7575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0920" y="5445000"/>
            <a:ext cx="8713800" cy="7207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d400d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"/>
          <p:cNvCxnSpPr/>
          <p:nvPr/>
        </p:nvCxnSpPr>
        <p:spPr>
          <a:xfrm flipH="1" flipV="1">
            <a:off x="250200" y="3357360"/>
            <a:ext cx="8661960" cy="111600"/>
          </a:xfrm>
          <a:prstGeom prst="bentConnector5">
            <a:avLst>
              <a:gd name="adj1" fmla="val -1741"/>
              <a:gd name="adj2" fmla="val -2611326"/>
              <a:gd name="adj3" fmla="val 101774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3586320" y="6188040"/>
            <a:ext cx="19713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velop Iterativ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26920" y="5300640"/>
            <a:ext cx="142920" cy="216000"/>
          </a:xfrm>
          <a:prstGeom prst="upDownArrow">
            <a:avLst>
              <a:gd name="adj1" fmla="val 50000"/>
              <a:gd name="adj2" fmla="val 30086"/>
            </a:avLst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00560" y="5300640"/>
            <a:ext cx="142920" cy="216000"/>
          </a:xfrm>
          <a:prstGeom prst="upDownArrow">
            <a:avLst>
              <a:gd name="adj1" fmla="val 50000"/>
              <a:gd name="adj2" fmla="val 30086"/>
            </a:avLst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42120" y="5300640"/>
            <a:ext cx="142920" cy="216000"/>
          </a:xfrm>
          <a:prstGeom prst="upDownArrow">
            <a:avLst>
              <a:gd name="adj1" fmla="val 50000"/>
              <a:gd name="adj2" fmla="val 30086"/>
            </a:avLst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537400" y="5300640"/>
            <a:ext cx="142920" cy="216000"/>
          </a:xfrm>
          <a:prstGeom prst="upDownArrow">
            <a:avLst>
              <a:gd name="adj1" fmla="val 50000"/>
              <a:gd name="adj2" fmla="val 30086"/>
            </a:avLst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86480" y="5300640"/>
            <a:ext cx="142920" cy="216000"/>
          </a:xfrm>
          <a:prstGeom prst="upDownArrow">
            <a:avLst>
              <a:gd name="adj1" fmla="val 50000"/>
              <a:gd name="adj2" fmla="val 30086"/>
            </a:avLst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81080" y="5300640"/>
            <a:ext cx="142920" cy="216000"/>
          </a:xfrm>
          <a:prstGeom prst="upDownArrow">
            <a:avLst>
              <a:gd name="adj1" fmla="val 50000"/>
              <a:gd name="adj2" fmla="val 30086"/>
            </a:avLst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2200" y="1989000"/>
            <a:ext cx="2449440" cy="57492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ture Business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ional RequisiteP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4000" y="2637000"/>
            <a:ext cx="2449440" cy="57456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ional X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BI Mode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4000" y="3290760"/>
            <a:ext cx="2449440" cy="57492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ling/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ional X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4000" y="3938760"/>
            <a:ext cx="2449440" cy="57456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entify Components for re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S Asset Analy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417840" y="1628640"/>
            <a:ext cx="2738520" cy="187164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/OS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S Enterprise Devel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419640" y="2060640"/>
            <a:ext cx="2665080" cy="143964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SAD Integration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19640" y="2492280"/>
            <a:ext cx="2593800" cy="100800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2E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S Application Devel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419640" y="2924280"/>
            <a:ext cx="2520720" cy="57600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S Site Devel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03640" y="4724280"/>
            <a:ext cx="2952720" cy="57636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t Test/Profiling/Tra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St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ional X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03640" y="3573360"/>
            <a:ext cx="2952720" cy="43200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2M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S Device Devel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3640" y="4076640"/>
            <a:ext cx="2952720" cy="57636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cialized Server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al, Voice, Commer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Domino Toolk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43640" y="4076640"/>
            <a:ext cx="2449440" cy="79236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age and Mon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v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8172360" y="399960"/>
            <a:ext cx="720720" cy="6904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6443640" y="1700280"/>
            <a:ext cx="2449440" cy="57456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ional XDE T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443640" y="2421000"/>
            <a:ext cx="2449440" cy="57456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288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formanc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ional PurifyP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St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443640" y="3141720"/>
            <a:ext cx="2449440" cy="79200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St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ional X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ional Clear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2200" y="5516640"/>
            <a:ext cx="1619280" cy="60480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am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ional ClearC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2320" y="5516640"/>
            <a:ext cx="1681200" cy="60480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fect Tr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ear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05080" y="1630440"/>
            <a:ext cx="212760" cy="187164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 rot="5400000">
            <a:off x="2558520" y="2540160"/>
            <a:ext cx="1511280" cy="123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Narrow"/>
              </a:rPr>
              <a:t>Web Service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Narrow"/>
              <a:ea typeface="Arial Narrow"/>
            </a:endParaRPr>
          </a:p>
        </p:txBody>
      </p:sp>
      <p:sp>
        <p:nvSpPr>
          <p:cNvPr id="317" name=""/>
          <p:cNvSpPr/>
          <p:nvPr/>
        </p:nvSpPr>
        <p:spPr>
          <a:xfrm>
            <a:off x="2771640" y="354492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12000" y="354492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62080" y="5526000"/>
            <a:ext cx="1706760" cy="60480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Conso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135920" y="5510160"/>
            <a:ext cx="1773000" cy="60480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ional Un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4080" y="617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’s Accelerated Application Development Lifecycle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52280" y="5151600"/>
            <a:ext cx="8763120" cy="1020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91040" y="4820040"/>
            <a:ext cx="451080" cy="141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9680" bIns="49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320" y="384120"/>
            <a:ext cx="8989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280" y="1987560"/>
            <a:ext cx="1143000" cy="28195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6320" y="1987560"/>
            <a:ext cx="13096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marL="227160" indent="-227160" algn="ctr">
              <a:lnSpc>
                <a:spcPct val="85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ctr">
              <a:lnSpc>
                <a:spcPct val="85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ctr">
              <a:lnSpc>
                <a:spcPct val="85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ctr">
              <a:lnSpc>
                <a:spcPct val="85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ctr">
              <a:lnSpc>
                <a:spcPct val="85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e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5105520"/>
            <a:ext cx="32004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ational Team Unifying 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449520" y="1289160"/>
            <a:ext cx="390996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1290600"/>
            <a:ext cx="203688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940440" y="1335240"/>
            <a:ext cx="16858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3282840"/>
            <a:ext cx="648000" cy="1414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040" bIns="50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rot="5400000">
            <a:off x="6626160" y="4820040"/>
            <a:ext cx="451080" cy="14148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040" bIns="50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 rot="5400000">
            <a:off x="1862640" y="4820040"/>
            <a:ext cx="451080" cy="141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9680" bIns="49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1987560"/>
            <a:ext cx="1067040" cy="282744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447920" y="2286000"/>
            <a:ext cx="118260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ional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19520" y="2362320"/>
            <a:ext cx="1406520" cy="1377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895480" y="2362320"/>
            <a:ext cx="121932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marL="227160" indent="-227160" algn="ctr">
              <a:lnSpc>
                <a:spcPct val="85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Sphere Studio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set Analy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646360" y="2063880"/>
            <a:ext cx="2077920" cy="152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rot="5400000">
            <a:off x="8085600" y="4808880"/>
            <a:ext cx="451080" cy="141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9680" bIns="49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680240" y="1305000"/>
            <a:ext cx="15033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67080" y="2597040"/>
            <a:ext cx="457200" cy="146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720" bIns="54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666880" y="3968640"/>
            <a:ext cx="2078280" cy="15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0" bIns="61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267080" y="3359160"/>
            <a:ext cx="401760" cy="146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720" bIns="54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424400" y="3054240"/>
            <a:ext cx="1671480" cy="1130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 rot="5400000">
            <a:off x="4986360" y="2659320"/>
            <a:ext cx="647640" cy="14148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040" bIns="50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448160" y="1987560"/>
            <a:ext cx="163044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19720" y="2133720"/>
            <a:ext cx="1699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ional Rapid Devel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78600" y="3514680"/>
            <a:ext cx="647640" cy="1414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040" bIns="5004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078600" y="2236680"/>
            <a:ext cx="647640" cy="14148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040" bIns="50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345360" y="1987560"/>
            <a:ext cx="1274760" cy="2854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248520" y="1987560"/>
            <a:ext cx="142704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marL="227160" indent="-227160" algn="ctr">
              <a:lnSpc>
                <a:spcPct val="85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Spher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udio Workload Simulato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658280" y="3206880"/>
            <a:ext cx="647640" cy="141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9680" bIns="49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48720" y="1987560"/>
            <a:ext cx="1066680" cy="2854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58000" y="1987560"/>
            <a:ext cx="130968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marL="227160" indent="-227160" algn="ctr">
              <a:lnSpc>
                <a:spcPct val="85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ctr">
              <a:lnSpc>
                <a:spcPct val="85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ctr">
              <a:lnSpc>
                <a:spcPct val="85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ctr">
              <a:lnSpc>
                <a:spcPct val="85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419720" y="3046320"/>
            <a:ext cx="16761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marL="227160" indent="-227160" algn="ctr">
              <a:lnSpc>
                <a:spcPct val="85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Sphere St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590920" y="1714680"/>
            <a:ext cx="3352320" cy="190080"/>
            <a:chOff x="2590920" y="1714680"/>
            <a:chExt cx="3352320" cy="190080"/>
          </a:xfrm>
        </p:grpSpPr>
        <p:sp>
          <p:nvSpPr>
            <p:cNvPr id="357" name=""/>
            <p:cNvSpPr/>
            <p:nvPr/>
          </p:nvSpPr>
          <p:spPr>
            <a:xfrm>
              <a:off x="2590920" y="1714680"/>
              <a:ext cx="0" cy="183240"/>
            </a:xfrm>
            <a:prstGeom prst="line">
              <a:avLst/>
            </a:prstGeom>
            <a:ln w="3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43240" y="1721520"/>
              <a:ext cx="0" cy="183240"/>
            </a:xfrm>
            <a:prstGeom prst="line">
              <a:avLst/>
            </a:prstGeom>
            <a:ln w="3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590920" y="1714680"/>
              <a:ext cx="3352320" cy="0"/>
            </a:xfrm>
            <a:prstGeom prst="line">
              <a:avLst/>
            </a:prstGeom>
            <a:ln w="3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1080" bIns="-9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28600" y="3505320"/>
            <a:ext cx="1066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mu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350532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s an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43200" y="312408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entify / prepare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isting assets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re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495680" y="24382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-tier application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19720" y="3429000"/>
            <a:ext cx="167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isual construction and programmatic code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24480" y="4191120"/>
            <a:ext cx="12193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al and load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72400" y="3809880"/>
            <a:ext cx="11430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248520" y="2784600"/>
            <a:ext cx="142704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marL="227160" indent="-227160" algn="ctr">
              <a:lnSpc>
                <a:spcPct val="85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Sphere Studio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248520" y="3733920"/>
            <a:ext cx="14270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ional Suite TestSt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304920" cy="2667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2971800" y="2590920"/>
            <a:ext cx="304920" cy="2667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1676520" y="2133720"/>
            <a:ext cx="600120" cy="1998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4572000" y="1981080"/>
            <a:ext cx="600120" cy="2001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5"/>
          <a:stretch/>
        </p:blipFill>
        <p:spPr>
          <a:xfrm>
            <a:off x="609480" y="5562720"/>
            <a:ext cx="600120" cy="1998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6"/>
          <a:stretch/>
        </p:blipFill>
        <p:spPr>
          <a:xfrm>
            <a:off x="1828800" y="5638680"/>
            <a:ext cx="600120" cy="20016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3048120" y="5638680"/>
            <a:ext cx="600120" cy="2001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8"/>
          <a:stretch/>
        </p:blipFill>
        <p:spPr>
          <a:xfrm>
            <a:off x="4648320" y="5715000"/>
            <a:ext cx="600120" cy="2001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9"/>
          <a:stretch/>
        </p:blipFill>
        <p:spPr>
          <a:xfrm>
            <a:off x="6400800" y="5715000"/>
            <a:ext cx="600120" cy="2001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10"/>
          <a:stretch/>
        </p:blipFill>
        <p:spPr>
          <a:xfrm>
            <a:off x="7848720" y="5562720"/>
            <a:ext cx="600120" cy="1998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11"/>
          <a:stretch/>
        </p:blipFill>
        <p:spPr>
          <a:xfrm>
            <a:off x="4419720" y="3276720"/>
            <a:ext cx="304560" cy="26676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12"/>
          <a:stretch/>
        </p:blipFill>
        <p:spPr>
          <a:xfrm>
            <a:off x="6400800" y="2209680"/>
            <a:ext cx="304920" cy="26676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13"/>
          <a:stretch/>
        </p:blipFill>
        <p:spPr>
          <a:xfrm>
            <a:off x="6324480" y="3048120"/>
            <a:ext cx="304920" cy="2667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14"/>
          <a:stretch/>
        </p:blipFill>
        <p:spPr>
          <a:xfrm>
            <a:off x="7924680" y="2743200"/>
            <a:ext cx="304920" cy="2667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15"/>
          <a:stretch/>
        </p:blipFill>
        <p:spPr>
          <a:xfrm>
            <a:off x="6400800" y="3581280"/>
            <a:ext cx="600120" cy="2001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80880" y="5638680"/>
            <a:ext cx="1067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sitP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523880" y="5715000"/>
            <a:ext cx="1182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7160" y="533412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ments Mg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53920" y="541008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 Mg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95840" y="541008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ject Mg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958200" y="548640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Configuration Mg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016320" y="5486400"/>
            <a:ext cx="153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ified Change Mg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20480" y="533412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cess Mg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6880" y="5715000"/>
            <a:ext cx="13716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jectCons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267080" y="5791320"/>
            <a:ext cx="13716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ear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019920" y="5791320"/>
            <a:ext cx="13716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ear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543800" y="5638680"/>
            <a:ext cx="13716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ified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8600" y="1628640"/>
            <a:ext cx="412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427640" y="1628640"/>
            <a:ext cx="1800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372360" y="1628640"/>
            <a:ext cx="2700360" cy="0"/>
          </a:xfrm>
          <a:prstGeom prst="line">
            <a:avLst/>
          </a:prstGeom>
          <a:ln w="381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Delivers Integrated Tools to Design, Develop, and Deploy Your Software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776240"/>
            <a:ext cx="8137440" cy="448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r costs through increased productivity throughout the development cyc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r cost and risk through reuse of existing skills, applications, and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time to value through reuse, increased productivity and predict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bility without sacrificing flexibility through an open development platfo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r total cost through a development environment running on Linux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ed by open Eclipse 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clipse Project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504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lipse is an open extensible Universal Tooling Platfo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587"/>
              </a:spcBef>
              <a:spcAft>
                <a:spcPts val="34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niversal Tooling Platform has been open sourced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587"/>
              </a:spcBef>
              <a:spcAft>
                <a:spcPts val="34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aged via the eclipse.or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M contributed $40M software/R&amp;D as initial Eclipse 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es customers to develop, customize and integrate tool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587"/>
              </a:spcBef>
              <a:spcAft>
                <a:spcPts val="34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vides frameworks for tool builders to focus on tool development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ortium members includ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400"/>
              </a:spcBef>
              <a:spcAft>
                <a:spcPts val="23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BM, RedHat, SuSE, Merant, QNX, Borland, Serena, Oracle, Sybase, Fujitsu, Hitachi, Instantiations, MontaVista, Scapa, Telelogic and Trans-Enterprise Integ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spcAft>
                <a:spcPts val="2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4080" y="380880"/>
            <a:ext cx="8245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8920" y="2852640"/>
            <a:ext cx="506268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5670720" y="2475000"/>
            <a:ext cx="32763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Sphere Studio Family: Based on Eclipse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5553000"/>
            <a:ext cx="8610480" cy="60984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li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40000" y="6238800"/>
            <a:ext cx="70182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90000"/>
              </a:lnSpc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 single, comprehensive IDE with unprecedented flexibility &amp; extensi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04920" y="1484280"/>
            <a:ext cx="8610480" cy="345924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erprise Develo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04920" y="4943520"/>
            <a:ext cx="861048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Sphere Stu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04920" y="1865160"/>
            <a:ext cx="6319800" cy="3078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Developer Integration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04920" y="2246400"/>
            <a:ext cx="4344840" cy="2697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Develo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2627280"/>
            <a:ext cx="2369880" cy="23162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te Develo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629400" y="1895400"/>
            <a:ext cx="220968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: Enterprise Devel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new EIS applications as part of a J2EE 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L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/Maintain z/OS Ap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B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/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BOL XML Enab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Runtime: WAS AE, ND, WAS E, z/OS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724280" y="2657520"/>
            <a:ext cx="17528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: Advanced J2EE Devel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existing EIS applications using J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Flow Chore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Run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, ND, WAS E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743200" y="2657520"/>
            <a:ext cx="19051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: J2EE Devel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JB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and Trace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Tes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Case 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Runtime: WAS AE, WAS ND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80880" y="2873520"/>
            <a:ext cx="20574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: Web Devel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ML/JSP/Servle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ts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Services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L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va Visual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Runtime: WAS AE, WAS ND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32680" y="5248440"/>
            <a:ext cx="347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s commercially supported version of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39040" y="5248440"/>
            <a:ext cx="150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s for IBM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37000" y="5629320"/>
            <a:ext cx="182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Tool Plat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38680" y="562932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frameworks for tool builders to focus on tool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745000" y="34956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650120" y="35100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631200" y="34956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14080" y="495360"/>
            <a:ext cx="77310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/WebSphere Integration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50920" y="1125360"/>
            <a:ext cx="2592360" cy="4248360"/>
          </a:xfrm>
          <a:prstGeom prst="rect">
            <a:avLst/>
          </a:prstGeom>
          <a:gradFill rotWithShape="0">
            <a:gsLst>
              <a:gs pos="0">
                <a:srgbClr val="ff0000">
                  <a:alpha val="60392"/>
                </a:srgbClr>
              </a:gs>
              <a:gs pos="100000">
                <a:srgbClr val="b5130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372360" y="1125360"/>
            <a:ext cx="2592360" cy="4248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pl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059280" y="1125360"/>
            <a:ext cx="3168360" cy="4248360"/>
          </a:xfrm>
          <a:prstGeom prst="rect">
            <a:avLst/>
          </a:prstGeom>
          <a:gradFill rotWithShape="0">
            <a:gsLst>
              <a:gs pos="0">
                <a:srgbClr val="ffff00">
                  <a:alpha val="60392"/>
                </a:srgbClr>
              </a:gs>
              <a:gs pos="100000">
                <a:srgbClr val="7575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0920" y="5445000"/>
            <a:ext cx="8715240" cy="7207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d400d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"/>
          <p:cNvCxnSpPr/>
          <p:nvPr/>
        </p:nvCxnSpPr>
        <p:spPr>
          <a:xfrm flipH="1" flipV="1">
            <a:off x="250200" y="3357360"/>
            <a:ext cx="8661960" cy="111600"/>
          </a:xfrm>
          <a:prstGeom prst="bentConnector5">
            <a:avLst>
              <a:gd name="adj1" fmla="val -1741"/>
              <a:gd name="adj2" fmla="val -2619741"/>
              <a:gd name="adj3" fmla="val 101774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3581280" y="6188040"/>
            <a:ext cx="19814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velop Iterativ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26920" y="5300640"/>
            <a:ext cx="142920" cy="216000"/>
          </a:xfrm>
          <a:prstGeom prst="upDownArrow">
            <a:avLst>
              <a:gd name="adj1" fmla="val 50000"/>
              <a:gd name="adj2" fmla="val 30086"/>
            </a:avLst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781440" y="5300640"/>
            <a:ext cx="142920" cy="216000"/>
          </a:xfrm>
          <a:prstGeom prst="upDownArrow">
            <a:avLst>
              <a:gd name="adj1" fmla="val 50000"/>
              <a:gd name="adj2" fmla="val 30086"/>
            </a:avLst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77080" y="5300640"/>
            <a:ext cx="142920" cy="216000"/>
          </a:xfrm>
          <a:prstGeom prst="upDownArrow">
            <a:avLst>
              <a:gd name="adj1" fmla="val 50000"/>
              <a:gd name="adj2" fmla="val 30086"/>
            </a:avLst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172360" y="5300640"/>
            <a:ext cx="142920" cy="216000"/>
          </a:xfrm>
          <a:prstGeom prst="upDownArrow">
            <a:avLst>
              <a:gd name="adj1" fmla="val 50000"/>
              <a:gd name="adj2" fmla="val 30086"/>
            </a:avLst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221440" y="5300640"/>
            <a:ext cx="142560" cy="216000"/>
          </a:xfrm>
          <a:prstGeom prst="upDownArrow">
            <a:avLst>
              <a:gd name="adj1" fmla="val 50000"/>
              <a:gd name="adj2" fmla="val 30163"/>
            </a:avLst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981080" y="5300640"/>
            <a:ext cx="142920" cy="216000"/>
          </a:xfrm>
          <a:prstGeom prst="upDownArrow">
            <a:avLst>
              <a:gd name="adj1" fmla="val 50000"/>
              <a:gd name="adj2" fmla="val 30086"/>
            </a:avLst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22200" y="1989000"/>
            <a:ext cx="2449440" cy="57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ture Business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ional RequisiteP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24000" y="2637000"/>
            <a:ext cx="2449440" cy="574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Cas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d400d4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ional X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BI Mode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24000" y="3290760"/>
            <a:ext cx="2449440" cy="57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d400d4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ional X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3938760"/>
            <a:ext cx="2449440" cy="574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entify Components for re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d400d4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S Asset Analy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417840" y="1628640"/>
            <a:ext cx="2738520" cy="187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z/OS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d400d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S Enterprise Devel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419640" y="2060640"/>
            <a:ext cx="2665080" cy="1439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SAD Integration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419640" y="2492280"/>
            <a:ext cx="2593800" cy="100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2E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d400d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S Application Devel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419640" y="2924280"/>
            <a:ext cx="2520720" cy="576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d400d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S Site Devel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203640" y="4724280"/>
            <a:ext cx="2952720" cy="5763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it Test/Profiling/Tra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d400d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Sphere St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d400d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ional X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203640" y="3573360"/>
            <a:ext cx="295272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2M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d400d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S Device Devel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203640" y="4076640"/>
            <a:ext cx="2952720" cy="5763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pecialized Server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d400d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rtal, Voice, Commer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d Domino Toolk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443640" y="1700280"/>
            <a:ext cx="2449440" cy="574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stem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d400d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ional XDE T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443640" y="2421000"/>
            <a:ext cx="2449440" cy="574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288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formanc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d400d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ional PurifyP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d400d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Sphere St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443640" y="3141720"/>
            <a:ext cx="2449440" cy="7920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d400d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Sphere St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d400d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ional X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d400d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ional Clear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2200" y="5516640"/>
            <a:ext cx="2449440" cy="574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am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d400d4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ional ClearC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938920" y="5516640"/>
            <a:ext cx="2449440" cy="574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fect Tr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d400d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ional Clear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205080" y="1630440"/>
            <a:ext cx="212760" cy="187164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 rot="5400000">
            <a:off x="2558520" y="2540160"/>
            <a:ext cx="1511280" cy="123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Narrow"/>
              </a:rPr>
              <a:t>Web Service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Narrow"/>
              <a:ea typeface="Arial Narrow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8"/>
          <a:stretch/>
        </p:blipFill>
        <p:spPr>
          <a:xfrm>
            <a:off x="8388360" y="399960"/>
            <a:ext cx="720720" cy="690480"/>
          </a:xfrm>
          <a:prstGeom prst="rect">
            <a:avLst/>
          </a:prstGeom>
          <a:ln w="0">
            <a:noFill/>
          </a:ln>
        </p:spPr>
      </p:pic>
      <p:grpSp>
        <p:nvGrpSpPr>
          <p:cNvPr id="457" name=""/>
          <p:cNvGrpSpPr/>
          <p:nvPr/>
        </p:nvGrpSpPr>
        <p:grpSpPr>
          <a:xfrm>
            <a:off x="6437880" y="619200"/>
            <a:ext cx="1825200" cy="368280"/>
            <a:chOff x="6437880" y="619200"/>
            <a:chExt cx="1825200" cy="368280"/>
          </a:xfrm>
        </p:grpSpPr>
        <p:sp>
          <p:nvSpPr>
            <p:cNvPr id="458" name=""/>
            <p:cNvSpPr/>
            <p:nvPr/>
          </p:nvSpPr>
          <p:spPr>
            <a:xfrm>
              <a:off x="6440400" y="652320"/>
              <a:ext cx="1822680" cy="218520"/>
            </a:xfrm>
            <a:prstGeom prst="rect">
              <a:avLst/>
            </a:prstGeom>
            <a:solidFill>
              <a:srgbClr val="ccccff">
                <a:alpha val="6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437880" y="619200"/>
              <a:ext cx="4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d400d4"/>
                </a:buClr>
                <a:buSzPct val="12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751080" y="701280"/>
              <a:ext cx="1366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Sphere Studio Integr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2771640" y="354492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354492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ig Pi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ment Scenari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Demand Application Develo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ment Scenari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Scenario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8070840" cy="43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scenario covers how IBM development tools can work together to build an 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90000"/>
              </a:lnSpc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enario 1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llustrates the tools used for Business Process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IDE: WebSphere Studi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lication Develo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90000"/>
              </a:lnSpc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enario 2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llustrates the tools used for J2EE development using a services oriented architecture (SO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IDE: WebSphere Studio Application Develope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gration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90000"/>
              </a:lnSpc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enario 3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llustrates the tools used for Enterprise Moder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IDE: WebSphere Studi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terprise Develo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Scenarios: Consistent Development Pattern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54080" y="1011240"/>
            <a:ext cx="8989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69800" y="5381640"/>
            <a:ext cx="7999560" cy="995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c00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80960" y="2066760"/>
            <a:ext cx="1609920" cy="32878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095560" y="3594240"/>
            <a:ext cx="820800" cy="141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9680" bIns="49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459160" y="2055960"/>
            <a:ext cx="1450800" cy="32972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905280" y="3649680"/>
            <a:ext cx="798480" cy="11268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394160" y="2031840"/>
            <a:ext cx="2116080" cy="331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488280" y="3639960"/>
            <a:ext cx="819000" cy="14148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040" bIns="5004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96160" y="2055960"/>
            <a:ext cx="1568520" cy="33051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63520" y="5394240"/>
            <a:ext cx="853452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 the project and follow the developm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 requirements,  assets, and testing throughout th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34960" y="2262240"/>
            <a:ext cx="1563840" cy="21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marL="227160" indent="-227160" algn="ctr">
              <a:lnSpc>
                <a:spcPct val="85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ctr">
              <a:lnSpc>
                <a:spcPct val="85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ctr">
              <a:lnSpc>
                <a:spcPct val="85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ctr">
              <a:lnSpc>
                <a:spcPct val="85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ctr">
              <a:lnSpc>
                <a:spcPct val="85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ctr">
              <a:lnSpc>
                <a:spcPct val="85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330280" y="2262240"/>
            <a:ext cx="1702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prepare exis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et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r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902280" y="2262240"/>
            <a:ext cx="1565280" cy="26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loa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 deployment and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352760" y="2262240"/>
            <a:ext cx="226548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3000" y="1333440"/>
            <a:ext cx="222552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b6b3"/>
                </a:solidFill>
                <a:latin typeface="Arial"/>
                <a:ea typeface="Arial"/>
              </a:rPr>
              <a:t>Analyst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b6b3"/>
                </a:solidFill>
                <a:latin typeface="Arial"/>
                <a:ea typeface="Arial"/>
              </a:rPr>
              <a:t>Business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732720" y="1366920"/>
            <a:ext cx="19983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b6b3"/>
                </a:solidFill>
                <a:latin typeface="Arial"/>
                <a:ea typeface="Arial"/>
              </a:rPr>
              <a:t>Test 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b6b3"/>
                </a:solidFill>
                <a:latin typeface="Arial"/>
                <a:ea typeface="Arial"/>
              </a:rPr>
              <a:t>IT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484360" y="1563840"/>
            <a:ext cx="406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9144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b6b3"/>
                </a:solidFill>
                <a:latin typeface="Arial"/>
                <a:ea typeface="Arial"/>
              </a:rPr>
              <a:t>Architect, Developer and Integ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8145360" y="496800"/>
            <a:ext cx="83340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 #1: Business Process Development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8137440" y="476280"/>
            <a:ext cx="827280" cy="792000"/>
          </a:xfrm>
          <a:prstGeom prst="rect">
            <a:avLst/>
          </a:prstGeom>
          <a:ln w="0">
            <a:noFill/>
          </a:ln>
        </p:spPr>
      </p:pic>
      <p:grpSp>
        <p:nvGrpSpPr>
          <p:cNvPr id="488" name=""/>
          <p:cNvGrpSpPr/>
          <p:nvPr/>
        </p:nvGrpSpPr>
        <p:grpSpPr>
          <a:xfrm>
            <a:off x="135000" y="1341360"/>
            <a:ext cx="8937720" cy="4910040"/>
            <a:chOff x="135000" y="1341360"/>
            <a:chExt cx="8937720" cy="4910040"/>
          </a:xfrm>
        </p:grpSpPr>
        <p:sp>
          <p:nvSpPr>
            <p:cNvPr id="489" name=""/>
            <p:cNvSpPr/>
            <p:nvPr/>
          </p:nvSpPr>
          <p:spPr>
            <a:xfrm>
              <a:off x="179280" y="5530680"/>
              <a:ext cx="8893440" cy="720720"/>
            </a:xfrm>
            <a:prstGeom prst="rect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d400d4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an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954080" y="1341360"/>
              <a:ext cx="7104240" cy="4103640"/>
            </a:xfrm>
            <a:prstGeom prst="rect">
              <a:avLst/>
            </a:prstGeom>
            <a:gradFill rotWithShape="0">
              <a:gsLst>
                <a:gs pos="0">
                  <a:srgbClr val="c0c0c0">
                    <a:alpha val="40000"/>
                  </a:srgbClr>
                </a:gs>
                <a:gs pos="100000">
                  <a:srgbClr val="585858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ebSphere Stud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122560" y="2271600"/>
              <a:ext cx="1512720" cy="1978200"/>
            </a:xfrm>
            <a:prstGeom prst="rect">
              <a:avLst/>
            </a:prstGeom>
            <a:gradFill rotWithShape="0">
              <a:gsLst>
                <a:gs pos="0">
                  <a:srgbClr val="ff0000">
                    <a:alpha val="60392"/>
                  </a:srgbClr>
                </a:gs>
                <a:gs pos="100000">
                  <a:srgbClr val="75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71360" y="2852640"/>
              <a:ext cx="1476360" cy="2592360"/>
            </a:xfrm>
            <a:prstGeom prst="rect">
              <a:avLst/>
            </a:prstGeom>
            <a:gradFill rotWithShape="0">
              <a:gsLst>
                <a:gs pos="0">
                  <a:srgbClr val="ff0000">
                    <a:alpha val="60392"/>
                  </a:srgbClr>
                </a:gs>
                <a:gs pos="100000">
                  <a:srgbClr val="75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75040" y="3500280"/>
              <a:ext cx="1752480" cy="1575000"/>
            </a:xfrm>
            <a:prstGeom prst="rect">
              <a:avLst/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100000">
                  <a:srgbClr val="7575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4" name="" descr=""/>
            <p:cNvPicPr/>
            <p:nvPr/>
          </p:nvPicPr>
          <p:blipFill>
            <a:blip r:embed="rId2"/>
            <a:stretch/>
          </p:blipFill>
          <p:spPr>
            <a:xfrm>
              <a:off x="1116000" y="4940280"/>
              <a:ext cx="426960" cy="4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135000" y="2895480"/>
              <a:ext cx="143964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le: Business Analy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ask: Model and simulate business process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ol: WBI Model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50920" y="2390760"/>
              <a:ext cx="141444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le: Archit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ask: Model Application from Business Proc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ol: Rational X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" descr=""/>
            <p:cNvPicPr/>
            <p:nvPr/>
          </p:nvPicPr>
          <p:blipFill>
            <a:blip r:embed="rId3"/>
            <a:stretch/>
          </p:blipFill>
          <p:spPr>
            <a:xfrm>
              <a:off x="2179800" y="3728880"/>
              <a:ext cx="519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3875040" y="1781280"/>
              <a:ext cx="1752480" cy="1574640"/>
            </a:xfrm>
            <a:prstGeom prst="rect">
              <a:avLst/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100000">
                  <a:srgbClr val="7575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52720" y="1903320"/>
              <a:ext cx="2232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le: J2EE Develo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ask: Develop J2E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ol: WebSphere Stud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21120" y="3517920"/>
              <a:ext cx="223524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le: Web Develo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ask: Develop  Web User Interfa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ol: WebSphere Stud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22200" y="5589720"/>
              <a:ext cx="2449440" cy="574560"/>
            </a:xfrm>
            <a:prstGeom prst="rect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5007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am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d400d4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tional ClearCas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938920" y="5589720"/>
              <a:ext cx="2449440" cy="574560"/>
            </a:xfrm>
            <a:prstGeom prst="rect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5007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fect Track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d400d4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tional Clear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553160" y="2205000"/>
              <a:ext cx="1440000" cy="2184480"/>
            </a:xfrm>
            <a:prstGeom prst="rect">
              <a:avLst/>
            </a:prstGeom>
            <a:gradFill rotWithShape="0">
              <a:gsLst>
                <a:gs pos="0">
                  <a:srgbClr val="7889fb"/>
                </a:gs>
                <a:gs pos="100000">
                  <a:srgbClr val="373f7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4" name="" descr=""/>
            <p:cNvPicPr/>
            <p:nvPr/>
          </p:nvPicPr>
          <p:blipFill>
            <a:blip r:embed="rId4"/>
            <a:stretch/>
          </p:blipFill>
          <p:spPr>
            <a:xfrm>
              <a:off x="7669080" y="3859200"/>
              <a:ext cx="57492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7524720" y="2359080"/>
              <a:ext cx="139068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le: Deploy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ask: Deploy J2EE 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ol: WebSphere Stud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35000" y="4383000"/>
              <a:ext cx="12841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te: WBI Modeler will be based on WebSphere Studio in next relea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20640" y="2254320"/>
              <a:ext cx="1284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BI: Export UM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DE: Import UM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608120" y="3284640"/>
              <a:ext cx="5158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3635280" y="2637000"/>
              <a:ext cx="289080" cy="28728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564000" y="3716280"/>
              <a:ext cx="288720" cy="28908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5578560" y="3716280"/>
              <a:ext cx="288720" cy="28728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580000" y="2637000"/>
              <a:ext cx="289080" cy="28872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08720" y="3213000"/>
              <a:ext cx="290520" cy="0"/>
            </a:xfrm>
            <a:prstGeom prst="line">
              <a:avLst/>
            </a:prstGeom>
            <a:ln w="507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52760" y="2610000"/>
              <a:ext cx="176040" cy="81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9080" y="2205000"/>
              <a:ext cx="1528560" cy="2184480"/>
            </a:xfrm>
            <a:prstGeom prst="rect">
              <a:avLst/>
            </a:prstGeom>
            <a:gradFill rotWithShape="0">
              <a:gsLst>
                <a:gs pos="0">
                  <a:srgbClr val="7889fb"/>
                </a:gs>
                <a:gs pos="100000">
                  <a:srgbClr val="373f7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864400" y="2298600"/>
              <a:ext cx="1731960" cy="161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le: Tes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asks: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nalyze Perform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est J2EE 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ols: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ational PurifyPlu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ational XDE Tes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7" name="" descr=""/>
            <p:cNvPicPr/>
            <p:nvPr/>
          </p:nvPicPr>
          <p:blipFill>
            <a:blip r:embed="rId5"/>
            <a:stretch/>
          </p:blipFill>
          <p:spPr>
            <a:xfrm>
              <a:off x="5945040" y="3841920"/>
              <a:ext cx="54000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914400" y="5295960"/>
              <a:ext cx="0" cy="350640"/>
            </a:xfrm>
            <a:prstGeom prst="line">
              <a:avLst/>
            </a:prstGeom>
            <a:ln w="50760">
              <a:solidFill>
                <a:srgbClr val="660066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16360" y="5326200"/>
              <a:ext cx="0" cy="350640"/>
            </a:xfrm>
            <a:prstGeom prst="line">
              <a:avLst/>
            </a:prstGeom>
            <a:ln w="50760">
              <a:solidFill>
                <a:srgbClr val="660066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72000" y="5300640"/>
              <a:ext cx="0" cy="351000"/>
            </a:xfrm>
            <a:prstGeom prst="line">
              <a:avLst/>
            </a:prstGeom>
            <a:ln w="50760">
              <a:solidFill>
                <a:srgbClr val="660066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588000" y="5310360"/>
              <a:ext cx="0" cy="350640"/>
            </a:xfrm>
            <a:prstGeom prst="line">
              <a:avLst/>
            </a:prstGeom>
            <a:ln w="50760">
              <a:solidFill>
                <a:srgbClr val="660066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675640" y="5300640"/>
              <a:ext cx="0" cy="351000"/>
            </a:xfrm>
            <a:prstGeom prst="line">
              <a:avLst/>
            </a:prstGeom>
            <a:ln w="50760">
              <a:solidFill>
                <a:srgbClr val="660066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3" name="" descr=""/>
            <p:cNvPicPr/>
            <p:nvPr/>
          </p:nvPicPr>
          <p:blipFill>
            <a:blip r:embed="rId6"/>
            <a:stretch/>
          </p:blipFill>
          <p:spPr>
            <a:xfrm>
              <a:off x="3983040" y="4530600"/>
              <a:ext cx="51768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" descr=""/>
            <p:cNvPicPr/>
            <p:nvPr/>
          </p:nvPicPr>
          <p:blipFill>
            <a:blip r:embed="rId7"/>
            <a:stretch/>
          </p:blipFill>
          <p:spPr>
            <a:xfrm>
              <a:off x="3924360" y="2870280"/>
              <a:ext cx="406440" cy="487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 #2: J2EE Development – SOA Architecture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8137440" y="476280"/>
            <a:ext cx="827280" cy="792000"/>
          </a:xfrm>
          <a:prstGeom prst="rect">
            <a:avLst/>
          </a:prstGeom>
          <a:ln w="0">
            <a:noFill/>
          </a:ln>
        </p:spPr>
      </p:pic>
      <p:grpSp>
        <p:nvGrpSpPr>
          <p:cNvPr id="527" name=""/>
          <p:cNvGrpSpPr/>
          <p:nvPr/>
        </p:nvGrpSpPr>
        <p:grpSpPr>
          <a:xfrm>
            <a:off x="135000" y="1341360"/>
            <a:ext cx="8937720" cy="4910040"/>
            <a:chOff x="135000" y="1341360"/>
            <a:chExt cx="8937720" cy="4910040"/>
          </a:xfrm>
        </p:grpSpPr>
        <p:sp>
          <p:nvSpPr>
            <p:cNvPr id="528" name=""/>
            <p:cNvSpPr/>
            <p:nvPr/>
          </p:nvSpPr>
          <p:spPr>
            <a:xfrm>
              <a:off x="1954080" y="1341360"/>
              <a:ext cx="7104240" cy="4103640"/>
            </a:xfrm>
            <a:prstGeom prst="rect">
              <a:avLst/>
            </a:prstGeom>
            <a:gradFill rotWithShape="0">
              <a:gsLst>
                <a:gs pos="0">
                  <a:srgbClr val="c0c0c0">
                    <a:alpha val="40000"/>
                  </a:srgbClr>
                </a:gs>
                <a:gs pos="100000">
                  <a:srgbClr val="585858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ebSphere Stud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52280" y="2873520"/>
              <a:ext cx="1513080" cy="2581200"/>
            </a:xfrm>
            <a:prstGeom prst="rect">
              <a:avLst/>
            </a:prstGeom>
            <a:gradFill rotWithShape="0">
              <a:gsLst>
                <a:gs pos="0">
                  <a:srgbClr val="ff0000">
                    <a:alpha val="60392"/>
                  </a:srgbClr>
                </a:gs>
                <a:gs pos="100000">
                  <a:srgbClr val="75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22560" y="2271600"/>
              <a:ext cx="1512720" cy="1978200"/>
            </a:xfrm>
            <a:prstGeom prst="rect">
              <a:avLst/>
            </a:prstGeom>
            <a:gradFill rotWithShape="0">
              <a:gsLst>
                <a:gs pos="0">
                  <a:srgbClr val="ff0000">
                    <a:alpha val="60392"/>
                  </a:srgbClr>
                </a:gs>
                <a:gs pos="100000">
                  <a:srgbClr val="75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875040" y="3500280"/>
              <a:ext cx="1752480" cy="1575000"/>
            </a:xfrm>
            <a:prstGeom prst="rect">
              <a:avLst/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100000">
                  <a:srgbClr val="7575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2" name="" descr=""/>
            <p:cNvPicPr/>
            <p:nvPr/>
          </p:nvPicPr>
          <p:blipFill>
            <a:blip r:embed="rId2"/>
            <a:stretch/>
          </p:blipFill>
          <p:spPr>
            <a:xfrm>
              <a:off x="1044720" y="4940280"/>
              <a:ext cx="426960" cy="4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135000" y="2952720"/>
              <a:ext cx="151272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le: Business Analy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ask: Capture Requir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ol: Rational RequisitePr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50920" y="2390760"/>
              <a:ext cx="141444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le: Archit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ask: Model Application from Business Proc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ol: Rational X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5" name="" descr=""/>
            <p:cNvPicPr/>
            <p:nvPr/>
          </p:nvPicPr>
          <p:blipFill>
            <a:blip r:embed="rId3"/>
            <a:stretch/>
          </p:blipFill>
          <p:spPr>
            <a:xfrm>
              <a:off x="2179800" y="3728880"/>
              <a:ext cx="519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3875040" y="1781280"/>
              <a:ext cx="1752480" cy="1574640"/>
            </a:xfrm>
            <a:prstGeom prst="rect">
              <a:avLst/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100000">
                  <a:srgbClr val="7575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822840" y="1903320"/>
              <a:ext cx="168588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le: J2EE Develo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asks: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velop Proc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 EIS Resources via J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ol: WSAD Integ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di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869080" y="2205000"/>
              <a:ext cx="1528560" cy="2184480"/>
            </a:xfrm>
            <a:prstGeom prst="rect">
              <a:avLst/>
            </a:prstGeom>
            <a:gradFill rotWithShape="0">
              <a:gsLst>
                <a:gs pos="0">
                  <a:srgbClr val="7889fb"/>
                </a:gs>
                <a:gs pos="100000">
                  <a:srgbClr val="373f7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64400" y="2298600"/>
              <a:ext cx="1731960" cy="161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le: Tes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asks: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nalyze Perform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est J2EE 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ols: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ational PurifyPlu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ational XDE Tes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4"/>
            <a:stretch/>
          </p:blipFill>
          <p:spPr>
            <a:xfrm>
              <a:off x="5945040" y="3841920"/>
              <a:ext cx="54000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3921120" y="3517920"/>
              <a:ext cx="223524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le: Web Develo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ask: Develop  Web User Interfa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ol: WebSphere Stud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553160" y="2205000"/>
              <a:ext cx="1440000" cy="2184480"/>
            </a:xfrm>
            <a:prstGeom prst="rect">
              <a:avLst/>
            </a:prstGeom>
            <a:gradFill rotWithShape="0">
              <a:gsLst>
                <a:gs pos="0">
                  <a:srgbClr val="7889fb"/>
                </a:gs>
                <a:gs pos="100000">
                  <a:srgbClr val="373f7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" descr=""/>
            <p:cNvPicPr/>
            <p:nvPr/>
          </p:nvPicPr>
          <p:blipFill>
            <a:blip r:embed="rId5"/>
            <a:stretch/>
          </p:blipFill>
          <p:spPr>
            <a:xfrm>
              <a:off x="7669080" y="3873600"/>
              <a:ext cx="57492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7524720" y="2359080"/>
              <a:ext cx="139068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le: Deploy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ask: Deploy J2EE 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ol: WebSphere Stud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1608120" y="3284640"/>
              <a:ext cx="5158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06840" y="2637000"/>
              <a:ext cx="288720" cy="28728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564000" y="3716280"/>
              <a:ext cx="288720" cy="28908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5578560" y="3716280"/>
              <a:ext cx="288720" cy="28728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80000" y="2637000"/>
              <a:ext cx="289080" cy="28872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08720" y="3213000"/>
              <a:ext cx="290520" cy="0"/>
            </a:xfrm>
            <a:prstGeom prst="line">
              <a:avLst/>
            </a:prstGeom>
            <a:ln w="507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9280" y="5530680"/>
              <a:ext cx="8893440" cy="720720"/>
            </a:xfrm>
            <a:prstGeom prst="rect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d400d4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an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2200" y="5589720"/>
              <a:ext cx="2449440" cy="574560"/>
            </a:xfrm>
            <a:prstGeom prst="rect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5007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am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d400d4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tional ClearCas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938920" y="5589720"/>
              <a:ext cx="2449440" cy="574560"/>
            </a:xfrm>
            <a:prstGeom prst="rect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5007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fect Track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d400d4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tional Clear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914400" y="5295960"/>
              <a:ext cx="0" cy="350640"/>
            </a:xfrm>
            <a:prstGeom prst="line">
              <a:avLst/>
            </a:prstGeom>
            <a:ln w="50760">
              <a:solidFill>
                <a:srgbClr val="660066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16360" y="5326200"/>
              <a:ext cx="0" cy="350640"/>
            </a:xfrm>
            <a:prstGeom prst="line">
              <a:avLst/>
            </a:prstGeom>
            <a:ln w="50760">
              <a:solidFill>
                <a:srgbClr val="660066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72000" y="5300640"/>
              <a:ext cx="0" cy="351000"/>
            </a:xfrm>
            <a:prstGeom prst="line">
              <a:avLst/>
            </a:prstGeom>
            <a:ln w="50760">
              <a:solidFill>
                <a:srgbClr val="660066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88000" y="5310360"/>
              <a:ext cx="0" cy="350640"/>
            </a:xfrm>
            <a:prstGeom prst="line">
              <a:avLst/>
            </a:prstGeom>
            <a:ln w="50760">
              <a:solidFill>
                <a:srgbClr val="660066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675640" y="5300640"/>
              <a:ext cx="0" cy="351000"/>
            </a:xfrm>
            <a:prstGeom prst="line">
              <a:avLst/>
            </a:prstGeom>
            <a:ln w="50760">
              <a:solidFill>
                <a:srgbClr val="660066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9" name="" descr=""/>
            <p:cNvPicPr/>
            <p:nvPr/>
          </p:nvPicPr>
          <p:blipFill>
            <a:blip r:embed="rId6"/>
            <a:stretch/>
          </p:blipFill>
          <p:spPr>
            <a:xfrm>
              <a:off x="3983040" y="4527720"/>
              <a:ext cx="517680" cy="4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" descr=""/>
            <p:cNvPicPr/>
            <p:nvPr/>
          </p:nvPicPr>
          <p:blipFill>
            <a:blip r:embed="rId7"/>
            <a:stretch/>
          </p:blipFill>
          <p:spPr>
            <a:xfrm>
              <a:off x="5219640" y="2060640"/>
              <a:ext cx="345960" cy="41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 #3: Enterprise Modernization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8137440" y="476280"/>
            <a:ext cx="827280" cy="792000"/>
          </a:xfrm>
          <a:prstGeom prst="rect">
            <a:avLst/>
          </a:prstGeom>
          <a:ln w="0">
            <a:noFill/>
          </a:ln>
        </p:spPr>
      </p:pic>
      <p:grpSp>
        <p:nvGrpSpPr>
          <p:cNvPr id="563" name=""/>
          <p:cNvGrpSpPr/>
          <p:nvPr/>
        </p:nvGrpSpPr>
        <p:grpSpPr>
          <a:xfrm>
            <a:off x="135000" y="1341360"/>
            <a:ext cx="8937720" cy="4910040"/>
            <a:chOff x="135000" y="1341360"/>
            <a:chExt cx="8937720" cy="4910040"/>
          </a:xfrm>
        </p:grpSpPr>
        <p:sp>
          <p:nvSpPr>
            <p:cNvPr id="564" name=""/>
            <p:cNvSpPr/>
            <p:nvPr/>
          </p:nvSpPr>
          <p:spPr>
            <a:xfrm>
              <a:off x="1954080" y="1341360"/>
              <a:ext cx="7104240" cy="4103640"/>
            </a:xfrm>
            <a:prstGeom prst="rect">
              <a:avLst/>
            </a:prstGeom>
            <a:gradFill rotWithShape="0">
              <a:gsLst>
                <a:gs pos="0">
                  <a:srgbClr val="c0c0c0">
                    <a:alpha val="40000"/>
                  </a:srgbClr>
                </a:gs>
                <a:gs pos="100000">
                  <a:srgbClr val="585858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ebSphere Stud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52280" y="2873520"/>
              <a:ext cx="1513080" cy="2581200"/>
            </a:xfrm>
            <a:prstGeom prst="rect">
              <a:avLst/>
            </a:prstGeom>
            <a:gradFill rotWithShape="0">
              <a:gsLst>
                <a:gs pos="0">
                  <a:srgbClr val="ff0000">
                    <a:alpha val="60392"/>
                  </a:srgbClr>
                </a:gs>
                <a:gs pos="100000">
                  <a:srgbClr val="75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122560" y="2271600"/>
              <a:ext cx="1512720" cy="1978200"/>
            </a:xfrm>
            <a:prstGeom prst="rect">
              <a:avLst/>
            </a:prstGeom>
            <a:gradFill rotWithShape="0">
              <a:gsLst>
                <a:gs pos="0">
                  <a:srgbClr val="ff0000">
                    <a:alpha val="60392"/>
                  </a:srgbClr>
                </a:gs>
                <a:gs pos="100000">
                  <a:srgbClr val="75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90880" y="3525840"/>
              <a:ext cx="1752840" cy="1722600"/>
            </a:xfrm>
            <a:prstGeom prst="rect">
              <a:avLst/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100000">
                  <a:srgbClr val="7575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8" name="" descr=""/>
            <p:cNvPicPr/>
            <p:nvPr/>
          </p:nvPicPr>
          <p:blipFill>
            <a:blip r:embed="rId2"/>
            <a:stretch/>
          </p:blipFill>
          <p:spPr>
            <a:xfrm>
              <a:off x="1044720" y="4940280"/>
              <a:ext cx="426960" cy="4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135000" y="2952720"/>
              <a:ext cx="151272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le: Business Analy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ask: Capture Requir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ol: Rational RequisitePr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050920" y="2390760"/>
              <a:ext cx="141444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le: Archit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ask: Model Application from Business Proc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ol: Rational X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1" name="" descr=""/>
            <p:cNvPicPr/>
            <p:nvPr/>
          </p:nvPicPr>
          <p:blipFill>
            <a:blip r:embed="rId3"/>
            <a:stretch/>
          </p:blipFill>
          <p:spPr>
            <a:xfrm>
              <a:off x="2179800" y="3728880"/>
              <a:ext cx="519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3875040" y="1781280"/>
              <a:ext cx="1752480" cy="1574640"/>
            </a:xfrm>
            <a:prstGeom prst="rect">
              <a:avLst/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100000">
                  <a:srgbClr val="7575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22840" y="1903320"/>
              <a:ext cx="168588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le: Enterprise Develo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asks: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cate Existing Asse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ol: WebSphere Studio Asset Analyz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869080" y="2205000"/>
              <a:ext cx="1528560" cy="2184480"/>
            </a:xfrm>
            <a:prstGeom prst="rect">
              <a:avLst/>
            </a:prstGeom>
            <a:gradFill rotWithShape="0">
              <a:gsLst>
                <a:gs pos="0">
                  <a:srgbClr val="7889fb"/>
                </a:gs>
                <a:gs pos="100000">
                  <a:srgbClr val="373f7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864400" y="2298600"/>
              <a:ext cx="1731960" cy="17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le: Tes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asks: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nalyze Perform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est 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ols: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ational XDE Tes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S Application Moni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S Workload Simula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" descr=""/>
            <p:cNvPicPr/>
            <p:nvPr/>
          </p:nvPicPr>
          <p:blipFill>
            <a:blip r:embed="rId4"/>
            <a:stretch/>
          </p:blipFill>
          <p:spPr>
            <a:xfrm>
              <a:off x="5945040" y="3884760"/>
              <a:ext cx="54000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3849840" y="3517920"/>
              <a:ext cx="223488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le: Enterprise Develo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asks: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velop for z/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AD J2EE Develop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ol: WebSphere Studio Enterprise Develo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53160" y="2205000"/>
              <a:ext cx="1440000" cy="2184480"/>
            </a:xfrm>
            <a:prstGeom prst="rect">
              <a:avLst/>
            </a:prstGeom>
            <a:gradFill rotWithShape="0">
              <a:gsLst>
                <a:gs pos="0">
                  <a:srgbClr val="7889fb"/>
                </a:gs>
                <a:gs pos="100000">
                  <a:srgbClr val="373f7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9" name="" descr=""/>
            <p:cNvPicPr/>
            <p:nvPr/>
          </p:nvPicPr>
          <p:blipFill>
            <a:blip r:embed="rId5"/>
            <a:stretch/>
          </p:blipFill>
          <p:spPr>
            <a:xfrm>
              <a:off x="7669080" y="3873600"/>
              <a:ext cx="57492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7524720" y="2359080"/>
              <a:ext cx="139068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le: Deploy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ask: Deploy J2EE 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ol: WebSphere Stud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1608120" y="3284640"/>
              <a:ext cx="5158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3606840" y="2637000"/>
              <a:ext cx="288720" cy="28728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5578560" y="3716280"/>
              <a:ext cx="288720" cy="28728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308720" y="3213000"/>
              <a:ext cx="290520" cy="0"/>
            </a:xfrm>
            <a:prstGeom prst="line">
              <a:avLst/>
            </a:prstGeom>
            <a:ln w="507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645080" y="3260880"/>
              <a:ext cx="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9280" y="5530680"/>
              <a:ext cx="8893440" cy="720720"/>
            </a:xfrm>
            <a:prstGeom prst="rect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d400d4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an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22200" y="5589720"/>
              <a:ext cx="2449440" cy="574560"/>
            </a:xfrm>
            <a:prstGeom prst="rect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5007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am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d400d4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tional ClearCas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38920" y="5589720"/>
              <a:ext cx="2449440" cy="574560"/>
            </a:xfrm>
            <a:prstGeom prst="rect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5007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fect Track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d400d4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tional Clear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914400" y="5295960"/>
              <a:ext cx="0" cy="350640"/>
            </a:xfrm>
            <a:prstGeom prst="line">
              <a:avLst/>
            </a:prstGeom>
            <a:ln w="50760">
              <a:solidFill>
                <a:srgbClr val="660066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916360" y="5326200"/>
              <a:ext cx="0" cy="350640"/>
            </a:xfrm>
            <a:prstGeom prst="line">
              <a:avLst/>
            </a:prstGeom>
            <a:ln w="50760">
              <a:solidFill>
                <a:srgbClr val="660066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572000" y="5300640"/>
              <a:ext cx="0" cy="351000"/>
            </a:xfrm>
            <a:prstGeom prst="line">
              <a:avLst/>
            </a:prstGeom>
            <a:ln w="50760">
              <a:solidFill>
                <a:srgbClr val="660066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588000" y="5310360"/>
              <a:ext cx="0" cy="350640"/>
            </a:xfrm>
            <a:prstGeom prst="line">
              <a:avLst/>
            </a:prstGeom>
            <a:ln w="50760">
              <a:solidFill>
                <a:srgbClr val="660066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675640" y="5300640"/>
              <a:ext cx="0" cy="351000"/>
            </a:xfrm>
            <a:prstGeom prst="line">
              <a:avLst/>
            </a:prstGeom>
            <a:ln w="50760">
              <a:solidFill>
                <a:srgbClr val="660066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4" name="" descr=""/>
            <p:cNvPicPr/>
            <p:nvPr/>
          </p:nvPicPr>
          <p:blipFill>
            <a:blip r:embed="rId6"/>
            <a:stretch/>
          </p:blipFill>
          <p:spPr>
            <a:xfrm>
              <a:off x="3995640" y="4827600"/>
              <a:ext cx="4320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" descr=""/>
            <p:cNvPicPr/>
            <p:nvPr/>
          </p:nvPicPr>
          <p:blipFill>
            <a:blip r:embed="rId7"/>
            <a:stretch/>
          </p:blipFill>
          <p:spPr>
            <a:xfrm>
              <a:off x="5076720" y="1989000"/>
              <a:ext cx="417600" cy="503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ig Pi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ment Scenari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99840" y="1776240"/>
            <a:ext cx="7761240" cy="34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Valu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BM/Rational development tools provide comprehensive tools for all stages of develo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BM/Rational Tools provide deep integration between too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499"/>
              </a:spcBef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Pro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499"/>
              </a:spcBef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89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hallenge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4067280" y="4024080"/>
            <a:ext cx="4889520" cy="1531800"/>
          </a:xfrm>
          <a:custGeom>
            <a:avLst/>
            <a:gdLst/>
            <a:ahLst/>
            <a:rect l="l" t="t" r="r" b="b"/>
            <a:pathLst>
              <a:path w="3489" h="1685">
                <a:moveTo>
                  <a:pt x="0" y="0"/>
                </a:moveTo>
                <a:lnTo>
                  <a:pt x="3489" y="0"/>
                </a:lnTo>
                <a:lnTo>
                  <a:pt x="1738" y="1685"/>
                </a:lnTo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67280" y="2182680"/>
            <a:ext cx="4889520" cy="1449360"/>
          </a:xfrm>
          <a:custGeom>
            <a:avLst/>
            <a:gdLst/>
            <a:ahLst/>
            <a:rect l="l" t="t" r="r" b="b"/>
            <a:pathLst>
              <a:path w="3489" h="1685">
                <a:moveTo>
                  <a:pt x="0" y="0"/>
                </a:moveTo>
                <a:lnTo>
                  <a:pt x="3489" y="0"/>
                </a:lnTo>
                <a:lnTo>
                  <a:pt x="1738" y="1685"/>
                </a:lnTo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4080" y="74304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666800"/>
            <a:ext cx="46260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oss Dimensional Volatility is Increa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69920">
              <a:lnSpc>
                <a:spcPct val="100000"/>
              </a:lnSpc>
              <a:spcBef>
                <a:spcPts val="2001"/>
              </a:spcBef>
              <a:buClr>
                <a:srgbClr val="9900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conomic Glob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69920">
              <a:lnSpc>
                <a:spcPct val="100000"/>
              </a:lnSpc>
              <a:spcBef>
                <a:spcPts val="2001"/>
              </a:spcBef>
              <a:buClr>
                <a:srgbClr val="9900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icing pres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69920">
              <a:lnSpc>
                <a:spcPct val="100000"/>
              </a:lnSpc>
              <a:spcBef>
                <a:spcPts val="2001"/>
              </a:spcBef>
              <a:buClr>
                <a:srgbClr val="9900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stomer p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69920">
              <a:lnSpc>
                <a:spcPct val="100000"/>
              </a:lnSpc>
              <a:spcBef>
                <a:spcPts val="2001"/>
              </a:spcBef>
              <a:buClr>
                <a:srgbClr val="9900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rket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69920">
              <a:lnSpc>
                <a:spcPct val="100000"/>
              </a:lnSpc>
              <a:spcBef>
                <a:spcPts val="2001"/>
              </a:spcBef>
              <a:buClr>
                <a:srgbClr val="9900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etitive thre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69920">
              <a:lnSpc>
                <a:spcPct val="100000"/>
              </a:lnSpc>
              <a:spcBef>
                <a:spcPts val="2001"/>
              </a:spcBef>
              <a:buClr>
                <a:srgbClr val="9900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chnology shif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69920">
              <a:lnSpc>
                <a:spcPct val="100000"/>
              </a:lnSpc>
              <a:spcBef>
                <a:spcPts val="2001"/>
              </a:spcBef>
              <a:buClr>
                <a:srgbClr val="9900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ock valu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69920">
              <a:lnSpc>
                <a:spcPct val="100000"/>
              </a:lnSpc>
              <a:spcBef>
                <a:spcPts val="2001"/>
              </a:spcBef>
              <a:buClr>
                <a:srgbClr val="d1821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67280" y="2438280"/>
            <a:ext cx="48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dyna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67280" y="4888080"/>
            <a:ext cx="48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ology dyna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5080" y="3440160"/>
            <a:ext cx="3943440" cy="7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cc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On Demand Business</a:t>
            </a:r>
            <a:endParaRPr b="0" lang="en-US" sz="1800" spc="1" strike="noStrike">
              <a:ln w="9360">
                <a:solidFill>
                  <a:srgbClr val="0066cc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115" name=""/>
          <p:cNvSpPr/>
          <p:nvPr/>
        </p:nvSpPr>
        <p:spPr>
          <a:xfrm>
            <a:off x="4129200" y="974880"/>
            <a:ext cx="50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the intersection of business &amp;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4080" y="6426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Demand Computing Environment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90600" y="2116080"/>
            <a:ext cx="4997520" cy="4032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103480" y="1046160"/>
            <a:ext cx="5119560" cy="4076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046400" y="4235400"/>
            <a:ext cx="1238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i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8180000">
            <a:off x="3494160" y="3025440"/>
            <a:ext cx="901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sines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3400200">
            <a:off x="4623120" y="2988360"/>
            <a:ext cx="1544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ancial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livery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3960720"/>
            <a:ext cx="1749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68480" y="5486400"/>
            <a:ext cx="5452920" cy="669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MS PGothic"/>
              </a:rPr>
              <a:t>What kind of computing environment does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MS PGothic"/>
              </a:rPr>
              <a:t>on demand require, and how do I build on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720" y="1461960"/>
            <a:ext cx="17258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8120" indent="-168120">
              <a:buClr>
                <a:srgbClr val="1015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po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1015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1015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c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1015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i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01080" y="1468440"/>
            <a:ext cx="160812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8120" indent="-168120">
              <a:buClr>
                <a:srgbClr val="6ba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lex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6ba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6ba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6ba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080" y="6426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Demand Computing Environment – Application Foundation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0600" y="2049480"/>
            <a:ext cx="4997520" cy="4032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103480" y="1009800"/>
            <a:ext cx="5119560" cy="4046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046400" y="4168800"/>
            <a:ext cx="1238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i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8180000">
            <a:off x="3494160" y="2958480"/>
            <a:ext cx="901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sines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3400200">
            <a:off x="4623120" y="2921400"/>
            <a:ext cx="1544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ancial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livery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3894120"/>
            <a:ext cx="1749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4080" y="590400"/>
            <a:ext cx="8245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4320" y="5283360"/>
            <a:ext cx="3621960" cy="824040"/>
          </a:xfrm>
          <a:prstGeom prst="rect">
            <a:avLst/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mon Application Foun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ilt using 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 Demand Operating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28760" y="5118120"/>
            <a:ext cx="1898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97800" y="5118120"/>
            <a:ext cx="1898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080" y="836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Sphere Application Integration Bu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1776240"/>
            <a:ext cx="25923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s Ba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sely Coupl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es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49760" y="1776240"/>
            <a:ext cx="3811680" cy="3902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4080" y="685800"/>
            <a:ext cx="8245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814480" y="1341360"/>
            <a:ext cx="61358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Sphere Common Application Foundation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4080" y="685800"/>
            <a:ext cx="8245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11160" y="1965240"/>
            <a:ext cx="5519880" cy="427536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7095960" y="1960560"/>
            <a:ext cx="1884600" cy="1469880"/>
            <a:chOff x="7095960" y="1960560"/>
            <a:chExt cx="1884600" cy="1469880"/>
          </a:xfrm>
        </p:grpSpPr>
        <p:grpSp>
          <p:nvGrpSpPr>
            <p:cNvPr id="146" name=""/>
            <p:cNvGrpSpPr/>
            <p:nvPr/>
          </p:nvGrpSpPr>
          <p:grpSpPr>
            <a:xfrm>
              <a:off x="7500960" y="1960560"/>
              <a:ext cx="1074600" cy="1079280"/>
              <a:chOff x="7500960" y="1960560"/>
              <a:chExt cx="1074600" cy="1079280"/>
            </a:xfrm>
          </p:grpSpPr>
          <p:sp>
            <p:nvSpPr>
              <p:cNvPr id="147" name=""/>
              <p:cNvSpPr/>
              <p:nvPr/>
            </p:nvSpPr>
            <p:spPr>
              <a:xfrm>
                <a:off x="7500960" y="1960560"/>
                <a:ext cx="1074600" cy="1079280"/>
              </a:xfrm>
              <a:prstGeom prst="rect">
                <a:avLst/>
              </a:prstGeom>
              <a:solidFill>
                <a:srgbClr val="eadc8e"/>
              </a:solidFill>
              <a:ln w="28440">
                <a:solidFill>
                  <a:srgbClr val="c0a2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576920" y="1960560"/>
                <a:ext cx="92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mpro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567560" y="2235240"/>
                <a:ext cx="936360" cy="76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0" name=""/>
            <p:cNvSpPr/>
            <p:nvPr/>
          </p:nvSpPr>
          <p:spPr>
            <a:xfrm>
              <a:off x="7095960" y="3125880"/>
              <a:ext cx="1884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7145280" y="4923000"/>
            <a:ext cx="1884600" cy="1484280"/>
            <a:chOff x="7145280" y="4923000"/>
            <a:chExt cx="1884600" cy="1484280"/>
          </a:xfrm>
        </p:grpSpPr>
        <p:grpSp>
          <p:nvGrpSpPr>
            <p:cNvPr id="152" name=""/>
            <p:cNvGrpSpPr/>
            <p:nvPr/>
          </p:nvGrpSpPr>
          <p:grpSpPr>
            <a:xfrm>
              <a:off x="7550280" y="4923000"/>
              <a:ext cx="1074600" cy="1079280"/>
              <a:chOff x="7550280" y="4923000"/>
              <a:chExt cx="1074600" cy="1079280"/>
            </a:xfrm>
          </p:grpSpPr>
          <p:sp>
            <p:nvSpPr>
              <p:cNvPr id="153" name=""/>
              <p:cNvSpPr/>
              <p:nvPr/>
            </p:nvSpPr>
            <p:spPr>
              <a:xfrm>
                <a:off x="7550280" y="4923000"/>
                <a:ext cx="1074600" cy="1079280"/>
              </a:xfrm>
              <a:prstGeom prst="rect">
                <a:avLst/>
              </a:prstGeom>
              <a:solidFill>
                <a:srgbClr val="a1d2e3"/>
              </a:solidFill>
              <a:ln w="28440">
                <a:solidFill>
                  <a:srgbClr val="6495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626240" y="4923000"/>
                <a:ext cx="921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lera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621560" y="5199120"/>
                <a:ext cx="916920" cy="754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6" name=""/>
            <p:cNvSpPr/>
            <p:nvPr/>
          </p:nvSpPr>
          <p:spPr>
            <a:xfrm>
              <a:off x="7145280" y="6102360"/>
              <a:ext cx="1884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8640" y="1446120"/>
            <a:ext cx="69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8585"/>
                </a:solidFill>
                <a:latin typeface="Arial"/>
                <a:ea typeface="Arial"/>
              </a:rPr>
              <a:t>Solutions for simplifying an On Demand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65120" y="1965240"/>
            <a:ext cx="1074600" cy="1079280"/>
            <a:chOff x="465120" y="1965240"/>
            <a:chExt cx="1074600" cy="1079280"/>
          </a:xfrm>
        </p:grpSpPr>
        <p:sp>
          <p:nvSpPr>
            <p:cNvPr id="159" name=""/>
            <p:cNvSpPr/>
            <p:nvPr/>
          </p:nvSpPr>
          <p:spPr>
            <a:xfrm>
              <a:off x="465120" y="1965240"/>
              <a:ext cx="1074600" cy="1079280"/>
            </a:xfrm>
            <a:prstGeom prst="rect">
              <a:avLst/>
            </a:prstGeom>
            <a:solidFill>
              <a:srgbClr val="aed994"/>
            </a:solidFill>
            <a:ln w="28440">
              <a:solidFill>
                <a:srgbClr val="7fa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2240" y="1965240"/>
              <a:ext cx="92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Buil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541080" y="2265120"/>
              <a:ext cx="89496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"/>
          <p:cNvGrpSpPr/>
          <p:nvPr/>
        </p:nvGrpSpPr>
        <p:grpSpPr>
          <a:xfrm>
            <a:off x="541440" y="5041800"/>
            <a:ext cx="1074600" cy="1079640"/>
            <a:chOff x="541440" y="5041800"/>
            <a:chExt cx="1074600" cy="1079640"/>
          </a:xfrm>
        </p:grpSpPr>
        <p:sp>
          <p:nvSpPr>
            <p:cNvPr id="163" name=""/>
            <p:cNvSpPr/>
            <p:nvPr/>
          </p:nvSpPr>
          <p:spPr>
            <a:xfrm>
              <a:off x="541440" y="5041800"/>
              <a:ext cx="1074600" cy="1079640"/>
            </a:xfrm>
            <a:prstGeom prst="rect">
              <a:avLst/>
            </a:prstGeom>
            <a:solidFill>
              <a:srgbClr val="d0c5ec"/>
            </a:solidFill>
            <a:ln w="28440">
              <a:solidFill>
                <a:srgbClr val="906d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7400" y="5041800"/>
              <a:ext cx="92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rniz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5"/>
            <a:stretch/>
          </p:blipFill>
          <p:spPr>
            <a:xfrm>
              <a:off x="626760" y="5329080"/>
              <a:ext cx="909360" cy="717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Sphere Common Application Foundation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2440" y="3214800"/>
            <a:ext cx="6765840" cy="320652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60520" y="3929040"/>
            <a:ext cx="5899320" cy="547560"/>
          </a:xfrm>
          <a:prstGeom prst="rect">
            <a:avLst/>
          </a:prstGeom>
          <a:solidFill>
            <a:srgbClr val="eaeaea"/>
          </a:solidFill>
          <a:ln w="1260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  <a:ea typeface="Arial"/>
              </a:rPr>
              <a:t>Build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nd deploy on demand applicati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38560" y="4538520"/>
            <a:ext cx="5914800" cy="547920"/>
          </a:xfrm>
          <a:prstGeom prst="rect">
            <a:avLst/>
          </a:prstGeom>
          <a:solidFill>
            <a:srgbClr val="eaeaea"/>
          </a:solidFill>
          <a:ln w="1260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  <a:ea typeface="Arial"/>
              </a:rPr>
              <a:t>Modernize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xisting applic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360520" y="5148360"/>
            <a:ext cx="5854680" cy="547560"/>
          </a:xfrm>
          <a:prstGeom prst="rect">
            <a:avLst/>
          </a:prstGeom>
          <a:solidFill>
            <a:srgbClr val="eaeaea"/>
          </a:solidFill>
          <a:ln w="1260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  <a:ea typeface="Arial"/>
              </a:rPr>
              <a:t>Accelerate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development lifecyc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60520" y="5757840"/>
            <a:ext cx="5853240" cy="547560"/>
          </a:xfrm>
          <a:prstGeom prst="rect">
            <a:avLst/>
          </a:prstGeom>
          <a:solidFill>
            <a:srgbClr val="eaeaea"/>
          </a:solidFill>
          <a:ln w="1260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  <a:ea typeface="Arial"/>
              </a:rPr>
              <a:t>Improve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T operational 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674720" y="5149800"/>
            <a:ext cx="500040" cy="544680"/>
            <a:chOff x="1674720" y="5149800"/>
            <a:chExt cx="500040" cy="544680"/>
          </a:xfrm>
        </p:grpSpPr>
        <p:sp>
          <p:nvSpPr>
            <p:cNvPr id="173" name=""/>
            <p:cNvSpPr/>
            <p:nvPr/>
          </p:nvSpPr>
          <p:spPr>
            <a:xfrm>
              <a:off x="1674720" y="5149800"/>
              <a:ext cx="500040" cy="544680"/>
            </a:xfrm>
            <a:prstGeom prst="rect">
              <a:avLst/>
            </a:prstGeom>
            <a:solidFill>
              <a:srgbClr val="a1d2e3"/>
            </a:solidFill>
            <a:ln w="12600">
              <a:solidFill>
                <a:srgbClr val="6495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1712880" y="5180040"/>
              <a:ext cx="41436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"/>
          <p:cNvSpPr/>
          <p:nvPr/>
        </p:nvSpPr>
        <p:spPr>
          <a:xfrm>
            <a:off x="3438720" y="3335400"/>
            <a:ext cx="47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Sphere Common Application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515960" y="3192480"/>
            <a:ext cx="1884600" cy="70956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6216480" y="1839960"/>
            <a:ext cx="1074600" cy="1079280"/>
            <a:chOff x="6216480" y="1839960"/>
            <a:chExt cx="1074600" cy="1079280"/>
          </a:xfrm>
        </p:grpSpPr>
        <p:sp>
          <p:nvSpPr>
            <p:cNvPr id="178" name=""/>
            <p:cNvSpPr/>
            <p:nvPr/>
          </p:nvSpPr>
          <p:spPr>
            <a:xfrm>
              <a:off x="6216480" y="1839960"/>
              <a:ext cx="1074600" cy="1079280"/>
            </a:xfrm>
            <a:prstGeom prst="rect">
              <a:avLst/>
            </a:prstGeom>
            <a:solidFill>
              <a:srgbClr val="eadc8e"/>
            </a:solidFill>
            <a:ln w="28440">
              <a:solidFill>
                <a:srgbClr val="c0a2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92440" y="1839960"/>
              <a:ext cx="92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ro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3"/>
            <a:stretch/>
          </p:blipFill>
          <p:spPr>
            <a:xfrm>
              <a:off x="6283080" y="2114640"/>
              <a:ext cx="936360" cy="76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"/>
          <p:cNvGrpSpPr/>
          <p:nvPr/>
        </p:nvGrpSpPr>
        <p:grpSpPr>
          <a:xfrm>
            <a:off x="4948200" y="1839960"/>
            <a:ext cx="1074600" cy="1079280"/>
            <a:chOff x="4948200" y="1839960"/>
            <a:chExt cx="1074600" cy="1079280"/>
          </a:xfrm>
        </p:grpSpPr>
        <p:sp>
          <p:nvSpPr>
            <p:cNvPr id="182" name=""/>
            <p:cNvSpPr/>
            <p:nvPr/>
          </p:nvSpPr>
          <p:spPr>
            <a:xfrm>
              <a:off x="4948200" y="1839960"/>
              <a:ext cx="1074600" cy="1079280"/>
            </a:xfrm>
            <a:prstGeom prst="rect">
              <a:avLst/>
            </a:prstGeom>
            <a:solidFill>
              <a:srgbClr val="a1d2e3"/>
            </a:solidFill>
            <a:ln w="28440">
              <a:solidFill>
                <a:srgbClr val="6495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24160" y="1839960"/>
              <a:ext cx="92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ler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4"/>
            <a:stretch/>
          </p:blipFill>
          <p:spPr>
            <a:xfrm>
              <a:off x="5019480" y="2116080"/>
              <a:ext cx="916920" cy="75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"/>
          <p:cNvGrpSpPr/>
          <p:nvPr/>
        </p:nvGrpSpPr>
        <p:grpSpPr>
          <a:xfrm>
            <a:off x="1692360" y="5759280"/>
            <a:ext cx="474480" cy="533520"/>
            <a:chOff x="1692360" y="5759280"/>
            <a:chExt cx="474480" cy="533520"/>
          </a:xfrm>
        </p:grpSpPr>
        <p:sp>
          <p:nvSpPr>
            <p:cNvPr id="186" name=""/>
            <p:cNvSpPr/>
            <p:nvPr/>
          </p:nvSpPr>
          <p:spPr>
            <a:xfrm>
              <a:off x="1692360" y="5759280"/>
              <a:ext cx="474480" cy="533520"/>
            </a:xfrm>
            <a:prstGeom prst="rect">
              <a:avLst/>
            </a:prstGeom>
            <a:solidFill>
              <a:srgbClr val="eadc8e"/>
            </a:solidFill>
            <a:ln w="28440">
              <a:solidFill>
                <a:srgbClr val="c0a2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5"/>
            <a:stretch/>
          </p:blipFill>
          <p:spPr>
            <a:xfrm>
              <a:off x="1721520" y="5799960"/>
              <a:ext cx="413640" cy="47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"/>
          <p:cNvSpPr/>
          <p:nvPr/>
        </p:nvSpPr>
        <p:spPr>
          <a:xfrm>
            <a:off x="2336760" y="3429000"/>
            <a:ext cx="45072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376360" y="1854360"/>
            <a:ext cx="1074960" cy="1079280"/>
            <a:chOff x="2376360" y="1854360"/>
            <a:chExt cx="1074960" cy="1079280"/>
          </a:xfrm>
        </p:grpSpPr>
        <p:sp>
          <p:nvSpPr>
            <p:cNvPr id="190" name=""/>
            <p:cNvSpPr/>
            <p:nvPr/>
          </p:nvSpPr>
          <p:spPr>
            <a:xfrm>
              <a:off x="2376360" y="1854360"/>
              <a:ext cx="1074960" cy="1079280"/>
            </a:xfrm>
            <a:prstGeom prst="rect">
              <a:avLst/>
            </a:prstGeom>
            <a:solidFill>
              <a:srgbClr val="aed994"/>
            </a:solidFill>
            <a:ln w="28440">
              <a:solidFill>
                <a:srgbClr val="7fa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63840" y="1854360"/>
              <a:ext cx="92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il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6"/>
            <a:stretch/>
          </p:blipFill>
          <p:spPr>
            <a:xfrm>
              <a:off x="2452680" y="2154240"/>
              <a:ext cx="89532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"/>
          <p:cNvGrpSpPr/>
          <p:nvPr/>
        </p:nvGrpSpPr>
        <p:grpSpPr>
          <a:xfrm>
            <a:off x="3660840" y="1832040"/>
            <a:ext cx="1074600" cy="1079280"/>
            <a:chOff x="3660840" y="1832040"/>
            <a:chExt cx="1074600" cy="1079280"/>
          </a:xfrm>
        </p:grpSpPr>
        <p:sp>
          <p:nvSpPr>
            <p:cNvPr id="194" name=""/>
            <p:cNvSpPr/>
            <p:nvPr/>
          </p:nvSpPr>
          <p:spPr>
            <a:xfrm>
              <a:off x="3660840" y="1832040"/>
              <a:ext cx="1074600" cy="1079280"/>
            </a:xfrm>
            <a:prstGeom prst="rect">
              <a:avLst/>
            </a:prstGeom>
            <a:solidFill>
              <a:srgbClr val="d0c5ec"/>
            </a:solidFill>
            <a:ln w="28440">
              <a:solidFill>
                <a:srgbClr val="906d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36800" y="1832040"/>
              <a:ext cx="92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derniz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7"/>
            <a:stretch/>
          </p:blipFill>
          <p:spPr>
            <a:xfrm>
              <a:off x="3746160" y="2118960"/>
              <a:ext cx="909360" cy="71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"/>
          <p:cNvSpPr/>
          <p:nvPr/>
        </p:nvSpPr>
        <p:spPr>
          <a:xfrm>
            <a:off x="1235160" y="5181480"/>
            <a:ext cx="355680" cy="441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5105520"/>
            <a:ext cx="127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us of this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50960" y="3976560"/>
            <a:ext cx="530280" cy="462240"/>
          </a:xfrm>
          <a:prstGeom prst="rect">
            <a:avLst/>
          </a:prstGeom>
          <a:solidFill>
            <a:srgbClr val="aed994"/>
          </a:solidFill>
          <a:ln w="28440">
            <a:solidFill>
              <a:srgbClr val="7fa2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1695600" y="4022640"/>
            <a:ext cx="468000" cy="37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679400" y="4587840"/>
            <a:ext cx="498600" cy="453960"/>
          </a:xfrm>
          <a:prstGeom prst="rect">
            <a:avLst/>
          </a:prstGeom>
          <a:solidFill>
            <a:srgbClr val="d0c5ec"/>
          </a:solidFill>
          <a:ln w="28440">
            <a:solidFill>
              <a:srgbClr val="90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9"/>
          <a:stretch/>
        </p:blipFill>
        <p:spPr>
          <a:xfrm>
            <a:off x="1704960" y="4649760"/>
            <a:ext cx="44928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ccelerate the Development Lifecycle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28120" y="1861920"/>
            <a:ext cx="77756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development lifecycle based on Eclips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499"/>
              </a:spcBef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utomates code creation for Web Services, connectors, J2EE applications, user interfaces, and application log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es structured development processes through a systematic iterative approa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ep-wise progression through entire life cycle including design, develop, and deplo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izes team development across all roles through an integrated repositor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8020080" y="660240"/>
            <a:ext cx="701280" cy="688680"/>
            <a:chOff x="8020080" y="660240"/>
            <a:chExt cx="701280" cy="688680"/>
          </a:xfrm>
        </p:grpSpPr>
        <p:sp>
          <p:nvSpPr>
            <p:cNvPr id="206" name=""/>
            <p:cNvSpPr/>
            <p:nvPr/>
          </p:nvSpPr>
          <p:spPr>
            <a:xfrm>
              <a:off x="8020080" y="660240"/>
              <a:ext cx="701280" cy="688680"/>
            </a:xfrm>
            <a:prstGeom prst="rect">
              <a:avLst/>
            </a:prstGeom>
            <a:solidFill>
              <a:srgbClr val="a1d2e3"/>
            </a:solidFill>
            <a:ln w="12600">
              <a:solidFill>
                <a:srgbClr val="6495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8073720" y="698400"/>
              <a:ext cx="581400" cy="57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8" name=""/>
          <p:cNvSpPr/>
          <p:nvPr/>
        </p:nvSpPr>
        <p:spPr>
          <a:xfrm>
            <a:off x="385920" y="1481040"/>
            <a:ext cx="644508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293760" indent="-293760">
              <a:spcBef>
                <a:spcPts val="751"/>
              </a:spcBef>
              <a:spcAft>
                <a:spcPts val="451"/>
              </a:spcAft>
              <a:tabLst>
                <a:tab algn="l" pos="0"/>
                <a:tab algn="l" pos="165564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618240" y="1392120"/>
            <a:ext cx="2102040" cy="7095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435800" y="1638360"/>
            <a:ext cx="503280" cy="19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19:27:26Z</dcterms:created>
  <dc:creator>Randy Doda &amp; Rick Weaver</dc:creator>
  <dc:description/>
  <dc:language>en-US</dc:language>
  <cp:lastModifiedBy>IBM USER</cp:lastModifiedBy>
  <dcterms:modified xsi:type="dcterms:W3CDTF">2003-09-08T15:36:44Z</dcterms:modified>
  <cp:revision>122</cp:revision>
  <dc:subject/>
  <dc:title>Slide 1</dc:title>
</cp:coreProperties>
</file>