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C45-34B0-4596-B465-BB86F31D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3DF-EE78-49A9-B0E9-A386595E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FE9-76B5-4774-801D-69F85376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96B-27F5-4D47-A27F-314940F6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1EC-7785-45E2-A487-AE1D018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B39-30E6-4912-BCBE-5AA929D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FFC-297A-4694-8E89-8CAAB660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5F0-868C-431C-8A92-5795C3A5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783-F177-47A5-9EC1-34468478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B36-076B-462B-ADFE-239B3A5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C91-9C97-4EEA-B528-1BAFC33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C68-4778-4BE8-B5CA-B70D72FA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1C7-F544-4E9D-BF11-9725D916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8889" r="0" b="0"/>
          <a:stretch/>
        </p:blipFill>
        <p:spPr>
          <a:xfrm>
            <a:off x="990720" y="0"/>
            <a:ext cx="634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03840" y="2467080"/>
            <a:ext cx="130644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37:22Z</dcterms:created>
  <dc:creator> </dc:creator>
  <dc:description/>
  <dc:language>en-US</dc:language>
  <cp:lastModifiedBy> </cp:lastModifiedBy>
  <dcterms:modified xsi:type="dcterms:W3CDTF">2006-01-09T13:37:52Z</dcterms:modified>
  <cp:revision>1</cp:revision>
  <dc:subject/>
  <dc:title>Slide 1</dc:title>
</cp:coreProperties>
</file>