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318-1D70-4162-9E5E-53F3FB7B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784-F030-4AE1-9A0D-FB28F1F4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879-9764-49EA-B527-33C19182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446-7558-47FE-9317-7CB2ABFD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BC1-0A63-4558-92B3-1AD7A0F2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D67-46A8-4697-B4A4-A2903A4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F81-AAB2-4606-8D29-4314ACD7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779-7065-435C-B1C6-2F6C704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CE7-ACA7-4135-8D1A-5332D15D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0AD-2BC7-4B7C-9128-DD6FEE40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175-30B2-498C-A4A2-1990DDEA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94F-0F34-42C9-A7C2-41BCEEFC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A186-70AA-4BDD-B6D5-040D4D9A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0520" y="2857680"/>
            <a:ext cx="856296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31240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767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4290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5812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7576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390996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0840" y="3119400"/>
            <a:ext cx="433440" cy="3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90840" y="3271680"/>
            <a:ext cx="438120" cy="314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90840" y="3252960"/>
            <a:ext cx="428760" cy="1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90840" y="3576600"/>
            <a:ext cx="428760" cy="1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390840" y="3095640"/>
            <a:ext cx="409680" cy="657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390840" y="3895200"/>
            <a:ext cx="414360" cy="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00560" y="3114720"/>
            <a:ext cx="400320" cy="633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00560" y="3267000"/>
            <a:ext cx="405000" cy="1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200560" y="3252600"/>
            <a:ext cx="405000" cy="1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00560" y="3095280"/>
            <a:ext cx="405000" cy="4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0560" y="3576600"/>
            <a:ext cx="395280" cy="1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00560" y="39006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15320" y="31194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5320" y="3271680"/>
            <a:ext cx="423720" cy="16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015320" y="3266640"/>
            <a:ext cx="423720" cy="1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5320" y="3576600"/>
            <a:ext cx="414360" cy="1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015320" y="3576600"/>
            <a:ext cx="409320" cy="176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5320" y="3905280"/>
            <a:ext cx="41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4:15:43Z</dcterms:created>
  <dc:creator> </dc:creator>
  <dc:description/>
  <dc:language>en-US</dc:language>
  <cp:lastModifiedBy> </cp:lastModifiedBy>
  <dcterms:modified xsi:type="dcterms:W3CDTF">2006-03-20T14:16:42Z</dcterms:modified>
  <cp:revision>1</cp:revision>
  <dc:subject/>
  <dc:title>Slide 1</dc:title>
</cp:coreProperties>
</file>