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3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4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5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2D30CD-26FA-451B-BF72-CFEC2CC9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ets of web tools in 5.0: “Pzn Admin” or Personalization Resource Console for runtime and WebSphere Portal content publishing for auth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d in 5.1 to one set of authoring Portlets – remote-able configuration by configuring the datasource to point to a remot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ZN instances can run on the same database for clustering and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Personalization uses the WebSphere Dynamic Cache, you can use the WebSphere Dynamic Cache APIs to clear the cache, but you can also use a PZN API to get at the cache from a higher level of abstraction that will be useful for PZN us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dd a class called com.ibm.websphere.personalization.resources.cache.CacheManag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 single place of administration for the Personalization cach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Users may call the invalidate methods of this manager to rem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ertain items from the cache.  Note that since all resource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re configured to share a WebSphere Dynamic cache map instance by defaul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learing one collection may clear all the collec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To have more granular cache control, users may set up WebSp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Dynamic Cache maps for each resource collection or for groups of collec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nd use the PersonalizationService.properties file to configure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ollection to use a particular cache m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acheManager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the cache entries for the specified item in the spec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resource collection.  This call will in turn call invalidate(resourceColl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since invalidating this item may invalidate all que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esourceCollection the collection the id belong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d the item which has become invalid in the ca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String resourceCollection, String 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all cache entries for queries on the specified resource collec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Not that this does not explicitly clear the cache entries for individual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which are cached by i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esourceCollection the collection which should be invalid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String resourceColl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all cache entries which this Personalization server is aware o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ization is the ability for the web site to customize the content that it delivers to its vis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web site recognizes users based on characteristics in a profile, or based on characteristics from previous visits by the user; for example, what did they purchase previously, or what products were they looking at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tent that is then delivered to the visitor is tailored based on the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on example is a member of a rewards program. If the member has achieved “Gold Status” they would see different content than a member who is “Bronze Statu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F763-4B8E-476C-A2F5-05B54AF23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9CB9-8613-4167-AC89-ED93E373B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D96C-C1F6-4B55-9ADD-5B685E755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EB01-C101-46D6-9EC9-5C7EFF0BC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EFFE-1D2E-489D-A0C5-8ACE3F37D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BCE2-7A5F-48FC-9E81-4EEE7D77F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A04-8100-4D2F-B25D-72B5595F7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432C-D1D1-4B96-BFE2-BA552024B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A6BD-68FD-46E8-B42C-F824F5313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8471-1E11-4F90-BC49-6F393DE1F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DDCE-E6AC-456A-AF3A-8BA3D1F04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C6E8-982B-4BC2-B4E6-D319886E3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36760" y="123840"/>
            <a:ext cx="61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548-B723-47D2-ADD6-444EF444050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76920" y="6529320"/>
            <a:ext cx="20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3_3 - Person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6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ation Feature of WebSphere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Server v5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76720" y="609480"/>
          <a:ext cx="560376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609480"/>
                    <a:ext cx="560376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Update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48320" y="3276720"/>
          <a:ext cx="4340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76720"/>
                    <a:ext cx="4340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3130560" y="4340160"/>
            <a:ext cx="5381280" cy="996480"/>
            <a:chOff x="3130560" y="4340160"/>
            <a:chExt cx="5381280" cy="996480"/>
          </a:xfrm>
        </p:grpSpPr>
        <p:graphicFrame>
          <p:nvGraphicFramePr>
            <p:cNvPr id="172" name=""/>
            <p:cNvGraphicFramePr/>
            <p:nvPr/>
          </p:nvGraphicFramePr>
          <p:xfrm>
            <a:off x="3391920" y="4738320"/>
            <a:ext cx="508608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1920" y="4738320"/>
                      <a:ext cx="50860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3130560" y="4340160"/>
              <a:ext cx="5381280" cy="5695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280" y="167652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dates the current user object or th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pdates may be persisted as with the current user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pdates may be transient or application managed such as a shopping c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also set portlet or HTTP request and portlet or HTTP session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276720"/>
            <a:ext cx="4402080" cy="91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4240" y="4340160"/>
            <a:ext cx="5465880" cy="60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B174-D035-4206-ABDD-760050FE8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inding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141720" y="838080"/>
          <a:ext cx="58500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838080"/>
                    <a:ext cx="58500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1880" y="2449440"/>
          <a:ext cx="18068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1880" y="2449440"/>
                    <a:ext cx="1806840" cy="1473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686640" y="4221000"/>
          <a:ext cx="173340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86640" y="4221000"/>
                    <a:ext cx="1733400" cy="108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52280" y="167652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lls all the previous rule type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ditions come from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conditions are met, select or recommend content, perform updates, send em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A5FD-B38A-4459-A044-35231134B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ail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ility to trigger email in a content 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goes to current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d email bod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mail may contain content spots and run rules to select items in the em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campaigning using a schedul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targeted newsletters, emails triggered to verify or send receipt of user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48320" y="1371600"/>
          <a:ext cx="434340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434340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A727-F69A-46CE-B085-A4B12C3300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ikeMinds Recommendation Engi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78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s: “What might Joe be interested in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Application is instrumented to record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Background task chooses “mentors” and assigns everyone to a men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Application triggers a Recommendation rule and gets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2480" y="5326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so answer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What goes with tofu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3680" y="595800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swer: broccoli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62800" y="29163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386480" y="3959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2600" y="35784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014880" y="27399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557680" y="34257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7005600" y="35784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6319800" y="38070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6319800" y="27399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6167520" y="3044880"/>
            <a:ext cx="168120" cy="357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176800" y="3349800"/>
            <a:ext cx="990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67520" y="3730680"/>
            <a:ext cx="7617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1920" y="388296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6480" y="258768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0680" y="2968560"/>
            <a:ext cx="7621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86280" y="266400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719600"/>
            <a:ext cx="1446480" cy="13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5025960"/>
            <a:ext cx="144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95920" y="5711760"/>
            <a:ext cx="533160" cy="304920"/>
            <a:chOff x="4795920" y="5711760"/>
            <a:chExt cx="533160" cy="304920"/>
          </a:xfrm>
        </p:grpSpPr>
        <p:sp>
          <p:nvSpPr>
            <p:cNvPr id="212" name=""/>
            <p:cNvSpPr/>
            <p:nvPr/>
          </p:nvSpPr>
          <p:spPr>
            <a:xfrm>
              <a:off x="4795920" y="571176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5920" y="578808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5920" y="5864400"/>
              <a:ext cx="533160" cy="7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5920" y="594036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34640" y="5483160"/>
            <a:ext cx="70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criptle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94920" y="4797360"/>
            <a:ext cx="4107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86280" y="449280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5329080" y="357840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5710320" y="3578400"/>
            <a:ext cx="168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5481720" y="37306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6700680" y="4111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6548400" y="3959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6243480" y="41115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6396120" y="41878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7157880" y="41115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7615080" y="4111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7843680" y="25876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8072280" y="28926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7843680" y="2968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7691400" y="2816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57880" y="34257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6853320" y="33498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5"/>
          <a:stretch/>
        </p:blipFill>
        <p:spPr>
          <a:xfrm>
            <a:off x="7005600" y="30448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6"/>
          <a:stretch/>
        </p:blipFill>
        <p:spPr>
          <a:xfrm>
            <a:off x="5862600" y="2892600"/>
            <a:ext cx="185760" cy="395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710320" y="1076400"/>
            <a:ext cx="761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720" y="1390680"/>
            <a:ext cx="70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criptle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6280" y="107640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69200" y="1531800"/>
            <a:ext cx="1137960" cy="150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15080" y="1540440"/>
            <a:ext cx="903600" cy="675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keMinds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6167520" y="3044880"/>
            <a:ext cx="180720" cy="382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5557680" y="3425760"/>
            <a:ext cx="166680" cy="352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6319800" y="3807000"/>
            <a:ext cx="166680" cy="352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7005600" y="3578400"/>
            <a:ext cx="166680" cy="352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7462800" y="2892600"/>
            <a:ext cx="181080" cy="382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7386480" y="3959280"/>
            <a:ext cx="181080" cy="382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24520" y="2206800"/>
            <a:ext cx="36576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624720" y="1835280"/>
            <a:ext cx="9824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8442360" y="2138400"/>
            <a:ext cx="16344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019920" y="4643280"/>
            <a:ext cx="3124080" cy="18288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siness Rules can be based on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F1B2-BC4A-4AAE-A7CE-4A8F865F6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commendation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1371600"/>
          <a:ext cx="57150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57150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530520" y="1851120"/>
            <a:ext cx="4313160" cy="284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629400" y="1828800"/>
            <a:ext cx="1447920" cy="762120"/>
          </a:xfrm>
          <a:prstGeom prst="wedgeRectCallout">
            <a:avLst>
              <a:gd name="adj1" fmla="val -77740"/>
              <a:gd name="adj2" fmla="val 58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Click Stream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3657600"/>
            <a:ext cx="1447920" cy="762120"/>
          </a:xfrm>
          <a:prstGeom prst="wedgeRectCallout">
            <a:avLst>
              <a:gd name="adj1" fmla="val -100439"/>
              <a:gd name="adj2" fmla="val -13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Preference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038480"/>
            <a:ext cx="1447920" cy="762120"/>
          </a:xfrm>
          <a:prstGeom prst="wedgeRectCallout">
            <a:avLst>
              <a:gd name="adj1" fmla="val -28949"/>
              <a:gd name="adj2" fmla="val -138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Item Affinity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383E-E491-44B5-BCDC-CD7564E4F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bjec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8520" y="1455840"/>
          <a:ext cx="15048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455840"/>
                    <a:ext cx="15048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992240" y="3429000"/>
            <a:ext cx="106200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19400" y="1303200"/>
            <a:ext cx="67546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pping cart, navigational state, or anything “curr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ed as a Java B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t Application Object into the session at a know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130560" y="2670120"/>
          <a:ext cx="584352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0560" y="2670120"/>
                    <a:ext cx="58435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5BC2-C3AE-4B0D-9434-12CEED9AC4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ation User Interfa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9920" y="1103400"/>
          <a:ext cx="880416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103400"/>
                    <a:ext cx="880416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634000" y="2925720"/>
            <a:ext cx="1062000" cy="455760"/>
          </a:xfrm>
          <a:prstGeom prst="wedgeRectCallout">
            <a:avLst>
              <a:gd name="adj1" fmla="val 41328"/>
              <a:gd name="adj2" fmla="val -8797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51760" y="573120"/>
            <a:ext cx="1822320" cy="682560"/>
          </a:xfrm>
          <a:prstGeom prst="wedgeRectCallout">
            <a:avLst>
              <a:gd name="adj1" fmla="val -30574"/>
              <a:gd name="adj2" fmla="val 783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 rules, campaigns, content spots, resource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25640" y="4518000"/>
            <a:ext cx="1517760" cy="379440"/>
          </a:xfrm>
          <a:prstGeom prst="wedgeRectCallout">
            <a:avLst>
              <a:gd name="adj1" fmla="val -58995"/>
              <a:gd name="adj2" fmla="val 107324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references are link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6800" y="1255680"/>
            <a:ext cx="1517760" cy="379440"/>
          </a:xfrm>
          <a:prstGeom prst="wedgeRectCallout">
            <a:avLst>
              <a:gd name="adj1" fmla="val -68412"/>
              <a:gd name="adj2" fmla="val 3284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control, version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0360" y="3759120"/>
            <a:ext cx="1062000" cy="381240"/>
          </a:xfrm>
          <a:prstGeom prst="wedgeRectCallout">
            <a:avLst>
              <a:gd name="adj1" fmla="val 73615"/>
              <a:gd name="adj2" fmla="val 52499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CDF2-3C2E-472D-BFE8-4BABB30CEA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ss to Portal Document Manag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ocuments through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DM content 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the PDM UI for a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2AAE-4B96-49F2-953F-423500F8EF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Document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41400" y="4417920"/>
          <a:ext cx="472464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4417920"/>
                    <a:ext cx="472464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621480" y="4870440"/>
            <a:ext cx="1365120" cy="760320"/>
          </a:xfrm>
          <a:prstGeom prst="wedgeRectCallout">
            <a:avLst>
              <a:gd name="adj1" fmla="val -55814"/>
              <a:gd name="adj2" fmla="val 71296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t document in 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95360" y="5781600"/>
            <a:ext cx="914400" cy="609840"/>
          </a:xfrm>
          <a:prstGeom prst="wedgeRectCallout">
            <a:avLst>
              <a:gd name="adj1" fmla="val 88717"/>
              <a:gd name="adj2" fmla="val -4635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 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004760" y="1152360"/>
          <a:ext cx="7134480" cy="278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4760" y="1152360"/>
                    <a:ext cx="713448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751120" y="3201840"/>
            <a:ext cx="113832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3201840"/>
            <a:ext cx="113832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3357360" y="3278160"/>
            <a:ext cx="15228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875120" y="3278160"/>
            <a:ext cx="7632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51120" y="3511800"/>
            <a:ext cx="5160960" cy="5871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ditions dependant on Document metadata and the current Portal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F65C-C7BF-4C8E-A5D6-3F3F22D7E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ed Lis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16240" y="469800"/>
          <a:ext cx="494208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469800"/>
                    <a:ext cx="4942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2200" y="122868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920" y="1228680"/>
            <a:ext cx="3870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portlet to disp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results of a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ust one of man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e such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 many, each with different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ize with 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your own wi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73040" y="4946760"/>
          <a:ext cx="29592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4946760"/>
                    <a:ext cx="29592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054240" y="4643280"/>
            <a:ext cx="1214640" cy="836640"/>
          </a:xfrm>
          <a:prstGeom prst="wedgeRoundRectCallout">
            <a:avLst>
              <a:gd name="adj1" fmla="val -39018"/>
              <a:gd name="adj2" fmla="val 64611"/>
              <a:gd name="adj3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ew documents i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A2F3-6921-42E0-A89F-E8FE98EB1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lementation of the personalization feature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how the personalization feature is architected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a personalization Resource Colle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Personalization Workspace portlet to create a personalized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E22C-3EFB-499F-8880-CCB140C7C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Personalization, Then and N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2886120"/>
            <a:ext cx="2365560" cy="190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57680" y="2886120"/>
            <a:ext cx="137484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57680" y="4167360"/>
            <a:ext cx="2289240" cy="5475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CM Runtime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57680" y="3786120"/>
            <a:ext cx="22892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R API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7240" y="340524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46720" y="3405240"/>
            <a:ext cx="60984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08840" y="3405240"/>
            <a:ext cx="83808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08840" y="2948040"/>
            <a:ext cx="838080" cy="38088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04760" y="1903320"/>
            <a:ext cx="2514600" cy="160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04760" y="1903320"/>
            <a:ext cx="14479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04760" y="3579840"/>
            <a:ext cx="114300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81080" y="220824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4600" y="2513160"/>
            <a:ext cx="761760" cy="228600"/>
          </a:xfrm>
          <a:prstGeom prst="rect">
            <a:avLst/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PCP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95480" y="3198960"/>
            <a:ext cx="144792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29000" y="2665440"/>
            <a:ext cx="914400" cy="45720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00640" y="4646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9840" y="213840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24080" y="3579840"/>
            <a:ext cx="129528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81080" y="2817720"/>
            <a:ext cx="1295280" cy="6098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PC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1080" y="251316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91000" y="1152360"/>
            <a:ext cx="4680" cy="510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38920" y="5847840"/>
            <a:ext cx="2882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JCR implementation is not yet fully compliant in 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E2AE-2C59-40AB-AD2F-D8E62E081E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157400" y="1219320"/>
          <a:ext cx="69055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1219320"/>
                    <a:ext cx="690552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772320" y="620640"/>
            <a:ext cx="2371680" cy="27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fining Resource Collec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99160" y="3429000"/>
            <a:ext cx="3340080" cy="758880"/>
          </a:xfrm>
          <a:prstGeom prst="wedgeEllipseCallout">
            <a:avLst>
              <a:gd name="adj1" fmla="val -59791"/>
              <a:gd name="adj2" fmla="val 485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 custom class, or use the Rational wizards to generat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152360"/>
            <a:ext cx="2125440" cy="758880"/>
          </a:xfrm>
          <a:prstGeom prst="wedgeEllipseCallout">
            <a:avLst>
              <a:gd name="adj1" fmla="val -45592"/>
              <a:gd name="adj2" fmla="val 5376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 objects and folders appear in the UI a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3600" y="3201840"/>
            <a:ext cx="1763640" cy="1365480"/>
          </a:xfrm>
          <a:prstGeom prst="wedgeEllipseCallout">
            <a:avLst>
              <a:gd name="adj1" fmla="val 53328"/>
              <a:gd name="adj2" fmla="val -2918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DM and future content applicatio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luding WCM in the near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7316640" y="696960"/>
          <a:ext cx="1657440" cy="21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6640" y="696960"/>
                    <a:ext cx="165744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D6D2-2126-4A68-AA5E-F0DB6CA40D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zards for generated code – SQL and LD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65720" y="1302840"/>
            <a:ext cx="26560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 included with Rational Application Developer 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with Rational relational database t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code may be altered or custom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2280" y="1143000"/>
          <a:ext cx="57913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57913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052-2D9A-42C8-9C4D-477CC813C5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ide the Personalization Serv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143000"/>
            <a:ext cx="3809880" cy="60948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1905120"/>
            <a:ext cx="5715000" cy="259056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2438280"/>
            <a:ext cx="236232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276720"/>
            <a:ext cx="3200400" cy="380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4572000"/>
            <a:ext cx="228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R 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2819520"/>
            <a:ext cx="121932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3657600"/>
            <a:ext cx="3200400" cy="1371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5029200"/>
            <a:ext cx="228600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Conte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4267080"/>
            <a:ext cx="121932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441972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R /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80060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502920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819520"/>
            <a:ext cx="914400" cy="18288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200400"/>
            <a:ext cx="914400" cy="1447920"/>
          </a:xfrm>
          <a:prstGeom prst="downArrow">
            <a:avLst>
              <a:gd name="adj1" fmla="val 50000"/>
              <a:gd name="adj2" fmla="val 39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1600200"/>
            <a:ext cx="762120" cy="1752480"/>
          </a:xfrm>
          <a:prstGeom prst="upArrow">
            <a:avLst>
              <a:gd name="adj1" fmla="val 50000"/>
              <a:gd name="adj2" fmla="val 574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1600200"/>
            <a:ext cx="609840" cy="12193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28195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123516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er registers Resource Collections and Business Manager creates Ru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2200" y="198108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triggered on a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29400" y="2514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Engine retrieves required rules to 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29400" y="3124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executed and results in 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733920"/>
            <a:ext cx="236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translated into an appropriate language / API by the generated Resource Collection classes (SQL, XPATH, LDAP filter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48466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executed and results are turned into Resources by the Resource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1265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19512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6068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17016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4923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200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16002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4343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29718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41911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B382-D9EA-4312-A223-EFFC7CDA8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6242040" y="1835280"/>
            <a:ext cx="1973160" cy="1562040"/>
            <a:chOff x="6242040" y="1835280"/>
            <a:chExt cx="1973160" cy="1562040"/>
          </a:xfrm>
        </p:grpSpPr>
        <p:sp>
          <p:nvSpPr>
            <p:cNvPr id="368" name=""/>
            <p:cNvSpPr/>
            <p:nvPr/>
          </p:nvSpPr>
          <p:spPr>
            <a:xfrm>
              <a:off x="624204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204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1836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1836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1836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460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368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8368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357720" y="1835280"/>
            <a:ext cx="1973160" cy="1562040"/>
            <a:chOff x="3357720" y="1835280"/>
            <a:chExt cx="1973160" cy="1562040"/>
          </a:xfrm>
        </p:grpSpPr>
        <p:sp>
          <p:nvSpPr>
            <p:cNvPr id="377" name=""/>
            <p:cNvSpPr/>
            <p:nvPr/>
          </p:nvSpPr>
          <p:spPr>
            <a:xfrm>
              <a:off x="335772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772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3404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3404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3404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4028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9936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9936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ublishing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73040" y="1835280"/>
            <a:ext cx="1973160" cy="1562040"/>
            <a:chOff x="473040" y="1835280"/>
            <a:chExt cx="1973160" cy="1562040"/>
          </a:xfrm>
        </p:grpSpPr>
        <p:sp>
          <p:nvSpPr>
            <p:cNvPr id="387" name=""/>
            <p:cNvSpPr/>
            <p:nvPr/>
          </p:nvSpPr>
          <p:spPr>
            <a:xfrm>
              <a:off x="47304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304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36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6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936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60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468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468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572200" y="31240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520" y="137160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440" y="31240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4920" y="137160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Auth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46200" y="244332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13716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15200" y="2517840"/>
            <a:ext cx="733680" cy="266688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39240" y="358128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8520" y="39146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2200" y="5541840"/>
            <a:ext cx="2497320" cy="6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wo sets of web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wo database form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6600" y="5237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78640" y="525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0800000">
            <a:off x="2371680" y="274644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0880" y="274644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54240" y="5553000"/>
            <a:ext cx="28846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set of Portal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database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2200" y="3808440"/>
            <a:ext cx="5616720" cy="13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let based UI for publishing rules, campaig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and line publish tool for scripted publish (“pznload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al Access control on publish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eck the status of publishing in a publish di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242040" y="4264200"/>
            <a:ext cx="1973160" cy="1562040"/>
            <a:chOff x="6242040" y="4264200"/>
            <a:chExt cx="1973160" cy="1562040"/>
          </a:xfrm>
        </p:grpSpPr>
        <p:sp>
          <p:nvSpPr>
            <p:cNvPr id="412" name=""/>
            <p:cNvSpPr/>
            <p:nvPr/>
          </p:nvSpPr>
          <p:spPr>
            <a:xfrm>
              <a:off x="6242040" y="426420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42040" y="426420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8360" y="533088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8360" y="510228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8360" y="479772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24600" y="479772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83680" y="479772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83680" y="449748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C99B-A232-4C42-8B07-00C66E2689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pported Platfor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Portal platform and databas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Portal browse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support for 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installing runtime without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Portal Test Environment in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of rules from V4.x, V4.2.x, and V5.0.x is fully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B914-BE4B-4460-B6EF-D868401E0B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gramming to Personal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69560" y="999720"/>
            <a:ext cx="3584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pots defined in the por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generation is op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d in the “Personalized Li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d through an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setRuleName(Str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setName(Str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getRuleResults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79600" y="3505320"/>
          <a:ext cx="5813280" cy="29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3505320"/>
                    <a:ext cx="581328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4199040" y="1000080"/>
          <a:ext cx="494496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1000080"/>
                    <a:ext cx="49449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86320" y="1758960"/>
            <a:ext cx="2579400" cy="609480"/>
          </a:xfrm>
          <a:prstGeom prst="wedgeRectCallout">
            <a:avLst>
              <a:gd name="adj1" fmla="val 23967"/>
              <a:gd name="adj2" fmla="val -77083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ted Resourc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 Spot from Rational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884760"/>
            <a:ext cx="2019600" cy="608040"/>
          </a:xfrm>
          <a:prstGeom prst="wedgeRectCallout">
            <a:avLst>
              <a:gd name="adj1" fmla="val -74134"/>
              <a:gd name="adj2" fmla="val -535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ming to the API for a Content Spot defined in the portlet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03720" y="4725720"/>
            <a:ext cx="3291120" cy="66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va Beans for rul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beans can have fixed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a dynamic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139240" y="2997000"/>
            <a:ext cx="0" cy="20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31200" y="5249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83480" y="52498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468840" y="5857920"/>
            <a:ext cx="121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86600" y="5045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79F4-4100-4C25-B8D4-E92CA3BB2E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aching for performance and scalabil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85760" y="1775880"/>
            <a:ext cx="754848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 uses WebSphere Dynamic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s Personalization Users and Rule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of cache configurable through Web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Personalization uses the cache configurable in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ster support for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1640" y="3808440"/>
            <a:ext cx="81961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&lt;wps&gt;/shared/app/config/services/PersonalizationService.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enabled=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jndiName=services/cache/distribute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maxEnumSize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timeout=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priority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enabled.User=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jndiName.News=services/cache/News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maxEnumSize.News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priority.New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D9CD-50C8-43D6-9F2F-065DD808C6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lementation of the personalization feature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how the personalization feature is architected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a personalization Resource Colle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Personalization Workspace portlet to create a personalized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7639-4D56-4EBF-B7A8-7DDA3CBE9A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Portal Personalization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content based on business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ing content based on data min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users based on us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974F-23AD-42A9-9B57-FE6EE22E1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9920" y="1531800"/>
            <a:ext cx="48578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ite visitor is identified as S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rive profiles from Sally’s user information and your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rules select content for S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Frank visits the same p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profiles &gt; differen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Portal Personalization? (cont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42320" y="1379520"/>
            <a:ext cx="1201680" cy="2546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180640" y="4186440"/>
            <a:ext cx="776880" cy="6451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5180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7380360" y="4264200"/>
            <a:ext cx="682560" cy="226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72320" y="2554200"/>
            <a:ext cx="0" cy="835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31200" y="1682640"/>
            <a:ext cx="760320" cy="189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760" y="1152360"/>
            <a:ext cx="0" cy="49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07160" y="3960360"/>
            <a:ext cx="736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7760" y="2644920"/>
            <a:ext cx="14500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Select benefits</a:t>
            </a:r>
            <a:br>
              <a:rPr sz="1400"/>
            </a:b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for peopl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Sally’s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or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7040" y="1893240"/>
            <a:ext cx="2262960" cy="714960"/>
          </a:xfrm>
          <a:prstGeom prst="flowChartMultidocumen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ntal plan A o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 plans A, B o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86280" y="3273840"/>
            <a:ext cx="1873440" cy="13359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gible for benefit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1530-CAC0-4747-AFFC-2950DDF38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ation compone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 Application Developer t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te classes to access data (resource collec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Personalized JS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ng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ew the results of rules in a list portlet provi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sh 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es rules and get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in any WebSphere Application Server (not just in Port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in the Rational server test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CEFE-0252-4BB4-B18D-351FA7D50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Business Vocabulary for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484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objects and terms which are made available to the rul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ock objects are defined including the Portal Documents, the Portal User, Portal and HTTP Request and Session and the current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Collections expose content in some external source to the rules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ource Collection can be thought of as a “type” of content, exposing its own special attributes and possibly nested sub-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Jav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zation engine configured to look for an instance with a session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shopping cart or an object exposing the browser’s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562720"/>
            <a:ext cx="911160" cy="6062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835200" cy="60660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5486400"/>
            <a:ext cx="984240" cy="53172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M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562720"/>
            <a:ext cx="914400" cy="5904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486400"/>
            <a:ext cx="905040" cy="59544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495288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included for PDM and WPS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87692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 for custom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876920"/>
            <a:ext cx="22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ted code from Rational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887B-AF66-436E-B096-56A3B40D6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source Collections – what rules are abou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Porta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 Document Manage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Content Manager content coming s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097B-72F2-422A-AE7B-5190C7BE62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835360" y="469800"/>
          <a:ext cx="613872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469800"/>
                    <a:ext cx="613872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228680"/>
            <a:ext cx="205740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is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9920" y="4414680"/>
            <a:ext cx="5034960" cy="1419480"/>
            <a:chOff x="169920" y="4414680"/>
            <a:chExt cx="5034960" cy="1419480"/>
          </a:xfrm>
        </p:grpSpPr>
        <p:graphicFrame>
          <p:nvGraphicFramePr>
            <p:cNvPr id="146" name=""/>
            <p:cNvGraphicFramePr/>
            <p:nvPr/>
          </p:nvGraphicFramePr>
          <p:xfrm>
            <a:off x="185400" y="4424400"/>
            <a:ext cx="5019480" cy="140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400" y="4424400"/>
                      <a:ext cx="5019480" cy="14097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169920" y="4414680"/>
              <a:ext cx="5028840" cy="1371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30560" y="5022720"/>
            <a:ext cx="5867280" cy="1122480"/>
            <a:chOff x="3130560" y="5022720"/>
            <a:chExt cx="5867280" cy="1122480"/>
          </a:xfrm>
        </p:grpSpPr>
        <p:graphicFrame>
          <p:nvGraphicFramePr>
            <p:cNvPr id="150" name=""/>
            <p:cNvGraphicFramePr/>
            <p:nvPr/>
          </p:nvGraphicFramePr>
          <p:xfrm>
            <a:off x="3192840" y="5022720"/>
            <a:ext cx="5804640" cy="109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92840" y="5022720"/>
                      <a:ext cx="5804640" cy="10900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3130560" y="5022720"/>
              <a:ext cx="5867280" cy="1122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19720" y="5629320"/>
            <a:ext cx="2286000" cy="949320"/>
            <a:chOff x="4419720" y="5629320"/>
            <a:chExt cx="2286000" cy="949320"/>
          </a:xfrm>
        </p:grpSpPr>
        <p:graphicFrame>
          <p:nvGraphicFramePr>
            <p:cNvPr id="154" name=""/>
            <p:cNvGraphicFramePr/>
            <p:nvPr/>
          </p:nvGraphicFramePr>
          <p:xfrm>
            <a:off x="4419720" y="5629320"/>
            <a:ext cx="2286000" cy="94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19720" y="5629320"/>
                      <a:ext cx="2286000" cy="949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4419720" y="5629320"/>
              <a:ext cx="228600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lect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2846-6E19-425C-9156-E995CBD3E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495680" y="469800"/>
          <a:ext cx="455292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69800"/>
                    <a:ext cx="45529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filer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523880"/>
            <a:ext cx="350820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les users based on user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d to decide which other rules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95360" y="4264200"/>
          <a:ext cx="3924360" cy="19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5360" y="4264200"/>
                    <a:ext cx="3924360" cy="197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46240" y="2822400"/>
          <a:ext cx="3143160" cy="12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240" y="2822400"/>
                    <a:ext cx="3143160" cy="1229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E9C4-9C55-4F06-AF54-297A8FF91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Roger Best</cp:lastModifiedBy>
  <dcterms:modified xsi:type="dcterms:W3CDTF">2005-03-17T03:40:34Z</dcterms:modified>
  <cp:revision>10</cp:revision>
  <dc:subject/>
  <dc:title>Slide 1</dc:title>
</cp:coreProperties>
</file>