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E0CB-D388-4ECD-B147-F6BBE6D01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E6F2-64CA-4C14-8B2B-0EDF95BEF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AA82-677C-4445-BF5A-ABD325320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7192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624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796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87192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14624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A27D-D336-4711-88A4-BC5ACBFF2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A99C-5350-4A5E-88B3-1688528A6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38DBA-122C-4D54-88BD-A84CE243A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6AAC6-AA12-4C9F-87B5-0D125FDD3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2041-9EA6-4F72-AB5F-65AC63C54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9D984-08BE-495B-8A1B-D7E3BBFBA9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7087D-2F34-4D1C-9171-A85482166A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E1969-A434-4472-B94D-F37EF85316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56EE-AF1D-4445-8180-051A48995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FAEB6-363B-465C-A1C9-D317C450E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70F6E-31A8-432F-8DE3-61E65A81C1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2239E-2BC1-47B9-ACCC-593C23A74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718A-E944-483E-92EF-86CADDDD4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4624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9796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87192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14624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47988-11BA-4C21-8616-C4408DD1B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96F9-2878-4042-95BF-EECF4CDD4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951E-F596-460E-AA7F-1A425E8B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50DC-9E95-4D0B-9799-B8024E1CD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5F8C-BAC2-4723-A026-E83CBD46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1EC1-4D75-459D-8B46-5CE0805FE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38A8-0843-4CA4-958E-C4550A14D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603C-98B3-4306-B1FD-0E31F280E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837720" y="6553080"/>
            <a:ext cx="53341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5501-869F-46B4-AC32-1EBF2C67E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380880" y="6244920"/>
            <a:ext cx="594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CDF8-BBD9-468B-9463-EE7E975AE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8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20.png"/><Relationship Id="rId17" Type="http://schemas.openxmlformats.org/officeDocument/2006/relationships/image" Target="../media/image19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ation through open standard content access and the Java Content Repository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 Bru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 Architect, Lotu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runn@us.ibm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640" y="6613560"/>
            <a:ext cx="25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8 June 2005, Portal Personalization 5.1.0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080" y="6091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Personalization Authoring Portle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143000"/>
          <a:ext cx="853452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53452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143000" y="4876920"/>
            <a:ext cx="1600200" cy="333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3880" y="4983120"/>
            <a:ext cx="1871640" cy="2743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0c0c0"/>
                </a:solidFill>
                <a:latin typeface="Arial"/>
                <a:ea typeface="Arial"/>
              </a:rPr>
              <a:t>All references are l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5029200"/>
            <a:ext cx="533520" cy="763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447920"/>
            <a:ext cx="1600200" cy="333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057400"/>
            <a:ext cx="2819520" cy="45684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0c0c0"/>
                </a:solidFill>
                <a:latin typeface="Arial"/>
                <a:ea typeface="Arial"/>
              </a:rPr>
              <a:t>Versioning, Access Control, Publishing for deployment of r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1600200"/>
            <a:ext cx="22860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1447920"/>
            <a:ext cx="2514600" cy="333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29600" y="3962520"/>
            <a:ext cx="609480" cy="38088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4343400"/>
            <a:ext cx="609480" cy="38088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95720" y="4648320"/>
            <a:ext cx="304920" cy="152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696080" y="4191120"/>
            <a:ext cx="53352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4572000"/>
            <a:ext cx="2514600" cy="2743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0c0c0"/>
                </a:solidFill>
                <a:latin typeface="Arial"/>
                <a:ea typeface="Arial"/>
              </a:rPr>
              <a:t>Bookmarks, People Aware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743200"/>
            <a:ext cx="1905120" cy="45684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0c0c0"/>
                </a:solidFill>
                <a:latin typeface="Arial"/>
                <a:ea typeface="Arial"/>
              </a:rPr>
              <a:t>View rules, campaigns, collections, ev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3120" y="1676520"/>
            <a:ext cx="75960" cy="1066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080" y="762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Inside the Personalization Server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447920"/>
            <a:ext cx="5715000" cy="60948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d Application (WCM, PZN List, custom JS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209680"/>
            <a:ext cx="5715000" cy="25909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743200"/>
            <a:ext cx="243864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581280"/>
            <a:ext cx="3200400" cy="38124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876920"/>
            <a:ext cx="228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R 170 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3124080"/>
            <a:ext cx="121896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962520"/>
            <a:ext cx="3200400" cy="1371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ll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334120"/>
            <a:ext cx="228600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57200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4724280"/>
            <a:ext cx="121932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R 1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05520"/>
            <a:ext cx="121932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5334120"/>
            <a:ext cx="121932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3124080"/>
            <a:ext cx="914400" cy="18288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914400" cy="1447560"/>
          </a:xfrm>
          <a:prstGeom prst="downArrow">
            <a:avLst>
              <a:gd name="adj1" fmla="val 50000"/>
              <a:gd name="adj2" fmla="val 395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905120"/>
            <a:ext cx="761760" cy="1752480"/>
          </a:xfrm>
          <a:prstGeom prst="upArrow">
            <a:avLst>
              <a:gd name="adj1" fmla="val 50000"/>
              <a:gd name="adj2" fmla="val 575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905120"/>
            <a:ext cx="609480" cy="1218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 Tri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1240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44792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Manager creates Ru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2200" y="211788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triggered on a web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26510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Engine retrieves required rules to exec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32608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executed and results in a qu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870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translated into an appropriate language / API by the Resource Collection classes (SQL, XPATH, LDAP filter, et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7242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executed and results are turned into Resources by the Resource Col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147780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208764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26971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330660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94668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48006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505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9051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648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312408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32767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49568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545616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(WCM, PZN List portlet, custom application) renders the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553248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19051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14440" y="1352520"/>
            <a:ext cx="73483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ava Community Process (JCP) is a mechanism for standardizing the java platform through Java Specification Requests (J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R 170 is a proposed API (Content Repository API for Java™) to standardize access to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cation enables the development of content based applications that can be deployed on top of a number of different underlying reposi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an API and information model for Node types, Links, Versioning, Search, Transactions and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 content vendors are participating in the development of th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journey: the effort to define this standard started in April 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posed final draft has been prepa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2000" y="7970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54080" y="720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ository Convergence – JSR 170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720" y="816120"/>
            <a:ext cx="84675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ture Content APIs with Service Data Objec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125000"/>
            <a:ext cx="827244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, developer friendly API to access cont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ervice Data Objects (SDO)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Local and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for Customers, Business Partners and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3657600"/>
            <a:ext cx="4267080" cy="2309760"/>
          </a:xfrm>
          <a:prstGeom prst="flowChartAlternateProcess">
            <a:avLst/>
          </a:prstGeom>
          <a:solidFill>
            <a:srgbClr val="000080">
              <a:alpha val="1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91120" y="4952520"/>
            <a:ext cx="85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4495680"/>
            <a:ext cx="617400" cy="601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4495680"/>
            <a:ext cx="617760" cy="601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19520" y="44956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4191120"/>
            <a:ext cx="544680" cy="1361520"/>
            <a:chOff x="3657600" y="4191120"/>
            <a:chExt cx="544680" cy="1361520"/>
          </a:xfrm>
        </p:grpSpPr>
        <p:grpSp>
          <p:nvGrpSpPr>
            <p:cNvPr id="224" name=""/>
            <p:cNvGrpSpPr/>
            <p:nvPr/>
          </p:nvGrpSpPr>
          <p:grpSpPr>
            <a:xfrm>
              <a:off x="3657600" y="4191120"/>
              <a:ext cx="544680" cy="534240"/>
              <a:chOff x="3657600" y="4191120"/>
              <a:chExt cx="544680" cy="534240"/>
            </a:xfrm>
          </p:grpSpPr>
          <p:sp>
            <p:nvSpPr>
              <p:cNvPr id="225" name=""/>
              <p:cNvSpPr/>
              <p:nvPr/>
            </p:nvSpPr>
            <p:spPr>
              <a:xfrm>
                <a:off x="3657600" y="4191120"/>
                <a:ext cx="544680" cy="5342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726000" y="4298760"/>
                <a:ext cx="408960" cy="300960"/>
                <a:chOff x="3726000" y="4298760"/>
                <a:chExt cx="408960" cy="3009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887640" y="429876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26000" y="4506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55400" y="4506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90520" y="45068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29760" y="4408920"/>
                  <a:ext cx="0" cy="8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391640"/>
                  <a:ext cx="9036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805200" y="4391640"/>
                  <a:ext cx="81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3657600" y="5018400"/>
              <a:ext cx="544680" cy="534240"/>
              <a:chOff x="3657600" y="5018400"/>
              <a:chExt cx="544680" cy="534240"/>
            </a:xfrm>
          </p:grpSpPr>
          <p:sp>
            <p:nvSpPr>
              <p:cNvPr id="235" name=""/>
              <p:cNvSpPr/>
              <p:nvPr/>
            </p:nvSpPr>
            <p:spPr>
              <a:xfrm>
                <a:off x="3657600" y="5018400"/>
                <a:ext cx="544680" cy="5342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726000" y="5126040"/>
                <a:ext cx="408960" cy="300960"/>
                <a:chOff x="3726000" y="5126040"/>
                <a:chExt cx="408960" cy="300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887640" y="51260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726000" y="53334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55400" y="53334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90520" y="5334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29760" y="5236200"/>
                  <a:ext cx="0" cy="8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67200" y="5218920"/>
                  <a:ext cx="9036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3805200" y="5218920"/>
                  <a:ext cx="81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4" name=""/>
          <p:cNvSpPr/>
          <p:nvPr/>
        </p:nvSpPr>
        <p:spPr>
          <a:xfrm>
            <a:off x="4943880" y="4241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2600" y="48769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r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4038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8680" y="4478400"/>
            <a:ext cx="617760" cy="601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32720" y="42418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20760" y="454644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Grap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Obje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77120" y="44953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714640" y="4495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477120" y="48765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943600" y="4114800"/>
            <a:ext cx="544680" cy="1362240"/>
            <a:chOff x="5943600" y="4114800"/>
            <a:chExt cx="544680" cy="1362240"/>
          </a:xfrm>
        </p:grpSpPr>
        <p:grpSp>
          <p:nvGrpSpPr>
            <p:cNvPr id="257" name=""/>
            <p:cNvGrpSpPr/>
            <p:nvPr/>
          </p:nvGrpSpPr>
          <p:grpSpPr>
            <a:xfrm>
              <a:off x="5943600" y="4114800"/>
              <a:ext cx="544680" cy="534600"/>
              <a:chOff x="5943600" y="4114800"/>
              <a:chExt cx="544680" cy="534600"/>
            </a:xfrm>
          </p:grpSpPr>
          <p:sp>
            <p:nvSpPr>
              <p:cNvPr id="258" name=""/>
              <p:cNvSpPr/>
              <p:nvPr/>
            </p:nvSpPr>
            <p:spPr>
              <a:xfrm>
                <a:off x="5943600" y="4114800"/>
                <a:ext cx="544680" cy="5346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6012000" y="4222440"/>
                <a:ext cx="408960" cy="301320"/>
                <a:chOff x="6012000" y="4222440"/>
                <a:chExt cx="408960" cy="301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173640" y="42224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12000" y="44298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341400" y="44298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176520" y="443088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15760" y="4332600"/>
                  <a:ext cx="0" cy="8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53200" y="4315320"/>
                  <a:ext cx="9036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6091200" y="4315320"/>
                  <a:ext cx="81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5943600" y="4942440"/>
              <a:ext cx="544680" cy="534600"/>
              <a:chOff x="5943600" y="4942440"/>
              <a:chExt cx="544680" cy="534600"/>
            </a:xfrm>
          </p:grpSpPr>
          <p:sp>
            <p:nvSpPr>
              <p:cNvPr id="268" name=""/>
              <p:cNvSpPr/>
              <p:nvPr/>
            </p:nvSpPr>
            <p:spPr>
              <a:xfrm>
                <a:off x="5943600" y="4942440"/>
                <a:ext cx="544680" cy="5346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012000" y="5050080"/>
                <a:ext cx="408960" cy="301320"/>
                <a:chOff x="6012000" y="5050080"/>
                <a:chExt cx="408960" cy="301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173640" y="505008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12000" y="52574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341400" y="52574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76520" y="52585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15760" y="5160240"/>
                  <a:ext cx="0" cy="8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53200" y="5142960"/>
                  <a:ext cx="9036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6091200" y="5142960"/>
                  <a:ext cx="81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" name=""/>
          <p:cNvSpPr/>
          <p:nvPr/>
        </p:nvSpPr>
        <p:spPr>
          <a:xfrm>
            <a:off x="228600" y="3657600"/>
            <a:ext cx="2949480" cy="2309760"/>
          </a:xfrm>
          <a:prstGeom prst="flowChartAlternateProcess">
            <a:avLst/>
          </a:prstGeom>
          <a:solidFill>
            <a:srgbClr val="000080">
              <a:alpha val="1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4572000"/>
            <a:ext cx="617760" cy="601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2920" y="431784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60720" y="4554360"/>
            <a:ext cx="617400" cy="601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9040" y="431784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72440" y="4622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Grap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Obje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182844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5029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0663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828800" y="495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7150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191120"/>
            <a:ext cx="544680" cy="1361520"/>
            <a:chOff x="1295280" y="4191120"/>
            <a:chExt cx="544680" cy="1361520"/>
          </a:xfrm>
        </p:grpSpPr>
        <p:grpSp>
          <p:nvGrpSpPr>
            <p:cNvPr id="289" name=""/>
            <p:cNvGrpSpPr/>
            <p:nvPr/>
          </p:nvGrpSpPr>
          <p:grpSpPr>
            <a:xfrm>
              <a:off x="1295280" y="4191120"/>
              <a:ext cx="544680" cy="534240"/>
              <a:chOff x="1295280" y="4191120"/>
              <a:chExt cx="544680" cy="534240"/>
            </a:xfrm>
          </p:grpSpPr>
          <p:sp>
            <p:nvSpPr>
              <p:cNvPr id="290" name=""/>
              <p:cNvSpPr/>
              <p:nvPr/>
            </p:nvSpPr>
            <p:spPr>
              <a:xfrm>
                <a:off x="1295280" y="4191120"/>
                <a:ext cx="544680" cy="5342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363680" y="4298760"/>
                <a:ext cx="408960" cy="300960"/>
                <a:chOff x="1363680" y="4298760"/>
                <a:chExt cx="408960" cy="300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525320" y="429876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363680" y="4506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693080" y="4506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28200" y="45068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567440" y="4408920"/>
                  <a:ext cx="0" cy="8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604880" y="4391640"/>
                  <a:ext cx="9036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1442880" y="4391640"/>
                  <a:ext cx="81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1295280" y="5018400"/>
              <a:ext cx="544680" cy="534240"/>
              <a:chOff x="1295280" y="5018400"/>
              <a:chExt cx="544680" cy="534240"/>
            </a:xfrm>
          </p:grpSpPr>
          <p:sp>
            <p:nvSpPr>
              <p:cNvPr id="300" name=""/>
              <p:cNvSpPr/>
              <p:nvPr/>
            </p:nvSpPr>
            <p:spPr>
              <a:xfrm>
                <a:off x="1295280" y="5018400"/>
                <a:ext cx="544680" cy="5342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363680" y="5126040"/>
                <a:ext cx="408960" cy="300960"/>
                <a:chOff x="1363680" y="5126040"/>
                <a:chExt cx="408960" cy="3009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25320" y="512604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63680" y="53334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93080" y="533340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528200" y="5334120"/>
                  <a:ext cx="79560" cy="92880"/>
                </a:xfrm>
                <a:prstGeom prst="ellipse">
                  <a:avLst/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567440" y="5236200"/>
                  <a:ext cx="0" cy="8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604880" y="5218920"/>
                  <a:ext cx="9036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1442880" y="5218920"/>
                  <a:ext cx="81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"/>
          <p:cNvSpPr/>
          <p:nvPr/>
        </p:nvSpPr>
        <p:spPr>
          <a:xfrm>
            <a:off x="2819520" y="4956120"/>
            <a:ext cx="83808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191120" y="44953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848720" y="4267080"/>
            <a:ext cx="228600" cy="10670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Integration with IBM Content Offering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1681200"/>
            <a:ext cx="2514600" cy="160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681200"/>
            <a:ext cx="14475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3357720"/>
            <a:ext cx="114300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98612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2290680"/>
            <a:ext cx="762120" cy="228600"/>
          </a:xfrm>
          <a:prstGeom prst="rect">
            <a:avLst/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PCP 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2976480"/>
            <a:ext cx="144792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2443320"/>
            <a:ext cx="914400" cy="45720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8640" y="1676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23880" y="4114800"/>
            <a:ext cx="2365560" cy="1905120"/>
            <a:chOff x="1523880" y="4114800"/>
            <a:chExt cx="2365560" cy="1905120"/>
          </a:xfrm>
        </p:grpSpPr>
        <p:sp>
          <p:nvSpPr>
            <p:cNvPr id="322" name=""/>
            <p:cNvSpPr/>
            <p:nvPr/>
          </p:nvSpPr>
          <p:spPr>
            <a:xfrm>
              <a:off x="1523880" y="4114800"/>
              <a:ext cx="2365560" cy="19051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23880" y="4114800"/>
              <a:ext cx="1374840" cy="824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23880" y="5396040"/>
              <a:ext cx="2289240" cy="54756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runtime edi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3880" y="5015160"/>
              <a:ext cx="228924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SR 170 *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03440" y="4633920"/>
              <a:ext cx="533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2920" y="4633920"/>
              <a:ext cx="609480" cy="22860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75040" y="4633920"/>
              <a:ext cx="838080" cy="22860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75040" y="4176720"/>
              <a:ext cx="838080" cy="38124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35440" y="563868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3357720"/>
            <a:ext cx="129564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595600"/>
            <a:ext cx="129564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PCP C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29068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13240" y="4710240"/>
            <a:ext cx="1828800" cy="5475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4329000"/>
            <a:ext cx="45655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R 170 + S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948120"/>
            <a:ext cx="5331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3948120"/>
            <a:ext cx="60948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3948120"/>
            <a:ext cx="83808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91320" y="3490920"/>
            <a:ext cx="838080" cy="38088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05840" y="3124080"/>
            <a:ext cx="840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56440" y="4710240"/>
            <a:ext cx="1828800" cy="5475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ino .D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65960" y="481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3962520"/>
            <a:ext cx="685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2 D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962520"/>
            <a:ext cx="685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C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3962520"/>
            <a:ext cx="685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600200"/>
            <a:ext cx="0" cy="45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3962520"/>
            <a:ext cx="4038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343400" y="18288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 on JSR 170 API for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 on SDO for data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vertical silos preventing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4191120"/>
            <a:ext cx="1676520" cy="4572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>
              <a:alpha val="3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95160" y="4191120"/>
            <a:ext cx="2667240" cy="457200"/>
          </a:xfrm>
          <a:custGeom>
            <a:avLst/>
            <a:gdLst>
              <a:gd name="textAreaLeft" fmla="*/ 466200 w 2667240"/>
              <a:gd name="textAreaRight" fmla="*/ 1933560 w 26672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>
              <a:alpha val="3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019920" y="4191120"/>
            <a:ext cx="1752480" cy="60948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>
              <a:alpha val="3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867280" y="4191120"/>
            <a:ext cx="1067040" cy="685800"/>
          </a:xfrm>
          <a:custGeom>
            <a:avLst/>
            <a:gdLst>
              <a:gd name="textAreaLeft" fmla="*/ 186840 w 1067040"/>
              <a:gd name="textAreaRight" fmla="*/ 774000 w 10670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>
              <a:alpha val="3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80520" y="5943600"/>
            <a:ext cx="32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Not fully JSR 170 compliant as of 5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2819520"/>
            <a:ext cx="6858000" cy="1523880"/>
          </a:xfrm>
          <a:prstGeom prst="rect">
            <a:avLst/>
          </a:prstGeom>
          <a:solidFill>
            <a:srgbClr val="7889fb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The Business Vocabulary for Rul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34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t of objects and terms which are made available to the rule aut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any content or information to be exposed to the rule aut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tock objects are defined including the Portal Documents, Web Content, the Portal User, Portal and HTTP Request and Session and the current D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Collections expose content in some external source to the rules aut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Resource Collection can be thought of as a “type” of content, exposing its own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Java class on the session or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shopping cart or an object exposing the browser’s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6520" y="3427560"/>
            <a:ext cx="911160" cy="606240"/>
          </a:xfrm>
          <a:prstGeom prst="flowChartMagneticDisk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69200" y="3427560"/>
            <a:ext cx="834840" cy="606240"/>
          </a:xfrm>
          <a:prstGeom prst="flowChartMagneticDisk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6800" y="3578400"/>
            <a:ext cx="984600" cy="531720"/>
          </a:xfrm>
          <a:prstGeom prst="flowChartMagneticDisk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SR 1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55600" y="3443400"/>
            <a:ext cx="914400" cy="590400"/>
          </a:xfrm>
          <a:prstGeom prst="flowChartMagneticDisk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90800" y="3578400"/>
            <a:ext cx="904680" cy="595080"/>
          </a:xfrm>
          <a:prstGeom prst="flowChartMagneticDisk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895480"/>
            <a:ext cx="220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included for PDM, WCM and WPS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18360" y="281952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 for custom colle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04760" y="2819520"/>
            <a:ext cx="227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ted code from Rational Application Develo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920" y="2971800"/>
          <a:ext cx="6476760" cy="26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048120" y="2133720"/>
            <a:ext cx="56386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documents in Portal Docume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rule about th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le results displayed without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ocument Integration in 5.1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5181480"/>
            <a:ext cx="190044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5181480"/>
            <a:ext cx="144288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5569200"/>
            <a:ext cx="5160960" cy="5871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ditions dependant on Document metadata and the current Portal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5257800"/>
            <a:ext cx="4572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5257800"/>
            <a:ext cx="7596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124080" y="2610000"/>
          <a:ext cx="545796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610000"/>
                    <a:ext cx="54579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6019920" y="1523880"/>
            <a:ext cx="31240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248520" y="1359000"/>
          <a:ext cx="2895480" cy="214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359000"/>
                    <a:ext cx="28954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144360" cy="3049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9880" y="5181480"/>
            <a:ext cx="14472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162320" y="5181480"/>
            <a:ext cx="144720" cy="3049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352680" y="5105520"/>
            <a:ext cx="1600200" cy="457200"/>
          </a:xfrm>
          <a:prstGeom prst="flowChartProcess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715000" y="4724280"/>
          <a:ext cx="3209760" cy="134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4724280"/>
                    <a:ext cx="320976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Recommendations with Data Mining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324000" y="5078520"/>
            <a:ext cx="1047600" cy="7887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6469200" y="1531800"/>
            <a:ext cx="1137960" cy="15084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876840" y="4038480"/>
            <a:ext cx="624960" cy="776520"/>
            <a:chOff x="3876840" y="4038480"/>
            <a:chExt cx="624960" cy="776520"/>
          </a:xfrm>
        </p:grpSpPr>
        <p:pic>
          <p:nvPicPr>
            <p:cNvPr id="390" name="" descr=""/>
            <p:cNvPicPr/>
            <p:nvPr/>
          </p:nvPicPr>
          <p:blipFill>
            <a:blip r:embed="rId7"/>
            <a:stretch/>
          </p:blipFill>
          <p:spPr>
            <a:xfrm>
              <a:off x="4333680" y="4343400"/>
              <a:ext cx="1681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8"/>
            <a:stretch/>
          </p:blipFill>
          <p:spPr>
            <a:xfrm>
              <a:off x="4181400" y="4191120"/>
              <a:ext cx="16776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9"/>
            <a:stretch/>
          </p:blipFill>
          <p:spPr>
            <a:xfrm>
              <a:off x="3876840" y="4343400"/>
              <a:ext cx="185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0"/>
            <a:stretch/>
          </p:blipFill>
          <p:spPr>
            <a:xfrm>
              <a:off x="4029120" y="4419720"/>
              <a:ext cx="185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1"/>
            <a:stretch/>
          </p:blipFill>
          <p:spPr>
            <a:xfrm>
              <a:off x="4029120" y="4038480"/>
              <a:ext cx="16632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4791240" y="4267080"/>
            <a:ext cx="642240" cy="738000"/>
            <a:chOff x="4791240" y="4267080"/>
            <a:chExt cx="642240" cy="738000"/>
          </a:xfrm>
        </p:grpSpPr>
        <p:pic>
          <p:nvPicPr>
            <p:cNvPr id="396" name="" descr=""/>
            <p:cNvPicPr/>
            <p:nvPr/>
          </p:nvPicPr>
          <p:blipFill>
            <a:blip r:embed="rId12"/>
            <a:stretch/>
          </p:blipFill>
          <p:spPr>
            <a:xfrm>
              <a:off x="5095800" y="4267080"/>
              <a:ext cx="185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5248080" y="4495680"/>
              <a:ext cx="185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4"/>
            <a:stretch/>
          </p:blipFill>
          <p:spPr>
            <a:xfrm>
              <a:off x="5095800" y="4647960"/>
              <a:ext cx="16776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15"/>
            <a:stretch/>
          </p:blipFill>
          <p:spPr>
            <a:xfrm>
              <a:off x="4943160" y="4495680"/>
              <a:ext cx="1681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16"/>
            <a:stretch/>
          </p:blipFill>
          <p:spPr>
            <a:xfrm>
              <a:off x="4791240" y="4571640"/>
              <a:ext cx="18072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3114720" y="4343400"/>
            <a:ext cx="473040" cy="512640"/>
            <a:chOff x="3114720" y="4343400"/>
            <a:chExt cx="473040" cy="512640"/>
          </a:xfrm>
        </p:grpSpPr>
        <p:pic>
          <p:nvPicPr>
            <p:cNvPr id="402" name="" descr=""/>
            <p:cNvPicPr/>
            <p:nvPr/>
          </p:nvPicPr>
          <p:blipFill>
            <a:blip r:embed="rId17"/>
            <a:stretch/>
          </p:blipFill>
          <p:spPr>
            <a:xfrm>
              <a:off x="3114720" y="4422600"/>
              <a:ext cx="18576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8"/>
            <a:stretch/>
          </p:blipFill>
          <p:spPr>
            <a:xfrm>
              <a:off x="3419640" y="4498920"/>
              <a:ext cx="1681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9"/>
            <a:stretch/>
          </p:blipFill>
          <p:spPr>
            <a:xfrm>
              <a:off x="3262320" y="4343400"/>
              <a:ext cx="181080" cy="3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 flipV="1">
            <a:off x="6624720" y="1835280"/>
            <a:ext cx="982440" cy="371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14479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 can also be recommended dynam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might Sally be interested in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recor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groups users by site expe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ation rule gets correc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5154480"/>
            <a:ext cx="1067040" cy="60984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LikeMi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733320" cy="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5334120"/>
            <a:ext cx="1143000" cy="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410000" y="4724280"/>
            <a:ext cx="0" cy="6098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62440" y="42670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24200" y="39625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38600" y="4191120"/>
            <a:ext cx="990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5562720"/>
            <a:ext cx="2305080" cy="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5365800"/>
            <a:ext cx="533520" cy="380880"/>
          </a:xfrm>
          <a:prstGeom prst="flowChartMultidocumen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4116240" y="469800"/>
          <a:ext cx="494208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469800"/>
                    <a:ext cx="4942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322200" y="122868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6720" y="1676520"/>
            <a:ext cx="3870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rule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coding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loy many, each with different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e with C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your 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onalized port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73040" y="4722840"/>
          <a:ext cx="29592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4722840"/>
                    <a:ext cx="29592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3054240" y="4419720"/>
            <a:ext cx="1214640" cy="836640"/>
          </a:xfrm>
          <a:prstGeom prst="wedgeRoundRectCallout">
            <a:avLst>
              <a:gd name="adj1" fmla="val -39018"/>
              <a:gd name="adj2" fmla="val 64611"/>
              <a:gd name="adj3" fmla="val 16667"/>
            </a:avLst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ew documents i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Personalized Lis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rcRect l="0" t="19200" r="31040" b="0"/>
          <a:stretch/>
        </p:blipFill>
        <p:spPr>
          <a:xfrm>
            <a:off x="533520" y="2473200"/>
            <a:ext cx="4876560" cy="3851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Web Content Integration in 5.1.0.1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rule to say what should show up on 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can be WCM content, SQL, LDAP, Documents, or any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the layout of the results in Web Conte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962520" y="3083040"/>
            <a:ext cx="4267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atio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and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Future Navigational Rul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9200" y="4751280"/>
            <a:ext cx="2319120" cy="1090800"/>
          </a:xfrm>
          <a:prstGeom prst="triangle">
            <a:avLst>
              <a:gd name="adj" fmla="val 50000"/>
            </a:avLst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21280" y="4653000"/>
            <a:ext cx="31608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30" idx="5"/>
            <a:endCxn id="432" idx="1"/>
          </p:cNvCxnSpPr>
          <p:nvPr/>
        </p:nvCxnSpPr>
        <p:spPr>
          <a:xfrm>
            <a:off x="6190920" y="4849560"/>
            <a:ext cx="119880" cy="130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5546880" y="4952880"/>
            <a:ext cx="3175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64360" y="4957920"/>
            <a:ext cx="315720" cy="21888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  <a:ea typeface="Arial"/>
              </a:rPr>
              <a:t>1.2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"/>
          <p:cNvCxnSpPr>
            <a:stCxn id="430" idx="3"/>
            <a:endCxn id="433" idx="7"/>
          </p:cNvCxnSpPr>
          <p:nvPr/>
        </p:nvCxnSpPr>
        <p:spPr>
          <a:xfrm flipH="1">
            <a:off x="5817960" y="4844520"/>
            <a:ext cx="149760" cy="135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5" name=""/>
          <p:cNvCxnSpPr>
            <a:stCxn id="432" idx="5"/>
            <a:endCxn id="436" idx="1"/>
          </p:cNvCxnSpPr>
          <p:nvPr/>
        </p:nvCxnSpPr>
        <p:spPr>
          <a:xfrm>
            <a:off x="6533640" y="5154480"/>
            <a:ext cx="219960" cy="145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6707160" y="5276880"/>
            <a:ext cx="31608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916600" y="5280120"/>
            <a:ext cx="31752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1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32" idx="3"/>
            <a:endCxn id="437" idx="7"/>
          </p:cNvCxnSpPr>
          <p:nvPr/>
        </p:nvCxnSpPr>
        <p:spPr>
          <a:xfrm flipH="1">
            <a:off x="6187680" y="5154480"/>
            <a:ext cx="123120" cy="14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6308640" y="5283360"/>
            <a:ext cx="31752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8280" y="5614920"/>
            <a:ext cx="31608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9" idx="3"/>
            <a:endCxn id="440" idx="7"/>
          </p:cNvCxnSpPr>
          <p:nvPr/>
        </p:nvCxnSpPr>
        <p:spPr>
          <a:xfrm flipH="1">
            <a:off x="6217560" y="5474880"/>
            <a:ext cx="137160" cy="16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6675480" y="5610240"/>
            <a:ext cx="3157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39" idx="5"/>
            <a:endCxn id="442" idx="1"/>
          </p:cNvCxnSpPr>
          <p:nvPr/>
        </p:nvCxnSpPr>
        <p:spPr>
          <a:xfrm>
            <a:off x="6579720" y="5475240"/>
            <a:ext cx="142200" cy="161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649760" y="4406760"/>
            <a:ext cx="905040" cy="417600"/>
          </a:xfrm>
          <a:prstGeom prst="rect">
            <a:avLst/>
          </a:prstGeom>
          <a:solidFill>
            <a:srgbClr val="3366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avigation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5" name=""/>
          <p:cNvCxnSpPr>
            <a:stCxn id="444" idx="3"/>
            <a:endCxn id="432" idx="0"/>
          </p:cNvCxnSpPr>
          <p:nvPr/>
        </p:nvCxnSpPr>
        <p:spPr>
          <a:xfrm>
            <a:off x="5564160" y="4616280"/>
            <a:ext cx="859680" cy="332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46" name=""/>
          <p:cNvSpPr/>
          <p:nvPr/>
        </p:nvSpPr>
        <p:spPr>
          <a:xfrm>
            <a:off x="1852560" y="4406760"/>
            <a:ext cx="903240" cy="417600"/>
          </a:xfrm>
          <a:prstGeom prst="rect">
            <a:avLst/>
          </a:prstGeom>
          <a:solidFill>
            <a:srgbClr val="3366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cess Contro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92400" y="4799160"/>
            <a:ext cx="1677960" cy="825480"/>
          </a:xfrm>
          <a:prstGeom prst="triangle">
            <a:avLst>
              <a:gd name="adj" fmla="val 50000"/>
            </a:avLst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87600" y="4662360"/>
            <a:ext cx="31608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48" idx="5"/>
            <a:endCxn id="450" idx="1"/>
          </p:cNvCxnSpPr>
          <p:nvPr/>
        </p:nvCxnSpPr>
        <p:spPr>
          <a:xfrm>
            <a:off x="3657240" y="4854600"/>
            <a:ext cx="159480" cy="14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013200" y="4962600"/>
            <a:ext cx="31752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70280" y="4967280"/>
            <a:ext cx="317520" cy="22068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  <a:ea typeface="Arial"/>
              </a:rPr>
              <a:t>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"/>
          <p:cNvCxnSpPr/>
          <p:nvPr/>
        </p:nvCxnSpPr>
        <p:spPr>
          <a:xfrm flipH="1">
            <a:off x="3287520" y="4849560"/>
            <a:ext cx="148320" cy="135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50" idx="5"/>
            <a:endCxn id="454" idx="1"/>
          </p:cNvCxnSpPr>
          <p:nvPr/>
        </p:nvCxnSpPr>
        <p:spPr>
          <a:xfrm>
            <a:off x="4041360" y="5160600"/>
            <a:ext cx="15156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4146480" y="5286240"/>
            <a:ext cx="3175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82920" y="5289480"/>
            <a:ext cx="3175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6" name=""/>
          <p:cNvCxnSpPr>
            <a:stCxn id="450" idx="3"/>
            <a:endCxn id="455" idx="7"/>
          </p:cNvCxnSpPr>
          <p:nvPr/>
        </p:nvCxnSpPr>
        <p:spPr>
          <a:xfrm flipH="1">
            <a:off x="3654000" y="5160960"/>
            <a:ext cx="162720" cy="155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0" idx="0"/>
            <a:endCxn id="444" idx="1"/>
          </p:cNvCxnSpPr>
          <p:nvPr/>
        </p:nvCxnSpPr>
        <p:spPr>
          <a:xfrm flipH="1" flipV="1" rot="5400000">
            <a:off x="4111920" y="4432680"/>
            <a:ext cx="347040" cy="7135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8" name=""/>
          <p:cNvCxnSpPr>
            <a:stCxn id="446" idx="3"/>
            <a:endCxn id="448" idx="1"/>
          </p:cNvCxnSpPr>
          <p:nvPr/>
        </p:nvCxnSpPr>
        <p:spPr>
          <a:xfrm>
            <a:off x="2765520" y="4615920"/>
            <a:ext cx="668880" cy="72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9" name=""/>
          <p:cNvSpPr/>
          <p:nvPr/>
        </p:nvSpPr>
        <p:spPr>
          <a:xfrm>
            <a:off x="7373880" y="4419720"/>
            <a:ext cx="709560" cy="417240"/>
          </a:xfrm>
          <a:prstGeom prst="rect">
            <a:avLst/>
          </a:prstGeom>
          <a:solidFill>
            <a:srgbClr val="3366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nder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0" idx="7"/>
            <a:endCxn id="459" idx="1"/>
          </p:cNvCxnSpPr>
          <p:nvPr/>
        </p:nvCxnSpPr>
        <p:spPr>
          <a:xfrm flipH="1" flipV="1" rot="5400000">
            <a:off x="6753600" y="4065840"/>
            <a:ext cx="49680" cy="1175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1" name=""/>
          <p:cNvSpPr/>
          <p:nvPr/>
        </p:nvSpPr>
        <p:spPr>
          <a:xfrm>
            <a:off x="3205800" y="5565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er‘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44720" y="57754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ssembled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67400" y="517212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7880" y="4756320"/>
            <a:ext cx="2014560" cy="1169640"/>
          </a:xfrm>
          <a:prstGeom prst="triangle">
            <a:avLst>
              <a:gd name="adj" fmla="val 50000"/>
            </a:avLst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0" y="4756320"/>
            <a:ext cx="31752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5" idx="5"/>
            <a:endCxn id="467" idx="1"/>
          </p:cNvCxnSpPr>
          <p:nvPr/>
        </p:nvCxnSpPr>
        <p:spPr>
          <a:xfrm>
            <a:off x="1387080" y="4950000"/>
            <a:ext cx="158040" cy="14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743040" y="5057640"/>
            <a:ext cx="3157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98680" y="5062680"/>
            <a:ext cx="317520" cy="21888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  <a:ea typeface="Arial"/>
              </a:rPr>
              <a:t>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"/>
          <p:cNvCxnSpPr/>
          <p:nvPr/>
        </p:nvCxnSpPr>
        <p:spPr>
          <a:xfrm flipH="1">
            <a:off x="1015200" y="4944600"/>
            <a:ext cx="150120" cy="134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7" idx="5"/>
            <a:endCxn id="471" idx="1"/>
          </p:cNvCxnSpPr>
          <p:nvPr/>
        </p:nvCxnSpPr>
        <p:spPr>
          <a:xfrm>
            <a:off x="1769760" y="5256000"/>
            <a:ext cx="151560" cy="151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1874880" y="5381640"/>
            <a:ext cx="3175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12760" y="5384880"/>
            <a:ext cx="316080" cy="2188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3" name=""/>
          <p:cNvCxnSpPr>
            <a:stCxn id="467" idx="3"/>
            <a:endCxn id="472" idx="7"/>
          </p:cNvCxnSpPr>
          <p:nvPr/>
        </p:nvCxnSpPr>
        <p:spPr>
          <a:xfrm flipH="1">
            <a:off x="1382400" y="5256000"/>
            <a:ext cx="162720" cy="154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873000" y="5645160"/>
            <a:ext cx="31608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62160" y="5645160"/>
            <a:ext cx="317520" cy="21924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41560" y="5691240"/>
            <a:ext cx="317520" cy="220680"/>
          </a:xfrm>
          <a:prstGeom prst="ellipse">
            <a:avLst/>
          </a:prstGeom>
          <a:noFill/>
          <a:ln w="19080">
            <a:solidFill>
              <a:srgbClr val="412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1.2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131480" y="5600880"/>
            <a:ext cx="6516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04920" y="5600880"/>
            <a:ext cx="6516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27320" y="5599080"/>
            <a:ext cx="648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62160" y="4568760"/>
            <a:ext cx="585720" cy="18756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cubicBezTo>
                  <a:pt x="60" y="136"/>
                  <a:pt x="120" y="80"/>
                  <a:pt x="192" y="48"/>
                </a:cubicBezTo>
                <a:cubicBezTo>
                  <a:pt x="264" y="16"/>
                  <a:pt x="348" y="8"/>
                  <a:pt x="432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96400" y="57769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riginal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24920" y="651528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Confident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6440" y="2540160"/>
            <a:ext cx="4953240" cy="1320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 flipH="1">
            <a:off x="5108400" y="3098880"/>
            <a:ext cx="438480" cy="1231920"/>
          </a:xfrm>
          <a:prstGeom prst="line">
            <a:avLst/>
          </a:prstGeom>
          <a:ln w="28440">
            <a:solidFill>
              <a:srgbClr val="7889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5470560" y="2463840"/>
          <a:ext cx="3597120" cy="12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0560" y="2463840"/>
                    <a:ext cx="3597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 flipV="1">
            <a:off x="5165640" y="2768400"/>
            <a:ext cx="304920" cy="609480"/>
          </a:xfrm>
          <a:prstGeom prst="line">
            <a:avLst/>
          </a:prstGeom>
          <a:ln w="28440">
            <a:solidFill>
              <a:srgbClr val="7889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4479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ize what Portlets and Pages sh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done today, but we will make this even eas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Personalization Demo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33520" y="1512720"/>
          <a:ext cx="8001000" cy="47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12720"/>
                    <a:ext cx="800100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Personalization Integration Futur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eper WCM and PD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CM and PDM to autho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CM to layout and forma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ersonalization to decide which content is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rule 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number of steps to create a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Port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on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based policies in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eview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as if another user, at anoth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(process choreographer)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  Questions?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 Bru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 Architect, Lotu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runn@us.ibm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Why Personalization?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content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meaningful use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t a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ment of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e, intranets, targeted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02040" y="4173480"/>
            <a:ext cx="2300400" cy="173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21200" y="1541520"/>
            <a:ext cx="2541600" cy="2065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Targeting Intranet Content with Rul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729560" y="2679840"/>
            <a:ext cx="1109520" cy="235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936200" y="5410440"/>
            <a:ext cx="776880" cy="645120"/>
          </a:xfrm>
          <a:prstGeom prst="flowChartMagneticDisk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59840" y="503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273440" y="5487840"/>
            <a:ext cx="6066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500600" y="2982960"/>
            <a:ext cx="576360" cy="76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11640" y="2595960"/>
            <a:ext cx="2237040" cy="1001520"/>
          </a:xfrm>
          <a:prstGeom prst="flowChartMultidocumen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ntal plan A or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 plans A, B or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75160" y="4839120"/>
            <a:ext cx="1873440" cy="13359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gible for benefit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274560"/>
            <a:ext cx="2514600" cy="12157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 select benefi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people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lly’s coun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94360" y="5628600"/>
            <a:ext cx="987480" cy="403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286680" y="3438360"/>
            <a:ext cx="0" cy="1594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828800"/>
            <a:ext cx="4267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ite visitor is identified as S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derive profiles from Sally’s user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rules select 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 this case, a list of benefit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k visits the same p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rules, different 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 different benefits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7889fb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is from Documents, Web Content, SQL or any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257800" y="5334120"/>
            <a:ext cx="1905120" cy="76176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Targeting Internet Content with Rul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01680" y="4173480"/>
            <a:ext cx="2300400" cy="1735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20840" y="1541520"/>
            <a:ext cx="2541600" cy="206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00760" y="2679840"/>
            <a:ext cx="1109520" cy="235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86680" y="5410440"/>
            <a:ext cx="776880" cy="645120"/>
          </a:xfrm>
          <a:prstGeom prst="flowChartMagneticDisk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7280" y="5032440"/>
            <a:ext cx="56376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572000" y="5487840"/>
            <a:ext cx="650880" cy="74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76920" y="2982960"/>
            <a:ext cx="1371600" cy="65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5160" y="2670840"/>
            <a:ext cx="2236680" cy="1001520"/>
          </a:xfrm>
          <a:prstGeom prst="flowChartMultidocumen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e upgrade to premium with a purchase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1120" y="4648320"/>
            <a:ext cx="2089440" cy="17193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gible for new service pla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444120"/>
            <a:ext cx="2471760" cy="12157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 select services for Sally’s demographic and account hi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94000" y="5628600"/>
            <a:ext cx="987480" cy="403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6320" y="3438360"/>
            <a:ext cx="0" cy="1594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0560" y="5410440"/>
            <a:ext cx="638280" cy="645120"/>
          </a:xfrm>
          <a:prstGeom prst="flowChartMagneticDisk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0292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05320" y="609480"/>
          <a:ext cx="3598920" cy="26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09480"/>
                    <a:ext cx="3598920" cy="26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Targeted Email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597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email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ed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of ema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038480" y="4419720"/>
            <a:ext cx="2300400" cy="1734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91120" y="4866480"/>
            <a:ext cx="1861920" cy="12157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 select users eligible for new service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5181480"/>
            <a:ext cx="1905120" cy="76212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696080" y="1600200"/>
            <a:ext cx="1109880" cy="2352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15480" y="5258160"/>
            <a:ext cx="776880" cy="644400"/>
          </a:xfrm>
          <a:prstGeom prst="flowChartMagneticDisk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238520" y="182880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300680"/>
            <a:ext cx="2236680" cy="1575720"/>
          </a:xfrm>
          <a:prstGeom prst="flowChartMultidocumen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e upgrade to premium with a purchase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 to website…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3283560"/>
            <a:ext cx="2276640" cy="1486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 select services targeted to user’s demographic and account hi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10080" y="2666880"/>
            <a:ext cx="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99360" y="5258160"/>
            <a:ext cx="638280" cy="644400"/>
          </a:xfrm>
          <a:prstGeom prst="flowChartMagneticDisk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5562720"/>
            <a:ext cx="1524240" cy="53316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5638320" y="4952880"/>
            <a:ext cx="1600200" cy="53352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con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s the content for the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ocument Manager, Web Content Manager or a third party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technical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s the content of the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Web Content Manager, Rational tooling or a third party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 or design skills (skill level varies with site’s purp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 aut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business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es which rules should be run 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knowledge of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vis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s content that results from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necessarily know anything about rules them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Personalization Componen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 Application Developer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classes to access data (resource coll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Personalized J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ng Port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rules and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results of rules in a list portlet provided by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and publish rules and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tim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rules and ge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in any WebSphere Application Server (not just in Por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in the Rational server tes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19560" y="1760400"/>
            <a:ext cx="281916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o generate SQL and LDAP resource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 with Rational Application Developer 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with Rational relational database t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code may be altered or custo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192320"/>
          <a:ext cx="5486400" cy="49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92320"/>
                    <a:ext cx="54864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54080" y="873000"/>
            <a:ext cx="8685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  <a:ea typeface="Arial"/>
              </a:rPr>
              <a:t>Rational Application Developer to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8:50:54Z</dcterms:created>
  <dc:creator>IBM</dc:creator>
  <dc:description/>
  <dc:language>en-US</dc:language>
  <cp:lastModifiedBy> </cp:lastModifiedBy>
  <dcterms:modified xsi:type="dcterms:W3CDTF">2005-08-24T02:28:10Z</dcterms:modified>
  <cp:revision>91</cp:revision>
  <dc:subject/>
  <dc:title>Slide 1</dc:title>
</cp:coreProperties>
</file>