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3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4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5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4F9CF5-22BC-4BF5-A27E-E0A40309D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ets of web tools in 5.0: “Pzn Admin” or Personalization Resource Console for runtime and WebSphere Portal content publishing for auth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ged in 5.1 to one set of authoring Portlets – remote-able configuration by configuring the datasource to point to a remot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ZN instances can run on the same database for clustering and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ce Personalization uses the WebSphere Dynamic Cache, you can use the WebSphere Dynamic Cache APIs to clear the cache, but you can also use a PZN API to get at the cache from a higher level of abstraction that will be useful for PZN us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dd a class called com.ibm.websphere.personalization.resources.cache.CacheManag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A single place of administration for the Personalization cach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Users may call the invalidate methods of this manager to remo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certain items from the cache.  Note that since all resource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are configured to share a WebSphere Dynamic cache map instance by defaul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clearing one collection may clear all the collectio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To have more granular cache control, users may set up WebSp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Dynamic Cache maps for each resource collection or for groups of collec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and use the PersonalizationService.properties file to configure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collection to use a particular cache m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acheManager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Invalidate the cache entries for the specified item in the spec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resource collection.  This call will in turn call invalidate(resourceColle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since invalidating this item may invalidate all que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par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esourceCollection the collection the id belong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par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d the item which has become invalid in the ca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retur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validate(String resourceCollection, String 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Invalidate all cache entries for queries on the specified resource collec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Not that this does not explicitly clear the cache entries for individual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which are cached by i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par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esourceCollection the collection which should be invalid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retur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validate(String resourceColle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Invalidate all cache entries which this Personalization server is aware o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retur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valida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ization is the ability for the web site to customize the content that it delivers to its vis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web site recognizes users based on characteristics in a profile, or based on characteristics from previous visits by the user; for example, what did they purchase previously, or what products were they looking at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ntent that is then delivered to the visitor is tailored based on the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on example is a member of a rewards program. If the member has achieved “Gold Status” they would see different content than a member who is “Bronze Statu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E9F6-8435-4B1C-B9F4-2B004D07C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A325-6660-458A-9304-6C96F836B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688B-5D24-4022-A63E-873C33193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904A-57B4-4385-9B5A-763D34907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99CD-DD45-491A-93A0-E850C712F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F43A-3F5C-4215-A8A9-86236A10A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A9E1-2074-4CEC-9D7D-A47CFD4FB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6D8F-83CA-4D30-AA34-1DDE9D343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17B4-B6CB-466F-B5EA-4E0FB14CB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911D-4022-47A6-9A8F-AAA23E2D9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20F4-AD20-441F-A368-CE418AF2D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033B-7FF8-4886-BD4D-DDA29F17E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064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7640" y="6442200"/>
            <a:ext cx="916020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36760" y="123840"/>
            <a:ext cx="61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| Lotus softwa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27880" y="652932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41C4-AA0E-40C4-BED8-F5DB827E545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52280" y="652932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876920" y="6529320"/>
            <a:ext cx="20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3_3 - Person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53040"/>
            <a:ext cx="9144000" cy="17604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59640" y="5214960"/>
            <a:ext cx="2162160" cy="39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7640" y="4776840"/>
            <a:ext cx="9160200" cy="37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-104122" b="-43386"/>
          <a:stretch/>
        </p:blipFill>
        <p:spPr>
          <a:xfrm>
            <a:off x="1890720" y="4164120"/>
            <a:ext cx="2984400" cy="4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74120" y="687240"/>
            <a:ext cx="1162080" cy="559440"/>
            <a:chOff x="7674120" y="687240"/>
            <a:chExt cx="1162080" cy="559440"/>
          </a:xfrm>
        </p:grpSpPr>
        <p:pic>
          <p:nvPicPr>
            <p:cNvPr id="53" name="" descr=""/>
            <p:cNvPicPr/>
            <p:nvPr/>
          </p:nvPicPr>
          <p:blipFill>
            <a:blip r:embed="rId5"/>
            <a:srcRect l="0" t="0" r="6463" b="0"/>
            <a:stretch/>
          </p:blipFill>
          <p:spPr>
            <a:xfrm>
              <a:off x="7674120" y="687240"/>
              <a:ext cx="1003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606160" y="96984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130176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8874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6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ation Feature of WebSphere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bSphere Portal Server v5.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76720" y="609480"/>
          <a:ext cx="560376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609480"/>
                    <a:ext cx="560376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Update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648320" y="3276720"/>
          <a:ext cx="434016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276720"/>
                    <a:ext cx="4340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3130560" y="4340160"/>
            <a:ext cx="5381280" cy="996480"/>
            <a:chOff x="3130560" y="4340160"/>
            <a:chExt cx="5381280" cy="996480"/>
          </a:xfrm>
        </p:grpSpPr>
        <p:graphicFrame>
          <p:nvGraphicFramePr>
            <p:cNvPr id="172" name=""/>
            <p:cNvGraphicFramePr/>
            <p:nvPr/>
          </p:nvGraphicFramePr>
          <p:xfrm>
            <a:off x="3391920" y="4738320"/>
            <a:ext cx="5086080" cy="59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1920" y="4738320"/>
                      <a:ext cx="508608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3130560" y="4340160"/>
              <a:ext cx="5381280" cy="5695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2280" y="167652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dates the current user object or the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pdates may be persisted as with the current user 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pdates may be transient or application managed such as a shopping c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y also set portlet or HTTP request and portlet or HTTP session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276720"/>
            <a:ext cx="4402080" cy="91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4240" y="4340160"/>
            <a:ext cx="5465880" cy="60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9D6F-5682-4931-BCA1-66490EDA63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inding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141720" y="838080"/>
          <a:ext cx="585000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1720" y="838080"/>
                    <a:ext cx="58500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41880" y="2449440"/>
          <a:ext cx="180684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1880" y="2449440"/>
                    <a:ext cx="1806840" cy="1473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686640" y="4221000"/>
          <a:ext cx="173340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86640" y="4221000"/>
                    <a:ext cx="1733400" cy="108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52280" y="167652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lls all the previous rule types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ditions come from 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conditions are met, select or recommend content, perform updates, send em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7594-646C-4993-BB06-7B65447B93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ail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ility to trigger email in a content 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goes to current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ized email bod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mail may contain content spots and run rules to select items in the em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campaigning using a schedul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targeted newsletters, emails triggered to verify or send receipt of user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648320" y="1371600"/>
          <a:ext cx="434340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71600"/>
                    <a:ext cx="434340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5FD1-3B6F-4AAC-A4E7-8D184FA61B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ikeMinds Recommendation Engi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78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s: “What might Joe be interested in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Application is instrumented to record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Background task chooses “mentors” and assigns everyone to a men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Application triggers a Recommendation rule and gets th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2480" y="5326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so answer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What goes with tofu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3680" y="595800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answer: broccoli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462800" y="29163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386480" y="395928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862600" y="35784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014880" y="27399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557680" y="342576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7005600" y="35784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6319800" y="38070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6319800" y="27399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6167520" y="3044880"/>
            <a:ext cx="168120" cy="357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176800" y="3349800"/>
            <a:ext cx="990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67520" y="3730680"/>
            <a:ext cx="76176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1920" y="388296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6480" y="258768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0680" y="2968560"/>
            <a:ext cx="7621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86280" y="266400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719600"/>
            <a:ext cx="1446480" cy="13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5025960"/>
            <a:ext cx="144144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p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795920" y="5711760"/>
            <a:ext cx="533160" cy="304920"/>
            <a:chOff x="4795920" y="5711760"/>
            <a:chExt cx="533160" cy="304920"/>
          </a:xfrm>
        </p:grpSpPr>
        <p:sp>
          <p:nvSpPr>
            <p:cNvPr id="212" name=""/>
            <p:cNvSpPr/>
            <p:nvPr/>
          </p:nvSpPr>
          <p:spPr>
            <a:xfrm>
              <a:off x="4795920" y="5711760"/>
              <a:ext cx="533160" cy="7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5920" y="5788080"/>
              <a:ext cx="533160" cy="7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5920" y="5864400"/>
              <a:ext cx="533160" cy="7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95920" y="5940360"/>
              <a:ext cx="533160" cy="7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34640" y="5483160"/>
            <a:ext cx="702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criptle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94920" y="4797360"/>
            <a:ext cx="4107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86280" y="4492800"/>
            <a:ext cx="609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5329080" y="357840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5710320" y="3578400"/>
            <a:ext cx="16812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5481720" y="373068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6700680" y="41115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6548400" y="395928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6243480" y="411156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6396120" y="418788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7157880" y="411156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7615080" y="41115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9"/>
          <a:stretch/>
        </p:blipFill>
        <p:spPr>
          <a:xfrm>
            <a:off x="7843680" y="258768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tretch/>
        </p:blipFill>
        <p:spPr>
          <a:xfrm>
            <a:off x="8072280" y="28926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1"/>
          <a:stretch/>
        </p:blipFill>
        <p:spPr>
          <a:xfrm>
            <a:off x="7843680" y="29685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2"/>
          <a:stretch/>
        </p:blipFill>
        <p:spPr>
          <a:xfrm>
            <a:off x="7691400" y="281628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3"/>
          <a:stretch/>
        </p:blipFill>
        <p:spPr>
          <a:xfrm>
            <a:off x="7157880" y="3425760"/>
            <a:ext cx="16848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4"/>
          <a:stretch/>
        </p:blipFill>
        <p:spPr>
          <a:xfrm>
            <a:off x="6853320" y="334980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5"/>
          <a:stretch/>
        </p:blipFill>
        <p:spPr>
          <a:xfrm>
            <a:off x="7005600" y="3044880"/>
            <a:ext cx="185760" cy="39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6"/>
          <a:stretch/>
        </p:blipFill>
        <p:spPr>
          <a:xfrm>
            <a:off x="5862600" y="2892600"/>
            <a:ext cx="185760" cy="395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710320" y="1076400"/>
            <a:ext cx="761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720" y="1390680"/>
            <a:ext cx="70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Scriptle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76280" y="107640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69200" y="1531800"/>
            <a:ext cx="1137960" cy="150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15080" y="1540440"/>
            <a:ext cx="903600" cy="675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keMinds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7"/>
          <a:stretch/>
        </p:blipFill>
        <p:spPr>
          <a:xfrm>
            <a:off x="6167520" y="3044880"/>
            <a:ext cx="180720" cy="382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8"/>
          <a:stretch/>
        </p:blipFill>
        <p:spPr>
          <a:xfrm>
            <a:off x="5557680" y="3425760"/>
            <a:ext cx="166680" cy="352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9"/>
          <a:stretch/>
        </p:blipFill>
        <p:spPr>
          <a:xfrm>
            <a:off x="6319800" y="3807000"/>
            <a:ext cx="166680" cy="352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0"/>
          <a:stretch/>
        </p:blipFill>
        <p:spPr>
          <a:xfrm>
            <a:off x="7005600" y="3578400"/>
            <a:ext cx="166680" cy="352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1"/>
          <a:stretch/>
        </p:blipFill>
        <p:spPr>
          <a:xfrm>
            <a:off x="7462800" y="2892600"/>
            <a:ext cx="181080" cy="382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2"/>
          <a:stretch/>
        </p:blipFill>
        <p:spPr>
          <a:xfrm>
            <a:off x="7386480" y="3959280"/>
            <a:ext cx="181080" cy="382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024520" y="2206800"/>
            <a:ext cx="36576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624720" y="1835280"/>
            <a:ext cx="98244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8442360" y="2138400"/>
            <a:ext cx="16344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019920" y="4643280"/>
            <a:ext cx="3124080" cy="18288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usiness Rules can be based on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0FBC-EDE5-4B03-99F2-3D8AC188D3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commendation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2280" y="1371600"/>
          <a:ext cx="571500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57150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530520" y="1851120"/>
            <a:ext cx="4313160" cy="2841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629400" y="1828800"/>
            <a:ext cx="1447920" cy="762120"/>
          </a:xfrm>
          <a:prstGeom prst="wedgeRectCallout">
            <a:avLst>
              <a:gd name="adj1" fmla="val -77740"/>
              <a:gd name="adj2" fmla="val 589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keMinds Click Stream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38880" y="3657600"/>
            <a:ext cx="1447920" cy="762120"/>
          </a:xfrm>
          <a:prstGeom prst="wedgeRectCallout">
            <a:avLst>
              <a:gd name="adj1" fmla="val -100439"/>
              <a:gd name="adj2" fmla="val -13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keMinds Preference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4038480"/>
            <a:ext cx="1447920" cy="762120"/>
          </a:xfrm>
          <a:prstGeom prst="wedgeRectCallout">
            <a:avLst>
              <a:gd name="adj1" fmla="val -28949"/>
              <a:gd name="adj2" fmla="val -1389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keMinds Item Affinity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9041-4D58-454B-8D87-7A4263A223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bjec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98520" y="1455840"/>
          <a:ext cx="15048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455840"/>
                    <a:ext cx="15048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992240" y="3429000"/>
            <a:ext cx="106200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19400" y="1303200"/>
            <a:ext cx="675468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pping cart, navigational state, or anything “curr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ed as a Java B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t Application Object into the session at a know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130560" y="2670120"/>
          <a:ext cx="5843520" cy="35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0560" y="2670120"/>
                    <a:ext cx="584352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6D13-940F-4E70-AC50-884A8B3AE0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467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ersonalization User Interfa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69920" y="1103400"/>
          <a:ext cx="880416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103400"/>
                    <a:ext cx="880416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634000" y="2925720"/>
            <a:ext cx="1062000" cy="455760"/>
          </a:xfrm>
          <a:prstGeom prst="wedgeRectCallout">
            <a:avLst>
              <a:gd name="adj1" fmla="val 41328"/>
              <a:gd name="adj2" fmla="val -87976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51760" y="573120"/>
            <a:ext cx="1822320" cy="682560"/>
          </a:xfrm>
          <a:prstGeom prst="wedgeRectCallout">
            <a:avLst>
              <a:gd name="adj1" fmla="val -30574"/>
              <a:gd name="adj2" fmla="val 7837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ew rules, campaigns, content spots, resource col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25640" y="4518000"/>
            <a:ext cx="1517760" cy="379440"/>
          </a:xfrm>
          <a:prstGeom prst="wedgeRectCallout">
            <a:avLst>
              <a:gd name="adj1" fmla="val -58995"/>
              <a:gd name="adj2" fmla="val 107324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references are link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6800" y="1255680"/>
            <a:ext cx="1517760" cy="379440"/>
          </a:xfrm>
          <a:prstGeom prst="wedgeRectCallout">
            <a:avLst>
              <a:gd name="adj1" fmla="val -68412"/>
              <a:gd name="adj2" fmla="val 3284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 control, versioning, pub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80360" y="3759120"/>
            <a:ext cx="1062000" cy="381240"/>
          </a:xfrm>
          <a:prstGeom prst="wedgeRectCallout">
            <a:avLst>
              <a:gd name="adj1" fmla="val 73615"/>
              <a:gd name="adj2" fmla="val 52499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6D25-D9F0-4776-8121-2B5A9D9DCC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ss to Portal Document Manag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ocuments through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DM content 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the PDM UI for a 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220A-9B4C-49B9-BB31-8C6DEB98C0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467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ortal Document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841400" y="4417920"/>
          <a:ext cx="472464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4417920"/>
                    <a:ext cx="472464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621480" y="4870440"/>
            <a:ext cx="1365120" cy="760320"/>
          </a:xfrm>
          <a:prstGeom prst="wedgeRectCallout">
            <a:avLst>
              <a:gd name="adj1" fmla="val -55814"/>
              <a:gd name="adj2" fmla="val 71296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t document in P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95360" y="5781600"/>
            <a:ext cx="914400" cy="609840"/>
          </a:xfrm>
          <a:prstGeom prst="wedgeRectCallout">
            <a:avLst>
              <a:gd name="adj1" fmla="val 88717"/>
              <a:gd name="adj2" fmla="val -46351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w 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004760" y="1152360"/>
          <a:ext cx="7134480" cy="278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4760" y="1152360"/>
                    <a:ext cx="713448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751120" y="3201840"/>
            <a:ext cx="1138320" cy="76320"/>
          </a:xfrm>
          <a:custGeom>
            <a:avLst/>
            <a:gdLst/>
            <a:ahLst/>
            <a:rect l="l" t="t" r="r" b="b"/>
            <a:pathLst>
              <a:path w="717" h="48">
                <a:moveTo>
                  <a:pt x="0" y="48"/>
                </a:moveTo>
                <a:cubicBezTo>
                  <a:pt x="47" y="24"/>
                  <a:pt x="95" y="0"/>
                  <a:pt x="143" y="0"/>
                </a:cubicBezTo>
                <a:cubicBezTo>
                  <a:pt x="191" y="0"/>
                  <a:pt x="239" y="48"/>
                  <a:pt x="287" y="48"/>
                </a:cubicBezTo>
                <a:cubicBezTo>
                  <a:pt x="335" y="48"/>
                  <a:pt x="382" y="0"/>
                  <a:pt x="430" y="0"/>
                </a:cubicBezTo>
                <a:cubicBezTo>
                  <a:pt x="478" y="0"/>
                  <a:pt x="525" y="48"/>
                  <a:pt x="573" y="48"/>
                </a:cubicBezTo>
                <a:cubicBezTo>
                  <a:pt x="621" y="48"/>
                  <a:pt x="669" y="24"/>
                  <a:pt x="717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3201840"/>
            <a:ext cx="1138320" cy="76320"/>
          </a:xfrm>
          <a:custGeom>
            <a:avLst/>
            <a:gdLst/>
            <a:ahLst/>
            <a:rect l="l" t="t" r="r" b="b"/>
            <a:pathLst>
              <a:path w="717" h="48">
                <a:moveTo>
                  <a:pt x="0" y="48"/>
                </a:moveTo>
                <a:cubicBezTo>
                  <a:pt x="47" y="24"/>
                  <a:pt x="95" y="0"/>
                  <a:pt x="143" y="0"/>
                </a:cubicBezTo>
                <a:cubicBezTo>
                  <a:pt x="191" y="0"/>
                  <a:pt x="239" y="48"/>
                  <a:pt x="287" y="48"/>
                </a:cubicBezTo>
                <a:cubicBezTo>
                  <a:pt x="335" y="48"/>
                  <a:pt x="382" y="0"/>
                  <a:pt x="430" y="0"/>
                </a:cubicBezTo>
                <a:cubicBezTo>
                  <a:pt x="478" y="0"/>
                  <a:pt x="525" y="48"/>
                  <a:pt x="573" y="48"/>
                </a:cubicBezTo>
                <a:cubicBezTo>
                  <a:pt x="621" y="48"/>
                  <a:pt x="669" y="24"/>
                  <a:pt x="717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3357360" y="3278160"/>
            <a:ext cx="152280" cy="30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875120" y="3278160"/>
            <a:ext cx="76320" cy="30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51120" y="3511800"/>
            <a:ext cx="5160960" cy="5871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ditions dependant on Document metadata and the current Portal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CA74-518E-447C-AAF2-C422591A9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ersonalized Lis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116240" y="469800"/>
          <a:ext cx="494208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469800"/>
                    <a:ext cx="4942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22200" y="122868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9920" y="1228680"/>
            <a:ext cx="3870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portlet to displ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results of a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ust one of man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e such port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 many, each with different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omize with 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e your own wi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sonalization 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73040" y="4946760"/>
          <a:ext cx="29592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40" y="4946760"/>
                    <a:ext cx="29592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054240" y="4643280"/>
            <a:ext cx="1214640" cy="836640"/>
          </a:xfrm>
          <a:prstGeom prst="wedgeRoundRectCallout">
            <a:avLst>
              <a:gd name="adj1" fmla="val -39018"/>
              <a:gd name="adj2" fmla="val 64611"/>
              <a:gd name="adj3" fmla="val 1666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ew documents i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EE37-3141-4F1B-9933-2A46048EE0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ssion 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ng this sess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implementation of the personalization feature in WebSphe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how the personalization feature is architected in WebSphe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what a personalization Resource Colle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the Personalization Workspace portlet to create a personalized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E36D-BB0D-4827-B3A8-F7E59E7BFD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ortal Personalization, Then and N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2886120"/>
            <a:ext cx="2365560" cy="190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57680" y="2886120"/>
            <a:ext cx="1374840" cy="824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57680" y="4167360"/>
            <a:ext cx="2289240" cy="54756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CM Runtime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57680" y="3786120"/>
            <a:ext cx="22892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R API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37240" y="3405240"/>
            <a:ext cx="533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46720" y="3405240"/>
            <a:ext cx="609840" cy="228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ZN 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08840" y="3405240"/>
            <a:ext cx="838080" cy="228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08840" y="2948040"/>
            <a:ext cx="838080" cy="380880"/>
          </a:xfrm>
          <a:prstGeom prst="rect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04760" y="1903320"/>
            <a:ext cx="2514600" cy="160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04760" y="1903320"/>
            <a:ext cx="14479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04760" y="3579840"/>
            <a:ext cx="1143000" cy="4572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 /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81080" y="2208240"/>
            <a:ext cx="457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14600" y="2513160"/>
            <a:ext cx="761760" cy="228600"/>
          </a:xfrm>
          <a:prstGeom prst="rect">
            <a:avLst/>
          </a:prstGeom>
          <a:solidFill>
            <a:srgbClr val="ffff0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PCP 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95480" y="3198960"/>
            <a:ext cx="1447920" cy="228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29000" y="2665440"/>
            <a:ext cx="914400" cy="457200"/>
          </a:xfrm>
          <a:prstGeom prst="rect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00640" y="464652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al 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9840" y="2138400"/>
            <a:ext cx="11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al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24080" y="3579840"/>
            <a:ext cx="1295280" cy="4572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 /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81080" y="2817720"/>
            <a:ext cx="1295280" cy="6098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PC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81080" y="2513160"/>
            <a:ext cx="457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91000" y="1152360"/>
            <a:ext cx="4680" cy="510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38920" y="5847840"/>
            <a:ext cx="2882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 JCR implementation is not yet fully compliant in 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6E66-777E-439D-AF2F-A864CB507D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157400" y="1219320"/>
          <a:ext cx="690552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1219320"/>
                    <a:ext cx="690552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6772320" y="620640"/>
            <a:ext cx="2371680" cy="27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fining Resource Collec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99160" y="3429000"/>
            <a:ext cx="3340080" cy="758880"/>
          </a:xfrm>
          <a:prstGeom prst="wedgeEllipseCallout">
            <a:avLst>
              <a:gd name="adj1" fmla="val -59791"/>
              <a:gd name="adj2" fmla="val 4853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e a custom class, or use the Rational wizards to generat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1152360"/>
            <a:ext cx="2125440" cy="758880"/>
          </a:xfrm>
          <a:prstGeom prst="wedgeEllipseCallout">
            <a:avLst>
              <a:gd name="adj1" fmla="val -45592"/>
              <a:gd name="adj2" fmla="val 5376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 objects and folders appear in the UI a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3600" y="3201840"/>
            <a:ext cx="1763640" cy="1365480"/>
          </a:xfrm>
          <a:prstGeom prst="wedgeEllipseCallout">
            <a:avLst>
              <a:gd name="adj1" fmla="val 53328"/>
              <a:gd name="adj2" fmla="val -2918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DM and future content application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luding WCM in the near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7316640" y="696960"/>
          <a:ext cx="1657440" cy="21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6640" y="696960"/>
                    <a:ext cx="165744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8E28-1280-41D0-8CAF-1D8AFF4C0C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245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zards for generated code – SQL and LD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65720" y="1302840"/>
            <a:ext cx="26560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zard included with Rational Application Developer 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with Rational relational database t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code may be altered or custom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2280" y="1143000"/>
          <a:ext cx="57913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57913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41DC-4CB9-4515-AA5A-B56D50A777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467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ide the Personalization Serv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1143000"/>
            <a:ext cx="3809880" cy="609480"/>
          </a:xfrm>
          <a:prstGeom prst="rect">
            <a:avLst/>
          </a:prstGeom>
          <a:solidFill>
            <a:srgbClr val="99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1905120"/>
            <a:ext cx="5715000" cy="259056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2438280"/>
            <a:ext cx="2362320" cy="4572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3276720"/>
            <a:ext cx="3200400" cy="3808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4572000"/>
            <a:ext cx="2286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R 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2819520"/>
            <a:ext cx="1219320" cy="4572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N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3657600"/>
            <a:ext cx="3200400" cy="13716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288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l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5029200"/>
            <a:ext cx="228600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Conten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4267080"/>
            <a:ext cx="121932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4419720"/>
            <a:ext cx="121896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R /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4800600"/>
            <a:ext cx="121896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5029200"/>
            <a:ext cx="1218960" cy="91440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2819520"/>
            <a:ext cx="914400" cy="18288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paig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200400"/>
            <a:ext cx="914400" cy="1447920"/>
          </a:xfrm>
          <a:prstGeom prst="downArrow">
            <a:avLst>
              <a:gd name="adj1" fmla="val 50000"/>
              <a:gd name="adj2" fmla="val 39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paig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1600200"/>
            <a:ext cx="762120" cy="1752480"/>
          </a:xfrm>
          <a:prstGeom prst="upArrow">
            <a:avLst>
              <a:gd name="adj1" fmla="val 50000"/>
              <a:gd name="adj2" fmla="val 574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1600200"/>
            <a:ext cx="609840" cy="12193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le Trig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281952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29400" y="123516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er registers Resource Collections and Business Manager creates Ru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22200" y="1981080"/>
            <a:ext cx="23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le is triggered on a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29400" y="251460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sonalization Engine retrieves required rules to exe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29400" y="3124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le is executed and results in a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733920"/>
            <a:ext cx="236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ery is translated into an appropriate language / API by the generated Resource Collection classes (SQL, XPATH, LDAP filter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48466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ery is executed and results are turned into Resources by the Resource 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12654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19512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6068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17016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4923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32004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05120" y="16002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5120" y="43434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28195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57600" y="29718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41911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C30C-EEFE-46CF-9481-AF309A896E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6242040" y="1835280"/>
            <a:ext cx="1973160" cy="1562040"/>
            <a:chOff x="6242040" y="1835280"/>
            <a:chExt cx="1973160" cy="1562040"/>
          </a:xfrm>
        </p:grpSpPr>
        <p:sp>
          <p:nvSpPr>
            <p:cNvPr id="368" name=""/>
            <p:cNvSpPr/>
            <p:nvPr/>
          </p:nvSpPr>
          <p:spPr>
            <a:xfrm>
              <a:off x="6242040" y="1835280"/>
              <a:ext cx="1973160" cy="1562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2040" y="1835280"/>
              <a:ext cx="1203480" cy="800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18360" y="2901960"/>
              <a:ext cx="1820880" cy="45720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18360" y="2673360"/>
              <a:ext cx="18208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CR A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18360" y="2368800"/>
              <a:ext cx="531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4600" y="2368800"/>
              <a:ext cx="4827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 U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83680" y="2368800"/>
              <a:ext cx="655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83680" y="2068560"/>
              <a:ext cx="655560" cy="262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357720" y="1835280"/>
            <a:ext cx="1973160" cy="1562040"/>
            <a:chOff x="3357720" y="1835280"/>
            <a:chExt cx="1973160" cy="1562040"/>
          </a:xfrm>
        </p:grpSpPr>
        <p:sp>
          <p:nvSpPr>
            <p:cNvPr id="377" name=""/>
            <p:cNvSpPr/>
            <p:nvPr/>
          </p:nvSpPr>
          <p:spPr>
            <a:xfrm>
              <a:off x="3357720" y="1835280"/>
              <a:ext cx="1973160" cy="1562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7720" y="1835280"/>
              <a:ext cx="1203480" cy="800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34040" y="2901960"/>
              <a:ext cx="1820880" cy="45720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34040" y="2673360"/>
              <a:ext cx="18208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CR A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34040" y="2368800"/>
              <a:ext cx="531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40280" y="2368800"/>
              <a:ext cx="4827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 U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99360" y="2368800"/>
              <a:ext cx="655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99360" y="2068560"/>
              <a:ext cx="655560" cy="262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ublishing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73040" y="1835280"/>
            <a:ext cx="1973160" cy="1562040"/>
            <a:chOff x="473040" y="1835280"/>
            <a:chExt cx="1973160" cy="1562040"/>
          </a:xfrm>
        </p:grpSpPr>
        <p:sp>
          <p:nvSpPr>
            <p:cNvPr id="387" name=""/>
            <p:cNvSpPr/>
            <p:nvPr/>
          </p:nvSpPr>
          <p:spPr>
            <a:xfrm>
              <a:off x="473040" y="1835280"/>
              <a:ext cx="1973160" cy="1562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3040" y="1835280"/>
              <a:ext cx="1203480" cy="800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9360" y="2901960"/>
              <a:ext cx="1820880" cy="45720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9360" y="2673360"/>
              <a:ext cx="18208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CR A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9360" y="2368800"/>
              <a:ext cx="531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600" y="2368800"/>
              <a:ext cx="4827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 U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4680" y="2368800"/>
              <a:ext cx="655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4680" y="2068560"/>
              <a:ext cx="655560" cy="262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572200" y="31240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520" y="137160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440" y="31240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74920" y="1371600"/>
            <a:ext cx="20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Auth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46200" y="2443320"/>
            <a:ext cx="976320" cy="3808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72200" y="13716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15200" y="2517840"/>
            <a:ext cx="733680" cy="2666880"/>
          </a:xfrm>
          <a:custGeom>
            <a:avLst/>
            <a:gdLst>
              <a:gd name="textAreaLeft" fmla="*/ 98280 w 733680"/>
              <a:gd name="textAreaRight" fmla="*/ 635400 w 73368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39240" y="358128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8520" y="391464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2200" y="5541840"/>
            <a:ext cx="2497320" cy="6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wo sets of web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wo database form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6600" y="5237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78640" y="525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0800000">
            <a:off x="2371680" y="2746440"/>
            <a:ext cx="976320" cy="3808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0880" y="2746440"/>
            <a:ext cx="976320" cy="3808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54240" y="5553000"/>
            <a:ext cx="28846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set of Portal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database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2200" y="3808440"/>
            <a:ext cx="5616720" cy="135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let based UI for publishing rules, campaig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and line publish tool for scripted publish (“pznload”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al Access control on publish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8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eck the status of publishing in a publish di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242040" y="4264200"/>
            <a:ext cx="1973160" cy="1562040"/>
            <a:chOff x="6242040" y="4264200"/>
            <a:chExt cx="1973160" cy="1562040"/>
          </a:xfrm>
        </p:grpSpPr>
        <p:sp>
          <p:nvSpPr>
            <p:cNvPr id="412" name=""/>
            <p:cNvSpPr/>
            <p:nvPr/>
          </p:nvSpPr>
          <p:spPr>
            <a:xfrm>
              <a:off x="6242040" y="4264200"/>
              <a:ext cx="1973160" cy="1562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42040" y="4264200"/>
              <a:ext cx="1203480" cy="800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8360" y="5330880"/>
              <a:ext cx="1820880" cy="45720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18360" y="5102280"/>
              <a:ext cx="18208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CR A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18360" y="4797720"/>
              <a:ext cx="531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24600" y="4797720"/>
              <a:ext cx="4827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 U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83680" y="4797720"/>
              <a:ext cx="655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83680" y="4497480"/>
              <a:ext cx="655560" cy="262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5EE9-2A73-4846-ACA4-6B3717944C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pported Platfor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Portal platform and databas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Portal browse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 support for 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installing runtime without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Portal Test Environment in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of rules from V4.x, V4.2.x, and V5.0.x is fully supp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E924-9D59-4EE2-9990-B7A83C6BC6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gramming to Personaliz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69560" y="999720"/>
            <a:ext cx="3584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pots defined in the por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generation is op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d in the “Personalized Li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d through an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entSpot.setRuleName(Str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entSpot.setName(Str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01"/>
              </a:spcBef>
              <a:spcAft>
                <a:spcPts val="20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entSpot.getRuleResults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79600" y="3505320"/>
          <a:ext cx="5813280" cy="29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3505320"/>
                    <a:ext cx="581328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4199040" y="1000080"/>
          <a:ext cx="4944960" cy="24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1000080"/>
                    <a:ext cx="494496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3586320" y="1758960"/>
            <a:ext cx="2579400" cy="609480"/>
          </a:xfrm>
          <a:prstGeom prst="wedgeRectCallout">
            <a:avLst>
              <a:gd name="adj1" fmla="val 23967"/>
              <a:gd name="adj2" fmla="val -77083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nerated Resourc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nt Spot from Rational Application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884760"/>
            <a:ext cx="2019600" cy="608040"/>
          </a:xfrm>
          <a:prstGeom prst="wedgeRectCallout">
            <a:avLst>
              <a:gd name="adj1" fmla="val -74134"/>
              <a:gd name="adj2" fmla="val -5351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gramming to the API for a Content Spot defined in the portlet 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03720" y="4725720"/>
            <a:ext cx="3291120" cy="66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va Beans for rul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beans can have fixed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a dynamic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139240" y="2997000"/>
            <a:ext cx="0" cy="204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31200" y="5249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83480" y="524988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468840" y="5857920"/>
            <a:ext cx="121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86600" y="5045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6B7A-F5C2-412C-B577-917E157366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aching for performance and scalabili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85760" y="1775880"/>
            <a:ext cx="754848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 uses WebSphere Dynamic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s Personalization Users and Rule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of cache configurable through Web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Personalization uses the cache configurable in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uster support for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1640" y="3808440"/>
            <a:ext cx="81961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urier New"/>
                <a:ea typeface="Arial"/>
              </a:rPr>
              <a:t>&lt;wps&gt;/shared/app/config/services/PersonalizationService.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enabled=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jndiName=services/cache/distributed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maxEnumSize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timeout=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priority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enabled.User=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jndiName.News=services/cache/News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maxEnumSize.News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rulesEngine.cache.priority.New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BE8C-3023-4897-B206-0FAC527844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ssion Summar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ng this sess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implementation of the personalization feature in WebSphe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how the personalization feature is architected in WebSphe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what a personalization Resource Colle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the Personalization Workspace portlet to create a personalized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7183-F234-4FA4-8016-C057696678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Portal Personalization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content based on business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ing content based on data mining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ing users based on us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1F94-ACD6-4178-BB13-825F70CD3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9920" y="1531800"/>
            <a:ext cx="48578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ite visitor is identified as S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rive profiles from Sally’s user information and your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rules select content for S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Frank visits the same p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profiles &gt; different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Portal Personalization? (cont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42320" y="1379520"/>
            <a:ext cx="1201680" cy="2546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180640" y="4186440"/>
            <a:ext cx="776880" cy="6451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5180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7380360" y="4264200"/>
            <a:ext cx="682560" cy="226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72320" y="2554200"/>
            <a:ext cx="0" cy="835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31200" y="1682640"/>
            <a:ext cx="760320" cy="189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760" y="1152360"/>
            <a:ext cx="0" cy="49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07160" y="3960360"/>
            <a:ext cx="736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7760" y="2644920"/>
            <a:ext cx="14500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Select benefits</a:t>
            </a:r>
            <a:br>
              <a:rPr sz="1400"/>
            </a:b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for peopl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Sally’s 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b6b3"/>
                </a:solidFill>
                <a:latin typeface="Arial"/>
                <a:ea typeface="Arial"/>
              </a:rPr>
              <a:t>or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07040" y="1893240"/>
            <a:ext cx="2262960" cy="714960"/>
          </a:xfrm>
          <a:prstGeom prst="flowChartMultidocumen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ntal plan A or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 plans A, B or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86280" y="3273840"/>
            <a:ext cx="1873440" cy="133596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igible for benefit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7293-B41E-4F26-AEF6-0C4930682A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ersonalization compone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ional Application Developer t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te classes to access data (resource collec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Personalized JS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ng Port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eate ru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ew the results of rules in a list portlet provi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lish ru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ecutes rules and get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ns in any WebSphere Application Server (not just in Port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ns in the Rational server test 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BB8F-D78B-4B86-8254-8C3BD25E50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Business Vocabulary for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5484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objects and terms which are made available to the rule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ock objects are defined including the Portal Documents, the Portal User, Portal and HTTP Request and Session and the current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Collections expose content in some external source to the rules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ource Collection can be thought of as a “type” of content, exposing its own special attributes and possibly nested sub-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Jav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zation engine configured to look for an instance with a session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shopping cart or an object exposing the browser’s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562720"/>
            <a:ext cx="911160" cy="6062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486400"/>
            <a:ext cx="835200" cy="606600"/>
          </a:xfrm>
          <a:prstGeom prst="flowChartMagneticDisk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5486400"/>
            <a:ext cx="984240" cy="53172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M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562720"/>
            <a:ext cx="914400" cy="59040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486400"/>
            <a:ext cx="905040" cy="59544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495288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s included for PDM and WPS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876920"/>
            <a:ext cx="12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 for custom col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876920"/>
            <a:ext cx="22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nerated code from Rational Application 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9FC4-5DD0-4E74-8029-98FDA6F93D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source Collections – what rules are abou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Portal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 Document Manager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Content Manager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686C-8D93-43CC-8AC9-E854140EC9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835360" y="469800"/>
          <a:ext cx="613872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5360" y="469800"/>
                    <a:ext cx="613872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228680"/>
            <a:ext cx="205740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list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275"/>
              </a:spcBef>
              <a:spcAft>
                <a:spcPts val="275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9920" y="4414680"/>
            <a:ext cx="5034960" cy="1419480"/>
            <a:chOff x="169920" y="4414680"/>
            <a:chExt cx="5034960" cy="1419480"/>
          </a:xfrm>
        </p:grpSpPr>
        <p:graphicFrame>
          <p:nvGraphicFramePr>
            <p:cNvPr id="146" name=""/>
            <p:cNvGraphicFramePr/>
            <p:nvPr/>
          </p:nvGraphicFramePr>
          <p:xfrm>
            <a:off x="185400" y="4424400"/>
            <a:ext cx="5019480" cy="140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400" y="4424400"/>
                      <a:ext cx="5019480" cy="14097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169920" y="4414680"/>
              <a:ext cx="5028840" cy="1371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30560" y="5022720"/>
            <a:ext cx="5867280" cy="1122480"/>
            <a:chOff x="3130560" y="5022720"/>
            <a:chExt cx="5867280" cy="1122480"/>
          </a:xfrm>
        </p:grpSpPr>
        <p:graphicFrame>
          <p:nvGraphicFramePr>
            <p:cNvPr id="150" name=""/>
            <p:cNvGraphicFramePr/>
            <p:nvPr/>
          </p:nvGraphicFramePr>
          <p:xfrm>
            <a:off x="3192840" y="5022720"/>
            <a:ext cx="5804640" cy="1090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92840" y="5022720"/>
                      <a:ext cx="5804640" cy="10900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3130560" y="5022720"/>
              <a:ext cx="5867280" cy="1122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419720" y="5629320"/>
            <a:ext cx="2286000" cy="949320"/>
            <a:chOff x="4419720" y="5629320"/>
            <a:chExt cx="2286000" cy="949320"/>
          </a:xfrm>
        </p:grpSpPr>
        <p:graphicFrame>
          <p:nvGraphicFramePr>
            <p:cNvPr id="154" name=""/>
            <p:cNvGraphicFramePr/>
            <p:nvPr/>
          </p:nvGraphicFramePr>
          <p:xfrm>
            <a:off x="4419720" y="5629320"/>
            <a:ext cx="2286000" cy="94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19720" y="5629320"/>
                      <a:ext cx="2286000" cy="949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4419720" y="5629320"/>
              <a:ext cx="228600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lect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C26C-0119-4515-BFD8-744EB17E00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495680" y="469800"/>
          <a:ext cx="455292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69800"/>
                    <a:ext cx="45529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filer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523880"/>
            <a:ext cx="350820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les users based on user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"/>
              </a:spcBef>
              <a:spcAft>
                <a:spcPts val="26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d to decide which other rules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95360" y="4264200"/>
          <a:ext cx="3924360" cy="19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5360" y="4264200"/>
                    <a:ext cx="3924360" cy="1971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46240" y="2822400"/>
          <a:ext cx="3143160" cy="122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240" y="2822400"/>
                    <a:ext cx="3143160" cy="1229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4D06-3FC8-4BB3-844B-9813288100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9:16:15Z</dcterms:created>
  <dc:creator>Alex Butterfield</dc:creator>
  <dc:description/>
  <dc:language>en-US</dc:language>
  <cp:lastModifiedBy> </cp:lastModifiedBy>
  <dcterms:modified xsi:type="dcterms:W3CDTF">2005-08-24T02:32:08Z</dcterms:modified>
  <cp:revision>11</cp:revision>
  <dc:subject/>
  <dc:title>Slide 1</dc:title>
</cp:coreProperties>
</file>