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5D1-072D-4E74-9F7D-8AA83EDF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663-E4DF-4F78-8B06-189A4A0A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72D-1B6F-472F-B1F1-D837212D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F07-61A5-46B1-A011-A3D6550D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0E5-EFAF-4C52-98D7-8D025EE5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F4C-A423-4B15-8E1C-E3A273C1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607-363B-44EA-90E7-154B0E43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BE0-1480-4F67-86D4-6F182578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D94-1BC9-4047-ADA9-4FB9625D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E66-9011-4F3B-9A26-F6F08EF0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702-C85A-4591-ACB5-EECEE8CD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2F9-06C3-4453-A042-7429F548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71C-AA02-4D0E-9ABA-6C203D12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2666880" y="2971800"/>
            <a:ext cx="19814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3581280"/>
            <a:ext cx="15242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0:17:44Z</dcterms:created>
  <dc:creator>IBM_USER</dc:creator>
  <dc:description/>
  <dc:language>en-US</dc:language>
  <cp:lastModifiedBy>IBM_USER</cp:lastModifiedBy>
  <dcterms:modified xsi:type="dcterms:W3CDTF">2009-03-23T10:23:41Z</dcterms:modified>
  <cp:revision>1</cp:revision>
  <dc:subject/>
  <dc:title>Slide 1</dc:title>
</cp:coreProperties>
</file>