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165-959D-44F3-97F2-0AA3E2DD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F48-F1A6-4B4E-BDEC-4C8829BF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AB2-AF4A-450D-B4EE-77EC606E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71F-ACBF-4251-9FD9-587A4C69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DAA-AAA6-4EF1-8995-07916E4D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F44-7D7E-4D5E-9E63-B1BB5023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DC4-D27F-49C7-BAC2-11873761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601-D6DD-436E-982A-3A692078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328-D7B1-4FAC-BAF0-2F9C2EC2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3EF-0541-46B6-9564-766B14D4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D3D-C73F-4161-9776-C9556B65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7D6-4C98-41C7-9373-16D2028B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BE50-79EA-4D64-9F88-6755BF6FB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2666880" y="2971800"/>
            <a:ext cx="19814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3581280"/>
            <a:ext cx="15242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0:17:44Z</dcterms:created>
  <dc:creator>IBM_USER</dc:creator>
  <dc:description/>
  <dc:language>en-US</dc:language>
  <cp:lastModifiedBy>IBM_USER</cp:lastModifiedBy>
  <dcterms:modified xsi:type="dcterms:W3CDTF">2009-03-23T10:23:41Z</dcterms:modified>
  <cp:revision>1</cp:revision>
  <dc:subject/>
  <dc:title>Slide 1</dc:title>
</cp:coreProperties>
</file>