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4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5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A3B4-90B8-41ED-8846-B374DF876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42BA-4F1F-44B9-BE17-E75A752F5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9480" cy="3494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9 interview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presentation of the kinds of current opportunity areas that were descri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everything we heard, we synthesized the recommended change initiatives into 4 tra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racks focus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al Roles and Processes (support, maintenance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Reengineering and Job Family Re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28D9-1F05-405F-B655-062FE26DD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9480" cy="34941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9 interview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presentation of the kinds of current opportunity areas that were descri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everything we heard, we synthesized the recommended change initiatives into 4 tra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racks focus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al Roles and Processes (support, maintenance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Reengineering and Job Family Re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0C4C-3ECC-4A23-B07D-22F885F96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9480" cy="34941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9 interview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presentation of the kinds of current opportunity areas that were descri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everything we heard, we synthesized the recommended change initiatives into 4 tra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racks focus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al Roles and Processes (support, maintenance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Reengineering and Job Family Re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FAA4-7346-480C-9D8C-3E47E64E0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9480" cy="34941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9 interview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presentation of the kinds of current opportunity areas that were descri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everything we heard, we synthesized the recommended change initiatives into 4 tra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racks focus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al Roles and Processes (support, maintenance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Reengineering and Job Family Re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DCDE-6844-4E2A-A1BC-E80252123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9480" cy="34941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d 9 interview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presentation of the kinds of current opportunity areas that were descri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everything we heard, we synthesized the recommended change initiatives into 4 tra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racks focus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al Roles and Processes (support, maintenance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Reengineering and Job Family Re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31F8-2B52-4835-9985-2854ED7FB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822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149360"/>
            <a:ext cx="822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4479-E368-4866-90E8-0FDBE359B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875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1493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1493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AD4A-25DF-489B-9CDA-A89BE7514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264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987560"/>
            <a:ext cx="264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987560"/>
            <a:ext cx="264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149360"/>
            <a:ext cx="264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149360"/>
            <a:ext cx="264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149360"/>
            <a:ext cx="264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023BF-08D4-4D26-9A97-CE890342B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98756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4015800" cy="413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7560"/>
            <a:ext cx="4015800" cy="413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581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7560"/>
            <a:ext cx="4015800" cy="413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1493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98756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904C3-26E3-4E7E-BEE5-FC57253CB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4015800" cy="413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75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41493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75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49360"/>
            <a:ext cx="822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822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4149360"/>
            <a:ext cx="822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75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493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41493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264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987560"/>
            <a:ext cx="264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987560"/>
            <a:ext cx="264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4149360"/>
            <a:ext cx="264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4149360"/>
            <a:ext cx="264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4149360"/>
            <a:ext cx="264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F95B-09A2-4ED4-AD44-BF8ACECDA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4015800" cy="413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7560"/>
            <a:ext cx="4015800" cy="413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6AD2B-03E7-4824-AA80-AAA76CC33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A2F95-2023-4DB5-BC2E-4F254A63B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581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72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279DC-2629-4D03-814B-6AF4B83B0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7560"/>
            <a:ext cx="4015800" cy="413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93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D7642-3EE3-493A-96EA-9B24C87FB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4015800" cy="413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875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1493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79A9-A49C-415E-AAA1-801008560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7560"/>
            <a:ext cx="40158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149360"/>
            <a:ext cx="8229600" cy="197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C469-AF40-46DF-A481-2457D70D0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8756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576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SzPct val="70000"/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-19368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52640" indent="-18108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SimSu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80960" indent="-145800">
              <a:lnSpc>
                <a:spcPct val="104000"/>
              </a:lnSpc>
              <a:spcBef>
                <a:spcPts val="451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380960" indent="-14580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380960" indent="-14580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676520" y="6534000"/>
            <a:ext cx="548640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84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  |  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04920" y="6534000"/>
            <a:ext cx="1218960" cy="324000"/>
          </a:xfrm>
          <a:prstGeom prst="rect">
            <a:avLst/>
          </a:prstGeom>
          <a:noFill/>
          <a:ln w="0">
            <a:noFill/>
          </a:ln>
        </p:spPr>
        <p:txBody>
          <a:bodyPr lIns="144000" rIns="90000" tIns="684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EDC2-A3E4-4ED2-9CC9-E2FB9F76CBE4}" type="slidenum"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16680" y="60480"/>
            <a:ext cx="29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Business Consulting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1523880" y="151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162920" y="6553080"/>
            <a:ext cx="178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Arial"/>
              </a:rPr>
              <a:t>© Copyright IBM Corporation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 flipV="1">
            <a:off x="1523880" y="6476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V="1">
            <a:off x="1523880" y="151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-360" y="-360"/>
            <a:ext cx="1524240" cy="501480"/>
            <a:chOff x="-360" y="-360"/>
            <a:chExt cx="1524240" cy="501480"/>
          </a:xfrm>
        </p:grpSpPr>
        <p:sp>
          <p:nvSpPr>
            <p:cNvPr id="16" name=""/>
            <p:cNvSpPr/>
            <p:nvPr/>
          </p:nvSpPr>
          <p:spPr>
            <a:xfrm flipV="1">
              <a:off x="1523880" y="-360"/>
              <a:ext cx="0" cy="5014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609480" y="0"/>
              <a:ext cx="0" cy="3808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304920" y="0"/>
              <a:ext cx="0" cy="3808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-360" y="196920"/>
              <a:ext cx="15238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1219320" y="0"/>
              <a:ext cx="0" cy="3808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914400" y="0"/>
              <a:ext cx="0" cy="3808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6458400" y="6048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trategy and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486400" y="1595520"/>
            <a:ext cx="3657600" cy="3666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315200" y="3451320"/>
            <a:ext cx="1828800" cy="1814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48120" y="454356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e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494320" y="1292400"/>
            <a:ext cx="3240" cy="49543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12600" y="3444840"/>
            <a:ext cx="9151920" cy="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46440" y="1460160"/>
            <a:ext cx="3240" cy="49546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16200" y="1460160"/>
            <a:ext cx="3240" cy="49546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313760" y="1460520"/>
            <a:ext cx="0" cy="42307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828800" y="12193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219320"/>
            <a:ext cx="5138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IBM Business Consulting Servi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19120" y="6095880"/>
            <a:ext cx="21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© Copyright IBM Corporation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66688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The need for services oriented architecture is clear, but the SOA governance implementation still needs to gain acceptance enterprise wide</a:t>
            </a:r>
            <a:endParaRPr b="1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33640"/>
            <a:ext cx="3657600" cy="413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7cdfd"/>
              </a:gs>
            </a:gsLst>
            <a:lin ang="5400000"/>
          </a:gradFill>
          <a:ln cap="rnd" w="9360">
            <a:solidFill>
              <a:srgbClr val="99ccff"/>
            </a:solidFill>
            <a:custDash>
              <a:ds d="100000" sp="1000"/>
            </a:custDash>
            <a:miter/>
          </a:ln>
        </p:spPr>
        <p:txBody>
          <a:bodyPr lIns="45720" rIns="45720" tIns="46800" bIns="46800" anchor="t">
            <a:normAutofit/>
          </a:bodyPr>
          <a:p>
            <a:pPr marL="19224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X% of those surveyed agree SOA governance implementation is a good decision (#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survey respondents understand the case for change and agree that current processes are inefficient and solution delivery is po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jority of respondents are aware of the SOA governance goals but believe they are a stretch due to other priorities (#1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a level of skepticism because of past experiences and other prior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most all agree that this program is needed and that they couldn’t live with the status q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05520" y="2057400"/>
            <a:ext cx="3581280" cy="41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7cdfd"/>
              </a:gs>
            </a:gsLst>
            <a:lin ang="5400000"/>
          </a:gradFill>
          <a:ln cap="rnd" w="9360">
            <a:solidFill>
              <a:srgbClr val="7889fb"/>
            </a:solidFill>
            <a:custDash>
              <a:ds d="100000" sp="1000"/>
            </a:custDash>
            <a:miter/>
          </a:ln>
        </p:spPr>
        <p:txBody>
          <a:bodyPr lIns="45720" rIns="45720" tIns="46800" bIns="46800" anchor="t">
            <a:normAutofit fontScale="97000"/>
          </a:bodyPr>
          <a:p>
            <a:pPr marL="1861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61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6120" indent="-18612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verall need for service oriented architecture builds a solid case for implementation of SOA 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120" indent="-18612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gative perception of past IT projects is overshadowing SOA governance and could influence efficient ado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120" indent="-18612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OA governance implementation may lose momentum and struggle with resources due to competing initi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120" indent="-18612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ived lack of business involvement may result in the impression that this is just another IT-driven project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6120" indent="-18612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ven the number of competing priorities, SOA governance will have to set realistic and attainable goals to strengthen support across the orga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94320" y="2322360"/>
            <a:ext cx="358560" cy="2986200"/>
          </a:xfrm>
          <a:custGeom>
            <a:avLst/>
            <a:gdLst/>
            <a:ahLst/>
            <a:rect l="l" t="t" r="r" b="b"/>
            <a:pathLst>
              <a:path w="303" h="1609">
                <a:moveTo>
                  <a:pt x="303" y="804"/>
                </a:moveTo>
                <a:lnTo>
                  <a:pt x="0" y="0"/>
                </a:lnTo>
                <a:lnTo>
                  <a:pt x="0" y="1609"/>
                </a:lnTo>
                <a:lnTo>
                  <a:pt x="303" y="80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523880"/>
            <a:ext cx="8229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192240" indent="-192240" algn="ctr">
              <a:lnSpc>
                <a:spcPct val="10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nge Vision  – Key Issues and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6275520"/>
            <a:ext cx="41911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Arial"/>
                <a:ea typeface="Arial"/>
              </a:rPr>
              <a:t>Source: Discussions, Previously Captured Information and Observations, and Surve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32880" y="2033640"/>
            <a:ext cx="1963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1dc8"/>
                </a:solidFill>
                <a:latin typeface="Arial"/>
                <a:ea typeface="Arial"/>
              </a:rPr>
              <a:t>Situational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1dc8"/>
                </a:solidFill>
                <a:latin typeface="Arial"/>
                <a:ea typeface="Arial"/>
              </a:rPr>
              <a:t>(Representative Sam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69200" y="203364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1dc8"/>
                </a:solidFill>
                <a:latin typeface="Arial"/>
                <a:ea typeface="Arial"/>
              </a:rPr>
              <a:t>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6275520"/>
            <a:ext cx="3357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Arial"/>
                <a:ea typeface="Arial"/>
              </a:rPr>
              <a:t>Note:  Numbers in parentheses refer to survey questions referen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496280" y="609480"/>
          <a:ext cx="1542960" cy="681120"/>
        </p:xfrm>
        <a:graphic>
          <a:graphicData uri="http://schemas.openxmlformats.org/drawingml/2006/table">
            <a:tbl>
              <a:tblPr/>
              <a:tblGrid>
                <a:gridCol w="1380960"/>
                <a:gridCol w="162000"/>
              </a:tblGrid>
              <a:tr h="22716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ce of a compelling case for chang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716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derstanding of SOA governance vision / objectives and attainabili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2680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y-in of the case for change and vis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7486560" y="380880"/>
            <a:ext cx="15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61dc8"/>
                </a:solidFill>
                <a:latin typeface="Arial"/>
                <a:ea typeface="Arial"/>
              </a:rPr>
              <a:t>Change Vi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2366C-290F-4273-BDC7-5B945A60AFE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889fb"/>
                </a:solidFill>
                <a:latin typeface="Arial"/>
              </a:rPr>
              <a:t>IT employees are willing to assist with SOA governance once they truly understand what is entailed</a:t>
            </a:r>
            <a:endParaRPr b="1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33640"/>
            <a:ext cx="3657600" cy="413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7cdfd"/>
              </a:gs>
            </a:gsLst>
            <a:lin ang="5400000"/>
          </a:gradFill>
          <a:ln cap="rnd" w="9360">
            <a:solidFill>
              <a:srgbClr val="7889fb"/>
            </a:solidFill>
            <a:custDash>
              <a:ds d="100000" sp="1000"/>
            </a:custDash>
            <a:miter/>
          </a:ln>
        </p:spPr>
        <p:txBody>
          <a:bodyPr lIns="45720" rIns="45720" tIns="46800" bIns="46800" anchor="t">
            <a:normAutofit/>
          </a:bodyPr>
          <a:p>
            <a:pPr marL="192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veyed individuals appear to understand their roles, but are not sure of the depth and level of commitment that will b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X% of the surveyed individuals believe that all impacted business organizations will have adequate representation within the SOA governance 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05520" y="2033640"/>
            <a:ext cx="3581280" cy="413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7cdfd"/>
              </a:gs>
            </a:gsLst>
            <a:lin ang="5400000"/>
          </a:gradFill>
          <a:ln cap="rnd" w="9360">
            <a:solidFill>
              <a:srgbClr val="7889fb"/>
            </a:solidFill>
            <a:custDash>
              <a:ds d="100000" sp="1000"/>
            </a:custDash>
            <a:miter/>
          </a:ln>
        </p:spPr>
        <p:txBody>
          <a:bodyPr lIns="45720" rIns="45720" tIns="46800" bIns="46800" anchor="t">
            <a:normAutofit/>
          </a:bodyPr>
          <a:p>
            <a:pPr marL="1922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 has not clearly defined expectations of individuals and/or their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ders are unsure of what they are committing to in the SOA governance effort at this point, which could result in implementation delay and/or less than expected achievement of targ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ck of clarity in roles and responsibilities makes it difficult for leaders to influence and educate their employ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out visible, key stakeholders, support for the adoption of SOA governance will dwi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94320" y="2322360"/>
            <a:ext cx="358560" cy="2986200"/>
          </a:xfrm>
          <a:custGeom>
            <a:avLst/>
            <a:gdLst/>
            <a:ahLst/>
            <a:rect l="l" t="t" r="r" b="b"/>
            <a:pathLst>
              <a:path w="303" h="1609">
                <a:moveTo>
                  <a:pt x="303" y="804"/>
                </a:moveTo>
                <a:lnTo>
                  <a:pt x="0" y="0"/>
                </a:lnTo>
                <a:lnTo>
                  <a:pt x="0" y="1609"/>
                </a:lnTo>
                <a:lnTo>
                  <a:pt x="303" y="804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523880"/>
            <a:ext cx="8229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192240" indent="-192240" algn="ctr">
              <a:lnSpc>
                <a:spcPct val="10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Stakeholder Management  – Key Issues and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32880" y="2033640"/>
            <a:ext cx="1963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1dc8"/>
                </a:solidFill>
                <a:latin typeface="Arial"/>
                <a:ea typeface="Arial"/>
              </a:rPr>
              <a:t>Situational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1dc8"/>
                </a:solidFill>
                <a:latin typeface="Arial"/>
                <a:ea typeface="Arial"/>
              </a:rPr>
              <a:t>(Representative Sam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69200" y="203364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1dc8"/>
                </a:solidFill>
                <a:latin typeface="Arial"/>
                <a:ea typeface="Arial"/>
              </a:rPr>
              <a:t>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6275520"/>
            <a:ext cx="41911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Arial"/>
                <a:ea typeface="Arial"/>
              </a:rPr>
              <a:t>Source: Discussions, Previously Captured Information and Observations, and Surve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489800" y="609480"/>
          <a:ext cx="1549440" cy="263520"/>
        </p:xfrm>
        <a:graphic>
          <a:graphicData uri="http://schemas.openxmlformats.org/drawingml/2006/table">
            <a:tbl>
              <a:tblPr/>
              <a:tblGrid>
                <a:gridCol w="1397160"/>
                <a:gridCol w="152280"/>
              </a:tblGrid>
              <a:tr h="132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derstanding of role in the proje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2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of commitmen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7486560" y="380880"/>
            <a:ext cx="15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61dc8"/>
                </a:solidFill>
                <a:latin typeface="Arial"/>
                <a:ea typeface="Arial"/>
              </a:rPr>
              <a:t>Stakeholder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6275520"/>
            <a:ext cx="3357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Arial"/>
                <a:ea typeface="Arial"/>
              </a:rPr>
              <a:t>Note:  Numbers in parentheses refer to survey questions referen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54B5F-E2A8-4862-965C-44EAD78B10B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6959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889fb"/>
                </a:solidFill>
                <a:latin typeface="Arial"/>
              </a:rPr>
              <a:t>Other priorities and a history of unsuccessful change may serve as a roadblock </a:t>
            </a:r>
            <a:endParaRPr b="1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657600" cy="413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7cdfd"/>
              </a:gs>
            </a:gsLst>
            <a:lin ang="5400000"/>
          </a:gradFill>
          <a:ln cap="rnd" w="9360">
            <a:solidFill>
              <a:srgbClr val="7889fb"/>
            </a:solidFill>
            <a:custDash>
              <a:ds d="100000" sp="1000"/>
            </a:custDash>
            <a:miter/>
          </a:ln>
        </p:spPr>
        <p:txBody>
          <a:bodyPr lIns="45720" rIns="45720" tIns="46800" bIns="46800" anchor="t">
            <a:normAutofit/>
          </a:bodyPr>
          <a:p>
            <a:pPr marL="19224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XX% of the surveyed respondents believe there is required leadership involved to ensure effective implementation (#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Only XX% of the surveyed respondents believe this implementation will not be impacted by competing priorities (#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XX% believe IT’s past ability to lead large change initiatives has not been good (#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XX% surveyed believe the appropriate level of IT management is involved at all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05520" y="2033640"/>
            <a:ext cx="3581280" cy="413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7cdfd"/>
              </a:gs>
            </a:gsLst>
            <a:lin ang="5400000"/>
          </a:gradFill>
          <a:ln cap="rnd" w="9360">
            <a:solidFill>
              <a:srgbClr val="7889fb"/>
            </a:solidFill>
            <a:custDash>
              <a:ds d="100000" sp="1000"/>
            </a:custDash>
            <a:miter/>
          </a:ln>
        </p:spPr>
        <p:txBody>
          <a:bodyPr lIns="45720" rIns="45720" tIns="46800" bIns="46800" anchor="t">
            <a:normAutofit/>
          </a:bodyPr>
          <a:p>
            <a:pPr marL="1922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may be resistance to implementation of structured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 and staff may feel overwhelmed and confused with the number of competing prio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out strong, visible leadership from business and IT management, implementation efforts of the SOA governance structures may be adversely impa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437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ps in/or errors in communication may negatively impact the implementation of the SOA governance structu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85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850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94320" y="2322360"/>
            <a:ext cx="358560" cy="2986200"/>
          </a:xfrm>
          <a:custGeom>
            <a:avLst/>
            <a:gdLst/>
            <a:ahLst/>
            <a:rect l="l" t="t" r="r" b="b"/>
            <a:pathLst>
              <a:path w="303" h="1609">
                <a:moveTo>
                  <a:pt x="303" y="804"/>
                </a:moveTo>
                <a:lnTo>
                  <a:pt x="0" y="0"/>
                </a:lnTo>
                <a:lnTo>
                  <a:pt x="0" y="1609"/>
                </a:lnTo>
                <a:lnTo>
                  <a:pt x="303" y="804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523880"/>
            <a:ext cx="8229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192240" indent="-192240" algn="ctr">
              <a:lnSpc>
                <a:spcPct val="10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onditions for Change  – Key Issues and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440" y="6297480"/>
            <a:ext cx="31003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32880" y="2033640"/>
            <a:ext cx="1963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1dc8"/>
                </a:solidFill>
                <a:latin typeface="Arial"/>
                <a:ea typeface="Arial"/>
              </a:rPr>
              <a:t>Situational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1dc8"/>
                </a:solidFill>
                <a:latin typeface="Arial"/>
                <a:ea typeface="Arial"/>
              </a:rPr>
              <a:t>(Representative Sam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69200" y="203364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1dc8"/>
                </a:solidFill>
                <a:latin typeface="Arial"/>
                <a:ea typeface="Arial"/>
              </a:rPr>
              <a:t>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496280" y="609480"/>
          <a:ext cx="1542960" cy="395280"/>
        </p:xfrm>
        <a:graphic>
          <a:graphicData uri="http://schemas.openxmlformats.org/drawingml/2006/table">
            <a:tbl>
              <a:tblPr/>
              <a:tblGrid>
                <a:gridCol w="1390680"/>
                <a:gridCol w="152280"/>
              </a:tblGrid>
              <a:tr h="132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ement’s ability to lead chang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2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ient/ IT past experience with chang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2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etition / prioriti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52280" y="6275520"/>
            <a:ext cx="41911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Arial"/>
                <a:ea typeface="Arial"/>
              </a:rPr>
              <a:t>Source: Discussions, Previously Captured Information and Observations, and Surve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86560" y="380880"/>
            <a:ext cx="15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61dc8"/>
                </a:solidFill>
                <a:latin typeface="Arial"/>
                <a:ea typeface="Arial"/>
              </a:rPr>
              <a:t>Conditions for Chan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6275520"/>
            <a:ext cx="3357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Arial"/>
                <a:ea typeface="Arial"/>
              </a:rPr>
              <a:t>Note:  Numbers in parentheses refer to survey questions referen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BC25-84BB-4EDE-805E-EAB07656511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6865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889fb"/>
                </a:solidFill>
                <a:latin typeface="Arial"/>
              </a:rPr>
              <a:t>Although most would agree that the gains outweigh the pains, the organization has cultural differences that may impede efficient implementation</a:t>
            </a:r>
            <a:endParaRPr b="1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86200" cy="419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7cdfd"/>
              </a:gs>
            </a:gsLst>
            <a:lin ang="5400000"/>
          </a:gradFill>
          <a:ln cap="rnd" w="9360">
            <a:solidFill>
              <a:srgbClr val="7889fb"/>
            </a:solidFill>
            <a:custDash>
              <a:ds d="100000" sp="1000"/>
            </a:custDash>
            <a:miter/>
          </a:ln>
        </p:spPr>
        <p:txBody>
          <a:bodyPr lIns="45720" rIns="45720" tIns="46800" bIns="46800" anchor="t">
            <a:normAutofit/>
          </a:bodyPr>
          <a:p>
            <a:pPr marL="1922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urvey respondents realize the potential benefits and don’t see any pit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% of survey respondents agree SOA governance will bring changes that will help them do their jobs more effectively (#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% of survey respondents completely/mostly agree they possess the required skills to succeed in the new environment (#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% agree that they will receive the right level of training to operate effectively in the new environment (#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jority of leadership strongly believe their staff will be able to absorb the level of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hip perceives they can absorb the level of change because they believe their organization has a process improvement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XX% agree that the vision and objectives of SOA governance are consistent with the current culture of the Client (#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5520" y="2033640"/>
            <a:ext cx="3581280" cy="413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7cdfd"/>
              </a:gs>
            </a:gsLst>
            <a:lin ang="5400000"/>
          </a:gradFill>
          <a:ln cap="rnd" w="9360">
            <a:solidFill>
              <a:srgbClr val="7889fb"/>
            </a:solidFill>
            <a:custDash>
              <a:ds d="100000" sp="1000"/>
            </a:custDash>
            <a:miter/>
          </a:ln>
        </p:spPr>
        <p:txBody>
          <a:bodyPr lIns="45720" rIns="45720" tIns="46800" bIns="46800" anchor="t">
            <a:normAutofit fontScale="99000"/>
          </a:bodyPr>
          <a:p>
            <a:pPr marL="19008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08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08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080" indent="-190080">
              <a:lnSpc>
                <a:spcPct val="100000"/>
              </a:lnSpc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lementation may be able to leverage the organization’s strong belief in the benefits of SOA 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080" indent="-190080">
              <a:lnSpc>
                <a:spcPct val="100000"/>
              </a:lnSpc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hip may set unrealistic goals because of their perception of staff’s ability to absorb the level of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080" indent="-190080">
              <a:lnSpc>
                <a:spcPct val="100000"/>
              </a:lnSpc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hip and staff may not be prepared for the level of effort that will be required for th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080" indent="-190080">
              <a:lnSpc>
                <a:spcPct val="100000"/>
              </a:lnSpc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hip and staff may be presenting an overly optimistic picture of skills and capabilities which may result in inadequate training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080" indent="-190080">
              <a:lnSpc>
                <a:spcPct val="100000"/>
              </a:lnSpc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es may revert to “business as usual” if they do not receive the adequate level of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080" indent="-190080">
              <a:lnSpc>
                <a:spcPct val="100000"/>
              </a:lnSpc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effort may require identification and development of focused efforts to address cultural g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94320" y="2322360"/>
            <a:ext cx="358560" cy="2986200"/>
          </a:xfrm>
          <a:custGeom>
            <a:avLst/>
            <a:gdLst/>
            <a:ahLst/>
            <a:rect l="l" t="t" r="r" b="b"/>
            <a:pathLst>
              <a:path w="303" h="1609">
                <a:moveTo>
                  <a:pt x="303" y="804"/>
                </a:moveTo>
                <a:lnTo>
                  <a:pt x="0" y="0"/>
                </a:lnTo>
                <a:lnTo>
                  <a:pt x="0" y="1609"/>
                </a:lnTo>
                <a:lnTo>
                  <a:pt x="303" y="804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523880"/>
            <a:ext cx="8229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192240" indent="-192240" algn="ctr">
              <a:lnSpc>
                <a:spcPct val="10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Organizational Dimensions  – Key Issues and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32880" y="2033640"/>
            <a:ext cx="1963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1dc8"/>
                </a:solidFill>
                <a:latin typeface="Arial"/>
                <a:ea typeface="Arial"/>
              </a:rPr>
              <a:t>Situational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1dc8"/>
                </a:solidFill>
                <a:latin typeface="Arial"/>
                <a:ea typeface="Arial"/>
              </a:rPr>
              <a:t>(Representative Sam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69200" y="203364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1dc8"/>
                </a:solidFill>
                <a:latin typeface="Arial"/>
                <a:ea typeface="Arial"/>
              </a:rPr>
              <a:t>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496280" y="603360"/>
          <a:ext cx="1542960" cy="622080"/>
        </p:xfrm>
        <a:graphic>
          <a:graphicData uri="http://schemas.openxmlformats.org/drawingml/2006/table">
            <a:tbl>
              <a:tblPr/>
              <a:tblGrid>
                <a:gridCol w="1390680"/>
                <a:gridCol w="152280"/>
              </a:tblGrid>
              <a:tr h="132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ption of gains vs. pain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32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ility to operate in new environmen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716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acity to absorb the level of chang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2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ltural fi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52280" y="6275520"/>
            <a:ext cx="41911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Arial"/>
                <a:ea typeface="Arial"/>
              </a:rPr>
              <a:t>Source: Discussions, Previously Captured Information and Observations, and Surve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86560" y="380880"/>
            <a:ext cx="15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61dc8"/>
                </a:solidFill>
                <a:latin typeface="Arial"/>
                <a:ea typeface="Arial"/>
              </a:rPr>
              <a:t>Organizational Dimen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6275520"/>
            <a:ext cx="3357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Arial"/>
                <a:ea typeface="Arial"/>
              </a:rPr>
              <a:t>Note:  Numbers in parentheses refer to survey questions referen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D22C-9E3B-42AD-AD9D-618FA0A555E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81040"/>
            <a:ext cx="6865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889fb"/>
                </a:solidFill>
                <a:latin typeface="Arial"/>
              </a:rPr>
              <a:t>Inconsistent or lack of communications have made change difficult in the past </a:t>
            </a:r>
            <a:endParaRPr b="1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33640"/>
            <a:ext cx="3657600" cy="413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7cdfd"/>
              </a:gs>
            </a:gsLst>
            <a:lin ang="5400000"/>
          </a:gradFill>
          <a:ln cap="rnd" w="9360">
            <a:solidFill>
              <a:srgbClr val="7889fb"/>
            </a:solidFill>
            <a:custDash>
              <a:ds d="100000" sp="1000"/>
            </a:custDash>
            <a:miter/>
          </a:ln>
        </p:spPr>
        <p:txBody>
          <a:bodyPr lIns="45720" rIns="45720" tIns="46800" bIns="46800" anchor="t">
            <a:normAutofit/>
          </a:bodyPr>
          <a:p>
            <a:pPr marL="192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5520" y="2033640"/>
            <a:ext cx="3581280" cy="413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7cdfd"/>
              </a:gs>
            </a:gsLst>
            <a:lin ang="5400000"/>
          </a:gradFill>
          <a:ln cap="rnd" w="9360">
            <a:solidFill>
              <a:srgbClr val="7889fb"/>
            </a:solidFill>
            <a:custDash>
              <a:ds d="100000" sp="1000"/>
            </a:custDash>
            <a:miter/>
          </a:ln>
        </p:spPr>
        <p:txBody>
          <a:bodyPr lIns="45720" rIns="45720" tIns="46800" bIns="46800" anchor="t">
            <a:normAutofit/>
          </a:bodyPr>
          <a:p>
            <a:pPr marL="192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94320" y="2322360"/>
            <a:ext cx="358560" cy="2986200"/>
          </a:xfrm>
          <a:custGeom>
            <a:avLst/>
            <a:gdLst/>
            <a:ahLst/>
            <a:rect l="l" t="t" r="r" b="b"/>
            <a:pathLst>
              <a:path w="303" h="1609">
                <a:moveTo>
                  <a:pt x="303" y="804"/>
                </a:moveTo>
                <a:lnTo>
                  <a:pt x="0" y="0"/>
                </a:lnTo>
                <a:lnTo>
                  <a:pt x="0" y="1609"/>
                </a:lnTo>
                <a:lnTo>
                  <a:pt x="303" y="804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523880"/>
            <a:ext cx="8229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192240" indent="-192240" algn="ctr">
              <a:lnSpc>
                <a:spcPct val="10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ommunications and Learning  – Key Issues and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32880" y="2033640"/>
            <a:ext cx="1963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1dc8"/>
                </a:solidFill>
                <a:latin typeface="Arial"/>
                <a:ea typeface="Arial"/>
              </a:rPr>
              <a:t>Situational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1dc8"/>
                </a:solidFill>
                <a:latin typeface="Arial"/>
                <a:ea typeface="Arial"/>
              </a:rPr>
              <a:t>(Representative Sam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69200" y="203364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1dc8"/>
                </a:solidFill>
                <a:latin typeface="Arial"/>
                <a:ea typeface="Arial"/>
              </a:rPr>
              <a:t>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275520"/>
            <a:ext cx="41911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Arial"/>
                <a:ea typeface="Arial"/>
              </a:rPr>
              <a:t>Source: Discussions, Previously Captured Information and Observations, and Surve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7486560" y="606600"/>
          <a:ext cx="1552680" cy="622080"/>
        </p:xfrm>
        <a:graphic>
          <a:graphicData uri="http://schemas.openxmlformats.org/drawingml/2006/table">
            <a:tbl>
              <a:tblPr/>
              <a:tblGrid>
                <a:gridCol w="1387440"/>
                <a:gridCol w="165240"/>
              </a:tblGrid>
              <a:tr h="22716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ailability of effective communication resourc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2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ement’s ability to communica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32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of learning to absor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2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arning deployment abiliti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762120" y="2666880"/>
            <a:ext cx="34290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X% of the respondents agree that it has been clearly communicated why the Client is implementing SOA governance and the value it brings to the organization (#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ver XX% of those surveyed believe that sufficient training will be provided to ensure they can operate in the new SOA governance environment (#1) and over XX% believe their staff will be well prepared as a result of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X% of respondents do not agree that the appropriate level of IT management has been involved in communication during past major initiatives and in addition XX% believe IT management has not demonstrated effective communication with those initi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2590920"/>
            <a:ext cx="350532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ople will be uninformed and unprepared to make the changes necessary when imple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onsistency in understanding of SOA and what will be required to reach the stated goals may cause confusion and frustration across the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nowledgeable resources may not be available as needed to support the institutionalization of SOA gover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learning gap may be larger than is currently anticipated among management and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374"/>
              </a:spcBef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bsence of a communication plan could affect the implementation of the SOA governance structure’s ability to inform and influence key stakeholders and impacte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0600" y="38088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61dc8"/>
                </a:solidFill>
                <a:latin typeface="Arial"/>
                <a:ea typeface="Arial"/>
              </a:rPr>
              <a:t>Communications and Lear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6275520"/>
            <a:ext cx="3357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77777"/>
                </a:solidFill>
                <a:latin typeface="Arial"/>
                <a:ea typeface="Arial"/>
              </a:rPr>
              <a:t>Note:  Numbers in parentheses refer to survey questions referen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3E19-A1EF-4ED3-A7BA-065F7F2320DE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4:50:26Z</dcterms:created>
  <dc:creator>IBM Corporation</dc:creator>
  <dc:description>© Copyright IBM Corporation 2006.  All Rights Reserved.</dc:description>
  <dc:language>en-US</dc:language>
  <cp:lastModifiedBy>John Smith</cp:lastModifiedBy>
  <dcterms:modified xsi:type="dcterms:W3CDTF">2006-05-15T06:18:24Z</dcterms:modified>
  <cp:revision>75</cp:revision>
  <dc:subject/>
  <dc:title>Situational Analysis and Impact Report</dc:title>
</cp:coreProperties>
</file>