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3508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marL="21600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lstStyle>
            <a:lvl1pPr marL="21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lstStyle>
            <a:lvl1pPr marL="21600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AF6-2507-4D49-9FF5-9550B4A5747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2c_TM_smUse" descr=""/>
          <p:cNvPicPr/>
          <p:nvPr/>
        </p:nvPicPr>
        <p:blipFill>
          <a:blip r:embed="rId2"/>
          <a:stretch/>
        </p:blipFill>
        <p:spPr>
          <a:xfrm>
            <a:off x="225360" y="9442440"/>
            <a:ext cx="157968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71C-5C8B-4A7A-8693-1411C0B5617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957A-003C-4EDE-805A-2E5E90EE336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76440" y="4876560"/>
            <a:ext cx="55641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638280" y="477720"/>
            <a:ext cx="5616360" cy="421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BE27-5BB1-4A38-A12C-9C882C6695A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76440" y="4876560"/>
            <a:ext cx="55641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638280" y="477720"/>
            <a:ext cx="5616360" cy="421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489E-85F3-49F0-A8BC-A4B702B4A59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5200" y="1301760"/>
            <a:ext cx="177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CDC3-593E-44DE-81B3-41877A08FE0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76440" y="4878000"/>
            <a:ext cx="5565600" cy="4305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2840" bIns="42840" anchor="t">
            <a:noAutofit/>
          </a:bodyPr>
          <a:p>
            <a:pPr marL="1191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638280" y="477720"/>
            <a:ext cx="5616360" cy="421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C411-E897-4883-BE63-673A11651D4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552600" y="390600"/>
            <a:ext cx="5659200" cy="4244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6440" y="4878000"/>
            <a:ext cx="55656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822F-5464-423B-B157-14F1849E9CF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C7A8-5900-432B-A268-F2C1DD2AD36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76440" y="4876560"/>
            <a:ext cx="55641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Img"/>
          </p:nvPr>
        </p:nvSpPr>
        <p:spPr>
          <a:xfrm>
            <a:off x="638280" y="477720"/>
            <a:ext cx="5616360" cy="421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176-5774-4C8C-B94A-86A2C88B11D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76440" y="4876560"/>
            <a:ext cx="55641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638280" y="477720"/>
            <a:ext cx="5616360" cy="421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3BAB-2B2F-47DA-AE11-5F0CEAD389E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76440" y="4876560"/>
            <a:ext cx="55641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ldImg"/>
          </p:nvPr>
        </p:nvSpPr>
        <p:spPr>
          <a:xfrm>
            <a:off x="638280" y="477720"/>
            <a:ext cx="5616360" cy="421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37F-77AC-4A54-9CE0-BFD36E604A7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36880" y="0"/>
            <a:ext cx="2932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08960"/>
            <a:ext cx="2932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32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1179360"/>
            <a:ext cx="180684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796-0461-4447-A3F8-5B9F0243C39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36880" y="0"/>
            <a:ext cx="2932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9408960"/>
            <a:ext cx="2932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932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1179360"/>
            <a:ext cx="180684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8ABA-F133-483B-8840-32DD00E3927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36880" y="0"/>
            <a:ext cx="2932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08960"/>
            <a:ext cx="2932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32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2" name=""/>
          <p:cNvSpPr/>
          <p:nvPr/>
        </p:nvSpPr>
        <p:spPr>
          <a:xfrm>
            <a:off x="539640" y="1179360"/>
            <a:ext cx="180684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A3B5-FB4A-4FBD-B4DE-8FDB82F4537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36880" y="0"/>
            <a:ext cx="2932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9408960"/>
            <a:ext cx="2932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32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1179360"/>
            <a:ext cx="180684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F16E-3AEF-451C-8B86-07BE141E2FB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C68-590B-4D34-846A-9B5114DD86B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2868-C630-4F49-85E4-1FCFDA36EFC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1179360"/>
            <a:ext cx="180684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Have the students discuss which best practices relate to which principles.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2B24-1873-48A1-86CC-BA072C796FE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76440" y="4878000"/>
            <a:ext cx="55656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ldImg"/>
          </p:nvPr>
        </p:nvSpPr>
        <p:spPr>
          <a:xfrm>
            <a:off x="638280" y="477720"/>
            <a:ext cx="5616360" cy="421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83B-FAEA-4D24-A4A3-E591CF6B016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76440" y="4878000"/>
            <a:ext cx="55656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638280" y="477720"/>
            <a:ext cx="5616360" cy="421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ECC6-0A55-40F2-8C24-8EE59344095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4060-B156-4990-AAB1-34FD46F1CC6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b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235240" y="90180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2454120" y="4437000"/>
            <a:ext cx="3921120" cy="43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2838960"/>
            <a:ext cx="913464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283896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720" y="283896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8800" y="60912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7240" y="60912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283896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8800" y="283896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7240" y="283896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34640" cy="42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75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0" y="283896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34640" cy="42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720" y="283896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2838960"/>
            <a:ext cx="913464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0" y="2838960"/>
            <a:ext cx="913464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0" y="283896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720" y="283896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88800" y="60912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77240" y="60912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0" y="283896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088800" y="283896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77240" y="2838960"/>
            <a:ext cx="294120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75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283896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426924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720" y="283896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6200"/>
            <a:ext cx="90756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720" y="609120"/>
            <a:ext cx="445752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2838960"/>
            <a:ext cx="9134640" cy="203616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4400"/>
            <a:ext cx="9131400" cy="1176480"/>
          </a:xfrm>
          <a:custGeom>
            <a:avLst/>
            <a:gdLst/>
            <a:ahLst/>
            <a:rect l="l" t="t" r="r" b="b"/>
            <a:pathLst>
              <a:path w="5752" h="741">
                <a:moveTo>
                  <a:pt x="0" y="0"/>
                </a:moveTo>
                <a:lnTo>
                  <a:pt x="5752" y="0"/>
                </a:lnTo>
                <a:lnTo>
                  <a:pt x="5752" y="417"/>
                </a:lnTo>
                <a:lnTo>
                  <a:pt x="1542" y="411"/>
                </a:lnTo>
                <a:cubicBezTo>
                  <a:pt x="682" y="438"/>
                  <a:pt x="987" y="380"/>
                  <a:pt x="609" y="445"/>
                </a:cubicBezTo>
                <a:cubicBezTo>
                  <a:pt x="232" y="510"/>
                  <a:pt x="0" y="741"/>
                  <a:pt x="0" y="741"/>
                </a:cubicBezTo>
                <a:cubicBezTo>
                  <a:pt x="0" y="382"/>
                  <a:pt x="0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007ea2"/>
              </a:gs>
              <a:gs pos="100000">
                <a:srgbClr val="0019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6794640"/>
            <a:ext cx="6993000" cy="0"/>
          </a:xfrm>
          <a:prstGeom prst="line">
            <a:avLst/>
          </a:prstGeom>
          <a:ln w="9360">
            <a:solidFill>
              <a:srgbClr val="007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-2422440" y="873000"/>
            <a:ext cx="2054160" cy="1422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b6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13716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 Narrow"/>
              </a:rPr>
              <a:t>Solid Palett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-2422440" y="2400480"/>
            <a:ext cx="2054160" cy="1422360"/>
          </a:xfrm>
          <a:prstGeom prst="rect">
            <a:avLst/>
          </a:prstGeom>
          <a:solidFill>
            <a:srgbClr val="000000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13716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 Narrow"/>
              </a:rPr>
              <a:t>Gradient Palette I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-2422440" y="4221000"/>
            <a:ext cx="2054160" cy="1422720"/>
          </a:xfrm>
          <a:prstGeom prst="rect">
            <a:avLst/>
          </a:prstGeom>
          <a:solidFill>
            <a:srgbClr val="000000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91440" bIns="13716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 Narrow"/>
              </a:rPr>
              <a:t>Gradient Palette II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5331240" y="2185920"/>
            <a:ext cx="299232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 Black"/>
              </a:rPr>
              <a:t>APPLYING THESE COLO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28890" t="31120" r="59574" b="56295"/>
          <a:stretch/>
        </p:blipFill>
        <p:spPr>
          <a:xfrm>
            <a:off x="-3598920" y="1432080"/>
            <a:ext cx="882720" cy="6188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-3781440" y="866880"/>
            <a:ext cx="449280" cy="398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6e8"/>
                </a:solidFill>
                <a:latin typeface="Arial Narrow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"/>
          <p:cNvSpPr/>
          <p:nvPr/>
        </p:nvSpPr>
        <p:spPr>
          <a:xfrm>
            <a:off x="-3781440" y="2158920"/>
            <a:ext cx="449280" cy="398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6e8"/>
                </a:solidFill>
                <a:latin typeface="Arial Narrow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-3781440" y="3301920"/>
            <a:ext cx="449280" cy="398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6e8"/>
                </a:solidFill>
                <a:latin typeface="Arial Narrow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-3710160" y="1077480"/>
            <a:ext cx="1155960" cy="49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d36d"/>
                </a:solidFill>
                <a:latin typeface="Arial Narrow"/>
              </a:rPr>
              <a:t>Click on the desired color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"/>
          <p:cNvSpPr/>
          <p:nvPr/>
        </p:nvSpPr>
        <p:spPr>
          <a:xfrm>
            <a:off x="-3710160" y="2333880"/>
            <a:ext cx="1221120" cy="87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d36d"/>
                </a:solidFill>
                <a:latin typeface="Arial Narrow"/>
              </a:rPr>
              <a:t>Click on the paintbrush tool located on your toolbar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"/>
          <p:cNvSpPr/>
          <p:nvPr/>
        </p:nvSpPr>
        <p:spPr>
          <a:xfrm>
            <a:off x="-3710160" y="3483360"/>
            <a:ext cx="1122480" cy="87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d8d36d"/>
                </a:solidFill>
                <a:latin typeface="Arial Narrow"/>
              </a:rPr>
              <a:t>Click on the object you want to colorize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"/>
          <p:cNvSpPr/>
          <p:nvPr/>
        </p:nvSpPr>
        <p:spPr>
          <a:xfrm>
            <a:off x="-3738600" y="4298040"/>
            <a:ext cx="1254240" cy="125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Helpful tip: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Double click the paintbrush tool to apply color to more than one object at a time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"/>
          <p:cNvSpPr/>
          <p:nvPr/>
        </p:nvSpPr>
        <p:spPr>
          <a:xfrm>
            <a:off x="-3941640" y="3906720"/>
            <a:ext cx="177840" cy="15084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440" rIns="109440" tIns="54720" bIns="54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" name="" descr=""/>
          <p:cNvPicPr/>
          <p:nvPr/>
        </p:nvPicPr>
        <p:blipFill>
          <a:blip r:embed="rId3"/>
          <a:srcRect l="22397" t="16065" r="75005" b="80449"/>
          <a:stretch/>
        </p:blipFill>
        <p:spPr>
          <a:xfrm>
            <a:off x="-3011400" y="2990880"/>
            <a:ext cx="320760" cy="276120"/>
          </a:xfrm>
          <a:prstGeom prst="rect">
            <a:avLst/>
          </a:prstGeom>
          <a:ln w="0">
            <a:noFill/>
          </a:ln>
        </p:spPr>
      </p:pic>
      <p:sp>
        <p:nvSpPr>
          <p:cNvPr id="17" name=""/>
          <p:cNvSpPr/>
          <p:nvPr/>
        </p:nvSpPr>
        <p:spPr>
          <a:xfrm>
            <a:off x="-2479680" y="3816360"/>
            <a:ext cx="2133720" cy="458640"/>
          </a:xfrm>
          <a:prstGeom prst="rect">
            <a:avLst/>
          </a:prstGeom>
          <a:solidFill>
            <a:srgbClr val="004e5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54720" bIns="54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"/>
          <p:cNvSpPr/>
          <p:nvPr/>
        </p:nvSpPr>
        <p:spPr>
          <a:xfrm>
            <a:off x="-3276720" y="2160"/>
            <a:ext cx="2895840" cy="84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To use or remove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these color palettes, go to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View/Master/Slide Master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"/>
          <p:cNvSpPr/>
          <p:nvPr/>
        </p:nvSpPr>
        <p:spPr>
          <a:xfrm>
            <a:off x="-3276720" y="5640480"/>
            <a:ext cx="2895840" cy="60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Optional logo for your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notes/handouts slid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"/>
          <p:cNvSpPr/>
          <p:nvPr/>
        </p:nvSpPr>
        <p:spPr>
          <a:xfrm>
            <a:off x="-1044720" y="1251000"/>
            <a:ext cx="613080" cy="338040"/>
          </a:xfrm>
          <a:prstGeom prst="rect">
            <a:avLst/>
          </a:prstGeom>
          <a:solidFill>
            <a:srgbClr val="f4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"/>
          <p:cNvSpPr/>
          <p:nvPr/>
        </p:nvSpPr>
        <p:spPr>
          <a:xfrm>
            <a:off x="-2365200" y="1652760"/>
            <a:ext cx="612720" cy="339480"/>
          </a:xfrm>
          <a:prstGeom prst="rect">
            <a:avLst/>
          </a:prstGeom>
          <a:solidFill>
            <a:srgbClr val="747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"/>
          <p:cNvSpPr/>
          <p:nvPr/>
        </p:nvSpPr>
        <p:spPr>
          <a:xfrm>
            <a:off x="-1708200" y="1652760"/>
            <a:ext cx="612720" cy="339480"/>
          </a:xfrm>
          <a:prstGeom prst="rect">
            <a:avLst/>
          </a:prstGeom>
          <a:solidFill>
            <a:srgbClr val="9e8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"/>
          <p:cNvSpPr/>
          <p:nvPr/>
        </p:nvSpPr>
        <p:spPr>
          <a:xfrm>
            <a:off x="-1044720" y="1652760"/>
            <a:ext cx="613080" cy="339480"/>
          </a:xfrm>
          <a:prstGeom prst="rect">
            <a:avLst/>
          </a:prstGeom>
          <a:solidFill>
            <a:srgbClr val="7d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"/>
          <p:cNvSpPr/>
          <p:nvPr/>
        </p:nvSpPr>
        <p:spPr>
          <a:xfrm>
            <a:off x="-2365200" y="2044800"/>
            <a:ext cx="1931760" cy="188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"/>
          <p:cNvSpPr/>
          <p:nvPr/>
        </p:nvSpPr>
        <p:spPr>
          <a:xfrm>
            <a:off x="-2365200" y="1251000"/>
            <a:ext cx="612720" cy="338040"/>
          </a:xfrm>
          <a:prstGeom prst="rect">
            <a:avLst/>
          </a:prstGeom>
          <a:solidFill>
            <a:srgbClr val="004e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"/>
          <p:cNvSpPr/>
          <p:nvPr/>
        </p:nvSpPr>
        <p:spPr>
          <a:xfrm>
            <a:off x="-1708200" y="1251000"/>
            <a:ext cx="612720" cy="338040"/>
          </a:xfrm>
          <a:prstGeom prst="rect">
            <a:avLst/>
          </a:prstGeom>
          <a:solidFill>
            <a:srgbClr val="00b6e8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"/>
          <p:cNvSpPr/>
          <p:nvPr/>
        </p:nvSpPr>
        <p:spPr>
          <a:xfrm>
            <a:off x="-2365200" y="3624120"/>
            <a:ext cx="1931760" cy="189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"/>
          <p:cNvSpPr/>
          <p:nvPr/>
        </p:nvSpPr>
        <p:spPr>
          <a:xfrm>
            <a:off x="-2584440" y="3828960"/>
            <a:ext cx="23558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54720" anchor="ctr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Do not use Gradient fills for slid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to be used for Webinars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"/>
          <p:cNvSpPr/>
          <p:nvPr/>
        </p:nvSpPr>
        <p:spPr>
          <a:xfrm>
            <a:off x="276120" y="639720"/>
            <a:ext cx="8869320" cy="0"/>
          </a:xfrm>
          <a:prstGeom prst="line">
            <a:avLst/>
          </a:prstGeom>
          <a:ln w="12600">
            <a:solidFill>
              <a:srgbClr val="004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"/>
          <p:cNvSpPr/>
          <p:nvPr/>
        </p:nvSpPr>
        <p:spPr>
          <a:xfrm>
            <a:off x="4680" y="633240"/>
            <a:ext cx="0" cy="84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" name="Rational_Logo_White" descr=""/>
          <p:cNvPicPr/>
          <p:nvPr/>
        </p:nvPicPr>
        <p:blipFill>
          <a:blip r:embed="rId4"/>
          <a:stretch/>
        </p:blipFill>
        <p:spPr>
          <a:xfrm>
            <a:off x="-2184480" y="6316560"/>
            <a:ext cx="1600200" cy="365400"/>
          </a:xfrm>
          <a:prstGeom prst="rect">
            <a:avLst/>
          </a:prstGeom>
          <a:ln w="0">
            <a:noFill/>
          </a:ln>
        </p:spPr>
      </p:pic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0" y="609120"/>
            <a:ext cx="9134640" cy="42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77160" indent="-33300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2" marL="906480" indent="-22752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Arial Narrow"/>
              <a:buChar char="•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3" marL="1134720" indent="-22608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Arial Narrow"/>
              <a:buChar char="–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4" marL="1697400" indent="-273600">
              <a:lnSpc>
                <a:spcPct val="85000"/>
              </a:lnSpc>
              <a:spcBef>
                <a:spcPts val="1199"/>
              </a:spcBef>
              <a:buClr>
                <a:srgbClr val="0099cc"/>
              </a:buClr>
              <a:buFont typeface="Arial Narrow"/>
              <a:buChar char="•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5" marL="1697400" indent="-2736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6" marL="1697400" indent="-2736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  <p:pic>
        <p:nvPicPr>
          <p:cNvPr id="33" name="NewLogo" descr=""/>
          <p:cNvPicPr/>
          <p:nvPr/>
        </p:nvPicPr>
        <p:blipFill>
          <a:blip r:embed="rId5"/>
          <a:srcRect l="0" t="0" r="3130" b="12988"/>
          <a:stretch/>
        </p:blipFill>
        <p:spPr>
          <a:xfrm>
            <a:off x="7013520" y="6415200"/>
            <a:ext cx="2079720" cy="442800"/>
          </a:xfrm>
          <a:prstGeom prst="rect">
            <a:avLst/>
          </a:prstGeom>
          <a:ln w="0">
            <a:noFill/>
          </a:ln>
        </p:spPr>
      </p:pic>
      <p:sp>
        <p:nvSpPr>
          <p:cNvPr id="34" name=""/>
          <p:cNvSpPr/>
          <p:nvPr/>
        </p:nvSpPr>
        <p:spPr>
          <a:xfrm>
            <a:off x="-1044720" y="2792520"/>
            <a:ext cx="613080" cy="338040"/>
          </a:xfrm>
          <a:prstGeom prst="rect">
            <a:avLst/>
          </a:prstGeom>
          <a:gradFill rotWithShape="0">
            <a:gsLst>
              <a:gs pos="0">
                <a:srgbClr val="f4792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"/>
          <p:cNvSpPr/>
          <p:nvPr/>
        </p:nvSpPr>
        <p:spPr>
          <a:xfrm>
            <a:off x="-2365200" y="3193920"/>
            <a:ext cx="612720" cy="339840"/>
          </a:xfrm>
          <a:prstGeom prst="rect">
            <a:avLst/>
          </a:prstGeom>
          <a:gradFill rotWithShape="0">
            <a:gsLst>
              <a:gs pos="0">
                <a:srgbClr val="747897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"/>
          <p:cNvSpPr/>
          <p:nvPr/>
        </p:nvSpPr>
        <p:spPr>
          <a:xfrm>
            <a:off x="-1708200" y="3193920"/>
            <a:ext cx="612720" cy="339840"/>
          </a:xfrm>
          <a:prstGeom prst="rect">
            <a:avLst/>
          </a:prstGeom>
          <a:gradFill rotWithShape="0">
            <a:gsLst>
              <a:gs pos="0">
                <a:srgbClr val="9e896a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"/>
          <p:cNvSpPr/>
          <p:nvPr/>
        </p:nvSpPr>
        <p:spPr>
          <a:xfrm>
            <a:off x="-1044720" y="3193920"/>
            <a:ext cx="613080" cy="339840"/>
          </a:xfrm>
          <a:prstGeom prst="rect">
            <a:avLst/>
          </a:prstGeom>
          <a:gradFill rotWithShape="0">
            <a:gsLst>
              <a:gs pos="0">
                <a:srgbClr val="7da477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"/>
          <p:cNvSpPr/>
          <p:nvPr/>
        </p:nvSpPr>
        <p:spPr>
          <a:xfrm>
            <a:off x="-2365200" y="2792520"/>
            <a:ext cx="612720" cy="338040"/>
          </a:xfrm>
          <a:prstGeom prst="rect">
            <a:avLst/>
          </a:prstGeom>
          <a:gradFill rotWithShape="0">
            <a:gsLst>
              <a:gs pos="0">
                <a:srgbClr val="004e5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"/>
          <p:cNvSpPr/>
          <p:nvPr/>
        </p:nvSpPr>
        <p:spPr>
          <a:xfrm>
            <a:off x="-1708200" y="2792520"/>
            <a:ext cx="612720" cy="338040"/>
          </a:xfrm>
          <a:prstGeom prst="rect">
            <a:avLst/>
          </a:prstGeom>
          <a:gradFill rotWithShape="0">
            <a:gsLst>
              <a:gs pos="0">
                <a:srgbClr val="00b6e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"/>
          <p:cNvSpPr/>
          <p:nvPr/>
        </p:nvSpPr>
        <p:spPr>
          <a:xfrm>
            <a:off x="-1044720" y="4595760"/>
            <a:ext cx="613080" cy="338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4792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"/>
          <p:cNvSpPr/>
          <p:nvPr/>
        </p:nvSpPr>
        <p:spPr>
          <a:xfrm>
            <a:off x="-2365200" y="4997520"/>
            <a:ext cx="612720" cy="33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747897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"/>
          <p:cNvSpPr/>
          <p:nvPr/>
        </p:nvSpPr>
        <p:spPr>
          <a:xfrm>
            <a:off x="-1708200" y="4997520"/>
            <a:ext cx="612720" cy="33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e896a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-1044720" y="4997520"/>
            <a:ext cx="613080" cy="33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7da477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"/>
          <p:cNvSpPr/>
          <p:nvPr/>
        </p:nvSpPr>
        <p:spPr>
          <a:xfrm>
            <a:off x="-2365200" y="5389560"/>
            <a:ext cx="1931760" cy="1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b2b2b2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-2365200" y="4595760"/>
            <a:ext cx="612720" cy="338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4e5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-1708200" y="4595760"/>
            <a:ext cx="612720" cy="338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b6e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"/>
          <p:cNvSpPr/>
          <p:nvPr/>
        </p:nvSpPr>
        <p:spPr>
          <a:xfrm>
            <a:off x="710280" y="6486480"/>
            <a:ext cx="785880" cy="34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81A3-1B7B-4D2A-85E6-9A6A6CC5DE3D}" type="slidenum">
              <a:rPr b="1" lang="en-GB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"/>
          <p:cNvSpPr/>
          <p:nvPr/>
        </p:nvSpPr>
        <p:spPr>
          <a:xfrm>
            <a:off x="390240" y="6486480"/>
            <a:ext cx="586080" cy="34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Slide #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6e8"/>
            </a:gs>
            <a:gs pos="100000">
              <a:srgbClr val="0026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3744720"/>
            <a:ext cx="7772400" cy="10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932040" y="771480"/>
            <a:ext cx="7132320" cy="223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b6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7" name="swooshwithblackbkgrd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030320" y="992160"/>
            <a:ext cx="2235240" cy="1438200"/>
          </a:xfrm>
          <a:prstGeom prst="rect">
            <a:avLst/>
          </a:prstGeom>
          <a:ln w="0">
            <a:noFill/>
          </a:ln>
        </p:spPr>
      </p:pic>
      <p:pic>
        <p:nvPicPr>
          <p:cNvPr id="88" name="NewLogo_Big" descr=""/>
          <p:cNvPicPr/>
          <p:nvPr/>
        </p:nvPicPr>
        <p:blipFill>
          <a:blip r:embed="rId3"/>
          <a:srcRect l="0" t="0" r="4153" b="12642"/>
          <a:stretch/>
        </p:blipFill>
        <p:spPr>
          <a:xfrm>
            <a:off x="3114720" y="1720800"/>
            <a:ext cx="4218120" cy="898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7168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71640" indent="3240" algn="ctr">
              <a:lnSpc>
                <a:spcPct val="85000"/>
              </a:lnSpc>
              <a:spcBef>
                <a:spcPts val="499"/>
              </a:spcBef>
              <a:buClr>
                <a:srgbClr val="00b6e8"/>
              </a:buClr>
              <a:buFont typeface="Arial Narrow"/>
              <a:buChar char="•"/>
              <a:tabLst>
                <a:tab algn="l" pos="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917640" algn="ctr">
              <a:lnSpc>
                <a:spcPct val="85000"/>
              </a:lnSpc>
              <a:spcBef>
                <a:spcPts val="499"/>
              </a:spcBef>
              <a:buClr>
                <a:srgbClr val="00b6e8"/>
              </a:buClr>
              <a:buFont typeface="Arial Narrow"/>
              <a:buChar char="–"/>
              <a:tabLst>
                <a:tab algn="l" pos="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438200" algn="ctr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Font typeface="Arial Narrow"/>
              <a:buChar char="•"/>
              <a:tabLst>
                <a:tab algn="l" pos="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4382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4382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6e8"/>
            </a:gs>
            <a:gs pos="100000">
              <a:srgbClr val="0026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7240" y="3744720"/>
            <a:ext cx="7772400" cy="10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8d36d"/>
                </a:solidFill>
                <a:latin typeface="Arial Narrow"/>
              </a:rPr>
              <a:t>Project Management and Assessment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3040" y="483048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reland User Conference, Dublin Feb ‘02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Key Risk – The Importance of Architecture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39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A stable architecture represents a significant project milestone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Poor architecture is often a reason for project failure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Architecture is a prerequisite for predictable planning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Architecture is the source of numerous high-payoff/high-risk decision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59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42440" cy="1139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52200" rIns="52200" tIns="20880" bIns="20880" anchor="t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Expected Trends: Cost of Change/Adaptability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8240" y="3859200"/>
            <a:ext cx="8391240" cy="1339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53000"/>
          </a:bodyPr>
          <a:p>
            <a:pPr marL="151200" indent="-151200">
              <a:lnSpc>
                <a:spcPct val="7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Measure total rework effort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424080" indent="-15120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dicator of process quali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24080" indent="-15120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nchmark of quality between components/releases/projects, et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51200" indent="-151200">
              <a:lnSpc>
                <a:spcPct val="7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Architecture-focused iterative development trends: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424080" indent="-15120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latively expensive design changes earl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24080" indent="-15120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latively cheaper implementation changes in production pha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4353480" y="1836720"/>
            <a:ext cx="419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ost of change: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ework effort 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daptability: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ework trend over time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7160" y="1873080"/>
          <a:ext cx="4140000" cy="13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873080"/>
                    <a:ext cx="41400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210440" cy="1139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52200" rIns="52200" tIns="20880" bIns="20880" anchor="t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Expected Trends: Breakage/Modularity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7640" y="3524400"/>
            <a:ext cx="8389800" cy="1333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53000"/>
          </a:bodyPr>
          <a:p>
            <a:pPr marL="151200" indent="-151200">
              <a:lnSpc>
                <a:spcPct val="7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Measure total scrap 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424080" indent="-15120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dicator of process quali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24080" indent="-15120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nchmark of quality between components/releases/projects, et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51200" indent="-151200">
              <a:lnSpc>
                <a:spcPct val="7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Architecture-focused iterative development trends: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424080" indent="-15120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latively broad design changes earl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24080" indent="-15120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latively local implementation changes in production pha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73280" y="1979640"/>
            <a:ext cx="3848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Breakage: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crapped product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odularity: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crap trend over time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5240" y="1944720"/>
          <a:ext cx="414000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944720"/>
                    <a:ext cx="41400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Some Other Sample Risk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455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Resource risks 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ople, skills, funding,. . 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Business risks 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etition, ROI, supplier interfaces,. . 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Technical risks 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nproven technology, uncertain scope,. . 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Schedule risks 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ly 24 hours in a day,. . 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590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52200" rIns="52200" tIns="20880" bIns="20880" anchor="t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Typical Project Result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20560" y="1035000"/>
          <a:ext cx="788040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035000"/>
                    <a:ext cx="788040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42240" cy="590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52200" rIns="52200" tIns="20880" bIns="20880" anchor="t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Workflow Balance over the Life Cycle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20560" y="1144440"/>
          <a:ext cx="816624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144440"/>
                    <a:ext cx="816624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Staffing Changes Over the Lifecycle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11850"/>
          <a:stretch/>
        </p:blipFill>
        <p:spPr>
          <a:xfrm>
            <a:off x="1087560" y="914400"/>
            <a:ext cx="68371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8216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The Fundamental Sets of Artifact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12640" y="2813040"/>
          <a:ext cx="4368960" cy="33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2813040"/>
                    <a:ext cx="436896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165320" y="1130400"/>
            <a:ext cx="272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tructured Text and UM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2081520" y="1503360"/>
            <a:ext cx="3604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Unified Modeling Language (UML)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3103920" y="1900080"/>
            <a:ext cx="3952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rogramming Language Source Code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3966840" y="2292480"/>
            <a:ext cx="41457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xecutable, Machine Processable Code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295280" y="1431720"/>
            <a:ext cx="0" cy="1361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30560" y="1790280"/>
            <a:ext cx="0" cy="1003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238560" y="2220840"/>
            <a:ext cx="0" cy="573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102200" y="25779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762440" y="3293640"/>
            <a:ext cx="0" cy="207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3206880"/>
            <a:ext cx="1498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 Hoc Tex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522360" y="1994040"/>
          <a:ext cx="816300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994040"/>
                    <a:ext cx="816300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0" y="0"/>
            <a:ext cx="7893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Information Set Evolution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91280" cy="1139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52200" rIns="52200" tIns="20880" bIns="20880" anchor="t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Expected Trends: Work/Progres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4408200"/>
            <a:ext cx="8390160" cy="1307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285840" indent="-285840">
              <a:lnSpc>
                <a:spcPct val="7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Work/progress can and should be measured in many ways 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285840" indent="-285840">
              <a:lnSpc>
                <a:spcPct val="7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Use of percentages ensures relative correctness despite changes in absolute value.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4854600" y="1386000"/>
            <a:ext cx="173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448520" y="1386000"/>
            <a:ext cx="39585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45404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ork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otal work to be done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145404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145404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rogress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% of SLOC under CM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145404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% of SCOs closed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145404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% scenarios passed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145404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% evaluation criteria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145404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assed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145404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280" y="1503360"/>
          <a:ext cx="410220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03360"/>
                    <a:ext cx="41022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8d36d"/>
                </a:solidFill>
                <a:latin typeface="Arial Narrow"/>
              </a:rPr>
              <a:t>The Outline Agenda For The Next Hour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35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Project Management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77160" indent="-3330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Why is it important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Modern Software Processe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77160" indent="-3330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Why is this important for Project Managers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Transitioning To Modern Practice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Assessing And Changing The Way You “do” Software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13720" cy="590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52200" rIns="52200" tIns="20880" bIns="20880" anchor="t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Expected Trends: Change Traffic/Stability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0120" y="3830400"/>
            <a:ext cx="8390160" cy="1150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59000"/>
          </a:bodyPr>
          <a:p>
            <a:pPr marL="168480" indent="-168480">
              <a:lnSpc>
                <a:spcPct val="130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The number of SCOs reflects many important qualities: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471960" indent="-16848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est progress, criticality, completeness, immaturity, et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68480" indent="-168480">
              <a:lnSpc>
                <a:spcPct val="7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Stability reflects schedule convergence/divergence: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471960" indent="-16848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ollable workload, pending resource/quality issues, et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4314600" y="1900080"/>
            <a:ext cx="37436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hange Traffic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pen SCOs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tability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CO trends over time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97000" y="1719360"/>
          <a:ext cx="401004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719360"/>
                    <a:ext cx="40100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29360" cy="1139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52200" rIns="52200" tIns="20880" bIns="20880" anchor="t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Expected Trends: MTBF/Maturity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920" y="3956040"/>
            <a:ext cx="9136080" cy="1333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79000"/>
          </a:bodyPr>
          <a:p>
            <a:pPr marL="225720" indent="-225720">
              <a:lnSpc>
                <a:spcPct val="7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Maturity should improve over the life of a release.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632160" indent="-22572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onents, subsystems, baseli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5720" indent="-225720">
              <a:lnSpc>
                <a:spcPct val="7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New releases can cause short-term degradation.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632160" indent="-225720">
              <a:lnSpc>
                <a:spcPct val="7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covery and reliability growth should be obviou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4627800" y="1928880"/>
            <a:ext cx="4521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seudo MTBF: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test hours)/(Type 0/1 SCOs)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aturity: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TBF over time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97000" y="1860480"/>
          <a:ext cx="436068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860480"/>
                    <a:ext cx="436068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For A Typical Project Iteration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34640" cy="48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Before the iteration begins, the general objectives of the iteration should be established based on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ults of previous iterations ( if any)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p-to-date risk assessment for the project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Determine the evaluation criteria for this iteration.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Prepare detailed iteration plan for inclusion in the development plan.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lude intermediate milestones to monitor progres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lude walkthroughs and review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Work Allocation within an Iteration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4484520" cy="43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Work to be accomplished within an iteration is determined by: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(new) use cases to be implement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chitectural features to be implement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isks to be attack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rework to be do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9760" y="609120"/>
            <a:ext cx="4484880" cy="49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Packages make convenient work packages for developers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-level packages can be assigned to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ea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ower-level packages can be assigned to individual develop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Use Cases make convenient work packages for test and assessment teams.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Iteration Assessment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34640" cy="61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Assess iteration results according to evaluation criteria from iteration planning: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unctiona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pac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Quality meas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Consider external change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example, changes to requirements, user needs, competitor’s pl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Determine what rework, if any, is required and assign it to the remaining iterations.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0280" y="1739880"/>
            <a:ext cx="8080200" cy="41911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53560" y="1976400"/>
            <a:ext cx="7435440" cy="3774960"/>
            <a:chOff x="853560" y="1976400"/>
            <a:chExt cx="7435440" cy="3774960"/>
          </a:xfrm>
        </p:grpSpPr>
        <p:sp>
          <p:nvSpPr>
            <p:cNvPr id="222" name=""/>
            <p:cNvSpPr/>
            <p:nvPr/>
          </p:nvSpPr>
          <p:spPr>
            <a:xfrm>
              <a:off x="6649920" y="4275000"/>
              <a:ext cx="1565280" cy="90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49920" y="2766960"/>
              <a:ext cx="1565280" cy="1158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7160" y="2041560"/>
              <a:ext cx="1565280" cy="51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040" y="2476440"/>
              <a:ext cx="1331640" cy="2106720"/>
            </a:xfrm>
            <a:custGeom>
              <a:avLst/>
              <a:gdLst/>
              <a:ahLst/>
              <a:rect l="l" t="t" r="r" b="b"/>
              <a:pathLst>
                <a:path w="839" h="1327">
                  <a:moveTo>
                    <a:pt x="0" y="251"/>
                  </a:moveTo>
                  <a:lnTo>
                    <a:pt x="366" y="251"/>
                  </a:lnTo>
                  <a:lnTo>
                    <a:pt x="489" y="100"/>
                  </a:lnTo>
                  <a:lnTo>
                    <a:pt x="419" y="0"/>
                  </a:lnTo>
                  <a:lnTo>
                    <a:pt x="663" y="0"/>
                  </a:lnTo>
                  <a:lnTo>
                    <a:pt x="663" y="350"/>
                  </a:lnTo>
                  <a:lnTo>
                    <a:pt x="594" y="251"/>
                  </a:lnTo>
                  <a:lnTo>
                    <a:pt x="489" y="375"/>
                  </a:lnTo>
                  <a:lnTo>
                    <a:pt x="489" y="575"/>
                  </a:lnTo>
                  <a:lnTo>
                    <a:pt x="663" y="575"/>
                  </a:lnTo>
                  <a:lnTo>
                    <a:pt x="663" y="425"/>
                  </a:lnTo>
                  <a:lnTo>
                    <a:pt x="838" y="676"/>
                  </a:lnTo>
                  <a:lnTo>
                    <a:pt x="663" y="926"/>
                  </a:lnTo>
                  <a:lnTo>
                    <a:pt x="663" y="775"/>
                  </a:lnTo>
                  <a:lnTo>
                    <a:pt x="489" y="775"/>
                  </a:lnTo>
                  <a:lnTo>
                    <a:pt x="489" y="951"/>
                  </a:lnTo>
                  <a:lnTo>
                    <a:pt x="594" y="1100"/>
                  </a:lnTo>
                  <a:lnTo>
                    <a:pt x="663" y="1000"/>
                  </a:lnTo>
                  <a:lnTo>
                    <a:pt x="663" y="1326"/>
                  </a:lnTo>
                  <a:lnTo>
                    <a:pt x="401" y="1326"/>
                  </a:lnTo>
                  <a:lnTo>
                    <a:pt x="489" y="1226"/>
                  </a:lnTo>
                  <a:lnTo>
                    <a:pt x="366" y="1050"/>
                  </a:lnTo>
                  <a:lnTo>
                    <a:pt x="0" y="1050"/>
                  </a:lnTo>
                  <a:lnTo>
                    <a:pt x="0" y="251"/>
                  </a:lnTo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71800" y="2165400"/>
              <a:ext cx="2986200" cy="3465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67120" y="2646360"/>
              <a:ext cx="2975040" cy="26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noAutofit/>
            </a:bodyPr>
            <a:p>
              <a:pPr marL="330120" indent="-330120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mpare iteration actual cost, schedule, and content with iteration plan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0120" indent="-330120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rmine rework (if any) to be done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712800" indent="-268200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ssign to future iteration(s)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0120" indent="-330120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rmine what risks have been eliminated, reduced, or newly identified in this iteration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0120" indent="-330120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pdate overall project plan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0120" indent="-330120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pare detailed plan for next iteration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712800" indent="-268200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se revised risk plan and select  appropriate scenarios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6360" y="2359080"/>
              <a:ext cx="2004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300" spc="-1" strike="noStrike" u="sng">
                  <a:solidFill>
                    <a:srgbClr val="ffffff"/>
                  </a:solidFill>
                  <a:uFillTx/>
                  <a:latin typeface="Arial"/>
                </a:rPr>
                <a:t>Iteration N Assessment</a:t>
              </a:r>
              <a:endParaRPr b="0" lang="en-US" sz="13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0800" y="2247840"/>
              <a:ext cx="3127320" cy="23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560" y="2081160"/>
              <a:ext cx="1625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teration N Cost and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chedule Actuals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645240" y="1976400"/>
              <a:ext cx="1565280" cy="512640"/>
              <a:chOff x="6645240" y="1976400"/>
              <a:chExt cx="1565280" cy="512640"/>
            </a:xfrm>
          </p:grpSpPr>
          <p:sp>
            <p:nvSpPr>
              <p:cNvPr id="232" name=""/>
              <p:cNvSpPr/>
              <p:nvPr/>
            </p:nvSpPr>
            <p:spPr>
              <a:xfrm>
                <a:off x="6645240" y="1976400"/>
                <a:ext cx="1565280" cy="51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69720" y="2135160"/>
                <a:ext cx="14940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vised Risk Plan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857160" y="3924360"/>
              <a:ext cx="1644120" cy="1827000"/>
              <a:chOff x="857160" y="3924360"/>
              <a:chExt cx="1644120" cy="1827000"/>
            </a:xfrm>
          </p:grpSpPr>
          <p:sp>
            <p:nvSpPr>
              <p:cNvPr id="235" name=""/>
              <p:cNvSpPr/>
              <p:nvPr/>
            </p:nvSpPr>
            <p:spPr>
              <a:xfrm>
                <a:off x="857160" y="3924360"/>
                <a:ext cx="1579680" cy="1616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64000" y="3976560"/>
                <a:ext cx="16372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uality Assessment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or Iteration N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08080" y="4387680"/>
                <a:ext cx="1373040" cy="13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4280" bIns="44280" anchor="t">
                <a:noAutofit/>
              </a:bodyPr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est Results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efect Density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rchitecture Stability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ther metrics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599880" y="2832120"/>
              <a:ext cx="1689120" cy="1166760"/>
              <a:chOff x="6599880" y="2832120"/>
              <a:chExt cx="1689120" cy="1166760"/>
            </a:xfrm>
          </p:grpSpPr>
          <p:sp>
            <p:nvSpPr>
              <p:cNvPr id="239" name=""/>
              <p:cNvSpPr/>
              <p:nvPr/>
            </p:nvSpPr>
            <p:spPr>
              <a:xfrm>
                <a:off x="6599880" y="2832120"/>
                <a:ext cx="1689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vised Project Plan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5160" y="3017880"/>
                <a:ext cx="1447920" cy="9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4280" bIns="44280" anchor="t">
                <a:noAutofit/>
              </a:bodyPr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otal Cost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verall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chedule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cope/Content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648840" y="4280040"/>
              <a:ext cx="1518840" cy="968400"/>
              <a:chOff x="6648840" y="4280040"/>
              <a:chExt cx="1518840" cy="968400"/>
            </a:xfrm>
          </p:grpSpPr>
          <p:sp>
            <p:nvSpPr>
              <p:cNvPr id="242" name=""/>
              <p:cNvSpPr/>
              <p:nvPr/>
            </p:nvSpPr>
            <p:spPr>
              <a:xfrm>
                <a:off x="6648840" y="4280040"/>
                <a:ext cx="14695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teration N+1 Plan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26400" y="4459320"/>
                <a:ext cx="1241280" cy="78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4280" bIns="44280" anchor="t">
                <a:noAutofit/>
              </a:bodyPr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Cost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chedule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163440" indent="-163440">
                  <a:lnSpc>
                    <a:spcPct val="100000"/>
                  </a:lnSpc>
                  <a:spcBef>
                    <a:spcPts val="30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Content</a:t>
                </a:r>
                <a:endParaRPr b="0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271600" y="2614680"/>
              <a:ext cx="847800" cy="614160"/>
              <a:chOff x="2271600" y="2614680"/>
              <a:chExt cx="847800" cy="614160"/>
            </a:xfrm>
          </p:grpSpPr>
          <p:sp>
            <p:nvSpPr>
              <p:cNvPr id="245" name=""/>
              <p:cNvSpPr/>
              <p:nvPr/>
            </p:nvSpPr>
            <p:spPr>
              <a:xfrm>
                <a:off x="2271600" y="2701800"/>
                <a:ext cx="527040" cy="409680"/>
              </a:xfrm>
              <a:custGeom>
                <a:avLst/>
                <a:gdLst/>
                <a:ahLst/>
                <a:rect l="l" t="t" r="r" b="b"/>
                <a:pathLst>
                  <a:path w="332" h="258">
                    <a:moveTo>
                      <a:pt x="0" y="0"/>
                    </a:moveTo>
                    <a:lnTo>
                      <a:pt x="331" y="201"/>
                    </a:lnTo>
                    <a:lnTo>
                      <a:pt x="331" y="257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71600" y="2614680"/>
                <a:ext cx="847800" cy="527040"/>
              </a:xfrm>
              <a:custGeom>
                <a:avLst/>
                <a:gdLst/>
                <a:ahLst/>
                <a:rect l="l" t="t" r="r" b="b"/>
                <a:pathLst>
                  <a:path w="534" h="332">
                    <a:moveTo>
                      <a:pt x="0" y="55"/>
                    </a:moveTo>
                    <a:lnTo>
                      <a:pt x="128" y="0"/>
                    </a:lnTo>
                    <a:lnTo>
                      <a:pt x="441" y="184"/>
                    </a:lnTo>
                    <a:lnTo>
                      <a:pt x="533" y="128"/>
                    </a:lnTo>
                    <a:lnTo>
                      <a:pt x="533" y="294"/>
                    </a:lnTo>
                    <a:lnTo>
                      <a:pt x="220" y="331"/>
                    </a:lnTo>
                    <a:lnTo>
                      <a:pt x="331" y="257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22600" y="3081240"/>
                <a:ext cx="496800" cy="147600"/>
              </a:xfrm>
              <a:custGeom>
                <a:avLst/>
                <a:gdLst/>
                <a:ahLst/>
                <a:rect l="l" t="t" r="r" b="b"/>
                <a:pathLst>
                  <a:path w="313" h="93">
                    <a:moveTo>
                      <a:pt x="0" y="36"/>
                    </a:moveTo>
                    <a:lnTo>
                      <a:pt x="312" y="0"/>
                    </a:lnTo>
                    <a:lnTo>
                      <a:pt x="312" y="55"/>
                    </a:lnTo>
                    <a:lnTo>
                      <a:pt x="0" y="92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209680" y="3259080"/>
              <a:ext cx="852480" cy="758880"/>
              <a:chOff x="2209680" y="3259080"/>
              <a:chExt cx="852480" cy="758880"/>
            </a:xfrm>
          </p:grpSpPr>
          <p:sp>
            <p:nvSpPr>
              <p:cNvPr id="249" name=""/>
              <p:cNvSpPr/>
              <p:nvPr/>
            </p:nvSpPr>
            <p:spPr>
              <a:xfrm>
                <a:off x="2397240" y="3494160"/>
                <a:ext cx="547560" cy="523800"/>
              </a:xfrm>
              <a:custGeom>
                <a:avLst/>
                <a:gdLst/>
                <a:ahLst/>
                <a:rect l="l" t="t" r="r" b="b"/>
                <a:pathLst>
                  <a:path w="345" h="330">
                    <a:moveTo>
                      <a:pt x="0" y="247"/>
                    </a:moveTo>
                    <a:lnTo>
                      <a:pt x="0" y="329"/>
                    </a:lnTo>
                    <a:lnTo>
                      <a:pt x="344" y="49"/>
                    </a:lnTo>
                    <a:lnTo>
                      <a:pt x="344" y="0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58960" y="3259080"/>
                <a:ext cx="119160" cy="158760"/>
              </a:xfrm>
              <a:custGeom>
                <a:avLst/>
                <a:gdLst/>
                <a:ahLst/>
                <a:rect l="l" t="t" r="r" b="b"/>
                <a:pathLst>
                  <a:path w="75" h="100">
                    <a:moveTo>
                      <a:pt x="74" y="49"/>
                    </a:moveTo>
                    <a:lnTo>
                      <a:pt x="74" y="99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4" y="49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09680" y="3259080"/>
                <a:ext cx="852480" cy="627120"/>
              </a:xfrm>
              <a:custGeom>
                <a:avLst/>
                <a:gdLst/>
                <a:ahLst/>
                <a:rect l="l" t="t" r="r" b="b"/>
                <a:pathLst>
                  <a:path w="537" h="395">
                    <a:moveTo>
                      <a:pt x="0" y="246"/>
                    </a:moveTo>
                    <a:lnTo>
                      <a:pt x="357" y="49"/>
                    </a:lnTo>
                    <a:lnTo>
                      <a:pt x="283" y="0"/>
                    </a:lnTo>
                    <a:lnTo>
                      <a:pt x="521" y="16"/>
                    </a:lnTo>
                    <a:lnTo>
                      <a:pt x="536" y="213"/>
                    </a:lnTo>
                    <a:lnTo>
                      <a:pt x="461" y="148"/>
                    </a:lnTo>
                    <a:lnTo>
                      <a:pt x="119" y="394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09680" y="3649680"/>
                <a:ext cx="189000" cy="368280"/>
              </a:xfrm>
              <a:custGeom>
                <a:avLst/>
                <a:gdLst/>
                <a:ahLst/>
                <a:rect l="l" t="t" r="r" b="b"/>
                <a:pathLst>
                  <a:path w="119" h="232">
                    <a:moveTo>
                      <a:pt x="0" y="0"/>
                    </a:moveTo>
                    <a:lnTo>
                      <a:pt x="118" y="149"/>
                    </a:lnTo>
                    <a:lnTo>
                      <a:pt x="118" y="231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43360" y="3494160"/>
                <a:ext cx="118800" cy="195120"/>
              </a:xfrm>
              <a:custGeom>
                <a:avLst/>
                <a:gdLst/>
                <a:ahLst/>
                <a:rect l="l" t="t" r="r" b="b"/>
                <a:pathLst>
                  <a:path w="75" h="123">
                    <a:moveTo>
                      <a:pt x="0" y="0"/>
                    </a:moveTo>
                    <a:lnTo>
                      <a:pt x="0" y="49"/>
                    </a:lnTo>
                    <a:lnTo>
                      <a:pt x="74" y="122"/>
                    </a:lnTo>
                    <a:lnTo>
                      <a:pt x="74" y="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Metrics are the Basis of Iteration Assessment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5292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Management Checkpoint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5680" y="1392120"/>
          <a:ext cx="609444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392120"/>
                    <a:ext cx="609444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63480" y="1135080"/>
          <a:ext cx="7953480" cy="466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3480" y="1135080"/>
                    <a:ext cx="795348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Timeline Summary Of Management Focu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810720"/>
            <a:ext cx="5105520" cy="55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Inception focus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ope and completion criter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laboration phase plann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eam formul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act baselin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isk identifi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chitecture cos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Elaboration focus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struction phase plann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ull staff recruit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isk resolu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duct acceptance criter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52520" y="810720"/>
            <a:ext cx="4092840" cy="509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Construction focus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ransition phase plann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struction plan optimiz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isk manage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Transition focus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ustomer satisfa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act closu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ales suppor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901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xt-generation plann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Transitioning to a Modern Proces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98600" y="1036800"/>
            <a:ext cx="8076960" cy="5221080"/>
            <a:chOff x="498600" y="1036800"/>
            <a:chExt cx="8076960" cy="5221080"/>
          </a:xfrm>
        </p:grpSpPr>
        <p:sp>
          <p:nvSpPr>
            <p:cNvPr id="265" name=""/>
            <p:cNvSpPr/>
            <p:nvPr/>
          </p:nvSpPr>
          <p:spPr>
            <a:xfrm>
              <a:off x="504720" y="1792440"/>
              <a:ext cx="1968480" cy="367920"/>
            </a:xfrm>
            <a:prstGeom prst="rect">
              <a:avLst/>
            </a:prstGeom>
            <a:solidFill>
              <a:srgbClr val="f479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19120" y="2630520"/>
              <a:ext cx="1968480" cy="367920"/>
            </a:xfrm>
            <a:prstGeom prst="rect">
              <a:avLst/>
            </a:prstGeom>
            <a:solidFill>
              <a:srgbClr val="f479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32080" y="2700360"/>
              <a:ext cx="19620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360"/>
                  <a:tab algn="l" pos="936720"/>
                  <a:tab algn="l" pos="1405080"/>
                  <a:tab algn="l" pos="1873080"/>
                  <a:tab algn="l" pos="2341440"/>
                  <a:tab algn="l" pos="2809800"/>
                  <a:tab algn="l" pos="3278160"/>
                  <a:tab algn="l" pos="3746520"/>
                  <a:tab algn="l" pos="4214880"/>
                  <a:tab algn="l" pos="4683240"/>
                  <a:tab algn="l" pos="5151600"/>
                  <a:tab algn="l" pos="5619600"/>
                  <a:tab algn="l" pos="6087960"/>
                  <a:tab algn="l" pos="6556320"/>
                  <a:tab algn="l" pos="7024680"/>
                  <a:tab algn="l" pos="7493040"/>
                  <a:tab algn="l" pos="7961400"/>
                  <a:tab algn="l" pos="8429760"/>
                  <a:tab algn="l" pos="8897760"/>
                  <a:tab algn="l" pos="9366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de and unit test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62120" y="3544920"/>
              <a:ext cx="1968480" cy="367920"/>
            </a:xfrm>
            <a:prstGeom prst="rect">
              <a:avLst/>
            </a:prstGeom>
            <a:solidFill>
              <a:srgbClr val="f479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52640" y="3087720"/>
              <a:ext cx="1968480" cy="367920"/>
            </a:xfrm>
            <a:prstGeom prst="rect">
              <a:avLst/>
            </a:prstGeom>
            <a:solidFill>
              <a:srgbClr val="f479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61920" y="2249640"/>
              <a:ext cx="1968480" cy="291600"/>
            </a:xfrm>
            <a:prstGeom prst="rect">
              <a:avLst/>
            </a:prstGeom>
            <a:solidFill>
              <a:srgbClr val="f479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26480" y="2308320"/>
              <a:ext cx="6400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68360"/>
                  <a:tab algn="l" pos="936720"/>
                  <a:tab algn="l" pos="1405080"/>
                  <a:tab algn="l" pos="1873080"/>
                  <a:tab algn="l" pos="2341440"/>
                  <a:tab algn="l" pos="2809800"/>
                  <a:tab algn="l" pos="3278160"/>
                  <a:tab algn="l" pos="3746520"/>
                  <a:tab algn="l" pos="4214880"/>
                  <a:tab algn="l" pos="4683240"/>
                  <a:tab algn="l" pos="5151600"/>
                  <a:tab algn="l" pos="5619600"/>
                  <a:tab algn="l" pos="6087960"/>
                  <a:tab algn="l" pos="6556320"/>
                  <a:tab algn="l" pos="7024680"/>
                  <a:tab algn="l" pos="7493040"/>
                  <a:tab algn="l" pos="7961400"/>
                  <a:tab algn="l" pos="8429760"/>
                  <a:tab algn="l" pos="8897760"/>
                  <a:tab algn="l" pos="9366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49120" y="3164040"/>
              <a:ext cx="17769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68360"/>
                  <a:tab algn="l" pos="936720"/>
                  <a:tab algn="l" pos="1405080"/>
                  <a:tab algn="l" pos="1873080"/>
                  <a:tab algn="l" pos="2341440"/>
                  <a:tab algn="l" pos="2809800"/>
                  <a:tab algn="l" pos="3278160"/>
                  <a:tab algn="l" pos="3746520"/>
                  <a:tab algn="l" pos="4214880"/>
                  <a:tab algn="l" pos="4683240"/>
                  <a:tab algn="l" pos="5151600"/>
                  <a:tab algn="l" pos="5619600"/>
                  <a:tab algn="l" pos="6087960"/>
                  <a:tab algn="l" pos="6556320"/>
                  <a:tab algn="l" pos="7024680"/>
                  <a:tab algn="l" pos="7493040"/>
                  <a:tab algn="l" pos="7961400"/>
                  <a:tab algn="l" pos="8429760"/>
                  <a:tab algn="l" pos="8897760"/>
                  <a:tab algn="l" pos="9366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system integration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8600" y="1785960"/>
              <a:ext cx="18856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360"/>
                  <a:tab algn="l" pos="936720"/>
                  <a:tab algn="l" pos="1405080"/>
                  <a:tab algn="l" pos="1873080"/>
                  <a:tab algn="l" pos="2341440"/>
                  <a:tab algn="l" pos="2809800"/>
                  <a:tab algn="l" pos="3278160"/>
                  <a:tab algn="l" pos="3746520"/>
                  <a:tab algn="l" pos="4214880"/>
                  <a:tab algn="l" pos="4683240"/>
                  <a:tab algn="l" pos="5151600"/>
                  <a:tab algn="l" pos="5619600"/>
                  <a:tab algn="l" pos="6087960"/>
                  <a:tab algn="l" pos="6556320"/>
                  <a:tab algn="l" pos="7024680"/>
                  <a:tab algn="l" pos="7493040"/>
                  <a:tab algn="l" pos="7961400"/>
                  <a:tab algn="l" pos="8429760"/>
                  <a:tab algn="l" pos="8897760"/>
                  <a:tab algn="l" pos="9366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quirements   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68360"/>
                  <a:tab algn="l" pos="936720"/>
                  <a:tab algn="l" pos="1405080"/>
                  <a:tab algn="l" pos="1873080"/>
                  <a:tab algn="l" pos="2341440"/>
                  <a:tab algn="l" pos="2809800"/>
                  <a:tab algn="l" pos="3278160"/>
                  <a:tab algn="l" pos="3746520"/>
                  <a:tab algn="l" pos="4214880"/>
                  <a:tab algn="l" pos="4683240"/>
                  <a:tab algn="l" pos="5151600"/>
                  <a:tab algn="l" pos="5619600"/>
                  <a:tab algn="l" pos="6087960"/>
                  <a:tab algn="l" pos="6556320"/>
                  <a:tab algn="l" pos="7024680"/>
                  <a:tab algn="l" pos="7493040"/>
                  <a:tab algn="l" pos="7961400"/>
                  <a:tab algn="l" pos="8429760"/>
                  <a:tab algn="l" pos="8897760"/>
                  <a:tab algn="l" pos="9366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29040" y="3611520"/>
              <a:ext cx="9889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68360"/>
                  <a:tab algn="l" pos="936720"/>
                  <a:tab algn="l" pos="1405080"/>
                  <a:tab algn="l" pos="1873080"/>
                  <a:tab algn="l" pos="2341440"/>
                  <a:tab algn="l" pos="2809800"/>
                  <a:tab algn="l" pos="3278160"/>
                  <a:tab algn="l" pos="3746520"/>
                  <a:tab algn="l" pos="4214880"/>
                  <a:tab algn="l" pos="4683240"/>
                  <a:tab algn="l" pos="5151600"/>
                  <a:tab algn="l" pos="5619600"/>
                  <a:tab algn="l" pos="6087960"/>
                  <a:tab algn="l" pos="6556320"/>
                  <a:tab algn="l" pos="7024680"/>
                  <a:tab algn="l" pos="7493040"/>
                  <a:tab algn="l" pos="7961400"/>
                  <a:tab algn="l" pos="8429760"/>
                  <a:tab algn="l" pos="8897760"/>
                  <a:tab algn="l" pos="9366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 test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29360" y="1940040"/>
              <a:ext cx="1905120" cy="1828440"/>
            </a:xfrm>
            <a:custGeom>
              <a:avLst/>
              <a:gdLst/>
              <a:ahLst/>
              <a:rect l="l" t="t" r="r" b="b"/>
              <a:pathLst>
                <a:path w="1200" h="1152">
                  <a:moveTo>
                    <a:pt x="349" y="550"/>
                  </a:moveTo>
                  <a:lnTo>
                    <a:pt x="349" y="540"/>
                  </a:lnTo>
                  <a:lnTo>
                    <a:pt x="350" y="530"/>
                  </a:lnTo>
                  <a:lnTo>
                    <a:pt x="353" y="519"/>
                  </a:lnTo>
                  <a:lnTo>
                    <a:pt x="356" y="506"/>
                  </a:lnTo>
                  <a:lnTo>
                    <a:pt x="359" y="494"/>
                  </a:lnTo>
                  <a:lnTo>
                    <a:pt x="364" y="482"/>
                  </a:lnTo>
                  <a:lnTo>
                    <a:pt x="369" y="471"/>
                  </a:lnTo>
                  <a:lnTo>
                    <a:pt x="376" y="460"/>
                  </a:lnTo>
                  <a:lnTo>
                    <a:pt x="383" y="449"/>
                  </a:lnTo>
                  <a:lnTo>
                    <a:pt x="395" y="433"/>
                  </a:lnTo>
                  <a:lnTo>
                    <a:pt x="410" y="418"/>
                  </a:lnTo>
                  <a:lnTo>
                    <a:pt x="424" y="404"/>
                  </a:lnTo>
                  <a:lnTo>
                    <a:pt x="437" y="394"/>
                  </a:lnTo>
                  <a:lnTo>
                    <a:pt x="450" y="387"/>
                  </a:lnTo>
                  <a:lnTo>
                    <a:pt x="464" y="377"/>
                  </a:lnTo>
                  <a:lnTo>
                    <a:pt x="479" y="370"/>
                  </a:lnTo>
                  <a:lnTo>
                    <a:pt x="497" y="362"/>
                  </a:lnTo>
                  <a:lnTo>
                    <a:pt x="514" y="356"/>
                  </a:lnTo>
                  <a:lnTo>
                    <a:pt x="531" y="352"/>
                  </a:lnTo>
                  <a:lnTo>
                    <a:pt x="549" y="348"/>
                  </a:lnTo>
                  <a:lnTo>
                    <a:pt x="565" y="345"/>
                  </a:lnTo>
                  <a:lnTo>
                    <a:pt x="578" y="343"/>
                  </a:lnTo>
                  <a:lnTo>
                    <a:pt x="592" y="344"/>
                  </a:lnTo>
                  <a:lnTo>
                    <a:pt x="600" y="344"/>
                  </a:lnTo>
                  <a:lnTo>
                    <a:pt x="612" y="345"/>
                  </a:lnTo>
                  <a:lnTo>
                    <a:pt x="623" y="346"/>
                  </a:lnTo>
                  <a:lnTo>
                    <a:pt x="638" y="348"/>
                  </a:lnTo>
                  <a:lnTo>
                    <a:pt x="649" y="351"/>
                  </a:lnTo>
                  <a:lnTo>
                    <a:pt x="662" y="353"/>
                  </a:lnTo>
                  <a:lnTo>
                    <a:pt x="672" y="356"/>
                  </a:lnTo>
                  <a:lnTo>
                    <a:pt x="684" y="359"/>
                  </a:lnTo>
                  <a:lnTo>
                    <a:pt x="692" y="362"/>
                  </a:lnTo>
                  <a:lnTo>
                    <a:pt x="702" y="367"/>
                  </a:lnTo>
                  <a:lnTo>
                    <a:pt x="714" y="372"/>
                  </a:lnTo>
                  <a:lnTo>
                    <a:pt x="726" y="378"/>
                  </a:lnTo>
                  <a:lnTo>
                    <a:pt x="736" y="385"/>
                  </a:lnTo>
                  <a:lnTo>
                    <a:pt x="753" y="395"/>
                  </a:lnTo>
                  <a:lnTo>
                    <a:pt x="770" y="409"/>
                  </a:lnTo>
                  <a:lnTo>
                    <a:pt x="784" y="424"/>
                  </a:lnTo>
                  <a:lnTo>
                    <a:pt x="809" y="454"/>
                  </a:lnTo>
                  <a:lnTo>
                    <a:pt x="819" y="472"/>
                  </a:lnTo>
                  <a:lnTo>
                    <a:pt x="826" y="485"/>
                  </a:lnTo>
                  <a:lnTo>
                    <a:pt x="832" y="503"/>
                  </a:lnTo>
                  <a:lnTo>
                    <a:pt x="838" y="523"/>
                  </a:lnTo>
                  <a:lnTo>
                    <a:pt x="841" y="540"/>
                  </a:lnTo>
                  <a:lnTo>
                    <a:pt x="840" y="556"/>
                  </a:lnTo>
                  <a:lnTo>
                    <a:pt x="837" y="579"/>
                  </a:lnTo>
                  <a:lnTo>
                    <a:pt x="832" y="599"/>
                  </a:lnTo>
                  <a:lnTo>
                    <a:pt x="825" y="622"/>
                  </a:lnTo>
                  <a:lnTo>
                    <a:pt x="814" y="642"/>
                  </a:lnTo>
                  <a:lnTo>
                    <a:pt x="802" y="663"/>
                  </a:lnTo>
                  <a:lnTo>
                    <a:pt x="792" y="677"/>
                  </a:lnTo>
                  <a:lnTo>
                    <a:pt x="775" y="700"/>
                  </a:lnTo>
                  <a:lnTo>
                    <a:pt x="758" y="718"/>
                  </a:lnTo>
                  <a:lnTo>
                    <a:pt x="742" y="733"/>
                  </a:lnTo>
                  <a:lnTo>
                    <a:pt x="723" y="748"/>
                  </a:lnTo>
                  <a:lnTo>
                    <a:pt x="706" y="760"/>
                  </a:lnTo>
                  <a:lnTo>
                    <a:pt x="687" y="769"/>
                  </a:lnTo>
                  <a:lnTo>
                    <a:pt x="666" y="777"/>
                  </a:lnTo>
                  <a:lnTo>
                    <a:pt x="646" y="783"/>
                  </a:lnTo>
                  <a:lnTo>
                    <a:pt x="622" y="787"/>
                  </a:lnTo>
                  <a:lnTo>
                    <a:pt x="597" y="790"/>
                  </a:lnTo>
                  <a:lnTo>
                    <a:pt x="574" y="792"/>
                  </a:lnTo>
                  <a:lnTo>
                    <a:pt x="550" y="792"/>
                  </a:lnTo>
                  <a:lnTo>
                    <a:pt x="515" y="790"/>
                  </a:lnTo>
                  <a:lnTo>
                    <a:pt x="486" y="787"/>
                  </a:lnTo>
                  <a:lnTo>
                    <a:pt x="457" y="781"/>
                  </a:lnTo>
                  <a:lnTo>
                    <a:pt x="427" y="774"/>
                  </a:lnTo>
                  <a:lnTo>
                    <a:pt x="394" y="763"/>
                  </a:lnTo>
                  <a:lnTo>
                    <a:pt x="367" y="750"/>
                  </a:lnTo>
                  <a:lnTo>
                    <a:pt x="334" y="730"/>
                  </a:lnTo>
                  <a:lnTo>
                    <a:pt x="296" y="703"/>
                  </a:lnTo>
                  <a:lnTo>
                    <a:pt x="270" y="679"/>
                  </a:lnTo>
                  <a:lnTo>
                    <a:pt x="251" y="655"/>
                  </a:lnTo>
                  <a:lnTo>
                    <a:pt x="233" y="626"/>
                  </a:lnTo>
                  <a:lnTo>
                    <a:pt x="223" y="607"/>
                  </a:lnTo>
                  <a:lnTo>
                    <a:pt x="214" y="588"/>
                  </a:lnTo>
                  <a:lnTo>
                    <a:pt x="204" y="559"/>
                  </a:lnTo>
                  <a:lnTo>
                    <a:pt x="199" y="529"/>
                  </a:lnTo>
                  <a:lnTo>
                    <a:pt x="197" y="504"/>
                  </a:lnTo>
                  <a:lnTo>
                    <a:pt x="197" y="478"/>
                  </a:lnTo>
                  <a:lnTo>
                    <a:pt x="199" y="449"/>
                  </a:lnTo>
                  <a:lnTo>
                    <a:pt x="205" y="427"/>
                  </a:lnTo>
                  <a:lnTo>
                    <a:pt x="215" y="403"/>
                  </a:lnTo>
                  <a:lnTo>
                    <a:pt x="224" y="383"/>
                  </a:lnTo>
                  <a:lnTo>
                    <a:pt x="236" y="364"/>
                  </a:lnTo>
                  <a:lnTo>
                    <a:pt x="250" y="344"/>
                  </a:lnTo>
                  <a:lnTo>
                    <a:pt x="265" y="325"/>
                  </a:lnTo>
                  <a:lnTo>
                    <a:pt x="279" y="308"/>
                  </a:lnTo>
                  <a:lnTo>
                    <a:pt x="295" y="291"/>
                  </a:lnTo>
                  <a:lnTo>
                    <a:pt x="309" y="279"/>
                  </a:lnTo>
                  <a:lnTo>
                    <a:pt x="324" y="268"/>
                  </a:lnTo>
                  <a:lnTo>
                    <a:pt x="340" y="255"/>
                  </a:lnTo>
                  <a:lnTo>
                    <a:pt x="355" y="246"/>
                  </a:lnTo>
                  <a:lnTo>
                    <a:pt x="373" y="236"/>
                  </a:lnTo>
                  <a:lnTo>
                    <a:pt x="394" y="226"/>
                  </a:lnTo>
                  <a:lnTo>
                    <a:pt x="410" y="218"/>
                  </a:lnTo>
                  <a:lnTo>
                    <a:pt x="433" y="210"/>
                  </a:lnTo>
                  <a:lnTo>
                    <a:pt x="457" y="200"/>
                  </a:lnTo>
                  <a:lnTo>
                    <a:pt x="480" y="194"/>
                  </a:lnTo>
                  <a:lnTo>
                    <a:pt x="504" y="188"/>
                  </a:lnTo>
                  <a:lnTo>
                    <a:pt x="529" y="184"/>
                  </a:lnTo>
                  <a:lnTo>
                    <a:pt x="554" y="181"/>
                  </a:lnTo>
                  <a:lnTo>
                    <a:pt x="578" y="180"/>
                  </a:lnTo>
                  <a:lnTo>
                    <a:pt x="604" y="179"/>
                  </a:lnTo>
                  <a:lnTo>
                    <a:pt x="634" y="180"/>
                  </a:lnTo>
                  <a:lnTo>
                    <a:pt x="666" y="184"/>
                  </a:lnTo>
                  <a:lnTo>
                    <a:pt x="690" y="188"/>
                  </a:lnTo>
                  <a:lnTo>
                    <a:pt x="714" y="194"/>
                  </a:lnTo>
                  <a:lnTo>
                    <a:pt x="746" y="203"/>
                  </a:lnTo>
                  <a:lnTo>
                    <a:pt x="778" y="217"/>
                  </a:lnTo>
                  <a:lnTo>
                    <a:pt x="804" y="232"/>
                  </a:lnTo>
                  <a:lnTo>
                    <a:pt x="829" y="248"/>
                  </a:lnTo>
                  <a:lnTo>
                    <a:pt x="853" y="264"/>
                  </a:lnTo>
                  <a:lnTo>
                    <a:pt x="881" y="286"/>
                  </a:lnTo>
                  <a:lnTo>
                    <a:pt x="904" y="305"/>
                  </a:lnTo>
                  <a:lnTo>
                    <a:pt x="927" y="331"/>
                  </a:lnTo>
                  <a:lnTo>
                    <a:pt x="948" y="358"/>
                  </a:lnTo>
                  <a:lnTo>
                    <a:pt x="964" y="389"/>
                  </a:lnTo>
                  <a:lnTo>
                    <a:pt x="979" y="417"/>
                  </a:lnTo>
                  <a:lnTo>
                    <a:pt x="991" y="437"/>
                  </a:lnTo>
                  <a:lnTo>
                    <a:pt x="1001" y="465"/>
                  </a:lnTo>
                  <a:lnTo>
                    <a:pt x="1009" y="495"/>
                  </a:lnTo>
                  <a:lnTo>
                    <a:pt x="1014" y="532"/>
                  </a:lnTo>
                  <a:lnTo>
                    <a:pt x="1017" y="563"/>
                  </a:lnTo>
                  <a:lnTo>
                    <a:pt x="1017" y="587"/>
                  </a:lnTo>
                  <a:lnTo>
                    <a:pt x="1015" y="610"/>
                  </a:lnTo>
                  <a:lnTo>
                    <a:pt x="1010" y="630"/>
                  </a:lnTo>
                  <a:lnTo>
                    <a:pt x="1003" y="655"/>
                  </a:lnTo>
                  <a:lnTo>
                    <a:pt x="991" y="681"/>
                  </a:lnTo>
                  <a:lnTo>
                    <a:pt x="978" y="708"/>
                  </a:lnTo>
                  <a:lnTo>
                    <a:pt x="961" y="738"/>
                  </a:lnTo>
                  <a:lnTo>
                    <a:pt x="945" y="760"/>
                  </a:lnTo>
                  <a:lnTo>
                    <a:pt x="931" y="783"/>
                  </a:lnTo>
                  <a:lnTo>
                    <a:pt x="913" y="801"/>
                  </a:lnTo>
                  <a:lnTo>
                    <a:pt x="894" y="823"/>
                  </a:lnTo>
                  <a:lnTo>
                    <a:pt x="873" y="844"/>
                  </a:lnTo>
                  <a:lnTo>
                    <a:pt x="846" y="865"/>
                  </a:lnTo>
                  <a:lnTo>
                    <a:pt x="823" y="880"/>
                  </a:lnTo>
                  <a:lnTo>
                    <a:pt x="801" y="896"/>
                  </a:lnTo>
                  <a:lnTo>
                    <a:pt x="781" y="909"/>
                  </a:lnTo>
                  <a:lnTo>
                    <a:pt x="757" y="919"/>
                  </a:lnTo>
                  <a:lnTo>
                    <a:pt x="734" y="927"/>
                  </a:lnTo>
                  <a:lnTo>
                    <a:pt x="713" y="933"/>
                  </a:lnTo>
                  <a:lnTo>
                    <a:pt x="687" y="939"/>
                  </a:lnTo>
                  <a:lnTo>
                    <a:pt x="658" y="943"/>
                  </a:lnTo>
                  <a:lnTo>
                    <a:pt x="629" y="946"/>
                  </a:lnTo>
                  <a:lnTo>
                    <a:pt x="601" y="948"/>
                  </a:lnTo>
                  <a:lnTo>
                    <a:pt x="557" y="948"/>
                  </a:lnTo>
                  <a:lnTo>
                    <a:pt x="526" y="946"/>
                  </a:lnTo>
                  <a:lnTo>
                    <a:pt x="490" y="944"/>
                  </a:lnTo>
                  <a:lnTo>
                    <a:pt x="458" y="940"/>
                  </a:lnTo>
                  <a:lnTo>
                    <a:pt x="429" y="937"/>
                  </a:lnTo>
                  <a:lnTo>
                    <a:pt x="395" y="931"/>
                  </a:lnTo>
                  <a:lnTo>
                    <a:pt x="361" y="922"/>
                  </a:lnTo>
                  <a:lnTo>
                    <a:pt x="332" y="914"/>
                  </a:lnTo>
                  <a:lnTo>
                    <a:pt x="295" y="901"/>
                  </a:lnTo>
                  <a:lnTo>
                    <a:pt x="262" y="886"/>
                  </a:lnTo>
                  <a:lnTo>
                    <a:pt x="221" y="865"/>
                  </a:lnTo>
                  <a:lnTo>
                    <a:pt x="190" y="842"/>
                  </a:lnTo>
                  <a:lnTo>
                    <a:pt x="164" y="822"/>
                  </a:lnTo>
                  <a:lnTo>
                    <a:pt x="140" y="802"/>
                  </a:lnTo>
                  <a:lnTo>
                    <a:pt x="118" y="777"/>
                  </a:lnTo>
                  <a:lnTo>
                    <a:pt x="101" y="758"/>
                  </a:lnTo>
                  <a:lnTo>
                    <a:pt x="88" y="741"/>
                  </a:lnTo>
                  <a:lnTo>
                    <a:pt x="73" y="721"/>
                  </a:lnTo>
                  <a:lnTo>
                    <a:pt x="59" y="701"/>
                  </a:lnTo>
                  <a:lnTo>
                    <a:pt x="46" y="678"/>
                  </a:lnTo>
                  <a:lnTo>
                    <a:pt x="35" y="656"/>
                  </a:lnTo>
                  <a:lnTo>
                    <a:pt x="24" y="633"/>
                  </a:lnTo>
                  <a:lnTo>
                    <a:pt x="17" y="610"/>
                  </a:lnTo>
                  <a:lnTo>
                    <a:pt x="12" y="588"/>
                  </a:lnTo>
                  <a:lnTo>
                    <a:pt x="7" y="565"/>
                  </a:lnTo>
                  <a:lnTo>
                    <a:pt x="4" y="543"/>
                  </a:lnTo>
                  <a:lnTo>
                    <a:pt x="1" y="525"/>
                  </a:lnTo>
                  <a:lnTo>
                    <a:pt x="0" y="503"/>
                  </a:lnTo>
                  <a:lnTo>
                    <a:pt x="0" y="481"/>
                  </a:lnTo>
                  <a:lnTo>
                    <a:pt x="4" y="458"/>
                  </a:lnTo>
                  <a:lnTo>
                    <a:pt x="9" y="430"/>
                  </a:lnTo>
                  <a:lnTo>
                    <a:pt x="17" y="410"/>
                  </a:lnTo>
                  <a:lnTo>
                    <a:pt x="25" y="391"/>
                  </a:lnTo>
                  <a:lnTo>
                    <a:pt x="34" y="378"/>
                  </a:lnTo>
                  <a:lnTo>
                    <a:pt x="41" y="355"/>
                  </a:lnTo>
                  <a:lnTo>
                    <a:pt x="51" y="334"/>
                  </a:lnTo>
                  <a:lnTo>
                    <a:pt x="62" y="311"/>
                  </a:lnTo>
                  <a:lnTo>
                    <a:pt x="71" y="290"/>
                  </a:lnTo>
                  <a:lnTo>
                    <a:pt x="82" y="274"/>
                  </a:lnTo>
                  <a:lnTo>
                    <a:pt x="93" y="247"/>
                  </a:lnTo>
                  <a:lnTo>
                    <a:pt x="106" y="227"/>
                  </a:lnTo>
                  <a:lnTo>
                    <a:pt x="122" y="206"/>
                  </a:lnTo>
                  <a:lnTo>
                    <a:pt x="142" y="184"/>
                  </a:lnTo>
                  <a:lnTo>
                    <a:pt x="164" y="163"/>
                  </a:lnTo>
                  <a:lnTo>
                    <a:pt x="188" y="143"/>
                  </a:lnTo>
                  <a:lnTo>
                    <a:pt x="210" y="128"/>
                  </a:lnTo>
                  <a:lnTo>
                    <a:pt x="235" y="110"/>
                  </a:lnTo>
                  <a:lnTo>
                    <a:pt x="260" y="96"/>
                  </a:lnTo>
                  <a:lnTo>
                    <a:pt x="286" y="80"/>
                  </a:lnTo>
                  <a:lnTo>
                    <a:pt x="317" y="64"/>
                  </a:lnTo>
                  <a:lnTo>
                    <a:pt x="350" y="49"/>
                  </a:lnTo>
                  <a:lnTo>
                    <a:pt x="384" y="35"/>
                  </a:lnTo>
                  <a:lnTo>
                    <a:pt x="419" y="20"/>
                  </a:lnTo>
                  <a:lnTo>
                    <a:pt x="461" y="8"/>
                  </a:lnTo>
                  <a:lnTo>
                    <a:pt x="502" y="2"/>
                  </a:lnTo>
                  <a:lnTo>
                    <a:pt x="547" y="0"/>
                  </a:lnTo>
                  <a:lnTo>
                    <a:pt x="582" y="1"/>
                  </a:lnTo>
                  <a:lnTo>
                    <a:pt x="632" y="2"/>
                  </a:lnTo>
                  <a:lnTo>
                    <a:pt x="660" y="5"/>
                  </a:lnTo>
                  <a:lnTo>
                    <a:pt x="700" y="13"/>
                  </a:lnTo>
                  <a:lnTo>
                    <a:pt x="738" y="22"/>
                  </a:lnTo>
                  <a:lnTo>
                    <a:pt x="774" y="30"/>
                  </a:lnTo>
                  <a:lnTo>
                    <a:pt x="809" y="42"/>
                  </a:lnTo>
                  <a:lnTo>
                    <a:pt x="840" y="58"/>
                  </a:lnTo>
                  <a:lnTo>
                    <a:pt x="876" y="74"/>
                  </a:lnTo>
                  <a:lnTo>
                    <a:pt x="910" y="92"/>
                  </a:lnTo>
                  <a:lnTo>
                    <a:pt x="945" y="113"/>
                  </a:lnTo>
                  <a:lnTo>
                    <a:pt x="975" y="134"/>
                  </a:lnTo>
                  <a:lnTo>
                    <a:pt x="1003" y="157"/>
                  </a:lnTo>
                  <a:lnTo>
                    <a:pt x="1031" y="183"/>
                  </a:lnTo>
                  <a:lnTo>
                    <a:pt x="1061" y="210"/>
                  </a:lnTo>
                  <a:lnTo>
                    <a:pt x="1084" y="235"/>
                  </a:lnTo>
                  <a:lnTo>
                    <a:pt x="1107" y="268"/>
                  </a:lnTo>
                  <a:lnTo>
                    <a:pt x="1128" y="298"/>
                  </a:lnTo>
                  <a:lnTo>
                    <a:pt x="1147" y="338"/>
                  </a:lnTo>
                  <a:lnTo>
                    <a:pt x="1158" y="379"/>
                  </a:lnTo>
                  <a:lnTo>
                    <a:pt x="1173" y="419"/>
                  </a:lnTo>
                  <a:lnTo>
                    <a:pt x="1184" y="460"/>
                  </a:lnTo>
                  <a:lnTo>
                    <a:pt x="1193" y="506"/>
                  </a:lnTo>
                  <a:lnTo>
                    <a:pt x="1199" y="553"/>
                  </a:lnTo>
                  <a:lnTo>
                    <a:pt x="1199" y="601"/>
                  </a:lnTo>
                  <a:lnTo>
                    <a:pt x="1194" y="648"/>
                  </a:lnTo>
                  <a:lnTo>
                    <a:pt x="1184" y="697"/>
                  </a:lnTo>
                  <a:lnTo>
                    <a:pt x="1165" y="750"/>
                  </a:lnTo>
                  <a:lnTo>
                    <a:pt x="1144" y="807"/>
                  </a:lnTo>
                  <a:lnTo>
                    <a:pt x="1121" y="852"/>
                  </a:lnTo>
                  <a:lnTo>
                    <a:pt x="1092" y="903"/>
                  </a:lnTo>
                  <a:lnTo>
                    <a:pt x="1058" y="946"/>
                  </a:lnTo>
                  <a:lnTo>
                    <a:pt x="1021" y="987"/>
                  </a:lnTo>
                  <a:lnTo>
                    <a:pt x="987" y="1017"/>
                  </a:lnTo>
                  <a:lnTo>
                    <a:pt x="945" y="1049"/>
                  </a:lnTo>
                  <a:lnTo>
                    <a:pt x="900" y="1077"/>
                  </a:lnTo>
                  <a:lnTo>
                    <a:pt x="862" y="1097"/>
                  </a:lnTo>
                  <a:lnTo>
                    <a:pt x="820" y="1114"/>
                  </a:lnTo>
                  <a:lnTo>
                    <a:pt x="779" y="1128"/>
                  </a:lnTo>
                  <a:lnTo>
                    <a:pt x="730" y="1140"/>
                  </a:lnTo>
                  <a:lnTo>
                    <a:pt x="675" y="1148"/>
                  </a:lnTo>
                  <a:lnTo>
                    <a:pt x="619" y="1151"/>
                  </a:lnTo>
                  <a:lnTo>
                    <a:pt x="569" y="1151"/>
                  </a:lnTo>
                  <a:lnTo>
                    <a:pt x="517" y="114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56400" y="277668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28000" y="1633680"/>
              <a:ext cx="0" cy="243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6240" y="1036800"/>
              <a:ext cx="27439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terfall Proces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16160" y="1036800"/>
              <a:ext cx="26251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terative Proces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400" y="4124160"/>
              <a:ext cx="376020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quirements-driven and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stly custom development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te risk resolution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economy of scale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51440" y="1940040"/>
              <a:ext cx="4564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08640" y="2320920"/>
              <a:ext cx="4564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65840" y="2778120"/>
              <a:ext cx="4564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99360" y="3235320"/>
              <a:ext cx="4564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01280" y="4124160"/>
              <a:ext cx="300420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rchitecture-first and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onent-based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arly risk resolution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onomy of scale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17600" y="5443560"/>
              <a:ext cx="915840" cy="658440"/>
            </a:xfrm>
            <a:custGeom>
              <a:avLst/>
              <a:gdLst/>
              <a:ahLst/>
              <a:rect l="l" t="t" r="r" b="b"/>
              <a:pathLst>
                <a:path w="577" h="415">
                  <a:moveTo>
                    <a:pt x="0" y="414"/>
                  </a:moveTo>
                  <a:lnTo>
                    <a:pt x="66" y="399"/>
                  </a:lnTo>
                  <a:lnTo>
                    <a:pt x="131" y="373"/>
                  </a:lnTo>
                  <a:lnTo>
                    <a:pt x="197" y="349"/>
                  </a:lnTo>
                  <a:lnTo>
                    <a:pt x="260" y="324"/>
                  </a:lnTo>
                  <a:lnTo>
                    <a:pt x="318" y="287"/>
                  </a:lnTo>
                  <a:lnTo>
                    <a:pt x="372" y="255"/>
                  </a:lnTo>
                  <a:lnTo>
                    <a:pt x="422" y="209"/>
                  </a:lnTo>
                  <a:lnTo>
                    <a:pt x="470" y="156"/>
                  </a:lnTo>
                  <a:lnTo>
                    <a:pt x="509" y="110"/>
                  </a:lnTo>
                  <a:lnTo>
                    <a:pt x="548" y="48"/>
                  </a:lnTo>
                  <a:lnTo>
                    <a:pt x="57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62440" y="5572080"/>
              <a:ext cx="2372040" cy="537840"/>
            </a:xfrm>
            <a:custGeom>
              <a:avLst/>
              <a:gdLst/>
              <a:ahLst/>
              <a:rect l="l" t="t" r="r" b="b"/>
              <a:pathLst>
                <a:path w="1494" h="339">
                  <a:moveTo>
                    <a:pt x="0" y="338"/>
                  </a:moveTo>
                  <a:lnTo>
                    <a:pt x="119" y="329"/>
                  </a:lnTo>
                  <a:lnTo>
                    <a:pt x="247" y="319"/>
                  </a:lnTo>
                  <a:lnTo>
                    <a:pt x="365" y="304"/>
                  </a:lnTo>
                  <a:lnTo>
                    <a:pt x="490" y="285"/>
                  </a:lnTo>
                  <a:lnTo>
                    <a:pt x="597" y="264"/>
                  </a:lnTo>
                  <a:lnTo>
                    <a:pt x="699" y="229"/>
                  </a:lnTo>
                  <a:lnTo>
                    <a:pt x="773" y="194"/>
                  </a:lnTo>
                  <a:lnTo>
                    <a:pt x="832" y="154"/>
                  </a:lnTo>
                  <a:lnTo>
                    <a:pt x="877" y="120"/>
                  </a:lnTo>
                  <a:lnTo>
                    <a:pt x="938" y="95"/>
                  </a:lnTo>
                  <a:lnTo>
                    <a:pt x="1003" y="70"/>
                  </a:lnTo>
                  <a:lnTo>
                    <a:pt x="1074" y="52"/>
                  </a:lnTo>
                  <a:lnTo>
                    <a:pt x="1146" y="38"/>
                  </a:lnTo>
                  <a:lnTo>
                    <a:pt x="1214" y="26"/>
                  </a:lnTo>
                  <a:lnTo>
                    <a:pt x="1300" y="16"/>
                  </a:lnTo>
                  <a:lnTo>
                    <a:pt x="1399" y="6"/>
                  </a:lnTo>
                  <a:lnTo>
                    <a:pt x="1493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84400" y="5376960"/>
              <a:ext cx="0" cy="83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84400" y="62150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65800" y="5419800"/>
              <a:ext cx="0" cy="83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5800" y="6257880"/>
              <a:ext cx="312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8d36d"/>
                </a:solidFill>
                <a:latin typeface="Arial Narrow"/>
              </a:rPr>
              <a:t>Key Issues To Consider In Process Migration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95360"/>
            <a:ext cx="9134640" cy="31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Understand Current Capability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Manage Risk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Understand Internal Politic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Identify Key Win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Create a Plan 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8d36d"/>
                </a:solidFill>
                <a:latin typeface="Arial Narrow"/>
              </a:rPr>
              <a:t>Project Management - Why is it important?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34640" cy="587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Traditional Role Played By Someone Who Has Responsibility For: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Schedu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These Dimensions Of Project Management Are Often Conflicting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The Project Manager Needs Support And Has To: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Construct A Suitable Deliverables List; an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Identify Roles And Activit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In Order To Get The Balance He Need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Assessing Your Project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34640" cy="54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What is a project assessment?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t it’s most effective, an independent evaluation of your software development project’s pract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What is the goal?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 identify areas in your overall process that reduce productiv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How should this achieved?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asured against modern commercial best pract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be performed by Rational software engineering specialist with the backing of Rational’s field experience on numerous software development proje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A Typical Assessment plan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470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Kickoff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77160" indent="-3330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municate The Goals Of The Assess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Situational Analysi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77160" indent="-3330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amine project artifa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06480" indent="-227520">
              <a:lnSpc>
                <a:spcPct val="85000"/>
              </a:lnSpc>
              <a:spcBef>
                <a:spcPts val="499"/>
              </a:spcBef>
              <a:buClr>
                <a:srgbClr val="00b6e8"/>
              </a:buClr>
              <a:buFont typeface="Arial Narrow"/>
              <a:buChar char="•"/>
              <a:tabLst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lans, process, models, source, …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77160" indent="-3330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view key stakehold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06480" indent="-227520">
              <a:lnSpc>
                <a:spcPct val="85000"/>
              </a:lnSpc>
              <a:spcBef>
                <a:spcPts val="499"/>
              </a:spcBef>
              <a:buClr>
                <a:srgbClr val="00b6e8"/>
              </a:buClr>
              <a:buFont typeface="Arial Narrow"/>
              <a:buChar char="•"/>
              <a:tabLst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oject managers, analysts, developers, testers, end-users, 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Compile The Finding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Discuss The Findings and Develop an Action Plan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8d36d"/>
                </a:solidFill>
                <a:latin typeface="Arial Narrow"/>
              </a:rPr>
              <a:t>Summary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257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Project Management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Modern Software Processe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Transitioning To Modern Practice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GB" sz="3200" spc="-1" strike="noStrike">
                <a:solidFill>
                  <a:srgbClr val="d8d36d"/>
                </a:solidFill>
                <a:latin typeface="Arial Narrow"/>
              </a:rPr>
              <a:t>Assessing And Changing The Way You “do” Software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hank You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Managing Iterative Development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484520" cy="619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1: Base the process on an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architecture-first approach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2: Establish an iterative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lifecycle process</a:t>
            </a: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 that confronts risk early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3: Transition design methods to emphasize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component-based development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4: Establish a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change management environment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5: Enhance change freedom through tools that support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round-trip engineering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9760" y="609120"/>
            <a:ext cx="4484880" cy="610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3984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6: Capture design artifacts in rigorous,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model-based notation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3984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7: Instrument the process for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objective quality control </a:t>
            </a: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and progress assessment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3984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8: Use a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demonstration-based approach</a:t>
            </a: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 to assess intermediate artifacts.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3984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9: Plan intermediate releases in groups of usage scenarios with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evolving levels of detail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  <a:p>
            <a:pPr marL="33984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10: Establish a </a:t>
            </a:r>
            <a:r>
              <a:rPr b="0" i="1" lang="en-US" sz="2800" spc="-1" strike="noStrike">
                <a:solidFill>
                  <a:srgbClr val="d8d36d"/>
                </a:solidFill>
                <a:latin typeface="Arial Narrow"/>
              </a:rPr>
              <a:t>configurable process</a:t>
            </a:r>
            <a:r>
              <a:rPr b="0" lang="en-US" sz="2800" spc="-1" strike="noStrike">
                <a:solidFill>
                  <a:srgbClr val="d8d36d"/>
                </a:solidFill>
                <a:latin typeface="Arial Narrow"/>
              </a:rPr>
              <a:t> that is economically scalable</a:t>
            </a:r>
            <a:endParaRPr b="0" lang="en-US" sz="2800" spc="-1" strike="noStrike">
              <a:solidFill>
                <a:srgbClr val="d8d36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516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The Management Process Framework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34640" cy="52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Life Cycle Phase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eption, elaboration, construction and transi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Workflow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nagement, environment, requirements, design, implementation, assessment, deploy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Artifact set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nagement, requirements, design, implementation and deploy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Checkpoints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jor milestones, minor milestones, status assess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81720" cy="1139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52200" rIns="52200" tIns="20880" bIns="20880" anchor="t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The Life-Cycle Macroproces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78000" y="1355760"/>
          <a:ext cx="838188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355760"/>
                    <a:ext cx="838188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780160" cy="590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52200" rIns="52200" tIns="20880" bIns="20880" anchor="t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Iterative Life-Cycle Risk Profile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79320" y="1006560"/>
          <a:ext cx="780732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006560"/>
                    <a:ext cx="780732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Risk – What Does It Really Mean ?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34640" cy="448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Risk is: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variable that can endanger or eliminate succe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Risk can be: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rect : project has a large degree of contro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direct: project has little or no contro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Two attributes of risk: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bability of occurrenc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4360" indent="-3366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act on the project (severity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5638680"/>
            <a:ext cx="7086600" cy="685800"/>
          </a:xfrm>
          <a:prstGeom prst="rect">
            <a:avLst/>
          </a:prstGeom>
          <a:solidFill>
            <a:srgbClr val="004e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isk Probability) * (Risk Severity) = Risk Magnitu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indicated as High, Significant, Moderate, Minor, Low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d36d"/>
                </a:solidFill>
                <a:latin typeface="Arial Narrow"/>
              </a:rPr>
              <a:t>Risk Mitigation Strategies</a:t>
            </a:r>
            <a:endParaRPr b="1" lang="en-US" sz="3600" spc="-1" strike="noStrike">
              <a:solidFill>
                <a:srgbClr val="d8d36d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6168960" cy="573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Risk avoidance - reorganize the project so that it will not be affected by the risk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Risk transfer - reorganize the project so that someone else bears the risk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marL="342360" indent="-342360">
              <a:lnSpc>
                <a:spcPct val="85000"/>
              </a:lnSpc>
              <a:spcBef>
                <a:spcPts val="1199"/>
              </a:spcBef>
              <a:buClr>
                <a:srgbClr val="00b6e8"/>
              </a:buClr>
              <a:buFont typeface="Wingdings" charset="2"/>
              <a:buChar char="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3200" spc="-1" strike="noStrike">
                <a:solidFill>
                  <a:srgbClr val="d8d36d"/>
                </a:solidFill>
                <a:latin typeface="Arial Narrow"/>
              </a:rPr>
              <a:t>Risk acceptance - live with it</a:t>
            </a:r>
            <a:endParaRPr b="0" lang="en-US" sz="3200" spc="-1" strike="noStrike">
              <a:solidFill>
                <a:srgbClr val="d8d36d"/>
              </a:solidFill>
              <a:latin typeface="Arial Narrow"/>
            </a:endParaRPr>
          </a:p>
          <a:p>
            <a:pPr lvl="1" marL="677160" indent="-3330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isk mitigation - reduce the probability or impac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77160" indent="-333000">
              <a:lnSpc>
                <a:spcPct val="85000"/>
              </a:lnSpc>
              <a:spcBef>
                <a:spcPts val="1049"/>
              </a:spcBef>
              <a:buClr>
                <a:srgbClr val="00b6e8"/>
              </a:buClr>
              <a:buFont typeface="Wingdings" charset="2"/>
              <a:buChar char=""/>
              <a:tabLst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finition of a contingency plan - What do we do if the risk becomes real (“Plan B”)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45240" y="2133720"/>
            <a:ext cx="1077840" cy="1603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568920" y="4419720"/>
            <a:ext cx="1608120" cy="157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178760" y="457200"/>
            <a:ext cx="12794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6:40:07Z</dcterms:created>
  <dc:creator>Eric Schurr</dc:creator>
  <dc:description/>
  <dc:language>en-US</dc:language>
  <cp:lastModifiedBy>smarkwoo</cp:lastModifiedBy>
  <cp:lastPrinted>2000-03-29T12:51:49Z</cp:lastPrinted>
  <dcterms:modified xsi:type="dcterms:W3CDTF">2002-03-01T08:43:46Z</dcterms:modified>
  <cp:revision>745</cp:revision>
  <dc:subject>Corporate Overview</dc:subject>
  <dc:title>Title </dc:title>
</cp:coreProperties>
</file>