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8837-ADB8-429D-BDD5-65ED623B9448}" type="slidenum">
              <a:rPr b="0" lang="en-A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cro document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tion Research is iterative. Aim for many well detailed results at each s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os is good if understanding a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os can be beneficial in that you are more likely to discover new thing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though the new things are mostly problems, understanding the problems is of benef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os is bad if things change before you under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os can be bad. Mistake I made was that one of the things that I discovered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ue to not understanding how it was achieved, made the finding inva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ltiple environments reduce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ave at least two environments, this will reduce the risk of introducing a change that will halt everything and at the same time allowing comparison working/non-working environ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fter change validate previous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cro documentation, allows you to return to previous findings and quickly, test them, change them if need be and make them cur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information a valu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the information appears to be overtaken by technology, it is always valuable (RAS examp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cro document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tion Research is iterative. Aim for many well detailed results at each s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os is good if understanding a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os can be beneficial in that you are more likely to discover new thing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though the new things are mostly problems, understanding the problems is of benef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os is bad if things change before you under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os can be bad. Mistake I made was that one of the things that I discovered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ue to not understanding how it was achieved, made the finding inva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ltiple environments reduce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ave at least two environments, this will reduce the risk of introducing a change that will halt everything and at the same time allowing comparison working/non-working environ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fter change validate previous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cro documentation, allows you to return to previous findings and quickly, test them, change them if need be and make them cur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information a valu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the information appears to be overtaken by technology, it is always valuable (RAS examp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IPAQ Sp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Operating System   Windows® Powered Pocket P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Processor   206 MHz Intel StrongARM 32 bit RISC Process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Display Type   Color reflective thin film transistor (TFT) LC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Touch Screen   Y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Resolution   240 x 3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Pixel Pitch   .24 m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Viewable Image Size   2.26 x 3.02 inch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RAM   32 M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ROM   16 M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Input Method   Handwriting recognition, soft keyboard, voice record, ink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Communications Port   Interface with USB / Serial connectivity that connects via serial or USB c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Card Slot   optional jack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Infrared Port   Yes (115 Kbp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Speaker &amp; Microphone   Y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Audio Out Jack   Yes (3.5 mm Stereo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Battery   950 mAh Lithium Poly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Dimensions   5.11" x 3.28" x .62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Weight   6.3 oz. including batt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</a:rPr>
              <a:t>Warranty   1-year limi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68FA-6BB5-48A1-AF4B-7A69C380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C329-0F34-4F36-8DC1-A4335E77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DDA9-774F-42C7-AB3F-7ACC898A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8A8C-E64F-4795-9584-0E1DA669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53E4-CB30-4442-A2F9-149F63F8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385C-9461-4C65-BC86-F33EF14D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EDEA-3571-4BA5-9298-BD6111F7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3168-9298-4E9B-8944-9D10401F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1D7E-F03B-40CD-B357-4614AFCB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782C-3DCE-455B-AAAC-E0F89DBB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4E97-6981-4221-B84E-F2C510FD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415B-88AE-47C1-8587-7E40B833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CA1F-15B1-4D9D-B48B-BE35A5DAD74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imes New Roman"/>
              </a:rPr>
              <a:t>Developing an Embedded Application with Rational Rose RealTime</a:t>
            </a:r>
            <a:r>
              <a:rPr b="0" lang="en-AU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581280"/>
            <a:ext cx="4648320" cy="2667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666520" y="4191120"/>
            <a:ext cx="3429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ing Insi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Hello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R Hello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onne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MF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itial Development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Biometric De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resentation 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ns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ackground – Embedded + Real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an Embedded Syst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RealTi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rd Real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bopping in time or flicking it when you should be twisting it = GAMEO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ft Real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hitting it in time = lower score but still in the g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ackground – Rose Real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1981080"/>
            <a:ext cx="2743200" cy="94716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ational Rose Real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4343400"/>
            <a:ext cx="2743200" cy="52056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nex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505320" cy="2520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066680" y="2971800"/>
            <a:ext cx="2743200" cy="137376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arget Services Libr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962160" y="2514600"/>
            <a:ext cx="990360" cy="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5410080"/>
            <a:ext cx="2971800" cy="52056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/C++ Compi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33520" y="2438280"/>
            <a:ext cx="533160" cy="2895840"/>
            <a:chOff x="533520" y="2438280"/>
            <a:chExt cx="533160" cy="2895840"/>
          </a:xfrm>
        </p:grpSpPr>
        <p:sp>
          <p:nvSpPr>
            <p:cNvPr id="63" name=""/>
            <p:cNvSpPr/>
            <p:nvPr/>
          </p:nvSpPr>
          <p:spPr>
            <a:xfrm>
              <a:off x="533520" y="2438280"/>
              <a:ext cx="0" cy="289584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3520" y="2438280"/>
              <a:ext cx="53316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4114800" y="5562720"/>
            <a:ext cx="2362320" cy="52056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ink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809880" y="3581280"/>
            <a:ext cx="762120" cy="1981440"/>
            <a:chOff x="3809880" y="3581280"/>
            <a:chExt cx="762120" cy="1981440"/>
          </a:xfrm>
        </p:grpSpPr>
        <p:sp>
          <p:nvSpPr>
            <p:cNvPr id="67" name=""/>
            <p:cNvSpPr/>
            <p:nvPr/>
          </p:nvSpPr>
          <p:spPr>
            <a:xfrm>
              <a:off x="4572000" y="3581280"/>
              <a:ext cx="0" cy="198144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09880" y="3581280"/>
              <a:ext cx="76212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809880" y="4572000"/>
            <a:ext cx="76212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5791320"/>
            <a:ext cx="685800" cy="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5791320"/>
            <a:ext cx="685800" cy="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543800" y="4648320"/>
            <a:ext cx="57636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Lucida Sans Unicode"/>
              </a:rPr>
              <a:t>?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Lucida Sans Unicode"/>
              <a:ea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ackground – Target R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96240" y="5715000"/>
            <a:ext cx="7913880" cy="609480"/>
            <a:chOff x="696240" y="5715000"/>
            <a:chExt cx="7913880" cy="609480"/>
          </a:xfrm>
        </p:grpSpPr>
        <p:sp>
          <p:nvSpPr>
            <p:cNvPr id="75" name=""/>
            <p:cNvSpPr/>
            <p:nvPr/>
          </p:nvSpPr>
          <p:spPr>
            <a:xfrm>
              <a:off x="838080" y="6324480"/>
              <a:ext cx="77720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96240" y="5715000"/>
              <a:ext cx="24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Physical Thre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97320" y="4572000"/>
            <a:ext cx="7912800" cy="609480"/>
            <a:chOff x="697320" y="4572000"/>
            <a:chExt cx="7912800" cy="609480"/>
          </a:xfrm>
        </p:grpSpPr>
        <p:sp>
          <p:nvSpPr>
            <p:cNvPr id="78" name=""/>
            <p:cNvSpPr/>
            <p:nvPr/>
          </p:nvSpPr>
          <p:spPr>
            <a:xfrm>
              <a:off x="838080" y="5181480"/>
              <a:ext cx="77720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97320" y="4572000"/>
              <a:ext cx="22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gical Thre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800600" y="1905120"/>
            <a:ext cx="3048120" cy="2437920"/>
            <a:chOff x="4800600" y="1905120"/>
            <a:chExt cx="3048120" cy="2437920"/>
          </a:xfrm>
        </p:grpSpPr>
        <p:grpSp>
          <p:nvGrpSpPr>
            <p:cNvPr id="81" name=""/>
            <p:cNvGrpSpPr/>
            <p:nvPr/>
          </p:nvGrpSpPr>
          <p:grpSpPr>
            <a:xfrm>
              <a:off x="4800600" y="2209680"/>
              <a:ext cx="3048120" cy="2133360"/>
              <a:chOff x="4800600" y="2209680"/>
              <a:chExt cx="3048120" cy="2133360"/>
            </a:xfrm>
          </p:grpSpPr>
          <p:sp>
            <p:nvSpPr>
              <p:cNvPr id="82" name=""/>
              <p:cNvSpPr/>
              <p:nvPr/>
            </p:nvSpPr>
            <p:spPr>
              <a:xfrm>
                <a:off x="4800600" y="2209680"/>
                <a:ext cx="3048120" cy="213336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835160" y="2285640"/>
                <a:ext cx="137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Capsul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6449760" y="1905120"/>
              <a:ext cx="884880" cy="5205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Por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990720" y="1905120"/>
            <a:ext cx="3047760" cy="2437920"/>
            <a:chOff x="990720" y="1905120"/>
            <a:chExt cx="3047760" cy="2437920"/>
          </a:xfrm>
        </p:grpSpPr>
        <p:grpSp>
          <p:nvGrpSpPr>
            <p:cNvPr id="86" name=""/>
            <p:cNvGrpSpPr/>
            <p:nvPr/>
          </p:nvGrpSpPr>
          <p:grpSpPr>
            <a:xfrm>
              <a:off x="990720" y="2209680"/>
              <a:ext cx="3047760" cy="2133360"/>
              <a:chOff x="990720" y="2209680"/>
              <a:chExt cx="3047760" cy="2133360"/>
            </a:xfrm>
          </p:grpSpPr>
          <p:sp>
            <p:nvSpPr>
              <p:cNvPr id="87" name=""/>
              <p:cNvSpPr/>
              <p:nvPr/>
            </p:nvSpPr>
            <p:spPr>
              <a:xfrm>
                <a:off x="990720" y="2209680"/>
                <a:ext cx="3047760" cy="213336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025280" y="2285640"/>
                <a:ext cx="137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Capsul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2639520" y="1905120"/>
              <a:ext cx="884880" cy="5205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Por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838080" y="3048120"/>
            <a:ext cx="1676520" cy="2133360"/>
            <a:chOff x="838080" y="3048120"/>
            <a:chExt cx="1676520" cy="2133360"/>
          </a:xfrm>
        </p:grpSpPr>
        <p:sp>
          <p:nvSpPr>
            <p:cNvPr id="91" name=""/>
            <p:cNvSpPr/>
            <p:nvPr/>
          </p:nvSpPr>
          <p:spPr>
            <a:xfrm>
              <a:off x="1219320" y="3048120"/>
              <a:ext cx="129528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5181480"/>
              <a:ext cx="129564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209680" y="2971800"/>
            <a:ext cx="3657600" cy="2209680"/>
            <a:chOff x="2209680" y="2971800"/>
            <a:chExt cx="3657600" cy="2209680"/>
          </a:xfrm>
        </p:grpSpPr>
        <p:sp>
          <p:nvSpPr>
            <p:cNvPr id="94" name=""/>
            <p:cNvSpPr/>
            <p:nvPr/>
          </p:nvSpPr>
          <p:spPr>
            <a:xfrm>
              <a:off x="5029200" y="2971800"/>
              <a:ext cx="83808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09680" y="5181480"/>
              <a:ext cx="83844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124080" y="3429000"/>
            <a:ext cx="2743200" cy="1752480"/>
            <a:chOff x="3124080" y="3429000"/>
            <a:chExt cx="2743200" cy="1752480"/>
          </a:xfrm>
        </p:grpSpPr>
        <p:sp>
          <p:nvSpPr>
            <p:cNvPr id="97" name=""/>
            <p:cNvSpPr/>
            <p:nvPr/>
          </p:nvSpPr>
          <p:spPr>
            <a:xfrm>
              <a:off x="5029200" y="3429000"/>
              <a:ext cx="83808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24080" y="5181480"/>
              <a:ext cx="83844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219320" y="3429000"/>
            <a:ext cx="3581280" cy="1752480"/>
            <a:chOff x="1219320" y="3429000"/>
            <a:chExt cx="3581280" cy="1752480"/>
          </a:xfrm>
        </p:grpSpPr>
        <p:sp>
          <p:nvSpPr>
            <p:cNvPr id="100" name=""/>
            <p:cNvSpPr/>
            <p:nvPr/>
          </p:nvSpPr>
          <p:spPr>
            <a:xfrm>
              <a:off x="1219320" y="3429000"/>
              <a:ext cx="83808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62520" y="5181480"/>
              <a:ext cx="83808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800600" y="3886200"/>
            <a:ext cx="1905120" cy="1295280"/>
            <a:chOff x="4800600" y="3886200"/>
            <a:chExt cx="1905120" cy="1295280"/>
          </a:xfrm>
        </p:grpSpPr>
        <p:sp>
          <p:nvSpPr>
            <p:cNvPr id="103" name=""/>
            <p:cNvSpPr/>
            <p:nvPr/>
          </p:nvSpPr>
          <p:spPr>
            <a:xfrm>
              <a:off x="4800600" y="5181480"/>
              <a:ext cx="167652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29200" y="3886200"/>
              <a:ext cx="167652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219320" y="3886200"/>
            <a:ext cx="7010280" cy="1295280"/>
            <a:chOff x="1219320" y="3886200"/>
            <a:chExt cx="7010280" cy="1295280"/>
          </a:xfrm>
        </p:grpSpPr>
        <p:sp>
          <p:nvSpPr>
            <p:cNvPr id="106" name=""/>
            <p:cNvSpPr/>
            <p:nvPr/>
          </p:nvSpPr>
          <p:spPr>
            <a:xfrm>
              <a:off x="1219320" y="3886200"/>
              <a:ext cx="167616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53080" y="5181480"/>
              <a:ext cx="167652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838080" y="6324480"/>
            <a:ext cx="7772400" cy="0"/>
            <a:chOff x="838080" y="6324480"/>
            <a:chExt cx="7772400" cy="0"/>
          </a:xfrm>
        </p:grpSpPr>
        <p:sp>
          <p:nvSpPr>
            <p:cNvPr id="109" name=""/>
            <p:cNvSpPr/>
            <p:nvPr/>
          </p:nvSpPr>
          <p:spPr>
            <a:xfrm>
              <a:off x="838080" y="6324480"/>
              <a:ext cx="144792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4080" y="6324480"/>
              <a:ext cx="144792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81480" y="6324480"/>
              <a:ext cx="144792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162920" y="6324480"/>
              <a:ext cx="144756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1143000" y="1905120"/>
            <a:ext cx="6934320" cy="4266720"/>
            <a:chOff x="1143000" y="1905120"/>
            <a:chExt cx="6934320" cy="4266720"/>
          </a:xfrm>
        </p:grpSpPr>
        <p:grpSp>
          <p:nvGrpSpPr>
            <p:cNvPr id="114" name=""/>
            <p:cNvGrpSpPr/>
            <p:nvPr/>
          </p:nvGrpSpPr>
          <p:grpSpPr>
            <a:xfrm>
              <a:off x="1143000" y="1905120"/>
              <a:ext cx="6934320" cy="4266720"/>
              <a:chOff x="1143000" y="1905120"/>
              <a:chExt cx="6934320" cy="4266720"/>
            </a:xfrm>
          </p:grpSpPr>
          <p:sp>
            <p:nvSpPr>
              <p:cNvPr id="115" name=""/>
              <p:cNvSpPr/>
              <p:nvPr/>
            </p:nvSpPr>
            <p:spPr>
              <a:xfrm>
                <a:off x="1143000" y="1905120"/>
                <a:ext cx="6934320" cy="42667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213920" y="2057400"/>
                <a:ext cx="137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Capsul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4495680" y="4191120"/>
              <a:ext cx="38124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143000" y="1905120"/>
            <a:ext cx="6934320" cy="4266720"/>
            <a:chOff x="1143000" y="1905120"/>
            <a:chExt cx="6934320" cy="4266720"/>
          </a:xfrm>
        </p:grpSpPr>
        <p:grpSp>
          <p:nvGrpSpPr>
            <p:cNvPr id="119" name=""/>
            <p:cNvGrpSpPr/>
            <p:nvPr/>
          </p:nvGrpSpPr>
          <p:grpSpPr>
            <a:xfrm>
              <a:off x="1143000" y="1905120"/>
              <a:ext cx="6934320" cy="4266720"/>
              <a:chOff x="1143000" y="1905120"/>
              <a:chExt cx="6934320" cy="4266720"/>
            </a:xfrm>
          </p:grpSpPr>
          <p:sp>
            <p:nvSpPr>
              <p:cNvPr id="120" name=""/>
              <p:cNvSpPr/>
              <p:nvPr/>
            </p:nvSpPr>
            <p:spPr>
              <a:xfrm>
                <a:off x="1143000" y="1905120"/>
                <a:ext cx="6934320" cy="426672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203480" y="2057400"/>
                <a:ext cx="194040" cy="46620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4495680" y="4191120"/>
              <a:ext cx="381240" cy="0"/>
            </a:xfrm>
            <a:prstGeom prst="line">
              <a:avLst/>
            </a:prstGeom>
            <a:ln w="1015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ahoma"/>
              </a:rPr>
              <a:t>Background - Connex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23880" y="3124080"/>
            <a:ext cx="2991240" cy="2133720"/>
            <a:chOff x="1523880" y="3124080"/>
            <a:chExt cx="2991240" cy="2133720"/>
          </a:xfrm>
        </p:grpSpPr>
        <p:grpSp>
          <p:nvGrpSpPr>
            <p:cNvPr id="125" name=""/>
            <p:cNvGrpSpPr/>
            <p:nvPr/>
          </p:nvGrpSpPr>
          <p:grpSpPr>
            <a:xfrm>
              <a:off x="1523880" y="3124080"/>
              <a:ext cx="2590920" cy="2133720"/>
              <a:chOff x="1523880" y="3124080"/>
              <a:chExt cx="2590920" cy="2133720"/>
            </a:xfrm>
          </p:grpSpPr>
          <p:sp>
            <p:nvSpPr>
              <p:cNvPr id="126" name=""/>
              <p:cNvSpPr/>
              <p:nvPr/>
            </p:nvSpPr>
            <p:spPr>
              <a:xfrm>
                <a:off x="1523880" y="3124080"/>
                <a:ext cx="2590920" cy="21337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553760" y="3200400"/>
                <a:ext cx="137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Capsul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3630240" y="3886200"/>
              <a:ext cx="884880" cy="5205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Por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849560" y="3124080"/>
            <a:ext cx="2911680" cy="2133720"/>
            <a:chOff x="4849560" y="3124080"/>
            <a:chExt cx="2911680" cy="2133720"/>
          </a:xfrm>
        </p:grpSpPr>
        <p:grpSp>
          <p:nvGrpSpPr>
            <p:cNvPr id="130" name=""/>
            <p:cNvGrpSpPr/>
            <p:nvPr/>
          </p:nvGrpSpPr>
          <p:grpSpPr>
            <a:xfrm>
              <a:off x="5246640" y="3124080"/>
              <a:ext cx="2514600" cy="2133720"/>
              <a:chOff x="5246640" y="3124080"/>
              <a:chExt cx="2514600" cy="2133720"/>
            </a:xfrm>
          </p:grpSpPr>
          <p:sp>
            <p:nvSpPr>
              <p:cNvPr id="131" name=""/>
              <p:cNvSpPr/>
              <p:nvPr/>
            </p:nvSpPr>
            <p:spPr>
              <a:xfrm>
                <a:off x="5246640" y="3124080"/>
                <a:ext cx="2514600" cy="21337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276520" y="3200400"/>
                <a:ext cx="137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Capsul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849560" y="3886200"/>
              <a:ext cx="884880" cy="5205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Por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676520" y="4495680"/>
            <a:ext cx="5961600" cy="685800"/>
            <a:chOff x="1676520" y="4495680"/>
            <a:chExt cx="5961600" cy="685800"/>
          </a:xfrm>
        </p:grpSpPr>
        <p:grpSp>
          <p:nvGrpSpPr>
            <p:cNvPr id="135" name=""/>
            <p:cNvGrpSpPr/>
            <p:nvPr/>
          </p:nvGrpSpPr>
          <p:grpSpPr>
            <a:xfrm>
              <a:off x="1676520" y="4495680"/>
              <a:ext cx="1313280" cy="685800"/>
              <a:chOff x="1676520" y="4495680"/>
              <a:chExt cx="1313280" cy="68580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1676520" y="4495680"/>
                <a:ext cx="990360" cy="685800"/>
                <a:chOff x="1676520" y="4495680"/>
                <a:chExt cx="990360" cy="68580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1676520" y="4495680"/>
                  <a:ext cx="990360" cy="68580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707480" y="4520880"/>
                  <a:ext cx="767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ahoma"/>
                    </a:rPr>
                    <a:t>DCS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>
                <a:off x="2505960" y="4724280"/>
                <a:ext cx="483840" cy="27648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ahoma"/>
                  </a:rPr>
                  <a:t>Port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6324480" y="4495680"/>
              <a:ext cx="1313640" cy="685800"/>
              <a:chOff x="6324480" y="4495680"/>
              <a:chExt cx="1313640" cy="68580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6324480" y="4495680"/>
                <a:ext cx="990720" cy="685800"/>
                <a:chOff x="6324480" y="4495680"/>
                <a:chExt cx="990720" cy="68580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324480" y="4495680"/>
                  <a:ext cx="990720" cy="68580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355800" y="4520880"/>
                  <a:ext cx="767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ahoma"/>
                    </a:rPr>
                    <a:t>DCS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7154280" y="4724280"/>
                <a:ext cx="483840" cy="27648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ahoma"/>
                  </a:rPr>
                  <a:t>Port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133720" y="5181480"/>
            <a:ext cx="4724280" cy="762120"/>
            <a:chOff x="2133720" y="5181480"/>
            <a:chExt cx="4724280" cy="762120"/>
          </a:xfrm>
        </p:grpSpPr>
        <p:sp>
          <p:nvSpPr>
            <p:cNvPr id="146" name=""/>
            <p:cNvSpPr/>
            <p:nvPr/>
          </p:nvSpPr>
          <p:spPr>
            <a:xfrm>
              <a:off x="2133720" y="5181480"/>
              <a:ext cx="0" cy="762120"/>
            </a:xfrm>
            <a:prstGeom prst="line">
              <a:avLst/>
            </a:prstGeom>
            <a:ln cap="rnd" w="10152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133720" y="5791320"/>
              <a:ext cx="4572000" cy="0"/>
            </a:xfrm>
            <a:prstGeom prst="line">
              <a:avLst/>
            </a:prstGeom>
            <a:ln cap="rnd" w="10152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8000" y="5181480"/>
              <a:ext cx="0" cy="762120"/>
            </a:xfrm>
            <a:prstGeom prst="line">
              <a:avLst/>
            </a:prstGeom>
            <a:ln cap="rnd" w="10152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ackground - Targ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800440" y="2170080"/>
          <a:ext cx="3657600" cy="28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0440" y="2170080"/>
                    <a:ext cx="3657600" cy="28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utting it all togeth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514600" y="2209680"/>
            <a:ext cx="2133720" cy="3690360"/>
            <a:chOff x="2514600" y="2209680"/>
            <a:chExt cx="2133720" cy="3690360"/>
          </a:xfrm>
        </p:grpSpPr>
        <p:sp>
          <p:nvSpPr>
            <p:cNvPr id="154" name=""/>
            <p:cNvSpPr/>
            <p:nvPr/>
          </p:nvSpPr>
          <p:spPr>
            <a:xfrm>
              <a:off x="2514600" y="2209680"/>
              <a:ext cx="2133720" cy="5806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Rational Rose RealTi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14600" y="3429000"/>
              <a:ext cx="2133720" cy="3373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nex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14600" y="2819520"/>
              <a:ext cx="2133720" cy="5806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Target Services Librar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14600" y="3809880"/>
              <a:ext cx="2133720" cy="580680"/>
            </a:xfrm>
            <a:prstGeom prst="rect">
              <a:avLst/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eMbedded Visual C++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14600" y="4800600"/>
              <a:ext cx="2133720" cy="337320"/>
            </a:xfrm>
            <a:prstGeom prst="rect">
              <a:avLst/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Windows 20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14600" y="4419720"/>
              <a:ext cx="2133720" cy="337320"/>
            </a:xfrm>
            <a:prstGeom prst="rect">
              <a:avLst/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ActiveSyn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14600" y="5181480"/>
              <a:ext cx="2133720" cy="337320"/>
            </a:xfrm>
            <a:prstGeom prst="rect">
              <a:avLst/>
            </a:prstGeom>
            <a:solidFill>
              <a:srgbClr val="99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C Works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14600" y="5562720"/>
              <a:ext cx="2133720" cy="337320"/>
            </a:xfrm>
            <a:prstGeom prst="rect">
              <a:avLst/>
            </a:prstGeom>
            <a:solidFill>
              <a:srgbClr val="99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C Noteboo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943600" y="2286000"/>
            <a:ext cx="1828800" cy="946800"/>
            <a:chOff x="5943600" y="2286000"/>
            <a:chExt cx="1828800" cy="946800"/>
          </a:xfrm>
        </p:grpSpPr>
        <p:sp>
          <p:nvSpPr>
            <p:cNvPr id="163" name=""/>
            <p:cNvSpPr/>
            <p:nvPr/>
          </p:nvSpPr>
          <p:spPr>
            <a:xfrm>
              <a:off x="5943600" y="2286000"/>
              <a:ext cx="1828800" cy="337320"/>
            </a:xfrm>
            <a:prstGeom prst="rect">
              <a:avLst/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Windows CE 3.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43600" y="2895480"/>
              <a:ext cx="1828800" cy="337320"/>
            </a:xfrm>
            <a:prstGeom prst="rect">
              <a:avLst/>
            </a:prstGeom>
            <a:solidFill>
              <a:srgbClr val="99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Tahoma"/>
                </a:rPr>
                <a:t>iPaq Pocket P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4876920" y="2819520"/>
            <a:ext cx="914400" cy="0"/>
          </a:xfrm>
          <a:prstGeom prst="line">
            <a:avLst/>
          </a:prstGeom>
          <a:ln w="254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016640" y="2514600"/>
            <a:ext cx="1421640" cy="3048120"/>
            <a:chOff x="1016640" y="2514600"/>
            <a:chExt cx="1421640" cy="3048120"/>
          </a:xfrm>
        </p:grpSpPr>
        <p:sp>
          <p:nvSpPr>
            <p:cNvPr id="167" name=""/>
            <p:cNvSpPr/>
            <p:nvPr/>
          </p:nvSpPr>
          <p:spPr>
            <a:xfrm>
              <a:off x="1905120" y="2514600"/>
              <a:ext cx="0" cy="3048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05120" y="2514600"/>
              <a:ext cx="5331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05120" y="3124080"/>
              <a:ext cx="5331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05120" y="3657600"/>
              <a:ext cx="5331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05120" y="4114800"/>
              <a:ext cx="5331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05120" y="4648320"/>
              <a:ext cx="5331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05120" y="5029200"/>
              <a:ext cx="5331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05120" y="5562720"/>
              <a:ext cx="5331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16640" y="3276720"/>
              <a:ext cx="7095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00"/>
                  </a:solidFill>
                  <a:latin typeface="Tahoma"/>
                </a:rPr>
                <a:t>?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724280" y="3352680"/>
            <a:ext cx="2133720" cy="2210040"/>
            <a:chOff x="4724280" y="3352680"/>
            <a:chExt cx="2133720" cy="2210040"/>
          </a:xfrm>
        </p:grpSpPr>
        <p:sp>
          <p:nvSpPr>
            <p:cNvPr id="177" name=""/>
            <p:cNvSpPr/>
            <p:nvPr/>
          </p:nvSpPr>
          <p:spPr>
            <a:xfrm>
              <a:off x="4724280" y="4114800"/>
              <a:ext cx="5335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24280" y="4572000"/>
              <a:ext cx="5335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24280" y="5029200"/>
              <a:ext cx="5335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24280" y="5562720"/>
              <a:ext cx="5335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257800" y="4114800"/>
              <a:ext cx="0" cy="14479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57800" y="4724280"/>
              <a:ext cx="16002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858000" y="3352680"/>
              <a:ext cx="0" cy="1371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ackground – Target Commun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0" y="2206800"/>
          <a:ext cx="2857680" cy="42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206800"/>
                    <a:ext cx="2857680" cy="42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292400" y="2206800"/>
          <a:ext cx="3165480" cy="21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2400" y="2206800"/>
                    <a:ext cx="3165480" cy="21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292400" y="4422600"/>
          <a:ext cx="3165480" cy="209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2400" y="4422600"/>
                    <a:ext cx="3165480" cy="20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4:41:44Z</dcterms:created>
  <dc:creator>Paul McIntosh</dc:creator>
  <dc:description/>
  <dc:language>en-US</dc:language>
  <cp:lastModifiedBy>Paul McIntosh</cp:lastModifiedBy>
  <dcterms:modified xsi:type="dcterms:W3CDTF">2001-10-26T00:35:35Z</dcterms:modified>
  <cp:revision>42</cp:revision>
  <dc:subject/>
  <dc:title>PowerPoint Presentation</dc:title>
</cp:coreProperties>
</file>