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A69-20B6-406D-86F1-90218FAA5399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IPAQ 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Operating System   Windows® Powered Pocket 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Processor   206 MHz Intel StrongARM 32 bit RISC Proces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Display Type   Color reflective thin film transistor (TFT) LC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Touch Screen   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Resolution   240 x 3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Pixel Pitch   .24 m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Viewable Image Size   2.26 x 3.02 in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RAM   32 M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ROM   16 M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Input Method   Handwriting recognition, soft keyboard, voice record, i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Communications Port   Interface with USB / Serial connectivity that connects via serial or USB c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Card Slot   optional jac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Infrared Port   Yes (115 Kbp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Speaker &amp; Microphone   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Audio Out Jack   Yes (3.5 mm Stere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Battery   950 mAh Lithium Poly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Dimensions   5.11" x 3.28" x .62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Weight   6.3 oz. including batt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Warranty   1-year limi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664-44AA-4C10-90C1-99776F47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896-5027-4981-8397-DAFB461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9E4-EECF-442C-9136-6C139EA6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0C3-E12A-487E-B747-7C71A526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644-8E78-4986-BB27-74C8463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9D3-698D-4EDC-A808-39319BA1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54A-DC95-4ED0-8133-63D67C45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576-8498-457F-AE0E-607D7B7C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983-3849-4652-B539-689E5CC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333-AD98-4D24-92DD-B1381F04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43A-FC4F-4274-90A9-55324A85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C8E-33BB-41C1-9E81-BC1A7F9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ED0C-B78B-4CA2-87A8-1B501F9D9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Developing Infrared Distributed Applications on the Windows CE 3.0 Platform Using Rational Rose RealTime</a:t>
            </a:r>
            <a:r>
              <a:rPr b="0" lang="en-AU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ter of Science in Internetwo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934 Project B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McInto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search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514600" y="2209680"/>
            <a:ext cx="2133720" cy="3690360"/>
            <a:chOff x="2514600" y="2209680"/>
            <a:chExt cx="2133720" cy="3690360"/>
          </a:xfrm>
        </p:grpSpPr>
        <p:sp>
          <p:nvSpPr>
            <p:cNvPr id="192" name=""/>
            <p:cNvSpPr/>
            <p:nvPr/>
          </p:nvSpPr>
          <p:spPr>
            <a:xfrm>
              <a:off x="2514600" y="220968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Rational Rose Real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4600" y="3429000"/>
              <a:ext cx="2133720" cy="337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nex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281952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Target Services Libra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3809880"/>
              <a:ext cx="2133720" cy="580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eMbedded Visual C+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480060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4600" y="441972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ctive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14600" y="518148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Works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556272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Notebo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181480" y="2209680"/>
            <a:ext cx="1828800" cy="946800"/>
            <a:chOff x="5181480" y="2209680"/>
            <a:chExt cx="1828800" cy="946800"/>
          </a:xfrm>
        </p:grpSpPr>
        <p:sp>
          <p:nvSpPr>
            <p:cNvPr id="201" name=""/>
            <p:cNvSpPr/>
            <p:nvPr/>
          </p:nvSpPr>
          <p:spPr>
            <a:xfrm>
              <a:off x="5181480" y="2209680"/>
              <a:ext cx="182880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CE 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81480" y="2819160"/>
              <a:ext cx="182880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Tahoma"/>
                </a:rPr>
                <a:t>iPaq Pocket 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0880" y="2209680"/>
            <a:ext cx="1447920" cy="1359000"/>
            <a:chOff x="380880" y="2209680"/>
            <a:chExt cx="1447920" cy="135900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2209680"/>
              <a:ext cx="609120" cy="914400"/>
              <a:chOff x="762120" y="2209680"/>
              <a:chExt cx="609120" cy="914400"/>
            </a:xfrm>
          </p:grpSpPr>
          <p:sp>
            <p:nvSpPr>
              <p:cNvPr id="205" name=""/>
              <p:cNvSpPr/>
              <p:nvPr/>
            </p:nvSpPr>
            <p:spPr>
              <a:xfrm>
                <a:off x="914400" y="22096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5146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8080" y="25909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62120" y="28195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66680" y="28195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808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esearc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57800" y="4724280"/>
            <a:ext cx="1447920" cy="1359000"/>
            <a:chOff x="5257800" y="4724280"/>
            <a:chExt cx="1447920" cy="1359000"/>
          </a:xfrm>
        </p:grpSpPr>
        <p:grpSp>
          <p:nvGrpSpPr>
            <p:cNvPr id="212" name=""/>
            <p:cNvGrpSpPr/>
            <p:nvPr/>
          </p:nvGrpSpPr>
          <p:grpSpPr>
            <a:xfrm>
              <a:off x="5639040" y="4724280"/>
              <a:ext cx="609120" cy="914400"/>
              <a:chOff x="5639040" y="4724280"/>
              <a:chExt cx="609120" cy="914400"/>
            </a:xfrm>
          </p:grpSpPr>
          <p:sp>
            <p:nvSpPr>
              <p:cNvPr id="213" name=""/>
              <p:cNvSpPr/>
              <p:nvPr/>
            </p:nvSpPr>
            <p:spPr>
              <a:xfrm>
                <a:off x="5791320" y="47242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43600" y="50292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15000" y="51055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5639040" y="5334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43600" y="5334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257800" y="5715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icro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172200" y="4038480"/>
            <a:ext cx="1447920" cy="1359000"/>
            <a:chOff x="6172200" y="4038480"/>
            <a:chExt cx="1447920" cy="1359000"/>
          </a:xfrm>
        </p:grpSpPr>
        <p:grpSp>
          <p:nvGrpSpPr>
            <p:cNvPr id="220" name=""/>
            <p:cNvGrpSpPr/>
            <p:nvPr/>
          </p:nvGrpSpPr>
          <p:grpSpPr>
            <a:xfrm>
              <a:off x="6553440" y="4038480"/>
              <a:ext cx="609120" cy="914400"/>
              <a:chOff x="6553440" y="4038480"/>
              <a:chExt cx="609120" cy="914400"/>
            </a:xfrm>
          </p:grpSpPr>
          <p:sp>
            <p:nvSpPr>
              <p:cNvPr id="221" name=""/>
              <p:cNvSpPr/>
              <p:nvPr/>
            </p:nvSpPr>
            <p:spPr>
              <a:xfrm>
                <a:off x="6705720" y="40384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58000" y="43434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29400" y="44197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553440" y="46483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858000" y="46483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172200" y="5029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at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15200" y="3581280"/>
            <a:ext cx="1447920" cy="1359000"/>
            <a:chOff x="7315200" y="3581280"/>
            <a:chExt cx="1447920" cy="1359000"/>
          </a:xfrm>
        </p:grpSpPr>
        <p:grpSp>
          <p:nvGrpSpPr>
            <p:cNvPr id="228" name=""/>
            <p:cNvGrpSpPr/>
            <p:nvPr/>
          </p:nvGrpSpPr>
          <p:grpSpPr>
            <a:xfrm>
              <a:off x="7696440" y="3581280"/>
              <a:ext cx="609120" cy="914400"/>
              <a:chOff x="7696440" y="3581280"/>
              <a:chExt cx="60912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7848720" y="35812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01000" y="38862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72400" y="39625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7696440" y="4191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01000" y="4191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7315200" y="4572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mpa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 flipV="1">
            <a:off x="6019920" y="2895480"/>
            <a:ext cx="1676160" cy="914400"/>
          </a:xfrm>
          <a:prstGeom prst="line">
            <a:avLst/>
          </a:prstGeom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62160" y="2590560"/>
            <a:ext cx="2210040" cy="2438640"/>
            <a:chOff x="3962160" y="2590560"/>
            <a:chExt cx="2210040" cy="2438640"/>
          </a:xfrm>
        </p:grpSpPr>
        <p:sp>
          <p:nvSpPr>
            <p:cNvPr id="237" name=""/>
            <p:cNvSpPr/>
            <p:nvPr/>
          </p:nvSpPr>
          <p:spPr>
            <a:xfrm flipH="1" flipV="1">
              <a:off x="3962160" y="4190760"/>
              <a:ext cx="1600200" cy="68580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266720" y="4648320"/>
              <a:ext cx="1295640" cy="30456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572000" y="4952880"/>
              <a:ext cx="990720" cy="7632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943600" y="2590560"/>
              <a:ext cx="228600" cy="205740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523880" y="2743200"/>
            <a:ext cx="8384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80880" y="3809880"/>
            <a:ext cx="1981080" cy="1359000"/>
            <a:chOff x="380880" y="3809880"/>
            <a:chExt cx="1981080" cy="1359000"/>
          </a:xfrm>
        </p:grpSpPr>
        <p:grpSp>
          <p:nvGrpSpPr>
            <p:cNvPr id="243" name=""/>
            <p:cNvGrpSpPr/>
            <p:nvPr/>
          </p:nvGrpSpPr>
          <p:grpSpPr>
            <a:xfrm>
              <a:off x="380880" y="3809880"/>
              <a:ext cx="1447920" cy="1359000"/>
              <a:chOff x="380880" y="3809880"/>
              <a:chExt cx="1447920" cy="13590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762120" y="3809880"/>
                <a:ext cx="609120" cy="914400"/>
                <a:chOff x="762120" y="3809880"/>
                <a:chExt cx="609120" cy="914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914400" y="3809880"/>
                  <a:ext cx="304200" cy="304920"/>
                </a:xfrm>
                <a:prstGeom prst="ellipse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66680" y="4114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38080" y="4191120"/>
                  <a:ext cx="4568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762120" y="44197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66680" y="44197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80880" y="480060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nd Us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H="1">
              <a:off x="1523520" y="4114800"/>
              <a:ext cx="83844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733920" y="2590560"/>
            <a:ext cx="2819160" cy="1752480"/>
            <a:chOff x="3733920" y="2590560"/>
            <a:chExt cx="2819160" cy="1752480"/>
          </a:xfrm>
        </p:grpSpPr>
        <p:sp>
          <p:nvSpPr>
            <p:cNvPr id="253" name=""/>
            <p:cNvSpPr/>
            <p:nvPr/>
          </p:nvSpPr>
          <p:spPr>
            <a:xfrm flipH="1" flipV="1">
              <a:off x="3809880" y="2971800"/>
              <a:ext cx="2743200" cy="129528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809520" y="3657240"/>
              <a:ext cx="2667240" cy="68580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733920" y="2590560"/>
              <a:ext cx="2743200" cy="152388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95280" y="1754280"/>
            <a:ext cx="7358040" cy="4771800"/>
          </a:xfrm>
          <a:custGeom>
            <a:avLst/>
            <a:gdLst/>
            <a:ahLst/>
            <a:rect l="l" t="t" r="r" b="b"/>
            <a:pathLst>
              <a:path w="4635" h="3006">
                <a:moveTo>
                  <a:pt x="3148" y="23"/>
                </a:moveTo>
                <a:cubicBezTo>
                  <a:pt x="2537" y="54"/>
                  <a:pt x="2020" y="65"/>
                  <a:pt x="1361" y="71"/>
                </a:cubicBezTo>
                <a:cubicBezTo>
                  <a:pt x="1345" y="75"/>
                  <a:pt x="1329" y="77"/>
                  <a:pt x="1314" y="82"/>
                </a:cubicBezTo>
                <a:cubicBezTo>
                  <a:pt x="1290" y="89"/>
                  <a:pt x="1244" y="106"/>
                  <a:pt x="1244" y="106"/>
                </a:cubicBezTo>
                <a:cubicBezTo>
                  <a:pt x="1211" y="155"/>
                  <a:pt x="1163" y="179"/>
                  <a:pt x="1115" y="212"/>
                </a:cubicBezTo>
                <a:cubicBezTo>
                  <a:pt x="1088" y="231"/>
                  <a:pt x="1068" y="259"/>
                  <a:pt x="1044" y="282"/>
                </a:cubicBezTo>
                <a:cubicBezTo>
                  <a:pt x="1002" y="323"/>
                  <a:pt x="993" y="376"/>
                  <a:pt x="962" y="423"/>
                </a:cubicBezTo>
                <a:cubicBezTo>
                  <a:pt x="944" y="493"/>
                  <a:pt x="933" y="565"/>
                  <a:pt x="915" y="635"/>
                </a:cubicBezTo>
                <a:cubicBezTo>
                  <a:pt x="911" y="670"/>
                  <a:pt x="905" y="706"/>
                  <a:pt x="903" y="741"/>
                </a:cubicBezTo>
                <a:cubicBezTo>
                  <a:pt x="897" y="819"/>
                  <a:pt x="897" y="898"/>
                  <a:pt x="891" y="976"/>
                </a:cubicBezTo>
                <a:cubicBezTo>
                  <a:pt x="887" y="1030"/>
                  <a:pt x="861" y="1089"/>
                  <a:pt x="844" y="1140"/>
                </a:cubicBezTo>
                <a:cubicBezTo>
                  <a:pt x="836" y="1163"/>
                  <a:pt x="738" y="1187"/>
                  <a:pt x="738" y="1187"/>
                </a:cubicBezTo>
                <a:cubicBezTo>
                  <a:pt x="619" y="1226"/>
                  <a:pt x="487" y="1195"/>
                  <a:pt x="362" y="1199"/>
                </a:cubicBezTo>
                <a:cubicBezTo>
                  <a:pt x="318" y="1214"/>
                  <a:pt x="294" y="1244"/>
                  <a:pt x="256" y="1270"/>
                </a:cubicBezTo>
                <a:cubicBezTo>
                  <a:pt x="216" y="1331"/>
                  <a:pt x="168" y="1385"/>
                  <a:pt x="127" y="1446"/>
                </a:cubicBezTo>
                <a:cubicBezTo>
                  <a:pt x="103" y="1481"/>
                  <a:pt x="92" y="1517"/>
                  <a:pt x="68" y="1552"/>
                </a:cubicBezTo>
                <a:cubicBezTo>
                  <a:pt x="60" y="1575"/>
                  <a:pt x="53" y="1599"/>
                  <a:pt x="45" y="1622"/>
                </a:cubicBezTo>
                <a:cubicBezTo>
                  <a:pt x="41" y="1634"/>
                  <a:pt x="33" y="1657"/>
                  <a:pt x="33" y="1657"/>
                </a:cubicBezTo>
                <a:cubicBezTo>
                  <a:pt x="29" y="1696"/>
                  <a:pt x="21" y="1735"/>
                  <a:pt x="21" y="1775"/>
                </a:cubicBezTo>
                <a:cubicBezTo>
                  <a:pt x="21" y="1907"/>
                  <a:pt x="0" y="2331"/>
                  <a:pt x="174" y="2445"/>
                </a:cubicBezTo>
                <a:cubicBezTo>
                  <a:pt x="191" y="2469"/>
                  <a:pt x="270" y="2587"/>
                  <a:pt x="303" y="2598"/>
                </a:cubicBezTo>
                <a:cubicBezTo>
                  <a:pt x="366" y="2619"/>
                  <a:pt x="328" y="2603"/>
                  <a:pt x="409" y="2657"/>
                </a:cubicBezTo>
                <a:cubicBezTo>
                  <a:pt x="440" y="2678"/>
                  <a:pt x="495" y="2693"/>
                  <a:pt x="527" y="2704"/>
                </a:cubicBezTo>
                <a:cubicBezTo>
                  <a:pt x="539" y="2708"/>
                  <a:pt x="562" y="2715"/>
                  <a:pt x="562" y="2715"/>
                </a:cubicBezTo>
                <a:cubicBezTo>
                  <a:pt x="653" y="2778"/>
                  <a:pt x="543" y="2706"/>
                  <a:pt x="633" y="2751"/>
                </a:cubicBezTo>
                <a:cubicBezTo>
                  <a:pt x="705" y="2787"/>
                  <a:pt x="762" y="2847"/>
                  <a:pt x="844" y="2868"/>
                </a:cubicBezTo>
                <a:cubicBezTo>
                  <a:pt x="905" y="2884"/>
                  <a:pt x="929" y="2882"/>
                  <a:pt x="997" y="2892"/>
                </a:cubicBezTo>
                <a:cubicBezTo>
                  <a:pt x="1017" y="2895"/>
                  <a:pt x="1037" y="2898"/>
                  <a:pt x="1056" y="2903"/>
                </a:cubicBezTo>
                <a:cubicBezTo>
                  <a:pt x="1068" y="2906"/>
                  <a:pt x="1079" y="2913"/>
                  <a:pt x="1091" y="2915"/>
                </a:cubicBezTo>
                <a:cubicBezTo>
                  <a:pt x="1278" y="2947"/>
                  <a:pt x="1468" y="2954"/>
                  <a:pt x="1655" y="2986"/>
                </a:cubicBezTo>
                <a:cubicBezTo>
                  <a:pt x="2071" y="2978"/>
                  <a:pt x="2108" y="3006"/>
                  <a:pt x="2372" y="2939"/>
                </a:cubicBezTo>
                <a:cubicBezTo>
                  <a:pt x="2452" y="2886"/>
                  <a:pt x="2552" y="2872"/>
                  <a:pt x="2643" y="2845"/>
                </a:cubicBezTo>
                <a:cubicBezTo>
                  <a:pt x="2696" y="2829"/>
                  <a:pt x="2733" y="2803"/>
                  <a:pt x="2784" y="2786"/>
                </a:cubicBezTo>
                <a:cubicBezTo>
                  <a:pt x="2792" y="2774"/>
                  <a:pt x="2798" y="2762"/>
                  <a:pt x="2807" y="2751"/>
                </a:cubicBezTo>
                <a:cubicBezTo>
                  <a:pt x="2818" y="2738"/>
                  <a:pt x="2834" y="2729"/>
                  <a:pt x="2843" y="2715"/>
                </a:cubicBezTo>
                <a:cubicBezTo>
                  <a:pt x="2850" y="2705"/>
                  <a:pt x="2849" y="2691"/>
                  <a:pt x="2854" y="2680"/>
                </a:cubicBezTo>
                <a:cubicBezTo>
                  <a:pt x="2860" y="2667"/>
                  <a:pt x="2872" y="2658"/>
                  <a:pt x="2878" y="2645"/>
                </a:cubicBezTo>
                <a:cubicBezTo>
                  <a:pt x="2902" y="2597"/>
                  <a:pt x="2906" y="2549"/>
                  <a:pt x="2937" y="2504"/>
                </a:cubicBezTo>
                <a:cubicBezTo>
                  <a:pt x="2959" y="2436"/>
                  <a:pt x="2977" y="2328"/>
                  <a:pt x="3007" y="2269"/>
                </a:cubicBezTo>
                <a:cubicBezTo>
                  <a:pt x="3074" y="2137"/>
                  <a:pt x="3170" y="2037"/>
                  <a:pt x="3278" y="1940"/>
                </a:cubicBezTo>
                <a:cubicBezTo>
                  <a:pt x="3328" y="1894"/>
                  <a:pt x="3364" y="1847"/>
                  <a:pt x="3419" y="1810"/>
                </a:cubicBezTo>
                <a:cubicBezTo>
                  <a:pt x="3464" y="1741"/>
                  <a:pt x="3416" y="1805"/>
                  <a:pt x="3477" y="1751"/>
                </a:cubicBezTo>
                <a:cubicBezTo>
                  <a:pt x="3534" y="1701"/>
                  <a:pt x="3549" y="1668"/>
                  <a:pt x="3618" y="1646"/>
                </a:cubicBezTo>
                <a:cubicBezTo>
                  <a:pt x="3669" y="1595"/>
                  <a:pt x="3727" y="1551"/>
                  <a:pt x="3795" y="1528"/>
                </a:cubicBezTo>
                <a:cubicBezTo>
                  <a:pt x="3830" y="1493"/>
                  <a:pt x="3853" y="1473"/>
                  <a:pt x="3901" y="1458"/>
                </a:cubicBezTo>
                <a:cubicBezTo>
                  <a:pt x="3943" y="1430"/>
                  <a:pt x="3994" y="1379"/>
                  <a:pt x="4042" y="1364"/>
                </a:cubicBezTo>
                <a:cubicBezTo>
                  <a:pt x="4063" y="1342"/>
                  <a:pt x="4077" y="1313"/>
                  <a:pt x="4100" y="1293"/>
                </a:cubicBezTo>
                <a:cubicBezTo>
                  <a:pt x="4121" y="1274"/>
                  <a:pt x="4147" y="1262"/>
                  <a:pt x="4171" y="1246"/>
                </a:cubicBezTo>
                <a:cubicBezTo>
                  <a:pt x="4189" y="1234"/>
                  <a:pt x="4201" y="1213"/>
                  <a:pt x="4218" y="1199"/>
                </a:cubicBezTo>
                <a:cubicBezTo>
                  <a:pt x="4266" y="1160"/>
                  <a:pt x="4327" y="1137"/>
                  <a:pt x="4371" y="1093"/>
                </a:cubicBezTo>
                <a:cubicBezTo>
                  <a:pt x="4416" y="1048"/>
                  <a:pt x="4392" y="1067"/>
                  <a:pt x="4441" y="1034"/>
                </a:cubicBezTo>
                <a:cubicBezTo>
                  <a:pt x="4475" y="984"/>
                  <a:pt x="4513" y="944"/>
                  <a:pt x="4547" y="893"/>
                </a:cubicBezTo>
                <a:cubicBezTo>
                  <a:pt x="4566" y="864"/>
                  <a:pt x="4572" y="811"/>
                  <a:pt x="4582" y="776"/>
                </a:cubicBezTo>
                <a:cubicBezTo>
                  <a:pt x="4619" y="652"/>
                  <a:pt x="4597" y="759"/>
                  <a:pt x="4618" y="635"/>
                </a:cubicBezTo>
                <a:cubicBezTo>
                  <a:pt x="4611" y="523"/>
                  <a:pt x="4635" y="304"/>
                  <a:pt x="4488" y="259"/>
                </a:cubicBezTo>
                <a:cubicBezTo>
                  <a:pt x="4404" y="146"/>
                  <a:pt x="4498" y="253"/>
                  <a:pt x="4418" y="200"/>
                </a:cubicBezTo>
                <a:cubicBezTo>
                  <a:pt x="4404" y="191"/>
                  <a:pt x="4396" y="175"/>
                  <a:pt x="4383" y="165"/>
                </a:cubicBezTo>
                <a:cubicBezTo>
                  <a:pt x="4361" y="148"/>
                  <a:pt x="4336" y="134"/>
                  <a:pt x="4312" y="118"/>
                </a:cubicBezTo>
                <a:cubicBezTo>
                  <a:pt x="4281" y="97"/>
                  <a:pt x="4241" y="94"/>
                  <a:pt x="4206" y="82"/>
                </a:cubicBezTo>
                <a:cubicBezTo>
                  <a:pt x="4106" y="49"/>
                  <a:pt x="4004" y="21"/>
                  <a:pt x="3901" y="0"/>
                </a:cubicBezTo>
                <a:cubicBezTo>
                  <a:pt x="3647" y="6"/>
                  <a:pt x="3400" y="23"/>
                  <a:pt x="3148" y="23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c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514600" y="2209680"/>
            <a:ext cx="2133720" cy="3690360"/>
            <a:chOff x="2514600" y="2209680"/>
            <a:chExt cx="2133720" cy="3690360"/>
          </a:xfrm>
        </p:grpSpPr>
        <p:sp>
          <p:nvSpPr>
            <p:cNvPr id="259" name=""/>
            <p:cNvSpPr/>
            <p:nvPr/>
          </p:nvSpPr>
          <p:spPr>
            <a:xfrm>
              <a:off x="2514600" y="220968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Rational Rose Real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4600" y="3429000"/>
              <a:ext cx="2133720" cy="337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nex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14600" y="281952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Target Services Libra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809880"/>
              <a:ext cx="2133720" cy="580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eMbedded Visual C+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14600" y="480060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441972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ctive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14600" y="518148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Works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556272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Notebo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181480" y="2209680"/>
            <a:ext cx="1828800" cy="946800"/>
            <a:chOff x="5181480" y="2209680"/>
            <a:chExt cx="1828800" cy="946800"/>
          </a:xfrm>
        </p:grpSpPr>
        <p:sp>
          <p:nvSpPr>
            <p:cNvPr id="268" name=""/>
            <p:cNvSpPr/>
            <p:nvPr/>
          </p:nvSpPr>
          <p:spPr>
            <a:xfrm>
              <a:off x="5181480" y="2209680"/>
              <a:ext cx="182880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CE 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1480" y="2819160"/>
              <a:ext cx="182880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Tahoma"/>
                </a:rPr>
                <a:t>iPaq Pocket 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880" y="2209680"/>
            <a:ext cx="1447920" cy="1359000"/>
            <a:chOff x="380880" y="2209680"/>
            <a:chExt cx="1447920" cy="1359000"/>
          </a:xfrm>
        </p:grpSpPr>
        <p:grpSp>
          <p:nvGrpSpPr>
            <p:cNvPr id="271" name=""/>
            <p:cNvGrpSpPr/>
            <p:nvPr/>
          </p:nvGrpSpPr>
          <p:grpSpPr>
            <a:xfrm>
              <a:off x="762120" y="2209680"/>
              <a:ext cx="609120" cy="914400"/>
              <a:chOff x="762120" y="2209680"/>
              <a:chExt cx="609120" cy="914400"/>
            </a:xfrm>
          </p:grpSpPr>
          <p:sp>
            <p:nvSpPr>
              <p:cNvPr id="272" name=""/>
              <p:cNvSpPr/>
              <p:nvPr/>
            </p:nvSpPr>
            <p:spPr>
              <a:xfrm>
                <a:off x="914400" y="22096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66680" y="25146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38080" y="25909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2120" y="28195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6680" y="28195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808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esearc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257800" y="4724280"/>
            <a:ext cx="1447920" cy="1359000"/>
            <a:chOff x="5257800" y="4724280"/>
            <a:chExt cx="1447920" cy="1359000"/>
          </a:xfrm>
        </p:grpSpPr>
        <p:grpSp>
          <p:nvGrpSpPr>
            <p:cNvPr id="279" name=""/>
            <p:cNvGrpSpPr/>
            <p:nvPr/>
          </p:nvGrpSpPr>
          <p:grpSpPr>
            <a:xfrm>
              <a:off x="5639040" y="4724280"/>
              <a:ext cx="609120" cy="914400"/>
              <a:chOff x="5639040" y="4724280"/>
              <a:chExt cx="609120" cy="914400"/>
            </a:xfrm>
          </p:grpSpPr>
          <p:sp>
            <p:nvSpPr>
              <p:cNvPr id="280" name=""/>
              <p:cNvSpPr/>
              <p:nvPr/>
            </p:nvSpPr>
            <p:spPr>
              <a:xfrm>
                <a:off x="5791320" y="47242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43600" y="50292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15000" y="51055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639040" y="5334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43600" y="5334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257800" y="5715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icroso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172200" y="4038480"/>
            <a:ext cx="1447920" cy="1359000"/>
            <a:chOff x="6172200" y="4038480"/>
            <a:chExt cx="1447920" cy="1359000"/>
          </a:xfrm>
        </p:grpSpPr>
        <p:grpSp>
          <p:nvGrpSpPr>
            <p:cNvPr id="287" name=""/>
            <p:cNvGrpSpPr/>
            <p:nvPr/>
          </p:nvGrpSpPr>
          <p:grpSpPr>
            <a:xfrm>
              <a:off x="6553440" y="4038480"/>
              <a:ext cx="609120" cy="914400"/>
              <a:chOff x="6553440" y="4038480"/>
              <a:chExt cx="609120" cy="914400"/>
            </a:xfrm>
          </p:grpSpPr>
          <p:sp>
            <p:nvSpPr>
              <p:cNvPr id="288" name=""/>
              <p:cNvSpPr/>
              <p:nvPr/>
            </p:nvSpPr>
            <p:spPr>
              <a:xfrm>
                <a:off x="6705720" y="40384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58000" y="43434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9400" y="44197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6553440" y="46483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58000" y="46483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6172200" y="5029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at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315200" y="3581280"/>
            <a:ext cx="1447920" cy="1359000"/>
            <a:chOff x="7315200" y="3581280"/>
            <a:chExt cx="1447920" cy="1359000"/>
          </a:xfrm>
        </p:grpSpPr>
        <p:grpSp>
          <p:nvGrpSpPr>
            <p:cNvPr id="295" name=""/>
            <p:cNvGrpSpPr/>
            <p:nvPr/>
          </p:nvGrpSpPr>
          <p:grpSpPr>
            <a:xfrm>
              <a:off x="7696440" y="3581280"/>
              <a:ext cx="609120" cy="914400"/>
              <a:chOff x="7696440" y="3581280"/>
              <a:chExt cx="609120" cy="914400"/>
            </a:xfrm>
          </p:grpSpPr>
          <p:sp>
            <p:nvSpPr>
              <p:cNvPr id="296" name=""/>
              <p:cNvSpPr/>
              <p:nvPr/>
            </p:nvSpPr>
            <p:spPr>
              <a:xfrm>
                <a:off x="7848720" y="35812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001000" y="38862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72400" y="39625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696440" y="4191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001000" y="41911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7315200" y="4572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mpa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0880" y="3809880"/>
            <a:ext cx="1447920" cy="1359000"/>
            <a:chOff x="380880" y="3809880"/>
            <a:chExt cx="1447920" cy="1359000"/>
          </a:xfrm>
        </p:grpSpPr>
        <p:grpSp>
          <p:nvGrpSpPr>
            <p:cNvPr id="303" name=""/>
            <p:cNvGrpSpPr/>
            <p:nvPr/>
          </p:nvGrpSpPr>
          <p:grpSpPr>
            <a:xfrm>
              <a:off x="762120" y="3809880"/>
              <a:ext cx="609120" cy="914400"/>
              <a:chOff x="762120" y="3809880"/>
              <a:chExt cx="609120" cy="914400"/>
            </a:xfrm>
          </p:grpSpPr>
          <p:sp>
            <p:nvSpPr>
              <p:cNvPr id="304" name=""/>
              <p:cNvSpPr/>
              <p:nvPr/>
            </p:nvSpPr>
            <p:spPr>
              <a:xfrm>
                <a:off x="914400" y="3809880"/>
                <a:ext cx="304200" cy="3049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66680" y="4114800"/>
                <a:ext cx="0" cy="30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38080" y="4191120"/>
                <a:ext cx="456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62120" y="44197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66680" y="4419720"/>
                <a:ext cx="304560" cy="304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80880" y="48006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U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 flipH="1" flipV="1">
            <a:off x="6019920" y="2895480"/>
            <a:ext cx="1676160" cy="914400"/>
          </a:xfrm>
          <a:prstGeom prst="line">
            <a:avLst/>
          </a:prstGeom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962160" y="2590560"/>
            <a:ext cx="2210040" cy="2438640"/>
            <a:chOff x="3962160" y="2590560"/>
            <a:chExt cx="2210040" cy="2438640"/>
          </a:xfrm>
        </p:grpSpPr>
        <p:sp>
          <p:nvSpPr>
            <p:cNvPr id="312" name=""/>
            <p:cNvSpPr/>
            <p:nvPr/>
          </p:nvSpPr>
          <p:spPr>
            <a:xfrm flipH="1" flipV="1">
              <a:off x="3962160" y="4190760"/>
              <a:ext cx="1600200" cy="68580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4266720" y="4648320"/>
              <a:ext cx="1295640" cy="30456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572000" y="4952880"/>
              <a:ext cx="990720" cy="7632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943600" y="2590560"/>
              <a:ext cx="228600" cy="205740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23880" y="2743200"/>
            <a:ext cx="8384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523520" y="4114800"/>
            <a:ext cx="8384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33920" y="2590560"/>
            <a:ext cx="2819160" cy="1752480"/>
            <a:chOff x="3733920" y="2590560"/>
            <a:chExt cx="2819160" cy="1752480"/>
          </a:xfrm>
        </p:grpSpPr>
        <p:sp>
          <p:nvSpPr>
            <p:cNvPr id="319" name=""/>
            <p:cNvSpPr/>
            <p:nvPr/>
          </p:nvSpPr>
          <p:spPr>
            <a:xfrm flipH="1" flipV="1">
              <a:off x="3809880" y="2971800"/>
              <a:ext cx="2743200" cy="129528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809520" y="3657240"/>
              <a:ext cx="2667240" cy="68580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733920" y="2590560"/>
              <a:ext cx="2743200" cy="152388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09680" y="1654200"/>
            <a:ext cx="7280280" cy="4773600"/>
          </a:xfrm>
          <a:custGeom>
            <a:avLst/>
            <a:gdLst/>
            <a:ahLst/>
            <a:rect l="l" t="t" r="r" b="b"/>
            <a:pathLst>
              <a:path w="4586" h="3007">
                <a:moveTo>
                  <a:pt x="369" y="68"/>
                </a:moveTo>
                <a:cubicBezTo>
                  <a:pt x="605" y="76"/>
                  <a:pt x="835" y="88"/>
                  <a:pt x="1072" y="93"/>
                </a:cubicBezTo>
                <a:cubicBezTo>
                  <a:pt x="1301" y="90"/>
                  <a:pt x="1531" y="105"/>
                  <a:pt x="1758" y="76"/>
                </a:cubicBezTo>
                <a:cubicBezTo>
                  <a:pt x="1949" y="52"/>
                  <a:pt x="2133" y="11"/>
                  <a:pt x="2326" y="0"/>
                </a:cubicBezTo>
                <a:cubicBezTo>
                  <a:pt x="2560" y="11"/>
                  <a:pt x="2785" y="65"/>
                  <a:pt x="3020" y="76"/>
                </a:cubicBezTo>
                <a:cubicBezTo>
                  <a:pt x="3235" y="73"/>
                  <a:pt x="3449" y="73"/>
                  <a:pt x="3664" y="68"/>
                </a:cubicBezTo>
                <a:cubicBezTo>
                  <a:pt x="3746" y="66"/>
                  <a:pt x="3828" y="42"/>
                  <a:pt x="3910" y="34"/>
                </a:cubicBezTo>
                <a:cubicBezTo>
                  <a:pt x="4096" y="41"/>
                  <a:pt x="4132" y="48"/>
                  <a:pt x="4282" y="76"/>
                </a:cubicBezTo>
                <a:cubicBezTo>
                  <a:pt x="4315" y="93"/>
                  <a:pt x="4348" y="107"/>
                  <a:pt x="4384" y="118"/>
                </a:cubicBezTo>
                <a:cubicBezTo>
                  <a:pt x="4407" y="135"/>
                  <a:pt x="4429" y="152"/>
                  <a:pt x="4452" y="169"/>
                </a:cubicBezTo>
                <a:cubicBezTo>
                  <a:pt x="4460" y="175"/>
                  <a:pt x="4477" y="186"/>
                  <a:pt x="4477" y="186"/>
                </a:cubicBezTo>
                <a:cubicBezTo>
                  <a:pt x="4483" y="197"/>
                  <a:pt x="4487" y="209"/>
                  <a:pt x="4494" y="220"/>
                </a:cubicBezTo>
                <a:cubicBezTo>
                  <a:pt x="4504" y="235"/>
                  <a:pt x="4519" y="246"/>
                  <a:pt x="4528" y="262"/>
                </a:cubicBezTo>
                <a:cubicBezTo>
                  <a:pt x="4534" y="272"/>
                  <a:pt x="4532" y="285"/>
                  <a:pt x="4536" y="296"/>
                </a:cubicBezTo>
                <a:cubicBezTo>
                  <a:pt x="4540" y="306"/>
                  <a:pt x="4548" y="313"/>
                  <a:pt x="4553" y="322"/>
                </a:cubicBezTo>
                <a:cubicBezTo>
                  <a:pt x="4557" y="330"/>
                  <a:pt x="4559" y="339"/>
                  <a:pt x="4562" y="347"/>
                </a:cubicBezTo>
                <a:cubicBezTo>
                  <a:pt x="4586" y="503"/>
                  <a:pt x="4573" y="751"/>
                  <a:pt x="4477" y="898"/>
                </a:cubicBezTo>
                <a:cubicBezTo>
                  <a:pt x="4449" y="985"/>
                  <a:pt x="4382" y="1044"/>
                  <a:pt x="4308" y="1093"/>
                </a:cubicBezTo>
                <a:cubicBezTo>
                  <a:pt x="4172" y="1184"/>
                  <a:pt x="3994" y="1237"/>
                  <a:pt x="3833" y="1262"/>
                </a:cubicBezTo>
                <a:cubicBezTo>
                  <a:pt x="3777" y="1281"/>
                  <a:pt x="3722" y="1291"/>
                  <a:pt x="3664" y="1304"/>
                </a:cubicBezTo>
                <a:cubicBezTo>
                  <a:pt x="3597" y="1319"/>
                  <a:pt x="3529" y="1351"/>
                  <a:pt x="3469" y="1381"/>
                </a:cubicBezTo>
                <a:cubicBezTo>
                  <a:pt x="3439" y="1396"/>
                  <a:pt x="3442" y="1380"/>
                  <a:pt x="3410" y="1406"/>
                </a:cubicBezTo>
                <a:cubicBezTo>
                  <a:pt x="3374" y="1435"/>
                  <a:pt x="3341" y="1475"/>
                  <a:pt x="3308" y="1508"/>
                </a:cubicBezTo>
                <a:cubicBezTo>
                  <a:pt x="3255" y="1561"/>
                  <a:pt x="3213" y="1622"/>
                  <a:pt x="3173" y="1686"/>
                </a:cubicBezTo>
                <a:cubicBezTo>
                  <a:pt x="3164" y="1700"/>
                  <a:pt x="3156" y="1714"/>
                  <a:pt x="3147" y="1728"/>
                </a:cubicBezTo>
                <a:cubicBezTo>
                  <a:pt x="3139" y="1742"/>
                  <a:pt x="3131" y="1756"/>
                  <a:pt x="3122" y="1770"/>
                </a:cubicBezTo>
                <a:cubicBezTo>
                  <a:pt x="3117" y="1779"/>
                  <a:pt x="3105" y="1796"/>
                  <a:pt x="3105" y="1796"/>
                </a:cubicBezTo>
                <a:cubicBezTo>
                  <a:pt x="3099" y="1818"/>
                  <a:pt x="3101" y="1844"/>
                  <a:pt x="3088" y="1863"/>
                </a:cubicBezTo>
                <a:cubicBezTo>
                  <a:pt x="3061" y="1904"/>
                  <a:pt x="3037" y="1953"/>
                  <a:pt x="3020" y="1999"/>
                </a:cubicBezTo>
                <a:cubicBezTo>
                  <a:pt x="3005" y="2139"/>
                  <a:pt x="3024" y="2284"/>
                  <a:pt x="2995" y="2422"/>
                </a:cubicBezTo>
                <a:cubicBezTo>
                  <a:pt x="2988" y="2455"/>
                  <a:pt x="2971" y="2491"/>
                  <a:pt x="2961" y="2524"/>
                </a:cubicBezTo>
                <a:cubicBezTo>
                  <a:pt x="2945" y="2579"/>
                  <a:pt x="2943" y="2637"/>
                  <a:pt x="2910" y="2685"/>
                </a:cubicBezTo>
                <a:cubicBezTo>
                  <a:pt x="2896" y="2727"/>
                  <a:pt x="2887" y="2773"/>
                  <a:pt x="2851" y="2804"/>
                </a:cubicBezTo>
                <a:cubicBezTo>
                  <a:pt x="2831" y="2821"/>
                  <a:pt x="2805" y="2831"/>
                  <a:pt x="2783" y="2846"/>
                </a:cubicBezTo>
                <a:cubicBezTo>
                  <a:pt x="2742" y="2906"/>
                  <a:pt x="2615" y="2960"/>
                  <a:pt x="2546" y="2973"/>
                </a:cubicBezTo>
                <a:cubicBezTo>
                  <a:pt x="2512" y="2990"/>
                  <a:pt x="2481" y="2997"/>
                  <a:pt x="2444" y="3007"/>
                </a:cubicBezTo>
                <a:cubicBezTo>
                  <a:pt x="2225" y="3000"/>
                  <a:pt x="2016" y="2981"/>
                  <a:pt x="1800" y="2956"/>
                </a:cubicBezTo>
                <a:cubicBezTo>
                  <a:pt x="1600" y="2909"/>
                  <a:pt x="1392" y="2912"/>
                  <a:pt x="1190" y="2880"/>
                </a:cubicBezTo>
                <a:cubicBezTo>
                  <a:pt x="1170" y="2873"/>
                  <a:pt x="1151" y="2861"/>
                  <a:pt x="1131" y="2854"/>
                </a:cubicBezTo>
                <a:cubicBezTo>
                  <a:pt x="1109" y="2847"/>
                  <a:pt x="1063" y="2838"/>
                  <a:pt x="1063" y="2838"/>
                </a:cubicBezTo>
                <a:cubicBezTo>
                  <a:pt x="1012" y="2806"/>
                  <a:pt x="953" y="2793"/>
                  <a:pt x="902" y="2761"/>
                </a:cubicBezTo>
                <a:cubicBezTo>
                  <a:pt x="885" y="2750"/>
                  <a:pt x="833" y="2704"/>
                  <a:pt x="818" y="2702"/>
                </a:cubicBezTo>
                <a:cubicBezTo>
                  <a:pt x="750" y="2691"/>
                  <a:pt x="680" y="2682"/>
                  <a:pt x="614" y="2660"/>
                </a:cubicBezTo>
                <a:cubicBezTo>
                  <a:pt x="577" y="2648"/>
                  <a:pt x="538" y="2638"/>
                  <a:pt x="504" y="2617"/>
                </a:cubicBezTo>
                <a:cubicBezTo>
                  <a:pt x="433" y="2574"/>
                  <a:pt x="480" y="2591"/>
                  <a:pt x="428" y="2575"/>
                </a:cubicBezTo>
                <a:cubicBezTo>
                  <a:pt x="388" y="2546"/>
                  <a:pt x="343" y="2531"/>
                  <a:pt x="301" y="2507"/>
                </a:cubicBezTo>
                <a:cubicBezTo>
                  <a:pt x="290" y="2501"/>
                  <a:pt x="243" y="2468"/>
                  <a:pt x="225" y="2456"/>
                </a:cubicBezTo>
                <a:cubicBezTo>
                  <a:pt x="216" y="2450"/>
                  <a:pt x="199" y="2439"/>
                  <a:pt x="199" y="2439"/>
                </a:cubicBezTo>
                <a:cubicBezTo>
                  <a:pt x="191" y="2428"/>
                  <a:pt x="181" y="2418"/>
                  <a:pt x="174" y="2406"/>
                </a:cubicBezTo>
                <a:cubicBezTo>
                  <a:pt x="161" y="2384"/>
                  <a:pt x="140" y="2338"/>
                  <a:pt x="140" y="2338"/>
                </a:cubicBezTo>
                <a:cubicBezTo>
                  <a:pt x="132" y="2303"/>
                  <a:pt x="127" y="2275"/>
                  <a:pt x="106" y="2245"/>
                </a:cubicBezTo>
                <a:cubicBezTo>
                  <a:pt x="94" y="2167"/>
                  <a:pt x="82" y="2091"/>
                  <a:pt x="55" y="2016"/>
                </a:cubicBezTo>
                <a:cubicBezTo>
                  <a:pt x="27" y="1837"/>
                  <a:pt x="32" y="1655"/>
                  <a:pt x="13" y="1474"/>
                </a:cubicBezTo>
                <a:cubicBezTo>
                  <a:pt x="0" y="1225"/>
                  <a:pt x="1" y="965"/>
                  <a:pt x="115" y="737"/>
                </a:cubicBezTo>
                <a:cubicBezTo>
                  <a:pt x="135" y="607"/>
                  <a:pt x="166" y="431"/>
                  <a:pt x="225" y="313"/>
                </a:cubicBezTo>
                <a:cubicBezTo>
                  <a:pt x="235" y="250"/>
                  <a:pt x="269" y="148"/>
                  <a:pt x="335" y="127"/>
                </a:cubicBezTo>
                <a:cubicBezTo>
                  <a:pt x="394" y="87"/>
                  <a:pt x="397" y="110"/>
                  <a:pt x="369" y="68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1447920" y="2971440"/>
            <a:ext cx="91440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pplying Ac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 document f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os is good if understanding ar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os is bad if things change before you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environments reduce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change validate previous f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information is valu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ello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R Hello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F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itial Development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iometric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mmary -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argetRTS port to Windows 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xis Library port to Windows 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cripts for Target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xample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elloWorld, IR, Connexis, MFC, Bio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Re-usable IR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mmary -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ing to iPAQ Pocket 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Observability over s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ing Connexis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p for launching RoseRT debug ap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Report on IR/Windows CE Development with Rose Real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mmary – Future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B Target Observ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QUtilities Target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FC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Re-usable MFC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R Target Observ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xis over 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luet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esentatio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to so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ing Ac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Rose Real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81080"/>
            <a:ext cx="2743200" cy="9471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tional Rose Real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343400"/>
            <a:ext cx="2743200" cy="520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nex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505320" cy="25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2971800"/>
            <a:ext cx="2743200" cy="13737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rget Services Libr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160" y="2514600"/>
            <a:ext cx="99036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410080"/>
            <a:ext cx="297180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/C++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2438280"/>
            <a:ext cx="533160" cy="2895840"/>
            <a:chOff x="533520" y="2438280"/>
            <a:chExt cx="533160" cy="2895840"/>
          </a:xfrm>
        </p:grpSpPr>
        <p:sp>
          <p:nvSpPr>
            <p:cNvPr id="60" name=""/>
            <p:cNvSpPr/>
            <p:nvPr/>
          </p:nvSpPr>
          <p:spPr>
            <a:xfrm>
              <a:off x="533520" y="2438280"/>
              <a:ext cx="0" cy="289584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438280"/>
              <a:ext cx="53316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14800" y="5562720"/>
            <a:ext cx="236232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n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09880" y="3581280"/>
            <a:ext cx="762120" cy="1981440"/>
            <a:chOff x="3809880" y="3581280"/>
            <a:chExt cx="762120" cy="1981440"/>
          </a:xfrm>
        </p:grpSpPr>
        <p:sp>
          <p:nvSpPr>
            <p:cNvPr id="64" name=""/>
            <p:cNvSpPr/>
            <p:nvPr/>
          </p:nvSpPr>
          <p:spPr>
            <a:xfrm>
              <a:off x="4572000" y="3581280"/>
              <a:ext cx="0" cy="198144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3581280"/>
              <a:ext cx="7621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09880" y="4572000"/>
            <a:ext cx="7621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791320"/>
            <a:ext cx="68580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43800" y="4648320"/>
            <a:ext cx="5763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 Unicode"/>
              </a:rPr>
              <a:t>?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Target 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96240" y="5715000"/>
            <a:ext cx="7913880" cy="609480"/>
            <a:chOff x="696240" y="5715000"/>
            <a:chExt cx="7913880" cy="609480"/>
          </a:xfrm>
        </p:grpSpPr>
        <p:sp>
          <p:nvSpPr>
            <p:cNvPr id="72" name=""/>
            <p:cNvSpPr/>
            <p:nvPr/>
          </p:nvSpPr>
          <p:spPr>
            <a:xfrm>
              <a:off x="838080" y="6324480"/>
              <a:ext cx="7772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6240" y="5715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Physical 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97320" y="4572000"/>
            <a:ext cx="7912800" cy="609480"/>
            <a:chOff x="697320" y="4572000"/>
            <a:chExt cx="7912800" cy="609480"/>
          </a:xfrm>
        </p:grpSpPr>
        <p:sp>
          <p:nvSpPr>
            <p:cNvPr id="75" name=""/>
            <p:cNvSpPr/>
            <p:nvPr/>
          </p:nvSpPr>
          <p:spPr>
            <a:xfrm>
              <a:off x="838080" y="5181480"/>
              <a:ext cx="7772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7320" y="457200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gical 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1905120"/>
            <a:ext cx="3048120" cy="2437920"/>
            <a:chOff x="4800600" y="1905120"/>
            <a:chExt cx="3048120" cy="2437920"/>
          </a:xfrm>
        </p:grpSpPr>
        <p:grpSp>
          <p:nvGrpSpPr>
            <p:cNvPr id="78" name=""/>
            <p:cNvGrpSpPr/>
            <p:nvPr/>
          </p:nvGrpSpPr>
          <p:grpSpPr>
            <a:xfrm>
              <a:off x="4800600" y="2209680"/>
              <a:ext cx="3048120" cy="2133360"/>
              <a:chOff x="4800600" y="2209680"/>
              <a:chExt cx="3048120" cy="2133360"/>
            </a:xfrm>
          </p:grpSpPr>
          <p:sp>
            <p:nvSpPr>
              <p:cNvPr id="79" name=""/>
              <p:cNvSpPr/>
              <p:nvPr/>
            </p:nvSpPr>
            <p:spPr>
              <a:xfrm>
                <a:off x="4800600" y="2209680"/>
                <a:ext cx="3048120" cy="2133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835160" y="228564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449760" y="190512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90720" y="1905120"/>
            <a:ext cx="3047760" cy="2437920"/>
            <a:chOff x="990720" y="1905120"/>
            <a:chExt cx="3047760" cy="2437920"/>
          </a:xfrm>
        </p:grpSpPr>
        <p:grpSp>
          <p:nvGrpSpPr>
            <p:cNvPr id="83" name=""/>
            <p:cNvGrpSpPr/>
            <p:nvPr/>
          </p:nvGrpSpPr>
          <p:grpSpPr>
            <a:xfrm>
              <a:off x="990720" y="2209680"/>
              <a:ext cx="3047760" cy="2133360"/>
              <a:chOff x="990720" y="2209680"/>
              <a:chExt cx="3047760" cy="2133360"/>
            </a:xfrm>
          </p:grpSpPr>
          <p:sp>
            <p:nvSpPr>
              <p:cNvPr id="84" name=""/>
              <p:cNvSpPr/>
              <p:nvPr/>
            </p:nvSpPr>
            <p:spPr>
              <a:xfrm>
                <a:off x="990720" y="2209680"/>
                <a:ext cx="3047760" cy="2133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25280" y="228564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639520" y="190512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3048120"/>
            <a:ext cx="1676520" cy="2133360"/>
            <a:chOff x="838080" y="3048120"/>
            <a:chExt cx="1676520" cy="2133360"/>
          </a:xfrm>
        </p:grpSpPr>
        <p:sp>
          <p:nvSpPr>
            <p:cNvPr id="88" name=""/>
            <p:cNvSpPr/>
            <p:nvPr/>
          </p:nvSpPr>
          <p:spPr>
            <a:xfrm>
              <a:off x="1219320" y="3048120"/>
              <a:ext cx="12952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181480"/>
              <a:ext cx="12956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09680" y="2971800"/>
            <a:ext cx="3657600" cy="2209680"/>
            <a:chOff x="2209680" y="2971800"/>
            <a:chExt cx="3657600" cy="2209680"/>
          </a:xfrm>
        </p:grpSpPr>
        <p:sp>
          <p:nvSpPr>
            <p:cNvPr id="91" name=""/>
            <p:cNvSpPr/>
            <p:nvPr/>
          </p:nvSpPr>
          <p:spPr>
            <a:xfrm>
              <a:off x="5029200" y="297180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5181480"/>
              <a:ext cx="8384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124080" y="3429000"/>
            <a:ext cx="2743200" cy="1752480"/>
            <a:chOff x="3124080" y="3429000"/>
            <a:chExt cx="2743200" cy="1752480"/>
          </a:xfrm>
        </p:grpSpPr>
        <p:sp>
          <p:nvSpPr>
            <p:cNvPr id="94" name=""/>
            <p:cNvSpPr/>
            <p:nvPr/>
          </p:nvSpPr>
          <p:spPr>
            <a:xfrm>
              <a:off x="5029200" y="342900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24080" y="5181480"/>
              <a:ext cx="8384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219320" y="3429000"/>
            <a:ext cx="3581280" cy="1752480"/>
            <a:chOff x="1219320" y="3429000"/>
            <a:chExt cx="3581280" cy="1752480"/>
          </a:xfrm>
        </p:grpSpPr>
        <p:sp>
          <p:nvSpPr>
            <p:cNvPr id="97" name=""/>
            <p:cNvSpPr/>
            <p:nvPr/>
          </p:nvSpPr>
          <p:spPr>
            <a:xfrm>
              <a:off x="1219320" y="342900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2520" y="518148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800600" y="3886200"/>
            <a:ext cx="1905120" cy="1295280"/>
            <a:chOff x="4800600" y="3886200"/>
            <a:chExt cx="1905120" cy="1295280"/>
          </a:xfrm>
        </p:grpSpPr>
        <p:sp>
          <p:nvSpPr>
            <p:cNvPr id="100" name=""/>
            <p:cNvSpPr/>
            <p:nvPr/>
          </p:nvSpPr>
          <p:spPr>
            <a:xfrm>
              <a:off x="4800600" y="5181480"/>
              <a:ext cx="16765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29200" y="3886200"/>
              <a:ext cx="16765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219320" y="3886200"/>
            <a:ext cx="7010280" cy="1295280"/>
            <a:chOff x="1219320" y="3886200"/>
            <a:chExt cx="7010280" cy="1295280"/>
          </a:xfrm>
        </p:grpSpPr>
        <p:sp>
          <p:nvSpPr>
            <p:cNvPr id="103" name=""/>
            <p:cNvSpPr/>
            <p:nvPr/>
          </p:nvSpPr>
          <p:spPr>
            <a:xfrm>
              <a:off x="1219320" y="3886200"/>
              <a:ext cx="167616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53080" y="5181480"/>
              <a:ext cx="16765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8080" y="6324480"/>
            <a:ext cx="7772400" cy="0"/>
            <a:chOff x="838080" y="6324480"/>
            <a:chExt cx="7772400" cy="0"/>
          </a:xfrm>
        </p:grpSpPr>
        <p:sp>
          <p:nvSpPr>
            <p:cNvPr id="106" name=""/>
            <p:cNvSpPr/>
            <p:nvPr/>
          </p:nvSpPr>
          <p:spPr>
            <a:xfrm>
              <a:off x="838080" y="6324480"/>
              <a:ext cx="14479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4080" y="6324480"/>
              <a:ext cx="14479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6324480"/>
              <a:ext cx="14479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6324480"/>
              <a:ext cx="144756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143000" y="1905120"/>
            <a:ext cx="6934320" cy="4266720"/>
            <a:chOff x="1143000" y="1905120"/>
            <a:chExt cx="6934320" cy="4266720"/>
          </a:xfrm>
        </p:grpSpPr>
        <p:grpSp>
          <p:nvGrpSpPr>
            <p:cNvPr id="111" name=""/>
            <p:cNvGrpSpPr/>
            <p:nvPr/>
          </p:nvGrpSpPr>
          <p:grpSpPr>
            <a:xfrm>
              <a:off x="1143000" y="1905120"/>
              <a:ext cx="6934320" cy="4266720"/>
              <a:chOff x="1143000" y="1905120"/>
              <a:chExt cx="6934320" cy="4266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143000" y="1905120"/>
                <a:ext cx="6934320" cy="4266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3920" y="205740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495680" y="4191120"/>
              <a:ext cx="3812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43000" y="1905120"/>
            <a:ext cx="6934320" cy="4266720"/>
            <a:chOff x="1143000" y="1905120"/>
            <a:chExt cx="6934320" cy="4266720"/>
          </a:xfrm>
        </p:grpSpPr>
        <p:grpSp>
          <p:nvGrpSpPr>
            <p:cNvPr id="116" name=""/>
            <p:cNvGrpSpPr/>
            <p:nvPr/>
          </p:nvGrpSpPr>
          <p:grpSpPr>
            <a:xfrm>
              <a:off x="1143000" y="1905120"/>
              <a:ext cx="6934320" cy="4266720"/>
              <a:chOff x="1143000" y="1905120"/>
              <a:chExt cx="6934320" cy="4266720"/>
            </a:xfrm>
          </p:grpSpPr>
          <p:sp>
            <p:nvSpPr>
              <p:cNvPr id="117" name=""/>
              <p:cNvSpPr/>
              <p:nvPr/>
            </p:nvSpPr>
            <p:spPr>
              <a:xfrm>
                <a:off x="1143000" y="1905120"/>
                <a:ext cx="6934320" cy="42667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03480" y="2057400"/>
                <a:ext cx="194040" cy="4662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495680" y="4191120"/>
              <a:ext cx="381240" cy="0"/>
            </a:xfrm>
            <a:prstGeom prst="line">
              <a:avLst/>
            </a:prstGeom>
            <a:ln w="1015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ahoma"/>
              </a:rPr>
              <a:t>Background - Conne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23880" y="3124080"/>
            <a:ext cx="2991240" cy="2133720"/>
            <a:chOff x="1523880" y="3124080"/>
            <a:chExt cx="2991240" cy="2133720"/>
          </a:xfrm>
        </p:grpSpPr>
        <p:grpSp>
          <p:nvGrpSpPr>
            <p:cNvPr id="122" name=""/>
            <p:cNvGrpSpPr/>
            <p:nvPr/>
          </p:nvGrpSpPr>
          <p:grpSpPr>
            <a:xfrm>
              <a:off x="1523880" y="3124080"/>
              <a:ext cx="2590920" cy="2133720"/>
              <a:chOff x="1523880" y="3124080"/>
              <a:chExt cx="2590920" cy="21337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23880" y="3124080"/>
                <a:ext cx="2590920" cy="2133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53760" y="320040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630240" y="388620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49560" y="3124080"/>
            <a:ext cx="2911680" cy="2133720"/>
            <a:chOff x="4849560" y="3124080"/>
            <a:chExt cx="2911680" cy="2133720"/>
          </a:xfrm>
        </p:grpSpPr>
        <p:grpSp>
          <p:nvGrpSpPr>
            <p:cNvPr id="127" name=""/>
            <p:cNvGrpSpPr/>
            <p:nvPr/>
          </p:nvGrpSpPr>
          <p:grpSpPr>
            <a:xfrm>
              <a:off x="5246640" y="3124080"/>
              <a:ext cx="2514600" cy="2133720"/>
              <a:chOff x="5246640" y="3124080"/>
              <a:chExt cx="2514600" cy="2133720"/>
            </a:xfrm>
          </p:grpSpPr>
          <p:sp>
            <p:nvSpPr>
              <p:cNvPr id="128" name=""/>
              <p:cNvSpPr/>
              <p:nvPr/>
            </p:nvSpPr>
            <p:spPr>
              <a:xfrm>
                <a:off x="5246640" y="3124080"/>
                <a:ext cx="2514600" cy="2133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76520" y="320040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849560" y="388620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676520" y="4495680"/>
            <a:ext cx="5961600" cy="685800"/>
            <a:chOff x="1676520" y="4495680"/>
            <a:chExt cx="5961600" cy="685800"/>
          </a:xfrm>
        </p:grpSpPr>
        <p:grpSp>
          <p:nvGrpSpPr>
            <p:cNvPr id="132" name=""/>
            <p:cNvGrpSpPr/>
            <p:nvPr/>
          </p:nvGrpSpPr>
          <p:grpSpPr>
            <a:xfrm>
              <a:off x="1676520" y="4495680"/>
              <a:ext cx="1313280" cy="685800"/>
              <a:chOff x="1676520" y="4495680"/>
              <a:chExt cx="1313280" cy="6858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676520" y="4495680"/>
                <a:ext cx="990360" cy="685800"/>
                <a:chOff x="1676520" y="4495680"/>
                <a:chExt cx="990360" cy="685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676520" y="4495680"/>
                  <a:ext cx="990360" cy="68580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07480" y="4520880"/>
                  <a:ext cx="76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DC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2505960" y="4724280"/>
                <a:ext cx="483840" cy="2764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Por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324480" y="4495680"/>
              <a:ext cx="1313640" cy="685800"/>
              <a:chOff x="6324480" y="4495680"/>
              <a:chExt cx="1313640" cy="6858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324480" y="4495680"/>
                <a:ext cx="990720" cy="685800"/>
                <a:chOff x="6324480" y="4495680"/>
                <a:chExt cx="990720" cy="6858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324480" y="4495680"/>
                  <a:ext cx="990720" cy="68580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355800" y="4520880"/>
                  <a:ext cx="76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DC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7154280" y="4724280"/>
                <a:ext cx="483840" cy="2764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Por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133720" y="5181480"/>
            <a:ext cx="4724280" cy="762120"/>
            <a:chOff x="2133720" y="5181480"/>
            <a:chExt cx="4724280" cy="762120"/>
          </a:xfrm>
        </p:grpSpPr>
        <p:sp>
          <p:nvSpPr>
            <p:cNvPr id="143" name=""/>
            <p:cNvSpPr/>
            <p:nvPr/>
          </p:nvSpPr>
          <p:spPr>
            <a:xfrm>
              <a:off x="2133720" y="5181480"/>
              <a:ext cx="0" cy="762120"/>
            </a:xfrm>
            <a:prstGeom prst="line">
              <a:avLst/>
            </a:prstGeom>
            <a:ln cap="rnd" w="1015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133720" y="5791320"/>
              <a:ext cx="4572000" cy="0"/>
            </a:xfrm>
            <a:prstGeom prst="line">
              <a:avLst/>
            </a:prstGeom>
            <a:ln cap="rnd" w="1015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5181480"/>
              <a:ext cx="0" cy="762120"/>
            </a:xfrm>
            <a:prstGeom prst="line">
              <a:avLst/>
            </a:prstGeom>
            <a:ln cap="rnd" w="1015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- Targ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78200" y="1600200"/>
          <a:ext cx="53020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600200"/>
                    <a:ext cx="53020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- Targ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mpaq iPaq Pocket 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206 MHz Intel StrongARM 32-bit RISC proc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32MB of standar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pril 19 2000 – Compaq Unveiled Pocket 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June 19 2001 – Compaq Announce 1,000,000</a:t>
            </a:r>
            <a:r>
              <a:rPr b="0" lang="en-AU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o be shipp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Target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492800" y="1978200"/>
          <a:ext cx="281124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0" y="1978200"/>
                    <a:ext cx="281124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292400" y="1978200"/>
          <a:ext cx="2971800" cy="19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1978200"/>
                    <a:ext cx="29718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4038480"/>
          <a:ext cx="2952720" cy="195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038480"/>
                    <a:ext cx="295272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blem to Sol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2133720" cy="3690360"/>
            <a:chOff x="2514600" y="2209680"/>
            <a:chExt cx="2133720" cy="3690360"/>
          </a:xfrm>
        </p:grpSpPr>
        <p:sp>
          <p:nvSpPr>
            <p:cNvPr id="160" name=""/>
            <p:cNvSpPr/>
            <p:nvPr/>
          </p:nvSpPr>
          <p:spPr>
            <a:xfrm>
              <a:off x="2514600" y="220968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Rational Rose Real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600" y="3429000"/>
              <a:ext cx="2133720" cy="337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nex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4600" y="281952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Target Services Libra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3809880"/>
              <a:ext cx="2133720" cy="580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eMbedded Visual C+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80060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4600" y="441972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ctive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518148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Works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556272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Notebo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943600" y="2286000"/>
            <a:ext cx="1828800" cy="946800"/>
            <a:chOff x="5943600" y="2286000"/>
            <a:chExt cx="1828800" cy="946800"/>
          </a:xfrm>
        </p:grpSpPr>
        <p:sp>
          <p:nvSpPr>
            <p:cNvPr id="169" name=""/>
            <p:cNvSpPr/>
            <p:nvPr/>
          </p:nvSpPr>
          <p:spPr>
            <a:xfrm>
              <a:off x="5943600" y="2286000"/>
              <a:ext cx="182880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CE 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2895480"/>
              <a:ext cx="182880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Tahoma"/>
                </a:rPr>
                <a:t>iPaq Pocket 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876920" y="2819520"/>
            <a:ext cx="914400" cy="0"/>
          </a:xfrm>
          <a:prstGeom prst="line">
            <a:avLst/>
          </a:prstGeom>
          <a:ln w="254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16640" y="2514600"/>
            <a:ext cx="1421640" cy="3048120"/>
            <a:chOff x="1016640" y="2514600"/>
            <a:chExt cx="1421640" cy="3048120"/>
          </a:xfrm>
        </p:grpSpPr>
        <p:sp>
          <p:nvSpPr>
            <p:cNvPr id="173" name=""/>
            <p:cNvSpPr/>
            <p:nvPr/>
          </p:nvSpPr>
          <p:spPr>
            <a:xfrm>
              <a:off x="1905120" y="2514600"/>
              <a:ext cx="0" cy="3048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25146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5120" y="312408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36576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5120" y="41148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5120" y="464832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5120" y="50292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5120" y="556272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16640" y="3276720"/>
              <a:ext cx="70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00"/>
                  </a:solidFill>
                  <a:latin typeface="Tahoma"/>
                </a:rPr>
                <a:t>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724280" y="3352680"/>
            <a:ext cx="2133720" cy="2210040"/>
            <a:chOff x="4724280" y="3352680"/>
            <a:chExt cx="2133720" cy="2210040"/>
          </a:xfrm>
        </p:grpSpPr>
        <p:sp>
          <p:nvSpPr>
            <p:cNvPr id="183" name=""/>
            <p:cNvSpPr/>
            <p:nvPr/>
          </p:nvSpPr>
          <p:spPr>
            <a:xfrm>
              <a:off x="4724280" y="41148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45720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24280" y="50292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24280" y="556272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257800" y="4114800"/>
              <a:ext cx="0" cy="1447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7800" y="4724280"/>
              <a:ext cx="16002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858000" y="3352680"/>
              <a:ext cx="0" cy="1371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4:41:44Z</dcterms:created>
  <dc:creator>Paul McIntosh</dc:creator>
  <dc:description/>
  <dc:language>en-US</dc:language>
  <cp:lastModifiedBy>Paul McIntosh</cp:lastModifiedBy>
  <dcterms:modified xsi:type="dcterms:W3CDTF">2001-11-05T10:04:31Z</dcterms:modified>
  <cp:revision>38</cp:revision>
  <dc:subject/>
  <dc:title>PowerPoint Presentation</dc:title>
</cp:coreProperties>
</file>