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6.xml.rels" ContentType="application/vnd.openxmlformats-package.relationships+xml"/>
  <Override PartName="/ppt/notesSlides/notesSlide6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8.png" ContentType="image/png"/>
  <Override PartName="/ppt/media/image5.png" ContentType="image/png"/>
  <Override PartName="/ppt/media/image9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1840" y="68868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marL="173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28600" y="4365360"/>
            <a:ext cx="6400800" cy="4211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1"/>
          </p:nvPr>
        </p:nvSpPr>
        <p:spPr>
          <a:xfrm>
            <a:off x="-360" y="880704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lstStyle>
            <a:lvl1pPr>
              <a:lnSpc>
                <a:spcPct val="88000"/>
              </a:lnSpc>
              <a:spcBef>
                <a:spcPts val="751"/>
              </a:spcBef>
              <a:buClr>
                <a:srgbClr val="f6bf69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>
              <a:lnSpc>
                <a:spcPct val="88000"/>
              </a:lnSpc>
              <a:spcBef>
                <a:spcPts val="751"/>
              </a:spcBef>
              <a:buClr>
                <a:srgbClr val="f6bf69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2"/>
          </p:nvPr>
        </p:nvSpPr>
        <p:spPr>
          <a:xfrm>
            <a:off x="3885840" y="880704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88000"/>
              </a:lnSpc>
              <a:spcBef>
                <a:spcPts val="751"/>
              </a:spcBef>
              <a:buClr>
                <a:srgbClr val="f6bf69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 algn="r">
              <a:lnSpc>
                <a:spcPct val="88000"/>
              </a:lnSpc>
              <a:spcBef>
                <a:spcPts val="751"/>
              </a:spcBef>
              <a:buClr>
                <a:srgbClr val="f6bf69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9D67-EADA-4996-A92F-4631A87C9FFD}" type="slidenum">
              <a:rPr b="0" lang="en-US" sz="1200" spc="-1" strike="noStrike">
                <a:solidFill>
                  <a:srgbClr val="3333cc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228600" y="4365360"/>
            <a:ext cx="6400800" cy="4211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6400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5118840"/>
            <a:ext cx="6400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8002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51188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51188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2060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4800240"/>
            <a:ext cx="2060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4800240"/>
            <a:ext cx="2060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5118840"/>
            <a:ext cx="2060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5118840"/>
            <a:ext cx="2060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5118840"/>
            <a:ext cx="2060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31233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800240"/>
            <a:ext cx="31233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714840"/>
            <a:ext cx="777240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algn="ctr">
              <a:lnSpc>
                <a:spcPct val="87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800240"/>
            <a:ext cx="31233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51188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31233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8002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51188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8002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18840"/>
            <a:ext cx="6400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6400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5118840"/>
            <a:ext cx="6400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8002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51188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51188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2060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4800240"/>
            <a:ext cx="2060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4800240"/>
            <a:ext cx="2060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5118840"/>
            <a:ext cx="2060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5118840"/>
            <a:ext cx="2060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5118840"/>
            <a:ext cx="2060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31233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4800240"/>
            <a:ext cx="31233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714840"/>
            <a:ext cx="777240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algn="ctr">
              <a:lnSpc>
                <a:spcPct val="87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800240"/>
            <a:ext cx="31233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51188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31233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48002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51188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4800240"/>
            <a:ext cx="3123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5118840"/>
            <a:ext cx="6400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2" marL="1200240" indent="-2286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3" marL="16002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4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5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6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49440"/>
          </a:xfrm>
          <a:prstGeom prst="rect">
            <a:avLst/>
          </a:prstGeom>
          <a:gradFill rotWithShape="0">
            <a:gsLst>
              <a:gs pos="0">
                <a:srgbClr val="4697ae"/>
              </a:gs>
              <a:gs pos="100000">
                <a:srgbClr val="00719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1520"/>
            <a:ext cx="9144000" cy="0"/>
          </a:xfrm>
          <a:prstGeom prst="line">
            <a:avLst/>
          </a:prstGeom>
          <a:ln w="9360">
            <a:solidFill>
              <a:srgbClr val="73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4" name="rational" descr=""/>
          <p:cNvPicPr/>
          <p:nvPr/>
        </p:nvPicPr>
        <p:blipFill>
          <a:blip r:embed="rId2"/>
          <a:stretch/>
        </p:blipFill>
        <p:spPr>
          <a:xfrm>
            <a:off x="7155000" y="6391440"/>
            <a:ext cx="1704960" cy="466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-27000" y="6726240"/>
            <a:ext cx="7005600" cy="0"/>
          </a:xfrm>
          <a:prstGeom prst="line">
            <a:avLst/>
          </a:prstGeom>
          <a:ln w="9360">
            <a:solidFill>
              <a:srgbClr val="007e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273600" y="6426720"/>
            <a:ext cx="354456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 marL="407880" indent="-407880" algn="ctr">
              <a:lnSpc>
                <a:spcPct val="88000"/>
              </a:lnSpc>
              <a:spcBef>
                <a:spcPts val="75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Boston Metro Rational User Gro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cbff"/>
            </a:gs>
            <a:gs pos="50000">
              <a:srgbClr val="045368"/>
            </a:gs>
            <a:gs pos="100000">
              <a:srgbClr val="0bc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endant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7772400" cy="2422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571680" indent="0"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971640" indent="3240" algn="ctr">
              <a:spcBef>
                <a:spcPts val="451"/>
              </a:spcBef>
              <a:buClr>
                <a:srgbClr val="73e1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e1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73e1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cbff"/>
            </a:gs>
            <a:gs pos="50000">
              <a:srgbClr val="045368"/>
            </a:gs>
            <a:gs pos="100000">
              <a:srgbClr val="0bc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</a:rPr>
              <a:t>ClearCase 4.0 Update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 Narrow"/>
              </a:rPr>
              <a:t>Boston Metro User Group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Narrow"/>
              </a:rPr>
              <a:t>Ralph Capasso - CMBU Marketing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Narrow"/>
              </a:rPr>
              <a:t>January 25, 2000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New UCM Operation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1360" y="828360"/>
            <a:ext cx="8963280" cy="541980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Join Project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Work on an activity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Deliver activit(ies)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Rebase Stream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reate projects and component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Establish project policie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reate and promote baseline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Projects are organized with the Project Explorer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13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Projects Define: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Streams, Policies, Component Scope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187" name="project_explorer_streams_0623" descr=""/>
          <p:cNvPicPr/>
          <p:nvPr/>
        </p:nvPicPr>
        <p:blipFill>
          <a:blip r:embed="rId1"/>
          <a:stretch/>
        </p:blipFill>
        <p:spPr>
          <a:xfrm>
            <a:off x="738360" y="990720"/>
            <a:ext cx="581472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Project Policies – flexibility w/o customization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490240" cy="47023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ClearCase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Default view types (snapshot, dynamic)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Keep up-to-date with recommended baseline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Recommended baseline level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Modifiable components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0">
              <a:lnSpc>
                <a:spcPct val="87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ClearCase / ClearQuest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Validate delivery criteria 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Change state after delivery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Validate work-on criteria 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81440" y="2360520"/>
          <a:ext cx="428148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1440" y="2360520"/>
                    <a:ext cx="428148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UCM Component Suppor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490240" cy="458640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omponents group elements that are versioned, shared, and released as a whole.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194" name="project_explorer_components0623" descr=""/>
          <p:cNvPicPr/>
          <p:nvPr/>
        </p:nvPicPr>
        <p:blipFill>
          <a:blip r:embed="rId1"/>
          <a:stretch/>
        </p:blipFill>
        <p:spPr>
          <a:xfrm>
            <a:off x="2913120" y="2033640"/>
            <a:ext cx="5945040" cy="3905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H="1">
            <a:off x="2327760" y="3538080"/>
            <a:ext cx="1698120" cy="181836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6600" y="5440320"/>
            <a:ext cx="5357880" cy="703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onents are first class objects visible from the project explorer GUI and CL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73240" y="2254320"/>
            <a:ext cx="5502240" cy="39258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 Narrow"/>
              </a:rPr>
              <a:t>UCM Component Support</a:t>
            </a:r>
            <a:endParaRPr b="1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162000" y="5219640"/>
            <a:ext cx="1571400" cy="703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onent Na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63840" y="4776840"/>
            <a:ext cx="1513080" cy="703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onent Bas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08080" y="3903480"/>
            <a:ext cx="355680" cy="81252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668400" y="3847680"/>
            <a:ext cx="414360" cy="87804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5162400" y="3598560"/>
            <a:ext cx="1475280" cy="73188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7400" y="3897360"/>
            <a:ext cx="1671480" cy="13262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ad Onl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difiab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2240" y="847800"/>
            <a:ext cx="8804160" cy="776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84000"/>
          </a:bodyPr>
          <a:p>
            <a:pPr marL="383760" indent="-383760">
              <a:lnSpc>
                <a:spcPct val="7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Explicitly defines a project’s scope of work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83760" indent="-383760">
              <a:lnSpc>
                <a:spcPct val="7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Implicitly defines producer/consumer relationships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68640" y="2192400"/>
            <a:ext cx="10620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28840" y="2211480"/>
            <a:ext cx="2263680" cy="2001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28840" y="627120"/>
            <a:ext cx="2287440" cy="2055600"/>
          </a:xfrm>
          <a:prstGeom prst="blockArc">
            <a:avLst>
              <a:gd name="adj1" fmla="val 10718068"/>
              <a:gd name="adj2" fmla="val 81932"/>
              <a:gd name="adj3" fmla="val 2796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717640" y="2514600"/>
            <a:ext cx="1908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2271240" y="2271600"/>
            <a:ext cx="243000" cy="82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717640" y="2287080"/>
            <a:ext cx="190800" cy="1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2908440" y="2188800"/>
            <a:ext cx="1440" cy="336600"/>
          </a:xfrm>
          <a:prstGeom prst="line">
            <a:avLst/>
          </a:prstGeom>
          <a:ln w="6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859840" y="247176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859840" y="235728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859840" y="224460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25400" y="2050200"/>
            <a:ext cx="183960" cy="1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717280" y="1962000"/>
            <a:ext cx="1800" cy="65592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677320" y="224316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677320" y="2359080"/>
            <a:ext cx="95400" cy="856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677320" y="2478240"/>
            <a:ext cx="95400" cy="838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677320" y="212724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93920" y="2479680"/>
            <a:ext cx="24912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267640" y="2034720"/>
            <a:ext cx="287640" cy="1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2287080" y="1969560"/>
            <a:ext cx="1800" cy="297000"/>
          </a:xfrm>
          <a:prstGeom prst="line">
            <a:avLst/>
          </a:prstGeom>
          <a:ln w="6480">
            <a:solidFill>
              <a:srgbClr val="8c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239200" y="223200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239200" y="200484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540160" y="1726920"/>
            <a:ext cx="1440" cy="13078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499480" y="199548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499480" y="2220840"/>
            <a:ext cx="95400" cy="856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499480" y="2335320"/>
            <a:ext cx="95400" cy="838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99480" y="2448000"/>
            <a:ext cx="95400" cy="856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499480" y="256068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499480" y="267480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499480" y="1768320"/>
            <a:ext cx="95400" cy="86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59160" y="1668600"/>
            <a:ext cx="177840" cy="64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35200" y="1914480"/>
            <a:ext cx="174600" cy="63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3560" y="1916280"/>
            <a:ext cx="174600" cy="63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02000" y="2776680"/>
            <a:ext cx="95040" cy="871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02000" y="2998800"/>
            <a:ext cx="9504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7320" y="258912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289240" y="2809800"/>
            <a:ext cx="226800" cy="109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301480" y="2415960"/>
            <a:ext cx="1800" cy="41436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253600" y="2665440"/>
            <a:ext cx="96840" cy="856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253600" y="2778120"/>
            <a:ext cx="96840" cy="856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253600" y="2550960"/>
            <a:ext cx="96840" cy="86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253600" y="2440080"/>
            <a:ext cx="96840" cy="838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7720" y="2147760"/>
            <a:ext cx="176400" cy="65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955880" y="2809080"/>
            <a:ext cx="177840" cy="586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713960" y="2406240"/>
            <a:ext cx="231480" cy="1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914480" y="2297880"/>
            <a:ext cx="201600" cy="1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2135160" y="2172960"/>
            <a:ext cx="1440" cy="6462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081160" y="2511360"/>
            <a:ext cx="10656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081160" y="2643120"/>
            <a:ext cx="1065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081160" y="2771640"/>
            <a:ext cx="10656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081160" y="2382840"/>
            <a:ext cx="10656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682640" y="2703600"/>
            <a:ext cx="29376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731960" y="2603160"/>
            <a:ext cx="1440" cy="5014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680480" y="2909880"/>
            <a:ext cx="10620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680480" y="2784600"/>
            <a:ext cx="10620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680480" y="2658960"/>
            <a:ext cx="10620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713960" y="2155320"/>
            <a:ext cx="231480" cy="1800"/>
          </a:xfrm>
          <a:prstGeom prst="line">
            <a:avLst/>
          </a:prstGeom>
          <a:ln w="6480">
            <a:solidFill>
              <a:srgbClr val="8c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1725120" y="2052360"/>
            <a:ext cx="1800" cy="4014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671480" y="2365200"/>
            <a:ext cx="106560" cy="9396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671480" y="2114640"/>
            <a:ext cx="1065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1929960" y="1790640"/>
            <a:ext cx="17640" cy="12844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885320" y="2252520"/>
            <a:ext cx="104760" cy="9396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885320" y="2362320"/>
            <a:ext cx="1047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885320" y="2657520"/>
            <a:ext cx="1047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885320" y="2784600"/>
            <a:ext cx="1047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884240" y="3033720"/>
            <a:ext cx="1065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885320" y="1984320"/>
            <a:ext cx="10476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41400" y="1747800"/>
            <a:ext cx="195480" cy="71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30440" y="2552760"/>
            <a:ext cx="19368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106440" y="3075120"/>
            <a:ext cx="214200" cy="136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147840" y="2230560"/>
            <a:ext cx="34632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49480" y="2664000"/>
            <a:ext cx="157320" cy="1886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41560" y="1986120"/>
            <a:ext cx="2048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922480" y="1990440"/>
            <a:ext cx="1800" cy="65412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68480" y="2335320"/>
            <a:ext cx="10800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68480" y="2465280"/>
            <a:ext cx="1080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68480" y="2597040"/>
            <a:ext cx="1080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68480" y="2203560"/>
            <a:ext cx="10800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68480" y="2071800"/>
            <a:ext cx="10800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330720" y="2333520"/>
            <a:ext cx="1440" cy="7336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2649600"/>
            <a:ext cx="108000" cy="96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4920" y="2776680"/>
            <a:ext cx="10800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74920" y="2903400"/>
            <a:ext cx="108000" cy="9396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74920" y="3029040"/>
            <a:ext cx="10800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4920" y="2521080"/>
            <a:ext cx="108000" cy="96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3117600" y="1846440"/>
            <a:ext cx="417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10000" y="1854360"/>
            <a:ext cx="1440" cy="4060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57440" y="2192400"/>
            <a:ext cx="10800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57440" y="1938240"/>
            <a:ext cx="1080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122640" y="1619280"/>
            <a:ext cx="1440" cy="15192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68640" y="1930320"/>
            <a:ext cx="1062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68640" y="2532240"/>
            <a:ext cx="10620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68640" y="2660760"/>
            <a:ext cx="10620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68640" y="2789280"/>
            <a:ext cx="10620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68640" y="1803240"/>
            <a:ext cx="1062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68640" y="1674720"/>
            <a:ext cx="10620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024360" y="1562040"/>
            <a:ext cx="195120" cy="71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68640" y="2917800"/>
            <a:ext cx="1062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68640" y="3046320"/>
            <a:ext cx="1062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68640" y="3176640"/>
            <a:ext cx="10620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401280" y="1816200"/>
            <a:ext cx="19692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824920" y="1954080"/>
            <a:ext cx="196920" cy="71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499480" y="188280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499480" y="212400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677320" y="2009880"/>
            <a:ext cx="95400" cy="838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885320" y="1860480"/>
            <a:ext cx="1047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1885320" y="2111400"/>
            <a:ext cx="1047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671480" y="2238480"/>
            <a:ext cx="10656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081160" y="2252520"/>
            <a:ext cx="106560" cy="9396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239200" y="211932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16160" y="2347920"/>
            <a:ext cx="174600" cy="65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68640" y="2060640"/>
            <a:ext cx="10620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57440" y="2065320"/>
            <a:ext cx="1080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885320" y="2908440"/>
            <a:ext cx="10476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502000" y="2886120"/>
            <a:ext cx="95040" cy="856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16120" y="3084480"/>
            <a:ext cx="162000" cy="1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680480" y="3035160"/>
            <a:ext cx="106200" cy="9396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30440" y="2006640"/>
            <a:ext cx="19368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44800" y="2135160"/>
            <a:ext cx="19512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3114360" y="2452680"/>
            <a:ext cx="1602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226680" y="2419200"/>
            <a:ext cx="19836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68640" y="2403360"/>
            <a:ext cx="1062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779480" y="2941560"/>
            <a:ext cx="1566720" cy="377640"/>
            <a:chOff x="1779480" y="2941560"/>
            <a:chExt cx="1566720" cy="377640"/>
          </a:xfrm>
        </p:grpSpPr>
        <p:grpSp>
          <p:nvGrpSpPr>
            <p:cNvPr id="328" name=""/>
            <p:cNvGrpSpPr/>
            <p:nvPr/>
          </p:nvGrpSpPr>
          <p:grpSpPr>
            <a:xfrm>
              <a:off x="1779480" y="2941560"/>
              <a:ext cx="1566720" cy="377640"/>
              <a:chOff x="1779480" y="2941560"/>
              <a:chExt cx="1566720" cy="377640"/>
            </a:xfrm>
          </p:grpSpPr>
          <p:sp>
            <p:nvSpPr>
              <p:cNvPr id="329" name=""/>
              <p:cNvSpPr/>
              <p:nvPr/>
            </p:nvSpPr>
            <p:spPr>
              <a:xfrm>
                <a:off x="1779480" y="2964960"/>
                <a:ext cx="281520" cy="249120"/>
              </a:xfrm>
              <a:custGeom>
                <a:avLst/>
                <a:gdLst>
                  <a:gd name="textAreaLeft" fmla="*/ 64080 w 281520"/>
                  <a:gd name="textAreaRight" fmla="*/ 217440 w 281520"/>
                  <a:gd name="textAreaTop" fmla="*/ 56880 h 249120"/>
                  <a:gd name="textAreaBottom" fmla="*/ 19224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b2b2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01560" y="2941560"/>
                <a:ext cx="281520" cy="249120"/>
              </a:xfrm>
              <a:custGeom>
                <a:avLst/>
                <a:gdLst>
                  <a:gd name="textAreaLeft" fmla="*/ 64080 w 281520"/>
                  <a:gd name="textAreaRight" fmla="*/ 217440 w 281520"/>
                  <a:gd name="textAreaTop" fmla="*/ 56880 h 249120"/>
                  <a:gd name="textAreaBottom" fmla="*/ 19224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b2b2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1210000">
                <a:off x="2884320" y="3178800"/>
                <a:ext cx="456480" cy="114840"/>
              </a:xfrm>
              <a:custGeom>
                <a:avLst/>
                <a:gdLst>
                  <a:gd name="textAreaLeft" fmla="*/ 104040 w 456480"/>
                  <a:gd name="textAreaRight" fmla="*/ 352440 w 456480"/>
                  <a:gd name="textAreaTop" fmla="*/ 26280 h 114840"/>
                  <a:gd name="textAreaBottom" fmla="*/ 88560 h 11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b2b2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 flipH="1">
              <a:off x="1894680" y="3026880"/>
              <a:ext cx="105840" cy="93960"/>
            </a:xfrm>
            <a:prstGeom prst="ellipse">
              <a:avLst/>
            </a:prstGeom>
            <a:gradFill rotWithShape="0">
              <a:gsLst>
                <a:gs pos="0">
                  <a:srgbClr val="d81040"/>
                </a:gs>
                <a:gs pos="100000">
                  <a:srgbClr val="6307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2505960" y="2990160"/>
              <a:ext cx="105840" cy="93600"/>
            </a:xfrm>
            <a:prstGeom prst="ellipse">
              <a:avLst/>
            </a:prstGeom>
            <a:gradFill rotWithShape="0">
              <a:gsLst>
                <a:gs pos="0">
                  <a:srgbClr val="d81040"/>
                </a:gs>
                <a:gs pos="100000">
                  <a:srgbClr val="6307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078720" y="3172680"/>
              <a:ext cx="105840" cy="93600"/>
            </a:xfrm>
            <a:prstGeom prst="ellipse">
              <a:avLst/>
            </a:prstGeom>
            <a:gradFill rotWithShape="0">
              <a:gsLst>
                <a:gs pos="0">
                  <a:srgbClr val="d81040"/>
                </a:gs>
                <a:gs pos="100000">
                  <a:srgbClr val="6307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UCM Stream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952640" y="1393920"/>
            <a:ext cx="5238360" cy="3749400"/>
            <a:chOff x="1952640" y="1393920"/>
            <a:chExt cx="5238360" cy="3749400"/>
          </a:xfrm>
        </p:grpSpPr>
        <p:sp>
          <p:nvSpPr>
            <p:cNvPr id="337" name=""/>
            <p:cNvSpPr/>
            <p:nvPr/>
          </p:nvSpPr>
          <p:spPr>
            <a:xfrm>
              <a:off x="1981080" y="1393920"/>
              <a:ext cx="5209560" cy="3749400"/>
            </a:xfrm>
            <a:prstGeom prst="triangle">
              <a:avLst>
                <a:gd name="adj" fmla="val 50000"/>
              </a:avLst>
            </a:prstGeom>
            <a:solidFill>
              <a:srgbClr val="022d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952640" y="4026960"/>
              <a:ext cx="5238360" cy="1116000"/>
            </a:xfrm>
            <a:custGeom>
              <a:avLst/>
              <a:gdLst>
                <a:gd name="textAreaLeft" fmla="*/ 864000 w 5238360"/>
                <a:gd name="textAreaRight" fmla="*/ 4374360 w 5238360"/>
                <a:gd name="textAreaTop" fmla="*/ 183960 h 1116000"/>
                <a:gd name="textAreaBottom" fmla="*/ 932040 h 11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621240" y="2687760"/>
            <a:ext cx="1701720" cy="973080"/>
            <a:chOff x="3621240" y="2687760"/>
            <a:chExt cx="1701720" cy="973080"/>
          </a:xfrm>
        </p:grpSpPr>
        <p:grpSp>
          <p:nvGrpSpPr>
            <p:cNvPr id="340" name=""/>
            <p:cNvGrpSpPr/>
            <p:nvPr/>
          </p:nvGrpSpPr>
          <p:grpSpPr>
            <a:xfrm>
              <a:off x="4164120" y="2687760"/>
              <a:ext cx="1158840" cy="658800"/>
              <a:chOff x="4164120" y="2687760"/>
              <a:chExt cx="1158840" cy="658800"/>
            </a:xfrm>
          </p:grpSpPr>
          <p:sp>
            <p:nvSpPr>
              <p:cNvPr id="341" name=""/>
              <p:cNvSpPr/>
              <p:nvPr/>
            </p:nvSpPr>
            <p:spPr>
              <a:xfrm>
                <a:off x="4164120" y="2687760"/>
                <a:ext cx="1158840" cy="658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64120" y="2687760"/>
                <a:ext cx="1158840" cy="3189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ctivitie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4353120" y="309420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3983040" y="2792520"/>
              <a:ext cx="1158840" cy="658800"/>
              <a:chOff x="3983040" y="2792520"/>
              <a:chExt cx="1158840" cy="658800"/>
            </a:xfrm>
          </p:grpSpPr>
          <p:sp>
            <p:nvSpPr>
              <p:cNvPr id="345" name=""/>
              <p:cNvSpPr/>
              <p:nvPr/>
            </p:nvSpPr>
            <p:spPr>
              <a:xfrm>
                <a:off x="3983040" y="2792520"/>
                <a:ext cx="1158840" cy="658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983040" y="2792520"/>
                <a:ext cx="1158840" cy="3189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ctivitie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4172040" y="319896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801960" y="2897280"/>
              <a:ext cx="1158840" cy="658800"/>
              <a:chOff x="3801960" y="2897280"/>
              <a:chExt cx="1158840" cy="658800"/>
            </a:xfrm>
          </p:grpSpPr>
          <p:sp>
            <p:nvSpPr>
              <p:cNvPr id="349" name=""/>
              <p:cNvSpPr/>
              <p:nvPr/>
            </p:nvSpPr>
            <p:spPr>
              <a:xfrm>
                <a:off x="3801960" y="2897280"/>
                <a:ext cx="1158840" cy="658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01960" y="2897280"/>
                <a:ext cx="1158840" cy="3189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ctivitie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3990960" y="330372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621240" y="3002040"/>
              <a:ext cx="1158840" cy="658800"/>
              <a:chOff x="3621240" y="3002040"/>
              <a:chExt cx="1158840" cy="658800"/>
            </a:xfrm>
          </p:grpSpPr>
          <p:sp>
            <p:nvSpPr>
              <p:cNvPr id="353" name=""/>
              <p:cNvSpPr/>
              <p:nvPr/>
            </p:nvSpPr>
            <p:spPr>
              <a:xfrm>
                <a:off x="3621240" y="3002040"/>
                <a:ext cx="1158840" cy="658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21240" y="3002040"/>
                <a:ext cx="1158840" cy="3189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ctivitie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3810240" y="340848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6" name=""/>
          <p:cNvSpPr/>
          <p:nvPr/>
        </p:nvSpPr>
        <p:spPr>
          <a:xfrm flipV="1">
            <a:off x="2494080" y="4339440"/>
            <a:ext cx="4155840" cy="490680"/>
          </a:xfrm>
          <a:custGeom>
            <a:avLst/>
            <a:gdLst>
              <a:gd name="textAreaLeft" fmla="*/ 520920 w 4155840"/>
              <a:gd name="textAreaRight" fmla="*/ 3634920 w 4155840"/>
              <a:gd name="textAreaTop" fmla="*/ 61200 h 490680"/>
              <a:gd name="textAreaBottom" fmla="*/ 429480 h 49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6" y="21600"/>
                </a:lnTo>
                <a:lnTo>
                  <a:pt x="1724" y="21600"/>
                </a:lnTo>
                <a:close/>
              </a:path>
            </a:pathLst>
          </a:custGeom>
          <a:solidFill>
            <a:srgbClr val="4700b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407880" indent="-407880" algn="ctr">
              <a:lnSpc>
                <a:spcPct val="78000"/>
              </a:lnSpc>
              <a:spcBef>
                <a:spcPts val="17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ndation Base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230640" y="2360160"/>
            <a:ext cx="4064040" cy="3609360"/>
            <a:chOff x="3230640" y="2360160"/>
            <a:chExt cx="4064040" cy="3609360"/>
          </a:xfrm>
        </p:grpSpPr>
        <p:grpSp>
          <p:nvGrpSpPr>
            <p:cNvPr id="358" name=""/>
            <p:cNvGrpSpPr/>
            <p:nvPr/>
          </p:nvGrpSpPr>
          <p:grpSpPr>
            <a:xfrm>
              <a:off x="3230640" y="2360160"/>
              <a:ext cx="4064040" cy="3609360"/>
              <a:chOff x="3230640" y="2360160"/>
              <a:chExt cx="4064040" cy="3609360"/>
            </a:xfrm>
          </p:grpSpPr>
          <p:sp>
            <p:nvSpPr>
              <p:cNvPr id="359" name=""/>
              <p:cNvSpPr/>
              <p:nvPr/>
            </p:nvSpPr>
            <p:spPr>
              <a:xfrm flipH="1" flipV="1">
                <a:off x="3230640" y="2359800"/>
                <a:ext cx="2681280" cy="28083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 rot="5400000">
                <a:off x="6759000" y="5433480"/>
                <a:ext cx="547560" cy="523800"/>
              </a:xfrm>
              <a:prstGeom prst="ellipse">
                <a:avLst/>
              </a:prstGeom>
              <a:solidFill>
                <a:srgbClr val="ff0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rot="2355600">
              <a:off x="5866560" y="4786200"/>
              <a:ext cx="875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5199120" y="1120680"/>
            <a:ext cx="3558960" cy="703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figuration Specification is Automatically Generat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UCM Stream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treams define stable configuration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treams are persistent object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Developer controls updates (regardless of view type)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hanges flowing into and out of a stream are consistent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838160" y="3384720"/>
            <a:ext cx="4695480" cy="3034800"/>
            <a:chOff x="1838160" y="3384720"/>
            <a:chExt cx="4695480" cy="3034800"/>
          </a:xfrm>
        </p:grpSpPr>
        <p:grpSp>
          <p:nvGrpSpPr>
            <p:cNvPr id="366" name=""/>
            <p:cNvGrpSpPr/>
            <p:nvPr/>
          </p:nvGrpSpPr>
          <p:grpSpPr>
            <a:xfrm>
              <a:off x="1838160" y="3384720"/>
              <a:ext cx="4695480" cy="3034800"/>
              <a:chOff x="1838160" y="3384720"/>
              <a:chExt cx="4695480" cy="3034800"/>
            </a:xfrm>
          </p:grpSpPr>
          <p:sp>
            <p:nvSpPr>
              <p:cNvPr id="367" name=""/>
              <p:cNvSpPr/>
              <p:nvPr/>
            </p:nvSpPr>
            <p:spPr>
              <a:xfrm>
                <a:off x="1863720" y="3384720"/>
                <a:ext cx="4669920" cy="3034800"/>
              </a:xfrm>
              <a:prstGeom prst="triangle">
                <a:avLst>
                  <a:gd name="adj" fmla="val 50000"/>
                </a:avLst>
              </a:prstGeom>
              <a:solidFill>
                <a:srgbClr val="022df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1838160" y="5515200"/>
                <a:ext cx="4695480" cy="903240"/>
              </a:xfrm>
              <a:custGeom>
                <a:avLst/>
                <a:gdLst>
                  <a:gd name="textAreaLeft" fmla="*/ 774360 w 4695480"/>
                  <a:gd name="textAreaRight" fmla="*/ 3921120 w 4695480"/>
                  <a:gd name="textAreaTop" fmla="*/ 149040 h 903240"/>
                  <a:gd name="textAreaBottom" fmla="*/ 754200 h 903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337" y="21600"/>
                    </a:lnTo>
                    <a:lnTo>
                      <a:pt x="3263" y="2160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3333240" y="4431960"/>
              <a:ext cx="1525680" cy="786960"/>
              <a:chOff x="3333240" y="4431960"/>
              <a:chExt cx="1525680" cy="7869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3819960" y="4431960"/>
                <a:ext cx="1038960" cy="532800"/>
                <a:chOff x="3819960" y="4431960"/>
                <a:chExt cx="1038960" cy="5328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819960" y="4431960"/>
                  <a:ext cx="1038960" cy="532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407880" indent="-407880" algn="ctr">
                    <a:lnSpc>
                      <a:spcPct val="88000"/>
                    </a:lnSpc>
                    <a:spcBef>
                      <a:spcPts val="1001"/>
                    </a:spcBef>
                    <a:tabLst>
                      <a:tab algn="l" pos="0"/>
                      <a:tab algn="l" pos="958680"/>
                      <a:tab algn="l" pos="1917720"/>
                      <a:tab algn="l" pos="2876400"/>
                      <a:tab algn="l" pos="3835440"/>
                      <a:tab algn="l" pos="4794120"/>
                      <a:tab algn="l" pos="5753160"/>
                      <a:tab algn="l" pos="6711840"/>
                      <a:tab algn="l" pos="7670880"/>
                      <a:tab algn="l" pos="8629560"/>
                      <a:tab algn="l" pos="9588600"/>
                      <a:tab algn="l" pos="1054728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19960" y="4431960"/>
                  <a:ext cx="1038960" cy="25776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407880" indent="-407880" algn="ctr">
                    <a:lnSpc>
                      <a:spcPct val="88000"/>
                    </a:lnSpc>
                    <a:spcBef>
                      <a:spcPts val="1001"/>
                    </a:spcBef>
                    <a:tabLst>
                      <a:tab algn="l" pos="0"/>
                      <a:tab algn="l" pos="958680"/>
                      <a:tab algn="l" pos="1917720"/>
                      <a:tab algn="l" pos="2876400"/>
                      <a:tab algn="l" pos="3835440"/>
                      <a:tab algn="l" pos="4794120"/>
                      <a:tab algn="l" pos="5753160"/>
                      <a:tab algn="l" pos="6711840"/>
                      <a:tab algn="l" pos="7670880"/>
                      <a:tab algn="l" pos="8629560"/>
                      <a:tab algn="l" pos="9588600"/>
                      <a:tab algn="l" pos="1054728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Activitie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3988440" y="4760640"/>
                  <a:ext cx="124920" cy="12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22dfc"/>
                    </a:gs>
                    <a:gs pos="100000">
                      <a:srgbClr val="00147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3657600" y="4516560"/>
                <a:ext cx="1038960" cy="532800"/>
                <a:chOff x="3657600" y="4516560"/>
                <a:chExt cx="1038960" cy="5328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657600" y="4516560"/>
                  <a:ext cx="1038960" cy="532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407880" indent="-407880" algn="ctr">
                    <a:lnSpc>
                      <a:spcPct val="88000"/>
                    </a:lnSpc>
                    <a:spcBef>
                      <a:spcPts val="1001"/>
                    </a:spcBef>
                    <a:tabLst>
                      <a:tab algn="l" pos="0"/>
                      <a:tab algn="l" pos="958680"/>
                      <a:tab algn="l" pos="1917720"/>
                      <a:tab algn="l" pos="2876400"/>
                      <a:tab algn="l" pos="3835440"/>
                      <a:tab algn="l" pos="4794120"/>
                      <a:tab algn="l" pos="5753160"/>
                      <a:tab algn="l" pos="6711840"/>
                      <a:tab algn="l" pos="7670880"/>
                      <a:tab algn="l" pos="8629560"/>
                      <a:tab algn="l" pos="9588600"/>
                      <a:tab algn="l" pos="1054728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657600" y="4516560"/>
                  <a:ext cx="1038960" cy="25776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407880" indent="-407880" algn="ctr">
                    <a:lnSpc>
                      <a:spcPct val="88000"/>
                    </a:lnSpc>
                    <a:spcBef>
                      <a:spcPts val="1001"/>
                    </a:spcBef>
                    <a:tabLst>
                      <a:tab algn="l" pos="0"/>
                      <a:tab algn="l" pos="958680"/>
                      <a:tab algn="l" pos="1917720"/>
                      <a:tab algn="l" pos="2876400"/>
                      <a:tab algn="l" pos="3835440"/>
                      <a:tab algn="l" pos="4794120"/>
                      <a:tab algn="l" pos="5753160"/>
                      <a:tab algn="l" pos="6711840"/>
                      <a:tab algn="l" pos="7670880"/>
                      <a:tab algn="l" pos="8629560"/>
                      <a:tab algn="l" pos="9588600"/>
                      <a:tab algn="l" pos="1054728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Activitie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3826080" y="4845240"/>
                  <a:ext cx="124920" cy="12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22dfc"/>
                    </a:gs>
                    <a:gs pos="100000">
                      <a:srgbClr val="00147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495240" y="4601160"/>
                <a:ext cx="1038960" cy="532800"/>
                <a:chOff x="3495240" y="4601160"/>
                <a:chExt cx="1038960" cy="5328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495240" y="4601160"/>
                  <a:ext cx="1038960" cy="532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407880" indent="-407880" algn="ctr">
                    <a:lnSpc>
                      <a:spcPct val="88000"/>
                    </a:lnSpc>
                    <a:spcBef>
                      <a:spcPts val="1001"/>
                    </a:spcBef>
                    <a:tabLst>
                      <a:tab algn="l" pos="0"/>
                      <a:tab algn="l" pos="958680"/>
                      <a:tab algn="l" pos="1917720"/>
                      <a:tab algn="l" pos="2876400"/>
                      <a:tab algn="l" pos="3835440"/>
                      <a:tab algn="l" pos="4794120"/>
                      <a:tab algn="l" pos="5753160"/>
                      <a:tab algn="l" pos="6711840"/>
                      <a:tab algn="l" pos="7670880"/>
                      <a:tab algn="l" pos="8629560"/>
                      <a:tab algn="l" pos="9588600"/>
                      <a:tab algn="l" pos="1054728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495240" y="4601160"/>
                  <a:ext cx="1038960" cy="25776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407880" indent="-407880" algn="ctr">
                    <a:lnSpc>
                      <a:spcPct val="88000"/>
                    </a:lnSpc>
                    <a:spcBef>
                      <a:spcPts val="1001"/>
                    </a:spcBef>
                    <a:tabLst>
                      <a:tab algn="l" pos="0"/>
                      <a:tab algn="l" pos="958680"/>
                      <a:tab algn="l" pos="1917720"/>
                      <a:tab algn="l" pos="2876400"/>
                      <a:tab algn="l" pos="3835440"/>
                      <a:tab algn="l" pos="4794120"/>
                      <a:tab algn="l" pos="5753160"/>
                      <a:tab algn="l" pos="6711840"/>
                      <a:tab algn="l" pos="7670880"/>
                      <a:tab algn="l" pos="8629560"/>
                      <a:tab algn="l" pos="9588600"/>
                      <a:tab algn="l" pos="1054728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Activitie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3663720" y="4929840"/>
                  <a:ext cx="124920" cy="12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22dfc"/>
                    </a:gs>
                    <a:gs pos="100000">
                      <a:srgbClr val="00147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3333240" y="4686120"/>
                <a:ext cx="1038960" cy="532800"/>
                <a:chOff x="3333240" y="4686120"/>
                <a:chExt cx="1038960" cy="5328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333240" y="4686120"/>
                  <a:ext cx="1038960" cy="532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407880" indent="-407880" algn="ctr">
                    <a:lnSpc>
                      <a:spcPct val="88000"/>
                    </a:lnSpc>
                    <a:spcBef>
                      <a:spcPts val="1001"/>
                    </a:spcBef>
                    <a:tabLst>
                      <a:tab algn="l" pos="0"/>
                      <a:tab algn="l" pos="958680"/>
                      <a:tab algn="l" pos="1917720"/>
                      <a:tab algn="l" pos="2876400"/>
                      <a:tab algn="l" pos="3835440"/>
                      <a:tab algn="l" pos="4794120"/>
                      <a:tab algn="l" pos="5753160"/>
                      <a:tab algn="l" pos="6711840"/>
                      <a:tab algn="l" pos="7670880"/>
                      <a:tab algn="l" pos="8629560"/>
                      <a:tab algn="l" pos="9588600"/>
                      <a:tab algn="l" pos="1054728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333240" y="4686120"/>
                  <a:ext cx="1038960" cy="25776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407880" indent="-407880" algn="ctr">
                    <a:lnSpc>
                      <a:spcPct val="88000"/>
                    </a:lnSpc>
                    <a:spcBef>
                      <a:spcPts val="1001"/>
                    </a:spcBef>
                    <a:tabLst>
                      <a:tab algn="l" pos="0"/>
                      <a:tab algn="l" pos="958680"/>
                      <a:tab algn="l" pos="1917720"/>
                      <a:tab algn="l" pos="2876400"/>
                      <a:tab algn="l" pos="3835440"/>
                      <a:tab algn="l" pos="4794120"/>
                      <a:tab algn="l" pos="5753160"/>
                      <a:tab algn="l" pos="6711840"/>
                      <a:tab algn="l" pos="7670880"/>
                      <a:tab algn="l" pos="8629560"/>
                      <a:tab algn="l" pos="9588600"/>
                      <a:tab algn="l" pos="1054728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Activitie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3501720" y="5014800"/>
                  <a:ext cx="124920" cy="12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22dfc"/>
                    </a:gs>
                    <a:gs pos="100000">
                      <a:srgbClr val="00147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6" name=""/>
            <p:cNvSpPr/>
            <p:nvPr/>
          </p:nvSpPr>
          <p:spPr>
            <a:xfrm flipV="1">
              <a:off x="2323440" y="5768640"/>
              <a:ext cx="3724920" cy="397080"/>
            </a:xfrm>
            <a:custGeom>
              <a:avLst/>
              <a:gdLst>
                <a:gd name="textAreaLeft" fmla="*/ 466920 w 3724920"/>
                <a:gd name="textAreaRight" fmla="*/ 3258000 w 3724920"/>
                <a:gd name="textAreaTop" fmla="*/ 49680 h 397080"/>
                <a:gd name="textAreaBottom" fmla="*/ 34740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76" y="21600"/>
                  </a:lnTo>
                  <a:lnTo>
                    <a:pt x="1724" y="21600"/>
                  </a:lnTo>
                  <a:close/>
                </a:path>
              </a:pathLst>
            </a:custGeom>
            <a:solidFill>
              <a:srgbClr val="4700b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marL="407880" indent="-407880" algn="ctr">
                <a:lnSpc>
                  <a:spcPct val="78000"/>
                </a:lnSpc>
                <a:spcBef>
                  <a:spcPts val="1749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Narrow"/>
                </a:rPr>
                <a:t>Foundation Baseli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762200" y="5108400"/>
            <a:ext cx="2419200" cy="398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ECK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33400" y="5508720"/>
            <a:ext cx="2419560" cy="398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ECK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57280" y="2173320"/>
            <a:ext cx="2263680" cy="2001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7280" y="588960"/>
            <a:ext cx="2287800" cy="2055960"/>
          </a:xfrm>
          <a:prstGeom prst="blockArc">
            <a:avLst>
              <a:gd name="adj1" fmla="val 10718068"/>
              <a:gd name="adj2" fmla="val 81932"/>
              <a:gd name="adj3" fmla="val 2796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038400" y="1450800"/>
            <a:ext cx="3486240" cy="2816280"/>
            <a:chOff x="3038400" y="1450800"/>
            <a:chExt cx="3486240" cy="2816280"/>
          </a:xfrm>
        </p:grpSpPr>
        <p:sp>
          <p:nvSpPr>
            <p:cNvPr id="392" name=""/>
            <p:cNvSpPr/>
            <p:nvPr/>
          </p:nvSpPr>
          <p:spPr>
            <a:xfrm>
              <a:off x="3057480" y="1450800"/>
              <a:ext cx="3467160" cy="2816280"/>
            </a:xfrm>
            <a:prstGeom prst="triangle">
              <a:avLst>
                <a:gd name="adj" fmla="val 50000"/>
              </a:avLst>
            </a:prstGeom>
            <a:solidFill>
              <a:srgbClr val="022d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3038400" y="3427920"/>
              <a:ext cx="3486240" cy="838440"/>
            </a:xfrm>
            <a:custGeom>
              <a:avLst/>
              <a:gdLst>
                <a:gd name="textAreaLeft" fmla="*/ 574920 w 3486240"/>
                <a:gd name="textAreaRight" fmla="*/ 2911320 w 3486240"/>
                <a:gd name="textAreaTop" fmla="*/ 138240 h 838440"/>
                <a:gd name="textAreaBottom" fmla="*/ 7002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095720" y="2122560"/>
            <a:ext cx="2244600" cy="1923480"/>
            <a:chOff x="4095720" y="2122560"/>
            <a:chExt cx="2244600" cy="1923480"/>
          </a:xfrm>
        </p:grpSpPr>
        <p:sp>
          <p:nvSpPr>
            <p:cNvPr id="395" name=""/>
            <p:cNvSpPr/>
            <p:nvPr/>
          </p:nvSpPr>
          <p:spPr>
            <a:xfrm flipH="1" flipV="1">
              <a:off x="4095720" y="2122560"/>
              <a:ext cx="1481040" cy="14968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 rot="5400000">
              <a:off x="6049800" y="3755520"/>
              <a:ext cx="291600" cy="289080"/>
            </a:xfrm>
            <a:prstGeom prst="ellipse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All UCM work must be done through activitie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98" name=""/>
          <p:cNvSpPr/>
          <p:nvPr/>
        </p:nvSpPr>
        <p:spPr>
          <a:xfrm>
            <a:off x="3097080" y="2154240"/>
            <a:ext cx="10656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745720" y="2476080"/>
            <a:ext cx="190440" cy="1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2300400" y="2233440"/>
            <a:ext cx="242640" cy="82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745720" y="2249640"/>
            <a:ext cx="1904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936880" y="2150640"/>
            <a:ext cx="1440" cy="336600"/>
          </a:xfrm>
          <a:prstGeom prst="line">
            <a:avLst/>
          </a:prstGeom>
          <a:ln w="6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889360" y="2433600"/>
            <a:ext cx="9504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889360" y="2319480"/>
            <a:ext cx="95040" cy="838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889360" y="2206800"/>
            <a:ext cx="95040" cy="838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554200" y="2013120"/>
            <a:ext cx="18432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746440" y="1923840"/>
            <a:ext cx="1440" cy="65556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706840" y="2205000"/>
            <a:ext cx="9504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706840" y="2320920"/>
            <a:ext cx="95040" cy="856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706840" y="2440080"/>
            <a:ext cx="95040" cy="838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2706840" y="2089080"/>
            <a:ext cx="9504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321640" y="2441160"/>
            <a:ext cx="249480" cy="1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2297160" y="1996560"/>
            <a:ext cx="287280" cy="1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2316240" y="1932120"/>
            <a:ext cx="1440" cy="296640"/>
          </a:xfrm>
          <a:prstGeom prst="line">
            <a:avLst/>
          </a:prstGeom>
          <a:ln w="6480">
            <a:solidFill>
              <a:srgbClr val="8c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267640" y="219384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267640" y="1967040"/>
            <a:ext cx="95400" cy="838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2568600" y="1689120"/>
            <a:ext cx="1440" cy="13082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529000" y="1957320"/>
            <a:ext cx="9504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529000" y="2182680"/>
            <a:ext cx="95040" cy="856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29000" y="2297160"/>
            <a:ext cx="9504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529000" y="2409840"/>
            <a:ext cx="95040" cy="856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529000" y="2522520"/>
            <a:ext cx="9504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2529000" y="2637000"/>
            <a:ext cx="95040" cy="838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529000" y="1730520"/>
            <a:ext cx="95040" cy="856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87600" y="1630440"/>
            <a:ext cx="177840" cy="65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64000" y="1876320"/>
            <a:ext cx="174600" cy="63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32000" y="1878120"/>
            <a:ext cx="174600" cy="63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2529720" y="2738520"/>
            <a:ext cx="95400" cy="871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529720" y="296064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706840" y="2550960"/>
            <a:ext cx="9504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17320" y="2771280"/>
            <a:ext cx="227160" cy="109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2329920" y="2377800"/>
            <a:ext cx="1800" cy="41436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282040" y="2627280"/>
            <a:ext cx="96840" cy="856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2282040" y="2739960"/>
            <a:ext cx="96840" cy="856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282040" y="2513160"/>
            <a:ext cx="96840" cy="856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82040" y="2401920"/>
            <a:ext cx="9684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46520" y="2109960"/>
            <a:ext cx="176040" cy="64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984320" y="2771640"/>
            <a:ext cx="177840" cy="590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743120" y="2368080"/>
            <a:ext cx="231840" cy="1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943280" y="2259720"/>
            <a:ext cx="201600" cy="1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2163240" y="2134800"/>
            <a:ext cx="1800" cy="6462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2109240" y="2473200"/>
            <a:ext cx="1062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109240" y="2604960"/>
            <a:ext cx="106200" cy="9396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109240" y="2733840"/>
            <a:ext cx="10620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109240" y="2344680"/>
            <a:ext cx="1062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710720" y="2665440"/>
            <a:ext cx="2934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1760040" y="2565360"/>
            <a:ext cx="1800" cy="5018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1709640" y="2871720"/>
            <a:ext cx="1065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1709640" y="2746440"/>
            <a:ext cx="1065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709640" y="2620800"/>
            <a:ext cx="106560" cy="9396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1743120" y="2117880"/>
            <a:ext cx="231840" cy="1440"/>
          </a:xfrm>
          <a:prstGeom prst="line">
            <a:avLst/>
          </a:prstGeom>
          <a:ln w="6480">
            <a:solidFill>
              <a:srgbClr val="8c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754280" y="2014560"/>
            <a:ext cx="1440" cy="40176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699560" y="2327400"/>
            <a:ext cx="10620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1699560" y="2076480"/>
            <a:ext cx="10620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959120" y="1752480"/>
            <a:ext cx="17280" cy="12844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913760" y="2214720"/>
            <a:ext cx="1047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1913760" y="2324160"/>
            <a:ext cx="1047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1913760" y="2619360"/>
            <a:ext cx="1047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1913760" y="2746440"/>
            <a:ext cx="1047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1912320" y="2995560"/>
            <a:ext cx="10620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1913760" y="1946160"/>
            <a:ext cx="10476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70200" y="1709640"/>
            <a:ext cx="195120" cy="71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58880" y="2514600"/>
            <a:ext cx="19368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135240" y="3036960"/>
            <a:ext cx="214560" cy="136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176280" y="2192400"/>
            <a:ext cx="34596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978280" y="2625840"/>
            <a:ext cx="156960" cy="1886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70360" y="1947960"/>
            <a:ext cx="20448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951280" y="1952280"/>
            <a:ext cx="1440" cy="65412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97280" y="2297160"/>
            <a:ext cx="10800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97280" y="2427120"/>
            <a:ext cx="1080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97280" y="2558880"/>
            <a:ext cx="1080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7280" y="2165400"/>
            <a:ext cx="10800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97280" y="2033640"/>
            <a:ext cx="10800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359160" y="2295360"/>
            <a:ext cx="1440" cy="7336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03720" y="2611440"/>
            <a:ext cx="107640" cy="96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03720" y="2738520"/>
            <a:ext cx="10764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03720" y="2865600"/>
            <a:ext cx="10764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03720" y="2990880"/>
            <a:ext cx="10764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03720" y="2482920"/>
            <a:ext cx="107640" cy="96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3146400" y="1808280"/>
            <a:ext cx="4176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538440" y="1815840"/>
            <a:ext cx="1800" cy="406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86240" y="2154240"/>
            <a:ext cx="1080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86240" y="1900080"/>
            <a:ext cx="1080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51080" y="1581120"/>
            <a:ext cx="1800" cy="15192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97080" y="1892160"/>
            <a:ext cx="10656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97080" y="2494080"/>
            <a:ext cx="10656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97080" y="2622600"/>
            <a:ext cx="10656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97080" y="2751120"/>
            <a:ext cx="10656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97080" y="1765440"/>
            <a:ext cx="10656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97080" y="1636560"/>
            <a:ext cx="106560" cy="9396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3052800" y="1523880"/>
            <a:ext cx="195120" cy="71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097080" y="2879640"/>
            <a:ext cx="10656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97080" y="3008160"/>
            <a:ext cx="10656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97080" y="3138480"/>
            <a:ext cx="1065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429720" y="1778040"/>
            <a:ext cx="19692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854440" y="1916280"/>
            <a:ext cx="196560" cy="71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529000" y="1844640"/>
            <a:ext cx="9504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2529000" y="2085840"/>
            <a:ext cx="9504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2706840" y="1971720"/>
            <a:ext cx="9504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913760" y="1822320"/>
            <a:ext cx="104760" cy="9396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913760" y="2073240"/>
            <a:ext cx="1047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699560" y="2200320"/>
            <a:ext cx="10620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2109240" y="2214720"/>
            <a:ext cx="10620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267640" y="2081160"/>
            <a:ext cx="95400" cy="84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44600" y="2309760"/>
            <a:ext cx="174600" cy="65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97080" y="2022480"/>
            <a:ext cx="10656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86240" y="2027160"/>
            <a:ext cx="10800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913760" y="2870280"/>
            <a:ext cx="104760" cy="95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529720" y="2847960"/>
            <a:ext cx="95400" cy="856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744560" y="3046320"/>
            <a:ext cx="162000" cy="1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709640" y="2997360"/>
            <a:ext cx="106560" cy="93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58880" y="1968480"/>
            <a:ext cx="19368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73240" y="2097000"/>
            <a:ext cx="19512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143160" y="2414160"/>
            <a:ext cx="160560" cy="1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3255840" y="2381400"/>
            <a:ext cx="19872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97080" y="2365200"/>
            <a:ext cx="106560" cy="95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532400" y="4411800"/>
            <a:ext cx="809640" cy="1668960"/>
            <a:chOff x="4532400" y="4411800"/>
            <a:chExt cx="809640" cy="1668960"/>
          </a:xfrm>
        </p:grpSpPr>
        <p:sp>
          <p:nvSpPr>
            <p:cNvPr id="518" name=""/>
            <p:cNvSpPr/>
            <p:nvPr/>
          </p:nvSpPr>
          <p:spPr>
            <a:xfrm>
              <a:off x="4728600" y="4411800"/>
              <a:ext cx="378720" cy="339480"/>
            </a:xfrm>
            <a:prstGeom prst="ellipse">
              <a:avLst/>
            </a:prstGeom>
            <a:solidFill>
              <a:srgbClr val="ff01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41040" y="4786560"/>
              <a:ext cx="792360" cy="1294200"/>
            </a:xfrm>
            <a:custGeom>
              <a:avLst/>
              <a:gdLst/>
              <a:ahLst/>
              <a:rect l="l" t="t" r="r" b="b"/>
              <a:pathLst>
                <a:path w="182" h="324">
                  <a:moveTo>
                    <a:pt x="86" y="11"/>
                  </a:moveTo>
                  <a:lnTo>
                    <a:pt x="81" y="23"/>
                  </a:lnTo>
                  <a:lnTo>
                    <a:pt x="69" y="7"/>
                  </a:lnTo>
                  <a:lnTo>
                    <a:pt x="69" y="0"/>
                  </a:lnTo>
                  <a:lnTo>
                    <a:pt x="47" y="0"/>
                  </a:lnTo>
                  <a:lnTo>
                    <a:pt x="19" y="17"/>
                  </a:lnTo>
                  <a:lnTo>
                    <a:pt x="0" y="86"/>
                  </a:lnTo>
                  <a:lnTo>
                    <a:pt x="22" y="107"/>
                  </a:lnTo>
                  <a:lnTo>
                    <a:pt x="42" y="127"/>
                  </a:lnTo>
                  <a:lnTo>
                    <a:pt x="42" y="323"/>
                  </a:lnTo>
                  <a:lnTo>
                    <a:pt x="97" y="323"/>
                  </a:lnTo>
                  <a:lnTo>
                    <a:pt x="97" y="171"/>
                  </a:lnTo>
                  <a:lnTo>
                    <a:pt x="121" y="323"/>
                  </a:lnTo>
                  <a:lnTo>
                    <a:pt x="179" y="323"/>
                  </a:lnTo>
                  <a:lnTo>
                    <a:pt x="153" y="167"/>
                  </a:lnTo>
                  <a:lnTo>
                    <a:pt x="153" y="129"/>
                  </a:lnTo>
                  <a:lnTo>
                    <a:pt x="181" y="85"/>
                  </a:lnTo>
                  <a:lnTo>
                    <a:pt x="137" y="80"/>
                  </a:lnTo>
                  <a:lnTo>
                    <a:pt x="111" y="81"/>
                  </a:lnTo>
                  <a:lnTo>
                    <a:pt x="112" y="128"/>
                  </a:lnTo>
                  <a:lnTo>
                    <a:pt x="137" y="128"/>
                  </a:lnTo>
                  <a:lnTo>
                    <a:pt x="137" y="144"/>
                  </a:lnTo>
                  <a:lnTo>
                    <a:pt x="53" y="144"/>
                  </a:lnTo>
                  <a:lnTo>
                    <a:pt x="53" y="43"/>
                  </a:lnTo>
                  <a:lnTo>
                    <a:pt x="137" y="43"/>
                  </a:lnTo>
                  <a:lnTo>
                    <a:pt x="137" y="80"/>
                  </a:lnTo>
                  <a:lnTo>
                    <a:pt x="181" y="85"/>
                  </a:lnTo>
                  <a:lnTo>
                    <a:pt x="153" y="9"/>
                  </a:lnTo>
                  <a:lnTo>
                    <a:pt x="139" y="1"/>
                  </a:lnTo>
                  <a:lnTo>
                    <a:pt x="113" y="1"/>
                  </a:lnTo>
                  <a:lnTo>
                    <a:pt x="100" y="22"/>
                  </a:lnTo>
                  <a:lnTo>
                    <a:pt x="94" y="11"/>
                  </a:lnTo>
                  <a:lnTo>
                    <a:pt x="101" y="1"/>
                  </a:lnTo>
                  <a:lnTo>
                    <a:pt x="79" y="1"/>
                  </a:lnTo>
                  <a:lnTo>
                    <a:pt x="86" y="11"/>
                  </a:lnTo>
                </a:path>
              </a:pathLst>
            </a:custGeom>
            <a:solidFill>
              <a:srgbClr val="ff010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85360" y="4794840"/>
              <a:ext cx="130320" cy="11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82" y="24"/>
                  </a:moveTo>
                  <a:arcTo wR="10800" hR="10800" stAng="-5628844" swAng="56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82" y="24"/>
                  </a:moveTo>
                  <a:arcTo wR="10800" hR="10800" stAng="-5628844" swAng="5628844"/>
                </a:path>
              </a:pathLst>
            </a:custGeom>
            <a:solidFill>
              <a:srgbClr val="ff0101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27800" y="4791240"/>
              <a:ext cx="237240" cy="15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" y="12364"/>
                  </a:moveTo>
                  <a:arcTo wR="10800" hR="10800" stAng="10300461" swAng="6633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" y="12364"/>
                  </a:moveTo>
                  <a:arcTo wR="10800" hR="10800" stAng="10300461" swAng="6633915"/>
                </a:path>
              </a:pathLst>
            </a:custGeom>
            <a:solidFill>
              <a:srgbClr val="ff0101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32400" y="5061240"/>
              <a:ext cx="273600" cy="24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93" y="17951"/>
                  </a:moveTo>
                  <a:arcTo wR="10800" hR="10800" stAng="2487810" swAng="97380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93" y="17951"/>
                  </a:moveTo>
                  <a:arcTo wR="10800" hR="10800" stAng="2487810" swAng="9738089"/>
                </a:path>
              </a:pathLst>
            </a:custGeom>
            <a:solidFill>
              <a:srgbClr val="ff0101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79600" y="5056920"/>
              <a:ext cx="262440" cy="24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87" y="845"/>
                  </a:moveTo>
                  <a:arcTo wR="10800" hR="10800" stAng="-4031371" swAng="111984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87" y="845"/>
                  </a:moveTo>
                  <a:arcTo wR="10800" hR="10800" stAng="-4031371" swAng="11198480"/>
                </a:path>
              </a:pathLst>
            </a:custGeom>
            <a:solidFill>
              <a:srgbClr val="ff0101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4262400" y="2496960"/>
            <a:ext cx="1158840" cy="659160"/>
            <a:chOff x="4262400" y="2496960"/>
            <a:chExt cx="1158840" cy="659160"/>
          </a:xfrm>
        </p:grpSpPr>
        <p:sp>
          <p:nvSpPr>
            <p:cNvPr id="525" name=""/>
            <p:cNvSpPr/>
            <p:nvPr/>
          </p:nvSpPr>
          <p:spPr>
            <a:xfrm>
              <a:off x="4262400" y="2496960"/>
              <a:ext cx="1158840" cy="659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62400" y="2496960"/>
              <a:ext cx="1158840" cy="3193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fect 4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 flipH="1">
            <a:off x="2869560" y="2544840"/>
            <a:ext cx="104760" cy="93600"/>
          </a:xfrm>
          <a:prstGeom prst="ellipse">
            <a:avLst/>
          </a:prstGeom>
          <a:gradFill rotWithShape="0">
            <a:gsLst>
              <a:gs pos="0">
                <a:srgbClr val="d81040"/>
              </a:gs>
              <a:gs pos="100000">
                <a:srgbClr val="63071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427640" y="2943360"/>
            <a:ext cx="139680" cy="152280"/>
          </a:xfrm>
          <a:prstGeom prst="ellipse">
            <a:avLst/>
          </a:prstGeom>
          <a:gradFill rotWithShape="0">
            <a:gsLst>
              <a:gs pos="0">
                <a:srgbClr val="ff0101"/>
              </a:gs>
              <a:gs pos="100000">
                <a:srgbClr val="75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825600">
            <a:off x="3088800" y="2571840"/>
            <a:ext cx="1309680" cy="457200"/>
          </a:xfrm>
          <a:custGeom>
            <a:avLst/>
            <a:gdLst>
              <a:gd name="textAreaLeft" fmla="*/ 204480 w 1309680"/>
              <a:gd name="textAreaRight" fmla="*/ 1178280 w 1309680"/>
              <a:gd name="textAreaTop" fmla="*/ 127800 h 457200"/>
              <a:gd name="textAreaBottom" fmla="*/ 32940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6038"/>
                </a:moveTo>
                <a:lnTo>
                  <a:pt x="16682" y="6038"/>
                </a:lnTo>
                <a:lnTo>
                  <a:pt x="16682" y="0"/>
                </a:lnTo>
                <a:lnTo>
                  <a:pt x="21600" y="10800"/>
                </a:lnTo>
                <a:lnTo>
                  <a:pt x="16682" y="21600"/>
                </a:lnTo>
                <a:lnTo>
                  <a:pt x="16682" y="15562"/>
                </a:lnTo>
                <a:lnTo>
                  <a:pt x="3375" y="15562"/>
                </a:lnTo>
                <a:close/>
              </a:path>
              <a:path w="21600" h="21600">
                <a:moveTo>
                  <a:pt x="0" y="6038"/>
                </a:moveTo>
                <a:lnTo>
                  <a:pt x="675" y="6038"/>
                </a:lnTo>
                <a:lnTo>
                  <a:pt x="675" y="15562"/>
                </a:lnTo>
                <a:lnTo>
                  <a:pt x="0" y="15562"/>
                </a:lnTo>
                <a:close/>
              </a:path>
              <a:path w="21600" h="21600">
                <a:moveTo>
                  <a:pt x="1350" y="6038"/>
                </a:moveTo>
                <a:lnTo>
                  <a:pt x="2700" y="6038"/>
                </a:lnTo>
                <a:lnTo>
                  <a:pt x="2700" y="15562"/>
                </a:lnTo>
                <a:lnTo>
                  <a:pt x="1350" y="15562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 rot="825600">
            <a:off x="3060360" y="2571840"/>
            <a:ext cx="1309680" cy="457200"/>
          </a:xfrm>
          <a:custGeom>
            <a:avLst/>
            <a:gdLst>
              <a:gd name="textAreaLeft" fmla="*/ 204840 w 1309680"/>
              <a:gd name="textAreaRight" fmla="*/ 1178640 w 1309680"/>
              <a:gd name="textAreaTop" fmla="*/ 127800 h 457200"/>
              <a:gd name="textAreaBottom" fmla="*/ 32940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6038"/>
                </a:moveTo>
                <a:lnTo>
                  <a:pt x="16682" y="6038"/>
                </a:lnTo>
                <a:lnTo>
                  <a:pt x="16682" y="0"/>
                </a:lnTo>
                <a:lnTo>
                  <a:pt x="21600" y="10800"/>
                </a:lnTo>
                <a:lnTo>
                  <a:pt x="16682" y="21600"/>
                </a:lnTo>
                <a:lnTo>
                  <a:pt x="16682" y="15562"/>
                </a:lnTo>
                <a:lnTo>
                  <a:pt x="3375" y="15562"/>
                </a:lnTo>
                <a:close/>
              </a:path>
              <a:path w="21600" h="21600">
                <a:moveTo>
                  <a:pt x="0" y="6038"/>
                </a:moveTo>
                <a:lnTo>
                  <a:pt x="675" y="6038"/>
                </a:lnTo>
                <a:lnTo>
                  <a:pt x="675" y="15562"/>
                </a:lnTo>
                <a:lnTo>
                  <a:pt x="0" y="15562"/>
                </a:lnTo>
                <a:close/>
              </a:path>
              <a:path w="21600" h="21600">
                <a:moveTo>
                  <a:pt x="1350" y="6038"/>
                </a:moveTo>
                <a:lnTo>
                  <a:pt x="2700" y="6038"/>
                </a:lnTo>
                <a:lnTo>
                  <a:pt x="2700" y="15562"/>
                </a:lnTo>
                <a:lnTo>
                  <a:pt x="1350" y="15562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651640" y="947880"/>
            <a:ext cx="3338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CM requires you to associate new versions with an </a:t>
            </a: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847800" y="870120"/>
            <a:ext cx="4247640" cy="4739760"/>
            <a:chOff x="847800" y="870120"/>
            <a:chExt cx="4247640" cy="4739760"/>
          </a:xfrm>
        </p:grpSpPr>
        <p:sp>
          <p:nvSpPr>
            <p:cNvPr id="533" name=""/>
            <p:cNvSpPr/>
            <p:nvPr/>
          </p:nvSpPr>
          <p:spPr>
            <a:xfrm>
              <a:off x="870840" y="870120"/>
              <a:ext cx="4224600" cy="4739760"/>
            </a:xfrm>
            <a:prstGeom prst="triangle">
              <a:avLst>
                <a:gd name="adj" fmla="val 50000"/>
              </a:avLst>
            </a:prstGeom>
            <a:solidFill>
              <a:srgbClr val="022d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847800" y="4197960"/>
              <a:ext cx="4247640" cy="1410840"/>
            </a:xfrm>
            <a:custGeom>
              <a:avLst/>
              <a:gdLst>
                <a:gd name="textAreaLeft" fmla="*/ 700560 w 4247640"/>
                <a:gd name="textAreaRight" fmla="*/ 3547080 w 4247640"/>
                <a:gd name="textAreaTop" fmla="*/ 232560 h 1410840"/>
                <a:gd name="textAreaBottom" fmla="*/ 1178280 h 141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28760" y="974880"/>
            <a:ext cx="4247640" cy="4739760"/>
            <a:chOff x="428760" y="974880"/>
            <a:chExt cx="4247640" cy="4739760"/>
          </a:xfrm>
        </p:grpSpPr>
        <p:sp>
          <p:nvSpPr>
            <p:cNvPr id="536" name=""/>
            <p:cNvSpPr/>
            <p:nvPr/>
          </p:nvSpPr>
          <p:spPr>
            <a:xfrm>
              <a:off x="451800" y="974880"/>
              <a:ext cx="4224600" cy="4739760"/>
            </a:xfrm>
            <a:prstGeom prst="triangle">
              <a:avLst>
                <a:gd name="adj" fmla="val 50000"/>
              </a:avLst>
            </a:prstGeom>
            <a:solidFill>
              <a:srgbClr val="022d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28760" y="4302720"/>
              <a:ext cx="4247640" cy="1410840"/>
            </a:xfrm>
            <a:custGeom>
              <a:avLst/>
              <a:gdLst>
                <a:gd name="textAreaLeft" fmla="*/ 700560 w 4247640"/>
                <a:gd name="textAreaRight" fmla="*/ 3547080 w 4247640"/>
                <a:gd name="textAreaTop" fmla="*/ 232560 h 1410840"/>
                <a:gd name="textAreaBottom" fmla="*/ 1178280 h 141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UCM Deliver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0" y="1089000"/>
            <a:ext cx="4247640" cy="4740120"/>
            <a:chOff x="0" y="1089000"/>
            <a:chExt cx="4247640" cy="4740120"/>
          </a:xfrm>
        </p:grpSpPr>
        <p:sp>
          <p:nvSpPr>
            <p:cNvPr id="540" name=""/>
            <p:cNvSpPr/>
            <p:nvPr/>
          </p:nvSpPr>
          <p:spPr>
            <a:xfrm>
              <a:off x="23040" y="1089000"/>
              <a:ext cx="4224600" cy="4740120"/>
            </a:xfrm>
            <a:prstGeom prst="triangle">
              <a:avLst>
                <a:gd name="adj" fmla="val 50000"/>
              </a:avLst>
            </a:prstGeom>
            <a:solidFill>
              <a:srgbClr val="022d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0" y="4417920"/>
              <a:ext cx="4247640" cy="1411200"/>
            </a:xfrm>
            <a:custGeom>
              <a:avLst/>
              <a:gdLst>
                <a:gd name="textAreaLeft" fmla="*/ 700560 w 4247640"/>
                <a:gd name="textAreaRight" fmla="*/ 3547080 w 4247640"/>
                <a:gd name="textAreaTop" fmla="*/ 232560 h 1411200"/>
                <a:gd name="textAreaBottom" fmla="*/ 1178640 h 141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4892760" y="1079640"/>
            <a:ext cx="4250880" cy="4743000"/>
            <a:chOff x="4892760" y="1079640"/>
            <a:chExt cx="4250880" cy="4743000"/>
          </a:xfrm>
        </p:grpSpPr>
        <p:sp>
          <p:nvSpPr>
            <p:cNvPr id="543" name=""/>
            <p:cNvSpPr/>
            <p:nvPr/>
          </p:nvSpPr>
          <p:spPr>
            <a:xfrm>
              <a:off x="4892760" y="1079640"/>
              <a:ext cx="4250880" cy="4743000"/>
            </a:xfrm>
            <a:prstGeom prst="triangle">
              <a:avLst>
                <a:gd name="adj" fmla="val 50000"/>
              </a:avLst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892760" y="4410360"/>
              <a:ext cx="4250880" cy="1411560"/>
            </a:xfrm>
            <a:custGeom>
              <a:avLst/>
              <a:gdLst>
                <a:gd name="textAreaLeft" fmla="*/ 700920 w 4250880"/>
                <a:gd name="textAreaRight" fmla="*/ 3549960 w 4250880"/>
                <a:gd name="textAreaTop" fmla="*/ 232560 h 1411560"/>
                <a:gd name="textAreaBottom" fmla="*/ 1179000 h 141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2857680" y="2914560"/>
            <a:ext cx="3647880" cy="400320"/>
          </a:xfrm>
          <a:prstGeom prst="rightArrow">
            <a:avLst>
              <a:gd name="adj1" fmla="val 59528"/>
              <a:gd name="adj2" fmla="val 115804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5445000" y="4730760"/>
            <a:ext cx="3146400" cy="852480"/>
          </a:xfrm>
          <a:custGeom>
            <a:avLst/>
            <a:gdLst>
              <a:gd name="textAreaLeft" fmla="*/ 491040 w 3146400"/>
              <a:gd name="textAreaRight" fmla="*/ 2655360 w 3146400"/>
              <a:gd name="textAreaTop" fmla="*/ 132840 h 852480"/>
              <a:gd name="textAreaBottom" fmla="*/ 7196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680" y="21600"/>
                </a:lnTo>
                <a:lnTo>
                  <a:pt x="2920" y="21600"/>
                </a:lnTo>
                <a:close/>
              </a:path>
            </a:pathLst>
          </a:custGeom>
          <a:solidFill>
            <a:srgbClr val="4700b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407880" indent="-407880" algn="ctr">
              <a:lnSpc>
                <a:spcPct val="78000"/>
              </a:lnSpc>
              <a:spcBef>
                <a:spcPts val="17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elin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50800" y="4749840"/>
            <a:ext cx="3146400" cy="852480"/>
          </a:xfrm>
          <a:custGeom>
            <a:avLst/>
            <a:gdLst>
              <a:gd name="textAreaLeft" fmla="*/ 491040 w 3146400"/>
              <a:gd name="textAreaRight" fmla="*/ 2655360 w 3146400"/>
              <a:gd name="textAreaTop" fmla="*/ 132840 h 852480"/>
              <a:gd name="textAreaBottom" fmla="*/ 7196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680" y="21600"/>
                </a:lnTo>
                <a:lnTo>
                  <a:pt x="2920" y="21600"/>
                </a:lnTo>
                <a:close/>
              </a:path>
            </a:pathLst>
          </a:custGeom>
          <a:solidFill>
            <a:srgbClr val="4700b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407880" indent="-407880" algn="ctr">
              <a:lnSpc>
                <a:spcPct val="78000"/>
              </a:lnSpc>
              <a:spcBef>
                <a:spcPts val="17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elin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958000" y="3402000"/>
            <a:ext cx="1158840" cy="658800"/>
            <a:chOff x="5958000" y="3402000"/>
            <a:chExt cx="1158840" cy="658800"/>
          </a:xfrm>
        </p:grpSpPr>
        <p:sp>
          <p:nvSpPr>
            <p:cNvPr id="549" name=""/>
            <p:cNvSpPr/>
            <p:nvPr/>
          </p:nvSpPr>
          <p:spPr>
            <a:xfrm>
              <a:off x="5958000" y="3402000"/>
              <a:ext cx="1158840" cy="65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58000" y="3402000"/>
              <a:ext cx="1158840" cy="318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fect 33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6147000" y="380844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375600" y="380844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585800" y="3583080"/>
            <a:ext cx="1158840" cy="658800"/>
            <a:chOff x="1585800" y="3583080"/>
            <a:chExt cx="1158840" cy="658800"/>
          </a:xfrm>
        </p:grpSpPr>
        <p:sp>
          <p:nvSpPr>
            <p:cNvPr id="554" name=""/>
            <p:cNvSpPr/>
            <p:nvPr/>
          </p:nvSpPr>
          <p:spPr>
            <a:xfrm>
              <a:off x="1585800" y="3583080"/>
              <a:ext cx="1158840" cy="65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85800" y="3583080"/>
              <a:ext cx="1158840" cy="318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fect 4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774800" y="398952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939000" y="3687840"/>
            <a:ext cx="1158840" cy="658800"/>
            <a:chOff x="6939000" y="3687840"/>
            <a:chExt cx="1158840" cy="658800"/>
          </a:xfrm>
        </p:grpSpPr>
        <p:sp>
          <p:nvSpPr>
            <p:cNvPr id="558" name=""/>
            <p:cNvSpPr/>
            <p:nvPr/>
          </p:nvSpPr>
          <p:spPr>
            <a:xfrm>
              <a:off x="6939000" y="3687840"/>
              <a:ext cx="1158840" cy="65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9000" y="3687840"/>
              <a:ext cx="1158840" cy="318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fect 55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128000" y="409428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356600" y="409428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461960" y="2782800"/>
            <a:ext cx="1158840" cy="658800"/>
            <a:chOff x="1461960" y="2782800"/>
            <a:chExt cx="1158840" cy="658800"/>
          </a:xfrm>
        </p:grpSpPr>
        <p:sp>
          <p:nvSpPr>
            <p:cNvPr id="563" name=""/>
            <p:cNvSpPr/>
            <p:nvPr/>
          </p:nvSpPr>
          <p:spPr>
            <a:xfrm>
              <a:off x="1461960" y="2782800"/>
              <a:ext cx="1158840" cy="65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61960" y="2782800"/>
              <a:ext cx="1158840" cy="3193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Butt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650960" y="318924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1898640" y="318924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2146320" y="318924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394000" y="318924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586560" y="2830680"/>
            <a:ext cx="1158840" cy="658800"/>
            <a:chOff x="6586560" y="2830680"/>
            <a:chExt cx="1158840" cy="658800"/>
          </a:xfrm>
        </p:grpSpPr>
        <p:sp>
          <p:nvSpPr>
            <p:cNvPr id="570" name=""/>
            <p:cNvSpPr/>
            <p:nvPr/>
          </p:nvSpPr>
          <p:spPr>
            <a:xfrm>
              <a:off x="6586560" y="2830680"/>
              <a:ext cx="1158840" cy="65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86560" y="2830680"/>
              <a:ext cx="1158840" cy="3193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Butt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775560" y="323712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023240" y="323712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270920" y="323712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518600" y="323712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4809960" y="2925720"/>
            <a:ext cx="4334040" cy="303840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       </a:t>
            </a: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Delivering Change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578" name=""/>
          <p:cNvSpPr/>
          <p:nvPr/>
        </p:nvSpPr>
        <p:spPr>
          <a:xfrm>
            <a:off x="5032440" y="99072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eview dialog shows what activities have undelivered chan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389240" y="344808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livery tool handles trivial and automatic merges, invokes merge manager for oth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2"/>
          </p:cNvCxnSpPr>
          <p:nvPr/>
        </p:nvCxnSpPr>
        <p:spPr>
          <a:xfrm flipH="1" rot="16200000">
            <a:off x="3441600" y="3918600"/>
            <a:ext cx="580320" cy="2019960"/>
          </a:xfrm>
          <a:prstGeom prst="curvedConnector2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</p:cxnSp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123840" y="822240"/>
            <a:ext cx="4660920" cy="2370240"/>
          </a:xfrm>
          <a:prstGeom prst="rect">
            <a:avLst/>
          </a:prstGeom>
          <a:ln w="0">
            <a:noFill/>
          </a:ln>
        </p:spPr>
      </p:pic>
      <p:cxnSp>
        <p:nvCxnSpPr>
          <p:cNvPr id="582" name=""/>
          <p:cNvCxnSpPr/>
          <p:nvPr/>
        </p:nvCxnSpPr>
        <p:spPr>
          <a:xfrm rot="5400000">
            <a:off x="5685480" y="1029960"/>
            <a:ext cx="550080" cy="2248920"/>
          </a:xfrm>
          <a:prstGeom prst="curvedConnector2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</p:cxnSp>
      <p:sp>
        <p:nvSpPr>
          <p:cNvPr id="583" name=""/>
          <p:cNvSpPr/>
          <p:nvPr/>
        </p:nvSpPr>
        <p:spPr>
          <a:xfrm>
            <a:off x="7701120" y="0"/>
            <a:ext cx="183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 algn="ctr">
              <a:lnSpc>
                <a:spcPct val="88000"/>
              </a:lnSpc>
              <a:spcBef>
                <a:spcPts val="12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cbff"/>
            </a:gs>
            <a:gs pos="50000">
              <a:srgbClr val="045368"/>
            </a:gs>
            <a:gs pos="100000">
              <a:srgbClr val="0bc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</a:rPr>
              <a:t>ClearCase 4.0 Update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 Narrow"/>
              </a:rPr>
              <a:t>Boston Metro User Group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Narrow"/>
              </a:rPr>
              <a:t>Ralph Capasso - CMBU Marketing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Narrow"/>
              </a:rPr>
              <a:t>February 15, 2000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Testing a Delivery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0" y="1089000"/>
            <a:ext cx="4247640" cy="4740120"/>
            <a:chOff x="0" y="1089000"/>
            <a:chExt cx="4247640" cy="4740120"/>
          </a:xfrm>
        </p:grpSpPr>
        <p:sp>
          <p:nvSpPr>
            <p:cNvPr id="586" name=""/>
            <p:cNvSpPr/>
            <p:nvPr/>
          </p:nvSpPr>
          <p:spPr>
            <a:xfrm>
              <a:off x="23040" y="1089000"/>
              <a:ext cx="4224600" cy="4740120"/>
            </a:xfrm>
            <a:prstGeom prst="triangle">
              <a:avLst>
                <a:gd name="adj" fmla="val 50000"/>
              </a:avLst>
            </a:prstGeom>
            <a:solidFill>
              <a:srgbClr val="022d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0" y="4417920"/>
              <a:ext cx="4247640" cy="1411200"/>
            </a:xfrm>
            <a:custGeom>
              <a:avLst/>
              <a:gdLst>
                <a:gd name="textAreaLeft" fmla="*/ 700560 w 4247640"/>
                <a:gd name="textAreaRight" fmla="*/ 3547080 w 4247640"/>
                <a:gd name="textAreaTop" fmla="*/ 232560 h 1411200"/>
                <a:gd name="textAreaBottom" fmla="*/ 1178640 h 141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616280" y="1098720"/>
            <a:ext cx="4251240" cy="4743000"/>
            <a:chOff x="4616280" y="1098720"/>
            <a:chExt cx="4251240" cy="4743000"/>
          </a:xfrm>
        </p:grpSpPr>
        <p:sp>
          <p:nvSpPr>
            <p:cNvPr id="589" name=""/>
            <p:cNvSpPr/>
            <p:nvPr/>
          </p:nvSpPr>
          <p:spPr>
            <a:xfrm>
              <a:off x="4616280" y="1098720"/>
              <a:ext cx="4251240" cy="4743000"/>
            </a:xfrm>
            <a:prstGeom prst="triangle">
              <a:avLst>
                <a:gd name="adj" fmla="val 50000"/>
              </a:avLst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4616280" y="4429440"/>
              <a:ext cx="4251240" cy="1411560"/>
            </a:xfrm>
            <a:custGeom>
              <a:avLst/>
              <a:gdLst>
                <a:gd name="textAreaLeft" fmla="*/ 700920 w 4251240"/>
                <a:gd name="textAreaRight" fmla="*/ 3550320 w 4251240"/>
                <a:gd name="textAreaTop" fmla="*/ 232560 h 1411560"/>
                <a:gd name="textAreaBottom" fmla="*/ 1179000 h 141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 flipV="1">
            <a:off x="5168880" y="4749840"/>
            <a:ext cx="3146400" cy="852480"/>
          </a:xfrm>
          <a:custGeom>
            <a:avLst/>
            <a:gdLst>
              <a:gd name="textAreaLeft" fmla="*/ 491040 w 3146400"/>
              <a:gd name="textAreaRight" fmla="*/ 2655360 w 3146400"/>
              <a:gd name="textAreaTop" fmla="*/ 132840 h 852480"/>
              <a:gd name="textAreaBottom" fmla="*/ 7196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680" y="21600"/>
                </a:lnTo>
                <a:lnTo>
                  <a:pt x="2920" y="21600"/>
                </a:lnTo>
                <a:close/>
              </a:path>
            </a:pathLst>
          </a:custGeom>
          <a:solidFill>
            <a:srgbClr val="4700b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407880" indent="-407880" algn="ctr">
              <a:lnSpc>
                <a:spcPct val="78000"/>
              </a:lnSpc>
              <a:spcBef>
                <a:spcPts val="17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elin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50800" y="4749840"/>
            <a:ext cx="3146400" cy="852480"/>
          </a:xfrm>
          <a:custGeom>
            <a:avLst/>
            <a:gdLst>
              <a:gd name="textAreaLeft" fmla="*/ 491040 w 3146400"/>
              <a:gd name="textAreaRight" fmla="*/ 2655360 w 3146400"/>
              <a:gd name="textAreaTop" fmla="*/ 132840 h 852480"/>
              <a:gd name="textAreaBottom" fmla="*/ 7196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680" y="21600"/>
                </a:lnTo>
                <a:lnTo>
                  <a:pt x="2920" y="21600"/>
                </a:lnTo>
                <a:close/>
              </a:path>
            </a:pathLst>
          </a:custGeom>
          <a:solidFill>
            <a:srgbClr val="4700b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407880" indent="-407880" algn="ctr">
              <a:lnSpc>
                <a:spcPct val="78000"/>
              </a:lnSpc>
              <a:spcBef>
                <a:spcPts val="17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elin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681520" y="3421080"/>
            <a:ext cx="1158840" cy="658800"/>
            <a:chOff x="5681520" y="3421080"/>
            <a:chExt cx="1158840" cy="658800"/>
          </a:xfrm>
        </p:grpSpPr>
        <p:sp>
          <p:nvSpPr>
            <p:cNvPr id="594" name=""/>
            <p:cNvSpPr/>
            <p:nvPr/>
          </p:nvSpPr>
          <p:spPr>
            <a:xfrm>
              <a:off x="5681520" y="3421080"/>
              <a:ext cx="1158840" cy="65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81520" y="3421080"/>
              <a:ext cx="1158840" cy="318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fect 33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870520" y="382752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099120" y="382752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585800" y="3583080"/>
            <a:ext cx="1158840" cy="658800"/>
            <a:chOff x="1585800" y="3583080"/>
            <a:chExt cx="1158840" cy="658800"/>
          </a:xfrm>
        </p:grpSpPr>
        <p:sp>
          <p:nvSpPr>
            <p:cNvPr id="599" name=""/>
            <p:cNvSpPr/>
            <p:nvPr/>
          </p:nvSpPr>
          <p:spPr>
            <a:xfrm>
              <a:off x="1585800" y="3583080"/>
              <a:ext cx="1158840" cy="65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85800" y="3583080"/>
              <a:ext cx="1158840" cy="318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fect 4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774800" y="398952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662880" y="3706920"/>
            <a:ext cx="1158840" cy="658800"/>
            <a:chOff x="6662880" y="3706920"/>
            <a:chExt cx="1158840" cy="658800"/>
          </a:xfrm>
        </p:grpSpPr>
        <p:sp>
          <p:nvSpPr>
            <p:cNvPr id="603" name=""/>
            <p:cNvSpPr/>
            <p:nvPr/>
          </p:nvSpPr>
          <p:spPr>
            <a:xfrm>
              <a:off x="6662880" y="3706920"/>
              <a:ext cx="1158840" cy="65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62880" y="3706920"/>
              <a:ext cx="1158840" cy="318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fect 55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6851880" y="411336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7080480" y="411336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1461960" y="2782800"/>
            <a:ext cx="1158840" cy="658800"/>
            <a:chOff x="1461960" y="2782800"/>
            <a:chExt cx="1158840" cy="658800"/>
          </a:xfrm>
        </p:grpSpPr>
        <p:sp>
          <p:nvSpPr>
            <p:cNvPr id="608" name=""/>
            <p:cNvSpPr/>
            <p:nvPr/>
          </p:nvSpPr>
          <p:spPr>
            <a:xfrm>
              <a:off x="1461960" y="2782800"/>
              <a:ext cx="1158840" cy="65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61960" y="2782800"/>
              <a:ext cx="1158840" cy="3193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Butt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1650960" y="318924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1898640" y="318924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146320" y="318924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2394000" y="318924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310440" y="2849400"/>
            <a:ext cx="1158840" cy="658800"/>
            <a:chOff x="6310440" y="2849400"/>
            <a:chExt cx="1158840" cy="658800"/>
          </a:xfrm>
        </p:grpSpPr>
        <p:sp>
          <p:nvSpPr>
            <p:cNvPr id="615" name=""/>
            <p:cNvSpPr/>
            <p:nvPr/>
          </p:nvSpPr>
          <p:spPr>
            <a:xfrm>
              <a:off x="6310440" y="2849400"/>
              <a:ext cx="1158840" cy="65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10440" y="2849400"/>
              <a:ext cx="1158840" cy="3193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Butt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499440" y="325584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6747120" y="325584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6994800" y="325584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7242480" y="325584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868320" y="1912680"/>
            <a:ext cx="8275680" cy="3656880"/>
            <a:chOff x="868320" y="1912680"/>
            <a:chExt cx="8275680" cy="3656880"/>
          </a:xfrm>
        </p:grpSpPr>
        <p:grpSp>
          <p:nvGrpSpPr>
            <p:cNvPr id="622" name=""/>
            <p:cNvGrpSpPr/>
            <p:nvPr/>
          </p:nvGrpSpPr>
          <p:grpSpPr>
            <a:xfrm>
              <a:off x="868320" y="1960200"/>
              <a:ext cx="4064040" cy="3609360"/>
              <a:chOff x="868320" y="1960200"/>
              <a:chExt cx="4064040" cy="360936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868320" y="1960200"/>
                <a:ext cx="4064040" cy="3609360"/>
                <a:chOff x="868320" y="1960200"/>
                <a:chExt cx="4064040" cy="3609360"/>
              </a:xfrm>
            </p:grpSpPr>
            <p:sp>
              <p:nvSpPr>
                <p:cNvPr id="624" name=""/>
                <p:cNvSpPr/>
                <p:nvPr/>
              </p:nvSpPr>
              <p:spPr>
                <a:xfrm flipH="1" flipV="1">
                  <a:off x="867960" y="1959840"/>
                  <a:ext cx="2681280" cy="280836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V="1" rot="5400000">
                  <a:off x="4396680" y="5033520"/>
                  <a:ext cx="547560" cy="523800"/>
                </a:xfrm>
                <a:prstGeom prst="ellipse">
                  <a:avLst/>
                </a:prstGeom>
                <a:solidFill>
                  <a:srgbClr val="ff01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 rot="2355600">
                <a:off x="3852360" y="4390920"/>
                <a:ext cx="1843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5079960" y="1912680"/>
              <a:ext cx="4064040" cy="3609360"/>
              <a:chOff x="5079960" y="1912680"/>
              <a:chExt cx="4064040" cy="3609360"/>
            </a:xfrm>
          </p:grpSpPr>
          <p:grpSp>
            <p:nvGrpSpPr>
              <p:cNvPr id="628" name=""/>
              <p:cNvGrpSpPr/>
              <p:nvPr/>
            </p:nvGrpSpPr>
            <p:grpSpPr>
              <a:xfrm>
                <a:off x="5079960" y="1912680"/>
                <a:ext cx="4064040" cy="3609360"/>
                <a:chOff x="5079960" y="1912680"/>
                <a:chExt cx="4064040" cy="3609360"/>
              </a:xfrm>
            </p:grpSpPr>
            <p:sp>
              <p:nvSpPr>
                <p:cNvPr id="629" name=""/>
                <p:cNvSpPr/>
                <p:nvPr/>
              </p:nvSpPr>
              <p:spPr>
                <a:xfrm flipH="1" flipV="1">
                  <a:off x="5079960" y="1912320"/>
                  <a:ext cx="2681280" cy="280836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V="1" rot="5400000">
                  <a:off x="8608320" y="4986000"/>
                  <a:ext cx="547560" cy="523800"/>
                </a:xfrm>
                <a:prstGeom prst="ellipse">
                  <a:avLst/>
                </a:prstGeom>
                <a:solidFill>
                  <a:srgbClr val="ff01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 rot="2355600">
                <a:off x="8064000" y="4343400"/>
                <a:ext cx="1843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rot="17400">
              <a:off x="1047600" y="2414520"/>
              <a:ext cx="241956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Development Vie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83280" y="2395440"/>
              <a:ext cx="241920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Integration Vie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1517040" y="3866040"/>
            <a:ext cx="6166080" cy="2001240"/>
            <a:chOff x="1517040" y="3866040"/>
            <a:chExt cx="6166080" cy="2001240"/>
          </a:xfrm>
        </p:grpSpPr>
        <p:cxnSp>
          <p:nvCxnSpPr>
            <p:cNvPr id="635" name=""/>
            <p:cNvCxnSpPr/>
            <p:nvPr/>
          </p:nvCxnSpPr>
          <p:spPr>
            <a:xfrm rot="10800000">
              <a:off x="1517040" y="3865680"/>
              <a:ext cx="2291400" cy="2001600"/>
            </a:xfrm>
            <a:prstGeom prst="bentConnector2">
              <a:avLst/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636" name=""/>
            <p:cNvCxnSpPr/>
            <p:nvPr/>
          </p:nvCxnSpPr>
          <p:spPr>
            <a:xfrm flipV="1">
              <a:off x="5447880" y="3866040"/>
              <a:ext cx="2235600" cy="2001600"/>
            </a:xfrm>
            <a:prstGeom prst="bentConnector2">
              <a:avLst/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</p:cxn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reating New Baseline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344760" y="1157760"/>
            <a:ext cx="2187720" cy="693720"/>
          </a:xfrm>
          <a:custGeom>
            <a:avLst/>
            <a:gdLst>
              <a:gd name="textAreaLeft" fmla="*/ 480960 w 2187720"/>
              <a:gd name="textAreaRight" fmla="*/ 1706760 w 2187720"/>
              <a:gd name="textAreaTop" fmla="*/ 152280 h 693720"/>
              <a:gd name="textAreaBottom" fmla="*/ 54144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700b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407880" indent="-407880" algn="ctr">
              <a:lnSpc>
                <a:spcPct val="88000"/>
              </a:lnSpc>
              <a:spcBef>
                <a:spcPts val="10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19240" y="6119640"/>
            <a:ext cx="2287440" cy="362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 algn="ctr">
              <a:lnSpc>
                <a:spcPct val="88000"/>
              </a:lnSpc>
              <a:spcBef>
                <a:spcPts val="12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nteg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869760" y="4916520"/>
            <a:ext cx="820440" cy="1208160"/>
            <a:chOff x="869760" y="4916520"/>
            <a:chExt cx="820440" cy="1208160"/>
          </a:xfrm>
        </p:grpSpPr>
        <p:sp>
          <p:nvSpPr>
            <p:cNvPr id="641" name=""/>
            <p:cNvSpPr/>
            <p:nvPr/>
          </p:nvSpPr>
          <p:spPr>
            <a:xfrm flipH="1">
              <a:off x="1149120" y="4916520"/>
              <a:ext cx="395280" cy="251280"/>
            </a:xfrm>
            <a:prstGeom prst="ellipse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869400" y="5169600"/>
              <a:ext cx="820440" cy="955080"/>
            </a:xfrm>
            <a:custGeom>
              <a:avLst/>
              <a:gdLst/>
              <a:ahLst/>
              <a:rect l="l" t="t" r="r" b="b"/>
              <a:pathLst>
                <a:path w="182" h="324">
                  <a:moveTo>
                    <a:pt x="86" y="11"/>
                  </a:moveTo>
                  <a:lnTo>
                    <a:pt x="81" y="23"/>
                  </a:lnTo>
                  <a:lnTo>
                    <a:pt x="69" y="7"/>
                  </a:lnTo>
                  <a:lnTo>
                    <a:pt x="69" y="0"/>
                  </a:lnTo>
                  <a:lnTo>
                    <a:pt x="47" y="0"/>
                  </a:lnTo>
                  <a:lnTo>
                    <a:pt x="19" y="17"/>
                  </a:lnTo>
                  <a:lnTo>
                    <a:pt x="0" y="86"/>
                  </a:lnTo>
                  <a:lnTo>
                    <a:pt x="22" y="107"/>
                  </a:lnTo>
                  <a:lnTo>
                    <a:pt x="42" y="127"/>
                  </a:lnTo>
                  <a:lnTo>
                    <a:pt x="42" y="323"/>
                  </a:lnTo>
                  <a:lnTo>
                    <a:pt x="97" y="323"/>
                  </a:lnTo>
                  <a:lnTo>
                    <a:pt x="97" y="171"/>
                  </a:lnTo>
                  <a:lnTo>
                    <a:pt x="121" y="323"/>
                  </a:lnTo>
                  <a:lnTo>
                    <a:pt x="179" y="323"/>
                  </a:lnTo>
                  <a:lnTo>
                    <a:pt x="153" y="167"/>
                  </a:lnTo>
                  <a:lnTo>
                    <a:pt x="153" y="129"/>
                  </a:lnTo>
                  <a:lnTo>
                    <a:pt x="181" y="85"/>
                  </a:lnTo>
                  <a:lnTo>
                    <a:pt x="137" y="80"/>
                  </a:lnTo>
                  <a:lnTo>
                    <a:pt x="111" y="81"/>
                  </a:lnTo>
                  <a:lnTo>
                    <a:pt x="112" y="128"/>
                  </a:lnTo>
                  <a:lnTo>
                    <a:pt x="137" y="128"/>
                  </a:lnTo>
                  <a:lnTo>
                    <a:pt x="137" y="144"/>
                  </a:lnTo>
                  <a:lnTo>
                    <a:pt x="53" y="144"/>
                  </a:lnTo>
                  <a:lnTo>
                    <a:pt x="53" y="43"/>
                  </a:lnTo>
                  <a:lnTo>
                    <a:pt x="137" y="43"/>
                  </a:lnTo>
                  <a:lnTo>
                    <a:pt x="137" y="80"/>
                  </a:lnTo>
                  <a:lnTo>
                    <a:pt x="181" y="85"/>
                  </a:lnTo>
                  <a:lnTo>
                    <a:pt x="153" y="9"/>
                  </a:lnTo>
                  <a:lnTo>
                    <a:pt x="139" y="1"/>
                  </a:lnTo>
                  <a:lnTo>
                    <a:pt x="113" y="1"/>
                  </a:lnTo>
                  <a:lnTo>
                    <a:pt x="100" y="22"/>
                  </a:lnTo>
                  <a:lnTo>
                    <a:pt x="94" y="11"/>
                  </a:lnTo>
                  <a:lnTo>
                    <a:pt x="101" y="1"/>
                  </a:lnTo>
                  <a:lnTo>
                    <a:pt x="79" y="1"/>
                  </a:lnTo>
                  <a:lnTo>
                    <a:pt x="86" y="11"/>
                  </a:lnTo>
                </a:path>
              </a:pathLst>
            </a:cu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23840" y="1505520"/>
            <a:ext cx="8639280" cy="2333160"/>
            <a:chOff x="123840" y="1505520"/>
            <a:chExt cx="8639280" cy="2333160"/>
          </a:xfrm>
        </p:grpSpPr>
        <p:grpSp>
          <p:nvGrpSpPr>
            <p:cNvPr id="644" name=""/>
            <p:cNvGrpSpPr/>
            <p:nvPr/>
          </p:nvGrpSpPr>
          <p:grpSpPr>
            <a:xfrm>
              <a:off x="6143760" y="1689120"/>
              <a:ext cx="2619360" cy="2149560"/>
              <a:chOff x="6143760" y="1689120"/>
              <a:chExt cx="2619360" cy="2149560"/>
            </a:xfrm>
          </p:grpSpPr>
          <p:sp>
            <p:nvSpPr>
              <p:cNvPr id="645" name=""/>
              <p:cNvSpPr/>
              <p:nvPr/>
            </p:nvSpPr>
            <p:spPr>
              <a:xfrm>
                <a:off x="6157800" y="1689120"/>
                <a:ext cx="2604960" cy="2149560"/>
              </a:xfrm>
              <a:prstGeom prst="triangle">
                <a:avLst>
                  <a:gd name="adj" fmla="val 50000"/>
                </a:avLst>
              </a:prstGeom>
              <a:solidFill>
                <a:srgbClr val="022df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6143760" y="3197880"/>
                <a:ext cx="2619360" cy="639720"/>
              </a:xfrm>
              <a:custGeom>
                <a:avLst/>
                <a:gdLst>
                  <a:gd name="textAreaLeft" fmla="*/ 432000 w 2619360"/>
                  <a:gd name="textAreaRight" fmla="*/ 2187360 w 2619360"/>
                  <a:gd name="textAreaTop" fmla="*/ 105480 h 639720"/>
                  <a:gd name="textAreaBottom" fmla="*/ 534240 h 63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337" y="21600"/>
                    </a:lnTo>
                    <a:lnTo>
                      <a:pt x="3263" y="2160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123840" y="1546200"/>
              <a:ext cx="2619360" cy="2149560"/>
              <a:chOff x="123840" y="1546200"/>
              <a:chExt cx="2619360" cy="2149560"/>
            </a:xfrm>
          </p:grpSpPr>
          <p:sp>
            <p:nvSpPr>
              <p:cNvPr id="648" name=""/>
              <p:cNvSpPr/>
              <p:nvPr/>
            </p:nvSpPr>
            <p:spPr>
              <a:xfrm>
                <a:off x="137880" y="1546200"/>
                <a:ext cx="2604960" cy="2149560"/>
              </a:xfrm>
              <a:prstGeom prst="triangle">
                <a:avLst>
                  <a:gd name="adj" fmla="val 50000"/>
                </a:avLst>
              </a:prstGeom>
              <a:solidFill>
                <a:srgbClr val="022df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123840" y="3054960"/>
                <a:ext cx="2619360" cy="639720"/>
              </a:xfrm>
              <a:custGeom>
                <a:avLst/>
                <a:gdLst>
                  <a:gd name="textAreaLeft" fmla="*/ 432000 w 2619360"/>
                  <a:gd name="textAreaRight" fmla="*/ 2187360 w 2619360"/>
                  <a:gd name="textAreaTop" fmla="*/ 105480 h 639720"/>
                  <a:gd name="textAreaBottom" fmla="*/ 534240 h 63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337" y="21600"/>
                    </a:lnTo>
                    <a:lnTo>
                      <a:pt x="3263" y="2160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650" name=""/>
            <p:cNvCxnSpPr/>
            <p:nvPr/>
          </p:nvCxnSpPr>
          <p:spPr>
            <a:xfrm flipV="1" rot="10800000">
              <a:off x="1316880" y="1505520"/>
              <a:ext cx="2291400" cy="811800"/>
            </a:xfrm>
            <a:prstGeom prst="bentConnector2">
              <a:avLst/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651" name=""/>
            <p:cNvCxnSpPr/>
            <p:nvPr/>
          </p:nvCxnSpPr>
          <p:spPr>
            <a:xfrm>
              <a:off x="5248440" y="1506240"/>
              <a:ext cx="2235600" cy="811800"/>
            </a:xfrm>
            <a:prstGeom prst="bentConnector2">
              <a:avLst/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</p:cxnSp>
        <p:grpSp>
          <p:nvGrpSpPr>
            <p:cNvPr id="652" name=""/>
            <p:cNvGrpSpPr/>
            <p:nvPr/>
          </p:nvGrpSpPr>
          <p:grpSpPr>
            <a:xfrm>
              <a:off x="817560" y="2354400"/>
              <a:ext cx="1158840" cy="658800"/>
              <a:chOff x="817560" y="2354400"/>
              <a:chExt cx="1158840" cy="658800"/>
            </a:xfrm>
          </p:grpSpPr>
          <p:sp>
            <p:nvSpPr>
              <p:cNvPr id="653" name=""/>
              <p:cNvSpPr/>
              <p:nvPr/>
            </p:nvSpPr>
            <p:spPr>
              <a:xfrm>
                <a:off x="817560" y="2354400"/>
                <a:ext cx="1158840" cy="658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17560" y="2354400"/>
                <a:ext cx="1158840" cy="3193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dd Butt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1006560" y="276084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1254240" y="276084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1501920" y="276084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1749600" y="276084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885000" y="2363760"/>
              <a:ext cx="1158840" cy="658800"/>
              <a:chOff x="6885000" y="2363760"/>
              <a:chExt cx="1158840" cy="658800"/>
            </a:xfrm>
          </p:grpSpPr>
          <p:sp>
            <p:nvSpPr>
              <p:cNvPr id="660" name=""/>
              <p:cNvSpPr/>
              <p:nvPr/>
            </p:nvSpPr>
            <p:spPr>
              <a:xfrm>
                <a:off x="6885000" y="2363760"/>
                <a:ext cx="1158840" cy="658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885000" y="2363760"/>
                <a:ext cx="1158840" cy="3189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efect 33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7074000" y="277020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7302600" y="277020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2379600" y="4381560"/>
            <a:ext cx="4091040" cy="2256840"/>
            <a:chOff x="2379600" y="4381560"/>
            <a:chExt cx="4091040" cy="2256840"/>
          </a:xfrm>
        </p:grpSpPr>
        <p:sp>
          <p:nvSpPr>
            <p:cNvPr id="665" name=""/>
            <p:cNvSpPr/>
            <p:nvPr/>
          </p:nvSpPr>
          <p:spPr>
            <a:xfrm flipV="1">
              <a:off x="2379600" y="4618800"/>
              <a:ext cx="4091040" cy="2019240"/>
            </a:xfrm>
            <a:custGeom>
              <a:avLst/>
              <a:gdLst>
                <a:gd name="textAreaLeft" fmla="*/ 899640 w 4091040"/>
                <a:gd name="textAreaRight" fmla="*/ 3191400 w 4091040"/>
                <a:gd name="textAreaTop" fmla="*/ 443880 h 2019240"/>
                <a:gd name="textAreaBottom" fmla="*/ 1575360 h 20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700b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L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4270320" y="4381560"/>
              <a:ext cx="296640" cy="128520"/>
              <a:chOff x="4270320" y="4381560"/>
              <a:chExt cx="296640" cy="128520"/>
            </a:xfrm>
          </p:grpSpPr>
          <p:sp>
            <p:nvSpPr>
              <p:cNvPr id="667" name=""/>
              <p:cNvSpPr/>
              <p:nvPr/>
            </p:nvSpPr>
            <p:spPr>
              <a:xfrm>
                <a:off x="4270320" y="4381560"/>
                <a:ext cx="29664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270320" y="4510080"/>
                <a:ext cx="29664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475160" y="5649840"/>
              <a:ext cx="1158840" cy="658800"/>
              <a:chOff x="4475160" y="5649840"/>
              <a:chExt cx="1158840" cy="658800"/>
            </a:xfrm>
          </p:grpSpPr>
          <p:sp>
            <p:nvSpPr>
              <p:cNvPr id="670" name=""/>
              <p:cNvSpPr/>
              <p:nvPr/>
            </p:nvSpPr>
            <p:spPr>
              <a:xfrm>
                <a:off x="4475160" y="5649840"/>
                <a:ext cx="1158840" cy="658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475160" y="5649840"/>
                <a:ext cx="1158840" cy="3189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efect 33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4664160" y="605628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4892760" y="605628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3160800" y="5688000"/>
              <a:ext cx="1158840" cy="658800"/>
              <a:chOff x="3160800" y="5688000"/>
              <a:chExt cx="1158840" cy="658800"/>
            </a:xfrm>
          </p:grpSpPr>
          <p:sp>
            <p:nvSpPr>
              <p:cNvPr id="675" name=""/>
              <p:cNvSpPr/>
              <p:nvPr/>
            </p:nvSpPr>
            <p:spPr>
              <a:xfrm>
                <a:off x="3160800" y="5688000"/>
                <a:ext cx="1158840" cy="658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160800" y="5688000"/>
                <a:ext cx="1158840" cy="3193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dd Butt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3349800" y="609444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3597480" y="609444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3845160" y="609444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4092840" y="609444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1" name=""/>
          <p:cNvGrpSpPr/>
          <p:nvPr/>
        </p:nvGrpSpPr>
        <p:grpSpPr>
          <a:xfrm>
            <a:off x="2028960" y="1984320"/>
            <a:ext cx="2966760" cy="1038240"/>
            <a:chOff x="2028960" y="1984320"/>
            <a:chExt cx="2966760" cy="1038240"/>
          </a:xfrm>
        </p:grpSpPr>
        <p:grpSp>
          <p:nvGrpSpPr>
            <p:cNvPr id="682" name=""/>
            <p:cNvGrpSpPr/>
            <p:nvPr/>
          </p:nvGrpSpPr>
          <p:grpSpPr>
            <a:xfrm>
              <a:off x="4302000" y="1984320"/>
              <a:ext cx="296640" cy="297000"/>
              <a:chOff x="4302000" y="1984320"/>
              <a:chExt cx="296640" cy="297000"/>
            </a:xfrm>
          </p:grpSpPr>
          <p:sp>
            <p:nvSpPr>
              <p:cNvPr id="683" name=""/>
              <p:cNvSpPr/>
              <p:nvPr/>
            </p:nvSpPr>
            <p:spPr>
              <a:xfrm>
                <a:off x="4449600" y="1984320"/>
                <a:ext cx="0" cy="29700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302000" y="2133720"/>
                <a:ext cx="29664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3836880" y="2363760"/>
              <a:ext cx="1158840" cy="658800"/>
              <a:chOff x="3836880" y="2363760"/>
              <a:chExt cx="1158840" cy="658800"/>
            </a:xfrm>
          </p:grpSpPr>
          <p:sp>
            <p:nvSpPr>
              <p:cNvPr id="686" name=""/>
              <p:cNvSpPr/>
              <p:nvPr/>
            </p:nvSpPr>
            <p:spPr>
              <a:xfrm>
                <a:off x="3836880" y="2363760"/>
                <a:ext cx="1158840" cy="658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836880" y="2363760"/>
                <a:ext cx="1158840" cy="3193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dd Butt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4025880" y="277020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4273560" y="277020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4521240" y="277020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4768920" y="277020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2028960" y="2676600"/>
              <a:ext cx="181908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827520" y="2922120"/>
            <a:ext cx="3665520" cy="1253160"/>
            <a:chOff x="3827520" y="2922120"/>
            <a:chExt cx="3665520" cy="1253160"/>
          </a:xfrm>
        </p:grpSpPr>
        <p:grpSp>
          <p:nvGrpSpPr>
            <p:cNvPr id="694" name=""/>
            <p:cNvGrpSpPr/>
            <p:nvPr/>
          </p:nvGrpSpPr>
          <p:grpSpPr>
            <a:xfrm>
              <a:off x="4313160" y="3127320"/>
              <a:ext cx="296640" cy="297000"/>
              <a:chOff x="4313160" y="3127320"/>
              <a:chExt cx="296640" cy="297000"/>
            </a:xfrm>
          </p:grpSpPr>
          <p:sp>
            <p:nvSpPr>
              <p:cNvPr id="695" name=""/>
              <p:cNvSpPr/>
              <p:nvPr/>
            </p:nvSpPr>
            <p:spPr>
              <a:xfrm>
                <a:off x="4460760" y="3127320"/>
                <a:ext cx="0" cy="29700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13160" y="3276720"/>
                <a:ext cx="29664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3827520" y="3516480"/>
              <a:ext cx="1158840" cy="658800"/>
              <a:chOff x="3827520" y="3516480"/>
              <a:chExt cx="1158840" cy="658800"/>
            </a:xfrm>
          </p:grpSpPr>
          <p:sp>
            <p:nvSpPr>
              <p:cNvPr id="698" name=""/>
              <p:cNvSpPr/>
              <p:nvPr/>
            </p:nvSpPr>
            <p:spPr>
              <a:xfrm>
                <a:off x="3827520" y="3516480"/>
                <a:ext cx="1158840" cy="658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827520" y="3516480"/>
                <a:ext cx="1158840" cy="3189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001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efect 33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4016520" y="392292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245120" y="3922920"/>
                <a:ext cx="139680" cy="152280"/>
              </a:xfrm>
              <a:prstGeom prst="ellipse">
                <a:avLst/>
              </a:prstGeom>
              <a:gradFill rotWithShape="0">
                <a:gsLst>
                  <a:gs pos="0">
                    <a:srgbClr val="022dfc"/>
                  </a:gs>
                  <a:gs pos="100000">
                    <a:srgbClr val="001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702" name=""/>
            <p:cNvCxnSpPr/>
            <p:nvPr/>
          </p:nvCxnSpPr>
          <p:spPr>
            <a:xfrm rot="5400000">
              <a:off x="5840640" y="2202480"/>
              <a:ext cx="932760" cy="2372400"/>
            </a:xfrm>
            <a:prstGeom prst="bentConnector2">
              <a:avLst/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Baseline Suppor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04" name=""/>
          <p:cNvSpPr/>
          <p:nvPr/>
        </p:nvSpPr>
        <p:spPr>
          <a:xfrm>
            <a:off x="237960" y="101592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integrator can make full or incremental baseli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5" name="makebaseline_0623" descr=""/>
          <p:cNvPicPr/>
          <p:nvPr/>
        </p:nvPicPr>
        <p:blipFill>
          <a:blip r:embed="rId1"/>
          <a:stretch/>
        </p:blipFill>
        <p:spPr>
          <a:xfrm>
            <a:off x="2162160" y="1862280"/>
            <a:ext cx="4805280" cy="3771720"/>
          </a:xfrm>
          <a:prstGeom prst="rect">
            <a:avLst/>
          </a:prstGeom>
          <a:ln w="0">
            <a:noFill/>
          </a:ln>
        </p:spPr>
      </p:pic>
      <p:cxnSp>
        <p:nvCxnSpPr>
          <p:cNvPr id="706" name=""/>
          <p:cNvCxnSpPr/>
          <p:nvPr/>
        </p:nvCxnSpPr>
        <p:spPr>
          <a:xfrm>
            <a:off x="1228680" y="1819440"/>
            <a:ext cx="1280160" cy="977040"/>
          </a:xfrm>
          <a:prstGeom prst="curvedConnector5">
            <a:avLst>
              <a:gd name="adj1" fmla="val 49985"/>
              <a:gd name="adj2" fmla="val 49981"/>
              <a:gd name="adj3" fmla="val 49985"/>
            </a:avLst>
          </a:prstGeom>
          <a:ln w="50760">
            <a:solidFill>
              <a:srgbClr val="fafd00"/>
            </a:solidFill>
            <a:miter/>
            <a:tailEnd len="lg" type="stealth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 flipH="1">
            <a:off x="183960" y="1181160"/>
            <a:ext cx="8589960" cy="462420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Baseline Promotion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351000" y="4551120"/>
            <a:ext cx="2119320" cy="1059120"/>
            <a:chOff x="351000" y="4551120"/>
            <a:chExt cx="2119320" cy="1059120"/>
          </a:xfrm>
        </p:grpSpPr>
        <p:sp>
          <p:nvSpPr>
            <p:cNvPr id="710" name=""/>
            <p:cNvSpPr/>
            <p:nvPr/>
          </p:nvSpPr>
          <p:spPr>
            <a:xfrm flipV="1">
              <a:off x="436680" y="4550760"/>
              <a:ext cx="1946160" cy="669960"/>
            </a:xfrm>
            <a:custGeom>
              <a:avLst/>
              <a:gdLst>
                <a:gd name="textAreaLeft" fmla="*/ 428040 w 1946160"/>
                <a:gd name="textAreaRight" fmla="*/ 1518120 w 1946160"/>
                <a:gd name="textAreaTop" fmla="*/ 147240 h 669960"/>
                <a:gd name="textAreaBottom" fmla="*/ 522720 h 66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  <a:effectLst>
              <a:outerShdw dist="170334" dir="159715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L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1000" y="5149800"/>
              <a:ext cx="2119320" cy="46044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gration Tes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2416320" y="3454560"/>
            <a:ext cx="2176200" cy="1020600"/>
            <a:chOff x="2416320" y="3454560"/>
            <a:chExt cx="2176200" cy="1020600"/>
          </a:xfrm>
        </p:grpSpPr>
        <p:sp>
          <p:nvSpPr>
            <p:cNvPr id="713" name=""/>
            <p:cNvSpPr/>
            <p:nvPr/>
          </p:nvSpPr>
          <p:spPr>
            <a:xfrm flipV="1">
              <a:off x="2530440" y="3454560"/>
              <a:ext cx="1946160" cy="669600"/>
            </a:xfrm>
            <a:custGeom>
              <a:avLst/>
              <a:gdLst>
                <a:gd name="textAreaLeft" fmla="*/ 428040 w 1946160"/>
                <a:gd name="textAreaRight" fmla="*/ 1518120 w 1946160"/>
                <a:gd name="textAreaTop" fmla="*/ 147240 h 669600"/>
                <a:gd name="textAreaBottom" fmla="*/ 522360 h 66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  <a:effectLst>
              <a:outerShdw dist="170334" dir="159715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L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16320" y="4052880"/>
              <a:ext cx="2176200" cy="4222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stem Tes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592520" y="2187720"/>
            <a:ext cx="2138400" cy="1127160"/>
            <a:chOff x="4592520" y="2187720"/>
            <a:chExt cx="2138400" cy="1127160"/>
          </a:xfrm>
        </p:grpSpPr>
        <p:sp>
          <p:nvSpPr>
            <p:cNvPr id="716" name=""/>
            <p:cNvSpPr/>
            <p:nvPr/>
          </p:nvSpPr>
          <p:spPr>
            <a:xfrm flipV="1">
              <a:off x="4689360" y="2187720"/>
              <a:ext cx="1946520" cy="668160"/>
            </a:xfrm>
            <a:custGeom>
              <a:avLst/>
              <a:gdLst>
                <a:gd name="textAreaLeft" fmla="*/ 428040 w 1946520"/>
                <a:gd name="textAreaRight" fmla="*/ 1518480 w 1946520"/>
                <a:gd name="textAreaTop" fmla="*/ 146880 h 668160"/>
                <a:gd name="textAreaBottom" fmla="*/ 521280 h 66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  <a:effectLst>
              <a:outerShdw dist="170334" dir="159715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L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92520" y="2790720"/>
              <a:ext cx="2138400" cy="524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cceptance Tes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6661080" y="1257480"/>
            <a:ext cx="2102040" cy="1020600"/>
            <a:chOff x="6661080" y="1257480"/>
            <a:chExt cx="2102040" cy="1020600"/>
          </a:xfrm>
        </p:grpSpPr>
        <p:sp>
          <p:nvSpPr>
            <p:cNvPr id="719" name=""/>
            <p:cNvSpPr/>
            <p:nvPr/>
          </p:nvSpPr>
          <p:spPr>
            <a:xfrm flipV="1">
              <a:off x="6737400" y="1257120"/>
              <a:ext cx="1946160" cy="669600"/>
            </a:xfrm>
            <a:custGeom>
              <a:avLst/>
              <a:gdLst>
                <a:gd name="textAreaLeft" fmla="*/ 428040 w 1946160"/>
                <a:gd name="textAreaRight" fmla="*/ 1518120 w 1946160"/>
                <a:gd name="textAreaTop" fmla="*/ 147240 h 669600"/>
                <a:gd name="textAreaBottom" fmla="*/ 522360 h 66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  <a:effectLst>
              <a:outerShdw dist="170334" dir="159715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L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661080" y="1836720"/>
              <a:ext cx="2102040" cy="4413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du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6488280" y="2303640"/>
            <a:ext cx="155520" cy="168120"/>
          </a:xfrm>
          <a:prstGeom prst="flowChartDecision">
            <a:avLst/>
          </a:prstGeom>
          <a:solidFill>
            <a:srgbClr val="fafd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290680" y="4546440"/>
            <a:ext cx="155520" cy="168480"/>
          </a:xfrm>
          <a:prstGeom prst="flowChartDecision">
            <a:avLst/>
          </a:prstGeom>
          <a:solidFill>
            <a:srgbClr val="fafd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414680" y="3384720"/>
            <a:ext cx="155880" cy="168120"/>
          </a:xfrm>
          <a:prstGeom prst="flowChartDecision">
            <a:avLst/>
          </a:prstGeom>
          <a:solidFill>
            <a:srgbClr val="fafd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920" y="5686560"/>
            <a:ext cx="155520" cy="168120"/>
          </a:xfrm>
          <a:prstGeom prst="flowChartDecision">
            <a:avLst/>
          </a:prstGeom>
          <a:solidFill>
            <a:srgbClr val="fafd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47480" y="1056240"/>
            <a:ext cx="4702320" cy="4230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Defined Promotion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61800" y="1611360"/>
            <a:ext cx="504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ject policy defines recommenda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847800" y="870120"/>
            <a:ext cx="4247640" cy="4739760"/>
            <a:chOff x="847800" y="870120"/>
            <a:chExt cx="4247640" cy="4739760"/>
          </a:xfrm>
        </p:grpSpPr>
        <p:sp>
          <p:nvSpPr>
            <p:cNvPr id="728" name=""/>
            <p:cNvSpPr/>
            <p:nvPr/>
          </p:nvSpPr>
          <p:spPr>
            <a:xfrm>
              <a:off x="870840" y="870120"/>
              <a:ext cx="4224600" cy="4739760"/>
            </a:xfrm>
            <a:prstGeom prst="triangle">
              <a:avLst>
                <a:gd name="adj" fmla="val 50000"/>
              </a:avLst>
            </a:prstGeom>
            <a:solidFill>
              <a:srgbClr val="022d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847800" y="4197960"/>
              <a:ext cx="4247640" cy="1410840"/>
            </a:xfrm>
            <a:custGeom>
              <a:avLst/>
              <a:gdLst>
                <a:gd name="textAreaLeft" fmla="*/ 700560 w 4247640"/>
                <a:gd name="textAreaRight" fmla="*/ 3547080 w 4247640"/>
                <a:gd name="textAreaTop" fmla="*/ 232560 h 1410840"/>
                <a:gd name="textAreaBottom" fmla="*/ 1178280 h 141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428760" y="974880"/>
            <a:ext cx="4247640" cy="4739760"/>
            <a:chOff x="428760" y="974880"/>
            <a:chExt cx="4247640" cy="4739760"/>
          </a:xfrm>
        </p:grpSpPr>
        <p:sp>
          <p:nvSpPr>
            <p:cNvPr id="731" name=""/>
            <p:cNvSpPr/>
            <p:nvPr/>
          </p:nvSpPr>
          <p:spPr>
            <a:xfrm>
              <a:off x="451800" y="974880"/>
              <a:ext cx="4224600" cy="4739760"/>
            </a:xfrm>
            <a:prstGeom prst="triangle">
              <a:avLst>
                <a:gd name="adj" fmla="val 50000"/>
              </a:avLst>
            </a:prstGeom>
            <a:solidFill>
              <a:srgbClr val="022d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28760" y="4302720"/>
              <a:ext cx="4247640" cy="1410840"/>
            </a:xfrm>
            <a:custGeom>
              <a:avLst/>
              <a:gdLst>
                <a:gd name="textAreaLeft" fmla="*/ 700560 w 4247640"/>
                <a:gd name="textAreaRight" fmla="*/ 3547080 w 4247640"/>
                <a:gd name="textAreaTop" fmla="*/ 232560 h 1410840"/>
                <a:gd name="textAreaBottom" fmla="*/ 1178280 h 141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Rebasing a Development Stream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0" y="1089000"/>
            <a:ext cx="4247640" cy="4740120"/>
            <a:chOff x="0" y="1089000"/>
            <a:chExt cx="4247640" cy="4740120"/>
          </a:xfrm>
        </p:grpSpPr>
        <p:sp>
          <p:nvSpPr>
            <p:cNvPr id="735" name=""/>
            <p:cNvSpPr/>
            <p:nvPr/>
          </p:nvSpPr>
          <p:spPr>
            <a:xfrm>
              <a:off x="23040" y="1089000"/>
              <a:ext cx="4224600" cy="4740120"/>
            </a:xfrm>
            <a:prstGeom prst="triangle">
              <a:avLst>
                <a:gd name="adj" fmla="val 50000"/>
              </a:avLst>
            </a:prstGeom>
            <a:solidFill>
              <a:srgbClr val="022d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0" y="4417920"/>
              <a:ext cx="4247640" cy="1411200"/>
            </a:xfrm>
            <a:custGeom>
              <a:avLst/>
              <a:gdLst>
                <a:gd name="textAreaLeft" fmla="*/ 700560 w 4247640"/>
                <a:gd name="textAreaRight" fmla="*/ 3547080 w 4247640"/>
                <a:gd name="textAreaTop" fmla="*/ 232560 h 1411200"/>
                <a:gd name="textAreaBottom" fmla="*/ 1178640 h 141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892760" y="1079640"/>
            <a:ext cx="4250880" cy="4743000"/>
            <a:chOff x="4892760" y="1079640"/>
            <a:chExt cx="4250880" cy="4743000"/>
          </a:xfrm>
        </p:grpSpPr>
        <p:sp>
          <p:nvSpPr>
            <p:cNvPr id="738" name=""/>
            <p:cNvSpPr/>
            <p:nvPr/>
          </p:nvSpPr>
          <p:spPr>
            <a:xfrm>
              <a:off x="4892760" y="1079640"/>
              <a:ext cx="4250880" cy="4743000"/>
            </a:xfrm>
            <a:prstGeom prst="triangle">
              <a:avLst>
                <a:gd name="adj" fmla="val 50000"/>
              </a:avLst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4892760" y="4410360"/>
              <a:ext cx="4250880" cy="1411560"/>
            </a:xfrm>
            <a:custGeom>
              <a:avLst/>
              <a:gdLst>
                <a:gd name="textAreaLeft" fmla="*/ 700920 w 4250880"/>
                <a:gd name="textAreaRight" fmla="*/ 3549960 w 4250880"/>
                <a:gd name="textAreaTop" fmla="*/ 232560 h 1411560"/>
                <a:gd name="textAreaBottom" fmla="*/ 1179000 h 141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 flipH="1">
            <a:off x="3704400" y="4971960"/>
            <a:ext cx="1800360" cy="400320"/>
          </a:xfrm>
          <a:prstGeom prst="rightArrow">
            <a:avLst>
              <a:gd name="adj1" fmla="val 59528"/>
              <a:gd name="adj2" fmla="val 57153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445000" y="4730760"/>
            <a:ext cx="3146400" cy="852480"/>
          </a:xfrm>
          <a:custGeom>
            <a:avLst/>
            <a:gdLst>
              <a:gd name="textAreaLeft" fmla="*/ 491040 w 3146400"/>
              <a:gd name="textAreaRight" fmla="*/ 2655360 w 3146400"/>
              <a:gd name="textAreaTop" fmla="*/ 132840 h 852480"/>
              <a:gd name="textAreaBottom" fmla="*/ 7196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680" y="21600"/>
                </a:lnTo>
                <a:lnTo>
                  <a:pt x="2920" y="21600"/>
                </a:lnTo>
                <a:close/>
              </a:path>
            </a:pathLst>
          </a:custGeom>
          <a:solidFill>
            <a:srgbClr val="4700b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407880" indent="-407880" algn="ctr">
              <a:lnSpc>
                <a:spcPct val="78000"/>
              </a:lnSpc>
              <a:spcBef>
                <a:spcPts val="17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elin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03280" y="4692600"/>
            <a:ext cx="3146400" cy="852480"/>
          </a:xfrm>
          <a:custGeom>
            <a:avLst/>
            <a:gdLst>
              <a:gd name="textAreaLeft" fmla="*/ 491040 w 3146400"/>
              <a:gd name="textAreaRight" fmla="*/ 2655360 w 3146400"/>
              <a:gd name="textAreaTop" fmla="*/ 132840 h 852480"/>
              <a:gd name="textAreaBottom" fmla="*/ 7196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680" y="21600"/>
                </a:lnTo>
                <a:lnTo>
                  <a:pt x="2920" y="21600"/>
                </a:lnTo>
                <a:close/>
              </a:path>
            </a:pathLst>
          </a:custGeom>
          <a:solidFill>
            <a:srgbClr val="4700b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407880" indent="-407880" algn="ctr">
              <a:lnSpc>
                <a:spcPct val="78000"/>
              </a:lnSpc>
              <a:spcBef>
                <a:spcPts val="17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elin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1604880" y="3373560"/>
            <a:ext cx="1158840" cy="658800"/>
            <a:chOff x="1604880" y="3373560"/>
            <a:chExt cx="1158840" cy="658800"/>
          </a:xfrm>
        </p:grpSpPr>
        <p:sp>
          <p:nvSpPr>
            <p:cNvPr id="744" name=""/>
            <p:cNvSpPr/>
            <p:nvPr/>
          </p:nvSpPr>
          <p:spPr>
            <a:xfrm>
              <a:off x="1604880" y="3373560"/>
              <a:ext cx="1158840" cy="65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04880" y="3373560"/>
              <a:ext cx="1158840" cy="318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fect 4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1793880" y="378000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6939000" y="3687840"/>
            <a:ext cx="1158840" cy="658800"/>
            <a:chOff x="6939000" y="3687840"/>
            <a:chExt cx="1158840" cy="658800"/>
          </a:xfrm>
        </p:grpSpPr>
        <p:sp>
          <p:nvSpPr>
            <p:cNvPr id="748" name=""/>
            <p:cNvSpPr/>
            <p:nvPr/>
          </p:nvSpPr>
          <p:spPr>
            <a:xfrm>
              <a:off x="6939000" y="3687840"/>
              <a:ext cx="1158840" cy="65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39000" y="3687840"/>
              <a:ext cx="1158840" cy="318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fect 55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128000" y="409428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356600" y="409428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 flipV="1">
            <a:off x="655560" y="4692600"/>
            <a:ext cx="3146400" cy="852480"/>
          </a:xfrm>
          <a:custGeom>
            <a:avLst/>
            <a:gdLst>
              <a:gd name="textAreaLeft" fmla="*/ 491040 w 3146400"/>
              <a:gd name="textAreaRight" fmla="*/ 2655360 w 3146400"/>
              <a:gd name="textAreaTop" fmla="*/ 132840 h 852480"/>
              <a:gd name="textAreaBottom" fmla="*/ 7196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680" y="21600"/>
                </a:lnTo>
                <a:lnTo>
                  <a:pt x="2920" y="21600"/>
                </a:lnTo>
                <a:close/>
              </a:path>
            </a:pathLst>
          </a:custGeom>
          <a:solidFill>
            <a:srgbClr val="4700b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407880" indent="-407880" algn="ctr">
              <a:lnSpc>
                <a:spcPct val="78000"/>
              </a:lnSpc>
              <a:spcBef>
                <a:spcPts val="17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elin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Rebasing a Development Stream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54" name=""/>
          <p:cNvSpPr/>
          <p:nvPr/>
        </p:nvSpPr>
        <p:spPr>
          <a:xfrm>
            <a:off x="325440" y="949320"/>
            <a:ext cx="432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velopers update their development streams from recommended project baseli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1652760" y="1724040"/>
            <a:ext cx="6283080" cy="427824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7696080" y="0"/>
            <a:ext cx="184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 algn="ctr">
              <a:lnSpc>
                <a:spcPct val="88000"/>
              </a:lnSpc>
              <a:spcBef>
                <a:spcPts val="12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UCM – A Tighter CC/CQ Integration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59" name=""/>
          <p:cNvSpPr/>
          <p:nvPr/>
        </p:nvSpPr>
        <p:spPr>
          <a:xfrm>
            <a:off x="237960" y="971640"/>
            <a:ext cx="4042080" cy="4784760"/>
          </a:xfrm>
          <a:prstGeom prst="rect">
            <a:avLst/>
          </a:prstGeom>
          <a:solidFill>
            <a:srgbClr val="470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 marL="457200" indent="-457200">
              <a:lnSpc>
                <a:spcPct val="87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earCa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figuration Mgm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ead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hange 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e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76600" y="971640"/>
            <a:ext cx="4467240" cy="47847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 marL="457200" indent="-457200">
              <a:lnSpc>
                <a:spcPct val="87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earQu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ctivity/Request Mgm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ustom Stat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les and 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ustom Fields and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dvanced Charting and Repor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00240" y="2066760"/>
            <a:ext cx="2938320" cy="971640"/>
          </a:xfrm>
          <a:prstGeom prst="leftRightArrow">
            <a:avLst>
              <a:gd name="adj1" fmla="val 45750"/>
              <a:gd name="adj2" fmla="val 52669"/>
            </a:avLst>
          </a:prstGeom>
          <a:gradFill rotWithShape="0">
            <a:gsLst>
              <a:gs pos="0">
                <a:srgbClr val="4700b0"/>
              </a:gs>
              <a:gs pos="100000">
                <a:srgbClr val="9900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rebaseactlist" descr=""/>
          <p:cNvPicPr/>
          <p:nvPr/>
        </p:nvPicPr>
        <p:blipFill>
          <a:blip r:embed="rId1"/>
          <a:stretch/>
        </p:blipFill>
        <p:spPr>
          <a:xfrm>
            <a:off x="380880" y="952560"/>
            <a:ext cx="4518000" cy="340524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3925800" y="3951360"/>
            <a:ext cx="876240" cy="36036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4" name="cqprops" descr=""/>
          <p:cNvPicPr/>
          <p:nvPr/>
        </p:nvPicPr>
        <p:blipFill>
          <a:blip r:embed="rId2"/>
          <a:stretch/>
        </p:blipFill>
        <p:spPr>
          <a:xfrm>
            <a:off x="1690560" y="1465200"/>
            <a:ext cx="5956560" cy="4521240"/>
          </a:xfrm>
          <a:prstGeom prst="rect">
            <a:avLst/>
          </a:prstGeom>
          <a:ln w="0">
            <a:noFill/>
          </a:ln>
        </p:spPr>
      </p:pic>
      <p:pic>
        <p:nvPicPr>
          <p:cNvPr id="765" name="cqpropscctab" descr=""/>
          <p:cNvPicPr/>
          <p:nvPr/>
        </p:nvPicPr>
        <p:blipFill>
          <a:blip r:embed="rId3"/>
          <a:stretch/>
        </p:blipFill>
        <p:spPr>
          <a:xfrm>
            <a:off x="1690560" y="1463760"/>
            <a:ext cx="5956560" cy="4521240"/>
          </a:xfrm>
          <a:prstGeom prst="rect">
            <a:avLst/>
          </a:prstGeom>
          <a:ln w="0">
            <a:noFill/>
          </a:ln>
        </p:spPr>
      </p:pic>
      <p:pic>
        <p:nvPicPr>
          <p:cNvPr id="766" name="changeset1" descr=""/>
          <p:cNvPicPr/>
          <p:nvPr/>
        </p:nvPicPr>
        <p:blipFill>
          <a:blip r:embed="rId4"/>
          <a:stretch/>
        </p:blipFill>
        <p:spPr>
          <a:xfrm>
            <a:off x="1925640" y="3637080"/>
            <a:ext cx="4097160" cy="147600"/>
          </a:xfrm>
          <a:prstGeom prst="rect">
            <a:avLst/>
          </a:prstGeom>
          <a:ln w="0">
            <a:noFill/>
          </a:ln>
        </p:spPr>
      </p:pic>
      <p:pic>
        <p:nvPicPr>
          <p:cNvPr id="767" name="csetcontext" descr=""/>
          <p:cNvPicPr/>
          <p:nvPr/>
        </p:nvPicPr>
        <p:blipFill>
          <a:blip r:embed="rId5"/>
          <a:stretch/>
        </p:blipFill>
        <p:spPr>
          <a:xfrm>
            <a:off x="3990960" y="3835440"/>
            <a:ext cx="1027080" cy="1571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Unified Activities and Project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6334200" y="1030320"/>
            <a:ext cx="952560" cy="74592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homebase0623" descr=""/>
          <p:cNvPicPr/>
          <p:nvPr/>
        </p:nvPicPr>
        <p:blipFill>
          <a:blip r:embed="rId1"/>
          <a:stretch/>
        </p:blipFill>
        <p:spPr>
          <a:xfrm>
            <a:off x="3216240" y="1000080"/>
            <a:ext cx="5330880" cy="493884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Transparent and Easy to Use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263520" y="2502000"/>
          <a:ext cx="1214280" cy="136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3520" y="2502000"/>
                    <a:ext cx="12142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"/>
          <p:cNvSpPr/>
          <p:nvPr/>
        </p:nvSpPr>
        <p:spPr>
          <a:xfrm flipV="1">
            <a:off x="1467000" y="1063440"/>
            <a:ext cx="1699920" cy="1415880"/>
          </a:xfrm>
          <a:prstGeom prst="line">
            <a:avLst/>
          </a:prstGeom>
          <a:ln w="507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52600" y="3894120"/>
            <a:ext cx="1738440" cy="1981080"/>
          </a:xfrm>
          <a:prstGeom prst="line">
            <a:avLst/>
          </a:prstGeom>
          <a:ln w="507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121360" y="1955880"/>
            <a:ext cx="604800" cy="587160"/>
          </a:xfrm>
          <a:prstGeom prst="rect">
            <a:avLst/>
          </a:prstGeom>
          <a:noFill/>
          <a:ln w="507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652320" y="4587840"/>
            <a:ext cx="820440" cy="1208160"/>
            <a:chOff x="652320" y="4587840"/>
            <a:chExt cx="820440" cy="1208160"/>
          </a:xfrm>
        </p:grpSpPr>
        <p:sp>
          <p:nvSpPr>
            <p:cNvPr id="778" name=""/>
            <p:cNvSpPr/>
            <p:nvPr/>
          </p:nvSpPr>
          <p:spPr>
            <a:xfrm>
              <a:off x="798120" y="4587840"/>
              <a:ext cx="395280" cy="251280"/>
            </a:xfrm>
            <a:prstGeom prst="ellipse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52320" y="4840920"/>
              <a:ext cx="820440" cy="955080"/>
            </a:xfrm>
            <a:custGeom>
              <a:avLst/>
              <a:gdLst/>
              <a:ahLst/>
              <a:rect l="l" t="t" r="r" b="b"/>
              <a:pathLst>
                <a:path w="182" h="324">
                  <a:moveTo>
                    <a:pt x="86" y="11"/>
                  </a:moveTo>
                  <a:lnTo>
                    <a:pt x="81" y="23"/>
                  </a:lnTo>
                  <a:lnTo>
                    <a:pt x="69" y="7"/>
                  </a:lnTo>
                  <a:lnTo>
                    <a:pt x="69" y="0"/>
                  </a:lnTo>
                  <a:lnTo>
                    <a:pt x="47" y="0"/>
                  </a:lnTo>
                  <a:lnTo>
                    <a:pt x="19" y="17"/>
                  </a:lnTo>
                  <a:lnTo>
                    <a:pt x="0" y="86"/>
                  </a:lnTo>
                  <a:lnTo>
                    <a:pt x="22" y="107"/>
                  </a:lnTo>
                  <a:lnTo>
                    <a:pt x="42" y="127"/>
                  </a:lnTo>
                  <a:lnTo>
                    <a:pt x="42" y="323"/>
                  </a:lnTo>
                  <a:lnTo>
                    <a:pt x="97" y="323"/>
                  </a:lnTo>
                  <a:lnTo>
                    <a:pt x="97" y="171"/>
                  </a:lnTo>
                  <a:lnTo>
                    <a:pt x="121" y="323"/>
                  </a:lnTo>
                  <a:lnTo>
                    <a:pt x="179" y="323"/>
                  </a:lnTo>
                  <a:lnTo>
                    <a:pt x="153" y="167"/>
                  </a:lnTo>
                  <a:lnTo>
                    <a:pt x="153" y="129"/>
                  </a:lnTo>
                  <a:lnTo>
                    <a:pt x="181" y="85"/>
                  </a:lnTo>
                  <a:lnTo>
                    <a:pt x="137" y="80"/>
                  </a:lnTo>
                  <a:lnTo>
                    <a:pt x="111" y="81"/>
                  </a:lnTo>
                  <a:lnTo>
                    <a:pt x="112" y="128"/>
                  </a:lnTo>
                  <a:lnTo>
                    <a:pt x="137" y="128"/>
                  </a:lnTo>
                  <a:lnTo>
                    <a:pt x="137" y="144"/>
                  </a:lnTo>
                  <a:lnTo>
                    <a:pt x="53" y="144"/>
                  </a:lnTo>
                  <a:lnTo>
                    <a:pt x="53" y="43"/>
                  </a:lnTo>
                  <a:lnTo>
                    <a:pt x="137" y="43"/>
                  </a:lnTo>
                  <a:lnTo>
                    <a:pt x="137" y="80"/>
                  </a:lnTo>
                  <a:lnTo>
                    <a:pt x="181" y="85"/>
                  </a:lnTo>
                  <a:lnTo>
                    <a:pt x="153" y="9"/>
                  </a:lnTo>
                  <a:lnTo>
                    <a:pt x="139" y="1"/>
                  </a:lnTo>
                  <a:lnTo>
                    <a:pt x="113" y="1"/>
                  </a:lnTo>
                  <a:lnTo>
                    <a:pt x="100" y="22"/>
                  </a:lnTo>
                  <a:lnTo>
                    <a:pt x="94" y="11"/>
                  </a:lnTo>
                  <a:lnTo>
                    <a:pt x="101" y="1"/>
                  </a:lnTo>
                  <a:lnTo>
                    <a:pt x="79" y="1"/>
                  </a:lnTo>
                  <a:lnTo>
                    <a:pt x="86" y="11"/>
                  </a:lnTo>
                </a:path>
              </a:pathLst>
            </a:cu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547560" y="5800680"/>
            <a:ext cx="1770120" cy="362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 algn="ctr">
              <a:lnSpc>
                <a:spcPct val="88000"/>
              </a:lnSpc>
              <a:spcBef>
                <a:spcPts val="12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evelop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All UCM GUIs implemented on Unix too!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782" name="joinprj_step1_0623" descr=""/>
          <p:cNvPicPr/>
          <p:nvPr/>
        </p:nvPicPr>
        <p:blipFill>
          <a:blip r:embed="rId1"/>
          <a:stretch/>
        </p:blipFill>
        <p:spPr>
          <a:xfrm>
            <a:off x="1515960" y="1201680"/>
            <a:ext cx="6112080" cy="4718160"/>
          </a:xfrm>
          <a:prstGeom prst="rect">
            <a:avLst/>
          </a:prstGeom>
          <a:ln w="0">
            <a:noFill/>
          </a:ln>
        </p:spPr>
      </p:pic>
      <p:pic>
        <p:nvPicPr>
          <p:cNvPr id="783" name="joinproj" descr=""/>
          <p:cNvPicPr/>
          <p:nvPr/>
        </p:nvPicPr>
        <p:blipFill>
          <a:blip r:embed="rId2"/>
          <a:stretch/>
        </p:blipFill>
        <p:spPr>
          <a:xfrm>
            <a:off x="1317600" y="1057320"/>
            <a:ext cx="65102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7320" y="785880"/>
            <a:ext cx="445752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earCase 4.0 is Shipping!!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2080" y="843120"/>
            <a:ext cx="4462560" cy="55339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learCase 4.0 has been GA since December, 1999 on all reference platforms (Windows, SPARC/Solaris, and HP/UX)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Full platform support available in March, 2000 (IRIX, AIX, True64, Reliant, Red Hat Linux,...)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94" name="CCboxshot" descr=""/>
          <p:cNvPicPr/>
          <p:nvPr/>
        </p:nvPicPr>
        <p:blipFill>
          <a:blip r:embed="rId1"/>
          <a:stretch/>
        </p:blipFill>
        <p:spPr>
          <a:xfrm>
            <a:off x="314280" y="1009800"/>
            <a:ext cx="4186440" cy="49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Full Unix GUI suppor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71000" y="685800"/>
            <a:ext cx="293364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an be invoked from xclearcase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an be invoked from CLI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2890800" y="901800"/>
            <a:ext cx="59245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4908600" y="660240"/>
            <a:ext cx="4016160" cy="2084040"/>
            <a:chOff x="4908600" y="660240"/>
            <a:chExt cx="4016160" cy="2084040"/>
          </a:xfrm>
        </p:grpSpPr>
        <p:sp>
          <p:nvSpPr>
            <p:cNvPr id="788" name=""/>
            <p:cNvSpPr/>
            <p:nvPr/>
          </p:nvSpPr>
          <p:spPr>
            <a:xfrm flipV="1">
              <a:off x="4908600" y="659520"/>
              <a:ext cx="4016160" cy="2084040"/>
            </a:xfrm>
            <a:custGeom>
              <a:avLst/>
              <a:gdLst>
                <a:gd name="textAreaLeft" fmla="*/ 883080 w 4016160"/>
                <a:gd name="textAreaRight" fmla="*/ 3133080 w 4016160"/>
                <a:gd name="textAreaTop" fmla="*/ 458280 h 2084040"/>
                <a:gd name="textAreaBottom" fmla="*/ 1625760 h 20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Dev Stream 2’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Foundation Baseline Vers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15000" y="1219320"/>
              <a:ext cx="2419200" cy="11674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Dev Stream 2’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Foundation Baseline Vers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340240" y="4873680"/>
            <a:ext cx="1039680" cy="1194840"/>
            <a:chOff x="5340240" y="4873680"/>
            <a:chExt cx="1039680" cy="1194840"/>
          </a:xfrm>
        </p:grpSpPr>
        <p:sp>
          <p:nvSpPr>
            <p:cNvPr id="791" name=""/>
            <p:cNvSpPr/>
            <p:nvPr/>
          </p:nvSpPr>
          <p:spPr>
            <a:xfrm>
              <a:off x="5340240" y="5028840"/>
              <a:ext cx="1039680" cy="103968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763960" y="4873680"/>
              <a:ext cx="189000" cy="18864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65320" y="5262840"/>
              <a:ext cx="4064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3997440" y="3254400"/>
            <a:ext cx="188640" cy="189000"/>
          </a:xfrm>
          <a:prstGeom prst="ellipse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What’s Really Going On?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96" name=""/>
          <p:cNvSpPr/>
          <p:nvPr/>
        </p:nvSpPr>
        <p:spPr>
          <a:xfrm>
            <a:off x="5268960" y="5560920"/>
            <a:ext cx="135000" cy="13500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571920" y="2585880"/>
            <a:ext cx="1039680" cy="1040040"/>
          </a:xfrm>
          <a:prstGeom prst="ellipse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97440" y="2440080"/>
            <a:ext cx="188640" cy="189000"/>
          </a:xfrm>
          <a:prstGeom prst="ellipse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571920" y="1773360"/>
            <a:ext cx="1039680" cy="1039680"/>
          </a:xfrm>
          <a:prstGeom prst="ellipse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97440" y="1625760"/>
            <a:ext cx="188640" cy="188640"/>
          </a:xfrm>
          <a:prstGeom prst="ellipse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571920" y="960480"/>
            <a:ext cx="1039680" cy="1039680"/>
          </a:xfrm>
          <a:prstGeom prst="ellipse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3889080" y="1177200"/>
            <a:ext cx="406440" cy="3793320"/>
            <a:chOff x="3889080" y="1177200"/>
            <a:chExt cx="406440" cy="3793320"/>
          </a:xfrm>
        </p:grpSpPr>
        <p:sp>
          <p:nvSpPr>
            <p:cNvPr id="803" name=""/>
            <p:cNvSpPr/>
            <p:nvPr/>
          </p:nvSpPr>
          <p:spPr>
            <a:xfrm>
              <a:off x="4000320" y="4390920"/>
              <a:ext cx="18432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000320" y="3591000"/>
              <a:ext cx="184320" cy="579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889080" y="2764440"/>
              <a:ext cx="4064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889080" y="1989720"/>
              <a:ext cx="4064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889080" y="1177200"/>
              <a:ext cx="4064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5259240" y="3130560"/>
            <a:ext cx="135000" cy="13500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40240" y="4213080"/>
            <a:ext cx="1040040" cy="10400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764320" y="4057560"/>
            <a:ext cx="188640" cy="189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340240" y="3400560"/>
            <a:ext cx="1040040" cy="10396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64320" y="3255840"/>
            <a:ext cx="188640" cy="189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38800" y="2587680"/>
            <a:ext cx="1039680" cy="10396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5655960" y="2823120"/>
            <a:ext cx="406440" cy="3000960"/>
            <a:chOff x="5655960" y="2823120"/>
            <a:chExt cx="406440" cy="3000960"/>
          </a:xfrm>
        </p:grpSpPr>
        <p:sp>
          <p:nvSpPr>
            <p:cNvPr id="815" name=""/>
            <p:cNvSpPr/>
            <p:nvPr/>
          </p:nvSpPr>
          <p:spPr>
            <a:xfrm>
              <a:off x="5655960" y="4410360"/>
              <a:ext cx="4064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655960" y="3635640"/>
              <a:ext cx="4064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55960" y="2823120"/>
              <a:ext cx="4064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67200" y="5244840"/>
              <a:ext cx="184320" cy="579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 rot="5400000">
            <a:off x="5604840" y="4158360"/>
            <a:ext cx="2355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Dev Stream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3480840" y="5041800"/>
            <a:ext cx="1132200" cy="1039680"/>
            <a:chOff x="3480840" y="5041800"/>
            <a:chExt cx="1132200" cy="1039680"/>
          </a:xfrm>
        </p:grpSpPr>
        <p:sp>
          <p:nvSpPr>
            <p:cNvPr id="821" name=""/>
            <p:cNvSpPr/>
            <p:nvPr/>
          </p:nvSpPr>
          <p:spPr>
            <a:xfrm>
              <a:off x="3573360" y="5041800"/>
              <a:ext cx="1039680" cy="1039680"/>
            </a:xfrm>
            <a:prstGeom prst="ellipse">
              <a:avLst/>
            </a:pr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908160" y="5240880"/>
              <a:ext cx="4064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 rot="3171600">
              <a:off x="3507480" y="5579640"/>
              <a:ext cx="134640" cy="13500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H="1">
            <a:off x="3479040" y="3121200"/>
            <a:ext cx="135000" cy="1346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1808280" y="4241880"/>
            <a:ext cx="1039680" cy="1039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2234520" y="4086360"/>
            <a:ext cx="189000" cy="1886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1808280" y="3429000"/>
            <a:ext cx="1039680" cy="1039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2234520" y="3284640"/>
            <a:ext cx="189000" cy="1886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1809720" y="2616120"/>
            <a:ext cx="1039680" cy="10400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2125800" y="2851920"/>
            <a:ext cx="406440" cy="3001320"/>
            <a:chOff x="2125800" y="2851920"/>
            <a:chExt cx="406440" cy="3001320"/>
          </a:xfrm>
        </p:grpSpPr>
        <p:sp>
          <p:nvSpPr>
            <p:cNvPr id="831" name=""/>
            <p:cNvSpPr/>
            <p:nvPr/>
          </p:nvSpPr>
          <p:spPr>
            <a:xfrm flipH="1">
              <a:off x="2125440" y="4439520"/>
              <a:ext cx="4064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2125440" y="3664800"/>
              <a:ext cx="4064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2125440" y="2851920"/>
              <a:ext cx="4064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2236680" y="5273640"/>
              <a:ext cx="18432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 flipH="1" rot="16200000">
            <a:off x="229320" y="4186800"/>
            <a:ext cx="2355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807"/>
                </a:solidFill>
                <a:latin typeface="Arial"/>
              </a:rPr>
              <a:t>Dev Stream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09720" y="6022800"/>
            <a:ext cx="1816200" cy="6019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 algn="ctr">
              <a:lnSpc>
                <a:spcPct val="78000"/>
              </a:lnSpc>
              <a:spcBef>
                <a:spcPts val="17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19520" y="6024600"/>
            <a:ext cx="1816200" cy="60156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 algn="ctr">
              <a:lnSpc>
                <a:spcPct val="78000"/>
              </a:lnSpc>
              <a:spcBef>
                <a:spcPts val="17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2591640" y="786600"/>
            <a:ext cx="3109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egration Str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2977800">
            <a:off x="5002200" y="1895400"/>
            <a:ext cx="237960" cy="1317600"/>
          </a:xfrm>
          <a:prstGeom prst="downArrow">
            <a:avLst>
              <a:gd name="adj1" fmla="val 33333"/>
              <a:gd name="adj2" fmla="val 90157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1633200">
            <a:off x="4957560" y="2243160"/>
            <a:ext cx="237960" cy="3270240"/>
          </a:xfrm>
          <a:prstGeom prst="downArrow">
            <a:avLst>
              <a:gd name="adj1" fmla="val 33333"/>
              <a:gd name="adj2" fmla="val 223766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"/>
          <p:cNvGrpSpPr/>
          <p:nvPr/>
        </p:nvGrpSpPr>
        <p:grpSpPr>
          <a:xfrm>
            <a:off x="2455920" y="1176480"/>
            <a:ext cx="4653720" cy="5033160"/>
            <a:chOff x="2455920" y="1176480"/>
            <a:chExt cx="4653720" cy="5033160"/>
          </a:xfrm>
        </p:grpSpPr>
        <p:sp>
          <p:nvSpPr>
            <p:cNvPr id="842" name=""/>
            <p:cNvSpPr/>
            <p:nvPr/>
          </p:nvSpPr>
          <p:spPr>
            <a:xfrm>
              <a:off x="2505240" y="1176480"/>
              <a:ext cx="4399200" cy="1866960"/>
            </a:xfrm>
            <a:custGeom>
              <a:avLst/>
              <a:gdLst/>
              <a:ahLst/>
              <a:rect l="l" t="t" r="r" b="b"/>
              <a:pathLst>
                <a:path w="1327" h="629">
                  <a:moveTo>
                    <a:pt x="1326" y="534"/>
                  </a:moveTo>
                  <a:lnTo>
                    <a:pt x="1293" y="459"/>
                  </a:lnTo>
                  <a:lnTo>
                    <a:pt x="1254" y="387"/>
                  </a:lnTo>
                  <a:lnTo>
                    <a:pt x="1206" y="323"/>
                  </a:lnTo>
                  <a:lnTo>
                    <a:pt x="1154" y="261"/>
                  </a:lnTo>
                  <a:lnTo>
                    <a:pt x="1097" y="206"/>
                  </a:lnTo>
                  <a:lnTo>
                    <a:pt x="1035" y="155"/>
                  </a:lnTo>
                  <a:lnTo>
                    <a:pt x="969" y="112"/>
                  </a:lnTo>
                  <a:lnTo>
                    <a:pt x="896" y="76"/>
                  </a:lnTo>
                  <a:lnTo>
                    <a:pt x="822" y="46"/>
                  </a:lnTo>
                  <a:lnTo>
                    <a:pt x="746" y="21"/>
                  </a:lnTo>
                  <a:lnTo>
                    <a:pt x="669" y="8"/>
                  </a:lnTo>
                  <a:lnTo>
                    <a:pt x="588" y="0"/>
                  </a:lnTo>
                  <a:lnTo>
                    <a:pt x="509" y="0"/>
                  </a:lnTo>
                  <a:lnTo>
                    <a:pt x="429" y="8"/>
                  </a:lnTo>
                  <a:lnTo>
                    <a:pt x="352" y="25"/>
                  </a:lnTo>
                  <a:lnTo>
                    <a:pt x="276" y="46"/>
                  </a:lnTo>
                  <a:lnTo>
                    <a:pt x="201" y="76"/>
                  </a:lnTo>
                  <a:lnTo>
                    <a:pt x="130" y="114"/>
                  </a:lnTo>
                  <a:lnTo>
                    <a:pt x="62" y="158"/>
                  </a:lnTo>
                  <a:lnTo>
                    <a:pt x="0" y="213"/>
                  </a:lnTo>
                  <a:lnTo>
                    <a:pt x="7" y="234"/>
                  </a:lnTo>
                  <a:lnTo>
                    <a:pt x="33" y="240"/>
                  </a:lnTo>
                  <a:lnTo>
                    <a:pt x="58" y="199"/>
                  </a:lnTo>
                  <a:lnTo>
                    <a:pt x="119" y="183"/>
                  </a:lnTo>
                  <a:lnTo>
                    <a:pt x="155" y="206"/>
                  </a:lnTo>
                  <a:lnTo>
                    <a:pt x="139" y="234"/>
                  </a:lnTo>
                  <a:lnTo>
                    <a:pt x="210" y="206"/>
                  </a:lnTo>
                  <a:lnTo>
                    <a:pt x="222" y="166"/>
                  </a:lnTo>
                  <a:lnTo>
                    <a:pt x="262" y="117"/>
                  </a:lnTo>
                  <a:lnTo>
                    <a:pt x="318" y="101"/>
                  </a:lnTo>
                  <a:lnTo>
                    <a:pt x="334" y="117"/>
                  </a:lnTo>
                  <a:lnTo>
                    <a:pt x="368" y="83"/>
                  </a:lnTo>
                  <a:lnTo>
                    <a:pt x="402" y="94"/>
                  </a:lnTo>
                  <a:lnTo>
                    <a:pt x="424" y="78"/>
                  </a:lnTo>
                  <a:lnTo>
                    <a:pt x="528" y="78"/>
                  </a:lnTo>
                  <a:lnTo>
                    <a:pt x="541" y="101"/>
                  </a:lnTo>
                  <a:lnTo>
                    <a:pt x="580" y="117"/>
                  </a:lnTo>
                  <a:lnTo>
                    <a:pt x="577" y="94"/>
                  </a:lnTo>
                  <a:lnTo>
                    <a:pt x="560" y="73"/>
                  </a:lnTo>
                  <a:lnTo>
                    <a:pt x="597" y="45"/>
                  </a:lnTo>
                  <a:lnTo>
                    <a:pt x="692" y="94"/>
                  </a:lnTo>
                  <a:lnTo>
                    <a:pt x="700" y="73"/>
                  </a:lnTo>
                  <a:lnTo>
                    <a:pt x="742" y="67"/>
                  </a:lnTo>
                  <a:lnTo>
                    <a:pt x="776" y="111"/>
                  </a:lnTo>
                  <a:lnTo>
                    <a:pt x="835" y="134"/>
                  </a:lnTo>
                  <a:lnTo>
                    <a:pt x="814" y="166"/>
                  </a:lnTo>
                  <a:lnTo>
                    <a:pt x="926" y="250"/>
                  </a:lnTo>
                  <a:lnTo>
                    <a:pt x="958" y="255"/>
                  </a:lnTo>
                  <a:lnTo>
                    <a:pt x="958" y="283"/>
                  </a:lnTo>
                  <a:lnTo>
                    <a:pt x="997" y="316"/>
                  </a:lnTo>
                  <a:lnTo>
                    <a:pt x="1019" y="295"/>
                  </a:lnTo>
                  <a:lnTo>
                    <a:pt x="1064" y="323"/>
                  </a:lnTo>
                  <a:lnTo>
                    <a:pt x="1027" y="328"/>
                  </a:lnTo>
                  <a:lnTo>
                    <a:pt x="1032" y="339"/>
                  </a:lnTo>
                  <a:lnTo>
                    <a:pt x="1086" y="378"/>
                  </a:lnTo>
                  <a:lnTo>
                    <a:pt x="1103" y="421"/>
                  </a:lnTo>
                  <a:lnTo>
                    <a:pt x="1116" y="455"/>
                  </a:lnTo>
                  <a:lnTo>
                    <a:pt x="1103" y="467"/>
                  </a:lnTo>
                  <a:lnTo>
                    <a:pt x="1158" y="500"/>
                  </a:lnTo>
                  <a:lnTo>
                    <a:pt x="1158" y="577"/>
                  </a:lnTo>
                  <a:lnTo>
                    <a:pt x="1171" y="595"/>
                  </a:lnTo>
                  <a:lnTo>
                    <a:pt x="1192" y="588"/>
                  </a:lnTo>
                  <a:lnTo>
                    <a:pt x="1205" y="628"/>
                  </a:lnTo>
                  <a:lnTo>
                    <a:pt x="1240" y="628"/>
                  </a:lnTo>
                  <a:lnTo>
                    <a:pt x="1255" y="600"/>
                  </a:lnTo>
                  <a:lnTo>
                    <a:pt x="1250" y="504"/>
                  </a:lnTo>
                  <a:lnTo>
                    <a:pt x="1277" y="555"/>
                  </a:lnTo>
                  <a:lnTo>
                    <a:pt x="1269" y="577"/>
                  </a:lnTo>
                  <a:lnTo>
                    <a:pt x="1290" y="561"/>
                  </a:lnTo>
                  <a:lnTo>
                    <a:pt x="1277" y="500"/>
                  </a:lnTo>
                  <a:lnTo>
                    <a:pt x="1306" y="550"/>
                  </a:lnTo>
                  <a:lnTo>
                    <a:pt x="1304" y="577"/>
                  </a:lnTo>
                  <a:lnTo>
                    <a:pt x="1325" y="561"/>
                  </a:lnTo>
                  <a:lnTo>
                    <a:pt x="1326" y="534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89440" y="2868120"/>
              <a:ext cx="520200" cy="1442160"/>
            </a:xfrm>
            <a:custGeom>
              <a:avLst/>
              <a:gdLst/>
              <a:ahLst/>
              <a:rect l="l" t="t" r="r" b="b"/>
              <a:pathLst>
                <a:path w="157" h="486">
                  <a:moveTo>
                    <a:pt x="133" y="475"/>
                  </a:moveTo>
                  <a:lnTo>
                    <a:pt x="144" y="434"/>
                  </a:lnTo>
                  <a:lnTo>
                    <a:pt x="147" y="413"/>
                  </a:lnTo>
                  <a:lnTo>
                    <a:pt x="148" y="394"/>
                  </a:lnTo>
                  <a:lnTo>
                    <a:pt x="152" y="355"/>
                  </a:lnTo>
                  <a:lnTo>
                    <a:pt x="156" y="315"/>
                  </a:lnTo>
                  <a:lnTo>
                    <a:pt x="156" y="234"/>
                  </a:lnTo>
                  <a:lnTo>
                    <a:pt x="147" y="152"/>
                  </a:lnTo>
                  <a:lnTo>
                    <a:pt x="133" y="74"/>
                  </a:lnTo>
                  <a:lnTo>
                    <a:pt x="108" y="0"/>
                  </a:lnTo>
                  <a:lnTo>
                    <a:pt x="105" y="6"/>
                  </a:lnTo>
                  <a:lnTo>
                    <a:pt x="88" y="29"/>
                  </a:lnTo>
                  <a:lnTo>
                    <a:pt x="58" y="29"/>
                  </a:lnTo>
                  <a:lnTo>
                    <a:pt x="41" y="46"/>
                  </a:lnTo>
                  <a:lnTo>
                    <a:pt x="2" y="62"/>
                  </a:lnTo>
                  <a:lnTo>
                    <a:pt x="0" y="139"/>
                  </a:lnTo>
                  <a:lnTo>
                    <a:pt x="29" y="172"/>
                  </a:lnTo>
                  <a:lnTo>
                    <a:pt x="18" y="266"/>
                  </a:lnTo>
                  <a:lnTo>
                    <a:pt x="49" y="363"/>
                  </a:lnTo>
                  <a:lnTo>
                    <a:pt x="66" y="439"/>
                  </a:lnTo>
                  <a:lnTo>
                    <a:pt x="88" y="455"/>
                  </a:lnTo>
                  <a:lnTo>
                    <a:pt x="101" y="485"/>
                  </a:lnTo>
                  <a:lnTo>
                    <a:pt x="125" y="472"/>
                  </a:lnTo>
                  <a:lnTo>
                    <a:pt x="133" y="475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16240" y="5268960"/>
              <a:ext cx="2028600" cy="940680"/>
            </a:xfrm>
            <a:custGeom>
              <a:avLst/>
              <a:gdLst/>
              <a:ahLst/>
              <a:rect l="l" t="t" r="r" b="b"/>
              <a:pathLst>
                <a:path w="612" h="317">
                  <a:moveTo>
                    <a:pt x="127" y="288"/>
                  </a:moveTo>
                  <a:lnTo>
                    <a:pt x="61" y="232"/>
                  </a:lnTo>
                  <a:lnTo>
                    <a:pt x="23" y="227"/>
                  </a:lnTo>
                  <a:lnTo>
                    <a:pt x="0" y="183"/>
                  </a:lnTo>
                  <a:lnTo>
                    <a:pt x="44" y="137"/>
                  </a:lnTo>
                  <a:lnTo>
                    <a:pt x="74" y="132"/>
                  </a:lnTo>
                  <a:lnTo>
                    <a:pt x="77" y="88"/>
                  </a:lnTo>
                  <a:lnTo>
                    <a:pt x="94" y="62"/>
                  </a:lnTo>
                  <a:lnTo>
                    <a:pt x="94" y="33"/>
                  </a:lnTo>
                  <a:lnTo>
                    <a:pt x="127" y="16"/>
                  </a:lnTo>
                  <a:lnTo>
                    <a:pt x="196" y="6"/>
                  </a:lnTo>
                  <a:lnTo>
                    <a:pt x="205" y="16"/>
                  </a:lnTo>
                  <a:lnTo>
                    <a:pt x="237" y="6"/>
                  </a:lnTo>
                  <a:lnTo>
                    <a:pt x="289" y="16"/>
                  </a:lnTo>
                  <a:lnTo>
                    <a:pt x="332" y="0"/>
                  </a:lnTo>
                  <a:lnTo>
                    <a:pt x="438" y="37"/>
                  </a:lnTo>
                  <a:lnTo>
                    <a:pt x="498" y="37"/>
                  </a:lnTo>
                  <a:lnTo>
                    <a:pt x="514" y="71"/>
                  </a:lnTo>
                  <a:lnTo>
                    <a:pt x="599" y="62"/>
                  </a:lnTo>
                  <a:lnTo>
                    <a:pt x="611" y="78"/>
                  </a:lnTo>
                  <a:lnTo>
                    <a:pt x="599" y="105"/>
                  </a:lnTo>
                  <a:lnTo>
                    <a:pt x="590" y="132"/>
                  </a:lnTo>
                  <a:lnTo>
                    <a:pt x="526" y="179"/>
                  </a:lnTo>
                  <a:lnTo>
                    <a:pt x="457" y="219"/>
                  </a:lnTo>
                  <a:lnTo>
                    <a:pt x="421" y="238"/>
                  </a:lnTo>
                  <a:lnTo>
                    <a:pt x="380" y="257"/>
                  </a:lnTo>
                  <a:lnTo>
                    <a:pt x="345" y="270"/>
                  </a:lnTo>
                  <a:lnTo>
                    <a:pt x="308" y="284"/>
                  </a:lnTo>
                  <a:lnTo>
                    <a:pt x="269" y="295"/>
                  </a:lnTo>
                  <a:lnTo>
                    <a:pt x="231" y="303"/>
                  </a:lnTo>
                  <a:lnTo>
                    <a:pt x="191" y="312"/>
                  </a:lnTo>
                  <a:lnTo>
                    <a:pt x="152" y="316"/>
                  </a:lnTo>
                  <a:lnTo>
                    <a:pt x="127" y="288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97080" y="2242440"/>
              <a:ext cx="360720" cy="32292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93" y="36"/>
                  </a:moveTo>
                  <a:lnTo>
                    <a:pt x="95" y="58"/>
                  </a:lnTo>
                  <a:lnTo>
                    <a:pt x="108" y="66"/>
                  </a:lnTo>
                  <a:lnTo>
                    <a:pt x="95" y="108"/>
                  </a:lnTo>
                  <a:lnTo>
                    <a:pt x="85" y="102"/>
                  </a:lnTo>
                  <a:lnTo>
                    <a:pt x="83" y="89"/>
                  </a:lnTo>
                  <a:lnTo>
                    <a:pt x="71" y="66"/>
                  </a:lnTo>
                  <a:lnTo>
                    <a:pt x="39" y="50"/>
                  </a:lnTo>
                  <a:lnTo>
                    <a:pt x="23" y="50"/>
                  </a:lnTo>
                  <a:lnTo>
                    <a:pt x="11" y="38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7" y="24"/>
                  </a:lnTo>
                  <a:lnTo>
                    <a:pt x="68" y="25"/>
                  </a:lnTo>
                  <a:lnTo>
                    <a:pt x="93" y="36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883120" y="2414160"/>
              <a:ext cx="142560" cy="16344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0" y="0"/>
                  </a:moveTo>
                  <a:lnTo>
                    <a:pt x="19" y="0"/>
                  </a:lnTo>
                  <a:lnTo>
                    <a:pt x="35" y="17"/>
                  </a:lnTo>
                  <a:lnTo>
                    <a:pt x="42" y="38"/>
                  </a:lnTo>
                  <a:lnTo>
                    <a:pt x="35" y="54"/>
                  </a:lnTo>
                  <a:lnTo>
                    <a:pt x="21" y="50"/>
                  </a:lnTo>
                  <a:lnTo>
                    <a:pt x="6" y="20"/>
                  </a:lnTo>
                  <a:lnTo>
                    <a:pt x="0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769640" y="1624680"/>
              <a:ext cx="291600" cy="18684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52" y="29"/>
                  </a:moveTo>
                  <a:lnTo>
                    <a:pt x="62" y="12"/>
                  </a:lnTo>
                  <a:lnTo>
                    <a:pt x="37" y="0"/>
                  </a:lnTo>
                  <a:lnTo>
                    <a:pt x="12" y="12"/>
                  </a:lnTo>
                  <a:lnTo>
                    <a:pt x="12" y="40"/>
                  </a:lnTo>
                  <a:lnTo>
                    <a:pt x="0" y="44"/>
                  </a:lnTo>
                  <a:lnTo>
                    <a:pt x="42" y="62"/>
                  </a:lnTo>
                  <a:lnTo>
                    <a:pt x="53" y="44"/>
                  </a:lnTo>
                  <a:lnTo>
                    <a:pt x="87" y="33"/>
                  </a:lnTo>
                  <a:lnTo>
                    <a:pt x="84" y="21"/>
                  </a:lnTo>
                  <a:lnTo>
                    <a:pt x="70" y="24"/>
                  </a:lnTo>
                  <a:lnTo>
                    <a:pt x="52" y="29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253120" y="2233080"/>
              <a:ext cx="271800" cy="210600"/>
            </a:xfrm>
            <a:custGeom>
              <a:avLst/>
              <a:gdLst/>
              <a:ahLst/>
              <a:rect l="l" t="t" r="r" b="b"/>
              <a:pathLst>
                <a:path w="82" h="71">
                  <a:moveTo>
                    <a:pt x="75" y="0"/>
                  </a:moveTo>
                  <a:lnTo>
                    <a:pt x="60" y="17"/>
                  </a:lnTo>
                  <a:lnTo>
                    <a:pt x="30" y="17"/>
                  </a:lnTo>
                  <a:lnTo>
                    <a:pt x="13" y="28"/>
                  </a:lnTo>
                  <a:lnTo>
                    <a:pt x="2" y="45"/>
                  </a:lnTo>
                  <a:lnTo>
                    <a:pt x="0" y="64"/>
                  </a:lnTo>
                  <a:lnTo>
                    <a:pt x="27" y="70"/>
                  </a:lnTo>
                  <a:lnTo>
                    <a:pt x="48" y="52"/>
                  </a:lnTo>
                  <a:lnTo>
                    <a:pt x="67" y="47"/>
                  </a:lnTo>
                  <a:lnTo>
                    <a:pt x="81" y="26"/>
                  </a:lnTo>
                  <a:lnTo>
                    <a:pt x="75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55920" y="1945440"/>
              <a:ext cx="2598480" cy="3587760"/>
            </a:xfrm>
            <a:custGeom>
              <a:avLst/>
              <a:gdLst/>
              <a:ahLst/>
              <a:rect l="l" t="t" r="r" b="b"/>
              <a:pathLst>
                <a:path w="784" h="1209">
                  <a:moveTo>
                    <a:pt x="0" y="42"/>
                  </a:moveTo>
                  <a:lnTo>
                    <a:pt x="16" y="75"/>
                  </a:lnTo>
                  <a:lnTo>
                    <a:pt x="62" y="109"/>
                  </a:lnTo>
                  <a:lnTo>
                    <a:pt x="83" y="100"/>
                  </a:lnTo>
                  <a:lnTo>
                    <a:pt x="101" y="75"/>
                  </a:lnTo>
                  <a:lnTo>
                    <a:pt x="91" y="61"/>
                  </a:lnTo>
                  <a:lnTo>
                    <a:pt x="123" y="33"/>
                  </a:lnTo>
                  <a:lnTo>
                    <a:pt x="164" y="27"/>
                  </a:lnTo>
                  <a:lnTo>
                    <a:pt x="212" y="0"/>
                  </a:lnTo>
                  <a:lnTo>
                    <a:pt x="263" y="4"/>
                  </a:lnTo>
                  <a:lnTo>
                    <a:pt x="268" y="66"/>
                  </a:lnTo>
                  <a:lnTo>
                    <a:pt x="280" y="109"/>
                  </a:lnTo>
                  <a:lnTo>
                    <a:pt x="309" y="109"/>
                  </a:lnTo>
                  <a:lnTo>
                    <a:pt x="319" y="155"/>
                  </a:lnTo>
                  <a:lnTo>
                    <a:pt x="347" y="167"/>
                  </a:lnTo>
                  <a:lnTo>
                    <a:pt x="335" y="183"/>
                  </a:lnTo>
                  <a:lnTo>
                    <a:pt x="380" y="175"/>
                  </a:lnTo>
                  <a:lnTo>
                    <a:pt x="397" y="208"/>
                  </a:lnTo>
                  <a:lnTo>
                    <a:pt x="400" y="183"/>
                  </a:lnTo>
                  <a:lnTo>
                    <a:pt x="432" y="167"/>
                  </a:lnTo>
                  <a:lnTo>
                    <a:pt x="448" y="171"/>
                  </a:lnTo>
                  <a:lnTo>
                    <a:pt x="452" y="212"/>
                  </a:lnTo>
                  <a:lnTo>
                    <a:pt x="470" y="189"/>
                  </a:lnTo>
                  <a:lnTo>
                    <a:pt x="510" y="203"/>
                  </a:lnTo>
                  <a:lnTo>
                    <a:pt x="513" y="232"/>
                  </a:lnTo>
                  <a:lnTo>
                    <a:pt x="474" y="242"/>
                  </a:lnTo>
                  <a:lnTo>
                    <a:pt x="474" y="275"/>
                  </a:lnTo>
                  <a:lnTo>
                    <a:pt x="429" y="286"/>
                  </a:lnTo>
                  <a:lnTo>
                    <a:pt x="467" y="294"/>
                  </a:lnTo>
                  <a:lnTo>
                    <a:pt x="426" y="313"/>
                  </a:lnTo>
                  <a:lnTo>
                    <a:pt x="426" y="351"/>
                  </a:lnTo>
                  <a:lnTo>
                    <a:pt x="481" y="399"/>
                  </a:lnTo>
                  <a:lnTo>
                    <a:pt x="510" y="443"/>
                  </a:lnTo>
                  <a:lnTo>
                    <a:pt x="524" y="480"/>
                  </a:lnTo>
                  <a:lnTo>
                    <a:pt x="542" y="466"/>
                  </a:lnTo>
                  <a:lnTo>
                    <a:pt x="533" y="451"/>
                  </a:lnTo>
                  <a:lnTo>
                    <a:pt x="556" y="417"/>
                  </a:lnTo>
                  <a:lnTo>
                    <a:pt x="551" y="332"/>
                  </a:lnTo>
                  <a:lnTo>
                    <a:pt x="565" y="309"/>
                  </a:lnTo>
                  <a:lnTo>
                    <a:pt x="634" y="313"/>
                  </a:lnTo>
                  <a:lnTo>
                    <a:pt x="651" y="361"/>
                  </a:lnTo>
                  <a:lnTo>
                    <a:pt x="665" y="327"/>
                  </a:lnTo>
                  <a:lnTo>
                    <a:pt x="707" y="399"/>
                  </a:lnTo>
                  <a:lnTo>
                    <a:pt x="777" y="417"/>
                  </a:lnTo>
                  <a:lnTo>
                    <a:pt x="783" y="443"/>
                  </a:lnTo>
                  <a:lnTo>
                    <a:pt x="755" y="480"/>
                  </a:lnTo>
                  <a:lnTo>
                    <a:pt x="666" y="527"/>
                  </a:lnTo>
                  <a:lnTo>
                    <a:pt x="715" y="522"/>
                  </a:lnTo>
                  <a:lnTo>
                    <a:pt x="707" y="550"/>
                  </a:lnTo>
                  <a:lnTo>
                    <a:pt x="726" y="565"/>
                  </a:lnTo>
                  <a:lnTo>
                    <a:pt x="769" y="569"/>
                  </a:lnTo>
                  <a:lnTo>
                    <a:pt x="732" y="583"/>
                  </a:lnTo>
                  <a:lnTo>
                    <a:pt x="720" y="608"/>
                  </a:lnTo>
                  <a:lnTo>
                    <a:pt x="685" y="632"/>
                  </a:lnTo>
                  <a:lnTo>
                    <a:pt x="665" y="617"/>
                  </a:lnTo>
                  <a:lnTo>
                    <a:pt x="656" y="652"/>
                  </a:lnTo>
                  <a:lnTo>
                    <a:pt x="612" y="680"/>
                  </a:lnTo>
                  <a:lnTo>
                    <a:pt x="580" y="717"/>
                  </a:lnTo>
                  <a:lnTo>
                    <a:pt x="575" y="769"/>
                  </a:lnTo>
                  <a:lnTo>
                    <a:pt x="540" y="794"/>
                  </a:lnTo>
                  <a:lnTo>
                    <a:pt x="513" y="821"/>
                  </a:lnTo>
                  <a:lnTo>
                    <a:pt x="510" y="874"/>
                  </a:lnTo>
                  <a:lnTo>
                    <a:pt x="513" y="921"/>
                  </a:lnTo>
                  <a:lnTo>
                    <a:pt x="503" y="932"/>
                  </a:lnTo>
                  <a:lnTo>
                    <a:pt x="477" y="911"/>
                  </a:lnTo>
                  <a:lnTo>
                    <a:pt x="470" y="861"/>
                  </a:lnTo>
                  <a:lnTo>
                    <a:pt x="448" y="836"/>
                  </a:lnTo>
                  <a:lnTo>
                    <a:pt x="393" y="836"/>
                  </a:lnTo>
                  <a:lnTo>
                    <a:pt x="393" y="854"/>
                  </a:lnTo>
                  <a:lnTo>
                    <a:pt x="352" y="841"/>
                  </a:lnTo>
                  <a:lnTo>
                    <a:pt x="305" y="847"/>
                  </a:lnTo>
                  <a:lnTo>
                    <a:pt x="266" y="882"/>
                  </a:lnTo>
                  <a:lnTo>
                    <a:pt x="263" y="969"/>
                  </a:lnTo>
                  <a:lnTo>
                    <a:pt x="305" y="1015"/>
                  </a:lnTo>
                  <a:lnTo>
                    <a:pt x="339" y="1011"/>
                  </a:lnTo>
                  <a:lnTo>
                    <a:pt x="381" y="973"/>
                  </a:lnTo>
                  <a:lnTo>
                    <a:pt x="422" y="978"/>
                  </a:lnTo>
                  <a:lnTo>
                    <a:pt x="390" y="1036"/>
                  </a:lnTo>
                  <a:lnTo>
                    <a:pt x="419" y="1078"/>
                  </a:lnTo>
                  <a:lnTo>
                    <a:pt x="452" y="1074"/>
                  </a:lnTo>
                  <a:lnTo>
                    <a:pt x="477" y="1099"/>
                  </a:lnTo>
                  <a:lnTo>
                    <a:pt x="474" y="1140"/>
                  </a:lnTo>
                  <a:lnTo>
                    <a:pt x="533" y="1174"/>
                  </a:lnTo>
                  <a:lnTo>
                    <a:pt x="542" y="1155"/>
                  </a:lnTo>
                  <a:lnTo>
                    <a:pt x="575" y="1166"/>
                  </a:lnTo>
                  <a:lnTo>
                    <a:pt x="593" y="1182"/>
                  </a:lnTo>
                  <a:lnTo>
                    <a:pt x="580" y="1208"/>
                  </a:lnTo>
                  <a:lnTo>
                    <a:pt x="554" y="1198"/>
                  </a:lnTo>
                  <a:lnTo>
                    <a:pt x="533" y="1208"/>
                  </a:lnTo>
                  <a:lnTo>
                    <a:pt x="477" y="1203"/>
                  </a:lnTo>
                  <a:lnTo>
                    <a:pt x="422" y="1116"/>
                  </a:lnTo>
                  <a:lnTo>
                    <a:pt x="364" y="1103"/>
                  </a:lnTo>
                  <a:lnTo>
                    <a:pt x="313" y="1049"/>
                  </a:lnTo>
                  <a:lnTo>
                    <a:pt x="268" y="1046"/>
                  </a:lnTo>
                  <a:lnTo>
                    <a:pt x="255" y="1049"/>
                  </a:lnTo>
                  <a:lnTo>
                    <a:pt x="153" y="954"/>
                  </a:lnTo>
                  <a:lnTo>
                    <a:pt x="142" y="882"/>
                  </a:lnTo>
                  <a:lnTo>
                    <a:pt x="87" y="717"/>
                  </a:lnTo>
                  <a:lnTo>
                    <a:pt x="83" y="769"/>
                  </a:lnTo>
                  <a:lnTo>
                    <a:pt x="105" y="821"/>
                  </a:lnTo>
                  <a:lnTo>
                    <a:pt x="120" y="893"/>
                  </a:lnTo>
                  <a:lnTo>
                    <a:pt x="105" y="893"/>
                  </a:lnTo>
                  <a:lnTo>
                    <a:pt x="73" y="803"/>
                  </a:lnTo>
                  <a:lnTo>
                    <a:pt x="47" y="769"/>
                  </a:lnTo>
                  <a:lnTo>
                    <a:pt x="62" y="760"/>
                  </a:lnTo>
                  <a:lnTo>
                    <a:pt x="59" y="655"/>
                  </a:lnTo>
                  <a:lnTo>
                    <a:pt x="29" y="599"/>
                  </a:lnTo>
                  <a:lnTo>
                    <a:pt x="37" y="517"/>
                  </a:lnTo>
                  <a:lnTo>
                    <a:pt x="59" y="499"/>
                  </a:lnTo>
                  <a:lnTo>
                    <a:pt x="87" y="455"/>
                  </a:lnTo>
                  <a:lnTo>
                    <a:pt x="105" y="375"/>
                  </a:lnTo>
                  <a:lnTo>
                    <a:pt x="105" y="313"/>
                  </a:lnTo>
                  <a:lnTo>
                    <a:pt x="120" y="286"/>
                  </a:lnTo>
                  <a:lnTo>
                    <a:pt x="117" y="203"/>
                  </a:lnTo>
                  <a:lnTo>
                    <a:pt x="134" y="142"/>
                  </a:lnTo>
                  <a:lnTo>
                    <a:pt x="108" y="148"/>
                  </a:lnTo>
                  <a:lnTo>
                    <a:pt x="75" y="133"/>
                  </a:lnTo>
                  <a:lnTo>
                    <a:pt x="16" y="119"/>
                  </a:lnTo>
                  <a:lnTo>
                    <a:pt x="0" y="75"/>
                  </a:lnTo>
                  <a:lnTo>
                    <a:pt x="0" y="42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00600" y="4744080"/>
              <a:ext cx="603360" cy="180720"/>
            </a:xfrm>
            <a:custGeom>
              <a:avLst/>
              <a:gdLst/>
              <a:ahLst/>
              <a:rect l="l" t="t" r="r" b="b"/>
              <a:pathLst>
                <a:path w="182" h="61">
                  <a:moveTo>
                    <a:pt x="0" y="32"/>
                  </a:moveTo>
                  <a:lnTo>
                    <a:pt x="19" y="15"/>
                  </a:lnTo>
                  <a:lnTo>
                    <a:pt x="58" y="0"/>
                  </a:lnTo>
                  <a:lnTo>
                    <a:pt x="118" y="9"/>
                  </a:lnTo>
                  <a:lnTo>
                    <a:pt x="145" y="31"/>
                  </a:lnTo>
                  <a:lnTo>
                    <a:pt x="181" y="34"/>
                  </a:lnTo>
                  <a:lnTo>
                    <a:pt x="170" y="50"/>
                  </a:lnTo>
                  <a:lnTo>
                    <a:pt x="126" y="60"/>
                  </a:lnTo>
                  <a:lnTo>
                    <a:pt x="100" y="46"/>
                  </a:lnTo>
                  <a:lnTo>
                    <a:pt x="72" y="26"/>
                  </a:lnTo>
                  <a:lnTo>
                    <a:pt x="33" y="18"/>
                  </a:lnTo>
                  <a:lnTo>
                    <a:pt x="0" y="32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474080" y="4862520"/>
              <a:ext cx="364320" cy="14868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14" y="3"/>
                  </a:moveTo>
                  <a:lnTo>
                    <a:pt x="27" y="16"/>
                  </a:lnTo>
                  <a:lnTo>
                    <a:pt x="0" y="24"/>
                  </a:lnTo>
                  <a:lnTo>
                    <a:pt x="30" y="36"/>
                  </a:lnTo>
                  <a:lnTo>
                    <a:pt x="38" y="49"/>
                  </a:lnTo>
                  <a:lnTo>
                    <a:pt x="79" y="32"/>
                  </a:lnTo>
                  <a:lnTo>
                    <a:pt x="109" y="24"/>
                  </a:lnTo>
                  <a:lnTo>
                    <a:pt x="106" y="13"/>
                  </a:lnTo>
                  <a:lnTo>
                    <a:pt x="57" y="0"/>
                  </a:lnTo>
                  <a:lnTo>
                    <a:pt x="14" y="3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51680" y="4946040"/>
              <a:ext cx="82440" cy="504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21" y="0"/>
                  </a:lnTo>
                  <a:lnTo>
                    <a:pt x="24" y="6"/>
                  </a:lnTo>
                  <a:lnTo>
                    <a:pt x="6" y="16"/>
                  </a:lnTo>
                  <a:lnTo>
                    <a:pt x="0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865760" y="4912920"/>
              <a:ext cx="111960" cy="50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5" y="0"/>
                  </a:moveTo>
                  <a:lnTo>
                    <a:pt x="0" y="10"/>
                  </a:lnTo>
                  <a:lnTo>
                    <a:pt x="30" y="16"/>
                  </a:lnTo>
                  <a:lnTo>
                    <a:pt x="33" y="7"/>
                  </a:lnTo>
                  <a:lnTo>
                    <a:pt x="5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70960" y="4933800"/>
              <a:ext cx="561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0"/>
                  </a:moveTo>
                  <a:lnTo>
                    <a:pt x="0" y="4"/>
                  </a:lnTo>
                  <a:lnTo>
                    <a:pt x="4" y="11"/>
                  </a:lnTo>
                  <a:lnTo>
                    <a:pt x="16" y="16"/>
                  </a:lnTo>
                  <a:lnTo>
                    <a:pt x="11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140800" y="4960800"/>
              <a:ext cx="5544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4"/>
                  </a:lnTo>
                  <a:lnTo>
                    <a:pt x="7" y="16"/>
                  </a:lnTo>
                  <a:lnTo>
                    <a:pt x="16" y="10"/>
                  </a:lnTo>
                  <a:lnTo>
                    <a:pt x="4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220000" y="4987800"/>
              <a:ext cx="561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3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96600" y="5032080"/>
              <a:ext cx="561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5"/>
                  </a:lnTo>
                  <a:lnTo>
                    <a:pt x="10" y="16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253120" y="5046840"/>
              <a:ext cx="561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6" y="16"/>
                  </a:lnTo>
                  <a:lnTo>
                    <a:pt x="8" y="16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240160" y="5087880"/>
              <a:ext cx="561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6" y="16"/>
                  </a:lnTo>
                  <a:lnTo>
                    <a:pt x="9" y="16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263560" y="5171400"/>
              <a:ext cx="561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6" y="0"/>
                  </a:lnTo>
                  <a:lnTo>
                    <a:pt x="14" y="16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25400" y="1823760"/>
              <a:ext cx="901080" cy="973080"/>
            </a:xfrm>
            <a:custGeom>
              <a:avLst/>
              <a:gdLst/>
              <a:ahLst/>
              <a:rect l="l" t="t" r="r" b="b"/>
              <a:pathLst>
                <a:path w="272" h="328">
                  <a:moveTo>
                    <a:pt x="165" y="0"/>
                  </a:moveTo>
                  <a:lnTo>
                    <a:pt x="140" y="3"/>
                  </a:lnTo>
                  <a:lnTo>
                    <a:pt x="105" y="16"/>
                  </a:lnTo>
                  <a:lnTo>
                    <a:pt x="96" y="21"/>
                  </a:lnTo>
                  <a:lnTo>
                    <a:pt x="63" y="17"/>
                  </a:lnTo>
                  <a:lnTo>
                    <a:pt x="31" y="43"/>
                  </a:lnTo>
                  <a:lnTo>
                    <a:pt x="12" y="92"/>
                  </a:lnTo>
                  <a:lnTo>
                    <a:pt x="0" y="115"/>
                  </a:lnTo>
                  <a:lnTo>
                    <a:pt x="20" y="140"/>
                  </a:lnTo>
                  <a:lnTo>
                    <a:pt x="31" y="129"/>
                  </a:lnTo>
                  <a:lnTo>
                    <a:pt x="71" y="131"/>
                  </a:lnTo>
                  <a:lnTo>
                    <a:pt x="89" y="207"/>
                  </a:lnTo>
                  <a:lnTo>
                    <a:pt x="132" y="207"/>
                  </a:lnTo>
                  <a:lnTo>
                    <a:pt x="146" y="223"/>
                  </a:lnTo>
                  <a:lnTo>
                    <a:pt x="133" y="232"/>
                  </a:lnTo>
                  <a:lnTo>
                    <a:pt x="162" y="259"/>
                  </a:lnTo>
                  <a:lnTo>
                    <a:pt x="162" y="274"/>
                  </a:lnTo>
                  <a:lnTo>
                    <a:pt x="210" y="318"/>
                  </a:lnTo>
                  <a:lnTo>
                    <a:pt x="256" y="327"/>
                  </a:lnTo>
                  <a:lnTo>
                    <a:pt x="256" y="259"/>
                  </a:lnTo>
                  <a:lnTo>
                    <a:pt x="237" y="239"/>
                  </a:lnTo>
                  <a:lnTo>
                    <a:pt x="251" y="202"/>
                  </a:lnTo>
                  <a:lnTo>
                    <a:pt x="249" y="173"/>
                  </a:lnTo>
                  <a:lnTo>
                    <a:pt x="271" y="155"/>
                  </a:lnTo>
                  <a:lnTo>
                    <a:pt x="271" y="89"/>
                  </a:lnTo>
                  <a:lnTo>
                    <a:pt x="254" y="75"/>
                  </a:lnTo>
                  <a:lnTo>
                    <a:pt x="221" y="65"/>
                  </a:lnTo>
                  <a:lnTo>
                    <a:pt x="195" y="52"/>
                  </a:lnTo>
                  <a:lnTo>
                    <a:pt x="191" y="33"/>
                  </a:lnTo>
                  <a:lnTo>
                    <a:pt x="179" y="24"/>
                  </a:lnTo>
                  <a:lnTo>
                    <a:pt x="182" y="8"/>
                  </a:lnTo>
                  <a:lnTo>
                    <a:pt x="154" y="16"/>
                  </a:lnTo>
                  <a:lnTo>
                    <a:pt x="165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106520" y="1877040"/>
              <a:ext cx="354600" cy="29664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106" y="6"/>
                  </a:moveTo>
                  <a:lnTo>
                    <a:pt x="80" y="29"/>
                  </a:lnTo>
                  <a:lnTo>
                    <a:pt x="66" y="68"/>
                  </a:lnTo>
                  <a:lnTo>
                    <a:pt x="58" y="99"/>
                  </a:lnTo>
                  <a:lnTo>
                    <a:pt x="39" y="98"/>
                  </a:lnTo>
                  <a:lnTo>
                    <a:pt x="18" y="89"/>
                  </a:lnTo>
                  <a:lnTo>
                    <a:pt x="18" y="81"/>
                  </a:lnTo>
                  <a:lnTo>
                    <a:pt x="27" y="67"/>
                  </a:lnTo>
                  <a:lnTo>
                    <a:pt x="5" y="72"/>
                  </a:lnTo>
                  <a:lnTo>
                    <a:pt x="0" y="53"/>
                  </a:lnTo>
                  <a:lnTo>
                    <a:pt x="12" y="34"/>
                  </a:lnTo>
                  <a:lnTo>
                    <a:pt x="41" y="25"/>
                  </a:lnTo>
                  <a:lnTo>
                    <a:pt x="43" y="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106" y="6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050360" y="2227680"/>
              <a:ext cx="659160" cy="619560"/>
            </a:xfrm>
            <a:custGeom>
              <a:avLst/>
              <a:gdLst/>
              <a:ahLst/>
              <a:rect l="l" t="t" r="r" b="b"/>
              <a:pathLst>
                <a:path w="199" h="209">
                  <a:moveTo>
                    <a:pt x="95" y="162"/>
                  </a:moveTo>
                  <a:lnTo>
                    <a:pt x="72" y="166"/>
                  </a:lnTo>
                  <a:lnTo>
                    <a:pt x="58" y="183"/>
                  </a:lnTo>
                  <a:lnTo>
                    <a:pt x="75" y="196"/>
                  </a:lnTo>
                  <a:lnTo>
                    <a:pt x="103" y="187"/>
                  </a:lnTo>
                  <a:lnTo>
                    <a:pt x="147" y="204"/>
                  </a:lnTo>
                  <a:lnTo>
                    <a:pt x="186" y="208"/>
                  </a:lnTo>
                  <a:lnTo>
                    <a:pt x="186" y="195"/>
                  </a:lnTo>
                  <a:lnTo>
                    <a:pt x="159" y="171"/>
                  </a:lnTo>
                  <a:lnTo>
                    <a:pt x="198" y="171"/>
                  </a:lnTo>
                  <a:lnTo>
                    <a:pt x="193" y="146"/>
                  </a:lnTo>
                  <a:lnTo>
                    <a:pt x="177" y="124"/>
                  </a:lnTo>
                  <a:lnTo>
                    <a:pt x="151" y="115"/>
                  </a:lnTo>
                  <a:lnTo>
                    <a:pt x="185" y="107"/>
                  </a:lnTo>
                  <a:lnTo>
                    <a:pt x="172" y="98"/>
                  </a:lnTo>
                  <a:lnTo>
                    <a:pt x="120" y="83"/>
                  </a:lnTo>
                  <a:lnTo>
                    <a:pt x="105" y="55"/>
                  </a:lnTo>
                  <a:lnTo>
                    <a:pt x="81" y="38"/>
                  </a:lnTo>
                  <a:lnTo>
                    <a:pt x="53" y="45"/>
                  </a:lnTo>
                  <a:lnTo>
                    <a:pt x="42" y="43"/>
                  </a:lnTo>
                  <a:lnTo>
                    <a:pt x="33" y="19"/>
                  </a:lnTo>
                  <a:lnTo>
                    <a:pt x="29" y="4"/>
                  </a:lnTo>
                  <a:lnTo>
                    <a:pt x="16" y="15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" y="75"/>
                  </a:lnTo>
                  <a:lnTo>
                    <a:pt x="20" y="96"/>
                  </a:lnTo>
                  <a:lnTo>
                    <a:pt x="53" y="98"/>
                  </a:lnTo>
                  <a:lnTo>
                    <a:pt x="56" y="87"/>
                  </a:lnTo>
                  <a:lnTo>
                    <a:pt x="92" y="104"/>
                  </a:lnTo>
                  <a:lnTo>
                    <a:pt x="113" y="128"/>
                  </a:lnTo>
                  <a:lnTo>
                    <a:pt x="94" y="145"/>
                  </a:lnTo>
                  <a:lnTo>
                    <a:pt x="109" y="154"/>
                  </a:lnTo>
                  <a:lnTo>
                    <a:pt x="95" y="162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77200" y="2117160"/>
              <a:ext cx="278640" cy="113040"/>
            </a:xfrm>
            <a:custGeom>
              <a:avLst/>
              <a:gdLst/>
              <a:ahLst/>
              <a:rect l="l" t="t" r="r" b="b"/>
              <a:pathLst>
                <a:path w="84" h="38">
                  <a:moveTo>
                    <a:pt x="83" y="22"/>
                  </a:moveTo>
                  <a:lnTo>
                    <a:pt x="43" y="37"/>
                  </a:lnTo>
                  <a:lnTo>
                    <a:pt x="1" y="26"/>
                  </a:lnTo>
                  <a:lnTo>
                    <a:pt x="0" y="0"/>
                  </a:lnTo>
                  <a:lnTo>
                    <a:pt x="45" y="16"/>
                  </a:lnTo>
                  <a:lnTo>
                    <a:pt x="63" y="12"/>
                  </a:lnTo>
                  <a:lnTo>
                    <a:pt x="83" y="22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056840" y="2687400"/>
              <a:ext cx="155520" cy="1782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11" y="0"/>
                  </a:moveTo>
                  <a:lnTo>
                    <a:pt x="35" y="14"/>
                  </a:lnTo>
                  <a:lnTo>
                    <a:pt x="37" y="37"/>
                  </a:lnTo>
                  <a:lnTo>
                    <a:pt x="46" y="40"/>
                  </a:lnTo>
                  <a:lnTo>
                    <a:pt x="42" y="59"/>
                  </a:lnTo>
                  <a:lnTo>
                    <a:pt x="22" y="36"/>
                  </a:lnTo>
                  <a:lnTo>
                    <a:pt x="9" y="50"/>
                  </a:lnTo>
                  <a:lnTo>
                    <a:pt x="0" y="14"/>
                  </a:lnTo>
                  <a:lnTo>
                    <a:pt x="11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77200" y="2253960"/>
              <a:ext cx="126000" cy="14256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0" y="0"/>
                  </a:moveTo>
                  <a:lnTo>
                    <a:pt x="37" y="0"/>
                  </a:lnTo>
                  <a:lnTo>
                    <a:pt x="33" y="26"/>
                  </a:lnTo>
                  <a:lnTo>
                    <a:pt x="13" y="47"/>
                  </a:lnTo>
                  <a:lnTo>
                    <a:pt x="0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14840" y="2176920"/>
              <a:ext cx="139680" cy="14508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20" y="0"/>
                  </a:moveTo>
                  <a:lnTo>
                    <a:pt x="28" y="4"/>
                  </a:lnTo>
                  <a:lnTo>
                    <a:pt x="41" y="4"/>
                  </a:lnTo>
                  <a:lnTo>
                    <a:pt x="33" y="21"/>
                  </a:lnTo>
                  <a:lnTo>
                    <a:pt x="37" y="32"/>
                  </a:lnTo>
                  <a:lnTo>
                    <a:pt x="30" y="48"/>
                  </a:lnTo>
                  <a:lnTo>
                    <a:pt x="0" y="13"/>
                  </a:lnTo>
                  <a:lnTo>
                    <a:pt x="19" y="13"/>
                  </a:lnTo>
                  <a:lnTo>
                    <a:pt x="20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526200" y="2158920"/>
              <a:ext cx="258480" cy="2671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37" y="0"/>
                  </a:moveTo>
                  <a:lnTo>
                    <a:pt x="54" y="32"/>
                  </a:lnTo>
                  <a:lnTo>
                    <a:pt x="56" y="64"/>
                  </a:lnTo>
                  <a:lnTo>
                    <a:pt x="77" y="83"/>
                  </a:lnTo>
                  <a:lnTo>
                    <a:pt x="42" y="89"/>
                  </a:lnTo>
                  <a:lnTo>
                    <a:pt x="42" y="72"/>
                  </a:lnTo>
                  <a:lnTo>
                    <a:pt x="5" y="58"/>
                  </a:lnTo>
                  <a:lnTo>
                    <a:pt x="0" y="23"/>
                  </a:lnTo>
                  <a:lnTo>
                    <a:pt x="20" y="32"/>
                  </a:lnTo>
                  <a:lnTo>
                    <a:pt x="5" y="8"/>
                  </a:lnTo>
                  <a:lnTo>
                    <a:pt x="29" y="12"/>
                  </a:lnTo>
                  <a:lnTo>
                    <a:pt x="37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76520" y="2031120"/>
              <a:ext cx="198360" cy="13968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38" y="0"/>
                  </a:moveTo>
                  <a:lnTo>
                    <a:pt x="59" y="12"/>
                  </a:lnTo>
                  <a:lnTo>
                    <a:pt x="58" y="33"/>
                  </a:lnTo>
                  <a:lnTo>
                    <a:pt x="11" y="46"/>
                  </a:lnTo>
                  <a:lnTo>
                    <a:pt x="0" y="29"/>
                  </a:lnTo>
                  <a:lnTo>
                    <a:pt x="38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66960" y="2497320"/>
              <a:ext cx="56160" cy="860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0"/>
                  </a:moveTo>
                  <a:lnTo>
                    <a:pt x="16" y="0"/>
                  </a:lnTo>
                  <a:lnTo>
                    <a:pt x="10" y="28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691000" y="2574000"/>
              <a:ext cx="72720" cy="745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0"/>
                  </a:moveTo>
                  <a:lnTo>
                    <a:pt x="0" y="2"/>
                  </a:lnTo>
                  <a:lnTo>
                    <a:pt x="2" y="24"/>
                  </a:lnTo>
                  <a:lnTo>
                    <a:pt x="19" y="17"/>
                  </a:lnTo>
                  <a:lnTo>
                    <a:pt x="21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78960" y="1965600"/>
              <a:ext cx="2594880" cy="3591000"/>
            </a:xfrm>
            <a:custGeom>
              <a:avLst/>
              <a:gdLst/>
              <a:ahLst/>
              <a:rect l="l" t="t" r="r" b="b"/>
              <a:pathLst>
                <a:path w="783" h="1210">
                  <a:moveTo>
                    <a:pt x="0" y="41"/>
                  </a:moveTo>
                  <a:lnTo>
                    <a:pt x="16" y="75"/>
                  </a:lnTo>
                  <a:lnTo>
                    <a:pt x="61" y="109"/>
                  </a:lnTo>
                  <a:lnTo>
                    <a:pt x="84" y="99"/>
                  </a:lnTo>
                  <a:lnTo>
                    <a:pt x="101" y="75"/>
                  </a:lnTo>
                  <a:lnTo>
                    <a:pt x="90" y="61"/>
                  </a:lnTo>
                  <a:lnTo>
                    <a:pt x="123" y="33"/>
                  </a:lnTo>
                  <a:lnTo>
                    <a:pt x="164" y="28"/>
                  </a:lnTo>
                  <a:lnTo>
                    <a:pt x="211" y="0"/>
                  </a:lnTo>
                  <a:lnTo>
                    <a:pt x="262" y="4"/>
                  </a:lnTo>
                  <a:lnTo>
                    <a:pt x="269" y="66"/>
                  </a:lnTo>
                  <a:lnTo>
                    <a:pt x="280" y="109"/>
                  </a:lnTo>
                  <a:lnTo>
                    <a:pt x="310" y="109"/>
                  </a:lnTo>
                  <a:lnTo>
                    <a:pt x="319" y="155"/>
                  </a:lnTo>
                  <a:lnTo>
                    <a:pt x="346" y="166"/>
                  </a:lnTo>
                  <a:lnTo>
                    <a:pt x="334" y="183"/>
                  </a:lnTo>
                  <a:lnTo>
                    <a:pt x="379" y="175"/>
                  </a:lnTo>
                  <a:lnTo>
                    <a:pt x="396" y="209"/>
                  </a:lnTo>
                  <a:lnTo>
                    <a:pt x="400" y="183"/>
                  </a:lnTo>
                  <a:lnTo>
                    <a:pt x="433" y="166"/>
                  </a:lnTo>
                  <a:lnTo>
                    <a:pt x="446" y="171"/>
                  </a:lnTo>
                  <a:lnTo>
                    <a:pt x="452" y="212"/>
                  </a:lnTo>
                  <a:lnTo>
                    <a:pt x="469" y="188"/>
                  </a:lnTo>
                  <a:lnTo>
                    <a:pt x="510" y="203"/>
                  </a:lnTo>
                  <a:lnTo>
                    <a:pt x="513" y="233"/>
                  </a:lnTo>
                  <a:lnTo>
                    <a:pt x="474" y="242"/>
                  </a:lnTo>
                  <a:lnTo>
                    <a:pt x="474" y="276"/>
                  </a:lnTo>
                  <a:lnTo>
                    <a:pt x="429" y="285"/>
                  </a:lnTo>
                  <a:lnTo>
                    <a:pt x="466" y="294"/>
                  </a:lnTo>
                  <a:lnTo>
                    <a:pt x="426" y="314"/>
                  </a:lnTo>
                  <a:lnTo>
                    <a:pt x="426" y="351"/>
                  </a:lnTo>
                  <a:lnTo>
                    <a:pt x="480" y="398"/>
                  </a:lnTo>
                  <a:lnTo>
                    <a:pt x="510" y="442"/>
                  </a:lnTo>
                  <a:lnTo>
                    <a:pt x="525" y="481"/>
                  </a:lnTo>
                  <a:lnTo>
                    <a:pt x="542" y="466"/>
                  </a:lnTo>
                  <a:lnTo>
                    <a:pt x="533" y="450"/>
                  </a:lnTo>
                  <a:lnTo>
                    <a:pt x="556" y="416"/>
                  </a:lnTo>
                  <a:lnTo>
                    <a:pt x="550" y="333"/>
                  </a:lnTo>
                  <a:lnTo>
                    <a:pt x="564" y="309"/>
                  </a:lnTo>
                  <a:lnTo>
                    <a:pt x="633" y="314"/>
                  </a:lnTo>
                  <a:lnTo>
                    <a:pt x="651" y="361"/>
                  </a:lnTo>
                  <a:lnTo>
                    <a:pt x="664" y="327"/>
                  </a:lnTo>
                  <a:lnTo>
                    <a:pt x="707" y="398"/>
                  </a:lnTo>
                  <a:lnTo>
                    <a:pt x="776" y="416"/>
                  </a:lnTo>
                  <a:lnTo>
                    <a:pt x="782" y="442"/>
                  </a:lnTo>
                  <a:lnTo>
                    <a:pt x="754" y="481"/>
                  </a:lnTo>
                  <a:lnTo>
                    <a:pt x="667" y="528"/>
                  </a:lnTo>
                  <a:lnTo>
                    <a:pt x="715" y="522"/>
                  </a:lnTo>
                  <a:lnTo>
                    <a:pt x="707" y="549"/>
                  </a:lnTo>
                  <a:lnTo>
                    <a:pt x="726" y="566"/>
                  </a:lnTo>
                  <a:lnTo>
                    <a:pt x="768" y="570"/>
                  </a:lnTo>
                  <a:lnTo>
                    <a:pt x="731" y="584"/>
                  </a:lnTo>
                  <a:lnTo>
                    <a:pt x="720" y="608"/>
                  </a:lnTo>
                  <a:lnTo>
                    <a:pt x="685" y="633"/>
                  </a:lnTo>
                  <a:lnTo>
                    <a:pt x="664" y="618"/>
                  </a:lnTo>
                  <a:lnTo>
                    <a:pt x="656" y="652"/>
                  </a:lnTo>
                  <a:lnTo>
                    <a:pt x="612" y="680"/>
                  </a:lnTo>
                  <a:lnTo>
                    <a:pt x="580" y="717"/>
                  </a:lnTo>
                  <a:lnTo>
                    <a:pt x="575" y="771"/>
                  </a:lnTo>
                  <a:lnTo>
                    <a:pt x="539" y="793"/>
                  </a:lnTo>
                  <a:lnTo>
                    <a:pt x="513" y="822"/>
                  </a:lnTo>
                  <a:lnTo>
                    <a:pt x="510" y="874"/>
                  </a:lnTo>
                  <a:lnTo>
                    <a:pt x="513" y="923"/>
                  </a:lnTo>
                  <a:lnTo>
                    <a:pt x="503" y="933"/>
                  </a:lnTo>
                  <a:lnTo>
                    <a:pt x="476" y="911"/>
                  </a:lnTo>
                  <a:lnTo>
                    <a:pt x="469" y="861"/>
                  </a:lnTo>
                  <a:lnTo>
                    <a:pt x="446" y="837"/>
                  </a:lnTo>
                  <a:lnTo>
                    <a:pt x="393" y="837"/>
                  </a:lnTo>
                  <a:lnTo>
                    <a:pt x="393" y="855"/>
                  </a:lnTo>
                  <a:lnTo>
                    <a:pt x="352" y="842"/>
                  </a:lnTo>
                  <a:lnTo>
                    <a:pt x="305" y="847"/>
                  </a:lnTo>
                  <a:lnTo>
                    <a:pt x="266" y="884"/>
                  </a:lnTo>
                  <a:lnTo>
                    <a:pt x="262" y="970"/>
                  </a:lnTo>
                  <a:lnTo>
                    <a:pt x="305" y="1016"/>
                  </a:lnTo>
                  <a:lnTo>
                    <a:pt x="338" y="1011"/>
                  </a:lnTo>
                  <a:lnTo>
                    <a:pt x="382" y="974"/>
                  </a:lnTo>
                  <a:lnTo>
                    <a:pt x="422" y="978"/>
                  </a:lnTo>
                  <a:lnTo>
                    <a:pt x="390" y="1036"/>
                  </a:lnTo>
                  <a:lnTo>
                    <a:pt x="419" y="1078"/>
                  </a:lnTo>
                  <a:lnTo>
                    <a:pt x="452" y="1076"/>
                  </a:lnTo>
                  <a:lnTo>
                    <a:pt x="476" y="1099"/>
                  </a:lnTo>
                  <a:lnTo>
                    <a:pt x="474" y="1141"/>
                  </a:lnTo>
                  <a:lnTo>
                    <a:pt x="533" y="1174"/>
                  </a:lnTo>
                  <a:lnTo>
                    <a:pt x="542" y="1155"/>
                  </a:lnTo>
                  <a:lnTo>
                    <a:pt x="575" y="1166"/>
                  </a:lnTo>
                  <a:lnTo>
                    <a:pt x="593" y="1183"/>
                  </a:lnTo>
                  <a:lnTo>
                    <a:pt x="580" y="1209"/>
                  </a:lnTo>
                  <a:lnTo>
                    <a:pt x="554" y="1199"/>
                  </a:lnTo>
                  <a:lnTo>
                    <a:pt x="533" y="1209"/>
                  </a:lnTo>
                  <a:lnTo>
                    <a:pt x="476" y="1203"/>
                  </a:lnTo>
                  <a:lnTo>
                    <a:pt x="422" y="1117"/>
                  </a:lnTo>
                  <a:lnTo>
                    <a:pt x="363" y="1104"/>
                  </a:lnTo>
                  <a:lnTo>
                    <a:pt x="313" y="1050"/>
                  </a:lnTo>
                  <a:lnTo>
                    <a:pt x="269" y="1047"/>
                  </a:lnTo>
                  <a:lnTo>
                    <a:pt x="254" y="1050"/>
                  </a:lnTo>
                  <a:lnTo>
                    <a:pt x="152" y="956"/>
                  </a:lnTo>
                  <a:lnTo>
                    <a:pt x="142" y="884"/>
                  </a:lnTo>
                  <a:lnTo>
                    <a:pt x="87" y="717"/>
                  </a:lnTo>
                  <a:lnTo>
                    <a:pt x="84" y="771"/>
                  </a:lnTo>
                  <a:lnTo>
                    <a:pt x="106" y="822"/>
                  </a:lnTo>
                  <a:lnTo>
                    <a:pt x="120" y="894"/>
                  </a:lnTo>
                  <a:lnTo>
                    <a:pt x="106" y="894"/>
                  </a:lnTo>
                  <a:lnTo>
                    <a:pt x="73" y="803"/>
                  </a:lnTo>
                  <a:lnTo>
                    <a:pt x="46" y="771"/>
                  </a:lnTo>
                  <a:lnTo>
                    <a:pt x="61" y="761"/>
                  </a:lnTo>
                  <a:lnTo>
                    <a:pt x="58" y="655"/>
                  </a:lnTo>
                  <a:lnTo>
                    <a:pt x="29" y="600"/>
                  </a:lnTo>
                  <a:lnTo>
                    <a:pt x="37" y="518"/>
                  </a:lnTo>
                  <a:lnTo>
                    <a:pt x="58" y="499"/>
                  </a:lnTo>
                  <a:lnTo>
                    <a:pt x="87" y="457"/>
                  </a:lnTo>
                  <a:lnTo>
                    <a:pt x="106" y="375"/>
                  </a:lnTo>
                  <a:lnTo>
                    <a:pt x="106" y="314"/>
                  </a:lnTo>
                  <a:lnTo>
                    <a:pt x="120" y="285"/>
                  </a:lnTo>
                  <a:lnTo>
                    <a:pt x="117" y="203"/>
                  </a:lnTo>
                  <a:lnTo>
                    <a:pt x="134" y="142"/>
                  </a:lnTo>
                  <a:lnTo>
                    <a:pt x="108" y="147"/>
                  </a:lnTo>
                  <a:lnTo>
                    <a:pt x="75" y="133"/>
                  </a:lnTo>
                  <a:lnTo>
                    <a:pt x="16" y="120"/>
                  </a:lnTo>
                  <a:lnTo>
                    <a:pt x="0" y="75"/>
                  </a:lnTo>
                  <a:lnTo>
                    <a:pt x="0" y="41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24000" y="4761360"/>
              <a:ext cx="603360" cy="186840"/>
            </a:xfrm>
            <a:custGeom>
              <a:avLst/>
              <a:gdLst/>
              <a:ahLst/>
              <a:rect l="l" t="t" r="r" b="b"/>
              <a:pathLst>
                <a:path w="182" h="63">
                  <a:moveTo>
                    <a:pt x="0" y="34"/>
                  </a:moveTo>
                  <a:lnTo>
                    <a:pt x="19" y="15"/>
                  </a:lnTo>
                  <a:lnTo>
                    <a:pt x="59" y="0"/>
                  </a:lnTo>
                  <a:lnTo>
                    <a:pt x="118" y="9"/>
                  </a:lnTo>
                  <a:lnTo>
                    <a:pt x="144" y="32"/>
                  </a:lnTo>
                  <a:lnTo>
                    <a:pt x="181" y="35"/>
                  </a:lnTo>
                  <a:lnTo>
                    <a:pt x="171" y="53"/>
                  </a:lnTo>
                  <a:lnTo>
                    <a:pt x="126" y="62"/>
                  </a:lnTo>
                  <a:lnTo>
                    <a:pt x="101" y="47"/>
                  </a:lnTo>
                  <a:lnTo>
                    <a:pt x="72" y="26"/>
                  </a:lnTo>
                  <a:lnTo>
                    <a:pt x="33" y="19"/>
                  </a:lnTo>
                  <a:lnTo>
                    <a:pt x="0" y="34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7480" y="4883400"/>
              <a:ext cx="368280" cy="151200"/>
            </a:xfrm>
            <a:custGeom>
              <a:avLst/>
              <a:gdLst/>
              <a:ahLst/>
              <a:rect l="l" t="t" r="r" b="b"/>
              <a:pathLst>
                <a:path w="111" h="51">
                  <a:moveTo>
                    <a:pt x="15" y="3"/>
                  </a:moveTo>
                  <a:lnTo>
                    <a:pt x="29" y="17"/>
                  </a:lnTo>
                  <a:lnTo>
                    <a:pt x="0" y="25"/>
                  </a:lnTo>
                  <a:lnTo>
                    <a:pt x="30" y="36"/>
                  </a:lnTo>
                  <a:lnTo>
                    <a:pt x="38" y="50"/>
                  </a:lnTo>
                  <a:lnTo>
                    <a:pt x="80" y="33"/>
                  </a:lnTo>
                  <a:lnTo>
                    <a:pt x="110" y="25"/>
                  </a:lnTo>
                  <a:lnTo>
                    <a:pt x="106" y="13"/>
                  </a:lnTo>
                  <a:lnTo>
                    <a:pt x="59" y="0"/>
                  </a:lnTo>
                  <a:lnTo>
                    <a:pt x="15" y="3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375080" y="4966920"/>
              <a:ext cx="86400" cy="504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0"/>
                  </a:moveTo>
                  <a:lnTo>
                    <a:pt x="21" y="0"/>
                  </a:lnTo>
                  <a:lnTo>
                    <a:pt x="25" y="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892040" y="4933800"/>
              <a:ext cx="112680" cy="536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4" y="0"/>
                  </a:moveTo>
                  <a:lnTo>
                    <a:pt x="0" y="11"/>
                  </a:lnTo>
                  <a:lnTo>
                    <a:pt x="29" y="17"/>
                  </a:lnTo>
                  <a:lnTo>
                    <a:pt x="33" y="6"/>
                  </a:lnTo>
                  <a:lnTo>
                    <a:pt x="4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90760" y="4954680"/>
              <a:ext cx="561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0"/>
                  </a:moveTo>
                  <a:lnTo>
                    <a:pt x="0" y="5"/>
                  </a:lnTo>
                  <a:lnTo>
                    <a:pt x="5" y="12"/>
                  </a:lnTo>
                  <a:lnTo>
                    <a:pt x="16" y="16"/>
                  </a:lnTo>
                  <a:lnTo>
                    <a:pt x="11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63480" y="4984200"/>
              <a:ext cx="561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3"/>
                  </a:lnTo>
                  <a:lnTo>
                    <a:pt x="6" y="16"/>
                  </a:lnTo>
                  <a:lnTo>
                    <a:pt x="16" y="10"/>
                  </a:lnTo>
                  <a:lnTo>
                    <a:pt x="3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40160" y="5007960"/>
              <a:ext cx="561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4"/>
                  </a:lnTo>
                  <a:lnTo>
                    <a:pt x="1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23600" y="5055480"/>
              <a:ext cx="561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4"/>
                  </a:lnTo>
                  <a:lnTo>
                    <a:pt x="9" y="16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276160" y="5064480"/>
              <a:ext cx="561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6" y="16"/>
                  </a:lnTo>
                  <a:lnTo>
                    <a:pt x="9" y="16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266440" y="5106240"/>
              <a:ext cx="561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16" y="16"/>
                  </a:lnTo>
                  <a:lnTo>
                    <a:pt x="7" y="16"/>
                  </a:lnTo>
                  <a:lnTo>
                    <a:pt x="0" y="13"/>
                  </a:lnTo>
                  <a:lnTo>
                    <a:pt x="6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283000" y="5194800"/>
              <a:ext cx="561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0" y="3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4" y="16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348800" y="1847160"/>
              <a:ext cx="904320" cy="970200"/>
            </a:xfrm>
            <a:custGeom>
              <a:avLst/>
              <a:gdLst/>
              <a:ahLst/>
              <a:rect l="l" t="t" r="r" b="b"/>
              <a:pathLst>
                <a:path w="273" h="327">
                  <a:moveTo>
                    <a:pt x="165" y="0"/>
                  </a:moveTo>
                  <a:lnTo>
                    <a:pt x="140" y="2"/>
                  </a:lnTo>
                  <a:lnTo>
                    <a:pt x="106" y="15"/>
                  </a:lnTo>
                  <a:lnTo>
                    <a:pt x="97" y="20"/>
                  </a:lnTo>
                  <a:lnTo>
                    <a:pt x="63" y="18"/>
                  </a:lnTo>
                  <a:lnTo>
                    <a:pt x="32" y="42"/>
                  </a:lnTo>
                  <a:lnTo>
                    <a:pt x="12" y="92"/>
                  </a:lnTo>
                  <a:lnTo>
                    <a:pt x="0" y="115"/>
                  </a:lnTo>
                  <a:lnTo>
                    <a:pt x="20" y="139"/>
                  </a:lnTo>
                  <a:lnTo>
                    <a:pt x="32" y="129"/>
                  </a:lnTo>
                  <a:lnTo>
                    <a:pt x="72" y="130"/>
                  </a:lnTo>
                  <a:lnTo>
                    <a:pt x="89" y="206"/>
                  </a:lnTo>
                  <a:lnTo>
                    <a:pt x="132" y="206"/>
                  </a:lnTo>
                  <a:lnTo>
                    <a:pt x="147" y="222"/>
                  </a:lnTo>
                  <a:lnTo>
                    <a:pt x="136" y="232"/>
                  </a:lnTo>
                  <a:lnTo>
                    <a:pt x="162" y="259"/>
                  </a:lnTo>
                  <a:lnTo>
                    <a:pt x="162" y="273"/>
                  </a:lnTo>
                  <a:lnTo>
                    <a:pt x="211" y="317"/>
                  </a:lnTo>
                  <a:lnTo>
                    <a:pt x="257" y="326"/>
                  </a:lnTo>
                  <a:lnTo>
                    <a:pt x="257" y="259"/>
                  </a:lnTo>
                  <a:lnTo>
                    <a:pt x="238" y="240"/>
                  </a:lnTo>
                  <a:lnTo>
                    <a:pt x="251" y="202"/>
                  </a:lnTo>
                  <a:lnTo>
                    <a:pt x="249" y="173"/>
                  </a:lnTo>
                  <a:lnTo>
                    <a:pt x="272" y="154"/>
                  </a:lnTo>
                  <a:lnTo>
                    <a:pt x="272" y="90"/>
                  </a:lnTo>
                  <a:lnTo>
                    <a:pt x="255" y="74"/>
                  </a:lnTo>
                  <a:lnTo>
                    <a:pt x="221" y="64"/>
                  </a:lnTo>
                  <a:lnTo>
                    <a:pt x="195" y="51"/>
                  </a:lnTo>
                  <a:lnTo>
                    <a:pt x="191" y="33"/>
                  </a:lnTo>
                  <a:lnTo>
                    <a:pt x="179" y="24"/>
                  </a:lnTo>
                  <a:lnTo>
                    <a:pt x="182" y="8"/>
                  </a:lnTo>
                  <a:lnTo>
                    <a:pt x="155" y="15"/>
                  </a:lnTo>
                  <a:lnTo>
                    <a:pt x="165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129920" y="1900440"/>
              <a:ext cx="357480" cy="293760"/>
            </a:xfrm>
            <a:custGeom>
              <a:avLst/>
              <a:gdLst/>
              <a:ahLst/>
              <a:rect l="l" t="t" r="r" b="b"/>
              <a:pathLst>
                <a:path w="108" h="99">
                  <a:moveTo>
                    <a:pt x="107" y="4"/>
                  </a:moveTo>
                  <a:lnTo>
                    <a:pt x="80" y="28"/>
                  </a:lnTo>
                  <a:lnTo>
                    <a:pt x="67" y="67"/>
                  </a:lnTo>
                  <a:lnTo>
                    <a:pt x="59" y="98"/>
                  </a:lnTo>
                  <a:lnTo>
                    <a:pt x="38" y="97"/>
                  </a:lnTo>
                  <a:lnTo>
                    <a:pt x="18" y="88"/>
                  </a:lnTo>
                  <a:lnTo>
                    <a:pt x="18" y="80"/>
                  </a:lnTo>
                  <a:lnTo>
                    <a:pt x="28" y="66"/>
                  </a:lnTo>
                  <a:lnTo>
                    <a:pt x="5" y="72"/>
                  </a:lnTo>
                  <a:lnTo>
                    <a:pt x="0" y="52"/>
                  </a:lnTo>
                  <a:lnTo>
                    <a:pt x="12" y="32"/>
                  </a:lnTo>
                  <a:lnTo>
                    <a:pt x="41" y="24"/>
                  </a:lnTo>
                  <a:lnTo>
                    <a:pt x="43" y="8"/>
                  </a:lnTo>
                  <a:lnTo>
                    <a:pt x="69" y="8"/>
                  </a:lnTo>
                  <a:lnTo>
                    <a:pt x="75" y="0"/>
                  </a:lnTo>
                  <a:lnTo>
                    <a:pt x="107" y="4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073400" y="2244960"/>
              <a:ext cx="659160" cy="625680"/>
            </a:xfrm>
            <a:custGeom>
              <a:avLst/>
              <a:gdLst/>
              <a:ahLst/>
              <a:rect l="l" t="t" r="r" b="b"/>
              <a:pathLst>
                <a:path w="199" h="211">
                  <a:moveTo>
                    <a:pt x="95" y="164"/>
                  </a:moveTo>
                  <a:lnTo>
                    <a:pt x="71" y="168"/>
                  </a:lnTo>
                  <a:lnTo>
                    <a:pt x="58" y="185"/>
                  </a:lnTo>
                  <a:lnTo>
                    <a:pt x="75" y="198"/>
                  </a:lnTo>
                  <a:lnTo>
                    <a:pt x="102" y="189"/>
                  </a:lnTo>
                  <a:lnTo>
                    <a:pt x="147" y="205"/>
                  </a:lnTo>
                  <a:lnTo>
                    <a:pt x="187" y="210"/>
                  </a:lnTo>
                  <a:lnTo>
                    <a:pt x="187" y="197"/>
                  </a:lnTo>
                  <a:lnTo>
                    <a:pt x="158" y="173"/>
                  </a:lnTo>
                  <a:lnTo>
                    <a:pt x="198" y="173"/>
                  </a:lnTo>
                  <a:lnTo>
                    <a:pt x="191" y="148"/>
                  </a:lnTo>
                  <a:lnTo>
                    <a:pt x="177" y="126"/>
                  </a:lnTo>
                  <a:lnTo>
                    <a:pt x="151" y="116"/>
                  </a:lnTo>
                  <a:lnTo>
                    <a:pt x="186" y="108"/>
                  </a:lnTo>
                  <a:lnTo>
                    <a:pt x="172" y="99"/>
                  </a:lnTo>
                  <a:lnTo>
                    <a:pt x="119" y="85"/>
                  </a:lnTo>
                  <a:lnTo>
                    <a:pt x="105" y="57"/>
                  </a:lnTo>
                  <a:lnTo>
                    <a:pt x="80" y="40"/>
                  </a:lnTo>
                  <a:lnTo>
                    <a:pt x="54" y="47"/>
                  </a:lnTo>
                  <a:lnTo>
                    <a:pt x="42" y="45"/>
                  </a:lnTo>
                  <a:lnTo>
                    <a:pt x="33" y="20"/>
                  </a:lnTo>
                  <a:lnTo>
                    <a:pt x="29" y="5"/>
                  </a:lnTo>
                  <a:lnTo>
                    <a:pt x="16" y="17"/>
                  </a:lnTo>
                  <a:lnTo>
                    <a:pt x="14" y="0"/>
                  </a:lnTo>
                  <a:lnTo>
                    <a:pt x="0" y="26"/>
                  </a:lnTo>
                  <a:lnTo>
                    <a:pt x="3" y="77"/>
                  </a:lnTo>
                  <a:lnTo>
                    <a:pt x="20" y="98"/>
                  </a:lnTo>
                  <a:lnTo>
                    <a:pt x="54" y="99"/>
                  </a:lnTo>
                  <a:lnTo>
                    <a:pt x="55" y="88"/>
                  </a:lnTo>
                  <a:lnTo>
                    <a:pt x="92" y="107"/>
                  </a:lnTo>
                  <a:lnTo>
                    <a:pt x="113" y="130"/>
                  </a:lnTo>
                  <a:lnTo>
                    <a:pt x="94" y="147"/>
                  </a:lnTo>
                  <a:lnTo>
                    <a:pt x="109" y="156"/>
                  </a:lnTo>
                  <a:lnTo>
                    <a:pt x="95" y="164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904200" y="2138040"/>
              <a:ext cx="275040" cy="1094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82" y="22"/>
                  </a:moveTo>
                  <a:lnTo>
                    <a:pt x="43" y="36"/>
                  </a:lnTo>
                  <a:lnTo>
                    <a:pt x="1" y="26"/>
                  </a:lnTo>
                  <a:lnTo>
                    <a:pt x="0" y="0"/>
                  </a:lnTo>
                  <a:lnTo>
                    <a:pt x="45" y="17"/>
                  </a:lnTo>
                  <a:lnTo>
                    <a:pt x="61" y="13"/>
                  </a:lnTo>
                  <a:lnTo>
                    <a:pt x="82" y="22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83120" y="2704680"/>
              <a:ext cx="152280" cy="18072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1" y="0"/>
                  </a:moveTo>
                  <a:lnTo>
                    <a:pt x="33" y="14"/>
                  </a:lnTo>
                  <a:lnTo>
                    <a:pt x="36" y="37"/>
                  </a:lnTo>
                  <a:lnTo>
                    <a:pt x="45" y="40"/>
                  </a:lnTo>
                  <a:lnTo>
                    <a:pt x="42" y="60"/>
                  </a:lnTo>
                  <a:lnTo>
                    <a:pt x="21" y="36"/>
                  </a:lnTo>
                  <a:lnTo>
                    <a:pt x="7" y="50"/>
                  </a:lnTo>
                  <a:lnTo>
                    <a:pt x="0" y="14"/>
                  </a:lnTo>
                  <a:lnTo>
                    <a:pt x="11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04200" y="2271960"/>
              <a:ext cx="125280" cy="14796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0" y="0"/>
                  </a:moveTo>
                  <a:lnTo>
                    <a:pt x="37" y="0"/>
                  </a:lnTo>
                  <a:lnTo>
                    <a:pt x="35" y="28"/>
                  </a:lnTo>
                  <a:lnTo>
                    <a:pt x="12" y="49"/>
                  </a:lnTo>
                  <a:lnTo>
                    <a:pt x="0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41840" y="2194560"/>
              <a:ext cx="135000" cy="1479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19" y="0"/>
                  </a:moveTo>
                  <a:lnTo>
                    <a:pt x="26" y="5"/>
                  </a:lnTo>
                  <a:lnTo>
                    <a:pt x="40" y="5"/>
                  </a:lnTo>
                  <a:lnTo>
                    <a:pt x="32" y="22"/>
                  </a:lnTo>
                  <a:lnTo>
                    <a:pt x="37" y="34"/>
                  </a:lnTo>
                  <a:lnTo>
                    <a:pt x="28" y="49"/>
                  </a:lnTo>
                  <a:lnTo>
                    <a:pt x="0" y="15"/>
                  </a:lnTo>
                  <a:lnTo>
                    <a:pt x="17" y="15"/>
                  </a:lnTo>
                  <a:lnTo>
                    <a:pt x="19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52480" y="2179800"/>
              <a:ext cx="255240" cy="269640"/>
            </a:xfrm>
            <a:custGeom>
              <a:avLst/>
              <a:gdLst/>
              <a:ahLst/>
              <a:rect l="l" t="t" r="r" b="b"/>
              <a:pathLst>
                <a:path w="77" h="91">
                  <a:moveTo>
                    <a:pt x="36" y="0"/>
                  </a:moveTo>
                  <a:lnTo>
                    <a:pt x="53" y="31"/>
                  </a:lnTo>
                  <a:lnTo>
                    <a:pt x="55" y="63"/>
                  </a:lnTo>
                  <a:lnTo>
                    <a:pt x="76" y="83"/>
                  </a:lnTo>
                  <a:lnTo>
                    <a:pt x="41" y="90"/>
                  </a:lnTo>
                  <a:lnTo>
                    <a:pt x="41" y="72"/>
                  </a:lnTo>
                  <a:lnTo>
                    <a:pt x="6" y="59"/>
                  </a:lnTo>
                  <a:lnTo>
                    <a:pt x="0" y="21"/>
                  </a:lnTo>
                  <a:lnTo>
                    <a:pt x="20" y="31"/>
                  </a:lnTo>
                  <a:lnTo>
                    <a:pt x="6" y="8"/>
                  </a:lnTo>
                  <a:lnTo>
                    <a:pt x="28" y="12"/>
                  </a:lnTo>
                  <a:lnTo>
                    <a:pt x="36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99920" y="2052000"/>
              <a:ext cx="198360" cy="13968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38" y="0"/>
                  </a:moveTo>
                  <a:lnTo>
                    <a:pt x="59" y="12"/>
                  </a:lnTo>
                  <a:lnTo>
                    <a:pt x="58" y="32"/>
                  </a:lnTo>
                  <a:lnTo>
                    <a:pt x="11" y="46"/>
                  </a:lnTo>
                  <a:lnTo>
                    <a:pt x="0" y="29"/>
                  </a:lnTo>
                  <a:lnTo>
                    <a:pt x="38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90360" y="2518200"/>
              <a:ext cx="56160" cy="860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0"/>
                  </a:moveTo>
                  <a:lnTo>
                    <a:pt x="16" y="0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714400" y="2594880"/>
              <a:ext cx="75600" cy="770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2" y="0"/>
                  </a:moveTo>
                  <a:lnTo>
                    <a:pt x="0" y="1"/>
                  </a:lnTo>
                  <a:lnTo>
                    <a:pt x="3" y="25"/>
                  </a:lnTo>
                  <a:lnTo>
                    <a:pt x="19" y="19"/>
                  </a:lnTo>
                  <a:lnTo>
                    <a:pt x="22" y="0"/>
                  </a:ln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MultiSite within a Projec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990800" y="1641600"/>
            <a:ext cx="2009520" cy="1568160"/>
            <a:chOff x="1990800" y="1641600"/>
            <a:chExt cx="2009520" cy="1568160"/>
          </a:xfrm>
        </p:grpSpPr>
        <p:sp>
          <p:nvSpPr>
            <p:cNvPr id="897" name=""/>
            <p:cNvSpPr/>
            <p:nvPr/>
          </p:nvSpPr>
          <p:spPr>
            <a:xfrm>
              <a:off x="2001600" y="1641600"/>
              <a:ext cx="1998720" cy="1568160"/>
            </a:xfrm>
            <a:prstGeom prst="triangle">
              <a:avLst>
                <a:gd name="adj" fmla="val 50000"/>
              </a:avLst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1990800" y="2742840"/>
              <a:ext cx="2009520" cy="466560"/>
            </a:xfrm>
            <a:custGeom>
              <a:avLst/>
              <a:gdLst>
                <a:gd name="textAreaLeft" fmla="*/ 331200 w 2009520"/>
                <a:gd name="textAreaRight" fmla="*/ 1678320 w 2009520"/>
                <a:gd name="textAreaTop" fmla="*/ 76680 h 466560"/>
                <a:gd name="textAreaBottom" fmla="*/ 38988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 flipV="1">
            <a:off x="2638440" y="3230280"/>
            <a:ext cx="168120" cy="39852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 flipV="1">
            <a:off x="3644640" y="3218040"/>
            <a:ext cx="191880" cy="43632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 flipV="1">
            <a:off x="3932280" y="2994120"/>
            <a:ext cx="2952720" cy="158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06560" y="3540240"/>
            <a:ext cx="373320" cy="345960"/>
          </a:xfrm>
          <a:custGeom>
            <a:avLst/>
            <a:gdLst>
              <a:gd name="textAreaLeft" fmla="*/ 153720 w 373320"/>
              <a:gd name="textAreaRight" fmla="*/ 219600 w 373320"/>
              <a:gd name="textAreaTop" fmla="*/ 142560 h 345960"/>
              <a:gd name="textAreaBottom" fmla="*/ 203400 h 34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781680" y="3371760"/>
            <a:ext cx="373320" cy="346320"/>
          </a:xfrm>
          <a:custGeom>
            <a:avLst/>
            <a:gdLst>
              <a:gd name="textAreaLeft" fmla="*/ 153720 w 373320"/>
              <a:gd name="textAreaRight" fmla="*/ 219600 w 373320"/>
              <a:gd name="textAreaTop" fmla="*/ 142560 h 346320"/>
              <a:gd name="textAreaBottom" fmla="*/ 203760 h 34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 flipV="1">
            <a:off x="4151160" y="3317760"/>
            <a:ext cx="2686320" cy="9972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3133800" y="3727440"/>
            <a:ext cx="2009880" cy="1568520"/>
            <a:chOff x="3133800" y="3727440"/>
            <a:chExt cx="2009880" cy="1568520"/>
          </a:xfrm>
        </p:grpSpPr>
        <p:sp>
          <p:nvSpPr>
            <p:cNvPr id="906" name=""/>
            <p:cNvSpPr/>
            <p:nvPr/>
          </p:nvSpPr>
          <p:spPr>
            <a:xfrm>
              <a:off x="3144600" y="3727440"/>
              <a:ext cx="1998720" cy="1568520"/>
            </a:xfrm>
            <a:prstGeom prst="triangle">
              <a:avLst>
                <a:gd name="adj" fmla="val 50000"/>
              </a:avLst>
            </a:prstGeom>
            <a:solidFill>
              <a:srgbClr val="022d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3133800" y="4829040"/>
              <a:ext cx="2009880" cy="466560"/>
            </a:xfrm>
            <a:custGeom>
              <a:avLst/>
              <a:gdLst>
                <a:gd name="textAreaLeft" fmla="*/ 331560 w 2009880"/>
                <a:gd name="textAreaRight" fmla="*/ 1678320 w 2009880"/>
                <a:gd name="textAreaTop" fmla="*/ 76680 h 466560"/>
                <a:gd name="textAreaBottom" fmla="*/ 38988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42960" y="3594240"/>
            <a:ext cx="2009880" cy="1568160"/>
            <a:chOff x="1542960" y="3594240"/>
            <a:chExt cx="2009880" cy="1568160"/>
          </a:xfrm>
        </p:grpSpPr>
        <p:sp>
          <p:nvSpPr>
            <p:cNvPr id="909" name=""/>
            <p:cNvSpPr/>
            <p:nvPr/>
          </p:nvSpPr>
          <p:spPr>
            <a:xfrm>
              <a:off x="1553760" y="3594240"/>
              <a:ext cx="1998720" cy="1568160"/>
            </a:xfrm>
            <a:prstGeom prst="triangle">
              <a:avLst>
                <a:gd name="adj" fmla="val 50000"/>
              </a:avLst>
            </a:prstGeom>
            <a:solidFill>
              <a:srgbClr val="022d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1542960" y="4695840"/>
              <a:ext cx="2009880" cy="466560"/>
            </a:xfrm>
            <a:custGeom>
              <a:avLst/>
              <a:gdLst>
                <a:gd name="textAreaLeft" fmla="*/ 331560 w 2009880"/>
                <a:gd name="textAreaRight" fmla="*/ 1678320 w 2009880"/>
                <a:gd name="textAreaTop" fmla="*/ 76680 h 466560"/>
                <a:gd name="textAreaBottom" fmla="*/ 38988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905520" y="1555920"/>
            <a:ext cx="2009880" cy="1568160"/>
            <a:chOff x="6905520" y="1555920"/>
            <a:chExt cx="2009880" cy="1568160"/>
          </a:xfrm>
        </p:grpSpPr>
        <p:sp>
          <p:nvSpPr>
            <p:cNvPr id="912" name=""/>
            <p:cNvSpPr/>
            <p:nvPr/>
          </p:nvSpPr>
          <p:spPr>
            <a:xfrm>
              <a:off x="6916320" y="1555920"/>
              <a:ext cx="1998720" cy="1568160"/>
            </a:xfrm>
            <a:prstGeom prst="triangle">
              <a:avLst>
                <a:gd name="adj" fmla="val 50000"/>
              </a:avLst>
            </a:prstGeom>
            <a:solidFill>
              <a:srgbClr val="022d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6905520" y="2657520"/>
              <a:ext cx="2009880" cy="466560"/>
            </a:xfrm>
            <a:custGeom>
              <a:avLst/>
              <a:gdLst>
                <a:gd name="textAreaLeft" fmla="*/ 331560 w 2009880"/>
                <a:gd name="textAreaRight" fmla="*/ 1678320 w 2009880"/>
                <a:gd name="textAreaTop" fmla="*/ 76680 h 466560"/>
                <a:gd name="textAreaBottom" fmla="*/ 38988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353280" y="3774960"/>
            <a:ext cx="2009520" cy="1568520"/>
            <a:chOff x="6353280" y="3774960"/>
            <a:chExt cx="2009520" cy="1568520"/>
          </a:xfrm>
        </p:grpSpPr>
        <p:sp>
          <p:nvSpPr>
            <p:cNvPr id="915" name=""/>
            <p:cNvSpPr/>
            <p:nvPr/>
          </p:nvSpPr>
          <p:spPr>
            <a:xfrm>
              <a:off x="6364080" y="3774960"/>
              <a:ext cx="1998360" cy="1568520"/>
            </a:xfrm>
            <a:prstGeom prst="triangle">
              <a:avLst>
                <a:gd name="adj" fmla="val 50000"/>
              </a:avLst>
            </a:prstGeom>
            <a:solidFill>
              <a:srgbClr val="022d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353280" y="4876560"/>
              <a:ext cx="2009520" cy="466560"/>
            </a:xfrm>
            <a:custGeom>
              <a:avLst/>
              <a:gdLst>
                <a:gd name="textAreaLeft" fmla="*/ 331200 w 2009520"/>
                <a:gd name="textAreaRight" fmla="*/ 1678320 w 2009520"/>
                <a:gd name="textAreaTop" fmla="*/ 76680 h 466560"/>
                <a:gd name="textAreaBottom" fmla="*/ 38988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644760" y="5818680"/>
            <a:ext cx="5364000" cy="4230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te Streams Use “Pull”Deli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4181400" y="3994200"/>
            <a:ext cx="2857680" cy="2292480"/>
            <a:chOff x="4181400" y="3994200"/>
            <a:chExt cx="2857680" cy="2292480"/>
          </a:xfrm>
        </p:grpSpPr>
        <p:sp>
          <p:nvSpPr>
            <p:cNvPr id="919" name=""/>
            <p:cNvSpPr/>
            <p:nvPr/>
          </p:nvSpPr>
          <p:spPr>
            <a:xfrm>
              <a:off x="4181400" y="3994200"/>
              <a:ext cx="2857680" cy="2292480"/>
            </a:xfrm>
            <a:prstGeom prst="triangle">
              <a:avLst>
                <a:gd name="adj" fmla="val 50000"/>
              </a:avLst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4181400" y="5603400"/>
              <a:ext cx="2857680" cy="682200"/>
            </a:xfrm>
            <a:custGeom>
              <a:avLst/>
              <a:gdLst>
                <a:gd name="textAreaLeft" fmla="*/ 471240 w 2857680"/>
                <a:gd name="textAreaRight" fmla="*/ 2386440 w 2857680"/>
                <a:gd name="textAreaTop" fmla="*/ 112320 h 682200"/>
                <a:gd name="textAreaBottom" fmla="*/ 569880 h 68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2314440" y="3813120"/>
            <a:ext cx="1590840" cy="1225440"/>
            <a:chOff x="2314440" y="3813120"/>
            <a:chExt cx="1590840" cy="1225440"/>
          </a:xfrm>
        </p:grpSpPr>
        <p:sp>
          <p:nvSpPr>
            <p:cNvPr id="922" name=""/>
            <p:cNvSpPr/>
            <p:nvPr/>
          </p:nvSpPr>
          <p:spPr>
            <a:xfrm>
              <a:off x="2323080" y="3813120"/>
              <a:ext cx="1582200" cy="1225440"/>
            </a:xfrm>
            <a:prstGeom prst="triangle">
              <a:avLst>
                <a:gd name="adj" fmla="val 50000"/>
              </a:avLst>
            </a:prstGeom>
            <a:solidFill>
              <a:srgbClr val="022d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2314440" y="4672800"/>
              <a:ext cx="1590840" cy="364680"/>
            </a:xfrm>
            <a:custGeom>
              <a:avLst/>
              <a:gdLst>
                <a:gd name="textAreaLeft" fmla="*/ 262440 w 1590840"/>
                <a:gd name="textAreaRight" fmla="*/ 1328400 w 1590840"/>
                <a:gd name="textAreaTop" fmla="*/ 60120 h 364680"/>
                <a:gd name="textAreaBottom" fmla="*/ 304560 h 36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609480" y="3623760"/>
            <a:ext cx="1177920" cy="1245240"/>
            <a:chOff x="609480" y="3623760"/>
            <a:chExt cx="1177920" cy="1245240"/>
          </a:xfrm>
        </p:grpSpPr>
        <p:sp>
          <p:nvSpPr>
            <p:cNvPr id="925" name=""/>
            <p:cNvSpPr/>
            <p:nvPr/>
          </p:nvSpPr>
          <p:spPr>
            <a:xfrm>
              <a:off x="609480" y="3648240"/>
              <a:ext cx="1177920" cy="1220760"/>
            </a:xfrm>
            <a:prstGeom prst="rect">
              <a:avLst/>
            </a:prstGeom>
            <a:solidFill>
              <a:srgbClr val="9999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9480" y="3623760"/>
              <a:ext cx="1177920" cy="331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07880" indent="-407880" algn="ctr">
                <a:lnSpc>
                  <a:spcPct val="78000"/>
                </a:lnSpc>
                <a:spcBef>
                  <a:spcPts val="1250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To Do Li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UCM Summary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28" name=""/>
          <p:cNvSpPr/>
          <p:nvPr/>
        </p:nvSpPr>
        <p:spPr>
          <a:xfrm>
            <a:off x="2100240" y="1003320"/>
            <a:ext cx="5354640" cy="18032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ed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equest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riority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Owner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ro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g 9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g 527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nd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GUI butt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i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149560" y="1721880"/>
            <a:ext cx="1776240" cy="379440"/>
          </a:xfrm>
          <a:prstGeom prst="foldedCorner">
            <a:avLst>
              <a:gd name="adj" fmla="val 12500"/>
            </a:avLst>
          </a:prstGeom>
          <a:solidFill>
            <a:srgbClr val="8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7880" indent="-407880">
              <a:lnSpc>
                <a:spcPct val="88000"/>
              </a:lnSpc>
              <a:spcBef>
                <a:spcPts val="1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Bug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49560" y="2052000"/>
            <a:ext cx="1776240" cy="379440"/>
          </a:xfrm>
          <a:prstGeom prst="foldedCorner">
            <a:avLst>
              <a:gd name="adj" fmla="val 12500"/>
            </a:avLst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7880" indent="-407880">
              <a:lnSpc>
                <a:spcPct val="88000"/>
              </a:lnSpc>
              <a:spcBef>
                <a:spcPts val="1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ew GUI Butt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149560" y="2380680"/>
            <a:ext cx="1776240" cy="379440"/>
          </a:xfrm>
          <a:prstGeom prst="foldedCorner">
            <a:avLst>
              <a:gd name="adj" fmla="val 12500"/>
            </a:avLst>
          </a:prstGeom>
          <a:solidFill>
            <a:srgbClr val="660066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7880" indent="-407880">
              <a:lnSpc>
                <a:spcPct val="88000"/>
              </a:lnSpc>
              <a:spcBef>
                <a:spcPts val="1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Bug 5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895320" y="4255920"/>
            <a:ext cx="447840" cy="363600"/>
          </a:xfrm>
          <a:prstGeom prst="foldedCorner">
            <a:avLst>
              <a:gd name="adj" fmla="val 12500"/>
            </a:avLst>
          </a:prstGeom>
          <a:solidFill>
            <a:srgbClr val="8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408480" y="4448160"/>
            <a:ext cx="1898640" cy="314280"/>
          </a:xfrm>
          <a:custGeom>
            <a:avLst/>
            <a:gdLst/>
            <a:ahLst/>
            <a:rect l="l" t="t" r="r" b="b"/>
            <a:pathLst>
              <a:path w="1196" h="198">
                <a:moveTo>
                  <a:pt x="0" y="0"/>
                </a:moveTo>
                <a:lnTo>
                  <a:pt x="421" y="0"/>
                </a:lnTo>
                <a:lnTo>
                  <a:pt x="427" y="168"/>
                </a:lnTo>
                <a:lnTo>
                  <a:pt x="1196" y="198"/>
                </a:lnTo>
              </a:path>
            </a:pathLst>
          </a:custGeom>
          <a:noFill/>
          <a:ln w="57240">
            <a:solidFill>
              <a:srgbClr val="fafd00"/>
            </a:solidFill>
            <a:prstDash val="sysDot"/>
            <a:round/>
            <a:tailEnd len="med" type="triangle" w="med"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433840" y="4599000"/>
            <a:ext cx="447840" cy="363600"/>
          </a:xfrm>
          <a:prstGeom prst="foldedCorner">
            <a:avLst>
              <a:gd name="adj" fmla="val 12500"/>
            </a:avLst>
          </a:prstGeom>
          <a:solidFill>
            <a:srgbClr val="8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4522680" y="5670000"/>
            <a:ext cx="2227320" cy="571320"/>
          </a:xfrm>
          <a:custGeom>
            <a:avLst/>
            <a:gdLst>
              <a:gd name="textAreaLeft" fmla="*/ 522000 w 2227320"/>
              <a:gd name="textAreaRight" fmla="*/ 1705320 w 2227320"/>
              <a:gd name="textAreaTop" fmla="*/ 133920 h 571320"/>
              <a:gd name="textAreaBottom" fmla="*/ 4374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36" y="21600"/>
                </a:lnTo>
                <a:lnTo>
                  <a:pt x="5964" y="21600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333333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 rot="10800000">
            <a:noAutofit/>
          </a:bodyPr>
          <a:p>
            <a:pPr marL="407880" indent="-407880" algn="ctr">
              <a:lnSpc>
                <a:spcPct val="88000"/>
              </a:lnSpc>
              <a:spcBef>
                <a:spcPts val="1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071800"/>
            <a:ext cx="2033640" cy="362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88000"/>
              </a:lnSpc>
              <a:spcBef>
                <a:spcPts val="12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roject 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306360" y="849240"/>
            <a:ext cx="799920" cy="1180800"/>
            <a:chOff x="306360" y="849240"/>
            <a:chExt cx="799920" cy="1180800"/>
          </a:xfrm>
        </p:grpSpPr>
        <p:sp>
          <p:nvSpPr>
            <p:cNvPr id="938" name=""/>
            <p:cNvSpPr/>
            <p:nvPr/>
          </p:nvSpPr>
          <p:spPr>
            <a:xfrm>
              <a:off x="306360" y="1111320"/>
              <a:ext cx="799920" cy="918720"/>
            </a:xfrm>
            <a:custGeom>
              <a:avLst/>
              <a:gdLst/>
              <a:ahLst/>
              <a:rect l="l" t="t" r="r" b="b"/>
              <a:pathLst>
                <a:path w="182" h="324">
                  <a:moveTo>
                    <a:pt x="86" y="11"/>
                  </a:moveTo>
                  <a:lnTo>
                    <a:pt x="81" y="23"/>
                  </a:lnTo>
                  <a:lnTo>
                    <a:pt x="69" y="7"/>
                  </a:lnTo>
                  <a:lnTo>
                    <a:pt x="69" y="0"/>
                  </a:lnTo>
                  <a:lnTo>
                    <a:pt x="47" y="0"/>
                  </a:lnTo>
                  <a:lnTo>
                    <a:pt x="19" y="17"/>
                  </a:lnTo>
                  <a:lnTo>
                    <a:pt x="0" y="86"/>
                  </a:lnTo>
                  <a:lnTo>
                    <a:pt x="22" y="107"/>
                  </a:lnTo>
                  <a:lnTo>
                    <a:pt x="42" y="127"/>
                  </a:lnTo>
                  <a:lnTo>
                    <a:pt x="42" y="323"/>
                  </a:lnTo>
                  <a:lnTo>
                    <a:pt x="97" y="323"/>
                  </a:lnTo>
                  <a:lnTo>
                    <a:pt x="97" y="171"/>
                  </a:lnTo>
                  <a:lnTo>
                    <a:pt x="121" y="323"/>
                  </a:lnTo>
                  <a:lnTo>
                    <a:pt x="179" y="323"/>
                  </a:lnTo>
                  <a:lnTo>
                    <a:pt x="153" y="167"/>
                  </a:lnTo>
                  <a:lnTo>
                    <a:pt x="153" y="129"/>
                  </a:lnTo>
                  <a:lnTo>
                    <a:pt x="181" y="85"/>
                  </a:lnTo>
                  <a:lnTo>
                    <a:pt x="137" y="80"/>
                  </a:lnTo>
                  <a:lnTo>
                    <a:pt x="111" y="81"/>
                  </a:lnTo>
                  <a:lnTo>
                    <a:pt x="112" y="128"/>
                  </a:lnTo>
                  <a:lnTo>
                    <a:pt x="137" y="128"/>
                  </a:lnTo>
                  <a:lnTo>
                    <a:pt x="137" y="144"/>
                  </a:lnTo>
                  <a:lnTo>
                    <a:pt x="53" y="144"/>
                  </a:lnTo>
                  <a:lnTo>
                    <a:pt x="53" y="43"/>
                  </a:lnTo>
                  <a:lnTo>
                    <a:pt x="137" y="43"/>
                  </a:lnTo>
                  <a:lnTo>
                    <a:pt x="137" y="80"/>
                  </a:lnTo>
                  <a:lnTo>
                    <a:pt x="181" y="85"/>
                  </a:lnTo>
                  <a:lnTo>
                    <a:pt x="153" y="9"/>
                  </a:lnTo>
                  <a:lnTo>
                    <a:pt x="139" y="1"/>
                  </a:lnTo>
                  <a:lnTo>
                    <a:pt x="113" y="1"/>
                  </a:lnTo>
                  <a:lnTo>
                    <a:pt x="100" y="22"/>
                  </a:lnTo>
                  <a:lnTo>
                    <a:pt x="94" y="11"/>
                  </a:lnTo>
                  <a:lnTo>
                    <a:pt x="101" y="1"/>
                  </a:lnTo>
                  <a:lnTo>
                    <a:pt x="79" y="1"/>
                  </a:lnTo>
                  <a:lnTo>
                    <a:pt x="86" y="1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66200" y="849240"/>
              <a:ext cx="384840" cy="240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147600" y="6286680"/>
            <a:ext cx="1770120" cy="362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 algn="ctr">
              <a:lnSpc>
                <a:spcPct val="88000"/>
              </a:lnSpc>
              <a:spcBef>
                <a:spcPts val="12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evel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52360" y="5073480"/>
            <a:ext cx="820440" cy="1208160"/>
            <a:chOff x="252360" y="5073480"/>
            <a:chExt cx="820440" cy="1208160"/>
          </a:xfrm>
        </p:grpSpPr>
        <p:sp>
          <p:nvSpPr>
            <p:cNvPr id="942" name=""/>
            <p:cNvSpPr/>
            <p:nvPr/>
          </p:nvSpPr>
          <p:spPr>
            <a:xfrm>
              <a:off x="398160" y="5073480"/>
              <a:ext cx="395280" cy="251280"/>
            </a:xfrm>
            <a:prstGeom prst="ellipse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52360" y="5326560"/>
              <a:ext cx="820440" cy="955080"/>
            </a:xfrm>
            <a:custGeom>
              <a:avLst/>
              <a:gdLst/>
              <a:ahLst/>
              <a:rect l="l" t="t" r="r" b="b"/>
              <a:pathLst>
                <a:path w="182" h="324">
                  <a:moveTo>
                    <a:pt x="86" y="11"/>
                  </a:moveTo>
                  <a:lnTo>
                    <a:pt x="81" y="23"/>
                  </a:lnTo>
                  <a:lnTo>
                    <a:pt x="69" y="7"/>
                  </a:lnTo>
                  <a:lnTo>
                    <a:pt x="69" y="0"/>
                  </a:lnTo>
                  <a:lnTo>
                    <a:pt x="47" y="0"/>
                  </a:lnTo>
                  <a:lnTo>
                    <a:pt x="19" y="17"/>
                  </a:lnTo>
                  <a:lnTo>
                    <a:pt x="0" y="86"/>
                  </a:lnTo>
                  <a:lnTo>
                    <a:pt x="22" y="107"/>
                  </a:lnTo>
                  <a:lnTo>
                    <a:pt x="42" y="127"/>
                  </a:lnTo>
                  <a:lnTo>
                    <a:pt x="42" y="323"/>
                  </a:lnTo>
                  <a:lnTo>
                    <a:pt x="97" y="323"/>
                  </a:lnTo>
                  <a:lnTo>
                    <a:pt x="97" y="171"/>
                  </a:lnTo>
                  <a:lnTo>
                    <a:pt x="121" y="323"/>
                  </a:lnTo>
                  <a:lnTo>
                    <a:pt x="179" y="323"/>
                  </a:lnTo>
                  <a:lnTo>
                    <a:pt x="153" y="167"/>
                  </a:lnTo>
                  <a:lnTo>
                    <a:pt x="153" y="129"/>
                  </a:lnTo>
                  <a:lnTo>
                    <a:pt x="181" y="85"/>
                  </a:lnTo>
                  <a:lnTo>
                    <a:pt x="137" y="80"/>
                  </a:lnTo>
                  <a:lnTo>
                    <a:pt x="111" y="81"/>
                  </a:lnTo>
                  <a:lnTo>
                    <a:pt x="112" y="128"/>
                  </a:lnTo>
                  <a:lnTo>
                    <a:pt x="137" y="128"/>
                  </a:lnTo>
                  <a:lnTo>
                    <a:pt x="137" y="144"/>
                  </a:lnTo>
                  <a:lnTo>
                    <a:pt x="53" y="144"/>
                  </a:lnTo>
                  <a:lnTo>
                    <a:pt x="53" y="43"/>
                  </a:lnTo>
                  <a:lnTo>
                    <a:pt x="137" y="43"/>
                  </a:lnTo>
                  <a:lnTo>
                    <a:pt x="137" y="80"/>
                  </a:lnTo>
                  <a:lnTo>
                    <a:pt x="181" y="85"/>
                  </a:lnTo>
                  <a:lnTo>
                    <a:pt x="153" y="9"/>
                  </a:lnTo>
                  <a:lnTo>
                    <a:pt x="139" y="1"/>
                  </a:lnTo>
                  <a:lnTo>
                    <a:pt x="113" y="1"/>
                  </a:lnTo>
                  <a:lnTo>
                    <a:pt x="100" y="22"/>
                  </a:lnTo>
                  <a:lnTo>
                    <a:pt x="94" y="11"/>
                  </a:lnTo>
                  <a:lnTo>
                    <a:pt x="101" y="1"/>
                  </a:lnTo>
                  <a:lnTo>
                    <a:pt x="79" y="1"/>
                  </a:lnTo>
                  <a:lnTo>
                    <a:pt x="86" y="11"/>
                  </a:lnTo>
                </a:path>
              </a:pathLst>
            </a:cu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7513560" y="2328840"/>
            <a:ext cx="1630440" cy="362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 algn="ctr">
              <a:lnSpc>
                <a:spcPct val="88000"/>
              </a:lnSpc>
              <a:spcBef>
                <a:spcPts val="12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nteg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7824600" y="1116000"/>
            <a:ext cx="820440" cy="1208160"/>
            <a:chOff x="7824600" y="1116000"/>
            <a:chExt cx="820440" cy="1208160"/>
          </a:xfrm>
        </p:grpSpPr>
        <p:sp>
          <p:nvSpPr>
            <p:cNvPr id="946" name=""/>
            <p:cNvSpPr/>
            <p:nvPr/>
          </p:nvSpPr>
          <p:spPr>
            <a:xfrm flipH="1">
              <a:off x="8103960" y="1116000"/>
              <a:ext cx="395280" cy="251280"/>
            </a:xfrm>
            <a:prstGeom prst="ellipse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7824240" y="1369080"/>
              <a:ext cx="820440" cy="955080"/>
            </a:xfrm>
            <a:custGeom>
              <a:avLst/>
              <a:gdLst/>
              <a:ahLst/>
              <a:rect l="l" t="t" r="r" b="b"/>
              <a:pathLst>
                <a:path w="182" h="324">
                  <a:moveTo>
                    <a:pt x="86" y="11"/>
                  </a:moveTo>
                  <a:lnTo>
                    <a:pt x="81" y="23"/>
                  </a:lnTo>
                  <a:lnTo>
                    <a:pt x="69" y="7"/>
                  </a:lnTo>
                  <a:lnTo>
                    <a:pt x="69" y="0"/>
                  </a:lnTo>
                  <a:lnTo>
                    <a:pt x="47" y="0"/>
                  </a:lnTo>
                  <a:lnTo>
                    <a:pt x="19" y="17"/>
                  </a:lnTo>
                  <a:lnTo>
                    <a:pt x="0" y="86"/>
                  </a:lnTo>
                  <a:lnTo>
                    <a:pt x="22" y="107"/>
                  </a:lnTo>
                  <a:lnTo>
                    <a:pt x="42" y="127"/>
                  </a:lnTo>
                  <a:lnTo>
                    <a:pt x="42" y="323"/>
                  </a:lnTo>
                  <a:lnTo>
                    <a:pt x="97" y="323"/>
                  </a:lnTo>
                  <a:lnTo>
                    <a:pt x="97" y="171"/>
                  </a:lnTo>
                  <a:lnTo>
                    <a:pt x="121" y="323"/>
                  </a:lnTo>
                  <a:lnTo>
                    <a:pt x="179" y="323"/>
                  </a:lnTo>
                  <a:lnTo>
                    <a:pt x="153" y="167"/>
                  </a:lnTo>
                  <a:lnTo>
                    <a:pt x="153" y="129"/>
                  </a:lnTo>
                  <a:lnTo>
                    <a:pt x="181" y="85"/>
                  </a:lnTo>
                  <a:lnTo>
                    <a:pt x="137" y="80"/>
                  </a:lnTo>
                  <a:lnTo>
                    <a:pt x="111" y="81"/>
                  </a:lnTo>
                  <a:lnTo>
                    <a:pt x="112" y="128"/>
                  </a:lnTo>
                  <a:lnTo>
                    <a:pt x="137" y="128"/>
                  </a:lnTo>
                  <a:lnTo>
                    <a:pt x="137" y="144"/>
                  </a:lnTo>
                  <a:lnTo>
                    <a:pt x="53" y="144"/>
                  </a:lnTo>
                  <a:lnTo>
                    <a:pt x="53" y="43"/>
                  </a:lnTo>
                  <a:lnTo>
                    <a:pt x="137" y="43"/>
                  </a:lnTo>
                  <a:lnTo>
                    <a:pt x="137" y="80"/>
                  </a:lnTo>
                  <a:lnTo>
                    <a:pt x="181" y="85"/>
                  </a:lnTo>
                  <a:lnTo>
                    <a:pt x="153" y="9"/>
                  </a:lnTo>
                  <a:lnTo>
                    <a:pt x="139" y="1"/>
                  </a:lnTo>
                  <a:lnTo>
                    <a:pt x="113" y="1"/>
                  </a:lnTo>
                  <a:lnTo>
                    <a:pt x="100" y="22"/>
                  </a:lnTo>
                  <a:lnTo>
                    <a:pt x="94" y="11"/>
                  </a:lnTo>
                  <a:lnTo>
                    <a:pt x="101" y="1"/>
                  </a:lnTo>
                  <a:lnTo>
                    <a:pt x="79" y="1"/>
                  </a:lnTo>
                  <a:lnTo>
                    <a:pt x="86" y="11"/>
                  </a:lnTo>
                </a:path>
              </a:pathLst>
            </a:cu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895440" y="5057280"/>
            <a:ext cx="1717200" cy="513000"/>
            <a:chOff x="6895440" y="5057280"/>
            <a:chExt cx="1717200" cy="513000"/>
          </a:xfrm>
        </p:grpSpPr>
        <p:sp>
          <p:nvSpPr>
            <p:cNvPr id="949" name=""/>
            <p:cNvSpPr/>
            <p:nvPr/>
          </p:nvSpPr>
          <p:spPr>
            <a:xfrm flipV="1">
              <a:off x="7248600" y="5056920"/>
              <a:ext cx="946080" cy="513000"/>
            </a:xfrm>
            <a:custGeom>
              <a:avLst/>
              <a:gdLst>
                <a:gd name="textAreaLeft" fmla="*/ 221760 w 946080"/>
                <a:gd name="textAreaRight" fmla="*/ 724320 w 946080"/>
                <a:gd name="textAreaTop" fmla="*/ 120240 h 513000"/>
                <a:gd name="textAreaBottom" fmla="*/ 392760 h 5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636" y="21600"/>
                  </a:lnTo>
                  <a:lnTo>
                    <a:pt x="596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 rot="10800000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125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95440" y="5234040"/>
              <a:ext cx="1717200" cy="307800"/>
            </a:xfrm>
            <a:prstGeom prst="rect">
              <a:avLst/>
            </a:prstGeom>
            <a:solidFill>
              <a:srgbClr val="470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025760" y="4361040"/>
            <a:ext cx="2133360" cy="512640"/>
            <a:chOff x="7025760" y="4361040"/>
            <a:chExt cx="2133360" cy="512640"/>
          </a:xfrm>
        </p:grpSpPr>
        <p:sp>
          <p:nvSpPr>
            <p:cNvPr id="952" name=""/>
            <p:cNvSpPr/>
            <p:nvPr/>
          </p:nvSpPr>
          <p:spPr>
            <a:xfrm flipV="1">
              <a:off x="7589880" y="4361040"/>
              <a:ext cx="946080" cy="512640"/>
            </a:xfrm>
            <a:custGeom>
              <a:avLst/>
              <a:gdLst>
                <a:gd name="textAreaLeft" fmla="*/ 221760 w 946080"/>
                <a:gd name="textAreaRight" fmla="*/ 724320 w 946080"/>
                <a:gd name="textAreaTop" fmla="*/ 120240 h 512640"/>
                <a:gd name="textAreaBottom" fmla="*/ 39240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636" y="21600"/>
                  </a:lnTo>
                  <a:lnTo>
                    <a:pt x="596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 rot="10800000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125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25760" y="4556160"/>
              <a:ext cx="2133360" cy="307800"/>
            </a:xfrm>
            <a:prstGeom prst="rect">
              <a:avLst/>
            </a:prstGeom>
            <a:solidFill>
              <a:srgbClr val="470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Acceptan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7309080" y="3637080"/>
            <a:ext cx="2064960" cy="531360"/>
            <a:chOff x="7309080" y="3637080"/>
            <a:chExt cx="2064960" cy="531360"/>
          </a:xfrm>
        </p:grpSpPr>
        <p:sp>
          <p:nvSpPr>
            <p:cNvPr id="955" name=""/>
            <p:cNvSpPr/>
            <p:nvPr/>
          </p:nvSpPr>
          <p:spPr>
            <a:xfrm flipV="1">
              <a:off x="7877160" y="3637080"/>
              <a:ext cx="946080" cy="512640"/>
            </a:xfrm>
            <a:custGeom>
              <a:avLst/>
              <a:gdLst>
                <a:gd name="textAreaLeft" fmla="*/ 221760 w 946080"/>
                <a:gd name="textAreaRight" fmla="*/ 724320 w 946080"/>
                <a:gd name="textAreaTop" fmla="*/ 120240 h 512640"/>
                <a:gd name="textAreaBottom" fmla="*/ 39240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636" y="21600"/>
                  </a:lnTo>
                  <a:lnTo>
                    <a:pt x="596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 rot="10800000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125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09080" y="3860640"/>
              <a:ext cx="2064960" cy="307800"/>
            </a:xfrm>
            <a:prstGeom prst="rect">
              <a:avLst/>
            </a:prstGeom>
            <a:solidFill>
              <a:srgbClr val="470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Produ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2895480" y="4267080"/>
            <a:ext cx="447840" cy="363600"/>
          </a:xfrm>
          <a:prstGeom prst="foldedCorner">
            <a:avLst>
              <a:gd name="adj" fmla="val 12500"/>
            </a:avLst>
          </a:prstGeom>
          <a:solidFill>
            <a:srgbClr val="8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495440" y="4408560"/>
            <a:ext cx="1271520" cy="0"/>
          </a:xfrm>
          <a:prstGeom prst="line">
            <a:avLst/>
          </a:prstGeom>
          <a:ln w="57240">
            <a:solidFill>
              <a:srgbClr val="fafd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6827760" y="3641760"/>
            <a:ext cx="1040040" cy="1790640"/>
          </a:xfrm>
          <a:prstGeom prst="line">
            <a:avLst/>
          </a:prstGeom>
          <a:ln w="57240">
            <a:solidFill>
              <a:srgbClr val="fafd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81000" y="1908000"/>
            <a:ext cx="1152720" cy="2197440"/>
          </a:xfrm>
          <a:custGeom>
            <a:avLst/>
            <a:gdLst/>
            <a:ahLst/>
            <a:rect l="l" t="t" r="r" b="b"/>
            <a:pathLst>
              <a:path w="726" h="1384">
                <a:moveTo>
                  <a:pt x="0" y="1384"/>
                </a:moveTo>
                <a:lnTo>
                  <a:pt x="0" y="820"/>
                </a:lnTo>
                <a:lnTo>
                  <a:pt x="474" y="436"/>
                </a:lnTo>
                <a:lnTo>
                  <a:pt x="726" y="0"/>
                </a:lnTo>
              </a:path>
            </a:pathLst>
          </a:custGeom>
          <a:noFill/>
          <a:ln w="57240">
            <a:solidFill>
              <a:srgbClr val="fafd00"/>
            </a:solidFill>
            <a:prstDash val="sysDot"/>
            <a:round/>
            <a:headEnd len="med" type="triangle" w="med"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01640" y="3071880"/>
            <a:ext cx="1714680" cy="398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ork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535200" y="3090960"/>
            <a:ext cx="1714680" cy="398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li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11880" y="3100320"/>
            <a:ext cx="1714320" cy="703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ke Base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297560" y="3147840"/>
            <a:ext cx="1714680" cy="398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mo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725480" y="5529240"/>
            <a:ext cx="1714680" cy="398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 flipV="1">
            <a:off x="3452400" y="5084280"/>
            <a:ext cx="1328760" cy="838440"/>
          </a:xfrm>
          <a:prstGeom prst="line">
            <a:avLst/>
          </a:prstGeom>
          <a:ln w="57240">
            <a:solidFill>
              <a:srgbClr val="fafd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5433840" y="5046840"/>
            <a:ext cx="447840" cy="1049040"/>
            <a:chOff x="5433840" y="5046840"/>
            <a:chExt cx="447840" cy="1049040"/>
          </a:xfrm>
        </p:grpSpPr>
        <p:sp>
          <p:nvSpPr>
            <p:cNvPr id="968" name=""/>
            <p:cNvSpPr/>
            <p:nvPr/>
          </p:nvSpPr>
          <p:spPr>
            <a:xfrm>
              <a:off x="5433840" y="5732640"/>
              <a:ext cx="447840" cy="363240"/>
            </a:xfrm>
            <a:prstGeom prst="foldedCorner">
              <a:avLst>
                <a:gd name="adj" fmla="val 125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686560" y="5046840"/>
              <a:ext cx="14040" cy="580680"/>
            </a:xfrm>
            <a:prstGeom prst="line">
              <a:avLst/>
            </a:prstGeom>
            <a:ln w="5724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4668120" y="5773680"/>
            <a:ext cx="19353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t">
            <a:spAutoFit/>
          </a:bodyPr>
          <a:p>
            <a:pPr marL="407880" indent="-407880" algn="ctr">
              <a:lnSpc>
                <a:spcPct val="88000"/>
              </a:lnSpc>
              <a:spcBef>
                <a:spcPts val="1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UCM Adoption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71360" y="54612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 fontScale="92000"/>
          </a:bodyPr>
          <a:p>
            <a:pPr marL="420480" indent="-42048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UCM is an optional feature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20480" indent="-42048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upport for inter-operation with non-UCM user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UCM owns its own branch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Full baselines have associated label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20480" indent="-42048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Migrating from existing ClearCase to UCM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Import labels creating new baselin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reate new components from existing VOB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20480" indent="-42048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ome UCM restrictions in ClearCase 4.0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Designed for small teams in this releas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Does not support all ClearCase platform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Limited multisite suppor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cbff"/>
            </a:gs>
            <a:gs pos="50000">
              <a:srgbClr val="045368"/>
            </a:gs>
            <a:gs pos="100000">
              <a:srgbClr val="0bc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earCase support for e-developmen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HTML Diff/Merge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Ability to compare several HTML sources, view results in rendered form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upported on both Windows and UNIX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Leverages Internet Explorer control on Window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Automatically tracks differences/merge point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HTML Diff/Merge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978" name="html" descr=""/>
          <p:cNvPicPr/>
          <p:nvPr/>
        </p:nvPicPr>
        <p:blipFill>
          <a:blip r:embed="rId1"/>
          <a:stretch/>
        </p:blipFill>
        <p:spPr>
          <a:xfrm>
            <a:off x="177840" y="601560"/>
            <a:ext cx="8839080" cy="633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XML 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eXtensible Markup Language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XML addresses: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Information interchange and reus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Independence from proprietary data storage format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ustomized data retrieval using semantic structur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Applications 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Database integration in Web application back end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Document managemen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rocessing and integration of Web application data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5983200" y="5776920"/>
            <a:ext cx="3160800" cy="10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XML Diff/Merge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983" name="xml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earCase 4.0 New Feature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1646280" y="1192320"/>
            <a:ext cx="6078600" cy="2131920"/>
          </a:xfrm>
          <a:prstGeom prst="rect">
            <a:avLst/>
          </a:prstGeom>
          <a:gradFill rotWithShape="0">
            <a:gsLst>
              <a:gs pos="0">
                <a:srgbClr val="ff0101"/>
              </a:gs>
              <a:gs pos="50000">
                <a:srgbClr val="750000"/>
              </a:gs>
              <a:gs pos="100000">
                <a:srgbClr val="ff010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Unified Change Managemen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(UC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ity-Bas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-of-the-Box Process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Best Pract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ght Integration with Clear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1480" y="3693960"/>
            <a:ext cx="6080400" cy="1833840"/>
          </a:xfrm>
          <a:prstGeom prst="rect">
            <a:avLst/>
          </a:prstGeom>
          <a:gradFill rotWithShape="0">
            <a:gsLst>
              <a:gs pos="0">
                <a:srgbClr val="ff0101"/>
              </a:gs>
              <a:gs pos="50000">
                <a:srgbClr val="750000"/>
              </a:gs>
              <a:gs pos="100000">
                <a:srgbClr val="ff010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ClearCase for e-Develop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ions to FrontPage and Visual InterDe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ML and XML Type Managers (diff/merg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Case Web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CQ_web_chart" descr=""/>
          <p:cNvPicPr/>
          <p:nvPr/>
        </p:nvPicPr>
        <p:blipFill>
          <a:blip r:embed="rId1"/>
          <a:stretch/>
        </p:blipFill>
        <p:spPr>
          <a:xfrm>
            <a:off x="0" y="1724040"/>
            <a:ext cx="6122880" cy="513396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Web Interface Provides Universal Acces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2"/>
          <a:srcRect l="0" t="5380" r="17206" b="0"/>
          <a:stretch/>
        </p:blipFill>
        <p:spPr>
          <a:xfrm>
            <a:off x="2895480" y="747720"/>
            <a:ext cx="6248520" cy="5356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Microsoft FrontPage Integration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Microsoft Visual InterDev Integration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>
            <a:off x="4680" y="60948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Integrations with Web Authoring Environment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Allaire Cold Fusion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Bluestone SapphireWeb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HAHT HahtSite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IBM WebSphere, Visual Age for Java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Netscape Application Builder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un NetDynamic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ymantec Visual Café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…</a:t>
            </a: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other SCC-compliant web development tool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IBM WebSphere Studio Integration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0" y="939960"/>
            <a:ext cx="914400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cbff"/>
            </a:gs>
            <a:gs pos="50000">
              <a:srgbClr val="045368"/>
            </a:gs>
            <a:gs pos="100000">
              <a:srgbClr val="0bc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Additional ClearCase 4.0 Feature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Additional 4.0 Feature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98" name=""/>
          <p:cNvSpPr/>
          <p:nvPr/>
        </p:nvSpPr>
        <p:spPr>
          <a:xfrm>
            <a:off x="304920" y="825480"/>
            <a:ext cx="4111560" cy="21319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General Enhancement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Platform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X Workspace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 for Enhancements (RF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48320" y="1295280"/>
            <a:ext cx="4111560" cy="21322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Integrations &amp; Extensibility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Basic Tool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J++ Tool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Case Automation Li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48320" y="3722760"/>
            <a:ext cx="4111560" cy="2144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Scalability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ded VOB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tive NT S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Site Enhanc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30120" y="3073320"/>
            <a:ext cx="4111560" cy="18334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Administration Tool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 &amp; DO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5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C Registry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5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du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5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min Cons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17520" y="5032440"/>
            <a:ext cx="4111560" cy="135576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Performance Improvements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 Bui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all Tu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General Enhancement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04" name=""/>
          <p:cNvSpPr/>
          <p:nvPr/>
        </p:nvSpPr>
        <p:spPr>
          <a:xfrm>
            <a:off x="2394000" y="2133720"/>
            <a:ext cx="4111560" cy="21319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General Enhancement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Platform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X Workspace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 for Enhancements (RF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New Platform Suppor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25000" y="860040"/>
            <a:ext cx="8489880" cy="468468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7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napshot view and VOB/view server support for: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7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Red Hat Linux  -  6.0, 6.1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7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olaris Intel - 2.6, 2.7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7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Windows 2000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7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vailable now!!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7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Only 4.0 support for GA Windows 2000 (no 3.2.1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7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No longer supported in ClearCase 4.0 release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7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HP-UX 9.x, 10.01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7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olaris 2.4, 2.5, SunO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0">
              <a:lnSpc>
                <a:spcPct val="7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1007" name=""/>
          <p:cNvSpPr/>
          <p:nvPr/>
        </p:nvSpPr>
        <p:spPr>
          <a:xfrm rot="20524200">
            <a:off x="4133520" y="1286640"/>
            <a:ext cx="2467080" cy="1346760"/>
          </a:xfrm>
          <a:custGeom>
            <a:avLst/>
            <a:gdLst>
              <a:gd name="textAreaLeft" fmla="*/ 563040 w 2467080"/>
              <a:gd name="textAreaRight" fmla="*/ 1904040 w 2467080"/>
              <a:gd name="textAreaTop" fmla="*/ 307440 h 1346760"/>
              <a:gd name="textAreaBottom" fmla="*/ 1039320 h 1346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afd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101"/>
                </a:solidFill>
                <a:latin typeface="Comic Sans MS"/>
              </a:rPr>
              <a:t>M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101"/>
                </a:solidFill>
                <a:latin typeface="Comic Sans MS"/>
              </a:rPr>
              <a:t>Releas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earCase Workspace Managemen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09" name=""/>
          <p:cNvSpPr/>
          <p:nvPr/>
        </p:nvSpPr>
        <p:spPr>
          <a:xfrm>
            <a:off x="4641840" y="990720"/>
            <a:ext cx="449568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233280" y="838080"/>
            <a:ext cx="4159800" cy="5396040"/>
            <a:chOff x="233280" y="838080"/>
            <a:chExt cx="4159800" cy="5396040"/>
          </a:xfrm>
        </p:grpSpPr>
        <p:sp>
          <p:nvSpPr>
            <p:cNvPr id="1011" name=""/>
            <p:cNvSpPr/>
            <p:nvPr/>
          </p:nvSpPr>
          <p:spPr>
            <a:xfrm>
              <a:off x="233280" y="1101600"/>
              <a:ext cx="2362320" cy="1849680"/>
            </a:xfrm>
            <a:prstGeom prst="blockArc">
              <a:avLst>
                <a:gd name="adj1" fmla="val 9152755"/>
                <a:gd name="adj2" fmla="val 1647245"/>
                <a:gd name="adj3" fmla="val 3296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371160" y="2897280"/>
              <a:ext cx="2046600" cy="563400"/>
              <a:chOff x="371160" y="2897280"/>
              <a:chExt cx="2046600" cy="563400"/>
            </a:xfrm>
          </p:grpSpPr>
          <p:sp>
            <p:nvSpPr>
              <p:cNvPr id="1013" name=""/>
              <p:cNvSpPr/>
              <p:nvPr/>
            </p:nvSpPr>
            <p:spPr>
              <a:xfrm>
                <a:off x="461880" y="3263400"/>
                <a:ext cx="1955880" cy="197280"/>
              </a:xfrm>
              <a:custGeom>
                <a:avLst/>
                <a:gdLst/>
                <a:ahLst/>
                <a:rect l="l" t="t" r="r" b="b"/>
                <a:pathLst>
                  <a:path w="2703" h="387">
                    <a:moveTo>
                      <a:pt x="0" y="6"/>
                    </a:moveTo>
                    <a:lnTo>
                      <a:pt x="0" y="108"/>
                    </a:lnTo>
                    <a:lnTo>
                      <a:pt x="63" y="141"/>
                    </a:lnTo>
                    <a:lnTo>
                      <a:pt x="117" y="171"/>
                    </a:lnTo>
                    <a:lnTo>
                      <a:pt x="195" y="207"/>
                    </a:lnTo>
                    <a:lnTo>
                      <a:pt x="279" y="240"/>
                    </a:lnTo>
                    <a:lnTo>
                      <a:pt x="372" y="267"/>
                    </a:lnTo>
                    <a:lnTo>
                      <a:pt x="507" y="300"/>
                    </a:lnTo>
                    <a:lnTo>
                      <a:pt x="672" y="336"/>
                    </a:lnTo>
                    <a:lnTo>
                      <a:pt x="861" y="363"/>
                    </a:lnTo>
                    <a:lnTo>
                      <a:pt x="1011" y="378"/>
                    </a:lnTo>
                    <a:lnTo>
                      <a:pt x="1089" y="384"/>
                    </a:lnTo>
                    <a:lnTo>
                      <a:pt x="1176" y="387"/>
                    </a:lnTo>
                    <a:lnTo>
                      <a:pt x="1509" y="387"/>
                    </a:lnTo>
                    <a:lnTo>
                      <a:pt x="1614" y="381"/>
                    </a:lnTo>
                    <a:lnTo>
                      <a:pt x="1731" y="372"/>
                    </a:lnTo>
                    <a:lnTo>
                      <a:pt x="1917" y="351"/>
                    </a:lnTo>
                    <a:lnTo>
                      <a:pt x="2091" y="321"/>
                    </a:lnTo>
                    <a:lnTo>
                      <a:pt x="2214" y="294"/>
                    </a:lnTo>
                    <a:lnTo>
                      <a:pt x="2367" y="249"/>
                    </a:lnTo>
                    <a:lnTo>
                      <a:pt x="2493" y="207"/>
                    </a:lnTo>
                    <a:lnTo>
                      <a:pt x="2574" y="174"/>
                    </a:lnTo>
                    <a:lnTo>
                      <a:pt x="2631" y="141"/>
                    </a:lnTo>
                    <a:lnTo>
                      <a:pt x="2673" y="114"/>
                    </a:lnTo>
                    <a:lnTo>
                      <a:pt x="2703" y="93"/>
                    </a:lnTo>
                    <a:lnTo>
                      <a:pt x="2703" y="0"/>
                    </a:lnTo>
                    <a:lnTo>
                      <a:pt x="2625" y="51"/>
                    </a:lnTo>
                    <a:lnTo>
                      <a:pt x="2568" y="78"/>
                    </a:lnTo>
                    <a:lnTo>
                      <a:pt x="2508" y="108"/>
                    </a:lnTo>
                    <a:lnTo>
                      <a:pt x="2442" y="135"/>
                    </a:lnTo>
                    <a:lnTo>
                      <a:pt x="2379" y="159"/>
                    </a:lnTo>
                    <a:lnTo>
                      <a:pt x="2319" y="180"/>
                    </a:lnTo>
                    <a:lnTo>
                      <a:pt x="2259" y="192"/>
                    </a:lnTo>
                    <a:lnTo>
                      <a:pt x="2211" y="207"/>
                    </a:lnTo>
                    <a:lnTo>
                      <a:pt x="2145" y="219"/>
                    </a:lnTo>
                    <a:lnTo>
                      <a:pt x="2061" y="231"/>
                    </a:lnTo>
                    <a:lnTo>
                      <a:pt x="1956" y="252"/>
                    </a:lnTo>
                    <a:lnTo>
                      <a:pt x="1899" y="261"/>
                    </a:lnTo>
                    <a:lnTo>
                      <a:pt x="1830" y="267"/>
                    </a:lnTo>
                    <a:lnTo>
                      <a:pt x="1746" y="276"/>
                    </a:lnTo>
                    <a:lnTo>
                      <a:pt x="1611" y="288"/>
                    </a:lnTo>
                    <a:lnTo>
                      <a:pt x="1485" y="291"/>
                    </a:lnTo>
                    <a:lnTo>
                      <a:pt x="1359" y="297"/>
                    </a:lnTo>
                    <a:lnTo>
                      <a:pt x="1257" y="291"/>
                    </a:lnTo>
                    <a:lnTo>
                      <a:pt x="1116" y="291"/>
                    </a:lnTo>
                    <a:lnTo>
                      <a:pt x="978" y="282"/>
                    </a:lnTo>
                    <a:lnTo>
                      <a:pt x="855" y="267"/>
                    </a:lnTo>
                    <a:lnTo>
                      <a:pt x="756" y="252"/>
                    </a:lnTo>
                    <a:lnTo>
                      <a:pt x="594" y="225"/>
                    </a:lnTo>
                    <a:lnTo>
                      <a:pt x="447" y="195"/>
                    </a:lnTo>
                    <a:lnTo>
                      <a:pt x="342" y="159"/>
                    </a:lnTo>
                    <a:lnTo>
                      <a:pt x="258" y="138"/>
                    </a:lnTo>
                    <a:lnTo>
                      <a:pt x="177" y="105"/>
                    </a:lnTo>
                    <a:lnTo>
                      <a:pt x="96" y="66"/>
                    </a:lnTo>
                    <a:lnTo>
                      <a:pt x="24" y="24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545454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61880" y="2971800"/>
                <a:ext cx="1955880" cy="448200"/>
              </a:xfrm>
              <a:custGeom>
                <a:avLst/>
                <a:gdLst/>
                <a:ahLst/>
                <a:rect l="l" t="t" r="r" b="b"/>
                <a:pathLst>
                  <a:path w="2703" h="879">
                    <a:moveTo>
                      <a:pt x="2703" y="579"/>
                    </a:moveTo>
                    <a:lnTo>
                      <a:pt x="2703" y="255"/>
                    </a:lnTo>
                    <a:lnTo>
                      <a:pt x="2667" y="234"/>
                    </a:lnTo>
                    <a:lnTo>
                      <a:pt x="2604" y="201"/>
                    </a:lnTo>
                    <a:lnTo>
                      <a:pt x="2517" y="168"/>
                    </a:lnTo>
                    <a:lnTo>
                      <a:pt x="2391" y="126"/>
                    </a:lnTo>
                    <a:lnTo>
                      <a:pt x="2235" y="84"/>
                    </a:lnTo>
                    <a:lnTo>
                      <a:pt x="2163" y="69"/>
                    </a:lnTo>
                    <a:lnTo>
                      <a:pt x="2073" y="51"/>
                    </a:lnTo>
                    <a:lnTo>
                      <a:pt x="1950" y="39"/>
                    </a:lnTo>
                    <a:lnTo>
                      <a:pt x="1797" y="21"/>
                    </a:lnTo>
                    <a:lnTo>
                      <a:pt x="1629" y="6"/>
                    </a:lnTo>
                    <a:lnTo>
                      <a:pt x="1527" y="0"/>
                    </a:lnTo>
                    <a:lnTo>
                      <a:pt x="1422" y="3"/>
                    </a:lnTo>
                    <a:lnTo>
                      <a:pt x="1128" y="0"/>
                    </a:lnTo>
                    <a:lnTo>
                      <a:pt x="1056" y="9"/>
                    </a:lnTo>
                    <a:lnTo>
                      <a:pt x="939" y="18"/>
                    </a:lnTo>
                    <a:lnTo>
                      <a:pt x="831" y="27"/>
                    </a:lnTo>
                    <a:lnTo>
                      <a:pt x="726" y="39"/>
                    </a:lnTo>
                    <a:lnTo>
                      <a:pt x="540" y="72"/>
                    </a:lnTo>
                    <a:lnTo>
                      <a:pt x="327" y="120"/>
                    </a:lnTo>
                    <a:lnTo>
                      <a:pt x="201" y="162"/>
                    </a:lnTo>
                    <a:lnTo>
                      <a:pt x="84" y="210"/>
                    </a:lnTo>
                    <a:lnTo>
                      <a:pt x="0" y="252"/>
                    </a:lnTo>
                    <a:lnTo>
                      <a:pt x="0" y="588"/>
                    </a:lnTo>
                    <a:lnTo>
                      <a:pt x="90" y="651"/>
                    </a:lnTo>
                    <a:lnTo>
                      <a:pt x="186" y="696"/>
                    </a:lnTo>
                    <a:lnTo>
                      <a:pt x="273" y="729"/>
                    </a:lnTo>
                    <a:lnTo>
                      <a:pt x="369" y="759"/>
                    </a:lnTo>
                    <a:lnTo>
                      <a:pt x="444" y="783"/>
                    </a:lnTo>
                    <a:lnTo>
                      <a:pt x="528" y="801"/>
                    </a:lnTo>
                    <a:lnTo>
                      <a:pt x="651" y="822"/>
                    </a:lnTo>
                    <a:lnTo>
                      <a:pt x="747" y="837"/>
                    </a:lnTo>
                    <a:lnTo>
                      <a:pt x="906" y="858"/>
                    </a:lnTo>
                    <a:lnTo>
                      <a:pt x="1029" y="873"/>
                    </a:lnTo>
                    <a:lnTo>
                      <a:pt x="1128" y="873"/>
                    </a:lnTo>
                    <a:lnTo>
                      <a:pt x="1230" y="876"/>
                    </a:lnTo>
                    <a:lnTo>
                      <a:pt x="1422" y="879"/>
                    </a:lnTo>
                    <a:lnTo>
                      <a:pt x="1530" y="876"/>
                    </a:lnTo>
                    <a:lnTo>
                      <a:pt x="1680" y="864"/>
                    </a:lnTo>
                    <a:lnTo>
                      <a:pt x="1833" y="855"/>
                    </a:lnTo>
                    <a:lnTo>
                      <a:pt x="2070" y="816"/>
                    </a:lnTo>
                    <a:lnTo>
                      <a:pt x="2322" y="759"/>
                    </a:lnTo>
                    <a:lnTo>
                      <a:pt x="2460" y="711"/>
                    </a:lnTo>
                    <a:lnTo>
                      <a:pt x="2592" y="651"/>
                    </a:lnTo>
                    <a:lnTo>
                      <a:pt x="2664" y="609"/>
                    </a:lnTo>
                    <a:lnTo>
                      <a:pt x="2703" y="579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 flipV="1">
                <a:off x="370800" y="2896920"/>
                <a:ext cx="1625400" cy="50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044" y="499"/>
                    </a:moveTo>
                    <a:arcTo wR="10800" hR="10800" stAng="-4351232" swAng="26678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044" y="499"/>
                    </a:moveTo>
                    <a:arcTo wR="10800" hR="10800" stAng="-4351232" swAng="2667808"/>
                  </a:path>
                </a:pathLst>
              </a:custGeom>
              <a:noFill/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520560" y="2081160"/>
              <a:ext cx="1747440" cy="806400"/>
              <a:chOff x="520560" y="2081160"/>
              <a:chExt cx="1747440" cy="806400"/>
            </a:xfrm>
          </p:grpSpPr>
          <p:sp>
            <p:nvSpPr>
              <p:cNvPr id="1017" name=""/>
              <p:cNvSpPr/>
              <p:nvPr/>
            </p:nvSpPr>
            <p:spPr>
              <a:xfrm>
                <a:off x="677160" y="2705040"/>
                <a:ext cx="14832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37640" y="268848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939960" y="2424240"/>
                <a:ext cx="19080" cy="13680"/>
              </a:xfrm>
              <a:prstGeom prst="ellipse">
                <a:avLst/>
              </a:prstGeom>
              <a:solidFill>
                <a:srgbClr val="5f5f5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948960" y="2619000"/>
                <a:ext cx="14904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009800" y="2604960"/>
                <a:ext cx="27000" cy="1908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948960" y="2532960"/>
                <a:ext cx="14904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009800" y="251892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948960" y="2449440"/>
                <a:ext cx="14904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009800" y="243612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948960" y="2372040"/>
                <a:ext cx="14832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77160" y="2620800"/>
                <a:ext cx="14832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37640" y="260424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77160" y="2539440"/>
                <a:ext cx="14832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37640" y="2509920"/>
                <a:ext cx="27000" cy="1908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76080" y="2450160"/>
                <a:ext cx="14940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7640" y="241344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76080" y="2367000"/>
                <a:ext cx="14940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37640" y="235044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76080" y="2287440"/>
                <a:ext cx="14940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520560" y="2610720"/>
                <a:ext cx="149040" cy="276840"/>
                <a:chOff x="520560" y="2610720"/>
                <a:chExt cx="149040" cy="27684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621720" y="2646360"/>
                  <a:ext cx="24120" cy="17640"/>
                </a:xfrm>
                <a:prstGeom prst="ellipse">
                  <a:avLst/>
                </a:prstGeom>
                <a:solidFill>
                  <a:srgbClr val="5f5f5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521280" y="2783160"/>
                  <a:ext cx="148320" cy="104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81760" y="2768400"/>
                  <a:ext cx="27000" cy="1908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521280" y="2697840"/>
                  <a:ext cx="148320" cy="104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581760" y="2679840"/>
                  <a:ext cx="27000" cy="1908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520560" y="2610720"/>
                  <a:ext cx="147960" cy="104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3" name=""/>
              <p:cNvSpPr/>
              <p:nvPr/>
            </p:nvSpPr>
            <p:spPr>
              <a:xfrm>
                <a:off x="1847160" y="2763000"/>
                <a:ext cx="14832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907640" y="2746080"/>
                <a:ext cx="27000" cy="1908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109600" y="2482200"/>
                <a:ext cx="19080" cy="13680"/>
              </a:xfrm>
              <a:prstGeom prst="ellipse">
                <a:avLst/>
              </a:prstGeom>
              <a:solidFill>
                <a:srgbClr val="5f5f5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118600" y="2676960"/>
                <a:ext cx="14940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179440" y="266292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118600" y="2590920"/>
                <a:ext cx="14940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179440" y="2576880"/>
                <a:ext cx="27000" cy="1908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118600" y="2507760"/>
                <a:ext cx="14940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179440" y="249408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118600" y="2430000"/>
                <a:ext cx="14868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847160" y="2678760"/>
                <a:ext cx="14832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07640" y="2662200"/>
                <a:ext cx="27000" cy="1908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847160" y="2597400"/>
                <a:ext cx="14832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907640" y="256824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846080" y="2508120"/>
                <a:ext cx="14940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907640" y="2471400"/>
                <a:ext cx="27000" cy="1908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846080" y="2424960"/>
                <a:ext cx="14940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907640" y="240840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846080" y="2345040"/>
                <a:ext cx="14940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2" name=""/>
              <p:cNvGrpSpPr/>
              <p:nvPr/>
            </p:nvGrpSpPr>
            <p:grpSpPr>
              <a:xfrm>
                <a:off x="1690200" y="2575080"/>
                <a:ext cx="149040" cy="276840"/>
                <a:chOff x="1690200" y="2575080"/>
                <a:chExt cx="149040" cy="27684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1791360" y="2610720"/>
                  <a:ext cx="24120" cy="17640"/>
                </a:xfrm>
                <a:prstGeom prst="ellipse">
                  <a:avLst/>
                </a:prstGeom>
                <a:solidFill>
                  <a:srgbClr val="5f5f5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1690920" y="2747520"/>
                  <a:ext cx="148320" cy="104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1751400" y="2732760"/>
                  <a:ext cx="27000" cy="1908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1690920" y="2662200"/>
                  <a:ext cx="148320" cy="104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1751400" y="2644200"/>
                  <a:ext cx="27000" cy="1908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690200" y="2575080"/>
                  <a:ext cx="147960" cy="104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9" name=""/>
              <p:cNvSpPr/>
              <p:nvPr/>
            </p:nvSpPr>
            <p:spPr>
              <a:xfrm>
                <a:off x="1433880" y="2569320"/>
                <a:ext cx="14832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494360" y="255456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555920" y="2217960"/>
                <a:ext cx="19080" cy="13680"/>
              </a:xfrm>
              <a:prstGeom prst="ellipse">
                <a:avLst/>
              </a:prstGeom>
              <a:solidFill>
                <a:srgbClr val="5f5f5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565280" y="2412720"/>
                <a:ext cx="14940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626120" y="239868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565280" y="2326680"/>
                <a:ext cx="14940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626120" y="2312640"/>
                <a:ext cx="27000" cy="1908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565280" y="2243520"/>
                <a:ext cx="14940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626120" y="222984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565280" y="2165760"/>
                <a:ext cx="14832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288800" y="2672640"/>
                <a:ext cx="14832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349640" y="2655720"/>
                <a:ext cx="27000" cy="1908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288800" y="2586600"/>
                <a:ext cx="14832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349640" y="257004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289880" y="2498760"/>
                <a:ext cx="14832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350360" y="2482200"/>
                <a:ext cx="27000" cy="1908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289880" y="2414520"/>
                <a:ext cx="14832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350360" y="2397960"/>
                <a:ext cx="27000" cy="1908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289880" y="2333160"/>
                <a:ext cx="14832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350360" y="230400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288800" y="2243880"/>
                <a:ext cx="14940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350360" y="222624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288800" y="2160360"/>
                <a:ext cx="14940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350360" y="214416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288800" y="2081160"/>
                <a:ext cx="14940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4" name=""/>
              <p:cNvGrpSpPr/>
              <p:nvPr/>
            </p:nvGrpSpPr>
            <p:grpSpPr>
              <a:xfrm>
                <a:off x="1136520" y="2310840"/>
                <a:ext cx="149400" cy="276840"/>
                <a:chOff x="1136520" y="2310840"/>
                <a:chExt cx="149400" cy="27684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1237680" y="2346480"/>
                  <a:ext cx="24120" cy="17640"/>
                </a:xfrm>
                <a:prstGeom prst="ellipse">
                  <a:avLst/>
                </a:prstGeom>
                <a:solidFill>
                  <a:srgbClr val="5f5f5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137240" y="2483280"/>
                  <a:ext cx="148680" cy="104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1198080" y="2468520"/>
                  <a:ext cx="27000" cy="1908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137240" y="2397960"/>
                  <a:ext cx="148680" cy="104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1198080" y="2379960"/>
                  <a:ext cx="27000" cy="1908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1136520" y="2310840"/>
                  <a:ext cx="148320" cy="104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1" name=""/>
              <p:cNvSpPr/>
              <p:nvPr/>
            </p:nvSpPr>
            <p:spPr>
              <a:xfrm>
                <a:off x="1460880" y="2348280"/>
                <a:ext cx="24120" cy="17640"/>
              </a:xfrm>
              <a:prstGeom prst="ellipse">
                <a:avLst/>
              </a:prstGeom>
              <a:solidFill>
                <a:srgbClr val="5f5f5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433880" y="2489040"/>
                <a:ext cx="14832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494360" y="2474280"/>
                <a:ext cx="27000" cy="1908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433880" y="2403720"/>
                <a:ext cx="14832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494360" y="2386080"/>
                <a:ext cx="27000" cy="187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432800" y="2316600"/>
                <a:ext cx="148680" cy="10404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7" name=""/>
              <p:cNvGrpSpPr/>
              <p:nvPr/>
            </p:nvGrpSpPr>
            <p:grpSpPr>
              <a:xfrm>
                <a:off x="821880" y="2608920"/>
                <a:ext cx="149400" cy="276840"/>
                <a:chOff x="821880" y="2608920"/>
                <a:chExt cx="149400" cy="27684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923040" y="2644560"/>
                  <a:ext cx="24120" cy="17640"/>
                </a:xfrm>
                <a:prstGeom prst="ellipse">
                  <a:avLst/>
                </a:prstGeom>
                <a:solidFill>
                  <a:srgbClr val="5f5f5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22600" y="2781360"/>
                  <a:ext cx="148680" cy="104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883440" y="2766600"/>
                  <a:ext cx="27000" cy="1908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822600" y="2696040"/>
                  <a:ext cx="148680" cy="104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883440" y="2678040"/>
                  <a:ext cx="27000" cy="1908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821880" y="2608920"/>
                  <a:ext cx="148320" cy="10440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4" name=""/>
              <p:cNvSpPr/>
              <p:nvPr/>
            </p:nvSpPr>
            <p:spPr>
              <a:xfrm>
                <a:off x="1907640" y="2320200"/>
                <a:ext cx="27000" cy="1908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846080" y="2257560"/>
                <a:ext cx="149400" cy="104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1943280" y="2581200"/>
              <a:ext cx="523800" cy="1713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389240" y="2314440"/>
              <a:ext cx="523800" cy="162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4d4d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79400" y="2522520"/>
              <a:ext cx="523800" cy="1713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958680" y="2541600"/>
              <a:ext cx="147960" cy="1062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74640" y="2335320"/>
              <a:ext cx="149400" cy="1062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008000" y="1849320"/>
              <a:ext cx="44640" cy="7430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ffff00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630440" y="1716120"/>
              <a:ext cx="42840" cy="6714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ffff00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27240" y="2600280"/>
              <a:ext cx="149400" cy="1047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182680" y="1809720"/>
              <a:ext cx="42840" cy="8431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ffff00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04920" y="838080"/>
              <a:ext cx="2238120" cy="1571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574640" y="1628640"/>
              <a:ext cx="149400" cy="1065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127240" y="1727280"/>
              <a:ext cx="149400" cy="1062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958680" y="1768320"/>
              <a:ext cx="147960" cy="1047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9" name=""/>
            <p:cNvGrpSpPr/>
            <p:nvPr/>
          </p:nvGrpSpPr>
          <p:grpSpPr>
            <a:xfrm>
              <a:off x="2133720" y="4724280"/>
              <a:ext cx="2133360" cy="1509840"/>
              <a:chOff x="2133720" y="4724280"/>
              <a:chExt cx="2133360" cy="1509840"/>
            </a:xfrm>
          </p:grpSpPr>
          <p:sp>
            <p:nvSpPr>
              <p:cNvPr id="1130" name=""/>
              <p:cNvSpPr/>
              <p:nvPr/>
            </p:nvSpPr>
            <p:spPr>
              <a:xfrm>
                <a:off x="2133720" y="4724280"/>
                <a:ext cx="2133360" cy="150984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344400" y="5483520"/>
                <a:ext cx="141840" cy="10152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870360" y="5578560"/>
                <a:ext cx="141840" cy="10152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756160" y="5618520"/>
                <a:ext cx="141840" cy="10008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4" name=""/>
            <p:cNvSpPr/>
            <p:nvPr/>
          </p:nvSpPr>
          <p:spPr>
            <a:xfrm rot="3097800">
              <a:off x="1148040" y="3727800"/>
              <a:ext cx="2371680" cy="706680"/>
            </a:xfrm>
            <a:custGeom>
              <a:avLst/>
              <a:gdLst>
                <a:gd name="textAreaLeft" fmla="*/ 370440 w 2371680"/>
                <a:gd name="textAreaRight" fmla="*/ 2075400 w 2371680"/>
                <a:gd name="textAreaTop" fmla="*/ 176760 h 706680"/>
                <a:gd name="textAreaBottom" fmla="*/ 530280 h 70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80000"/>
                </a:gs>
                <a:gs pos="100000">
                  <a:srgbClr val="990000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796480" y="3656520"/>
              <a:ext cx="1596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 Narrow"/>
                </a:rPr>
                <a:t>Copy Mod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734000" y="685440"/>
            <a:ext cx="4400640" cy="488628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Introducing Snapshot views on UNIX 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Enables reliable disconnected use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User initiated updates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Work away from office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Native builds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Snapshot views still provide: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Access to historical data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Network builds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Additional ClearCase 4.0 Feature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498680"/>
            <a:ext cx="4111560" cy="21319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General Enhancement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Platform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X Workspace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 for Enhancements (RF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425680"/>
            <a:ext cx="4111560" cy="21319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Integrations &amp; Extensibility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Basic Tool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J++ Tool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Case Automation Li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4700520"/>
            <a:ext cx="4111560" cy="16858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Scalability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ded VOB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tive NT S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Site Enhanc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0120" y="3746520"/>
            <a:ext cx="4111560" cy="18334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Administration Tool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 &amp; DO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5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C Registry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5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du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5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min Cons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961920"/>
            <a:ext cx="4111560" cy="135576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Performance Improvements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 Bui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all Tu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Request for Enhancements (RFEs)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Over 400 RFEs addressed in this release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dministration improvement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learmake improvement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Windows integration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GUI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73e1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e1ff"/>
                </a:solidFill>
                <a:latin typeface="Arial"/>
              </a:rPr>
              <a:t>enhanced xcleardiff </a:t>
            </a:r>
            <a:endParaRPr b="0" lang="en-US" sz="1800" spc="-1" strike="noStrike">
              <a:solidFill>
                <a:srgbClr val="73e1ff"/>
              </a:solidFill>
              <a:latin typeface="Arial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General ClearCase function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73e1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e1ff"/>
                </a:solidFill>
                <a:latin typeface="Arial"/>
              </a:rPr>
              <a:t>enhanced global types</a:t>
            </a:r>
            <a:endParaRPr b="0" lang="en-US" sz="1800" spc="-1" strike="noStrike">
              <a:solidFill>
                <a:srgbClr val="73e1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Performance Improvement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40" name=""/>
          <p:cNvSpPr/>
          <p:nvPr/>
        </p:nvSpPr>
        <p:spPr>
          <a:xfrm>
            <a:off x="2617920" y="2419200"/>
            <a:ext cx="4111560" cy="21322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Performance Improvement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 Bui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all Tu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Express Build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ubstantial benefit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Fewer write transactions to VOB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Faster build tim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ore users on existing hardwar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hange in user mod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Build results must be explicitly shared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Performance Result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44" name=""/>
          <p:cNvSpPr/>
          <p:nvPr/>
        </p:nvSpPr>
        <p:spPr>
          <a:xfrm>
            <a:off x="685800" y="11430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5" name=""/>
          <p:cNvGraphicFramePr/>
          <p:nvPr/>
        </p:nvGraphicFramePr>
        <p:xfrm>
          <a:off x="155520" y="625320"/>
          <a:ext cx="8775720" cy="57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625320"/>
                    <a:ext cx="877572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Administration Tool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48" name=""/>
          <p:cNvSpPr/>
          <p:nvPr/>
        </p:nvSpPr>
        <p:spPr>
          <a:xfrm>
            <a:off x="2421000" y="2135160"/>
            <a:ext cx="4111560" cy="21319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Administration Tool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 &amp; DO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C Registry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du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min Cons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Administration Enhancement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View Administration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VOB  Administration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Registry Administration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Job Scheduling Service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0" y="2054160"/>
            <a:ext cx="3314880" cy="2670120"/>
          </a:xfrm>
          <a:prstGeom prst="ellipse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View Managemen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310000" y="1352160"/>
            <a:ext cx="3422520" cy="4081320"/>
          </a:xfrm>
          <a:prstGeom prst="rect">
            <a:avLst/>
          </a:prstGeom>
          <a:noFill/>
          <a:ln w="0">
            <a:noFill/>
          </a:ln>
          <a:effectLst>
            <a:outerShdw dist="137587" dir="3378595" blurRad="0" rotWithShape="0">
              <a:srgbClr val="000000"/>
            </a:outerShdw>
          </a:effectLst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reator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Date Created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Date Last Used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Who Last Used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Where Located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Associated Tag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graphicFrame>
        <p:nvGraphicFramePr>
          <p:cNvPr id="1154" name=""/>
          <p:cNvGraphicFramePr/>
          <p:nvPr/>
        </p:nvGraphicFramePr>
        <p:xfrm>
          <a:off x="257040" y="3124080"/>
          <a:ext cx="2668680" cy="13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3124080"/>
                    <a:ext cx="266868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156" name=""/>
          <p:cNvCxnSpPr/>
          <p:nvPr/>
        </p:nvCxnSpPr>
        <p:spPr>
          <a:xfrm flipH="1">
            <a:off x="3085920" y="2290320"/>
            <a:ext cx="2002320" cy="831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sp>
        <p:nvSpPr>
          <p:cNvPr id="1157" name=""/>
          <p:cNvSpPr/>
          <p:nvPr/>
        </p:nvSpPr>
        <p:spPr>
          <a:xfrm>
            <a:off x="1017360" y="2438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90440" y="5366160"/>
            <a:ext cx="51260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 marL="407880" indent="-407880" algn="ctr">
              <a:lnSpc>
                <a:spcPct val="88000"/>
              </a:lnSpc>
              <a:spcBef>
                <a:spcPts val="1500"/>
              </a:spcBef>
              <a:buClr>
                <a:srgbClr val="f6bf69"/>
              </a:buClr>
              <a:buFont typeface="Monotype Sorts" charset="2"/>
              <a:buChar char="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svie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displays owner and group, creation, modification and access times, activity indicator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earCase Admin Tool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1"/>
          <a:stretch/>
        </p:blipFill>
        <p:spPr>
          <a:xfrm>
            <a:off x="1217520" y="880920"/>
            <a:ext cx="76694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earCase Admin Tool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1217520" y="880920"/>
            <a:ext cx="7669440" cy="490392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228600" y="3032280"/>
            <a:ext cx="1751040" cy="42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700b0"/>
                </a:solidFill>
                <a:latin typeface="Comic Sans MS"/>
              </a:rPr>
              <a:t>VOB storage use 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earCase Admin Tool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1219320" y="879480"/>
            <a:ext cx="7669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cbff"/>
            </a:gs>
            <a:gs pos="50000">
              <a:srgbClr val="045368"/>
            </a:gs>
            <a:gs pos="100000">
              <a:srgbClr val="0bc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Unified Change Managemen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Administration Enhancement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Job Scheduling Service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ervice to perform periodic ClearCase operation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et of “canned” jobs provided with ClearCase releas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upports heterogeneous remote administration (UNIX and Windows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art of albd_server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rovides email notification option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rovides access control for modifying job parameter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Replaces cron/at jobs and common scheduling service across Windows and UNIX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Integrations and Extensibility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69" name=""/>
          <p:cNvSpPr/>
          <p:nvPr/>
        </p:nvSpPr>
        <p:spPr>
          <a:xfrm>
            <a:off x="2295360" y="1962000"/>
            <a:ext cx="4335480" cy="21322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Integrations &amp; Extensibility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Basic Tool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J++ Tool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S Word 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Case Automation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20524200">
            <a:off x="6337080" y="2216160"/>
            <a:ext cx="2467080" cy="2019240"/>
          </a:xfrm>
          <a:custGeom>
            <a:avLst/>
            <a:gdLst>
              <a:gd name="textAreaLeft" fmla="*/ 563040 w 2467080"/>
              <a:gd name="textAreaRight" fmla="*/ 1904040 w 2467080"/>
              <a:gd name="textAreaTop" fmla="*/ 460800 h 2019240"/>
              <a:gd name="textAreaBottom" fmla="*/ 1558440 h 2019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afd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101"/>
                </a:solidFill>
                <a:latin typeface="Comic Sans MS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101"/>
                </a:solidFill>
                <a:latin typeface="Comic Sans MS"/>
              </a:rPr>
              <a:t>On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earCase Integration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Improve existing integration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Improved Visual Basic, Visual J++ integration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73e1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e1ff"/>
                </a:solidFill>
                <a:latin typeface="Arial"/>
              </a:rPr>
              <a:t>Full toolbar support, including UCM</a:t>
            </a:r>
            <a:endParaRPr b="0" lang="en-US" sz="1800" spc="-1" strike="noStrike">
              <a:solidFill>
                <a:srgbClr val="73e1ff"/>
              </a:solidFill>
              <a:latin typeface="Arial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upports Dev Studio 5.0 and 6.0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73e1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e1ff"/>
                </a:solidFill>
                <a:latin typeface="Arial"/>
              </a:rPr>
              <a:t>Dropped support for Dev Studio 4.0</a:t>
            </a:r>
            <a:endParaRPr b="0" lang="en-US" sz="1800" spc="-1" strike="noStrike">
              <a:solidFill>
                <a:srgbClr val="73e1ff"/>
              </a:solidFill>
              <a:latin typeface="Arial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New integrations  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FrontPage  &amp; Visual InterDev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Word integration - Word 97 and Office 2000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73e1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e1ff"/>
                </a:solidFill>
                <a:latin typeface="Arial"/>
              </a:rPr>
              <a:t>Can still use Explorer integration to access ClearCase context menus from open dialogs in other Windows applications such as Excel or PowerPoint.</a:t>
            </a:r>
            <a:endParaRPr b="0" lang="en-US" sz="1800" spc="-1" strike="noStrike">
              <a:solidFill>
                <a:srgbClr val="73e1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 Narrow"/>
              </a:rPr>
              <a:t>Transparent Developer Friendly IDE Integration </a:t>
            </a:r>
            <a:endParaRPr b="1" lang="en-US" sz="30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1174" name="VC_screenshot" descr=""/>
          <p:cNvPicPr/>
          <p:nvPr/>
        </p:nvPicPr>
        <p:blipFill>
          <a:blip r:embed="rId1"/>
          <a:srcRect l="0" t="-778" r="17970" b="21617"/>
          <a:stretch/>
        </p:blipFill>
        <p:spPr>
          <a:xfrm>
            <a:off x="304920" y="701640"/>
            <a:ext cx="8610480" cy="6232680"/>
          </a:xfrm>
          <a:prstGeom prst="rect">
            <a:avLst/>
          </a:prstGeom>
          <a:ln w="0">
            <a:noFill/>
          </a:ln>
        </p:spPr>
      </p:pic>
      <p:sp>
        <p:nvSpPr>
          <p:cNvPr id="1175" name=""/>
          <p:cNvSpPr/>
          <p:nvPr/>
        </p:nvSpPr>
        <p:spPr>
          <a:xfrm>
            <a:off x="3651120" y="2743560"/>
            <a:ext cx="2446560" cy="1190160"/>
          </a:xfrm>
          <a:prstGeom prst="wedgeRectCallout">
            <a:avLst>
              <a:gd name="adj1" fmla="val -104828"/>
              <a:gd name="adj2" fmla="val -111564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CM functions available from Tool B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earCase Automation Library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Provides an extensibility mechanism for ClearCase on Window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Enables Rational products to integrate easily with ClearCas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Language independent (VB, VC++, VJ++, Perl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Facilitates partner integration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Leverages Windows conventions (COM, Automation)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omplements UNIX API and CLI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Use cleartool if desire common interface on both UNIX and Windows.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Scalability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79" name=""/>
          <p:cNvSpPr/>
          <p:nvPr/>
        </p:nvSpPr>
        <p:spPr>
          <a:xfrm>
            <a:off x="2308320" y="1998720"/>
            <a:ext cx="4111560" cy="21319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Scalability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ded VOB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tive NT S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Site Enhanc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271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Database Scalability Improvement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Upgrade VOB database to 64-bit addressing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Relax 2GB limit on string fil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Relax 16 Million record limi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upported platforms: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olaris 2.6, 2.7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HP-UX 11.0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Windows NT 4.0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Windows 2000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Database Scalability Improvement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Use of these features entails a VOB reformat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Reformat is optional but must be done to get access to the larger capacity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All replicas in a VOB family should be consistent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No impact on client interoperability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MultiSite Enhancement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-360" y="723960"/>
            <a:ext cx="896292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Request for branch mastership capabilities (RFM)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ustomer establishes policy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For each replica, administrators will: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73e1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e1ff"/>
                </a:solidFill>
                <a:latin typeface="Arial"/>
              </a:rPr>
              <a:t>Enable (or Disable)</a:t>
            </a:r>
            <a:endParaRPr b="0" lang="en-US" sz="1800" spc="-1" strike="noStrike">
              <a:solidFill>
                <a:srgbClr val="73e1ff"/>
              </a:solidFill>
              <a:latin typeface="Arial"/>
            </a:endParaRPr>
          </a:p>
          <a:p>
            <a:pPr lvl="2" marL="1200240" indent="-228600">
              <a:spcBef>
                <a:spcPts val="451"/>
              </a:spcBef>
              <a:buClr>
                <a:srgbClr val="73e1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e1ff"/>
                </a:solidFill>
                <a:latin typeface="Arial"/>
              </a:rPr>
              <a:t>Set authorization per user, group, or domain</a:t>
            </a:r>
            <a:endParaRPr b="0" lang="en-US" sz="1800" spc="-1" strike="noStrike">
              <a:solidFill>
                <a:srgbClr val="73e1ff"/>
              </a:solidFill>
              <a:latin typeface="Arial"/>
            </a:endParaRPr>
          </a:p>
          <a:p>
            <a:pPr lvl="2" marL="1200240" indent="-228600">
              <a:spcBef>
                <a:spcPts val="451"/>
              </a:spcBef>
              <a:buClr>
                <a:srgbClr val="73e1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e1ff"/>
                </a:solidFill>
                <a:latin typeface="Arial"/>
              </a:rPr>
              <a:t>Deny RFM for selected branch types</a:t>
            </a:r>
            <a:endParaRPr b="0" lang="en-US" sz="1800" spc="-1" strike="noStrike">
              <a:solidFill>
                <a:srgbClr val="73e1ff"/>
              </a:solidFill>
              <a:latin typeface="Arial"/>
            </a:endParaRPr>
          </a:p>
          <a:p>
            <a:pPr lvl="2" marL="1200240" indent="-228600">
              <a:spcBef>
                <a:spcPts val="451"/>
              </a:spcBef>
              <a:buClr>
                <a:srgbClr val="73e1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e1ff"/>
                </a:solidFill>
                <a:latin typeface="Arial"/>
              </a:rPr>
              <a:t>Deny RFM for selected branches</a:t>
            </a:r>
            <a:endParaRPr b="0" lang="en-US" sz="1800" spc="-1" strike="noStrike">
              <a:solidFill>
                <a:srgbClr val="73e1ff"/>
              </a:solidFill>
              <a:latin typeface="Arial"/>
            </a:endParaRPr>
          </a:p>
          <a:p>
            <a:pPr lvl="2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e1ff"/>
              </a:solidFill>
              <a:latin typeface="Arial"/>
            </a:endParaRPr>
          </a:p>
          <a:p>
            <a:pPr lvl="2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e1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MultiSite Enhancements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Automated lost packet recovery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Improved Synchronization script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Enhanced support for firewalls - TCP/IP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hmaster is now a cleartool and multitool command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914400"/>
            <a:ext cx="8690040" cy="5653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01800" y="4041720"/>
            <a:ext cx="31669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2480" y="3192480"/>
            <a:ext cx="3049560" cy="327816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>
                  <a:alpha val="50196"/>
                </a:srgbClr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68400" y="3243240"/>
            <a:ext cx="2278080" cy="464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earQu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18080" y="3192480"/>
            <a:ext cx="3049560" cy="327816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>
                  <a:alpha val="50196"/>
                </a:srgbClr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04000" y="3243240"/>
            <a:ext cx="2278080" cy="464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ear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4520" y="3762360"/>
            <a:ext cx="7886520" cy="78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33"/>
              </a:gs>
              <a:gs pos="100000">
                <a:srgbClr val="cc0066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5b00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 algn="ctr">
              <a:lnSpc>
                <a:spcPct val="88000"/>
              </a:lnSpc>
              <a:spcBef>
                <a:spcPts val="20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Unifie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9440" y="3814920"/>
            <a:ext cx="2917800" cy="24256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elds and Fo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anced Charting and Repor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84680" y="3814920"/>
            <a:ext cx="2917800" cy="2521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 S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llel Develo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2271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ild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Introducing Unified Change Managemen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066680"/>
            <a:ext cx="8007480" cy="19828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0280" y="1257480"/>
            <a:ext cx="50832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 algn="ctr">
              <a:lnSpc>
                <a:spcPct val="88000"/>
              </a:lnSpc>
              <a:spcBef>
                <a:spcPts val="137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Arial"/>
              </a:rPr>
              <a:t>Activity Based Change Manag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 algn="ctr">
              <a:lnSpc>
                <a:spcPct val="88000"/>
              </a:lnSpc>
              <a:spcBef>
                <a:spcPts val="137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Arial"/>
              </a:rPr>
              <a:t>Based on Best Practic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 algn="ctr">
              <a:lnSpc>
                <a:spcPct val="88000"/>
              </a:lnSpc>
              <a:spcBef>
                <a:spcPts val="137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Arial"/>
              </a:rPr>
              <a:t>The power of ClearCase with an Out- of-the-Box Usage Mod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1219320"/>
            <a:ext cx="2481120" cy="1631880"/>
            <a:chOff x="685800" y="1219320"/>
            <a:chExt cx="2481120" cy="1631880"/>
          </a:xfrm>
        </p:grpSpPr>
        <p:sp>
          <p:nvSpPr>
            <p:cNvPr id="119" name=""/>
            <p:cNvSpPr/>
            <p:nvPr/>
          </p:nvSpPr>
          <p:spPr>
            <a:xfrm>
              <a:off x="685800" y="1219320"/>
              <a:ext cx="2481120" cy="163188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ccec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5b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8440" bIns="28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8680"/>
                  <a:tab algn="l" pos="657360"/>
                  <a:tab algn="l" pos="985680"/>
                  <a:tab algn="l" pos="1314360"/>
                  <a:tab algn="l" pos="1643040"/>
                  <a:tab algn="l" pos="1971720"/>
                  <a:tab algn="l" pos="2300400"/>
                  <a:tab algn="l" pos="2629080"/>
                  <a:tab algn="l" pos="2957400"/>
                  <a:tab algn="l" pos="3286080"/>
                  <a:tab algn="l" pos="3614760"/>
                  <a:tab algn="l" pos="3943440"/>
                  <a:tab algn="l" pos="4272120"/>
                  <a:tab algn="l" pos="4600440"/>
                  <a:tab algn="l" pos="4929120"/>
                  <a:tab algn="l" pos="5257800"/>
                  <a:tab algn="l" pos="5586480"/>
                  <a:tab algn="l" pos="5915160"/>
                  <a:tab algn="l" pos="6243480"/>
                  <a:tab algn="l" pos="65721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28680"/>
                  <a:tab algn="l" pos="657360"/>
                  <a:tab algn="l" pos="985680"/>
                  <a:tab algn="l" pos="1314360"/>
                  <a:tab algn="l" pos="1643040"/>
                  <a:tab algn="l" pos="1971720"/>
                  <a:tab algn="l" pos="2300400"/>
                  <a:tab algn="l" pos="2629080"/>
                  <a:tab algn="l" pos="2957400"/>
                  <a:tab algn="l" pos="3286080"/>
                  <a:tab algn="l" pos="3614760"/>
                  <a:tab algn="l" pos="3943440"/>
                  <a:tab algn="l" pos="4272120"/>
                  <a:tab algn="l" pos="4600440"/>
                  <a:tab algn="l" pos="4929120"/>
                  <a:tab algn="l" pos="5257800"/>
                  <a:tab algn="l" pos="5586480"/>
                  <a:tab algn="l" pos="5915160"/>
                  <a:tab algn="l" pos="6243480"/>
                  <a:tab algn="l" pos="65721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328680"/>
                  <a:tab algn="l" pos="657360"/>
                  <a:tab algn="l" pos="985680"/>
                  <a:tab algn="l" pos="1314360"/>
                  <a:tab algn="l" pos="1643040"/>
                  <a:tab algn="l" pos="1971720"/>
                  <a:tab algn="l" pos="2300400"/>
                  <a:tab algn="l" pos="2629080"/>
                  <a:tab algn="l" pos="2957400"/>
                  <a:tab algn="l" pos="3286080"/>
                  <a:tab algn="l" pos="3614760"/>
                  <a:tab algn="l" pos="3943440"/>
                  <a:tab algn="l" pos="4272120"/>
                  <a:tab algn="l" pos="4600440"/>
                  <a:tab algn="l" pos="4929120"/>
                  <a:tab algn="l" pos="5257800"/>
                  <a:tab algn="l" pos="5586480"/>
                  <a:tab algn="l" pos="5915160"/>
                  <a:tab algn="l" pos="6243480"/>
                  <a:tab algn="l" pos="65721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328680"/>
                  <a:tab algn="l" pos="657360"/>
                  <a:tab algn="l" pos="985680"/>
                  <a:tab algn="l" pos="1314360"/>
                  <a:tab algn="l" pos="1643040"/>
                  <a:tab algn="l" pos="1971720"/>
                  <a:tab algn="l" pos="2300400"/>
                  <a:tab algn="l" pos="2629080"/>
                  <a:tab algn="l" pos="2957400"/>
                  <a:tab algn="l" pos="3286080"/>
                  <a:tab algn="l" pos="3614760"/>
                  <a:tab algn="l" pos="3943440"/>
                  <a:tab algn="l" pos="4272120"/>
                  <a:tab algn="l" pos="4600440"/>
                  <a:tab algn="l" pos="4929120"/>
                  <a:tab algn="l" pos="5257800"/>
                  <a:tab algn="l" pos="5586480"/>
                  <a:tab algn="l" pos="5915160"/>
                  <a:tab algn="l" pos="6243480"/>
                  <a:tab algn="l" pos="65721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. Fix Bug 83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328680"/>
                  <a:tab algn="l" pos="657360"/>
                  <a:tab algn="l" pos="985680"/>
                  <a:tab algn="l" pos="1314360"/>
                  <a:tab algn="l" pos="1643040"/>
                  <a:tab algn="l" pos="1971720"/>
                  <a:tab algn="l" pos="2300400"/>
                  <a:tab algn="l" pos="2629080"/>
                  <a:tab algn="l" pos="2957400"/>
                  <a:tab algn="l" pos="3286080"/>
                  <a:tab algn="l" pos="3614760"/>
                  <a:tab algn="l" pos="3943440"/>
                  <a:tab algn="l" pos="4272120"/>
                  <a:tab algn="l" pos="4600440"/>
                  <a:tab algn="l" pos="4929120"/>
                  <a:tab algn="l" pos="5257800"/>
                  <a:tab algn="l" pos="5586480"/>
                  <a:tab algn="l" pos="5915160"/>
                  <a:tab algn="l" pos="6243480"/>
                  <a:tab algn="l" pos="657216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 Narrow"/>
                </a:rPr>
                <a:t>2. New GU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328680"/>
                  <a:tab algn="l" pos="657360"/>
                  <a:tab algn="l" pos="985680"/>
                  <a:tab algn="l" pos="1314360"/>
                  <a:tab algn="l" pos="1643040"/>
                  <a:tab algn="l" pos="1971720"/>
                  <a:tab algn="l" pos="2300400"/>
                  <a:tab algn="l" pos="2629080"/>
                  <a:tab algn="l" pos="2957400"/>
                  <a:tab algn="l" pos="3286080"/>
                  <a:tab algn="l" pos="3614760"/>
                  <a:tab algn="l" pos="3943440"/>
                  <a:tab algn="l" pos="4272120"/>
                  <a:tab algn="l" pos="4600440"/>
                  <a:tab algn="l" pos="4929120"/>
                  <a:tab algn="l" pos="5257800"/>
                  <a:tab algn="l" pos="5586480"/>
                  <a:tab algn="l" pos="5915160"/>
                  <a:tab algn="l" pos="6243480"/>
                  <a:tab algn="l" pos="65721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. Review desig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9560" y="1352520"/>
              <a:ext cx="2254680" cy="3636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  <a:effectLst>
              <a:outerShdw dist="153753" dir="2700000" blurRad="0" rotWithShape="0">
                <a:srgbClr val="3838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b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250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 Do Li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62120" y="2117880"/>
            <a:ext cx="2286000" cy="3808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>
              <a:lnSpc>
                <a:spcPct val="88000"/>
              </a:lnSpc>
              <a:spcBef>
                <a:spcPts val="12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2. New GU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362320" y="1828800"/>
            <a:ext cx="1158840" cy="658800"/>
            <a:chOff x="2362320" y="1828800"/>
            <a:chExt cx="1158840" cy="658800"/>
          </a:xfrm>
        </p:grpSpPr>
        <p:sp>
          <p:nvSpPr>
            <p:cNvPr id="123" name=""/>
            <p:cNvSpPr/>
            <p:nvPr/>
          </p:nvSpPr>
          <p:spPr>
            <a:xfrm>
              <a:off x="2362320" y="1828800"/>
              <a:ext cx="1158840" cy="65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2320" y="1828800"/>
              <a:ext cx="1158840" cy="318960"/>
            </a:xfrm>
            <a:prstGeom prst="rect">
              <a:avLst/>
            </a:prstGeom>
            <a:solidFill>
              <a:srgbClr val="9900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ange S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551320" y="2219400"/>
              <a:ext cx="139680" cy="15228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795760" y="2217600"/>
              <a:ext cx="139680" cy="15264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041640" y="2217600"/>
              <a:ext cx="139680" cy="152640"/>
            </a:xfrm>
            <a:prstGeom prst="ellipse">
              <a:avLst/>
            </a:prstGeom>
            <a:gradFill rotWithShape="0">
              <a:gsLst>
                <a:gs pos="0">
                  <a:srgbClr val="022dfc"/>
                </a:gs>
                <a:gs pos="100000">
                  <a:srgbClr val="001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Summary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There’s loads of new stuff in ClearCase 4.0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Unified Change Managemen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Web development featur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New platform support and ClearCase web clien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dministrative tool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nd much, much, more…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cbff"/>
            </a:gs>
            <a:gs pos="50000">
              <a:srgbClr val="045368"/>
            </a:gs>
            <a:gs pos="100000">
              <a:srgbClr val="0bc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Thank You!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4181400" y="3994200"/>
            <a:ext cx="2857680" cy="2292480"/>
            <a:chOff x="4181400" y="3994200"/>
            <a:chExt cx="2857680" cy="2292480"/>
          </a:xfrm>
        </p:grpSpPr>
        <p:sp>
          <p:nvSpPr>
            <p:cNvPr id="129" name=""/>
            <p:cNvSpPr/>
            <p:nvPr/>
          </p:nvSpPr>
          <p:spPr>
            <a:xfrm>
              <a:off x="4181400" y="3994200"/>
              <a:ext cx="2857680" cy="2292480"/>
            </a:xfrm>
            <a:prstGeom prst="triangle">
              <a:avLst>
                <a:gd name="adj" fmla="val 50000"/>
              </a:avLst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181400" y="5603400"/>
              <a:ext cx="2857680" cy="682200"/>
            </a:xfrm>
            <a:custGeom>
              <a:avLst/>
              <a:gdLst>
                <a:gd name="textAreaLeft" fmla="*/ 471240 w 2857680"/>
                <a:gd name="textAreaRight" fmla="*/ 2386440 w 2857680"/>
                <a:gd name="textAreaTop" fmla="*/ 112320 h 682200"/>
                <a:gd name="textAreaBottom" fmla="*/ 569880 h 68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00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314440" y="3813120"/>
            <a:ext cx="1590840" cy="1225440"/>
            <a:chOff x="2314440" y="3813120"/>
            <a:chExt cx="1590840" cy="1225440"/>
          </a:xfrm>
        </p:grpSpPr>
        <p:sp>
          <p:nvSpPr>
            <p:cNvPr id="132" name=""/>
            <p:cNvSpPr/>
            <p:nvPr/>
          </p:nvSpPr>
          <p:spPr>
            <a:xfrm>
              <a:off x="2323080" y="3813120"/>
              <a:ext cx="1582200" cy="1225440"/>
            </a:xfrm>
            <a:prstGeom prst="triangle">
              <a:avLst>
                <a:gd name="adj" fmla="val 50000"/>
              </a:avLst>
            </a:prstGeom>
            <a:solidFill>
              <a:srgbClr val="022d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314440" y="4672800"/>
              <a:ext cx="1590840" cy="364680"/>
            </a:xfrm>
            <a:custGeom>
              <a:avLst/>
              <a:gdLst>
                <a:gd name="textAreaLeft" fmla="*/ 262440 w 1590840"/>
                <a:gd name="textAreaRight" fmla="*/ 1328400 w 1590840"/>
                <a:gd name="textAreaTop" fmla="*/ 60120 h 364680"/>
                <a:gd name="textAreaBottom" fmla="*/ 304560 h 36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37" y="21600"/>
                  </a:lnTo>
                  <a:lnTo>
                    <a:pt x="3263" y="2160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09480" y="3623760"/>
            <a:ext cx="1177920" cy="1245240"/>
            <a:chOff x="609480" y="3623760"/>
            <a:chExt cx="1177920" cy="1245240"/>
          </a:xfrm>
        </p:grpSpPr>
        <p:sp>
          <p:nvSpPr>
            <p:cNvPr id="135" name=""/>
            <p:cNvSpPr/>
            <p:nvPr/>
          </p:nvSpPr>
          <p:spPr>
            <a:xfrm>
              <a:off x="609480" y="3648240"/>
              <a:ext cx="1177920" cy="1220760"/>
            </a:xfrm>
            <a:prstGeom prst="rect">
              <a:avLst/>
            </a:prstGeom>
            <a:solidFill>
              <a:srgbClr val="9999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9480" y="3623760"/>
              <a:ext cx="1177920" cy="331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07880" indent="-407880" algn="ctr">
                <a:lnSpc>
                  <a:spcPct val="78000"/>
                </a:lnSpc>
                <a:spcBef>
                  <a:spcPts val="1250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To Do Li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UCM Summary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2100240" y="1003320"/>
            <a:ext cx="5354640" cy="18032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ed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equest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riority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Owner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ro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g 9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g 527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nd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GUI butt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i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49560" y="1721880"/>
            <a:ext cx="1776240" cy="379440"/>
          </a:xfrm>
          <a:prstGeom prst="foldedCorner">
            <a:avLst>
              <a:gd name="adj" fmla="val 12500"/>
            </a:avLst>
          </a:prstGeom>
          <a:solidFill>
            <a:srgbClr val="8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7880" indent="-407880">
              <a:lnSpc>
                <a:spcPct val="88000"/>
              </a:lnSpc>
              <a:spcBef>
                <a:spcPts val="1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Bug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49560" y="2052000"/>
            <a:ext cx="1776240" cy="379440"/>
          </a:xfrm>
          <a:prstGeom prst="foldedCorner">
            <a:avLst>
              <a:gd name="adj" fmla="val 12500"/>
            </a:avLst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7880" indent="-407880">
              <a:lnSpc>
                <a:spcPct val="88000"/>
              </a:lnSpc>
              <a:spcBef>
                <a:spcPts val="1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ew GUI Butt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49560" y="2380680"/>
            <a:ext cx="1776240" cy="379440"/>
          </a:xfrm>
          <a:prstGeom prst="foldedCorner">
            <a:avLst>
              <a:gd name="adj" fmla="val 12500"/>
            </a:avLst>
          </a:prstGeom>
          <a:solidFill>
            <a:srgbClr val="660066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7880" indent="-407880">
              <a:lnSpc>
                <a:spcPct val="88000"/>
              </a:lnSpc>
              <a:spcBef>
                <a:spcPts val="1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Bug 5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95320" y="4255920"/>
            <a:ext cx="447840" cy="363600"/>
          </a:xfrm>
          <a:prstGeom prst="foldedCorner">
            <a:avLst>
              <a:gd name="adj" fmla="val 12500"/>
            </a:avLst>
          </a:prstGeom>
          <a:solidFill>
            <a:srgbClr val="8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08480" y="4448160"/>
            <a:ext cx="1898640" cy="314280"/>
          </a:xfrm>
          <a:custGeom>
            <a:avLst/>
            <a:gdLst/>
            <a:ahLst/>
            <a:rect l="l" t="t" r="r" b="b"/>
            <a:pathLst>
              <a:path w="1196" h="198">
                <a:moveTo>
                  <a:pt x="0" y="0"/>
                </a:moveTo>
                <a:lnTo>
                  <a:pt x="421" y="0"/>
                </a:lnTo>
                <a:lnTo>
                  <a:pt x="427" y="168"/>
                </a:lnTo>
                <a:lnTo>
                  <a:pt x="1196" y="198"/>
                </a:lnTo>
              </a:path>
            </a:pathLst>
          </a:custGeom>
          <a:noFill/>
          <a:ln w="57240">
            <a:solidFill>
              <a:srgbClr val="fafd00"/>
            </a:solidFill>
            <a:prstDash val="sysDot"/>
            <a:round/>
            <a:tailEnd len="med" type="triangle" w="med"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33840" y="4599000"/>
            <a:ext cx="447840" cy="363600"/>
          </a:xfrm>
          <a:prstGeom prst="foldedCorner">
            <a:avLst>
              <a:gd name="adj" fmla="val 12500"/>
            </a:avLst>
          </a:prstGeom>
          <a:solidFill>
            <a:srgbClr val="8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22680" y="5670000"/>
            <a:ext cx="2227320" cy="571320"/>
          </a:xfrm>
          <a:custGeom>
            <a:avLst/>
            <a:gdLst>
              <a:gd name="textAreaLeft" fmla="*/ 522000 w 2227320"/>
              <a:gd name="textAreaRight" fmla="*/ 1705320 w 2227320"/>
              <a:gd name="textAreaTop" fmla="*/ 133920 h 571320"/>
              <a:gd name="textAreaBottom" fmla="*/ 4374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36" y="21600"/>
                </a:lnTo>
                <a:lnTo>
                  <a:pt x="5964" y="21600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333333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 rot="10800000">
            <a:noAutofit/>
          </a:bodyPr>
          <a:p>
            <a:pPr marL="407880" indent="-407880" algn="ctr">
              <a:lnSpc>
                <a:spcPct val="88000"/>
              </a:lnSpc>
              <a:spcBef>
                <a:spcPts val="1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071800"/>
            <a:ext cx="2033640" cy="362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88000"/>
              </a:lnSpc>
              <a:spcBef>
                <a:spcPts val="12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roject 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6360" y="849240"/>
            <a:ext cx="799920" cy="1180800"/>
            <a:chOff x="306360" y="849240"/>
            <a:chExt cx="799920" cy="1180800"/>
          </a:xfrm>
        </p:grpSpPr>
        <p:sp>
          <p:nvSpPr>
            <p:cNvPr id="148" name=""/>
            <p:cNvSpPr/>
            <p:nvPr/>
          </p:nvSpPr>
          <p:spPr>
            <a:xfrm>
              <a:off x="306360" y="1111320"/>
              <a:ext cx="799920" cy="918720"/>
            </a:xfrm>
            <a:custGeom>
              <a:avLst/>
              <a:gdLst/>
              <a:ahLst/>
              <a:rect l="l" t="t" r="r" b="b"/>
              <a:pathLst>
                <a:path w="182" h="324">
                  <a:moveTo>
                    <a:pt x="86" y="11"/>
                  </a:moveTo>
                  <a:lnTo>
                    <a:pt x="81" y="23"/>
                  </a:lnTo>
                  <a:lnTo>
                    <a:pt x="69" y="7"/>
                  </a:lnTo>
                  <a:lnTo>
                    <a:pt x="69" y="0"/>
                  </a:lnTo>
                  <a:lnTo>
                    <a:pt x="47" y="0"/>
                  </a:lnTo>
                  <a:lnTo>
                    <a:pt x="19" y="17"/>
                  </a:lnTo>
                  <a:lnTo>
                    <a:pt x="0" y="86"/>
                  </a:lnTo>
                  <a:lnTo>
                    <a:pt x="22" y="107"/>
                  </a:lnTo>
                  <a:lnTo>
                    <a:pt x="42" y="127"/>
                  </a:lnTo>
                  <a:lnTo>
                    <a:pt x="42" y="323"/>
                  </a:lnTo>
                  <a:lnTo>
                    <a:pt x="97" y="323"/>
                  </a:lnTo>
                  <a:lnTo>
                    <a:pt x="97" y="171"/>
                  </a:lnTo>
                  <a:lnTo>
                    <a:pt x="121" y="323"/>
                  </a:lnTo>
                  <a:lnTo>
                    <a:pt x="179" y="323"/>
                  </a:lnTo>
                  <a:lnTo>
                    <a:pt x="153" y="167"/>
                  </a:lnTo>
                  <a:lnTo>
                    <a:pt x="153" y="129"/>
                  </a:lnTo>
                  <a:lnTo>
                    <a:pt x="181" y="85"/>
                  </a:lnTo>
                  <a:lnTo>
                    <a:pt x="137" y="80"/>
                  </a:lnTo>
                  <a:lnTo>
                    <a:pt x="111" y="81"/>
                  </a:lnTo>
                  <a:lnTo>
                    <a:pt x="112" y="128"/>
                  </a:lnTo>
                  <a:lnTo>
                    <a:pt x="137" y="128"/>
                  </a:lnTo>
                  <a:lnTo>
                    <a:pt x="137" y="144"/>
                  </a:lnTo>
                  <a:lnTo>
                    <a:pt x="53" y="144"/>
                  </a:lnTo>
                  <a:lnTo>
                    <a:pt x="53" y="43"/>
                  </a:lnTo>
                  <a:lnTo>
                    <a:pt x="137" y="43"/>
                  </a:lnTo>
                  <a:lnTo>
                    <a:pt x="137" y="80"/>
                  </a:lnTo>
                  <a:lnTo>
                    <a:pt x="181" y="85"/>
                  </a:lnTo>
                  <a:lnTo>
                    <a:pt x="153" y="9"/>
                  </a:lnTo>
                  <a:lnTo>
                    <a:pt x="139" y="1"/>
                  </a:lnTo>
                  <a:lnTo>
                    <a:pt x="113" y="1"/>
                  </a:lnTo>
                  <a:lnTo>
                    <a:pt x="100" y="22"/>
                  </a:lnTo>
                  <a:lnTo>
                    <a:pt x="94" y="11"/>
                  </a:lnTo>
                  <a:lnTo>
                    <a:pt x="101" y="1"/>
                  </a:lnTo>
                  <a:lnTo>
                    <a:pt x="79" y="1"/>
                  </a:lnTo>
                  <a:lnTo>
                    <a:pt x="86" y="1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6200" y="849240"/>
              <a:ext cx="384840" cy="240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47600" y="6286680"/>
            <a:ext cx="1770120" cy="362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 algn="ctr">
              <a:lnSpc>
                <a:spcPct val="88000"/>
              </a:lnSpc>
              <a:spcBef>
                <a:spcPts val="12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evel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52360" y="5073480"/>
            <a:ext cx="820440" cy="1208160"/>
            <a:chOff x="252360" y="5073480"/>
            <a:chExt cx="820440" cy="1208160"/>
          </a:xfrm>
        </p:grpSpPr>
        <p:sp>
          <p:nvSpPr>
            <p:cNvPr id="152" name=""/>
            <p:cNvSpPr/>
            <p:nvPr/>
          </p:nvSpPr>
          <p:spPr>
            <a:xfrm>
              <a:off x="398160" y="5073480"/>
              <a:ext cx="395280" cy="251280"/>
            </a:xfrm>
            <a:prstGeom prst="ellipse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2360" y="5326560"/>
              <a:ext cx="820440" cy="955080"/>
            </a:xfrm>
            <a:custGeom>
              <a:avLst/>
              <a:gdLst/>
              <a:ahLst/>
              <a:rect l="l" t="t" r="r" b="b"/>
              <a:pathLst>
                <a:path w="182" h="324">
                  <a:moveTo>
                    <a:pt x="86" y="11"/>
                  </a:moveTo>
                  <a:lnTo>
                    <a:pt x="81" y="23"/>
                  </a:lnTo>
                  <a:lnTo>
                    <a:pt x="69" y="7"/>
                  </a:lnTo>
                  <a:lnTo>
                    <a:pt x="69" y="0"/>
                  </a:lnTo>
                  <a:lnTo>
                    <a:pt x="47" y="0"/>
                  </a:lnTo>
                  <a:lnTo>
                    <a:pt x="19" y="17"/>
                  </a:lnTo>
                  <a:lnTo>
                    <a:pt x="0" y="86"/>
                  </a:lnTo>
                  <a:lnTo>
                    <a:pt x="22" y="107"/>
                  </a:lnTo>
                  <a:lnTo>
                    <a:pt x="42" y="127"/>
                  </a:lnTo>
                  <a:lnTo>
                    <a:pt x="42" y="323"/>
                  </a:lnTo>
                  <a:lnTo>
                    <a:pt x="97" y="323"/>
                  </a:lnTo>
                  <a:lnTo>
                    <a:pt x="97" y="171"/>
                  </a:lnTo>
                  <a:lnTo>
                    <a:pt x="121" y="323"/>
                  </a:lnTo>
                  <a:lnTo>
                    <a:pt x="179" y="323"/>
                  </a:lnTo>
                  <a:lnTo>
                    <a:pt x="153" y="167"/>
                  </a:lnTo>
                  <a:lnTo>
                    <a:pt x="153" y="129"/>
                  </a:lnTo>
                  <a:lnTo>
                    <a:pt x="181" y="85"/>
                  </a:lnTo>
                  <a:lnTo>
                    <a:pt x="137" y="80"/>
                  </a:lnTo>
                  <a:lnTo>
                    <a:pt x="111" y="81"/>
                  </a:lnTo>
                  <a:lnTo>
                    <a:pt x="112" y="128"/>
                  </a:lnTo>
                  <a:lnTo>
                    <a:pt x="137" y="128"/>
                  </a:lnTo>
                  <a:lnTo>
                    <a:pt x="137" y="144"/>
                  </a:lnTo>
                  <a:lnTo>
                    <a:pt x="53" y="144"/>
                  </a:lnTo>
                  <a:lnTo>
                    <a:pt x="53" y="43"/>
                  </a:lnTo>
                  <a:lnTo>
                    <a:pt x="137" y="43"/>
                  </a:lnTo>
                  <a:lnTo>
                    <a:pt x="137" y="80"/>
                  </a:lnTo>
                  <a:lnTo>
                    <a:pt x="181" y="85"/>
                  </a:lnTo>
                  <a:lnTo>
                    <a:pt x="153" y="9"/>
                  </a:lnTo>
                  <a:lnTo>
                    <a:pt x="139" y="1"/>
                  </a:lnTo>
                  <a:lnTo>
                    <a:pt x="113" y="1"/>
                  </a:lnTo>
                  <a:lnTo>
                    <a:pt x="100" y="22"/>
                  </a:lnTo>
                  <a:lnTo>
                    <a:pt x="94" y="11"/>
                  </a:lnTo>
                  <a:lnTo>
                    <a:pt x="101" y="1"/>
                  </a:lnTo>
                  <a:lnTo>
                    <a:pt x="79" y="1"/>
                  </a:lnTo>
                  <a:lnTo>
                    <a:pt x="86" y="11"/>
                  </a:lnTo>
                </a:path>
              </a:pathLst>
            </a:cu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513560" y="2328840"/>
            <a:ext cx="1630440" cy="362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 algn="ctr">
              <a:lnSpc>
                <a:spcPct val="88000"/>
              </a:lnSpc>
              <a:spcBef>
                <a:spcPts val="12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nteg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824600" y="1116000"/>
            <a:ext cx="820440" cy="1208160"/>
            <a:chOff x="7824600" y="1116000"/>
            <a:chExt cx="820440" cy="1208160"/>
          </a:xfrm>
        </p:grpSpPr>
        <p:sp>
          <p:nvSpPr>
            <p:cNvPr id="156" name=""/>
            <p:cNvSpPr/>
            <p:nvPr/>
          </p:nvSpPr>
          <p:spPr>
            <a:xfrm flipH="1">
              <a:off x="8103960" y="1116000"/>
              <a:ext cx="395280" cy="251280"/>
            </a:xfrm>
            <a:prstGeom prst="ellipse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824240" y="1369080"/>
              <a:ext cx="820440" cy="955080"/>
            </a:xfrm>
            <a:custGeom>
              <a:avLst/>
              <a:gdLst/>
              <a:ahLst/>
              <a:rect l="l" t="t" r="r" b="b"/>
              <a:pathLst>
                <a:path w="182" h="324">
                  <a:moveTo>
                    <a:pt x="86" y="11"/>
                  </a:moveTo>
                  <a:lnTo>
                    <a:pt x="81" y="23"/>
                  </a:lnTo>
                  <a:lnTo>
                    <a:pt x="69" y="7"/>
                  </a:lnTo>
                  <a:lnTo>
                    <a:pt x="69" y="0"/>
                  </a:lnTo>
                  <a:lnTo>
                    <a:pt x="47" y="0"/>
                  </a:lnTo>
                  <a:lnTo>
                    <a:pt x="19" y="17"/>
                  </a:lnTo>
                  <a:lnTo>
                    <a:pt x="0" y="86"/>
                  </a:lnTo>
                  <a:lnTo>
                    <a:pt x="22" y="107"/>
                  </a:lnTo>
                  <a:lnTo>
                    <a:pt x="42" y="127"/>
                  </a:lnTo>
                  <a:lnTo>
                    <a:pt x="42" y="323"/>
                  </a:lnTo>
                  <a:lnTo>
                    <a:pt x="97" y="323"/>
                  </a:lnTo>
                  <a:lnTo>
                    <a:pt x="97" y="171"/>
                  </a:lnTo>
                  <a:lnTo>
                    <a:pt x="121" y="323"/>
                  </a:lnTo>
                  <a:lnTo>
                    <a:pt x="179" y="323"/>
                  </a:lnTo>
                  <a:lnTo>
                    <a:pt x="153" y="167"/>
                  </a:lnTo>
                  <a:lnTo>
                    <a:pt x="153" y="129"/>
                  </a:lnTo>
                  <a:lnTo>
                    <a:pt x="181" y="85"/>
                  </a:lnTo>
                  <a:lnTo>
                    <a:pt x="137" y="80"/>
                  </a:lnTo>
                  <a:lnTo>
                    <a:pt x="111" y="81"/>
                  </a:lnTo>
                  <a:lnTo>
                    <a:pt x="112" y="128"/>
                  </a:lnTo>
                  <a:lnTo>
                    <a:pt x="137" y="128"/>
                  </a:lnTo>
                  <a:lnTo>
                    <a:pt x="137" y="144"/>
                  </a:lnTo>
                  <a:lnTo>
                    <a:pt x="53" y="144"/>
                  </a:lnTo>
                  <a:lnTo>
                    <a:pt x="53" y="43"/>
                  </a:lnTo>
                  <a:lnTo>
                    <a:pt x="137" y="43"/>
                  </a:lnTo>
                  <a:lnTo>
                    <a:pt x="137" y="80"/>
                  </a:lnTo>
                  <a:lnTo>
                    <a:pt x="181" y="85"/>
                  </a:lnTo>
                  <a:lnTo>
                    <a:pt x="153" y="9"/>
                  </a:lnTo>
                  <a:lnTo>
                    <a:pt x="139" y="1"/>
                  </a:lnTo>
                  <a:lnTo>
                    <a:pt x="113" y="1"/>
                  </a:lnTo>
                  <a:lnTo>
                    <a:pt x="100" y="22"/>
                  </a:lnTo>
                  <a:lnTo>
                    <a:pt x="94" y="11"/>
                  </a:lnTo>
                  <a:lnTo>
                    <a:pt x="101" y="1"/>
                  </a:lnTo>
                  <a:lnTo>
                    <a:pt x="79" y="1"/>
                  </a:lnTo>
                  <a:lnTo>
                    <a:pt x="86" y="11"/>
                  </a:lnTo>
                </a:path>
              </a:pathLst>
            </a:cu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895440" y="5057280"/>
            <a:ext cx="1717200" cy="513000"/>
            <a:chOff x="6895440" y="5057280"/>
            <a:chExt cx="1717200" cy="513000"/>
          </a:xfrm>
        </p:grpSpPr>
        <p:sp>
          <p:nvSpPr>
            <p:cNvPr id="159" name=""/>
            <p:cNvSpPr/>
            <p:nvPr/>
          </p:nvSpPr>
          <p:spPr>
            <a:xfrm flipV="1">
              <a:off x="7248600" y="5056920"/>
              <a:ext cx="946080" cy="513000"/>
            </a:xfrm>
            <a:custGeom>
              <a:avLst/>
              <a:gdLst>
                <a:gd name="textAreaLeft" fmla="*/ 221760 w 946080"/>
                <a:gd name="textAreaRight" fmla="*/ 724320 w 946080"/>
                <a:gd name="textAreaTop" fmla="*/ 120240 h 513000"/>
                <a:gd name="textAreaBottom" fmla="*/ 392760 h 5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636" y="21600"/>
                  </a:lnTo>
                  <a:lnTo>
                    <a:pt x="596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 rot="10800000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125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95440" y="5234040"/>
              <a:ext cx="1717200" cy="307800"/>
            </a:xfrm>
            <a:prstGeom prst="rect">
              <a:avLst/>
            </a:prstGeom>
            <a:solidFill>
              <a:srgbClr val="470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025760" y="4361040"/>
            <a:ext cx="2133360" cy="512640"/>
            <a:chOff x="7025760" y="4361040"/>
            <a:chExt cx="2133360" cy="512640"/>
          </a:xfrm>
        </p:grpSpPr>
        <p:sp>
          <p:nvSpPr>
            <p:cNvPr id="162" name=""/>
            <p:cNvSpPr/>
            <p:nvPr/>
          </p:nvSpPr>
          <p:spPr>
            <a:xfrm flipV="1">
              <a:off x="7589880" y="4361040"/>
              <a:ext cx="946080" cy="512640"/>
            </a:xfrm>
            <a:custGeom>
              <a:avLst/>
              <a:gdLst>
                <a:gd name="textAreaLeft" fmla="*/ 221760 w 946080"/>
                <a:gd name="textAreaRight" fmla="*/ 724320 w 946080"/>
                <a:gd name="textAreaTop" fmla="*/ 120240 h 512640"/>
                <a:gd name="textAreaBottom" fmla="*/ 39240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636" y="21600"/>
                  </a:lnTo>
                  <a:lnTo>
                    <a:pt x="596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 rot="10800000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125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25760" y="4556160"/>
              <a:ext cx="2133360" cy="307800"/>
            </a:xfrm>
            <a:prstGeom prst="rect">
              <a:avLst/>
            </a:prstGeom>
            <a:solidFill>
              <a:srgbClr val="470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Acceptan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309080" y="3637080"/>
            <a:ext cx="2064960" cy="531360"/>
            <a:chOff x="7309080" y="3637080"/>
            <a:chExt cx="2064960" cy="531360"/>
          </a:xfrm>
        </p:grpSpPr>
        <p:sp>
          <p:nvSpPr>
            <p:cNvPr id="165" name=""/>
            <p:cNvSpPr/>
            <p:nvPr/>
          </p:nvSpPr>
          <p:spPr>
            <a:xfrm flipV="1">
              <a:off x="7877160" y="3637080"/>
              <a:ext cx="946080" cy="512640"/>
            </a:xfrm>
            <a:custGeom>
              <a:avLst/>
              <a:gdLst>
                <a:gd name="textAreaLeft" fmla="*/ 221760 w 946080"/>
                <a:gd name="textAreaRight" fmla="*/ 724320 w 946080"/>
                <a:gd name="textAreaTop" fmla="*/ 120240 h 512640"/>
                <a:gd name="textAreaBottom" fmla="*/ 39240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636" y="21600"/>
                  </a:lnTo>
                  <a:lnTo>
                    <a:pt x="596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 rot="10800000">
              <a:noAutofit/>
            </a:bodyPr>
            <a:p>
              <a:pPr marL="407880" indent="-407880" algn="ctr">
                <a:lnSpc>
                  <a:spcPct val="88000"/>
                </a:lnSpc>
                <a:spcBef>
                  <a:spcPts val="1125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09080" y="3860640"/>
              <a:ext cx="2064960" cy="307800"/>
            </a:xfrm>
            <a:prstGeom prst="rect">
              <a:avLst/>
            </a:prstGeom>
            <a:solidFill>
              <a:srgbClr val="470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07880" indent="-407880" algn="ctr">
                <a:lnSpc>
                  <a:spcPct val="88000"/>
                </a:lnSpc>
                <a:spcBef>
                  <a:spcPts val="1001"/>
                </a:spcBef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Produ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895480" y="4267080"/>
            <a:ext cx="447840" cy="363600"/>
          </a:xfrm>
          <a:prstGeom prst="foldedCorner">
            <a:avLst>
              <a:gd name="adj" fmla="val 12500"/>
            </a:avLst>
          </a:prstGeom>
          <a:solidFill>
            <a:srgbClr val="8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95440" y="4408560"/>
            <a:ext cx="1271520" cy="0"/>
          </a:xfrm>
          <a:prstGeom prst="line">
            <a:avLst/>
          </a:prstGeom>
          <a:ln w="57240">
            <a:solidFill>
              <a:srgbClr val="fafd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827760" y="3641760"/>
            <a:ext cx="1040040" cy="1790640"/>
          </a:xfrm>
          <a:prstGeom prst="line">
            <a:avLst/>
          </a:prstGeom>
          <a:ln w="57240">
            <a:solidFill>
              <a:srgbClr val="fafd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81000" y="1908000"/>
            <a:ext cx="1152720" cy="2197440"/>
          </a:xfrm>
          <a:custGeom>
            <a:avLst/>
            <a:gdLst/>
            <a:ahLst/>
            <a:rect l="l" t="t" r="r" b="b"/>
            <a:pathLst>
              <a:path w="726" h="1384">
                <a:moveTo>
                  <a:pt x="0" y="1384"/>
                </a:moveTo>
                <a:lnTo>
                  <a:pt x="0" y="820"/>
                </a:lnTo>
                <a:lnTo>
                  <a:pt x="474" y="436"/>
                </a:lnTo>
                <a:lnTo>
                  <a:pt x="726" y="0"/>
                </a:lnTo>
              </a:path>
            </a:pathLst>
          </a:custGeom>
          <a:noFill/>
          <a:ln w="57240">
            <a:solidFill>
              <a:srgbClr val="fafd00"/>
            </a:solidFill>
            <a:prstDash val="sysDot"/>
            <a:round/>
            <a:headEnd len="med" type="triangle" w="med"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1640" y="3071880"/>
            <a:ext cx="1714680" cy="398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ork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35200" y="3090960"/>
            <a:ext cx="1714680" cy="398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li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1880" y="3100320"/>
            <a:ext cx="1714320" cy="703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ke Base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97560" y="3147840"/>
            <a:ext cx="1714680" cy="398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mo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25480" y="5529240"/>
            <a:ext cx="1714680" cy="398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3452400" y="5084280"/>
            <a:ext cx="1328760" cy="838440"/>
          </a:xfrm>
          <a:prstGeom prst="line">
            <a:avLst/>
          </a:prstGeom>
          <a:ln w="57240">
            <a:solidFill>
              <a:srgbClr val="fafd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433840" y="5046840"/>
            <a:ext cx="447840" cy="1049040"/>
            <a:chOff x="5433840" y="5046840"/>
            <a:chExt cx="447840" cy="1049040"/>
          </a:xfrm>
        </p:grpSpPr>
        <p:sp>
          <p:nvSpPr>
            <p:cNvPr id="178" name=""/>
            <p:cNvSpPr/>
            <p:nvPr/>
          </p:nvSpPr>
          <p:spPr>
            <a:xfrm>
              <a:off x="5433840" y="5732640"/>
              <a:ext cx="447840" cy="363240"/>
            </a:xfrm>
            <a:prstGeom prst="foldedCorner">
              <a:avLst>
                <a:gd name="adj" fmla="val 125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86560" y="5046840"/>
              <a:ext cx="14040" cy="580680"/>
            </a:xfrm>
            <a:prstGeom prst="line">
              <a:avLst/>
            </a:prstGeom>
            <a:ln w="5724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668120" y="5773680"/>
            <a:ext cx="19353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t">
            <a:spAutoFit/>
          </a:bodyPr>
          <a:p>
            <a:pPr marL="407880" indent="-407880" algn="ctr">
              <a:lnSpc>
                <a:spcPct val="88000"/>
              </a:lnSpc>
              <a:spcBef>
                <a:spcPts val="1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New ClearCase Objects found in UCM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1360" y="685800"/>
            <a:ext cx="8963280" cy="5562720"/>
          </a:xfrm>
          <a:prstGeom prst="rect">
            <a:avLst/>
          </a:prstGeom>
          <a:noFill/>
          <a:ln w="0">
            <a:noFill/>
          </a:ln>
        </p:spPr>
        <p:txBody>
          <a:bodyPr lIns="109800" rIns="108000" tIns="2376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Project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omponent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tream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Activitie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73e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utomatically collect change set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73e1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Baseline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3T18:27:07Z</dcterms:created>
  <dc:creator>Dave Bernstein</dc:creator>
  <dc:description/>
  <dc:language>en-US</dc:language>
  <cp:lastModifiedBy>Rational Software</cp:lastModifiedBy>
  <cp:lastPrinted>1999-09-17T20:59:34Z</cp:lastPrinted>
  <dcterms:modified xsi:type="dcterms:W3CDTF">2000-02-16T23:35:45Z</dcterms:modified>
  <cp:revision>375</cp:revision>
  <dc:subject/>
  <dc:title>No Slide Title</dc:title>
</cp:coreProperties>
</file>