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5.wmf" ContentType="image/x-wmf"/>
  <Override PartName="/ppt/media/image14.wmf" ContentType="image/x-wmf"/>
  <Override PartName="/ppt/media/image5.jpeg" ContentType="image/jpeg"/>
  <Override PartName="/ppt/media/image9.wmf" ContentType="image/x-wmf"/>
  <Override PartName="/ppt/media/image1.png" ContentType="image/png"/>
  <Override PartName="/ppt/media/image3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10.wmf" ContentType="image/x-wmf"/>
  <Override PartName="/ppt/media/image4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7480" y="24480"/>
            <a:ext cx="8999280" cy="7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849024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1800" y="3563640"/>
            <a:ext cx="849024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7480" y="24480"/>
            <a:ext cx="8999280" cy="7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41428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2040" y="1168200"/>
            <a:ext cx="41428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61800" y="3563640"/>
            <a:ext cx="41428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2040" y="3563640"/>
            <a:ext cx="41428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7480" y="24480"/>
            <a:ext cx="8999280" cy="7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27334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2440" y="1168200"/>
            <a:ext cx="27334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2720" y="1168200"/>
            <a:ext cx="27334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61800" y="3563640"/>
            <a:ext cx="27334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2440" y="3563640"/>
            <a:ext cx="27334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2720" y="3563640"/>
            <a:ext cx="27334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4BF26-D380-49A8-B841-D7BA48F7458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7480" y="24480"/>
            <a:ext cx="8999280" cy="7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61800" y="1168200"/>
            <a:ext cx="8490240" cy="45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7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D9673-E18F-471B-9E58-18B1BAAA7AC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7480" y="24480"/>
            <a:ext cx="8999280" cy="7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849024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2E3FE-9A37-4CBC-9C45-35086EB7E15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7480" y="24480"/>
            <a:ext cx="8999280" cy="7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414288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2040" y="1168200"/>
            <a:ext cx="414288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76966-67A1-4FD5-BFF9-39CC01002AB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480" y="24480"/>
            <a:ext cx="8999280" cy="7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84DE4-6773-4395-BE01-BEEE1F55284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87480" y="123840"/>
            <a:ext cx="8999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7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FAEE4-C698-4440-B55D-27C7F31E308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7480" y="24480"/>
            <a:ext cx="8999280" cy="7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41428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2040" y="1168200"/>
            <a:ext cx="414288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61800" y="3563640"/>
            <a:ext cx="41428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AC0BC-C087-4C3E-AB94-226A7BE6F9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7480" y="24480"/>
            <a:ext cx="8999280" cy="7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61800" y="1168200"/>
            <a:ext cx="8490240" cy="45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7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7480" y="24480"/>
            <a:ext cx="8999280" cy="7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414288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12040" y="1168200"/>
            <a:ext cx="41428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12040" y="3563640"/>
            <a:ext cx="41428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22433-631A-4E4B-932A-33CED40B766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7480" y="24480"/>
            <a:ext cx="8999280" cy="7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41428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2040" y="1168200"/>
            <a:ext cx="41428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61800" y="3563640"/>
            <a:ext cx="849024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87434-E186-40AD-AB0A-47AF764AD77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480" y="24480"/>
            <a:ext cx="8999280" cy="7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849024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1800" y="3563640"/>
            <a:ext cx="849024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CF0B6-E0EF-4287-A26E-76201FB6E01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7480" y="24480"/>
            <a:ext cx="8999280" cy="7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41428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12040" y="1168200"/>
            <a:ext cx="41428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61800" y="3563640"/>
            <a:ext cx="41428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12040" y="3563640"/>
            <a:ext cx="41428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A21A7-5341-439B-BAD0-9B785EF1306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480" y="24480"/>
            <a:ext cx="8999280" cy="7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27334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2440" y="1168200"/>
            <a:ext cx="27334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02720" y="1168200"/>
            <a:ext cx="27334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61800" y="3563640"/>
            <a:ext cx="27334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2440" y="3563640"/>
            <a:ext cx="27334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02720" y="3563640"/>
            <a:ext cx="27334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AB091-BDEB-47D9-A788-22163DAFE1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7480" y="24480"/>
            <a:ext cx="8999280" cy="7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849024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7480" y="24480"/>
            <a:ext cx="8999280" cy="7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414288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2040" y="1168200"/>
            <a:ext cx="414288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7480" y="24480"/>
            <a:ext cx="8999280" cy="7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7480" y="123840"/>
            <a:ext cx="8999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7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7480" y="24480"/>
            <a:ext cx="8999280" cy="7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41428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2040" y="1168200"/>
            <a:ext cx="414288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61800" y="3563640"/>
            <a:ext cx="41428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7480" y="24480"/>
            <a:ext cx="8999280" cy="7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414288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2040" y="1168200"/>
            <a:ext cx="41428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12040" y="3563640"/>
            <a:ext cx="41428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7480" y="24480"/>
            <a:ext cx="8999280" cy="7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41428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2040" y="1168200"/>
            <a:ext cx="414288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61800" y="3563640"/>
            <a:ext cx="8490240" cy="2187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6195960" y="833400"/>
          <a:ext cx="2948040" cy="6024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95960" y="833400"/>
                    <a:ext cx="2948040" cy="602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0"/>
            <a:ext cx="9144000" cy="71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Click to edit the title text format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61800" y="1168200"/>
            <a:ext cx="849024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19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1200240" indent="-228600">
              <a:lnSpc>
                <a:spcPct val="87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lnSpc>
                <a:spcPct val="87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lnSpc>
                <a:spcPct val="87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lnSpc>
                <a:spcPct val="87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lnSpc>
                <a:spcPct val="87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" name="logo" descr=""/>
          <p:cNvPicPr/>
          <p:nvPr/>
        </p:nvPicPr>
        <p:blipFill>
          <a:blip r:embed="rId5"/>
          <a:stretch/>
        </p:blipFill>
        <p:spPr>
          <a:xfrm>
            <a:off x="6724800" y="6021360"/>
            <a:ext cx="2217600" cy="6429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716040"/>
            <a:ext cx="914400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33200" y="6682680"/>
            <a:ext cx="238608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Times New Roman"/>
              </a:rPr>
              <a:t>©</a:t>
            </a:r>
            <a:r>
              <a:rPr b="0" lang="en-US" sz="600" spc="-1" strike="noStrike">
                <a:solidFill>
                  <a:srgbClr val="ffffff"/>
                </a:solidFill>
                <a:latin typeface="Arial"/>
              </a:rPr>
              <a:t>1998, 1999 Rational Software Corporation - All rights reserved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05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2521080"/>
            <a:ext cx="5972040" cy="229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0960" y="2603160"/>
            <a:ext cx="55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Narrow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Arial Narrow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5819760" y="-360"/>
            <a:ext cx="3324240" cy="6946920"/>
            <a:chOff x="5819760" y="-360"/>
            <a:chExt cx="3324240" cy="6946920"/>
          </a:xfrm>
        </p:grpSpPr>
        <p:grpSp>
          <p:nvGrpSpPr>
            <p:cNvPr id="47" name=""/>
            <p:cNvGrpSpPr/>
            <p:nvPr/>
          </p:nvGrpSpPr>
          <p:grpSpPr>
            <a:xfrm>
              <a:off x="5819760" y="-360"/>
              <a:ext cx="3324240" cy="6946920"/>
              <a:chOff x="5819760" y="-360"/>
              <a:chExt cx="3324240" cy="6946920"/>
            </a:xfrm>
          </p:grpSpPr>
          <p:sp>
            <p:nvSpPr>
              <p:cNvPr id="48" name=""/>
              <p:cNvSpPr/>
              <p:nvPr/>
            </p:nvSpPr>
            <p:spPr>
              <a:xfrm flipH="1" flipV="1">
                <a:off x="6337440" y="-360"/>
                <a:ext cx="2806560" cy="6946920"/>
              </a:xfrm>
              <a:prstGeom prst="rtTriangl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9" name=""/>
              <p:cNvGrpSpPr/>
              <p:nvPr/>
            </p:nvGrpSpPr>
            <p:grpSpPr>
              <a:xfrm>
                <a:off x="5819760" y="1352520"/>
                <a:ext cx="2806560" cy="4318200"/>
                <a:chOff x="5819760" y="1352520"/>
                <a:chExt cx="2806560" cy="4318200"/>
              </a:xfrm>
            </p:grpSpPr>
            <p:pic>
              <p:nvPicPr>
                <p:cNvPr id="50" name="mountainmain%20copy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819760" y="1352520"/>
                  <a:ext cx="2806560" cy="4318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" name="FINAL%20RUC.Logo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981760" y="1538280"/>
                  <a:ext cx="2492280" cy="39211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52" name=""/>
            <p:cNvSpPr/>
            <p:nvPr/>
          </p:nvSpPr>
          <p:spPr>
            <a:xfrm>
              <a:off x="5975280" y="4095720"/>
              <a:ext cx="0" cy="1422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sldNum" idx="1"/>
          </p:nvPr>
        </p:nvSpPr>
        <p:spPr>
          <a:xfrm>
            <a:off x="201600" y="6049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6699ff"/>
                </a:solidFill>
                <a:latin typeface="Arial Narrow"/>
              </a:defRPr>
            </a:lvl1pPr>
          </a:lstStyle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ff"/>
                </a:solidFill>
                <a:latin typeface="Arial Narrow"/>
              </a:rPr>
              <a:t>Sess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fld id="{28EA7101-DCD1-491A-B619-9654D5CE5DA6}" type="slidenum">
              <a:rPr b="1" lang="en-US" sz="2000" spc="-1" strike="noStrike">
                <a:solidFill>
                  <a:srgbClr val="6699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3200" y="6682680"/>
            <a:ext cx="238608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Times New Roman"/>
              </a:rPr>
              <a:t>©</a:t>
            </a:r>
            <a:r>
              <a:rPr b="0" lang="en-US" sz="600" spc="-1" strike="noStrike">
                <a:solidFill>
                  <a:srgbClr val="ffffff"/>
                </a:solidFill>
                <a:latin typeface="Arial"/>
              </a:rPr>
              <a:t>1998, 1999 Rational Software Corporation - All rights reserved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7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2" marL="914400" indent="57240" algn="ctr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05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0960" y="2603160"/>
            <a:ext cx="55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Narrow"/>
              </a:rPr>
              <a:t>MAINTAINING THE INTEGRITY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Arial Narrow"/>
              </a:rPr>
              <a:t>OF YOUR BRANCHING MODEL</a:t>
            </a:r>
            <a:endParaRPr b="1" lang="en-US" sz="3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33280" y="3758760"/>
            <a:ext cx="5578560" cy="96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7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ke Westerho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7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xington Software Associates, In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9880" y="6234120"/>
            <a:ext cx="19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ff"/>
                </a:solidFill>
                <a:latin typeface="Arial Narrow"/>
              </a:rPr>
              <a:t>Sess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99ff"/>
                </a:solidFill>
                <a:latin typeface="Arial"/>
              </a:rPr>
              <a:t>CCM3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So How Do I Prevent This?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6705720" y="1371600"/>
            <a:ext cx="1877760" cy="28195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457200" y="1219320"/>
            <a:ext cx="6343560" cy="46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540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04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Use wrappers to avoid common err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228600">
              <a:lnSpc>
                <a:spcPct val="87000"/>
              </a:lnSpc>
              <a:spcBef>
                <a:spcPts val="901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Narrow"/>
              </a:rPr>
              <a:t>Config spec writer  (“View Profiles” on N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228600">
              <a:lnSpc>
                <a:spcPct val="87000"/>
              </a:lnSpc>
              <a:spcBef>
                <a:spcPts val="901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Narrow"/>
              </a:rPr>
              <a:t>View management wrapp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7000"/>
              </a:lnSpc>
              <a:spcBef>
                <a:spcPts val="104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7000"/>
              </a:lnSpc>
              <a:spcBef>
                <a:spcPts val="104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Educate us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228600">
              <a:lnSpc>
                <a:spcPct val="87000"/>
              </a:lnSpc>
              <a:spcBef>
                <a:spcPts val="901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Narrow"/>
              </a:rPr>
              <a:t>H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228600">
              <a:lnSpc>
                <a:spcPct val="87000"/>
              </a:lnSpc>
              <a:spcBef>
                <a:spcPts val="901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Narrow"/>
              </a:rPr>
              <a:t>Wh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But Prevention is Difficult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61440" y="1168560"/>
            <a:ext cx="4743720" cy="46987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 fontScale="99000"/>
          </a:bodyPr>
          <a:p>
            <a:pPr marL="452520" indent="-452520">
              <a:lnSpc>
                <a:spcPct val="87000"/>
              </a:lnSpc>
              <a:spcBef>
                <a:spcPts val="104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Requires complex trigger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92000" indent="-226080">
              <a:lnSpc>
                <a:spcPct val="87000"/>
              </a:lnSpc>
              <a:spcBef>
                <a:spcPts val="901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Narrow"/>
              </a:rPr>
              <a:t>Numerous special cases (did you remember ‘rntype’?)</a:t>
            </a:r>
            <a:endParaRPr b="0" lang="en-US" sz="2400" spc="-1" strike="noStrike">
              <a:solidFill>
                <a:srgbClr val="dddddd"/>
              </a:solidFill>
              <a:latin typeface="Arial Narrow"/>
            </a:endParaRPr>
          </a:p>
          <a:p>
            <a:pPr marL="452520" indent="-452520">
              <a:lnSpc>
                <a:spcPct val="87000"/>
              </a:lnSpc>
              <a:spcBef>
                <a:spcPts val="104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an be circumvented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92000" indent="-226080">
              <a:lnSpc>
                <a:spcPct val="87000"/>
              </a:lnSpc>
              <a:spcBef>
                <a:spcPts val="901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Narrow"/>
              </a:rPr>
              <a:t>Can you anticipate </a:t>
            </a:r>
            <a:r>
              <a:rPr b="1" i="1" lang="en-US" sz="2400" spc="-1" strike="noStrike">
                <a:solidFill>
                  <a:srgbClr val="dddddd"/>
                </a:solidFill>
                <a:latin typeface="Arial Narrow"/>
              </a:rPr>
              <a:t>every</a:t>
            </a:r>
            <a:r>
              <a:rPr b="0" lang="en-US" sz="2400" spc="-1" strike="noStrike">
                <a:solidFill>
                  <a:srgbClr val="dddddd"/>
                </a:solidFill>
                <a:latin typeface="Arial Narrow"/>
              </a:rPr>
              <a:t> eventuality?</a:t>
            </a:r>
            <a:endParaRPr b="0" lang="en-US" sz="2400" spc="-1" strike="noStrike">
              <a:solidFill>
                <a:srgbClr val="dddddd"/>
              </a:solidFill>
              <a:latin typeface="Arial Narrow"/>
            </a:endParaRPr>
          </a:p>
          <a:p>
            <a:pPr marL="452520" indent="-452520">
              <a:lnSpc>
                <a:spcPct val="87000"/>
              </a:lnSpc>
              <a:spcBef>
                <a:spcPts val="104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an negatively impact ClearCase performanc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252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2520" indent="-452520">
              <a:lnSpc>
                <a:spcPct val="87000"/>
              </a:lnSpc>
              <a:spcBef>
                <a:spcPts val="104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Result: general feeling that ClearCase “gets in the way”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5257800" y="1168560"/>
            <a:ext cx="3386160" cy="45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A Practical Solution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8490240" cy="27176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Implement triggers to prevent common mistakes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utomate frequently-performed operations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Educate users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 Narrow"/>
              </a:rPr>
              <a:t>And regularly examine your project’s VOBs for branching activity counter to your branch strategy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3429000" y="4038480"/>
            <a:ext cx="2409840" cy="17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Version Tree Checker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581280" y="1143000"/>
            <a:ext cx="4702320" cy="2286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04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UNIX has the fsck utility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04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he NT operating system offers scandisk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04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learCase provides the checkvob utility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447920" y="1066680"/>
            <a:ext cx="1509480" cy="45864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3581280" y="3733920"/>
            <a:ext cx="47023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540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04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o why not implement a utility to examine the consistency of a branching structur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A Long Long Time Ago...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849024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Vtck originated as a means of troubleshooting a large problem-plagued Multisite projec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 “quick-and-dirty” Perl 4 scrip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Has evolved over time (NT support added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nswers questions such as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“</a:t>
            </a: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Are </a:t>
            </a:r>
            <a:r>
              <a:rPr b="0" i="1" lang="en-US" sz="2800" spc="-1" strike="noStrike">
                <a:solidFill>
                  <a:srgbClr val="dddddd"/>
                </a:solidFill>
                <a:latin typeface="Arial Narrow"/>
              </a:rPr>
              <a:t>all</a:t>
            </a: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 instances of that feature branch really based on the proper integration branch?”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“</a:t>
            </a: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Is </a:t>
            </a:r>
            <a:r>
              <a:rPr b="0" i="1" lang="en-US" sz="2800" spc="-1" strike="noStrike">
                <a:solidFill>
                  <a:srgbClr val="dddddd"/>
                </a:solidFill>
                <a:latin typeface="Arial Narrow"/>
              </a:rPr>
              <a:t>every</a:t>
            </a: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 instance of the integration branch sprouting from the version labeled R1.0?”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Current Status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849024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Originally, an internal tool for consultant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ond-generation versio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Perl 5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Separate data collection and data analysis tools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Customization and extendability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Useful for ClearCase admins as well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Download from http://www.lsai.com/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Extend the tool, and share your enhancement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How Does It Work?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849024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Data collector (vtgather)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Reads version trees with lsvtree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Extracts branch, merge, and label information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Optionally, collects attribute values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Saves to an intermediate file for later analysis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</p:txBody>
      </p:sp>
      <p:sp>
        <p:nvSpPr>
          <p:cNvPr id="256" name=""/>
          <p:cNvSpPr/>
          <p:nvPr/>
        </p:nvSpPr>
        <p:spPr>
          <a:xfrm>
            <a:off x="762120" y="4669920"/>
            <a:ext cx="7315200" cy="3373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:\&gt; vtgather.pl -all -dump C:\tmp\flash.vtck Z:\flashvo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How Does It Work?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849024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Data analyzer (vtck)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Reads intermediate file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Runs tests verifying compliance to project branching rules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Prints results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</p:txBody>
      </p:sp>
      <p:sp>
        <p:nvSpPr>
          <p:cNvPr id="259" name=""/>
          <p:cNvSpPr/>
          <p:nvPr/>
        </p:nvSpPr>
        <p:spPr>
          <a:xfrm>
            <a:off x="762120" y="3629160"/>
            <a:ext cx="7543800" cy="20408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:\&gt; vtck.pl -v C:\tmp\flash.vtck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ading gathered information from file ”C:\tmp\flash.vtck”…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rocessing file…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hecking for duplicate branches…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hecking for distant branches…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hecking for mis-parented branches…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hecking for mis-rooted branches…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hecking for incomplete merges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What Tests Does it Perform?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416880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 fontScale="99000"/>
          </a:bodyPr>
          <a:p>
            <a:pPr marL="452520" indent="-452520">
              <a:lnSpc>
                <a:spcPct val="87000"/>
              </a:lnSpc>
              <a:spcBef>
                <a:spcPts val="104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Out-of-the-box, it uses “good” practices: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92000" indent="-226080">
              <a:lnSpc>
                <a:spcPct val="87000"/>
              </a:lnSpc>
              <a:spcBef>
                <a:spcPts val="901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Narrow"/>
              </a:rPr>
              <a:t>Branches must originate from a labeled baseline</a:t>
            </a:r>
            <a:endParaRPr b="0" lang="en-US" sz="2400" spc="-1" strike="noStrike">
              <a:solidFill>
                <a:srgbClr val="dddddd"/>
              </a:solidFill>
              <a:latin typeface="Arial Narrow"/>
            </a:endParaRPr>
          </a:p>
          <a:p>
            <a:pPr lvl="1" marL="792000" indent="-226080">
              <a:lnSpc>
                <a:spcPct val="87000"/>
              </a:lnSpc>
              <a:spcBef>
                <a:spcPts val="901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Narrow"/>
              </a:rPr>
              <a:t>All branch instances must originate from the same parent branch type</a:t>
            </a:r>
            <a:endParaRPr b="0" lang="en-US" sz="2400" spc="-1" strike="noStrike">
              <a:solidFill>
                <a:srgbClr val="dddddd"/>
              </a:solidFill>
              <a:latin typeface="Arial Narrow"/>
            </a:endParaRPr>
          </a:p>
          <a:p>
            <a:pPr lvl="1" marL="792000" indent="-226080">
              <a:lnSpc>
                <a:spcPct val="87000"/>
              </a:lnSpc>
              <a:spcBef>
                <a:spcPts val="901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Narrow"/>
              </a:rPr>
              <a:t>Branches should not be more than 2 levels from the main branch</a:t>
            </a:r>
            <a:endParaRPr b="0" lang="en-US" sz="2400" spc="-1" strike="noStrike">
              <a:solidFill>
                <a:srgbClr val="dddddd"/>
              </a:solidFill>
              <a:latin typeface="Arial Narrow"/>
            </a:endParaRPr>
          </a:p>
          <a:p>
            <a:pPr marL="452520" indent="-452520">
              <a:lnSpc>
                <a:spcPct val="87000"/>
              </a:lnSpc>
              <a:spcBef>
                <a:spcPts val="104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an, and should, be tailored to your needs!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4683240" y="2681280"/>
            <a:ext cx="4168800" cy="15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The Branch Type Reuse Test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416880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04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learCase permits a branch type to be used multiple times in a single version tree!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04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vtck does not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907920" y="4008600"/>
            <a:ext cx="2640240" cy="177156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6386400" y="3045600"/>
            <a:ext cx="952560" cy="285480"/>
          </a:xfrm>
          <a:prstGeom prst="rect">
            <a:avLst/>
          </a:prstGeom>
          <a:solidFill>
            <a:srgbClr val="66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/integ2.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684840" y="3713040"/>
            <a:ext cx="354240" cy="328680"/>
          </a:xfrm>
          <a:prstGeom prst="ellipse">
            <a:avLst/>
          </a:prstGeom>
          <a:solidFill>
            <a:srgbClr val="66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7" idx="0"/>
            <a:endCxn id="266" idx="2"/>
          </p:cNvCxnSpPr>
          <p:nvPr/>
        </p:nvCxnSpPr>
        <p:spPr>
          <a:xfrm flipV="1">
            <a:off x="6862320" y="3349080"/>
            <a:ext cx="1080" cy="35460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269" name=""/>
          <p:cNvSpPr/>
          <p:nvPr/>
        </p:nvSpPr>
        <p:spPr>
          <a:xfrm>
            <a:off x="4952880" y="1456560"/>
            <a:ext cx="952560" cy="285480"/>
          </a:xfrm>
          <a:prstGeom prst="rect">
            <a:avLst/>
          </a:prstGeom>
          <a:solidFill>
            <a:srgbClr val="66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/mai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251320" y="1973160"/>
            <a:ext cx="354240" cy="328680"/>
          </a:xfrm>
          <a:prstGeom prst="ellipse">
            <a:avLst/>
          </a:prstGeom>
          <a:solidFill>
            <a:srgbClr val="66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71" name=""/>
          <p:cNvCxnSpPr>
            <a:stCxn id="270" idx="0"/>
            <a:endCxn id="269" idx="2"/>
          </p:cNvCxnSpPr>
          <p:nvPr/>
        </p:nvCxnSpPr>
        <p:spPr>
          <a:xfrm flipV="1">
            <a:off x="5428800" y="1759680"/>
            <a:ext cx="1080" cy="20412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272" name=""/>
          <p:cNvSpPr/>
          <p:nvPr/>
        </p:nvSpPr>
        <p:spPr>
          <a:xfrm>
            <a:off x="5241960" y="2523960"/>
            <a:ext cx="353880" cy="328680"/>
          </a:xfrm>
          <a:prstGeom prst="ellipse">
            <a:avLst/>
          </a:prstGeom>
          <a:solidFill>
            <a:srgbClr val="66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73" name=""/>
          <p:cNvCxnSpPr>
            <a:stCxn id="272" idx="0"/>
            <a:endCxn id="270" idx="4"/>
          </p:cNvCxnSpPr>
          <p:nvPr/>
        </p:nvCxnSpPr>
        <p:spPr>
          <a:xfrm flipV="1">
            <a:off x="5419800" y="2311200"/>
            <a:ext cx="10080" cy="20376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274" name=""/>
          <p:cNvSpPr/>
          <p:nvPr/>
        </p:nvSpPr>
        <p:spPr>
          <a:xfrm>
            <a:off x="5848920" y="2482200"/>
            <a:ext cx="3772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2.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240160" y="3075120"/>
            <a:ext cx="354240" cy="328320"/>
          </a:xfrm>
          <a:prstGeom prst="ellipse">
            <a:avLst/>
          </a:prstGeom>
          <a:solidFill>
            <a:srgbClr val="66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76" name=""/>
          <p:cNvCxnSpPr>
            <a:stCxn id="275" idx="0"/>
            <a:endCxn id="272" idx="4"/>
          </p:cNvCxnSpPr>
          <p:nvPr/>
        </p:nvCxnSpPr>
        <p:spPr>
          <a:xfrm flipV="1">
            <a:off x="5417640" y="2862000"/>
            <a:ext cx="2520" cy="20376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277" name=""/>
          <p:cNvSpPr/>
          <p:nvPr/>
        </p:nvSpPr>
        <p:spPr>
          <a:xfrm>
            <a:off x="5251320" y="3627360"/>
            <a:ext cx="354240" cy="328680"/>
          </a:xfrm>
          <a:prstGeom prst="ellipse">
            <a:avLst/>
          </a:prstGeom>
          <a:solidFill>
            <a:srgbClr val="66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78" name=""/>
          <p:cNvCxnSpPr>
            <a:stCxn id="277" idx="0"/>
            <a:endCxn id="275" idx="4"/>
          </p:cNvCxnSpPr>
          <p:nvPr/>
        </p:nvCxnSpPr>
        <p:spPr>
          <a:xfrm flipH="1" flipV="1">
            <a:off x="5417280" y="3412440"/>
            <a:ext cx="11880" cy="20556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279" name=""/>
          <p:cNvCxnSpPr>
            <a:stCxn id="272" idx="6"/>
            <a:endCxn id="266" idx="0"/>
          </p:cNvCxnSpPr>
          <p:nvPr/>
        </p:nvCxnSpPr>
        <p:spPr>
          <a:xfrm>
            <a:off x="5605560" y="2688840"/>
            <a:ext cx="1257840" cy="33876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280" name=""/>
          <p:cNvSpPr/>
          <p:nvPr/>
        </p:nvSpPr>
        <p:spPr>
          <a:xfrm>
            <a:off x="7667640" y="4338000"/>
            <a:ext cx="952560" cy="285480"/>
          </a:xfrm>
          <a:prstGeom prst="rect">
            <a:avLst/>
          </a:prstGeom>
          <a:solidFill>
            <a:srgbClr val="ff505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/fix2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966080" y="5005440"/>
            <a:ext cx="353880" cy="328680"/>
          </a:xfrm>
          <a:prstGeom prst="ellipse">
            <a:avLst/>
          </a:prstGeom>
          <a:solidFill>
            <a:srgbClr val="ff505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82" name=""/>
          <p:cNvCxnSpPr>
            <a:stCxn id="281" idx="0"/>
            <a:endCxn id="280" idx="2"/>
          </p:cNvCxnSpPr>
          <p:nvPr/>
        </p:nvCxnSpPr>
        <p:spPr>
          <a:xfrm flipV="1">
            <a:off x="8143560" y="4641120"/>
            <a:ext cx="1080" cy="35460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283" name=""/>
          <p:cNvCxnSpPr>
            <a:stCxn id="267" idx="6"/>
            <a:endCxn id="280" idx="0"/>
          </p:cNvCxnSpPr>
          <p:nvPr/>
        </p:nvCxnSpPr>
        <p:spPr>
          <a:xfrm>
            <a:off x="7048080" y="3878280"/>
            <a:ext cx="1096200" cy="44208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284" name=""/>
          <p:cNvSpPr/>
          <p:nvPr/>
        </p:nvSpPr>
        <p:spPr>
          <a:xfrm flipH="1">
            <a:off x="3670200" y="3491640"/>
            <a:ext cx="952560" cy="285480"/>
          </a:xfrm>
          <a:prstGeom prst="rect">
            <a:avLst/>
          </a:prstGeom>
          <a:solidFill>
            <a:srgbClr val="ff505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/fix2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3968640" y="4159080"/>
            <a:ext cx="354240" cy="328680"/>
          </a:xfrm>
          <a:prstGeom prst="ellipse">
            <a:avLst/>
          </a:prstGeom>
          <a:solidFill>
            <a:srgbClr val="ff505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86" name=""/>
          <p:cNvCxnSpPr>
            <a:stCxn id="285" idx="0"/>
            <a:endCxn id="284" idx="2"/>
          </p:cNvCxnSpPr>
          <p:nvPr/>
        </p:nvCxnSpPr>
        <p:spPr>
          <a:xfrm flipV="1">
            <a:off x="4146120" y="3793680"/>
            <a:ext cx="1080" cy="35640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287" name=""/>
          <p:cNvCxnSpPr>
            <a:stCxn id="272" idx="2"/>
            <a:endCxn id="284" idx="0"/>
          </p:cNvCxnSpPr>
          <p:nvPr/>
        </p:nvCxnSpPr>
        <p:spPr>
          <a:xfrm flipH="1">
            <a:off x="4146120" y="2689200"/>
            <a:ext cx="1086480" cy="78480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Branching Integrity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195640" y="2502000"/>
            <a:ext cx="4986360" cy="34988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849024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457200" indent="0">
              <a:lnSpc>
                <a:spcPct val="87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Maintaining the integrity of your project’s branching structure is central to a stable, predictable, and functional ClearCase development environment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The Branch Type Reuse Test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289" name=""/>
          <p:cNvSpPr/>
          <p:nvPr/>
        </p:nvSpPr>
        <p:spPr>
          <a:xfrm>
            <a:off x="838080" y="1303200"/>
            <a:ext cx="7696440" cy="4057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hecking for duplicate branches…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ERROR: Multiple instances of a branch type on a single elemen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branch type: "fix23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element: "M:/fred_v/flash/linklist.h@@”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ERROR: Multiple instances of a branch type on a single elemen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branch type: "dev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element: "M:/fred_v/flash/readme.txt@@”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2 duplicate branches foun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The Mis-Parented Branch Test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61440" y="1168200"/>
            <a:ext cx="381636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04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his problem is often the result of confusion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04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vtck can be tweaked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901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Narrow"/>
              </a:rPr>
              <a:t>Error or warning</a:t>
            </a:r>
            <a:endParaRPr b="0" lang="en-US" sz="24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901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Narrow"/>
              </a:rPr>
              <a:t>Restrict by branch type</a:t>
            </a:r>
            <a:endParaRPr b="0" lang="en-US" sz="24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901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Narrow"/>
              </a:rPr>
              <a:t>Restrict by branch depth</a:t>
            </a:r>
            <a:endParaRPr b="0" lang="en-US" sz="2400" spc="-1" strike="noStrike">
              <a:solidFill>
                <a:srgbClr val="dddddd"/>
              </a:solidFill>
              <a:latin typeface="Arial Narrow"/>
            </a:endParaRPr>
          </a:p>
        </p:txBody>
      </p:sp>
      <p:sp>
        <p:nvSpPr>
          <p:cNvPr id="292" name=""/>
          <p:cNvSpPr/>
          <p:nvPr/>
        </p:nvSpPr>
        <p:spPr>
          <a:xfrm>
            <a:off x="5935680" y="2062800"/>
            <a:ext cx="952560" cy="285480"/>
          </a:xfrm>
          <a:prstGeom prst="rect">
            <a:avLst/>
          </a:prstGeom>
          <a:solidFill>
            <a:srgbClr val="66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/integ2.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248520" y="2590920"/>
            <a:ext cx="353880" cy="328320"/>
          </a:xfrm>
          <a:prstGeom prst="ellipse">
            <a:avLst/>
          </a:prstGeom>
          <a:solidFill>
            <a:srgbClr val="66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94" name=""/>
          <p:cNvCxnSpPr>
            <a:stCxn id="293" idx="0"/>
            <a:endCxn id="292" idx="2"/>
          </p:cNvCxnSpPr>
          <p:nvPr/>
        </p:nvCxnSpPr>
        <p:spPr>
          <a:xfrm flipH="1" flipV="1">
            <a:off x="6411600" y="2366280"/>
            <a:ext cx="15120" cy="21492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295" name=""/>
          <p:cNvSpPr/>
          <p:nvPr/>
        </p:nvSpPr>
        <p:spPr>
          <a:xfrm>
            <a:off x="4502160" y="930960"/>
            <a:ext cx="952560" cy="285480"/>
          </a:xfrm>
          <a:prstGeom prst="rect">
            <a:avLst/>
          </a:prstGeom>
          <a:solidFill>
            <a:srgbClr val="66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/mai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800600" y="1676520"/>
            <a:ext cx="353880" cy="328320"/>
          </a:xfrm>
          <a:prstGeom prst="ellipse">
            <a:avLst/>
          </a:prstGeom>
          <a:solidFill>
            <a:srgbClr val="66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97" name=""/>
          <p:cNvCxnSpPr>
            <a:stCxn id="296" idx="0"/>
            <a:endCxn id="295" idx="2"/>
          </p:cNvCxnSpPr>
          <p:nvPr/>
        </p:nvCxnSpPr>
        <p:spPr>
          <a:xfrm flipV="1">
            <a:off x="4978080" y="1234440"/>
            <a:ext cx="1080" cy="43236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298" name=""/>
          <p:cNvSpPr/>
          <p:nvPr/>
        </p:nvSpPr>
        <p:spPr>
          <a:xfrm>
            <a:off x="4800600" y="2768760"/>
            <a:ext cx="353880" cy="328320"/>
          </a:xfrm>
          <a:prstGeom prst="ellipse">
            <a:avLst/>
          </a:prstGeom>
          <a:solidFill>
            <a:srgbClr val="66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99" name=""/>
          <p:cNvCxnSpPr>
            <a:stCxn id="298" idx="0"/>
            <a:endCxn id="296" idx="4"/>
          </p:cNvCxnSpPr>
          <p:nvPr/>
        </p:nvCxnSpPr>
        <p:spPr>
          <a:xfrm flipV="1">
            <a:off x="4978080" y="2014200"/>
            <a:ext cx="1080" cy="74520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300" name=""/>
          <p:cNvSpPr/>
          <p:nvPr/>
        </p:nvSpPr>
        <p:spPr>
          <a:xfrm>
            <a:off x="5257800" y="1427760"/>
            <a:ext cx="37476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2.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800600" y="3860640"/>
            <a:ext cx="353880" cy="328680"/>
          </a:xfrm>
          <a:prstGeom prst="ellipse">
            <a:avLst/>
          </a:prstGeom>
          <a:solidFill>
            <a:srgbClr val="66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02" name=""/>
          <p:cNvCxnSpPr>
            <a:stCxn id="301" idx="0"/>
            <a:endCxn id="298" idx="4"/>
          </p:cNvCxnSpPr>
          <p:nvPr/>
        </p:nvCxnSpPr>
        <p:spPr>
          <a:xfrm flipV="1">
            <a:off x="4978080" y="3106440"/>
            <a:ext cx="1080" cy="74520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303" name=""/>
          <p:cNvSpPr/>
          <p:nvPr/>
        </p:nvSpPr>
        <p:spPr>
          <a:xfrm>
            <a:off x="4800600" y="4952880"/>
            <a:ext cx="353880" cy="328680"/>
          </a:xfrm>
          <a:prstGeom prst="ellipse">
            <a:avLst/>
          </a:prstGeom>
          <a:solidFill>
            <a:srgbClr val="66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04" name=""/>
          <p:cNvCxnSpPr>
            <a:stCxn id="303" idx="0"/>
            <a:endCxn id="301" idx="4"/>
          </p:cNvCxnSpPr>
          <p:nvPr/>
        </p:nvCxnSpPr>
        <p:spPr>
          <a:xfrm flipV="1">
            <a:off x="4978080" y="4198680"/>
            <a:ext cx="1080" cy="74520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305" name=""/>
          <p:cNvCxnSpPr>
            <a:stCxn id="296" idx="6"/>
            <a:endCxn id="292" idx="0"/>
          </p:cNvCxnSpPr>
          <p:nvPr/>
        </p:nvCxnSpPr>
        <p:spPr>
          <a:xfrm>
            <a:off x="5164200" y="1841040"/>
            <a:ext cx="1248480" cy="20412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7086600" y="3133080"/>
            <a:ext cx="952560" cy="285480"/>
          </a:xfrm>
          <a:prstGeom prst="rect">
            <a:avLst/>
          </a:prstGeom>
          <a:solidFill>
            <a:srgbClr val="66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/fix1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391520" y="3657600"/>
            <a:ext cx="353880" cy="328680"/>
          </a:xfrm>
          <a:prstGeom prst="ellipse">
            <a:avLst/>
          </a:prstGeom>
          <a:solidFill>
            <a:srgbClr val="66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08" name=""/>
          <p:cNvCxnSpPr>
            <a:stCxn id="307" idx="0"/>
            <a:endCxn id="306" idx="2"/>
          </p:cNvCxnSpPr>
          <p:nvPr/>
        </p:nvCxnSpPr>
        <p:spPr>
          <a:xfrm flipH="1" flipV="1">
            <a:off x="7562520" y="3436200"/>
            <a:ext cx="7200" cy="21204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309" name=""/>
          <p:cNvCxnSpPr>
            <a:stCxn id="293" idx="6"/>
            <a:endCxn id="306" idx="0"/>
          </p:cNvCxnSpPr>
          <p:nvPr/>
        </p:nvCxnSpPr>
        <p:spPr>
          <a:xfrm>
            <a:off x="6611760" y="2755440"/>
            <a:ext cx="951840" cy="35964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310" name=""/>
          <p:cNvSpPr/>
          <p:nvPr/>
        </p:nvSpPr>
        <p:spPr>
          <a:xfrm>
            <a:off x="7162920" y="4276080"/>
            <a:ext cx="952560" cy="285480"/>
          </a:xfrm>
          <a:prstGeom prst="rect">
            <a:avLst/>
          </a:prstGeom>
          <a:solidFill>
            <a:srgbClr val="66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/fix2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467480" y="4800600"/>
            <a:ext cx="354240" cy="328680"/>
          </a:xfrm>
          <a:prstGeom prst="ellipse">
            <a:avLst/>
          </a:prstGeom>
          <a:solidFill>
            <a:srgbClr val="66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12" name=""/>
          <p:cNvCxnSpPr>
            <a:stCxn id="311" idx="0"/>
            <a:endCxn id="310" idx="2"/>
          </p:cNvCxnSpPr>
          <p:nvPr/>
        </p:nvCxnSpPr>
        <p:spPr>
          <a:xfrm flipH="1" flipV="1">
            <a:off x="7638480" y="4579200"/>
            <a:ext cx="6840" cy="21204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313" name=""/>
          <p:cNvSpPr/>
          <p:nvPr/>
        </p:nvSpPr>
        <p:spPr>
          <a:xfrm>
            <a:off x="5486400" y="4580640"/>
            <a:ext cx="952560" cy="285480"/>
          </a:xfrm>
          <a:prstGeom prst="rect">
            <a:avLst/>
          </a:prstGeom>
          <a:solidFill>
            <a:srgbClr val="ff505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/fix2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791320" y="5105520"/>
            <a:ext cx="353880" cy="328320"/>
          </a:xfrm>
          <a:prstGeom prst="ellipse">
            <a:avLst/>
          </a:prstGeom>
          <a:solidFill>
            <a:srgbClr val="ff505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14" idx="0"/>
            <a:endCxn id="313" idx="2"/>
          </p:cNvCxnSpPr>
          <p:nvPr/>
        </p:nvCxnSpPr>
        <p:spPr>
          <a:xfrm flipH="1" flipV="1">
            <a:off x="5962320" y="4884480"/>
            <a:ext cx="7200" cy="21168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316" name=""/>
          <p:cNvSpPr/>
          <p:nvPr/>
        </p:nvSpPr>
        <p:spPr>
          <a:xfrm>
            <a:off x="6248520" y="3657600"/>
            <a:ext cx="353880" cy="328680"/>
          </a:xfrm>
          <a:prstGeom prst="ellipse">
            <a:avLst/>
          </a:prstGeom>
          <a:solidFill>
            <a:srgbClr val="66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17" name=""/>
          <p:cNvCxnSpPr>
            <a:stCxn id="316" idx="0"/>
            <a:endCxn id="293" idx="4"/>
          </p:cNvCxnSpPr>
          <p:nvPr/>
        </p:nvCxnSpPr>
        <p:spPr>
          <a:xfrm flipV="1">
            <a:off x="6426000" y="2928600"/>
            <a:ext cx="1080" cy="72000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318" name=""/>
          <p:cNvCxnSpPr>
            <a:stCxn id="316" idx="6"/>
            <a:endCxn id="310" idx="0"/>
          </p:cNvCxnSpPr>
          <p:nvPr/>
        </p:nvCxnSpPr>
        <p:spPr>
          <a:xfrm>
            <a:off x="6611760" y="3822840"/>
            <a:ext cx="1028160" cy="43560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319" name=""/>
          <p:cNvCxnSpPr>
            <a:stCxn id="301" idx="6"/>
            <a:endCxn id="313" idx="0"/>
          </p:cNvCxnSpPr>
          <p:nvPr/>
        </p:nvCxnSpPr>
        <p:spPr>
          <a:xfrm>
            <a:off x="5164200" y="4025520"/>
            <a:ext cx="799200" cy="53748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The Mis-Parented Branch Test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21" name=""/>
          <p:cNvSpPr/>
          <p:nvPr/>
        </p:nvSpPr>
        <p:spPr>
          <a:xfrm>
            <a:off x="838080" y="1608120"/>
            <a:ext cx="7696440" cy="34480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hecking for mis-parented branches…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ERROR: Incorrect parent branch (should be int1.2, is int1.1)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branch: M:/fredv/flash/io.h@@/main/int1.1/dev5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ERROR: Incorrect parent branch (should be int1.0, is mai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branch: M:/fredv/flash/retest.c@@/main/fix23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2 mis-parented branches foun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The Branch Depth Test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5400" y="1063800"/>
            <a:ext cx="3935160" cy="484488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04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omewhat arbitrary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04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Intended to identify risk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04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Always a warning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04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vtck can be tweaked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901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Narrow"/>
              </a:rPr>
              <a:t>Depth</a:t>
            </a:r>
            <a:endParaRPr b="0" lang="en-US" sz="24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901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Narrow"/>
              </a:rPr>
              <a:t>Restrict by branch type</a:t>
            </a:r>
            <a:endParaRPr b="0" lang="en-US" sz="2400" spc="-1" strike="noStrike">
              <a:solidFill>
                <a:srgbClr val="dddddd"/>
              </a:solidFill>
              <a:latin typeface="Arial Narrow"/>
            </a:endParaRPr>
          </a:p>
        </p:txBody>
      </p:sp>
      <p:sp>
        <p:nvSpPr>
          <p:cNvPr id="324" name=""/>
          <p:cNvSpPr/>
          <p:nvPr/>
        </p:nvSpPr>
        <p:spPr>
          <a:xfrm>
            <a:off x="4191120" y="1075680"/>
            <a:ext cx="952560" cy="285480"/>
          </a:xfrm>
          <a:prstGeom prst="rect">
            <a:avLst/>
          </a:prstGeom>
          <a:solidFill>
            <a:srgbClr val="66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/fix3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495680" y="1676520"/>
            <a:ext cx="354240" cy="328320"/>
          </a:xfrm>
          <a:prstGeom prst="ellipse">
            <a:avLst/>
          </a:prstGeom>
          <a:solidFill>
            <a:srgbClr val="66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26" name=""/>
          <p:cNvCxnSpPr>
            <a:stCxn id="325" idx="0"/>
            <a:endCxn id="324" idx="2"/>
          </p:cNvCxnSpPr>
          <p:nvPr/>
        </p:nvCxnSpPr>
        <p:spPr>
          <a:xfrm flipH="1" flipV="1">
            <a:off x="4666680" y="1379160"/>
            <a:ext cx="6840" cy="28800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327" name=""/>
          <p:cNvSpPr/>
          <p:nvPr/>
        </p:nvSpPr>
        <p:spPr>
          <a:xfrm>
            <a:off x="4495680" y="2362320"/>
            <a:ext cx="354240" cy="328320"/>
          </a:xfrm>
          <a:prstGeom prst="ellipse">
            <a:avLst/>
          </a:prstGeom>
          <a:solidFill>
            <a:srgbClr val="66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7" idx="0"/>
            <a:endCxn id="325" idx="4"/>
          </p:cNvCxnSpPr>
          <p:nvPr/>
        </p:nvCxnSpPr>
        <p:spPr>
          <a:xfrm flipV="1">
            <a:off x="4673160" y="2013840"/>
            <a:ext cx="1080" cy="33876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329" name=""/>
          <p:cNvCxnSpPr>
            <a:stCxn id="325" idx="6"/>
            <a:endCxn id="330" idx="0"/>
          </p:cNvCxnSpPr>
          <p:nvPr/>
        </p:nvCxnSpPr>
        <p:spPr>
          <a:xfrm>
            <a:off x="4858920" y="1841400"/>
            <a:ext cx="646920" cy="20736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330" name=""/>
          <p:cNvSpPr/>
          <p:nvPr/>
        </p:nvSpPr>
        <p:spPr>
          <a:xfrm>
            <a:off x="5029200" y="2066040"/>
            <a:ext cx="952560" cy="285480"/>
          </a:xfrm>
          <a:prstGeom prst="rect">
            <a:avLst/>
          </a:prstGeom>
          <a:solidFill>
            <a:srgbClr val="ff505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/chicag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334120" y="2666880"/>
            <a:ext cx="353880" cy="328680"/>
          </a:xfrm>
          <a:prstGeom prst="ellipse">
            <a:avLst/>
          </a:prstGeom>
          <a:solidFill>
            <a:srgbClr val="ff505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32" name=""/>
          <p:cNvCxnSpPr>
            <a:stCxn id="331" idx="0"/>
            <a:endCxn id="330" idx="2"/>
          </p:cNvCxnSpPr>
          <p:nvPr/>
        </p:nvCxnSpPr>
        <p:spPr>
          <a:xfrm flipH="1" flipV="1">
            <a:off x="5505120" y="2369880"/>
            <a:ext cx="7200" cy="28800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333" name=""/>
          <p:cNvSpPr/>
          <p:nvPr/>
        </p:nvSpPr>
        <p:spPr>
          <a:xfrm>
            <a:off x="5334120" y="3352680"/>
            <a:ext cx="353880" cy="328680"/>
          </a:xfrm>
          <a:prstGeom prst="ellipse">
            <a:avLst/>
          </a:prstGeom>
          <a:solidFill>
            <a:srgbClr val="ff505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34" name=""/>
          <p:cNvCxnSpPr>
            <a:stCxn id="333" idx="0"/>
            <a:endCxn id="331" idx="4"/>
          </p:cNvCxnSpPr>
          <p:nvPr/>
        </p:nvCxnSpPr>
        <p:spPr>
          <a:xfrm flipV="1">
            <a:off x="5511600" y="3004560"/>
            <a:ext cx="1080" cy="33876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335" name=""/>
          <p:cNvSpPr/>
          <p:nvPr/>
        </p:nvSpPr>
        <p:spPr>
          <a:xfrm>
            <a:off x="5791320" y="3056760"/>
            <a:ext cx="952560" cy="285480"/>
          </a:xfrm>
          <a:prstGeom prst="rect">
            <a:avLst/>
          </a:prstGeom>
          <a:solidFill>
            <a:srgbClr val="ff505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/fr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3657600"/>
            <a:ext cx="354240" cy="328680"/>
          </a:xfrm>
          <a:prstGeom prst="ellipse">
            <a:avLst/>
          </a:prstGeom>
          <a:solidFill>
            <a:srgbClr val="ff505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stCxn id="336" idx="0"/>
            <a:endCxn id="335" idx="2"/>
          </p:cNvCxnSpPr>
          <p:nvPr/>
        </p:nvCxnSpPr>
        <p:spPr>
          <a:xfrm flipH="1" flipV="1">
            <a:off x="6266880" y="3359880"/>
            <a:ext cx="6840" cy="28836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338" name=""/>
          <p:cNvSpPr/>
          <p:nvPr/>
        </p:nvSpPr>
        <p:spPr>
          <a:xfrm>
            <a:off x="6095880" y="4343400"/>
            <a:ext cx="354240" cy="328680"/>
          </a:xfrm>
          <a:prstGeom prst="ellipse">
            <a:avLst/>
          </a:prstGeom>
          <a:solidFill>
            <a:srgbClr val="ff505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39" name=""/>
          <p:cNvCxnSpPr>
            <a:stCxn id="338" idx="0"/>
            <a:endCxn id="336" idx="4"/>
          </p:cNvCxnSpPr>
          <p:nvPr/>
        </p:nvCxnSpPr>
        <p:spPr>
          <a:xfrm flipV="1">
            <a:off x="6273360" y="3995280"/>
            <a:ext cx="1080" cy="33912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340" name=""/>
          <p:cNvSpPr/>
          <p:nvPr/>
        </p:nvSpPr>
        <p:spPr>
          <a:xfrm>
            <a:off x="6705720" y="4047480"/>
            <a:ext cx="952560" cy="285480"/>
          </a:xfrm>
          <a:prstGeom prst="rect">
            <a:avLst/>
          </a:prstGeom>
          <a:solidFill>
            <a:srgbClr val="ff505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/test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010280" y="4648320"/>
            <a:ext cx="354240" cy="328320"/>
          </a:xfrm>
          <a:prstGeom prst="ellipse">
            <a:avLst/>
          </a:prstGeom>
          <a:solidFill>
            <a:srgbClr val="ff505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42" name=""/>
          <p:cNvCxnSpPr>
            <a:stCxn id="341" idx="0"/>
            <a:endCxn id="340" idx="2"/>
          </p:cNvCxnSpPr>
          <p:nvPr/>
        </p:nvCxnSpPr>
        <p:spPr>
          <a:xfrm flipH="1" flipV="1">
            <a:off x="7181280" y="4350960"/>
            <a:ext cx="6840" cy="28800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343" name=""/>
          <p:cNvSpPr/>
          <p:nvPr/>
        </p:nvSpPr>
        <p:spPr>
          <a:xfrm>
            <a:off x="7010280" y="5334120"/>
            <a:ext cx="354240" cy="328320"/>
          </a:xfrm>
          <a:prstGeom prst="ellipse">
            <a:avLst/>
          </a:prstGeom>
          <a:solidFill>
            <a:srgbClr val="ff505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44" name=""/>
          <p:cNvCxnSpPr>
            <a:stCxn id="343" idx="0"/>
            <a:endCxn id="341" idx="4"/>
          </p:cNvCxnSpPr>
          <p:nvPr/>
        </p:nvCxnSpPr>
        <p:spPr>
          <a:xfrm flipV="1">
            <a:off x="7187760" y="4985640"/>
            <a:ext cx="1080" cy="33876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345" name=""/>
          <p:cNvSpPr/>
          <p:nvPr/>
        </p:nvSpPr>
        <p:spPr>
          <a:xfrm>
            <a:off x="7543800" y="5114160"/>
            <a:ext cx="952560" cy="285480"/>
          </a:xfrm>
          <a:prstGeom prst="rect">
            <a:avLst/>
          </a:prstGeom>
          <a:solidFill>
            <a:srgbClr val="ff505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/linkli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848720" y="5638680"/>
            <a:ext cx="353880" cy="328680"/>
          </a:xfrm>
          <a:prstGeom prst="ellipse">
            <a:avLst/>
          </a:prstGeom>
          <a:solidFill>
            <a:srgbClr val="ff505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47" name=""/>
          <p:cNvCxnSpPr>
            <a:stCxn id="346" idx="0"/>
            <a:endCxn id="345" idx="2"/>
          </p:cNvCxnSpPr>
          <p:nvPr/>
        </p:nvCxnSpPr>
        <p:spPr>
          <a:xfrm flipH="1" flipV="1">
            <a:off x="8019720" y="5417280"/>
            <a:ext cx="7200" cy="21204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348" name=""/>
          <p:cNvCxnSpPr>
            <a:stCxn id="331" idx="6"/>
            <a:endCxn id="335" idx="0"/>
          </p:cNvCxnSpPr>
          <p:nvPr/>
        </p:nvCxnSpPr>
        <p:spPr>
          <a:xfrm>
            <a:off x="5697360" y="2831760"/>
            <a:ext cx="570960" cy="20700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349" name=""/>
          <p:cNvCxnSpPr>
            <a:stCxn id="336" idx="6"/>
            <a:endCxn id="340" idx="0"/>
          </p:cNvCxnSpPr>
          <p:nvPr/>
        </p:nvCxnSpPr>
        <p:spPr>
          <a:xfrm>
            <a:off x="6459120" y="3822480"/>
            <a:ext cx="723240" cy="20700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350" name=""/>
          <p:cNvCxnSpPr>
            <a:stCxn id="341" idx="6"/>
            <a:endCxn id="345" idx="0"/>
          </p:cNvCxnSpPr>
          <p:nvPr/>
        </p:nvCxnSpPr>
        <p:spPr>
          <a:xfrm>
            <a:off x="7373520" y="4812840"/>
            <a:ext cx="646920" cy="28332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351" name=""/>
          <p:cNvCxnSpPr>
            <a:endCxn id="324" idx="0"/>
          </p:cNvCxnSpPr>
          <p:nvPr/>
        </p:nvCxnSpPr>
        <p:spPr>
          <a:xfrm>
            <a:off x="4267080" y="837720"/>
            <a:ext cx="401040" cy="21996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The Branch Depth Test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53" name=""/>
          <p:cNvSpPr/>
          <p:nvPr/>
        </p:nvSpPr>
        <p:spPr>
          <a:xfrm>
            <a:off x="838080" y="1455480"/>
            <a:ext cx="7696440" cy="37530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hecking for distant branches…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WARNING: Branch is too far (4 levels) from the mainline: m_integ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WARNING: Branch is too far (5 levels) from the mainline: mf2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WARNING: Branch is too far (3 levels) from the mainline: tmp_7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3 distant branch types foun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The Unlabeled Branch Point Test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61440" y="1168200"/>
            <a:ext cx="466740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04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his problem is often caused by branching from LATES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04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Not always a problem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04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vtck can be tweaked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901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Narrow"/>
              </a:rPr>
              <a:t>Error or warning</a:t>
            </a:r>
            <a:endParaRPr b="0" lang="en-US" sz="24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901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Narrow"/>
              </a:rPr>
              <a:t>Restrict by branch or depth</a:t>
            </a:r>
            <a:endParaRPr b="0" lang="en-US" sz="24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901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Narrow"/>
              </a:rPr>
              <a:t>Test for appropriate label</a:t>
            </a:r>
            <a:endParaRPr b="0" lang="en-US" sz="2400" spc="-1" strike="noStrike">
              <a:solidFill>
                <a:srgbClr val="dddddd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04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Exception: unlabeled version 0 is fine (mkelem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6" name=""/>
          <p:cNvSpPr/>
          <p:nvPr/>
        </p:nvSpPr>
        <p:spPr>
          <a:xfrm>
            <a:off x="6629400" y="2523240"/>
            <a:ext cx="952560" cy="285480"/>
          </a:xfrm>
          <a:prstGeom prst="rect">
            <a:avLst/>
          </a:prstGeom>
          <a:solidFill>
            <a:srgbClr val="66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/integ2.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942240" y="3051000"/>
            <a:ext cx="353880" cy="328680"/>
          </a:xfrm>
          <a:prstGeom prst="ellipse">
            <a:avLst/>
          </a:prstGeom>
          <a:solidFill>
            <a:srgbClr val="66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7" idx="0"/>
            <a:endCxn id="356" idx="2"/>
          </p:cNvCxnSpPr>
          <p:nvPr/>
        </p:nvCxnSpPr>
        <p:spPr>
          <a:xfrm flipH="1" flipV="1">
            <a:off x="7105320" y="2826720"/>
            <a:ext cx="15120" cy="21492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359" name=""/>
          <p:cNvSpPr/>
          <p:nvPr/>
        </p:nvSpPr>
        <p:spPr>
          <a:xfrm>
            <a:off x="5181480" y="999360"/>
            <a:ext cx="952560" cy="285480"/>
          </a:xfrm>
          <a:prstGeom prst="rect">
            <a:avLst/>
          </a:prstGeom>
          <a:solidFill>
            <a:srgbClr val="66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/mai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479920" y="1744560"/>
            <a:ext cx="354240" cy="328680"/>
          </a:xfrm>
          <a:prstGeom prst="ellipse">
            <a:avLst/>
          </a:prstGeom>
          <a:solidFill>
            <a:srgbClr val="66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61" name=""/>
          <p:cNvCxnSpPr>
            <a:stCxn id="360" idx="0"/>
            <a:endCxn id="359" idx="2"/>
          </p:cNvCxnSpPr>
          <p:nvPr/>
        </p:nvCxnSpPr>
        <p:spPr>
          <a:xfrm flipV="1">
            <a:off x="5657400" y="1302840"/>
            <a:ext cx="1080" cy="43272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362" name=""/>
          <p:cNvSpPr/>
          <p:nvPr/>
        </p:nvSpPr>
        <p:spPr>
          <a:xfrm>
            <a:off x="5479920" y="2836800"/>
            <a:ext cx="354240" cy="328680"/>
          </a:xfrm>
          <a:prstGeom prst="ellipse">
            <a:avLst/>
          </a:prstGeom>
          <a:solidFill>
            <a:srgbClr val="66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63" name=""/>
          <p:cNvCxnSpPr>
            <a:stCxn id="362" idx="0"/>
            <a:endCxn id="360" idx="4"/>
          </p:cNvCxnSpPr>
          <p:nvPr/>
        </p:nvCxnSpPr>
        <p:spPr>
          <a:xfrm flipV="1">
            <a:off x="5657400" y="2082600"/>
            <a:ext cx="1080" cy="74520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364" name=""/>
          <p:cNvSpPr/>
          <p:nvPr/>
        </p:nvSpPr>
        <p:spPr>
          <a:xfrm>
            <a:off x="5867280" y="1524600"/>
            <a:ext cx="7686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R2.0</a:t>
            </a:r>
            <a:br>
              <a:rPr sz="1600"/>
            </a:b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R3.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479920" y="3929040"/>
            <a:ext cx="354240" cy="328680"/>
          </a:xfrm>
          <a:prstGeom prst="ellipse">
            <a:avLst/>
          </a:prstGeom>
          <a:solidFill>
            <a:srgbClr val="66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66" name=""/>
          <p:cNvCxnSpPr>
            <a:stCxn id="365" idx="0"/>
            <a:endCxn id="362" idx="4"/>
          </p:cNvCxnSpPr>
          <p:nvPr/>
        </p:nvCxnSpPr>
        <p:spPr>
          <a:xfrm flipV="1">
            <a:off x="5657400" y="3174120"/>
            <a:ext cx="1080" cy="74556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367" name=""/>
          <p:cNvCxnSpPr>
            <a:stCxn id="360" idx="6"/>
            <a:endCxn id="356" idx="0"/>
          </p:cNvCxnSpPr>
          <p:nvPr/>
        </p:nvCxnSpPr>
        <p:spPr>
          <a:xfrm>
            <a:off x="5843520" y="1909800"/>
            <a:ext cx="1262880" cy="59616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368" name=""/>
          <p:cNvSpPr/>
          <p:nvPr/>
        </p:nvSpPr>
        <p:spPr>
          <a:xfrm>
            <a:off x="6629400" y="4733280"/>
            <a:ext cx="952560" cy="285480"/>
          </a:xfrm>
          <a:prstGeom prst="rect">
            <a:avLst/>
          </a:prstGeom>
          <a:solidFill>
            <a:srgbClr val="ff505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/integ3.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934320" y="5257800"/>
            <a:ext cx="353880" cy="328680"/>
          </a:xfrm>
          <a:prstGeom prst="ellipse">
            <a:avLst/>
          </a:prstGeom>
          <a:solidFill>
            <a:srgbClr val="ff505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0" name=""/>
          <p:cNvCxnSpPr>
            <a:stCxn id="369" idx="0"/>
            <a:endCxn id="368" idx="2"/>
          </p:cNvCxnSpPr>
          <p:nvPr/>
        </p:nvCxnSpPr>
        <p:spPr>
          <a:xfrm flipH="1" flipV="1">
            <a:off x="7105320" y="5036400"/>
            <a:ext cx="7200" cy="21204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371" name=""/>
          <p:cNvCxnSpPr>
            <a:stCxn id="365" idx="6"/>
            <a:endCxn id="368" idx="0"/>
          </p:cNvCxnSpPr>
          <p:nvPr/>
        </p:nvCxnSpPr>
        <p:spPr>
          <a:xfrm>
            <a:off x="5843520" y="4094280"/>
            <a:ext cx="1262880" cy="62100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The Unlabeled Branch Point Test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73" name=""/>
          <p:cNvSpPr/>
          <p:nvPr/>
        </p:nvSpPr>
        <p:spPr>
          <a:xfrm>
            <a:off x="838080" y="998280"/>
            <a:ext cx="7696440" cy="46677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hecking for mis-rooted branches…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ERROR: Mis-rooted branch (should be on version labeled R2.0)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branch: M:/fredv/flash/list.h@@/main/bugfix2.0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ERROR: Mis-rooted branch (should be on version labeled BUILD101)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branch: M:/fredv/flash/readme.txt@@/main/int1.2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ERROR: Floating branch type (no label determined, 3 branches): dev5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2 mis-rooted branches found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1 branch types not label-based foun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The Incomplete Merge Test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61440" y="1168200"/>
            <a:ext cx="466740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04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Identifies branches where not all tips have been merged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04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Frequent mis-diagnosis by default (no obvious “open branch” indicator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04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vtck should be tweaked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901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Narrow"/>
              </a:rPr>
              <a:t>Error or warning</a:t>
            </a:r>
            <a:endParaRPr b="0" lang="en-US" sz="24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901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Narrow"/>
              </a:rPr>
              <a:t>Restrict by branch</a:t>
            </a:r>
            <a:endParaRPr b="0" lang="en-US" sz="24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901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Narrow"/>
              </a:rPr>
              <a:t>External “open branch” query</a:t>
            </a:r>
            <a:endParaRPr b="0" lang="en-US" sz="2400" spc="-1" strike="noStrike">
              <a:solidFill>
                <a:srgbClr val="dddddd"/>
              </a:solidFill>
              <a:latin typeface="Arial Narrow"/>
            </a:endParaRPr>
          </a:p>
        </p:txBody>
      </p:sp>
      <p:sp>
        <p:nvSpPr>
          <p:cNvPr id="376" name=""/>
          <p:cNvSpPr/>
          <p:nvPr/>
        </p:nvSpPr>
        <p:spPr>
          <a:xfrm>
            <a:off x="6629400" y="2523240"/>
            <a:ext cx="952560" cy="285480"/>
          </a:xfrm>
          <a:prstGeom prst="rect">
            <a:avLst/>
          </a:prstGeom>
          <a:solidFill>
            <a:srgbClr val="66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/cr3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929280" y="3051000"/>
            <a:ext cx="354240" cy="328680"/>
          </a:xfrm>
          <a:prstGeom prst="ellipse">
            <a:avLst/>
          </a:prstGeom>
          <a:solidFill>
            <a:srgbClr val="66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8" name=""/>
          <p:cNvCxnSpPr>
            <a:stCxn id="377" idx="0"/>
            <a:endCxn id="376" idx="2"/>
          </p:cNvCxnSpPr>
          <p:nvPr/>
        </p:nvCxnSpPr>
        <p:spPr>
          <a:xfrm flipH="1" flipV="1">
            <a:off x="7105320" y="2826720"/>
            <a:ext cx="2160" cy="21492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379" name=""/>
          <p:cNvSpPr/>
          <p:nvPr/>
        </p:nvSpPr>
        <p:spPr>
          <a:xfrm>
            <a:off x="5181480" y="999360"/>
            <a:ext cx="952560" cy="285480"/>
          </a:xfrm>
          <a:prstGeom prst="rect">
            <a:avLst/>
          </a:prstGeom>
          <a:solidFill>
            <a:srgbClr val="66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/mai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479920" y="1744560"/>
            <a:ext cx="354240" cy="328680"/>
          </a:xfrm>
          <a:prstGeom prst="ellipse">
            <a:avLst/>
          </a:prstGeom>
          <a:solidFill>
            <a:srgbClr val="66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stCxn id="380" idx="0"/>
            <a:endCxn id="379" idx="2"/>
          </p:cNvCxnSpPr>
          <p:nvPr/>
        </p:nvCxnSpPr>
        <p:spPr>
          <a:xfrm flipV="1">
            <a:off x="5657400" y="1302840"/>
            <a:ext cx="1080" cy="43272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382" name=""/>
          <p:cNvSpPr/>
          <p:nvPr/>
        </p:nvSpPr>
        <p:spPr>
          <a:xfrm>
            <a:off x="5479920" y="2836800"/>
            <a:ext cx="354240" cy="328680"/>
          </a:xfrm>
          <a:prstGeom prst="ellipse">
            <a:avLst/>
          </a:prstGeom>
          <a:solidFill>
            <a:srgbClr val="66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83" name=""/>
          <p:cNvCxnSpPr>
            <a:stCxn id="382" idx="0"/>
            <a:endCxn id="380" idx="4"/>
          </p:cNvCxnSpPr>
          <p:nvPr/>
        </p:nvCxnSpPr>
        <p:spPr>
          <a:xfrm flipV="1">
            <a:off x="5657400" y="2082600"/>
            <a:ext cx="1080" cy="74520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384" name=""/>
          <p:cNvSpPr/>
          <p:nvPr/>
        </p:nvSpPr>
        <p:spPr>
          <a:xfrm>
            <a:off x="5867280" y="1633680"/>
            <a:ext cx="768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R2.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479920" y="3929040"/>
            <a:ext cx="354240" cy="328680"/>
          </a:xfrm>
          <a:prstGeom prst="ellipse">
            <a:avLst/>
          </a:prstGeom>
          <a:solidFill>
            <a:srgbClr val="66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stCxn id="385" idx="0"/>
            <a:endCxn id="382" idx="4"/>
          </p:cNvCxnSpPr>
          <p:nvPr/>
        </p:nvCxnSpPr>
        <p:spPr>
          <a:xfrm flipV="1">
            <a:off x="5657400" y="3174120"/>
            <a:ext cx="1080" cy="74556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387" name=""/>
          <p:cNvCxnSpPr>
            <a:stCxn id="380" idx="6"/>
            <a:endCxn id="376" idx="0"/>
          </p:cNvCxnSpPr>
          <p:nvPr/>
        </p:nvCxnSpPr>
        <p:spPr>
          <a:xfrm>
            <a:off x="5843520" y="1909800"/>
            <a:ext cx="1262880" cy="59616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388" name=""/>
          <p:cNvSpPr/>
          <p:nvPr/>
        </p:nvSpPr>
        <p:spPr>
          <a:xfrm>
            <a:off x="6929280" y="3581280"/>
            <a:ext cx="354240" cy="328680"/>
          </a:xfrm>
          <a:prstGeom prst="ellipse">
            <a:avLst/>
          </a:prstGeom>
          <a:solidFill>
            <a:srgbClr val="ff505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89" name=""/>
          <p:cNvCxnSpPr>
            <a:stCxn id="388" idx="0"/>
            <a:endCxn id="377" idx="4"/>
          </p:cNvCxnSpPr>
          <p:nvPr/>
        </p:nvCxnSpPr>
        <p:spPr>
          <a:xfrm flipV="1">
            <a:off x="7106760" y="3388680"/>
            <a:ext cx="1080" cy="18324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390" name=""/>
          <p:cNvCxnSpPr>
            <a:stCxn id="377" idx="2"/>
            <a:endCxn id="385" idx="6"/>
          </p:cNvCxnSpPr>
          <p:nvPr/>
        </p:nvCxnSpPr>
        <p:spPr>
          <a:xfrm flipV="1" rot="10800000">
            <a:off x="5842800" y="3215160"/>
            <a:ext cx="1077120" cy="878760"/>
          </a:xfrm>
          <a:prstGeom prst="curvedConnector5">
            <a:avLst>
              <a:gd name="adj1" fmla="val 49983"/>
              <a:gd name="adj2" fmla="val 50000"/>
              <a:gd name="adj3" fmla="val 49983"/>
            </a:avLst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1" name=""/>
          <p:cNvSpPr/>
          <p:nvPr/>
        </p:nvSpPr>
        <p:spPr>
          <a:xfrm>
            <a:off x="5486400" y="5029200"/>
            <a:ext cx="353880" cy="328680"/>
          </a:xfrm>
          <a:prstGeom prst="ellipse">
            <a:avLst/>
          </a:prstGeom>
          <a:solidFill>
            <a:srgbClr val="66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92" name=""/>
          <p:cNvCxnSpPr>
            <a:stCxn id="391" idx="0"/>
            <a:endCxn id="385" idx="4"/>
          </p:cNvCxnSpPr>
          <p:nvPr/>
        </p:nvCxnSpPr>
        <p:spPr>
          <a:xfrm flipH="1" flipV="1">
            <a:off x="5657400" y="4266360"/>
            <a:ext cx="7200" cy="75348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The Incomplete Merge Test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94" name=""/>
          <p:cNvSpPr/>
          <p:nvPr/>
        </p:nvSpPr>
        <p:spPr>
          <a:xfrm>
            <a:off x="838080" y="1608120"/>
            <a:ext cx="7696440" cy="34480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hecking for incomplete merges…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WARNING: Incompletely merged branch (not all tips have been merged out)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from branch: dev3, to branch: integ2.0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WARNING: Incompletely merged branch (not all tips have been merged out)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from branch: cr398, to branch: main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2 branch types incompletely merg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A Practical Approach to Branch Integrity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416880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04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Implement triggers to prevent common mistakes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04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Automate frequently-performed operations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04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Educate users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04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And regularly examine your project’s VOBs for branching activity counter to your branch strategy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5049720" y="1168560"/>
            <a:ext cx="3434040" cy="45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Why is Branching Integrity an Issue?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61800" y="1168200"/>
            <a:ext cx="849024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Branching is </a:t>
            </a:r>
            <a:r>
              <a:rPr b="1" i="1" lang="en-US" sz="3200" spc="-1" strike="noStrike">
                <a:solidFill>
                  <a:srgbClr val="ffffff"/>
                </a:solidFill>
                <a:latin typeface="Arial Narrow"/>
              </a:rPr>
              <a:t>per-element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, not project-wid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Makes branching light-weight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Narrow"/>
              </a:rPr>
              <a:t>Permits flexibility for the knowledgeable user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104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ddddd"/>
                </a:solidFill>
                <a:latin typeface="Arial Narrow"/>
              </a:rPr>
              <a:t>But can cause great difficulties when there is inconsistent branch use between elements!</a:t>
            </a:r>
            <a:endParaRPr b="0" lang="en-US" sz="2800" spc="-1" strike="noStrike">
              <a:solidFill>
                <a:srgbClr val="dddddd"/>
              </a:solidFill>
              <a:latin typeface="Arial Narrow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305080" y="3792600"/>
            <a:ext cx="364968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Future Features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1179360" y="1168560"/>
            <a:ext cx="2533680" cy="45860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683240" y="1168200"/>
            <a:ext cx="416880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04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Better merge analysis?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04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Repair” suggestions?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04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-time” baseline support?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For Example?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61440" y="1168200"/>
            <a:ext cx="8472600" cy="51588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45720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What exactly is the content of the “bugfix2.0” branch?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3" name=""/>
          <p:cNvSpPr/>
          <p:nvPr/>
        </p:nvSpPr>
        <p:spPr>
          <a:xfrm>
            <a:off x="1365120" y="1709280"/>
            <a:ext cx="17877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FindNextHash.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351320" y="1779120"/>
            <a:ext cx="17874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FindNextHash.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30520" y="4836240"/>
            <a:ext cx="952560" cy="285480"/>
          </a:xfrm>
          <a:prstGeom prst="rect">
            <a:avLst/>
          </a:prstGeom>
          <a:solidFill>
            <a:srgbClr val="66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/bugfix2.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14560" y="5504040"/>
            <a:ext cx="354240" cy="328320"/>
          </a:xfrm>
          <a:prstGeom prst="ellipse">
            <a:avLst/>
          </a:prstGeom>
          <a:solidFill>
            <a:srgbClr val="66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106" idx="0"/>
            <a:endCxn id="105" idx="2"/>
          </p:cNvCxnSpPr>
          <p:nvPr/>
        </p:nvCxnSpPr>
        <p:spPr>
          <a:xfrm flipV="1">
            <a:off x="3092400" y="5139720"/>
            <a:ext cx="15120" cy="35460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108" name=""/>
          <p:cNvSpPr/>
          <p:nvPr/>
        </p:nvSpPr>
        <p:spPr>
          <a:xfrm>
            <a:off x="1738440" y="2177280"/>
            <a:ext cx="952200" cy="285480"/>
          </a:xfrm>
          <a:prstGeom prst="rect">
            <a:avLst/>
          </a:prstGeom>
          <a:solidFill>
            <a:srgbClr val="66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/mai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036880" y="2693880"/>
            <a:ext cx="353880" cy="328680"/>
          </a:xfrm>
          <a:prstGeom prst="ellipse">
            <a:avLst/>
          </a:prstGeom>
          <a:solidFill>
            <a:srgbClr val="66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0"/>
            <a:endCxn id="108" idx="2"/>
          </p:cNvCxnSpPr>
          <p:nvPr/>
        </p:nvCxnSpPr>
        <p:spPr>
          <a:xfrm flipV="1">
            <a:off x="2214360" y="2480400"/>
            <a:ext cx="1080" cy="20412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2647800" y="2535840"/>
            <a:ext cx="37476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1.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027160" y="3244680"/>
            <a:ext cx="354240" cy="328680"/>
          </a:xfrm>
          <a:prstGeom prst="ellipse">
            <a:avLst/>
          </a:prstGeom>
          <a:solidFill>
            <a:srgbClr val="66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112" idx="0"/>
            <a:endCxn id="109" idx="4"/>
          </p:cNvCxnSpPr>
          <p:nvPr/>
        </p:nvCxnSpPr>
        <p:spPr>
          <a:xfrm flipV="1">
            <a:off x="2204640" y="3031920"/>
            <a:ext cx="10440" cy="20376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114" name=""/>
          <p:cNvSpPr/>
          <p:nvPr/>
        </p:nvSpPr>
        <p:spPr>
          <a:xfrm>
            <a:off x="2634120" y="3202920"/>
            <a:ext cx="3772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2.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025720" y="3795840"/>
            <a:ext cx="353880" cy="328320"/>
          </a:xfrm>
          <a:prstGeom prst="ellipse">
            <a:avLst/>
          </a:prstGeom>
          <a:solidFill>
            <a:srgbClr val="66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6" name=""/>
          <p:cNvCxnSpPr>
            <a:stCxn id="115" idx="0"/>
            <a:endCxn id="112" idx="4"/>
          </p:cNvCxnSpPr>
          <p:nvPr/>
        </p:nvCxnSpPr>
        <p:spPr>
          <a:xfrm flipV="1">
            <a:off x="2203560" y="3582720"/>
            <a:ext cx="2160" cy="20376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117" name=""/>
          <p:cNvSpPr/>
          <p:nvPr/>
        </p:nvSpPr>
        <p:spPr>
          <a:xfrm>
            <a:off x="2635560" y="3733200"/>
            <a:ext cx="3772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3.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4348080"/>
            <a:ext cx="353880" cy="328680"/>
          </a:xfrm>
          <a:prstGeom prst="ellipse">
            <a:avLst/>
          </a:prstGeom>
          <a:solidFill>
            <a:srgbClr val="66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9" name=""/>
          <p:cNvCxnSpPr>
            <a:stCxn id="118" idx="0"/>
            <a:endCxn id="115" idx="4"/>
          </p:cNvCxnSpPr>
          <p:nvPr/>
        </p:nvCxnSpPr>
        <p:spPr>
          <a:xfrm flipH="1" flipV="1">
            <a:off x="2202840" y="4133160"/>
            <a:ext cx="11880" cy="20556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120" name=""/>
          <p:cNvCxnSpPr>
            <a:stCxn id="118" idx="6"/>
            <a:endCxn id="105" idx="0"/>
          </p:cNvCxnSpPr>
          <p:nvPr/>
        </p:nvCxnSpPr>
        <p:spPr>
          <a:xfrm>
            <a:off x="2400480" y="4512960"/>
            <a:ext cx="707040" cy="30564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121" name=""/>
          <p:cNvSpPr/>
          <p:nvPr/>
        </p:nvSpPr>
        <p:spPr>
          <a:xfrm>
            <a:off x="6357960" y="3953520"/>
            <a:ext cx="952560" cy="285480"/>
          </a:xfrm>
          <a:prstGeom prst="rect">
            <a:avLst/>
          </a:prstGeom>
          <a:solidFill>
            <a:srgbClr val="66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/bugfix2.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42000" y="4621320"/>
            <a:ext cx="354240" cy="328680"/>
          </a:xfrm>
          <a:prstGeom prst="ellipse">
            <a:avLst/>
          </a:prstGeom>
          <a:solidFill>
            <a:srgbClr val="66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0"/>
            <a:endCxn id="121" idx="2"/>
          </p:cNvCxnSpPr>
          <p:nvPr/>
        </p:nvCxnSpPr>
        <p:spPr>
          <a:xfrm flipV="1">
            <a:off x="6819840" y="4257000"/>
            <a:ext cx="15120" cy="35460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4865760" y="2177280"/>
            <a:ext cx="952560" cy="285480"/>
          </a:xfrm>
          <a:prstGeom prst="rect">
            <a:avLst/>
          </a:prstGeom>
          <a:solidFill>
            <a:srgbClr val="66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/mai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164200" y="2693880"/>
            <a:ext cx="353880" cy="328680"/>
          </a:xfrm>
          <a:prstGeom prst="ellipse">
            <a:avLst/>
          </a:prstGeom>
          <a:solidFill>
            <a:srgbClr val="66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5" idx="0"/>
            <a:endCxn id="124" idx="2"/>
          </p:cNvCxnSpPr>
          <p:nvPr/>
        </p:nvCxnSpPr>
        <p:spPr>
          <a:xfrm flipV="1">
            <a:off x="5341680" y="2480400"/>
            <a:ext cx="1080" cy="20412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127" name=""/>
          <p:cNvSpPr/>
          <p:nvPr/>
        </p:nvSpPr>
        <p:spPr>
          <a:xfrm>
            <a:off x="5775480" y="2535840"/>
            <a:ext cx="37440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1.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54480" y="3244680"/>
            <a:ext cx="354240" cy="328680"/>
          </a:xfrm>
          <a:prstGeom prst="ellipse">
            <a:avLst/>
          </a:prstGeom>
          <a:solidFill>
            <a:srgbClr val="66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9" name=""/>
          <p:cNvCxnSpPr>
            <a:stCxn id="128" idx="0"/>
            <a:endCxn id="125" idx="4"/>
          </p:cNvCxnSpPr>
          <p:nvPr/>
        </p:nvCxnSpPr>
        <p:spPr>
          <a:xfrm flipV="1">
            <a:off x="5331960" y="3031920"/>
            <a:ext cx="10440" cy="20376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130" name=""/>
          <p:cNvSpPr/>
          <p:nvPr/>
        </p:nvSpPr>
        <p:spPr>
          <a:xfrm>
            <a:off x="5761440" y="3202920"/>
            <a:ext cx="3772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2.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153040" y="3795840"/>
            <a:ext cx="353880" cy="328320"/>
          </a:xfrm>
          <a:prstGeom prst="ellipse">
            <a:avLst/>
          </a:prstGeom>
          <a:solidFill>
            <a:srgbClr val="66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2" name=""/>
          <p:cNvCxnSpPr>
            <a:stCxn id="131" idx="0"/>
            <a:endCxn id="128" idx="4"/>
          </p:cNvCxnSpPr>
          <p:nvPr/>
        </p:nvCxnSpPr>
        <p:spPr>
          <a:xfrm flipV="1">
            <a:off x="5330880" y="3582720"/>
            <a:ext cx="2160" cy="20376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133" name=""/>
          <p:cNvSpPr/>
          <p:nvPr/>
        </p:nvSpPr>
        <p:spPr>
          <a:xfrm>
            <a:off x="5762880" y="3733200"/>
            <a:ext cx="3772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3.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64200" y="4348080"/>
            <a:ext cx="353880" cy="328680"/>
          </a:xfrm>
          <a:prstGeom prst="ellipse">
            <a:avLst/>
          </a:prstGeom>
          <a:solidFill>
            <a:srgbClr val="66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5" name=""/>
          <p:cNvCxnSpPr>
            <a:stCxn id="134" idx="0"/>
            <a:endCxn id="131" idx="4"/>
          </p:cNvCxnSpPr>
          <p:nvPr/>
        </p:nvCxnSpPr>
        <p:spPr>
          <a:xfrm flipH="1" flipV="1">
            <a:off x="5330160" y="4133160"/>
            <a:ext cx="11880" cy="20556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136" name=""/>
          <p:cNvCxnSpPr>
            <a:stCxn id="128" idx="6"/>
            <a:endCxn id="121" idx="0"/>
          </p:cNvCxnSpPr>
          <p:nvPr/>
        </p:nvCxnSpPr>
        <p:spPr>
          <a:xfrm>
            <a:off x="5518080" y="3409920"/>
            <a:ext cx="1316520" cy="52632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For Example?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61440" y="1168200"/>
            <a:ext cx="8472600" cy="51588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45720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Will the correct branch please stand up?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166760" y="2773440"/>
            <a:ext cx="892080" cy="1530360"/>
            <a:chOff x="1166760" y="2773440"/>
            <a:chExt cx="892080" cy="1530360"/>
          </a:xfrm>
        </p:grpSpPr>
        <p:sp>
          <p:nvSpPr>
            <p:cNvPr id="140" name=""/>
            <p:cNvSpPr/>
            <p:nvPr/>
          </p:nvSpPr>
          <p:spPr>
            <a:xfrm>
              <a:off x="1247760" y="3740040"/>
              <a:ext cx="811080" cy="563760"/>
            </a:xfrm>
            <a:prstGeom prst="rightArrow">
              <a:avLst>
                <a:gd name="adj1" fmla="val 49861"/>
                <a:gd name="adj2" fmla="val 67086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 txBox="1"/>
            <p:nvPr/>
          </p:nvSpPr>
          <p:spPr>
            <a:xfrm>
              <a:off x="1166760" y="2773440"/>
              <a:ext cx="627120" cy="8586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7232400" y="3622680"/>
            <a:ext cx="900360" cy="1562040"/>
            <a:chOff x="7232400" y="3622680"/>
            <a:chExt cx="900360" cy="1562040"/>
          </a:xfrm>
        </p:grpSpPr>
        <p:sp>
          <p:nvSpPr>
            <p:cNvPr id="143" name=""/>
            <p:cNvSpPr/>
            <p:nvPr/>
          </p:nvSpPr>
          <p:spPr>
            <a:xfrm flipH="1">
              <a:off x="7232040" y="4621320"/>
              <a:ext cx="788760" cy="563400"/>
            </a:xfrm>
            <a:prstGeom prst="rightArrow">
              <a:avLst>
                <a:gd name="adj1" fmla="val 49861"/>
                <a:gd name="adj2" fmla="val 65281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 txBox="1"/>
            <p:nvPr/>
          </p:nvSpPr>
          <p:spPr>
            <a:xfrm>
              <a:off x="7505640" y="3622680"/>
              <a:ext cx="627120" cy="8589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4888080" y="3472560"/>
            <a:ext cx="952200" cy="285480"/>
          </a:xfrm>
          <a:prstGeom prst="rect">
            <a:avLst/>
          </a:prstGeom>
          <a:solidFill>
            <a:srgbClr val="66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/integ2.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72120" y="4140360"/>
            <a:ext cx="353880" cy="328320"/>
          </a:xfrm>
          <a:prstGeom prst="ellipse">
            <a:avLst/>
          </a:prstGeom>
          <a:solidFill>
            <a:srgbClr val="66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0"/>
            <a:endCxn id="145" idx="2"/>
          </p:cNvCxnSpPr>
          <p:nvPr/>
        </p:nvCxnSpPr>
        <p:spPr>
          <a:xfrm flipV="1">
            <a:off x="5349600" y="3776040"/>
            <a:ext cx="14760" cy="35460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3454560" y="1883520"/>
            <a:ext cx="952200" cy="285480"/>
          </a:xfrm>
          <a:prstGeom prst="rect">
            <a:avLst/>
          </a:prstGeom>
          <a:solidFill>
            <a:srgbClr val="66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/mai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753000" y="2400480"/>
            <a:ext cx="353880" cy="328320"/>
          </a:xfrm>
          <a:prstGeom prst="ellipse">
            <a:avLst/>
          </a:prstGeom>
          <a:solidFill>
            <a:srgbClr val="66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0" name=""/>
          <p:cNvCxnSpPr>
            <a:stCxn id="149" idx="0"/>
            <a:endCxn id="148" idx="2"/>
          </p:cNvCxnSpPr>
          <p:nvPr/>
        </p:nvCxnSpPr>
        <p:spPr>
          <a:xfrm flipV="1">
            <a:off x="3930120" y="2187360"/>
            <a:ext cx="1080" cy="20376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151" name=""/>
          <p:cNvSpPr/>
          <p:nvPr/>
        </p:nvSpPr>
        <p:spPr>
          <a:xfrm>
            <a:off x="3743280" y="2951280"/>
            <a:ext cx="353880" cy="328320"/>
          </a:xfrm>
          <a:prstGeom prst="ellipse">
            <a:avLst/>
          </a:prstGeom>
          <a:solidFill>
            <a:srgbClr val="66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2" name=""/>
          <p:cNvCxnSpPr>
            <a:stCxn id="151" idx="0"/>
            <a:endCxn id="149" idx="4"/>
          </p:cNvCxnSpPr>
          <p:nvPr/>
        </p:nvCxnSpPr>
        <p:spPr>
          <a:xfrm flipV="1">
            <a:off x="3921120" y="2738160"/>
            <a:ext cx="10080" cy="20376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153" name=""/>
          <p:cNvSpPr/>
          <p:nvPr/>
        </p:nvSpPr>
        <p:spPr>
          <a:xfrm>
            <a:off x="4350240" y="2909160"/>
            <a:ext cx="3772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2.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41840" y="3502080"/>
            <a:ext cx="353880" cy="328680"/>
          </a:xfrm>
          <a:prstGeom prst="ellipse">
            <a:avLst/>
          </a:prstGeom>
          <a:solidFill>
            <a:srgbClr val="66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0"/>
            <a:endCxn id="151" idx="4"/>
          </p:cNvCxnSpPr>
          <p:nvPr/>
        </p:nvCxnSpPr>
        <p:spPr>
          <a:xfrm flipV="1">
            <a:off x="3919680" y="3288960"/>
            <a:ext cx="2160" cy="20376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3753000" y="4054320"/>
            <a:ext cx="353880" cy="328680"/>
          </a:xfrm>
          <a:prstGeom prst="ellipse">
            <a:avLst/>
          </a:prstGeom>
          <a:solidFill>
            <a:srgbClr val="66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7" name=""/>
          <p:cNvCxnSpPr>
            <a:stCxn id="156" idx="0"/>
            <a:endCxn id="154" idx="4"/>
          </p:cNvCxnSpPr>
          <p:nvPr/>
        </p:nvCxnSpPr>
        <p:spPr>
          <a:xfrm flipH="1" flipV="1">
            <a:off x="3919320" y="3839400"/>
            <a:ext cx="11520" cy="20556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158" name=""/>
          <p:cNvCxnSpPr>
            <a:stCxn id="151" idx="6"/>
            <a:endCxn id="145" idx="0"/>
          </p:cNvCxnSpPr>
          <p:nvPr/>
        </p:nvCxnSpPr>
        <p:spPr>
          <a:xfrm>
            <a:off x="4106880" y="3116160"/>
            <a:ext cx="1257840" cy="33912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159" name=""/>
          <p:cNvSpPr/>
          <p:nvPr/>
        </p:nvSpPr>
        <p:spPr>
          <a:xfrm>
            <a:off x="6168960" y="4764960"/>
            <a:ext cx="952560" cy="285480"/>
          </a:xfrm>
          <a:prstGeom prst="rect">
            <a:avLst/>
          </a:prstGeom>
          <a:solidFill>
            <a:srgbClr val="66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/fix2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453360" y="5432400"/>
            <a:ext cx="353880" cy="328680"/>
          </a:xfrm>
          <a:prstGeom prst="ellipse">
            <a:avLst/>
          </a:prstGeom>
          <a:solidFill>
            <a:srgbClr val="66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1" name=""/>
          <p:cNvCxnSpPr>
            <a:stCxn id="160" idx="0"/>
            <a:endCxn id="159" idx="2"/>
          </p:cNvCxnSpPr>
          <p:nvPr/>
        </p:nvCxnSpPr>
        <p:spPr>
          <a:xfrm flipV="1">
            <a:off x="6630840" y="5068440"/>
            <a:ext cx="15120" cy="35496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162" name=""/>
          <p:cNvCxnSpPr>
            <a:stCxn id="146" idx="6"/>
            <a:endCxn id="159" idx="0"/>
          </p:cNvCxnSpPr>
          <p:nvPr/>
        </p:nvCxnSpPr>
        <p:spPr>
          <a:xfrm>
            <a:off x="5535720" y="4305240"/>
            <a:ext cx="1110240" cy="44208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163" name=""/>
          <p:cNvSpPr/>
          <p:nvPr/>
        </p:nvSpPr>
        <p:spPr>
          <a:xfrm flipH="1">
            <a:off x="2171160" y="3918600"/>
            <a:ext cx="952200" cy="285480"/>
          </a:xfrm>
          <a:prstGeom prst="rect">
            <a:avLst/>
          </a:prstGeom>
          <a:solidFill>
            <a:srgbClr val="66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/fix2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2455200" y="4586400"/>
            <a:ext cx="353880" cy="328680"/>
          </a:xfrm>
          <a:prstGeom prst="ellipse">
            <a:avLst/>
          </a:prstGeom>
          <a:solidFill>
            <a:srgbClr val="66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5" name=""/>
          <p:cNvCxnSpPr>
            <a:stCxn id="164" idx="0"/>
            <a:endCxn id="163" idx="2"/>
          </p:cNvCxnSpPr>
          <p:nvPr/>
        </p:nvCxnSpPr>
        <p:spPr>
          <a:xfrm flipV="1">
            <a:off x="2633400" y="4220640"/>
            <a:ext cx="14760" cy="35640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166" name=""/>
          <p:cNvCxnSpPr>
            <a:stCxn id="151" idx="2"/>
            <a:endCxn id="163" idx="0"/>
          </p:cNvCxnSpPr>
          <p:nvPr/>
        </p:nvCxnSpPr>
        <p:spPr>
          <a:xfrm flipH="1">
            <a:off x="2647080" y="3115800"/>
            <a:ext cx="1086840" cy="78516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What are the Symptoms?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61440" y="1168200"/>
            <a:ext cx="4557960" cy="45860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04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Difficult integration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901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Narrow"/>
              </a:rPr>
              <a:t>“</a:t>
            </a:r>
            <a:r>
              <a:rPr b="0" lang="en-US" sz="2400" spc="-1" strike="noStrike">
                <a:solidFill>
                  <a:srgbClr val="dddddd"/>
                </a:solidFill>
                <a:latin typeface="Arial Narrow"/>
              </a:rPr>
              <a:t>How did </a:t>
            </a:r>
            <a:r>
              <a:rPr b="0" i="1" lang="en-US" sz="2400" spc="-1" strike="noStrike">
                <a:solidFill>
                  <a:srgbClr val="dddddd"/>
                </a:solidFill>
                <a:latin typeface="Arial Narrow"/>
              </a:rPr>
              <a:t>that</a:t>
            </a:r>
            <a:r>
              <a:rPr b="0" lang="en-US" sz="2400" spc="-1" strike="noStrike">
                <a:solidFill>
                  <a:srgbClr val="dddddd"/>
                </a:solidFill>
                <a:latin typeface="Arial Narrow"/>
              </a:rPr>
              <a:t> get in </a:t>
            </a:r>
            <a:r>
              <a:rPr b="0" i="1" lang="en-US" sz="2400" spc="-1" strike="noStrike">
                <a:solidFill>
                  <a:srgbClr val="dddddd"/>
                </a:solidFill>
                <a:latin typeface="Arial Narrow"/>
              </a:rPr>
              <a:t>there</a:t>
            </a:r>
            <a:r>
              <a:rPr b="0" lang="en-US" sz="2400" spc="-1" strike="noStrike">
                <a:solidFill>
                  <a:srgbClr val="dddddd"/>
                </a:solidFill>
                <a:latin typeface="Arial Narrow"/>
              </a:rPr>
              <a:t>?”</a:t>
            </a:r>
            <a:endParaRPr b="0" lang="en-US" sz="2400" spc="-1" strike="noStrike">
              <a:solidFill>
                <a:srgbClr val="dddddd"/>
              </a:solidFill>
              <a:latin typeface="Arial Narrow"/>
            </a:endParaRPr>
          </a:p>
          <a:p>
            <a:pPr lvl="1" marL="800280" indent="-228600">
              <a:lnSpc>
                <a:spcPct val="87000"/>
              </a:lnSpc>
              <a:spcBef>
                <a:spcPts val="901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Narrow"/>
              </a:rPr>
              <a:t>“</a:t>
            </a:r>
            <a:r>
              <a:rPr b="0" lang="en-US" sz="2400" spc="-1" strike="noStrike">
                <a:solidFill>
                  <a:srgbClr val="dddddd"/>
                </a:solidFill>
                <a:latin typeface="Arial Narrow"/>
              </a:rPr>
              <a:t>Why is </a:t>
            </a:r>
            <a:r>
              <a:rPr b="0" i="1" lang="en-US" sz="2400" spc="-1" strike="noStrike">
                <a:solidFill>
                  <a:srgbClr val="dddddd"/>
                </a:solidFill>
                <a:latin typeface="Arial Narrow"/>
              </a:rPr>
              <a:t>my </a:t>
            </a:r>
            <a:r>
              <a:rPr b="0" lang="en-US" sz="2400" spc="-1" strike="noStrike">
                <a:solidFill>
                  <a:srgbClr val="dddddd"/>
                </a:solidFill>
                <a:latin typeface="Arial Narrow"/>
              </a:rPr>
              <a:t>change missing?”</a:t>
            </a:r>
            <a:endParaRPr b="0" lang="en-US" sz="2400" spc="-1" strike="noStrike">
              <a:solidFill>
                <a:srgbClr val="dddddd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04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Bad experiences with branching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04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Lengthy config spec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04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Lost in a maze of twisty little branches, all alik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lnSpc>
                <a:spcPct val="87000"/>
              </a:lnSpc>
              <a:spcBef>
                <a:spcPts val="104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General feeling that life was easier before ClearCas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083200" y="1579680"/>
            <a:ext cx="3768840" cy="37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Config Spec Typos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61800" y="1168560"/>
            <a:ext cx="4168800" cy="9871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45720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A simple typo in a config spec can wreak havoc: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0">
              <a:lnSpc>
                <a:spcPct val="87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Arial Narrow"/>
            </a:endParaRPr>
          </a:p>
        </p:txBody>
      </p:sp>
      <p:sp>
        <p:nvSpPr>
          <p:cNvPr id="172" name=""/>
          <p:cNvSpPr/>
          <p:nvPr/>
        </p:nvSpPr>
        <p:spPr>
          <a:xfrm>
            <a:off x="492120" y="2358720"/>
            <a:ext cx="4151160" cy="891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lement * /main/int3/CHECKEDO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lement * BIULD23      -mkbranch int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lement * /main/LATEST -mkbranch int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457200" y="3429000"/>
            <a:ext cx="7688160" cy="2000160"/>
            <a:chOff x="457200" y="3429000"/>
            <a:chExt cx="7688160" cy="2000160"/>
          </a:xfrm>
        </p:grpSpPr>
        <p:sp>
          <p:nvSpPr>
            <p:cNvPr id="174" name=""/>
            <p:cNvSpPr/>
            <p:nvPr/>
          </p:nvSpPr>
          <p:spPr>
            <a:xfrm>
              <a:off x="457200" y="3679920"/>
              <a:ext cx="4614840" cy="174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54000" bIns="54000" anchor="t">
              <a:normAutofit/>
            </a:bodyPr>
            <a:p>
              <a:pPr marL="457200" indent="-457200">
                <a:lnSpc>
                  <a:spcPct val="87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 Narrow"/>
                </a:rPr>
                <a:t>ClearCase will issue no warning, and will create the branch off of /main/LATES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7234200" y="3429000"/>
              <a:ext cx="911160" cy="811080"/>
              <a:chOff x="7234200" y="3429000"/>
              <a:chExt cx="911160" cy="811080"/>
            </a:xfrm>
          </p:grpSpPr>
          <p:sp>
            <p:nvSpPr>
              <p:cNvPr id="176" name=""/>
              <p:cNvSpPr txBox="1"/>
              <p:nvPr/>
            </p:nvSpPr>
            <p:spPr>
              <a:xfrm>
                <a:off x="7899480" y="3429000"/>
                <a:ext cx="245880" cy="81108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!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234200" y="3535560"/>
                <a:ext cx="576360" cy="576000"/>
              </a:xfrm>
              <a:prstGeom prst="leftArrow">
                <a:avLst>
                  <a:gd name="adj1" fmla="val 50000"/>
                  <a:gd name="adj2" fmla="val 25016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8" name=""/>
          <p:cNvSpPr/>
          <p:nvPr/>
        </p:nvSpPr>
        <p:spPr>
          <a:xfrm>
            <a:off x="6705720" y="4656960"/>
            <a:ext cx="609480" cy="285480"/>
          </a:xfrm>
          <a:prstGeom prst="rect">
            <a:avLst/>
          </a:prstGeom>
          <a:solidFill>
            <a:srgbClr val="66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/int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50000" y="5334120"/>
            <a:ext cx="520920" cy="484200"/>
          </a:xfrm>
          <a:prstGeom prst="ellipse">
            <a:avLst/>
          </a:prstGeom>
          <a:solidFill>
            <a:srgbClr val="66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9" idx="0"/>
            <a:endCxn id="178" idx="2"/>
          </p:cNvCxnSpPr>
          <p:nvPr/>
        </p:nvCxnSpPr>
        <p:spPr>
          <a:xfrm flipV="1">
            <a:off x="7009920" y="4960440"/>
            <a:ext cx="1080" cy="36432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257800" y="1151640"/>
            <a:ext cx="838080" cy="285480"/>
          </a:xfrm>
          <a:prstGeom prst="rect">
            <a:avLst/>
          </a:prstGeom>
          <a:solidFill>
            <a:srgbClr val="66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/mai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410080" y="1871640"/>
            <a:ext cx="520920" cy="484200"/>
          </a:xfrm>
          <a:prstGeom prst="ellipse">
            <a:avLst/>
          </a:prstGeom>
          <a:solidFill>
            <a:srgbClr val="66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2" idx="0"/>
            <a:endCxn id="181" idx="2"/>
          </p:cNvCxnSpPr>
          <p:nvPr/>
        </p:nvCxnSpPr>
        <p:spPr>
          <a:xfrm flipV="1">
            <a:off x="5670360" y="1455120"/>
            <a:ext cx="6840" cy="40716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184" name=""/>
          <p:cNvSpPr/>
          <p:nvPr/>
        </p:nvSpPr>
        <p:spPr>
          <a:xfrm>
            <a:off x="6095880" y="2819160"/>
            <a:ext cx="10670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UILD2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410080" y="2782800"/>
            <a:ext cx="520920" cy="484200"/>
          </a:xfrm>
          <a:prstGeom prst="ellipse">
            <a:avLst/>
          </a:prstGeom>
          <a:solidFill>
            <a:srgbClr val="66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6" name=""/>
          <p:cNvCxnSpPr>
            <a:stCxn id="185" idx="0"/>
            <a:endCxn id="182" idx="4"/>
          </p:cNvCxnSpPr>
          <p:nvPr/>
        </p:nvCxnSpPr>
        <p:spPr>
          <a:xfrm flipV="1">
            <a:off x="5670360" y="2364840"/>
            <a:ext cx="1080" cy="40896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187" name=""/>
          <p:cNvSpPr/>
          <p:nvPr/>
        </p:nvSpPr>
        <p:spPr>
          <a:xfrm>
            <a:off x="5410080" y="3692520"/>
            <a:ext cx="520920" cy="484200"/>
          </a:xfrm>
          <a:prstGeom prst="ellipse">
            <a:avLst/>
          </a:prstGeom>
          <a:solidFill>
            <a:srgbClr val="66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8" name=""/>
          <p:cNvCxnSpPr>
            <a:stCxn id="187" idx="0"/>
            <a:endCxn id="185" idx="4"/>
          </p:cNvCxnSpPr>
          <p:nvPr/>
        </p:nvCxnSpPr>
        <p:spPr>
          <a:xfrm flipV="1">
            <a:off x="5670360" y="3276000"/>
            <a:ext cx="1080" cy="40716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189" name=""/>
          <p:cNvCxnSpPr>
            <a:stCxn id="187" idx="6"/>
            <a:endCxn id="178" idx="0"/>
          </p:cNvCxnSpPr>
          <p:nvPr/>
        </p:nvCxnSpPr>
        <p:spPr>
          <a:xfrm>
            <a:off x="5940360" y="3935160"/>
            <a:ext cx="1070640" cy="70380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A Simple Misunderstanding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94320" y="910800"/>
            <a:ext cx="4168800" cy="5526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45720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Joe’s config spec: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2" name=""/>
          <p:cNvSpPr/>
          <p:nvPr/>
        </p:nvSpPr>
        <p:spPr>
          <a:xfrm>
            <a:off x="4657680" y="1406160"/>
            <a:ext cx="4151520" cy="891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lement * .../dev/CHECKEDO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lement * R3.0         -mkbranch dev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lement * /main/LATEST -mkbranch dev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44600" y="909720"/>
            <a:ext cx="416880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540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Bob’s config spec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95200" y="1402920"/>
            <a:ext cx="4151520" cy="891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lement * .../dev/CHECKEDO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lement * R3.1         -mkbranch dev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lement * /main/LATEST -mkbranch dev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057400" y="4047480"/>
            <a:ext cx="952560" cy="285480"/>
          </a:xfrm>
          <a:prstGeom prst="rect">
            <a:avLst/>
          </a:prstGeom>
          <a:solidFill>
            <a:srgbClr val="66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/bugfix3.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341440" y="4714920"/>
            <a:ext cx="354240" cy="328680"/>
          </a:xfrm>
          <a:prstGeom prst="ellipse">
            <a:avLst/>
          </a:prstGeom>
          <a:solidFill>
            <a:srgbClr val="66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7" name=""/>
          <p:cNvCxnSpPr>
            <a:stCxn id="196" idx="0"/>
            <a:endCxn id="195" idx="2"/>
          </p:cNvCxnSpPr>
          <p:nvPr/>
        </p:nvCxnSpPr>
        <p:spPr>
          <a:xfrm flipV="1">
            <a:off x="2519280" y="4350600"/>
            <a:ext cx="15120" cy="35460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198" name=""/>
          <p:cNvSpPr/>
          <p:nvPr/>
        </p:nvSpPr>
        <p:spPr>
          <a:xfrm>
            <a:off x="609480" y="2447280"/>
            <a:ext cx="952560" cy="285480"/>
          </a:xfrm>
          <a:prstGeom prst="rect">
            <a:avLst/>
          </a:prstGeom>
          <a:solidFill>
            <a:srgbClr val="66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/mai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07920" y="2963880"/>
            <a:ext cx="354240" cy="328680"/>
          </a:xfrm>
          <a:prstGeom prst="ellipse">
            <a:avLst/>
          </a:prstGeom>
          <a:solidFill>
            <a:srgbClr val="66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9" idx="0"/>
            <a:endCxn id="198" idx="2"/>
          </p:cNvCxnSpPr>
          <p:nvPr/>
        </p:nvCxnSpPr>
        <p:spPr>
          <a:xfrm flipV="1">
            <a:off x="1085400" y="2750760"/>
            <a:ext cx="1080" cy="20376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201" name=""/>
          <p:cNvSpPr/>
          <p:nvPr/>
        </p:nvSpPr>
        <p:spPr>
          <a:xfrm>
            <a:off x="898560" y="3514680"/>
            <a:ext cx="353880" cy="328680"/>
          </a:xfrm>
          <a:prstGeom prst="ellipse">
            <a:avLst/>
          </a:prstGeom>
          <a:solidFill>
            <a:srgbClr val="66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201" idx="0"/>
            <a:endCxn id="199" idx="4"/>
          </p:cNvCxnSpPr>
          <p:nvPr/>
        </p:nvCxnSpPr>
        <p:spPr>
          <a:xfrm flipV="1">
            <a:off x="1076400" y="3301200"/>
            <a:ext cx="10080" cy="20412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203" name=""/>
          <p:cNvSpPr/>
          <p:nvPr/>
        </p:nvSpPr>
        <p:spPr>
          <a:xfrm>
            <a:off x="1505520" y="3472920"/>
            <a:ext cx="3772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3.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96760" y="4065480"/>
            <a:ext cx="354240" cy="328680"/>
          </a:xfrm>
          <a:prstGeom prst="ellipse">
            <a:avLst/>
          </a:prstGeom>
          <a:solidFill>
            <a:srgbClr val="66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5" name=""/>
          <p:cNvCxnSpPr>
            <a:stCxn id="204" idx="0"/>
            <a:endCxn id="201" idx="4"/>
          </p:cNvCxnSpPr>
          <p:nvPr/>
        </p:nvCxnSpPr>
        <p:spPr>
          <a:xfrm flipV="1">
            <a:off x="1074240" y="3852000"/>
            <a:ext cx="2520" cy="20412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206" name=""/>
          <p:cNvSpPr/>
          <p:nvPr/>
        </p:nvSpPr>
        <p:spPr>
          <a:xfrm>
            <a:off x="907920" y="4618080"/>
            <a:ext cx="354240" cy="328680"/>
          </a:xfrm>
          <a:prstGeom prst="ellipse">
            <a:avLst/>
          </a:prstGeom>
          <a:solidFill>
            <a:srgbClr val="66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7" name=""/>
          <p:cNvCxnSpPr>
            <a:stCxn id="206" idx="0"/>
            <a:endCxn id="204" idx="4"/>
          </p:cNvCxnSpPr>
          <p:nvPr/>
        </p:nvCxnSpPr>
        <p:spPr>
          <a:xfrm flipH="1" flipV="1">
            <a:off x="1073880" y="4403520"/>
            <a:ext cx="11880" cy="20520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208" name=""/>
          <p:cNvCxnSpPr>
            <a:stCxn id="201" idx="6"/>
            <a:endCxn id="195" idx="0"/>
          </p:cNvCxnSpPr>
          <p:nvPr/>
        </p:nvCxnSpPr>
        <p:spPr>
          <a:xfrm>
            <a:off x="1262160" y="3679920"/>
            <a:ext cx="1271880" cy="34992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209" name=""/>
          <p:cNvSpPr/>
          <p:nvPr/>
        </p:nvSpPr>
        <p:spPr>
          <a:xfrm>
            <a:off x="3144960" y="5123520"/>
            <a:ext cx="952200" cy="285480"/>
          </a:xfrm>
          <a:prstGeom prst="rect">
            <a:avLst/>
          </a:prstGeom>
          <a:solidFill>
            <a:srgbClr val="66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/dev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29000" y="5791320"/>
            <a:ext cx="353880" cy="328320"/>
          </a:xfrm>
          <a:prstGeom prst="ellipse">
            <a:avLst/>
          </a:prstGeom>
          <a:solidFill>
            <a:srgbClr val="66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10" idx="0"/>
            <a:endCxn id="209" idx="2"/>
          </p:cNvCxnSpPr>
          <p:nvPr/>
        </p:nvCxnSpPr>
        <p:spPr>
          <a:xfrm flipV="1">
            <a:off x="3606840" y="5427000"/>
            <a:ext cx="15120" cy="35460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212" name=""/>
          <p:cNvSpPr/>
          <p:nvPr/>
        </p:nvSpPr>
        <p:spPr>
          <a:xfrm>
            <a:off x="2818080" y="4571280"/>
            <a:ext cx="3772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3.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13" name=""/>
          <p:cNvCxnSpPr>
            <a:stCxn id="196" idx="6"/>
            <a:endCxn id="209" idx="0"/>
          </p:cNvCxnSpPr>
          <p:nvPr/>
        </p:nvCxnSpPr>
        <p:spPr>
          <a:xfrm>
            <a:off x="2704680" y="4879440"/>
            <a:ext cx="916920" cy="22644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214" name=""/>
          <p:cNvSpPr/>
          <p:nvPr/>
        </p:nvSpPr>
        <p:spPr>
          <a:xfrm>
            <a:off x="6172200" y="4123440"/>
            <a:ext cx="952560" cy="285480"/>
          </a:xfrm>
          <a:prstGeom prst="rect">
            <a:avLst/>
          </a:prstGeom>
          <a:solidFill>
            <a:srgbClr val="66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/bugfix3.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56240" y="4791240"/>
            <a:ext cx="354240" cy="328320"/>
          </a:xfrm>
          <a:prstGeom prst="ellipse">
            <a:avLst/>
          </a:prstGeom>
          <a:solidFill>
            <a:srgbClr val="66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16" name=""/>
          <p:cNvCxnSpPr>
            <a:stCxn id="215" idx="0"/>
            <a:endCxn id="214" idx="2"/>
          </p:cNvCxnSpPr>
          <p:nvPr/>
        </p:nvCxnSpPr>
        <p:spPr>
          <a:xfrm flipV="1">
            <a:off x="6634080" y="4426920"/>
            <a:ext cx="15120" cy="35460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217" name=""/>
          <p:cNvSpPr/>
          <p:nvPr/>
        </p:nvSpPr>
        <p:spPr>
          <a:xfrm>
            <a:off x="4724280" y="2523240"/>
            <a:ext cx="952560" cy="285480"/>
          </a:xfrm>
          <a:prstGeom prst="rect">
            <a:avLst/>
          </a:prstGeom>
          <a:solidFill>
            <a:srgbClr val="66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/mai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022720" y="3040200"/>
            <a:ext cx="354240" cy="328320"/>
          </a:xfrm>
          <a:prstGeom prst="ellipse">
            <a:avLst/>
          </a:prstGeom>
          <a:solidFill>
            <a:srgbClr val="66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0"/>
            <a:endCxn id="217" idx="2"/>
          </p:cNvCxnSpPr>
          <p:nvPr/>
        </p:nvCxnSpPr>
        <p:spPr>
          <a:xfrm flipV="1">
            <a:off x="5200200" y="2827080"/>
            <a:ext cx="1080" cy="20376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220" name=""/>
          <p:cNvSpPr/>
          <p:nvPr/>
        </p:nvSpPr>
        <p:spPr>
          <a:xfrm>
            <a:off x="5013360" y="3591000"/>
            <a:ext cx="353880" cy="328680"/>
          </a:xfrm>
          <a:prstGeom prst="ellipse">
            <a:avLst/>
          </a:prstGeom>
          <a:solidFill>
            <a:srgbClr val="66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1" name=""/>
          <p:cNvCxnSpPr>
            <a:stCxn id="220" idx="0"/>
            <a:endCxn id="218" idx="4"/>
          </p:cNvCxnSpPr>
          <p:nvPr/>
        </p:nvCxnSpPr>
        <p:spPr>
          <a:xfrm flipV="1">
            <a:off x="5191200" y="3377880"/>
            <a:ext cx="10080" cy="20376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222" name=""/>
          <p:cNvSpPr/>
          <p:nvPr/>
        </p:nvSpPr>
        <p:spPr>
          <a:xfrm>
            <a:off x="5620320" y="3548880"/>
            <a:ext cx="3772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3.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011560" y="4141800"/>
            <a:ext cx="354240" cy="328680"/>
          </a:xfrm>
          <a:prstGeom prst="ellipse">
            <a:avLst/>
          </a:prstGeom>
          <a:solidFill>
            <a:srgbClr val="66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4" name=""/>
          <p:cNvCxnSpPr>
            <a:stCxn id="223" idx="0"/>
            <a:endCxn id="220" idx="4"/>
          </p:cNvCxnSpPr>
          <p:nvPr/>
        </p:nvCxnSpPr>
        <p:spPr>
          <a:xfrm flipV="1">
            <a:off x="5189040" y="3928320"/>
            <a:ext cx="2520" cy="20412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225" name=""/>
          <p:cNvSpPr/>
          <p:nvPr/>
        </p:nvSpPr>
        <p:spPr>
          <a:xfrm>
            <a:off x="5022720" y="4694400"/>
            <a:ext cx="354240" cy="328320"/>
          </a:xfrm>
          <a:prstGeom prst="ellipse">
            <a:avLst/>
          </a:prstGeom>
          <a:solidFill>
            <a:srgbClr val="66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0"/>
            <a:endCxn id="223" idx="4"/>
          </p:cNvCxnSpPr>
          <p:nvPr/>
        </p:nvCxnSpPr>
        <p:spPr>
          <a:xfrm flipH="1" flipV="1">
            <a:off x="5188680" y="4479120"/>
            <a:ext cx="11880" cy="20556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227" name=""/>
          <p:cNvCxnSpPr>
            <a:stCxn id="220" idx="6"/>
            <a:endCxn id="214" idx="0"/>
          </p:cNvCxnSpPr>
          <p:nvPr/>
        </p:nvCxnSpPr>
        <p:spPr>
          <a:xfrm>
            <a:off x="5376960" y="3755520"/>
            <a:ext cx="1271880" cy="35028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228" name=""/>
          <p:cNvSpPr/>
          <p:nvPr/>
        </p:nvSpPr>
        <p:spPr>
          <a:xfrm>
            <a:off x="6932880" y="4647600"/>
            <a:ext cx="3772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3.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543800" y="4123440"/>
            <a:ext cx="952560" cy="285480"/>
          </a:xfrm>
          <a:prstGeom prst="rect">
            <a:avLst/>
          </a:prstGeom>
          <a:solidFill>
            <a:srgbClr val="66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/dev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827840" y="4791240"/>
            <a:ext cx="354240" cy="328320"/>
          </a:xfrm>
          <a:prstGeom prst="ellipse">
            <a:avLst/>
          </a:prstGeom>
          <a:solidFill>
            <a:srgbClr val="66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1" name=""/>
          <p:cNvCxnSpPr>
            <a:stCxn id="230" idx="0"/>
            <a:endCxn id="229" idx="2"/>
          </p:cNvCxnSpPr>
          <p:nvPr/>
        </p:nvCxnSpPr>
        <p:spPr>
          <a:xfrm flipV="1">
            <a:off x="8005680" y="4426920"/>
            <a:ext cx="15120" cy="35460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232" name=""/>
          <p:cNvCxnSpPr>
            <a:stCxn id="220" idx="6"/>
            <a:endCxn id="229" idx="0"/>
          </p:cNvCxnSpPr>
          <p:nvPr/>
        </p:nvCxnSpPr>
        <p:spPr>
          <a:xfrm>
            <a:off x="5376960" y="3755520"/>
            <a:ext cx="2643840" cy="35028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7480" y="123840"/>
            <a:ext cx="8999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00"/>
                </a:solidFill>
                <a:latin typeface="Arial Narrow"/>
              </a:rPr>
              <a:t>So How Do I Prevent This?</a:t>
            </a:r>
            <a:endParaRPr b="1" lang="en-US" sz="4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61800" y="1168560"/>
            <a:ext cx="6343920" cy="5839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marL="457200" indent="-457200">
              <a:lnSpc>
                <a:spcPct val="87000"/>
              </a:lnSpc>
              <a:spcBef>
                <a:spcPts val="104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Prevention using “mkbranch” trigger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58000" y="2057400"/>
            <a:ext cx="1878120" cy="28195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457200" y="2185920"/>
            <a:ext cx="6019920" cy="27205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$brtype = $ENV{‘CLEARCASE_BRTYPE’}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@id_str = split(‘/’, $ENV{‘CLEARCASE_ID_STR’})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op(@id_str)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$parent = pop(@id_str);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($brtype =~ /^integ/) {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exit(1) unless ($parent eq ‘main’)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 elsif ($brtype =~ /^dev/) {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exit(1) unless ($parent =~ /^integ/)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11T18:40:38Z</dcterms:created>
  <dc:creator>Steve Preston</dc:creator>
  <dc:description/>
  <dc:language>en-US</dc:language>
  <cp:lastModifiedBy>Rational Software</cp:lastModifiedBy>
  <cp:lastPrinted>1999-05-25T17:41:47Z</cp:lastPrinted>
  <dcterms:modified xsi:type="dcterms:W3CDTF">1999-06-08T15:27:55Z</dcterms:modified>
  <cp:revision>132</cp:revision>
  <dc:subject>United World Tour</dc:subject>
  <dc:title>No Slide Title</dc:title>
</cp:coreProperties>
</file>