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4199-2BDB-4C0A-833C-5A3E96D7A5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D759-4D94-4C7F-A357-61C2FD394D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0C72-DDF5-41C5-BFBD-A3A1BB9CE2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AEE8-8D77-4AB3-AFCA-49493D276A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DA69-636E-4D7E-9046-1D608DD88A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7A6D-3820-4D9B-9F49-32AC476398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5A19-0D50-447A-B820-A548DA864C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BC90-1449-48C4-AA4C-A79B6279CD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CF3D-C62C-4204-A52B-3D572E830C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5B4A-28A5-4C71-A1FB-B19F3B36FC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3326-31AA-443E-B297-256DA08EE9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4D99-E3CA-430C-ACF3-F25812BEF2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6195960" y="833400"/>
          <a:ext cx="2948040" cy="602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5960" y="833400"/>
                    <a:ext cx="294804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1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20024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5"/>
          <a:stretch/>
        </p:blipFill>
        <p:spPr>
          <a:xfrm>
            <a:off x="6724800" y="6021360"/>
            <a:ext cx="2217600" cy="642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716040"/>
            <a:ext cx="9144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21080"/>
            <a:ext cx="5972040" cy="229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960" y="2603160"/>
            <a:ext cx="55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819760" y="-360"/>
            <a:ext cx="3324240" cy="6946920"/>
            <a:chOff x="5819760" y="-360"/>
            <a:chExt cx="3324240" cy="6946920"/>
          </a:xfrm>
        </p:grpSpPr>
        <p:grpSp>
          <p:nvGrpSpPr>
            <p:cNvPr id="47" name=""/>
            <p:cNvGrpSpPr/>
            <p:nvPr/>
          </p:nvGrpSpPr>
          <p:grpSpPr>
            <a:xfrm>
              <a:off x="5819760" y="-360"/>
              <a:ext cx="3324240" cy="6946920"/>
              <a:chOff x="5819760" y="-360"/>
              <a:chExt cx="3324240" cy="6946920"/>
            </a:xfrm>
          </p:grpSpPr>
          <p:sp>
            <p:nvSpPr>
              <p:cNvPr id="48" name=""/>
              <p:cNvSpPr/>
              <p:nvPr/>
            </p:nvSpPr>
            <p:spPr>
              <a:xfrm flipH="1" flipV="1">
                <a:off x="6337440" y="-360"/>
                <a:ext cx="2806560" cy="69469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5819760" y="1352520"/>
                <a:ext cx="2806560" cy="4318200"/>
                <a:chOff x="5819760" y="1352520"/>
                <a:chExt cx="2806560" cy="4318200"/>
              </a:xfrm>
            </p:grpSpPr>
            <p:pic>
              <p:nvPicPr>
                <p:cNvPr id="50" name="mountainmain%20copy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19760" y="1352520"/>
                  <a:ext cx="2806560" cy="431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FINAL%20RUC.Log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81760" y="1538280"/>
                  <a:ext cx="2492280" cy="3921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" name=""/>
            <p:cNvSpPr/>
            <p:nvPr/>
          </p:nvSpPr>
          <p:spPr>
            <a:xfrm>
              <a:off x="5975280" y="4095720"/>
              <a:ext cx="0" cy="142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sldNum" idx="1"/>
          </p:nvPr>
        </p:nvSpPr>
        <p:spPr>
          <a:xfrm>
            <a:off x="201600" y="604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6699ff"/>
                </a:solidFill>
                <a:latin typeface="Arial Narrow"/>
              </a:defRPr>
            </a:lvl1pPr>
          </a:lstStyle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Narrow"/>
              </a:rPr>
              <a:t>Se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fld id="{826A104E-8A1D-4660-9419-C73FC4514133}" type="slidenum">
              <a:rPr b="1" lang="en-US" sz="20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914400" indent="5724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0960" y="2603160"/>
            <a:ext cx="55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TIPS FOR USING TRIGGERS IN A MIXED ENVIRONMENT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3280" y="3525480"/>
            <a:ext cx="557856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g Fier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onal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9880" y="62341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Narrow"/>
              </a:rPr>
              <a:t>Se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CCM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Listing Trigger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the lstype() command to list triggers in a VO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Listing all available triggers-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Courier New"/>
              </a:rPr>
              <a:t>cleartool lstype -kind trtype           [ -invob vob:&lt;</a:t>
            </a:r>
            <a:r>
              <a:rPr b="1" i="1" lang="en-US" sz="2800" spc="-1" strike="noStrike">
                <a:solidFill>
                  <a:srgbClr val="dddddd"/>
                </a:solidFill>
                <a:latin typeface="Courier New"/>
              </a:rPr>
              <a:t>vobtag</a:t>
            </a:r>
            <a:r>
              <a:rPr b="0" lang="en-US" sz="2800" spc="-1" strike="noStrike">
                <a:solidFill>
                  <a:srgbClr val="dddddd"/>
                </a:solidFill>
                <a:latin typeface="Courier New"/>
              </a:rPr>
              <a:t>&gt; </a:t>
            </a:r>
            <a:r>
              <a:rPr b="1" lang="en-US" sz="2800" spc="-1" strike="noStrike">
                <a:solidFill>
                  <a:srgbClr val="dddddd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Listing details of a particular trigger name: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Courier New"/>
              </a:rPr>
              <a:t>cleartool lstype -long trtype:&lt;</a:t>
            </a:r>
            <a:r>
              <a:rPr b="1" i="1" lang="en-US" sz="2800" spc="-1" strike="noStrike">
                <a:solidFill>
                  <a:srgbClr val="dddddd"/>
                </a:solidFill>
                <a:latin typeface="Courier New"/>
              </a:rPr>
              <a:t>trigger name</a:t>
            </a:r>
            <a:r>
              <a:rPr b="1" lang="en-US" sz="2800" spc="-1" strike="noStrike">
                <a:solidFill>
                  <a:srgbClr val="dddddd"/>
                </a:solidFill>
                <a:latin typeface="Courier New"/>
              </a:rPr>
              <a:t>&gt;@&lt;</a:t>
            </a:r>
            <a:r>
              <a:rPr b="1" i="1" lang="en-US" sz="2800" spc="-1" strike="noStrike">
                <a:solidFill>
                  <a:srgbClr val="dddddd"/>
                </a:solidFill>
                <a:latin typeface="Courier New"/>
              </a:rPr>
              <a:t>vobtag</a:t>
            </a:r>
            <a:r>
              <a:rPr b="1" lang="en-US" sz="2800" spc="-1" strike="noStrike">
                <a:solidFill>
                  <a:srgbClr val="dddddd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Listing triggers applied to a particular element: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Courier New"/>
              </a:rPr>
              <a:t>cleartool describe &lt;</a:t>
            </a:r>
            <a:r>
              <a:rPr b="1" i="1" lang="en-US" sz="2800" spc="-1" strike="noStrike">
                <a:solidFill>
                  <a:srgbClr val="dddddd"/>
                </a:solidFill>
                <a:latin typeface="Courier New"/>
              </a:rPr>
              <a:t>element</a:t>
            </a:r>
            <a:r>
              <a:rPr b="1" lang="en-US" sz="2800" spc="-1" strike="noStrike">
                <a:solidFill>
                  <a:srgbClr val="dddddd"/>
                </a:solidFill>
                <a:latin typeface="Courier New"/>
              </a:rPr>
              <a:t>&gt;@@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Listing Triggers- UNIX GUI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a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xclearcase(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n UNIX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5" name="unix_trig_gui" descr=""/>
          <p:cNvPicPr/>
          <p:nvPr/>
        </p:nvPicPr>
        <p:blipFill>
          <a:blip r:embed="rId1"/>
          <a:stretch/>
        </p:blipFill>
        <p:spPr>
          <a:xfrm>
            <a:off x="795240" y="1317600"/>
            <a:ext cx="67914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Listing Triggers- Windows GUI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4320" y="850680"/>
            <a:ext cx="895968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rom HomeBase, select Administration tab, then select “type explorer” butt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7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Or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ClearCase-&gt;Explore Types</a:t>
            </a:r>
            <a:r>
              <a:rPr b="0" lang="en-US" sz="2400" spc="-1" strike="noStrike">
                <a:solidFill>
                  <a:srgbClr val="dddddd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from Explorer on VOB tag</a:t>
            </a:r>
            <a:r>
              <a:rPr b="0" lang="en-US" sz="2400" spc="-1" strike="noStrike">
                <a:solidFill>
                  <a:srgbClr val="dddddd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  <p:pic>
        <p:nvPicPr>
          <p:cNvPr id="118" name="nt_trig_gui_cut" descr=""/>
          <p:cNvPicPr/>
          <p:nvPr/>
        </p:nvPicPr>
        <p:blipFill>
          <a:blip r:embed="rId1"/>
          <a:stretch/>
        </p:blipFill>
        <p:spPr>
          <a:xfrm>
            <a:off x="801720" y="2295360"/>
            <a:ext cx="599112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 For Trigger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nce triggers fire on the client side, establishing an environment to support both UNIX and Windows can be trick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X and Windows are inherently different in several areas that triggers depend upon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ommon path for all client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directing standard input/outpu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ommon scripting languag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ndmail suppor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Common Path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indows NT VOB tag path can be several possible loca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nder default view drive (usually M: , but not always!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apped to a local driv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napshot view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following are all valid paths to the same location within a VOB on Windows N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M:\myview\project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Z:\project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C:\users\terry\myview_snapshot\project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Common Path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commended to install trigger scripts/programs with -exec paths outside of the VO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You can still version trigger scripts within a VOB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t only to help alleviate the common VOB path problem, but for better security and less dependence on user’s environ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cript that lives inside of a VOB can be subverted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ser’s view rules may not select correct version of trigger in VOB, or may not pick it up at all!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napshot view may not have trigger script loaded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Common Path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850680"/>
            <a:ext cx="899172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ternate solution- use a controlled dynamic view to select triggers directly from view-extended path in VOB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NIX- </a:t>
            </a: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/view/triggerview/vobs/tools/scripts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indows- </a:t>
            </a: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\\view\triggerview\tools\scripts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ut this special admin view on the VOB server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full paths in -exec arguments for trigg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ore secure; less dependent on client environm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or Windows environments, use UNC pathnames vs hard-coded letter drive path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Common Path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e way a trigger script in a VOB can be bypassed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Insert a “-none” view rule that matches the script nam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lement * check_comment.pl -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reate a script with the same name as the VOB script and copy it into your local view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Now ClearCase sees your local copy eclipsing the element in the VOB!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leartool ls check_comment.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heck_comment.pl@@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[eclipse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Common Path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igger scripts/programs should be in a secure common location that is highly available on the network, with controlled acc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imple solution- use the existing ClearCase share for VOBs or the shared release area- it is already set up, and reduces points of failur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se view-extended path names with controlled/restricted view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 have their pros/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Common Path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new ClearCase 3.2 features “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ecunix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” and “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ecwin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llows trigger access to the same script using a path recognized by local client O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Or, you can write platform-specific trigger script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or security reasons, triggers with only </a:t>
            </a:r>
            <a:r>
              <a:rPr b="0" lang="en-US" sz="2800" spc="-1" strike="noStrike">
                <a:solidFill>
                  <a:srgbClr val="dddddd"/>
                </a:solidFill>
                <a:latin typeface="Courier New"/>
              </a:rPr>
              <a:t>“-</a:t>
            </a:r>
            <a:r>
              <a:rPr b="1" lang="en-US" sz="2800" spc="-1" strike="noStrike">
                <a:solidFill>
                  <a:srgbClr val="dddddd"/>
                </a:solidFill>
                <a:latin typeface="Courier New"/>
              </a:rPr>
              <a:t>execunix</a:t>
            </a:r>
            <a:r>
              <a:rPr b="0" lang="en-US" sz="2800" spc="-1" strike="noStrike">
                <a:solidFill>
                  <a:srgbClr val="dddddd"/>
                </a:solidFill>
                <a:latin typeface="Courier New"/>
              </a:rPr>
              <a:t>”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 specified always fail from Windows client (and vice-versa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sing </a:t>
            </a:r>
            <a:r>
              <a:rPr b="0" lang="en-US" sz="2800" spc="-1" strike="noStrike">
                <a:solidFill>
                  <a:srgbClr val="dddddd"/>
                </a:solidFill>
                <a:latin typeface="Courier New"/>
              </a:rPr>
              <a:t>“-</a:t>
            </a:r>
            <a:r>
              <a:rPr b="1" lang="en-US" sz="2800" spc="-1" strike="noStrike">
                <a:solidFill>
                  <a:srgbClr val="dddddd"/>
                </a:solidFill>
                <a:latin typeface="Courier New"/>
              </a:rPr>
              <a:t>exec</a:t>
            </a:r>
            <a:r>
              <a:rPr b="0" lang="en-US" sz="2800" spc="-1" strike="noStrike">
                <a:solidFill>
                  <a:srgbClr val="dddddd"/>
                </a:solidFill>
                <a:latin typeface="Courier New"/>
              </a:rPr>
              <a:t>”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 still works as befor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Arial Narrow"/>
              </a:rPr>
              <a:t>Be sure all clients are upgraded to 3.2 or later if using new features!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Overview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1800" y="838080"/>
            <a:ext cx="8490240" cy="4726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89000"/>
          </a:bodyPr>
          <a:p>
            <a:pPr marL="406800" indent="-4068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6800" indent="-4068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at is a trigger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2080" indent="-203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rigger limitation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12080" indent="-203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o I need a trigger for this?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12080" indent="-203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Listing triggers in a VOB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06800" indent="-4068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X/Windows interoperation challenges for trigg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2080" indent="-203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ommon path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12080" indent="-203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Handling standard input/output redirection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12080" indent="-203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ommon scripting languag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12080" indent="-203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ndmail suppor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06800" indent="-4068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iggers in a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stdin/stdout/stderr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th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clearpromp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utility to provide consistent standard input/output/error messag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ery versatile- same syntax on both UNIX and Windo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n prompt user for input or selections, and display messag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s both CLI and GUI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093760" y="4954680"/>
            <a:ext cx="50292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earprompt is your friend!</a:t>
            </a:r>
            <a:endParaRPr b="0" lang="en-US" sz="2400" spc="1" strike="noStrike">
              <a:ln w="0">
                <a:noFill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Clearpromp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1800" y="800280"/>
            <a:ext cx="8490240" cy="49543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7000"/>
          </a:bodyPr>
          <a:p>
            <a:pPr marL="443160" indent="-44316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 general areas clearprompt support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76160" indent="-221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arprompt list - 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163880" indent="-221400">
              <a:lnSpc>
                <a:spcPct val="7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s list of choices to choose 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21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arprompt text - 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163880" indent="-221400">
              <a:lnSpc>
                <a:spcPct val="7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s text box for user to type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21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arprompt file -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163880" indent="-221400">
              <a:lnSpc>
                <a:spcPct val="7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s file browser for path arg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21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arprompt [ proceed | yes_no ] -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163880" indent="-221400">
              <a:lnSpc>
                <a:spcPct val="7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s message to user with options (proceed, yes, no,abo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oth th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cee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yes_no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tions can pass return values back to the trigger environ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76160" indent="-2214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Only “yes” and “proceed” choices return values of zero; the rest return non-zero valu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Clearprompt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earprompt can be called directly from any shell as a standalone comman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age/syntax is the same on UNIX and Windo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earprompt can be used to return non-zero (fail) values instead of scrip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54160" y="4591080"/>
            <a:ext cx="27241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xamples . . .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prompt - List Example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clearprompt list -outfile $TMPFILE -items choice1,choice2,choice3 -prompt “pick from the list:” -prefer_gui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  <p:pic>
        <p:nvPicPr>
          <p:cNvPr id="143" name="cprompt.list.unix" descr=""/>
          <p:cNvPicPr/>
          <p:nvPr/>
        </p:nvPicPr>
        <p:blipFill>
          <a:blip r:embed="rId1"/>
          <a:stretch/>
        </p:blipFill>
        <p:spPr>
          <a:xfrm>
            <a:off x="3552840" y="2152800"/>
            <a:ext cx="203832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prompt- Text Example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clearprompt text -outfile %TMPFILE% -prompt “enter text here:” -prefer_gui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  <p:pic>
        <p:nvPicPr>
          <p:cNvPr id="146" name="cprompt.text.win" descr=""/>
          <p:cNvPicPr/>
          <p:nvPr/>
        </p:nvPicPr>
        <p:blipFill>
          <a:blip r:embed="rId1"/>
          <a:stretch/>
        </p:blipFill>
        <p:spPr>
          <a:xfrm>
            <a:off x="1390680" y="1833480"/>
            <a:ext cx="63626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prompt- File Example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clearprompt file -outfile $TMPFILE -directory ../headers -prompt “choose dependent header file:” -prefer_gui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  <p:pic>
        <p:nvPicPr>
          <p:cNvPr id="149" name="cprompt.file.unix" descr=""/>
          <p:cNvPicPr/>
          <p:nvPr/>
        </p:nvPicPr>
        <p:blipFill>
          <a:blip r:embed="rId1"/>
          <a:stretch/>
        </p:blipFill>
        <p:spPr>
          <a:xfrm>
            <a:off x="2470320" y="2087640"/>
            <a:ext cx="36194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prompt- Proceed Example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clearprompt proceed -type warning -mask proceed -prompt “this command is restricted” -prefer_gui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  <p:pic>
        <p:nvPicPr>
          <p:cNvPr id="152" name="cprompt.proceed.unix" descr=""/>
          <p:cNvPicPr/>
          <p:nvPr/>
        </p:nvPicPr>
        <p:blipFill>
          <a:blip r:embed="rId1"/>
          <a:stretch/>
        </p:blipFill>
        <p:spPr>
          <a:xfrm>
            <a:off x="1582560" y="3130560"/>
            <a:ext cx="2143440" cy="1333440"/>
          </a:xfrm>
          <a:prstGeom prst="rect">
            <a:avLst/>
          </a:prstGeom>
          <a:ln w="0">
            <a:noFill/>
          </a:ln>
        </p:spPr>
      </p:pic>
      <p:pic>
        <p:nvPicPr>
          <p:cNvPr id="153" name="cprompt.proceed.win" descr=""/>
          <p:cNvPicPr/>
          <p:nvPr/>
        </p:nvPicPr>
        <p:blipFill>
          <a:blip r:embed="rId2"/>
          <a:stretch/>
        </p:blipFill>
        <p:spPr>
          <a:xfrm>
            <a:off x="4702320" y="3092400"/>
            <a:ext cx="26096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earprompt- yes_no Example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clearprompt yes_no -prompt “did you test this change with the BETA2.3 libs?” -prefer_gui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  <p:pic>
        <p:nvPicPr>
          <p:cNvPr id="156" name="cprompt.yesno.win" descr=""/>
          <p:cNvPicPr/>
          <p:nvPr/>
        </p:nvPicPr>
        <p:blipFill>
          <a:blip r:embed="rId1"/>
          <a:stretch/>
        </p:blipFill>
        <p:spPr>
          <a:xfrm>
            <a:off x="2554200" y="4324320"/>
            <a:ext cx="3857760" cy="1333440"/>
          </a:xfrm>
          <a:prstGeom prst="rect">
            <a:avLst/>
          </a:prstGeom>
          <a:ln w="0">
            <a:noFill/>
          </a:ln>
        </p:spPr>
      </p:pic>
      <p:pic>
        <p:nvPicPr>
          <p:cNvPr id="157" name="cprompt.yesno.unix" descr=""/>
          <p:cNvPicPr/>
          <p:nvPr/>
        </p:nvPicPr>
        <p:blipFill>
          <a:blip r:embed="rId2"/>
          <a:stretch/>
        </p:blipFill>
        <p:spPr>
          <a:xfrm>
            <a:off x="2889360" y="2892600"/>
            <a:ext cx="31622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Common Script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ative scripting languages for UNIX and Windows are not compati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e solution- adopt another scripting language recognized on both platfor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commended to use Per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arCase ships with Perl on both UNIX and Window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in/Perl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n UNIX;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in\ccperl.exe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on 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erl is similar to native UNIX scripting languag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arCase currently uses v5.002 on UNIX; v5.001 on Window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Common Script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other solution- obtain third party software that can support UNIX shell/commands on Windo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KS Toolki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ygWin32 (Cygnus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he GNU project at MIT (freely distributed software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OSIX package from Microsof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Hamilton Cshel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ree software available at http://download.com </a:t>
            </a:r>
            <a:r>
              <a:rPr b="0" i="1" lang="en-US" sz="2800" spc="-1" strike="noStrike">
                <a:solidFill>
                  <a:srgbClr val="dddddd"/>
                </a:solidFill>
                <a:latin typeface="Arial Narrow"/>
              </a:rPr>
              <a:t>(formerly freeware.com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roduc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iggers are a simple yet powerful extension to the ClearCase produ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Enables flexible support for a customized policy/proces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imple to complex solutions- allows for incremental adoption of proces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olutionary- not revolutio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No API or programming knowledge needed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ggers are fully documented and supported on all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Best to start small- avoid going “trigger happy”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ixed environments pose special challeng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Common Script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llback option- just maintain two sets of platform-specific scripts for trigg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an be supported by the “-excunix” and “-execwin” featur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ore administrative overhead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llows for “cleaner” script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No third-party software/applications needed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ay be desirable if using MultiSite between sites that do not share the same predominant platform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ite has administrative expertise in only one platform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Interop Challenges- Sendmail Suppor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3000"/>
          </a:bodyPr>
          <a:p>
            <a:pPr marL="425160" indent="-425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and line email not supported well on out-of-the-box Windo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ral email packages for Win32 systems to support email from command line or scrip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4120" indent="-212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BLAT! for Windows - http://www.interlog.com/~tcharron/blat.htm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44120" indent="-212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indMail- http://www.geocel.com/windmail/index.htm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44120" indent="-212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erl extention modules (Net::SMTP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44120" indent="-212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apisend.exe (from Microsoft ExchangeResource Kit; non-SMTP compliant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44120" indent="-212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lso look over at www.download.com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riggers in Ac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You can create trigger actions for the following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etadata type operations (-type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operations affecting elements (-element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ype operations includ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1181160" y="3963600"/>
            <a:ext cx="29844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3988800"/>
            <a:ext cx="29844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b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riggers in Action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erations on elements that can be triggered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774720" y="1955520"/>
            <a:ext cx="21844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c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chec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rese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ck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ty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nn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67160" y="2006280"/>
            <a:ext cx="21844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kbran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kel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ks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mbran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mel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mn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m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lo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065320"/>
            <a:ext cx="218448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kat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kh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klab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ktrig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mat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mh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mlab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mtrig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1640" y="5095080"/>
            <a:ext cx="824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lso many CLEAR env’s available- see mktrtype man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riggers in Action - example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very site should have an rmelem trigger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only allow certain users to remove element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leartool mktrtype -element -all -preop rmelem -nusers vobadm -exec “clearprompt proceed -prompt \”rmelem restricted.  Use rmversion or rmname instead \” -mask abort -default abort -prefer_gui” NO_RMELE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cprompt.rmelem" descr=""/>
          <p:cNvPicPr/>
          <p:nvPr/>
        </p:nvPicPr>
        <p:blipFill>
          <a:blip r:embed="rId1"/>
          <a:stretch/>
        </p:blipFill>
        <p:spPr>
          <a:xfrm>
            <a:off x="2016000" y="4194000"/>
            <a:ext cx="4324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riggers in Action- examples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force checkin com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cleartool mktrtype -element -all -preop checkin -nusers &lt;</a:t>
            </a:r>
            <a:r>
              <a:rPr b="1" i="1" lang="en-US" sz="2400" spc="-1" strike="noStrike">
                <a:solidFill>
                  <a:srgbClr val="00ff00"/>
                </a:solidFill>
                <a:latin typeface="Courier New"/>
              </a:rPr>
              <a:t>vob owner</a:t>
            </a: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&gt; -execunix “/</a:t>
            </a:r>
            <a:r>
              <a:rPr b="1" i="1" lang="en-US" sz="2400" spc="-1" strike="noStrike">
                <a:solidFill>
                  <a:srgbClr val="00ff00"/>
                </a:solidFill>
                <a:latin typeface="Courier New"/>
              </a:rPr>
              <a:t>path/to</a:t>
            </a: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/Perl /</a:t>
            </a:r>
            <a:r>
              <a:rPr b="1" i="1" lang="en-US" sz="2400" spc="-1" strike="noStrike">
                <a:solidFill>
                  <a:srgbClr val="00ff00"/>
                </a:solidFill>
                <a:latin typeface="Courier New"/>
              </a:rPr>
              <a:t>global/vobstore</a:t>
            </a: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/triggers/comment_trigger.pl” -execwin “\\</a:t>
            </a:r>
            <a:r>
              <a:rPr b="1" i="1" lang="en-US" sz="2400" spc="-1" strike="noStrike">
                <a:solidFill>
                  <a:srgbClr val="00ff00"/>
                </a:solidFill>
                <a:latin typeface="Courier New"/>
              </a:rPr>
              <a:t>UNC_path\to</a:t>
            </a: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\ccperl </a:t>
            </a:r>
            <a:r>
              <a:rPr b="1" i="1" lang="en-US" sz="2400" spc="-1" strike="noStrike">
                <a:solidFill>
                  <a:srgbClr val="dddddd"/>
                </a:solidFill>
                <a:latin typeface="Courier New"/>
              </a:rPr>
              <a:t>\\&lt;</a:t>
            </a:r>
            <a:r>
              <a:rPr b="1" i="1" lang="en-US" sz="2400" spc="-1" strike="noStrike">
                <a:solidFill>
                  <a:srgbClr val="00ff00"/>
                </a:solidFill>
                <a:latin typeface="Courier New"/>
              </a:rPr>
              <a:t>vob server&gt;\&lt;vob</a:t>
            </a: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ff00"/>
                </a:solidFill>
                <a:latin typeface="Courier New"/>
              </a:rPr>
              <a:t>share</a:t>
            </a:r>
            <a:r>
              <a:rPr b="1" i="1" lang="en-US" sz="2400" spc="-1" strike="noStrike">
                <a:solidFill>
                  <a:srgbClr val="dddddd"/>
                </a:solidFill>
                <a:latin typeface="Courier New"/>
              </a:rPr>
              <a:t>&gt;\</a:t>
            </a:r>
            <a:r>
              <a:rPr b="1" lang="en-US" sz="2400" spc="-1" strike="noStrike">
                <a:solidFill>
                  <a:srgbClr val="dddddd"/>
                </a:solidFill>
                <a:latin typeface="Courier New"/>
              </a:rPr>
              <a:t>triggers\comment_trigger.pl” NO_EMPTY_COMMENTS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riggers in Action- examples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ample comment trigger scrip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520560" y="2181600"/>
            <a:ext cx="83948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trigger script: comment_trigger.p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COMMENT=“$ENV{‘CLEARCASE_COMMENT’}”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ERRMSG=“You must supply a comment on checkin; please re-try checkin”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test for zero-length comment string provided by us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(length($COMMENT) &lt; 1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(“clearprompt proceed -prompt \”$ERRMSG\” -mask proceed -prefer_gui”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it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it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riggers in Action- examples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ost operation trigger to set permission on newly created directory element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you can call a ClearCase command directly from the trigger instead of a script: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artool mktrtype -element -all -postop mkelem -eltype directory -execunix ‘cleartool protect -chmod g+w $CLEARCASE_PN’ -execwin “cleartool protect -chmod g+w %CLEARCASE_PN%” CHMOD_NEW_DIRECTORI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riggers in Action- examples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nd email to administrator whenever new branches are worked on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artook mktrtype -type -postop mktype -brtype -all -exec &lt;</a:t>
            </a:r>
            <a:r>
              <a:rPr b="0" i="1" lang="en-US" sz="2800" spc="-1" strike="noStrike">
                <a:solidFill>
                  <a:srgbClr val="dddddd"/>
                </a:solidFill>
                <a:latin typeface="Arial Narrow"/>
              </a:rPr>
              <a:t>path to mail script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&gt; MAIL_BRTYPE_NOTIFY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Questions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dditional supplement material to this present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</a:rPr>
              <a:t>clearcase.rational.com/cciug/ruc99_pres/ccm28/ccm28_supp/triggertips.html</a:t>
            </a:r>
            <a:endParaRPr b="0" lang="en-US" sz="20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Narrow"/>
              </a:rPr>
              <a:t>copies in the back of the room!</a:t>
            </a:r>
            <a:endParaRPr b="0" lang="en-US" sz="20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commended reading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n page for mktrtype,mktrigger,clearprompt,type_object,lstyp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earCase User’s Manual- trigger section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ClearCase Windows/UNIX Interoper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, release 3.2.1 and later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What is a Trigger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1800" y="9396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9000"/>
          </a:bodyPr>
          <a:p>
            <a:pPr marL="452520" indent="-45252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 object within the VOB repository that executes a script or program upon a pre-determined ev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2000" indent="-22608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Execution returns either a zero or non-zero valu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188000" indent="-226080">
              <a:lnSpc>
                <a:spcPct val="7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preted by ClearCase to be true or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22608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False return values can limit action within VOB from proceeding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92000" indent="-22608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ctions include any operation within a VOB repository that creates,modifies, or deletes data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92000" indent="-22608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riggers have flexible scop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188000" indent="-226080">
              <a:lnSpc>
                <a:spcPct val="7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obal actions to specific files being monito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88000" indent="-226080">
              <a:lnSpc>
                <a:spcPct val="77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exclusion 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22608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upport pre and post event operation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rigger Limitation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nnot trigger on events outside of a VO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View creation, registry command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nnot trigger on “read-only” ev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iggers always execute on the invoking cli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No server-side execution supported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iggers are not supported global metadata typ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7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an’t share trigger objects in an AdminVob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7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ring order of multiple triggers on a single event is indetermin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rigger Limitations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ultiSite does not propagate trigger object typ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ultiSite synch import packets not affected by local trigg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s of release 3.2.1, you cannot trigger on the following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ODIFY_TYPE cptype 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erge command itself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rigger Limitations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7000"/>
          </a:bodyPr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iggers are not bullet-proof for enforcing secur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76160" indent="-221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ver or knowledgeable users can sometimes find ways to bypass trigger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76160" indent="-221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learCase still records full audit trail history of all modifications/additions/deletions regardles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iggers are an extra system overhead- use them wisel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76160" indent="-221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atch out for multiple triggers on common commands such as checkout,checkin,mkbranch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76160" indent="-221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Inefficient or buggy trigger scripts can impact the development environm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Do I Need a Trigger For This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o many triggers on common events can slow down performan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e if the lock() command can be used as an alternativ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ore efficient, also supports user exclusion list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duce the scope of a trigger if possi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ttach trigger to subset of elements instead of using -al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reate a new subset element type to trigger on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Do I Need a Trigger For This?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1800" y="850680"/>
            <a:ext cx="8490240" cy="4903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7000"/>
          </a:bodyPr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 limiting modification access by individual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76160" indent="-221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ake them out of the group list(s) that the VOB allows access to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76160" indent="-221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dd a new system group that includes the desired users and change the group ownership of the VOB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76160" indent="-221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isallow access to ClearCase entirely via “-nuser” in license fil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iggers simply enforce an existing policy/process- they should not define it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76160" indent="-221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If policy or process appears broken, fix the root causes, not the symptom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1T18:40:38Z</dcterms:created>
  <dc:creator>Steve Preston</dc:creator>
  <dc:description/>
  <dc:language>en-US</dc:language>
  <cp:lastModifiedBy>Rational Software</cp:lastModifiedBy>
  <cp:lastPrinted>1999-07-06T20:26:38Z</cp:lastPrinted>
  <dcterms:modified xsi:type="dcterms:W3CDTF">1999-07-06T20:27:06Z</dcterms:modified>
  <cp:revision>127</cp:revision>
  <dc:subject>United World Tour</dc:subject>
  <dc:title>No Slide Title</dc:title>
</cp:coreProperties>
</file>