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223E-58BE-457E-A7DE-C991AF551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CD5F-16A1-4C82-83E9-2B5A2343E8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3735-7337-4556-B150-7F9FAC723E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783E-E92F-4995-88DD-CCDB59E022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F84C-53A4-4369-91CC-2B18AE855E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A18A-A4E6-4558-886A-C3738C0935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DEA9-CD6B-48AE-93B0-D44FC0427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B8BD-481A-4732-AB01-0137B597B4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34F5-40F4-4B5F-A6D2-52661273F7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E0BA-B8F4-48C3-B516-740B43C7B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B3AD-DDDD-4D99-A328-3774D96D88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860D-D97B-45B8-8C72-FDDD97FF6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195960" y="833400"/>
          <a:ext cx="2948040" cy="602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5960" y="833400"/>
                    <a:ext cx="29480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6724800" y="6021360"/>
            <a:ext cx="221760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21080"/>
            <a:ext cx="5972040" cy="22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19760" y="-360"/>
            <a:ext cx="3324240" cy="6946920"/>
            <a:chOff x="5819760" y="-360"/>
            <a:chExt cx="3324240" cy="6946920"/>
          </a:xfrm>
        </p:grpSpPr>
        <p:grpSp>
          <p:nvGrpSpPr>
            <p:cNvPr id="47" name=""/>
            <p:cNvGrpSpPr/>
            <p:nvPr/>
          </p:nvGrpSpPr>
          <p:grpSpPr>
            <a:xfrm>
              <a:off x="5819760" y="-360"/>
              <a:ext cx="3324240" cy="6946920"/>
              <a:chOff x="5819760" y="-360"/>
              <a:chExt cx="3324240" cy="6946920"/>
            </a:xfrm>
          </p:grpSpPr>
          <p:sp>
            <p:nvSpPr>
              <p:cNvPr id="48" name=""/>
              <p:cNvSpPr/>
              <p:nvPr/>
            </p:nvSpPr>
            <p:spPr>
              <a:xfrm flipH="1" flipV="1">
                <a:off x="6337440" y="-360"/>
                <a:ext cx="2806560" cy="69469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819760" y="1352520"/>
                <a:ext cx="2806560" cy="4318200"/>
                <a:chOff x="5819760" y="1352520"/>
                <a:chExt cx="2806560" cy="4318200"/>
              </a:xfrm>
            </p:grpSpPr>
            <p:pic>
              <p:nvPicPr>
                <p:cNvPr id="50" name="mountainmain%20copy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9760" y="1352520"/>
                  <a:ext cx="280656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FINAL%20RUC.Log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81760" y="1538280"/>
                  <a:ext cx="2492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" name=""/>
            <p:cNvSpPr/>
            <p:nvPr/>
          </p:nvSpPr>
          <p:spPr>
            <a:xfrm>
              <a:off x="5975280" y="4095720"/>
              <a:ext cx="0" cy="142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sldNum" idx="1"/>
          </p:nvPr>
        </p:nvSpPr>
        <p:spPr>
          <a:xfrm>
            <a:off x="201600" y="604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6699ff"/>
                </a:solidFill>
                <a:latin typeface="Arial Narrow"/>
              </a:defRPr>
            </a:lvl1pPr>
          </a:lstStyle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CF044564-F8B8-40A2-A3F6-263FB68ABB18}" type="slidenum">
              <a:rPr b="1" lang="en-US" sz="20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indent="5724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077920"/>
            <a:ext cx="54464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SING CLEARCASE AND CLEARQUEST FOR COMMERCIAL WEBSITE DEVELOPMEN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3280" y="3939840"/>
            <a:ext cx="55785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n Mulli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co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880" y="6234120"/>
            <a:ext cx="21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CCM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stantaneous Website Rollback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3836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ery important capability -- product recal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had better be deterministi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ilover database (previous version) had better be ready, willing and able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y need to re-deploy code on portal or other websit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 we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y need to replay transactions from transaction lo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Use of ClearQu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3360" y="981000"/>
            <a:ext cx="845352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8000"/>
          </a:bodyPr>
          <a:p>
            <a:pPr marL="447840" indent="-44784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stomer problem request manage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ould be used on Internet but isn’t (yet, at this site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quests could be extremely urgent -- must not wait in email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47840" indent="-44784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ion with ClearC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ctually knowing when work is don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ctually knowing when work is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not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 don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bility to determine what changed between yesterday’s release and today’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need to keep deployed APIs synchronized with the “version” </a:t>
            </a:r>
            <a:br>
              <a:rPr sz="2400"/>
            </a:b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of the reservation databas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an use to review changes before releas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Quest: Coordinated Communic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1720" y="1009440"/>
            <a:ext cx="853092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2000"/>
          </a:bodyPr>
          <a:p>
            <a:pPr marL="420480" indent="-4204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vels of communication from “worst” to “best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Independent discovery and investigation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2" marL="1104120" indent="-2102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, you changed X, I though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4120" indent="-2102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, you didn’t change X yet, I thought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6200" indent="-21024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Non-persistent communication (voice, phone call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Persistent communication (email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Structured persistent communication, without enforcement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(threaded email discussion group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Structured persistent communication, with enforcement            (state transition models: e.g., defect or call tracking not integrated with configuration management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Structured persistent communication, with enforcement and integration (ClearQuest integrated with ClearCase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Quest: Hidden Trend Detec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3376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rdware, configured correctly, is a bottlenec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y are you touching this code / willy-nilly enhanc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ority inversions:  when people do unimportant things fir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 people are overload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kill sets are not optimally distributed at a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Case: Value of Features Used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822492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VFS (multi-version file syste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napshot vi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rectory version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IX /  NT interoper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ion with ClearQue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arious models of parallel develop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Case: Parallel Develop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8326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4000"/>
          </a:bodyPr>
          <a:p>
            <a:pPr marL="429480" indent="-4294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arallel releases with “old” version from long ago--doesn’t occu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ranch/merge parallel development for UNIX / C develop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abel-based staging for HTML / ASP develop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52040" indent="-21456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On a single branch (no branching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52040" indent="-21456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Works where there is no element-level parallelism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52040" indent="-21456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Trigger moves label on checkin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59240" y="1352520"/>
            <a:ext cx="620640" cy="4748040"/>
            <a:chOff x="5259240" y="1352520"/>
            <a:chExt cx="620640" cy="4748040"/>
          </a:xfrm>
        </p:grpSpPr>
        <p:sp>
          <p:nvSpPr>
            <p:cNvPr id="144" name=""/>
            <p:cNvSpPr/>
            <p:nvPr/>
          </p:nvSpPr>
          <p:spPr>
            <a:xfrm>
              <a:off x="5267160" y="2352600"/>
              <a:ext cx="606240" cy="574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67160" y="4492440"/>
              <a:ext cx="606240" cy="5749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73280" y="1352520"/>
              <a:ext cx="606600" cy="574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9240" y="3417840"/>
              <a:ext cx="606240" cy="574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62480" y="5526000"/>
              <a:ext cx="606240" cy="574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70280" y="1919160"/>
              <a:ext cx="0" cy="433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800" y="2981160"/>
              <a:ext cx="0" cy="433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5360" y="4035240"/>
              <a:ext cx="0" cy="433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49760" y="5087880"/>
              <a:ext cx="0" cy="433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776840" y="89928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Foo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0480" y="1488960"/>
            <a:ext cx="135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/main/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524400"/>
            <a:ext cx="135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/main/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268960"/>
            <a:ext cx="2352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/main/CHECKED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daniel_nt_vie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6440" y="4624560"/>
            <a:ext cx="135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/main/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67480" y="2523960"/>
            <a:ext cx="135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/main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3480" y="2620440"/>
            <a:ext cx="2077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LEASE_16JAN99_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8840" y="1509480"/>
            <a:ext cx="2078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LEASE_15JAN99_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46960" y="3538080"/>
            <a:ext cx="2077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AN_LA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80080" y="4655880"/>
            <a:ext cx="2078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NIEL_LA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97520" y="3746160"/>
            <a:ext cx="2078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LEASE_16JAN99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7880" y="4852800"/>
            <a:ext cx="2077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Case: Rollback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28072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involves simply moving back to a prior release lab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atabases may need to be re-initialized and transactions replay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happens rarely or the client would be out of busines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Case: Testing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06472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nctional testing can be done in dynamic vi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formance testing should be done in snapshot views or copied out of the MVF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esting almost invariably requires a separate, re-initialized version of the data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ral variants of the database are readily crea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Case: Deploy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3678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ployment can be done through snap-shot views or by copying out of the MVF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ployment may involve adding/resetting source cod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 multiple websi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This is OK as long as the database schema is upgraded first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database or databases may need to be initializ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 re-initializ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Questions and Answer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Presentation Overview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87822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usiness Overview for Vircon’s Cli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fferences Between Traditional Development and Website Develop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of ClearQue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of ClearC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eb Access Overview for Vircon’s Cli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24120" y="2257560"/>
            <a:ext cx="1495440" cy="1066680"/>
          </a:xfrm>
          <a:prstGeom prst="flowChartMagneticDisk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2600" y="1123920"/>
            <a:ext cx="981000" cy="819360"/>
          </a:xfrm>
          <a:prstGeom prst="pentagon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2419200"/>
            <a:ext cx="981000" cy="819360"/>
          </a:xfrm>
          <a:prstGeom prst="pentagon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960" y="3933720"/>
            <a:ext cx="495360" cy="314280"/>
          </a:xfrm>
          <a:prstGeom prst="pentagon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2920" y="4337640"/>
            <a:ext cx="252936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Over 8,000 hotel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inns, bed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breakfasts in 42 cou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5760" y="3431520"/>
            <a:ext cx="102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Client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4560" y="3035160"/>
            <a:ext cx="3333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eb Por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Yahoo (e.g. lodging.yahoo.c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A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Ly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Travelo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Convention and Visitors Burea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Reservation Call Cen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419200"/>
            <a:ext cx="1333440" cy="5716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2720" y="2371680"/>
            <a:ext cx="1409760" cy="714600"/>
          </a:xfrm>
          <a:prstGeom prst="flowChartAlternateProcess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End Us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4600" y="1076400"/>
            <a:ext cx="1333440" cy="57132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5320" y="1739880"/>
            <a:ext cx="154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Client’s Web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495840" y="2714760"/>
            <a:ext cx="82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448320" y="1533240"/>
            <a:ext cx="952560" cy="80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48000" y="2695680"/>
            <a:ext cx="8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038480" y="1486080"/>
            <a:ext cx="1067040" cy="723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685880" y="2867040"/>
            <a:ext cx="8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57120" y="3228840"/>
            <a:ext cx="1314360" cy="571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523520" y="1828800"/>
            <a:ext cx="1047960" cy="581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2440" y="2380320"/>
            <a:ext cx="33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0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34120" y="2142000"/>
            <a:ext cx="33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0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0" y="2208600"/>
            <a:ext cx="33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0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Vircon’s Cli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1440" y="936360"/>
            <a:ext cx="845532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atabase broker” for over 8,000 hotels, bed and breakfasts and inns in 42 count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llects a 5%  to 10%  transaction charge for selling a ro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vides Internet promotion to millions for a customer with only one room to sell on a given da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ays fees to portals and distributors when a room is so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erates a website in addition to an Internet data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distributor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finite supply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not easily replicated by competitors (e.g., only X rooms available at location Y on date Z -- very different from consumer retail sal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ample Use Case:  Internet User Buys a Room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87822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r logs onto Inter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r navigates to portal or the client’s websi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r goes to lodging section and gets specifi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r is now (unknowingly) getting pages (partially or fully) served by the client’s data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atabase checks availability of requested ro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ansaction executed if room available, innkeeper notified by email, fax or database upd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Narrow"/>
              </a:rPr>
              <a:t>Sample Use Case: Innkeeper Updates Room Availability</a:t>
            </a:r>
            <a:endParaRPr b="1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81946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nkeeper determines availability a given period 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nkeeper sends formatted email or logs onto special website to update availability, price, terms, etc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client’s database updates availability in real-time for unsold roo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echnical Characteristic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65512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30 develop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laris-based development (C APIs with embedded SQ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T-based development (ASP pages, HTM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tscape Enterprise Server, Internet Information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ybase Data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6,000 files (C source, database initialization scripts, stored procedures, ASP, HTM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Java or C++;  good, old UNIX / C instea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developers wanted ClearCase because of UNIX / C background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aditional Versus Website Develop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893520"/>
            <a:ext cx="8489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85000"/>
          </a:bodyPr>
          <a:p>
            <a:pPr marL="388440" indent="-3884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sign, Build and Oper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80040" indent="-1940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You design the building…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680040" indent="-1940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You build the building…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680040" indent="-1940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You move into the building with your customers!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388440" indent="-3884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ort QA cyc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-3884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ily deploy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-3884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ick (very quick) response required for proble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-3884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mediate liability on err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80040" indent="-1940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oss of reputation or membershi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680040" indent="-1940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inancial liabil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y so much change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1680" y="981000"/>
            <a:ext cx="842652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b-businesses as a whole forced to expand into neighboring markets to capitalize costs (e.g., Amazon now into auctions): economies of scope and sca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portunities for immediate revenue recognition on releas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and different combinations of items to promo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and different channels to promote items throug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hits against larger database tab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hardware with different configurations to run the servers to handle the hi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d on and on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18:40:38Z</dcterms:created>
  <dc:creator>Steve Preston</dc:creator>
  <dc:description/>
  <dc:language>en-US</dc:language>
  <cp:lastModifiedBy>Rational Software</cp:lastModifiedBy>
  <cp:lastPrinted>1999-06-28T18:12:43Z</cp:lastPrinted>
  <dcterms:modified xsi:type="dcterms:W3CDTF">1999-06-28T18:15:50Z</dcterms:modified>
  <cp:revision>165</cp:revision>
  <dc:subject>United World Tour</dc:subject>
  <dc:title>No Slide Title</dc:title>
</cp:coreProperties>
</file>