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Futura"/>
                <a:ea typeface="Futura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872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99"/>
                </a:solidFill>
                <a:latin typeface="Futura"/>
                <a:ea typeface="Futu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Futura"/>
                <a:ea typeface="Futu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1560" y="696600"/>
            <a:ext cx="45748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-180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99"/>
                </a:solidFill>
                <a:latin typeface="Futura"/>
                <a:ea typeface="Futu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Futura"/>
                <a:ea typeface="Futur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8728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99"/>
                </a:solidFill>
                <a:latin typeface="Futura"/>
                <a:ea typeface="Futu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B69E560-7658-4A56-84EA-267826A94D49}" type="slidenum">
              <a:rPr b="0" i="1" lang="en-US" sz="1000" spc="-1" strike="noStrike">
                <a:solidFill>
                  <a:srgbClr val="000099"/>
                </a:solidFill>
                <a:latin typeface="Futura"/>
                <a:ea typeface="Futu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 make sure the ‘Split Pool Map’ reads something like: \c\cdft\=\\unixmachine\pool\c\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 (notice the trailing backslash) -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 You cannot edit a UNIX view config spec from NT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because it will insert ^M characters.  You must edit them from UNIX.  This does not cause problems, however, because that config spec is evaluated on UNIX (since it is a UNIX View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195960" y="833400"/>
          <a:ext cx="2948040" cy="602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5960" y="833400"/>
                    <a:ext cx="29480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1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0024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5"/>
          <a:stretch/>
        </p:blipFill>
        <p:spPr>
          <a:xfrm>
            <a:off x="6724800" y="6021360"/>
            <a:ext cx="2217600" cy="64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716040"/>
            <a:ext cx="9144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21080"/>
            <a:ext cx="5972040" cy="22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819760" y="-360"/>
            <a:ext cx="3324240" cy="6946920"/>
            <a:chOff x="5819760" y="-360"/>
            <a:chExt cx="3324240" cy="6946920"/>
          </a:xfrm>
        </p:grpSpPr>
        <p:grpSp>
          <p:nvGrpSpPr>
            <p:cNvPr id="47" name=""/>
            <p:cNvGrpSpPr/>
            <p:nvPr/>
          </p:nvGrpSpPr>
          <p:grpSpPr>
            <a:xfrm>
              <a:off x="5819760" y="-360"/>
              <a:ext cx="3324240" cy="6946920"/>
              <a:chOff x="5819760" y="-360"/>
              <a:chExt cx="3324240" cy="6946920"/>
            </a:xfrm>
          </p:grpSpPr>
          <p:sp>
            <p:nvSpPr>
              <p:cNvPr id="48" name=""/>
              <p:cNvSpPr/>
              <p:nvPr/>
            </p:nvSpPr>
            <p:spPr>
              <a:xfrm flipH="1" flipV="1">
                <a:off x="6337440" y="-360"/>
                <a:ext cx="2806560" cy="69469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5819760" y="1352520"/>
                <a:ext cx="2806560" cy="4318200"/>
                <a:chOff x="5819760" y="1352520"/>
                <a:chExt cx="2806560" cy="4318200"/>
              </a:xfrm>
            </p:grpSpPr>
            <p:pic>
              <p:nvPicPr>
                <p:cNvPr id="50" name="mountainmain%20copy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9760" y="1352520"/>
                  <a:ext cx="2806560" cy="431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FINAL%20RUC.Log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81760" y="1538280"/>
                  <a:ext cx="2492280" cy="3921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" name=""/>
            <p:cNvSpPr/>
            <p:nvPr/>
          </p:nvSpPr>
          <p:spPr>
            <a:xfrm>
              <a:off x="5975280" y="4095720"/>
              <a:ext cx="0" cy="142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indent="5724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EARCASE UNIX / WINDOWS INTEROPERATION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3280" y="3525480"/>
            <a:ext cx="557856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Murdock and Kent Se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9880" y="6234120"/>
            <a:ext cx="235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CCM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Region Synchronizer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d to create a VOB/view tags in the Windows NT reg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th the UNIX and Windows NT machines must be using the same registry host, but different region names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if they do not share the same Registry Server, use the mktag manually and register the VOB\View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torage Pool Mapping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65360" y="1371600"/>
            <a:ext cx="3878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 the Create VOB Tag dialog box, click Show Mount Op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the VOB has linked storage pools, they must be specified in the Region Synchroniz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16888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4267080" y="4648320"/>
            <a:ext cx="14479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2362320"/>
            <a:ext cx="6603840" cy="2019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a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22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fc"/>
                </a:solidFill>
                <a:latin typeface="Arial"/>
              </a:rPr>
              <a:t>Interop (MS-DOS) Text Mo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at is Interop (msdos) Mode? 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89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9000"/>
          </a:bodyPr>
          <a:p>
            <a:pPr marL="452520" indent="-45252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erating systems use different character sequences to terminate lines in text fi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NIX style applications uses just &lt;LF&gt;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S-DOS style applications use &lt;CR&gt;&lt;LF&gt;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fault “UNIX” text mode = “as presented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ill store &lt;CR&gt;&lt;LF&gt; if all MS-DOS style applic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S-DOS” text mode = “Interop mod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tores in VOB as &lt;LF&gt;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esents to MS-DOS text mode views as &lt;CR&gt;&lt;LF&gt;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Do You Need to Worry About msdos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1440" y="1447920"/>
            <a:ext cx="8782200" cy="3936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X/Windows developers touch different code - N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velopers share code but all use the same style editors (UNIX or Windows) - N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ext is stored in the common format in the VOB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xample: Use vi on UNIX and Window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velopers sometimes use UNIX style editors and sometimes Windows style editors - Y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How to Share Code between Platform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47120" cy="4840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89000"/>
          </a:bodyPr>
          <a:p>
            <a:pPr marL="406800" indent="-4068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develop in parallel on UNIX and 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2080" indent="-203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se UNIX style view (the default) on UNIX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12080" indent="-203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se msdos style view on NT (Advanced option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06800" indent="-4068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VOB must then be msdos enabled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do that, run the msdostext_mode command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6800" indent="-4068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OTH of the above need to be don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ing one without the other does nothing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6800" indent="-4068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unning in Interop (msdos) mode tells the VOB database to create TWO cleartext containers: one for the UNIX view and different on for the NT view.  The source containers are NOT affected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1752480"/>
            <a:ext cx="6603840" cy="2019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a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22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fc"/>
                </a:solidFill>
                <a:latin typeface="Arial"/>
              </a:rPr>
              <a:t>Case Sensitiv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MVFS Case Sensitivity Issue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89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VFS default is case insensitive and downcas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ase sensitive mode on NT is NOT recommend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ase preserving may be elected if desired (e.g. Java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 Enabling case preserving when accessing existing projects that have files that were already downcased may cause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erify that the NFS/SMB setting is to preserve ca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eartool (any cleartool command) is case sensitiv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his is </a:t>
            </a:r>
            <a:r>
              <a:rPr b="1" lang="en-US" sz="2800" spc="-1" strike="noStrike">
                <a:solidFill>
                  <a:srgbClr val="dddddd"/>
                </a:solidFill>
                <a:latin typeface="Arial Narrow"/>
              </a:rPr>
              <a:t>always true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, even when the MVFS is set to be case insensitiv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2286000"/>
            <a:ext cx="6603840" cy="2019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a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22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fc"/>
                </a:solidFill>
                <a:latin typeface="Arial"/>
              </a:rPr>
              <a:t>Trigg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New Method of Sharing Trigger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89880" cy="49928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eartool mktrtype command now has  -execunix and -execwin actions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his method can be found in ClearCase 3.2+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hese actions behave the same as -exec when fired on the appropriate platform, UNIX or Windows 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n the other platform they do noth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s allows a single trigger type to use different paths for the same scrip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single trigger type can even have completely different scripts on UNIX and Windows NT hos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3760" y="1447920"/>
            <a:ext cx="8489880" cy="3900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:  ClearCase &amp; NT/UNIX Interoper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siderations for Deployme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roperability Op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mmary:  Issues and Tip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erability Option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89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oosing an interoperation solution and set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 on latest iss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blem diagnosis tip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96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y Do We Need an Interop Solution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1444680"/>
            <a:ext cx="848988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VFS has to send its request to a file system dri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everages existing filesystem technolog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AT, NTFS, LanMan, or NFS driver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earCase applications and Snapshot vie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tilize one of above choices or CCF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ertified ClearCase Interop Solution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49024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2000"/>
          </a:bodyPr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FS:  Windows NT client software - choice of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HummingBird NFS Maestro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ntergraph DiskAcces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icrosoft NT Services for UNIX Add-On pack NFS Cli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etManage Chameleon UNIXLink (through 7.01/CC 3.x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MB: UNIX server software - single vendor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yntax TotalNET Advanced Server (TAS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CFS:  ClearCase File Serve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ption for Windows snapshot views to UNIX VOB connectiv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Hummingbird NFS Maestro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6.1.1 release recommend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upports full UNC and multi-level share issu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Version 6.1.1.1 latest supported patch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estro “DOS sharing” mode conflicts with C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ust be disabled or will cause file access error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0" y="457200"/>
            <a:ext cx="8999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graph DiskAccess NFS and </a:t>
            </a:r>
            <a:br>
              <a:rPr sz="4200"/>
            </a:b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Microsoft SFU NFS Cli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89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kAccess NF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ull UNC suppor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quires special “clearcase_albd” account setup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o outstanding problems with 3.2.0.11/4.1.0.7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crosoft NT Services for UNIX (SFU) Add-On pac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upports NT 4.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Based on DiskAccess NFS cli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NetManage Chameleon / UNIXLink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8988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ed at v7.01 for ClearCase 3.X relea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tManage architecture change at v7.02 introduced ClearCase incompatibility probl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tManage migrating customers to InterDrive 5.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yntax TotalNet Advanced Server (TAS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8988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latform suppor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urrent support for Solaris 2.5.1 and abov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HP-UX 11.0 (available now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IX support anticipated Q1 200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tilizes LanMan redirector and SMB protoc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o client setup or changes requir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rver side administration through Web interfac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e Web site paper to walk through TAS setup issues: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clearcase.rational.com/literature/TA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CFS 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vides for transfer of files - client &lt;=&gt; UNIX VO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es additional error check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es not require any 3rd party interop solution when used with snapshot vie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t able to be used by the MVF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VFS still requires a file system driver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 Enabling CCFS w/dynamic views uses a mix of transfer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ummary:  Issues and Tip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654120" y="2271600"/>
            <a:ext cx="848988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C Support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roperation Diagnostic T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UNC Support Issue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\\host\share” - path sent to all UNC provid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kAccess/SFU/TAS/Maestro 6.1.1 fully suppor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estro 6.1.0 and NetManage - limited sup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quired priming of host and sharenam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napshot views always use UN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ynamic views can use drive let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nabled automounting NFS option and use prefix map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Case Today &amp; Tomorrow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inued coverage on all Windows and popular UNIX platfor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oice of certified interoperability solu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b access to ClearCase regardless of platfor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UNC Support Issue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-level tag issue with Maestro (pre 6.1.1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hare “\\host\export\home” is seen as “\\host\home”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Case tag needs to be told this mapp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goff/Logon - lose drive mapping issu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oblem with a stale prefix map in 3.2.1 or 3.2 with no logon ac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ffects all automounting NFS stack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atch available for 3.2.1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Best fix is to use UNC nam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2320" y="533520"/>
            <a:ext cx="3384360" cy="2315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101"/>
                  </a:solidFill>
                  <a:miter/>
                </a:ln>
                <a:solidFill>
                  <a:srgbClr val="ff0101"/>
                </a:solidFill>
                <a:latin typeface="Arial Black"/>
              </a:rPr>
              <a:t>Fixed 6.1.1</a:t>
            </a:r>
            <a:endParaRPr b="0" lang="en-US" sz="2400" spc="1" strike="noStrike">
              <a:ln w="9360">
                <a:solidFill>
                  <a:srgbClr val="ff0101"/>
                </a:solidFill>
                <a:miter/>
              </a:ln>
              <a:solidFill>
                <a:srgbClr val="ff01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Diagnosis Tip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490240" cy="5043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 the MVF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hat operation(s) on what file(s) is the MVFS trying to perform when the error occurs?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nd perform the (or similar) operation outside of ClearC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how me the ClearTex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hat are the names of the cleartext files it is accessing?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vfsstorage” - reports cleartext filen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”, “cleartool ls”, “cleartool desc”, “cleartool dum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vfsstorage  - reports path used to reach the fil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 kernel path needing trans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Device/Mup -&gt; UNC p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eration Diagnostic Tip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mple:  Error typing “foo.c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vfsstorage foo.c -&gt; get cleartext filenam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ype \\host\share\xxxx\xxxx\c\cdft\16\8\784242134.898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twork provider order determines which is used when NFS stack and LanMan both pres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earCase automounting of NFS drives for non-UNC NFS cli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tilizes a prefix mapping (X: =&gt; \\hostname\share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%ATRIAHOME%\etc\utils\pfxmap -l (lists prefix map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000" y="123840"/>
            <a:ext cx="8999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ank You!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120" y="123840"/>
            <a:ext cx="9056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hanges of Supported Interop Solution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tManage Chameleon UNIXLin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crosoft Services for UNIX Add-On Pack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(NFS clien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yntax TotalNET Advanced Server (TAS) Upd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onsiderations for Deploy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3760" y="1295280"/>
            <a:ext cx="848988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ermiss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gion Synchroniz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sdostext_mode iss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se Sensitivity iss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2133720"/>
            <a:ext cx="6603840" cy="2019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a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22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fc"/>
                </a:solidFill>
                <a:latin typeface="Arial"/>
              </a:rPr>
              <a:t>Per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text Construction Error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477280" cy="5232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st common problem when setting up an interop environment is ClearCase construction erro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499"/>
              </a:spcBef>
              <a:spcAft>
                <a:spcPts val="499"/>
              </a:spcAft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view_server.exe(443): Error: Unable to construct cleartext for object "0x5B3" in VOB "dingo:C:\vob_store\test.vbs": error detected by ClearCase subsystem</a:t>
            </a:r>
            <a:r>
              <a:rPr b="0" lang="en-US" sz="36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499"/>
              </a:spcBef>
              <a:spcAft>
                <a:spcPts val="499"/>
              </a:spcAft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ccess through NT Explorer will bring up a System Process - Fatal Application Exit mvfs: ERROR: view=viewname vob=\vobname - ClearCase vob error see view_log on  host hostname for more info</a:t>
            </a:r>
            <a:r>
              <a:rPr b="0" lang="en-US" sz="36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(and the file will seem to disappear in the GUI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499"/>
              </a:spcBef>
              <a:spcAft>
                <a:spcPts val="499"/>
              </a:spcAft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Cleartool ls will yield :   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[checkedout but removed]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X/NT Usernames and Groups must match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use credmap command to verif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Map/Register the </a:t>
            </a:r>
            <a:r>
              <a:rPr b="0" i="1" lang="en-US" sz="4200" spc="-1" strike="noStrike">
                <a:solidFill>
                  <a:srgbClr val="ffcc00"/>
                </a:solidFill>
                <a:latin typeface="Arial Narrow"/>
              </a:rPr>
              <a:t>clearcase_albd</a:t>
            </a: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 Accou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629560" cy="458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NT machine clearcase_albd process contacts the UNIX server requesting the checkout (in turn, requesting that cleartext be creat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the clearcase_albd account is not recognized on the UNIX server, the checkout request will fai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correct the proble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p the clearcase_albd account or register the clearcase_albd account in the NFS/SMB product (please refer to the UNIX/Windows NT Interoperation manual for instructions on doing this for the different products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2209680"/>
            <a:ext cx="6604200" cy="2019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a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22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fc"/>
                </a:solidFill>
                <a:latin typeface="Arial"/>
              </a:rPr>
              <a:t>The Region Synchroniz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ure Atria User</dc:creator>
  <dc:description/>
  <dc:language>en-US</dc:language>
  <cp:lastModifiedBy>Kent</cp:lastModifiedBy>
  <cp:lastPrinted>1999-04-30T19:38:04Z</cp:lastPrinted>
  <dcterms:modified xsi:type="dcterms:W3CDTF">1999-08-02T12:12:46Z</dcterms:modified>
  <cp:revision>167</cp:revision>
  <dc:subject/>
  <dc:title>ClearCase UNIX / Windows Interoperation</dc:title>
</cp:coreProperties>
</file>