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0400" y="3254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308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040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308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8400" y="110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6040" y="110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0400" y="3254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8400" y="3254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6040" y="3254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308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8280" y="123840"/>
            <a:ext cx="9910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308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040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308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3080" y="3254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3080" y="110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0400" y="3254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51800" y="6621480"/>
            <a:ext cx="8967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41120" y="689040"/>
            <a:ext cx="8812440" cy="98280"/>
            <a:chOff x="141120" y="689040"/>
            <a:chExt cx="8812440" cy="98280"/>
          </a:xfrm>
        </p:grpSpPr>
        <p:sp>
          <p:nvSpPr>
            <p:cNvPr id="4" name=""/>
            <p:cNvSpPr/>
            <p:nvPr/>
          </p:nvSpPr>
          <p:spPr>
            <a:xfrm>
              <a:off x="141120" y="738360"/>
              <a:ext cx="8812440" cy="0"/>
            </a:xfrm>
            <a:prstGeom prst="line">
              <a:avLst/>
            </a:prstGeom>
            <a:ln w="12600">
              <a:solidFill>
                <a:srgbClr val="ff0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400000">
              <a:off x="4522680" y="690480"/>
              <a:ext cx="98280" cy="95040"/>
            </a:xfrm>
            <a:prstGeom prst="triangle">
              <a:avLst>
                <a:gd name="adj" fmla="val 49977"/>
              </a:avLst>
            </a:prstGeom>
            <a:solidFill>
              <a:srgbClr val="00ff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99120" y="5254560"/>
            <a:ext cx="2186280" cy="154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2680" y="233352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Beyond the BPD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xtending the ClearGuide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ocess Model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5227560"/>
            <a:ext cx="56228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an Lehots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Softwar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smgmt@tiac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BPD / DDTS Integration (cont.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F (Emergency Bug Fix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ream with setup filled 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activity (bugfix, table-change, etc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ease activity pre-gener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updating of DDTS pick-li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setup adds lines to oneof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shutdown removes l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omotion Model of Relea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143000" y="2825640"/>
            <a:ext cx="1600200" cy="1244880"/>
            <a:chOff x="1143000" y="2825640"/>
            <a:chExt cx="1600200" cy="1244880"/>
          </a:xfrm>
        </p:grpSpPr>
        <p:grpSp>
          <p:nvGrpSpPr>
            <p:cNvPr id="73" name=""/>
            <p:cNvGrpSpPr/>
            <p:nvPr/>
          </p:nvGrpSpPr>
          <p:grpSpPr>
            <a:xfrm>
              <a:off x="1143000" y="2825640"/>
              <a:ext cx="1600200" cy="1244880"/>
              <a:chOff x="1143000" y="2825640"/>
              <a:chExt cx="1600200" cy="1244880"/>
            </a:xfrm>
          </p:grpSpPr>
          <p:sp>
            <p:nvSpPr>
              <p:cNvPr id="74" name=""/>
              <p:cNvSpPr/>
              <p:nvPr/>
            </p:nvSpPr>
            <p:spPr>
              <a:xfrm>
                <a:off x="1149480" y="2825640"/>
                <a:ext cx="158724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149480" y="3701880"/>
                <a:ext cx="1587240" cy="368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43000" y="2978280"/>
                <a:ext cx="0" cy="90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3200" y="2978280"/>
                <a:ext cx="0" cy="90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586520" y="327816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581280" y="3359160"/>
            <a:ext cx="1600200" cy="1244520"/>
            <a:chOff x="3581280" y="3359160"/>
            <a:chExt cx="1600200" cy="1244520"/>
          </a:xfrm>
        </p:grpSpPr>
        <p:grpSp>
          <p:nvGrpSpPr>
            <p:cNvPr id="80" name=""/>
            <p:cNvGrpSpPr/>
            <p:nvPr/>
          </p:nvGrpSpPr>
          <p:grpSpPr>
            <a:xfrm>
              <a:off x="3581280" y="3359160"/>
              <a:ext cx="1600200" cy="1244520"/>
              <a:chOff x="3581280" y="3359160"/>
              <a:chExt cx="1600200" cy="1244520"/>
            </a:xfrm>
          </p:grpSpPr>
          <p:sp>
            <p:nvSpPr>
              <p:cNvPr id="81" name=""/>
              <p:cNvSpPr/>
              <p:nvPr/>
            </p:nvSpPr>
            <p:spPr>
              <a:xfrm>
                <a:off x="3587760" y="3359160"/>
                <a:ext cx="158760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87760" y="4235400"/>
                <a:ext cx="158760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81280" y="3511440"/>
                <a:ext cx="0" cy="90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81480" y="3511440"/>
                <a:ext cx="0" cy="90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3796920" y="3795840"/>
              <a:ext cx="1161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095880" y="3587760"/>
            <a:ext cx="1600200" cy="1244520"/>
            <a:chOff x="6095880" y="3587760"/>
            <a:chExt cx="1600200" cy="1244520"/>
          </a:xfrm>
        </p:grpSpPr>
        <p:grpSp>
          <p:nvGrpSpPr>
            <p:cNvPr id="87" name=""/>
            <p:cNvGrpSpPr/>
            <p:nvPr/>
          </p:nvGrpSpPr>
          <p:grpSpPr>
            <a:xfrm>
              <a:off x="6095880" y="3587760"/>
              <a:ext cx="1600200" cy="1244520"/>
              <a:chOff x="6095880" y="3587760"/>
              <a:chExt cx="1600200" cy="1244520"/>
            </a:xfrm>
          </p:grpSpPr>
          <p:sp>
            <p:nvSpPr>
              <p:cNvPr id="88" name=""/>
              <p:cNvSpPr/>
              <p:nvPr/>
            </p:nvSpPr>
            <p:spPr>
              <a:xfrm>
                <a:off x="6102360" y="3587760"/>
                <a:ext cx="158760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02360" y="4464000"/>
                <a:ext cx="158760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95880" y="3740040"/>
                <a:ext cx="0" cy="90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96080" y="3740040"/>
                <a:ext cx="0" cy="90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6387840" y="4024440"/>
              <a:ext cx="99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267080" y="2819520"/>
            <a:ext cx="3506760" cy="915840"/>
            <a:chOff x="4267080" y="2819520"/>
            <a:chExt cx="3506760" cy="915840"/>
          </a:xfrm>
        </p:grpSpPr>
        <p:sp>
          <p:nvSpPr>
            <p:cNvPr id="94" name=""/>
            <p:cNvSpPr/>
            <p:nvPr/>
          </p:nvSpPr>
          <p:spPr>
            <a:xfrm>
              <a:off x="4267080" y="2819520"/>
              <a:ext cx="2057400" cy="680760"/>
            </a:xfrm>
            <a:custGeom>
              <a:avLst/>
              <a:gdLst/>
              <a:ahLst/>
              <a:rect l="l" t="t" r="r" b="b"/>
              <a:pathLst>
                <a:path w="1296" h="429">
                  <a:moveTo>
                    <a:pt x="669" y="0"/>
                  </a:moveTo>
                  <a:lnTo>
                    <a:pt x="1295" y="0"/>
                  </a:lnTo>
                  <a:lnTo>
                    <a:pt x="1202" y="12"/>
                  </a:lnTo>
                  <a:lnTo>
                    <a:pt x="1119" y="30"/>
                  </a:lnTo>
                  <a:lnTo>
                    <a:pt x="1048" y="55"/>
                  </a:lnTo>
                  <a:lnTo>
                    <a:pt x="981" y="83"/>
                  </a:lnTo>
                  <a:lnTo>
                    <a:pt x="913" y="125"/>
                  </a:lnTo>
                  <a:lnTo>
                    <a:pt x="857" y="168"/>
                  </a:lnTo>
                  <a:lnTo>
                    <a:pt x="807" y="216"/>
                  </a:lnTo>
                  <a:lnTo>
                    <a:pt x="762" y="279"/>
                  </a:lnTo>
                  <a:lnTo>
                    <a:pt x="732" y="331"/>
                  </a:lnTo>
                  <a:lnTo>
                    <a:pt x="706" y="385"/>
                  </a:lnTo>
                  <a:lnTo>
                    <a:pt x="693" y="428"/>
                  </a:lnTo>
                  <a:lnTo>
                    <a:pt x="0" y="428"/>
                  </a:lnTo>
                  <a:lnTo>
                    <a:pt x="12" y="392"/>
                  </a:lnTo>
                  <a:lnTo>
                    <a:pt x="28" y="353"/>
                  </a:lnTo>
                  <a:lnTo>
                    <a:pt x="45" y="318"/>
                  </a:lnTo>
                  <a:lnTo>
                    <a:pt x="58" y="291"/>
                  </a:lnTo>
                  <a:lnTo>
                    <a:pt x="81" y="256"/>
                  </a:lnTo>
                  <a:lnTo>
                    <a:pt x="113" y="216"/>
                  </a:lnTo>
                  <a:lnTo>
                    <a:pt x="142" y="188"/>
                  </a:lnTo>
                  <a:lnTo>
                    <a:pt x="177" y="158"/>
                  </a:lnTo>
                  <a:lnTo>
                    <a:pt x="197" y="142"/>
                  </a:lnTo>
                  <a:lnTo>
                    <a:pt x="224" y="122"/>
                  </a:lnTo>
                  <a:lnTo>
                    <a:pt x="253" y="103"/>
                  </a:lnTo>
                  <a:lnTo>
                    <a:pt x="293" y="80"/>
                  </a:lnTo>
                  <a:lnTo>
                    <a:pt x="324" y="66"/>
                  </a:lnTo>
                  <a:lnTo>
                    <a:pt x="350" y="55"/>
                  </a:lnTo>
                  <a:lnTo>
                    <a:pt x="382" y="43"/>
                  </a:lnTo>
                  <a:lnTo>
                    <a:pt x="418" y="31"/>
                  </a:lnTo>
                  <a:lnTo>
                    <a:pt x="452" y="22"/>
                  </a:lnTo>
                  <a:lnTo>
                    <a:pt x="497" y="12"/>
                  </a:lnTo>
                  <a:lnTo>
                    <a:pt x="543" y="5"/>
                  </a:lnTo>
                  <a:lnTo>
                    <a:pt x="582" y="2"/>
                  </a:lnTo>
                  <a:lnTo>
                    <a:pt x="623" y="0"/>
                  </a:lnTo>
                  <a:lnTo>
                    <a:pt x="669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22960" y="2819520"/>
              <a:ext cx="2450880" cy="915840"/>
            </a:xfrm>
            <a:custGeom>
              <a:avLst/>
              <a:gdLst/>
              <a:ahLst/>
              <a:rect l="l" t="t" r="r" b="b"/>
              <a:pathLst>
                <a:path w="1544" h="577">
                  <a:moveTo>
                    <a:pt x="640" y="0"/>
                  </a:moveTo>
                  <a:lnTo>
                    <a:pt x="678" y="0"/>
                  </a:lnTo>
                  <a:lnTo>
                    <a:pt x="739" y="2"/>
                  </a:lnTo>
                  <a:lnTo>
                    <a:pt x="809" y="9"/>
                  </a:lnTo>
                  <a:lnTo>
                    <a:pt x="859" y="21"/>
                  </a:lnTo>
                  <a:lnTo>
                    <a:pt x="912" y="35"/>
                  </a:lnTo>
                  <a:lnTo>
                    <a:pt x="955" y="50"/>
                  </a:lnTo>
                  <a:lnTo>
                    <a:pt x="990" y="66"/>
                  </a:lnTo>
                  <a:lnTo>
                    <a:pt x="1037" y="89"/>
                  </a:lnTo>
                  <a:lnTo>
                    <a:pt x="1078" y="112"/>
                  </a:lnTo>
                  <a:lnTo>
                    <a:pt x="1115" y="136"/>
                  </a:lnTo>
                  <a:lnTo>
                    <a:pt x="1155" y="168"/>
                  </a:lnTo>
                  <a:lnTo>
                    <a:pt x="1193" y="203"/>
                  </a:lnTo>
                  <a:lnTo>
                    <a:pt x="1216" y="228"/>
                  </a:lnTo>
                  <a:lnTo>
                    <a:pt x="1236" y="253"/>
                  </a:lnTo>
                  <a:lnTo>
                    <a:pt x="1254" y="279"/>
                  </a:lnTo>
                  <a:lnTo>
                    <a:pt x="1267" y="301"/>
                  </a:lnTo>
                  <a:lnTo>
                    <a:pt x="1277" y="319"/>
                  </a:lnTo>
                  <a:lnTo>
                    <a:pt x="1287" y="341"/>
                  </a:lnTo>
                  <a:lnTo>
                    <a:pt x="1297" y="364"/>
                  </a:lnTo>
                  <a:lnTo>
                    <a:pt x="1306" y="393"/>
                  </a:lnTo>
                  <a:lnTo>
                    <a:pt x="1319" y="428"/>
                  </a:lnTo>
                  <a:lnTo>
                    <a:pt x="1543" y="428"/>
                  </a:lnTo>
                  <a:lnTo>
                    <a:pt x="1008" y="576"/>
                  </a:lnTo>
                  <a:lnTo>
                    <a:pt x="365" y="428"/>
                  </a:lnTo>
                  <a:lnTo>
                    <a:pt x="618" y="428"/>
                  </a:lnTo>
                  <a:lnTo>
                    <a:pt x="609" y="405"/>
                  </a:lnTo>
                  <a:lnTo>
                    <a:pt x="598" y="378"/>
                  </a:lnTo>
                  <a:lnTo>
                    <a:pt x="585" y="349"/>
                  </a:lnTo>
                  <a:lnTo>
                    <a:pt x="573" y="320"/>
                  </a:lnTo>
                  <a:lnTo>
                    <a:pt x="556" y="294"/>
                  </a:lnTo>
                  <a:lnTo>
                    <a:pt x="542" y="271"/>
                  </a:lnTo>
                  <a:lnTo>
                    <a:pt x="512" y="231"/>
                  </a:lnTo>
                  <a:lnTo>
                    <a:pt x="481" y="197"/>
                  </a:lnTo>
                  <a:lnTo>
                    <a:pt x="455" y="173"/>
                  </a:lnTo>
                  <a:lnTo>
                    <a:pt x="433" y="153"/>
                  </a:lnTo>
                  <a:lnTo>
                    <a:pt x="407" y="133"/>
                  </a:lnTo>
                  <a:lnTo>
                    <a:pt x="387" y="118"/>
                  </a:lnTo>
                  <a:lnTo>
                    <a:pt x="361" y="102"/>
                  </a:lnTo>
                  <a:lnTo>
                    <a:pt x="339" y="89"/>
                  </a:lnTo>
                  <a:lnTo>
                    <a:pt x="314" y="77"/>
                  </a:lnTo>
                  <a:lnTo>
                    <a:pt x="289" y="66"/>
                  </a:lnTo>
                  <a:lnTo>
                    <a:pt x="259" y="53"/>
                  </a:lnTo>
                  <a:lnTo>
                    <a:pt x="233" y="44"/>
                  </a:lnTo>
                  <a:lnTo>
                    <a:pt x="204" y="34"/>
                  </a:lnTo>
                  <a:lnTo>
                    <a:pt x="175" y="25"/>
                  </a:lnTo>
                  <a:lnTo>
                    <a:pt x="145" y="18"/>
                  </a:lnTo>
                  <a:lnTo>
                    <a:pt x="116" y="12"/>
                  </a:lnTo>
                  <a:lnTo>
                    <a:pt x="86" y="8"/>
                  </a:lnTo>
                  <a:lnTo>
                    <a:pt x="58" y="4"/>
                  </a:lnTo>
                  <a:lnTo>
                    <a:pt x="35" y="2"/>
                  </a:lnTo>
                  <a:lnTo>
                    <a:pt x="0" y="0"/>
                  </a:lnTo>
                  <a:lnTo>
                    <a:pt x="64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371600" y="2362320"/>
            <a:ext cx="3506760" cy="915840"/>
            <a:chOff x="1371600" y="2362320"/>
            <a:chExt cx="3506760" cy="915840"/>
          </a:xfrm>
        </p:grpSpPr>
        <p:sp>
          <p:nvSpPr>
            <p:cNvPr id="97" name=""/>
            <p:cNvSpPr/>
            <p:nvPr/>
          </p:nvSpPr>
          <p:spPr>
            <a:xfrm>
              <a:off x="1371600" y="2362320"/>
              <a:ext cx="2057400" cy="680760"/>
            </a:xfrm>
            <a:custGeom>
              <a:avLst/>
              <a:gdLst/>
              <a:ahLst/>
              <a:rect l="l" t="t" r="r" b="b"/>
              <a:pathLst>
                <a:path w="1296" h="429">
                  <a:moveTo>
                    <a:pt x="669" y="0"/>
                  </a:moveTo>
                  <a:lnTo>
                    <a:pt x="1295" y="0"/>
                  </a:lnTo>
                  <a:lnTo>
                    <a:pt x="1202" y="12"/>
                  </a:lnTo>
                  <a:lnTo>
                    <a:pt x="1119" y="30"/>
                  </a:lnTo>
                  <a:lnTo>
                    <a:pt x="1048" y="55"/>
                  </a:lnTo>
                  <a:lnTo>
                    <a:pt x="981" y="83"/>
                  </a:lnTo>
                  <a:lnTo>
                    <a:pt x="913" y="125"/>
                  </a:lnTo>
                  <a:lnTo>
                    <a:pt x="857" y="168"/>
                  </a:lnTo>
                  <a:lnTo>
                    <a:pt x="807" y="216"/>
                  </a:lnTo>
                  <a:lnTo>
                    <a:pt x="762" y="279"/>
                  </a:lnTo>
                  <a:lnTo>
                    <a:pt x="732" y="331"/>
                  </a:lnTo>
                  <a:lnTo>
                    <a:pt x="706" y="385"/>
                  </a:lnTo>
                  <a:lnTo>
                    <a:pt x="693" y="428"/>
                  </a:lnTo>
                  <a:lnTo>
                    <a:pt x="0" y="428"/>
                  </a:lnTo>
                  <a:lnTo>
                    <a:pt x="12" y="392"/>
                  </a:lnTo>
                  <a:lnTo>
                    <a:pt x="28" y="353"/>
                  </a:lnTo>
                  <a:lnTo>
                    <a:pt x="45" y="318"/>
                  </a:lnTo>
                  <a:lnTo>
                    <a:pt x="58" y="291"/>
                  </a:lnTo>
                  <a:lnTo>
                    <a:pt x="81" y="256"/>
                  </a:lnTo>
                  <a:lnTo>
                    <a:pt x="113" y="216"/>
                  </a:lnTo>
                  <a:lnTo>
                    <a:pt x="142" y="188"/>
                  </a:lnTo>
                  <a:lnTo>
                    <a:pt x="177" y="158"/>
                  </a:lnTo>
                  <a:lnTo>
                    <a:pt x="197" y="142"/>
                  </a:lnTo>
                  <a:lnTo>
                    <a:pt x="224" y="122"/>
                  </a:lnTo>
                  <a:lnTo>
                    <a:pt x="253" y="103"/>
                  </a:lnTo>
                  <a:lnTo>
                    <a:pt x="293" y="80"/>
                  </a:lnTo>
                  <a:lnTo>
                    <a:pt x="324" y="66"/>
                  </a:lnTo>
                  <a:lnTo>
                    <a:pt x="350" y="55"/>
                  </a:lnTo>
                  <a:lnTo>
                    <a:pt x="382" y="43"/>
                  </a:lnTo>
                  <a:lnTo>
                    <a:pt x="418" y="31"/>
                  </a:lnTo>
                  <a:lnTo>
                    <a:pt x="452" y="22"/>
                  </a:lnTo>
                  <a:lnTo>
                    <a:pt x="497" y="12"/>
                  </a:lnTo>
                  <a:lnTo>
                    <a:pt x="543" y="5"/>
                  </a:lnTo>
                  <a:lnTo>
                    <a:pt x="582" y="2"/>
                  </a:lnTo>
                  <a:lnTo>
                    <a:pt x="623" y="0"/>
                  </a:lnTo>
                  <a:lnTo>
                    <a:pt x="669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27120" y="2362320"/>
              <a:ext cx="2451240" cy="915840"/>
            </a:xfrm>
            <a:custGeom>
              <a:avLst/>
              <a:gdLst/>
              <a:ahLst/>
              <a:rect l="l" t="t" r="r" b="b"/>
              <a:pathLst>
                <a:path w="1544" h="577">
                  <a:moveTo>
                    <a:pt x="640" y="0"/>
                  </a:moveTo>
                  <a:lnTo>
                    <a:pt x="678" y="0"/>
                  </a:lnTo>
                  <a:lnTo>
                    <a:pt x="739" y="2"/>
                  </a:lnTo>
                  <a:lnTo>
                    <a:pt x="809" y="9"/>
                  </a:lnTo>
                  <a:lnTo>
                    <a:pt x="859" y="21"/>
                  </a:lnTo>
                  <a:lnTo>
                    <a:pt x="912" y="35"/>
                  </a:lnTo>
                  <a:lnTo>
                    <a:pt x="955" y="50"/>
                  </a:lnTo>
                  <a:lnTo>
                    <a:pt x="990" y="66"/>
                  </a:lnTo>
                  <a:lnTo>
                    <a:pt x="1037" y="89"/>
                  </a:lnTo>
                  <a:lnTo>
                    <a:pt x="1078" y="112"/>
                  </a:lnTo>
                  <a:lnTo>
                    <a:pt x="1115" y="136"/>
                  </a:lnTo>
                  <a:lnTo>
                    <a:pt x="1155" y="168"/>
                  </a:lnTo>
                  <a:lnTo>
                    <a:pt x="1193" y="203"/>
                  </a:lnTo>
                  <a:lnTo>
                    <a:pt x="1216" y="228"/>
                  </a:lnTo>
                  <a:lnTo>
                    <a:pt x="1236" y="253"/>
                  </a:lnTo>
                  <a:lnTo>
                    <a:pt x="1254" y="279"/>
                  </a:lnTo>
                  <a:lnTo>
                    <a:pt x="1267" y="301"/>
                  </a:lnTo>
                  <a:lnTo>
                    <a:pt x="1277" y="319"/>
                  </a:lnTo>
                  <a:lnTo>
                    <a:pt x="1287" y="341"/>
                  </a:lnTo>
                  <a:lnTo>
                    <a:pt x="1297" y="364"/>
                  </a:lnTo>
                  <a:lnTo>
                    <a:pt x="1306" y="393"/>
                  </a:lnTo>
                  <a:lnTo>
                    <a:pt x="1319" y="428"/>
                  </a:lnTo>
                  <a:lnTo>
                    <a:pt x="1543" y="428"/>
                  </a:lnTo>
                  <a:lnTo>
                    <a:pt x="1008" y="576"/>
                  </a:lnTo>
                  <a:lnTo>
                    <a:pt x="365" y="428"/>
                  </a:lnTo>
                  <a:lnTo>
                    <a:pt x="618" y="428"/>
                  </a:lnTo>
                  <a:lnTo>
                    <a:pt x="609" y="405"/>
                  </a:lnTo>
                  <a:lnTo>
                    <a:pt x="598" y="378"/>
                  </a:lnTo>
                  <a:lnTo>
                    <a:pt x="585" y="349"/>
                  </a:lnTo>
                  <a:lnTo>
                    <a:pt x="573" y="320"/>
                  </a:lnTo>
                  <a:lnTo>
                    <a:pt x="556" y="294"/>
                  </a:lnTo>
                  <a:lnTo>
                    <a:pt x="542" y="271"/>
                  </a:lnTo>
                  <a:lnTo>
                    <a:pt x="512" y="231"/>
                  </a:lnTo>
                  <a:lnTo>
                    <a:pt x="481" y="197"/>
                  </a:lnTo>
                  <a:lnTo>
                    <a:pt x="455" y="173"/>
                  </a:lnTo>
                  <a:lnTo>
                    <a:pt x="433" y="153"/>
                  </a:lnTo>
                  <a:lnTo>
                    <a:pt x="407" y="133"/>
                  </a:lnTo>
                  <a:lnTo>
                    <a:pt x="387" y="118"/>
                  </a:lnTo>
                  <a:lnTo>
                    <a:pt x="361" y="102"/>
                  </a:lnTo>
                  <a:lnTo>
                    <a:pt x="339" y="89"/>
                  </a:lnTo>
                  <a:lnTo>
                    <a:pt x="314" y="77"/>
                  </a:lnTo>
                  <a:lnTo>
                    <a:pt x="289" y="66"/>
                  </a:lnTo>
                  <a:lnTo>
                    <a:pt x="259" y="53"/>
                  </a:lnTo>
                  <a:lnTo>
                    <a:pt x="233" y="44"/>
                  </a:lnTo>
                  <a:lnTo>
                    <a:pt x="204" y="34"/>
                  </a:lnTo>
                  <a:lnTo>
                    <a:pt x="175" y="25"/>
                  </a:lnTo>
                  <a:lnTo>
                    <a:pt x="145" y="18"/>
                  </a:lnTo>
                  <a:lnTo>
                    <a:pt x="116" y="12"/>
                  </a:lnTo>
                  <a:lnTo>
                    <a:pt x="86" y="8"/>
                  </a:lnTo>
                  <a:lnTo>
                    <a:pt x="58" y="4"/>
                  </a:lnTo>
                  <a:lnTo>
                    <a:pt x="35" y="2"/>
                  </a:lnTo>
                  <a:lnTo>
                    <a:pt x="0" y="0"/>
                  </a:lnTo>
                  <a:lnTo>
                    <a:pt x="64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taged Relea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point &amp; label sources/bina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(mak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config spec of stage 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attribute to CG checkpo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roduction Relea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checkpoint from staged rel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ed consistency che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pending EB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ious EBFs merged before checkpo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ge checkpoint younger than p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config spec of prod 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PRODUCTION_LAB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BF Releas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 hierarchy created by DD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enance str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ndation arc from current production rel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automatically set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g fix a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f-release a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merge back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8280" y="199800"/>
            <a:ext cx="991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101"/>
                </a:solidFill>
                <a:latin typeface="Arial"/>
              </a:rPr>
              <a:t>Development Stream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16160" y="3816360"/>
            <a:ext cx="1054080" cy="749160"/>
            <a:chOff x="2216160" y="3816360"/>
            <a:chExt cx="1054080" cy="749160"/>
          </a:xfrm>
        </p:grpSpPr>
        <p:grpSp>
          <p:nvGrpSpPr>
            <p:cNvPr id="107" name=""/>
            <p:cNvGrpSpPr/>
            <p:nvPr/>
          </p:nvGrpSpPr>
          <p:grpSpPr>
            <a:xfrm>
              <a:off x="2216160" y="3816360"/>
              <a:ext cx="1054080" cy="749160"/>
              <a:chOff x="2216160" y="3816360"/>
              <a:chExt cx="1054080" cy="749160"/>
            </a:xfrm>
          </p:grpSpPr>
          <p:sp>
            <p:nvSpPr>
              <p:cNvPr id="108" name=""/>
              <p:cNvSpPr/>
              <p:nvPr/>
            </p:nvSpPr>
            <p:spPr>
              <a:xfrm>
                <a:off x="2216160" y="381636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2317320" y="387324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422440" y="4062240"/>
              <a:ext cx="71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16160" y="2597040"/>
            <a:ext cx="1084320" cy="749520"/>
            <a:chOff x="2216160" y="2597040"/>
            <a:chExt cx="1084320" cy="749520"/>
          </a:xfrm>
        </p:grpSpPr>
        <p:grpSp>
          <p:nvGrpSpPr>
            <p:cNvPr id="112" name=""/>
            <p:cNvGrpSpPr/>
            <p:nvPr/>
          </p:nvGrpSpPr>
          <p:grpSpPr>
            <a:xfrm>
              <a:off x="2216160" y="2597040"/>
              <a:ext cx="1054080" cy="749520"/>
              <a:chOff x="2216160" y="2597040"/>
              <a:chExt cx="1054080" cy="749520"/>
            </a:xfrm>
          </p:grpSpPr>
          <p:sp>
            <p:nvSpPr>
              <p:cNvPr id="113" name=""/>
              <p:cNvSpPr/>
              <p:nvPr/>
            </p:nvSpPr>
            <p:spPr>
              <a:xfrm>
                <a:off x="2216160" y="2597040"/>
                <a:ext cx="1054080" cy="7495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00000">
                <a:off x="2317320" y="265572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268720" y="284328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mple Bu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9000" y="838080"/>
            <a:ext cx="873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6280" y="1320840"/>
            <a:ext cx="24843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3600" y="1217520"/>
            <a:ext cx="98640" cy="20808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1560" y="1244520"/>
            <a:ext cx="101520" cy="17784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16160" y="5111640"/>
            <a:ext cx="1054080" cy="749520"/>
            <a:chOff x="2216160" y="5111640"/>
            <a:chExt cx="1054080" cy="749520"/>
          </a:xfrm>
        </p:grpSpPr>
        <p:grpSp>
          <p:nvGrpSpPr>
            <p:cNvPr id="121" name=""/>
            <p:cNvGrpSpPr/>
            <p:nvPr/>
          </p:nvGrpSpPr>
          <p:grpSpPr>
            <a:xfrm>
              <a:off x="2216160" y="5111640"/>
              <a:ext cx="1054080" cy="749520"/>
              <a:chOff x="2216160" y="5111640"/>
              <a:chExt cx="1054080" cy="749520"/>
            </a:xfrm>
          </p:grpSpPr>
          <p:sp>
            <p:nvSpPr>
              <p:cNvPr id="122" name=""/>
              <p:cNvSpPr/>
              <p:nvPr/>
            </p:nvSpPr>
            <p:spPr>
              <a:xfrm>
                <a:off x="2216160" y="5111640"/>
                <a:ext cx="1054080" cy="749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2317680" y="5168880"/>
                <a:ext cx="37800" cy="88920"/>
              </a:xfrm>
              <a:prstGeom prst="triangle">
                <a:avLst>
                  <a:gd name="adj" fmla="val 49995"/>
                </a:avLst>
              </a:prstGeom>
              <a:solidFill>
                <a:srgbClr val="fafd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346840" y="5281560"/>
              <a:ext cx="81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ferr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28560" y="-1193760"/>
            <a:ext cx="5965920" cy="7645320"/>
            <a:chOff x="628560" y="-1193760"/>
            <a:chExt cx="5965920" cy="7645320"/>
          </a:xfrm>
        </p:grpSpPr>
        <p:grpSp>
          <p:nvGrpSpPr>
            <p:cNvPr id="126" name=""/>
            <p:cNvGrpSpPr/>
            <p:nvPr/>
          </p:nvGrpSpPr>
          <p:grpSpPr>
            <a:xfrm>
              <a:off x="628560" y="-1193760"/>
              <a:ext cx="5965920" cy="7645320"/>
              <a:chOff x="628560" y="-1193760"/>
              <a:chExt cx="5965920" cy="7645320"/>
            </a:xfrm>
          </p:grpSpPr>
          <p:sp>
            <p:nvSpPr>
              <p:cNvPr id="127" name=""/>
              <p:cNvSpPr/>
              <p:nvPr/>
            </p:nvSpPr>
            <p:spPr>
              <a:xfrm>
                <a:off x="3149640" y="3587760"/>
                <a:ext cx="3444840" cy="2863800"/>
              </a:xfrm>
              <a:prstGeom prst="rect">
                <a:avLst/>
              </a:prstGeom>
              <a:solidFill>
                <a:srgbClr val="a2ffa3"/>
              </a:solidFill>
              <a:ln w="50760">
                <a:solidFill>
                  <a:srgbClr val="dbff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628560" y="1065240"/>
                <a:ext cx="2484360" cy="208080"/>
                <a:chOff x="628560" y="1065240"/>
                <a:chExt cx="2484360" cy="2080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28560" y="1168560"/>
                  <a:ext cx="24843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46240" y="1065240"/>
                  <a:ext cx="98280" cy="208080"/>
                </a:xfrm>
                <a:prstGeom prst="diamond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17760" y="1065240"/>
                  <a:ext cx="98280" cy="208080"/>
                </a:xfrm>
                <a:prstGeom prst="diamond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246320" y="-1193760"/>
                <a:ext cx="3910680" cy="497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441600" y="4502160"/>
              <a:ext cx="2952720" cy="825480"/>
              <a:chOff x="3441600" y="4502160"/>
              <a:chExt cx="2952720" cy="8254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340240" y="4502160"/>
                <a:ext cx="1054080" cy="825480"/>
                <a:chOff x="5340240" y="4502160"/>
                <a:chExt cx="1054080" cy="82548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5340240" y="4502160"/>
                  <a:ext cx="1054080" cy="825480"/>
                  <a:chOff x="5340240" y="4502160"/>
                  <a:chExt cx="1054080" cy="82548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340240" y="4502160"/>
                    <a:ext cx="1054080" cy="82548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438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5400000">
                    <a:off x="5438160" y="4570200"/>
                    <a:ext cx="44640" cy="889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afd00"/>
                  </a:solidFill>
                  <a:ln w="12600">
                    <a:solidFill>
                      <a:srgbClr val="438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>
                  <a:off x="5469840" y="4672080"/>
                  <a:ext cx="75744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BF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leas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441600" y="4508640"/>
                <a:ext cx="1879560" cy="812520"/>
                <a:chOff x="3441600" y="4508640"/>
                <a:chExt cx="1879560" cy="81252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3441600" y="4508640"/>
                  <a:ext cx="1041480" cy="812520"/>
                  <a:chOff x="3441600" y="4508640"/>
                  <a:chExt cx="1041480" cy="8125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3441600" y="4508640"/>
                    <a:ext cx="1041480" cy="812520"/>
                  </a:xfrm>
                  <a:prstGeom prst="rect">
                    <a:avLst/>
                  </a:prstGeom>
                  <a:solidFill>
                    <a:srgbClr val="00ae00"/>
                  </a:solidFill>
                  <a:ln w="25560">
                    <a:solidFill>
                      <a:srgbClr val="438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5400000">
                    <a:off x="3540240" y="4576680"/>
                    <a:ext cx="31680" cy="763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ae00"/>
                  </a:solidFill>
                  <a:ln w="25560">
                    <a:solidFill>
                      <a:srgbClr val="438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3565080" y="4824360"/>
                  <a:ext cx="781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ug Fi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08640" y="4876920"/>
                  <a:ext cx="812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8280" y="199800"/>
            <a:ext cx="991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101"/>
                </a:solidFill>
                <a:latin typeface="Arial"/>
              </a:rPr>
              <a:t>Create EBF Prototype Stream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3680" y="4349880"/>
            <a:ext cx="1054080" cy="749160"/>
            <a:chOff x="463680" y="4349880"/>
            <a:chExt cx="1054080" cy="749160"/>
          </a:xfrm>
        </p:grpSpPr>
        <p:grpSp>
          <p:nvGrpSpPr>
            <p:cNvPr id="147" name=""/>
            <p:cNvGrpSpPr/>
            <p:nvPr/>
          </p:nvGrpSpPr>
          <p:grpSpPr>
            <a:xfrm>
              <a:off x="463680" y="4349880"/>
              <a:ext cx="1054080" cy="749160"/>
              <a:chOff x="463680" y="4349880"/>
              <a:chExt cx="1054080" cy="749160"/>
            </a:xfrm>
          </p:grpSpPr>
          <p:sp>
            <p:nvSpPr>
              <p:cNvPr id="148" name=""/>
              <p:cNvSpPr/>
              <p:nvPr/>
            </p:nvSpPr>
            <p:spPr>
              <a:xfrm>
                <a:off x="463680" y="434988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400000">
                <a:off x="564480" y="440676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69960" y="4595760"/>
              <a:ext cx="71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39640" y="3130560"/>
            <a:ext cx="1084320" cy="749160"/>
            <a:chOff x="539640" y="3130560"/>
            <a:chExt cx="1084320" cy="749160"/>
          </a:xfrm>
        </p:grpSpPr>
        <p:grpSp>
          <p:nvGrpSpPr>
            <p:cNvPr id="152" name=""/>
            <p:cNvGrpSpPr/>
            <p:nvPr/>
          </p:nvGrpSpPr>
          <p:grpSpPr>
            <a:xfrm>
              <a:off x="539640" y="3130560"/>
              <a:ext cx="1054080" cy="749160"/>
              <a:chOff x="539640" y="3130560"/>
              <a:chExt cx="1054080" cy="749160"/>
            </a:xfrm>
          </p:grpSpPr>
          <p:sp>
            <p:nvSpPr>
              <p:cNvPr id="153" name=""/>
              <p:cNvSpPr/>
              <p:nvPr/>
            </p:nvSpPr>
            <p:spPr>
              <a:xfrm>
                <a:off x="539640" y="313056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640800" y="318924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92200" y="337644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mple Bu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H="1">
            <a:off x="279000" y="838080"/>
            <a:ext cx="873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7320" y="5891040"/>
            <a:ext cx="177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tenance Str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49640" y="3587760"/>
            <a:ext cx="3444840" cy="2863800"/>
          </a:xfrm>
          <a:prstGeom prst="rect">
            <a:avLst/>
          </a:prstGeom>
          <a:solidFill>
            <a:srgbClr val="a2ffa3"/>
          </a:solidFill>
          <a:ln w="50760">
            <a:solidFill>
              <a:srgbClr val="dbf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28560" y="1065240"/>
            <a:ext cx="2484360" cy="208080"/>
            <a:chOff x="628560" y="1065240"/>
            <a:chExt cx="2484360" cy="208080"/>
          </a:xfrm>
        </p:grpSpPr>
        <p:sp>
          <p:nvSpPr>
            <p:cNvPr id="160" name=""/>
            <p:cNvSpPr/>
            <p:nvPr/>
          </p:nvSpPr>
          <p:spPr>
            <a:xfrm>
              <a:off x="628560" y="1168560"/>
              <a:ext cx="248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6240" y="1065240"/>
              <a:ext cx="98280" cy="208080"/>
            </a:xfrm>
            <a:prstGeom prst="diamond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7760" y="1065240"/>
              <a:ext cx="98280" cy="208080"/>
            </a:xfrm>
            <a:prstGeom prst="diamond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246320" y="-1193760"/>
            <a:ext cx="3910680" cy="497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40240" y="4502160"/>
            <a:ext cx="1054080" cy="825480"/>
            <a:chOff x="5340240" y="4502160"/>
            <a:chExt cx="1054080" cy="825480"/>
          </a:xfrm>
        </p:grpSpPr>
        <p:grpSp>
          <p:nvGrpSpPr>
            <p:cNvPr id="165" name=""/>
            <p:cNvGrpSpPr/>
            <p:nvPr/>
          </p:nvGrpSpPr>
          <p:grpSpPr>
            <a:xfrm>
              <a:off x="5340240" y="4502160"/>
              <a:ext cx="1054080" cy="825480"/>
              <a:chOff x="5340240" y="4502160"/>
              <a:chExt cx="1054080" cy="825480"/>
            </a:xfrm>
          </p:grpSpPr>
          <p:sp>
            <p:nvSpPr>
              <p:cNvPr id="166" name=""/>
              <p:cNvSpPr/>
              <p:nvPr/>
            </p:nvSpPr>
            <p:spPr>
              <a:xfrm>
                <a:off x="5340240" y="4502160"/>
                <a:ext cx="1054080" cy="82548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5438160" y="4570200"/>
                <a:ext cx="4464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469840" y="4672080"/>
              <a:ext cx="757440" cy="51516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B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441600" y="4508640"/>
            <a:ext cx="1879560" cy="812520"/>
            <a:chOff x="3441600" y="4508640"/>
            <a:chExt cx="1879560" cy="812520"/>
          </a:xfrm>
        </p:grpSpPr>
        <p:grpSp>
          <p:nvGrpSpPr>
            <p:cNvPr id="170" name=""/>
            <p:cNvGrpSpPr/>
            <p:nvPr/>
          </p:nvGrpSpPr>
          <p:grpSpPr>
            <a:xfrm>
              <a:off x="3441600" y="4508640"/>
              <a:ext cx="1041480" cy="812520"/>
              <a:chOff x="3441600" y="4508640"/>
              <a:chExt cx="1041480" cy="812520"/>
            </a:xfrm>
          </p:grpSpPr>
          <p:sp>
            <p:nvSpPr>
              <p:cNvPr id="171" name=""/>
              <p:cNvSpPr/>
              <p:nvPr/>
            </p:nvSpPr>
            <p:spPr>
              <a:xfrm>
                <a:off x="3441600" y="4508640"/>
                <a:ext cx="1041480" cy="812520"/>
              </a:xfrm>
              <a:prstGeom prst="rect">
                <a:avLst/>
              </a:prstGeom>
              <a:solidFill>
                <a:srgbClr val="4700b0"/>
              </a:solidFill>
              <a:ln w="255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400000">
                <a:off x="3540240" y="4576680"/>
                <a:ext cx="31680" cy="76320"/>
              </a:xfrm>
              <a:prstGeom prst="triangle">
                <a:avLst>
                  <a:gd name="adj" fmla="val 49995"/>
                </a:avLst>
              </a:prstGeom>
              <a:solidFill>
                <a:srgbClr val="4700b0"/>
              </a:solidFill>
              <a:ln w="255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565080" y="4824360"/>
              <a:ext cx="781920" cy="302040"/>
            </a:xfrm>
            <a:prstGeom prst="rect">
              <a:avLst/>
            </a:prstGeom>
            <a:solidFill>
              <a:srgbClr val="47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g Fi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08640" y="48769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48080" y="3911760"/>
            <a:ext cx="24843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8280" y="199800"/>
            <a:ext cx="991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101"/>
                </a:solidFill>
                <a:latin typeface="Arial"/>
              </a:rPr>
              <a:t>EBF Release does checkpoin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3680" y="4349880"/>
            <a:ext cx="1054080" cy="749160"/>
            <a:chOff x="463680" y="4349880"/>
            <a:chExt cx="1054080" cy="749160"/>
          </a:xfrm>
        </p:grpSpPr>
        <p:grpSp>
          <p:nvGrpSpPr>
            <p:cNvPr id="178" name=""/>
            <p:cNvGrpSpPr/>
            <p:nvPr/>
          </p:nvGrpSpPr>
          <p:grpSpPr>
            <a:xfrm>
              <a:off x="463680" y="4349880"/>
              <a:ext cx="1054080" cy="749160"/>
              <a:chOff x="463680" y="4349880"/>
              <a:chExt cx="1054080" cy="749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63680" y="434988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5400000">
                <a:off x="564480" y="440676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69960" y="4595760"/>
              <a:ext cx="71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39640" y="3130560"/>
            <a:ext cx="1084320" cy="749160"/>
            <a:chOff x="539640" y="3130560"/>
            <a:chExt cx="1084320" cy="749160"/>
          </a:xfrm>
        </p:grpSpPr>
        <p:grpSp>
          <p:nvGrpSpPr>
            <p:cNvPr id="183" name=""/>
            <p:cNvGrpSpPr/>
            <p:nvPr/>
          </p:nvGrpSpPr>
          <p:grpSpPr>
            <a:xfrm>
              <a:off x="539640" y="3130560"/>
              <a:ext cx="1054080" cy="749160"/>
              <a:chOff x="539640" y="3130560"/>
              <a:chExt cx="1054080" cy="749160"/>
            </a:xfrm>
          </p:grpSpPr>
          <p:sp>
            <p:nvSpPr>
              <p:cNvPr id="184" name=""/>
              <p:cNvSpPr/>
              <p:nvPr/>
            </p:nvSpPr>
            <p:spPr>
              <a:xfrm>
                <a:off x="539640" y="313056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400000">
                <a:off x="640800" y="318924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592200" y="337644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mple Bu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279000" y="838080"/>
            <a:ext cx="873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87320" y="5891040"/>
            <a:ext cx="177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tenance Str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44920" y="3835440"/>
            <a:ext cx="101520" cy="17784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149640" y="3587760"/>
            <a:ext cx="3444840" cy="2863800"/>
          </a:xfrm>
          <a:prstGeom prst="rect">
            <a:avLst/>
          </a:prstGeom>
          <a:solidFill>
            <a:srgbClr val="a2ffa3"/>
          </a:solidFill>
          <a:ln w="50760">
            <a:solidFill>
              <a:srgbClr val="dbf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28560" y="1065240"/>
            <a:ext cx="2484360" cy="208080"/>
            <a:chOff x="628560" y="1065240"/>
            <a:chExt cx="2484360" cy="208080"/>
          </a:xfrm>
        </p:grpSpPr>
        <p:sp>
          <p:nvSpPr>
            <p:cNvPr id="192" name=""/>
            <p:cNvSpPr/>
            <p:nvPr/>
          </p:nvSpPr>
          <p:spPr>
            <a:xfrm>
              <a:off x="628560" y="1168560"/>
              <a:ext cx="248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6240" y="1065240"/>
              <a:ext cx="98280" cy="208080"/>
            </a:xfrm>
            <a:prstGeom prst="diamond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17760" y="1065240"/>
              <a:ext cx="98280" cy="208080"/>
            </a:xfrm>
            <a:prstGeom prst="diamond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46320" y="-1193760"/>
            <a:ext cx="3910680" cy="497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340240" y="4502160"/>
            <a:ext cx="1054080" cy="825480"/>
            <a:chOff x="5340240" y="4502160"/>
            <a:chExt cx="1054080" cy="825480"/>
          </a:xfrm>
        </p:grpSpPr>
        <p:grpSp>
          <p:nvGrpSpPr>
            <p:cNvPr id="197" name=""/>
            <p:cNvGrpSpPr/>
            <p:nvPr/>
          </p:nvGrpSpPr>
          <p:grpSpPr>
            <a:xfrm>
              <a:off x="5340240" y="4502160"/>
              <a:ext cx="1054080" cy="825480"/>
              <a:chOff x="5340240" y="4502160"/>
              <a:chExt cx="1054080" cy="82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340240" y="4502160"/>
                <a:ext cx="1054080" cy="825480"/>
              </a:xfrm>
              <a:prstGeom prst="rect">
                <a:avLst/>
              </a:prstGeom>
              <a:solidFill>
                <a:srgbClr val="4700b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400000">
                <a:off x="5438160" y="4570200"/>
                <a:ext cx="44640" cy="88920"/>
              </a:xfrm>
              <a:prstGeom prst="triangle">
                <a:avLst>
                  <a:gd name="adj" fmla="val 49995"/>
                </a:avLst>
              </a:prstGeom>
              <a:solidFill>
                <a:srgbClr val="4700b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469840" y="4672080"/>
              <a:ext cx="757440" cy="515160"/>
            </a:xfrm>
            <a:prstGeom prst="rect">
              <a:avLst/>
            </a:prstGeom>
            <a:solidFill>
              <a:srgbClr val="47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B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441600" y="4508640"/>
            <a:ext cx="1879560" cy="812520"/>
            <a:chOff x="3441600" y="4508640"/>
            <a:chExt cx="1879560" cy="812520"/>
          </a:xfrm>
        </p:grpSpPr>
        <p:grpSp>
          <p:nvGrpSpPr>
            <p:cNvPr id="202" name=""/>
            <p:cNvGrpSpPr/>
            <p:nvPr/>
          </p:nvGrpSpPr>
          <p:grpSpPr>
            <a:xfrm>
              <a:off x="3441600" y="4508640"/>
              <a:ext cx="1041480" cy="812520"/>
              <a:chOff x="3441600" y="4508640"/>
              <a:chExt cx="1041480" cy="812520"/>
            </a:xfrm>
          </p:grpSpPr>
          <p:sp>
            <p:nvSpPr>
              <p:cNvPr id="203" name=""/>
              <p:cNvSpPr/>
              <p:nvPr/>
            </p:nvSpPr>
            <p:spPr>
              <a:xfrm>
                <a:off x="3441600" y="4508640"/>
                <a:ext cx="1041480" cy="812520"/>
              </a:xfrm>
              <a:prstGeom prst="rect">
                <a:avLst/>
              </a:prstGeom>
              <a:solidFill>
                <a:srgbClr val="4700b0"/>
              </a:solidFill>
              <a:ln w="255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3540240" y="4576680"/>
                <a:ext cx="31680" cy="76320"/>
              </a:xfrm>
              <a:prstGeom prst="triangle">
                <a:avLst>
                  <a:gd name="adj" fmla="val 49995"/>
                </a:avLst>
              </a:prstGeom>
              <a:solidFill>
                <a:srgbClr val="4700b0"/>
              </a:solidFill>
              <a:ln w="255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565080" y="4824360"/>
              <a:ext cx="781920" cy="302040"/>
            </a:xfrm>
            <a:prstGeom prst="rect">
              <a:avLst/>
            </a:prstGeom>
            <a:solidFill>
              <a:srgbClr val="47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g Fi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08640" y="48769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48080" y="3911760"/>
            <a:ext cx="24843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8280" y="199800"/>
            <a:ext cx="991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101"/>
                </a:solidFill>
                <a:latin typeface="Arial"/>
              </a:rPr>
              <a:t>EBF Completion creates Merg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63680" y="4349880"/>
            <a:ext cx="1054080" cy="749160"/>
            <a:chOff x="463680" y="4349880"/>
            <a:chExt cx="1054080" cy="749160"/>
          </a:xfrm>
        </p:grpSpPr>
        <p:grpSp>
          <p:nvGrpSpPr>
            <p:cNvPr id="210" name=""/>
            <p:cNvGrpSpPr/>
            <p:nvPr/>
          </p:nvGrpSpPr>
          <p:grpSpPr>
            <a:xfrm>
              <a:off x="463680" y="4349880"/>
              <a:ext cx="1054080" cy="749160"/>
              <a:chOff x="463680" y="4349880"/>
              <a:chExt cx="1054080" cy="749160"/>
            </a:xfrm>
          </p:grpSpPr>
          <p:sp>
            <p:nvSpPr>
              <p:cNvPr id="211" name=""/>
              <p:cNvSpPr/>
              <p:nvPr/>
            </p:nvSpPr>
            <p:spPr>
              <a:xfrm>
                <a:off x="463680" y="434988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564480" y="440676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69960" y="4595760"/>
              <a:ext cx="71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39640" y="3130560"/>
            <a:ext cx="1084320" cy="749160"/>
            <a:chOff x="539640" y="3130560"/>
            <a:chExt cx="1084320" cy="749160"/>
          </a:xfrm>
        </p:grpSpPr>
        <p:grpSp>
          <p:nvGrpSpPr>
            <p:cNvPr id="215" name=""/>
            <p:cNvGrpSpPr/>
            <p:nvPr/>
          </p:nvGrpSpPr>
          <p:grpSpPr>
            <a:xfrm>
              <a:off x="539640" y="3130560"/>
              <a:ext cx="1054080" cy="749160"/>
              <a:chOff x="539640" y="3130560"/>
              <a:chExt cx="1054080" cy="749160"/>
            </a:xfrm>
          </p:grpSpPr>
          <p:sp>
            <p:nvSpPr>
              <p:cNvPr id="216" name=""/>
              <p:cNvSpPr/>
              <p:nvPr/>
            </p:nvSpPr>
            <p:spPr>
              <a:xfrm>
                <a:off x="539640" y="313056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400000">
                <a:off x="640800" y="318924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92200" y="337644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mple Bu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H="1">
            <a:off x="279000" y="838080"/>
            <a:ext cx="873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87320" y="5891040"/>
            <a:ext cx="177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tenance Str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87720" y="3835440"/>
            <a:ext cx="101520" cy="17784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940440" y="3968640"/>
            <a:ext cx="1054080" cy="749520"/>
            <a:chOff x="6940440" y="3968640"/>
            <a:chExt cx="1054080" cy="749520"/>
          </a:xfrm>
        </p:grpSpPr>
        <p:sp>
          <p:nvSpPr>
            <p:cNvPr id="223" name=""/>
            <p:cNvSpPr/>
            <p:nvPr/>
          </p:nvSpPr>
          <p:spPr>
            <a:xfrm>
              <a:off x="6940440" y="3968640"/>
              <a:ext cx="1054080" cy="749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7041960" y="4025880"/>
              <a:ext cx="37800" cy="88920"/>
            </a:xfrm>
            <a:prstGeom prst="triangle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991920" y="4214880"/>
            <a:ext cx="96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413400" y="4406400"/>
            <a:ext cx="50796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149640" y="3587760"/>
            <a:ext cx="3444840" cy="2863800"/>
          </a:xfrm>
          <a:prstGeom prst="rect">
            <a:avLst/>
          </a:prstGeom>
          <a:solidFill>
            <a:srgbClr val="a2ffa3"/>
          </a:solidFill>
          <a:ln w="50760">
            <a:solidFill>
              <a:srgbClr val="dbf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28560" y="1065240"/>
            <a:ext cx="2484360" cy="208080"/>
            <a:chOff x="628560" y="1065240"/>
            <a:chExt cx="2484360" cy="208080"/>
          </a:xfrm>
        </p:grpSpPr>
        <p:sp>
          <p:nvSpPr>
            <p:cNvPr id="229" name=""/>
            <p:cNvSpPr/>
            <p:nvPr/>
          </p:nvSpPr>
          <p:spPr>
            <a:xfrm>
              <a:off x="628560" y="1168560"/>
              <a:ext cx="248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6240" y="1065240"/>
              <a:ext cx="98280" cy="208080"/>
            </a:xfrm>
            <a:prstGeom prst="diamond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17760" y="1065240"/>
              <a:ext cx="98280" cy="208080"/>
            </a:xfrm>
            <a:prstGeom prst="diamond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246320" y="-1193760"/>
            <a:ext cx="3910680" cy="497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40240" y="4502160"/>
            <a:ext cx="1054080" cy="825480"/>
            <a:chOff x="5340240" y="4502160"/>
            <a:chExt cx="1054080" cy="825480"/>
          </a:xfrm>
        </p:grpSpPr>
        <p:grpSp>
          <p:nvGrpSpPr>
            <p:cNvPr id="234" name=""/>
            <p:cNvGrpSpPr/>
            <p:nvPr/>
          </p:nvGrpSpPr>
          <p:grpSpPr>
            <a:xfrm>
              <a:off x="5340240" y="4502160"/>
              <a:ext cx="1054080" cy="825480"/>
              <a:chOff x="5340240" y="4502160"/>
              <a:chExt cx="1054080" cy="825480"/>
            </a:xfrm>
          </p:grpSpPr>
          <p:sp>
            <p:nvSpPr>
              <p:cNvPr id="235" name=""/>
              <p:cNvSpPr/>
              <p:nvPr/>
            </p:nvSpPr>
            <p:spPr>
              <a:xfrm>
                <a:off x="5340240" y="4502160"/>
                <a:ext cx="1054080" cy="825480"/>
              </a:xfrm>
              <a:prstGeom prst="rect">
                <a:avLst/>
              </a:prstGeom>
              <a:solidFill>
                <a:srgbClr val="4700b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438160" y="4570200"/>
                <a:ext cx="44640" cy="88920"/>
              </a:xfrm>
              <a:prstGeom prst="triangle">
                <a:avLst>
                  <a:gd name="adj" fmla="val 49995"/>
                </a:avLst>
              </a:prstGeom>
              <a:solidFill>
                <a:srgbClr val="4700b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469840" y="4672080"/>
              <a:ext cx="757440" cy="515160"/>
            </a:xfrm>
            <a:prstGeom prst="rect">
              <a:avLst/>
            </a:prstGeom>
            <a:solidFill>
              <a:srgbClr val="47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B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441600" y="4508640"/>
            <a:ext cx="1879560" cy="812520"/>
            <a:chOff x="3441600" y="4508640"/>
            <a:chExt cx="1879560" cy="812520"/>
          </a:xfrm>
        </p:grpSpPr>
        <p:grpSp>
          <p:nvGrpSpPr>
            <p:cNvPr id="239" name=""/>
            <p:cNvGrpSpPr/>
            <p:nvPr/>
          </p:nvGrpSpPr>
          <p:grpSpPr>
            <a:xfrm>
              <a:off x="3441600" y="4508640"/>
              <a:ext cx="1041480" cy="812520"/>
              <a:chOff x="3441600" y="4508640"/>
              <a:chExt cx="1041480" cy="8125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41600" y="4508640"/>
                <a:ext cx="1041480" cy="812520"/>
              </a:xfrm>
              <a:prstGeom prst="rect">
                <a:avLst/>
              </a:prstGeom>
              <a:solidFill>
                <a:srgbClr val="4700b0"/>
              </a:solidFill>
              <a:ln w="255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5400000">
                <a:off x="3540240" y="4576680"/>
                <a:ext cx="31680" cy="76320"/>
              </a:xfrm>
              <a:prstGeom prst="triangle">
                <a:avLst>
                  <a:gd name="adj" fmla="val 49995"/>
                </a:avLst>
              </a:prstGeom>
              <a:solidFill>
                <a:srgbClr val="4700b0"/>
              </a:solidFill>
              <a:ln w="2556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565080" y="4824360"/>
              <a:ext cx="781920" cy="302040"/>
            </a:xfrm>
            <a:prstGeom prst="rect">
              <a:avLst/>
            </a:prstGeom>
            <a:solidFill>
              <a:srgbClr val="47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g Fi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08640" y="48769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448080" y="3911760"/>
            <a:ext cx="24843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8280" y="199800"/>
            <a:ext cx="991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101"/>
                </a:solidFill>
                <a:latin typeface="Arial"/>
              </a:rPr>
              <a:t>Merge Complet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63680" y="4349880"/>
            <a:ext cx="1054080" cy="749160"/>
            <a:chOff x="463680" y="4349880"/>
            <a:chExt cx="1054080" cy="749160"/>
          </a:xfrm>
        </p:grpSpPr>
        <p:grpSp>
          <p:nvGrpSpPr>
            <p:cNvPr id="247" name=""/>
            <p:cNvGrpSpPr/>
            <p:nvPr/>
          </p:nvGrpSpPr>
          <p:grpSpPr>
            <a:xfrm>
              <a:off x="463680" y="4349880"/>
              <a:ext cx="1054080" cy="749160"/>
              <a:chOff x="463680" y="4349880"/>
              <a:chExt cx="1054080" cy="749160"/>
            </a:xfrm>
          </p:grpSpPr>
          <p:sp>
            <p:nvSpPr>
              <p:cNvPr id="248" name=""/>
              <p:cNvSpPr/>
              <p:nvPr/>
            </p:nvSpPr>
            <p:spPr>
              <a:xfrm>
                <a:off x="463680" y="434988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5400000">
                <a:off x="564480" y="440676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9960" y="4595760"/>
              <a:ext cx="71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39640" y="3130560"/>
            <a:ext cx="1084320" cy="749160"/>
            <a:chOff x="539640" y="3130560"/>
            <a:chExt cx="1084320" cy="749160"/>
          </a:xfrm>
        </p:grpSpPr>
        <p:grpSp>
          <p:nvGrpSpPr>
            <p:cNvPr id="252" name=""/>
            <p:cNvGrpSpPr/>
            <p:nvPr/>
          </p:nvGrpSpPr>
          <p:grpSpPr>
            <a:xfrm>
              <a:off x="539640" y="3130560"/>
              <a:ext cx="1054080" cy="749160"/>
              <a:chOff x="539640" y="3130560"/>
              <a:chExt cx="1054080" cy="749160"/>
            </a:xfrm>
          </p:grpSpPr>
          <p:sp>
            <p:nvSpPr>
              <p:cNvPr id="253" name=""/>
              <p:cNvSpPr/>
              <p:nvPr/>
            </p:nvSpPr>
            <p:spPr>
              <a:xfrm>
                <a:off x="539640" y="3130560"/>
                <a:ext cx="1054080" cy="7491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5400000">
                <a:off x="640800" y="3189240"/>
                <a:ext cx="38160" cy="88920"/>
              </a:xfrm>
              <a:prstGeom prst="triangle">
                <a:avLst>
                  <a:gd name="adj" fmla="val 49995"/>
                </a:avLst>
              </a:prstGeom>
              <a:solidFill>
                <a:srgbClr val="00ae00"/>
              </a:solidFill>
              <a:ln w="12600">
                <a:solidFill>
                  <a:srgbClr val="438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92200" y="337644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mple Bu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H="1">
            <a:off x="279000" y="838080"/>
            <a:ext cx="873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87320" y="5891040"/>
            <a:ext cx="177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tenance Str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87720" y="3835440"/>
            <a:ext cx="101520" cy="17784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940440" y="3968640"/>
            <a:ext cx="1054080" cy="749520"/>
            <a:chOff x="6940440" y="3968640"/>
            <a:chExt cx="1054080" cy="749520"/>
          </a:xfrm>
        </p:grpSpPr>
        <p:sp>
          <p:nvSpPr>
            <p:cNvPr id="260" name=""/>
            <p:cNvSpPr/>
            <p:nvPr/>
          </p:nvSpPr>
          <p:spPr>
            <a:xfrm>
              <a:off x="6940440" y="3968640"/>
              <a:ext cx="1054080" cy="749520"/>
            </a:xfrm>
            <a:prstGeom prst="rect">
              <a:avLst/>
            </a:prstGeom>
            <a:solidFill>
              <a:srgbClr val="4700b0"/>
            </a:solidFill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41960" y="4025880"/>
              <a:ext cx="37800" cy="88920"/>
            </a:xfrm>
            <a:prstGeom prst="triangle">
              <a:avLst>
                <a:gd name="adj" fmla="val 49995"/>
              </a:avLst>
            </a:prstGeom>
            <a:solidFill>
              <a:srgbClr val="4700b0"/>
            </a:solidFill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991920" y="4214880"/>
            <a:ext cx="96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13400" y="4406400"/>
            <a:ext cx="50796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3835440"/>
            <a:ext cx="101520" cy="17784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93880" y="-1422000"/>
            <a:ext cx="5283000" cy="528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re we going to talk abou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blem to be sol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izing the BP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(Some of) The Detail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 additional activity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files, 3400 commented lines of PDL/Perl (~1000 lines of co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120 hrs development effor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hanges To the BPD sourc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ications to stream setup 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pvar PRODUCTION_LABEL in product-development 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activity types mentioned in stream, product and bpd-root process defini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Guidelines for Extending the BPD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S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arate files ease integration with CG3.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oid changing existing rul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tream rules are particularly comple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will pay for my sins in CG 3.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Guidelines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dding new activity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role maps and default user assign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/bpd-global.p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ew actype is only permitted inside stre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es/bpd-root.p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es/product-development.p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guard rules on existing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 creation/deletion/mod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 spec propag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Guidelin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't pollute the name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ages keep the EPA hap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age CGX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GX::global_flag = 1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 CGX::report_changes{ .... }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ebugging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86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rguide perl fixup.p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fixup.p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$pv = CGP::prompt(prompt=&gt;'PVAR:'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$ac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($act = CGP::prompt(prompt=&gt;'ACT:')) {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$this = new CGP::Activity ($act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$def = $this-&gt;find_by_declared_pvar($pv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GP::prompt(prompt=&gt;$pv, text=&gt;'-multi'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ity=&gt;$this, pvar=&gt;$pv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ault=&gt;$def)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6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ie('error setting pvar\n'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ebugging (2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PERLEXEC_ARG=-w to report probl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gnore undefined value compla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G 3.2 rumored to have much improved tracing capabiliti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rGuide provides a wealth of mechani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PD provi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usable set of poli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ramework for adding additional poli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er routines to perform common ta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f. include/findchild.p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to cciug mailing l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Clien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national Investment Services Fi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quity &amp; bond tr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tlement &amp; accounting op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folio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aris, with NT being deploy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ing s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Development Organiz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national development (US &amp; U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ain-specific app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'objects' (economies, rates, calenda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ized  for currency, dat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ten in C+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0 KLOC in libra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100 developers use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MLOC in  vertical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Basic Parallel Development (BPD) Proces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on of ClearCase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ed on development cyc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ndles branching and mer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planning &amp; status tra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'change-management' with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8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learGuide-centric integ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l support for build and rel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hanisms, not poli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pointing and lab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 and config spec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otivation for Extending BPD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for build/release/deplo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008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er subject to SEC over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008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e complex (and error prone) existing manual procedur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008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internal release policies for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008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ure patches are never l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1280" indent="-2512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ter modeling of development ta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008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ing SQL databases (DDL and conten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008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umentation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008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patches for p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1280" indent="-25128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ghter integration with DD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k Flow Model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05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DTS request =&gt; Assign/Schedule =&gt; ClearGuide task(s) 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work released via ClearCase view and config-spe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ied out r/o to local file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developers NOT using ClearCase y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4560" y="1225440"/>
            <a:ext cx="234936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92680" y="1225440"/>
            <a:ext cx="1358640" cy="120672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6880" y="182880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64280" y="1828800"/>
            <a:ext cx="67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06360" y="1433520"/>
            <a:ext cx="1559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DTS B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1225440"/>
            <a:ext cx="234936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83160" y="1357200"/>
            <a:ext cx="1598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Gu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90560" y="157176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odifications to BPD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BPD and ClearDD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0200" indent="-203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G activity types based on DDTS catego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0200" indent="-203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x release activity patter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4160" indent="-25416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ed release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0200" indent="-203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s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0200" indent="-203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us 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0200" indent="-20340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fix i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418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8280" y="123840"/>
            <a:ext cx="991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BPD / DDTS Integr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110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DTS creates extra ClearGuide activ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-change (modify SQL tables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le-change (modify data-base schema (DDL)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 (an informational announcemen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 (documentation activ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18:20:08Z</dcterms:created>
  <dc:creator>Johanna Passerini</dc:creator>
  <dc:description/>
  <dc:language>en-US</dc:language>
  <cp:lastModifiedBy>Mickey Hsieh</cp:lastModifiedBy>
  <dcterms:modified xsi:type="dcterms:W3CDTF">1998-02-04T18:12:45Z</dcterms:modified>
  <cp:revision>2</cp:revision>
  <dc:subject/>
  <dc:title>Beyond the BPD  Extending the ClearGuide Process Model</dc:title>
</cp:coreProperties>
</file>