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360" y="4384800"/>
            <a:ext cx="6064200" cy="409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in Poin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4320" y="87440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D0643A-3324-46F3-B156-ABEB55073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851040" y="691920"/>
            <a:ext cx="515592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5560" y="4731840"/>
            <a:ext cx="604332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1880" y="392040"/>
            <a:ext cx="254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ultiSite Speaker Support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87360" y="44280"/>
            <a:ext cx="4411800" cy="33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Site Tips &amp; Tric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51040" y="692280"/>
            <a:ext cx="5155920" cy="3436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85560" y="4731840"/>
            <a:ext cx="604332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tree walk means that you should ru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eckVO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fore you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still running CC V2.1, support has a script for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1040" y="692280"/>
            <a:ext cx="5155920" cy="3436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385560" y="4731840"/>
            <a:ext cx="604332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 VOBs add constraints to whole families, not just individual rep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do process V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ocate is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1040" y="692280"/>
            <a:ext cx="5155920" cy="3436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5560" y="4731840"/>
            <a:ext cx="604332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cy is in the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are upward compa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s are downward compa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ggy clients can’t be prevented be the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254400"/>
            <a:ext cx="745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212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25440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2120" y="325440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2160" y="110484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600" y="110484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25440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2160" y="325440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600" y="3254400"/>
            <a:ext cx="2401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36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2120" y="1104840"/>
            <a:ext cx="36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4840" y="123840"/>
            <a:ext cx="991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2120" y="1104840"/>
            <a:ext cx="36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25440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36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212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2120" y="325440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120" y="1104840"/>
            <a:ext cx="3639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254400"/>
            <a:ext cx="745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07600" y="6621480"/>
            <a:ext cx="100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0840" y="689040"/>
            <a:ext cx="9929880" cy="98280"/>
            <a:chOff x="150840" y="689040"/>
            <a:chExt cx="9929880" cy="98280"/>
          </a:xfrm>
        </p:grpSpPr>
        <p:sp>
          <p:nvSpPr>
            <p:cNvPr id="4" name=""/>
            <p:cNvSpPr/>
            <p:nvPr/>
          </p:nvSpPr>
          <p:spPr>
            <a:xfrm>
              <a:off x="150840" y="738360"/>
              <a:ext cx="9929880" cy="0"/>
            </a:xfrm>
            <a:prstGeom prst="line">
              <a:avLst/>
            </a:prstGeom>
            <a:ln w="126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5094000" y="684360"/>
              <a:ext cx="98280" cy="107640"/>
            </a:xfrm>
            <a:prstGeom prst="triangle">
              <a:avLst>
                <a:gd name="adj" fmla="val 49986"/>
              </a:avLst>
            </a:prstGeom>
            <a:solidFill>
              <a:srgbClr val="00ff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182080" y="5324400"/>
            <a:ext cx="1838160" cy="13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44080" y="4721400"/>
            <a:ext cx="4005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ultiSi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ips &amp; Trick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72200" y="1447560"/>
            <a:ext cx="33148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aul Komar</a:t>
            </a:r>
            <a:br>
              <a:rPr sz="28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ftware Engineer</a:t>
            </a:r>
            <a:br>
              <a:rPr sz="28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CMB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reating New Replica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the</a:t>
            </a:r>
            <a:r>
              <a:rPr b="1" lang="en-US" sz="3200" spc="-1" strike="noStrike">
                <a:solidFill>
                  <a:srgbClr val="fafd00"/>
                </a:solidFill>
                <a:latin typeface="Courier New"/>
              </a:rPr>
              <a:t> mkreplica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Process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new replica object in the local VO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oke the dumper -- which locks the VO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mper skips non-versioned 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ed DB is self-consis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mped DB is architecture-indepen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reating New Replica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continued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dumper complete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B is still lock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py out source p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lows the directory tree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DB’s idea of the p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ed VOB image has 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stent DB and p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ock the VO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ynchronizing Your VOB Family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fafd00"/>
                </a:solidFill>
                <a:latin typeface="Courier New"/>
              </a:rPr>
              <a:t> syncreplica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Process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gure out what needs to be s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poch table in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it out of the DB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read trans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licts between local VOB modification and replay can occ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operation will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work when retr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: always retry syncreplica -import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cripts do, the next time they are r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import manually, set a 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alling Support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want someone to review a plan for changing something MultiSite-re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re happy to help you as soon as a problem ar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feel obligated to try to solve problems without their h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read the troubleshooting guide in the MultiSite manu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moving Replicas (and Dealing with the Ghosts that They Leave Behind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the master of the go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 all work from the goner to its ma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Site prevents the import of work from deleted (ghost) repl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you may remove the go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Site V1.1 lsepoch lists ghost replic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Site V3.X lsepoch does not list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must  include ghosts in your calculations, if you ever need to reset an epoch row manu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placing a Replica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xample, when you use MultiSite as your only backup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the master of the go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 all work from the goner to its ma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Site does not allow work to be imported from deleted repl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ame the go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placing a Replica (Continued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the new replica (at least perform 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-expor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has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chmas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old to 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ews may have stale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el free to discuss your replacement plan with the support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storing From Backup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al of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storereplic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back all your non-backed-up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nce, not reuse oplog identif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mizing the restore process is risk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need to hear from the last replica that received an update from the replica undergoing restoration -- but that can be hard to compu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exporting sync lo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importers’ replica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storing From Backup 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1048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B family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st,south,&amp; no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consider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s oplog ent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0: oplog-id= 500: locked VOB back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1: oplog-id= 650: export to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2: oplog-id= 750: export to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o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3: oplog-id= 800: disk cra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storing a Replica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ample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ntinued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4: restore from backup: (oplog-id 5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5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storereplic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cess initi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6: import from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u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oplog-id=65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7: import from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or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log-id=75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ation is comple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2040" y="1104840"/>
            <a:ext cx="7156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s and techniques based on how we have helped custo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administ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 unplanned unavaila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storing a Replica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ample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ntinued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could have been optimized to only require import from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o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process had bee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correct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to require only import from 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the next oplog-id from the restored replica (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ill be 65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ica: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or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ready has an entry with oplog-id= 65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ica: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orth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wi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gnore it when imported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nce 651 &lt; 750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ing di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storing a Replic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: only optimize when you are certain of the big pictur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alyzing </a:t>
            </a:r>
            <a:r>
              <a:rPr b="1" lang="en-US" sz="3200" spc="-1" strike="noStrike">
                <a:solidFill>
                  <a:srgbClr val="fafd00"/>
                </a:solidFill>
                <a:latin typeface="Courier New"/>
              </a:rPr>
              <a:t>syncreplica -import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Fail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or message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et depends on changes not yet recei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 lost packet recov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et not applic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lsvob -long has consistent host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nalyzing </a:t>
            </a:r>
            <a:r>
              <a:rPr b="1" lang="en-US" sz="3200" spc="-1" strike="noStrike">
                <a:solidFill>
                  <a:srgbClr val="fafd00"/>
                </a:solidFill>
                <a:latin typeface="Courier New"/>
              </a:rPr>
              <a:t>syncreplica -import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Fail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ures that dump the oplog that can not be replay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it indicates a collision on an element or contai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no other imports are running, then re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y with a view set, then call sup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Site Fut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in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anks!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mmunicating With Your Peer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10484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nd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your own s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 changes to families, includ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Case/MultiSite version upg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ing mi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update patte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lving probl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dminVO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ClearGu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aintaining MultiSite an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earCase Vers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all patches on all clients (not just on the serve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, I know it is difficult to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patch levels consis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ClearCase and MultiS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very site -- all clients and serv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VOB fam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grade as soon as you can when new versions are rele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sing Migration Mo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3.X ha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prov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it to get off of V1.1 (and CC V3.x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cleartool complete_migr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not a replicated operation, so it must be performed locally for each rep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sing Migration Mode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kreplic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orted from a MS V1.1 host then imported to a MS V3.X host creates the replica in migration m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n neve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kreplic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ort from a MS V3.X host then import to a MS V1.X ho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totyping and Piloting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Your Deploy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prototype VOB fami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it to experi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ciding Whether Your Replicas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ll Be Ownership-preserving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probably won’t b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ownership-preserving, the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be in the same domain, if NT-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have the same UIDs and GIDs if Unix-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not be ownership preserving if there are both NT &amp; Unix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only one ownership-preserving subset of replicas in a fami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orking With VOBs During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ultiSite Opera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10484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kreplica -expor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cks your VO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yncreplica -expor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es n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5T17:30:28Z</dcterms:created>
  <dc:creator/>
  <dc:description/>
  <dc:language>en-US</dc:language>
  <cp:lastModifiedBy>Mickey Hsieh</cp:lastModifiedBy>
  <cp:lastPrinted>1997-10-30T23:55:51Z</cp:lastPrinted>
  <dcterms:modified xsi:type="dcterms:W3CDTF">1998-02-04T18:08:48Z</dcterms:modified>
  <cp:revision>47</cp:revision>
  <dc:subject/>
  <dc:title>slide template</dc:title>
</cp:coreProperties>
</file>