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6440" y="3254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6440" y="3254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9120" y="3254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4440" y="110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2080" y="110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6440" y="3254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4440" y="3254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2080" y="3254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644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9120" y="1104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4840" y="123840"/>
            <a:ext cx="9910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9120" y="1104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6440" y="3254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912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9120" y="3254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912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6440" y="3254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07600" y="6621480"/>
            <a:ext cx="100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644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0840" y="689040"/>
            <a:ext cx="9929880" cy="98280"/>
            <a:chOff x="150840" y="689040"/>
            <a:chExt cx="9929880" cy="98280"/>
          </a:xfrm>
        </p:grpSpPr>
        <p:sp>
          <p:nvSpPr>
            <p:cNvPr id="4" name=""/>
            <p:cNvSpPr/>
            <p:nvPr/>
          </p:nvSpPr>
          <p:spPr>
            <a:xfrm>
              <a:off x="150840" y="738360"/>
              <a:ext cx="9929880" cy="0"/>
            </a:xfrm>
            <a:prstGeom prst="line">
              <a:avLst/>
            </a:prstGeom>
            <a:ln w="12600">
              <a:solidFill>
                <a:srgbClr val="ff0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5400000">
              <a:off x="5094000" y="684360"/>
              <a:ext cx="98280" cy="107640"/>
            </a:xfrm>
            <a:prstGeom prst="triangle">
              <a:avLst>
                <a:gd name="adj" fmla="val 49986"/>
              </a:avLst>
            </a:prstGeom>
            <a:solidFill>
              <a:srgbClr val="00ff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182080" y="5324400"/>
            <a:ext cx="1838160" cy="138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86400" y="1371600"/>
            <a:ext cx="449568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olf Nel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learCase Windows Product Mana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athaniel Mis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nior Consulting Engin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lenn Br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nager Windows 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181480"/>
            <a:ext cx="801684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earCase Snapshot View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dditional User Model For ClearCase NT 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ther Possible Uses …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 Development on Non-ClearCase H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intosh etc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Development on Dual Boo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on Windows NT - Debug/QA on Windows 9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ned Server or Network Down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Snapshot - Work - Update Late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74400" y="4992840"/>
            <a:ext cx="64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’re sure you will come up with others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001000" y="1828800"/>
            <a:ext cx="1320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earCase Snapshot Views vs. Attach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s Windows/N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s Native File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ss Full ClearCase GU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s State - Fast Upd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Better Disconnected 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d with ClearCas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s NFS (UNIX VOBS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B (NT VOB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055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s Primarily Win95 and Win3.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89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VFS via “helper process”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ins GUI Subs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l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nnected Use Limi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arate Client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s TCP-IP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59240" y="114300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n95 &amp; 3.1 Client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7240" y="11430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grated CC User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at About the MVFS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’ve Improved It For ClearCase 3.2 on 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aster Performan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 View Private Files on 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r Desig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- Consistent With Microsoft FS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Remains ClearCase’s Key Adva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stant Workspace Cre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 “This is cool!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ild Audit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 “Did we ship the right bits?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ild Comparison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“Did we only change one file?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ild Avoidan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“Binary sharing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ild Depend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“Did we rebuild everything accurately?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lobal Transparent Namespa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See ANY version of ANY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ment in ANY VOB at  any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315200" y="2362320"/>
            <a:ext cx="152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napshot View Demo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e Snapshot 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-out / Edit / Chec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Configuration Spec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jacked Fi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5800" y="472428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it away Nat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657840" y="2209680"/>
            <a:ext cx="181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63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Will 3.2 Be Availa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1 199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 About Snapshot Views For UNIX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are gathering input from users on th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pecially once users have experience using Snapshot Vi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UNIX users take full advantage of wink-ins &amp; build auditing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Happens to Attach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ill provides low cost client access for Win95 and Win3.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NT we expect many customers will consider CC 3.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indows Developer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11320" indent="-21132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er Te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-168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s of Tea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1320" indent="-21132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 away from office mo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-168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vable media and lapto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1320" indent="-21132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s have more disk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-168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GB and 5GB Laptops 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1320" indent="-21132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frastructure less ma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-168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wer distributed applications than Uni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-168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/OS environment maturity takes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1320" indent="-21132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 within MSDev St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-168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direct manipulation of Makefil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13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13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13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245360" y="1371600"/>
            <a:ext cx="156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napshot View Goal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Both NT and Mixed NT/UNIX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Familiar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uced Learning Curve For New Windows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Virtues of MVFS Over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Team Size or Expertise Gro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 Sensitivity to NT OS Rev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 New  NT Releases Soone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15200" y="1600200"/>
            <a:ext cx="24685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at are Snapshot Views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883908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rCase 3.2 Supports Two User M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Views (MVF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apshot Views (Native NT File Syst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133720"/>
            <a:ext cx="7162560" cy="14475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8e34c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19191"/>
            </a:solidFill>
            <a:miter/>
          </a:ln>
          <a:effectLst>
            <a:outerShdw dist="17819" dir="2700000" blurRad="0" rotWithShape="0">
              <a:srgbClr val="5656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133720"/>
            <a:ext cx="6477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 “Sandbox” Mode For ClearCase Users on 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napshot View Setup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644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rCase configuration specifications select the right versions for Snapshot View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wnloads files base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your “load” rule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106960" y="3009960"/>
            <a:ext cx="1892160" cy="2522520"/>
            <a:chOff x="5106960" y="3009960"/>
            <a:chExt cx="1892160" cy="2522520"/>
          </a:xfrm>
        </p:grpSpPr>
        <p:sp>
          <p:nvSpPr>
            <p:cNvPr id="59" name=""/>
            <p:cNvSpPr/>
            <p:nvPr/>
          </p:nvSpPr>
          <p:spPr>
            <a:xfrm>
              <a:off x="5106960" y="3009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2600" y="50752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15160" y="3173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181480" y="2743200"/>
            <a:ext cx="3329280" cy="1378080"/>
          </a:xfrm>
          <a:prstGeom prst="rect">
            <a:avLst/>
          </a:prstGeom>
          <a:solidFill>
            <a:srgbClr val="80008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6520" y="3789360"/>
            <a:ext cx="3335040" cy="611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33920" y="2997360"/>
            <a:ext cx="279360" cy="1198440"/>
            <a:chOff x="5533920" y="2997360"/>
            <a:chExt cx="279360" cy="1198440"/>
          </a:xfrm>
        </p:grpSpPr>
        <p:sp>
          <p:nvSpPr>
            <p:cNvPr id="65" name=""/>
            <p:cNvSpPr/>
            <p:nvPr/>
          </p:nvSpPr>
          <p:spPr>
            <a:xfrm>
              <a:off x="5811840" y="2997360"/>
              <a:ext cx="0" cy="11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533920" y="3244680"/>
              <a:ext cx="277920" cy="2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5557680" y="3664080"/>
              <a:ext cx="25560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54800" y="3873600"/>
              <a:ext cx="0" cy="22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742000" y="3211560"/>
            <a:ext cx="11592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42000" y="3630600"/>
            <a:ext cx="11592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54600" y="4097160"/>
            <a:ext cx="114480" cy="101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4960" y="3821040"/>
            <a:ext cx="11412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4960" y="4097160"/>
            <a:ext cx="114120" cy="101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8560" y="3060720"/>
            <a:ext cx="0" cy="10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308400"/>
            <a:ext cx="27792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73760" y="3594240"/>
            <a:ext cx="0" cy="22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8600" y="3484440"/>
            <a:ext cx="117720" cy="101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8720" y="3684600"/>
            <a:ext cx="11736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8720" y="3255840"/>
            <a:ext cx="117360" cy="101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16880" y="3780000"/>
            <a:ext cx="11412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94400" y="3341520"/>
            <a:ext cx="28440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3608280"/>
            <a:ext cx="0" cy="26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2960" y="3060720"/>
            <a:ext cx="0" cy="119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115040" y="3308400"/>
            <a:ext cx="27792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138800" y="3727440"/>
            <a:ext cx="25380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37360" y="393696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23120" y="3294000"/>
            <a:ext cx="11736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23120" y="3713040"/>
            <a:ext cx="117360" cy="101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35720" y="4179960"/>
            <a:ext cx="114480" cy="10152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67520" y="3903840"/>
            <a:ext cx="11448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67520" y="4179960"/>
            <a:ext cx="11448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18320" y="3541680"/>
            <a:ext cx="11448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4800" y="3760920"/>
            <a:ext cx="11412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86680" y="2970360"/>
            <a:ext cx="0" cy="11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3211560"/>
            <a:ext cx="11592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3630600"/>
            <a:ext cx="11592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4049640"/>
            <a:ext cx="115920" cy="10152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78480" y="3379680"/>
            <a:ext cx="115920" cy="101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5480" y="4138560"/>
            <a:ext cx="114480" cy="10152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40520" y="3481560"/>
            <a:ext cx="115920" cy="101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6520" y="2424240"/>
            <a:ext cx="3335040" cy="61092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486040" y="2513160"/>
            <a:ext cx="2855160" cy="414360"/>
            <a:chOff x="5486040" y="2513160"/>
            <a:chExt cx="2855160" cy="414360"/>
          </a:xfrm>
        </p:grpSpPr>
        <p:sp>
          <p:nvSpPr>
            <p:cNvPr id="103" name=""/>
            <p:cNvSpPr/>
            <p:nvPr/>
          </p:nvSpPr>
          <p:spPr>
            <a:xfrm>
              <a:off x="6240240" y="2513160"/>
              <a:ext cx="784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o.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56400" y="2513160"/>
              <a:ext cx="784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r.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86040" y="2513160"/>
              <a:ext cx="7725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o.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06680" y="2513160"/>
              <a:ext cx="5821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24000" y="4935600"/>
            <a:ext cx="3328920" cy="13777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24000" y="5999040"/>
            <a:ext cx="3335400" cy="611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4000" y="4633920"/>
            <a:ext cx="3335400" cy="611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6440" y="5554800"/>
            <a:ext cx="284040" cy="23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5270400"/>
            <a:ext cx="1440" cy="52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6720" y="5521320"/>
            <a:ext cx="277560" cy="21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74800" y="5506920"/>
            <a:ext cx="117720" cy="10332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0360" y="5757840"/>
            <a:ext cx="114120" cy="10332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92200" y="5697360"/>
            <a:ext cx="115920" cy="10188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5440" y="5757840"/>
            <a:ext cx="114120" cy="10332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87520" y="6095880"/>
            <a:ext cx="784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.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52520" y="6019920"/>
            <a:ext cx="784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63480" y="4724280"/>
            <a:ext cx="582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6680" y="60739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200000">
            <a:off x="4652640" y="4730400"/>
            <a:ext cx="1285920" cy="520560"/>
          </a:xfrm>
          <a:prstGeom prst="leftArrow">
            <a:avLst>
              <a:gd name="adj1" fmla="val 50000"/>
              <a:gd name="adj2" fmla="val 123524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6920" y="3200400"/>
            <a:ext cx="357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Futura"/>
              </a:rPr>
              <a:t>load /applet/sr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utura"/>
              </a:rPr>
              <a:t>element * CHECKED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utura"/>
              </a:rPr>
              <a:t>element * /main/LA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26000" y="181440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49880" y="53341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napshot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6600" y="551808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53452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49528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219320" y="49528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High Performance Build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ClearCase applications operate on local files without going through the MVF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wink-ins, configuration records, build auditing …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035600"/>
            <a:ext cx="3328920" cy="13777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099040"/>
            <a:ext cx="3335040" cy="611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3733920"/>
            <a:ext cx="3335040" cy="61092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99160" y="4654440"/>
            <a:ext cx="284040" cy="2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795920" y="4370400"/>
            <a:ext cx="1440" cy="52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519440" y="4621320"/>
            <a:ext cx="277920" cy="21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7520" y="4606920"/>
            <a:ext cx="117360" cy="10332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2720" y="4857840"/>
            <a:ext cx="114480" cy="10296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44920" y="4797360"/>
            <a:ext cx="115920" cy="10152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18160" y="4857840"/>
            <a:ext cx="114120" cy="102960"/>
          </a:xfrm>
          <a:prstGeom prst="ellipse">
            <a:avLst/>
          </a:prstGeom>
          <a:solidFill>
            <a:srgbClr val="022d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39880" y="5195880"/>
            <a:ext cx="784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.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05240" y="5119560"/>
            <a:ext cx="784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16200" y="3824280"/>
            <a:ext cx="582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49400" y="517356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211600">
            <a:off x="836640" y="327636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ocal Build Perfor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503000">
            <a:off x="6092640" y="335232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Great For Prototype Bui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629400" y="40384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76720" y="40384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mproved Disconnected Us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38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Upda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s state in view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ly updates changed f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preview an update ope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ncile Changes on Reconn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s “hijacked files”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s Removable Med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Snapshot View on JAZ d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553080" y="1351080"/>
            <a:ext cx="34527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y Both Snapshot &amp; Dynamic Views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62948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ibility:  To Match Different Development N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1905120"/>
            <a:ext cx="5232240" cy="3708360"/>
          </a:xfrm>
          <a:prstGeom prst="rect">
            <a:avLst/>
          </a:prstGeom>
          <a:gradFill rotWithShape="0">
            <a:gsLst>
              <a:gs pos="0">
                <a:srgbClr val="a1a160"/>
              </a:gs>
              <a:gs pos="100000">
                <a:srgbClr val="ffff99"/>
              </a:gs>
            </a:gsLst>
            <a:lin ang="8100000"/>
          </a:gradFill>
          <a:ln w="25560">
            <a:solidFill>
              <a:srgbClr val="919191"/>
            </a:solidFill>
            <a:miter/>
          </a:ln>
          <a:effectLst>
            <a:outerShdw dist="17819" dir="2700000" blurRad="0" rotWithShape="0">
              <a:srgbClr val="5656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6480" y="2438280"/>
            <a:ext cx="203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Vi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65040" y="4025880"/>
            <a:ext cx="203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Vi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865440" y="3276720"/>
            <a:ext cx="7216920" cy="48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28" y="1"/>
                </a:moveTo>
                <a:arcTo wR="10800" hR="10800" stAng="-5359204" swAng="5205482"/>
                <a:lnTo>
                  <a:pt x="10800" y="10800"/>
                </a:lnTo>
                <a:close/>
              </a:path>
              <a:path fill="none" w="21600" h="21600">
                <a:moveTo>
                  <a:pt x="10928" y="1"/>
                </a:moveTo>
                <a:arcTo wR="10800" hR="10800" stAng="-5359204" swAng="5205482"/>
              </a:path>
            </a:pathLst>
          </a:custGeom>
          <a:noFill/>
          <a:ln cap="rnd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33480" y="4672080"/>
            <a:ext cx="213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apshot Vi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53000" y="6235560"/>
            <a:ext cx="2941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evelopment Life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64280" y="5735520"/>
            <a:ext cx="192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arly Proto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1120" y="5715000"/>
            <a:ext cx="174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nal Rel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483080"/>
            <a:ext cx="166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mall Te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amp; Pro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5120" y="2273400"/>
            <a:ext cx="168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arge Te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amp; Pro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 rot="5400000">
            <a:off x="-271800" y="32835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484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Snapshot View NT User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509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rs Looking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 Build 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Users Familiar Wit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Sandbox Model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Users Looking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Disconnected 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96080" y="2209680"/>
            <a:ext cx="2265120" cy="2519280"/>
            <a:chOff x="7696080" y="2209680"/>
            <a:chExt cx="2265120" cy="2519280"/>
          </a:xfrm>
        </p:grpSpPr>
        <p:graphicFrame>
          <p:nvGraphicFramePr>
            <p:cNvPr id="169" name=""/>
            <p:cNvGraphicFramePr/>
            <p:nvPr/>
          </p:nvGraphicFramePr>
          <p:xfrm>
            <a:off x="8583480" y="3454200"/>
            <a:ext cx="1377720" cy="12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83480" y="3454200"/>
                      <a:ext cx="1377720" cy="12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8691120" y="3435480"/>
              <a:ext cx="114480" cy="11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57840" y="3236400"/>
              <a:ext cx="195480" cy="19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696080" y="2209680"/>
              <a:ext cx="1211040" cy="909720"/>
              <a:chOff x="7696080" y="2209680"/>
              <a:chExt cx="1211040" cy="909720"/>
            </a:xfrm>
          </p:grpSpPr>
          <p:sp>
            <p:nvSpPr>
              <p:cNvPr id="174" name=""/>
              <p:cNvSpPr/>
              <p:nvPr/>
            </p:nvSpPr>
            <p:spPr>
              <a:xfrm>
                <a:off x="7696080" y="2290320"/>
                <a:ext cx="358560" cy="35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7792920" y="2369880"/>
                <a:ext cx="707760" cy="670320"/>
                <a:chOff x="7792920" y="2369880"/>
                <a:chExt cx="707760" cy="670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818120" y="2369880"/>
                  <a:ext cx="682560" cy="670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792920" y="2447280"/>
                  <a:ext cx="142560" cy="180360"/>
                </a:xfrm>
                <a:custGeom>
                  <a:avLst/>
                  <a:gdLst/>
                  <a:ahLst/>
                  <a:rect l="l" t="t" r="r" b="b"/>
                  <a:pathLst>
                    <a:path w="90" h="116">
                      <a:moveTo>
                        <a:pt x="77" y="0"/>
                      </a:moveTo>
                      <a:lnTo>
                        <a:pt x="0" y="101"/>
                      </a:lnTo>
                      <a:lnTo>
                        <a:pt x="38" y="115"/>
                      </a:lnTo>
                      <a:lnTo>
                        <a:pt x="89" y="10"/>
                      </a:lnTo>
                      <a:lnTo>
                        <a:pt x="7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8061120" y="2449080"/>
                <a:ext cx="682560" cy="670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670600" y="2568600"/>
                <a:ext cx="23652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589600" y="2926440"/>
                <a:ext cx="15408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589600" y="2489400"/>
                <a:ext cx="1540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629560" y="2727360"/>
                <a:ext cx="23652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99120" y="2209680"/>
                <a:ext cx="358920" cy="35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64160" y="2290320"/>
                <a:ext cx="358920" cy="35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02160" y="2209680"/>
                <a:ext cx="357480" cy="35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980120" y="2648160"/>
                <a:ext cx="358920" cy="351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02360" y="2270160"/>
                <a:ext cx="906480" cy="763920"/>
              </a:xfrm>
              <a:custGeom>
                <a:avLst/>
                <a:gdLst/>
                <a:ahLst/>
                <a:rect l="l" t="t" r="r" b="b"/>
                <a:pathLst>
                  <a:path w="571" h="491">
                    <a:moveTo>
                      <a:pt x="135" y="0"/>
                    </a:moveTo>
                    <a:lnTo>
                      <a:pt x="238" y="60"/>
                    </a:lnTo>
                    <a:lnTo>
                      <a:pt x="363" y="45"/>
                    </a:lnTo>
                    <a:lnTo>
                      <a:pt x="442" y="163"/>
                    </a:lnTo>
                    <a:lnTo>
                      <a:pt x="463" y="172"/>
                    </a:lnTo>
                    <a:lnTo>
                      <a:pt x="519" y="209"/>
                    </a:lnTo>
                    <a:lnTo>
                      <a:pt x="533" y="239"/>
                    </a:lnTo>
                    <a:lnTo>
                      <a:pt x="570" y="294"/>
                    </a:lnTo>
                    <a:lnTo>
                      <a:pt x="564" y="311"/>
                    </a:lnTo>
                    <a:lnTo>
                      <a:pt x="478" y="471"/>
                    </a:lnTo>
                    <a:lnTo>
                      <a:pt x="417" y="490"/>
                    </a:lnTo>
                    <a:lnTo>
                      <a:pt x="219" y="473"/>
                    </a:lnTo>
                    <a:lnTo>
                      <a:pt x="205" y="447"/>
                    </a:lnTo>
                    <a:lnTo>
                      <a:pt x="74" y="418"/>
                    </a:lnTo>
                    <a:lnTo>
                      <a:pt x="50" y="429"/>
                    </a:lnTo>
                    <a:lnTo>
                      <a:pt x="0" y="166"/>
                    </a:lnTo>
                    <a:lnTo>
                      <a:pt x="1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881840" y="2408400"/>
              <a:ext cx="861840" cy="598320"/>
              <a:chOff x="7881840" y="2408400"/>
              <a:chExt cx="861840" cy="5983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7881840" y="2509560"/>
                <a:ext cx="861840" cy="497160"/>
                <a:chOff x="7881840" y="2509560"/>
                <a:chExt cx="861840" cy="497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881840" y="2759760"/>
                  <a:ext cx="688680" cy="246960"/>
                </a:xfrm>
                <a:custGeom>
                  <a:avLst/>
                  <a:gdLst/>
                  <a:ahLst/>
                  <a:rect l="l" t="t" r="r" b="b"/>
                  <a:pathLst>
                    <a:path w="434" h="159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433" y="158"/>
                      </a:lnTo>
                      <a:lnTo>
                        <a:pt x="433" y="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569080" y="2586960"/>
                  <a:ext cx="174600" cy="419760"/>
                </a:xfrm>
                <a:custGeom>
                  <a:avLst/>
                  <a:gdLst/>
                  <a:ahLst/>
                  <a:rect l="l" t="t" r="r" b="b"/>
                  <a:pathLst>
                    <a:path w="110" h="270">
                      <a:moveTo>
                        <a:pt x="0" y="195"/>
                      </a:moveTo>
                      <a:lnTo>
                        <a:pt x="0" y="269"/>
                      </a:lnTo>
                      <a:lnTo>
                        <a:pt x="109" y="59"/>
                      </a:lnTo>
                      <a:lnTo>
                        <a:pt x="109" y="0"/>
                      </a:lnTo>
                      <a:lnTo>
                        <a:pt x="0" y="195"/>
                      </a:lnTo>
                    </a:path>
                  </a:pathLst>
                </a:custGeom>
                <a:solidFill>
                  <a:srgbClr val="202020"/>
                </a:solidFill>
                <a:ln cap="rnd" w="1260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881840" y="2509560"/>
                  <a:ext cx="861840" cy="383760"/>
                </a:xfrm>
                <a:custGeom>
                  <a:avLst/>
                  <a:gdLst/>
                  <a:ahLst/>
                  <a:rect l="l" t="t" r="r" b="b"/>
                  <a:pathLst>
                    <a:path w="543" h="247">
                      <a:moveTo>
                        <a:pt x="0" y="159"/>
                      </a:moveTo>
                      <a:lnTo>
                        <a:pt x="433" y="246"/>
                      </a:lnTo>
                      <a:lnTo>
                        <a:pt x="542" y="50"/>
                      </a:lnTo>
                      <a:lnTo>
                        <a:pt x="101" y="0"/>
                      </a:lnTo>
                      <a:lnTo>
                        <a:pt x="0" y="159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7999200" y="2408400"/>
                <a:ext cx="592200" cy="374760"/>
              </a:xfrm>
              <a:custGeom>
                <a:avLst/>
                <a:gdLst/>
                <a:ahLst/>
                <a:rect l="l" t="t" r="r" b="b"/>
                <a:pathLst>
                  <a:path w="373" h="241">
                    <a:moveTo>
                      <a:pt x="0" y="199"/>
                    </a:moveTo>
                    <a:lnTo>
                      <a:pt x="0" y="202"/>
                    </a:lnTo>
                    <a:lnTo>
                      <a:pt x="2" y="205"/>
                    </a:lnTo>
                    <a:lnTo>
                      <a:pt x="4" y="209"/>
                    </a:lnTo>
                    <a:lnTo>
                      <a:pt x="12" y="214"/>
                    </a:lnTo>
                    <a:lnTo>
                      <a:pt x="19" y="218"/>
                    </a:lnTo>
                    <a:lnTo>
                      <a:pt x="25" y="220"/>
                    </a:lnTo>
                    <a:lnTo>
                      <a:pt x="35" y="223"/>
                    </a:lnTo>
                    <a:lnTo>
                      <a:pt x="49" y="227"/>
                    </a:lnTo>
                    <a:lnTo>
                      <a:pt x="62" y="230"/>
                    </a:lnTo>
                    <a:lnTo>
                      <a:pt x="81" y="233"/>
                    </a:lnTo>
                    <a:lnTo>
                      <a:pt x="98" y="235"/>
                    </a:lnTo>
                    <a:lnTo>
                      <a:pt x="112" y="236"/>
                    </a:lnTo>
                    <a:lnTo>
                      <a:pt x="129" y="238"/>
                    </a:lnTo>
                    <a:lnTo>
                      <a:pt x="151" y="240"/>
                    </a:lnTo>
                    <a:lnTo>
                      <a:pt x="167" y="240"/>
                    </a:lnTo>
                    <a:lnTo>
                      <a:pt x="186" y="240"/>
                    </a:lnTo>
                    <a:lnTo>
                      <a:pt x="208" y="240"/>
                    </a:lnTo>
                    <a:lnTo>
                      <a:pt x="227" y="238"/>
                    </a:lnTo>
                    <a:lnTo>
                      <a:pt x="246" y="237"/>
                    </a:lnTo>
                    <a:lnTo>
                      <a:pt x="261" y="236"/>
                    </a:lnTo>
                    <a:lnTo>
                      <a:pt x="277" y="235"/>
                    </a:lnTo>
                    <a:lnTo>
                      <a:pt x="290" y="233"/>
                    </a:lnTo>
                    <a:lnTo>
                      <a:pt x="305" y="230"/>
                    </a:lnTo>
                    <a:lnTo>
                      <a:pt x="319" y="228"/>
                    </a:lnTo>
                    <a:lnTo>
                      <a:pt x="331" y="224"/>
                    </a:lnTo>
                    <a:lnTo>
                      <a:pt x="343" y="221"/>
                    </a:lnTo>
                    <a:lnTo>
                      <a:pt x="353" y="216"/>
                    </a:lnTo>
                    <a:lnTo>
                      <a:pt x="360" y="213"/>
                    </a:lnTo>
                    <a:lnTo>
                      <a:pt x="365" y="210"/>
                    </a:lnTo>
                    <a:lnTo>
                      <a:pt x="369" y="205"/>
                    </a:lnTo>
                    <a:lnTo>
                      <a:pt x="372" y="202"/>
                    </a:lnTo>
                    <a:lnTo>
                      <a:pt x="372" y="199"/>
                    </a:lnTo>
                    <a:lnTo>
                      <a:pt x="186" y="0"/>
                    </a:lnTo>
                    <a:lnTo>
                      <a:pt x="0" y="199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94" name=""/>
          <p:cNvGraphicFramePr/>
          <p:nvPr/>
        </p:nvGraphicFramePr>
        <p:xfrm>
          <a:off x="762120" y="1143000"/>
          <a:ext cx="1177920" cy="12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143000"/>
                    <a:ext cx="11779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"/>
          <p:cNvGrpSpPr/>
          <p:nvPr/>
        </p:nvGrpSpPr>
        <p:grpSpPr>
          <a:xfrm>
            <a:off x="609480" y="4343400"/>
            <a:ext cx="1521000" cy="1765440"/>
            <a:chOff x="609480" y="4343400"/>
            <a:chExt cx="1521000" cy="1765440"/>
          </a:xfrm>
        </p:grpSpPr>
        <p:grpSp>
          <p:nvGrpSpPr>
            <p:cNvPr id="197" name=""/>
            <p:cNvGrpSpPr/>
            <p:nvPr/>
          </p:nvGrpSpPr>
          <p:grpSpPr>
            <a:xfrm>
              <a:off x="609480" y="4343400"/>
              <a:ext cx="1521000" cy="1669680"/>
              <a:chOff x="609480" y="4343400"/>
              <a:chExt cx="1521000" cy="1669680"/>
            </a:xfrm>
          </p:grpSpPr>
          <p:graphicFrame>
            <p:nvGraphicFramePr>
              <p:cNvPr id="198" name=""/>
              <p:cNvGraphicFramePr/>
              <p:nvPr/>
            </p:nvGraphicFramePr>
            <p:xfrm>
              <a:off x="609480" y="4343400"/>
              <a:ext cx="1521000" cy="1057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9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09480" y="4343400"/>
                        <a:ext cx="1521000" cy="105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0" name=""/>
              <p:cNvSpPr/>
              <p:nvPr/>
            </p:nvSpPr>
            <p:spPr>
              <a:xfrm>
                <a:off x="763560" y="4395960"/>
                <a:ext cx="1366920" cy="161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cript"/>
                  </a:rPr>
                  <a:t>Home        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cript"/>
                  </a:rPr>
                  <a:t>Sweet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cript"/>
                  </a:rPr>
                  <a:t>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cript"/>
                  </a:rPr>
                  <a:t>Ho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68160" y="5081760"/>
              <a:ext cx="1017720" cy="1027080"/>
              <a:chOff x="668160" y="5081760"/>
              <a:chExt cx="1017720" cy="10270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803160" y="5775480"/>
                <a:ext cx="738360" cy="228600"/>
                <a:chOff x="803160" y="5775480"/>
                <a:chExt cx="738360" cy="2286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806400" y="5837400"/>
                  <a:ext cx="727200" cy="1666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03160" y="5775480"/>
                  <a:ext cx="738360" cy="56880"/>
                </a:xfrm>
                <a:custGeom>
                  <a:avLst/>
                  <a:gdLst/>
                  <a:ahLst/>
                  <a:rect l="l" t="t" r="r" b="b"/>
                  <a:pathLst>
                    <a:path w="465" h="36">
                      <a:moveTo>
                        <a:pt x="0" y="35"/>
                      </a:moveTo>
                      <a:lnTo>
                        <a:pt x="464" y="35"/>
                      </a:lnTo>
                      <a:lnTo>
                        <a:pt x="418" y="0"/>
                      </a:lnTo>
                      <a:lnTo>
                        <a:pt x="48" y="0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68160" y="5923080"/>
                <a:ext cx="1017720" cy="185760"/>
                <a:chOff x="668160" y="5923080"/>
                <a:chExt cx="1017720" cy="1857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74640" y="6084720"/>
                  <a:ext cx="1003320" cy="24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8160" y="5923080"/>
                  <a:ext cx="1017720" cy="156960"/>
                </a:xfrm>
                <a:custGeom>
                  <a:avLst/>
                  <a:gdLst/>
                  <a:ahLst/>
                  <a:rect l="l" t="t" r="r" b="b"/>
                  <a:pathLst>
                    <a:path w="641" h="99">
                      <a:moveTo>
                        <a:pt x="0" y="98"/>
                      </a:moveTo>
                      <a:lnTo>
                        <a:pt x="640" y="98"/>
                      </a:lnTo>
                      <a:lnTo>
                        <a:pt x="602" y="0"/>
                      </a:lnTo>
                      <a:lnTo>
                        <a:pt x="47" y="0"/>
                      </a:lnTo>
                      <a:lnTo>
                        <a:pt x="0" y="9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96960" y="5942160"/>
                  <a:ext cx="957240" cy="118800"/>
                </a:xfrm>
                <a:custGeom>
                  <a:avLst/>
                  <a:gdLst/>
                  <a:ahLst/>
                  <a:rect l="l" t="t" r="r" b="b"/>
                  <a:pathLst>
                    <a:path w="603" h="75">
                      <a:moveTo>
                        <a:pt x="35" y="0"/>
                      </a:moveTo>
                      <a:lnTo>
                        <a:pt x="0" y="74"/>
                      </a:lnTo>
                      <a:lnTo>
                        <a:pt x="602" y="74"/>
                      </a:lnTo>
                      <a:lnTo>
                        <a:pt x="57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841320" y="5749920"/>
                <a:ext cx="666720" cy="96840"/>
                <a:chOff x="841320" y="5749920"/>
                <a:chExt cx="666720" cy="968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841320" y="5749920"/>
                  <a:ext cx="666720" cy="55440"/>
                </a:xfrm>
                <a:custGeom>
                  <a:avLst/>
                  <a:gdLst/>
                  <a:ahLst/>
                  <a:rect l="l" t="t" r="r" b="b"/>
                  <a:pathLst>
                    <a:path w="420" h="35">
                      <a:moveTo>
                        <a:pt x="0" y="34"/>
                      </a:moveTo>
                      <a:lnTo>
                        <a:pt x="419" y="34"/>
                      </a:lnTo>
                      <a:lnTo>
                        <a:pt x="394" y="0"/>
                      </a:lnTo>
                      <a:lnTo>
                        <a:pt x="24" y="0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47800" y="5810400"/>
                  <a:ext cx="647640" cy="36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996840" y="5705640"/>
                <a:ext cx="354240" cy="99720"/>
              </a:xfrm>
              <a:custGeom>
                <a:avLst/>
                <a:gdLst/>
                <a:ahLst/>
                <a:rect l="l" t="t" r="r" b="b"/>
                <a:pathLst>
                  <a:path w="223" h="63">
                    <a:moveTo>
                      <a:pt x="0" y="35"/>
                    </a:moveTo>
                    <a:lnTo>
                      <a:pt x="0" y="0"/>
                    </a:lnTo>
                    <a:lnTo>
                      <a:pt x="222" y="0"/>
                    </a:lnTo>
                    <a:lnTo>
                      <a:pt x="222" y="35"/>
                    </a:lnTo>
                    <a:lnTo>
                      <a:pt x="218" y="38"/>
                    </a:lnTo>
                    <a:lnTo>
                      <a:pt x="218" y="42"/>
                    </a:lnTo>
                    <a:lnTo>
                      <a:pt x="212" y="45"/>
                    </a:lnTo>
                    <a:lnTo>
                      <a:pt x="209" y="48"/>
                    </a:lnTo>
                    <a:lnTo>
                      <a:pt x="204" y="51"/>
                    </a:lnTo>
                    <a:lnTo>
                      <a:pt x="197" y="51"/>
                    </a:lnTo>
                    <a:lnTo>
                      <a:pt x="188" y="55"/>
                    </a:lnTo>
                    <a:lnTo>
                      <a:pt x="181" y="55"/>
                    </a:lnTo>
                    <a:lnTo>
                      <a:pt x="173" y="58"/>
                    </a:lnTo>
                    <a:lnTo>
                      <a:pt x="163" y="58"/>
                    </a:lnTo>
                    <a:lnTo>
                      <a:pt x="151" y="58"/>
                    </a:lnTo>
                    <a:lnTo>
                      <a:pt x="142" y="62"/>
                    </a:lnTo>
                    <a:lnTo>
                      <a:pt x="132" y="62"/>
                    </a:lnTo>
                    <a:lnTo>
                      <a:pt x="120" y="62"/>
                    </a:lnTo>
                    <a:lnTo>
                      <a:pt x="104" y="62"/>
                    </a:lnTo>
                    <a:lnTo>
                      <a:pt x="89" y="62"/>
                    </a:lnTo>
                    <a:lnTo>
                      <a:pt x="77" y="62"/>
                    </a:lnTo>
                    <a:lnTo>
                      <a:pt x="64" y="58"/>
                    </a:lnTo>
                    <a:lnTo>
                      <a:pt x="52" y="58"/>
                    </a:lnTo>
                    <a:lnTo>
                      <a:pt x="46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17" y="51"/>
                    </a:lnTo>
                    <a:lnTo>
                      <a:pt x="12" y="48"/>
                    </a:lnTo>
                    <a:lnTo>
                      <a:pt x="9" y="45"/>
                    </a:lnTo>
                    <a:lnTo>
                      <a:pt x="3" y="45"/>
                    </a:lnTo>
                    <a:lnTo>
                      <a:pt x="3" y="42"/>
                    </a:lnTo>
                    <a:lnTo>
                      <a:pt x="0" y="38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7560" y="5081760"/>
                <a:ext cx="708120" cy="633240"/>
              </a:xfrm>
              <a:prstGeom prst="roundRect">
                <a:avLst>
                  <a:gd name="adj" fmla="val 12287"/>
                </a:avLst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60400" y="5129280"/>
                <a:ext cx="587520" cy="495360"/>
              </a:xfrm>
              <a:prstGeom prst="roundRect">
                <a:avLst>
                  <a:gd name="adj" fmla="val 1197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84160" y="5149800"/>
                <a:ext cx="587520" cy="495360"/>
              </a:xfrm>
              <a:prstGeom prst="roundRect">
                <a:avLst>
                  <a:gd name="adj" fmla="val 119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92080" y="5160960"/>
                <a:ext cx="552600" cy="455760"/>
              </a:xfrm>
              <a:prstGeom prst="roundRect">
                <a:avLst>
                  <a:gd name="adj" fmla="val 12204"/>
                </a:avLst>
              </a:prstGeom>
              <a:gradFill rotWithShape="0">
                <a:gsLst>
                  <a:gs pos="0">
                    <a:srgbClr val="b600f2"/>
                  </a:gs>
                  <a:gs pos="50000">
                    <a:srgbClr val="ca4bf4"/>
                  </a:gs>
                  <a:gs pos="100000">
                    <a:srgbClr val="b600f2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441720" y="262404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Repetitive Prototype Bui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5T17:30:28Z</dcterms:created>
  <dc:creator/>
  <dc:description/>
  <dc:language>en-US</dc:language>
  <cp:lastModifiedBy>Mickey Hsieh</cp:lastModifiedBy>
  <cp:lastPrinted>1997-10-30T22:42:30Z</cp:lastPrinted>
  <dcterms:modified xsi:type="dcterms:W3CDTF">1998-02-04T18:12:02Z</dcterms:modified>
  <cp:revision>27</cp:revision>
  <dc:subject/>
  <dc:title>slide template</dc:title>
</cp:coreProperties>
</file>